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ADB-9BE2-454B-85B8-20EB55FE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710-4353-495D-BB80-CDF2F9D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26E-23CA-4168-AC96-4C533A46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4E6-7722-4402-AF7D-B3B79AC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C2B8-474D-44F4-B0A5-E17D8C5E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D8DB-C5AD-4660-A89E-1EE150C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B69-414A-44B8-A33E-D2F8ABD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1B46-8233-404A-B696-675FC69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0CFB-EE4E-4FDF-8751-5CA2E64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F3D-2234-4DE3-93A1-1C0166F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BA0-95B2-4DC7-ADA3-FA8F110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F77-D699-45F9-9E94-6BB4B7B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FAA3-09E0-438A-B64F-7D8FF17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5117-233A-474B-AECF-5ED03BEA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5ADF-256B-4CEB-958F-7785B3C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3419-BA9F-433C-A57C-CC13F0BC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5E4-E5BC-4831-AA52-586D26C6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C674-1B6B-43E1-ACDC-6B486161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A0C8-2ECD-4E53-AD02-6CB64BB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50A2-B6E1-4BD7-B555-AE87096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E1A6-0D07-40A2-8E95-9F5B9C1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0F09-CBE2-4D52-BA9A-7CC8188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3E8-908E-4861-8EC1-376BBFF9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AF9D-BEA2-42DF-B1F2-2A607E8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B9EB-2F4E-457E-8591-07C817C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8D60-149E-4C5D-973A-B39D6E7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A6FB-64E2-4781-9603-FE2E148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E4C4-6398-41FA-B8E4-594AD54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CB27-1A65-4DF5-833E-9A2506B6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596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8400" y="304812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596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8400" y="4656240"/>
            <a:ext cx="264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397E-6884-43A3-BFDB-A473ABCB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6EF-4905-47E7-AD99-3F348280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0E6-B47C-4C44-871A-57F2EA1A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0F5-08A9-490D-9F32-7E62348D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D0D-F1AD-40DF-A88E-6E84385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65624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0BB-22DD-4A07-A5D6-4E694BD2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3048120"/>
            <a:ext cx="40158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656240"/>
            <a:ext cx="8229600" cy="14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72C-8298-42C4-A679-1E5E1CE0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76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14840" indent="-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606B-5899-41EE-B89A-2109FF6A9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6041-2718-4332-8B1D-113FEFFCC5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1371-3CC2-46CC-BCF7-581DCBBA475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76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14840" indent="-338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53240" indent="-676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71C-1F7A-43B5-98DD-BE534BF4B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外工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urostile"/>
              </a:rPr>
              <a:t>EXCHANGE MAT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rostile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294"/>
          <p:cNvSpPr/>
          <p:nvPr/>
        </p:nvSpPr>
        <p:spPr>
          <a:xfrm>
            <a:off x="685800" y="3200400"/>
            <a:ext cx="82296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rostile"/>
                <a:ea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1219320" y="411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69B7-DF60-4615-97AA-DE5A6C321E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520" y="22093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urostile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内容占位符 15363" descr="exchange_pizzaz_qx"/>
          <p:cNvPicPr/>
          <p:nvPr/>
        </p:nvPicPr>
        <p:blipFill>
          <a:blip r:embed="rId1"/>
          <a:stretch/>
        </p:blipFill>
        <p:spPr>
          <a:xfrm>
            <a:off x="157788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8" name="内容占位符 15365" descr="exchange_pizzaz_prt"/>
          <p:cNvPicPr/>
          <p:nvPr/>
        </p:nvPicPr>
        <p:blipFill>
          <a:blip r:embed="rId2"/>
          <a:stretch/>
        </p:blipFill>
        <p:spPr>
          <a:xfrm>
            <a:off x="5769000" y="3048120"/>
            <a:ext cx="1949400" cy="1461960"/>
          </a:xfrm>
          <a:prstGeom prst="rect">
            <a:avLst/>
          </a:prstGeom>
          <a:ln w="0">
            <a:noFill/>
          </a:ln>
        </p:spPr>
      </p:pic>
      <p:pic>
        <p:nvPicPr>
          <p:cNvPr id="139" name="内容占位符 15367" descr="exchange_pizzaz_sld"/>
          <p:cNvPicPr/>
          <p:nvPr/>
        </p:nvPicPr>
        <p:blipFill>
          <a:blip r:embed="rId3"/>
          <a:stretch/>
        </p:blipFill>
        <p:spPr>
          <a:xfrm>
            <a:off x="1576440" y="4662360"/>
            <a:ext cx="1950840" cy="1463760"/>
          </a:xfrm>
          <a:prstGeom prst="rect">
            <a:avLst/>
          </a:prstGeom>
          <a:ln w="0">
            <a:noFill/>
          </a:ln>
        </p:spPr>
      </p:pic>
      <p:pic>
        <p:nvPicPr>
          <p:cNvPr id="140" name="内容占位符 15369" descr="exchange_pizzaz_trs"/>
          <p:cNvPicPr/>
          <p:nvPr/>
        </p:nvPicPr>
        <p:blipFill>
          <a:blip r:embed="rId4"/>
          <a:stretch/>
        </p:blipFill>
        <p:spPr>
          <a:xfrm>
            <a:off x="5767560" y="4662360"/>
            <a:ext cx="19508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28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3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