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59709-2B9E-4B59-AAE2-76E842CC7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D0F4-2F31-4689-97F9-C003C129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BABB3-0FBD-4D7E-9D5E-20A678896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35F12-EEBE-4731-B9D4-C7E1A4653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5321A-7537-40DA-8E4F-591E19659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3639C-C47B-44EB-8D08-24BB58B55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973E9-0D44-4217-A8D8-83B8DFCA9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E8A50-76C3-4750-AD0C-1CE0E242C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74F9A-BAD7-484F-99EA-B43A757FE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15D2B-0FAB-4D23-BFCE-D0B9D9A9F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AE1BF-FF05-477F-A8F7-82976981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A740-C8EA-4C8A-832C-7DFF75D5E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05B54-2500-4769-8D01-63B71C7C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554F4-6D80-4191-A552-9C685F4F8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F5305-31DE-47CE-8C44-9552E001C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69428-645F-4D84-AF00-EB591B6AD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859A-8B06-4C4F-8C23-66725A5C1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51399-8EEA-4207-99BC-1B01FC10A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99B25-AD32-444F-A331-317B6511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7BF9-C5B5-4B97-90FA-62C84E019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B3AA-AFF3-473F-9FA2-48CF8ADE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4108-6743-40D5-BD78-63DA7A51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1D3E-DB6B-45AC-BE78-EFE8B484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DC0E-69BA-4318-8427-9D7BE6C27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1609-2AA1-4012-8FEB-574A3294D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1100-DE26-43A4-A05B-C4B4AFC8E6AE}"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AFE3-6F99-4647-BF03-4CE6F0C6730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国外工作</a:t>
            </a:r>
            <a:r>
              <a:rPr b="0" lang="en-US" sz="4400" spc="-1" strike="noStrike">
                <a:solidFill>
                  <a:srgbClr val="000000"/>
                </a:solidFill>
                <a:latin typeface="Arial"/>
              </a:rPr>
              <a:t>PPT</a:t>
            </a:r>
            <a:r>
              <a:rPr b="0" lang="zh-CN" sz="4400" spc="-1" strike="noStrike">
                <a:solidFill>
                  <a:srgbClr val="000000"/>
                </a:solidFill>
                <a:latin typeface="Arial"/>
              </a:rPr>
              <a:t>模板打包下载</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84" name="Text Box 8"/>
          <p:cNvSpPr/>
          <p:nvPr/>
        </p:nvSpPr>
        <p:spPr>
          <a:xfrm>
            <a:off x="480924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Text Box 9"/>
          <p:cNvSpPr/>
          <p:nvPr/>
        </p:nvSpPr>
        <p:spPr>
          <a:xfrm>
            <a:off x="72720" y="119160"/>
            <a:ext cx="167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ahoma"/>
              </a:rPr>
              <a:t>logo</a:t>
            </a:r>
            <a:endParaRPr b="0" lang="en-US" sz="6000" spc="-1" strike="noStrike">
              <a:solidFill>
                <a:srgbClr val="000000"/>
              </a:solidFill>
              <a:latin typeface="Arial"/>
            </a:endParaRPr>
          </a:p>
        </p:txBody>
      </p:sp>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72720" y="119160"/>
            <a:ext cx="167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ahoma"/>
              </a:rPr>
              <a:t>logo</a:t>
            </a:r>
            <a:endParaRPr b="0" lang="en-US" sz="6000" spc="-1" strike="noStrike">
              <a:solidFill>
                <a:srgbClr val="000000"/>
              </a:solidFill>
              <a:latin typeface="Arial"/>
            </a:endParaRPr>
          </a:p>
        </p:txBody>
      </p:sp>
      <p:sp>
        <p:nvSpPr>
          <p:cNvPr id="88" name="Text Box 6"/>
          <p:cNvSpPr/>
          <p:nvPr/>
        </p:nvSpPr>
        <p:spPr>
          <a:xfrm>
            <a:off x="480924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PlaceHolder 1"/>
          <p:cNvSpPr>
            <a:spLocks noGrp="1"/>
          </p:cNvSpPr>
          <p:nvPr>
            <p:ph/>
          </p:nvPr>
        </p:nvSpPr>
        <p:spPr>
          <a:xfrm>
            <a:off x="1547640" y="3213000"/>
            <a:ext cx="7428240" cy="276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文本框 8200"/>
          <p:cNvSpPr/>
          <p:nvPr/>
        </p:nvSpPr>
        <p:spPr>
          <a:xfrm>
            <a:off x="2050920" y="270828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AB3B-E41C-45E7-A1B4-4B97CF5D5B7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5"/>
          <p:cNvSpPr/>
          <p:nvPr/>
        </p:nvSpPr>
        <p:spPr>
          <a:xfrm>
            <a:off x="4809240" y="63752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PlaceHolder 1"/>
          <p:cNvSpPr>
            <a:spLocks noGrp="1"/>
          </p:cNvSpPr>
          <p:nvPr>
            <p:ph/>
          </p:nvPr>
        </p:nvSpPr>
        <p:spPr>
          <a:xfrm>
            <a:off x="2700360" y="2060640"/>
            <a:ext cx="5472000" cy="276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8"/>
          <p:cNvSpPr/>
          <p:nvPr/>
        </p:nvSpPr>
        <p:spPr>
          <a:xfrm>
            <a:off x="3596760" y="476280"/>
            <a:ext cx="535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Dotum"/>
              </a:rPr>
              <a:t>Name of your presentation</a:t>
            </a:r>
            <a:endParaRPr b="0" lang="en-US" sz="3200" spc="-1" strike="noStrike">
              <a:solidFill>
                <a:srgbClr val="000000"/>
              </a:solidFill>
              <a:latin typeface="Arial"/>
            </a:endParaRPr>
          </a:p>
        </p:txBody>
      </p:sp>
      <p:sp>
        <p:nvSpPr>
          <p:cNvPr id="98" name="Text Box 9"/>
          <p:cNvSpPr/>
          <p:nvPr/>
        </p:nvSpPr>
        <p:spPr>
          <a:xfrm>
            <a:off x="72720" y="119160"/>
            <a:ext cx="167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ahoma"/>
              </a:rPr>
              <a:t>log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6:50Z</dcterms:created>
  <dc:creator>幻灯片之家：www.eepp.com</dc:creator>
  <dc:description>幻灯片之家：www.eepp.com</dc:description>
  <cp:keywords>幻灯片之家：www.eepp.com</cp:keywords>
  <dc:language>en-US</dc:language>
  <cp:lastModifiedBy>pc</cp:lastModifiedBy>
  <dcterms:modified xsi:type="dcterms:W3CDTF">2015-12-12T07:08:14Z</dcterms:modified>
  <cp:revision>10</cp:revision>
  <dc:subject>幻灯片之家：www.eepp.com</dc:subject>
  <dc:title>幻灯片之家：www.eepp.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