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B61-6499-4772-9233-B2D22473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45D-DBCC-41EA-9F5A-5A6981A9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D5F-6827-4BF4-AE99-48F521CA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FE7-289B-46ED-AA7B-4A93E0E6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45A8-9C04-41E2-B485-74412FA0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4E84-D191-49C4-9374-0C4961A5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A843-05D1-4E0D-9EC4-58BF0A97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9524-0900-48E0-968C-51BA18D4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3D14-AC64-475A-8D4D-21DA9D6D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7AFA-5981-45C8-82BF-F858BDBF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2BC3-4E1E-4C03-8C6E-4EA2CAF9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719-844A-4822-ABBE-EC60FF6E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E06B-01E7-446D-A3ED-E92A1F65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0D0C-AE3D-4272-9746-EDD1666D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7613-DF50-433A-A1FB-6B6E7166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487B-9DB5-496D-999F-3419AA57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A25A-E820-447B-8B06-E8637267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B2FF-372E-4D93-BD48-D614EF64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3325-C97D-4209-9E9D-F87A0A4A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0F2D-77D1-44E1-9C16-EA7BDF1E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87ED9-CF13-45F2-80F2-34ED0E9F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ABA75-73B0-4E11-A57E-52A2CD57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2C5-18E3-458C-A72D-8323A5CD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BB6B-CF55-44C3-8A38-AAFE91FD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3DBE2-DB74-44EE-A025-BF2187E2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240B-2ED3-49B3-81B5-68420174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998F-4926-4BEF-B69D-A8C76AD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9890-61B1-4487-B5C3-A1098D09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B517-27D6-4BD2-A459-6BA43B88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1D4A0-4182-4ADB-88B2-80722F15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7F5-3BB9-4C0E-9287-58BEEBFF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CC0-0BE9-4C81-9583-11FE214E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C99-9583-4765-8BCE-285562DC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81C-8F33-4492-89F5-B1052AE2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403-7C08-4E8B-89C2-B0C963CA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538-FA9B-4027-8F68-00251D91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360"/>
            <a:chOff x="0" y="0"/>
            <a:chExt cx="9144000" cy="360"/>
          </a:xfrm>
        </p:grpSpPr>
        <p:sp>
          <p:nvSpPr>
            <p:cNvPr id="2" name="直接连接符 1030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0" y="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任意多边形 1031"/>
          <p:cNvSpPr/>
          <p:nvPr/>
        </p:nvSpPr>
        <p:spPr>
          <a:xfrm>
            <a:off x="1295280" y="0"/>
            <a:ext cx="7842240" cy="609480"/>
          </a:xfrm>
          <a:custGeom>
            <a:avLst/>
            <a:gdLst/>
            <a:ahLst/>
            <a:rect l="l" t="t" r="r" b="b"/>
            <a:pathLst>
              <a:path w="4556" h="480">
                <a:moveTo>
                  <a:pt x="969" y="480"/>
                </a:moveTo>
                <a:lnTo>
                  <a:pt x="0" y="0"/>
                </a:lnTo>
                <a:lnTo>
                  <a:pt x="4556" y="0"/>
                </a:lnTo>
                <a:lnTo>
                  <a:pt x="4556" y="480"/>
                </a:lnTo>
                <a:lnTo>
                  <a:pt x="969" y="48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561A-A8BD-4747-8454-0FEBEDD2EF9D}" type="slidenum"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5751-D522-4A03-AC27-22BDCC0FA4D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A8E2-ADC0-46A9-A3B8-C17DB2C4C5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EFF1-9498-4CD0-99FE-4D640458B8ED}" type="slidenum"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4724280"/>
            <a:ext cx="9144000" cy="360"/>
            <a:chOff x="0" y="4724280"/>
            <a:chExt cx="9144000" cy="360"/>
          </a:xfrm>
        </p:grpSpPr>
        <p:sp>
          <p:nvSpPr>
            <p:cNvPr id="128" name="直接连接符 2051"/>
            <p:cNvSpPr/>
            <p:nvPr/>
          </p:nvSpPr>
          <p:spPr>
            <a:xfrm>
              <a:off x="0" y="472428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0" y="4724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任意多边形 2052"/>
          <p:cNvSpPr/>
          <p:nvPr/>
        </p:nvSpPr>
        <p:spPr>
          <a:xfrm>
            <a:off x="1981080" y="4724280"/>
            <a:ext cx="7156440" cy="457200"/>
          </a:xfrm>
          <a:custGeom>
            <a:avLst/>
            <a:gdLst/>
            <a:ahLst/>
            <a:rect l="l" t="t" r="r" b="b"/>
            <a:pathLst>
              <a:path w="4556" h="480">
                <a:moveTo>
                  <a:pt x="969" y="480"/>
                </a:moveTo>
                <a:lnTo>
                  <a:pt x="0" y="0"/>
                </a:lnTo>
                <a:lnTo>
                  <a:pt x="4556" y="0"/>
                </a:lnTo>
                <a:lnTo>
                  <a:pt x="4556" y="480"/>
                </a:lnTo>
                <a:lnTo>
                  <a:pt x="969" y="48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6019920" cy="263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urrencyOutline"/>
                <a:ea typeface="宋体"/>
              </a:rPr>
              <a:t>United States Economy and Cash Flow Tem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00400" y="4723920"/>
            <a:ext cx="5943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4648320"/>
            <a:ext cx="9144000" cy="360"/>
            <a:chOff x="0" y="4648320"/>
            <a:chExt cx="9144000" cy="360"/>
          </a:xfrm>
        </p:grpSpPr>
        <p:sp>
          <p:nvSpPr>
            <p:cNvPr id="134" name="直接连接符 2053"/>
            <p:cNvSpPr/>
            <p:nvPr/>
          </p:nvSpPr>
          <p:spPr>
            <a:xfrm>
              <a:off x="0" y="4648320"/>
              <a:ext cx="91440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0" y="4648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1627200" y="620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굴림"/>
              </a:rPr>
              <a:t>国外黄色背景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굴림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8198"/>
          <p:cNvSpPr/>
          <p:nvPr/>
        </p:nvSpPr>
        <p:spPr>
          <a:xfrm>
            <a:off x="0" y="457200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343400"/>
            <a:ext cx="85341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urrencyOutline"/>
                <a:ea typeface="宋体"/>
              </a:rPr>
              <a:t>Transitional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00400" y="71629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5181480"/>
            <a:ext cx="9144000" cy="360"/>
            <a:chOff x="0" y="5181480"/>
            <a:chExt cx="9144000" cy="360"/>
          </a:xfrm>
        </p:grpSpPr>
        <p:sp>
          <p:nvSpPr>
            <p:cNvPr id="144" name="直接连接符 8195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0" y="5181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0" y="4495680"/>
            <a:ext cx="9144000" cy="360"/>
            <a:chOff x="0" y="4495680"/>
            <a:chExt cx="9144000" cy="360"/>
          </a:xfrm>
        </p:grpSpPr>
        <p:sp>
          <p:nvSpPr>
            <p:cNvPr id="147" name="直接连接符 8197"/>
            <p:cNvSpPr/>
            <p:nvPr/>
          </p:nvSpPr>
          <p:spPr>
            <a:xfrm>
              <a:off x="0" y="4495680"/>
              <a:ext cx="91440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0" y="44956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任意多边形 8199"/>
          <p:cNvSpPr/>
          <p:nvPr/>
        </p:nvSpPr>
        <p:spPr>
          <a:xfrm>
            <a:off x="6400800" y="5181480"/>
            <a:ext cx="2743200" cy="152640"/>
          </a:xfrm>
          <a:custGeom>
            <a:avLst/>
            <a:gdLst/>
            <a:ahLst/>
            <a:rect l="l" t="t" r="r" b="b"/>
            <a:pathLst>
              <a:path w="4556" h="480">
                <a:moveTo>
                  <a:pt x="969" y="480"/>
                </a:moveTo>
                <a:lnTo>
                  <a:pt x="0" y="0"/>
                </a:lnTo>
                <a:lnTo>
                  <a:pt x="4556" y="0"/>
                </a:lnTo>
                <a:lnTo>
                  <a:pt x="4556" y="480"/>
                </a:lnTo>
                <a:lnTo>
                  <a:pt x="969" y="48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任意多边形 8200"/>
          <p:cNvSpPr/>
          <p:nvPr/>
        </p:nvSpPr>
        <p:spPr>
          <a:xfrm rot="10800000">
            <a:off x="0" y="4343040"/>
            <a:ext cx="2743200" cy="152280"/>
          </a:xfrm>
          <a:custGeom>
            <a:avLst/>
            <a:gdLst/>
            <a:ahLst/>
            <a:rect l="l" t="t" r="r" b="b"/>
            <a:pathLst>
              <a:path w="4556" h="480">
                <a:moveTo>
                  <a:pt x="969" y="480"/>
                </a:moveTo>
                <a:lnTo>
                  <a:pt x="0" y="0"/>
                </a:lnTo>
                <a:lnTo>
                  <a:pt x="4556" y="0"/>
                </a:lnTo>
                <a:lnTo>
                  <a:pt x="4556" y="480"/>
                </a:lnTo>
                <a:lnTo>
                  <a:pt x="969" y="48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8199"/>
          <p:cNvSpPr/>
          <p:nvPr/>
        </p:nvSpPr>
        <p:spPr>
          <a:xfrm>
            <a:off x="1979640" y="386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47ED-0F54-427F-ACE0-364AD4833B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7169" descr="100-Dollar"/>
          <p:cNvPicPr/>
          <p:nvPr/>
        </p:nvPicPr>
        <p:blipFill>
          <a:blip r:embed="rId1"/>
          <a:stretch/>
        </p:blipFill>
        <p:spPr>
          <a:xfrm>
            <a:off x="1219320" y="1828800"/>
            <a:ext cx="3606840" cy="15289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171" descr="printdrop"/>
          <p:cNvPicPr/>
          <p:nvPr/>
        </p:nvPicPr>
        <p:blipFill>
          <a:blip r:embed="rId2"/>
          <a:stretch/>
        </p:blipFill>
        <p:spPr>
          <a:xfrm>
            <a:off x="990720" y="3429000"/>
            <a:ext cx="3886200" cy="31068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7172" descr="slidedrop"/>
          <p:cNvPicPr/>
          <p:nvPr/>
        </p:nvPicPr>
        <p:blipFill>
          <a:blip r:embed="rId3"/>
          <a:stretch/>
        </p:blipFill>
        <p:spPr>
          <a:xfrm>
            <a:off x="4952880" y="3429000"/>
            <a:ext cx="388620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7175"/>
          <p:cNvGrpSpPr/>
          <p:nvPr/>
        </p:nvGrpSpPr>
        <p:grpSpPr>
          <a:xfrm>
            <a:off x="151920" y="304920"/>
            <a:ext cx="381240" cy="6172200"/>
            <a:chOff x="151920" y="304920"/>
            <a:chExt cx="381240" cy="6172200"/>
          </a:xfrm>
        </p:grpSpPr>
        <p:grpSp>
          <p:nvGrpSpPr>
            <p:cNvPr id="162" name=""/>
            <p:cNvGrpSpPr/>
            <p:nvPr/>
          </p:nvGrpSpPr>
          <p:grpSpPr>
            <a:xfrm>
              <a:off x="532800" y="304920"/>
              <a:ext cx="360" cy="6172200"/>
              <a:chOff x="532800" y="304920"/>
              <a:chExt cx="360" cy="6172200"/>
            </a:xfrm>
          </p:grpSpPr>
          <p:sp>
            <p:nvSpPr>
              <p:cNvPr id="163" name="直接连接符 7173"/>
              <p:cNvSpPr/>
              <p:nvPr/>
            </p:nvSpPr>
            <p:spPr>
              <a:xfrm>
                <a:off x="533160" y="304920"/>
                <a:ext cx="0" cy="617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 rot="5400000">
                <a:off x="-2553120" y="3390840"/>
                <a:ext cx="6172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任意多边形 7174"/>
            <p:cNvSpPr/>
            <p:nvPr/>
          </p:nvSpPr>
          <p:spPr>
            <a:xfrm rot="5400000">
              <a:off x="-2304000" y="3635280"/>
              <a:ext cx="5293440" cy="381240"/>
            </a:xfrm>
            <a:custGeom>
              <a:avLst/>
              <a:gdLst/>
              <a:ahLst/>
              <a:rect l="l" t="t" r="r" b="b"/>
              <a:pathLst>
                <a:path w="4556" h="480">
                  <a:moveTo>
                    <a:pt x="969" y="480"/>
                  </a:moveTo>
                  <a:lnTo>
                    <a:pt x="0" y="0"/>
                  </a:lnTo>
                  <a:lnTo>
                    <a:pt x="4556" y="0"/>
                  </a:lnTo>
                  <a:lnTo>
                    <a:pt x="4556" y="480"/>
                  </a:lnTo>
                  <a:lnTo>
                    <a:pt x="969" y="4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Elements 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图片 7177" descr="backdrop"/>
          <p:cNvPicPr/>
          <p:nvPr/>
        </p:nvPicPr>
        <p:blipFill>
          <a:blip r:embed="rId4"/>
          <a:stretch/>
        </p:blipFill>
        <p:spPr>
          <a:xfrm>
            <a:off x="4952880" y="228600"/>
            <a:ext cx="3886200" cy="3108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2T08:3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56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