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B09C-A124-40B0-8FF8-D747FDE98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7A96-33AF-42F6-AD66-B6FF6B9D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CA7C-A14C-475F-9ECE-60E3AB55B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DF98-EC05-4862-976F-F7C12099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6EC1-2135-4426-8D0F-75EA86CED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A45F-95EC-419A-A097-6C9FAB34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F5DF-0AAC-42C1-AEBA-264E5126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0B5C-337C-4482-8117-9585EDA0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3AF9-7FA8-4EA9-ACBF-59F8F722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51DE-C2F9-4FA5-AE54-A88A1A94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AEEC-CE27-4246-8C1F-27D01E23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128B-DC75-4370-8D6F-5741490F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0DD4-3973-4FC3-A51C-01D79149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5145-212E-4272-946B-F91D3D2D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83AB-E61B-4E2F-8EDF-A8E0041F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7988-53A9-416A-9867-DE97D6386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7AAE-7CB9-495A-9B5D-E5E9CC05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F6BB7-5792-4AA9-B29C-2EC74C272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BBC41-ED6D-4091-8ABF-BC62DC53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4DDAA-70C0-44D0-8897-D7B39D0B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9E98F-7166-45FE-A1EB-4F4284C6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3325B-917E-4F9D-BC44-7AB1B259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928A-10C7-483D-863B-B269F23F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031E4-F752-474C-B140-490BC5C5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29FB0-81B8-45C5-A851-BD141F1F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4F4B5-3D7B-4D6C-869C-577EF78F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165CA-0C15-4DF7-8D9C-8C80E7CF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76CB7-0851-42B7-BDC5-A1A0D672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4D379-4388-40A2-8D6B-27DF7B8F9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A430C-B7A0-4495-B0B5-AC6D6EAA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4C01-E7CF-47D1-ADE3-B8A565A0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A4EB-68C9-47A8-9722-6F155935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DC4C-A801-4C27-A592-6D3B20CD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6C31-367F-4109-9571-42F5E9A1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8626-5866-4AC5-AAE2-9D019F18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19EB-ED4D-4371-9A79-C4A5EF46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D721-C701-4CB9-BA6E-C17D4718D3A2}" type="slidenum">
              <a:rPr b="1" lang="en-US" sz="8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A0C5-7667-44FE-A9CF-7599D155204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2724-239F-499C-9FA1-EDFD0B9560A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96A6-B527-4B59-B1B7-A1D56C0B1BF8}" type="slidenum">
              <a:rPr b="1" lang="en-US" sz="800" spc="-1" strike="noStrike">
                <a:solidFill>
                  <a:srgbClr val="ffffff"/>
                </a:solidFill>
                <a:latin typeface="Arial Black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Impact"/>
              </a:rPr>
              <a:t>BLACK COFFEE BREA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437920" y="1447920"/>
            <a:ext cx="3886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Impact"/>
              </a:rPr>
              <a:t>Your Subtitle Goes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9360" y="642924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8199"/>
          <p:cNvSpPr/>
          <p:nvPr/>
        </p:nvSpPr>
        <p:spPr>
          <a:xfrm>
            <a:off x="1079640" y="76320"/>
            <a:ext cx="753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国外黑色咖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36576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Topic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0520" y="762120"/>
            <a:ext cx="76964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80720" y="15228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onal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21B8-3091-47C7-891E-09574B9C5CF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Topic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8199"/>
          <p:cNvSpPr/>
          <p:nvPr/>
        </p:nvSpPr>
        <p:spPr>
          <a:xfrm>
            <a:off x="990720" y="2438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22:05:3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8:57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