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449-5C15-4EEB-AD07-6565753C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B29-DB2B-471F-9046-D277B3EE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366-9C16-44CD-B2D5-8D8D5C39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A64-9E7B-45DB-8236-311AC0A6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873-0A8E-4CF3-B52D-E428C7B0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D373-126F-40AB-9C64-0C306AF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548-5E1F-4AB5-89A6-BEAED3D4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E1C3-CAB4-41EF-A8C6-C967F7B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66AB-88F3-433F-9D82-5B72317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0CEE-6352-49EC-9E83-7DB1310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3885-90E6-44F2-8E55-2A229C6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0BB-7B90-4184-A555-678089B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47F3-A939-4D8B-9FA0-EE80A2E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32D-1BE4-49C0-9520-85A273A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C6F-AAC7-46EA-95D6-A7E8773D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DA87-2CDB-4ACA-B22D-7F2FCA80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C97-3772-42C3-8A5B-BFABDEA6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7E0-FA51-465D-A72F-D840FF1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15F-7BA5-4E0E-8FFE-B39C6322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68B-4E7A-4728-A1CF-1D07EA7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2C4-B4A5-46D9-8745-E9A5DA0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C59-9320-4529-A183-B8C42EF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400-1E72-4859-93CB-021DA11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A8E-9E9D-433E-9795-2112CB9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F7D2-F0BD-4A00-A5BE-197A9292A3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117-58B6-4D50-9AEB-8D2E93FEFC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392-E7CB-4C0F-8F85-0B22BADE01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平行四边形 39"/>
          <p:cNvSpPr/>
          <p:nvPr/>
        </p:nvSpPr>
        <p:spPr>
          <a:xfrm rot="1201800">
            <a:off x="166680" y="2571480"/>
            <a:ext cx="6996240" cy="1162080"/>
          </a:xfrm>
          <a:prstGeom prst="parallelogram">
            <a:avLst>
              <a:gd name="adj" fmla="val 6943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0"/>
          <p:cNvGrpSpPr/>
          <p:nvPr/>
        </p:nvGrpSpPr>
        <p:grpSpPr>
          <a:xfrm>
            <a:off x="1704960" y="117000"/>
            <a:ext cx="1299240" cy="3335760"/>
            <a:chOff x="1704960" y="117000"/>
            <a:chExt cx="1299240" cy="3335760"/>
          </a:xfrm>
        </p:grpSpPr>
        <p:sp>
          <p:nvSpPr>
            <p:cNvPr id="86" name="五边形 5"/>
            <p:cNvSpPr/>
            <p:nvPr/>
          </p:nvSpPr>
          <p:spPr>
            <a:xfrm rot="16200000">
              <a:off x="581400" y="1261440"/>
              <a:ext cx="3264480" cy="101772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角三角形 8"/>
            <p:cNvSpPr/>
            <p:nvPr/>
          </p:nvSpPr>
          <p:spPr>
            <a:xfrm>
              <a:off x="1704960" y="533160"/>
              <a:ext cx="501840" cy="267228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角三角形 43"/>
            <p:cNvSpPr/>
            <p:nvPr/>
          </p:nvSpPr>
          <p:spPr>
            <a:xfrm flipV="1" rot="20544000">
              <a:off x="2250720" y="384840"/>
              <a:ext cx="291240" cy="309636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五边形 6"/>
            <p:cNvSpPr/>
            <p:nvPr/>
          </p:nvSpPr>
          <p:spPr>
            <a:xfrm rot="16200000">
              <a:off x="1918800" y="-96840"/>
              <a:ext cx="590040" cy="101772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45"/>
          <p:cNvGrpSpPr/>
          <p:nvPr/>
        </p:nvGrpSpPr>
        <p:grpSpPr>
          <a:xfrm>
            <a:off x="2975040" y="606240"/>
            <a:ext cx="1298880" cy="3337200"/>
            <a:chOff x="2975040" y="606240"/>
            <a:chExt cx="1298880" cy="3337200"/>
          </a:xfrm>
        </p:grpSpPr>
        <p:sp>
          <p:nvSpPr>
            <p:cNvPr id="91" name="五边形 5"/>
            <p:cNvSpPr/>
            <p:nvPr/>
          </p:nvSpPr>
          <p:spPr>
            <a:xfrm rot="16200000">
              <a:off x="1850760" y="1751040"/>
              <a:ext cx="3265560" cy="101736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角三角形 8"/>
            <p:cNvSpPr/>
            <p:nvPr/>
          </p:nvSpPr>
          <p:spPr>
            <a:xfrm>
              <a:off x="2975040" y="1022760"/>
              <a:ext cx="501840" cy="267336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角三角形 48"/>
            <p:cNvSpPr/>
            <p:nvPr/>
          </p:nvSpPr>
          <p:spPr>
            <a:xfrm flipV="1" rot="20544000">
              <a:off x="3521880" y="873720"/>
              <a:ext cx="290880" cy="309780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五边形 6"/>
            <p:cNvSpPr/>
            <p:nvPr/>
          </p:nvSpPr>
          <p:spPr>
            <a:xfrm rot="16200000">
              <a:off x="3188520" y="392400"/>
              <a:ext cx="590040" cy="101736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50"/>
          <p:cNvGrpSpPr/>
          <p:nvPr/>
        </p:nvGrpSpPr>
        <p:grpSpPr>
          <a:xfrm>
            <a:off x="4248000" y="1111320"/>
            <a:ext cx="1297800" cy="3335040"/>
            <a:chOff x="4248000" y="1111320"/>
            <a:chExt cx="1297800" cy="3335040"/>
          </a:xfrm>
        </p:grpSpPr>
        <p:sp>
          <p:nvSpPr>
            <p:cNvPr id="96" name="五边形 5"/>
            <p:cNvSpPr/>
            <p:nvPr/>
          </p:nvSpPr>
          <p:spPr>
            <a:xfrm rot="16200000">
              <a:off x="3124080" y="2255760"/>
              <a:ext cx="3264120" cy="101628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角三角形 8"/>
            <p:cNvSpPr/>
            <p:nvPr/>
          </p:nvSpPr>
          <p:spPr>
            <a:xfrm>
              <a:off x="4248000" y="1527120"/>
              <a:ext cx="501120" cy="267192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角三角形 53"/>
            <p:cNvSpPr/>
            <p:nvPr/>
          </p:nvSpPr>
          <p:spPr>
            <a:xfrm flipV="1" rot="20544000">
              <a:off x="4794120" y="1378080"/>
              <a:ext cx="290880" cy="309672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五边形 6"/>
            <p:cNvSpPr/>
            <p:nvPr/>
          </p:nvSpPr>
          <p:spPr>
            <a:xfrm rot="16200000">
              <a:off x="4461120" y="897840"/>
              <a:ext cx="589680" cy="101628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平行四边形 55"/>
          <p:cNvSpPr/>
          <p:nvPr/>
        </p:nvSpPr>
        <p:spPr>
          <a:xfrm rot="1201800">
            <a:off x="56880" y="3235320"/>
            <a:ext cx="6413400" cy="396720"/>
          </a:xfrm>
          <a:prstGeom prst="parallelogram">
            <a:avLst>
              <a:gd name="adj" fmla="val 69679"/>
            </a:avLst>
          </a:prstGeom>
          <a:gradFill rotWithShape="0">
            <a:gsLst>
              <a:gs pos="0">
                <a:srgbClr val="242424"/>
              </a:gs>
              <a:gs pos="100000">
                <a:srgbClr val="3f3f3f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边形 5"/>
          <p:cNvSpPr/>
          <p:nvPr/>
        </p:nvSpPr>
        <p:spPr>
          <a:xfrm flipH="1" flipV="1" rot="16200000">
            <a:off x="905040" y="4152960"/>
            <a:ext cx="3363840" cy="1332000"/>
          </a:xfrm>
          <a:custGeom>
            <a:avLst/>
            <a:gdLst/>
            <a:ahLst/>
            <a:rect l="l" t="t" r="r" b="b"/>
            <a:pathLst>
              <a:path w="3065752" h="1320891">
                <a:moveTo>
                  <a:pt x="3065752" y="504056"/>
                </a:moveTo>
                <a:lnTo>
                  <a:pt x="2672054" y="1008112"/>
                </a:lnTo>
                <a:cubicBezTo>
                  <a:pt x="1796504" y="1079448"/>
                  <a:pt x="28006" y="805086"/>
                  <a:pt x="0" y="1320891"/>
                </a:cubicBezTo>
                <a:cubicBezTo>
                  <a:pt x="55829" y="1061829"/>
                  <a:pt x="111659" y="1066156"/>
                  <a:pt x="137219" y="938789"/>
                </a:cubicBezTo>
                <a:lnTo>
                  <a:pt x="458339" y="0"/>
                </a:lnTo>
                <a:lnTo>
                  <a:pt x="2672054" y="0"/>
                </a:lnTo>
                <a:lnTo>
                  <a:pt x="3065752" y="504056"/>
                </a:lnTo>
                <a:close/>
              </a:path>
            </a:pathLst>
          </a:custGeom>
          <a:gradFill rotWithShape="0">
            <a:gsLst>
              <a:gs pos="0">
                <a:srgbClr val="e4afae"/>
              </a:gs>
              <a:gs pos="100000">
                <a:srgbClr val="b977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8"/>
          <p:cNvSpPr/>
          <p:nvPr/>
        </p:nvSpPr>
        <p:spPr>
          <a:xfrm flipH="1" flipV="1">
            <a:off x="2751120" y="3432240"/>
            <a:ext cx="501840" cy="267336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角三角形 58"/>
          <p:cNvSpPr/>
          <p:nvPr/>
        </p:nvSpPr>
        <p:spPr>
          <a:xfrm flipH="1" rot="20544000">
            <a:off x="2414160" y="3106440"/>
            <a:ext cx="290520" cy="309708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五边形 6"/>
          <p:cNvSpPr/>
          <p:nvPr/>
        </p:nvSpPr>
        <p:spPr>
          <a:xfrm flipH="1" flipV="1" rot="16200000">
            <a:off x="2445480" y="5699520"/>
            <a:ext cx="590760" cy="101628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0"/>
          <p:cNvGrpSpPr/>
          <p:nvPr/>
        </p:nvGrpSpPr>
        <p:grpSpPr>
          <a:xfrm>
            <a:off x="3438000" y="3744720"/>
            <a:ext cx="1472400" cy="2749320"/>
            <a:chOff x="3438000" y="3744720"/>
            <a:chExt cx="1472400" cy="2749320"/>
          </a:xfrm>
        </p:grpSpPr>
        <p:sp>
          <p:nvSpPr>
            <p:cNvPr id="106" name="五边形 5"/>
            <p:cNvSpPr/>
            <p:nvPr/>
          </p:nvSpPr>
          <p:spPr>
            <a:xfrm flipH="1" flipV="1" rot="16383000">
              <a:off x="2833920" y="4451400"/>
              <a:ext cx="2679840" cy="1332000"/>
            </a:xfrm>
            <a:custGeom>
              <a:avLst/>
              <a:gdLst/>
              <a:ahLst/>
              <a:rect l="l" t="t" r="r" b="b"/>
              <a:pathLst>
                <a:path w="3065752" h="1320891">
                  <a:moveTo>
                    <a:pt x="3065752" y="504056"/>
                  </a:moveTo>
                  <a:lnTo>
                    <a:pt x="2672054" y="1008112"/>
                  </a:lnTo>
                  <a:cubicBezTo>
                    <a:pt x="1796504" y="1079448"/>
                    <a:pt x="28006" y="805086"/>
                    <a:pt x="0" y="1320891"/>
                  </a:cubicBezTo>
                  <a:cubicBezTo>
                    <a:pt x="55829" y="1061829"/>
                    <a:pt x="111659" y="1066156"/>
                    <a:pt x="137219" y="938789"/>
                  </a:cubicBezTo>
                  <a:lnTo>
                    <a:pt x="458339" y="0"/>
                  </a:lnTo>
                  <a:lnTo>
                    <a:pt x="2672054" y="0"/>
                  </a:lnTo>
                  <a:lnTo>
                    <a:pt x="3065752" y="504056"/>
                  </a:lnTo>
                  <a:close/>
                </a:path>
              </a:pathLst>
            </a:custGeom>
            <a:solidFill>
              <a:srgbClr val="6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8"/>
            <p:cNvSpPr/>
            <p:nvPr/>
          </p:nvSpPr>
          <p:spPr>
            <a:xfrm flipH="1" flipV="1" rot="182400">
              <a:off x="4339440" y="4061520"/>
              <a:ext cx="501120" cy="212868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角三角形 63"/>
            <p:cNvSpPr/>
            <p:nvPr/>
          </p:nvSpPr>
          <p:spPr>
            <a:xfrm flipH="1" rot="20726400">
              <a:off x="4008240" y="3780000"/>
              <a:ext cx="290880" cy="246708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五边形 6"/>
            <p:cNvSpPr/>
            <p:nvPr/>
          </p:nvSpPr>
          <p:spPr>
            <a:xfrm flipH="1" flipV="1" rot="16383000">
              <a:off x="4037760" y="5723640"/>
              <a:ext cx="469800" cy="101664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65"/>
          <p:cNvSpPr/>
          <p:nvPr/>
        </p:nvSpPr>
        <p:spPr>
          <a:xfrm flipH="1">
            <a:off x="1712880" y="54936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f716f"/>
                </a:solidFill>
                <a:latin typeface="Baskerville Old Face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1712880" y="140004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43120" y="1244520"/>
            <a:ext cx="896760" cy="360"/>
            <a:chOff x="1743120" y="1244520"/>
            <a:chExt cx="896760" cy="360"/>
          </a:xfrm>
        </p:grpSpPr>
        <p:sp>
          <p:nvSpPr>
            <p:cNvPr id="113" name="直接连接符 67"/>
            <p:cNvSpPr/>
            <p:nvPr/>
          </p:nvSpPr>
          <p:spPr>
            <a:xfrm>
              <a:off x="1743120" y="1244520"/>
              <a:ext cx="896760" cy="0"/>
            </a:xfrm>
            <a:prstGeom prst="line">
              <a:avLst/>
            </a:prstGeom>
            <a:ln w="19080">
              <a:solidFill>
                <a:srgbClr val="cf71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43120" y="1244520"/>
              <a:ext cx="896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68"/>
          <p:cNvSpPr/>
          <p:nvPr/>
        </p:nvSpPr>
        <p:spPr>
          <a:xfrm flipH="1">
            <a:off x="2949480" y="1143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4b7ce"/>
                </a:solidFill>
                <a:latin typeface="Baskerville Old Face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9720" y="1839960"/>
            <a:ext cx="897120" cy="360"/>
            <a:chOff x="2979720" y="1839960"/>
            <a:chExt cx="897120" cy="360"/>
          </a:xfrm>
        </p:grpSpPr>
        <p:sp>
          <p:nvSpPr>
            <p:cNvPr id="117" name="直接连接符 69"/>
            <p:cNvSpPr/>
            <p:nvPr/>
          </p:nvSpPr>
          <p:spPr>
            <a:xfrm>
              <a:off x="2979720" y="1839960"/>
              <a:ext cx="897120" cy="0"/>
            </a:xfrm>
            <a:prstGeom prst="line">
              <a:avLst/>
            </a:prstGeom>
            <a:ln w="19080">
              <a:solidFill>
                <a:srgbClr val="64b7c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979720" y="1839960"/>
              <a:ext cx="89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70"/>
          <p:cNvSpPr/>
          <p:nvPr/>
        </p:nvSpPr>
        <p:spPr>
          <a:xfrm flipH="1">
            <a:off x="4254480" y="159696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f716f"/>
                </a:solidFill>
                <a:latin typeface="Baskerville Old Face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82920" y="2292480"/>
            <a:ext cx="898560" cy="1440"/>
            <a:chOff x="4282920" y="2292480"/>
            <a:chExt cx="898560" cy="1440"/>
          </a:xfrm>
        </p:grpSpPr>
        <p:sp>
          <p:nvSpPr>
            <p:cNvPr id="121" name="直接连接符 71"/>
            <p:cNvSpPr/>
            <p:nvPr/>
          </p:nvSpPr>
          <p:spPr>
            <a:xfrm>
              <a:off x="4282920" y="2292480"/>
              <a:ext cx="898560" cy="1440"/>
            </a:xfrm>
            <a:prstGeom prst="line">
              <a:avLst/>
            </a:prstGeom>
            <a:ln w="19080">
              <a:solidFill>
                <a:srgbClr val="cf71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282920" y="2292480"/>
              <a:ext cx="898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72"/>
          <p:cNvSpPr/>
          <p:nvPr/>
        </p:nvSpPr>
        <p:spPr>
          <a:xfrm>
            <a:off x="2978280" y="198432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3"/>
          <p:cNvSpPr/>
          <p:nvPr/>
        </p:nvSpPr>
        <p:spPr>
          <a:xfrm>
            <a:off x="4254480" y="245736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4"/>
          <p:cNvSpPr/>
          <p:nvPr/>
        </p:nvSpPr>
        <p:spPr>
          <a:xfrm flipH="1" rot="5400000">
            <a:off x="1215000" y="4590360"/>
            <a:ext cx="2930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5"/>
          <p:cNvSpPr/>
          <p:nvPr/>
        </p:nvSpPr>
        <p:spPr>
          <a:xfrm flipH="1" rot="5400000">
            <a:off x="3085200" y="4963680"/>
            <a:ext cx="244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6"/>
          <p:cNvSpPr/>
          <p:nvPr/>
        </p:nvSpPr>
        <p:spPr>
          <a:xfrm rot="16200000">
            <a:off x="6076800" y="3671640"/>
            <a:ext cx="153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2797920" y="333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国外精美图表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8AD5-5692-4ABF-8ECE-896427EC50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空心弧 1"/>
          <p:cNvSpPr/>
          <p:nvPr/>
        </p:nvSpPr>
        <p:spPr>
          <a:xfrm rot="923400">
            <a:off x="1186920" y="517320"/>
            <a:ext cx="2797200" cy="23954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空心弧 1"/>
          <p:cNvSpPr/>
          <p:nvPr/>
        </p:nvSpPr>
        <p:spPr>
          <a:xfrm flipV="1" rot="20676600">
            <a:off x="3205080" y="2309400"/>
            <a:ext cx="2797200" cy="23972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空心弧 1"/>
          <p:cNvSpPr/>
          <p:nvPr/>
        </p:nvSpPr>
        <p:spPr>
          <a:xfrm rot="923400">
            <a:off x="5229000" y="517320"/>
            <a:ext cx="2797200" cy="23954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空心弧 1"/>
          <p:cNvSpPr/>
          <p:nvPr/>
        </p:nvSpPr>
        <p:spPr>
          <a:xfrm flipV="1" rot="20676600">
            <a:off x="7267320" y="2456640"/>
            <a:ext cx="1685880" cy="2395800"/>
          </a:xfrm>
          <a:custGeom>
            <a:avLst/>
            <a:gdLst/>
            <a:ahLst/>
            <a:rect l="l" t="t" r="r" b="b"/>
            <a:pathLst>
              <a:path w="1686113" h="2395797">
                <a:moveTo>
                  <a:pt x="423161" y="2395797"/>
                </a:moveTo>
                <a:lnTo>
                  <a:pt x="808476" y="2289670"/>
                </a:lnTo>
                <a:cubicBezTo>
                  <a:pt x="507271" y="2094208"/>
                  <a:pt x="321562" y="1754456"/>
                  <a:pt x="326248" y="1384350"/>
                </a:cubicBezTo>
                <a:cubicBezTo>
                  <a:pt x="332009" y="929490"/>
                  <a:pt x="624095" y="527748"/>
                  <a:pt x="1055008" y="381995"/>
                </a:cubicBezTo>
                <a:cubicBezTo>
                  <a:pt x="1264032" y="311295"/>
                  <a:pt x="1483662" y="308289"/>
                  <a:pt x="1686113" y="366048"/>
                </a:cubicBezTo>
                <a:lnTo>
                  <a:pt x="1589582" y="15570"/>
                </a:lnTo>
                <a:cubicBezTo>
                  <a:pt x="1414704" y="-11850"/>
                  <a:pt x="1233688" y="-3012"/>
                  <a:pt x="1056485" y="41763"/>
                </a:cubicBezTo>
                <a:lnTo>
                  <a:pt x="950504" y="73029"/>
                </a:lnTo>
                <a:cubicBezTo>
                  <a:pt x="388540" y="263107"/>
                  <a:pt x="7625" y="787027"/>
                  <a:pt x="113" y="1380219"/>
                </a:cubicBezTo>
                <a:cubicBezTo>
                  <a:pt x="-4838" y="1771201"/>
                  <a:pt x="153140" y="2136205"/>
                  <a:pt x="423161" y="2395797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60"/>
          <p:cNvSpPr/>
          <p:nvPr/>
        </p:nvSpPr>
        <p:spPr>
          <a:xfrm>
            <a:off x="6283440" y="1517760"/>
            <a:ext cx="645840" cy="645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1"/>
          <p:cNvSpPr/>
          <p:nvPr/>
        </p:nvSpPr>
        <p:spPr>
          <a:xfrm>
            <a:off x="4224240" y="3200400"/>
            <a:ext cx="646200" cy="646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62"/>
          <p:cNvSpPr/>
          <p:nvPr/>
        </p:nvSpPr>
        <p:spPr>
          <a:xfrm>
            <a:off x="2187720" y="1517760"/>
            <a:ext cx="645840" cy="64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3"/>
          <p:cNvSpPr/>
          <p:nvPr/>
        </p:nvSpPr>
        <p:spPr>
          <a:xfrm>
            <a:off x="2087640" y="1604880"/>
            <a:ext cx="844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4"/>
          <p:cNvSpPr/>
          <p:nvPr/>
        </p:nvSpPr>
        <p:spPr>
          <a:xfrm>
            <a:off x="4118040" y="3290760"/>
            <a:ext cx="842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5"/>
          <p:cNvSpPr/>
          <p:nvPr/>
        </p:nvSpPr>
        <p:spPr>
          <a:xfrm>
            <a:off x="6200640" y="1608120"/>
            <a:ext cx="844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6"/>
          <p:cNvSpPr/>
          <p:nvPr/>
        </p:nvSpPr>
        <p:spPr>
          <a:xfrm>
            <a:off x="1868400" y="285588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7"/>
          <p:cNvSpPr/>
          <p:nvPr/>
        </p:nvSpPr>
        <p:spPr>
          <a:xfrm>
            <a:off x="1603440" y="2352600"/>
            <a:ext cx="1781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74806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8"/>
          <p:cNvSpPr/>
          <p:nvPr/>
        </p:nvSpPr>
        <p:spPr>
          <a:xfrm>
            <a:off x="3648240" y="2679840"/>
            <a:ext cx="178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53734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9"/>
          <p:cNvSpPr/>
          <p:nvPr/>
        </p:nvSpPr>
        <p:spPr>
          <a:xfrm>
            <a:off x="5910120" y="285588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0"/>
          <p:cNvSpPr/>
          <p:nvPr/>
        </p:nvSpPr>
        <p:spPr>
          <a:xfrm>
            <a:off x="5667480" y="2387520"/>
            <a:ext cx="178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74806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1"/>
          <p:cNvSpPr/>
          <p:nvPr/>
        </p:nvSpPr>
        <p:spPr>
          <a:xfrm>
            <a:off x="3879720" y="50472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2"/>
          <p:cNvSpPr/>
          <p:nvPr/>
        </p:nvSpPr>
        <p:spPr>
          <a:xfrm>
            <a:off x="611280" y="5589720"/>
            <a:ext cx="75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AR ESSENCE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3"/>
          <p:cNvSpPr/>
          <p:nvPr/>
        </p:nvSpPr>
        <p:spPr>
          <a:xfrm>
            <a:off x="0" y="6165720"/>
            <a:ext cx="9144000" cy="243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空心弧 1"/>
          <p:cNvSpPr/>
          <p:nvPr/>
        </p:nvSpPr>
        <p:spPr>
          <a:xfrm flipV="1" rot="20676600">
            <a:off x="-212400" y="2760120"/>
            <a:ext cx="2238480" cy="1862280"/>
          </a:xfrm>
          <a:custGeom>
            <a:avLst/>
            <a:gdLst/>
            <a:ahLst/>
            <a:rect l="l" t="t" r="r" b="b"/>
            <a:pathLst>
              <a:path w="2237910" h="1862273">
                <a:moveTo>
                  <a:pt x="2191551" y="1755481"/>
                </a:moveTo>
                <a:cubicBezTo>
                  <a:pt x="2301471" y="1339683"/>
                  <a:pt x="2215262" y="886755"/>
                  <a:pt x="1939990" y="535695"/>
                </a:cubicBezTo>
                <a:cubicBezTo>
                  <a:pt x="1596813" y="98037"/>
                  <a:pt x="1029791" y="-92021"/>
                  <a:pt x="497210" y="42552"/>
                </a:cubicBezTo>
                <a:lnTo>
                  <a:pt x="391229" y="73817"/>
                </a:lnTo>
                <a:cubicBezTo>
                  <a:pt x="247837" y="122319"/>
                  <a:pt x="116232" y="192556"/>
                  <a:pt x="0" y="280652"/>
                </a:cubicBezTo>
                <a:lnTo>
                  <a:pt x="95699" y="628105"/>
                </a:lnTo>
                <a:cubicBezTo>
                  <a:pt x="206229" y="519182"/>
                  <a:pt x="342165" y="434727"/>
                  <a:pt x="495734" y="382784"/>
                </a:cubicBezTo>
                <a:cubicBezTo>
                  <a:pt x="926648" y="237031"/>
                  <a:pt x="1402632" y="378982"/>
                  <a:pt x="1683323" y="736952"/>
                </a:cubicBezTo>
                <a:cubicBezTo>
                  <a:pt x="1937529" y="1061144"/>
                  <a:pt x="1981467" y="1498633"/>
                  <a:pt x="1803819" y="1862273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B672-663A-405F-B3DE-44D86368E6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4"/>
          <p:cNvGrpSpPr/>
          <p:nvPr/>
        </p:nvGrpSpPr>
        <p:grpSpPr>
          <a:xfrm>
            <a:off x="1644480" y="3765600"/>
            <a:ext cx="5607360" cy="3324240"/>
            <a:chOff x="1644480" y="3765600"/>
            <a:chExt cx="5607360" cy="3324240"/>
          </a:xfrm>
        </p:grpSpPr>
        <p:sp>
          <p:nvSpPr>
            <p:cNvPr id="131" name="椭圆 25"/>
            <p:cNvSpPr/>
            <p:nvPr/>
          </p:nvSpPr>
          <p:spPr>
            <a:xfrm>
              <a:off x="1644480" y="3765600"/>
              <a:ext cx="5607360" cy="3324240"/>
            </a:xfrm>
            <a:prstGeom prst="ellipse">
              <a:avLst/>
            </a:prstGeom>
            <a:solidFill>
              <a:srgbClr val="76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26"/>
            <p:cNvSpPr/>
            <p:nvPr/>
          </p:nvSpPr>
          <p:spPr>
            <a:xfrm>
              <a:off x="1800360" y="3859200"/>
              <a:ext cx="5295240" cy="313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7"/>
            <p:cNvSpPr/>
            <p:nvPr/>
          </p:nvSpPr>
          <p:spPr>
            <a:xfrm>
              <a:off x="2248200" y="4123440"/>
              <a:ext cx="4399920" cy="2608560"/>
            </a:xfrm>
            <a:prstGeom prst="ellipse">
              <a:avLst/>
            </a:prstGeom>
            <a:solidFill>
              <a:srgbClr val="668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8"/>
            <p:cNvSpPr/>
            <p:nvPr/>
          </p:nvSpPr>
          <p:spPr>
            <a:xfrm>
              <a:off x="2849400" y="4480920"/>
              <a:ext cx="3197160" cy="18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29"/>
            <p:cNvSpPr/>
            <p:nvPr/>
          </p:nvSpPr>
          <p:spPr>
            <a:xfrm>
              <a:off x="3571920" y="4908240"/>
              <a:ext cx="1752120" cy="103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6a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0"/>
            <p:cNvSpPr/>
            <p:nvPr/>
          </p:nvSpPr>
          <p:spPr>
            <a:xfrm>
              <a:off x="3746880" y="5011920"/>
              <a:ext cx="1402560" cy="831600"/>
            </a:xfrm>
            <a:prstGeom prst="ellipse">
              <a:avLst/>
            </a:prstGeom>
            <a:solidFill>
              <a:srgbClr val="668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等腰三角形 31"/>
          <p:cNvSpPr/>
          <p:nvPr/>
        </p:nvSpPr>
        <p:spPr>
          <a:xfrm flipV="1">
            <a:off x="3659040" y="4411800"/>
            <a:ext cx="1578240" cy="1038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c5512"/>
              </a:gs>
              <a:gs pos="100000">
                <a:srgbClr val="6793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652920" y="4280040"/>
            <a:ext cx="157788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24340b"/>
              </a:gs>
              <a:gs pos="100000">
                <a:srgbClr val="405b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2965320" y="3419640"/>
            <a:ext cx="2943360" cy="901440"/>
          </a:xfrm>
          <a:custGeom>
            <a:avLst/>
            <a:gdLst/>
            <a:ahLst/>
            <a:rect l="l" t="t" r="r" b="b"/>
            <a:pathLst>
              <a:path w="3061735" h="937284">
                <a:moveTo>
                  <a:pt x="0" y="0"/>
                </a:moveTo>
                <a:lnTo>
                  <a:pt x="3061735" y="0"/>
                </a:lnTo>
                <a:lnTo>
                  <a:pt x="2493758" y="937284"/>
                </a:lnTo>
                <a:lnTo>
                  <a:pt x="567977" y="93728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"/>
          <p:cNvSpPr/>
          <p:nvPr/>
        </p:nvSpPr>
        <p:spPr>
          <a:xfrm>
            <a:off x="2336760" y="2381400"/>
            <a:ext cx="4202280" cy="901440"/>
          </a:xfrm>
          <a:custGeom>
            <a:avLst/>
            <a:gdLst/>
            <a:ahLst/>
            <a:rect l="l" t="t" r="r" b="b"/>
            <a:pathLst>
              <a:path w="4370803" h="937284">
                <a:moveTo>
                  <a:pt x="0" y="0"/>
                </a:moveTo>
                <a:lnTo>
                  <a:pt x="4370803" y="0"/>
                </a:lnTo>
                <a:lnTo>
                  <a:pt x="3802825" y="937284"/>
                </a:lnTo>
                <a:lnTo>
                  <a:pt x="567978" y="93728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1712880" y="1343160"/>
            <a:ext cx="5451480" cy="901440"/>
          </a:xfrm>
          <a:custGeom>
            <a:avLst/>
            <a:gdLst/>
            <a:ahLst/>
            <a:rect l="l" t="t" r="r" b="b"/>
            <a:pathLst>
              <a:path w="5670222" h="937284">
                <a:moveTo>
                  <a:pt x="0" y="0"/>
                </a:moveTo>
                <a:lnTo>
                  <a:pt x="5670222" y="0"/>
                </a:lnTo>
                <a:lnTo>
                  <a:pt x="5670222" y="5327"/>
                </a:lnTo>
                <a:lnTo>
                  <a:pt x="5105473" y="937284"/>
                </a:lnTo>
                <a:lnTo>
                  <a:pt x="561559" y="937284"/>
                </a:lnTo>
                <a:lnTo>
                  <a:pt x="0" y="10591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965320" y="3287880"/>
            <a:ext cx="294336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336760" y="2249640"/>
            <a:ext cx="420228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1712880" y="1206360"/>
            <a:ext cx="5451480" cy="13680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9"/>
          <p:cNvSpPr/>
          <p:nvPr/>
        </p:nvSpPr>
        <p:spPr>
          <a:xfrm>
            <a:off x="2387520" y="1550880"/>
            <a:ext cx="4260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0"/>
          <p:cNvSpPr/>
          <p:nvPr/>
        </p:nvSpPr>
        <p:spPr>
          <a:xfrm>
            <a:off x="2973240" y="2631960"/>
            <a:ext cx="294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1"/>
          <p:cNvSpPr/>
          <p:nvPr/>
        </p:nvSpPr>
        <p:spPr>
          <a:xfrm>
            <a:off x="3441600" y="3627360"/>
            <a:ext cx="2124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2"/>
          <p:cNvSpPr/>
          <p:nvPr/>
        </p:nvSpPr>
        <p:spPr>
          <a:xfrm>
            <a:off x="3881520" y="4570560"/>
            <a:ext cx="106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900000" y="325440"/>
            <a:ext cx="7056720" cy="901800"/>
          </a:xfrm>
          <a:custGeom>
            <a:avLst/>
            <a:gdLst/>
            <a:ahLst/>
            <a:rect l="l" t="t" r="r" b="b"/>
            <a:pathLst>
              <a:path w="5670222" h="937284">
                <a:moveTo>
                  <a:pt x="0" y="0"/>
                </a:moveTo>
                <a:lnTo>
                  <a:pt x="5670222" y="0"/>
                </a:lnTo>
                <a:lnTo>
                  <a:pt x="5670222" y="5327"/>
                </a:lnTo>
                <a:lnTo>
                  <a:pt x="5105473" y="937284"/>
                </a:lnTo>
                <a:lnTo>
                  <a:pt x="561559" y="937284"/>
                </a:lnTo>
                <a:lnTo>
                  <a:pt x="0" y="10591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900000" y="189000"/>
            <a:ext cx="7056720" cy="13644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1332000" y="515880"/>
            <a:ext cx="6215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Click here to add your text. Click here to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 rot="16200000">
            <a:off x="4286520" y="2166480"/>
            <a:ext cx="9223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f6128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96D8-E82F-4D18-8446-99C2135E6E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9"/>
          <p:cNvSpPr/>
          <p:nvPr/>
        </p:nvSpPr>
        <p:spPr>
          <a:xfrm>
            <a:off x="3157560" y="0"/>
            <a:ext cx="472608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0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592360" cy="2344680"/>
          </a:xfrm>
          <a:prstGeom prst="rect">
            <a:avLst/>
          </a:prstGeom>
          <a:ln w="0">
            <a:noFill/>
          </a:ln>
        </p:spPr>
      </p:pic>
      <p:sp>
        <p:nvSpPr>
          <p:cNvPr id="156" name="六边形 21"/>
          <p:cNvSpPr/>
          <p:nvPr/>
        </p:nvSpPr>
        <p:spPr>
          <a:xfrm rot="19089000">
            <a:off x="5648040" y="150156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 flipH="1" rot="20068200">
            <a:off x="5765400" y="153144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 flipH="1" rot="20066400">
            <a:off x="6208560" y="116424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2d050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3436920" y="155736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5" descr=""/>
          <p:cNvPicPr/>
          <p:nvPr/>
        </p:nvPicPr>
        <p:blipFill>
          <a:blip r:embed="rId2"/>
          <a:stretch/>
        </p:blipFill>
        <p:spPr>
          <a:xfrm>
            <a:off x="5435640" y="1944720"/>
            <a:ext cx="2592360" cy="2344680"/>
          </a:xfrm>
          <a:prstGeom prst="rect">
            <a:avLst/>
          </a:prstGeom>
          <a:ln w="0">
            <a:noFill/>
          </a:ln>
        </p:spPr>
      </p:pic>
      <p:sp>
        <p:nvSpPr>
          <p:cNvPr id="161" name="六边形 26"/>
          <p:cNvSpPr/>
          <p:nvPr/>
        </p:nvSpPr>
        <p:spPr>
          <a:xfrm rot="19089000">
            <a:off x="5648040" y="325728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 flipH="1" rot="20068200">
            <a:off x="5765760" y="328716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 flipH="1" rot="20066400">
            <a:off x="6208560" y="291996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1859b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3436920" y="331164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0" descr=""/>
          <p:cNvPicPr/>
          <p:nvPr/>
        </p:nvPicPr>
        <p:blipFill>
          <a:blip r:embed="rId3"/>
          <a:stretch/>
        </p:blipFill>
        <p:spPr>
          <a:xfrm>
            <a:off x="5435640" y="3718080"/>
            <a:ext cx="2592360" cy="2342880"/>
          </a:xfrm>
          <a:prstGeom prst="rect">
            <a:avLst/>
          </a:prstGeom>
          <a:ln w="0">
            <a:noFill/>
          </a:ln>
        </p:spPr>
      </p:pic>
      <p:sp>
        <p:nvSpPr>
          <p:cNvPr id="166" name="六边形 31"/>
          <p:cNvSpPr/>
          <p:nvPr/>
        </p:nvSpPr>
        <p:spPr>
          <a:xfrm rot="19089000">
            <a:off x="5648040" y="503028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2"/>
          <p:cNvSpPr/>
          <p:nvPr/>
        </p:nvSpPr>
        <p:spPr>
          <a:xfrm flipH="1" rot="20068200">
            <a:off x="5765760" y="506052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3"/>
          <p:cNvSpPr/>
          <p:nvPr/>
        </p:nvSpPr>
        <p:spPr>
          <a:xfrm flipH="1" rot="20066400">
            <a:off x="6209640" y="469332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3436920" y="508464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5"/>
          <p:cNvSpPr/>
          <p:nvPr/>
        </p:nvSpPr>
        <p:spPr>
          <a:xfrm>
            <a:off x="1212840" y="0"/>
            <a:ext cx="1152360" cy="6885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1359000" y="404640"/>
            <a:ext cx="8618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664-6AEC-4089-A72A-1846BA3167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5"/>
          <p:cNvSpPr/>
          <p:nvPr/>
        </p:nvSpPr>
        <p:spPr>
          <a:xfrm flipV="1" rot="10800000">
            <a:off x="1039320" y="4984920"/>
            <a:ext cx="252108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4" descr=""/>
          <p:cNvPicPr/>
          <p:nvPr/>
        </p:nvPicPr>
        <p:blipFill>
          <a:blip r:embed="rId1"/>
          <a:srcRect l="15727" t="22134" r="15020" b="0"/>
          <a:stretch/>
        </p:blipFill>
        <p:spPr>
          <a:xfrm>
            <a:off x="1254240" y="17640"/>
            <a:ext cx="2019240" cy="2325600"/>
          </a:xfrm>
          <a:prstGeom prst="rect">
            <a:avLst/>
          </a:prstGeom>
          <a:ln w="0">
            <a:noFill/>
          </a:ln>
        </p:spPr>
      </p:pic>
      <p:sp>
        <p:nvSpPr>
          <p:cNvPr id="175" name="Oval 65"/>
          <p:cNvSpPr/>
          <p:nvPr/>
        </p:nvSpPr>
        <p:spPr>
          <a:xfrm flipV="1" rot="10800000">
            <a:off x="1563480" y="5133960"/>
            <a:ext cx="140004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26" descr=""/>
          <p:cNvPicPr/>
          <p:nvPr/>
        </p:nvPicPr>
        <p:blipFill>
          <a:blip r:embed="rId2"/>
          <a:stretch/>
        </p:blipFill>
        <p:spPr>
          <a:xfrm>
            <a:off x="1400040" y="2176560"/>
            <a:ext cx="1729080" cy="35560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7"/>
          <p:cNvSpPr/>
          <p:nvPr/>
        </p:nvSpPr>
        <p:spPr>
          <a:xfrm>
            <a:off x="17478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1387440" y="880920"/>
            <a:ext cx="17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9"/>
          <p:cNvSpPr/>
          <p:nvPr/>
        </p:nvSpPr>
        <p:spPr>
          <a:xfrm>
            <a:off x="1689120" y="3960720"/>
            <a:ext cx="10796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5"/>
          <p:cNvSpPr/>
          <p:nvPr/>
        </p:nvSpPr>
        <p:spPr>
          <a:xfrm flipV="1" rot="10800000">
            <a:off x="3057120" y="4984920"/>
            <a:ext cx="252108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31" descr=""/>
          <p:cNvPicPr/>
          <p:nvPr/>
        </p:nvPicPr>
        <p:blipFill>
          <a:blip r:embed="rId3"/>
          <a:srcRect l="15727" t="22134" r="15020" b="0"/>
          <a:stretch/>
        </p:blipFill>
        <p:spPr>
          <a:xfrm>
            <a:off x="3273480" y="17640"/>
            <a:ext cx="2017800" cy="2325600"/>
          </a:xfrm>
          <a:prstGeom prst="rect">
            <a:avLst/>
          </a:prstGeom>
          <a:ln w="0">
            <a:noFill/>
          </a:ln>
        </p:spPr>
      </p:pic>
      <p:sp>
        <p:nvSpPr>
          <p:cNvPr id="182" name="Oval 65"/>
          <p:cNvSpPr/>
          <p:nvPr/>
        </p:nvSpPr>
        <p:spPr>
          <a:xfrm flipV="1" rot="10800000">
            <a:off x="3581280" y="5133960"/>
            <a:ext cx="140040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33" descr=""/>
          <p:cNvPicPr/>
          <p:nvPr/>
        </p:nvPicPr>
        <p:blipFill>
          <a:blip r:embed="rId4"/>
          <a:stretch/>
        </p:blipFill>
        <p:spPr>
          <a:xfrm>
            <a:off x="3417840" y="2176560"/>
            <a:ext cx="1728720" cy="355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4"/>
          <p:cNvSpPr/>
          <p:nvPr/>
        </p:nvSpPr>
        <p:spPr>
          <a:xfrm>
            <a:off x="37656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405240" y="880920"/>
            <a:ext cx="177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6"/>
          <p:cNvSpPr/>
          <p:nvPr/>
        </p:nvSpPr>
        <p:spPr>
          <a:xfrm>
            <a:off x="3706920" y="3960720"/>
            <a:ext cx="1079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5"/>
          <p:cNvSpPr/>
          <p:nvPr/>
        </p:nvSpPr>
        <p:spPr>
          <a:xfrm flipV="1" rot="10800000">
            <a:off x="5076360" y="4984920"/>
            <a:ext cx="251964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8" descr=""/>
          <p:cNvPicPr/>
          <p:nvPr/>
        </p:nvPicPr>
        <p:blipFill>
          <a:blip r:embed="rId5"/>
          <a:srcRect l="15727" t="22134" r="15020" b="0"/>
          <a:stretch/>
        </p:blipFill>
        <p:spPr>
          <a:xfrm>
            <a:off x="5291280" y="17640"/>
            <a:ext cx="2017440" cy="2325600"/>
          </a:xfrm>
          <a:prstGeom prst="rect">
            <a:avLst/>
          </a:prstGeom>
          <a:ln w="0">
            <a:noFill/>
          </a:ln>
        </p:spPr>
      </p:pic>
      <p:sp>
        <p:nvSpPr>
          <p:cNvPr id="189" name="Oval 65"/>
          <p:cNvSpPr/>
          <p:nvPr/>
        </p:nvSpPr>
        <p:spPr>
          <a:xfrm flipV="1" rot="10800000">
            <a:off x="5600520" y="5133960"/>
            <a:ext cx="140004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40" descr=""/>
          <p:cNvPicPr/>
          <p:nvPr/>
        </p:nvPicPr>
        <p:blipFill>
          <a:blip r:embed="rId6"/>
          <a:stretch/>
        </p:blipFill>
        <p:spPr>
          <a:xfrm>
            <a:off x="5435640" y="2176560"/>
            <a:ext cx="1728720" cy="35560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1"/>
          <p:cNvSpPr/>
          <p:nvPr/>
        </p:nvSpPr>
        <p:spPr>
          <a:xfrm>
            <a:off x="57834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2"/>
          <p:cNvSpPr/>
          <p:nvPr/>
        </p:nvSpPr>
        <p:spPr>
          <a:xfrm>
            <a:off x="5423040" y="880920"/>
            <a:ext cx="17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3"/>
          <p:cNvSpPr/>
          <p:nvPr/>
        </p:nvSpPr>
        <p:spPr>
          <a:xfrm>
            <a:off x="5724360" y="3960720"/>
            <a:ext cx="10796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4"/>
          <p:cNvSpPr/>
          <p:nvPr/>
        </p:nvSpPr>
        <p:spPr>
          <a:xfrm>
            <a:off x="1224000" y="5589720"/>
            <a:ext cx="63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5959"/>
                </a:solidFill>
                <a:latin typeface="Agency FB"/>
                <a:ea typeface="微软雅黑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EE49-D1E9-4366-97D1-24D2E2CE32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9"/>
          <p:cNvSpPr/>
          <p:nvPr/>
        </p:nvSpPr>
        <p:spPr>
          <a:xfrm>
            <a:off x="147636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4572000" y="0"/>
            <a:ext cx="360" cy="2193840"/>
            <a:chOff x="4572000" y="0"/>
            <a:chExt cx="360" cy="2193840"/>
          </a:xfrm>
        </p:grpSpPr>
        <p:sp>
          <p:nvSpPr>
            <p:cNvPr id="198" name="直接连接符 23"/>
            <p:cNvSpPr/>
            <p:nvPr/>
          </p:nvSpPr>
          <p:spPr>
            <a:xfrm>
              <a:off x="4572000" y="0"/>
              <a:ext cx="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45720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94040" y="0"/>
            <a:ext cx="1440" cy="2193840"/>
            <a:chOff x="1994040" y="0"/>
            <a:chExt cx="1440" cy="2193840"/>
          </a:xfrm>
        </p:grpSpPr>
        <p:sp>
          <p:nvSpPr>
            <p:cNvPr id="201" name="直接连接符 24"/>
            <p:cNvSpPr/>
            <p:nvPr/>
          </p:nvSpPr>
          <p:spPr>
            <a:xfrm>
              <a:off x="1994040" y="0"/>
              <a:ext cx="144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1994040" y="0"/>
              <a:ext cx="144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196040" y="0"/>
            <a:ext cx="1800" cy="2193840"/>
            <a:chOff x="7196040" y="0"/>
            <a:chExt cx="1800" cy="2193840"/>
          </a:xfrm>
        </p:grpSpPr>
        <p:sp>
          <p:nvSpPr>
            <p:cNvPr id="204" name="直接连接符 25"/>
            <p:cNvSpPr/>
            <p:nvPr/>
          </p:nvSpPr>
          <p:spPr>
            <a:xfrm>
              <a:off x="7196040" y="0"/>
              <a:ext cx="180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7196040" y="0"/>
              <a:ext cx="180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椭圆 26"/>
          <p:cNvSpPr/>
          <p:nvPr/>
        </p:nvSpPr>
        <p:spPr>
          <a:xfrm>
            <a:off x="3044880" y="1911240"/>
            <a:ext cx="2863800" cy="2863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7"/>
          <p:cNvSpPr/>
          <p:nvPr/>
        </p:nvSpPr>
        <p:spPr>
          <a:xfrm>
            <a:off x="332748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28"/>
          <p:cNvSpPr/>
          <p:nvPr/>
        </p:nvSpPr>
        <p:spPr>
          <a:xfrm>
            <a:off x="466560" y="1911240"/>
            <a:ext cx="2864160" cy="2863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29"/>
          <p:cNvSpPr/>
          <p:nvPr/>
        </p:nvSpPr>
        <p:spPr>
          <a:xfrm>
            <a:off x="75096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30"/>
          <p:cNvSpPr/>
          <p:nvPr/>
        </p:nvSpPr>
        <p:spPr>
          <a:xfrm>
            <a:off x="5668920" y="1911240"/>
            <a:ext cx="2863800" cy="2863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31"/>
          <p:cNvSpPr/>
          <p:nvPr/>
        </p:nvSpPr>
        <p:spPr>
          <a:xfrm>
            <a:off x="595152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76600" y="0"/>
            <a:ext cx="360" cy="2193840"/>
            <a:chOff x="4476600" y="0"/>
            <a:chExt cx="360" cy="2193840"/>
          </a:xfrm>
        </p:grpSpPr>
        <p:sp>
          <p:nvSpPr>
            <p:cNvPr id="213" name="直接连接符 32"/>
            <p:cNvSpPr/>
            <p:nvPr/>
          </p:nvSpPr>
          <p:spPr>
            <a:xfrm>
              <a:off x="4476600" y="0"/>
              <a:ext cx="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4766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898640" y="0"/>
            <a:ext cx="1440" cy="2193840"/>
            <a:chOff x="1898640" y="0"/>
            <a:chExt cx="1440" cy="2193840"/>
          </a:xfrm>
        </p:grpSpPr>
        <p:sp>
          <p:nvSpPr>
            <p:cNvPr id="216" name="直接连接符 33"/>
            <p:cNvSpPr/>
            <p:nvPr/>
          </p:nvSpPr>
          <p:spPr>
            <a:xfrm>
              <a:off x="1898640" y="0"/>
              <a:ext cx="144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898640" y="0"/>
              <a:ext cx="144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101000" y="0"/>
            <a:ext cx="360" cy="2193840"/>
            <a:chOff x="7101000" y="0"/>
            <a:chExt cx="360" cy="2193840"/>
          </a:xfrm>
        </p:grpSpPr>
        <p:sp>
          <p:nvSpPr>
            <p:cNvPr id="219" name="直接连接符 34"/>
            <p:cNvSpPr/>
            <p:nvPr/>
          </p:nvSpPr>
          <p:spPr>
            <a:xfrm>
              <a:off x="7101000" y="0"/>
              <a:ext cx="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1010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椭圆 26"/>
          <p:cNvSpPr/>
          <p:nvPr/>
        </p:nvSpPr>
        <p:spPr>
          <a:xfrm>
            <a:off x="808200" y="2863800"/>
            <a:ext cx="2220840" cy="37008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6"/>
          <p:cNvSpPr/>
          <p:nvPr/>
        </p:nvSpPr>
        <p:spPr>
          <a:xfrm>
            <a:off x="6013440" y="2865600"/>
            <a:ext cx="2219400" cy="36972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6"/>
          <p:cNvSpPr/>
          <p:nvPr/>
        </p:nvSpPr>
        <p:spPr>
          <a:xfrm>
            <a:off x="3381480" y="2863800"/>
            <a:ext cx="2220840" cy="37008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73d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8"/>
          <p:cNvSpPr/>
          <p:nvPr/>
        </p:nvSpPr>
        <p:spPr>
          <a:xfrm>
            <a:off x="1365120" y="2128680"/>
            <a:ext cx="106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Adidas Unity"/>
                <a:ea typeface="MS PGothic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3989520" y="2128680"/>
            <a:ext cx="106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eb52d"/>
                </a:solidFill>
                <a:latin typeface="Adidas Unity"/>
                <a:ea typeface="MS PGothic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6635880" y="2128680"/>
            <a:ext cx="106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Adidas Unity"/>
                <a:ea typeface="MS PGothic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966960" y="3273480"/>
            <a:ext cx="199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2"/>
          <p:cNvSpPr/>
          <p:nvPr/>
        </p:nvSpPr>
        <p:spPr>
          <a:xfrm>
            <a:off x="3543480" y="3273480"/>
            <a:ext cx="199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3"/>
          <p:cNvSpPr/>
          <p:nvPr/>
        </p:nvSpPr>
        <p:spPr>
          <a:xfrm>
            <a:off x="6173640" y="3273480"/>
            <a:ext cx="1994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4"/>
          <p:cNvSpPr/>
          <p:nvPr/>
        </p:nvSpPr>
        <p:spPr>
          <a:xfrm>
            <a:off x="1835280" y="5084640"/>
            <a:ext cx="54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didas Unity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4102-8F89-4636-B3EE-98998F7278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2" descr=""/>
          <p:cNvPicPr/>
          <p:nvPr/>
        </p:nvPicPr>
        <p:blipFill>
          <a:blip r:embed="rId1"/>
          <a:srcRect l="5261" t="0" r="10026" b="0"/>
          <a:stretch/>
        </p:blipFill>
        <p:spPr>
          <a:xfrm>
            <a:off x="0" y="33336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 flipH="1">
            <a:off x="3851280" y="549360"/>
            <a:ext cx="977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 flipH="1">
            <a:off x="3348000" y="1339920"/>
            <a:ext cx="1935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 rot="16200000">
            <a:off x="3711240" y="3795480"/>
            <a:ext cx="153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 flipH="1">
            <a:off x="474120" y="2637000"/>
            <a:ext cx="975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 flipH="1">
            <a:off x="-29160" y="3429000"/>
            <a:ext cx="193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 flipH="1">
            <a:off x="7461360" y="2637000"/>
            <a:ext cx="97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9"/>
          <p:cNvSpPr/>
          <p:nvPr/>
        </p:nvSpPr>
        <p:spPr>
          <a:xfrm flipH="1">
            <a:off x="6956280" y="3429000"/>
            <a:ext cx="1936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65160" y="4600440"/>
            <a:ext cx="205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3378240" y="26370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2"/>
          <p:cNvSpPr/>
          <p:nvPr/>
        </p:nvSpPr>
        <p:spPr>
          <a:xfrm>
            <a:off x="6896160" y="46134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D875-EE2C-42BD-A216-F68382CB85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等腰三角形 3"/>
          <p:cNvSpPr/>
          <p:nvPr/>
        </p:nvSpPr>
        <p:spPr>
          <a:xfrm>
            <a:off x="-166680" y="2803680"/>
            <a:ext cx="292428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Documents and Settings\Administrator\桌面\timer.png"/>
          <p:cNvPicPr/>
          <p:nvPr/>
        </p:nvPicPr>
        <p:blipFill>
          <a:blip r:embed="rId1"/>
          <a:stretch/>
        </p:blipFill>
        <p:spPr>
          <a:xfrm rot="8108400">
            <a:off x="210600" y="1852560"/>
            <a:ext cx="2052720" cy="2162160"/>
          </a:xfrm>
          <a:prstGeom prst="rect">
            <a:avLst/>
          </a:prstGeom>
          <a:ln w="0">
            <a:noFill/>
          </a:ln>
        </p:spPr>
      </p:pic>
      <p:sp>
        <p:nvSpPr>
          <p:cNvPr id="246" name="等腰三角形 3"/>
          <p:cNvSpPr/>
          <p:nvPr/>
        </p:nvSpPr>
        <p:spPr>
          <a:xfrm>
            <a:off x="196704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Documents and Settings\Administrator\桌面\timer.png"/>
          <p:cNvPicPr/>
          <p:nvPr/>
        </p:nvPicPr>
        <p:blipFill>
          <a:blip r:embed="rId2"/>
          <a:stretch/>
        </p:blipFill>
        <p:spPr>
          <a:xfrm rot="8108400">
            <a:off x="2344680" y="1852200"/>
            <a:ext cx="2054160" cy="2162160"/>
          </a:xfrm>
          <a:prstGeom prst="rect">
            <a:avLst/>
          </a:prstGeom>
          <a:ln w="0">
            <a:noFill/>
          </a:ln>
        </p:spPr>
      </p:pic>
      <p:sp>
        <p:nvSpPr>
          <p:cNvPr id="248" name="等腰三角形 3"/>
          <p:cNvSpPr/>
          <p:nvPr/>
        </p:nvSpPr>
        <p:spPr>
          <a:xfrm>
            <a:off x="410040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Administrator\桌面\timer.png"/>
          <p:cNvPicPr/>
          <p:nvPr/>
        </p:nvPicPr>
        <p:blipFill>
          <a:blip r:embed="rId3"/>
          <a:stretch/>
        </p:blipFill>
        <p:spPr>
          <a:xfrm rot="8108400">
            <a:off x="4478400" y="1852200"/>
            <a:ext cx="2054160" cy="21621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6"/>
          <p:cNvSpPr/>
          <p:nvPr/>
        </p:nvSpPr>
        <p:spPr>
          <a:xfrm>
            <a:off x="7970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7"/>
          <p:cNvSpPr/>
          <p:nvPr/>
        </p:nvSpPr>
        <p:spPr>
          <a:xfrm>
            <a:off x="29606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8"/>
          <p:cNvSpPr/>
          <p:nvPr/>
        </p:nvSpPr>
        <p:spPr>
          <a:xfrm>
            <a:off x="510372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"/>
          <p:cNvSpPr/>
          <p:nvPr/>
        </p:nvSpPr>
        <p:spPr>
          <a:xfrm>
            <a:off x="385920" y="3895560"/>
            <a:ext cx="1706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"/>
          <p:cNvSpPr/>
          <p:nvPr/>
        </p:nvSpPr>
        <p:spPr>
          <a:xfrm>
            <a:off x="1841400" y="787320"/>
            <a:ext cx="53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f3f3f"/>
                </a:solidFill>
                <a:latin typeface="Agency FB"/>
                <a:ea typeface="微软雅黑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等腰三角形 3"/>
          <p:cNvSpPr/>
          <p:nvPr/>
        </p:nvSpPr>
        <p:spPr>
          <a:xfrm>
            <a:off x="623412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Administrator\桌面\timer.png"/>
          <p:cNvPicPr/>
          <p:nvPr/>
        </p:nvPicPr>
        <p:blipFill>
          <a:blip r:embed="rId4"/>
          <a:stretch/>
        </p:blipFill>
        <p:spPr>
          <a:xfrm rot="8108400">
            <a:off x="6611400" y="1852560"/>
            <a:ext cx="2054520" cy="21621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3"/>
          <p:cNvSpPr/>
          <p:nvPr/>
        </p:nvSpPr>
        <p:spPr>
          <a:xfrm>
            <a:off x="72374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4"/>
          <p:cNvSpPr/>
          <p:nvPr/>
        </p:nvSpPr>
        <p:spPr>
          <a:xfrm>
            <a:off x="2606760" y="389556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5"/>
          <p:cNvSpPr/>
          <p:nvPr/>
        </p:nvSpPr>
        <p:spPr>
          <a:xfrm>
            <a:off x="4724280" y="388296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6"/>
          <p:cNvSpPr/>
          <p:nvPr/>
        </p:nvSpPr>
        <p:spPr>
          <a:xfrm>
            <a:off x="6859440" y="3882960"/>
            <a:ext cx="17067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6FA-C613-4FB9-B782-CB84438C28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199"/>
          <p:cNvSpPr/>
          <p:nvPr/>
        </p:nvSpPr>
        <p:spPr>
          <a:xfrm>
            <a:off x="2556000" y="364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Administrator\桌面\a362-1.png"/>
          <p:cNvPicPr/>
          <p:nvPr/>
        </p:nvPicPr>
        <p:blipFill>
          <a:blip r:embed="rId1"/>
          <a:srcRect l="0" t="0" r="0" b="11595"/>
          <a:stretch/>
        </p:blipFill>
        <p:spPr>
          <a:xfrm>
            <a:off x="1727280" y="0"/>
            <a:ext cx="5529240" cy="4552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Administrator\桌面\a362-1.png"/>
          <p:cNvPicPr/>
          <p:nvPr/>
        </p:nvPicPr>
        <p:blipFill>
          <a:blip r:embed="rId2"/>
          <a:srcRect l="0" t="0" r="0" b="11595"/>
          <a:stretch/>
        </p:blipFill>
        <p:spPr>
          <a:xfrm>
            <a:off x="1042920" y="3198960"/>
            <a:ext cx="2319480" cy="190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Administrator\桌面\a362-1.png"/>
          <p:cNvPicPr/>
          <p:nvPr/>
        </p:nvPicPr>
        <p:blipFill>
          <a:blip r:embed="rId3"/>
          <a:srcRect l="0" t="0" r="0" b="11595"/>
          <a:stretch/>
        </p:blipFill>
        <p:spPr>
          <a:xfrm>
            <a:off x="3376440" y="3198960"/>
            <a:ext cx="2319480" cy="19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istrator\桌面\a362-1.png"/>
          <p:cNvPicPr/>
          <p:nvPr/>
        </p:nvPicPr>
        <p:blipFill>
          <a:blip r:embed="rId4"/>
          <a:srcRect l="0" t="0" r="0" b="11595"/>
          <a:stretch/>
        </p:blipFill>
        <p:spPr>
          <a:xfrm>
            <a:off x="5695920" y="3198960"/>
            <a:ext cx="2317680" cy="190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4"/>
          <p:cNvSpPr/>
          <p:nvPr/>
        </p:nvSpPr>
        <p:spPr>
          <a:xfrm>
            <a:off x="1476360" y="3844800"/>
            <a:ext cx="1397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3851280" y="3844800"/>
            <a:ext cx="1398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168960" y="3844800"/>
            <a:ext cx="1398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3060720" y="1322280"/>
            <a:ext cx="295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2560" y="56577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47d00"/>
                </a:solidFill>
                <a:latin typeface="Adidas Unity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2B7-9D07-4BE5-8B01-D395990750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18"/>
          <p:cNvGrpSpPr/>
          <p:nvPr/>
        </p:nvGrpSpPr>
        <p:grpSpPr>
          <a:xfrm>
            <a:off x="466560" y="1413000"/>
            <a:ext cx="2737080" cy="2160360"/>
            <a:chOff x="466560" y="1413000"/>
            <a:chExt cx="2737080" cy="2160360"/>
          </a:xfrm>
        </p:grpSpPr>
        <p:sp>
          <p:nvSpPr>
            <p:cNvPr id="274" name="椭圆 2"/>
            <p:cNvSpPr/>
            <p:nvPr/>
          </p:nvSpPr>
          <p:spPr>
            <a:xfrm>
              <a:off x="466560" y="1413000"/>
              <a:ext cx="273708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"/>
            <p:cNvSpPr/>
            <p:nvPr/>
          </p:nvSpPr>
          <p:spPr>
            <a:xfrm>
              <a:off x="630720" y="1597320"/>
              <a:ext cx="240876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1"/>
          <p:cNvGrpSpPr/>
          <p:nvPr/>
        </p:nvGrpSpPr>
        <p:grpSpPr>
          <a:xfrm>
            <a:off x="3203640" y="1413000"/>
            <a:ext cx="2736720" cy="2160360"/>
            <a:chOff x="3203640" y="1413000"/>
            <a:chExt cx="2736720" cy="2160360"/>
          </a:xfrm>
        </p:grpSpPr>
        <p:sp>
          <p:nvSpPr>
            <p:cNvPr id="277" name="椭圆 2"/>
            <p:cNvSpPr/>
            <p:nvPr/>
          </p:nvSpPr>
          <p:spPr>
            <a:xfrm>
              <a:off x="3203640" y="1413000"/>
              <a:ext cx="273672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2"/>
            <p:cNvSpPr/>
            <p:nvPr/>
          </p:nvSpPr>
          <p:spPr>
            <a:xfrm>
              <a:off x="3367800" y="1597320"/>
              <a:ext cx="240840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4"/>
          <p:cNvGrpSpPr/>
          <p:nvPr/>
        </p:nvGrpSpPr>
        <p:grpSpPr>
          <a:xfrm>
            <a:off x="5940360" y="1413000"/>
            <a:ext cx="2737080" cy="2160360"/>
            <a:chOff x="5940360" y="1413000"/>
            <a:chExt cx="2737080" cy="2160360"/>
          </a:xfrm>
        </p:grpSpPr>
        <p:sp>
          <p:nvSpPr>
            <p:cNvPr id="280" name="椭圆 2"/>
            <p:cNvSpPr/>
            <p:nvPr/>
          </p:nvSpPr>
          <p:spPr>
            <a:xfrm>
              <a:off x="5940360" y="1413000"/>
              <a:ext cx="273708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2"/>
            <p:cNvSpPr/>
            <p:nvPr/>
          </p:nvSpPr>
          <p:spPr>
            <a:xfrm>
              <a:off x="6104520" y="1597320"/>
              <a:ext cx="240876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3" descr=""/>
          <p:cNvPicPr/>
          <p:nvPr/>
        </p:nvPicPr>
        <p:blipFill>
          <a:blip r:embed="rId4"/>
          <a:srcRect l="0" t="-33163" r="0" b="0"/>
          <a:stretch/>
        </p:blipFill>
        <p:spPr>
          <a:xfrm flipH="1" rot="10800000">
            <a:off x="0" y="3563280"/>
            <a:ext cx="9144000" cy="455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8"/>
          <p:cNvSpPr/>
          <p:nvPr/>
        </p:nvSpPr>
        <p:spPr>
          <a:xfrm>
            <a:off x="900000" y="2468520"/>
            <a:ext cx="192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9"/>
          <p:cNvSpPr/>
          <p:nvPr/>
        </p:nvSpPr>
        <p:spPr>
          <a:xfrm>
            <a:off x="1547640" y="1447920"/>
            <a:ext cx="671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657600" y="2468520"/>
            <a:ext cx="192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1"/>
          <p:cNvSpPr/>
          <p:nvPr/>
        </p:nvSpPr>
        <p:spPr>
          <a:xfrm>
            <a:off x="4305240" y="1447920"/>
            <a:ext cx="673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2"/>
          <p:cNvSpPr/>
          <p:nvPr/>
        </p:nvSpPr>
        <p:spPr>
          <a:xfrm>
            <a:off x="6394320" y="2468520"/>
            <a:ext cx="1922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3"/>
          <p:cNvSpPr/>
          <p:nvPr/>
        </p:nvSpPr>
        <p:spPr>
          <a:xfrm>
            <a:off x="7042320" y="1447920"/>
            <a:ext cx="671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4"/>
          <p:cNvSpPr/>
          <p:nvPr/>
        </p:nvSpPr>
        <p:spPr>
          <a:xfrm>
            <a:off x="1042920" y="4268880"/>
            <a:ext cx="705636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c3c32"/>
                </a:solidFill>
                <a:latin typeface="Agency FB"/>
                <a:ea typeface="微软雅黑"/>
              </a:rPr>
              <a:t>Click here to add your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E0DB-DBE8-4C46-90AC-E4F3DCE2F7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8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3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