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18B7-7C2D-4B94-B27A-6F785642E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27E1-2C44-41CF-BE50-EAF2AD3D1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4167-E2AF-40F0-9412-88D65611F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1C2C-BC5D-4A70-87BD-AE7F247E0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EB787-36D8-4CE5-8218-51B5A61E4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E9B09-BBD3-41DB-BA34-E19A2546D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7403C-C2D9-48D6-B6C6-4977230AF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E29AA-28AD-4ED1-9FE3-0D3E74047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EB07E-789B-46DC-81AB-F0355FC4C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CFF36-B21D-4A3D-89F6-95EC20F7E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46E2E-2853-4613-8AB8-5C3D4CBD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CDD9-0BD0-4FEA-B9A1-FA2064138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F2499-68E3-4225-A90F-39EB07BF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0E03E-4F1C-4C06-9C5E-DE34AD1A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61D3B-83A3-4ACB-B9F6-FF4756112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4AE17-2F82-4229-94D7-983C4F883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F2648-7D5B-4E39-A615-2C08CDF85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9C58E-4A31-482F-90F0-CBF50299E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72EDA-A09A-44AF-8953-1186BE6CB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94601-636F-42C4-9D5F-5F55AB822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A2471-9C58-4D54-AC79-F39C2B5C2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971C8-31B8-493D-B5FD-271BD497E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3B44-0E6B-4127-9A9B-2A34B5AAA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3F367-A217-4232-9A6B-8ADE5A5AD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E63C2-9B9E-4413-A9FA-53387DD1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3F159-C75A-4657-915E-0C857F99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434BF-F28D-4FBD-AC01-0B468C95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88778-3E45-4223-A38F-DA5507350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F3607-C9DE-4D0F-A7A9-567B0F0FB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5770D-22FA-41BC-9EC9-401EC4354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0ACD-2521-4CF9-A3E0-A452125AD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784A-67AC-4FA2-90C5-E15A340D6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C7A7-5225-495A-8AF9-49744CD93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4F60-3839-4223-9FEC-55463BFC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8BC5-0467-4D65-A14F-41C148DD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54E4-5F36-4A59-8E77-1CA200BE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00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2520" indent="4525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05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357560" indent="-4525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10440" indent="-9050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810440" indent="-90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810440" indent="-90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CA694-DA4F-4090-8F60-DDBD6EFA1BE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58DB5-B1E1-43C9-A68E-070D60A5630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11054-6D39-4089-A593-CAAFA257487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3078"/>
          <p:cNvSpPr/>
          <p:nvPr/>
        </p:nvSpPr>
        <p:spPr>
          <a:xfrm>
            <a:off x="685800" y="1447920"/>
            <a:ext cx="7772400" cy="41907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00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2520" indent="4525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05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357560" indent="-4525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10440" indent="-9050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810440" indent="-90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810440" indent="-90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B2041-D7E1-4B3F-934B-E3CBB5664EF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cccc00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 subtitle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文本框 1"/>
          <p:cNvSpPr/>
          <p:nvPr/>
        </p:nvSpPr>
        <p:spPr>
          <a:xfrm>
            <a:off x="1576080" y="593640"/>
            <a:ext cx="60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国外卡通地图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47712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00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ints of inte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" name="组合 4105"/>
          <p:cNvGrpSpPr/>
          <p:nvPr/>
        </p:nvGrpSpPr>
        <p:grpSpPr>
          <a:xfrm>
            <a:off x="7315200" y="609480"/>
            <a:ext cx="1143000" cy="1143000"/>
            <a:chOff x="7315200" y="609480"/>
            <a:chExt cx="1143000" cy="1143000"/>
          </a:xfrm>
        </p:grpSpPr>
        <p:pic>
          <p:nvPicPr>
            <p:cNvPr id="131" name="图片 4103" descr="Z:\newtek\_backgrounds_1.02\Greg\PowerPoint Templates\Maps\Elements\globe_anim.gif"/>
            <p:cNvPicPr/>
            <p:nvPr/>
          </p:nvPicPr>
          <p:blipFill>
            <a:blip r:embed="rId1"/>
            <a:stretch/>
          </p:blipFill>
          <p:spPr>
            <a:xfrm>
              <a:off x="7315200" y="60948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矩形 4104"/>
            <p:cNvSpPr/>
            <p:nvPr/>
          </p:nvSpPr>
          <p:spPr>
            <a:xfrm>
              <a:off x="7315200" y="609480"/>
              <a:ext cx="1143000" cy="1143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table 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ints of inte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文本框 8199"/>
          <p:cNvSpPr/>
          <p:nvPr/>
        </p:nvSpPr>
        <p:spPr>
          <a:xfrm>
            <a:off x="2006640" y="2708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716AF-B5D9-4C50-B452-814C191F7ED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ition 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21:49:3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7:02Z</dcterms:modified>
  <cp:revision>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