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56D-26A7-406E-A7F0-4253CA8B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E25-D160-4DD4-878B-CD6DEDD6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108-402E-4C92-90EA-AC650015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E7B-9C0C-4127-AF72-32CA7EFB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CACB-2215-4D36-947D-AD7CD45C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A389-CE96-4A4C-8E98-11FEDC1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5101-6901-4A87-A887-07B6E42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8747-829A-4482-96A1-BBA0AC6B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A0B-185B-42B3-BD90-AA703431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2EDA-97A7-4197-A160-C29710E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C2CD-94A3-4BE6-8441-F386F97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A89-359A-4E67-853B-FAB60F5A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864-CAC7-4BAD-A8B8-EBF733E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5FD9-5806-4B63-B2D4-52E98478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5A55-4775-4A83-826F-C42547B8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57BE-3DFD-4197-B135-01FE26C8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FD4F-735C-4194-9390-FEDD938B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ABE5-F666-4697-B4B6-7B95D9A4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6290-43AB-47B3-A26B-0041111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7B4E-67B4-4BAD-9FBC-5D0C133D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24EA-EE28-460C-A5A1-3D0FF311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111A-E77A-45B1-8631-199130E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EFF-A0CE-409D-98A7-3022C386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10BD-0F9D-416D-A11B-00D4488D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8574-F628-446D-B5A5-63411639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EEFE-B99E-4B59-AFBD-AFB9478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73CD-6049-4880-A1F8-2FB87D9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D331-756C-43E3-9BDE-65D0555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19C3-ADBD-4D25-BB8E-1C1B63B7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D78A-2948-400C-B2BE-8F631C13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7B2-82F3-4503-90B9-8F946F01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A0A-4625-473B-97DA-26F1547D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30A-2D00-4F79-88CA-EE382E8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636-6D4D-4400-99B5-C9EDC26B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933-05E2-4745-AFBB-3947A83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CE6-9BEC-4930-BF24-EA81827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3d30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BC7-8E4C-4A59-920A-DA6159B5D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F90-DB46-4831-BD6C-B845352347A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AA4-D477-4E36-B87D-C9CBF71D7F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d302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3d302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2D9F-3AEA-4911-BFAE-35B95A3F6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66880" y="2743200"/>
            <a:ext cx="5562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A Traveler's Memo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880" y="4343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025"/>
                </a:solidFill>
                <a:latin typeface="Arial"/>
              </a:rPr>
              <a:t>your subtitle goes here</a:t>
            </a:r>
            <a:endParaRPr b="0" lang="en-US" sz="24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2374920" y="457200"/>
            <a:ext cx="55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卡通个人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Arial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30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025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3d3025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BBF-FA60-4052-BC76-2D6783D474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5:44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5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