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9.gif" ContentType="image/gif"/>
  <Override PartName="/ppt/media/image2.png" ContentType="image/png"/>
  <Override PartName="/ppt/media/image6.jpeg" ContentType="image/jpeg"/>
  <Override PartName="/ppt/media/image5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.jpeg" ContentType="image/jpeg"/>
  <Override PartName="/ppt/media/image1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724-3760-4AD5-96C1-D87F995C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352-1304-44C6-A4DD-50241A9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C67-85F2-4D04-978A-82AF4E6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2E9-C5B7-46B4-9C5A-663238EA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9B94-3733-46E5-BD08-618B609F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E08-6993-4E2B-B13B-C7C4D37F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827-7BF0-4FEA-8346-C4A2AE0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D444-4C7A-4420-8636-359A0CA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44D-3744-49D2-BE1E-D93188AD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F510-2B83-4831-B02F-ED34C17F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862F-8C9C-4A54-B004-18B9F67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11-2C6D-4EA8-A7E3-DD4F653A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A765-A0CF-4E0C-BD1B-5F4981E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1B20-2CC4-413A-AC55-25E610A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F48-F7AA-422D-9630-1045A96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205B-D08F-44B7-8630-81E25349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315-4377-4CAA-804D-B10E48C2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2FEA-D98B-432E-ADF5-F1C8231B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5778-6473-4DCF-BFB4-9A599D5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845C-5FC0-45D0-921A-D5C795C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E25E-8294-41F6-9F3B-E6078B5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C37B-70A0-4BBB-A695-78BDF0D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051-4994-4873-8D06-A30CA99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49CC-D6E4-48BD-9710-2F710FEA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6A39-E805-441C-A5AC-022E00B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FDC3-6DE7-4F9C-BD43-516D202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CF73-35CB-4825-AB9A-07E4293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E9CD-A178-4907-B9ED-FE35D264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70A8-2038-4F07-B92B-71210E2D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3D80-6E98-4750-8388-EAA17CB0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A02-F56E-4DFB-8940-BE9C9EB7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576-73F6-4A74-B4C6-CD0786C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835-BAD2-4E58-A453-65291F8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EA6-68F2-40D9-8592-BA7EF47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A5A-D09F-4448-AF3E-0914AEE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53E-092A-4F7F-BDCA-3C9DE27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CA0-1F18-4B1A-973E-3AE397FD4A50}" type="slidenum"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vine"/>
          <p:cNvPicPr/>
          <p:nvPr/>
        </p:nvPicPr>
        <p:blipFill>
          <a:blip r:embed="rId3"/>
          <a:stretch/>
        </p:blipFill>
        <p:spPr>
          <a:xfrm>
            <a:off x="0" y="0"/>
            <a:ext cx="2332080" cy="662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8AE-975C-4868-8382-817F57624A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51B8-7DFB-4236-BB91-39756F84C5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07C-0B81-4760-832D-D2F9E639790C}" type="slidenum"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image" Target="../media/image4.gif"/><Relationship Id="rId7" Type="http://schemas.openxmlformats.org/officeDocument/2006/relationships/image" Target="../media/image9.gif"/><Relationship Id="rId8" Type="http://schemas.openxmlformats.org/officeDocument/2006/relationships/image" Target="../media/image7.png"/><Relationship Id="rId9" Type="http://schemas.openxmlformats.org/officeDocument/2006/relationships/image" Target="../media/image12.gif"/><Relationship Id="rId10" Type="http://schemas.openxmlformats.org/officeDocument/2006/relationships/image" Target="../media/image5.gif"/><Relationship Id="rId11" Type="http://schemas.openxmlformats.org/officeDocument/2006/relationships/image" Target="../media/image13.gif"/><Relationship Id="rId12" Type="http://schemas.openxmlformats.org/officeDocument/2006/relationships/image" Target="../media/image14.gi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19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larendon Condensed"/>
              </a:rPr>
              <a:t>Jungle Lif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058" descr="jungle_girl_club_pulling_man_hg_clr"/>
          <p:cNvPicPr/>
          <p:nvPr/>
        </p:nvPicPr>
        <p:blipFill>
          <a:blip r:embed="rId1"/>
          <a:stretch/>
        </p:blipFill>
        <p:spPr>
          <a:xfrm>
            <a:off x="2666880" y="304920"/>
            <a:ext cx="3535560" cy="38862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1874520" y="228600"/>
            <a:ext cx="56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卡通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066320"/>
            <a:ext cx="377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内容占位符 15384" descr="jungle_man_riding_elephant_hg_clr"/>
          <p:cNvPicPr/>
          <p:nvPr/>
        </p:nvPicPr>
        <p:blipFill>
          <a:blip r:embed="rId1"/>
          <a:stretch/>
        </p:blipFill>
        <p:spPr>
          <a:xfrm>
            <a:off x="7140600" y="4543560"/>
            <a:ext cx="2003400" cy="231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8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larendon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itio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3493" descr="jungle_life"/>
          <p:cNvPicPr/>
          <p:nvPr/>
        </p:nvPicPr>
        <p:blipFill>
          <a:blip r:embed="rId2"/>
          <a:stretch/>
        </p:blipFill>
        <p:spPr>
          <a:xfrm>
            <a:off x="2362320" y="538200"/>
            <a:ext cx="4952880" cy="4871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560" y="1066320"/>
            <a:ext cx="377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内容占位符 62467" descr="jungle_girl_vacuum_leopard_skin_hg_clr"/>
          <p:cNvPicPr/>
          <p:nvPr/>
        </p:nvPicPr>
        <p:blipFill>
          <a:blip r:embed="rId2"/>
          <a:stretch/>
        </p:blipFill>
        <p:spPr>
          <a:xfrm>
            <a:off x="7229520" y="5025960"/>
            <a:ext cx="1914480" cy="183204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04E-C66F-42DA-956F-00D917FC1F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9562" descr="jungle_life_sld"/>
          <p:cNvPicPr/>
          <p:nvPr/>
        </p:nvPicPr>
        <p:blipFill>
          <a:blip r:embed="rId1"/>
          <a:stretch/>
        </p:blipFill>
        <p:spPr>
          <a:xfrm>
            <a:off x="12193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9563" descr="jungle_life_trs"/>
          <p:cNvPicPr/>
          <p:nvPr/>
        </p:nvPicPr>
        <p:blipFill>
          <a:blip r:embed="rId2"/>
          <a:stretch/>
        </p:blipFill>
        <p:spPr>
          <a:xfrm>
            <a:off x="51055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9564" descr="jungle_life_prt"/>
          <p:cNvPicPr/>
          <p:nvPr/>
        </p:nvPicPr>
        <p:blipFill>
          <a:blip r:embed="rId3"/>
          <a:stretch/>
        </p:blipFill>
        <p:spPr>
          <a:xfrm>
            <a:off x="1219320" y="1600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9565" descr="jungle_life_qx"/>
          <p:cNvPicPr/>
          <p:nvPr/>
        </p:nvPicPr>
        <p:blipFill>
          <a:blip r:embed="rId4"/>
          <a:stretch/>
        </p:blipFill>
        <p:spPr>
          <a:xfrm>
            <a:off x="5105520" y="1600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019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larendon Condensed"/>
              </a:rPr>
              <a:t>Ele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图片 19553" descr="bellow"/>
          <p:cNvPicPr/>
          <p:nvPr/>
        </p:nvPicPr>
        <p:blipFill>
          <a:blip r:embed="rId5"/>
          <a:stretch/>
        </p:blipFill>
        <p:spPr>
          <a:xfrm>
            <a:off x="2514600" y="0"/>
            <a:ext cx="2174760" cy="4191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9554" descr="jungle_girl_club_pulling_man_hg_clr"/>
          <p:cNvPicPr/>
          <p:nvPr/>
        </p:nvPicPr>
        <p:blipFill>
          <a:blip r:embed="rId6"/>
          <a:stretch/>
        </p:blipFill>
        <p:spPr>
          <a:xfrm>
            <a:off x="4495680" y="5334120"/>
            <a:ext cx="13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9555" descr="jungle_girl_vacuum_leopard_skin_hg_clr"/>
          <p:cNvPicPr/>
          <p:nvPr/>
        </p:nvPicPr>
        <p:blipFill>
          <a:blip r:embed="rId7"/>
          <a:stretch/>
        </p:blipFill>
        <p:spPr>
          <a:xfrm>
            <a:off x="6629400" y="44197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9556" descr="jungle_life"/>
          <p:cNvPicPr/>
          <p:nvPr/>
        </p:nvPicPr>
        <p:blipFill>
          <a:blip r:embed="rId8"/>
          <a:stretch/>
        </p:blipFill>
        <p:spPr>
          <a:xfrm>
            <a:off x="4705200" y="0"/>
            <a:ext cx="4438800" cy="4367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9557" descr="jungle_man_pound_chest_yell_hg_clr"/>
          <p:cNvPicPr/>
          <p:nvPr/>
        </p:nvPicPr>
        <p:blipFill>
          <a:blip r:embed="rId9"/>
          <a:stretch/>
        </p:blipFill>
        <p:spPr>
          <a:xfrm>
            <a:off x="3352680" y="5334120"/>
            <a:ext cx="1336680" cy="1523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9558" descr="jungle_man_riding_elephant_hg_clr"/>
          <p:cNvPicPr/>
          <p:nvPr/>
        </p:nvPicPr>
        <p:blipFill>
          <a:blip r:embed="rId10"/>
          <a:stretch/>
        </p:blipFill>
        <p:spPr>
          <a:xfrm>
            <a:off x="1828800" y="53341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559" descr="jungle_man_vacuum_leopard_skin_hg_clr"/>
          <p:cNvPicPr/>
          <p:nvPr/>
        </p:nvPicPr>
        <p:blipFill>
          <a:blip r:embed="rId11"/>
          <a:stretch/>
        </p:blipFill>
        <p:spPr>
          <a:xfrm>
            <a:off x="7620120" y="54007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9560" descr="jungle_man_vine_swinging_hg_clr"/>
          <p:cNvPicPr/>
          <p:nvPr/>
        </p:nvPicPr>
        <p:blipFill>
          <a:blip r:embed="rId12"/>
          <a:stretch/>
        </p:blipFill>
        <p:spPr>
          <a:xfrm>
            <a:off x="5867280" y="5334120"/>
            <a:ext cx="117180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9561" descr="vine"/>
          <p:cNvPicPr/>
          <p:nvPr/>
        </p:nvPicPr>
        <p:blipFill>
          <a:blip r:embed="rId13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0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