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80B-C820-44E7-AA99-91C7042E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413064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40B-18AC-4C96-8378-60E46A19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884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0AB0-EDA0-4C70-AC4E-56E9F733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3608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2040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3608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2040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CDB-15CC-433A-8B10-C2C92FB1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8397-AE19-453D-A168-B7A164FE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888A-A757-4076-8E75-786E7475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A41F-AE8D-4AA7-8129-74987F3A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EACC-45AE-4D38-8E6E-3FB132F7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6831-7F74-487A-ADB9-91836CF8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609120"/>
            <a:ext cx="495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1DFB-1E47-4B22-91E0-92CF6AC0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0BB8-6D80-455C-91BE-E5E61763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8E1-249D-4DF4-8E26-0A1E6784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884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95CE-7342-4E2D-9316-55383BDF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BCC9-A2A7-4F4F-B30A-F0CFE286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413064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653C-8BA4-4793-8342-1AB27DDE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884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ED99-4F2A-42A6-98B0-427A90E8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3608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2040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3608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2040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5ADD-E2D3-48BD-AA37-C9167F1F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4A0BC-CBA2-4B17-AD1D-6B73681C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604D4-7106-4248-89FD-75627161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62015-D515-4868-BE66-F8B6F85D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29EA4-8514-486E-A926-F66CFD2B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5122B-F38A-48C6-B3EF-2A5CF707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6CF-34DD-4B07-9404-1C441A6F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120" y="609120"/>
            <a:ext cx="495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02EA8-1A61-4BB2-B64B-E293DE1D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346E0-12CD-4F1D-820F-6C55A3D9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5884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C46FD-0666-44DA-9ACF-6FB72D07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7244B-CBA0-442C-B22C-95866880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52120" y="413064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D9106-CEAA-4AF8-876D-F01E6DF7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5884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DFA3-0196-476B-8348-4673E291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3608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2040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5212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3608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2040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62818-5F99-4CA8-BD51-CDFC7D35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FBD-5007-452C-8643-A3F5C83D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B8F-B25E-4A26-A800-4CD8AE06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609120"/>
            <a:ext cx="495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E7A1-629E-480B-946E-CE3C9D17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CC0D-9EFE-44E6-8DBC-CA0C08FF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884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757-CC8D-45E4-8AA4-5F1DF13B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D90-6B15-42F5-9D69-F23C779E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40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13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20400" indent="-40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7560" indent="-813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7560" indent="-813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7560" indent="-813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2D55-98BF-48E8-8ECD-649A4D1C4E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2845-B40E-4104-911B-F085E0E8F8F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FE21-D2E5-4E7A-9B7E-B629799082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40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13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20400" indent="-40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7560" indent="-813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7560" indent="-813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7560" indent="-813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90AE-F1F5-4AF9-8CE6-D780EE40D2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599840" y="388620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Presentatio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449568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omic Sans MS"/>
              </a:rPr>
              <a:t>POP</a:t>
            </a:r>
            <a:br>
              <a:rPr sz="6000"/>
            </a:br>
            <a:r>
              <a:rPr b="1" i="1" lang="en-US" sz="6000" spc="-1" strike="noStrike">
                <a:solidFill>
                  <a:srgbClr val="000000"/>
                </a:solidFill>
                <a:latin typeface="Comic Sans MS"/>
              </a:rPr>
              <a:t>QUIZ</a:t>
            </a:r>
            <a:endParaRPr b="1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901440" y="233280"/>
            <a:ext cx="60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外卡通人物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Your Main Poin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our Sub Poin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our Sub Poin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2502000" y="5545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9657-9793-48AC-B945-05615067A3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6145"/>
          <p:cNvSpPr/>
          <p:nvPr/>
        </p:nvSpPr>
        <p:spPr>
          <a:xfrm>
            <a:off x="228600" y="2209680"/>
            <a:ext cx="487692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i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22:35:1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7:01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