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AC6-3D30-4927-B5BE-7537D7E3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1CD-5D22-4316-80F7-7C4DC000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33F-8524-4DCA-BA11-B0932785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BAB-42CD-46DA-947D-14F170C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6D2-AFEF-4CE3-B84B-4C2209BB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141-7D9C-4133-917D-214D5A09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A0E-13C9-4F2B-A633-9C035F6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CEF-8188-4295-8F5D-5E056AE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CE5-3409-4B81-A98B-5653272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37D-6DA0-4FAD-952F-4C3B1831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903-5DFC-4F60-B322-E75FC546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EBE-6249-4E5B-AC60-1B8DA3B2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228600" indent="22860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455760" indent="1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684360" indent="-22716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025640" indent="-568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FB2D4-B1C2-47B4-BA96-13F23083DC46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228600" indent="22860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455760" indent="1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684360" indent="-22716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025640" indent="-56844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025640" indent="-56844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38790-5CBD-4535-8A43-44A4774358E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E2CC5-2E9D-4864-BD08-7D1E7EB912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174600" y="5452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666666"/>
                </a:solidFill>
                <a:latin typeface="Arial"/>
              </a:rPr>
              <a:t>国外蓝色工作幻灯片免费下载</a:t>
            </a:r>
            <a:endParaRPr b="1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044800" y="1566720"/>
            <a:ext cx="288720" cy="360"/>
            <a:chOff x="2044800" y="1566720"/>
            <a:chExt cx="288720" cy="360"/>
          </a:xfrm>
        </p:grpSpPr>
        <p:sp>
          <p:nvSpPr>
            <p:cNvPr id="261" name="Line 38"/>
            <p:cNvSpPr/>
            <p:nvPr/>
          </p:nvSpPr>
          <p:spPr>
            <a:xfrm>
              <a:off x="2044800" y="156672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044800" y="15667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710400" y="4241520"/>
            <a:ext cx="288720" cy="360"/>
            <a:chOff x="6710400" y="4241520"/>
            <a:chExt cx="288720" cy="360"/>
          </a:xfrm>
        </p:grpSpPr>
        <p:sp>
          <p:nvSpPr>
            <p:cNvPr id="264" name="Line 39"/>
            <p:cNvSpPr/>
            <p:nvPr/>
          </p:nvSpPr>
          <p:spPr>
            <a:xfrm flipH="1">
              <a:off x="6710400" y="42418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6710400" y="42415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786720" y="247320"/>
            <a:ext cx="288720" cy="360"/>
            <a:chOff x="6786720" y="247320"/>
            <a:chExt cx="288720" cy="360"/>
          </a:xfrm>
        </p:grpSpPr>
        <p:sp>
          <p:nvSpPr>
            <p:cNvPr id="269" name="Line 39"/>
            <p:cNvSpPr/>
            <p:nvPr/>
          </p:nvSpPr>
          <p:spPr>
            <a:xfrm flipH="1">
              <a:off x="6786720" y="2476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6786720" y="2473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1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19400" y="2918880"/>
            <a:ext cx="289080" cy="360"/>
            <a:chOff x="6719400" y="2918880"/>
            <a:chExt cx="289080" cy="360"/>
          </a:xfrm>
        </p:grpSpPr>
        <p:sp>
          <p:nvSpPr>
            <p:cNvPr id="274" name="Line 39"/>
            <p:cNvSpPr/>
            <p:nvPr/>
          </p:nvSpPr>
          <p:spPr>
            <a:xfrm flipH="1">
              <a:off x="6719400" y="29192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10800000">
              <a:off x="6719400" y="291888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6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13640" y="4960440"/>
            <a:ext cx="288720" cy="360"/>
            <a:chOff x="6713640" y="4960440"/>
            <a:chExt cx="288720" cy="360"/>
          </a:xfrm>
        </p:grpSpPr>
        <p:sp>
          <p:nvSpPr>
            <p:cNvPr id="279" name="Line 39"/>
            <p:cNvSpPr/>
            <p:nvPr/>
          </p:nvSpPr>
          <p:spPr>
            <a:xfrm flipH="1">
              <a:off x="6713640" y="496080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6713640" y="496044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81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716880" y="5981400"/>
            <a:ext cx="288720" cy="360"/>
            <a:chOff x="6716880" y="5981400"/>
            <a:chExt cx="288720" cy="360"/>
          </a:xfrm>
        </p:grpSpPr>
        <p:sp>
          <p:nvSpPr>
            <p:cNvPr id="284" name="Line 39"/>
            <p:cNvSpPr/>
            <p:nvPr/>
          </p:nvSpPr>
          <p:spPr>
            <a:xfrm flipH="1">
              <a:off x="6716880" y="598176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6716880" y="598140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86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713640" y="1660320"/>
            <a:ext cx="288720" cy="360"/>
            <a:chOff x="6713640" y="1660320"/>
            <a:chExt cx="288720" cy="360"/>
          </a:xfrm>
        </p:grpSpPr>
        <p:sp>
          <p:nvSpPr>
            <p:cNvPr id="289" name="Line 39"/>
            <p:cNvSpPr/>
            <p:nvPr/>
          </p:nvSpPr>
          <p:spPr>
            <a:xfrm flipH="1">
              <a:off x="6713640" y="16606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6713640" y="166032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91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20920" y="2514600"/>
            <a:ext cx="289080" cy="360"/>
            <a:chOff x="2320920" y="2514600"/>
            <a:chExt cx="289080" cy="360"/>
          </a:xfrm>
        </p:grpSpPr>
        <p:sp>
          <p:nvSpPr>
            <p:cNvPr id="299" name="Line 38"/>
            <p:cNvSpPr/>
            <p:nvPr/>
          </p:nvSpPr>
          <p:spPr>
            <a:xfrm>
              <a:off x="2320920" y="251460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2320920" y="251460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762160" y="1701360"/>
            <a:ext cx="289080" cy="360"/>
            <a:chOff x="5762160" y="1701360"/>
            <a:chExt cx="289080" cy="360"/>
          </a:xfrm>
        </p:grpSpPr>
        <p:sp>
          <p:nvSpPr>
            <p:cNvPr id="302" name="Line 39"/>
            <p:cNvSpPr/>
            <p:nvPr/>
          </p:nvSpPr>
          <p:spPr>
            <a:xfrm flipH="1">
              <a:off x="5762160" y="170172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10800000">
              <a:off x="5762160" y="170136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04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757560" y="199800"/>
            <a:ext cx="289080" cy="360"/>
            <a:chOff x="6757560" y="199800"/>
            <a:chExt cx="289080" cy="360"/>
          </a:xfrm>
        </p:grpSpPr>
        <p:sp>
          <p:nvSpPr>
            <p:cNvPr id="307" name="Line 39"/>
            <p:cNvSpPr/>
            <p:nvPr/>
          </p:nvSpPr>
          <p:spPr>
            <a:xfrm flipH="1">
              <a:off x="6757560" y="20016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0800000">
              <a:off x="6757560" y="19980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09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251320" y="348480"/>
            <a:ext cx="7920" cy="389880"/>
            <a:chOff x="5251320" y="348480"/>
            <a:chExt cx="7920" cy="389880"/>
          </a:xfrm>
        </p:grpSpPr>
        <p:sp>
          <p:nvSpPr>
            <p:cNvPr id="312" name="Line 39"/>
            <p:cNvSpPr/>
            <p:nvPr/>
          </p:nvSpPr>
          <p:spPr>
            <a:xfrm>
              <a:off x="5251320" y="348480"/>
              <a:ext cx="7920" cy="38916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251320" y="349200"/>
              <a:ext cx="7920" cy="38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4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68640" y="3126960"/>
            <a:ext cx="289080" cy="360"/>
            <a:chOff x="5768640" y="3126960"/>
            <a:chExt cx="289080" cy="360"/>
          </a:xfrm>
        </p:grpSpPr>
        <p:sp>
          <p:nvSpPr>
            <p:cNvPr id="317" name="Line 39"/>
            <p:cNvSpPr/>
            <p:nvPr/>
          </p:nvSpPr>
          <p:spPr>
            <a:xfrm flipH="1">
              <a:off x="5768640" y="312732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 rot="10800000">
              <a:off x="5768640" y="312696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9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772240" y="4893840"/>
            <a:ext cx="288720" cy="360"/>
            <a:chOff x="5772240" y="4893840"/>
            <a:chExt cx="288720" cy="360"/>
          </a:xfrm>
        </p:grpSpPr>
        <p:sp>
          <p:nvSpPr>
            <p:cNvPr id="322" name="Line 39"/>
            <p:cNvSpPr/>
            <p:nvPr/>
          </p:nvSpPr>
          <p:spPr>
            <a:xfrm flipH="1">
              <a:off x="5772240" y="489420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 rot="10800000">
              <a:off x="5772240" y="489384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4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684480" y="955440"/>
            <a:ext cx="289080" cy="360"/>
            <a:chOff x="6684480" y="955440"/>
            <a:chExt cx="289080" cy="360"/>
          </a:xfrm>
        </p:grpSpPr>
        <p:sp>
          <p:nvSpPr>
            <p:cNvPr id="327" name="Line 39"/>
            <p:cNvSpPr/>
            <p:nvPr/>
          </p:nvSpPr>
          <p:spPr>
            <a:xfrm flipH="1">
              <a:off x="6684480" y="95580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 rot="10800000">
              <a:off x="6684480" y="9554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9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039760" y="3606840"/>
            <a:ext cx="289080" cy="360"/>
            <a:chOff x="2039760" y="3606840"/>
            <a:chExt cx="289080" cy="360"/>
          </a:xfrm>
        </p:grpSpPr>
        <p:sp>
          <p:nvSpPr>
            <p:cNvPr id="332" name="Line 38"/>
            <p:cNvSpPr/>
            <p:nvPr/>
          </p:nvSpPr>
          <p:spPr>
            <a:xfrm>
              <a:off x="2039760" y="36068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2039760" y="36068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4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021040" y="4645080"/>
            <a:ext cx="288720" cy="360"/>
            <a:chOff x="2021040" y="4645080"/>
            <a:chExt cx="288720" cy="360"/>
          </a:xfrm>
        </p:grpSpPr>
        <p:sp>
          <p:nvSpPr>
            <p:cNvPr id="337" name="Line 38"/>
            <p:cNvSpPr/>
            <p:nvPr/>
          </p:nvSpPr>
          <p:spPr>
            <a:xfrm>
              <a:off x="2021040" y="464508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021040" y="464508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9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689080" y="888480"/>
            <a:ext cx="289080" cy="360"/>
            <a:chOff x="5689080" y="888480"/>
            <a:chExt cx="289080" cy="360"/>
          </a:xfrm>
        </p:grpSpPr>
        <p:sp>
          <p:nvSpPr>
            <p:cNvPr id="344" name="Line 39"/>
            <p:cNvSpPr/>
            <p:nvPr/>
          </p:nvSpPr>
          <p:spPr>
            <a:xfrm flipH="1">
              <a:off x="5689080" y="8888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10800000">
              <a:off x="5689080" y="88848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46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08160" y="2784240"/>
            <a:ext cx="289080" cy="360"/>
            <a:chOff x="5708160" y="2784240"/>
            <a:chExt cx="289080" cy="360"/>
          </a:xfrm>
        </p:grpSpPr>
        <p:sp>
          <p:nvSpPr>
            <p:cNvPr id="349" name="Line 39"/>
            <p:cNvSpPr/>
            <p:nvPr/>
          </p:nvSpPr>
          <p:spPr>
            <a:xfrm flipH="1">
              <a:off x="5708160" y="278460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5708160" y="27842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1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023920" y="1886040"/>
            <a:ext cx="289080" cy="360"/>
            <a:chOff x="2023920" y="1886040"/>
            <a:chExt cx="289080" cy="360"/>
          </a:xfrm>
        </p:grpSpPr>
        <p:sp>
          <p:nvSpPr>
            <p:cNvPr id="354" name="Line 38"/>
            <p:cNvSpPr/>
            <p:nvPr/>
          </p:nvSpPr>
          <p:spPr>
            <a:xfrm>
              <a:off x="2023920" y="188604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2023920" y="188604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31840" y="4376880"/>
            <a:ext cx="289080" cy="360"/>
            <a:chOff x="2031840" y="4376880"/>
            <a:chExt cx="289080" cy="360"/>
          </a:xfrm>
        </p:grpSpPr>
        <p:sp>
          <p:nvSpPr>
            <p:cNvPr id="359" name="Line 38"/>
            <p:cNvSpPr/>
            <p:nvPr/>
          </p:nvSpPr>
          <p:spPr>
            <a:xfrm>
              <a:off x="2031840" y="4376880"/>
              <a:ext cx="28908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031840" y="4376880"/>
              <a:ext cx="2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1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文本框 8200"/>
          <p:cNvSpPr/>
          <p:nvPr/>
        </p:nvSpPr>
        <p:spPr>
          <a:xfrm>
            <a:off x="2031840" y="57657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453440" y="1423800"/>
            <a:ext cx="288720" cy="360"/>
            <a:chOff x="7453440" y="1423800"/>
            <a:chExt cx="288720" cy="360"/>
          </a:xfrm>
        </p:grpSpPr>
        <p:sp>
          <p:nvSpPr>
            <p:cNvPr id="367" name="Line 39"/>
            <p:cNvSpPr/>
            <p:nvPr/>
          </p:nvSpPr>
          <p:spPr>
            <a:xfrm flipH="1">
              <a:off x="7453440" y="1424160"/>
              <a:ext cx="288720" cy="0"/>
            </a:xfrm>
            <a:prstGeom prst="line">
              <a:avLst/>
            </a:prstGeom>
            <a:ln cap="rnd" w="0">
              <a:solidFill>
                <a:srgbClr val="99ccff"/>
              </a:solidFill>
              <a:custDash>
                <a:ds d="100000" sp="1000"/>
              </a:custDash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 rot="10800000">
              <a:off x="7453440" y="1423800"/>
              <a:ext cx="28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9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95841-9356-4077-A832-28106519D75D}" type="slidenum"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43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04880" y="3932280"/>
            <a:ext cx="1376280" cy="627120"/>
            <a:chOff x="2504880" y="3932280"/>
            <a:chExt cx="1376280" cy="627120"/>
          </a:xfrm>
        </p:grpSpPr>
        <p:sp>
          <p:nvSpPr>
            <p:cNvPr id="148" name="Line 22"/>
            <p:cNvSpPr/>
            <p:nvPr/>
          </p:nvSpPr>
          <p:spPr>
            <a:xfrm flipH="1" flipV="1">
              <a:off x="2504880" y="3932280"/>
              <a:ext cx="1376280" cy="6271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 rot="10800000">
              <a:off x="2504880" y="3932280"/>
              <a:ext cx="1376280" cy="6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50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743280" y="3467160"/>
            <a:ext cx="349200" cy="627120"/>
            <a:chOff x="3743280" y="3467160"/>
            <a:chExt cx="349200" cy="627120"/>
          </a:xfrm>
        </p:grpSpPr>
        <p:sp>
          <p:nvSpPr>
            <p:cNvPr id="155" name="Line 27"/>
            <p:cNvSpPr/>
            <p:nvPr/>
          </p:nvSpPr>
          <p:spPr>
            <a:xfrm flipH="1" flipV="1">
              <a:off x="3743280" y="3467160"/>
              <a:ext cx="349200" cy="6271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3743280" y="3467160"/>
              <a:ext cx="349200" cy="6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990680" y="3433680"/>
            <a:ext cx="375120" cy="627120"/>
            <a:chOff x="4990680" y="3433680"/>
            <a:chExt cx="375120" cy="627120"/>
          </a:xfrm>
        </p:grpSpPr>
        <p:sp>
          <p:nvSpPr>
            <p:cNvPr id="158" name="Line 28"/>
            <p:cNvSpPr/>
            <p:nvPr/>
          </p:nvSpPr>
          <p:spPr>
            <a:xfrm flipV="1">
              <a:off x="4991040" y="3433680"/>
              <a:ext cx="374760" cy="6271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 rot="10800000">
              <a:off x="4990680" y="3433680"/>
              <a:ext cx="374760" cy="6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43040" y="3868560"/>
            <a:ext cx="1134000" cy="689040"/>
            <a:chOff x="5243040" y="3868560"/>
            <a:chExt cx="1134000" cy="689040"/>
          </a:xfrm>
        </p:grpSpPr>
        <p:sp>
          <p:nvSpPr>
            <p:cNvPr id="161" name="Line 29"/>
            <p:cNvSpPr/>
            <p:nvPr/>
          </p:nvSpPr>
          <p:spPr>
            <a:xfrm flipV="1">
              <a:off x="5243400" y="3868560"/>
              <a:ext cx="1133640" cy="68904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5243040" y="3868560"/>
              <a:ext cx="1133640" cy="68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3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5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786040" y="3870360"/>
            <a:ext cx="2859120" cy="560520"/>
            <a:chOff x="2786040" y="3870360"/>
            <a:chExt cx="2859120" cy="560520"/>
          </a:xfrm>
        </p:grpSpPr>
        <p:sp>
          <p:nvSpPr>
            <p:cNvPr id="170" name="Line 15"/>
            <p:cNvSpPr/>
            <p:nvPr/>
          </p:nvSpPr>
          <p:spPr>
            <a:xfrm>
              <a:off x="2786040" y="3870360"/>
              <a:ext cx="2859120" cy="5605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786040" y="3870360"/>
              <a:ext cx="2859120" cy="5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08360" y="4808160"/>
            <a:ext cx="2836800" cy="576360"/>
            <a:chOff x="2808360" y="4808160"/>
            <a:chExt cx="2836800" cy="576360"/>
          </a:xfrm>
        </p:grpSpPr>
        <p:sp>
          <p:nvSpPr>
            <p:cNvPr id="173" name="Line 16"/>
            <p:cNvSpPr/>
            <p:nvPr/>
          </p:nvSpPr>
          <p:spPr>
            <a:xfrm flipV="1">
              <a:off x="2808360" y="4808160"/>
              <a:ext cx="2836800" cy="57636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10800000">
              <a:off x="2808360" y="4808160"/>
              <a:ext cx="28368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322000" y="2708280"/>
            <a:ext cx="1016640" cy="766800"/>
            <a:chOff x="2322000" y="2708280"/>
            <a:chExt cx="1016640" cy="766800"/>
          </a:xfrm>
        </p:grpSpPr>
        <p:sp>
          <p:nvSpPr>
            <p:cNvPr id="185" name="Line 21"/>
            <p:cNvSpPr/>
            <p:nvPr/>
          </p:nvSpPr>
          <p:spPr>
            <a:xfrm flipV="1">
              <a:off x="2322360" y="2708280"/>
              <a:ext cx="1016280" cy="76680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2322000" y="2708280"/>
              <a:ext cx="1016280" cy="76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52240" y="3836520"/>
            <a:ext cx="986400" cy="360"/>
            <a:chOff x="2352240" y="3836520"/>
            <a:chExt cx="986400" cy="360"/>
          </a:xfrm>
        </p:grpSpPr>
        <p:sp>
          <p:nvSpPr>
            <p:cNvPr id="188" name="Line 22"/>
            <p:cNvSpPr/>
            <p:nvPr/>
          </p:nvSpPr>
          <p:spPr>
            <a:xfrm>
              <a:off x="2352600" y="3836880"/>
              <a:ext cx="986040" cy="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2352240" y="3836520"/>
              <a:ext cx="986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319480" y="4149720"/>
            <a:ext cx="1019160" cy="965160"/>
            <a:chOff x="2319480" y="4149720"/>
            <a:chExt cx="1019160" cy="965160"/>
          </a:xfrm>
        </p:grpSpPr>
        <p:sp>
          <p:nvSpPr>
            <p:cNvPr id="191" name="Line 23"/>
            <p:cNvSpPr/>
            <p:nvPr/>
          </p:nvSpPr>
          <p:spPr>
            <a:xfrm>
              <a:off x="2319480" y="4149720"/>
              <a:ext cx="1019160" cy="96516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319480" y="4149720"/>
              <a:ext cx="1019160" cy="9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3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4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9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229360" y="3448080"/>
            <a:ext cx="955440" cy="906480"/>
            <a:chOff x="5229360" y="3448080"/>
            <a:chExt cx="955440" cy="906480"/>
          </a:xfrm>
        </p:grpSpPr>
        <p:sp>
          <p:nvSpPr>
            <p:cNvPr id="203" name="Line 10"/>
            <p:cNvSpPr/>
            <p:nvPr/>
          </p:nvSpPr>
          <p:spPr>
            <a:xfrm>
              <a:off x="5229360" y="3448080"/>
              <a:ext cx="955440" cy="90648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229360" y="3448080"/>
              <a:ext cx="95544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592520" y="3514680"/>
            <a:ext cx="360" cy="1084320"/>
            <a:chOff x="4592520" y="3514680"/>
            <a:chExt cx="360" cy="1084320"/>
          </a:xfrm>
        </p:grpSpPr>
        <p:sp>
          <p:nvSpPr>
            <p:cNvPr id="206" name="Line 11"/>
            <p:cNvSpPr/>
            <p:nvPr/>
          </p:nvSpPr>
          <p:spPr>
            <a:xfrm>
              <a:off x="4592520" y="3514680"/>
              <a:ext cx="0" cy="108432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4592520" y="3514680"/>
              <a:ext cx="360" cy="10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709720" y="3459240"/>
            <a:ext cx="1090800" cy="900000"/>
            <a:chOff x="2709720" y="3459240"/>
            <a:chExt cx="1090800" cy="900000"/>
          </a:xfrm>
        </p:grpSpPr>
        <p:sp>
          <p:nvSpPr>
            <p:cNvPr id="209" name="Line 12"/>
            <p:cNvSpPr/>
            <p:nvPr/>
          </p:nvSpPr>
          <p:spPr>
            <a:xfrm flipH="1">
              <a:off x="2709720" y="3459240"/>
              <a:ext cx="1090800" cy="90000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709720" y="3459240"/>
              <a:ext cx="109080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1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7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9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1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9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23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774880" y="3722400"/>
            <a:ext cx="1085760" cy="1114200"/>
            <a:chOff x="2774880" y="3722400"/>
            <a:chExt cx="1085760" cy="1114200"/>
          </a:xfrm>
        </p:grpSpPr>
        <p:sp>
          <p:nvSpPr>
            <p:cNvPr id="235" name="Line 15"/>
            <p:cNvSpPr/>
            <p:nvPr/>
          </p:nvSpPr>
          <p:spPr>
            <a:xfrm flipH="1" flipV="1">
              <a:off x="2774880" y="3722400"/>
              <a:ext cx="1085760" cy="111420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2774880" y="3722400"/>
              <a:ext cx="108576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43480" y="3722400"/>
            <a:ext cx="1076400" cy="1119240"/>
            <a:chOff x="5343480" y="3722400"/>
            <a:chExt cx="1076400" cy="1119240"/>
          </a:xfrm>
        </p:grpSpPr>
        <p:sp>
          <p:nvSpPr>
            <p:cNvPr id="238" name="Line 17"/>
            <p:cNvSpPr/>
            <p:nvPr/>
          </p:nvSpPr>
          <p:spPr>
            <a:xfrm flipV="1">
              <a:off x="5343480" y="3722400"/>
              <a:ext cx="1076400" cy="1119240"/>
            </a:xfrm>
            <a:prstGeom prst="line">
              <a:avLst/>
            </a:prstGeom>
            <a:ln w="76320">
              <a:solidFill>
                <a:srgbClr val="00aee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5343480" y="3722400"/>
              <a:ext cx="1076400" cy="111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4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6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1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8:40Z</dcterms:modified>
  <cp:revision>14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