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BDF9-F20F-49F3-B168-722E6F62F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38C5-7890-4662-A136-ACAE43550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0BF3-1AC2-4EEA-BD19-22C6863B5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9EED-ABBA-47BD-AB95-4B12039E3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CF54C-478C-4F5B-87E4-81FE0F59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365A-9E7C-4986-928B-DFD6CBE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E684-6DC4-4820-BB0F-CF05DC9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2F76F-A009-42D1-8A73-01F45BF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9354-7402-43E2-BA05-B50464C9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5FEF2-9792-45D2-8ED8-C335069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E754C-D1C0-4778-B87D-67A3621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3AEE-B8C8-4A76-8F27-1E12F9D4F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10B2F-60EE-498A-9F89-B75171F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8E3B2-67AF-48EF-8AEA-B6C482E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A3BAD-1AFF-408A-BCD1-3CE15E91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06352-13E4-49F8-BDBA-F74A963C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08CA5-7738-4D14-85D5-C0471890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4AFF9-ED18-4244-8EBB-B75D13FCE3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DAE23-5DAF-4240-A106-96E21D7023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E5621-012E-45BC-B12D-6203E073B6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5357-7899-4073-A354-4263FB974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7CDD9-2031-4B60-95ED-E349ED329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E3BC-7A0E-4F57-9C09-F3C06C262A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89F4-41A8-49FD-BAA4-ED1E2CDC64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82D8D-ED70-4D49-8D1C-055E4D1737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CFAA-7FF0-450C-B34C-C8E5ED5031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53D76-F4A9-474A-8543-18E52827C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D0C4-6292-411E-94CB-BD48BE6C2C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08FEB-DBD9-44B1-9282-30BFDDFC2E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198C5-9526-41A6-815E-C3CE0A3DF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EB08-6CC5-4736-90D2-8F4129BB4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1A5B-F81D-4CD1-A4DA-6A9647B16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A14F-C5A2-4E4F-B642-10F592629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257C-2190-4ED1-B11D-FC8E752AD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E4A6-D331-4866-A295-AEDF35120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5F03-AF55-4A6E-98C1-764994FBF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verisign format lt v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6488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E39B-65A8-4EC6-A779-DC462AFFFF4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069D-86C1-4D1D-A2C0-472972731E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4E9-5011-41FE-A84C-6F5FCFE0C5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verisign title lt v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58392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EFA-9DE8-4E3D-8E38-D84D8E803987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8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citibank.com/domain/redirect/logo/citi.htm?BVE=http://web.da-us.citibank.com&amp;BVP=/cgi-bin/citifi/scripts/&amp;BV_UseBVCookie=no&amp;US&amp;_u=visitor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www.intel.com/index.htm?iid=Homepage+Header_Intel_logo&amp;" TargetMode="External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58428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F1D-6E1E-4073-A4FA-5C163665A6A2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Digital Brand Management Servic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March, 2003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1141560" y="63356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8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477880" y="279252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国外企业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PPT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模板免费下载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5502-457A-43D4-AC08-4CB124A83A43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Research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41320" y="2062080"/>
            <a:ext cx="8077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Search on Domains – gTLDs / cCTLDs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Trade Marks, Service Marks, Brands, Domains, Slogans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egistrant Search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Brand Presence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Home Page Content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BD7F-DD5D-4617-9058-75FB2EC93F5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nline Brand Analysis Repor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scover Hong Ko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656240" y="3900600"/>
            <a:ext cx="4487760" cy="26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arch Mechanism: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awling 40 million+ registered domains and 20 million+  home pages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arch each domain and  analyze the content of the sites to determine if the site conducting eCommerce, contain objectionable content, site alive, etc…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nitor if the brand name appears in either the domain, site title, meta tags, text/ link/ logo on the home page for each of the sites.  If there is a hit, one count is recorded for that specific category (i.e. porn, hate, gambling, ....)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are highly relevant information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201080" y="711360"/>
            <a:ext cx="1612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.. May 22, 2003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0" y="1160640"/>
            <a:ext cx="4648320" cy="2720880"/>
            <a:chOff x="0" y="1160640"/>
            <a:chExt cx="4648320" cy="2720880"/>
          </a:xfrm>
        </p:grpSpPr>
        <p:grpSp>
          <p:nvGrpSpPr>
            <p:cNvPr id="241" name="Group 7"/>
            <p:cNvGrpSpPr/>
            <p:nvPr/>
          </p:nvGrpSpPr>
          <p:grpSpPr>
            <a:xfrm>
              <a:off x="0" y="1160640"/>
              <a:ext cx="4648320" cy="2720880"/>
              <a:chOff x="0" y="1160640"/>
              <a:chExt cx="4648320" cy="2720880"/>
            </a:xfrm>
          </p:grpSpPr>
          <p:grpSp>
            <p:nvGrpSpPr>
              <p:cNvPr id="242" name="Group 8"/>
              <p:cNvGrpSpPr/>
              <p:nvPr/>
            </p:nvGrpSpPr>
            <p:grpSpPr>
              <a:xfrm>
                <a:off x="0" y="1160640"/>
                <a:ext cx="4648320" cy="2720880"/>
                <a:chOff x="0" y="1160640"/>
                <a:chExt cx="4648320" cy="2720880"/>
              </a:xfrm>
            </p:grpSpPr>
            <p:grpSp>
              <p:nvGrpSpPr>
                <p:cNvPr id="243" name="Group 9"/>
                <p:cNvGrpSpPr/>
                <p:nvPr/>
              </p:nvGrpSpPr>
              <p:grpSpPr>
                <a:xfrm>
                  <a:off x="4320" y="1164600"/>
                  <a:ext cx="4638960" cy="2712600"/>
                  <a:chOff x="4320" y="1164600"/>
                  <a:chExt cx="4638960" cy="2712600"/>
                </a:xfrm>
              </p:grpSpPr>
              <p:grpSp>
                <p:nvGrpSpPr>
                  <p:cNvPr id="244" name="Group 10"/>
                  <p:cNvGrpSpPr/>
                  <p:nvPr/>
                </p:nvGrpSpPr>
                <p:grpSpPr>
                  <a:xfrm>
                    <a:off x="4320" y="1164600"/>
                    <a:ext cx="4638960" cy="2712600"/>
                    <a:chOff x="4320" y="1164600"/>
                    <a:chExt cx="4638960" cy="2712600"/>
                  </a:xfrm>
                </p:grpSpPr>
                <p:sp>
                  <p:nvSpPr>
                    <p:cNvPr id="245" name="Rectangle 11"/>
                    <p:cNvSpPr/>
                    <p:nvPr/>
                  </p:nvSpPr>
                  <p:spPr>
                    <a:xfrm>
                      <a:off x="4320" y="1164600"/>
                      <a:ext cx="4638960" cy="24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Presence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6" name="Rectangle 12"/>
                    <p:cNvSpPr/>
                    <p:nvPr/>
                  </p:nvSpPr>
                  <p:spPr>
                    <a:xfrm>
                      <a:off x="4320" y="1406520"/>
                      <a:ext cx="4638960" cy="268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is present within the following parts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 home pages.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47" name="Group 13"/>
                    <p:cNvGrpSpPr/>
                    <p:nvPr/>
                  </p:nvGrpSpPr>
                  <p:grpSpPr>
                    <a:xfrm>
                      <a:off x="4320" y="1675080"/>
                      <a:ext cx="1650240" cy="1047960"/>
                      <a:chOff x="4320" y="1675080"/>
                      <a:chExt cx="1650240" cy="1047960"/>
                    </a:xfrm>
                  </p:grpSpPr>
                  <p:sp>
                    <p:nvSpPr>
                      <p:cNvPr id="248" name="Rectangle 14"/>
                      <p:cNvSpPr/>
                      <p:nvPr/>
                    </p:nvSpPr>
                    <p:spPr>
                      <a:xfrm>
                        <a:off x="4320" y="167508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49" name="Rectangle 15"/>
                      <p:cNvSpPr/>
                      <p:nvPr/>
                    </p:nvSpPr>
                    <p:spPr>
                      <a:xfrm>
                        <a:off x="336240" y="167508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0" name="Rectangle 16"/>
                      <p:cNvSpPr/>
                      <p:nvPr/>
                    </p:nvSpPr>
                    <p:spPr>
                      <a:xfrm>
                        <a:off x="756000" y="167508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1" name="Rectangle 17"/>
                      <p:cNvSpPr/>
                      <p:nvPr/>
                    </p:nvSpPr>
                    <p:spPr>
                      <a:xfrm>
                        <a:off x="1170720" y="167508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2" name="Rectangle 18"/>
                      <p:cNvSpPr/>
                      <p:nvPr/>
                    </p:nvSpPr>
                    <p:spPr>
                      <a:xfrm>
                        <a:off x="4320" y="184968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3" name="Rectangle 19"/>
                      <p:cNvSpPr/>
                      <p:nvPr/>
                    </p:nvSpPr>
                    <p:spPr>
                      <a:xfrm>
                        <a:off x="336240" y="184968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body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4" name="Rectangle 20"/>
                      <p:cNvSpPr/>
                      <p:nvPr/>
                    </p:nvSpPr>
                    <p:spPr>
                      <a:xfrm>
                        <a:off x="756000" y="184968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17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5" name="Rectangle 21"/>
                      <p:cNvSpPr/>
                      <p:nvPr/>
                    </p:nvSpPr>
                    <p:spPr>
                      <a:xfrm>
                        <a:off x="1170720" y="184968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6" name="Rectangle 22"/>
                      <p:cNvSpPr/>
                      <p:nvPr/>
                    </p:nvSpPr>
                    <p:spPr>
                      <a:xfrm>
                        <a:off x="4320" y="2024280"/>
                        <a:ext cx="33192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7" name="Rectangle 23"/>
                      <p:cNvSpPr/>
                      <p:nvPr/>
                    </p:nvSpPr>
                    <p:spPr>
                      <a:xfrm>
                        <a:off x="336240" y="2024280"/>
                        <a:ext cx="4194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lin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8" name="Rectangle 24"/>
                      <p:cNvSpPr/>
                      <p:nvPr/>
                    </p:nvSpPr>
                    <p:spPr>
                      <a:xfrm>
                        <a:off x="756000" y="2024280"/>
                        <a:ext cx="41472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9" name="Rectangle 25"/>
                      <p:cNvSpPr/>
                      <p:nvPr/>
                    </p:nvSpPr>
                    <p:spPr>
                      <a:xfrm>
                        <a:off x="1170720" y="2024280"/>
                        <a:ext cx="483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7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0" name="Rectangle 26"/>
                      <p:cNvSpPr/>
                      <p:nvPr/>
                    </p:nvSpPr>
                    <p:spPr>
                      <a:xfrm>
                        <a:off x="4320" y="21992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1" name="Rectangle 27"/>
                      <p:cNvSpPr/>
                      <p:nvPr/>
                    </p:nvSpPr>
                    <p:spPr>
                      <a:xfrm>
                        <a:off x="336240" y="21992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meta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2" name="Rectangle 28"/>
                      <p:cNvSpPr/>
                      <p:nvPr/>
                    </p:nvSpPr>
                    <p:spPr>
                      <a:xfrm>
                        <a:off x="756000" y="21992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3" name="Rectangle 29"/>
                      <p:cNvSpPr/>
                      <p:nvPr/>
                    </p:nvSpPr>
                    <p:spPr>
                      <a:xfrm>
                        <a:off x="1170720" y="21992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4" name="Rectangle 30"/>
                      <p:cNvSpPr/>
                      <p:nvPr/>
                    </p:nvSpPr>
                    <p:spPr>
                      <a:xfrm>
                        <a:off x="4320" y="23738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5" name="Rectangle 31"/>
                      <p:cNvSpPr/>
                      <p:nvPr/>
                    </p:nvSpPr>
                    <p:spPr>
                      <a:xfrm>
                        <a:off x="336240" y="23738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mag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6" name="Rectangle 32"/>
                      <p:cNvSpPr/>
                      <p:nvPr/>
                    </p:nvSpPr>
                    <p:spPr>
                      <a:xfrm>
                        <a:off x="756000" y="23738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7" name="Rectangle 33"/>
                      <p:cNvSpPr/>
                      <p:nvPr/>
                    </p:nvSpPr>
                    <p:spPr>
                      <a:xfrm>
                        <a:off x="1170720" y="23738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8" name="Rectangle 34"/>
                      <p:cNvSpPr/>
                      <p:nvPr/>
                    </p:nvSpPr>
                    <p:spPr>
                      <a:xfrm>
                        <a:off x="4320" y="25484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9" name="Rectangle 35"/>
                      <p:cNvSpPr/>
                      <p:nvPr/>
                    </p:nvSpPr>
                    <p:spPr>
                      <a:xfrm>
                        <a:off x="336240" y="25484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titl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0" name="Rectangle 36"/>
                      <p:cNvSpPr/>
                      <p:nvPr/>
                    </p:nvSpPr>
                    <p:spPr>
                      <a:xfrm>
                        <a:off x="756000" y="25484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1" name="Rectangle 37"/>
                      <p:cNvSpPr/>
                      <p:nvPr/>
                    </p:nvSpPr>
                    <p:spPr>
                      <a:xfrm>
                        <a:off x="1170720" y="25484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272" name="Rectangle 38"/>
                    <p:cNvSpPr/>
                    <p:nvPr/>
                  </p:nvSpPr>
                  <p:spPr>
                    <a:xfrm>
                      <a:off x="1654920" y="1675080"/>
                      <a:ext cx="2988000" cy="201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Rectangle 39"/>
                    <p:cNvSpPr/>
                    <p:nvPr/>
                  </p:nvSpPr>
                  <p:spPr>
                    <a:xfrm>
                      <a:off x="4320" y="3688560"/>
                      <a:ext cx="46389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80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74" name="Rectangle 40"/>
                  <p:cNvSpPr/>
                  <p:nvPr/>
                </p:nvSpPr>
                <p:spPr>
                  <a:xfrm>
                    <a:off x="4320" y="1164600"/>
                    <a:ext cx="4638960" cy="271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5" name="Rectangle 41"/>
                <p:cNvSpPr/>
                <p:nvPr/>
              </p:nvSpPr>
              <p:spPr>
                <a:xfrm>
                  <a:off x="0" y="1160640"/>
                  <a:ext cx="4648320" cy="27208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6" name="Rectangle 42"/>
              <p:cNvSpPr/>
              <p:nvPr/>
            </p:nvSpPr>
            <p:spPr>
              <a:xfrm>
                <a:off x="0" y="1160640"/>
                <a:ext cx="4648320" cy="27208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277" name="Picture 43" descr="color0"/>
            <p:cNvPicPr/>
            <p:nvPr/>
          </p:nvPicPr>
          <p:blipFill>
            <a:blip r:embed="rId1"/>
            <a:stretch/>
          </p:blipFill>
          <p:spPr>
            <a:xfrm>
              <a:off x="120600" y="189036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4" descr="color1"/>
            <p:cNvPicPr/>
            <p:nvPr/>
          </p:nvPicPr>
          <p:blipFill>
            <a:blip r:embed="rId2"/>
            <a:stretch/>
          </p:blipFill>
          <p:spPr>
            <a:xfrm>
              <a:off x="120600" y="206496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5" descr="color2"/>
            <p:cNvPicPr/>
            <p:nvPr/>
          </p:nvPicPr>
          <p:blipFill>
            <a:blip r:embed="rId3"/>
            <a:stretch/>
          </p:blipFill>
          <p:spPr>
            <a:xfrm>
              <a:off x="120600" y="2239920"/>
              <a:ext cx="11232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6" descr="color3"/>
            <p:cNvPicPr/>
            <p:nvPr/>
          </p:nvPicPr>
          <p:blipFill>
            <a:blip r:embed="rId4"/>
            <a:stretch/>
          </p:blipFill>
          <p:spPr>
            <a:xfrm>
              <a:off x="120600" y="2414880"/>
              <a:ext cx="11232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7" descr="color4"/>
            <p:cNvPicPr/>
            <p:nvPr/>
          </p:nvPicPr>
          <p:blipFill>
            <a:blip r:embed="rId5"/>
            <a:stretch/>
          </p:blipFill>
          <p:spPr>
            <a:xfrm>
              <a:off x="120600" y="258948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8" descr="barchart"/>
            <p:cNvPicPr/>
            <p:nvPr/>
          </p:nvPicPr>
          <p:blipFill>
            <a:blip r:embed="rId6"/>
            <a:stretch/>
          </p:blipFill>
          <p:spPr>
            <a:xfrm>
              <a:off x="1770840" y="1715760"/>
              <a:ext cx="225504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49"/>
          <p:cNvGrpSpPr/>
          <p:nvPr/>
        </p:nvGrpSpPr>
        <p:grpSpPr>
          <a:xfrm>
            <a:off x="4656240" y="1160640"/>
            <a:ext cx="4487760" cy="2720880"/>
            <a:chOff x="4656240" y="1160640"/>
            <a:chExt cx="4487760" cy="2720880"/>
          </a:xfrm>
        </p:grpSpPr>
        <p:grpSp>
          <p:nvGrpSpPr>
            <p:cNvPr id="284" name="Group 50"/>
            <p:cNvGrpSpPr/>
            <p:nvPr/>
          </p:nvGrpSpPr>
          <p:grpSpPr>
            <a:xfrm>
              <a:off x="4656240" y="1160640"/>
              <a:ext cx="4487760" cy="2720880"/>
              <a:chOff x="4656240" y="1160640"/>
              <a:chExt cx="4487760" cy="2720880"/>
            </a:xfrm>
          </p:grpSpPr>
          <p:grpSp>
            <p:nvGrpSpPr>
              <p:cNvPr id="285" name="Group 51"/>
              <p:cNvGrpSpPr/>
              <p:nvPr/>
            </p:nvGrpSpPr>
            <p:grpSpPr>
              <a:xfrm>
                <a:off x="4656240" y="1160640"/>
                <a:ext cx="4487760" cy="2720880"/>
                <a:chOff x="4656240" y="1160640"/>
                <a:chExt cx="4487760" cy="2720880"/>
              </a:xfrm>
            </p:grpSpPr>
            <p:grpSp>
              <p:nvGrpSpPr>
                <p:cNvPr id="286" name="Group 52"/>
                <p:cNvGrpSpPr/>
                <p:nvPr/>
              </p:nvGrpSpPr>
              <p:grpSpPr>
                <a:xfrm>
                  <a:off x="4660560" y="1164600"/>
                  <a:ext cx="4478760" cy="2712600"/>
                  <a:chOff x="4660560" y="1164600"/>
                  <a:chExt cx="4478760" cy="2712600"/>
                </a:xfrm>
              </p:grpSpPr>
              <p:grpSp>
                <p:nvGrpSpPr>
                  <p:cNvPr id="287" name="Group 53"/>
                  <p:cNvGrpSpPr/>
                  <p:nvPr/>
                </p:nvGrpSpPr>
                <p:grpSpPr>
                  <a:xfrm>
                    <a:off x="4660560" y="1164600"/>
                    <a:ext cx="4478760" cy="2712600"/>
                    <a:chOff x="4660560" y="1164600"/>
                    <a:chExt cx="4478760" cy="2712600"/>
                  </a:xfrm>
                </p:grpSpPr>
                <p:sp>
                  <p:nvSpPr>
                    <p:cNvPr id="288" name="Rectangle 54"/>
                    <p:cNvSpPr/>
                    <p:nvPr/>
                  </p:nvSpPr>
                  <p:spPr>
                    <a:xfrm>
                      <a:off x="4660560" y="1164600"/>
                      <a:ext cx="4478760" cy="24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main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9" name="Rectangle 55"/>
                    <p:cNvSpPr/>
                    <p:nvPr/>
                  </p:nvSpPr>
                  <p:spPr>
                    <a:xfrm>
                      <a:off x="4660560" y="1406520"/>
                      <a:ext cx="4478760" cy="268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domain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TLD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90" name="Group 56"/>
                    <p:cNvGrpSpPr/>
                    <p:nvPr/>
                  </p:nvGrpSpPr>
                  <p:grpSpPr>
                    <a:xfrm>
                      <a:off x="4660560" y="1675080"/>
                      <a:ext cx="1575360" cy="1397520"/>
                      <a:chOff x="4660560" y="1675080"/>
                      <a:chExt cx="1575360" cy="1397520"/>
                    </a:xfrm>
                  </p:grpSpPr>
                  <p:sp>
                    <p:nvSpPr>
                      <p:cNvPr id="291" name="Rectangle 57"/>
                      <p:cNvSpPr/>
                      <p:nvPr/>
                    </p:nvSpPr>
                    <p:spPr>
                      <a:xfrm>
                        <a:off x="4660560" y="167508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2" name="Rectangle 58"/>
                      <p:cNvSpPr/>
                      <p:nvPr/>
                    </p:nvSpPr>
                    <p:spPr>
                      <a:xfrm>
                        <a:off x="4982760" y="167508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3" name="Rectangle 59"/>
                      <p:cNvSpPr/>
                      <p:nvPr/>
                    </p:nvSpPr>
                    <p:spPr>
                      <a:xfrm>
                        <a:off x="5362920" y="167508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4" name="Rectangle 60"/>
                      <p:cNvSpPr/>
                      <p:nvPr/>
                    </p:nvSpPr>
                    <p:spPr>
                      <a:xfrm>
                        <a:off x="5766120" y="167508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5" name="Rectangle 61"/>
                      <p:cNvSpPr/>
                      <p:nvPr/>
                    </p:nvSpPr>
                    <p:spPr>
                      <a:xfrm>
                        <a:off x="4660560" y="184968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6" name="Rectangle 62"/>
                      <p:cNvSpPr/>
                      <p:nvPr/>
                    </p:nvSpPr>
                    <p:spPr>
                      <a:xfrm>
                        <a:off x="4982760" y="184968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6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</a:t>
                        </a: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M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7" name="Rectangle 63"/>
                      <p:cNvSpPr/>
                      <p:nvPr/>
                    </p:nvSpPr>
                    <p:spPr>
                      <a:xfrm>
                        <a:off x="5362920" y="184968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8" name="Rectangle 64"/>
                      <p:cNvSpPr/>
                      <p:nvPr/>
                    </p:nvSpPr>
                    <p:spPr>
                      <a:xfrm>
                        <a:off x="5766120" y="184968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9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9" name="Rectangle 65"/>
                      <p:cNvSpPr/>
                      <p:nvPr/>
                    </p:nvSpPr>
                    <p:spPr>
                      <a:xfrm>
                        <a:off x="4660560" y="2024280"/>
                        <a:ext cx="322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0" name="Rectangle 66"/>
                      <p:cNvSpPr/>
                      <p:nvPr/>
                    </p:nvSpPr>
                    <p:spPr>
                      <a:xfrm>
                        <a:off x="4982760" y="2024280"/>
                        <a:ext cx="37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1" name="Rectangle 67"/>
                      <p:cNvSpPr/>
                      <p:nvPr/>
                    </p:nvSpPr>
                    <p:spPr>
                      <a:xfrm>
                        <a:off x="5362920" y="2024280"/>
                        <a:ext cx="403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2" name="Rectangle 68"/>
                      <p:cNvSpPr/>
                      <p:nvPr/>
                    </p:nvSpPr>
                    <p:spPr>
                      <a:xfrm>
                        <a:off x="5766120" y="2024280"/>
                        <a:ext cx="46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3" name="Rectangle 69"/>
                      <p:cNvSpPr/>
                      <p:nvPr/>
                    </p:nvSpPr>
                    <p:spPr>
                      <a:xfrm>
                        <a:off x="4660560" y="21992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4" name="Rectangle 70"/>
                      <p:cNvSpPr/>
                      <p:nvPr/>
                    </p:nvSpPr>
                    <p:spPr>
                      <a:xfrm>
                        <a:off x="4982760" y="21992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R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5" name="Rectangle 71"/>
                      <p:cNvSpPr/>
                      <p:nvPr/>
                    </p:nvSpPr>
                    <p:spPr>
                      <a:xfrm>
                        <a:off x="5362920" y="21992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6" name="Rectangle 72"/>
                      <p:cNvSpPr/>
                      <p:nvPr/>
                    </p:nvSpPr>
                    <p:spPr>
                      <a:xfrm>
                        <a:off x="5766120" y="21992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7" name="Rectangle 73"/>
                      <p:cNvSpPr/>
                      <p:nvPr/>
                    </p:nvSpPr>
                    <p:spPr>
                      <a:xfrm>
                        <a:off x="4660560" y="23738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8" name="Rectangle 74"/>
                      <p:cNvSpPr/>
                      <p:nvPr/>
                    </p:nvSpPr>
                    <p:spPr>
                      <a:xfrm>
                        <a:off x="4982760" y="23738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E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9" name="Rectangle 75"/>
                      <p:cNvSpPr/>
                      <p:nvPr/>
                    </p:nvSpPr>
                    <p:spPr>
                      <a:xfrm>
                        <a:off x="5362920" y="23738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0" name="Rectangle 76"/>
                      <p:cNvSpPr/>
                      <p:nvPr/>
                    </p:nvSpPr>
                    <p:spPr>
                      <a:xfrm>
                        <a:off x="5766120" y="23738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1" name="Rectangle 77"/>
                      <p:cNvSpPr/>
                      <p:nvPr/>
                    </p:nvSpPr>
                    <p:spPr>
                      <a:xfrm>
                        <a:off x="4660560" y="25484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2" name="Rectangle 78"/>
                      <p:cNvSpPr/>
                      <p:nvPr/>
                    </p:nvSpPr>
                    <p:spPr>
                      <a:xfrm>
                        <a:off x="4982760" y="25484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NF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3" name="Rectangle 79"/>
                      <p:cNvSpPr/>
                      <p:nvPr/>
                    </p:nvSpPr>
                    <p:spPr>
                      <a:xfrm>
                        <a:off x="5362920" y="25484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4" name="Rectangle 80"/>
                      <p:cNvSpPr/>
                      <p:nvPr/>
                    </p:nvSpPr>
                    <p:spPr>
                      <a:xfrm>
                        <a:off x="5766120" y="25484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5" name="Rectangle 81"/>
                      <p:cNvSpPr/>
                      <p:nvPr/>
                    </p:nvSpPr>
                    <p:spPr>
                      <a:xfrm>
                        <a:off x="4660560" y="2723040"/>
                        <a:ext cx="322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6" name="Rectangle 82"/>
                      <p:cNvSpPr/>
                      <p:nvPr/>
                    </p:nvSpPr>
                    <p:spPr>
                      <a:xfrm>
                        <a:off x="4982760" y="2723040"/>
                        <a:ext cx="37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7" name="Rectangle 83"/>
                      <p:cNvSpPr/>
                      <p:nvPr/>
                    </p:nvSpPr>
                    <p:spPr>
                      <a:xfrm>
                        <a:off x="5362920" y="2723040"/>
                        <a:ext cx="403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8" name="Rectangle 84"/>
                      <p:cNvSpPr/>
                      <p:nvPr/>
                    </p:nvSpPr>
                    <p:spPr>
                      <a:xfrm>
                        <a:off x="5766120" y="2723040"/>
                        <a:ext cx="46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9" name="Rectangle 85"/>
                      <p:cNvSpPr/>
                      <p:nvPr/>
                    </p:nvSpPr>
                    <p:spPr>
                      <a:xfrm>
                        <a:off x="4660560" y="289800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0" name="Rectangle 86"/>
                      <p:cNvSpPr/>
                      <p:nvPr/>
                    </p:nvSpPr>
                    <p:spPr>
                      <a:xfrm>
                        <a:off x="4982760" y="289800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U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1" name="Rectangle 87"/>
                      <p:cNvSpPr/>
                      <p:nvPr/>
                    </p:nvSpPr>
                    <p:spPr>
                      <a:xfrm>
                        <a:off x="5362920" y="289800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2" name="Rectangle 88"/>
                      <p:cNvSpPr/>
                      <p:nvPr/>
                    </p:nvSpPr>
                    <p:spPr>
                      <a:xfrm>
                        <a:off x="5766120" y="289800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23" name="Rectangle 89"/>
                    <p:cNvSpPr/>
                    <p:nvPr/>
                  </p:nvSpPr>
                  <p:spPr>
                    <a:xfrm>
                      <a:off x="6236280" y="1675080"/>
                      <a:ext cx="2902680" cy="201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4" name="Rectangle 90"/>
                    <p:cNvSpPr/>
                    <p:nvPr/>
                  </p:nvSpPr>
                  <p:spPr>
                    <a:xfrm>
                      <a:off x="4660560" y="3688560"/>
                      <a:ext cx="44787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 Total Domain Nam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25" name="Rectangle 91"/>
                  <p:cNvSpPr/>
                  <p:nvPr/>
                </p:nvSpPr>
                <p:spPr>
                  <a:xfrm>
                    <a:off x="4660560" y="1164600"/>
                    <a:ext cx="4478760" cy="271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26" name="Rectangle 92"/>
                <p:cNvSpPr/>
                <p:nvPr/>
              </p:nvSpPr>
              <p:spPr>
                <a:xfrm>
                  <a:off x="4656240" y="1160640"/>
                  <a:ext cx="4487760" cy="27208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7" name="Rectangle 93"/>
              <p:cNvSpPr/>
              <p:nvPr/>
            </p:nvSpPr>
            <p:spPr>
              <a:xfrm>
                <a:off x="4656240" y="1160640"/>
                <a:ext cx="4487760" cy="27208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328" name="Picture 94" descr="color0"/>
            <p:cNvPicPr/>
            <p:nvPr/>
          </p:nvPicPr>
          <p:blipFill>
            <a:blip r:embed="rId7"/>
            <a:stretch/>
          </p:blipFill>
          <p:spPr>
            <a:xfrm>
              <a:off x="4772880" y="189036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95" descr="color1"/>
            <p:cNvPicPr/>
            <p:nvPr/>
          </p:nvPicPr>
          <p:blipFill>
            <a:blip r:embed="rId8"/>
            <a:stretch/>
          </p:blipFill>
          <p:spPr>
            <a:xfrm>
              <a:off x="4772880" y="206496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96" descr="color2"/>
            <p:cNvPicPr/>
            <p:nvPr/>
          </p:nvPicPr>
          <p:blipFill>
            <a:blip r:embed="rId9"/>
            <a:stretch/>
          </p:blipFill>
          <p:spPr>
            <a:xfrm>
              <a:off x="4772880" y="223992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97" descr="color3"/>
            <p:cNvPicPr/>
            <p:nvPr/>
          </p:nvPicPr>
          <p:blipFill>
            <a:blip r:embed="rId10"/>
            <a:stretch/>
          </p:blipFill>
          <p:spPr>
            <a:xfrm>
              <a:off x="4772880" y="241488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98" descr="color4"/>
            <p:cNvPicPr/>
            <p:nvPr/>
          </p:nvPicPr>
          <p:blipFill>
            <a:blip r:embed="rId11"/>
            <a:stretch/>
          </p:blipFill>
          <p:spPr>
            <a:xfrm>
              <a:off x="4772880" y="258948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99" descr="color5"/>
            <p:cNvPicPr/>
            <p:nvPr/>
          </p:nvPicPr>
          <p:blipFill>
            <a:blip r:embed="rId12"/>
            <a:stretch/>
          </p:blipFill>
          <p:spPr>
            <a:xfrm>
              <a:off x="4772880" y="276408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00" descr="color6"/>
            <p:cNvPicPr/>
            <p:nvPr/>
          </p:nvPicPr>
          <p:blipFill>
            <a:blip r:embed="rId13"/>
            <a:stretch/>
          </p:blipFill>
          <p:spPr>
            <a:xfrm>
              <a:off x="4772880" y="293904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01" descr="piechart"/>
            <p:cNvPicPr/>
            <p:nvPr/>
          </p:nvPicPr>
          <p:blipFill>
            <a:blip r:embed="rId14"/>
            <a:stretch/>
          </p:blipFill>
          <p:spPr>
            <a:xfrm>
              <a:off x="6349320" y="1715760"/>
              <a:ext cx="219060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102"/>
          <p:cNvGrpSpPr/>
          <p:nvPr/>
        </p:nvGrpSpPr>
        <p:grpSpPr>
          <a:xfrm>
            <a:off x="0" y="3890880"/>
            <a:ext cx="4656240" cy="2967120"/>
            <a:chOff x="0" y="3890880"/>
            <a:chExt cx="4656240" cy="2967120"/>
          </a:xfrm>
        </p:grpSpPr>
        <p:grpSp>
          <p:nvGrpSpPr>
            <p:cNvPr id="337" name="Group 103"/>
            <p:cNvGrpSpPr/>
            <p:nvPr/>
          </p:nvGrpSpPr>
          <p:grpSpPr>
            <a:xfrm>
              <a:off x="0" y="3890880"/>
              <a:ext cx="4656240" cy="2967120"/>
              <a:chOff x="0" y="3890880"/>
              <a:chExt cx="4656240" cy="2967120"/>
            </a:xfrm>
          </p:grpSpPr>
          <p:grpSp>
            <p:nvGrpSpPr>
              <p:cNvPr id="338" name="Group 104"/>
              <p:cNvGrpSpPr/>
              <p:nvPr/>
            </p:nvGrpSpPr>
            <p:grpSpPr>
              <a:xfrm>
                <a:off x="0" y="3890880"/>
                <a:ext cx="4656240" cy="2967120"/>
                <a:chOff x="0" y="3890880"/>
                <a:chExt cx="4656240" cy="2967120"/>
              </a:xfrm>
            </p:grpSpPr>
            <p:grpSp>
              <p:nvGrpSpPr>
                <p:cNvPr id="339" name="Group 105"/>
                <p:cNvGrpSpPr/>
                <p:nvPr/>
              </p:nvGrpSpPr>
              <p:grpSpPr>
                <a:xfrm>
                  <a:off x="4320" y="3895200"/>
                  <a:ext cx="4647240" cy="2958120"/>
                  <a:chOff x="4320" y="3895200"/>
                  <a:chExt cx="4647240" cy="2958120"/>
                </a:xfrm>
              </p:grpSpPr>
              <p:grpSp>
                <p:nvGrpSpPr>
                  <p:cNvPr id="340" name="Group 106"/>
                  <p:cNvGrpSpPr/>
                  <p:nvPr/>
                </p:nvGrpSpPr>
                <p:grpSpPr>
                  <a:xfrm>
                    <a:off x="4320" y="3895200"/>
                    <a:ext cx="4647240" cy="2957760"/>
                    <a:chOff x="4320" y="3895200"/>
                    <a:chExt cx="4647240" cy="2957760"/>
                  </a:xfrm>
                </p:grpSpPr>
                <p:sp>
                  <p:nvSpPr>
                    <p:cNvPr id="341" name="Rectangle 107"/>
                    <p:cNvSpPr/>
                    <p:nvPr/>
                  </p:nvSpPr>
                  <p:spPr>
                    <a:xfrm>
                      <a:off x="4320" y="3895200"/>
                      <a:ext cx="4647240" cy="263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me Page Content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2" name="Rectangle 108"/>
                    <p:cNvSpPr/>
                    <p:nvPr/>
                  </p:nvSpPr>
                  <p:spPr>
                    <a:xfrm>
                      <a:off x="4320" y="4158720"/>
                      <a:ext cx="4647240" cy="29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home page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site category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43" name="Group 109"/>
                    <p:cNvGrpSpPr/>
                    <p:nvPr/>
                  </p:nvGrpSpPr>
                  <p:grpSpPr>
                    <a:xfrm>
                      <a:off x="4320" y="4451760"/>
                      <a:ext cx="1807560" cy="1143000"/>
                      <a:chOff x="4320" y="4451760"/>
                      <a:chExt cx="1807560" cy="1143000"/>
                    </a:xfrm>
                  </p:grpSpPr>
                  <p:sp>
                    <p:nvSpPr>
                      <p:cNvPr id="344" name="Rectangle 110"/>
                      <p:cNvSpPr/>
                      <p:nvPr/>
                    </p:nvSpPr>
                    <p:spPr>
                      <a:xfrm>
                        <a:off x="4320" y="445176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5" name="Rectangle 111"/>
                      <p:cNvSpPr/>
                      <p:nvPr/>
                    </p:nvSpPr>
                    <p:spPr>
                      <a:xfrm>
                        <a:off x="319680" y="445176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6" name="Rectangle 112"/>
                      <p:cNvSpPr/>
                      <p:nvPr/>
                    </p:nvSpPr>
                    <p:spPr>
                      <a:xfrm>
                        <a:off x="957960" y="445176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7" name="Rectangle 113"/>
                      <p:cNvSpPr/>
                      <p:nvPr/>
                    </p:nvSpPr>
                    <p:spPr>
                      <a:xfrm>
                        <a:off x="1352160" y="445176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8" name="Rectangle 114"/>
                      <p:cNvSpPr/>
                      <p:nvPr/>
                    </p:nvSpPr>
                    <p:spPr>
                      <a:xfrm>
                        <a:off x="4320" y="464220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9" name="Rectangle 115"/>
                      <p:cNvSpPr/>
                      <p:nvPr/>
                    </p:nvSpPr>
                    <p:spPr>
                      <a:xfrm>
                        <a:off x="319680" y="464220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nventional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0" name="Rectangle 116"/>
                      <p:cNvSpPr/>
                      <p:nvPr/>
                    </p:nvSpPr>
                    <p:spPr>
                      <a:xfrm>
                        <a:off x="957960" y="464220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6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1" name="Rectangle 117"/>
                      <p:cNvSpPr/>
                      <p:nvPr/>
                    </p:nvSpPr>
                    <p:spPr>
                      <a:xfrm>
                        <a:off x="1352160" y="464220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9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2" name="Rectangle 118"/>
                      <p:cNvSpPr/>
                      <p:nvPr/>
                    </p:nvSpPr>
                    <p:spPr>
                      <a:xfrm>
                        <a:off x="4320" y="4832640"/>
                        <a:ext cx="31536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3" name="Rectangle 119"/>
                      <p:cNvSpPr/>
                      <p:nvPr/>
                    </p:nvSpPr>
                    <p:spPr>
                      <a:xfrm>
                        <a:off x="319680" y="4832640"/>
                        <a:ext cx="63828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or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4" name="Rectangle 120"/>
                      <p:cNvSpPr/>
                      <p:nvPr/>
                    </p:nvSpPr>
                    <p:spPr>
                      <a:xfrm>
                        <a:off x="957960" y="4832640"/>
                        <a:ext cx="39384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5" name="Rectangle 121"/>
                      <p:cNvSpPr/>
                      <p:nvPr/>
                    </p:nvSpPr>
                    <p:spPr>
                      <a:xfrm>
                        <a:off x="1352160" y="4832640"/>
                        <a:ext cx="45972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6" name="Rectangle 122"/>
                      <p:cNvSpPr/>
                      <p:nvPr/>
                    </p:nvSpPr>
                    <p:spPr>
                      <a:xfrm>
                        <a:off x="4320" y="502344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Rectangle 123"/>
                      <p:cNvSpPr/>
                      <p:nvPr/>
                    </p:nvSpPr>
                    <p:spPr>
                      <a:xfrm>
                        <a:off x="319680" y="502344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violenc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8" name="Rectangle 124"/>
                      <p:cNvSpPr/>
                      <p:nvPr/>
                    </p:nvSpPr>
                    <p:spPr>
                      <a:xfrm>
                        <a:off x="957960" y="502344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9" name="Rectangle 125"/>
                      <p:cNvSpPr/>
                      <p:nvPr/>
                    </p:nvSpPr>
                    <p:spPr>
                      <a:xfrm>
                        <a:off x="1352160" y="502344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Rectangle 126"/>
                      <p:cNvSpPr/>
                      <p:nvPr/>
                    </p:nvSpPr>
                    <p:spPr>
                      <a:xfrm>
                        <a:off x="4320" y="521388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1" name="Rectangle 127"/>
                      <p:cNvSpPr/>
                      <p:nvPr/>
                    </p:nvSpPr>
                    <p:spPr>
                      <a:xfrm>
                        <a:off x="319680" y="521388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gamblin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2" name="Rectangle 128"/>
                      <p:cNvSpPr/>
                      <p:nvPr/>
                    </p:nvSpPr>
                    <p:spPr>
                      <a:xfrm>
                        <a:off x="957960" y="521388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Rectangle 129"/>
                      <p:cNvSpPr/>
                      <p:nvPr/>
                    </p:nvSpPr>
                    <p:spPr>
                      <a:xfrm>
                        <a:off x="1352160" y="521388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4" name="Rectangle 130"/>
                      <p:cNvSpPr/>
                      <p:nvPr/>
                    </p:nvSpPr>
                    <p:spPr>
                      <a:xfrm>
                        <a:off x="4320" y="540432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5" name="Rectangle 131"/>
                      <p:cNvSpPr/>
                      <p:nvPr/>
                    </p:nvSpPr>
                    <p:spPr>
                      <a:xfrm>
                        <a:off x="319680" y="540432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hat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Rectangle 132"/>
                      <p:cNvSpPr/>
                      <p:nvPr/>
                    </p:nvSpPr>
                    <p:spPr>
                      <a:xfrm>
                        <a:off x="957960" y="540432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7" name="Rectangle 133"/>
                      <p:cNvSpPr/>
                      <p:nvPr/>
                    </p:nvSpPr>
                    <p:spPr>
                      <a:xfrm>
                        <a:off x="1352160" y="540432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8" name="Rectangle 134"/>
                    <p:cNvSpPr/>
                    <p:nvPr/>
                  </p:nvSpPr>
                  <p:spPr>
                    <a:xfrm>
                      <a:off x="1812240" y="4451760"/>
                      <a:ext cx="2838960" cy="219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9" name="Rectangle 135"/>
                    <p:cNvSpPr/>
                    <p:nvPr/>
                  </p:nvSpPr>
                  <p:spPr>
                    <a:xfrm>
                      <a:off x="4320" y="6647400"/>
                      <a:ext cx="4647240" cy="20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80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70" name="Rectangle 136"/>
                  <p:cNvSpPr/>
                  <p:nvPr/>
                </p:nvSpPr>
                <p:spPr>
                  <a:xfrm>
                    <a:off x="4320" y="3895200"/>
                    <a:ext cx="4647240" cy="295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71" name="Rectangle 137"/>
                <p:cNvSpPr/>
                <p:nvPr/>
              </p:nvSpPr>
              <p:spPr>
                <a:xfrm>
                  <a:off x="0" y="3890880"/>
                  <a:ext cx="4656240" cy="296712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" name="Rectangle 138"/>
              <p:cNvSpPr/>
              <p:nvPr/>
            </p:nvSpPr>
            <p:spPr>
              <a:xfrm>
                <a:off x="0" y="3890880"/>
                <a:ext cx="4656240" cy="296712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373" name="Picture 139" descr="color0"/>
            <p:cNvPicPr/>
            <p:nvPr/>
          </p:nvPicPr>
          <p:blipFill>
            <a:blip r:embed="rId15"/>
            <a:stretch/>
          </p:blipFill>
          <p:spPr>
            <a:xfrm>
              <a:off x="114480" y="468648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40" descr="color1"/>
            <p:cNvPicPr/>
            <p:nvPr/>
          </p:nvPicPr>
          <p:blipFill>
            <a:blip r:embed="rId16"/>
            <a:stretch/>
          </p:blipFill>
          <p:spPr>
            <a:xfrm>
              <a:off x="114480" y="487692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41" descr="color2"/>
            <p:cNvPicPr/>
            <p:nvPr/>
          </p:nvPicPr>
          <p:blipFill>
            <a:blip r:embed="rId17"/>
            <a:stretch/>
          </p:blipFill>
          <p:spPr>
            <a:xfrm>
              <a:off x="114480" y="506808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42" descr="color3"/>
            <p:cNvPicPr/>
            <p:nvPr/>
          </p:nvPicPr>
          <p:blipFill>
            <a:blip r:embed="rId18"/>
            <a:stretch/>
          </p:blipFill>
          <p:spPr>
            <a:xfrm>
              <a:off x="114480" y="525852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43" descr="color4"/>
            <p:cNvPicPr/>
            <p:nvPr/>
          </p:nvPicPr>
          <p:blipFill>
            <a:blip r:embed="rId19"/>
            <a:stretch/>
          </p:blipFill>
          <p:spPr>
            <a:xfrm>
              <a:off x="114480" y="544896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44" descr="barchart"/>
            <p:cNvPicPr/>
            <p:nvPr/>
          </p:nvPicPr>
          <p:blipFill>
            <a:blip r:embed="rId20"/>
            <a:stretch/>
          </p:blipFill>
          <p:spPr>
            <a:xfrm>
              <a:off x="1922760" y="4496040"/>
              <a:ext cx="2142720" cy="21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2773-C10D-4B39-A571-C42248F4463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nline Brand Analysis Repor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Hong Kong Tou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656240" y="3900600"/>
            <a:ext cx="4487760" cy="26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arch Mechanism: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awling 40 million+ registered domains and 20 million+  home pages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arch each domain and  analyze the content of the sites to determine if the site conducting eCommerce, contain objectionable content, site alive, etc…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nitor if the brand name appears in either the domain, site title, meta tags, text/ link/ logo on the home page for each of the sites.  If there is a hit, one count is recorded for that specific category (i.e. porn, hate, gambling, ....)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are highly relevant information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201080" y="711360"/>
            <a:ext cx="1612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.. May 22, 2003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0" y="1160640"/>
            <a:ext cx="4660920" cy="2739960"/>
            <a:chOff x="0" y="1160640"/>
            <a:chExt cx="4660920" cy="2739960"/>
          </a:xfrm>
        </p:grpSpPr>
        <p:grpSp>
          <p:nvGrpSpPr>
            <p:cNvPr id="385" name="Group 7"/>
            <p:cNvGrpSpPr/>
            <p:nvPr/>
          </p:nvGrpSpPr>
          <p:grpSpPr>
            <a:xfrm>
              <a:off x="0" y="1160640"/>
              <a:ext cx="4660920" cy="2739960"/>
              <a:chOff x="0" y="1160640"/>
              <a:chExt cx="4660920" cy="2739960"/>
            </a:xfrm>
          </p:grpSpPr>
          <p:grpSp>
            <p:nvGrpSpPr>
              <p:cNvPr id="386" name="Group 8"/>
              <p:cNvGrpSpPr/>
              <p:nvPr/>
            </p:nvGrpSpPr>
            <p:grpSpPr>
              <a:xfrm>
                <a:off x="0" y="1160640"/>
                <a:ext cx="4660920" cy="2739960"/>
                <a:chOff x="0" y="1160640"/>
                <a:chExt cx="4660920" cy="2739960"/>
              </a:xfrm>
            </p:grpSpPr>
            <p:grpSp>
              <p:nvGrpSpPr>
                <p:cNvPr id="387" name="Group 9"/>
                <p:cNvGrpSpPr/>
                <p:nvPr/>
              </p:nvGrpSpPr>
              <p:grpSpPr>
                <a:xfrm>
                  <a:off x="4320" y="1164600"/>
                  <a:ext cx="4651560" cy="2731680"/>
                  <a:chOff x="4320" y="1164600"/>
                  <a:chExt cx="4651560" cy="2731680"/>
                </a:xfrm>
              </p:grpSpPr>
              <p:grpSp>
                <p:nvGrpSpPr>
                  <p:cNvPr id="388" name="Group 10"/>
                  <p:cNvGrpSpPr/>
                  <p:nvPr/>
                </p:nvGrpSpPr>
                <p:grpSpPr>
                  <a:xfrm>
                    <a:off x="4320" y="1164600"/>
                    <a:ext cx="4651560" cy="2731320"/>
                    <a:chOff x="4320" y="1164600"/>
                    <a:chExt cx="4651560" cy="2731320"/>
                  </a:xfrm>
                </p:grpSpPr>
                <p:sp>
                  <p:nvSpPr>
                    <p:cNvPr id="389" name="Rectangle 11"/>
                    <p:cNvSpPr/>
                    <p:nvPr/>
                  </p:nvSpPr>
                  <p:spPr>
                    <a:xfrm>
                      <a:off x="4320" y="1164600"/>
                      <a:ext cx="4651560" cy="243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Presence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0" name="Rectangle 12"/>
                    <p:cNvSpPr/>
                    <p:nvPr/>
                  </p:nvSpPr>
                  <p:spPr>
                    <a:xfrm>
                      <a:off x="4320" y="1407960"/>
                      <a:ext cx="4651560" cy="27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is present within the following parts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 home pages.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91" name="Group 13"/>
                    <p:cNvGrpSpPr/>
                    <p:nvPr/>
                  </p:nvGrpSpPr>
                  <p:grpSpPr>
                    <a:xfrm>
                      <a:off x="4320" y="1678680"/>
                      <a:ext cx="1654560" cy="1055520"/>
                      <a:chOff x="4320" y="1678680"/>
                      <a:chExt cx="1654560" cy="1055520"/>
                    </a:xfrm>
                  </p:grpSpPr>
                  <p:sp>
                    <p:nvSpPr>
                      <p:cNvPr id="392" name="Rectangle 14"/>
                      <p:cNvSpPr/>
                      <p:nvPr/>
                    </p:nvSpPr>
                    <p:spPr>
                      <a:xfrm>
                        <a:off x="4320" y="167868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3" name="Rectangle 15"/>
                      <p:cNvSpPr/>
                      <p:nvPr/>
                    </p:nvSpPr>
                    <p:spPr>
                      <a:xfrm>
                        <a:off x="336960" y="167868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4" name="Rectangle 16"/>
                      <p:cNvSpPr/>
                      <p:nvPr/>
                    </p:nvSpPr>
                    <p:spPr>
                      <a:xfrm>
                        <a:off x="757800" y="167868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5" name="Rectangle 17"/>
                      <p:cNvSpPr/>
                      <p:nvPr/>
                    </p:nvSpPr>
                    <p:spPr>
                      <a:xfrm>
                        <a:off x="1173600" y="167868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Rectangle 18"/>
                      <p:cNvSpPr/>
                      <p:nvPr/>
                    </p:nvSpPr>
                    <p:spPr>
                      <a:xfrm>
                        <a:off x="4320" y="185436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7" name="Rectangle 19"/>
                      <p:cNvSpPr/>
                      <p:nvPr/>
                    </p:nvSpPr>
                    <p:spPr>
                      <a:xfrm>
                        <a:off x="336960" y="185436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body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8" name="Rectangle 20"/>
                      <p:cNvSpPr/>
                      <p:nvPr/>
                    </p:nvSpPr>
                    <p:spPr>
                      <a:xfrm>
                        <a:off x="757800" y="185436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00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Rectangle 21"/>
                      <p:cNvSpPr/>
                      <p:nvPr/>
                    </p:nvSpPr>
                    <p:spPr>
                      <a:xfrm>
                        <a:off x="1173600" y="185436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4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0" name="Rectangle 22"/>
                      <p:cNvSpPr/>
                      <p:nvPr/>
                    </p:nvSpPr>
                    <p:spPr>
                      <a:xfrm>
                        <a:off x="4320" y="2030400"/>
                        <a:ext cx="33264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1" name="Rectangle 23"/>
                      <p:cNvSpPr/>
                      <p:nvPr/>
                    </p:nvSpPr>
                    <p:spPr>
                      <a:xfrm>
                        <a:off x="336960" y="2030400"/>
                        <a:ext cx="42084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lin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Rectangle 24"/>
                      <p:cNvSpPr/>
                      <p:nvPr/>
                    </p:nvSpPr>
                    <p:spPr>
                      <a:xfrm>
                        <a:off x="757800" y="2030400"/>
                        <a:ext cx="415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03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3" name="Rectangle 25"/>
                      <p:cNvSpPr/>
                      <p:nvPr/>
                    </p:nvSpPr>
                    <p:spPr>
                      <a:xfrm>
                        <a:off x="1173600" y="2030400"/>
                        <a:ext cx="48528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4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4" name="Rectangle 26"/>
                      <p:cNvSpPr/>
                      <p:nvPr/>
                    </p:nvSpPr>
                    <p:spPr>
                      <a:xfrm>
                        <a:off x="4320" y="220680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Rectangle 27"/>
                      <p:cNvSpPr/>
                      <p:nvPr/>
                    </p:nvSpPr>
                    <p:spPr>
                      <a:xfrm>
                        <a:off x="336960" y="220680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meta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6" name="Rectangle 28"/>
                      <p:cNvSpPr/>
                      <p:nvPr/>
                    </p:nvSpPr>
                    <p:spPr>
                      <a:xfrm>
                        <a:off x="757800" y="220680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3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7" name="Rectangle 29"/>
                      <p:cNvSpPr/>
                      <p:nvPr/>
                    </p:nvSpPr>
                    <p:spPr>
                      <a:xfrm>
                        <a:off x="1173600" y="220680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8" name="Rectangle 30"/>
                      <p:cNvSpPr/>
                      <p:nvPr/>
                    </p:nvSpPr>
                    <p:spPr>
                      <a:xfrm>
                        <a:off x="4320" y="238248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9" name="Rectangle 31"/>
                      <p:cNvSpPr/>
                      <p:nvPr/>
                    </p:nvSpPr>
                    <p:spPr>
                      <a:xfrm>
                        <a:off x="336960" y="238248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mag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0" name="Rectangle 32"/>
                      <p:cNvSpPr/>
                      <p:nvPr/>
                    </p:nvSpPr>
                    <p:spPr>
                      <a:xfrm>
                        <a:off x="757800" y="238248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0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1" name="Rectangle 33"/>
                      <p:cNvSpPr/>
                      <p:nvPr/>
                    </p:nvSpPr>
                    <p:spPr>
                      <a:xfrm>
                        <a:off x="1173600" y="238248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2" name="Rectangle 34"/>
                      <p:cNvSpPr/>
                      <p:nvPr/>
                    </p:nvSpPr>
                    <p:spPr>
                      <a:xfrm>
                        <a:off x="4320" y="255852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3" name="Rectangle 35"/>
                      <p:cNvSpPr/>
                      <p:nvPr/>
                    </p:nvSpPr>
                    <p:spPr>
                      <a:xfrm>
                        <a:off x="336960" y="255852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titl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4" name="Rectangle 36"/>
                      <p:cNvSpPr/>
                      <p:nvPr/>
                    </p:nvSpPr>
                    <p:spPr>
                      <a:xfrm>
                        <a:off x="757800" y="255852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4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5" name="Rectangle 37"/>
                      <p:cNvSpPr/>
                      <p:nvPr/>
                    </p:nvSpPr>
                    <p:spPr>
                      <a:xfrm>
                        <a:off x="1173600" y="255852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16" name="Rectangle 38"/>
                    <p:cNvSpPr/>
                    <p:nvPr/>
                  </p:nvSpPr>
                  <p:spPr>
                    <a:xfrm>
                      <a:off x="1659240" y="1678680"/>
                      <a:ext cx="2996280" cy="202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7" name="Rectangle 39"/>
                    <p:cNvSpPr/>
                    <p:nvPr/>
                  </p:nvSpPr>
                  <p:spPr>
                    <a:xfrm>
                      <a:off x="4320" y="3706200"/>
                      <a:ext cx="465156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22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18" name="Rectangle 40"/>
                  <p:cNvSpPr/>
                  <p:nvPr/>
                </p:nvSpPr>
                <p:spPr>
                  <a:xfrm>
                    <a:off x="4320" y="1164600"/>
                    <a:ext cx="4651560" cy="273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9" name="Rectangle 41"/>
                <p:cNvSpPr/>
                <p:nvPr/>
              </p:nvSpPr>
              <p:spPr>
                <a:xfrm>
                  <a:off x="0" y="1160640"/>
                  <a:ext cx="4660920" cy="27399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0" name="Rectangle 42"/>
              <p:cNvSpPr/>
              <p:nvPr/>
            </p:nvSpPr>
            <p:spPr>
              <a:xfrm>
                <a:off x="0" y="1160640"/>
                <a:ext cx="4660920" cy="273996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421" name="Picture 43" descr="color0"/>
            <p:cNvPicPr/>
            <p:nvPr/>
          </p:nvPicPr>
          <p:blipFill>
            <a:blip r:embed="rId1"/>
            <a:stretch/>
          </p:blipFill>
          <p:spPr>
            <a:xfrm>
              <a:off x="120960" y="189540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4" descr="color1"/>
            <p:cNvPicPr/>
            <p:nvPr/>
          </p:nvPicPr>
          <p:blipFill>
            <a:blip r:embed="rId2"/>
            <a:stretch/>
          </p:blipFill>
          <p:spPr>
            <a:xfrm>
              <a:off x="120960" y="207144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45" descr="color2"/>
            <p:cNvPicPr/>
            <p:nvPr/>
          </p:nvPicPr>
          <p:blipFill>
            <a:blip r:embed="rId3"/>
            <a:stretch/>
          </p:blipFill>
          <p:spPr>
            <a:xfrm>
              <a:off x="120960" y="2247480"/>
              <a:ext cx="11268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46" descr="color3"/>
            <p:cNvPicPr/>
            <p:nvPr/>
          </p:nvPicPr>
          <p:blipFill>
            <a:blip r:embed="rId4"/>
            <a:stretch/>
          </p:blipFill>
          <p:spPr>
            <a:xfrm>
              <a:off x="120960" y="2423520"/>
              <a:ext cx="11268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7" descr="color4"/>
            <p:cNvPicPr/>
            <p:nvPr/>
          </p:nvPicPr>
          <p:blipFill>
            <a:blip r:embed="rId5"/>
            <a:stretch/>
          </p:blipFill>
          <p:spPr>
            <a:xfrm>
              <a:off x="120960" y="259956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barchart"/>
            <p:cNvPicPr/>
            <p:nvPr/>
          </p:nvPicPr>
          <p:blipFill>
            <a:blip r:embed="rId6"/>
            <a:stretch/>
          </p:blipFill>
          <p:spPr>
            <a:xfrm>
              <a:off x="1775880" y="1719360"/>
              <a:ext cx="2261160" cy="202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49"/>
          <p:cNvGrpSpPr/>
          <p:nvPr/>
        </p:nvGrpSpPr>
        <p:grpSpPr>
          <a:xfrm>
            <a:off x="4656240" y="1160640"/>
            <a:ext cx="4487760" cy="2739960"/>
            <a:chOff x="4656240" y="1160640"/>
            <a:chExt cx="4487760" cy="2739960"/>
          </a:xfrm>
        </p:grpSpPr>
        <p:grpSp>
          <p:nvGrpSpPr>
            <p:cNvPr id="428" name="Group 50"/>
            <p:cNvGrpSpPr/>
            <p:nvPr/>
          </p:nvGrpSpPr>
          <p:grpSpPr>
            <a:xfrm>
              <a:off x="4656240" y="1160640"/>
              <a:ext cx="4487760" cy="2739960"/>
              <a:chOff x="4656240" y="1160640"/>
              <a:chExt cx="4487760" cy="2739960"/>
            </a:xfrm>
          </p:grpSpPr>
          <p:grpSp>
            <p:nvGrpSpPr>
              <p:cNvPr id="429" name="Group 51"/>
              <p:cNvGrpSpPr/>
              <p:nvPr/>
            </p:nvGrpSpPr>
            <p:grpSpPr>
              <a:xfrm>
                <a:off x="4656240" y="1160640"/>
                <a:ext cx="4487760" cy="2739960"/>
                <a:chOff x="4656240" y="1160640"/>
                <a:chExt cx="4487760" cy="2739960"/>
              </a:xfrm>
            </p:grpSpPr>
            <p:grpSp>
              <p:nvGrpSpPr>
                <p:cNvPr id="430" name="Group 52"/>
                <p:cNvGrpSpPr/>
                <p:nvPr/>
              </p:nvGrpSpPr>
              <p:grpSpPr>
                <a:xfrm>
                  <a:off x="4660560" y="1164600"/>
                  <a:ext cx="4478760" cy="2731680"/>
                  <a:chOff x="4660560" y="1164600"/>
                  <a:chExt cx="4478760" cy="2731680"/>
                </a:xfrm>
              </p:grpSpPr>
              <p:grpSp>
                <p:nvGrpSpPr>
                  <p:cNvPr id="431" name="Group 53"/>
                  <p:cNvGrpSpPr/>
                  <p:nvPr/>
                </p:nvGrpSpPr>
                <p:grpSpPr>
                  <a:xfrm>
                    <a:off x="4660560" y="1164600"/>
                    <a:ext cx="4478760" cy="2731320"/>
                    <a:chOff x="4660560" y="1164600"/>
                    <a:chExt cx="4478760" cy="2731320"/>
                  </a:xfrm>
                </p:grpSpPr>
                <p:sp>
                  <p:nvSpPr>
                    <p:cNvPr id="432" name="Rectangle 54"/>
                    <p:cNvSpPr/>
                    <p:nvPr/>
                  </p:nvSpPr>
                  <p:spPr>
                    <a:xfrm>
                      <a:off x="4660560" y="1164600"/>
                      <a:ext cx="4478760" cy="243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main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3" name="Rectangle 55"/>
                    <p:cNvSpPr/>
                    <p:nvPr/>
                  </p:nvSpPr>
                  <p:spPr>
                    <a:xfrm>
                      <a:off x="4660560" y="1407960"/>
                      <a:ext cx="4478760" cy="27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domain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TLD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34" name="Group 56"/>
                    <p:cNvGrpSpPr/>
                    <p:nvPr/>
                  </p:nvGrpSpPr>
                  <p:grpSpPr>
                    <a:xfrm>
                      <a:off x="4660560" y="1678680"/>
                      <a:ext cx="1575360" cy="1231200"/>
                      <a:chOff x="4660560" y="1678680"/>
                      <a:chExt cx="1575360" cy="1231200"/>
                    </a:xfrm>
                  </p:grpSpPr>
                  <p:sp>
                    <p:nvSpPr>
                      <p:cNvPr id="435" name="Rectangle 57"/>
                      <p:cNvSpPr/>
                      <p:nvPr/>
                    </p:nvSpPr>
                    <p:spPr>
                      <a:xfrm>
                        <a:off x="4660560" y="167868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6" name="Rectangle 58"/>
                      <p:cNvSpPr/>
                      <p:nvPr/>
                    </p:nvSpPr>
                    <p:spPr>
                      <a:xfrm>
                        <a:off x="4982760" y="167868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7" name="Rectangle 59"/>
                      <p:cNvSpPr/>
                      <p:nvPr/>
                    </p:nvSpPr>
                    <p:spPr>
                      <a:xfrm>
                        <a:off x="5362920" y="167868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8" name="Rectangle 60"/>
                      <p:cNvSpPr/>
                      <p:nvPr/>
                    </p:nvSpPr>
                    <p:spPr>
                      <a:xfrm>
                        <a:off x="5766120" y="167868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9" name="Rectangle 61"/>
                      <p:cNvSpPr/>
                      <p:nvPr/>
                    </p:nvSpPr>
                    <p:spPr>
                      <a:xfrm>
                        <a:off x="4660560" y="185436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0" name="Rectangle 62"/>
                      <p:cNvSpPr/>
                      <p:nvPr/>
                    </p:nvSpPr>
                    <p:spPr>
                      <a:xfrm>
                        <a:off x="4982760" y="185436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M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1" name="Rectangle 63"/>
                      <p:cNvSpPr/>
                      <p:nvPr/>
                    </p:nvSpPr>
                    <p:spPr>
                      <a:xfrm>
                        <a:off x="5362920" y="185436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Rectangle 64"/>
                      <p:cNvSpPr/>
                      <p:nvPr/>
                    </p:nvSpPr>
                    <p:spPr>
                      <a:xfrm>
                        <a:off x="5766120" y="185436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3" name="Rectangle 65"/>
                      <p:cNvSpPr/>
                      <p:nvPr/>
                    </p:nvSpPr>
                    <p:spPr>
                      <a:xfrm>
                        <a:off x="4660560" y="2030040"/>
                        <a:ext cx="322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4" name="Rectangle 66"/>
                      <p:cNvSpPr/>
                      <p:nvPr/>
                    </p:nvSpPr>
                    <p:spPr>
                      <a:xfrm>
                        <a:off x="4982760" y="2030040"/>
                        <a:ext cx="37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NF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5" name="Rectangle 67"/>
                      <p:cNvSpPr/>
                      <p:nvPr/>
                    </p:nvSpPr>
                    <p:spPr>
                      <a:xfrm>
                        <a:off x="5362920" y="2030040"/>
                        <a:ext cx="403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6" name="Rectangle 68"/>
                      <p:cNvSpPr/>
                      <p:nvPr/>
                    </p:nvSpPr>
                    <p:spPr>
                      <a:xfrm>
                        <a:off x="5766120" y="2030040"/>
                        <a:ext cx="46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7" name="Rectangle 69"/>
                      <p:cNvSpPr/>
                      <p:nvPr/>
                    </p:nvSpPr>
                    <p:spPr>
                      <a:xfrm>
                        <a:off x="4660560" y="220644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8" name="Rectangle 70"/>
                      <p:cNvSpPr/>
                      <p:nvPr/>
                    </p:nvSpPr>
                    <p:spPr>
                      <a:xfrm>
                        <a:off x="4982760" y="220644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U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9" name="Rectangle 71"/>
                      <p:cNvSpPr/>
                      <p:nvPr/>
                    </p:nvSpPr>
                    <p:spPr>
                      <a:xfrm>
                        <a:off x="5362920" y="220644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0" name="Rectangle 72"/>
                      <p:cNvSpPr/>
                      <p:nvPr/>
                    </p:nvSpPr>
                    <p:spPr>
                      <a:xfrm>
                        <a:off x="5766120" y="220644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1" name="Rectangle 73"/>
                      <p:cNvSpPr/>
                      <p:nvPr/>
                    </p:nvSpPr>
                    <p:spPr>
                      <a:xfrm>
                        <a:off x="4660560" y="238212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2" name="Rectangle 74"/>
                      <p:cNvSpPr/>
                      <p:nvPr/>
                    </p:nvSpPr>
                    <p:spPr>
                      <a:xfrm>
                        <a:off x="4982760" y="238212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KR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3" name="Rectangle 75"/>
                      <p:cNvSpPr/>
                      <p:nvPr/>
                    </p:nvSpPr>
                    <p:spPr>
                      <a:xfrm>
                        <a:off x="5362920" y="238212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4" name="Rectangle 76"/>
                      <p:cNvSpPr/>
                      <p:nvPr/>
                    </p:nvSpPr>
                    <p:spPr>
                      <a:xfrm>
                        <a:off x="5766120" y="238212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5" name="Rectangle 77"/>
                      <p:cNvSpPr/>
                      <p:nvPr/>
                    </p:nvSpPr>
                    <p:spPr>
                      <a:xfrm>
                        <a:off x="4660560" y="255816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6" name="Rectangle 78"/>
                      <p:cNvSpPr/>
                      <p:nvPr/>
                    </p:nvSpPr>
                    <p:spPr>
                      <a:xfrm>
                        <a:off x="4982760" y="255816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E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7" name="Rectangle 79"/>
                      <p:cNvSpPr/>
                      <p:nvPr/>
                    </p:nvSpPr>
                    <p:spPr>
                      <a:xfrm>
                        <a:off x="5362920" y="255816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8" name="Rectangle 80"/>
                      <p:cNvSpPr/>
                      <p:nvPr/>
                    </p:nvSpPr>
                    <p:spPr>
                      <a:xfrm>
                        <a:off x="5766120" y="255816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9" name="Rectangle 81"/>
                      <p:cNvSpPr/>
                      <p:nvPr/>
                    </p:nvSpPr>
                    <p:spPr>
                      <a:xfrm>
                        <a:off x="4660560" y="2733840"/>
                        <a:ext cx="322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0" name="Rectangle 82"/>
                      <p:cNvSpPr/>
                      <p:nvPr/>
                    </p:nvSpPr>
                    <p:spPr>
                      <a:xfrm>
                        <a:off x="4982760" y="2733840"/>
                        <a:ext cx="37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R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1" name="Rectangle 83"/>
                      <p:cNvSpPr/>
                      <p:nvPr/>
                    </p:nvSpPr>
                    <p:spPr>
                      <a:xfrm>
                        <a:off x="5362920" y="2733840"/>
                        <a:ext cx="403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2" name="Rectangle 84"/>
                      <p:cNvSpPr/>
                      <p:nvPr/>
                    </p:nvSpPr>
                    <p:spPr>
                      <a:xfrm>
                        <a:off x="5766120" y="2733840"/>
                        <a:ext cx="46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63" name="Rectangle 85"/>
                    <p:cNvSpPr/>
                    <p:nvPr/>
                  </p:nvSpPr>
                  <p:spPr>
                    <a:xfrm>
                      <a:off x="6236280" y="1678680"/>
                      <a:ext cx="2902680" cy="202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Rectangle 86"/>
                    <p:cNvSpPr/>
                    <p:nvPr/>
                  </p:nvSpPr>
                  <p:spPr>
                    <a:xfrm>
                      <a:off x="4660560" y="3706200"/>
                      <a:ext cx="447876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 Total Domain Nam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65" name="Rectangle 87"/>
                  <p:cNvSpPr/>
                  <p:nvPr/>
                </p:nvSpPr>
                <p:spPr>
                  <a:xfrm>
                    <a:off x="4660560" y="1164600"/>
                    <a:ext cx="4478760" cy="273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66" name="Rectangle 88"/>
                <p:cNvSpPr/>
                <p:nvPr/>
              </p:nvSpPr>
              <p:spPr>
                <a:xfrm>
                  <a:off x="4656240" y="1160640"/>
                  <a:ext cx="4487760" cy="27399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67" name="Rectangle 89"/>
              <p:cNvSpPr/>
              <p:nvPr/>
            </p:nvSpPr>
            <p:spPr>
              <a:xfrm>
                <a:off x="4656240" y="1160640"/>
                <a:ext cx="4487760" cy="273996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468" name="Picture 90" descr="color0"/>
            <p:cNvPicPr/>
            <p:nvPr/>
          </p:nvPicPr>
          <p:blipFill>
            <a:blip r:embed="rId7"/>
            <a:stretch/>
          </p:blipFill>
          <p:spPr>
            <a:xfrm>
              <a:off x="4772880" y="189540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91" descr="color1"/>
            <p:cNvPicPr/>
            <p:nvPr/>
          </p:nvPicPr>
          <p:blipFill>
            <a:blip r:embed="rId8"/>
            <a:stretch/>
          </p:blipFill>
          <p:spPr>
            <a:xfrm>
              <a:off x="4772880" y="207144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92" descr="color2"/>
            <p:cNvPicPr/>
            <p:nvPr/>
          </p:nvPicPr>
          <p:blipFill>
            <a:blip r:embed="rId9"/>
            <a:stretch/>
          </p:blipFill>
          <p:spPr>
            <a:xfrm>
              <a:off x="4772880" y="2247480"/>
              <a:ext cx="10944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93" descr="color3"/>
            <p:cNvPicPr/>
            <p:nvPr/>
          </p:nvPicPr>
          <p:blipFill>
            <a:blip r:embed="rId10"/>
            <a:stretch/>
          </p:blipFill>
          <p:spPr>
            <a:xfrm>
              <a:off x="4772880" y="2423520"/>
              <a:ext cx="10944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4" descr="color4"/>
            <p:cNvPicPr/>
            <p:nvPr/>
          </p:nvPicPr>
          <p:blipFill>
            <a:blip r:embed="rId11"/>
            <a:stretch/>
          </p:blipFill>
          <p:spPr>
            <a:xfrm>
              <a:off x="4772880" y="259956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95" descr="color5"/>
            <p:cNvPicPr/>
            <p:nvPr/>
          </p:nvPicPr>
          <p:blipFill>
            <a:blip r:embed="rId12"/>
            <a:stretch/>
          </p:blipFill>
          <p:spPr>
            <a:xfrm>
              <a:off x="4772880" y="277524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96" descr="piechart"/>
            <p:cNvPicPr/>
            <p:nvPr/>
          </p:nvPicPr>
          <p:blipFill>
            <a:blip r:embed="rId13"/>
            <a:stretch/>
          </p:blipFill>
          <p:spPr>
            <a:xfrm>
              <a:off x="6349320" y="1719360"/>
              <a:ext cx="2190600" cy="202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97"/>
          <p:cNvGrpSpPr/>
          <p:nvPr/>
        </p:nvGrpSpPr>
        <p:grpSpPr>
          <a:xfrm>
            <a:off x="0" y="3890880"/>
            <a:ext cx="4656240" cy="2967120"/>
            <a:chOff x="0" y="3890880"/>
            <a:chExt cx="4656240" cy="2967120"/>
          </a:xfrm>
        </p:grpSpPr>
        <p:grpSp>
          <p:nvGrpSpPr>
            <p:cNvPr id="476" name="Group 98"/>
            <p:cNvGrpSpPr/>
            <p:nvPr/>
          </p:nvGrpSpPr>
          <p:grpSpPr>
            <a:xfrm>
              <a:off x="0" y="3890880"/>
              <a:ext cx="4656240" cy="2967120"/>
              <a:chOff x="0" y="3890880"/>
              <a:chExt cx="4656240" cy="2967120"/>
            </a:xfrm>
          </p:grpSpPr>
          <p:grpSp>
            <p:nvGrpSpPr>
              <p:cNvPr id="477" name="Group 99"/>
              <p:cNvGrpSpPr/>
              <p:nvPr/>
            </p:nvGrpSpPr>
            <p:grpSpPr>
              <a:xfrm>
                <a:off x="0" y="3890880"/>
                <a:ext cx="4656240" cy="2967120"/>
                <a:chOff x="0" y="3890880"/>
                <a:chExt cx="4656240" cy="2967120"/>
              </a:xfrm>
            </p:grpSpPr>
            <p:grpSp>
              <p:nvGrpSpPr>
                <p:cNvPr id="478" name="Group 100"/>
                <p:cNvGrpSpPr/>
                <p:nvPr/>
              </p:nvGrpSpPr>
              <p:grpSpPr>
                <a:xfrm>
                  <a:off x="4320" y="3895200"/>
                  <a:ext cx="4647240" cy="2958120"/>
                  <a:chOff x="4320" y="3895200"/>
                  <a:chExt cx="4647240" cy="2958120"/>
                </a:xfrm>
              </p:grpSpPr>
              <p:grpSp>
                <p:nvGrpSpPr>
                  <p:cNvPr id="479" name="Group 101"/>
                  <p:cNvGrpSpPr/>
                  <p:nvPr/>
                </p:nvGrpSpPr>
                <p:grpSpPr>
                  <a:xfrm>
                    <a:off x="4320" y="3895200"/>
                    <a:ext cx="4647240" cy="2957760"/>
                    <a:chOff x="4320" y="3895200"/>
                    <a:chExt cx="4647240" cy="2957760"/>
                  </a:xfrm>
                </p:grpSpPr>
                <p:sp>
                  <p:nvSpPr>
                    <p:cNvPr id="480" name="Rectangle 102"/>
                    <p:cNvSpPr/>
                    <p:nvPr/>
                  </p:nvSpPr>
                  <p:spPr>
                    <a:xfrm>
                      <a:off x="4320" y="3895200"/>
                      <a:ext cx="4647240" cy="263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me Page Content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Rectangle 103"/>
                    <p:cNvSpPr/>
                    <p:nvPr/>
                  </p:nvSpPr>
                  <p:spPr>
                    <a:xfrm>
                      <a:off x="4320" y="4158720"/>
                      <a:ext cx="4647240" cy="29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home page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site category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82" name="Group 104"/>
                    <p:cNvGrpSpPr/>
                    <p:nvPr/>
                  </p:nvGrpSpPr>
                  <p:grpSpPr>
                    <a:xfrm>
                      <a:off x="4320" y="4451760"/>
                      <a:ext cx="1807560" cy="1143000"/>
                      <a:chOff x="4320" y="4451760"/>
                      <a:chExt cx="1807560" cy="1143000"/>
                    </a:xfrm>
                  </p:grpSpPr>
                  <p:sp>
                    <p:nvSpPr>
                      <p:cNvPr id="483" name="Rectangle 105"/>
                      <p:cNvSpPr/>
                      <p:nvPr/>
                    </p:nvSpPr>
                    <p:spPr>
                      <a:xfrm>
                        <a:off x="4320" y="445176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4" name="Rectangle 106"/>
                      <p:cNvSpPr/>
                      <p:nvPr/>
                    </p:nvSpPr>
                    <p:spPr>
                      <a:xfrm>
                        <a:off x="319680" y="445176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5" name="Rectangle 107"/>
                      <p:cNvSpPr/>
                      <p:nvPr/>
                    </p:nvSpPr>
                    <p:spPr>
                      <a:xfrm>
                        <a:off x="957960" y="445176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6" name="Rectangle 108"/>
                      <p:cNvSpPr/>
                      <p:nvPr/>
                    </p:nvSpPr>
                    <p:spPr>
                      <a:xfrm>
                        <a:off x="1352160" y="445176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7" name="Rectangle 109"/>
                      <p:cNvSpPr/>
                      <p:nvPr/>
                    </p:nvSpPr>
                    <p:spPr>
                      <a:xfrm>
                        <a:off x="4320" y="464220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8" name="Rectangle 110"/>
                      <p:cNvSpPr/>
                      <p:nvPr/>
                    </p:nvSpPr>
                    <p:spPr>
                      <a:xfrm>
                        <a:off x="319680" y="464220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nventional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9" name="Rectangle 111"/>
                      <p:cNvSpPr/>
                      <p:nvPr/>
                    </p:nvSpPr>
                    <p:spPr>
                      <a:xfrm>
                        <a:off x="957960" y="464220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79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0" name="Rectangle 112"/>
                      <p:cNvSpPr/>
                      <p:nvPr/>
                    </p:nvSpPr>
                    <p:spPr>
                      <a:xfrm>
                        <a:off x="1352160" y="464220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1" name="Rectangle 113"/>
                      <p:cNvSpPr/>
                      <p:nvPr/>
                    </p:nvSpPr>
                    <p:spPr>
                      <a:xfrm>
                        <a:off x="4320" y="4832640"/>
                        <a:ext cx="31536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2" name="Rectangle 114"/>
                      <p:cNvSpPr/>
                      <p:nvPr/>
                    </p:nvSpPr>
                    <p:spPr>
                      <a:xfrm>
                        <a:off x="319680" y="4832640"/>
                        <a:ext cx="63828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or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3" name="Rectangle 115"/>
                      <p:cNvSpPr/>
                      <p:nvPr/>
                    </p:nvSpPr>
                    <p:spPr>
                      <a:xfrm>
                        <a:off x="957960" y="4832640"/>
                        <a:ext cx="39384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78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4" name="Rectangle 116"/>
                      <p:cNvSpPr/>
                      <p:nvPr/>
                    </p:nvSpPr>
                    <p:spPr>
                      <a:xfrm>
                        <a:off x="1352160" y="4832640"/>
                        <a:ext cx="45972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5" name="Rectangle 117"/>
                      <p:cNvSpPr/>
                      <p:nvPr/>
                    </p:nvSpPr>
                    <p:spPr>
                      <a:xfrm>
                        <a:off x="4320" y="502344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6" name="Rectangle 118"/>
                      <p:cNvSpPr/>
                      <p:nvPr/>
                    </p:nvSpPr>
                    <p:spPr>
                      <a:xfrm>
                        <a:off x="319680" y="502344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violenc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7" name="Rectangle 119"/>
                      <p:cNvSpPr/>
                      <p:nvPr/>
                    </p:nvSpPr>
                    <p:spPr>
                      <a:xfrm>
                        <a:off x="957960" y="502344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4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8" name="Rectangle 120"/>
                      <p:cNvSpPr/>
                      <p:nvPr/>
                    </p:nvSpPr>
                    <p:spPr>
                      <a:xfrm>
                        <a:off x="1352160" y="502344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9" name="Rectangle 121"/>
                      <p:cNvSpPr/>
                      <p:nvPr/>
                    </p:nvSpPr>
                    <p:spPr>
                      <a:xfrm>
                        <a:off x="4320" y="521388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0" name="Rectangle 122"/>
                      <p:cNvSpPr/>
                      <p:nvPr/>
                    </p:nvSpPr>
                    <p:spPr>
                      <a:xfrm>
                        <a:off x="319680" y="521388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gamblin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1" name="Rectangle 123"/>
                      <p:cNvSpPr/>
                      <p:nvPr/>
                    </p:nvSpPr>
                    <p:spPr>
                      <a:xfrm>
                        <a:off x="957960" y="521388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2" name="Rectangle 124"/>
                      <p:cNvSpPr/>
                      <p:nvPr/>
                    </p:nvSpPr>
                    <p:spPr>
                      <a:xfrm>
                        <a:off x="1352160" y="521388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3" name="Rectangle 125"/>
                      <p:cNvSpPr/>
                      <p:nvPr/>
                    </p:nvSpPr>
                    <p:spPr>
                      <a:xfrm>
                        <a:off x="4320" y="540432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4" name="Rectangle 126"/>
                      <p:cNvSpPr/>
                      <p:nvPr/>
                    </p:nvSpPr>
                    <p:spPr>
                      <a:xfrm>
                        <a:off x="319680" y="540432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hat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5" name="Rectangle 127"/>
                      <p:cNvSpPr/>
                      <p:nvPr/>
                    </p:nvSpPr>
                    <p:spPr>
                      <a:xfrm>
                        <a:off x="957960" y="540432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6" name="Rectangle 128"/>
                      <p:cNvSpPr/>
                      <p:nvPr/>
                    </p:nvSpPr>
                    <p:spPr>
                      <a:xfrm>
                        <a:off x="1352160" y="540432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507" name="Rectangle 129"/>
                    <p:cNvSpPr/>
                    <p:nvPr/>
                  </p:nvSpPr>
                  <p:spPr>
                    <a:xfrm>
                      <a:off x="1812240" y="4451760"/>
                      <a:ext cx="2838960" cy="219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Rectangle 130"/>
                    <p:cNvSpPr/>
                    <p:nvPr/>
                  </p:nvSpPr>
                  <p:spPr>
                    <a:xfrm>
                      <a:off x="4320" y="6647400"/>
                      <a:ext cx="4647240" cy="20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22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09" name="Rectangle 131"/>
                  <p:cNvSpPr/>
                  <p:nvPr/>
                </p:nvSpPr>
                <p:spPr>
                  <a:xfrm>
                    <a:off x="4320" y="3895200"/>
                    <a:ext cx="4647240" cy="295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10" name="Rectangle 132"/>
                <p:cNvSpPr/>
                <p:nvPr/>
              </p:nvSpPr>
              <p:spPr>
                <a:xfrm>
                  <a:off x="0" y="3890880"/>
                  <a:ext cx="4656240" cy="296712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11" name="Rectangle 133"/>
              <p:cNvSpPr/>
              <p:nvPr/>
            </p:nvSpPr>
            <p:spPr>
              <a:xfrm>
                <a:off x="0" y="3890880"/>
                <a:ext cx="4656240" cy="296712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512" name="Picture 134" descr="color0"/>
            <p:cNvPicPr/>
            <p:nvPr/>
          </p:nvPicPr>
          <p:blipFill>
            <a:blip r:embed="rId14"/>
            <a:stretch/>
          </p:blipFill>
          <p:spPr>
            <a:xfrm>
              <a:off x="114480" y="468648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35" descr="color1"/>
            <p:cNvPicPr/>
            <p:nvPr/>
          </p:nvPicPr>
          <p:blipFill>
            <a:blip r:embed="rId15"/>
            <a:stretch/>
          </p:blipFill>
          <p:spPr>
            <a:xfrm>
              <a:off x="114480" y="487692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6" descr="color2"/>
            <p:cNvPicPr/>
            <p:nvPr/>
          </p:nvPicPr>
          <p:blipFill>
            <a:blip r:embed="rId16"/>
            <a:stretch/>
          </p:blipFill>
          <p:spPr>
            <a:xfrm>
              <a:off x="114480" y="506808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37" descr="color3"/>
            <p:cNvPicPr/>
            <p:nvPr/>
          </p:nvPicPr>
          <p:blipFill>
            <a:blip r:embed="rId17"/>
            <a:stretch/>
          </p:blipFill>
          <p:spPr>
            <a:xfrm>
              <a:off x="114480" y="525852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38" descr="color4"/>
            <p:cNvPicPr/>
            <p:nvPr/>
          </p:nvPicPr>
          <p:blipFill>
            <a:blip r:embed="rId18"/>
            <a:stretch/>
          </p:blipFill>
          <p:spPr>
            <a:xfrm>
              <a:off x="114480" y="544896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39" descr="barchart"/>
            <p:cNvPicPr/>
            <p:nvPr/>
          </p:nvPicPr>
          <p:blipFill>
            <a:blip r:embed="rId19"/>
            <a:stretch/>
          </p:blipFill>
          <p:spPr>
            <a:xfrm>
              <a:off x="1922760" y="4496040"/>
              <a:ext cx="2142720" cy="21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716E-A6FC-4E9C-B47D-9C3EDC4A61C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Man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841320" y="2062080"/>
            <a:ext cx="8077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Domain Renewal Managemen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Lock Down Domains and Standardiz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Manage D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22" name="Picture 7" descr="new_exp"/>
          <p:cNvPicPr/>
          <p:nvPr/>
        </p:nvPicPr>
        <p:blipFill>
          <a:blip r:embed="rId1"/>
          <a:stretch/>
        </p:blipFill>
        <p:spPr>
          <a:xfrm>
            <a:off x="6772320" y="1449360"/>
            <a:ext cx="1901880" cy="15987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462-AC11-43E1-AC60-E1906ADECFA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Build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841320" y="2062080"/>
            <a:ext cx="8077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Registr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Local Presence Service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Domain Recovery / Acquisi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622-3973-4642-AB79-4699098F689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30" name="Picture 2" descr="map with logos copy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4"/>
          <p:cNvSpPr/>
          <p:nvPr/>
        </p:nvSpPr>
        <p:spPr>
          <a:xfrm>
            <a:off x="393840" y="1739880"/>
            <a:ext cx="25272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3403440" y="2725560"/>
            <a:ext cx="189252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Netherlands (.nl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olombia (.c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Paraguay (.py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zech Republic (.cz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Norway (.n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El Savador (.sv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Portugal (.pt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Finland (.fi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audi Arabia (.sa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France (.f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876240" y="1440000"/>
            <a:ext cx="8267760" cy="1002600"/>
          </a:xfrm>
          <a:prstGeom prst="rect">
            <a:avLst/>
          </a:prstGeom>
          <a:solidFill>
            <a:srgbClr val="eef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337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More than 100 countries have a restricted domain registr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process, including 7 of the top 10 markets (as measured by GDP)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337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VRSN Local Presence can help you to satisfy this requirements.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6707160" y="2725560"/>
            <a:ext cx="18036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outh Korea (.k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Germany (.d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ingapore (.sg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Hong Kong (.hk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pain (.es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Hungary (.hu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weden (.s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celand (.is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Taiwan (.tw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ndia (.i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Vietnam (.v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60240" y="2725560"/>
            <a:ext cx="200664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Australia (.au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reland (.i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Boliva (.b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taly (.it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Brazil (.b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Japan (.jp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anada (.ca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Jordan (.j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hile (.cl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Malaysia (.my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hina (.c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Global Registration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Local Presence Qualification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0" y="1079640"/>
            <a:ext cx="91440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7FC2-2518-44F7-9916-4AA73078F8AC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Monitoring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320" y="206208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Domain and Web Watch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Install Surveillance to Continuously Monitor Brand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5D48-727B-4169-AC7D-C604AD34D48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5000"/>
              </a:lnSpc>
              <a:spcBef>
                <a:spcPts val="1624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Domain Watch for Cybersquatting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truly unique cybersquatting solution combining  100% coverage of all TLDs, patented web crawling technology, and a case management system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34160" indent="-434160">
              <a:lnSpc>
                <a:spcPct val="85000"/>
              </a:lnSpc>
              <a:spcBef>
                <a:spcPts val="1301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Web Watch for Online Brand Abuse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宋体"/>
              </a:rPr>
              <a:t>(includes Domains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truly unique brand protection solution combining 100% coverage of home pages and registered domains, patented web crawling technology, and a case management system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34160" indent="-434160">
              <a:lnSpc>
                <a:spcPct val="85000"/>
              </a:lnSpc>
              <a:spcBef>
                <a:spcPts val="1301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Premium Brand Protection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宋体"/>
              </a:rPr>
              <a:t>(Comprehensive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comprehensive protection solution covering 40,000,000+ domains and 5,000,000,000+ web pages, and many mor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041480" y="12193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Introducing uniquely affordable brand protection services.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BFDD-8E86-440B-A772-0B7610F4CA31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15920" y="105372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Watch Produc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828800" y="212076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219320" y="29732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Master List of over 40,000,000 Registered Domai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219320" y="3449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Monthly Searches of Every Home Pag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219320" y="3925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Detailed Attributes about Offending Site for Contex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219320" y="4402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Exclude Criteria to Eliminate Irrelevant Inform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219320" y="48783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Action Center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295280" y="5321160"/>
            <a:ext cx="6400800" cy="360"/>
            <a:chOff x="1295280" y="5321160"/>
            <a:chExt cx="6400800" cy="360"/>
          </a:xfrm>
        </p:grpSpPr>
        <p:sp>
          <p:nvSpPr>
            <p:cNvPr id="556" name="Line 9"/>
            <p:cNvSpPr/>
            <p:nvPr/>
          </p:nvSpPr>
          <p:spPr>
            <a:xfrm>
              <a:off x="1295280" y="5321160"/>
              <a:ext cx="6400800" cy="0"/>
            </a:xfrm>
            <a:prstGeom prst="line">
              <a:avLst/>
            </a:prstGeom>
            <a:ln w="57240">
              <a:solidFill>
                <a:srgbClr val="ffb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1295280" y="532116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558" name="Text Box 10"/>
          <p:cNvSpPr/>
          <p:nvPr/>
        </p:nvSpPr>
        <p:spPr>
          <a:xfrm>
            <a:off x="1219320" y="5549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Unique, aggressively priced online brand protection product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914400" y="2120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These low-cost services leverage industry-proven technology.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1" name="文本框 8199"/>
          <p:cNvSpPr/>
          <p:nvPr/>
        </p:nvSpPr>
        <p:spPr>
          <a:xfrm>
            <a:off x="2689200" y="120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CBCC-1599-4211-9EF3-51CAB16D322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2430360" y="1828800"/>
            <a:ext cx="3944880" cy="457200"/>
            <a:chOff x="2430360" y="1828800"/>
            <a:chExt cx="3944880" cy="457200"/>
          </a:xfrm>
        </p:grpSpPr>
        <p:sp>
          <p:nvSpPr>
            <p:cNvPr id="564" name="Text Box 5"/>
            <p:cNvSpPr/>
            <p:nvPr/>
          </p:nvSpPr>
          <p:spPr>
            <a:xfrm>
              <a:off x="2455920" y="1828800"/>
              <a:ext cx="390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565" name="Text Box 6"/>
            <p:cNvSpPr/>
            <p:nvPr/>
          </p:nvSpPr>
          <p:spPr>
            <a:xfrm>
              <a:off x="2430360" y="1841400"/>
              <a:ext cx="3944880" cy="276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Intelligence Center</a:t>
              </a:r>
              <a:endParaRPr b="1" lang="en-US" sz="12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566" name="Rectangle 7"/>
          <p:cNvSpPr/>
          <p:nvPr/>
        </p:nvSpPr>
        <p:spPr>
          <a:xfrm>
            <a:off x="876240" y="1320840"/>
            <a:ext cx="7772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echnology of Intelligence Center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68" name="Host Control  2049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25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615-0954-42A7-B1E1-B22F2C9FA98D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Text Box 1027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28" name="Picture 1028" descr="eBay logo"/>
          <p:cNvPicPr/>
          <p:nvPr/>
        </p:nvPicPr>
        <p:blipFill>
          <a:blip r:embed="rId1"/>
          <a:stretch/>
        </p:blipFill>
        <p:spPr>
          <a:xfrm>
            <a:off x="6465960" y="2311560"/>
            <a:ext cx="1954080" cy="892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29"/>
          <p:cNvSpPr/>
          <p:nvPr/>
        </p:nvSpPr>
        <p:spPr>
          <a:xfrm>
            <a:off x="6929280" y="3170160"/>
            <a:ext cx="45720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0" name="Picture 1030" descr="apple%20logo"/>
          <p:cNvPicPr/>
          <p:nvPr/>
        </p:nvPicPr>
        <p:blipFill>
          <a:blip r:embed="rId2"/>
          <a:stretch/>
        </p:blipFill>
        <p:spPr>
          <a:xfrm>
            <a:off x="5511960" y="1333440"/>
            <a:ext cx="1066680" cy="79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1" descr="IBM"/>
          <p:cNvPicPr/>
          <p:nvPr/>
        </p:nvPicPr>
        <p:blipFill>
          <a:blip r:embed="rId3"/>
          <a:stretch/>
        </p:blipFill>
        <p:spPr>
          <a:xfrm>
            <a:off x="4254480" y="406548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2" descr="cocacola"/>
          <p:cNvPicPr/>
          <p:nvPr/>
        </p:nvPicPr>
        <p:blipFill>
          <a:blip r:embed="rId4"/>
          <a:stretch/>
        </p:blipFill>
        <p:spPr>
          <a:xfrm>
            <a:off x="3479760" y="1589040"/>
            <a:ext cx="1079640" cy="12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3" descr="Disney"/>
          <p:cNvPicPr/>
          <p:nvPr/>
        </p:nvPicPr>
        <p:blipFill>
          <a:blip r:embed="rId5"/>
          <a:stretch/>
        </p:blipFill>
        <p:spPr>
          <a:xfrm>
            <a:off x="6134040" y="3747960"/>
            <a:ext cx="143532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4" descr="Starbucks"/>
          <p:cNvPicPr/>
          <p:nvPr/>
        </p:nvPicPr>
        <p:blipFill>
          <a:blip r:embed="rId6"/>
          <a:stretch/>
        </p:blipFill>
        <p:spPr>
          <a:xfrm>
            <a:off x="1790640" y="4192560"/>
            <a:ext cx="1892520" cy="18921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35"/>
          <p:cNvSpPr/>
          <p:nvPr/>
        </p:nvSpPr>
        <p:spPr>
          <a:xfrm>
            <a:off x="1947960" y="3102120"/>
            <a:ext cx="1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6" name="Picture 1036" descr="space"/>
          <p:cNvPicPr/>
          <p:nvPr/>
        </p:nvPicPr>
        <p:blipFill>
          <a:blip r:embed="rId7"/>
          <a:stretch/>
        </p:blipFill>
        <p:spPr>
          <a:xfrm>
            <a:off x="1947960" y="3467160"/>
            <a:ext cx="149040" cy="111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1947960" y="3102120"/>
            <a:ext cx="1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8" name="Picture 1038" descr="space"/>
          <p:cNvPicPr/>
          <p:nvPr/>
        </p:nvPicPr>
        <p:blipFill>
          <a:blip r:embed="rId8"/>
          <a:stretch/>
        </p:blipFill>
        <p:spPr>
          <a:xfrm>
            <a:off x="1947960" y="3467160"/>
            <a:ext cx="149040" cy="11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039"/>
          <p:cNvSpPr/>
          <p:nvPr/>
        </p:nvSpPr>
        <p:spPr>
          <a:xfrm>
            <a:off x="2995560" y="3274920"/>
            <a:ext cx="1116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40" name="Picture 1040" descr="citi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32320" y="3138480"/>
            <a:ext cx="9907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1" descr="Inte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308240" y="1589040"/>
            <a:ext cx="1218960" cy="81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42" descr="Sony"/>
          <p:cNvPicPr/>
          <p:nvPr/>
        </p:nvPicPr>
        <p:blipFill>
          <a:blip r:embed="rId13"/>
          <a:stretch/>
        </p:blipFill>
        <p:spPr>
          <a:xfrm>
            <a:off x="1095480" y="2852640"/>
            <a:ext cx="1895400" cy="974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3924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What is the value of a brand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F3F-1E95-4C36-95A7-176E0D25C1C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51040" y="7869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28720" y="1785960"/>
          <a:ext cx="8077320" cy="4127400"/>
        </p:xfrm>
        <a:graphic>
          <a:graphicData uri="http://schemas.openxmlformats.org/drawingml/2006/table">
            <a:tbl>
              <a:tblPr/>
              <a:tblGrid>
                <a:gridCol w="5500800"/>
                <a:gridCol w="1330200"/>
                <a:gridCol w="124632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TYPE OF BRAND ABUSE IDENTIFIED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Domain (cybersquatting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Home Page Text (visible or invisible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Home Page Source Code (meta tag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Link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Logo Use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MATCHING TECHNOLOGY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ildcard Search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Common Misspellings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Use of Special Characters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act Match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72" name="Rectangle 6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392-9E40-444E-90D0-C240DFE23CC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23960" y="9903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 Continu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787320" y="2276640"/>
          <a:ext cx="8207280" cy="2792160"/>
        </p:xfrm>
        <a:graphic>
          <a:graphicData uri="http://schemas.openxmlformats.org/drawingml/2006/table">
            <a:tbl>
              <a:tblPr/>
              <a:tblGrid>
                <a:gridCol w="5672160"/>
                <a:gridCol w="1378080"/>
                <a:gridCol w="115704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CONTEXTUAL INFORMATION PROVIDED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Status (Live, Parked, Error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Commerce Status (Yes or No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Objectionable Content Flag (Hate, Violence, Gambling, Pornography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Traffic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Archive Version of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Registration Contact Informatio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76" name="Rectangle 4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19D1-F040-4C7D-AE6B-AABAE3558282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76240" y="69804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 Continu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51040" y="1828800"/>
          <a:ext cx="8076960" cy="4622760"/>
        </p:xfrm>
        <a:graphic>
          <a:graphicData uri="http://schemas.openxmlformats.org/drawingml/2006/table">
            <a:tbl>
              <a:tblPr/>
              <a:tblGrid>
                <a:gridCol w="5603400"/>
                <a:gridCol w="1341720"/>
                <a:gridCol w="113184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FILTERING AND RELEVANCY CRITERIA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List of Site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Top-Level Domain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Site Statu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Objectionable Content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eCommerce Statu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d Based on Minimum Amount of Site Traffic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Previously Delivered Site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Location of Brand Presenc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9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ELIVERY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Monthly Report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Action Center Subscriptio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80" name="Rectangle 6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53B-22FF-4F9F-9F37-12494E2C3672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87588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Brand Monitoring Services Comparis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58880" y="2209680"/>
          <a:ext cx="8232840" cy="3398760"/>
        </p:xfrm>
        <a:graphic>
          <a:graphicData uri="http://schemas.openxmlformats.org/drawingml/2006/table">
            <a:tbl>
              <a:tblPr/>
              <a:tblGrid>
                <a:gridCol w="2058840"/>
                <a:gridCol w="2057400"/>
                <a:gridCol w="2059200"/>
                <a:gridCol w="2057400"/>
              </a:tblGrid>
              <a:tr h="40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rand Protection (Premium)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earch Scope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20,000,000+ home pag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5,000,000,000+ web pag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pam email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Relevancy Criteria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Exclude list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Exclude list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Customer-specific configuration of scoring formula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ite Attribut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Action Center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sic Featur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sic Featur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Advanced Features: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tch email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Upload Evidence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Folder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5 user id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Text Box 35"/>
          <p:cNvSpPr/>
          <p:nvPr/>
        </p:nvSpPr>
        <p:spPr>
          <a:xfrm>
            <a:off x="927000" y="56642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A simplified comparison of Brand Monitoring Services: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5" name="Rectangle 36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A3B6-1219-431B-83B7-6D5F16021EEE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rcRect l="450" t="15972" r="1303" b="28124"/>
          <a:stretch/>
        </p:blipFill>
        <p:spPr>
          <a:xfrm>
            <a:off x="622440" y="2133720"/>
            <a:ext cx="8299440" cy="35416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4457880" y="387360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ew China ccTLD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BM Portal Home P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8C48-2602-4394-956E-E6D42FE9DAB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rcRect l="0" t="16321" r="1562" b="5729"/>
          <a:stretch/>
        </p:blipFill>
        <p:spPr>
          <a:xfrm>
            <a:off x="698400" y="1979640"/>
            <a:ext cx="7318440" cy="43448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omains reporting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FFC-B6C9-4CAD-8D01-956EAB882A9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rcRect l="303" t="16252" r="1875" b="25004"/>
          <a:stretch/>
        </p:blipFill>
        <p:spPr>
          <a:xfrm>
            <a:off x="749160" y="2075040"/>
            <a:ext cx="8166240" cy="36781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omain Manage Home P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A7D-838D-4E1E-B80C-BD225956DFC3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600" name="Picture 3075" descr=""/>
          <p:cNvPicPr/>
          <p:nvPr/>
        </p:nvPicPr>
        <p:blipFill>
          <a:blip r:embed="rId1"/>
          <a:srcRect l="0" t="16513" r="1628" b="13019"/>
          <a:stretch/>
        </p:blipFill>
        <p:spPr>
          <a:xfrm>
            <a:off x="668160" y="2076480"/>
            <a:ext cx="7669440" cy="41212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076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Task Order Audit Trail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2" name="Rectangle 308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3" name="文本框 8199"/>
          <p:cNvSpPr/>
          <p:nvPr/>
        </p:nvSpPr>
        <p:spPr>
          <a:xfrm>
            <a:off x="13842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0F6-54FD-4BD3-AB71-F34C5F71745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607" name="Group 18"/>
          <p:cNvGrpSpPr/>
          <p:nvPr/>
        </p:nvGrpSpPr>
        <p:grpSpPr>
          <a:xfrm>
            <a:off x="684720" y="1422360"/>
            <a:ext cx="8637120" cy="5492880"/>
            <a:chOff x="684720" y="1422360"/>
            <a:chExt cx="8637120" cy="5492880"/>
          </a:xfrm>
        </p:grpSpPr>
        <p:sp>
          <p:nvSpPr>
            <p:cNvPr id="608" name="AutoShape 5"/>
            <p:cNvSpPr/>
            <p:nvPr/>
          </p:nvSpPr>
          <p:spPr>
            <a:xfrm>
              <a:off x="1854360" y="1585800"/>
              <a:ext cx="1834920" cy="5572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684720" y="1573200"/>
              <a:ext cx="286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Corporate Intellectual 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perty Lawyers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811080" y="2432160"/>
              <a:ext cx="24606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tecting valuable trademarks and brands on the Internet through domain name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eventing off-shore cybersquatters from infringing on intellectual property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eventing litigation in foreign country to get back a domain name that is trademarked – chances are you’ll lose!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3962880" y="1585800"/>
              <a:ext cx="175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Marketing/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E-Commerce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3556080" y="2432160"/>
              <a:ext cx="259056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moting brands and e-commerce initiatives globally through domain name registration – local content, global message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Driving traffic to e-commerce through ccTLD registration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tecting valuable trademarks and brands on the Internet through domain name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6547320" y="1523880"/>
              <a:ext cx="251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Webmaster/ 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Technical Contacts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4" name="Text Box 11"/>
            <p:cNvSpPr/>
            <p:nvPr/>
          </p:nvSpPr>
          <p:spPr>
            <a:xfrm>
              <a:off x="6380280" y="2382840"/>
              <a:ext cx="27795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Managing the inventory of domains and receiving a consolidated quarterly billing statement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Renewing domains automatically and paying in a foreign currency when required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viding security for gTLDs domain names preventing unauthorized modifications or deactivation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811080" y="1461960"/>
              <a:ext cx="8348760" cy="468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973080" y="2205000"/>
              <a:ext cx="8348760" cy="1800"/>
              <a:chOff x="973080" y="2205000"/>
              <a:chExt cx="8348760" cy="1800"/>
            </a:xfrm>
          </p:grpSpPr>
          <p:sp>
            <p:nvSpPr>
              <p:cNvPr id="617" name="Line 13"/>
              <p:cNvSpPr/>
              <p:nvPr/>
            </p:nvSpPr>
            <p:spPr>
              <a:xfrm>
                <a:off x="973080" y="2205000"/>
                <a:ext cx="83487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973080" y="2205000"/>
                <a:ext cx="8348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489480" y="1422360"/>
              <a:ext cx="1440" cy="4691160"/>
              <a:chOff x="3489480" y="1422360"/>
              <a:chExt cx="1440" cy="4691160"/>
            </a:xfrm>
          </p:grpSpPr>
          <p:sp>
            <p:nvSpPr>
              <p:cNvPr id="620" name="Line 14"/>
              <p:cNvSpPr/>
              <p:nvPr/>
            </p:nvSpPr>
            <p:spPr>
              <a:xfrm>
                <a:off x="3489480" y="1422360"/>
                <a:ext cx="1440" cy="469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3489480" y="1422360"/>
                <a:ext cx="1440" cy="46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261120" y="1434960"/>
              <a:ext cx="1440" cy="4691160"/>
              <a:chOff x="6261120" y="1434960"/>
              <a:chExt cx="1440" cy="4691160"/>
            </a:xfrm>
          </p:grpSpPr>
          <p:sp>
            <p:nvSpPr>
              <p:cNvPr id="623" name="Line 15"/>
              <p:cNvSpPr/>
              <p:nvPr/>
            </p:nvSpPr>
            <p:spPr>
              <a:xfrm>
                <a:off x="6261120" y="1434960"/>
                <a:ext cx="1440" cy="469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6261120" y="1434960"/>
                <a:ext cx="1440" cy="46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</p:grpSp>
      <p:sp>
        <p:nvSpPr>
          <p:cNvPr id="625" name="Rectangle 19"/>
          <p:cNvSpPr/>
          <p:nvPr/>
        </p:nvSpPr>
        <p:spPr>
          <a:xfrm>
            <a:off x="684360" y="10177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Customer Benefits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EFD1-1AB8-49F3-BEB6-901FABFD8130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833480" y="132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698400" y="1859040"/>
            <a:ext cx="807732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aster Services Agreement: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No P.O. or money needed to execut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2 year term, automatic 2 year renewal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Designate up to 5 individuals to place task order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Automatic discount on premium services such as international registratio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Dedicated account team from VeriSign Digital Brand Management Service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Service-level guarante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Task Order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Online Portal Managemen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722160" y="115740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Implementation is easy 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FEE-6FCC-4520-A286-B953270D2EFC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Brands are critical assets to a company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537560" y="1739880"/>
            <a:ext cx="39769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  <a:ea typeface="宋体"/>
              </a:rPr>
              <a:t>Brand Valu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in Billio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09640" y="2349360"/>
            <a:ext cx="321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Coca-Col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7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Microsoft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64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IBM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51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Disney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9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McDonalds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5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For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Apple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  5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Amazo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  3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49" name="Picture 8" descr="BS01175_"/>
          <p:cNvPicPr/>
          <p:nvPr/>
        </p:nvPicPr>
        <p:blipFill>
          <a:blip r:embed="rId1"/>
          <a:stretch/>
        </p:blipFill>
        <p:spPr>
          <a:xfrm>
            <a:off x="5340240" y="1589040"/>
            <a:ext cx="758880" cy="79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1231920" y="5035680"/>
            <a:ext cx="7200720" cy="7520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Brands in many cases can represent on average 35% of a company’s market capitalization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5854680" y="2171880"/>
            <a:ext cx="2463840" cy="2489040"/>
          </a:xfrm>
          <a:custGeom>
            <a:avLst/>
            <a:gdLst>
              <a:gd name="textAreaLeft" fmla="*/ 578520 w 2463840"/>
              <a:gd name="textAreaRight" fmla="*/ 1885320 w 2463840"/>
              <a:gd name="textAreaTop" fmla="*/ 584280 h 2489040"/>
              <a:gd name="textAreaBottom" fmla="*/ 1904760 h 248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6d6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%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f Mkt. Cap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533600" y="5934240"/>
            <a:ext cx="59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s your Digital Brand Protected?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EC6-9024-4F16-8535-A911CA2A04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384-9B2B-4BE9-BEAF-41EA6F5C1BDA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2489040" y="2755800"/>
            <a:ext cx="5080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rtfolio of global digital brand assets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prise level of service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thoritative industry knowledge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917720" y="1549440"/>
            <a:ext cx="5905440" cy="85104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57a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otect and Promote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2019240" y="4915080"/>
            <a:ext cx="5905440" cy="85068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57a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iving Brand Value in the Digital World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633-EBCE-45B2-BFDF-BE212E3CACE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622440" y="1104840"/>
            <a:ext cx="8521200" cy="5752800"/>
            <a:chOff x="622440" y="1104840"/>
            <a:chExt cx="8521200" cy="5752800"/>
          </a:xfrm>
        </p:grpSpPr>
        <p:pic>
          <p:nvPicPr>
            <p:cNvPr id="155" name="Picture 5" descr="whitehousecom"/>
            <p:cNvPicPr/>
            <p:nvPr/>
          </p:nvPicPr>
          <p:blipFill>
            <a:blip r:embed="rId1"/>
            <a:stretch/>
          </p:blipFill>
          <p:spPr>
            <a:xfrm>
              <a:off x="622440" y="1104840"/>
              <a:ext cx="8521200" cy="57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6"/>
            <p:cNvSpPr/>
            <p:nvPr/>
          </p:nvSpPr>
          <p:spPr>
            <a:xfrm>
              <a:off x="4662360" y="4242240"/>
              <a:ext cx="537840" cy="31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57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oes the Government Care?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2781360" y="1155600"/>
            <a:ext cx="4279680" cy="635040"/>
          </a:xfrm>
          <a:prstGeom prst="ellips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98520" y="787320"/>
            <a:ext cx="825840" cy="393840"/>
            <a:chOff x="3098520" y="787320"/>
            <a:chExt cx="825840" cy="393840"/>
          </a:xfrm>
        </p:grpSpPr>
        <p:sp>
          <p:nvSpPr>
            <p:cNvPr id="160" name="Line 10"/>
            <p:cNvSpPr/>
            <p:nvPr/>
          </p:nvSpPr>
          <p:spPr>
            <a:xfrm flipV="1">
              <a:off x="3098880" y="787320"/>
              <a:ext cx="825480" cy="393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 rot="10800000">
              <a:off x="3098520" y="787320"/>
              <a:ext cx="8254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2AC-ED2A-49D5-900D-A28E7BEA3F2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280" y="1295280"/>
            <a:ext cx="8839440" cy="825480"/>
          </a:xfrm>
          <a:prstGeom prst="rect">
            <a:avLst/>
          </a:prstGeom>
          <a:gradFill rotWithShape="0">
            <a:gsLst>
              <a:gs pos="0">
                <a:srgbClr val="032987"/>
              </a:gs>
              <a:gs pos="100000">
                <a:srgbClr val="01133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宋体"/>
              </a:rPr>
              <a:t>Growing complexity of domain name registrations                    drives customer towards outsourced services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16200" y="412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180"/>
                </a:solidFill>
                <a:latin typeface="Tahoma"/>
                <a:ea typeface="宋体"/>
              </a:rPr>
              <a:t>x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045120" y="3048120"/>
            <a:ext cx="12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192 Registries</a:t>
            </a:r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391520" y="23623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06 countri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391520" y="289548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Un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6 countri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391520" y="342900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 Commercia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com, .net, .org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391520" y="399096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4 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edu, .gov, .mil, int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95520" y="4902120"/>
            <a:ext cx="762480" cy="152640"/>
            <a:chOff x="6095520" y="4902120"/>
            <a:chExt cx="762480" cy="152640"/>
          </a:xfrm>
        </p:grpSpPr>
        <p:sp>
          <p:nvSpPr>
            <p:cNvPr id="171" name="Line 10"/>
            <p:cNvSpPr/>
            <p:nvPr/>
          </p:nvSpPr>
          <p:spPr>
            <a:xfrm flipV="1">
              <a:off x="6095880" y="4902120"/>
              <a:ext cx="762120" cy="15264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6095520" y="4902120"/>
              <a:ext cx="76212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73" name="Text Box 11"/>
          <p:cNvSpPr/>
          <p:nvPr/>
        </p:nvSpPr>
        <p:spPr>
          <a:xfrm>
            <a:off x="7391520" y="45115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 Unrestric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info, .biz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5880" y="5283360"/>
            <a:ext cx="762120" cy="304560"/>
            <a:chOff x="6095880" y="5283360"/>
            <a:chExt cx="762120" cy="304560"/>
          </a:xfrm>
        </p:grpSpPr>
        <p:sp>
          <p:nvSpPr>
            <p:cNvPr id="175" name="Line 12"/>
            <p:cNvSpPr/>
            <p:nvPr/>
          </p:nvSpPr>
          <p:spPr>
            <a:xfrm>
              <a:off x="6095880" y="5283360"/>
              <a:ext cx="762120" cy="3045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095880" y="528336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77" name="Text Box 13"/>
          <p:cNvSpPr/>
          <p:nvPr/>
        </p:nvSpPr>
        <p:spPr>
          <a:xfrm>
            <a:off x="7391520" y="5029200"/>
            <a:ext cx="1523880" cy="6415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5 Restricte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name, pro, aero, museum, coop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172200" y="5969160"/>
            <a:ext cx="838080" cy="360"/>
            <a:chOff x="6172200" y="5969160"/>
            <a:chExt cx="838080" cy="360"/>
          </a:xfrm>
        </p:grpSpPr>
        <p:sp>
          <p:nvSpPr>
            <p:cNvPr id="179" name="Line 14"/>
            <p:cNvSpPr/>
            <p:nvPr/>
          </p:nvSpPr>
          <p:spPr>
            <a:xfrm>
              <a:off x="6172200" y="5969160"/>
              <a:ext cx="83808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172200" y="596916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5520" y="3911400"/>
            <a:ext cx="762480" cy="152280"/>
            <a:chOff x="6095520" y="3911400"/>
            <a:chExt cx="762480" cy="152280"/>
          </a:xfrm>
        </p:grpSpPr>
        <p:sp>
          <p:nvSpPr>
            <p:cNvPr id="182" name="Line 15"/>
            <p:cNvSpPr/>
            <p:nvPr/>
          </p:nvSpPr>
          <p:spPr>
            <a:xfrm flipV="1">
              <a:off x="6095880" y="3911400"/>
              <a:ext cx="762120" cy="1522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6095520" y="3911400"/>
              <a:ext cx="762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5880" y="4292640"/>
            <a:ext cx="762120" cy="304920"/>
            <a:chOff x="6095880" y="4292640"/>
            <a:chExt cx="762120" cy="304920"/>
          </a:xfrm>
        </p:grpSpPr>
        <p:sp>
          <p:nvSpPr>
            <p:cNvPr id="185" name="Line 16"/>
            <p:cNvSpPr/>
            <p:nvPr/>
          </p:nvSpPr>
          <p:spPr>
            <a:xfrm>
              <a:off x="6095880" y="4292640"/>
              <a:ext cx="762120" cy="3049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095880" y="429264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095880" y="2577960"/>
            <a:ext cx="711360" cy="292320"/>
            <a:chOff x="6095880" y="2577960"/>
            <a:chExt cx="711360" cy="292320"/>
          </a:xfrm>
        </p:grpSpPr>
        <p:sp>
          <p:nvSpPr>
            <p:cNvPr id="188" name="Line 17"/>
            <p:cNvSpPr/>
            <p:nvPr/>
          </p:nvSpPr>
          <p:spPr>
            <a:xfrm flipV="1">
              <a:off x="6095880" y="2577960"/>
              <a:ext cx="711360" cy="2923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6095880" y="2577960"/>
              <a:ext cx="711360" cy="29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943600" y="3467160"/>
            <a:ext cx="762120" cy="304920"/>
            <a:chOff x="5943600" y="3467160"/>
            <a:chExt cx="762120" cy="304920"/>
          </a:xfrm>
        </p:grpSpPr>
        <p:sp>
          <p:nvSpPr>
            <p:cNvPr id="191" name="Line 18"/>
            <p:cNvSpPr/>
            <p:nvPr/>
          </p:nvSpPr>
          <p:spPr>
            <a:xfrm>
              <a:off x="5943600" y="3467160"/>
              <a:ext cx="762120" cy="3049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943600" y="346716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93" name="Text Box 19"/>
          <p:cNvSpPr/>
          <p:nvPr/>
        </p:nvSpPr>
        <p:spPr>
          <a:xfrm>
            <a:off x="2755800" y="2895480"/>
            <a:ext cx="3124440" cy="311868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main Nam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3 Country Code top level domai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xisting gTLD’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New gTLD’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ultilingual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91960" y="2895480"/>
            <a:ext cx="1981440" cy="318096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50000">
                <a:srgbClr val="0066ff"/>
              </a:gs>
              <a:gs pos="100000">
                <a:srgbClr val="002f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rand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ivisio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04920" y="2362320"/>
            <a:ext cx="558792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rporate Digital Asset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17520" y="6006960"/>
            <a:ext cx="5600520" cy="7038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egistration Requirements, Language Barrier, Time Zones, Currencies, Renewal Dat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52280" y="2286000"/>
            <a:ext cx="8839440" cy="4495680"/>
          </a:xfrm>
          <a:prstGeom prst="rect">
            <a:avLst/>
          </a:prstGeom>
          <a:noFill/>
          <a:ln w="2556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7391520" y="572760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ultiLingual g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L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30 Languag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91520" y="62485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ultilingual cc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L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30 Languag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omain Names Management Challeng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272-8C8B-4505-BB16-E89D5DD301F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VeriSign 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473120" y="1536840"/>
            <a:ext cx="6782040" cy="434340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BRANDS</a:t>
            </a:r>
            <a:endParaRPr b="1" lang="en-US" sz="8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473120" y="1689120"/>
            <a:ext cx="678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  <a:ea typeface="宋体"/>
              </a:rPr>
              <a:t>Protect and Promote</a:t>
            </a:r>
            <a:endParaRPr b="1" lang="en-US" sz="4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082960" y="47372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  <a:ea typeface="宋体"/>
              </a:rPr>
              <a:t>In th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rebuchet MS"/>
                <a:ea typeface="宋体"/>
              </a:rPr>
              <a:t>Digital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  <a:ea typeface="宋体"/>
              </a:rPr>
              <a:t> World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415-8243-4F6A-897A-0DDBBDB4654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74720" y="2028240"/>
            <a:ext cx="7912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Breath of digital asset management servic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Industry expertise, enterprise customer support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Financial strength and stabilit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Market leader and Registry operator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VeriSign manages more than 80% of Fortune 100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.com, .net and .org nam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DBMS has ~200 clients of the Global 50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Global Reach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Serious about Securit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More than 5 billion DNS lookups per da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Highlights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66E-B289-4F87-A84C-2B87F64E3B1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865080" y="1876320"/>
            <a:ext cx="8049960" cy="4492800"/>
            <a:chOff x="865080" y="1876320"/>
            <a:chExt cx="8049960" cy="4492800"/>
          </a:xfrm>
        </p:grpSpPr>
        <p:pic>
          <p:nvPicPr>
            <p:cNvPr id="215" name="Object 5" descr=""/>
            <p:cNvPicPr/>
            <p:nvPr/>
          </p:nvPicPr>
          <p:blipFill>
            <a:blip r:embed="rId1"/>
            <a:stretch/>
          </p:blipFill>
          <p:spPr>
            <a:xfrm>
              <a:off x="1252440" y="1876320"/>
              <a:ext cx="429876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0"/>
            <p:cNvSpPr/>
            <p:nvPr/>
          </p:nvSpPr>
          <p:spPr>
            <a:xfrm>
              <a:off x="2414520" y="2314440"/>
              <a:ext cx="163008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Strategy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5660640" y="2690640"/>
              <a:ext cx="3254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“</a:t>
              </a: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Domain Names – 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The E-Sign to Your Business” …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Ted Chamberlin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Gartner, Inc.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Aug 22, 2001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4281120" y="322884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Monitor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128840" y="486720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Build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1703160" y="528624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Manage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865080" y="3495600"/>
              <a:ext cx="163008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Search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222" name="Rectangle 20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0A02-0A21-40BF-B10F-38847D4B4AA1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Strategy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41320" y="206208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isk tolerance 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Corporate Security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Copyright Piracy Protection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Intellectual Property Protection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E-Commerce Strategy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Brand Protection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On-line Partner Compliance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Unauthorized Distribution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enewal Management 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9" name="文本框 8199"/>
          <p:cNvSpPr/>
          <p:nvPr/>
        </p:nvSpPr>
        <p:spPr>
          <a:xfrm>
            <a:off x="3479760" y="231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8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36Z</dcterms:modified>
  <cp:revision>1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