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601200" cy="704215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E1D-6B19-43A1-B73C-BAAF229F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47A-C538-466B-AB6C-52CF9C3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3F3-6690-4B48-90E2-43A4A99F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3120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296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7944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3120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8296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FAB-D59C-4750-9142-C8F69D38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00C4-3079-4C0F-BE63-A229437A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5F77-B4FA-424E-B623-0234FF77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9EEA-64B4-4C67-A8E7-216B708B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FAFA-D1F5-4FE7-9547-2D5BC858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6F1A-8EAD-47E1-AD68-BB686DDF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9440" y="593280"/>
            <a:ext cx="81612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F06A-D94C-443E-A31D-020AE707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1D7B-E286-4730-942D-B0386E1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CC4-BA14-46C6-8F4F-C784CC4E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05CF-1960-439A-9220-3B8143D6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DAB1-AB1F-4159-9736-99DE10D1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368C-D23F-4F19-8CF5-2054AE7E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46F8-F82E-4AD0-944F-D59FFA72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3120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296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944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3120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296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3704-3D34-4A40-AD80-F1784BD9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77C-B256-49D8-B2D3-4E1DCA6F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49440" y="593280"/>
            <a:ext cx="81612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93120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82960" y="17982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27944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93120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82960" y="4127400"/>
            <a:ext cx="25250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DF9-3D4C-4537-9E29-C813A535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42C-7882-4CAB-91A1-20EBE5FF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9440" y="593280"/>
            <a:ext cx="81612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12E-308C-4F0F-B834-FE366799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BCB-8B58-4112-A1F8-5DCBAAAB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98120" y="41274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0A7-D312-45C7-A689-DEA385A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44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8120" y="1798200"/>
            <a:ext cx="382680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440" y="4127400"/>
            <a:ext cx="7842240" cy="2126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81C-B489-42CF-8436-DAED4951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30" descr=""/>
          <p:cNvPicPr/>
          <p:nvPr/>
        </p:nvPicPr>
        <p:blipFill>
          <a:blip r:embed="rId2"/>
          <a:stretch/>
        </p:blipFill>
        <p:spPr>
          <a:xfrm>
            <a:off x="0" y="9360"/>
            <a:ext cx="9601200" cy="7031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74840" indent="4759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507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425600" indent="-474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0720" y="6414840"/>
            <a:ext cx="200016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9600" y="6414840"/>
            <a:ext cx="304200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80320" y="6414840"/>
            <a:ext cx="200016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D040DF5-42CB-4C62-AD91-A9DC4C981B37}" type="slidenum">
              <a:rPr b="0" lang="zh-CN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6F7C-C679-4C3B-A693-4319F8E19EA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069B-2B78-4C19-A824-234C5DB303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4103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7040520"/>
          </a:xfrm>
          <a:prstGeom prst="rect">
            <a:avLst/>
          </a:prstGeom>
          <a:ln w="0">
            <a:noFill/>
          </a:ln>
        </p:spPr>
      </p:pic>
      <p:sp>
        <p:nvSpPr>
          <p:cNvPr id="84" name="动作按钮: 自定义 4105"/>
          <p:cNvSpPr/>
          <p:nvPr/>
        </p:nvSpPr>
        <p:spPr>
          <a:xfrm>
            <a:off x="160200" y="77760"/>
            <a:ext cx="1119240" cy="235080"/>
          </a:xfrm>
          <a:custGeom>
            <a:avLst/>
            <a:gdLst>
              <a:gd name="textAreaLeft" fmla="*/ 15120 w 1119240"/>
              <a:gd name="textAreaRight" fmla="*/ 1104120 w 111924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716" h="21600">
                <a:moveTo>
                  <a:pt x="0" y="0"/>
                </a:moveTo>
                <a:lnTo>
                  <a:pt x="102716" y="0"/>
                </a:lnTo>
                <a:lnTo>
                  <a:pt x="102716" y="21600"/>
                </a:lnTo>
                <a:lnTo>
                  <a:pt x="0" y="21600"/>
                </a:lnTo>
                <a:close/>
              </a:path>
              <a:path fill="lightenLess" w="102716" h="21600">
                <a:moveTo>
                  <a:pt x="0" y="0"/>
                </a:moveTo>
                <a:lnTo>
                  <a:pt x="102716" y="0"/>
                </a:lnTo>
                <a:lnTo>
                  <a:pt x="101316" y="1400"/>
                </a:lnTo>
                <a:lnTo>
                  <a:pt x="1400" y="1400"/>
                </a:lnTo>
                <a:close/>
              </a:path>
              <a:path fill="darken" w="102716" h="21600">
                <a:moveTo>
                  <a:pt x="102716" y="0"/>
                </a:moveTo>
                <a:lnTo>
                  <a:pt x="102716" y="21600"/>
                </a:lnTo>
                <a:lnTo>
                  <a:pt x="101316" y="20200"/>
                </a:lnTo>
                <a:lnTo>
                  <a:pt x="101316" y="1400"/>
                </a:lnTo>
                <a:close/>
              </a:path>
              <a:path fill="darkenLess" w="102716" h="21600">
                <a:moveTo>
                  <a:pt x="102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316" y="20200"/>
                </a:lnTo>
                <a:close/>
              </a:path>
              <a:path fill="lighten" w="102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de6ff">
                  <a:alpha val="5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ho Are W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动作按钮: 自定义 4106"/>
          <p:cNvSpPr/>
          <p:nvPr/>
        </p:nvSpPr>
        <p:spPr>
          <a:xfrm>
            <a:off x="1279440" y="77760"/>
            <a:ext cx="1121040" cy="235080"/>
          </a:xfrm>
          <a:custGeom>
            <a:avLst/>
            <a:gdLst>
              <a:gd name="textAreaLeft" fmla="*/ 15120 w 1121040"/>
              <a:gd name="textAreaRight" fmla="*/ 1105920 w 112104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881" h="21600">
                <a:moveTo>
                  <a:pt x="0" y="0"/>
                </a:moveTo>
                <a:lnTo>
                  <a:pt x="102881" y="0"/>
                </a:lnTo>
                <a:lnTo>
                  <a:pt x="102881" y="21600"/>
                </a:lnTo>
                <a:lnTo>
                  <a:pt x="0" y="21600"/>
                </a:lnTo>
                <a:close/>
              </a:path>
              <a:path fill="lightenLess" w="102881" h="21600">
                <a:moveTo>
                  <a:pt x="0" y="0"/>
                </a:moveTo>
                <a:lnTo>
                  <a:pt x="102881" y="0"/>
                </a:lnTo>
                <a:lnTo>
                  <a:pt x="101481" y="1400"/>
                </a:lnTo>
                <a:lnTo>
                  <a:pt x="1400" y="1400"/>
                </a:lnTo>
                <a:close/>
              </a:path>
              <a:path fill="darken" w="102881" h="21600">
                <a:moveTo>
                  <a:pt x="102881" y="0"/>
                </a:moveTo>
                <a:lnTo>
                  <a:pt x="102881" y="21600"/>
                </a:lnTo>
                <a:lnTo>
                  <a:pt x="101481" y="20200"/>
                </a:lnTo>
                <a:lnTo>
                  <a:pt x="101481" y="1400"/>
                </a:lnTo>
                <a:close/>
              </a:path>
              <a:path fill="darkenLess" w="102881" h="21600">
                <a:moveTo>
                  <a:pt x="102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481" y="20200"/>
                </a:lnTo>
                <a:close/>
              </a:path>
              <a:path fill="lighten" w="102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de6ff">
                  <a:alpha val="5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Core T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动作按钮: 自定义 4107"/>
          <p:cNvSpPr/>
          <p:nvPr/>
        </p:nvSpPr>
        <p:spPr>
          <a:xfrm>
            <a:off x="2400480" y="77760"/>
            <a:ext cx="1120680" cy="235080"/>
          </a:xfrm>
          <a:custGeom>
            <a:avLst/>
            <a:gdLst>
              <a:gd name="textAreaLeft" fmla="*/ 15120 w 1120680"/>
              <a:gd name="textAreaRight" fmla="*/ 1105560 w 112068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848" h="21600">
                <a:moveTo>
                  <a:pt x="0" y="0"/>
                </a:moveTo>
                <a:lnTo>
                  <a:pt x="102848" y="0"/>
                </a:lnTo>
                <a:lnTo>
                  <a:pt x="102848" y="21600"/>
                </a:lnTo>
                <a:lnTo>
                  <a:pt x="0" y="21600"/>
                </a:lnTo>
                <a:close/>
              </a:path>
              <a:path fill="lightenLess" w="102848" h="21600">
                <a:moveTo>
                  <a:pt x="0" y="0"/>
                </a:moveTo>
                <a:lnTo>
                  <a:pt x="102848" y="0"/>
                </a:lnTo>
                <a:lnTo>
                  <a:pt x="101448" y="1400"/>
                </a:lnTo>
                <a:lnTo>
                  <a:pt x="1400" y="1400"/>
                </a:lnTo>
                <a:close/>
              </a:path>
              <a:path fill="darken" w="102848" h="21600">
                <a:moveTo>
                  <a:pt x="102848" y="0"/>
                </a:moveTo>
                <a:lnTo>
                  <a:pt x="102848" y="21600"/>
                </a:lnTo>
                <a:lnTo>
                  <a:pt x="101448" y="20200"/>
                </a:lnTo>
                <a:lnTo>
                  <a:pt x="101448" y="1400"/>
                </a:lnTo>
                <a:close/>
              </a:path>
              <a:path fill="darkenLess" w="102848" h="21600">
                <a:moveTo>
                  <a:pt x="102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448" y="20200"/>
                </a:lnTo>
                <a:close/>
              </a:path>
              <a:path fill="lighten" w="102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de6ff">
                  <a:alpha val="5137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Our Dri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动作按钮: 自定义 4108"/>
          <p:cNvSpPr/>
          <p:nvPr/>
        </p:nvSpPr>
        <p:spPr>
          <a:xfrm>
            <a:off x="3521160" y="77760"/>
            <a:ext cx="1119240" cy="235080"/>
          </a:xfrm>
          <a:custGeom>
            <a:avLst/>
            <a:gdLst>
              <a:gd name="textAreaLeft" fmla="*/ 15120 w 1119240"/>
              <a:gd name="textAreaRight" fmla="*/ 1104120 w 111924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716" h="21600">
                <a:moveTo>
                  <a:pt x="0" y="0"/>
                </a:moveTo>
                <a:lnTo>
                  <a:pt x="102716" y="0"/>
                </a:lnTo>
                <a:lnTo>
                  <a:pt x="102716" y="21600"/>
                </a:lnTo>
                <a:lnTo>
                  <a:pt x="0" y="21600"/>
                </a:lnTo>
                <a:close/>
              </a:path>
              <a:path fill="lightenLess" w="102716" h="21600">
                <a:moveTo>
                  <a:pt x="0" y="0"/>
                </a:moveTo>
                <a:lnTo>
                  <a:pt x="102716" y="0"/>
                </a:lnTo>
                <a:lnTo>
                  <a:pt x="101316" y="1400"/>
                </a:lnTo>
                <a:lnTo>
                  <a:pt x="1400" y="1400"/>
                </a:lnTo>
                <a:close/>
              </a:path>
              <a:path fill="darken" w="102716" h="21600">
                <a:moveTo>
                  <a:pt x="102716" y="0"/>
                </a:moveTo>
                <a:lnTo>
                  <a:pt x="102716" y="21600"/>
                </a:lnTo>
                <a:lnTo>
                  <a:pt x="101316" y="20200"/>
                </a:lnTo>
                <a:lnTo>
                  <a:pt x="101316" y="1400"/>
                </a:lnTo>
                <a:close/>
              </a:path>
              <a:path fill="darkenLess" w="102716" h="21600">
                <a:moveTo>
                  <a:pt x="102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316" y="20200"/>
                </a:lnTo>
                <a:close/>
              </a:path>
              <a:path fill="lighten" w="102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hat We 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动作按钮: 自定义 4109"/>
          <p:cNvSpPr/>
          <p:nvPr/>
        </p:nvSpPr>
        <p:spPr>
          <a:xfrm>
            <a:off x="4640400" y="77760"/>
            <a:ext cx="1120680" cy="235080"/>
          </a:xfrm>
          <a:custGeom>
            <a:avLst/>
            <a:gdLst>
              <a:gd name="textAreaLeft" fmla="*/ 15120 w 1120680"/>
              <a:gd name="textAreaRight" fmla="*/ 1105560 w 112068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848" h="21600">
                <a:moveTo>
                  <a:pt x="0" y="0"/>
                </a:moveTo>
                <a:lnTo>
                  <a:pt x="102848" y="0"/>
                </a:lnTo>
                <a:lnTo>
                  <a:pt x="102848" y="21600"/>
                </a:lnTo>
                <a:lnTo>
                  <a:pt x="0" y="21600"/>
                </a:lnTo>
                <a:close/>
              </a:path>
              <a:path fill="lightenLess" w="102848" h="21600">
                <a:moveTo>
                  <a:pt x="0" y="0"/>
                </a:moveTo>
                <a:lnTo>
                  <a:pt x="102848" y="0"/>
                </a:lnTo>
                <a:lnTo>
                  <a:pt x="101448" y="1400"/>
                </a:lnTo>
                <a:lnTo>
                  <a:pt x="1400" y="1400"/>
                </a:lnTo>
                <a:close/>
              </a:path>
              <a:path fill="darken" w="102848" h="21600">
                <a:moveTo>
                  <a:pt x="102848" y="0"/>
                </a:moveTo>
                <a:lnTo>
                  <a:pt x="102848" y="21600"/>
                </a:lnTo>
                <a:lnTo>
                  <a:pt x="101448" y="20200"/>
                </a:lnTo>
                <a:lnTo>
                  <a:pt x="101448" y="1400"/>
                </a:lnTo>
                <a:close/>
              </a:path>
              <a:path fill="darkenLess" w="102848" h="21600">
                <a:moveTo>
                  <a:pt x="102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448" y="20200"/>
                </a:lnTo>
                <a:close/>
              </a:path>
              <a:path fill="lighten" w="102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hat You 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动作按钮: 自定义 4110"/>
          <p:cNvSpPr/>
          <p:nvPr/>
        </p:nvSpPr>
        <p:spPr>
          <a:xfrm>
            <a:off x="5761080" y="77760"/>
            <a:ext cx="1119240" cy="235080"/>
          </a:xfrm>
          <a:custGeom>
            <a:avLst/>
            <a:gdLst>
              <a:gd name="textAreaLeft" fmla="*/ 15120 w 1119240"/>
              <a:gd name="textAreaRight" fmla="*/ 1104120 w 111924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716" h="21600">
                <a:moveTo>
                  <a:pt x="0" y="0"/>
                </a:moveTo>
                <a:lnTo>
                  <a:pt x="102716" y="0"/>
                </a:lnTo>
                <a:lnTo>
                  <a:pt x="102716" y="21600"/>
                </a:lnTo>
                <a:lnTo>
                  <a:pt x="0" y="21600"/>
                </a:lnTo>
                <a:close/>
              </a:path>
              <a:path fill="lightenLess" w="102716" h="21600">
                <a:moveTo>
                  <a:pt x="0" y="0"/>
                </a:moveTo>
                <a:lnTo>
                  <a:pt x="102716" y="0"/>
                </a:lnTo>
                <a:lnTo>
                  <a:pt x="101316" y="1400"/>
                </a:lnTo>
                <a:lnTo>
                  <a:pt x="1400" y="1400"/>
                </a:lnTo>
                <a:close/>
              </a:path>
              <a:path fill="darken" w="102716" h="21600">
                <a:moveTo>
                  <a:pt x="102716" y="0"/>
                </a:moveTo>
                <a:lnTo>
                  <a:pt x="102716" y="21600"/>
                </a:lnTo>
                <a:lnTo>
                  <a:pt x="101316" y="20200"/>
                </a:lnTo>
                <a:lnTo>
                  <a:pt x="101316" y="1400"/>
                </a:lnTo>
                <a:close/>
              </a:path>
              <a:path fill="darkenLess" w="102716" h="21600">
                <a:moveTo>
                  <a:pt x="102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316" y="20200"/>
                </a:lnTo>
                <a:close/>
              </a:path>
              <a:path fill="lighten" w="102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rain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动作按钮: 自定义 4111"/>
          <p:cNvSpPr/>
          <p:nvPr/>
        </p:nvSpPr>
        <p:spPr>
          <a:xfrm>
            <a:off x="8001000" y="77760"/>
            <a:ext cx="1521000" cy="235080"/>
          </a:xfrm>
          <a:custGeom>
            <a:avLst/>
            <a:gdLst>
              <a:gd name="textAreaLeft" fmla="*/ 15120 w 1521000"/>
              <a:gd name="textAreaRight" fmla="*/ 1505880 w 152100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39574" h="21600">
                <a:moveTo>
                  <a:pt x="0" y="0"/>
                </a:moveTo>
                <a:lnTo>
                  <a:pt x="139574" y="0"/>
                </a:lnTo>
                <a:lnTo>
                  <a:pt x="139574" y="21600"/>
                </a:lnTo>
                <a:lnTo>
                  <a:pt x="0" y="21600"/>
                </a:lnTo>
                <a:close/>
              </a:path>
              <a:path fill="lightenLess" w="139574" h="21600">
                <a:moveTo>
                  <a:pt x="0" y="0"/>
                </a:moveTo>
                <a:lnTo>
                  <a:pt x="139574" y="0"/>
                </a:lnTo>
                <a:lnTo>
                  <a:pt x="138174" y="1400"/>
                </a:lnTo>
                <a:lnTo>
                  <a:pt x="1400" y="1400"/>
                </a:lnTo>
                <a:close/>
              </a:path>
              <a:path fill="darken" w="139574" h="21600">
                <a:moveTo>
                  <a:pt x="139574" y="0"/>
                </a:moveTo>
                <a:lnTo>
                  <a:pt x="139574" y="21600"/>
                </a:lnTo>
                <a:lnTo>
                  <a:pt x="138174" y="20200"/>
                </a:lnTo>
                <a:lnTo>
                  <a:pt x="138174" y="1400"/>
                </a:lnTo>
                <a:close/>
              </a:path>
              <a:path fill="darkenLess" w="139574" h="21600">
                <a:moveTo>
                  <a:pt x="13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174" y="20200"/>
                </a:lnTo>
                <a:close/>
              </a:path>
              <a:path fill="lighten" w="13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What Our Clients S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动作按钮: 自定义 4112"/>
          <p:cNvSpPr/>
          <p:nvPr/>
        </p:nvSpPr>
        <p:spPr>
          <a:xfrm>
            <a:off x="6880320" y="77760"/>
            <a:ext cx="1120680" cy="235080"/>
          </a:xfrm>
          <a:custGeom>
            <a:avLst/>
            <a:gdLst>
              <a:gd name="textAreaLeft" fmla="*/ 15120 w 1120680"/>
              <a:gd name="textAreaRight" fmla="*/ 1105560 w 1120680"/>
              <a:gd name="textAreaTop" fmla="*/ 15120 h 235080"/>
              <a:gd name="textAreaBottom" fmla="*/ 219960 h 235080"/>
            </a:gdLst>
            <a:ahLst/>
            <a:rect l="textAreaLeft" t="textAreaTop" r="textAreaRight" b="textAreaBottom"/>
            <a:pathLst>
              <a:path w="102848" h="21600">
                <a:moveTo>
                  <a:pt x="0" y="0"/>
                </a:moveTo>
                <a:lnTo>
                  <a:pt x="102848" y="0"/>
                </a:lnTo>
                <a:lnTo>
                  <a:pt x="102848" y="21600"/>
                </a:lnTo>
                <a:lnTo>
                  <a:pt x="0" y="21600"/>
                </a:lnTo>
                <a:close/>
              </a:path>
              <a:path fill="lightenLess" w="102848" h="21600">
                <a:moveTo>
                  <a:pt x="0" y="0"/>
                </a:moveTo>
                <a:lnTo>
                  <a:pt x="102848" y="0"/>
                </a:lnTo>
                <a:lnTo>
                  <a:pt x="101448" y="1400"/>
                </a:lnTo>
                <a:lnTo>
                  <a:pt x="1400" y="1400"/>
                </a:lnTo>
                <a:close/>
              </a:path>
              <a:path fill="darken" w="102848" h="21600">
                <a:moveTo>
                  <a:pt x="102848" y="0"/>
                </a:moveTo>
                <a:lnTo>
                  <a:pt x="102848" y="21600"/>
                </a:lnTo>
                <a:lnTo>
                  <a:pt x="101448" y="20200"/>
                </a:lnTo>
                <a:lnTo>
                  <a:pt x="101448" y="1400"/>
                </a:lnTo>
                <a:close/>
              </a:path>
              <a:path fill="darkenLess" w="102848" h="21600">
                <a:moveTo>
                  <a:pt x="102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448" y="20200"/>
                </a:lnTo>
                <a:close/>
              </a:path>
              <a:path fill="lighten" w="102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f1f1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Our Journ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动作按钮: 后退或前一项 4113">
            <a:hlinkClick r:id="" action="ppaction://hlinkshowjump?jump=previousslide"/>
          </p:cNvPr>
          <p:cNvSpPr/>
          <p:nvPr/>
        </p:nvSpPr>
        <p:spPr>
          <a:xfrm>
            <a:off x="1521000" y="6570720"/>
            <a:ext cx="558720" cy="156960"/>
          </a:xfrm>
          <a:custGeom>
            <a:avLst/>
            <a:gdLst>
              <a:gd name="textAreaLeft" fmla="*/ 10080 w 558720"/>
              <a:gd name="textAreaRight" fmla="*/ 548640 w 558720"/>
              <a:gd name="textAreaTop" fmla="*/ 10080 h 156960"/>
              <a:gd name="textAreaBottom" fmla="*/ 146880 h 156960"/>
            </a:gdLst>
            <a:ahLst/>
            <a:rect l="textAreaLeft" t="textAreaTop" r="textAreaRight" b="textAreaBottom"/>
            <a:pathLst>
              <a:path w="76762" h="21600">
                <a:moveTo>
                  <a:pt x="0" y="0"/>
                </a:moveTo>
                <a:lnTo>
                  <a:pt x="76762" y="0"/>
                </a:lnTo>
                <a:lnTo>
                  <a:pt x="76762" y="21600"/>
                </a:lnTo>
                <a:lnTo>
                  <a:pt x="0" y="21600"/>
                </a:lnTo>
                <a:close/>
              </a:path>
              <a:path fill="lightenLess" w="76762" h="21600">
                <a:moveTo>
                  <a:pt x="0" y="0"/>
                </a:moveTo>
                <a:lnTo>
                  <a:pt x="76762" y="0"/>
                </a:lnTo>
                <a:lnTo>
                  <a:pt x="75362" y="1400"/>
                </a:lnTo>
                <a:lnTo>
                  <a:pt x="1400" y="1400"/>
                </a:lnTo>
                <a:close/>
              </a:path>
              <a:path fill="darken" w="76762" h="21600">
                <a:moveTo>
                  <a:pt x="76762" y="0"/>
                </a:moveTo>
                <a:lnTo>
                  <a:pt x="76762" y="21600"/>
                </a:lnTo>
                <a:lnTo>
                  <a:pt x="75362" y="20200"/>
                </a:lnTo>
                <a:lnTo>
                  <a:pt x="75362" y="1400"/>
                </a:lnTo>
                <a:close/>
              </a:path>
              <a:path fill="darkenLess" w="76762" h="21600">
                <a:moveTo>
                  <a:pt x="76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62" y="20200"/>
                </a:lnTo>
                <a:close/>
              </a:path>
              <a:path fill="lighten" w="76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62" h="21600">
                <a:moveTo>
                  <a:pt x="31374" y="10800"/>
                </a:moveTo>
                <a:lnTo>
                  <a:pt x="45387" y="3794"/>
                </a:lnTo>
                <a:lnTo>
                  <a:pt x="45387" y="17806"/>
                </a:lnTo>
                <a:close/>
              </a:path>
            </a:pathLst>
          </a:custGeom>
          <a:gradFill rotWithShape="0">
            <a:gsLst>
              <a:gs pos="0">
                <a:srgbClr val="e6ecfd"/>
              </a:gs>
              <a:gs pos="100000">
                <a:srgbClr val="a9bcf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动作按钮: 前进或下一项 4115">
            <a:hlinkClick r:id="" action="ppaction://hlinkshowjump?jump=nextslide"/>
          </p:cNvPr>
          <p:cNvSpPr/>
          <p:nvPr/>
        </p:nvSpPr>
        <p:spPr>
          <a:xfrm>
            <a:off x="2160720" y="6570720"/>
            <a:ext cx="560160" cy="156960"/>
          </a:xfrm>
          <a:custGeom>
            <a:avLst/>
            <a:gdLst>
              <a:gd name="textAreaLeft" fmla="*/ 10080 w 560160"/>
              <a:gd name="textAreaRight" fmla="*/ 550080 w 560160"/>
              <a:gd name="textAreaTop" fmla="*/ 10080 h 156960"/>
              <a:gd name="textAreaBottom" fmla="*/ 146880 h 156960"/>
            </a:gdLst>
            <a:ahLst/>
            <a:rect l="textAreaLeft" t="textAreaTop" r="textAreaRight" b="textAreaBottom"/>
            <a:pathLst>
              <a:path w="76959" h="21600">
                <a:moveTo>
                  <a:pt x="0" y="0"/>
                </a:moveTo>
                <a:lnTo>
                  <a:pt x="76959" y="0"/>
                </a:lnTo>
                <a:lnTo>
                  <a:pt x="76959" y="21600"/>
                </a:lnTo>
                <a:lnTo>
                  <a:pt x="0" y="21600"/>
                </a:lnTo>
                <a:close/>
              </a:path>
              <a:path fill="lightenLess" w="76959" h="21600">
                <a:moveTo>
                  <a:pt x="0" y="0"/>
                </a:moveTo>
                <a:lnTo>
                  <a:pt x="76959" y="0"/>
                </a:lnTo>
                <a:lnTo>
                  <a:pt x="75559" y="1400"/>
                </a:lnTo>
                <a:lnTo>
                  <a:pt x="1400" y="1400"/>
                </a:lnTo>
                <a:close/>
              </a:path>
              <a:path fill="darken" w="76959" h="21600">
                <a:moveTo>
                  <a:pt x="76959" y="0"/>
                </a:moveTo>
                <a:lnTo>
                  <a:pt x="76959" y="21600"/>
                </a:lnTo>
                <a:lnTo>
                  <a:pt x="75559" y="20200"/>
                </a:lnTo>
                <a:lnTo>
                  <a:pt x="75559" y="1400"/>
                </a:lnTo>
                <a:close/>
              </a:path>
              <a:path fill="darkenLess" w="76959" h="21600">
                <a:moveTo>
                  <a:pt x="76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559" y="20200"/>
                </a:lnTo>
                <a:close/>
              </a:path>
              <a:path fill="lighten" w="76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959" h="21600">
                <a:moveTo>
                  <a:pt x="31473" y="3794"/>
                </a:moveTo>
                <a:lnTo>
                  <a:pt x="45486" y="10800"/>
                </a:lnTo>
                <a:lnTo>
                  <a:pt x="31473" y="17806"/>
                </a:lnTo>
                <a:close/>
              </a:path>
            </a:pathLst>
          </a:custGeom>
          <a:gradFill rotWithShape="0">
            <a:gsLst>
              <a:gs pos="0">
                <a:srgbClr val="a9bcf9"/>
              </a:gs>
              <a:gs pos="100000">
                <a:srgbClr val="e1e8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9440" y="593280"/>
            <a:ext cx="8161200" cy="1173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79440" y="1798200"/>
            <a:ext cx="7842240" cy="4459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7120" indent="-3571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74840" indent="4759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9507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425600" indent="-474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1901880" indent="-9511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7"/>
          </p:nvPr>
        </p:nvSpPr>
        <p:spPr>
          <a:xfrm>
            <a:off x="3279600" y="6414840"/>
            <a:ext cx="304200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21840" y="3285720"/>
            <a:ext cx="829980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宋体"/>
              </a:rPr>
              <a:t>Welco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800080" y="2738520"/>
            <a:ext cx="6721560" cy="1798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  <a:ea typeface="宋体"/>
              </a:rPr>
              <a:t>Tvarita Consulting - empowering the human spir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292"/>
          <p:cNvSpPr/>
          <p:nvPr/>
        </p:nvSpPr>
        <p:spPr>
          <a:xfrm>
            <a:off x="1301760" y="6180120"/>
            <a:ext cx="8299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308, East Block, Swarna Jayanthi Complex, Ameerpet, Hyderabad 500016. Ph:040-23735541/5687/ www.tvaritaconsulting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2300"/>
          <p:cNvGrpSpPr/>
          <p:nvPr/>
        </p:nvGrpSpPr>
        <p:grpSpPr>
          <a:xfrm>
            <a:off x="5040360" y="6394320"/>
            <a:ext cx="4481280" cy="568440"/>
            <a:chOff x="5040360" y="6394320"/>
            <a:chExt cx="4481280" cy="568440"/>
          </a:xfrm>
        </p:grpSpPr>
        <p:pic>
          <p:nvPicPr>
            <p:cNvPr id="137" name="图片 12293" descr="Reception"/>
            <p:cNvPicPr/>
            <p:nvPr/>
          </p:nvPicPr>
          <p:blipFill>
            <a:blip r:embed="rId1"/>
            <a:stretch/>
          </p:blipFill>
          <p:spPr>
            <a:xfrm>
              <a:off x="5040360" y="6394320"/>
              <a:ext cx="92124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12296" descr="Reception1"/>
            <p:cNvPicPr/>
            <p:nvPr/>
          </p:nvPicPr>
          <p:blipFill>
            <a:blip r:embed="rId2"/>
            <a:stretch/>
          </p:blipFill>
          <p:spPr>
            <a:xfrm>
              <a:off x="59364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图片 12297" descr="Training"/>
            <p:cNvPicPr/>
            <p:nvPr/>
          </p:nvPicPr>
          <p:blipFill>
            <a:blip r:embed="rId3"/>
            <a:stretch/>
          </p:blipFill>
          <p:spPr>
            <a:xfrm>
              <a:off x="68328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图片 12298" descr="Training1"/>
            <p:cNvPicPr/>
            <p:nvPr/>
          </p:nvPicPr>
          <p:blipFill>
            <a:blip r:embed="rId4"/>
            <a:stretch/>
          </p:blipFill>
          <p:spPr>
            <a:xfrm>
              <a:off x="86256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图片 12299" descr="office1"/>
            <p:cNvPicPr/>
            <p:nvPr/>
          </p:nvPicPr>
          <p:blipFill>
            <a:blip r:embed="rId5"/>
            <a:stretch/>
          </p:blipFill>
          <p:spPr>
            <a:xfrm>
              <a:off x="77292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文本框 6155"/>
          <p:cNvSpPr/>
          <p:nvPr/>
        </p:nvSpPr>
        <p:spPr>
          <a:xfrm>
            <a:off x="152280" y="58816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573120" y="1082520"/>
            <a:ext cx="86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商务业务汇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200" y="3206520"/>
            <a:ext cx="2719440" cy="469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宋体"/>
              </a:rPr>
              <a:t>Our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  <a:ea typeface="宋体"/>
              </a:rPr>
              <a:t>Journey</a:t>
            </a: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宋体"/>
              </a:rPr>
              <a:t>..</a:t>
            </a:r>
            <a:br>
              <a:rPr sz="25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Train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742840" y="1082520"/>
            <a:ext cx="6721560" cy="5105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324000" indent="-32400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Training for Middle and Senior Level Professionals of a ITES  Company in Hyderaba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7603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Effective Training Ski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Training in Networking and Influencing skills for Entrepreneurs under the EAP plan, as a key Service Provider for </a:t>
            </a:r>
            <a:r>
              <a:rPr b="1" lang="en-US" sz="1400" spc="-1" strike="noStrike" u="sng">
                <a:solidFill>
                  <a:srgbClr val="00a800"/>
                </a:solidFill>
                <a:uFillTx/>
                <a:latin typeface="Tahoma"/>
                <a:ea typeface="宋体"/>
              </a:rPr>
              <a:t>TiE-Banga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Training for Japanese Employees on Acculturation to India for a </a:t>
            </a:r>
            <a:r>
              <a:rPr b="1" lang="en-US" sz="1400" spc="-1" strike="noStrike" u="sng">
                <a:solidFill>
                  <a:srgbClr val="00a800"/>
                </a:solidFill>
                <a:uFillTx/>
                <a:latin typeface="Tahoma"/>
                <a:ea typeface="宋体"/>
              </a:rPr>
              <a:t>top IT Fi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just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Tahoma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Training Assignments for </a:t>
            </a:r>
            <a:r>
              <a:rPr b="1" lang="en-US" sz="1400" spc="-1" strike="noStrike" u="sng">
                <a:solidFill>
                  <a:srgbClr val="00a800"/>
                </a:solidFill>
                <a:uFillTx/>
                <a:latin typeface="Tahoma"/>
                <a:ea typeface="宋体"/>
              </a:rPr>
              <a:t>premier educational institution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 (Engineering and Hospitality) in Andhra Prade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just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7603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ersonal Effectiveness to transition into the corporate wor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760320" algn="just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Faculty Development: Personal Effectiveness and Train the Trai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4000" indent="0" algn="just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 algn="just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ahoma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Open Training Programs for the public in Language Skills and Professional Capability Enhancement Skill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79875"/>
          <p:cNvGrpSpPr/>
          <p:nvPr/>
        </p:nvGrpSpPr>
        <p:grpSpPr>
          <a:xfrm>
            <a:off x="2982960" y="5945040"/>
            <a:ext cx="6457680" cy="938160"/>
            <a:chOff x="2982960" y="5945040"/>
            <a:chExt cx="6457680" cy="938160"/>
          </a:xfrm>
        </p:grpSpPr>
        <p:pic>
          <p:nvPicPr>
            <p:cNvPr id="147" name="图片 79876" descr="DRL Training"/>
            <p:cNvPicPr/>
            <p:nvPr/>
          </p:nvPicPr>
          <p:blipFill>
            <a:blip r:embed="rId1"/>
            <a:stretch/>
          </p:blipFill>
          <p:spPr>
            <a:xfrm>
              <a:off x="2982960" y="5945040"/>
              <a:ext cx="119988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图片 79877" descr="Puja_02"/>
            <p:cNvPicPr/>
            <p:nvPr/>
          </p:nvPicPr>
          <p:blipFill>
            <a:blip r:embed="rId2"/>
            <a:stretch/>
          </p:blipFill>
          <p:spPr>
            <a:xfrm>
              <a:off x="5143320" y="5945040"/>
              <a:ext cx="119988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79878" descr="DRL Training 02"/>
            <p:cNvPicPr/>
            <p:nvPr/>
          </p:nvPicPr>
          <p:blipFill>
            <a:blip r:embed="rId3"/>
            <a:stretch/>
          </p:blipFill>
          <p:spPr>
            <a:xfrm>
              <a:off x="7303680" y="5945040"/>
              <a:ext cx="119988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图片 79879" descr="GIET_03"/>
            <p:cNvPicPr/>
            <p:nvPr/>
          </p:nvPicPr>
          <p:blipFill>
            <a:blip r:embed="rId4"/>
            <a:stretch/>
          </p:blipFill>
          <p:spPr>
            <a:xfrm>
              <a:off x="4182840" y="5945040"/>
              <a:ext cx="101664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图片 79880" descr="DRL Training 03"/>
            <p:cNvPicPr/>
            <p:nvPr/>
          </p:nvPicPr>
          <p:blipFill>
            <a:blip r:embed="rId5"/>
            <a:stretch/>
          </p:blipFill>
          <p:spPr>
            <a:xfrm>
              <a:off x="6343200" y="5945040"/>
              <a:ext cx="9583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图片 79881" descr="audit graphs"/>
            <p:cNvPicPr/>
            <p:nvPr/>
          </p:nvPicPr>
          <p:blipFill>
            <a:blip r:embed="rId6"/>
            <a:stretch/>
          </p:blipFill>
          <p:spPr>
            <a:xfrm>
              <a:off x="8183880" y="5945040"/>
              <a:ext cx="1256760" cy="9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文本框 8199"/>
          <p:cNvSpPr/>
          <p:nvPr/>
        </p:nvSpPr>
        <p:spPr>
          <a:xfrm>
            <a:off x="1905120" y="471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7"/>
              </a:rPr>
              <a:t>ppt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8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2F15-F66A-48BF-96EC-69D9F72FB6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1840" y="3285720"/>
            <a:ext cx="8299800" cy="468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  <a:ea typeface="宋体"/>
              </a:rPr>
              <a:t>Thank You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9635"/>
          <p:cNvSpPr/>
          <p:nvPr/>
        </p:nvSpPr>
        <p:spPr>
          <a:xfrm>
            <a:off x="1301760" y="6180120"/>
            <a:ext cx="8299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308, East Block, Swarna Jayanthi Complex, Ameerpet, Hyderabad 500016. Ph:040-23735541/5687/ www.tvaritaconsulting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69636"/>
          <p:cNvGrpSpPr/>
          <p:nvPr/>
        </p:nvGrpSpPr>
        <p:grpSpPr>
          <a:xfrm>
            <a:off x="5040360" y="6394320"/>
            <a:ext cx="4481280" cy="568440"/>
            <a:chOff x="5040360" y="6394320"/>
            <a:chExt cx="4481280" cy="568440"/>
          </a:xfrm>
        </p:grpSpPr>
        <p:pic>
          <p:nvPicPr>
            <p:cNvPr id="161" name="图片 69637" descr="Reception"/>
            <p:cNvPicPr/>
            <p:nvPr/>
          </p:nvPicPr>
          <p:blipFill>
            <a:blip r:embed="rId1"/>
            <a:stretch/>
          </p:blipFill>
          <p:spPr>
            <a:xfrm>
              <a:off x="5040360" y="6394320"/>
              <a:ext cx="92124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图片 69638" descr="Reception1"/>
            <p:cNvPicPr/>
            <p:nvPr/>
          </p:nvPicPr>
          <p:blipFill>
            <a:blip r:embed="rId2"/>
            <a:stretch/>
          </p:blipFill>
          <p:spPr>
            <a:xfrm>
              <a:off x="59364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图片 69639" descr="Training"/>
            <p:cNvPicPr/>
            <p:nvPr/>
          </p:nvPicPr>
          <p:blipFill>
            <a:blip r:embed="rId3"/>
            <a:stretch/>
          </p:blipFill>
          <p:spPr>
            <a:xfrm>
              <a:off x="68328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图片 69640" descr="Training1"/>
            <p:cNvPicPr/>
            <p:nvPr/>
          </p:nvPicPr>
          <p:blipFill>
            <a:blip r:embed="rId4"/>
            <a:stretch/>
          </p:blipFill>
          <p:spPr>
            <a:xfrm>
              <a:off x="86256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69641" descr="office1"/>
            <p:cNvPicPr/>
            <p:nvPr/>
          </p:nvPicPr>
          <p:blipFill>
            <a:blip r:embed="rId5"/>
            <a:stretch/>
          </p:blipFill>
          <p:spPr>
            <a:xfrm>
              <a:off x="7729200" y="6409440"/>
              <a:ext cx="896040" cy="552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6:54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8:05Z</dcterms:modified>
  <cp:revision>1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TemplateID">
    <vt:lpwstr>TC010875781033</vt:lpwstr>
  </property>
</Properties>
</file>