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75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3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6636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75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3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E8A25-97DA-4D50-9B68-B840CF333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740CF-BBD2-4945-97FC-9CB922C0C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C7DC5-650D-4D28-832E-1DD63A88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9A6E-4E65-4C75-81E1-3675435B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5465F-F4A2-4E2F-A7A6-B1BF57E1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47280" y="533160"/>
            <a:ext cx="775188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8AEEF-25C0-4729-916B-B14150D1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2E33B-0472-4F35-A683-1DAB4621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5F168-00B7-4A64-9DB1-4DF87D4A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950FD-1914-4A20-B495-F9DD6BA2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6A5221-4A59-4AD0-87F6-9A8D2C5A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9ED56-36FE-4EB3-A4BA-CDE72DB43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75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083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6636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75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083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C14F4-4D35-44E3-A1E5-AFA24CA1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47280" y="533160"/>
            <a:ext cx="775188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75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08320" y="209556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6636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75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08320" y="4464000"/>
            <a:ext cx="2495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47280" y="533160"/>
            <a:ext cx="7751880" cy="42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8600" y="446400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636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8600" y="2095560"/>
            <a:ext cx="3782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6360" y="4464000"/>
            <a:ext cx="7751880" cy="2162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_x005F_x001A_MasterQuer_unten+Apfel.jpg                                     0003A6C6_x005F_x0008_Transfer                       B90C208E:"/>
          <p:cNvPicPr/>
          <p:nvPr/>
        </p:nvPicPr>
        <p:blipFill>
          <a:blip r:embed="rId2"/>
          <a:stretch/>
        </p:blipFill>
        <p:spPr>
          <a:xfrm>
            <a:off x="-22320" y="1459080"/>
            <a:ext cx="10738080" cy="6108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3c4a91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 indent="5968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28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3286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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7600" y="7272360"/>
            <a:ext cx="3510000" cy="2714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9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FC53-2444-4D51-8236-DC24C62B2392}" type="datetime">
              <a:rPr b="1" lang="zh-CN" sz="900" spc="-1" strike="noStrike">
                <a:solidFill>
                  <a:srgbClr val="ffffff"/>
                </a:solidFill>
                <a:latin typeface="Tahoma"/>
                <a:ea typeface="宋体"/>
              </a:rPr>
              <a:t>26/7/28</a:t>
            </a:fld>
            <a:r>
              <a:rPr b="1" lang="zh-CN" sz="900" spc="-1" strike="noStrike">
                <a:solidFill>
                  <a:srgbClr val="ffffff"/>
                </a:solidFill>
                <a:latin typeface="Tahoma"/>
                <a:ea typeface="宋体"/>
              </a:rPr>
              <a:t> / </a:t>
            </a:r>
            <a:fld id="{4710AB37-6AC5-4C5F-AA49-E9329F44F346}" type="slidenum">
              <a:rPr b="1" lang="zh-CN" sz="9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57600" y="7194240"/>
            <a:ext cx="3386160" cy="501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6438960" y="7162920"/>
            <a:ext cx="415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Tahoma"/>
                <a:ea typeface="宋体"/>
              </a:rPr>
              <a:t>NATURAL FOOD &amp; BEVERAGE INGREDI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1" descr="_x005F_x000C_LogoQuer.jpg                                                   0003BEFE&#10;Festplatte                     B934F01C:"/>
          <p:cNvPicPr/>
          <p:nvPr/>
        </p:nvPicPr>
        <p:blipFill>
          <a:blip r:embed="rId3"/>
          <a:srcRect l="0" t="0" r="0" b="6201"/>
          <a:stretch/>
        </p:blipFill>
        <p:spPr>
          <a:xfrm>
            <a:off x="8569440" y="0"/>
            <a:ext cx="215712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8E92D-8C78-459C-86FC-B54B03BD410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313A-8022-4B69-94B9-E3C8CDB858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5"/>
          <p:cNvSpPr/>
          <p:nvPr/>
        </p:nvSpPr>
        <p:spPr>
          <a:xfrm>
            <a:off x="6438960" y="7174080"/>
            <a:ext cx="415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  <a:ea typeface="宋体"/>
              </a:rPr>
              <a:t>NATURAL FOOD &amp; BEVERAGE INGREDI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0" descr="_x005F_x0015_PPT-Titel-neue CI.jpg                                          00053995_x005F_x0008_Transfer                       B90C208E:"/>
          <p:cNvPicPr/>
          <p:nvPr/>
        </p:nvPicPr>
        <p:blipFill>
          <a:blip r:embed="rId2"/>
          <a:stretch/>
        </p:blipFill>
        <p:spPr>
          <a:xfrm>
            <a:off x="0" y="1447920"/>
            <a:ext cx="10737720" cy="6118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3"/>
          <p:cNvSpPr/>
          <p:nvPr/>
        </p:nvSpPr>
        <p:spPr>
          <a:xfrm>
            <a:off x="6461280" y="7174080"/>
            <a:ext cx="415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Tahoma"/>
                <a:ea typeface="宋体"/>
              </a:rPr>
              <a:t>NATURAL FOOD &amp; BEVERAGE INGREDI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4" descr="_x005F_x000C_LogoQuer.jpg                                                   0003BEFE&#10;Festplatte                     B934F01C:"/>
          <p:cNvPicPr/>
          <p:nvPr/>
        </p:nvPicPr>
        <p:blipFill>
          <a:blip r:embed="rId3"/>
          <a:srcRect l="0" t="0" r="0" b="6201"/>
          <a:stretch/>
        </p:blipFill>
        <p:spPr>
          <a:xfrm>
            <a:off x="8556480" y="0"/>
            <a:ext cx="215748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3c4a91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66360" y="2095560"/>
            <a:ext cx="7751880" cy="45338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46040" indent="5968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128520">
              <a:spcBef>
                <a:spcPts val="550"/>
              </a:spcBef>
              <a:buClr>
                <a:srgbClr val="000000"/>
              </a:buClr>
              <a:buSzPct val="60000"/>
              <a:buFont typeface="Monotype Sorts" charset="2"/>
              <a:buChar char="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32868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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63640" indent="-720720">
              <a:spcBef>
                <a:spcPts val="55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4640" y="2922120"/>
            <a:ext cx="5143680" cy="1357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zh-CN" sz="3600" spc="-1" strike="noStrike">
              <a:solidFill>
                <a:srgbClr val="3c4a91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88680" y="5790960"/>
            <a:ext cx="4516200" cy="54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zh-CN" sz="2000" spc="-1" strike="noStrike">
              <a:solidFill>
                <a:srgbClr val="3c4a91"/>
              </a:solidFill>
              <a:latin typeface="Times New Roman"/>
            </a:endParaRPr>
          </a:p>
        </p:txBody>
      </p:sp>
      <p:sp>
        <p:nvSpPr>
          <p:cNvPr id="12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1601640" y="900000"/>
            <a:ext cx="73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国外商务主题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51880" cy="925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zh-CN" sz="2400" spc="-1" strike="noStrike">
              <a:solidFill>
                <a:srgbClr val="3c4a91"/>
              </a:solidFill>
              <a:latin typeface="Tahoma"/>
              <a:ea typeface="宋体"/>
            </a:endParaRPr>
          </a:p>
        </p:txBody>
      </p:sp>
      <p:sp>
        <p:nvSpPr>
          <p:cNvPr id="131" name="文本框 8199"/>
          <p:cNvSpPr/>
          <p:nvPr/>
        </p:nvSpPr>
        <p:spPr>
          <a:xfrm>
            <a:off x="1386000" y="2411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CD72B-793C-4015-8CC7-13C1906893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34640" y="4191120"/>
            <a:ext cx="4451400" cy="1017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3200" spc="-1" strike="noStrike">
                <a:solidFill>
                  <a:srgbClr val="3c4a91"/>
                </a:solidFill>
                <a:latin typeface="Tahoma"/>
                <a:ea typeface="宋体"/>
              </a:rPr>
              <a:t>Thank you for your attention</a:t>
            </a:r>
            <a:endParaRPr b="1" lang="en-US" sz="3200" spc="-1" strike="noStrike">
              <a:solidFill>
                <a:srgbClr val="3c4a91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08:3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cp:lastPrinted>2004-05-17T09:01:00Z</cp:lastPrinted>
  <dcterms:modified xsi:type="dcterms:W3CDTF">2015-12-12T07:08:06Z</dcterms:modified>
  <cp:revision>2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