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107.wmf" ContentType="image/x-wmf"/>
  <Override PartName="/ppt/media/image52.png" ContentType="image/png"/>
  <Override PartName="/ppt/media/image51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7.png" ContentType="image/png"/>
  <Override PartName="/ppt/media/image36.png" ContentType="image/png"/>
  <Override PartName="/ppt/media/image30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109.png" ContentType="image/png"/>
  <Override PartName="/ppt/media/image47.png" ContentType="image/png"/>
  <Override PartName="/ppt/media/image35.jpeg" ContentType="image/jpeg"/>
  <Override PartName="/ppt/media/image1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6.jpeg" ContentType="image/jpeg"/>
  <Override PartName="/ppt/media/image71.png" ContentType="image/png"/>
  <Override PartName="/ppt/media/image18.png" ContentType="image/png"/>
  <Override PartName="/ppt/media/image83.png" ContentType="image/png"/>
  <Override PartName="/ppt/media/image57.png" ContentType="image/png"/>
  <Override PartName="/ppt/media/image20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50.png" ContentType="image/png"/>
  <Override PartName="/ppt/media/image5.jpeg" ContentType="image/jpeg"/>
  <Override PartName="/ppt/media/image61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7.jpeg" ContentType="image/jpeg"/>
  <Override PartName="/ppt/media/image81.png" ContentType="image/png"/>
  <Override PartName="/ppt/media/image27.png" ContentType="image/png"/>
  <Override PartName="/ppt/media/image92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80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88.png" ContentType="image/png"/>
  <Override PartName="/ppt/media/image95.png" ContentType="image/png"/>
  <Override PartName="/ppt/media/image102.png" ContentType="image/png"/>
  <Override PartName="/ppt/media/image96.png" ContentType="image/png"/>
  <Override PartName="/ppt/media/image103.png" ContentType="image/png"/>
  <Override PartName="/ppt/media/image69.png" ContentType="image/png"/>
  <Override PartName="/ppt/media/image32.png" ContentType="image/png"/>
  <Override PartName="/ppt/media/image114.jpeg" ContentType="image/jpeg"/>
  <Override PartName="/ppt/media/image113.png" ContentType="image/png"/>
  <Override PartName="/ppt/media/image79.png" ContentType="image/png"/>
  <Override PartName="/ppt/media/image101.png" ContentType="image/png"/>
  <Override PartName="/ppt/media/image99.png" ContentType="image/png"/>
  <Override PartName="/ppt/media/image106.png" ContentType="image/png"/>
  <Override PartName="/ppt/media/image62.png" ContentType="image/png"/>
  <Override PartName="/ppt/media/image112.png" ContentType="image/png"/>
  <Override PartName="/ppt/media/image91.png" ContentType="image/png"/>
  <Override PartName="/ppt/media/image26.png" ContentType="image/png"/>
  <Override PartName="/ppt/media/image98.png" ContentType="image/png"/>
  <Override PartName="/ppt/media/image105.png" ContentType="image/png"/>
  <Override PartName="/ppt/media/image89.png" ContentType="image/png"/>
  <Override PartName="/ppt/media/image111.png" ContentType="image/png"/>
  <Override PartName="/ppt/media/image97.png" ContentType="image/png"/>
  <Override PartName="/ppt/media/image104.png" ContentType="image/png"/>
  <Override PartName="/ppt/media/image60.png" ContentType="image/png"/>
  <Override PartName="/ppt/media/image67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63.png" ContentType="image/png"/>
  <Override PartName="/ppt/media/image94.png" ContentType="image/png"/>
  <Override PartName="/ppt/media/image29.png" ContentType="image/png"/>
  <Override PartName="/ppt/media/image28.png" ContentType="image/png"/>
  <Override PartName="/ppt/media/image93.png" ContentType="image/png"/>
  <Override PartName="/ppt/media/image2.png" ContentType="image/png"/>
  <Override PartName="/ppt/media/image14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110.png" ContentType="image/png"/>
  <Override PartName="/ppt/media/image24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84.png" ContentType="image/png"/>
  <Override PartName="/ppt/media/image17.png" ContentType="image/png"/>
  <Override PartName="/ppt/media/image82.png" ContentType="image/png"/>
  <Override PartName="/ppt/media/image25.png" ContentType="image/png"/>
  <Override PartName="/ppt/media/image9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1496-522C-49BC-8894-7DA8C19BA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9541-ADDF-441D-8EF5-BF0597428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BCB0-C6AA-4BA6-9766-142052A2E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B658-A6FE-43EC-8CB9-5D9F571A0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EA8C-F4E4-44AF-A112-C8D1D912B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B9E6-EE69-42DB-ABC8-A361B638F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65F7-3A1C-42B4-94F6-3B67B69E6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FD09-4F53-498F-B256-865835675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5194-5188-401F-A310-4B8A9559A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D672-2ADC-480C-AE51-096840F52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E5E2-FFB9-4B42-8489-A3E1A198E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7E95-E785-47EE-91AA-1BBB5D424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F301C-70DE-49BB-B443-32D87FE01C1E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2498D-E95F-4B30-87CD-325AD98D63E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G:\S素材风暴素材\4-PPT模板\00_新建文件夹\images\015\图片\image 661.pn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G:\S素材风暴素材\4-PPT模板\00_新建文件夹\images\015\图片\image 664.png"/>
          <p:cNvPicPr/>
          <p:nvPr/>
        </p:nvPicPr>
        <p:blipFill>
          <a:blip r:embed="rId3"/>
          <a:stretch/>
        </p:blipFill>
        <p:spPr>
          <a:xfrm>
            <a:off x="-1523880" y="571680"/>
            <a:ext cx="4752720" cy="534348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3"/>
          <p:cNvSpPr/>
          <p:nvPr/>
        </p:nvSpPr>
        <p:spPr>
          <a:xfrm>
            <a:off x="228600" y="169920"/>
            <a:ext cx="5715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百度一下：素材风暴</a:t>
            </a:r>
            <a:r>
              <a:rPr b="1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G:\S素材风暴素材\4-PPT模板\00_新建文件夹\images\015\图片\image 661.pn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G:\S素材风暴素材\4-PPT模板\00_新建文件夹\images\015\图片\image 664.png"/>
          <p:cNvPicPr/>
          <p:nvPr/>
        </p:nvPicPr>
        <p:blipFill>
          <a:blip r:embed="rId3"/>
          <a:stretch/>
        </p:blipFill>
        <p:spPr>
          <a:xfrm>
            <a:off x="-1905120" y="-1562040"/>
            <a:ext cx="4753080" cy="5343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G:\S素材风暴素材\4-PPT模板\00_新建文件夹\images\015\图片\image 671.png"/>
          <p:cNvPicPr/>
          <p:nvPr/>
        </p:nvPicPr>
        <p:blipFill>
          <a:blip r:embed="rId4"/>
          <a:stretch/>
        </p:blipFill>
        <p:spPr>
          <a:xfrm>
            <a:off x="368280" y="647640"/>
            <a:ext cx="8547120" cy="493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3.png"/><Relationship Id="rId3" Type="http://schemas.openxmlformats.org/officeDocument/2006/relationships/image" Target="../media/image43.png"/><Relationship Id="rId4" Type="http://schemas.openxmlformats.org/officeDocument/2006/relationships/image" Target="../media/image43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3.png"/><Relationship Id="rId3" Type="http://schemas.openxmlformats.org/officeDocument/2006/relationships/image" Target="../media/image53.png"/><Relationship Id="rId4" Type="http://schemas.openxmlformats.org/officeDocument/2006/relationships/image" Target="../media/image53.png"/><Relationship Id="rId5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image" Target="../media/image61.png"/><Relationship Id="rId5" Type="http://schemas.openxmlformats.org/officeDocument/2006/relationships/image" Target="../media/image61.png"/><Relationship Id="rId6" Type="http://schemas.openxmlformats.org/officeDocument/2006/relationships/image" Target="../media/image62.png"/><Relationship Id="rId7" Type="http://schemas.openxmlformats.org/officeDocument/2006/relationships/hyperlink" Target="http://www.eeppt.com" TargetMode="External"/><Relationship Id="rId8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7.png"/><Relationship Id="rId6" Type="http://schemas.openxmlformats.org/officeDocument/2006/relationships/image" Target="../media/image68.png"/><Relationship Id="rId7" Type="http://schemas.openxmlformats.org/officeDocument/2006/relationships/image" Target="../media/image69.png"/><Relationship Id="rId8" Type="http://schemas.openxmlformats.org/officeDocument/2006/relationships/image" Target="../media/image70.png"/><Relationship Id="rId9" Type="http://schemas.openxmlformats.org/officeDocument/2006/relationships/image" Target="../media/image71.png"/><Relationship Id="rId10" Type="http://schemas.openxmlformats.org/officeDocument/2006/relationships/image" Target="../media/image72.png"/><Relationship Id="rId11" Type="http://schemas.openxmlformats.org/officeDocument/2006/relationships/image" Target="../media/image73.png"/><Relationship Id="rId12" Type="http://schemas.openxmlformats.org/officeDocument/2006/relationships/image" Target="../media/image74.png"/><Relationship Id="rId13" Type="http://schemas.openxmlformats.org/officeDocument/2006/relationships/image" Target="../media/image75.png"/><Relationship Id="rId14" Type="http://schemas.openxmlformats.org/officeDocument/2006/relationships/image" Target="../media/image76.png"/><Relationship Id="rId15" Type="http://schemas.openxmlformats.org/officeDocument/2006/relationships/image" Target="../media/image77.png"/><Relationship Id="rId16" Type="http://schemas.openxmlformats.org/officeDocument/2006/relationships/image" Target="../media/image78.png"/><Relationship Id="rId17" Type="http://schemas.openxmlformats.org/officeDocument/2006/relationships/image" Target="../media/image79.png"/><Relationship Id="rId18" Type="http://schemas.openxmlformats.org/officeDocument/2006/relationships/image" Target="../media/image80.png"/><Relationship Id="rId19" Type="http://schemas.openxmlformats.org/officeDocument/2006/relationships/image" Target="../media/image81.png"/><Relationship Id="rId20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83.png"/><Relationship Id="rId3" Type="http://schemas.openxmlformats.org/officeDocument/2006/relationships/image" Target="../media/image84.png"/><Relationship Id="rId4" Type="http://schemas.openxmlformats.org/officeDocument/2006/relationships/image" Target="../media/image85.png"/><Relationship Id="rId5" Type="http://schemas.openxmlformats.org/officeDocument/2006/relationships/image" Target="../media/image86.png"/><Relationship Id="rId6" Type="http://schemas.openxmlformats.org/officeDocument/2006/relationships/image" Target="../media/image87.png"/><Relationship Id="rId7" Type="http://schemas.openxmlformats.org/officeDocument/2006/relationships/image" Target="../media/image88.png"/><Relationship Id="rId8" Type="http://schemas.openxmlformats.org/officeDocument/2006/relationships/image" Target="../media/image89.png"/><Relationship Id="rId9" Type="http://schemas.openxmlformats.org/officeDocument/2006/relationships/image" Target="../media/image90.png"/><Relationship Id="rId10" Type="http://schemas.openxmlformats.org/officeDocument/2006/relationships/image" Target="../media/image91.png"/><Relationship Id="rId11" Type="http://schemas.openxmlformats.org/officeDocument/2006/relationships/image" Target="../media/image92.png"/><Relationship Id="rId12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3.png"/><Relationship Id="rId2" Type="http://schemas.openxmlformats.org/officeDocument/2006/relationships/image" Target="../media/image94.png"/><Relationship Id="rId3" Type="http://schemas.openxmlformats.org/officeDocument/2006/relationships/image" Target="../media/image95.png"/><Relationship Id="rId4" Type="http://schemas.openxmlformats.org/officeDocument/2006/relationships/image" Target="../media/image96.png"/><Relationship Id="rId5" Type="http://schemas.openxmlformats.org/officeDocument/2006/relationships/image" Target="../media/image97.png"/><Relationship Id="rId6" Type="http://schemas.openxmlformats.org/officeDocument/2006/relationships/image" Target="../media/image98.png"/><Relationship Id="rId7" Type="http://schemas.openxmlformats.org/officeDocument/2006/relationships/image" Target="../media/image99.png"/><Relationship Id="rId8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0.png"/><Relationship Id="rId2" Type="http://schemas.openxmlformats.org/officeDocument/2006/relationships/image" Target="../media/image101.png"/><Relationship Id="rId3" Type="http://schemas.openxmlformats.org/officeDocument/2006/relationships/image" Target="../media/image102.png"/><Relationship Id="rId4" Type="http://schemas.openxmlformats.org/officeDocument/2006/relationships/image" Target="../media/image103.png"/><Relationship Id="rId5" Type="http://schemas.openxmlformats.org/officeDocument/2006/relationships/image" Target="../media/image104.png"/><Relationship Id="rId6" Type="http://schemas.openxmlformats.org/officeDocument/2006/relationships/image" Target="../media/image104.png"/><Relationship Id="rId7" Type="http://schemas.openxmlformats.org/officeDocument/2006/relationships/image" Target="../media/image105.png"/><Relationship Id="rId8" Type="http://schemas.openxmlformats.org/officeDocument/2006/relationships/image" Target="../media/image104.png"/><Relationship Id="rId9" Type="http://schemas.openxmlformats.org/officeDocument/2006/relationships/image" Target="../media/image104.png"/><Relationship Id="rId10" Type="http://schemas.openxmlformats.org/officeDocument/2006/relationships/image" Target="../media/image106.png"/><Relationship Id="rId11" Type="http://schemas.openxmlformats.org/officeDocument/2006/relationships/image" Target="../media/image104.png"/><Relationship Id="rId12" Type="http://schemas.openxmlformats.org/officeDocument/2006/relationships/image" Target="../media/image104.png"/><Relationship Id="rId13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7.wmf"/><Relationship Id="rId2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8.png"/><Relationship Id="rId2" Type="http://schemas.openxmlformats.org/officeDocument/2006/relationships/image" Target="../media/image109.png"/><Relationship Id="rId3" Type="http://schemas.openxmlformats.org/officeDocument/2006/relationships/image" Target="../media/image110.png"/><Relationship Id="rId4" Type="http://schemas.openxmlformats.org/officeDocument/2006/relationships/image" Target="../media/image111.png"/><Relationship Id="rId5" Type="http://schemas.openxmlformats.org/officeDocument/2006/relationships/image" Target="../media/image112.png"/><Relationship Id="rId6" Type="http://schemas.openxmlformats.org/officeDocument/2006/relationships/image" Target="../media/image113.png"/><Relationship Id="rId7" Type="http://schemas.openxmlformats.org/officeDocument/2006/relationships/hyperlink" Target="http://www.eeppt.com" TargetMode="External"/><Relationship Id="rId8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2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2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20.png"/><Relationship Id="rId14" Type="http://schemas.openxmlformats.org/officeDocument/2006/relationships/image" Target="../media/image22.png"/><Relationship Id="rId15" Type="http://schemas.openxmlformats.org/officeDocument/2006/relationships/image" Target="../media/image23.png"/><Relationship Id="rId16" Type="http://schemas.openxmlformats.org/officeDocument/2006/relationships/image" Target="../media/image20.png"/><Relationship Id="rId17" Type="http://schemas.openxmlformats.org/officeDocument/2006/relationships/image" Target="../media/image24.png"/><Relationship Id="rId18" Type="http://schemas.openxmlformats.org/officeDocument/2006/relationships/image" Target="../media/image25.png"/><Relationship Id="rId19" Type="http://schemas.openxmlformats.org/officeDocument/2006/relationships/image" Target="../media/image26.png"/><Relationship Id="rId20" Type="http://schemas.openxmlformats.org/officeDocument/2006/relationships/image" Target="../media/image27.png"/><Relationship Id="rId21" Type="http://schemas.openxmlformats.org/officeDocument/2006/relationships/image" Target="../media/image28.png"/><Relationship Id="rId22" Type="http://schemas.openxmlformats.org/officeDocument/2006/relationships/image" Target="../media/image26.png"/><Relationship Id="rId23" Type="http://schemas.openxmlformats.org/officeDocument/2006/relationships/image" Target="../media/image29.png"/><Relationship Id="rId24" Type="http://schemas.openxmlformats.org/officeDocument/2006/relationships/image" Target="../media/image30.png"/><Relationship Id="rId25" Type="http://schemas.openxmlformats.org/officeDocument/2006/relationships/image" Target="../media/image25.png"/><Relationship Id="rId26" Type="http://schemas.openxmlformats.org/officeDocument/2006/relationships/image" Target="../media/image25.png"/><Relationship Id="rId27" Type="http://schemas.openxmlformats.org/officeDocument/2006/relationships/image" Target="../media/image31.png"/><Relationship Id="rId28" Type="http://schemas.openxmlformats.org/officeDocument/2006/relationships/image" Target="../media/image32.png"/><Relationship Id="rId29" Type="http://schemas.openxmlformats.org/officeDocument/2006/relationships/image" Target="../media/image19.png"/><Relationship Id="rId30" Type="http://schemas.openxmlformats.org/officeDocument/2006/relationships/image" Target="../media/image33.png"/><Relationship Id="rId31" Type="http://schemas.openxmlformats.org/officeDocument/2006/relationships/image" Target="../media/image20.png"/><Relationship Id="rId32" Type="http://schemas.openxmlformats.org/officeDocument/2006/relationships/image" Target="../media/image23.png"/><Relationship Id="rId33" Type="http://schemas.openxmlformats.org/officeDocument/2006/relationships/hyperlink" Target="http://www.eeppt.com" TargetMode="External"/><Relationship Id="rId3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G:\S素材风暴素材\4-PPT模板\00_新建文件夹\images\015\图片\image 66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grpSp>
        <p:nvGrpSpPr>
          <p:cNvPr id="158" name="组合 6"/>
          <p:cNvGrpSpPr/>
          <p:nvPr/>
        </p:nvGrpSpPr>
        <p:grpSpPr>
          <a:xfrm>
            <a:off x="3048120" y="2057400"/>
            <a:ext cx="5790960" cy="1321200"/>
            <a:chOff x="3048120" y="2057400"/>
            <a:chExt cx="5790960" cy="1321200"/>
          </a:xfrm>
        </p:grpSpPr>
        <p:sp>
          <p:nvSpPr>
            <p:cNvPr id="159" name="TextBox 4"/>
            <p:cNvSpPr/>
            <p:nvPr/>
          </p:nvSpPr>
          <p:spPr>
            <a:xfrm>
              <a:off x="3048120" y="2057400"/>
              <a:ext cx="403848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6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回首</a:t>
              </a:r>
              <a:r>
                <a:rPr b="1" lang="en-US" sz="46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201A</a:t>
              </a:r>
              <a:r>
                <a:rPr b="1" lang="zh-CN" sz="46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年</a:t>
              </a:r>
              <a:endParaRPr b="0" lang="en-US" sz="4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Box 5"/>
            <p:cNvSpPr/>
            <p:nvPr/>
          </p:nvSpPr>
          <p:spPr>
            <a:xfrm>
              <a:off x="3809880" y="2858040"/>
              <a:ext cx="5029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我们收获喜悦和汗水的果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组合 7"/>
          <p:cNvGrpSpPr/>
          <p:nvPr/>
        </p:nvGrpSpPr>
        <p:grpSpPr>
          <a:xfrm>
            <a:off x="533520" y="2719440"/>
            <a:ext cx="5790960" cy="1320120"/>
            <a:chOff x="533520" y="2719440"/>
            <a:chExt cx="5790960" cy="1320120"/>
          </a:xfrm>
        </p:grpSpPr>
        <p:sp>
          <p:nvSpPr>
            <p:cNvPr id="162" name="TextBox 8"/>
            <p:cNvSpPr/>
            <p:nvPr/>
          </p:nvSpPr>
          <p:spPr>
            <a:xfrm>
              <a:off x="533520" y="2719440"/>
              <a:ext cx="403848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6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启程</a:t>
              </a:r>
              <a:r>
                <a:rPr b="1" lang="en-US" sz="46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201B</a:t>
              </a:r>
              <a:r>
                <a:rPr b="1" lang="zh-CN" sz="46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年</a:t>
              </a:r>
              <a:endParaRPr b="0" lang="en-US" sz="4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Box 9"/>
            <p:cNvSpPr/>
            <p:nvPr/>
          </p:nvSpPr>
          <p:spPr>
            <a:xfrm>
              <a:off x="1295280" y="3519000"/>
              <a:ext cx="5029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为了梦想我们从未停下脚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4" name="sound 693 (snd13818400_5).wav" descr=""/>
          <p:cNvPicPr/>
          <p:nvPr/>
        </p:nvPicPr>
        <p:blipFill>
          <a:blip r:embed="rId2"/>
          <a:stretch/>
        </p:blipFill>
        <p:spPr>
          <a:xfrm>
            <a:off x="9753480" y="-800280"/>
            <a:ext cx="609840" cy="609840"/>
          </a:xfrm>
          <a:prstGeom prst="rect">
            <a:avLst/>
          </a:prstGeom>
          <a:ln w="0">
            <a:noFill/>
          </a:ln>
        </p:spPr>
      </p:pic>
      <p:sp>
        <p:nvSpPr>
          <p:cNvPr id="165" name="文本框 6155"/>
          <p:cNvSpPr/>
          <p:nvPr/>
        </p:nvSpPr>
        <p:spPr>
          <a:xfrm>
            <a:off x="76320" y="5295960"/>
            <a:ext cx="50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920" y="495360"/>
            <a:ext cx="7431120" cy="132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工作报告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"/>
                            </p:stCondLst>
                            <p:childTnLst>
                              <p:par>
                                <p:cTn id="8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1"/>
                            </p:stCondLst>
                            <p:childTnLst>
                              <p:par>
                                <p:cTn id="14" dur="indefinite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001"/>
                            </p:stCondLst>
                            <p:childTnLst>
                              <p:par>
                                <p:cTn id="20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1"/>
                            </p:stCondLst>
                            <p:childTnLst>
                              <p:par>
                                <p:cTn id="26" dur="indefinite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组合 57"/>
          <p:cNvGrpSpPr/>
          <p:nvPr/>
        </p:nvGrpSpPr>
        <p:grpSpPr>
          <a:xfrm>
            <a:off x="2401560" y="888120"/>
            <a:ext cx="4368960" cy="4353480"/>
            <a:chOff x="2401560" y="888120"/>
            <a:chExt cx="4368960" cy="4353480"/>
          </a:xfrm>
        </p:grpSpPr>
        <p:grpSp>
          <p:nvGrpSpPr>
            <p:cNvPr id="481" name="组合 53"/>
            <p:cNvGrpSpPr/>
            <p:nvPr/>
          </p:nvGrpSpPr>
          <p:grpSpPr>
            <a:xfrm>
              <a:off x="3426840" y="1047960"/>
              <a:ext cx="1722240" cy="1722240"/>
              <a:chOff x="3426840" y="1047960"/>
              <a:chExt cx="1722240" cy="1722240"/>
            </a:xfrm>
          </p:grpSpPr>
          <p:sp>
            <p:nvSpPr>
              <p:cNvPr id="482" name="矩形 36"/>
              <p:cNvSpPr/>
              <p:nvPr/>
            </p:nvSpPr>
            <p:spPr>
              <a:xfrm rot="18864600">
                <a:off x="3679200" y="1299600"/>
                <a:ext cx="1217160" cy="1218600"/>
              </a:xfrm>
              <a:prstGeom prst="rect">
                <a:avLst/>
              </a:prstGeom>
              <a:gradFill rotWithShape="0">
                <a:gsLst>
                  <a:gs pos="0">
                    <a:srgbClr val="be1247"/>
                  </a:gs>
                  <a:gs pos="100000">
                    <a:srgbClr val="fa9496"/>
                  </a:gs>
                </a:gsLst>
                <a:lin ang="18936000"/>
              </a:gradFill>
              <a:ln w="25560">
                <a:solidFill>
                  <a:srgbClr val="fa9496">
                    <a:alpha val="6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TextBox 37"/>
              <p:cNvSpPr/>
              <p:nvPr/>
            </p:nvSpPr>
            <p:spPr>
              <a:xfrm flipH="1">
                <a:off x="3536280" y="1735200"/>
                <a:ext cx="1503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添加标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4" name="组合 54"/>
            <p:cNvGrpSpPr/>
            <p:nvPr/>
          </p:nvGrpSpPr>
          <p:grpSpPr>
            <a:xfrm>
              <a:off x="2570400" y="2476440"/>
              <a:ext cx="1722600" cy="1722240"/>
              <a:chOff x="2570400" y="2476440"/>
              <a:chExt cx="1722600" cy="1722240"/>
            </a:xfrm>
          </p:grpSpPr>
          <p:sp>
            <p:nvSpPr>
              <p:cNvPr id="485" name="矩形 34"/>
              <p:cNvSpPr/>
              <p:nvPr/>
            </p:nvSpPr>
            <p:spPr>
              <a:xfrm rot="18864600">
                <a:off x="2822760" y="2728080"/>
                <a:ext cx="1217160" cy="1218960"/>
              </a:xfrm>
              <a:prstGeom prst="rect">
                <a:avLst/>
              </a:prstGeom>
              <a:gradFill rotWithShape="0">
                <a:gsLst>
                  <a:gs pos="0">
                    <a:srgbClr val="c00000"/>
                  </a:gs>
                  <a:gs pos="100000">
                    <a:srgbClr val="ffffcc"/>
                  </a:gs>
                </a:gsLst>
                <a:lin ang="18936000"/>
              </a:gradFill>
              <a:ln w="25560">
                <a:solidFill>
                  <a:srgbClr val="990000">
                    <a:alpha val="51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TextBox 35"/>
              <p:cNvSpPr/>
              <p:nvPr/>
            </p:nvSpPr>
            <p:spPr>
              <a:xfrm flipH="1">
                <a:off x="2679120" y="3163680"/>
                <a:ext cx="1503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添加标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7" name="组合 55"/>
            <p:cNvGrpSpPr/>
            <p:nvPr/>
          </p:nvGrpSpPr>
          <p:grpSpPr>
            <a:xfrm>
              <a:off x="3994920" y="3341880"/>
              <a:ext cx="1722240" cy="1722240"/>
              <a:chOff x="3994920" y="3341880"/>
              <a:chExt cx="1722240" cy="1722240"/>
            </a:xfrm>
          </p:grpSpPr>
          <p:sp>
            <p:nvSpPr>
              <p:cNvPr id="488" name="矩形 32"/>
              <p:cNvSpPr/>
              <p:nvPr/>
            </p:nvSpPr>
            <p:spPr>
              <a:xfrm rot="18864600">
                <a:off x="4247280" y="3593520"/>
                <a:ext cx="1217160" cy="1218600"/>
              </a:xfrm>
              <a:prstGeom prst="rect">
                <a:avLst/>
              </a:prstGeom>
              <a:gradFill rotWithShape="0">
                <a:gsLst>
                  <a:gs pos="0">
                    <a:srgbClr val="c73e01"/>
                  </a:gs>
                  <a:gs pos="100000">
                    <a:srgbClr val="ffc000"/>
                  </a:gs>
                </a:gsLst>
                <a:lin ang="18936000"/>
              </a:gradFill>
              <a:ln w="25560">
                <a:solidFill>
                  <a:srgbClr val="ffaa01">
                    <a:alpha val="7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TextBox 33"/>
              <p:cNvSpPr/>
              <p:nvPr/>
            </p:nvSpPr>
            <p:spPr>
              <a:xfrm flipH="1">
                <a:off x="4104360" y="4029120"/>
                <a:ext cx="1503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添加标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0" name="组合 56"/>
            <p:cNvGrpSpPr/>
            <p:nvPr/>
          </p:nvGrpSpPr>
          <p:grpSpPr>
            <a:xfrm>
              <a:off x="4842360" y="1940760"/>
              <a:ext cx="1722240" cy="1722240"/>
              <a:chOff x="4842360" y="1940760"/>
              <a:chExt cx="1722240" cy="1722240"/>
            </a:xfrm>
          </p:grpSpPr>
          <p:sp>
            <p:nvSpPr>
              <p:cNvPr id="491" name="矩形 30"/>
              <p:cNvSpPr/>
              <p:nvPr/>
            </p:nvSpPr>
            <p:spPr>
              <a:xfrm rot="18864600">
                <a:off x="5094720" y="2192400"/>
                <a:ext cx="1217160" cy="1218600"/>
              </a:xfrm>
              <a:prstGeom prst="rect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ff3300"/>
                  </a:gs>
                </a:gsLst>
                <a:lin ang="18936000"/>
              </a:gradFill>
              <a:ln w="25560">
                <a:solidFill>
                  <a:srgbClr val="ff9933">
                    <a:alpha val="4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TextBox 31"/>
              <p:cNvSpPr/>
              <p:nvPr/>
            </p:nvSpPr>
            <p:spPr>
              <a:xfrm flipH="1">
                <a:off x="4951800" y="2628000"/>
                <a:ext cx="1503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添加标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3" name="组合 28"/>
            <p:cNvGrpSpPr/>
            <p:nvPr/>
          </p:nvGrpSpPr>
          <p:grpSpPr>
            <a:xfrm>
              <a:off x="4289040" y="888120"/>
              <a:ext cx="2195280" cy="2179080"/>
              <a:chOff x="4289040" y="888120"/>
              <a:chExt cx="2195280" cy="2179080"/>
            </a:xfrm>
          </p:grpSpPr>
          <p:grpSp>
            <p:nvGrpSpPr>
              <p:cNvPr id="494" name="组合 14"/>
              <p:cNvGrpSpPr/>
              <p:nvPr/>
            </p:nvGrpSpPr>
            <p:grpSpPr>
              <a:xfrm>
                <a:off x="4289040" y="888120"/>
                <a:ext cx="2195280" cy="2179080"/>
                <a:chOff x="4289040" y="888120"/>
                <a:chExt cx="2195280" cy="2179080"/>
              </a:xfrm>
            </p:grpSpPr>
            <p:sp>
              <p:nvSpPr>
                <p:cNvPr id="495" name="矩形 27"/>
                <p:cNvSpPr/>
                <p:nvPr/>
              </p:nvSpPr>
              <p:spPr>
                <a:xfrm rot="2725800">
                  <a:off x="5185440" y="632880"/>
                  <a:ext cx="405360" cy="2678040"/>
                </a:xfrm>
                <a:prstGeom prst="rect">
                  <a:avLst/>
                </a:prstGeom>
                <a:gradFill rotWithShape="0">
                  <a:gsLst>
                    <a:gs pos="0">
                      <a:srgbClr val="7f7f7f"/>
                    </a:gs>
                    <a:gs pos="100000">
                      <a:srgbClr val="737373">
                        <a:alpha val="7058"/>
                      </a:srgbClr>
                    </a:gs>
                  </a:gsLst>
                  <a:lin ang="1887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矩形 28"/>
                <p:cNvSpPr/>
                <p:nvPr/>
              </p:nvSpPr>
              <p:spPr>
                <a:xfrm rot="2725800">
                  <a:off x="4376160" y="2569320"/>
                  <a:ext cx="407160" cy="414720"/>
                </a:xfrm>
                <a:prstGeom prst="rect">
                  <a:avLst/>
                </a:prstGeom>
                <a:noFill/>
                <a:ln w="25560">
                  <a:solidFill>
                    <a:srgbClr val="a6a6a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TextBox 29"/>
                <p:cNvSpPr/>
                <p:nvPr/>
              </p:nvSpPr>
              <p:spPr>
                <a:xfrm flipH="1">
                  <a:off x="4363560" y="2513160"/>
                  <a:ext cx="486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8" name="TextBox 26"/>
              <p:cNvSpPr/>
              <p:nvPr/>
            </p:nvSpPr>
            <p:spPr>
              <a:xfrm flipH="1" rot="18920400">
                <a:off x="4478760" y="1951560"/>
                <a:ext cx="1501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添加文本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9" name="组合 29"/>
            <p:cNvGrpSpPr/>
            <p:nvPr/>
          </p:nvGrpSpPr>
          <p:grpSpPr>
            <a:xfrm>
              <a:off x="2401560" y="1155960"/>
              <a:ext cx="2190600" cy="2207880"/>
              <a:chOff x="2401560" y="1155960"/>
              <a:chExt cx="2190600" cy="2207880"/>
            </a:xfrm>
          </p:grpSpPr>
          <p:grpSp>
            <p:nvGrpSpPr>
              <p:cNvPr id="500" name="组合 30"/>
              <p:cNvGrpSpPr/>
              <p:nvPr/>
            </p:nvGrpSpPr>
            <p:grpSpPr>
              <a:xfrm>
                <a:off x="2401560" y="1155960"/>
                <a:ext cx="2190600" cy="2207880"/>
                <a:chOff x="2401560" y="1155960"/>
                <a:chExt cx="2190600" cy="2207880"/>
              </a:xfrm>
            </p:grpSpPr>
            <p:sp>
              <p:nvSpPr>
                <p:cNvPr id="501" name="矩形 22"/>
                <p:cNvSpPr/>
                <p:nvPr/>
              </p:nvSpPr>
              <p:spPr>
                <a:xfrm rot="18925800">
                  <a:off x="3282840" y="912960"/>
                  <a:ext cx="405360" cy="2678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7f7f7f"/>
                    </a:gs>
                    <a:gs pos="100000">
                      <a:srgbClr val="737373">
                        <a:alpha val="7058"/>
                      </a:srgbClr>
                    </a:gs>
                  </a:gsLst>
                  <a:lin ang="1887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矩形 23"/>
                <p:cNvSpPr/>
                <p:nvPr/>
              </p:nvSpPr>
              <p:spPr>
                <a:xfrm rot="18925800">
                  <a:off x="4100040" y="2867760"/>
                  <a:ext cx="405360" cy="412920"/>
                </a:xfrm>
                <a:prstGeom prst="rect">
                  <a:avLst/>
                </a:prstGeom>
                <a:solidFill>
                  <a:srgbClr val="d9d9d9">
                    <a:alpha val="9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" name="TextBox 24"/>
                <p:cNvSpPr/>
                <p:nvPr/>
              </p:nvSpPr>
              <p:spPr>
                <a:xfrm flipH="1">
                  <a:off x="4082040" y="2772360"/>
                  <a:ext cx="486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7f7f7f"/>
                      </a:solidFill>
                      <a:latin typeface="Arial Unicode MS"/>
                      <a:ea typeface="Arial Unicode MS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4" name="TextBox 21"/>
              <p:cNvSpPr/>
              <p:nvPr/>
            </p:nvSpPr>
            <p:spPr>
              <a:xfrm flipH="1" rot="2684400">
                <a:off x="3108600" y="2482200"/>
                <a:ext cx="1503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添加文本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5" name="组合 41"/>
            <p:cNvGrpSpPr/>
            <p:nvPr/>
          </p:nvGrpSpPr>
          <p:grpSpPr>
            <a:xfrm>
              <a:off x="4577760" y="2781360"/>
              <a:ext cx="2192760" cy="2208240"/>
              <a:chOff x="4577760" y="2781360"/>
              <a:chExt cx="2192760" cy="2208240"/>
            </a:xfrm>
          </p:grpSpPr>
          <p:grpSp>
            <p:nvGrpSpPr>
              <p:cNvPr id="506" name="组合 42"/>
              <p:cNvGrpSpPr/>
              <p:nvPr/>
            </p:nvGrpSpPr>
            <p:grpSpPr>
              <a:xfrm>
                <a:off x="4577760" y="2781360"/>
                <a:ext cx="2192760" cy="2208240"/>
                <a:chOff x="4577760" y="2781360"/>
                <a:chExt cx="2192760" cy="2208240"/>
              </a:xfrm>
            </p:grpSpPr>
            <p:sp>
              <p:nvSpPr>
                <p:cNvPr id="507" name="矩形 17"/>
                <p:cNvSpPr/>
                <p:nvPr/>
              </p:nvSpPr>
              <p:spPr>
                <a:xfrm rot="8125800">
                  <a:off x="5483160" y="2553840"/>
                  <a:ext cx="405720" cy="2678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7f7f7f"/>
                    </a:gs>
                    <a:gs pos="100000">
                      <a:srgbClr val="737373">
                        <a:alpha val="7058"/>
                      </a:srgbClr>
                    </a:gs>
                  </a:gsLst>
                  <a:lin ang="1887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矩形 18"/>
                <p:cNvSpPr/>
                <p:nvPr/>
              </p:nvSpPr>
              <p:spPr>
                <a:xfrm rot="8125800">
                  <a:off x="4664160" y="2864160"/>
                  <a:ext cx="405720" cy="412920"/>
                </a:xfrm>
                <a:prstGeom prst="rect">
                  <a:avLst/>
                </a:prstGeom>
                <a:solidFill>
                  <a:srgbClr val="d9d9d9">
                    <a:alpha val="9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TextBox 19"/>
                <p:cNvSpPr/>
                <p:nvPr/>
              </p:nvSpPr>
              <p:spPr>
                <a:xfrm flipH="1">
                  <a:off x="4639320" y="2797200"/>
                  <a:ext cx="4870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7f7f7f"/>
                      </a:solidFill>
                      <a:latin typeface="Arial Unicode MS"/>
                      <a:ea typeface="Arial Unicode MS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0" name="TextBox 16"/>
              <p:cNvSpPr/>
              <p:nvPr/>
            </p:nvSpPr>
            <p:spPr>
              <a:xfrm flipH="1" rot="2724600">
                <a:off x="4834800" y="3617640"/>
                <a:ext cx="1504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添加文本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1" name="组合 47"/>
            <p:cNvGrpSpPr/>
            <p:nvPr/>
          </p:nvGrpSpPr>
          <p:grpSpPr>
            <a:xfrm>
              <a:off x="2643480" y="3067560"/>
              <a:ext cx="2196360" cy="2174040"/>
              <a:chOff x="2643480" y="3067560"/>
              <a:chExt cx="2196360" cy="2174040"/>
            </a:xfrm>
          </p:grpSpPr>
          <p:grpSp>
            <p:nvGrpSpPr>
              <p:cNvPr id="512" name="组合 48"/>
              <p:cNvGrpSpPr/>
              <p:nvPr/>
            </p:nvGrpSpPr>
            <p:grpSpPr>
              <a:xfrm>
                <a:off x="2643480" y="3067560"/>
                <a:ext cx="2196360" cy="2174040"/>
                <a:chOff x="2643480" y="3067560"/>
                <a:chExt cx="2196360" cy="2174040"/>
              </a:xfrm>
            </p:grpSpPr>
            <p:sp>
              <p:nvSpPr>
                <p:cNvPr id="513" name="矩形 12"/>
                <p:cNvSpPr/>
                <p:nvPr/>
              </p:nvSpPr>
              <p:spPr>
                <a:xfrm rot="13525800">
                  <a:off x="3537000" y="2818440"/>
                  <a:ext cx="404640" cy="2678040"/>
                </a:xfrm>
                <a:prstGeom prst="rect">
                  <a:avLst/>
                </a:prstGeom>
                <a:gradFill rotWithShape="0">
                  <a:gsLst>
                    <a:gs pos="0">
                      <a:srgbClr val="7f7f7f"/>
                    </a:gs>
                    <a:gs pos="100000">
                      <a:srgbClr val="737373">
                        <a:alpha val="7058"/>
                      </a:srgbClr>
                    </a:gs>
                  </a:gsLst>
                  <a:lin ang="1887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矩形 13"/>
                <p:cNvSpPr/>
                <p:nvPr/>
              </p:nvSpPr>
              <p:spPr>
                <a:xfrm rot="13525800">
                  <a:off x="4347360" y="3156120"/>
                  <a:ext cx="404640" cy="414720"/>
                </a:xfrm>
                <a:prstGeom prst="rect">
                  <a:avLst/>
                </a:prstGeom>
                <a:noFill/>
                <a:ln w="25560">
                  <a:solidFill>
                    <a:srgbClr val="a6a6a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TextBox 14"/>
                <p:cNvSpPr/>
                <p:nvPr/>
              </p:nvSpPr>
              <p:spPr>
                <a:xfrm flipH="1">
                  <a:off x="4339080" y="3067560"/>
                  <a:ext cx="486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6" name="TextBox 11"/>
              <p:cNvSpPr/>
              <p:nvPr/>
            </p:nvSpPr>
            <p:spPr>
              <a:xfrm flipH="1" rot="18884400">
                <a:off x="3355560" y="3643200"/>
                <a:ext cx="1503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添加文本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 advTm="5000">
    <p:fade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TextBox 1"/>
          <p:cNvSpPr/>
          <p:nvPr/>
        </p:nvSpPr>
        <p:spPr>
          <a:xfrm>
            <a:off x="5007240" y="3637080"/>
            <a:ext cx="1499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此处输入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此处输入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Box 2"/>
          <p:cNvSpPr/>
          <p:nvPr/>
        </p:nvSpPr>
        <p:spPr>
          <a:xfrm>
            <a:off x="3177000" y="4390920"/>
            <a:ext cx="16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此处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此处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Box 3"/>
          <p:cNvSpPr/>
          <p:nvPr/>
        </p:nvSpPr>
        <p:spPr>
          <a:xfrm>
            <a:off x="6752520" y="2676600"/>
            <a:ext cx="1377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此处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此处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组合 4"/>
          <p:cNvGrpSpPr/>
          <p:nvPr/>
        </p:nvGrpSpPr>
        <p:grpSpPr>
          <a:xfrm>
            <a:off x="944280" y="2083680"/>
            <a:ext cx="2187720" cy="2946960"/>
            <a:chOff x="944280" y="2083680"/>
            <a:chExt cx="2187720" cy="2946960"/>
          </a:xfrm>
        </p:grpSpPr>
        <p:sp>
          <p:nvSpPr>
            <p:cNvPr id="521" name="椭圆​​ 2"/>
            <p:cNvSpPr/>
            <p:nvPr/>
          </p:nvSpPr>
          <p:spPr>
            <a:xfrm>
              <a:off x="1187280" y="2349360"/>
              <a:ext cx="1944720" cy="2366640"/>
            </a:xfrm>
            <a:custGeom>
              <a:avLst/>
              <a:gdLst/>
              <a:ahLst/>
              <a:rect l="l" t="t" r="r" b="b"/>
              <a:pathLst>
                <a:path w="1944132" h="2448272">
                  <a:moveTo>
                    <a:pt x="972066" y="0"/>
                  </a:moveTo>
                  <a:cubicBezTo>
                    <a:pt x="1508923" y="0"/>
                    <a:pt x="1944132" y="435209"/>
                    <a:pt x="1944132" y="972066"/>
                  </a:cubicBezTo>
                  <a:cubicBezTo>
                    <a:pt x="1944132" y="1465344"/>
                    <a:pt x="1576711" y="1872807"/>
                    <a:pt x="1100480" y="1934684"/>
                  </a:cubicBezTo>
                  <a:lnTo>
                    <a:pt x="972066" y="2448272"/>
                  </a:lnTo>
                  <a:lnTo>
                    <a:pt x="843652" y="1934684"/>
                  </a:lnTo>
                  <a:cubicBezTo>
                    <a:pt x="367421" y="1872807"/>
                    <a:pt x="0" y="1465344"/>
                    <a:pt x="0" y="972066"/>
                  </a:cubicBezTo>
                  <a:cubicBezTo>
                    <a:pt x="0" y="435209"/>
                    <a:pt x="435209" y="0"/>
                    <a:pt x="97206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ff9933"/>
                </a:gs>
              </a:gsLst>
              <a:lin ang="16200000"/>
            </a:gradFill>
            <a:ln w="1908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2" name="椭圆​​ 6" descr=""/>
            <p:cNvPicPr/>
            <p:nvPr/>
          </p:nvPicPr>
          <p:blipFill>
            <a:blip r:embed="rId1"/>
            <a:stretch/>
          </p:blipFill>
          <p:spPr>
            <a:xfrm>
              <a:off x="1403640" y="4765680"/>
              <a:ext cx="1512000" cy="26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矩形​​ 16"/>
            <p:cNvSpPr/>
            <p:nvPr/>
          </p:nvSpPr>
          <p:spPr>
            <a:xfrm>
              <a:off x="1891800" y="2940120"/>
              <a:ext cx="592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入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新月形 8"/>
            <p:cNvSpPr/>
            <p:nvPr/>
          </p:nvSpPr>
          <p:spPr>
            <a:xfrm rot="3501600">
              <a:off x="1508760" y="1971000"/>
              <a:ext cx="692640" cy="1713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767" y="1065"/>
                    <a:pt x="5934" y="5080"/>
                    <a:pt x="5934" y="10800"/>
                  </a:cubicBezTo>
                  <a:cubicBezTo>
                    <a:pt x="5934" y="16520"/>
                    <a:pt x="13767" y="20535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38039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730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" name="组合 9"/>
          <p:cNvGrpSpPr/>
          <p:nvPr/>
        </p:nvGrpSpPr>
        <p:grpSpPr>
          <a:xfrm>
            <a:off x="3472920" y="1762200"/>
            <a:ext cx="1619640" cy="2160360"/>
            <a:chOff x="3472920" y="1762200"/>
            <a:chExt cx="1619640" cy="2160360"/>
          </a:xfrm>
        </p:grpSpPr>
        <p:sp>
          <p:nvSpPr>
            <p:cNvPr id="526" name="椭圆​​ 2"/>
            <p:cNvSpPr/>
            <p:nvPr/>
          </p:nvSpPr>
          <p:spPr>
            <a:xfrm>
              <a:off x="3652920" y="1976400"/>
              <a:ext cx="1439640" cy="1733040"/>
            </a:xfrm>
            <a:custGeom>
              <a:avLst/>
              <a:gdLst/>
              <a:ahLst/>
              <a:rect l="l" t="t" r="r" b="b"/>
              <a:pathLst>
                <a:path w="1944132" h="2448272">
                  <a:moveTo>
                    <a:pt x="972066" y="0"/>
                  </a:moveTo>
                  <a:cubicBezTo>
                    <a:pt x="1508923" y="0"/>
                    <a:pt x="1944132" y="435209"/>
                    <a:pt x="1944132" y="972066"/>
                  </a:cubicBezTo>
                  <a:cubicBezTo>
                    <a:pt x="1944132" y="1465344"/>
                    <a:pt x="1576711" y="1872807"/>
                    <a:pt x="1100480" y="1934684"/>
                  </a:cubicBezTo>
                  <a:lnTo>
                    <a:pt x="972066" y="2448272"/>
                  </a:lnTo>
                  <a:lnTo>
                    <a:pt x="843652" y="1934684"/>
                  </a:lnTo>
                  <a:cubicBezTo>
                    <a:pt x="367421" y="1872807"/>
                    <a:pt x="0" y="1465344"/>
                    <a:pt x="0" y="972066"/>
                  </a:cubicBezTo>
                  <a:cubicBezTo>
                    <a:pt x="0" y="435209"/>
                    <a:pt x="435209" y="0"/>
                    <a:pt x="97206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ff9933"/>
                </a:gs>
              </a:gsLst>
              <a:lin ang="16200000"/>
            </a:gradFill>
            <a:ln w="1908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7" name="椭圆​​ 9" descr=""/>
            <p:cNvPicPr/>
            <p:nvPr/>
          </p:nvPicPr>
          <p:blipFill>
            <a:blip r:embed="rId2"/>
            <a:stretch/>
          </p:blipFill>
          <p:spPr>
            <a:xfrm>
              <a:off x="3780000" y="3660480"/>
              <a:ext cx="1115640" cy="2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8" name="矩形​​ 17"/>
            <p:cNvSpPr/>
            <p:nvPr/>
          </p:nvSpPr>
          <p:spPr>
            <a:xfrm>
              <a:off x="4087800" y="2401200"/>
              <a:ext cx="546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录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入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新月形 13"/>
            <p:cNvSpPr/>
            <p:nvPr/>
          </p:nvSpPr>
          <p:spPr>
            <a:xfrm rot="3501600">
              <a:off x="3886560" y="1697040"/>
              <a:ext cx="567000" cy="1288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767" y="1065"/>
                    <a:pt x="5934" y="5080"/>
                    <a:pt x="5934" y="10800"/>
                  </a:cubicBezTo>
                  <a:cubicBezTo>
                    <a:pt x="5934" y="16520"/>
                    <a:pt x="13767" y="20535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38039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730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组合 14"/>
          <p:cNvGrpSpPr/>
          <p:nvPr/>
        </p:nvGrpSpPr>
        <p:grpSpPr>
          <a:xfrm>
            <a:off x="5442840" y="1530000"/>
            <a:ext cx="1150200" cy="1527480"/>
            <a:chOff x="5442840" y="1530000"/>
            <a:chExt cx="1150200" cy="1527480"/>
          </a:xfrm>
        </p:grpSpPr>
        <p:sp>
          <p:nvSpPr>
            <p:cNvPr id="531" name="椭圆​​ 2"/>
            <p:cNvSpPr/>
            <p:nvPr/>
          </p:nvSpPr>
          <p:spPr>
            <a:xfrm>
              <a:off x="5580360" y="1700280"/>
              <a:ext cx="1012680" cy="1195560"/>
            </a:xfrm>
            <a:custGeom>
              <a:avLst/>
              <a:gdLst/>
              <a:ahLst/>
              <a:rect l="l" t="t" r="r" b="b"/>
              <a:pathLst>
                <a:path w="1944132" h="2448272">
                  <a:moveTo>
                    <a:pt x="972066" y="0"/>
                  </a:moveTo>
                  <a:cubicBezTo>
                    <a:pt x="1508923" y="0"/>
                    <a:pt x="1944132" y="435209"/>
                    <a:pt x="1944132" y="972066"/>
                  </a:cubicBezTo>
                  <a:cubicBezTo>
                    <a:pt x="1944132" y="1465344"/>
                    <a:pt x="1576711" y="1872807"/>
                    <a:pt x="1100480" y="1934684"/>
                  </a:cubicBezTo>
                  <a:lnTo>
                    <a:pt x="972066" y="2448272"/>
                  </a:lnTo>
                  <a:lnTo>
                    <a:pt x="843652" y="1934684"/>
                  </a:lnTo>
                  <a:cubicBezTo>
                    <a:pt x="367421" y="1872807"/>
                    <a:pt x="0" y="1465344"/>
                    <a:pt x="0" y="972066"/>
                  </a:cubicBezTo>
                  <a:cubicBezTo>
                    <a:pt x="0" y="435209"/>
                    <a:pt x="435209" y="0"/>
                    <a:pt x="97206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00000"/>
                </a:gs>
                <a:gs pos="100000">
                  <a:srgbClr val="ffc000"/>
                </a:gs>
              </a:gsLst>
              <a:lin ang="16200000"/>
            </a:gradFill>
            <a:ln w="1908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2" name="椭圆​​ 10" descr=""/>
            <p:cNvPicPr/>
            <p:nvPr/>
          </p:nvPicPr>
          <p:blipFill>
            <a:blip r:embed="rId3"/>
            <a:stretch/>
          </p:blipFill>
          <p:spPr>
            <a:xfrm>
              <a:off x="5724360" y="2800440"/>
              <a:ext cx="720000" cy="25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3" name="矩形​​ 18"/>
            <p:cNvSpPr/>
            <p:nvPr/>
          </p:nvSpPr>
          <p:spPr>
            <a:xfrm>
              <a:off x="5835240" y="1935360"/>
              <a:ext cx="500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录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入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新月形 18"/>
            <p:cNvSpPr/>
            <p:nvPr/>
          </p:nvSpPr>
          <p:spPr>
            <a:xfrm rot="3501600">
              <a:off x="5745960" y="1484280"/>
              <a:ext cx="423000" cy="948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767" y="1065"/>
                    <a:pt x="5934" y="5080"/>
                    <a:pt x="5934" y="10800"/>
                  </a:cubicBezTo>
                  <a:cubicBezTo>
                    <a:pt x="5934" y="16520"/>
                    <a:pt x="13767" y="20535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38039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730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5000">
    <p:fade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500"/>
                            </p:stCondLst>
                            <p:childTnLst>
                              <p:par>
                                <p:cTn id="401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2000"/>
                            </p:stCondLst>
                            <p:childTnLst>
                              <p:par>
                                <p:cTn id="407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2500"/>
                            </p:stCondLst>
                            <p:childTnLst>
                              <p:par>
                                <p:cTn id="41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5" name="Group 2"/>
          <p:cNvGrpSpPr/>
          <p:nvPr/>
        </p:nvGrpSpPr>
        <p:grpSpPr>
          <a:xfrm>
            <a:off x="1152360" y="1000080"/>
            <a:ext cx="6838920" cy="5025600"/>
            <a:chOff x="1152360" y="1000080"/>
            <a:chExt cx="6838920" cy="5025600"/>
          </a:xfrm>
        </p:grpSpPr>
        <p:sp>
          <p:nvSpPr>
            <p:cNvPr id="536" name="Oval 2"/>
            <p:cNvSpPr/>
            <p:nvPr/>
          </p:nvSpPr>
          <p:spPr>
            <a:xfrm>
              <a:off x="2893680" y="1508040"/>
              <a:ext cx="1242720" cy="7347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Oval 3"/>
            <p:cNvSpPr/>
            <p:nvPr/>
          </p:nvSpPr>
          <p:spPr>
            <a:xfrm>
              <a:off x="1152360" y="2832840"/>
              <a:ext cx="1615320" cy="9554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Oval 4"/>
            <p:cNvSpPr/>
            <p:nvPr/>
          </p:nvSpPr>
          <p:spPr>
            <a:xfrm>
              <a:off x="3763800" y="2788920"/>
              <a:ext cx="1615680" cy="9554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Oval 5"/>
            <p:cNvSpPr/>
            <p:nvPr/>
          </p:nvSpPr>
          <p:spPr>
            <a:xfrm>
              <a:off x="5257080" y="4823280"/>
              <a:ext cx="2030400" cy="12024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Oval 6"/>
            <p:cNvSpPr/>
            <p:nvPr/>
          </p:nvSpPr>
          <p:spPr>
            <a:xfrm>
              <a:off x="6375960" y="2832840"/>
              <a:ext cx="1615320" cy="9554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Oval 7"/>
            <p:cNvSpPr/>
            <p:nvPr/>
          </p:nvSpPr>
          <p:spPr>
            <a:xfrm>
              <a:off x="1857600" y="4781160"/>
              <a:ext cx="2030400" cy="12020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Oval 8"/>
            <p:cNvSpPr/>
            <p:nvPr/>
          </p:nvSpPr>
          <p:spPr>
            <a:xfrm>
              <a:off x="4345200" y="2129400"/>
              <a:ext cx="414720" cy="414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7abf5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Oval 9"/>
            <p:cNvSpPr/>
            <p:nvPr/>
          </p:nvSpPr>
          <p:spPr>
            <a:xfrm>
              <a:off x="5006880" y="1508040"/>
              <a:ext cx="1242720" cy="7347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4" name=""/>
            <p:cNvGrpSpPr/>
            <p:nvPr/>
          </p:nvGrpSpPr>
          <p:grpSpPr>
            <a:xfrm>
              <a:off x="2893320" y="3331440"/>
              <a:ext cx="1203120" cy="1449000"/>
              <a:chOff x="2893320" y="3331440"/>
              <a:chExt cx="1203120" cy="1449000"/>
            </a:xfrm>
          </p:grpSpPr>
          <p:sp>
            <p:nvSpPr>
              <p:cNvPr id="545" name="Line 10"/>
              <p:cNvSpPr/>
              <p:nvPr/>
            </p:nvSpPr>
            <p:spPr>
              <a:xfrm flipV="1">
                <a:off x="2893680" y="3331440"/>
                <a:ext cx="1202760" cy="1449000"/>
              </a:xfrm>
              <a:prstGeom prst="line">
                <a:avLst/>
              </a:prstGeom>
              <a:ln cap="rnd" w="31680">
                <a:solidFill>
                  <a:srgbClr val="808080"/>
                </a:solidFill>
                <a:custDash>
                  <a:ds d="100000" sp="1000"/>
                </a:custDash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 txBox="1"/>
              <p:nvPr/>
            </p:nvSpPr>
            <p:spPr>
              <a:xfrm rot="10800000">
                <a:off x="2893320" y="3331440"/>
                <a:ext cx="1202760" cy="14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7" name=""/>
            <p:cNvGrpSpPr/>
            <p:nvPr/>
          </p:nvGrpSpPr>
          <p:grpSpPr>
            <a:xfrm>
              <a:off x="5090760" y="3331800"/>
              <a:ext cx="1202760" cy="1409040"/>
              <a:chOff x="5090760" y="3331800"/>
              <a:chExt cx="1202760" cy="1409040"/>
            </a:xfrm>
          </p:grpSpPr>
          <p:sp>
            <p:nvSpPr>
              <p:cNvPr id="548" name="Line 11"/>
              <p:cNvSpPr/>
              <p:nvPr/>
            </p:nvSpPr>
            <p:spPr>
              <a:xfrm>
                <a:off x="5090760" y="3331800"/>
                <a:ext cx="1202760" cy="1409040"/>
              </a:xfrm>
              <a:prstGeom prst="line">
                <a:avLst/>
              </a:prstGeom>
              <a:ln cap="rnd" w="31680">
                <a:solidFill>
                  <a:srgbClr val="808080"/>
                </a:solidFill>
                <a:custDash>
                  <a:ds d="100000" sp="1000"/>
                </a:custDash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 txBox="1"/>
              <p:nvPr/>
            </p:nvSpPr>
            <p:spPr>
              <a:xfrm>
                <a:off x="5090760" y="3331800"/>
                <a:ext cx="1202760" cy="1409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0" name=""/>
            <p:cNvGrpSpPr/>
            <p:nvPr/>
          </p:nvGrpSpPr>
          <p:grpSpPr>
            <a:xfrm>
              <a:off x="5339520" y="2750760"/>
              <a:ext cx="1905840" cy="360"/>
              <a:chOff x="5339520" y="2750760"/>
              <a:chExt cx="1905840" cy="360"/>
            </a:xfrm>
          </p:grpSpPr>
          <p:sp>
            <p:nvSpPr>
              <p:cNvPr id="551" name="Line 12"/>
              <p:cNvSpPr/>
              <p:nvPr/>
            </p:nvSpPr>
            <p:spPr>
              <a:xfrm flipH="1">
                <a:off x="5339520" y="2750760"/>
                <a:ext cx="1905840" cy="0"/>
              </a:xfrm>
              <a:prstGeom prst="line">
                <a:avLst/>
              </a:prstGeom>
              <a:ln cap="rnd" w="31680">
                <a:solidFill>
                  <a:srgbClr val="808080"/>
                </a:solidFill>
                <a:custDash>
                  <a:ds d="100000" sp="1000"/>
                </a:custDash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 txBox="1"/>
              <p:nvPr/>
            </p:nvSpPr>
            <p:spPr>
              <a:xfrm>
                <a:off x="5339520" y="2750760"/>
                <a:ext cx="1905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3" name=""/>
            <p:cNvGrpSpPr/>
            <p:nvPr/>
          </p:nvGrpSpPr>
          <p:grpSpPr>
            <a:xfrm>
              <a:off x="1981800" y="2750760"/>
              <a:ext cx="1823760" cy="360"/>
              <a:chOff x="1981800" y="2750760"/>
              <a:chExt cx="1823760" cy="360"/>
            </a:xfrm>
          </p:grpSpPr>
          <p:sp>
            <p:nvSpPr>
              <p:cNvPr id="554" name="Line 13"/>
              <p:cNvSpPr/>
              <p:nvPr/>
            </p:nvSpPr>
            <p:spPr>
              <a:xfrm>
                <a:off x="1981800" y="2750760"/>
                <a:ext cx="1823760" cy="0"/>
              </a:xfrm>
              <a:prstGeom prst="line">
                <a:avLst/>
              </a:prstGeom>
              <a:ln cap="rnd" w="31680">
                <a:solidFill>
                  <a:srgbClr val="808080"/>
                </a:solidFill>
                <a:custDash>
                  <a:ds d="100000" sp="1000"/>
                </a:custDash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 txBox="1"/>
              <p:nvPr/>
            </p:nvSpPr>
            <p:spPr>
              <a:xfrm>
                <a:off x="1981800" y="2750760"/>
                <a:ext cx="1823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6" name=""/>
            <p:cNvGrpSpPr/>
            <p:nvPr/>
          </p:nvGrpSpPr>
          <p:grpSpPr>
            <a:xfrm>
              <a:off x="3515400" y="1508040"/>
              <a:ext cx="581040" cy="663480"/>
              <a:chOff x="3515400" y="1508040"/>
              <a:chExt cx="581040" cy="663480"/>
            </a:xfrm>
          </p:grpSpPr>
          <p:sp>
            <p:nvSpPr>
              <p:cNvPr id="557" name="Line 14"/>
              <p:cNvSpPr/>
              <p:nvPr/>
            </p:nvSpPr>
            <p:spPr>
              <a:xfrm>
                <a:off x="3515400" y="1508040"/>
                <a:ext cx="581040" cy="663480"/>
              </a:xfrm>
              <a:prstGeom prst="line">
                <a:avLst/>
              </a:prstGeom>
              <a:ln cap="rnd" w="31680">
                <a:solidFill>
                  <a:srgbClr val="808080"/>
                </a:solidFill>
                <a:custDash>
                  <a:ds d="100000" sp="1000"/>
                </a:custDash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 txBox="1"/>
              <p:nvPr/>
            </p:nvSpPr>
            <p:spPr>
              <a:xfrm>
                <a:off x="3515400" y="1508040"/>
                <a:ext cx="581040" cy="663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9" name=""/>
            <p:cNvGrpSpPr/>
            <p:nvPr/>
          </p:nvGrpSpPr>
          <p:grpSpPr>
            <a:xfrm>
              <a:off x="5049000" y="1508040"/>
              <a:ext cx="581040" cy="663480"/>
              <a:chOff x="5049000" y="1508040"/>
              <a:chExt cx="581040" cy="663480"/>
            </a:xfrm>
          </p:grpSpPr>
          <p:sp>
            <p:nvSpPr>
              <p:cNvPr id="560" name="Line 15"/>
              <p:cNvSpPr/>
              <p:nvPr/>
            </p:nvSpPr>
            <p:spPr>
              <a:xfrm flipH="1">
                <a:off x="5049000" y="1508040"/>
                <a:ext cx="581040" cy="663480"/>
              </a:xfrm>
              <a:prstGeom prst="line">
                <a:avLst/>
              </a:prstGeom>
              <a:ln cap="rnd" w="31680">
                <a:solidFill>
                  <a:srgbClr val="808080"/>
                </a:solidFill>
                <a:custDash>
                  <a:ds d="100000" sp="1000"/>
                </a:custDash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 txBox="1"/>
              <p:nvPr/>
            </p:nvSpPr>
            <p:spPr>
              <a:xfrm>
                <a:off x="5049000" y="1508040"/>
                <a:ext cx="581040" cy="663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2" name="Group 17"/>
            <p:cNvGrpSpPr/>
            <p:nvPr/>
          </p:nvGrpSpPr>
          <p:grpSpPr>
            <a:xfrm>
              <a:off x="1318320" y="2087280"/>
              <a:ext cx="1326960" cy="1326600"/>
              <a:chOff x="1318320" y="2087280"/>
              <a:chExt cx="1326960" cy="1326600"/>
            </a:xfrm>
          </p:grpSpPr>
          <p:sp>
            <p:nvSpPr>
              <p:cNvPr id="563" name="Oval 17"/>
              <p:cNvSpPr/>
              <p:nvPr/>
            </p:nvSpPr>
            <p:spPr>
              <a:xfrm>
                <a:off x="1318320" y="2087280"/>
                <a:ext cx="1326960" cy="1326600"/>
              </a:xfrm>
              <a:prstGeom prst="ellipse">
                <a:avLst/>
              </a:prstGeom>
              <a:gradFill rotWithShape="0">
                <a:gsLst>
                  <a:gs pos="0">
                    <a:srgbClr val="ff9933"/>
                  </a:gs>
                  <a:gs pos="100000">
                    <a:srgbClr val="ff33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文字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Freeform 18"/>
              <p:cNvSpPr/>
              <p:nvPr/>
            </p:nvSpPr>
            <p:spPr>
              <a:xfrm>
                <a:off x="1430280" y="2123640"/>
                <a:ext cx="1106280" cy="360720"/>
              </a:xfrm>
              <a:custGeom>
                <a:avLst/>
                <a:gdLst/>
                <a:ahLst/>
                <a:rect l="l" t="t" r="r" b="b"/>
                <a:pathLst>
                  <a:path w="4756" h="1576">
                    <a:moveTo>
                      <a:pt x="0" y="1576"/>
                    </a:moveTo>
                    <a:lnTo>
                      <a:pt x="0" y="1576"/>
                    </a:lnTo>
                    <a:lnTo>
                      <a:pt x="24" y="1518"/>
                    </a:lnTo>
                    <a:lnTo>
                      <a:pt x="50" y="1462"/>
                    </a:lnTo>
                    <a:lnTo>
                      <a:pt x="78" y="1406"/>
                    </a:lnTo>
                    <a:lnTo>
                      <a:pt x="108" y="1350"/>
                    </a:lnTo>
                    <a:lnTo>
                      <a:pt x="138" y="1296"/>
                    </a:lnTo>
                    <a:lnTo>
                      <a:pt x="170" y="1242"/>
                    </a:lnTo>
                    <a:lnTo>
                      <a:pt x="204" y="1190"/>
                    </a:lnTo>
                    <a:lnTo>
                      <a:pt x="238" y="1138"/>
                    </a:lnTo>
                    <a:lnTo>
                      <a:pt x="272" y="1086"/>
                    </a:lnTo>
                    <a:lnTo>
                      <a:pt x="310" y="1036"/>
                    </a:lnTo>
                    <a:lnTo>
                      <a:pt x="348" y="988"/>
                    </a:lnTo>
                    <a:lnTo>
                      <a:pt x="386" y="940"/>
                    </a:lnTo>
                    <a:lnTo>
                      <a:pt x="426" y="892"/>
                    </a:lnTo>
                    <a:lnTo>
                      <a:pt x="468" y="846"/>
                    </a:lnTo>
                    <a:lnTo>
                      <a:pt x="510" y="800"/>
                    </a:lnTo>
                    <a:lnTo>
                      <a:pt x="552" y="756"/>
                    </a:lnTo>
                    <a:lnTo>
                      <a:pt x="596" y="712"/>
                    </a:lnTo>
                    <a:lnTo>
                      <a:pt x="642" y="670"/>
                    </a:lnTo>
                    <a:lnTo>
                      <a:pt x="688" y="630"/>
                    </a:lnTo>
                    <a:lnTo>
                      <a:pt x="736" y="590"/>
                    </a:lnTo>
                    <a:lnTo>
                      <a:pt x="784" y="550"/>
                    </a:lnTo>
                    <a:lnTo>
                      <a:pt x="834" y="512"/>
                    </a:lnTo>
                    <a:lnTo>
                      <a:pt x="884" y="476"/>
                    </a:lnTo>
                    <a:lnTo>
                      <a:pt x="934" y="440"/>
                    </a:lnTo>
                    <a:lnTo>
                      <a:pt x="986" y="406"/>
                    </a:lnTo>
                    <a:lnTo>
                      <a:pt x="1040" y="374"/>
                    </a:lnTo>
                    <a:lnTo>
                      <a:pt x="1092" y="342"/>
                    </a:lnTo>
                    <a:lnTo>
                      <a:pt x="1148" y="312"/>
                    </a:lnTo>
                    <a:lnTo>
                      <a:pt x="1202" y="282"/>
                    </a:lnTo>
                    <a:lnTo>
                      <a:pt x="1258" y="254"/>
                    </a:lnTo>
                    <a:lnTo>
                      <a:pt x="1316" y="228"/>
                    </a:lnTo>
                    <a:lnTo>
                      <a:pt x="1374" y="202"/>
                    </a:lnTo>
                    <a:lnTo>
                      <a:pt x="1432" y="178"/>
                    </a:lnTo>
                    <a:lnTo>
                      <a:pt x="1490" y="156"/>
                    </a:lnTo>
                    <a:lnTo>
                      <a:pt x="1550" y="136"/>
                    </a:lnTo>
                    <a:lnTo>
                      <a:pt x="1610" y="116"/>
                    </a:lnTo>
                    <a:lnTo>
                      <a:pt x="1672" y="98"/>
                    </a:lnTo>
                    <a:lnTo>
                      <a:pt x="1732" y="80"/>
                    </a:lnTo>
                    <a:lnTo>
                      <a:pt x="1794" y="66"/>
                    </a:lnTo>
                    <a:lnTo>
                      <a:pt x="1858" y="52"/>
                    </a:lnTo>
                    <a:lnTo>
                      <a:pt x="1922" y="40"/>
                    </a:lnTo>
                    <a:lnTo>
                      <a:pt x="1984" y="30"/>
                    </a:lnTo>
                    <a:lnTo>
                      <a:pt x="2050" y="20"/>
                    </a:lnTo>
                    <a:lnTo>
                      <a:pt x="2114" y="12"/>
                    </a:lnTo>
                    <a:lnTo>
                      <a:pt x="2180" y="8"/>
                    </a:lnTo>
                    <a:lnTo>
                      <a:pt x="2246" y="2"/>
                    </a:lnTo>
                    <a:lnTo>
                      <a:pt x="2312" y="0"/>
                    </a:lnTo>
                    <a:lnTo>
                      <a:pt x="2378" y="0"/>
                    </a:lnTo>
                    <a:lnTo>
                      <a:pt x="2444" y="0"/>
                    </a:lnTo>
                    <a:lnTo>
                      <a:pt x="2510" y="2"/>
                    </a:lnTo>
                    <a:lnTo>
                      <a:pt x="2576" y="8"/>
                    </a:lnTo>
                    <a:lnTo>
                      <a:pt x="2642" y="12"/>
                    </a:lnTo>
                    <a:lnTo>
                      <a:pt x="2706" y="20"/>
                    </a:lnTo>
                    <a:lnTo>
                      <a:pt x="2772" y="30"/>
                    </a:lnTo>
                    <a:lnTo>
                      <a:pt x="2834" y="40"/>
                    </a:lnTo>
                    <a:lnTo>
                      <a:pt x="2898" y="52"/>
                    </a:lnTo>
                    <a:lnTo>
                      <a:pt x="2962" y="66"/>
                    </a:lnTo>
                    <a:lnTo>
                      <a:pt x="3024" y="80"/>
                    </a:lnTo>
                    <a:lnTo>
                      <a:pt x="3084" y="98"/>
                    </a:lnTo>
                    <a:lnTo>
                      <a:pt x="3146" y="116"/>
                    </a:lnTo>
                    <a:lnTo>
                      <a:pt x="3206" y="136"/>
                    </a:lnTo>
                    <a:lnTo>
                      <a:pt x="3266" y="156"/>
                    </a:lnTo>
                    <a:lnTo>
                      <a:pt x="3324" y="178"/>
                    </a:lnTo>
                    <a:lnTo>
                      <a:pt x="3382" y="202"/>
                    </a:lnTo>
                    <a:lnTo>
                      <a:pt x="3440" y="228"/>
                    </a:lnTo>
                    <a:lnTo>
                      <a:pt x="3498" y="254"/>
                    </a:lnTo>
                    <a:lnTo>
                      <a:pt x="3554" y="282"/>
                    </a:lnTo>
                    <a:lnTo>
                      <a:pt x="3608" y="312"/>
                    </a:lnTo>
                    <a:lnTo>
                      <a:pt x="3664" y="342"/>
                    </a:lnTo>
                    <a:lnTo>
                      <a:pt x="3716" y="374"/>
                    </a:lnTo>
                    <a:lnTo>
                      <a:pt x="3770" y="406"/>
                    </a:lnTo>
                    <a:lnTo>
                      <a:pt x="3822" y="440"/>
                    </a:lnTo>
                    <a:lnTo>
                      <a:pt x="3872" y="476"/>
                    </a:lnTo>
                    <a:lnTo>
                      <a:pt x="3922" y="512"/>
                    </a:lnTo>
                    <a:lnTo>
                      <a:pt x="3972" y="550"/>
                    </a:lnTo>
                    <a:lnTo>
                      <a:pt x="4020" y="590"/>
                    </a:lnTo>
                    <a:lnTo>
                      <a:pt x="4068" y="630"/>
                    </a:lnTo>
                    <a:lnTo>
                      <a:pt x="4114" y="670"/>
                    </a:lnTo>
                    <a:lnTo>
                      <a:pt x="4160" y="712"/>
                    </a:lnTo>
                    <a:lnTo>
                      <a:pt x="4204" y="756"/>
                    </a:lnTo>
                    <a:lnTo>
                      <a:pt x="4246" y="800"/>
                    </a:lnTo>
                    <a:lnTo>
                      <a:pt x="4288" y="846"/>
                    </a:lnTo>
                    <a:lnTo>
                      <a:pt x="4330" y="892"/>
                    </a:lnTo>
                    <a:lnTo>
                      <a:pt x="4370" y="940"/>
                    </a:lnTo>
                    <a:lnTo>
                      <a:pt x="4410" y="988"/>
                    </a:lnTo>
                    <a:lnTo>
                      <a:pt x="4446" y="1036"/>
                    </a:lnTo>
                    <a:lnTo>
                      <a:pt x="4484" y="1086"/>
                    </a:lnTo>
                    <a:lnTo>
                      <a:pt x="4518" y="1138"/>
                    </a:lnTo>
                    <a:lnTo>
                      <a:pt x="4552" y="1190"/>
                    </a:lnTo>
                    <a:lnTo>
                      <a:pt x="4586" y="1242"/>
                    </a:lnTo>
                    <a:lnTo>
                      <a:pt x="4618" y="1296"/>
                    </a:lnTo>
                    <a:lnTo>
                      <a:pt x="4648" y="1350"/>
                    </a:lnTo>
                    <a:lnTo>
                      <a:pt x="4678" y="1406"/>
                    </a:lnTo>
                    <a:lnTo>
                      <a:pt x="4706" y="1462"/>
                    </a:lnTo>
                    <a:lnTo>
                      <a:pt x="4732" y="1518"/>
                    </a:lnTo>
                    <a:lnTo>
                      <a:pt x="4756" y="1576"/>
                    </a:lnTo>
                    <a:lnTo>
                      <a:pt x="0" y="15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7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Oval 19"/>
              <p:cNvSpPr/>
              <p:nvPr/>
            </p:nvSpPr>
            <p:spPr>
              <a:xfrm>
                <a:off x="1594800" y="2141640"/>
                <a:ext cx="277560" cy="249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7abf5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6" name="Group 21"/>
            <p:cNvGrpSpPr/>
            <p:nvPr/>
          </p:nvGrpSpPr>
          <p:grpSpPr>
            <a:xfrm>
              <a:off x="3946680" y="2145960"/>
              <a:ext cx="1268640" cy="1267920"/>
              <a:chOff x="3946680" y="2145960"/>
              <a:chExt cx="1268640" cy="1267920"/>
            </a:xfrm>
          </p:grpSpPr>
          <p:sp>
            <p:nvSpPr>
              <p:cNvPr id="567" name="Oval 21"/>
              <p:cNvSpPr/>
              <p:nvPr/>
            </p:nvSpPr>
            <p:spPr>
              <a:xfrm>
                <a:off x="3946680" y="2145960"/>
                <a:ext cx="1268640" cy="126792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cc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文字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Freeform 22"/>
              <p:cNvSpPr/>
              <p:nvPr/>
            </p:nvSpPr>
            <p:spPr>
              <a:xfrm>
                <a:off x="4052520" y="2174760"/>
                <a:ext cx="1057680" cy="344520"/>
              </a:xfrm>
              <a:custGeom>
                <a:avLst/>
                <a:gdLst/>
                <a:ahLst/>
                <a:rect l="l" t="t" r="r" b="b"/>
                <a:pathLst>
                  <a:path w="4756" h="1576">
                    <a:moveTo>
                      <a:pt x="0" y="1576"/>
                    </a:moveTo>
                    <a:lnTo>
                      <a:pt x="0" y="1576"/>
                    </a:lnTo>
                    <a:lnTo>
                      <a:pt x="24" y="1518"/>
                    </a:lnTo>
                    <a:lnTo>
                      <a:pt x="50" y="1462"/>
                    </a:lnTo>
                    <a:lnTo>
                      <a:pt x="78" y="1406"/>
                    </a:lnTo>
                    <a:lnTo>
                      <a:pt x="108" y="1350"/>
                    </a:lnTo>
                    <a:lnTo>
                      <a:pt x="138" y="1296"/>
                    </a:lnTo>
                    <a:lnTo>
                      <a:pt x="170" y="1242"/>
                    </a:lnTo>
                    <a:lnTo>
                      <a:pt x="204" y="1190"/>
                    </a:lnTo>
                    <a:lnTo>
                      <a:pt x="238" y="1138"/>
                    </a:lnTo>
                    <a:lnTo>
                      <a:pt x="272" y="1086"/>
                    </a:lnTo>
                    <a:lnTo>
                      <a:pt x="310" y="1036"/>
                    </a:lnTo>
                    <a:lnTo>
                      <a:pt x="348" y="988"/>
                    </a:lnTo>
                    <a:lnTo>
                      <a:pt x="386" y="940"/>
                    </a:lnTo>
                    <a:lnTo>
                      <a:pt x="426" y="892"/>
                    </a:lnTo>
                    <a:lnTo>
                      <a:pt x="468" y="846"/>
                    </a:lnTo>
                    <a:lnTo>
                      <a:pt x="510" y="800"/>
                    </a:lnTo>
                    <a:lnTo>
                      <a:pt x="552" y="756"/>
                    </a:lnTo>
                    <a:lnTo>
                      <a:pt x="596" y="712"/>
                    </a:lnTo>
                    <a:lnTo>
                      <a:pt x="642" y="670"/>
                    </a:lnTo>
                    <a:lnTo>
                      <a:pt x="688" y="630"/>
                    </a:lnTo>
                    <a:lnTo>
                      <a:pt x="736" y="590"/>
                    </a:lnTo>
                    <a:lnTo>
                      <a:pt x="784" y="550"/>
                    </a:lnTo>
                    <a:lnTo>
                      <a:pt x="834" y="512"/>
                    </a:lnTo>
                    <a:lnTo>
                      <a:pt x="884" y="476"/>
                    </a:lnTo>
                    <a:lnTo>
                      <a:pt x="934" y="440"/>
                    </a:lnTo>
                    <a:lnTo>
                      <a:pt x="986" y="406"/>
                    </a:lnTo>
                    <a:lnTo>
                      <a:pt x="1040" y="374"/>
                    </a:lnTo>
                    <a:lnTo>
                      <a:pt x="1092" y="342"/>
                    </a:lnTo>
                    <a:lnTo>
                      <a:pt x="1148" y="312"/>
                    </a:lnTo>
                    <a:lnTo>
                      <a:pt x="1202" y="282"/>
                    </a:lnTo>
                    <a:lnTo>
                      <a:pt x="1258" y="254"/>
                    </a:lnTo>
                    <a:lnTo>
                      <a:pt x="1316" y="228"/>
                    </a:lnTo>
                    <a:lnTo>
                      <a:pt x="1374" y="202"/>
                    </a:lnTo>
                    <a:lnTo>
                      <a:pt x="1432" y="178"/>
                    </a:lnTo>
                    <a:lnTo>
                      <a:pt x="1490" y="156"/>
                    </a:lnTo>
                    <a:lnTo>
                      <a:pt x="1550" y="136"/>
                    </a:lnTo>
                    <a:lnTo>
                      <a:pt x="1610" y="116"/>
                    </a:lnTo>
                    <a:lnTo>
                      <a:pt x="1672" y="98"/>
                    </a:lnTo>
                    <a:lnTo>
                      <a:pt x="1732" y="80"/>
                    </a:lnTo>
                    <a:lnTo>
                      <a:pt x="1794" y="66"/>
                    </a:lnTo>
                    <a:lnTo>
                      <a:pt x="1858" y="52"/>
                    </a:lnTo>
                    <a:lnTo>
                      <a:pt x="1922" y="40"/>
                    </a:lnTo>
                    <a:lnTo>
                      <a:pt x="1984" y="30"/>
                    </a:lnTo>
                    <a:lnTo>
                      <a:pt x="2050" y="20"/>
                    </a:lnTo>
                    <a:lnTo>
                      <a:pt x="2114" y="12"/>
                    </a:lnTo>
                    <a:lnTo>
                      <a:pt x="2180" y="8"/>
                    </a:lnTo>
                    <a:lnTo>
                      <a:pt x="2246" y="2"/>
                    </a:lnTo>
                    <a:lnTo>
                      <a:pt x="2312" y="0"/>
                    </a:lnTo>
                    <a:lnTo>
                      <a:pt x="2378" y="0"/>
                    </a:lnTo>
                    <a:lnTo>
                      <a:pt x="2444" y="0"/>
                    </a:lnTo>
                    <a:lnTo>
                      <a:pt x="2510" y="2"/>
                    </a:lnTo>
                    <a:lnTo>
                      <a:pt x="2576" y="8"/>
                    </a:lnTo>
                    <a:lnTo>
                      <a:pt x="2642" y="12"/>
                    </a:lnTo>
                    <a:lnTo>
                      <a:pt x="2706" y="20"/>
                    </a:lnTo>
                    <a:lnTo>
                      <a:pt x="2772" y="30"/>
                    </a:lnTo>
                    <a:lnTo>
                      <a:pt x="2834" y="40"/>
                    </a:lnTo>
                    <a:lnTo>
                      <a:pt x="2898" y="52"/>
                    </a:lnTo>
                    <a:lnTo>
                      <a:pt x="2962" y="66"/>
                    </a:lnTo>
                    <a:lnTo>
                      <a:pt x="3024" y="80"/>
                    </a:lnTo>
                    <a:lnTo>
                      <a:pt x="3084" y="98"/>
                    </a:lnTo>
                    <a:lnTo>
                      <a:pt x="3146" y="116"/>
                    </a:lnTo>
                    <a:lnTo>
                      <a:pt x="3206" y="136"/>
                    </a:lnTo>
                    <a:lnTo>
                      <a:pt x="3266" y="156"/>
                    </a:lnTo>
                    <a:lnTo>
                      <a:pt x="3324" y="178"/>
                    </a:lnTo>
                    <a:lnTo>
                      <a:pt x="3382" y="202"/>
                    </a:lnTo>
                    <a:lnTo>
                      <a:pt x="3440" y="228"/>
                    </a:lnTo>
                    <a:lnTo>
                      <a:pt x="3498" y="254"/>
                    </a:lnTo>
                    <a:lnTo>
                      <a:pt x="3554" y="282"/>
                    </a:lnTo>
                    <a:lnTo>
                      <a:pt x="3608" y="312"/>
                    </a:lnTo>
                    <a:lnTo>
                      <a:pt x="3664" y="342"/>
                    </a:lnTo>
                    <a:lnTo>
                      <a:pt x="3716" y="374"/>
                    </a:lnTo>
                    <a:lnTo>
                      <a:pt x="3770" y="406"/>
                    </a:lnTo>
                    <a:lnTo>
                      <a:pt x="3822" y="440"/>
                    </a:lnTo>
                    <a:lnTo>
                      <a:pt x="3872" y="476"/>
                    </a:lnTo>
                    <a:lnTo>
                      <a:pt x="3922" y="512"/>
                    </a:lnTo>
                    <a:lnTo>
                      <a:pt x="3972" y="550"/>
                    </a:lnTo>
                    <a:lnTo>
                      <a:pt x="4020" y="590"/>
                    </a:lnTo>
                    <a:lnTo>
                      <a:pt x="4068" y="630"/>
                    </a:lnTo>
                    <a:lnTo>
                      <a:pt x="4114" y="670"/>
                    </a:lnTo>
                    <a:lnTo>
                      <a:pt x="4160" y="712"/>
                    </a:lnTo>
                    <a:lnTo>
                      <a:pt x="4204" y="756"/>
                    </a:lnTo>
                    <a:lnTo>
                      <a:pt x="4246" y="800"/>
                    </a:lnTo>
                    <a:lnTo>
                      <a:pt x="4288" y="846"/>
                    </a:lnTo>
                    <a:lnTo>
                      <a:pt x="4330" y="892"/>
                    </a:lnTo>
                    <a:lnTo>
                      <a:pt x="4370" y="940"/>
                    </a:lnTo>
                    <a:lnTo>
                      <a:pt x="4410" y="988"/>
                    </a:lnTo>
                    <a:lnTo>
                      <a:pt x="4446" y="1036"/>
                    </a:lnTo>
                    <a:lnTo>
                      <a:pt x="4484" y="1086"/>
                    </a:lnTo>
                    <a:lnTo>
                      <a:pt x="4518" y="1138"/>
                    </a:lnTo>
                    <a:lnTo>
                      <a:pt x="4552" y="1190"/>
                    </a:lnTo>
                    <a:lnTo>
                      <a:pt x="4586" y="1242"/>
                    </a:lnTo>
                    <a:lnTo>
                      <a:pt x="4618" y="1296"/>
                    </a:lnTo>
                    <a:lnTo>
                      <a:pt x="4648" y="1350"/>
                    </a:lnTo>
                    <a:lnTo>
                      <a:pt x="4678" y="1406"/>
                    </a:lnTo>
                    <a:lnTo>
                      <a:pt x="4706" y="1462"/>
                    </a:lnTo>
                    <a:lnTo>
                      <a:pt x="4732" y="1518"/>
                    </a:lnTo>
                    <a:lnTo>
                      <a:pt x="4756" y="1576"/>
                    </a:lnTo>
                    <a:lnTo>
                      <a:pt x="0" y="15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7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Oval 23"/>
              <p:cNvSpPr/>
              <p:nvPr/>
            </p:nvSpPr>
            <p:spPr>
              <a:xfrm>
                <a:off x="4210920" y="2251800"/>
                <a:ext cx="265320" cy="23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7abf5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0" name="Group 25"/>
            <p:cNvGrpSpPr/>
            <p:nvPr/>
          </p:nvGrpSpPr>
          <p:grpSpPr>
            <a:xfrm>
              <a:off x="6505560" y="2087280"/>
              <a:ext cx="1326960" cy="1326600"/>
              <a:chOff x="6505560" y="2087280"/>
              <a:chExt cx="1326960" cy="1326600"/>
            </a:xfrm>
          </p:grpSpPr>
          <p:sp>
            <p:nvSpPr>
              <p:cNvPr id="571" name="Oval 25"/>
              <p:cNvSpPr/>
              <p:nvPr/>
            </p:nvSpPr>
            <p:spPr>
              <a:xfrm>
                <a:off x="6505560" y="2087280"/>
                <a:ext cx="1326960" cy="1326600"/>
              </a:xfrm>
              <a:prstGeom prst="ellipse">
                <a:avLst/>
              </a:prstGeom>
              <a:gradFill rotWithShape="0">
                <a:gsLst>
                  <a:gs pos="0">
                    <a:srgbClr val="ffc000"/>
                  </a:gs>
                  <a:gs pos="100000">
                    <a:srgbClr val="ff33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文字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Freeform 26"/>
              <p:cNvSpPr/>
              <p:nvPr/>
            </p:nvSpPr>
            <p:spPr>
              <a:xfrm>
                <a:off x="6616080" y="2123640"/>
                <a:ext cx="1106280" cy="360720"/>
              </a:xfrm>
              <a:custGeom>
                <a:avLst/>
                <a:gdLst/>
                <a:ahLst/>
                <a:rect l="l" t="t" r="r" b="b"/>
                <a:pathLst>
                  <a:path w="4756" h="1576">
                    <a:moveTo>
                      <a:pt x="0" y="1576"/>
                    </a:moveTo>
                    <a:lnTo>
                      <a:pt x="0" y="1576"/>
                    </a:lnTo>
                    <a:lnTo>
                      <a:pt x="24" y="1518"/>
                    </a:lnTo>
                    <a:lnTo>
                      <a:pt x="50" y="1462"/>
                    </a:lnTo>
                    <a:lnTo>
                      <a:pt x="78" y="1406"/>
                    </a:lnTo>
                    <a:lnTo>
                      <a:pt x="108" y="1350"/>
                    </a:lnTo>
                    <a:lnTo>
                      <a:pt x="138" y="1296"/>
                    </a:lnTo>
                    <a:lnTo>
                      <a:pt x="170" y="1242"/>
                    </a:lnTo>
                    <a:lnTo>
                      <a:pt x="204" y="1190"/>
                    </a:lnTo>
                    <a:lnTo>
                      <a:pt x="238" y="1138"/>
                    </a:lnTo>
                    <a:lnTo>
                      <a:pt x="272" y="1086"/>
                    </a:lnTo>
                    <a:lnTo>
                      <a:pt x="310" y="1036"/>
                    </a:lnTo>
                    <a:lnTo>
                      <a:pt x="348" y="988"/>
                    </a:lnTo>
                    <a:lnTo>
                      <a:pt x="386" y="940"/>
                    </a:lnTo>
                    <a:lnTo>
                      <a:pt x="426" y="892"/>
                    </a:lnTo>
                    <a:lnTo>
                      <a:pt x="468" y="846"/>
                    </a:lnTo>
                    <a:lnTo>
                      <a:pt x="510" y="800"/>
                    </a:lnTo>
                    <a:lnTo>
                      <a:pt x="552" y="756"/>
                    </a:lnTo>
                    <a:lnTo>
                      <a:pt x="596" y="712"/>
                    </a:lnTo>
                    <a:lnTo>
                      <a:pt x="642" y="670"/>
                    </a:lnTo>
                    <a:lnTo>
                      <a:pt x="688" y="630"/>
                    </a:lnTo>
                    <a:lnTo>
                      <a:pt x="736" y="590"/>
                    </a:lnTo>
                    <a:lnTo>
                      <a:pt x="784" y="550"/>
                    </a:lnTo>
                    <a:lnTo>
                      <a:pt x="834" y="512"/>
                    </a:lnTo>
                    <a:lnTo>
                      <a:pt x="884" y="476"/>
                    </a:lnTo>
                    <a:lnTo>
                      <a:pt x="934" y="440"/>
                    </a:lnTo>
                    <a:lnTo>
                      <a:pt x="986" y="406"/>
                    </a:lnTo>
                    <a:lnTo>
                      <a:pt x="1040" y="374"/>
                    </a:lnTo>
                    <a:lnTo>
                      <a:pt x="1092" y="342"/>
                    </a:lnTo>
                    <a:lnTo>
                      <a:pt x="1148" y="312"/>
                    </a:lnTo>
                    <a:lnTo>
                      <a:pt x="1202" y="282"/>
                    </a:lnTo>
                    <a:lnTo>
                      <a:pt x="1258" y="254"/>
                    </a:lnTo>
                    <a:lnTo>
                      <a:pt x="1316" y="228"/>
                    </a:lnTo>
                    <a:lnTo>
                      <a:pt x="1374" y="202"/>
                    </a:lnTo>
                    <a:lnTo>
                      <a:pt x="1432" y="178"/>
                    </a:lnTo>
                    <a:lnTo>
                      <a:pt x="1490" y="156"/>
                    </a:lnTo>
                    <a:lnTo>
                      <a:pt x="1550" y="136"/>
                    </a:lnTo>
                    <a:lnTo>
                      <a:pt x="1610" y="116"/>
                    </a:lnTo>
                    <a:lnTo>
                      <a:pt x="1672" y="98"/>
                    </a:lnTo>
                    <a:lnTo>
                      <a:pt x="1732" y="80"/>
                    </a:lnTo>
                    <a:lnTo>
                      <a:pt x="1794" y="66"/>
                    </a:lnTo>
                    <a:lnTo>
                      <a:pt x="1858" y="52"/>
                    </a:lnTo>
                    <a:lnTo>
                      <a:pt x="1922" y="40"/>
                    </a:lnTo>
                    <a:lnTo>
                      <a:pt x="1984" y="30"/>
                    </a:lnTo>
                    <a:lnTo>
                      <a:pt x="2050" y="20"/>
                    </a:lnTo>
                    <a:lnTo>
                      <a:pt x="2114" y="12"/>
                    </a:lnTo>
                    <a:lnTo>
                      <a:pt x="2180" y="8"/>
                    </a:lnTo>
                    <a:lnTo>
                      <a:pt x="2246" y="2"/>
                    </a:lnTo>
                    <a:lnTo>
                      <a:pt x="2312" y="0"/>
                    </a:lnTo>
                    <a:lnTo>
                      <a:pt x="2378" y="0"/>
                    </a:lnTo>
                    <a:lnTo>
                      <a:pt x="2444" y="0"/>
                    </a:lnTo>
                    <a:lnTo>
                      <a:pt x="2510" y="2"/>
                    </a:lnTo>
                    <a:lnTo>
                      <a:pt x="2576" y="8"/>
                    </a:lnTo>
                    <a:lnTo>
                      <a:pt x="2642" y="12"/>
                    </a:lnTo>
                    <a:lnTo>
                      <a:pt x="2706" y="20"/>
                    </a:lnTo>
                    <a:lnTo>
                      <a:pt x="2772" y="30"/>
                    </a:lnTo>
                    <a:lnTo>
                      <a:pt x="2834" y="40"/>
                    </a:lnTo>
                    <a:lnTo>
                      <a:pt x="2898" y="52"/>
                    </a:lnTo>
                    <a:lnTo>
                      <a:pt x="2962" y="66"/>
                    </a:lnTo>
                    <a:lnTo>
                      <a:pt x="3024" y="80"/>
                    </a:lnTo>
                    <a:lnTo>
                      <a:pt x="3084" y="98"/>
                    </a:lnTo>
                    <a:lnTo>
                      <a:pt x="3146" y="116"/>
                    </a:lnTo>
                    <a:lnTo>
                      <a:pt x="3206" y="136"/>
                    </a:lnTo>
                    <a:lnTo>
                      <a:pt x="3266" y="156"/>
                    </a:lnTo>
                    <a:lnTo>
                      <a:pt x="3324" y="178"/>
                    </a:lnTo>
                    <a:lnTo>
                      <a:pt x="3382" y="202"/>
                    </a:lnTo>
                    <a:lnTo>
                      <a:pt x="3440" y="228"/>
                    </a:lnTo>
                    <a:lnTo>
                      <a:pt x="3498" y="254"/>
                    </a:lnTo>
                    <a:lnTo>
                      <a:pt x="3554" y="282"/>
                    </a:lnTo>
                    <a:lnTo>
                      <a:pt x="3608" y="312"/>
                    </a:lnTo>
                    <a:lnTo>
                      <a:pt x="3664" y="342"/>
                    </a:lnTo>
                    <a:lnTo>
                      <a:pt x="3716" y="374"/>
                    </a:lnTo>
                    <a:lnTo>
                      <a:pt x="3770" y="406"/>
                    </a:lnTo>
                    <a:lnTo>
                      <a:pt x="3822" y="440"/>
                    </a:lnTo>
                    <a:lnTo>
                      <a:pt x="3872" y="476"/>
                    </a:lnTo>
                    <a:lnTo>
                      <a:pt x="3922" y="512"/>
                    </a:lnTo>
                    <a:lnTo>
                      <a:pt x="3972" y="550"/>
                    </a:lnTo>
                    <a:lnTo>
                      <a:pt x="4020" y="590"/>
                    </a:lnTo>
                    <a:lnTo>
                      <a:pt x="4068" y="630"/>
                    </a:lnTo>
                    <a:lnTo>
                      <a:pt x="4114" y="670"/>
                    </a:lnTo>
                    <a:lnTo>
                      <a:pt x="4160" y="712"/>
                    </a:lnTo>
                    <a:lnTo>
                      <a:pt x="4204" y="756"/>
                    </a:lnTo>
                    <a:lnTo>
                      <a:pt x="4246" y="800"/>
                    </a:lnTo>
                    <a:lnTo>
                      <a:pt x="4288" y="846"/>
                    </a:lnTo>
                    <a:lnTo>
                      <a:pt x="4330" y="892"/>
                    </a:lnTo>
                    <a:lnTo>
                      <a:pt x="4370" y="940"/>
                    </a:lnTo>
                    <a:lnTo>
                      <a:pt x="4410" y="988"/>
                    </a:lnTo>
                    <a:lnTo>
                      <a:pt x="4446" y="1036"/>
                    </a:lnTo>
                    <a:lnTo>
                      <a:pt x="4484" y="1086"/>
                    </a:lnTo>
                    <a:lnTo>
                      <a:pt x="4518" y="1138"/>
                    </a:lnTo>
                    <a:lnTo>
                      <a:pt x="4552" y="1190"/>
                    </a:lnTo>
                    <a:lnTo>
                      <a:pt x="4586" y="1242"/>
                    </a:lnTo>
                    <a:lnTo>
                      <a:pt x="4618" y="1296"/>
                    </a:lnTo>
                    <a:lnTo>
                      <a:pt x="4648" y="1350"/>
                    </a:lnTo>
                    <a:lnTo>
                      <a:pt x="4678" y="1406"/>
                    </a:lnTo>
                    <a:lnTo>
                      <a:pt x="4706" y="1462"/>
                    </a:lnTo>
                    <a:lnTo>
                      <a:pt x="4732" y="1518"/>
                    </a:lnTo>
                    <a:lnTo>
                      <a:pt x="4756" y="1576"/>
                    </a:lnTo>
                    <a:lnTo>
                      <a:pt x="0" y="15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7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Oval 27"/>
              <p:cNvSpPr/>
              <p:nvPr/>
            </p:nvSpPr>
            <p:spPr>
              <a:xfrm>
                <a:off x="6782040" y="2141640"/>
                <a:ext cx="277560" cy="249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7abf5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4" name="Group 29"/>
            <p:cNvGrpSpPr/>
            <p:nvPr/>
          </p:nvGrpSpPr>
          <p:grpSpPr>
            <a:xfrm>
              <a:off x="2063880" y="3912840"/>
              <a:ext cx="1656000" cy="1655640"/>
              <a:chOff x="2063880" y="3912840"/>
              <a:chExt cx="1656000" cy="1655640"/>
            </a:xfrm>
          </p:grpSpPr>
          <p:sp>
            <p:nvSpPr>
              <p:cNvPr id="575" name="Oval 29"/>
              <p:cNvSpPr/>
              <p:nvPr/>
            </p:nvSpPr>
            <p:spPr>
              <a:xfrm>
                <a:off x="2063880" y="3912840"/>
                <a:ext cx="1656000" cy="1655640"/>
              </a:xfrm>
              <a:prstGeom prst="ellipse">
                <a:avLst/>
              </a:prstGeom>
              <a:gradFill rotWithShape="0">
                <a:gsLst>
                  <a:gs pos="0">
                    <a:srgbClr val="ff9933"/>
                  </a:gs>
                  <a:gs pos="100000">
                    <a:srgbClr val="ff33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文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Freeform 30"/>
              <p:cNvSpPr/>
              <p:nvPr/>
            </p:nvSpPr>
            <p:spPr>
              <a:xfrm>
                <a:off x="2200680" y="3958200"/>
                <a:ext cx="1382040" cy="448560"/>
              </a:xfrm>
              <a:custGeom>
                <a:avLst/>
                <a:gdLst/>
                <a:ahLst/>
                <a:rect l="l" t="t" r="r" b="b"/>
                <a:pathLst>
                  <a:path w="4756" h="1576">
                    <a:moveTo>
                      <a:pt x="0" y="1576"/>
                    </a:moveTo>
                    <a:lnTo>
                      <a:pt x="0" y="1576"/>
                    </a:lnTo>
                    <a:lnTo>
                      <a:pt x="24" y="1518"/>
                    </a:lnTo>
                    <a:lnTo>
                      <a:pt x="50" y="1462"/>
                    </a:lnTo>
                    <a:lnTo>
                      <a:pt x="78" y="1406"/>
                    </a:lnTo>
                    <a:lnTo>
                      <a:pt x="108" y="1350"/>
                    </a:lnTo>
                    <a:lnTo>
                      <a:pt x="138" y="1296"/>
                    </a:lnTo>
                    <a:lnTo>
                      <a:pt x="170" y="1242"/>
                    </a:lnTo>
                    <a:lnTo>
                      <a:pt x="204" y="1190"/>
                    </a:lnTo>
                    <a:lnTo>
                      <a:pt x="238" y="1138"/>
                    </a:lnTo>
                    <a:lnTo>
                      <a:pt x="272" y="1086"/>
                    </a:lnTo>
                    <a:lnTo>
                      <a:pt x="310" y="1036"/>
                    </a:lnTo>
                    <a:lnTo>
                      <a:pt x="348" y="988"/>
                    </a:lnTo>
                    <a:lnTo>
                      <a:pt x="386" y="940"/>
                    </a:lnTo>
                    <a:lnTo>
                      <a:pt x="426" y="892"/>
                    </a:lnTo>
                    <a:lnTo>
                      <a:pt x="468" y="846"/>
                    </a:lnTo>
                    <a:lnTo>
                      <a:pt x="510" y="800"/>
                    </a:lnTo>
                    <a:lnTo>
                      <a:pt x="552" y="756"/>
                    </a:lnTo>
                    <a:lnTo>
                      <a:pt x="596" y="712"/>
                    </a:lnTo>
                    <a:lnTo>
                      <a:pt x="642" y="670"/>
                    </a:lnTo>
                    <a:lnTo>
                      <a:pt x="688" y="630"/>
                    </a:lnTo>
                    <a:lnTo>
                      <a:pt x="736" y="590"/>
                    </a:lnTo>
                    <a:lnTo>
                      <a:pt x="784" y="550"/>
                    </a:lnTo>
                    <a:lnTo>
                      <a:pt x="834" y="512"/>
                    </a:lnTo>
                    <a:lnTo>
                      <a:pt x="884" y="476"/>
                    </a:lnTo>
                    <a:lnTo>
                      <a:pt x="934" y="440"/>
                    </a:lnTo>
                    <a:lnTo>
                      <a:pt x="986" y="406"/>
                    </a:lnTo>
                    <a:lnTo>
                      <a:pt x="1040" y="374"/>
                    </a:lnTo>
                    <a:lnTo>
                      <a:pt x="1092" y="342"/>
                    </a:lnTo>
                    <a:lnTo>
                      <a:pt x="1148" y="312"/>
                    </a:lnTo>
                    <a:lnTo>
                      <a:pt x="1202" y="282"/>
                    </a:lnTo>
                    <a:lnTo>
                      <a:pt x="1258" y="254"/>
                    </a:lnTo>
                    <a:lnTo>
                      <a:pt x="1316" y="228"/>
                    </a:lnTo>
                    <a:lnTo>
                      <a:pt x="1374" y="202"/>
                    </a:lnTo>
                    <a:lnTo>
                      <a:pt x="1432" y="178"/>
                    </a:lnTo>
                    <a:lnTo>
                      <a:pt x="1490" y="156"/>
                    </a:lnTo>
                    <a:lnTo>
                      <a:pt x="1550" y="136"/>
                    </a:lnTo>
                    <a:lnTo>
                      <a:pt x="1610" y="116"/>
                    </a:lnTo>
                    <a:lnTo>
                      <a:pt x="1672" y="98"/>
                    </a:lnTo>
                    <a:lnTo>
                      <a:pt x="1732" y="80"/>
                    </a:lnTo>
                    <a:lnTo>
                      <a:pt x="1794" y="66"/>
                    </a:lnTo>
                    <a:lnTo>
                      <a:pt x="1858" y="52"/>
                    </a:lnTo>
                    <a:lnTo>
                      <a:pt x="1922" y="40"/>
                    </a:lnTo>
                    <a:lnTo>
                      <a:pt x="1984" y="30"/>
                    </a:lnTo>
                    <a:lnTo>
                      <a:pt x="2050" y="20"/>
                    </a:lnTo>
                    <a:lnTo>
                      <a:pt x="2114" y="12"/>
                    </a:lnTo>
                    <a:lnTo>
                      <a:pt x="2180" y="8"/>
                    </a:lnTo>
                    <a:lnTo>
                      <a:pt x="2246" y="2"/>
                    </a:lnTo>
                    <a:lnTo>
                      <a:pt x="2312" y="0"/>
                    </a:lnTo>
                    <a:lnTo>
                      <a:pt x="2378" y="0"/>
                    </a:lnTo>
                    <a:lnTo>
                      <a:pt x="2444" y="0"/>
                    </a:lnTo>
                    <a:lnTo>
                      <a:pt x="2510" y="2"/>
                    </a:lnTo>
                    <a:lnTo>
                      <a:pt x="2576" y="8"/>
                    </a:lnTo>
                    <a:lnTo>
                      <a:pt x="2642" y="12"/>
                    </a:lnTo>
                    <a:lnTo>
                      <a:pt x="2706" y="20"/>
                    </a:lnTo>
                    <a:lnTo>
                      <a:pt x="2772" y="30"/>
                    </a:lnTo>
                    <a:lnTo>
                      <a:pt x="2834" y="40"/>
                    </a:lnTo>
                    <a:lnTo>
                      <a:pt x="2898" y="52"/>
                    </a:lnTo>
                    <a:lnTo>
                      <a:pt x="2962" y="66"/>
                    </a:lnTo>
                    <a:lnTo>
                      <a:pt x="3024" y="80"/>
                    </a:lnTo>
                    <a:lnTo>
                      <a:pt x="3084" y="98"/>
                    </a:lnTo>
                    <a:lnTo>
                      <a:pt x="3146" y="116"/>
                    </a:lnTo>
                    <a:lnTo>
                      <a:pt x="3206" y="136"/>
                    </a:lnTo>
                    <a:lnTo>
                      <a:pt x="3266" y="156"/>
                    </a:lnTo>
                    <a:lnTo>
                      <a:pt x="3324" y="178"/>
                    </a:lnTo>
                    <a:lnTo>
                      <a:pt x="3382" y="202"/>
                    </a:lnTo>
                    <a:lnTo>
                      <a:pt x="3440" y="228"/>
                    </a:lnTo>
                    <a:lnTo>
                      <a:pt x="3498" y="254"/>
                    </a:lnTo>
                    <a:lnTo>
                      <a:pt x="3554" y="282"/>
                    </a:lnTo>
                    <a:lnTo>
                      <a:pt x="3608" y="312"/>
                    </a:lnTo>
                    <a:lnTo>
                      <a:pt x="3664" y="342"/>
                    </a:lnTo>
                    <a:lnTo>
                      <a:pt x="3716" y="374"/>
                    </a:lnTo>
                    <a:lnTo>
                      <a:pt x="3770" y="406"/>
                    </a:lnTo>
                    <a:lnTo>
                      <a:pt x="3822" y="440"/>
                    </a:lnTo>
                    <a:lnTo>
                      <a:pt x="3872" y="476"/>
                    </a:lnTo>
                    <a:lnTo>
                      <a:pt x="3922" y="512"/>
                    </a:lnTo>
                    <a:lnTo>
                      <a:pt x="3972" y="550"/>
                    </a:lnTo>
                    <a:lnTo>
                      <a:pt x="4020" y="590"/>
                    </a:lnTo>
                    <a:lnTo>
                      <a:pt x="4068" y="630"/>
                    </a:lnTo>
                    <a:lnTo>
                      <a:pt x="4114" y="670"/>
                    </a:lnTo>
                    <a:lnTo>
                      <a:pt x="4160" y="712"/>
                    </a:lnTo>
                    <a:lnTo>
                      <a:pt x="4204" y="756"/>
                    </a:lnTo>
                    <a:lnTo>
                      <a:pt x="4246" y="800"/>
                    </a:lnTo>
                    <a:lnTo>
                      <a:pt x="4288" y="846"/>
                    </a:lnTo>
                    <a:lnTo>
                      <a:pt x="4330" y="892"/>
                    </a:lnTo>
                    <a:lnTo>
                      <a:pt x="4370" y="940"/>
                    </a:lnTo>
                    <a:lnTo>
                      <a:pt x="4410" y="988"/>
                    </a:lnTo>
                    <a:lnTo>
                      <a:pt x="4446" y="1036"/>
                    </a:lnTo>
                    <a:lnTo>
                      <a:pt x="4484" y="1086"/>
                    </a:lnTo>
                    <a:lnTo>
                      <a:pt x="4518" y="1138"/>
                    </a:lnTo>
                    <a:lnTo>
                      <a:pt x="4552" y="1190"/>
                    </a:lnTo>
                    <a:lnTo>
                      <a:pt x="4586" y="1242"/>
                    </a:lnTo>
                    <a:lnTo>
                      <a:pt x="4618" y="1296"/>
                    </a:lnTo>
                    <a:lnTo>
                      <a:pt x="4648" y="1350"/>
                    </a:lnTo>
                    <a:lnTo>
                      <a:pt x="4678" y="1406"/>
                    </a:lnTo>
                    <a:lnTo>
                      <a:pt x="4706" y="1462"/>
                    </a:lnTo>
                    <a:lnTo>
                      <a:pt x="4732" y="1518"/>
                    </a:lnTo>
                    <a:lnTo>
                      <a:pt x="4756" y="1576"/>
                    </a:lnTo>
                    <a:lnTo>
                      <a:pt x="0" y="15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7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Oval 31"/>
              <p:cNvSpPr/>
              <p:nvPr/>
            </p:nvSpPr>
            <p:spPr>
              <a:xfrm>
                <a:off x="2408760" y="3980880"/>
                <a:ext cx="346320" cy="311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7abf5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" name="Group 33"/>
            <p:cNvGrpSpPr/>
            <p:nvPr/>
          </p:nvGrpSpPr>
          <p:grpSpPr>
            <a:xfrm>
              <a:off x="5464080" y="3912840"/>
              <a:ext cx="1655640" cy="1655640"/>
              <a:chOff x="5464080" y="3912840"/>
              <a:chExt cx="1655640" cy="1655640"/>
            </a:xfrm>
          </p:grpSpPr>
          <p:sp>
            <p:nvSpPr>
              <p:cNvPr id="579" name="Oval 33"/>
              <p:cNvSpPr/>
              <p:nvPr/>
            </p:nvSpPr>
            <p:spPr>
              <a:xfrm>
                <a:off x="5464080" y="3912840"/>
                <a:ext cx="1655640" cy="1655640"/>
              </a:xfrm>
              <a:prstGeom prst="ellipse">
                <a:avLst/>
              </a:prstGeom>
              <a:gradFill rotWithShape="0">
                <a:gsLst>
                  <a:gs pos="0">
                    <a:srgbClr val="ff9933"/>
                  </a:gs>
                  <a:gs pos="100000">
                    <a:srgbClr val="ff33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文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Freeform 34"/>
              <p:cNvSpPr/>
              <p:nvPr/>
            </p:nvSpPr>
            <p:spPr>
              <a:xfrm>
                <a:off x="5602320" y="3958200"/>
                <a:ext cx="1380240" cy="448560"/>
              </a:xfrm>
              <a:custGeom>
                <a:avLst/>
                <a:gdLst/>
                <a:ahLst/>
                <a:rect l="l" t="t" r="r" b="b"/>
                <a:pathLst>
                  <a:path w="4756" h="1576">
                    <a:moveTo>
                      <a:pt x="0" y="1576"/>
                    </a:moveTo>
                    <a:lnTo>
                      <a:pt x="0" y="1576"/>
                    </a:lnTo>
                    <a:lnTo>
                      <a:pt x="24" y="1518"/>
                    </a:lnTo>
                    <a:lnTo>
                      <a:pt x="50" y="1462"/>
                    </a:lnTo>
                    <a:lnTo>
                      <a:pt x="78" y="1406"/>
                    </a:lnTo>
                    <a:lnTo>
                      <a:pt x="108" y="1350"/>
                    </a:lnTo>
                    <a:lnTo>
                      <a:pt x="138" y="1296"/>
                    </a:lnTo>
                    <a:lnTo>
                      <a:pt x="170" y="1242"/>
                    </a:lnTo>
                    <a:lnTo>
                      <a:pt x="204" y="1190"/>
                    </a:lnTo>
                    <a:lnTo>
                      <a:pt x="238" y="1138"/>
                    </a:lnTo>
                    <a:lnTo>
                      <a:pt x="272" y="1086"/>
                    </a:lnTo>
                    <a:lnTo>
                      <a:pt x="310" y="1036"/>
                    </a:lnTo>
                    <a:lnTo>
                      <a:pt x="348" y="988"/>
                    </a:lnTo>
                    <a:lnTo>
                      <a:pt x="386" y="940"/>
                    </a:lnTo>
                    <a:lnTo>
                      <a:pt x="426" y="892"/>
                    </a:lnTo>
                    <a:lnTo>
                      <a:pt x="468" y="846"/>
                    </a:lnTo>
                    <a:lnTo>
                      <a:pt x="510" y="800"/>
                    </a:lnTo>
                    <a:lnTo>
                      <a:pt x="552" y="756"/>
                    </a:lnTo>
                    <a:lnTo>
                      <a:pt x="596" y="712"/>
                    </a:lnTo>
                    <a:lnTo>
                      <a:pt x="642" y="670"/>
                    </a:lnTo>
                    <a:lnTo>
                      <a:pt x="688" y="630"/>
                    </a:lnTo>
                    <a:lnTo>
                      <a:pt x="736" y="590"/>
                    </a:lnTo>
                    <a:lnTo>
                      <a:pt x="784" y="550"/>
                    </a:lnTo>
                    <a:lnTo>
                      <a:pt x="834" y="512"/>
                    </a:lnTo>
                    <a:lnTo>
                      <a:pt x="884" y="476"/>
                    </a:lnTo>
                    <a:lnTo>
                      <a:pt x="934" y="440"/>
                    </a:lnTo>
                    <a:lnTo>
                      <a:pt x="986" y="406"/>
                    </a:lnTo>
                    <a:lnTo>
                      <a:pt x="1040" y="374"/>
                    </a:lnTo>
                    <a:lnTo>
                      <a:pt x="1092" y="342"/>
                    </a:lnTo>
                    <a:lnTo>
                      <a:pt x="1148" y="312"/>
                    </a:lnTo>
                    <a:lnTo>
                      <a:pt x="1202" y="282"/>
                    </a:lnTo>
                    <a:lnTo>
                      <a:pt x="1258" y="254"/>
                    </a:lnTo>
                    <a:lnTo>
                      <a:pt x="1316" y="228"/>
                    </a:lnTo>
                    <a:lnTo>
                      <a:pt x="1374" y="202"/>
                    </a:lnTo>
                    <a:lnTo>
                      <a:pt x="1432" y="178"/>
                    </a:lnTo>
                    <a:lnTo>
                      <a:pt x="1490" y="156"/>
                    </a:lnTo>
                    <a:lnTo>
                      <a:pt x="1550" y="136"/>
                    </a:lnTo>
                    <a:lnTo>
                      <a:pt x="1610" y="116"/>
                    </a:lnTo>
                    <a:lnTo>
                      <a:pt x="1672" y="98"/>
                    </a:lnTo>
                    <a:lnTo>
                      <a:pt x="1732" y="80"/>
                    </a:lnTo>
                    <a:lnTo>
                      <a:pt x="1794" y="66"/>
                    </a:lnTo>
                    <a:lnTo>
                      <a:pt x="1858" y="52"/>
                    </a:lnTo>
                    <a:lnTo>
                      <a:pt x="1922" y="40"/>
                    </a:lnTo>
                    <a:lnTo>
                      <a:pt x="1984" y="30"/>
                    </a:lnTo>
                    <a:lnTo>
                      <a:pt x="2050" y="20"/>
                    </a:lnTo>
                    <a:lnTo>
                      <a:pt x="2114" y="12"/>
                    </a:lnTo>
                    <a:lnTo>
                      <a:pt x="2180" y="8"/>
                    </a:lnTo>
                    <a:lnTo>
                      <a:pt x="2246" y="2"/>
                    </a:lnTo>
                    <a:lnTo>
                      <a:pt x="2312" y="0"/>
                    </a:lnTo>
                    <a:lnTo>
                      <a:pt x="2378" y="0"/>
                    </a:lnTo>
                    <a:lnTo>
                      <a:pt x="2444" y="0"/>
                    </a:lnTo>
                    <a:lnTo>
                      <a:pt x="2510" y="2"/>
                    </a:lnTo>
                    <a:lnTo>
                      <a:pt x="2576" y="8"/>
                    </a:lnTo>
                    <a:lnTo>
                      <a:pt x="2642" y="12"/>
                    </a:lnTo>
                    <a:lnTo>
                      <a:pt x="2706" y="20"/>
                    </a:lnTo>
                    <a:lnTo>
                      <a:pt x="2772" y="30"/>
                    </a:lnTo>
                    <a:lnTo>
                      <a:pt x="2834" y="40"/>
                    </a:lnTo>
                    <a:lnTo>
                      <a:pt x="2898" y="52"/>
                    </a:lnTo>
                    <a:lnTo>
                      <a:pt x="2962" y="66"/>
                    </a:lnTo>
                    <a:lnTo>
                      <a:pt x="3024" y="80"/>
                    </a:lnTo>
                    <a:lnTo>
                      <a:pt x="3084" y="98"/>
                    </a:lnTo>
                    <a:lnTo>
                      <a:pt x="3146" y="116"/>
                    </a:lnTo>
                    <a:lnTo>
                      <a:pt x="3206" y="136"/>
                    </a:lnTo>
                    <a:lnTo>
                      <a:pt x="3266" y="156"/>
                    </a:lnTo>
                    <a:lnTo>
                      <a:pt x="3324" y="178"/>
                    </a:lnTo>
                    <a:lnTo>
                      <a:pt x="3382" y="202"/>
                    </a:lnTo>
                    <a:lnTo>
                      <a:pt x="3440" y="228"/>
                    </a:lnTo>
                    <a:lnTo>
                      <a:pt x="3498" y="254"/>
                    </a:lnTo>
                    <a:lnTo>
                      <a:pt x="3554" y="282"/>
                    </a:lnTo>
                    <a:lnTo>
                      <a:pt x="3608" y="312"/>
                    </a:lnTo>
                    <a:lnTo>
                      <a:pt x="3664" y="342"/>
                    </a:lnTo>
                    <a:lnTo>
                      <a:pt x="3716" y="374"/>
                    </a:lnTo>
                    <a:lnTo>
                      <a:pt x="3770" y="406"/>
                    </a:lnTo>
                    <a:lnTo>
                      <a:pt x="3822" y="440"/>
                    </a:lnTo>
                    <a:lnTo>
                      <a:pt x="3872" y="476"/>
                    </a:lnTo>
                    <a:lnTo>
                      <a:pt x="3922" y="512"/>
                    </a:lnTo>
                    <a:lnTo>
                      <a:pt x="3972" y="550"/>
                    </a:lnTo>
                    <a:lnTo>
                      <a:pt x="4020" y="590"/>
                    </a:lnTo>
                    <a:lnTo>
                      <a:pt x="4068" y="630"/>
                    </a:lnTo>
                    <a:lnTo>
                      <a:pt x="4114" y="670"/>
                    </a:lnTo>
                    <a:lnTo>
                      <a:pt x="4160" y="712"/>
                    </a:lnTo>
                    <a:lnTo>
                      <a:pt x="4204" y="756"/>
                    </a:lnTo>
                    <a:lnTo>
                      <a:pt x="4246" y="800"/>
                    </a:lnTo>
                    <a:lnTo>
                      <a:pt x="4288" y="846"/>
                    </a:lnTo>
                    <a:lnTo>
                      <a:pt x="4330" y="892"/>
                    </a:lnTo>
                    <a:lnTo>
                      <a:pt x="4370" y="940"/>
                    </a:lnTo>
                    <a:lnTo>
                      <a:pt x="4410" y="988"/>
                    </a:lnTo>
                    <a:lnTo>
                      <a:pt x="4446" y="1036"/>
                    </a:lnTo>
                    <a:lnTo>
                      <a:pt x="4484" y="1086"/>
                    </a:lnTo>
                    <a:lnTo>
                      <a:pt x="4518" y="1138"/>
                    </a:lnTo>
                    <a:lnTo>
                      <a:pt x="4552" y="1190"/>
                    </a:lnTo>
                    <a:lnTo>
                      <a:pt x="4586" y="1242"/>
                    </a:lnTo>
                    <a:lnTo>
                      <a:pt x="4618" y="1296"/>
                    </a:lnTo>
                    <a:lnTo>
                      <a:pt x="4648" y="1350"/>
                    </a:lnTo>
                    <a:lnTo>
                      <a:pt x="4678" y="1406"/>
                    </a:lnTo>
                    <a:lnTo>
                      <a:pt x="4706" y="1462"/>
                    </a:lnTo>
                    <a:lnTo>
                      <a:pt x="4732" y="1518"/>
                    </a:lnTo>
                    <a:lnTo>
                      <a:pt x="4756" y="1576"/>
                    </a:lnTo>
                    <a:lnTo>
                      <a:pt x="0" y="15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7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Oval 35"/>
              <p:cNvSpPr/>
              <p:nvPr/>
            </p:nvSpPr>
            <p:spPr>
              <a:xfrm>
                <a:off x="5808960" y="3980880"/>
                <a:ext cx="346320" cy="311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7abf5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37"/>
            <p:cNvGrpSpPr/>
            <p:nvPr/>
          </p:nvGrpSpPr>
          <p:grpSpPr>
            <a:xfrm>
              <a:off x="3007440" y="1000080"/>
              <a:ext cx="1004760" cy="1004760"/>
              <a:chOff x="3007440" y="1000080"/>
              <a:chExt cx="1004760" cy="1004760"/>
            </a:xfrm>
          </p:grpSpPr>
          <p:sp>
            <p:nvSpPr>
              <p:cNvPr id="583" name="Oval 37"/>
              <p:cNvSpPr/>
              <p:nvPr/>
            </p:nvSpPr>
            <p:spPr>
              <a:xfrm>
                <a:off x="3007440" y="1000080"/>
                <a:ext cx="1004760" cy="1004760"/>
              </a:xfrm>
              <a:prstGeom prst="ellipse">
                <a:avLst/>
              </a:prstGeom>
              <a:gradFill rotWithShape="0">
                <a:gsLst>
                  <a:gs pos="0">
                    <a:srgbClr val="ff9933"/>
                  </a:gs>
                  <a:gs pos="100000">
                    <a:srgbClr val="ff33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文字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Freeform 38"/>
              <p:cNvSpPr/>
              <p:nvPr/>
            </p:nvSpPr>
            <p:spPr>
              <a:xfrm>
                <a:off x="3092400" y="1026720"/>
                <a:ext cx="837720" cy="272880"/>
              </a:xfrm>
              <a:custGeom>
                <a:avLst/>
                <a:gdLst/>
                <a:ahLst/>
                <a:rect l="l" t="t" r="r" b="b"/>
                <a:pathLst>
                  <a:path w="4756" h="1576">
                    <a:moveTo>
                      <a:pt x="0" y="1576"/>
                    </a:moveTo>
                    <a:lnTo>
                      <a:pt x="0" y="1576"/>
                    </a:lnTo>
                    <a:lnTo>
                      <a:pt x="24" y="1518"/>
                    </a:lnTo>
                    <a:lnTo>
                      <a:pt x="50" y="1462"/>
                    </a:lnTo>
                    <a:lnTo>
                      <a:pt x="78" y="1406"/>
                    </a:lnTo>
                    <a:lnTo>
                      <a:pt x="108" y="1350"/>
                    </a:lnTo>
                    <a:lnTo>
                      <a:pt x="138" y="1296"/>
                    </a:lnTo>
                    <a:lnTo>
                      <a:pt x="170" y="1242"/>
                    </a:lnTo>
                    <a:lnTo>
                      <a:pt x="204" y="1190"/>
                    </a:lnTo>
                    <a:lnTo>
                      <a:pt x="238" y="1138"/>
                    </a:lnTo>
                    <a:lnTo>
                      <a:pt x="272" y="1086"/>
                    </a:lnTo>
                    <a:lnTo>
                      <a:pt x="310" y="1036"/>
                    </a:lnTo>
                    <a:lnTo>
                      <a:pt x="348" y="988"/>
                    </a:lnTo>
                    <a:lnTo>
                      <a:pt x="386" y="940"/>
                    </a:lnTo>
                    <a:lnTo>
                      <a:pt x="426" y="892"/>
                    </a:lnTo>
                    <a:lnTo>
                      <a:pt x="468" y="846"/>
                    </a:lnTo>
                    <a:lnTo>
                      <a:pt x="510" y="800"/>
                    </a:lnTo>
                    <a:lnTo>
                      <a:pt x="552" y="756"/>
                    </a:lnTo>
                    <a:lnTo>
                      <a:pt x="596" y="712"/>
                    </a:lnTo>
                    <a:lnTo>
                      <a:pt x="642" y="670"/>
                    </a:lnTo>
                    <a:lnTo>
                      <a:pt x="688" y="630"/>
                    </a:lnTo>
                    <a:lnTo>
                      <a:pt x="736" y="590"/>
                    </a:lnTo>
                    <a:lnTo>
                      <a:pt x="784" y="550"/>
                    </a:lnTo>
                    <a:lnTo>
                      <a:pt x="834" y="512"/>
                    </a:lnTo>
                    <a:lnTo>
                      <a:pt x="884" y="476"/>
                    </a:lnTo>
                    <a:lnTo>
                      <a:pt x="934" y="440"/>
                    </a:lnTo>
                    <a:lnTo>
                      <a:pt x="986" y="406"/>
                    </a:lnTo>
                    <a:lnTo>
                      <a:pt x="1040" y="374"/>
                    </a:lnTo>
                    <a:lnTo>
                      <a:pt x="1092" y="342"/>
                    </a:lnTo>
                    <a:lnTo>
                      <a:pt x="1148" y="312"/>
                    </a:lnTo>
                    <a:lnTo>
                      <a:pt x="1202" y="282"/>
                    </a:lnTo>
                    <a:lnTo>
                      <a:pt x="1258" y="254"/>
                    </a:lnTo>
                    <a:lnTo>
                      <a:pt x="1316" y="228"/>
                    </a:lnTo>
                    <a:lnTo>
                      <a:pt x="1374" y="202"/>
                    </a:lnTo>
                    <a:lnTo>
                      <a:pt x="1432" y="178"/>
                    </a:lnTo>
                    <a:lnTo>
                      <a:pt x="1490" y="156"/>
                    </a:lnTo>
                    <a:lnTo>
                      <a:pt x="1550" y="136"/>
                    </a:lnTo>
                    <a:lnTo>
                      <a:pt x="1610" y="116"/>
                    </a:lnTo>
                    <a:lnTo>
                      <a:pt x="1672" y="98"/>
                    </a:lnTo>
                    <a:lnTo>
                      <a:pt x="1732" y="80"/>
                    </a:lnTo>
                    <a:lnTo>
                      <a:pt x="1794" y="66"/>
                    </a:lnTo>
                    <a:lnTo>
                      <a:pt x="1858" y="52"/>
                    </a:lnTo>
                    <a:lnTo>
                      <a:pt x="1922" y="40"/>
                    </a:lnTo>
                    <a:lnTo>
                      <a:pt x="1984" y="30"/>
                    </a:lnTo>
                    <a:lnTo>
                      <a:pt x="2050" y="20"/>
                    </a:lnTo>
                    <a:lnTo>
                      <a:pt x="2114" y="12"/>
                    </a:lnTo>
                    <a:lnTo>
                      <a:pt x="2180" y="8"/>
                    </a:lnTo>
                    <a:lnTo>
                      <a:pt x="2246" y="2"/>
                    </a:lnTo>
                    <a:lnTo>
                      <a:pt x="2312" y="0"/>
                    </a:lnTo>
                    <a:lnTo>
                      <a:pt x="2378" y="0"/>
                    </a:lnTo>
                    <a:lnTo>
                      <a:pt x="2444" y="0"/>
                    </a:lnTo>
                    <a:lnTo>
                      <a:pt x="2510" y="2"/>
                    </a:lnTo>
                    <a:lnTo>
                      <a:pt x="2576" y="8"/>
                    </a:lnTo>
                    <a:lnTo>
                      <a:pt x="2642" y="12"/>
                    </a:lnTo>
                    <a:lnTo>
                      <a:pt x="2706" y="20"/>
                    </a:lnTo>
                    <a:lnTo>
                      <a:pt x="2772" y="30"/>
                    </a:lnTo>
                    <a:lnTo>
                      <a:pt x="2834" y="40"/>
                    </a:lnTo>
                    <a:lnTo>
                      <a:pt x="2898" y="52"/>
                    </a:lnTo>
                    <a:lnTo>
                      <a:pt x="2962" y="66"/>
                    </a:lnTo>
                    <a:lnTo>
                      <a:pt x="3024" y="80"/>
                    </a:lnTo>
                    <a:lnTo>
                      <a:pt x="3084" y="98"/>
                    </a:lnTo>
                    <a:lnTo>
                      <a:pt x="3146" y="116"/>
                    </a:lnTo>
                    <a:lnTo>
                      <a:pt x="3206" y="136"/>
                    </a:lnTo>
                    <a:lnTo>
                      <a:pt x="3266" y="156"/>
                    </a:lnTo>
                    <a:lnTo>
                      <a:pt x="3324" y="178"/>
                    </a:lnTo>
                    <a:lnTo>
                      <a:pt x="3382" y="202"/>
                    </a:lnTo>
                    <a:lnTo>
                      <a:pt x="3440" y="228"/>
                    </a:lnTo>
                    <a:lnTo>
                      <a:pt x="3498" y="254"/>
                    </a:lnTo>
                    <a:lnTo>
                      <a:pt x="3554" y="282"/>
                    </a:lnTo>
                    <a:lnTo>
                      <a:pt x="3608" y="312"/>
                    </a:lnTo>
                    <a:lnTo>
                      <a:pt x="3664" y="342"/>
                    </a:lnTo>
                    <a:lnTo>
                      <a:pt x="3716" y="374"/>
                    </a:lnTo>
                    <a:lnTo>
                      <a:pt x="3770" y="406"/>
                    </a:lnTo>
                    <a:lnTo>
                      <a:pt x="3822" y="440"/>
                    </a:lnTo>
                    <a:lnTo>
                      <a:pt x="3872" y="476"/>
                    </a:lnTo>
                    <a:lnTo>
                      <a:pt x="3922" y="512"/>
                    </a:lnTo>
                    <a:lnTo>
                      <a:pt x="3972" y="550"/>
                    </a:lnTo>
                    <a:lnTo>
                      <a:pt x="4020" y="590"/>
                    </a:lnTo>
                    <a:lnTo>
                      <a:pt x="4068" y="630"/>
                    </a:lnTo>
                    <a:lnTo>
                      <a:pt x="4114" y="670"/>
                    </a:lnTo>
                    <a:lnTo>
                      <a:pt x="4160" y="712"/>
                    </a:lnTo>
                    <a:lnTo>
                      <a:pt x="4204" y="756"/>
                    </a:lnTo>
                    <a:lnTo>
                      <a:pt x="4246" y="800"/>
                    </a:lnTo>
                    <a:lnTo>
                      <a:pt x="4288" y="846"/>
                    </a:lnTo>
                    <a:lnTo>
                      <a:pt x="4330" y="892"/>
                    </a:lnTo>
                    <a:lnTo>
                      <a:pt x="4370" y="940"/>
                    </a:lnTo>
                    <a:lnTo>
                      <a:pt x="4410" y="988"/>
                    </a:lnTo>
                    <a:lnTo>
                      <a:pt x="4446" y="1036"/>
                    </a:lnTo>
                    <a:lnTo>
                      <a:pt x="4484" y="1086"/>
                    </a:lnTo>
                    <a:lnTo>
                      <a:pt x="4518" y="1138"/>
                    </a:lnTo>
                    <a:lnTo>
                      <a:pt x="4552" y="1190"/>
                    </a:lnTo>
                    <a:lnTo>
                      <a:pt x="4586" y="1242"/>
                    </a:lnTo>
                    <a:lnTo>
                      <a:pt x="4618" y="1296"/>
                    </a:lnTo>
                    <a:lnTo>
                      <a:pt x="4648" y="1350"/>
                    </a:lnTo>
                    <a:lnTo>
                      <a:pt x="4678" y="1406"/>
                    </a:lnTo>
                    <a:lnTo>
                      <a:pt x="4706" y="1462"/>
                    </a:lnTo>
                    <a:lnTo>
                      <a:pt x="4732" y="1518"/>
                    </a:lnTo>
                    <a:lnTo>
                      <a:pt x="4756" y="1576"/>
                    </a:lnTo>
                    <a:lnTo>
                      <a:pt x="0" y="15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7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Oval 39"/>
              <p:cNvSpPr/>
              <p:nvPr/>
            </p:nvSpPr>
            <p:spPr>
              <a:xfrm>
                <a:off x="3216600" y="1041480"/>
                <a:ext cx="210240" cy="189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7abf5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6" name="Group 41"/>
            <p:cNvGrpSpPr/>
            <p:nvPr/>
          </p:nvGrpSpPr>
          <p:grpSpPr>
            <a:xfrm>
              <a:off x="5132880" y="1000080"/>
              <a:ext cx="1005480" cy="1004760"/>
              <a:chOff x="5132880" y="1000080"/>
              <a:chExt cx="1005480" cy="1004760"/>
            </a:xfrm>
          </p:grpSpPr>
          <p:sp>
            <p:nvSpPr>
              <p:cNvPr id="587" name="Oval 41"/>
              <p:cNvSpPr/>
              <p:nvPr/>
            </p:nvSpPr>
            <p:spPr>
              <a:xfrm>
                <a:off x="5132880" y="1000080"/>
                <a:ext cx="1005480" cy="1004760"/>
              </a:xfrm>
              <a:prstGeom prst="ellipse">
                <a:avLst/>
              </a:prstGeom>
              <a:gradFill rotWithShape="0">
                <a:gsLst>
                  <a:gs pos="0">
                    <a:srgbClr val="ff9933"/>
                  </a:gs>
                  <a:gs pos="100000">
                    <a:srgbClr val="ff33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文字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Freeform 42"/>
              <p:cNvSpPr/>
              <p:nvPr/>
            </p:nvSpPr>
            <p:spPr>
              <a:xfrm>
                <a:off x="5215680" y="1026720"/>
                <a:ext cx="840240" cy="272880"/>
              </a:xfrm>
              <a:custGeom>
                <a:avLst/>
                <a:gdLst/>
                <a:ahLst/>
                <a:rect l="l" t="t" r="r" b="b"/>
                <a:pathLst>
                  <a:path w="4756" h="1576">
                    <a:moveTo>
                      <a:pt x="0" y="1576"/>
                    </a:moveTo>
                    <a:lnTo>
                      <a:pt x="0" y="1576"/>
                    </a:lnTo>
                    <a:lnTo>
                      <a:pt x="24" y="1518"/>
                    </a:lnTo>
                    <a:lnTo>
                      <a:pt x="50" y="1462"/>
                    </a:lnTo>
                    <a:lnTo>
                      <a:pt x="78" y="1406"/>
                    </a:lnTo>
                    <a:lnTo>
                      <a:pt x="108" y="1350"/>
                    </a:lnTo>
                    <a:lnTo>
                      <a:pt x="138" y="1296"/>
                    </a:lnTo>
                    <a:lnTo>
                      <a:pt x="170" y="1242"/>
                    </a:lnTo>
                    <a:lnTo>
                      <a:pt x="204" y="1190"/>
                    </a:lnTo>
                    <a:lnTo>
                      <a:pt x="238" y="1138"/>
                    </a:lnTo>
                    <a:lnTo>
                      <a:pt x="272" y="1086"/>
                    </a:lnTo>
                    <a:lnTo>
                      <a:pt x="310" y="1036"/>
                    </a:lnTo>
                    <a:lnTo>
                      <a:pt x="348" y="988"/>
                    </a:lnTo>
                    <a:lnTo>
                      <a:pt x="386" y="940"/>
                    </a:lnTo>
                    <a:lnTo>
                      <a:pt x="426" y="892"/>
                    </a:lnTo>
                    <a:lnTo>
                      <a:pt x="468" y="846"/>
                    </a:lnTo>
                    <a:lnTo>
                      <a:pt x="510" y="800"/>
                    </a:lnTo>
                    <a:lnTo>
                      <a:pt x="552" y="756"/>
                    </a:lnTo>
                    <a:lnTo>
                      <a:pt x="596" y="712"/>
                    </a:lnTo>
                    <a:lnTo>
                      <a:pt x="642" y="670"/>
                    </a:lnTo>
                    <a:lnTo>
                      <a:pt x="688" y="630"/>
                    </a:lnTo>
                    <a:lnTo>
                      <a:pt x="736" y="590"/>
                    </a:lnTo>
                    <a:lnTo>
                      <a:pt x="784" y="550"/>
                    </a:lnTo>
                    <a:lnTo>
                      <a:pt x="834" y="512"/>
                    </a:lnTo>
                    <a:lnTo>
                      <a:pt x="884" y="476"/>
                    </a:lnTo>
                    <a:lnTo>
                      <a:pt x="934" y="440"/>
                    </a:lnTo>
                    <a:lnTo>
                      <a:pt x="986" y="406"/>
                    </a:lnTo>
                    <a:lnTo>
                      <a:pt x="1040" y="374"/>
                    </a:lnTo>
                    <a:lnTo>
                      <a:pt x="1092" y="342"/>
                    </a:lnTo>
                    <a:lnTo>
                      <a:pt x="1148" y="312"/>
                    </a:lnTo>
                    <a:lnTo>
                      <a:pt x="1202" y="282"/>
                    </a:lnTo>
                    <a:lnTo>
                      <a:pt x="1258" y="254"/>
                    </a:lnTo>
                    <a:lnTo>
                      <a:pt x="1316" y="228"/>
                    </a:lnTo>
                    <a:lnTo>
                      <a:pt x="1374" y="202"/>
                    </a:lnTo>
                    <a:lnTo>
                      <a:pt x="1432" y="178"/>
                    </a:lnTo>
                    <a:lnTo>
                      <a:pt x="1490" y="156"/>
                    </a:lnTo>
                    <a:lnTo>
                      <a:pt x="1550" y="136"/>
                    </a:lnTo>
                    <a:lnTo>
                      <a:pt x="1610" y="116"/>
                    </a:lnTo>
                    <a:lnTo>
                      <a:pt x="1672" y="98"/>
                    </a:lnTo>
                    <a:lnTo>
                      <a:pt x="1732" y="80"/>
                    </a:lnTo>
                    <a:lnTo>
                      <a:pt x="1794" y="66"/>
                    </a:lnTo>
                    <a:lnTo>
                      <a:pt x="1858" y="52"/>
                    </a:lnTo>
                    <a:lnTo>
                      <a:pt x="1922" y="40"/>
                    </a:lnTo>
                    <a:lnTo>
                      <a:pt x="1984" y="30"/>
                    </a:lnTo>
                    <a:lnTo>
                      <a:pt x="2050" y="20"/>
                    </a:lnTo>
                    <a:lnTo>
                      <a:pt x="2114" y="12"/>
                    </a:lnTo>
                    <a:lnTo>
                      <a:pt x="2180" y="8"/>
                    </a:lnTo>
                    <a:lnTo>
                      <a:pt x="2246" y="2"/>
                    </a:lnTo>
                    <a:lnTo>
                      <a:pt x="2312" y="0"/>
                    </a:lnTo>
                    <a:lnTo>
                      <a:pt x="2378" y="0"/>
                    </a:lnTo>
                    <a:lnTo>
                      <a:pt x="2444" y="0"/>
                    </a:lnTo>
                    <a:lnTo>
                      <a:pt x="2510" y="2"/>
                    </a:lnTo>
                    <a:lnTo>
                      <a:pt x="2576" y="8"/>
                    </a:lnTo>
                    <a:lnTo>
                      <a:pt x="2642" y="12"/>
                    </a:lnTo>
                    <a:lnTo>
                      <a:pt x="2706" y="20"/>
                    </a:lnTo>
                    <a:lnTo>
                      <a:pt x="2772" y="30"/>
                    </a:lnTo>
                    <a:lnTo>
                      <a:pt x="2834" y="40"/>
                    </a:lnTo>
                    <a:lnTo>
                      <a:pt x="2898" y="52"/>
                    </a:lnTo>
                    <a:lnTo>
                      <a:pt x="2962" y="66"/>
                    </a:lnTo>
                    <a:lnTo>
                      <a:pt x="3024" y="80"/>
                    </a:lnTo>
                    <a:lnTo>
                      <a:pt x="3084" y="98"/>
                    </a:lnTo>
                    <a:lnTo>
                      <a:pt x="3146" y="116"/>
                    </a:lnTo>
                    <a:lnTo>
                      <a:pt x="3206" y="136"/>
                    </a:lnTo>
                    <a:lnTo>
                      <a:pt x="3266" y="156"/>
                    </a:lnTo>
                    <a:lnTo>
                      <a:pt x="3324" y="178"/>
                    </a:lnTo>
                    <a:lnTo>
                      <a:pt x="3382" y="202"/>
                    </a:lnTo>
                    <a:lnTo>
                      <a:pt x="3440" y="228"/>
                    </a:lnTo>
                    <a:lnTo>
                      <a:pt x="3498" y="254"/>
                    </a:lnTo>
                    <a:lnTo>
                      <a:pt x="3554" y="282"/>
                    </a:lnTo>
                    <a:lnTo>
                      <a:pt x="3608" y="312"/>
                    </a:lnTo>
                    <a:lnTo>
                      <a:pt x="3664" y="342"/>
                    </a:lnTo>
                    <a:lnTo>
                      <a:pt x="3716" y="374"/>
                    </a:lnTo>
                    <a:lnTo>
                      <a:pt x="3770" y="406"/>
                    </a:lnTo>
                    <a:lnTo>
                      <a:pt x="3822" y="440"/>
                    </a:lnTo>
                    <a:lnTo>
                      <a:pt x="3872" y="476"/>
                    </a:lnTo>
                    <a:lnTo>
                      <a:pt x="3922" y="512"/>
                    </a:lnTo>
                    <a:lnTo>
                      <a:pt x="3972" y="550"/>
                    </a:lnTo>
                    <a:lnTo>
                      <a:pt x="4020" y="590"/>
                    </a:lnTo>
                    <a:lnTo>
                      <a:pt x="4068" y="630"/>
                    </a:lnTo>
                    <a:lnTo>
                      <a:pt x="4114" y="670"/>
                    </a:lnTo>
                    <a:lnTo>
                      <a:pt x="4160" y="712"/>
                    </a:lnTo>
                    <a:lnTo>
                      <a:pt x="4204" y="756"/>
                    </a:lnTo>
                    <a:lnTo>
                      <a:pt x="4246" y="800"/>
                    </a:lnTo>
                    <a:lnTo>
                      <a:pt x="4288" y="846"/>
                    </a:lnTo>
                    <a:lnTo>
                      <a:pt x="4330" y="892"/>
                    </a:lnTo>
                    <a:lnTo>
                      <a:pt x="4370" y="940"/>
                    </a:lnTo>
                    <a:lnTo>
                      <a:pt x="4410" y="988"/>
                    </a:lnTo>
                    <a:lnTo>
                      <a:pt x="4446" y="1036"/>
                    </a:lnTo>
                    <a:lnTo>
                      <a:pt x="4484" y="1086"/>
                    </a:lnTo>
                    <a:lnTo>
                      <a:pt x="4518" y="1138"/>
                    </a:lnTo>
                    <a:lnTo>
                      <a:pt x="4552" y="1190"/>
                    </a:lnTo>
                    <a:lnTo>
                      <a:pt x="4586" y="1242"/>
                    </a:lnTo>
                    <a:lnTo>
                      <a:pt x="4618" y="1296"/>
                    </a:lnTo>
                    <a:lnTo>
                      <a:pt x="4648" y="1350"/>
                    </a:lnTo>
                    <a:lnTo>
                      <a:pt x="4678" y="1406"/>
                    </a:lnTo>
                    <a:lnTo>
                      <a:pt x="4706" y="1462"/>
                    </a:lnTo>
                    <a:lnTo>
                      <a:pt x="4732" y="1518"/>
                    </a:lnTo>
                    <a:lnTo>
                      <a:pt x="4756" y="1576"/>
                    </a:lnTo>
                    <a:lnTo>
                      <a:pt x="0" y="15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7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Oval 43"/>
              <p:cNvSpPr/>
              <p:nvPr/>
            </p:nvSpPr>
            <p:spPr>
              <a:xfrm>
                <a:off x="5342400" y="1041480"/>
                <a:ext cx="210240" cy="189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7abf5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 advTm="5000">
    <p:fade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24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0" name="组合 1"/>
          <p:cNvGrpSpPr/>
          <p:nvPr/>
        </p:nvGrpSpPr>
        <p:grpSpPr>
          <a:xfrm>
            <a:off x="2286000" y="3720960"/>
            <a:ext cx="6308640" cy="1442880"/>
            <a:chOff x="2286000" y="3720960"/>
            <a:chExt cx="6308640" cy="1442880"/>
          </a:xfrm>
        </p:grpSpPr>
        <p:sp>
          <p:nvSpPr>
            <p:cNvPr id="591" name="Freeform 31"/>
            <p:cNvSpPr/>
            <p:nvPr/>
          </p:nvSpPr>
          <p:spPr>
            <a:xfrm>
              <a:off x="2286000" y="4097160"/>
              <a:ext cx="3048120" cy="990720"/>
            </a:xfrm>
            <a:custGeom>
              <a:avLst/>
              <a:gdLst/>
              <a:ahLst/>
              <a:rect l="l" t="t" r="r" b="b"/>
              <a:pathLst>
                <a:path w="2331" h="688">
                  <a:moveTo>
                    <a:pt x="2331" y="688"/>
                  </a:moveTo>
                  <a:cubicBezTo>
                    <a:pt x="2331" y="688"/>
                    <a:pt x="208" y="159"/>
                    <a:pt x="104" y="138"/>
                  </a:cubicBezTo>
                  <a:cubicBezTo>
                    <a:pt x="0" y="118"/>
                    <a:pt x="2086" y="0"/>
                    <a:pt x="2086" y="0"/>
                  </a:cubicBezTo>
                  <a:lnTo>
                    <a:pt x="2331" y="688"/>
                  </a:lnTo>
                  <a:close/>
                </a:path>
              </a:pathLst>
            </a:custGeom>
            <a:gradFill rotWithShape="0">
              <a:gsLst>
                <a:gs pos="0">
                  <a:srgbClr val="666666">
                    <a:alpha val="0"/>
                  </a:srgbClr>
                </a:gs>
                <a:gs pos="100000">
                  <a:srgbClr val="4a4a4a">
                    <a:alpha val="5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2" name="Group 3"/>
            <p:cNvGrpSpPr/>
            <p:nvPr/>
          </p:nvGrpSpPr>
          <p:grpSpPr>
            <a:xfrm>
              <a:off x="4572000" y="3720960"/>
              <a:ext cx="4022640" cy="1442880"/>
              <a:chOff x="4572000" y="3720960"/>
              <a:chExt cx="4022640" cy="1442880"/>
            </a:xfrm>
          </p:grpSpPr>
          <p:sp>
            <p:nvSpPr>
              <p:cNvPr id="593" name="Freeform 33"/>
              <p:cNvSpPr/>
              <p:nvPr/>
            </p:nvSpPr>
            <p:spPr>
              <a:xfrm>
                <a:off x="4572000" y="4373280"/>
                <a:ext cx="4017960" cy="781200"/>
              </a:xfrm>
              <a:custGeom>
                <a:avLst/>
                <a:gdLst/>
                <a:ahLst/>
                <a:rect l="l" t="t" r="r" b="b"/>
                <a:pathLst>
                  <a:path w="700" h="136">
                    <a:moveTo>
                      <a:pt x="514" y="0"/>
                    </a:moveTo>
                    <a:lnTo>
                      <a:pt x="0" y="66"/>
                    </a:lnTo>
                    <a:lnTo>
                      <a:pt x="0" y="68"/>
                    </a:lnTo>
                    <a:lnTo>
                      <a:pt x="126" y="136"/>
                    </a:lnTo>
                    <a:lnTo>
                      <a:pt x="700" y="34"/>
                    </a:lnTo>
                    <a:lnTo>
                      <a:pt x="700" y="32"/>
                    </a:lnTo>
                    <a:lnTo>
                      <a:pt x="5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b3541"/>
                  </a:gs>
                  <a:gs pos="100000">
                    <a:srgbClr val="9dc2e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Freeform 34"/>
              <p:cNvSpPr/>
              <p:nvPr/>
            </p:nvSpPr>
            <p:spPr>
              <a:xfrm>
                <a:off x="7520040" y="3720960"/>
                <a:ext cx="1068480" cy="838080"/>
              </a:xfrm>
              <a:custGeom>
                <a:avLst/>
                <a:gdLst/>
                <a:ahLst/>
                <a:rect l="l" t="t" r="r" b="b"/>
                <a:pathLst>
                  <a:path w="186" h="146">
                    <a:moveTo>
                      <a:pt x="186" y="146"/>
                    </a:moveTo>
                    <a:lnTo>
                      <a:pt x="186" y="12"/>
                    </a:lnTo>
                    <a:lnTo>
                      <a:pt x="0" y="0"/>
                    </a:lnTo>
                    <a:lnTo>
                      <a:pt x="0" y="114"/>
                    </a:lnTo>
                    <a:lnTo>
                      <a:pt x="186" y="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dc2ec">
                      <a:alpha val="70196"/>
                    </a:srgbClr>
                  </a:gs>
                  <a:gs pos="100000">
                    <a:srgbClr val="b2b2b2">
                      <a:alpha val="70196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Freeform 35"/>
              <p:cNvSpPr/>
              <p:nvPr/>
            </p:nvSpPr>
            <p:spPr>
              <a:xfrm>
                <a:off x="4573440" y="3724200"/>
                <a:ext cx="2949840" cy="1033560"/>
              </a:xfrm>
              <a:custGeom>
                <a:avLst/>
                <a:gdLst/>
                <a:ahLst/>
                <a:rect l="l" t="t" r="r" b="b"/>
                <a:pathLst>
                  <a:path w="514" h="180">
                    <a:moveTo>
                      <a:pt x="514" y="114"/>
                    </a:moveTo>
                    <a:lnTo>
                      <a:pt x="514" y="0"/>
                    </a:lnTo>
                    <a:lnTo>
                      <a:pt x="0" y="26"/>
                    </a:lnTo>
                    <a:lnTo>
                      <a:pt x="0" y="180"/>
                    </a:lnTo>
                    <a:lnTo>
                      <a:pt x="514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dc2ec">
                      <a:alpha val="90196"/>
                    </a:srgbClr>
                  </a:gs>
                  <a:gs pos="100000">
                    <a:srgbClr val="b2b2b2">
                      <a:alpha val="90196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Freeform 36"/>
              <p:cNvSpPr/>
              <p:nvPr/>
            </p:nvSpPr>
            <p:spPr>
              <a:xfrm>
                <a:off x="4576680" y="3730320"/>
                <a:ext cx="4017960" cy="287640"/>
              </a:xfrm>
              <a:custGeom>
                <a:avLst/>
                <a:gdLst/>
                <a:ahLst/>
                <a:rect l="l" t="t" r="r" b="b"/>
                <a:pathLst>
                  <a:path w="700" h="50">
                    <a:moveTo>
                      <a:pt x="514" y="0"/>
                    </a:moveTo>
                    <a:lnTo>
                      <a:pt x="0" y="24"/>
                    </a:lnTo>
                    <a:lnTo>
                      <a:pt x="126" y="50"/>
                    </a:lnTo>
                    <a:lnTo>
                      <a:pt x="700" y="12"/>
                    </a:lnTo>
                    <a:lnTo>
                      <a:pt x="5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>
                      <a:alpha val="90196"/>
                    </a:srgbClr>
                  </a:gs>
                  <a:gs pos="100000">
                    <a:srgbClr val="b2b2b2">
                      <a:alpha val="90196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Freeform 37"/>
              <p:cNvSpPr/>
              <p:nvPr/>
            </p:nvSpPr>
            <p:spPr>
              <a:xfrm>
                <a:off x="5291280" y="3787560"/>
                <a:ext cx="3294000" cy="1376280"/>
              </a:xfrm>
              <a:custGeom>
                <a:avLst/>
                <a:gdLst/>
                <a:ahLst/>
                <a:rect l="l" t="t" r="r" b="b"/>
                <a:pathLst>
                  <a:path w="574" h="240">
                    <a:moveTo>
                      <a:pt x="0" y="240"/>
                    </a:moveTo>
                    <a:lnTo>
                      <a:pt x="574" y="136"/>
                    </a:lnTo>
                    <a:lnTo>
                      <a:pt x="574" y="0"/>
                    </a:lnTo>
                    <a:lnTo>
                      <a:pt x="0" y="38"/>
                    </a:lnTo>
                    <a:lnTo>
                      <a:pt x="0" y="2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5f5f">
                      <a:alpha val="70196"/>
                    </a:srgbClr>
                  </a:gs>
                  <a:gs pos="100000">
                    <a:srgbClr val="b2b2b2">
                      <a:alpha val="70196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Freeform 38"/>
              <p:cNvSpPr/>
              <p:nvPr/>
            </p:nvSpPr>
            <p:spPr>
              <a:xfrm>
                <a:off x="4572000" y="3867120"/>
                <a:ext cx="723960" cy="1296720"/>
              </a:xfrm>
              <a:custGeom>
                <a:avLst/>
                <a:gdLst/>
                <a:ahLst/>
                <a:rect l="l" t="t" r="r" b="b"/>
                <a:pathLst>
                  <a:path w="126" h="226">
                    <a:moveTo>
                      <a:pt x="0" y="0"/>
                    </a:moveTo>
                    <a:lnTo>
                      <a:pt x="0" y="156"/>
                    </a:lnTo>
                    <a:lnTo>
                      <a:pt x="126" y="226"/>
                    </a:lnTo>
                    <a:lnTo>
                      <a:pt x="126" y="24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5f5f">
                      <a:alpha val="90196"/>
                    </a:srgbClr>
                  </a:gs>
                  <a:gs pos="100000">
                    <a:srgbClr val="b2b2b2">
                      <a:alpha val="90196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9" name="Group 10"/>
          <p:cNvGrpSpPr/>
          <p:nvPr/>
        </p:nvGrpSpPr>
        <p:grpSpPr>
          <a:xfrm>
            <a:off x="4584600" y="1201680"/>
            <a:ext cx="3994200" cy="1501920"/>
            <a:chOff x="4584600" y="1201680"/>
            <a:chExt cx="3994200" cy="1501920"/>
          </a:xfrm>
        </p:grpSpPr>
        <p:sp>
          <p:nvSpPr>
            <p:cNvPr id="600" name="Freeform 40"/>
            <p:cNvSpPr/>
            <p:nvPr/>
          </p:nvSpPr>
          <p:spPr>
            <a:xfrm>
              <a:off x="4584600" y="1201680"/>
              <a:ext cx="689040" cy="1400040"/>
            </a:xfrm>
            <a:custGeom>
              <a:avLst/>
              <a:gdLst/>
              <a:ahLst/>
              <a:rect l="l" t="t" r="r" b="b"/>
              <a:pathLst>
                <a:path w="120" h="244">
                  <a:moveTo>
                    <a:pt x="0" y="82"/>
                  </a:moveTo>
                  <a:lnTo>
                    <a:pt x="0" y="244"/>
                  </a:lnTo>
                  <a:lnTo>
                    <a:pt x="120" y="208"/>
                  </a:lnTo>
                  <a:lnTo>
                    <a:pt x="120" y="0"/>
                  </a:lnTo>
                  <a:lnTo>
                    <a:pt x="0" y="82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993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41"/>
            <p:cNvSpPr/>
            <p:nvPr/>
          </p:nvSpPr>
          <p:spPr>
            <a:xfrm>
              <a:off x="5271840" y="1201680"/>
              <a:ext cx="3306960" cy="1457280"/>
            </a:xfrm>
            <a:custGeom>
              <a:avLst/>
              <a:gdLst/>
              <a:ahLst/>
              <a:rect l="l" t="t" r="r" b="b"/>
              <a:pathLst>
                <a:path w="576" h="254">
                  <a:moveTo>
                    <a:pt x="0" y="0"/>
                  </a:moveTo>
                  <a:lnTo>
                    <a:pt x="0" y="208"/>
                  </a:lnTo>
                  <a:lnTo>
                    <a:pt x="576" y="254"/>
                  </a:lnTo>
                  <a:lnTo>
                    <a:pt x="576" y="12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00000"/>
                </a:gs>
                <a:gs pos="100000">
                  <a:srgbClr val="ffc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42"/>
            <p:cNvSpPr/>
            <p:nvPr/>
          </p:nvSpPr>
          <p:spPr>
            <a:xfrm>
              <a:off x="4584600" y="1201680"/>
              <a:ext cx="3983040" cy="917640"/>
            </a:xfrm>
            <a:custGeom>
              <a:avLst/>
              <a:gdLst/>
              <a:ahLst/>
              <a:rect l="l" t="t" r="r" b="b"/>
              <a:pathLst>
                <a:path w="694" h="160">
                  <a:moveTo>
                    <a:pt x="510" y="160"/>
                  </a:moveTo>
                  <a:lnTo>
                    <a:pt x="510" y="160"/>
                  </a:lnTo>
                  <a:lnTo>
                    <a:pt x="694" y="126"/>
                  </a:lnTo>
                  <a:lnTo>
                    <a:pt x="694" y="124"/>
                  </a:lnTo>
                  <a:lnTo>
                    <a:pt x="118" y="0"/>
                  </a:lnTo>
                  <a:lnTo>
                    <a:pt x="0" y="82"/>
                  </a:lnTo>
                  <a:lnTo>
                    <a:pt x="508" y="160"/>
                  </a:lnTo>
                  <a:lnTo>
                    <a:pt x="510" y="160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ff66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43"/>
            <p:cNvSpPr/>
            <p:nvPr/>
          </p:nvSpPr>
          <p:spPr>
            <a:xfrm>
              <a:off x="7515000" y="1920960"/>
              <a:ext cx="1055880" cy="745920"/>
            </a:xfrm>
            <a:custGeom>
              <a:avLst/>
              <a:gdLst/>
              <a:ahLst/>
              <a:rect l="l" t="t" r="r" b="b"/>
              <a:pathLst>
                <a:path w="184" h="130">
                  <a:moveTo>
                    <a:pt x="184" y="0"/>
                  </a:moveTo>
                  <a:lnTo>
                    <a:pt x="0" y="34"/>
                  </a:lnTo>
                  <a:lnTo>
                    <a:pt x="0" y="114"/>
                  </a:lnTo>
                  <a:lnTo>
                    <a:pt x="184" y="130"/>
                  </a:lnTo>
                  <a:lnTo>
                    <a:pt x="184" y="0"/>
                  </a:lnTo>
                  <a:close/>
                </a:path>
              </a:pathLst>
            </a:custGeom>
            <a:gradFill rotWithShape="0">
              <a:gsLst>
                <a:gs pos="0">
                  <a:srgbClr val="640000"/>
                </a:gs>
                <a:gs pos="100000">
                  <a:srgbClr val="ff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44"/>
            <p:cNvSpPr/>
            <p:nvPr/>
          </p:nvSpPr>
          <p:spPr>
            <a:xfrm>
              <a:off x="4584600" y="2394000"/>
              <a:ext cx="3960720" cy="309600"/>
            </a:xfrm>
            <a:custGeom>
              <a:avLst/>
              <a:gdLst/>
              <a:ahLst/>
              <a:rect l="l" t="t" r="r" b="b"/>
              <a:pathLst>
                <a:path w="690" h="54">
                  <a:moveTo>
                    <a:pt x="0" y="36"/>
                  </a:moveTo>
                  <a:lnTo>
                    <a:pt x="120" y="0"/>
                  </a:lnTo>
                  <a:lnTo>
                    <a:pt x="514" y="30"/>
                  </a:lnTo>
                  <a:lnTo>
                    <a:pt x="690" y="46"/>
                  </a:lnTo>
                  <a:lnTo>
                    <a:pt x="512" y="54"/>
                  </a:lnTo>
                  <a:lnTo>
                    <a:pt x="0" y="36"/>
                  </a:lnTo>
                  <a:close/>
                </a:path>
              </a:pathLst>
            </a:custGeom>
            <a:gradFill rotWithShape="0">
              <a:gsLst>
                <a:gs pos="0">
                  <a:srgbClr val="220000"/>
                </a:gs>
                <a:gs pos="100000">
                  <a:srgbClr val="99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5" name="Group 16"/>
          <p:cNvGrpSpPr/>
          <p:nvPr/>
        </p:nvGrpSpPr>
        <p:grpSpPr>
          <a:xfrm>
            <a:off x="4572000" y="2573280"/>
            <a:ext cx="4022640" cy="1157400"/>
            <a:chOff x="4572000" y="2573280"/>
            <a:chExt cx="4022640" cy="1157400"/>
          </a:xfrm>
        </p:grpSpPr>
        <p:sp>
          <p:nvSpPr>
            <p:cNvPr id="606" name="Freeform 46"/>
            <p:cNvSpPr/>
            <p:nvPr/>
          </p:nvSpPr>
          <p:spPr>
            <a:xfrm>
              <a:off x="4572000" y="2577960"/>
              <a:ext cx="723960" cy="1152720"/>
            </a:xfrm>
            <a:custGeom>
              <a:avLst/>
              <a:gdLst/>
              <a:ahLst/>
              <a:rect l="l" t="t" r="r" b="b"/>
              <a:pathLst>
                <a:path w="126" h="201">
                  <a:moveTo>
                    <a:pt x="124" y="0"/>
                  </a:moveTo>
                  <a:lnTo>
                    <a:pt x="0" y="33"/>
                  </a:lnTo>
                  <a:lnTo>
                    <a:pt x="0" y="189"/>
                  </a:lnTo>
                  <a:lnTo>
                    <a:pt x="126" y="201"/>
                  </a:lnTo>
                  <a:lnTo>
                    <a:pt x="126" y="0"/>
                  </a:lnTo>
                  <a:lnTo>
                    <a:pt x="124" y="0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ff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47"/>
            <p:cNvSpPr/>
            <p:nvPr/>
          </p:nvSpPr>
          <p:spPr>
            <a:xfrm>
              <a:off x="5295960" y="2577960"/>
              <a:ext cx="3294000" cy="1152720"/>
            </a:xfrm>
            <a:custGeom>
              <a:avLst/>
              <a:gdLst/>
              <a:ahLst/>
              <a:rect l="l" t="t" r="r" b="b"/>
              <a:pathLst>
                <a:path w="574" h="201">
                  <a:moveTo>
                    <a:pt x="574" y="45"/>
                  </a:moveTo>
                  <a:lnTo>
                    <a:pt x="0" y="0"/>
                  </a:lnTo>
                  <a:lnTo>
                    <a:pt x="0" y="201"/>
                  </a:lnTo>
                  <a:lnTo>
                    <a:pt x="574" y="185"/>
                  </a:lnTo>
                  <a:lnTo>
                    <a:pt x="574" y="45"/>
                  </a:lnTo>
                  <a:close/>
                </a:path>
              </a:pathLst>
            </a:custGeom>
            <a:gradFill rotWithShape="0">
              <a:gsLst>
                <a:gs pos="0">
                  <a:srgbClr val="640000"/>
                </a:gs>
                <a:gs pos="100000">
                  <a:srgbClr val="ff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48"/>
            <p:cNvSpPr/>
            <p:nvPr/>
          </p:nvSpPr>
          <p:spPr>
            <a:xfrm>
              <a:off x="4594320" y="2573280"/>
              <a:ext cx="3938400" cy="349200"/>
            </a:xfrm>
            <a:custGeom>
              <a:avLst/>
              <a:gdLst/>
              <a:ahLst/>
              <a:rect l="l" t="t" r="r" b="b"/>
              <a:pathLst>
                <a:path w="686" h="61">
                  <a:moveTo>
                    <a:pt x="516" y="61"/>
                  </a:moveTo>
                  <a:lnTo>
                    <a:pt x="686" y="45"/>
                  </a:lnTo>
                  <a:lnTo>
                    <a:pt x="122" y="0"/>
                  </a:lnTo>
                  <a:lnTo>
                    <a:pt x="0" y="33"/>
                  </a:lnTo>
                  <a:lnTo>
                    <a:pt x="514" y="61"/>
                  </a:lnTo>
                  <a:lnTo>
                    <a:pt x="516" y="61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ff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49"/>
            <p:cNvSpPr/>
            <p:nvPr/>
          </p:nvSpPr>
          <p:spPr>
            <a:xfrm>
              <a:off x="7550280" y="2825640"/>
              <a:ext cx="1044360" cy="803160"/>
            </a:xfrm>
            <a:custGeom>
              <a:avLst/>
              <a:gdLst/>
              <a:ahLst/>
              <a:rect l="l" t="t" r="r" b="b"/>
              <a:pathLst>
                <a:path w="182" h="140">
                  <a:moveTo>
                    <a:pt x="180" y="2"/>
                  </a:moveTo>
                  <a:lnTo>
                    <a:pt x="170" y="0"/>
                  </a:lnTo>
                  <a:lnTo>
                    <a:pt x="0" y="16"/>
                  </a:lnTo>
                  <a:lnTo>
                    <a:pt x="0" y="126"/>
                  </a:lnTo>
                  <a:lnTo>
                    <a:pt x="0" y="128"/>
                  </a:lnTo>
                  <a:lnTo>
                    <a:pt x="178" y="140"/>
                  </a:lnTo>
                  <a:lnTo>
                    <a:pt x="182" y="140"/>
                  </a:lnTo>
                  <a:lnTo>
                    <a:pt x="180" y="2"/>
                  </a:lnTo>
                  <a:close/>
                </a:path>
              </a:pathLst>
            </a:custGeom>
            <a:gradFill rotWithShape="0">
              <a:gsLst>
                <a:gs pos="0">
                  <a:srgbClr val="ff3300"/>
                </a:gs>
                <a:gs pos="100000">
                  <a:srgbClr val="ff66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50"/>
            <p:cNvSpPr/>
            <p:nvPr/>
          </p:nvSpPr>
          <p:spPr>
            <a:xfrm>
              <a:off x="7556400" y="2922480"/>
              <a:ext cx="6480" cy="631800"/>
            </a:xfrm>
            <a:custGeom>
              <a:avLst/>
              <a:gdLst/>
              <a:ahLst/>
              <a:rect l="l" t="t" r="r" b="b"/>
              <a:pathLst>
                <a:path w="4" h="110">
                  <a:moveTo>
                    <a:pt x="0" y="110"/>
                  </a:moveTo>
                  <a:lnTo>
                    <a:pt x="0" y="110"/>
                  </a:lnTo>
                  <a:lnTo>
                    <a:pt x="0" y="0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020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51"/>
            <p:cNvSpPr/>
            <p:nvPr/>
          </p:nvSpPr>
          <p:spPr>
            <a:xfrm>
              <a:off x="4576680" y="3564000"/>
              <a:ext cx="3996000" cy="160200"/>
            </a:xfrm>
            <a:custGeom>
              <a:avLst/>
              <a:gdLst/>
              <a:ahLst/>
              <a:rect l="l" t="t" r="r" b="b"/>
              <a:pathLst>
                <a:path w="696" h="28">
                  <a:moveTo>
                    <a:pt x="0" y="16"/>
                  </a:moveTo>
                  <a:lnTo>
                    <a:pt x="126" y="28"/>
                  </a:lnTo>
                  <a:lnTo>
                    <a:pt x="696" y="12"/>
                  </a:lnTo>
                  <a:lnTo>
                    <a:pt x="518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640000"/>
                </a:gs>
                <a:gs pos="100000">
                  <a:srgbClr val="99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609480" y="2014560"/>
            <a:ext cx="4197600" cy="6480"/>
            <a:chOff x="609480" y="2014560"/>
            <a:chExt cx="4197600" cy="6480"/>
          </a:xfrm>
        </p:grpSpPr>
        <p:sp>
          <p:nvSpPr>
            <p:cNvPr id="613" name="Line 52"/>
            <p:cNvSpPr/>
            <p:nvPr/>
          </p:nvSpPr>
          <p:spPr>
            <a:xfrm>
              <a:off x="609480" y="2014560"/>
              <a:ext cx="4197600" cy="6480"/>
            </a:xfrm>
            <a:prstGeom prst="line">
              <a:avLst/>
            </a:prstGeom>
            <a:ln w="12600">
              <a:solidFill>
                <a:srgbClr val="990000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 txBox="1"/>
            <p:nvPr/>
          </p:nvSpPr>
          <p:spPr>
            <a:xfrm>
              <a:off x="609480" y="2014560"/>
              <a:ext cx="4197600" cy="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5" name="Rectangle 53"/>
          <p:cNvSpPr/>
          <p:nvPr/>
        </p:nvSpPr>
        <p:spPr>
          <a:xfrm>
            <a:off x="533520" y="1658880"/>
            <a:ext cx="3047760" cy="10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9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9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6" name=""/>
          <p:cNvGrpSpPr/>
          <p:nvPr/>
        </p:nvGrpSpPr>
        <p:grpSpPr>
          <a:xfrm>
            <a:off x="609480" y="3106800"/>
            <a:ext cx="4229280" cy="360"/>
            <a:chOff x="609480" y="3106800"/>
            <a:chExt cx="4229280" cy="360"/>
          </a:xfrm>
        </p:grpSpPr>
        <p:sp>
          <p:nvSpPr>
            <p:cNvPr id="617" name="Line 54"/>
            <p:cNvSpPr/>
            <p:nvPr/>
          </p:nvSpPr>
          <p:spPr>
            <a:xfrm>
              <a:off x="609480" y="3106800"/>
              <a:ext cx="4229280" cy="0"/>
            </a:xfrm>
            <a:prstGeom prst="line">
              <a:avLst/>
            </a:prstGeom>
            <a:ln w="12600">
              <a:solidFill>
                <a:srgbClr val="990000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 txBox="1"/>
            <p:nvPr/>
          </p:nvSpPr>
          <p:spPr>
            <a:xfrm>
              <a:off x="609480" y="3106800"/>
              <a:ext cx="4229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9" name="Rectangle 55"/>
          <p:cNvSpPr/>
          <p:nvPr/>
        </p:nvSpPr>
        <p:spPr>
          <a:xfrm>
            <a:off x="533520" y="2749680"/>
            <a:ext cx="30477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9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9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0" name=""/>
          <p:cNvGrpSpPr/>
          <p:nvPr/>
        </p:nvGrpSpPr>
        <p:grpSpPr>
          <a:xfrm>
            <a:off x="609480" y="4262400"/>
            <a:ext cx="4238640" cy="360"/>
            <a:chOff x="609480" y="4262400"/>
            <a:chExt cx="4238640" cy="360"/>
          </a:xfrm>
        </p:grpSpPr>
        <p:sp>
          <p:nvSpPr>
            <p:cNvPr id="621" name="Line 56"/>
            <p:cNvSpPr/>
            <p:nvPr/>
          </p:nvSpPr>
          <p:spPr>
            <a:xfrm>
              <a:off x="609480" y="4262400"/>
              <a:ext cx="4238640" cy="0"/>
            </a:xfrm>
            <a:prstGeom prst="line">
              <a:avLst/>
            </a:prstGeom>
            <a:ln w="12600">
              <a:solidFill>
                <a:srgbClr val="969696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 txBox="1"/>
            <p:nvPr/>
          </p:nvSpPr>
          <p:spPr>
            <a:xfrm>
              <a:off x="609480" y="4262400"/>
              <a:ext cx="4238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3" name="Rectangle 57"/>
          <p:cNvSpPr/>
          <p:nvPr/>
        </p:nvSpPr>
        <p:spPr>
          <a:xfrm>
            <a:off x="533520" y="3905280"/>
            <a:ext cx="30477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000"/>
                            </p:stCondLst>
                            <p:childTnLst>
                              <p:par>
                                <p:cTn id="435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47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9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3500"/>
                            </p:stCondLst>
                            <p:childTnLst>
                              <p:par>
                                <p:cTn id="45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4000"/>
                            </p:stCondLst>
                            <p:childTnLst>
                              <p:par>
                                <p:cTn id="456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8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4500"/>
                            </p:stCondLst>
                            <p:childTnLst>
                              <p:par>
                                <p:cTn id="46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5000"/>
                            </p:stCondLst>
                            <p:childTnLst>
                              <p:par>
                                <p:cTn id="465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7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5500"/>
                            </p:stCondLst>
                            <p:childTnLst>
                              <p:par>
                                <p:cTn id="469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AutoShape 8"/>
          <p:cNvSpPr/>
          <p:nvPr/>
        </p:nvSpPr>
        <p:spPr>
          <a:xfrm>
            <a:off x="2259000" y="1057320"/>
            <a:ext cx="2279520" cy="520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912" y="25683"/>
                </a:moveTo>
                <a:lnTo>
                  <a:pt x="-722" y="4741"/>
                </a:lnTo>
              </a:path>
              <a:path w="21600" h="21600">
                <a:moveTo>
                  <a:pt x="-722" y="0"/>
                </a:moveTo>
                <a:lnTo>
                  <a:pt x="-722" y="21600"/>
                </a:lnTo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46464"/>
                </a:solidFill>
                <a:latin typeface="Arial"/>
                <a:ea typeface="微软雅黑"/>
              </a:rPr>
              <a:t>单击添加段落文字单击添加段落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AutoShape 9"/>
          <p:cNvSpPr/>
          <p:nvPr/>
        </p:nvSpPr>
        <p:spPr>
          <a:xfrm>
            <a:off x="4511520" y="1467000"/>
            <a:ext cx="2279880" cy="520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912" y="25683"/>
                </a:moveTo>
                <a:lnTo>
                  <a:pt x="-722" y="4741"/>
                </a:lnTo>
              </a:path>
              <a:path w="21600" h="21600">
                <a:moveTo>
                  <a:pt x="-722" y="0"/>
                </a:moveTo>
                <a:lnTo>
                  <a:pt x="-722" y="21600"/>
                </a:lnTo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46464"/>
                </a:solidFill>
                <a:latin typeface="Arial"/>
                <a:ea typeface="微软雅黑"/>
              </a:rPr>
              <a:t>单击添加段落文字单击添加段落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AutoShape 10"/>
          <p:cNvSpPr/>
          <p:nvPr/>
        </p:nvSpPr>
        <p:spPr>
          <a:xfrm>
            <a:off x="1297080" y="4311720"/>
            <a:ext cx="2120760" cy="520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9134" y="329"/>
                </a:moveTo>
                <a:lnTo>
                  <a:pt x="22376" y="4741"/>
                </a:lnTo>
              </a:path>
              <a:path w="21600" h="21600">
                <a:moveTo>
                  <a:pt x="22376" y="0"/>
                </a:moveTo>
                <a:lnTo>
                  <a:pt x="22376" y="21600"/>
                </a:lnTo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46464"/>
                </a:solidFill>
                <a:latin typeface="Arial"/>
                <a:ea typeface="微软雅黑"/>
              </a:rPr>
              <a:t>单击添加段落文字单击添加段落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7" name="组合 4"/>
          <p:cNvGrpSpPr/>
          <p:nvPr/>
        </p:nvGrpSpPr>
        <p:grpSpPr>
          <a:xfrm>
            <a:off x="569520" y="1679400"/>
            <a:ext cx="8320320" cy="3799080"/>
            <a:chOff x="569520" y="1679400"/>
            <a:chExt cx="8320320" cy="3799080"/>
          </a:xfrm>
        </p:grpSpPr>
        <p:grpSp>
          <p:nvGrpSpPr>
            <p:cNvPr id="628" name="Group 3"/>
            <p:cNvGrpSpPr/>
            <p:nvPr/>
          </p:nvGrpSpPr>
          <p:grpSpPr>
            <a:xfrm>
              <a:off x="569520" y="1679400"/>
              <a:ext cx="2325960" cy="1158480"/>
              <a:chOff x="569520" y="1679400"/>
              <a:chExt cx="2325960" cy="1158480"/>
            </a:xfrm>
          </p:grpSpPr>
          <p:sp>
            <p:nvSpPr>
              <p:cNvPr id="629" name="未知"/>
              <p:cNvSpPr/>
              <p:nvPr/>
            </p:nvSpPr>
            <p:spPr>
              <a:xfrm>
                <a:off x="672840" y="1679400"/>
                <a:ext cx="2222640" cy="836640"/>
              </a:xfrm>
              <a:custGeom>
                <a:avLst/>
                <a:gdLst/>
                <a:ahLst/>
                <a:rect l="l" t="t" r="r" b="b"/>
                <a:pathLst>
                  <a:path w="1400" h="527">
                    <a:moveTo>
                      <a:pt x="0" y="108"/>
                    </a:moveTo>
                    <a:lnTo>
                      <a:pt x="837" y="527"/>
                    </a:lnTo>
                    <a:lnTo>
                      <a:pt x="1400" y="332"/>
                    </a:lnTo>
                    <a:lnTo>
                      <a:pt x="281" y="0"/>
                    </a:lnTo>
                    <a:lnTo>
                      <a:pt x="0" y="1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ddddd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AutoShape 5"/>
              <p:cNvSpPr/>
              <p:nvPr/>
            </p:nvSpPr>
            <p:spPr>
              <a:xfrm rot="12420000">
                <a:off x="539640" y="2282040"/>
                <a:ext cx="1495440" cy="228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0" y="21600"/>
                    </a:lnTo>
                    <a:lnTo>
                      <a:pt x="216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5f5f">
                      <a:alpha val="0"/>
                    </a:srgbClr>
                  </a:gs>
                  <a:gs pos="100000">
                    <a:srgbClr val="dddddd"/>
                  </a:gs>
                </a:gsLst>
                <a:lin ang="1458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1" name="组合 6"/>
            <p:cNvGrpSpPr/>
            <p:nvPr/>
          </p:nvGrpSpPr>
          <p:grpSpPr>
            <a:xfrm>
              <a:off x="2062080" y="1761840"/>
              <a:ext cx="2724120" cy="1720800"/>
              <a:chOff x="2062080" y="1761840"/>
              <a:chExt cx="2724120" cy="1720800"/>
            </a:xfrm>
          </p:grpSpPr>
          <p:sp>
            <p:nvSpPr>
              <p:cNvPr id="632" name="未知"/>
              <p:cNvSpPr/>
              <p:nvPr/>
            </p:nvSpPr>
            <p:spPr>
              <a:xfrm>
                <a:off x="2062080" y="2395080"/>
                <a:ext cx="2600280" cy="1087560"/>
              </a:xfrm>
              <a:custGeom>
                <a:avLst/>
                <a:gdLst/>
                <a:ahLst/>
                <a:rect l="l" t="t" r="r" b="b"/>
                <a:pathLst>
                  <a:path w="1698" h="710">
                    <a:moveTo>
                      <a:pt x="1002" y="710"/>
                    </a:moveTo>
                    <a:lnTo>
                      <a:pt x="1698" y="366"/>
                    </a:lnTo>
                    <a:lnTo>
                      <a:pt x="591" y="0"/>
                    </a:lnTo>
                    <a:lnTo>
                      <a:pt x="0" y="202"/>
                    </a:lnTo>
                    <a:lnTo>
                      <a:pt x="1002" y="710"/>
                    </a:lnTo>
                    <a:close/>
                  </a:path>
                </a:pathLst>
              </a:custGeom>
              <a:solidFill>
                <a:srgbClr val="c0c0c0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未知"/>
              <p:cNvSpPr/>
              <p:nvPr/>
            </p:nvSpPr>
            <p:spPr>
              <a:xfrm>
                <a:off x="2185920" y="1761840"/>
                <a:ext cx="2600280" cy="1087560"/>
              </a:xfrm>
              <a:custGeom>
                <a:avLst/>
                <a:gdLst/>
                <a:ahLst/>
                <a:rect l="l" t="t" r="r" b="b"/>
                <a:pathLst>
                  <a:path w="1698" h="710">
                    <a:moveTo>
                      <a:pt x="1002" y="710"/>
                    </a:moveTo>
                    <a:lnTo>
                      <a:pt x="1698" y="366"/>
                    </a:lnTo>
                    <a:lnTo>
                      <a:pt x="591" y="0"/>
                    </a:lnTo>
                    <a:lnTo>
                      <a:pt x="0" y="202"/>
                    </a:lnTo>
                    <a:lnTo>
                      <a:pt x="1002" y="71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3300"/>
                  </a:gs>
                  <a:gs pos="100000">
                    <a:srgbClr val="9900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4" name="组合 7"/>
            <p:cNvGrpSpPr/>
            <p:nvPr/>
          </p:nvGrpSpPr>
          <p:grpSpPr>
            <a:xfrm>
              <a:off x="3580920" y="2838240"/>
              <a:ext cx="5308920" cy="2640240"/>
              <a:chOff x="3580920" y="2838240"/>
              <a:chExt cx="5308920" cy="2640240"/>
            </a:xfrm>
          </p:grpSpPr>
          <p:sp>
            <p:nvSpPr>
              <p:cNvPr id="635" name="AutoShape 11"/>
              <p:cNvSpPr/>
              <p:nvPr/>
            </p:nvSpPr>
            <p:spPr>
              <a:xfrm rot="12420000">
                <a:off x="3525120" y="3925440"/>
                <a:ext cx="1967040" cy="228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0" y="21600"/>
                    </a:lnTo>
                    <a:lnTo>
                      <a:pt x="216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5f5f">
                      <a:alpha val="0"/>
                    </a:srgbClr>
                  </a:gs>
                  <a:gs pos="100000">
                    <a:srgbClr val="c0c0c0"/>
                  </a:gs>
                </a:gsLst>
                <a:lin ang="1458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未知"/>
              <p:cNvSpPr/>
              <p:nvPr/>
            </p:nvSpPr>
            <p:spPr>
              <a:xfrm>
                <a:off x="3674520" y="2838240"/>
                <a:ext cx="5212080" cy="2203920"/>
              </a:xfrm>
              <a:custGeom>
                <a:avLst/>
                <a:gdLst/>
                <a:ahLst/>
                <a:rect l="l" t="t" r="r" b="b"/>
                <a:pathLst>
                  <a:path w="3283" h="1388">
                    <a:moveTo>
                      <a:pt x="0" y="332"/>
                    </a:moveTo>
                    <a:lnTo>
                      <a:pt x="1065" y="869"/>
                    </a:lnTo>
                    <a:lnTo>
                      <a:pt x="177" y="1388"/>
                    </a:lnTo>
                    <a:lnTo>
                      <a:pt x="3283" y="1388"/>
                    </a:lnTo>
                    <a:lnTo>
                      <a:pt x="2529" y="96"/>
                    </a:lnTo>
                    <a:lnTo>
                      <a:pt x="1981" y="414"/>
                    </a:lnTo>
                    <a:lnTo>
                      <a:pt x="685" y="0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c0c0c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AutoShape 13"/>
              <p:cNvSpPr/>
              <p:nvPr/>
            </p:nvSpPr>
            <p:spPr>
              <a:xfrm rot="10800000">
                <a:off x="3949200" y="5159520"/>
                <a:ext cx="4940640" cy="318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0" y="21600"/>
                    </a:lnTo>
                    <a:lnTo>
                      <a:pt x="216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5f5f">
                      <a:alpha val="0"/>
                    </a:srgbClr>
                  </a:gs>
                  <a:gs pos="100000">
                    <a:srgbClr val="c0c0c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 advTm="5000">
    <p:fade/>
  </p:transition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0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500"/>
                            </p:stCondLst>
                            <p:childTnLst>
                              <p:par>
                                <p:cTn id="481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500"/>
                            </p:stCondLst>
                            <p:childTnLst>
                              <p:par>
                                <p:cTn id="487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2500"/>
                            </p:stCondLst>
                            <p:childTnLst>
                              <p:par>
                                <p:cTn id="49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矩形 1"/>
          <p:cNvSpPr/>
          <p:nvPr/>
        </p:nvSpPr>
        <p:spPr>
          <a:xfrm>
            <a:off x="9360" y="2460600"/>
            <a:ext cx="4284720" cy="212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矩形 2"/>
          <p:cNvSpPr/>
          <p:nvPr/>
        </p:nvSpPr>
        <p:spPr>
          <a:xfrm flipV="1">
            <a:off x="-26640" y="3349800"/>
            <a:ext cx="1863720" cy="212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0" name="组合 3"/>
          <p:cNvGrpSpPr/>
          <p:nvPr/>
        </p:nvGrpSpPr>
        <p:grpSpPr>
          <a:xfrm>
            <a:off x="899640" y="3349800"/>
            <a:ext cx="1871640" cy="1846080"/>
            <a:chOff x="899640" y="3349800"/>
            <a:chExt cx="1871640" cy="1846080"/>
          </a:xfrm>
        </p:grpSpPr>
        <p:sp>
          <p:nvSpPr>
            <p:cNvPr id="641" name="椭圆 4"/>
            <p:cNvSpPr/>
            <p:nvPr/>
          </p:nvSpPr>
          <p:spPr>
            <a:xfrm>
              <a:off x="1099800" y="3546720"/>
              <a:ext cx="1472040" cy="14518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9215"/>
                  </a:srgbClr>
                </a:gs>
                <a:gs pos="100000">
                  <a:srgbClr val="7f7f7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同心圆 5"/>
            <p:cNvSpPr/>
            <p:nvPr/>
          </p:nvSpPr>
          <p:spPr>
            <a:xfrm rot="10800000">
              <a:off x="899640" y="3349800"/>
              <a:ext cx="1871640" cy="1846080"/>
            </a:xfrm>
            <a:custGeom>
              <a:avLst/>
              <a:gdLst/>
              <a:ahLst/>
              <a:rect l="l" t="t" r="r" b="b"/>
              <a:pathLst>
                <a:path w="1423818" h="1404156">
                  <a:moveTo>
                    <a:pt x="0" y="702078"/>
                  </a:moveTo>
                  <a:cubicBezTo>
                    <a:pt x="0" y="314331"/>
                    <a:pt x="318733" y="0"/>
                    <a:pt x="711909" y="0"/>
                  </a:cubicBezTo>
                  <a:cubicBezTo>
                    <a:pt x="1105085" y="0"/>
                    <a:pt x="1423818" y="314331"/>
                    <a:pt x="1423818" y="702078"/>
                  </a:cubicBezTo>
                  <a:cubicBezTo>
                    <a:pt x="1423818" y="1089825"/>
                    <a:pt x="1105085" y="1404156"/>
                    <a:pt x="711909" y="1404156"/>
                  </a:cubicBezTo>
                  <a:cubicBezTo>
                    <a:pt x="318733" y="1404156"/>
                    <a:pt x="0" y="1089825"/>
                    <a:pt x="0" y="702078"/>
                  </a:cubicBezTo>
                  <a:close/>
                  <a:moveTo>
                    <a:pt x="194447" y="702078"/>
                  </a:moveTo>
                  <a:cubicBezTo>
                    <a:pt x="194447" y="982434"/>
                    <a:pt x="426122" y="1209708"/>
                    <a:pt x="711908" y="1209708"/>
                  </a:cubicBezTo>
                  <a:cubicBezTo>
                    <a:pt x="997694" y="1209708"/>
                    <a:pt x="1229369" y="982434"/>
                    <a:pt x="1229369" y="702078"/>
                  </a:cubicBezTo>
                  <a:cubicBezTo>
                    <a:pt x="1229369" y="421722"/>
                    <a:pt x="997694" y="194448"/>
                    <a:pt x="711908" y="194448"/>
                  </a:cubicBezTo>
                  <a:cubicBezTo>
                    <a:pt x="426122" y="194448"/>
                    <a:pt x="194447" y="421722"/>
                    <a:pt x="194447" y="702078"/>
                  </a:cubicBezTo>
                  <a:close/>
                </a:path>
              </a:pathLst>
            </a:custGeom>
            <a:gradFill rotWithShape="0">
              <a:gsLst>
                <a:gs pos="0">
                  <a:srgbClr val="2d2d8a"/>
                </a:gs>
                <a:gs pos="100000">
                  <a:srgbClr val="ffc00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3" name="矩形 6"/>
          <p:cNvSpPr/>
          <p:nvPr/>
        </p:nvSpPr>
        <p:spPr>
          <a:xfrm>
            <a:off x="-9360" y="2921040"/>
            <a:ext cx="6881760" cy="2127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4" name="组合 7"/>
          <p:cNvGrpSpPr/>
          <p:nvPr/>
        </p:nvGrpSpPr>
        <p:grpSpPr>
          <a:xfrm>
            <a:off x="6078600" y="3150360"/>
            <a:ext cx="1416600" cy="1396080"/>
            <a:chOff x="6078600" y="3150360"/>
            <a:chExt cx="1416600" cy="1396080"/>
          </a:xfrm>
        </p:grpSpPr>
        <p:grpSp>
          <p:nvGrpSpPr>
            <p:cNvPr id="645" name="组合 8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646" name="椭圆 9"/>
            <p:cNvSpPr/>
            <p:nvPr/>
          </p:nvSpPr>
          <p:spPr>
            <a:xfrm>
              <a:off x="6078600" y="3150360"/>
              <a:ext cx="1416600" cy="13960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9215"/>
                  </a:srgbClr>
                </a:gs>
                <a:gs pos="100000">
                  <a:srgbClr val="7f7f7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7" name="组合 12"/>
          <p:cNvGrpSpPr/>
          <p:nvPr/>
        </p:nvGrpSpPr>
        <p:grpSpPr>
          <a:xfrm>
            <a:off x="3348000" y="841320"/>
            <a:ext cx="1871640" cy="1846440"/>
            <a:chOff x="3348000" y="841320"/>
            <a:chExt cx="1871640" cy="1846440"/>
          </a:xfrm>
        </p:grpSpPr>
        <p:sp>
          <p:nvSpPr>
            <p:cNvPr id="648" name="椭圆 13"/>
            <p:cNvSpPr/>
            <p:nvPr/>
          </p:nvSpPr>
          <p:spPr>
            <a:xfrm>
              <a:off x="3607200" y="1080360"/>
              <a:ext cx="1367640" cy="1349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9215"/>
                  </a:srgbClr>
                </a:gs>
                <a:gs pos="100000">
                  <a:srgbClr val="7f7f7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0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椭圆 14"/>
            <p:cNvSpPr/>
            <p:nvPr/>
          </p:nvSpPr>
          <p:spPr>
            <a:xfrm>
              <a:off x="3578400" y="1076400"/>
              <a:ext cx="1391400" cy="13726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9215"/>
                  </a:srgbClr>
                </a:gs>
                <a:gs pos="100000">
                  <a:srgbClr val="7f7f7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同心圆 15"/>
            <p:cNvSpPr/>
            <p:nvPr/>
          </p:nvSpPr>
          <p:spPr>
            <a:xfrm>
              <a:off x="3348000" y="841320"/>
              <a:ext cx="1871640" cy="1846440"/>
            </a:xfrm>
            <a:custGeom>
              <a:avLst/>
              <a:gdLst/>
              <a:ahLst/>
              <a:rect l="l" t="t" r="r" b="b"/>
              <a:pathLst>
                <a:path w="1423818" h="1404156">
                  <a:moveTo>
                    <a:pt x="0" y="702078"/>
                  </a:moveTo>
                  <a:cubicBezTo>
                    <a:pt x="0" y="314331"/>
                    <a:pt x="318733" y="0"/>
                    <a:pt x="711909" y="0"/>
                  </a:cubicBezTo>
                  <a:cubicBezTo>
                    <a:pt x="1105085" y="0"/>
                    <a:pt x="1423818" y="314331"/>
                    <a:pt x="1423818" y="702078"/>
                  </a:cubicBezTo>
                  <a:cubicBezTo>
                    <a:pt x="1423818" y="1089825"/>
                    <a:pt x="1105085" y="1404156"/>
                    <a:pt x="711909" y="1404156"/>
                  </a:cubicBezTo>
                  <a:cubicBezTo>
                    <a:pt x="318733" y="1404156"/>
                    <a:pt x="0" y="1089825"/>
                    <a:pt x="0" y="702078"/>
                  </a:cubicBezTo>
                  <a:close/>
                  <a:moveTo>
                    <a:pt x="194447" y="702078"/>
                  </a:moveTo>
                  <a:cubicBezTo>
                    <a:pt x="194447" y="982434"/>
                    <a:pt x="426122" y="1209708"/>
                    <a:pt x="711908" y="1209708"/>
                  </a:cubicBezTo>
                  <a:cubicBezTo>
                    <a:pt x="997694" y="1209708"/>
                    <a:pt x="1229369" y="982434"/>
                    <a:pt x="1229369" y="702078"/>
                  </a:cubicBezTo>
                  <a:cubicBezTo>
                    <a:pt x="1229369" y="421722"/>
                    <a:pt x="997694" y="194448"/>
                    <a:pt x="711908" y="194448"/>
                  </a:cubicBezTo>
                  <a:cubicBezTo>
                    <a:pt x="426122" y="194448"/>
                    <a:pt x="194447" y="421722"/>
                    <a:pt x="194447" y="702078"/>
                  </a:cubicBezTo>
                  <a:close/>
                </a:path>
              </a:pathLst>
            </a:custGeom>
            <a:gradFill rotWithShape="0">
              <a:gsLst>
                <a:gs pos="0">
                  <a:srgbClr val="2d2d8a"/>
                </a:gs>
                <a:gs pos="100000">
                  <a:srgbClr val="ffc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1" name="TextBox 16"/>
          <p:cNvSpPr/>
          <p:nvPr/>
        </p:nvSpPr>
        <p:spPr>
          <a:xfrm>
            <a:off x="5722200" y="1536840"/>
            <a:ext cx="13921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67"/>
                </a:solidFill>
                <a:latin typeface="微软雅黑"/>
                <a:ea typeface="微软雅黑"/>
              </a:rPr>
              <a:t>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此处添加文字具体内容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此处添加文字具体内容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Box 17"/>
          <p:cNvSpPr/>
          <p:nvPr/>
        </p:nvSpPr>
        <p:spPr>
          <a:xfrm>
            <a:off x="3263040" y="3825720"/>
            <a:ext cx="13921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67"/>
                </a:solidFill>
                <a:latin typeface="微软雅黑"/>
                <a:ea typeface="微软雅黑"/>
              </a:rPr>
              <a:t>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此处添加文字具体内容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此处添加文字具体内容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Box 18"/>
          <p:cNvSpPr/>
          <p:nvPr/>
        </p:nvSpPr>
        <p:spPr>
          <a:xfrm>
            <a:off x="6221160" y="4729320"/>
            <a:ext cx="13921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微软雅黑"/>
                <a:ea typeface="微软雅黑"/>
              </a:rPr>
              <a:t>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此处添加文字具体内容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此处添加文字具体内容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0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500"/>
                            </p:stCondLst>
                            <p:childTnLst>
                              <p:par>
                                <p:cTn id="50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000"/>
                            </p:stCondLst>
                            <p:childTnLst>
                              <p:par>
                                <p:cTn id="510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500"/>
                            </p:stCondLst>
                            <p:childTnLst>
                              <p:par>
                                <p:cTn id="51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2000"/>
                            </p:stCondLst>
                            <p:childTnLst>
                              <p:par>
                                <p:cTn id="52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2500"/>
                            </p:stCondLst>
                            <p:childTnLst>
                              <p:par>
                                <p:cTn id="52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3000"/>
                            </p:stCondLst>
                            <p:childTnLst>
                              <p:par>
                                <p:cTn id="53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3500"/>
                            </p:stCondLst>
                            <p:childTnLst>
                              <p:par>
                                <p:cTn id="53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4000"/>
                            </p:stCondLst>
                            <p:childTnLst>
                              <p:par>
                                <p:cTn id="53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组合 1"/>
          <p:cNvGrpSpPr/>
          <p:nvPr/>
        </p:nvGrpSpPr>
        <p:grpSpPr>
          <a:xfrm>
            <a:off x="1967040" y="1440000"/>
            <a:ext cx="5163840" cy="3742920"/>
            <a:chOff x="1967040" y="1440000"/>
            <a:chExt cx="5163840" cy="3742920"/>
          </a:xfrm>
        </p:grpSpPr>
        <p:sp>
          <p:nvSpPr>
            <p:cNvPr id="655" name="AutoShape 2"/>
            <p:cNvSpPr/>
            <p:nvPr/>
          </p:nvSpPr>
          <p:spPr>
            <a:xfrm>
              <a:off x="1967040" y="1569960"/>
              <a:ext cx="5163840" cy="3495960"/>
            </a:xfrm>
            <a:prstGeom prst="roundRect">
              <a:avLst>
                <a:gd name="adj" fmla="val 9694"/>
              </a:avLst>
            </a:prstGeom>
            <a:noFill/>
            <a:ln w="19080">
              <a:solidFill>
                <a:srgbClr val="0e58c4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AutoShape 51"/>
            <p:cNvSpPr/>
            <p:nvPr/>
          </p:nvSpPr>
          <p:spPr>
            <a:xfrm rot="16200000">
              <a:off x="4483080" y="4906800"/>
              <a:ext cx="245880" cy="306360"/>
            </a:xfrm>
            <a:prstGeom prst="triangle">
              <a:avLst>
                <a:gd name="adj" fmla="val 50000"/>
              </a:avLst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AutoShape 52"/>
            <p:cNvSpPr/>
            <p:nvPr/>
          </p:nvSpPr>
          <p:spPr>
            <a:xfrm rot="5400000">
              <a:off x="6553080" y="1409760"/>
              <a:ext cx="245880" cy="306360"/>
            </a:xfrm>
            <a:prstGeom prst="triangle">
              <a:avLst>
                <a:gd name="adj" fmla="val 50000"/>
              </a:avLst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AutoShape 52"/>
            <p:cNvSpPr/>
            <p:nvPr/>
          </p:nvSpPr>
          <p:spPr>
            <a:xfrm rot="5400000">
              <a:off x="2334960" y="1409760"/>
              <a:ext cx="245880" cy="306360"/>
            </a:xfrm>
            <a:prstGeom prst="triangle">
              <a:avLst>
                <a:gd name="adj" fmla="val 50000"/>
              </a:avLst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9" name="组合 6"/>
          <p:cNvGrpSpPr/>
          <p:nvPr/>
        </p:nvGrpSpPr>
        <p:grpSpPr>
          <a:xfrm>
            <a:off x="2895480" y="611640"/>
            <a:ext cx="3178440" cy="1391760"/>
            <a:chOff x="2895480" y="611640"/>
            <a:chExt cx="3178440" cy="1391760"/>
          </a:xfrm>
        </p:grpSpPr>
        <p:pic>
          <p:nvPicPr>
            <p:cNvPr id="660" name="Picture 8" descr="阴影5"/>
            <p:cNvPicPr/>
            <p:nvPr/>
          </p:nvPicPr>
          <p:blipFill>
            <a:blip r:embed="rId1"/>
            <a:stretch/>
          </p:blipFill>
          <p:spPr>
            <a:xfrm>
              <a:off x="2895480" y="1836720"/>
              <a:ext cx="3178440" cy="1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1" name="AutoShape 9"/>
            <p:cNvSpPr/>
            <p:nvPr/>
          </p:nvSpPr>
          <p:spPr>
            <a:xfrm>
              <a:off x="2917440" y="1135080"/>
              <a:ext cx="3099240" cy="797040"/>
            </a:xfrm>
            <a:prstGeom prst="roundRect">
              <a:avLst>
                <a:gd name="adj" fmla="val 563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文字内容   单击此处添加文字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文字内容   单击此处添加文字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Oval 8"/>
            <p:cNvSpPr/>
            <p:nvPr/>
          </p:nvSpPr>
          <p:spPr>
            <a:xfrm>
              <a:off x="3033360" y="1076040"/>
              <a:ext cx="569880" cy="2761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0000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Arc 9"/>
            <p:cNvSpPr/>
            <p:nvPr/>
          </p:nvSpPr>
          <p:spPr>
            <a:xfrm>
              <a:off x="3044520" y="958680"/>
              <a:ext cx="550800" cy="303120"/>
            </a:xfrm>
            <a:custGeom>
              <a:avLst/>
              <a:gdLst/>
              <a:ahLst/>
              <a:rect l="l" t="t" r="r" b="b"/>
              <a:pathLst>
                <a:path fill="none" w="43195" h="23732">
                  <a:moveTo>
                    <a:pt x="43194" y="2602"/>
                  </a:moveTo>
                  <a:cubicBezTo>
                    <a:pt x="42938" y="14346"/>
                    <a:pt x="33345" y="23731"/>
                    <a:pt x="21600" y="23732"/>
                  </a:cubicBezTo>
                  <a:cubicBezTo>
                    <a:pt x="9670" y="23732"/>
                    <a:pt x="0" y="14061"/>
                    <a:pt x="0" y="2132"/>
                  </a:cubicBezTo>
                  <a:cubicBezTo>
                    <a:pt x="-1" y="1420"/>
                    <a:pt x="35" y="708"/>
                    <a:pt x="105" y="0"/>
                  </a:cubicBezTo>
                </a:path>
                <a:path stroke="0" w="43195" h="23732">
                  <a:moveTo>
                    <a:pt x="43194" y="2602"/>
                  </a:moveTo>
                  <a:cubicBezTo>
                    <a:pt x="42938" y="14346"/>
                    <a:pt x="33345" y="23731"/>
                    <a:pt x="21600" y="23732"/>
                  </a:cubicBezTo>
                  <a:cubicBezTo>
                    <a:pt x="9670" y="23732"/>
                    <a:pt x="0" y="14061"/>
                    <a:pt x="0" y="2132"/>
                  </a:cubicBezTo>
                  <a:cubicBezTo>
                    <a:pt x="-1" y="1420"/>
                    <a:pt x="35" y="708"/>
                    <a:pt x="105" y="0"/>
                  </a:cubicBezTo>
                  <a:lnTo>
                    <a:pt x="21600" y="2132"/>
                  </a:lnTo>
                  <a:lnTo>
                    <a:pt x="43194" y="2602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Oval 10"/>
            <p:cNvSpPr/>
            <p:nvPr/>
          </p:nvSpPr>
          <p:spPr>
            <a:xfrm>
              <a:off x="3033360" y="846000"/>
              <a:ext cx="569880" cy="27756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5" name="Group 10"/>
            <p:cNvGrpSpPr/>
            <p:nvPr/>
          </p:nvGrpSpPr>
          <p:grpSpPr>
            <a:xfrm>
              <a:off x="3256920" y="611640"/>
              <a:ext cx="128520" cy="369360"/>
              <a:chOff x="3256920" y="611640"/>
              <a:chExt cx="128520" cy="369360"/>
            </a:xfrm>
          </p:grpSpPr>
          <p:grpSp>
            <p:nvGrpSpPr>
              <p:cNvPr id="666" name="Group 11"/>
              <p:cNvGrpSpPr/>
              <p:nvPr/>
            </p:nvGrpSpPr>
            <p:grpSpPr>
              <a:xfrm>
                <a:off x="3286800" y="779040"/>
                <a:ext cx="68400" cy="201960"/>
                <a:chOff x="3286800" y="779040"/>
                <a:chExt cx="68400" cy="201960"/>
              </a:xfrm>
            </p:grpSpPr>
            <p:sp>
              <p:nvSpPr>
                <p:cNvPr id="667" name="AutoShape 13"/>
                <p:cNvSpPr/>
                <p:nvPr/>
              </p:nvSpPr>
              <p:spPr>
                <a:xfrm rot="5400000">
                  <a:off x="3200760" y="864720"/>
                  <a:ext cx="201960" cy="302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AutoShape 14"/>
                <p:cNvSpPr/>
                <p:nvPr/>
              </p:nvSpPr>
              <p:spPr>
                <a:xfrm rot="5400000">
                  <a:off x="3238920" y="864720"/>
                  <a:ext cx="201960" cy="302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9" name="AutoShape 15"/>
              <p:cNvSpPr/>
              <p:nvPr/>
            </p:nvSpPr>
            <p:spPr>
              <a:xfrm rot="10800000">
                <a:off x="3256920" y="703080"/>
                <a:ext cx="128520" cy="129240"/>
              </a:xfrm>
              <a:custGeom>
                <a:avLst/>
                <a:gdLst>
                  <a:gd name="textAreaLeft" fmla="*/ 6120 w 128520"/>
                  <a:gd name="textAreaRight" fmla="*/ 122400 w 128520"/>
                  <a:gd name="textAreaTop" fmla="*/ 6120 h 129240"/>
                  <a:gd name="textAreaBottom" fmla="*/ 123120 h 129240"/>
                </a:gdLst>
                <a:ahLst/>
                <a:rect l="textAreaLeft" t="textAreaTop" r="textAreaRight" b="textAreaBottom"/>
                <a:pathLst>
                  <a:path w="21600" h="21721">
                    <a:moveTo>
                      <a:pt x="3600" y="0"/>
                    </a:moveTo>
                    <a:arcTo wR="3600" hR="3600" stAng="16200000" swAng="-5400000"/>
                    <a:lnTo>
                      <a:pt x="0" y="18121"/>
                    </a:lnTo>
                    <a:arcTo wR="3600" hR="3600" stAng="10800000" swAng="-5400000"/>
                    <a:lnTo>
                      <a:pt x="18000" y="2172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AutoShape 16"/>
              <p:cNvSpPr/>
              <p:nvPr/>
            </p:nvSpPr>
            <p:spPr>
              <a:xfrm rot="8100000">
                <a:off x="3288240" y="625320"/>
                <a:ext cx="66240" cy="66960"/>
              </a:xfrm>
              <a:custGeom>
                <a:avLst/>
                <a:gdLst>
                  <a:gd name="textAreaLeft" fmla="*/ 9720 w 66240"/>
                  <a:gd name="textAreaRight" fmla="*/ 56520 w 66240"/>
                  <a:gd name="textAreaTop" fmla="*/ 9720 h 66960"/>
                  <a:gd name="textAreaBottom" fmla="*/ 57240 h 66960"/>
                </a:gdLst>
                <a:ahLst/>
                <a:rect l="textAreaLeft" t="textAreaTop" r="textAreaRight" b="textAreaBottom"/>
                <a:pathLst>
                  <a:path w="21600" h="21834">
                    <a:moveTo>
                      <a:pt x="10800" y="0"/>
                    </a:moveTo>
                    <a:arcTo wR="10800" hR="10800" stAng="16200000" swAng="-5400000"/>
                    <a:lnTo>
                      <a:pt x="0" y="11034"/>
                    </a:lnTo>
                    <a:arcTo wR="10800" hR="10800" stAng="10800000" swAng="-5400000"/>
                    <a:lnTo>
                      <a:pt x="10800" y="21834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1" name="AutoShape 19"/>
            <p:cNvSpPr/>
            <p:nvPr/>
          </p:nvSpPr>
          <p:spPr>
            <a:xfrm>
              <a:off x="3763800" y="925200"/>
              <a:ext cx="1987920" cy="299880"/>
            </a:xfrm>
            <a:prstGeom prst="roundRect">
              <a:avLst>
                <a:gd name="adj" fmla="val 5630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2" name="组合 19"/>
          <p:cNvGrpSpPr/>
          <p:nvPr/>
        </p:nvGrpSpPr>
        <p:grpSpPr>
          <a:xfrm>
            <a:off x="1012680" y="1891440"/>
            <a:ext cx="3098880" cy="1320120"/>
            <a:chOff x="1012680" y="1891440"/>
            <a:chExt cx="3098880" cy="1320120"/>
          </a:xfrm>
        </p:grpSpPr>
        <p:sp>
          <p:nvSpPr>
            <p:cNvPr id="673" name="AutoShape 22"/>
            <p:cNvSpPr/>
            <p:nvPr/>
          </p:nvSpPr>
          <p:spPr>
            <a:xfrm>
              <a:off x="1012680" y="2414520"/>
              <a:ext cx="3098880" cy="797040"/>
            </a:xfrm>
            <a:prstGeom prst="roundRect">
              <a:avLst>
                <a:gd name="adj" fmla="val 563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文字内容   单击此处添加文字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文字内容   单击此处添加文字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Oval 8"/>
            <p:cNvSpPr/>
            <p:nvPr/>
          </p:nvSpPr>
          <p:spPr>
            <a:xfrm>
              <a:off x="1128240" y="2355840"/>
              <a:ext cx="569880" cy="2761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0000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Arc 9"/>
            <p:cNvSpPr/>
            <p:nvPr/>
          </p:nvSpPr>
          <p:spPr>
            <a:xfrm>
              <a:off x="1139400" y="2238480"/>
              <a:ext cx="550800" cy="303120"/>
            </a:xfrm>
            <a:custGeom>
              <a:avLst/>
              <a:gdLst/>
              <a:ahLst/>
              <a:rect l="l" t="t" r="r" b="b"/>
              <a:pathLst>
                <a:path fill="none" w="43195" h="23732">
                  <a:moveTo>
                    <a:pt x="43194" y="2602"/>
                  </a:moveTo>
                  <a:cubicBezTo>
                    <a:pt x="42938" y="14346"/>
                    <a:pt x="33345" y="23731"/>
                    <a:pt x="21600" y="23732"/>
                  </a:cubicBezTo>
                  <a:cubicBezTo>
                    <a:pt x="9670" y="23732"/>
                    <a:pt x="0" y="14061"/>
                    <a:pt x="0" y="2132"/>
                  </a:cubicBezTo>
                  <a:cubicBezTo>
                    <a:pt x="-1" y="1420"/>
                    <a:pt x="35" y="708"/>
                    <a:pt x="105" y="0"/>
                  </a:cubicBezTo>
                </a:path>
                <a:path stroke="0" w="43195" h="23732">
                  <a:moveTo>
                    <a:pt x="43194" y="2602"/>
                  </a:moveTo>
                  <a:cubicBezTo>
                    <a:pt x="42938" y="14346"/>
                    <a:pt x="33345" y="23731"/>
                    <a:pt x="21600" y="23732"/>
                  </a:cubicBezTo>
                  <a:cubicBezTo>
                    <a:pt x="9670" y="23732"/>
                    <a:pt x="0" y="14061"/>
                    <a:pt x="0" y="2132"/>
                  </a:cubicBezTo>
                  <a:cubicBezTo>
                    <a:pt x="-1" y="1420"/>
                    <a:pt x="35" y="708"/>
                    <a:pt x="105" y="0"/>
                  </a:cubicBezTo>
                  <a:lnTo>
                    <a:pt x="21600" y="2132"/>
                  </a:lnTo>
                  <a:lnTo>
                    <a:pt x="43194" y="2602"/>
                  </a:lnTo>
                  <a:close/>
                </a:path>
              </a:pathLst>
            </a:custGeom>
            <a:gradFill rotWithShape="0">
              <a:gsLst>
                <a:gs pos="0">
                  <a:srgbClr val="640000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Oval 10"/>
            <p:cNvSpPr/>
            <p:nvPr/>
          </p:nvSpPr>
          <p:spPr>
            <a:xfrm>
              <a:off x="1128240" y="2125800"/>
              <a:ext cx="569880" cy="27756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99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7" name="Group 22"/>
            <p:cNvGrpSpPr/>
            <p:nvPr/>
          </p:nvGrpSpPr>
          <p:grpSpPr>
            <a:xfrm>
              <a:off x="1351800" y="1891440"/>
              <a:ext cx="128520" cy="368640"/>
              <a:chOff x="1351800" y="1891440"/>
              <a:chExt cx="128520" cy="368640"/>
            </a:xfrm>
          </p:grpSpPr>
          <p:grpSp>
            <p:nvGrpSpPr>
              <p:cNvPr id="678" name="Group 23"/>
              <p:cNvGrpSpPr/>
              <p:nvPr/>
            </p:nvGrpSpPr>
            <p:grpSpPr>
              <a:xfrm>
                <a:off x="1381680" y="2058480"/>
                <a:ext cx="68400" cy="201600"/>
                <a:chOff x="1381680" y="2058480"/>
                <a:chExt cx="68400" cy="201600"/>
              </a:xfrm>
            </p:grpSpPr>
            <p:sp>
              <p:nvSpPr>
                <p:cNvPr id="679" name="AutoShape 13"/>
                <p:cNvSpPr/>
                <p:nvPr/>
              </p:nvSpPr>
              <p:spPr>
                <a:xfrm rot="5400000">
                  <a:off x="1296000" y="2144160"/>
                  <a:ext cx="201600" cy="302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AutoShape 14"/>
                <p:cNvSpPr/>
                <p:nvPr/>
              </p:nvSpPr>
              <p:spPr>
                <a:xfrm rot="5400000">
                  <a:off x="1334160" y="2144160"/>
                  <a:ext cx="201600" cy="302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1" name="AutoShape 15"/>
              <p:cNvSpPr/>
              <p:nvPr/>
            </p:nvSpPr>
            <p:spPr>
              <a:xfrm rot="10800000">
                <a:off x="1351800" y="1982880"/>
                <a:ext cx="128520" cy="129240"/>
              </a:xfrm>
              <a:custGeom>
                <a:avLst/>
                <a:gdLst>
                  <a:gd name="textAreaLeft" fmla="*/ 6120 w 128520"/>
                  <a:gd name="textAreaRight" fmla="*/ 122400 w 128520"/>
                  <a:gd name="textAreaTop" fmla="*/ 6120 h 129240"/>
                  <a:gd name="textAreaBottom" fmla="*/ 123120 h 129240"/>
                </a:gdLst>
                <a:ahLst/>
                <a:rect l="textAreaLeft" t="textAreaTop" r="textAreaRight" b="textAreaBottom"/>
                <a:pathLst>
                  <a:path w="21600" h="21721">
                    <a:moveTo>
                      <a:pt x="3600" y="0"/>
                    </a:moveTo>
                    <a:arcTo wR="3600" hR="3600" stAng="16200000" swAng="-5400000"/>
                    <a:lnTo>
                      <a:pt x="0" y="18121"/>
                    </a:lnTo>
                    <a:arcTo wR="3600" hR="3600" stAng="10800000" swAng="-5400000"/>
                    <a:lnTo>
                      <a:pt x="18000" y="2172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AutoShape 16"/>
              <p:cNvSpPr/>
              <p:nvPr/>
            </p:nvSpPr>
            <p:spPr>
              <a:xfrm rot="8100000">
                <a:off x="1383120" y="1905120"/>
                <a:ext cx="66240" cy="66960"/>
              </a:xfrm>
              <a:custGeom>
                <a:avLst/>
                <a:gdLst>
                  <a:gd name="textAreaLeft" fmla="*/ 9720 w 66240"/>
                  <a:gd name="textAreaRight" fmla="*/ 56520 w 66240"/>
                  <a:gd name="textAreaTop" fmla="*/ 9720 h 66960"/>
                  <a:gd name="textAreaBottom" fmla="*/ 57240 h 66960"/>
                </a:gdLst>
                <a:ahLst/>
                <a:rect l="textAreaLeft" t="textAreaTop" r="textAreaRight" b="textAreaBottom"/>
                <a:pathLst>
                  <a:path w="21600" h="21834">
                    <a:moveTo>
                      <a:pt x="10800" y="0"/>
                    </a:moveTo>
                    <a:arcTo wR="10800" hR="10800" stAng="16200000" swAng="-5400000"/>
                    <a:lnTo>
                      <a:pt x="0" y="11034"/>
                    </a:lnTo>
                    <a:arcTo wR="10800" hR="10800" stAng="10800000" swAng="-5400000"/>
                    <a:lnTo>
                      <a:pt x="10800" y="21834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3" name="AutoShape 32"/>
            <p:cNvSpPr/>
            <p:nvPr/>
          </p:nvSpPr>
          <p:spPr>
            <a:xfrm>
              <a:off x="1858680" y="2205000"/>
              <a:ext cx="1987560" cy="299880"/>
            </a:xfrm>
            <a:prstGeom prst="roundRect">
              <a:avLst>
                <a:gd name="adj" fmla="val 5630"/>
              </a:avLst>
            </a:prstGeom>
            <a:gradFill rotWithShape="0">
              <a:gsLst>
                <a:gs pos="0">
                  <a:srgbClr val="ffcc66"/>
                </a:gs>
                <a:gs pos="100000">
                  <a:srgbClr val="ff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添加文字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4" name="组合 31"/>
          <p:cNvGrpSpPr/>
          <p:nvPr/>
        </p:nvGrpSpPr>
        <p:grpSpPr>
          <a:xfrm>
            <a:off x="990720" y="3116160"/>
            <a:ext cx="3178080" cy="1606680"/>
            <a:chOff x="990720" y="3116160"/>
            <a:chExt cx="3178080" cy="1606680"/>
          </a:xfrm>
        </p:grpSpPr>
        <p:pic>
          <p:nvPicPr>
            <p:cNvPr id="685" name="Picture 21" descr="阴影5"/>
            <p:cNvPicPr/>
            <p:nvPr/>
          </p:nvPicPr>
          <p:blipFill>
            <a:blip r:embed="rId2"/>
            <a:stretch/>
          </p:blipFill>
          <p:spPr>
            <a:xfrm>
              <a:off x="990720" y="3116160"/>
              <a:ext cx="3178080" cy="1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Picture 34" descr="阴影5"/>
            <p:cNvPicPr/>
            <p:nvPr/>
          </p:nvPicPr>
          <p:blipFill>
            <a:blip r:embed="rId3"/>
            <a:stretch/>
          </p:blipFill>
          <p:spPr>
            <a:xfrm>
              <a:off x="990720" y="4556160"/>
              <a:ext cx="3178080" cy="1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7" name="AutoShape 35"/>
            <p:cNvSpPr/>
            <p:nvPr/>
          </p:nvSpPr>
          <p:spPr>
            <a:xfrm>
              <a:off x="1012680" y="3854520"/>
              <a:ext cx="3098880" cy="797040"/>
            </a:xfrm>
            <a:prstGeom prst="roundRect">
              <a:avLst>
                <a:gd name="adj" fmla="val 563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文字内容   单击此处添加文字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文字内容   单击此处添加文字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Oval 8"/>
            <p:cNvSpPr/>
            <p:nvPr/>
          </p:nvSpPr>
          <p:spPr>
            <a:xfrm>
              <a:off x="1128600" y="3795480"/>
              <a:ext cx="569880" cy="2761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0000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Arc 9"/>
            <p:cNvSpPr/>
            <p:nvPr/>
          </p:nvSpPr>
          <p:spPr>
            <a:xfrm>
              <a:off x="1139760" y="3678120"/>
              <a:ext cx="550800" cy="303120"/>
            </a:xfrm>
            <a:custGeom>
              <a:avLst/>
              <a:gdLst/>
              <a:ahLst/>
              <a:rect l="l" t="t" r="r" b="b"/>
              <a:pathLst>
                <a:path fill="none" w="43195" h="23732">
                  <a:moveTo>
                    <a:pt x="43194" y="2602"/>
                  </a:moveTo>
                  <a:cubicBezTo>
                    <a:pt x="42938" y="14346"/>
                    <a:pt x="33345" y="23731"/>
                    <a:pt x="21600" y="23732"/>
                  </a:cubicBezTo>
                  <a:cubicBezTo>
                    <a:pt x="9670" y="23732"/>
                    <a:pt x="0" y="14061"/>
                    <a:pt x="0" y="2132"/>
                  </a:cubicBezTo>
                  <a:cubicBezTo>
                    <a:pt x="-1" y="1420"/>
                    <a:pt x="35" y="708"/>
                    <a:pt x="105" y="0"/>
                  </a:cubicBezTo>
                </a:path>
                <a:path stroke="0" w="43195" h="23732">
                  <a:moveTo>
                    <a:pt x="43194" y="2602"/>
                  </a:moveTo>
                  <a:cubicBezTo>
                    <a:pt x="42938" y="14346"/>
                    <a:pt x="33345" y="23731"/>
                    <a:pt x="21600" y="23732"/>
                  </a:cubicBezTo>
                  <a:cubicBezTo>
                    <a:pt x="9670" y="23732"/>
                    <a:pt x="0" y="14061"/>
                    <a:pt x="0" y="2132"/>
                  </a:cubicBezTo>
                  <a:cubicBezTo>
                    <a:pt x="-1" y="1420"/>
                    <a:pt x="35" y="708"/>
                    <a:pt x="105" y="0"/>
                  </a:cubicBezTo>
                  <a:lnTo>
                    <a:pt x="21600" y="2132"/>
                  </a:lnTo>
                  <a:lnTo>
                    <a:pt x="43194" y="2602"/>
                  </a:lnTo>
                  <a:close/>
                </a:path>
              </a:pathLst>
            </a:custGeom>
            <a:gradFill rotWithShape="0">
              <a:gsLst>
                <a:gs pos="0">
                  <a:srgbClr val="360000"/>
                </a:gs>
                <a:gs pos="100000">
                  <a:srgbClr val="99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Oval 10"/>
            <p:cNvSpPr/>
            <p:nvPr/>
          </p:nvSpPr>
          <p:spPr>
            <a:xfrm>
              <a:off x="1128600" y="3565440"/>
              <a:ext cx="569880" cy="277560"/>
            </a:xfrm>
            <a:prstGeom prst="ellips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f99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1" name="Group 34"/>
            <p:cNvGrpSpPr/>
            <p:nvPr/>
          </p:nvGrpSpPr>
          <p:grpSpPr>
            <a:xfrm>
              <a:off x="1352160" y="3331080"/>
              <a:ext cx="128520" cy="369360"/>
              <a:chOff x="1352160" y="3331080"/>
              <a:chExt cx="128520" cy="369360"/>
            </a:xfrm>
          </p:grpSpPr>
          <p:grpSp>
            <p:nvGrpSpPr>
              <p:cNvPr id="692" name="Group 35"/>
              <p:cNvGrpSpPr/>
              <p:nvPr/>
            </p:nvGrpSpPr>
            <p:grpSpPr>
              <a:xfrm>
                <a:off x="1382040" y="3498480"/>
                <a:ext cx="68400" cy="201960"/>
                <a:chOff x="1382040" y="3498480"/>
                <a:chExt cx="68400" cy="201960"/>
              </a:xfrm>
            </p:grpSpPr>
            <p:sp>
              <p:nvSpPr>
                <p:cNvPr id="693" name="AutoShape 13"/>
                <p:cNvSpPr/>
                <p:nvPr/>
              </p:nvSpPr>
              <p:spPr>
                <a:xfrm rot="5400000">
                  <a:off x="1296000" y="3584160"/>
                  <a:ext cx="201960" cy="302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AutoShape 14"/>
                <p:cNvSpPr/>
                <p:nvPr/>
              </p:nvSpPr>
              <p:spPr>
                <a:xfrm rot="5400000">
                  <a:off x="1334160" y="3584160"/>
                  <a:ext cx="201960" cy="302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5" name="AutoShape 15"/>
              <p:cNvSpPr/>
              <p:nvPr/>
            </p:nvSpPr>
            <p:spPr>
              <a:xfrm rot="10800000">
                <a:off x="1352160" y="3422520"/>
                <a:ext cx="128520" cy="129240"/>
              </a:xfrm>
              <a:custGeom>
                <a:avLst/>
                <a:gdLst>
                  <a:gd name="textAreaLeft" fmla="*/ 6120 w 128520"/>
                  <a:gd name="textAreaRight" fmla="*/ 122400 w 128520"/>
                  <a:gd name="textAreaTop" fmla="*/ 6120 h 129240"/>
                  <a:gd name="textAreaBottom" fmla="*/ 123120 h 129240"/>
                </a:gdLst>
                <a:ahLst/>
                <a:rect l="textAreaLeft" t="textAreaTop" r="textAreaRight" b="textAreaBottom"/>
                <a:pathLst>
                  <a:path w="21600" h="21721">
                    <a:moveTo>
                      <a:pt x="3600" y="0"/>
                    </a:moveTo>
                    <a:arcTo wR="3600" hR="3600" stAng="16200000" swAng="-5400000"/>
                    <a:lnTo>
                      <a:pt x="0" y="18121"/>
                    </a:lnTo>
                    <a:arcTo wR="3600" hR="3600" stAng="10800000" swAng="-5400000"/>
                    <a:lnTo>
                      <a:pt x="18000" y="2172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AutoShape 16"/>
              <p:cNvSpPr/>
              <p:nvPr/>
            </p:nvSpPr>
            <p:spPr>
              <a:xfrm rot="8100000">
                <a:off x="1383480" y="3344760"/>
                <a:ext cx="66240" cy="66960"/>
              </a:xfrm>
              <a:custGeom>
                <a:avLst/>
                <a:gdLst>
                  <a:gd name="textAreaLeft" fmla="*/ 9720 w 66240"/>
                  <a:gd name="textAreaRight" fmla="*/ 56520 w 66240"/>
                  <a:gd name="textAreaTop" fmla="*/ 9720 h 66960"/>
                  <a:gd name="textAreaBottom" fmla="*/ 57240 h 66960"/>
                </a:gdLst>
                <a:ahLst/>
                <a:rect l="textAreaLeft" t="textAreaTop" r="textAreaRight" b="textAreaBottom"/>
                <a:pathLst>
                  <a:path w="21600" h="21834">
                    <a:moveTo>
                      <a:pt x="10800" y="0"/>
                    </a:moveTo>
                    <a:arcTo wR="10800" hR="10800" stAng="16200000" swAng="-5400000"/>
                    <a:lnTo>
                      <a:pt x="0" y="11034"/>
                    </a:lnTo>
                    <a:arcTo wR="10800" hR="10800" stAng="10800000" swAng="-5400000"/>
                    <a:lnTo>
                      <a:pt x="10800" y="21834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7" name="AutoShape 45"/>
            <p:cNvSpPr/>
            <p:nvPr/>
          </p:nvSpPr>
          <p:spPr>
            <a:xfrm>
              <a:off x="1859040" y="3644640"/>
              <a:ext cx="1987560" cy="299880"/>
            </a:xfrm>
            <a:prstGeom prst="roundRect">
              <a:avLst>
                <a:gd name="adj" fmla="val 5630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添加文字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8" name="组合 45"/>
          <p:cNvGrpSpPr/>
          <p:nvPr/>
        </p:nvGrpSpPr>
        <p:grpSpPr>
          <a:xfrm>
            <a:off x="4952880" y="3331080"/>
            <a:ext cx="3178440" cy="1391760"/>
            <a:chOff x="4952880" y="3331080"/>
            <a:chExt cx="3178440" cy="1391760"/>
          </a:xfrm>
        </p:grpSpPr>
        <p:pic>
          <p:nvPicPr>
            <p:cNvPr id="699" name="Picture 60" descr="阴影5"/>
            <p:cNvPicPr/>
            <p:nvPr/>
          </p:nvPicPr>
          <p:blipFill>
            <a:blip r:embed="rId4"/>
            <a:stretch/>
          </p:blipFill>
          <p:spPr>
            <a:xfrm>
              <a:off x="4952880" y="4556160"/>
              <a:ext cx="3178440" cy="1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0" name="AutoShape 61"/>
            <p:cNvSpPr/>
            <p:nvPr/>
          </p:nvSpPr>
          <p:spPr>
            <a:xfrm>
              <a:off x="4974840" y="3854520"/>
              <a:ext cx="3099240" cy="797040"/>
            </a:xfrm>
            <a:prstGeom prst="roundRect">
              <a:avLst>
                <a:gd name="adj" fmla="val 563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文字内容   单击此处添加文字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文字内容   单击此处添加文字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Oval 8"/>
            <p:cNvSpPr/>
            <p:nvPr/>
          </p:nvSpPr>
          <p:spPr>
            <a:xfrm>
              <a:off x="5090760" y="3795480"/>
              <a:ext cx="569880" cy="2761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0000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Arc 9"/>
            <p:cNvSpPr/>
            <p:nvPr/>
          </p:nvSpPr>
          <p:spPr>
            <a:xfrm>
              <a:off x="5101920" y="3678120"/>
              <a:ext cx="550800" cy="303120"/>
            </a:xfrm>
            <a:custGeom>
              <a:avLst/>
              <a:gdLst/>
              <a:ahLst/>
              <a:rect l="l" t="t" r="r" b="b"/>
              <a:pathLst>
                <a:path fill="none" w="43195" h="23732">
                  <a:moveTo>
                    <a:pt x="43194" y="2602"/>
                  </a:moveTo>
                  <a:cubicBezTo>
                    <a:pt x="42938" y="14346"/>
                    <a:pt x="33345" y="23731"/>
                    <a:pt x="21600" y="23732"/>
                  </a:cubicBezTo>
                  <a:cubicBezTo>
                    <a:pt x="9670" y="23732"/>
                    <a:pt x="0" y="14061"/>
                    <a:pt x="0" y="2132"/>
                  </a:cubicBezTo>
                  <a:cubicBezTo>
                    <a:pt x="-1" y="1420"/>
                    <a:pt x="35" y="708"/>
                    <a:pt x="105" y="0"/>
                  </a:cubicBezTo>
                </a:path>
                <a:path stroke="0" w="43195" h="23732">
                  <a:moveTo>
                    <a:pt x="43194" y="2602"/>
                  </a:moveTo>
                  <a:cubicBezTo>
                    <a:pt x="42938" y="14346"/>
                    <a:pt x="33345" y="23731"/>
                    <a:pt x="21600" y="23732"/>
                  </a:cubicBezTo>
                  <a:cubicBezTo>
                    <a:pt x="9670" y="23732"/>
                    <a:pt x="0" y="14061"/>
                    <a:pt x="0" y="2132"/>
                  </a:cubicBezTo>
                  <a:cubicBezTo>
                    <a:pt x="-1" y="1420"/>
                    <a:pt x="35" y="708"/>
                    <a:pt x="105" y="0"/>
                  </a:cubicBezTo>
                  <a:lnTo>
                    <a:pt x="21600" y="2132"/>
                  </a:lnTo>
                  <a:lnTo>
                    <a:pt x="43194" y="2602"/>
                  </a:lnTo>
                  <a:close/>
                </a:path>
              </a:pathLst>
            </a:custGeom>
            <a:gradFill rotWithShape="0">
              <a:gsLst>
                <a:gs pos="0">
                  <a:srgbClr val="500000"/>
                </a:gs>
                <a:gs pos="100000">
                  <a:srgbClr val="99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Oval 10"/>
            <p:cNvSpPr/>
            <p:nvPr/>
          </p:nvSpPr>
          <p:spPr>
            <a:xfrm>
              <a:off x="5090760" y="3565440"/>
              <a:ext cx="569880" cy="277560"/>
            </a:xfrm>
            <a:prstGeom prst="ellips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f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4" name="Group 58"/>
            <p:cNvGrpSpPr/>
            <p:nvPr/>
          </p:nvGrpSpPr>
          <p:grpSpPr>
            <a:xfrm>
              <a:off x="5314320" y="3331080"/>
              <a:ext cx="128520" cy="369360"/>
              <a:chOff x="5314320" y="3331080"/>
              <a:chExt cx="128520" cy="369360"/>
            </a:xfrm>
          </p:grpSpPr>
          <p:grpSp>
            <p:nvGrpSpPr>
              <p:cNvPr id="705" name="Group 59"/>
              <p:cNvGrpSpPr/>
              <p:nvPr/>
            </p:nvGrpSpPr>
            <p:grpSpPr>
              <a:xfrm>
                <a:off x="5344200" y="3498480"/>
                <a:ext cx="68400" cy="201960"/>
                <a:chOff x="5344200" y="3498480"/>
                <a:chExt cx="68400" cy="201960"/>
              </a:xfrm>
            </p:grpSpPr>
            <p:sp>
              <p:nvSpPr>
                <p:cNvPr id="706" name="AutoShape 13"/>
                <p:cNvSpPr/>
                <p:nvPr/>
              </p:nvSpPr>
              <p:spPr>
                <a:xfrm rot="5400000">
                  <a:off x="5258160" y="3584160"/>
                  <a:ext cx="201960" cy="302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" name="AutoShape 14"/>
                <p:cNvSpPr/>
                <p:nvPr/>
              </p:nvSpPr>
              <p:spPr>
                <a:xfrm rot="5400000">
                  <a:off x="5296320" y="3584160"/>
                  <a:ext cx="201960" cy="302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8" name="AutoShape 15"/>
              <p:cNvSpPr/>
              <p:nvPr/>
            </p:nvSpPr>
            <p:spPr>
              <a:xfrm rot="10800000">
                <a:off x="5314320" y="3422520"/>
                <a:ext cx="128520" cy="129240"/>
              </a:xfrm>
              <a:custGeom>
                <a:avLst/>
                <a:gdLst>
                  <a:gd name="textAreaLeft" fmla="*/ 6120 w 128520"/>
                  <a:gd name="textAreaRight" fmla="*/ 122400 w 128520"/>
                  <a:gd name="textAreaTop" fmla="*/ 6120 h 129240"/>
                  <a:gd name="textAreaBottom" fmla="*/ 123120 h 129240"/>
                </a:gdLst>
                <a:ahLst/>
                <a:rect l="textAreaLeft" t="textAreaTop" r="textAreaRight" b="textAreaBottom"/>
                <a:pathLst>
                  <a:path w="21600" h="21721">
                    <a:moveTo>
                      <a:pt x="3600" y="0"/>
                    </a:moveTo>
                    <a:arcTo wR="3600" hR="3600" stAng="16200000" swAng="-5400000"/>
                    <a:lnTo>
                      <a:pt x="0" y="18121"/>
                    </a:lnTo>
                    <a:arcTo wR="3600" hR="3600" stAng="10800000" swAng="-5400000"/>
                    <a:lnTo>
                      <a:pt x="18000" y="2172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AutoShape 16"/>
              <p:cNvSpPr/>
              <p:nvPr/>
            </p:nvSpPr>
            <p:spPr>
              <a:xfrm rot="8100000">
                <a:off x="5345640" y="3344760"/>
                <a:ext cx="66240" cy="66960"/>
              </a:xfrm>
              <a:custGeom>
                <a:avLst/>
                <a:gdLst>
                  <a:gd name="textAreaLeft" fmla="*/ 9720 w 66240"/>
                  <a:gd name="textAreaRight" fmla="*/ 56520 w 66240"/>
                  <a:gd name="textAreaTop" fmla="*/ 9720 h 66960"/>
                  <a:gd name="textAreaBottom" fmla="*/ 57240 h 66960"/>
                </a:gdLst>
                <a:ahLst/>
                <a:rect l="textAreaLeft" t="textAreaTop" r="textAreaRight" b="textAreaBottom"/>
                <a:pathLst>
                  <a:path w="21600" h="21834">
                    <a:moveTo>
                      <a:pt x="10800" y="0"/>
                    </a:moveTo>
                    <a:arcTo wR="10800" hR="10800" stAng="16200000" swAng="-5400000"/>
                    <a:lnTo>
                      <a:pt x="0" y="11034"/>
                    </a:lnTo>
                    <a:arcTo wR="10800" hR="10800" stAng="10800000" swAng="-5400000"/>
                    <a:lnTo>
                      <a:pt x="10800" y="21834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0" name="AutoShape 71"/>
            <p:cNvSpPr/>
            <p:nvPr/>
          </p:nvSpPr>
          <p:spPr>
            <a:xfrm>
              <a:off x="5821200" y="3644640"/>
              <a:ext cx="1987920" cy="299880"/>
            </a:xfrm>
            <a:prstGeom prst="roundRect">
              <a:avLst>
                <a:gd name="adj" fmla="val 5630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添加文字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组合 58"/>
          <p:cNvGrpSpPr/>
          <p:nvPr/>
        </p:nvGrpSpPr>
        <p:grpSpPr>
          <a:xfrm>
            <a:off x="4952880" y="1891440"/>
            <a:ext cx="3178440" cy="1391400"/>
            <a:chOff x="4952880" y="1891440"/>
            <a:chExt cx="3178440" cy="1391400"/>
          </a:xfrm>
        </p:grpSpPr>
        <p:pic>
          <p:nvPicPr>
            <p:cNvPr id="712" name="Picture 47" descr="阴影5"/>
            <p:cNvPicPr/>
            <p:nvPr/>
          </p:nvPicPr>
          <p:blipFill>
            <a:blip r:embed="rId5"/>
            <a:stretch/>
          </p:blipFill>
          <p:spPr>
            <a:xfrm>
              <a:off x="4952880" y="3116160"/>
              <a:ext cx="3178440" cy="1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3" name="AutoShape 48"/>
            <p:cNvSpPr/>
            <p:nvPr/>
          </p:nvSpPr>
          <p:spPr>
            <a:xfrm>
              <a:off x="4974840" y="2414520"/>
              <a:ext cx="3099240" cy="796680"/>
            </a:xfrm>
            <a:prstGeom prst="roundRect">
              <a:avLst>
                <a:gd name="adj" fmla="val 563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文字内容   单击此处添加文字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文字内容   单击此处添加文字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Oval 8"/>
            <p:cNvSpPr/>
            <p:nvPr/>
          </p:nvSpPr>
          <p:spPr>
            <a:xfrm>
              <a:off x="5090760" y="2355840"/>
              <a:ext cx="569880" cy="2761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0000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Arc 9"/>
            <p:cNvSpPr/>
            <p:nvPr/>
          </p:nvSpPr>
          <p:spPr>
            <a:xfrm>
              <a:off x="5101920" y="2238480"/>
              <a:ext cx="550800" cy="303120"/>
            </a:xfrm>
            <a:custGeom>
              <a:avLst/>
              <a:gdLst/>
              <a:ahLst/>
              <a:rect l="l" t="t" r="r" b="b"/>
              <a:pathLst>
                <a:path fill="none" w="43195" h="23732">
                  <a:moveTo>
                    <a:pt x="43194" y="2602"/>
                  </a:moveTo>
                  <a:cubicBezTo>
                    <a:pt x="42938" y="14346"/>
                    <a:pt x="33345" y="23731"/>
                    <a:pt x="21600" y="23732"/>
                  </a:cubicBezTo>
                  <a:cubicBezTo>
                    <a:pt x="9670" y="23732"/>
                    <a:pt x="0" y="14061"/>
                    <a:pt x="0" y="2132"/>
                  </a:cubicBezTo>
                  <a:cubicBezTo>
                    <a:pt x="-1" y="1420"/>
                    <a:pt x="35" y="708"/>
                    <a:pt x="105" y="0"/>
                  </a:cubicBezTo>
                </a:path>
                <a:path stroke="0" w="43195" h="23732">
                  <a:moveTo>
                    <a:pt x="43194" y="2602"/>
                  </a:moveTo>
                  <a:cubicBezTo>
                    <a:pt x="42938" y="14346"/>
                    <a:pt x="33345" y="23731"/>
                    <a:pt x="21600" y="23732"/>
                  </a:cubicBezTo>
                  <a:cubicBezTo>
                    <a:pt x="9670" y="23732"/>
                    <a:pt x="0" y="14061"/>
                    <a:pt x="0" y="2132"/>
                  </a:cubicBezTo>
                  <a:cubicBezTo>
                    <a:pt x="-1" y="1420"/>
                    <a:pt x="35" y="708"/>
                    <a:pt x="105" y="0"/>
                  </a:cubicBezTo>
                  <a:lnTo>
                    <a:pt x="21600" y="2132"/>
                  </a:lnTo>
                  <a:lnTo>
                    <a:pt x="43194" y="2602"/>
                  </a:lnTo>
                  <a:close/>
                </a:path>
              </a:pathLst>
            </a:custGeom>
            <a:gradFill rotWithShape="0">
              <a:gsLst>
                <a:gs pos="0">
                  <a:srgbClr val="500000"/>
                </a:gs>
                <a:gs pos="100000">
                  <a:srgbClr val="99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Oval 10"/>
            <p:cNvSpPr/>
            <p:nvPr/>
          </p:nvSpPr>
          <p:spPr>
            <a:xfrm>
              <a:off x="5090760" y="2125800"/>
              <a:ext cx="569880" cy="277560"/>
            </a:xfrm>
            <a:prstGeom prst="ellips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7" name="Group 46"/>
            <p:cNvGrpSpPr/>
            <p:nvPr/>
          </p:nvGrpSpPr>
          <p:grpSpPr>
            <a:xfrm>
              <a:off x="5314320" y="1891440"/>
              <a:ext cx="128520" cy="368640"/>
              <a:chOff x="5314320" y="1891440"/>
              <a:chExt cx="128520" cy="368640"/>
            </a:xfrm>
          </p:grpSpPr>
          <p:grpSp>
            <p:nvGrpSpPr>
              <p:cNvPr id="718" name="Group 47"/>
              <p:cNvGrpSpPr/>
              <p:nvPr/>
            </p:nvGrpSpPr>
            <p:grpSpPr>
              <a:xfrm>
                <a:off x="5344200" y="2058480"/>
                <a:ext cx="68400" cy="201600"/>
                <a:chOff x="5344200" y="2058480"/>
                <a:chExt cx="68400" cy="201600"/>
              </a:xfrm>
            </p:grpSpPr>
            <p:sp>
              <p:nvSpPr>
                <p:cNvPr id="719" name="AutoShape 13"/>
                <p:cNvSpPr/>
                <p:nvPr/>
              </p:nvSpPr>
              <p:spPr>
                <a:xfrm rot="5400000">
                  <a:off x="5258520" y="2144160"/>
                  <a:ext cx="201600" cy="302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0" name="AutoShape 14"/>
                <p:cNvSpPr/>
                <p:nvPr/>
              </p:nvSpPr>
              <p:spPr>
                <a:xfrm rot="5400000">
                  <a:off x="5296680" y="2144160"/>
                  <a:ext cx="201600" cy="302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1" name="AutoShape 15"/>
              <p:cNvSpPr/>
              <p:nvPr/>
            </p:nvSpPr>
            <p:spPr>
              <a:xfrm rot="10800000">
                <a:off x="5314320" y="1982880"/>
                <a:ext cx="128520" cy="129240"/>
              </a:xfrm>
              <a:custGeom>
                <a:avLst/>
                <a:gdLst>
                  <a:gd name="textAreaLeft" fmla="*/ 6120 w 128520"/>
                  <a:gd name="textAreaRight" fmla="*/ 122400 w 128520"/>
                  <a:gd name="textAreaTop" fmla="*/ 6120 h 129240"/>
                  <a:gd name="textAreaBottom" fmla="*/ 123120 h 129240"/>
                </a:gdLst>
                <a:ahLst/>
                <a:rect l="textAreaLeft" t="textAreaTop" r="textAreaRight" b="textAreaBottom"/>
                <a:pathLst>
                  <a:path w="21600" h="21721">
                    <a:moveTo>
                      <a:pt x="3600" y="0"/>
                    </a:moveTo>
                    <a:arcTo wR="3600" hR="3600" stAng="16200000" swAng="-5400000"/>
                    <a:lnTo>
                      <a:pt x="0" y="18121"/>
                    </a:lnTo>
                    <a:arcTo wR="3600" hR="3600" stAng="10800000" swAng="-5400000"/>
                    <a:lnTo>
                      <a:pt x="18000" y="2172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AutoShape 16"/>
              <p:cNvSpPr/>
              <p:nvPr/>
            </p:nvSpPr>
            <p:spPr>
              <a:xfrm rot="8100000">
                <a:off x="5345640" y="1905120"/>
                <a:ext cx="66240" cy="66960"/>
              </a:xfrm>
              <a:custGeom>
                <a:avLst/>
                <a:gdLst>
                  <a:gd name="textAreaLeft" fmla="*/ 9720 w 66240"/>
                  <a:gd name="textAreaRight" fmla="*/ 56520 w 66240"/>
                  <a:gd name="textAreaTop" fmla="*/ 9720 h 66960"/>
                  <a:gd name="textAreaBottom" fmla="*/ 57240 h 66960"/>
                </a:gdLst>
                <a:ahLst/>
                <a:rect l="textAreaLeft" t="textAreaTop" r="textAreaRight" b="textAreaBottom"/>
                <a:pathLst>
                  <a:path w="21600" h="21834">
                    <a:moveTo>
                      <a:pt x="10800" y="0"/>
                    </a:moveTo>
                    <a:arcTo wR="10800" hR="10800" stAng="16200000" swAng="-5400000"/>
                    <a:lnTo>
                      <a:pt x="0" y="11034"/>
                    </a:lnTo>
                    <a:arcTo wR="10800" hR="10800" stAng="10800000" swAng="-5400000"/>
                    <a:lnTo>
                      <a:pt x="10800" y="21834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3" name="AutoShape 58"/>
            <p:cNvSpPr/>
            <p:nvPr/>
          </p:nvSpPr>
          <p:spPr>
            <a:xfrm>
              <a:off x="5821200" y="2205000"/>
              <a:ext cx="1987920" cy="299880"/>
            </a:xfrm>
            <a:prstGeom prst="roundRect">
              <a:avLst>
                <a:gd name="adj" fmla="val 5630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添加文字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5000">
    <p:fade/>
  </p:transition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0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500"/>
                            </p:stCondLst>
                            <p:childTnLst>
                              <p:par>
                                <p:cTn id="55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59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1500"/>
                            </p:stCondLst>
                            <p:childTnLst>
                              <p:par>
                                <p:cTn id="565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2000"/>
                            </p:stCondLst>
                            <p:childTnLst>
                              <p:par>
                                <p:cTn id="571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2500"/>
                            </p:stCondLst>
                            <p:childTnLst>
                              <p:par>
                                <p:cTn id="57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2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4" name="组合 1"/>
          <p:cNvGrpSpPr/>
          <p:nvPr/>
        </p:nvGrpSpPr>
        <p:grpSpPr>
          <a:xfrm>
            <a:off x="789120" y="1316160"/>
            <a:ext cx="1476360" cy="1554120"/>
            <a:chOff x="789120" y="1316160"/>
            <a:chExt cx="1476360" cy="1554120"/>
          </a:xfrm>
        </p:grpSpPr>
        <p:grpSp>
          <p:nvGrpSpPr>
            <p:cNvPr id="725" name="Group 17"/>
            <p:cNvGrpSpPr/>
            <p:nvPr/>
          </p:nvGrpSpPr>
          <p:grpSpPr>
            <a:xfrm>
              <a:off x="789120" y="1316160"/>
              <a:ext cx="1476360" cy="1485720"/>
              <a:chOff x="789120" y="1316160"/>
              <a:chExt cx="1476360" cy="1485720"/>
            </a:xfrm>
          </p:grpSpPr>
          <p:sp>
            <p:nvSpPr>
              <p:cNvPr id="726" name="Freeform 18"/>
              <p:cNvSpPr/>
              <p:nvPr/>
            </p:nvSpPr>
            <p:spPr>
              <a:xfrm>
                <a:off x="797040" y="1316160"/>
                <a:ext cx="1468440" cy="1485720"/>
              </a:xfrm>
              <a:custGeom>
                <a:avLst/>
                <a:gdLst/>
                <a:ahLst/>
                <a:rect l="l" t="t" r="r" b="b"/>
                <a:pathLst>
                  <a:path w="1809" h="1829">
                    <a:moveTo>
                      <a:pt x="910" y="0"/>
                    </a:moveTo>
                    <a:cubicBezTo>
                      <a:pt x="890" y="0"/>
                      <a:pt x="869" y="0"/>
                      <a:pt x="849" y="1"/>
                    </a:cubicBezTo>
                    <a:cubicBezTo>
                      <a:pt x="0" y="1100"/>
                      <a:pt x="0" y="1100"/>
                      <a:pt x="0" y="1100"/>
                    </a:cubicBezTo>
                    <a:cubicBezTo>
                      <a:pt x="86" y="1501"/>
                      <a:pt x="438" y="1806"/>
                      <a:pt x="866" y="1817"/>
                    </a:cubicBezTo>
                    <a:cubicBezTo>
                      <a:pt x="1367" y="1829"/>
                      <a:pt x="1784" y="1432"/>
                      <a:pt x="1796" y="931"/>
                    </a:cubicBezTo>
                    <a:cubicBezTo>
                      <a:pt x="1809" y="429"/>
                      <a:pt x="1412" y="12"/>
                      <a:pt x="91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a2a2a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Freeform 19"/>
              <p:cNvSpPr/>
              <p:nvPr/>
            </p:nvSpPr>
            <p:spPr>
              <a:xfrm>
                <a:off x="841680" y="1367640"/>
                <a:ext cx="1374840" cy="1383840"/>
              </a:xfrm>
              <a:custGeom>
                <a:avLst/>
                <a:gdLst/>
                <a:ahLst/>
                <a:rect l="l" t="t" r="r" b="b"/>
                <a:pathLst>
                  <a:path w="1692" h="1704">
                    <a:moveTo>
                      <a:pt x="856" y="1"/>
                    </a:moveTo>
                    <a:cubicBezTo>
                      <a:pt x="822" y="0"/>
                      <a:pt x="790" y="1"/>
                      <a:pt x="758" y="4"/>
                    </a:cubicBezTo>
                    <a:cubicBezTo>
                      <a:pt x="0" y="981"/>
                      <a:pt x="0" y="981"/>
                      <a:pt x="0" y="981"/>
                    </a:cubicBezTo>
                    <a:cubicBezTo>
                      <a:pt x="63" y="1376"/>
                      <a:pt x="400" y="1682"/>
                      <a:pt x="814" y="1692"/>
                    </a:cubicBezTo>
                    <a:cubicBezTo>
                      <a:pt x="1281" y="1704"/>
                      <a:pt x="1669" y="1334"/>
                      <a:pt x="1680" y="867"/>
                    </a:cubicBezTo>
                    <a:cubicBezTo>
                      <a:pt x="1692" y="400"/>
                      <a:pt x="1323" y="12"/>
                      <a:pt x="856" y="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ffff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Freeform 20"/>
              <p:cNvSpPr/>
              <p:nvPr/>
            </p:nvSpPr>
            <p:spPr>
              <a:xfrm>
                <a:off x="789120" y="1318680"/>
                <a:ext cx="708120" cy="892440"/>
              </a:xfrm>
              <a:custGeom>
                <a:avLst/>
                <a:gdLst/>
                <a:ahLst/>
                <a:rect l="l" t="t" r="r" b="b"/>
                <a:pathLst>
                  <a:path w="871" h="1099">
                    <a:moveTo>
                      <a:pt x="870" y="214"/>
                    </a:moveTo>
                    <a:cubicBezTo>
                      <a:pt x="871" y="140"/>
                      <a:pt x="864" y="69"/>
                      <a:pt x="849" y="0"/>
                    </a:cubicBezTo>
                    <a:cubicBezTo>
                      <a:pt x="0" y="1099"/>
                      <a:pt x="0" y="1099"/>
                      <a:pt x="0" y="1099"/>
                    </a:cubicBezTo>
                    <a:cubicBezTo>
                      <a:pt x="474" y="1079"/>
                      <a:pt x="858" y="695"/>
                      <a:pt x="870" y="21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2a2a2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9" name="Text Box 29"/>
            <p:cNvSpPr/>
            <p:nvPr/>
          </p:nvSpPr>
          <p:spPr>
            <a:xfrm>
              <a:off x="1031400" y="1909440"/>
              <a:ext cx="928440" cy="96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 baseline="-25000">
                  <a:solidFill>
                    <a:srgbClr val="ffffff"/>
                  </a:solidFill>
                  <a:latin typeface="微软雅黑"/>
                  <a:ea typeface="微软雅黑"/>
                </a:rPr>
                <a:t>标题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0" name="组合 7"/>
          <p:cNvGrpSpPr/>
          <p:nvPr/>
        </p:nvGrpSpPr>
        <p:grpSpPr>
          <a:xfrm>
            <a:off x="2792520" y="1316160"/>
            <a:ext cx="1476360" cy="1554120"/>
            <a:chOff x="2792520" y="1316160"/>
            <a:chExt cx="1476360" cy="1554120"/>
          </a:xfrm>
        </p:grpSpPr>
        <p:grpSp>
          <p:nvGrpSpPr>
            <p:cNvPr id="731" name="Group 13"/>
            <p:cNvGrpSpPr/>
            <p:nvPr/>
          </p:nvGrpSpPr>
          <p:grpSpPr>
            <a:xfrm>
              <a:off x="2792520" y="1316160"/>
              <a:ext cx="1476360" cy="1485720"/>
              <a:chOff x="2792520" y="1316160"/>
              <a:chExt cx="1476360" cy="1485720"/>
            </a:xfrm>
          </p:grpSpPr>
          <p:sp>
            <p:nvSpPr>
              <p:cNvPr id="732" name="Freeform 14"/>
              <p:cNvSpPr/>
              <p:nvPr/>
            </p:nvSpPr>
            <p:spPr>
              <a:xfrm>
                <a:off x="2800440" y="1316160"/>
                <a:ext cx="1468440" cy="1485720"/>
              </a:xfrm>
              <a:custGeom>
                <a:avLst/>
                <a:gdLst/>
                <a:ahLst/>
                <a:rect l="l" t="t" r="r" b="b"/>
                <a:pathLst>
                  <a:path w="1809" h="1829">
                    <a:moveTo>
                      <a:pt x="910" y="0"/>
                    </a:moveTo>
                    <a:cubicBezTo>
                      <a:pt x="890" y="0"/>
                      <a:pt x="869" y="0"/>
                      <a:pt x="849" y="1"/>
                    </a:cubicBezTo>
                    <a:cubicBezTo>
                      <a:pt x="0" y="1100"/>
                      <a:pt x="0" y="1100"/>
                      <a:pt x="0" y="1100"/>
                    </a:cubicBezTo>
                    <a:cubicBezTo>
                      <a:pt x="86" y="1501"/>
                      <a:pt x="438" y="1806"/>
                      <a:pt x="866" y="1817"/>
                    </a:cubicBezTo>
                    <a:cubicBezTo>
                      <a:pt x="1367" y="1829"/>
                      <a:pt x="1784" y="1432"/>
                      <a:pt x="1796" y="931"/>
                    </a:cubicBezTo>
                    <a:cubicBezTo>
                      <a:pt x="1809" y="429"/>
                      <a:pt x="1412" y="12"/>
                      <a:pt x="91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a2a2a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Freeform 15"/>
              <p:cNvSpPr/>
              <p:nvPr/>
            </p:nvSpPr>
            <p:spPr>
              <a:xfrm>
                <a:off x="2845080" y="1367640"/>
                <a:ext cx="1374840" cy="1383840"/>
              </a:xfrm>
              <a:custGeom>
                <a:avLst/>
                <a:gdLst/>
                <a:ahLst/>
                <a:rect l="l" t="t" r="r" b="b"/>
                <a:pathLst>
                  <a:path w="1692" h="1704">
                    <a:moveTo>
                      <a:pt x="856" y="1"/>
                    </a:moveTo>
                    <a:cubicBezTo>
                      <a:pt x="822" y="0"/>
                      <a:pt x="790" y="1"/>
                      <a:pt x="758" y="4"/>
                    </a:cubicBezTo>
                    <a:cubicBezTo>
                      <a:pt x="0" y="981"/>
                      <a:pt x="0" y="981"/>
                      <a:pt x="0" y="981"/>
                    </a:cubicBezTo>
                    <a:cubicBezTo>
                      <a:pt x="63" y="1376"/>
                      <a:pt x="400" y="1682"/>
                      <a:pt x="814" y="1692"/>
                    </a:cubicBezTo>
                    <a:cubicBezTo>
                      <a:pt x="1281" y="1704"/>
                      <a:pt x="1669" y="1334"/>
                      <a:pt x="1680" y="867"/>
                    </a:cubicBezTo>
                    <a:cubicBezTo>
                      <a:pt x="1692" y="400"/>
                      <a:pt x="1323" y="12"/>
                      <a:pt x="856" y="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5e0000"/>
                  </a:gs>
                  <a:gs pos="100000">
                    <a:srgbClr val="cc00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Freeform 16"/>
              <p:cNvSpPr/>
              <p:nvPr/>
            </p:nvSpPr>
            <p:spPr>
              <a:xfrm>
                <a:off x="2792520" y="1318680"/>
                <a:ext cx="708120" cy="892440"/>
              </a:xfrm>
              <a:custGeom>
                <a:avLst/>
                <a:gdLst/>
                <a:ahLst/>
                <a:rect l="l" t="t" r="r" b="b"/>
                <a:pathLst>
                  <a:path w="871" h="1099">
                    <a:moveTo>
                      <a:pt x="870" y="214"/>
                    </a:moveTo>
                    <a:cubicBezTo>
                      <a:pt x="871" y="140"/>
                      <a:pt x="864" y="69"/>
                      <a:pt x="849" y="0"/>
                    </a:cubicBezTo>
                    <a:cubicBezTo>
                      <a:pt x="0" y="1099"/>
                      <a:pt x="0" y="1099"/>
                      <a:pt x="0" y="1099"/>
                    </a:cubicBezTo>
                    <a:cubicBezTo>
                      <a:pt x="474" y="1079"/>
                      <a:pt x="858" y="695"/>
                      <a:pt x="870" y="21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2a2a2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5" name="Text Box 30"/>
            <p:cNvSpPr/>
            <p:nvPr/>
          </p:nvSpPr>
          <p:spPr>
            <a:xfrm>
              <a:off x="3046320" y="1909440"/>
              <a:ext cx="928440" cy="96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 baseline="-25000">
                  <a:solidFill>
                    <a:srgbClr val="ffffff"/>
                  </a:solidFill>
                  <a:latin typeface="微软雅黑"/>
                  <a:ea typeface="微软雅黑"/>
                </a:rPr>
                <a:t>标题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6" name="组合 13"/>
          <p:cNvGrpSpPr/>
          <p:nvPr/>
        </p:nvGrpSpPr>
        <p:grpSpPr>
          <a:xfrm>
            <a:off x="4781520" y="1316160"/>
            <a:ext cx="1476360" cy="1554120"/>
            <a:chOff x="4781520" y="1316160"/>
            <a:chExt cx="1476360" cy="1554120"/>
          </a:xfrm>
        </p:grpSpPr>
        <p:grpSp>
          <p:nvGrpSpPr>
            <p:cNvPr id="737" name="Group 21"/>
            <p:cNvGrpSpPr/>
            <p:nvPr/>
          </p:nvGrpSpPr>
          <p:grpSpPr>
            <a:xfrm>
              <a:off x="4781520" y="1316160"/>
              <a:ext cx="1476360" cy="1485720"/>
              <a:chOff x="4781520" y="1316160"/>
              <a:chExt cx="1476360" cy="1485720"/>
            </a:xfrm>
          </p:grpSpPr>
          <p:sp>
            <p:nvSpPr>
              <p:cNvPr id="738" name="Freeform 22"/>
              <p:cNvSpPr/>
              <p:nvPr/>
            </p:nvSpPr>
            <p:spPr>
              <a:xfrm>
                <a:off x="4789440" y="1316160"/>
                <a:ext cx="1468440" cy="1485720"/>
              </a:xfrm>
              <a:custGeom>
                <a:avLst/>
                <a:gdLst/>
                <a:ahLst/>
                <a:rect l="l" t="t" r="r" b="b"/>
                <a:pathLst>
                  <a:path w="1809" h="1829">
                    <a:moveTo>
                      <a:pt x="910" y="0"/>
                    </a:moveTo>
                    <a:cubicBezTo>
                      <a:pt x="890" y="0"/>
                      <a:pt x="869" y="0"/>
                      <a:pt x="849" y="1"/>
                    </a:cubicBezTo>
                    <a:cubicBezTo>
                      <a:pt x="0" y="1100"/>
                      <a:pt x="0" y="1100"/>
                      <a:pt x="0" y="1100"/>
                    </a:cubicBezTo>
                    <a:cubicBezTo>
                      <a:pt x="86" y="1501"/>
                      <a:pt x="438" y="1806"/>
                      <a:pt x="866" y="1817"/>
                    </a:cubicBezTo>
                    <a:cubicBezTo>
                      <a:pt x="1367" y="1829"/>
                      <a:pt x="1784" y="1432"/>
                      <a:pt x="1796" y="931"/>
                    </a:cubicBezTo>
                    <a:cubicBezTo>
                      <a:pt x="1809" y="429"/>
                      <a:pt x="1412" y="12"/>
                      <a:pt x="91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a2a2a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Freeform 23"/>
              <p:cNvSpPr/>
              <p:nvPr/>
            </p:nvSpPr>
            <p:spPr>
              <a:xfrm>
                <a:off x="4834080" y="1367640"/>
                <a:ext cx="1374840" cy="1383840"/>
              </a:xfrm>
              <a:custGeom>
                <a:avLst/>
                <a:gdLst/>
                <a:ahLst/>
                <a:rect l="l" t="t" r="r" b="b"/>
                <a:pathLst>
                  <a:path w="1692" h="1704">
                    <a:moveTo>
                      <a:pt x="856" y="1"/>
                    </a:moveTo>
                    <a:cubicBezTo>
                      <a:pt x="822" y="0"/>
                      <a:pt x="790" y="1"/>
                      <a:pt x="758" y="4"/>
                    </a:cubicBezTo>
                    <a:cubicBezTo>
                      <a:pt x="0" y="981"/>
                      <a:pt x="0" y="981"/>
                      <a:pt x="0" y="981"/>
                    </a:cubicBezTo>
                    <a:cubicBezTo>
                      <a:pt x="63" y="1376"/>
                      <a:pt x="400" y="1682"/>
                      <a:pt x="814" y="1692"/>
                    </a:cubicBezTo>
                    <a:cubicBezTo>
                      <a:pt x="1281" y="1704"/>
                      <a:pt x="1669" y="1334"/>
                      <a:pt x="1680" y="867"/>
                    </a:cubicBezTo>
                    <a:cubicBezTo>
                      <a:pt x="1692" y="400"/>
                      <a:pt x="1323" y="12"/>
                      <a:pt x="856" y="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0000"/>
                  </a:gs>
                  <a:gs pos="100000">
                    <a:srgbClr val="ff6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Freeform 24"/>
              <p:cNvSpPr/>
              <p:nvPr/>
            </p:nvSpPr>
            <p:spPr>
              <a:xfrm>
                <a:off x="4781520" y="1318680"/>
                <a:ext cx="708120" cy="892440"/>
              </a:xfrm>
              <a:custGeom>
                <a:avLst/>
                <a:gdLst/>
                <a:ahLst/>
                <a:rect l="l" t="t" r="r" b="b"/>
                <a:pathLst>
                  <a:path w="871" h="1099">
                    <a:moveTo>
                      <a:pt x="870" y="214"/>
                    </a:moveTo>
                    <a:cubicBezTo>
                      <a:pt x="871" y="140"/>
                      <a:pt x="864" y="69"/>
                      <a:pt x="849" y="0"/>
                    </a:cubicBezTo>
                    <a:cubicBezTo>
                      <a:pt x="0" y="1099"/>
                      <a:pt x="0" y="1099"/>
                      <a:pt x="0" y="1099"/>
                    </a:cubicBezTo>
                    <a:cubicBezTo>
                      <a:pt x="474" y="1079"/>
                      <a:pt x="858" y="695"/>
                      <a:pt x="870" y="21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2a2a2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1" name="Text Box 31"/>
            <p:cNvSpPr/>
            <p:nvPr/>
          </p:nvSpPr>
          <p:spPr>
            <a:xfrm>
              <a:off x="5039280" y="1909440"/>
              <a:ext cx="928440" cy="96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 baseline="-25000">
                  <a:solidFill>
                    <a:srgbClr val="ffffff"/>
                  </a:solidFill>
                  <a:latin typeface="微软雅黑"/>
                  <a:ea typeface="微软雅黑"/>
                </a:rPr>
                <a:t>标题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2" name="组合 19"/>
          <p:cNvGrpSpPr/>
          <p:nvPr/>
        </p:nvGrpSpPr>
        <p:grpSpPr>
          <a:xfrm>
            <a:off x="6777000" y="1316160"/>
            <a:ext cx="1476360" cy="1554120"/>
            <a:chOff x="6777000" y="1316160"/>
            <a:chExt cx="1476360" cy="1554120"/>
          </a:xfrm>
        </p:grpSpPr>
        <p:grpSp>
          <p:nvGrpSpPr>
            <p:cNvPr id="743" name="Group 9"/>
            <p:cNvGrpSpPr/>
            <p:nvPr/>
          </p:nvGrpSpPr>
          <p:grpSpPr>
            <a:xfrm>
              <a:off x="6777000" y="1316160"/>
              <a:ext cx="1476360" cy="1485720"/>
              <a:chOff x="6777000" y="1316160"/>
              <a:chExt cx="1476360" cy="1485720"/>
            </a:xfrm>
          </p:grpSpPr>
          <p:sp>
            <p:nvSpPr>
              <p:cNvPr id="744" name="Freeform 10"/>
              <p:cNvSpPr/>
              <p:nvPr/>
            </p:nvSpPr>
            <p:spPr>
              <a:xfrm>
                <a:off x="6784920" y="1316160"/>
                <a:ext cx="1468440" cy="1485720"/>
              </a:xfrm>
              <a:custGeom>
                <a:avLst/>
                <a:gdLst/>
                <a:ahLst/>
                <a:rect l="l" t="t" r="r" b="b"/>
                <a:pathLst>
                  <a:path w="1809" h="1829">
                    <a:moveTo>
                      <a:pt x="910" y="0"/>
                    </a:moveTo>
                    <a:cubicBezTo>
                      <a:pt x="890" y="0"/>
                      <a:pt x="869" y="0"/>
                      <a:pt x="849" y="1"/>
                    </a:cubicBezTo>
                    <a:cubicBezTo>
                      <a:pt x="0" y="1100"/>
                      <a:pt x="0" y="1100"/>
                      <a:pt x="0" y="1100"/>
                    </a:cubicBezTo>
                    <a:cubicBezTo>
                      <a:pt x="86" y="1501"/>
                      <a:pt x="438" y="1806"/>
                      <a:pt x="866" y="1817"/>
                    </a:cubicBezTo>
                    <a:cubicBezTo>
                      <a:pt x="1367" y="1829"/>
                      <a:pt x="1784" y="1432"/>
                      <a:pt x="1796" y="931"/>
                    </a:cubicBezTo>
                    <a:cubicBezTo>
                      <a:pt x="1809" y="429"/>
                      <a:pt x="1412" y="12"/>
                      <a:pt x="91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a2a2a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Freeform 11"/>
              <p:cNvSpPr/>
              <p:nvPr/>
            </p:nvSpPr>
            <p:spPr>
              <a:xfrm>
                <a:off x="6829560" y="1367640"/>
                <a:ext cx="1374840" cy="1383840"/>
              </a:xfrm>
              <a:custGeom>
                <a:avLst/>
                <a:gdLst/>
                <a:ahLst/>
                <a:rect l="l" t="t" r="r" b="b"/>
                <a:pathLst>
                  <a:path w="1692" h="1704">
                    <a:moveTo>
                      <a:pt x="856" y="1"/>
                    </a:moveTo>
                    <a:cubicBezTo>
                      <a:pt x="822" y="0"/>
                      <a:pt x="790" y="1"/>
                      <a:pt x="758" y="4"/>
                    </a:cubicBezTo>
                    <a:cubicBezTo>
                      <a:pt x="0" y="981"/>
                      <a:pt x="0" y="981"/>
                      <a:pt x="0" y="981"/>
                    </a:cubicBezTo>
                    <a:cubicBezTo>
                      <a:pt x="63" y="1376"/>
                      <a:pt x="400" y="1682"/>
                      <a:pt x="814" y="1692"/>
                    </a:cubicBezTo>
                    <a:cubicBezTo>
                      <a:pt x="1281" y="1704"/>
                      <a:pt x="1669" y="1334"/>
                      <a:pt x="1680" y="867"/>
                    </a:cubicBezTo>
                    <a:cubicBezTo>
                      <a:pt x="1692" y="400"/>
                      <a:pt x="1323" y="12"/>
                      <a:pt x="856" y="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33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Freeform 12"/>
              <p:cNvSpPr/>
              <p:nvPr/>
            </p:nvSpPr>
            <p:spPr>
              <a:xfrm>
                <a:off x="6777000" y="1318680"/>
                <a:ext cx="708120" cy="892440"/>
              </a:xfrm>
              <a:custGeom>
                <a:avLst/>
                <a:gdLst/>
                <a:ahLst/>
                <a:rect l="l" t="t" r="r" b="b"/>
                <a:pathLst>
                  <a:path w="871" h="1099">
                    <a:moveTo>
                      <a:pt x="870" y="214"/>
                    </a:moveTo>
                    <a:cubicBezTo>
                      <a:pt x="871" y="140"/>
                      <a:pt x="864" y="69"/>
                      <a:pt x="849" y="0"/>
                    </a:cubicBezTo>
                    <a:cubicBezTo>
                      <a:pt x="0" y="1099"/>
                      <a:pt x="0" y="1099"/>
                      <a:pt x="0" y="1099"/>
                    </a:cubicBezTo>
                    <a:cubicBezTo>
                      <a:pt x="474" y="1079"/>
                      <a:pt x="858" y="695"/>
                      <a:pt x="870" y="21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2a2a2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7" name="Text Box 32"/>
            <p:cNvSpPr/>
            <p:nvPr/>
          </p:nvSpPr>
          <p:spPr>
            <a:xfrm>
              <a:off x="7047720" y="1909440"/>
              <a:ext cx="928440" cy="96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 baseline="-25000">
                  <a:solidFill>
                    <a:srgbClr val="ffffff"/>
                  </a:solidFill>
                  <a:latin typeface="微软雅黑"/>
                  <a:ea typeface="微软雅黑"/>
                </a:rPr>
                <a:t>标题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8" name="组合 25"/>
          <p:cNvGrpSpPr/>
          <p:nvPr/>
        </p:nvGrpSpPr>
        <p:grpSpPr>
          <a:xfrm>
            <a:off x="800280" y="3532320"/>
            <a:ext cx="1365120" cy="3275640"/>
            <a:chOff x="800280" y="3532320"/>
            <a:chExt cx="1365120" cy="3275640"/>
          </a:xfrm>
        </p:grpSpPr>
        <p:grpSp>
          <p:nvGrpSpPr>
            <p:cNvPr id="749" name="Group 51"/>
            <p:cNvGrpSpPr/>
            <p:nvPr/>
          </p:nvGrpSpPr>
          <p:grpSpPr>
            <a:xfrm>
              <a:off x="800280" y="3772080"/>
              <a:ext cx="1361160" cy="1361880"/>
              <a:chOff x="800280" y="3772080"/>
              <a:chExt cx="1361160" cy="1361880"/>
            </a:xfrm>
          </p:grpSpPr>
          <p:sp>
            <p:nvSpPr>
              <p:cNvPr id="750" name="Freeform 52"/>
              <p:cNvSpPr/>
              <p:nvPr/>
            </p:nvSpPr>
            <p:spPr>
              <a:xfrm>
                <a:off x="800280" y="3779280"/>
                <a:ext cx="1353600" cy="1354320"/>
              </a:xfrm>
              <a:custGeom>
                <a:avLst/>
                <a:gdLst/>
                <a:ahLst/>
                <a:rect l="l" t="t" r="r" b="b"/>
                <a:pathLst>
                  <a:path w="942" h="942">
                    <a:moveTo>
                      <a:pt x="942" y="654"/>
                    </a:moveTo>
                    <a:cubicBezTo>
                      <a:pt x="942" y="57"/>
                      <a:pt x="942" y="57"/>
                      <a:pt x="942" y="57"/>
                    </a:cubicBezTo>
                    <a:cubicBezTo>
                      <a:pt x="942" y="25"/>
                      <a:pt x="917" y="0"/>
                      <a:pt x="885" y="0"/>
                    </a:cubicBezTo>
                    <a:cubicBezTo>
                      <a:pt x="57" y="0"/>
                      <a:pt x="57" y="0"/>
                      <a:pt x="57" y="0"/>
                    </a:cubicBezTo>
                    <a:cubicBezTo>
                      <a:pt x="26" y="0"/>
                      <a:pt x="0" y="25"/>
                      <a:pt x="0" y="57"/>
                    </a:cubicBezTo>
                    <a:cubicBezTo>
                      <a:pt x="0" y="885"/>
                      <a:pt x="0" y="885"/>
                      <a:pt x="0" y="885"/>
                    </a:cubicBezTo>
                    <a:cubicBezTo>
                      <a:pt x="0" y="916"/>
                      <a:pt x="26" y="942"/>
                      <a:pt x="57" y="942"/>
                    </a:cubicBezTo>
                    <a:cubicBezTo>
                      <a:pt x="654" y="942"/>
                      <a:pt x="654" y="942"/>
                      <a:pt x="654" y="942"/>
                    </a:cubicBezTo>
                    <a:lnTo>
                      <a:pt x="942" y="6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99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Freeform 53"/>
              <p:cNvSpPr/>
              <p:nvPr/>
            </p:nvSpPr>
            <p:spPr>
              <a:xfrm>
                <a:off x="1653120" y="4802760"/>
                <a:ext cx="413640" cy="330840"/>
              </a:xfrm>
              <a:custGeom>
                <a:avLst/>
                <a:gdLst/>
                <a:ahLst/>
                <a:rect l="l" t="t" r="r" b="b"/>
                <a:pathLst>
                  <a:path w="288" h="231">
                    <a:moveTo>
                      <a:pt x="0" y="57"/>
                    </a:moveTo>
                    <a:cubicBezTo>
                      <a:pt x="0" y="231"/>
                      <a:pt x="0" y="231"/>
                      <a:pt x="0" y="231"/>
                    </a:cubicBezTo>
                    <a:cubicBezTo>
                      <a:pt x="57" y="231"/>
                      <a:pt x="57" y="231"/>
                      <a:pt x="57" y="231"/>
                    </a:cubicBezTo>
                    <a:cubicBezTo>
                      <a:pt x="288" y="0"/>
                      <a:pt x="288" y="0"/>
                      <a:pt x="288" y="0"/>
                    </a:cubicBezTo>
                    <a:cubicBezTo>
                      <a:pt x="57" y="0"/>
                      <a:pt x="57" y="0"/>
                      <a:pt x="57" y="0"/>
                    </a:cubicBezTo>
                    <a:cubicBezTo>
                      <a:pt x="25" y="0"/>
                      <a:pt x="0" y="26"/>
                      <a:pt x="0" y="5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ffff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Freeform 54"/>
              <p:cNvSpPr/>
              <p:nvPr/>
            </p:nvSpPr>
            <p:spPr>
              <a:xfrm>
                <a:off x="800280" y="3772080"/>
                <a:ext cx="1353600" cy="558000"/>
              </a:xfrm>
              <a:custGeom>
                <a:avLst/>
                <a:gdLst/>
                <a:ahLst/>
                <a:rect l="l" t="t" r="r" b="b"/>
                <a:pathLst>
                  <a:path w="942" h="388">
                    <a:moveTo>
                      <a:pt x="885" y="0"/>
                    </a:moveTo>
                    <a:cubicBezTo>
                      <a:pt x="57" y="0"/>
                      <a:pt x="57" y="0"/>
                      <a:pt x="57" y="0"/>
                    </a:cubicBezTo>
                    <a:cubicBezTo>
                      <a:pt x="26" y="0"/>
                      <a:pt x="0" y="26"/>
                      <a:pt x="0" y="57"/>
                    </a:cubicBezTo>
                    <a:cubicBezTo>
                      <a:pt x="0" y="353"/>
                      <a:pt x="0" y="353"/>
                      <a:pt x="0" y="353"/>
                    </a:cubicBezTo>
                    <a:cubicBezTo>
                      <a:pt x="109" y="376"/>
                      <a:pt x="232" y="388"/>
                      <a:pt x="362" y="388"/>
                    </a:cubicBezTo>
                    <a:cubicBezTo>
                      <a:pt x="589" y="388"/>
                      <a:pt x="794" y="350"/>
                      <a:pt x="942" y="287"/>
                    </a:cubicBezTo>
                    <a:cubicBezTo>
                      <a:pt x="942" y="57"/>
                      <a:pt x="942" y="57"/>
                      <a:pt x="942" y="57"/>
                    </a:cubicBezTo>
                    <a:cubicBezTo>
                      <a:pt x="942" y="26"/>
                      <a:pt x="917" y="0"/>
                      <a:pt x="885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99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Freeform 55"/>
              <p:cNvSpPr/>
              <p:nvPr/>
            </p:nvSpPr>
            <p:spPr>
              <a:xfrm>
                <a:off x="1747800" y="4718880"/>
                <a:ext cx="413640" cy="415080"/>
              </a:xfrm>
              <a:custGeom>
                <a:avLst/>
                <a:gdLst/>
                <a:ahLst/>
                <a:rect l="l" t="t" r="r" b="b"/>
                <a:pathLst>
                  <a:path w="288" h="288">
                    <a:moveTo>
                      <a:pt x="288" y="0"/>
                    </a:moveTo>
                    <a:cubicBezTo>
                      <a:pt x="57" y="0"/>
                      <a:pt x="57" y="0"/>
                      <a:pt x="57" y="0"/>
                    </a:cubicBezTo>
                    <a:cubicBezTo>
                      <a:pt x="26" y="0"/>
                      <a:pt x="0" y="26"/>
                      <a:pt x="0" y="57"/>
                    </a:cubicBezTo>
                    <a:cubicBezTo>
                      <a:pt x="0" y="288"/>
                      <a:pt x="0" y="288"/>
                      <a:pt x="0" y="288"/>
                    </a:cubicBezTo>
                    <a:lnTo>
                      <a:pt x="28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babab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4" name="Text Box 33"/>
            <p:cNvSpPr/>
            <p:nvPr/>
          </p:nvSpPr>
          <p:spPr>
            <a:xfrm>
              <a:off x="804240" y="3532320"/>
              <a:ext cx="1361160" cy="32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990000"/>
                  </a:solidFill>
                  <a:latin typeface="微软雅黑"/>
                  <a:ea typeface="微软雅黑"/>
                </a:rPr>
                <a:t>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 baseline="-25000">
                  <a:solidFill>
                    <a:srgbClr val="ffffff"/>
                  </a:solidFill>
                  <a:latin typeface="微软雅黑"/>
                  <a:ea typeface="微软雅黑"/>
                </a:rPr>
                <a:t>此处添加文本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 baseline="-25000">
                  <a:solidFill>
                    <a:srgbClr val="ffffff"/>
                  </a:solidFill>
                  <a:latin typeface="微软雅黑"/>
                  <a:ea typeface="微软雅黑"/>
                </a:rPr>
                <a:t>此处添加文本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 baseline="-25000">
                  <a:solidFill>
                    <a:srgbClr val="ffffff"/>
                  </a:solidFill>
                  <a:latin typeface="微软雅黑"/>
                  <a:ea typeface="微软雅黑"/>
                </a:rPr>
                <a:t>此处添加文本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 baseline="-25000">
                  <a:solidFill>
                    <a:srgbClr val="ffffff"/>
                  </a:solidFill>
                  <a:latin typeface="微软雅黑"/>
                  <a:ea typeface="微软雅黑"/>
                </a:rPr>
                <a:t>此处添加文本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 baseline="-25000">
                  <a:solidFill>
                    <a:srgbClr val="ffffff"/>
                  </a:solidFill>
                  <a:latin typeface="微软雅黑"/>
                  <a:ea typeface="微软雅黑"/>
                </a:rPr>
                <a:t>此处添加文本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 baseline="-25000">
                  <a:solidFill>
                    <a:srgbClr val="ffffff"/>
                  </a:solidFill>
                  <a:latin typeface="微软雅黑"/>
                  <a:ea typeface="微软雅黑"/>
                </a:rPr>
                <a:t>此处添加文本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 baseline="-25000">
                  <a:solidFill>
                    <a:srgbClr val="ffffff"/>
                  </a:solidFill>
                  <a:latin typeface="微软雅黑"/>
                  <a:ea typeface="微软雅黑"/>
                </a:rPr>
                <a:t>此处添加文本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 baseline="-25000">
                  <a:solidFill>
                    <a:srgbClr val="ffffff"/>
                  </a:solidFill>
                  <a:latin typeface="微软雅黑"/>
                  <a:ea typeface="微软雅黑"/>
                </a:rPr>
                <a:t>此处添加文本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 baseline="-25000">
                  <a:solidFill>
                    <a:srgbClr val="ffffff"/>
                  </a:solidFill>
                  <a:latin typeface="微软雅黑"/>
                  <a:ea typeface="微软雅黑"/>
                </a:rPr>
                <a:t>此处添加文本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 baseline="-25000">
                  <a:solidFill>
                    <a:srgbClr val="ffffff"/>
                  </a:solidFill>
                  <a:latin typeface="微软雅黑"/>
                  <a:ea typeface="微软雅黑"/>
                </a:rPr>
                <a:t>此处添加文本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 baseline="-25000">
                  <a:solidFill>
                    <a:srgbClr val="ffffff"/>
                  </a:solidFill>
                  <a:latin typeface="微软雅黑"/>
                  <a:ea typeface="微软雅黑"/>
                </a:rPr>
                <a:t>此处添加文本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5" name="组合 32"/>
          <p:cNvGrpSpPr/>
          <p:nvPr/>
        </p:nvGrpSpPr>
        <p:grpSpPr>
          <a:xfrm>
            <a:off x="2743200" y="3522600"/>
            <a:ext cx="1362240" cy="3275640"/>
            <a:chOff x="2743200" y="3522600"/>
            <a:chExt cx="1362240" cy="3275640"/>
          </a:xfrm>
        </p:grpSpPr>
        <p:grpSp>
          <p:nvGrpSpPr>
            <p:cNvPr id="756" name="Group 41"/>
            <p:cNvGrpSpPr/>
            <p:nvPr/>
          </p:nvGrpSpPr>
          <p:grpSpPr>
            <a:xfrm>
              <a:off x="2743200" y="3769920"/>
              <a:ext cx="1362240" cy="1361880"/>
              <a:chOff x="2743200" y="3769920"/>
              <a:chExt cx="1362240" cy="1361880"/>
            </a:xfrm>
          </p:grpSpPr>
          <p:sp>
            <p:nvSpPr>
              <p:cNvPr id="757" name="Freeform 42"/>
              <p:cNvSpPr/>
              <p:nvPr/>
            </p:nvSpPr>
            <p:spPr>
              <a:xfrm>
                <a:off x="2743200" y="3777480"/>
                <a:ext cx="1354320" cy="1353960"/>
              </a:xfrm>
              <a:custGeom>
                <a:avLst/>
                <a:gdLst/>
                <a:ahLst/>
                <a:rect l="l" t="t" r="r" b="b"/>
                <a:pathLst>
                  <a:path w="942" h="942">
                    <a:moveTo>
                      <a:pt x="942" y="654"/>
                    </a:moveTo>
                    <a:cubicBezTo>
                      <a:pt x="942" y="57"/>
                      <a:pt x="942" y="57"/>
                      <a:pt x="942" y="57"/>
                    </a:cubicBezTo>
                    <a:cubicBezTo>
                      <a:pt x="942" y="25"/>
                      <a:pt x="917" y="0"/>
                      <a:pt x="885" y="0"/>
                    </a:cubicBezTo>
                    <a:cubicBezTo>
                      <a:pt x="57" y="0"/>
                      <a:pt x="57" y="0"/>
                      <a:pt x="57" y="0"/>
                    </a:cubicBezTo>
                    <a:cubicBezTo>
                      <a:pt x="26" y="0"/>
                      <a:pt x="0" y="25"/>
                      <a:pt x="0" y="57"/>
                    </a:cubicBezTo>
                    <a:cubicBezTo>
                      <a:pt x="0" y="885"/>
                      <a:pt x="0" y="885"/>
                      <a:pt x="0" y="885"/>
                    </a:cubicBezTo>
                    <a:cubicBezTo>
                      <a:pt x="0" y="916"/>
                      <a:pt x="26" y="942"/>
                      <a:pt x="57" y="942"/>
                    </a:cubicBezTo>
                    <a:cubicBezTo>
                      <a:pt x="654" y="942"/>
                      <a:pt x="654" y="942"/>
                      <a:pt x="654" y="942"/>
                    </a:cubicBezTo>
                    <a:lnTo>
                      <a:pt x="942" y="6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0000"/>
                  </a:gs>
                  <a:gs pos="100000">
                    <a:srgbClr val="ff474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Freeform 43"/>
              <p:cNvSpPr/>
              <p:nvPr/>
            </p:nvSpPr>
            <p:spPr>
              <a:xfrm>
                <a:off x="3596400" y="4799520"/>
                <a:ext cx="414000" cy="332280"/>
              </a:xfrm>
              <a:custGeom>
                <a:avLst/>
                <a:gdLst/>
                <a:ahLst/>
                <a:rect l="l" t="t" r="r" b="b"/>
                <a:pathLst>
                  <a:path w="288" h="231">
                    <a:moveTo>
                      <a:pt x="0" y="57"/>
                    </a:moveTo>
                    <a:cubicBezTo>
                      <a:pt x="0" y="231"/>
                      <a:pt x="0" y="231"/>
                      <a:pt x="0" y="231"/>
                    </a:cubicBezTo>
                    <a:cubicBezTo>
                      <a:pt x="57" y="231"/>
                      <a:pt x="57" y="231"/>
                      <a:pt x="57" y="231"/>
                    </a:cubicBezTo>
                    <a:cubicBezTo>
                      <a:pt x="288" y="0"/>
                      <a:pt x="288" y="0"/>
                      <a:pt x="288" y="0"/>
                    </a:cubicBezTo>
                    <a:cubicBezTo>
                      <a:pt x="57" y="0"/>
                      <a:pt x="57" y="0"/>
                      <a:pt x="57" y="0"/>
                    </a:cubicBezTo>
                    <a:cubicBezTo>
                      <a:pt x="25" y="0"/>
                      <a:pt x="0" y="26"/>
                      <a:pt x="0" y="5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c0000"/>
                  </a:gs>
                  <a:gs pos="100000">
                    <a:srgbClr val="e1001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Freeform 44"/>
              <p:cNvSpPr/>
              <p:nvPr/>
            </p:nvSpPr>
            <p:spPr>
              <a:xfrm>
                <a:off x="2743200" y="3769920"/>
                <a:ext cx="1354320" cy="556920"/>
              </a:xfrm>
              <a:custGeom>
                <a:avLst/>
                <a:gdLst/>
                <a:ahLst/>
                <a:rect l="l" t="t" r="r" b="b"/>
                <a:pathLst>
                  <a:path w="942" h="388">
                    <a:moveTo>
                      <a:pt x="885" y="0"/>
                    </a:moveTo>
                    <a:cubicBezTo>
                      <a:pt x="57" y="0"/>
                      <a:pt x="57" y="0"/>
                      <a:pt x="57" y="0"/>
                    </a:cubicBezTo>
                    <a:cubicBezTo>
                      <a:pt x="26" y="0"/>
                      <a:pt x="0" y="26"/>
                      <a:pt x="0" y="57"/>
                    </a:cubicBezTo>
                    <a:cubicBezTo>
                      <a:pt x="0" y="353"/>
                      <a:pt x="0" y="353"/>
                      <a:pt x="0" y="353"/>
                    </a:cubicBezTo>
                    <a:cubicBezTo>
                      <a:pt x="109" y="376"/>
                      <a:pt x="232" y="388"/>
                      <a:pt x="362" y="388"/>
                    </a:cubicBezTo>
                    <a:cubicBezTo>
                      <a:pt x="589" y="388"/>
                      <a:pt x="794" y="350"/>
                      <a:pt x="942" y="287"/>
                    </a:cubicBezTo>
                    <a:cubicBezTo>
                      <a:pt x="942" y="57"/>
                      <a:pt x="942" y="57"/>
                      <a:pt x="942" y="57"/>
                    </a:cubicBezTo>
                    <a:cubicBezTo>
                      <a:pt x="942" y="26"/>
                      <a:pt x="917" y="0"/>
                      <a:pt x="885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4747"/>
                  </a:gs>
                  <a:gs pos="100000">
                    <a:srgbClr val="ff474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Freeform 45"/>
              <p:cNvSpPr/>
              <p:nvPr/>
            </p:nvSpPr>
            <p:spPr>
              <a:xfrm>
                <a:off x="3691440" y="4717800"/>
                <a:ext cx="414000" cy="413640"/>
              </a:xfrm>
              <a:custGeom>
                <a:avLst/>
                <a:gdLst/>
                <a:ahLst/>
                <a:rect l="l" t="t" r="r" b="b"/>
                <a:pathLst>
                  <a:path w="288" h="288">
                    <a:moveTo>
                      <a:pt x="288" y="0"/>
                    </a:moveTo>
                    <a:cubicBezTo>
                      <a:pt x="57" y="0"/>
                      <a:pt x="57" y="0"/>
                      <a:pt x="57" y="0"/>
                    </a:cubicBezTo>
                    <a:cubicBezTo>
                      <a:pt x="26" y="0"/>
                      <a:pt x="0" y="26"/>
                      <a:pt x="0" y="57"/>
                    </a:cubicBezTo>
                    <a:cubicBezTo>
                      <a:pt x="0" y="288"/>
                      <a:pt x="0" y="288"/>
                      <a:pt x="0" y="288"/>
                    </a:cubicBezTo>
                    <a:lnTo>
                      <a:pt x="28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babab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1" name="Text Box 34"/>
            <p:cNvSpPr/>
            <p:nvPr/>
          </p:nvSpPr>
          <p:spPr>
            <a:xfrm>
              <a:off x="2743200" y="3522600"/>
              <a:ext cx="1362240" cy="32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c0000"/>
                  </a:solidFill>
                  <a:latin typeface="微软雅黑"/>
                  <a:ea typeface="微软雅黑"/>
                </a:rPr>
                <a:t>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 baseline="-25000">
                  <a:solidFill>
                    <a:srgbClr val="ffffff"/>
                  </a:solidFill>
                  <a:latin typeface="微软雅黑"/>
                  <a:ea typeface="微软雅黑"/>
                </a:rPr>
                <a:t>此处添加文本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 baseline="-25000">
                  <a:solidFill>
                    <a:srgbClr val="ffffff"/>
                  </a:solidFill>
                  <a:latin typeface="微软雅黑"/>
                  <a:ea typeface="微软雅黑"/>
                </a:rPr>
                <a:t>此处添加文本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 baseline="-25000">
                  <a:solidFill>
                    <a:srgbClr val="ffffff"/>
                  </a:solidFill>
                  <a:latin typeface="微软雅黑"/>
                  <a:ea typeface="微软雅黑"/>
                </a:rPr>
                <a:t>此处添加文本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 baseline="-25000">
                  <a:solidFill>
                    <a:srgbClr val="ffffff"/>
                  </a:solidFill>
                  <a:latin typeface="微软雅黑"/>
                  <a:ea typeface="微软雅黑"/>
                </a:rPr>
                <a:t>此处添加文本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 baseline="-25000">
                  <a:solidFill>
                    <a:srgbClr val="ffffff"/>
                  </a:solidFill>
                  <a:latin typeface="微软雅黑"/>
                  <a:ea typeface="微软雅黑"/>
                </a:rPr>
                <a:t>此处添加文本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 baseline="-25000">
                  <a:solidFill>
                    <a:srgbClr val="ffffff"/>
                  </a:solidFill>
                  <a:latin typeface="微软雅黑"/>
                  <a:ea typeface="微软雅黑"/>
                </a:rPr>
                <a:t>此处添加文本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 baseline="-25000">
                  <a:solidFill>
                    <a:srgbClr val="ffffff"/>
                  </a:solidFill>
                  <a:latin typeface="微软雅黑"/>
                  <a:ea typeface="微软雅黑"/>
                </a:rPr>
                <a:t>此处添加文本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 baseline="-25000">
                  <a:solidFill>
                    <a:srgbClr val="ffffff"/>
                  </a:solidFill>
                  <a:latin typeface="微软雅黑"/>
                  <a:ea typeface="微软雅黑"/>
                </a:rPr>
                <a:t>此处添加文本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 baseline="-25000">
                  <a:solidFill>
                    <a:srgbClr val="ffffff"/>
                  </a:solidFill>
                  <a:latin typeface="微软雅黑"/>
                  <a:ea typeface="微软雅黑"/>
                </a:rPr>
                <a:t>此处添加文本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 baseline="-25000">
                  <a:solidFill>
                    <a:srgbClr val="ffffff"/>
                  </a:solidFill>
                  <a:latin typeface="微软雅黑"/>
                  <a:ea typeface="微软雅黑"/>
                </a:rPr>
                <a:t>此处添加文本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 baseline="-25000">
                  <a:solidFill>
                    <a:srgbClr val="ffffff"/>
                  </a:solidFill>
                  <a:latin typeface="微软雅黑"/>
                  <a:ea typeface="微软雅黑"/>
                </a:rPr>
                <a:t>此处添加文本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2" name="组合 39"/>
          <p:cNvGrpSpPr/>
          <p:nvPr/>
        </p:nvGrpSpPr>
        <p:grpSpPr>
          <a:xfrm>
            <a:off x="4761000" y="3532320"/>
            <a:ext cx="1368360" cy="3275640"/>
            <a:chOff x="4761000" y="3532320"/>
            <a:chExt cx="1368360" cy="3275640"/>
          </a:xfrm>
        </p:grpSpPr>
        <p:grpSp>
          <p:nvGrpSpPr>
            <p:cNvPr id="763" name="Group 46"/>
            <p:cNvGrpSpPr/>
            <p:nvPr/>
          </p:nvGrpSpPr>
          <p:grpSpPr>
            <a:xfrm>
              <a:off x="4768560" y="3772080"/>
              <a:ext cx="1360800" cy="1361880"/>
              <a:chOff x="4768560" y="3772080"/>
              <a:chExt cx="1360800" cy="1361880"/>
            </a:xfrm>
          </p:grpSpPr>
          <p:sp>
            <p:nvSpPr>
              <p:cNvPr id="764" name="Freeform 47"/>
              <p:cNvSpPr/>
              <p:nvPr/>
            </p:nvSpPr>
            <p:spPr>
              <a:xfrm>
                <a:off x="4768560" y="3779640"/>
                <a:ext cx="1352880" cy="1353960"/>
              </a:xfrm>
              <a:custGeom>
                <a:avLst/>
                <a:gdLst/>
                <a:ahLst/>
                <a:rect l="l" t="t" r="r" b="b"/>
                <a:pathLst>
                  <a:path w="942" h="942">
                    <a:moveTo>
                      <a:pt x="942" y="654"/>
                    </a:moveTo>
                    <a:cubicBezTo>
                      <a:pt x="942" y="57"/>
                      <a:pt x="942" y="57"/>
                      <a:pt x="942" y="57"/>
                    </a:cubicBezTo>
                    <a:cubicBezTo>
                      <a:pt x="942" y="25"/>
                      <a:pt x="917" y="0"/>
                      <a:pt x="885" y="0"/>
                    </a:cubicBezTo>
                    <a:cubicBezTo>
                      <a:pt x="57" y="0"/>
                      <a:pt x="57" y="0"/>
                      <a:pt x="57" y="0"/>
                    </a:cubicBezTo>
                    <a:cubicBezTo>
                      <a:pt x="26" y="0"/>
                      <a:pt x="0" y="25"/>
                      <a:pt x="0" y="57"/>
                    </a:cubicBezTo>
                    <a:cubicBezTo>
                      <a:pt x="0" y="885"/>
                      <a:pt x="0" y="885"/>
                      <a:pt x="0" y="885"/>
                    </a:cubicBezTo>
                    <a:cubicBezTo>
                      <a:pt x="0" y="916"/>
                      <a:pt x="26" y="942"/>
                      <a:pt x="57" y="942"/>
                    </a:cubicBezTo>
                    <a:cubicBezTo>
                      <a:pt x="654" y="942"/>
                      <a:pt x="654" y="942"/>
                      <a:pt x="654" y="942"/>
                    </a:cubicBezTo>
                    <a:lnTo>
                      <a:pt x="942" y="6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6600"/>
                  </a:gs>
                  <a:gs pos="100000">
                    <a:srgbClr val="ff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Freeform 48"/>
              <p:cNvSpPr/>
              <p:nvPr/>
            </p:nvSpPr>
            <p:spPr>
              <a:xfrm>
                <a:off x="5619960" y="4800960"/>
                <a:ext cx="413640" cy="333000"/>
              </a:xfrm>
              <a:custGeom>
                <a:avLst/>
                <a:gdLst/>
                <a:ahLst/>
                <a:rect l="l" t="t" r="r" b="b"/>
                <a:pathLst>
                  <a:path w="288" h="231">
                    <a:moveTo>
                      <a:pt x="0" y="57"/>
                    </a:moveTo>
                    <a:cubicBezTo>
                      <a:pt x="0" y="231"/>
                      <a:pt x="0" y="231"/>
                      <a:pt x="0" y="231"/>
                    </a:cubicBezTo>
                    <a:cubicBezTo>
                      <a:pt x="57" y="231"/>
                      <a:pt x="57" y="231"/>
                      <a:pt x="57" y="231"/>
                    </a:cubicBezTo>
                    <a:cubicBezTo>
                      <a:pt x="288" y="0"/>
                      <a:pt x="288" y="0"/>
                      <a:pt x="288" y="0"/>
                    </a:cubicBezTo>
                    <a:cubicBezTo>
                      <a:pt x="57" y="0"/>
                      <a:pt x="57" y="0"/>
                      <a:pt x="57" y="0"/>
                    </a:cubicBezTo>
                    <a:cubicBezTo>
                      <a:pt x="25" y="0"/>
                      <a:pt x="0" y="26"/>
                      <a:pt x="0" y="5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6600"/>
                  </a:gs>
                  <a:gs pos="100000">
                    <a:srgbClr val="ff33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Freeform 49"/>
              <p:cNvSpPr/>
              <p:nvPr/>
            </p:nvSpPr>
            <p:spPr>
              <a:xfrm>
                <a:off x="4768560" y="3772080"/>
                <a:ext cx="1352880" cy="556920"/>
              </a:xfrm>
              <a:custGeom>
                <a:avLst/>
                <a:gdLst/>
                <a:ahLst/>
                <a:rect l="l" t="t" r="r" b="b"/>
                <a:pathLst>
                  <a:path w="942" h="388">
                    <a:moveTo>
                      <a:pt x="885" y="0"/>
                    </a:moveTo>
                    <a:cubicBezTo>
                      <a:pt x="57" y="0"/>
                      <a:pt x="57" y="0"/>
                      <a:pt x="57" y="0"/>
                    </a:cubicBezTo>
                    <a:cubicBezTo>
                      <a:pt x="26" y="0"/>
                      <a:pt x="0" y="26"/>
                      <a:pt x="0" y="57"/>
                    </a:cubicBezTo>
                    <a:cubicBezTo>
                      <a:pt x="0" y="353"/>
                      <a:pt x="0" y="353"/>
                      <a:pt x="0" y="353"/>
                    </a:cubicBezTo>
                    <a:cubicBezTo>
                      <a:pt x="109" y="376"/>
                      <a:pt x="232" y="388"/>
                      <a:pt x="362" y="388"/>
                    </a:cubicBezTo>
                    <a:cubicBezTo>
                      <a:pt x="589" y="388"/>
                      <a:pt x="794" y="350"/>
                      <a:pt x="942" y="287"/>
                    </a:cubicBezTo>
                    <a:cubicBezTo>
                      <a:pt x="942" y="57"/>
                      <a:pt x="942" y="57"/>
                      <a:pt x="942" y="57"/>
                    </a:cubicBezTo>
                    <a:cubicBezTo>
                      <a:pt x="942" y="26"/>
                      <a:pt x="917" y="0"/>
                      <a:pt x="885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6600"/>
                  </a:gs>
                  <a:gs pos="100000">
                    <a:srgbClr val="ff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Freeform 50"/>
              <p:cNvSpPr/>
              <p:nvPr/>
            </p:nvSpPr>
            <p:spPr>
              <a:xfrm>
                <a:off x="5715720" y="4719960"/>
                <a:ext cx="413640" cy="414000"/>
              </a:xfrm>
              <a:custGeom>
                <a:avLst/>
                <a:gdLst/>
                <a:ahLst/>
                <a:rect l="l" t="t" r="r" b="b"/>
                <a:pathLst>
                  <a:path w="288" h="288">
                    <a:moveTo>
                      <a:pt x="288" y="0"/>
                    </a:moveTo>
                    <a:cubicBezTo>
                      <a:pt x="57" y="0"/>
                      <a:pt x="57" y="0"/>
                      <a:pt x="57" y="0"/>
                    </a:cubicBezTo>
                    <a:cubicBezTo>
                      <a:pt x="26" y="0"/>
                      <a:pt x="0" y="26"/>
                      <a:pt x="0" y="57"/>
                    </a:cubicBezTo>
                    <a:cubicBezTo>
                      <a:pt x="0" y="288"/>
                      <a:pt x="0" y="288"/>
                      <a:pt x="0" y="288"/>
                    </a:cubicBezTo>
                    <a:lnTo>
                      <a:pt x="28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babab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8" name="Text Box 35"/>
            <p:cNvSpPr/>
            <p:nvPr/>
          </p:nvSpPr>
          <p:spPr>
            <a:xfrm>
              <a:off x="4761000" y="3532320"/>
              <a:ext cx="1360800" cy="32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 baseline="-25000">
                  <a:solidFill>
                    <a:srgbClr val="ffffff"/>
                  </a:solidFill>
                  <a:latin typeface="微软雅黑"/>
                  <a:ea typeface="微软雅黑"/>
                </a:rPr>
                <a:t>此处添加文本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 baseline="-25000">
                  <a:solidFill>
                    <a:srgbClr val="ffffff"/>
                  </a:solidFill>
                  <a:latin typeface="微软雅黑"/>
                  <a:ea typeface="微软雅黑"/>
                </a:rPr>
                <a:t>此处添加文本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 baseline="-25000">
                  <a:solidFill>
                    <a:srgbClr val="ffffff"/>
                  </a:solidFill>
                  <a:latin typeface="微软雅黑"/>
                  <a:ea typeface="微软雅黑"/>
                </a:rPr>
                <a:t>此处添加文本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 baseline="-25000">
                  <a:solidFill>
                    <a:srgbClr val="ffffff"/>
                  </a:solidFill>
                  <a:latin typeface="微软雅黑"/>
                  <a:ea typeface="微软雅黑"/>
                </a:rPr>
                <a:t>此处添加文本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 baseline="-25000">
                  <a:solidFill>
                    <a:srgbClr val="ffffff"/>
                  </a:solidFill>
                  <a:latin typeface="微软雅黑"/>
                  <a:ea typeface="微软雅黑"/>
                </a:rPr>
                <a:t>此处添加文本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 baseline="-25000">
                  <a:solidFill>
                    <a:srgbClr val="ffffff"/>
                  </a:solidFill>
                  <a:latin typeface="微软雅黑"/>
                  <a:ea typeface="微软雅黑"/>
                </a:rPr>
                <a:t>此处添加文本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 baseline="-25000">
                  <a:solidFill>
                    <a:srgbClr val="ffffff"/>
                  </a:solidFill>
                  <a:latin typeface="微软雅黑"/>
                  <a:ea typeface="微软雅黑"/>
                </a:rPr>
                <a:t>此处添加文本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 baseline="-25000">
                  <a:solidFill>
                    <a:srgbClr val="ffffff"/>
                  </a:solidFill>
                  <a:latin typeface="微软雅黑"/>
                  <a:ea typeface="微软雅黑"/>
                </a:rPr>
                <a:t>此处添加文本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 baseline="-25000">
                  <a:solidFill>
                    <a:srgbClr val="ffffff"/>
                  </a:solidFill>
                  <a:latin typeface="微软雅黑"/>
                  <a:ea typeface="微软雅黑"/>
                </a:rPr>
                <a:t>此处添加文本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 baseline="-25000">
                  <a:solidFill>
                    <a:srgbClr val="ffffff"/>
                  </a:solidFill>
                  <a:latin typeface="微软雅黑"/>
                  <a:ea typeface="微软雅黑"/>
                </a:rPr>
                <a:t>此处添加文本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 baseline="-25000">
                  <a:solidFill>
                    <a:srgbClr val="ffffff"/>
                  </a:solidFill>
                  <a:latin typeface="微软雅黑"/>
                  <a:ea typeface="微软雅黑"/>
                </a:rPr>
                <a:t>此处添加文本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9" name="组合 46"/>
          <p:cNvGrpSpPr/>
          <p:nvPr/>
        </p:nvGrpSpPr>
        <p:grpSpPr>
          <a:xfrm>
            <a:off x="6861240" y="3522600"/>
            <a:ext cx="1360440" cy="3275640"/>
            <a:chOff x="6861240" y="3522600"/>
            <a:chExt cx="1360440" cy="3275640"/>
          </a:xfrm>
        </p:grpSpPr>
        <p:grpSp>
          <p:nvGrpSpPr>
            <p:cNvPr id="770" name="Group 56"/>
            <p:cNvGrpSpPr/>
            <p:nvPr/>
          </p:nvGrpSpPr>
          <p:grpSpPr>
            <a:xfrm>
              <a:off x="6861240" y="3769920"/>
              <a:ext cx="1360080" cy="1361880"/>
              <a:chOff x="6861240" y="3769920"/>
              <a:chExt cx="1360080" cy="1361880"/>
            </a:xfrm>
          </p:grpSpPr>
          <p:sp>
            <p:nvSpPr>
              <p:cNvPr id="771" name="Freeform 57"/>
              <p:cNvSpPr/>
              <p:nvPr/>
            </p:nvSpPr>
            <p:spPr>
              <a:xfrm>
                <a:off x="6861240" y="3777120"/>
                <a:ext cx="1352880" cy="1354320"/>
              </a:xfrm>
              <a:custGeom>
                <a:avLst/>
                <a:gdLst/>
                <a:ahLst/>
                <a:rect l="l" t="t" r="r" b="b"/>
                <a:pathLst>
                  <a:path w="942" h="942">
                    <a:moveTo>
                      <a:pt x="942" y="654"/>
                    </a:moveTo>
                    <a:cubicBezTo>
                      <a:pt x="942" y="57"/>
                      <a:pt x="942" y="57"/>
                      <a:pt x="942" y="57"/>
                    </a:cubicBezTo>
                    <a:cubicBezTo>
                      <a:pt x="942" y="25"/>
                      <a:pt x="917" y="0"/>
                      <a:pt x="885" y="0"/>
                    </a:cubicBezTo>
                    <a:cubicBezTo>
                      <a:pt x="57" y="0"/>
                      <a:pt x="57" y="0"/>
                      <a:pt x="57" y="0"/>
                    </a:cubicBezTo>
                    <a:cubicBezTo>
                      <a:pt x="26" y="0"/>
                      <a:pt x="0" y="25"/>
                      <a:pt x="0" y="57"/>
                    </a:cubicBezTo>
                    <a:cubicBezTo>
                      <a:pt x="0" y="885"/>
                      <a:pt x="0" y="885"/>
                      <a:pt x="0" y="885"/>
                    </a:cubicBezTo>
                    <a:cubicBezTo>
                      <a:pt x="0" y="916"/>
                      <a:pt x="26" y="942"/>
                      <a:pt x="57" y="942"/>
                    </a:cubicBezTo>
                    <a:cubicBezTo>
                      <a:pt x="654" y="942"/>
                      <a:pt x="654" y="942"/>
                      <a:pt x="654" y="942"/>
                    </a:cubicBezTo>
                    <a:lnTo>
                      <a:pt x="942" y="6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d83d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Freeform 58"/>
              <p:cNvSpPr/>
              <p:nvPr/>
            </p:nvSpPr>
            <p:spPr>
              <a:xfrm>
                <a:off x="7713720" y="4800600"/>
                <a:ext cx="413280" cy="330840"/>
              </a:xfrm>
              <a:custGeom>
                <a:avLst/>
                <a:gdLst/>
                <a:ahLst/>
                <a:rect l="l" t="t" r="r" b="b"/>
                <a:pathLst>
                  <a:path w="288" h="231">
                    <a:moveTo>
                      <a:pt x="0" y="57"/>
                    </a:moveTo>
                    <a:cubicBezTo>
                      <a:pt x="0" y="231"/>
                      <a:pt x="0" y="231"/>
                      <a:pt x="0" y="231"/>
                    </a:cubicBezTo>
                    <a:cubicBezTo>
                      <a:pt x="57" y="231"/>
                      <a:pt x="57" y="231"/>
                      <a:pt x="57" y="231"/>
                    </a:cubicBezTo>
                    <a:cubicBezTo>
                      <a:pt x="288" y="0"/>
                      <a:pt x="288" y="0"/>
                      <a:pt x="288" y="0"/>
                    </a:cubicBezTo>
                    <a:cubicBezTo>
                      <a:pt x="57" y="0"/>
                      <a:pt x="57" y="0"/>
                      <a:pt x="57" y="0"/>
                    </a:cubicBezTo>
                    <a:cubicBezTo>
                      <a:pt x="25" y="0"/>
                      <a:pt x="0" y="26"/>
                      <a:pt x="0" y="5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3b600"/>
                  </a:gs>
                  <a:gs pos="100000">
                    <a:srgbClr val="ffcc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Freeform 59"/>
              <p:cNvSpPr/>
              <p:nvPr/>
            </p:nvSpPr>
            <p:spPr>
              <a:xfrm>
                <a:off x="6861240" y="3769920"/>
                <a:ext cx="1352880" cy="558000"/>
              </a:xfrm>
              <a:custGeom>
                <a:avLst/>
                <a:gdLst/>
                <a:ahLst/>
                <a:rect l="l" t="t" r="r" b="b"/>
                <a:pathLst>
                  <a:path w="942" h="388">
                    <a:moveTo>
                      <a:pt x="885" y="0"/>
                    </a:moveTo>
                    <a:cubicBezTo>
                      <a:pt x="57" y="0"/>
                      <a:pt x="57" y="0"/>
                      <a:pt x="57" y="0"/>
                    </a:cubicBezTo>
                    <a:cubicBezTo>
                      <a:pt x="26" y="0"/>
                      <a:pt x="0" y="26"/>
                      <a:pt x="0" y="57"/>
                    </a:cubicBezTo>
                    <a:cubicBezTo>
                      <a:pt x="0" y="353"/>
                      <a:pt x="0" y="353"/>
                      <a:pt x="0" y="353"/>
                    </a:cubicBezTo>
                    <a:cubicBezTo>
                      <a:pt x="109" y="376"/>
                      <a:pt x="232" y="388"/>
                      <a:pt x="362" y="388"/>
                    </a:cubicBezTo>
                    <a:cubicBezTo>
                      <a:pt x="589" y="388"/>
                      <a:pt x="794" y="350"/>
                      <a:pt x="942" y="287"/>
                    </a:cubicBezTo>
                    <a:cubicBezTo>
                      <a:pt x="942" y="57"/>
                      <a:pt x="942" y="57"/>
                      <a:pt x="942" y="57"/>
                    </a:cubicBezTo>
                    <a:cubicBezTo>
                      <a:pt x="942" y="26"/>
                      <a:pt x="917" y="0"/>
                      <a:pt x="885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d83d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Freeform 60"/>
              <p:cNvSpPr/>
              <p:nvPr/>
            </p:nvSpPr>
            <p:spPr>
              <a:xfrm>
                <a:off x="7808040" y="4716720"/>
                <a:ext cx="413280" cy="415080"/>
              </a:xfrm>
              <a:custGeom>
                <a:avLst/>
                <a:gdLst/>
                <a:ahLst/>
                <a:rect l="l" t="t" r="r" b="b"/>
                <a:pathLst>
                  <a:path w="288" h="288">
                    <a:moveTo>
                      <a:pt x="288" y="0"/>
                    </a:moveTo>
                    <a:cubicBezTo>
                      <a:pt x="57" y="0"/>
                      <a:pt x="57" y="0"/>
                      <a:pt x="57" y="0"/>
                    </a:cubicBezTo>
                    <a:cubicBezTo>
                      <a:pt x="26" y="0"/>
                      <a:pt x="0" y="26"/>
                      <a:pt x="0" y="57"/>
                    </a:cubicBezTo>
                    <a:cubicBezTo>
                      <a:pt x="0" y="288"/>
                      <a:pt x="0" y="288"/>
                      <a:pt x="0" y="288"/>
                    </a:cubicBezTo>
                    <a:lnTo>
                      <a:pt x="28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babab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5" name="Text Box 36"/>
            <p:cNvSpPr/>
            <p:nvPr/>
          </p:nvSpPr>
          <p:spPr>
            <a:xfrm>
              <a:off x="6861240" y="3522600"/>
              <a:ext cx="1360440" cy="32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cc00"/>
                  </a:solidFill>
                  <a:latin typeface="微软雅黑"/>
                  <a:ea typeface="微软雅黑"/>
                </a:rPr>
                <a:t>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 baseline="-25000">
                  <a:solidFill>
                    <a:srgbClr val="ffffff"/>
                  </a:solidFill>
                  <a:latin typeface="微软雅黑"/>
                  <a:ea typeface="微软雅黑"/>
                </a:rPr>
                <a:t>此处添加文本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 baseline="-25000">
                  <a:solidFill>
                    <a:srgbClr val="ffffff"/>
                  </a:solidFill>
                  <a:latin typeface="微软雅黑"/>
                  <a:ea typeface="微软雅黑"/>
                </a:rPr>
                <a:t>此处添加文本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 baseline="-25000">
                  <a:solidFill>
                    <a:srgbClr val="ffffff"/>
                  </a:solidFill>
                  <a:latin typeface="微软雅黑"/>
                  <a:ea typeface="微软雅黑"/>
                </a:rPr>
                <a:t>此处添加文本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 baseline="-25000">
                  <a:solidFill>
                    <a:srgbClr val="ffffff"/>
                  </a:solidFill>
                  <a:latin typeface="微软雅黑"/>
                  <a:ea typeface="微软雅黑"/>
                </a:rPr>
                <a:t>此处添加文本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 baseline="-25000">
                  <a:solidFill>
                    <a:srgbClr val="ffffff"/>
                  </a:solidFill>
                  <a:latin typeface="微软雅黑"/>
                  <a:ea typeface="微软雅黑"/>
                </a:rPr>
                <a:t>此处添加文本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 baseline="-25000">
                  <a:solidFill>
                    <a:srgbClr val="ffffff"/>
                  </a:solidFill>
                  <a:latin typeface="微软雅黑"/>
                  <a:ea typeface="微软雅黑"/>
                </a:rPr>
                <a:t>此处添加文本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 baseline="-25000">
                  <a:solidFill>
                    <a:srgbClr val="ffffff"/>
                  </a:solidFill>
                  <a:latin typeface="微软雅黑"/>
                  <a:ea typeface="微软雅黑"/>
                </a:rPr>
                <a:t>此处添加文本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 baseline="-25000">
                  <a:solidFill>
                    <a:srgbClr val="ffffff"/>
                  </a:solidFill>
                  <a:latin typeface="微软雅黑"/>
                  <a:ea typeface="微软雅黑"/>
                </a:rPr>
                <a:t>此处添加文本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 baseline="-25000">
                  <a:solidFill>
                    <a:srgbClr val="ffffff"/>
                  </a:solidFill>
                  <a:latin typeface="微软雅黑"/>
                  <a:ea typeface="微软雅黑"/>
                </a:rPr>
                <a:t>此处添加文本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 baseline="-25000">
                  <a:solidFill>
                    <a:srgbClr val="ffffff"/>
                  </a:solidFill>
                  <a:latin typeface="微软雅黑"/>
                  <a:ea typeface="微软雅黑"/>
                </a:rPr>
                <a:t>此处添加文本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 baseline="-25000">
                  <a:solidFill>
                    <a:srgbClr val="ffffff"/>
                  </a:solidFill>
                  <a:latin typeface="微软雅黑"/>
                  <a:ea typeface="微软雅黑"/>
                </a:rPr>
                <a:t>此处添加文本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6" name="Group 62"/>
          <p:cNvGrpSpPr/>
          <p:nvPr/>
        </p:nvGrpSpPr>
        <p:grpSpPr>
          <a:xfrm>
            <a:off x="1352520" y="2874960"/>
            <a:ext cx="290520" cy="588960"/>
            <a:chOff x="1352520" y="2874960"/>
            <a:chExt cx="290520" cy="588960"/>
          </a:xfrm>
        </p:grpSpPr>
        <p:sp>
          <p:nvSpPr>
            <p:cNvPr id="777" name="Freeform 63"/>
            <p:cNvSpPr/>
            <p:nvPr/>
          </p:nvSpPr>
          <p:spPr>
            <a:xfrm>
              <a:off x="1352520" y="2874960"/>
              <a:ext cx="290520" cy="588960"/>
            </a:xfrm>
            <a:custGeom>
              <a:avLst/>
              <a:gdLst/>
              <a:ahLst/>
              <a:rect l="l" t="t" r="r" b="b"/>
              <a:pathLst>
                <a:path w="225" h="457">
                  <a:moveTo>
                    <a:pt x="173" y="209"/>
                  </a:moveTo>
                  <a:lnTo>
                    <a:pt x="173" y="269"/>
                  </a:lnTo>
                  <a:lnTo>
                    <a:pt x="225" y="269"/>
                  </a:lnTo>
                  <a:lnTo>
                    <a:pt x="113" y="457"/>
                  </a:lnTo>
                  <a:lnTo>
                    <a:pt x="0" y="269"/>
                  </a:lnTo>
                  <a:lnTo>
                    <a:pt x="54" y="269"/>
                  </a:lnTo>
                  <a:lnTo>
                    <a:pt x="54" y="209"/>
                  </a:lnTo>
                  <a:lnTo>
                    <a:pt x="54" y="209"/>
                  </a:lnTo>
                  <a:lnTo>
                    <a:pt x="173" y="209"/>
                  </a:lnTo>
                  <a:close/>
                  <a:moveTo>
                    <a:pt x="173" y="180"/>
                  </a:moveTo>
                  <a:lnTo>
                    <a:pt x="173" y="180"/>
                  </a:lnTo>
                  <a:lnTo>
                    <a:pt x="173" y="85"/>
                  </a:lnTo>
                  <a:lnTo>
                    <a:pt x="54" y="85"/>
                  </a:lnTo>
                  <a:lnTo>
                    <a:pt x="54" y="178"/>
                  </a:lnTo>
                  <a:lnTo>
                    <a:pt x="54" y="180"/>
                  </a:lnTo>
                  <a:lnTo>
                    <a:pt x="173" y="180"/>
                  </a:lnTo>
                  <a:close/>
                  <a:moveTo>
                    <a:pt x="173" y="58"/>
                  </a:moveTo>
                  <a:lnTo>
                    <a:pt x="173" y="58"/>
                  </a:lnTo>
                  <a:lnTo>
                    <a:pt x="173" y="0"/>
                  </a:lnTo>
                  <a:lnTo>
                    <a:pt x="54" y="0"/>
                  </a:lnTo>
                  <a:lnTo>
                    <a:pt x="54" y="56"/>
                  </a:lnTo>
                  <a:lnTo>
                    <a:pt x="54" y="58"/>
                  </a:lnTo>
                  <a:lnTo>
                    <a:pt x="173" y="58"/>
                  </a:lnTo>
                  <a:close/>
                </a:path>
              </a:pathLst>
            </a:custGeom>
            <a:gradFill rotWithShape="0">
              <a:gsLst>
                <a:gs pos="0">
                  <a:srgbClr val="d3d3d3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64"/>
            <p:cNvSpPr/>
            <p:nvPr/>
          </p:nvSpPr>
          <p:spPr>
            <a:xfrm>
              <a:off x="1373040" y="2885040"/>
              <a:ext cx="251640" cy="559440"/>
            </a:xfrm>
            <a:custGeom>
              <a:avLst/>
              <a:gdLst/>
              <a:ahLst/>
              <a:rect l="l" t="t" r="r" b="b"/>
              <a:pathLst>
                <a:path w="195" h="434">
                  <a:moveTo>
                    <a:pt x="97" y="434"/>
                  </a:moveTo>
                  <a:lnTo>
                    <a:pt x="0" y="269"/>
                  </a:lnTo>
                  <a:lnTo>
                    <a:pt x="38" y="269"/>
                  </a:lnTo>
                  <a:lnTo>
                    <a:pt x="46" y="269"/>
                  </a:lnTo>
                  <a:lnTo>
                    <a:pt x="46" y="261"/>
                  </a:lnTo>
                  <a:lnTo>
                    <a:pt x="46" y="209"/>
                  </a:lnTo>
                  <a:lnTo>
                    <a:pt x="149" y="209"/>
                  </a:lnTo>
                  <a:lnTo>
                    <a:pt x="149" y="261"/>
                  </a:lnTo>
                  <a:lnTo>
                    <a:pt x="149" y="269"/>
                  </a:lnTo>
                  <a:lnTo>
                    <a:pt x="157" y="269"/>
                  </a:lnTo>
                  <a:lnTo>
                    <a:pt x="195" y="269"/>
                  </a:lnTo>
                  <a:lnTo>
                    <a:pt x="97" y="434"/>
                  </a:lnTo>
                  <a:lnTo>
                    <a:pt x="97" y="434"/>
                  </a:lnTo>
                  <a:close/>
                  <a:moveTo>
                    <a:pt x="46" y="164"/>
                  </a:moveTo>
                  <a:lnTo>
                    <a:pt x="46" y="85"/>
                  </a:lnTo>
                  <a:lnTo>
                    <a:pt x="149" y="85"/>
                  </a:lnTo>
                  <a:lnTo>
                    <a:pt x="149" y="164"/>
                  </a:lnTo>
                  <a:lnTo>
                    <a:pt x="46" y="164"/>
                  </a:lnTo>
                  <a:lnTo>
                    <a:pt x="46" y="164"/>
                  </a:lnTo>
                  <a:close/>
                  <a:moveTo>
                    <a:pt x="46" y="42"/>
                  </a:moveTo>
                  <a:lnTo>
                    <a:pt x="46" y="0"/>
                  </a:lnTo>
                  <a:lnTo>
                    <a:pt x="149" y="0"/>
                  </a:lnTo>
                  <a:lnTo>
                    <a:pt x="149" y="42"/>
                  </a:lnTo>
                  <a:lnTo>
                    <a:pt x="46" y="42"/>
                  </a:lnTo>
                  <a:lnTo>
                    <a:pt x="46" y="4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2d2d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9" name="Group 65"/>
          <p:cNvGrpSpPr/>
          <p:nvPr/>
        </p:nvGrpSpPr>
        <p:grpSpPr>
          <a:xfrm>
            <a:off x="3286080" y="2874960"/>
            <a:ext cx="290520" cy="588960"/>
            <a:chOff x="3286080" y="2874960"/>
            <a:chExt cx="290520" cy="588960"/>
          </a:xfrm>
        </p:grpSpPr>
        <p:sp>
          <p:nvSpPr>
            <p:cNvPr id="780" name="Freeform 66"/>
            <p:cNvSpPr/>
            <p:nvPr/>
          </p:nvSpPr>
          <p:spPr>
            <a:xfrm>
              <a:off x="3286080" y="2874960"/>
              <a:ext cx="290520" cy="588960"/>
            </a:xfrm>
            <a:custGeom>
              <a:avLst/>
              <a:gdLst/>
              <a:ahLst/>
              <a:rect l="l" t="t" r="r" b="b"/>
              <a:pathLst>
                <a:path w="225" h="457">
                  <a:moveTo>
                    <a:pt x="173" y="209"/>
                  </a:moveTo>
                  <a:lnTo>
                    <a:pt x="173" y="269"/>
                  </a:lnTo>
                  <a:lnTo>
                    <a:pt x="225" y="269"/>
                  </a:lnTo>
                  <a:lnTo>
                    <a:pt x="113" y="457"/>
                  </a:lnTo>
                  <a:lnTo>
                    <a:pt x="0" y="269"/>
                  </a:lnTo>
                  <a:lnTo>
                    <a:pt x="54" y="269"/>
                  </a:lnTo>
                  <a:lnTo>
                    <a:pt x="54" y="209"/>
                  </a:lnTo>
                  <a:lnTo>
                    <a:pt x="54" y="209"/>
                  </a:lnTo>
                  <a:lnTo>
                    <a:pt x="173" y="209"/>
                  </a:lnTo>
                  <a:close/>
                  <a:moveTo>
                    <a:pt x="173" y="180"/>
                  </a:moveTo>
                  <a:lnTo>
                    <a:pt x="173" y="180"/>
                  </a:lnTo>
                  <a:lnTo>
                    <a:pt x="173" y="85"/>
                  </a:lnTo>
                  <a:lnTo>
                    <a:pt x="54" y="85"/>
                  </a:lnTo>
                  <a:lnTo>
                    <a:pt x="54" y="178"/>
                  </a:lnTo>
                  <a:lnTo>
                    <a:pt x="54" y="180"/>
                  </a:lnTo>
                  <a:lnTo>
                    <a:pt x="173" y="180"/>
                  </a:lnTo>
                  <a:close/>
                  <a:moveTo>
                    <a:pt x="173" y="58"/>
                  </a:moveTo>
                  <a:lnTo>
                    <a:pt x="173" y="58"/>
                  </a:lnTo>
                  <a:lnTo>
                    <a:pt x="173" y="0"/>
                  </a:lnTo>
                  <a:lnTo>
                    <a:pt x="54" y="0"/>
                  </a:lnTo>
                  <a:lnTo>
                    <a:pt x="54" y="56"/>
                  </a:lnTo>
                  <a:lnTo>
                    <a:pt x="54" y="58"/>
                  </a:lnTo>
                  <a:lnTo>
                    <a:pt x="173" y="58"/>
                  </a:lnTo>
                  <a:close/>
                </a:path>
              </a:pathLst>
            </a:custGeom>
            <a:gradFill rotWithShape="0">
              <a:gsLst>
                <a:gs pos="0">
                  <a:srgbClr val="d3d3d3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67"/>
            <p:cNvSpPr/>
            <p:nvPr/>
          </p:nvSpPr>
          <p:spPr>
            <a:xfrm>
              <a:off x="3306600" y="2885040"/>
              <a:ext cx="251640" cy="559440"/>
            </a:xfrm>
            <a:custGeom>
              <a:avLst/>
              <a:gdLst/>
              <a:ahLst/>
              <a:rect l="l" t="t" r="r" b="b"/>
              <a:pathLst>
                <a:path w="195" h="434">
                  <a:moveTo>
                    <a:pt x="97" y="434"/>
                  </a:moveTo>
                  <a:lnTo>
                    <a:pt x="0" y="269"/>
                  </a:lnTo>
                  <a:lnTo>
                    <a:pt x="38" y="269"/>
                  </a:lnTo>
                  <a:lnTo>
                    <a:pt x="46" y="269"/>
                  </a:lnTo>
                  <a:lnTo>
                    <a:pt x="46" y="261"/>
                  </a:lnTo>
                  <a:lnTo>
                    <a:pt x="46" y="209"/>
                  </a:lnTo>
                  <a:lnTo>
                    <a:pt x="149" y="209"/>
                  </a:lnTo>
                  <a:lnTo>
                    <a:pt x="149" y="261"/>
                  </a:lnTo>
                  <a:lnTo>
                    <a:pt x="149" y="269"/>
                  </a:lnTo>
                  <a:lnTo>
                    <a:pt x="157" y="269"/>
                  </a:lnTo>
                  <a:lnTo>
                    <a:pt x="195" y="269"/>
                  </a:lnTo>
                  <a:lnTo>
                    <a:pt x="97" y="434"/>
                  </a:lnTo>
                  <a:lnTo>
                    <a:pt x="97" y="434"/>
                  </a:lnTo>
                  <a:close/>
                  <a:moveTo>
                    <a:pt x="46" y="164"/>
                  </a:moveTo>
                  <a:lnTo>
                    <a:pt x="46" y="85"/>
                  </a:lnTo>
                  <a:lnTo>
                    <a:pt x="149" y="85"/>
                  </a:lnTo>
                  <a:lnTo>
                    <a:pt x="149" y="164"/>
                  </a:lnTo>
                  <a:lnTo>
                    <a:pt x="46" y="164"/>
                  </a:lnTo>
                  <a:lnTo>
                    <a:pt x="46" y="164"/>
                  </a:lnTo>
                  <a:close/>
                  <a:moveTo>
                    <a:pt x="46" y="42"/>
                  </a:moveTo>
                  <a:lnTo>
                    <a:pt x="46" y="0"/>
                  </a:lnTo>
                  <a:lnTo>
                    <a:pt x="149" y="0"/>
                  </a:lnTo>
                  <a:lnTo>
                    <a:pt x="149" y="42"/>
                  </a:lnTo>
                  <a:lnTo>
                    <a:pt x="46" y="42"/>
                  </a:lnTo>
                  <a:lnTo>
                    <a:pt x="46" y="4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2d2d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2" name="Group 68"/>
          <p:cNvGrpSpPr/>
          <p:nvPr/>
        </p:nvGrpSpPr>
        <p:grpSpPr>
          <a:xfrm>
            <a:off x="5307120" y="2874960"/>
            <a:ext cx="290520" cy="588960"/>
            <a:chOff x="5307120" y="2874960"/>
            <a:chExt cx="290520" cy="588960"/>
          </a:xfrm>
        </p:grpSpPr>
        <p:sp>
          <p:nvSpPr>
            <p:cNvPr id="783" name="Freeform 69"/>
            <p:cNvSpPr/>
            <p:nvPr/>
          </p:nvSpPr>
          <p:spPr>
            <a:xfrm>
              <a:off x="5307120" y="2874960"/>
              <a:ext cx="290520" cy="588960"/>
            </a:xfrm>
            <a:custGeom>
              <a:avLst/>
              <a:gdLst/>
              <a:ahLst/>
              <a:rect l="l" t="t" r="r" b="b"/>
              <a:pathLst>
                <a:path w="225" h="457">
                  <a:moveTo>
                    <a:pt x="173" y="209"/>
                  </a:moveTo>
                  <a:lnTo>
                    <a:pt x="173" y="269"/>
                  </a:lnTo>
                  <a:lnTo>
                    <a:pt x="225" y="269"/>
                  </a:lnTo>
                  <a:lnTo>
                    <a:pt x="113" y="457"/>
                  </a:lnTo>
                  <a:lnTo>
                    <a:pt x="0" y="269"/>
                  </a:lnTo>
                  <a:lnTo>
                    <a:pt x="54" y="269"/>
                  </a:lnTo>
                  <a:lnTo>
                    <a:pt x="54" y="209"/>
                  </a:lnTo>
                  <a:lnTo>
                    <a:pt x="54" y="209"/>
                  </a:lnTo>
                  <a:lnTo>
                    <a:pt x="173" y="209"/>
                  </a:lnTo>
                  <a:close/>
                  <a:moveTo>
                    <a:pt x="173" y="180"/>
                  </a:moveTo>
                  <a:lnTo>
                    <a:pt x="173" y="180"/>
                  </a:lnTo>
                  <a:lnTo>
                    <a:pt x="173" y="85"/>
                  </a:lnTo>
                  <a:lnTo>
                    <a:pt x="54" y="85"/>
                  </a:lnTo>
                  <a:lnTo>
                    <a:pt x="54" y="178"/>
                  </a:lnTo>
                  <a:lnTo>
                    <a:pt x="54" y="180"/>
                  </a:lnTo>
                  <a:lnTo>
                    <a:pt x="173" y="180"/>
                  </a:lnTo>
                  <a:close/>
                  <a:moveTo>
                    <a:pt x="173" y="58"/>
                  </a:moveTo>
                  <a:lnTo>
                    <a:pt x="173" y="58"/>
                  </a:lnTo>
                  <a:lnTo>
                    <a:pt x="173" y="0"/>
                  </a:lnTo>
                  <a:lnTo>
                    <a:pt x="54" y="0"/>
                  </a:lnTo>
                  <a:lnTo>
                    <a:pt x="54" y="56"/>
                  </a:lnTo>
                  <a:lnTo>
                    <a:pt x="54" y="58"/>
                  </a:lnTo>
                  <a:lnTo>
                    <a:pt x="173" y="58"/>
                  </a:lnTo>
                  <a:close/>
                </a:path>
              </a:pathLst>
            </a:custGeom>
            <a:gradFill rotWithShape="0">
              <a:gsLst>
                <a:gs pos="0">
                  <a:srgbClr val="d3d3d3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70"/>
            <p:cNvSpPr/>
            <p:nvPr/>
          </p:nvSpPr>
          <p:spPr>
            <a:xfrm>
              <a:off x="5327640" y="2885040"/>
              <a:ext cx="251640" cy="559440"/>
            </a:xfrm>
            <a:custGeom>
              <a:avLst/>
              <a:gdLst/>
              <a:ahLst/>
              <a:rect l="l" t="t" r="r" b="b"/>
              <a:pathLst>
                <a:path w="195" h="434">
                  <a:moveTo>
                    <a:pt x="97" y="434"/>
                  </a:moveTo>
                  <a:lnTo>
                    <a:pt x="0" y="269"/>
                  </a:lnTo>
                  <a:lnTo>
                    <a:pt x="38" y="269"/>
                  </a:lnTo>
                  <a:lnTo>
                    <a:pt x="46" y="269"/>
                  </a:lnTo>
                  <a:lnTo>
                    <a:pt x="46" y="261"/>
                  </a:lnTo>
                  <a:lnTo>
                    <a:pt x="46" y="209"/>
                  </a:lnTo>
                  <a:lnTo>
                    <a:pt x="149" y="209"/>
                  </a:lnTo>
                  <a:lnTo>
                    <a:pt x="149" y="261"/>
                  </a:lnTo>
                  <a:lnTo>
                    <a:pt x="149" y="269"/>
                  </a:lnTo>
                  <a:lnTo>
                    <a:pt x="157" y="269"/>
                  </a:lnTo>
                  <a:lnTo>
                    <a:pt x="195" y="269"/>
                  </a:lnTo>
                  <a:lnTo>
                    <a:pt x="97" y="434"/>
                  </a:lnTo>
                  <a:lnTo>
                    <a:pt x="97" y="434"/>
                  </a:lnTo>
                  <a:close/>
                  <a:moveTo>
                    <a:pt x="46" y="164"/>
                  </a:moveTo>
                  <a:lnTo>
                    <a:pt x="46" y="85"/>
                  </a:lnTo>
                  <a:lnTo>
                    <a:pt x="149" y="85"/>
                  </a:lnTo>
                  <a:lnTo>
                    <a:pt x="149" y="164"/>
                  </a:lnTo>
                  <a:lnTo>
                    <a:pt x="46" y="164"/>
                  </a:lnTo>
                  <a:lnTo>
                    <a:pt x="46" y="164"/>
                  </a:lnTo>
                  <a:close/>
                  <a:moveTo>
                    <a:pt x="46" y="42"/>
                  </a:moveTo>
                  <a:lnTo>
                    <a:pt x="46" y="0"/>
                  </a:lnTo>
                  <a:lnTo>
                    <a:pt x="149" y="0"/>
                  </a:lnTo>
                  <a:lnTo>
                    <a:pt x="149" y="42"/>
                  </a:lnTo>
                  <a:lnTo>
                    <a:pt x="46" y="42"/>
                  </a:lnTo>
                  <a:lnTo>
                    <a:pt x="46" y="4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2d2d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5" name="Group 71"/>
          <p:cNvGrpSpPr/>
          <p:nvPr/>
        </p:nvGrpSpPr>
        <p:grpSpPr>
          <a:xfrm>
            <a:off x="7372440" y="2874960"/>
            <a:ext cx="290520" cy="588960"/>
            <a:chOff x="7372440" y="2874960"/>
            <a:chExt cx="290520" cy="588960"/>
          </a:xfrm>
        </p:grpSpPr>
        <p:sp>
          <p:nvSpPr>
            <p:cNvPr id="786" name="Freeform 72"/>
            <p:cNvSpPr/>
            <p:nvPr/>
          </p:nvSpPr>
          <p:spPr>
            <a:xfrm>
              <a:off x="7372440" y="2874960"/>
              <a:ext cx="290520" cy="588960"/>
            </a:xfrm>
            <a:custGeom>
              <a:avLst/>
              <a:gdLst/>
              <a:ahLst/>
              <a:rect l="l" t="t" r="r" b="b"/>
              <a:pathLst>
                <a:path w="225" h="457">
                  <a:moveTo>
                    <a:pt x="173" y="209"/>
                  </a:moveTo>
                  <a:lnTo>
                    <a:pt x="173" y="269"/>
                  </a:lnTo>
                  <a:lnTo>
                    <a:pt x="225" y="269"/>
                  </a:lnTo>
                  <a:lnTo>
                    <a:pt x="113" y="457"/>
                  </a:lnTo>
                  <a:lnTo>
                    <a:pt x="0" y="269"/>
                  </a:lnTo>
                  <a:lnTo>
                    <a:pt x="54" y="269"/>
                  </a:lnTo>
                  <a:lnTo>
                    <a:pt x="54" y="209"/>
                  </a:lnTo>
                  <a:lnTo>
                    <a:pt x="54" y="209"/>
                  </a:lnTo>
                  <a:lnTo>
                    <a:pt x="173" y="209"/>
                  </a:lnTo>
                  <a:close/>
                  <a:moveTo>
                    <a:pt x="173" y="180"/>
                  </a:moveTo>
                  <a:lnTo>
                    <a:pt x="173" y="180"/>
                  </a:lnTo>
                  <a:lnTo>
                    <a:pt x="173" y="85"/>
                  </a:lnTo>
                  <a:lnTo>
                    <a:pt x="54" y="85"/>
                  </a:lnTo>
                  <a:lnTo>
                    <a:pt x="54" y="178"/>
                  </a:lnTo>
                  <a:lnTo>
                    <a:pt x="54" y="180"/>
                  </a:lnTo>
                  <a:lnTo>
                    <a:pt x="173" y="180"/>
                  </a:lnTo>
                  <a:close/>
                  <a:moveTo>
                    <a:pt x="173" y="58"/>
                  </a:moveTo>
                  <a:lnTo>
                    <a:pt x="173" y="58"/>
                  </a:lnTo>
                  <a:lnTo>
                    <a:pt x="173" y="0"/>
                  </a:lnTo>
                  <a:lnTo>
                    <a:pt x="54" y="0"/>
                  </a:lnTo>
                  <a:lnTo>
                    <a:pt x="54" y="56"/>
                  </a:lnTo>
                  <a:lnTo>
                    <a:pt x="54" y="58"/>
                  </a:lnTo>
                  <a:lnTo>
                    <a:pt x="173" y="58"/>
                  </a:lnTo>
                  <a:close/>
                </a:path>
              </a:pathLst>
            </a:custGeom>
            <a:gradFill rotWithShape="0">
              <a:gsLst>
                <a:gs pos="0">
                  <a:srgbClr val="d3d3d3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73"/>
            <p:cNvSpPr/>
            <p:nvPr/>
          </p:nvSpPr>
          <p:spPr>
            <a:xfrm>
              <a:off x="7392960" y="2885040"/>
              <a:ext cx="251640" cy="559440"/>
            </a:xfrm>
            <a:custGeom>
              <a:avLst/>
              <a:gdLst/>
              <a:ahLst/>
              <a:rect l="l" t="t" r="r" b="b"/>
              <a:pathLst>
                <a:path w="195" h="434">
                  <a:moveTo>
                    <a:pt x="97" y="434"/>
                  </a:moveTo>
                  <a:lnTo>
                    <a:pt x="0" y="269"/>
                  </a:lnTo>
                  <a:lnTo>
                    <a:pt x="38" y="269"/>
                  </a:lnTo>
                  <a:lnTo>
                    <a:pt x="46" y="269"/>
                  </a:lnTo>
                  <a:lnTo>
                    <a:pt x="46" y="261"/>
                  </a:lnTo>
                  <a:lnTo>
                    <a:pt x="46" y="209"/>
                  </a:lnTo>
                  <a:lnTo>
                    <a:pt x="149" y="209"/>
                  </a:lnTo>
                  <a:lnTo>
                    <a:pt x="149" y="261"/>
                  </a:lnTo>
                  <a:lnTo>
                    <a:pt x="149" y="269"/>
                  </a:lnTo>
                  <a:lnTo>
                    <a:pt x="157" y="269"/>
                  </a:lnTo>
                  <a:lnTo>
                    <a:pt x="195" y="269"/>
                  </a:lnTo>
                  <a:lnTo>
                    <a:pt x="97" y="434"/>
                  </a:lnTo>
                  <a:lnTo>
                    <a:pt x="97" y="434"/>
                  </a:lnTo>
                  <a:close/>
                  <a:moveTo>
                    <a:pt x="46" y="164"/>
                  </a:moveTo>
                  <a:lnTo>
                    <a:pt x="46" y="85"/>
                  </a:lnTo>
                  <a:lnTo>
                    <a:pt x="149" y="85"/>
                  </a:lnTo>
                  <a:lnTo>
                    <a:pt x="149" y="164"/>
                  </a:lnTo>
                  <a:lnTo>
                    <a:pt x="46" y="164"/>
                  </a:lnTo>
                  <a:lnTo>
                    <a:pt x="46" y="164"/>
                  </a:lnTo>
                  <a:close/>
                  <a:moveTo>
                    <a:pt x="46" y="42"/>
                  </a:moveTo>
                  <a:lnTo>
                    <a:pt x="46" y="0"/>
                  </a:lnTo>
                  <a:lnTo>
                    <a:pt x="149" y="0"/>
                  </a:lnTo>
                  <a:lnTo>
                    <a:pt x="149" y="42"/>
                  </a:lnTo>
                  <a:lnTo>
                    <a:pt x="46" y="42"/>
                  </a:lnTo>
                  <a:lnTo>
                    <a:pt x="46" y="4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2d2d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5000">
    <p:fade/>
  </p:transition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0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dur="indefinite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500"/>
                            </p:stCondLst>
                            <p:childTnLst>
                              <p:par>
                                <p:cTn id="59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3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800"/>
                            </p:stCondLst>
                            <p:childTnLst>
                              <p:par>
                                <p:cTn id="59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7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1300"/>
                            </p:stCondLst>
                            <p:childTnLst>
                              <p:par>
                                <p:cTn id="599" dur="indefinite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1800"/>
                            </p:stCondLst>
                            <p:childTnLst>
                              <p:par>
                                <p:cTn id="60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3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2100"/>
                            </p:stCondLst>
                            <p:childTnLst>
                              <p:par>
                                <p:cTn id="61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2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2600"/>
                            </p:stCondLst>
                            <p:childTnLst>
                              <p:par>
                                <p:cTn id="614" dur="indefinite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3100"/>
                            </p:stCondLst>
                            <p:childTnLst>
                              <p:par>
                                <p:cTn id="62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3" dur="3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3400"/>
                            </p:stCondLst>
                            <p:childTnLst>
                              <p:par>
                                <p:cTn id="62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7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3900"/>
                            </p:stCondLst>
                            <p:childTnLst>
                              <p:par>
                                <p:cTn id="629" dur="indefinite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4400"/>
                            </p:stCondLst>
                            <p:childTnLst>
                              <p:par>
                                <p:cTn id="63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8" dur="3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4700"/>
                            </p:stCondLst>
                            <p:childTnLst>
                              <p:par>
                                <p:cTn id="64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2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8" name="组合 1"/>
          <p:cNvGrpSpPr/>
          <p:nvPr/>
        </p:nvGrpSpPr>
        <p:grpSpPr>
          <a:xfrm>
            <a:off x="755640" y="1417680"/>
            <a:ext cx="3887640" cy="2241360"/>
            <a:chOff x="755640" y="1417680"/>
            <a:chExt cx="3887640" cy="2241360"/>
          </a:xfrm>
        </p:grpSpPr>
        <p:sp>
          <p:nvSpPr>
            <p:cNvPr id="789" name="圆角矩形​​ 34"/>
            <p:cNvSpPr/>
            <p:nvPr/>
          </p:nvSpPr>
          <p:spPr>
            <a:xfrm>
              <a:off x="755640" y="1417680"/>
              <a:ext cx="3887640" cy="2241360"/>
            </a:xfrm>
            <a:prstGeom prst="roundRect">
              <a:avLst>
                <a:gd name="adj" fmla="val 8588"/>
              </a:avLst>
            </a:prstGeom>
            <a:noFill/>
            <a:ln w="12600">
              <a:solidFill>
                <a:srgbClr val="bfbfb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0" name="组合 28"/>
            <p:cNvGrpSpPr/>
            <p:nvPr/>
          </p:nvGrpSpPr>
          <p:grpSpPr>
            <a:xfrm>
              <a:off x="1042920" y="3071880"/>
              <a:ext cx="314280" cy="315720"/>
              <a:chOff x="1042920" y="3071880"/>
              <a:chExt cx="314280" cy="315720"/>
            </a:xfrm>
          </p:grpSpPr>
          <p:sp>
            <p:nvSpPr>
              <p:cNvPr id="791" name="泪滴形 17"/>
              <p:cNvSpPr/>
              <p:nvPr/>
            </p:nvSpPr>
            <p:spPr>
              <a:xfrm>
                <a:off x="1042920" y="3071880"/>
                <a:ext cx="314280" cy="315720"/>
              </a:xfrm>
              <a:custGeom>
                <a:avLst/>
                <a:gdLst/>
                <a:ahLst/>
                <a:rect l="l" t="t" r="r" b="b"/>
                <a:pathLst>
                  <a:path w="628790" h="628790">
                    <a:moveTo>
                      <a:pt x="0" y="314395"/>
                    </a:moveTo>
                    <a:cubicBezTo>
                      <a:pt x="0" y="140759"/>
                      <a:pt x="140759" y="0"/>
                      <a:pt x="314395" y="0"/>
                    </a:cubicBezTo>
                    <a:cubicBezTo>
                      <a:pt x="419193" y="0"/>
                      <a:pt x="523991" y="0"/>
                      <a:pt x="628790" y="0"/>
                    </a:cubicBezTo>
                    <a:cubicBezTo>
                      <a:pt x="628790" y="104798"/>
                      <a:pt x="628790" y="209596"/>
                      <a:pt x="628790" y="314395"/>
                    </a:cubicBezTo>
                    <a:cubicBezTo>
                      <a:pt x="628790" y="488031"/>
                      <a:pt x="488031" y="628790"/>
                      <a:pt x="314395" y="628790"/>
                    </a:cubicBezTo>
                    <a:cubicBezTo>
                      <a:pt x="140759" y="628790"/>
                      <a:pt x="0" y="488031"/>
                      <a:pt x="0" y="314395"/>
                    </a:cubicBez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椭圆​​ 16"/>
              <p:cNvSpPr/>
              <p:nvPr/>
            </p:nvSpPr>
            <p:spPr>
              <a:xfrm>
                <a:off x="1123920" y="3157560"/>
                <a:ext cx="147600" cy="14904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f2f2f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3" name="组合 29"/>
            <p:cNvGrpSpPr/>
            <p:nvPr/>
          </p:nvGrpSpPr>
          <p:grpSpPr>
            <a:xfrm>
              <a:off x="1042560" y="2595600"/>
              <a:ext cx="314280" cy="314280"/>
              <a:chOff x="1042560" y="2595600"/>
              <a:chExt cx="314280" cy="314280"/>
            </a:xfrm>
          </p:grpSpPr>
          <p:sp>
            <p:nvSpPr>
              <p:cNvPr id="794" name="泪滴形 15"/>
              <p:cNvSpPr/>
              <p:nvPr/>
            </p:nvSpPr>
            <p:spPr>
              <a:xfrm flipH="1">
                <a:off x="1042200" y="2595600"/>
                <a:ext cx="314280" cy="314280"/>
              </a:xfrm>
              <a:custGeom>
                <a:avLst/>
                <a:gdLst/>
                <a:ahLst/>
                <a:rect l="l" t="t" r="r" b="b"/>
                <a:pathLst>
                  <a:path w="628790" h="628790">
                    <a:moveTo>
                      <a:pt x="0" y="314395"/>
                    </a:moveTo>
                    <a:cubicBezTo>
                      <a:pt x="0" y="140759"/>
                      <a:pt x="140759" y="0"/>
                      <a:pt x="314395" y="0"/>
                    </a:cubicBezTo>
                    <a:cubicBezTo>
                      <a:pt x="419193" y="0"/>
                      <a:pt x="523991" y="0"/>
                      <a:pt x="628790" y="0"/>
                    </a:cubicBezTo>
                    <a:cubicBezTo>
                      <a:pt x="628790" y="104798"/>
                      <a:pt x="628790" y="209596"/>
                      <a:pt x="628790" y="314395"/>
                    </a:cubicBezTo>
                    <a:cubicBezTo>
                      <a:pt x="628790" y="488031"/>
                      <a:pt x="488031" y="628790"/>
                      <a:pt x="314395" y="628790"/>
                    </a:cubicBezTo>
                    <a:cubicBezTo>
                      <a:pt x="140759" y="628790"/>
                      <a:pt x="0" y="488031"/>
                      <a:pt x="0" y="314395"/>
                    </a:cubicBezTo>
                    <a:close/>
                  </a:path>
                </a:pathLst>
              </a:custGeom>
              <a:solidFill>
                <a:srgbClr val="cc0066"/>
              </a:solidFill>
              <a:ln w="25560">
                <a:solidFill>
                  <a:srgbClr val="f2f2f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椭圆​​ 19"/>
              <p:cNvSpPr/>
              <p:nvPr/>
            </p:nvSpPr>
            <p:spPr>
              <a:xfrm flipH="1">
                <a:off x="1122120" y="2681280"/>
                <a:ext cx="147600" cy="14760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f2f2f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6" name="组合 26"/>
            <p:cNvGrpSpPr/>
            <p:nvPr/>
          </p:nvGrpSpPr>
          <p:grpSpPr>
            <a:xfrm>
              <a:off x="1042200" y="1639440"/>
              <a:ext cx="314280" cy="314280"/>
              <a:chOff x="1042200" y="1639440"/>
              <a:chExt cx="314280" cy="314280"/>
            </a:xfrm>
          </p:grpSpPr>
          <p:sp>
            <p:nvSpPr>
              <p:cNvPr id="797" name="泪滴形 13"/>
              <p:cNvSpPr/>
              <p:nvPr/>
            </p:nvSpPr>
            <p:spPr>
              <a:xfrm flipH="1" rot="10800000">
                <a:off x="1041840" y="1639440"/>
                <a:ext cx="314280" cy="314280"/>
              </a:xfrm>
              <a:custGeom>
                <a:avLst/>
                <a:gdLst/>
                <a:ahLst/>
                <a:rect l="l" t="t" r="r" b="b"/>
                <a:pathLst>
                  <a:path w="628790" h="628790">
                    <a:moveTo>
                      <a:pt x="0" y="314395"/>
                    </a:moveTo>
                    <a:cubicBezTo>
                      <a:pt x="0" y="140759"/>
                      <a:pt x="140759" y="0"/>
                      <a:pt x="314395" y="0"/>
                    </a:cubicBezTo>
                    <a:cubicBezTo>
                      <a:pt x="419193" y="0"/>
                      <a:pt x="523991" y="0"/>
                      <a:pt x="628790" y="0"/>
                    </a:cubicBezTo>
                    <a:cubicBezTo>
                      <a:pt x="628790" y="104798"/>
                      <a:pt x="628790" y="209596"/>
                      <a:pt x="628790" y="314395"/>
                    </a:cubicBezTo>
                    <a:cubicBezTo>
                      <a:pt x="628790" y="488031"/>
                      <a:pt x="488031" y="628790"/>
                      <a:pt x="314395" y="628790"/>
                    </a:cubicBezTo>
                    <a:cubicBezTo>
                      <a:pt x="140759" y="628790"/>
                      <a:pt x="0" y="488031"/>
                      <a:pt x="0" y="314395"/>
                    </a:cubicBezTo>
                    <a:close/>
                  </a:path>
                </a:pathLst>
              </a:cu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椭圆​​ 22"/>
              <p:cNvSpPr/>
              <p:nvPr/>
            </p:nvSpPr>
            <p:spPr>
              <a:xfrm flipH="1" rot="10800000">
                <a:off x="1123920" y="1726920"/>
                <a:ext cx="147600" cy="14760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f2f2f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9" name="组合 27"/>
            <p:cNvGrpSpPr/>
            <p:nvPr/>
          </p:nvGrpSpPr>
          <p:grpSpPr>
            <a:xfrm>
              <a:off x="1042200" y="2117520"/>
              <a:ext cx="314280" cy="314280"/>
              <a:chOff x="1042200" y="2117520"/>
              <a:chExt cx="314280" cy="314280"/>
            </a:xfrm>
          </p:grpSpPr>
          <p:sp>
            <p:nvSpPr>
              <p:cNvPr id="800" name="泪滴形 11"/>
              <p:cNvSpPr/>
              <p:nvPr/>
            </p:nvSpPr>
            <p:spPr>
              <a:xfrm flipH="1" rot="16200000">
                <a:off x="1041840" y="2117520"/>
                <a:ext cx="314280" cy="314280"/>
              </a:xfrm>
              <a:custGeom>
                <a:avLst/>
                <a:gdLst/>
                <a:ahLst/>
                <a:rect l="l" t="t" r="r" b="b"/>
                <a:pathLst>
                  <a:path w="628790" h="628790">
                    <a:moveTo>
                      <a:pt x="0" y="314395"/>
                    </a:moveTo>
                    <a:cubicBezTo>
                      <a:pt x="0" y="140759"/>
                      <a:pt x="140759" y="0"/>
                      <a:pt x="314395" y="0"/>
                    </a:cubicBezTo>
                    <a:cubicBezTo>
                      <a:pt x="419193" y="0"/>
                      <a:pt x="523991" y="0"/>
                      <a:pt x="628790" y="0"/>
                    </a:cubicBezTo>
                    <a:cubicBezTo>
                      <a:pt x="628790" y="104798"/>
                      <a:pt x="628790" y="209596"/>
                      <a:pt x="628790" y="314395"/>
                    </a:cubicBezTo>
                    <a:cubicBezTo>
                      <a:pt x="628790" y="488031"/>
                      <a:pt x="488031" y="628790"/>
                      <a:pt x="314395" y="628790"/>
                    </a:cubicBezTo>
                    <a:cubicBezTo>
                      <a:pt x="140759" y="628790"/>
                      <a:pt x="0" y="488031"/>
                      <a:pt x="0" y="314395"/>
                    </a:cubicBezTo>
                    <a:close/>
                  </a:path>
                </a:pathLst>
              </a:custGeom>
              <a:solidFill>
                <a:srgbClr val="ffd0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椭圆​​ 25"/>
              <p:cNvSpPr/>
              <p:nvPr/>
            </p:nvSpPr>
            <p:spPr>
              <a:xfrm flipH="1" rot="16200000">
                <a:off x="1122120" y="2204640"/>
                <a:ext cx="147600" cy="14760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f2f2f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2" name="矩形​​ 30"/>
            <p:cNvSpPr/>
            <p:nvPr/>
          </p:nvSpPr>
          <p:spPr>
            <a:xfrm>
              <a:off x="1946160" y="1611360"/>
              <a:ext cx="155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此处录入标题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矩形​​ 31"/>
            <p:cNvSpPr/>
            <p:nvPr/>
          </p:nvSpPr>
          <p:spPr>
            <a:xfrm>
              <a:off x="1946160" y="2093760"/>
              <a:ext cx="155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此处录入标题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矩形​​ 32"/>
            <p:cNvSpPr/>
            <p:nvPr/>
          </p:nvSpPr>
          <p:spPr>
            <a:xfrm>
              <a:off x="1946160" y="2541600"/>
              <a:ext cx="155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此处录入标题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矩形​​ 33"/>
            <p:cNvSpPr/>
            <p:nvPr/>
          </p:nvSpPr>
          <p:spPr>
            <a:xfrm>
              <a:off x="1946160" y="3014640"/>
              <a:ext cx="155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此处录入标题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06" name="图片 2" descr=""/>
          <p:cNvPicPr/>
          <p:nvPr/>
        </p:nvPicPr>
        <p:blipFill>
          <a:blip r:embed="rId1"/>
          <a:stretch/>
        </p:blipFill>
        <p:spPr>
          <a:xfrm>
            <a:off x="3990960" y="3757680"/>
            <a:ext cx="676440" cy="847800"/>
          </a:xfrm>
          <a:prstGeom prst="rect">
            <a:avLst/>
          </a:prstGeom>
          <a:ln w="0">
            <a:noFill/>
          </a:ln>
        </p:spPr>
      </p:pic>
      <p:pic>
        <p:nvPicPr>
          <p:cNvPr id="807" name="图片 4" descr=""/>
          <p:cNvPicPr/>
          <p:nvPr/>
        </p:nvPicPr>
        <p:blipFill>
          <a:blip r:embed="rId2"/>
          <a:stretch/>
        </p:blipFill>
        <p:spPr>
          <a:xfrm>
            <a:off x="2573280" y="4740120"/>
            <a:ext cx="781200" cy="648000"/>
          </a:xfrm>
          <a:prstGeom prst="rect">
            <a:avLst/>
          </a:prstGeom>
          <a:ln w="0">
            <a:noFill/>
          </a:ln>
        </p:spPr>
      </p:pic>
      <p:pic>
        <p:nvPicPr>
          <p:cNvPr id="808" name="图片 5" descr=""/>
          <p:cNvPicPr/>
          <p:nvPr/>
        </p:nvPicPr>
        <p:blipFill>
          <a:blip r:embed="rId3"/>
          <a:stretch/>
        </p:blipFill>
        <p:spPr>
          <a:xfrm>
            <a:off x="758880" y="4519440"/>
            <a:ext cx="942840" cy="866880"/>
          </a:xfrm>
          <a:prstGeom prst="rect">
            <a:avLst/>
          </a:prstGeom>
          <a:ln w="0">
            <a:noFill/>
          </a:ln>
        </p:spPr>
      </p:pic>
      <p:grpSp>
        <p:nvGrpSpPr>
          <p:cNvPr id="809" name="组合 22"/>
          <p:cNvGrpSpPr/>
          <p:nvPr/>
        </p:nvGrpSpPr>
        <p:grpSpPr>
          <a:xfrm>
            <a:off x="4656240" y="1584360"/>
            <a:ext cx="4048560" cy="3323160"/>
            <a:chOff x="4656240" y="1584360"/>
            <a:chExt cx="4048560" cy="3323160"/>
          </a:xfrm>
        </p:grpSpPr>
        <p:grpSp>
          <p:nvGrpSpPr>
            <p:cNvPr id="810" name="组合 23"/>
            <p:cNvGrpSpPr/>
            <p:nvPr/>
          </p:nvGrpSpPr>
          <p:grpSpPr>
            <a:xfrm>
              <a:off x="4732200" y="1584360"/>
              <a:ext cx="3972600" cy="3323160"/>
              <a:chOff x="4732200" y="1584360"/>
              <a:chExt cx="3972600" cy="3323160"/>
            </a:xfrm>
          </p:grpSpPr>
          <p:grpSp>
            <p:nvGrpSpPr>
              <p:cNvPr id="811" name="组合 25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  <p:grpSp>
            <p:nvGrpSpPr>
              <p:cNvPr id="812" name="组合 26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  <p:sp>
            <p:nvSpPr>
              <p:cNvPr id="813" name="泪滴形 27"/>
              <p:cNvSpPr/>
              <p:nvPr/>
            </p:nvSpPr>
            <p:spPr>
              <a:xfrm flipH="1" rot="10800000">
                <a:off x="5101920" y="2173680"/>
                <a:ext cx="1358640" cy="1325880"/>
              </a:xfrm>
              <a:custGeom>
                <a:avLst/>
                <a:gdLst/>
                <a:ahLst/>
                <a:rect l="l" t="t" r="r" b="b"/>
                <a:pathLst>
                  <a:path w="1358900" h="1358900">
                    <a:moveTo>
                      <a:pt x="0" y="679450"/>
                    </a:moveTo>
                    <a:cubicBezTo>
                      <a:pt x="0" y="304200"/>
                      <a:pt x="304200" y="0"/>
                      <a:pt x="679450" y="0"/>
                    </a:cubicBezTo>
                    <a:cubicBezTo>
                      <a:pt x="905933" y="0"/>
                      <a:pt x="1132416" y="0"/>
                      <a:pt x="1358900" y="0"/>
                    </a:cubicBezTo>
                    <a:cubicBezTo>
                      <a:pt x="1358900" y="226483"/>
                      <a:pt x="1358900" y="452966"/>
                      <a:pt x="1358900" y="679450"/>
                    </a:cubicBezTo>
                    <a:cubicBezTo>
                      <a:pt x="1358900" y="1054700"/>
                      <a:pt x="1054700" y="1358900"/>
                      <a:pt x="679450" y="1358900"/>
                    </a:cubicBezTo>
                    <a:cubicBezTo>
                      <a:pt x="304200" y="1358900"/>
                      <a:pt x="0" y="1054700"/>
                      <a:pt x="0" y="679450"/>
                    </a:cubicBezTo>
                    <a:close/>
                  </a:path>
                </a:pathLst>
              </a:cu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4" name="组合 28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  <p:sp>
            <p:nvSpPr>
              <p:cNvPr id="815" name="矩形​​ 44"/>
              <p:cNvSpPr/>
              <p:nvPr/>
            </p:nvSpPr>
            <p:spPr>
              <a:xfrm>
                <a:off x="7219440" y="2288520"/>
                <a:ext cx="546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点击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入内容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矩形​​ 45"/>
              <p:cNvSpPr/>
              <p:nvPr/>
            </p:nvSpPr>
            <p:spPr>
              <a:xfrm>
                <a:off x="5371560" y="4116600"/>
                <a:ext cx="546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点击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入内容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矩形​​ 46"/>
              <p:cNvSpPr/>
              <p:nvPr/>
            </p:nvSpPr>
            <p:spPr>
              <a:xfrm>
                <a:off x="7306920" y="4290120"/>
                <a:ext cx="546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点击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入内容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新月形 32"/>
              <p:cNvSpPr/>
              <p:nvPr/>
            </p:nvSpPr>
            <p:spPr>
              <a:xfrm rot="3501600">
                <a:off x="5295240" y="1716840"/>
                <a:ext cx="698760" cy="1713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3767" y="1065"/>
                      <a:pt x="5934" y="5080"/>
                      <a:pt x="5934" y="10800"/>
                    </a:cubicBezTo>
                    <a:cubicBezTo>
                      <a:pt x="5934" y="16520"/>
                      <a:pt x="13767" y="20535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38039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73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椭圆​​ 10"/>
              <p:cNvSpPr/>
              <p:nvPr/>
            </p:nvSpPr>
            <p:spPr>
              <a:xfrm flipH="1" rot="10800000">
                <a:off x="5243760" y="2313000"/>
                <a:ext cx="812520" cy="79308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round/>
              </a:ln>
              <a:effectLst>
                <a:outerShdw dist="38183" dir="135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矩形​​ 43"/>
              <p:cNvSpPr/>
              <p:nvPr/>
            </p:nvSpPr>
            <p:spPr>
              <a:xfrm>
                <a:off x="5394240" y="2490120"/>
                <a:ext cx="5007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点击录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入内容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新月形 35"/>
              <p:cNvSpPr/>
              <p:nvPr/>
            </p:nvSpPr>
            <p:spPr>
              <a:xfrm rot="3501600">
                <a:off x="6713640" y="1479240"/>
                <a:ext cx="698760" cy="1693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3767" y="1065"/>
                      <a:pt x="5934" y="5080"/>
                      <a:pt x="5934" y="10800"/>
                    </a:cubicBezTo>
                    <a:cubicBezTo>
                      <a:pt x="5934" y="16520"/>
                      <a:pt x="13767" y="20535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38039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73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新月形 36"/>
              <p:cNvSpPr/>
              <p:nvPr/>
            </p:nvSpPr>
            <p:spPr>
              <a:xfrm rot="8052600">
                <a:off x="7504920" y="3220200"/>
                <a:ext cx="698760" cy="1693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3767" y="1065"/>
                      <a:pt x="5934" y="5080"/>
                      <a:pt x="5934" y="10800"/>
                    </a:cubicBezTo>
                    <a:cubicBezTo>
                      <a:pt x="5934" y="16520"/>
                      <a:pt x="13767" y="20535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38039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274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3" name="新月形 24"/>
            <p:cNvSpPr/>
            <p:nvPr/>
          </p:nvSpPr>
          <p:spPr>
            <a:xfrm rot="2512200">
              <a:off x="5069880" y="3304080"/>
              <a:ext cx="716400" cy="1514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767" y="1065"/>
                    <a:pt x="5934" y="5080"/>
                    <a:pt x="5934" y="10800"/>
                  </a:cubicBezTo>
                  <a:cubicBezTo>
                    <a:pt x="5934" y="16520"/>
                    <a:pt x="13767" y="20535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38039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828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4" name="文本框 8200"/>
          <p:cNvSpPr/>
          <p:nvPr/>
        </p:nvSpPr>
        <p:spPr>
          <a:xfrm>
            <a:off x="762120" y="87624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0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dur="indefinite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500"/>
                            </p:stCondLst>
                            <p:childTnLst>
                              <p:par>
                                <p:cTn id="654" dur="indefinite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61" dur="indefinite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1500"/>
                            </p:stCondLst>
                            <p:childTnLst>
                              <p:par>
                                <p:cTn id="668" dur="indefinite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2000"/>
                            </p:stCondLst>
                            <p:childTnLst>
                              <p:par>
                                <p:cTn id="675" dur="indefinite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0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AutoShape 64"/>
          <p:cNvSpPr/>
          <p:nvPr/>
        </p:nvSpPr>
        <p:spPr>
          <a:xfrm>
            <a:off x="2389320" y="547560"/>
            <a:ext cx="1917720" cy="39528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83838"/>
                </a:solidFill>
                <a:latin typeface="微软雅黑"/>
                <a:ea typeface="微软雅黑"/>
              </a:rPr>
              <a:t>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AutoShape 64"/>
          <p:cNvSpPr/>
          <p:nvPr/>
        </p:nvSpPr>
        <p:spPr>
          <a:xfrm>
            <a:off x="4730760" y="547560"/>
            <a:ext cx="1917720" cy="39528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83838"/>
                </a:solidFill>
                <a:latin typeface="微软雅黑"/>
                <a:ea typeface="微软雅黑"/>
              </a:rPr>
              <a:t>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7" name="组合 3"/>
          <p:cNvGrpSpPr/>
          <p:nvPr/>
        </p:nvGrpSpPr>
        <p:grpSpPr>
          <a:xfrm>
            <a:off x="1835280" y="3230640"/>
            <a:ext cx="5180040" cy="2219400"/>
            <a:chOff x="1835280" y="3230640"/>
            <a:chExt cx="5180040" cy="2219400"/>
          </a:xfrm>
        </p:grpSpPr>
        <p:sp>
          <p:nvSpPr>
            <p:cNvPr id="828" name="AutoShape 64"/>
            <p:cNvSpPr/>
            <p:nvPr/>
          </p:nvSpPr>
          <p:spPr>
            <a:xfrm rot="16200000">
              <a:off x="1636920" y="3566880"/>
              <a:ext cx="951840" cy="394560"/>
            </a:xfrm>
            <a:prstGeom prst="roundRect">
              <a:avLst>
                <a:gd name="adj" fmla="val 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700" spc="-1" strike="noStrike">
                  <a:solidFill>
                    <a:srgbClr val="383838"/>
                  </a:solidFill>
                  <a:latin typeface="微软雅黑"/>
                  <a:ea typeface="微软雅黑"/>
                </a:rPr>
                <a:t>副标题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9" name="组合 5"/>
            <p:cNvGrpSpPr/>
            <p:nvPr/>
          </p:nvGrpSpPr>
          <p:grpSpPr>
            <a:xfrm>
              <a:off x="2384280" y="3327480"/>
              <a:ext cx="1908000" cy="919080"/>
              <a:chOff x="2384280" y="3327480"/>
              <a:chExt cx="1908000" cy="919080"/>
            </a:xfrm>
          </p:grpSpPr>
          <p:pic>
            <p:nvPicPr>
              <p:cNvPr id="830" name="Rectangle 10" descr=""/>
              <p:cNvPicPr/>
              <p:nvPr/>
            </p:nvPicPr>
            <p:blipFill>
              <a:blip r:embed="rId1"/>
              <a:stretch/>
            </p:blipFill>
            <p:spPr>
              <a:xfrm>
                <a:off x="2384280" y="3327480"/>
                <a:ext cx="1908000" cy="91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1" name="AutoShape 64"/>
              <p:cNvSpPr/>
              <p:nvPr/>
            </p:nvSpPr>
            <p:spPr>
              <a:xfrm>
                <a:off x="2717640" y="3523320"/>
                <a:ext cx="1242000" cy="558000"/>
              </a:xfrm>
              <a:prstGeom prst="roundRect">
                <a:avLst>
                  <a:gd name="adj" fmla="val 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10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2" name="组合 6"/>
            <p:cNvGrpSpPr/>
            <p:nvPr/>
          </p:nvGrpSpPr>
          <p:grpSpPr>
            <a:xfrm>
              <a:off x="4654440" y="3327480"/>
              <a:ext cx="1908000" cy="919080"/>
              <a:chOff x="4654440" y="3327480"/>
              <a:chExt cx="1908000" cy="919080"/>
            </a:xfrm>
          </p:grpSpPr>
          <p:pic>
            <p:nvPicPr>
              <p:cNvPr id="833" name="Rectangle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4654440" y="3327480"/>
                <a:ext cx="1908000" cy="91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4" name="AutoShape 64"/>
              <p:cNvSpPr/>
              <p:nvPr/>
            </p:nvSpPr>
            <p:spPr>
              <a:xfrm>
                <a:off x="5003640" y="3523320"/>
                <a:ext cx="1242000" cy="558000"/>
              </a:xfrm>
              <a:prstGeom prst="roundRect">
                <a:avLst>
                  <a:gd name="adj" fmla="val 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4</a:t>
                </a:r>
                <a:endParaRPr b="0" lang="en-US" sz="10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35" name="Rounded Rectangle 25" descr=""/>
            <p:cNvPicPr/>
            <p:nvPr/>
          </p:nvPicPr>
          <p:blipFill>
            <a:blip r:embed="rId3"/>
            <a:stretch/>
          </p:blipFill>
          <p:spPr>
            <a:xfrm>
              <a:off x="1835280" y="3230640"/>
              <a:ext cx="5180040" cy="2219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36" name="组合 12"/>
          <p:cNvGrpSpPr/>
          <p:nvPr/>
        </p:nvGrpSpPr>
        <p:grpSpPr>
          <a:xfrm>
            <a:off x="1835280" y="1014120"/>
            <a:ext cx="5180040" cy="2219400"/>
            <a:chOff x="1835280" y="1014120"/>
            <a:chExt cx="5180040" cy="2219400"/>
          </a:xfrm>
        </p:grpSpPr>
        <p:grpSp>
          <p:nvGrpSpPr>
            <p:cNvPr id="837" name="组合 13"/>
            <p:cNvGrpSpPr/>
            <p:nvPr/>
          </p:nvGrpSpPr>
          <p:grpSpPr>
            <a:xfrm>
              <a:off x="2375280" y="1200960"/>
              <a:ext cx="1917000" cy="1850760"/>
              <a:chOff x="2375280" y="1200960"/>
              <a:chExt cx="1917000" cy="1850760"/>
            </a:xfrm>
          </p:grpSpPr>
          <p:pic>
            <p:nvPicPr>
              <p:cNvPr id="838" name="Rectangle 9" descr=""/>
              <p:cNvPicPr/>
              <p:nvPr/>
            </p:nvPicPr>
            <p:blipFill>
              <a:blip r:embed="rId4"/>
              <a:stretch/>
            </p:blipFill>
            <p:spPr>
              <a:xfrm>
                <a:off x="2375280" y="1200960"/>
                <a:ext cx="1917000" cy="1850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9" name="AutoShape 64"/>
              <p:cNvSpPr/>
              <p:nvPr/>
            </p:nvSpPr>
            <p:spPr>
              <a:xfrm>
                <a:off x="2694240" y="1597320"/>
                <a:ext cx="1247760" cy="1123560"/>
              </a:xfrm>
              <a:prstGeom prst="roundRect">
                <a:avLst>
                  <a:gd name="adj" fmla="val 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10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0" name="组合 14"/>
            <p:cNvGrpSpPr/>
            <p:nvPr/>
          </p:nvGrpSpPr>
          <p:grpSpPr>
            <a:xfrm>
              <a:off x="4654080" y="1200960"/>
              <a:ext cx="1917000" cy="1850760"/>
              <a:chOff x="4654080" y="1200960"/>
              <a:chExt cx="1917000" cy="1850760"/>
            </a:xfrm>
          </p:grpSpPr>
          <p:pic>
            <p:nvPicPr>
              <p:cNvPr id="841" name="Rectangle 8" descr=""/>
              <p:cNvPicPr/>
              <p:nvPr/>
            </p:nvPicPr>
            <p:blipFill>
              <a:blip r:embed="rId5"/>
              <a:stretch/>
            </p:blipFill>
            <p:spPr>
              <a:xfrm>
                <a:off x="4654080" y="1200960"/>
                <a:ext cx="1917000" cy="1850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2" name="AutoShape 64"/>
              <p:cNvSpPr/>
              <p:nvPr/>
            </p:nvSpPr>
            <p:spPr>
              <a:xfrm>
                <a:off x="4977720" y="1597320"/>
                <a:ext cx="1247760" cy="1123560"/>
              </a:xfrm>
              <a:prstGeom prst="roundRect">
                <a:avLst>
                  <a:gd name="adj" fmla="val 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10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3" name="AutoShape 64"/>
            <p:cNvSpPr/>
            <p:nvPr/>
          </p:nvSpPr>
          <p:spPr>
            <a:xfrm rot="16200000">
              <a:off x="1144440" y="1911960"/>
              <a:ext cx="1916640" cy="396360"/>
            </a:xfrm>
            <a:prstGeom prst="roundRect">
              <a:avLst>
                <a:gd name="adj" fmla="val 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700" spc="-1" strike="noStrike">
                  <a:solidFill>
                    <a:srgbClr val="383838"/>
                  </a:solidFill>
                  <a:latin typeface="微软雅黑"/>
                  <a:ea typeface="微软雅黑"/>
                </a:rPr>
                <a:t>副标题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Rounded Rectangle 28"/>
            <p:cNvSpPr/>
            <p:nvPr/>
          </p:nvSpPr>
          <p:spPr>
            <a:xfrm rot="16200000">
              <a:off x="3315600" y="-466200"/>
              <a:ext cx="2219400" cy="5180040"/>
            </a:xfrm>
            <a:custGeom>
              <a:avLst/>
              <a:gdLst>
                <a:gd name="textAreaLeft" fmla="*/ 38160 w 2219400"/>
                <a:gd name="textAreaRight" fmla="*/ 2181240 w 2219400"/>
                <a:gd name="textAreaTop" fmla="*/ 38160 h 5180040"/>
                <a:gd name="textAreaBottom" fmla="*/ 5141880 h 5180040"/>
              </a:gdLst>
              <a:ahLst/>
              <a:rect l="textAreaLeft" t="textAreaTop" r="textAreaRight" b="textAreaBottom"/>
              <a:pathLst>
                <a:path w="21600" h="50409">
                  <a:moveTo>
                    <a:pt x="1270" y="0"/>
                  </a:moveTo>
                  <a:arcTo wR="1270" hR="1270" stAng="16200000" swAng="-5400000"/>
                  <a:lnTo>
                    <a:pt x="0" y="49139"/>
                  </a:lnTo>
                  <a:arcTo wR="1270" hR="1270" stAng="10800000" swAng="-5400000"/>
                  <a:lnTo>
                    <a:pt x="20330" y="50409"/>
                  </a:lnTo>
                  <a:arcTo wR="1270" hR="1270" stAng="5400000" swAng="-5400000"/>
                  <a:lnTo>
                    <a:pt x="21600" y="1270"/>
                  </a:lnTo>
                  <a:arcTo wR="1270" hR="1270" stAng="0" swAng="-5400000"/>
                  <a:close/>
                </a:path>
              </a:pathLst>
            </a:custGeom>
            <a:noFill/>
            <a:ln w="1260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45" name="Straight Connector 32" descr=""/>
          <p:cNvPicPr/>
          <p:nvPr/>
        </p:nvPicPr>
        <p:blipFill>
          <a:blip r:embed="rId6"/>
          <a:stretch/>
        </p:blipFill>
        <p:spPr>
          <a:xfrm>
            <a:off x="4486320" y="1014480"/>
            <a:ext cx="12600" cy="44355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0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6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1000"/>
                            </p:stCondLst>
                            <p:childTnLst>
                              <p:par>
                                <p:cTn id="70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G:\S素材风暴素材\4-PPT模板\00_新建文件夹\images\015\图片\image 66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grpSp>
        <p:nvGrpSpPr>
          <p:cNvPr id="168" name="组合 10"/>
          <p:cNvGrpSpPr/>
          <p:nvPr/>
        </p:nvGrpSpPr>
        <p:grpSpPr>
          <a:xfrm>
            <a:off x="2416320" y="1155600"/>
            <a:ext cx="4419360" cy="3256920"/>
            <a:chOff x="2416320" y="1155600"/>
            <a:chExt cx="4419360" cy="3256920"/>
          </a:xfrm>
        </p:grpSpPr>
        <p:sp>
          <p:nvSpPr>
            <p:cNvPr id="169" name="矩形 1"/>
            <p:cNvSpPr/>
            <p:nvPr/>
          </p:nvSpPr>
          <p:spPr>
            <a:xfrm>
              <a:off x="2416320" y="1155600"/>
              <a:ext cx="4419360" cy="2888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0" name="Picture 3" descr=""/>
            <p:cNvPicPr/>
            <p:nvPr/>
          </p:nvPicPr>
          <p:blipFill>
            <a:blip r:embed="rId2"/>
            <a:stretch/>
          </p:blipFill>
          <p:spPr>
            <a:xfrm>
              <a:off x="2570760" y="1299960"/>
              <a:ext cx="4087800" cy="258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TextBox 2"/>
            <p:cNvSpPr/>
            <p:nvPr/>
          </p:nvSpPr>
          <p:spPr>
            <a:xfrm>
              <a:off x="2519280" y="4044240"/>
              <a:ext cx="424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点击图片右键更换图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组合 13"/>
          <p:cNvGrpSpPr/>
          <p:nvPr/>
        </p:nvGrpSpPr>
        <p:grpSpPr>
          <a:xfrm>
            <a:off x="662040" y="2171880"/>
            <a:ext cx="3429000" cy="2610000"/>
            <a:chOff x="662040" y="2171880"/>
            <a:chExt cx="3429000" cy="2610000"/>
          </a:xfrm>
        </p:grpSpPr>
        <p:sp>
          <p:nvSpPr>
            <p:cNvPr id="173" name="矩形 14"/>
            <p:cNvSpPr/>
            <p:nvPr/>
          </p:nvSpPr>
          <p:spPr>
            <a:xfrm>
              <a:off x="662040" y="2171880"/>
              <a:ext cx="3429000" cy="2241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4" name="Picture 3" descr=""/>
            <p:cNvPicPr/>
            <p:nvPr/>
          </p:nvPicPr>
          <p:blipFill>
            <a:blip r:embed="rId3"/>
            <a:stretch/>
          </p:blipFill>
          <p:spPr>
            <a:xfrm>
              <a:off x="799920" y="2283840"/>
              <a:ext cx="3135960" cy="20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TextBox 16"/>
            <p:cNvSpPr/>
            <p:nvPr/>
          </p:nvSpPr>
          <p:spPr>
            <a:xfrm>
              <a:off x="741960" y="4413600"/>
              <a:ext cx="329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点击图片右键更换图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组合 17"/>
          <p:cNvGrpSpPr/>
          <p:nvPr/>
        </p:nvGrpSpPr>
        <p:grpSpPr>
          <a:xfrm>
            <a:off x="5121360" y="1967040"/>
            <a:ext cx="3429000" cy="2610360"/>
            <a:chOff x="5121360" y="1967040"/>
            <a:chExt cx="3429000" cy="2610360"/>
          </a:xfrm>
        </p:grpSpPr>
        <p:sp>
          <p:nvSpPr>
            <p:cNvPr id="177" name="矩形 18"/>
            <p:cNvSpPr/>
            <p:nvPr/>
          </p:nvSpPr>
          <p:spPr>
            <a:xfrm>
              <a:off x="5121360" y="1967040"/>
              <a:ext cx="3429000" cy="2242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8" name="Picture 3" descr=""/>
            <p:cNvPicPr/>
            <p:nvPr/>
          </p:nvPicPr>
          <p:blipFill>
            <a:blip r:embed="rId4"/>
            <a:stretch/>
          </p:blipFill>
          <p:spPr>
            <a:xfrm>
              <a:off x="5339880" y="2079000"/>
              <a:ext cx="2974680" cy="20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TextBox 20"/>
            <p:cNvSpPr/>
            <p:nvPr/>
          </p:nvSpPr>
          <p:spPr>
            <a:xfrm>
              <a:off x="5201280" y="4209120"/>
              <a:ext cx="329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点击图片右键更换图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5000"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500"/>
                            </p:stCondLst>
                            <p:childTnLst>
                              <p:par>
                                <p:cTn id="41" dur="indefinite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2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2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0"/>
                            </p:stCondLst>
                            <p:childTnLst>
                              <p:par>
                                <p:cTn id="47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7000"/>
                            </p:stCondLst>
                            <p:childTnLst>
                              <p:par>
                                <p:cTn id="53" dur="indefinite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9000"/>
                            </p:stCondLst>
                            <p:childTnLst>
                              <p:par>
                                <p:cTn id="59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dur="indefinite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TextBox 1"/>
          <p:cNvSpPr/>
          <p:nvPr/>
        </p:nvSpPr>
        <p:spPr>
          <a:xfrm>
            <a:off x="966600" y="1620720"/>
            <a:ext cx="1003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000"/>
                </a:solidFill>
                <a:latin typeface="微软雅黑"/>
                <a:ea typeface="微软雅黑"/>
              </a:rPr>
              <a:t>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7" name="组合 2"/>
          <p:cNvGrpSpPr/>
          <p:nvPr/>
        </p:nvGrpSpPr>
        <p:grpSpPr>
          <a:xfrm>
            <a:off x="1270080" y="494640"/>
            <a:ext cx="3726720" cy="2580840"/>
            <a:chOff x="1270080" y="494640"/>
            <a:chExt cx="3726720" cy="2580840"/>
          </a:xfrm>
        </p:grpSpPr>
        <p:sp>
          <p:nvSpPr>
            <p:cNvPr id="848" name="饼形 3"/>
            <p:cNvSpPr/>
            <p:nvPr/>
          </p:nvSpPr>
          <p:spPr>
            <a:xfrm rot="18000000">
              <a:off x="2436480" y="1114200"/>
              <a:ext cx="1118880" cy="1029600"/>
            </a:xfrm>
            <a:custGeom>
              <a:avLst/>
              <a:gdLst/>
              <a:ahLst/>
              <a:rect l="l" t="t" r="r" b="b"/>
              <a:pathLst>
                <a:path w="1118976" h="1029715">
                  <a:moveTo>
                    <a:pt x="295764" y="60785"/>
                  </a:moveTo>
                  <a:cubicBezTo>
                    <a:pt x="374275" y="21970"/>
                    <a:pt x="464093" y="0"/>
                    <a:pt x="559487" y="0"/>
                  </a:cubicBezTo>
                  <a:cubicBezTo>
                    <a:pt x="599966" y="0"/>
                    <a:pt x="639441" y="3956"/>
                    <a:pt x="677316" y="11438"/>
                  </a:cubicBezTo>
                  <a:lnTo>
                    <a:pt x="559488" y="514857"/>
                  </a:lnTo>
                  <a:close/>
                </a:path>
              </a:pathLst>
            </a:cu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9" name="Picture 3" descr=""/>
            <p:cNvPicPr/>
            <p:nvPr/>
          </p:nvPicPr>
          <p:blipFill>
            <a:blip r:embed="rId1"/>
            <a:srcRect l="2767" t="0" r="7211" b="57688"/>
            <a:stretch/>
          </p:blipFill>
          <p:spPr>
            <a:xfrm flipH="1">
              <a:off x="1270080" y="1482120"/>
              <a:ext cx="2437200" cy="14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0" name="右箭头 4"/>
            <p:cNvSpPr/>
            <p:nvPr/>
          </p:nvSpPr>
          <p:spPr>
            <a:xfrm rot="2509800">
              <a:off x="2553480" y="1056960"/>
              <a:ext cx="2243520" cy="1455480"/>
            </a:xfrm>
            <a:custGeom>
              <a:avLst/>
              <a:gdLst/>
              <a:ahLst/>
              <a:rect l="l" t="t" r="r" b="b"/>
              <a:pathLst>
                <a:path w="2243387" h="1455537">
                  <a:moveTo>
                    <a:pt x="767420" y="363884"/>
                  </a:moveTo>
                  <a:lnTo>
                    <a:pt x="1515619" y="363884"/>
                  </a:lnTo>
                  <a:lnTo>
                    <a:pt x="1515619" y="0"/>
                  </a:lnTo>
                  <a:lnTo>
                    <a:pt x="2243387" y="727769"/>
                  </a:lnTo>
                  <a:lnTo>
                    <a:pt x="1515619" y="1455537"/>
                  </a:lnTo>
                  <a:lnTo>
                    <a:pt x="1515619" y="1091653"/>
                  </a:lnTo>
                  <a:lnTo>
                    <a:pt x="0" y="1053186"/>
                  </a:lnTo>
                  <a:lnTo>
                    <a:pt x="767420" y="363884"/>
                  </a:lnTo>
                  <a:close/>
                </a:path>
              </a:pathLst>
            </a:cu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909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直接连接符 6"/>
            <p:cNvSpPr/>
            <p:nvPr/>
          </p:nvSpPr>
          <p:spPr>
            <a:xfrm>
              <a:off x="2808360" y="1282680"/>
              <a:ext cx="1336320" cy="1266840"/>
            </a:xfrm>
            <a:prstGeom prst="line">
              <a:avLst/>
            </a:prstGeom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2" name="组合 7"/>
          <p:cNvGrpSpPr/>
          <p:nvPr/>
        </p:nvGrpSpPr>
        <p:grpSpPr>
          <a:xfrm>
            <a:off x="4069080" y="495000"/>
            <a:ext cx="3736440" cy="2580480"/>
            <a:chOff x="4069080" y="495000"/>
            <a:chExt cx="3736440" cy="2580480"/>
          </a:xfrm>
        </p:grpSpPr>
        <p:sp>
          <p:nvSpPr>
            <p:cNvPr id="853" name="饼形 8"/>
            <p:cNvSpPr/>
            <p:nvPr/>
          </p:nvSpPr>
          <p:spPr>
            <a:xfrm flipH="1" rot="3600000">
              <a:off x="5509440" y="1114200"/>
              <a:ext cx="1118880" cy="1029600"/>
            </a:xfrm>
            <a:custGeom>
              <a:avLst/>
              <a:gdLst/>
              <a:ahLst/>
              <a:rect l="l" t="t" r="r" b="b"/>
              <a:pathLst>
                <a:path w="1118976" h="1029715">
                  <a:moveTo>
                    <a:pt x="295764" y="60785"/>
                  </a:moveTo>
                  <a:cubicBezTo>
                    <a:pt x="374275" y="21970"/>
                    <a:pt x="464093" y="0"/>
                    <a:pt x="559487" y="0"/>
                  </a:cubicBezTo>
                  <a:cubicBezTo>
                    <a:pt x="599966" y="0"/>
                    <a:pt x="639441" y="3956"/>
                    <a:pt x="677316" y="11438"/>
                  </a:cubicBezTo>
                  <a:lnTo>
                    <a:pt x="559488" y="514857"/>
                  </a:lnTo>
                  <a:close/>
                </a:path>
              </a:pathLst>
            </a:custGeom>
            <a:gradFill rotWithShape="0">
              <a:gsLst>
                <a:gs pos="0">
                  <a:srgbClr val="0c0c3c"/>
                </a:gs>
                <a:gs pos="100000">
                  <a:srgbClr val="1d1d6d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4" name="Picture 3" descr=""/>
            <p:cNvPicPr/>
            <p:nvPr/>
          </p:nvPicPr>
          <p:blipFill>
            <a:blip r:embed="rId2"/>
            <a:srcRect l="2767" t="0" r="7211" b="57688"/>
            <a:stretch/>
          </p:blipFill>
          <p:spPr>
            <a:xfrm flipH="1">
              <a:off x="5368680" y="1484640"/>
              <a:ext cx="2436840" cy="14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5" name="右箭头 4"/>
            <p:cNvSpPr/>
            <p:nvPr/>
          </p:nvSpPr>
          <p:spPr>
            <a:xfrm flipH="1" rot="19090200">
              <a:off x="4268160" y="1057320"/>
              <a:ext cx="2243160" cy="1455120"/>
            </a:xfrm>
            <a:custGeom>
              <a:avLst/>
              <a:gdLst/>
              <a:ahLst/>
              <a:rect l="l" t="t" r="r" b="b"/>
              <a:pathLst>
                <a:path w="2243387" h="1455537">
                  <a:moveTo>
                    <a:pt x="767420" y="363884"/>
                  </a:moveTo>
                  <a:lnTo>
                    <a:pt x="1515619" y="363884"/>
                  </a:lnTo>
                  <a:lnTo>
                    <a:pt x="1515619" y="0"/>
                  </a:lnTo>
                  <a:lnTo>
                    <a:pt x="2243387" y="727769"/>
                  </a:lnTo>
                  <a:lnTo>
                    <a:pt x="1515619" y="1455537"/>
                  </a:lnTo>
                  <a:lnTo>
                    <a:pt x="1515619" y="1091653"/>
                  </a:lnTo>
                  <a:lnTo>
                    <a:pt x="0" y="1053186"/>
                  </a:lnTo>
                  <a:lnTo>
                    <a:pt x="767420" y="363884"/>
                  </a:lnTo>
                  <a:close/>
                </a:path>
              </a:pathLst>
            </a:custGeom>
            <a:gradFill rotWithShape="0">
              <a:gsLst>
                <a:gs pos="0">
                  <a:srgbClr val="0c0c3c"/>
                </a:gs>
                <a:gs pos="100000">
                  <a:srgbClr val="1d1d6d"/>
                </a:gs>
              </a:gsLst>
              <a:lin ang="1909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直接连接符 11"/>
            <p:cNvSpPr/>
            <p:nvPr/>
          </p:nvSpPr>
          <p:spPr>
            <a:xfrm flipH="1">
              <a:off x="4897800" y="1282680"/>
              <a:ext cx="1336320" cy="1266840"/>
            </a:xfrm>
            <a:prstGeom prst="line">
              <a:avLst/>
            </a:prstGeom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7" name="组合 12"/>
          <p:cNvGrpSpPr/>
          <p:nvPr/>
        </p:nvGrpSpPr>
        <p:grpSpPr>
          <a:xfrm>
            <a:off x="1262160" y="3254760"/>
            <a:ext cx="3735000" cy="2581200"/>
            <a:chOff x="1262160" y="3254760"/>
            <a:chExt cx="3735000" cy="2581200"/>
          </a:xfrm>
        </p:grpSpPr>
        <p:sp>
          <p:nvSpPr>
            <p:cNvPr id="858" name="饼形 13"/>
            <p:cNvSpPr/>
            <p:nvPr/>
          </p:nvSpPr>
          <p:spPr>
            <a:xfrm flipV="1" rot="3600000">
              <a:off x="2436480" y="4185720"/>
              <a:ext cx="1119600" cy="1029240"/>
            </a:xfrm>
            <a:custGeom>
              <a:avLst/>
              <a:gdLst/>
              <a:ahLst/>
              <a:rect l="l" t="t" r="r" b="b"/>
              <a:pathLst>
                <a:path w="1118976" h="1029715">
                  <a:moveTo>
                    <a:pt x="295764" y="60785"/>
                  </a:moveTo>
                  <a:cubicBezTo>
                    <a:pt x="374275" y="21970"/>
                    <a:pt x="464093" y="0"/>
                    <a:pt x="559487" y="0"/>
                  </a:cubicBezTo>
                  <a:cubicBezTo>
                    <a:pt x="599966" y="0"/>
                    <a:pt x="639441" y="3956"/>
                    <a:pt x="677316" y="11438"/>
                  </a:cubicBezTo>
                  <a:lnTo>
                    <a:pt x="559488" y="514857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cc0066"/>
                </a:gs>
              </a:gsLst>
              <a:lin ang="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9" name="Picture 3" descr=""/>
            <p:cNvPicPr/>
            <p:nvPr/>
          </p:nvPicPr>
          <p:blipFill>
            <a:blip r:embed="rId3"/>
            <a:srcRect l="2767" t="0" r="7211" b="57688"/>
            <a:stretch/>
          </p:blipFill>
          <p:spPr>
            <a:xfrm rot="10800000">
              <a:off x="1262160" y="4699080"/>
              <a:ext cx="2436480" cy="1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0" name="右箭头 4"/>
            <p:cNvSpPr/>
            <p:nvPr/>
          </p:nvSpPr>
          <p:spPr>
            <a:xfrm flipV="1" rot="19090200">
              <a:off x="2554200" y="3816720"/>
              <a:ext cx="2242800" cy="1456560"/>
            </a:xfrm>
            <a:custGeom>
              <a:avLst/>
              <a:gdLst/>
              <a:ahLst/>
              <a:rect l="l" t="t" r="r" b="b"/>
              <a:pathLst>
                <a:path w="2243387" h="1455537">
                  <a:moveTo>
                    <a:pt x="767420" y="363884"/>
                  </a:moveTo>
                  <a:lnTo>
                    <a:pt x="1515619" y="363884"/>
                  </a:lnTo>
                  <a:lnTo>
                    <a:pt x="1515619" y="0"/>
                  </a:lnTo>
                  <a:lnTo>
                    <a:pt x="2243387" y="727769"/>
                  </a:lnTo>
                  <a:lnTo>
                    <a:pt x="1515619" y="1455537"/>
                  </a:lnTo>
                  <a:lnTo>
                    <a:pt x="1515619" y="1091653"/>
                  </a:lnTo>
                  <a:lnTo>
                    <a:pt x="0" y="1053186"/>
                  </a:lnTo>
                  <a:lnTo>
                    <a:pt x="767420" y="363884"/>
                  </a:lnTo>
                  <a:close/>
                </a:path>
              </a:pathLst>
            </a:custGeom>
            <a:gradFill rotWithShape="0">
              <a:gsLst>
                <a:gs pos="0">
                  <a:srgbClr val="51111c"/>
                </a:gs>
                <a:gs pos="100000">
                  <a:srgbClr val="cc0066"/>
                </a:gs>
              </a:gsLst>
              <a:lin ang="1909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直接连接符 16"/>
            <p:cNvSpPr/>
            <p:nvPr/>
          </p:nvSpPr>
          <p:spPr>
            <a:xfrm flipV="1">
              <a:off x="2809080" y="3790440"/>
              <a:ext cx="1335960" cy="1267560"/>
            </a:xfrm>
            <a:prstGeom prst="line">
              <a:avLst/>
            </a:prstGeom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2" name="组合 17"/>
          <p:cNvGrpSpPr/>
          <p:nvPr/>
        </p:nvGrpSpPr>
        <p:grpSpPr>
          <a:xfrm>
            <a:off x="4068720" y="3254760"/>
            <a:ext cx="3737160" cy="2581200"/>
            <a:chOff x="4068720" y="3254760"/>
            <a:chExt cx="3737160" cy="2581200"/>
          </a:xfrm>
        </p:grpSpPr>
        <p:sp>
          <p:nvSpPr>
            <p:cNvPr id="863" name="饼形 18"/>
            <p:cNvSpPr/>
            <p:nvPr/>
          </p:nvSpPr>
          <p:spPr>
            <a:xfrm flipH="1" flipV="1" rot="18000000">
              <a:off x="5509800" y="4185720"/>
              <a:ext cx="1119600" cy="1029600"/>
            </a:xfrm>
            <a:custGeom>
              <a:avLst/>
              <a:gdLst/>
              <a:ahLst/>
              <a:rect l="l" t="t" r="r" b="b"/>
              <a:pathLst>
                <a:path w="1118976" h="1029715">
                  <a:moveTo>
                    <a:pt x="295764" y="60785"/>
                  </a:moveTo>
                  <a:cubicBezTo>
                    <a:pt x="374275" y="21970"/>
                    <a:pt x="464093" y="0"/>
                    <a:pt x="559487" y="0"/>
                  </a:cubicBezTo>
                  <a:cubicBezTo>
                    <a:pt x="599966" y="0"/>
                    <a:pt x="639441" y="3956"/>
                    <a:pt x="677316" y="11438"/>
                  </a:cubicBezTo>
                  <a:lnTo>
                    <a:pt x="559488" y="514857"/>
                  </a:lnTo>
                  <a:close/>
                </a:path>
              </a:pathLst>
            </a:custGeom>
            <a:gradFill rotWithShape="0">
              <a:gsLst>
                <a:gs pos="0">
                  <a:srgbClr val="360000"/>
                </a:gs>
                <a:gs pos="100000">
                  <a:srgbClr val="ff0000"/>
                </a:gs>
              </a:gsLst>
              <a:lin ang="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64" name="Picture 3" descr=""/>
            <p:cNvPicPr/>
            <p:nvPr/>
          </p:nvPicPr>
          <p:blipFill>
            <a:blip r:embed="rId4"/>
            <a:srcRect l="2767" t="0" r="7211" b="57688"/>
            <a:stretch/>
          </p:blipFill>
          <p:spPr>
            <a:xfrm rot="10800000">
              <a:off x="5368680" y="4699080"/>
              <a:ext cx="2437200" cy="1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5" name="右箭头 4"/>
            <p:cNvSpPr/>
            <p:nvPr/>
          </p:nvSpPr>
          <p:spPr>
            <a:xfrm flipH="1" flipV="1" rot="2509800">
              <a:off x="4268160" y="3817080"/>
              <a:ext cx="2243160" cy="1456200"/>
            </a:xfrm>
            <a:custGeom>
              <a:avLst/>
              <a:gdLst/>
              <a:ahLst/>
              <a:rect l="l" t="t" r="r" b="b"/>
              <a:pathLst>
                <a:path w="2243387" h="1455537">
                  <a:moveTo>
                    <a:pt x="767420" y="363884"/>
                  </a:moveTo>
                  <a:lnTo>
                    <a:pt x="1515619" y="363884"/>
                  </a:lnTo>
                  <a:lnTo>
                    <a:pt x="1515619" y="0"/>
                  </a:lnTo>
                  <a:lnTo>
                    <a:pt x="2243387" y="727769"/>
                  </a:lnTo>
                  <a:lnTo>
                    <a:pt x="1515619" y="1455537"/>
                  </a:lnTo>
                  <a:lnTo>
                    <a:pt x="1515619" y="1091653"/>
                  </a:lnTo>
                  <a:lnTo>
                    <a:pt x="0" y="1053186"/>
                  </a:lnTo>
                  <a:lnTo>
                    <a:pt x="767420" y="363884"/>
                  </a:lnTo>
                  <a:close/>
                </a:path>
              </a:pathLst>
            </a:custGeom>
            <a:gradFill rotWithShape="0">
              <a:gsLst>
                <a:gs pos="0">
                  <a:srgbClr val="640000"/>
                </a:gs>
                <a:gs pos="100000">
                  <a:srgbClr val="ff0000"/>
                </a:gs>
              </a:gsLst>
              <a:lin ang="1909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直接连接符 21"/>
            <p:cNvSpPr/>
            <p:nvPr/>
          </p:nvSpPr>
          <p:spPr>
            <a:xfrm flipH="1" flipV="1">
              <a:off x="4897800" y="3790440"/>
              <a:ext cx="1336320" cy="1267560"/>
            </a:xfrm>
            <a:prstGeom prst="line">
              <a:avLst/>
            </a:prstGeom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7" name="TextBox 22"/>
          <p:cNvSpPr/>
          <p:nvPr/>
        </p:nvSpPr>
        <p:spPr>
          <a:xfrm>
            <a:off x="6885360" y="1620720"/>
            <a:ext cx="1003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22267"/>
                </a:solidFill>
                <a:latin typeface="微软雅黑"/>
                <a:ea typeface="微软雅黑"/>
              </a:rPr>
              <a:t>0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Box 23"/>
          <p:cNvSpPr/>
          <p:nvPr/>
        </p:nvSpPr>
        <p:spPr>
          <a:xfrm>
            <a:off x="966600" y="3154320"/>
            <a:ext cx="1003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微软雅黑"/>
                <a:ea typeface="微软雅黑"/>
              </a:rPr>
              <a:t>0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Box 24"/>
          <p:cNvSpPr/>
          <p:nvPr/>
        </p:nvSpPr>
        <p:spPr>
          <a:xfrm>
            <a:off x="6885360" y="3154320"/>
            <a:ext cx="1003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微软雅黑"/>
                <a:ea typeface="微软雅黑"/>
              </a:rPr>
              <a:t>0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矩形 25"/>
          <p:cNvSpPr/>
          <p:nvPr/>
        </p:nvSpPr>
        <p:spPr>
          <a:xfrm>
            <a:off x="4017960" y="2897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0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3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3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300"/>
                            </p:stCondLst>
                            <p:childTnLst>
                              <p:par>
                                <p:cTn id="713" dur="indefinite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800"/>
                            </p:stCondLst>
                            <p:childTnLst>
                              <p:par>
                                <p:cTn id="71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10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1800"/>
                            </p:stCondLst>
                            <p:childTnLst>
                              <p:par>
                                <p:cTn id="724" dur="indefinite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2300"/>
                            </p:stCondLst>
                            <p:childTnLst>
                              <p:par>
                                <p:cTn id="729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1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3300"/>
                            </p:stCondLst>
                            <p:childTnLst>
                              <p:par>
                                <p:cTn id="735" dur="indefinite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3800"/>
                            </p:stCondLst>
                            <p:childTnLst>
                              <p:par>
                                <p:cTn id="740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1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4800"/>
                            </p:stCondLst>
                            <p:childTnLst>
                              <p:par>
                                <p:cTn id="746" dur="indefinite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5300"/>
                            </p:stCondLst>
                            <p:childTnLst>
                              <p:par>
                                <p:cTn id="751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1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1" name="Group 2"/>
          <p:cNvGrpSpPr/>
          <p:nvPr/>
        </p:nvGrpSpPr>
        <p:grpSpPr>
          <a:xfrm>
            <a:off x="692280" y="1117440"/>
            <a:ext cx="7695720" cy="4260600"/>
            <a:chOff x="692280" y="1117440"/>
            <a:chExt cx="7695720" cy="4260600"/>
          </a:xfrm>
        </p:grpSpPr>
        <p:grpSp>
          <p:nvGrpSpPr>
            <p:cNvPr id="872" name=""/>
            <p:cNvGrpSpPr/>
            <p:nvPr/>
          </p:nvGrpSpPr>
          <p:grpSpPr>
            <a:xfrm>
              <a:off x="4572000" y="3316680"/>
              <a:ext cx="360" cy="1105560"/>
              <a:chOff x="4572000" y="3316680"/>
              <a:chExt cx="360" cy="1105560"/>
            </a:xfrm>
          </p:grpSpPr>
          <p:sp>
            <p:nvSpPr>
              <p:cNvPr id="873" name="Line 2"/>
              <p:cNvSpPr/>
              <p:nvPr/>
            </p:nvSpPr>
            <p:spPr>
              <a:xfrm>
                <a:off x="4572000" y="3316680"/>
                <a:ext cx="0" cy="1105560"/>
              </a:xfrm>
              <a:prstGeom prst="line">
                <a:avLst/>
              </a:prstGeom>
              <a:ln cap="rnd" w="19080">
                <a:solidFill>
                  <a:srgbClr val="b2b2b2"/>
                </a:solidFill>
                <a:custDash>
                  <a:ds d="100000" sp="1000"/>
                </a:custDash>
                <a:round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 txBox="1"/>
              <p:nvPr/>
            </p:nvSpPr>
            <p:spPr>
              <a:xfrm>
                <a:off x="4572000" y="3316680"/>
                <a:ext cx="360" cy="1105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5" name="WordArt 3"/>
            <p:cNvSpPr txBox="1"/>
            <p:nvPr/>
          </p:nvSpPr>
          <p:spPr>
            <a:xfrm>
              <a:off x="3743280" y="1173240"/>
              <a:ext cx="1661040" cy="231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936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微软雅黑"/>
                </a:rPr>
                <a:t>双击添加标题文字</a:t>
              </a:r>
              <a:endParaRPr b="0" lang="en-US" sz="24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876" name="AutoShape 5"/>
            <p:cNvSpPr/>
            <p:nvPr/>
          </p:nvSpPr>
          <p:spPr>
            <a:xfrm rot="10800000">
              <a:off x="3509280" y="4483800"/>
              <a:ext cx="2128320" cy="894240"/>
            </a:xfrm>
            <a:prstGeom prst="roundRect">
              <a:avLst>
                <a:gd name="adj" fmla="val 6171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7" name="Group 6"/>
            <p:cNvGrpSpPr/>
            <p:nvPr/>
          </p:nvGrpSpPr>
          <p:grpSpPr>
            <a:xfrm>
              <a:off x="802080" y="4019040"/>
              <a:ext cx="7466040" cy="894240"/>
              <a:chOff x="802080" y="4019040"/>
              <a:chExt cx="7466040" cy="894240"/>
            </a:xfrm>
          </p:grpSpPr>
          <p:sp>
            <p:nvSpPr>
              <p:cNvPr id="878" name="AutoShape 4"/>
              <p:cNvSpPr/>
              <p:nvPr/>
            </p:nvSpPr>
            <p:spPr>
              <a:xfrm rot="10800000">
                <a:off x="802080" y="4019040"/>
                <a:ext cx="2128320" cy="894240"/>
              </a:xfrm>
              <a:prstGeom prst="roundRect">
                <a:avLst>
                  <a:gd name="adj" fmla="val 6171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16200000"/>
              </a:gra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此处添加段落文字内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此处添加段落文字内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AutoShape 6"/>
              <p:cNvSpPr/>
              <p:nvPr/>
            </p:nvSpPr>
            <p:spPr>
              <a:xfrm rot="10800000">
                <a:off x="6139440" y="4019040"/>
                <a:ext cx="2128680" cy="894240"/>
              </a:xfrm>
              <a:prstGeom prst="roundRect">
                <a:avLst>
                  <a:gd name="adj" fmla="val 6171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16200000"/>
              </a:gra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此处添加段落文字内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此处添加段落文字内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0" name="Rectangle 7"/>
            <p:cNvSpPr/>
            <p:nvPr/>
          </p:nvSpPr>
          <p:spPr>
            <a:xfrm>
              <a:off x="2964240" y="1321200"/>
              <a:ext cx="3216960" cy="366120"/>
            </a:xfrm>
            <a:prstGeom prst="rect">
              <a:avLst/>
            </a:prstGeom>
            <a:gradFill rotWithShape="0">
              <a:gsLst>
                <a:gs pos="0">
                  <a:srgbClr val="000000">
                    <a:alpha val="85098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AutoShape 8"/>
            <p:cNvSpPr/>
            <p:nvPr/>
          </p:nvSpPr>
          <p:spPr>
            <a:xfrm>
              <a:off x="2930760" y="1117440"/>
              <a:ext cx="3284280" cy="469080"/>
            </a:xfrm>
            <a:prstGeom prst="roundRect">
              <a:avLst>
                <a:gd name="adj" fmla="val 24375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36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Rectangle 9"/>
            <p:cNvSpPr/>
            <p:nvPr/>
          </p:nvSpPr>
          <p:spPr>
            <a:xfrm>
              <a:off x="3423960" y="3051000"/>
              <a:ext cx="2296440" cy="325440"/>
            </a:xfrm>
            <a:prstGeom prst="rect">
              <a:avLst/>
            </a:prstGeom>
            <a:gradFill rotWithShape="0">
              <a:gsLst>
                <a:gs pos="0">
                  <a:srgbClr val="000000">
                    <a:alpha val="85098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AutoShape 10"/>
            <p:cNvSpPr/>
            <p:nvPr/>
          </p:nvSpPr>
          <p:spPr>
            <a:xfrm>
              <a:off x="3399480" y="2847240"/>
              <a:ext cx="2345400" cy="416520"/>
            </a:xfrm>
            <a:prstGeom prst="roundRect">
              <a:avLst>
                <a:gd name="adj" fmla="val 22537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3333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4" name="Group 13"/>
            <p:cNvGrpSpPr/>
            <p:nvPr/>
          </p:nvGrpSpPr>
          <p:grpSpPr>
            <a:xfrm>
              <a:off x="692280" y="2495520"/>
              <a:ext cx="7695720" cy="547920"/>
              <a:chOff x="692280" y="2495520"/>
              <a:chExt cx="7695720" cy="547920"/>
            </a:xfrm>
          </p:grpSpPr>
          <p:sp>
            <p:nvSpPr>
              <p:cNvPr id="885" name="Rectangle 11"/>
              <p:cNvSpPr/>
              <p:nvPr/>
            </p:nvSpPr>
            <p:spPr>
              <a:xfrm>
                <a:off x="718200" y="2718000"/>
                <a:ext cx="2296440" cy="325440"/>
              </a:xfrm>
              <a:prstGeom prst="rect">
                <a:avLst/>
              </a:prstGeom>
              <a:gradFill rotWithShape="0">
                <a:gsLst>
                  <a:gs pos="0">
                    <a:srgbClr val="000000">
                      <a:alpha val="85098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AutoShape 12"/>
              <p:cNvSpPr/>
              <p:nvPr/>
            </p:nvSpPr>
            <p:spPr>
              <a:xfrm>
                <a:off x="692280" y="2495520"/>
                <a:ext cx="2345040" cy="416160"/>
              </a:xfrm>
              <a:prstGeom prst="roundRect">
                <a:avLst>
                  <a:gd name="adj" fmla="val 22537"/>
                </a:avLst>
              </a:prstGeom>
              <a:gradFill rotWithShape="0">
                <a:gsLst>
                  <a:gs pos="0">
                    <a:srgbClr val="b2b2b2"/>
                  </a:gs>
                  <a:gs pos="100000">
                    <a:srgbClr val="33333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标题文字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Rectangle 13"/>
              <p:cNvSpPr/>
              <p:nvPr/>
            </p:nvSpPr>
            <p:spPr>
              <a:xfrm>
                <a:off x="6068880" y="2718000"/>
                <a:ext cx="2296440" cy="325440"/>
              </a:xfrm>
              <a:prstGeom prst="rect">
                <a:avLst/>
              </a:prstGeom>
              <a:gradFill rotWithShape="0">
                <a:gsLst>
                  <a:gs pos="0">
                    <a:srgbClr val="000000">
                      <a:alpha val="85098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AutoShape 14"/>
              <p:cNvSpPr/>
              <p:nvPr/>
            </p:nvSpPr>
            <p:spPr>
              <a:xfrm>
                <a:off x="6042960" y="2495520"/>
                <a:ext cx="2345040" cy="416160"/>
              </a:xfrm>
              <a:prstGeom prst="roundRect">
                <a:avLst>
                  <a:gd name="adj" fmla="val 23944"/>
                </a:avLst>
              </a:prstGeom>
              <a:gradFill rotWithShape="0">
                <a:gsLst>
                  <a:gs pos="0">
                    <a:srgbClr val="b2b2b2"/>
                  </a:gs>
                  <a:gs pos="100000">
                    <a:srgbClr val="33333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标题文字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9" name="Group 18"/>
            <p:cNvGrpSpPr/>
            <p:nvPr/>
          </p:nvGrpSpPr>
          <p:grpSpPr>
            <a:xfrm>
              <a:off x="1904400" y="3649680"/>
              <a:ext cx="5332680" cy="332640"/>
              <a:chOff x="1904400" y="3649680"/>
              <a:chExt cx="5332680" cy="332640"/>
            </a:xfrm>
          </p:grpSpPr>
          <p:grpSp>
            <p:nvGrpSpPr>
              <p:cNvPr id="890" name=""/>
              <p:cNvGrpSpPr/>
              <p:nvPr/>
            </p:nvGrpSpPr>
            <p:grpSpPr>
              <a:xfrm>
                <a:off x="1904400" y="3649680"/>
                <a:ext cx="5332320" cy="360"/>
                <a:chOff x="1904400" y="3649680"/>
                <a:chExt cx="5332320" cy="360"/>
              </a:xfrm>
            </p:grpSpPr>
            <p:sp>
              <p:nvSpPr>
                <p:cNvPr id="891" name="Line 15"/>
                <p:cNvSpPr/>
                <p:nvPr/>
              </p:nvSpPr>
              <p:spPr>
                <a:xfrm>
                  <a:off x="1904400" y="3649680"/>
                  <a:ext cx="5332320" cy="0"/>
                </a:xfrm>
                <a:prstGeom prst="line">
                  <a:avLst/>
                </a:prstGeom>
                <a:ln cap="rnd" w="19080">
                  <a:solidFill>
                    <a:srgbClr val="b2b2b2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2" name=""/>
                <p:cNvSpPr txBox="1"/>
                <p:nvPr/>
              </p:nvSpPr>
              <p:spPr>
                <a:xfrm>
                  <a:off x="1904400" y="3649680"/>
                  <a:ext cx="53323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3" name=""/>
              <p:cNvGrpSpPr/>
              <p:nvPr/>
            </p:nvGrpSpPr>
            <p:grpSpPr>
              <a:xfrm>
                <a:off x="1904400" y="3649680"/>
                <a:ext cx="360" cy="332640"/>
                <a:chOff x="1904400" y="3649680"/>
                <a:chExt cx="360" cy="332640"/>
              </a:xfrm>
            </p:grpSpPr>
            <p:sp>
              <p:nvSpPr>
                <p:cNvPr id="894" name="Line 16"/>
                <p:cNvSpPr/>
                <p:nvPr/>
              </p:nvSpPr>
              <p:spPr>
                <a:xfrm>
                  <a:off x="1904400" y="3649680"/>
                  <a:ext cx="0" cy="332640"/>
                </a:xfrm>
                <a:prstGeom prst="line">
                  <a:avLst/>
                </a:prstGeom>
                <a:ln cap="rnd" w="19080">
                  <a:solidFill>
                    <a:srgbClr val="b2b2b2"/>
                  </a:solidFill>
                  <a:custDash>
                    <a:ds d="100000" sp="1000"/>
                  </a:custDash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5" name=""/>
                <p:cNvSpPr txBox="1"/>
                <p:nvPr/>
              </p:nvSpPr>
              <p:spPr>
                <a:xfrm>
                  <a:off x="1904400" y="3649680"/>
                  <a:ext cx="360" cy="33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 anchorCtr="1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6" name=""/>
              <p:cNvGrpSpPr/>
              <p:nvPr/>
            </p:nvGrpSpPr>
            <p:grpSpPr>
              <a:xfrm>
                <a:off x="7236720" y="3649680"/>
                <a:ext cx="360" cy="332640"/>
                <a:chOff x="7236720" y="3649680"/>
                <a:chExt cx="360" cy="332640"/>
              </a:xfrm>
            </p:grpSpPr>
            <p:sp>
              <p:nvSpPr>
                <p:cNvPr id="897" name="Line 17"/>
                <p:cNvSpPr/>
                <p:nvPr/>
              </p:nvSpPr>
              <p:spPr>
                <a:xfrm>
                  <a:off x="7236720" y="3649680"/>
                  <a:ext cx="0" cy="332640"/>
                </a:xfrm>
                <a:prstGeom prst="line">
                  <a:avLst/>
                </a:prstGeom>
                <a:ln cap="rnd" w="19080">
                  <a:solidFill>
                    <a:srgbClr val="b2b2b2"/>
                  </a:solidFill>
                  <a:custDash>
                    <a:ds d="100000" sp="1000"/>
                  </a:custDash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8" name=""/>
                <p:cNvSpPr txBox="1"/>
                <p:nvPr/>
              </p:nvSpPr>
              <p:spPr>
                <a:xfrm>
                  <a:off x="7236720" y="3649680"/>
                  <a:ext cx="360" cy="33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 anchorCtr="1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9" name=""/>
            <p:cNvGrpSpPr/>
            <p:nvPr/>
          </p:nvGrpSpPr>
          <p:grpSpPr>
            <a:xfrm>
              <a:off x="4572000" y="1645200"/>
              <a:ext cx="360" cy="1149120"/>
              <a:chOff x="4572000" y="1645200"/>
              <a:chExt cx="360" cy="1149120"/>
            </a:xfrm>
          </p:grpSpPr>
          <p:sp>
            <p:nvSpPr>
              <p:cNvPr id="900" name="Line 18"/>
              <p:cNvSpPr/>
              <p:nvPr/>
            </p:nvSpPr>
            <p:spPr>
              <a:xfrm>
                <a:off x="4572000" y="1645200"/>
                <a:ext cx="0" cy="1149120"/>
              </a:xfrm>
              <a:prstGeom prst="line">
                <a:avLst/>
              </a:prstGeom>
              <a:ln cap="rnd" w="19080">
                <a:solidFill>
                  <a:srgbClr val="b2b2b2"/>
                </a:solidFill>
                <a:custDash>
                  <a:ds d="100000" sp="1000"/>
                </a:custDash>
                <a:round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 txBox="1"/>
              <p:nvPr/>
            </p:nvSpPr>
            <p:spPr>
              <a:xfrm>
                <a:off x="4572000" y="1645200"/>
                <a:ext cx="360" cy="1149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2" name="Group 23"/>
            <p:cNvGrpSpPr/>
            <p:nvPr/>
          </p:nvGrpSpPr>
          <p:grpSpPr>
            <a:xfrm>
              <a:off x="1904400" y="1978200"/>
              <a:ext cx="5332680" cy="473040"/>
              <a:chOff x="1904400" y="1978200"/>
              <a:chExt cx="5332680" cy="473040"/>
            </a:xfrm>
          </p:grpSpPr>
          <p:grpSp>
            <p:nvGrpSpPr>
              <p:cNvPr id="903" name=""/>
              <p:cNvGrpSpPr/>
              <p:nvPr/>
            </p:nvGrpSpPr>
            <p:grpSpPr>
              <a:xfrm>
                <a:off x="1904400" y="1978200"/>
                <a:ext cx="5332320" cy="360"/>
                <a:chOff x="1904400" y="1978200"/>
                <a:chExt cx="5332320" cy="360"/>
              </a:xfrm>
            </p:grpSpPr>
            <p:sp>
              <p:nvSpPr>
                <p:cNvPr id="904" name="Line 19"/>
                <p:cNvSpPr/>
                <p:nvPr/>
              </p:nvSpPr>
              <p:spPr>
                <a:xfrm>
                  <a:off x="1904400" y="1978200"/>
                  <a:ext cx="5332320" cy="0"/>
                </a:xfrm>
                <a:prstGeom prst="line">
                  <a:avLst/>
                </a:prstGeom>
                <a:ln cap="rnd" w="19080">
                  <a:solidFill>
                    <a:srgbClr val="b2b2b2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5" name=""/>
                <p:cNvSpPr txBox="1"/>
                <p:nvPr/>
              </p:nvSpPr>
              <p:spPr>
                <a:xfrm>
                  <a:off x="1904400" y="1978200"/>
                  <a:ext cx="53323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6" name="Group 25"/>
              <p:cNvGrpSpPr/>
              <p:nvPr/>
            </p:nvGrpSpPr>
            <p:grpSpPr>
              <a:xfrm>
                <a:off x="1904400" y="1978200"/>
                <a:ext cx="5332680" cy="473040"/>
                <a:chOff x="1904400" y="1978200"/>
                <a:chExt cx="5332680" cy="473040"/>
              </a:xfrm>
            </p:grpSpPr>
            <p:grpSp>
              <p:nvGrpSpPr>
                <p:cNvPr id="907" name=""/>
                <p:cNvGrpSpPr/>
                <p:nvPr/>
              </p:nvGrpSpPr>
              <p:grpSpPr>
                <a:xfrm>
                  <a:off x="1904400" y="1978200"/>
                  <a:ext cx="360" cy="473040"/>
                  <a:chOff x="1904400" y="1978200"/>
                  <a:chExt cx="360" cy="473040"/>
                </a:xfrm>
              </p:grpSpPr>
              <p:sp>
                <p:nvSpPr>
                  <p:cNvPr id="908" name="Line 21"/>
                  <p:cNvSpPr/>
                  <p:nvPr/>
                </p:nvSpPr>
                <p:spPr>
                  <a:xfrm>
                    <a:off x="1904400" y="1978200"/>
                    <a:ext cx="0" cy="473040"/>
                  </a:xfrm>
                  <a:prstGeom prst="line">
                    <a:avLst/>
                  </a:prstGeom>
                  <a:ln cap="rnd" w="19080">
                    <a:solidFill>
                      <a:srgbClr val="b2b2b2"/>
                    </a:solidFill>
                    <a:custDash>
                      <a:ds d="100000" sp="1000"/>
                    </a:custDash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9" name=""/>
                  <p:cNvSpPr txBox="1"/>
                  <p:nvPr/>
                </p:nvSpPr>
                <p:spPr>
                  <a:xfrm>
                    <a:off x="1904400" y="1978200"/>
                    <a:ext cx="360" cy="473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ctr" anchorCtr="1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0" name=""/>
                <p:cNvGrpSpPr/>
                <p:nvPr/>
              </p:nvGrpSpPr>
              <p:grpSpPr>
                <a:xfrm>
                  <a:off x="7236720" y="1978200"/>
                  <a:ext cx="360" cy="473040"/>
                  <a:chOff x="7236720" y="1978200"/>
                  <a:chExt cx="360" cy="473040"/>
                </a:xfrm>
              </p:grpSpPr>
              <p:sp>
                <p:nvSpPr>
                  <p:cNvPr id="911" name="Line 22"/>
                  <p:cNvSpPr/>
                  <p:nvPr/>
                </p:nvSpPr>
                <p:spPr>
                  <a:xfrm>
                    <a:off x="7236720" y="1978200"/>
                    <a:ext cx="0" cy="473040"/>
                  </a:xfrm>
                  <a:prstGeom prst="line">
                    <a:avLst/>
                  </a:prstGeom>
                  <a:ln cap="rnd" w="19080">
                    <a:solidFill>
                      <a:srgbClr val="b2b2b2"/>
                    </a:solidFill>
                    <a:custDash>
                      <a:ds d="100000" sp="1000"/>
                    </a:custDash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2" name=""/>
                  <p:cNvSpPr txBox="1"/>
                  <p:nvPr/>
                </p:nvSpPr>
                <p:spPr>
                  <a:xfrm>
                    <a:off x="7236720" y="1978200"/>
                    <a:ext cx="360" cy="473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ctr" anchorCtr="1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</p:spTree>
  </p:cSld>
  <p:transition spd="slow" advTm="5000">
    <p:fade/>
  </p:transition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0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dur="indefinite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10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矩形 1"/>
          <p:cNvSpPr/>
          <p:nvPr/>
        </p:nvSpPr>
        <p:spPr>
          <a:xfrm>
            <a:off x="123840" y="538200"/>
            <a:ext cx="1959120" cy="158760"/>
          </a:xfrm>
          <a:prstGeom prst="rect">
            <a:avLst/>
          </a:prstGeom>
          <a:solidFill>
            <a:srgbClr val="2222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矩形 2"/>
          <p:cNvSpPr/>
          <p:nvPr/>
        </p:nvSpPr>
        <p:spPr>
          <a:xfrm>
            <a:off x="125280" y="716040"/>
            <a:ext cx="1562400" cy="1602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矩形 3"/>
          <p:cNvSpPr/>
          <p:nvPr/>
        </p:nvSpPr>
        <p:spPr>
          <a:xfrm>
            <a:off x="125280" y="896760"/>
            <a:ext cx="1695600" cy="1605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4"/>
          <p:cNvSpPr/>
          <p:nvPr/>
        </p:nvSpPr>
        <p:spPr>
          <a:xfrm>
            <a:off x="125280" y="1077840"/>
            <a:ext cx="693720" cy="1605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矩形 5"/>
          <p:cNvSpPr/>
          <p:nvPr/>
        </p:nvSpPr>
        <p:spPr>
          <a:xfrm>
            <a:off x="125280" y="1260360"/>
            <a:ext cx="895320" cy="158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椭圆 6"/>
          <p:cNvSpPr/>
          <p:nvPr/>
        </p:nvSpPr>
        <p:spPr>
          <a:xfrm>
            <a:off x="160200" y="2722680"/>
            <a:ext cx="1143000" cy="11430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椭圆 7"/>
          <p:cNvSpPr/>
          <p:nvPr/>
        </p:nvSpPr>
        <p:spPr>
          <a:xfrm>
            <a:off x="1176480" y="1697040"/>
            <a:ext cx="431640" cy="430200"/>
          </a:xfrm>
          <a:prstGeom prst="ellipse">
            <a:avLst/>
          </a:prstGeom>
          <a:solidFill>
            <a:srgbClr val="3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椭圆 8"/>
          <p:cNvSpPr/>
          <p:nvPr/>
        </p:nvSpPr>
        <p:spPr>
          <a:xfrm>
            <a:off x="2006640" y="1558800"/>
            <a:ext cx="685800" cy="685800"/>
          </a:xfrm>
          <a:prstGeom prst="ellipse">
            <a:avLst/>
          </a:prstGeom>
          <a:solidFill>
            <a:srgbClr val="ffc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椭圆 9"/>
          <p:cNvSpPr/>
          <p:nvPr/>
        </p:nvSpPr>
        <p:spPr>
          <a:xfrm>
            <a:off x="8204040" y="4495680"/>
            <a:ext cx="343080" cy="343080"/>
          </a:xfrm>
          <a:prstGeom prst="ellipse">
            <a:avLst/>
          </a:prstGeom>
          <a:solidFill>
            <a:srgbClr val="cc0066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椭圆 10"/>
          <p:cNvSpPr/>
          <p:nvPr/>
        </p:nvSpPr>
        <p:spPr>
          <a:xfrm>
            <a:off x="6875640" y="3402000"/>
            <a:ext cx="933120" cy="9334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椭圆 11"/>
          <p:cNvSpPr/>
          <p:nvPr/>
        </p:nvSpPr>
        <p:spPr>
          <a:xfrm>
            <a:off x="6227640" y="3243240"/>
            <a:ext cx="233640" cy="233280"/>
          </a:xfrm>
          <a:prstGeom prst="ellipse">
            <a:avLst/>
          </a:prstGeom>
          <a:solidFill>
            <a:srgbClr val="2222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椭圆 12"/>
          <p:cNvSpPr/>
          <p:nvPr/>
        </p:nvSpPr>
        <p:spPr>
          <a:xfrm>
            <a:off x="6550200" y="1639800"/>
            <a:ext cx="487080" cy="487440"/>
          </a:xfrm>
          <a:prstGeom prst="ellipse">
            <a:avLst/>
          </a:prstGeom>
          <a:solidFill>
            <a:srgbClr val="2222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椭圆 13"/>
          <p:cNvSpPr/>
          <p:nvPr/>
        </p:nvSpPr>
        <p:spPr>
          <a:xfrm>
            <a:off x="7701120" y="1668600"/>
            <a:ext cx="1008000" cy="1008000"/>
          </a:xfrm>
          <a:prstGeom prst="ellipse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椭圆 14"/>
          <p:cNvSpPr/>
          <p:nvPr/>
        </p:nvSpPr>
        <p:spPr>
          <a:xfrm>
            <a:off x="3059280" y="4511520"/>
            <a:ext cx="233280" cy="233640"/>
          </a:xfrm>
          <a:prstGeom prst="ellipse">
            <a:avLst/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椭圆 15"/>
          <p:cNvSpPr/>
          <p:nvPr/>
        </p:nvSpPr>
        <p:spPr>
          <a:xfrm>
            <a:off x="5527800" y="4235400"/>
            <a:ext cx="115920" cy="1173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椭圆 16"/>
          <p:cNvSpPr/>
          <p:nvPr/>
        </p:nvSpPr>
        <p:spPr>
          <a:xfrm>
            <a:off x="2597040" y="2771640"/>
            <a:ext cx="115920" cy="1159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椭圆 17"/>
          <p:cNvSpPr/>
          <p:nvPr/>
        </p:nvSpPr>
        <p:spPr>
          <a:xfrm>
            <a:off x="6813720" y="2768760"/>
            <a:ext cx="117360" cy="1173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椭圆 18"/>
          <p:cNvSpPr/>
          <p:nvPr/>
        </p:nvSpPr>
        <p:spPr>
          <a:xfrm>
            <a:off x="6527880" y="1619280"/>
            <a:ext cx="519120" cy="520560"/>
          </a:xfrm>
          <a:prstGeom prst="ellipse">
            <a:avLst/>
          </a:prstGeom>
          <a:noFill/>
          <a:ln w="3240">
            <a:solidFill>
              <a:srgbClr val="2222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1" name="组合 19"/>
          <p:cNvGrpSpPr/>
          <p:nvPr/>
        </p:nvGrpSpPr>
        <p:grpSpPr>
          <a:xfrm>
            <a:off x="2892600" y="1467000"/>
            <a:ext cx="3238200" cy="3330360"/>
            <a:chOff x="2892600" y="1467000"/>
            <a:chExt cx="3238200" cy="3330360"/>
          </a:xfrm>
        </p:grpSpPr>
        <p:sp>
          <p:nvSpPr>
            <p:cNvPr id="932" name="椭圆 20"/>
            <p:cNvSpPr/>
            <p:nvPr/>
          </p:nvSpPr>
          <p:spPr>
            <a:xfrm>
              <a:off x="3026880" y="1595160"/>
              <a:ext cx="3012840" cy="301392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椭圆 21"/>
            <p:cNvSpPr/>
            <p:nvPr/>
          </p:nvSpPr>
          <p:spPr>
            <a:xfrm>
              <a:off x="5445360" y="1467000"/>
              <a:ext cx="685440" cy="685800"/>
            </a:xfrm>
            <a:prstGeom prst="ellipse">
              <a:avLst/>
            </a:prstGeom>
            <a:solidFill>
              <a:srgbClr val="ffc000">
                <a:alpha val="2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椭圆 22"/>
            <p:cNvSpPr/>
            <p:nvPr/>
          </p:nvSpPr>
          <p:spPr>
            <a:xfrm>
              <a:off x="2994480" y="1602360"/>
              <a:ext cx="3058560" cy="3059640"/>
            </a:xfrm>
            <a:prstGeom prst="ellipse">
              <a:avLst/>
            </a:prstGeom>
            <a:noFill/>
            <a:ln w="3240">
              <a:solidFill>
                <a:srgbClr val="ffc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椭圆 23"/>
            <p:cNvSpPr/>
            <p:nvPr/>
          </p:nvSpPr>
          <p:spPr>
            <a:xfrm>
              <a:off x="2892600" y="1564560"/>
              <a:ext cx="3231360" cy="3232800"/>
            </a:xfrm>
            <a:prstGeom prst="ellipse">
              <a:avLst/>
            </a:prstGeom>
            <a:noFill/>
            <a:ln w="3240">
              <a:solidFill>
                <a:srgbClr val="ffc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椭圆 24"/>
            <p:cNvSpPr/>
            <p:nvPr/>
          </p:nvSpPr>
          <p:spPr>
            <a:xfrm>
              <a:off x="2921760" y="1564560"/>
              <a:ext cx="3172320" cy="3173760"/>
            </a:xfrm>
            <a:prstGeom prst="ellipse">
              <a:avLst/>
            </a:prstGeom>
            <a:noFill/>
            <a:ln w="3240">
              <a:solidFill>
                <a:srgbClr val="ffc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TextBox 25"/>
            <p:cNvSpPr/>
            <p:nvPr/>
          </p:nvSpPr>
          <p:spPr>
            <a:xfrm>
              <a:off x="3466800" y="2609280"/>
              <a:ext cx="2179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添加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标题内容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组合 26"/>
          <p:cNvGrpSpPr/>
          <p:nvPr/>
        </p:nvGrpSpPr>
        <p:grpSpPr>
          <a:xfrm>
            <a:off x="677880" y="3957480"/>
            <a:ext cx="1717560" cy="1708200"/>
            <a:chOff x="677880" y="3957480"/>
            <a:chExt cx="1717560" cy="1708200"/>
          </a:xfrm>
        </p:grpSpPr>
        <p:sp>
          <p:nvSpPr>
            <p:cNvPr id="939" name="椭圆 27"/>
            <p:cNvSpPr/>
            <p:nvPr/>
          </p:nvSpPr>
          <p:spPr>
            <a:xfrm>
              <a:off x="677880" y="3985560"/>
              <a:ext cx="1679760" cy="1680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椭圆 28"/>
            <p:cNvSpPr/>
            <p:nvPr/>
          </p:nvSpPr>
          <p:spPr>
            <a:xfrm>
              <a:off x="715680" y="3957480"/>
              <a:ext cx="1679760" cy="1680120"/>
            </a:xfrm>
            <a:prstGeom prst="ellipse">
              <a:avLst/>
            </a:prstGeom>
            <a:solidFill>
              <a:srgbClr val="2222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TextBox 29"/>
            <p:cNvSpPr/>
            <p:nvPr/>
          </p:nvSpPr>
          <p:spPr>
            <a:xfrm>
              <a:off x="927720" y="4457520"/>
              <a:ext cx="1266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添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5000">
    <p:fade/>
  </p:transition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0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2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2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200"/>
                            </p:stCondLst>
                            <p:childTnLst>
                              <p:par>
                                <p:cTn id="774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2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2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400"/>
                            </p:stCondLst>
                            <p:childTnLst>
                              <p:par>
                                <p:cTn id="779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2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2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600"/>
                            </p:stCondLst>
                            <p:childTnLst>
                              <p:par>
                                <p:cTn id="784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2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2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800"/>
                            </p:stCondLst>
                            <p:childTnLst>
                              <p:par>
                                <p:cTn id="789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2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2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1000"/>
                            </p:stCondLst>
                            <p:childTnLst>
                              <p:par>
                                <p:cTn id="794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8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2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6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0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4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8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2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6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0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4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8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2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6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0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2" name="组合 2"/>
          <p:cNvGrpSpPr/>
          <p:nvPr/>
        </p:nvGrpSpPr>
        <p:grpSpPr>
          <a:xfrm>
            <a:off x="457200" y="985680"/>
            <a:ext cx="8229600" cy="4245120"/>
            <a:chOff x="457200" y="985680"/>
            <a:chExt cx="8229600" cy="4245120"/>
          </a:xfrm>
        </p:grpSpPr>
        <p:sp>
          <p:nvSpPr>
            <p:cNvPr id="943" name="AutoShape 2"/>
            <p:cNvSpPr/>
            <p:nvPr/>
          </p:nvSpPr>
          <p:spPr>
            <a:xfrm>
              <a:off x="4716360" y="1436400"/>
              <a:ext cx="3970440" cy="3727800"/>
            </a:xfrm>
            <a:prstGeom prst="roundRect">
              <a:avLst>
                <a:gd name="adj" fmla="val 2259"/>
              </a:avLst>
            </a:prstGeom>
            <a:gradFill rotWithShape="0">
              <a:gsLst>
                <a:gs pos="0">
                  <a:srgbClr val="f9f9f9"/>
                </a:gs>
                <a:gs pos="100000">
                  <a:srgbClr val="d7d7d7"/>
                </a:gs>
              </a:gsLst>
              <a:lin ang="5400000"/>
            </a:gradFill>
            <a:ln w="3240">
              <a:solidFill>
                <a:srgbClr val="d7d7d7"/>
              </a:solidFill>
              <a:round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单击此处添加段落文字单击此处添加段落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单击此处添加段落文字单击此处添加段落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单击此处添加段落文字单击此处添加段落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单击此处添加段落文字</a:t>
              </a:r>
              <a:r>
                <a:rPr b="0" lang="zh-CN" sz="12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单击此处添加段落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单击此处添加段落文字单击此处添加段落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单击此处添加段落文</a:t>
              </a:r>
              <a:r>
                <a:rPr b="0" lang="zh-CN" sz="12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字单击此处添加段落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单击此处添加段落文字单击此处添加段落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单击此处添加段落文字单击此处添加段落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单击此处添加段落文字单击此处添加段落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单击此处添加段落文字单击此处添加段落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Oval 4"/>
            <p:cNvSpPr/>
            <p:nvPr/>
          </p:nvSpPr>
          <p:spPr>
            <a:xfrm>
              <a:off x="769680" y="1326960"/>
              <a:ext cx="3355920" cy="3356280"/>
            </a:xfrm>
            <a:prstGeom prst="ellipse">
              <a:avLst/>
            </a:prstGeom>
            <a:noFill/>
            <a:ln w="6480">
              <a:solidFill>
                <a:srgbClr val="c5c5c5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Oval 5"/>
            <p:cNvSpPr/>
            <p:nvPr/>
          </p:nvSpPr>
          <p:spPr>
            <a:xfrm>
              <a:off x="457200" y="1574640"/>
              <a:ext cx="1143000" cy="1143000"/>
            </a:xfrm>
            <a:prstGeom prst="ellipse">
              <a:avLst/>
            </a:prstGeom>
            <a:gradFill rotWithShape="0">
              <a:gsLst>
                <a:gs pos="0">
                  <a:srgbClr val="c00000"/>
                </a:gs>
                <a:gs pos="100000">
                  <a:srgbClr val="990000"/>
                </a:gs>
              </a:gsLst>
              <a:lin ang="2700000"/>
            </a:gradFill>
            <a:ln w="38160">
              <a:solidFill>
                <a:srgbClr val="ebf5ff"/>
              </a:solidFill>
              <a:round/>
            </a:ln>
            <a:effectLst>
              <a:outerShdw dist="40186" dir="4303641" blurRad="0" rotWithShape="0">
                <a:srgbClr val="1f49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添加文本</a:t>
              </a:r>
              <a:r>
                <a:rPr b="0" lang="en-US" sz="18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Oval 6"/>
            <p:cNvSpPr/>
            <p:nvPr/>
          </p:nvSpPr>
          <p:spPr>
            <a:xfrm>
              <a:off x="3252600" y="1574640"/>
              <a:ext cx="1143000" cy="1143000"/>
            </a:xfrm>
            <a:prstGeom prst="ellipse">
              <a:avLst/>
            </a:prstGeom>
            <a:gradFill rotWithShape="0">
              <a:gsLst>
                <a:gs pos="0">
                  <a:srgbClr val="c00000"/>
                </a:gs>
                <a:gs pos="50000">
                  <a:srgbClr val="ff9933"/>
                </a:gs>
                <a:gs pos="100000">
                  <a:srgbClr val="c00000"/>
                </a:gs>
              </a:gsLst>
              <a:lin ang="2700000"/>
            </a:gradFill>
            <a:ln w="38160">
              <a:solidFill>
                <a:srgbClr val="ebf5ff"/>
              </a:solidFill>
              <a:round/>
            </a:ln>
            <a:effectLst>
              <a:outerShdw dist="40186" dir="4303641" blurRad="0" rotWithShape="0">
                <a:srgbClr val="1f49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添加文本</a:t>
              </a:r>
              <a:r>
                <a:rPr b="0" lang="en-US" sz="18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Oval 7"/>
            <p:cNvSpPr/>
            <p:nvPr/>
          </p:nvSpPr>
          <p:spPr>
            <a:xfrm>
              <a:off x="1906560" y="4087800"/>
              <a:ext cx="1143000" cy="1143000"/>
            </a:xfrm>
            <a:prstGeom prst="ellipse">
              <a:avLst/>
            </a:prstGeom>
            <a:gradFill rotWithShape="0">
              <a:gsLst>
                <a:gs pos="0">
                  <a:srgbClr val="c00000"/>
                </a:gs>
                <a:gs pos="50000">
                  <a:srgbClr val="ff9933"/>
                </a:gs>
                <a:gs pos="100000">
                  <a:srgbClr val="c00000"/>
                </a:gs>
              </a:gsLst>
              <a:lin ang="2700000"/>
            </a:gradFill>
            <a:ln w="38160">
              <a:solidFill>
                <a:srgbClr val="ebf5ff"/>
              </a:solidFill>
              <a:round/>
            </a:ln>
            <a:effectLst>
              <a:outerShdw dist="40186" dir="4303641" blurRad="0" rotWithShape="0">
                <a:srgbClr val="1f49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添加文本</a:t>
              </a:r>
              <a:r>
                <a:rPr b="0" lang="en-US" sz="18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Oval 8"/>
            <p:cNvSpPr/>
            <p:nvPr/>
          </p:nvSpPr>
          <p:spPr>
            <a:xfrm>
              <a:off x="2039760" y="985680"/>
              <a:ext cx="777600" cy="77796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50000">
                  <a:srgbClr val="ffc000"/>
                </a:gs>
                <a:gs pos="100000">
                  <a:srgbClr val="ff6600"/>
                </a:gs>
              </a:gsLst>
              <a:lin ang="2700000"/>
            </a:gradFill>
            <a:ln w="38160">
              <a:solidFill>
                <a:srgbClr val="ebf5ff"/>
              </a:solidFill>
              <a:round/>
            </a:ln>
            <a:effectLst>
              <a:outerShdw dist="40186" dir="4303641" blurRad="0" rotWithShape="0">
                <a:srgbClr val="1f49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文本</a:t>
              </a:r>
              <a:r>
                <a:rPr b="0" lang="en-US" sz="12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Oval 9"/>
            <p:cNvSpPr/>
            <p:nvPr/>
          </p:nvSpPr>
          <p:spPr>
            <a:xfrm>
              <a:off x="3497040" y="3357360"/>
              <a:ext cx="777600" cy="777960"/>
            </a:xfrm>
            <a:prstGeom prst="ellipse">
              <a:avLst/>
            </a:prstGeom>
            <a:gradFill rotWithShape="0">
              <a:gsLst>
                <a:gs pos="0">
                  <a:srgbClr val="990000"/>
                </a:gs>
                <a:gs pos="100000">
                  <a:srgbClr val="c00000"/>
                </a:gs>
              </a:gsLst>
              <a:lin ang="2700000"/>
            </a:gradFill>
            <a:ln w="38160">
              <a:solidFill>
                <a:srgbClr val="ebf5ff"/>
              </a:solidFill>
              <a:round/>
            </a:ln>
            <a:effectLst>
              <a:outerShdw dist="40186" dir="4303641" blurRad="0" rotWithShape="0">
                <a:srgbClr val="1f49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文本</a:t>
              </a:r>
              <a:r>
                <a:rPr b="0" lang="en-US" sz="12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Oval 10"/>
            <p:cNvSpPr/>
            <p:nvPr/>
          </p:nvSpPr>
          <p:spPr>
            <a:xfrm>
              <a:off x="574560" y="3395520"/>
              <a:ext cx="777600" cy="777960"/>
            </a:xfrm>
            <a:prstGeom prst="ellipse">
              <a:avLst/>
            </a:prstGeom>
            <a:gradFill rotWithShape="0">
              <a:gsLst>
                <a:gs pos="0">
                  <a:srgbClr val="c00000"/>
                </a:gs>
                <a:gs pos="50000">
                  <a:srgbClr val="ff9933"/>
                </a:gs>
                <a:gs pos="100000">
                  <a:srgbClr val="c00000"/>
                </a:gs>
              </a:gsLst>
              <a:lin ang="2700000"/>
            </a:gradFill>
            <a:ln w="38160">
              <a:solidFill>
                <a:srgbClr val="ebf5ff"/>
              </a:solidFill>
              <a:round/>
            </a:ln>
            <a:effectLst>
              <a:outerShdw dist="40186" dir="4303641" blurRad="0" rotWithShape="0">
                <a:srgbClr val="1f49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文本</a:t>
              </a:r>
              <a:r>
                <a:rPr b="0" lang="en-US" sz="12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51" name="AutoShape 11"/>
            <p:cNvCxnSpPr>
              <a:stCxn id="947" idx="0"/>
            </p:cNvCxnSpPr>
            <p:nvPr/>
          </p:nvCxnSpPr>
          <p:spPr>
            <a:xfrm flipH="1" flipV="1">
              <a:off x="2468160" y="3615840"/>
              <a:ext cx="10080" cy="452880"/>
            </a:xfrm>
            <a:prstGeom prst="straightConnector1">
              <a:avLst/>
            </a:prstGeom>
            <a:ln w="9360">
              <a:solidFill>
                <a:srgbClr val="c5c5c5"/>
              </a:solidFill>
              <a:round/>
            </a:ln>
          </p:spPr>
        </p:cxnSp>
        <p:cxnSp>
          <p:nvCxnSpPr>
            <p:cNvPr id="952" name="AutoShape 12"/>
            <p:cNvCxnSpPr>
              <a:stCxn id="946" idx="3"/>
            </p:cNvCxnSpPr>
            <p:nvPr/>
          </p:nvCxnSpPr>
          <p:spPr>
            <a:xfrm flipH="1">
              <a:off x="3007800" y="2570040"/>
              <a:ext cx="411840" cy="110160"/>
            </a:xfrm>
            <a:prstGeom prst="straightConnector1">
              <a:avLst/>
            </a:prstGeom>
            <a:ln w="9360">
              <a:solidFill>
                <a:srgbClr val="c5c5c5"/>
              </a:solidFill>
              <a:round/>
            </a:ln>
          </p:spPr>
        </p:cxnSp>
        <p:cxnSp>
          <p:nvCxnSpPr>
            <p:cNvPr id="953" name="AutoShape 13"/>
            <p:cNvCxnSpPr>
              <a:stCxn id="945" idx="5"/>
            </p:cNvCxnSpPr>
            <p:nvPr/>
          </p:nvCxnSpPr>
          <p:spPr>
            <a:xfrm>
              <a:off x="1433160" y="2570040"/>
              <a:ext cx="495720" cy="110160"/>
            </a:xfrm>
            <a:prstGeom prst="straightConnector1">
              <a:avLst/>
            </a:prstGeom>
            <a:ln w="9360">
              <a:solidFill>
                <a:srgbClr val="c5c5c5"/>
              </a:solidFill>
              <a:round/>
            </a:ln>
          </p:spPr>
        </p:cxnSp>
        <p:sp>
          <p:nvSpPr>
            <p:cNvPr id="954" name="AutoShape 22"/>
            <p:cNvSpPr/>
            <p:nvPr/>
          </p:nvSpPr>
          <p:spPr>
            <a:xfrm>
              <a:off x="4857840" y="1158480"/>
              <a:ext cx="3686040" cy="5014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990000"/>
                </a:gs>
              </a:gsLst>
              <a:lin ang="5400000"/>
            </a:gradFill>
            <a:ln w="3240">
              <a:solidFill>
                <a:srgbClr val="d7d7d7"/>
              </a:solidFill>
              <a:round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5" name="组合 1"/>
            <p:cNvGrpSpPr/>
            <p:nvPr/>
          </p:nvGrpSpPr>
          <p:grpSpPr>
            <a:xfrm>
              <a:off x="1711800" y="2193480"/>
              <a:ext cx="1472400" cy="1440000"/>
              <a:chOff x="1711800" y="2193480"/>
              <a:chExt cx="1472400" cy="1440000"/>
            </a:xfrm>
          </p:grpSpPr>
          <p:sp>
            <p:nvSpPr>
              <p:cNvPr id="956" name="Oval 16"/>
              <p:cNvSpPr/>
              <p:nvPr/>
            </p:nvSpPr>
            <p:spPr>
              <a:xfrm>
                <a:off x="1711800" y="2193480"/>
                <a:ext cx="1472400" cy="1440000"/>
              </a:xfrm>
              <a:prstGeom prst="ellipse">
                <a:avLst/>
              </a:prstGeom>
              <a:gradFill rotWithShape="0">
                <a:gsLst>
                  <a:gs pos="0">
                    <a:srgbClr val="c00000"/>
                  </a:gs>
                  <a:gs pos="100000">
                    <a:srgbClr val="990000"/>
                  </a:gs>
                </a:gsLst>
                <a:lin ang="2700000"/>
              </a:gradFill>
              <a:ln w="38160">
                <a:solidFill>
                  <a:srgbClr val="ebf5ff"/>
                </a:solidFill>
                <a:round/>
              </a:ln>
              <a:effectLst>
                <a:outerShdw dist="40186" dir="4303641" blurRad="0" rotWithShape="0">
                  <a:srgbClr val="1f497d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Impact"/>
                    <a:ea typeface="微软雅黑"/>
                  </a:rPr>
                  <a:t>标题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Freeform 18"/>
              <p:cNvSpPr/>
              <p:nvPr/>
            </p:nvSpPr>
            <p:spPr>
              <a:xfrm>
                <a:off x="1857600" y="2252520"/>
                <a:ext cx="1178280" cy="5731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7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 advTm="5000">
    <p:fade/>
  </p:transition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fill="hold">
                      <p:stCondLst>
                        <p:cond delay="0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dur="indefinite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0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8" name="组合 1"/>
          <p:cNvGrpSpPr/>
          <p:nvPr/>
        </p:nvGrpSpPr>
        <p:grpSpPr>
          <a:xfrm>
            <a:off x="468360" y="1849320"/>
            <a:ext cx="6659640" cy="454320"/>
            <a:chOff x="468360" y="1849320"/>
            <a:chExt cx="6659640" cy="454320"/>
          </a:xfrm>
        </p:grpSpPr>
        <p:sp>
          <p:nvSpPr>
            <p:cNvPr id="959" name="AutoShape 23"/>
            <p:cNvSpPr/>
            <p:nvPr/>
          </p:nvSpPr>
          <p:spPr>
            <a:xfrm>
              <a:off x="5515200" y="2028600"/>
              <a:ext cx="1612800" cy="234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326" y="21600"/>
                  </a:lnTo>
                  <a:lnTo>
                    <a:pt x="19274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lin ang="18900000"/>
            </a:gra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0" name="WordArt 24" descr=""/>
            <p:cNvPicPr/>
            <p:nvPr/>
          </p:nvPicPr>
          <p:blipFill>
            <a:blip r:embed="rId1"/>
            <a:stretch/>
          </p:blipFill>
          <p:spPr>
            <a:xfrm>
              <a:off x="6096960" y="2083320"/>
              <a:ext cx="448920" cy="22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1" name="AutoShape 25"/>
            <p:cNvSpPr/>
            <p:nvPr/>
          </p:nvSpPr>
          <p:spPr>
            <a:xfrm rot="10800000">
              <a:off x="5515200" y="1849320"/>
              <a:ext cx="1612800" cy="181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08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2b2b2">
                    <a:alpha val="4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468360" y="2134800"/>
              <a:ext cx="5004000" cy="360"/>
              <a:chOff x="468360" y="2134800"/>
              <a:chExt cx="5004000" cy="360"/>
            </a:xfrm>
          </p:grpSpPr>
          <p:sp>
            <p:nvSpPr>
              <p:cNvPr id="963" name="Line 26"/>
              <p:cNvSpPr/>
              <p:nvPr/>
            </p:nvSpPr>
            <p:spPr>
              <a:xfrm flipH="1">
                <a:off x="468360" y="2134800"/>
                <a:ext cx="500400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 txBox="1"/>
              <p:nvPr/>
            </p:nvSpPr>
            <p:spPr>
              <a:xfrm>
                <a:off x="468360" y="2134800"/>
                <a:ext cx="5004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5" name="Rectangle 27"/>
            <p:cNvSpPr/>
            <p:nvPr/>
          </p:nvSpPr>
          <p:spPr>
            <a:xfrm>
              <a:off x="468360" y="1879200"/>
              <a:ext cx="327492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333333"/>
                  </a:solidFill>
                  <a:latin typeface="微软雅黑"/>
                  <a:ea typeface="微软雅黑"/>
                </a:rPr>
                <a:t>单击此处添加段落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6" name="组合 7"/>
          <p:cNvGrpSpPr/>
          <p:nvPr/>
        </p:nvGrpSpPr>
        <p:grpSpPr>
          <a:xfrm>
            <a:off x="468000" y="2231640"/>
            <a:ext cx="6902640" cy="456120"/>
            <a:chOff x="468000" y="2231640"/>
            <a:chExt cx="6902640" cy="456120"/>
          </a:xfrm>
        </p:grpSpPr>
        <p:sp>
          <p:nvSpPr>
            <p:cNvPr id="967" name="AutoShape 20"/>
            <p:cNvSpPr/>
            <p:nvPr/>
          </p:nvSpPr>
          <p:spPr>
            <a:xfrm>
              <a:off x="5272200" y="2415960"/>
              <a:ext cx="2098440" cy="240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326" y="21600"/>
                  </a:lnTo>
                  <a:lnTo>
                    <a:pt x="19274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lin ang="18900000"/>
            </a:gra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8" name="WordArt 21" descr=""/>
            <p:cNvPicPr/>
            <p:nvPr/>
          </p:nvPicPr>
          <p:blipFill>
            <a:blip r:embed="rId2"/>
            <a:stretch/>
          </p:blipFill>
          <p:spPr>
            <a:xfrm>
              <a:off x="6023880" y="2462400"/>
              <a:ext cx="59508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9" name="AutoShape 22"/>
            <p:cNvSpPr/>
            <p:nvPr/>
          </p:nvSpPr>
          <p:spPr>
            <a:xfrm rot="10800000">
              <a:off x="5271840" y="2231640"/>
              <a:ext cx="2098440" cy="186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834" y="21600"/>
                  </a:lnTo>
                  <a:lnTo>
                    <a:pt x="15766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2b2b2">
                    <a:alpha val="4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0" name=""/>
            <p:cNvGrpSpPr/>
            <p:nvPr/>
          </p:nvGrpSpPr>
          <p:grpSpPr>
            <a:xfrm>
              <a:off x="468000" y="2547360"/>
              <a:ext cx="4716720" cy="360"/>
              <a:chOff x="468000" y="2547360"/>
              <a:chExt cx="4716720" cy="360"/>
            </a:xfrm>
          </p:grpSpPr>
          <p:sp>
            <p:nvSpPr>
              <p:cNvPr id="971" name="Line 28"/>
              <p:cNvSpPr/>
              <p:nvPr/>
            </p:nvSpPr>
            <p:spPr>
              <a:xfrm flipH="1">
                <a:off x="468000" y="2547360"/>
                <a:ext cx="471636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 txBox="1"/>
              <p:nvPr/>
            </p:nvSpPr>
            <p:spPr>
              <a:xfrm>
                <a:off x="468360" y="2547360"/>
                <a:ext cx="4716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3" name="Rectangle 29"/>
            <p:cNvSpPr/>
            <p:nvPr/>
          </p:nvSpPr>
          <p:spPr>
            <a:xfrm>
              <a:off x="468360" y="2262600"/>
              <a:ext cx="327492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333333"/>
                  </a:solidFill>
                  <a:latin typeface="微软雅黑"/>
                  <a:ea typeface="微软雅黑"/>
                </a:rPr>
                <a:t>单击此处添加段落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4" name="组合 13"/>
          <p:cNvGrpSpPr/>
          <p:nvPr/>
        </p:nvGrpSpPr>
        <p:grpSpPr>
          <a:xfrm>
            <a:off x="468000" y="2592000"/>
            <a:ext cx="7231320" cy="605160"/>
            <a:chOff x="468000" y="2592000"/>
            <a:chExt cx="7231320" cy="605160"/>
          </a:xfrm>
        </p:grpSpPr>
        <p:sp>
          <p:nvSpPr>
            <p:cNvPr id="975" name="AutoShape 12"/>
            <p:cNvSpPr/>
            <p:nvPr/>
          </p:nvSpPr>
          <p:spPr>
            <a:xfrm>
              <a:off x="4943520" y="2853720"/>
              <a:ext cx="2755800" cy="336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326" y="21600"/>
                  </a:lnTo>
                  <a:lnTo>
                    <a:pt x="19274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lin ang="18900000"/>
            </a:gra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6" name="WordArt 13" descr=""/>
            <p:cNvPicPr/>
            <p:nvPr/>
          </p:nvPicPr>
          <p:blipFill>
            <a:blip r:embed="rId3"/>
            <a:stretch/>
          </p:blipFill>
          <p:spPr>
            <a:xfrm>
              <a:off x="5971680" y="2923560"/>
              <a:ext cx="699840" cy="27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AutoShape 14"/>
            <p:cNvSpPr/>
            <p:nvPr/>
          </p:nvSpPr>
          <p:spPr>
            <a:xfrm rot="10800000">
              <a:off x="4943160" y="2592000"/>
              <a:ext cx="2755800" cy="259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834" y="21600"/>
                  </a:lnTo>
                  <a:lnTo>
                    <a:pt x="15766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2b2b2">
                    <a:alpha val="4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8" name=""/>
            <p:cNvGrpSpPr/>
            <p:nvPr/>
          </p:nvGrpSpPr>
          <p:grpSpPr>
            <a:xfrm>
              <a:off x="468000" y="3045960"/>
              <a:ext cx="4391280" cy="360"/>
              <a:chOff x="468000" y="3045960"/>
              <a:chExt cx="4391280" cy="360"/>
            </a:xfrm>
          </p:grpSpPr>
          <p:sp>
            <p:nvSpPr>
              <p:cNvPr id="979" name="Line 30"/>
              <p:cNvSpPr/>
              <p:nvPr/>
            </p:nvSpPr>
            <p:spPr>
              <a:xfrm flipH="1">
                <a:off x="468000" y="3045960"/>
                <a:ext cx="439092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 txBox="1"/>
              <p:nvPr/>
            </p:nvSpPr>
            <p:spPr>
              <a:xfrm>
                <a:off x="468360" y="3045960"/>
                <a:ext cx="4390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1" name="Rectangle 31"/>
            <p:cNvSpPr/>
            <p:nvPr/>
          </p:nvSpPr>
          <p:spPr>
            <a:xfrm>
              <a:off x="468360" y="2768040"/>
              <a:ext cx="327492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333333"/>
                  </a:solidFill>
                  <a:latin typeface="微软雅黑"/>
                  <a:ea typeface="微软雅黑"/>
                </a:rPr>
                <a:t>单击此处添加段落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组合 19"/>
          <p:cNvGrpSpPr/>
          <p:nvPr/>
        </p:nvGrpSpPr>
        <p:grpSpPr>
          <a:xfrm>
            <a:off x="468000" y="3072960"/>
            <a:ext cx="7553520" cy="743400"/>
            <a:chOff x="468000" y="3072960"/>
            <a:chExt cx="7553520" cy="743400"/>
          </a:xfrm>
        </p:grpSpPr>
        <p:sp>
          <p:nvSpPr>
            <p:cNvPr id="983" name="AutoShape 8"/>
            <p:cNvSpPr/>
            <p:nvPr/>
          </p:nvSpPr>
          <p:spPr>
            <a:xfrm>
              <a:off x="4621320" y="3395160"/>
              <a:ext cx="3400200" cy="421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885" y="21600"/>
                  </a:lnTo>
                  <a:lnTo>
                    <a:pt x="19715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WordArt 9"/>
            <p:cNvSpPr txBox="1"/>
            <p:nvPr/>
          </p:nvSpPr>
          <p:spPr>
            <a:xfrm>
              <a:off x="5891040" y="3496680"/>
              <a:ext cx="861840" cy="222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微软雅黑"/>
                </a:rPr>
                <a:t>28%</a:t>
              </a:r>
              <a:endParaRPr b="0" lang="en-US" sz="24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985" name="AutoShape 10"/>
            <p:cNvSpPr/>
            <p:nvPr/>
          </p:nvSpPr>
          <p:spPr>
            <a:xfrm rot="10800000">
              <a:off x="4620960" y="3072960"/>
              <a:ext cx="3400200" cy="325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834" y="21600"/>
                  </a:lnTo>
                  <a:lnTo>
                    <a:pt x="15766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6" name=""/>
            <p:cNvGrpSpPr/>
            <p:nvPr/>
          </p:nvGrpSpPr>
          <p:grpSpPr>
            <a:xfrm>
              <a:off x="468000" y="3674520"/>
              <a:ext cx="4104000" cy="360"/>
              <a:chOff x="468000" y="3674520"/>
              <a:chExt cx="4104000" cy="360"/>
            </a:xfrm>
          </p:grpSpPr>
          <p:sp>
            <p:nvSpPr>
              <p:cNvPr id="987" name="Line 32"/>
              <p:cNvSpPr/>
              <p:nvPr/>
            </p:nvSpPr>
            <p:spPr>
              <a:xfrm flipH="1">
                <a:off x="468000" y="3674520"/>
                <a:ext cx="4103640" cy="0"/>
              </a:xfrm>
              <a:prstGeom prst="line">
                <a:avLst/>
              </a:prstGeom>
              <a:ln w="9360">
                <a:solidFill>
                  <a:srgbClr val="a5002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 txBox="1"/>
              <p:nvPr/>
            </p:nvSpPr>
            <p:spPr>
              <a:xfrm>
                <a:off x="468360" y="3674520"/>
                <a:ext cx="4103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9" name="Rectangle 33"/>
            <p:cNvSpPr/>
            <p:nvPr/>
          </p:nvSpPr>
          <p:spPr>
            <a:xfrm>
              <a:off x="468360" y="3393000"/>
              <a:ext cx="327492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a50021"/>
                  </a:solidFill>
                  <a:latin typeface="微软雅黑"/>
                  <a:ea typeface="微软雅黑"/>
                </a:rPr>
                <a:t>单击此处添加段落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0" name="组合 25"/>
          <p:cNvGrpSpPr/>
          <p:nvPr/>
        </p:nvGrpSpPr>
        <p:grpSpPr>
          <a:xfrm>
            <a:off x="468000" y="3645000"/>
            <a:ext cx="7963200" cy="1041120"/>
            <a:chOff x="468000" y="3645000"/>
            <a:chExt cx="7963200" cy="1041120"/>
          </a:xfrm>
        </p:grpSpPr>
        <p:sp>
          <p:nvSpPr>
            <p:cNvPr id="991" name="AutoShape 4"/>
            <p:cNvSpPr/>
            <p:nvPr/>
          </p:nvSpPr>
          <p:spPr>
            <a:xfrm rot="10800000">
              <a:off x="4211280" y="4580640"/>
              <a:ext cx="4219560" cy="105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730" y="21600"/>
                  </a:lnTo>
                  <a:lnTo>
                    <a:pt x="1987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000000">
                    <a:alpha val="5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AutoShape 5"/>
            <p:cNvSpPr/>
            <p:nvPr/>
          </p:nvSpPr>
          <p:spPr>
            <a:xfrm>
              <a:off x="4211640" y="4058640"/>
              <a:ext cx="4219560" cy="522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730" y="21600"/>
                  </a:lnTo>
                  <a:lnTo>
                    <a:pt x="1987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lin ang="18900000"/>
            </a:gra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3" name="WordArt 6" descr=""/>
            <p:cNvPicPr/>
            <p:nvPr/>
          </p:nvPicPr>
          <p:blipFill>
            <a:blip r:embed="rId4"/>
            <a:stretch/>
          </p:blipFill>
          <p:spPr>
            <a:xfrm>
              <a:off x="5780880" y="4212720"/>
              <a:ext cx="1080720" cy="3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4" name="AutoShape 7"/>
            <p:cNvSpPr/>
            <p:nvPr/>
          </p:nvSpPr>
          <p:spPr>
            <a:xfrm rot="10800000">
              <a:off x="4211280" y="3645000"/>
              <a:ext cx="4219560" cy="403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834" y="21600"/>
                  </a:lnTo>
                  <a:lnTo>
                    <a:pt x="15766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2b2b2">
                    <a:alpha val="4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5" name=""/>
            <p:cNvGrpSpPr/>
            <p:nvPr/>
          </p:nvGrpSpPr>
          <p:grpSpPr>
            <a:xfrm>
              <a:off x="468000" y="4440600"/>
              <a:ext cx="3888000" cy="360"/>
              <a:chOff x="468000" y="4440600"/>
              <a:chExt cx="3888000" cy="360"/>
            </a:xfrm>
          </p:grpSpPr>
          <p:sp>
            <p:nvSpPr>
              <p:cNvPr id="996" name="Line 34"/>
              <p:cNvSpPr/>
              <p:nvPr/>
            </p:nvSpPr>
            <p:spPr>
              <a:xfrm flipH="1">
                <a:off x="468000" y="4440600"/>
                <a:ext cx="388764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 txBox="1"/>
              <p:nvPr/>
            </p:nvSpPr>
            <p:spPr>
              <a:xfrm>
                <a:off x="468360" y="4440600"/>
                <a:ext cx="3887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8" name="Rectangle 35"/>
            <p:cNvSpPr/>
            <p:nvPr/>
          </p:nvSpPr>
          <p:spPr>
            <a:xfrm>
              <a:off x="468360" y="4159080"/>
              <a:ext cx="327492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333333"/>
                  </a:solidFill>
                  <a:latin typeface="微软雅黑"/>
                  <a:ea typeface="微软雅黑"/>
                </a:rPr>
                <a:t>单击此处添加段落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9" name="Group 12"/>
          <p:cNvGrpSpPr/>
          <p:nvPr/>
        </p:nvGrpSpPr>
        <p:grpSpPr>
          <a:xfrm>
            <a:off x="7851600" y="3414600"/>
            <a:ext cx="809640" cy="2320920"/>
            <a:chOff x="7851600" y="3414600"/>
            <a:chExt cx="809640" cy="2320920"/>
          </a:xfrm>
        </p:grpSpPr>
        <p:sp>
          <p:nvSpPr>
            <p:cNvPr id="1000" name="AutoShape 16"/>
            <p:cNvSpPr/>
            <p:nvPr/>
          </p:nvSpPr>
          <p:spPr>
            <a:xfrm flipH="1" flipV="1">
              <a:off x="8051040" y="5317920"/>
              <a:ext cx="166680" cy="417600"/>
            </a:xfrm>
            <a:prstGeom prst="triangle">
              <a:avLst>
                <a:gd name="adj" fmla="val 0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b2b2b2">
                    <a:alpha val="4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AutoShape 17"/>
            <p:cNvSpPr/>
            <p:nvPr/>
          </p:nvSpPr>
          <p:spPr>
            <a:xfrm flipH="1" flipV="1">
              <a:off x="8343720" y="5249160"/>
              <a:ext cx="122400" cy="417240"/>
            </a:xfrm>
            <a:prstGeom prst="triangle">
              <a:avLst>
                <a:gd name="adj" fmla="val 100000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b2b2b2">
                    <a:alpha val="4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02" name="Picture 18" descr="28"/>
            <p:cNvPicPr/>
            <p:nvPr/>
          </p:nvPicPr>
          <p:blipFill>
            <a:blip r:embed="rId5">
              <a:lum bright="12000"/>
            </a:blip>
            <a:stretch/>
          </p:blipFill>
          <p:spPr>
            <a:xfrm>
              <a:off x="7851600" y="3414600"/>
              <a:ext cx="809640" cy="1924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 advTm="5000">
    <p:fade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500"/>
                            </p:stCondLst>
                            <p:childTnLst>
                              <p:par>
                                <p:cTn id="872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7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fill="hold">
                            <p:stCondLst>
                              <p:cond delay="1500"/>
                            </p:stCondLst>
                            <p:childTnLst>
                              <p:par>
                                <p:cTn id="882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87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2500"/>
                            </p:stCondLst>
                            <p:childTnLst>
                              <p:par>
                                <p:cTn id="89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10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3" name="组合 1"/>
          <p:cNvGrpSpPr/>
          <p:nvPr/>
        </p:nvGrpSpPr>
        <p:grpSpPr>
          <a:xfrm>
            <a:off x="4067280" y="1874880"/>
            <a:ext cx="4247640" cy="1585440"/>
            <a:chOff x="4067280" y="1874880"/>
            <a:chExt cx="4247640" cy="1585440"/>
          </a:xfrm>
        </p:grpSpPr>
        <p:grpSp>
          <p:nvGrpSpPr>
            <p:cNvPr id="1004" name="Group 2"/>
            <p:cNvGrpSpPr/>
            <p:nvPr/>
          </p:nvGrpSpPr>
          <p:grpSpPr>
            <a:xfrm>
              <a:off x="4067280" y="1874880"/>
              <a:ext cx="4247640" cy="1585440"/>
              <a:chOff x="4067280" y="1874880"/>
              <a:chExt cx="4247640" cy="1585440"/>
            </a:xfrm>
          </p:grpSpPr>
          <p:sp>
            <p:nvSpPr>
              <p:cNvPr id="1005" name="Oval 3"/>
              <p:cNvSpPr/>
              <p:nvPr/>
            </p:nvSpPr>
            <p:spPr>
              <a:xfrm>
                <a:off x="5504760" y="2886480"/>
                <a:ext cx="1387440" cy="5738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Oval 4"/>
              <p:cNvSpPr/>
              <p:nvPr/>
            </p:nvSpPr>
            <p:spPr>
              <a:xfrm>
                <a:off x="5516640" y="1874880"/>
                <a:ext cx="1338120" cy="1332360"/>
              </a:xfrm>
              <a:prstGeom prst="ellipse">
                <a:avLst/>
              </a:prstGeom>
              <a:gradFill rotWithShape="0">
                <a:gsLst>
                  <a:gs pos="0">
                    <a:srgbClr val="8e8e8e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Oval 5"/>
              <p:cNvSpPr/>
              <p:nvPr/>
            </p:nvSpPr>
            <p:spPr>
              <a:xfrm>
                <a:off x="5781960" y="2041920"/>
                <a:ext cx="223920" cy="22392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50196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6"/>
              <p:cNvSpPr/>
              <p:nvPr/>
            </p:nvSpPr>
            <p:spPr>
              <a:xfrm>
                <a:off x="5608080" y="1897200"/>
                <a:ext cx="1141920" cy="379080"/>
              </a:xfrm>
              <a:custGeom>
                <a:avLst/>
                <a:gdLst/>
                <a:ahLst/>
                <a:rect l="l" t="t" r="r" b="b"/>
                <a:pathLst>
                  <a:path w="4756" h="1576">
                    <a:moveTo>
                      <a:pt x="0" y="1576"/>
                    </a:moveTo>
                    <a:lnTo>
                      <a:pt x="0" y="1576"/>
                    </a:lnTo>
                    <a:lnTo>
                      <a:pt x="24" y="1518"/>
                    </a:lnTo>
                    <a:lnTo>
                      <a:pt x="50" y="1462"/>
                    </a:lnTo>
                    <a:lnTo>
                      <a:pt x="78" y="1406"/>
                    </a:lnTo>
                    <a:lnTo>
                      <a:pt x="108" y="1350"/>
                    </a:lnTo>
                    <a:lnTo>
                      <a:pt x="138" y="1296"/>
                    </a:lnTo>
                    <a:lnTo>
                      <a:pt x="170" y="1242"/>
                    </a:lnTo>
                    <a:lnTo>
                      <a:pt x="204" y="1190"/>
                    </a:lnTo>
                    <a:lnTo>
                      <a:pt x="238" y="1138"/>
                    </a:lnTo>
                    <a:lnTo>
                      <a:pt x="272" y="1086"/>
                    </a:lnTo>
                    <a:lnTo>
                      <a:pt x="310" y="1036"/>
                    </a:lnTo>
                    <a:lnTo>
                      <a:pt x="348" y="988"/>
                    </a:lnTo>
                    <a:lnTo>
                      <a:pt x="386" y="940"/>
                    </a:lnTo>
                    <a:lnTo>
                      <a:pt x="426" y="892"/>
                    </a:lnTo>
                    <a:lnTo>
                      <a:pt x="468" y="846"/>
                    </a:lnTo>
                    <a:lnTo>
                      <a:pt x="510" y="800"/>
                    </a:lnTo>
                    <a:lnTo>
                      <a:pt x="552" y="756"/>
                    </a:lnTo>
                    <a:lnTo>
                      <a:pt x="596" y="712"/>
                    </a:lnTo>
                    <a:lnTo>
                      <a:pt x="642" y="670"/>
                    </a:lnTo>
                    <a:lnTo>
                      <a:pt x="688" y="630"/>
                    </a:lnTo>
                    <a:lnTo>
                      <a:pt x="736" y="590"/>
                    </a:lnTo>
                    <a:lnTo>
                      <a:pt x="784" y="550"/>
                    </a:lnTo>
                    <a:lnTo>
                      <a:pt x="834" y="512"/>
                    </a:lnTo>
                    <a:lnTo>
                      <a:pt x="884" y="476"/>
                    </a:lnTo>
                    <a:lnTo>
                      <a:pt x="934" y="440"/>
                    </a:lnTo>
                    <a:lnTo>
                      <a:pt x="986" y="406"/>
                    </a:lnTo>
                    <a:lnTo>
                      <a:pt x="1040" y="374"/>
                    </a:lnTo>
                    <a:lnTo>
                      <a:pt x="1092" y="342"/>
                    </a:lnTo>
                    <a:lnTo>
                      <a:pt x="1148" y="312"/>
                    </a:lnTo>
                    <a:lnTo>
                      <a:pt x="1202" y="282"/>
                    </a:lnTo>
                    <a:lnTo>
                      <a:pt x="1258" y="254"/>
                    </a:lnTo>
                    <a:lnTo>
                      <a:pt x="1316" y="228"/>
                    </a:lnTo>
                    <a:lnTo>
                      <a:pt x="1374" y="202"/>
                    </a:lnTo>
                    <a:lnTo>
                      <a:pt x="1432" y="178"/>
                    </a:lnTo>
                    <a:lnTo>
                      <a:pt x="1490" y="156"/>
                    </a:lnTo>
                    <a:lnTo>
                      <a:pt x="1550" y="136"/>
                    </a:lnTo>
                    <a:lnTo>
                      <a:pt x="1610" y="116"/>
                    </a:lnTo>
                    <a:lnTo>
                      <a:pt x="1672" y="98"/>
                    </a:lnTo>
                    <a:lnTo>
                      <a:pt x="1732" y="80"/>
                    </a:lnTo>
                    <a:lnTo>
                      <a:pt x="1794" y="66"/>
                    </a:lnTo>
                    <a:lnTo>
                      <a:pt x="1858" y="52"/>
                    </a:lnTo>
                    <a:lnTo>
                      <a:pt x="1922" y="40"/>
                    </a:lnTo>
                    <a:lnTo>
                      <a:pt x="1984" y="30"/>
                    </a:lnTo>
                    <a:lnTo>
                      <a:pt x="2050" y="20"/>
                    </a:lnTo>
                    <a:lnTo>
                      <a:pt x="2114" y="12"/>
                    </a:lnTo>
                    <a:lnTo>
                      <a:pt x="2180" y="8"/>
                    </a:lnTo>
                    <a:lnTo>
                      <a:pt x="2246" y="2"/>
                    </a:lnTo>
                    <a:lnTo>
                      <a:pt x="2312" y="0"/>
                    </a:lnTo>
                    <a:lnTo>
                      <a:pt x="2378" y="0"/>
                    </a:lnTo>
                    <a:lnTo>
                      <a:pt x="2444" y="0"/>
                    </a:lnTo>
                    <a:lnTo>
                      <a:pt x="2510" y="2"/>
                    </a:lnTo>
                    <a:lnTo>
                      <a:pt x="2576" y="8"/>
                    </a:lnTo>
                    <a:lnTo>
                      <a:pt x="2642" y="12"/>
                    </a:lnTo>
                    <a:lnTo>
                      <a:pt x="2706" y="20"/>
                    </a:lnTo>
                    <a:lnTo>
                      <a:pt x="2772" y="30"/>
                    </a:lnTo>
                    <a:lnTo>
                      <a:pt x="2834" y="40"/>
                    </a:lnTo>
                    <a:lnTo>
                      <a:pt x="2898" y="52"/>
                    </a:lnTo>
                    <a:lnTo>
                      <a:pt x="2962" y="66"/>
                    </a:lnTo>
                    <a:lnTo>
                      <a:pt x="3024" y="80"/>
                    </a:lnTo>
                    <a:lnTo>
                      <a:pt x="3084" y="98"/>
                    </a:lnTo>
                    <a:lnTo>
                      <a:pt x="3146" y="116"/>
                    </a:lnTo>
                    <a:lnTo>
                      <a:pt x="3206" y="136"/>
                    </a:lnTo>
                    <a:lnTo>
                      <a:pt x="3266" y="156"/>
                    </a:lnTo>
                    <a:lnTo>
                      <a:pt x="3324" y="178"/>
                    </a:lnTo>
                    <a:lnTo>
                      <a:pt x="3382" y="202"/>
                    </a:lnTo>
                    <a:lnTo>
                      <a:pt x="3440" y="228"/>
                    </a:lnTo>
                    <a:lnTo>
                      <a:pt x="3498" y="254"/>
                    </a:lnTo>
                    <a:lnTo>
                      <a:pt x="3554" y="282"/>
                    </a:lnTo>
                    <a:lnTo>
                      <a:pt x="3608" y="312"/>
                    </a:lnTo>
                    <a:lnTo>
                      <a:pt x="3664" y="342"/>
                    </a:lnTo>
                    <a:lnTo>
                      <a:pt x="3716" y="374"/>
                    </a:lnTo>
                    <a:lnTo>
                      <a:pt x="3770" y="406"/>
                    </a:lnTo>
                    <a:lnTo>
                      <a:pt x="3822" y="440"/>
                    </a:lnTo>
                    <a:lnTo>
                      <a:pt x="3872" y="476"/>
                    </a:lnTo>
                    <a:lnTo>
                      <a:pt x="3922" y="512"/>
                    </a:lnTo>
                    <a:lnTo>
                      <a:pt x="3972" y="550"/>
                    </a:lnTo>
                    <a:lnTo>
                      <a:pt x="4020" y="590"/>
                    </a:lnTo>
                    <a:lnTo>
                      <a:pt x="4068" y="630"/>
                    </a:lnTo>
                    <a:lnTo>
                      <a:pt x="4114" y="670"/>
                    </a:lnTo>
                    <a:lnTo>
                      <a:pt x="4160" y="712"/>
                    </a:lnTo>
                    <a:lnTo>
                      <a:pt x="4204" y="756"/>
                    </a:lnTo>
                    <a:lnTo>
                      <a:pt x="4246" y="800"/>
                    </a:lnTo>
                    <a:lnTo>
                      <a:pt x="4288" y="846"/>
                    </a:lnTo>
                    <a:lnTo>
                      <a:pt x="4330" y="892"/>
                    </a:lnTo>
                    <a:lnTo>
                      <a:pt x="4370" y="940"/>
                    </a:lnTo>
                    <a:lnTo>
                      <a:pt x="4410" y="988"/>
                    </a:lnTo>
                    <a:lnTo>
                      <a:pt x="4446" y="1036"/>
                    </a:lnTo>
                    <a:lnTo>
                      <a:pt x="4484" y="1086"/>
                    </a:lnTo>
                    <a:lnTo>
                      <a:pt x="4518" y="1138"/>
                    </a:lnTo>
                    <a:lnTo>
                      <a:pt x="4552" y="1190"/>
                    </a:lnTo>
                    <a:lnTo>
                      <a:pt x="4586" y="1242"/>
                    </a:lnTo>
                    <a:lnTo>
                      <a:pt x="4618" y="1296"/>
                    </a:lnTo>
                    <a:lnTo>
                      <a:pt x="4648" y="1350"/>
                    </a:lnTo>
                    <a:lnTo>
                      <a:pt x="4678" y="1406"/>
                    </a:lnTo>
                    <a:lnTo>
                      <a:pt x="4706" y="1462"/>
                    </a:lnTo>
                    <a:lnTo>
                      <a:pt x="4732" y="1518"/>
                    </a:lnTo>
                    <a:lnTo>
                      <a:pt x="4756" y="1576"/>
                    </a:lnTo>
                    <a:lnTo>
                      <a:pt x="0" y="15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35294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Oval 7"/>
              <p:cNvSpPr/>
              <p:nvPr/>
            </p:nvSpPr>
            <p:spPr>
              <a:xfrm>
                <a:off x="4067280" y="2886480"/>
                <a:ext cx="1387440" cy="5738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Oval 8"/>
              <p:cNvSpPr/>
              <p:nvPr/>
            </p:nvSpPr>
            <p:spPr>
              <a:xfrm>
                <a:off x="4079160" y="1874880"/>
                <a:ext cx="1338120" cy="1332360"/>
              </a:xfrm>
              <a:prstGeom prst="ellipse">
                <a:avLst/>
              </a:prstGeom>
              <a:gradFill rotWithShape="0">
                <a:gsLst>
                  <a:gs pos="0">
                    <a:srgbClr val="8e8e8e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Oval 9"/>
              <p:cNvSpPr/>
              <p:nvPr/>
            </p:nvSpPr>
            <p:spPr>
              <a:xfrm>
                <a:off x="4344480" y="2041920"/>
                <a:ext cx="223920" cy="22392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50196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Freeform 10"/>
              <p:cNvSpPr/>
              <p:nvPr/>
            </p:nvSpPr>
            <p:spPr>
              <a:xfrm>
                <a:off x="4170600" y="1897200"/>
                <a:ext cx="1141920" cy="379080"/>
              </a:xfrm>
              <a:custGeom>
                <a:avLst/>
                <a:gdLst/>
                <a:ahLst/>
                <a:rect l="l" t="t" r="r" b="b"/>
                <a:pathLst>
                  <a:path w="4756" h="1576">
                    <a:moveTo>
                      <a:pt x="0" y="1576"/>
                    </a:moveTo>
                    <a:lnTo>
                      <a:pt x="0" y="1576"/>
                    </a:lnTo>
                    <a:lnTo>
                      <a:pt x="24" y="1518"/>
                    </a:lnTo>
                    <a:lnTo>
                      <a:pt x="50" y="1462"/>
                    </a:lnTo>
                    <a:lnTo>
                      <a:pt x="78" y="1406"/>
                    </a:lnTo>
                    <a:lnTo>
                      <a:pt x="108" y="1350"/>
                    </a:lnTo>
                    <a:lnTo>
                      <a:pt x="138" y="1296"/>
                    </a:lnTo>
                    <a:lnTo>
                      <a:pt x="170" y="1242"/>
                    </a:lnTo>
                    <a:lnTo>
                      <a:pt x="204" y="1190"/>
                    </a:lnTo>
                    <a:lnTo>
                      <a:pt x="238" y="1138"/>
                    </a:lnTo>
                    <a:lnTo>
                      <a:pt x="272" y="1086"/>
                    </a:lnTo>
                    <a:lnTo>
                      <a:pt x="310" y="1036"/>
                    </a:lnTo>
                    <a:lnTo>
                      <a:pt x="348" y="988"/>
                    </a:lnTo>
                    <a:lnTo>
                      <a:pt x="386" y="940"/>
                    </a:lnTo>
                    <a:lnTo>
                      <a:pt x="426" y="892"/>
                    </a:lnTo>
                    <a:lnTo>
                      <a:pt x="468" y="846"/>
                    </a:lnTo>
                    <a:lnTo>
                      <a:pt x="510" y="800"/>
                    </a:lnTo>
                    <a:lnTo>
                      <a:pt x="552" y="756"/>
                    </a:lnTo>
                    <a:lnTo>
                      <a:pt x="596" y="712"/>
                    </a:lnTo>
                    <a:lnTo>
                      <a:pt x="642" y="670"/>
                    </a:lnTo>
                    <a:lnTo>
                      <a:pt x="688" y="630"/>
                    </a:lnTo>
                    <a:lnTo>
                      <a:pt x="736" y="590"/>
                    </a:lnTo>
                    <a:lnTo>
                      <a:pt x="784" y="550"/>
                    </a:lnTo>
                    <a:lnTo>
                      <a:pt x="834" y="512"/>
                    </a:lnTo>
                    <a:lnTo>
                      <a:pt x="884" y="476"/>
                    </a:lnTo>
                    <a:lnTo>
                      <a:pt x="934" y="440"/>
                    </a:lnTo>
                    <a:lnTo>
                      <a:pt x="986" y="406"/>
                    </a:lnTo>
                    <a:lnTo>
                      <a:pt x="1040" y="374"/>
                    </a:lnTo>
                    <a:lnTo>
                      <a:pt x="1092" y="342"/>
                    </a:lnTo>
                    <a:lnTo>
                      <a:pt x="1148" y="312"/>
                    </a:lnTo>
                    <a:lnTo>
                      <a:pt x="1202" y="282"/>
                    </a:lnTo>
                    <a:lnTo>
                      <a:pt x="1258" y="254"/>
                    </a:lnTo>
                    <a:lnTo>
                      <a:pt x="1316" y="228"/>
                    </a:lnTo>
                    <a:lnTo>
                      <a:pt x="1374" y="202"/>
                    </a:lnTo>
                    <a:lnTo>
                      <a:pt x="1432" y="178"/>
                    </a:lnTo>
                    <a:lnTo>
                      <a:pt x="1490" y="156"/>
                    </a:lnTo>
                    <a:lnTo>
                      <a:pt x="1550" y="136"/>
                    </a:lnTo>
                    <a:lnTo>
                      <a:pt x="1610" y="116"/>
                    </a:lnTo>
                    <a:lnTo>
                      <a:pt x="1672" y="98"/>
                    </a:lnTo>
                    <a:lnTo>
                      <a:pt x="1732" y="80"/>
                    </a:lnTo>
                    <a:lnTo>
                      <a:pt x="1794" y="66"/>
                    </a:lnTo>
                    <a:lnTo>
                      <a:pt x="1858" y="52"/>
                    </a:lnTo>
                    <a:lnTo>
                      <a:pt x="1922" y="40"/>
                    </a:lnTo>
                    <a:lnTo>
                      <a:pt x="1984" y="30"/>
                    </a:lnTo>
                    <a:lnTo>
                      <a:pt x="2050" y="20"/>
                    </a:lnTo>
                    <a:lnTo>
                      <a:pt x="2114" y="12"/>
                    </a:lnTo>
                    <a:lnTo>
                      <a:pt x="2180" y="8"/>
                    </a:lnTo>
                    <a:lnTo>
                      <a:pt x="2246" y="2"/>
                    </a:lnTo>
                    <a:lnTo>
                      <a:pt x="2312" y="0"/>
                    </a:lnTo>
                    <a:lnTo>
                      <a:pt x="2378" y="0"/>
                    </a:lnTo>
                    <a:lnTo>
                      <a:pt x="2444" y="0"/>
                    </a:lnTo>
                    <a:lnTo>
                      <a:pt x="2510" y="2"/>
                    </a:lnTo>
                    <a:lnTo>
                      <a:pt x="2576" y="8"/>
                    </a:lnTo>
                    <a:lnTo>
                      <a:pt x="2642" y="12"/>
                    </a:lnTo>
                    <a:lnTo>
                      <a:pt x="2706" y="20"/>
                    </a:lnTo>
                    <a:lnTo>
                      <a:pt x="2772" y="30"/>
                    </a:lnTo>
                    <a:lnTo>
                      <a:pt x="2834" y="40"/>
                    </a:lnTo>
                    <a:lnTo>
                      <a:pt x="2898" y="52"/>
                    </a:lnTo>
                    <a:lnTo>
                      <a:pt x="2962" y="66"/>
                    </a:lnTo>
                    <a:lnTo>
                      <a:pt x="3024" y="80"/>
                    </a:lnTo>
                    <a:lnTo>
                      <a:pt x="3084" y="98"/>
                    </a:lnTo>
                    <a:lnTo>
                      <a:pt x="3146" y="116"/>
                    </a:lnTo>
                    <a:lnTo>
                      <a:pt x="3206" y="136"/>
                    </a:lnTo>
                    <a:lnTo>
                      <a:pt x="3266" y="156"/>
                    </a:lnTo>
                    <a:lnTo>
                      <a:pt x="3324" y="178"/>
                    </a:lnTo>
                    <a:lnTo>
                      <a:pt x="3382" y="202"/>
                    </a:lnTo>
                    <a:lnTo>
                      <a:pt x="3440" y="228"/>
                    </a:lnTo>
                    <a:lnTo>
                      <a:pt x="3498" y="254"/>
                    </a:lnTo>
                    <a:lnTo>
                      <a:pt x="3554" y="282"/>
                    </a:lnTo>
                    <a:lnTo>
                      <a:pt x="3608" y="312"/>
                    </a:lnTo>
                    <a:lnTo>
                      <a:pt x="3664" y="342"/>
                    </a:lnTo>
                    <a:lnTo>
                      <a:pt x="3716" y="374"/>
                    </a:lnTo>
                    <a:lnTo>
                      <a:pt x="3770" y="406"/>
                    </a:lnTo>
                    <a:lnTo>
                      <a:pt x="3822" y="440"/>
                    </a:lnTo>
                    <a:lnTo>
                      <a:pt x="3872" y="476"/>
                    </a:lnTo>
                    <a:lnTo>
                      <a:pt x="3922" y="512"/>
                    </a:lnTo>
                    <a:lnTo>
                      <a:pt x="3972" y="550"/>
                    </a:lnTo>
                    <a:lnTo>
                      <a:pt x="4020" y="590"/>
                    </a:lnTo>
                    <a:lnTo>
                      <a:pt x="4068" y="630"/>
                    </a:lnTo>
                    <a:lnTo>
                      <a:pt x="4114" y="670"/>
                    </a:lnTo>
                    <a:lnTo>
                      <a:pt x="4160" y="712"/>
                    </a:lnTo>
                    <a:lnTo>
                      <a:pt x="4204" y="756"/>
                    </a:lnTo>
                    <a:lnTo>
                      <a:pt x="4246" y="800"/>
                    </a:lnTo>
                    <a:lnTo>
                      <a:pt x="4288" y="846"/>
                    </a:lnTo>
                    <a:lnTo>
                      <a:pt x="4330" y="892"/>
                    </a:lnTo>
                    <a:lnTo>
                      <a:pt x="4370" y="940"/>
                    </a:lnTo>
                    <a:lnTo>
                      <a:pt x="4410" y="988"/>
                    </a:lnTo>
                    <a:lnTo>
                      <a:pt x="4446" y="1036"/>
                    </a:lnTo>
                    <a:lnTo>
                      <a:pt x="4484" y="1086"/>
                    </a:lnTo>
                    <a:lnTo>
                      <a:pt x="4518" y="1138"/>
                    </a:lnTo>
                    <a:lnTo>
                      <a:pt x="4552" y="1190"/>
                    </a:lnTo>
                    <a:lnTo>
                      <a:pt x="4586" y="1242"/>
                    </a:lnTo>
                    <a:lnTo>
                      <a:pt x="4618" y="1296"/>
                    </a:lnTo>
                    <a:lnTo>
                      <a:pt x="4648" y="1350"/>
                    </a:lnTo>
                    <a:lnTo>
                      <a:pt x="4678" y="1406"/>
                    </a:lnTo>
                    <a:lnTo>
                      <a:pt x="4706" y="1462"/>
                    </a:lnTo>
                    <a:lnTo>
                      <a:pt x="4732" y="1518"/>
                    </a:lnTo>
                    <a:lnTo>
                      <a:pt x="4756" y="1576"/>
                    </a:lnTo>
                    <a:lnTo>
                      <a:pt x="0" y="15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35294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Oval 11"/>
              <p:cNvSpPr/>
              <p:nvPr/>
            </p:nvSpPr>
            <p:spPr>
              <a:xfrm>
                <a:off x="6927840" y="2886480"/>
                <a:ext cx="1387080" cy="5738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Oval 12"/>
              <p:cNvSpPr/>
              <p:nvPr/>
            </p:nvSpPr>
            <p:spPr>
              <a:xfrm>
                <a:off x="6939720" y="1874880"/>
                <a:ext cx="1338120" cy="1332360"/>
              </a:xfrm>
              <a:prstGeom prst="ellipse">
                <a:avLst/>
              </a:prstGeom>
              <a:gradFill rotWithShape="0">
                <a:gsLst>
                  <a:gs pos="0">
                    <a:srgbClr val="8e8e8e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Oval 13"/>
              <p:cNvSpPr/>
              <p:nvPr/>
            </p:nvSpPr>
            <p:spPr>
              <a:xfrm>
                <a:off x="7205040" y="2041920"/>
                <a:ext cx="224280" cy="22392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50196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Freeform 14"/>
              <p:cNvSpPr/>
              <p:nvPr/>
            </p:nvSpPr>
            <p:spPr>
              <a:xfrm>
                <a:off x="7031520" y="1897200"/>
                <a:ext cx="1141920" cy="379080"/>
              </a:xfrm>
              <a:custGeom>
                <a:avLst/>
                <a:gdLst/>
                <a:ahLst/>
                <a:rect l="l" t="t" r="r" b="b"/>
                <a:pathLst>
                  <a:path w="4756" h="1576">
                    <a:moveTo>
                      <a:pt x="0" y="1576"/>
                    </a:moveTo>
                    <a:lnTo>
                      <a:pt x="0" y="1576"/>
                    </a:lnTo>
                    <a:lnTo>
                      <a:pt x="24" y="1518"/>
                    </a:lnTo>
                    <a:lnTo>
                      <a:pt x="50" y="1462"/>
                    </a:lnTo>
                    <a:lnTo>
                      <a:pt x="78" y="1406"/>
                    </a:lnTo>
                    <a:lnTo>
                      <a:pt x="108" y="1350"/>
                    </a:lnTo>
                    <a:lnTo>
                      <a:pt x="138" y="1296"/>
                    </a:lnTo>
                    <a:lnTo>
                      <a:pt x="170" y="1242"/>
                    </a:lnTo>
                    <a:lnTo>
                      <a:pt x="204" y="1190"/>
                    </a:lnTo>
                    <a:lnTo>
                      <a:pt x="238" y="1138"/>
                    </a:lnTo>
                    <a:lnTo>
                      <a:pt x="272" y="1086"/>
                    </a:lnTo>
                    <a:lnTo>
                      <a:pt x="310" y="1036"/>
                    </a:lnTo>
                    <a:lnTo>
                      <a:pt x="348" y="988"/>
                    </a:lnTo>
                    <a:lnTo>
                      <a:pt x="386" y="940"/>
                    </a:lnTo>
                    <a:lnTo>
                      <a:pt x="426" y="892"/>
                    </a:lnTo>
                    <a:lnTo>
                      <a:pt x="468" y="846"/>
                    </a:lnTo>
                    <a:lnTo>
                      <a:pt x="510" y="800"/>
                    </a:lnTo>
                    <a:lnTo>
                      <a:pt x="552" y="756"/>
                    </a:lnTo>
                    <a:lnTo>
                      <a:pt x="596" y="712"/>
                    </a:lnTo>
                    <a:lnTo>
                      <a:pt x="642" y="670"/>
                    </a:lnTo>
                    <a:lnTo>
                      <a:pt x="688" y="630"/>
                    </a:lnTo>
                    <a:lnTo>
                      <a:pt x="736" y="590"/>
                    </a:lnTo>
                    <a:lnTo>
                      <a:pt x="784" y="550"/>
                    </a:lnTo>
                    <a:lnTo>
                      <a:pt x="834" y="512"/>
                    </a:lnTo>
                    <a:lnTo>
                      <a:pt x="884" y="476"/>
                    </a:lnTo>
                    <a:lnTo>
                      <a:pt x="934" y="440"/>
                    </a:lnTo>
                    <a:lnTo>
                      <a:pt x="986" y="406"/>
                    </a:lnTo>
                    <a:lnTo>
                      <a:pt x="1040" y="374"/>
                    </a:lnTo>
                    <a:lnTo>
                      <a:pt x="1092" y="342"/>
                    </a:lnTo>
                    <a:lnTo>
                      <a:pt x="1148" y="312"/>
                    </a:lnTo>
                    <a:lnTo>
                      <a:pt x="1202" y="282"/>
                    </a:lnTo>
                    <a:lnTo>
                      <a:pt x="1258" y="254"/>
                    </a:lnTo>
                    <a:lnTo>
                      <a:pt x="1316" y="228"/>
                    </a:lnTo>
                    <a:lnTo>
                      <a:pt x="1374" y="202"/>
                    </a:lnTo>
                    <a:lnTo>
                      <a:pt x="1432" y="178"/>
                    </a:lnTo>
                    <a:lnTo>
                      <a:pt x="1490" y="156"/>
                    </a:lnTo>
                    <a:lnTo>
                      <a:pt x="1550" y="136"/>
                    </a:lnTo>
                    <a:lnTo>
                      <a:pt x="1610" y="116"/>
                    </a:lnTo>
                    <a:lnTo>
                      <a:pt x="1672" y="98"/>
                    </a:lnTo>
                    <a:lnTo>
                      <a:pt x="1732" y="80"/>
                    </a:lnTo>
                    <a:lnTo>
                      <a:pt x="1794" y="66"/>
                    </a:lnTo>
                    <a:lnTo>
                      <a:pt x="1858" y="52"/>
                    </a:lnTo>
                    <a:lnTo>
                      <a:pt x="1922" y="40"/>
                    </a:lnTo>
                    <a:lnTo>
                      <a:pt x="1984" y="30"/>
                    </a:lnTo>
                    <a:lnTo>
                      <a:pt x="2050" y="20"/>
                    </a:lnTo>
                    <a:lnTo>
                      <a:pt x="2114" y="12"/>
                    </a:lnTo>
                    <a:lnTo>
                      <a:pt x="2180" y="8"/>
                    </a:lnTo>
                    <a:lnTo>
                      <a:pt x="2246" y="2"/>
                    </a:lnTo>
                    <a:lnTo>
                      <a:pt x="2312" y="0"/>
                    </a:lnTo>
                    <a:lnTo>
                      <a:pt x="2378" y="0"/>
                    </a:lnTo>
                    <a:lnTo>
                      <a:pt x="2444" y="0"/>
                    </a:lnTo>
                    <a:lnTo>
                      <a:pt x="2510" y="2"/>
                    </a:lnTo>
                    <a:lnTo>
                      <a:pt x="2576" y="8"/>
                    </a:lnTo>
                    <a:lnTo>
                      <a:pt x="2642" y="12"/>
                    </a:lnTo>
                    <a:lnTo>
                      <a:pt x="2706" y="20"/>
                    </a:lnTo>
                    <a:lnTo>
                      <a:pt x="2772" y="30"/>
                    </a:lnTo>
                    <a:lnTo>
                      <a:pt x="2834" y="40"/>
                    </a:lnTo>
                    <a:lnTo>
                      <a:pt x="2898" y="52"/>
                    </a:lnTo>
                    <a:lnTo>
                      <a:pt x="2962" y="66"/>
                    </a:lnTo>
                    <a:lnTo>
                      <a:pt x="3024" y="80"/>
                    </a:lnTo>
                    <a:lnTo>
                      <a:pt x="3084" y="98"/>
                    </a:lnTo>
                    <a:lnTo>
                      <a:pt x="3146" y="116"/>
                    </a:lnTo>
                    <a:lnTo>
                      <a:pt x="3206" y="136"/>
                    </a:lnTo>
                    <a:lnTo>
                      <a:pt x="3266" y="156"/>
                    </a:lnTo>
                    <a:lnTo>
                      <a:pt x="3324" y="178"/>
                    </a:lnTo>
                    <a:lnTo>
                      <a:pt x="3382" y="202"/>
                    </a:lnTo>
                    <a:lnTo>
                      <a:pt x="3440" y="228"/>
                    </a:lnTo>
                    <a:lnTo>
                      <a:pt x="3498" y="254"/>
                    </a:lnTo>
                    <a:lnTo>
                      <a:pt x="3554" y="282"/>
                    </a:lnTo>
                    <a:lnTo>
                      <a:pt x="3608" y="312"/>
                    </a:lnTo>
                    <a:lnTo>
                      <a:pt x="3664" y="342"/>
                    </a:lnTo>
                    <a:lnTo>
                      <a:pt x="3716" y="374"/>
                    </a:lnTo>
                    <a:lnTo>
                      <a:pt x="3770" y="406"/>
                    </a:lnTo>
                    <a:lnTo>
                      <a:pt x="3822" y="440"/>
                    </a:lnTo>
                    <a:lnTo>
                      <a:pt x="3872" y="476"/>
                    </a:lnTo>
                    <a:lnTo>
                      <a:pt x="3922" y="512"/>
                    </a:lnTo>
                    <a:lnTo>
                      <a:pt x="3972" y="550"/>
                    </a:lnTo>
                    <a:lnTo>
                      <a:pt x="4020" y="590"/>
                    </a:lnTo>
                    <a:lnTo>
                      <a:pt x="4068" y="630"/>
                    </a:lnTo>
                    <a:lnTo>
                      <a:pt x="4114" y="670"/>
                    </a:lnTo>
                    <a:lnTo>
                      <a:pt x="4160" y="712"/>
                    </a:lnTo>
                    <a:lnTo>
                      <a:pt x="4204" y="756"/>
                    </a:lnTo>
                    <a:lnTo>
                      <a:pt x="4246" y="800"/>
                    </a:lnTo>
                    <a:lnTo>
                      <a:pt x="4288" y="846"/>
                    </a:lnTo>
                    <a:lnTo>
                      <a:pt x="4330" y="892"/>
                    </a:lnTo>
                    <a:lnTo>
                      <a:pt x="4370" y="940"/>
                    </a:lnTo>
                    <a:lnTo>
                      <a:pt x="4410" y="988"/>
                    </a:lnTo>
                    <a:lnTo>
                      <a:pt x="4446" y="1036"/>
                    </a:lnTo>
                    <a:lnTo>
                      <a:pt x="4484" y="1086"/>
                    </a:lnTo>
                    <a:lnTo>
                      <a:pt x="4518" y="1138"/>
                    </a:lnTo>
                    <a:lnTo>
                      <a:pt x="4552" y="1190"/>
                    </a:lnTo>
                    <a:lnTo>
                      <a:pt x="4586" y="1242"/>
                    </a:lnTo>
                    <a:lnTo>
                      <a:pt x="4618" y="1296"/>
                    </a:lnTo>
                    <a:lnTo>
                      <a:pt x="4648" y="1350"/>
                    </a:lnTo>
                    <a:lnTo>
                      <a:pt x="4678" y="1406"/>
                    </a:lnTo>
                    <a:lnTo>
                      <a:pt x="4706" y="1462"/>
                    </a:lnTo>
                    <a:lnTo>
                      <a:pt x="4732" y="1518"/>
                    </a:lnTo>
                    <a:lnTo>
                      <a:pt x="4756" y="1576"/>
                    </a:lnTo>
                    <a:lnTo>
                      <a:pt x="0" y="15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35294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7" name="Text Box 36"/>
            <p:cNvSpPr/>
            <p:nvPr/>
          </p:nvSpPr>
          <p:spPr>
            <a:xfrm>
              <a:off x="4138560" y="2230200"/>
              <a:ext cx="122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Text Box 37"/>
            <p:cNvSpPr/>
            <p:nvPr/>
          </p:nvSpPr>
          <p:spPr>
            <a:xfrm>
              <a:off x="5578560" y="2230200"/>
              <a:ext cx="122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Text Box 38"/>
            <p:cNvSpPr/>
            <p:nvPr/>
          </p:nvSpPr>
          <p:spPr>
            <a:xfrm>
              <a:off x="6983640" y="2230200"/>
              <a:ext cx="122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0" name="组合 18"/>
          <p:cNvGrpSpPr/>
          <p:nvPr/>
        </p:nvGrpSpPr>
        <p:grpSpPr>
          <a:xfrm>
            <a:off x="466560" y="1849320"/>
            <a:ext cx="3024360" cy="2528640"/>
            <a:chOff x="466560" y="1849320"/>
            <a:chExt cx="3024360" cy="2528640"/>
          </a:xfrm>
        </p:grpSpPr>
        <p:sp>
          <p:nvSpPr>
            <p:cNvPr id="1021" name="Rectangle 39"/>
            <p:cNvSpPr/>
            <p:nvPr/>
          </p:nvSpPr>
          <p:spPr>
            <a:xfrm>
              <a:off x="466560" y="1849320"/>
              <a:ext cx="3024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a50021"/>
                  </a:solidFill>
                  <a:latin typeface="微软雅黑"/>
                  <a:ea typeface="微软雅黑"/>
                </a:rPr>
                <a:t>单击此处添加标题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Rectangle 40"/>
            <p:cNvSpPr/>
            <p:nvPr/>
          </p:nvSpPr>
          <p:spPr>
            <a:xfrm>
              <a:off x="466560" y="2209680"/>
              <a:ext cx="3024360" cy="79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文字内容   单击此处添加文字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文字内容   单击此处添加文字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文字内容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Rectangle 41"/>
            <p:cNvSpPr/>
            <p:nvPr/>
          </p:nvSpPr>
          <p:spPr>
            <a:xfrm>
              <a:off x="466560" y="3217680"/>
              <a:ext cx="3024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单击此处添加标题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Rectangle 42"/>
            <p:cNvSpPr/>
            <p:nvPr/>
          </p:nvSpPr>
          <p:spPr>
            <a:xfrm>
              <a:off x="466560" y="3578040"/>
              <a:ext cx="3024360" cy="79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文字内容   单击此处添加文字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文字内容   单击此处添加文字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文字内容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5" name="组合 24"/>
          <p:cNvGrpSpPr/>
          <p:nvPr/>
        </p:nvGrpSpPr>
        <p:grpSpPr>
          <a:xfrm>
            <a:off x="4551480" y="2530440"/>
            <a:ext cx="1608120" cy="1839600"/>
            <a:chOff x="4551480" y="2530440"/>
            <a:chExt cx="1608120" cy="1839600"/>
          </a:xfrm>
        </p:grpSpPr>
        <p:grpSp>
          <p:nvGrpSpPr>
            <p:cNvPr id="1026" name="Group 21"/>
            <p:cNvGrpSpPr/>
            <p:nvPr/>
          </p:nvGrpSpPr>
          <p:grpSpPr>
            <a:xfrm>
              <a:off x="4551480" y="2530440"/>
              <a:ext cx="1608120" cy="1839600"/>
              <a:chOff x="4551480" y="2530440"/>
              <a:chExt cx="1608120" cy="1839600"/>
            </a:xfrm>
          </p:grpSpPr>
          <p:sp>
            <p:nvSpPr>
              <p:cNvPr id="1027" name="Oval 22"/>
              <p:cNvSpPr/>
              <p:nvPr/>
            </p:nvSpPr>
            <p:spPr>
              <a:xfrm>
                <a:off x="4551480" y="3704400"/>
                <a:ext cx="1608120" cy="6656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8" name="Group 23"/>
              <p:cNvGrpSpPr/>
              <p:nvPr/>
            </p:nvGrpSpPr>
            <p:grpSpPr>
              <a:xfrm>
                <a:off x="4564440" y="2530440"/>
                <a:ext cx="1551960" cy="1546920"/>
                <a:chOff x="4564440" y="2530440"/>
                <a:chExt cx="1551960" cy="1546920"/>
              </a:xfrm>
            </p:grpSpPr>
            <p:sp>
              <p:nvSpPr>
                <p:cNvPr id="1029" name="Oval 24"/>
                <p:cNvSpPr/>
                <p:nvPr/>
              </p:nvSpPr>
              <p:spPr>
                <a:xfrm>
                  <a:off x="4564440" y="2530440"/>
                  <a:ext cx="1551960" cy="1546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1e1e1"/>
                    </a:gs>
                    <a:gs pos="100000">
                      <a:srgbClr val="b2b2b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0" name="Oval 25"/>
                <p:cNvSpPr/>
                <p:nvPr/>
              </p:nvSpPr>
              <p:spPr>
                <a:xfrm>
                  <a:off x="4872240" y="2724480"/>
                  <a:ext cx="260280" cy="25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7abf5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31" name="Freeform 26"/>
              <p:cNvSpPr/>
              <p:nvPr/>
            </p:nvSpPr>
            <p:spPr>
              <a:xfrm>
                <a:off x="4670640" y="2556720"/>
                <a:ext cx="1324080" cy="439200"/>
              </a:xfrm>
              <a:custGeom>
                <a:avLst/>
                <a:gdLst/>
                <a:ahLst/>
                <a:rect l="l" t="t" r="r" b="b"/>
                <a:pathLst>
                  <a:path w="4756" h="1576">
                    <a:moveTo>
                      <a:pt x="0" y="1576"/>
                    </a:moveTo>
                    <a:lnTo>
                      <a:pt x="0" y="1576"/>
                    </a:lnTo>
                    <a:lnTo>
                      <a:pt x="24" y="1518"/>
                    </a:lnTo>
                    <a:lnTo>
                      <a:pt x="50" y="1462"/>
                    </a:lnTo>
                    <a:lnTo>
                      <a:pt x="78" y="1406"/>
                    </a:lnTo>
                    <a:lnTo>
                      <a:pt x="108" y="1350"/>
                    </a:lnTo>
                    <a:lnTo>
                      <a:pt x="138" y="1296"/>
                    </a:lnTo>
                    <a:lnTo>
                      <a:pt x="170" y="1242"/>
                    </a:lnTo>
                    <a:lnTo>
                      <a:pt x="204" y="1190"/>
                    </a:lnTo>
                    <a:lnTo>
                      <a:pt x="238" y="1138"/>
                    </a:lnTo>
                    <a:lnTo>
                      <a:pt x="272" y="1086"/>
                    </a:lnTo>
                    <a:lnTo>
                      <a:pt x="310" y="1036"/>
                    </a:lnTo>
                    <a:lnTo>
                      <a:pt x="348" y="988"/>
                    </a:lnTo>
                    <a:lnTo>
                      <a:pt x="386" y="940"/>
                    </a:lnTo>
                    <a:lnTo>
                      <a:pt x="426" y="892"/>
                    </a:lnTo>
                    <a:lnTo>
                      <a:pt x="468" y="846"/>
                    </a:lnTo>
                    <a:lnTo>
                      <a:pt x="510" y="800"/>
                    </a:lnTo>
                    <a:lnTo>
                      <a:pt x="552" y="756"/>
                    </a:lnTo>
                    <a:lnTo>
                      <a:pt x="596" y="712"/>
                    </a:lnTo>
                    <a:lnTo>
                      <a:pt x="642" y="670"/>
                    </a:lnTo>
                    <a:lnTo>
                      <a:pt x="688" y="630"/>
                    </a:lnTo>
                    <a:lnTo>
                      <a:pt x="736" y="590"/>
                    </a:lnTo>
                    <a:lnTo>
                      <a:pt x="784" y="550"/>
                    </a:lnTo>
                    <a:lnTo>
                      <a:pt x="834" y="512"/>
                    </a:lnTo>
                    <a:lnTo>
                      <a:pt x="884" y="476"/>
                    </a:lnTo>
                    <a:lnTo>
                      <a:pt x="934" y="440"/>
                    </a:lnTo>
                    <a:lnTo>
                      <a:pt x="986" y="406"/>
                    </a:lnTo>
                    <a:lnTo>
                      <a:pt x="1040" y="374"/>
                    </a:lnTo>
                    <a:lnTo>
                      <a:pt x="1092" y="342"/>
                    </a:lnTo>
                    <a:lnTo>
                      <a:pt x="1148" y="312"/>
                    </a:lnTo>
                    <a:lnTo>
                      <a:pt x="1202" y="282"/>
                    </a:lnTo>
                    <a:lnTo>
                      <a:pt x="1258" y="254"/>
                    </a:lnTo>
                    <a:lnTo>
                      <a:pt x="1316" y="228"/>
                    </a:lnTo>
                    <a:lnTo>
                      <a:pt x="1374" y="202"/>
                    </a:lnTo>
                    <a:lnTo>
                      <a:pt x="1432" y="178"/>
                    </a:lnTo>
                    <a:lnTo>
                      <a:pt x="1490" y="156"/>
                    </a:lnTo>
                    <a:lnTo>
                      <a:pt x="1550" y="136"/>
                    </a:lnTo>
                    <a:lnTo>
                      <a:pt x="1610" y="116"/>
                    </a:lnTo>
                    <a:lnTo>
                      <a:pt x="1672" y="98"/>
                    </a:lnTo>
                    <a:lnTo>
                      <a:pt x="1732" y="80"/>
                    </a:lnTo>
                    <a:lnTo>
                      <a:pt x="1794" y="66"/>
                    </a:lnTo>
                    <a:lnTo>
                      <a:pt x="1858" y="52"/>
                    </a:lnTo>
                    <a:lnTo>
                      <a:pt x="1922" y="40"/>
                    </a:lnTo>
                    <a:lnTo>
                      <a:pt x="1984" y="30"/>
                    </a:lnTo>
                    <a:lnTo>
                      <a:pt x="2050" y="20"/>
                    </a:lnTo>
                    <a:lnTo>
                      <a:pt x="2114" y="12"/>
                    </a:lnTo>
                    <a:lnTo>
                      <a:pt x="2180" y="8"/>
                    </a:lnTo>
                    <a:lnTo>
                      <a:pt x="2246" y="2"/>
                    </a:lnTo>
                    <a:lnTo>
                      <a:pt x="2312" y="0"/>
                    </a:lnTo>
                    <a:lnTo>
                      <a:pt x="2378" y="0"/>
                    </a:lnTo>
                    <a:lnTo>
                      <a:pt x="2444" y="0"/>
                    </a:lnTo>
                    <a:lnTo>
                      <a:pt x="2510" y="2"/>
                    </a:lnTo>
                    <a:lnTo>
                      <a:pt x="2576" y="8"/>
                    </a:lnTo>
                    <a:lnTo>
                      <a:pt x="2642" y="12"/>
                    </a:lnTo>
                    <a:lnTo>
                      <a:pt x="2706" y="20"/>
                    </a:lnTo>
                    <a:lnTo>
                      <a:pt x="2772" y="30"/>
                    </a:lnTo>
                    <a:lnTo>
                      <a:pt x="2834" y="40"/>
                    </a:lnTo>
                    <a:lnTo>
                      <a:pt x="2898" y="52"/>
                    </a:lnTo>
                    <a:lnTo>
                      <a:pt x="2962" y="66"/>
                    </a:lnTo>
                    <a:lnTo>
                      <a:pt x="3024" y="80"/>
                    </a:lnTo>
                    <a:lnTo>
                      <a:pt x="3084" y="98"/>
                    </a:lnTo>
                    <a:lnTo>
                      <a:pt x="3146" y="116"/>
                    </a:lnTo>
                    <a:lnTo>
                      <a:pt x="3206" y="136"/>
                    </a:lnTo>
                    <a:lnTo>
                      <a:pt x="3266" y="156"/>
                    </a:lnTo>
                    <a:lnTo>
                      <a:pt x="3324" y="178"/>
                    </a:lnTo>
                    <a:lnTo>
                      <a:pt x="3382" y="202"/>
                    </a:lnTo>
                    <a:lnTo>
                      <a:pt x="3440" y="228"/>
                    </a:lnTo>
                    <a:lnTo>
                      <a:pt x="3498" y="254"/>
                    </a:lnTo>
                    <a:lnTo>
                      <a:pt x="3554" y="282"/>
                    </a:lnTo>
                    <a:lnTo>
                      <a:pt x="3608" y="312"/>
                    </a:lnTo>
                    <a:lnTo>
                      <a:pt x="3664" y="342"/>
                    </a:lnTo>
                    <a:lnTo>
                      <a:pt x="3716" y="374"/>
                    </a:lnTo>
                    <a:lnTo>
                      <a:pt x="3770" y="406"/>
                    </a:lnTo>
                    <a:lnTo>
                      <a:pt x="3822" y="440"/>
                    </a:lnTo>
                    <a:lnTo>
                      <a:pt x="3872" y="476"/>
                    </a:lnTo>
                    <a:lnTo>
                      <a:pt x="3922" y="512"/>
                    </a:lnTo>
                    <a:lnTo>
                      <a:pt x="3972" y="550"/>
                    </a:lnTo>
                    <a:lnTo>
                      <a:pt x="4020" y="590"/>
                    </a:lnTo>
                    <a:lnTo>
                      <a:pt x="4068" y="630"/>
                    </a:lnTo>
                    <a:lnTo>
                      <a:pt x="4114" y="670"/>
                    </a:lnTo>
                    <a:lnTo>
                      <a:pt x="4160" y="712"/>
                    </a:lnTo>
                    <a:lnTo>
                      <a:pt x="4204" y="756"/>
                    </a:lnTo>
                    <a:lnTo>
                      <a:pt x="4246" y="800"/>
                    </a:lnTo>
                    <a:lnTo>
                      <a:pt x="4288" y="846"/>
                    </a:lnTo>
                    <a:lnTo>
                      <a:pt x="4330" y="892"/>
                    </a:lnTo>
                    <a:lnTo>
                      <a:pt x="4370" y="940"/>
                    </a:lnTo>
                    <a:lnTo>
                      <a:pt x="4410" y="988"/>
                    </a:lnTo>
                    <a:lnTo>
                      <a:pt x="4446" y="1036"/>
                    </a:lnTo>
                    <a:lnTo>
                      <a:pt x="4484" y="1086"/>
                    </a:lnTo>
                    <a:lnTo>
                      <a:pt x="4518" y="1138"/>
                    </a:lnTo>
                    <a:lnTo>
                      <a:pt x="4552" y="1190"/>
                    </a:lnTo>
                    <a:lnTo>
                      <a:pt x="4586" y="1242"/>
                    </a:lnTo>
                    <a:lnTo>
                      <a:pt x="4618" y="1296"/>
                    </a:lnTo>
                    <a:lnTo>
                      <a:pt x="4648" y="1350"/>
                    </a:lnTo>
                    <a:lnTo>
                      <a:pt x="4678" y="1406"/>
                    </a:lnTo>
                    <a:lnTo>
                      <a:pt x="4706" y="1462"/>
                    </a:lnTo>
                    <a:lnTo>
                      <a:pt x="4732" y="1518"/>
                    </a:lnTo>
                    <a:lnTo>
                      <a:pt x="4756" y="1576"/>
                    </a:lnTo>
                    <a:lnTo>
                      <a:pt x="0" y="15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2" name="Text Box 34"/>
            <p:cNvSpPr/>
            <p:nvPr/>
          </p:nvSpPr>
          <p:spPr>
            <a:xfrm>
              <a:off x="4678200" y="2871720"/>
              <a:ext cx="129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组合 32"/>
          <p:cNvGrpSpPr/>
          <p:nvPr/>
        </p:nvGrpSpPr>
        <p:grpSpPr>
          <a:xfrm>
            <a:off x="6207120" y="2530440"/>
            <a:ext cx="1606680" cy="1839600"/>
            <a:chOff x="6207120" y="2530440"/>
            <a:chExt cx="1606680" cy="1839600"/>
          </a:xfrm>
        </p:grpSpPr>
        <p:grpSp>
          <p:nvGrpSpPr>
            <p:cNvPr id="1034" name="Group 15"/>
            <p:cNvGrpSpPr/>
            <p:nvPr/>
          </p:nvGrpSpPr>
          <p:grpSpPr>
            <a:xfrm>
              <a:off x="6207120" y="2530440"/>
              <a:ext cx="1606680" cy="1839600"/>
              <a:chOff x="6207120" y="2530440"/>
              <a:chExt cx="1606680" cy="1839600"/>
            </a:xfrm>
          </p:grpSpPr>
          <p:sp>
            <p:nvSpPr>
              <p:cNvPr id="1035" name="Oval 16"/>
              <p:cNvSpPr/>
              <p:nvPr/>
            </p:nvSpPr>
            <p:spPr>
              <a:xfrm>
                <a:off x="6207120" y="3704400"/>
                <a:ext cx="1606680" cy="6656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6" name="Group 17"/>
              <p:cNvGrpSpPr/>
              <p:nvPr/>
            </p:nvGrpSpPr>
            <p:grpSpPr>
              <a:xfrm>
                <a:off x="6220080" y="2530440"/>
                <a:ext cx="1550520" cy="1546920"/>
                <a:chOff x="6220080" y="2530440"/>
                <a:chExt cx="1550520" cy="1546920"/>
              </a:xfrm>
            </p:grpSpPr>
            <p:sp>
              <p:nvSpPr>
                <p:cNvPr id="1037" name="Oval 18"/>
                <p:cNvSpPr/>
                <p:nvPr/>
              </p:nvSpPr>
              <p:spPr>
                <a:xfrm>
                  <a:off x="6220080" y="2530440"/>
                  <a:ext cx="1550520" cy="1546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1e1e1"/>
                    </a:gs>
                    <a:gs pos="100000">
                      <a:srgbClr val="b2b2b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8" name="Oval 19"/>
                <p:cNvSpPr/>
                <p:nvPr/>
              </p:nvSpPr>
              <p:spPr>
                <a:xfrm>
                  <a:off x="6527520" y="2724480"/>
                  <a:ext cx="260280" cy="25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7abf5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39" name="Freeform 20"/>
              <p:cNvSpPr/>
              <p:nvPr/>
            </p:nvSpPr>
            <p:spPr>
              <a:xfrm>
                <a:off x="6326280" y="2556720"/>
                <a:ext cx="1322640" cy="439200"/>
              </a:xfrm>
              <a:custGeom>
                <a:avLst/>
                <a:gdLst/>
                <a:ahLst/>
                <a:rect l="l" t="t" r="r" b="b"/>
                <a:pathLst>
                  <a:path w="4756" h="1576">
                    <a:moveTo>
                      <a:pt x="0" y="1576"/>
                    </a:moveTo>
                    <a:lnTo>
                      <a:pt x="0" y="1576"/>
                    </a:lnTo>
                    <a:lnTo>
                      <a:pt x="24" y="1518"/>
                    </a:lnTo>
                    <a:lnTo>
                      <a:pt x="50" y="1462"/>
                    </a:lnTo>
                    <a:lnTo>
                      <a:pt x="78" y="1406"/>
                    </a:lnTo>
                    <a:lnTo>
                      <a:pt x="108" y="1350"/>
                    </a:lnTo>
                    <a:lnTo>
                      <a:pt x="138" y="1296"/>
                    </a:lnTo>
                    <a:lnTo>
                      <a:pt x="170" y="1242"/>
                    </a:lnTo>
                    <a:lnTo>
                      <a:pt x="204" y="1190"/>
                    </a:lnTo>
                    <a:lnTo>
                      <a:pt x="238" y="1138"/>
                    </a:lnTo>
                    <a:lnTo>
                      <a:pt x="272" y="1086"/>
                    </a:lnTo>
                    <a:lnTo>
                      <a:pt x="310" y="1036"/>
                    </a:lnTo>
                    <a:lnTo>
                      <a:pt x="348" y="988"/>
                    </a:lnTo>
                    <a:lnTo>
                      <a:pt x="386" y="940"/>
                    </a:lnTo>
                    <a:lnTo>
                      <a:pt x="426" y="892"/>
                    </a:lnTo>
                    <a:lnTo>
                      <a:pt x="468" y="846"/>
                    </a:lnTo>
                    <a:lnTo>
                      <a:pt x="510" y="800"/>
                    </a:lnTo>
                    <a:lnTo>
                      <a:pt x="552" y="756"/>
                    </a:lnTo>
                    <a:lnTo>
                      <a:pt x="596" y="712"/>
                    </a:lnTo>
                    <a:lnTo>
                      <a:pt x="642" y="670"/>
                    </a:lnTo>
                    <a:lnTo>
                      <a:pt x="688" y="630"/>
                    </a:lnTo>
                    <a:lnTo>
                      <a:pt x="736" y="590"/>
                    </a:lnTo>
                    <a:lnTo>
                      <a:pt x="784" y="550"/>
                    </a:lnTo>
                    <a:lnTo>
                      <a:pt x="834" y="512"/>
                    </a:lnTo>
                    <a:lnTo>
                      <a:pt x="884" y="476"/>
                    </a:lnTo>
                    <a:lnTo>
                      <a:pt x="934" y="440"/>
                    </a:lnTo>
                    <a:lnTo>
                      <a:pt x="986" y="406"/>
                    </a:lnTo>
                    <a:lnTo>
                      <a:pt x="1040" y="374"/>
                    </a:lnTo>
                    <a:lnTo>
                      <a:pt x="1092" y="342"/>
                    </a:lnTo>
                    <a:lnTo>
                      <a:pt x="1148" y="312"/>
                    </a:lnTo>
                    <a:lnTo>
                      <a:pt x="1202" y="282"/>
                    </a:lnTo>
                    <a:lnTo>
                      <a:pt x="1258" y="254"/>
                    </a:lnTo>
                    <a:lnTo>
                      <a:pt x="1316" y="228"/>
                    </a:lnTo>
                    <a:lnTo>
                      <a:pt x="1374" y="202"/>
                    </a:lnTo>
                    <a:lnTo>
                      <a:pt x="1432" y="178"/>
                    </a:lnTo>
                    <a:lnTo>
                      <a:pt x="1490" y="156"/>
                    </a:lnTo>
                    <a:lnTo>
                      <a:pt x="1550" y="136"/>
                    </a:lnTo>
                    <a:lnTo>
                      <a:pt x="1610" y="116"/>
                    </a:lnTo>
                    <a:lnTo>
                      <a:pt x="1672" y="98"/>
                    </a:lnTo>
                    <a:lnTo>
                      <a:pt x="1732" y="80"/>
                    </a:lnTo>
                    <a:lnTo>
                      <a:pt x="1794" y="66"/>
                    </a:lnTo>
                    <a:lnTo>
                      <a:pt x="1858" y="52"/>
                    </a:lnTo>
                    <a:lnTo>
                      <a:pt x="1922" y="40"/>
                    </a:lnTo>
                    <a:lnTo>
                      <a:pt x="1984" y="30"/>
                    </a:lnTo>
                    <a:lnTo>
                      <a:pt x="2050" y="20"/>
                    </a:lnTo>
                    <a:lnTo>
                      <a:pt x="2114" y="12"/>
                    </a:lnTo>
                    <a:lnTo>
                      <a:pt x="2180" y="8"/>
                    </a:lnTo>
                    <a:lnTo>
                      <a:pt x="2246" y="2"/>
                    </a:lnTo>
                    <a:lnTo>
                      <a:pt x="2312" y="0"/>
                    </a:lnTo>
                    <a:lnTo>
                      <a:pt x="2378" y="0"/>
                    </a:lnTo>
                    <a:lnTo>
                      <a:pt x="2444" y="0"/>
                    </a:lnTo>
                    <a:lnTo>
                      <a:pt x="2510" y="2"/>
                    </a:lnTo>
                    <a:lnTo>
                      <a:pt x="2576" y="8"/>
                    </a:lnTo>
                    <a:lnTo>
                      <a:pt x="2642" y="12"/>
                    </a:lnTo>
                    <a:lnTo>
                      <a:pt x="2706" y="20"/>
                    </a:lnTo>
                    <a:lnTo>
                      <a:pt x="2772" y="30"/>
                    </a:lnTo>
                    <a:lnTo>
                      <a:pt x="2834" y="40"/>
                    </a:lnTo>
                    <a:lnTo>
                      <a:pt x="2898" y="52"/>
                    </a:lnTo>
                    <a:lnTo>
                      <a:pt x="2962" y="66"/>
                    </a:lnTo>
                    <a:lnTo>
                      <a:pt x="3024" y="80"/>
                    </a:lnTo>
                    <a:lnTo>
                      <a:pt x="3084" y="98"/>
                    </a:lnTo>
                    <a:lnTo>
                      <a:pt x="3146" y="116"/>
                    </a:lnTo>
                    <a:lnTo>
                      <a:pt x="3206" y="136"/>
                    </a:lnTo>
                    <a:lnTo>
                      <a:pt x="3266" y="156"/>
                    </a:lnTo>
                    <a:lnTo>
                      <a:pt x="3324" y="178"/>
                    </a:lnTo>
                    <a:lnTo>
                      <a:pt x="3382" y="202"/>
                    </a:lnTo>
                    <a:lnTo>
                      <a:pt x="3440" y="228"/>
                    </a:lnTo>
                    <a:lnTo>
                      <a:pt x="3498" y="254"/>
                    </a:lnTo>
                    <a:lnTo>
                      <a:pt x="3554" y="282"/>
                    </a:lnTo>
                    <a:lnTo>
                      <a:pt x="3608" y="312"/>
                    </a:lnTo>
                    <a:lnTo>
                      <a:pt x="3664" y="342"/>
                    </a:lnTo>
                    <a:lnTo>
                      <a:pt x="3716" y="374"/>
                    </a:lnTo>
                    <a:lnTo>
                      <a:pt x="3770" y="406"/>
                    </a:lnTo>
                    <a:lnTo>
                      <a:pt x="3822" y="440"/>
                    </a:lnTo>
                    <a:lnTo>
                      <a:pt x="3872" y="476"/>
                    </a:lnTo>
                    <a:lnTo>
                      <a:pt x="3922" y="512"/>
                    </a:lnTo>
                    <a:lnTo>
                      <a:pt x="3972" y="550"/>
                    </a:lnTo>
                    <a:lnTo>
                      <a:pt x="4020" y="590"/>
                    </a:lnTo>
                    <a:lnTo>
                      <a:pt x="4068" y="630"/>
                    </a:lnTo>
                    <a:lnTo>
                      <a:pt x="4114" y="670"/>
                    </a:lnTo>
                    <a:lnTo>
                      <a:pt x="4160" y="712"/>
                    </a:lnTo>
                    <a:lnTo>
                      <a:pt x="4204" y="756"/>
                    </a:lnTo>
                    <a:lnTo>
                      <a:pt x="4246" y="800"/>
                    </a:lnTo>
                    <a:lnTo>
                      <a:pt x="4288" y="846"/>
                    </a:lnTo>
                    <a:lnTo>
                      <a:pt x="4330" y="892"/>
                    </a:lnTo>
                    <a:lnTo>
                      <a:pt x="4370" y="940"/>
                    </a:lnTo>
                    <a:lnTo>
                      <a:pt x="4410" y="988"/>
                    </a:lnTo>
                    <a:lnTo>
                      <a:pt x="4446" y="1036"/>
                    </a:lnTo>
                    <a:lnTo>
                      <a:pt x="4484" y="1086"/>
                    </a:lnTo>
                    <a:lnTo>
                      <a:pt x="4518" y="1138"/>
                    </a:lnTo>
                    <a:lnTo>
                      <a:pt x="4552" y="1190"/>
                    </a:lnTo>
                    <a:lnTo>
                      <a:pt x="4586" y="1242"/>
                    </a:lnTo>
                    <a:lnTo>
                      <a:pt x="4618" y="1296"/>
                    </a:lnTo>
                    <a:lnTo>
                      <a:pt x="4648" y="1350"/>
                    </a:lnTo>
                    <a:lnTo>
                      <a:pt x="4678" y="1406"/>
                    </a:lnTo>
                    <a:lnTo>
                      <a:pt x="4706" y="1462"/>
                    </a:lnTo>
                    <a:lnTo>
                      <a:pt x="4732" y="1518"/>
                    </a:lnTo>
                    <a:lnTo>
                      <a:pt x="4756" y="1576"/>
                    </a:lnTo>
                    <a:lnTo>
                      <a:pt x="0" y="15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0" name="Text Box 35"/>
            <p:cNvSpPr/>
            <p:nvPr/>
          </p:nvSpPr>
          <p:spPr>
            <a:xfrm>
              <a:off x="6260760" y="2871720"/>
              <a:ext cx="1441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1" name="组合 40"/>
          <p:cNvGrpSpPr/>
          <p:nvPr/>
        </p:nvGrpSpPr>
        <p:grpSpPr>
          <a:xfrm>
            <a:off x="5183280" y="3362400"/>
            <a:ext cx="1960560" cy="2241360"/>
            <a:chOff x="5183280" y="3362400"/>
            <a:chExt cx="1960560" cy="2241360"/>
          </a:xfrm>
        </p:grpSpPr>
        <p:sp>
          <p:nvSpPr>
            <p:cNvPr id="1042" name="Oval 27"/>
            <p:cNvSpPr/>
            <p:nvPr/>
          </p:nvSpPr>
          <p:spPr>
            <a:xfrm>
              <a:off x="5183280" y="4792680"/>
              <a:ext cx="1960560" cy="8110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3" name="Group 28"/>
            <p:cNvGrpSpPr/>
            <p:nvPr/>
          </p:nvGrpSpPr>
          <p:grpSpPr>
            <a:xfrm>
              <a:off x="5199120" y="3362400"/>
              <a:ext cx="1892160" cy="1884240"/>
              <a:chOff x="5199120" y="3362400"/>
              <a:chExt cx="1892160" cy="1884240"/>
            </a:xfrm>
          </p:grpSpPr>
          <p:grpSp>
            <p:nvGrpSpPr>
              <p:cNvPr id="1044" name="Group 29"/>
              <p:cNvGrpSpPr/>
              <p:nvPr/>
            </p:nvGrpSpPr>
            <p:grpSpPr>
              <a:xfrm>
                <a:off x="5199120" y="3362400"/>
                <a:ext cx="1892160" cy="1884240"/>
                <a:chOff x="5199120" y="3362400"/>
                <a:chExt cx="1892160" cy="1884240"/>
              </a:xfrm>
            </p:grpSpPr>
            <p:sp>
              <p:nvSpPr>
                <p:cNvPr id="1045" name="Oval 30"/>
                <p:cNvSpPr/>
                <p:nvPr/>
              </p:nvSpPr>
              <p:spPr>
                <a:xfrm>
                  <a:off x="5199120" y="3362400"/>
                  <a:ext cx="1892160" cy="1884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6600"/>
                    </a:gs>
                    <a:gs pos="100000">
                      <a:srgbClr val="990000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6" name="Oval 31"/>
                <p:cNvSpPr/>
                <p:nvPr/>
              </p:nvSpPr>
              <p:spPr>
                <a:xfrm>
                  <a:off x="5573160" y="3598920"/>
                  <a:ext cx="317520" cy="315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7abf5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7" name="Text Box 32"/>
              <p:cNvSpPr/>
              <p:nvPr/>
            </p:nvSpPr>
            <p:spPr>
              <a:xfrm>
                <a:off x="5747040" y="3949920"/>
                <a:ext cx="7902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8f8f8"/>
                    </a:solidFill>
                    <a:latin typeface="微软雅黑"/>
                    <a:ea typeface="微软雅黑"/>
                  </a:rPr>
                  <a:t>单击此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8f8f8"/>
                    </a:solidFill>
                    <a:latin typeface="微软雅黑"/>
                    <a:ea typeface="微软雅黑"/>
                  </a:rPr>
                  <a:t>添加文字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Freeform 33"/>
              <p:cNvSpPr/>
              <p:nvPr/>
            </p:nvSpPr>
            <p:spPr>
              <a:xfrm>
                <a:off x="5329440" y="3394080"/>
                <a:ext cx="1614240" cy="534960"/>
              </a:xfrm>
              <a:custGeom>
                <a:avLst/>
                <a:gdLst/>
                <a:ahLst/>
                <a:rect l="l" t="t" r="r" b="b"/>
                <a:pathLst>
                  <a:path w="4756" h="1576">
                    <a:moveTo>
                      <a:pt x="0" y="1576"/>
                    </a:moveTo>
                    <a:lnTo>
                      <a:pt x="0" y="1576"/>
                    </a:lnTo>
                    <a:lnTo>
                      <a:pt x="24" y="1518"/>
                    </a:lnTo>
                    <a:lnTo>
                      <a:pt x="50" y="1462"/>
                    </a:lnTo>
                    <a:lnTo>
                      <a:pt x="78" y="1406"/>
                    </a:lnTo>
                    <a:lnTo>
                      <a:pt x="108" y="1350"/>
                    </a:lnTo>
                    <a:lnTo>
                      <a:pt x="138" y="1296"/>
                    </a:lnTo>
                    <a:lnTo>
                      <a:pt x="170" y="1242"/>
                    </a:lnTo>
                    <a:lnTo>
                      <a:pt x="204" y="1190"/>
                    </a:lnTo>
                    <a:lnTo>
                      <a:pt x="238" y="1138"/>
                    </a:lnTo>
                    <a:lnTo>
                      <a:pt x="272" y="1086"/>
                    </a:lnTo>
                    <a:lnTo>
                      <a:pt x="310" y="1036"/>
                    </a:lnTo>
                    <a:lnTo>
                      <a:pt x="348" y="988"/>
                    </a:lnTo>
                    <a:lnTo>
                      <a:pt x="386" y="940"/>
                    </a:lnTo>
                    <a:lnTo>
                      <a:pt x="426" y="892"/>
                    </a:lnTo>
                    <a:lnTo>
                      <a:pt x="468" y="846"/>
                    </a:lnTo>
                    <a:lnTo>
                      <a:pt x="510" y="800"/>
                    </a:lnTo>
                    <a:lnTo>
                      <a:pt x="552" y="756"/>
                    </a:lnTo>
                    <a:lnTo>
                      <a:pt x="596" y="712"/>
                    </a:lnTo>
                    <a:lnTo>
                      <a:pt x="642" y="670"/>
                    </a:lnTo>
                    <a:lnTo>
                      <a:pt x="688" y="630"/>
                    </a:lnTo>
                    <a:lnTo>
                      <a:pt x="736" y="590"/>
                    </a:lnTo>
                    <a:lnTo>
                      <a:pt x="784" y="550"/>
                    </a:lnTo>
                    <a:lnTo>
                      <a:pt x="834" y="512"/>
                    </a:lnTo>
                    <a:lnTo>
                      <a:pt x="884" y="476"/>
                    </a:lnTo>
                    <a:lnTo>
                      <a:pt x="934" y="440"/>
                    </a:lnTo>
                    <a:lnTo>
                      <a:pt x="986" y="406"/>
                    </a:lnTo>
                    <a:lnTo>
                      <a:pt x="1040" y="374"/>
                    </a:lnTo>
                    <a:lnTo>
                      <a:pt x="1092" y="342"/>
                    </a:lnTo>
                    <a:lnTo>
                      <a:pt x="1148" y="312"/>
                    </a:lnTo>
                    <a:lnTo>
                      <a:pt x="1202" y="282"/>
                    </a:lnTo>
                    <a:lnTo>
                      <a:pt x="1258" y="254"/>
                    </a:lnTo>
                    <a:lnTo>
                      <a:pt x="1316" y="228"/>
                    </a:lnTo>
                    <a:lnTo>
                      <a:pt x="1374" y="202"/>
                    </a:lnTo>
                    <a:lnTo>
                      <a:pt x="1432" y="178"/>
                    </a:lnTo>
                    <a:lnTo>
                      <a:pt x="1490" y="156"/>
                    </a:lnTo>
                    <a:lnTo>
                      <a:pt x="1550" y="136"/>
                    </a:lnTo>
                    <a:lnTo>
                      <a:pt x="1610" y="116"/>
                    </a:lnTo>
                    <a:lnTo>
                      <a:pt x="1672" y="98"/>
                    </a:lnTo>
                    <a:lnTo>
                      <a:pt x="1732" y="80"/>
                    </a:lnTo>
                    <a:lnTo>
                      <a:pt x="1794" y="66"/>
                    </a:lnTo>
                    <a:lnTo>
                      <a:pt x="1858" y="52"/>
                    </a:lnTo>
                    <a:lnTo>
                      <a:pt x="1922" y="40"/>
                    </a:lnTo>
                    <a:lnTo>
                      <a:pt x="1984" y="30"/>
                    </a:lnTo>
                    <a:lnTo>
                      <a:pt x="2050" y="20"/>
                    </a:lnTo>
                    <a:lnTo>
                      <a:pt x="2114" y="12"/>
                    </a:lnTo>
                    <a:lnTo>
                      <a:pt x="2180" y="8"/>
                    </a:lnTo>
                    <a:lnTo>
                      <a:pt x="2246" y="2"/>
                    </a:lnTo>
                    <a:lnTo>
                      <a:pt x="2312" y="0"/>
                    </a:lnTo>
                    <a:lnTo>
                      <a:pt x="2378" y="0"/>
                    </a:lnTo>
                    <a:lnTo>
                      <a:pt x="2444" y="0"/>
                    </a:lnTo>
                    <a:lnTo>
                      <a:pt x="2510" y="2"/>
                    </a:lnTo>
                    <a:lnTo>
                      <a:pt x="2576" y="8"/>
                    </a:lnTo>
                    <a:lnTo>
                      <a:pt x="2642" y="12"/>
                    </a:lnTo>
                    <a:lnTo>
                      <a:pt x="2706" y="20"/>
                    </a:lnTo>
                    <a:lnTo>
                      <a:pt x="2772" y="30"/>
                    </a:lnTo>
                    <a:lnTo>
                      <a:pt x="2834" y="40"/>
                    </a:lnTo>
                    <a:lnTo>
                      <a:pt x="2898" y="52"/>
                    </a:lnTo>
                    <a:lnTo>
                      <a:pt x="2962" y="66"/>
                    </a:lnTo>
                    <a:lnTo>
                      <a:pt x="3024" y="80"/>
                    </a:lnTo>
                    <a:lnTo>
                      <a:pt x="3084" y="98"/>
                    </a:lnTo>
                    <a:lnTo>
                      <a:pt x="3146" y="116"/>
                    </a:lnTo>
                    <a:lnTo>
                      <a:pt x="3206" y="136"/>
                    </a:lnTo>
                    <a:lnTo>
                      <a:pt x="3266" y="156"/>
                    </a:lnTo>
                    <a:lnTo>
                      <a:pt x="3324" y="178"/>
                    </a:lnTo>
                    <a:lnTo>
                      <a:pt x="3382" y="202"/>
                    </a:lnTo>
                    <a:lnTo>
                      <a:pt x="3440" y="228"/>
                    </a:lnTo>
                    <a:lnTo>
                      <a:pt x="3498" y="254"/>
                    </a:lnTo>
                    <a:lnTo>
                      <a:pt x="3554" y="282"/>
                    </a:lnTo>
                    <a:lnTo>
                      <a:pt x="3608" y="312"/>
                    </a:lnTo>
                    <a:lnTo>
                      <a:pt x="3664" y="342"/>
                    </a:lnTo>
                    <a:lnTo>
                      <a:pt x="3716" y="374"/>
                    </a:lnTo>
                    <a:lnTo>
                      <a:pt x="3770" y="406"/>
                    </a:lnTo>
                    <a:lnTo>
                      <a:pt x="3822" y="440"/>
                    </a:lnTo>
                    <a:lnTo>
                      <a:pt x="3872" y="476"/>
                    </a:lnTo>
                    <a:lnTo>
                      <a:pt x="3922" y="512"/>
                    </a:lnTo>
                    <a:lnTo>
                      <a:pt x="3972" y="550"/>
                    </a:lnTo>
                    <a:lnTo>
                      <a:pt x="4020" y="590"/>
                    </a:lnTo>
                    <a:lnTo>
                      <a:pt x="4068" y="630"/>
                    </a:lnTo>
                    <a:lnTo>
                      <a:pt x="4114" y="670"/>
                    </a:lnTo>
                    <a:lnTo>
                      <a:pt x="4160" y="712"/>
                    </a:lnTo>
                    <a:lnTo>
                      <a:pt x="4204" y="756"/>
                    </a:lnTo>
                    <a:lnTo>
                      <a:pt x="4246" y="800"/>
                    </a:lnTo>
                    <a:lnTo>
                      <a:pt x="4288" y="846"/>
                    </a:lnTo>
                    <a:lnTo>
                      <a:pt x="4330" y="892"/>
                    </a:lnTo>
                    <a:lnTo>
                      <a:pt x="4370" y="940"/>
                    </a:lnTo>
                    <a:lnTo>
                      <a:pt x="4410" y="988"/>
                    </a:lnTo>
                    <a:lnTo>
                      <a:pt x="4446" y="1036"/>
                    </a:lnTo>
                    <a:lnTo>
                      <a:pt x="4484" y="1086"/>
                    </a:lnTo>
                    <a:lnTo>
                      <a:pt x="4518" y="1138"/>
                    </a:lnTo>
                    <a:lnTo>
                      <a:pt x="4552" y="1190"/>
                    </a:lnTo>
                    <a:lnTo>
                      <a:pt x="4586" y="1242"/>
                    </a:lnTo>
                    <a:lnTo>
                      <a:pt x="4618" y="1296"/>
                    </a:lnTo>
                    <a:lnTo>
                      <a:pt x="4648" y="1350"/>
                    </a:lnTo>
                    <a:lnTo>
                      <a:pt x="4678" y="1406"/>
                    </a:lnTo>
                    <a:lnTo>
                      <a:pt x="4706" y="1462"/>
                    </a:lnTo>
                    <a:lnTo>
                      <a:pt x="4732" y="1518"/>
                    </a:lnTo>
                    <a:lnTo>
                      <a:pt x="4756" y="1576"/>
                    </a:lnTo>
                    <a:lnTo>
                      <a:pt x="0" y="15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 advTm="5000">
    <p:fade/>
  </p:transition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fill="hold">
                      <p:stCondLst>
                        <p:cond delay="0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3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500"/>
                            </p:stCondLst>
                            <p:childTnLst>
                              <p:par>
                                <p:cTn id="907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9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1500"/>
                            </p:stCondLst>
                            <p:childTnLst>
                              <p:par>
                                <p:cTn id="91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5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2000"/>
                            </p:stCondLst>
                            <p:childTnLst>
                              <p:par>
                                <p:cTn id="919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1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2500"/>
                            </p:stCondLst>
                            <p:childTnLst>
                              <p:par>
                                <p:cTn id="925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7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右箭头 1"/>
          <p:cNvSpPr/>
          <p:nvPr/>
        </p:nvSpPr>
        <p:spPr>
          <a:xfrm>
            <a:off x="5295960" y="1873080"/>
            <a:ext cx="2735280" cy="1281240"/>
          </a:xfrm>
          <a:prstGeom prst="rightArrow">
            <a:avLst>
              <a:gd name="adj1" fmla="val 67750"/>
              <a:gd name="adj2" fmla="val 40098"/>
            </a:avLst>
          </a:prstGeom>
          <a:gradFill rotWithShape="0">
            <a:gsLst>
              <a:gs pos="0">
                <a:srgbClr val="ff9933"/>
              </a:gs>
              <a:gs pos="100000">
                <a:srgbClr val="990000"/>
              </a:gs>
            </a:gsLst>
            <a:lin ang="5400000"/>
          </a:gra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矩形 4"/>
          <p:cNvSpPr/>
          <p:nvPr/>
        </p:nvSpPr>
        <p:spPr>
          <a:xfrm>
            <a:off x="5278320" y="2076480"/>
            <a:ext cx="1067040" cy="1279440"/>
          </a:xfrm>
          <a:custGeom>
            <a:avLst/>
            <a:gdLst/>
            <a:ahLst/>
            <a:rect l="l" t="t" r="r" b="b"/>
            <a:pathLst>
              <a:path w="854172" h="1025443">
                <a:moveTo>
                  <a:pt x="7408" y="0"/>
                </a:moveTo>
                <a:lnTo>
                  <a:pt x="854172" y="377371"/>
                </a:lnTo>
                <a:lnTo>
                  <a:pt x="854172" y="1025443"/>
                </a:lnTo>
                <a:lnTo>
                  <a:pt x="208" y="706134"/>
                </a:lnTo>
                <a:cubicBezTo>
                  <a:pt x="-1621" y="470756"/>
                  <a:pt x="9237" y="235378"/>
                  <a:pt x="7408" y="0"/>
                </a:cubicBezTo>
                <a:close/>
              </a:path>
            </a:pathLst>
          </a:custGeom>
          <a:gradFill rotWithShape="0">
            <a:gsLst>
              <a:gs pos="0">
                <a:srgbClr val="f9f9f9"/>
              </a:gs>
              <a:gs pos="100000">
                <a:srgbClr val="d7d7d7"/>
              </a:gs>
            </a:gsLst>
            <a:lin ang="5400000"/>
          </a:gradFill>
          <a:ln w="3240">
            <a:solidFill>
              <a:srgbClr val="eaeaea"/>
            </a:solidFill>
            <a:round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矩形 3"/>
          <p:cNvSpPr/>
          <p:nvPr/>
        </p:nvSpPr>
        <p:spPr>
          <a:xfrm>
            <a:off x="4102200" y="2560680"/>
            <a:ext cx="2246040" cy="80784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990000"/>
              </a:gs>
            </a:gsLst>
            <a:lin ang="5400000"/>
          </a:gra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矩形 4"/>
          <p:cNvSpPr/>
          <p:nvPr/>
        </p:nvSpPr>
        <p:spPr>
          <a:xfrm>
            <a:off x="4086360" y="2565360"/>
            <a:ext cx="1066680" cy="1279440"/>
          </a:xfrm>
          <a:custGeom>
            <a:avLst/>
            <a:gdLst/>
            <a:ahLst/>
            <a:rect l="l" t="t" r="r" b="b"/>
            <a:pathLst>
              <a:path w="854172" h="1025443">
                <a:moveTo>
                  <a:pt x="7408" y="0"/>
                </a:moveTo>
                <a:lnTo>
                  <a:pt x="854172" y="377371"/>
                </a:lnTo>
                <a:lnTo>
                  <a:pt x="854172" y="1025443"/>
                </a:lnTo>
                <a:lnTo>
                  <a:pt x="208" y="706134"/>
                </a:lnTo>
                <a:cubicBezTo>
                  <a:pt x="-1621" y="470756"/>
                  <a:pt x="9237" y="235378"/>
                  <a:pt x="7408" y="0"/>
                </a:cubicBezTo>
                <a:close/>
              </a:path>
            </a:pathLst>
          </a:custGeom>
          <a:gradFill rotWithShape="0">
            <a:gsLst>
              <a:gs pos="0">
                <a:srgbClr val="f9f9f9"/>
              </a:gs>
              <a:gs pos="100000">
                <a:srgbClr val="d7d7d7"/>
              </a:gs>
            </a:gsLst>
            <a:lin ang="5400000"/>
          </a:gradFill>
          <a:ln w="3240">
            <a:solidFill>
              <a:srgbClr val="eaeaea"/>
            </a:solidFill>
            <a:round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矩形 5"/>
          <p:cNvSpPr/>
          <p:nvPr/>
        </p:nvSpPr>
        <p:spPr>
          <a:xfrm>
            <a:off x="2901960" y="3056040"/>
            <a:ext cx="2246400" cy="80784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990000"/>
              </a:gs>
            </a:gsLst>
            <a:lin ang="5400000"/>
          </a:gra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矩形 4"/>
          <p:cNvSpPr/>
          <p:nvPr/>
        </p:nvSpPr>
        <p:spPr>
          <a:xfrm>
            <a:off x="2884320" y="3054240"/>
            <a:ext cx="1067040" cy="1279800"/>
          </a:xfrm>
          <a:custGeom>
            <a:avLst/>
            <a:gdLst/>
            <a:ahLst/>
            <a:rect l="l" t="t" r="r" b="b"/>
            <a:pathLst>
              <a:path w="854172" h="1025443">
                <a:moveTo>
                  <a:pt x="7408" y="0"/>
                </a:moveTo>
                <a:lnTo>
                  <a:pt x="854172" y="377371"/>
                </a:lnTo>
                <a:lnTo>
                  <a:pt x="854172" y="1025443"/>
                </a:lnTo>
                <a:lnTo>
                  <a:pt x="208" y="706134"/>
                </a:lnTo>
                <a:cubicBezTo>
                  <a:pt x="-1621" y="470756"/>
                  <a:pt x="9237" y="235378"/>
                  <a:pt x="7408" y="0"/>
                </a:cubicBezTo>
                <a:close/>
              </a:path>
            </a:pathLst>
          </a:custGeom>
          <a:gradFill rotWithShape="0">
            <a:gsLst>
              <a:gs pos="0">
                <a:srgbClr val="f9f9f9"/>
              </a:gs>
              <a:gs pos="100000">
                <a:srgbClr val="d7d7d7"/>
              </a:gs>
            </a:gsLst>
            <a:lin ang="5400000"/>
          </a:gradFill>
          <a:ln w="3240">
            <a:solidFill>
              <a:srgbClr val="eaeaea"/>
            </a:solidFill>
            <a:round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矩形 7"/>
          <p:cNvSpPr/>
          <p:nvPr/>
        </p:nvSpPr>
        <p:spPr>
          <a:xfrm>
            <a:off x="1890720" y="3540240"/>
            <a:ext cx="2065320" cy="80784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990000"/>
              </a:gs>
            </a:gsLst>
            <a:lin ang="5400000"/>
          </a:gra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矩形 4"/>
          <p:cNvSpPr/>
          <p:nvPr/>
        </p:nvSpPr>
        <p:spPr>
          <a:xfrm>
            <a:off x="1866960" y="3535200"/>
            <a:ext cx="1066680" cy="1279800"/>
          </a:xfrm>
          <a:custGeom>
            <a:avLst/>
            <a:gdLst/>
            <a:ahLst/>
            <a:rect l="l" t="t" r="r" b="b"/>
            <a:pathLst>
              <a:path w="854172" h="1025443">
                <a:moveTo>
                  <a:pt x="7408" y="0"/>
                </a:moveTo>
                <a:lnTo>
                  <a:pt x="854172" y="377371"/>
                </a:lnTo>
                <a:lnTo>
                  <a:pt x="854172" y="1025443"/>
                </a:lnTo>
                <a:lnTo>
                  <a:pt x="208" y="706134"/>
                </a:lnTo>
                <a:cubicBezTo>
                  <a:pt x="-1621" y="470756"/>
                  <a:pt x="9237" y="235378"/>
                  <a:pt x="7408" y="0"/>
                </a:cubicBezTo>
                <a:close/>
              </a:path>
            </a:pathLst>
          </a:custGeom>
          <a:gradFill rotWithShape="0">
            <a:gsLst>
              <a:gs pos="0">
                <a:srgbClr val="f9f9f9"/>
              </a:gs>
              <a:gs pos="100000">
                <a:srgbClr val="d7d7d7"/>
              </a:gs>
            </a:gsLst>
            <a:lin ang="5400000"/>
          </a:gradFill>
          <a:ln w="3240">
            <a:solidFill>
              <a:srgbClr val="eaeaea"/>
            </a:solidFill>
            <a:round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矩形 9"/>
          <p:cNvSpPr/>
          <p:nvPr/>
        </p:nvSpPr>
        <p:spPr>
          <a:xfrm>
            <a:off x="689040" y="4021200"/>
            <a:ext cx="2244600" cy="80784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990000"/>
              </a:gs>
            </a:gsLst>
            <a:lin ang="5400000"/>
          </a:gra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TextBox 19"/>
          <p:cNvSpPr/>
          <p:nvPr/>
        </p:nvSpPr>
        <p:spPr>
          <a:xfrm>
            <a:off x="611280" y="3633840"/>
            <a:ext cx="1670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d7d7d"/>
                </a:solidFill>
                <a:latin typeface="微软雅黑"/>
                <a:ea typeface="微软雅黑"/>
              </a:rPr>
              <a:t>此处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TextBox 19"/>
          <p:cNvSpPr/>
          <p:nvPr/>
        </p:nvSpPr>
        <p:spPr>
          <a:xfrm>
            <a:off x="1832040" y="3171960"/>
            <a:ext cx="1670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d7d7d"/>
                </a:solidFill>
                <a:latin typeface="微软雅黑"/>
                <a:ea typeface="微软雅黑"/>
              </a:rPr>
              <a:t>此处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TextBox 19"/>
          <p:cNvSpPr/>
          <p:nvPr/>
        </p:nvSpPr>
        <p:spPr>
          <a:xfrm>
            <a:off x="2909880" y="2693880"/>
            <a:ext cx="1670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d7d7d"/>
                </a:solidFill>
                <a:latin typeface="微软雅黑"/>
                <a:ea typeface="微软雅黑"/>
              </a:rPr>
              <a:t>此处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TextBox 19"/>
          <p:cNvSpPr/>
          <p:nvPr/>
        </p:nvSpPr>
        <p:spPr>
          <a:xfrm>
            <a:off x="4078440" y="2178000"/>
            <a:ext cx="1670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d7d7d"/>
                </a:solidFill>
                <a:latin typeface="微软雅黑"/>
                <a:ea typeface="微软雅黑"/>
              </a:rPr>
              <a:t>此处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TextBox 19"/>
          <p:cNvSpPr/>
          <p:nvPr/>
        </p:nvSpPr>
        <p:spPr>
          <a:xfrm>
            <a:off x="5335560" y="1704960"/>
            <a:ext cx="1670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d7d7d"/>
                </a:solidFill>
                <a:latin typeface="微软雅黑"/>
                <a:ea typeface="微软雅黑"/>
              </a:rPr>
              <a:t>此处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  <p:timing>
    <p:tnLst>
      <p:par>
        <p:cTn id="930" dur="indefinite" restart="never" nodeType="tmRoot">
          <p:childTnLst>
            <p:seq>
              <p:cTn id="931" dur="indefinite" nodeType="mainSeq">
                <p:childTnLst>
                  <p:par>
                    <p:cTn id="932" fill="hold">
                      <p:stCondLst>
                        <p:cond delay="0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6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500"/>
                            </p:stCondLst>
                            <p:childTnLst>
                              <p:par>
                                <p:cTn id="938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40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1000"/>
                            </p:stCondLst>
                            <p:childTnLst>
                              <p:par>
                                <p:cTn id="94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4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fill="hold">
                            <p:stCondLst>
                              <p:cond delay="1500"/>
                            </p:stCondLst>
                            <p:childTnLst>
                              <p:par>
                                <p:cTn id="946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48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2000"/>
                            </p:stCondLst>
                            <p:childTnLst>
                              <p:par>
                                <p:cTn id="95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2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2500"/>
                            </p:stCondLst>
                            <p:childTnLst>
                              <p:par>
                                <p:cTn id="954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6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3000"/>
                            </p:stCondLst>
                            <p:childTnLst>
                              <p:par>
                                <p:cTn id="95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0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3500"/>
                            </p:stCondLst>
                            <p:childTnLst>
                              <p:par>
                                <p:cTn id="962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64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4000"/>
                            </p:stCondLst>
                            <p:childTnLst>
                              <p:par>
                                <p:cTn id="96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8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fill="hold">
                            <p:stCondLst>
                              <p:cond delay="4500"/>
                            </p:stCondLst>
                            <p:childTnLst>
                              <p:par>
                                <p:cTn id="970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72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3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75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78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1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4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3" name="组合 1"/>
          <p:cNvGrpSpPr/>
          <p:nvPr/>
        </p:nvGrpSpPr>
        <p:grpSpPr>
          <a:xfrm>
            <a:off x="1020600" y="3470400"/>
            <a:ext cx="7091640" cy="1547640"/>
            <a:chOff x="1020600" y="3470400"/>
            <a:chExt cx="7091640" cy="1547640"/>
          </a:xfrm>
        </p:grpSpPr>
        <p:sp>
          <p:nvSpPr>
            <p:cNvPr id="1064" name="Oval 65"/>
            <p:cNvSpPr/>
            <p:nvPr/>
          </p:nvSpPr>
          <p:spPr>
            <a:xfrm>
              <a:off x="2219040" y="4725720"/>
              <a:ext cx="4662360" cy="292320"/>
            </a:xfrm>
            <a:prstGeom prst="ellipse">
              <a:avLst/>
            </a:prstGeom>
            <a:gradFill rotWithShape="0">
              <a:gsLst>
                <a:gs pos="0">
                  <a:srgbClr val="3b3b3b"/>
                </a:gs>
                <a:gs pos="100000">
                  <a:srgbClr val="80808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5" name="椭圆 3" descr=""/>
            <p:cNvPicPr/>
            <p:nvPr/>
          </p:nvPicPr>
          <p:blipFill>
            <a:blip r:embed="rId1"/>
            <a:stretch/>
          </p:blipFill>
          <p:spPr>
            <a:xfrm>
              <a:off x="4424400" y="4075920"/>
              <a:ext cx="378000" cy="84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6" name="圆角矩形 4" descr=""/>
            <p:cNvPicPr/>
            <p:nvPr/>
          </p:nvPicPr>
          <p:blipFill>
            <a:blip r:embed="rId2"/>
            <a:stretch/>
          </p:blipFill>
          <p:spPr>
            <a:xfrm>
              <a:off x="1020600" y="3470400"/>
              <a:ext cx="7091640" cy="1540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7" name="组合 5"/>
          <p:cNvGrpSpPr/>
          <p:nvPr/>
        </p:nvGrpSpPr>
        <p:grpSpPr>
          <a:xfrm>
            <a:off x="1521720" y="2955240"/>
            <a:ext cx="1229040" cy="981720"/>
            <a:chOff x="1521720" y="2955240"/>
            <a:chExt cx="1229040" cy="981720"/>
          </a:xfrm>
        </p:grpSpPr>
        <p:sp>
          <p:nvSpPr>
            <p:cNvPr id="1068" name="Oval 65"/>
            <p:cNvSpPr/>
            <p:nvPr/>
          </p:nvSpPr>
          <p:spPr>
            <a:xfrm>
              <a:off x="1521720" y="3708000"/>
              <a:ext cx="1143360" cy="228960"/>
            </a:xfrm>
            <a:prstGeom prst="ellipse">
              <a:avLst/>
            </a:prstGeom>
            <a:gradFill rotWithShape="0">
              <a:gsLst>
                <a:gs pos="0">
                  <a:srgbClr val="3b3b3b"/>
                </a:gs>
                <a:gs pos="100000">
                  <a:srgbClr val="80808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9" name="组合 16"/>
            <p:cNvGrpSpPr/>
            <p:nvPr/>
          </p:nvGrpSpPr>
          <p:grpSpPr>
            <a:xfrm>
              <a:off x="1935720" y="3354840"/>
              <a:ext cx="815040" cy="564840"/>
              <a:chOff x="1935720" y="3354840"/>
              <a:chExt cx="815040" cy="564840"/>
            </a:xfrm>
          </p:grpSpPr>
          <p:grpSp>
            <p:nvGrpSpPr>
              <p:cNvPr id="1070" name="组合 17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  <p:sp>
            <p:nvSpPr>
              <p:cNvPr id="1071" name="椭圆 10"/>
              <p:cNvSpPr/>
              <p:nvPr/>
            </p:nvSpPr>
            <p:spPr>
              <a:xfrm rot="20122200">
                <a:off x="1955880" y="3503880"/>
                <a:ext cx="774720" cy="26604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>
                      <a:alpha val="55294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72" name="TextBox 8" descr=""/>
            <p:cNvPicPr/>
            <p:nvPr/>
          </p:nvPicPr>
          <p:blipFill>
            <a:blip r:embed="rId3"/>
            <a:stretch/>
          </p:blipFill>
          <p:spPr>
            <a:xfrm>
              <a:off x="1698840" y="2955240"/>
              <a:ext cx="883440" cy="399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73" name="组合 13"/>
          <p:cNvGrpSpPr/>
          <p:nvPr/>
        </p:nvGrpSpPr>
        <p:grpSpPr>
          <a:xfrm>
            <a:off x="6643800" y="3669480"/>
            <a:ext cx="1250280" cy="1059120"/>
            <a:chOff x="6643800" y="3669480"/>
            <a:chExt cx="1250280" cy="1059120"/>
          </a:xfrm>
        </p:grpSpPr>
        <p:sp>
          <p:nvSpPr>
            <p:cNvPr id="1074" name="Oval 65"/>
            <p:cNvSpPr/>
            <p:nvPr/>
          </p:nvSpPr>
          <p:spPr>
            <a:xfrm rot="393000">
              <a:off x="6652800" y="4435560"/>
              <a:ext cx="1143000" cy="228600"/>
            </a:xfrm>
            <a:prstGeom prst="ellipse">
              <a:avLst/>
            </a:prstGeom>
            <a:gradFill rotWithShape="0">
              <a:gsLst>
                <a:gs pos="0">
                  <a:srgbClr val="3b3b3b"/>
                </a:gs>
                <a:gs pos="100000">
                  <a:srgbClr val="80808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5" name="组合 15"/>
            <p:cNvGrpSpPr/>
            <p:nvPr/>
          </p:nvGrpSpPr>
          <p:grpSpPr>
            <a:xfrm>
              <a:off x="7079400" y="4069080"/>
              <a:ext cx="814680" cy="564120"/>
              <a:chOff x="7079400" y="4069080"/>
              <a:chExt cx="814680" cy="564120"/>
            </a:xfrm>
          </p:grpSpPr>
          <p:grpSp>
            <p:nvGrpSpPr>
              <p:cNvPr id="1076" name="组合 5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  <p:sp>
            <p:nvSpPr>
              <p:cNvPr id="1077" name="椭圆 18"/>
              <p:cNvSpPr/>
              <p:nvPr/>
            </p:nvSpPr>
            <p:spPr>
              <a:xfrm rot="20122200">
                <a:off x="7099200" y="4218120"/>
                <a:ext cx="774360" cy="26568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>
                      <a:alpha val="55294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78" name="TextBox 16" descr=""/>
            <p:cNvPicPr/>
            <p:nvPr/>
          </p:nvPicPr>
          <p:blipFill>
            <a:blip r:embed="rId4"/>
            <a:stretch/>
          </p:blipFill>
          <p:spPr>
            <a:xfrm>
              <a:off x="6839280" y="3669480"/>
              <a:ext cx="883080" cy="399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79" name="组合 21"/>
          <p:cNvGrpSpPr/>
          <p:nvPr/>
        </p:nvGrpSpPr>
        <p:grpSpPr>
          <a:xfrm>
            <a:off x="5563800" y="3594600"/>
            <a:ext cx="977400" cy="896040"/>
            <a:chOff x="5563800" y="3594600"/>
            <a:chExt cx="977400" cy="896040"/>
          </a:xfrm>
        </p:grpSpPr>
        <p:grpSp>
          <p:nvGrpSpPr>
            <p:cNvPr id="1080" name="组合 11"/>
            <p:cNvGrpSpPr/>
            <p:nvPr/>
          </p:nvGrpSpPr>
          <p:grpSpPr>
            <a:xfrm>
              <a:off x="5863320" y="3927960"/>
              <a:ext cx="677880" cy="469440"/>
              <a:chOff x="5863320" y="3927960"/>
              <a:chExt cx="677880" cy="469440"/>
            </a:xfrm>
          </p:grpSpPr>
          <p:grpSp>
            <p:nvGrpSpPr>
              <p:cNvPr id="1081" name="组合 12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  <p:sp>
            <p:nvSpPr>
              <p:cNvPr id="1082" name="椭圆 26"/>
              <p:cNvSpPr/>
              <p:nvPr/>
            </p:nvSpPr>
            <p:spPr>
              <a:xfrm rot="20122200">
                <a:off x="5879880" y="4052160"/>
                <a:ext cx="644400" cy="22104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>
                      <a:alpha val="55294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3" name="Oval 65"/>
            <p:cNvSpPr/>
            <p:nvPr/>
          </p:nvSpPr>
          <p:spPr>
            <a:xfrm rot="555000">
              <a:off x="5572080" y="4251240"/>
              <a:ext cx="857160" cy="171360"/>
            </a:xfrm>
            <a:prstGeom prst="ellipse">
              <a:avLst/>
            </a:prstGeom>
            <a:gradFill rotWithShape="0">
              <a:gsLst>
                <a:gs pos="0">
                  <a:srgbClr val="3b3b3b"/>
                </a:gs>
                <a:gs pos="100000">
                  <a:srgbClr val="80808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4" name="TextBox 24" descr=""/>
            <p:cNvPicPr/>
            <p:nvPr/>
          </p:nvPicPr>
          <p:blipFill>
            <a:blip r:embed="rId5"/>
            <a:stretch/>
          </p:blipFill>
          <p:spPr>
            <a:xfrm>
              <a:off x="5572080" y="3594600"/>
              <a:ext cx="883080" cy="399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5" name="组合 29"/>
          <p:cNvGrpSpPr/>
          <p:nvPr/>
        </p:nvGrpSpPr>
        <p:grpSpPr>
          <a:xfrm>
            <a:off x="3427560" y="2949480"/>
            <a:ext cx="1662120" cy="755640"/>
            <a:chOff x="3427560" y="2949480"/>
            <a:chExt cx="1662120" cy="755640"/>
          </a:xfrm>
        </p:grpSpPr>
        <p:pic>
          <p:nvPicPr>
            <p:cNvPr id="1086" name="下箭头 30" descr=""/>
            <p:cNvPicPr/>
            <p:nvPr/>
          </p:nvPicPr>
          <p:blipFill>
            <a:blip r:embed="rId6"/>
            <a:stretch/>
          </p:blipFill>
          <p:spPr>
            <a:xfrm>
              <a:off x="3427560" y="2949480"/>
              <a:ext cx="166212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7" name="Text Box 39"/>
            <p:cNvSpPr/>
            <p:nvPr/>
          </p:nvSpPr>
          <p:spPr>
            <a:xfrm rot="563400">
              <a:off x="3588840" y="3066120"/>
              <a:ext cx="116784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内容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8" name="组合 32"/>
          <p:cNvGrpSpPr/>
          <p:nvPr/>
        </p:nvGrpSpPr>
        <p:grpSpPr>
          <a:xfrm>
            <a:off x="1214280" y="1616040"/>
            <a:ext cx="1905120" cy="1170000"/>
            <a:chOff x="1214280" y="1616040"/>
            <a:chExt cx="1905120" cy="1170000"/>
          </a:xfrm>
        </p:grpSpPr>
        <p:sp>
          <p:nvSpPr>
            <p:cNvPr id="1089" name="Text Box 39"/>
            <p:cNvSpPr/>
            <p:nvPr/>
          </p:nvSpPr>
          <p:spPr>
            <a:xfrm>
              <a:off x="1219680" y="1889280"/>
              <a:ext cx="18997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此处添加内容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此处添加内容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Text Box 39"/>
            <p:cNvSpPr/>
            <p:nvPr/>
          </p:nvSpPr>
          <p:spPr>
            <a:xfrm>
              <a:off x="1285560" y="1616040"/>
              <a:ext cx="158076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222267"/>
                  </a:solidFill>
                  <a:latin typeface="微软雅黑"/>
                  <a:ea typeface="微软雅黑"/>
                </a:rPr>
                <a:t>此处添加内容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Text Box 39"/>
            <p:cNvSpPr/>
            <p:nvPr/>
          </p:nvSpPr>
          <p:spPr>
            <a:xfrm>
              <a:off x="1214280" y="2449440"/>
              <a:ext cx="18997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2" name="组合 36"/>
          <p:cNvGrpSpPr/>
          <p:nvPr/>
        </p:nvGrpSpPr>
        <p:grpSpPr>
          <a:xfrm>
            <a:off x="6357960" y="1585800"/>
            <a:ext cx="1905120" cy="1474200"/>
            <a:chOff x="6357960" y="1585800"/>
            <a:chExt cx="1905120" cy="1474200"/>
          </a:xfrm>
        </p:grpSpPr>
        <p:sp>
          <p:nvSpPr>
            <p:cNvPr id="1093" name="Text Box 39"/>
            <p:cNvSpPr/>
            <p:nvPr/>
          </p:nvSpPr>
          <p:spPr>
            <a:xfrm>
              <a:off x="6363360" y="1859040"/>
              <a:ext cx="18997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此处添加内容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此处添加内容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Text Box 39"/>
            <p:cNvSpPr/>
            <p:nvPr/>
          </p:nvSpPr>
          <p:spPr>
            <a:xfrm>
              <a:off x="6429240" y="1585800"/>
              <a:ext cx="158076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990000"/>
                  </a:solidFill>
                  <a:latin typeface="微软雅黑"/>
                  <a:ea typeface="微软雅黑"/>
                </a:rPr>
                <a:t>此处添加内容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Text Box 39"/>
            <p:cNvSpPr/>
            <p:nvPr/>
          </p:nvSpPr>
          <p:spPr>
            <a:xfrm>
              <a:off x="6357960" y="2418840"/>
              <a:ext cx="18997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此处添加内容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此处添加内容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6" name="文本框 8200"/>
          <p:cNvSpPr/>
          <p:nvPr/>
        </p:nvSpPr>
        <p:spPr>
          <a:xfrm>
            <a:off x="762120" y="87624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7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  <p:timing>
    <p:tnLst>
      <p:par>
        <p:cTn id="985" dur="indefinite" restart="never" nodeType="tmRoot">
          <p:childTnLst>
            <p:seq>
              <p:cTn id="986" dur="indefinite" nodeType="mainSeq">
                <p:childTnLst>
                  <p:par>
                    <p:cTn id="987" fill="hold">
                      <p:stCondLst>
                        <p:cond delay="0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500"/>
                            </p:stCondLst>
                            <p:childTnLst>
                              <p:par>
                                <p:cTn id="993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4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4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900"/>
                            </p:stCondLst>
                            <p:childTnLst>
                              <p:par>
                                <p:cTn id="99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0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1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3" dur="4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4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5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7" dur="4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4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1400"/>
                            </p:stCondLst>
                            <p:childTnLst>
                              <p:par>
                                <p:cTn id="101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2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7" name="组合 1"/>
          <p:cNvGrpSpPr/>
          <p:nvPr/>
        </p:nvGrpSpPr>
        <p:grpSpPr>
          <a:xfrm>
            <a:off x="647640" y="2919240"/>
            <a:ext cx="7848720" cy="933480"/>
            <a:chOff x="647640" y="2919240"/>
            <a:chExt cx="7848720" cy="933480"/>
          </a:xfrm>
        </p:grpSpPr>
        <p:sp>
          <p:nvSpPr>
            <p:cNvPr id="1098" name="Oval 24"/>
            <p:cNvSpPr/>
            <p:nvPr/>
          </p:nvSpPr>
          <p:spPr>
            <a:xfrm>
              <a:off x="2361960" y="2990880"/>
              <a:ext cx="4248360" cy="8618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Oval 24"/>
            <p:cNvSpPr/>
            <p:nvPr/>
          </p:nvSpPr>
          <p:spPr>
            <a:xfrm>
              <a:off x="647640" y="2919240"/>
              <a:ext cx="3848040" cy="7808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Oval 24"/>
            <p:cNvSpPr/>
            <p:nvPr/>
          </p:nvSpPr>
          <p:spPr>
            <a:xfrm>
              <a:off x="4648320" y="2919240"/>
              <a:ext cx="3848040" cy="7808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1" name="Group 34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grpSp>
          <p:nvGrpSpPr>
            <p:cNvPr id="1102" name="Group 39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grpSp>
          <p:nvGrpSpPr>
            <p:cNvPr id="1103" name="Group 30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</p:grpSp>
      <p:sp>
        <p:nvSpPr>
          <p:cNvPr id="1104" name="矩形 30"/>
          <p:cNvSpPr/>
          <p:nvPr/>
        </p:nvSpPr>
        <p:spPr>
          <a:xfrm>
            <a:off x="647640" y="3989520"/>
            <a:ext cx="2071800" cy="64296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0d0d0d"/>
              </a:gs>
            </a:gsLst>
            <a:lin ang="5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矩形 31"/>
          <p:cNvSpPr/>
          <p:nvPr/>
        </p:nvSpPr>
        <p:spPr>
          <a:xfrm>
            <a:off x="3290760" y="3989520"/>
            <a:ext cx="2071800" cy="64296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0d0d0d"/>
              </a:gs>
            </a:gsLst>
            <a:lin ang="5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矩形 32"/>
          <p:cNvSpPr/>
          <p:nvPr/>
        </p:nvSpPr>
        <p:spPr>
          <a:xfrm>
            <a:off x="5934240" y="3989520"/>
            <a:ext cx="2071440" cy="64296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0d0d0d"/>
              </a:gs>
            </a:gsLst>
            <a:lin ang="54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  <p:timing>
    <p:tnLst>
      <p:par>
        <p:cTn id="1016" dur="indefinite" restart="never" nodeType="tmRoot">
          <p:childTnLst>
            <p:seq>
              <p:cTn id="1017" dur="indefinite" nodeType="mainSeq">
                <p:childTnLst>
                  <p:par>
                    <p:cTn id="1018" fill="hold">
                      <p:stCondLst>
                        <p:cond delay="0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2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500"/>
                            </p:stCondLst>
                            <p:childTnLst>
                              <p:par>
                                <p:cTn id="1024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6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8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0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2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4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组合 1"/>
          <p:cNvGrpSpPr/>
          <p:nvPr/>
        </p:nvGrpSpPr>
        <p:grpSpPr>
          <a:xfrm>
            <a:off x="4030560" y="1503360"/>
            <a:ext cx="4321440" cy="3816000"/>
            <a:chOff x="4030560" y="1503360"/>
            <a:chExt cx="4321440" cy="3816000"/>
          </a:xfrm>
        </p:grpSpPr>
        <p:sp>
          <p:nvSpPr>
            <p:cNvPr id="1108" name="Oval 4"/>
            <p:cNvSpPr/>
            <p:nvPr/>
          </p:nvSpPr>
          <p:spPr>
            <a:xfrm>
              <a:off x="5810400" y="4481640"/>
              <a:ext cx="1981440" cy="8125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9" name="Group 5"/>
            <p:cNvGrpSpPr/>
            <p:nvPr/>
          </p:nvGrpSpPr>
          <p:grpSpPr>
            <a:xfrm>
              <a:off x="4030560" y="2151000"/>
              <a:ext cx="1258920" cy="1258920"/>
              <a:chOff x="4030560" y="2151000"/>
              <a:chExt cx="1258920" cy="1258920"/>
            </a:xfrm>
          </p:grpSpPr>
          <p:sp>
            <p:nvSpPr>
              <p:cNvPr id="1110" name="Oval 6"/>
              <p:cNvSpPr/>
              <p:nvPr/>
            </p:nvSpPr>
            <p:spPr>
              <a:xfrm>
                <a:off x="4030560" y="2151000"/>
                <a:ext cx="1258920" cy="125892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cc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Arial"/>
                  </a:rPr>
                  <a:t>单击此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Arial"/>
                  </a:rPr>
                  <a:t>添加文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1" name="Group 7"/>
              <p:cNvGrpSpPr/>
              <p:nvPr/>
            </p:nvGrpSpPr>
            <p:grpSpPr>
              <a:xfrm>
                <a:off x="4135680" y="2185560"/>
                <a:ext cx="1049760" cy="342360"/>
                <a:chOff x="4135680" y="2185560"/>
                <a:chExt cx="1049760" cy="342360"/>
              </a:xfrm>
            </p:grpSpPr>
            <p:sp>
              <p:nvSpPr>
                <p:cNvPr id="1112" name="Freeform 8"/>
                <p:cNvSpPr/>
                <p:nvPr/>
              </p:nvSpPr>
              <p:spPr>
                <a:xfrm>
                  <a:off x="4135680" y="2185560"/>
                  <a:ext cx="1049760" cy="342360"/>
                </a:xfrm>
                <a:custGeom>
                  <a:avLst/>
                  <a:gdLst/>
                  <a:ahLst/>
                  <a:rect l="l" t="t" r="r" b="b"/>
                  <a:pathLst>
                    <a:path w="4756" h="1576">
                      <a:moveTo>
                        <a:pt x="0" y="1576"/>
                      </a:moveTo>
                      <a:lnTo>
                        <a:pt x="0" y="1576"/>
                      </a:lnTo>
                      <a:lnTo>
                        <a:pt x="24" y="1518"/>
                      </a:lnTo>
                      <a:lnTo>
                        <a:pt x="50" y="1462"/>
                      </a:lnTo>
                      <a:lnTo>
                        <a:pt x="78" y="1406"/>
                      </a:lnTo>
                      <a:lnTo>
                        <a:pt x="108" y="1350"/>
                      </a:lnTo>
                      <a:lnTo>
                        <a:pt x="138" y="1296"/>
                      </a:lnTo>
                      <a:lnTo>
                        <a:pt x="170" y="1242"/>
                      </a:lnTo>
                      <a:lnTo>
                        <a:pt x="204" y="1190"/>
                      </a:lnTo>
                      <a:lnTo>
                        <a:pt x="238" y="1138"/>
                      </a:lnTo>
                      <a:lnTo>
                        <a:pt x="272" y="1086"/>
                      </a:lnTo>
                      <a:lnTo>
                        <a:pt x="310" y="1036"/>
                      </a:lnTo>
                      <a:lnTo>
                        <a:pt x="348" y="988"/>
                      </a:lnTo>
                      <a:lnTo>
                        <a:pt x="386" y="940"/>
                      </a:lnTo>
                      <a:lnTo>
                        <a:pt x="426" y="892"/>
                      </a:lnTo>
                      <a:lnTo>
                        <a:pt x="468" y="846"/>
                      </a:lnTo>
                      <a:lnTo>
                        <a:pt x="510" y="800"/>
                      </a:lnTo>
                      <a:lnTo>
                        <a:pt x="552" y="756"/>
                      </a:lnTo>
                      <a:lnTo>
                        <a:pt x="596" y="712"/>
                      </a:lnTo>
                      <a:lnTo>
                        <a:pt x="642" y="670"/>
                      </a:lnTo>
                      <a:lnTo>
                        <a:pt x="688" y="630"/>
                      </a:lnTo>
                      <a:lnTo>
                        <a:pt x="736" y="590"/>
                      </a:lnTo>
                      <a:lnTo>
                        <a:pt x="784" y="550"/>
                      </a:lnTo>
                      <a:lnTo>
                        <a:pt x="834" y="512"/>
                      </a:lnTo>
                      <a:lnTo>
                        <a:pt x="884" y="476"/>
                      </a:lnTo>
                      <a:lnTo>
                        <a:pt x="934" y="440"/>
                      </a:lnTo>
                      <a:lnTo>
                        <a:pt x="986" y="406"/>
                      </a:lnTo>
                      <a:lnTo>
                        <a:pt x="1040" y="374"/>
                      </a:lnTo>
                      <a:lnTo>
                        <a:pt x="1092" y="342"/>
                      </a:lnTo>
                      <a:lnTo>
                        <a:pt x="1148" y="312"/>
                      </a:lnTo>
                      <a:lnTo>
                        <a:pt x="1202" y="282"/>
                      </a:lnTo>
                      <a:lnTo>
                        <a:pt x="1258" y="254"/>
                      </a:lnTo>
                      <a:lnTo>
                        <a:pt x="1316" y="228"/>
                      </a:lnTo>
                      <a:lnTo>
                        <a:pt x="1374" y="202"/>
                      </a:lnTo>
                      <a:lnTo>
                        <a:pt x="1432" y="178"/>
                      </a:lnTo>
                      <a:lnTo>
                        <a:pt x="1490" y="156"/>
                      </a:lnTo>
                      <a:lnTo>
                        <a:pt x="1550" y="136"/>
                      </a:lnTo>
                      <a:lnTo>
                        <a:pt x="1610" y="116"/>
                      </a:lnTo>
                      <a:lnTo>
                        <a:pt x="1672" y="98"/>
                      </a:lnTo>
                      <a:lnTo>
                        <a:pt x="1732" y="80"/>
                      </a:lnTo>
                      <a:lnTo>
                        <a:pt x="1794" y="66"/>
                      </a:lnTo>
                      <a:lnTo>
                        <a:pt x="1858" y="52"/>
                      </a:lnTo>
                      <a:lnTo>
                        <a:pt x="1922" y="40"/>
                      </a:lnTo>
                      <a:lnTo>
                        <a:pt x="1984" y="30"/>
                      </a:lnTo>
                      <a:lnTo>
                        <a:pt x="2050" y="20"/>
                      </a:lnTo>
                      <a:lnTo>
                        <a:pt x="2114" y="12"/>
                      </a:lnTo>
                      <a:lnTo>
                        <a:pt x="2180" y="8"/>
                      </a:lnTo>
                      <a:lnTo>
                        <a:pt x="2246" y="2"/>
                      </a:lnTo>
                      <a:lnTo>
                        <a:pt x="2312" y="0"/>
                      </a:lnTo>
                      <a:lnTo>
                        <a:pt x="2378" y="0"/>
                      </a:lnTo>
                      <a:lnTo>
                        <a:pt x="2444" y="0"/>
                      </a:lnTo>
                      <a:lnTo>
                        <a:pt x="2510" y="2"/>
                      </a:lnTo>
                      <a:lnTo>
                        <a:pt x="2576" y="8"/>
                      </a:lnTo>
                      <a:lnTo>
                        <a:pt x="2642" y="12"/>
                      </a:lnTo>
                      <a:lnTo>
                        <a:pt x="2706" y="20"/>
                      </a:lnTo>
                      <a:lnTo>
                        <a:pt x="2772" y="30"/>
                      </a:lnTo>
                      <a:lnTo>
                        <a:pt x="2834" y="40"/>
                      </a:lnTo>
                      <a:lnTo>
                        <a:pt x="2898" y="52"/>
                      </a:lnTo>
                      <a:lnTo>
                        <a:pt x="2962" y="66"/>
                      </a:lnTo>
                      <a:lnTo>
                        <a:pt x="3024" y="80"/>
                      </a:lnTo>
                      <a:lnTo>
                        <a:pt x="3084" y="98"/>
                      </a:lnTo>
                      <a:lnTo>
                        <a:pt x="3146" y="116"/>
                      </a:lnTo>
                      <a:lnTo>
                        <a:pt x="3206" y="136"/>
                      </a:lnTo>
                      <a:lnTo>
                        <a:pt x="3266" y="156"/>
                      </a:lnTo>
                      <a:lnTo>
                        <a:pt x="3324" y="178"/>
                      </a:lnTo>
                      <a:lnTo>
                        <a:pt x="3382" y="202"/>
                      </a:lnTo>
                      <a:lnTo>
                        <a:pt x="3440" y="228"/>
                      </a:lnTo>
                      <a:lnTo>
                        <a:pt x="3498" y="254"/>
                      </a:lnTo>
                      <a:lnTo>
                        <a:pt x="3554" y="282"/>
                      </a:lnTo>
                      <a:lnTo>
                        <a:pt x="3608" y="312"/>
                      </a:lnTo>
                      <a:lnTo>
                        <a:pt x="3664" y="342"/>
                      </a:lnTo>
                      <a:lnTo>
                        <a:pt x="3716" y="374"/>
                      </a:lnTo>
                      <a:lnTo>
                        <a:pt x="3770" y="406"/>
                      </a:lnTo>
                      <a:lnTo>
                        <a:pt x="3822" y="440"/>
                      </a:lnTo>
                      <a:lnTo>
                        <a:pt x="3872" y="476"/>
                      </a:lnTo>
                      <a:lnTo>
                        <a:pt x="3922" y="512"/>
                      </a:lnTo>
                      <a:lnTo>
                        <a:pt x="3972" y="550"/>
                      </a:lnTo>
                      <a:lnTo>
                        <a:pt x="4020" y="590"/>
                      </a:lnTo>
                      <a:lnTo>
                        <a:pt x="4068" y="630"/>
                      </a:lnTo>
                      <a:lnTo>
                        <a:pt x="4114" y="670"/>
                      </a:lnTo>
                      <a:lnTo>
                        <a:pt x="4160" y="712"/>
                      </a:lnTo>
                      <a:lnTo>
                        <a:pt x="4204" y="756"/>
                      </a:lnTo>
                      <a:lnTo>
                        <a:pt x="4246" y="800"/>
                      </a:lnTo>
                      <a:lnTo>
                        <a:pt x="4288" y="846"/>
                      </a:lnTo>
                      <a:lnTo>
                        <a:pt x="4330" y="892"/>
                      </a:lnTo>
                      <a:lnTo>
                        <a:pt x="4370" y="940"/>
                      </a:lnTo>
                      <a:lnTo>
                        <a:pt x="4410" y="988"/>
                      </a:lnTo>
                      <a:lnTo>
                        <a:pt x="4446" y="1036"/>
                      </a:lnTo>
                      <a:lnTo>
                        <a:pt x="4484" y="1086"/>
                      </a:lnTo>
                      <a:lnTo>
                        <a:pt x="4518" y="1138"/>
                      </a:lnTo>
                      <a:lnTo>
                        <a:pt x="4552" y="1190"/>
                      </a:lnTo>
                      <a:lnTo>
                        <a:pt x="4586" y="1242"/>
                      </a:lnTo>
                      <a:lnTo>
                        <a:pt x="4618" y="1296"/>
                      </a:lnTo>
                      <a:lnTo>
                        <a:pt x="4648" y="1350"/>
                      </a:lnTo>
                      <a:lnTo>
                        <a:pt x="4678" y="1406"/>
                      </a:lnTo>
                      <a:lnTo>
                        <a:pt x="4706" y="1462"/>
                      </a:lnTo>
                      <a:lnTo>
                        <a:pt x="4732" y="1518"/>
                      </a:lnTo>
                      <a:lnTo>
                        <a:pt x="4756" y="1576"/>
                      </a:lnTo>
                      <a:lnTo>
                        <a:pt x="0" y="157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>
                        <a:alpha val="75294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3" name="Oval 9"/>
                <p:cNvSpPr/>
                <p:nvPr/>
              </p:nvSpPr>
              <p:spPr>
                <a:xfrm>
                  <a:off x="4528800" y="2185560"/>
                  <a:ext cx="262440" cy="237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7abf5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14" name="Group 10"/>
            <p:cNvGrpSpPr/>
            <p:nvPr/>
          </p:nvGrpSpPr>
          <p:grpSpPr>
            <a:xfrm>
              <a:off x="5630760" y="1787400"/>
              <a:ext cx="2368440" cy="3257640"/>
              <a:chOff x="5630760" y="1787400"/>
              <a:chExt cx="2368440" cy="3257640"/>
            </a:xfrm>
          </p:grpSpPr>
          <p:sp>
            <p:nvSpPr>
              <p:cNvPr id="1115" name="Freeform 11"/>
              <p:cNvSpPr/>
              <p:nvPr/>
            </p:nvSpPr>
            <p:spPr>
              <a:xfrm>
                <a:off x="5630760" y="1787400"/>
                <a:ext cx="2368440" cy="3257640"/>
              </a:xfrm>
              <a:custGeom>
                <a:avLst/>
                <a:gdLst/>
                <a:ahLst/>
                <a:rect l="l" t="t" r="r" b="b"/>
                <a:pathLst>
                  <a:path w="1492" h="2052">
                    <a:moveTo>
                      <a:pt x="1492" y="373"/>
                    </a:moveTo>
                    <a:lnTo>
                      <a:pt x="1492" y="373"/>
                    </a:lnTo>
                    <a:lnTo>
                      <a:pt x="1491" y="354"/>
                    </a:lnTo>
                    <a:lnTo>
                      <a:pt x="1488" y="336"/>
                    </a:lnTo>
                    <a:lnTo>
                      <a:pt x="1483" y="316"/>
                    </a:lnTo>
                    <a:lnTo>
                      <a:pt x="1476" y="298"/>
                    </a:lnTo>
                    <a:lnTo>
                      <a:pt x="1469" y="280"/>
                    </a:lnTo>
                    <a:lnTo>
                      <a:pt x="1458" y="262"/>
                    </a:lnTo>
                    <a:lnTo>
                      <a:pt x="1447" y="245"/>
                    </a:lnTo>
                    <a:lnTo>
                      <a:pt x="1434" y="228"/>
                    </a:lnTo>
                    <a:lnTo>
                      <a:pt x="1418" y="211"/>
                    </a:lnTo>
                    <a:lnTo>
                      <a:pt x="1401" y="196"/>
                    </a:lnTo>
                    <a:lnTo>
                      <a:pt x="1385" y="180"/>
                    </a:lnTo>
                    <a:lnTo>
                      <a:pt x="1365" y="165"/>
                    </a:lnTo>
                    <a:lnTo>
                      <a:pt x="1344" y="150"/>
                    </a:lnTo>
                    <a:lnTo>
                      <a:pt x="1321" y="136"/>
                    </a:lnTo>
                    <a:lnTo>
                      <a:pt x="1298" y="122"/>
                    </a:lnTo>
                    <a:lnTo>
                      <a:pt x="1273" y="109"/>
                    </a:lnTo>
                    <a:lnTo>
                      <a:pt x="1247" y="97"/>
                    </a:lnTo>
                    <a:lnTo>
                      <a:pt x="1220" y="86"/>
                    </a:lnTo>
                    <a:lnTo>
                      <a:pt x="1193" y="74"/>
                    </a:lnTo>
                    <a:lnTo>
                      <a:pt x="1163" y="63"/>
                    </a:lnTo>
                    <a:lnTo>
                      <a:pt x="1133" y="54"/>
                    </a:lnTo>
                    <a:lnTo>
                      <a:pt x="1102" y="45"/>
                    </a:lnTo>
                    <a:lnTo>
                      <a:pt x="1070" y="36"/>
                    </a:lnTo>
                    <a:lnTo>
                      <a:pt x="1036" y="30"/>
                    </a:lnTo>
                    <a:lnTo>
                      <a:pt x="1002" y="22"/>
                    </a:lnTo>
                    <a:lnTo>
                      <a:pt x="967" y="17"/>
                    </a:lnTo>
                    <a:lnTo>
                      <a:pt x="933" y="12"/>
                    </a:lnTo>
                    <a:lnTo>
                      <a:pt x="896" y="8"/>
                    </a:lnTo>
                    <a:lnTo>
                      <a:pt x="860" y="4"/>
                    </a:lnTo>
                    <a:lnTo>
                      <a:pt x="822" y="1"/>
                    </a:lnTo>
                    <a:lnTo>
                      <a:pt x="785" y="0"/>
                    </a:lnTo>
                    <a:lnTo>
                      <a:pt x="746" y="0"/>
                    </a:lnTo>
                    <a:lnTo>
                      <a:pt x="707" y="0"/>
                    </a:lnTo>
                    <a:lnTo>
                      <a:pt x="670" y="1"/>
                    </a:lnTo>
                    <a:lnTo>
                      <a:pt x="632" y="4"/>
                    </a:lnTo>
                    <a:lnTo>
                      <a:pt x="596" y="8"/>
                    </a:lnTo>
                    <a:lnTo>
                      <a:pt x="560" y="12"/>
                    </a:lnTo>
                    <a:lnTo>
                      <a:pt x="525" y="17"/>
                    </a:lnTo>
                    <a:lnTo>
                      <a:pt x="490" y="22"/>
                    </a:lnTo>
                    <a:lnTo>
                      <a:pt x="456" y="30"/>
                    </a:lnTo>
                    <a:lnTo>
                      <a:pt x="422" y="36"/>
                    </a:lnTo>
                    <a:lnTo>
                      <a:pt x="390" y="45"/>
                    </a:lnTo>
                    <a:lnTo>
                      <a:pt x="359" y="54"/>
                    </a:lnTo>
                    <a:lnTo>
                      <a:pt x="329" y="63"/>
                    </a:lnTo>
                    <a:lnTo>
                      <a:pt x="299" y="74"/>
                    </a:lnTo>
                    <a:lnTo>
                      <a:pt x="272" y="86"/>
                    </a:lnTo>
                    <a:lnTo>
                      <a:pt x="245" y="97"/>
                    </a:lnTo>
                    <a:lnTo>
                      <a:pt x="219" y="109"/>
                    </a:lnTo>
                    <a:lnTo>
                      <a:pt x="194" y="122"/>
                    </a:lnTo>
                    <a:lnTo>
                      <a:pt x="171" y="136"/>
                    </a:lnTo>
                    <a:lnTo>
                      <a:pt x="148" y="150"/>
                    </a:lnTo>
                    <a:lnTo>
                      <a:pt x="127" y="165"/>
                    </a:lnTo>
                    <a:lnTo>
                      <a:pt x="107" y="180"/>
                    </a:lnTo>
                    <a:lnTo>
                      <a:pt x="91" y="196"/>
                    </a:lnTo>
                    <a:lnTo>
                      <a:pt x="74" y="211"/>
                    </a:lnTo>
                    <a:lnTo>
                      <a:pt x="58" y="228"/>
                    </a:lnTo>
                    <a:lnTo>
                      <a:pt x="45" y="245"/>
                    </a:lnTo>
                    <a:lnTo>
                      <a:pt x="34" y="262"/>
                    </a:lnTo>
                    <a:lnTo>
                      <a:pt x="23" y="280"/>
                    </a:lnTo>
                    <a:lnTo>
                      <a:pt x="16" y="298"/>
                    </a:lnTo>
                    <a:lnTo>
                      <a:pt x="9" y="316"/>
                    </a:lnTo>
                    <a:lnTo>
                      <a:pt x="4" y="336"/>
                    </a:lnTo>
                    <a:lnTo>
                      <a:pt x="1" y="354"/>
                    </a:lnTo>
                    <a:lnTo>
                      <a:pt x="0" y="373"/>
                    </a:lnTo>
                    <a:lnTo>
                      <a:pt x="1" y="396"/>
                    </a:lnTo>
                    <a:lnTo>
                      <a:pt x="6" y="420"/>
                    </a:lnTo>
                    <a:lnTo>
                      <a:pt x="5" y="420"/>
                    </a:lnTo>
                    <a:lnTo>
                      <a:pt x="376" y="1889"/>
                    </a:lnTo>
                    <a:lnTo>
                      <a:pt x="382" y="1906"/>
                    </a:lnTo>
                    <a:lnTo>
                      <a:pt x="391" y="1922"/>
                    </a:lnTo>
                    <a:lnTo>
                      <a:pt x="403" y="1938"/>
                    </a:lnTo>
                    <a:lnTo>
                      <a:pt x="417" y="1954"/>
                    </a:lnTo>
                    <a:lnTo>
                      <a:pt x="434" y="1968"/>
                    </a:lnTo>
                    <a:lnTo>
                      <a:pt x="453" y="1981"/>
                    </a:lnTo>
                    <a:lnTo>
                      <a:pt x="474" y="1994"/>
                    </a:lnTo>
                    <a:lnTo>
                      <a:pt x="499" y="2005"/>
                    </a:lnTo>
                    <a:lnTo>
                      <a:pt x="525" y="2016"/>
                    </a:lnTo>
                    <a:lnTo>
                      <a:pt x="552" y="2025"/>
                    </a:lnTo>
                    <a:lnTo>
                      <a:pt x="580" y="2033"/>
                    </a:lnTo>
                    <a:lnTo>
                      <a:pt x="611" y="2039"/>
                    </a:lnTo>
                    <a:lnTo>
                      <a:pt x="644" y="2044"/>
                    </a:lnTo>
                    <a:lnTo>
                      <a:pt x="676" y="2048"/>
                    </a:lnTo>
                    <a:lnTo>
                      <a:pt x="711" y="2051"/>
                    </a:lnTo>
                    <a:lnTo>
                      <a:pt x="746" y="2052"/>
                    </a:lnTo>
                    <a:lnTo>
                      <a:pt x="781" y="2051"/>
                    </a:lnTo>
                    <a:lnTo>
                      <a:pt x="816" y="2048"/>
                    </a:lnTo>
                    <a:lnTo>
                      <a:pt x="848" y="2044"/>
                    </a:lnTo>
                    <a:lnTo>
                      <a:pt x="881" y="2039"/>
                    </a:lnTo>
                    <a:lnTo>
                      <a:pt x="912" y="2033"/>
                    </a:lnTo>
                    <a:lnTo>
                      <a:pt x="940" y="2025"/>
                    </a:lnTo>
                    <a:lnTo>
                      <a:pt x="967" y="2016"/>
                    </a:lnTo>
                    <a:lnTo>
                      <a:pt x="993" y="2005"/>
                    </a:lnTo>
                    <a:lnTo>
                      <a:pt x="1018" y="1994"/>
                    </a:lnTo>
                    <a:lnTo>
                      <a:pt x="1039" y="1981"/>
                    </a:lnTo>
                    <a:lnTo>
                      <a:pt x="1058" y="1968"/>
                    </a:lnTo>
                    <a:lnTo>
                      <a:pt x="1075" y="1954"/>
                    </a:lnTo>
                    <a:lnTo>
                      <a:pt x="1089" y="1938"/>
                    </a:lnTo>
                    <a:lnTo>
                      <a:pt x="1101" y="1922"/>
                    </a:lnTo>
                    <a:lnTo>
                      <a:pt x="1110" y="1906"/>
                    </a:lnTo>
                    <a:lnTo>
                      <a:pt x="1116" y="1889"/>
                    </a:lnTo>
                    <a:lnTo>
                      <a:pt x="1487" y="420"/>
                    </a:lnTo>
                    <a:lnTo>
                      <a:pt x="1486" y="420"/>
                    </a:lnTo>
                    <a:lnTo>
                      <a:pt x="1491" y="396"/>
                    </a:lnTo>
                    <a:lnTo>
                      <a:pt x="1492" y="37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50000">
                    <a:srgbClr val="5b5b5b"/>
                  </a:gs>
                  <a:gs pos="100000">
                    <a:srgbClr val="b2b2b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Freeform 12"/>
              <p:cNvSpPr/>
              <p:nvPr/>
            </p:nvSpPr>
            <p:spPr>
              <a:xfrm>
                <a:off x="5630760" y="1787400"/>
                <a:ext cx="2368440" cy="1184400"/>
              </a:xfrm>
              <a:custGeom>
                <a:avLst/>
                <a:gdLst/>
                <a:ahLst/>
                <a:rect l="l" t="t" r="r" b="b"/>
                <a:pathLst>
                  <a:path w="1492" h="746">
                    <a:moveTo>
                      <a:pt x="746" y="0"/>
                    </a:moveTo>
                    <a:lnTo>
                      <a:pt x="746" y="0"/>
                    </a:lnTo>
                    <a:lnTo>
                      <a:pt x="707" y="0"/>
                    </a:lnTo>
                    <a:lnTo>
                      <a:pt x="670" y="1"/>
                    </a:lnTo>
                    <a:lnTo>
                      <a:pt x="632" y="4"/>
                    </a:lnTo>
                    <a:lnTo>
                      <a:pt x="596" y="8"/>
                    </a:lnTo>
                    <a:lnTo>
                      <a:pt x="560" y="12"/>
                    </a:lnTo>
                    <a:lnTo>
                      <a:pt x="525" y="17"/>
                    </a:lnTo>
                    <a:lnTo>
                      <a:pt x="490" y="22"/>
                    </a:lnTo>
                    <a:lnTo>
                      <a:pt x="456" y="30"/>
                    </a:lnTo>
                    <a:lnTo>
                      <a:pt x="422" y="36"/>
                    </a:lnTo>
                    <a:lnTo>
                      <a:pt x="390" y="45"/>
                    </a:lnTo>
                    <a:lnTo>
                      <a:pt x="359" y="54"/>
                    </a:lnTo>
                    <a:lnTo>
                      <a:pt x="329" y="63"/>
                    </a:lnTo>
                    <a:lnTo>
                      <a:pt x="299" y="74"/>
                    </a:lnTo>
                    <a:lnTo>
                      <a:pt x="272" y="86"/>
                    </a:lnTo>
                    <a:lnTo>
                      <a:pt x="245" y="97"/>
                    </a:lnTo>
                    <a:lnTo>
                      <a:pt x="219" y="109"/>
                    </a:lnTo>
                    <a:lnTo>
                      <a:pt x="194" y="122"/>
                    </a:lnTo>
                    <a:lnTo>
                      <a:pt x="171" y="136"/>
                    </a:lnTo>
                    <a:lnTo>
                      <a:pt x="148" y="150"/>
                    </a:lnTo>
                    <a:lnTo>
                      <a:pt x="127" y="165"/>
                    </a:lnTo>
                    <a:lnTo>
                      <a:pt x="107" y="180"/>
                    </a:lnTo>
                    <a:lnTo>
                      <a:pt x="91" y="196"/>
                    </a:lnTo>
                    <a:lnTo>
                      <a:pt x="74" y="211"/>
                    </a:lnTo>
                    <a:lnTo>
                      <a:pt x="58" y="228"/>
                    </a:lnTo>
                    <a:lnTo>
                      <a:pt x="45" y="245"/>
                    </a:lnTo>
                    <a:lnTo>
                      <a:pt x="34" y="262"/>
                    </a:lnTo>
                    <a:lnTo>
                      <a:pt x="23" y="280"/>
                    </a:lnTo>
                    <a:lnTo>
                      <a:pt x="16" y="298"/>
                    </a:lnTo>
                    <a:lnTo>
                      <a:pt x="9" y="316"/>
                    </a:lnTo>
                    <a:lnTo>
                      <a:pt x="4" y="336"/>
                    </a:lnTo>
                    <a:lnTo>
                      <a:pt x="1" y="354"/>
                    </a:lnTo>
                    <a:lnTo>
                      <a:pt x="0" y="373"/>
                    </a:lnTo>
                    <a:lnTo>
                      <a:pt x="1" y="393"/>
                    </a:lnTo>
                    <a:lnTo>
                      <a:pt x="4" y="411"/>
                    </a:lnTo>
                    <a:lnTo>
                      <a:pt x="9" y="430"/>
                    </a:lnTo>
                    <a:lnTo>
                      <a:pt x="16" y="448"/>
                    </a:lnTo>
                    <a:lnTo>
                      <a:pt x="23" y="466"/>
                    </a:lnTo>
                    <a:lnTo>
                      <a:pt x="34" y="485"/>
                    </a:lnTo>
                    <a:lnTo>
                      <a:pt x="45" y="501"/>
                    </a:lnTo>
                    <a:lnTo>
                      <a:pt x="58" y="518"/>
                    </a:lnTo>
                    <a:lnTo>
                      <a:pt x="74" y="535"/>
                    </a:lnTo>
                    <a:lnTo>
                      <a:pt x="91" y="551"/>
                    </a:lnTo>
                    <a:lnTo>
                      <a:pt x="107" y="566"/>
                    </a:lnTo>
                    <a:lnTo>
                      <a:pt x="127" y="582"/>
                    </a:lnTo>
                    <a:lnTo>
                      <a:pt x="148" y="596"/>
                    </a:lnTo>
                    <a:lnTo>
                      <a:pt x="171" y="610"/>
                    </a:lnTo>
                    <a:lnTo>
                      <a:pt x="194" y="624"/>
                    </a:lnTo>
                    <a:lnTo>
                      <a:pt x="219" y="637"/>
                    </a:lnTo>
                    <a:lnTo>
                      <a:pt x="245" y="649"/>
                    </a:lnTo>
                    <a:lnTo>
                      <a:pt x="272" y="661"/>
                    </a:lnTo>
                    <a:lnTo>
                      <a:pt x="299" y="672"/>
                    </a:lnTo>
                    <a:lnTo>
                      <a:pt x="329" y="683"/>
                    </a:lnTo>
                    <a:lnTo>
                      <a:pt x="359" y="692"/>
                    </a:lnTo>
                    <a:lnTo>
                      <a:pt x="390" y="701"/>
                    </a:lnTo>
                    <a:lnTo>
                      <a:pt x="422" y="710"/>
                    </a:lnTo>
                    <a:lnTo>
                      <a:pt x="456" y="716"/>
                    </a:lnTo>
                    <a:lnTo>
                      <a:pt x="490" y="724"/>
                    </a:lnTo>
                    <a:lnTo>
                      <a:pt x="525" y="729"/>
                    </a:lnTo>
                    <a:lnTo>
                      <a:pt x="560" y="735"/>
                    </a:lnTo>
                    <a:lnTo>
                      <a:pt x="596" y="738"/>
                    </a:lnTo>
                    <a:lnTo>
                      <a:pt x="632" y="742"/>
                    </a:lnTo>
                    <a:lnTo>
                      <a:pt x="670" y="745"/>
                    </a:lnTo>
                    <a:lnTo>
                      <a:pt x="707" y="746"/>
                    </a:lnTo>
                    <a:lnTo>
                      <a:pt x="746" y="746"/>
                    </a:lnTo>
                    <a:lnTo>
                      <a:pt x="785" y="746"/>
                    </a:lnTo>
                    <a:lnTo>
                      <a:pt x="822" y="745"/>
                    </a:lnTo>
                    <a:lnTo>
                      <a:pt x="860" y="742"/>
                    </a:lnTo>
                    <a:lnTo>
                      <a:pt x="896" y="738"/>
                    </a:lnTo>
                    <a:lnTo>
                      <a:pt x="933" y="735"/>
                    </a:lnTo>
                    <a:lnTo>
                      <a:pt x="967" y="729"/>
                    </a:lnTo>
                    <a:lnTo>
                      <a:pt x="1002" y="724"/>
                    </a:lnTo>
                    <a:lnTo>
                      <a:pt x="1036" y="716"/>
                    </a:lnTo>
                    <a:lnTo>
                      <a:pt x="1070" y="710"/>
                    </a:lnTo>
                    <a:lnTo>
                      <a:pt x="1102" y="701"/>
                    </a:lnTo>
                    <a:lnTo>
                      <a:pt x="1133" y="692"/>
                    </a:lnTo>
                    <a:lnTo>
                      <a:pt x="1163" y="683"/>
                    </a:lnTo>
                    <a:lnTo>
                      <a:pt x="1193" y="672"/>
                    </a:lnTo>
                    <a:lnTo>
                      <a:pt x="1220" y="661"/>
                    </a:lnTo>
                    <a:lnTo>
                      <a:pt x="1247" y="649"/>
                    </a:lnTo>
                    <a:lnTo>
                      <a:pt x="1273" y="637"/>
                    </a:lnTo>
                    <a:lnTo>
                      <a:pt x="1298" y="624"/>
                    </a:lnTo>
                    <a:lnTo>
                      <a:pt x="1321" y="610"/>
                    </a:lnTo>
                    <a:lnTo>
                      <a:pt x="1344" y="596"/>
                    </a:lnTo>
                    <a:lnTo>
                      <a:pt x="1365" y="582"/>
                    </a:lnTo>
                    <a:lnTo>
                      <a:pt x="1385" y="566"/>
                    </a:lnTo>
                    <a:lnTo>
                      <a:pt x="1401" y="551"/>
                    </a:lnTo>
                    <a:lnTo>
                      <a:pt x="1418" y="535"/>
                    </a:lnTo>
                    <a:lnTo>
                      <a:pt x="1434" y="518"/>
                    </a:lnTo>
                    <a:lnTo>
                      <a:pt x="1447" y="501"/>
                    </a:lnTo>
                    <a:lnTo>
                      <a:pt x="1458" y="485"/>
                    </a:lnTo>
                    <a:lnTo>
                      <a:pt x="1469" y="466"/>
                    </a:lnTo>
                    <a:lnTo>
                      <a:pt x="1476" y="448"/>
                    </a:lnTo>
                    <a:lnTo>
                      <a:pt x="1483" y="430"/>
                    </a:lnTo>
                    <a:lnTo>
                      <a:pt x="1488" y="411"/>
                    </a:lnTo>
                    <a:lnTo>
                      <a:pt x="1491" y="393"/>
                    </a:lnTo>
                    <a:lnTo>
                      <a:pt x="1492" y="373"/>
                    </a:lnTo>
                    <a:lnTo>
                      <a:pt x="1491" y="354"/>
                    </a:lnTo>
                    <a:lnTo>
                      <a:pt x="1488" y="336"/>
                    </a:lnTo>
                    <a:lnTo>
                      <a:pt x="1483" y="316"/>
                    </a:lnTo>
                    <a:lnTo>
                      <a:pt x="1476" y="298"/>
                    </a:lnTo>
                    <a:lnTo>
                      <a:pt x="1469" y="280"/>
                    </a:lnTo>
                    <a:lnTo>
                      <a:pt x="1458" y="262"/>
                    </a:lnTo>
                    <a:lnTo>
                      <a:pt x="1447" y="245"/>
                    </a:lnTo>
                    <a:lnTo>
                      <a:pt x="1434" y="228"/>
                    </a:lnTo>
                    <a:lnTo>
                      <a:pt x="1418" y="211"/>
                    </a:lnTo>
                    <a:lnTo>
                      <a:pt x="1401" y="196"/>
                    </a:lnTo>
                    <a:lnTo>
                      <a:pt x="1385" y="180"/>
                    </a:lnTo>
                    <a:lnTo>
                      <a:pt x="1365" y="165"/>
                    </a:lnTo>
                    <a:lnTo>
                      <a:pt x="1344" y="150"/>
                    </a:lnTo>
                    <a:lnTo>
                      <a:pt x="1321" y="136"/>
                    </a:lnTo>
                    <a:lnTo>
                      <a:pt x="1298" y="122"/>
                    </a:lnTo>
                    <a:lnTo>
                      <a:pt x="1273" y="109"/>
                    </a:lnTo>
                    <a:lnTo>
                      <a:pt x="1247" y="97"/>
                    </a:lnTo>
                    <a:lnTo>
                      <a:pt x="1220" y="86"/>
                    </a:lnTo>
                    <a:lnTo>
                      <a:pt x="1193" y="74"/>
                    </a:lnTo>
                    <a:lnTo>
                      <a:pt x="1163" y="63"/>
                    </a:lnTo>
                    <a:lnTo>
                      <a:pt x="1133" y="54"/>
                    </a:lnTo>
                    <a:lnTo>
                      <a:pt x="1102" y="45"/>
                    </a:lnTo>
                    <a:lnTo>
                      <a:pt x="1070" y="36"/>
                    </a:lnTo>
                    <a:lnTo>
                      <a:pt x="1036" y="30"/>
                    </a:lnTo>
                    <a:lnTo>
                      <a:pt x="1002" y="22"/>
                    </a:lnTo>
                    <a:lnTo>
                      <a:pt x="967" y="17"/>
                    </a:lnTo>
                    <a:lnTo>
                      <a:pt x="933" y="12"/>
                    </a:lnTo>
                    <a:lnTo>
                      <a:pt x="896" y="8"/>
                    </a:lnTo>
                    <a:lnTo>
                      <a:pt x="860" y="4"/>
                    </a:lnTo>
                    <a:lnTo>
                      <a:pt x="822" y="1"/>
                    </a:lnTo>
                    <a:lnTo>
                      <a:pt x="785" y="0"/>
                    </a:lnTo>
                    <a:lnTo>
                      <a:pt x="746" y="0"/>
                    </a:lnTo>
                    <a:close/>
                    <a:moveTo>
                      <a:pt x="746" y="723"/>
                    </a:moveTo>
                    <a:lnTo>
                      <a:pt x="746" y="723"/>
                    </a:lnTo>
                    <a:lnTo>
                      <a:pt x="710" y="723"/>
                    </a:lnTo>
                    <a:lnTo>
                      <a:pt x="675" y="722"/>
                    </a:lnTo>
                    <a:lnTo>
                      <a:pt x="640" y="719"/>
                    </a:lnTo>
                    <a:lnTo>
                      <a:pt x="605" y="716"/>
                    </a:lnTo>
                    <a:lnTo>
                      <a:pt x="571" y="713"/>
                    </a:lnTo>
                    <a:lnTo>
                      <a:pt x="537" y="707"/>
                    </a:lnTo>
                    <a:lnTo>
                      <a:pt x="505" y="702"/>
                    </a:lnTo>
                    <a:lnTo>
                      <a:pt x="474" y="696"/>
                    </a:lnTo>
                    <a:lnTo>
                      <a:pt x="443" y="689"/>
                    </a:lnTo>
                    <a:lnTo>
                      <a:pt x="413" y="681"/>
                    </a:lnTo>
                    <a:lnTo>
                      <a:pt x="383" y="672"/>
                    </a:lnTo>
                    <a:lnTo>
                      <a:pt x="355" y="663"/>
                    </a:lnTo>
                    <a:lnTo>
                      <a:pt x="328" y="654"/>
                    </a:lnTo>
                    <a:lnTo>
                      <a:pt x="302" y="644"/>
                    </a:lnTo>
                    <a:lnTo>
                      <a:pt x="276" y="632"/>
                    </a:lnTo>
                    <a:lnTo>
                      <a:pt x="251" y="621"/>
                    </a:lnTo>
                    <a:lnTo>
                      <a:pt x="228" y="609"/>
                    </a:lnTo>
                    <a:lnTo>
                      <a:pt x="206" y="596"/>
                    </a:lnTo>
                    <a:lnTo>
                      <a:pt x="185" y="583"/>
                    </a:lnTo>
                    <a:lnTo>
                      <a:pt x="166" y="569"/>
                    </a:lnTo>
                    <a:lnTo>
                      <a:pt x="148" y="554"/>
                    </a:lnTo>
                    <a:lnTo>
                      <a:pt x="131" y="540"/>
                    </a:lnTo>
                    <a:lnTo>
                      <a:pt x="115" y="525"/>
                    </a:lnTo>
                    <a:lnTo>
                      <a:pt x="101" y="509"/>
                    </a:lnTo>
                    <a:lnTo>
                      <a:pt x="89" y="494"/>
                    </a:lnTo>
                    <a:lnTo>
                      <a:pt x="78" y="477"/>
                    </a:lnTo>
                    <a:lnTo>
                      <a:pt x="69" y="461"/>
                    </a:lnTo>
                    <a:lnTo>
                      <a:pt x="61" y="444"/>
                    </a:lnTo>
                    <a:lnTo>
                      <a:pt x="54" y="426"/>
                    </a:lnTo>
                    <a:lnTo>
                      <a:pt x="51" y="409"/>
                    </a:lnTo>
                    <a:lnTo>
                      <a:pt x="48" y="391"/>
                    </a:lnTo>
                    <a:lnTo>
                      <a:pt x="47" y="373"/>
                    </a:lnTo>
                    <a:lnTo>
                      <a:pt x="48" y="355"/>
                    </a:lnTo>
                    <a:lnTo>
                      <a:pt x="51" y="337"/>
                    </a:lnTo>
                    <a:lnTo>
                      <a:pt x="54" y="320"/>
                    </a:lnTo>
                    <a:lnTo>
                      <a:pt x="61" y="302"/>
                    </a:lnTo>
                    <a:lnTo>
                      <a:pt x="69" y="285"/>
                    </a:lnTo>
                    <a:lnTo>
                      <a:pt x="78" y="269"/>
                    </a:lnTo>
                    <a:lnTo>
                      <a:pt x="89" y="253"/>
                    </a:lnTo>
                    <a:lnTo>
                      <a:pt x="101" y="237"/>
                    </a:lnTo>
                    <a:lnTo>
                      <a:pt x="115" y="222"/>
                    </a:lnTo>
                    <a:lnTo>
                      <a:pt x="131" y="206"/>
                    </a:lnTo>
                    <a:lnTo>
                      <a:pt x="148" y="192"/>
                    </a:lnTo>
                    <a:lnTo>
                      <a:pt x="166" y="177"/>
                    </a:lnTo>
                    <a:lnTo>
                      <a:pt x="185" y="163"/>
                    </a:lnTo>
                    <a:lnTo>
                      <a:pt x="206" y="150"/>
                    </a:lnTo>
                    <a:lnTo>
                      <a:pt x="228" y="137"/>
                    </a:lnTo>
                    <a:lnTo>
                      <a:pt x="251" y="126"/>
                    </a:lnTo>
                    <a:lnTo>
                      <a:pt x="276" y="114"/>
                    </a:lnTo>
                    <a:lnTo>
                      <a:pt x="302" y="102"/>
                    </a:lnTo>
                    <a:lnTo>
                      <a:pt x="328" y="92"/>
                    </a:lnTo>
                    <a:lnTo>
                      <a:pt x="355" y="83"/>
                    </a:lnTo>
                    <a:lnTo>
                      <a:pt x="383" y="74"/>
                    </a:lnTo>
                    <a:lnTo>
                      <a:pt x="413" y="65"/>
                    </a:lnTo>
                    <a:lnTo>
                      <a:pt x="443" y="57"/>
                    </a:lnTo>
                    <a:lnTo>
                      <a:pt x="474" y="51"/>
                    </a:lnTo>
                    <a:lnTo>
                      <a:pt x="505" y="44"/>
                    </a:lnTo>
                    <a:lnTo>
                      <a:pt x="537" y="39"/>
                    </a:lnTo>
                    <a:lnTo>
                      <a:pt x="571" y="34"/>
                    </a:lnTo>
                    <a:lnTo>
                      <a:pt x="605" y="30"/>
                    </a:lnTo>
                    <a:lnTo>
                      <a:pt x="640" y="27"/>
                    </a:lnTo>
                    <a:lnTo>
                      <a:pt x="675" y="25"/>
                    </a:lnTo>
                    <a:lnTo>
                      <a:pt x="710" y="23"/>
                    </a:lnTo>
                    <a:lnTo>
                      <a:pt x="746" y="23"/>
                    </a:lnTo>
                    <a:lnTo>
                      <a:pt x="782" y="23"/>
                    </a:lnTo>
                    <a:lnTo>
                      <a:pt x="817" y="25"/>
                    </a:lnTo>
                    <a:lnTo>
                      <a:pt x="852" y="27"/>
                    </a:lnTo>
                    <a:lnTo>
                      <a:pt x="887" y="30"/>
                    </a:lnTo>
                    <a:lnTo>
                      <a:pt x="921" y="34"/>
                    </a:lnTo>
                    <a:lnTo>
                      <a:pt x="955" y="39"/>
                    </a:lnTo>
                    <a:lnTo>
                      <a:pt x="987" y="44"/>
                    </a:lnTo>
                    <a:lnTo>
                      <a:pt x="1018" y="51"/>
                    </a:lnTo>
                    <a:lnTo>
                      <a:pt x="1049" y="57"/>
                    </a:lnTo>
                    <a:lnTo>
                      <a:pt x="1079" y="65"/>
                    </a:lnTo>
                    <a:lnTo>
                      <a:pt x="1109" y="74"/>
                    </a:lnTo>
                    <a:lnTo>
                      <a:pt x="1137" y="83"/>
                    </a:lnTo>
                    <a:lnTo>
                      <a:pt x="1164" y="92"/>
                    </a:lnTo>
                    <a:lnTo>
                      <a:pt x="1190" y="102"/>
                    </a:lnTo>
                    <a:lnTo>
                      <a:pt x="1216" y="114"/>
                    </a:lnTo>
                    <a:lnTo>
                      <a:pt x="1241" y="126"/>
                    </a:lnTo>
                    <a:lnTo>
                      <a:pt x="1264" y="137"/>
                    </a:lnTo>
                    <a:lnTo>
                      <a:pt x="1286" y="150"/>
                    </a:lnTo>
                    <a:lnTo>
                      <a:pt x="1307" y="163"/>
                    </a:lnTo>
                    <a:lnTo>
                      <a:pt x="1326" y="177"/>
                    </a:lnTo>
                    <a:lnTo>
                      <a:pt x="1344" y="192"/>
                    </a:lnTo>
                    <a:lnTo>
                      <a:pt x="1361" y="206"/>
                    </a:lnTo>
                    <a:lnTo>
                      <a:pt x="1377" y="222"/>
                    </a:lnTo>
                    <a:lnTo>
                      <a:pt x="1391" y="237"/>
                    </a:lnTo>
                    <a:lnTo>
                      <a:pt x="1403" y="253"/>
                    </a:lnTo>
                    <a:lnTo>
                      <a:pt x="1414" y="269"/>
                    </a:lnTo>
                    <a:lnTo>
                      <a:pt x="1423" y="285"/>
                    </a:lnTo>
                    <a:lnTo>
                      <a:pt x="1431" y="302"/>
                    </a:lnTo>
                    <a:lnTo>
                      <a:pt x="1438" y="320"/>
                    </a:lnTo>
                    <a:lnTo>
                      <a:pt x="1441" y="337"/>
                    </a:lnTo>
                    <a:lnTo>
                      <a:pt x="1444" y="355"/>
                    </a:lnTo>
                    <a:lnTo>
                      <a:pt x="1445" y="373"/>
                    </a:lnTo>
                    <a:lnTo>
                      <a:pt x="1444" y="391"/>
                    </a:lnTo>
                    <a:lnTo>
                      <a:pt x="1441" y="409"/>
                    </a:lnTo>
                    <a:lnTo>
                      <a:pt x="1438" y="426"/>
                    </a:lnTo>
                    <a:lnTo>
                      <a:pt x="1431" y="444"/>
                    </a:lnTo>
                    <a:lnTo>
                      <a:pt x="1423" y="461"/>
                    </a:lnTo>
                    <a:lnTo>
                      <a:pt x="1414" y="477"/>
                    </a:lnTo>
                    <a:lnTo>
                      <a:pt x="1403" y="494"/>
                    </a:lnTo>
                    <a:lnTo>
                      <a:pt x="1391" y="509"/>
                    </a:lnTo>
                    <a:lnTo>
                      <a:pt x="1377" y="525"/>
                    </a:lnTo>
                    <a:lnTo>
                      <a:pt x="1361" y="540"/>
                    </a:lnTo>
                    <a:lnTo>
                      <a:pt x="1344" y="554"/>
                    </a:lnTo>
                    <a:lnTo>
                      <a:pt x="1326" y="569"/>
                    </a:lnTo>
                    <a:lnTo>
                      <a:pt x="1307" y="583"/>
                    </a:lnTo>
                    <a:lnTo>
                      <a:pt x="1286" y="596"/>
                    </a:lnTo>
                    <a:lnTo>
                      <a:pt x="1264" y="609"/>
                    </a:lnTo>
                    <a:lnTo>
                      <a:pt x="1241" y="621"/>
                    </a:lnTo>
                    <a:lnTo>
                      <a:pt x="1216" y="632"/>
                    </a:lnTo>
                    <a:lnTo>
                      <a:pt x="1190" y="644"/>
                    </a:lnTo>
                    <a:lnTo>
                      <a:pt x="1164" y="654"/>
                    </a:lnTo>
                    <a:lnTo>
                      <a:pt x="1137" y="663"/>
                    </a:lnTo>
                    <a:lnTo>
                      <a:pt x="1109" y="672"/>
                    </a:lnTo>
                    <a:lnTo>
                      <a:pt x="1079" y="681"/>
                    </a:lnTo>
                    <a:lnTo>
                      <a:pt x="1049" y="689"/>
                    </a:lnTo>
                    <a:lnTo>
                      <a:pt x="1018" y="696"/>
                    </a:lnTo>
                    <a:lnTo>
                      <a:pt x="987" y="702"/>
                    </a:lnTo>
                    <a:lnTo>
                      <a:pt x="955" y="707"/>
                    </a:lnTo>
                    <a:lnTo>
                      <a:pt x="921" y="713"/>
                    </a:lnTo>
                    <a:lnTo>
                      <a:pt x="887" y="716"/>
                    </a:lnTo>
                    <a:lnTo>
                      <a:pt x="852" y="719"/>
                    </a:lnTo>
                    <a:lnTo>
                      <a:pt x="817" y="722"/>
                    </a:lnTo>
                    <a:lnTo>
                      <a:pt x="782" y="723"/>
                    </a:lnTo>
                    <a:lnTo>
                      <a:pt x="746" y="723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Freeform 13"/>
              <p:cNvSpPr/>
              <p:nvPr/>
            </p:nvSpPr>
            <p:spPr>
              <a:xfrm>
                <a:off x="5705280" y="1823760"/>
                <a:ext cx="2219400" cy="1111320"/>
              </a:xfrm>
              <a:custGeom>
                <a:avLst/>
                <a:gdLst/>
                <a:ahLst/>
                <a:rect l="l" t="t" r="r" b="b"/>
                <a:pathLst>
                  <a:path w="1398" h="700">
                    <a:moveTo>
                      <a:pt x="1398" y="350"/>
                    </a:moveTo>
                    <a:lnTo>
                      <a:pt x="1398" y="350"/>
                    </a:lnTo>
                    <a:lnTo>
                      <a:pt x="1397" y="368"/>
                    </a:lnTo>
                    <a:lnTo>
                      <a:pt x="1394" y="386"/>
                    </a:lnTo>
                    <a:lnTo>
                      <a:pt x="1391" y="403"/>
                    </a:lnTo>
                    <a:lnTo>
                      <a:pt x="1384" y="421"/>
                    </a:lnTo>
                    <a:lnTo>
                      <a:pt x="1376" y="438"/>
                    </a:lnTo>
                    <a:lnTo>
                      <a:pt x="1367" y="454"/>
                    </a:lnTo>
                    <a:lnTo>
                      <a:pt x="1356" y="471"/>
                    </a:lnTo>
                    <a:lnTo>
                      <a:pt x="1344" y="486"/>
                    </a:lnTo>
                    <a:lnTo>
                      <a:pt x="1330" y="502"/>
                    </a:lnTo>
                    <a:lnTo>
                      <a:pt x="1314" y="517"/>
                    </a:lnTo>
                    <a:lnTo>
                      <a:pt x="1297" y="531"/>
                    </a:lnTo>
                    <a:lnTo>
                      <a:pt x="1279" y="546"/>
                    </a:lnTo>
                    <a:lnTo>
                      <a:pt x="1260" y="560"/>
                    </a:lnTo>
                    <a:lnTo>
                      <a:pt x="1239" y="573"/>
                    </a:lnTo>
                    <a:lnTo>
                      <a:pt x="1217" y="586"/>
                    </a:lnTo>
                    <a:lnTo>
                      <a:pt x="1194" y="598"/>
                    </a:lnTo>
                    <a:lnTo>
                      <a:pt x="1169" y="609"/>
                    </a:lnTo>
                    <a:lnTo>
                      <a:pt x="1143" y="621"/>
                    </a:lnTo>
                    <a:lnTo>
                      <a:pt x="1117" y="631"/>
                    </a:lnTo>
                    <a:lnTo>
                      <a:pt x="1090" y="640"/>
                    </a:lnTo>
                    <a:lnTo>
                      <a:pt x="1062" y="649"/>
                    </a:lnTo>
                    <a:lnTo>
                      <a:pt x="1032" y="658"/>
                    </a:lnTo>
                    <a:lnTo>
                      <a:pt x="1002" y="666"/>
                    </a:lnTo>
                    <a:lnTo>
                      <a:pt x="971" y="673"/>
                    </a:lnTo>
                    <a:lnTo>
                      <a:pt x="940" y="679"/>
                    </a:lnTo>
                    <a:lnTo>
                      <a:pt x="908" y="684"/>
                    </a:lnTo>
                    <a:lnTo>
                      <a:pt x="874" y="690"/>
                    </a:lnTo>
                    <a:lnTo>
                      <a:pt x="840" y="693"/>
                    </a:lnTo>
                    <a:lnTo>
                      <a:pt x="805" y="696"/>
                    </a:lnTo>
                    <a:lnTo>
                      <a:pt x="770" y="699"/>
                    </a:lnTo>
                    <a:lnTo>
                      <a:pt x="735" y="700"/>
                    </a:lnTo>
                    <a:lnTo>
                      <a:pt x="699" y="700"/>
                    </a:lnTo>
                    <a:lnTo>
                      <a:pt x="663" y="700"/>
                    </a:lnTo>
                    <a:lnTo>
                      <a:pt x="628" y="699"/>
                    </a:lnTo>
                    <a:lnTo>
                      <a:pt x="593" y="696"/>
                    </a:lnTo>
                    <a:lnTo>
                      <a:pt x="558" y="693"/>
                    </a:lnTo>
                    <a:lnTo>
                      <a:pt x="524" y="690"/>
                    </a:lnTo>
                    <a:lnTo>
                      <a:pt x="490" y="684"/>
                    </a:lnTo>
                    <a:lnTo>
                      <a:pt x="458" y="679"/>
                    </a:lnTo>
                    <a:lnTo>
                      <a:pt x="427" y="673"/>
                    </a:lnTo>
                    <a:lnTo>
                      <a:pt x="396" y="666"/>
                    </a:lnTo>
                    <a:lnTo>
                      <a:pt x="366" y="658"/>
                    </a:lnTo>
                    <a:lnTo>
                      <a:pt x="336" y="649"/>
                    </a:lnTo>
                    <a:lnTo>
                      <a:pt x="308" y="640"/>
                    </a:lnTo>
                    <a:lnTo>
                      <a:pt x="281" y="631"/>
                    </a:lnTo>
                    <a:lnTo>
                      <a:pt x="255" y="621"/>
                    </a:lnTo>
                    <a:lnTo>
                      <a:pt x="229" y="609"/>
                    </a:lnTo>
                    <a:lnTo>
                      <a:pt x="204" y="598"/>
                    </a:lnTo>
                    <a:lnTo>
                      <a:pt x="181" y="586"/>
                    </a:lnTo>
                    <a:lnTo>
                      <a:pt x="159" y="573"/>
                    </a:lnTo>
                    <a:lnTo>
                      <a:pt x="138" y="560"/>
                    </a:lnTo>
                    <a:lnTo>
                      <a:pt x="119" y="546"/>
                    </a:lnTo>
                    <a:lnTo>
                      <a:pt x="101" y="531"/>
                    </a:lnTo>
                    <a:lnTo>
                      <a:pt x="84" y="517"/>
                    </a:lnTo>
                    <a:lnTo>
                      <a:pt x="68" y="502"/>
                    </a:lnTo>
                    <a:lnTo>
                      <a:pt x="54" y="486"/>
                    </a:lnTo>
                    <a:lnTo>
                      <a:pt x="42" y="471"/>
                    </a:lnTo>
                    <a:lnTo>
                      <a:pt x="31" y="454"/>
                    </a:lnTo>
                    <a:lnTo>
                      <a:pt x="22" y="438"/>
                    </a:lnTo>
                    <a:lnTo>
                      <a:pt x="14" y="421"/>
                    </a:lnTo>
                    <a:lnTo>
                      <a:pt x="7" y="403"/>
                    </a:lnTo>
                    <a:lnTo>
                      <a:pt x="4" y="386"/>
                    </a:lnTo>
                    <a:lnTo>
                      <a:pt x="1" y="368"/>
                    </a:lnTo>
                    <a:lnTo>
                      <a:pt x="0" y="350"/>
                    </a:lnTo>
                    <a:lnTo>
                      <a:pt x="1" y="332"/>
                    </a:lnTo>
                    <a:lnTo>
                      <a:pt x="4" y="314"/>
                    </a:lnTo>
                    <a:lnTo>
                      <a:pt x="7" y="297"/>
                    </a:lnTo>
                    <a:lnTo>
                      <a:pt x="14" y="279"/>
                    </a:lnTo>
                    <a:lnTo>
                      <a:pt x="22" y="262"/>
                    </a:lnTo>
                    <a:lnTo>
                      <a:pt x="31" y="246"/>
                    </a:lnTo>
                    <a:lnTo>
                      <a:pt x="42" y="230"/>
                    </a:lnTo>
                    <a:lnTo>
                      <a:pt x="54" y="214"/>
                    </a:lnTo>
                    <a:lnTo>
                      <a:pt x="68" y="199"/>
                    </a:lnTo>
                    <a:lnTo>
                      <a:pt x="84" y="183"/>
                    </a:lnTo>
                    <a:lnTo>
                      <a:pt x="101" y="169"/>
                    </a:lnTo>
                    <a:lnTo>
                      <a:pt x="119" y="154"/>
                    </a:lnTo>
                    <a:lnTo>
                      <a:pt x="138" y="140"/>
                    </a:lnTo>
                    <a:lnTo>
                      <a:pt x="159" y="127"/>
                    </a:lnTo>
                    <a:lnTo>
                      <a:pt x="181" y="114"/>
                    </a:lnTo>
                    <a:lnTo>
                      <a:pt x="204" y="103"/>
                    </a:lnTo>
                    <a:lnTo>
                      <a:pt x="229" y="91"/>
                    </a:lnTo>
                    <a:lnTo>
                      <a:pt x="255" y="79"/>
                    </a:lnTo>
                    <a:lnTo>
                      <a:pt x="281" y="69"/>
                    </a:lnTo>
                    <a:lnTo>
                      <a:pt x="308" y="60"/>
                    </a:lnTo>
                    <a:lnTo>
                      <a:pt x="336" y="51"/>
                    </a:lnTo>
                    <a:lnTo>
                      <a:pt x="366" y="42"/>
                    </a:lnTo>
                    <a:lnTo>
                      <a:pt x="396" y="34"/>
                    </a:lnTo>
                    <a:lnTo>
                      <a:pt x="427" y="28"/>
                    </a:lnTo>
                    <a:lnTo>
                      <a:pt x="458" y="21"/>
                    </a:lnTo>
                    <a:lnTo>
                      <a:pt x="490" y="16"/>
                    </a:lnTo>
                    <a:lnTo>
                      <a:pt x="524" y="11"/>
                    </a:lnTo>
                    <a:lnTo>
                      <a:pt x="558" y="7"/>
                    </a:lnTo>
                    <a:lnTo>
                      <a:pt x="593" y="4"/>
                    </a:lnTo>
                    <a:lnTo>
                      <a:pt x="628" y="2"/>
                    </a:lnTo>
                    <a:lnTo>
                      <a:pt x="663" y="0"/>
                    </a:lnTo>
                    <a:lnTo>
                      <a:pt x="699" y="0"/>
                    </a:lnTo>
                    <a:lnTo>
                      <a:pt x="735" y="0"/>
                    </a:lnTo>
                    <a:lnTo>
                      <a:pt x="770" y="2"/>
                    </a:lnTo>
                    <a:lnTo>
                      <a:pt x="805" y="4"/>
                    </a:lnTo>
                    <a:lnTo>
                      <a:pt x="840" y="7"/>
                    </a:lnTo>
                    <a:lnTo>
                      <a:pt x="874" y="11"/>
                    </a:lnTo>
                    <a:lnTo>
                      <a:pt x="908" y="16"/>
                    </a:lnTo>
                    <a:lnTo>
                      <a:pt x="940" y="21"/>
                    </a:lnTo>
                    <a:lnTo>
                      <a:pt x="971" y="28"/>
                    </a:lnTo>
                    <a:lnTo>
                      <a:pt x="1002" y="34"/>
                    </a:lnTo>
                    <a:lnTo>
                      <a:pt x="1032" y="42"/>
                    </a:lnTo>
                    <a:lnTo>
                      <a:pt x="1062" y="51"/>
                    </a:lnTo>
                    <a:lnTo>
                      <a:pt x="1090" y="60"/>
                    </a:lnTo>
                    <a:lnTo>
                      <a:pt x="1117" y="69"/>
                    </a:lnTo>
                    <a:lnTo>
                      <a:pt x="1143" y="79"/>
                    </a:lnTo>
                    <a:lnTo>
                      <a:pt x="1169" y="91"/>
                    </a:lnTo>
                    <a:lnTo>
                      <a:pt x="1194" y="103"/>
                    </a:lnTo>
                    <a:lnTo>
                      <a:pt x="1217" y="114"/>
                    </a:lnTo>
                    <a:lnTo>
                      <a:pt x="1239" y="127"/>
                    </a:lnTo>
                    <a:lnTo>
                      <a:pt x="1260" y="140"/>
                    </a:lnTo>
                    <a:lnTo>
                      <a:pt x="1279" y="154"/>
                    </a:lnTo>
                    <a:lnTo>
                      <a:pt x="1297" y="169"/>
                    </a:lnTo>
                    <a:lnTo>
                      <a:pt x="1314" y="183"/>
                    </a:lnTo>
                    <a:lnTo>
                      <a:pt x="1330" y="199"/>
                    </a:lnTo>
                    <a:lnTo>
                      <a:pt x="1344" y="214"/>
                    </a:lnTo>
                    <a:lnTo>
                      <a:pt x="1356" y="230"/>
                    </a:lnTo>
                    <a:lnTo>
                      <a:pt x="1367" y="246"/>
                    </a:lnTo>
                    <a:lnTo>
                      <a:pt x="1376" y="262"/>
                    </a:lnTo>
                    <a:lnTo>
                      <a:pt x="1384" y="279"/>
                    </a:lnTo>
                    <a:lnTo>
                      <a:pt x="1391" y="297"/>
                    </a:lnTo>
                    <a:lnTo>
                      <a:pt x="1394" y="314"/>
                    </a:lnTo>
                    <a:lnTo>
                      <a:pt x="1397" y="332"/>
                    </a:lnTo>
                    <a:lnTo>
                      <a:pt x="1398" y="3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8" name="Group 14"/>
            <p:cNvGrpSpPr/>
            <p:nvPr/>
          </p:nvGrpSpPr>
          <p:grpSpPr>
            <a:xfrm>
              <a:off x="6820200" y="1503360"/>
              <a:ext cx="1042920" cy="1042920"/>
              <a:chOff x="6820200" y="1503360"/>
              <a:chExt cx="1042920" cy="1042920"/>
            </a:xfrm>
          </p:grpSpPr>
          <p:sp>
            <p:nvSpPr>
              <p:cNvPr id="1119" name="Oval 15"/>
              <p:cNvSpPr/>
              <p:nvPr/>
            </p:nvSpPr>
            <p:spPr>
              <a:xfrm>
                <a:off x="6820200" y="1503360"/>
                <a:ext cx="1042920" cy="1042920"/>
              </a:xfrm>
              <a:prstGeom prst="ellipse">
                <a:avLst/>
              </a:prstGeom>
              <a:gradFill rotWithShape="0">
                <a:gsLst>
                  <a:gs pos="0">
                    <a:srgbClr val="7030a0"/>
                  </a:gs>
                  <a:gs pos="100000">
                    <a:srgbClr val="7030a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0" name="Group 16"/>
              <p:cNvGrpSpPr/>
              <p:nvPr/>
            </p:nvGrpSpPr>
            <p:grpSpPr>
              <a:xfrm>
                <a:off x="6906960" y="1531800"/>
                <a:ext cx="869400" cy="283680"/>
                <a:chOff x="6906960" y="1531800"/>
                <a:chExt cx="869400" cy="283680"/>
              </a:xfrm>
            </p:grpSpPr>
            <p:sp>
              <p:nvSpPr>
                <p:cNvPr id="1121" name="Freeform 17"/>
                <p:cNvSpPr/>
                <p:nvPr/>
              </p:nvSpPr>
              <p:spPr>
                <a:xfrm>
                  <a:off x="6906960" y="1531800"/>
                  <a:ext cx="869400" cy="283680"/>
                </a:xfrm>
                <a:custGeom>
                  <a:avLst/>
                  <a:gdLst/>
                  <a:ahLst/>
                  <a:rect l="l" t="t" r="r" b="b"/>
                  <a:pathLst>
                    <a:path w="4756" h="1576">
                      <a:moveTo>
                        <a:pt x="0" y="1576"/>
                      </a:moveTo>
                      <a:lnTo>
                        <a:pt x="0" y="1576"/>
                      </a:lnTo>
                      <a:lnTo>
                        <a:pt x="24" y="1518"/>
                      </a:lnTo>
                      <a:lnTo>
                        <a:pt x="50" y="1462"/>
                      </a:lnTo>
                      <a:lnTo>
                        <a:pt x="78" y="1406"/>
                      </a:lnTo>
                      <a:lnTo>
                        <a:pt x="108" y="1350"/>
                      </a:lnTo>
                      <a:lnTo>
                        <a:pt x="138" y="1296"/>
                      </a:lnTo>
                      <a:lnTo>
                        <a:pt x="170" y="1242"/>
                      </a:lnTo>
                      <a:lnTo>
                        <a:pt x="204" y="1190"/>
                      </a:lnTo>
                      <a:lnTo>
                        <a:pt x="238" y="1138"/>
                      </a:lnTo>
                      <a:lnTo>
                        <a:pt x="272" y="1086"/>
                      </a:lnTo>
                      <a:lnTo>
                        <a:pt x="310" y="1036"/>
                      </a:lnTo>
                      <a:lnTo>
                        <a:pt x="348" y="988"/>
                      </a:lnTo>
                      <a:lnTo>
                        <a:pt x="386" y="940"/>
                      </a:lnTo>
                      <a:lnTo>
                        <a:pt x="426" y="892"/>
                      </a:lnTo>
                      <a:lnTo>
                        <a:pt x="468" y="846"/>
                      </a:lnTo>
                      <a:lnTo>
                        <a:pt x="510" y="800"/>
                      </a:lnTo>
                      <a:lnTo>
                        <a:pt x="552" y="756"/>
                      </a:lnTo>
                      <a:lnTo>
                        <a:pt x="596" y="712"/>
                      </a:lnTo>
                      <a:lnTo>
                        <a:pt x="642" y="670"/>
                      </a:lnTo>
                      <a:lnTo>
                        <a:pt x="688" y="630"/>
                      </a:lnTo>
                      <a:lnTo>
                        <a:pt x="736" y="590"/>
                      </a:lnTo>
                      <a:lnTo>
                        <a:pt x="784" y="550"/>
                      </a:lnTo>
                      <a:lnTo>
                        <a:pt x="834" y="512"/>
                      </a:lnTo>
                      <a:lnTo>
                        <a:pt x="884" y="476"/>
                      </a:lnTo>
                      <a:lnTo>
                        <a:pt x="934" y="440"/>
                      </a:lnTo>
                      <a:lnTo>
                        <a:pt x="986" y="406"/>
                      </a:lnTo>
                      <a:lnTo>
                        <a:pt x="1040" y="374"/>
                      </a:lnTo>
                      <a:lnTo>
                        <a:pt x="1092" y="342"/>
                      </a:lnTo>
                      <a:lnTo>
                        <a:pt x="1148" y="312"/>
                      </a:lnTo>
                      <a:lnTo>
                        <a:pt x="1202" y="282"/>
                      </a:lnTo>
                      <a:lnTo>
                        <a:pt x="1258" y="254"/>
                      </a:lnTo>
                      <a:lnTo>
                        <a:pt x="1316" y="228"/>
                      </a:lnTo>
                      <a:lnTo>
                        <a:pt x="1374" y="202"/>
                      </a:lnTo>
                      <a:lnTo>
                        <a:pt x="1432" y="178"/>
                      </a:lnTo>
                      <a:lnTo>
                        <a:pt x="1490" y="156"/>
                      </a:lnTo>
                      <a:lnTo>
                        <a:pt x="1550" y="136"/>
                      </a:lnTo>
                      <a:lnTo>
                        <a:pt x="1610" y="116"/>
                      </a:lnTo>
                      <a:lnTo>
                        <a:pt x="1672" y="98"/>
                      </a:lnTo>
                      <a:lnTo>
                        <a:pt x="1732" y="80"/>
                      </a:lnTo>
                      <a:lnTo>
                        <a:pt x="1794" y="66"/>
                      </a:lnTo>
                      <a:lnTo>
                        <a:pt x="1858" y="52"/>
                      </a:lnTo>
                      <a:lnTo>
                        <a:pt x="1922" y="40"/>
                      </a:lnTo>
                      <a:lnTo>
                        <a:pt x="1984" y="30"/>
                      </a:lnTo>
                      <a:lnTo>
                        <a:pt x="2050" y="20"/>
                      </a:lnTo>
                      <a:lnTo>
                        <a:pt x="2114" y="12"/>
                      </a:lnTo>
                      <a:lnTo>
                        <a:pt x="2180" y="8"/>
                      </a:lnTo>
                      <a:lnTo>
                        <a:pt x="2246" y="2"/>
                      </a:lnTo>
                      <a:lnTo>
                        <a:pt x="2312" y="0"/>
                      </a:lnTo>
                      <a:lnTo>
                        <a:pt x="2378" y="0"/>
                      </a:lnTo>
                      <a:lnTo>
                        <a:pt x="2444" y="0"/>
                      </a:lnTo>
                      <a:lnTo>
                        <a:pt x="2510" y="2"/>
                      </a:lnTo>
                      <a:lnTo>
                        <a:pt x="2576" y="8"/>
                      </a:lnTo>
                      <a:lnTo>
                        <a:pt x="2642" y="12"/>
                      </a:lnTo>
                      <a:lnTo>
                        <a:pt x="2706" y="20"/>
                      </a:lnTo>
                      <a:lnTo>
                        <a:pt x="2772" y="30"/>
                      </a:lnTo>
                      <a:lnTo>
                        <a:pt x="2834" y="40"/>
                      </a:lnTo>
                      <a:lnTo>
                        <a:pt x="2898" y="52"/>
                      </a:lnTo>
                      <a:lnTo>
                        <a:pt x="2962" y="66"/>
                      </a:lnTo>
                      <a:lnTo>
                        <a:pt x="3024" y="80"/>
                      </a:lnTo>
                      <a:lnTo>
                        <a:pt x="3084" y="98"/>
                      </a:lnTo>
                      <a:lnTo>
                        <a:pt x="3146" y="116"/>
                      </a:lnTo>
                      <a:lnTo>
                        <a:pt x="3206" y="136"/>
                      </a:lnTo>
                      <a:lnTo>
                        <a:pt x="3266" y="156"/>
                      </a:lnTo>
                      <a:lnTo>
                        <a:pt x="3324" y="178"/>
                      </a:lnTo>
                      <a:lnTo>
                        <a:pt x="3382" y="202"/>
                      </a:lnTo>
                      <a:lnTo>
                        <a:pt x="3440" y="228"/>
                      </a:lnTo>
                      <a:lnTo>
                        <a:pt x="3498" y="254"/>
                      </a:lnTo>
                      <a:lnTo>
                        <a:pt x="3554" y="282"/>
                      </a:lnTo>
                      <a:lnTo>
                        <a:pt x="3608" y="312"/>
                      </a:lnTo>
                      <a:lnTo>
                        <a:pt x="3664" y="342"/>
                      </a:lnTo>
                      <a:lnTo>
                        <a:pt x="3716" y="374"/>
                      </a:lnTo>
                      <a:lnTo>
                        <a:pt x="3770" y="406"/>
                      </a:lnTo>
                      <a:lnTo>
                        <a:pt x="3822" y="440"/>
                      </a:lnTo>
                      <a:lnTo>
                        <a:pt x="3872" y="476"/>
                      </a:lnTo>
                      <a:lnTo>
                        <a:pt x="3922" y="512"/>
                      </a:lnTo>
                      <a:lnTo>
                        <a:pt x="3972" y="550"/>
                      </a:lnTo>
                      <a:lnTo>
                        <a:pt x="4020" y="590"/>
                      </a:lnTo>
                      <a:lnTo>
                        <a:pt x="4068" y="630"/>
                      </a:lnTo>
                      <a:lnTo>
                        <a:pt x="4114" y="670"/>
                      </a:lnTo>
                      <a:lnTo>
                        <a:pt x="4160" y="712"/>
                      </a:lnTo>
                      <a:lnTo>
                        <a:pt x="4204" y="756"/>
                      </a:lnTo>
                      <a:lnTo>
                        <a:pt x="4246" y="800"/>
                      </a:lnTo>
                      <a:lnTo>
                        <a:pt x="4288" y="846"/>
                      </a:lnTo>
                      <a:lnTo>
                        <a:pt x="4330" y="892"/>
                      </a:lnTo>
                      <a:lnTo>
                        <a:pt x="4370" y="940"/>
                      </a:lnTo>
                      <a:lnTo>
                        <a:pt x="4410" y="988"/>
                      </a:lnTo>
                      <a:lnTo>
                        <a:pt x="4446" y="1036"/>
                      </a:lnTo>
                      <a:lnTo>
                        <a:pt x="4484" y="1086"/>
                      </a:lnTo>
                      <a:lnTo>
                        <a:pt x="4518" y="1138"/>
                      </a:lnTo>
                      <a:lnTo>
                        <a:pt x="4552" y="1190"/>
                      </a:lnTo>
                      <a:lnTo>
                        <a:pt x="4586" y="1242"/>
                      </a:lnTo>
                      <a:lnTo>
                        <a:pt x="4618" y="1296"/>
                      </a:lnTo>
                      <a:lnTo>
                        <a:pt x="4648" y="1350"/>
                      </a:lnTo>
                      <a:lnTo>
                        <a:pt x="4678" y="1406"/>
                      </a:lnTo>
                      <a:lnTo>
                        <a:pt x="4706" y="1462"/>
                      </a:lnTo>
                      <a:lnTo>
                        <a:pt x="4732" y="1518"/>
                      </a:lnTo>
                      <a:lnTo>
                        <a:pt x="4756" y="1576"/>
                      </a:lnTo>
                      <a:lnTo>
                        <a:pt x="0" y="157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>
                        <a:alpha val="75294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2" name="Oval 18"/>
                <p:cNvSpPr/>
                <p:nvPr/>
              </p:nvSpPr>
              <p:spPr>
                <a:xfrm>
                  <a:off x="7232760" y="1531800"/>
                  <a:ext cx="217440" cy="195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7abf5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23" name="Group 19"/>
            <p:cNvGrpSpPr/>
            <p:nvPr/>
          </p:nvGrpSpPr>
          <p:grpSpPr>
            <a:xfrm>
              <a:off x="5956200" y="1863720"/>
              <a:ext cx="755640" cy="755640"/>
              <a:chOff x="5956200" y="1863720"/>
              <a:chExt cx="755640" cy="755640"/>
            </a:xfrm>
          </p:grpSpPr>
          <p:sp>
            <p:nvSpPr>
              <p:cNvPr id="1124" name="Oval 20"/>
              <p:cNvSpPr/>
              <p:nvPr/>
            </p:nvSpPr>
            <p:spPr>
              <a:xfrm>
                <a:off x="5956200" y="1863720"/>
                <a:ext cx="755640" cy="755640"/>
              </a:xfrm>
              <a:prstGeom prst="ellipse">
                <a:avLst/>
              </a:prstGeom>
              <a:gradFill rotWithShape="0">
                <a:gsLst>
                  <a:gs pos="0">
                    <a:srgbClr val="9e9e9e"/>
                  </a:gs>
                  <a:gs pos="100000">
                    <a:srgbClr val="5b5b5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5" name="Group 21"/>
              <p:cNvGrpSpPr/>
              <p:nvPr/>
            </p:nvGrpSpPr>
            <p:grpSpPr>
              <a:xfrm>
                <a:off x="6019200" y="1884240"/>
                <a:ext cx="630000" cy="205560"/>
                <a:chOff x="6019200" y="1884240"/>
                <a:chExt cx="630000" cy="205560"/>
              </a:xfrm>
            </p:grpSpPr>
            <p:sp>
              <p:nvSpPr>
                <p:cNvPr id="1126" name="Freeform 22"/>
                <p:cNvSpPr/>
                <p:nvPr/>
              </p:nvSpPr>
              <p:spPr>
                <a:xfrm>
                  <a:off x="6019200" y="1884240"/>
                  <a:ext cx="630000" cy="205560"/>
                </a:xfrm>
                <a:custGeom>
                  <a:avLst/>
                  <a:gdLst/>
                  <a:ahLst/>
                  <a:rect l="l" t="t" r="r" b="b"/>
                  <a:pathLst>
                    <a:path w="4756" h="1576">
                      <a:moveTo>
                        <a:pt x="0" y="1576"/>
                      </a:moveTo>
                      <a:lnTo>
                        <a:pt x="0" y="1576"/>
                      </a:lnTo>
                      <a:lnTo>
                        <a:pt x="24" y="1518"/>
                      </a:lnTo>
                      <a:lnTo>
                        <a:pt x="50" y="1462"/>
                      </a:lnTo>
                      <a:lnTo>
                        <a:pt x="78" y="1406"/>
                      </a:lnTo>
                      <a:lnTo>
                        <a:pt x="108" y="1350"/>
                      </a:lnTo>
                      <a:lnTo>
                        <a:pt x="138" y="1296"/>
                      </a:lnTo>
                      <a:lnTo>
                        <a:pt x="170" y="1242"/>
                      </a:lnTo>
                      <a:lnTo>
                        <a:pt x="204" y="1190"/>
                      </a:lnTo>
                      <a:lnTo>
                        <a:pt x="238" y="1138"/>
                      </a:lnTo>
                      <a:lnTo>
                        <a:pt x="272" y="1086"/>
                      </a:lnTo>
                      <a:lnTo>
                        <a:pt x="310" y="1036"/>
                      </a:lnTo>
                      <a:lnTo>
                        <a:pt x="348" y="988"/>
                      </a:lnTo>
                      <a:lnTo>
                        <a:pt x="386" y="940"/>
                      </a:lnTo>
                      <a:lnTo>
                        <a:pt x="426" y="892"/>
                      </a:lnTo>
                      <a:lnTo>
                        <a:pt x="468" y="846"/>
                      </a:lnTo>
                      <a:lnTo>
                        <a:pt x="510" y="800"/>
                      </a:lnTo>
                      <a:lnTo>
                        <a:pt x="552" y="756"/>
                      </a:lnTo>
                      <a:lnTo>
                        <a:pt x="596" y="712"/>
                      </a:lnTo>
                      <a:lnTo>
                        <a:pt x="642" y="670"/>
                      </a:lnTo>
                      <a:lnTo>
                        <a:pt x="688" y="630"/>
                      </a:lnTo>
                      <a:lnTo>
                        <a:pt x="736" y="590"/>
                      </a:lnTo>
                      <a:lnTo>
                        <a:pt x="784" y="550"/>
                      </a:lnTo>
                      <a:lnTo>
                        <a:pt x="834" y="512"/>
                      </a:lnTo>
                      <a:lnTo>
                        <a:pt x="884" y="476"/>
                      </a:lnTo>
                      <a:lnTo>
                        <a:pt x="934" y="440"/>
                      </a:lnTo>
                      <a:lnTo>
                        <a:pt x="986" y="406"/>
                      </a:lnTo>
                      <a:lnTo>
                        <a:pt x="1040" y="374"/>
                      </a:lnTo>
                      <a:lnTo>
                        <a:pt x="1092" y="342"/>
                      </a:lnTo>
                      <a:lnTo>
                        <a:pt x="1148" y="312"/>
                      </a:lnTo>
                      <a:lnTo>
                        <a:pt x="1202" y="282"/>
                      </a:lnTo>
                      <a:lnTo>
                        <a:pt x="1258" y="254"/>
                      </a:lnTo>
                      <a:lnTo>
                        <a:pt x="1316" y="228"/>
                      </a:lnTo>
                      <a:lnTo>
                        <a:pt x="1374" y="202"/>
                      </a:lnTo>
                      <a:lnTo>
                        <a:pt x="1432" y="178"/>
                      </a:lnTo>
                      <a:lnTo>
                        <a:pt x="1490" y="156"/>
                      </a:lnTo>
                      <a:lnTo>
                        <a:pt x="1550" y="136"/>
                      </a:lnTo>
                      <a:lnTo>
                        <a:pt x="1610" y="116"/>
                      </a:lnTo>
                      <a:lnTo>
                        <a:pt x="1672" y="98"/>
                      </a:lnTo>
                      <a:lnTo>
                        <a:pt x="1732" y="80"/>
                      </a:lnTo>
                      <a:lnTo>
                        <a:pt x="1794" y="66"/>
                      </a:lnTo>
                      <a:lnTo>
                        <a:pt x="1858" y="52"/>
                      </a:lnTo>
                      <a:lnTo>
                        <a:pt x="1922" y="40"/>
                      </a:lnTo>
                      <a:lnTo>
                        <a:pt x="1984" y="30"/>
                      </a:lnTo>
                      <a:lnTo>
                        <a:pt x="2050" y="20"/>
                      </a:lnTo>
                      <a:lnTo>
                        <a:pt x="2114" y="12"/>
                      </a:lnTo>
                      <a:lnTo>
                        <a:pt x="2180" y="8"/>
                      </a:lnTo>
                      <a:lnTo>
                        <a:pt x="2246" y="2"/>
                      </a:lnTo>
                      <a:lnTo>
                        <a:pt x="2312" y="0"/>
                      </a:lnTo>
                      <a:lnTo>
                        <a:pt x="2378" y="0"/>
                      </a:lnTo>
                      <a:lnTo>
                        <a:pt x="2444" y="0"/>
                      </a:lnTo>
                      <a:lnTo>
                        <a:pt x="2510" y="2"/>
                      </a:lnTo>
                      <a:lnTo>
                        <a:pt x="2576" y="8"/>
                      </a:lnTo>
                      <a:lnTo>
                        <a:pt x="2642" y="12"/>
                      </a:lnTo>
                      <a:lnTo>
                        <a:pt x="2706" y="20"/>
                      </a:lnTo>
                      <a:lnTo>
                        <a:pt x="2772" y="30"/>
                      </a:lnTo>
                      <a:lnTo>
                        <a:pt x="2834" y="40"/>
                      </a:lnTo>
                      <a:lnTo>
                        <a:pt x="2898" y="52"/>
                      </a:lnTo>
                      <a:lnTo>
                        <a:pt x="2962" y="66"/>
                      </a:lnTo>
                      <a:lnTo>
                        <a:pt x="3024" y="80"/>
                      </a:lnTo>
                      <a:lnTo>
                        <a:pt x="3084" y="98"/>
                      </a:lnTo>
                      <a:lnTo>
                        <a:pt x="3146" y="116"/>
                      </a:lnTo>
                      <a:lnTo>
                        <a:pt x="3206" y="136"/>
                      </a:lnTo>
                      <a:lnTo>
                        <a:pt x="3266" y="156"/>
                      </a:lnTo>
                      <a:lnTo>
                        <a:pt x="3324" y="178"/>
                      </a:lnTo>
                      <a:lnTo>
                        <a:pt x="3382" y="202"/>
                      </a:lnTo>
                      <a:lnTo>
                        <a:pt x="3440" y="228"/>
                      </a:lnTo>
                      <a:lnTo>
                        <a:pt x="3498" y="254"/>
                      </a:lnTo>
                      <a:lnTo>
                        <a:pt x="3554" y="282"/>
                      </a:lnTo>
                      <a:lnTo>
                        <a:pt x="3608" y="312"/>
                      </a:lnTo>
                      <a:lnTo>
                        <a:pt x="3664" y="342"/>
                      </a:lnTo>
                      <a:lnTo>
                        <a:pt x="3716" y="374"/>
                      </a:lnTo>
                      <a:lnTo>
                        <a:pt x="3770" y="406"/>
                      </a:lnTo>
                      <a:lnTo>
                        <a:pt x="3822" y="440"/>
                      </a:lnTo>
                      <a:lnTo>
                        <a:pt x="3872" y="476"/>
                      </a:lnTo>
                      <a:lnTo>
                        <a:pt x="3922" y="512"/>
                      </a:lnTo>
                      <a:lnTo>
                        <a:pt x="3972" y="550"/>
                      </a:lnTo>
                      <a:lnTo>
                        <a:pt x="4020" y="590"/>
                      </a:lnTo>
                      <a:lnTo>
                        <a:pt x="4068" y="630"/>
                      </a:lnTo>
                      <a:lnTo>
                        <a:pt x="4114" y="670"/>
                      </a:lnTo>
                      <a:lnTo>
                        <a:pt x="4160" y="712"/>
                      </a:lnTo>
                      <a:lnTo>
                        <a:pt x="4204" y="756"/>
                      </a:lnTo>
                      <a:lnTo>
                        <a:pt x="4246" y="800"/>
                      </a:lnTo>
                      <a:lnTo>
                        <a:pt x="4288" y="846"/>
                      </a:lnTo>
                      <a:lnTo>
                        <a:pt x="4330" y="892"/>
                      </a:lnTo>
                      <a:lnTo>
                        <a:pt x="4370" y="940"/>
                      </a:lnTo>
                      <a:lnTo>
                        <a:pt x="4410" y="988"/>
                      </a:lnTo>
                      <a:lnTo>
                        <a:pt x="4446" y="1036"/>
                      </a:lnTo>
                      <a:lnTo>
                        <a:pt x="4484" y="1086"/>
                      </a:lnTo>
                      <a:lnTo>
                        <a:pt x="4518" y="1138"/>
                      </a:lnTo>
                      <a:lnTo>
                        <a:pt x="4552" y="1190"/>
                      </a:lnTo>
                      <a:lnTo>
                        <a:pt x="4586" y="1242"/>
                      </a:lnTo>
                      <a:lnTo>
                        <a:pt x="4618" y="1296"/>
                      </a:lnTo>
                      <a:lnTo>
                        <a:pt x="4648" y="1350"/>
                      </a:lnTo>
                      <a:lnTo>
                        <a:pt x="4678" y="1406"/>
                      </a:lnTo>
                      <a:lnTo>
                        <a:pt x="4706" y="1462"/>
                      </a:lnTo>
                      <a:lnTo>
                        <a:pt x="4732" y="1518"/>
                      </a:lnTo>
                      <a:lnTo>
                        <a:pt x="4756" y="1576"/>
                      </a:lnTo>
                      <a:lnTo>
                        <a:pt x="0" y="157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>
                        <a:alpha val="75294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7" name="Oval 23"/>
                <p:cNvSpPr/>
                <p:nvPr/>
              </p:nvSpPr>
              <p:spPr>
                <a:xfrm>
                  <a:off x="6254640" y="1884240"/>
                  <a:ext cx="157680" cy="14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7abf5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28" name="Group 24"/>
            <p:cNvGrpSpPr/>
            <p:nvPr/>
          </p:nvGrpSpPr>
          <p:grpSpPr>
            <a:xfrm>
              <a:off x="6280200" y="1935000"/>
              <a:ext cx="755640" cy="755640"/>
              <a:chOff x="6280200" y="1935000"/>
              <a:chExt cx="755640" cy="755640"/>
            </a:xfrm>
          </p:grpSpPr>
          <p:sp>
            <p:nvSpPr>
              <p:cNvPr id="1129" name="Oval 25"/>
              <p:cNvSpPr/>
              <p:nvPr/>
            </p:nvSpPr>
            <p:spPr>
              <a:xfrm>
                <a:off x="6280200" y="1935000"/>
                <a:ext cx="755640" cy="755640"/>
              </a:xfrm>
              <a:prstGeom prst="ellipse">
                <a:avLst/>
              </a:prstGeom>
              <a:gradFill rotWithShape="0">
                <a:gsLst>
                  <a:gs pos="0">
                    <a:srgbClr val="9e9e9e"/>
                  </a:gs>
                  <a:gs pos="100000">
                    <a:srgbClr val="5b5b5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0" name="Group 26"/>
              <p:cNvGrpSpPr/>
              <p:nvPr/>
            </p:nvGrpSpPr>
            <p:grpSpPr>
              <a:xfrm>
                <a:off x="6343200" y="1955520"/>
                <a:ext cx="630000" cy="205560"/>
                <a:chOff x="6343200" y="1955520"/>
                <a:chExt cx="630000" cy="205560"/>
              </a:xfrm>
            </p:grpSpPr>
            <p:sp>
              <p:nvSpPr>
                <p:cNvPr id="1131" name="Freeform 27"/>
                <p:cNvSpPr/>
                <p:nvPr/>
              </p:nvSpPr>
              <p:spPr>
                <a:xfrm>
                  <a:off x="6343200" y="1955520"/>
                  <a:ext cx="630000" cy="205560"/>
                </a:xfrm>
                <a:custGeom>
                  <a:avLst/>
                  <a:gdLst/>
                  <a:ahLst/>
                  <a:rect l="l" t="t" r="r" b="b"/>
                  <a:pathLst>
                    <a:path w="4756" h="1576">
                      <a:moveTo>
                        <a:pt x="0" y="1576"/>
                      </a:moveTo>
                      <a:lnTo>
                        <a:pt x="0" y="1576"/>
                      </a:lnTo>
                      <a:lnTo>
                        <a:pt x="24" y="1518"/>
                      </a:lnTo>
                      <a:lnTo>
                        <a:pt x="50" y="1462"/>
                      </a:lnTo>
                      <a:lnTo>
                        <a:pt x="78" y="1406"/>
                      </a:lnTo>
                      <a:lnTo>
                        <a:pt x="108" y="1350"/>
                      </a:lnTo>
                      <a:lnTo>
                        <a:pt x="138" y="1296"/>
                      </a:lnTo>
                      <a:lnTo>
                        <a:pt x="170" y="1242"/>
                      </a:lnTo>
                      <a:lnTo>
                        <a:pt x="204" y="1190"/>
                      </a:lnTo>
                      <a:lnTo>
                        <a:pt x="238" y="1138"/>
                      </a:lnTo>
                      <a:lnTo>
                        <a:pt x="272" y="1086"/>
                      </a:lnTo>
                      <a:lnTo>
                        <a:pt x="310" y="1036"/>
                      </a:lnTo>
                      <a:lnTo>
                        <a:pt x="348" y="988"/>
                      </a:lnTo>
                      <a:lnTo>
                        <a:pt x="386" y="940"/>
                      </a:lnTo>
                      <a:lnTo>
                        <a:pt x="426" y="892"/>
                      </a:lnTo>
                      <a:lnTo>
                        <a:pt x="468" y="846"/>
                      </a:lnTo>
                      <a:lnTo>
                        <a:pt x="510" y="800"/>
                      </a:lnTo>
                      <a:lnTo>
                        <a:pt x="552" y="756"/>
                      </a:lnTo>
                      <a:lnTo>
                        <a:pt x="596" y="712"/>
                      </a:lnTo>
                      <a:lnTo>
                        <a:pt x="642" y="670"/>
                      </a:lnTo>
                      <a:lnTo>
                        <a:pt x="688" y="630"/>
                      </a:lnTo>
                      <a:lnTo>
                        <a:pt x="736" y="590"/>
                      </a:lnTo>
                      <a:lnTo>
                        <a:pt x="784" y="550"/>
                      </a:lnTo>
                      <a:lnTo>
                        <a:pt x="834" y="512"/>
                      </a:lnTo>
                      <a:lnTo>
                        <a:pt x="884" y="476"/>
                      </a:lnTo>
                      <a:lnTo>
                        <a:pt x="934" y="440"/>
                      </a:lnTo>
                      <a:lnTo>
                        <a:pt x="986" y="406"/>
                      </a:lnTo>
                      <a:lnTo>
                        <a:pt x="1040" y="374"/>
                      </a:lnTo>
                      <a:lnTo>
                        <a:pt x="1092" y="342"/>
                      </a:lnTo>
                      <a:lnTo>
                        <a:pt x="1148" y="312"/>
                      </a:lnTo>
                      <a:lnTo>
                        <a:pt x="1202" y="282"/>
                      </a:lnTo>
                      <a:lnTo>
                        <a:pt x="1258" y="254"/>
                      </a:lnTo>
                      <a:lnTo>
                        <a:pt x="1316" y="228"/>
                      </a:lnTo>
                      <a:lnTo>
                        <a:pt x="1374" y="202"/>
                      </a:lnTo>
                      <a:lnTo>
                        <a:pt x="1432" y="178"/>
                      </a:lnTo>
                      <a:lnTo>
                        <a:pt x="1490" y="156"/>
                      </a:lnTo>
                      <a:lnTo>
                        <a:pt x="1550" y="136"/>
                      </a:lnTo>
                      <a:lnTo>
                        <a:pt x="1610" y="116"/>
                      </a:lnTo>
                      <a:lnTo>
                        <a:pt x="1672" y="98"/>
                      </a:lnTo>
                      <a:lnTo>
                        <a:pt x="1732" y="80"/>
                      </a:lnTo>
                      <a:lnTo>
                        <a:pt x="1794" y="66"/>
                      </a:lnTo>
                      <a:lnTo>
                        <a:pt x="1858" y="52"/>
                      </a:lnTo>
                      <a:lnTo>
                        <a:pt x="1922" y="40"/>
                      </a:lnTo>
                      <a:lnTo>
                        <a:pt x="1984" y="30"/>
                      </a:lnTo>
                      <a:lnTo>
                        <a:pt x="2050" y="20"/>
                      </a:lnTo>
                      <a:lnTo>
                        <a:pt x="2114" y="12"/>
                      </a:lnTo>
                      <a:lnTo>
                        <a:pt x="2180" y="8"/>
                      </a:lnTo>
                      <a:lnTo>
                        <a:pt x="2246" y="2"/>
                      </a:lnTo>
                      <a:lnTo>
                        <a:pt x="2312" y="0"/>
                      </a:lnTo>
                      <a:lnTo>
                        <a:pt x="2378" y="0"/>
                      </a:lnTo>
                      <a:lnTo>
                        <a:pt x="2444" y="0"/>
                      </a:lnTo>
                      <a:lnTo>
                        <a:pt x="2510" y="2"/>
                      </a:lnTo>
                      <a:lnTo>
                        <a:pt x="2576" y="8"/>
                      </a:lnTo>
                      <a:lnTo>
                        <a:pt x="2642" y="12"/>
                      </a:lnTo>
                      <a:lnTo>
                        <a:pt x="2706" y="20"/>
                      </a:lnTo>
                      <a:lnTo>
                        <a:pt x="2772" y="30"/>
                      </a:lnTo>
                      <a:lnTo>
                        <a:pt x="2834" y="40"/>
                      </a:lnTo>
                      <a:lnTo>
                        <a:pt x="2898" y="52"/>
                      </a:lnTo>
                      <a:lnTo>
                        <a:pt x="2962" y="66"/>
                      </a:lnTo>
                      <a:lnTo>
                        <a:pt x="3024" y="80"/>
                      </a:lnTo>
                      <a:lnTo>
                        <a:pt x="3084" y="98"/>
                      </a:lnTo>
                      <a:lnTo>
                        <a:pt x="3146" y="116"/>
                      </a:lnTo>
                      <a:lnTo>
                        <a:pt x="3206" y="136"/>
                      </a:lnTo>
                      <a:lnTo>
                        <a:pt x="3266" y="156"/>
                      </a:lnTo>
                      <a:lnTo>
                        <a:pt x="3324" y="178"/>
                      </a:lnTo>
                      <a:lnTo>
                        <a:pt x="3382" y="202"/>
                      </a:lnTo>
                      <a:lnTo>
                        <a:pt x="3440" y="228"/>
                      </a:lnTo>
                      <a:lnTo>
                        <a:pt x="3498" y="254"/>
                      </a:lnTo>
                      <a:lnTo>
                        <a:pt x="3554" y="282"/>
                      </a:lnTo>
                      <a:lnTo>
                        <a:pt x="3608" y="312"/>
                      </a:lnTo>
                      <a:lnTo>
                        <a:pt x="3664" y="342"/>
                      </a:lnTo>
                      <a:lnTo>
                        <a:pt x="3716" y="374"/>
                      </a:lnTo>
                      <a:lnTo>
                        <a:pt x="3770" y="406"/>
                      </a:lnTo>
                      <a:lnTo>
                        <a:pt x="3822" y="440"/>
                      </a:lnTo>
                      <a:lnTo>
                        <a:pt x="3872" y="476"/>
                      </a:lnTo>
                      <a:lnTo>
                        <a:pt x="3922" y="512"/>
                      </a:lnTo>
                      <a:lnTo>
                        <a:pt x="3972" y="550"/>
                      </a:lnTo>
                      <a:lnTo>
                        <a:pt x="4020" y="590"/>
                      </a:lnTo>
                      <a:lnTo>
                        <a:pt x="4068" y="630"/>
                      </a:lnTo>
                      <a:lnTo>
                        <a:pt x="4114" y="670"/>
                      </a:lnTo>
                      <a:lnTo>
                        <a:pt x="4160" y="712"/>
                      </a:lnTo>
                      <a:lnTo>
                        <a:pt x="4204" y="756"/>
                      </a:lnTo>
                      <a:lnTo>
                        <a:pt x="4246" y="800"/>
                      </a:lnTo>
                      <a:lnTo>
                        <a:pt x="4288" y="846"/>
                      </a:lnTo>
                      <a:lnTo>
                        <a:pt x="4330" y="892"/>
                      </a:lnTo>
                      <a:lnTo>
                        <a:pt x="4370" y="940"/>
                      </a:lnTo>
                      <a:lnTo>
                        <a:pt x="4410" y="988"/>
                      </a:lnTo>
                      <a:lnTo>
                        <a:pt x="4446" y="1036"/>
                      </a:lnTo>
                      <a:lnTo>
                        <a:pt x="4484" y="1086"/>
                      </a:lnTo>
                      <a:lnTo>
                        <a:pt x="4518" y="1138"/>
                      </a:lnTo>
                      <a:lnTo>
                        <a:pt x="4552" y="1190"/>
                      </a:lnTo>
                      <a:lnTo>
                        <a:pt x="4586" y="1242"/>
                      </a:lnTo>
                      <a:lnTo>
                        <a:pt x="4618" y="1296"/>
                      </a:lnTo>
                      <a:lnTo>
                        <a:pt x="4648" y="1350"/>
                      </a:lnTo>
                      <a:lnTo>
                        <a:pt x="4678" y="1406"/>
                      </a:lnTo>
                      <a:lnTo>
                        <a:pt x="4706" y="1462"/>
                      </a:lnTo>
                      <a:lnTo>
                        <a:pt x="4732" y="1518"/>
                      </a:lnTo>
                      <a:lnTo>
                        <a:pt x="4756" y="1576"/>
                      </a:lnTo>
                      <a:lnTo>
                        <a:pt x="0" y="157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>
                        <a:alpha val="75294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2" name="Oval 28"/>
                <p:cNvSpPr/>
                <p:nvPr/>
              </p:nvSpPr>
              <p:spPr>
                <a:xfrm>
                  <a:off x="6578640" y="1955520"/>
                  <a:ext cx="157680" cy="14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7abf5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3" name="Group 29"/>
            <p:cNvGrpSpPr/>
            <p:nvPr/>
          </p:nvGrpSpPr>
          <p:grpSpPr>
            <a:xfrm>
              <a:off x="5703840" y="2151000"/>
              <a:ext cx="755640" cy="755640"/>
              <a:chOff x="5703840" y="2151000"/>
              <a:chExt cx="755640" cy="755640"/>
            </a:xfrm>
          </p:grpSpPr>
          <p:sp>
            <p:nvSpPr>
              <p:cNvPr id="1134" name="Oval 30"/>
              <p:cNvSpPr/>
              <p:nvPr/>
            </p:nvSpPr>
            <p:spPr>
              <a:xfrm>
                <a:off x="5703840" y="2151000"/>
                <a:ext cx="755640" cy="755640"/>
              </a:xfrm>
              <a:prstGeom prst="ellipse">
                <a:avLst/>
              </a:prstGeom>
              <a:gradFill rotWithShape="0">
                <a:gsLst>
                  <a:gs pos="0">
                    <a:srgbClr val="9e9e9e"/>
                  </a:gs>
                  <a:gs pos="100000">
                    <a:srgbClr val="5b5b5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5" name="Group 31"/>
              <p:cNvGrpSpPr/>
              <p:nvPr/>
            </p:nvGrpSpPr>
            <p:grpSpPr>
              <a:xfrm>
                <a:off x="5766840" y="2171520"/>
                <a:ext cx="630000" cy="205560"/>
                <a:chOff x="5766840" y="2171520"/>
                <a:chExt cx="630000" cy="205560"/>
              </a:xfrm>
            </p:grpSpPr>
            <p:sp>
              <p:nvSpPr>
                <p:cNvPr id="1136" name="Freeform 32"/>
                <p:cNvSpPr/>
                <p:nvPr/>
              </p:nvSpPr>
              <p:spPr>
                <a:xfrm>
                  <a:off x="5766840" y="2171520"/>
                  <a:ext cx="630000" cy="205560"/>
                </a:xfrm>
                <a:custGeom>
                  <a:avLst/>
                  <a:gdLst/>
                  <a:ahLst/>
                  <a:rect l="l" t="t" r="r" b="b"/>
                  <a:pathLst>
                    <a:path w="4756" h="1576">
                      <a:moveTo>
                        <a:pt x="0" y="1576"/>
                      </a:moveTo>
                      <a:lnTo>
                        <a:pt x="0" y="1576"/>
                      </a:lnTo>
                      <a:lnTo>
                        <a:pt x="24" y="1518"/>
                      </a:lnTo>
                      <a:lnTo>
                        <a:pt x="50" y="1462"/>
                      </a:lnTo>
                      <a:lnTo>
                        <a:pt x="78" y="1406"/>
                      </a:lnTo>
                      <a:lnTo>
                        <a:pt x="108" y="1350"/>
                      </a:lnTo>
                      <a:lnTo>
                        <a:pt x="138" y="1296"/>
                      </a:lnTo>
                      <a:lnTo>
                        <a:pt x="170" y="1242"/>
                      </a:lnTo>
                      <a:lnTo>
                        <a:pt x="204" y="1190"/>
                      </a:lnTo>
                      <a:lnTo>
                        <a:pt x="238" y="1138"/>
                      </a:lnTo>
                      <a:lnTo>
                        <a:pt x="272" y="1086"/>
                      </a:lnTo>
                      <a:lnTo>
                        <a:pt x="310" y="1036"/>
                      </a:lnTo>
                      <a:lnTo>
                        <a:pt x="348" y="988"/>
                      </a:lnTo>
                      <a:lnTo>
                        <a:pt x="386" y="940"/>
                      </a:lnTo>
                      <a:lnTo>
                        <a:pt x="426" y="892"/>
                      </a:lnTo>
                      <a:lnTo>
                        <a:pt x="468" y="846"/>
                      </a:lnTo>
                      <a:lnTo>
                        <a:pt x="510" y="800"/>
                      </a:lnTo>
                      <a:lnTo>
                        <a:pt x="552" y="756"/>
                      </a:lnTo>
                      <a:lnTo>
                        <a:pt x="596" y="712"/>
                      </a:lnTo>
                      <a:lnTo>
                        <a:pt x="642" y="670"/>
                      </a:lnTo>
                      <a:lnTo>
                        <a:pt x="688" y="630"/>
                      </a:lnTo>
                      <a:lnTo>
                        <a:pt x="736" y="590"/>
                      </a:lnTo>
                      <a:lnTo>
                        <a:pt x="784" y="550"/>
                      </a:lnTo>
                      <a:lnTo>
                        <a:pt x="834" y="512"/>
                      </a:lnTo>
                      <a:lnTo>
                        <a:pt x="884" y="476"/>
                      </a:lnTo>
                      <a:lnTo>
                        <a:pt x="934" y="440"/>
                      </a:lnTo>
                      <a:lnTo>
                        <a:pt x="986" y="406"/>
                      </a:lnTo>
                      <a:lnTo>
                        <a:pt x="1040" y="374"/>
                      </a:lnTo>
                      <a:lnTo>
                        <a:pt x="1092" y="342"/>
                      </a:lnTo>
                      <a:lnTo>
                        <a:pt x="1148" y="312"/>
                      </a:lnTo>
                      <a:lnTo>
                        <a:pt x="1202" y="282"/>
                      </a:lnTo>
                      <a:lnTo>
                        <a:pt x="1258" y="254"/>
                      </a:lnTo>
                      <a:lnTo>
                        <a:pt x="1316" y="228"/>
                      </a:lnTo>
                      <a:lnTo>
                        <a:pt x="1374" y="202"/>
                      </a:lnTo>
                      <a:lnTo>
                        <a:pt x="1432" y="178"/>
                      </a:lnTo>
                      <a:lnTo>
                        <a:pt x="1490" y="156"/>
                      </a:lnTo>
                      <a:lnTo>
                        <a:pt x="1550" y="136"/>
                      </a:lnTo>
                      <a:lnTo>
                        <a:pt x="1610" y="116"/>
                      </a:lnTo>
                      <a:lnTo>
                        <a:pt x="1672" y="98"/>
                      </a:lnTo>
                      <a:lnTo>
                        <a:pt x="1732" y="80"/>
                      </a:lnTo>
                      <a:lnTo>
                        <a:pt x="1794" y="66"/>
                      </a:lnTo>
                      <a:lnTo>
                        <a:pt x="1858" y="52"/>
                      </a:lnTo>
                      <a:lnTo>
                        <a:pt x="1922" y="40"/>
                      </a:lnTo>
                      <a:lnTo>
                        <a:pt x="1984" y="30"/>
                      </a:lnTo>
                      <a:lnTo>
                        <a:pt x="2050" y="20"/>
                      </a:lnTo>
                      <a:lnTo>
                        <a:pt x="2114" y="12"/>
                      </a:lnTo>
                      <a:lnTo>
                        <a:pt x="2180" y="8"/>
                      </a:lnTo>
                      <a:lnTo>
                        <a:pt x="2246" y="2"/>
                      </a:lnTo>
                      <a:lnTo>
                        <a:pt x="2312" y="0"/>
                      </a:lnTo>
                      <a:lnTo>
                        <a:pt x="2378" y="0"/>
                      </a:lnTo>
                      <a:lnTo>
                        <a:pt x="2444" y="0"/>
                      </a:lnTo>
                      <a:lnTo>
                        <a:pt x="2510" y="2"/>
                      </a:lnTo>
                      <a:lnTo>
                        <a:pt x="2576" y="8"/>
                      </a:lnTo>
                      <a:lnTo>
                        <a:pt x="2642" y="12"/>
                      </a:lnTo>
                      <a:lnTo>
                        <a:pt x="2706" y="20"/>
                      </a:lnTo>
                      <a:lnTo>
                        <a:pt x="2772" y="30"/>
                      </a:lnTo>
                      <a:lnTo>
                        <a:pt x="2834" y="40"/>
                      </a:lnTo>
                      <a:lnTo>
                        <a:pt x="2898" y="52"/>
                      </a:lnTo>
                      <a:lnTo>
                        <a:pt x="2962" y="66"/>
                      </a:lnTo>
                      <a:lnTo>
                        <a:pt x="3024" y="80"/>
                      </a:lnTo>
                      <a:lnTo>
                        <a:pt x="3084" y="98"/>
                      </a:lnTo>
                      <a:lnTo>
                        <a:pt x="3146" y="116"/>
                      </a:lnTo>
                      <a:lnTo>
                        <a:pt x="3206" y="136"/>
                      </a:lnTo>
                      <a:lnTo>
                        <a:pt x="3266" y="156"/>
                      </a:lnTo>
                      <a:lnTo>
                        <a:pt x="3324" y="178"/>
                      </a:lnTo>
                      <a:lnTo>
                        <a:pt x="3382" y="202"/>
                      </a:lnTo>
                      <a:lnTo>
                        <a:pt x="3440" y="228"/>
                      </a:lnTo>
                      <a:lnTo>
                        <a:pt x="3498" y="254"/>
                      </a:lnTo>
                      <a:lnTo>
                        <a:pt x="3554" y="282"/>
                      </a:lnTo>
                      <a:lnTo>
                        <a:pt x="3608" y="312"/>
                      </a:lnTo>
                      <a:lnTo>
                        <a:pt x="3664" y="342"/>
                      </a:lnTo>
                      <a:lnTo>
                        <a:pt x="3716" y="374"/>
                      </a:lnTo>
                      <a:lnTo>
                        <a:pt x="3770" y="406"/>
                      </a:lnTo>
                      <a:lnTo>
                        <a:pt x="3822" y="440"/>
                      </a:lnTo>
                      <a:lnTo>
                        <a:pt x="3872" y="476"/>
                      </a:lnTo>
                      <a:lnTo>
                        <a:pt x="3922" y="512"/>
                      </a:lnTo>
                      <a:lnTo>
                        <a:pt x="3972" y="550"/>
                      </a:lnTo>
                      <a:lnTo>
                        <a:pt x="4020" y="590"/>
                      </a:lnTo>
                      <a:lnTo>
                        <a:pt x="4068" y="630"/>
                      </a:lnTo>
                      <a:lnTo>
                        <a:pt x="4114" y="670"/>
                      </a:lnTo>
                      <a:lnTo>
                        <a:pt x="4160" y="712"/>
                      </a:lnTo>
                      <a:lnTo>
                        <a:pt x="4204" y="756"/>
                      </a:lnTo>
                      <a:lnTo>
                        <a:pt x="4246" y="800"/>
                      </a:lnTo>
                      <a:lnTo>
                        <a:pt x="4288" y="846"/>
                      </a:lnTo>
                      <a:lnTo>
                        <a:pt x="4330" y="892"/>
                      </a:lnTo>
                      <a:lnTo>
                        <a:pt x="4370" y="940"/>
                      </a:lnTo>
                      <a:lnTo>
                        <a:pt x="4410" y="988"/>
                      </a:lnTo>
                      <a:lnTo>
                        <a:pt x="4446" y="1036"/>
                      </a:lnTo>
                      <a:lnTo>
                        <a:pt x="4484" y="1086"/>
                      </a:lnTo>
                      <a:lnTo>
                        <a:pt x="4518" y="1138"/>
                      </a:lnTo>
                      <a:lnTo>
                        <a:pt x="4552" y="1190"/>
                      </a:lnTo>
                      <a:lnTo>
                        <a:pt x="4586" y="1242"/>
                      </a:lnTo>
                      <a:lnTo>
                        <a:pt x="4618" y="1296"/>
                      </a:lnTo>
                      <a:lnTo>
                        <a:pt x="4648" y="1350"/>
                      </a:lnTo>
                      <a:lnTo>
                        <a:pt x="4678" y="1406"/>
                      </a:lnTo>
                      <a:lnTo>
                        <a:pt x="4706" y="1462"/>
                      </a:lnTo>
                      <a:lnTo>
                        <a:pt x="4732" y="1518"/>
                      </a:lnTo>
                      <a:lnTo>
                        <a:pt x="4756" y="1576"/>
                      </a:lnTo>
                      <a:lnTo>
                        <a:pt x="0" y="157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>
                        <a:alpha val="75294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7" name="Oval 33"/>
                <p:cNvSpPr/>
                <p:nvPr/>
              </p:nvSpPr>
              <p:spPr>
                <a:xfrm>
                  <a:off x="6002280" y="2171520"/>
                  <a:ext cx="157680" cy="14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7abf5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8" name="Group 34"/>
            <p:cNvGrpSpPr/>
            <p:nvPr/>
          </p:nvGrpSpPr>
          <p:grpSpPr>
            <a:xfrm>
              <a:off x="6135840" y="2439720"/>
              <a:ext cx="755640" cy="755640"/>
              <a:chOff x="6135840" y="2439720"/>
              <a:chExt cx="755640" cy="755640"/>
            </a:xfrm>
          </p:grpSpPr>
          <p:sp>
            <p:nvSpPr>
              <p:cNvPr id="1139" name="Oval 35"/>
              <p:cNvSpPr/>
              <p:nvPr/>
            </p:nvSpPr>
            <p:spPr>
              <a:xfrm>
                <a:off x="6135840" y="2439720"/>
                <a:ext cx="755640" cy="755640"/>
              </a:xfrm>
              <a:prstGeom prst="ellipse">
                <a:avLst/>
              </a:prstGeom>
              <a:gradFill rotWithShape="0">
                <a:gsLst>
                  <a:gs pos="0">
                    <a:srgbClr val="9e9e9e"/>
                  </a:gs>
                  <a:gs pos="100000">
                    <a:srgbClr val="5b5b5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40" name="Group 36"/>
              <p:cNvGrpSpPr/>
              <p:nvPr/>
            </p:nvGrpSpPr>
            <p:grpSpPr>
              <a:xfrm>
                <a:off x="6198840" y="2460240"/>
                <a:ext cx="630000" cy="205560"/>
                <a:chOff x="6198840" y="2460240"/>
                <a:chExt cx="630000" cy="205560"/>
              </a:xfrm>
            </p:grpSpPr>
            <p:sp>
              <p:nvSpPr>
                <p:cNvPr id="1141" name="Freeform 37"/>
                <p:cNvSpPr/>
                <p:nvPr/>
              </p:nvSpPr>
              <p:spPr>
                <a:xfrm>
                  <a:off x="6198840" y="2460240"/>
                  <a:ext cx="630000" cy="205560"/>
                </a:xfrm>
                <a:custGeom>
                  <a:avLst/>
                  <a:gdLst/>
                  <a:ahLst/>
                  <a:rect l="l" t="t" r="r" b="b"/>
                  <a:pathLst>
                    <a:path w="4756" h="1576">
                      <a:moveTo>
                        <a:pt x="0" y="1576"/>
                      </a:moveTo>
                      <a:lnTo>
                        <a:pt x="0" y="1576"/>
                      </a:lnTo>
                      <a:lnTo>
                        <a:pt x="24" y="1518"/>
                      </a:lnTo>
                      <a:lnTo>
                        <a:pt x="50" y="1462"/>
                      </a:lnTo>
                      <a:lnTo>
                        <a:pt x="78" y="1406"/>
                      </a:lnTo>
                      <a:lnTo>
                        <a:pt x="108" y="1350"/>
                      </a:lnTo>
                      <a:lnTo>
                        <a:pt x="138" y="1296"/>
                      </a:lnTo>
                      <a:lnTo>
                        <a:pt x="170" y="1242"/>
                      </a:lnTo>
                      <a:lnTo>
                        <a:pt x="204" y="1190"/>
                      </a:lnTo>
                      <a:lnTo>
                        <a:pt x="238" y="1138"/>
                      </a:lnTo>
                      <a:lnTo>
                        <a:pt x="272" y="1086"/>
                      </a:lnTo>
                      <a:lnTo>
                        <a:pt x="310" y="1036"/>
                      </a:lnTo>
                      <a:lnTo>
                        <a:pt x="348" y="988"/>
                      </a:lnTo>
                      <a:lnTo>
                        <a:pt x="386" y="940"/>
                      </a:lnTo>
                      <a:lnTo>
                        <a:pt x="426" y="892"/>
                      </a:lnTo>
                      <a:lnTo>
                        <a:pt x="468" y="846"/>
                      </a:lnTo>
                      <a:lnTo>
                        <a:pt x="510" y="800"/>
                      </a:lnTo>
                      <a:lnTo>
                        <a:pt x="552" y="756"/>
                      </a:lnTo>
                      <a:lnTo>
                        <a:pt x="596" y="712"/>
                      </a:lnTo>
                      <a:lnTo>
                        <a:pt x="642" y="670"/>
                      </a:lnTo>
                      <a:lnTo>
                        <a:pt x="688" y="630"/>
                      </a:lnTo>
                      <a:lnTo>
                        <a:pt x="736" y="590"/>
                      </a:lnTo>
                      <a:lnTo>
                        <a:pt x="784" y="550"/>
                      </a:lnTo>
                      <a:lnTo>
                        <a:pt x="834" y="512"/>
                      </a:lnTo>
                      <a:lnTo>
                        <a:pt x="884" y="476"/>
                      </a:lnTo>
                      <a:lnTo>
                        <a:pt x="934" y="440"/>
                      </a:lnTo>
                      <a:lnTo>
                        <a:pt x="986" y="406"/>
                      </a:lnTo>
                      <a:lnTo>
                        <a:pt x="1040" y="374"/>
                      </a:lnTo>
                      <a:lnTo>
                        <a:pt x="1092" y="342"/>
                      </a:lnTo>
                      <a:lnTo>
                        <a:pt x="1148" y="312"/>
                      </a:lnTo>
                      <a:lnTo>
                        <a:pt x="1202" y="282"/>
                      </a:lnTo>
                      <a:lnTo>
                        <a:pt x="1258" y="254"/>
                      </a:lnTo>
                      <a:lnTo>
                        <a:pt x="1316" y="228"/>
                      </a:lnTo>
                      <a:lnTo>
                        <a:pt x="1374" y="202"/>
                      </a:lnTo>
                      <a:lnTo>
                        <a:pt x="1432" y="178"/>
                      </a:lnTo>
                      <a:lnTo>
                        <a:pt x="1490" y="156"/>
                      </a:lnTo>
                      <a:lnTo>
                        <a:pt x="1550" y="136"/>
                      </a:lnTo>
                      <a:lnTo>
                        <a:pt x="1610" y="116"/>
                      </a:lnTo>
                      <a:lnTo>
                        <a:pt x="1672" y="98"/>
                      </a:lnTo>
                      <a:lnTo>
                        <a:pt x="1732" y="80"/>
                      </a:lnTo>
                      <a:lnTo>
                        <a:pt x="1794" y="66"/>
                      </a:lnTo>
                      <a:lnTo>
                        <a:pt x="1858" y="52"/>
                      </a:lnTo>
                      <a:lnTo>
                        <a:pt x="1922" y="40"/>
                      </a:lnTo>
                      <a:lnTo>
                        <a:pt x="1984" y="30"/>
                      </a:lnTo>
                      <a:lnTo>
                        <a:pt x="2050" y="20"/>
                      </a:lnTo>
                      <a:lnTo>
                        <a:pt x="2114" y="12"/>
                      </a:lnTo>
                      <a:lnTo>
                        <a:pt x="2180" y="8"/>
                      </a:lnTo>
                      <a:lnTo>
                        <a:pt x="2246" y="2"/>
                      </a:lnTo>
                      <a:lnTo>
                        <a:pt x="2312" y="0"/>
                      </a:lnTo>
                      <a:lnTo>
                        <a:pt x="2378" y="0"/>
                      </a:lnTo>
                      <a:lnTo>
                        <a:pt x="2444" y="0"/>
                      </a:lnTo>
                      <a:lnTo>
                        <a:pt x="2510" y="2"/>
                      </a:lnTo>
                      <a:lnTo>
                        <a:pt x="2576" y="8"/>
                      </a:lnTo>
                      <a:lnTo>
                        <a:pt x="2642" y="12"/>
                      </a:lnTo>
                      <a:lnTo>
                        <a:pt x="2706" y="20"/>
                      </a:lnTo>
                      <a:lnTo>
                        <a:pt x="2772" y="30"/>
                      </a:lnTo>
                      <a:lnTo>
                        <a:pt x="2834" y="40"/>
                      </a:lnTo>
                      <a:lnTo>
                        <a:pt x="2898" y="52"/>
                      </a:lnTo>
                      <a:lnTo>
                        <a:pt x="2962" y="66"/>
                      </a:lnTo>
                      <a:lnTo>
                        <a:pt x="3024" y="80"/>
                      </a:lnTo>
                      <a:lnTo>
                        <a:pt x="3084" y="98"/>
                      </a:lnTo>
                      <a:lnTo>
                        <a:pt x="3146" y="116"/>
                      </a:lnTo>
                      <a:lnTo>
                        <a:pt x="3206" y="136"/>
                      </a:lnTo>
                      <a:lnTo>
                        <a:pt x="3266" y="156"/>
                      </a:lnTo>
                      <a:lnTo>
                        <a:pt x="3324" y="178"/>
                      </a:lnTo>
                      <a:lnTo>
                        <a:pt x="3382" y="202"/>
                      </a:lnTo>
                      <a:lnTo>
                        <a:pt x="3440" y="228"/>
                      </a:lnTo>
                      <a:lnTo>
                        <a:pt x="3498" y="254"/>
                      </a:lnTo>
                      <a:lnTo>
                        <a:pt x="3554" y="282"/>
                      </a:lnTo>
                      <a:lnTo>
                        <a:pt x="3608" y="312"/>
                      </a:lnTo>
                      <a:lnTo>
                        <a:pt x="3664" y="342"/>
                      </a:lnTo>
                      <a:lnTo>
                        <a:pt x="3716" y="374"/>
                      </a:lnTo>
                      <a:lnTo>
                        <a:pt x="3770" y="406"/>
                      </a:lnTo>
                      <a:lnTo>
                        <a:pt x="3822" y="440"/>
                      </a:lnTo>
                      <a:lnTo>
                        <a:pt x="3872" y="476"/>
                      </a:lnTo>
                      <a:lnTo>
                        <a:pt x="3922" y="512"/>
                      </a:lnTo>
                      <a:lnTo>
                        <a:pt x="3972" y="550"/>
                      </a:lnTo>
                      <a:lnTo>
                        <a:pt x="4020" y="590"/>
                      </a:lnTo>
                      <a:lnTo>
                        <a:pt x="4068" y="630"/>
                      </a:lnTo>
                      <a:lnTo>
                        <a:pt x="4114" y="670"/>
                      </a:lnTo>
                      <a:lnTo>
                        <a:pt x="4160" y="712"/>
                      </a:lnTo>
                      <a:lnTo>
                        <a:pt x="4204" y="756"/>
                      </a:lnTo>
                      <a:lnTo>
                        <a:pt x="4246" y="800"/>
                      </a:lnTo>
                      <a:lnTo>
                        <a:pt x="4288" y="846"/>
                      </a:lnTo>
                      <a:lnTo>
                        <a:pt x="4330" y="892"/>
                      </a:lnTo>
                      <a:lnTo>
                        <a:pt x="4370" y="940"/>
                      </a:lnTo>
                      <a:lnTo>
                        <a:pt x="4410" y="988"/>
                      </a:lnTo>
                      <a:lnTo>
                        <a:pt x="4446" y="1036"/>
                      </a:lnTo>
                      <a:lnTo>
                        <a:pt x="4484" y="1086"/>
                      </a:lnTo>
                      <a:lnTo>
                        <a:pt x="4518" y="1138"/>
                      </a:lnTo>
                      <a:lnTo>
                        <a:pt x="4552" y="1190"/>
                      </a:lnTo>
                      <a:lnTo>
                        <a:pt x="4586" y="1242"/>
                      </a:lnTo>
                      <a:lnTo>
                        <a:pt x="4618" y="1296"/>
                      </a:lnTo>
                      <a:lnTo>
                        <a:pt x="4648" y="1350"/>
                      </a:lnTo>
                      <a:lnTo>
                        <a:pt x="4678" y="1406"/>
                      </a:lnTo>
                      <a:lnTo>
                        <a:pt x="4706" y="1462"/>
                      </a:lnTo>
                      <a:lnTo>
                        <a:pt x="4732" y="1518"/>
                      </a:lnTo>
                      <a:lnTo>
                        <a:pt x="4756" y="1576"/>
                      </a:lnTo>
                      <a:lnTo>
                        <a:pt x="0" y="157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>
                        <a:alpha val="75294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2" name="Oval 38"/>
                <p:cNvSpPr/>
                <p:nvPr/>
              </p:nvSpPr>
              <p:spPr>
                <a:xfrm>
                  <a:off x="6434280" y="2460240"/>
                  <a:ext cx="157680" cy="14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7abf5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43" name="Group 39"/>
            <p:cNvGrpSpPr/>
            <p:nvPr/>
          </p:nvGrpSpPr>
          <p:grpSpPr>
            <a:xfrm>
              <a:off x="7180560" y="2187360"/>
              <a:ext cx="755640" cy="755640"/>
              <a:chOff x="7180560" y="2187360"/>
              <a:chExt cx="755640" cy="755640"/>
            </a:xfrm>
          </p:grpSpPr>
          <p:sp>
            <p:nvSpPr>
              <p:cNvPr id="1144" name="Oval 40"/>
              <p:cNvSpPr/>
              <p:nvPr/>
            </p:nvSpPr>
            <p:spPr>
              <a:xfrm>
                <a:off x="7180560" y="2187360"/>
                <a:ext cx="755640" cy="755640"/>
              </a:xfrm>
              <a:prstGeom prst="ellipse">
                <a:avLst/>
              </a:prstGeom>
              <a:gradFill rotWithShape="0">
                <a:gsLst>
                  <a:gs pos="0">
                    <a:srgbClr val="9e9e9e"/>
                  </a:gs>
                  <a:gs pos="100000">
                    <a:srgbClr val="5b5b5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45" name="Group 41"/>
              <p:cNvGrpSpPr/>
              <p:nvPr/>
            </p:nvGrpSpPr>
            <p:grpSpPr>
              <a:xfrm>
                <a:off x="7243560" y="2207880"/>
                <a:ext cx="630000" cy="205560"/>
                <a:chOff x="7243560" y="2207880"/>
                <a:chExt cx="630000" cy="205560"/>
              </a:xfrm>
            </p:grpSpPr>
            <p:sp>
              <p:nvSpPr>
                <p:cNvPr id="1146" name="Freeform 42"/>
                <p:cNvSpPr/>
                <p:nvPr/>
              </p:nvSpPr>
              <p:spPr>
                <a:xfrm>
                  <a:off x="7243560" y="2207880"/>
                  <a:ext cx="630000" cy="205560"/>
                </a:xfrm>
                <a:custGeom>
                  <a:avLst/>
                  <a:gdLst/>
                  <a:ahLst/>
                  <a:rect l="l" t="t" r="r" b="b"/>
                  <a:pathLst>
                    <a:path w="4756" h="1576">
                      <a:moveTo>
                        <a:pt x="0" y="1576"/>
                      </a:moveTo>
                      <a:lnTo>
                        <a:pt x="0" y="1576"/>
                      </a:lnTo>
                      <a:lnTo>
                        <a:pt x="24" y="1518"/>
                      </a:lnTo>
                      <a:lnTo>
                        <a:pt x="50" y="1462"/>
                      </a:lnTo>
                      <a:lnTo>
                        <a:pt x="78" y="1406"/>
                      </a:lnTo>
                      <a:lnTo>
                        <a:pt x="108" y="1350"/>
                      </a:lnTo>
                      <a:lnTo>
                        <a:pt x="138" y="1296"/>
                      </a:lnTo>
                      <a:lnTo>
                        <a:pt x="170" y="1242"/>
                      </a:lnTo>
                      <a:lnTo>
                        <a:pt x="204" y="1190"/>
                      </a:lnTo>
                      <a:lnTo>
                        <a:pt x="238" y="1138"/>
                      </a:lnTo>
                      <a:lnTo>
                        <a:pt x="272" y="1086"/>
                      </a:lnTo>
                      <a:lnTo>
                        <a:pt x="310" y="1036"/>
                      </a:lnTo>
                      <a:lnTo>
                        <a:pt x="348" y="988"/>
                      </a:lnTo>
                      <a:lnTo>
                        <a:pt x="386" y="940"/>
                      </a:lnTo>
                      <a:lnTo>
                        <a:pt x="426" y="892"/>
                      </a:lnTo>
                      <a:lnTo>
                        <a:pt x="468" y="846"/>
                      </a:lnTo>
                      <a:lnTo>
                        <a:pt x="510" y="800"/>
                      </a:lnTo>
                      <a:lnTo>
                        <a:pt x="552" y="756"/>
                      </a:lnTo>
                      <a:lnTo>
                        <a:pt x="596" y="712"/>
                      </a:lnTo>
                      <a:lnTo>
                        <a:pt x="642" y="670"/>
                      </a:lnTo>
                      <a:lnTo>
                        <a:pt x="688" y="630"/>
                      </a:lnTo>
                      <a:lnTo>
                        <a:pt x="736" y="590"/>
                      </a:lnTo>
                      <a:lnTo>
                        <a:pt x="784" y="550"/>
                      </a:lnTo>
                      <a:lnTo>
                        <a:pt x="834" y="512"/>
                      </a:lnTo>
                      <a:lnTo>
                        <a:pt x="884" y="476"/>
                      </a:lnTo>
                      <a:lnTo>
                        <a:pt x="934" y="440"/>
                      </a:lnTo>
                      <a:lnTo>
                        <a:pt x="986" y="406"/>
                      </a:lnTo>
                      <a:lnTo>
                        <a:pt x="1040" y="374"/>
                      </a:lnTo>
                      <a:lnTo>
                        <a:pt x="1092" y="342"/>
                      </a:lnTo>
                      <a:lnTo>
                        <a:pt x="1148" y="312"/>
                      </a:lnTo>
                      <a:lnTo>
                        <a:pt x="1202" y="282"/>
                      </a:lnTo>
                      <a:lnTo>
                        <a:pt x="1258" y="254"/>
                      </a:lnTo>
                      <a:lnTo>
                        <a:pt x="1316" y="228"/>
                      </a:lnTo>
                      <a:lnTo>
                        <a:pt x="1374" y="202"/>
                      </a:lnTo>
                      <a:lnTo>
                        <a:pt x="1432" y="178"/>
                      </a:lnTo>
                      <a:lnTo>
                        <a:pt x="1490" y="156"/>
                      </a:lnTo>
                      <a:lnTo>
                        <a:pt x="1550" y="136"/>
                      </a:lnTo>
                      <a:lnTo>
                        <a:pt x="1610" y="116"/>
                      </a:lnTo>
                      <a:lnTo>
                        <a:pt x="1672" y="98"/>
                      </a:lnTo>
                      <a:lnTo>
                        <a:pt x="1732" y="80"/>
                      </a:lnTo>
                      <a:lnTo>
                        <a:pt x="1794" y="66"/>
                      </a:lnTo>
                      <a:lnTo>
                        <a:pt x="1858" y="52"/>
                      </a:lnTo>
                      <a:lnTo>
                        <a:pt x="1922" y="40"/>
                      </a:lnTo>
                      <a:lnTo>
                        <a:pt x="1984" y="30"/>
                      </a:lnTo>
                      <a:lnTo>
                        <a:pt x="2050" y="20"/>
                      </a:lnTo>
                      <a:lnTo>
                        <a:pt x="2114" y="12"/>
                      </a:lnTo>
                      <a:lnTo>
                        <a:pt x="2180" y="8"/>
                      </a:lnTo>
                      <a:lnTo>
                        <a:pt x="2246" y="2"/>
                      </a:lnTo>
                      <a:lnTo>
                        <a:pt x="2312" y="0"/>
                      </a:lnTo>
                      <a:lnTo>
                        <a:pt x="2378" y="0"/>
                      </a:lnTo>
                      <a:lnTo>
                        <a:pt x="2444" y="0"/>
                      </a:lnTo>
                      <a:lnTo>
                        <a:pt x="2510" y="2"/>
                      </a:lnTo>
                      <a:lnTo>
                        <a:pt x="2576" y="8"/>
                      </a:lnTo>
                      <a:lnTo>
                        <a:pt x="2642" y="12"/>
                      </a:lnTo>
                      <a:lnTo>
                        <a:pt x="2706" y="20"/>
                      </a:lnTo>
                      <a:lnTo>
                        <a:pt x="2772" y="30"/>
                      </a:lnTo>
                      <a:lnTo>
                        <a:pt x="2834" y="40"/>
                      </a:lnTo>
                      <a:lnTo>
                        <a:pt x="2898" y="52"/>
                      </a:lnTo>
                      <a:lnTo>
                        <a:pt x="2962" y="66"/>
                      </a:lnTo>
                      <a:lnTo>
                        <a:pt x="3024" y="80"/>
                      </a:lnTo>
                      <a:lnTo>
                        <a:pt x="3084" y="98"/>
                      </a:lnTo>
                      <a:lnTo>
                        <a:pt x="3146" y="116"/>
                      </a:lnTo>
                      <a:lnTo>
                        <a:pt x="3206" y="136"/>
                      </a:lnTo>
                      <a:lnTo>
                        <a:pt x="3266" y="156"/>
                      </a:lnTo>
                      <a:lnTo>
                        <a:pt x="3324" y="178"/>
                      </a:lnTo>
                      <a:lnTo>
                        <a:pt x="3382" y="202"/>
                      </a:lnTo>
                      <a:lnTo>
                        <a:pt x="3440" y="228"/>
                      </a:lnTo>
                      <a:lnTo>
                        <a:pt x="3498" y="254"/>
                      </a:lnTo>
                      <a:lnTo>
                        <a:pt x="3554" y="282"/>
                      </a:lnTo>
                      <a:lnTo>
                        <a:pt x="3608" y="312"/>
                      </a:lnTo>
                      <a:lnTo>
                        <a:pt x="3664" y="342"/>
                      </a:lnTo>
                      <a:lnTo>
                        <a:pt x="3716" y="374"/>
                      </a:lnTo>
                      <a:lnTo>
                        <a:pt x="3770" y="406"/>
                      </a:lnTo>
                      <a:lnTo>
                        <a:pt x="3822" y="440"/>
                      </a:lnTo>
                      <a:lnTo>
                        <a:pt x="3872" y="476"/>
                      </a:lnTo>
                      <a:lnTo>
                        <a:pt x="3922" y="512"/>
                      </a:lnTo>
                      <a:lnTo>
                        <a:pt x="3972" y="550"/>
                      </a:lnTo>
                      <a:lnTo>
                        <a:pt x="4020" y="590"/>
                      </a:lnTo>
                      <a:lnTo>
                        <a:pt x="4068" y="630"/>
                      </a:lnTo>
                      <a:lnTo>
                        <a:pt x="4114" y="670"/>
                      </a:lnTo>
                      <a:lnTo>
                        <a:pt x="4160" y="712"/>
                      </a:lnTo>
                      <a:lnTo>
                        <a:pt x="4204" y="756"/>
                      </a:lnTo>
                      <a:lnTo>
                        <a:pt x="4246" y="800"/>
                      </a:lnTo>
                      <a:lnTo>
                        <a:pt x="4288" y="846"/>
                      </a:lnTo>
                      <a:lnTo>
                        <a:pt x="4330" y="892"/>
                      </a:lnTo>
                      <a:lnTo>
                        <a:pt x="4370" y="940"/>
                      </a:lnTo>
                      <a:lnTo>
                        <a:pt x="4410" y="988"/>
                      </a:lnTo>
                      <a:lnTo>
                        <a:pt x="4446" y="1036"/>
                      </a:lnTo>
                      <a:lnTo>
                        <a:pt x="4484" y="1086"/>
                      </a:lnTo>
                      <a:lnTo>
                        <a:pt x="4518" y="1138"/>
                      </a:lnTo>
                      <a:lnTo>
                        <a:pt x="4552" y="1190"/>
                      </a:lnTo>
                      <a:lnTo>
                        <a:pt x="4586" y="1242"/>
                      </a:lnTo>
                      <a:lnTo>
                        <a:pt x="4618" y="1296"/>
                      </a:lnTo>
                      <a:lnTo>
                        <a:pt x="4648" y="1350"/>
                      </a:lnTo>
                      <a:lnTo>
                        <a:pt x="4678" y="1406"/>
                      </a:lnTo>
                      <a:lnTo>
                        <a:pt x="4706" y="1462"/>
                      </a:lnTo>
                      <a:lnTo>
                        <a:pt x="4732" y="1518"/>
                      </a:lnTo>
                      <a:lnTo>
                        <a:pt x="4756" y="1576"/>
                      </a:lnTo>
                      <a:lnTo>
                        <a:pt x="0" y="157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>
                        <a:alpha val="75294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7" name="Oval 43"/>
                <p:cNvSpPr/>
                <p:nvPr/>
              </p:nvSpPr>
              <p:spPr>
                <a:xfrm>
                  <a:off x="7479000" y="2207880"/>
                  <a:ext cx="157680" cy="14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7abf5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48" name="Group 44"/>
            <p:cNvGrpSpPr/>
            <p:nvPr/>
          </p:nvGrpSpPr>
          <p:grpSpPr>
            <a:xfrm>
              <a:off x="8007480" y="4024440"/>
              <a:ext cx="344520" cy="393120"/>
              <a:chOff x="8007480" y="4024440"/>
              <a:chExt cx="344520" cy="393120"/>
            </a:xfrm>
          </p:grpSpPr>
          <p:sp>
            <p:nvSpPr>
              <p:cNvPr id="1149" name="Oval 45"/>
              <p:cNvSpPr/>
              <p:nvPr/>
            </p:nvSpPr>
            <p:spPr>
              <a:xfrm>
                <a:off x="8007480" y="4303440"/>
                <a:ext cx="331560" cy="11412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50196"/>
                    </a:srgbClr>
                  </a:gs>
                  <a:gs pos="100000">
                    <a:srgbClr val="000000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0" name="Group 46"/>
              <p:cNvGrpSpPr/>
              <p:nvPr/>
            </p:nvGrpSpPr>
            <p:grpSpPr>
              <a:xfrm>
                <a:off x="8007840" y="4024440"/>
                <a:ext cx="344160" cy="343440"/>
                <a:chOff x="8007840" y="4024440"/>
                <a:chExt cx="344160" cy="343440"/>
              </a:xfrm>
            </p:grpSpPr>
            <p:sp>
              <p:nvSpPr>
                <p:cNvPr id="1151" name="Oval 47"/>
                <p:cNvSpPr/>
                <p:nvPr/>
              </p:nvSpPr>
              <p:spPr>
                <a:xfrm>
                  <a:off x="8007840" y="4024440"/>
                  <a:ext cx="344160" cy="34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4e4e4"/>
                    </a:gs>
                    <a:gs pos="100000">
                      <a:srgbClr val="83838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52" name="Group 48"/>
                <p:cNvGrpSpPr/>
                <p:nvPr/>
              </p:nvGrpSpPr>
              <p:grpSpPr>
                <a:xfrm>
                  <a:off x="8036280" y="4033800"/>
                  <a:ext cx="286920" cy="93240"/>
                  <a:chOff x="8036280" y="4033800"/>
                  <a:chExt cx="286920" cy="93240"/>
                </a:xfrm>
              </p:grpSpPr>
              <p:sp>
                <p:nvSpPr>
                  <p:cNvPr id="1153" name="Freeform 49"/>
                  <p:cNvSpPr/>
                  <p:nvPr/>
                </p:nvSpPr>
                <p:spPr>
                  <a:xfrm>
                    <a:off x="8036280" y="4033800"/>
                    <a:ext cx="28692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4756" h="1576">
                        <a:moveTo>
                          <a:pt x="0" y="1576"/>
                        </a:moveTo>
                        <a:lnTo>
                          <a:pt x="0" y="1576"/>
                        </a:lnTo>
                        <a:lnTo>
                          <a:pt x="24" y="1518"/>
                        </a:lnTo>
                        <a:lnTo>
                          <a:pt x="50" y="1462"/>
                        </a:lnTo>
                        <a:lnTo>
                          <a:pt x="78" y="1406"/>
                        </a:lnTo>
                        <a:lnTo>
                          <a:pt x="108" y="1350"/>
                        </a:lnTo>
                        <a:lnTo>
                          <a:pt x="138" y="1296"/>
                        </a:lnTo>
                        <a:lnTo>
                          <a:pt x="170" y="1242"/>
                        </a:lnTo>
                        <a:lnTo>
                          <a:pt x="204" y="1190"/>
                        </a:lnTo>
                        <a:lnTo>
                          <a:pt x="238" y="1138"/>
                        </a:lnTo>
                        <a:lnTo>
                          <a:pt x="272" y="1086"/>
                        </a:lnTo>
                        <a:lnTo>
                          <a:pt x="310" y="1036"/>
                        </a:lnTo>
                        <a:lnTo>
                          <a:pt x="348" y="988"/>
                        </a:lnTo>
                        <a:lnTo>
                          <a:pt x="386" y="940"/>
                        </a:lnTo>
                        <a:lnTo>
                          <a:pt x="426" y="892"/>
                        </a:lnTo>
                        <a:lnTo>
                          <a:pt x="468" y="846"/>
                        </a:lnTo>
                        <a:lnTo>
                          <a:pt x="510" y="800"/>
                        </a:lnTo>
                        <a:lnTo>
                          <a:pt x="552" y="756"/>
                        </a:lnTo>
                        <a:lnTo>
                          <a:pt x="596" y="712"/>
                        </a:lnTo>
                        <a:lnTo>
                          <a:pt x="642" y="670"/>
                        </a:lnTo>
                        <a:lnTo>
                          <a:pt x="688" y="630"/>
                        </a:lnTo>
                        <a:lnTo>
                          <a:pt x="736" y="590"/>
                        </a:lnTo>
                        <a:lnTo>
                          <a:pt x="784" y="550"/>
                        </a:lnTo>
                        <a:lnTo>
                          <a:pt x="834" y="512"/>
                        </a:lnTo>
                        <a:lnTo>
                          <a:pt x="884" y="476"/>
                        </a:lnTo>
                        <a:lnTo>
                          <a:pt x="934" y="440"/>
                        </a:lnTo>
                        <a:lnTo>
                          <a:pt x="986" y="406"/>
                        </a:lnTo>
                        <a:lnTo>
                          <a:pt x="1040" y="374"/>
                        </a:lnTo>
                        <a:lnTo>
                          <a:pt x="1092" y="342"/>
                        </a:lnTo>
                        <a:lnTo>
                          <a:pt x="1148" y="312"/>
                        </a:lnTo>
                        <a:lnTo>
                          <a:pt x="1202" y="282"/>
                        </a:lnTo>
                        <a:lnTo>
                          <a:pt x="1258" y="254"/>
                        </a:lnTo>
                        <a:lnTo>
                          <a:pt x="1316" y="228"/>
                        </a:lnTo>
                        <a:lnTo>
                          <a:pt x="1374" y="202"/>
                        </a:lnTo>
                        <a:lnTo>
                          <a:pt x="1432" y="178"/>
                        </a:lnTo>
                        <a:lnTo>
                          <a:pt x="1490" y="156"/>
                        </a:lnTo>
                        <a:lnTo>
                          <a:pt x="1550" y="136"/>
                        </a:lnTo>
                        <a:lnTo>
                          <a:pt x="1610" y="116"/>
                        </a:lnTo>
                        <a:lnTo>
                          <a:pt x="1672" y="98"/>
                        </a:lnTo>
                        <a:lnTo>
                          <a:pt x="1732" y="80"/>
                        </a:lnTo>
                        <a:lnTo>
                          <a:pt x="1794" y="66"/>
                        </a:lnTo>
                        <a:lnTo>
                          <a:pt x="1858" y="52"/>
                        </a:lnTo>
                        <a:lnTo>
                          <a:pt x="1922" y="40"/>
                        </a:lnTo>
                        <a:lnTo>
                          <a:pt x="1984" y="30"/>
                        </a:lnTo>
                        <a:lnTo>
                          <a:pt x="2050" y="20"/>
                        </a:lnTo>
                        <a:lnTo>
                          <a:pt x="2114" y="12"/>
                        </a:lnTo>
                        <a:lnTo>
                          <a:pt x="2180" y="8"/>
                        </a:lnTo>
                        <a:lnTo>
                          <a:pt x="2246" y="2"/>
                        </a:lnTo>
                        <a:lnTo>
                          <a:pt x="2312" y="0"/>
                        </a:lnTo>
                        <a:lnTo>
                          <a:pt x="2378" y="0"/>
                        </a:lnTo>
                        <a:lnTo>
                          <a:pt x="2444" y="0"/>
                        </a:lnTo>
                        <a:lnTo>
                          <a:pt x="2510" y="2"/>
                        </a:lnTo>
                        <a:lnTo>
                          <a:pt x="2576" y="8"/>
                        </a:lnTo>
                        <a:lnTo>
                          <a:pt x="2642" y="12"/>
                        </a:lnTo>
                        <a:lnTo>
                          <a:pt x="2706" y="20"/>
                        </a:lnTo>
                        <a:lnTo>
                          <a:pt x="2772" y="30"/>
                        </a:lnTo>
                        <a:lnTo>
                          <a:pt x="2834" y="40"/>
                        </a:lnTo>
                        <a:lnTo>
                          <a:pt x="2898" y="52"/>
                        </a:lnTo>
                        <a:lnTo>
                          <a:pt x="2962" y="66"/>
                        </a:lnTo>
                        <a:lnTo>
                          <a:pt x="3024" y="80"/>
                        </a:lnTo>
                        <a:lnTo>
                          <a:pt x="3084" y="98"/>
                        </a:lnTo>
                        <a:lnTo>
                          <a:pt x="3146" y="116"/>
                        </a:lnTo>
                        <a:lnTo>
                          <a:pt x="3206" y="136"/>
                        </a:lnTo>
                        <a:lnTo>
                          <a:pt x="3266" y="156"/>
                        </a:lnTo>
                        <a:lnTo>
                          <a:pt x="3324" y="178"/>
                        </a:lnTo>
                        <a:lnTo>
                          <a:pt x="3382" y="202"/>
                        </a:lnTo>
                        <a:lnTo>
                          <a:pt x="3440" y="228"/>
                        </a:lnTo>
                        <a:lnTo>
                          <a:pt x="3498" y="254"/>
                        </a:lnTo>
                        <a:lnTo>
                          <a:pt x="3554" y="282"/>
                        </a:lnTo>
                        <a:lnTo>
                          <a:pt x="3608" y="312"/>
                        </a:lnTo>
                        <a:lnTo>
                          <a:pt x="3664" y="342"/>
                        </a:lnTo>
                        <a:lnTo>
                          <a:pt x="3716" y="374"/>
                        </a:lnTo>
                        <a:lnTo>
                          <a:pt x="3770" y="406"/>
                        </a:lnTo>
                        <a:lnTo>
                          <a:pt x="3822" y="440"/>
                        </a:lnTo>
                        <a:lnTo>
                          <a:pt x="3872" y="476"/>
                        </a:lnTo>
                        <a:lnTo>
                          <a:pt x="3922" y="512"/>
                        </a:lnTo>
                        <a:lnTo>
                          <a:pt x="3972" y="550"/>
                        </a:lnTo>
                        <a:lnTo>
                          <a:pt x="4020" y="590"/>
                        </a:lnTo>
                        <a:lnTo>
                          <a:pt x="4068" y="630"/>
                        </a:lnTo>
                        <a:lnTo>
                          <a:pt x="4114" y="670"/>
                        </a:lnTo>
                        <a:lnTo>
                          <a:pt x="4160" y="712"/>
                        </a:lnTo>
                        <a:lnTo>
                          <a:pt x="4204" y="756"/>
                        </a:lnTo>
                        <a:lnTo>
                          <a:pt x="4246" y="800"/>
                        </a:lnTo>
                        <a:lnTo>
                          <a:pt x="4288" y="846"/>
                        </a:lnTo>
                        <a:lnTo>
                          <a:pt x="4330" y="892"/>
                        </a:lnTo>
                        <a:lnTo>
                          <a:pt x="4370" y="940"/>
                        </a:lnTo>
                        <a:lnTo>
                          <a:pt x="4410" y="988"/>
                        </a:lnTo>
                        <a:lnTo>
                          <a:pt x="4446" y="1036"/>
                        </a:lnTo>
                        <a:lnTo>
                          <a:pt x="4484" y="1086"/>
                        </a:lnTo>
                        <a:lnTo>
                          <a:pt x="4518" y="1138"/>
                        </a:lnTo>
                        <a:lnTo>
                          <a:pt x="4552" y="1190"/>
                        </a:lnTo>
                        <a:lnTo>
                          <a:pt x="4586" y="1242"/>
                        </a:lnTo>
                        <a:lnTo>
                          <a:pt x="4618" y="1296"/>
                        </a:lnTo>
                        <a:lnTo>
                          <a:pt x="4648" y="1350"/>
                        </a:lnTo>
                        <a:lnTo>
                          <a:pt x="4678" y="1406"/>
                        </a:lnTo>
                        <a:lnTo>
                          <a:pt x="4706" y="1462"/>
                        </a:lnTo>
                        <a:lnTo>
                          <a:pt x="4732" y="1518"/>
                        </a:lnTo>
                        <a:lnTo>
                          <a:pt x="4756" y="1576"/>
                        </a:lnTo>
                        <a:lnTo>
                          <a:pt x="0" y="1576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>
                          <a:alpha val="75294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4" name="Oval 50"/>
                  <p:cNvSpPr/>
                  <p:nvPr/>
                </p:nvSpPr>
                <p:spPr>
                  <a:xfrm>
                    <a:off x="8144280" y="4033800"/>
                    <a:ext cx="71640" cy="6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7abf5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155" name="Text Box 51"/>
            <p:cNvSpPr/>
            <p:nvPr/>
          </p:nvSpPr>
          <p:spPr>
            <a:xfrm>
              <a:off x="6855120" y="1693800"/>
              <a:ext cx="97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添加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6" name="Group 69"/>
            <p:cNvGrpSpPr/>
            <p:nvPr/>
          </p:nvGrpSpPr>
          <p:grpSpPr>
            <a:xfrm>
              <a:off x="7720200" y="4167360"/>
              <a:ext cx="469440" cy="537840"/>
              <a:chOff x="7720200" y="4167360"/>
              <a:chExt cx="469440" cy="537840"/>
            </a:xfrm>
          </p:grpSpPr>
          <p:sp>
            <p:nvSpPr>
              <p:cNvPr id="1157" name="Oval 70"/>
              <p:cNvSpPr/>
              <p:nvPr/>
            </p:nvSpPr>
            <p:spPr>
              <a:xfrm>
                <a:off x="7720200" y="4548240"/>
                <a:ext cx="450720" cy="1569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50196"/>
                    </a:srgbClr>
                  </a:gs>
                  <a:gs pos="100000">
                    <a:srgbClr val="000000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8" name="Group 71"/>
              <p:cNvGrpSpPr/>
              <p:nvPr/>
            </p:nvGrpSpPr>
            <p:grpSpPr>
              <a:xfrm>
                <a:off x="7720560" y="4167360"/>
                <a:ext cx="469080" cy="469800"/>
                <a:chOff x="7720560" y="4167360"/>
                <a:chExt cx="469080" cy="469800"/>
              </a:xfrm>
            </p:grpSpPr>
            <p:sp>
              <p:nvSpPr>
                <p:cNvPr id="1159" name="Oval 72"/>
                <p:cNvSpPr/>
                <p:nvPr/>
              </p:nvSpPr>
              <p:spPr>
                <a:xfrm>
                  <a:off x="7720560" y="4167360"/>
                  <a:ext cx="469080" cy="469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1d1d1"/>
                    </a:gs>
                    <a:gs pos="100000">
                      <a:srgbClr val="78787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60" name="Group 73"/>
                <p:cNvGrpSpPr/>
                <p:nvPr/>
              </p:nvGrpSpPr>
              <p:grpSpPr>
                <a:xfrm>
                  <a:off x="7759440" y="4179960"/>
                  <a:ext cx="391320" cy="127800"/>
                  <a:chOff x="7759440" y="4179960"/>
                  <a:chExt cx="391320" cy="127800"/>
                </a:xfrm>
              </p:grpSpPr>
              <p:sp>
                <p:nvSpPr>
                  <p:cNvPr id="1161" name="Freeform 74"/>
                  <p:cNvSpPr/>
                  <p:nvPr/>
                </p:nvSpPr>
                <p:spPr>
                  <a:xfrm>
                    <a:off x="7759440" y="4179960"/>
                    <a:ext cx="391320" cy="12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756" h="1576">
                        <a:moveTo>
                          <a:pt x="0" y="1576"/>
                        </a:moveTo>
                        <a:lnTo>
                          <a:pt x="0" y="1576"/>
                        </a:lnTo>
                        <a:lnTo>
                          <a:pt x="24" y="1518"/>
                        </a:lnTo>
                        <a:lnTo>
                          <a:pt x="50" y="1462"/>
                        </a:lnTo>
                        <a:lnTo>
                          <a:pt x="78" y="1406"/>
                        </a:lnTo>
                        <a:lnTo>
                          <a:pt x="108" y="1350"/>
                        </a:lnTo>
                        <a:lnTo>
                          <a:pt x="138" y="1296"/>
                        </a:lnTo>
                        <a:lnTo>
                          <a:pt x="170" y="1242"/>
                        </a:lnTo>
                        <a:lnTo>
                          <a:pt x="204" y="1190"/>
                        </a:lnTo>
                        <a:lnTo>
                          <a:pt x="238" y="1138"/>
                        </a:lnTo>
                        <a:lnTo>
                          <a:pt x="272" y="1086"/>
                        </a:lnTo>
                        <a:lnTo>
                          <a:pt x="310" y="1036"/>
                        </a:lnTo>
                        <a:lnTo>
                          <a:pt x="348" y="988"/>
                        </a:lnTo>
                        <a:lnTo>
                          <a:pt x="386" y="940"/>
                        </a:lnTo>
                        <a:lnTo>
                          <a:pt x="426" y="892"/>
                        </a:lnTo>
                        <a:lnTo>
                          <a:pt x="468" y="846"/>
                        </a:lnTo>
                        <a:lnTo>
                          <a:pt x="510" y="800"/>
                        </a:lnTo>
                        <a:lnTo>
                          <a:pt x="552" y="756"/>
                        </a:lnTo>
                        <a:lnTo>
                          <a:pt x="596" y="712"/>
                        </a:lnTo>
                        <a:lnTo>
                          <a:pt x="642" y="670"/>
                        </a:lnTo>
                        <a:lnTo>
                          <a:pt x="688" y="630"/>
                        </a:lnTo>
                        <a:lnTo>
                          <a:pt x="736" y="590"/>
                        </a:lnTo>
                        <a:lnTo>
                          <a:pt x="784" y="550"/>
                        </a:lnTo>
                        <a:lnTo>
                          <a:pt x="834" y="512"/>
                        </a:lnTo>
                        <a:lnTo>
                          <a:pt x="884" y="476"/>
                        </a:lnTo>
                        <a:lnTo>
                          <a:pt x="934" y="440"/>
                        </a:lnTo>
                        <a:lnTo>
                          <a:pt x="986" y="406"/>
                        </a:lnTo>
                        <a:lnTo>
                          <a:pt x="1040" y="374"/>
                        </a:lnTo>
                        <a:lnTo>
                          <a:pt x="1092" y="342"/>
                        </a:lnTo>
                        <a:lnTo>
                          <a:pt x="1148" y="312"/>
                        </a:lnTo>
                        <a:lnTo>
                          <a:pt x="1202" y="282"/>
                        </a:lnTo>
                        <a:lnTo>
                          <a:pt x="1258" y="254"/>
                        </a:lnTo>
                        <a:lnTo>
                          <a:pt x="1316" y="228"/>
                        </a:lnTo>
                        <a:lnTo>
                          <a:pt x="1374" y="202"/>
                        </a:lnTo>
                        <a:lnTo>
                          <a:pt x="1432" y="178"/>
                        </a:lnTo>
                        <a:lnTo>
                          <a:pt x="1490" y="156"/>
                        </a:lnTo>
                        <a:lnTo>
                          <a:pt x="1550" y="136"/>
                        </a:lnTo>
                        <a:lnTo>
                          <a:pt x="1610" y="116"/>
                        </a:lnTo>
                        <a:lnTo>
                          <a:pt x="1672" y="98"/>
                        </a:lnTo>
                        <a:lnTo>
                          <a:pt x="1732" y="80"/>
                        </a:lnTo>
                        <a:lnTo>
                          <a:pt x="1794" y="66"/>
                        </a:lnTo>
                        <a:lnTo>
                          <a:pt x="1858" y="52"/>
                        </a:lnTo>
                        <a:lnTo>
                          <a:pt x="1922" y="40"/>
                        </a:lnTo>
                        <a:lnTo>
                          <a:pt x="1984" y="30"/>
                        </a:lnTo>
                        <a:lnTo>
                          <a:pt x="2050" y="20"/>
                        </a:lnTo>
                        <a:lnTo>
                          <a:pt x="2114" y="12"/>
                        </a:lnTo>
                        <a:lnTo>
                          <a:pt x="2180" y="8"/>
                        </a:lnTo>
                        <a:lnTo>
                          <a:pt x="2246" y="2"/>
                        </a:lnTo>
                        <a:lnTo>
                          <a:pt x="2312" y="0"/>
                        </a:lnTo>
                        <a:lnTo>
                          <a:pt x="2378" y="0"/>
                        </a:lnTo>
                        <a:lnTo>
                          <a:pt x="2444" y="0"/>
                        </a:lnTo>
                        <a:lnTo>
                          <a:pt x="2510" y="2"/>
                        </a:lnTo>
                        <a:lnTo>
                          <a:pt x="2576" y="8"/>
                        </a:lnTo>
                        <a:lnTo>
                          <a:pt x="2642" y="12"/>
                        </a:lnTo>
                        <a:lnTo>
                          <a:pt x="2706" y="20"/>
                        </a:lnTo>
                        <a:lnTo>
                          <a:pt x="2772" y="30"/>
                        </a:lnTo>
                        <a:lnTo>
                          <a:pt x="2834" y="40"/>
                        </a:lnTo>
                        <a:lnTo>
                          <a:pt x="2898" y="52"/>
                        </a:lnTo>
                        <a:lnTo>
                          <a:pt x="2962" y="66"/>
                        </a:lnTo>
                        <a:lnTo>
                          <a:pt x="3024" y="80"/>
                        </a:lnTo>
                        <a:lnTo>
                          <a:pt x="3084" y="98"/>
                        </a:lnTo>
                        <a:lnTo>
                          <a:pt x="3146" y="116"/>
                        </a:lnTo>
                        <a:lnTo>
                          <a:pt x="3206" y="136"/>
                        </a:lnTo>
                        <a:lnTo>
                          <a:pt x="3266" y="156"/>
                        </a:lnTo>
                        <a:lnTo>
                          <a:pt x="3324" y="178"/>
                        </a:lnTo>
                        <a:lnTo>
                          <a:pt x="3382" y="202"/>
                        </a:lnTo>
                        <a:lnTo>
                          <a:pt x="3440" y="228"/>
                        </a:lnTo>
                        <a:lnTo>
                          <a:pt x="3498" y="254"/>
                        </a:lnTo>
                        <a:lnTo>
                          <a:pt x="3554" y="282"/>
                        </a:lnTo>
                        <a:lnTo>
                          <a:pt x="3608" y="312"/>
                        </a:lnTo>
                        <a:lnTo>
                          <a:pt x="3664" y="342"/>
                        </a:lnTo>
                        <a:lnTo>
                          <a:pt x="3716" y="374"/>
                        </a:lnTo>
                        <a:lnTo>
                          <a:pt x="3770" y="406"/>
                        </a:lnTo>
                        <a:lnTo>
                          <a:pt x="3822" y="440"/>
                        </a:lnTo>
                        <a:lnTo>
                          <a:pt x="3872" y="476"/>
                        </a:lnTo>
                        <a:lnTo>
                          <a:pt x="3922" y="512"/>
                        </a:lnTo>
                        <a:lnTo>
                          <a:pt x="3972" y="550"/>
                        </a:lnTo>
                        <a:lnTo>
                          <a:pt x="4020" y="590"/>
                        </a:lnTo>
                        <a:lnTo>
                          <a:pt x="4068" y="630"/>
                        </a:lnTo>
                        <a:lnTo>
                          <a:pt x="4114" y="670"/>
                        </a:lnTo>
                        <a:lnTo>
                          <a:pt x="4160" y="712"/>
                        </a:lnTo>
                        <a:lnTo>
                          <a:pt x="4204" y="756"/>
                        </a:lnTo>
                        <a:lnTo>
                          <a:pt x="4246" y="800"/>
                        </a:lnTo>
                        <a:lnTo>
                          <a:pt x="4288" y="846"/>
                        </a:lnTo>
                        <a:lnTo>
                          <a:pt x="4330" y="892"/>
                        </a:lnTo>
                        <a:lnTo>
                          <a:pt x="4370" y="940"/>
                        </a:lnTo>
                        <a:lnTo>
                          <a:pt x="4410" y="988"/>
                        </a:lnTo>
                        <a:lnTo>
                          <a:pt x="4446" y="1036"/>
                        </a:lnTo>
                        <a:lnTo>
                          <a:pt x="4484" y="1086"/>
                        </a:lnTo>
                        <a:lnTo>
                          <a:pt x="4518" y="1138"/>
                        </a:lnTo>
                        <a:lnTo>
                          <a:pt x="4552" y="1190"/>
                        </a:lnTo>
                        <a:lnTo>
                          <a:pt x="4586" y="1242"/>
                        </a:lnTo>
                        <a:lnTo>
                          <a:pt x="4618" y="1296"/>
                        </a:lnTo>
                        <a:lnTo>
                          <a:pt x="4648" y="1350"/>
                        </a:lnTo>
                        <a:lnTo>
                          <a:pt x="4678" y="1406"/>
                        </a:lnTo>
                        <a:lnTo>
                          <a:pt x="4706" y="1462"/>
                        </a:lnTo>
                        <a:lnTo>
                          <a:pt x="4732" y="1518"/>
                        </a:lnTo>
                        <a:lnTo>
                          <a:pt x="4756" y="1576"/>
                        </a:lnTo>
                        <a:lnTo>
                          <a:pt x="0" y="1576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>
                          <a:alpha val="75294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2" name="Oval 75"/>
                  <p:cNvSpPr/>
                  <p:nvPr/>
                </p:nvSpPr>
                <p:spPr>
                  <a:xfrm>
                    <a:off x="7905960" y="4180320"/>
                    <a:ext cx="97560" cy="87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7abf5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840" bIns="15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63" name="Group 76"/>
            <p:cNvGrpSpPr/>
            <p:nvPr/>
          </p:nvGrpSpPr>
          <p:grpSpPr>
            <a:xfrm>
              <a:off x="5199120" y="4565880"/>
              <a:ext cx="658440" cy="753480"/>
              <a:chOff x="5199120" y="4565880"/>
              <a:chExt cx="658440" cy="753480"/>
            </a:xfrm>
          </p:grpSpPr>
          <p:sp>
            <p:nvSpPr>
              <p:cNvPr id="1164" name="Oval 77"/>
              <p:cNvSpPr/>
              <p:nvPr/>
            </p:nvSpPr>
            <p:spPr>
              <a:xfrm>
                <a:off x="5199120" y="5100480"/>
                <a:ext cx="632880" cy="21888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50196"/>
                    </a:srgbClr>
                  </a:gs>
                  <a:gs pos="100000">
                    <a:srgbClr val="000000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5" name="Group 78"/>
              <p:cNvGrpSpPr/>
              <p:nvPr/>
            </p:nvGrpSpPr>
            <p:grpSpPr>
              <a:xfrm>
                <a:off x="5199840" y="4565880"/>
                <a:ext cx="657720" cy="658080"/>
                <a:chOff x="5199840" y="4565880"/>
                <a:chExt cx="657720" cy="658080"/>
              </a:xfrm>
            </p:grpSpPr>
            <p:sp>
              <p:nvSpPr>
                <p:cNvPr id="1166" name="Oval 79"/>
                <p:cNvSpPr/>
                <p:nvPr/>
              </p:nvSpPr>
              <p:spPr>
                <a:xfrm>
                  <a:off x="5199840" y="4565880"/>
                  <a:ext cx="657720" cy="658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ebebe"/>
                    </a:gs>
                    <a:gs pos="100000">
                      <a:srgbClr val="6e6e6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67" name="Group 80"/>
                <p:cNvGrpSpPr/>
                <p:nvPr/>
              </p:nvGrpSpPr>
              <p:grpSpPr>
                <a:xfrm>
                  <a:off x="5254560" y="4583880"/>
                  <a:ext cx="548280" cy="178920"/>
                  <a:chOff x="5254560" y="4583880"/>
                  <a:chExt cx="548280" cy="178920"/>
                </a:xfrm>
              </p:grpSpPr>
              <p:sp>
                <p:nvSpPr>
                  <p:cNvPr id="1168" name="Freeform 81"/>
                  <p:cNvSpPr/>
                  <p:nvPr/>
                </p:nvSpPr>
                <p:spPr>
                  <a:xfrm>
                    <a:off x="5254560" y="4583880"/>
                    <a:ext cx="548280" cy="178920"/>
                  </a:xfrm>
                  <a:custGeom>
                    <a:avLst/>
                    <a:gdLst/>
                    <a:ahLst/>
                    <a:rect l="l" t="t" r="r" b="b"/>
                    <a:pathLst>
                      <a:path w="4756" h="1576">
                        <a:moveTo>
                          <a:pt x="0" y="1576"/>
                        </a:moveTo>
                        <a:lnTo>
                          <a:pt x="0" y="1576"/>
                        </a:lnTo>
                        <a:lnTo>
                          <a:pt x="24" y="1518"/>
                        </a:lnTo>
                        <a:lnTo>
                          <a:pt x="50" y="1462"/>
                        </a:lnTo>
                        <a:lnTo>
                          <a:pt x="78" y="1406"/>
                        </a:lnTo>
                        <a:lnTo>
                          <a:pt x="108" y="1350"/>
                        </a:lnTo>
                        <a:lnTo>
                          <a:pt x="138" y="1296"/>
                        </a:lnTo>
                        <a:lnTo>
                          <a:pt x="170" y="1242"/>
                        </a:lnTo>
                        <a:lnTo>
                          <a:pt x="204" y="1190"/>
                        </a:lnTo>
                        <a:lnTo>
                          <a:pt x="238" y="1138"/>
                        </a:lnTo>
                        <a:lnTo>
                          <a:pt x="272" y="1086"/>
                        </a:lnTo>
                        <a:lnTo>
                          <a:pt x="310" y="1036"/>
                        </a:lnTo>
                        <a:lnTo>
                          <a:pt x="348" y="988"/>
                        </a:lnTo>
                        <a:lnTo>
                          <a:pt x="386" y="940"/>
                        </a:lnTo>
                        <a:lnTo>
                          <a:pt x="426" y="892"/>
                        </a:lnTo>
                        <a:lnTo>
                          <a:pt x="468" y="846"/>
                        </a:lnTo>
                        <a:lnTo>
                          <a:pt x="510" y="800"/>
                        </a:lnTo>
                        <a:lnTo>
                          <a:pt x="552" y="756"/>
                        </a:lnTo>
                        <a:lnTo>
                          <a:pt x="596" y="712"/>
                        </a:lnTo>
                        <a:lnTo>
                          <a:pt x="642" y="670"/>
                        </a:lnTo>
                        <a:lnTo>
                          <a:pt x="688" y="630"/>
                        </a:lnTo>
                        <a:lnTo>
                          <a:pt x="736" y="590"/>
                        </a:lnTo>
                        <a:lnTo>
                          <a:pt x="784" y="550"/>
                        </a:lnTo>
                        <a:lnTo>
                          <a:pt x="834" y="512"/>
                        </a:lnTo>
                        <a:lnTo>
                          <a:pt x="884" y="476"/>
                        </a:lnTo>
                        <a:lnTo>
                          <a:pt x="934" y="440"/>
                        </a:lnTo>
                        <a:lnTo>
                          <a:pt x="986" y="406"/>
                        </a:lnTo>
                        <a:lnTo>
                          <a:pt x="1040" y="374"/>
                        </a:lnTo>
                        <a:lnTo>
                          <a:pt x="1092" y="342"/>
                        </a:lnTo>
                        <a:lnTo>
                          <a:pt x="1148" y="312"/>
                        </a:lnTo>
                        <a:lnTo>
                          <a:pt x="1202" y="282"/>
                        </a:lnTo>
                        <a:lnTo>
                          <a:pt x="1258" y="254"/>
                        </a:lnTo>
                        <a:lnTo>
                          <a:pt x="1316" y="228"/>
                        </a:lnTo>
                        <a:lnTo>
                          <a:pt x="1374" y="202"/>
                        </a:lnTo>
                        <a:lnTo>
                          <a:pt x="1432" y="178"/>
                        </a:lnTo>
                        <a:lnTo>
                          <a:pt x="1490" y="156"/>
                        </a:lnTo>
                        <a:lnTo>
                          <a:pt x="1550" y="136"/>
                        </a:lnTo>
                        <a:lnTo>
                          <a:pt x="1610" y="116"/>
                        </a:lnTo>
                        <a:lnTo>
                          <a:pt x="1672" y="98"/>
                        </a:lnTo>
                        <a:lnTo>
                          <a:pt x="1732" y="80"/>
                        </a:lnTo>
                        <a:lnTo>
                          <a:pt x="1794" y="66"/>
                        </a:lnTo>
                        <a:lnTo>
                          <a:pt x="1858" y="52"/>
                        </a:lnTo>
                        <a:lnTo>
                          <a:pt x="1922" y="40"/>
                        </a:lnTo>
                        <a:lnTo>
                          <a:pt x="1984" y="30"/>
                        </a:lnTo>
                        <a:lnTo>
                          <a:pt x="2050" y="20"/>
                        </a:lnTo>
                        <a:lnTo>
                          <a:pt x="2114" y="12"/>
                        </a:lnTo>
                        <a:lnTo>
                          <a:pt x="2180" y="8"/>
                        </a:lnTo>
                        <a:lnTo>
                          <a:pt x="2246" y="2"/>
                        </a:lnTo>
                        <a:lnTo>
                          <a:pt x="2312" y="0"/>
                        </a:lnTo>
                        <a:lnTo>
                          <a:pt x="2378" y="0"/>
                        </a:lnTo>
                        <a:lnTo>
                          <a:pt x="2444" y="0"/>
                        </a:lnTo>
                        <a:lnTo>
                          <a:pt x="2510" y="2"/>
                        </a:lnTo>
                        <a:lnTo>
                          <a:pt x="2576" y="8"/>
                        </a:lnTo>
                        <a:lnTo>
                          <a:pt x="2642" y="12"/>
                        </a:lnTo>
                        <a:lnTo>
                          <a:pt x="2706" y="20"/>
                        </a:lnTo>
                        <a:lnTo>
                          <a:pt x="2772" y="30"/>
                        </a:lnTo>
                        <a:lnTo>
                          <a:pt x="2834" y="40"/>
                        </a:lnTo>
                        <a:lnTo>
                          <a:pt x="2898" y="52"/>
                        </a:lnTo>
                        <a:lnTo>
                          <a:pt x="2962" y="66"/>
                        </a:lnTo>
                        <a:lnTo>
                          <a:pt x="3024" y="80"/>
                        </a:lnTo>
                        <a:lnTo>
                          <a:pt x="3084" y="98"/>
                        </a:lnTo>
                        <a:lnTo>
                          <a:pt x="3146" y="116"/>
                        </a:lnTo>
                        <a:lnTo>
                          <a:pt x="3206" y="136"/>
                        </a:lnTo>
                        <a:lnTo>
                          <a:pt x="3266" y="156"/>
                        </a:lnTo>
                        <a:lnTo>
                          <a:pt x="3324" y="178"/>
                        </a:lnTo>
                        <a:lnTo>
                          <a:pt x="3382" y="202"/>
                        </a:lnTo>
                        <a:lnTo>
                          <a:pt x="3440" y="228"/>
                        </a:lnTo>
                        <a:lnTo>
                          <a:pt x="3498" y="254"/>
                        </a:lnTo>
                        <a:lnTo>
                          <a:pt x="3554" y="282"/>
                        </a:lnTo>
                        <a:lnTo>
                          <a:pt x="3608" y="312"/>
                        </a:lnTo>
                        <a:lnTo>
                          <a:pt x="3664" y="342"/>
                        </a:lnTo>
                        <a:lnTo>
                          <a:pt x="3716" y="374"/>
                        </a:lnTo>
                        <a:lnTo>
                          <a:pt x="3770" y="406"/>
                        </a:lnTo>
                        <a:lnTo>
                          <a:pt x="3822" y="440"/>
                        </a:lnTo>
                        <a:lnTo>
                          <a:pt x="3872" y="476"/>
                        </a:lnTo>
                        <a:lnTo>
                          <a:pt x="3922" y="512"/>
                        </a:lnTo>
                        <a:lnTo>
                          <a:pt x="3972" y="550"/>
                        </a:lnTo>
                        <a:lnTo>
                          <a:pt x="4020" y="590"/>
                        </a:lnTo>
                        <a:lnTo>
                          <a:pt x="4068" y="630"/>
                        </a:lnTo>
                        <a:lnTo>
                          <a:pt x="4114" y="670"/>
                        </a:lnTo>
                        <a:lnTo>
                          <a:pt x="4160" y="712"/>
                        </a:lnTo>
                        <a:lnTo>
                          <a:pt x="4204" y="756"/>
                        </a:lnTo>
                        <a:lnTo>
                          <a:pt x="4246" y="800"/>
                        </a:lnTo>
                        <a:lnTo>
                          <a:pt x="4288" y="846"/>
                        </a:lnTo>
                        <a:lnTo>
                          <a:pt x="4330" y="892"/>
                        </a:lnTo>
                        <a:lnTo>
                          <a:pt x="4370" y="940"/>
                        </a:lnTo>
                        <a:lnTo>
                          <a:pt x="4410" y="988"/>
                        </a:lnTo>
                        <a:lnTo>
                          <a:pt x="4446" y="1036"/>
                        </a:lnTo>
                        <a:lnTo>
                          <a:pt x="4484" y="1086"/>
                        </a:lnTo>
                        <a:lnTo>
                          <a:pt x="4518" y="1138"/>
                        </a:lnTo>
                        <a:lnTo>
                          <a:pt x="4552" y="1190"/>
                        </a:lnTo>
                        <a:lnTo>
                          <a:pt x="4586" y="1242"/>
                        </a:lnTo>
                        <a:lnTo>
                          <a:pt x="4618" y="1296"/>
                        </a:lnTo>
                        <a:lnTo>
                          <a:pt x="4648" y="1350"/>
                        </a:lnTo>
                        <a:lnTo>
                          <a:pt x="4678" y="1406"/>
                        </a:lnTo>
                        <a:lnTo>
                          <a:pt x="4706" y="1462"/>
                        </a:lnTo>
                        <a:lnTo>
                          <a:pt x="4732" y="1518"/>
                        </a:lnTo>
                        <a:lnTo>
                          <a:pt x="4756" y="1576"/>
                        </a:lnTo>
                        <a:lnTo>
                          <a:pt x="0" y="1576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>
                          <a:alpha val="75294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9" name="Oval 82"/>
                  <p:cNvSpPr/>
                  <p:nvPr/>
                </p:nvSpPr>
                <p:spPr>
                  <a:xfrm>
                    <a:off x="5459040" y="4584240"/>
                    <a:ext cx="137160" cy="123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7abf5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70" name="Group 83"/>
            <p:cNvGrpSpPr/>
            <p:nvPr/>
          </p:nvGrpSpPr>
          <p:grpSpPr>
            <a:xfrm>
              <a:off x="6639120" y="2260440"/>
              <a:ext cx="755640" cy="755640"/>
              <a:chOff x="6639120" y="2260440"/>
              <a:chExt cx="755640" cy="755640"/>
            </a:xfrm>
          </p:grpSpPr>
          <p:sp>
            <p:nvSpPr>
              <p:cNvPr id="1171" name="Oval 84"/>
              <p:cNvSpPr/>
              <p:nvPr/>
            </p:nvSpPr>
            <p:spPr>
              <a:xfrm>
                <a:off x="6639120" y="2260440"/>
                <a:ext cx="755640" cy="755640"/>
              </a:xfrm>
              <a:prstGeom prst="ellipse">
                <a:avLst/>
              </a:prstGeom>
              <a:gradFill rotWithShape="0">
                <a:gsLst>
                  <a:gs pos="0">
                    <a:srgbClr val="9e9e9e"/>
                  </a:gs>
                  <a:gs pos="100000">
                    <a:srgbClr val="5b5b5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2" name="Group 85"/>
              <p:cNvGrpSpPr/>
              <p:nvPr/>
            </p:nvGrpSpPr>
            <p:grpSpPr>
              <a:xfrm>
                <a:off x="6702120" y="2280960"/>
                <a:ext cx="630000" cy="205560"/>
                <a:chOff x="6702120" y="2280960"/>
                <a:chExt cx="630000" cy="205560"/>
              </a:xfrm>
            </p:grpSpPr>
            <p:sp>
              <p:nvSpPr>
                <p:cNvPr id="1173" name="Freeform 86"/>
                <p:cNvSpPr/>
                <p:nvPr/>
              </p:nvSpPr>
              <p:spPr>
                <a:xfrm>
                  <a:off x="6702120" y="2280960"/>
                  <a:ext cx="630000" cy="205560"/>
                </a:xfrm>
                <a:custGeom>
                  <a:avLst/>
                  <a:gdLst/>
                  <a:ahLst/>
                  <a:rect l="l" t="t" r="r" b="b"/>
                  <a:pathLst>
                    <a:path w="4756" h="1576">
                      <a:moveTo>
                        <a:pt x="0" y="1576"/>
                      </a:moveTo>
                      <a:lnTo>
                        <a:pt x="0" y="1576"/>
                      </a:lnTo>
                      <a:lnTo>
                        <a:pt x="24" y="1518"/>
                      </a:lnTo>
                      <a:lnTo>
                        <a:pt x="50" y="1462"/>
                      </a:lnTo>
                      <a:lnTo>
                        <a:pt x="78" y="1406"/>
                      </a:lnTo>
                      <a:lnTo>
                        <a:pt x="108" y="1350"/>
                      </a:lnTo>
                      <a:lnTo>
                        <a:pt x="138" y="1296"/>
                      </a:lnTo>
                      <a:lnTo>
                        <a:pt x="170" y="1242"/>
                      </a:lnTo>
                      <a:lnTo>
                        <a:pt x="204" y="1190"/>
                      </a:lnTo>
                      <a:lnTo>
                        <a:pt x="238" y="1138"/>
                      </a:lnTo>
                      <a:lnTo>
                        <a:pt x="272" y="1086"/>
                      </a:lnTo>
                      <a:lnTo>
                        <a:pt x="310" y="1036"/>
                      </a:lnTo>
                      <a:lnTo>
                        <a:pt x="348" y="988"/>
                      </a:lnTo>
                      <a:lnTo>
                        <a:pt x="386" y="940"/>
                      </a:lnTo>
                      <a:lnTo>
                        <a:pt x="426" y="892"/>
                      </a:lnTo>
                      <a:lnTo>
                        <a:pt x="468" y="846"/>
                      </a:lnTo>
                      <a:lnTo>
                        <a:pt x="510" y="800"/>
                      </a:lnTo>
                      <a:lnTo>
                        <a:pt x="552" y="756"/>
                      </a:lnTo>
                      <a:lnTo>
                        <a:pt x="596" y="712"/>
                      </a:lnTo>
                      <a:lnTo>
                        <a:pt x="642" y="670"/>
                      </a:lnTo>
                      <a:lnTo>
                        <a:pt x="688" y="630"/>
                      </a:lnTo>
                      <a:lnTo>
                        <a:pt x="736" y="590"/>
                      </a:lnTo>
                      <a:lnTo>
                        <a:pt x="784" y="550"/>
                      </a:lnTo>
                      <a:lnTo>
                        <a:pt x="834" y="512"/>
                      </a:lnTo>
                      <a:lnTo>
                        <a:pt x="884" y="476"/>
                      </a:lnTo>
                      <a:lnTo>
                        <a:pt x="934" y="440"/>
                      </a:lnTo>
                      <a:lnTo>
                        <a:pt x="986" y="406"/>
                      </a:lnTo>
                      <a:lnTo>
                        <a:pt x="1040" y="374"/>
                      </a:lnTo>
                      <a:lnTo>
                        <a:pt x="1092" y="342"/>
                      </a:lnTo>
                      <a:lnTo>
                        <a:pt x="1148" y="312"/>
                      </a:lnTo>
                      <a:lnTo>
                        <a:pt x="1202" y="282"/>
                      </a:lnTo>
                      <a:lnTo>
                        <a:pt x="1258" y="254"/>
                      </a:lnTo>
                      <a:lnTo>
                        <a:pt x="1316" y="228"/>
                      </a:lnTo>
                      <a:lnTo>
                        <a:pt x="1374" y="202"/>
                      </a:lnTo>
                      <a:lnTo>
                        <a:pt x="1432" y="178"/>
                      </a:lnTo>
                      <a:lnTo>
                        <a:pt x="1490" y="156"/>
                      </a:lnTo>
                      <a:lnTo>
                        <a:pt x="1550" y="136"/>
                      </a:lnTo>
                      <a:lnTo>
                        <a:pt x="1610" y="116"/>
                      </a:lnTo>
                      <a:lnTo>
                        <a:pt x="1672" y="98"/>
                      </a:lnTo>
                      <a:lnTo>
                        <a:pt x="1732" y="80"/>
                      </a:lnTo>
                      <a:lnTo>
                        <a:pt x="1794" y="66"/>
                      </a:lnTo>
                      <a:lnTo>
                        <a:pt x="1858" y="52"/>
                      </a:lnTo>
                      <a:lnTo>
                        <a:pt x="1922" y="40"/>
                      </a:lnTo>
                      <a:lnTo>
                        <a:pt x="1984" y="30"/>
                      </a:lnTo>
                      <a:lnTo>
                        <a:pt x="2050" y="20"/>
                      </a:lnTo>
                      <a:lnTo>
                        <a:pt x="2114" y="12"/>
                      </a:lnTo>
                      <a:lnTo>
                        <a:pt x="2180" y="8"/>
                      </a:lnTo>
                      <a:lnTo>
                        <a:pt x="2246" y="2"/>
                      </a:lnTo>
                      <a:lnTo>
                        <a:pt x="2312" y="0"/>
                      </a:lnTo>
                      <a:lnTo>
                        <a:pt x="2378" y="0"/>
                      </a:lnTo>
                      <a:lnTo>
                        <a:pt x="2444" y="0"/>
                      </a:lnTo>
                      <a:lnTo>
                        <a:pt x="2510" y="2"/>
                      </a:lnTo>
                      <a:lnTo>
                        <a:pt x="2576" y="8"/>
                      </a:lnTo>
                      <a:lnTo>
                        <a:pt x="2642" y="12"/>
                      </a:lnTo>
                      <a:lnTo>
                        <a:pt x="2706" y="20"/>
                      </a:lnTo>
                      <a:lnTo>
                        <a:pt x="2772" y="30"/>
                      </a:lnTo>
                      <a:lnTo>
                        <a:pt x="2834" y="40"/>
                      </a:lnTo>
                      <a:lnTo>
                        <a:pt x="2898" y="52"/>
                      </a:lnTo>
                      <a:lnTo>
                        <a:pt x="2962" y="66"/>
                      </a:lnTo>
                      <a:lnTo>
                        <a:pt x="3024" y="80"/>
                      </a:lnTo>
                      <a:lnTo>
                        <a:pt x="3084" y="98"/>
                      </a:lnTo>
                      <a:lnTo>
                        <a:pt x="3146" y="116"/>
                      </a:lnTo>
                      <a:lnTo>
                        <a:pt x="3206" y="136"/>
                      </a:lnTo>
                      <a:lnTo>
                        <a:pt x="3266" y="156"/>
                      </a:lnTo>
                      <a:lnTo>
                        <a:pt x="3324" y="178"/>
                      </a:lnTo>
                      <a:lnTo>
                        <a:pt x="3382" y="202"/>
                      </a:lnTo>
                      <a:lnTo>
                        <a:pt x="3440" y="228"/>
                      </a:lnTo>
                      <a:lnTo>
                        <a:pt x="3498" y="254"/>
                      </a:lnTo>
                      <a:lnTo>
                        <a:pt x="3554" y="282"/>
                      </a:lnTo>
                      <a:lnTo>
                        <a:pt x="3608" y="312"/>
                      </a:lnTo>
                      <a:lnTo>
                        <a:pt x="3664" y="342"/>
                      </a:lnTo>
                      <a:lnTo>
                        <a:pt x="3716" y="374"/>
                      </a:lnTo>
                      <a:lnTo>
                        <a:pt x="3770" y="406"/>
                      </a:lnTo>
                      <a:lnTo>
                        <a:pt x="3822" y="440"/>
                      </a:lnTo>
                      <a:lnTo>
                        <a:pt x="3872" y="476"/>
                      </a:lnTo>
                      <a:lnTo>
                        <a:pt x="3922" y="512"/>
                      </a:lnTo>
                      <a:lnTo>
                        <a:pt x="3972" y="550"/>
                      </a:lnTo>
                      <a:lnTo>
                        <a:pt x="4020" y="590"/>
                      </a:lnTo>
                      <a:lnTo>
                        <a:pt x="4068" y="630"/>
                      </a:lnTo>
                      <a:lnTo>
                        <a:pt x="4114" y="670"/>
                      </a:lnTo>
                      <a:lnTo>
                        <a:pt x="4160" y="712"/>
                      </a:lnTo>
                      <a:lnTo>
                        <a:pt x="4204" y="756"/>
                      </a:lnTo>
                      <a:lnTo>
                        <a:pt x="4246" y="800"/>
                      </a:lnTo>
                      <a:lnTo>
                        <a:pt x="4288" y="846"/>
                      </a:lnTo>
                      <a:lnTo>
                        <a:pt x="4330" y="892"/>
                      </a:lnTo>
                      <a:lnTo>
                        <a:pt x="4370" y="940"/>
                      </a:lnTo>
                      <a:lnTo>
                        <a:pt x="4410" y="988"/>
                      </a:lnTo>
                      <a:lnTo>
                        <a:pt x="4446" y="1036"/>
                      </a:lnTo>
                      <a:lnTo>
                        <a:pt x="4484" y="1086"/>
                      </a:lnTo>
                      <a:lnTo>
                        <a:pt x="4518" y="1138"/>
                      </a:lnTo>
                      <a:lnTo>
                        <a:pt x="4552" y="1190"/>
                      </a:lnTo>
                      <a:lnTo>
                        <a:pt x="4586" y="1242"/>
                      </a:lnTo>
                      <a:lnTo>
                        <a:pt x="4618" y="1296"/>
                      </a:lnTo>
                      <a:lnTo>
                        <a:pt x="4648" y="1350"/>
                      </a:lnTo>
                      <a:lnTo>
                        <a:pt x="4678" y="1406"/>
                      </a:lnTo>
                      <a:lnTo>
                        <a:pt x="4706" y="1462"/>
                      </a:lnTo>
                      <a:lnTo>
                        <a:pt x="4732" y="1518"/>
                      </a:lnTo>
                      <a:lnTo>
                        <a:pt x="4756" y="1576"/>
                      </a:lnTo>
                      <a:lnTo>
                        <a:pt x="0" y="157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>
                        <a:alpha val="75294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4" name="Oval 87"/>
                <p:cNvSpPr/>
                <p:nvPr/>
              </p:nvSpPr>
              <p:spPr>
                <a:xfrm>
                  <a:off x="6937560" y="2280960"/>
                  <a:ext cx="157680" cy="14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7abf5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5" name="Group 88"/>
            <p:cNvGrpSpPr/>
            <p:nvPr/>
          </p:nvGrpSpPr>
          <p:grpSpPr>
            <a:xfrm>
              <a:off x="5630760" y="2379600"/>
              <a:ext cx="2368440" cy="2665440"/>
              <a:chOff x="5630760" y="2379600"/>
              <a:chExt cx="2368440" cy="2665440"/>
            </a:xfrm>
          </p:grpSpPr>
          <p:sp>
            <p:nvSpPr>
              <p:cNvPr id="1176" name="Freeform 89"/>
              <p:cNvSpPr/>
              <p:nvPr/>
            </p:nvSpPr>
            <p:spPr>
              <a:xfrm>
                <a:off x="5630760" y="2379600"/>
                <a:ext cx="2368440" cy="592200"/>
              </a:xfrm>
              <a:custGeom>
                <a:avLst/>
                <a:gdLst/>
                <a:ahLst/>
                <a:rect l="l" t="t" r="r" b="b"/>
                <a:pathLst>
                  <a:path w="1492" h="373">
                    <a:moveTo>
                      <a:pt x="746" y="350"/>
                    </a:moveTo>
                    <a:lnTo>
                      <a:pt x="746" y="350"/>
                    </a:lnTo>
                    <a:lnTo>
                      <a:pt x="710" y="350"/>
                    </a:lnTo>
                    <a:lnTo>
                      <a:pt x="675" y="349"/>
                    </a:lnTo>
                    <a:lnTo>
                      <a:pt x="640" y="346"/>
                    </a:lnTo>
                    <a:lnTo>
                      <a:pt x="605" y="343"/>
                    </a:lnTo>
                    <a:lnTo>
                      <a:pt x="571" y="340"/>
                    </a:lnTo>
                    <a:lnTo>
                      <a:pt x="537" y="334"/>
                    </a:lnTo>
                    <a:lnTo>
                      <a:pt x="505" y="329"/>
                    </a:lnTo>
                    <a:lnTo>
                      <a:pt x="474" y="323"/>
                    </a:lnTo>
                    <a:lnTo>
                      <a:pt x="443" y="316"/>
                    </a:lnTo>
                    <a:lnTo>
                      <a:pt x="413" y="308"/>
                    </a:lnTo>
                    <a:lnTo>
                      <a:pt x="383" y="299"/>
                    </a:lnTo>
                    <a:lnTo>
                      <a:pt x="355" y="290"/>
                    </a:lnTo>
                    <a:lnTo>
                      <a:pt x="328" y="281"/>
                    </a:lnTo>
                    <a:lnTo>
                      <a:pt x="302" y="271"/>
                    </a:lnTo>
                    <a:lnTo>
                      <a:pt x="276" y="259"/>
                    </a:lnTo>
                    <a:lnTo>
                      <a:pt x="251" y="248"/>
                    </a:lnTo>
                    <a:lnTo>
                      <a:pt x="228" y="236"/>
                    </a:lnTo>
                    <a:lnTo>
                      <a:pt x="206" y="223"/>
                    </a:lnTo>
                    <a:lnTo>
                      <a:pt x="185" y="210"/>
                    </a:lnTo>
                    <a:lnTo>
                      <a:pt x="166" y="196"/>
                    </a:lnTo>
                    <a:lnTo>
                      <a:pt x="148" y="181"/>
                    </a:lnTo>
                    <a:lnTo>
                      <a:pt x="131" y="167"/>
                    </a:lnTo>
                    <a:lnTo>
                      <a:pt x="115" y="152"/>
                    </a:lnTo>
                    <a:lnTo>
                      <a:pt x="101" y="136"/>
                    </a:lnTo>
                    <a:lnTo>
                      <a:pt x="89" y="121"/>
                    </a:lnTo>
                    <a:lnTo>
                      <a:pt x="78" y="104"/>
                    </a:lnTo>
                    <a:lnTo>
                      <a:pt x="69" y="88"/>
                    </a:lnTo>
                    <a:lnTo>
                      <a:pt x="61" y="71"/>
                    </a:lnTo>
                    <a:lnTo>
                      <a:pt x="54" y="53"/>
                    </a:lnTo>
                    <a:lnTo>
                      <a:pt x="51" y="36"/>
                    </a:lnTo>
                    <a:lnTo>
                      <a:pt x="48" y="18"/>
                    </a:lnTo>
                    <a:lnTo>
                      <a:pt x="47" y="0"/>
                    </a:lnTo>
                    <a:lnTo>
                      <a:pt x="0" y="0"/>
                    </a:lnTo>
                    <a:lnTo>
                      <a:pt x="1" y="20"/>
                    </a:lnTo>
                    <a:lnTo>
                      <a:pt x="4" y="38"/>
                    </a:lnTo>
                    <a:lnTo>
                      <a:pt x="9" y="57"/>
                    </a:lnTo>
                    <a:lnTo>
                      <a:pt x="16" y="75"/>
                    </a:lnTo>
                    <a:lnTo>
                      <a:pt x="23" y="93"/>
                    </a:lnTo>
                    <a:lnTo>
                      <a:pt x="34" y="112"/>
                    </a:lnTo>
                    <a:lnTo>
                      <a:pt x="45" y="128"/>
                    </a:lnTo>
                    <a:lnTo>
                      <a:pt x="58" y="145"/>
                    </a:lnTo>
                    <a:lnTo>
                      <a:pt x="74" y="162"/>
                    </a:lnTo>
                    <a:lnTo>
                      <a:pt x="91" y="178"/>
                    </a:lnTo>
                    <a:lnTo>
                      <a:pt x="107" y="193"/>
                    </a:lnTo>
                    <a:lnTo>
                      <a:pt x="127" y="209"/>
                    </a:lnTo>
                    <a:lnTo>
                      <a:pt x="148" y="223"/>
                    </a:lnTo>
                    <a:lnTo>
                      <a:pt x="171" y="237"/>
                    </a:lnTo>
                    <a:lnTo>
                      <a:pt x="194" y="251"/>
                    </a:lnTo>
                    <a:lnTo>
                      <a:pt x="219" y="264"/>
                    </a:lnTo>
                    <a:lnTo>
                      <a:pt x="245" y="276"/>
                    </a:lnTo>
                    <a:lnTo>
                      <a:pt x="272" y="288"/>
                    </a:lnTo>
                    <a:lnTo>
                      <a:pt x="299" y="299"/>
                    </a:lnTo>
                    <a:lnTo>
                      <a:pt x="329" y="310"/>
                    </a:lnTo>
                    <a:lnTo>
                      <a:pt x="359" y="319"/>
                    </a:lnTo>
                    <a:lnTo>
                      <a:pt x="390" y="328"/>
                    </a:lnTo>
                    <a:lnTo>
                      <a:pt x="422" y="337"/>
                    </a:lnTo>
                    <a:lnTo>
                      <a:pt x="456" y="343"/>
                    </a:lnTo>
                    <a:lnTo>
                      <a:pt x="490" y="351"/>
                    </a:lnTo>
                    <a:lnTo>
                      <a:pt x="525" y="356"/>
                    </a:lnTo>
                    <a:lnTo>
                      <a:pt x="560" y="362"/>
                    </a:lnTo>
                    <a:lnTo>
                      <a:pt x="596" y="365"/>
                    </a:lnTo>
                    <a:lnTo>
                      <a:pt x="632" y="369"/>
                    </a:lnTo>
                    <a:lnTo>
                      <a:pt x="670" y="372"/>
                    </a:lnTo>
                    <a:lnTo>
                      <a:pt x="707" y="373"/>
                    </a:lnTo>
                    <a:lnTo>
                      <a:pt x="746" y="373"/>
                    </a:lnTo>
                    <a:lnTo>
                      <a:pt x="785" y="373"/>
                    </a:lnTo>
                    <a:lnTo>
                      <a:pt x="822" y="372"/>
                    </a:lnTo>
                    <a:lnTo>
                      <a:pt x="860" y="369"/>
                    </a:lnTo>
                    <a:lnTo>
                      <a:pt x="896" y="365"/>
                    </a:lnTo>
                    <a:lnTo>
                      <a:pt x="933" y="362"/>
                    </a:lnTo>
                    <a:lnTo>
                      <a:pt x="967" y="356"/>
                    </a:lnTo>
                    <a:lnTo>
                      <a:pt x="1002" y="351"/>
                    </a:lnTo>
                    <a:lnTo>
                      <a:pt x="1036" y="343"/>
                    </a:lnTo>
                    <a:lnTo>
                      <a:pt x="1070" y="337"/>
                    </a:lnTo>
                    <a:lnTo>
                      <a:pt x="1102" y="328"/>
                    </a:lnTo>
                    <a:lnTo>
                      <a:pt x="1133" y="319"/>
                    </a:lnTo>
                    <a:lnTo>
                      <a:pt x="1163" y="310"/>
                    </a:lnTo>
                    <a:lnTo>
                      <a:pt x="1193" y="299"/>
                    </a:lnTo>
                    <a:lnTo>
                      <a:pt x="1220" y="288"/>
                    </a:lnTo>
                    <a:lnTo>
                      <a:pt x="1247" y="276"/>
                    </a:lnTo>
                    <a:lnTo>
                      <a:pt x="1273" y="264"/>
                    </a:lnTo>
                    <a:lnTo>
                      <a:pt x="1298" y="251"/>
                    </a:lnTo>
                    <a:lnTo>
                      <a:pt x="1321" y="237"/>
                    </a:lnTo>
                    <a:lnTo>
                      <a:pt x="1344" y="223"/>
                    </a:lnTo>
                    <a:lnTo>
                      <a:pt x="1365" y="209"/>
                    </a:lnTo>
                    <a:lnTo>
                      <a:pt x="1385" y="193"/>
                    </a:lnTo>
                    <a:lnTo>
                      <a:pt x="1401" y="178"/>
                    </a:lnTo>
                    <a:lnTo>
                      <a:pt x="1418" y="162"/>
                    </a:lnTo>
                    <a:lnTo>
                      <a:pt x="1434" y="145"/>
                    </a:lnTo>
                    <a:lnTo>
                      <a:pt x="1447" y="128"/>
                    </a:lnTo>
                    <a:lnTo>
                      <a:pt x="1458" y="112"/>
                    </a:lnTo>
                    <a:lnTo>
                      <a:pt x="1469" y="93"/>
                    </a:lnTo>
                    <a:lnTo>
                      <a:pt x="1476" y="75"/>
                    </a:lnTo>
                    <a:lnTo>
                      <a:pt x="1483" y="57"/>
                    </a:lnTo>
                    <a:lnTo>
                      <a:pt x="1488" y="38"/>
                    </a:lnTo>
                    <a:lnTo>
                      <a:pt x="1491" y="20"/>
                    </a:lnTo>
                    <a:lnTo>
                      <a:pt x="1492" y="0"/>
                    </a:lnTo>
                    <a:lnTo>
                      <a:pt x="1445" y="0"/>
                    </a:lnTo>
                    <a:lnTo>
                      <a:pt x="1444" y="18"/>
                    </a:lnTo>
                    <a:lnTo>
                      <a:pt x="1441" y="36"/>
                    </a:lnTo>
                    <a:lnTo>
                      <a:pt x="1438" y="53"/>
                    </a:lnTo>
                    <a:lnTo>
                      <a:pt x="1431" y="71"/>
                    </a:lnTo>
                    <a:lnTo>
                      <a:pt x="1423" y="88"/>
                    </a:lnTo>
                    <a:lnTo>
                      <a:pt x="1414" y="104"/>
                    </a:lnTo>
                    <a:lnTo>
                      <a:pt x="1403" y="121"/>
                    </a:lnTo>
                    <a:lnTo>
                      <a:pt x="1391" y="136"/>
                    </a:lnTo>
                    <a:lnTo>
                      <a:pt x="1377" y="152"/>
                    </a:lnTo>
                    <a:lnTo>
                      <a:pt x="1361" y="167"/>
                    </a:lnTo>
                    <a:lnTo>
                      <a:pt x="1344" y="181"/>
                    </a:lnTo>
                    <a:lnTo>
                      <a:pt x="1326" y="196"/>
                    </a:lnTo>
                    <a:lnTo>
                      <a:pt x="1307" y="210"/>
                    </a:lnTo>
                    <a:lnTo>
                      <a:pt x="1286" y="223"/>
                    </a:lnTo>
                    <a:lnTo>
                      <a:pt x="1264" y="236"/>
                    </a:lnTo>
                    <a:lnTo>
                      <a:pt x="1241" y="248"/>
                    </a:lnTo>
                    <a:lnTo>
                      <a:pt x="1216" y="259"/>
                    </a:lnTo>
                    <a:lnTo>
                      <a:pt x="1190" y="271"/>
                    </a:lnTo>
                    <a:lnTo>
                      <a:pt x="1164" y="281"/>
                    </a:lnTo>
                    <a:lnTo>
                      <a:pt x="1137" y="290"/>
                    </a:lnTo>
                    <a:lnTo>
                      <a:pt x="1109" y="299"/>
                    </a:lnTo>
                    <a:lnTo>
                      <a:pt x="1079" y="308"/>
                    </a:lnTo>
                    <a:lnTo>
                      <a:pt x="1049" y="316"/>
                    </a:lnTo>
                    <a:lnTo>
                      <a:pt x="1018" y="323"/>
                    </a:lnTo>
                    <a:lnTo>
                      <a:pt x="987" y="329"/>
                    </a:lnTo>
                    <a:lnTo>
                      <a:pt x="955" y="334"/>
                    </a:lnTo>
                    <a:lnTo>
                      <a:pt x="921" y="340"/>
                    </a:lnTo>
                    <a:lnTo>
                      <a:pt x="887" y="343"/>
                    </a:lnTo>
                    <a:lnTo>
                      <a:pt x="852" y="346"/>
                    </a:lnTo>
                    <a:lnTo>
                      <a:pt x="817" y="349"/>
                    </a:lnTo>
                    <a:lnTo>
                      <a:pt x="782" y="350"/>
                    </a:lnTo>
                    <a:lnTo>
                      <a:pt x="746" y="35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Freeform 90"/>
              <p:cNvSpPr/>
              <p:nvPr/>
            </p:nvSpPr>
            <p:spPr>
              <a:xfrm>
                <a:off x="5638680" y="2454120"/>
                <a:ext cx="2352600" cy="2590920"/>
              </a:xfrm>
              <a:custGeom>
                <a:avLst/>
                <a:gdLst/>
                <a:ahLst/>
                <a:rect l="l" t="t" r="r" b="b"/>
                <a:pathLst>
                  <a:path w="1482" h="1632">
                    <a:moveTo>
                      <a:pt x="1481" y="0"/>
                    </a:moveTo>
                    <a:lnTo>
                      <a:pt x="1481" y="0"/>
                    </a:lnTo>
                    <a:lnTo>
                      <a:pt x="1477" y="18"/>
                    </a:lnTo>
                    <a:lnTo>
                      <a:pt x="1469" y="35"/>
                    </a:lnTo>
                    <a:lnTo>
                      <a:pt x="1461" y="50"/>
                    </a:lnTo>
                    <a:lnTo>
                      <a:pt x="1452" y="67"/>
                    </a:lnTo>
                    <a:lnTo>
                      <a:pt x="1440" y="83"/>
                    </a:lnTo>
                    <a:lnTo>
                      <a:pt x="1429" y="98"/>
                    </a:lnTo>
                    <a:lnTo>
                      <a:pt x="1414" y="114"/>
                    </a:lnTo>
                    <a:lnTo>
                      <a:pt x="1399" y="129"/>
                    </a:lnTo>
                    <a:lnTo>
                      <a:pt x="1383" y="144"/>
                    </a:lnTo>
                    <a:lnTo>
                      <a:pt x="1365" y="158"/>
                    </a:lnTo>
                    <a:lnTo>
                      <a:pt x="1347" y="171"/>
                    </a:lnTo>
                    <a:lnTo>
                      <a:pt x="1326" y="184"/>
                    </a:lnTo>
                    <a:lnTo>
                      <a:pt x="1306" y="197"/>
                    </a:lnTo>
                    <a:lnTo>
                      <a:pt x="1284" y="210"/>
                    </a:lnTo>
                    <a:lnTo>
                      <a:pt x="1260" y="221"/>
                    </a:lnTo>
                    <a:lnTo>
                      <a:pt x="1236" y="232"/>
                    </a:lnTo>
                    <a:lnTo>
                      <a:pt x="1211" y="243"/>
                    </a:lnTo>
                    <a:lnTo>
                      <a:pt x="1185" y="252"/>
                    </a:lnTo>
                    <a:lnTo>
                      <a:pt x="1158" y="263"/>
                    </a:lnTo>
                    <a:lnTo>
                      <a:pt x="1130" y="272"/>
                    </a:lnTo>
                    <a:lnTo>
                      <a:pt x="1101" y="280"/>
                    </a:lnTo>
                    <a:lnTo>
                      <a:pt x="1071" y="287"/>
                    </a:lnTo>
                    <a:lnTo>
                      <a:pt x="1041" y="295"/>
                    </a:lnTo>
                    <a:lnTo>
                      <a:pt x="1010" y="302"/>
                    </a:lnTo>
                    <a:lnTo>
                      <a:pt x="979" y="307"/>
                    </a:lnTo>
                    <a:lnTo>
                      <a:pt x="947" y="312"/>
                    </a:lnTo>
                    <a:lnTo>
                      <a:pt x="913" y="316"/>
                    </a:lnTo>
                    <a:lnTo>
                      <a:pt x="880" y="320"/>
                    </a:lnTo>
                    <a:lnTo>
                      <a:pt x="846" y="322"/>
                    </a:lnTo>
                    <a:lnTo>
                      <a:pt x="811" y="325"/>
                    </a:lnTo>
                    <a:lnTo>
                      <a:pt x="776" y="326"/>
                    </a:lnTo>
                    <a:lnTo>
                      <a:pt x="741" y="326"/>
                    </a:lnTo>
                    <a:lnTo>
                      <a:pt x="706" y="326"/>
                    </a:lnTo>
                    <a:lnTo>
                      <a:pt x="671" y="325"/>
                    </a:lnTo>
                    <a:lnTo>
                      <a:pt x="636" y="322"/>
                    </a:lnTo>
                    <a:lnTo>
                      <a:pt x="602" y="320"/>
                    </a:lnTo>
                    <a:lnTo>
                      <a:pt x="569" y="316"/>
                    </a:lnTo>
                    <a:lnTo>
                      <a:pt x="535" y="312"/>
                    </a:lnTo>
                    <a:lnTo>
                      <a:pt x="503" y="307"/>
                    </a:lnTo>
                    <a:lnTo>
                      <a:pt x="472" y="302"/>
                    </a:lnTo>
                    <a:lnTo>
                      <a:pt x="441" y="295"/>
                    </a:lnTo>
                    <a:lnTo>
                      <a:pt x="411" y="287"/>
                    </a:lnTo>
                    <a:lnTo>
                      <a:pt x="381" y="280"/>
                    </a:lnTo>
                    <a:lnTo>
                      <a:pt x="352" y="272"/>
                    </a:lnTo>
                    <a:lnTo>
                      <a:pt x="324" y="263"/>
                    </a:lnTo>
                    <a:lnTo>
                      <a:pt x="297" y="252"/>
                    </a:lnTo>
                    <a:lnTo>
                      <a:pt x="271" y="243"/>
                    </a:lnTo>
                    <a:lnTo>
                      <a:pt x="246" y="232"/>
                    </a:lnTo>
                    <a:lnTo>
                      <a:pt x="222" y="221"/>
                    </a:lnTo>
                    <a:lnTo>
                      <a:pt x="198" y="210"/>
                    </a:lnTo>
                    <a:lnTo>
                      <a:pt x="176" y="197"/>
                    </a:lnTo>
                    <a:lnTo>
                      <a:pt x="156" y="184"/>
                    </a:lnTo>
                    <a:lnTo>
                      <a:pt x="135" y="171"/>
                    </a:lnTo>
                    <a:lnTo>
                      <a:pt x="117" y="158"/>
                    </a:lnTo>
                    <a:lnTo>
                      <a:pt x="99" y="144"/>
                    </a:lnTo>
                    <a:lnTo>
                      <a:pt x="83" y="129"/>
                    </a:lnTo>
                    <a:lnTo>
                      <a:pt x="68" y="114"/>
                    </a:lnTo>
                    <a:lnTo>
                      <a:pt x="53" y="98"/>
                    </a:lnTo>
                    <a:lnTo>
                      <a:pt x="42" y="83"/>
                    </a:lnTo>
                    <a:lnTo>
                      <a:pt x="30" y="67"/>
                    </a:lnTo>
                    <a:lnTo>
                      <a:pt x="21" y="50"/>
                    </a:lnTo>
                    <a:lnTo>
                      <a:pt x="13" y="35"/>
                    </a:lnTo>
                    <a:lnTo>
                      <a:pt x="5" y="18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371" y="1469"/>
                    </a:lnTo>
                    <a:lnTo>
                      <a:pt x="377" y="1486"/>
                    </a:lnTo>
                    <a:lnTo>
                      <a:pt x="386" y="1502"/>
                    </a:lnTo>
                    <a:lnTo>
                      <a:pt x="398" y="1518"/>
                    </a:lnTo>
                    <a:lnTo>
                      <a:pt x="412" y="1534"/>
                    </a:lnTo>
                    <a:lnTo>
                      <a:pt x="429" y="1548"/>
                    </a:lnTo>
                    <a:lnTo>
                      <a:pt x="448" y="1561"/>
                    </a:lnTo>
                    <a:lnTo>
                      <a:pt x="469" y="1574"/>
                    </a:lnTo>
                    <a:lnTo>
                      <a:pt x="494" y="1585"/>
                    </a:lnTo>
                    <a:lnTo>
                      <a:pt x="520" y="1596"/>
                    </a:lnTo>
                    <a:lnTo>
                      <a:pt x="547" y="1605"/>
                    </a:lnTo>
                    <a:lnTo>
                      <a:pt x="575" y="1613"/>
                    </a:lnTo>
                    <a:lnTo>
                      <a:pt x="606" y="1619"/>
                    </a:lnTo>
                    <a:lnTo>
                      <a:pt x="639" y="1624"/>
                    </a:lnTo>
                    <a:lnTo>
                      <a:pt x="671" y="1628"/>
                    </a:lnTo>
                    <a:lnTo>
                      <a:pt x="706" y="1631"/>
                    </a:lnTo>
                    <a:lnTo>
                      <a:pt x="741" y="1632"/>
                    </a:lnTo>
                    <a:lnTo>
                      <a:pt x="776" y="1631"/>
                    </a:lnTo>
                    <a:lnTo>
                      <a:pt x="811" y="1628"/>
                    </a:lnTo>
                    <a:lnTo>
                      <a:pt x="843" y="1624"/>
                    </a:lnTo>
                    <a:lnTo>
                      <a:pt x="876" y="1619"/>
                    </a:lnTo>
                    <a:lnTo>
                      <a:pt x="907" y="1613"/>
                    </a:lnTo>
                    <a:lnTo>
                      <a:pt x="935" y="1605"/>
                    </a:lnTo>
                    <a:lnTo>
                      <a:pt x="962" y="1596"/>
                    </a:lnTo>
                    <a:lnTo>
                      <a:pt x="988" y="1585"/>
                    </a:lnTo>
                    <a:lnTo>
                      <a:pt x="1013" y="1574"/>
                    </a:lnTo>
                    <a:lnTo>
                      <a:pt x="1034" y="1561"/>
                    </a:lnTo>
                    <a:lnTo>
                      <a:pt x="1053" y="1548"/>
                    </a:lnTo>
                    <a:lnTo>
                      <a:pt x="1070" y="1534"/>
                    </a:lnTo>
                    <a:lnTo>
                      <a:pt x="1084" y="1518"/>
                    </a:lnTo>
                    <a:lnTo>
                      <a:pt x="1096" y="1502"/>
                    </a:lnTo>
                    <a:lnTo>
                      <a:pt x="1105" y="1486"/>
                    </a:lnTo>
                    <a:lnTo>
                      <a:pt x="1111" y="1469"/>
                    </a:lnTo>
                    <a:lnTo>
                      <a:pt x="1482" y="0"/>
                    </a:lnTo>
                    <a:lnTo>
                      <a:pt x="148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969696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8" name="Text Box 91"/>
            <p:cNvSpPr/>
            <p:nvPr/>
          </p:nvSpPr>
          <p:spPr>
            <a:xfrm>
              <a:off x="5686560" y="3085920"/>
              <a:ext cx="22370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双击此处添加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标题文字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AutoShape 92"/>
            <p:cNvSpPr/>
            <p:nvPr/>
          </p:nvSpPr>
          <p:spPr>
            <a:xfrm flipH="1" rot="531000">
              <a:off x="5037120" y="1718640"/>
              <a:ext cx="938160" cy="1079280"/>
            </a:xfrm>
            <a:custGeom>
              <a:avLst/>
              <a:gdLst/>
              <a:ahLst/>
              <a:rect l="l" t="t" r="r" b="b"/>
              <a:pathLst>
                <a:path w="21880" h="10446">
                  <a:moveTo>
                    <a:pt x="15420" y="7584"/>
                  </a:moveTo>
                  <a:cubicBezTo>
                    <a:pt x="14367" y="6072"/>
                    <a:pt x="12642" y="5171"/>
                    <a:pt x="10800" y="5171"/>
                  </a:cubicBezTo>
                  <a:cubicBezTo>
                    <a:pt x="9480" y="5170"/>
                    <a:pt x="8203" y="5634"/>
                    <a:pt x="7191" y="6479"/>
                  </a:cubicBezTo>
                  <a:lnTo>
                    <a:pt x="3876" y="2511"/>
                  </a:lnTo>
                  <a:cubicBezTo>
                    <a:pt x="5818" y="888"/>
                    <a:pt x="8269" y="-1"/>
                    <a:pt x="10800" y="0"/>
                  </a:cubicBezTo>
                  <a:cubicBezTo>
                    <a:pt x="14334" y="0"/>
                    <a:pt x="17645" y="1729"/>
                    <a:pt x="19664" y="4630"/>
                  </a:cubicBezTo>
                  <a:lnTo>
                    <a:pt x="21880" y="3088"/>
                  </a:lnTo>
                  <a:lnTo>
                    <a:pt x="20561" y="10445"/>
                  </a:lnTo>
                  <a:lnTo>
                    <a:pt x="13204" y="9126"/>
                  </a:lnTo>
                  <a:lnTo>
                    <a:pt x="15420" y="7584"/>
                  </a:lnTo>
                  <a:close/>
                </a:path>
              </a:pathLst>
            </a:custGeom>
            <a:solidFill>
              <a:srgbClr val="000000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0" name="组合 74"/>
          <p:cNvGrpSpPr/>
          <p:nvPr/>
        </p:nvGrpSpPr>
        <p:grpSpPr>
          <a:xfrm>
            <a:off x="755640" y="1555920"/>
            <a:ext cx="2627280" cy="3835080"/>
            <a:chOff x="755640" y="1555920"/>
            <a:chExt cx="2627280" cy="3835080"/>
          </a:xfrm>
        </p:grpSpPr>
        <p:sp>
          <p:nvSpPr>
            <p:cNvPr id="1181" name="AutoShape 2"/>
            <p:cNvSpPr/>
            <p:nvPr/>
          </p:nvSpPr>
          <p:spPr>
            <a:xfrm>
              <a:off x="755640" y="1555920"/>
              <a:ext cx="2627280" cy="3835080"/>
            </a:xfrm>
            <a:custGeom>
              <a:avLst/>
              <a:gdLst>
                <a:gd name="textAreaLeft" fmla="*/ 0 w 2627280"/>
                <a:gd name="textAreaRight" fmla="*/ 2627280 w 2627280"/>
                <a:gd name="textAreaTop" fmla="*/ 0 h 3835080"/>
                <a:gd name="textAreaBottom" fmla="*/ 3835440 h 3835080"/>
              </a:gdLst>
              <a:ahLst/>
              <a:rect l="textAreaLeft" t="textAreaTop" r="textAreaRight" b="textAreaBottom"/>
              <a:pathLst>
                <a:path w="21600" h="31528">
                  <a:moveTo>
                    <a:pt x="0" y="0"/>
                  </a:moveTo>
                  <a:arcTo wR="0" hR="0" stAng="16200000" swAng="-5400000"/>
                  <a:lnTo>
                    <a:pt x="0" y="31528"/>
                  </a:lnTo>
                  <a:arcTo wR="0" hR="0" stAng="10800000" swAng="-5400000"/>
                  <a:lnTo>
                    <a:pt x="21600" y="3152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333333">
                <a:alpha val="10000"/>
              </a:srgbClr>
            </a:solidFill>
            <a:ln cap="rnd" w="19080">
              <a:solidFill>
                <a:srgbClr val="80808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Oval 3"/>
            <p:cNvSpPr/>
            <p:nvPr/>
          </p:nvSpPr>
          <p:spPr>
            <a:xfrm>
              <a:off x="892080" y="4595760"/>
              <a:ext cx="411120" cy="134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Text Box 52"/>
            <p:cNvSpPr/>
            <p:nvPr/>
          </p:nvSpPr>
          <p:spPr>
            <a:xfrm>
              <a:off x="1330200" y="1627200"/>
              <a:ext cx="1944720" cy="36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7030a0"/>
                  </a:solidFill>
                  <a:latin typeface="Arial"/>
                  <a:ea typeface="微软雅黑"/>
                </a:rPr>
                <a:t>单击此处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添加文字内容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添加文字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添加文字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0000"/>
                  </a:solidFill>
                  <a:latin typeface="Arial"/>
                  <a:ea typeface="微软雅黑"/>
                </a:rPr>
                <a:t>单击此处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添加文字内容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添加文字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添加文字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5f5f5f"/>
                  </a:solidFill>
                  <a:latin typeface="Arial"/>
                  <a:ea typeface="微软雅黑"/>
                </a:rPr>
                <a:t>单击此处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添加文字内容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添加文字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添加文字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Oval 53"/>
            <p:cNvSpPr/>
            <p:nvPr/>
          </p:nvSpPr>
          <p:spPr>
            <a:xfrm>
              <a:off x="898200" y="2030400"/>
              <a:ext cx="392040" cy="134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5" name="Group 54"/>
            <p:cNvGrpSpPr/>
            <p:nvPr/>
          </p:nvGrpSpPr>
          <p:grpSpPr>
            <a:xfrm>
              <a:off x="898200" y="1628640"/>
              <a:ext cx="407880" cy="407880"/>
              <a:chOff x="898200" y="1628640"/>
              <a:chExt cx="407880" cy="407880"/>
            </a:xfrm>
          </p:grpSpPr>
          <p:sp>
            <p:nvSpPr>
              <p:cNvPr id="1186" name="Oval 55"/>
              <p:cNvSpPr/>
              <p:nvPr/>
            </p:nvSpPr>
            <p:spPr>
              <a:xfrm>
                <a:off x="898200" y="1628640"/>
                <a:ext cx="407880" cy="407880"/>
              </a:xfrm>
              <a:prstGeom prst="ellipse">
                <a:avLst/>
              </a:prstGeom>
              <a:gradFill rotWithShape="0">
                <a:gsLst>
                  <a:gs pos="0">
                    <a:srgbClr val="7030a0"/>
                  </a:gs>
                  <a:gs pos="100000">
                    <a:srgbClr val="7030a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7" name="Group 56"/>
              <p:cNvGrpSpPr/>
              <p:nvPr/>
            </p:nvGrpSpPr>
            <p:grpSpPr>
              <a:xfrm>
                <a:off x="932040" y="1639800"/>
                <a:ext cx="340200" cy="110880"/>
                <a:chOff x="932040" y="1639800"/>
                <a:chExt cx="340200" cy="110880"/>
              </a:xfrm>
            </p:grpSpPr>
            <p:sp>
              <p:nvSpPr>
                <p:cNvPr id="1188" name="Freeform 57"/>
                <p:cNvSpPr/>
                <p:nvPr/>
              </p:nvSpPr>
              <p:spPr>
                <a:xfrm>
                  <a:off x="932040" y="1639800"/>
                  <a:ext cx="340200" cy="110880"/>
                </a:xfrm>
                <a:custGeom>
                  <a:avLst/>
                  <a:gdLst/>
                  <a:ahLst/>
                  <a:rect l="l" t="t" r="r" b="b"/>
                  <a:pathLst>
                    <a:path w="4756" h="1576">
                      <a:moveTo>
                        <a:pt x="0" y="1576"/>
                      </a:moveTo>
                      <a:lnTo>
                        <a:pt x="0" y="1576"/>
                      </a:lnTo>
                      <a:lnTo>
                        <a:pt x="24" y="1518"/>
                      </a:lnTo>
                      <a:lnTo>
                        <a:pt x="50" y="1462"/>
                      </a:lnTo>
                      <a:lnTo>
                        <a:pt x="78" y="1406"/>
                      </a:lnTo>
                      <a:lnTo>
                        <a:pt x="108" y="1350"/>
                      </a:lnTo>
                      <a:lnTo>
                        <a:pt x="138" y="1296"/>
                      </a:lnTo>
                      <a:lnTo>
                        <a:pt x="170" y="1242"/>
                      </a:lnTo>
                      <a:lnTo>
                        <a:pt x="204" y="1190"/>
                      </a:lnTo>
                      <a:lnTo>
                        <a:pt x="238" y="1138"/>
                      </a:lnTo>
                      <a:lnTo>
                        <a:pt x="272" y="1086"/>
                      </a:lnTo>
                      <a:lnTo>
                        <a:pt x="310" y="1036"/>
                      </a:lnTo>
                      <a:lnTo>
                        <a:pt x="348" y="988"/>
                      </a:lnTo>
                      <a:lnTo>
                        <a:pt x="386" y="940"/>
                      </a:lnTo>
                      <a:lnTo>
                        <a:pt x="426" y="892"/>
                      </a:lnTo>
                      <a:lnTo>
                        <a:pt x="468" y="846"/>
                      </a:lnTo>
                      <a:lnTo>
                        <a:pt x="510" y="800"/>
                      </a:lnTo>
                      <a:lnTo>
                        <a:pt x="552" y="756"/>
                      </a:lnTo>
                      <a:lnTo>
                        <a:pt x="596" y="712"/>
                      </a:lnTo>
                      <a:lnTo>
                        <a:pt x="642" y="670"/>
                      </a:lnTo>
                      <a:lnTo>
                        <a:pt x="688" y="630"/>
                      </a:lnTo>
                      <a:lnTo>
                        <a:pt x="736" y="590"/>
                      </a:lnTo>
                      <a:lnTo>
                        <a:pt x="784" y="550"/>
                      </a:lnTo>
                      <a:lnTo>
                        <a:pt x="834" y="512"/>
                      </a:lnTo>
                      <a:lnTo>
                        <a:pt x="884" y="476"/>
                      </a:lnTo>
                      <a:lnTo>
                        <a:pt x="934" y="440"/>
                      </a:lnTo>
                      <a:lnTo>
                        <a:pt x="986" y="406"/>
                      </a:lnTo>
                      <a:lnTo>
                        <a:pt x="1040" y="374"/>
                      </a:lnTo>
                      <a:lnTo>
                        <a:pt x="1092" y="342"/>
                      </a:lnTo>
                      <a:lnTo>
                        <a:pt x="1148" y="312"/>
                      </a:lnTo>
                      <a:lnTo>
                        <a:pt x="1202" y="282"/>
                      </a:lnTo>
                      <a:lnTo>
                        <a:pt x="1258" y="254"/>
                      </a:lnTo>
                      <a:lnTo>
                        <a:pt x="1316" y="228"/>
                      </a:lnTo>
                      <a:lnTo>
                        <a:pt x="1374" y="202"/>
                      </a:lnTo>
                      <a:lnTo>
                        <a:pt x="1432" y="178"/>
                      </a:lnTo>
                      <a:lnTo>
                        <a:pt x="1490" y="156"/>
                      </a:lnTo>
                      <a:lnTo>
                        <a:pt x="1550" y="136"/>
                      </a:lnTo>
                      <a:lnTo>
                        <a:pt x="1610" y="116"/>
                      </a:lnTo>
                      <a:lnTo>
                        <a:pt x="1672" y="98"/>
                      </a:lnTo>
                      <a:lnTo>
                        <a:pt x="1732" y="80"/>
                      </a:lnTo>
                      <a:lnTo>
                        <a:pt x="1794" y="66"/>
                      </a:lnTo>
                      <a:lnTo>
                        <a:pt x="1858" y="52"/>
                      </a:lnTo>
                      <a:lnTo>
                        <a:pt x="1922" y="40"/>
                      </a:lnTo>
                      <a:lnTo>
                        <a:pt x="1984" y="30"/>
                      </a:lnTo>
                      <a:lnTo>
                        <a:pt x="2050" y="20"/>
                      </a:lnTo>
                      <a:lnTo>
                        <a:pt x="2114" y="12"/>
                      </a:lnTo>
                      <a:lnTo>
                        <a:pt x="2180" y="8"/>
                      </a:lnTo>
                      <a:lnTo>
                        <a:pt x="2246" y="2"/>
                      </a:lnTo>
                      <a:lnTo>
                        <a:pt x="2312" y="0"/>
                      </a:lnTo>
                      <a:lnTo>
                        <a:pt x="2378" y="0"/>
                      </a:lnTo>
                      <a:lnTo>
                        <a:pt x="2444" y="0"/>
                      </a:lnTo>
                      <a:lnTo>
                        <a:pt x="2510" y="2"/>
                      </a:lnTo>
                      <a:lnTo>
                        <a:pt x="2576" y="8"/>
                      </a:lnTo>
                      <a:lnTo>
                        <a:pt x="2642" y="12"/>
                      </a:lnTo>
                      <a:lnTo>
                        <a:pt x="2706" y="20"/>
                      </a:lnTo>
                      <a:lnTo>
                        <a:pt x="2772" y="30"/>
                      </a:lnTo>
                      <a:lnTo>
                        <a:pt x="2834" y="40"/>
                      </a:lnTo>
                      <a:lnTo>
                        <a:pt x="2898" y="52"/>
                      </a:lnTo>
                      <a:lnTo>
                        <a:pt x="2962" y="66"/>
                      </a:lnTo>
                      <a:lnTo>
                        <a:pt x="3024" y="80"/>
                      </a:lnTo>
                      <a:lnTo>
                        <a:pt x="3084" y="98"/>
                      </a:lnTo>
                      <a:lnTo>
                        <a:pt x="3146" y="116"/>
                      </a:lnTo>
                      <a:lnTo>
                        <a:pt x="3206" y="136"/>
                      </a:lnTo>
                      <a:lnTo>
                        <a:pt x="3266" y="156"/>
                      </a:lnTo>
                      <a:lnTo>
                        <a:pt x="3324" y="178"/>
                      </a:lnTo>
                      <a:lnTo>
                        <a:pt x="3382" y="202"/>
                      </a:lnTo>
                      <a:lnTo>
                        <a:pt x="3440" y="228"/>
                      </a:lnTo>
                      <a:lnTo>
                        <a:pt x="3498" y="254"/>
                      </a:lnTo>
                      <a:lnTo>
                        <a:pt x="3554" y="282"/>
                      </a:lnTo>
                      <a:lnTo>
                        <a:pt x="3608" y="312"/>
                      </a:lnTo>
                      <a:lnTo>
                        <a:pt x="3664" y="342"/>
                      </a:lnTo>
                      <a:lnTo>
                        <a:pt x="3716" y="374"/>
                      </a:lnTo>
                      <a:lnTo>
                        <a:pt x="3770" y="406"/>
                      </a:lnTo>
                      <a:lnTo>
                        <a:pt x="3822" y="440"/>
                      </a:lnTo>
                      <a:lnTo>
                        <a:pt x="3872" y="476"/>
                      </a:lnTo>
                      <a:lnTo>
                        <a:pt x="3922" y="512"/>
                      </a:lnTo>
                      <a:lnTo>
                        <a:pt x="3972" y="550"/>
                      </a:lnTo>
                      <a:lnTo>
                        <a:pt x="4020" y="590"/>
                      </a:lnTo>
                      <a:lnTo>
                        <a:pt x="4068" y="630"/>
                      </a:lnTo>
                      <a:lnTo>
                        <a:pt x="4114" y="670"/>
                      </a:lnTo>
                      <a:lnTo>
                        <a:pt x="4160" y="712"/>
                      </a:lnTo>
                      <a:lnTo>
                        <a:pt x="4204" y="756"/>
                      </a:lnTo>
                      <a:lnTo>
                        <a:pt x="4246" y="800"/>
                      </a:lnTo>
                      <a:lnTo>
                        <a:pt x="4288" y="846"/>
                      </a:lnTo>
                      <a:lnTo>
                        <a:pt x="4330" y="892"/>
                      </a:lnTo>
                      <a:lnTo>
                        <a:pt x="4370" y="940"/>
                      </a:lnTo>
                      <a:lnTo>
                        <a:pt x="4410" y="988"/>
                      </a:lnTo>
                      <a:lnTo>
                        <a:pt x="4446" y="1036"/>
                      </a:lnTo>
                      <a:lnTo>
                        <a:pt x="4484" y="1086"/>
                      </a:lnTo>
                      <a:lnTo>
                        <a:pt x="4518" y="1138"/>
                      </a:lnTo>
                      <a:lnTo>
                        <a:pt x="4552" y="1190"/>
                      </a:lnTo>
                      <a:lnTo>
                        <a:pt x="4586" y="1242"/>
                      </a:lnTo>
                      <a:lnTo>
                        <a:pt x="4618" y="1296"/>
                      </a:lnTo>
                      <a:lnTo>
                        <a:pt x="4648" y="1350"/>
                      </a:lnTo>
                      <a:lnTo>
                        <a:pt x="4678" y="1406"/>
                      </a:lnTo>
                      <a:lnTo>
                        <a:pt x="4706" y="1462"/>
                      </a:lnTo>
                      <a:lnTo>
                        <a:pt x="4732" y="1518"/>
                      </a:lnTo>
                      <a:lnTo>
                        <a:pt x="4756" y="1576"/>
                      </a:lnTo>
                      <a:lnTo>
                        <a:pt x="0" y="157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>
                        <a:alpha val="75294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9" name="Oval 58"/>
                <p:cNvSpPr/>
                <p:nvPr/>
              </p:nvSpPr>
              <p:spPr>
                <a:xfrm>
                  <a:off x="1059840" y="1639800"/>
                  <a:ext cx="8460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7abf5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90" name="Oval 59"/>
            <p:cNvSpPr/>
            <p:nvPr/>
          </p:nvSpPr>
          <p:spPr>
            <a:xfrm>
              <a:off x="898200" y="4371840"/>
              <a:ext cx="392040" cy="134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1" name="Group 60"/>
            <p:cNvGrpSpPr/>
            <p:nvPr/>
          </p:nvGrpSpPr>
          <p:grpSpPr>
            <a:xfrm>
              <a:off x="887400" y="2870280"/>
              <a:ext cx="407880" cy="407880"/>
              <a:chOff x="887400" y="2870280"/>
              <a:chExt cx="407880" cy="407880"/>
            </a:xfrm>
          </p:grpSpPr>
          <p:sp>
            <p:nvSpPr>
              <p:cNvPr id="1192" name="Oval 61"/>
              <p:cNvSpPr/>
              <p:nvPr/>
            </p:nvSpPr>
            <p:spPr>
              <a:xfrm>
                <a:off x="887400" y="2870280"/>
                <a:ext cx="407880" cy="4078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cc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3" name="Group 62"/>
              <p:cNvGrpSpPr/>
              <p:nvPr/>
            </p:nvGrpSpPr>
            <p:grpSpPr>
              <a:xfrm>
                <a:off x="921240" y="2881440"/>
                <a:ext cx="340200" cy="110880"/>
                <a:chOff x="921240" y="2881440"/>
                <a:chExt cx="340200" cy="110880"/>
              </a:xfrm>
            </p:grpSpPr>
            <p:sp>
              <p:nvSpPr>
                <p:cNvPr id="1194" name="Freeform 63"/>
                <p:cNvSpPr/>
                <p:nvPr/>
              </p:nvSpPr>
              <p:spPr>
                <a:xfrm>
                  <a:off x="921240" y="2881440"/>
                  <a:ext cx="340200" cy="110880"/>
                </a:xfrm>
                <a:custGeom>
                  <a:avLst/>
                  <a:gdLst/>
                  <a:ahLst/>
                  <a:rect l="l" t="t" r="r" b="b"/>
                  <a:pathLst>
                    <a:path w="4756" h="1576">
                      <a:moveTo>
                        <a:pt x="0" y="1576"/>
                      </a:moveTo>
                      <a:lnTo>
                        <a:pt x="0" y="1576"/>
                      </a:lnTo>
                      <a:lnTo>
                        <a:pt x="24" y="1518"/>
                      </a:lnTo>
                      <a:lnTo>
                        <a:pt x="50" y="1462"/>
                      </a:lnTo>
                      <a:lnTo>
                        <a:pt x="78" y="1406"/>
                      </a:lnTo>
                      <a:lnTo>
                        <a:pt x="108" y="1350"/>
                      </a:lnTo>
                      <a:lnTo>
                        <a:pt x="138" y="1296"/>
                      </a:lnTo>
                      <a:lnTo>
                        <a:pt x="170" y="1242"/>
                      </a:lnTo>
                      <a:lnTo>
                        <a:pt x="204" y="1190"/>
                      </a:lnTo>
                      <a:lnTo>
                        <a:pt x="238" y="1138"/>
                      </a:lnTo>
                      <a:lnTo>
                        <a:pt x="272" y="1086"/>
                      </a:lnTo>
                      <a:lnTo>
                        <a:pt x="310" y="1036"/>
                      </a:lnTo>
                      <a:lnTo>
                        <a:pt x="348" y="988"/>
                      </a:lnTo>
                      <a:lnTo>
                        <a:pt x="386" y="940"/>
                      </a:lnTo>
                      <a:lnTo>
                        <a:pt x="426" y="892"/>
                      </a:lnTo>
                      <a:lnTo>
                        <a:pt x="468" y="846"/>
                      </a:lnTo>
                      <a:lnTo>
                        <a:pt x="510" y="800"/>
                      </a:lnTo>
                      <a:lnTo>
                        <a:pt x="552" y="756"/>
                      </a:lnTo>
                      <a:lnTo>
                        <a:pt x="596" y="712"/>
                      </a:lnTo>
                      <a:lnTo>
                        <a:pt x="642" y="670"/>
                      </a:lnTo>
                      <a:lnTo>
                        <a:pt x="688" y="630"/>
                      </a:lnTo>
                      <a:lnTo>
                        <a:pt x="736" y="590"/>
                      </a:lnTo>
                      <a:lnTo>
                        <a:pt x="784" y="550"/>
                      </a:lnTo>
                      <a:lnTo>
                        <a:pt x="834" y="512"/>
                      </a:lnTo>
                      <a:lnTo>
                        <a:pt x="884" y="476"/>
                      </a:lnTo>
                      <a:lnTo>
                        <a:pt x="934" y="440"/>
                      </a:lnTo>
                      <a:lnTo>
                        <a:pt x="986" y="406"/>
                      </a:lnTo>
                      <a:lnTo>
                        <a:pt x="1040" y="374"/>
                      </a:lnTo>
                      <a:lnTo>
                        <a:pt x="1092" y="342"/>
                      </a:lnTo>
                      <a:lnTo>
                        <a:pt x="1148" y="312"/>
                      </a:lnTo>
                      <a:lnTo>
                        <a:pt x="1202" y="282"/>
                      </a:lnTo>
                      <a:lnTo>
                        <a:pt x="1258" y="254"/>
                      </a:lnTo>
                      <a:lnTo>
                        <a:pt x="1316" y="228"/>
                      </a:lnTo>
                      <a:lnTo>
                        <a:pt x="1374" y="202"/>
                      </a:lnTo>
                      <a:lnTo>
                        <a:pt x="1432" y="178"/>
                      </a:lnTo>
                      <a:lnTo>
                        <a:pt x="1490" y="156"/>
                      </a:lnTo>
                      <a:lnTo>
                        <a:pt x="1550" y="136"/>
                      </a:lnTo>
                      <a:lnTo>
                        <a:pt x="1610" y="116"/>
                      </a:lnTo>
                      <a:lnTo>
                        <a:pt x="1672" y="98"/>
                      </a:lnTo>
                      <a:lnTo>
                        <a:pt x="1732" y="80"/>
                      </a:lnTo>
                      <a:lnTo>
                        <a:pt x="1794" y="66"/>
                      </a:lnTo>
                      <a:lnTo>
                        <a:pt x="1858" y="52"/>
                      </a:lnTo>
                      <a:lnTo>
                        <a:pt x="1922" y="40"/>
                      </a:lnTo>
                      <a:lnTo>
                        <a:pt x="1984" y="30"/>
                      </a:lnTo>
                      <a:lnTo>
                        <a:pt x="2050" y="20"/>
                      </a:lnTo>
                      <a:lnTo>
                        <a:pt x="2114" y="12"/>
                      </a:lnTo>
                      <a:lnTo>
                        <a:pt x="2180" y="8"/>
                      </a:lnTo>
                      <a:lnTo>
                        <a:pt x="2246" y="2"/>
                      </a:lnTo>
                      <a:lnTo>
                        <a:pt x="2312" y="0"/>
                      </a:lnTo>
                      <a:lnTo>
                        <a:pt x="2378" y="0"/>
                      </a:lnTo>
                      <a:lnTo>
                        <a:pt x="2444" y="0"/>
                      </a:lnTo>
                      <a:lnTo>
                        <a:pt x="2510" y="2"/>
                      </a:lnTo>
                      <a:lnTo>
                        <a:pt x="2576" y="8"/>
                      </a:lnTo>
                      <a:lnTo>
                        <a:pt x="2642" y="12"/>
                      </a:lnTo>
                      <a:lnTo>
                        <a:pt x="2706" y="20"/>
                      </a:lnTo>
                      <a:lnTo>
                        <a:pt x="2772" y="30"/>
                      </a:lnTo>
                      <a:lnTo>
                        <a:pt x="2834" y="40"/>
                      </a:lnTo>
                      <a:lnTo>
                        <a:pt x="2898" y="52"/>
                      </a:lnTo>
                      <a:lnTo>
                        <a:pt x="2962" y="66"/>
                      </a:lnTo>
                      <a:lnTo>
                        <a:pt x="3024" y="80"/>
                      </a:lnTo>
                      <a:lnTo>
                        <a:pt x="3084" y="98"/>
                      </a:lnTo>
                      <a:lnTo>
                        <a:pt x="3146" y="116"/>
                      </a:lnTo>
                      <a:lnTo>
                        <a:pt x="3206" y="136"/>
                      </a:lnTo>
                      <a:lnTo>
                        <a:pt x="3266" y="156"/>
                      </a:lnTo>
                      <a:lnTo>
                        <a:pt x="3324" y="178"/>
                      </a:lnTo>
                      <a:lnTo>
                        <a:pt x="3382" y="202"/>
                      </a:lnTo>
                      <a:lnTo>
                        <a:pt x="3440" y="228"/>
                      </a:lnTo>
                      <a:lnTo>
                        <a:pt x="3498" y="254"/>
                      </a:lnTo>
                      <a:lnTo>
                        <a:pt x="3554" y="282"/>
                      </a:lnTo>
                      <a:lnTo>
                        <a:pt x="3608" y="312"/>
                      </a:lnTo>
                      <a:lnTo>
                        <a:pt x="3664" y="342"/>
                      </a:lnTo>
                      <a:lnTo>
                        <a:pt x="3716" y="374"/>
                      </a:lnTo>
                      <a:lnTo>
                        <a:pt x="3770" y="406"/>
                      </a:lnTo>
                      <a:lnTo>
                        <a:pt x="3822" y="440"/>
                      </a:lnTo>
                      <a:lnTo>
                        <a:pt x="3872" y="476"/>
                      </a:lnTo>
                      <a:lnTo>
                        <a:pt x="3922" y="512"/>
                      </a:lnTo>
                      <a:lnTo>
                        <a:pt x="3972" y="550"/>
                      </a:lnTo>
                      <a:lnTo>
                        <a:pt x="4020" y="590"/>
                      </a:lnTo>
                      <a:lnTo>
                        <a:pt x="4068" y="630"/>
                      </a:lnTo>
                      <a:lnTo>
                        <a:pt x="4114" y="670"/>
                      </a:lnTo>
                      <a:lnTo>
                        <a:pt x="4160" y="712"/>
                      </a:lnTo>
                      <a:lnTo>
                        <a:pt x="4204" y="756"/>
                      </a:lnTo>
                      <a:lnTo>
                        <a:pt x="4246" y="800"/>
                      </a:lnTo>
                      <a:lnTo>
                        <a:pt x="4288" y="846"/>
                      </a:lnTo>
                      <a:lnTo>
                        <a:pt x="4330" y="892"/>
                      </a:lnTo>
                      <a:lnTo>
                        <a:pt x="4370" y="940"/>
                      </a:lnTo>
                      <a:lnTo>
                        <a:pt x="4410" y="988"/>
                      </a:lnTo>
                      <a:lnTo>
                        <a:pt x="4446" y="1036"/>
                      </a:lnTo>
                      <a:lnTo>
                        <a:pt x="4484" y="1086"/>
                      </a:lnTo>
                      <a:lnTo>
                        <a:pt x="4518" y="1138"/>
                      </a:lnTo>
                      <a:lnTo>
                        <a:pt x="4552" y="1190"/>
                      </a:lnTo>
                      <a:lnTo>
                        <a:pt x="4586" y="1242"/>
                      </a:lnTo>
                      <a:lnTo>
                        <a:pt x="4618" y="1296"/>
                      </a:lnTo>
                      <a:lnTo>
                        <a:pt x="4648" y="1350"/>
                      </a:lnTo>
                      <a:lnTo>
                        <a:pt x="4678" y="1406"/>
                      </a:lnTo>
                      <a:lnTo>
                        <a:pt x="4706" y="1462"/>
                      </a:lnTo>
                      <a:lnTo>
                        <a:pt x="4732" y="1518"/>
                      </a:lnTo>
                      <a:lnTo>
                        <a:pt x="4756" y="1576"/>
                      </a:lnTo>
                      <a:lnTo>
                        <a:pt x="0" y="157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>
                        <a:alpha val="75294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5" name="Oval 64"/>
                <p:cNvSpPr/>
                <p:nvPr/>
              </p:nvSpPr>
              <p:spPr>
                <a:xfrm>
                  <a:off x="1049040" y="2881440"/>
                  <a:ext cx="8460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7abf5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96" name="Group 65"/>
            <p:cNvGrpSpPr/>
            <p:nvPr/>
          </p:nvGrpSpPr>
          <p:grpSpPr>
            <a:xfrm>
              <a:off x="900000" y="4148280"/>
              <a:ext cx="392040" cy="539640"/>
              <a:chOff x="900000" y="4148280"/>
              <a:chExt cx="392040" cy="539640"/>
            </a:xfrm>
          </p:grpSpPr>
          <p:sp>
            <p:nvSpPr>
              <p:cNvPr id="1197" name="Freeform 66"/>
              <p:cNvSpPr/>
              <p:nvPr/>
            </p:nvSpPr>
            <p:spPr>
              <a:xfrm>
                <a:off x="900000" y="4148280"/>
                <a:ext cx="392040" cy="539640"/>
              </a:xfrm>
              <a:custGeom>
                <a:avLst/>
                <a:gdLst/>
                <a:ahLst/>
                <a:rect l="l" t="t" r="r" b="b"/>
                <a:pathLst>
                  <a:path w="1492" h="2052">
                    <a:moveTo>
                      <a:pt x="1492" y="373"/>
                    </a:moveTo>
                    <a:lnTo>
                      <a:pt x="1492" y="373"/>
                    </a:lnTo>
                    <a:lnTo>
                      <a:pt x="1491" y="354"/>
                    </a:lnTo>
                    <a:lnTo>
                      <a:pt x="1488" y="336"/>
                    </a:lnTo>
                    <a:lnTo>
                      <a:pt x="1483" y="316"/>
                    </a:lnTo>
                    <a:lnTo>
                      <a:pt x="1476" y="298"/>
                    </a:lnTo>
                    <a:lnTo>
                      <a:pt x="1469" y="280"/>
                    </a:lnTo>
                    <a:lnTo>
                      <a:pt x="1458" y="262"/>
                    </a:lnTo>
                    <a:lnTo>
                      <a:pt x="1447" y="245"/>
                    </a:lnTo>
                    <a:lnTo>
                      <a:pt x="1434" y="228"/>
                    </a:lnTo>
                    <a:lnTo>
                      <a:pt x="1418" y="211"/>
                    </a:lnTo>
                    <a:lnTo>
                      <a:pt x="1401" y="196"/>
                    </a:lnTo>
                    <a:lnTo>
                      <a:pt x="1385" y="180"/>
                    </a:lnTo>
                    <a:lnTo>
                      <a:pt x="1365" y="165"/>
                    </a:lnTo>
                    <a:lnTo>
                      <a:pt x="1344" y="150"/>
                    </a:lnTo>
                    <a:lnTo>
                      <a:pt x="1321" y="136"/>
                    </a:lnTo>
                    <a:lnTo>
                      <a:pt x="1298" y="122"/>
                    </a:lnTo>
                    <a:lnTo>
                      <a:pt x="1273" y="109"/>
                    </a:lnTo>
                    <a:lnTo>
                      <a:pt x="1247" y="97"/>
                    </a:lnTo>
                    <a:lnTo>
                      <a:pt x="1220" y="86"/>
                    </a:lnTo>
                    <a:lnTo>
                      <a:pt x="1193" y="74"/>
                    </a:lnTo>
                    <a:lnTo>
                      <a:pt x="1163" y="63"/>
                    </a:lnTo>
                    <a:lnTo>
                      <a:pt x="1133" y="54"/>
                    </a:lnTo>
                    <a:lnTo>
                      <a:pt x="1102" y="45"/>
                    </a:lnTo>
                    <a:lnTo>
                      <a:pt x="1070" y="36"/>
                    </a:lnTo>
                    <a:lnTo>
                      <a:pt x="1036" y="30"/>
                    </a:lnTo>
                    <a:lnTo>
                      <a:pt x="1002" y="22"/>
                    </a:lnTo>
                    <a:lnTo>
                      <a:pt x="967" y="17"/>
                    </a:lnTo>
                    <a:lnTo>
                      <a:pt x="933" y="12"/>
                    </a:lnTo>
                    <a:lnTo>
                      <a:pt x="896" y="8"/>
                    </a:lnTo>
                    <a:lnTo>
                      <a:pt x="860" y="4"/>
                    </a:lnTo>
                    <a:lnTo>
                      <a:pt x="822" y="1"/>
                    </a:lnTo>
                    <a:lnTo>
                      <a:pt x="785" y="0"/>
                    </a:lnTo>
                    <a:lnTo>
                      <a:pt x="746" y="0"/>
                    </a:lnTo>
                    <a:lnTo>
                      <a:pt x="707" y="0"/>
                    </a:lnTo>
                    <a:lnTo>
                      <a:pt x="670" y="1"/>
                    </a:lnTo>
                    <a:lnTo>
                      <a:pt x="632" y="4"/>
                    </a:lnTo>
                    <a:lnTo>
                      <a:pt x="596" y="8"/>
                    </a:lnTo>
                    <a:lnTo>
                      <a:pt x="560" y="12"/>
                    </a:lnTo>
                    <a:lnTo>
                      <a:pt x="525" y="17"/>
                    </a:lnTo>
                    <a:lnTo>
                      <a:pt x="490" y="22"/>
                    </a:lnTo>
                    <a:lnTo>
                      <a:pt x="456" y="30"/>
                    </a:lnTo>
                    <a:lnTo>
                      <a:pt x="422" y="36"/>
                    </a:lnTo>
                    <a:lnTo>
                      <a:pt x="390" y="45"/>
                    </a:lnTo>
                    <a:lnTo>
                      <a:pt x="359" y="54"/>
                    </a:lnTo>
                    <a:lnTo>
                      <a:pt x="329" y="63"/>
                    </a:lnTo>
                    <a:lnTo>
                      <a:pt x="299" y="74"/>
                    </a:lnTo>
                    <a:lnTo>
                      <a:pt x="272" y="86"/>
                    </a:lnTo>
                    <a:lnTo>
                      <a:pt x="245" y="97"/>
                    </a:lnTo>
                    <a:lnTo>
                      <a:pt x="219" y="109"/>
                    </a:lnTo>
                    <a:lnTo>
                      <a:pt x="194" y="122"/>
                    </a:lnTo>
                    <a:lnTo>
                      <a:pt x="171" y="136"/>
                    </a:lnTo>
                    <a:lnTo>
                      <a:pt x="148" y="150"/>
                    </a:lnTo>
                    <a:lnTo>
                      <a:pt x="127" y="165"/>
                    </a:lnTo>
                    <a:lnTo>
                      <a:pt x="107" y="180"/>
                    </a:lnTo>
                    <a:lnTo>
                      <a:pt x="91" y="196"/>
                    </a:lnTo>
                    <a:lnTo>
                      <a:pt x="74" y="211"/>
                    </a:lnTo>
                    <a:lnTo>
                      <a:pt x="58" y="228"/>
                    </a:lnTo>
                    <a:lnTo>
                      <a:pt x="45" y="245"/>
                    </a:lnTo>
                    <a:lnTo>
                      <a:pt x="34" y="262"/>
                    </a:lnTo>
                    <a:lnTo>
                      <a:pt x="23" y="280"/>
                    </a:lnTo>
                    <a:lnTo>
                      <a:pt x="16" y="298"/>
                    </a:lnTo>
                    <a:lnTo>
                      <a:pt x="9" y="316"/>
                    </a:lnTo>
                    <a:lnTo>
                      <a:pt x="4" y="336"/>
                    </a:lnTo>
                    <a:lnTo>
                      <a:pt x="1" y="354"/>
                    </a:lnTo>
                    <a:lnTo>
                      <a:pt x="0" y="373"/>
                    </a:lnTo>
                    <a:lnTo>
                      <a:pt x="1" y="396"/>
                    </a:lnTo>
                    <a:lnTo>
                      <a:pt x="6" y="420"/>
                    </a:lnTo>
                    <a:lnTo>
                      <a:pt x="5" y="420"/>
                    </a:lnTo>
                    <a:lnTo>
                      <a:pt x="376" y="1889"/>
                    </a:lnTo>
                    <a:lnTo>
                      <a:pt x="382" y="1906"/>
                    </a:lnTo>
                    <a:lnTo>
                      <a:pt x="391" y="1922"/>
                    </a:lnTo>
                    <a:lnTo>
                      <a:pt x="403" y="1938"/>
                    </a:lnTo>
                    <a:lnTo>
                      <a:pt x="417" y="1954"/>
                    </a:lnTo>
                    <a:lnTo>
                      <a:pt x="434" y="1968"/>
                    </a:lnTo>
                    <a:lnTo>
                      <a:pt x="453" y="1981"/>
                    </a:lnTo>
                    <a:lnTo>
                      <a:pt x="474" y="1994"/>
                    </a:lnTo>
                    <a:lnTo>
                      <a:pt x="499" y="2005"/>
                    </a:lnTo>
                    <a:lnTo>
                      <a:pt x="525" y="2016"/>
                    </a:lnTo>
                    <a:lnTo>
                      <a:pt x="552" y="2025"/>
                    </a:lnTo>
                    <a:lnTo>
                      <a:pt x="580" y="2033"/>
                    </a:lnTo>
                    <a:lnTo>
                      <a:pt x="611" y="2039"/>
                    </a:lnTo>
                    <a:lnTo>
                      <a:pt x="644" y="2044"/>
                    </a:lnTo>
                    <a:lnTo>
                      <a:pt x="676" y="2048"/>
                    </a:lnTo>
                    <a:lnTo>
                      <a:pt x="711" y="2051"/>
                    </a:lnTo>
                    <a:lnTo>
                      <a:pt x="746" y="2052"/>
                    </a:lnTo>
                    <a:lnTo>
                      <a:pt x="781" y="2051"/>
                    </a:lnTo>
                    <a:lnTo>
                      <a:pt x="816" y="2048"/>
                    </a:lnTo>
                    <a:lnTo>
                      <a:pt x="848" y="2044"/>
                    </a:lnTo>
                    <a:lnTo>
                      <a:pt x="881" y="2039"/>
                    </a:lnTo>
                    <a:lnTo>
                      <a:pt x="912" y="2033"/>
                    </a:lnTo>
                    <a:lnTo>
                      <a:pt x="940" y="2025"/>
                    </a:lnTo>
                    <a:lnTo>
                      <a:pt x="967" y="2016"/>
                    </a:lnTo>
                    <a:lnTo>
                      <a:pt x="993" y="2005"/>
                    </a:lnTo>
                    <a:lnTo>
                      <a:pt x="1018" y="1994"/>
                    </a:lnTo>
                    <a:lnTo>
                      <a:pt x="1039" y="1981"/>
                    </a:lnTo>
                    <a:lnTo>
                      <a:pt x="1058" y="1968"/>
                    </a:lnTo>
                    <a:lnTo>
                      <a:pt x="1075" y="1954"/>
                    </a:lnTo>
                    <a:lnTo>
                      <a:pt x="1089" y="1938"/>
                    </a:lnTo>
                    <a:lnTo>
                      <a:pt x="1101" y="1922"/>
                    </a:lnTo>
                    <a:lnTo>
                      <a:pt x="1110" y="1906"/>
                    </a:lnTo>
                    <a:lnTo>
                      <a:pt x="1116" y="1889"/>
                    </a:lnTo>
                    <a:lnTo>
                      <a:pt x="1487" y="420"/>
                    </a:lnTo>
                    <a:lnTo>
                      <a:pt x="1486" y="420"/>
                    </a:lnTo>
                    <a:lnTo>
                      <a:pt x="1491" y="396"/>
                    </a:lnTo>
                    <a:lnTo>
                      <a:pt x="1492" y="37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969696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Freeform 67"/>
              <p:cNvSpPr/>
              <p:nvPr/>
            </p:nvSpPr>
            <p:spPr>
              <a:xfrm>
                <a:off x="900000" y="4148280"/>
                <a:ext cx="392040" cy="196920"/>
              </a:xfrm>
              <a:custGeom>
                <a:avLst/>
                <a:gdLst/>
                <a:ahLst/>
                <a:rect l="l" t="t" r="r" b="b"/>
                <a:pathLst>
                  <a:path w="1492" h="746">
                    <a:moveTo>
                      <a:pt x="746" y="0"/>
                    </a:moveTo>
                    <a:lnTo>
                      <a:pt x="746" y="0"/>
                    </a:lnTo>
                    <a:lnTo>
                      <a:pt x="707" y="0"/>
                    </a:lnTo>
                    <a:lnTo>
                      <a:pt x="670" y="1"/>
                    </a:lnTo>
                    <a:lnTo>
                      <a:pt x="632" y="4"/>
                    </a:lnTo>
                    <a:lnTo>
                      <a:pt x="596" y="8"/>
                    </a:lnTo>
                    <a:lnTo>
                      <a:pt x="560" y="12"/>
                    </a:lnTo>
                    <a:lnTo>
                      <a:pt x="525" y="17"/>
                    </a:lnTo>
                    <a:lnTo>
                      <a:pt x="490" y="22"/>
                    </a:lnTo>
                    <a:lnTo>
                      <a:pt x="456" y="30"/>
                    </a:lnTo>
                    <a:lnTo>
                      <a:pt x="422" y="36"/>
                    </a:lnTo>
                    <a:lnTo>
                      <a:pt x="390" y="45"/>
                    </a:lnTo>
                    <a:lnTo>
                      <a:pt x="359" y="54"/>
                    </a:lnTo>
                    <a:lnTo>
                      <a:pt x="329" y="63"/>
                    </a:lnTo>
                    <a:lnTo>
                      <a:pt x="299" y="74"/>
                    </a:lnTo>
                    <a:lnTo>
                      <a:pt x="272" y="86"/>
                    </a:lnTo>
                    <a:lnTo>
                      <a:pt x="245" y="97"/>
                    </a:lnTo>
                    <a:lnTo>
                      <a:pt x="219" y="109"/>
                    </a:lnTo>
                    <a:lnTo>
                      <a:pt x="194" y="122"/>
                    </a:lnTo>
                    <a:lnTo>
                      <a:pt x="171" y="136"/>
                    </a:lnTo>
                    <a:lnTo>
                      <a:pt x="148" y="150"/>
                    </a:lnTo>
                    <a:lnTo>
                      <a:pt x="127" y="165"/>
                    </a:lnTo>
                    <a:lnTo>
                      <a:pt x="107" y="180"/>
                    </a:lnTo>
                    <a:lnTo>
                      <a:pt x="91" y="196"/>
                    </a:lnTo>
                    <a:lnTo>
                      <a:pt x="74" y="211"/>
                    </a:lnTo>
                    <a:lnTo>
                      <a:pt x="58" y="228"/>
                    </a:lnTo>
                    <a:lnTo>
                      <a:pt x="45" y="245"/>
                    </a:lnTo>
                    <a:lnTo>
                      <a:pt x="34" y="262"/>
                    </a:lnTo>
                    <a:lnTo>
                      <a:pt x="23" y="280"/>
                    </a:lnTo>
                    <a:lnTo>
                      <a:pt x="16" y="298"/>
                    </a:lnTo>
                    <a:lnTo>
                      <a:pt x="9" y="316"/>
                    </a:lnTo>
                    <a:lnTo>
                      <a:pt x="4" y="336"/>
                    </a:lnTo>
                    <a:lnTo>
                      <a:pt x="1" y="354"/>
                    </a:lnTo>
                    <a:lnTo>
                      <a:pt x="0" y="373"/>
                    </a:lnTo>
                    <a:lnTo>
                      <a:pt x="1" y="393"/>
                    </a:lnTo>
                    <a:lnTo>
                      <a:pt x="4" y="411"/>
                    </a:lnTo>
                    <a:lnTo>
                      <a:pt x="9" y="430"/>
                    </a:lnTo>
                    <a:lnTo>
                      <a:pt x="16" y="448"/>
                    </a:lnTo>
                    <a:lnTo>
                      <a:pt x="23" y="466"/>
                    </a:lnTo>
                    <a:lnTo>
                      <a:pt x="34" y="485"/>
                    </a:lnTo>
                    <a:lnTo>
                      <a:pt x="45" y="501"/>
                    </a:lnTo>
                    <a:lnTo>
                      <a:pt x="58" y="518"/>
                    </a:lnTo>
                    <a:lnTo>
                      <a:pt x="74" y="535"/>
                    </a:lnTo>
                    <a:lnTo>
                      <a:pt x="91" y="551"/>
                    </a:lnTo>
                    <a:lnTo>
                      <a:pt x="107" y="566"/>
                    </a:lnTo>
                    <a:lnTo>
                      <a:pt x="127" y="582"/>
                    </a:lnTo>
                    <a:lnTo>
                      <a:pt x="148" y="596"/>
                    </a:lnTo>
                    <a:lnTo>
                      <a:pt x="171" y="610"/>
                    </a:lnTo>
                    <a:lnTo>
                      <a:pt x="194" y="624"/>
                    </a:lnTo>
                    <a:lnTo>
                      <a:pt x="219" y="637"/>
                    </a:lnTo>
                    <a:lnTo>
                      <a:pt x="245" y="649"/>
                    </a:lnTo>
                    <a:lnTo>
                      <a:pt x="272" y="661"/>
                    </a:lnTo>
                    <a:lnTo>
                      <a:pt x="299" y="672"/>
                    </a:lnTo>
                    <a:lnTo>
                      <a:pt x="329" y="683"/>
                    </a:lnTo>
                    <a:lnTo>
                      <a:pt x="359" y="692"/>
                    </a:lnTo>
                    <a:lnTo>
                      <a:pt x="390" y="701"/>
                    </a:lnTo>
                    <a:lnTo>
                      <a:pt x="422" y="710"/>
                    </a:lnTo>
                    <a:lnTo>
                      <a:pt x="456" y="716"/>
                    </a:lnTo>
                    <a:lnTo>
                      <a:pt x="490" y="724"/>
                    </a:lnTo>
                    <a:lnTo>
                      <a:pt x="525" y="729"/>
                    </a:lnTo>
                    <a:lnTo>
                      <a:pt x="560" y="735"/>
                    </a:lnTo>
                    <a:lnTo>
                      <a:pt x="596" y="738"/>
                    </a:lnTo>
                    <a:lnTo>
                      <a:pt x="632" y="742"/>
                    </a:lnTo>
                    <a:lnTo>
                      <a:pt x="670" y="745"/>
                    </a:lnTo>
                    <a:lnTo>
                      <a:pt x="707" y="746"/>
                    </a:lnTo>
                    <a:lnTo>
                      <a:pt x="746" y="746"/>
                    </a:lnTo>
                    <a:lnTo>
                      <a:pt x="785" y="746"/>
                    </a:lnTo>
                    <a:lnTo>
                      <a:pt x="822" y="745"/>
                    </a:lnTo>
                    <a:lnTo>
                      <a:pt x="860" y="742"/>
                    </a:lnTo>
                    <a:lnTo>
                      <a:pt x="896" y="738"/>
                    </a:lnTo>
                    <a:lnTo>
                      <a:pt x="933" y="735"/>
                    </a:lnTo>
                    <a:lnTo>
                      <a:pt x="967" y="729"/>
                    </a:lnTo>
                    <a:lnTo>
                      <a:pt x="1002" y="724"/>
                    </a:lnTo>
                    <a:lnTo>
                      <a:pt x="1036" y="716"/>
                    </a:lnTo>
                    <a:lnTo>
                      <a:pt x="1070" y="710"/>
                    </a:lnTo>
                    <a:lnTo>
                      <a:pt x="1102" y="701"/>
                    </a:lnTo>
                    <a:lnTo>
                      <a:pt x="1133" y="692"/>
                    </a:lnTo>
                    <a:lnTo>
                      <a:pt x="1163" y="683"/>
                    </a:lnTo>
                    <a:lnTo>
                      <a:pt x="1193" y="672"/>
                    </a:lnTo>
                    <a:lnTo>
                      <a:pt x="1220" y="661"/>
                    </a:lnTo>
                    <a:lnTo>
                      <a:pt x="1247" y="649"/>
                    </a:lnTo>
                    <a:lnTo>
                      <a:pt x="1273" y="637"/>
                    </a:lnTo>
                    <a:lnTo>
                      <a:pt x="1298" y="624"/>
                    </a:lnTo>
                    <a:lnTo>
                      <a:pt x="1321" y="610"/>
                    </a:lnTo>
                    <a:lnTo>
                      <a:pt x="1344" y="596"/>
                    </a:lnTo>
                    <a:lnTo>
                      <a:pt x="1365" y="582"/>
                    </a:lnTo>
                    <a:lnTo>
                      <a:pt x="1385" y="566"/>
                    </a:lnTo>
                    <a:lnTo>
                      <a:pt x="1401" y="551"/>
                    </a:lnTo>
                    <a:lnTo>
                      <a:pt x="1418" y="535"/>
                    </a:lnTo>
                    <a:lnTo>
                      <a:pt x="1434" y="518"/>
                    </a:lnTo>
                    <a:lnTo>
                      <a:pt x="1447" y="501"/>
                    </a:lnTo>
                    <a:lnTo>
                      <a:pt x="1458" y="485"/>
                    </a:lnTo>
                    <a:lnTo>
                      <a:pt x="1469" y="466"/>
                    </a:lnTo>
                    <a:lnTo>
                      <a:pt x="1476" y="448"/>
                    </a:lnTo>
                    <a:lnTo>
                      <a:pt x="1483" y="430"/>
                    </a:lnTo>
                    <a:lnTo>
                      <a:pt x="1488" y="411"/>
                    </a:lnTo>
                    <a:lnTo>
                      <a:pt x="1491" y="393"/>
                    </a:lnTo>
                    <a:lnTo>
                      <a:pt x="1492" y="373"/>
                    </a:lnTo>
                    <a:lnTo>
                      <a:pt x="1491" y="354"/>
                    </a:lnTo>
                    <a:lnTo>
                      <a:pt x="1488" y="336"/>
                    </a:lnTo>
                    <a:lnTo>
                      <a:pt x="1483" y="316"/>
                    </a:lnTo>
                    <a:lnTo>
                      <a:pt x="1476" y="298"/>
                    </a:lnTo>
                    <a:lnTo>
                      <a:pt x="1469" y="280"/>
                    </a:lnTo>
                    <a:lnTo>
                      <a:pt x="1458" y="262"/>
                    </a:lnTo>
                    <a:lnTo>
                      <a:pt x="1447" y="245"/>
                    </a:lnTo>
                    <a:lnTo>
                      <a:pt x="1434" y="228"/>
                    </a:lnTo>
                    <a:lnTo>
                      <a:pt x="1418" y="211"/>
                    </a:lnTo>
                    <a:lnTo>
                      <a:pt x="1401" y="196"/>
                    </a:lnTo>
                    <a:lnTo>
                      <a:pt x="1385" y="180"/>
                    </a:lnTo>
                    <a:lnTo>
                      <a:pt x="1365" y="165"/>
                    </a:lnTo>
                    <a:lnTo>
                      <a:pt x="1344" y="150"/>
                    </a:lnTo>
                    <a:lnTo>
                      <a:pt x="1321" y="136"/>
                    </a:lnTo>
                    <a:lnTo>
                      <a:pt x="1298" y="122"/>
                    </a:lnTo>
                    <a:lnTo>
                      <a:pt x="1273" y="109"/>
                    </a:lnTo>
                    <a:lnTo>
                      <a:pt x="1247" y="97"/>
                    </a:lnTo>
                    <a:lnTo>
                      <a:pt x="1220" y="86"/>
                    </a:lnTo>
                    <a:lnTo>
                      <a:pt x="1193" y="74"/>
                    </a:lnTo>
                    <a:lnTo>
                      <a:pt x="1163" y="63"/>
                    </a:lnTo>
                    <a:lnTo>
                      <a:pt x="1133" y="54"/>
                    </a:lnTo>
                    <a:lnTo>
                      <a:pt x="1102" y="45"/>
                    </a:lnTo>
                    <a:lnTo>
                      <a:pt x="1070" y="36"/>
                    </a:lnTo>
                    <a:lnTo>
                      <a:pt x="1036" y="30"/>
                    </a:lnTo>
                    <a:lnTo>
                      <a:pt x="1002" y="22"/>
                    </a:lnTo>
                    <a:lnTo>
                      <a:pt x="967" y="17"/>
                    </a:lnTo>
                    <a:lnTo>
                      <a:pt x="933" y="12"/>
                    </a:lnTo>
                    <a:lnTo>
                      <a:pt x="896" y="8"/>
                    </a:lnTo>
                    <a:lnTo>
                      <a:pt x="860" y="4"/>
                    </a:lnTo>
                    <a:lnTo>
                      <a:pt x="822" y="1"/>
                    </a:lnTo>
                    <a:lnTo>
                      <a:pt x="785" y="0"/>
                    </a:lnTo>
                    <a:lnTo>
                      <a:pt x="746" y="0"/>
                    </a:lnTo>
                    <a:close/>
                    <a:moveTo>
                      <a:pt x="746" y="723"/>
                    </a:moveTo>
                    <a:lnTo>
                      <a:pt x="746" y="723"/>
                    </a:lnTo>
                    <a:lnTo>
                      <a:pt x="710" y="723"/>
                    </a:lnTo>
                    <a:lnTo>
                      <a:pt x="675" y="722"/>
                    </a:lnTo>
                    <a:lnTo>
                      <a:pt x="640" y="719"/>
                    </a:lnTo>
                    <a:lnTo>
                      <a:pt x="605" y="716"/>
                    </a:lnTo>
                    <a:lnTo>
                      <a:pt x="571" y="713"/>
                    </a:lnTo>
                    <a:lnTo>
                      <a:pt x="537" y="707"/>
                    </a:lnTo>
                    <a:lnTo>
                      <a:pt x="505" y="702"/>
                    </a:lnTo>
                    <a:lnTo>
                      <a:pt x="474" y="696"/>
                    </a:lnTo>
                    <a:lnTo>
                      <a:pt x="443" y="689"/>
                    </a:lnTo>
                    <a:lnTo>
                      <a:pt x="413" y="681"/>
                    </a:lnTo>
                    <a:lnTo>
                      <a:pt x="383" y="672"/>
                    </a:lnTo>
                    <a:lnTo>
                      <a:pt x="355" y="663"/>
                    </a:lnTo>
                    <a:lnTo>
                      <a:pt x="328" y="654"/>
                    </a:lnTo>
                    <a:lnTo>
                      <a:pt x="302" y="644"/>
                    </a:lnTo>
                    <a:lnTo>
                      <a:pt x="276" y="632"/>
                    </a:lnTo>
                    <a:lnTo>
                      <a:pt x="251" y="621"/>
                    </a:lnTo>
                    <a:lnTo>
                      <a:pt x="228" y="609"/>
                    </a:lnTo>
                    <a:lnTo>
                      <a:pt x="206" y="596"/>
                    </a:lnTo>
                    <a:lnTo>
                      <a:pt x="185" y="583"/>
                    </a:lnTo>
                    <a:lnTo>
                      <a:pt x="166" y="569"/>
                    </a:lnTo>
                    <a:lnTo>
                      <a:pt x="148" y="554"/>
                    </a:lnTo>
                    <a:lnTo>
                      <a:pt x="131" y="540"/>
                    </a:lnTo>
                    <a:lnTo>
                      <a:pt x="115" y="525"/>
                    </a:lnTo>
                    <a:lnTo>
                      <a:pt x="101" y="509"/>
                    </a:lnTo>
                    <a:lnTo>
                      <a:pt x="89" y="494"/>
                    </a:lnTo>
                    <a:lnTo>
                      <a:pt x="78" y="477"/>
                    </a:lnTo>
                    <a:lnTo>
                      <a:pt x="69" y="461"/>
                    </a:lnTo>
                    <a:lnTo>
                      <a:pt x="61" y="444"/>
                    </a:lnTo>
                    <a:lnTo>
                      <a:pt x="54" y="426"/>
                    </a:lnTo>
                    <a:lnTo>
                      <a:pt x="51" y="409"/>
                    </a:lnTo>
                    <a:lnTo>
                      <a:pt x="48" y="391"/>
                    </a:lnTo>
                    <a:lnTo>
                      <a:pt x="47" y="373"/>
                    </a:lnTo>
                    <a:lnTo>
                      <a:pt x="48" y="355"/>
                    </a:lnTo>
                    <a:lnTo>
                      <a:pt x="51" y="337"/>
                    </a:lnTo>
                    <a:lnTo>
                      <a:pt x="54" y="320"/>
                    </a:lnTo>
                    <a:lnTo>
                      <a:pt x="61" y="302"/>
                    </a:lnTo>
                    <a:lnTo>
                      <a:pt x="69" y="285"/>
                    </a:lnTo>
                    <a:lnTo>
                      <a:pt x="78" y="269"/>
                    </a:lnTo>
                    <a:lnTo>
                      <a:pt x="89" y="253"/>
                    </a:lnTo>
                    <a:lnTo>
                      <a:pt x="101" y="237"/>
                    </a:lnTo>
                    <a:lnTo>
                      <a:pt x="115" y="222"/>
                    </a:lnTo>
                    <a:lnTo>
                      <a:pt x="131" y="206"/>
                    </a:lnTo>
                    <a:lnTo>
                      <a:pt x="148" y="192"/>
                    </a:lnTo>
                    <a:lnTo>
                      <a:pt x="166" y="177"/>
                    </a:lnTo>
                    <a:lnTo>
                      <a:pt x="185" y="163"/>
                    </a:lnTo>
                    <a:lnTo>
                      <a:pt x="206" y="150"/>
                    </a:lnTo>
                    <a:lnTo>
                      <a:pt x="228" y="137"/>
                    </a:lnTo>
                    <a:lnTo>
                      <a:pt x="251" y="126"/>
                    </a:lnTo>
                    <a:lnTo>
                      <a:pt x="276" y="114"/>
                    </a:lnTo>
                    <a:lnTo>
                      <a:pt x="302" y="102"/>
                    </a:lnTo>
                    <a:lnTo>
                      <a:pt x="328" y="92"/>
                    </a:lnTo>
                    <a:lnTo>
                      <a:pt x="355" y="83"/>
                    </a:lnTo>
                    <a:lnTo>
                      <a:pt x="383" y="74"/>
                    </a:lnTo>
                    <a:lnTo>
                      <a:pt x="413" y="65"/>
                    </a:lnTo>
                    <a:lnTo>
                      <a:pt x="443" y="57"/>
                    </a:lnTo>
                    <a:lnTo>
                      <a:pt x="474" y="51"/>
                    </a:lnTo>
                    <a:lnTo>
                      <a:pt x="505" y="44"/>
                    </a:lnTo>
                    <a:lnTo>
                      <a:pt x="537" y="39"/>
                    </a:lnTo>
                    <a:lnTo>
                      <a:pt x="571" y="34"/>
                    </a:lnTo>
                    <a:lnTo>
                      <a:pt x="605" y="30"/>
                    </a:lnTo>
                    <a:lnTo>
                      <a:pt x="640" y="27"/>
                    </a:lnTo>
                    <a:lnTo>
                      <a:pt x="675" y="25"/>
                    </a:lnTo>
                    <a:lnTo>
                      <a:pt x="710" y="23"/>
                    </a:lnTo>
                    <a:lnTo>
                      <a:pt x="746" y="23"/>
                    </a:lnTo>
                    <a:lnTo>
                      <a:pt x="782" y="23"/>
                    </a:lnTo>
                    <a:lnTo>
                      <a:pt x="817" y="25"/>
                    </a:lnTo>
                    <a:lnTo>
                      <a:pt x="852" y="27"/>
                    </a:lnTo>
                    <a:lnTo>
                      <a:pt x="887" y="30"/>
                    </a:lnTo>
                    <a:lnTo>
                      <a:pt x="921" y="34"/>
                    </a:lnTo>
                    <a:lnTo>
                      <a:pt x="955" y="39"/>
                    </a:lnTo>
                    <a:lnTo>
                      <a:pt x="987" y="44"/>
                    </a:lnTo>
                    <a:lnTo>
                      <a:pt x="1018" y="51"/>
                    </a:lnTo>
                    <a:lnTo>
                      <a:pt x="1049" y="57"/>
                    </a:lnTo>
                    <a:lnTo>
                      <a:pt x="1079" y="65"/>
                    </a:lnTo>
                    <a:lnTo>
                      <a:pt x="1109" y="74"/>
                    </a:lnTo>
                    <a:lnTo>
                      <a:pt x="1137" y="83"/>
                    </a:lnTo>
                    <a:lnTo>
                      <a:pt x="1164" y="92"/>
                    </a:lnTo>
                    <a:lnTo>
                      <a:pt x="1190" y="102"/>
                    </a:lnTo>
                    <a:lnTo>
                      <a:pt x="1216" y="114"/>
                    </a:lnTo>
                    <a:lnTo>
                      <a:pt x="1241" y="126"/>
                    </a:lnTo>
                    <a:lnTo>
                      <a:pt x="1264" y="137"/>
                    </a:lnTo>
                    <a:lnTo>
                      <a:pt x="1286" y="150"/>
                    </a:lnTo>
                    <a:lnTo>
                      <a:pt x="1307" y="163"/>
                    </a:lnTo>
                    <a:lnTo>
                      <a:pt x="1326" y="177"/>
                    </a:lnTo>
                    <a:lnTo>
                      <a:pt x="1344" y="192"/>
                    </a:lnTo>
                    <a:lnTo>
                      <a:pt x="1361" y="206"/>
                    </a:lnTo>
                    <a:lnTo>
                      <a:pt x="1377" y="222"/>
                    </a:lnTo>
                    <a:lnTo>
                      <a:pt x="1391" y="237"/>
                    </a:lnTo>
                    <a:lnTo>
                      <a:pt x="1403" y="253"/>
                    </a:lnTo>
                    <a:lnTo>
                      <a:pt x="1414" y="269"/>
                    </a:lnTo>
                    <a:lnTo>
                      <a:pt x="1423" y="285"/>
                    </a:lnTo>
                    <a:lnTo>
                      <a:pt x="1431" y="302"/>
                    </a:lnTo>
                    <a:lnTo>
                      <a:pt x="1438" y="320"/>
                    </a:lnTo>
                    <a:lnTo>
                      <a:pt x="1441" y="337"/>
                    </a:lnTo>
                    <a:lnTo>
                      <a:pt x="1444" y="355"/>
                    </a:lnTo>
                    <a:lnTo>
                      <a:pt x="1445" y="373"/>
                    </a:lnTo>
                    <a:lnTo>
                      <a:pt x="1444" y="391"/>
                    </a:lnTo>
                    <a:lnTo>
                      <a:pt x="1441" y="409"/>
                    </a:lnTo>
                    <a:lnTo>
                      <a:pt x="1438" y="426"/>
                    </a:lnTo>
                    <a:lnTo>
                      <a:pt x="1431" y="444"/>
                    </a:lnTo>
                    <a:lnTo>
                      <a:pt x="1423" y="461"/>
                    </a:lnTo>
                    <a:lnTo>
                      <a:pt x="1414" y="477"/>
                    </a:lnTo>
                    <a:lnTo>
                      <a:pt x="1403" y="494"/>
                    </a:lnTo>
                    <a:lnTo>
                      <a:pt x="1391" y="509"/>
                    </a:lnTo>
                    <a:lnTo>
                      <a:pt x="1377" y="525"/>
                    </a:lnTo>
                    <a:lnTo>
                      <a:pt x="1361" y="540"/>
                    </a:lnTo>
                    <a:lnTo>
                      <a:pt x="1344" y="554"/>
                    </a:lnTo>
                    <a:lnTo>
                      <a:pt x="1326" y="569"/>
                    </a:lnTo>
                    <a:lnTo>
                      <a:pt x="1307" y="583"/>
                    </a:lnTo>
                    <a:lnTo>
                      <a:pt x="1286" y="596"/>
                    </a:lnTo>
                    <a:lnTo>
                      <a:pt x="1264" y="609"/>
                    </a:lnTo>
                    <a:lnTo>
                      <a:pt x="1241" y="621"/>
                    </a:lnTo>
                    <a:lnTo>
                      <a:pt x="1216" y="632"/>
                    </a:lnTo>
                    <a:lnTo>
                      <a:pt x="1190" y="644"/>
                    </a:lnTo>
                    <a:lnTo>
                      <a:pt x="1164" y="654"/>
                    </a:lnTo>
                    <a:lnTo>
                      <a:pt x="1137" y="663"/>
                    </a:lnTo>
                    <a:lnTo>
                      <a:pt x="1109" y="672"/>
                    </a:lnTo>
                    <a:lnTo>
                      <a:pt x="1079" y="681"/>
                    </a:lnTo>
                    <a:lnTo>
                      <a:pt x="1049" y="689"/>
                    </a:lnTo>
                    <a:lnTo>
                      <a:pt x="1018" y="696"/>
                    </a:lnTo>
                    <a:lnTo>
                      <a:pt x="987" y="702"/>
                    </a:lnTo>
                    <a:lnTo>
                      <a:pt x="955" y="707"/>
                    </a:lnTo>
                    <a:lnTo>
                      <a:pt x="921" y="713"/>
                    </a:lnTo>
                    <a:lnTo>
                      <a:pt x="887" y="716"/>
                    </a:lnTo>
                    <a:lnTo>
                      <a:pt x="852" y="719"/>
                    </a:lnTo>
                    <a:lnTo>
                      <a:pt x="817" y="722"/>
                    </a:lnTo>
                    <a:lnTo>
                      <a:pt x="782" y="723"/>
                    </a:lnTo>
                    <a:lnTo>
                      <a:pt x="746" y="723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Freeform 68"/>
              <p:cNvSpPr/>
              <p:nvPr/>
            </p:nvSpPr>
            <p:spPr>
              <a:xfrm>
                <a:off x="912600" y="4154760"/>
                <a:ext cx="366840" cy="183960"/>
              </a:xfrm>
              <a:custGeom>
                <a:avLst/>
                <a:gdLst/>
                <a:ahLst/>
                <a:rect l="l" t="t" r="r" b="b"/>
                <a:pathLst>
                  <a:path w="1398" h="700">
                    <a:moveTo>
                      <a:pt x="1398" y="350"/>
                    </a:moveTo>
                    <a:lnTo>
                      <a:pt x="1398" y="350"/>
                    </a:lnTo>
                    <a:lnTo>
                      <a:pt x="1397" y="368"/>
                    </a:lnTo>
                    <a:lnTo>
                      <a:pt x="1394" y="386"/>
                    </a:lnTo>
                    <a:lnTo>
                      <a:pt x="1391" y="403"/>
                    </a:lnTo>
                    <a:lnTo>
                      <a:pt x="1384" y="421"/>
                    </a:lnTo>
                    <a:lnTo>
                      <a:pt x="1376" y="438"/>
                    </a:lnTo>
                    <a:lnTo>
                      <a:pt x="1367" y="454"/>
                    </a:lnTo>
                    <a:lnTo>
                      <a:pt x="1356" y="471"/>
                    </a:lnTo>
                    <a:lnTo>
                      <a:pt x="1344" y="486"/>
                    </a:lnTo>
                    <a:lnTo>
                      <a:pt x="1330" y="502"/>
                    </a:lnTo>
                    <a:lnTo>
                      <a:pt x="1314" y="517"/>
                    </a:lnTo>
                    <a:lnTo>
                      <a:pt x="1297" y="531"/>
                    </a:lnTo>
                    <a:lnTo>
                      <a:pt x="1279" y="546"/>
                    </a:lnTo>
                    <a:lnTo>
                      <a:pt x="1260" y="560"/>
                    </a:lnTo>
                    <a:lnTo>
                      <a:pt x="1239" y="573"/>
                    </a:lnTo>
                    <a:lnTo>
                      <a:pt x="1217" y="586"/>
                    </a:lnTo>
                    <a:lnTo>
                      <a:pt x="1194" y="598"/>
                    </a:lnTo>
                    <a:lnTo>
                      <a:pt x="1169" y="609"/>
                    </a:lnTo>
                    <a:lnTo>
                      <a:pt x="1143" y="621"/>
                    </a:lnTo>
                    <a:lnTo>
                      <a:pt x="1117" y="631"/>
                    </a:lnTo>
                    <a:lnTo>
                      <a:pt x="1090" y="640"/>
                    </a:lnTo>
                    <a:lnTo>
                      <a:pt x="1062" y="649"/>
                    </a:lnTo>
                    <a:lnTo>
                      <a:pt x="1032" y="658"/>
                    </a:lnTo>
                    <a:lnTo>
                      <a:pt x="1002" y="666"/>
                    </a:lnTo>
                    <a:lnTo>
                      <a:pt x="971" y="673"/>
                    </a:lnTo>
                    <a:lnTo>
                      <a:pt x="940" y="679"/>
                    </a:lnTo>
                    <a:lnTo>
                      <a:pt x="908" y="684"/>
                    </a:lnTo>
                    <a:lnTo>
                      <a:pt x="874" y="690"/>
                    </a:lnTo>
                    <a:lnTo>
                      <a:pt x="840" y="693"/>
                    </a:lnTo>
                    <a:lnTo>
                      <a:pt x="805" y="696"/>
                    </a:lnTo>
                    <a:lnTo>
                      <a:pt x="770" y="699"/>
                    </a:lnTo>
                    <a:lnTo>
                      <a:pt x="735" y="700"/>
                    </a:lnTo>
                    <a:lnTo>
                      <a:pt x="699" y="700"/>
                    </a:lnTo>
                    <a:lnTo>
                      <a:pt x="663" y="700"/>
                    </a:lnTo>
                    <a:lnTo>
                      <a:pt x="628" y="699"/>
                    </a:lnTo>
                    <a:lnTo>
                      <a:pt x="593" y="696"/>
                    </a:lnTo>
                    <a:lnTo>
                      <a:pt x="558" y="693"/>
                    </a:lnTo>
                    <a:lnTo>
                      <a:pt x="524" y="690"/>
                    </a:lnTo>
                    <a:lnTo>
                      <a:pt x="490" y="684"/>
                    </a:lnTo>
                    <a:lnTo>
                      <a:pt x="458" y="679"/>
                    </a:lnTo>
                    <a:lnTo>
                      <a:pt x="427" y="673"/>
                    </a:lnTo>
                    <a:lnTo>
                      <a:pt x="396" y="666"/>
                    </a:lnTo>
                    <a:lnTo>
                      <a:pt x="366" y="658"/>
                    </a:lnTo>
                    <a:lnTo>
                      <a:pt x="336" y="649"/>
                    </a:lnTo>
                    <a:lnTo>
                      <a:pt x="308" y="640"/>
                    </a:lnTo>
                    <a:lnTo>
                      <a:pt x="281" y="631"/>
                    </a:lnTo>
                    <a:lnTo>
                      <a:pt x="255" y="621"/>
                    </a:lnTo>
                    <a:lnTo>
                      <a:pt x="229" y="609"/>
                    </a:lnTo>
                    <a:lnTo>
                      <a:pt x="204" y="598"/>
                    </a:lnTo>
                    <a:lnTo>
                      <a:pt x="181" y="586"/>
                    </a:lnTo>
                    <a:lnTo>
                      <a:pt x="159" y="573"/>
                    </a:lnTo>
                    <a:lnTo>
                      <a:pt x="138" y="560"/>
                    </a:lnTo>
                    <a:lnTo>
                      <a:pt x="119" y="546"/>
                    </a:lnTo>
                    <a:lnTo>
                      <a:pt x="101" y="531"/>
                    </a:lnTo>
                    <a:lnTo>
                      <a:pt x="84" y="517"/>
                    </a:lnTo>
                    <a:lnTo>
                      <a:pt x="68" y="502"/>
                    </a:lnTo>
                    <a:lnTo>
                      <a:pt x="54" y="486"/>
                    </a:lnTo>
                    <a:lnTo>
                      <a:pt x="42" y="471"/>
                    </a:lnTo>
                    <a:lnTo>
                      <a:pt x="31" y="454"/>
                    </a:lnTo>
                    <a:lnTo>
                      <a:pt x="22" y="438"/>
                    </a:lnTo>
                    <a:lnTo>
                      <a:pt x="14" y="421"/>
                    </a:lnTo>
                    <a:lnTo>
                      <a:pt x="7" y="403"/>
                    </a:lnTo>
                    <a:lnTo>
                      <a:pt x="4" y="386"/>
                    </a:lnTo>
                    <a:lnTo>
                      <a:pt x="1" y="368"/>
                    </a:lnTo>
                    <a:lnTo>
                      <a:pt x="0" y="350"/>
                    </a:lnTo>
                    <a:lnTo>
                      <a:pt x="1" y="332"/>
                    </a:lnTo>
                    <a:lnTo>
                      <a:pt x="4" y="314"/>
                    </a:lnTo>
                    <a:lnTo>
                      <a:pt x="7" y="297"/>
                    </a:lnTo>
                    <a:lnTo>
                      <a:pt x="14" y="279"/>
                    </a:lnTo>
                    <a:lnTo>
                      <a:pt x="22" y="262"/>
                    </a:lnTo>
                    <a:lnTo>
                      <a:pt x="31" y="246"/>
                    </a:lnTo>
                    <a:lnTo>
                      <a:pt x="42" y="230"/>
                    </a:lnTo>
                    <a:lnTo>
                      <a:pt x="54" y="214"/>
                    </a:lnTo>
                    <a:lnTo>
                      <a:pt x="68" y="199"/>
                    </a:lnTo>
                    <a:lnTo>
                      <a:pt x="84" y="183"/>
                    </a:lnTo>
                    <a:lnTo>
                      <a:pt x="101" y="169"/>
                    </a:lnTo>
                    <a:lnTo>
                      <a:pt x="119" y="154"/>
                    </a:lnTo>
                    <a:lnTo>
                      <a:pt x="138" y="140"/>
                    </a:lnTo>
                    <a:lnTo>
                      <a:pt x="159" y="127"/>
                    </a:lnTo>
                    <a:lnTo>
                      <a:pt x="181" y="114"/>
                    </a:lnTo>
                    <a:lnTo>
                      <a:pt x="204" y="103"/>
                    </a:lnTo>
                    <a:lnTo>
                      <a:pt x="229" y="91"/>
                    </a:lnTo>
                    <a:lnTo>
                      <a:pt x="255" y="79"/>
                    </a:lnTo>
                    <a:lnTo>
                      <a:pt x="281" y="69"/>
                    </a:lnTo>
                    <a:lnTo>
                      <a:pt x="308" y="60"/>
                    </a:lnTo>
                    <a:lnTo>
                      <a:pt x="336" y="51"/>
                    </a:lnTo>
                    <a:lnTo>
                      <a:pt x="366" y="42"/>
                    </a:lnTo>
                    <a:lnTo>
                      <a:pt x="396" y="34"/>
                    </a:lnTo>
                    <a:lnTo>
                      <a:pt x="427" y="28"/>
                    </a:lnTo>
                    <a:lnTo>
                      <a:pt x="458" y="21"/>
                    </a:lnTo>
                    <a:lnTo>
                      <a:pt x="490" y="16"/>
                    </a:lnTo>
                    <a:lnTo>
                      <a:pt x="524" y="11"/>
                    </a:lnTo>
                    <a:lnTo>
                      <a:pt x="558" y="7"/>
                    </a:lnTo>
                    <a:lnTo>
                      <a:pt x="593" y="4"/>
                    </a:lnTo>
                    <a:lnTo>
                      <a:pt x="628" y="2"/>
                    </a:lnTo>
                    <a:lnTo>
                      <a:pt x="663" y="0"/>
                    </a:lnTo>
                    <a:lnTo>
                      <a:pt x="699" y="0"/>
                    </a:lnTo>
                    <a:lnTo>
                      <a:pt x="735" y="0"/>
                    </a:lnTo>
                    <a:lnTo>
                      <a:pt x="770" y="2"/>
                    </a:lnTo>
                    <a:lnTo>
                      <a:pt x="805" y="4"/>
                    </a:lnTo>
                    <a:lnTo>
                      <a:pt x="840" y="7"/>
                    </a:lnTo>
                    <a:lnTo>
                      <a:pt x="874" y="11"/>
                    </a:lnTo>
                    <a:lnTo>
                      <a:pt x="908" y="16"/>
                    </a:lnTo>
                    <a:lnTo>
                      <a:pt x="940" y="21"/>
                    </a:lnTo>
                    <a:lnTo>
                      <a:pt x="971" y="28"/>
                    </a:lnTo>
                    <a:lnTo>
                      <a:pt x="1002" y="34"/>
                    </a:lnTo>
                    <a:lnTo>
                      <a:pt x="1032" y="42"/>
                    </a:lnTo>
                    <a:lnTo>
                      <a:pt x="1062" y="51"/>
                    </a:lnTo>
                    <a:lnTo>
                      <a:pt x="1090" y="60"/>
                    </a:lnTo>
                    <a:lnTo>
                      <a:pt x="1117" y="69"/>
                    </a:lnTo>
                    <a:lnTo>
                      <a:pt x="1143" y="79"/>
                    </a:lnTo>
                    <a:lnTo>
                      <a:pt x="1169" y="91"/>
                    </a:lnTo>
                    <a:lnTo>
                      <a:pt x="1194" y="103"/>
                    </a:lnTo>
                    <a:lnTo>
                      <a:pt x="1217" y="114"/>
                    </a:lnTo>
                    <a:lnTo>
                      <a:pt x="1239" y="127"/>
                    </a:lnTo>
                    <a:lnTo>
                      <a:pt x="1260" y="140"/>
                    </a:lnTo>
                    <a:lnTo>
                      <a:pt x="1279" y="154"/>
                    </a:lnTo>
                    <a:lnTo>
                      <a:pt x="1297" y="169"/>
                    </a:lnTo>
                    <a:lnTo>
                      <a:pt x="1314" y="183"/>
                    </a:lnTo>
                    <a:lnTo>
                      <a:pt x="1330" y="199"/>
                    </a:lnTo>
                    <a:lnTo>
                      <a:pt x="1344" y="214"/>
                    </a:lnTo>
                    <a:lnTo>
                      <a:pt x="1356" y="230"/>
                    </a:lnTo>
                    <a:lnTo>
                      <a:pt x="1367" y="246"/>
                    </a:lnTo>
                    <a:lnTo>
                      <a:pt x="1376" y="262"/>
                    </a:lnTo>
                    <a:lnTo>
                      <a:pt x="1384" y="279"/>
                    </a:lnTo>
                    <a:lnTo>
                      <a:pt x="1391" y="297"/>
                    </a:lnTo>
                    <a:lnTo>
                      <a:pt x="1394" y="314"/>
                    </a:lnTo>
                    <a:lnTo>
                      <a:pt x="1397" y="332"/>
                    </a:lnTo>
                    <a:lnTo>
                      <a:pt x="1398" y="35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f3f3f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0" name="Oval 94"/>
            <p:cNvSpPr/>
            <p:nvPr/>
          </p:nvSpPr>
          <p:spPr>
            <a:xfrm>
              <a:off x="898200" y="3284640"/>
              <a:ext cx="392040" cy="134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5000">
    <p:fade/>
  </p:transition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fill="hold">
                      <p:stCondLst>
                        <p:cond delay="0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dur="indefinite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04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4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4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4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6" dur="indefinite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04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4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4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5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Box 1"/>
          <p:cNvSpPr/>
          <p:nvPr/>
        </p:nvSpPr>
        <p:spPr>
          <a:xfrm>
            <a:off x="3892680" y="2095560"/>
            <a:ext cx="50292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00000"/>
                </a:solidFill>
                <a:latin typeface="微软雅黑"/>
                <a:ea typeface="微软雅黑"/>
              </a:rPr>
              <a:t>20XX</a:t>
            </a:r>
            <a:r>
              <a:rPr b="1" lang="zh-CN" sz="4200" spc="-1" strike="noStrike">
                <a:solidFill>
                  <a:srgbClr val="c00000"/>
                </a:solidFill>
                <a:latin typeface="微软雅黑"/>
                <a:ea typeface="微软雅黑"/>
              </a:rPr>
              <a:t>年度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c00000"/>
                </a:solidFill>
                <a:latin typeface="微软雅黑"/>
                <a:ea typeface="微软雅黑"/>
              </a:rPr>
              <a:t>工作总结</a:t>
            </a:r>
            <a:r>
              <a:rPr b="1" lang="en-US" sz="4200" spc="-1" strike="noStrike">
                <a:solidFill>
                  <a:srgbClr val="c00000"/>
                </a:solidFill>
                <a:latin typeface="微软雅黑"/>
                <a:ea typeface="微软雅黑"/>
              </a:rPr>
              <a:t>PPT</a:t>
            </a:r>
            <a:r>
              <a:rPr b="1" lang="zh-CN" sz="4200" spc="-1" strike="noStrike">
                <a:solidFill>
                  <a:srgbClr val="c00000"/>
                </a:solidFill>
                <a:latin typeface="微软雅黑"/>
                <a:ea typeface="微软雅黑"/>
              </a:rPr>
              <a:t>模板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1" name="组合 1"/>
          <p:cNvGrpSpPr/>
          <p:nvPr/>
        </p:nvGrpSpPr>
        <p:grpSpPr>
          <a:xfrm>
            <a:off x="6824520" y="1344600"/>
            <a:ext cx="1708200" cy="1790640"/>
            <a:chOff x="6824520" y="1344600"/>
            <a:chExt cx="1708200" cy="1790640"/>
          </a:xfrm>
        </p:grpSpPr>
        <p:grpSp>
          <p:nvGrpSpPr>
            <p:cNvPr id="1202" name="组合 3347"/>
            <p:cNvGrpSpPr/>
            <p:nvPr/>
          </p:nvGrpSpPr>
          <p:grpSpPr>
            <a:xfrm>
              <a:off x="7020360" y="1704600"/>
              <a:ext cx="1112400" cy="1430640"/>
              <a:chOff x="7020360" y="1704600"/>
              <a:chExt cx="1112400" cy="1430640"/>
            </a:xfrm>
          </p:grpSpPr>
          <p:grpSp>
            <p:nvGrpSpPr>
              <p:cNvPr id="1203" name="组合 127"/>
              <p:cNvGrpSpPr/>
              <p:nvPr/>
            </p:nvGrpSpPr>
            <p:grpSpPr>
              <a:xfrm>
                <a:off x="7020360" y="1704600"/>
                <a:ext cx="1112400" cy="1430640"/>
                <a:chOff x="7020360" y="1704600"/>
                <a:chExt cx="1112400" cy="1430640"/>
              </a:xfrm>
            </p:grpSpPr>
            <p:grpSp>
              <p:nvGrpSpPr>
                <p:cNvPr id="1204" name="Group 23"/>
                <p:cNvGrpSpPr/>
                <p:nvPr/>
              </p:nvGrpSpPr>
              <p:grpSpPr>
                <a:xfrm>
                  <a:off x="7020360" y="1704600"/>
                  <a:ext cx="1112400" cy="1156680"/>
                  <a:chOff x="7020360" y="1704600"/>
                  <a:chExt cx="1112400" cy="1156680"/>
                </a:xfrm>
              </p:grpSpPr>
              <p:pic>
                <p:nvPicPr>
                  <p:cNvPr id="1205" name="Oval 25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7020360" y="1704600"/>
                    <a:ext cx="1112400" cy="115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206" name="Picture 26" descr="circuler_1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65360" y="1725120"/>
                    <a:ext cx="1028880" cy="53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207" name="Oval 2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54200" y="1722240"/>
                    <a:ext cx="1044720" cy="10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1208" name="Group 29"/>
                  <p:cNvGrpSpPr/>
                  <p:nvPr/>
                </p:nvGrpSpPr>
                <p:grpSpPr>
                  <a:xfrm>
                    <a:off x="7148160" y="2011680"/>
                    <a:ext cx="871560" cy="337320"/>
                    <a:chOff x="7148160" y="2011680"/>
                    <a:chExt cx="871560" cy="337320"/>
                  </a:xfrm>
                </p:grpSpPr>
                <p:grpSp>
                  <p:nvGrpSpPr>
                    <p:cNvPr id="1209" name="Group 30"/>
                    <p:cNvGrpSpPr/>
                    <p:nvPr/>
                  </p:nvGrpSpPr>
                  <p:grpSpPr>
                    <a:xfrm>
                      <a:off x="7292520" y="2011680"/>
                      <a:ext cx="727200" cy="283320"/>
                      <a:chOff x="7292520" y="2011680"/>
                      <a:chExt cx="727200" cy="283320"/>
                    </a:xfrm>
                  </p:grpSpPr>
                  <p:sp>
                    <p:nvSpPr>
                      <p:cNvPr id="1210" name="AutoShape 31"/>
                      <p:cNvSpPr/>
                      <p:nvPr/>
                    </p:nvSpPr>
                    <p:spPr>
                      <a:xfrm flipH="1" flipV="1" rot="3964800">
                        <a:off x="7722720" y="1881360"/>
                        <a:ext cx="69480" cy="542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6" y="1929"/>
                              <a:pt x="10751" y="5080"/>
                              <a:pt x="10751" y="10800"/>
                            </a:cubicBezTo>
                            <a:cubicBezTo>
                              <a:pt x="10751" y="16520"/>
                              <a:pt x="16176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11" name="AutoShape 32"/>
                      <p:cNvSpPr/>
                      <p:nvPr/>
                    </p:nvSpPr>
                    <p:spPr>
                      <a:xfrm flipH="1" flipV="1" rot="4780200">
                        <a:off x="7638840" y="1916280"/>
                        <a:ext cx="69120" cy="541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6" y="1929"/>
                              <a:pt x="10751" y="5080"/>
                              <a:pt x="10751" y="10800"/>
                            </a:cubicBezTo>
                            <a:cubicBezTo>
                              <a:pt x="10751" y="16520"/>
                              <a:pt x="16176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12" name="AutoShape 33"/>
                      <p:cNvSpPr/>
                      <p:nvPr/>
                    </p:nvSpPr>
                    <p:spPr>
                      <a:xfrm flipH="1" flipV="1" rot="5076000">
                        <a:off x="7589520" y="1928160"/>
                        <a:ext cx="69120" cy="542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6" y="1929"/>
                              <a:pt x="10751" y="5080"/>
                              <a:pt x="10751" y="10800"/>
                            </a:cubicBezTo>
                            <a:cubicBezTo>
                              <a:pt x="10751" y="16520"/>
                              <a:pt x="16176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13" name="AutoShape 34"/>
                      <p:cNvSpPr/>
                      <p:nvPr/>
                    </p:nvSpPr>
                    <p:spPr>
                      <a:xfrm flipH="1" flipV="1" rot="5608200">
                        <a:off x="7530120" y="1941480"/>
                        <a:ext cx="69120" cy="542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6" y="1929"/>
                              <a:pt x="10751" y="5080"/>
                              <a:pt x="10751" y="10800"/>
                            </a:cubicBezTo>
                            <a:cubicBezTo>
                              <a:pt x="10751" y="16520"/>
                              <a:pt x="16176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214" name="Group 35"/>
                    <p:cNvGrpSpPr/>
                    <p:nvPr/>
                  </p:nvGrpSpPr>
                  <p:grpSpPr>
                    <a:xfrm>
                      <a:off x="7148160" y="2048400"/>
                      <a:ext cx="760320" cy="300600"/>
                      <a:chOff x="7148160" y="2048400"/>
                      <a:chExt cx="760320" cy="300600"/>
                    </a:xfrm>
                  </p:grpSpPr>
                  <p:sp>
                    <p:nvSpPr>
                      <p:cNvPr id="1215" name="AutoShape 36"/>
                      <p:cNvSpPr/>
                      <p:nvPr/>
                    </p:nvSpPr>
                    <p:spPr>
                      <a:xfrm flipH="1" flipV="1" rot="5317800">
                        <a:off x="7602480" y="1947600"/>
                        <a:ext cx="69120" cy="540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6" y="1929"/>
                              <a:pt x="10751" y="5080"/>
                              <a:pt x="10751" y="10800"/>
                            </a:cubicBezTo>
                            <a:cubicBezTo>
                              <a:pt x="10751" y="16520"/>
                              <a:pt x="16176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1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16" name="AutoShape 37"/>
                      <p:cNvSpPr/>
                      <p:nvPr/>
                    </p:nvSpPr>
                    <p:spPr>
                      <a:xfrm flipH="1" flipV="1" rot="6133800">
                        <a:off x="7482240" y="1945080"/>
                        <a:ext cx="69480" cy="540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6" y="1929"/>
                              <a:pt x="10751" y="5080"/>
                              <a:pt x="10751" y="10800"/>
                            </a:cubicBezTo>
                            <a:cubicBezTo>
                              <a:pt x="10751" y="16520"/>
                              <a:pt x="16176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2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17" name="AutoShape 38"/>
                      <p:cNvSpPr/>
                      <p:nvPr/>
                    </p:nvSpPr>
                    <p:spPr>
                      <a:xfrm flipH="1" flipV="1" rot="6429000">
                        <a:off x="7432560" y="1940760"/>
                        <a:ext cx="69120" cy="540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6" y="1929"/>
                              <a:pt x="10751" y="5080"/>
                              <a:pt x="10751" y="10800"/>
                            </a:cubicBezTo>
                            <a:cubicBezTo>
                              <a:pt x="10751" y="16520"/>
                              <a:pt x="16176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18" name="AutoShape 39"/>
                      <p:cNvSpPr/>
                      <p:nvPr/>
                    </p:nvSpPr>
                    <p:spPr>
                      <a:xfrm flipH="1" flipV="1" rot="6961200">
                        <a:off x="7371000" y="1928160"/>
                        <a:ext cx="69480" cy="540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6" y="1929"/>
                              <a:pt x="10751" y="5080"/>
                              <a:pt x="10751" y="10800"/>
                            </a:cubicBezTo>
                            <a:cubicBezTo>
                              <a:pt x="10751" y="16520"/>
                              <a:pt x="16176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11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1219" name="空心弧 8"/>
                <p:cNvSpPr/>
                <p:nvPr/>
              </p:nvSpPr>
              <p:spPr>
                <a:xfrm>
                  <a:off x="7036920" y="1783800"/>
                  <a:ext cx="1073520" cy="1351440"/>
                </a:xfrm>
                <a:custGeom>
                  <a:avLst/>
                  <a:gdLst/>
                  <a:ahLst/>
                  <a:rect l="l" t="t" r="r" b="b"/>
                  <a:pathLst>
                    <a:path w="940359" h="1183765">
                      <a:moveTo>
                        <a:pt x="96867" y="232049"/>
                      </a:moveTo>
                      <a:cubicBezTo>
                        <a:pt x="182791" y="90954"/>
                        <a:pt x="318047" y="0"/>
                        <a:pt x="470179" y="0"/>
                      </a:cubicBezTo>
                      <a:cubicBezTo>
                        <a:pt x="612941" y="0"/>
                        <a:pt x="740843" y="80096"/>
                        <a:pt x="827071" y="206536"/>
                      </a:cubicBezTo>
                      <a:lnTo>
                        <a:pt x="660897" y="385961"/>
                      </a:lnTo>
                      <a:cubicBezTo>
                        <a:pt x="618508" y="295345"/>
                        <a:pt x="548882" y="236256"/>
                        <a:pt x="470179" y="236256"/>
                      </a:cubicBezTo>
                      <a:cubicBezTo>
                        <a:pt x="387075" y="236256"/>
                        <a:pt x="314092" y="302139"/>
                        <a:pt x="272596" y="401423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>
                        <a:alpha val="27058"/>
                      </a:srgbClr>
                    </a:gs>
                    <a:gs pos="100000">
                      <a:srgbClr val="d9d9d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0" name="椭圆 5"/>
              <p:cNvSpPr/>
              <p:nvPr/>
            </p:nvSpPr>
            <p:spPr>
              <a:xfrm>
                <a:off x="7316280" y="1994400"/>
                <a:ext cx="525240" cy="52524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b0f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TextBox 6"/>
              <p:cNvSpPr/>
              <p:nvPr/>
            </p:nvSpPr>
            <p:spPr>
              <a:xfrm>
                <a:off x="7170120" y="1911960"/>
                <a:ext cx="84204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2" name="Text Box 39"/>
            <p:cNvSpPr/>
            <p:nvPr/>
          </p:nvSpPr>
          <p:spPr>
            <a:xfrm>
              <a:off x="6824520" y="1344600"/>
              <a:ext cx="170820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组合 23"/>
          <p:cNvGrpSpPr/>
          <p:nvPr/>
        </p:nvGrpSpPr>
        <p:grpSpPr>
          <a:xfrm>
            <a:off x="5508720" y="1417680"/>
            <a:ext cx="1708200" cy="2162160"/>
            <a:chOff x="5508720" y="1417680"/>
            <a:chExt cx="1708200" cy="2162160"/>
          </a:xfrm>
        </p:grpSpPr>
        <p:grpSp>
          <p:nvGrpSpPr>
            <p:cNvPr id="1224" name="组合 3367"/>
            <p:cNvGrpSpPr/>
            <p:nvPr/>
          </p:nvGrpSpPr>
          <p:grpSpPr>
            <a:xfrm>
              <a:off x="5724720" y="1849680"/>
              <a:ext cx="1345680" cy="1730160"/>
              <a:chOff x="5724720" y="1849680"/>
              <a:chExt cx="1345680" cy="1730160"/>
            </a:xfrm>
          </p:grpSpPr>
          <p:grpSp>
            <p:nvGrpSpPr>
              <p:cNvPr id="1225" name="组合 107"/>
              <p:cNvGrpSpPr/>
              <p:nvPr/>
            </p:nvGrpSpPr>
            <p:grpSpPr>
              <a:xfrm>
                <a:off x="5724720" y="1849680"/>
                <a:ext cx="1345680" cy="1730160"/>
                <a:chOff x="5724720" y="1849680"/>
                <a:chExt cx="1345680" cy="1730160"/>
              </a:xfrm>
            </p:grpSpPr>
            <p:grpSp>
              <p:nvGrpSpPr>
                <p:cNvPr id="1226" name="Group 23"/>
                <p:cNvGrpSpPr/>
                <p:nvPr/>
              </p:nvGrpSpPr>
              <p:grpSpPr>
                <a:xfrm>
                  <a:off x="5724720" y="1849680"/>
                  <a:ext cx="1345680" cy="1398960"/>
                  <a:chOff x="5724720" y="1849680"/>
                  <a:chExt cx="1345680" cy="1398960"/>
                </a:xfrm>
              </p:grpSpPr>
              <p:pic>
                <p:nvPicPr>
                  <p:cNvPr id="1227" name="Oval 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24720" y="1849680"/>
                    <a:ext cx="1345680" cy="13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228" name="Picture 26" descr="circuler_1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78000" y="1874520"/>
                    <a:ext cx="1246680" cy="64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229" name="Oval 2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67200" y="1871640"/>
                    <a:ext cx="1261800" cy="130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1230" name="Group 29"/>
                  <p:cNvGrpSpPr/>
                  <p:nvPr/>
                </p:nvGrpSpPr>
                <p:grpSpPr>
                  <a:xfrm>
                    <a:off x="5878080" y="2222280"/>
                    <a:ext cx="1055880" cy="407160"/>
                    <a:chOff x="5878080" y="2222280"/>
                    <a:chExt cx="1055880" cy="407160"/>
                  </a:xfrm>
                </p:grpSpPr>
                <p:grpSp>
                  <p:nvGrpSpPr>
                    <p:cNvPr id="1231" name="Group 30"/>
                    <p:cNvGrpSpPr/>
                    <p:nvPr/>
                  </p:nvGrpSpPr>
                  <p:grpSpPr>
                    <a:xfrm>
                      <a:off x="6053760" y="2222280"/>
                      <a:ext cx="880200" cy="342720"/>
                      <a:chOff x="6053760" y="2222280"/>
                      <a:chExt cx="880200" cy="342720"/>
                    </a:xfrm>
                  </p:grpSpPr>
                  <p:sp>
                    <p:nvSpPr>
                      <p:cNvPr id="1232" name="AutoShape 31"/>
                      <p:cNvSpPr/>
                      <p:nvPr/>
                    </p:nvSpPr>
                    <p:spPr>
                      <a:xfrm flipH="1" flipV="1" rot="3964800">
                        <a:off x="6574320" y="2064960"/>
                        <a:ext cx="83520" cy="657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6" y="1929"/>
                              <a:pt x="10751" y="5080"/>
                              <a:pt x="10751" y="10800"/>
                            </a:cubicBezTo>
                            <a:cubicBezTo>
                              <a:pt x="10751" y="16520"/>
                              <a:pt x="16176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33" name="AutoShape 32"/>
                      <p:cNvSpPr/>
                      <p:nvPr/>
                    </p:nvSpPr>
                    <p:spPr>
                      <a:xfrm flipH="1" flipV="1" rot="4780200">
                        <a:off x="6473880" y="2103840"/>
                        <a:ext cx="83520" cy="657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6" y="1929"/>
                              <a:pt x="10751" y="5080"/>
                              <a:pt x="10751" y="10800"/>
                            </a:cubicBezTo>
                            <a:cubicBezTo>
                              <a:pt x="10751" y="16520"/>
                              <a:pt x="16176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34" name="AutoShape 33"/>
                      <p:cNvSpPr/>
                      <p:nvPr/>
                    </p:nvSpPr>
                    <p:spPr>
                      <a:xfrm flipH="1" flipV="1" rot="5076000">
                        <a:off x="6413400" y="2120040"/>
                        <a:ext cx="83520" cy="657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6" y="1929"/>
                              <a:pt x="10751" y="5080"/>
                              <a:pt x="10751" y="10800"/>
                            </a:cubicBezTo>
                            <a:cubicBezTo>
                              <a:pt x="10751" y="16520"/>
                              <a:pt x="16176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35" name="AutoShape 34"/>
                      <p:cNvSpPr/>
                      <p:nvPr/>
                    </p:nvSpPr>
                    <p:spPr>
                      <a:xfrm flipH="1" flipV="1" rot="5608200">
                        <a:off x="6342480" y="2134800"/>
                        <a:ext cx="83520" cy="65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6" y="1929"/>
                              <a:pt x="10751" y="5080"/>
                              <a:pt x="10751" y="10800"/>
                            </a:cubicBezTo>
                            <a:cubicBezTo>
                              <a:pt x="10751" y="16520"/>
                              <a:pt x="16176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236" name="Group 35"/>
                    <p:cNvGrpSpPr/>
                    <p:nvPr/>
                  </p:nvGrpSpPr>
                  <p:grpSpPr>
                    <a:xfrm>
                      <a:off x="5878080" y="2265480"/>
                      <a:ext cx="922320" cy="363960"/>
                      <a:chOff x="5878080" y="2265480"/>
                      <a:chExt cx="922320" cy="363960"/>
                    </a:xfrm>
                  </p:grpSpPr>
                  <p:sp>
                    <p:nvSpPr>
                      <p:cNvPr id="1237" name="AutoShape 36"/>
                      <p:cNvSpPr/>
                      <p:nvPr/>
                    </p:nvSpPr>
                    <p:spPr>
                      <a:xfrm flipH="1" flipV="1" rot="5317800">
                        <a:off x="6429240" y="2144160"/>
                        <a:ext cx="83880" cy="655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6" y="1929"/>
                              <a:pt x="10751" y="5080"/>
                              <a:pt x="10751" y="10800"/>
                            </a:cubicBezTo>
                            <a:cubicBezTo>
                              <a:pt x="10751" y="16520"/>
                              <a:pt x="16176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1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38" name="AutoShape 37"/>
                      <p:cNvSpPr/>
                      <p:nvPr/>
                    </p:nvSpPr>
                    <p:spPr>
                      <a:xfrm flipH="1" flipV="1" rot="6133800">
                        <a:off x="6282360" y="2140920"/>
                        <a:ext cx="84240" cy="654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6" y="1929"/>
                              <a:pt x="10751" y="5080"/>
                              <a:pt x="10751" y="10800"/>
                            </a:cubicBezTo>
                            <a:cubicBezTo>
                              <a:pt x="10751" y="16520"/>
                              <a:pt x="16176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2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39" name="AutoShape 38"/>
                      <p:cNvSpPr/>
                      <p:nvPr/>
                    </p:nvSpPr>
                    <p:spPr>
                      <a:xfrm flipH="1" flipV="1" rot="6429000">
                        <a:off x="6222960" y="2134080"/>
                        <a:ext cx="83880" cy="654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6" y="1929"/>
                              <a:pt x="10751" y="5080"/>
                              <a:pt x="10751" y="10800"/>
                            </a:cubicBezTo>
                            <a:cubicBezTo>
                              <a:pt x="10751" y="16520"/>
                              <a:pt x="16176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40" name="AutoShape 39"/>
                      <p:cNvSpPr/>
                      <p:nvPr/>
                    </p:nvSpPr>
                    <p:spPr>
                      <a:xfrm flipH="1" flipV="1" rot="6961200">
                        <a:off x="6147720" y="2119680"/>
                        <a:ext cx="84240" cy="654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6" y="1929"/>
                              <a:pt x="10751" y="5080"/>
                              <a:pt x="10751" y="10800"/>
                            </a:cubicBezTo>
                            <a:cubicBezTo>
                              <a:pt x="10751" y="16520"/>
                              <a:pt x="16176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11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1241" name="空心弧 30"/>
                <p:cNvSpPr/>
                <p:nvPr/>
              </p:nvSpPr>
              <p:spPr>
                <a:xfrm>
                  <a:off x="5744880" y="1945440"/>
                  <a:ext cx="1298520" cy="1634400"/>
                </a:xfrm>
                <a:custGeom>
                  <a:avLst/>
                  <a:gdLst/>
                  <a:ahLst/>
                  <a:rect l="l" t="t" r="r" b="b"/>
                  <a:pathLst>
                    <a:path w="940359" h="1183765">
                      <a:moveTo>
                        <a:pt x="96867" y="232049"/>
                      </a:moveTo>
                      <a:cubicBezTo>
                        <a:pt x="182791" y="90954"/>
                        <a:pt x="318047" y="0"/>
                        <a:pt x="470179" y="0"/>
                      </a:cubicBezTo>
                      <a:cubicBezTo>
                        <a:pt x="612941" y="0"/>
                        <a:pt x="740843" y="80096"/>
                        <a:pt x="827071" y="206536"/>
                      </a:cubicBezTo>
                      <a:lnTo>
                        <a:pt x="660897" y="385961"/>
                      </a:lnTo>
                      <a:cubicBezTo>
                        <a:pt x="618508" y="295345"/>
                        <a:pt x="548882" y="236256"/>
                        <a:pt x="470179" y="236256"/>
                      </a:cubicBezTo>
                      <a:cubicBezTo>
                        <a:pt x="387075" y="236256"/>
                        <a:pt x="314092" y="302139"/>
                        <a:pt x="272596" y="401423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>
                        <a:alpha val="27058"/>
                      </a:srgbClr>
                    </a:gs>
                    <a:gs pos="100000">
                      <a:srgbClr val="d9d9d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42" name="椭圆 27"/>
              <p:cNvSpPr/>
              <p:nvPr/>
            </p:nvSpPr>
            <p:spPr>
              <a:xfrm>
                <a:off x="6082560" y="2199960"/>
                <a:ext cx="635040" cy="63504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d6a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TextBox 28"/>
              <p:cNvSpPr/>
              <p:nvPr/>
            </p:nvSpPr>
            <p:spPr>
              <a:xfrm>
                <a:off x="5911200" y="2142000"/>
                <a:ext cx="101844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4" name="Text Box 39"/>
            <p:cNvSpPr/>
            <p:nvPr/>
          </p:nvSpPr>
          <p:spPr>
            <a:xfrm>
              <a:off x="5508720" y="1417680"/>
              <a:ext cx="170820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5" name="组合 45"/>
          <p:cNvGrpSpPr/>
          <p:nvPr/>
        </p:nvGrpSpPr>
        <p:grpSpPr>
          <a:xfrm>
            <a:off x="4211640" y="1562040"/>
            <a:ext cx="1708200" cy="2478240"/>
            <a:chOff x="4211640" y="1562040"/>
            <a:chExt cx="1708200" cy="2478240"/>
          </a:xfrm>
        </p:grpSpPr>
        <p:grpSp>
          <p:nvGrpSpPr>
            <p:cNvPr id="1246" name="组合 3387"/>
            <p:cNvGrpSpPr/>
            <p:nvPr/>
          </p:nvGrpSpPr>
          <p:grpSpPr>
            <a:xfrm>
              <a:off x="4244040" y="1994040"/>
              <a:ext cx="1591200" cy="2046240"/>
              <a:chOff x="4244040" y="1994040"/>
              <a:chExt cx="1591200" cy="2046240"/>
            </a:xfrm>
          </p:grpSpPr>
          <p:grpSp>
            <p:nvGrpSpPr>
              <p:cNvPr id="1247" name="组合 87"/>
              <p:cNvGrpSpPr/>
              <p:nvPr/>
            </p:nvGrpSpPr>
            <p:grpSpPr>
              <a:xfrm>
                <a:off x="4244040" y="1994040"/>
                <a:ext cx="1591200" cy="2046240"/>
                <a:chOff x="4244040" y="1994040"/>
                <a:chExt cx="1591200" cy="2046240"/>
              </a:xfrm>
            </p:grpSpPr>
            <p:grpSp>
              <p:nvGrpSpPr>
                <p:cNvPr id="1248" name="Group 23"/>
                <p:cNvGrpSpPr/>
                <p:nvPr/>
              </p:nvGrpSpPr>
              <p:grpSpPr>
                <a:xfrm>
                  <a:off x="4244040" y="1994040"/>
                  <a:ext cx="1591200" cy="1654200"/>
                  <a:chOff x="4244040" y="1994040"/>
                  <a:chExt cx="1591200" cy="1654200"/>
                </a:xfrm>
              </p:grpSpPr>
              <p:pic>
                <p:nvPicPr>
                  <p:cNvPr id="1249" name="Oval 2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244040" y="1994040"/>
                    <a:ext cx="159120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250" name="Picture 26" descr="circuler_1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307400" y="2023560"/>
                    <a:ext cx="1475640" cy="75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251" name="Oval 2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295880" y="2020680"/>
                    <a:ext cx="1488600" cy="153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1252" name="Group 29"/>
                  <p:cNvGrpSpPr/>
                  <p:nvPr/>
                </p:nvGrpSpPr>
                <p:grpSpPr>
                  <a:xfrm>
                    <a:off x="4425840" y="2433960"/>
                    <a:ext cx="1249200" cy="480600"/>
                    <a:chOff x="4425840" y="2433960"/>
                    <a:chExt cx="1249200" cy="480600"/>
                  </a:xfrm>
                </p:grpSpPr>
                <p:grpSp>
                  <p:nvGrpSpPr>
                    <p:cNvPr id="1253" name="Group 30"/>
                    <p:cNvGrpSpPr/>
                    <p:nvPr/>
                  </p:nvGrpSpPr>
                  <p:grpSpPr>
                    <a:xfrm>
                      <a:off x="4633560" y="2433960"/>
                      <a:ext cx="1041480" cy="405720"/>
                      <a:chOff x="4633560" y="2433960"/>
                      <a:chExt cx="1041480" cy="405720"/>
                    </a:xfrm>
                  </p:grpSpPr>
                  <p:sp>
                    <p:nvSpPr>
                      <p:cNvPr id="1254" name="AutoShape 31"/>
                      <p:cNvSpPr/>
                      <p:nvPr/>
                    </p:nvSpPr>
                    <p:spPr>
                      <a:xfrm flipH="1" flipV="1" rot="3964800">
                        <a:off x="5249880" y="2247480"/>
                        <a:ext cx="98640" cy="777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6" y="1929"/>
                              <a:pt x="10751" y="5080"/>
                              <a:pt x="10751" y="10800"/>
                            </a:cubicBezTo>
                            <a:cubicBezTo>
                              <a:pt x="10751" y="16520"/>
                              <a:pt x="16176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55" name="AutoShape 32"/>
                      <p:cNvSpPr/>
                      <p:nvPr/>
                    </p:nvSpPr>
                    <p:spPr>
                      <a:xfrm flipH="1" flipV="1" rot="4780200">
                        <a:off x="5130360" y="2296080"/>
                        <a:ext cx="98640" cy="777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6" y="1929"/>
                              <a:pt x="10751" y="5080"/>
                              <a:pt x="10751" y="10800"/>
                            </a:cubicBezTo>
                            <a:cubicBezTo>
                              <a:pt x="10751" y="16520"/>
                              <a:pt x="16176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56" name="AutoShape 33"/>
                      <p:cNvSpPr/>
                      <p:nvPr/>
                    </p:nvSpPr>
                    <p:spPr>
                      <a:xfrm flipH="1" flipV="1" rot="5076000">
                        <a:off x="5059080" y="2313360"/>
                        <a:ext cx="98640" cy="777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6" y="1929"/>
                              <a:pt x="10751" y="5080"/>
                              <a:pt x="10751" y="10800"/>
                            </a:cubicBezTo>
                            <a:cubicBezTo>
                              <a:pt x="10751" y="16520"/>
                              <a:pt x="16176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57" name="AutoShape 34"/>
                      <p:cNvSpPr/>
                      <p:nvPr/>
                    </p:nvSpPr>
                    <p:spPr>
                      <a:xfrm flipH="1" flipV="1" rot="5608200">
                        <a:off x="4975200" y="2333520"/>
                        <a:ext cx="98640" cy="777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6" y="1929"/>
                              <a:pt x="10751" y="5080"/>
                              <a:pt x="10751" y="10800"/>
                            </a:cubicBezTo>
                            <a:cubicBezTo>
                              <a:pt x="10751" y="16520"/>
                              <a:pt x="16176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258" name="Group 35"/>
                    <p:cNvGrpSpPr/>
                    <p:nvPr/>
                  </p:nvGrpSpPr>
                  <p:grpSpPr>
                    <a:xfrm>
                      <a:off x="4425840" y="2485440"/>
                      <a:ext cx="1091880" cy="429120"/>
                      <a:chOff x="4425840" y="2485440"/>
                      <a:chExt cx="1091880" cy="429120"/>
                    </a:xfrm>
                  </p:grpSpPr>
                  <p:sp>
                    <p:nvSpPr>
                      <p:cNvPr id="1259" name="AutoShape 36"/>
                      <p:cNvSpPr/>
                      <p:nvPr/>
                    </p:nvSpPr>
                    <p:spPr>
                      <a:xfrm flipH="1" flipV="1" rot="5317800">
                        <a:off x="5079240" y="2342160"/>
                        <a:ext cx="99000" cy="775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6" y="1929"/>
                              <a:pt x="10751" y="5080"/>
                              <a:pt x="10751" y="10800"/>
                            </a:cubicBezTo>
                            <a:cubicBezTo>
                              <a:pt x="10751" y="16520"/>
                              <a:pt x="16176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1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60" name="AutoShape 37"/>
                      <p:cNvSpPr/>
                      <p:nvPr/>
                    </p:nvSpPr>
                    <p:spPr>
                      <a:xfrm flipH="1" flipV="1" rot="6133800">
                        <a:off x="4906080" y="2336040"/>
                        <a:ext cx="99360" cy="775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6" y="1929"/>
                              <a:pt x="10751" y="5080"/>
                              <a:pt x="10751" y="10800"/>
                            </a:cubicBezTo>
                            <a:cubicBezTo>
                              <a:pt x="10751" y="16520"/>
                              <a:pt x="16176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2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61" name="AutoShape 38"/>
                      <p:cNvSpPr/>
                      <p:nvPr/>
                    </p:nvSpPr>
                    <p:spPr>
                      <a:xfrm flipH="1" flipV="1" rot="6429000">
                        <a:off x="4834440" y="2329560"/>
                        <a:ext cx="99000" cy="774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6" y="1929"/>
                              <a:pt x="10751" y="5080"/>
                              <a:pt x="10751" y="10800"/>
                            </a:cubicBezTo>
                            <a:cubicBezTo>
                              <a:pt x="10751" y="16520"/>
                              <a:pt x="16176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62" name="AutoShape 39"/>
                      <p:cNvSpPr/>
                      <p:nvPr/>
                    </p:nvSpPr>
                    <p:spPr>
                      <a:xfrm flipH="1" flipV="1" rot="6961200">
                        <a:off x="4746240" y="2312280"/>
                        <a:ext cx="99360" cy="775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6" y="1929"/>
                              <a:pt x="10751" y="5080"/>
                              <a:pt x="10751" y="10800"/>
                            </a:cubicBezTo>
                            <a:cubicBezTo>
                              <a:pt x="10751" y="16520"/>
                              <a:pt x="16176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11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1263" name="空心弧 52"/>
                <p:cNvSpPr/>
                <p:nvPr/>
              </p:nvSpPr>
              <p:spPr>
                <a:xfrm>
                  <a:off x="4267800" y="2107440"/>
                  <a:ext cx="1535400" cy="1932840"/>
                </a:xfrm>
                <a:custGeom>
                  <a:avLst/>
                  <a:gdLst/>
                  <a:ahLst/>
                  <a:rect l="l" t="t" r="r" b="b"/>
                  <a:pathLst>
                    <a:path w="940359" h="1183765">
                      <a:moveTo>
                        <a:pt x="96867" y="232049"/>
                      </a:moveTo>
                      <a:cubicBezTo>
                        <a:pt x="182791" y="90954"/>
                        <a:pt x="318047" y="0"/>
                        <a:pt x="470179" y="0"/>
                      </a:cubicBezTo>
                      <a:cubicBezTo>
                        <a:pt x="612941" y="0"/>
                        <a:pt x="740843" y="80096"/>
                        <a:pt x="827071" y="206536"/>
                      </a:cubicBezTo>
                      <a:lnTo>
                        <a:pt x="660897" y="385961"/>
                      </a:lnTo>
                      <a:cubicBezTo>
                        <a:pt x="618508" y="295345"/>
                        <a:pt x="548882" y="236256"/>
                        <a:pt x="470179" y="236256"/>
                      </a:cubicBezTo>
                      <a:cubicBezTo>
                        <a:pt x="387075" y="236256"/>
                        <a:pt x="314092" y="302139"/>
                        <a:pt x="272596" y="401423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>
                        <a:alpha val="27058"/>
                      </a:srgbClr>
                    </a:gs>
                    <a:gs pos="100000">
                      <a:srgbClr val="d9d9d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4" name="椭圆 49"/>
              <p:cNvSpPr/>
              <p:nvPr/>
            </p:nvSpPr>
            <p:spPr>
              <a:xfrm>
                <a:off x="4667400" y="2408400"/>
                <a:ext cx="750960" cy="75096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7030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TextBox 50"/>
              <p:cNvSpPr/>
              <p:nvPr/>
            </p:nvSpPr>
            <p:spPr>
              <a:xfrm>
                <a:off x="4454640" y="2327040"/>
                <a:ext cx="12042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6" name="Text Box 39"/>
            <p:cNvSpPr/>
            <p:nvPr/>
          </p:nvSpPr>
          <p:spPr>
            <a:xfrm>
              <a:off x="4211640" y="1562040"/>
              <a:ext cx="170820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7" name="组合 67"/>
          <p:cNvGrpSpPr/>
          <p:nvPr/>
        </p:nvGrpSpPr>
        <p:grpSpPr>
          <a:xfrm>
            <a:off x="2459160" y="1604880"/>
            <a:ext cx="1999800" cy="3033720"/>
            <a:chOff x="2459160" y="1604880"/>
            <a:chExt cx="1999800" cy="3033720"/>
          </a:xfrm>
        </p:grpSpPr>
        <p:grpSp>
          <p:nvGrpSpPr>
            <p:cNvPr id="1268" name="组合 3407"/>
            <p:cNvGrpSpPr/>
            <p:nvPr/>
          </p:nvGrpSpPr>
          <p:grpSpPr>
            <a:xfrm>
              <a:off x="2459160" y="2064600"/>
              <a:ext cx="1999800" cy="2574000"/>
              <a:chOff x="2459160" y="2064600"/>
              <a:chExt cx="1999800" cy="2574000"/>
            </a:xfrm>
          </p:grpSpPr>
          <p:grpSp>
            <p:nvGrpSpPr>
              <p:cNvPr id="1269" name="组合 67"/>
              <p:cNvGrpSpPr/>
              <p:nvPr/>
            </p:nvGrpSpPr>
            <p:grpSpPr>
              <a:xfrm>
                <a:off x="2459160" y="2064600"/>
                <a:ext cx="1999800" cy="2574000"/>
                <a:chOff x="2459160" y="2064600"/>
                <a:chExt cx="1999800" cy="2574000"/>
              </a:xfrm>
            </p:grpSpPr>
            <p:grpSp>
              <p:nvGrpSpPr>
                <p:cNvPr id="1270" name="Group 23"/>
                <p:cNvGrpSpPr/>
                <p:nvPr/>
              </p:nvGrpSpPr>
              <p:grpSpPr>
                <a:xfrm>
                  <a:off x="2459160" y="2064600"/>
                  <a:ext cx="1999800" cy="2081160"/>
                  <a:chOff x="2459160" y="2064600"/>
                  <a:chExt cx="1999800" cy="2081160"/>
                </a:xfrm>
              </p:grpSpPr>
              <p:pic>
                <p:nvPicPr>
                  <p:cNvPr id="1271" name="Oval 2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459160" y="2064600"/>
                    <a:ext cx="1999800" cy="20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272" name="Picture 26" descr="circuler_1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537280" y="2101680"/>
                    <a:ext cx="1856520" cy="95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273" name="Oval 2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526120" y="2099160"/>
                    <a:ext cx="1867680" cy="193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1274" name="Group 29"/>
                  <p:cNvGrpSpPr/>
                  <p:nvPr/>
                </p:nvGrpSpPr>
                <p:grpSpPr>
                  <a:xfrm>
                    <a:off x="2685600" y="2619000"/>
                    <a:ext cx="1572480" cy="605520"/>
                    <a:chOff x="2685600" y="2619000"/>
                    <a:chExt cx="1572480" cy="605520"/>
                  </a:xfrm>
                </p:grpSpPr>
                <p:grpSp>
                  <p:nvGrpSpPr>
                    <p:cNvPr id="1275" name="Group 30"/>
                    <p:cNvGrpSpPr/>
                    <p:nvPr/>
                  </p:nvGrpSpPr>
                  <p:grpSpPr>
                    <a:xfrm>
                      <a:off x="2946240" y="2619000"/>
                      <a:ext cx="1311840" cy="510120"/>
                      <a:chOff x="2946240" y="2619000"/>
                      <a:chExt cx="1311840" cy="510120"/>
                    </a:xfrm>
                  </p:grpSpPr>
                  <p:sp>
                    <p:nvSpPr>
                      <p:cNvPr id="1276" name="AutoShape 31"/>
                      <p:cNvSpPr/>
                      <p:nvPr/>
                    </p:nvSpPr>
                    <p:spPr>
                      <a:xfrm flipH="1" flipV="1" rot="3964800">
                        <a:off x="3723480" y="2384640"/>
                        <a:ext cx="124560" cy="978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6" y="1929"/>
                              <a:pt x="10751" y="5080"/>
                              <a:pt x="10751" y="10800"/>
                            </a:cubicBezTo>
                            <a:cubicBezTo>
                              <a:pt x="10751" y="16520"/>
                              <a:pt x="16176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77" name="AutoShape 32"/>
                      <p:cNvSpPr/>
                      <p:nvPr/>
                    </p:nvSpPr>
                    <p:spPr>
                      <a:xfrm flipH="1" flipV="1" rot="4780200">
                        <a:off x="3571560" y="2444400"/>
                        <a:ext cx="124560" cy="978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6" y="1929"/>
                              <a:pt x="10751" y="5080"/>
                              <a:pt x="10751" y="10800"/>
                            </a:cubicBezTo>
                            <a:cubicBezTo>
                              <a:pt x="10751" y="16520"/>
                              <a:pt x="16176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78" name="AutoShape 33"/>
                      <p:cNvSpPr/>
                      <p:nvPr/>
                    </p:nvSpPr>
                    <p:spPr>
                      <a:xfrm flipH="1" flipV="1" rot="5076000">
                        <a:off x="3482280" y="2466360"/>
                        <a:ext cx="124560" cy="978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6" y="1929"/>
                              <a:pt x="10751" y="5080"/>
                              <a:pt x="10751" y="10800"/>
                            </a:cubicBezTo>
                            <a:cubicBezTo>
                              <a:pt x="10751" y="16520"/>
                              <a:pt x="16176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79" name="AutoShape 34"/>
                      <p:cNvSpPr/>
                      <p:nvPr/>
                    </p:nvSpPr>
                    <p:spPr>
                      <a:xfrm flipH="1" flipV="1" rot="5608200">
                        <a:off x="3376080" y="2490840"/>
                        <a:ext cx="124560" cy="978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6" y="1929"/>
                              <a:pt x="10751" y="5080"/>
                              <a:pt x="10751" y="10800"/>
                            </a:cubicBezTo>
                            <a:cubicBezTo>
                              <a:pt x="10751" y="16520"/>
                              <a:pt x="16176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280" name="Group 35"/>
                    <p:cNvGrpSpPr/>
                    <p:nvPr/>
                  </p:nvGrpSpPr>
                  <p:grpSpPr>
                    <a:xfrm>
                      <a:off x="2685600" y="2683440"/>
                      <a:ext cx="1373400" cy="541080"/>
                      <a:chOff x="2685600" y="2683440"/>
                      <a:chExt cx="1373400" cy="541080"/>
                    </a:xfrm>
                  </p:grpSpPr>
                  <p:sp>
                    <p:nvSpPr>
                      <p:cNvPr id="1281" name="AutoShape 36"/>
                      <p:cNvSpPr/>
                      <p:nvPr/>
                    </p:nvSpPr>
                    <p:spPr>
                      <a:xfrm flipH="1" flipV="1" rot="5317800">
                        <a:off x="3507480" y="2505240"/>
                        <a:ext cx="124560" cy="975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6" y="1929"/>
                              <a:pt x="10751" y="5080"/>
                              <a:pt x="10751" y="10800"/>
                            </a:cubicBezTo>
                            <a:cubicBezTo>
                              <a:pt x="10751" y="16520"/>
                              <a:pt x="16176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1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82" name="AutoShape 37"/>
                      <p:cNvSpPr/>
                      <p:nvPr/>
                    </p:nvSpPr>
                    <p:spPr>
                      <a:xfrm flipH="1" flipV="1" rot="6133800">
                        <a:off x="3288240" y="2497680"/>
                        <a:ext cx="125280" cy="975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6" y="1929"/>
                              <a:pt x="10751" y="5080"/>
                              <a:pt x="10751" y="10800"/>
                            </a:cubicBezTo>
                            <a:cubicBezTo>
                              <a:pt x="10751" y="16520"/>
                              <a:pt x="16176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2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83" name="AutoShape 38"/>
                      <p:cNvSpPr/>
                      <p:nvPr/>
                    </p:nvSpPr>
                    <p:spPr>
                      <a:xfrm flipH="1" flipV="1" rot="6429000">
                        <a:off x="3199680" y="2487240"/>
                        <a:ext cx="124560" cy="975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6" y="1929"/>
                              <a:pt x="10751" y="5080"/>
                              <a:pt x="10751" y="10800"/>
                            </a:cubicBezTo>
                            <a:cubicBezTo>
                              <a:pt x="10751" y="16520"/>
                              <a:pt x="16176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84" name="AutoShape 39"/>
                      <p:cNvSpPr/>
                      <p:nvPr/>
                    </p:nvSpPr>
                    <p:spPr>
                      <a:xfrm flipH="1" flipV="1" rot="6961200">
                        <a:off x="3088080" y="2465640"/>
                        <a:ext cx="125280" cy="975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6" y="1929"/>
                              <a:pt x="10751" y="5080"/>
                              <a:pt x="10751" y="10800"/>
                            </a:cubicBezTo>
                            <a:cubicBezTo>
                              <a:pt x="10751" y="16520"/>
                              <a:pt x="16176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11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1285" name="空心弧 74"/>
                <p:cNvSpPr/>
                <p:nvPr/>
              </p:nvSpPr>
              <p:spPr>
                <a:xfrm>
                  <a:off x="2489400" y="2207160"/>
                  <a:ext cx="1929960" cy="2431440"/>
                </a:xfrm>
                <a:custGeom>
                  <a:avLst/>
                  <a:gdLst/>
                  <a:ahLst/>
                  <a:rect l="l" t="t" r="r" b="b"/>
                  <a:pathLst>
                    <a:path w="940359" h="1183765">
                      <a:moveTo>
                        <a:pt x="96867" y="232049"/>
                      </a:moveTo>
                      <a:cubicBezTo>
                        <a:pt x="182791" y="90954"/>
                        <a:pt x="318047" y="0"/>
                        <a:pt x="470179" y="0"/>
                      </a:cubicBezTo>
                      <a:cubicBezTo>
                        <a:pt x="612941" y="0"/>
                        <a:pt x="740843" y="80096"/>
                        <a:pt x="827071" y="206536"/>
                      </a:cubicBezTo>
                      <a:lnTo>
                        <a:pt x="660897" y="385961"/>
                      </a:lnTo>
                      <a:cubicBezTo>
                        <a:pt x="618508" y="295345"/>
                        <a:pt x="548882" y="236256"/>
                        <a:pt x="470179" y="236256"/>
                      </a:cubicBezTo>
                      <a:cubicBezTo>
                        <a:pt x="387075" y="236256"/>
                        <a:pt x="314092" y="302139"/>
                        <a:pt x="272596" y="401423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>
                        <a:alpha val="27058"/>
                      </a:srgbClr>
                    </a:gs>
                    <a:gs pos="100000">
                      <a:srgbClr val="d9d9d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86" name="椭圆 71"/>
              <p:cNvSpPr/>
              <p:nvPr/>
            </p:nvSpPr>
            <p:spPr>
              <a:xfrm>
                <a:off x="2991240" y="2585880"/>
                <a:ext cx="944280" cy="94464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3399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TextBox 72"/>
              <p:cNvSpPr/>
              <p:nvPr/>
            </p:nvSpPr>
            <p:spPr>
              <a:xfrm>
                <a:off x="2708640" y="2429640"/>
                <a:ext cx="15138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8" name="Text Box 39"/>
            <p:cNvSpPr/>
            <p:nvPr/>
          </p:nvSpPr>
          <p:spPr>
            <a:xfrm>
              <a:off x="2575080" y="1604880"/>
              <a:ext cx="170820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9" name="组合 3447"/>
          <p:cNvGrpSpPr/>
          <p:nvPr/>
        </p:nvGrpSpPr>
        <p:grpSpPr>
          <a:xfrm>
            <a:off x="8156520" y="1704960"/>
            <a:ext cx="663480" cy="853920"/>
            <a:chOff x="8156520" y="1704960"/>
            <a:chExt cx="663480" cy="853920"/>
          </a:xfrm>
        </p:grpSpPr>
        <p:grpSp>
          <p:nvGrpSpPr>
            <p:cNvPr id="1290" name="组合 147"/>
            <p:cNvGrpSpPr/>
            <p:nvPr/>
          </p:nvGrpSpPr>
          <p:grpSpPr>
            <a:xfrm>
              <a:off x="8156520" y="1704960"/>
              <a:ext cx="663480" cy="853920"/>
              <a:chOff x="8156520" y="1704960"/>
              <a:chExt cx="663480" cy="853920"/>
            </a:xfrm>
          </p:grpSpPr>
          <p:grpSp>
            <p:nvGrpSpPr>
              <p:cNvPr id="1291" name="Group 23"/>
              <p:cNvGrpSpPr/>
              <p:nvPr/>
            </p:nvGrpSpPr>
            <p:grpSpPr>
              <a:xfrm>
                <a:off x="8156520" y="1704960"/>
                <a:ext cx="663480" cy="690480"/>
                <a:chOff x="8156520" y="1704960"/>
                <a:chExt cx="663480" cy="690480"/>
              </a:xfrm>
            </p:grpSpPr>
            <p:pic>
              <p:nvPicPr>
                <p:cNvPr id="1292" name="Oval 25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156520" y="1704960"/>
                  <a:ext cx="663480" cy="690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3" name="Picture 26" descr="circuler_1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184960" y="1717200"/>
                  <a:ext cx="609840" cy="316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4" name="Oval 27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173800" y="1714320"/>
                  <a:ext cx="628200" cy="6501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295" name="Group 29"/>
                <p:cNvGrpSpPr/>
                <p:nvPr/>
              </p:nvGrpSpPr>
              <p:grpSpPr>
                <a:xfrm>
                  <a:off x="8233200" y="1889280"/>
                  <a:ext cx="517680" cy="197640"/>
                  <a:chOff x="8233200" y="1889280"/>
                  <a:chExt cx="517680" cy="197640"/>
                </a:xfrm>
              </p:grpSpPr>
              <p:grpSp>
                <p:nvGrpSpPr>
                  <p:cNvPr id="1296" name="Group 30"/>
                  <p:cNvGrpSpPr/>
                  <p:nvPr/>
                </p:nvGrpSpPr>
                <p:grpSpPr>
                  <a:xfrm>
                    <a:off x="8319600" y="1889280"/>
                    <a:ext cx="431280" cy="167400"/>
                    <a:chOff x="8319600" y="1889280"/>
                    <a:chExt cx="431280" cy="167400"/>
                  </a:xfrm>
                </p:grpSpPr>
                <p:sp>
                  <p:nvSpPr>
                    <p:cNvPr id="1297" name="AutoShape 31"/>
                    <p:cNvSpPr/>
                    <p:nvPr/>
                  </p:nvSpPr>
                  <p:spPr>
                    <a:xfrm flipH="1" flipV="1" rot="3964800">
                      <a:off x="8574480" y="1811880"/>
                      <a:ext cx="41040" cy="32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8" name="AutoShape 32"/>
                    <p:cNvSpPr/>
                    <p:nvPr/>
                  </p:nvSpPr>
                  <p:spPr>
                    <a:xfrm flipH="1" flipV="1" rot="4780200">
                      <a:off x="8524800" y="1832040"/>
                      <a:ext cx="41040" cy="32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9" name="AutoShape 33"/>
                    <p:cNvSpPr/>
                    <p:nvPr/>
                  </p:nvSpPr>
                  <p:spPr>
                    <a:xfrm flipH="1" flipV="1" rot="5076000">
                      <a:off x="8495640" y="1838520"/>
                      <a:ext cx="41040" cy="32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0" name="AutoShape 34"/>
                    <p:cNvSpPr/>
                    <p:nvPr/>
                  </p:nvSpPr>
                  <p:spPr>
                    <a:xfrm flipH="1" flipV="1" rot="5608200">
                      <a:off x="8460360" y="1846440"/>
                      <a:ext cx="41040" cy="32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01" name="Group 35"/>
                  <p:cNvGrpSpPr/>
                  <p:nvPr/>
                </p:nvGrpSpPr>
                <p:grpSpPr>
                  <a:xfrm>
                    <a:off x="8233200" y="1909800"/>
                    <a:ext cx="451800" cy="177120"/>
                    <a:chOff x="8233200" y="1909800"/>
                    <a:chExt cx="451800" cy="177120"/>
                  </a:xfrm>
                </p:grpSpPr>
                <p:sp>
                  <p:nvSpPr>
                    <p:cNvPr id="1302" name="AutoShape 36"/>
                    <p:cNvSpPr/>
                    <p:nvPr/>
                  </p:nvSpPr>
                  <p:spPr>
                    <a:xfrm flipH="1" flipV="1" rot="5317800">
                      <a:off x="8503200" y="1850760"/>
                      <a:ext cx="41400" cy="32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1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3" name="AutoShape 37"/>
                    <p:cNvSpPr/>
                    <p:nvPr/>
                  </p:nvSpPr>
                  <p:spPr>
                    <a:xfrm flipH="1" flipV="1" rot="6133800">
                      <a:off x="8431200" y="1848960"/>
                      <a:ext cx="41400" cy="32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4" name="AutoShape 38"/>
                    <p:cNvSpPr/>
                    <p:nvPr/>
                  </p:nvSpPr>
                  <p:spPr>
                    <a:xfrm flipH="1" flipV="1" rot="6429000">
                      <a:off x="8402040" y="1845000"/>
                      <a:ext cx="41400" cy="32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5" name="AutoShape 39"/>
                    <p:cNvSpPr/>
                    <p:nvPr/>
                  </p:nvSpPr>
                  <p:spPr>
                    <a:xfrm flipH="1" flipV="1" rot="6961200">
                      <a:off x="8365320" y="1837800"/>
                      <a:ext cx="41040" cy="32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11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306" name="空心弧 94"/>
              <p:cNvSpPr/>
              <p:nvPr/>
            </p:nvSpPr>
            <p:spPr>
              <a:xfrm>
                <a:off x="8166240" y="1752120"/>
                <a:ext cx="640440" cy="806760"/>
              </a:xfrm>
              <a:custGeom>
                <a:avLst/>
                <a:gdLst/>
                <a:ahLst/>
                <a:rect l="l" t="t" r="r" b="b"/>
                <a:pathLst>
                  <a:path w="940359" h="1183765">
                    <a:moveTo>
                      <a:pt x="96867" y="232049"/>
                    </a:moveTo>
                    <a:cubicBezTo>
                      <a:pt x="182791" y="90954"/>
                      <a:pt x="318047" y="0"/>
                      <a:pt x="470179" y="0"/>
                    </a:cubicBezTo>
                    <a:cubicBezTo>
                      <a:pt x="612941" y="0"/>
                      <a:pt x="740843" y="80096"/>
                      <a:pt x="827071" y="206536"/>
                    </a:cubicBezTo>
                    <a:lnTo>
                      <a:pt x="660897" y="385961"/>
                    </a:lnTo>
                    <a:cubicBezTo>
                      <a:pt x="618508" y="295345"/>
                      <a:pt x="548882" y="236256"/>
                      <a:pt x="470179" y="236256"/>
                    </a:cubicBezTo>
                    <a:cubicBezTo>
                      <a:pt x="387075" y="236256"/>
                      <a:pt x="314092" y="302139"/>
                      <a:pt x="272596" y="40142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27058"/>
                    </a:srgbClr>
                  </a:gs>
                  <a:gs pos="100000">
                    <a:srgbClr val="d9d9d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7" name="椭圆 91"/>
            <p:cNvSpPr/>
            <p:nvPr/>
          </p:nvSpPr>
          <p:spPr>
            <a:xfrm>
              <a:off x="8332920" y="1877760"/>
              <a:ext cx="313200" cy="3135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TextBox 92"/>
            <p:cNvSpPr/>
            <p:nvPr/>
          </p:nvSpPr>
          <p:spPr>
            <a:xfrm>
              <a:off x="8254440" y="1873800"/>
              <a:ext cx="50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9" name="组合 109"/>
          <p:cNvGrpSpPr/>
          <p:nvPr/>
        </p:nvGrpSpPr>
        <p:grpSpPr>
          <a:xfrm>
            <a:off x="6529320" y="3865680"/>
            <a:ext cx="2219400" cy="1319760"/>
            <a:chOff x="6529320" y="3865680"/>
            <a:chExt cx="2219400" cy="1319760"/>
          </a:xfrm>
        </p:grpSpPr>
        <p:pic>
          <p:nvPicPr>
            <p:cNvPr id="1310" name="Rectangle 39" descr=""/>
            <p:cNvPicPr/>
            <p:nvPr/>
          </p:nvPicPr>
          <p:blipFill>
            <a:blip r:embed="rId16"/>
            <a:stretch/>
          </p:blipFill>
          <p:spPr>
            <a:xfrm>
              <a:off x="6642720" y="3865680"/>
              <a:ext cx="2106000" cy="55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1" name="Text Box 39"/>
            <p:cNvSpPr/>
            <p:nvPr/>
          </p:nvSpPr>
          <p:spPr>
            <a:xfrm>
              <a:off x="6529320" y="4544280"/>
              <a:ext cx="21286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文字点击添加内容文字点击添加内容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2" name="组合 112"/>
          <p:cNvGrpSpPr/>
          <p:nvPr/>
        </p:nvGrpSpPr>
        <p:grpSpPr>
          <a:xfrm>
            <a:off x="395280" y="1616040"/>
            <a:ext cx="2615760" cy="3813120"/>
            <a:chOff x="395280" y="1616040"/>
            <a:chExt cx="2615760" cy="3813120"/>
          </a:xfrm>
        </p:grpSpPr>
        <p:grpSp>
          <p:nvGrpSpPr>
            <p:cNvPr id="1313" name="组合 3427"/>
            <p:cNvGrpSpPr/>
            <p:nvPr/>
          </p:nvGrpSpPr>
          <p:grpSpPr>
            <a:xfrm>
              <a:off x="395280" y="2065680"/>
              <a:ext cx="2615760" cy="3363480"/>
              <a:chOff x="395280" y="2065680"/>
              <a:chExt cx="2615760" cy="3363480"/>
            </a:xfrm>
          </p:grpSpPr>
          <p:grpSp>
            <p:nvGrpSpPr>
              <p:cNvPr id="1314" name="组合 4"/>
              <p:cNvGrpSpPr/>
              <p:nvPr/>
            </p:nvGrpSpPr>
            <p:grpSpPr>
              <a:xfrm>
                <a:off x="395280" y="2065680"/>
                <a:ext cx="2615760" cy="3363480"/>
                <a:chOff x="395280" y="2065680"/>
                <a:chExt cx="2615760" cy="3363480"/>
              </a:xfrm>
            </p:grpSpPr>
            <p:grpSp>
              <p:nvGrpSpPr>
                <p:cNvPr id="1315" name="Group 23"/>
                <p:cNvGrpSpPr/>
                <p:nvPr/>
              </p:nvGrpSpPr>
              <p:grpSpPr>
                <a:xfrm>
                  <a:off x="395280" y="2065680"/>
                  <a:ext cx="2615760" cy="2719080"/>
                  <a:chOff x="395280" y="2065680"/>
                  <a:chExt cx="2615760" cy="2719080"/>
                </a:xfrm>
              </p:grpSpPr>
              <p:pic>
                <p:nvPicPr>
                  <p:cNvPr id="1316" name="Oval 25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95280" y="2065680"/>
                    <a:ext cx="2615760" cy="27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317" name="Picture 26" descr="circuler_1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94640" y="2114280"/>
                    <a:ext cx="2432520" cy="124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318" name="Oval 27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482760" y="2111040"/>
                    <a:ext cx="2440080" cy="25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1319" name="Group 29"/>
                  <p:cNvGrpSpPr/>
                  <p:nvPr/>
                </p:nvGrpSpPr>
                <p:grpSpPr>
                  <a:xfrm>
                    <a:off x="690120" y="2789280"/>
                    <a:ext cx="2061000" cy="791640"/>
                    <a:chOff x="690120" y="2789280"/>
                    <a:chExt cx="2061000" cy="791640"/>
                  </a:xfrm>
                </p:grpSpPr>
                <p:grpSp>
                  <p:nvGrpSpPr>
                    <p:cNvPr id="1320" name="Group 30"/>
                    <p:cNvGrpSpPr/>
                    <p:nvPr/>
                  </p:nvGrpSpPr>
                  <p:grpSpPr>
                    <a:xfrm>
                      <a:off x="1031760" y="2789280"/>
                      <a:ext cx="1719360" cy="668160"/>
                      <a:chOff x="1031760" y="2789280"/>
                      <a:chExt cx="1719360" cy="668160"/>
                    </a:xfrm>
                  </p:grpSpPr>
                  <p:sp>
                    <p:nvSpPr>
                      <p:cNvPr id="1321" name="AutoShape 31"/>
                      <p:cNvSpPr/>
                      <p:nvPr/>
                    </p:nvSpPr>
                    <p:spPr>
                      <a:xfrm flipH="1" flipV="1" rot="3964800">
                        <a:off x="2050200" y="2482200"/>
                        <a:ext cx="162720" cy="1281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6" y="1929"/>
                              <a:pt x="10751" y="5080"/>
                              <a:pt x="10751" y="10800"/>
                            </a:cubicBezTo>
                            <a:cubicBezTo>
                              <a:pt x="10751" y="16520"/>
                              <a:pt x="16176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22" name="AutoShape 32"/>
                      <p:cNvSpPr/>
                      <p:nvPr/>
                    </p:nvSpPr>
                    <p:spPr>
                      <a:xfrm flipH="1" flipV="1" rot="4780200">
                        <a:off x="1851120" y="2561400"/>
                        <a:ext cx="162720" cy="1281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6" y="1929"/>
                              <a:pt x="10751" y="5080"/>
                              <a:pt x="10751" y="10800"/>
                            </a:cubicBezTo>
                            <a:cubicBezTo>
                              <a:pt x="10751" y="16520"/>
                              <a:pt x="16176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23" name="AutoShape 33"/>
                      <p:cNvSpPr/>
                      <p:nvPr/>
                    </p:nvSpPr>
                    <p:spPr>
                      <a:xfrm flipH="1" flipV="1" rot="5076000">
                        <a:off x="1734840" y="2589120"/>
                        <a:ext cx="162720" cy="128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6" y="1929"/>
                              <a:pt x="10751" y="5080"/>
                              <a:pt x="10751" y="10800"/>
                            </a:cubicBezTo>
                            <a:cubicBezTo>
                              <a:pt x="10751" y="16520"/>
                              <a:pt x="16176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24" name="AutoShape 34"/>
                      <p:cNvSpPr/>
                      <p:nvPr/>
                    </p:nvSpPr>
                    <p:spPr>
                      <a:xfrm flipH="1" flipV="1" rot="5608200">
                        <a:off x="1594440" y="2621160"/>
                        <a:ext cx="162720" cy="1281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6" y="1929"/>
                              <a:pt x="10751" y="5080"/>
                              <a:pt x="10751" y="10800"/>
                            </a:cubicBezTo>
                            <a:cubicBezTo>
                              <a:pt x="10751" y="16520"/>
                              <a:pt x="16176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325" name="Group 35"/>
                    <p:cNvGrpSpPr/>
                    <p:nvPr/>
                  </p:nvGrpSpPr>
                  <p:grpSpPr>
                    <a:xfrm>
                      <a:off x="690120" y="2874240"/>
                      <a:ext cx="1798920" cy="706680"/>
                      <a:chOff x="690120" y="2874240"/>
                      <a:chExt cx="1798920" cy="706680"/>
                    </a:xfrm>
                  </p:grpSpPr>
                  <p:sp>
                    <p:nvSpPr>
                      <p:cNvPr id="1326" name="AutoShape 36"/>
                      <p:cNvSpPr/>
                      <p:nvPr/>
                    </p:nvSpPr>
                    <p:spPr>
                      <a:xfrm flipH="1" flipV="1" rot="5317800">
                        <a:off x="1767240" y="2639520"/>
                        <a:ext cx="162720" cy="1277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6" y="1929"/>
                              <a:pt x="10751" y="5080"/>
                              <a:pt x="10751" y="10800"/>
                            </a:cubicBezTo>
                            <a:cubicBezTo>
                              <a:pt x="10751" y="16520"/>
                              <a:pt x="16176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1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27" name="AutoShape 37"/>
                      <p:cNvSpPr/>
                      <p:nvPr/>
                    </p:nvSpPr>
                    <p:spPr>
                      <a:xfrm flipH="1" flipV="1" rot="6133800">
                        <a:off x="1480320" y="2629440"/>
                        <a:ext cx="163800" cy="127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6" y="1929"/>
                              <a:pt x="10751" y="5080"/>
                              <a:pt x="10751" y="10800"/>
                            </a:cubicBezTo>
                            <a:cubicBezTo>
                              <a:pt x="10751" y="16520"/>
                              <a:pt x="16176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2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28" name="AutoShape 38"/>
                      <p:cNvSpPr/>
                      <p:nvPr/>
                    </p:nvSpPr>
                    <p:spPr>
                      <a:xfrm flipH="1" flipV="1" rot="6429000">
                        <a:off x="1364400" y="2617560"/>
                        <a:ext cx="162720" cy="1277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6" y="1929"/>
                              <a:pt x="10751" y="5080"/>
                              <a:pt x="10751" y="10800"/>
                            </a:cubicBezTo>
                            <a:cubicBezTo>
                              <a:pt x="10751" y="16520"/>
                              <a:pt x="16176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29" name="AutoShape 39"/>
                      <p:cNvSpPr/>
                      <p:nvPr/>
                    </p:nvSpPr>
                    <p:spPr>
                      <a:xfrm flipH="1" flipV="1" rot="6961200">
                        <a:off x="1218240" y="2588400"/>
                        <a:ext cx="163440" cy="1277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6" y="1929"/>
                              <a:pt x="10751" y="5080"/>
                              <a:pt x="10751" y="10800"/>
                            </a:cubicBezTo>
                            <a:cubicBezTo>
                              <a:pt x="10751" y="16520"/>
                              <a:pt x="16176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11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1330" name="空心弧 119"/>
                <p:cNvSpPr/>
                <p:nvPr/>
              </p:nvSpPr>
              <p:spPr>
                <a:xfrm>
                  <a:off x="434880" y="2251800"/>
                  <a:ext cx="2524320" cy="3177360"/>
                </a:xfrm>
                <a:custGeom>
                  <a:avLst/>
                  <a:gdLst/>
                  <a:ahLst/>
                  <a:rect l="l" t="t" r="r" b="b"/>
                  <a:pathLst>
                    <a:path w="940359" h="1183765">
                      <a:moveTo>
                        <a:pt x="96867" y="232049"/>
                      </a:moveTo>
                      <a:cubicBezTo>
                        <a:pt x="182791" y="90954"/>
                        <a:pt x="318047" y="0"/>
                        <a:pt x="470179" y="0"/>
                      </a:cubicBezTo>
                      <a:cubicBezTo>
                        <a:pt x="612941" y="0"/>
                        <a:pt x="740843" y="80096"/>
                        <a:pt x="827071" y="206536"/>
                      </a:cubicBezTo>
                      <a:lnTo>
                        <a:pt x="660897" y="385961"/>
                      </a:lnTo>
                      <a:cubicBezTo>
                        <a:pt x="618508" y="295345"/>
                        <a:pt x="548882" y="236256"/>
                        <a:pt x="470179" y="236256"/>
                      </a:cubicBezTo>
                      <a:cubicBezTo>
                        <a:pt x="387075" y="236256"/>
                        <a:pt x="314092" y="302139"/>
                        <a:pt x="272596" y="401423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>
                        <a:alpha val="27058"/>
                      </a:srgbClr>
                    </a:gs>
                    <a:gs pos="100000">
                      <a:srgbClr val="d9d9d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31" name="椭圆 5"/>
              <p:cNvSpPr/>
              <p:nvPr/>
            </p:nvSpPr>
            <p:spPr>
              <a:xfrm>
                <a:off x="1091160" y="2746800"/>
                <a:ext cx="1234800" cy="123444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TextBox 117"/>
              <p:cNvSpPr/>
              <p:nvPr/>
            </p:nvSpPr>
            <p:spPr>
              <a:xfrm>
                <a:off x="744840" y="2531520"/>
                <a:ext cx="198000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3" name="Text Box 39"/>
            <p:cNvSpPr/>
            <p:nvPr/>
          </p:nvSpPr>
          <p:spPr>
            <a:xfrm>
              <a:off x="821520" y="1616040"/>
              <a:ext cx="1708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5000">
    <p:fade/>
  </p:transition>
  <p:timing>
    <p:tnLst>
      <p:par>
        <p:cTn id="1052" dur="indefinite" restart="never" nodeType="tmRoot">
          <p:childTnLst>
            <p:seq>
              <p:cTn id="1053" dur="indefinite" nodeType="mainSeq">
                <p:childTnLst>
                  <p:par>
                    <p:cTn id="1054" fill="hold">
                      <p:stCondLst>
                        <p:cond delay="0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8" dur="300" fill="hold"/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300" fill="hold"/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300"/>
                            </p:stCondLst>
                            <p:childTnLst>
                              <p:par>
                                <p:cTn id="1061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3" dur="3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3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fill="hold">
                            <p:stCondLst>
                              <p:cond delay="600"/>
                            </p:stCondLst>
                            <p:childTnLst>
                              <p:par>
                                <p:cTn id="1066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8" dur="300" fill="hold"/>
                                        <p:tgtEl>
                                          <p:spTgt spid="1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300" fill="hold"/>
                                        <p:tgtEl>
                                          <p:spTgt spid="1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fill="hold">
                            <p:stCondLst>
                              <p:cond delay="900"/>
                            </p:stCondLst>
                            <p:childTnLst>
                              <p:par>
                                <p:cTn id="1071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3" dur="3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3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1200"/>
                            </p:stCondLst>
                            <p:childTnLst>
                              <p:par>
                                <p:cTn id="1076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8" dur="3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3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1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3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3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fill="hold">
                            <p:stCondLst>
                              <p:cond delay="1800"/>
                            </p:stCondLst>
                            <p:childTnLst>
                              <p:par>
                                <p:cTn id="1086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8" dur="10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4" name="组合 424"/>
          <p:cNvGrpSpPr/>
          <p:nvPr/>
        </p:nvGrpSpPr>
        <p:grpSpPr>
          <a:xfrm>
            <a:off x="642960" y="1200240"/>
            <a:ext cx="1520640" cy="2949480"/>
            <a:chOff x="642960" y="1200240"/>
            <a:chExt cx="1520640" cy="2949480"/>
          </a:xfrm>
        </p:grpSpPr>
        <p:pic>
          <p:nvPicPr>
            <p:cNvPr id="1335" name="圆角矩形 2" descr=""/>
            <p:cNvPicPr/>
            <p:nvPr/>
          </p:nvPicPr>
          <p:blipFill>
            <a:blip r:embed="rId1"/>
            <a:stretch/>
          </p:blipFill>
          <p:spPr>
            <a:xfrm>
              <a:off x="642960" y="1200240"/>
              <a:ext cx="1520640" cy="294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6" name="椭圆 3"/>
            <p:cNvSpPr/>
            <p:nvPr/>
          </p:nvSpPr>
          <p:spPr>
            <a:xfrm>
              <a:off x="808920" y="1392120"/>
              <a:ext cx="1162080" cy="11746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37" name="Text Box 39" descr=""/>
            <p:cNvPicPr/>
            <p:nvPr/>
          </p:nvPicPr>
          <p:blipFill>
            <a:blip r:embed="rId2"/>
            <a:stretch/>
          </p:blipFill>
          <p:spPr>
            <a:xfrm>
              <a:off x="782640" y="1366920"/>
              <a:ext cx="1277640" cy="82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8" name="矩形 5"/>
            <p:cNvSpPr/>
            <p:nvPr/>
          </p:nvSpPr>
          <p:spPr>
            <a:xfrm>
              <a:off x="1108440" y="1982160"/>
              <a:ext cx="60732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990000"/>
                  </a:solidFill>
                  <a:latin typeface="微软雅黑"/>
                  <a:ea typeface="微软雅黑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Text Box 39"/>
            <p:cNvSpPr/>
            <p:nvPr/>
          </p:nvSpPr>
          <p:spPr>
            <a:xfrm>
              <a:off x="757800" y="2778480"/>
              <a:ext cx="1330560" cy="59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内容文字点击添加内容文字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0" name="组合 430"/>
          <p:cNvGrpSpPr/>
          <p:nvPr/>
        </p:nvGrpSpPr>
        <p:grpSpPr>
          <a:xfrm>
            <a:off x="2819520" y="1200240"/>
            <a:ext cx="1520640" cy="2949480"/>
            <a:chOff x="2819520" y="1200240"/>
            <a:chExt cx="1520640" cy="2949480"/>
          </a:xfrm>
        </p:grpSpPr>
        <p:pic>
          <p:nvPicPr>
            <p:cNvPr id="1341" name="圆角矩形 8" descr=""/>
            <p:cNvPicPr/>
            <p:nvPr/>
          </p:nvPicPr>
          <p:blipFill>
            <a:blip r:embed="rId3"/>
            <a:stretch/>
          </p:blipFill>
          <p:spPr>
            <a:xfrm>
              <a:off x="2819520" y="1200240"/>
              <a:ext cx="1520640" cy="294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2" name="椭圆 9"/>
            <p:cNvSpPr/>
            <p:nvPr/>
          </p:nvSpPr>
          <p:spPr>
            <a:xfrm>
              <a:off x="2985480" y="1392120"/>
              <a:ext cx="1162080" cy="11746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cc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3" name="Text Box 39" descr=""/>
            <p:cNvPicPr/>
            <p:nvPr/>
          </p:nvPicPr>
          <p:blipFill>
            <a:blip r:embed="rId4"/>
            <a:stretch/>
          </p:blipFill>
          <p:spPr>
            <a:xfrm>
              <a:off x="2959200" y="1366920"/>
              <a:ext cx="1277640" cy="82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4" name="矩形 11"/>
            <p:cNvSpPr/>
            <p:nvPr/>
          </p:nvSpPr>
          <p:spPr>
            <a:xfrm>
              <a:off x="3285000" y="1982160"/>
              <a:ext cx="60732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cc0066"/>
                  </a:solidFill>
                  <a:latin typeface="微软雅黑"/>
                  <a:ea typeface="微软雅黑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Text Box 39"/>
            <p:cNvSpPr/>
            <p:nvPr/>
          </p:nvSpPr>
          <p:spPr>
            <a:xfrm>
              <a:off x="2934360" y="2778480"/>
              <a:ext cx="1330560" cy="59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内容文字点击添加内容文字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46" name="组合 436" descr=""/>
          <p:cNvPicPr/>
          <p:nvPr/>
        </p:nvPicPr>
        <p:blipFill>
          <a:blip r:embed="rId5"/>
          <a:stretch/>
        </p:blipFill>
        <p:spPr>
          <a:xfrm>
            <a:off x="2214720" y="2433600"/>
            <a:ext cx="522000" cy="285840"/>
          </a:xfrm>
          <a:prstGeom prst="rect">
            <a:avLst/>
          </a:prstGeom>
          <a:ln w="0">
            <a:noFill/>
          </a:ln>
        </p:spPr>
      </p:pic>
      <p:grpSp>
        <p:nvGrpSpPr>
          <p:cNvPr id="1347" name="组合 439"/>
          <p:cNvGrpSpPr/>
          <p:nvPr/>
        </p:nvGrpSpPr>
        <p:grpSpPr>
          <a:xfrm>
            <a:off x="5000760" y="1200240"/>
            <a:ext cx="1520640" cy="2949480"/>
            <a:chOff x="5000760" y="1200240"/>
            <a:chExt cx="1520640" cy="2949480"/>
          </a:xfrm>
        </p:grpSpPr>
        <p:pic>
          <p:nvPicPr>
            <p:cNvPr id="1348" name="圆角矩形 17" descr=""/>
            <p:cNvPicPr/>
            <p:nvPr/>
          </p:nvPicPr>
          <p:blipFill>
            <a:blip r:embed="rId6"/>
            <a:stretch/>
          </p:blipFill>
          <p:spPr>
            <a:xfrm>
              <a:off x="5000760" y="1200240"/>
              <a:ext cx="1520640" cy="294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9" name="椭圆 18"/>
            <p:cNvSpPr/>
            <p:nvPr/>
          </p:nvSpPr>
          <p:spPr>
            <a:xfrm>
              <a:off x="5166720" y="1392120"/>
              <a:ext cx="1162080" cy="11746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030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50" name="Text Box 39" descr=""/>
            <p:cNvPicPr/>
            <p:nvPr/>
          </p:nvPicPr>
          <p:blipFill>
            <a:blip r:embed="rId7"/>
            <a:stretch/>
          </p:blipFill>
          <p:spPr>
            <a:xfrm>
              <a:off x="5140440" y="1366920"/>
              <a:ext cx="1277640" cy="76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1" name="矩形 20"/>
            <p:cNvSpPr/>
            <p:nvPr/>
          </p:nvSpPr>
          <p:spPr>
            <a:xfrm>
              <a:off x="5466240" y="1982160"/>
              <a:ext cx="60732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7030a0"/>
                  </a:solidFill>
                  <a:latin typeface="微软雅黑"/>
                  <a:ea typeface="微软雅黑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Text Box 39"/>
            <p:cNvSpPr/>
            <p:nvPr/>
          </p:nvSpPr>
          <p:spPr>
            <a:xfrm>
              <a:off x="5115600" y="2778480"/>
              <a:ext cx="1330560" cy="59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内容文字点击添加内容文字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3" name="组合 445"/>
          <p:cNvGrpSpPr/>
          <p:nvPr/>
        </p:nvGrpSpPr>
        <p:grpSpPr>
          <a:xfrm>
            <a:off x="7122960" y="1200240"/>
            <a:ext cx="1521000" cy="2949480"/>
            <a:chOff x="7122960" y="1200240"/>
            <a:chExt cx="1521000" cy="2949480"/>
          </a:xfrm>
        </p:grpSpPr>
        <p:pic>
          <p:nvPicPr>
            <p:cNvPr id="1354" name="圆角矩形 23" descr=""/>
            <p:cNvPicPr/>
            <p:nvPr/>
          </p:nvPicPr>
          <p:blipFill>
            <a:blip r:embed="rId8"/>
            <a:stretch/>
          </p:blipFill>
          <p:spPr>
            <a:xfrm>
              <a:off x="7122960" y="1200240"/>
              <a:ext cx="1521000" cy="294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5" name="椭圆 24"/>
            <p:cNvSpPr/>
            <p:nvPr/>
          </p:nvSpPr>
          <p:spPr>
            <a:xfrm>
              <a:off x="7289280" y="1392120"/>
              <a:ext cx="1162440" cy="11746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2222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56" name="Text Box 39" descr=""/>
            <p:cNvPicPr/>
            <p:nvPr/>
          </p:nvPicPr>
          <p:blipFill>
            <a:blip r:embed="rId9"/>
            <a:stretch/>
          </p:blipFill>
          <p:spPr>
            <a:xfrm>
              <a:off x="7262640" y="1366920"/>
              <a:ext cx="1278000" cy="76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7" name="矩形 26"/>
            <p:cNvSpPr/>
            <p:nvPr/>
          </p:nvSpPr>
          <p:spPr>
            <a:xfrm>
              <a:off x="7589160" y="1982160"/>
              <a:ext cx="60732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222267"/>
                  </a:solidFill>
                  <a:latin typeface="微软雅黑"/>
                  <a:ea typeface="微软雅黑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Text Box 39"/>
            <p:cNvSpPr/>
            <p:nvPr/>
          </p:nvSpPr>
          <p:spPr>
            <a:xfrm>
              <a:off x="7237800" y="2778480"/>
              <a:ext cx="1330920" cy="59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内容文字点击添加内容文字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59" name="组合 451" descr=""/>
          <p:cNvPicPr/>
          <p:nvPr/>
        </p:nvPicPr>
        <p:blipFill>
          <a:blip r:embed="rId10"/>
          <a:stretch/>
        </p:blipFill>
        <p:spPr>
          <a:xfrm>
            <a:off x="6572160" y="2433600"/>
            <a:ext cx="522360" cy="285840"/>
          </a:xfrm>
          <a:prstGeom prst="rect">
            <a:avLst/>
          </a:prstGeom>
          <a:ln w="0">
            <a:noFill/>
          </a:ln>
        </p:spPr>
      </p:pic>
      <p:pic>
        <p:nvPicPr>
          <p:cNvPr id="1360" name="组合 454" descr=""/>
          <p:cNvPicPr/>
          <p:nvPr/>
        </p:nvPicPr>
        <p:blipFill>
          <a:blip r:embed="rId11"/>
          <a:stretch/>
        </p:blipFill>
        <p:spPr>
          <a:xfrm>
            <a:off x="4429080" y="2433600"/>
            <a:ext cx="522360" cy="285840"/>
          </a:xfrm>
          <a:prstGeom prst="rect">
            <a:avLst/>
          </a:prstGeom>
          <a:ln w="0">
            <a:noFill/>
          </a:ln>
        </p:spPr>
      </p:pic>
      <p:grpSp>
        <p:nvGrpSpPr>
          <p:cNvPr id="1361" name="组合 34"/>
          <p:cNvGrpSpPr/>
          <p:nvPr/>
        </p:nvGrpSpPr>
        <p:grpSpPr>
          <a:xfrm>
            <a:off x="776160" y="4557600"/>
            <a:ext cx="7307280" cy="746280"/>
            <a:chOff x="776160" y="4557600"/>
            <a:chExt cx="7307280" cy="746280"/>
          </a:xfrm>
        </p:grpSpPr>
        <p:sp>
          <p:nvSpPr>
            <p:cNvPr id="1362" name="右箭头 35"/>
            <p:cNvSpPr/>
            <p:nvPr/>
          </p:nvSpPr>
          <p:spPr>
            <a:xfrm>
              <a:off x="890640" y="4618800"/>
              <a:ext cx="691200" cy="671040"/>
            </a:xfrm>
            <a:prstGeom prst="rightArrow">
              <a:avLst>
                <a:gd name="adj1" fmla="val 50000"/>
                <a:gd name="adj2" fmla="val 50038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Text Box 39"/>
            <p:cNvSpPr/>
            <p:nvPr/>
          </p:nvSpPr>
          <p:spPr>
            <a:xfrm>
              <a:off x="1713960" y="4890240"/>
              <a:ext cx="636948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此处添加您要的内容文字点击此处添加您要的内容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Text Box 39"/>
            <p:cNvSpPr/>
            <p:nvPr/>
          </p:nvSpPr>
          <p:spPr>
            <a:xfrm>
              <a:off x="1713960" y="4557600"/>
              <a:ext cx="314352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此处添加您要的内容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Text Box 39"/>
            <p:cNvSpPr/>
            <p:nvPr/>
          </p:nvSpPr>
          <p:spPr>
            <a:xfrm>
              <a:off x="776160" y="4753080"/>
              <a:ext cx="86616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5000">
    <p:fade/>
  </p:transition>
  <p:timing>
    <p:tnLst>
      <p:par>
        <p:cTn id="1091" dur="indefinite" restart="never" nodeType="tmRoot">
          <p:childTnLst>
            <p:seq>
              <p:cTn id="1092" dur="indefinite" nodeType="mainSeq">
                <p:childTnLst>
                  <p:par>
                    <p:cTn id="1093" fill="hold">
                      <p:stCondLst>
                        <p:cond delay="0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7" dur="300"/>
                                        <p:tgtEl>
                                          <p:spTgt spid="1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8" dur="3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300"/>
                            </p:stCondLst>
                            <p:childTnLst>
                              <p:par>
                                <p:cTn id="1100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2" dur="300"/>
                                        <p:tgtEl>
                                          <p:spTgt spid="1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3" dur="300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4" fill="hold">
                            <p:stCondLst>
                              <p:cond delay="600"/>
                            </p:stCondLst>
                            <p:childTnLst>
                              <p:par>
                                <p:cTn id="1105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7" dur="300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8" dur="3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fill="hold">
                            <p:stCondLst>
                              <p:cond delay="900"/>
                            </p:stCondLst>
                            <p:childTnLst>
                              <p:par>
                                <p:cTn id="1110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300"/>
                                        <p:tgtEl>
                                          <p:spTgt spid="1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3" dur="3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4" fill="hold">
                            <p:stCondLst>
                              <p:cond delay="1200"/>
                            </p:stCondLst>
                            <p:childTnLst>
                              <p:par>
                                <p:cTn id="1115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7" dur="300"/>
                                        <p:tgtEl>
                                          <p:spTgt spid="1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8" dur="3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0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2" dur="300"/>
                                        <p:tgtEl>
                                          <p:spTgt spid="1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3" dur="3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fill="hold">
                            <p:stCondLst>
                              <p:cond delay="1800"/>
                            </p:stCondLst>
                            <p:childTnLst>
                              <p:par>
                                <p:cTn id="1125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7" dur="300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8" dur="3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9" fill="hold">
                            <p:stCondLst>
                              <p:cond delay="2100"/>
                            </p:stCondLst>
                            <p:childTnLst>
                              <p:par>
                                <p:cTn id="1130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500"/>
                                        <p:tgtEl>
                                          <p:spTgt spid="1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3" dur="500" fill="hold"/>
                                        <p:tgtEl>
                                          <p:spTgt spid="1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500" fill="hold"/>
                                        <p:tgtEl>
                                          <p:spTgt spid="1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6" name="组合 1"/>
          <p:cNvGrpSpPr/>
          <p:nvPr/>
        </p:nvGrpSpPr>
        <p:grpSpPr>
          <a:xfrm>
            <a:off x="467640" y="2620440"/>
            <a:ext cx="8065080" cy="2578680"/>
            <a:chOff x="467640" y="2620440"/>
            <a:chExt cx="8065080" cy="2578680"/>
          </a:xfrm>
        </p:grpSpPr>
        <p:sp>
          <p:nvSpPr>
            <p:cNvPr id="1367" name="椭圆​​ 8"/>
            <p:cNvSpPr/>
            <p:nvPr/>
          </p:nvSpPr>
          <p:spPr>
            <a:xfrm>
              <a:off x="899640" y="4334400"/>
              <a:ext cx="1080000" cy="354240"/>
            </a:xfrm>
            <a:prstGeom prst="ellipse">
              <a:avLst/>
            </a:prstGeom>
            <a:gradFill rotWithShape="0">
              <a:gsLst>
                <a:gs pos="0">
                  <a:srgbClr val="808080">
                    <a:alpha val="0"/>
                  </a:srgbClr>
                </a:gs>
                <a:gs pos="100000">
                  <a:srgbClr val="f2f2f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椭圆​​ 9"/>
            <p:cNvSpPr/>
            <p:nvPr/>
          </p:nvSpPr>
          <p:spPr>
            <a:xfrm>
              <a:off x="7236360" y="4348080"/>
              <a:ext cx="1080000" cy="354240"/>
            </a:xfrm>
            <a:prstGeom prst="ellipse">
              <a:avLst/>
            </a:prstGeom>
            <a:gradFill rotWithShape="0">
              <a:gsLst>
                <a:gs pos="0">
                  <a:srgbClr val="808080">
                    <a:alpha val="0"/>
                  </a:srgbClr>
                </a:gs>
                <a:gs pos="100000">
                  <a:srgbClr val="f2f2f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椭圆​​ 10"/>
            <p:cNvSpPr/>
            <p:nvPr/>
          </p:nvSpPr>
          <p:spPr>
            <a:xfrm>
              <a:off x="3924000" y="4703040"/>
              <a:ext cx="1512000" cy="496080"/>
            </a:xfrm>
            <a:prstGeom prst="ellipse">
              <a:avLst/>
            </a:prstGeom>
            <a:gradFill rotWithShape="0">
              <a:gsLst>
                <a:gs pos="0">
                  <a:srgbClr val="808080">
                    <a:alpha val="0"/>
                  </a:srgbClr>
                </a:gs>
                <a:gs pos="100000">
                  <a:srgbClr val="f2f2f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矩形​​ 5"/>
            <p:cNvSpPr/>
            <p:nvPr/>
          </p:nvSpPr>
          <p:spPr>
            <a:xfrm>
              <a:off x="1187640" y="3291120"/>
              <a:ext cx="7021440" cy="716400"/>
            </a:xfrm>
            <a:prstGeom prst="rect">
              <a:avLst/>
            </a:prstGeom>
            <a:gradFill rotWithShape="0">
              <a:gsLst>
                <a:gs pos="0">
                  <a:srgbClr val="a6a6a6"/>
                </a:gs>
                <a:gs pos="100000">
                  <a:srgbClr val="bfbfbf"/>
                </a:gs>
              </a:gsLst>
              <a:lin ang="5400000"/>
            </a:gradFill>
            <a:ln w="324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椭圆​​ 2"/>
            <p:cNvSpPr/>
            <p:nvPr/>
          </p:nvSpPr>
          <p:spPr>
            <a:xfrm>
              <a:off x="684360" y="2894040"/>
              <a:ext cx="1511280" cy="1512360"/>
            </a:xfrm>
            <a:prstGeom prst="ellipse">
              <a:avLst/>
            </a:prstGeom>
            <a:gradFill rotWithShape="0">
              <a:gsLst>
                <a:gs pos="0">
                  <a:srgbClr val="ffc000"/>
                </a:gs>
                <a:gs pos="50000">
                  <a:srgbClr val="ee9012"/>
                </a:gs>
                <a:gs pos="100000">
                  <a:srgbClr val="ffc000"/>
                </a:gs>
              </a:gsLst>
              <a:lin ang="16200000"/>
            </a:gradFill>
            <a:ln w="255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椭圆​​ 3"/>
            <p:cNvSpPr/>
            <p:nvPr/>
          </p:nvSpPr>
          <p:spPr>
            <a:xfrm>
              <a:off x="3726000" y="2903400"/>
              <a:ext cx="1944360" cy="1944360"/>
            </a:xfrm>
            <a:prstGeom prst="ellipse">
              <a:avLst/>
            </a:prstGeom>
            <a:gradFill rotWithShape="0">
              <a:gsLst>
                <a:gs pos="0">
                  <a:srgbClr val="990000"/>
                </a:gs>
                <a:gs pos="100000">
                  <a:srgbClr val="ff0000"/>
                </a:gs>
              </a:gsLst>
              <a:lin ang="16200000"/>
            </a:gradFill>
            <a:ln w="1908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椭圆​​ 4"/>
            <p:cNvSpPr/>
            <p:nvPr/>
          </p:nvSpPr>
          <p:spPr>
            <a:xfrm>
              <a:off x="7020000" y="2894040"/>
              <a:ext cx="1512720" cy="1512360"/>
            </a:xfrm>
            <a:prstGeom prst="ellipse">
              <a:avLst/>
            </a:prstGeom>
            <a:gradFill rotWithShape="0">
              <a:gsLst>
                <a:gs pos="0">
                  <a:srgbClr val="ffc000"/>
                </a:gs>
                <a:gs pos="50000">
                  <a:srgbClr val="ee9012"/>
                </a:gs>
                <a:gs pos="100000">
                  <a:srgbClr val="ffc000"/>
                </a:gs>
              </a:gsLst>
              <a:lin ang="16200000"/>
            </a:gradFill>
            <a:ln w="255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燕尾形 9"/>
            <p:cNvSpPr/>
            <p:nvPr/>
          </p:nvSpPr>
          <p:spPr>
            <a:xfrm>
              <a:off x="2808360" y="3399120"/>
              <a:ext cx="431640" cy="54324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543240"/>
                <a:gd name="textAreaBottom" fmla="*/ 543600 h 543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f2f2f2"/>
            </a:solidFill>
            <a:ln w="93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燕尾形 10"/>
            <p:cNvSpPr/>
            <p:nvPr/>
          </p:nvSpPr>
          <p:spPr>
            <a:xfrm rot="10800000">
              <a:off x="5974920" y="3398760"/>
              <a:ext cx="433080" cy="543240"/>
            </a:xfrm>
            <a:custGeom>
              <a:avLst/>
              <a:gdLst>
                <a:gd name="textAreaLeft" fmla="*/ 0 w 433080"/>
                <a:gd name="textAreaRight" fmla="*/ 433440 w 433080"/>
                <a:gd name="textAreaTop" fmla="*/ 0 h 543240"/>
                <a:gd name="textAreaBottom" fmla="*/ 543600 h 543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f2f2f2"/>
            </a:solidFill>
            <a:ln w="93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矩形​​ 11"/>
            <p:cNvSpPr/>
            <p:nvPr/>
          </p:nvSpPr>
          <p:spPr>
            <a:xfrm>
              <a:off x="1142640" y="3446640"/>
              <a:ext cx="592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入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矩形​​ 12"/>
            <p:cNvSpPr/>
            <p:nvPr/>
          </p:nvSpPr>
          <p:spPr>
            <a:xfrm>
              <a:off x="4170240" y="3681720"/>
              <a:ext cx="109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录入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矩形​​ 13"/>
            <p:cNvSpPr/>
            <p:nvPr/>
          </p:nvSpPr>
          <p:spPr>
            <a:xfrm>
              <a:off x="7508520" y="3465720"/>
              <a:ext cx="592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入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新月形 14"/>
            <p:cNvSpPr/>
            <p:nvPr/>
          </p:nvSpPr>
          <p:spPr>
            <a:xfrm rot="3811200">
              <a:off x="4079160" y="2466360"/>
              <a:ext cx="716760" cy="1713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767" y="1065"/>
                    <a:pt x="5934" y="5080"/>
                    <a:pt x="5934" y="10800"/>
                  </a:cubicBezTo>
                  <a:cubicBezTo>
                    <a:pt x="5934" y="16520"/>
                    <a:pt x="13767" y="20535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38039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699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新月形 15"/>
            <p:cNvSpPr/>
            <p:nvPr/>
          </p:nvSpPr>
          <p:spPr>
            <a:xfrm rot="3501600">
              <a:off x="4023720" y="2526120"/>
              <a:ext cx="716760" cy="1713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767" y="1065"/>
                    <a:pt x="5934" y="5080"/>
                    <a:pt x="5934" y="10800"/>
                  </a:cubicBezTo>
                  <a:cubicBezTo>
                    <a:pt x="5934" y="16520"/>
                    <a:pt x="13767" y="20535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38039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730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新月形 16"/>
            <p:cNvSpPr/>
            <p:nvPr/>
          </p:nvSpPr>
          <p:spPr>
            <a:xfrm rot="3811200">
              <a:off x="939960" y="2558160"/>
              <a:ext cx="619200" cy="1438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767" y="1065"/>
                    <a:pt x="5934" y="5080"/>
                    <a:pt x="5934" y="10800"/>
                  </a:cubicBezTo>
                  <a:cubicBezTo>
                    <a:pt x="5934" y="16520"/>
                    <a:pt x="13767" y="20535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38039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939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新月形 17"/>
            <p:cNvSpPr/>
            <p:nvPr/>
          </p:nvSpPr>
          <p:spPr>
            <a:xfrm rot="3811200">
              <a:off x="7276680" y="2572200"/>
              <a:ext cx="619200" cy="1438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767" y="1065"/>
                    <a:pt x="5934" y="5080"/>
                    <a:pt x="5934" y="10800"/>
                  </a:cubicBezTo>
                  <a:cubicBezTo>
                    <a:pt x="5934" y="16520"/>
                    <a:pt x="13767" y="20535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38039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939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3" name="组合 18"/>
          <p:cNvGrpSpPr/>
          <p:nvPr/>
        </p:nvGrpSpPr>
        <p:grpSpPr>
          <a:xfrm>
            <a:off x="684360" y="1344600"/>
            <a:ext cx="1584000" cy="360360"/>
            <a:chOff x="684360" y="1344600"/>
            <a:chExt cx="1584000" cy="360360"/>
          </a:xfrm>
        </p:grpSpPr>
        <p:sp>
          <p:nvSpPr>
            <p:cNvPr id="1384" name="椭圆 3"/>
            <p:cNvSpPr/>
            <p:nvPr/>
          </p:nvSpPr>
          <p:spPr>
            <a:xfrm flipH="1">
              <a:off x="684360" y="1344600"/>
              <a:ext cx="1584000" cy="360360"/>
            </a:xfrm>
            <a:custGeom>
              <a:avLst/>
              <a:gdLst/>
              <a:ahLst/>
              <a:rect l="l" t="t" r="r" b="b"/>
              <a:pathLst>
                <a:path w="1584730" h="360040">
                  <a:moveTo>
                    <a:pt x="153249" y="135997"/>
                  </a:moveTo>
                  <a:cubicBezTo>
                    <a:pt x="177716" y="135997"/>
                    <a:pt x="197551" y="155707"/>
                    <a:pt x="197551" y="180020"/>
                  </a:cubicBezTo>
                  <a:cubicBezTo>
                    <a:pt x="197551" y="204333"/>
                    <a:pt x="177716" y="224043"/>
                    <a:pt x="153249" y="224043"/>
                  </a:cubicBezTo>
                  <a:cubicBezTo>
                    <a:pt x="128782" y="224043"/>
                    <a:pt x="108947" y="204333"/>
                    <a:pt x="108947" y="180020"/>
                  </a:cubicBezTo>
                  <a:cubicBezTo>
                    <a:pt x="108947" y="155707"/>
                    <a:pt x="128782" y="135997"/>
                    <a:pt x="153249" y="135997"/>
                  </a:cubicBezTo>
                  <a:close/>
                  <a:moveTo>
                    <a:pt x="1584730" y="0"/>
                  </a:moveTo>
                  <a:lnTo>
                    <a:pt x="181160" y="0"/>
                  </a:lnTo>
                  <a:lnTo>
                    <a:pt x="0" y="180020"/>
                  </a:lnTo>
                  <a:lnTo>
                    <a:pt x="181160" y="360040"/>
                  </a:lnTo>
                  <a:lnTo>
                    <a:pt x="1584730" y="36004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矩形 20"/>
            <p:cNvSpPr/>
            <p:nvPr/>
          </p:nvSpPr>
          <p:spPr>
            <a:xfrm>
              <a:off x="753840" y="1425960"/>
              <a:ext cx="128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ts val="11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6" name="矩形 21"/>
          <p:cNvSpPr/>
          <p:nvPr/>
        </p:nvSpPr>
        <p:spPr>
          <a:xfrm>
            <a:off x="684360" y="1898640"/>
            <a:ext cx="77659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XX</a:t>
            </a:r>
            <a:r>
              <a:rPr b="1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公司，中国首家演示设计交易平台。基于演示设计的一站式在线演示、素材销售、服务交易系统。诞生于</a:t>
            </a:r>
            <a:r>
              <a:rPr b="1" lang="en-US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2013</a:t>
            </a:r>
            <a:r>
              <a:rPr b="1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年，由中国专业</a:t>
            </a:r>
            <a:r>
              <a:rPr b="1" lang="en-US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PPT</a:t>
            </a:r>
            <a:r>
              <a:rPr b="1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设计领跑者上海</a:t>
            </a:r>
            <a:r>
              <a:rPr b="1" lang="en-US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XXXX</a:t>
            </a:r>
            <a:r>
              <a:rPr b="1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有限公司整合</a:t>
            </a:r>
            <a:r>
              <a:rPr b="1" lang="en-US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XXPPT</a:t>
            </a:r>
            <a:r>
              <a:rPr b="1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设计、</a:t>
            </a:r>
            <a:r>
              <a:rPr b="1" lang="en-US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XXPPT</a:t>
            </a:r>
            <a:r>
              <a:rPr b="1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论坛、</a:t>
            </a:r>
            <a:r>
              <a:rPr b="1" lang="en-US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XXPPT</a:t>
            </a:r>
            <a:r>
              <a:rPr b="1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商城、</a:t>
            </a:r>
            <a:r>
              <a:rPr b="1" lang="en-US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XXPPT</a:t>
            </a:r>
            <a:r>
              <a:rPr b="1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市场等资源组建成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fill="hold">
                      <p:stCondLst>
                        <p:cond delay="0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6" dur="5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0" dur="10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10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Rectangle 2"/>
          <p:cNvSpPr/>
          <p:nvPr/>
        </p:nvSpPr>
        <p:spPr>
          <a:xfrm>
            <a:off x="5602320" y="1670040"/>
            <a:ext cx="2657520" cy="15559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640000"/>
              </a:gs>
            </a:gsLst>
            <a:lin ang="5400000"/>
          </a:gradFill>
          <a:ln w="3240">
            <a:solidFill>
              <a:srgbClr val="d7d7d7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Rectangle 3"/>
          <p:cNvSpPr/>
          <p:nvPr/>
        </p:nvSpPr>
        <p:spPr>
          <a:xfrm>
            <a:off x="2862360" y="1670040"/>
            <a:ext cx="2657520" cy="15559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640000"/>
              </a:gs>
            </a:gsLst>
            <a:lin ang="5400000"/>
          </a:gradFill>
          <a:ln w="3240">
            <a:solidFill>
              <a:srgbClr val="d7d7d7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AutoShape 4"/>
          <p:cNvSpPr/>
          <p:nvPr/>
        </p:nvSpPr>
        <p:spPr>
          <a:xfrm>
            <a:off x="2995560" y="985680"/>
            <a:ext cx="2390760" cy="565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0000"/>
              </a:gs>
              <a:gs pos="100000">
                <a:srgbClr val="990000"/>
              </a:gs>
            </a:gsLst>
            <a:lin ang="5400000"/>
          </a:gradFill>
          <a:ln w="3240">
            <a:solidFill>
              <a:srgbClr val="d7d7d7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AutoShape 5"/>
          <p:cNvSpPr/>
          <p:nvPr/>
        </p:nvSpPr>
        <p:spPr>
          <a:xfrm>
            <a:off x="5735520" y="985680"/>
            <a:ext cx="2390760" cy="565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0000"/>
              </a:gs>
              <a:gs pos="100000">
                <a:srgbClr val="c00000"/>
              </a:gs>
            </a:gsLst>
            <a:lin ang="5400000"/>
          </a:gradFill>
          <a:ln w="3240">
            <a:solidFill>
              <a:srgbClr val="d7d7d7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Rectangle 6"/>
          <p:cNvSpPr/>
          <p:nvPr/>
        </p:nvSpPr>
        <p:spPr>
          <a:xfrm>
            <a:off x="5602320" y="3462480"/>
            <a:ext cx="2657520" cy="1555560"/>
          </a:xfrm>
          <a:prstGeom prst="rect">
            <a:avLst/>
          </a:prstGeom>
          <a:gradFill rotWithShape="0">
            <a:gsLst>
              <a:gs pos="0">
                <a:srgbClr val="f9f9f9"/>
              </a:gs>
              <a:gs pos="100000">
                <a:srgbClr val="d7d7d7"/>
              </a:gs>
            </a:gsLst>
            <a:lin ang="5400000"/>
          </a:gradFill>
          <a:ln w="3240">
            <a:solidFill>
              <a:srgbClr val="d7d7d7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d4d4d"/>
                </a:solidFill>
                <a:latin typeface="微软雅黑"/>
                <a:ea typeface="微软雅黑"/>
              </a:rPr>
              <a:t>添加文本</a:t>
            </a:r>
            <a:r>
              <a:rPr b="1" lang="en-US" sz="1600" spc="-1" strike="noStrike">
                <a:solidFill>
                  <a:srgbClr val="4d4d4d"/>
                </a:solidFill>
                <a:latin typeface="微软雅黑"/>
                <a:ea typeface="微软雅黑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Rectangle 7"/>
          <p:cNvSpPr/>
          <p:nvPr/>
        </p:nvSpPr>
        <p:spPr>
          <a:xfrm>
            <a:off x="2862360" y="3462480"/>
            <a:ext cx="2657520" cy="1555560"/>
          </a:xfrm>
          <a:prstGeom prst="rect">
            <a:avLst/>
          </a:prstGeom>
          <a:gradFill rotWithShape="0">
            <a:gsLst>
              <a:gs pos="0">
                <a:srgbClr val="f9f9f9"/>
              </a:gs>
              <a:gs pos="100000">
                <a:srgbClr val="d7d7d7"/>
              </a:gs>
            </a:gsLst>
            <a:lin ang="5400000"/>
          </a:gradFill>
          <a:ln w="3240">
            <a:solidFill>
              <a:srgbClr val="d7d7d7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d4d4d"/>
                </a:solidFill>
                <a:latin typeface="微软雅黑"/>
                <a:ea typeface="微软雅黑"/>
              </a:rPr>
              <a:t>添加文本</a:t>
            </a:r>
            <a:r>
              <a:rPr b="1" lang="en-US" sz="1600" spc="-1" strike="noStrike">
                <a:solidFill>
                  <a:srgbClr val="4d4d4d"/>
                </a:solidFill>
                <a:latin typeface="微软雅黑"/>
                <a:ea typeface="微软雅黑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AutoShape 11"/>
          <p:cNvSpPr/>
          <p:nvPr/>
        </p:nvSpPr>
        <p:spPr>
          <a:xfrm>
            <a:off x="963720" y="1685880"/>
            <a:ext cx="1825560" cy="1523880"/>
          </a:xfrm>
          <a:custGeom>
            <a:avLst/>
            <a:gdLst>
              <a:gd name="textAreaLeft" fmla="*/ 0 w 1825560"/>
              <a:gd name="textAreaRight" fmla="*/ 1825920 w 182556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881" y="0"/>
                </a:lnTo>
                <a:lnTo>
                  <a:pt x="21600" y="10800"/>
                </a:lnTo>
                <a:lnTo>
                  <a:pt x="1688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9f9f9"/>
              </a:gs>
              <a:gs pos="100000">
                <a:srgbClr val="d7d7d7"/>
              </a:gs>
            </a:gsLst>
            <a:lin ang="5400000"/>
          </a:gradFill>
          <a:ln w="3240">
            <a:solidFill>
              <a:srgbClr val="d7d7d7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d4d4d"/>
                </a:solidFill>
                <a:latin typeface="微软雅黑"/>
                <a:ea typeface="微软雅黑"/>
              </a:rPr>
              <a:t>添加文本</a:t>
            </a:r>
            <a:r>
              <a:rPr b="1" lang="en-US" sz="1600" spc="-1" strike="noStrike">
                <a:solidFill>
                  <a:srgbClr val="4d4d4d"/>
                </a:solidFill>
                <a:latin typeface="微软雅黑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AutoShape 11"/>
          <p:cNvSpPr/>
          <p:nvPr/>
        </p:nvSpPr>
        <p:spPr>
          <a:xfrm>
            <a:off x="963720" y="3478320"/>
            <a:ext cx="1825560" cy="1523880"/>
          </a:xfrm>
          <a:custGeom>
            <a:avLst/>
            <a:gdLst>
              <a:gd name="textAreaLeft" fmla="*/ 0 w 1825560"/>
              <a:gd name="textAreaRight" fmla="*/ 1825920 w 182556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881" y="0"/>
                </a:lnTo>
                <a:lnTo>
                  <a:pt x="21600" y="10800"/>
                </a:lnTo>
                <a:lnTo>
                  <a:pt x="1688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9f9f9"/>
              </a:gs>
              <a:gs pos="100000">
                <a:srgbClr val="d7d7d7"/>
              </a:gs>
            </a:gsLst>
            <a:lin ang="5400000"/>
          </a:gradFill>
          <a:ln w="3240">
            <a:solidFill>
              <a:srgbClr val="d7d7d7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d4d4d"/>
                </a:solidFill>
                <a:latin typeface="微软雅黑"/>
                <a:ea typeface="微软雅黑"/>
              </a:rPr>
              <a:t>添加文本</a:t>
            </a:r>
            <a:r>
              <a:rPr b="1" lang="en-US" sz="1600" spc="-1" strike="noStrike">
                <a:solidFill>
                  <a:srgbClr val="4d4d4d"/>
                </a:solidFill>
                <a:latin typeface="微软雅黑"/>
                <a:ea typeface="微软雅黑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  <p:timing>
    <p:tnLst>
      <p:par>
        <p:cTn id="1153" dur="indefinite" restart="never" nodeType="tmRoot">
          <p:childTnLst>
            <p:seq>
              <p:cTn id="1154" dur="indefinite" nodeType="mainSeq">
                <p:childTnLst>
                  <p:par>
                    <p:cTn id="1155" fill="hold">
                      <p:stCondLst>
                        <p:cond delay="0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500"/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0" dur="5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163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5" dur="5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9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1" dur="500"/>
                                        <p:tgtEl>
                                          <p:spTgt spid="1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5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7" dur="500"/>
                                        <p:tgtEl>
                                          <p:spTgt spid="1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500" fill="hold"/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1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3" dur="5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7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9" dur="5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3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5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7" fill="hold">
                            <p:stCondLst>
                              <p:cond delay="3500"/>
                            </p:stCondLst>
                            <p:childTnLst>
                              <p:par>
                                <p:cTn id="1198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0" dur="5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5" name="组合 1"/>
          <p:cNvGrpSpPr/>
          <p:nvPr/>
        </p:nvGrpSpPr>
        <p:grpSpPr>
          <a:xfrm>
            <a:off x="468360" y="1201680"/>
            <a:ext cx="7966080" cy="3911760"/>
            <a:chOff x="468360" y="1201680"/>
            <a:chExt cx="7966080" cy="3911760"/>
          </a:xfrm>
        </p:grpSpPr>
        <p:sp>
          <p:nvSpPr>
            <p:cNvPr id="1396" name="AutoShape 2"/>
            <p:cNvSpPr/>
            <p:nvPr/>
          </p:nvSpPr>
          <p:spPr>
            <a:xfrm>
              <a:off x="3257640" y="4546440"/>
              <a:ext cx="5109480" cy="146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659" y="21600"/>
                  </a:lnTo>
                  <a:lnTo>
                    <a:pt x="20941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Oval 4"/>
            <p:cNvSpPr/>
            <p:nvPr/>
          </p:nvSpPr>
          <p:spPr>
            <a:xfrm>
              <a:off x="468360" y="4803840"/>
              <a:ext cx="4138200" cy="3096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98" name="AutoShape 5" descr=""/>
            <p:cNvPicPr/>
            <p:nvPr/>
          </p:nvPicPr>
          <p:blipFill>
            <a:blip r:embed="rId1"/>
            <a:stretch/>
          </p:blipFill>
          <p:spPr>
            <a:xfrm>
              <a:off x="3224520" y="1352160"/>
              <a:ext cx="5209920" cy="322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9" name="未知" descr=""/>
            <p:cNvPicPr/>
            <p:nvPr/>
          </p:nvPicPr>
          <p:blipFill>
            <a:blip r:embed="rId2"/>
            <a:stretch/>
          </p:blipFill>
          <p:spPr>
            <a:xfrm>
              <a:off x="696600" y="2118240"/>
              <a:ext cx="1895040" cy="188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0" name="未知" descr=""/>
            <p:cNvPicPr/>
            <p:nvPr/>
          </p:nvPicPr>
          <p:blipFill>
            <a:blip r:embed="rId3"/>
            <a:stretch/>
          </p:blipFill>
          <p:spPr>
            <a:xfrm>
              <a:off x="945000" y="1201680"/>
              <a:ext cx="1629360" cy="18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1" name="未知" descr=""/>
            <p:cNvPicPr/>
            <p:nvPr/>
          </p:nvPicPr>
          <p:blipFill>
            <a:blip r:embed="rId4"/>
            <a:stretch/>
          </p:blipFill>
          <p:spPr>
            <a:xfrm>
              <a:off x="945000" y="3047040"/>
              <a:ext cx="3235320" cy="187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2" name="未知" descr=""/>
            <p:cNvPicPr/>
            <p:nvPr/>
          </p:nvPicPr>
          <p:blipFill>
            <a:blip r:embed="rId5"/>
            <a:stretch/>
          </p:blipFill>
          <p:spPr>
            <a:xfrm>
              <a:off x="2539800" y="1201680"/>
              <a:ext cx="1878840" cy="280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3" name="未知" descr=""/>
            <p:cNvPicPr/>
            <p:nvPr/>
          </p:nvPicPr>
          <p:blipFill>
            <a:blip r:embed="rId6"/>
            <a:stretch/>
          </p:blipFill>
          <p:spPr>
            <a:xfrm>
              <a:off x="1242720" y="1782720"/>
              <a:ext cx="1342440" cy="265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4" name="未知"/>
            <p:cNvSpPr/>
            <p:nvPr/>
          </p:nvSpPr>
          <p:spPr>
            <a:xfrm flipH="1" flipV="1">
              <a:off x="2558520" y="1792080"/>
              <a:ext cx="1136160" cy="1308600"/>
            </a:xfrm>
            <a:custGeom>
              <a:avLst/>
              <a:gdLst/>
              <a:ahLst/>
              <a:rect l="l" t="t" r="r" b="b"/>
              <a:pathLst>
                <a:path w="151" h="173">
                  <a:moveTo>
                    <a:pt x="0" y="86"/>
                  </a:moveTo>
                  <a:cubicBezTo>
                    <a:pt x="31" y="140"/>
                    <a:pt x="88" y="173"/>
                    <a:pt x="151" y="173"/>
                  </a:cubicBezTo>
                  <a:lnTo>
                    <a:pt x="151" y="0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dddddd"/>
            </a:soli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未知"/>
            <p:cNvSpPr/>
            <p:nvPr/>
          </p:nvSpPr>
          <p:spPr>
            <a:xfrm flipH="1" flipV="1">
              <a:off x="2558520" y="3107880"/>
              <a:ext cx="1136160" cy="1314720"/>
            </a:xfrm>
            <a:custGeom>
              <a:avLst/>
              <a:gdLst/>
              <a:ahLst/>
              <a:rect l="l" t="t" r="r" b="b"/>
              <a:pathLst>
                <a:path w="151" h="174">
                  <a:moveTo>
                    <a:pt x="150" y="0"/>
                  </a:moveTo>
                  <a:cubicBezTo>
                    <a:pt x="88" y="0"/>
                    <a:pt x="31" y="33"/>
                    <a:pt x="0" y="87"/>
                  </a:cubicBezTo>
                  <a:lnTo>
                    <a:pt x="151" y="174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dddddd"/>
            </a:soli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06" name="未知" descr=""/>
            <p:cNvPicPr/>
            <p:nvPr/>
          </p:nvPicPr>
          <p:blipFill>
            <a:blip r:embed="rId7"/>
            <a:stretch/>
          </p:blipFill>
          <p:spPr>
            <a:xfrm>
              <a:off x="2534760" y="2045880"/>
              <a:ext cx="2125080" cy="211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7" name="Text Box 18"/>
            <p:cNvSpPr/>
            <p:nvPr/>
          </p:nvSpPr>
          <p:spPr>
            <a:xfrm>
              <a:off x="1256760" y="2840760"/>
              <a:ext cx="1199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Text Box 19"/>
            <p:cNvSpPr/>
            <p:nvPr/>
          </p:nvSpPr>
          <p:spPr>
            <a:xfrm>
              <a:off x="3230640" y="2926080"/>
              <a:ext cx="1199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WordArt 20"/>
            <p:cNvSpPr txBox="1"/>
            <p:nvPr/>
          </p:nvSpPr>
          <p:spPr>
            <a:xfrm rot="19732200">
              <a:off x="1278360" y="1717200"/>
              <a:ext cx="1076400" cy="1800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5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ln w="0">
                    <a:noFill/>
                  </a:ln>
                  <a:solidFill>
                    <a:srgbClr val="ffffff"/>
                  </a:solidFill>
                  <a:latin typeface="微软雅黑"/>
                </a:rPr>
                <a:t>此处添加内容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410" name="WordArt 21"/>
            <p:cNvSpPr txBox="1"/>
            <p:nvPr/>
          </p:nvSpPr>
          <p:spPr>
            <a:xfrm rot="2038800">
              <a:off x="2777040" y="1726200"/>
              <a:ext cx="1076400" cy="1800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5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ln w="0">
                    <a:noFill/>
                  </a:ln>
                  <a:solidFill>
                    <a:srgbClr val="ffffff"/>
                  </a:solidFill>
                  <a:latin typeface="微软雅黑"/>
                </a:rPr>
                <a:t>此处添加内容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411" name="WordArt 22"/>
            <p:cNvSpPr txBox="1"/>
            <p:nvPr/>
          </p:nvSpPr>
          <p:spPr>
            <a:xfrm rot="16200000">
              <a:off x="547560" y="2961000"/>
              <a:ext cx="1081080" cy="1792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5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ln w="0">
                    <a:noFill/>
                  </a:ln>
                  <a:solidFill>
                    <a:srgbClr val="ffffff"/>
                  </a:solidFill>
                  <a:latin typeface="微软雅黑"/>
                </a:rPr>
                <a:t>此处添加内容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412" name="WordArt 23"/>
            <p:cNvSpPr txBox="1"/>
            <p:nvPr/>
          </p:nvSpPr>
          <p:spPr>
            <a:xfrm>
              <a:off x="1999800" y="4467240"/>
              <a:ext cx="1076400" cy="1800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ln w="0">
                    <a:noFill/>
                  </a:ln>
                  <a:solidFill>
                    <a:srgbClr val="ffffff"/>
                  </a:solidFill>
                  <a:latin typeface="微软雅黑"/>
                </a:rPr>
                <a:t>此处添加内容</a:t>
              </a:r>
              <a:endParaRPr b="1" lang="en-US" sz="1400" spc="-1" strike="noStrike">
                <a:ln w="0">
                  <a:noFill/>
                </a:ln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</p:grpSp>
      <p:sp>
        <p:nvSpPr>
          <p:cNvPr id="1413" name="Text Box 39"/>
          <p:cNvSpPr/>
          <p:nvPr/>
        </p:nvSpPr>
        <p:spPr>
          <a:xfrm>
            <a:off x="4840200" y="1927080"/>
            <a:ext cx="333864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内容文字点击添加内容文字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Text Box 39"/>
          <p:cNvSpPr/>
          <p:nvPr/>
        </p:nvSpPr>
        <p:spPr>
          <a:xfrm>
            <a:off x="4840200" y="2224080"/>
            <a:ext cx="333864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内容文字点击添加内容文字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Text Box 39"/>
          <p:cNvSpPr/>
          <p:nvPr/>
        </p:nvSpPr>
        <p:spPr>
          <a:xfrm>
            <a:off x="4859280" y="2603520"/>
            <a:ext cx="333864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内容文字点击添加内容文字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Text Box 39"/>
          <p:cNvSpPr/>
          <p:nvPr/>
        </p:nvSpPr>
        <p:spPr>
          <a:xfrm>
            <a:off x="4859280" y="2900520"/>
            <a:ext cx="333864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内容文字点击添加内容文字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Text Box 39"/>
          <p:cNvSpPr/>
          <p:nvPr/>
        </p:nvSpPr>
        <p:spPr>
          <a:xfrm>
            <a:off x="4859280" y="3324240"/>
            <a:ext cx="333864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内容文字点击添加内容文字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Text Box 39"/>
          <p:cNvSpPr/>
          <p:nvPr/>
        </p:nvSpPr>
        <p:spPr>
          <a:xfrm>
            <a:off x="4859280" y="3621240"/>
            <a:ext cx="333864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内容文字点击添加内容文字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  <p:timing>
    <p:tnLst>
      <p:par>
        <p:cTn id="1202" dur="indefinite" restart="never" nodeType="tmRoot">
          <p:childTnLst>
            <p:seq>
              <p:cTn id="1203" dur="indefinite" nodeType="mainSeq">
                <p:childTnLst>
                  <p:par>
                    <p:cTn id="1204" fill="hold">
                      <p:stCondLst>
                        <p:cond delay="0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8" dur="5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5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1" dur="indefinite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3" dur="200" fill="hold"/>
                                        <p:tgtEl>
                                          <p:spTgt spid="1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200" fill="hold"/>
                                        <p:tgtEl>
                                          <p:spTgt spid="1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5" fill="hold">
                            <p:stCondLst>
                              <p:cond delay="700"/>
                            </p:stCondLst>
                            <p:childTnLst>
                              <p:par>
                                <p:cTn id="1216" dur="indefinite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8" dur="200" fill="hold"/>
                                        <p:tgtEl>
                                          <p:spTgt spid="1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200" fill="hold"/>
                                        <p:tgtEl>
                                          <p:spTgt spid="1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0" fill="hold">
                            <p:stCondLst>
                              <p:cond delay="900"/>
                            </p:stCondLst>
                            <p:childTnLst>
                              <p:par>
                                <p:cTn id="1221" dur="indefinite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3" dur="2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2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fill="hold">
                            <p:stCondLst>
                              <p:cond delay="1100"/>
                            </p:stCondLst>
                            <p:childTnLst>
                              <p:par>
                                <p:cTn id="1226" dur="indefinite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8" dur="200" fill="hold"/>
                                        <p:tgtEl>
                                          <p:spTgt spid="1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200" fill="hold"/>
                                        <p:tgtEl>
                                          <p:spTgt spid="1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fill="hold">
                            <p:stCondLst>
                              <p:cond delay="1300"/>
                            </p:stCondLst>
                            <p:childTnLst>
                              <p:par>
                                <p:cTn id="1231" dur="indefinite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3" dur="2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2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5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6" dur="indefinite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8" dur="2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2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直接连接符 1"/>
          <p:cNvSpPr/>
          <p:nvPr/>
        </p:nvSpPr>
        <p:spPr>
          <a:xfrm>
            <a:off x="3211560" y="4297320"/>
            <a:ext cx="2728800" cy="365040"/>
          </a:xfrm>
          <a:prstGeom prst="line">
            <a:avLst/>
          </a:prstGeom>
          <a:ln w="19080">
            <a:solidFill>
              <a:srgbClr val="80808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0" name="组合 2"/>
          <p:cNvGrpSpPr/>
          <p:nvPr/>
        </p:nvGrpSpPr>
        <p:grpSpPr>
          <a:xfrm>
            <a:off x="6372360" y="2862360"/>
            <a:ext cx="2382840" cy="2492280"/>
            <a:chOff x="6372360" y="2862360"/>
            <a:chExt cx="2382840" cy="2492280"/>
          </a:xfrm>
        </p:grpSpPr>
        <p:pic>
          <p:nvPicPr>
            <p:cNvPr id="1421" name="Rectangle 3" descr=""/>
            <p:cNvPicPr/>
            <p:nvPr/>
          </p:nvPicPr>
          <p:blipFill>
            <a:blip r:embed="rId1"/>
            <a:stretch/>
          </p:blipFill>
          <p:spPr>
            <a:xfrm>
              <a:off x="6372360" y="3409920"/>
              <a:ext cx="2382840" cy="194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2" name="Rectangle 3" descr=""/>
            <p:cNvPicPr/>
            <p:nvPr/>
          </p:nvPicPr>
          <p:blipFill>
            <a:blip r:embed="rId2"/>
            <a:stretch/>
          </p:blipFill>
          <p:spPr>
            <a:xfrm>
              <a:off x="6595560" y="3390480"/>
              <a:ext cx="1930680" cy="157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3" name="Picture 28" descr="num11"/>
            <p:cNvPicPr/>
            <p:nvPr/>
          </p:nvPicPr>
          <p:blipFill>
            <a:blip r:embed="rId3"/>
            <a:stretch/>
          </p:blipFill>
          <p:spPr>
            <a:xfrm>
              <a:off x="6951240" y="2862360"/>
              <a:ext cx="918000" cy="1472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24" name="组合 6"/>
          <p:cNvGrpSpPr/>
          <p:nvPr/>
        </p:nvGrpSpPr>
        <p:grpSpPr>
          <a:xfrm>
            <a:off x="1787400" y="1057680"/>
            <a:ext cx="4324320" cy="1144080"/>
            <a:chOff x="1787400" y="1057680"/>
            <a:chExt cx="4324320" cy="1144080"/>
          </a:xfrm>
        </p:grpSpPr>
        <p:pic>
          <p:nvPicPr>
            <p:cNvPr id="1425" name="Rectangle 3" descr=""/>
            <p:cNvPicPr/>
            <p:nvPr/>
          </p:nvPicPr>
          <p:blipFill>
            <a:blip r:embed="rId4"/>
            <a:stretch/>
          </p:blipFill>
          <p:spPr>
            <a:xfrm>
              <a:off x="1787400" y="1201680"/>
              <a:ext cx="219096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6" name="Text Box 39"/>
            <p:cNvSpPr/>
            <p:nvPr/>
          </p:nvSpPr>
          <p:spPr>
            <a:xfrm rot="19731600">
              <a:off x="2164320" y="1421280"/>
              <a:ext cx="14936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27" name="Text Box 39" descr=""/>
            <p:cNvPicPr/>
            <p:nvPr/>
          </p:nvPicPr>
          <p:blipFill>
            <a:blip r:embed="rId5"/>
            <a:stretch/>
          </p:blipFill>
          <p:spPr>
            <a:xfrm>
              <a:off x="3754440" y="1352520"/>
              <a:ext cx="2357280" cy="20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8" name="Text Box 39" descr=""/>
            <p:cNvPicPr/>
            <p:nvPr/>
          </p:nvPicPr>
          <p:blipFill>
            <a:blip r:embed="rId6"/>
            <a:stretch/>
          </p:blipFill>
          <p:spPr>
            <a:xfrm>
              <a:off x="3754440" y="1544040"/>
              <a:ext cx="2357280" cy="203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29" name="直接连接符 11"/>
          <p:cNvSpPr/>
          <p:nvPr/>
        </p:nvSpPr>
        <p:spPr>
          <a:xfrm flipH="1">
            <a:off x="3371760" y="3228840"/>
            <a:ext cx="1278000" cy="193680"/>
          </a:xfrm>
          <a:prstGeom prst="line">
            <a:avLst/>
          </a:prstGeom>
          <a:ln w="19080">
            <a:solidFill>
              <a:srgbClr val="80808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直接连接符 12"/>
          <p:cNvSpPr/>
          <p:nvPr/>
        </p:nvSpPr>
        <p:spPr>
          <a:xfrm>
            <a:off x="3211560" y="2022480"/>
            <a:ext cx="1795320" cy="617400"/>
          </a:xfrm>
          <a:prstGeom prst="line">
            <a:avLst/>
          </a:prstGeom>
          <a:ln w="19080">
            <a:solidFill>
              <a:srgbClr val="80808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1" name="组合 13"/>
          <p:cNvGrpSpPr/>
          <p:nvPr/>
        </p:nvGrpSpPr>
        <p:grpSpPr>
          <a:xfrm>
            <a:off x="1892160" y="2152440"/>
            <a:ext cx="4502160" cy="1352880"/>
            <a:chOff x="1892160" y="2152440"/>
            <a:chExt cx="4502160" cy="1352880"/>
          </a:xfrm>
        </p:grpSpPr>
        <p:pic>
          <p:nvPicPr>
            <p:cNvPr id="1432" name="Rectangle 3" descr=""/>
            <p:cNvPicPr/>
            <p:nvPr/>
          </p:nvPicPr>
          <p:blipFill>
            <a:blip r:embed="rId7"/>
            <a:stretch/>
          </p:blipFill>
          <p:spPr>
            <a:xfrm>
              <a:off x="3898080" y="2214720"/>
              <a:ext cx="2496240" cy="12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3" name="Text Box 39"/>
            <p:cNvSpPr/>
            <p:nvPr/>
          </p:nvSpPr>
          <p:spPr>
            <a:xfrm rot="19731600">
              <a:off x="4406040" y="2493720"/>
              <a:ext cx="142812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34" name="Text Box 39" descr=""/>
            <p:cNvPicPr/>
            <p:nvPr/>
          </p:nvPicPr>
          <p:blipFill>
            <a:blip r:embed="rId8"/>
            <a:stretch/>
          </p:blipFill>
          <p:spPr>
            <a:xfrm>
              <a:off x="1892160" y="2414880"/>
              <a:ext cx="2253600" cy="22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5" name="Text Box 39" descr=""/>
            <p:cNvPicPr/>
            <p:nvPr/>
          </p:nvPicPr>
          <p:blipFill>
            <a:blip r:embed="rId9"/>
            <a:stretch/>
          </p:blipFill>
          <p:spPr>
            <a:xfrm>
              <a:off x="1892160" y="2622240"/>
              <a:ext cx="2253600" cy="220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6" name="组合 18"/>
          <p:cNvGrpSpPr/>
          <p:nvPr/>
        </p:nvGrpSpPr>
        <p:grpSpPr>
          <a:xfrm>
            <a:off x="246240" y="3029040"/>
            <a:ext cx="3222360" cy="2325600"/>
            <a:chOff x="246240" y="3029040"/>
            <a:chExt cx="3222360" cy="2325600"/>
          </a:xfrm>
        </p:grpSpPr>
        <p:pic>
          <p:nvPicPr>
            <p:cNvPr id="1437" name="Rectangle 3" descr=""/>
            <p:cNvPicPr/>
            <p:nvPr/>
          </p:nvPicPr>
          <p:blipFill>
            <a:blip r:embed="rId10"/>
            <a:stretch/>
          </p:blipFill>
          <p:spPr>
            <a:xfrm>
              <a:off x="752040" y="3029040"/>
              <a:ext cx="2716560" cy="192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8" name="Text Box 39"/>
            <p:cNvSpPr/>
            <p:nvPr/>
          </p:nvSpPr>
          <p:spPr>
            <a:xfrm rot="19731600">
              <a:off x="1462680" y="3586680"/>
              <a:ext cx="134532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39" name="Text Box 39" descr=""/>
            <p:cNvPicPr/>
            <p:nvPr/>
          </p:nvPicPr>
          <p:blipFill>
            <a:blip r:embed="rId11"/>
            <a:stretch/>
          </p:blipFill>
          <p:spPr>
            <a:xfrm>
              <a:off x="246240" y="4803840"/>
              <a:ext cx="2122920" cy="28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0" name="Text Box 39" descr=""/>
            <p:cNvPicPr/>
            <p:nvPr/>
          </p:nvPicPr>
          <p:blipFill>
            <a:blip r:embed="rId12"/>
            <a:stretch/>
          </p:blipFill>
          <p:spPr>
            <a:xfrm>
              <a:off x="246240" y="5070960"/>
              <a:ext cx="2122920" cy="2836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 advTm="5000">
    <p:fade/>
  </p:transition>
  <p:timing>
    <p:tnLst>
      <p:par>
        <p:cTn id="1240" dur="indefinite" restart="never" nodeType="tmRoot">
          <p:childTnLst>
            <p:seq>
              <p:cTn id="1241" dur="indefinite" nodeType="mainSeq">
                <p:childTnLst>
                  <p:par>
                    <p:cTn id="1242" fill="hold">
                      <p:stCondLst>
                        <p:cond delay="0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1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1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8" fill="hold">
                            <p:stCondLst>
                              <p:cond delay="500"/>
                            </p:stCondLst>
                            <p:childTnLst>
                              <p:par>
                                <p:cTn id="124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1" dur="500"/>
                                        <p:tgtEl>
                                          <p:spTgt spid="1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3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5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0" dur="500"/>
                                        <p:tgtEl>
                                          <p:spTgt spid="1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2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1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1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fill="hold">
                            <p:stCondLst>
                              <p:cond delay="2500"/>
                            </p:stCondLst>
                            <p:childTnLst>
                              <p:par>
                                <p:cTn id="126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9" dur="5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3" dur="500" fill="hold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500" fill="hold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1" name="组合 1"/>
          <p:cNvGrpSpPr/>
          <p:nvPr/>
        </p:nvGrpSpPr>
        <p:grpSpPr>
          <a:xfrm>
            <a:off x="228600" y="1195560"/>
            <a:ext cx="8763120" cy="4541400"/>
            <a:chOff x="228600" y="1195560"/>
            <a:chExt cx="8763120" cy="4541400"/>
          </a:xfrm>
        </p:grpSpPr>
        <p:grpSp>
          <p:nvGrpSpPr>
            <p:cNvPr id="1442" name="Group 2"/>
            <p:cNvGrpSpPr/>
            <p:nvPr/>
          </p:nvGrpSpPr>
          <p:grpSpPr>
            <a:xfrm>
              <a:off x="1295280" y="3614760"/>
              <a:ext cx="898560" cy="895320"/>
              <a:chOff x="1295280" y="3614760"/>
              <a:chExt cx="898560" cy="895320"/>
            </a:xfrm>
          </p:grpSpPr>
          <p:sp>
            <p:nvSpPr>
              <p:cNvPr id="1443" name="Oval 5"/>
              <p:cNvSpPr/>
              <p:nvPr/>
            </p:nvSpPr>
            <p:spPr>
              <a:xfrm>
                <a:off x="1295280" y="3614760"/>
                <a:ext cx="898560" cy="895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18900000"/>
              </a:gra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1c1c1c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44" name="Group 4"/>
              <p:cNvGrpSpPr/>
              <p:nvPr/>
            </p:nvGrpSpPr>
            <p:grpSpPr>
              <a:xfrm>
                <a:off x="1370160" y="3639240"/>
                <a:ext cx="749160" cy="243360"/>
                <a:chOff x="1370160" y="3639240"/>
                <a:chExt cx="749160" cy="243360"/>
              </a:xfrm>
            </p:grpSpPr>
            <p:sp>
              <p:nvSpPr>
                <p:cNvPr id="1445" name="Freeform 7"/>
                <p:cNvSpPr/>
                <p:nvPr/>
              </p:nvSpPr>
              <p:spPr>
                <a:xfrm>
                  <a:off x="1370160" y="3639240"/>
                  <a:ext cx="749160" cy="243360"/>
                </a:xfrm>
                <a:custGeom>
                  <a:avLst/>
                  <a:gdLst/>
                  <a:ahLst/>
                  <a:rect l="l" t="t" r="r" b="b"/>
                  <a:pathLst>
                    <a:path w="4756" h="1576">
                      <a:moveTo>
                        <a:pt x="0" y="1576"/>
                      </a:moveTo>
                      <a:lnTo>
                        <a:pt x="0" y="1576"/>
                      </a:lnTo>
                      <a:lnTo>
                        <a:pt x="24" y="1518"/>
                      </a:lnTo>
                      <a:lnTo>
                        <a:pt x="50" y="1462"/>
                      </a:lnTo>
                      <a:lnTo>
                        <a:pt x="78" y="1406"/>
                      </a:lnTo>
                      <a:lnTo>
                        <a:pt x="108" y="1350"/>
                      </a:lnTo>
                      <a:lnTo>
                        <a:pt x="138" y="1296"/>
                      </a:lnTo>
                      <a:lnTo>
                        <a:pt x="170" y="1242"/>
                      </a:lnTo>
                      <a:lnTo>
                        <a:pt x="204" y="1190"/>
                      </a:lnTo>
                      <a:lnTo>
                        <a:pt x="238" y="1138"/>
                      </a:lnTo>
                      <a:lnTo>
                        <a:pt x="272" y="1086"/>
                      </a:lnTo>
                      <a:lnTo>
                        <a:pt x="310" y="1036"/>
                      </a:lnTo>
                      <a:lnTo>
                        <a:pt x="348" y="988"/>
                      </a:lnTo>
                      <a:lnTo>
                        <a:pt x="386" y="940"/>
                      </a:lnTo>
                      <a:lnTo>
                        <a:pt x="426" y="892"/>
                      </a:lnTo>
                      <a:lnTo>
                        <a:pt x="468" y="846"/>
                      </a:lnTo>
                      <a:lnTo>
                        <a:pt x="510" y="800"/>
                      </a:lnTo>
                      <a:lnTo>
                        <a:pt x="552" y="756"/>
                      </a:lnTo>
                      <a:lnTo>
                        <a:pt x="596" y="712"/>
                      </a:lnTo>
                      <a:lnTo>
                        <a:pt x="642" y="670"/>
                      </a:lnTo>
                      <a:lnTo>
                        <a:pt x="688" y="630"/>
                      </a:lnTo>
                      <a:lnTo>
                        <a:pt x="736" y="590"/>
                      </a:lnTo>
                      <a:lnTo>
                        <a:pt x="784" y="550"/>
                      </a:lnTo>
                      <a:lnTo>
                        <a:pt x="834" y="512"/>
                      </a:lnTo>
                      <a:lnTo>
                        <a:pt x="884" y="476"/>
                      </a:lnTo>
                      <a:lnTo>
                        <a:pt x="934" y="440"/>
                      </a:lnTo>
                      <a:lnTo>
                        <a:pt x="986" y="406"/>
                      </a:lnTo>
                      <a:lnTo>
                        <a:pt x="1040" y="374"/>
                      </a:lnTo>
                      <a:lnTo>
                        <a:pt x="1092" y="342"/>
                      </a:lnTo>
                      <a:lnTo>
                        <a:pt x="1148" y="312"/>
                      </a:lnTo>
                      <a:lnTo>
                        <a:pt x="1202" y="282"/>
                      </a:lnTo>
                      <a:lnTo>
                        <a:pt x="1258" y="254"/>
                      </a:lnTo>
                      <a:lnTo>
                        <a:pt x="1316" y="228"/>
                      </a:lnTo>
                      <a:lnTo>
                        <a:pt x="1374" y="202"/>
                      </a:lnTo>
                      <a:lnTo>
                        <a:pt x="1432" y="178"/>
                      </a:lnTo>
                      <a:lnTo>
                        <a:pt x="1490" y="156"/>
                      </a:lnTo>
                      <a:lnTo>
                        <a:pt x="1550" y="136"/>
                      </a:lnTo>
                      <a:lnTo>
                        <a:pt x="1610" y="116"/>
                      </a:lnTo>
                      <a:lnTo>
                        <a:pt x="1672" y="98"/>
                      </a:lnTo>
                      <a:lnTo>
                        <a:pt x="1732" y="80"/>
                      </a:lnTo>
                      <a:lnTo>
                        <a:pt x="1794" y="66"/>
                      </a:lnTo>
                      <a:lnTo>
                        <a:pt x="1858" y="52"/>
                      </a:lnTo>
                      <a:lnTo>
                        <a:pt x="1922" y="40"/>
                      </a:lnTo>
                      <a:lnTo>
                        <a:pt x="1984" y="30"/>
                      </a:lnTo>
                      <a:lnTo>
                        <a:pt x="2050" y="20"/>
                      </a:lnTo>
                      <a:lnTo>
                        <a:pt x="2114" y="12"/>
                      </a:lnTo>
                      <a:lnTo>
                        <a:pt x="2180" y="8"/>
                      </a:lnTo>
                      <a:lnTo>
                        <a:pt x="2246" y="2"/>
                      </a:lnTo>
                      <a:lnTo>
                        <a:pt x="2312" y="0"/>
                      </a:lnTo>
                      <a:lnTo>
                        <a:pt x="2378" y="0"/>
                      </a:lnTo>
                      <a:lnTo>
                        <a:pt x="2444" y="0"/>
                      </a:lnTo>
                      <a:lnTo>
                        <a:pt x="2510" y="2"/>
                      </a:lnTo>
                      <a:lnTo>
                        <a:pt x="2576" y="8"/>
                      </a:lnTo>
                      <a:lnTo>
                        <a:pt x="2642" y="12"/>
                      </a:lnTo>
                      <a:lnTo>
                        <a:pt x="2706" y="20"/>
                      </a:lnTo>
                      <a:lnTo>
                        <a:pt x="2772" y="30"/>
                      </a:lnTo>
                      <a:lnTo>
                        <a:pt x="2834" y="40"/>
                      </a:lnTo>
                      <a:lnTo>
                        <a:pt x="2898" y="52"/>
                      </a:lnTo>
                      <a:lnTo>
                        <a:pt x="2962" y="66"/>
                      </a:lnTo>
                      <a:lnTo>
                        <a:pt x="3024" y="80"/>
                      </a:lnTo>
                      <a:lnTo>
                        <a:pt x="3084" y="98"/>
                      </a:lnTo>
                      <a:lnTo>
                        <a:pt x="3146" y="116"/>
                      </a:lnTo>
                      <a:lnTo>
                        <a:pt x="3206" y="136"/>
                      </a:lnTo>
                      <a:lnTo>
                        <a:pt x="3266" y="156"/>
                      </a:lnTo>
                      <a:lnTo>
                        <a:pt x="3324" y="178"/>
                      </a:lnTo>
                      <a:lnTo>
                        <a:pt x="3382" y="202"/>
                      </a:lnTo>
                      <a:lnTo>
                        <a:pt x="3440" y="228"/>
                      </a:lnTo>
                      <a:lnTo>
                        <a:pt x="3498" y="254"/>
                      </a:lnTo>
                      <a:lnTo>
                        <a:pt x="3554" y="282"/>
                      </a:lnTo>
                      <a:lnTo>
                        <a:pt x="3608" y="312"/>
                      </a:lnTo>
                      <a:lnTo>
                        <a:pt x="3664" y="342"/>
                      </a:lnTo>
                      <a:lnTo>
                        <a:pt x="3716" y="374"/>
                      </a:lnTo>
                      <a:lnTo>
                        <a:pt x="3770" y="406"/>
                      </a:lnTo>
                      <a:lnTo>
                        <a:pt x="3822" y="440"/>
                      </a:lnTo>
                      <a:lnTo>
                        <a:pt x="3872" y="476"/>
                      </a:lnTo>
                      <a:lnTo>
                        <a:pt x="3922" y="512"/>
                      </a:lnTo>
                      <a:lnTo>
                        <a:pt x="3972" y="550"/>
                      </a:lnTo>
                      <a:lnTo>
                        <a:pt x="4020" y="590"/>
                      </a:lnTo>
                      <a:lnTo>
                        <a:pt x="4068" y="630"/>
                      </a:lnTo>
                      <a:lnTo>
                        <a:pt x="4114" y="670"/>
                      </a:lnTo>
                      <a:lnTo>
                        <a:pt x="4160" y="712"/>
                      </a:lnTo>
                      <a:lnTo>
                        <a:pt x="4204" y="756"/>
                      </a:lnTo>
                      <a:lnTo>
                        <a:pt x="4246" y="800"/>
                      </a:lnTo>
                      <a:lnTo>
                        <a:pt x="4288" y="846"/>
                      </a:lnTo>
                      <a:lnTo>
                        <a:pt x="4330" y="892"/>
                      </a:lnTo>
                      <a:lnTo>
                        <a:pt x="4370" y="940"/>
                      </a:lnTo>
                      <a:lnTo>
                        <a:pt x="4410" y="988"/>
                      </a:lnTo>
                      <a:lnTo>
                        <a:pt x="4446" y="1036"/>
                      </a:lnTo>
                      <a:lnTo>
                        <a:pt x="4484" y="1086"/>
                      </a:lnTo>
                      <a:lnTo>
                        <a:pt x="4518" y="1138"/>
                      </a:lnTo>
                      <a:lnTo>
                        <a:pt x="4552" y="1190"/>
                      </a:lnTo>
                      <a:lnTo>
                        <a:pt x="4586" y="1242"/>
                      </a:lnTo>
                      <a:lnTo>
                        <a:pt x="4618" y="1296"/>
                      </a:lnTo>
                      <a:lnTo>
                        <a:pt x="4648" y="1350"/>
                      </a:lnTo>
                      <a:lnTo>
                        <a:pt x="4678" y="1406"/>
                      </a:lnTo>
                      <a:lnTo>
                        <a:pt x="4706" y="1462"/>
                      </a:lnTo>
                      <a:lnTo>
                        <a:pt x="4732" y="1518"/>
                      </a:lnTo>
                      <a:lnTo>
                        <a:pt x="4756" y="1576"/>
                      </a:lnTo>
                      <a:lnTo>
                        <a:pt x="0" y="157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>
                        <a:alpha val="75294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6" name="Oval 8"/>
                <p:cNvSpPr/>
                <p:nvPr/>
              </p:nvSpPr>
              <p:spPr>
                <a:xfrm>
                  <a:off x="1650960" y="3639240"/>
                  <a:ext cx="187200" cy="168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7abf5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47" name="Group 7"/>
            <p:cNvGrpSpPr/>
            <p:nvPr/>
          </p:nvGrpSpPr>
          <p:grpSpPr>
            <a:xfrm>
              <a:off x="2228760" y="2719440"/>
              <a:ext cx="898560" cy="895320"/>
              <a:chOff x="2228760" y="2719440"/>
              <a:chExt cx="898560" cy="895320"/>
            </a:xfrm>
          </p:grpSpPr>
          <p:sp>
            <p:nvSpPr>
              <p:cNvPr id="1448" name="Oval 10"/>
              <p:cNvSpPr/>
              <p:nvPr/>
            </p:nvSpPr>
            <p:spPr>
              <a:xfrm>
                <a:off x="2228760" y="2719440"/>
                <a:ext cx="898560" cy="895320"/>
              </a:xfrm>
              <a:prstGeom prst="ellipse">
                <a:avLst/>
              </a:prstGeom>
              <a:gradFill rotWithShape="0">
                <a:gsLst>
                  <a:gs pos="0">
                    <a:srgbClr val="f7f7f7"/>
                  </a:gs>
                  <a:gs pos="100000">
                    <a:srgbClr val="dddddd"/>
                  </a:gs>
                </a:gsLst>
                <a:lin ang="18900000"/>
              </a:gra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1c1c1c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49" name="Group 9"/>
              <p:cNvGrpSpPr/>
              <p:nvPr/>
            </p:nvGrpSpPr>
            <p:grpSpPr>
              <a:xfrm>
                <a:off x="2303640" y="2743920"/>
                <a:ext cx="749160" cy="243360"/>
                <a:chOff x="2303640" y="2743920"/>
                <a:chExt cx="749160" cy="243360"/>
              </a:xfrm>
            </p:grpSpPr>
            <p:sp>
              <p:nvSpPr>
                <p:cNvPr id="1450" name="Freeform 12"/>
                <p:cNvSpPr/>
                <p:nvPr/>
              </p:nvSpPr>
              <p:spPr>
                <a:xfrm>
                  <a:off x="2303640" y="2743920"/>
                  <a:ext cx="749160" cy="243360"/>
                </a:xfrm>
                <a:custGeom>
                  <a:avLst/>
                  <a:gdLst/>
                  <a:ahLst/>
                  <a:rect l="l" t="t" r="r" b="b"/>
                  <a:pathLst>
                    <a:path w="4756" h="1576">
                      <a:moveTo>
                        <a:pt x="0" y="1576"/>
                      </a:moveTo>
                      <a:lnTo>
                        <a:pt x="0" y="1576"/>
                      </a:lnTo>
                      <a:lnTo>
                        <a:pt x="24" y="1518"/>
                      </a:lnTo>
                      <a:lnTo>
                        <a:pt x="50" y="1462"/>
                      </a:lnTo>
                      <a:lnTo>
                        <a:pt x="78" y="1406"/>
                      </a:lnTo>
                      <a:lnTo>
                        <a:pt x="108" y="1350"/>
                      </a:lnTo>
                      <a:lnTo>
                        <a:pt x="138" y="1296"/>
                      </a:lnTo>
                      <a:lnTo>
                        <a:pt x="170" y="1242"/>
                      </a:lnTo>
                      <a:lnTo>
                        <a:pt x="204" y="1190"/>
                      </a:lnTo>
                      <a:lnTo>
                        <a:pt x="238" y="1138"/>
                      </a:lnTo>
                      <a:lnTo>
                        <a:pt x="272" y="1086"/>
                      </a:lnTo>
                      <a:lnTo>
                        <a:pt x="310" y="1036"/>
                      </a:lnTo>
                      <a:lnTo>
                        <a:pt x="348" y="988"/>
                      </a:lnTo>
                      <a:lnTo>
                        <a:pt x="386" y="940"/>
                      </a:lnTo>
                      <a:lnTo>
                        <a:pt x="426" y="892"/>
                      </a:lnTo>
                      <a:lnTo>
                        <a:pt x="468" y="846"/>
                      </a:lnTo>
                      <a:lnTo>
                        <a:pt x="510" y="800"/>
                      </a:lnTo>
                      <a:lnTo>
                        <a:pt x="552" y="756"/>
                      </a:lnTo>
                      <a:lnTo>
                        <a:pt x="596" y="712"/>
                      </a:lnTo>
                      <a:lnTo>
                        <a:pt x="642" y="670"/>
                      </a:lnTo>
                      <a:lnTo>
                        <a:pt x="688" y="630"/>
                      </a:lnTo>
                      <a:lnTo>
                        <a:pt x="736" y="590"/>
                      </a:lnTo>
                      <a:lnTo>
                        <a:pt x="784" y="550"/>
                      </a:lnTo>
                      <a:lnTo>
                        <a:pt x="834" y="512"/>
                      </a:lnTo>
                      <a:lnTo>
                        <a:pt x="884" y="476"/>
                      </a:lnTo>
                      <a:lnTo>
                        <a:pt x="934" y="440"/>
                      </a:lnTo>
                      <a:lnTo>
                        <a:pt x="986" y="406"/>
                      </a:lnTo>
                      <a:lnTo>
                        <a:pt x="1040" y="374"/>
                      </a:lnTo>
                      <a:lnTo>
                        <a:pt x="1092" y="342"/>
                      </a:lnTo>
                      <a:lnTo>
                        <a:pt x="1148" y="312"/>
                      </a:lnTo>
                      <a:lnTo>
                        <a:pt x="1202" y="282"/>
                      </a:lnTo>
                      <a:lnTo>
                        <a:pt x="1258" y="254"/>
                      </a:lnTo>
                      <a:lnTo>
                        <a:pt x="1316" y="228"/>
                      </a:lnTo>
                      <a:lnTo>
                        <a:pt x="1374" y="202"/>
                      </a:lnTo>
                      <a:lnTo>
                        <a:pt x="1432" y="178"/>
                      </a:lnTo>
                      <a:lnTo>
                        <a:pt x="1490" y="156"/>
                      </a:lnTo>
                      <a:lnTo>
                        <a:pt x="1550" y="136"/>
                      </a:lnTo>
                      <a:lnTo>
                        <a:pt x="1610" y="116"/>
                      </a:lnTo>
                      <a:lnTo>
                        <a:pt x="1672" y="98"/>
                      </a:lnTo>
                      <a:lnTo>
                        <a:pt x="1732" y="80"/>
                      </a:lnTo>
                      <a:lnTo>
                        <a:pt x="1794" y="66"/>
                      </a:lnTo>
                      <a:lnTo>
                        <a:pt x="1858" y="52"/>
                      </a:lnTo>
                      <a:lnTo>
                        <a:pt x="1922" y="40"/>
                      </a:lnTo>
                      <a:lnTo>
                        <a:pt x="1984" y="30"/>
                      </a:lnTo>
                      <a:lnTo>
                        <a:pt x="2050" y="20"/>
                      </a:lnTo>
                      <a:lnTo>
                        <a:pt x="2114" y="12"/>
                      </a:lnTo>
                      <a:lnTo>
                        <a:pt x="2180" y="8"/>
                      </a:lnTo>
                      <a:lnTo>
                        <a:pt x="2246" y="2"/>
                      </a:lnTo>
                      <a:lnTo>
                        <a:pt x="2312" y="0"/>
                      </a:lnTo>
                      <a:lnTo>
                        <a:pt x="2378" y="0"/>
                      </a:lnTo>
                      <a:lnTo>
                        <a:pt x="2444" y="0"/>
                      </a:lnTo>
                      <a:lnTo>
                        <a:pt x="2510" y="2"/>
                      </a:lnTo>
                      <a:lnTo>
                        <a:pt x="2576" y="8"/>
                      </a:lnTo>
                      <a:lnTo>
                        <a:pt x="2642" y="12"/>
                      </a:lnTo>
                      <a:lnTo>
                        <a:pt x="2706" y="20"/>
                      </a:lnTo>
                      <a:lnTo>
                        <a:pt x="2772" y="30"/>
                      </a:lnTo>
                      <a:lnTo>
                        <a:pt x="2834" y="40"/>
                      </a:lnTo>
                      <a:lnTo>
                        <a:pt x="2898" y="52"/>
                      </a:lnTo>
                      <a:lnTo>
                        <a:pt x="2962" y="66"/>
                      </a:lnTo>
                      <a:lnTo>
                        <a:pt x="3024" y="80"/>
                      </a:lnTo>
                      <a:lnTo>
                        <a:pt x="3084" y="98"/>
                      </a:lnTo>
                      <a:lnTo>
                        <a:pt x="3146" y="116"/>
                      </a:lnTo>
                      <a:lnTo>
                        <a:pt x="3206" y="136"/>
                      </a:lnTo>
                      <a:lnTo>
                        <a:pt x="3266" y="156"/>
                      </a:lnTo>
                      <a:lnTo>
                        <a:pt x="3324" y="178"/>
                      </a:lnTo>
                      <a:lnTo>
                        <a:pt x="3382" y="202"/>
                      </a:lnTo>
                      <a:lnTo>
                        <a:pt x="3440" y="228"/>
                      </a:lnTo>
                      <a:lnTo>
                        <a:pt x="3498" y="254"/>
                      </a:lnTo>
                      <a:lnTo>
                        <a:pt x="3554" y="282"/>
                      </a:lnTo>
                      <a:lnTo>
                        <a:pt x="3608" y="312"/>
                      </a:lnTo>
                      <a:lnTo>
                        <a:pt x="3664" y="342"/>
                      </a:lnTo>
                      <a:lnTo>
                        <a:pt x="3716" y="374"/>
                      </a:lnTo>
                      <a:lnTo>
                        <a:pt x="3770" y="406"/>
                      </a:lnTo>
                      <a:lnTo>
                        <a:pt x="3822" y="440"/>
                      </a:lnTo>
                      <a:lnTo>
                        <a:pt x="3872" y="476"/>
                      </a:lnTo>
                      <a:lnTo>
                        <a:pt x="3922" y="512"/>
                      </a:lnTo>
                      <a:lnTo>
                        <a:pt x="3972" y="550"/>
                      </a:lnTo>
                      <a:lnTo>
                        <a:pt x="4020" y="590"/>
                      </a:lnTo>
                      <a:lnTo>
                        <a:pt x="4068" y="630"/>
                      </a:lnTo>
                      <a:lnTo>
                        <a:pt x="4114" y="670"/>
                      </a:lnTo>
                      <a:lnTo>
                        <a:pt x="4160" y="712"/>
                      </a:lnTo>
                      <a:lnTo>
                        <a:pt x="4204" y="756"/>
                      </a:lnTo>
                      <a:lnTo>
                        <a:pt x="4246" y="800"/>
                      </a:lnTo>
                      <a:lnTo>
                        <a:pt x="4288" y="846"/>
                      </a:lnTo>
                      <a:lnTo>
                        <a:pt x="4330" y="892"/>
                      </a:lnTo>
                      <a:lnTo>
                        <a:pt x="4370" y="940"/>
                      </a:lnTo>
                      <a:lnTo>
                        <a:pt x="4410" y="988"/>
                      </a:lnTo>
                      <a:lnTo>
                        <a:pt x="4446" y="1036"/>
                      </a:lnTo>
                      <a:lnTo>
                        <a:pt x="4484" y="1086"/>
                      </a:lnTo>
                      <a:lnTo>
                        <a:pt x="4518" y="1138"/>
                      </a:lnTo>
                      <a:lnTo>
                        <a:pt x="4552" y="1190"/>
                      </a:lnTo>
                      <a:lnTo>
                        <a:pt x="4586" y="1242"/>
                      </a:lnTo>
                      <a:lnTo>
                        <a:pt x="4618" y="1296"/>
                      </a:lnTo>
                      <a:lnTo>
                        <a:pt x="4648" y="1350"/>
                      </a:lnTo>
                      <a:lnTo>
                        <a:pt x="4678" y="1406"/>
                      </a:lnTo>
                      <a:lnTo>
                        <a:pt x="4706" y="1462"/>
                      </a:lnTo>
                      <a:lnTo>
                        <a:pt x="4732" y="1518"/>
                      </a:lnTo>
                      <a:lnTo>
                        <a:pt x="4756" y="1576"/>
                      </a:lnTo>
                      <a:lnTo>
                        <a:pt x="0" y="157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>
                        <a:alpha val="75294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1" name="Oval 13"/>
                <p:cNvSpPr/>
                <p:nvPr/>
              </p:nvSpPr>
              <p:spPr>
                <a:xfrm>
                  <a:off x="2584440" y="2743920"/>
                  <a:ext cx="187200" cy="168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7abf5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52" name="Group 12"/>
            <p:cNvGrpSpPr/>
            <p:nvPr/>
          </p:nvGrpSpPr>
          <p:grpSpPr>
            <a:xfrm>
              <a:off x="5940720" y="2692440"/>
              <a:ext cx="898560" cy="895320"/>
              <a:chOff x="5940720" y="2692440"/>
              <a:chExt cx="898560" cy="895320"/>
            </a:xfrm>
          </p:grpSpPr>
          <p:sp>
            <p:nvSpPr>
              <p:cNvPr id="1453" name="Oval 15"/>
              <p:cNvSpPr/>
              <p:nvPr/>
            </p:nvSpPr>
            <p:spPr>
              <a:xfrm>
                <a:off x="5940720" y="2692440"/>
                <a:ext cx="898560" cy="89532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cc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5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4" name="Group 14"/>
              <p:cNvGrpSpPr/>
              <p:nvPr/>
            </p:nvGrpSpPr>
            <p:grpSpPr>
              <a:xfrm>
                <a:off x="6015600" y="2716920"/>
                <a:ext cx="749160" cy="243360"/>
                <a:chOff x="6015600" y="2716920"/>
                <a:chExt cx="749160" cy="243360"/>
              </a:xfrm>
            </p:grpSpPr>
            <p:sp>
              <p:nvSpPr>
                <p:cNvPr id="1455" name="Freeform 17"/>
                <p:cNvSpPr/>
                <p:nvPr/>
              </p:nvSpPr>
              <p:spPr>
                <a:xfrm>
                  <a:off x="6015600" y="2716920"/>
                  <a:ext cx="749160" cy="243360"/>
                </a:xfrm>
                <a:custGeom>
                  <a:avLst/>
                  <a:gdLst/>
                  <a:ahLst/>
                  <a:rect l="l" t="t" r="r" b="b"/>
                  <a:pathLst>
                    <a:path w="4756" h="1576">
                      <a:moveTo>
                        <a:pt x="0" y="1576"/>
                      </a:moveTo>
                      <a:lnTo>
                        <a:pt x="0" y="1576"/>
                      </a:lnTo>
                      <a:lnTo>
                        <a:pt x="24" y="1518"/>
                      </a:lnTo>
                      <a:lnTo>
                        <a:pt x="50" y="1462"/>
                      </a:lnTo>
                      <a:lnTo>
                        <a:pt x="78" y="1406"/>
                      </a:lnTo>
                      <a:lnTo>
                        <a:pt x="108" y="1350"/>
                      </a:lnTo>
                      <a:lnTo>
                        <a:pt x="138" y="1296"/>
                      </a:lnTo>
                      <a:lnTo>
                        <a:pt x="170" y="1242"/>
                      </a:lnTo>
                      <a:lnTo>
                        <a:pt x="204" y="1190"/>
                      </a:lnTo>
                      <a:lnTo>
                        <a:pt x="238" y="1138"/>
                      </a:lnTo>
                      <a:lnTo>
                        <a:pt x="272" y="1086"/>
                      </a:lnTo>
                      <a:lnTo>
                        <a:pt x="310" y="1036"/>
                      </a:lnTo>
                      <a:lnTo>
                        <a:pt x="348" y="988"/>
                      </a:lnTo>
                      <a:lnTo>
                        <a:pt x="386" y="940"/>
                      </a:lnTo>
                      <a:lnTo>
                        <a:pt x="426" y="892"/>
                      </a:lnTo>
                      <a:lnTo>
                        <a:pt x="468" y="846"/>
                      </a:lnTo>
                      <a:lnTo>
                        <a:pt x="510" y="800"/>
                      </a:lnTo>
                      <a:lnTo>
                        <a:pt x="552" y="756"/>
                      </a:lnTo>
                      <a:lnTo>
                        <a:pt x="596" y="712"/>
                      </a:lnTo>
                      <a:lnTo>
                        <a:pt x="642" y="670"/>
                      </a:lnTo>
                      <a:lnTo>
                        <a:pt x="688" y="630"/>
                      </a:lnTo>
                      <a:lnTo>
                        <a:pt x="736" y="590"/>
                      </a:lnTo>
                      <a:lnTo>
                        <a:pt x="784" y="550"/>
                      </a:lnTo>
                      <a:lnTo>
                        <a:pt x="834" y="512"/>
                      </a:lnTo>
                      <a:lnTo>
                        <a:pt x="884" y="476"/>
                      </a:lnTo>
                      <a:lnTo>
                        <a:pt x="934" y="440"/>
                      </a:lnTo>
                      <a:lnTo>
                        <a:pt x="986" y="406"/>
                      </a:lnTo>
                      <a:lnTo>
                        <a:pt x="1040" y="374"/>
                      </a:lnTo>
                      <a:lnTo>
                        <a:pt x="1092" y="342"/>
                      </a:lnTo>
                      <a:lnTo>
                        <a:pt x="1148" y="312"/>
                      </a:lnTo>
                      <a:lnTo>
                        <a:pt x="1202" y="282"/>
                      </a:lnTo>
                      <a:lnTo>
                        <a:pt x="1258" y="254"/>
                      </a:lnTo>
                      <a:lnTo>
                        <a:pt x="1316" y="228"/>
                      </a:lnTo>
                      <a:lnTo>
                        <a:pt x="1374" y="202"/>
                      </a:lnTo>
                      <a:lnTo>
                        <a:pt x="1432" y="178"/>
                      </a:lnTo>
                      <a:lnTo>
                        <a:pt x="1490" y="156"/>
                      </a:lnTo>
                      <a:lnTo>
                        <a:pt x="1550" y="136"/>
                      </a:lnTo>
                      <a:lnTo>
                        <a:pt x="1610" y="116"/>
                      </a:lnTo>
                      <a:lnTo>
                        <a:pt x="1672" y="98"/>
                      </a:lnTo>
                      <a:lnTo>
                        <a:pt x="1732" y="80"/>
                      </a:lnTo>
                      <a:lnTo>
                        <a:pt x="1794" y="66"/>
                      </a:lnTo>
                      <a:lnTo>
                        <a:pt x="1858" y="52"/>
                      </a:lnTo>
                      <a:lnTo>
                        <a:pt x="1922" y="40"/>
                      </a:lnTo>
                      <a:lnTo>
                        <a:pt x="1984" y="30"/>
                      </a:lnTo>
                      <a:lnTo>
                        <a:pt x="2050" y="20"/>
                      </a:lnTo>
                      <a:lnTo>
                        <a:pt x="2114" y="12"/>
                      </a:lnTo>
                      <a:lnTo>
                        <a:pt x="2180" y="8"/>
                      </a:lnTo>
                      <a:lnTo>
                        <a:pt x="2246" y="2"/>
                      </a:lnTo>
                      <a:lnTo>
                        <a:pt x="2312" y="0"/>
                      </a:lnTo>
                      <a:lnTo>
                        <a:pt x="2378" y="0"/>
                      </a:lnTo>
                      <a:lnTo>
                        <a:pt x="2444" y="0"/>
                      </a:lnTo>
                      <a:lnTo>
                        <a:pt x="2510" y="2"/>
                      </a:lnTo>
                      <a:lnTo>
                        <a:pt x="2576" y="8"/>
                      </a:lnTo>
                      <a:lnTo>
                        <a:pt x="2642" y="12"/>
                      </a:lnTo>
                      <a:lnTo>
                        <a:pt x="2706" y="20"/>
                      </a:lnTo>
                      <a:lnTo>
                        <a:pt x="2772" y="30"/>
                      </a:lnTo>
                      <a:lnTo>
                        <a:pt x="2834" y="40"/>
                      </a:lnTo>
                      <a:lnTo>
                        <a:pt x="2898" y="52"/>
                      </a:lnTo>
                      <a:lnTo>
                        <a:pt x="2962" y="66"/>
                      </a:lnTo>
                      <a:lnTo>
                        <a:pt x="3024" y="80"/>
                      </a:lnTo>
                      <a:lnTo>
                        <a:pt x="3084" y="98"/>
                      </a:lnTo>
                      <a:lnTo>
                        <a:pt x="3146" y="116"/>
                      </a:lnTo>
                      <a:lnTo>
                        <a:pt x="3206" y="136"/>
                      </a:lnTo>
                      <a:lnTo>
                        <a:pt x="3266" y="156"/>
                      </a:lnTo>
                      <a:lnTo>
                        <a:pt x="3324" y="178"/>
                      </a:lnTo>
                      <a:lnTo>
                        <a:pt x="3382" y="202"/>
                      </a:lnTo>
                      <a:lnTo>
                        <a:pt x="3440" y="228"/>
                      </a:lnTo>
                      <a:lnTo>
                        <a:pt x="3498" y="254"/>
                      </a:lnTo>
                      <a:lnTo>
                        <a:pt x="3554" y="282"/>
                      </a:lnTo>
                      <a:lnTo>
                        <a:pt x="3608" y="312"/>
                      </a:lnTo>
                      <a:lnTo>
                        <a:pt x="3664" y="342"/>
                      </a:lnTo>
                      <a:lnTo>
                        <a:pt x="3716" y="374"/>
                      </a:lnTo>
                      <a:lnTo>
                        <a:pt x="3770" y="406"/>
                      </a:lnTo>
                      <a:lnTo>
                        <a:pt x="3822" y="440"/>
                      </a:lnTo>
                      <a:lnTo>
                        <a:pt x="3872" y="476"/>
                      </a:lnTo>
                      <a:lnTo>
                        <a:pt x="3922" y="512"/>
                      </a:lnTo>
                      <a:lnTo>
                        <a:pt x="3972" y="550"/>
                      </a:lnTo>
                      <a:lnTo>
                        <a:pt x="4020" y="590"/>
                      </a:lnTo>
                      <a:lnTo>
                        <a:pt x="4068" y="630"/>
                      </a:lnTo>
                      <a:lnTo>
                        <a:pt x="4114" y="670"/>
                      </a:lnTo>
                      <a:lnTo>
                        <a:pt x="4160" y="712"/>
                      </a:lnTo>
                      <a:lnTo>
                        <a:pt x="4204" y="756"/>
                      </a:lnTo>
                      <a:lnTo>
                        <a:pt x="4246" y="800"/>
                      </a:lnTo>
                      <a:lnTo>
                        <a:pt x="4288" y="846"/>
                      </a:lnTo>
                      <a:lnTo>
                        <a:pt x="4330" y="892"/>
                      </a:lnTo>
                      <a:lnTo>
                        <a:pt x="4370" y="940"/>
                      </a:lnTo>
                      <a:lnTo>
                        <a:pt x="4410" y="988"/>
                      </a:lnTo>
                      <a:lnTo>
                        <a:pt x="4446" y="1036"/>
                      </a:lnTo>
                      <a:lnTo>
                        <a:pt x="4484" y="1086"/>
                      </a:lnTo>
                      <a:lnTo>
                        <a:pt x="4518" y="1138"/>
                      </a:lnTo>
                      <a:lnTo>
                        <a:pt x="4552" y="1190"/>
                      </a:lnTo>
                      <a:lnTo>
                        <a:pt x="4586" y="1242"/>
                      </a:lnTo>
                      <a:lnTo>
                        <a:pt x="4618" y="1296"/>
                      </a:lnTo>
                      <a:lnTo>
                        <a:pt x="4648" y="1350"/>
                      </a:lnTo>
                      <a:lnTo>
                        <a:pt x="4678" y="1406"/>
                      </a:lnTo>
                      <a:lnTo>
                        <a:pt x="4706" y="1462"/>
                      </a:lnTo>
                      <a:lnTo>
                        <a:pt x="4732" y="1518"/>
                      </a:lnTo>
                      <a:lnTo>
                        <a:pt x="4756" y="1576"/>
                      </a:lnTo>
                      <a:lnTo>
                        <a:pt x="0" y="157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>
                        <a:alpha val="75294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6" name="Oval 18"/>
                <p:cNvSpPr/>
                <p:nvPr/>
              </p:nvSpPr>
              <p:spPr>
                <a:xfrm>
                  <a:off x="6296400" y="2716920"/>
                  <a:ext cx="187200" cy="168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7abf5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57" name="Group 17"/>
            <p:cNvGrpSpPr/>
            <p:nvPr/>
          </p:nvGrpSpPr>
          <p:grpSpPr>
            <a:xfrm>
              <a:off x="3581280" y="2090880"/>
              <a:ext cx="898560" cy="895320"/>
              <a:chOff x="3581280" y="2090880"/>
              <a:chExt cx="898560" cy="895320"/>
            </a:xfrm>
          </p:grpSpPr>
          <p:sp>
            <p:nvSpPr>
              <p:cNvPr id="1458" name="Oval 20"/>
              <p:cNvSpPr/>
              <p:nvPr/>
            </p:nvSpPr>
            <p:spPr>
              <a:xfrm>
                <a:off x="3581280" y="2090880"/>
                <a:ext cx="898560" cy="89532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b2b2b2"/>
                  </a:gs>
                </a:gsLst>
                <a:lin ang="18900000"/>
              </a:gra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1c1c1c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9" name="Group 19"/>
              <p:cNvGrpSpPr/>
              <p:nvPr/>
            </p:nvGrpSpPr>
            <p:grpSpPr>
              <a:xfrm>
                <a:off x="3656160" y="2115360"/>
                <a:ext cx="749160" cy="243360"/>
                <a:chOff x="3656160" y="2115360"/>
                <a:chExt cx="749160" cy="243360"/>
              </a:xfrm>
            </p:grpSpPr>
            <p:sp>
              <p:nvSpPr>
                <p:cNvPr id="1460" name="Freeform 22"/>
                <p:cNvSpPr/>
                <p:nvPr/>
              </p:nvSpPr>
              <p:spPr>
                <a:xfrm>
                  <a:off x="3656160" y="2115360"/>
                  <a:ext cx="749160" cy="243360"/>
                </a:xfrm>
                <a:custGeom>
                  <a:avLst/>
                  <a:gdLst/>
                  <a:ahLst/>
                  <a:rect l="l" t="t" r="r" b="b"/>
                  <a:pathLst>
                    <a:path w="4756" h="1576">
                      <a:moveTo>
                        <a:pt x="0" y="1576"/>
                      </a:moveTo>
                      <a:lnTo>
                        <a:pt x="0" y="1576"/>
                      </a:lnTo>
                      <a:lnTo>
                        <a:pt x="24" y="1518"/>
                      </a:lnTo>
                      <a:lnTo>
                        <a:pt x="50" y="1462"/>
                      </a:lnTo>
                      <a:lnTo>
                        <a:pt x="78" y="1406"/>
                      </a:lnTo>
                      <a:lnTo>
                        <a:pt x="108" y="1350"/>
                      </a:lnTo>
                      <a:lnTo>
                        <a:pt x="138" y="1296"/>
                      </a:lnTo>
                      <a:lnTo>
                        <a:pt x="170" y="1242"/>
                      </a:lnTo>
                      <a:lnTo>
                        <a:pt x="204" y="1190"/>
                      </a:lnTo>
                      <a:lnTo>
                        <a:pt x="238" y="1138"/>
                      </a:lnTo>
                      <a:lnTo>
                        <a:pt x="272" y="1086"/>
                      </a:lnTo>
                      <a:lnTo>
                        <a:pt x="310" y="1036"/>
                      </a:lnTo>
                      <a:lnTo>
                        <a:pt x="348" y="988"/>
                      </a:lnTo>
                      <a:lnTo>
                        <a:pt x="386" y="940"/>
                      </a:lnTo>
                      <a:lnTo>
                        <a:pt x="426" y="892"/>
                      </a:lnTo>
                      <a:lnTo>
                        <a:pt x="468" y="846"/>
                      </a:lnTo>
                      <a:lnTo>
                        <a:pt x="510" y="800"/>
                      </a:lnTo>
                      <a:lnTo>
                        <a:pt x="552" y="756"/>
                      </a:lnTo>
                      <a:lnTo>
                        <a:pt x="596" y="712"/>
                      </a:lnTo>
                      <a:lnTo>
                        <a:pt x="642" y="670"/>
                      </a:lnTo>
                      <a:lnTo>
                        <a:pt x="688" y="630"/>
                      </a:lnTo>
                      <a:lnTo>
                        <a:pt x="736" y="590"/>
                      </a:lnTo>
                      <a:lnTo>
                        <a:pt x="784" y="550"/>
                      </a:lnTo>
                      <a:lnTo>
                        <a:pt x="834" y="512"/>
                      </a:lnTo>
                      <a:lnTo>
                        <a:pt x="884" y="476"/>
                      </a:lnTo>
                      <a:lnTo>
                        <a:pt x="934" y="440"/>
                      </a:lnTo>
                      <a:lnTo>
                        <a:pt x="986" y="406"/>
                      </a:lnTo>
                      <a:lnTo>
                        <a:pt x="1040" y="374"/>
                      </a:lnTo>
                      <a:lnTo>
                        <a:pt x="1092" y="342"/>
                      </a:lnTo>
                      <a:lnTo>
                        <a:pt x="1148" y="312"/>
                      </a:lnTo>
                      <a:lnTo>
                        <a:pt x="1202" y="282"/>
                      </a:lnTo>
                      <a:lnTo>
                        <a:pt x="1258" y="254"/>
                      </a:lnTo>
                      <a:lnTo>
                        <a:pt x="1316" y="228"/>
                      </a:lnTo>
                      <a:lnTo>
                        <a:pt x="1374" y="202"/>
                      </a:lnTo>
                      <a:lnTo>
                        <a:pt x="1432" y="178"/>
                      </a:lnTo>
                      <a:lnTo>
                        <a:pt x="1490" y="156"/>
                      </a:lnTo>
                      <a:lnTo>
                        <a:pt x="1550" y="136"/>
                      </a:lnTo>
                      <a:lnTo>
                        <a:pt x="1610" y="116"/>
                      </a:lnTo>
                      <a:lnTo>
                        <a:pt x="1672" y="98"/>
                      </a:lnTo>
                      <a:lnTo>
                        <a:pt x="1732" y="80"/>
                      </a:lnTo>
                      <a:lnTo>
                        <a:pt x="1794" y="66"/>
                      </a:lnTo>
                      <a:lnTo>
                        <a:pt x="1858" y="52"/>
                      </a:lnTo>
                      <a:lnTo>
                        <a:pt x="1922" y="40"/>
                      </a:lnTo>
                      <a:lnTo>
                        <a:pt x="1984" y="30"/>
                      </a:lnTo>
                      <a:lnTo>
                        <a:pt x="2050" y="20"/>
                      </a:lnTo>
                      <a:lnTo>
                        <a:pt x="2114" y="12"/>
                      </a:lnTo>
                      <a:lnTo>
                        <a:pt x="2180" y="8"/>
                      </a:lnTo>
                      <a:lnTo>
                        <a:pt x="2246" y="2"/>
                      </a:lnTo>
                      <a:lnTo>
                        <a:pt x="2312" y="0"/>
                      </a:lnTo>
                      <a:lnTo>
                        <a:pt x="2378" y="0"/>
                      </a:lnTo>
                      <a:lnTo>
                        <a:pt x="2444" y="0"/>
                      </a:lnTo>
                      <a:lnTo>
                        <a:pt x="2510" y="2"/>
                      </a:lnTo>
                      <a:lnTo>
                        <a:pt x="2576" y="8"/>
                      </a:lnTo>
                      <a:lnTo>
                        <a:pt x="2642" y="12"/>
                      </a:lnTo>
                      <a:lnTo>
                        <a:pt x="2706" y="20"/>
                      </a:lnTo>
                      <a:lnTo>
                        <a:pt x="2772" y="30"/>
                      </a:lnTo>
                      <a:lnTo>
                        <a:pt x="2834" y="40"/>
                      </a:lnTo>
                      <a:lnTo>
                        <a:pt x="2898" y="52"/>
                      </a:lnTo>
                      <a:lnTo>
                        <a:pt x="2962" y="66"/>
                      </a:lnTo>
                      <a:lnTo>
                        <a:pt x="3024" y="80"/>
                      </a:lnTo>
                      <a:lnTo>
                        <a:pt x="3084" y="98"/>
                      </a:lnTo>
                      <a:lnTo>
                        <a:pt x="3146" y="116"/>
                      </a:lnTo>
                      <a:lnTo>
                        <a:pt x="3206" y="136"/>
                      </a:lnTo>
                      <a:lnTo>
                        <a:pt x="3266" y="156"/>
                      </a:lnTo>
                      <a:lnTo>
                        <a:pt x="3324" y="178"/>
                      </a:lnTo>
                      <a:lnTo>
                        <a:pt x="3382" y="202"/>
                      </a:lnTo>
                      <a:lnTo>
                        <a:pt x="3440" y="228"/>
                      </a:lnTo>
                      <a:lnTo>
                        <a:pt x="3498" y="254"/>
                      </a:lnTo>
                      <a:lnTo>
                        <a:pt x="3554" y="282"/>
                      </a:lnTo>
                      <a:lnTo>
                        <a:pt x="3608" y="312"/>
                      </a:lnTo>
                      <a:lnTo>
                        <a:pt x="3664" y="342"/>
                      </a:lnTo>
                      <a:lnTo>
                        <a:pt x="3716" y="374"/>
                      </a:lnTo>
                      <a:lnTo>
                        <a:pt x="3770" y="406"/>
                      </a:lnTo>
                      <a:lnTo>
                        <a:pt x="3822" y="440"/>
                      </a:lnTo>
                      <a:lnTo>
                        <a:pt x="3872" y="476"/>
                      </a:lnTo>
                      <a:lnTo>
                        <a:pt x="3922" y="512"/>
                      </a:lnTo>
                      <a:lnTo>
                        <a:pt x="3972" y="550"/>
                      </a:lnTo>
                      <a:lnTo>
                        <a:pt x="4020" y="590"/>
                      </a:lnTo>
                      <a:lnTo>
                        <a:pt x="4068" y="630"/>
                      </a:lnTo>
                      <a:lnTo>
                        <a:pt x="4114" y="670"/>
                      </a:lnTo>
                      <a:lnTo>
                        <a:pt x="4160" y="712"/>
                      </a:lnTo>
                      <a:lnTo>
                        <a:pt x="4204" y="756"/>
                      </a:lnTo>
                      <a:lnTo>
                        <a:pt x="4246" y="800"/>
                      </a:lnTo>
                      <a:lnTo>
                        <a:pt x="4288" y="846"/>
                      </a:lnTo>
                      <a:lnTo>
                        <a:pt x="4330" y="892"/>
                      </a:lnTo>
                      <a:lnTo>
                        <a:pt x="4370" y="940"/>
                      </a:lnTo>
                      <a:lnTo>
                        <a:pt x="4410" y="988"/>
                      </a:lnTo>
                      <a:lnTo>
                        <a:pt x="4446" y="1036"/>
                      </a:lnTo>
                      <a:lnTo>
                        <a:pt x="4484" y="1086"/>
                      </a:lnTo>
                      <a:lnTo>
                        <a:pt x="4518" y="1138"/>
                      </a:lnTo>
                      <a:lnTo>
                        <a:pt x="4552" y="1190"/>
                      </a:lnTo>
                      <a:lnTo>
                        <a:pt x="4586" y="1242"/>
                      </a:lnTo>
                      <a:lnTo>
                        <a:pt x="4618" y="1296"/>
                      </a:lnTo>
                      <a:lnTo>
                        <a:pt x="4648" y="1350"/>
                      </a:lnTo>
                      <a:lnTo>
                        <a:pt x="4678" y="1406"/>
                      </a:lnTo>
                      <a:lnTo>
                        <a:pt x="4706" y="1462"/>
                      </a:lnTo>
                      <a:lnTo>
                        <a:pt x="4732" y="1518"/>
                      </a:lnTo>
                      <a:lnTo>
                        <a:pt x="4756" y="1576"/>
                      </a:lnTo>
                      <a:lnTo>
                        <a:pt x="0" y="157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>
                        <a:alpha val="75294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1" name="Oval 23"/>
                <p:cNvSpPr/>
                <p:nvPr/>
              </p:nvSpPr>
              <p:spPr>
                <a:xfrm>
                  <a:off x="3936960" y="2115360"/>
                  <a:ext cx="187200" cy="168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7abf5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62" name="Group 22"/>
            <p:cNvGrpSpPr/>
            <p:nvPr/>
          </p:nvGrpSpPr>
          <p:grpSpPr>
            <a:xfrm>
              <a:off x="4857840" y="2129040"/>
              <a:ext cx="898560" cy="895320"/>
              <a:chOff x="4857840" y="2129040"/>
              <a:chExt cx="898560" cy="895320"/>
            </a:xfrm>
          </p:grpSpPr>
          <p:sp>
            <p:nvSpPr>
              <p:cNvPr id="1463" name="Oval 25"/>
              <p:cNvSpPr/>
              <p:nvPr/>
            </p:nvSpPr>
            <p:spPr>
              <a:xfrm>
                <a:off x="4857840" y="2129040"/>
                <a:ext cx="898560" cy="89532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808080"/>
                  </a:gs>
                </a:gsLst>
                <a:lin ang="18900000"/>
              </a:gra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1c1c1c"/>
                    </a:solidFill>
                    <a:latin typeface="微软雅黑"/>
                    <a:ea typeface="微软雅黑"/>
                  </a:rPr>
                  <a:t>4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4" name="Group 24"/>
              <p:cNvGrpSpPr/>
              <p:nvPr/>
            </p:nvGrpSpPr>
            <p:grpSpPr>
              <a:xfrm>
                <a:off x="4932720" y="2153520"/>
                <a:ext cx="749160" cy="243360"/>
                <a:chOff x="4932720" y="2153520"/>
                <a:chExt cx="749160" cy="243360"/>
              </a:xfrm>
            </p:grpSpPr>
            <p:sp>
              <p:nvSpPr>
                <p:cNvPr id="1465" name="Freeform 27"/>
                <p:cNvSpPr/>
                <p:nvPr/>
              </p:nvSpPr>
              <p:spPr>
                <a:xfrm>
                  <a:off x="4932720" y="2153520"/>
                  <a:ext cx="749160" cy="243360"/>
                </a:xfrm>
                <a:custGeom>
                  <a:avLst/>
                  <a:gdLst/>
                  <a:ahLst/>
                  <a:rect l="l" t="t" r="r" b="b"/>
                  <a:pathLst>
                    <a:path w="4756" h="1576">
                      <a:moveTo>
                        <a:pt x="0" y="1576"/>
                      </a:moveTo>
                      <a:lnTo>
                        <a:pt x="0" y="1576"/>
                      </a:lnTo>
                      <a:lnTo>
                        <a:pt x="24" y="1518"/>
                      </a:lnTo>
                      <a:lnTo>
                        <a:pt x="50" y="1462"/>
                      </a:lnTo>
                      <a:lnTo>
                        <a:pt x="78" y="1406"/>
                      </a:lnTo>
                      <a:lnTo>
                        <a:pt x="108" y="1350"/>
                      </a:lnTo>
                      <a:lnTo>
                        <a:pt x="138" y="1296"/>
                      </a:lnTo>
                      <a:lnTo>
                        <a:pt x="170" y="1242"/>
                      </a:lnTo>
                      <a:lnTo>
                        <a:pt x="204" y="1190"/>
                      </a:lnTo>
                      <a:lnTo>
                        <a:pt x="238" y="1138"/>
                      </a:lnTo>
                      <a:lnTo>
                        <a:pt x="272" y="1086"/>
                      </a:lnTo>
                      <a:lnTo>
                        <a:pt x="310" y="1036"/>
                      </a:lnTo>
                      <a:lnTo>
                        <a:pt x="348" y="988"/>
                      </a:lnTo>
                      <a:lnTo>
                        <a:pt x="386" y="940"/>
                      </a:lnTo>
                      <a:lnTo>
                        <a:pt x="426" y="892"/>
                      </a:lnTo>
                      <a:lnTo>
                        <a:pt x="468" y="846"/>
                      </a:lnTo>
                      <a:lnTo>
                        <a:pt x="510" y="800"/>
                      </a:lnTo>
                      <a:lnTo>
                        <a:pt x="552" y="756"/>
                      </a:lnTo>
                      <a:lnTo>
                        <a:pt x="596" y="712"/>
                      </a:lnTo>
                      <a:lnTo>
                        <a:pt x="642" y="670"/>
                      </a:lnTo>
                      <a:lnTo>
                        <a:pt x="688" y="630"/>
                      </a:lnTo>
                      <a:lnTo>
                        <a:pt x="736" y="590"/>
                      </a:lnTo>
                      <a:lnTo>
                        <a:pt x="784" y="550"/>
                      </a:lnTo>
                      <a:lnTo>
                        <a:pt x="834" y="512"/>
                      </a:lnTo>
                      <a:lnTo>
                        <a:pt x="884" y="476"/>
                      </a:lnTo>
                      <a:lnTo>
                        <a:pt x="934" y="440"/>
                      </a:lnTo>
                      <a:lnTo>
                        <a:pt x="986" y="406"/>
                      </a:lnTo>
                      <a:lnTo>
                        <a:pt x="1040" y="374"/>
                      </a:lnTo>
                      <a:lnTo>
                        <a:pt x="1092" y="342"/>
                      </a:lnTo>
                      <a:lnTo>
                        <a:pt x="1148" y="312"/>
                      </a:lnTo>
                      <a:lnTo>
                        <a:pt x="1202" y="282"/>
                      </a:lnTo>
                      <a:lnTo>
                        <a:pt x="1258" y="254"/>
                      </a:lnTo>
                      <a:lnTo>
                        <a:pt x="1316" y="228"/>
                      </a:lnTo>
                      <a:lnTo>
                        <a:pt x="1374" y="202"/>
                      </a:lnTo>
                      <a:lnTo>
                        <a:pt x="1432" y="178"/>
                      </a:lnTo>
                      <a:lnTo>
                        <a:pt x="1490" y="156"/>
                      </a:lnTo>
                      <a:lnTo>
                        <a:pt x="1550" y="136"/>
                      </a:lnTo>
                      <a:lnTo>
                        <a:pt x="1610" y="116"/>
                      </a:lnTo>
                      <a:lnTo>
                        <a:pt x="1672" y="98"/>
                      </a:lnTo>
                      <a:lnTo>
                        <a:pt x="1732" y="80"/>
                      </a:lnTo>
                      <a:lnTo>
                        <a:pt x="1794" y="66"/>
                      </a:lnTo>
                      <a:lnTo>
                        <a:pt x="1858" y="52"/>
                      </a:lnTo>
                      <a:lnTo>
                        <a:pt x="1922" y="40"/>
                      </a:lnTo>
                      <a:lnTo>
                        <a:pt x="1984" y="30"/>
                      </a:lnTo>
                      <a:lnTo>
                        <a:pt x="2050" y="20"/>
                      </a:lnTo>
                      <a:lnTo>
                        <a:pt x="2114" y="12"/>
                      </a:lnTo>
                      <a:lnTo>
                        <a:pt x="2180" y="8"/>
                      </a:lnTo>
                      <a:lnTo>
                        <a:pt x="2246" y="2"/>
                      </a:lnTo>
                      <a:lnTo>
                        <a:pt x="2312" y="0"/>
                      </a:lnTo>
                      <a:lnTo>
                        <a:pt x="2378" y="0"/>
                      </a:lnTo>
                      <a:lnTo>
                        <a:pt x="2444" y="0"/>
                      </a:lnTo>
                      <a:lnTo>
                        <a:pt x="2510" y="2"/>
                      </a:lnTo>
                      <a:lnTo>
                        <a:pt x="2576" y="8"/>
                      </a:lnTo>
                      <a:lnTo>
                        <a:pt x="2642" y="12"/>
                      </a:lnTo>
                      <a:lnTo>
                        <a:pt x="2706" y="20"/>
                      </a:lnTo>
                      <a:lnTo>
                        <a:pt x="2772" y="30"/>
                      </a:lnTo>
                      <a:lnTo>
                        <a:pt x="2834" y="40"/>
                      </a:lnTo>
                      <a:lnTo>
                        <a:pt x="2898" y="52"/>
                      </a:lnTo>
                      <a:lnTo>
                        <a:pt x="2962" y="66"/>
                      </a:lnTo>
                      <a:lnTo>
                        <a:pt x="3024" y="80"/>
                      </a:lnTo>
                      <a:lnTo>
                        <a:pt x="3084" y="98"/>
                      </a:lnTo>
                      <a:lnTo>
                        <a:pt x="3146" y="116"/>
                      </a:lnTo>
                      <a:lnTo>
                        <a:pt x="3206" y="136"/>
                      </a:lnTo>
                      <a:lnTo>
                        <a:pt x="3266" y="156"/>
                      </a:lnTo>
                      <a:lnTo>
                        <a:pt x="3324" y="178"/>
                      </a:lnTo>
                      <a:lnTo>
                        <a:pt x="3382" y="202"/>
                      </a:lnTo>
                      <a:lnTo>
                        <a:pt x="3440" y="228"/>
                      </a:lnTo>
                      <a:lnTo>
                        <a:pt x="3498" y="254"/>
                      </a:lnTo>
                      <a:lnTo>
                        <a:pt x="3554" y="282"/>
                      </a:lnTo>
                      <a:lnTo>
                        <a:pt x="3608" y="312"/>
                      </a:lnTo>
                      <a:lnTo>
                        <a:pt x="3664" y="342"/>
                      </a:lnTo>
                      <a:lnTo>
                        <a:pt x="3716" y="374"/>
                      </a:lnTo>
                      <a:lnTo>
                        <a:pt x="3770" y="406"/>
                      </a:lnTo>
                      <a:lnTo>
                        <a:pt x="3822" y="440"/>
                      </a:lnTo>
                      <a:lnTo>
                        <a:pt x="3872" y="476"/>
                      </a:lnTo>
                      <a:lnTo>
                        <a:pt x="3922" y="512"/>
                      </a:lnTo>
                      <a:lnTo>
                        <a:pt x="3972" y="550"/>
                      </a:lnTo>
                      <a:lnTo>
                        <a:pt x="4020" y="590"/>
                      </a:lnTo>
                      <a:lnTo>
                        <a:pt x="4068" y="630"/>
                      </a:lnTo>
                      <a:lnTo>
                        <a:pt x="4114" y="670"/>
                      </a:lnTo>
                      <a:lnTo>
                        <a:pt x="4160" y="712"/>
                      </a:lnTo>
                      <a:lnTo>
                        <a:pt x="4204" y="756"/>
                      </a:lnTo>
                      <a:lnTo>
                        <a:pt x="4246" y="800"/>
                      </a:lnTo>
                      <a:lnTo>
                        <a:pt x="4288" y="846"/>
                      </a:lnTo>
                      <a:lnTo>
                        <a:pt x="4330" y="892"/>
                      </a:lnTo>
                      <a:lnTo>
                        <a:pt x="4370" y="940"/>
                      </a:lnTo>
                      <a:lnTo>
                        <a:pt x="4410" y="988"/>
                      </a:lnTo>
                      <a:lnTo>
                        <a:pt x="4446" y="1036"/>
                      </a:lnTo>
                      <a:lnTo>
                        <a:pt x="4484" y="1086"/>
                      </a:lnTo>
                      <a:lnTo>
                        <a:pt x="4518" y="1138"/>
                      </a:lnTo>
                      <a:lnTo>
                        <a:pt x="4552" y="1190"/>
                      </a:lnTo>
                      <a:lnTo>
                        <a:pt x="4586" y="1242"/>
                      </a:lnTo>
                      <a:lnTo>
                        <a:pt x="4618" y="1296"/>
                      </a:lnTo>
                      <a:lnTo>
                        <a:pt x="4648" y="1350"/>
                      </a:lnTo>
                      <a:lnTo>
                        <a:pt x="4678" y="1406"/>
                      </a:lnTo>
                      <a:lnTo>
                        <a:pt x="4706" y="1462"/>
                      </a:lnTo>
                      <a:lnTo>
                        <a:pt x="4732" y="1518"/>
                      </a:lnTo>
                      <a:lnTo>
                        <a:pt x="4756" y="1576"/>
                      </a:lnTo>
                      <a:lnTo>
                        <a:pt x="0" y="157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>
                        <a:alpha val="75294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6" name="Oval 28"/>
                <p:cNvSpPr/>
                <p:nvPr/>
              </p:nvSpPr>
              <p:spPr>
                <a:xfrm>
                  <a:off x="5213520" y="2153520"/>
                  <a:ext cx="187200" cy="168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7abf5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67" name="Group 27"/>
            <p:cNvGrpSpPr/>
            <p:nvPr/>
          </p:nvGrpSpPr>
          <p:grpSpPr>
            <a:xfrm>
              <a:off x="6877080" y="3652920"/>
              <a:ext cx="898560" cy="895320"/>
              <a:chOff x="6877080" y="3652920"/>
              <a:chExt cx="898560" cy="895320"/>
            </a:xfrm>
          </p:grpSpPr>
          <p:sp>
            <p:nvSpPr>
              <p:cNvPr id="1468" name="Oval 30"/>
              <p:cNvSpPr/>
              <p:nvPr/>
            </p:nvSpPr>
            <p:spPr>
              <a:xfrm>
                <a:off x="6877080" y="3652920"/>
                <a:ext cx="898560" cy="89532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4d4d4d"/>
                  </a:gs>
                </a:gsLst>
                <a:lin ang="18900000"/>
              </a:gra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1c1c1c"/>
                    </a:solidFill>
                    <a:latin typeface="微软雅黑"/>
                    <a:ea typeface="微软雅黑"/>
                  </a:rPr>
                  <a:t>6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9" name="Group 29"/>
              <p:cNvGrpSpPr/>
              <p:nvPr/>
            </p:nvGrpSpPr>
            <p:grpSpPr>
              <a:xfrm>
                <a:off x="6951960" y="3677400"/>
                <a:ext cx="749160" cy="243360"/>
                <a:chOff x="6951960" y="3677400"/>
                <a:chExt cx="749160" cy="243360"/>
              </a:xfrm>
            </p:grpSpPr>
            <p:sp>
              <p:nvSpPr>
                <p:cNvPr id="1470" name="Freeform 32"/>
                <p:cNvSpPr/>
                <p:nvPr/>
              </p:nvSpPr>
              <p:spPr>
                <a:xfrm>
                  <a:off x="6951960" y="3677400"/>
                  <a:ext cx="749160" cy="243360"/>
                </a:xfrm>
                <a:custGeom>
                  <a:avLst/>
                  <a:gdLst/>
                  <a:ahLst/>
                  <a:rect l="l" t="t" r="r" b="b"/>
                  <a:pathLst>
                    <a:path w="4756" h="1576">
                      <a:moveTo>
                        <a:pt x="0" y="1576"/>
                      </a:moveTo>
                      <a:lnTo>
                        <a:pt x="0" y="1576"/>
                      </a:lnTo>
                      <a:lnTo>
                        <a:pt x="24" y="1518"/>
                      </a:lnTo>
                      <a:lnTo>
                        <a:pt x="50" y="1462"/>
                      </a:lnTo>
                      <a:lnTo>
                        <a:pt x="78" y="1406"/>
                      </a:lnTo>
                      <a:lnTo>
                        <a:pt x="108" y="1350"/>
                      </a:lnTo>
                      <a:lnTo>
                        <a:pt x="138" y="1296"/>
                      </a:lnTo>
                      <a:lnTo>
                        <a:pt x="170" y="1242"/>
                      </a:lnTo>
                      <a:lnTo>
                        <a:pt x="204" y="1190"/>
                      </a:lnTo>
                      <a:lnTo>
                        <a:pt x="238" y="1138"/>
                      </a:lnTo>
                      <a:lnTo>
                        <a:pt x="272" y="1086"/>
                      </a:lnTo>
                      <a:lnTo>
                        <a:pt x="310" y="1036"/>
                      </a:lnTo>
                      <a:lnTo>
                        <a:pt x="348" y="988"/>
                      </a:lnTo>
                      <a:lnTo>
                        <a:pt x="386" y="940"/>
                      </a:lnTo>
                      <a:lnTo>
                        <a:pt x="426" y="892"/>
                      </a:lnTo>
                      <a:lnTo>
                        <a:pt x="468" y="846"/>
                      </a:lnTo>
                      <a:lnTo>
                        <a:pt x="510" y="800"/>
                      </a:lnTo>
                      <a:lnTo>
                        <a:pt x="552" y="756"/>
                      </a:lnTo>
                      <a:lnTo>
                        <a:pt x="596" y="712"/>
                      </a:lnTo>
                      <a:lnTo>
                        <a:pt x="642" y="670"/>
                      </a:lnTo>
                      <a:lnTo>
                        <a:pt x="688" y="630"/>
                      </a:lnTo>
                      <a:lnTo>
                        <a:pt x="736" y="590"/>
                      </a:lnTo>
                      <a:lnTo>
                        <a:pt x="784" y="550"/>
                      </a:lnTo>
                      <a:lnTo>
                        <a:pt x="834" y="512"/>
                      </a:lnTo>
                      <a:lnTo>
                        <a:pt x="884" y="476"/>
                      </a:lnTo>
                      <a:lnTo>
                        <a:pt x="934" y="440"/>
                      </a:lnTo>
                      <a:lnTo>
                        <a:pt x="986" y="406"/>
                      </a:lnTo>
                      <a:lnTo>
                        <a:pt x="1040" y="374"/>
                      </a:lnTo>
                      <a:lnTo>
                        <a:pt x="1092" y="342"/>
                      </a:lnTo>
                      <a:lnTo>
                        <a:pt x="1148" y="312"/>
                      </a:lnTo>
                      <a:lnTo>
                        <a:pt x="1202" y="282"/>
                      </a:lnTo>
                      <a:lnTo>
                        <a:pt x="1258" y="254"/>
                      </a:lnTo>
                      <a:lnTo>
                        <a:pt x="1316" y="228"/>
                      </a:lnTo>
                      <a:lnTo>
                        <a:pt x="1374" y="202"/>
                      </a:lnTo>
                      <a:lnTo>
                        <a:pt x="1432" y="178"/>
                      </a:lnTo>
                      <a:lnTo>
                        <a:pt x="1490" y="156"/>
                      </a:lnTo>
                      <a:lnTo>
                        <a:pt x="1550" y="136"/>
                      </a:lnTo>
                      <a:lnTo>
                        <a:pt x="1610" y="116"/>
                      </a:lnTo>
                      <a:lnTo>
                        <a:pt x="1672" y="98"/>
                      </a:lnTo>
                      <a:lnTo>
                        <a:pt x="1732" y="80"/>
                      </a:lnTo>
                      <a:lnTo>
                        <a:pt x="1794" y="66"/>
                      </a:lnTo>
                      <a:lnTo>
                        <a:pt x="1858" y="52"/>
                      </a:lnTo>
                      <a:lnTo>
                        <a:pt x="1922" y="40"/>
                      </a:lnTo>
                      <a:lnTo>
                        <a:pt x="1984" y="30"/>
                      </a:lnTo>
                      <a:lnTo>
                        <a:pt x="2050" y="20"/>
                      </a:lnTo>
                      <a:lnTo>
                        <a:pt x="2114" y="12"/>
                      </a:lnTo>
                      <a:lnTo>
                        <a:pt x="2180" y="8"/>
                      </a:lnTo>
                      <a:lnTo>
                        <a:pt x="2246" y="2"/>
                      </a:lnTo>
                      <a:lnTo>
                        <a:pt x="2312" y="0"/>
                      </a:lnTo>
                      <a:lnTo>
                        <a:pt x="2378" y="0"/>
                      </a:lnTo>
                      <a:lnTo>
                        <a:pt x="2444" y="0"/>
                      </a:lnTo>
                      <a:lnTo>
                        <a:pt x="2510" y="2"/>
                      </a:lnTo>
                      <a:lnTo>
                        <a:pt x="2576" y="8"/>
                      </a:lnTo>
                      <a:lnTo>
                        <a:pt x="2642" y="12"/>
                      </a:lnTo>
                      <a:lnTo>
                        <a:pt x="2706" y="20"/>
                      </a:lnTo>
                      <a:lnTo>
                        <a:pt x="2772" y="30"/>
                      </a:lnTo>
                      <a:lnTo>
                        <a:pt x="2834" y="40"/>
                      </a:lnTo>
                      <a:lnTo>
                        <a:pt x="2898" y="52"/>
                      </a:lnTo>
                      <a:lnTo>
                        <a:pt x="2962" y="66"/>
                      </a:lnTo>
                      <a:lnTo>
                        <a:pt x="3024" y="80"/>
                      </a:lnTo>
                      <a:lnTo>
                        <a:pt x="3084" y="98"/>
                      </a:lnTo>
                      <a:lnTo>
                        <a:pt x="3146" y="116"/>
                      </a:lnTo>
                      <a:lnTo>
                        <a:pt x="3206" y="136"/>
                      </a:lnTo>
                      <a:lnTo>
                        <a:pt x="3266" y="156"/>
                      </a:lnTo>
                      <a:lnTo>
                        <a:pt x="3324" y="178"/>
                      </a:lnTo>
                      <a:lnTo>
                        <a:pt x="3382" y="202"/>
                      </a:lnTo>
                      <a:lnTo>
                        <a:pt x="3440" y="228"/>
                      </a:lnTo>
                      <a:lnTo>
                        <a:pt x="3498" y="254"/>
                      </a:lnTo>
                      <a:lnTo>
                        <a:pt x="3554" y="282"/>
                      </a:lnTo>
                      <a:lnTo>
                        <a:pt x="3608" y="312"/>
                      </a:lnTo>
                      <a:lnTo>
                        <a:pt x="3664" y="342"/>
                      </a:lnTo>
                      <a:lnTo>
                        <a:pt x="3716" y="374"/>
                      </a:lnTo>
                      <a:lnTo>
                        <a:pt x="3770" y="406"/>
                      </a:lnTo>
                      <a:lnTo>
                        <a:pt x="3822" y="440"/>
                      </a:lnTo>
                      <a:lnTo>
                        <a:pt x="3872" y="476"/>
                      </a:lnTo>
                      <a:lnTo>
                        <a:pt x="3922" y="512"/>
                      </a:lnTo>
                      <a:lnTo>
                        <a:pt x="3972" y="550"/>
                      </a:lnTo>
                      <a:lnTo>
                        <a:pt x="4020" y="590"/>
                      </a:lnTo>
                      <a:lnTo>
                        <a:pt x="4068" y="630"/>
                      </a:lnTo>
                      <a:lnTo>
                        <a:pt x="4114" y="670"/>
                      </a:lnTo>
                      <a:lnTo>
                        <a:pt x="4160" y="712"/>
                      </a:lnTo>
                      <a:lnTo>
                        <a:pt x="4204" y="756"/>
                      </a:lnTo>
                      <a:lnTo>
                        <a:pt x="4246" y="800"/>
                      </a:lnTo>
                      <a:lnTo>
                        <a:pt x="4288" y="846"/>
                      </a:lnTo>
                      <a:lnTo>
                        <a:pt x="4330" y="892"/>
                      </a:lnTo>
                      <a:lnTo>
                        <a:pt x="4370" y="940"/>
                      </a:lnTo>
                      <a:lnTo>
                        <a:pt x="4410" y="988"/>
                      </a:lnTo>
                      <a:lnTo>
                        <a:pt x="4446" y="1036"/>
                      </a:lnTo>
                      <a:lnTo>
                        <a:pt x="4484" y="1086"/>
                      </a:lnTo>
                      <a:lnTo>
                        <a:pt x="4518" y="1138"/>
                      </a:lnTo>
                      <a:lnTo>
                        <a:pt x="4552" y="1190"/>
                      </a:lnTo>
                      <a:lnTo>
                        <a:pt x="4586" y="1242"/>
                      </a:lnTo>
                      <a:lnTo>
                        <a:pt x="4618" y="1296"/>
                      </a:lnTo>
                      <a:lnTo>
                        <a:pt x="4648" y="1350"/>
                      </a:lnTo>
                      <a:lnTo>
                        <a:pt x="4678" y="1406"/>
                      </a:lnTo>
                      <a:lnTo>
                        <a:pt x="4706" y="1462"/>
                      </a:lnTo>
                      <a:lnTo>
                        <a:pt x="4732" y="1518"/>
                      </a:lnTo>
                      <a:lnTo>
                        <a:pt x="4756" y="1576"/>
                      </a:lnTo>
                      <a:lnTo>
                        <a:pt x="0" y="157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>
                        <a:alpha val="75294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1" name="Oval 33"/>
                <p:cNvSpPr/>
                <p:nvPr/>
              </p:nvSpPr>
              <p:spPr>
                <a:xfrm>
                  <a:off x="7232760" y="3677400"/>
                  <a:ext cx="187200" cy="168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7abf5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2" name=""/>
            <p:cNvGrpSpPr/>
            <p:nvPr/>
          </p:nvGrpSpPr>
          <p:grpSpPr>
            <a:xfrm>
              <a:off x="4711680" y="3096720"/>
              <a:ext cx="336240" cy="1167840"/>
              <a:chOff x="4711680" y="3096720"/>
              <a:chExt cx="336240" cy="1167840"/>
            </a:xfrm>
          </p:grpSpPr>
          <p:sp>
            <p:nvSpPr>
              <p:cNvPr id="1473" name="Line 34"/>
              <p:cNvSpPr/>
              <p:nvPr/>
            </p:nvSpPr>
            <p:spPr>
              <a:xfrm flipV="1">
                <a:off x="4712040" y="3119760"/>
                <a:ext cx="335880" cy="112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"/>
              <p:cNvSpPr txBox="1"/>
              <p:nvPr/>
            </p:nvSpPr>
            <p:spPr>
              <a:xfrm rot="11418600">
                <a:off x="4814640" y="3098520"/>
                <a:ext cx="129960" cy="116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5" name=""/>
            <p:cNvGrpSpPr/>
            <p:nvPr/>
          </p:nvGrpSpPr>
          <p:grpSpPr>
            <a:xfrm>
              <a:off x="3988440" y="3142440"/>
              <a:ext cx="641880" cy="1015200"/>
              <a:chOff x="3988440" y="3142440"/>
              <a:chExt cx="641880" cy="1015200"/>
            </a:xfrm>
          </p:grpSpPr>
          <p:sp>
            <p:nvSpPr>
              <p:cNvPr id="1476" name="Line 35"/>
              <p:cNvSpPr/>
              <p:nvPr/>
            </p:nvSpPr>
            <p:spPr>
              <a:xfrm flipH="1" flipV="1">
                <a:off x="4156920" y="3142800"/>
                <a:ext cx="304560" cy="101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7" name=""/>
              <p:cNvSpPr txBox="1"/>
              <p:nvPr/>
            </p:nvSpPr>
            <p:spPr>
              <a:xfrm rot="11418000">
                <a:off x="4068720" y="3177720"/>
                <a:ext cx="480960" cy="944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8" name=""/>
            <p:cNvGrpSpPr/>
            <p:nvPr/>
          </p:nvGrpSpPr>
          <p:grpSpPr>
            <a:xfrm>
              <a:off x="3091320" y="3556440"/>
              <a:ext cx="1218960" cy="715320"/>
              <a:chOff x="3091320" y="3556440"/>
              <a:chExt cx="1218960" cy="715320"/>
            </a:xfrm>
          </p:grpSpPr>
          <p:sp>
            <p:nvSpPr>
              <p:cNvPr id="1479" name="Line 36"/>
              <p:cNvSpPr/>
              <p:nvPr/>
            </p:nvSpPr>
            <p:spPr>
              <a:xfrm flipH="1" flipV="1">
                <a:off x="3184560" y="3556440"/>
                <a:ext cx="1032840" cy="71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"/>
              <p:cNvSpPr txBox="1"/>
              <p:nvPr/>
            </p:nvSpPr>
            <p:spPr>
              <a:xfrm rot="11418000">
                <a:off x="3128400" y="3654360"/>
                <a:ext cx="1144440" cy="519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1" name=""/>
            <p:cNvGrpSpPr/>
            <p:nvPr/>
          </p:nvGrpSpPr>
          <p:grpSpPr>
            <a:xfrm>
              <a:off x="2245320" y="4129920"/>
              <a:ext cx="1919520" cy="374400"/>
              <a:chOff x="2245320" y="4129920"/>
              <a:chExt cx="1919520" cy="374400"/>
            </a:xfrm>
          </p:grpSpPr>
          <p:sp>
            <p:nvSpPr>
              <p:cNvPr id="1482" name="Line 37"/>
              <p:cNvSpPr/>
              <p:nvPr/>
            </p:nvSpPr>
            <p:spPr>
              <a:xfrm flipH="1" flipV="1">
                <a:off x="2245320" y="4156200"/>
                <a:ext cx="1919520" cy="3218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"/>
              <p:cNvSpPr txBox="1"/>
              <p:nvPr/>
            </p:nvSpPr>
            <p:spPr>
              <a:xfrm rot="618600">
                <a:off x="2231640" y="4303800"/>
                <a:ext cx="1946160" cy="26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20160" bIns="-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4" name=""/>
            <p:cNvGrpSpPr/>
            <p:nvPr/>
          </p:nvGrpSpPr>
          <p:grpSpPr>
            <a:xfrm>
              <a:off x="4986000" y="3420360"/>
              <a:ext cx="876960" cy="968760"/>
              <a:chOff x="4986000" y="3420360"/>
              <a:chExt cx="876960" cy="968760"/>
            </a:xfrm>
          </p:grpSpPr>
          <p:sp>
            <p:nvSpPr>
              <p:cNvPr id="1485" name="Line 38"/>
              <p:cNvSpPr/>
              <p:nvPr/>
            </p:nvSpPr>
            <p:spPr>
              <a:xfrm flipV="1">
                <a:off x="4986000" y="3552120"/>
                <a:ext cx="876960" cy="705240"/>
              </a:xfrm>
              <a:prstGeom prst="line">
                <a:avLst/>
              </a:prstGeom>
              <a:ln w="9360">
                <a:solidFill>
                  <a:srgbClr val="cc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"/>
              <p:cNvSpPr txBox="1"/>
              <p:nvPr/>
            </p:nvSpPr>
            <p:spPr>
              <a:xfrm rot="11418600">
                <a:off x="5055840" y="3479040"/>
                <a:ext cx="736560" cy="850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7" name=""/>
            <p:cNvGrpSpPr/>
            <p:nvPr/>
          </p:nvGrpSpPr>
          <p:grpSpPr>
            <a:xfrm>
              <a:off x="5239800" y="3886920"/>
              <a:ext cx="1514160" cy="778320"/>
              <a:chOff x="5239800" y="3886920"/>
              <a:chExt cx="1514160" cy="778320"/>
            </a:xfrm>
          </p:grpSpPr>
          <p:sp>
            <p:nvSpPr>
              <p:cNvPr id="1488" name="Line 39"/>
              <p:cNvSpPr/>
              <p:nvPr/>
            </p:nvSpPr>
            <p:spPr>
              <a:xfrm flipV="1">
                <a:off x="5239800" y="4145400"/>
                <a:ext cx="1514160" cy="26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9" name=""/>
              <p:cNvSpPr txBox="1"/>
              <p:nvPr/>
            </p:nvSpPr>
            <p:spPr>
              <a:xfrm rot="11418600">
                <a:off x="5275080" y="4011840"/>
                <a:ext cx="1442880" cy="528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0" name="Group 38"/>
            <p:cNvGrpSpPr/>
            <p:nvPr/>
          </p:nvGrpSpPr>
          <p:grpSpPr>
            <a:xfrm>
              <a:off x="2819520" y="1195560"/>
              <a:ext cx="1981080" cy="752400"/>
              <a:chOff x="2819520" y="1195560"/>
              <a:chExt cx="1981080" cy="752400"/>
            </a:xfrm>
          </p:grpSpPr>
          <p:sp>
            <p:nvSpPr>
              <p:cNvPr id="1491" name="Rectangle 58"/>
              <p:cNvSpPr/>
              <p:nvPr/>
            </p:nvSpPr>
            <p:spPr>
              <a:xfrm>
                <a:off x="2819520" y="1450800"/>
                <a:ext cx="1981080" cy="49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此处添加文字内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此处添加文字内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2" name="Rectangle 59"/>
              <p:cNvSpPr/>
              <p:nvPr/>
            </p:nvSpPr>
            <p:spPr>
              <a:xfrm>
                <a:off x="3051360" y="1195560"/>
                <a:ext cx="1517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此处添加文字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3" name="Group 41"/>
            <p:cNvGrpSpPr/>
            <p:nvPr/>
          </p:nvGrpSpPr>
          <p:grpSpPr>
            <a:xfrm>
              <a:off x="4495680" y="1195560"/>
              <a:ext cx="1981080" cy="752400"/>
              <a:chOff x="4495680" y="1195560"/>
              <a:chExt cx="1981080" cy="752400"/>
            </a:xfrm>
          </p:grpSpPr>
          <p:sp>
            <p:nvSpPr>
              <p:cNvPr id="1494" name="Rectangle 61"/>
              <p:cNvSpPr/>
              <p:nvPr/>
            </p:nvSpPr>
            <p:spPr>
              <a:xfrm>
                <a:off x="4495680" y="1450800"/>
                <a:ext cx="1981080" cy="49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此处添加文字内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此处添加文字内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5" name="Rectangle 62"/>
              <p:cNvSpPr/>
              <p:nvPr/>
            </p:nvSpPr>
            <p:spPr>
              <a:xfrm>
                <a:off x="4727520" y="1195560"/>
                <a:ext cx="1517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此处添加文字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6" name="Group 44"/>
            <p:cNvGrpSpPr/>
            <p:nvPr/>
          </p:nvGrpSpPr>
          <p:grpSpPr>
            <a:xfrm>
              <a:off x="228600" y="2808360"/>
              <a:ext cx="1981080" cy="752760"/>
              <a:chOff x="228600" y="2808360"/>
              <a:chExt cx="1981080" cy="752760"/>
            </a:xfrm>
          </p:grpSpPr>
          <p:sp>
            <p:nvSpPr>
              <p:cNvPr id="1497" name="Rectangle 64"/>
              <p:cNvSpPr/>
              <p:nvPr/>
            </p:nvSpPr>
            <p:spPr>
              <a:xfrm>
                <a:off x="228600" y="3063960"/>
                <a:ext cx="1981080" cy="49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此处添加文字内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此处添加文字内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8" name="Rectangle 65"/>
              <p:cNvSpPr/>
              <p:nvPr/>
            </p:nvSpPr>
            <p:spPr>
              <a:xfrm>
                <a:off x="691920" y="2808360"/>
                <a:ext cx="1517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此处添加文字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9" name="Group 47"/>
            <p:cNvGrpSpPr/>
            <p:nvPr/>
          </p:nvGrpSpPr>
          <p:grpSpPr>
            <a:xfrm>
              <a:off x="7010640" y="2808360"/>
              <a:ext cx="1981080" cy="752400"/>
              <a:chOff x="7010640" y="2808360"/>
              <a:chExt cx="1981080" cy="752400"/>
            </a:xfrm>
          </p:grpSpPr>
          <p:sp>
            <p:nvSpPr>
              <p:cNvPr id="1500" name="Rectangle 67"/>
              <p:cNvSpPr/>
              <p:nvPr/>
            </p:nvSpPr>
            <p:spPr>
              <a:xfrm>
                <a:off x="7010640" y="3063600"/>
                <a:ext cx="1981080" cy="49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此处添加文字内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此处添加文字内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1" name="Rectangle 68"/>
              <p:cNvSpPr/>
              <p:nvPr/>
            </p:nvSpPr>
            <p:spPr>
              <a:xfrm>
                <a:off x="7010640" y="2808360"/>
                <a:ext cx="1517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此处添加文字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2" name="Group 50"/>
            <p:cNvGrpSpPr/>
            <p:nvPr/>
          </p:nvGrpSpPr>
          <p:grpSpPr>
            <a:xfrm>
              <a:off x="1066680" y="1809720"/>
              <a:ext cx="1981080" cy="752760"/>
              <a:chOff x="1066680" y="1809720"/>
              <a:chExt cx="1981080" cy="752760"/>
            </a:xfrm>
          </p:grpSpPr>
          <p:sp>
            <p:nvSpPr>
              <p:cNvPr id="1503" name="Rectangle 70"/>
              <p:cNvSpPr/>
              <p:nvPr/>
            </p:nvSpPr>
            <p:spPr>
              <a:xfrm>
                <a:off x="1066680" y="2065320"/>
                <a:ext cx="1981080" cy="49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此处添加文字内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此处添加文字内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4" name="Rectangle 71"/>
              <p:cNvSpPr/>
              <p:nvPr/>
            </p:nvSpPr>
            <p:spPr>
              <a:xfrm>
                <a:off x="1530000" y="1809720"/>
                <a:ext cx="1517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此处添加文字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5" name="Group 53"/>
            <p:cNvGrpSpPr/>
            <p:nvPr/>
          </p:nvGrpSpPr>
          <p:grpSpPr>
            <a:xfrm>
              <a:off x="6248520" y="1805040"/>
              <a:ext cx="1981080" cy="752400"/>
              <a:chOff x="6248520" y="1805040"/>
              <a:chExt cx="1981080" cy="752400"/>
            </a:xfrm>
          </p:grpSpPr>
          <p:sp>
            <p:nvSpPr>
              <p:cNvPr id="1506" name="Rectangle 73"/>
              <p:cNvSpPr/>
              <p:nvPr/>
            </p:nvSpPr>
            <p:spPr>
              <a:xfrm>
                <a:off x="6248520" y="2060280"/>
                <a:ext cx="1981080" cy="49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cc0000"/>
                    </a:solidFill>
                    <a:latin typeface="微软雅黑"/>
                    <a:ea typeface="微软雅黑"/>
                  </a:rPr>
                  <a:t>单击此处添加文字内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cc0000"/>
                    </a:solidFill>
                    <a:latin typeface="微软雅黑"/>
                    <a:ea typeface="微软雅黑"/>
                  </a:rPr>
                  <a:t>单击此处添加文字内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7" name="Rectangle 74"/>
              <p:cNvSpPr/>
              <p:nvPr/>
            </p:nvSpPr>
            <p:spPr>
              <a:xfrm>
                <a:off x="6248520" y="1805040"/>
                <a:ext cx="1517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cc0000"/>
                    </a:solidFill>
                    <a:latin typeface="微软雅黑"/>
                    <a:ea typeface="微软雅黑"/>
                  </a:rPr>
                  <a:t>单击此处添加文字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8" name="Group 56"/>
            <p:cNvGrpSpPr/>
            <p:nvPr/>
          </p:nvGrpSpPr>
          <p:grpSpPr>
            <a:xfrm>
              <a:off x="3711600" y="4077000"/>
              <a:ext cx="1720800" cy="1659960"/>
              <a:chOff x="3711600" y="4077000"/>
              <a:chExt cx="1720800" cy="1659960"/>
            </a:xfrm>
          </p:grpSpPr>
          <p:sp>
            <p:nvSpPr>
              <p:cNvPr id="1509" name="Oval 40"/>
              <p:cNvSpPr/>
              <p:nvPr/>
            </p:nvSpPr>
            <p:spPr>
              <a:xfrm>
                <a:off x="3711600" y="5011560"/>
                <a:ext cx="1720800" cy="72540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445e7a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0" name="Oval 44"/>
              <p:cNvSpPr/>
              <p:nvPr/>
            </p:nvSpPr>
            <p:spPr>
              <a:xfrm>
                <a:off x="3841920" y="4077000"/>
                <a:ext cx="1460520" cy="144252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360000"/>
                  </a:gs>
                </a:gsLst>
                <a:lin ang="18900000"/>
              </a:gra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文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11" name="Picture 45" descr="Picture2"/>
              <p:cNvPicPr/>
              <p:nvPr/>
            </p:nvPicPr>
            <p:blipFill>
              <a:blip r:embed="rId1"/>
              <a:stretch/>
            </p:blipFill>
            <p:spPr>
              <a:xfrm>
                <a:off x="3986280" y="4098960"/>
                <a:ext cx="1162080" cy="5090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12" name="Group 60"/>
              <p:cNvGrpSpPr/>
              <p:nvPr/>
            </p:nvGrpSpPr>
            <p:grpSpPr>
              <a:xfrm>
                <a:off x="3939120" y="5028120"/>
                <a:ext cx="1274760" cy="508680"/>
                <a:chOff x="3939120" y="5028120"/>
                <a:chExt cx="1274760" cy="508680"/>
              </a:xfrm>
            </p:grpSpPr>
            <p:grpSp>
              <p:nvGrpSpPr>
                <p:cNvPr id="1513" name="Group 61"/>
                <p:cNvGrpSpPr/>
                <p:nvPr/>
              </p:nvGrpSpPr>
              <p:grpSpPr>
                <a:xfrm>
                  <a:off x="4161960" y="5028120"/>
                  <a:ext cx="1051920" cy="478800"/>
                  <a:chOff x="4161960" y="5028120"/>
                  <a:chExt cx="1051920" cy="478800"/>
                </a:xfrm>
              </p:grpSpPr>
              <p:sp>
                <p:nvSpPr>
                  <p:cNvPr id="1514" name="AutoShape 48"/>
                  <p:cNvSpPr/>
                  <p:nvPr/>
                </p:nvSpPr>
                <p:spPr>
                  <a:xfrm flipH="1" flipV="1" rot="3964800">
                    <a:off x="4734720" y="4885200"/>
                    <a:ext cx="184320" cy="76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5" name="AutoShape 49"/>
                  <p:cNvSpPr/>
                  <p:nvPr/>
                </p:nvSpPr>
                <p:spPr>
                  <a:xfrm flipH="1" flipV="1" rot="4780200">
                    <a:off x="4617000" y="4932360"/>
                    <a:ext cx="184320" cy="76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6" name="AutoShape 50"/>
                  <p:cNvSpPr/>
                  <p:nvPr/>
                </p:nvSpPr>
                <p:spPr>
                  <a:xfrm flipH="1" flipV="1" rot="5076000">
                    <a:off x="4543920" y="4942080"/>
                    <a:ext cx="184320" cy="76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7" name="AutoShape 51"/>
                  <p:cNvSpPr/>
                  <p:nvPr/>
                </p:nvSpPr>
                <p:spPr>
                  <a:xfrm flipH="1" flipV="1" rot="5608200">
                    <a:off x="4456440" y="4951080"/>
                    <a:ext cx="184320" cy="76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8" name="Group 66"/>
                <p:cNvGrpSpPr/>
                <p:nvPr/>
              </p:nvGrpSpPr>
              <p:grpSpPr>
                <a:xfrm>
                  <a:off x="3939120" y="5035680"/>
                  <a:ext cx="1050480" cy="501120"/>
                  <a:chOff x="3939120" y="5035680"/>
                  <a:chExt cx="1050480" cy="501120"/>
                </a:xfrm>
              </p:grpSpPr>
              <p:sp>
                <p:nvSpPr>
                  <p:cNvPr id="1519" name="AutoShape 53"/>
                  <p:cNvSpPr/>
                  <p:nvPr/>
                </p:nvSpPr>
                <p:spPr>
                  <a:xfrm flipH="1" flipV="1" rot="5317800">
                    <a:off x="4512240" y="4950360"/>
                    <a:ext cx="185040" cy="76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0" name="AutoShape 54"/>
                  <p:cNvSpPr/>
                  <p:nvPr/>
                </p:nvSpPr>
                <p:spPr>
                  <a:xfrm flipH="1" flipV="1" rot="6133800">
                    <a:off x="4385520" y="4948920"/>
                    <a:ext cx="185040" cy="76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1" name="AutoShape 55"/>
                  <p:cNvSpPr/>
                  <p:nvPr/>
                </p:nvSpPr>
                <p:spPr>
                  <a:xfrm flipH="1" flipV="1" rot="6429000">
                    <a:off x="4314240" y="4930200"/>
                    <a:ext cx="185040" cy="76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2" name="AutoShape 56"/>
                  <p:cNvSpPr/>
                  <p:nvPr/>
                </p:nvSpPr>
                <p:spPr>
                  <a:xfrm flipH="1" flipV="1" rot="6961200">
                    <a:off x="4230720" y="4903920"/>
                    <a:ext cx="185040" cy="76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</p:spTree>
  </p:cSld>
  <p:transition spd="slow" advTm="5000">
    <p:fade/>
  </p:transition>
  <p:timing>
    <p:tnLst>
      <p:par>
        <p:cTn id="1275" dur="indefinite" restart="never" nodeType="tmRoot">
          <p:childTnLst>
            <p:seq>
              <p:cTn id="1276" dur="indefinite" nodeType="mainSeq">
                <p:childTnLst>
                  <p:par>
                    <p:cTn id="1277" fill="hold">
                      <p:stCondLst>
                        <p:cond delay="0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dur="indefinite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81" dur="20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3" name="组合 1"/>
          <p:cNvGrpSpPr/>
          <p:nvPr/>
        </p:nvGrpSpPr>
        <p:grpSpPr>
          <a:xfrm>
            <a:off x="1395000" y="528840"/>
            <a:ext cx="6077160" cy="5935320"/>
            <a:chOff x="1395000" y="528840"/>
            <a:chExt cx="6077160" cy="5935320"/>
          </a:xfrm>
        </p:grpSpPr>
        <p:sp>
          <p:nvSpPr>
            <p:cNvPr id="1524" name="椭圆 6"/>
            <p:cNvSpPr/>
            <p:nvPr/>
          </p:nvSpPr>
          <p:spPr>
            <a:xfrm>
              <a:off x="2233440" y="885600"/>
              <a:ext cx="1952640" cy="2046600"/>
            </a:xfrm>
            <a:custGeom>
              <a:avLst/>
              <a:gdLst/>
              <a:ahLst/>
              <a:rect l="l" t="t" r="r" b="b"/>
              <a:pathLst>
                <a:path w="2664833" h="2794803">
                  <a:moveTo>
                    <a:pt x="1660630" y="1083739"/>
                  </a:moveTo>
                  <a:cubicBezTo>
                    <a:pt x="1955219" y="1083739"/>
                    <a:pt x="2194030" y="1322550"/>
                    <a:pt x="2194030" y="1617139"/>
                  </a:cubicBezTo>
                  <a:cubicBezTo>
                    <a:pt x="2194030" y="1911728"/>
                    <a:pt x="1955219" y="2150539"/>
                    <a:pt x="1660630" y="2150539"/>
                  </a:cubicBezTo>
                  <a:cubicBezTo>
                    <a:pt x="1366041" y="2150539"/>
                    <a:pt x="1127230" y="1911728"/>
                    <a:pt x="1127230" y="1617139"/>
                  </a:cubicBezTo>
                  <a:cubicBezTo>
                    <a:pt x="1127230" y="1322550"/>
                    <a:pt x="1366041" y="1083739"/>
                    <a:pt x="1660630" y="1083739"/>
                  </a:cubicBezTo>
                  <a:close/>
                  <a:moveTo>
                    <a:pt x="2127587" y="4"/>
                  </a:moveTo>
                  <a:cubicBezTo>
                    <a:pt x="2134983" y="130"/>
                    <a:pt x="2143006" y="2647"/>
                    <a:pt x="2151029" y="6673"/>
                  </a:cubicBezTo>
                  <a:cubicBezTo>
                    <a:pt x="2191146" y="14726"/>
                    <a:pt x="2223239" y="135513"/>
                    <a:pt x="2223238" y="224090"/>
                  </a:cubicBezTo>
                  <a:cubicBezTo>
                    <a:pt x="2231259" y="320687"/>
                    <a:pt x="2255316" y="369002"/>
                    <a:pt x="2255331" y="369035"/>
                  </a:cubicBezTo>
                  <a:cubicBezTo>
                    <a:pt x="2255331" y="465637"/>
                    <a:pt x="2295425" y="538097"/>
                    <a:pt x="2295448" y="538136"/>
                  </a:cubicBezTo>
                  <a:cubicBezTo>
                    <a:pt x="2359619" y="594491"/>
                    <a:pt x="2343594" y="481820"/>
                    <a:pt x="2343587" y="481769"/>
                  </a:cubicBezTo>
                  <a:cubicBezTo>
                    <a:pt x="2335566" y="433469"/>
                    <a:pt x="2311509" y="352978"/>
                    <a:pt x="2311494" y="352929"/>
                  </a:cubicBezTo>
                  <a:cubicBezTo>
                    <a:pt x="2319516" y="312674"/>
                    <a:pt x="2255353" y="119474"/>
                    <a:pt x="2255332" y="119408"/>
                  </a:cubicBezTo>
                  <a:cubicBezTo>
                    <a:pt x="2279394" y="-25495"/>
                    <a:pt x="2351569" y="79085"/>
                    <a:pt x="2351610" y="79146"/>
                  </a:cubicBezTo>
                  <a:cubicBezTo>
                    <a:pt x="2343588" y="127455"/>
                    <a:pt x="2391715" y="288473"/>
                    <a:pt x="2391726" y="288510"/>
                  </a:cubicBezTo>
                  <a:cubicBezTo>
                    <a:pt x="2407765" y="320704"/>
                    <a:pt x="2415789" y="360944"/>
                    <a:pt x="2415795" y="360982"/>
                  </a:cubicBezTo>
                  <a:cubicBezTo>
                    <a:pt x="2423816" y="441486"/>
                    <a:pt x="2479953" y="546137"/>
                    <a:pt x="2479981" y="546189"/>
                  </a:cubicBezTo>
                  <a:cubicBezTo>
                    <a:pt x="2488001" y="554239"/>
                    <a:pt x="2512059" y="538146"/>
                    <a:pt x="2512074" y="538136"/>
                  </a:cubicBezTo>
                  <a:lnTo>
                    <a:pt x="2517590" y="540039"/>
                  </a:lnTo>
                  <a:cubicBezTo>
                    <a:pt x="2522855" y="522534"/>
                    <a:pt x="2478978" y="364001"/>
                    <a:pt x="2471959" y="328773"/>
                  </a:cubicBezTo>
                  <a:cubicBezTo>
                    <a:pt x="2463935" y="296562"/>
                    <a:pt x="2415796" y="191880"/>
                    <a:pt x="2447889" y="175775"/>
                  </a:cubicBezTo>
                  <a:cubicBezTo>
                    <a:pt x="2471958" y="151617"/>
                    <a:pt x="2544167" y="216037"/>
                    <a:pt x="2560213" y="312667"/>
                  </a:cubicBezTo>
                  <a:cubicBezTo>
                    <a:pt x="2576258" y="417336"/>
                    <a:pt x="2624387" y="586409"/>
                    <a:pt x="2624399" y="586450"/>
                  </a:cubicBezTo>
                  <a:cubicBezTo>
                    <a:pt x="2712654" y="723342"/>
                    <a:pt x="2640446" y="972969"/>
                    <a:pt x="2560213" y="1021283"/>
                  </a:cubicBezTo>
                  <a:cubicBezTo>
                    <a:pt x="2471985" y="1061534"/>
                    <a:pt x="2544123" y="1125926"/>
                    <a:pt x="2544168" y="1125966"/>
                  </a:cubicBezTo>
                  <a:cubicBezTo>
                    <a:pt x="2544168" y="1125984"/>
                    <a:pt x="2544432" y="1131262"/>
                    <a:pt x="2624274" y="2725919"/>
                  </a:cubicBezTo>
                  <a:lnTo>
                    <a:pt x="2634196" y="2794803"/>
                  </a:lnTo>
                  <a:lnTo>
                    <a:pt x="2571391" y="2774996"/>
                  </a:lnTo>
                  <a:lnTo>
                    <a:pt x="2571242" y="2775720"/>
                  </a:lnTo>
                  <a:cubicBezTo>
                    <a:pt x="1018517" y="2371613"/>
                    <a:pt x="1018517" y="2371613"/>
                    <a:pt x="1018517" y="2371613"/>
                  </a:cubicBezTo>
                  <a:cubicBezTo>
                    <a:pt x="1018476" y="2371542"/>
                    <a:pt x="970086" y="2287856"/>
                    <a:pt x="912758" y="2366058"/>
                  </a:cubicBezTo>
                  <a:cubicBezTo>
                    <a:pt x="849151" y="2434802"/>
                    <a:pt x="590061" y="2454791"/>
                    <a:pt x="473953" y="2340566"/>
                  </a:cubicBezTo>
                  <a:cubicBezTo>
                    <a:pt x="473876" y="2340525"/>
                    <a:pt x="318133" y="2259067"/>
                    <a:pt x="218918" y="2222097"/>
                  </a:cubicBezTo>
                  <a:cubicBezTo>
                    <a:pt x="127565" y="2186755"/>
                    <a:pt x="79158" y="2102964"/>
                    <a:pt x="107701" y="2084303"/>
                  </a:cubicBezTo>
                  <a:cubicBezTo>
                    <a:pt x="129990" y="2056153"/>
                    <a:pt x="222711" y="2124556"/>
                    <a:pt x="252618" y="2138954"/>
                  </a:cubicBezTo>
                  <a:cubicBezTo>
                    <a:pt x="290411" y="2154990"/>
                    <a:pt x="476114" y="2250879"/>
                    <a:pt x="449466" y="2220767"/>
                  </a:cubicBezTo>
                  <a:cubicBezTo>
                    <a:pt x="449493" y="2220742"/>
                    <a:pt x="470121" y="2200465"/>
                    <a:pt x="463871" y="2190980"/>
                  </a:cubicBezTo>
                  <a:cubicBezTo>
                    <a:pt x="463825" y="2190942"/>
                    <a:pt x="372762" y="2114716"/>
                    <a:pt x="295565" y="2090507"/>
                  </a:cubicBezTo>
                  <a:cubicBezTo>
                    <a:pt x="295518" y="2090486"/>
                    <a:pt x="257755" y="2074457"/>
                    <a:pt x="229495" y="2052216"/>
                  </a:cubicBezTo>
                  <a:cubicBezTo>
                    <a:pt x="229432" y="2052181"/>
                    <a:pt x="81573" y="1972362"/>
                    <a:pt x="32647" y="1970403"/>
                  </a:cubicBezTo>
                  <a:cubicBezTo>
                    <a:pt x="32584" y="1970337"/>
                    <a:pt x="-55130" y="1878435"/>
                    <a:pt x="91629" y="1884311"/>
                  </a:cubicBezTo>
                  <a:cubicBezTo>
                    <a:pt x="91675" y="1884337"/>
                    <a:pt x="267824" y="1986421"/>
                    <a:pt x="308872" y="1986745"/>
                  </a:cubicBezTo>
                  <a:cubicBezTo>
                    <a:pt x="308952" y="1986788"/>
                    <a:pt x="382852" y="2026681"/>
                    <a:pt x="428504" y="2044343"/>
                  </a:cubicBezTo>
                  <a:cubicBezTo>
                    <a:pt x="428561" y="2044363"/>
                    <a:pt x="535615" y="2082937"/>
                    <a:pt x="493475" y="2008659"/>
                  </a:cubicBezTo>
                  <a:cubicBezTo>
                    <a:pt x="493411" y="2008603"/>
                    <a:pt x="430615" y="1954646"/>
                    <a:pt x="336051" y="1935025"/>
                  </a:cubicBezTo>
                  <a:cubicBezTo>
                    <a:pt x="336010" y="1934994"/>
                    <a:pt x="293588" y="1901629"/>
                    <a:pt x="200648" y="1874156"/>
                  </a:cubicBezTo>
                  <a:cubicBezTo>
                    <a:pt x="113918" y="1856160"/>
                    <a:pt x="2170" y="1800198"/>
                    <a:pt x="2435" y="1759282"/>
                  </a:cubicBezTo>
                  <a:cubicBezTo>
                    <a:pt x="-6813" y="1724586"/>
                    <a:pt x="7591" y="1694799"/>
                    <a:pt x="92691" y="1720650"/>
                  </a:cubicBezTo>
                  <a:cubicBezTo>
                    <a:pt x="176161" y="1754357"/>
                    <a:pt x="196555" y="1774976"/>
                    <a:pt x="212323" y="1778248"/>
                  </a:cubicBezTo>
                  <a:cubicBezTo>
                    <a:pt x="235977" y="1783156"/>
                    <a:pt x="317816" y="1824719"/>
                    <a:pt x="363494" y="1842390"/>
                  </a:cubicBezTo>
                  <a:cubicBezTo>
                    <a:pt x="415426" y="1869553"/>
                    <a:pt x="571221" y="1951044"/>
                    <a:pt x="560342" y="1924204"/>
                  </a:cubicBezTo>
                  <a:cubicBezTo>
                    <a:pt x="560391" y="1924186"/>
                    <a:pt x="604614" y="1908798"/>
                    <a:pt x="529069" y="1876744"/>
                  </a:cubicBezTo>
                  <a:cubicBezTo>
                    <a:pt x="455114" y="1836817"/>
                    <a:pt x="411066" y="1811291"/>
                    <a:pt x="371644" y="1803111"/>
                  </a:cubicBezTo>
                  <a:cubicBezTo>
                    <a:pt x="332222" y="1794931"/>
                    <a:pt x="280290" y="1767769"/>
                    <a:pt x="258266" y="1755005"/>
                  </a:cubicBezTo>
                  <a:cubicBezTo>
                    <a:pt x="236242" y="1742241"/>
                    <a:pt x="200080" y="1718350"/>
                    <a:pt x="187570" y="1699365"/>
                  </a:cubicBezTo>
                  <a:cubicBezTo>
                    <a:pt x="167177" y="1678746"/>
                    <a:pt x="157927" y="1644050"/>
                    <a:pt x="157927" y="1644050"/>
                  </a:cubicBezTo>
                  <a:cubicBezTo>
                    <a:pt x="157948" y="1644029"/>
                    <a:pt x="189737" y="1609683"/>
                    <a:pt x="211755" y="1622443"/>
                  </a:cubicBezTo>
                  <a:cubicBezTo>
                    <a:pt x="233778" y="1635207"/>
                    <a:pt x="392834" y="1700984"/>
                    <a:pt x="476304" y="1734691"/>
                  </a:cubicBezTo>
                  <a:cubicBezTo>
                    <a:pt x="476382" y="1734743"/>
                    <a:pt x="620962" y="1830256"/>
                    <a:pt x="646239" y="1827308"/>
                  </a:cubicBezTo>
                  <a:cubicBezTo>
                    <a:pt x="646305" y="1827322"/>
                    <a:pt x="693533" y="1837099"/>
                    <a:pt x="676411" y="1800792"/>
                  </a:cubicBezTo>
                  <a:cubicBezTo>
                    <a:pt x="659279" y="1764461"/>
                    <a:pt x="626375" y="1724859"/>
                    <a:pt x="602722" y="1719950"/>
                  </a:cubicBezTo>
                  <a:cubicBezTo>
                    <a:pt x="586952" y="1716679"/>
                    <a:pt x="522512" y="1670532"/>
                    <a:pt x="525772" y="1654820"/>
                  </a:cubicBezTo>
                  <a:cubicBezTo>
                    <a:pt x="521147" y="1637472"/>
                    <a:pt x="511898" y="1602776"/>
                    <a:pt x="515158" y="1587065"/>
                  </a:cubicBezTo>
                  <a:cubicBezTo>
                    <a:pt x="518418" y="1571354"/>
                    <a:pt x="569250" y="1524542"/>
                    <a:pt x="611667" y="1557925"/>
                  </a:cubicBezTo>
                  <a:cubicBezTo>
                    <a:pt x="647830" y="1581816"/>
                    <a:pt x="682098" y="1654479"/>
                    <a:pt x="726145" y="1680006"/>
                  </a:cubicBezTo>
                  <a:cubicBezTo>
                    <a:pt x="760677" y="1711754"/>
                    <a:pt x="815339" y="1805036"/>
                    <a:pt x="868900" y="1824343"/>
                  </a:cubicBezTo>
                  <a:cubicBezTo>
                    <a:pt x="922463" y="1843651"/>
                    <a:pt x="1044559" y="2008283"/>
                    <a:pt x="1020375" y="2085206"/>
                  </a:cubicBezTo>
                  <a:cubicBezTo>
                    <a:pt x="1005705" y="2155908"/>
                    <a:pt x="1027728" y="2168673"/>
                    <a:pt x="1027728" y="2168673"/>
                  </a:cubicBezTo>
                  <a:cubicBezTo>
                    <a:pt x="1027856" y="2168700"/>
                    <a:pt x="1335231" y="2232474"/>
                    <a:pt x="1358880" y="2237381"/>
                  </a:cubicBezTo>
                  <a:cubicBezTo>
                    <a:pt x="1381876" y="2234700"/>
                    <a:pt x="1922646" y="2359785"/>
                    <a:pt x="2076166" y="2165092"/>
                  </a:cubicBezTo>
                  <a:lnTo>
                    <a:pt x="2054751" y="2140576"/>
                  </a:lnTo>
                  <a:cubicBezTo>
                    <a:pt x="2069786" y="2139760"/>
                    <a:pt x="2084016" y="2137273"/>
                    <a:pt x="2097155" y="2132152"/>
                  </a:cubicBezTo>
                  <a:cubicBezTo>
                    <a:pt x="2103881" y="2122197"/>
                    <a:pt x="2108160" y="2110761"/>
                    <a:pt x="2111397" y="2098530"/>
                  </a:cubicBezTo>
                  <a:lnTo>
                    <a:pt x="2127280" y="2119499"/>
                  </a:lnTo>
                  <a:cubicBezTo>
                    <a:pt x="2348896" y="2008502"/>
                    <a:pt x="2336292" y="1453924"/>
                    <a:pt x="2343587" y="1431960"/>
                  </a:cubicBezTo>
                  <a:cubicBezTo>
                    <a:pt x="2343586" y="1407803"/>
                    <a:pt x="2343587" y="1093766"/>
                    <a:pt x="2343587" y="1093756"/>
                  </a:cubicBezTo>
                  <a:cubicBezTo>
                    <a:pt x="2343575" y="1093722"/>
                    <a:pt x="2335513" y="1069599"/>
                    <a:pt x="2263354" y="1069599"/>
                  </a:cubicBezTo>
                  <a:cubicBezTo>
                    <a:pt x="2183122" y="1077652"/>
                    <a:pt x="2046727" y="924654"/>
                    <a:pt x="2038704" y="868287"/>
                  </a:cubicBezTo>
                  <a:cubicBezTo>
                    <a:pt x="2030681" y="811919"/>
                    <a:pt x="1950450" y="739447"/>
                    <a:pt x="1926379" y="699185"/>
                  </a:cubicBezTo>
                  <a:cubicBezTo>
                    <a:pt x="1910334" y="650870"/>
                    <a:pt x="1846147" y="602555"/>
                    <a:pt x="1830102" y="562293"/>
                  </a:cubicBezTo>
                  <a:cubicBezTo>
                    <a:pt x="1806032" y="513979"/>
                    <a:pt x="1862195" y="473716"/>
                    <a:pt x="1878240" y="473715"/>
                  </a:cubicBezTo>
                  <a:cubicBezTo>
                    <a:pt x="1894287" y="473716"/>
                    <a:pt x="1926380" y="489822"/>
                    <a:pt x="1942426" y="497873"/>
                  </a:cubicBezTo>
                  <a:cubicBezTo>
                    <a:pt x="1958473" y="497874"/>
                    <a:pt x="1990566" y="570346"/>
                    <a:pt x="1990566" y="586450"/>
                  </a:cubicBezTo>
                  <a:cubicBezTo>
                    <a:pt x="1990565" y="610608"/>
                    <a:pt x="2022659" y="650871"/>
                    <a:pt x="2054752" y="675027"/>
                  </a:cubicBezTo>
                  <a:cubicBezTo>
                    <a:pt x="2086830" y="699176"/>
                    <a:pt x="2086844" y="650912"/>
                    <a:pt x="2086844" y="650871"/>
                  </a:cubicBezTo>
                  <a:cubicBezTo>
                    <a:pt x="2094865" y="626717"/>
                    <a:pt x="2030704" y="465719"/>
                    <a:pt x="2030681" y="465664"/>
                  </a:cubicBezTo>
                  <a:cubicBezTo>
                    <a:pt x="2014634" y="377086"/>
                    <a:pt x="1982543" y="207985"/>
                    <a:pt x="1974520" y="183827"/>
                  </a:cubicBezTo>
                  <a:cubicBezTo>
                    <a:pt x="1966500" y="159683"/>
                    <a:pt x="2006572" y="135536"/>
                    <a:pt x="2006612" y="135513"/>
                  </a:cubicBezTo>
                  <a:cubicBezTo>
                    <a:pt x="2006643" y="135528"/>
                    <a:pt x="2038712" y="151629"/>
                    <a:pt x="2054751" y="175775"/>
                  </a:cubicBezTo>
                  <a:cubicBezTo>
                    <a:pt x="2070798" y="191880"/>
                    <a:pt x="2086844" y="232142"/>
                    <a:pt x="2094866" y="256300"/>
                  </a:cubicBezTo>
                  <a:cubicBezTo>
                    <a:pt x="2102890" y="280457"/>
                    <a:pt x="2118936" y="336824"/>
                    <a:pt x="2118937" y="377087"/>
                  </a:cubicBezTo>
                  <a:cubicBezTo>
                    <a:pt x="2118938" y="417348"/>
                    <a:pt x="2134984" y="465664"/>
                    <a:pt x="2159053" y="546189"/>
                  </a:cubicBezTo>
                  <a:cubicBezTo>
                    <a:pt x="2175093" y="626678"/>
                    <a:pt x="2199148" y="586485"/>
                    <a:pt x="2199169" y="586451"/>
                  </a:cubicBezTo>
                  <a:cubicBezTo>
                    <a:pt x="2223238" y="602555"/>
                    <a:pt x="2175099" y="433454"/>
                    <a:pt x="2159052" y="377086"/>
                  </a:cubicBezTo>
                  <a:cubicBezTo>
                    <a:pt x="2151029" y="328773"/>
                    <a:pt x="2126960" y="240195"/>
                    <a:pt x="2126961" y="216037"/>
                  </a:cubicBezTo>
                  <a:cubicBezTo>
                    <a:pt x="2126960" y="199933"/>
                    <a:pt x="2110913" y="175775"/>
                    <a:pt x="2094867" y="87197"/>
                  </a:cubicBezTo>
                  <a:cubicBezTo>
                    <a:pt x="2088850" y="20764"/>
                    <a:pt x="2105398" y="-373"/>
                    <a:pt x="2127587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c000"/>
                </a:gs>
                <a:gs pos="100000">
                  <a:srgbClr val="171745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椭圆 6"/>
            <p:cNvSpPr/>
            <p:nvPr/>
          </p:nvSpPr>
          <p:spPr>
            <a:xfrm rot="8800200">
              <a:off x="5117760" y="2685600"/>
              <a:ext cx="1952640" cy="2046600"/>
            </a:xfrm>
            <a:custGeom>
              <a:avLst/>
              <a:gdLst/>
              <a:ahLst/>
              <a:rect l="l" t="t" r="r" b="b"/>
              <a:pathLst>
                <a:path w="2664833" h="2794803">
                  <a:moveTo>
                    <a:pt x="1660630" y="1083739"/>
                  </a:moveTo>
                  <a:cubicBezTo>
                    <a:pt x="1955219" y="1083739"/>
                    <a:pt x="2194030" y="1322550"/>
                    <a:pt x="2194030" y="1617139"/>
                  </a:cubicBezTo>
                  <a:cubicBezTo>
                    <a:pt x="2194030" y="1911728"/>
                    <a:pt x="1955219" y="2150539"/>
                    <a:pt x="1660630" y="2150539"/>
                  </a:cubicBezTo>
                  <a:cubicBezTo>
                    <a:pt x="1366041" y="2150539"/>
                    <a:pt x="1127230" y="1911728"/>
                    <a:pt x="1127230" y="1617139"/>
                  </a:cubicBezTo>
                  <a:cubicBezTo>
                    <a:pt x="1127230" y="1322550"/>
                    <a:pt x="1366041" y="1083739"/>
                    <a:pt x="1660630" y="1083739"/>
                  </a:cubicBezTo>
                  <a:close/>
                  <a:moveTo>
                    <a:pt x="2127587" y="4"/>
                  </a:moveTo>
                  <a:cubicBezTo>
                    <a:pt x="2134983" y="130"/>
                    <a:pt x="2143006" y="2647"/>
                    <a:pt x="2151029" y="6673"/>
                  </a:cubicBezTo>
                  <a:cubicBezTo>
                    <a:pt x="2191146" y="14726"/>
                    <a:pt x="2223239" y="135513"/>
                    <a:pt x="2223238" y="224090"/>
                  </a:cubicBezTo>
                  <a:cubicBezTo>
                    <a:pt x="2231259" y="320687"/>
                    <a:pt x="2255316" y="369002"/>
                    <a:pt x="2255331" y="369035"/>
                  </a:cubicBezTo>
                  <a:cubicBezTo>
                    <a:pt x="2255331" y="465637"/>
                    <a:pt x="2295425" y="538097"/>
                    <a:pt x="2295448" y="538136"/>
                  </a:cubicBezTo>
                  <a:cubicBezTo>
                    <a:pt x="2359619" y="594491"/>
                    <a:pt x="2343594" y="481820"/>
                    <a:pt x="2343587" y="481769"/>
                  </a:cubicBezTo>
                  <a:cubicBezTo>
                    <a:pt x="2335566" y="433469"/>
                    <a:pt x="2311509" y="352978"/>
                    <a:pt x="2311494" y="352929"/>
                  </a:cubicBezTo>
                  <a:cubicBezTo>
                    <a:pt x="2319516" y="312674"/>
                    <a:pt x="2255353" y="119474"/>
                    <a:pt x="2255332" y="119408"/>
                  </a:cubicBezTo>
                  <a:cubicBezTo>
                    <a:pt x="2279394" y="-25495"/>
                    <a:pt x="2351569" y="79085"/>
                    <a:pt x="2351610" y="79146"/>
                  </a:cubicBezTo>
                  <a:cubicBezTo>
                    <a:pt x="2343588" y="127455"/>
                    <a:pt x="2391715" y="288473"/>
                    <a:pt x="2391726" y="288510"/>
                  </a:cubicBezTo>
                  <a:cubicBezTo>
                    <a:pt x="2407765" y="320704"/>
                    <a:pt x="2415789" y="360944"/>
                    <a:pt x="2415795" y="360982"/>
                  </a:cubicBezTo>
                  <a:cubicBezTo>
                    <a:pt x="2423816" y="441486"/>
                    <a:pt x="2479953" y="546137"/>
                    <a:pt x="2479981" y="546189"/>
                  </a:cubicBezTo>
                  <a:cubicBezTo>
                    <a:pt x="2488001" y="554239"/>
                    <a:pt x="2512059" y="538146"/>
                    <a:pt x="2512074" y="538136"/>
                  </a:cubicBezTo>
                  <a:lnTo>
                    <a:pt x="2517590" y="540039"/>
                  </a:lnTo>
                  <a:cubicBezTo>
                    <a:pt x="2522855" y="522534"/>
                    <a:pt x="2478978" y="364001"/>
                    <a:pt x="2471959" y="328773"/>
                  </a:cubicBezTo>
                  <a:cubicBezTo>
                    <a:pt x="2463935" y="296562"/>
                    <a:pt x="2415796" y="191880"/>
                    <a:pt x="2447889" y="175775"/>
                  </a:cubicBezTo>
                  <a:cubicBezTo>
                    <a:pt x="2471958" y="151617"/>
                    <a:pt x="2544167" y="216037"/>
                    <a:pt x="2560213" y="312667"/>
                  </a:cubicBezTo>
                  <a:cubicBezTo>
                    <a:pt x="2576258" y="417336"/>
                    <a:pt x="2624387" y="586409"/>
                    <a:pt x="2624399" y="586450"/>
                  </a:cubicBezTo>
                  <a:cubicBezTo>
                    <a:pt x="2712654" y="723342"/>
                    <a:pt x="2640446" y="972969"/>
                    <a:pt x="2560213" y="1021283"/>
                  </a:cubicBezTo>
                  <a:cubicBezTo>
                    <a:pt x="2471985" y="1061534"/>
                    <a:pt x="2544123" y="1125926"/>
                    <a:pt x="2544168" y="1125966"/>
                  </a:cubicBezTo>
                  <a:cubicBezTo>
                    <a:pt x="2544168" y="1125984"/>
                    <a:pt x="2544432" y="1131262"/>
                    <a:pt x="2624274" y="2725919"/>
                  </a:cubicBezTo>
                  <a:lnTo>
                    <a:pt x="2634196" y="2794803"/>
                  </a:lnTo>
                  <a:lnTo>
                    <a:pt x="2571391" y="2774996"/>
                  </a:lnTo>
                  <a:lnTo>
                    <a:pt x="2571242" y="2775720"/>
                  </a:lnTo>
                  <a:cubicBezTo>
                    <a:pt x="1018517" y="2371613"/>
                    <a:pt x="1018517" y="2371613"/>
                    <a:pt x="1018517" y="2371613"/>
                  </a:cubicBezTo>
                  <a:cubicBezTo>
                    <a:pt x="1018476" y="2371542"/>
                    <a:pt x="970086" y="2287856"/>
                    <a:pt x="912758" y="2366058"/>
                  </a:cubicBezTo>
                  <a:cubicBezTo>
                    <a:pt x="849151" y="2434802"/>
                    <a:pt x="590061" y="2454791"/>
                    <a:pt x="473953" y="2340566"/>
                  </a:cubicBezTo>
                  <a:cubicBezTo>
                    <a:pt x="473876" y="2340525"/>
                    <a:pt x="318133" y="2259067"/>
                    <a:pt x="218918" y="2222097"/>
                  </a:cubicBezTo>
                  <a:cubicBezTo>
                    <a:pt x="127565" y="2186755"/>
                    <a:pt x="79158" y="2102964"/>
                    <a:pt x="107701" y="2084303"/>
                  </a:cubicBezTo>
                  <a:cubicBezTo>
                    <a:pt x="129990" y="2056153"/>
                    <a:pt x="222711" y="2124556"/>
                    <a:pt x="252618" y="2138954"/>
                  </a:cubicBezTo>
                  <a:cubicBezTo>
                    <a:pt x="290411" y="2154990"/>
                    <a:pt x="476114" y="2250879"/>
                    <a:pt x="449466" y="2220767"/>
                  </a:cubicBezTo>
                  <a:cubicBezTo>
                    <a:pt x="449493" y="2220742"/>
                    <a:pt x="470121" y="2200465"/>
                    <a:pt x="463871" y="2190980"/>
                  </a:cubicBezTo>
                  <a:cubicBezTo>
                    <a:pt x="463825" y="2190942"/>
                    <a:pt x="372762" y="2114716"/>
                    <a:pt x="295565" y="2090507"/>
                  </a:cubicBezTo>
                  <a:cubicBezTo>
                    <a:pt x="295518" y="2090486"/>
                    <a:pt x="257755" y="2074457"/>
                    <a:pt x="229495" y="2052216"/>
                  </a:cubicBezTo>
                  <a:cubicBezTo>
                    <a:pt x="229432" y="2052181"/>
                    <a:pt x="81573" y="1972362"/>
                    <a:pt x="32647" y="1970403"/>
                  </a:cubicBezTo>
                  <a:cubicBezTo>
                    <a:pt x="32584" y="1970337"/>
                    <a:pt x="-55130" y="1878435"/>
                    <a:pt x="91629" y="1884311"/>
                  </a:cubicBezTo>
                  <a:cubicBezTo>
                    <a:pt x="91675" y="1884337"/>
                    <a:pt x="267824" y="1986421"/>
                    <a:pt x="308872" y="1986745"/>
                  </a:cubicBezTo>
                  <a:cubicBezTo>
                    <a:pt x="308952" y="1986788"/>
                    <a:pt x="382852" y="2026681"/>
                    <a:pt x="428504" y="2044343"/>
                  </a:cubicBezTo>
                  <a:cubicBezTo>
                    <a:pt x="428561" y="2044363"/>
                    <a:pt x="535615" y="2082937"/>
                    <a:pt x="493475" y="2008659"/>
                  </a:cubicBezTo>
                  <a:cubicBezTo>
                    <a:pt x="493411" y="2008603"/>
                    <a:pt x="430615" y="1954646"/>
                    <a:pt x="336051" y="1935025"/>
                  </a:cubicBezTo>
                  <a:cubicBezTo>
                    <a:pt x="336010" y="1934994"/>
                    <a:pt x="293588" y="1901629"/>
                    <a:pt x="200648" y="1874156"/>
                  </a:cubicBezTo>
                  <a:cubicBezTo>
                    <a:pt x="113918" y="1856160"/>
                    <a:pt x="2170" y="1800198"/>
                    <a:pt x="2435" y="1759282"/>
                  </a:cubicBezTo>
                  <a:cubicBezTo>
                    <a:pt x="-6813" y="1724586"/>
                    <a:pt x="7591" y="1694799"/>
                    <a:pt x="92691" y="1720650"/>
                  </a:cubicBezTo>
                  <a:cubicBezTo>
                    <a:pt x="176161" y="1754357"/>
                    <a:pt x="196555" y="1774976"/>
                    <a:pt x="212323" y="1778248"/>
                  </a:cubicBezTo>
                  <a:cubicBezTo>
                    <a:pt x="235977" y="1783156"/>
                    <a:pt x="317816" y="1824719"/>
                    <a:pt x="363494" y="1842390"/>
                  </a:cubicBezTo>
                  <a:cubicBezTo>
                    <a:pt x="415426" y="1869553"/>
                    <a:pt x="571221" y="1951044"/>
                    <a:pt x="560342" y="1924204"/>
                  </a:cubicBezTo>
                  <a:cubicBezTo>
                    <a:pt x="560391" y="1924186"/>
                    <a:pt x="604614" y="1908798"/>
                    <a:pt x="529069" y="1876744"/>
                  </a:cubicBezTo>
                  <a:cubicBezTo>
                    <a:pt x="455114" y="1836817"/>
                    <a:pt x="411066" y="1811291"/>
                    <a:pt x="371644" y="1803111"/>
                  </a:cubicBezTo>
                  <a:cubicBezTo>
                    <a:pt x="332222" y="1794931"/>
                    <a:pt x="280290" y="1767769"/>
                    <a:pt x="258266" y="1755005"/>
                  </a:cubicBezTo>
                  <a:cubicBezTo>
                    <a:pt x="236242" y="1742241"/>
                    <a:pt x="200080" y="1718350"/>
                    <a:pt x="187570" y="1699365"/>
                  </a:cubicBezTo>
                  <a:cubicBezTo>
                    <a:pt x="167177" y="1678746"/>
                    <a:pt x="157927" y="1644050"/>
                    <a:pt x="157927" y="1644050"/>
                  </a:cubicBezTo>
                  <a:cubicBezTo>
                    <a:pt x="157948" y="1644029"/>
                    <a:pt x="189737" y="1609683"/>
                    <a:pt x="211755" y="1622443"/>
                  </a:cubicBezTo>
                  <a:cubicBezTo>
                    <a:pt x="233778" y="1635207"/>
                    <a:pt x="392834" y="1700984"/>
                    <a:pt x="476304" y="1734691"/>
                  </a:cubicBezTo>
                  <a:cubicBezTo>
                    <a:pt x="476382" y="1734743"/>
                    <a:pt x="620962" y="1830256"/>
                    <a:pt x="646239" y="1827308"/>
                  </a:cubicBezTo>
                  <a:cubicBezTo>
                    <a:pt x="646305" y="1827322"/>
                    <a:pt x="693533" y="1837099"/>
                    <a:pt x="676411" y="1800792"/>
                  </a:cubicBezTo>
                  <a:cubicBezTo>
                    <a:pt x="659279" y="1764461"/>
                    <a:pt x="626375" y="1724859"/>
                    <a:pt x="602722" y="1719950"/>
                  </a:cubicBezTo>
                  <a:cubicBezTo>
                    <a:pt x="586952" y="1716679"/>
                    <a:pt x="522512" y="1670532"/>
                    <a:pt x="525772" y="1654820"/>
                  </a:cubicBezTo>
                  <a:cubicBezTo>
                    <a:pt x="521147" y="1637472"/>
                    <a:pt x="511898" y="1602776"/>
                    <a:pt x="515158" y="1587065"/>
                  </a:cubicBezTo>
                  <a:cubicBezTo>
                    <a:pt x="518418" y="1571354"/>
                    <a:pt x="569250" y="1524542"/>
                    <a:pt x="611667" y="1557925"/>
                  </a:cubicBezTo>
                  <a:cubicBezTo>
                    <a:pt x="647830" y="1581816"/>
                    <a:pt x="682098" y="1654479"/>
                    <a:pt x="726145" y="1680006"/>
                  </a:cubicBezTo>
                  <a:cubicBezTo>
                    <a:pt x="760677" y="1711754"/>
                    <a:pt x="815339" y="1805036"/>
                    <a:pt x="868900" y="1824343"/>
                  </a:cubicBezTo>
                  <a:cubicBezTo>
                    <a:pt x="922463" y="1843651"/>
                    <a:pt x="1044559" y="2008283"/>
                    <a:pt x="1020375" y="2085206"/>
                  </a:cubicBezTo>
                  <a:cubicBezTo>
                    <a:pt x="1005705" y="2155908"/>
                    <a:pt x="1027728" y="2168673"/>
                    <a:pt x="1027728" y="2168673"/>
                  </a:cubicBezTo>
                  <a:cubicBezTo>
                    <a:pt x="1027856" y="2168700"/>
                    <a:pt x="1335231" y="2232474"/>
                    <a:pt x="1358880" y="2237381"/>
                  </a:cubicBezTo>
                  <a:cubicBezTo>
                    <a:pt x="1381876" y="2234700"/>
                    <a:pt x="1922646" y="2359785"/>
                    <a:pt x="2076166" y="2165092"/>
                  </a:cubicBezTo>
                  <a:lnTo>
                    <a:pt x="2054751" y="2140576"/>
                  </a:lnTo>
                  <a:cubicBezTo>
                    <a:pt x="2069786" y="2139760"/>
                    <a:pt x="2084016" y="2137273"/>
                    <a:pt x="2097155" y="2132152"/>
                  </a:cubicBezTo>
                  <a:cubicBezTo>
                    <a:pt x="2103881" y="2122197"/>
                    <a:pt x="2108160" y="2110761"/>
                    <a:pt x="2111397" y="2098530"/>
                  </a:cubicBezTo>
                  <a:lnTo>
                    <a:pt x="2127280" y="2119499"/>
                  </a:lnTo>
                  <a:cubicBezTo>
                    <a:pt x="2348896" y="2008502"/>
                    <a:pt x="2336292" y="1453924"/>
                    <a:pt x="2343587" y="1431960"/>
                  </a:cubicBezTo>
                  <a:cubicBezTo>
                    <a:pt x="2343586" y="1407803"/>
                    <a:pt x="2343587" y="1093766"/>
                    <a:pt x="2343587" y="1093756"/>
                  </a:cubicBezTo>
                  <a:cubicBezTo>
                    <a:pt x="2343575" y="1093722"/>
                    <a:pt x="2335513" y="1069599"/>
                    <a:pt x="2263354" y="1069599"/>
                  </a:cubicBezTo>
                  <a:cubicBezTo>
                    <a:pt x="2183122" y="1077652"/>
                    <a:pt x="2046727" y="924654"/>
                    <a:pt x="2038704" y="868287"/>
                  </a:cubicBezTo>
                  <a:cubicBezTo>
                    <a:pt x="2030681" y="811919"/>
                    <a:pt x="1950450" y="739447"/>
                    <a:pt x="1926379" y="699185"/>
                  </a:cubicBezTo>
                  <a:cubicBezTo>
                    <a:pt x="1910334" y="650870"/>
                    <a:pt x="1846147" y="602555"/>
                    <a:pt x="1830102" y="562293"/>
                  </a:cubicBezTo>
                  <a:cubicBezTo>
                    <a:pt x="1806032" y="513979"/>
                    <a:pt x="1862195" y="473716"/>
                    <a:pt x="1878240" y="473715"/>
                  </a:cubicBezTo>
                  <a:cubicBezTo>
                    <a:pt x="1894287" y="473716"/>
                    <a:pt x="1926380" y="489822"/>
                    <a:pt x="1942426" y="497873"/>
                  </a:cubicBezTo>
                  <a:cubicBezTo>
                    <a:pt x="1958473" y="497874"/>
                    <a:pt x="1990566" y="570346"/>
                    <a:pt x="1990566" y="586450"/>
                  </a:cubicBezTo>
                  <a:cubicBezTo>
                    <a:pt x="1990565" y="610608"/>
                    <a:pt x="2022659" y="650871"/>
                    <a:pt x="2054752" y="675027"/>
                  </a:cubicBezTo>
                  <a:cubicBezTo>
                    <a:pt x="2086830" y="699176"/>
                    <a:pt x="2086844" y="650912"/>
                    <a:pt x="2086844" y="650871"/>
                  </a:cubicBezTo>
                  <a:cubicBezTo>
                    <a:pt x="2094865" y="626717"/>
                    <a:pt x="2030704" y="465719"/>
                    <a:pt x="2030681" y="465664"/>
                  </a:cubicBezTo>
                  <a:cubicBezTo>
                    <a:pt x="2014634" y="377086"/>
                    <a:pt x="1982543" y="207985"/>
                    <a:pt x="1974520" y="183827"/>
                  </a:cubicBezTo>
                  <a:cubicBezTo>
                    <a:pt x="1966500" y="159683"/>
                    <a:pt x="2006572" y="135536"/>
                    <a:pt x="2006612" y="135513"/>
                  </a:cubicBezTo>
                  <a:cubicBezTo>
                    <a:pt x="2006643" y="135528"/>
                    <a:pt x="2038712" y="151629"/>
                    <a:pt x="2054751" y="175775"/>
                  </a:cubicBezTo>
                  <a:cubicBezTo>
                    <a:pt x="2070798" y="191880"/>
                    <a:pt x="2086844" y="232142"/>
                    <a:pt x="2094866" y="256300"/>
                  </a:cubicBezTo>
                  <a:cubicBezTo>
                    <a:pt x="2102890" y="280457"/>
                    <a:pt x="2118936" y="336824"/>
                    <a:pt x="2118937" y="377087"/>
                  </a:cubicBezTo>
                  <a:cubicBezTo>
                    <a:pt x="2118938" y="417348"/>
                    <a:pt x="2134984" y="465664"/>
                    <a:pt x="2159053" y="546189"/>
                  </a:cubicBezTo>
                  <a:cubicBezTo>
                    <a:pt x="2175093" y="626678"/>
                    <a:pt x="2199148" y="586485"/>
                    <a:pt x="2199169" y="586451"/>
                  </a:cubicBezTo>
                  <a:cubicBezTo>
                    <a:pt x="2223238" y="602555"/>
                    <a:pt x="2175099" y="433454"/>
                    <a:pt x="2159052" y="377086"/>
                  </a:cubicBezTo>
                  <a:cubicBezTo>
                    <a:pt x="2151029" y="328773"/>
                    <a:pt x="2126960" y="240195"/>
                    <a:pt x="2126961" y="216037"/>
                  </a:cubicBezTo>
                  <a:cubicBezTo>
                    <a:pt x="2126960" y="199933"/>
                    <a:pt x="2110913" y="175775"/>
                    <a:pt x="2094867" y="87197"/>
                  </a:cubicBezTo>
                  <a:cubicBezTo>
                    <a:pt x="2088850" y="20764"/>
                    <a:pt x="2105398" y="-373"/>
                    <a:pt x="2127587" y="4"/>
                  </a:cubicBez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椭圆 6"/>
            <p:cNvSpPr/>
            <p:nvPr/>
          </p:nvSpPr>
          <p:spPr>
            <a:xfrm rot="13335000">
              <a:off x="3412440" y="4026600"/>
              <a:ext cx="1952640" cy="2046600"/>
            </a:xfrm>
            <a:custGeom>
              <a:avLst/>
              <a:gdLst/>
              <a:ahLst/>
              <a:rect l="l" t="t" r="r" b="b"/>
              <a:pathLst>
                <a:path w="2664833" h="2794803">
                  <a:moveTo>
                    <a:pt x="1660630" y="1083739"/>
                  </a:moveTo>
                  <a:cubicBezTo>
                    <a:pt x="1955219" y="1083739"/>
                    <a:pt x="2194030" y="1322550"/>
                    <a:pt x="2194030" y="1617139"/>
                  </a:cubicBezTo>
                  <a:cubicBezTo>
                    <a:pt x="2194030" y="1911728"/>
                    <a:pt x="1955219" y="2150539"/>
                    <a:pt x="1660630" y="2150539"/>
                  </a:cubicBezTo>
                  <a:cubicBezTo>
                    <a:pt x="1366041" y="2150539"/>
                    <a:pt x="1127230" y="1911728"/>
                    <a:pt x="1127230" y="1617139"/>
                  </a:cubicBezTo>
                  <a:cubicBezTo>
                    <a:pt x="1127230" y="1322550"/>
                    <a:pt x="1366041" y="1083739"/>
                    <a:pt x="1660630" y="1083739"/>
                  </a:cubicBezTo>
                  <a:close/>
                  <a:moveTo>
                    <a:pt x="2127587" y="4"/>
                  </a:moveTo>
                  <a:cubicBezTo>
                    <a:pt x="2134983" y="130"/>
                    <a:pt x="2143006" y="2647"/>
                    <a:pt x="2151029" y="6673"/>
                  </a:cubicBezTo>
                  <a:cubicBezTo>
                    <a:pt x="2191146" y="14726"/>
                    <a:pt x="2223239" y="135513"/>
                    <a:pt x="2223238" y="224090"/>
                  </a:cubicBezTo>
                  <a:cubicBezTo>
                    <a:pt x="2231259" y="320687"/>
                    <a:pt x="2255316" y="369002"/>
                    <a:pt x="2255331" y="369035"/>
                  </a:cubicBezTo>
                  <a:cubicBezTo>
                    <a:pt x="2255331" y="465637"/>
                    <a:pt x="2295425" y="538097"/>
                    <a:pt x="2295448" y="538136"/>
                  </a:cubicBezTo>
                  <a:cubicBezTo>
                    <a:pt x="2359619" y="594491"/>
                    <a:pt x="2343594" y="481820"/>
                    <a:pt x="2343587" y="481769"/>
                  </a:cubicBezTo>
                  <a:cubicBezTo>
                    <a:pt x="2335566" y="433469"/>
                    <a:pt x="2311509" y="352978"/>
                    <a:pt x="2311494" y="352929"/>
                  </a:cubicBezTo>
                  <a:cubicBezTo>
                    <a:pt x="2319516" y="312674"/>
                    <a:pt x="2255353" y="119474"/>
                    <a:pt x="2255332" y="119408"/>
                  </a:cubicBezTo>
                  <a:cubicBezTo>
                    <a:pt x="2279394" y="-25495"/>
                    <a:pt x="2351569" y="79085"/>
                    <a:pt x="2351610" y="79146"/>
                  </a:cubicBezTo>
                  <a:cubicBezTo>
                    <a:pt x="2343588" y="127455"/>
                    <a:pt x="2391715" y="288473"/>
                    <a:pt x="2391726" y="288510"/>
                  </a:cubicBezTo>
                  <a:cubicBezTo>
                    <a:pt x="2407765" y="320704"/>
                    <a:pt x="2415789" y="360944"/>
                    <a:pt x="2415795" y="360982"/>
                  </a:cubicBezTo>
                  <a:cubicBezTo>
                    <a:pt x="2423816" y="441486"/>
                    <a:pt x="2479953" y="546137"/>
                    <a:pt x="2479981" y="546189"/>
                  </a:cubicBezTo>
                  <a:cubicBezTo>
                    <a:pt x="2488001" y="554239"/>
                    <a:pt x="2512059" y="538146"/>
                    <a:pt x="2512074" y="538136"/>
                  </a:cubicBezTo>
                  <a:lnTo>
                    <a:pt x="2517590" y="540039"/>
                  </a:lnTo>
                  <a:cubicBezTo>
                    <a:pt x="2522855" y="522534"/>
                    <a:pt x="2478978" y="364001"/>
                    <a:pt x="2471959" y="328773"/>
                  </a:cubicBezTo>
                  <a:cubicBezTo>
                    <a:pt x="2463935" y="296562"/>
                    <a:pt x="2415796" y="191880"/>
                    <a:pt x="2447889" y="175775"/>
                  </a:cubicBezTo>
                  <a:cubicBezTo>
                    <a:pt x="2471958" y="151617"/>
                    <a:pt x="2544167" y="216037"/>
                    <a:pt x="2560213" y="312667"/>
                  </a:cubicBezTo>
                  <a:cubicBezTo>
                    <a:pt x="2576258" y="417336"/>
                    <a:pt x="2624387" y="586409"/>
                    <a:pt x="2624399" y="586450"/>
                  </a:cubicBezTo>
                  <a:cubicBezTo>
                    <a:pt x="2712654" y="723342"/>
                    <a:pt x="2640446" y="972969"/>
                    <a:pt x="2560213" y="1021283"/>
                  </a:cubicBezTo>
                  <a:cubicBezTo>
                    <a:pt x="2471985" y="1061534"/>
                    <a:pt x="2544123" y="1125926"/>
                    <a:pt x="2544168" y="1125966"/>
                  </a:cubicBezTo>
                  <a:cubicBezTo>
                    <a:pt x="2544168" y="1125984"/>
                    <a:pt x="2544432" y="1131262"/>
                    <a:pt x="2624274" y="2725919"/>
                  </a:cubicBezTo>
                  <a:lnTo>
                    <a:pt x="2634196" y="2794803"/>
                  </a:lnTo>
                  <a:lnTo>
                    <a:pt x="2571391" y="2774996"/>
                  </a:lnTo>
                  <a:lnTo>
                    <a:pt x="2571242" y="2775720"/>
                  </a:lnTo>
                  <a:cubicBezTo>
                    <a:pt x="1018517" y="2371613"/>
                    <a:pt x="1018517" y="2371613"/>
                    <a:pt x="1018517" y="2371613"/>
                  </a:cubicBezTo>
                  <a:cubicBezTo>
                    <a:pt x="1018476" y="2371542"/>
                    <a:pt x="970086" y="2287856"/>
                    <a:pt x="912758" y="2366058"/>
                  </a:cubicBezTo>
                  <a:cubicBezTo>
                    <a:pt x="849151" y="2434802"/>
                    <a:pt x="590061" y="2454791"/>
                    <a:pt x="473953" y="2340566"/>
                  </a:cubicBezTo>
                  <a:cubicBezTo>
                    <a:pt x="473876" y="2340525"/>
                    <a:pt x="318133" y="2259067"/>
                    <a:pt x="218918" y="2222097"/>
                  </a:cubicBezTo>
                  <a:cubicBezTo>
                    <a:pt x="127565" y="2186755"/>
                    <a:pt x="79158" y="2102964"/>
                    <a:pt x="107701" y="2084303"/>
                  </a:cubicBezTo>
                  <a:cubicBezTo>
                    <a:pt x="129990" y="2056153"/>
                    <a:pt x="222711" y="2124556"/>
                    <a:pt x="252618" y="2138954"/>
                  </a:cubicBezTo>
                  <a:cubicBezTo>
                    <a:pt x="290411" y="2154990"/>
                    <a:pt x="476114" y="2250879"/>
                    <a:pt x="449466" y="2220767"/>
                  </a:cubicBezTo>
                  <a:cubicBezTo>
                    <a:pt x="449493" y="2220742"/>
                    <a:pt x="470121" y="2200465"/>
                    <a:pt x="463871" y="2190980"/>
                  </a:cubicBezTo>
                  <a:cubicBezTo>
                    <a:pt x="463825" y="2190942"/>
                    <a:pt x="372762" y="2114716"/>
                    <a:pt x="295565" y="2090507"/>
                  </a:cubicBezTo>
                  <a:cubicBezTo>
                    <a:pt x="295518" y="2090486"/>
                    <a:pt x="257755" y="2074457"/>
                    <a:pt x="229495" y="2052216"/>
                  </a:cubicBezTo>
                  <a:cubicBezTo>
                    <a:pt x="229432" y="2052181"/>
                    <a:pt x="81573" y="1972362"/>
                    <a:pt x="32647" y="1970403"/>
                  </a:cubicBezTo>
                  <a:cubicBezTo>
                    <a:pt x="32584" y="1970337"/>
                    <a:pt x="-55130" y="1878435"/>
                    <a:pt x="91629" y="1884311"/>
                  </a:cubicBezTo>
                  <a:cubicBezTo>
                    <a:pt x="91675" y="1884337"/>
                    <a:pt x="267824" y="1986421"/>
                    <a:pt x="308872" y="1986745"/>
                  </a:cubicBezTo>
                  <a:cubicBezTo>
                    <a:pt x="308952" y="1986788"/>
                    <a:pt x="382852" y="2026681"/>
                    <a:pt x="428504" y="2044343"/>
                  </a:cubicBezTo>
                  <a:cubicBezTo>
                    <a:pt x="428561" y="2044363"/>
                    <a:pt x="535615" y="2082937"/>
                    <a:pt x="493475" y="2008659"/>
                  </a:cubicBezTo>
                  <a:cubicBezTo>
                    <a:pt x="493411" y="2008603"/>
                    <a:pt x="430615" y="1954646"/>
                    <a:pt x="336051" y="1935025"/>
                  </a:cubicBezTo>
                  <a:cubicBezTo>
                    <a:pt x="336010" y="1934994"/>
                    <a:pt x="293588" y="1901629"/>
                    <a:pt x="200648" y="1874156"/>
                  </a:cubicBezTo>
                  <a:cubicBezTo>
                    <a:pt x="113918" y="1856160"/>
                    <a:pt x="2170" y="1800198"/>
                    <a:pt x="2435" y="1759282"/>
                  </a:cubicBezTo>
                  <a:cubicBezTo>
                    <a:pt x="-6813" y="1724586"/>
                    <a:pt x="7591" y="1694799"/>
                    <a:pt x="92691" y="1720650"/>
                  </a:cubicBezTo>
                  <a:cubicBezTo>
                    <a:pt x="176161" y="1754357"/>
                    <a:pt x="196555" y="1774976"/>
                    <a:pt x="212323" y="1778248"/>
                  </a:cubicBezTo>
                  <a:cubicBezTo>
                    <a:pt x="235977" y="1783156"/>
                    <a:pt x="317816" y="1824719"/>
                    <a:pt x="363494" y="1842390"/>
                  </a:cubicBezTo>
                  <a:cubicBezTo>
                    <a:pt x="415426" y="1869553"/>
                    <a:pt x="571221" y="1951044"/>
                    <a:pt x="560342" y="1924204"/>
                  </a:cubicBezTo>
                  <a:cubicBezTo>
                    <a:pt x="560391" y="1924186"/>
                    <a:pt x="604614" y="1908798"/>
                    <a:pt x="529069" y="1876744"/>
                  </a:cubicBezTo>
                  <a:cubicBezTo>
                    <a:pt x="455114" y="1836817"/>
                    <a:pt x="411066" y="1811291"/>
                    <a:pt x="371644" y="1803111"/>
                  </a:cubicBezTo>
                  <a:cubicBezTo>
                    <a:pt x="332222" y="1794931"/>
                    <a:pt x="280290" y="1767769"/>
                    <a:pt x="258266" y="1755005"/>
                  </a:cubicBezTo>
                  <a:cubicBezTo>
                    <a:pt x="236242" y="1742241"/>
                    <a:pt x="200080" y="1718350"/>
                    <a:pt x="187570" y="1699365"/>
                  </a:cubicBezTo>
                  <a:cubicBezTo>
                    <a:pt x="167177" y="1678746"/>
                    <a:pt x="157927" y="1644050"/>
                    <a:pt x="157927" y="1644050"/>
                  </a:cubicBezTo>
                  <a:cubicBezTo>
                    <a:pt x="157948" y="1644029"/>
                    <a:pt x="189737" y="1609683"/>
                    <a:pt x="211755" y="1622443"/>
                  </a:cubicBezTo>
                  <a:cubicBezTo>
                    <a:pt x="233778" y="1635207"/>
                    <a:pt x="392834" y="1700984"/>
                    <a:pt x="476304" y="1734691"/>
                  </a:cubicBezTo>
                  <a:cubicBezTo>
                    <a:pt x="476382" y="1734743"/>
                    <a:pt x="620962" y="1830256"/>
                    <a:pt x="646239" y="1827308"/>
                  </a:cubicBezTo>
                  <a:cubicBezTo>
                    <a:pt x="646305" y="1827322"/>
                    <a:pt x="693533" y="1837099"/>
                    <a:pt x="676411" y="1800792"/>
                  </a:cubicBezTo>
                  <a:cubicBezTo>
                    <a:pt x="659279" y="1764461"/>
                    <a:pt x="626375" y="1724859"/>
                    <a:pt x="602722" y="1719950"/>
                  </a:cubicBezTo>
                  <a:cubicBezTo>
                    <a:pt x="586952" y="1716679"/>
                    <a:pt x="522512" y="1670532"/>
                    <a:pt x="525772" y="1654820"/>
                  </a:cubicBezTo>
                  <a:cubicBezTo>
                    <a:pt x="521147" y="1637472"/>
                    <a:pt x="511898" y="1602776"/>
                    <a:pt x="515158" y="1587065"/>
                  </a:cubicBezTo>
                  <a:cubicBezTo>
                    <a:pt x="518418" y="1571354"/>
                    <a:pt x="569250" y="1524542"/>
                    <a:pt x="611667" y="1557925"/>
                  </a:cubicBezTo>
                  <a:cubicBezTo>
                    <a:pt x="647830" y="1581816"/>
                    <a:pt x="682098" y="1654479"/>
                    <a:pt x="726145" y="1680006"/>
                  </a:cubicBezTo>
                  <a:cubicBezTo>
                    <a:pt x="760677" y="1711754"/>
                    <a:pt x="815339" y="1805036"/>
                    <a:pt x="868900" y="1824343"/>
                  </a:cubicBezTo>
                  <a:cubicBezTo>
                    <a:pt x="922463" y="1843651"/>
                    <a:pt x="1044559" y="2008283"/>
                    <a:pt x="1020375" y="2085206"/>
                  </a:cubicBezTo>
                  <a:cubicBezTo>
                    <a:pt x="1005705" y="2155908"/>
                    <a:pt x="1027728" y="2168673"/>
                    <a:pt x="1027728" y="2168673"/>
                  </a:cubicBezTo>
                  <a:cubicBezTo>
                    <a:pt x="1027856" y="2168700"/>
                    <a:pt x="1335231" y="2232474"/>
                    <a:pt x="1358880" y="2237381"/>
                  </a:cubicBezTo>
                  <a:cubicBezTo>
                    <a:pt x="1381876" y="2234700"/>
                    <a:pt x="1922646" y="2359785"/>
                    <a:pt x="2076166" y="2165092"/>
                  </a:cubicBezTo>
                  <a:lnTo>
                    <a:pt x="2054751" y="2140576"/>
                  </a:lnTo>
                  <a:cubicBezTo>
                    <a:pt x="2069786" y="2139760"/>
                    <a:pt x="2084016" y="2137273"/>
                    <a:pt x="2097155" y="2132152"/>
                  </a:cubicBezTo>
                  <a:cubicBezTo>
                    <a:pt x="2103881" y="2122197"/>
                    <a:pt x="2108160" y="2110761"/>
                    <a:pt x="2111397" y="2098530"/>
                  </a:cubicBezTo>
                  <a:lnTo>
                    <a:pt x="2127280" y="2119499"/>
                  </a:lnTo>
                  <a:cubicBezTo>
                    <a:pt x="2348896" y="2008502"/>
                    <a:pt x="2336292" y="1453924"/>
                    <a:pt x="2343587" y="1431960"/>
                  </a:cubicBezTo>
                  <a:cubicBezTo>
                    <a:pt x="2343586" y="1407803"/>
                    <a:pt x="2343587" y="1093766"/>
                    <a:pt x="2343587" y="1093756"/>
                  </a:cubicBezTo>
                  <a:cubicBezTo>
                    <a:pt x="2343575" y="1093722"/>
                    <a:pt x="2335513" y="1069599"/>
                    <a:pt x="2263354" y="1069599"/>
                  </a:cubicBezTo>
                  <a:cubicBezTo>
                    <a:pt x="2183122" y="1077652"/>
                    <a:pt x="2046727" y="924654"/>
                    <a:pt x="2038704" y="868287"/>
                  </a:cubicBezTo>
                  <a:cubicBezTo>
                    <a:pt x="2030681" y="811919"/>
                    <a:pt x="1950450" y="739447"/>
                    <a:pt x="1926379" y="699185"/>
                  </a:cubicBezTo>
                  <a:cubicBezTo>
                    <a:pt x="1910334" y="650870"/>
                    <a:pt x="1846147" y="602555"/>
                    <a:pt x="1830102" y="562293"/>
                  </a:cubicBezTo>
                  <a:cubicBezTo>
                    <a:pt x="1806032" y="513979"/>
                    <a:pt x="1862195" y="473716"/>
                    <a:pt x="1878240" y="473715"/>
                  </a:cubicBezTo>
                  <a:cubicBezTo>
                    <a:pt x="1894287" y="473716"/>
                    <a:pt x="1926380" y="489822"/>
                    <a:pt x="1942426" y="497873"/>
                  </a:cubicBezTo>
                  <a:cubicBezTo>
                    <a:pt x="1958473" y="497874"/>
                    <a:pt x="1990566" y="570346"/>
                    <a:pt x="1990566" y="586450"/>
                  </a:cubicBezTo>
                  <a:cubicBezTo>
                    <a:pt x="1990565" y="610608"/>
                    <a:pt x="2022659" y="650871"/>
                    <a:pt x="2054752" y="675027"/>
                  </a:cubicBezTo>
                  <a:cubicBezTo>
                    <a:pt x="2086830" y="699176"/>
                    <a:pt x="2086844" y="650912"/>
                    <a:pt x="2086844" y="650871"/>
                  </a:cubicBezTo>
                  <a:cubicBezTo>
                    <a:pt x="2094865" y="626717"/>
                    <a:pt x="2030704" y="465719"/>
                    <a:pt x="2030681" y="465664"/>
                  </a:cubicBezTo>
                  <a:cubicBezTo>
                    <a:pt x="2014634" y="377086"/>
                    <a:pt x="1982543" y="207985"/>
                    <a:pt x="1974520" y="183827"/>
                  </a:cubicBezTo>
                  <a:cubicBezTo>
                    <a:pt x="1966500" y="159683"/>
                    <a:pt x="2006572" y="135536"/>
                    <a:pt x="2006612" y="135513"/>
                  </a:cubicBezTo>
                  <a:cubicBezTo>
                    <a:pt x="2006643" y="135528"/>
                    <a:pt x="2038712" y="151629"/>
                    <a:pt x="2054751" y="175775"/>
                  </a:cubicBezTo>
                  <a:cubicBezTo>
                    <a:pt x="2070798" y="191880"/>
                    <a:pt x="2086844" y="232142"/>
                    <a:pt x="2094866" y="256300"/>
                  </a:cubicBezTo>
                  <a:cubicBezTo>
                    <a:pt x="2102890" y="280457"/>
                    <a:pt x="2118936" y="336824"/>
                    <a:pt x="2118937" y="377087"/>
                  </a:cubicBezTo>
                  <a:cubicBezTo>
                    <a:pt x="2118938" y="417348"/>
                    <a:pt x="2134984" y="465664"/>
                    <a:pt x="2159053" y="546189"/>
                  </a:cubicBezTo>
                  <a:cubicBezTo>
                    <a:pt x="2175093" y="626678"/>
                    <a:pt x="2199148" y="586485"/>
                    <a:pt x="2199169" y="586451"/>
                  </a:cubicBezTo>
                  <a:cubicBezTo>
                    <a:pt x="2223238" y="602555"/>
                    <a:pt x="2175099" y="433454"/>
                    <a:pt x="2159052" y="377086"/>
                  </a:cubicBezTo>
                  <a:cubicBezTo>
                    <a:pt x="2151029" y="328773"/>
                    <a:pt x="2126960" y="240195"/>
                    <a:pt x="2126961" y="216037"/>
                  </a:cubicBezTo>
                  <a:cubicBezTo>
                    <a:pt x="2126960" y="199933"/>
                    <a:pt x="2110913" y="175775"/>
                    <a:pt x="2094867" y="87197"/>
                  </a:cubicBezTo>
                  <a:cubicBezTo>
                    <a:pt x="2088850" y="20764"/>
                    <a:pt x="2105398" y="-373"/>
                    <a:pt x="2127587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7e0000"/>
                </a:gs>
              </a:gsLst>
              <a:lin ang="1186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椭圆 6"/>
            <p:cNvSpPr/>
            <p:nvPr/>
          </p:nvSpPr>
          <p:spPr>
            <a:xfrm rot="17499600">
              <a:off x="1730520" y="2855520"/>
              <a:ext cx="1951560" cy="2047680"/>
            </a:xfrm>
            <a:custGeom>
              <a:avLst/>
              <a:gdLst/>
              <a:ahLst/>
              <a:rect l="l" t="t" r="r" b="b"/>
              <a:pathLst>
                <a:path w="2664833" h="2794803">
                  <a:moveTo>
                    <a:pt x="1660630" y="1083739"/>
                  </a:moveTo>
                  <a:cubicBezTo>
                    <a:pt x="1955219" y="1083739"/>
                    <a:pt x="2194030" y="1322550"/>
                    <a:pt x="2194030" y="1617139"/>
                  </a:cubicBezTo>
                  <a:cubicBezTo>
                    <a:pt x="2194030" y="1911728"/>
                    <a:pt x="1955219" y="2150539"/>
                    <a:pt x="1660630" y="2150539"/>
                  </a:cubicBezTo>
                  <a:cubicBezTo>
                    <a:pt x="1366041" y="2150539"/>
                    <a:pt x="1127230" y="1911728"/>
                    <a:pt x="1127230" y="1617139"/>
                  </a:cubicBezTo>
                  <a:cubicBezTo>
                    <a:pt x="1127230" y="1322550"/>
                    <a:pt x="1366041" y="1083739"/>
                    <a:pt x="1660630" y="1083739"/>
                  </a:cubicBezTo>
                  <a:close/>
                  <a:moveTo>
                    <a:pt x="2127587" y="4"/>
                  </a:moveTo>
                  <a:cubicBezTo>
                    <a:pt x="2134983" y="130"/>
                    <a:pt x="2143006" y="2647"/>
                    <a:pt x="2151029" y="6673"/>
                  </a:cubicBezTo>
                  <a:cubicBezTo>
                    <a:pt x="2191146" y="14726"/>
                    <a:pt x="2223239" y="135513"/>
                    <a:pt x="2223238" y="224090"/>
                  </a:cubicBezTo>
                  <a:cubicBezTo>
                    <a:pt x="2231259" y="320687"/>
                    <a:pt x="2255316" y="369002"/>
                    <a:pt x="2255331" y="369035"/>
                  </a:cubicBezTo>
                  <a:cubicBezTo>
                    <a:pt x="2255331" y="465637"/>
                    <a:pt x="2295425" y="538097"/>
                    <a:pt x="2295448" y="538136"/>
                  </a:cubicBezTo>
                  <a:cubicBezTo>
                    <a:pt x="2359619" y="594491"/>
                    <a:pt x="2343594" y="481820"/>
                    <a:pt x="2343587" y="481769"/>
                  </a:cubicBezTo>
                  <a:cubicBezTo>
                    <a:pt x="2335566" y="433469"/>
                    <a:pt x="2311509" y="352978"/>
                    <a:pt x="2311494" y="352929"/>
                  </a:cubicBezTo>
                  <a:cubicBezTo>
                    <a:pt x="2319516" y="312674"/>
                    <a:pt x="2255353" y="119474"/>
                    <a:pt x="2255332" y="119408"/>
                  </a:cubicBezTo>
                  <a:cubicBezTo>
                    <a:pt x="2279394" y="-25495"/>
                    <a:pt x="2351569" y="79085"/>
                    <a:pt x="2351610" y="79146"/>
                  </a:cubicBezTo>
                  <a:cubicBezTo>
                    <a:pt x="2343588" y="127455"/>
                    <a:pt x="2391715" y="288473"/>
                    <a:pt x="2391726" y="288510"/>
                  </a:cubicBezTo>
                  <a:cubicBezTo>
                    <a:pt x="2407765" y="320704"/>
                    <a:pt x="2415789" y="360944"/>
                    <a:pt x="2415795" y="360982"/>
                  </a:cubicBezTo>
                  <a:cubicBezTo>
                    <a:pt x="2423816" y="441486"/>
                    <a:pt x="2479953" y="546137"/>
                    <a:pt x="2479981" y="546189"/>
                  </a:cubicBezTo>
                  <a:cubicBezTo>
                    <a:pt x="2488001" y="554239"/>
                    <a:pt x="2512059" y="538146"/>
                    <a:pt x="2512074" y="538136"/>
                  </a:cubicBezTo>
                  <a:lnTo>
                    <a:pt x="2517590" y="540039"/>
                  </a:lnTo>
                  <a:cubicBezTo>
                    <a:pt x="2522855" y="522534"/>
                    <a:pt x="2478978" y="364001"/>
                    <a:pt x="2471959" y="328773"/>
                  </a:cubicBezTo>
                  <a:cubicBezTo>
                    <a:pt x="2463935" y="296562"/>
                    <a:pt x="2415796" y="191880"/>
                    <a:pt x="2447889" y="175775"/>
                  </a:cubicBezTo>
                  <a:cubicBezTo>
                    <a:pt x="2471958" y="151617"/>
                    <a:pt x="2544167" y="216037"/>
                    <a:pt x="2560213" y="312667"/>
                  </a:cubicBezTo>
                  <a:cubicBezTo>
                    <a:pt x="2576258" y="417336"/>
                    <a:pt x="2624387" y="586409"/>
                    <a:pt x="2624399" y="586450"/>
                  </a:cubicBezTo>
                  <a:cubicBezTo>
                    <a:pt x="2712654" y="723342"/>
                    <a:pt x="2640446" y="972969"/>
                    <a:pt x="2560213" y="1021283"/>
                  </a:cubicBezTo>
                  <a:cubicBezTo>
                    <a:pt x="2471985" y="1061534"/>
                    <a:pt x="2544123" y="1125926"/>
                    <a:pt x="2544168" y="1125966"/>
                  </a:cubicBezTo>
                  <a:cubicBezTo>
                    <a:pt x="2544168" y="1125984"/>
                    <a:pt x="2544432" y="1131262"/>
                    <a:pt x="2624274" y="2725919"/>
                  </a:cubicBezTo>
                  <a:lnTo>
                    <a:pt x="2634196" y="2794803"/>
                  </a:lnTo>
                  <a:lnTo>
                    <a:pt x="2571391" y="2774996"/>
                  </a:lnTo>
                  <a:lnTo>
                    <a:pt x="2571242" y="2775720"/>
                  </a:lnTo>
                  <a:cubicBezTo>
                    <a:pt x="1018517" y="2371613"/>
                    <a:pt x="1018517" y="2371613"/>
                    <a:pt x="1018517" y="2371613"/>
                  </a:cubicBezTo>
                  <a:cubicBezTo>
                    <a:pt x="1018476" y="2371542"/>
                    <a:pt x="970086" y="2287856"/>
                    <a:pt x="912758" y="2366058"/>
                  </a:cubicBezTo>
                  <a:cubicBezTo>
                    <a:pt x="849151" y="2434802"/>
                    <a:pt x="590061" y="2454791"/>
                    <a:pt x="473953" y="2340566"/>
                  </a:cubicBezTo>
                  <a:cubicBezTo>
                    <a:pt x="473876" y="2340525"/>
                    <a:pt x="318133" y="2259067"/>
                    <a:pt x="218918" y="2222097"/>
                  </a:cubicBezTo>
                  <a:cubicBezTo>
                    <a:pt x="127565" y="2186755"/>
                    <a:pt x="79158" y="2102964"/>
                    <a:pt x="107701" y="2084303"/>
                  </a:cubicBezTo>
                  <a:cubicBezTo>
                    <a:pt x="129990" y="2056153"/>
                    <a:pt x="222711" y="2124556"/>
                    <a:pt x="252618" y="2138954"/>
                  </a:cubicBezTo>
                  <a:cubicBezTo>
                    <a:pt x="290411" y="2154990"/>
                    <a:pt x="476114" y="2250879"/>
                    <a:pt x="449466" y="2220767"/>
                  </a:cubicBezTo>
                  <a:cubicBezTo>
                    <a:pt x="449493" y="2220742"/>
                    <a:pt x="470121" y="2200465"/>
                    <a:pt x="463871" y="2190980"/>
                  </a:cubicBezTo>
                  <a:cubicBezTo>
                    <a:pt x="463825" y="2190942"/>
                    <a:pt x="372762" y="2114716"/>
                    <a:pt x="295565" y="2090507"/>
                  </a:cubicBezTo>
                  <a:cubicBezTo>
                    <a:pt x="295518" y="2090486"/>
                    <a:pt x="257755" y="2074457"/>
                    <a:pt x="229495" y="2052216"/>
                  </a:cubicBezTo>
                  <a:cubicBezTo>
                    <a:pt x="229432" y="2052181"/>
                    <a:pt x="81573" y="1972362"/>
                    <a:pt x="32647" y="1970403"/>
                  </a:cubicBezTo>
                  <a:cubicBezTo>
                    <a:pt x="32584" y="1970337"/>
                    <a:pt x="-55130" y="1878435"/>
                    <a:pt x="91629" y="1884311"/>
                  </a:cubicBezTo>
                  <a:cubicBezTo>
                    <a:pt x="91675" y="1884337"/>
                    <a:pt x="267824" y="1986421"/>
                    <a:pt x="308872" y="1986745"/>
                  </a:cubicBezTo>
                  <a:cubicBezTo>
                    <a:pt x="308952" y="1986788"/>
                    <a:pt x="382852" y="2026681"/>
                    <a:pt x="428504" y="2044343"/>
                  </a:cubicBezTo>
                  <a:cubicBezTo>
                    <a:pt x="428561" y="2044363"/>
                    <a:pt x="535615" y="2082937"/>
                    <a:pt x="493475" y="2008659"/>
                  </a:cubicBezTo>
                  <a:cubicBezTo>
                    <a:pt x="493411" y="2008603"/>
                    <a:pt x="430615" y="1954646"/>
                    <a:pt x="336051" y="1935025"/>
                  </a:cubicBezTo>
                  <a:cubicBezTo>
                    <a:pt x="336010" y="1934994"/>
                    <a:pt x="293588" y="1901629"/>
                    <a:pt x="200648" y="1874156"/>
                  </a:cubicBezTo>
                  <a:cubicBezTo>
                    <a:pt x="113918" y="1856160"/>
                    <a:pt x="2170" y="1800198"/>
                    <a:pt x="2435" y="1759282"/>
                  </a:cubicBezTo>
                  <a:cubicBezTo>
                    <a:pt x="-6813" y="1724586"/>
                    <a:pt x="7591" y="1694799"/>
                    <a:pt x="92691" y="1720650"/>
                  </a:cubicBezTo>
                  <a:cubicBezTo>
                    <a:pt x="176161" y="1754357"/>
                    <a:pt x="196555" y="1774976"/>
                    <a:pt x="212323" y="1778248"/>
                  </a:cubicBezTo>
                  <a:cubicBezTo>
                    <a:pt x="235977" y="1783156"/>
                    <a:pt x="317816" y="1824719"/>
                    <a:pt x="363494" y="1842390"/>
                  </a:cubicBezTo>
                  <a:cubicBezTo>
                    <a:pt x="415426" y="1869553"/>
                    <a:pt x="571221" y="1951044"/>
                    <a:pt x="560342" y="1924204"/>
                  </a:cubicBezTo>
                  <a:cubicBezTo>
                    <a:pt x="560391" y="1924186"/>
                    <a:pt x="604614" y="1908798"/>
                    <a:pt x="529069" y="1876744"/>
                  </a:cubicBezTo>
                  <a:cubicBezTo>
                    <a:pt x="455114" y="1836817"/>
                    <a:pt x="411066" y="1811291"/>
                    <a:pt x="371644" y="1803111"/>
                  </a:cubicBezTo>
                  <a:cubicBezTo>
                    <a:pt x="332222" y="1794931"/>
                    <a:pt x="280290" y="1767769"/>
                    <a:pt x="258266" y="1755005"/>
                  </a:cubicBezTo>
                  <a:cubicBezTo>
                    <a:pt x="236242" y="1742241"/>
                    <a:pt x="200080" y="1718350"/>
                    <a:pt x="187570" y="1699365"/>
                  </a:cubicBezTo>
                  <a:cubicBezTo>
                    <a:pt x="167177" y="1678746"/>
                    <a:pt x="157927" y="1644050"/>
                    <a:pt x="157927" y="1644050"/>
                  </a:cubicBezTo>
                  <a:cubicBezTo>
                    <a:pt x="157948" y="1644029"/>
                    <a:pt x="189737" y="1609683"/>
                    <a:pt x="211755" y="1622443"/>
                  </a:cubicBezTo>
                  <a:cubicBezTo>
                    <a:pt x="233778" y="1635207"/>
                    <a:pt x="392834" y="1700984"/>
                    <a:pt x="476304" y="1734691"/>
                  </a:cubicBezTo>
                  <a:cubicBezTo>
                    <a:pt x="476382" y="1734743"/>
                    <a:pt x="620962" y="1830256"/>
                    <a:pt x="646239" y="1827308"/>
                  </a:cubicBezTo>
                  <a:cubicBezTo>
                    <a:pt x="646305" y="1827322"/>
                    <a:pt x="693533" y="1837099"/>
                    <a:pt x="676411" y="1800792"/>
                  </a:cubicBezTo>
                  <a:cubicBezTo>
                    <a:pt x="659279" y="1764461"/>
                    <a:pt x="626375" y="1724859"/>
                    <a:pt x="602722" y="1719950"/>
                  </a:cubicBezTo>
                  <a:cubicBezTo>
                    <a:pt x="586952" y="1716679"/>
                    <a:pt x="522512" y="1670532"/>
                    <a:pt x="525772" y="1654820"/>
                  </a:cubicBezTo>
                  <a:cubicBezTo>
                    <a:pt x="521147" y="1637472"/>
                    <a:pt x="511898" y="1602776"/>
                    <a:pt x="515158" y="1587065"/>
                  </a:cubicBezTo>
                  <a:cubicBezTo>
                    <a:pt x="518418" y="1571354"/>
                    <a:pt x="569250" y="1524542"/>
                    <a:pt x="611667" y="1557925"/>
                  </a:cubicBezTo>
                  <a:cubicBezTo>
                    <a:pt x="647830" y="1581816"/>
                    <a:pt x="682098" y="1654479"/>
                    <a:pt x="726145" y="1680006"/>
                  </a:cubicBezTo>
                  <a:cubicBezTo>
                    <a:pt x="760677" y="1711754"/>
                    <a:pt x="815339" y="1805036"/>
                    <a:pt x="868900" y="1824343"/>
                  </a:cubicBezTo>
                  <a:cubicBezTo>
                    <a:pt x="922463" y="1843651"/>
                    <a:pt x="1044559" y="2008283"/>
                    <a:pt x="1020375" y="2085206"/>
                  </a:cubicBezTo>
                  <a:cubicBezTo>
                    <a:pt x="1005705" y="2155908"/>
                    <a:pt x="1027728" y="2168673"/>
                    <a:pt x="1027728" y="2168673"/>
                  </a:cubicBezTo>
                  <a:cubicBezTo>
                    <a:pt x="1027856" y="2168700"/>
                    <a:pt x="1335231" y="2232474"/>
                    <a:pt x="1358880" y="2237381"/>
                  </a:cubicBezTo>
                  <a:cubicBezTo>
                    <a:pt x="1381876" y="2234700"/>
                    <a:pt x="1922646" y="2359785"/>
                    <a:pt x="2076166" y="2165092"/>
                  </a:cubicBezTo>
                  <a:lnTo>
                    <a:pt x="2054751" y="2140576"/>
                  </a:lnTo>
                  <a:cubicBezTo>
                    <a:pt x="2069786" y="2139760"/>
                    <a:pt x="2084016" y="2137273"/>
                    <a:pt x="2097155" y="2132152"/>
                  </a:cubicBezTo>
                  <a:cubicBezTo>
                    <a:pt x="2103881" y="2122197"/>
                    <a:pt x="2108160" y="2110761"/>
                    <a:pt x="2111397" y="2098530"/>
                  </a:cubicBezTo>
                  <a:lnTo>
                    <a:pt x="2127280" y="2119499"/>
                  </a:lnTo>
                  <a:cubicBezTo>
                    <a:pt x="2348896" y="2008502"/>
                    <a:pt x="2336292" y="1453924"/>
                    <a:pt x="2343587" y="1431960"/>
                  </a:cubicBezTo>
                  <a:cubicBezTo>
                    <a:pt x="2343586" y="1407803"/>
                    <a:pt x="2343587" y="1093766"/>
                    <a:pt x="2343587" y="1093756"/>
                  </a:cubicBezTo>
                  <a:cubicBezTo>
                    <a:pt x="2343575" y="1093722"/>
                    <a:pt x="2335513" y="1069599"/>
                    <a:pt x="2263354" y="1069599"/>
                  </a:cubicBezTo>
                  <a:cubicBezTo>
                    <a:pt x="2183122" y="1077652"/>
                    <a:pt x="2046727" y="924654"/>
                    <a:pt x="2038704" y="868287"/>
                  </a:cubicBezTo>
                  <a:cubicBezTo>
                    <a:pt x="2030681" y="811919"/>
                    <a:pt x="1950450" y="739447"/>
                    <a:pt x="1926379" y="699185"/>
                  </a:cubicBezTo>
                  <a:cubicBezTo>
                    <a:pt x="1910334" y="650870"/>
                    <a:pt x="1846147" y="602555"/>
                    <a:pt x="1830102" y="562293"/>
                  </a:cubicBezTo>
                  <a:cubicBezTo>
                    <a:pt x="1806032" y="513979"/>
                    <a:pt x="1862195" y="473716"/>
                    <a:pt x="1878240" y="473715"/>
                  </a:cubicBezTo>
                  <a:cubicBezTo>
                    <a:pt x="1894287" y="473716"/>
                    <a:pt x="1926380" y="489822"/>
                    <a:pt x="1942426" y="497873"/>
                  </a:cubicBezTo>
                  <a:cubicBezTo>
                    <a:pt x="1958473" y="497874"/>
                    <a:pt x="1990566" y="570346"/>
                    <a:pt x="1990566" y="586450"/>
                  </a:cubicBezTo>
                  <a:cubicBezTo>
                    <a:pt x="1990565" y="610608"/>
                    <a:pt x="2022659" y="650871"/>
                    <a:pt x="2054752" y="675027"/>
                  </a:cubicBezTo>
                  <a:cubicBezTo>
                    <a:pt x="2086830" y="699176"/>
                    <a:pt x="2086844" y="650912"/>
                    <a:pt x="2086844" y="650871"/>
                  </a:cubicBezTo>
                  <a:cubicBezTo>
                    <a:pt x="2094865" y="626717"/>
                    <a:pt x="2030704" y="465719"/>
                    <a:pt x="2030681" y="465664"/>
                  </a:cubicBezTo>
                  <a:cubicBezTo>
                    <a:pt x="2014634" y="377086"/>
                    <a:pt x="1982543" y="207985"/>
                    <a:pt x="1974520" y="183827"/>
                  </a:cubicBezTo>
                  <a:cubicBezTo>
                    <a:pt x="1966500" y="159683"/>
                    <a:pt x="2006572" y="135536"/>
                    <a:pt x="2006612" y="135513"/>
                  </a:cubicBezTo>
                  <a:cubicBezTo>
                    <a:pt x="2006643" y="135528"/>
                    <a:pt x="2038712" y="151629"/>
                    <a:pt x="2054751" y="175775"/>
                  </a:cubicBezTo>
                  <a:cubicBezTo>
                    <a:pt x="2070798" y="191880"/>
                    <a:pt x="2086844" y="232142"/>
                    <a:pt x="2094866" y="256300"/>
                  </a:cubicBezTo>
                  <a:cubicBezTo>
                    <a:pt x="2102890" y="280457"/>
                    <a:pt x="2118936" y="336824"/>
                    <a:pt x="2118937" y="377087"/>
                  </a:cubicBezTo>
                  <a:cubicBezTo>
                    <a:pt x="2118938" y="417348"/>
                    <a:pt x="2134984" y="465664"/>
                    <a:pt x="2159053" y="546189"/>
                  </a:cubicBezTo>
                  <a:cubicBezTo>
                    <a:pt x="2175093" y="626678"/>
                    <a:pt x="2199148" y="586485"/>
                    <a:pt x="2199169" y="586451"/>
                  </a:cubicBezTo>
                  <a:cubicBezTo>
                    <a:pt x="2223238" y="602555"/>
                    <a:pt x="2175099" y="433454"/>
                    <a:pt x="2159052" y="377086"/>
                  </a:cubicBezTo>
                  <a:cubicBezTo>
                    <a:pt x="2151029" y="328773"/>
                    <a:pt x="2126960" y="240195"/>
                    <a:pt x="2126961" y="216037"/>
                  </a:cubicBezTo>
                  <a:cubicBezTo>
                    <a:pt x="2126960" y="199933"/>
                    <a:pt x="2110913" y="175775"/>
                    <a:pt x="2094867" y="87197"/>
                  </a:cubicBezTo>
                  <a:cubicBezTo>
                    <a:pt x="2088850" y="20764"/>
                    <a:pt x="2105398" y="-373"/>
                    <a:pt x="2127587" y="4"/>
                  </a:cubicBezTo>
                  <a:close/>
                </a:path>
              </a:pathLst>
            </a:custGeom>
            <a:solidFill>
              <a:srgbClr val="7575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椭圆 6"/>
            <p:cNvSpPr/>
            <p:nvPr/>
          </p:nvSpPr>
          <p:spPr>
            <a:xfrm rot="4455000">
              <a:off x="4350960" y="721800"/>
              <a:ext cx="1951560" cy="2047680"/>
            </a:xfrm>
            <a:custGeom>
              <a:avLst/>
              <a:gdLst/>
              <a:ahLst/>
              <a:rect l="l" t="t" r="r" b="b"/>
              <a:pathLst>
                <a:path w="2664833" h="2794803">
                  <a:moveTo>
                    <a:pt x="1660630" y="1083739"/>
                  </a:moveTo>
                  <a:cubicBezTo>
                    <a:pt x="1955219" y="1083739"/>
                    <a:pt x="2194030" y="1322550"/>
                    <a:pt x="2194030" y="1617139"/>
                  </a:cubicBezTo>
                  <a:cubicBezTo>
                    <a:pt x="2194030" y="1911728"/>
                    <a:pt x="1955219" y="2150539"/>
                    <a:pt x="1660630" y="2150539"/>
                  </a:cubicBezTo>
                  <a:cubicBezTo>
                    <a:pt x="1366041" y="2150539"/>
                    <a:pt x="1127230" y="1911728"/>
                    <a:pt x="1127230" y="1617139"/>
                  </a:cubicBezTo>
                  <a:cubicBezTo>
                    <a:pt x="1127230" y="1322550"/>
                    <a:pt x="1366041" y="1083739"/>
                    <a:pt x="1660630" y="1083739"/>
                  </a:cubicBezTo>
                  <a:close/>
                  <a:moveTo>
                    <a:pt x="2127587" y="4"/>
                  </a:moveTo>
                  <a:cubicBezTo>
                    <a:pt x="2134983" y="130"/>
                    <a:pt x="2143006" y="2647"/>
                    <a:pt x="2151029" y="6673"/>
                  </a:cubicBezTo>
                  <a:cubicBezTo>
                    <a:pt x="2191146" y="14726"/>
                    <a:pt x="2223239" y="135513"/>
                    <a:pt x="2223238" y="224090"/>
                  </a:cubicBezTo>
                  <a:cubicBezTo>
                    <a:pt x="2231259" y="320687"/>
                    <a:pt x="2255316" y="369002"/>
                    <a:pt x="2255331" y="369035"/>
                  </a:cubicBezTo>
                  <a:cubicBezTo>
                    <a:pt x="2255331" y="465637"/>
                    <a:pt x="2295425" y="538097"/>
                    <a:pt x="2295448" y="538136"/>
                  </a:cubicBezTo>
                  <a:cubicBezTo>
                    <a:pt x="2359619" y="594491"/>
                    <a:pt x="2343594" y="481820"/>
                    <a:pt x="2343587" y="481769"/>
                  </a:cubicBezTo>
                  <a:cubicBezTo>
                    <a:pt x="2335566" y="433469"/>
                    <a:pt x="2311509" y="352978"/>
                    <a:pt x="2311494" y="352929"/>
                  </a:cubicBezTo>
                  <a:cubicBezTo>
                    <a:pt x="2319516" y="312674"/>
                    <a:pt x="2255353" y="119474"/>
                    <a:pt x="2255332" y="119408"/>
                  </a:cubicBezTo>
                  <a:cubicBezTo>
                    <a:pt x="2279394" y="-25495"/>
                    <a:pt x="2351569" y="79085"/>
                    <a:pt x="2351610" y="79146"/>
                  </a:cubicBezTo>
                  <a:cubicBezTo>
                    <a:pt x="2343588" y="127455"/>
                    <a:pt x="2391715" y="288473"/>
                    <a:pt x="2391726" y="288510"/>
                  </a:cubicBezTo>
                  <a:cubicBezTo>
                    <a:pt x="2407765" y="320704"/>
                    <a:pt x="2415789" y="360944"/>
                    <a:pt x="2415795" y="360982"/>
                  </a:cubicBezTo>
                  <a:cubicBezTo>
                    <a:pt x="2423816" y="441486"/>
                    <a:pt x="2479953" y="546137"/>
                    <a:pt x="2479981" y="546189"/>
                  </a:cubicBezTo>
                  <a:cubicBezTo>
                    <a:pt x="2488001" y="554239"/>
                    <a:pt x="2512059" y="538146"/>
                    <a:pt x="2512074" y="538136"/>
                  </a:cubicBezTo>
                  <a:lnTo>
                    <a:pt x="2517590" y="540039"/>
                  </a:lnTo>
                  <a:cubicBezTo>
                    <a:pt x="2522855" y="522534"/>
                    <a:pt x="2478978" y="364001"/>
                    <a:pt x="2471959" y="328773"/>
                  </a:cubicBezTo>
                  <a:cubicBezTo>
                    <a:pt x="2463935" y="296562"/>
                    <a:pt x="2415796" y="191880"/>
                    <a:pt x="2447889" y="175775"/>
                  </a:cubicBezTo>
                  <a:cubicBezTo>
                    <a:pt x="2471958" y="151617"/>
                    <a:pt x="2544167" y="216037"/>
                    <a:pt x="2560213" y="312667"/>
                  </a:cubicBezTo>
                  <a:cubicBezTo>
                    <a:pt x="2576258" y="417336"/>
                    <a:pt x="2624387" y="586409"/>
                    <a:pt x="2624399" y="586450"/>
                  </a:cubicBezTo>
                  <a:cubicBezTo>
                    <a:pt x="2712654" y="723342"/>
                    <a:pt x="2640446" y="972969"/>
                    <a:pt x="2560213" y="1021283"/>
                  </a:cubicBezTo>
                  <a:cubicBezTo>
                    <a:pt x="2471985" y="1061534"/>
                    <a:pt x="2544123" y="1125926"/>
                    <a:pt x="2544168" y="1125966"/>
                  </a:cubicBezTo>
                  <a:cubicBezTo>
                    <a:pt x="2544168" y="1125984"/>
                    <a:pt x="2544432" y="1131262"/>
                    <a:pt x="2624274" y="2725919"/>
                  </a:cubicBezTo>
                  <a:lnTo>
                    <a:pt x="2634196" y="2794803"/>
                  </a:lnTo>
                  <a:lnTo>
                    <a:pt x="2571391" y="2774996"/>
                  </a:lnTo>
                  <a:lnTo>
                    <a:pt x="2571242" y="2775720"/>
                  </a:lnTo>
                  <a:cubicBezTo>
                    <a:pt x="1018517" y="2371613"/>
                    <a:pt x="1018517" y="2371613"/>
                    <a:pt x="1018517" y="2371613"/>
                  </a:cubicBezTo>
                  <a:cubicBezTo>
                    <a:pt x="1018476" y="2371542"/>
                    <a:pt x="970086" y="2287856"/>
                    <a:pt x="912758" y="2366058"/>
                  </a:cubicBezTo>
                  <a:cubicBezTo>
                    <a:pt x="849151" y="2434802"/>
                    <a:pt x="590061" y="2454791"/>
                    <a:pt x="473953" y="2340566"/>
                  </a:cubicBezTo>
                  <a:cubicBezTo>
                    <a:pt x="473876" y="2340525"/>
                    <a:pt x="318133" y="2259067"/>
                    <a:pt x="218918" y="2222097"/>
                  </a:cubicBezTo>
                  <a:cubicBezTo>
                    <a:pt x="127565" y="2186755"/>
                    <a:pt x="79158" y="2102964"/>
                    <a:pt x="107701" y="2084303"/>
                  </a:cubicBezTo>
                  <a:cubicBezTo>
                    <a:pt x="129990" y="2056153"/>
                    <a:pt x="222711" y="2124556"/>
                    <a:pt x="252618" y="2138954"/>
                  </a:cubicBezTo>
                  <a:cubicBezTo>
                    <a:pt x="290411" y="2154990"/>
                    <a:pt x="476114" y="2250879"/>
                    <a:pt x="449466" y="2220767"/>
                  </a:cubicBezTo>
                  <a:cubicBezTo>
                    <a:pt x="449493" y="2220742"/>
                    <a:pt x="470121" y="2200465"/>
                    <a:pt x="463871" y="2190980"/>
                  </a:cubicBezTo>
                  <a:cubicBezTo>
                    <a:pt x="463825" y="2190942"/>
                    <a:pt x="372762" y="2114716"/>
                    <a:pt x="295565" y="2090507"/>
                  </a:cubicBezTo>
                  <a:cubicBezTo>
                    <a:pt x="295518" y="2090486"/>
                    <a:pt x="257755" y="2074457"/>
                    <a:pt x="229495" y="2052216"/>
                  </a:cubicBezTo>
                  <a:cubicBezTo>
                    <a:pt x="229432" y="2052181"/>
                    <a:pt x="81573" y="1972362"/>
                    <a:pt x="32647" y="1970403"/>
                  </a:cubicBezTo>
                  <a:cubicBezTo>
                    <a:pt x="32584" y="1970337"/>
                    <a:pt x="-55130" y="1878435"/>
                    <a:pt x="91629" y="1884311"/>
                  </a:cubicBezTo>
                  <a:cubicBezTo>
                    <a:pt x="91675" y="1884337"/>
                    <a:pt x="267824" y="1986421"/>
                    <a:pt x="308872" y="1986745"/>
                  </a:cubicBezTo>
                  <a:cubicBezTo>
                    <a:pt x="308952" y="1986788"/>
                    <a:pt x="382852" y="2026681"/>
                    <a:pt x="428504" y="2044343"/>
                  </a:cubicBezTo>
                  <a:cubicBezTo>
                    <a:pt x="428561" y="2044363"/>
                    <a:pt x="535615" y="2082937"/>
                    <a:pt x="493475" y="2008659"/>
                  </a:cubicBezTo>
                  <a:cubicBezTo>
                    <a:pt x="493411" y="2008603"/>
                    <a:pt x="430615" y="1954646"/>
                    <a:pt x="336051" y="1935025"/>
                  </a:cubicBezTo>
                  <a:cubicBezTo>
                    <a:pt x="336010" y="1934994"/>
                    <a:pt x="293588" y="1901629"/>
                    <a:pt x="200648" y="1874156"/>
                  </a:cubicBezTo>
                  <a:cubicBezTo>
                    <a:pt x="113918" y="1856160"/>
                    <a:pt x="2170" y="1800198"/>
                    <a:pt x="2435" y="1759282"/>
                  </a:cubicBezTo>
                  <a:cubicBezTo>
                    <a:pt x="-6813" y="1724586"/>
                    <a:pt x="7591" y="1694799"/>
                    <a:pt x="92691" y="1720650"/>
                  </a:cubicBezTo>
                  <a:cubicBezTo>
                    <a:pt x="176161" y="1754357"/>
                    <a:pt x="196555" y="1774976"/>
                    <a:pt x="212323" y="1778248"/>
                  </a:cubicBezTo>
                  <a:cubicBezTo>
                    <a:pt x="235977" y="1783156"/>
                    <a:pt x="317816" y="1824719"/>
                    <a:pt x="363494" y="1842390"/>
                  </a:cubicBezTo>
                  <a:cubicBezTo>
                    <a:pt x="415426" y="1869553"/>
                    <a:pt x="571221" y="1951044"/>
                    <a:pt x="560342" y="1924204"/>
                  </a:cubicBezTo>
                  <a:cubicBezTo>
                    <a:pt x="560391" y="1924186"/>
                    <a:pt x="604614" y="1908798"/>
                    <a:pt x="529069" y="1876744"/>
                  </a:cubicBezTo>
                  <a:cubicBezTo>
                    <a:pt x="455114" y="1836817"/>
                    <a:pt x="411066" y="1811291"/>
                    <a:pt x="371644" y="1803111"/>
                  </a:cubicBezTo>
                  <a:cubicBezTo>
                    <a:pt x="332222" y="1794931"/>
                    <a:pt x="280290" y="1767769"/>
                    <a:pt x="258266" y="1755005"/>
                  </a:cubicBezTo>
                  <a:cubicBezTo>
                    <a:pt x="236242" y="1742241"/>
                    <a:pt x="200080" y="1718350"/>
                    <a:pt x="187570" y="1699365"/>
                  </a:cubicBezTo>
                  <a:cubicBezTo>
                    <a:pt x="167177" y="1678746"/>
                    <a:pt x="157927" y="1644050"/>
                    <a:pt x="157927" y="1644050"/>
                  </a:cubicBezTo>
                  <a:cubicBezTo>
                    <a:pt x="157948" y="1644029"/>
                    <a:pt x="189737" y="1609683"/>
                    <a:pt x="211755" y="1622443"/>
                  </a:cubicBezTo>
                  <a:cubicBezTo>
                    <a:pt x="233778" y="1635207"/>
                    <a:pt x="392834" y="1700984"/>
                    <a:pt x="476304" y="1734691"/>
                  </a:cubicBezTo>
                  <a:cubicBezTo>
                    <a:pt x="476382" y="1734743"/>
                    <a:pt x="620962" y="1830256"/>
                    <a:pt x="646239" y="1827308"/>
                  </a:cubicBezTo>
                  <a:cubicBezTo>
                    <a:pt x="646305" y="1827322"/>
                    <a:pt x="693533" y="1837099"/>
                    <a:pt x="676411" y="1800792"/>
                  </a:cubicBezTo>
                  <a:cubicBezTo>
                    <a:pt x="659279" y="1764461"/>
                    <a:pt x="626375" y="1724859"/>
                    <a:pt x="602722" y="1719950"/>
                  </a:cubicBezTo>
                  <a:cubicBezTo>
                    <a:pt x="586952" y="1716679"/>
                    <a:pt x="522512" y="1670532"/>
                    <a:pt x="525772" y="1654820"/>
                  </a:cubicBezTo>
                  <a:cubicBezTo>
                    <a:pt x="521147" y="1637472"/>
                    <a:pt x="511898" y="1602776"/>
                    <a:pt x="515158" y="1587065"/>
                  </a:cubicBezTo>
                  <a:cubicBezTo>
                    <a:pt x="518418" y="1571354"/>
                    <a:pt x="569250" y="1524542"/>
                    <a:pt x="611667" y="1557925"/>
                  </a:cubicBezTo>
                  <a:cubicBezTo>
                    <a:pt x="647830" y="1581816"/>
                    <a:pt x="682098" y="1654479"/>
                    <a:pt x="726145" y="1680006"/>
                  </a:cubicBezTo>
                  <a:cubicBezTo>
                    <a:pt x="760677" y="1711754"/>
                    <a:pt x="815339" y="1805036"/>
                    <a:pt x="868900" y="1824343"/>
                  </a:cubicBezTo>
                  <a:cubicBezTo>
                    <a:pt x="922463" y="1843651"/>
                    <a:pt x="1044559" y="2008283"/>
                    <a:pt x="1020375" y="2085206"/>
                  </a:cubicBezTo>
                  <a:cubicBezTo>
                    <a:pt x="1005705" y="2155908"/>
                    <a:pt x="1027728" y="2168673"/>
                    <a:pt x="1027728" y="2168673"/>
                  </a:cubicBezTo>
                  <a:cubicBezTo>
                    <a:pt x="1027856" y="2168700"/>
                    <a:pt x="1335231" y="2232474"/>
                    <a:pt x="1358880" y="2237381"/>
                  </a:cubicBezTo>
                  <a:cubicBezTo>
                    <a:pt x="1381876" y="2234700"/>
                    <a:pt x="1922646" y="2359785"/>
                    <a:pt x="2076166" y="2165092"/>
                  </a:cubicBezTo>
                  <a:lnTo>
                    <a:pt x="2054751" y="2140576"/>
                  </a:lnTo>
                  <a:cubicBezTo>
                    <a:pt x="2069786" y="2139760"/>
                    <a:pt x="2084016" y="2137273"/>
                    <a:pt x="2097155" y="2132152"/>
                  </a:cubicBezTo>
                  <a:cubicBezTo>
                    <a:pt x="2103881" y="2122197"/>
                    <a:pt x="2108160" y="2110761"/>
                    <a:pt x="2111397" y="2098530"/>
                  </a:cubicBezTo>
                  <a:lnTo>
                    <a:pt x="2127280" y="2119499"/>
                  </a:lnTo>
                  <a:cubicBezTo>
                    <a:pt x="2348896" y="2008502"/>
                    <a:pt x="2336292" y="1453924"/>
                    <a:pt x="2343587" y="1431960"/>
                  </a:cubicBezTo>
                  <a:cubicBezTo>
                    <a:pt x="2343586" y="1407803"/>
                    <a:pt x="2343587" y="1093766"/>
                    <a:pt x="2343587" y="1093756"/>
                  </a:cubicBezTo>
                  <a:cubicBezTo>
                    <a:pt x="2343575" y="1093722"/>
                    <a:pt x="2335513" y="1069599"/>
                    <a:pt x="2263354" y="1069599"/>
                  </a:cubicBezTo>
                  <a:cubicBezTo>
                    <a:pt x="2183122" y="1077652"/>
                    <a:pt x="2046727" y="924654"/>
                    <a:pt x="2038704" y="868287"/>
                  </a:cubicBezTo>
                  <a:cubicBezTo>
                    <a:pt x="2030681" y="811919"/>
                    <a:pt x="1950450" y="739447"/>
                    <a:pt x="1926379" y="699185"/>
                  </a:cubicBezTo>
                  <a:cubicBezTo>
                    <a:pt x="1910334" y="650870"/>
                    <a:pt x="1846147" y="602555"/>
                    <a:pt x="1830102" y="562293"/>
                  </a:cubicBezTo>
                  <a:cubicBezTo>
                    <a:pt x="1806032" y="513979"/>
                    <a:pt x="1862195" y="473716"/>
                    <a:pt x="1878240" y="473715"/>
                  </a:cubicBezTo>
                  <a:cubicBezTo>
                    <a:pt x="1894287" y="473716"/>
                    <a:pt x="1926380" y="489822"/>
                    <a:pt x="1942426" y="497873"/>
                  </a:cubicBezTo>
                  <a:cubicBezTo>
                    <a:pt x="1958473" y="497874"/>
                    <a:pt x="1990566" y="570346"/>
                    <a:pt x="1990566" y="586450"/>
                  </a:cubicBezTo>
                  <a:cubicBezTo>
                    <a:pt x="1990565" y="610608"/>
                    <a:pt x="2022659" y="650871"/>
                    <a:pt x="2054752" y="675027"/>
                  </a:cubicBezTo>
                  <a:cubicBezTo>
                    <a:pt x="2086830" y="699176"/>
                    <a:pt x="2086844" y="650912"/>
                    <a:pt x="2086844" y="650871"/>
                  </a:cubicBezTo>
                  <a:cubicBezTo>
                    <a:pt x="2094865" y="626717"/>
                    <a:pt x="2030704" y="465719"/>
                    <a:pt x="2030681" y="465664"/>
                  </a:cubicBezTo>
                  <a:cubicBezTo>
                    <a:pt x="2014634" y="377086"/>
                    <a:pt x="1982543" y="207985"/>
                    <a:pt x="1974520" y="183827"/>
                  </a:cubicBezTo>
                  <a:cubicBezTo>
                    <a:pt x="1966500" y="159683"/>
                    <a:pt x="2006572" y="135536"/>
                    <a:pt x="2006612" y="135513"/>
                  </a:cubicBezTo>
                  <a:cubicBezTo>
                    <a:pt x="2006643" y="135528"/>
                    <a:pt x="2038712" y="151629"/>
                    <a:pt x="2054751" y="175775"/>
                  </a:cubicBezTo>
                  <a:cubicBezTo>
                    <a:pt x="2070798" y="191880"/>
                    <a:pt x="2086844" y="232142"/>
                    <a:pt x="2094866" y="256300"/>
                  </a:cubicBezTo>
                  <a:cubicBezTo>
                    <a:pt x="2102890" y="280457"/>
                    <a:pt x="2118936" y="336824"/>
                    <a:pt x="2118937" y="377087"/>
                  </a:cubicBezTo>
                  <a:cubicBezTo>
                    <a:pt x="2118938" y="417348"/>
                    <a:pt x="2134984" y="465664"/>
                    <a:pt x="2159053" y="546189"/>
                  </a:cubicBezTo>
                  <a:cubicBezTo>
                    <a:pt x="2175093" y="626678"/>
                    <a:pt x="2199148" y="586485"/>
                    <a:pt x="2199169" y="586451"/>
                  </a:cubicBezTo>
                  <a:cubicBezTo>
                    <a:pt x="2223238" y="602555"/>
                    <a:pt x="2175099" y="433454"/>
                    <a:pt x="2159052" y="377086"/>
                  </a:cubicBezTo>
                  <a:cubicBezTo>
                    <a:pt x="2151029" y="328773"/>
                    <a:pt x="2126960" y="240195"/>
                    <a:pt x="2126961" y="216037"/>
                  </a:cubicBezTo>
                  <a:cubicBezTo>
                    <a:pt x="2126960" y="199933"/>
                    <a:pt x="2110913" y="175775"/>
                    <a:pt x="2094867" y="87197"/>
                  </a:cubicBezTo>
                  <a:cubicBezTo>
                    <a:pt x="2088850" y="20764"/>
                    <a:pt x="2105398" y="-373"/>
                    <a:pt x="2127587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cc0066"/>
                </a:gs>
              </a:gsLst>
              <a:lin ang="2074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TextBox 7"/>
            <p:cNvSpPr/>
            <p:nvPr/>
          </p:nvSpPr>
          <p:spPr>
            <a:xfrm>
              <a:off x="3135600" y="1681200"/>
              <a:ext cx="572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TextBox 8"/>
            <p:cNvSpPr/>
            <p:nvPr/>
          </p:nvSpPr>
          <p:spPr>
            <a:xfrm>
              <a:off x="4911840" y="1611360"/>
              <a:ext cx="572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TextBox 9"/>
            <p:cNvSpPr/>
            <p:nvPr/>
          </p:nvSpPr>
          <p:spPr>
            <a:xfrm>
              <a:off x="5503680" y="3324600"/>
              <a:ext cx="572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TextBox 10"/>
            <p:cNvSpPr/>
            <p:nvPr/>
          </p:nvSpPr>
          <p:spPr>
            <a:xfrm>
              <a:off x="3990960" y="4376880"/>
              <a:ext cx="572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TextBox 11"/>
            <p:cNvSpPr/>
            <p:nvPr/>
          </p:nvSpPr>
          <p:spPr>
            <a:xfrm>
              <a:off x="2609640" y="3324600"/>
              <a:ext cx="572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4" name="矩形 12"/>
          <p:cNvSpPr/>
          <p:nvPr/>
        </p:nvSpPr>
        <p:spPr>
          <a:xfrm>
            <a:off x="1089000" y="1504800"/>
            <a:ext cx="20257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文字添加文字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矩形 13"/>
          <p:cNvSpPr/>
          <p:nvPr/>
        </p:nvSpPr>
        <p:spPr>
          <a:xfrm>
            <a:off x="5611680" y="1390680"/>
            <a:ext cx="20257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文字添加文字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矩形 14"/>
          <p:cNvSpPr/>
          <p:nvPr/>
        </p:nvSpPr>
        <p:spPr>
          <a:xfrm>
            <a:off x="468360" y="3637080"/>
            <a:ext cx="20257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文字添加文字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矩形 15"/>
          <p:cNvSpPr/>
          <p:nvPr/>
        </p:nvSpPr>
        <p:spPr>
          <a:xfrm>
            <a:off x="6300720" y="3605040"/>
            <a:ext cx="20257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文字添加文字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矩形 16"/>
          <p:cNvSpPr/>
          <p:nvPr/>
        </p:nvSpPr>
        <p:spPr>
          <a:xfrm>
            <a:off x="3209760" y="5367240"/>
            <a:ext cx="20275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文字添加文字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  <p:timing>
    <p:tnLst>
      <p:par>
        <p:cTn id="1282" dur="indefinite" restart="never" nodeType="tmRoot">
          <p:childTnLst>
            <p:seq>
              <p:cTn id="1283" dur="indefinite" nodeType="mainSeq">
                <p:childTnLst>
                  <p:par>
                    <p:cTn id="1284" fill="hold">
                      <p:stCondLst>
                        <p:cond delay="0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dur="indefinite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1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500" fill="hold"/>
                                        <p:tgtEl>
                                          <p:spTgt spid="1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500" fill="hold"/>
                                        <p:tgtEl>
                                          <p:spTgt spid="15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1" dur="500"/>
                                        <p:tgtEl>
                                          <p:spTgt spid="1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fill="hold">
                            <p:stCondLst>
                              <p:cond delay="500"/>
                            </p:stCondLst>
                            <p:childTnLst>
                              <p:par>
                                <p:cTn id="1293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95" dur="300"/>
                                        <p:tgtEl>
                                          <p:spTgt spid="1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6" fill="hold">
                            <p:stCondLst>
                              <p:cond delay="800"/>
                            </p:stCondLst>
                            <p:childTnLst>
                              <p:par>
                                <p:cTn id="1297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99" dur="300"/>
                                        <p:tgtEl>
                                          <p:spTgt spid="1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0" fill="hold">
                            <p:stCondLst>
                              <p:cond delay="1100"/>
                            </p:stCondLst>
                            <p:childTnLst>
                              <p:par>
                                <p:cTn id="1301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03" dur="30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4" fill="hold">
                            <p:stCondLst>
                              <p:cond delay="1400"/>
                            </p:stCondLst>
                            <p:childTnLst>
                              <p:par>
                                <p:cTn id="1305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07" dur="300"/>
                                        <p:tgtEl>
                                          <p:spTgt spid="1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8" fill="hold">
                            <p:stCondLst>
                              <p:cond delay="1700"/>
                            </p:stCondLst>
                            <p:childTnLst>
                              <p:par>
                                <p:cTn id="1309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11" dur="300"/>
                                        <p:tgtEl>
                                          <p:spTgt spid="1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TextBox 1"/>
          <p:cNvSpPr/>
          <p:nvPr/>
        </p:nvSpPr>
        <p:spPr>
          <a:xfrm>
            <a:off x="5472720" y="1295280"/>
            <a:ext cx="16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此处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此处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TextBox 2"/>
          <p:cNvSpPr/>
          <p:nvPr/>
        </p:nvSpPr>
        <p:spPr>
          <a:xfrm>
            <a:off x="1600560" y="4459320"/>
            <a:ext cx="16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此处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此处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1" name="组合 7"/>
          <p:cNvGrpSpPr/>
          <p:nvPr/>
        </p:nvGrpSpPr>
        <p:grpSpPr>
          <a:xfrm>
            <a:off x="764280" y="1484280"/>
            <a:ext cx="3003480" cy="2811600"/>
            <a:chOff x="764280" y="1484280"/>
            <a:chExt cx="3003480" cy="2811600"/>
          </a:xfrm>
        </p:grpSpPr>
        <p:sp>
          <p:nvSpPr>
            <p:cNvPr id="1542" name="圆角矩形​​ 2"/>
            <p:cNvSpPr/>
            <p:nvPr/>
          </p:nvSpPr>
          <p:spPr>
            <a:xfrm rot="21283200">
              <a:off x="834480" y="2535120"/>
              <a:ext cx="2864160" cy="1632240"/>
            </a:xfrm>
            <a:prstGeom prst="roundRect">
              <a:avLst>
                <a:gd name="adj" fmla="val 10407"/>
              </a:avLst>
            </a:prstGeom>
            <a:gradFill rotWithShape="0">
              <a:gsLst>
                <a:gs pos="0">
                  <a:srgbClr val="a6a6a6"/>
                </a:gs>
                <a:gs pos="100000">
                  <a:srgbClr val="bfbfbf"/>
                </a:gs>
              </a:gsLst>
              <a:lin ang="5718000"/>
            </a:gradFill>
            <a:ln w="3240">
              <a:solidFill>
                <a:srgbClr val="bfbfbf"/>
              </a:solidFill>
              <a:round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直接连接符​​ 11"/>
            <p:cNvSpPr/>
            <p:nvPr/>
          </p:nvSpPr>
          <p:spPr>
            <a:xfrm flipV="1">
              <a:off x="1262160" y="1647720"/>
              <a:ext cx="1171440" cy="1006560"/>
            </a:xfrm>
            <a:prstGeom prst="line">
              <a:avLst/>
            </a:prstGeom>
            <a:ln w="284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直接连接符​​ 13"/>
            <p:cNvSpPr/>
            <p:nvPr/>
          </p:nvSpPr>
          <p:spPr>
            <a:xfrm>
              <a:off x="2759400" y="1647720"/>
              <a:ext cx="447480" cy="826920"/>
            </a:xfrm>
            <a:prstGeom prst="line">
              <a:avLst/>
            </a:prstGeom>
            <a:ln w="284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椭圆​​ 4"/>
            <p:cNvSpPr/>
            <p:nvPr/>
          </p:nvSpPr>
          <p:spPr>
            <a:xfrm>
              <a:off x="2433600" y="1484280"/>
              <a:ext cx="325440" cy="325440"/>
            </a:xfrm>
            <a:prstGeom prst="ellipse">
              <a:avLst/>
            </a:prstGeom>
            <a:gradFill rotWithShape="0">
              <a:gsLst>
                <a:gs pos="0">
                  <a:srgbClr val="a6a6a6"/>
                </a:gs>
                <a:gs pos="100000">
                  <a:srgbClr val="bfbfbf"/>
                </a:gs>
              </a:gsLst>
              <a:lin ang="5400000"/>
            </a:gradFill>
            <a:ln w="324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46" name="椭圆​​ 6" descr=""/>
            <p:cNvPicPr/>
            <p:nvPr/>
          </p:nvPicPr>
          <p:blipFill>
            <a:blip r:embed="rId1"/>
            <a:stretch/>
          </p:blipFill>
          <p:spPr>
            <a:xfrm>
              <a:off x="2497320" y="1509840"/>
              <a:ext cx="196920" cy="27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7" name="同侧圆角矩形 9"/>
            <p:cNvSpPr/>
            <p:nvPr/>
          </p:nvSpPr>
          <p:spPr>
            <a:xfrm rot="21294600">
              <a:off x="793440" y="2546280"/>
              <a:ext cx="2853000" cy="792000"/>
            </a:xfrm>
            <a:custGeom>
              <a:avLst/>
              <a:gdLst/>
              <a:ahLst/>
              <a:rect l="l" t="t" r="r" b="b"/>
              <a:pathLst>
                <a:path w="2853590" h="792368">
                  <a:moveTo>
                    <a:pt x="132063" y="0"/>
                  </a:moveTo>
                  <a:lnTo>
                    <a:pt x="2721526" y="0"/>
                  </a:lnTo>
                  <a:cubicBezTo>
                    <a:pt x="2794462" y="0"/>
                    <a:pt x="2853589" y="59127"/>
                    <a:pt x="2853589" y="132063"/>
                  </a:cubicBezTo>
                  <a:lnTo>
                    <a:pt x="2853590" y="792368"/>
                  </a:lnTo>
                  <a:lnTo>
                    <a:pt x="2853590" y="792368"/>
                  </a:lnTo>
                  <a:lnTo>
                    <a:pt x="0" y="792368"/>
                  </a:lnTo>
                  <a:lnTo>
                    <a:pt x="0" y="792368"/>
                  </a:lnTo>
                  <a:lnTo>
                    <a:pt x="0" y="132063"/>
                  </a:lnTo>
                  <a:cubicBezTo>
                    <a:pt x="0" y="59127"/>
                    <a:pt x="59127" y="0"/>
                    <a:pt x="13206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498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圆角矩形​​ 3"/>
            <p:cNvSpPr/>
            <p:nvPr/>
          </p:nvSpPr>
          <p:spPr>
            <a:xfrm rot="21283200">
              <a:off x="960120" y="2693880"/>
              <a:ext cx="2621160" cy="1346400"/>
            </a:xfrm>
            <a:prstGeom prst="roundRect">
              <a:avLst>
                <a:gd name="adj" fmla="val 7417"/>
              </a:avLst>
            </a:prstGeom>
            <a:solidFill>
              <a:srgbClr val="640000"/>
            </a:solidFill>
            <a:ln w="19080">
              <a:solidFill>
                <a:srgbClr val="d9d9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此处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此处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49" name="椭圆​​ 8" descr=""/>
            <p:cNvPicPr/>
            <p:nvPr/>
          </p:nvPicPr>
          <p:blipFill>
            <a:blip r:embed="rId2"/>
            <a:stretch/>
          </p:blipFill>
          <p:spPr>
            <a:xfrm>
              <a:off x="1202760" y="2572200"/>
              <a:ext cx="12852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0" name="椭圆​​ 9" descr=""/>
            <p:cNvPicPr/>
            <p:nvPr/>
          </p:nvPicPr>
          <p:blipFill>
            <a:blip r:embed="rId3"/>
            <a:stretch/>
          </p:blipFill>
          <p:spPr>
            <a:xfrm>
              <a:off x="3147840" y="2392920"/>
              <a:ext cx="128520" cy="277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51" name="组合 35"/>
          <p:cNvGrpSpPr/>
          <p:nvPr/>
        </p:nvGrpSpPr>
        <p:grpSpPr>
          <a:xfrm>
            <a:off x="4484520" y="2084400"/>
            <a:ext cx="3537000" cy="3309840"/>
            <a:chOff x="4484520" y="2084400"/>
            <a:chExt cx="3537000" cy="3309840"/>
          </a:xfrm>
        </p:grpSpPr>
        <p:sp>
          <p:nvSpPr>
            <p:cNvPr id="1552" name="圆角矩形​​ 40"/>
            <p:cNvSpPr/>
            <p:nvPr/>
          </p:nvSpPr>
          <p:spPr>
            <a:xfrm rot="21283200">
              <a:off x="4566600" y="3322080"/>
              <a:ext cx="3373560" cy="1920960"/>
            </a:xfrm>
            <a:prstGeom prst="roundRect">
              <a:avLst>
                <a:gd name="adj" fmla="val 10407"/>
              </a:avLst>
            </a:prstGeom>
            <a:gradFill rotWithShape="0">
              <a:gsLst>
                <a:gs pos="0">
                  <a:srgbClr val="a6a6a6"/>
                </a:gs>
                <a:gs pos="100000">
                  <a:srgbClr val="bfbfbf"/>
                </a:gs>
              </a:gsLst>
              <a:lin ang="5718000"/>
            </a:gradFill>
            <a:ln w="3240">
              <a:solidFill>
                <a:srgbClr val="bfbfbf"/>
              </a:solidFill>
              <a:round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直接连接符​​ 41"/>
            <p:cNvSpPr/>
            <p:nvPr/>
          </p:nvSpPr>
          <p:spPr>
            <a:xfrm flipV="1">
              <a:off x="5070240" y="2276280"/>
              <a:ext cx="1379520" cy="1185840"/>
            </a:xfrm>
            <a:prstGeom prst="line">
              <a:avLst/>
            </a:prstGeom>
            <a:ln w="284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直接连接符​​ 42"/>
            <p:cNvSpPr/>
            <p:nvPr/>
          </p:nvSpPr>
          <p:spPr>
            <a:xfrm>
              <a:off x="6832440" y="2276280"/>
              <a:ext cx="528480" cy="974520"/>
            </a:xfrm>
            <a:prstGeom prst="line">
              <a:avLst/>
            </a:prstGeom>
            <a:ln w="284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椭圆​​ 43"/>
            <p:cNvSpPr/>
            <p:nvPr/>
          </p:nvSpPr>
          <p:spPr>
            <a:xfrm>
              <a:off x="6449760" y="2084400"/>
              <a:ext cx="382320" cy="382320"/>
            </a:xfrm>
            <a:prstGeom prst="ellipse">
              <a:avLst/>
            </a:prstGeom>
            <a:gradFill rotWithShape="0">
              <a:gsLst>
                <a:gs pos="0">
                  <a:srgbClr val="a6a6a6"/>
                </a:gs>
                <a:gs pos="100000">
                  <a:srgbClr val="bfbfbf"/>
                </a:gs>
              </a:gsLst>
              <a:lin ang="5400000"/>
            </a:gradFill>
            <a:ln w="324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56" name="椭圆​​ 44" descr=""/>
            <p:cNvPicPr/>
            <p:nvPr/>
          </p:nvPicPr>
          <p:blipFill>
            <a:blip r:embed="rId4"/>
            <a:stretch/>
          </p:blipFill>
          <p:spPr>
            <a:xfrm>
              <a:off x="6526440" y="2139120"/>
              <a:ext cx="230400" cy="27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7" name="同侧圆角矩形 19"/>
            <p:cNvSpPr/>
            <p:nvPr/>
          </p:nvSpPr>
          <p:spPr>
            <a:xfrm rot="21294600">
              <a:off x="4519080" y="3335040"/>
              <a:ext cx="3359520" cy="933480"/>
            </a:xfrm>
            <a:custGeom>
              <a:avLst/>
              <a:gdLst/>
              <a:ahLst/>
              <a:rect l="l" t="t" r="r" b="b"/>
              <a:pathLst>
                <a:path w="2853403" h="792935">
                  <a:moveTo>
                    <a:pt x="132158" y="0"/>
                  </a:moveTo>
                  <a:lnTo>
                    <a:pt x="2721244" y="0"/>
                  </a:lnTo>
                  <a:cubicBezTo>
                    <a:pt x="2794233" y="0"/>
                    <a:pt x="2853402" y="59169"/>
                    <a:pt x="2853402" y="132158"/>
                  </a:cubicBezTo>
                  <a:lnTo>
                    <a:pt x="2853403" y="792935"/>
                  </a:lnTo>
                  <a:lnTo>
                    <a:pt x="2853403" y="792935"/>
                  </a:lnTo>
                  <a:lnTo>
                    <a:pt x="0" y="792935"/>
                  </a:lnTo>
                  <a:lnTo>
                    <a:pt x="0" y="792935"/>
                  </a:lnTo>
                  <a:lnTo>
                    <a:pt x="0" y="132158"/>
                  </a:lnTo>
                  <a:cubicBezTo>
                    <a:pt x="0" y="59169"/>
                    <a:pt x="59169" y="0"/>
                    <a:pt x="13215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498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圆角矩形​​ 46"/>
            <p:cNvSpPr/>
            <p:nvPr/>
          </p:nvSpPr>
          <p:spPr>
            <a:xfrm rot="21283200">
              <a:off x="4716000" y="3510000"/>
              <a:ext cx="3086280" cy="1584360"/>
            </a:xfrm>
            <a:prstGeom prst="roundRect">
              <a:avLst>
                <a:gd name="adj" fmla="val 7417"/>
              </a:avLst>
            </a:prstGeom>
            <a:solidFill>
              <a:srgbClr val="ff6600"/>
            </a:solidFill>
            <a:ln w="19080">
              <a:solidFill>
                <a:srgbClr val="d9d9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此处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此处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59" name="椭圆​​ 47" descr=""/>
            <p:cNvPicPr/>
            <p:nvPr/>
          </p:nvPicPr>
          <p:blipFill>
            <a:blip r:embed="rId5"/>
            <a:stretch/>
          </p:blipFill>
          <p:spPr>
            <a:xfrm>
              <a:off x="5001840" y="3391200"/>
              <a:ext cx="1497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0" name="椭圆​​ 48" descr=""/>
            <p:cNvPicPr/>
            <p:nvPr/>
          </p:nvPicPr>
          <p:blipFill>
            <a:blip r:embed="rId6"/>
            <a:stretch/>
          </p:blipFill>
          <p:spPr>
            <a:xfrm>
              <a:off x="7292160" y="3179520"/>
              <a:ext cx="149760" cy="277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61" name="文本框 8200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7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  <p:timing>
    <p:tnLst>
      <p:par>
        <p:cTn id="1312" dur="indefinite" restart="never" nodeType="tmRoot">
          <p:childTnLst>
            <p:seq>
              <p:cTn id="1313" dur="indefinite" nodeType="mainSeq">
                <p:childTnLst>
                  <p:par>
                    <p:cTn id="1314" fill="hold">
                      <p:stCondLst>
                        <p:cond delay="0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8" dur="1000" fill="hold"/>
                                        <p:tgtEl>
                                          <p:spTgt spid="1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1000" fill="hold"/>
                                        <p:tgtEl>
                                          <p:spTgt spid="1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0" dur="1000"/>
                                        <p:tgtEl>
                                          <p:spTgt spid="1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2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24" dur="500"/>
                                        <p:tgtEl>
                                          <p:spTgt spid="1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5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6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8" dur="1000" fill="hold"/>
                                        <p:tgtEl>
                                          <p:spTgt spid="1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1000" fill="hold"/>
                                        <p:tgtEl>
                                          <p:spTgt spid="1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0" dur="1000"/>
                                        <p:tgtEl>
                                          <p:spTgt spid="1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1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2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34" dur="500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2" name="组合 11"/>
          <p:cNvGrpSpPr/>
          <p:nvPr/>
        </p:nvGrpSpPr>
        <p:grpSpPr>
          <a:xfrm>
            <a:off x="3357720" y="2527200"/>
            <a:ext cx="2938320" cy="2938680"/>
            <a:chOff x="3357720" y="2527200"/>
            <a:chExt cx="2938320" cy="2938680"/>
          </a:xfrm>
        </p:grpSpPr>
        <p:sp>
          <p:nvSpPr>
            <p:cNvPr id="1563" name="Freeform 4"/>
            <p:cNvSpPr/>
            <p:nvPr/>
          </p:nvSpPr>
          <p:spPr>
            <a:xfrm>
              <a:off x="3357720" y="2527200"/>
              <a:ext cx="2938320" cy="2938680"/>
            </a:xfrm>
            <a:custGeom>
              <a:avLst/>
              <a:gdLst/>
              <a:ahLst/>
              <a:rect l="l" t="t" r="r" b="b"/>
              <a:pathLst>
                <a:path w="1050" h="1049">
                  <a:moveTo>
                    <a:pt x="888" y="911"/>
                  </a:moveTo>
                  <a:lnTo>
                    <a:pt x="820" y="888"/>
                  </a:lnTo>
                  <a:lnTo>
                    <a:pt x="800" y="903"/>
                  </a:lnTo>
                  <a:lnTo>
                    <a:pt x="780" y="917"/>
                  </a:lnTo>
                  <a:lnTo>
                    <a:pt x="781" y="988"/>
                  </a:lnTo>
                  <a:lnTo>
                    <a:pt x="766" y="996"/>
                  </a:lnTo>
                  <a:lnTo>
                    <a:pt x="751" y="1003"/>
                  </a:lnTo>
                  <a:lnTo>
                    <a:pt x="694" y="961"/>
                  </a:lnTo>
                  <a:lnTo>
                    <a:pt x="671" y="969"/>
                  </a:lnTo>
                  <a:lnTo>
                    <a:pt x="658" y="972"/>
                  </a:lnTo>
                  <a:lnTo>
                    <a:pt x="646" y="976"/>
                  </a:lnTo>
                  <a:lnTo>
                    <a:pt x="625" y="1044"/>
                  </a:lnTo>
                  <a:lnTo>
                    <a:pt x="592" y="1049"/>
                  </a:lnTo>
                  <a:lnTo>
                    <a:pt x="551" y="991"/>
                  </a:lnTo>
                  <a:lnTo>
                    <a:pt x="526" y="991"/>
                  </a:lnTo>
                  <a:lnTo>
                    <a:pt x="501" y="991"/>
                  </a:lnTo>
                  <a:lnTo>
                    <a:pt x="460" y="1049"/>
                  </a:lnTo>
                  <a:lnTo>
                    <a:pt x="443" y="1047"/>
                  </a:lnTo>
                  <a:lnTo>
                    <a:pt x="426" y="1044"/>
                  </a:lnTo>
                  <a:lnTo>
                    <a:pt x="405" y="976"/>
                  </a:lnTo>
                  <a:lnTo>
                    <a:pt x="381" y="969"/>
                  </a:lnTo>
                  <a:lnTo>
                    <a:pt x="369" y="965"/>
                  </a:lnTo>
                  <a:lnTo>
                    <a:pt x="358" y="961"/>
                  </a:lnTo>
                  <a:lnTo>
                    <a:pt x="301" y="1003"/>
                  </a:lnTo>
                  <a:lnTo>
                    <a:pt x="286" y="996"/>
                  </a:lnTo>
                  <a:lnTo>
                    <a:pt x="271" y="988"/>
                  </a:lnTo>
                  <a:lnTo>
                    <a:pt x="272" y="917"/>
                  </a:lnTo>
                  <a:lnTo>
                    <a:pt x="252" y="903"/>
                  </a:lnTo>
                  <a:lnTo>
                    <a:pt x="242" y="895"/>
                  </a:lnTo>
                  <a:lnTo>
                    <a:pt x="232" y="888"/>
                  </a:lnTo>
                  <a:lnTo>
                    <a:pt x="164" y="911"/>
                  </a:lnTo>
                  <a:lnTo>
                    <a:pt x="152" y="899"/>
                  </a:lnTo>
                  <a:lnTo>
                    <a:pt x="140" y="886"/>
                  </a:lnTo>
                  <a:lnTo>
                    <a:pt x="163" y="818"/>
                  </a:lnTo>
                  <a:lnTo>
                    <a:pt x="148" y="799"/>
                  </a:lnTo>
                  <a:lnTo>
                    <a:pt x="134" y="778"/>
                  </a:lnTo>
                  <a:lnTo>
                    <a:pt x="63" y="779"/>
                  </a:lnTo>
                  <a:lnTo>
                    <a:pt x="55" y="765"/>
                  </a:lnTo>
                  <a:lnTo>
                    <a:pt x="47" y="750"/>
                  </a:lnTo>
                  <a:lnTo>
                    <a:pt x="90" y="693"/>
                  </a:lnTo>
                  <a:lnTo>
                    <a:pt x="82" y="669"/>
                  </a:lnTo>
                  <a:lnTo>
                    <a:pt x="78" y="657"/>
                  </a:lnTo>
                  <a:lnTo>
                    <a:pt x="75" y="645"/>
                  </a:lnTo>
                  <a:lnTo>
                    <a:pt x="6" y="623"/>
                  </a:lnTo>
                  <a:lnTo>
                    <a:pt x="0" y="590"/>
                  </a:lnTo>
                  <a:lnTo>
                    <a:pt x="60" y="549"/>
                  </a:lnTo>
                  <a:lnTo>
                    <a:pt x="59" y="524"/>
                  </a:lnTo>
                  <a:lnTo>
                    <a:pt x="60" y="500"/>
                  </a:lnTo>
                  <a:lnTo>
                    <a:pt x="0" y="459"/>
                  </a:lnTo>
                  <a:lnTo>
                    <a:pt x="3" y="442"/>
                  </a:lnTo>
                  <a:lnTo>
                    <a:pt x="6" y="426"/>
                  </a:lnTo>
                  <a:lnTo>
                    <a:pt x="75" y="405"/>
                  </a:lnTo>
                  <a:lnTo>
                    <a:pt x="82" y="380"/>
                  </a:lnTo>
                  <a:lnTo>
                    <a:pt x="86" y="368"/>
                  </a:lnTo>
                  <a:lnTo>
                    <a:pt x="90" y="356"/>
                  </a:lnTo>
                  <a:lnTo>
                    <a:pt x="47" y="299"/>
                  </a:lnTo>
                  <a:lnTo>
                    <a:pt x="55" y="284"/>
                  </a:lnTo>
                  <a:lnTo>
                    <a:pt x="63" y="270"/>
                  </a:lnTo>
                  <a:lnTo>
                    <a:pt x="134" y="271"/>
                  </a:lnTo>
                  <a:lnTo>
                    <a:pt x="148" y="250"/>
                  </a:lnTo>
                  <a:lnTo>
                    <a:pt x="155" y="240"/>
                  </a:lnTo>
                  <a:lnTo>
                    <a:pt x="163" y="231"/>
                  </a:lnTo>
                  <a:lnTo>
                    <a:pt x="140" y="163"/>
                  </a:lnTo>
                  <a:lnTo>
                    <a:pt x="152" y="151"/>
                  </a:lnTo>
                  <a:lnTo>
                    <a:pt x="164" y="139"/>
                  </a:lnTo>
                  <a:lnTo>
                    <a:pt x="232" y="162"/>
                  </a:lnTo>
                  <a:lnTo>
                    <a:pt x="252" y="147"/>
                  </a:lnTo>
                  <a:lnTo>
                    <a:pt x="272" y="133"/>
                  </a:lnTo>
                  <a:lnTo>
                    <a:pt x="271" y="61"/>
                  </a:lnTo>
                  <a:lnTo>
                    <a:pt x="286" y="53"/>
                  </a:lnTo>
                  <a:lnTo>
                    <a:pt x="301" y="46"/>
                  </a:lnTo>
                  <a:lnTo>
                    <a:pt x="358" y="88"/>
                  </a:lnTo>
                  <a:lnTo>
                    <a:pt x="381" y="80"/>
                  </a:lnTo>
                  <a:lnTo>
                    <a:pt x="393" y="76"/>
                  </a:lnTo>
                  <a:lnTo>
                    <a:pt x="405" y="73"/>
                  </a:lnTo>
                  <a:lnTo>
                    <a:pt x="426" y="5"/>
                  </a:lnTo>
                  <a:lnTo>
                    <a:pt x="460" y="0"/>
                  </a:lnTo>
                  <a:lnTo>
                    <a:pt x="501" y="58"/>
                  </a:lnTo>
                  <a:lnTo>
                    <a:pt x="526" y="57"/>
                  </a:lnTo>
                  <a:lnTo>
                    <a:pt x="551" y="58"/>
                  </a:lnTo>
                  <a:lnTo>
                    <a:pt x="592" y="0"/>
                  </a:lnTo>
                  <a:lnTo>
                    <a:pt x="608" y="2"/>
                  </a:lnTo>
                  <a:lnTo>
                    <a:pt x="625" y="5"/>
                  </a:lnTo>
                  <a:lnTo>
                    <a:pt x="646" y="73"/>
                  </a:lnTo>
                  <a:lnTo>
                    <a:pt x="671" y="80"/>
                  </a:lnTo>
                  <a:lnTo>
                    <a:pt x="682" y="84"/>
                  </a:lnTo>
                  <a:lnTo>
                    <a:pt x="694" y="88"/>
                  </a:lnTo>
                  <a:lnTo>
                    <a:pt x="751" y="46"/>
                  </a:lnTo>
                  <a:lnTo>
                    <a:pt x="766" y="53"/>
                  </a:lnTo>
                  <a:lnTo>
                    <a:pt x="781" y="61"/>
                  </a:lnTo>
                  <a:lnTo>
                    <a:pt x="780" y="133"/>
                  </a:lnTo>
                  <a:lnTo>
                    <a:pt x="800" y="147"/>
                  </a:lnTo>
                  <a:lnTo>
                    <a:pt x="810" y="155"/>
                  </a:lnTo>
                  <a:lnTo>
                    <a:pt x="820" y="162"/>
                  </a:lnTo>
                  <a:lnTo>
                    <a:pt x="888" y="139"/>
                  </a:lnTo>
                  <a:lnTo>
                    <a:pt x="900" y="151"/>
                  </a:lnTo>
                  <a:lnTo>
                    <a:pt x="912" y="163"/>
                  </a:lnTo>
                  <a:lnTo>
                    <a:pt x="889" y="231"/>
                  </a:lnTo>
                  <a:lnTo>
                    <a:pt x="904" y="250"/>
                  </a:lnTo>
                  <a:lnTo>
                    <a:pt x="918" y="271"/>
                  </a:lnTo>
                  <a:lnTo>
                    <a:pt x="989" y="270"/>
                  </a:lnTo>
                  <a:lnTo>
                    <a:pt x="997" y="284"/>
                  </a:lnTo>
                  <a:lnTo>
                    <a:pt x="1005" y="299"/>
                  </a:lnTo>
                  <a:lnTo>
                    <a:pt x="962" y="356"/>
                  </a:lnTo>
                  <a:lnTo>
                    <a:pt x="970" y="380"/>
                  </a:lnTo>
                  <a:lnTo>
                    <a:pt x="974" y="393"/>
                  </a:lnTo>
                  <a:lnTo>
                    <a:pt x="977" y="405"/>
                  </a:lnTo>
                  <a:lnTo>
                    <a:pt x="1045" y="426"/>
                  </a:lnTo>
                  <a:lnTo>
                    <a:pt x="1050" y="459"/>
                  </a:lnTo>
                  <a:lnTo>
                    <a:pt x="992" y="500"/>
                  </a:lnTo>
                  <a:lnTo>
                    <a:pt x="993" y="524"/>
                  </a:lnTo>
                  <a:lnTo>
                    <a:pt x="992" y="549"/>
                  </a:lnTo>
                  <a:lnTo>
                    <a:pt x="1050" y="590"/>
                  </a:lnTo>
                  <a:lnTo>
                    <a:pt x="1048" y="607"/>
                  </a:lnTo>
                  <a:lnTo>
                    <a:pt x="1045" y="623"/>
                  </a:lnTo>
                  <a:lnTo>
                    <a:pt x="977" y="645"/>
                  </a:lnTo>
                  <a:lnTo>
                    <a:pt x="970" y="669"/>
                  </a:lnTo>
                  <a:lnTo>
                    <a:pt x="966" y="681"/>
                  </a:lnTo>
                  <a:lnTo>
                    <a:pt x="962" y="693"/>
                  </a:lnTo>
                  <a:lnTo>
                    <a:pt x="1005" y="750"/>
                  </a:lnTo>
                  <a:lnTo>
                    <a:pt x="997" y="765"/>
                  </a:lnTo>
                  <a:lnTo>
                    <a:pt x="989" y="779"/>
                  </a:lnTo>
                  <a:lnTo>
                    <a:pt x="918" y="778"/>
                  </a:lnTo>
                  <a:lnTo>
                    <a:pt x="904" y="799"/>
                  </a:lnTo>
                  <a:lnTo>
                    <a:pt x="897" y="809"/>
                  </a:lnTo>
                  <a:lnTo>
                    <a:pt x="889" y="818"/>
                  </a:lnTo>
                  <a:lnTo>
                    <a:pt x="912" y="886"/>
                  </a:lnTo>
                  <a:lnTo>
                    <a:pt x="900" y="899"/>
                  </a:lnTo>
                  <a:lnTo>
                    <a:pt x="888" y="911"/>
                  </a:lnTo>
                  <a:close/>
                </a:path>
              </a:pathLst>
            </a:custGeom>
            <a:gradFill rotWithShape="0">
              <a:gsLst>
                <a:gs pos="0">
                  <a:srgbClr val="c00000"/>
                </a:gs>
                <a:gs pos="100000">
                  <a:srgbClr val="360000"/>
                </a:gs>
              </a:gsLst>
              <a:lin ang="5400000"/>
            </a:gradFill>
            <a:ln w="3240">
              <a:solidFill>
                <a:srgbClr val="d7d7d7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Oval 5"/>
            <p:cNvSpPr/>
            <p:nvPr/>
          </p:nvSpPr>
          <p:spPr>
            <a:xfrm>
              <a:off x="3811320" y="2975040"/>
              <a:ext cx="2036520" cy="2042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5" name="组合 12"/>
          <p:cNvGrpSpPr/>
          <p:nvPr/>
        </p:nvGrpSpPr>
        <p:grpSpPr>
          <a:xfrm>
            <a:off x="5754600" y="1849320"/>
            <a:ext cx="1663920" cy="1663920"/>
            <a:chOff x="5754600" y="1849320"/>
            <a:chExt cx="1663920" cy="1663920"/>
          </a:xfrm>
        </p:grpSpPr>
        <p:sp>
          <p:nvSpPr>
            <p:cNvPr id="1566" name="Freeform 6"/>
            <p:cNvSpPr/>
            <p:nvPr/>
          </p:nvSpPr>
          <p:spPr>
            <a:xfrm>
              <a:off x="5754600" y="1849320"/>
              <a:ext cx="1663920" cy="1663920"/>
            </a:xfrm>
            <a:custGeom>
              <a:avLst/>
              <a:gdLst/>
              <a:ahLst/>
              <a:rect l="l" t="t" r="r" b="b"/>
              <a:pathLst>
                <a:path w="637" h="638">
                  <a:moveTo>
                    <a:pt x="496" y="585"/>
                  </a:moveTo>
                  <a:lnTo>
                    <a:pt x="441" y="550"/>
                  </a:lnTo>
                  <a:lnTo>
                    <a:pt x="431" y="555"/>
                  </a:lnTo>
                  <a:lnTo>
                    <a:pt x="420" y="560"/>
                  </a:lnTo>
                  <a:lnTo>
                    <a:pt x="409" y="564"/>
                  </a:lnTo>
                  <a:lnTo>
                    <a:pt x="397" y="568"/>
                  </a:lnTo>
                  <a:lnTo>
                    <a:pt x="382" y="633"/>
                  </a:lnTo>
                  <a:lnTo>
                    <a:pt x="362" y="636"/>
                  </a:lnTo>
                  <a:lnTo>
                    <a:pt x="342" y="638"/>
                  </a:lnTo>
                  <a:lnTo>
                    <a:pt x="312" y="579"/>
                  </a:lnTo>
                  <a:lnTo>
                    <a:pt x="300" y="579"/>
                  </a:lnTo>
                  <a:lnTo>
                    <a:pt x="288" y="577"/>
                  </a:lnTo>
                  <a:lnTo>
                    <a:pt x="275" y="576"/>
                  </a:lnTo>
                  <a:lnTo>
                    <a:pt x="264" y="573"/>
                  </a:lnTo>
                  <a:lnTo>
                    <a:pt x="219" y="622"/>
                  </a:lnTo>
                  <a:lnTo>
                    <a:pt x="209" y="619"/>
                  </a:lnTo>
                  <a:lnTo>
                    <a:pt x="200" y="616"/>
                  </a:lnTo>
                  <a:lnTo>
                    <a:pt x="181" y="608"/>
                  </a:lnTo>
                  <a:lnTo>
                    <a:pt x="184" y="540"/>
                  </a:lnTo>
                  <a:lnTo>
                    <a:pt x="174" y="533"/>
                  </a:lnTo>
                  <a:lnTo>
                    <a:pt x="164" y="526"/>
                  </a:lnTo>
                  <a:lnTo>
                    <a:pt x="155" y="519"/>
                  </a:lnTo>
                  <a:lnTo>
                    <a:pt x="146" y="511"/>
                  </a:lnTo>
                  <a:lnTo>
                    <a:pt x="79" y="531"/>
                  </a:lnTo>
                  <a:lnTo>
                    <a:pt x="67" y="517"/>
                  </a:lnTo>
                  <a:lnTo>
                    <a:pt x="56" y="502"/>
                  </a:lnTo>
                  <a:lnTo>
                    <a:pt x="94" y="443"/>
                  </a:lnTo>
                  <a:lnTo>
                    <a:pt x="89" y="432"/>
                  </a:lnTo>
                  <a:lnTo>
                    <a:pt x="83" y="421"/>
                  </a:lnTo>
                  <a:lnTo>
                    <a:pt x="78" y="410"/>
                  </a:lnTo>
                  <a:lnTo>
                    <a:pt x="74" y="398"/>
                  </a:lnTo>
                  <a:lnTo>
                    <a:pt x="6" y="383"/>
                  </a:lnTo>
                  <a:lnTo>
                    <a:pt x="3" y="364"/>
                  </a:lnTo>
                  <a:lnTo>
                    <a:pt x="0" y="346"/>
                  </a:lnTo>
                  <a:lnTo>
                    <a:pt x="63" y="314"/>
                  </a:lnTo>
                  <a:lnTo>
                    <a:pt x="64" y="301"/>
                  </a:lnTo>
                  <a:lnTo>
                    <a:pt x="65" y="288"/>
                  </a:lnTo>
                  <a:lnTo>
                    <a:pt x="67" y="276"/>
                  </a:lnTo>
                  <a:lnTo>
                    <a:pt x="69" y="264"/>
                  </a:lnTo>
                  <a:lnTo>
                    <a:pt x="17" y="215"/>
                  </a:lnTo>
                  <a:lnTo>
                    <a:pt x="23" y="198"/>
                  </a:lnTo>
                  <a:lnTo>
                    <a:pt x="30" y="182"/>
                  </a:lnTo>
                  <a:lnTo>
                    <a:pt x="102" y="185"/>
                  </a:lnTo>
                  <a:lnTo>
                    <a:pt x="109" y="175"/>
                  </a:lnTo>
                  <a:lnTo>
                    <a:pt x="117" y="165"/>
                  </a:lnTo>
                  <a:lnTo>
                    <a:pt x="124" y="155"/>
                  </a:lnTo>
                  <a:lnTo>
                    <a:pt x="133" y="146"/>
                  </a:lnTo>
                  <a:lnTo>
                    <a:pt x="111" y="76"/>
                  </a:lnTo>
                  <a:lnTo>
                    <a:pt x="124" y="65"/>
                  </a:lnTo>
                  <a:lnTo>
                    <a:pt x="138" y="55"/>
                  </a:lnTo>
                  <a:lnTo>
                    <a:pt x="200" y="94"/>
                  </a:lnTo>
                  <a:lnTo>
                    <a:pt x="211" y="88"/>
                  </a:lnTo>
                  <a:lnTo>
                    <a:pt x="222" y="83"/>
                  </a:lnTo>
                  <a:lnTo>
                    <a:pt x="234" y="79"/>
                  </a:lnTo>
                  <a:lnTo>
                    <a:pt x="246" y="75"/>
                  </a:lnTo>
                  <a:lnTo>
                    <a:pt x="261" y="4"/>
                  </a:lnTo>
                  <a:lnTo>
                    <a:pt x="270" y="3"/>
                  </a:lnTo>
                  <a:lnTo>
                    <a:pt x="279" y="1"/>
                  </a:lnTo>
                  <a:lnTo>
                    <a:pt x="297" y="0"/>
                  </a:lnTo>
                  <a:lnTo>
                    <a:pt x="330" y="64"/>
                  </a:lnTo>
                  <a:lnTo>
                    <a:pt x="343" y="65"/>
                  </a:lnTo>
                  <a:lnTo>
                    <a:pt x="355" y="66"/>
                  </a:lnTo>
                  <a:lnTo>
                    <a:pt x="367" y="68"/>
                  </a:lnTo>
                  <a:lnTo>
                    <a:pt x="379" y="70"/>
                  </a:lnTo>
                  <a:lnTo>
                    <a:pt x="427" y="18"/>
                  </a:lnTo>
                  <a:lnTo>
                    <a:pt x="436" y="21"/>
                  </a:lnTo>
                  <a:lnTo>
                    <a:pt x="444" y="25"/>
                  </a:lnTo>
                  <a:lnTo>
                    <a:pt x="461" y="32"/>
                  </a:lnTo>
                  <a:lnTo>
                    <a:pt x="458" y="103"/>
                  </a:lnTo>
                  <a:lnTo>
                    <a:pt x="468" y="110"/>
                  </a:lnTo>
                  <a:lnTo>
                    <a:pt x="478" y="117"/>
                  </a:lnTo>
                  <a:lnTo>
                    <a:pt x="488" y="125"/>
                  </a:lnTo>
                  <a:lnTo>
                    <a:pt x="497" y="134"/>
                  </a:lnTo>
                  <a:lnTo>
                    <a:pt x="562" y="112"/>
                  </a:lnTo>
                  <a:lnTo>
                    <a:pt x="574" y="128"/>
                  </a:lnTo>
                  <a:lnTo>
                    <a:pt x="579" y="136"/>
                  </a:lnTo>
                  <a:lnTo>
                    <a:pt x="586" y="144"/>
                  </a:lnTo>
                  <a:lnTo>
                    <a:pt x="548" y="201"/>
                  </a:lnTo>
                  <a:lnTo>
                    <a:pt x="551" y="206"/>
                  </a:lnTo>
                  <a:lnTo>
                    <a:pt x="554" y="213"/>
                  </a:lnTo>
                  <a:lnTo>
                    <a:pt x="559" y="224"/>
                  </a:lnTo>
                  <a:lnTo>
                    <a:pt x="563" y="235"/>
                  </a:lnTo>
                  <a:lnTo>
                    <a:pt x="567" y="247"/>
                  </a:lnTo>
                  <a:lnTo>
                    <a:pt x="632" y="261"/>
                  </a:lnTo>
                  <a:lnTo>
                    <a:pt x="635" y="280"/>
                  </a:lnTo>
                  <a:lnTo>
                    <a:pt x="637" y="301"/>
                  </a:lnTo>
                  <a:lnTo>
                    <a:pt x="578" y="332"/>
                  </a:lnTo>
                  <a:lnTo>
                    <a:pt x="577" y="344"/>
                  </a:lnTo>
                  <a:lnTo>
                    <a:pt x="576" y="356"/>
                  </a:lnTo>
                  <a:lnTo>
                    <a:pt x="574" y="367"/>
                  </a:lnTo>
                  <a:lnTo>
                    <a:pt x="571" y="380"/>
                  </a:lnTo>
                  <a:lnTo>
                    <a:pt x="620" y="424"/>
                  </a:lnTo>
                  <a:lnTo>
                    <a:pt x="613" y="443"/>
                  </a:lnTo>
                  <a:lnTo>
                    <a:pt x="604" y="462"/>
                  </a:lnTo>
                  <a:lnTo>
                    <a:pt x="539" y="458"/>
                  </a:lnTo>
                  <a:lnTo>
                    <a:pt x="532" y="469"/>
                  </a:lnTo>
                  <a:lnTo>
                    <a:pt x="525" y="479"/>
                  </a:lnTo>
                  <a:lnTo>
                    <a:pt x="518" y="488"/>
                  </a:lnTo>
                  <a:lnTo>
                    <a:pt x="510" y="497"/>
                  </a:lnTo>
                  <a:lnTo>
                    <a:pt x="529" y="559"/>
                  </a:lnTo>
                  <a:lnTo>
                    <a:pt x="513" y="573"/>
                  </a:lnTo>
                  <a:lnTo>
                    <a:pt x="505" y="579"/>
                  </a:lnTo>
                  <a:lnTo>
                    <a:pt x="496" y="585"/>
                  </a:lnTo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100000">
                  <a:srgbClr val="cc0066"/>
                </a:gs>
              </a:gsLst>
              <a:lin ang="5400000"/>
            </a:gradFill>
            <a:ln w="3240">
              <a:solidFill>
                <a:srgbClr val="d7d7d7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Oval 7"/>
            <p:cNvSpPr/>
            <p:nvPr/>
          </p:nvSpPr>
          <p:spPr>
            <a:xfrm>
              <a:off x="6084720" y="2182320"/>
              <a:ext cx="1003680" cy="997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8" name="组合 10"/>
          <p:cNvGrpSpPr/>
          <p:nvPr/>
        </p:nvGrpSpPr>
        <p:grpSpPr>
          <a:xfrm>
            <a:off x="1332000" y="1876320"/>
            <a:ext cx="2320920" cy="2325960"/>
            <a:chOff x="1332000" y="1876320"/>
            <a:chExt cx="2320920" cy="2325960"/>
          </a:xfrm>
        </p:grpSpPr>
        <p:sp>
          <p:nvSpPr>
            <p:cNvPr id="1569" name="Freeform 8"/>
            <p:cNvSpPr/>
            <p:nvPr/>
          </p:nvSpPr>
          <p:spPr>
            <a:xfrm>
              <a:off x="1332000" y="1876320"/>
              <a:ext cx="2320920" cy="2325960"/>
            </a:xfrm>
            <a:custGeom>
              <a:avLst/>
              <a:gdLst/>
              <a:ahLst/>
              <a:rect l="l" t="t" r="r" b="b"/>
              <a:pathLst>
                <a:path w="808" h="810">
                  <a:moveTo>
                    <a:pt x="651" y="726"/>
                  </a:moveTo>
                  <a:lnTo>
                    <a:pt x="587" y="691"/>
                  </a:lnTo>
                  <a:lnTo>
                    <a:pt x="565" y="704"/>
                  </a:lnTo>
                  <a:lnTo>
                    <a:pt x="553" y="710"/>
                  </a:lnTo>
                  <a:lnTo>
                    <a:pt x="542" y="716"/>
                  </a:lnTo>
                  <a:lnTo>
                    <a:pt x="535" y="789"/>
                  </a:lnTo>
                  <a:lnTo>
                    <a:pt x="522" y="794"/>
                  </a:lnTo>
                  <a:lnTo>
                    <a:pt x="509" y="797"/>
                  </a:lnTo>
                  <a:lnTo>
                    <a:pt x="462" y="739"/>
                  </a:lnTo>
                  <a:lnTo>
                    <a:pt x="450" y="741"/>
                  </a:lnTo>
                  <a:lnTo>
                    <a:pt x="437" y="743"/>
                  </a:lnTo>
                  <a:lnTo>
                    <a:pt x="425" y="744"/>
                  </a:lnTo>
                  <a:lnTo>
                    <a:pt x="412" y="744"/>
                  </a:lnTo>
                  <a:lnTo>
                    <a:pt x="378" y="810"/>
                  </a:lnTo>
                  <a:lnTo>
                    <a:pt x="364" y="809"/>
                  </a:lnTo>
                  <a:lnTo>
                    <a:pt x="351" y="807"/>
                  </a:lnTo>
                  <a:lnTo>
                    <a:pt x="329" y="736"/>
                  </a:lnTo>
                  <a:lnTo>
                    <a:pt x="317" y="733"/>
                  </a:lnTo>
                  <a:lnTo>
                    <a:pt x="304" y="730"/>
                  </a:lnTo>
                  <a:lnTo>
                    <a:pt x="292" y="726"/>
                  </a:lnTo>
                  <a:lnTo>
                    <a:pt x="280" y="721"/>
                  </a:lnTo>
                  <a:lnTo>
                    <a:pt x="225" y="769"/>
                  </a:lnTo>
                  <a:lnTo>
                    <a:pt x="212" y="763"/>
                  </a:lnTo>
                  <a:lnTo>
                    <a:pt x="199" y="755"/>
                  </a:lnTo>
                  <a:lnTo>
                    <a:pt x="207" y="683"/>
                  </a:lnTo>
                  <a:lnTo>
                    <a:pt x="197" y="675"/>
                  </a:lnTo>
                  <a:lnTo>
                    <a:pt x="187" y="667"/>
                  </a:lnTo>
                  <a:lnTo>
                    <a:pt x="177" y="658"/>
                  </a:lnTo>
                  <a:lnTo>
                    <a:pt x="168" y="650"/>
                  </a:lnTo>
                  <a:lnTo>
                    <a:pt x="99" y="672"/>
                  </a:lnTo>
                  <a:lnTo>
                    <a:pt x="90" y="661"/>
                  </a:lnTo>
                  <a:lnTo>
                    <a:pt x="81" y="649"/>
                  </a:lnTo>
                  <a:lnTo>
                    <a:pt x="116" y="586"/>
                  </a:lnTo>
                  <a:lnTo>
                    <a:pt x="103" y="563"/>
                  </a:lnTo>
                  <a:lnTo>
                    <a:pt x="97" y="552"/>
                  </a:lnTo>
                  <a:lnTo>
                    <a:pt x="92" y="540"/>
                  </a:lnTo>
                  <a:lnTo>
                    <a:pt x="20" y="534"/>
                  </a:lnTo>
                  <a:lnTo>
                    <a:pt x="16" y="521"/>
                  </a:lnTo>
                  <a:lnTo>
                    <a:pt x="12" y="507"/>
                  </a:lnTo>
                  <a:lnTo>
                    <a:pt x="67" y="461"/>
                  </a:lnTo>
                  <a:lnTo>
                    <a:pt x="65" y="449"/>
                  </a:lnTo>
                  <a:lnTo>
                    <a:pt x="64" y="436"/>
                  </a:lnTo>
                  <a:lnTo>
                    <a:pt x="63" y="423"/>
                  </a:lnTo>
                  <a:lnTo>
                    <a:pt x="62" y="410"/>
                  </a:lnTo>
                  <a:lnTo>
                    <a:pt x="0" y="378"/>
                  </a:lnTo>
                  <a:lnTo>
                    <a:pt x="1" y="362"/>
                  </a:lnTo>
                  <a:lnTo>
                    <a:pt x="3" y="348"/>
                  </a:lnTo>
                  <a:lnTo>
                    <a:pt x="70" y="328"/>
                  </a:lnTo>
                  <a:lnTo>
                    <a:pt x="73" y="316"/>
                  </a:lnTo>
                  <a:lnTo>
                    <a:pt x="78" y="303"/>
                  </a:lnTo>
                  <a:lnTo>
                    <a:pt x="82" y="291"/>
                  </a:lnTo>
                  <a:lnTo>
                    <a:pt x="86" y="278"/>
                  </a:lnTo>
                  <a:lnTo>
                    <a:pt x="41" y="225"/>
                  </a:lnTo>
                  <a:lnTo>
                    <a:pt x="48" y="212"/>
                  </a:lnTo>
                  <a:lnTo>
                    <a:pt x="55" y="199"/>
                  </a:lnTo>
                  <a:lnTo>
                    <a:pt x="125" y="206"/>
                  </a:lnTo>
                  <a:lnTo>
                    <a:pt x="132" y="196"/>
                  </a:lnTo>
                  <a:lnTo>
                    <a:pt x="140" y="186"/>
                  </a:lnTo>
                  <a:lnTo>
                    <a:pt x="148" y="175"/>
                  </a:lnTo>
                  <a:lnTo>
                    <a:pt x="157" y="166"/>
                  </a:lnTo>
                  <a:lnTo>
                    <a:pt x="136" y="101"/>
                  </a:lnTo>
                  <a:lnTo>
                    <a:pt x="148" y="91"/>
                  </a:lnTo>
                  <a:lnTo>
                    <a:pt x="160" y="80"/>
                  </a:lnTo>
                  <a:lnTo>
                    <a:pt x="221" y="114"/>
                  </a:lnTo>
                  <a:lnTo>
                    <a:pt x="243" y="101"/>
                  </a:lnTo>
                  <a:lnTo>
                    <a:pt x="255" y="95"/>
                  </a:lnTo>
                  <a:lnTo>
                    <a:pt x="266" y="90"/>
                  </a:lnTo>
                  <a:lnTo>
                    <a:pt x="272" y="21"/>
                  </a:lnTo>
                  <a:lnTo>
                    <a:pt x="287" y="16"/>
                  </a:lnTo>
                  <a:lnTo>
                    <a:pt x="302" y="12"/>
                  </a:lnTo>
                  <a:lnTo>
                    <a:pt x="345" y="65"/>
                  </a:lnTo>
                  <a:lnTo>
                    <a:pt x="358" y="63"/>
                  </a:lnTo>
                  <a:lnTo>
                    <a:pt x="371" y="62"/>
                  </a:lnTo>
                  <a:lnTo>
                    <a:pt x="383" y="61"/>
                  </a:lnTo>
                  <a:lnTo>
                    <a:pt x="396" y="60"/>
                  </a:lnTo>
                  <a:lnTo>
                    <a:pt x="427" y="0"/>
                  </a:lnTo>
                  <a:lnTo>
                    <a:pt x="443" y="1"/>
                  </a:lnTo>
                  <a:lnTo>
                    <a:pt x="459" y="3"/>
                  </a:lnTo>
                  <a:lnTo>
                    <a:pt x="479" y="68"/>
                  </a:lnTo>
                  <a:lnTo>
                    <a:pt x="491" y="71"/>
                  </a:lnTo>
                  <a:lnTo>
                    <a:pt x="503" y="75"/>
                  </a:lnTo>
                  <a:lnTo>
                    <a:pt x="515" y="78"/>
                  </a:lnTo>
                  <a:lnTo>
                    <a:pt x="527" y="83"/>
                  </a:lnTo>
                  <a:lnTo>
                    <a:pt x="579" y="39"/>
                  </a:lnTo>
                  <a:lnTo>
                    <a:pt x="593" y="46"/>
                  </a:lnTo>
                  <a:lnTo>
                    <a:pt x="607" y="54"/>
                  </a:lnTo>
                  <a:lnTo>
                    <a:pt x="599" y="122"/>
                  </a:lnTo>
                  <a:lnTo>
                    <a:pt x="611" y="130"/>
                  </a:lnTo>
                  <a:lnTo>
                    <a:pt x="621" y="138"/>
                  </a:lnTo>
                  <a:lnTo>
                    <a:pt x="630" y="146"/>
                  </a:lnTo>
                  <a:lnTo>
                    <a:pt x="640" y="155"/>
                  </a:lnTo>
                  <a:lnTo>
                    <a:pt x="705" y="134"/>
                  </a:lnTo>
                  <a:lnTo>
                    <a:pt x="715" y="146"/>
                  </a:lnTo>
                  <a:lnTo>
                    <a:pt x="725" y="158"/>
                  </a:lnTo>
                  <a:lnTo>
                    <a:pt x="692" y="219"/>
                  </a:lnTo>
                  <a:lnTo>
                    <a:pt x="705" y="241"/>
                  </a:lnTo>
                  <a:lnTo>
                    <a:pt x="710" y="252"/>
                  </a:lnTo>
                  <a:lnTo>
                    <a:pt x="716" y="264"/>
                  </a:lnTo>
                  <a:lnTo>
                    <a:pt x="786" y="270"/>
                  </a:lnTo>
                  <a:lnTo>
                    <a:pt x="791" y="285"/>
                  </a:lnTo>
                  <a:lnTo>
                    <a:pt x="795" y="300"/>
                  </a:lnTo>
                  <a:lnTo>
                    <a:pt x="740" y="343"/>
                  </a:lnTo>
                  <a:lnTo>
                    <a:pt x="742" y="356"/>
                  </a:lnTo>
                  <a:lnTo>
                    <a:pt x="744" y="368"/>
                  </a:lnTo>
                  <a:lnTo>
                    <a:pt x="745" y="382"/>
                  </a:lnTo>
                  <a:lnTo>
                    <a:pt x="745" y="395"/>
                  </a:lnTo>
                  <a:lnTo>
                    <a:pt x="808" y="427"/>
                  </a:lnTo>
                  <a:lnTo>
                    <a:pt x="807" y="442"/>
                  </a:lnTo>
                  <a:lnTo>
                    <a:pt x="805" y="457"/>
                  </a:lnTo>
                  <a:lnTo>
                    <a:pt x="737" y="477"/>
                  </a:lnTo>
                  <a:lnTo>
                    <a:pt x="734" y="490"/>
                  </a:lnTo>
                  <a:lnTo>
                    <a:pt x="730" y="502"/>
                  </a:lnTo>
                  <a:lnTo>
                    <a:pt x="726" y="514"/>
                  </a:lnTo>
                  <a:lnTo>
                    <a:pt x="722" y="526"/>
                  </a:lnTo>
                  <a:lnTo>
                    <a:pt x="769" y="582"/>
                  </a:lnTo>
                  <a:lnTo>
                    <a:pt x="762" y="595"/>
                  </a:lnTo>
                  <a:lnTo>
                    <a:pt x="756" y="607"/>
                  </a:lnTo>
                  <a:lnTo>
                    <a:pt x="683" y="599"/>
                  </a:lnTo>
                  <a:lnTo>
                    <a:pt x="676" y="609"/>
                  </a:lnTo>
                  <a:lnTo>
                    <a:pt x="668" y="620"/>
                  </a:lnTo>
                  <a:lnTo>
                    <a:pt x="659" y="629"/>
                  </a:lnTo>
                  <a:lnTo>
                    <a:pt x="651" y="639"/>
                  </a:lnTo>
                  <a:lnTo>
                    <a:pt x="673" y="709"/>
                  </a:lnTo>
                  <a:lnTo>
                    <a:pt x="662" y="718"/>
                  </a:lnTo>
                  <a:lnTo>
                    <a:pt x="651" y="726"/>
                  </a:lnTo>
                  <a:close/>
                </a:path>
              </a:pathLst>
            </a:custGeom>
            <a:gradFill rotWithShape="0">
              <a:gsLst>
                <a:gs pos="0">
                  <a:srgbClr val="ffc000"/>
                </a:gs>
                <a:gs pos="100000">
                  <a:srgbClr val="c00000"/>
                </a:gs>
              </a:gsLst>
              <a:lin ang="5400000"/>
            </a:gradFill>
            <a:ln w="3240">
              <a:solidFill>
                <a:srgbClr val="d7d7d7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Oval 9"/>
            <p:cNvSpPr/>
            <p:nvPr/>
          </p:nvSpPr>
          <p:spPr>
            <a:xfrm>
              <a:off x="1720080" y="2267280"/>
              <a:ext cx="1541520" cy="154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1" name="TextBox 53"/>
          <p:cNvSpPr/>
          <p:nvPr/>
        </p:nvSpPr>
        <p:spPr>
          <a:xfrm>
            <a:off x="1527120" y="1498680"/>
            <a:ext cx="19321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单击此处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TextBox 53"/>
          <p:cNvSpPr/>
          <p:nvPr/>
        </p:nvSpPr>
        <p:spPr>
          <a:xfrm>
            <a:off x="3789360" y="2092320"/>
            <a:ext cx="19335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单击此处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TextBox 53"/>
          <p:cNvSpPr/>
          <p:nvPr/>
        </p:nvSpPr>
        <p:spPr>
          <a:xfrm>
            <a:off x="5754600" y="1322280"/>
            <a:ext cx="19321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单击此处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  <p:timing>
    <p:tnLst>
      <p:par>
        <p:cTn id="1335" dur="indefinite" restart="never" nodeType="tmRoot">
          <p:childTnLst>
            <p:seq>
              <p:cTn id="1336" dur="indefinite" nodeType="mainSeq">
                <p:childTnLst>
                  <p:par>
                    <p:cTn id="1337" fill="hold">
                      <p:stCondLst>
                        <p:cond delay="0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1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4" dur="500"/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7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8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349" dur="6000" fill="hold"/>
                                        <p:tgtEl>
                                          <p:spTgt spid="15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50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51" dur="60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52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353" dur="6000" fill="hold"/>
                                        <p:tgtEl>
                                          <p:spTgt spid="15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矩形 8"/>
          <p:cNvSpPr/>
          <p:nvPr/>
        </p:nvSpPr>
        <p:spPr>
          <a:xfrm>
            <a:off x="5562720" y="4519440"/>
            <a:ext cx="612720" cy="2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风暴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sucaifengbao.com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S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http://www.sucaifengbao.com/html/psd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矢量素材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http://www.sucaifengbao.com/html/vector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http://ppt.sucaifengbao.com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AE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视频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http://ae.sucaifengbao.com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Flash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http://www.sucaifengbao.com/html/flash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图片素材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http://www.sucaifengbao.com/html/photo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PS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插件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http://www.sucaifengbao.com/html/pschajian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组合 29"/>
          <p:cNvGrpSpPr/>
          <p:nvPr/>
        </p:nvGrpSpPr>
        <p:grpSpPr>
          <a:xfrm>
            <a:off x="1870200" y="1201680"/>
            <a:ext cx="6086520" cy="606600"/>
            <a:chOff x="1870200" y="1201680"/>
            <a:chExt cx="6086520" cy="606600"/>
          </a:xfrm>
        </p:grpSpPr>
        <p:sp>
          <p:nvSpPr>
            <p:cNvPr id="183" name="Rectangle 31"/>
            <p:cNvSpPr/>
            <p:nvPr/>
          </p:nvSpPr>
          <p:spPr>
            <a:xfrm>
              <a:off x="1870200" y="1622520"/>
              <a:ext cx="6086520" cy="185760"/>
            </a:xfrm>
            <a:prstGeom prst="rect">
              <a:avLst/>
            </a:prstGeom>
            <a:gradFill rotWithShape="0">
              <a:gsLst>
                <a:gs pos="0">
                  <a:srgbClr val="000000">
                    <a:alpha val="7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6"/>
            <p:cNvSpPr/>
            <p:nvPr/>
          </p:nvSpPr>
          <p:spPr>
            <a:xfrm>
              <a:off x="1908000" y="1201680"/>
              <a:ext cx="6048720" cy="533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5" name="WordArt 20" descr=""/>
            <p:cNvPicPr/>
            <p:nvPr/>
          </p:nvPicPr>
          <p:blipFill>
            <a:blip r:embed="rId1"/>
            <a:stretch/>
          </p:blipFill>
          <p:spPr>
            <a:xfrm>
              <a:off x="2117160" y="1339920"/>
              <a:ext cx="206280" cy="36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AutoShape 25"/>
            <p:cNvSpPr/>
            <p:nvPr/>
          </p:nvSpPr>
          <p:spPr>
            <a:xfrm>
              <a:off x="1981080" y="1218960"/>
              <a:ext cx="5403960" cy="533520"/>
            </a:xfrm>
            <a:prstGeom prst="roundRect">
              <a:avLst>
                <a:gd name="adj" fmla="val 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4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目录内容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组合 34"/>
          <p:cNvGrpSpPr/>
          <p:nvPr/>
        </p:nvGrpSpPr>
        <p:grpSpPr>
          <a:xfrm>
            <a:off x="1870200" y="1994040"/>
            <a:ext cx="6086520" cy="606240"/>
            <a:chOff x="1870200" y="1994040"/>
            <a:chExt cx="6086520" cy="606240"/>
          </a:xfrm>
        </p:grpSpPr>
        <p:sp>
          <p:nvSpPr>
            <p:cNvPr id="188" name="Rectangle 32"/>
            <p:cNvSpPr/>
            <p:nvPr/>
          </p:nvSpPr>
          <p:spPr>
            <a:xfrm>
              <a:off x="1870200" y="2414520"/>
              <a:ext cx="6086520" cy="185760"/>
            </a:xfrm>
            <a:prstGeom prst="rect">
              <a:avLst/>
            </a:prstGeom>
            <a:gradFill rotWithShape="0">
              <a:gsLst>
                <a:gs pos="0">
                  <a:srgbClr val="000000">
                    <a:alpha val="7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AutoShape 9"/>
            <p:cNvSpPr/>
            <p:nvPr/>
          </p:nvSpPr>
          <p:spPr>
            <a:xfrm>
              <a:off x="1908000" y="1994040"/>
              <a:ext cx="6048720" cy="533520"/>
            </a:xfrm>
            <a:prstGeom prst="roundRect">
              <a:avLst>
                <a:gd name="adj" fmla="val 16667"/>
              </a:avLst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AutoShape 19"/>
            <p:cNvSpPr/>
            <p:nvPr/>
          </p:nvSpPr>
          <p:spPr>
            <a:xfrm>
              <a:off x="4716720" y="2136600"/>
              <a:ext cx="431640" cy="215640"/>
            </a:xfrm>
            <a:prstGeom prst="leftArrow">
              <a:avLst>
                <a:gd name="adj1" fmla="val 50287"/>
                <a:gd name="adj2" fmla="val 7278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WordArt 21"/>
            <p:cNvSpPr txBox="1"/>
            <p:nvPr/>
          </p:nvSpPr>
          <p:spPr>
            <a:xfrm>
              <a:off x="2157480" y="2109960"/>
              <a:ext cx="183960" cy="282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324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微软雅黑"/>
                </a:rPr>
                <a:t>2</a:t>
              </a:r>
              <a:endParaRPr b="0" lang="en-US" sz="1800" spc="1" strike="noStrike">
                <a:ln w="324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92" name="AutoShape 26"/>
            <p:cNvSpPr/>
            <p:nvPr/>
          </p:nvSpPr>
          <p:spPr>
            <a:xfrm>
              <a:off x="1981080" y="1994040"/>
              <a:ext cx="5403960" cy="533520"/>
            </a:xfrm>
            <a:prstGeom prst="roundRect">
              <a:avLst>
                <a:gd name="adj" fmla="val 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4000" rIns="90000" tIns="46800" bIns="46800" anchor="ctr">
              <a:noAutofit/>
            </a:bodyPr>
            <a:p>
              <a:pPr lv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目录内容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组合 40"/>
          <p:cNvGrpSpPr/>
          <p:nvPr/>
        </p:nvGrpSpPr>
        <p:grpSpPr>
          <a:xfrm>
            <a:off x="1870200" y="2786040"/>
            <a:ext cx="6086520" cy="606600"/>
            <a:chOff x="1870200" y="2786040"/>
            <a:chExt cx="6086520" cy="606600"/>
          </a:xfrm>
        </p:grpSpPr>
        <p:sp>
          <p:nvSpPr>
            <p:cNvPr id="194" name="Rectangle 33"/>
            <p:cNvSpPr/>
            <p:nvPr/>
          </p:nvSpPr>
          <p:spPr>
            <a:xfrm>
              <a:off x="1870200" y="3206880"/>
              <a:ext cx="6086520" cy="185760"/>
            </a:xfrm>
            <a:prstGeom prst="rect">
              <a:avLst/>
            </a:prstGeom>
            <a:gradFill rotWithShape="0">
              <a:gsLst>
                <a:gs pos="0">
                  <a:srgbClr val="000000">
                    <a:alpha val="7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AutoShape 12"/>
            <p:cNvSpPr/>
            <p:nvPr/>
          </p:nvSpPr>
          <p:spPr>
            <a:xfrm>
              <a:off x="1908000" y="2786040"/>
              <a:ext cx="6048720" cy="533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6" name="WordArt 22" descr=""/>
            <p:cNvPicPr/>
            <p:nvPr/>
          </p:nvPicPr>
          <p:blipFill>
            <a:blip r:embed="rId2"/>
            <a:stretch/>
          </p:blipFill>
          <p:spPr>
            <a:xfrm>
              <a:off x="2091600" y="2914920"/>
              <a:ext cx="269640" cy="36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AutoShape 27"/>
            <p:cNvSpPr/>
            <p:nvPr/>
          </p:nvSpPr>
          <p:spPr>
            <a:xfrm>
              <a:off x="1986120" y="2793960"/>
              <a:ext cx="5403960" cy="533520"/>
            </a:xfrm>
            <a:prstGeom prst="roundRect">
              <a:avLst>
                <a:gd name="adj" fmla="val 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目录内容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组合 45"/>
          <p:cNvGrpSpPr/>
          <p:nvPr/>
        </p:nvGrpSpPr>
        <p:grpSpPr>
          <a:xfrm>
            <a:off x="1870200" y="3578400"/>
            <a:ext cx="6086520" cy="606240"/>
            <a:chOff x="1870200" y="3578400"/>
            <a:chExt cx="6086520" cy="606240"/>
          </a:xfrm>
        </p:grpSpPr>
        <p:sp>
          <p:nvSpPr>
            <p:cNvPr id="199" name="Rectangle 34"/>
            <p:cNvSpPr/>
            <p:nvPr/>
          </p:nvSpPr>
          <p:spPr>
            <a:xfrm>
              <a:off x="1870200" y="3998880"/>
              <a:ext cx="6086520" cy="185760"/>
            </a:xfrm>
            <a:prstGeom prst="rect">
              <a:avLst/>
            </a:prstGeom>
            <a:gradFill rotWithShape="0">
              <a:gsLst>
                <a:gs pos="0">
                  <a:srgbClr val="000000">
                    <a:alpha val="7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AutoShape 15"/>
            <p:cNvSpPr/>
            <p:nvPr/>
          </p:nvSpPr>
          <p:spPr>
            <a:xfrm>
              <a:off x="1908000" y="3578400"/>
              <a:ext cx="6048720" cy="533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1" name="WordArt 23" descr=""/>
            <p:cNvPicPr/>
            <p:nvPr/>
          </p:nvPicPr>
          <p:blipFill>
            <a:blip r:embed="rId3"/>
            <a:stretch/>
          </p:blipFill>
          <p:spPr>
            <a:xfrm>
              <a:off x="2072520" y="3715200"/>
              <a:ext cx="269640" cy="36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AutoShape 28"/>
            <p:cNvSpPr/>
            <p:nvPr/>
          </p:nvSpPr>
          <p:spPr>
            <a:xfrm>
              <a:off x="2014560" y="3594240"/>
              <a:ext cx="5403960" cy="533520"/>
            </a:xfrm>
            <a:prstGeom prst="roundRect">
              <a:avLst>
                <a:gd name="adj" fmla="val 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4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目录内容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组合 50"/>
          <p:cNvGrpSpPr/>
          <p:nvPr/>
        </p:nvGrpSpPr>
        <p:grpSpPr>
          <a:xfrm>
            <a:off x="1870200" y="4361040"/>
            <a:ext cx="6086520" cy="617400"/>
            <a:chOff x="1870200" y="4361040"/>
            <a:chExt cx="6086520" cy="617400"/>
          </a:xfrm>
        </p:grpSpPr>
        <p:sp>
          <p:nvSpPr>
            <p:cNvPr id="204" name="Rectangle 30"/>
            <p:cNvSpPr/>
            <p:nvPr/>
          </p:nvSpPr>
          <p:spPr>
            <a:xfrm>
              <a:off x="1870200" y="4792680"/>
              <a:ext cx="6086520" cy="185760"/>
            </a:xfrm>
            <a:prstGeom prst="rect">
              <a:avLst/>
            </a:prstGeom>
            <a:gradFill rotWithShape="0">
              <a:gsLst>
                <a:gs pos="0">
                  <a:srgbClr val="000000">
                    <a:alpha val="7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utoShape 18"/>
            <p:cNvSpPr/>
            <p:nvPr/>
          </p:nvSpPr>
          <p:spPr>
            <a:xfrm>
              <a:off x="1908000" y="4370040"/>
              <a:ext cx="6048720" cy="533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6" name="WordArt 24" descr=""/>
            <p:cNvPicPr/>
            <p:nvPr/>
          </p:nvPicPr>
          <p:blipFill>
            <a:blip r:embed="rId4"/>
            <a:stretch/>
          </p:blipFill>
          <p:spPr>
            <a:xfrm>
              <a:off x="2072520" y="4514760"/>
              <a:ext cx="269640" cy="36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AutoShape 29"/>
            <p:cNvSpPr/>
            <p:nvPr/>
          </p:nvSpPr>
          <p:spPr>
            <a:xfrm>
              <a:off x="2014560" y="4361040"/>
              <a:ext cx="5403960" cy="533880"/>
            </a:xfrm>
            <a:prstGeom prst="roundRect">
              <a:avLst>
                <a:gd name="adj" fmla="val 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4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目录内容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TextBox 27"/>
          <p:cNvSpPr/>
          <p:nvPr/>
        </p:nvSpPr>
        <p:spPr>
          <a:xfrm>
            <a:off x="691560" y="1219320"/>
            <a:ext cx="792720" cy="24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22267"/>
                </a:solidFill>
                <a:latin typeface="微软雅黑"/>
                <a:ea typeface="微软雅黑"/>
              </a:rPr>
              <a:t>目录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500"/>
                            </p:stCondLst>
                            <p:childTnLst>
                              <p:par>
                                <p:cTn id="97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" dur="250" autoRev="1" fill="hold"/>
                                        <p:tgtEl>
                                          <p:spTgt spid="1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55C35-C1DE-46C2-B57B-2667CB0F869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TextBox 1"/>
          <p:cNvSpPr/>
          <p:nvPr/>
        </p:nvSpPr>
        <p:spPr>
          <a:xfrm>
            <a:off x="3892680" y="2095560"/>
            <a:ext cx="50292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c00000"/>
                </a:solidFill>
                <a:latin typeface="微软雅黑"/>
                <a:ea typeface="微软雅黑"/>
              </a:rPr>
              <a:t>谢谢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00000"/>
                </a:solidFill>
                <a:latin typeface="微软雅黑"/>
                <a:ea typeface="微软雅黑"/>
              </a:rPr>
              <a:t>THANK YOU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4" dur="indefinite" restart="never" nodeType="tmRoot">
          <p:childTnLst>
            <p:seq>
              <p:cTn id="1355" dur="indefinite" nodeType="mainSeq">
                <p:childTnLst>
                  <p:par>
                    <p:cTn id="1356" fill="hold">
                      <p:stCondLst>
                        <p:cond delay="0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0" dur="500" fill="hold"/>
                                        <p:tgtEl>
                                          <p:spTgt spid="1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500" fill="hold"/>
                                        <p:tgtEl>
                                          <p:spTgt spid="1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椭圆 1"/>
          <p:cNvSpPr/>
          <p:nvPr/>
        </p:nvSpPr>
        <p:spPr>
          <a:xfrm>
            <a:off x="3351240" y="5378400"/>
            <a:ext cx="2057400" cy="312840"/>
          </a:xfrm>
          <a:prstGeom prst="ellipse">
            <a:avLst/>
          </a:prstGeom>
          <a:gradFill rotWithShape="0">
            <a:gsLst>
              <a:gs pos="0">
                <a:srgbClr val="000000">
                  <a:alpha val="62352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组合 2"/>
          <p:cNvGrpSpPr/>
          <p:nvPr/>
        </p:nvGrpSpPr>
        <p:grpSpPr>
          <a:xfrm>
            <a:off x="3378240" y="2360520"/>
            <a:ext cx="1893960" cy="3175200"/>
            <a:chOff x="3378240" y="2360520"/>
            <a:chExt cx="1893960" cy="3175200"/>
          </a:xfrm>
        </p:grpSpPr>
        <p:sp>
          <p:nvSpPr>
            <p:cNvPr id="211" name="Freeform 33"/>
            <p:cNvSpPr/>
            <p:nvPr/>
          </p:nvSpPr>
          <p:spPr>
            <a:xfrm>
              <a:off x="3378240" y="2360520"/>
              <a:ext cx="1893960" cy="2377080"/>
            </a:xfrm>
            <a:custGeom>
              <a:avLst/>
              <a:gdLst/>
              <a:ahLst/>
              <a:rect l="l" t="t" r="r" b="b"/>
              <a:pathLst>
                <a:path w="498" h="625">
                  <a:moveTo>
                    <a:pt x="249" y="0"/>
                  </a:moveTo>
                  <a:cubicBezTo>
                    <a:pt x="113" y="0"/>
                    <a:pt x="0" y="107"/>
                    <a:pt x="0" y="240"/>
                  </a:cubicBezTo>
                  <a:cubicBezTo>
                    <a:pt x="0" y="271"/>
                    <a:pt x="6" y="301"/>
                    <a:pt x="17" y="328"/>
                  </a:cubicBezTo>
                  <a:cubicBezTo>
                    <a:pt x="17" y="328"/>
                    <a:pt x="17" y="328"/>
                    <a:pt x="17" y="328"/>
                  </a:cubicBezTo>
                  <a:cubicBezTo>
                    <a:pt x="21" y="338"/>
                    <a:pt x="26" y="347"/>
                    <a:pt x="31" y="356"/>
                  </a:cubicBezTo>
                  <a:cubicBezTo>
                    <a:pt x="48" y="391"/>
                    <a:pt x="77" y="451"/>
                    <a:pt x="95" y="488"/>
                  </a:cubicBezTo>
                  <a:cubicBezTo>
                    <a:pt x="95" y="488"/>
                    <a:pt x="108" y="525"/>
                    <a:pt x="108" y="539"/>
                  </a:cubicBezTo>
                  <a:cubicBezTo>
                    <a:pt x="108" y="554"/>
                    <a:pt x="109" y="576"/>
                    <a:pt x="115" y="588"/>
                  </a:cubicBezTo>
                  <a:cubicBezTo>
                    <a:pt x="119" y="595"/>
                    <a:pt x="129" y="612"/>
                    <a:pt x="153" y="625"/>
                  </a:cubicBezTo>
                  <a:cubicBezTo>
                    <a:pt x="249" y="625"/>
                    <a:pt x="249" y="625"/>
                    <a:pt x="249" y="625"/>
                  </a:cubicBezTo>
                  <a:cubicBezTo>
                    <a:pt x="344" y="625"/>
                    <a:pt x="344" y="625"/>
                    <a:pt x="344" y="625"/>
                  </a:cubicBezTo>
                  <a:cubicBezTo>
                    <a:pt x="368" y="612"/>
                    <a:pt x="379" y="595"/>
                    <a:pt x="382" y="588"/>
                  </a:cubicBezTo>
                  <a:cubicBezTo>
                    <a:pt x="388" y="576"/>
                    <a:pt x="390" y="554"/>
                    <a:pt x="390" y="539"/>
                  </a:cubicBezTo>
                  <a:cubicBezTo>
                    <a:pt x="390" y="525"/>
                    <a:pt x="403" y="488"/>
                    <a:pt x="403" y="488"/>
                  </a:cubicBezTo>
                  <a:cubicBezTo>
                    <a:pt x="420" y="451"/>
                    <a:pt x="450" y="391"/>
                    <a:pt x="467" y="356"/>
                  </a:cubicBezTo>
                  <a:cubicBezTo>
                    <a:pt x="472" y="347"/>
                    <a:pt x="476" y="338"/>
                    <a:pt x="480" y="328"/>
                  </a:cubicBezTo>
                  <a:cubicBezTo>
                    <a:pt x="480" y="328"/>
                    <a:pt x="480" y="328"/>
                    <a:pt x="480" y="328"/>
                  </a:cubicBezTo>
                  <a:cubicBezTo>
                    <a:pt x="492" y="301"/>
                    <a:pt x="498" y="271"/>
                    <a:pt x="498" y="240"/>
                  </a:cubicBezTo>
                  <a:cubicBezTo>
                    <a:pt x="498" y="107"/>
                    <a:pt x="385" y="0"/>
                    <a:pt x="249" y="0"/>
                  </a:cubicBez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33"/>
            <p:cNvSpPr/>
            <p:nvPr/>
          </p:nvSpPr>
          <p:spPr>
            <a:xfrm>
              <a:off x="3426120" y="2420640"/>
              <a:ext cx="1798200" cy="2256840"/>
            </a:xfrm>
            <a:custGeom>
              <a:avLst/>
              <a:gdLst/>
              <a:ahLst/>
              <a:rect l="l" t="t" r="r" b="b"/>
              <a:pathLst>
                <a:path w="498" h="625">
                  <a:moveTo>
                    <a:pt x="249" y="0"/>
                  </a:moveTo>
                  <a:cubicBezTo>
                    <a:pt x="113" y="0"/>
                    <a:pt x="0" y="107"/>
                    <a:pt x="0" y="240"/>
                  </a:cubicBezTo>
                  <a:cubicBezTo>
                    <a:pt x="0" y="271"/>
                    <a:pt x="6" y="301"/>
                    <a:pt x="17" y="328"/>
                  </a:cubicBezTo>
                  <a:cubicBezTo>
                    <a:pt x="17" y="328"/>
                    <a:pt x="17" y="328"/>
                    <a:pt x="17" y="328"/>
                  </a:cubicBezTo>
                  <a:cubicBezTo>
                    <a:pt x="21" y="338"/>
                    <a:pt x="26" y="347"/>
                    <a:pt x="31" y="356"/>
                  </a:cubicBezTo>
                  <a:cubicBezTo>
                    <a:pt x="48" y="391"/>
                    <a:pt x="77" y="451"/>
                    <a:pt x="95" y="488"/>
                  </a:cubicBezTo>
                  <a:cubicBezTo>
                    <a:pt x="95" y="488"/>
                    <a:pt x="108" y="525"/>
                    <a:pt x="108" y="539"/>
                  </a:cubicBezTo>
                  <a:cubicBezTo>
                    <a:pt x="108" y="554"/>
                    <a:pt x="109" y="576"/>
                    <a:pt x="115" y="588"/>
                  </a:cubicBezTo>
                  <a:cubicBezTo>
                    <a:pt x="119" y="595"/>
                    <a:pt x="129" y="612"/>
                    <a:pt x="153" y="625"/>
                  </a:cubicBezTo>
                  <a:cubicBezTo>
                    <a:pt x="249" y="625"/>
                    <a:pt x="249" y="625"/>
                    <a:pt x="249" y="625"/>
                  </a:cubicBezTo>
                  <a:cubicBezTo>
                    <a:pt x="344" y="625"/>
                    <a:pt x="344" y="625"/>
                    <a:pt x="344" y="625"/>
                  </a:cubicBezTo>
                  <a:cubicBezTo>
                    <a:pt x="368" y="612"/>
                    <a:pt x="379" y="595"/>
                    <a:pt x="382" y="588"/>
                  </a:cubicBezTo>
                  <a:cubicBezTo>
                    <a:pt x="388" y="576"/>
                    <a:pt x="390" y="554"/>
                    <a:pt x="390" y="539"/>
                  </a:cubicBezTo>
                  <a:cubicBezTo>
                    <a:pt x="390" y="525"/>
                    <a:pt x="403" y="488"/>
                    <a:pt x="403" y="488"/>
                  </a:cubicBezTo>
                  <a:cubicBezTo>
                    <a:pt x="420" y="451"/>
                    <a:pt x="450" y="391"/>
                    <a:pt x="467" y="356"/>
                  </a:cubicBezTo>
                  <a:cubicBezTo>
                    <a:pt x="472" y="347"/>
                    <a:pt x="476" y="338"/>
                    <a:pt x="480" y="328"/>
                  </a:cubicBezTo>
                  <a:cubicBezTo>
                    <a:pt x="480" y="328"/>
                    <a:pt x="480" y="328"/>
                    <a:pt x="480" y="328"/>
                  </a:cubicBezTo>
                  <a:cubicBezTo>
                    <a:pt x="492" y="301"/>
                    <a:pt x="498" y="271"/>
                    <a:pt x="498" y="240"/>
                  </a:cubicBezTo>
                  <a:cubicBezTo>
                    <a:pt x="498" y="107"/>
                    <a:pt x="385" y="0"/>
                    <a:pt x="249" y="0"/>
                  </a:cubicBez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3" name="组合 5"/>
            <p:cNvGrpSpPr/>
            <p:nvPr/>
          </p:nvGrpSpPr>
          <p:grpSpPr>
            <a:xfrm>
              <a:off x="3908880" y="4714560"/>
              <a:ext cx="839880" cy="821160"/>
              <a:chOff x="3908880" y="4714560"/>
              <a:chExt cx="839880" cy="821160"/>
            </a:xfrm>
          </p:grpSpPr>
          <p:sp>
            <p:nvSpPr>
              <p:cNvPr id="214" name="Freeform 6"/>
              <p:cNvSpPr/>
              <p:nvPr/>
            </p:nvSpPr>
            <p:spPr>
              <a:xfrm>
                <a:off x="3914640" y="4714560"/>
                <a:ext cx="834120" cy="768240"/>
              </a:xfrm>
              <a:custGeom>
                <a:avLst/>
                <a:gdLst/>
                <a:ahLst/>
                <a:rect l="l" t="t" r="r" b="b"/>
                <a:pathLst>
                  <a:path w="220" h="202">
                    <a:moveTo>
                      <a:pt x="216" y="0"/>
                    </a:moveTo>
                    <a:cubicBezTo>
                      <a:pt x="213" y="3"/>
                      <a:pt x="213" y="3"/>
                      <a:pt x="213" y="3"/>
                    </a:cubicBezTo>
                    <a:cubicBezTo>
                      <a:pt x="213" y="14"/>
                      <a:pt x="213" y="14"/>
                      <a:pt x="213" y="14"/>
                    </a:cubicBezTo>
                    <a:cubicBezTo>
                      <a:pt x="211" y="16"/>
                      <a:pt x="211" y="16"/>
                      <a:pt x="211" y="16"/>
                    </a:cubicBezTo>
                    <a:cubicBezTo>
                      <a:pt x="211" y="16"/>
                      <a:pt x="216" y="20"/>
                      <a:pt x="218" y="24"/>
                    </a:cubicBezTo>
                    <a:cubicBezTo>
                      <a:pt x="220" y="28"/>
                      <a:pt x="220" y="33"/>
                      <a:pt x="217" y="35"/>
                    </a:cubicBezTo>
                    <a:cubicBezTo>
                      <a:pt x="214" y="38"/>
                      <a:pt x="210" y="39"/>
                      <a:pt x="210" y="42"/>
                    </a:cubicBezTo>
                    <a:cubicBezTo>
                      <a:pt x="210" y="44"/>
                      <a:pt x="209" y="48"/>
                      <a:pt x="209" y="48"/>
                    </a:cubicBezTo>
                    <a:cubicBezTo>
                      <a:pt x="209" y="48"/>
                      <a:pt x="216" y="51"/>
                      <a:pt x="217" y="55"/>
                    </a:cubicBezTo>
                    <a:cubicBezTo>
                      <a:pt x="219" y="60"/>
                      <a:pt x="218" y="64"/>
                      <a:pt x="216" y="66"/>
                    </a:cubicBezTo>
                    <a:cubicBezTo>
                      <a:pt x="213" y="67"/>
                      <a:pt x="210" y="71"/>
                      <a:pt x="210" y="71"/>
                    </a:cubicBezTo>
                    <a:cubicBezTo>
                      <a:pt x="210" y="80"/>
                      <a:pt x="210" y="80"/>
                      <a:pt x="210" y="80"/>
                    </a:cubicBezTo>
                    <a:cubicBezTo>
                      <a:pt x="210" y="80"/>
                      <a:pt x="218" y="85"/>
                      <a:pt x="218" y="89"/>
                    </a:cubicBezTo>
                    <a:cubicBezTo>
                      <a:pt x="218" y="94"/>
                      <a:pt x="214" y="97"/>
                      <a:pt x="214" y="97"/>
                    </a:cubicBezTo>
                    <a:cubicBezTo>
                      <a:pt x="209" y="102"/>
                      <a:pt x="209" y="102"/>
                      <a:pt x="209" y="102"/>
                    </a:cubicBezTo>
                    <a:cubicBezTo>
                      <a:pt x="210" y="108"/>
                      <a:pt x="210" y="108"/>
                      <a:pt x="210" y="108"/>
                    </a:cubicBezTo>
                    <a:cubicBezTo>
                      <a:pt x="210" y="108"/>
                      <a:pt x="216" y="112"/>
                      <a:pt x="217" y="116"/>
                    </a:cubicBezTo>
                    <a:cubicBezTo>
                      <a:pt x="218" y="120"/>
                      <a:pt x="217" y="123"/>
                      <a:pt x="215" y="125"/>
                    </a:cubicBezTo>
                    <a:cubicBezTo>
                      <a:pt x="213" y="127"/>
                      <a:pt x="209" y="131"/>
                      <a:pt x="209" y="131"/>
                    </a:cubicBezTo>
                    <a:cubicBezTo>
                      <a:pt x="209" y="138"/>
                      <a:pt x="209" y="138"/>
                      <a:pt x="209" y="138"/>
                    </a:cubicBezTo>
                    <a:cubicBezTo>
                      <a:pt x="209" y="138"/>
                      <a:pt x="213" y="141"/>
                      <a:pt x="214" y="145"/>
                    </a:cubicBezTo>
                    <a:cubicBezTo>
                      <a:pt x="214" y="148"/>
                      <a:pt x="209" y="158"/>
                      <a:pt x="206" y="161"/>
                    </a:cubicBezTo>
                    <a:cubicBezTo>
                      <a:pt x="203" y="163"/>
                      <a:pt x="159" y="202"/>
                      <a:pt x="159" y="202"/>
                    </a:cubicBezTo>
                    <a:cubicBezTo>
                      <a:pt x="61" y="202"/>
                      <a:pt x="61" y="202"/>
                      <a:pt x="61" y="202"/>
                    </a:cubicBezTo>
                    <a:cubicBezTo>
                      <a:pt x="13" y="161"/>
                      <a:pt x="13" y="161"/>
                      <a:pt x="13" y="161"/>
                    </a:cubicBezTo>
                    <a:cubicBezTo>
                      <a:pt x="13" y="161"/>
                      <a:pt x="12" y="155"/>
                      <a:pt x="12" y="152"/>
                    </a:cubicBezTo>
                    <a:cubicBezTo>
                      <a:pt x="11" y="149"/>
                      <a:pt x="12" y="144"/>
                      <a:pt x="9" y="142"/>
                    </a:cubicBezTo>
                    <a:cubicBezTo>
                      <a:pt x="7" y="140"/>
                      <a:pt x="2" y="139"/>
                      <a:pt x="2" y="135"/>
                    </a:cubicBezTo>
                    <a:cubicBezTo>
                      <a:pt x="2" y="130"/>
                      <a:pt x="3" y="127"/>
                      <a:pt x="5" y="126"/>
                    </a:cubicBezTo>
                    <a:cubicBezTo>
                      <a:pt x="7" y="125"/>
                      <a:pt x="9" y="122"/>
                      <a:pt x="8" y="119"/>
                    </a:cubicBezTo>
                    <a:cubicBezTo>
                      <a:pt x="8" y="116"/>
                      <a:pt x="6" y="112"/>
                      <a:pt x="4" y="108"/>
                    </a:cubicBezTo>
                    <a:cubicBezTo>
                      <a:pt x="2" y="104"/>
                      <a:pt x="2" y="100"/>
                      <a:pt x="3" y="97"/>
                    </a:cubicBezTo>
                    <a:cubicBezTo>
                      <a:pt x="5" y="94"/>
                      <a:pt x="8" y="91"/>
                      <a:pt x="8" y="91"/>
                    </a:cubicBezTo>
                    <a:cubicBezTo>
                      <a:pt x="8" y="85"/>
                      <a:pt x="8" y="85"/>
                      <a:pt x="8" y="85"/>
                    </a:cubicBezTo>
                    <a:cubicBezTo>
                      <a:pt x="8" y="85"/>
                      <a:pt x="2" y="81"/>
                      <a:pt x="2" y="76"/>
                    </a:cubicBezTo>
                    <a:cubicBezTo>
                      <a:pt x="2" y="70"/>
                      <a:pt x="3" y="67"/>
                      <a:pt x="5" y="66"/>
                    </a:cubicBezTo>
                    <a:cubicBezTo>
                      <a:pt x="7" y="64"/>
                      <a:pt x="9" y="61"/>
                      <a:pt x="9" y="61"/>
                    </a:cubicBezTo>
                    <a:cubicBezTo>
                      <a:pt x="9" y="61"/>
                      <a:pt x="10" y="57"/>
                      <a:pt x="8" y="54"/>
                    </a:cubicBezTo>
                    <a:cubicBezTo>
                      <a:pt x="7" y="52"/>
                      <a:pt x="3" y="48"/>
                      <a:pt x="2" y="44"/>
                    </a:cubicBezTo>
                    <a:cubicBezTo>
                      <a:pt x="2" y="16"/>
                      <a:pt x="2" y="16"/>
                      <a:pt x="2" y="16"/>
                    </a:cubicBezTo>
                    <a:cubicBezTo>
                      <a:pt x="2" y="16"/>
                      <a:pt x="2" y="14"/>
                      <a:pt x="2" y="11"/>
                    </a:cubicBezTo>
                    <a:cubicBezTo>
                      <a:pt x="2" y="8"/>
                      <a:pt x="2" y="1"/>
                      <a:pt x="2" y="1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216" y="0"/>
                    </a:lnTo>
                    <a:close/>
                  </a:path>
                </a:pathLst>
              </a:custGeom>
              <a:solidFill>
                <a:srgbClr val="30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7"/>
              <p:cNvSpPr/>
              <p:nvPr/>
            </p:nvSpPr>
            <p:spPr>
              <a:xfrm>
                <a:off x="4149720" y="5486040"/>
                <a:ext cx="355680" cy="49680"/>
              </a:xfrm>
              <a:custGeom>
                <a:avLst/>
                <a:gdLst/>
                <a:ahLst/>
                <a:rect l="l" t="t" r="r" b="b"/>
                <a:pathLst>
                  <a:path w="94" h="13">
                    <a:moveTo>
                      <a:pt x="0" y="0"/>
                    </a:moveTo>
                    <a:cubicBezTo>
                      <a:pt x="94" y="0"/>
                      <a:pt x="94" y="0"/>
                      <a:pt x="94" y="0"/>
                    </a:cubicBezTo>
                    <a:cubicBezTo>
                      <a:pt x="94" y="0"/>
                      <a:pt x="88" y="6"/>
                      <a:pt x="85" y="9"/>
                    </a:cubicBezTo>
                    <a:cubicBezTo>
                      <a:pt x="82" y="11"/>
                      <a:pt x="77" y="13"/>
                      <a:pt x="74" y="13"/>
                    </a:cubicBezTo>
                    <a:cubicBezTo>
                      <a:pt x="71" y="13"/>
                      <a:pt x="19" y="13"/>
                      <a:pt x="19" y="13"/>
                    </a:cubicBezTo>
                    <a:cubicBezTo>
                      <a:pt x="19" y="13"/>
                      <a:pt x="11" y="13"/>
                      <a:pt x="8" y="9"/>
                    </a:cubicBezTo>
                    <a:cubicBezTo>
                      <a:pt x="5" y="6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93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8"/>
              <p:cNvSpPr/>
              <p:nvPr/>
            </p:nvSpPr>
            <p:spPr>
              <a:xfrm>
                <a:off x="4329000" y="4733640"/>
                <a:ext cx="251280" cy="33480"/>
              </a:xfrm>
              <a:custGeom>
                <a:avLst/>
                <a:gdLst/>
                <a:ahLst/>
                <a:rect l="l" t="t" r="r" b="b"/>
                <a:pathLst>
                  <a:path w="66" h="9">
                    <a:moveTo>
                      <a:pt x="4" y="1"/>
                    </a:moveTo>
                    <a:cubicBezTo>
                      <a:pt x="4" y="1"/>
                      <a:pt x="62" y="0"/>
                      <a:pt x="64" y="1"/>
                    </a:cubicBezTo>
                    <a:cubicBezTo>
                      <a:pt x="66" y="3"/>
                      <a:pt x="66" y="5"/>
                      <a:pt x="62" y="7"/>
                    </a:cubicBezTo>
                    <a:cubicBezTo>
                      <a:pt x="58" y="8"/>
                      <a:pt x="0" y="9"/>
                      <a:pt x="0" y="9"/>
                    </a:cubicBezTo>
                    <a:cubicBezTo>
                      <a:pt x="0" y="9"/>
                      <a:pt x="20" y="7"/>
                      <a:pt x="20" y="5"/>
                    </a:cubicBezTo>
                    <a:cubicBezTo>
                      <a:pt x="20" y="3"/>
                      <a:pt x="21" y="4"/>
                      <a:pt x="17" y="3"/>
                    </a:cubicBezTo>
                    <a:cubicBezTo>
                      <a:pt x="13" y="3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9"/>
              <p:cNvSpPr/>
              <p:nvPr/>
            </p:nvSpPr>
            <p:spPr>
              <a:xfrm>
                <a:off x="4329000" y="4778640"/>
                <a:ext cx="246240" cy="94680"/>
              </a:xfrm>
              <a:custGeom>
                <a:avLst/>
                <a:gdLst/>
                <a:ahLst/>
                <a:rect l="l" t="t" r="r" b="b"/>
                <a:pathLst>
                  <a:path w="65" h="25">
                    <a:moveTo>
                      <a:pt x="11" y="0"/>
                    </a:moveTo>
                    <a:cubicBezTo>
                      <a:pt x="11" y="0"/>
                      <a:pt x="58" y="0"/>
                      <a:pt x="60" y="1"/>
                    </a:cubicBezTo>
                    <a:cubicBezTo>
                      <a:pt x="63" y="2"/>
                      <a:pt x="65" y="7"/>
                      <a:pt x="65" y="10"/>
                    </a:cubicBezTo>
                    <a:cubicBezTo>
                      <a:pt x="65" y="14"/>
                      <a:pt x="65" y="19"/>
                      <a:pt x="57" y="21"/>
                    </a:cubicBezTo>
                    <a:cubicBezTo>
                      <a:pt x="49" y="23"/>
                      <a:pt x="0" y="25"/>
                      <a:pt x="0" y="25"/>
                    </a:cubicBezTo>
                    <a:cubicBezTo>
                      <a:pt x="0" y="25"/>
                      <a:pt x="20" y="22"/>
                      <a:pt x="21" y="20"/>
                    </a:cubicBezTo>
                    <a:cubicBezTo>
                      <a:pt x="23" y="18"/>
                      <a:pt x="21" y="14"/>
                      <a:pt x="22" y="12"/>
                    </a:cubicBezTo>
                    <a:cubicBezTo>
                      <a:pt x="23" y="10"/>
                      <a:pt x="24" y="10"/>
                      <a:pt x="23" y="6"/>
                    </a:cubicBezTo>
                    <a:cubicBezTo>
                      <a:pt x="23" y="3"/>
                      <a:pt x="23" y="3"/>
                      <a:pt x="23" y="3"/>
                    </a:cubicBez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10"/>
              <p:cNvSpPr/>
              <p:nvPr/>
            </p:nvSpPr>
            <p:spPr>
              <a:xfrm>
                <a:off x="4261320" y="4907520"/>
                <a:ext cx="307440" cy="35280"/>
              </a:xfrm>
              <a:custGeom>
                <a:avLst/>
                <a:gdLst/>
                <a:ahLst/>
                <a:rect l="l" t="t" r="r" b="b"/>
                <a:pathLst>
                  <a:path w="81" h="9">
                    <a:moveTo>
                      <a:pt x="20" y="1"/>
                    </a:moveTo>
                    <a:cubicBezTo>
                      <a:pt x="20" y="1"/>
                      <a:pt x="66" y="0"/>
                      <a:pt x="73" y="0"/>
                    </a:cubicBezTo>
                    <a:cubicBezTo>
                      <a:pt x="81" y="0"/>
                      <a:pt x="81" y="3"/>
                      <a:pt x="80" y="3"/>
                    </a:cubicBezTo>
                    <a:cubicBezTo>
                      <a:pt x="78" y="4"/>
                      <a:pt x="5" y="9"/>
                      <a:pt x="3" y="9"/>
                    </a:cubicBezTo>
                    <a:cubicBezTo>
                      <a:pt x="0" y="9"/>
                      <a:pt x="21" y="6"/>
                      <a:pt x="24" y="5"/>
                    </a:cubicBezTo>
                    <a:cubicBezTo>
                      <a:pt x="27" y="4"/>
                      <a:pt x="26" y="2"/>
                      <a:pt x="20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11"/>
              <p:cNvSpPr/>
              <p:nvPr/>
            </p:nvSpPr>
            <p:spPr>
              <a:xfrm>
                <a:off x="4295160" y="4965840"/>
                <a:ext cx="273600" cy="25560"/>
              </a:xfrm>
              <a:custGeom>
                <a:avLst/>
                <a:gdLst/>
                <a:ahLst/>
                <a:rect l="l" t="t" r="r" b="b"/>
                <a:pathLst>
                  <a:path w="72" h="7">
                    <a:moveTo>
                      <a:pt x="26" y="1"/>
                    </a:moveTo>
                    <a:cubicBezTo>
                      <a:pt x="72" y="0"/>
                      <a:pt x="72" y="0"/>
                      <a:pt x="72" y="0"/>
                    </a:cubicBezTo>
                    <a:cubicBezTo>
                      <a:pt x="72" y="0"/>
                      <a:pt x="51" y="5"/>
                      <a:pt x="49" y="5"/>
                    </a:cubicBezTo>
                    <a:cubicBezTo>
                      <a:pt x="47" y="5"/>
                      <a:pt x="9" y="7"/>
                      <a:pt x="4" y="7"/>
                    </a:cubicBezTo>
                    <a:cubicBezTo>
                      <a:pt x="0" y="7"/>
                      <a:pt x="35" y="3"/>
                      <a:pt x="26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12"/>
              <p:cNvSpPr/>
              <p:nvPr/>
            </p:nvSpPr>
            <p:spPr>
              <a:xfrm>
                <a:off x="4280760" y="5022000"/>
                <a:ext cx="291240" cy="38520"/>
              </a:xfrm>
              <a:custGeom>
                <a:avLst/>
                <a:gdLst/>
                <a:ahLst/>
                <a:rect l="l" t="t" r="r" b="b"/>
                <a:pathLst>
                  <a:path w="77" h="10">
                    <a:moveTo>
                      <a:pt x="15" y="2"/>
                    </a:moveTo>
                    <a:cubicBezTo>
                      <a:pt x="15" y="2"/>
                      <a:pt x="69" y="0"/>
                      <a:pt x="73" y="0"/>
                    </a:cubicBezTo>
                    <a:cubicBezTo>
                      <a:pt x="77" y="0"/>
                      <a:pt x="75" y="4"/>
                      <a:pt x="72" y="5"/>
                    </a:cubicBezTo>
                    <a:cubicBezTo>
                      <a:pt x="68" y="6"/>
                      <a:pt x="0" y="10"/>
                      <a:pt x="0" y="10"/>
                    </a:cubicBezTo>
                    <a:cubicBezTo>
                      <a:pt x="0" y="10"/>
                      <a:pt x="29" y="6"/>
                      <a:pt x="31" y="5"/>
                    </a:cubicBezTo>
                    <a:cubicBezTo>
                      <a:pt x="32" y="4"/>
                      <a:pt x="15" y="2"/>
                      <a:pt x="15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Freeform 13"/>
              <p:cNvSpPr/>
              <p:nvPr/>
            </p:nvSpPr>
            <p:spPr>
              <a:xfrm>
                <a:off x="4351680" y="5079960"/>
                <a:ext cx="220680" cy="33480"/>
              </a:xfrm>
              <a:custGeom>
                <a:avLst/>
                <a:gdLst/>
                <a:ahLst/>
                <a:rect l="l" t="t" r="r" b="b"/>
                <a:pathLst>
                  <a:path w="58" h="9">
                    <a:moveTo>
                      <a:pt x="0" y="4"/>
                    </a:moveTo>
                    <a:cubicBezTo>
                      <a:pt x="0" y="4"/>
                      <a:pt x="55" y="0"/>
                      <a:pt x="56" y="0"/>
                    </a:cubicBezTo>
                    <a:cubicBezTo>
                      <a:pt x="58" y="0"/>
                      <a:pt x="22" y="9"/>
                      <a:pt x="0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Freeform 14"/>
              <p:cNvSpPr/>
              <p:nvPr/>
            </p:nvSpPr>
            <p:spPr>
              <a:xfrm>
                <a:off x="4272840" y="5147640"/>
                <a:ext cx="285120" cy="30600"/>
              </a:xfrm>
              <a:custGeom>
                <a:avLst/>
                <a:gdLst/>
                <a:ahLst/>
                <a:rect l="l" t="t" r="r" b="b"/>
                <a:pathLst>
                  <a:path w="75" h="8">
                    <a:moveTo>
                      <a:pt x="23" y="0"/>
                    </a:moveTo>
                    <a:cubicBezTo>
                      <a:pt x="23" y="0"/>
                      <a:pt x="67" y="0"/>
                      <a:pt x="71" y="0"/>
                    </a:cubicBezTo>
                    <a:cubicBezTo>
                      <a:pt x="75" y="1"/>
                      <a:pt x="68" y="3"/>
                      <a:pt x="65" y="4"/>
                    </a:cubicBezTo>
                    <a:cubicBezTo>
                      <a:pt x="62" y="5"/>
                      <a:pt x="0" y="8"/>
                      <a:pt x="0" y="8"/>
                    </a:cubicBezTo>
                    <a:cubicBezTo>
                      <a:pt x="0" y="8"/>
                      <a:pt x="28" y="4"/>
                      <a:pt x="31" y="3"/>
                    </a:cubicBezTo>
                    <a:cubicBezTo>
                      <a:pt x="33" y="3"/>
                      <a:pt x="33" y="3"/>
                      <a:pt x="23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15"/>
              <p:cNvSpPr/>
              <p:nvPr/>
            </p:nvSpPr>
            <p:spPr>
              <a:xfrm>
                <a:off x="4362840" y="5197680"/>
                <a:ext cx="209160" cy="25560"/>
              </a:xfrm>
              <a:custGeom>
                <a:avLst/>
                <a:gdLst/>
                <a:ahLst/>
                <a:rect l="l" t="t" r="r" b="b"/>
                <a:pathLst>
                  <a:path w="55" h="7">
                    <a:moveTo>
                      <a:pt x="0" y="3"/>
                    </a:moveTo>
                    <a:cubicBezTo>
                      <a:pt x="0" y="3"/>
                      <a:pt x="51" y="0"/>
                      <a:pt x="53" y="0"/>
                    </a:cubicBezTo>
                    <a:cubicBezTo>
                      <a:pt x="55" y="0"/>
                      <a:pt x="28" y="7"/>
                      <a:pt x="0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16"/>
              <p:cNvSpPr/>
              <p:nvPr/>
            </p:nvSpPr>
            <p:spPr>
              <a:xfrm>
                <a:off x="4379040" y="5258880"/>
                <a:ext cx="162360" cy="28800"/>
              </a:xfrm>
              <a:custGeom>
                <a:avLst/>
                <a:gdLst/>
                <a:ahLst/>
                <a:rect l="l" t="t" r="r" b="b"/>
                <a:pathLst>
                  <a:path w="43" h="8">
                    <a:moveTo>
                      <a:pt x="0" y="2"/>
                    </a:moveTo>
                    <a:cubicBezTo>
                      <a:pt x="0" y="2"/>
                      <a:pt x="38" y="0"/>
                      <a:pt x="41" y="1"/>
                    </a:cubicBezTo>
                    <a:cubicBezTo>
                      <a:pt x="43" y="1"/>
                      <a:pt x="31" y="5"/>
                      <a:pt x="26" y="7"/>
                    </a:cubicBezTo>
                    <a:cubicBezTo>
                      <a:pt x="20" y="8"/>
                      <a:pt x="12" y="7"/>
                      <a:pt x="0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17"/>
              <p:cNvSpPr/>
              <p:nvPr/>
            </p:nvSpPr>
            <p:spPr>
              <a:xfrm>
                <a:off x="4306680" y="5284440"/>
                <a:ext cx="318960" cy="30600"/>
              </a:xfrm>
              <a:custGeom>
                <a:avLst/>
                <a:gdLst/>
                <a:ahLst/>
                <a:rect l="l" t="t" r="r" b="b"/>
                <a:pathLst>
                  <a:path w="84" h="8">
                    <a:moveTo>
                      <a:pt x="0" y="5"/>
                    </a:moveTo>
                    <a:cubicBezTo>
                      <a:pt x="0" y="5"/>
                      <a:pt x="76" y="2"/>
                      <a:pt x="84" y="0"/>
                    </a:cubicBezTo>
                    <a:cubicBezTo>
                      <a:pt x="84" y="0"/>
                      <a:pt x="75" y="6"/>
                      <a:pt x="32" y="8"/>
                    </a:cubicBezTo>
                    <a:cubicBezTo>
                      <a:pt x="32" y="8"/>
                      <a:pt x="9" y="7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18"/>
              <p:cNvSpPr/>
              <p:nvPr/>
            </p:nvSpPr>
            <p:spPr>
              <a:xfrm>
                <a:off x="4675320" y="4912560"/>
                <a:ext cx="36720" cy="2232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7" y="0"/>
                    </a:moveTo>
                    <a:cubicBezTo>
                      <a:pt x="7" y="0"/>
                      <a:pt x="10" y="5"/>
                      <a:pt x="0" y="6"/>
                    </a:cubicBez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Freeform 19"/>
              <p:cNvSpPr/>
              <p:nvPr/>
            </p:nvSpPr>
            <p:spPr>
              <a:xfrm>
                <a:off x="4670640" y="4786920"/>
                <a:ext cx="41760" cy="1908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8" y="0"/>
                    </a:moveTo>
                    <a:cubicBezTo>
                      <a:pt x="8" y="0"/>
                      <a:pt x="11" y="4"/>
                      <a:pt x="0" y="5"/>
                    </a:cubicBez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20"/>
              <p:cNvSpPr/>
              <p:nvPr/>
            </p:nvSpPr>
            <p:spPr>
              <a:xfrm>
                <a:off x="4656240" y="5030280"/>
                <a:ext cx="56160" cy="19080"/>
              </a:xfrm>
              <a:custGeom>
                <a:avLst/>
                <a:gdLst/>
                <a:ahLst/>
                <a:rect l="l" t="t" r="r" b="b"/>
                <a:pathLst>
                  <a:path w="15" h="5">
                    <a:moveTo>
                      <a:pt x="11" y="0"/>
                    </a:moveTo>
                    <a:cubicBezTo>
                      <a:pt x="11" y="0"/>
                      <a:pt x="15" y="4"/>
                      <a:pt x="0" y="5"/>
                    </a:cubicBez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21"/>
              <p:cNvSpPr/>
              <p:nvPr/>
            </p:nvSpPr>
            <p:spPr>
              <a:xfrm>
                <a:off x="4659480" y="5105880"/>
                <a:ext cx="46440" cy="57960"/>
              </a:xfrm>
              <a:custGeom>
                <a:avLst/>
                <a:gdLst/>
                <a:ahLst/>
                <a:rect l="l" t="t" r="r" b="b"/>
                <a:pathLst>
                  <a:path w="12" h="15">
                    <a:moveTo>
                      <a:pt x="6" y="0"/>
                    </a:moveTo>
                    <a:cubicBezTo>
                      <a:pt x="6" y="0"/>
                      <a:pt x="6" y="5"/>
                      <a:pt x="7" y="6"/>
                    </a:cubicBezTo>
                    <a:cubicBezTo>
                      <a:pt x="8" y="7"/>
                      <a:pt x="12" y="12"/>
                      <a:pt x="12" y="12"/>
                    </a:cubicBezTo>
                    <a:cubicBezTo>
                      <a:pt x="12" y="12"/>
                      <a:pt x="3" y="15"/>
                      <a:pt x="0" y="14"/>
                    </a:cubicBezTo>
                    <a:cubicBezTo>
                      <a:pt x="0" y="14"/>
                      <a:pt x="5" y="12"/>
                      <a:pt x="6" y="10"/>
                    </a:cubicBezTo>
                    <a:cubicBezTo>
                      <a:pt x="6" y="9"/>
                      <a:pt x="5" y="1"/>
                      <a:pt x="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22"/>
              <p:cNvSpPr/>
              <p:nvPr/>
            </p:nvSpPr>
            <p:spPr>
              <a:xfrm>
                <a:off x="4678560" y="5250960"/>
                <a:ext cx="22320" cy="190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cubicBezTo>
                      <a:pt x="3" y="0"/>
                      <a:pt x="6" y="4"/>
                      <a:pt x="0" y="5"/>
                    </a:cubicBez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23"/>
              <p:cNvSpPr/>
              <p:nvPr/>
            </p:nvSpPr>
            <p:spPr>
              <a:xfrm>
                <a:off x="3965040" y="4764240"/>
                <a:ext cx="209160" cy="22320"/>
              </a:xfrm>
              <a:custGeom>
                <a:avLst/>
                <a:gdLst/>
                <a:ahLst/>
                <a:rect l="l" t="t" r="r" b="b"/>
                <a:pathLst>
                  <a:path w="55" h="6">
                    <a:moveTo>
                      <a:pt x="0" y="0"/>
                    </a:moveTo>
                    <a:cubicBezTo>
                      <a:pt x="55" y="3"/>
                      <a:pt x="55" y="3"/>
                      <a:pt x="55" y="3"/>
                    </a:cubicBezTo>
                    <a:cubicBezTo>
                      <a:pt x="55" y="3"/>
                      <a:pt x="15" y="6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24"/>
              <p:cNvSpPr/>
              <p:nvPr/>
            </p:nvSpPr>
            <p:spPr>
              <a:xfrm>
                <a:off x="3911760" y="4954320"/>
                <a:ext cx="72360" cy="17640"/>
              </a:xfrm>
              <a:custGeom>
                <a:avLst/>
                <a:gdLst/>
                <a:ahLst/>
                <a:rect l="l" t="t" r="r" b="b"/>
                <a:pathLst>
                  <a:path w="19" h="5">
                    <a:moveTo>
                      <a:pt x="7" y="0"/>
                    </a:moveTo>
                    <a:cubicBezTo>
                      <a:pt x="19" y="1"/>
                      <a:pt x="19" y="1"/>
                      <a:pt x="19" y="1"/>
                    </a:cubicBezTo>
                    <a:cubicBezTo>
                      <a:pt x="19" y="1"/>
                      <a:pt x="7" y="4"/>
                      <a:pt x="4" y="4"/>
                    </a:cubicBezTo>
                    <a:cubicBezTo>
                      <a:pt x="0" y="5"/>
                      <a:pt x="7" y="0"/>
                      <a:pt x="7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25"/>
              <p:cNvSpPr/>
              <p:nvPr/>
            </p:nvSpPr>
            <p:spPr>
              <a:xfrm>
                <a:off x="3911760" y="5068800"/>
                <a:ext cx="75600" cy="14400"/>
              </a:xfrm>
              <a:custGeom>
                <a:avLst/>
                <a:gdLst/>
                <a:ahLst/>
                <a:rect l="l" t="t" r="r" b="b"/>
                <a:pathLst>
                  <a:path w="20" h="4">
                    <a:moveTo>
                      <a:pt x="6" y="0"/>
                    </a:move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4" y="4"/>
                      <a:pt x="2" y="4"/>
                    </a:cubicBezTo>
                    <a:cubicBezTo>
                      <a:pt x="0" y="4"/>
                      <a:pt x="6" y="0"/>
                      <a:pt x="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26"/>
              <p:cNvSpPr/>
              <p:nvPr/>
            </p:nvSpPr>
            <p:spPr>
              <a:xfrm>
                <a:off x="3908880" y="5192640"/>
                <a:ext cx="75600" cy="19080"/>
              </a:xfrm>
              <a:custGeom>
                <a:avLst/>
                <a:gdLst/>
                <a:ahLst/>
                <a:rect l="l" t="t" r="r" b="b"/>
                <a:pathLst>
                  <a:path w="20" h="5">
                    <a:moveTo>
                      <a:pt x="6" y="0"/>
                    </a:moveTo>
                    <a:cubicBezTo>
                      <a:pt x="20" y="1"/>
                      <a:pt x="20" y="1"/>
                      <a:pt x="20" y="1"/>
                    </a:cubicBezTo>
                    <a:cubicBezTo>
                      <a:pt x="20" y="1"/>
                      <a:pt x="3" y="5"/>
                      <a:pt x="2" y="5"/>
                    </a:cubicBezTo>
                    <a:cubicBezTo>
                      <a:pt x="0" y="5"/>
                      <a:pt x="6" y="0"/>
                      <a:pt x="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27"/>
              <p:cNvSpPr/>
              <p:nvPr/>
            </p:nvSpPr>
            <p:spPr>
              <a:xfrm>
                <a:off x="3972960" y="5300640"/>
                <a:ext cx="272160" cy="33480"/>
              </a:xfrm>
              <a:custGeom>
                <a:avLst/>
                <a:gdLst/>
                <a:ahLst/>
                <a:rect l="l" t="t" r="r" b="b"/>
                <a:pathLst>
                  <a:path w="72" h="9">
                    <a:moveTo>
                      <a:pt x="0" y="0"/>
                    </a:moveTo>
                    <a:cubicBezTo>
                      <a:pt x="0" y="0"/>
                      <a:pt x="65" y="2"/>
                      <a:pt x="68" y="1"/>
                    </a:cubicBezTo>
                    <a:cubicBezTo>
                      <a:pt x="72" y="1"/>
                      <a:pt x="24" y="9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28"/>
              <p:cNvSpPr/>
              <p:nvPr/>
            </p:nvSpPr>
            <p:spPr>
              <a:xfrm>
                <a:off x="4457880" y="5329800"/>
                <a:ext cx="136800" cy="122400"/>
              </a:xfrm>
              <a:custGeom>
                <a:avLst/>
                <a:gdLst/>
                <a:ahLst/>
                <a:rect l="l" t="t" r="r" b="b"/>
                <a:pathLst>
                  <a:path w="36" h="32">
                    <a:moveTo>
                      <a:pt x="36" y="0"/>
                    </a:moveTo>
                    <a:cubicBezTo>
                      <a:pt x="36" y="0"/>
                      <a:pt x="5" y="30"/>
                      <a:pt x="3" y="31"/>
                    </a:cubicBezTo>
                    <a:cubicBezTo>
                      <a:pt x="0" y="32"/>
                      <a:pt x="21" y="8"/>
                      <a:pt x="3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7" name="Group 37"/>
          <p:cNvGrpSpPr/>
          <p:nvPr/>
        </p:nvGrpSpPr>
        <p:grpSpPr>
          <a:xfrm>
            <a:off x="3359160" y="2343240"/>
            <a:ext cx="1939680" cy="2345760"/>
            <a:chOff x="3359160" y="2343240"/>
            <a:chExt cx="1939680" cy="2345760"/>
          </a:xfrm>
        </p:grpSpPr>
        <p:sp>
          <p:nvSpPr>
            <p:cNvPr id="238" name="Rectangle 38"/>
            <p:cNvSpPr/>
            <p:nvPr/>
          </p:nvSpPr>
          <p:spPr>
            <a:xfrm>
              <a:off x="4320000" y="3995280"/>
              <a:ext cx="19080" cy="557640"/>
            </a:xfrm>
            <a:prstGeom prst="rect">
              <a:avLst/>
            </a:pr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39"/>
            <p:cNvSpPr/>
            <p:nvPr/>
          </p:nvSpPr>
          <p:spPr>
            <a:xfrm>
              <a:off x="4328280" y="4542480"/>
              <a:ext cx="273240" cy="28440"/>
            </a:xfrm>
            <a:custGeom>
              <a:avLst/>
              <a:gdLst/>
              <a:ahLst/>
              <a:rect l="l" t="t" r="r" b="b"/>
              <a:pathLst>
                <a:path w="170" h="19">
                  <a:moveTo>
                    <a:pt x="170" y="19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170" y="7"/>
                  </a:lnTo>
                  <a:lnTo>
                    <a:pt x="170" y="19"/>
                  </a:lnTo>
                  <a:close/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40"/>
            <p:cNvSpPr/>
            <p:nvPr/>
          </p:nvSpPr>
          <p:spPr>
            <a:xfrm>
              <a:off x="4123440" y="4299120"/>
              <a:ext cx="209520" cy="257040"/>
            </a:xfrm>
            <a:custGeom>
              <a:avLst/>
              <a:gdLst/>
              <a:ahLst/>
              <a:rect l="l" t="t" r="r" b="b"/>
              <a:pathLst>
                <a:path w="130" h="170">
                  <a:moveTo>
                    <a:pt x="120" y="170"/>
                  </a:moveTo>
                  <a:lnTo>
                    <a:pt x="0" y="7"/>
                  </a:lnTo>
                  <a:lnTo>
                    <a:pt x="9" y="0"/>
                  </a:lnTo>
                  <a:lnTo>
                    <a:pt x="130" y="163"/>
                  </a:lnTo>
                  <a:lnTo>
                    <a:pt x="120" y="170"/>
                  </a:lnTo>
                  <a:close/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41"/>
            <p:cNvSpPr/>
            <p:nvPr/>
          </p:nvSpPr>
          <p:spPr>
            <a:xfrm>
              <a:off x="4317120" y="4327920"/>
              <a:ext cx="307080" cy="228240"/>
            </a:xfrm>
            <a:custGeom>
              <a:avLst/>
              <a:gdLst/>
              <a:ahLst/>
              <a:rect l="l" t="t" r="r" b="b"/>
              <a:pathLst>
                <a:path w="191" h="151">
                  <a:moveTo>
                    <a:pt x="7" y="151"/>
                  </a:moveTo>
                  <a:lnTo>
                    <a:pt x="0" y="142"/>
                  </a:lnTo>
                  <a:lnTo>
                    <a:pt x="184" y="0"/>
                  </a:lnTo>
                  <a:lnTo>
                    <a:pt x="191" y="10"/>
                  </a:lnTo>
                  <a:lnTo>
                    <a:pt x="7" y="151"/>
                  </a:lnTo>
                  <a:close/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42"/>
            <p:cNvSpPr/>
            <p:nvPr/>
          </p:nvSpPr>
          <p:spPr>
            <a:xfrm>
              <a:off x="3898080" y="4545720"/>
              <a:ext cx="426600" cy="28440"/>
            </a:xfrm>
            <a:custGeom>
              <a:avLst/>
              <a:gdLst/>
              <a:ahLst/>
              <a:rect l="l" t="t" r="r" b="b"/>
              <a:pathLst>
                <a:path w="265" h="19">
                  <a:moveTo>
                    <a:pt x="0" y="19"/>
                  </a:moveTo>
                  <a:lnTo>
                    <a:pt x="0" y="7"/>
                  </a:lnTo>
                  <a:lnTo>
                    <a:pt x="265" y="0"/>
                  </a:lnTo>
                  <a:lnTo>
                    <a:pt x="265" y="12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43"/>
            <p:cNvSpPr/>
            <p:nvPr/>
          </p:nvSpPr>
          <p:spPr>
            <a:xfrm>
              <a:off x="3800160" y="4264200"/>
              <a:ext cx="106200" cy="303840"/>
            </a:xfrm>
            <a:custGeom>
              <a:avLst/>
              <a:gdLst/>
              <a:ahLst/>
              <a:rect l="l" t="t" r="r" b="b"/>
              <a:pathLst>
                <a:path w="66" h="201">
                  <a:moveTo>
                    <a:pt x="54" y="201"/>
                  </a:moveTo>
                  <a:lnTo>
                    <a:pt x="0" y="2"/>
                  </a:lnTo>
                  <a:lnTo>
                    <a:pt x="12" y="0"/>
                  </a:lnTo>
                  <a:lnTo>
                    <a:pt x="66" y="198"/>
                  </a:lnTo>
                  <a:lnTo>
                    <a:pt x="54" y="201"/>
                  </a:lnTo>
                  <a:close/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44"/>
            <p:cNvSpPr/>
            <p:nvPr/>
          </p:nvSpPr>
          <p:spPr>
            <a:xfrm>
              <a:off x="3886920" y="4303440"/>
              <a:ext cx="247680" cy="264600"/>
            </a:xfrm>
            <a:custGeom>
              <a:avLst/>
              <a:gdLst/>
              <a:ahLst/>
              <a:rect l="l" t="t" r="r" b="b"/>
              <a:pathLst>
                <a:path w="154" h="175">
                  <a:moveTo>
                    <a:pt x="9" y="175"/>
                  </a:moveTo>
                  <a:lnTo>
                    <a:pt x="0" y="167"/>
                  </a:lnTo>
                  <a:lnTo>
                    <a:pt x="147" y="0"/>
                  </a:lnTo>
                  <a:lnTo>
                    <a:pt x="154" y="7"/>
                  </a:lnTo>
                  <a:lnTo>
                    <a:pt x="9" y="175"/>
                  </a:lnTo>
                  <a:close/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45"/>
            <p:cNvSpPr/>
            <p:nvPr/>
          </p:nvSpPr>
          <p:spPr>
            <a:xfrm>
              <a:off x="3803400" y="4256640"/>
              <a:ext cx="326520" cy="52920"/>
            </a:xfrm>
            <a:custGeom>
              <a:avLst/>
              <a:gdLst/>
              <a:ahLst/>
              <a:rect l="l" t="t" r="r" b="b"/>
              <a:pathLst>
                <a:path w="203" h="35">
                  <a:moveTo>
                    <a:pt x="203" y="35"/>
                  </a:moveTo>
                  <a:lnTo>
                    <a:pt x="0" y="9"/>
                  </a:lnTo>
                  <a:lnTo>
                    <a:pt x="2" y="0"/>
                  </a:lnTo>
                  <a:lnTo>
                    <a:pt x="203" y="26"/>
                  </a:lnTo>
                  <a:lnTo>
                    <a:pt x="203" y="35"/>
                  </a:lnTo>
                  <a:close/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46"/>
            <p:cNvSpPr/>
            <p:nvPr/>
          </p:nvSpPr>
          <p:spPr>
            <a:xfrm>
              <a:off x="4123440" y="3995280"/>
              <a:ext cx="212760" cy="311040"/>
            </a:xfrm>
            <a:custGeom>
              <a:avLst/>
              <a:gdLst/>
              <a:ahLst/>
              <a:rect l="l" t="t" r="r" b="b"/>
              <a:pathLst>
                <a:path w="132" h="206">
                  <a:moveTo>
                    <a:pt x="9" y="206"/>
                  </a:moveTo>
                  <a:lnTo>
                    <a:pt x="0" y="199"/>
                  </a:lnTo>
                  <a:lnTo>
                    <a:pt x="122" y="0"/>
                  </a:lnTo>
                  <a:lnTo>
                    <a:pt x="132" y="8"/>
                  </a:lnTo>
                  <a:lnTo>
                    <a:pt x="9" y="206"/>
                  </a:lnTo>
                  <a:close/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47"/>
            <p:cNvSpPr/>
            <p:nvPr/>
          </p:nvSpPr>
          <p:spPr>
            <a:xfrm>
              <a:off x="4609800" y="4164480"/>
              <a:ext cx="250920" cy="178560"/>
            </a:xfrm>
            <a:custGeom>
              <a:avLst/>
              <a:gdLst/>
              <a:ahLst/>
              <a:rect l="l" t="t" r="r" b="b"/>
              <a:pathLst>
                <a:path w="156" h="118">
                  <a:moveTo>
                    <a:pt x="7" y="118"/>
                  </a:moveTo>
                  <a:lnTo>
                    <a:pt x="0" y="108"/>
                  </a:lnTo>
                  <a:lnTo>
                    <a:pt x="149" y="0"/>
                  </a:lnTo>
                  <a:lnTo>
                    <a:pt x="156" y="7"/>
                  </a:lnTo>
                  <a:lnTo>
                    <a:pt x="7" y="118"/>
                  </a:lnTo>
                  <a:close/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48"/>
            <p:cNvSpPr/>
            <p:nvPr/>
          </p:nvSpPr>
          <p:spPr>
            <a:xfrm>
              <a:off x="4595400" y="4338360"/>
              <a:ext cx="28800" cy="217440"/>
            </a:xfrm>
            <a:custGeom>
              <a:avLst/>
              <a:gdLst/>
              <a:ahLst/>
              <a:rect l="l" t="t" r="r" b="b"/>
              <a:pathLst>
                <a:path w="18" h="144">
                  <a:moveTo>
                    <a:pt x="11" y="144"/>
                  </a:moveTo>
                  <a:lnTo>
                    <a:pt x="0" y="144"/>
                  </a:lnTo>
                  <a:lnTo>
                    <a:pt x="7" y="0"/>
                  </a:lnTo>
                  <a:lnTo>
                    <a:pt x="18" y="0"/>
                  </a:lnTo>
                  <a:lnTo>
                    <a:pt x="11" y="144"/>
                  </a:lnTo>
                  <a:close/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49"/>
            <p:cNvSpPr/>
            <p:nvPr/>
          </p:nvSpPr>
          <p:spPr>
            <a:xfrm>
              <a:off x="4134600" y="4288320"/>
              <a:ext cx="478080" cy="60120"/>
            </a:xfrm>
            <a:custGeom>
              <a:avLst/>
              <a:gdLst/>
              <a:ahLst/>
              <a:rect l="l" t="t" r="r" b="b"/>
              <a:pathLst>
                <a:path w="297" h="40">
                  <a:moveTo>
                    <a:pt x="297" y="40"/>
                  </a:moveTo>
                  <a:lnTo>
                    <a:pt x="0" y="10"/>
                  </a:lnTo>
                  <a:lnTo>
                    <a:pt x="0" y="0"/>
                  </a:lnTo>
                  <a:lnTo>
                    <a:pt x="297" y="29"/>
                  </a:lnTo>
                  <a:lnTo>
                    <a:pt x="297" y="40"/>
                  </a:lnTo>
                  <a:close/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50"/>
            <p:cNvSpPr/>
            <p:nvPr/>
          </p:nvSpPr>
          <p:spPr>
            <a:xfrm>
              <a:off x="4601880" y="4034520"/>
              <a:ext cx="22320" cy="300960"/>
            </a:xfrm>
            <a:custGeom>
              <a:avLst/>
              <a:gdLst/>
              <a:ahLst/>
              <a:rect l="l" t="t" r="r" b="b"/>
              <a:pathLst>
                <a:path w="14" h="199">
                  <a:moveTo>
                    <a:pt x="3" y="199"/>
                  </a:moveTo>
                  <a:lnTo>
                    <a:pt x="0" y="0"/>
                  </a:lnTo>
                  <a:lnTo>
                    <a:pt x="12" y="0"/>
                  </a:lnTo>
                  <a:lnTo>
                    <a:pt x="14" y="199"/>
                  </a:lnTo>
                  <a:lnTo>
                    <a:pt x="3" y="199"/>
                  </a:lnTo>
                  <a:close/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51"/>
            <p:cNvSpPr/>
            <p:nvPr/>
          </p:nvSpPr>
          <p:spPr>
            <a:xfrm>
              <a:off x="4609800" y="4320360"/>
              <a:ext cx="198000" cy="200880"/>
            </a:xfrm>
            <a:custGeom>
              <a:avLst/>
              <a:gdLst/>
              <a:ahLst/>
              <a:rect l="l" t="t" r="r" b="b"/>
              <a:pathLst>
                <a:path w="52" h="56">
                  <a:moveTo>
                    <a:pt x="49" y="56"/>
                  </a:moveTo>
                  <a:cubicBezTo>
                    <a:pt x="1" y="4"/>
                    <a:pt x="0" y="2"/>
                    <a:pt x="0" y="2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6" y="2"/>
                    <a:pt x="34" y="33"/>
                    <a:pt x="52" y="53"/>
                  </a:cubicBezTo>
                  <a:lnTo>
                    <a:pt x="49" y="56"/>
                  </a:lnTo>
                  <a:close/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52"/>
            <p:cNvSpPr/>
            <p:nvPr/>
          </p:nvSpPr>
          <p:spPr>
            <a:xfrm>
              <a:off x="4606560" y="4510440"/>
              <a:ext cx="198000" cy="60480"/>
            </a:xfrm>
            <a:custGeom>
              <a:avLst/>
              <a:gdLst/>
              <a:ahLst/>
              <a:rect l="l" t="t" r="r" b="b"/>
              <a:pathLst>
                <a:path w="123" h="40">
                  <a:moveTo>
                    <a:pt x="2" y="40"/>
                  </a:moveTo>
                  <a:lnTo>
                    <a:pt x="0" y="30"/>
                  </a:lnTo>
                  <a:lnTo>
                    <a:pt x="120" y="0"/>
                  </a:lnTo>
                  <a:lnTo>
                    <a:pt x="123" y="12"/>
                  </a:lnTo>
                  <a:lnTo>
                    <a:pt x="2" y="40"/>
                  </a:lnTo>
                  <a:close/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53"/>
            <p:cNvSpPr/>
            <p:nvPr/>
          </p:nvSpPr>
          <p:spPr>
            <a:xfrm>
              <a:off x="4799880" y="4170600"/>
              <a:ext cx="60840" cy="350640"/>
            </a:xfrm>
            <a:custGeom>
              <a:avLst/>
              <a:gdLst/>
              <a:ahLst/>
              <a:rect l="l" t="t" r="r" b="b"/>
              <a:pathLst>
                <a:path w="38" h="232">
                  <a:moveTo>
                    <a:pt x="10" y="232"/>
                  </a:moveTo>
                  <a:lnTo>
                    <a:pt x="0" y="232"/>
                  </a:lnTo>
                  <a:lnTo>
                    <a:pt x="26" y="0"/>
                  </a:lnTo>
                  <a:lnTo>
                    <a:pt x="38" y="0"/>
                  </a:lnTo>
                  <a:lnTo>
                    <a:pt x="10" y="232"/>
                  </a:lnTo>
                  <a:close/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54"/>
            <p:cNvSpPr/>
            <p:nvPr/>
          </p:nvSpPr>
          <p:spPr>
            <a:xfrm>
              <a:off x="4846320" y="3853080"/>
              <a:ext cx="178560" cy="324720"/>
            </a:xfrm>
            <a:custGeom>
              <a:avLst/>
              <a:gdLst/>
              <a:ahLst/>
              <a:rect l="l" t="t" r="r" b="b"/>
              <a:pathLst>
                <a:path w="111" h="215">
                  <a:moveTo>
                    <a:pt x="9" y="215"/>
                  </a:moveTo>
                  <a:lnTo>
                    <a:pt x="0" y="210"/>
                  </a:lnTo>
                  <a:lnTo>
                    <a:pt x="101" y="0"/>
                  </a:lnTo>
                  <a:lnTo>
                    <a:pt x="111" y="7"/>
                  </a:lnTo>
                  <a:lnTo>
                    <a:pt x="9" y="215"/>
                  </a:lnTo>
                  <a:close/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55"/>
            <p:cNvSpPr/>
            <p:nvPr/>
          </p:nvSpPr>
          <p:spPr>
            <a:xfrm>
              <a:off x="5005800" y="3467880"/>
              <a:ext cx="212400" cy="395640"/>
            </a:xfrm>
            <a:custGeom>
              <a:avLst/>
              <a:gdLst/>
              <a:ahLst/>
              <a:rect l="l" t="t" r="r" b="b"/>
              <a:pathLst>
                <a:path w="132" h="262">
                  <a:moveTo>
                    <a:pt x="12" y="262"/>
                  </a:moveTo>
                  <a:lnTo>
                    <a:pt x="0" y="257"/>
                  </a:lnTo>
                  <a:lnTo>
                    <a:pt x="123" y="0"/>
                  </a:lnTo>
                  <a:lnTo>
                    <a:pt x="132" y="5"/>
                  </a:lnTo>
                  <a:lnTo>
                    <a:pt x="12" y="262"/>
                  </a:lnTo>
                  <a:close/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56"/>
            <p:cNvSpPr/>
            <p:nvPr/>
          </p:nvSpPr>
          <p:spPr>
            <a:xfrm>
              <a:off x="4799880" y="3638520"/>
              <a:ext cx="225000" cy="225000"/>
            </a:xfrm>
            <a:custGeom>
              <a:avLst/>
              <a:gdLst/>
              <a:ahLst/>
              <a:rect l="l" t="t" r="r" b="b"/>
              <a:pathLst>
                <a:path w="140" h="149">
                  <a:moveTo>
                    <a:pt x="130" y="149"/>
                  </a:moveTo>
                  <a:lnTo>
                    <a:pt x="0" y="10"/>
                  </a:lnTo>
                  <a:lnTo>
                    <a:pt x="7" y="0"/>
                  </a:lnTo>
                  <a:lnTo>
                    <a:pt x="140" y="142"/>
                  </a:lnTo>
                  <a:lnTo>
                    <a:pt x="130" y="149"/>
                  </a:lnTo>
                  <a:close/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57"/>
            <p:cNvSpPr/>
            <p:nvPr/>
          </p:nvSpPr>
          <p:spPr>
            <a:xfrm>
              <a:off x="4606560" y="3638520"/>
              <a:ext cx="204120" cy="403200"/>
            </a:xfrm>
            <a:custGeom>
              <a:avLst/>
              <a:gdLst/>
              <a:ahLst/>
              <a:rect l="l" t="t" r="r" b="b"/>
              <a:pathLst>
                <a:path w="127" h="267">
                  <a:moveTo>
                    <a:pt x="9" y="267"/>
                  </a:moveTo>
                  <a:lnTo>
                    <a:pt x="0" y="262"/>
                  </a:lnTo>
                  <a:lnTo>
                    <a:pt x="118" y="0"/>
                  </a:lnTo>
                  <a:lnTo>
                    <a:pt x="127" y="5"/>
                  </a:lnTo>
                  <a:lnTo>
                    <a:pt x="9" y="267"/>
                  </a:lnTo>
                  <a:close/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58"/>
            <p:cNvSpPr/>
            <p:nvPr/>
          </p:nvSpPr>
          <p:spPr>
            <a:xfrm>
              <a:off x="4328280" y="3989160"/>
              <a:ext cx="281160" cy="57240"/>
            </a:xfrm>
            <a:custGeom>
              <a:avLst/>
              <a:gdLst/>
              <a:ahLst/>
              <a:rect l="l" t="t" r="r" b="b"/>
              <a:pathLst>
                <a:path w="175" h="38">
                  <a:moveTo>
                    <a:pt x="173" y="38"/>
                  </a:moveTo>
                  <a:lnTo>
                    <a:pt x="0" y="12"/>
                  </a:lnTo>
                  <a:lnTo>
                    <a:pt x="3" y="0"/>
                  </a:lnTo>
                  <a:lnTo>
                    <a:pt x="175" y="26"/>
                  </a:lnTo>
                  <a:lnTo>
                    <a:pt x="173" y="38"/>
                  </a:lnTo>
                  <a:close/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59"/>
            <p:cNvSpPr/>
            <p:nvPr/>
          </p:nvSpPr>
          <p:spPr>
            <a:xfrm>
              <a:off x="4609800" y="4028760"/>
              <a:ext cx="247680" cy="146160"/>
            </a:xfrm>
            <a:custGeom>
              <a:avLst/>
              <a:gdLst/>
              <a:ahLst/>
              <a:rect l="l" t="t" r="r" b="b"/>
              <a:pathLst>
                <a:path w="154" h="97">
                  <a:moveTo>
                    <a:pt x="147" y="97"/>
                  </a:moveTo>
                  <a:lnTo>
                    <a:pt x="0" y="9"/>
                  </a:lnTo>
                  <a:lnTo>
                    <a:pt x="7" y="0"/>
                  </a:lnTo>
                  <a:lnTo>
                    <a:pt x="154" y="87"/>
                  </a:lnTo>
                  <a:lnTo>
                    <a:pt x="147" y="97"/>
                  </a:lnTo>
                  <a:close/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60"/>
            <p:cNvSpPr/>
            <p:nvPr/>
          </p:nvSpPr>
          <p:spPr>
            <a:xfrm>
              <a:off x="4613040" y="3849840"/>
              <a:ext cx="403920" cy="188640"/>
            </a:xfrm>
            <a:custGeom>
              <a:avLst/>
              <a:gdLst/>
              <a:ahLst/>
              <a:rect l="l" t="t" r="r" b="b"/>
              <a:pathLst>
                <a:path w="251" h="125">
                  <a:moveTo>
                    <a:pt x="5" y="125"/>
                  </a:moveTo>
                  <a:lnTo>
                    <a:pt x="0" y="115"/>
                  </a:lnTo>
                  <a:lnTo>
                    <a:pt x="246" y="0"/>
                  </a:lnTo>
                  <a:lnTo>
                    <a:pt x="251" y="11"/>
                  </a:lnTo>
                  <a:lnTo>
                    <a:pt x="5" y="125"/>
                  </a:lnTo>
                  <a:close/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61"/>
            <p:cNvSpPr/>
            <p:nvPr/>
          </p:nvSpPr>
          <p:spPr>
            <a:xfrm>
              <a:off x="4548600" y="3706560"/>
              <a:ext cx="72000" cy="324720"/>
            </a:xfrm>
            <a:custGeom>
              <a:avLst/>
              <a:gdLst/>
              <a:ahLst/>
              <a:rect l="l" t="t" r="r" b="b"/>
              <a:pathLst>
                <a:path w="45" h="215">
                  <a:moveTo>
                    <a:pt x="36" y="215"/>
                  </a:moveTo>
                  <a:lnTo>
                    <a:pt x="0" y="2"/>
                  </a:lnTo>
                  <a:lnTo>
                    <a:pt x="12" y="0"/>
                  </a:lnTo>
                  <a:lnTo>
                    <a:pt x="45" y="213"/>
                  </a:lnTo>
                  <a:lnTo>
                    <a:pt x="36" y="215"/>
                  </a:lnTo>
                  <a:close/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62"/>
            <p:cNvSpPr/>
            <p:nvPr/>
          </p:nvSpPr>
          <p:spPr>
            <a:xfrm>
              <a:off x="4317120" y="3713760"/>
              <a:ext cx="21960" cy="281160"/>
            </a:xfrm>
            <a:custGeom>
              <a:avLst/>
              <a:gdLst/>
              <a:ahLst/>
              <a:rect l="l" t="t" r="r" b="b"/>
              <a:pathLst>
                <a:path w="14" h="186">
                  <a:moveTo>
                    <a:pt x="2" y="186"/>
                  </a:moveTo>
                  <a:lnTo>
                    <a:pt x="0" y="0"/>
                  </a:lnTo>
                  <a:lnTo>
                    <a:pt x="12" y="0"/>
                  </a:lnTo>
                  <a:lnTo>
                    <a:pt x="14" y="186"/>
                  </a:lnTo>
                  <a:lnTo>
                    <a:pt x="2" y="186"/>
                  </a:lnTo>
                  <a:close/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63"/>
            <p:cNvSpPr/>
            <p:nvPr/>
          </p:nvSpPr>
          <p:spPr>
            <a:xfrm>
              <a:off x="4297680" y="3274200"/>
              <a:ext cx="38520" cy="442800"/>
            </a:xfrm>
            <a:custGeom>
              <a:avLst/>
              <a:gdLst/>
              <a:ahLst/>
              <a:rect l="l" t="t" r="r" b="b"/>
              <a:pathLst>
                <a:path w="24" h="293">
                  <a:moveTo>
                    <a:pt x="12" y="293"/>
                  </a:moveTo>
                  <a:lnTo>
                    <a:pt x="0" y="3"/>
                  </a:lnTo>
                  <a:lnTo>
                    <a:pt x="12" y="0"/>
                  </a:lnTo>
                  <a:lnTo>
                    <a:pt x="24" y="293"/>
                  </a:lnTo>
                  <a:lnTo>
                    <a:pt x="12" y="293"/>
                  </a:lnTo>
                  <a:close/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64"/>
            <p:cNvSpPr/>
            <p:nvPr/>
          </p:nvSpPr>
          <p:spPr>
            <a:xfrm>
              <a:off x="4332960" y="3699000"/>
              <a:ext cx="226800" cy="33120"/>
            </a:xfrm>
            <a:custGeom>
              <a:avLst/>
              <a:gdLst/>
              <a:ahLst/>
              <a:rect l="l" t="t" r="r" b="b"/>
              <a:pathLst>
                <a:path w="141" h="22">
                  <a:moveTo>
                    <a:pt x="0" y="22"/>
                  </a:moveTo>
                  <a:lnTo>
                    <a:pt x="0" y="10"/>
                  </a:lnTo>
                  <a:lnTo>
                    <a:pt x="141" y="0"/>
                  </a:lnTo>
                  <a:lnTo>
                    <a:pt x="141" y="1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65"/>
            <p:cNvSpPr/>
            <p:nvPr/>
          </p:nvSpPr>
          <p:spPr>
            <a:xfrm>
              <a:off x="4001040" y="3717000"/>
              <a:ext cx="331560" cy="211680"/>
            </a:xfrm>
            <a:custGeom>
              <a:avLst/>
              <a:gdLst/>
              <a:ahLst/>
              <a:rect l="l" t="t" r="r" b="b"/>
              <a:pathLst>
                <a:path w="206" h="140">
                  <a:moveTo>
                    <a:pt x="7" y="140"/>
                  </a:moveTo>
                  <a:lnTo>
                    <a:pt x="0" y="130"/>
                  </a:lnTo>
                  <a:lnTo>
                    <a:pt x="198" y="0"/>
                  </a:lnTo>
                  <a:lnTo>
                    <a:pt x="206" y="10"/>
                  </a:lnTo>
                  <a:lnTo>
                    <a:pt x="7" y="140"/>
                  </a:lnTo>
                  <a:close/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66"/>
            <p:cNvSpPr/>
            <p:nvPr/>
          </p:nvSpPr>
          <p:spPr>
            <a:xfrm>
              <a:off x="3800160" y="3918240"/>
              <a:ext cx="215640" cy="348840"/>
            </a:xfrm>
            <a:custGeom>
              <a:avLst/>
              <a:gdLst/>
              <a:ahLst/>
              <a:rect l="l" t="t" r="r" b="b"/>
              <a:pathLst>
                <a:path w="134" h="231">
                  <a:moveTo>
                    <a:pt x="9" y="231"/>
                  </a:moveTo>
                  <a:lnTo>
                    <a:pt x="0" y="224"/>
                  </a:lnTo>
                  <a:lnTo>
                    <a:pt x="125" y="0"/>
                  </a:lnTo>
                  <a:lnTo>
                    <a:pt x="134" y="4"/>
                  </a:lnTo>
                  <a:lnTo>
                    <a:pt x="9" y="231"/>
                  </a:lnTo>
                  <a:close/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67"/>
            <p:cNvSpPr/>
            <p:nvPr/>
          </p:nvSpPr>
          <p:spPr>
            <a:xfrm>
              <a:off x="3803400" y="3992400"/>
              <a:ext cx="529560" cy="267120"/>
            </a:xfrm>
            <a:custGeom>
              <a:avLst/>
              <a:gdLst/>
              <a:ahLst/>
              <a:rect l="l" t="t" r="r" b="b"/>
              <a:pathLst>
                <a:path w="329" h="177">
                  <a:moveTo>
                    <a:pt x="5" y="177"/>
                  </a:moveTo>
                  <a:lnTo>
                    <a:pt x="0" y="168"/>
                  </a:lnTo>
                  <a:lnTo>
                    <a:pt x="324" y="0"/>
                  </a:lnTo>
                  <a:lnTo>
                    <a:pt x="329" y="10"/>
                  </a:lnTo>
                  <a:lnTo>
                    <a:pt x="5" y="177"/>
                  </a:lnTo>
                  <a:close/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68"/>
            <p:cNvSpPr/>
            <p:nvPr/>
          </p:nvSpPr>
          <p:spPr>
            <a:xfrm>
              <a:off x="4001040" y="3913560"/>
              <a:ext cx="133560" cy="385560"/>
            </a:xfrm>
            <a:custGeom>
              <a:avLst/>
              <a:gdLst/>
              <a:ahLst/>
              <a:rect l="l" t="t" r="r" b="b"/>
              <a:pathLst>
                <a:path w="83" h="255">
                  <a:moveTo>
                    <a:pt x="73" y="255"/>
                  </a:moveTo>
                  <a:lnTo>
                    <a:pt x="0" y="5"/>
                  </a:lnTo>
                  <a:lnTo>
                    <a:pt x="12" y="0"/>
                  </a:lnTo>
                  <a:lnTo>
                    <a:pt x="83" y="251"/>
                  </a:lnTo>
                  <a:lnTo>
                    <a:pt x="73" y="255"/>
                  </a:lnTo>
                  <a:close/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69"/>
            <p:cNvSpPr/>
            <p:nvPr/>
          </p:nvSpPr>
          <p:spPr>
            <a:xfrm>
              <a:off x="3532680" y="3727800"/>
              <a:ext cx="281520" cy="528840"/>
            </a:xfrm>
            <a:custGeom>
              <a:avLst/>
              <a:gdLst/>
              <a:ahLst/>
              <a:rect l="l" t="t" r="r" b="b"/>
              <a:pathLst>
                <a:path w="175" h="350">
                  <a:moveTo>
                    <a:pt x="163" y="350"/>
                  </a:moveTo>
                  <a:lnTo>
                    <a:pt x="0" y="5"/>
                  </a:lnTo>
                  <a:lnTo>
                    <a:pt x="10" y="0"/>
                  </a:lnTo>
                  <a:lnTo>
                    <a:pt x="175" y="345"/>
                  </a:lnTo>
                  <a:lnTo>
                    <a:pt x="163" y="350"/>
                  </a:lnTo>
                  <a:close/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70"/>
            <p:cNvSpPr/>
            <p:nvPr/>
          </p:nvSpPr>
          <p:spPr>
            <a:xfrm>
              <a:off x="3412080" y="3182040"/>
              <a:ext cx="136800" cy="552960"/>
            </a:xfrm>
            <a:custGeom>
              <a:avLst/>
              <a:gdLst/>
              <a:ahLst/>
              <a:rect l="l" t="t" r="r" b="b"/>
              <a:pathLst>
                <a:path w="85" h="366">
                  <a:moveTo>
                    <a:pt x="73" y="366"/>
                  </a:moveTo>
                  <a:lnTo>
                    <a:pt x="0" y="2"/>
                  </a:lnTo>
                  <a:lnTo>
                    <a:pt x="11" y="0"/>
                  </a:lnTo>
                  <a:lnTo>
                    <a:pt x="85" y="366"/>
                  </a:lnTo>
                  <a:lnTo>
                    <a:pt x="73" y="366"/>
                  </a:lnTo>
                  <a:close/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71"/>
            <p:cNvSpPr/>
            <p:nvPr/>
          </p:nvSpPr>
          <p:spPr>
            <a:xfrm>
              <a:off x="3415320" y="3182040"/>
              <a:ext cx="270360" cy="209880"/>
            </a:xfrm>
            <a:custGeom>
              <a:avLst/>
              <a:gdLst/>
              <a:ahLst/>
              <a:rect l="l" t="t" r="r" b="b"/>
              <a:pathLst>
                <a:path w="168" h="139">
                  <a:moveTo>
                    <a:pt x="161" y="139"/>
                  </a:moveTo>
                  <a:lnTo>
                    <a:pt x="0" y="7"/>
                  </a:lnTo>
                  <a:lnTo>
                    <a:pt x="7" y="0"/>
                  </a:lnTo>
                  <a:lnTo>
                    <a:pt x="168" y="130"/>
                  </a:lnTo>
                  <a:lnTo>
                    <a:pt x="161" y="139"/>
                  </a:lnTo>
                  <a:close/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72"/>
            <p:cNvSpPr/>
            <p:nvPr/>
          </p:nvSpPr>
          <p:spPr>
            <a:xfrm>
              <a:off x="3529440" y="3384360"/>
              <a:ext cx="159480" cy="343080"/>
            </a:xfrm>
            <a:custGeom>
              <a:avLst/>
              <a:gdLst/>
              <a:ahLst/>
              <a:rect l="l" t="t" r="r" b="b"/>
              <a:pathLst>
                <a:path w="99" h="227">
                  <a:moveTo>
                    <a:pt x="9" y="227"/>
                  </a:moveTo>
                  <a:lnTo>
                    <a:pt x="0" y="223"/>
                  </a:lnTo>
                  <a:lnTo>
                    <a:pt x="90" y="0"/>
                  </a:lnTo>
                  <a:lnTo>
                    <a:pt x="99" y="5"/>
                  </a:lnTo>
                  <a:lnTo>
                    <a:pt x="9" y="227"/>
                  </a:lnTo>
                  <a:close/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73"/>
            <p:cNvSpPr/>
            <p:nvPr/>
          </p:nvSpPr>
          <p:spPr>
            <a:xfrm>
              <a:off x="3674520" y="3378240"/>
              <a:ext cx="288360" cy="160200"/>
            </a:xfrm>
            <a:custGeom>
              <a:avLst/>
              <a:gdLst/>
              <a:ahLst/>
              <a:rect l="l" t="t" r="r" b="b"/>
              <a:pathLst>
                <a:path w="179" h="106">
                  <a:moveTo>
                    <a:pt x="175" y="106"/>
                  </a:moveTo>
                  <a:lnTo>
                    <a:pt x="0" y="9"/>
                  </a:lnTo>
                  <a:lnTo>
                    <a:pt x="4" y="0"/>
                  </a:lnTo>
                  <a:lnTo>
                    <a:pt x="179" y="97"/>
                  </a:lnTo>
                  <a:lnTo>
                    <a:pt x="175" y="106"/>
                  </a:lnTo>
                  <a:close/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74"/>
            <p:cNvSpPr/>
            <p:nvPr/>
          </p:nvSpPr>
          <p:spPr>
            <a:xfrm>
              <a:off x="3943440" y="3528000"/>
              <a:ext cx="68760" cy="395640"/>
            </a:xfrm>
            <a:custGeom>
              <a:avLst/>
              <a:gdLst/>
              <a:ahLst/>
              <a:rect l="l" t="t" r="r" b="b"/>
              <a:pathLst>
                <a:path w="43" h="262">
                  <a:moveTo>
                    <a:pt x="34" y="262"/>
                  </a:moveTo>
                  <a:lnTo>
                    <a:pt x="0" y="2"/>
                  </a:lnTo>
                  <a:lnTo>
                    <a:pt x="12" y="0"/>
                  </a:lnTo>
                  <a:lnTo>
                    <a:pt x="43" y="260"/>
                  </a:lnTo>
                  <a:lnTo>
                    <a:pt x="34" y="262"/>
                  </a:lnTo>
                  <a:close/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75"/>
            <p:cNvSpPr/>
            <p:nvPr/>
          </p:nvSpPr>
          <p:spPr>
            <a:xfrm>
              <a:off x="3956400" y="3525120"/>
              <a:ext cx="371880" cy="202320"/>
            </a:xfrm>
            <a:custGeom>
              <a:avLst/>
              <a:gdLst/>
              <a:ahLst/>
              <a:rect l="l" t="t" r="r" b="b"/>
              <a:pathLst>
                <a:path w="231" h="134">
                  <a:moveTo>
                    <a:pt x="226" y="134"/>
                  </a:moveTo>
                  <a:lnTo>
                    <a:pt x="0" y="9"/>
                  </a:lnTo>
                  <a:lnTo>
                    <a:pt x="4" y="0"/>
                  </a:lnTo>
                  <a:lnTo>
                    <a:pt x="231" y="125"/>
                  </a:lnTo>
                  <a:lnTo>
                    <a:pt x="226" y="134"/>
                  </a:lnTo>
                  <a:close/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76"/>
            <p:cNvSpPr/>
            <p:nvPr/>
          </p:nvSpPr>
          <p:spPr>
            <a:xfrm>
              <a:off x="3914280" y="3324240"/>
              <a:ext cx="53280" cy="211320"/>
            </a:xfrm>
            <a:custGeom>
              <a:avLst/>
              <a:gdLst/>
              <a:ahLst/>
              <a:rect l="l" t="t" r="r" b="b"/>
              <a:pathLst>
                <a:path w="33" h="140">
                  <a:moveTo>
                    <a:pt x="21" y="140"/>
                  </a:moveTo>
                  <a:lnTo>
                    <a:pt x="0" y="0"/>
                  </a:lnTo>
                  <a:lnTo>
                    <a:pt x="9" y="0"/>
                  </a:lnTo>
                  <a:lnTo>
                    <a:pt x="33" y="137"/>
                  </a:lnTo>
                  <a:lnTo>
                    <a:pt x="21" y="140"/>
                  </a:lnTo>
                  <a:close/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77"/>
            <p:cNvSpPr/>
            <p:nvPr/>
          </p:nvSpPr>
          <p:spPr>
            <a:xfrm>
              <a:off x="3537360" y="3520440"/>
              <a:ext cx="421920" cy="203760"/>
            </a:xfrm>
            <a:custGeom>
              <a:avLst/>
              <a:gdLst/>
              <a:ahLst/>
              <a:rect l="l" t="t" r="r" b="b"/>
              <a:pathLst>
                <a:path w="262" h="135">
                  <a:moveTo>
                    <a:pt x="4" y="135"/>
                  </a:moveTo>
                  <a:lnTo>
                    <a:pt x="0" y="125"/>
                  </a:lnTo>
                  <a:lnTo>
                    <a:pt x="257" y="0"/>
                  </a:lnTo>
                  <a:lnTo>
                    <a:pt x="262" y="10"/>
                  </a:lnTo>
                  <a:lnTo>
                    <a:pt x="4" y="135"/>
                  </a:lnTo>
                  <a:close/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78"/>
            <p:cNvSpPr/>
            <p:nvPr/>
          </p:nvSpPr>
          <p:spPr>
            <a:xfrm>
              <a:off x="3537360" y="3713760"/>
              <a:ext cx="466920" cy="204120"/>
            </a:xfrm>
            <a:custGeom>
              <a:avLst/>
              <a:gdLst/>
              <a:ahLst/>
              <a:rect l="l" t="t" r="r" b="b"/>
              <a:pathLst>
                <a:path w="290" h="135">
                  <a:moveTo>
                    <a:pt x="288" y="135"/>
                  </a:moveTo>
                  <a:lnTo>
                    <a:pt x="0" y="9"/>
                  </a:lnTo>
                  <a:lnTo>
                    <a:pt x="4" y="0"/>
                  </a:lnTo>
                  <a:lnTo>
                    <a:pt x="290" y="125"/>
                  </a:lnTo>
                  <a:lnTo>
                    <a:pt x="288" y="135"/>
                  </a:lnTo>
                  <a:close/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79"/>
            <p:cNvSpPr/>
            <p:nvPr/>
          </p:nvSpPr>
          <p:spPr>
            <a:xfrm>
              <a:off x="4012560" y="3849840"/>
              <a:ext cx="996480" cy="78840"/>
            </a:xfrm>
            <a:custGeom>
              <a:avLst/>
              <a:gdLst/>
              <a:ahLst/>
              <a:rect l="l" t="t" r="r" b="b"/>
              <a:pathLst>
                <a:path w="619" h="52">
                  <a:moveTo>
                    <a:pt x="0" y="52"/>
                  </a:moveTo>
                  <a:lnTo>
                    <a:pt x="0" y="40"/>
                  </a:lnTo>
                  <a:lnTo>
                    <a:pt x="619" y="0"/>
                  </a:lnTo>
                  <a:lnTo>
                    <a:pt x="619" y="11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80"/>
            <p:cNvSpPr/>
            <p:nvPr/>
          </p:nvSpPr>
          <p:spPr>
            <a:xfrm>
              <a:off x="4799880" y="3462840"/>
              <a:ext cx="415080" cy="186120"/>
            </a:xfrm>
            <a:custGeom>
              <a:avLst/>
              <a:gdLst/>
              <a:ahLst/>
              <a:rect l="l" t="t" r="r" b="b"/>
              <a:pathLst>
                <a:path w="258" h="123">
                  <a:moveTo>
                    <a:pt x="5" y="123"/>
                  </a:moveTo>
                  <a:lnTo>
                    <a:pt x="0" y="114"/>
                  </a:lnTo>
                  <a:lnTo>
                    <a:pt x="253" y="0"/>
                  </a:lnTo>
                  <a:lnTo>
                    <a:pt x="258" y="10"/>
                  </a:lnTo>
                  <a:lnTo>
                    <a:pt x="5" y="123"/>
                  </a:lnTo>
                  <a:close/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81"/>
            <p:cNvSpPr/>
            <p:nvPr/>
          </p:nvSpPr>
          <p:spPr>
            <a:xfrm>
              <a:off x="4556880" y="3635280"/>
              <a:ext cx="250920" cy="78480"/>
            </a:xfrm>
            <a:custGeom>
              <a:avLst/>
              <a:gdLst/>
              <a:ahLst/>
              <a:rect l="l" t="t" r="r" b="b"/>
              <a:pathLst>
                <a:path w="156" h="52">
                  <a:moveTo>
                    <a:pt x="2" y="52"/>
                  </a:moveTo>
                  <a:lnTo>
                    <a:pt x="0" y="40"/>
                  </a:lnTo>
                  <a:lnTo>
                    <a:pt x="154" y="0"/>
                  </a:lnTo>
                  <a:lnTo>
                    <a:pt x="156" y="9"/>
                  </a:lnTo>
                  <a:lnTo>
                    <a:pt x="2" y="52"/>
                  </a:lnTo>
                  <a:close/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82"/>
            <p:cNvSpPr/>
            <p:nvPr/>
          </p:nvSpPr>
          <p:spPr>
            <a:xfrm>
              <a:off x="5176440" y="2974680"/>
              <a:ext cx="41760" cy="495360"/>
            </a:xfrm>
            <a:custGeom>
              <a:avLst/>
              <a:gdLst/>
              <a:ahLst/>
              <a:rect l="l" t="t" r="r" b="b"/>
              <a:pathLst>
                <a:path w="26" h="328">
                  <a:moveTo>
                    <a:pt x="14" y="328"/>
                  </a:moveTo>
                  <a:lnTo>
                    <a:pt x="0" y="0"/>
                  </a:lnTo>
                  <a:lnTo>
                    <a:pt x="12" y="0"/>
                  </a:lnTo>
                  <a:lnTo>
                    <a:pt x="26" y="328"/>
                  </a:lnTo>
                  <a:lnTo>
                    <a:pt x="14" y="328"/>
                  </a:lnTo>
                  <a:close/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83"/>
            <p:cNvSpPr/>
            <p:nvPr/>
          </p:nvSpPr>
          <p:spPr>
            <a:xfrm>
              <a:off x="4891680" y="2660400"/>
              <a:ext cx="300960" cy="320400"/>
            </a:xfrm>
            <a:custGeom>
              <a:avLst/>
              <a:gdLst/>
              <a:ahLst/>
              <a:rect l="l" t="t" r="r" b="b"/>
              <a:pathLst>
                <a:path w="187" h="212">
                  <a:moveTo>
                    <a:pt x="179" y="212"/>
                  </a:moveTo>
                  <a:lnTo>
                    <a:pt x="0" y="7"/>
                  </a:lnTo>
                  <a:lnTo>
                    <a:pt x="9" y="0"/>
                  </a:lnTo>
                  <a:lnTo>
                    <a:pt x="187" y="205"/>
                  </a:lnTo>
                  <a:lnTo>
                    <a:pt x="179" y="212"/>
                  </a:lnTo>
                  <a:close/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84"/>
            <p:cNvSpPr/>
            <p:nvPr/>
          </p:nvSpPr>
          <p:spPr>
            <a:xfrm>
              <a:off x="4947840" y="2970360"/>
              <a:ext cx="239760" cy="179640"/>
            </a:xfrm>
            <a:custGeom>
              <a:avLst/>
              <a:gdLst/>
              <a:ahLst/>
              <a:rect l="l" t="t" r="r" b="b"/>
              <a:pathLst>
                <a:path w="149" h="119">
                  <a:moveTo>
                    <a:pt x="7" y="119"/>
                  </a:moveTo>
                  <a:lnTo>
                    <a:pt x="0" y="109"/>
                  </a:lnTo>
                  <a:lnTo>
                    <a:pt x="142" y="0"/>
                  </a:lnTo>
                  <a:lnTo>
                    <a:pt x="149" y="10"/>
                  </a:lnTo>
                  <a:lnTo>
                    <a:pt x="7" y="119"/>
                  </a:lnTo>
                  <a:close/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85"/>
            <p:cNvSpPr/>
            <p:nvPr/>
          </p:nvSpPr>
          <p:spPr>
            <a:xfrm>
              <a:off x="4704840" y="3134880"/>
              <a:ext cx="259200" cy="207360"/>
            </a:xfrm>
            <a:custGeom>
              <a:avLst/>
              <a:gdLst/>
              <a:ahLst/>
              <a:rect l="l" t="t" r="r" b="b"/>
              <a:pathLst>
                <a:path w="161" h="137">
                  <a:moveTo>
                    <a:pt x="7" y="137"/>
                  </a:moveTo>
                  <a:lnTo>
                    <a:pt x="0" y="130"/>
                  </a:lnTo>
                  <a:lnTo>
                    <a:pt x="154" y="0"/>
                  </a:lnTo>
                  <a:lnTo>
                    <a:pt x="161" y="10"/>
                  </a:lnTo>
                  <a:lnTo>
                    <a:pt x="7" y="137"/>
                  </a:lnTo>
                  <a:close/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86"/>
            <p:cNvSpPr/>
            <p:nvPr/>
          </p:nvSpPr>
          <p:spPr>
            <a:xfrm>
              <a:off x="4305600" y="3278520"/>
              <a:ext cx="410040" cy="63720"/>
            </a:xfrm>
            <a:custGeom>
              <a:avLst/>
              <a:gdLst/>
              <a:ahLst/>
              <a:rect l="l" t="t" r="r" b="b"/>
              <a:pathLst>
                <a:path w="255" h="42">
                  <a:moveTo>
                    <a:pt x="253" y="42"/>
                  </a:moveTo>
                  <a:lnTo>
                    <a:pt x="0" y="9"/>
                  </a:lnTo>
                  <a:lnTo>
                    <a:pt x="2" y="0"/>
                  </a:lnTo>
                  <a:lnTo>
                    <a:pt x="255" y="33"/>
                  </a:lnTo>
                  <a:lnTo>
                    <a:pt x="253" y="42"/>
                  </a:lnTo>
                  <a:close/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87"/>
            <p:cNvSpPr/>
            <p:nvPr/>
          </p:nvSpPr>
          <p:spPr>
            <a:xfrm>
              <a:off x="3920760" y="3281760"/>
              <a:ext cx="384480" cy="50040"/>
            </a:xfrm>
            <a:custGeom>
              <a:avLst/>
              <a:gdLst/>
              <a:ahLst/>
              <a:rect l="l" t="t" r="r" b="b"/>
              <a:pathLst>
                <a:path w="239" h="33">
                  <a:moveTo>
                    <a:pt x="0" y="33"/>
                  </a:moveTo>
                  <a:lnTo>
                    <a:pt x="0" y="24"/>
                  </a:lnTo>
                  <a:lnTo>
                    <a:pt x="239" y="0"/>
                  </a:lnTo>
                  <a:lnTo>
                    <a:pt x="239" y="12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88"/>
            <p:cNvSpPr/>
            <p:nvPr/>
          </p:nvSpPr>
          <p:spPr>
            <a:xfrm>
              <a:off x="3418560" y="3177360"/>
              <a:ext cx="506880" cy="157320"/>
            </a:xfrm>
            <a:custGeom>
              <a:avLst/>
              <a:gdLst/>
              <a:ahLst/>
              <a:rect l="l" t="t" r="r" b="b"/>
              <a:pathLst>
                <a:path w="315" h="104">
                  <a:moveTo>
                    <a:pt x="310" y="104"/>
                  </a:moveTo>
                  <a:lnTo>
                    <a:pt x="0" y="10"/>
                  </a:lnTo>
                  <a:lnTo>
                    <a:pt x="5" y="0"/>
                  </a:lnTo>
                  <a:lnTo>
                    <a:pt x="315" y="95"/>
                  </a:lnTo>
                  <a:lnTo>
                    <a:pt x="310" y="104"/>
                  </a:lnTo>
                  <a:close/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89"/>
            <p:cNvSpPr/>
            <p:nvPr/>
          </p:nvSpPr>
          <p:spPr>
            <a:xfrm>
              <a:off x="3677760" y="3324240"/>
              <a:ext cx="239760" cy="72000"/>
            </a:xfrm>
            <a:custGeom>
              <a:avLst/>
              <a:gdLst/>
              <a:ahLst/>
              <a:rect l="l" t="t" r="r" b="b"/>
              <a:pathLst>
                <a:path w="149" h="48">
                  <a:moveTo>
                    <a:pt x="5" y="48"/>
                  </a:moveTo>
                  <a:lnTo>
                    <a:pt x="0" y="36"/>
                  </a:lnTo>
                  <a:lnTo>
                    <a:pt x="147" y="0"/>
                  </a:lnTo>
                  <a:lnTo>
                    <a:pt x="149" y="10"/>
                  </a:lnTo>
                  <a:lnTo>
                    <a:pt x="5" y="48"/>
                  </a:lnTo>
                  <a:close/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90"/>
            <p:cNvSpPr/>
            <p:nvPr/>
          </p:nvSpPr>
          <p:spPr>
            <a:xfrm>
              <a:off x="3951360" y="3328560"/>
              <a:ext cx="761040" cy="199440"/>
            </a:xfrm>
            <a:custGeom>
              <a:avLst/>
              <a:gdLst/>
              <a:ahLst/>
              <a:rect l="l" t="t" r="r" b="b"/>
              <a:pathLst>
                <a:path w="200" h="56">
                  <a:moveTo>
                    <a:pt x="0" y="56"/>
                  </a:moveTo>
                  <a:cubicBezTo>
                    <a:pt x="0" y="56"/>
                    <a:pt x="0" y="56"/>
                    <a:pt x="0" y="56"/>
                  </a:cubicBezTo>
                  <a:cubicBezTo>
                    <a:pt x="1" y="54"/>
                    <a:pt x="1" y="54"/>
                    <a:pt x="1" y="54"/>
                  </a:cubicBezTo>
                  <a:cubicBezTo>
                    <a:pt x="1" y="52"/>
                    <a:pt x="1" y="52"/>
                    <a:pt x="1" y="52"/>
                  </a:cubicBezTo>
                  <a:cubicBezTo>
                    <a:pt x="6" y="51"/>
                    <a:pt x="145" y="14"/>
                    <a:pt x="199" y="0"/>
                  </a:cubicBezTo>
                  <a:cubicBezTo>
                    <a:pt x="200" y="4"/>
                    <a:pt x="200" y="4"/>
                    <a:pt x="200" y="4"/>
                  </a:cubicBezTo>
                  <a:cubicBezTo>
                    <a:pt x="18" y="53"/>
                    <a:pt x="2" y="56"/>
                    <a:pt x="0" y="56"/>
                  </a:cubicBezTo>
                  <a:close/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91"/>
            <p:cNvSpPr/>
            <p:nvPr/>
          </p:nvSpPr>
          <p:spPr>
            <a:xfrm>
              <a:off x="3951360" y="3284640"/>
              <a:ext cx="361800" cy="246240"/>
            </a:xfrm>
            <a:custGeom>
              <a:avLst/>
              <a:gdLst/>
              <a:ahLst/>
              <a:rect l="l" t="t" r="r" b="b"/>
              <a:pathLst>
                <a:path w="225" h="163">
                  <a:moveTo>
                    <a:pt x="7" y="163"/>
                  </a:moveTo>
                  <a:lnTo>
                    <a:pt x="0" y="154"/>
                  </a:lnTo>
                  <a:lnTo>
                    <a:pt x="218" y="0"/>
                  </a:lnTo>
                  <a:lnTo>
                    <a:pt x="225" y="10"/>
                  </a:lnTo>
                  <a:lnTo>
                    <a:pt x="7" y="163"/>
                  </a:lnTo>
                  <a:close/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92"/>
            <p:cNvSpPr/>
            <p:nvPr/>
          </p:nvSpPr>
          <p:spPr>
            <a:xfrm>
              <a:off x="4317120" y="3134880"/>
              <a:ext cx="635760" cy="149760"/>
            </a:xfrm>
            <a:custGeom>
              <a:avLst/>
              <a:gdLst/>
              <a:ahLst/>
              <a:rect l="l" t="t" r="r" b="b"/>
              <a:pathLst>
                <a:path w="395" h="99">
                  <a:moveTo>
                    <a:pt x="2" y="99"/>
                  </a:moveTo>
                  <a:lnTo>
                    <a:pt x="0" y="88"/>
                  </a:lnTo>
                  <a:lnTo>
                    <a:pt x="392" y="0"/>
                  </a:lnTo>
                  <a:lnTo>
                    <a:pt x="395" y="12"/>
                  </a:lnTo>
                  <a:lnTo>
                    <a:pt x="2" y="99"/>
                  </a:lnTo>
                  <a:close/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93"/>
            <p:cNvSpPr/>
            <p:nvPr/>
          </p:nvSpPr>
          <p:spPr>
            <a:xfrm>
              <a:off x="4704840" y="3339360"/>
              <a:ext cx="111240" cy="299160"/>
            </a:xfrm>
            <a:custGeom>
              <a:avLst/>
              <a:gdLst/>
              <a:ahLst/>
              <a:rect l="l" t="t" r="r" b="b"/>
              <a:pathLst>
                <a:path w="69" h="198">
                  <a:moveTo>
                    <a:pt x="59" y="198"/>
                  </a:moveTo>
                  <a:lnTo>
                    <a:pt x="0" y="2"/>
                  </a:lnTo>
                  <a:lnTo>
                    <a:pt x="12" y="0"/>
                  </a:lnTo>
                  <a:lnTo>
                    <a:pt x="69" y="196"/>
                  </a:lnTo>
                  <a:lnTo>
                    <a:pt x="59" y="198"/>
                  </a:lnTo>
                  <a:close/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94"/>
            <p:cNvSpPr/>
            <p:nvPr/>
          </p:nvSpPr>
          <p:spPr>
            <a:xfrm>
              <a:off x="4534200" y="2903760"/>
              <a:ext cx="645120" cy="77040"/>
            </a:xfrm>
            <a:custGeom>
              <a:avLst/>
              <a:gdLst/>
              <a:ahLst/>
              <a:rect l="l" t="t" r="r" b="b"/>
              <a:pathLst>
                <a:path w="401" h="51">
                  <a:moveTo>
                    <a:pt x="399" y="51"/>
                  </a:moveTo>
                  <a:lnTo>
                    <a:pt x="0" y="11"/>
                  </a:lnTo>
                  <a:lnTo>
                    <a:pt x="0" y="0"/>
                  </a:lnTo>
                  <a:lnTo>
                    <a:pt x="401" y="42"/>
                  </a:lnTo>
                  <a:lnTo>
                    <a:pt x="399" y="51"/>
                  </a:lnTo>
                  <a:close/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95"/>
            <p:cNvSpPr/>
            <p:nvPr/>
          </p:nvSpPr>
          <p:spPr>
            <a:xfrm>
              <a:off x="4529520" y="2660400"/>
              <a:ext cx="373320" cy="253800"/>
            </a:xfrm>
            <a:custGeom>
              <a:avLst/>
              <a:gdLst/>
              <a:ahLst/>
              <a:rect l="l" t="t" r="r" b="b"/>
              <a:pathLst>
                <a:path w="232" h="168">
                  <a:moveTo>
                    <a:pt x="7" y="168"/>
                  </a:moveTo>
                  <a:lnTo>
                    <a:pt x="0" y="161"/>
                  </a:lnTo>
                  <a:lnTo>
                    <a:pt x="225" y="0"/>
                  </a:lnTo>
                  <a:lnTo>
                    <a:pt x="232" y="9"/>
                  </a:lnTo>
                  <a:lnTo>
                    <a:pt x="7" y="168"/>
                  </a:lnTo>
                  <a:close/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96"/>
            <p:cNvSpPr/>
            <p:nvPr/>
          </p:nvSpPr>
          <p:spPr>
            <a:xfrm>
              <a:off x="3412080" y="2802240"/>
              <a:ext cx="178560" cy="382320"/>
            </a:xfrm>
            <a:custGeom>
              <a:avLst/>
              <a:gdLst/>
              <a:ahLst/>
              <a:rect l="l" t="t" r="r" b="b"/>
              <a:pathLst>
                <a:path w="111" h="253">
                  <a:moveTo>
                    <a:pt x="9" y="253"/>
                  </a:moveTo>
                  <a:lnTo>
                    <a:pt x="0" y="248"/>
                  </a:lnTo>
                  <a:lnTo>
                    <a:pt x="99" y="0"/>
                  </a:lnTo>
                  <a:lnTo>
                    <a:pt x="111" y="5"/>
                  </a:lnTo>
                  <a:lnTo>
                    <a:pt x="9" y="253"/>
                  </a:lnTo>
                  <a:close/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97"/>
            <p:cNvSpPr/>
            <p:nvPr/>
          </p:nvSpPr>
          <p:spPr>
            <a:xfrm>
              <a:off x="3582720" y="2796480"/>
              <a:ext cx="278280" cy="363960"/>
            </a:xfrm>
            <a:custGeom>
              <a:avLst/>
              <a:gdLst/>
              <a:ahLst/>
              <a:rect l="l" t="t" r="r" b="b"/>
              <a:pathLst>
                <a:path w="173" h="241">
                  <a:moveTo>
                    <a:pt x="163" y="241"/>
                  </a:moveTo>
                  <a:lnTo>
                    <a:pt x="0" y="7"/>
                  </a:lnTo>
                  <a:lnTo>
                    <a:pt x="9" y="0"/>
                  </a:lnTo>
                  <a:lnTo>
                    <a:pt x="173" y="234"/>
                  </a:lnTo>
                  <a:lnTo>
                    <a:pt x="163" y="241"/>
                  </a:lnTo>
                  <a:close/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98"/>
            <p:cNvSpPr/>
            <p:nvPr/>
          </p:nvSpPr>
          <p:spPr>
            <a:xfrm>
              <a:off x="3861360" y="3142440"/>
              <a:ext cx="458280" cy="149760"/>
            </a:xfrm>
            <a:custGeom>
              <a:avLst/>
              <a:gdLst/>
              <a:ahLst/>
              <a:rect l="l" t="t" r="r" b="b"/>
              <a:pathLst>
                <a:path w="285" h="99">
                  <a:moveTo>
                    <a:pt x="283" y="99"/>
                  </a:moveTo>
                  <a:lnTo>
                    <a:pt x="0" y="9"/>
                  </a:lnTo>
                  <a:lnTo>
                    <a:pt x="2" y="0"/>
                  </a:lnTo>
                  <a:lnTo>
                    <a:pt x="285" y="87"/>
                  </a:lnTo>
                  <a:lnTo>
                    <a:pt x="283" y="99"/>
                  </a:lnTo>
                  <a:close/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99"/>
            <p:cNvSpPr/>
            <p:nvPr/>
          </p:nvSpPr>
          <p:spPr>
            <a:xfrm>
              <a:off x="3848040" y="3145680"/>
              <a:ext cx="77040" cy="182880"/>
            </a:xfrm>
            <a:custGeom>
              <a:avLst/>
              <a:gdLst/>
              <a:ahLst/>
              <a:rect l="l" t="t" r="r" b="b"/>
              <a:pathLst>
                <a:path w="48" h="121">
                  <a:moveTo>
                    <a:pt x="38" y="121"/>
                  </a:moveTo>
                  <a:lnTo>
                    <a:pt x="0" y="5"/>
                  </a:lnTo>
                  <a:lnTo>
                    <a:pt x="12" y="0"/>
                  </a:lnTo>
                  <a:lnTo>
                    <a:pt x="48" y="118"/>
                  </a:lnTo>
                  <a:lnTo>
                    <a:pt x="38" y="121"/>
                  </a:lnTo>
                  <a:close/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00"/>
            <p:cNvSpPr/>
            <p:nvPr/>
          </p:nvSpPr>
          <p:spPr>
            <a:xfrm>
              <a:off x="3669840" y="3142440"/>
              <a:ext cx="194760" cy="249480"/>
            </a:xfrm>
            <a:custGeom>
              <a:avLst/>
              <a:gdLst/>
              <a:ahLst/>
              <a:rect l="l" t="t" r="r" b="b"/>
              <a:pathLst>
                <a:path w="121" h="165">
                  <a:moveTo>
                    <a:pt x="10" y="165"/>
                  </a:moveTo>
                  <a:lnTo>
                    <a:pt x="0" y="158"/>
                  </a:lnTo>
                  <a:lnTo>
                    <a:pt x="111" y="0"/>
                  </a:lnTo>
                  <a:lnTo>
                    <a:pt x="121" y="7"/>
                  </a:lnTo>
                  <a:lnTo>
                    <a:pt x="10" y="165"/>
                  </a:lnTo>
                  <a:close/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01"/>
            <p:cNvSpPr/>
            <p:nvPr/>
          </p:nvSpPr>
          <p:spPr>
            <a:xfrm>
              <a:off x="3571560" y="2571480"/>
              <a:ext cx="318600" cy="241560"/>
            </a:xfrm>
            <a:custGeom>
              <a:avLst/>
              <a:gdLst/>
              <a:ahLst/>
              <a:rect l="l" t="t" r="r" b="b"/>
              <a:pathLst>
                <a:path w="198" h="160">
                  <a:moveTo>
                    <a:pt x="7" y="160"/>
                  </a:moveTo>
                  <a:lnTo>
                    <a:pt x="0" y="151"/>
                  </a:lnTo>
                  <a:lnTo>
                    <a:pt x="191" y="0"/>
                  </a:lnTo>
                  <a:lnTo>
                    <a:pt x="198" y="7"/>
                  </a:lnTo>
                  <a:lnTo>
                    <a:pt x="7" y="160"/>
                  </a:lnTo>
                  <a:close/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02"/>
            <p:cNvSpPr/>
            <p:nvPr/>
          </p:nvSpPr>
          <p:spPr>
            <a:xfrm>
              <a:off x="3872520" y="2571480"/>
              <a:ext cx="334440" cy="377640"/>
            </a:xfrm>
            <a:custGeom>
              <a:avLst/>
              <a:gdLst/>
              <a:ahLst/>
              <a:rect l="l" t="t" r="r" b="b"/>
              <a:pathLst>
                <a:path w="208" h="250">
                  <a:moveTo>
                    <a:pt x="200" y="250"/>
                  </a:moveTo>
                  <a:lnTo>
                    <a:pt x="0" y="7"/>
                  </a:lnTo>
                  <a:lnTo>
                    <a:pt x="9" y="0"/>
                  </a:lnTo>
                  <a:lnTo>
                    <a:pt x="208" y="243"/>
                  </a:lnTo>
                  <a:lnTo>
                    <a:pt x="200" y="250"/>
                  </a:lnTo>
                  <a:close/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03"/>
            <p:cNvSpPr/>
            <p:nvPr/>
          </p:nvSpPr>
          <p:spPr>
            <a:xfrm>
              <a:off x="3848040" y="2931120"/>
              <a:ext cx="354240" cy="222120"/>
            </a:xfrm>
            <a:custGeom>
              <a:avLst/>
              <a:gdLst/>
              <a:ahLst/>
              <a:rect l="l" t="t" r="r" b="b"/>
              <a:pathLst>
                <a:path w="220" h="147">
                  <a:moveTo>
                    <a:pt x="8" y="147"/>
                  </a:moveTo>
                  <a:lnTo>
                    <a:pt x="0" y="137"/>
                  </a:lnTo>
                  <a:lnTo>
                    <a:pt x="215" y="0"/>
                  </a:lnTo>
                  <a:lnTo>
                    <a:pt x="220" y="10"/>
                  </a:lnTo>
                  <a:lnTo>
                    <a:pt x="8" y="147"/>
                  </a:lnTo>
                  <a:close/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04"/>
            <p:cNvSpPr/>
            <p:nvPr/>
          </p:nvSpPr>
          <p:spPr>
            <a:xfrm>
              <a:off x="3423240" y="3142440"/>
              <a:ext cx="432720" cy="42480"/>
            </a:xfrm>
            <a:custGeom>
              <a:avLst/>
              <a:gdLst/>
              <a:ahLst/>
              <a:rect l="l" t="t" r="r" b="b"/>
              <a:pathLst>
                <a:path w="269" h="28">
                  <a:moveTo>
                    <a:pt x="0" y="28"/>
                  </a:moveTo>
                  <a:lnTo>
                    <a:pt x="0" y="16"/>
                  </a:lnTo>
                  <a:lnTo>
                    <a:pt x="269" y="0"/>
                  </a:lnTo>
                  <a:lnTo>
                    <a:pt x="269" y="9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105"/>
            <p:cNvSpPr/>
            <p:nvPr/>
          </p:nvSpPr>
          <p:spPr>
            <a:xfrm>
              <a:off x="4199400" y="2899440"/>
              <a:ext cx="338040" cy="46440"/>
            </a:xfrm>
            <a:custGeom>
              <a:avLst/>
              <a:gdLst/>
              <a:ahLst/>
              <a:rect l="l" t="t" r="r" b="b"/>
              <a:pathLst>
                <a:path w="210" h="31">
                  <a:moveTo>
                    <a:pt x="2" y="31"/>
                  </a:moveTo>
                  <a:lnTo>
                    <a:pt x="0" y="19"/>
                  </a:lnTo>
                  <a:lnTo>
                    <a:pt x="210" y="0"/>
                  </a:lnTo>
                  <a:lnTo>
                    <a:pt x="210" y="12"/>
                  </a:lnTo>
                  <a:lnTo>
                    <a:pt x="2" y="31"/>
                  </a:lnTo>
                  <a:close/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06"/>
            <p:cNvSpPr/>
            <p:nvPr/>
          </p:nvSpPr>
          <p:spPr>
            <a:xfrm>
              <a:off x="4403880" y="2464200"/>
              <a:ext cx="495720" cy="209520"/>
            </a:xfrm>
            <a:custGeom>
              <a:avLst/>
              <a:gdLst/>
              <a:ahLst/>
              <a:rect l="l" t="t" r="r" b="b"/>
              <a:pathLst>
                <a:path w="308" h="139">
                  <a:moveTo>
                    <a:pt x="303" y="139"/>
                  </a:moveTo>
                  <a:lnTo>
                    <a:pt x="0" y="9"/>
                  </a:lnTo>
                  <a:lnTo>
                    <a:pt x="5" y="0"/>
                  </a:lnTo>
                  <a:lnTo>
                    <a:pt x="308" y="127"/>
                  </a:lnTo>
                  <a:lnTo>
                    <a:pt x="303" y="139"/>
                  </a:lnTo>
                  <a:close/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07"/>
            <p:cNvSpPr/>
            <p:nvPr/>
          </p:nvSpPr>
          <p:spPr>
            <a:xfrm>
              <a:off x="3875400" y="2464200"/>
              <a:ext cx="532800" cy="117360"/>
            </a:xfrm>
            <a:custGeom>
              <a:avLst/>
              <a:gdLst/>
              <a:ahLst/>
              <a:rect l="l" t="t" r="r" b="b"/>
              <a:pathLst>
                <a:path w="331" h="78">
                  <a:moveTo>
                    <a:pt x="2" y="78"/>
                  </a:moveTo>
                  <a:lnTo>
                    <a:pt x="0" y="66"/>
                  </a:lnTo>
                  <a:lnTo>
                    <a:pt x="328" y="0"/>
                  </a:lnTo>
                  <a:lnTo>
                    <a:pt x="331" y="12"/>
                  </a:lnTo>
                  <a:lnTo>
                    <a:pt x="2" y="78"/>
                  </a:lnTo>
                  <a:close/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108"/>
            <p:cNvSpPr/>
            <p:nvPr/>
          </p:nvSpPr>
          <p:spPr>
            <a:xfrm>
              <a:off x="4397400" y="2471760"/>
              <a:ext cx="151200" cy="437760"/>
            </a:xfrm>
            <a:custGeom>
              <a:avLst/>
              <a:gdLst/>
              <a:ahLst/>
              <a:rect l="l" t="t" r="r" b="b"/>
              <a:pathLst>
                <a:path w="94" h="290">
                  <a:moveTo>
                    <a:pt x="82" y="290"/>
                  </a:moveTo>
                  <a:lnTo>
                    <a:pt x="0" y="2"/>
                  </a:lnTo>
                  <a:lnTo>
                    <a:pt x="11" y="0"/>
                  </a:lnTo>
                  <a:lnTo>
                    <a:pt x="94" y="288"/>
                  </a:lnTo>
                  <a:lnTo>
                    <a:pt x="82" y="290"/>
                  </a:lnTo>
                  <a:close/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109"/>
            <p:cNvSpPr/>
            <p:nvPr/>
          </p:nvSpPr>
          <p:spPr>
            <a:xfrm>
              <a:off x="4183200" y="2477520"/>
              <a:ext cx="228240" cy="460800"/>
            </a:xfrm>
            <a:custGeom>
              <a:avLst/>
              <a:gdLst/>
              <a:ahLst/>
              <a:rect l="l" t="t" r="r" b="b"/>
              <a:pathLst>
                <a:path w="142" h="305">
                  <a:moveTo>
                    <a:pt x="10" y="305"/>
                  </a:moveTo>
                  <a:lnTo>
                    <a:pt x="0" y="300"/>
                  </a:lnTo>
                  <a:lnTo>
                    <a:pt x="130" y="0"/>
                  </a:lnTo>
                  <a:lnTo>
                    <a:pt x="142" y="5"/>
                  </a:lnTo>
                  <a:lnTo>
                    <a:pt x="10" y="305"/>
                  </a:lnTo>
                  <a:close/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10"/>
            <p:cNvSpPr/>
            <p:nvPr/>
          </p:nvSpPr>
          <p:spPr>
            <a:xfrm>
              <a:off x="3841920" y="2574000"/>
              <a:ext cx="44640" cy="563760"/>
            </a:xfrm>
            <a:custGeom>
              <a:avLst/>
              <a:gdLst/>
              <a:ahLst/>
              <a:rect l="l" t="t" r="r" b="b"/>
              <a:pathLst>
                <a:path w="28" h="373">
                  <a:moveTo>
                    <a:pt x="12" y="373"/>
                  </a:moveTo>
                  <a:lnTo>
                    <a:pt x="0" y="373"/>
                  </a:lnTo>
                  <a:lnTo>
                    <a:pt x="16" y="0"/>
                  </a:lnTo>
                  <a:lnTo>
                    <a:pt x="28" y="0"/>
                  </a:lnTo>
                  <a:lnTo>
                    <a:pt x="12" y="373"/>
                  </a:lnTo>
                  <a:close/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111"/>
            <p:cNvSpPr/>
            <p:nvPr/>
          </p:nvSpPr>
          <p:spPr>
            <a:xfrm>
              <a:off x="4529520" y="2907000"/>
              <a:ext cx="194400" cy="424440"/>
            </a:xfrm>
            <a:custGeom>
              <a:avLst/>
              <a:gdLst/>
              <a:ahLst/>
              <a:rect l="l" t="t" r="r" b="b"/>
              <a:pathLst>
                <a:path w="121" h="281">
                  <a:moveTo>
                    <a:pt x="109" y="281"/>
                  </a:moveTo>
                  <a:lnTo>
                    <a:pt x="0" y="2"/>
                  </a:lnTo>
                  <a:lnTo>
                    <a:pt x="12" y="0"/>
                  </a:lnTo>
                  <a:lnTo>
                    <a:pt x="121" y="276"/>
                  </a:lnTo>
                  <a:lnTo>
                    <a:pt x="109" y="281"/>
                  </a:lnTo>
                  <a:close/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112"/>
            <p:cNvSpPr/>
            <p:nvPr/>
          </p:nvSpPr>
          <p:spPr>
            <a:xfrm>
              <a:off x="4194720" y="2935440"/>
              <a:ext cx="118800" cy="338400"/>
            </a:xfrm>
            <a:custGeom>
              <a:avLst/>
              <a:gdLst/>
              <a:ahLst/>
              <a:rect l="l" t="t" r="r" b="b"/>
              <a:pathLst>
                <a:path w="74" h="224">
                  <a:moveTo>
                    <a:pt x="62" y="224"/>
                  </a:moveTo>
                  <a:lnTo>
                    <a:pt x="0" y="5"/>
                  </a:lnTo>
                  <a:lnTo>
                    <a:pt x="12" y="0"/>
                  </a:lnTo>
                  <a:lnTo>
                    <a:pt x="74" y="222"/>
                  </a:lnTo>
                  <a:lnTo>
                    <a:pt x="62" y="224"/>
                  </a:lnTo>
                  <a:close/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113"/>
            <p:cNvSpPr/>
            <p:nvPr/>
          </p:nvSpPr>
          <p:spPr>
            <a:xfrm>
              <a:off x="4302360" y="2909880"/>
              <a:ext cx="238320" cy="374760"/>
            </a:xfrm>
            <a:custGeom>
              <a:avLst/>
              <a:gdLst/>
              <a:ahLst/>
              <a:rect l="l" t="t" r="r" b="b"/>
              <a:pathLst>
                <a:path w="148" h="248">
                  <a:moveTo>
                    <a:pt x="9" y="248"/>
                  </a:moveTo>
                  <a:lnTo>
                    <a:pt x="0" y="244"/>
                  </a:lnTo>
                  <a:lnTo>
                    <a:pt x="139" y="0"/>
                  </a:lnTo>
                  <a:lnTo>
                    <a:pt x="148" y="7"/>
                  </a:lnTo>
                  <a:lnTo>
                    <a:pt x="9" y="248"/>
                  </a:lnTo>
                  <a:close/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114"/>
            <p:cNvSpPr/>
            <p:nvPr/>
          </p:nvSpPr>
          <p:spPr>
            <a:xfrm>
              <a:off x="4545360" y="2903760"/>
              <a:ext cx="410040" cy="241560"/>
            </a:xfrm>
            <a:custGeom>
              <a:avLst/>
              <a:gdLst/>
              <a:ahLst/>
              <a:rect l="l" t="t" r="r" b="b"/>
              <a:pathLst>
                <a:path w="255" h="160">
                  <a:moveTo>
                    <a:pt x="250" y="160"/>
                  </a:moveTo>
                  <a:lnTo>
                    <a:pt x="0" y="9"/>
                  </a:lnTo>
                  <a:lnTo>
                    <a:pt x="5" y="0"/>
                  </a:lnTo>
                  <a:lnTo>
                    <a:pt x="255" y="151"/>
                  </a:lnTo>
                  <a:lnTo>
                    <a:pt x="250" y="160"/>
                  </a:lnTo>
                  <a:close/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115"/>
            <p:cNvSpPr/>
            <p:nvPr/>
          </p:nvSpPr>
          <p:spPr>
            <a:xfrm>
              <a:off x="4944600" y="3142440"/>
              <a:ext cx="265680" cy="327960"/>
            </a:xfrm>
            <a:custGeom>
              <a:avLst/>
              <a:gdLst/>
              <a:ahLst/>
              <a:rect l="l" t="t" r="r" b="b"/>
              <a:pathLst>
                <a:path w="165" h="217">
                  <a:moveTo>
                    <a:pt x="156" y="217"/>
                  </a:moveTo>
                  <a:lnTo>
                    <a:pt x="0" y="7"/>
                  </a:lnTo>
                  <a:lnTo>
                    <a:pt x="9" y="0"/>
                  </a:lnTo>
                  <a:lnTo>
                    <a:pt x="165" y="212"/>
                  </a:lnTo>
                  <a:lnTo>
                    <a:pt x="156" y="217"/>
                  </a:lnTo>
                  <a:close/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116"/>
            <p:cNvSpPr/>
            <p:nvPr/>
          </p:nvSpPr>
          <p:spPr>
            <a:xfrm>
              <a:off x="4808160" y="3153240"/>
              <a:ext cx="150840" cy="485280"/>
            </a:xfrm>
            <a:custGeom>
              <a:avLst/>
              <a:gdLst/>
              <a:ahLst/>
              <a:rect l="l" t="t" r="r" b="b"/>
              <a:pathLst>
                <a:path w="94" h="321">
                  <a:moveTo>
                    <a:pt x="9" y="321"/>
                  </a:moveTo>
                  <a:lnTo>
                    <a:pt x="0" y="319"/>
                  </a:lnTo>
                  <a:lnTo>
                    <a:pt x="83" y="0"/>
                  </a:lnTo>
                  <a:lnTo>
                    <a:pt x="94" y="2"/>
                  </a:lnTo>
                  <a:lnTo>
                    <a:pt x="9" y="321"/>
                  </a:lnTo>
                  <a:close/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117"/>
            <p:cNvSpPr/>
            <p:nvPr/>
          </p:nvSpPr>
          <p:spPr>
            <a:xfrm>
              <a:off x="4305600" y="3284640"/>
              <a:ext cx="254160" cy="429120"/>
            </a:xfrm>
            <a:custGeom>
              <a:avLst/>
              <a:gdLst/>
              <a:ahLst/>
              <a:rect l="l" t="t" r="r" b="b"/>
              <a:pathLst>
                <a:path w="158" h="284">
                  <a:moveTo>
                    <a:pt x="149" y="284"/>
                  </a:moveTo>
                  <a:lnTo>
                    <a:pt x="0" y="5"/>
                  </a:lnTo>
                  <a:lnTo>
                    <a:pt x="9" y="0"/>
                  </a:lnTo>
                  <a:lnTo>
                    <a:pt x="158" y="277"/>
                  </a:lnTo>
                  <a:lnTo>
                    <a:pt x="149" y="284"/>
                  </a:lnTo>
                  <a:close/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118"/>
            <p:cNvSpPr/>
            <p:nvPr/>
          </p:nvSpPr>
          <p:spPr>
            <a:xfrm>
              <a:off x="4545360" y="3334680"/>
              <a:ext cx="175320" cy="371520"/>
            </a:xfrm>
            <a:custGeom>
              <a:avLst/>
              <a:gdLst/>
              <a:ahLst/>
              <a:rect l="l" t="t" r="r" b="b"/>
              <a:pathLst>
                <a:path w="109" h="246">
                  <a:moveTo>
                    <a:pt x="9" y="246"/>
                  </a:moveTo>
                  <a:lnTo>
                    <a:pt x="0" y="241"/>
                  </a:lnTo>
                  <a:lnTo>
                    <a:pt x="99" y="0"/>
                  </a:lnTo>
                  <a:lnTo>
                    <a:pt x="109" y="5"/>
                  </a:lnTo>
                  <a:lnTo>
                    <a:pt x="9" y="246"/>
                  </a:lnTo>
                  <a:close/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119"/>
            <p:cNvSpPr/>
            <p:nvPr/>
          </p:nvSpPr>
          <p:spPr>
            <a:xfrm>
              <a:off x="4325040" y="3703320"/>
              <a:ext cx="228240" cy="296280"/>
            </a:xfrm>
            <a:custGeom>
              <a:avLst/>
              <a:gdLst/>
              <a:ahLst/>
              <a:rect l="l" t="t" r="r" b="b"/>
              <a:pathLst>
                <a:path w="142" h="196">
                  <a:moveTo>
                    <a:pt x="9" y="196"/>
                  </a:moveTo>
                  <a:lnTo>
                    <a:pt x="0" y="189"/>
                  </a:lnTo>
                  <a:lnTo>
                    <a:pt x="132" y="0"/>
                  </a:lnTo>
                  <a:lnTo>
                    <a:pt x="142" y="7"/>
                  </a:lnTo>
                  <a:lnTo>
                    <a:pt x="9" y="196"/>
                  </a:lnTo>
                  <a:close/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120"/>
            <p:cNvSpPr/>
            <p:nvPr/>
          </p:nvSpPr>
          <p:spPr>
            <a:xfrm>
              <a:off x="4325040" y="4010400"/>
              <a:ext cx="281160" cy="309600"/>
            </a:xfrm>
            <a:custGeom>
              <a:avLst/>
              <a:gdLst/>
              <a:ahLst/>
              <a:rect l="l" t="t" r="r" b="b"/>
              <a:pathLst>
                <a:path w="175" h="205">
                  <a:moveTo>
                    <a:pt x="165" y="205"/>
                  </a:moveTo>
                  <a:lnTo>
                    <a:pt x="0" y="7"/>
                  </a:lnTo>
                  <a:lnTo>
                    <a:pt x="7" y="0"/>
                  </a:lnTo>
                  <a:lnTo>
                    <a:pt x="175" y="198"/>
                  </a:lnTo>
                  <a:lnTo>
                    <a:pt x="165" y="205"/>
                  </a:lnTo>
                  <a:close/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121"/>
            <p:cNvSpPr/>
            <p:nvPr/>
          </p:nvSpPr>
          <p:spPr>
            <a:xfrm>
              <a:off x="3948120" y="3535560"/>
              <a:ext cx="388080" cy="485280"/>
            </a:xfrm>
            <a:custGeom>
              <a:avLst/>
              <a:gdLst/>
              <a:ahLst/>
              <a:rect l="l" t="t" r="r" b="b"/>
              <a:pathLst>
                <a:path w="241" h="321">
                  <a:moveTo>
                    <a:pt x="234" y="321"/>
                  </a:moveTo>
                  <a:lnTo>
                    <a:pt x="0" y="7"/>
                  </a:lnTo>
                  <a:lnTo>
                    <a:pt x="9" y="0"/>
                  </a:lnTo>
                  <a:lnTo>
                    <a:pt x="241" y="316"/>
                  </a:lnTo>
                  <a:lnTo>
                    <a:pt x="234" y="321"/>
                  </a:lnTo>
                  <a:close/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2" name="Oval 122" descr=""/>
            <p:cNvPicPr/>
            <p:nvPr/>
          </p:nvPicPr>
          <p:blipFill>
            <a:blip r:embed="rId1"/>
            <a:stretch/>
          </p:blipFill>
          <p:spPr>
            <a:xfrm>
              <a:off x="4221720" y="3139560"/>
              <a:ext cx="178560" cy="25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3" name="Oval 123" descr=""/>
            <p:cNvPicPr/>
            <p:nvPr/>
          </p:nvPicPr>
          <p:blipFill>
            <a:blip r:embed="rId2"/>
            <a:stretch/>
          </p:blipFill>
          <p:spPr>
            <a:xfrm>
              <a:off x="3449160" y="3596040"/>
              <a:ext cx="178200" cy="25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4" name="Oval 124" descr=""/>
            <p:cNvPicPr/>
            <p:nvPr/>
          </p:nvPicPr>
          <p:blipFill>
            <a:blip r:embed="rId3"/>
            <a:stretch/>
          </p:blipFill>
          <p:spPr>
            <a:xfrm>
              <a:off x="4241160" y="4418280"/>
              <a:ext cx="178560" cy="25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Oval 125" descr=""/>
            <p:cNvPicPr/>
            <p:nvPr/>
          </p:nvPicPr>
          <p:blipFill>
            <a:blip r:embed="rId4"/>
            <a:stretch/>
          </p:blipFill>
          <p:spPr>
            <a:xfrm>
              <a:off x="4241160" y="3575160"/>
              <a:ext cx="178560" cy="25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Oval 126" descr=""/>
            <p:cNvPicPr/>
            <p:nvPr/>
          </p:nvPicPr>
          <p:blipFill>
            <a:blip r:embed="rId5"/>
            <a:stretch/>
          </p:blipFill>
          <p:spPr>
            <a:xfrm>
              <a:off x="4213800" y="3875760"/>
              <a:ext cx="231480" cy="25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7" name="Oval 127" descr=""/>
            <p:cNvPicPr/>
            <p:nvPr/>
          </p:nvPicPr>
          <p:blipFill>
            <a:blip r:embed="rId6"/>
            <a:stretch/>
          </p:blipFill>
          <p:spPr>
            <a:xfrm>
              <a:off x="5115240" y="3336120"/>
              <a:ext cx="183600" cy="25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8" name="Oval 128" descr=""/>
            <p:cNvPicPr/>
            <p:nvPr/>
          </p:nvPicPr>
          <p:blipFill>
            <a:blip r:embed="rId7"/>
            <a:stretch/>
          </p:blipFill>
          <p:spPr>
            <a:xfrm>
              <a:off x="3800160" y="2450520"/>
              <a:ext cx="178560" cy="25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Oval 129" descr=""/>
            <p:cNvPicPr/>
            <p:nvPr/>
          </p:nvPicPr>
          <p:blipFill>
            <a:blip r:embed="rId8"/>
            <a:stretch/>
          </p:blipFill>
          <p:spPr>
            <a:xfrm>
              <a:off x="3795120" y="3020040"/>
              <a:ext cx="130320" cy="25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0" name="Oval 130" descr=""/>
            <p:cNvPicPr/>
            <p:nvPr/>
          </p:nvPicPr>
          <p:blipFill>
            <a:blip r:embed="rId9"/>
            <a:stretch/>
          </p:blipFill>
          <p:spPr>
            <a:xfrm>
              <a:off x="3359160" y="3053520"/>
              <a:ext cx="128520" cy="25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1" name="Oval 131" descr=""/>
            <p:cNvPicPr/>
            <p:nvPr/>
          </p:nvPicPr>
          <p:blipFill>
            <a:blip r:embed="rId10"/>
            <a:stretch/>
          </p:blipFill>
          <p:spPr>
            <a:xfrm>
              <a:off x="3521520" y="2678760"/>
              <a:ext cx="130320" cy="25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Oval 132" descr=""/>
            <p:cNvPicPr/>
            <p:nvPr/>
          </p:nvPicPr>
          <p:blipFill>
            <a:blip r:embed="rId11"/>
            <a:stretch/>
          </p:blipFill>
          <p:spPr>
            <a:xfrm>
              <a:off x="4473000" y="2781360"/>
              <a:ext cx="128520" cy="25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Oval 133" descr=""/>
            <p:cNvPicPr/>
            <p:nvPr/>
          </p:nvPicPr>
          <p:blipFill>
            <a:blip r:embed="rId12"/>
            <a:stretch/>
          </p:blipFill>
          <p:spPr>
            <a:xfrm>
              <a:off x="5123520" y="2841840"/>
              <a:ext cx="128520" cy="25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Oval 134" descr=""/>
            <p:cNvPicPr/>
            <p:nvPr/>
          </p:nvPicPr>
          <p:blipFill>
            <a:blip r:embed="rId13"/>
            <a:stretch/>
          </p:blipFill>
          <p:spPr>
            <a:xfrm>
              <a:off x="4743360" y="3520440"/>
              <a:ext cx="128520" cy="25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Oval 135" descr=""/>
            <p:cNvPicPr/>
            <p:nvPr/>
          </p:nvPicPr>
          <p:blipFill>
            <a:blip r:embed="rId14"/>
            <a:stretch/>
          </p:blipFill>
          <p:spPr>
            <a:xfrm>
              <a:off x="4894920" y="3015720"/>
              <a:ext cx="125280" cy="25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Oval 136" descr=""/>
            <p:cNvPicPr/>
            <p:nvPr/>
          </p:nvPicPr>
          <p:blipFill>
            <a:blip r:embed="rId15"/>
            <a:stretch/>
          </p:blipFill>
          <p:spPr>
            <a:xfrm>
              <a:off x="3747240" y="4131000"/>
              <a:ext cx="128160" cy="25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Oval 137" descr=""/>
            <p:cNvPicPr/>
            <p:nvPr/>
          </p:nvPicPr>
          <p:blipFill>
            <a:blip r:embed="rId16"/>
            <a:stretch/>
          </p:blipFill>
          <p:spPr>
            <a:xfrm>
              <a:off x="4785480" y="4038840"/>
              <a:ext cx="128520" cy="25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Oval 138" descr=""/>
            <p:cNvPicPr/>
            <p:nvPr/>
          </p:nvPicPr>
          <p:blipFill>
            <a:blip r:embed="rId17"/>
            <a:stretch/>
          </p:blipFill>
          <p:spPr>
            <a:xfrm>
              <a:off x="4157280" y="2814840"/>
              <a:ext cx="96480" cy="25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Oval 139" descr=""/>
            <p:cNvPicPr/>
            <p:nvPr/>
          </p:nvPicPr>
          <p:blipFill>
            <a:blip r:embed="rId18"/>
            <a:stretch/>
          </p:blipFill>
          <p:spPr>
            <a:xfrm>
              <a:off x="3635640" y="3257640"/>
              <a:ext cx="96480" cy="25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Oval 140" descr=""/>
            <p:cNvPicPr/>
            <p:nvPr/>
          </p:nvPicPr>
          <p:blipFill>
            <a:blip r:embed="rId19"/>
            <a:stretch/>
          </p:blipFill>
          <p:spPr>
            <a:xfrm>
              <a:off x="3879000" y="3200040"/>
              <a:ext cx="96480" cy="25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Oval 141" descr=""/>
            <p:cNvPicPr/>
            <p:nvPr/>
          </p:nvPicPr>
          <p:blipFill>
            <a:blip r:embed="rId20"/>
            <a:stretch/>
          </p:blipFill>
          <p:spPr>
            <a:xfrm>
              <a:off x="4671000" y="3206160"/>
              <a:ext cx="97920" cy="25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2" name="Oval 142" descr=""/>
            <p:cNvPicPr/>
            <p:nvPr/>
          </p:nvPicPr>
          <p:blipFill>
            <a:blip r:embed="rId21"/>
            <a:stretch/>
          </p:blipFill>
          <p:spPr>
            <a:xfrm>
              <a:off x="4514760" y="3580920"/>
              <a:ext cx="96480" cy="25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Oval 143" descr=""/>
            <p:cNvPicPr/>
            <p:nvPr/>
          </p:nvPicPr>
          <p:blipFill>
            <a:blip r:embed="rId22"/>
            <a:stretch/>
          </p:blipFill>
          <p:spPr>
            <a:xfrm>
              <a:off x="4361760" y="2343240"/>
              <a:ext cx="96480" cy="25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Oval 144" descr=""/>
            <p:cNvPicPr/>
            <p:nvPr/>
          </p:nvPicPr>
          <p:blipFill>
            <a:blip r:embed="rId23"/>
            <a:stretch/>
          </p:blipFill>
          <p:spPr>
            <a:xfrm>
              <a:off x="4852800" y="2542680"/>
              <a:ext cx="96480" cy="25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Oval 145" descr=""/>
            <p:cNvPicPr/>
            <p:nvPr/>
          </p:nvPicPr>
          <p:blipFill>
            <a:blip r:embed="rId24"/>
            <a:stretch/>
          </p:blipFill>
          <p:spPr>
            <a:xfrm>
              <a:off x="4975200" y="3728880"/>
              <a:ext cx="96480" cy="25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Oval 146" descr=""/>
            <p:cNvPicPr/>
            <p:nvPr/>
          </p:nvPicPr>
          <p:blipFill>
            <a:blip r:embed="rId25"/>
            <a:stretch/>
          </p:blipFill>
          <p:spPr>
            <a:xfrm>
              <a:off x="4758120" y="4381920"/>
              <a:ext cx="96480" cy="25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Oval 147" descr=""/>
            <p:cNvPicPr/>
            <p:nvPr/>
          </p:nvPicPr>
          <p:blipFill>
            <a:blip r:embed="rId26"/>
            <a:stretch/>
          </p:blipFill>
          <p:spPr>
            <a:xfrm>
              <a:off x="4556880" y="4429080"/>
              <a:ext cx="96120" cy="25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Oval 148" descr=""/>
            <p:cNvPicPr/>
            <p:nvPr/>
          </p:nvPicPr>
          <p:blipFill>
            <a:blip r:embed="rId27"/>
            <a:stretch/>
          </p:blipFill>
          <p:spPr>
            <a:xfrm>
              <a:off x="3853440" y="4431960"/>
              <a:ext cx="96120" cy="25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" name="Oval 149" descr=""/>
            <p:cNvPicPr/>
            <p:nvPr/>
          </p:nvPicPr>
          <p:blipFill>
            <a:blip r:embed="rId28"/>
            <a:stretch/>
          </p:blipFill>
          <p:spPr>
            <a:xfrm>
              <a:off x="3951360" y="3787920"/>
              <a:ext cx="130320" cy="25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Oval 150" descr=""/>
            <p:cNvPicPr/>
            <p:nvPr/>
          </p:nvPicPr>
          <p:blipFill>
            <a:blip r:embed="rId29"/>
            <a:stretch/>
          </p:blipFill>
          <p:spPr>
            <a:xfrm>
              <a:off x="4548600" y="3900240"/>
              <a:ext cx="130320" cy="25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" name="Oval 151" descr=""/>
            <p:cNvPicPr/>
            <p:nvPr/>
          </p:nvPicPr>
          <p:blipFill>
            <a:blip r:embed="rId30"/>
            <a:stretch/>
          </p:blipFill>
          <p:spPr>
            <a:xfrm>
              <a:off x="4556880" y="4202280"/>
              <a:ext cx="128160" cy="25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2" name="Oval 152" descr=""/>
            <p:cNvPicPr/>
            <p:nvPr/>
          </p:nvPicPr>
          <p:blipFill>
            <a:blip r:embed="rId31"/>
            <a:stretch/>
          </p:blipFill>
          <p:spPr>
            <a:xfrm>
              <a:off x="4073760" y="4174920"/>
              <a:ext cx="128520" cy="25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3" name="Oval 153" descr=""/>
            <p:cNvPicPr/>
            <p:nvPr/>
          </p:nvPicPr>
          <p:blipFill>
            <a:blip r:embed="rId32"/>
            <a:stretch/>
          </p:blipFill>
          <p:spPr>
            <a:xfrm>
              <a:off x="3894840" y="3407040"/>
              <a:ext cx="128520" cy="25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Freeform 154"/>
            <p:cNvSpPr/>
            <p:nvPr/>
          </p:nvSpPr>
          <p:spPr>
            <a:xfrm>
              <a:off x="4260240" y="3934800"/>
              <a:ext cx="140040" cy="13608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18" y="38"/>
                  </a:moveTo>
                  <a:cubicBezTo>
                    <a:pt x="16" y="38"/>
                    <a:pt x="14" y="36"/>
                    <a:pt x="14" y="33"/>
                  </a:cubicBezTo>
                  <a:cubicBezTo>
                    <a:pt x="14" y="23"/>
                    <a:pt x="14" y="23"/>
                    <a:pt x="14" y="23"/>
                  </a:cubicBezTo>
                  <a:cubicBezTo>
                    <a:pt x="4" y="23"/>
                    <a:pt x="4" y="23"/>
                    <a:pt x="4" y="23"/>
                  </a:cubicBezTo>
                  <a:cubicBezTo>
                    <a:pt x="2" y="23"/>
                    <a:pt x="0" y="21"/>
                    <a:pt x="0" y="19"/>
                  </a:cubicBezTo>
                  <a:cubicBezTo>
                    <a:pt x="0" y="17"/>
                    <a:pt x="2" y="15"/>
                    <a:pt x="4" y="15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4" y="2"/>
                    <a:pt x="16" y="0"/>
                    <a:pt x="18" y="0"/>
                  </a:cubicBezTo>
                  <a:cubicBezTo>
                    <a:pt x="21" y="0"/>
                    <a:pt x="23" y="2"/>
                    <a:pt x="23" y="4"/>
                  </a:cubicBezTo>
                  <a:cubicBezTo>
                    <a:pt x="23" y="15"/>
                    <a:pt x="23" y="15"/>
                    <a:pt x="23" y="15"/>
                  </a:cubicBezTo>
                  <a:cubicBezTo>
                    <a:pt x="33" y="15"/>
                    <a:pt x="33" y="15"/>
                    <a:pt x="33" y="15"/>
                  </a:cubicBezTo>
                  <a:cubicBezTo>
                    <a:pt x="35" y="15"/>
                    <a:pt x="37" y="17"/>
                    <a:pt x="37" y="19"/>
                  </a:cubicBezTo>
                  <a:cubicBezTo>
                    <a:pt x="37" y="21"/>
                    <a:pt x="35" y="23"/>
                    <a:pt x="33" y="23"/>
                  </a:cubicBezTo>
                  <a:cubicBezTo>
                    <a:pt x="23" y="23"/>
                    <a:pt x="23" y="23"/>
                    <a:pt x="23" y="23"/>
                  </a:cubicBezTo>
                  <a:cubicBezTo>
                    <a:pt x="23" y="33"/>
                    <a:pt x="23" y="33"/>
                    <a:pt x="23" y="33"/>
                  </a:cubicBezTo>
                  <a:cubicBezTo>
                    <a:pt x="23" y="36"/>
                    <a:pt x="21" y="38"/>
                    <a:pt x="18" y="3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组合 147"/>
          <p:cNvGrpSpPr/>
          <p:nvPr/>
        </p:nvGrpSpPr>
        <p:grpSpPr>
          <a:xfrm>
            <a:off x="2384280" y="4140360"/>
            <a:ext cx="266760" cy="266400"/>
            <a:chOff x="2384280" y="4140360"/>
            <a:chExt cx="266760" cy="266400"/>
          </a:xfrm>
        </p:grpSpPr>
        <p:sp>
          <p:nvSpPr>
            <p:cNvPr id="356" name="椭圆 148"/>
            <p:cNvSpPr/>
            <p:nvPr/>
          </p:nvSpPr>
          <p:spPr>
            <a:xfrm>
              <a:off x="2384280" y="4140360"/>
              <a:ext cx="266760" cy="266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椭圆 149"/>
            <p:cNvSpPr/>
            <p:nvPr/>
          </p:nvSpPr>
          <p:spPr>
            <a:xfrm>
              <a:off x="2411280" y="4165560"/>
              <a:ext cx="212760" cy="21240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154"/>
            <p:cNvSpPr/>
            <p:nvPr/>
          </p:nvSpPr>
          <p:spPr>
            <a:xfrm>
              <a:off x="2451240" y="4198320"/>
              <a:ext cx="132480" cy="13716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18" y="38"/>
                  </a:moveTo>
                  <a:cubicBezTo>
                    <a:pt x="16" y="38"/>
                    <a:pt x="14" y="36"/>
                    <a:pt x="14" y="33"/>
                  </a:cubicBezTo>
                  <a:cubicBezTo>
                    <a:pt x="14" y="23"/>
                    <a:pt x="14" y="23"/>
                    <a:pt x="14" y="23"/>
                  </a:cubicBezTo>
                  <a:cubicBezTo>
                    <a:pt x="4" y="23"/>
                    <a:pt x="4" y="23"/>
                    <a:pt x="4" y="23"/>
                  </a:cubicBezTo>
                  <a:cubicBezTo>
                    <a:pt x="2" y="23"/>
                    <a:pt x="0" y="21"/>
                    <a:pt x="0" y="19"/>
                  </a:cubicBezTo>
                  <a:cubicBezTo>
                    <a:pt x="0" y="17"/>
                    <a:pt x="2" y="15"/>
                    <a:pt x="4" y="15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4" y="2"/>
                    <a:pt x="16" y="0"/>
                    <a:pt x="18" y="0"/>
                  </a:cubicBezTo>
                  <a:cubicBezTo>
                    <a:pt x="21" y="0"/>
                    <a:pt x="23" y="2"/>
                    <a:pt x="23" y="4"/>
                  </a:cubicBezTo>
                  <a:cubicBezTo>
                    <a:pt x="23" y="15"/>
                    <a:pt x="23" y="15"/>
                    <a:pt x="23" y="15"/>
                  </a:cubicBezTo>
                  <a:cubicBezTo>
                    <a:pt x="33" y="15"/>
                    <a:pt x="33" y="15"/>
                    <a:pt x="33" y="15"/>
                  </a:cubicBezTo>
                  <a:cubicBezTo>
                    <a:pt x="35" y="15"/>
                    <a:pt x="37" y="17"/>
                    <a:pt x="37" y="19"/>
                  </a:cubicBezTo>
                  <a:cubicBezTo>
                    <a:pt x="37" y="21"/>
                    <a:pt x="35" y="23"/>
                    <a:pt x="33" y="23"/>
                  </a:cubicBezTo>
                  <a:cubicBezTo>
                    <a:pt x="23" y="23"/>
                    <a:pt x="23" y="23"/>
                    <a:pt x="23" y="23"/>
                  </a:cubicBezTo>
                  <a:cubicBezTo>
                    <a:pt x="23" y="33"/>
                    <a:pt x="23" y="33"/>
                    <a:pt x="23" y="33"/>
                  </a:cubicBezTo>
                  <a:cubicBezTo>
                    <a:pt x="23" y="36"/>
                    <a:pt x="21" y="38"/>
                    <a:pt x="18" y="3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矩形 151"/>
          <p:cNvSpPr/>
          <p:nvPr/>
        </p:nvSpPr>
        <p:spPr>
          <a:xfrm flipH="1">
            <a:off x="970920" y="4724280"/>
            <a:ext cx="17953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XX</a:t>
            </a: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，中国首家演示设计交易平台。基于演示设计一站式在线演示、素材销售、服务交易系统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矩形 152"/>
          <p:cNvSpPr/>
          <p:nvPr/>
        </p:nvSpPr>
        <p:spPr>
          <a:xfrm>
            <a:off x="1685880" y="4486320"/>
            <a:ext cx="10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填写小标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组合 153"/>
          <p:cNvGrpSpPr/>
          <p:nvPr/>
        </p:nvGrpSpPr>
        <p:grpSpPr>
          <a:xfrm>
            <a:off x="2384280" y="2844720"/>
            <a:ext cx="266760" cy="265320"/>
            <a:chOff x="2384280" y="2844720"/>
            <a:chExt cx="266760" cy="265320"/>
          </a:xfrm>
        </p:grpSpPr>
        <p:sp>
          <p:nvSpPr>
            <p:cNvPr id="362" name="椭圆 154"/>
            <p:cNvSpPr/>
            <p:nvPr/>
          </p:nvSpPr>
          <p:spPr>
            <a:xfrm>
              <a:off x="2384280" y="2844720"/>
              <a:ext cx="266760" cy="265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椭圆 155"/>
            <p:cNvSpPr/>
            <p:nvPr/>
          </p:nvSpPr>
          <p:spPr>
            <a:xfrm>
              <a:off x="2411280" y="2869560"/>
              <a:ext cx="212760" cy="21168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154"/>
            <p:cNvSpPr/>
            <p:nvPr/>
          </p:nvSpPr>
          <p:spPr>
            <a:xfrm>
              <a:off x="2451240" y="2902320"/>
              <a:ext cx="132480" cy="13644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18" y="38"/>
                  </a:moveTo>
                  <a:cubicBezTo>
                    <a:pt x="16" y="38"/>
                    <a:pt x="14" y="36"/>
                    <a:pt x="14" y="33"/>
                  </a:cubicBezTo>
                  <a:cubicBezTo>
                    <a:pt x="14" y="23"/>
                    <a:pt x="14" y="23"/>
                    <a:pt x="14" y="23"/>
                  </a:cubicBezTo>
                  <a:cubicBezTo>
                    <a:pt x="4" y="23"/>
                    <a:pt x="4" y="23"/>
                    <a:pt x="4" y="23"/>
                  </a:cubicBezTo>
                  <a:cubicBezTo>
                    <a:pt x="2" y="23"/>
                    <a:pt x="0" y="21"/>
                    <a:pt x="0" y="19"/>
                  </a:cubicBezTo>
                  <a:cubicBezTo>
                    <a:pt x="0" y="17"/>
                    <a:pt x="2" y="15"/>
                    <a:pt x="4" y="15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4" y="2"/>
                    <a:pt x="16" y="0"/>
                    <a:pt x="18" y="0"/>
                  </a:cubicBezTo>
                  <a:cubicBezTo>
                    <a:pt x="21" y="0"/>
                    <a:pt x="23" y="2"/>
                    <a:pt x="23" y="4"/>
                  </a:cubicBezTo>
                  <a:cubicBezTo>
                    <a:pt x="23" y="15"/>
                    <a:pt x="23" y="15"/>
                    <a:pt x="23" y="15"/>
                  </a:cubicBezTo>
                  <a:cubicBezTo>
                    <a:pt x="33" y="15"/>
                    <a:pt x="33" y="15"/>
                    <a:pt x="33" y="15"/>
                  </a:cubicBezTo>
                  <a:cubicBezTo>
                    <a:pt x="35" y="15"/>
                    <a:pt x="37" y="17"/>
                    <a:pt x="37" y="19"/>
                  </a:cubicBezTo>
                  <a:cubicBezTo>
                    <a:pt x="37" y="21"/>
                    <a:pt x="35" y="23"/>
                    <a:pt x="33" y="23"/>
                  </a:cubicBezTo>
                  <a:cubicBezTo>
                    <a:pt x="23" y="23"/>
                    <a:pt x="23" y="23"/>
                    <a:pt x="23" y="23"/>
                  </a:cubicBezTo>
                  <a:cubicBezTo>
                    <a:pt x="23" y="33"/>
                    <a:pt x="23" y="33"/>
                    <a:pt x="23" y="33"/>
                  </a:cubicBezTo>
                  <a:cubicBezTo>
                    <a:pt x="23" y="36"/>
                    <a:pt x="21" y="38"/>
                    <a:pt x="18" y="3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矩形 157"/>
          <p:cNvSpPr/>
          <p:nvPr/>
        </p:nvSpPr>
        <p:spPr>
          <a:xfrm flipH="1">
            <a:off x="970920" y="3427560"/>
            <a:ext cx="17953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XX</a:t>
            </a: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，中国首家演示设计交易平台。基于演示设计一站式在线演示、素材销售、服务交易系统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58"/>
          <p:cNvSpPr/>
          <p:nvPr/>
        </p:nvSpPr>
        <p:spPr>
          <a:xfrm>
            <a:off x="1685880" y="3191040"/>
            <a:ext cx="10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填写小标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组合 159"/>
          <p:cNvGrpSpPr/>
          <p:nvPr/>
        </p:nvGrpSpPr>
        <p:grpSpPr>
          <a:xfrm>
            <a:off x="6302520" y="2897280"/>
            <a:ext cx="266400" cy="264960"/>
            <a:chOff x="6302520" y="2897280"/>
            <a:chExt cx="266400" cy="264960"/>
          </a:xfrm>
        </p:grpSpPr>
        <p:sp>
          <p:nvSpPr>
            <p:cNvPr id="368" name="椭圆 160"/>
            <p:cNvSpPr/>
            <p:nvPr/>
          </p:nvSpPr>
          <p:spPr>
            <a:xfrm>
              <a:off x="6302520" y="2897280"/>
              <a:ext cx="266400" cy="264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椭圆 161"/>
            <p:cNvSpPr/>
            <p:nvPr/>
          </p:nvSpPr>
          <p:spPr>
            <a:xfrm>
              <a:off x="6329520" y="2922120"/>
              <a:ext cx="212400" cy="21132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154"/>
            <p:cNvSpPr/>
            <p:nvPr/>
          </p:nvSpPr>
          <p:spPr>
            <a:xfrm>
              <a:off x="6369480" y="2954880"/>
              <a:ext cx="132480" cy="13644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18" y="38"/>
                  </a:moveTo>
                  <a:cubicBezTo>
                    <a:pt x="16" y="38"/>
                    <a:pt x="14" y="36"/>
                    <a:pt x="14" y="33"/>
                  </a:cubicBezTo>
                  <a:cubicBezTo>
                    <a:pt x="14" y="23"/>
                    <a:pt x="14" y="23"/>
                    <a:pt x="14" y="23"/>
                  </a:cubicBezTo>
                  <a:cubicBezTo>
                    <a:pt x="4" y="23"/>
                    <a:pt x="4" y="23"/>
                    <a:pt x="4" y="23"/>
                  </a:cubicBezTo>
                  <a:cubicBezTo>
                    <a:pt x="2" y="23"/>
                    <a:pt x="0" y="21"/>
                    <a:pt x="0" y="19"/>
                  </a:cubicBezTo>
                  <a:cubicBezTo>
                    <a:pt x="0" y="17"/>
                    <a:pt x="2" y="15"/>
                    <a:pt x="4" y="15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4" y="2"/>
                    <a:pt x="16" y="0"/>
                    <a:pt x="18" y="0"/>
                  </a:cubicBezTo>
                  <a:cubicBezTo>
                    <a:pt x="21" y="0"/>
                    <a:pt x="23" y="2"/>
                    <a:pt x="23" y="4"/>
                  </a:cubicBezTo>
                  <a:cubicBezTo>
                    <a:pt x="23" y="15"/>
                    <a:pt x="23" y="15"/>
                    <a:pt x="23" y="15"/>
                  </a:cubicBezTo>
                  <a:cubicBezTo>
                    <a:pt x="33" y="15"/>
                    <a:pt x="33" y="15"/>
                    <a:pt x="33" y="15"/>
                  </a:cubicBezTo>
                  <a:cubicBezTo>
                    <a:pt x="35" y="15"/>
                    <a:pt x="37" y="17"/>
                    <a:pt x="37" y="19"/>
                  </a:cubicBezTo>
                  <a:cubicBezTo>
                    <a:pt x="37" y="21"/>
                    <a:pt x="35" y="23"/>
                    <a:pt x="33" y="23"/>
                  </a:cubicBezTo>
                  <a:cubicBezTo>
                    <a:pt x="23" y="23"/>
                    <a:pt x="23" y="23"/>
                    <a:pt x="23" y="23"/>
                  </a:cubicBezTo>
                  <a:cubicBezTo>
                    <a:pt x="23" y="33"/>
                    <a:pt x="23" y="33"/>
                    <a:pt x="23" y="33"/>
                  </a:cubicBezTo>
                  <a:cubicBezTo>
                    <a:pt x="23" y="36"/>
                    <a:pt x="21" y="38"/>
                    <a:pt x="18" y="3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矩形 163"/>
          <p:cNvSpPr/>
          <p:nvPr/>
        </p:nvSpPr>
        <p:spPr>
          <a:xfrm flipH="1">
            <a:off x="6227640" y="3479760"/>
            <a:ext cx="179568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XX</a:t>
            </a: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，中国首家演示设计交易平台。基于演示设计一站式在线演示、素材销售、服务交易系统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矩形 164"/>
          <p:cNvSpPr/>
          <p:nvPr/>
        </p:nvSpPr>
        <p:spPr>
          <a:xfrm>
            <a:off x="6227640" y="3241800"/>
            <a:ext cx="10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填写小标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组合 165"/>
          <p:cNvGrpSpPr/>
          <p:nvPr/>
        </p:nvGrpSpPr>
        <p:grpSpPr>
          <a:xfrm>
            <a:off x="6302520" y="4192560"/>
            <a:ext cx="266400" cy="266760"/>
            <a:chOff x="6302520" y="4192560"/>
            <a:chExt cx="266400" cy="266760"/>
          </a:xfrm>
        </p:grpSpPr>
        <p:sp>
          <p:nvSpPr>
            <p:cNvPr id="374" name="椭圆 166"/>
            <p:cNvSpPr/>
            <p:nvPr/>
          </p:nvSpPr>
          <p:spPr>
            <a:xfrm>
              <a:off x="6302520" y="4192560"/>
              <a:ext cx="266400" cy="266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椭圆 167"/>
            <p:cNvSpPr/>
            <p:nvPr/>
          </p:nvSpPr>
          <p:spPr>
            <a:xfrm>
              <a:off x="6329520" y="4217760"/>
              <a:ext cx="212400" cy="2127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154"/>
            <p:cNvSpPr/>
            <p:nvPr/>
          </p:nvSpPr>
          <p:spPr>
            <a:xfrm>
              <a:off x="6369480" y="4250520"/>
              <a:ext cx="132480" cy="13716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18" y="38"/>
                  </a:moveTo>
                  <a:cubicBezTo>
                    <a:pt x="16" y="38"/>
                    <a:pt x="14" y="36"/>
                    <a:pt x="14" y="33"/>
                  </a:cubicBezTo>
                  <a:cubicBezTo>
                    <a:pt x="14" y="23"/>
                    <a:pt x="14" y="23"/>
                    <a:pt x="14" y="23"/>
                  </a:cubicBezTo>
                  <a:cubicBezTo>
                    <a:pt x="4" y="23"/>
                    <a:pt x="4" y="23"/>
                    <a:pt x="4" y="23"/>
                  </a:cubicBezTo>
                  <a:cubicBezTo>
                    <a:pt x="2" y="23"/>
                    <a:pt x="0" y="21"/>
                    <a:pt x="0" y="19"/>
                  </a:cubicBezTo>
                  <a:cubicBezTo>
                    <a:pt x="0" y="17"/>
                    <a:pt x="2" y="15"/>
                    <a:pt x="4" y="15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4" y="2"/>
                    <a:pt x="16" y="0"/>
                    <a:pt x="18" y="0"/>
                  </a:cubicBezTo>
                  <a:cubicBezTo>
                    <a:pt x="21" y="0"/>
                    <a:pt x="23" y="2"/>
                    <a:pt x="23" y="4"/>
                  </a:cubicBezTo>
                  <a:cubicBezTo>
                    <a:pt x="23" y="15"/>
                    <a:pt x="23" y="15"/>
                    <a:pt x="23" y="15"/>
                  </a:cubicBezTo>
                  <a:cubicBezTo>
                    <a:pt x="33" y="15"/>
                    <a:pt x="33" y="15"/>
                    <a:pt x="33" y="15"/>
                  </a:cubicBezTo>
                  <a:cubicBezTo>
                    <a:pt x="35" y="15"/>
                    <a:pt x="37" y="17"/>
                    <a:pt x="37" y="19"/>
                  </a:cubicBezTo>
                  <a:cubicBezTo>
                    <a:pt x="37" y="21"/>
                    <a:pt x="35" y="23"/>
                    <a:pt x="33" y="23"/>
                  </a:cubicBezTo>
                  <a:cubicBezTo>
                    <a:pt x="23" y="23"/>
                    <a:pt x="23" y="23"/>
                    <a:pt x="23" y="23"/>
                  </a:cubicBezTo>
                  <a:cubicBezTo>
                    <a:pt x="23" y="33"/>
                    <a:pt x="23" y="33"/>
                    <a:pt x="23" y="33"/>
                  </a:cubicBezTo>
                  <a:cubicBezTo>
                    <a:pt x="23" y="36"/>
                    <a:pt x="21" y="38"/>
                    <a:pt x="18" y="3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69"/>
          <p:cNvSpPr/>
          <p:nvPr/>
        </p:nvSpPr>
        <p:spPr>
          <a:xfrm flipH="1">
            <a:off x="6227640" y="4776840"/>
            <a:ext cx="179568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XX</a:t>
            </a: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，中国首家演示设计交易平台。基于演示设计一站式在线演示、素材销售、服务交易系统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70"/>
          <p:cNvSpPr/>
          <p:nvPr/>
        </p:nvSpPr>
        <p:spPr>
          <a:xfrm>
            <a:off x="6227640" y="4538520"/>
            <a:ext cx="10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填写小标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组合 171"/>
          <p:cNvGrpSpPr/>
          <p:nvPr/>
        </p:nvGrpSpPr>
        <p:grpSpPr>
          <a:xfrm>
            <a:off x="684360" y="1239840"/>
            <a:ext cx="1584000" cy="358920"/>
            <a:chOff x="684360" y="1239840"/>
            <a:chExt cx="1584000" cy="358920"/>
          </a:xfrm>
        </p:grpSpPr>
        <p:sp>
          <p:nvSpPr>
            <p:cNvPr id="380" name="椭圆 3"/>
            <p:cNvSpPr/>
            <p:nvPr/>
          </p:nvSpPr>
          <p:spPr>
            <a:xfrm flipH="1">
              <a:off x="684360" y="1239840"/>
              <a:ext cx="1584000" cy="358920"/>
            </a:xfrm>
            <a:custGeom>
              <a:avLst/>
              <a:gdLst/>
              <a:ahLst/>
              <a:rect l="l" t="t" r="r" b="b"/>
              <a:pathLst>
                <a:path w="1584730" h="360040">
                  <a:moveTo>
                    <a:pt x="153249" y="135997"/>
                  </a:moveTo>
                  <a:cubicBezTo>
                    <a:pt x="177716" y="135997"/>
                    <a:pt x="197551" y="155707"/>
                    <a:pt x="197551" y="180020"/>
                  </a:cubicBezTo>
                  <a:cubicBezTo>
                    <a:pt x="197551" y="204333"/>
                    <a:pt x="177716" y="224043"/>
                    <a:pt x="153249" y="224043"/>
                  </a:cubicBezTo>
                  <a:cubicBezTo>
                    <a:pt x="128782" y="224043"/>
                    <a:pt x="108947" y="204333"/>
                    <a:pt x="108947" y="180020"/>
                  </a:cubicBezTo>
                  <a:cubicBezTo>
                    <a:pt x="108947" y="155707"/>
                    <a:pt x="128782" y="135997"/>
                    <a:pt x="153249" y="135997"/>
                  </a:cubicBezTo>
                  <a:close/>
                  <a:moveTo>
                    <a:pt x="1584730" y="0"/>
                  </a:moveTo>
                  <a:lnTo>
                    <a:pt x="181160" y="0"/>
                  </a:lnTo>
                  <a:lnTo>
                    <a:pt x="0" y="180020"/>
                  </a:lnTo>
                  <a:lnTo>
                    <a:pt x="181160" y="360040"/>
                  </a:lnTo>
                  <a:lnTo>
                    <a:pt x="1584730" y="36004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矩形 173"/>
            <p:cNvSpPr/>
            <p:nvPr/>
          </p:nvSpPr>
          <p:spPr>
            <a:xfrm>
              <a:off x="753840" y="1321200"/>
              <a:ext cx="128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ts val="11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矩形 174"/>
          <p:cNvSpPr/>
          <p:nvPr/>
        </p:nvSpPr>
        <p:spPr>
          <a:xfrm>
            <a:off x="684360" y="1792440"/>
            <a:ext cx="77659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XX</a:t>
            </a: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公司，中国首家演示设计交易平台。基于演示设计的一站式在线演示、素材销售、服务交易系统。诞生于</a:t>
            </a:r>
            <a:r>
              <a:rPr b="0" lang="en-US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2013</a:t>
            </a: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年，由中国专业</a:t>
            </a:r>
            <a:r>
              <a:rPr b="0" lang="en-US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设计领跑者上海</a:t>
            </a:r>
            <a:r>
              <a:rPr b="0" lang="en-US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XXXX</a:t>
            </a: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有限公司整合</a:t>
            </a:r>
            <a:r>
              <a:rPr b="0" lang="en-US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XXPPT</a:t>
            </a: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设计、</a:t>
            </a:r>
            <a:r>
              <a:rPr b="0" lang="en-US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XXPPT</a:t>
            </a: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论坛、</a:t>
            </a:r>
            <a:r>
              <a:rPr b="0" lang="en-US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XXPPT</a:t>
            </a: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商城、</a:t>
            </a:r>
            <a:r>
              <a:rPr b="0" lang="en-US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XXPPT</a:t>
            </a: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市场等资源组建成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文本框 8200"/>
          <p:cNvSpPr/>
          <p:nvPr/>
        </p:nvSpPr>
        <p:spPr>
          <a:xfrm>
            <a:off x="609480" y="87624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3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3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3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3" dur="3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300"/>
                            </p:stCondLst>
                            <p:childTnLst>
                              <p:par>
                                <p:cTn id="13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4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" dur="200" autoRev="1" fill="hold"/>
                                        <p:tgtEl>
                                          <p:spTgt spid="23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800"/>
                            </p:stCondLst>
                            <p:childTnLst>
                              <p:par>
                                <p:cTn id="14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35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4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7" dur="200" autoRev="1" fill="hold"/>
                                        <p:tgtEl>
                                          <p:spTgt spid="3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200"/>
                            </p:stCondLst>
                            <p:childTnLst>
                              <p:par>
                                <p:cTn id="14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35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" dur="4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4" dur="200" autoRev="1" fill="hold"/>
                                        <p:tgtEl>
                                          <p:spTgt spid="3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600"/>
                            </p:stCondLst>
                            <p:childTnLst>
                              <p:par>
                                <p:cTn id="15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3100"/>
                            </p:stCondLst>
                            <p:childTnLst>
                              <p:par>
                                <p:cTn id="16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35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" dur="4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5" dur="200" autoRev="1" fill="hold"/>
                                        <p:tgtEl>
                                          <p:spTgt spid="3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500"/>
                            </p:stCondLst>
                            <p:childTnLst>
                              <p:par>
                                <p:cTn id="16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35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" dur="4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2" dur="200" autoRev="1" fill="hold"/>
                                        <p:tgtEl>
                                          <p:spTgt spid="3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900"/>
                            </p:stCondLst>
                            <p:childTnLst>
                              <p:par>
                                <p:cTn id="17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4400"/>
                            </p:stCondLst>
                            <p:childTnLst>
                              <p:par>
                                <p:cTn id="17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35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" dur="4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3" dur="200" autoRev="1" fill="hold"/>
                                        <p:tgtEl>
                                          <p:spTgt spid="3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4800"/>
                            </p:stCondLst>
                            <p:childTnLst>
                              <p:par>
                                <p:cTn id="18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35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" dur="4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0" dur="200" autoRev="1" fill="hold"/>
                                        <p:tgtEl>
                                          <p:spTgt spid="3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200"/>
                            </p:stCondLst>
                            <p:childTnLst>
                              <p:par>
                                <p:cTn id="19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700"/>
                            </p:stCondLst>
                            <p:childTnLst>
                              <p:par>
                                <p:cTn id="19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35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" dur="4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1" dur="200" autoRev="1" fill="hold"/>
                                        <p:tgtEl>
                                          <p:spTgt spid="3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6100"/>
                            </p:stCondLst>
                            <p:childTnLst>
                              <p:par>
                                <p:cTn id="20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35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7" dur="4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8" dur="200" autoRev="1" fill="hold"/>
                                        <p:tgtEl>
                                          <p:spTgt spid="37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6500"/>
                            </p:stCondLst>
                            <p:childTnLst>
                              <p:par>
                                <p:cTn id="21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4" name="组合 1"/>
          <p:cNvGrpSpPr/>
          <p:nvPr/>
        </p:nvGrpSpPr>
        <p:grpSpPr>
          <a:xfrm>
            <a:off x="2925720" y="1057320"/>
            <a:ext cx="4940280" cy="3881520"/>
            <a:chOff x="2925720" y="1057320"/>
            <a:chExt cx="4940280" cy="3881520"/>
          </a:xfrm>
        </p:grpSpPr>
        <p:sp>
          <p:nvSpPr>
            <p:cNvPr id="385" name="Oval 2"/>
            <p:cNvSpPr/>
            <p:nvPr/>
          </p:nvSpPr>
          <p:spPr>
            <a:xfrm>
              <a:off x="2925720" y="4461120"/>
              <a:ext cx="4940280" cy="4777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445e7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6" name="Group 3"/>
            <p:cNvGrpSpPr/>
            <p:nvPr/>
          </p:nvGrpSpPr>
          <p:grpSpPr>
            <a:xfrm>
              <a:off x="2925720" y="1057320"/>
              <a:ext cx="4395600" cy="3640680"/>
              <a:chOff x="2925720" y="1057320"/>
              <a:chExt cx="4395600" cy="3640680"/>
            </a:xfrm>
          </p:grpSpPr>
          <p:sp>
            <p:nvSpPr>
              <p:cNvPr id="387" name="Freeform 4"/>
              <p:cNvSpPr/>
              <p:nvPr/>
            </p:nvSpPr>
            <p:spPr>
              <a:xfrm>
                <a:off x="3332520" y="2186640"/>
                <a:ext cx="2346840" cy="2511360"/>
              </a:xfrm>
              <a:custGeom>
                <a:avLst/>
                <a:gdLst/>
                <a:ahLst/>
                <a:rect l="l" t="t" r="r" b="b"/>
                <a:pathLst>
                  <a:path w="369" h="395">
                    <a:moveTo>
                      <a:pt x="365" y="216"/>
                    </a:moveTo>
                    <a:cubicBezTo>
                      <a:pt x="369" y="187"/>
                      <a:pt x="369" y="187"/>
                      <a:pt x="369" y="187"/>
                    </a:cubicBezTo>
                    <a:cubicBezTo>
                      <a:pt x="331" y="180"/>
                      <a:pt x="331" y="180"/>
                      <a:pt x="331" y="180"/>
                    </a:cubicBezTo>
                    <a:cubicBezTo>
                      <a:pt x="330" y="159"/>
                      <a:pt x="330" y="159"/>
                      <a:pt x="330" y="159"/>
                    </a:cubicBezTo>
                    <a:cubicBezTo>
                      <a:pt x="367" y="143"/>
                      <a:pt x="367" y="143"/>
                      <a:pt x="367" y="143"/>
                    </a:cubicBezTo>
                    <a:cubicBezTo>
                      <a:pt x="361" y="117"/>
                      <a:pt x="361" y="117"/>
                      <a:pt x="361" y="117"/>
                    </a:cubicBezTo>
                    <a:cubicBezTo>
                      <a:pt x="323" y="124"/>
                      <a:pt x="323" y="124"/>
                      <a:pt x="323" y="124"/>
                    </a:cubicBezTo>
                    <a:cubicBezTo>
                      <a:pt x="315" y="105"/>
                      <a:pt x="315" y="105"/>
                      <a:pt x="315" y="105"/>
                    </a:cubicBezTo>
                    <a:cubicBezTo>
                      <a:pt x="345" y="79"/>
                      <a:pt x="345" y="79"/>
                      <a:pt x="345" y="79"/>
                    </a:cubicBezTo>
                    <a:cubicBezTo>
                      <a:pt x="331" y="58"/>
                      <a:pt x="331" y="58"/>
                      <a:pt x="331" y="58"/>
                    </a:cubicBezTo>
                    <a:cubicBezTo>
                      <a:pt x="297" y="77"/>
                      <a:pt x="297" y="77"/>
                      <a:pt x="297" y="77"/>
                    </a:cubicBezTo>
                    <a:cubicBezTo>
                      <a:pt x="284" y="64"/>
                      <a:pt x="284" y="64"/>
                      <a:pt x="284" y="64"/>
                    </a:cubicBezTo>
                    <a:cubicBezTo>
                      <a:pt x="303" y="31"/>
                      <a:pt x="303" y="31"/>
                      <a:pt x="303" y="31"/>
                    </a:cubicBezTo>
                    <a:cubicBezTo>
                      <a:pt x="283" y="18"/>
                      <a:pt x="283" y="18"/>
                      <a:pt x="283" y="18"/>
                    </a:cubicBezTo>
                    <a:cubicBezTo>
                      <a:pt x="257" y="46"/>
                      <a:pt x="257" y="46"/>
                      <a:pt x="257" y="46"/>
                    </a:cubicBezTo>
                    <a:cubicBezTo>
                      <a:pt x="241" y="39"/>
                      <a:pt x="241" y="39"/>
                      <a:pt x="241" y="39"/>
                    </a:cubicBezTo>
                    <a:cubicBezTo>
                      <a:pt x="248" y="4"/>
                      <a:pt x="248" y="4"/>
                      <a:pt x="248" y="4"/>
                    </a:cubicBezTo>
                    <a:cubicBezTo>
                      <a:pt x="225" y="0"/>
                      <a:pt x="225" y="0"/>
                      <a:pt x="225" y="0"/>
                    </a:cubicBezTo>
                    <a:cubicBezTo>
                      <a:pt x="210" y="33"/>
                      <a:pt x="210" y="33"/>
                      <a:pt x="210" y="33"/>
                    </a:cubicBezTo>
                    <a:cubicBezTo>
                      <a:pt x="191" y="33"/>
                      <a:pt x="191" y="33"/>
                      <a:pt x="191" y="33"/>
                    </a:cubicBezTo>
                    <a:cubicBezTo>
                      <a:pt x="188" y="0"/>
                      <a:pt x="188" y="0"/>
                      <a:pt x="188" y="0"/>
                    </a:cubicBezTo>
                    <a:cubicBezTo>
                      <a:pt x="164" y="4"/>
                      <a:pt x="164" y="4"/>
                      <a:pt x="164" y="4"/>
                    </a:cubicBezTo>
                    <a:cubicBezTo>
                      <a:pt x="160" y="38"/>
                      <a:pt x="160" y="38"/>
                      <a:pt x="160" y="38"/>
                    </a:cubicBezTo>
                    <a:cubicBezTo>
                      <a:pt x="142" y="45"/>
                      <a:pt x="142" y="45"/>
                      <a:pt x="142" y="45"/>
                    </a:cubicBezTo>
                    <a:cubicBezTo>
                      <a:pt x="128" y="17"/>
                      <a:pt x="128" y="17"/>
                      <a:pt x="128" y="17"/>
                    </a:cubicBezTo>
                    <a:cubicBezTo>
                      <a:pt x="107" y="29"/>
                      <a:pt x="107" y="29"/>
                      <a:pt x="107" y="29"/>
                    </a:cubicBezTo>
                    <a:cubicBezTo>
                      <a:pt x="113" y="60"/>
                      <a:pt x="113" y="60"/>
                      <a:pt x="113" y="60"/>
                    </a:cubicBezTo>
                    <a:cubicBezTo>
                      <a:pt x="97" y="72"/>
                      <a:pt x="97" y="72"/>
                      <a:pt x="97" y="72"/>
                    </a:cubicBezTo>
                    <a:cubicBezTo>
                      <a:pt x="75" y="53"/>
                      <a:pt x="75" y="53"/>
                      <a:pt x="75" y="53"/>
                    </a:cubicBezTo>
                    <a:cubicBezTo>
                      <a:pt x="58" y="71"/>
                      <a:pt x="58" y="71"/>
                      <a:pt x="58" y="71"/>
                    </a:cubicBezTo>
                    <a:cubicBezTo>
                      <a:pt x="73" y="96"/>
                      <a:pt x="73" y="96"/>
                      <a:pt x="73" y="96"/>
                    </a:cubicBezTo>
                    <a:cubicBezTo>
                      <a:pt x="62" y="112"/>
                      <a:pt x="62" y="112"/>
                      <a:pt x="62" y="112"/>
                    </a:cubicBezTo>
                    <a:cubicBezTo>
                      <a:pt x="34" y="103"/>
                      <a:pt x="34" y="103"/>
                      <a:pt x="34" y="103"/>
                    </a:cubicBezTo>
                    <a:cubicBezTo>
                      <a:pt x="22" y="126"/>
                      <a:pt x="22" y="126"/>
                      <a:pt x="22" y="126"/>
                    </a:cubicBezTo>
                    <a:cubicBezTo>
                      <a:pt x="45" y="143"/>
                      <a:pt x="45" y="143"/>
                      <a:pt x="45" y="143"/>
                    </a:cubicBezTo>
                    <a:cubicBezTo>
                      <a:pt x="39" y="161"/>
                      <a:pt x="39" y="161"/>
                      <a:pt x="39" y="161"/>
                    </a:cubicBezTo>
                    <a:cubicBezTo>
                      <a:pt x="8" y="164"/>
                      <a:pt x="8" y="164"/>
                      <a:pt x="8" y="164"/>
                    </a:cubicBezTo>
                    <a:cubicBezTo>
                      <a:pt x="2" y="188"/>
                      <a:pt x="2" y="188"/>
                      <a:pt x="2" y="188"/>
                    </a:cubicBezTo>
                    <a:cubicBezTo>
                      <a:pt x="32" y="195"/>
                      <a:pt x="32" y="195"/>
                      <a:pt x="32" y="195"/>
                    </a:cubicBezTo>
                    <a:cubicBezTo>
                      <a:pt x="31" y="214"/>
                      <a:pt x="31" y="214"/>
                      <a:pt x="31" y="214"/>
                    </a:cubicBezTo>
                    <a:cubicBezTo>
                      <a:pt x="0" y="228"/>
                      <a:pt x="0" y="228"/>
                      <a:pt x="0" y="228"/>
                    </a:cubicBezTo>
                    <a:cubicBezTo>
                      <a:pt x="2" y="253"/>
                      <a:pt x="2" y="253"/>
                      <a:pt x="2" y="253"/>
                    </a:cubicBezTo>
                    <a:cubicBezTo>
                      <a:pt x="34" y="248"/>
                      <a:pt x="34" y="248"/>
                      <a:pt x="34" y="248"/>
                    </a:cubicBezTo>
                    <a:cubicBezTo>
                      <a:pt x="39" y="266"/>
                      <a:pt x="39" y="266"/>
                      <a:pt x="39" y="266"/>
                    </a:cubicBezTo>
                    <a:cubicBezTo>
                      <a:pt x="12" y="290"/>
                      <a:pt x="12" y="290"/>
                      <a:pt x="12" y="290"/>
                    </a:cubicBezTo>
                    <a:cubicBezTo>
                      <a:pt x="23" y="312"/>
                      <a:pt x="23" y="312"/>
                      <a:pt x="23" y="312"/>
                    </a:cubicBezTo>
                    <a:cubicBezTo>
                      <a:pt x="53" y="295"/>
                      <a:pt x="53" y="295"/>
                      <a:pt x="53" y="295"/>
                    </a:cubicBezTo>
                    <a:cubicBezTo>
                      <a:pt x="64" y="310"/>
                      <a:pt x="64" y="310"/>
                      <a:pt x="64" y="310"/>
                    </a:cubicBezTo>
                    <a:cubicBezTo>
                      <a:pt x="45" y="344"/>
                      <a:pt x="45" y="344"/>
                      <a:pt x="45" y="344"/>
                    </a:cubicBezTo>
                    <a:cubicBezTo>
                      <a:pt x="62" y="360"/>
                      <a:pt x="62" y="360"/>
                      <a:pt x="62" y="360"/>
                    </a:cubicBezTo>
                    <a:cubicBezTo>
                      <a:pt x="88" y="332"/>
                      <a:pt x="88" y="332"/>
                      <a:pt x="88" y="332"/>
                    </a:cubicBezTo>
                    <a:cubicBezTo>
                      <a:pt x="104" y="341"/>
                      <a:pt x="104" y="341"/>
                      <a:pt x="104" y="341"/>
                    </a:cubicBezTo>
                    <a:cubicBezTo>
                      <a:pt x="95" y="381"/>
                      <a:pt x="95" y="381"/>
                      <a:pt x="95" y="381"/>
                    </a:cubicBezTo>
                    <a:cubicBezTo>
                      <a:pt x="118" y="389"/>
                      <a:pt x="118" y="389"/>
                      <a:pt x="118" y="389"/>
                    </a:cubicBezTo>
                    <a:cubicBezTo>
                      <a:pt x="135" y="352"/>
                      <a:pt x="135" y="352"/>
                      <a:pt x="135" y="352"/>
                    </a:cubicBezTo>
                    <a:cubicBezTo>
                      <a:pt x="154" y="355"/>
                      <a:pt x="154" y="355"/>
                      <a:pt x="154" y="355"/>
                    </a:cubicBezTo>
                    <a:cubicBezTo>
                      <a:pt x="158" y="395"/>
                      <a:pt x="158" y="395"/>
                      <a:pt x="158" y="395"/>
                    </a:cubicBezTo>
                    <a:cubicBezTo>
                      <a:pt x="184" y="394"/>
                      <a:pt x="184" y="394"/>
                      <a:pt x="184" y="394"/>
                    </a:cubicBezTo>
                    <a:cubicBezTo>
                      <a:pt x="189" y="353"/>
                      <a:pt x="189" y="353"/>
                      <a:pt x="189" y="353"/>
                    </a:cubicBezTo>
                    <a:cubicBezTo>
                      <a:pt x="209" y="348"/>
                      <a:pt x="209" y="348"/>
                      <a:pt x="209" y="348"/>
                    </a:cubicBezTo>
                    <a:cubicBezTo>
                      <a:pt x="226" y="383"/>
                      <a:pt x="226" y="383"/>
                      <a:pt x="226" y="383"/>
                    </a:cubicBezTo>
                    <a:cubicBezTo>
                      <a:pt x="251" y="372"/>
                      <a:pt x="251" y="372"/>
                      <a:pt x="251" y="372"/>
                    </a:cubicBezTo>
                    <a:cubicBezTo>
                      <a:pt x="242" y="332"/>
                      <a:pt x="242" y="332"/>
                      <a:pt x="242" y="332"/>
                    </a:cubicBezTo>
                    <a:cubicBezTo>
                      <a:pt x="260" y="319"/>
                      <a:pt x="260" y="319"/>
                      <a:pt x="260" y="319"/>
                    </a:cubicBezTo>
                    <a:cubicBezTo>
                      <a:pt x="289" y="346"/>
                      <a:pt x="289" y="346"/>
                      <a:pt x="289" y="346"/>
                    </a:cubicBezTo>
                    <a:cubicBezTo>
                      <a:pt x="310" y="325"/>
                      <a:pt x="310" y="325"/>
                      <a:pt x="310" y="325"/>
                    </a:cubicBezTo>
                    <a:cubicBezTo>
                      <a:pt x="288" y="292"/>
                      <a:pt x="288" y="292"/>
                      <a:pt x="288" y="292"/>
                    </a:cubicBezTo>
                    <a:cubicBezTo>
                      <a:pt x="301" y="274"/>
                      <a:pt x="301" y="274"/>
                      <a:pt x="301" y="274"/>
                    </a:cubicBezTo>
                    <a:cubicBezTo>
                      <a:pt x="338" y="287"/>
                      <a:pt x="338" y="287"/>
                      <a:pt x="338" y="287"/>
                    </a:cubicBezTo>
                    <a:cubicBezTo>
                      <a:pt x="351" y="260"/>
                      <a:pt x="351" y="260"/>
                      <a:pt x="351" y="260"/>
                    </a:cubicBezTo>
                    <a:cubicBezTo>
                      <a:pt x="319" y="239"/>
                      <a:pt x="319" y="239"/>
                      <a:pt x="319" y="239"/>
                    </a:cubicBezTo>
                    <a:cubicBezTo>
                      <a:pt x="326" y="218"/>
                      <a:pt x="326" y="218"/>
                      <a:pt x="326" y="218"/>
                    </a:cubicBezTo>
                    <a:lnTo>
                      <a:pt x="365" y="216"/>
                    </a:lnTo>
                    <a:close/>
                    <a:moveTo>
                      <a:pt x="212" y="213"/>
                    </a:moveTo>
                    <a:cubicBezTo>
                      <a:pt x="199" y="234"/>
                      <a:pt x="173" y="243"/>
                      <a:pt x="154" y="231"/>
                    </a:cubicBezTo>
                    <a:cubicBezTo>
                      <a:pt x="135" y="220"/>
                      <a:pt x="131" y="193"/>
                      <a:pt x="144" y="171"/>
                    </a:cubicBezTo>
                    <a:cubicBezTo>
                      <a:pt x="157" y="149"/>
                      <a:pt x="183" y="141"/>
                      <a:pt x="202" y="153"/>
                    </a:cubicBezTo>
                    <a:cubicBezTo>
                      <a:pt x="221" y="164"/>
                      <a:pt x="225" y="191"/>
                      <a:pt x="212" y="21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6600"/>
                  </a:gs>
                  <a:gs pos="100000">
                    <a:srgbClr val="9900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5"/>
              <p:cNvSpPr/>
              <p:nvPr/>
            </p:nvSpPr>
            <p:spPr>
              <a:xfrm>
                <a:off x="2925720" y="1662480"/>
                <a:ext cx="1086840" cy="1176120"/>
              </a:xfrm>
              <a:custGeom>
                <a:avLst/>
                <a:gdLst/>
                <a:ahLst/>
                <a:rect l="l" t="t" r="r" b="b"/>
                <a:pathLst>
                  <a:path w="171" h="185">
                    <a:moveTo>
                      <a:pt x="146" y="83"/>
                    </a:moveTo>
                    <a:cubicBezTo>
                      <a:pt x="171" y="70"/>
                      <a:pt x="171" y="70"/>
                      <a:pt x="171" y="70"/>
                    </a:cubicBezTo>
                    <a:cubicBezTo>
                      <a:pt x="168" y="48"/>
                      <a:pt x="168" y="48"/>
                      <a:pt x="168" y="48"/>
                    </a:cubicBezTo>
                    <a:cubicBezTo>
                      <a:pt x="142" y="54"/>
                      <a:pt x="142" y="54"/>
                      <a:pt x="142" y="54"/>
                    </a:cubicBezTo>
                    <a:cubicBezTo>
                      <a:pt x="135" y="42"/>
                      <a:pt x="135" y="42"/>
                      <a:pt x="135" y="42"/>
                    </a:cubicBezTo>
                    <a:cubicBezTo>
                      <a:pt x="149" y="17"/>
                      <a:pt x="149" y="17"/>
                      <a:pt x="149" y="17"/>
                    </a:cubicBezTo>
                    <a:cubicBezTo>
                      <a:pt x="133" y="6"/>
                      <a:pt x="133" y="6"/>
                      <a:pt x="133" y="6"/>
                    </a:cubicBezTo>
                    <a:cubicBezTo>
                      <a:pt x="114" y="27"/>
                      <a:pt x="114" y="27"/>
                      <a:pt x="114" y="27"/>
                    </a:cubicBezTo>
                    <a:cubicBezTo>
                      <a:pt x="100" y="25"/>
                      <a:pt x="100" y="25"/>
                      <a:pt x="100" y="25"/>
                    </a:cubicBezTo>
                    <a:cubicBezTo>
                      <a:pt x="98" y="0"/>
                      <a:pt x="98" y="0"/>
                      <a:pt x="98" y="0"/>
                    </a:cubicBezTo>
                    <a:cubicBezTo>
                      <a:pt x="77" y="5"/>
                      <a:pt x="77" y="5"/>
                      <a:pt x="77" y="5"/>
                    </a:cubicBezTo>
                    <a:cubicBezTo>
                      <a:pt x="72" y="30"/>
                      <a:pt x="72" y="30"/>
                      <a:pt x="72" y="30"/>
                    </a:cubicBezTo>
                    <a:cubicBezTo>
                      <a:pt x="58" y="39"/>
                      <a:pt x="58" y="39"/>
                      <a:pt x="58" y="39"/>
                    </a:cubicBezTo>
                    <a:cubicBezTo>
                      <a:pt x="42" y="25"/>
                      <a:pt x="42" y="25"/>
                      <a:pt x="42" y="25"/>
                    </a:cubicBezTo>
                    <a:cubicBezTo>
                      <a:pt x="26" y="42"/>
                      <a:pt x="26" y="42"/>
                      <a:pt x="26" y="42"/>
                    </a:cubicBezTo>
                    <a:cubicBezTo>
                      <a:pt x="36" y="61"/>
                      <a:pt x="36" y="61"/>
                      <a:pt x="36" y="61"/>
                    </a:cubicBezTo>
                    <a:cubicBezTo>
                      <a:pt x="28" y="76"/>
                      <a:pt x="28" y="76"/>
                      <a:pt x="28" y="76"/>
                    </a:cubicBezTo>
                    <a:cubicBezTo>
                      <a:pt x="5" y="80"/>
                      <a:pt x="5" y="80"/>
                      <a:pt x="5" y="80"/>
                    </a:cubicBezTo>
                    <a:cubicBezTo>
                      <a:pt x="0" y="102"/>
                      <a:pt x="0" y="102"/>
                      <a:pt x="0" y="102"/>
                    </a:cubicBezTo>
                    <a:cubicBezTo>
                      <a:pt x="21" y="106"/>
                      <a:pt x="21" y="106"/>
                      <a:pt x="21" y="106"/>
                    </a:cubicBezTo>
                    <a:cubicBezTo>
                      <a:pt x="23" y="121"/>
                      <a:pt x="23" y="121"/>
                      <a:pt x="23" y="121"/>
                    </a:cubicBezTo>
                    <a:cubicBezTo>
                      <a:pt x="3" y="140"/>
                      <a:pt x="3" y="140"/>
                      <a:pt x="3" y="140"/>
                    </a:cubicBezTo>
                    <a:cubicBezTo>
                      <a:pt x="11" y="158"/>
                      <a:pt x="11" y="158"/>
                      <a:pt x="11" y="158"/>
                    </a:cubicBezTo>
                    <a:cubicBezTo>
                      <a:pt x="35" y="144"/>
                      <a:pt x="35" y="144"/>
                      <a:pt x="35" y="144"/>
                    </a:cubicBezTo>
                    <a:cubicBezTo>
                      <a:pt x="45" y="153"/>
                      <a:pt x="45" y="153"/>
                      <a:pt x="45" y="153"/>
                    </a:cubicBezTo>
                    <a:cubicBezTo>
                      <a:pt x="38" y="181"/>
                      <a:pt x="38" y="181"/>
                      <a:pt x="38" y="181"/>
                    </a:cubicBezTo>
                    <a:cubicBezTo>
                      <a:pt x="58" y="185"/>
                      <a:pt x="58" y="185"/>
                      <a:pt x="58" y="185"/>
                    </a:cubicBezTo>
                    <a:cubicBezTo>
                      <a:pt x="71" y="159"/>
                      <a:pt x="71" y="159"/>
                      <a:pt x="71" y="159"/>
                    </a:cubicBezTo>
                    <a:cubicBezTo>
                      <a:pt x="86" y="157"/>
                      <a:pt x="86" y="157"/>
                      <a:pt x="86" y="157"/>
                    </a:cubicBezTo>
                    <a:cubicBezTo>
                      <a:pt x="97" y="179"/>
                      <a:pt x="97" y="179"/>
                      <a:pt x="97" y="179"/>
                    </a:cubicBezTo>
                    <a:cubicBezTo>
                      <a:pt x="118" y="168"/>
                      <a:pt x="118" y="168"/>
                      <a:pt x="118" y="168"/>
                    </a:cubicBezTo>
                    <a:cubicBezTo>
                      <a:pt x="114" y="142"/>
                      <a:pt x="114" y="142"/>
                      <a:pt x="114" y="142"/>
                    </a:cubicBezTo>
                    <a:cubicBezTo>
                      <a:pt x="127" y="129"/>
                      <a:pt x="127" y="129"/>
                      <a:pt x="127" y="129"/>
                    </a:cubicBezTo>
                    <a:cubicBezTo>
                      <a:pt x="150" y="135"/>
                      <a:pt x="150" y="135"/>
                      <a:pt x="150" y="135"/>
                    </a:cubicBezTo>
                    <a:cubicBezTo>
                      <a:pt x="162" y="113"/>
                      <a:pt x="162" y="113"/>
                      <a:pt x="162" y="113"/>
                    </a:cubicBezTo>
                    <a:cubicBezTo>
                      <a:pt x="142" y="100"/>
                      <a:pt x="142" y="100"/>
                      <a:pt x="142" y="100"/>
                    </a:cubicBezTo>
                    <a:lnTo>
                      <a:pt x="146" y="83"/>
                    </a:lnTo>
                    <a:close/>
                    <a:moveTo>
                      <a:pt x="96" y="100"/>
                    </a:moveTo>
                    <a:cubicBezTo>
                      <a:pt x="90" y="110"/>
                      <a:pt x="78" y="114"/>
                      <a:pt x="69" y="108"/>
                    </a:cubicBezTo>
                    <a:cubicBezTo>
                      <a:pt x="60" y="103"/>
                      <a:pt x="58" y="90"/>
                      <a:pt x="64" y="80"/>
                    </a:cubicBezTo>
                    <a:cubicBezTo>
                      <a:pt x="70" y="70"/>
                      <a:pt x="83" y="66"/>
                      <a:pt x="92" y="71"/>
                    </a:cubicBezTo>
                    <a:cubicBezTo>
                      <a:pt x="101" y="77"/>
                      <a:pt x="103" y="89"/>
                      <a:pt x="96" y="1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c0c0c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6"/>
              <p:cNvSpPr/>
              <p:nvPr/>
            </p:nvSpPr>
            <p:spPr>
              <a:xfrm>
                <a:off x="5386320" y="1057320"/>
                <a:ext cx="1935000" cy="1812600"/>
              </a:xfrm>
              <a:custGeom>
                <a:avLst/>
                <a:gdLst/>
                <a:ahLst/>
                <a:rect l="l" t="t" r="r" b="b"/>
                <a:pathLst>
                  <a:path w="304" h="285">
                    <a:moveTo>
                      <a:pt x="298" y="165"/>
                    </a:moveTo>
                    <a:cubicBezTo>
                      <a:pt x="304" y="135"/>
                      <a:pt x="304" y="135"/>
                      <a:pt x="304" y="135"/>
                    </a:cubicBezTo>
                    <a:cubicBezTo>
                      <a:pt x="268" y="128"/>
                      <a:pt x="268" y="128"/>
                      <a:pt x="268" y="128"/>
                    </a:cubicBezTo>
                    <a:cubicBezTo>
                      <a:pt x="265" y="106"/>
                      <a:pt x="265" y="106"/>
                      <a:pt x="265" y="106"/>
                    </a:cubicBezTo>
                    <a:cubicBezTo>
                      <a:pt x="298" y="88"/>
                      <a:pt x="298" y="88"/>
                      <a:pt x="298" y="88"/>
                    </a:cubicBezTo>
                    <a:cubicBezTo>
                      <a:pt x="287" y="62"/>
                      <a:pt x="287" y="62"/>
                      <a:pt x="287" y="62"/>
                    </a:cubicBezTo>
                    <a:cubicBezTo>
                      <a:pt x="251" y="73"/>
                      <a:pt x="251" y="73"/>
                      <a:pt x="251" y="73"/>
                    </a:cubicBezTo>
                    <a:cubicBezTo>
                      <a:pt x="237" y="57"/>
                      <a:pt x="237" y="57"/>
                      <a:pt x="237" y="57"/>
                    </a:cubicBezTo>
                    <a:cubicBezTo>
                      <a:pt x="256" y="28"/>
                      <a:pt x="256" y="28"/>
                      <a:pt x="256" y="28"/>
                    </a:cubicBezTo>
                    <a:cubicBezTo>
                      <a:pt x="233" y="13"/>
                      <a:pt x="233" y="13"/>
                      <a:pt x="233" y="13"/>
                    </a:cubicBezTo>
                    <a:cubicBezTo>
                      <a:pt x="207" y="37"/>
                      <a:pt x="207" y="37"/>
                      <a:pt x="207" y="37"/>
                    </a:cubicBezTo>
                    <a:cubicBezTo>
                      <a:pt x="186" y="31"/>
                      <a:pt x="186" y="31"/>
                      <a:pt x="186" y="31"/>
                    </a:cubicBezTo>
                    <a:cubicBezTo>
                      <a:pt x="188" y="0"/>
                      <a:pt x="188" y="0"/>
                      <a:pt x="188" y="0"/>
                    </a:cubicBezTo>
                    <a:cubicBezTo>
                      <a:pt x="159" y="0"/>
                      <a:pt x="159" y="0"/>
                      <a:pt x="159" y="0"/>
                    </a:cubicBezTo>
                    <a:cubicBezTo>
                      <a:pt x="148" y="30"/>
                      <a:pt x="148" y="30"/>
                      <a:pt x="148" y="30"/>
                    </a:cubicBezTo>
                    <a:cubicBezTo>
                      <a:pt x="126" y="34"/>
                      <a:pt x="126" y="34"/>
                      <a:pt x="126" y="34"/>
                    </a:cubicBezTo>
                    <a:cubicBezTo>
                      <a:pt x="112" y="10"/>
                      <a:pt x="112" y="10"/>
                      <a:pt x="112" y="10"/>
                    </a:cubicBezTo>
                    <a:cubicBezTo>
                      <a:pt x="85" y="22"/>
                      <a:pt x="85" y="22"/>
                      <a:pt x="85" y="22"/>
                    </a:cubicBezTo>
                    <a:cubicBezTo>
                      <a:pt x="90" y="50"/>
                      <a:pt x="90" y="50"/>
                      <a:pt x="90" y="50"/>
                    </a:cubicBezTo>
                    <a:cubicBezTo>
                      <a:pt x="73" y="64"/>
                      <a:pt x="73" y="64"/>
                      <a:pt x="73" y="64"/>
                    </a:cubicBezTo>
                    <a:cubicBezTo>
                      <a:pt x="47" y="51"/>
                      <a:pt x="47" y="51"/>
                      <a:pt x="47" y="51"/>
                    </a:cubicBezTo>
                    <a:cubicBezTo>
                      <a:pt x="28" y="73"/>
                      <a:pt x="28" y="73"/>
                      <a:pt x="28" y="73"/>
                    </a:cubicBezTo>
                    <a:cubicBezTo>
                      <a:pt x="48" y="93"/>
                      <a:pt x="48" y="93"/>
                      <a:pt x="48" y="93"/>
                    </a:cubicBezTo>
                    <a:cubicBezTo>
                      <a:pt x="38" y="112"/>
                      <a:pt x="38" y="112"/>
                      <a:pt x="38" y="112"/>
                    </a:cubicBezTo>
                    <a:cubicBezTo>
                      <a:pt x="7" y="114"/>
                      <a:pt x="7" y="114"/>
                      <a:pt x="7" y="114"/>
                    </a:cubicBezTo>
                    <a:cubicBezTo>
                      <a:pt x="0" y="140"/>
                      <a:pt x="0" y="140"/>
                      <a:pt x="0" y="140"/>
                    </a:cubicBezTo>
                    <a:cubicBezTo>
                      <a:pt x="30" y="147"/>
                      <a:pt x="30" y="147"/>
                      <a:pt x="30" y="147"/>
                    </a:cubicBezTo>
                    <a:cubicBezTo>
                      <a:pt x="30" y="167"/>
                      <a:pt x="30" y="167"/>
                      <a:pt x="30" y="167"/>
                    </a:cubicBezTo>
                    <a:cubicBezTo>
                      <a:pt x="1" y="184"/>
                      <a:pt x="1" y="184"/>
                      <a:pt x="1" y="184"/>
                    </a:cubicBezTo>
                    <a:cubicBezTo>
                      <a:pt x="9" y="209"/>
                      <a:pt x="9" y="209"/>
                      <a:pt x="9" y="209"/>
                    </a:cubicBezTo>
                    <a:cubicBezTo>
                      <a:pt x="41" y="200"/>
                      <a:pt x="41" y="200"/>
                      <a:pt x="41" y="200"/>
                    </a:cubicBezTo>
                    <a:cubicBezTo>
                      <a:pt x="53" y="217"/>
                      <a:pt x="53" y="217"/>
                      <a:pt x="53" y="217"/>
                    </a:cubicBezTo>
                    <a:cubicBezTo>
                      <a:pt x="34" y="246"/>
                      <a:pt x="34" y="246"/>
                      <a:pt x="34" y="246"/>
                    </a:cubicBezTo>
                    <a:cubicBezTo>
                      <a:pt x="55" y="263"/>
                      <a:pt x="55" y="263"/>
                      <a:pt x="55" y="263"/>
                    </a:cubicBezTo>
                    <a:cubicBezTo>
                      <a:pt x="81" y="239"/>
                      <a:pt x="81" y="239"/>
                      <a:pt x="81" y="239"/>
                    </a:cubicBezTo>
                    <a:cubicBezTo>
                      <a:pt x="101" y="248"/>
                      <a:pt x="101" y="248"/>
                      <a:pt x="101" y="248"/>
                    </a:cubicBezTo>
                    <a:cubicBezTo>
                      <a:pt x="98" y="282"/>
                      <a:pt x="98" y="282"/>
                      <a:pt x="98" y="282"/>
                    </a:cubicBezTo>
                    <a:cubicBezTo>
                      <a:pt x="128" y="285"/>
                      <a:pt x="128" y="285"/>
                      <a:pt x="128" y="285"/>
                    </a:cubicBezTo>
                    <a:cubicBezTo>
                      <a:pt x="140" y="252"/>
                      <a:pt x="140" y="252"/>
                      <a:pt x="140" y="252"/>
                    </a:cubicBezTo>
                    <a:cubicBezTo>
                      <a:pt x="163" y="249"/>
                      <a:pt x="163" y="249"/>
                      <a:pt x="163" y="249"/>
                    </a:cubicBezTo>
                    <a:cubicBezTo>
                      <a:pt x="180" y="279"/>
                      <a:pt x="180" y="279"/>
                      <a:pt x="180" y="279"/>
                    </a:cubicBezTo>
                    <a:cubicBezTo>
                      <a:pt x="210" y="267"/>
                      <a:pt x="210" y="267"/>
                      <a:pt x="210" y="267"/>
                    </a:cubicBezTo>
                    <a:cubicBezTo>
                      <a:pt x="202" y="234"/>
                      <a:pt x="202" y="234"/>
                      <a:pt x="202" y="234"/>
                    </a:cubicBezTo>
                    <a:cubicBezTo>
                      <a:pt x="222" y="220"/>
                      <a:pt x="222" y="220"/>
                      <a:pt x="222" y="220"/>
                    </a:cubicBezTo>
                    <a:cubicBezTo>
                      <a:pt x="254" y="236"/>
                      <a:pt x="254" y="236"/>
                      <a:pt x="254" y="236"/>
                    </a:cubicBezTo>
                    <a:cubicBezTo>
                      <a:pt x="275" y="212"/>
                      <a:pt x="275" y="212"/>
                      <a:pt x="275" y="212"/>
                    </a:cubicBezTo>
                    <a:cubicBezTo>
                      <a:pt x="250" y="188"/>
                      <a:pt x="250" y="188"/>
                      <a:pt x="250" y="188"/>
                    </a:cubicBezTo>
                    <a:cubicBezTo>
                      <a:pt x="260" y="167"/>
                      <a:pt x="260" y="167"/>
                      <a:pt x="260" y="167"/>
                    </a:cubicBezTo>
                    <a:lnTo>
                      <a:pt x="298" y="165"/>
                    </a:lnTo>
                    <a:close/>
                    <a:moveTo>
                      <a:pt x="175" y="187"/>
                    </a:moveTo>
                    <a:cubicBezTo>
                      <a:pt x="145" y="205"/>
                      <a:pt x="108" y="198"/>
                      <a:pt x="92" y="172"/>
                    </a:cubicBezTo>
                    <a:cubicBezTo>
                      <a:pt x="77" y="145"/>
                      <a:pt x="89" y="110"/>
                      <a:pt x="119" y="92"/>
                    </a:cubicBezTo>
                    <a:cubicBezTo>
                      <a:pt x="149" y="75"/>
                      <a:pt x="185" y="81"/>
                      <a:pt x="201" y="107"/>
                    </a:cubicBezTo>
                    <a:cubicBezTo>
                      <a:pt x="216" y="134"/>
                      <a:pt x="205" y="169"/>
                      <a:pt x="175" y="18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90" name="组合 7"/>
          <p:cNvGrpSpPr/>
          <p:nvPr/>
        </p:nvGrpSpPr>
        <p:grpSpPr>
          <a:xfrm>
            <a:off x="684360" y="3403440"/>
            <a:ext cx="2446200" cy="1090440"/>
            <a:chOff x="684360" y="3403440"/>
            <a:chExt cx="2446200" cy="1090440"/>
          </a:xfrm>
        </p:grpSpPr>
        <p:sp>
          <p:nvSpPr>
            <p:cNvPr id="391" name="Rectangle 7"/>
            <p:cNvSpPr/>
            <p:nvPr/>
          </p:nvSpPr>
          <p:spPr>
            <a:xfrm>
              <a:off x="684360" y="3743280"/>
              <a:ext cx="244620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单击此处添加段落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单击此处添加段落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单击此处添加段落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8"/>
            <p:cNvSpPr/>
            <p:nvPr/>
          </p:nvSpPr>
          <p:spPr>
            <a:xfrm>
              <a:off x="1101960" y="3403440"/>
              <a:ext cx="140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单击此处添加标题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组合 10"/>
          <p:cNvGrpSpPr/>
          <p:nvPr/>
        </p:nvGrpSpPr>
        <p:grpSpPr>
          <a:xfrm>
            <a:off x="685800" y="1174680"/>
            <a:ext cx="2448000" cy="870120"/>
            <a:chOff x="685800" y="1174680"/>
            <a:chExt cx="2448000" cy="870120"/>
          </a:xfrm>
        </p:grpSpPr>
        <p:sp>
          <p:nvSpPr>
            <p:cNvPr id="394" name="Rectangle 9"/>
            <p:cNvSpPr/>
            <p:nvPr/>
          </p:nvSpPr>
          <p:spPr>
            <a:xfrm>
              <a:off x="685800" y="1513080"/>
              <a:ext cx="244800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0"/>
            <p:cNvSpPr/>
            <p:nvPr/>
          </p:nvSpPr>
          <p:spPr>
            <a:xfrm>
              <a:off x="1104480" y="1174680"/>
              <a:ext cx="140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标题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组合 13"/>
          <p:cNvGrpSpPr/>
          <p:nvPr/>
        </p:nvGrpSpPr>
        <p:grpSpPr>
          <a:xfrm>
            <a:off x="6097680" y="3067200"/>
            <a:ext cx="2446200" cy="1107000"/>
            <a:chOff x="6097680" y="3067200"/>
            <a:chExt cx="2446200" cy="1107000"/>
          </a:xfrm>
        </p:grpSpPr>
        <p:sp>
          <p:nvSpPr>
            <p:cNvPr id="397" name="Rectangle 11"/>
            <p:cNvSpPr/>
            <p:nvPr/>
          </p:nvSpPr>
          <p:spPr>
            <a:xfrm>
              <a:off x="6097680" y="3423600"/>
              <a:ext cx="244620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12"/>
            <p:cNvSpPr/>
            <p:nvPr/>
          </p:nvSpPr>
          <p:spPr>
            <a:xfrm>
              <a:off x="6725880" y="3067200"/>
              <a:ext cx="140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标题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5000">
    <p:fad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28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圆角矩形​​ 8"/>
          <p:cNvSpPr/>
          <p:nvPr/>
        </p:nvSpPr>
        <p:spPr>
          <a:xfrm>
            <a:off x="611280" y="3146400"/>
            <a:ext cx="3600360" cy="41904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录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圆角矩形​​ 10"/>
          <p:cNvSpPr/>
          <p:nvPr/>
        </p:nvSpPr>
        <p:spPr>
          <a:xfrm>
            <a:off x="611280" y="3656160"/>
            <a:ext cx="3600360" cy="420480"/>
          </a:xfrm>
          <a:prstGeom prst="roundRect">
            <a:avLst>
              <a:gd name="adj" fmla="val 1666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录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圆角矩形​​ 12"/>
          <p:cNvSpPr/>
          <p:nvPr/>
        </p:nvSpPr>
        <p:spPr>
          <a:xfrm>
            <a:off x="611280" y="4165560"/>
            <a:ext cx="3600360" cy="420840"/>
          </a:xfrm>
          <a:prstGeom prst="roundRect">
            <a:avLst>
              <a:gd name="adj" fmla="val 16667"/>
            </a:avLst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录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圆角矩形​​ 17"/>
          <p:cNvSpPr/>
          <p:nvPr/>
        </p:nvSpPr>
        <p:spPr>
          <a:xfrm>
            <a:off x="4927680" y="3146400"/>
            <a:ext cx="3600360" cy="41904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录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圆角矩形​​ 18"/>
          <p:cNvSpPr/>
          <p:nvPr/>
        </p:nvSpPr>
        <p:spPr>
          <a:xfrm>
            <a:off x="4927680" y="3656160"/>
            <a:ext cx="3600360" cy="420480"/>
          </a:xfrm>
          <a:prstGeom prst="roundRect">
            <a:avLst>
              <a:gd name="adj" fmla="val 1666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录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圆角矩形​​ 19"/>
          <p:cNvSpPr/>
          <p:nvPr/>
        </p:nvSpPr>
        <p:spPr>
          <a:xfrm>
            <a:off x="4927680" y="4165560"/>
            <a:ext cx="3600360" cy="420840"/>
          </a:xfrm>
          <a:prstGeom prst="roundRect">
            <a:avLst>
              <a:gd name="adj" fmla="val 16667"/>
            </a:avLst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录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组合 7"/>
          <p:cNvGrpSpPr/>
          <p:nvPr/>
        </p:nvGrpSpPr>
        <p:grpSpPr>
          <a:xfrm>
            <a:off x="611280" y="1273320"/>
            <a:ext cx="3633840" cy="1800000"/>
            <a:chOff x="611280" y="1273320"/>
            <a:chExt cx="3633840" cy="1800000"/>
          </a:xfrm>
        </p:grpSpPr>
        <p:sp>
          <p:nvSpPr>
            <p:cNvPr id="406" name="圆角矩形​​ 6"/>
            <p:cNvSpPr/>
            <p:nvPr/>
          </p:nvSpPr>
          <p:spPr>
            <a:xfrm>
              <a:off x="611280" y="1273320"/>
              <a:ext cx="3600720" cy="1800000"/>
            </a:xfrm>
            <a:prstGeom prst="roundRect">
              <a:avLst>
                <a:gd name="adj" fmla="val 9949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cc66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同侧圆角矩形 9"/>
            <p:cNvSpPr/>
            <p:nvPr/>
          </p:nvSpPr>
          <p:spPr>
            <a:xfrm>
              <a:off x="644400" y="1273320"/>
              <a:ext cx="3600720" cy="792000"/>
            </a:xfrm>
            <a:custGeom>
              <a:avLst/>
              <a:gdLst/>
              <a:ahLst/>
              <a:rect l="l" t="t" r="r" b="b"/>
              <a:pathLst>
                <a:path w="3600450" h="792162">
                  <a:moveTo>
                    <a:pt x="132029" y="0"/>
                  </a:moveTo>
                  <a:lnTo>
                    <a:pt x="3468420" y="0"/>
                  </a:lnTo>
                  <a:cubicBezTo>
                    <a:pt x="3541338" y="0"/>
                    <a:pt x="3600449" y="59111"/>
                    <a:pt x="3600449" y="132029"/>
                  </a:cubicBezTo>
                  <a:lnTo>
                    <a:pt x="3600450" y="792162"/>
                  </a:lnTo>
                  <a:lnTo>
                    <a:pt x="3600450" y="792162"/>
                  </a:lnTo>
                  <a:lnTo>
                    <a:pt x="0" y="792162"/>
                  </a:lnTo>
                  <a:lnTo>
                    <a:pt x="0" y="792162"/>
                  </a:lnTo>
                  <a:lnTo>
                    <a:pt x="0" y="132029"/>
                  </a:lnTo>
                  <a:cubicBezTo>
                    <a:pt x="0" y="59111"/>
                    <a:pt x="59111" y="0"/>
                    <a:pt x="13202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46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矩形​​ 20"/>
            <p:cNvSpPr/>
            <p:nvPr/>
          </p:nvSpPr>
          <p:spPr>
            <a:xfrm>
              <a:off x="1910160" y="261612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录入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矩形​​ 22"/>
            <p:cNvSpPr/>
            <p:nvPr/>
          </p:nvSpPr>
          <p:spPr>
            <a:xfrm>
              <a:off x="1680840" y="191304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组合 12"/>
          <p:cNvGrpSpPr/>
          <p:nvPr/>
        </p:nvGrpSpPr>
        <p:grpSpPr>
          <a:xfrm>
            <a:off x="4927680" y="1273320"/>
            <a:ext cx="3600360" cy="1800000"/>
            <a:chOff x="4927680" y="1273320"/>
            <a:chExt cx="3600360" cy="1800000"/>
          </a:xfrm>
        </p:grpSpPr>
        <p:sp>
          <p:nvSpPr>
            <p:cNvPr id="411" name="圆角矩形​​ 14"/>
            <p:cNvSpPr/>
            <p:nvPr/>
          </p:nvSpPr>
          <p:spPr>
            <a:xfrm>
              <a:off x="4927680" y="1273320"/>
              <a:ext cx="3600360" cy="1800000"/>
            </a:xfrm>
            <a:prstGeom prst="roundRect">
              <a:avLst>
                <a:gd name="adj" fmla="val 9949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矩形​​ 21"/>
            <p:cNvSpPr/>
            <p:nvPr/>
          </p:nvSpPr>
          <p:spPr>
            <a:xfrm>
              <a:off x="6225120" y="261612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录入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同侧圆角矩形 15"/>
            <p:cNvSpPr/>
            <p:nvPr/>
          </p:nvSpPr>
          <p:spPr>
            <a:xfrm>
              <a:off x="4927680" y="1273320"/>
              <a:ext cx="3600360" cy="792000"/>
            </a:xfrm>
            <a:custGeom>
              <a:avLst/>
              <a:gdLst/>
              <a:ahLst/>
              <a:rect l="l" t="t" r="r" b="b"/>
              <a:pathLst>
                <a:path w="3600450" h="792162">
                  <a:moveTo>
                    <a:pt x="132029" y="0"/>
                  </a:moveTo>
                  <a:lnTo>
                    <a:pt x="3468420" y="0"/>
                  </a:lnTo>
                  <a:cubicBezTo>
                    <a:pt x="3541338" y="0"/>
                    <a:pt x="3600449" y="59111"/>
                    <a:pt x="3600449" y="132029"/>
                  </a:cubicBezTo>
                  <a:lnTo>
                    <a:pt x="3600450" y="792162"/>
                  </a:lnTo>
                  <a:lnTo>
                    <a:pt x="3600450" y="792162"/>
                  </a:lnTo>
                  <a:lnTo>
                    <a:pt x="0" y="792162"/>
                  </a:lnTo>
                  <a:lnTo>
                    <a:pt x="0" y="792162"/>
                  </a:lnTo>
                  <a:lnTo>
                    <a:pt x="0" y="132029"/>
                  </a:lnTo>
                  <a:cubicBezTo>
                    <a:pt x="0" y="59111"/>
                    <a:pt x="59111" y="0"/>
                    <a:pt x="13202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46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矩形​​ 23"/>
            <p:cNvSpPr/>
            <p:nvPr/>
          </p:nvSpPr>
          <p:spPr>
            <a:xfrm>
              <a:off x="5997240" y="191304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5" name="图片 2" descr="http://www.iconpng.com/png/vistasoftware/plus__orange.png"/>
          <p:cNvPicPr/>
          <p:nvPr/>
        </p:nvPicPr>
        <p:blipFill>
          <a:blip r:embed="rId1"/>
          <a:stretch/>
        </p:blipFill>
        <p:spPr>
          <a:xfrm>
            <a:off x="3924360" y="1706400"/>
            <a:ext cx="1295280" cy="12956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3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3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3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300"/>
                            </p:stCondLst>
                            <p:childTnLst>
                              <p:par>
                                <p:cTn id="247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3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3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3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600"/>
                            </p:stCondLst>
                            <p:childTnLst>
                              <p:par>
                                <p:cTn id="25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3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3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3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900"/>
                            </p:stCondLst>
                            <p:childTnLst>
                              <p:par>
                                <p:cTn id="259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3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3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3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200"/>
                            </p:stCondLst>
                            <p:childTnLst>
                              <p:par>
                                <p:cTn id="265" dur="indefinite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700"/>
                            </p:stCondLst>
                            <p:childTnLst>
                              <p:par>
                                <p:cTn id="27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3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3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3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3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3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3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300"/>
                            </p:stCondLst>
                            <p:childTnLst>
                              <p:par>
                                <p:cTn id="28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3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3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3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600"/>
                            </p:stCondLst>
                            <p:childTnLst>
                              <p:par>
                                <p:cTn id="290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3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3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3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椭圆 1"/>
          <p:cNvSpPr/>
          <p:nvPr/>
        </p:nvSpPr>
        <p:spPr>
          <a:xfrm>
            <a:off x="3170160" y="4869000"/>
            <a:ext cx="2847960" cy="868320"/>
          </a:xfrm>
          <a:prstGeom prst="ellipse">
            <a:avLst/>
          </a:prstGeom>
          <a:gradFill rotWithShape="0">
            <a:gsLst>
              <a:gs pos="0">
                <a:srgbClr val="000000">
                  <a:alpha val="7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" name="组合 2"/>
          <p:cNvGrpSpPr/>
          <p:nvPr/>
        </p:nvGrpSpPr>
        <p:grpSpPr>
          <a:xfrm>
            <a:off x="4518000" y="2092320"/>
            <a:ext cx="1585800" cy="3198960"/>
            <a:chOff x="4518000" y="2092320"/>
            <a:chExt cx="1585800" cy="3198960"/>
          </a:xfrm>
        </p:grpSpPr>
        <p:sp>
          <p:nvSpPr>
            <p:cNvPr id="418" name="Freeform 59"/>
            <p:cNvSpPr/>
            <p:nvPr/>
          </p:nvSpPr>
          <p:spPr>
            <a:xfrm>
              <a:off x="5105520" y="2847240"/>
              <a:ext cx="498240" cy="590760"/>
            </a:xfrm>
            <a:custGeom>
              <a:avLst/>
              <a:gdLst/>
              <a:ahLst/>
              <a:rect l="l" t="t" r="r" b="b"/>
              <a:pathLst>
                <a:path w="154" h="182">
                  <a:moveTo>
                    <a:pt x="102" y="109"/>
                  </a:moveTo>
                  <a:cubicBezTo>
                    <a:pt x="154" y="46"/>
                    <a:pt x="154" y="46"/>
                    <a:pt x="154" y="46"/>
                  </a:cubicBezTo>
                  <a:cubicBezTo>
                    <a:pt x="69" y="0"/>
                    <a:pt x="69" y="0"/>
                    <a:pt x="69" y="0"/>
                  </a:cubicBezTo>
                  <a:cubicBezTo>
                    <a:pt x="18" y="63"/>
                    <a:pt x="18" y="63"/>
                    <a:pt x="18" y="63"/>
                  </a:cubicBezTo>
                  <a:cubicBezTo>
                    <a:pt x="0" y="84"/>
                    <a:pt x="0" y="114"/>
                    <a:pt x="17" y="131"/>
                  </a:cubicBezTo>
                  <a:cubicBezTo>
                    <a:pt x="20" y="133"/>
                    <a:pt x="22" y="135"/>
                    <a:pt x="25" y="136"/>
                  </a:cubicBezTo>
                  <a:cubicBezTo>
                    <a:pt x="110" y="182"/>
                    <a:pt x="110" y="182"/>
                    <a:pt x="110" y="182"/>
                  </a:cubicBezTo>
                  <a:cubicBezTo>
                    <a:pt x="107" y="181"/>
                    <a:pt x="105" y="179"/>
                    <a:pt x="102" y="177"/>
                  </a:cubicBezTo>
                  <a:cubicBezTo>
                    <a:pt x="85" y="160"/>
                    <a:pt x="85" y="130"/>
                    <a:pt x="102" y="109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ff6600"/>
                </a:gs>
              </a:gsLst>
              <a:lin ang="150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54"/>
            <p:cNvSpPr/>
            <p:nvPr/>
          </p:nvSpPr>
          <p:spPr>
            <a:xfrm>
              <a:off x="5142240" y="2092320"/>
              <a:ext cx="509400" cy="593640"/>
            </a:xfrm>
            <a:custGeom>
              <a:avLst/>
              <a:gdLst/>
              <a:ahLst/>
              <a:rect l="l" t="t" r="r" b="b"/>
              <a:pathLst>
                <a:path w="157" h="183">
                  <a:moveTo>
                    <a:pt x="102" y="65"/>
                  </a:moveTo>
                  <a:cubicBezTo>
                    <a:pt x="111" y="55"/>
                    <a:pt x="122" y="48"/>
                    <a:pt x="133" y="47"/>
                  </a:cubicBezTo>
                  <a:cubicBezTo>
                    <a:pt x="142" y="46"/>
                    <a:pt x="150" y="47"/>
                    <a:pt x="157" y="51"/>
                  </a:cubicBezTo>
                  <a:cubicBezTo>
                    <a:pt x="129" y="36"/>
                    <a:pt x="101" y="20"/>
                    <a:pt x="72" y="5"/>
                  </a:cubicBezTo>
                  <a:cubicBezTo>
                    <a:pt x="65" y="1"/>
                    <a:pt x="57" y="0"/>
                    <a:pt x="49" y="1"/>
                  </a:cubicBezTo>
                  <a:cubicBezTo>
                    <a:pt x="37" y="2"/>
                    <a:pt x="26" y="9"/>
                    <a:pt x="17" y="19"/>
                  </a:cubicBezTo>
                  <a:cubicBezTo>
                    <a:pt x="0" y="40"/>
                    <a:pt x="0" y="71"/>
                    <a:pt x="17" y="87"/>
                  </a:cubicBezTo>
                  <a:cubicBezTo>
                    <a:pt x="70" y="137"/>
                    <a:pt x="70" y="137"/>
                    <a:pt x="70" y="137"/>
                  </a:cubicBezTo>
                  <a:cubicBezTo>
                    <a:pt x="155" y="183"/>
                    <a:pt x="155" y="183"/>
                    <a:pt x="155" y="183"/>
                  </a:cubicBezTo>
                  <a:cubicBezTo>
                    <a:pt x="102" y="133"/>
                    <a:pt x="102" y="133"/>
                    <a:pt x="102" y="133"/>
                  </a:cubicBezTo>
                  <a:cubicBezTo>
                    <a:pt x="85" y="117"/>
                    <a:pt x="85" y="86"/>
                    <a:pt x="102" y="65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ffc000"/>
                </a:gs>
              </a:gsLst>
              <a:lin ang="150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71"/>
            <p:cNvSpPr/>
            <p:nvPr/>
          </p:nvSpPr>
          <p:spPr>
            <a:xfrm>
              <a:off x="4772880" y="2215440"/>
              <a:ext cx="1330920" cy="3075840"/>
            </a:xfrm>
            <a:custGeom>
              <a:avLst/>
              <a:gdLst/>
              <a:ahLst/>
              <a:rect l="l" t="t" r="r" b="b"/>
              <a:pathLst>
                <a:path w="410" h="948">
                  <a:moveTo>
                    <a:pt x="232" y="1"/>
                  </a:moveTo>
                  <a:cubicBezTo>
                    <a:pt x="244" y="0"/>
                    <a:pt x="255" y="3"/>
                    <a:pt x="264" y="11"/>
                  </a:cubicBezTo>
                  <a:cubicBezTo>
                    <a:pt x="394" y="134"/>
                    <a:pt x="394" y="134"/>
                    <a:pt x="394" y="134"/>
                  </a:cubicBezTo>
                  <a:cubicBezTo>
                    <a:pt x="396" y="135"/>
                    <a:pt x="398" y="137"/>
                    <a:pt x="399" y="139"/>
                  </a:cubicBezTo>
                  <a:cubicBezTo>
                    <a:pt x="409" y="154"/>
                    <a:pt x="410" y="172"/>
                    <a:pt x="402" y="188"/>
                  </a:cubicBezTo>
                  <a:cubicBezTo>
                    <a:pt x="400" y="193"/>
                    <a:pt x="398" y="198"/>
                    <a:pt x="394" y="201"/>
                  </a:cubicBezTo>
                  <a:cubicBezTo>
                    <a:pt x="263" y="361"/>
                    <a:pt x="263" y="361"/>
                    <a:pt x="263" y="361"/>
                  </a:cubicBezTo>
                  <a:cubicBezTo>
                    <a:pt x="254" y="372"/>
                    <a:pt x="243" y="378"/>
                    <a:pt x="232" y="380"/>
                  </a:cubicBezTo>
                  <a:cubicBezTo>
                    <a:pt x="220" y="381"/>
                    <a:pt x="209" y="378"/>
                    <a:pt x="200" y="370"/>
                  </a:cubicBezTo>
                  <a:cubicBezTo>
                    <a:pt x="183" y="354"/>
                    <a:pt x="183" y="323"/>
                    <a:pt x="200" y="302"/>
                  </a:cubicBezTo>
                  <a:cubicBezTo>
                    <a:pt x="252" y="240"/>
                    <a:pt x="252" y="240"/>
                    <a:pt x="252" y="240"/>
                  </a:cubicBezTo>
                  <a:cubicBezTo>
                    <a:pt x="223" y="244"/>
                    <a:pt x="223" y="244"/>
                    <a:pt x="223" y="244"/>
                  </a:cubicBezTo>
                  <a:cubicBezTo>
                    <a:pt x="153" y="254"/>
                    <a:pt x="96" y="323"/>
                    <a:pt x="96" y="398"/>
                  </a:cubicBezTo>
                  <a:cubicBezTo>
                    <a:pt x="95" y="887"/>
                    <a:pt x="95" y="887"/>
                    <a:pt x="95" y="887"/>
                  </a:cubicBezTo>
                  <a:cubicBezTo>
                    <a:pt x="95" y="915"/>
                    <a:pt x="74" y="941"/>
                    <a:pt x="48" y="945"/>
                  </a:cubicBezTo>
                  <a:cubicBezTo>
                    <a:pt x="22" y="948"/>
                    <a:pt x="0" y="929"/>
                    <a:pt x="0" y="900"/>
                  </a:cubicBezTo>
                  <a:cubicBezTo>
                    <a:pt x="1" y="411"/>
                    <a:pt x="1" y="411"/>
                    <a:pt x="1" y="411"/>
                  </a:cubicBezTo>
                  <a:cubicBezTo>
                    <a:pt x="2" y="279"/>
                    <a:pt x="101" y="159"/>
                    <a:pt x="223" y="141"/>
                  </a:cubicBezTo>
                  <a:cubicBezTo>
                    <a:pt x="254" y="137"/>
                    <a:pt x="254" y="137"/>
                    <a:pt x="254" y="137"/>
                  </a:cubicBezTo>
                  <a:cubicBezTo>
                    <a:pt x="201" y="87"/>
                    <a:pt x="201" y="87"/>
                    <a:pt x="201" y="87"/>
                  </a:cubicBezTo>
                  <a:cubicBezTo>
                    <a:pt x="184" y="71"/>
                    <a:pt x="184" y="41"/>
                    <a:pt x="201" y="20"/>
                  </a:cubicBezTo>
                  <a:cubicBezTo>
                    <a:pt x="210" y="9"/>
                    <a:pt x="221" y="3"/>
                    <a:pt x="232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ff6600"/>
                </a:gs>
              </a:gsLst>
              <a:lin ang="150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75"/>
            <p:cNvSpPr/>
            <p:nvPr/>
          </p:nvSpPr>
          <p:spPr>
            <a:xfrm>
              <a:off x="4518000" y="2516400"/>
              <a:ext cx="1094760" cy="2757960"/>
            </a:xfrm>
            <a:custGeom>
              <a:avLst/>
              <a:gdLst/>
              <a:ahLst/>
              <a:rect l="l" t="t" r="r" b="b"/>
              <a:pathLst>
                <a:path w="338" h="849">
                  <a:moveTo>
                    <a:pt x="253" y="0"/>
                  </a:moveTo>
                  <a:cubicBezTo>
                    <a:pt x="222" y="4"/>
                    <a:pt x="222" y="4"/>
                    <a:pt x="222" y="4"/>
                  </a:cubicBezTo>
                  <a:cubicBezTo>
                    <a:pt x="100" y="21"/>
                    <a:pt x="1" y="142"/>
                    <a:pt x="0" y="273"/>
                  </a:cubicBezTo>
                  <a:cubicBezTo>
                    <a:pt x="0" y="763"/>
                    <a:pt x="0" y="763"/>
                    <a:pt x="0" y="763"/>
                  </a:cubicBezTo>
                  <a:cubicBezTo>
                    <a:pt x="0" y="781"/>
                    <a:pt x="8" y="796"/>
                    <a:pt x="22" y="803"/>
                  </a:cubicBezTo>
                  <a:cubicBezTo>
                    <a:pt x="106" y="849"/>
                    <a:pt x="106" y="849"/>
                    <a:pt x="106" y="849"/>
                  </a:cubicBezTo>
                  <a:cubicBezTo>
                    <a:pt x="93" y="842"/>
                    <a:pt x="84" y="827"/>
                    <a:pt x="84" y="809"/>
                  </a:cubicBezTo>
                  <a:cubicBezTo>
                    <a:pt x="85" y="320"/>
                    <a:pt x="85" y="320"/>
                    <a:pt x="85" y="320"/>
                  </a:cubicBezTo>
                  <a:cubicBezTo>
                    <a:pt x="86" y="188"/>
                    <a:pt x="185" y="67"/>
                    <a:pt x="307" y="50"/>
                  </a:cubicBezTo>
                  <a:cubicBezTo>
                    <a:pt x="338" y="46"/>
                    <a:pt x="338" y="46"/>
                    <a:pt x="338" y="46"/>
                  </a:cubicBezTo>
                  <a:lnTo>
                    <a:pt x="25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ff6600"/>
                </a:gs>
              </a:gsLst>
              <a:lin ang="150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组合 7"/>
          <p:cNvGrpSpPr/>
          <p:nvPr/>
        </p:nvGrpSpPr>
        <p:grpSpPr>
          <a:xfrm>
            <a:off x="3807000" y="1149480"/>
            <a:ext cx="1428480" cy="4225680"/>
            <a:chOff x="3807000" y="1149480"/>
            <a:chExt cx="1428480" cy="4225680"/>
          </a:xfrm>
        </p:grpSpPr>
        <p:sp>
          <p:nvSpPr>
            <p:cNvPr id="423" name="Freeform 27"/>
            <p:cNvSpPr/>
            <p:nvPr/>
          </p:nvSpPr>
          <p:spPr>
            <a:xfrm>
              <a:off x="4219920" y="1731240"/>
              <a:ext cx="347400" cy="3624840"/>
            </a:xfrm>
            <a:custGeom>
              <a:avLst/>
              <a:gdLst/>
              <a:ahLst/>
              <a:rect l="l" t="t" r="r" b="b"/>
              <a:pathLst>
                <a:path w="107" h="1117">
                  <a:moveTo>
                    <a:pt x="85" y="1077"/>
                  </a:moveTo>
                  <a:cubicBezTo>
                    <a:pt x="87" y="46"/>
                    <a:pt x="87" y="46"/>
                    <a:pt x="87" y="46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0" y="1031"/>
                    <a:pt x="0" y="1031"/>
                    <a:pt x="0" y="1031"/>
                  </a:cubicBezTo>
                  <a:cubicBezTo>
                    <a:pt x="0" y="1049"/>
                    <a:pt x="9" y="1064"/>
                    <a:pt x="22" y="1071"/>
                  </a:cubicBezTo>
                  <a:cubicBezTo>
                    <a:pt x="107" y="1117"/>
                    <a:pt x="107" y="1117"/>
                    <a:pt x="107" y="1117"/>
                  </a:cubicBezTo>
                  <a:cubicBezTo>
                    <a:pt x="94" y="1110"/>
                    <a:pt x="85" y="1095"/>
                    <a:pt x="85" y="1077"/>
                  </a:cubicBezTo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11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3"/>
            <p:cNvSpPr/>
            <p:nvPr/>
          </p:nvSpPr>
          <p:spPr>
            <a:xfrm>
              <a:off x="4071600" y="1288800"/>
              <a:ext cx="1163880" cy="4086360"/>
            </a:xfrm>
            <a:custGeom>
              <a:avLst/>
              <a:gdLst/>
              <a:ahLst/>
              <a:rect l="l" t="t" r="r" b="b"/>
              <a:pathLst>
                <a:path w="359" h="1259">
                  <a:moveTo>
                    <a:pt x="180" y="1"/>
                  </a:moveTo>
                  <a:cubicBezTo>
                    <a:pt x="189" y="0"/>
                    <a:pt x="197" y="1"/>
                    <a:pt x="205" y="5"/>
                  </a:cubicBezTo>
                  <a:cubicBezTo>
                    <a:pt x="208" y="8"/>
                    <a:pt x="210" y="9"/>
                    <a:pt x="212" y="11"/>
                  </a:cubicBezTo>
                  <a:cubicBezTo>
                    <a:pt x="342" y="134"/>
                    <a:pt x="342" y="134"/>
                    <a:pt x="342" y="134"/>
                  </a:cubicBezTo>
                  <a:cubicBezTo>
                    <a:pt x="359" y="150"/>
                    <a:pt x="359" y="180"/>
                    <a:pt x="342" y="201"/>
                  </a:cubicBezTo>
                  <a:cubicBezTo>
                    <a:pt x="333" y="212"/>
                    <a:pt x="322" y="218"/>
                    <a:pt x="311" y="220"/>
                  </a:cubicBezTo>
                  <a:cubicBezTo>
                    <a:pt x="299" y="221"/>
                    <a:pt x="288" y="218"/>
                    <a:pt x="279" y="210"/>
                  </a:cubicBezTo>
                  <a:cubicBezTo>
                    <a:pt x="223" y="157"/>
                    <a:pt x="223" y="157"/>
                    <a:pt x="223" y="157"/>
                  </a:cubicBezTo>
                  <a:cubicBezTo>
                    <a:pt x="221" y="1198"/>
                    <a:pt x="221" y="1198"/>
                    <a:pt x="221" y="1198"/>
                  </a:cubicBezTo>
                  <a:cubicBezTo>
                    <a:pt x="221" y="1226"/>
                    <a:pt x="200" y="1252"/>
                    <a:pt x="173" y="1256"/>
                  </a:cubicBezTo>
                  <a:cubicBezTo>
                    <a:pt x="147" y="1259"/>
                    <a:pt x="126" y="1239"/>
                    <a:pt x="126" y="1211"/>
                  </a:cubicBezTo>
                  <a:cubicBezTo>
                    <a:pt x="128" y="180"/>
                    <a:pt x="128" y="180"/>
                    <a:pt x="128" y="180"/>
                  </a:cubicBezTo>
                  <a:cubicBezTo>
                    <a:pt x="80" y="238"/>
                    <a:pt x="80" y="238"/>
                    <a:pt x="80" y="238"/>
                  </a:cubicBezTo>
                  <a:cubicBezTo>
                    <a:pt x="72" y="249"/>
                    <a:pt x="60" y="255"/>
                    <a:pt x="49" y="257"/>
                  </a:cubicBezTo>
                  <a:cubicBezTo>
                    <a:pt x="37" y="258"/>
                    <a:pt x="26" y="255"/>
                    <a:pt x="17" y="247"/>
                  </a:cubicBezTo>
                  <a:cubicBezTo>
                    <a:pt x="0" y="231"/>
                    <a:pt x="0" y="200"/>
                    <a:pt x="18" y="179"/>
                  </a:cubicBezTo>
                  <a:cubicBezTo>
                    <a:pt x="149" y="19"/>
                    <a:pt x="149" y="19"/>
                    <a:pt x="149" y="19"/>
                  </a:cubicBezTo>
                  <a:cubicBezTo>
                    <a:pt x="152" y="15"/>
                    <a:pt x="156" y="12"/>
                    <a:pt x="160" y="9"/>
                  </a:cubicBezTo>
                  <a:cubicBezTo>
                    <a:pt x="166" y="5"/>
                    <a:pt x="173" y="2"/>
                    <a:pt x="18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990000"/>
                </a:gs>
              </a:gsLst>
              <a:lin ang="11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32"/>
            <p:cNvSpPr/>
            <p:nvPr/>
          </p:nvSpPr>
          <p:spPr>
            <a:xfrm>
              <a:off x="3807000" y="1149480"/>
              <a:ext cx="938520" cy="967320"/>
            </a:xfrm>
            <a:custGeom>
              <a:avLst/>
              <a:gdLst/>
              <a:ahLst/>
              <a:rect l="l" t="t" r="r" b="b"/>
              <a:pathLst>
                <a:path w="289" h="298">
                  <a:moveTo>
                    <a:pt x="204" y="5"/>
                  </a:moveTo>
                  <a:cubicBezTo>
                    <a:pt x="197" y="1"/>
                    <a:pt x="189" y="0"/>
                    <a:pt x="180" y="1"/>
                  </a:cubicBezTo>
                  <a:cubicBezTo>
                    <a:pt x="173" y="2"/>
                    <a:pt x="166" y="5"/>
                    <a:pt x="160" y="9"/>
                  </a:cubicBezTo>
                  <a:cubicBezTo>
                    <a:pt x="156" y="12"/>
                    <a:pt x="152" y="15"/>
                    <a:pt x="149" y="19"/>
                  </a:cubicBezTo>
                  <a:cubicBezTo>
                    <a:pt x="18" y="179"/>
                    <a:pt x="18" y="179"/>
                    <a:pt x="18" y="179"/>
                  </a:cubicBezTo>
                  <a:cubicBezTo>
                    <a:pt x="0" y="200"/>
                    <a:pt x="0" y="230"/>
                    <a:pt x="18" y="247"/>
                  </a:cubicBezTo>
                  <a:cubicBezTo>
                    <a:pt x="20" y="249"/>
                    <a:pt x="23" y="251"/>
                    <a:pt x="25" y="252"/>
                  </a:cubicBezTo>
                  <a:cubicBezTo>
                    <a:pt x="52" y="267"/>
                    <a:pt x="79" y="282"/>
                    <a:pt x="106" y="296"/>
                  </a:cubicBezTo>
                  <a:cubicBezTo>
                    <a:pt x="107" y="297"/>
                    <a:pt x="109" y="298"/>
                    <a:pt x="110" y="298"/>
                  </a:cubicBezTo>
                  <a:cubicBezTo>
                    <a:pt x="107" y="297"/>
                    <a:pt x="105" y="295"/>
                    <a:pt x="102" y="293"/>
                  </a:cubicBezTo>
                  <a:cubicBezTo>
                    <a:pt x="85" y="277"/>
                    <a:pt x="85" y="246"/>
                    <a:pt x="103" y="225"/>
                  </a:cubicBezTo>
                  <a:cubicBezTo>
                    <a:pt x="234" y="65"/>
                    <a:pt x="234" y="65"/>
                    <a:pt x="234" y="65"/>
                  </a:cubicBezTo>
                  <a:cubicBezTo>
                    <a:pt x="237" y="61"/>
                    <a:pt x="241" y="58"/>
                    <a:pt x="245" y="55"/>
                  </a:cubicBezTo>
                  <a:cubicBezTo>
                    <a:pt x="251" y="51"/>
                    <a:pt x="258" y="48"/>
                    <a:pt x="265" y="47"/>
                  </a:cubicBezTo>
                  <a:cubicBezTo>
                    <a:pt x="273" y="46"/>
                    <a:pt x="282" y="47"/>
                    <a:pt x="289" y="51"/>
                  </a:cubicBezTo>
                  <a:lnTo>
                    <a:pt x="204" y="5"/>
                  </a:lnTo>
                  <a:close/>
                </a:path>
              </a:pathLst>
            </a:custGeom>
            <a:gradFill rotWithShape="0">
              <a:gsLst>
                <a:gs pos="0">
                  <a:srgbClr val="ffc000"/>
                </a:gs>
                <a:gs pos="100000">
                  <a:srgbClr val="ff0000"/>
                </a:gs>
              </a:gsLst>
              <a:lin ang="10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组合 11"/>
          <p:cNvGrpSpPr/>
          <p:nvPr/>
        </p:nvGrpSpPr>
        <p:grpSpPr>
          <a:xfrm>
            <a:off x="2916360" y="3059280"/>
            <a:ext cx="1560240" cy="2328840"/>
            <a:chOff x="2916360" y="3059280"/>
            <a:chExt cx="1560240" cy="2328840"/>
          </a:xfrm>
        </p:grpSpPr>
        <p:sp>
          <p:nvSpPr>
            <p:cNvPr id="427" name="Freeform 67"/>
            <p:cNvSpPr/>
            <p:nvPr/>
          </p:nvSpPr>
          <p:spPr>
            <a:xfrm>
              <a:off x="3421800" y="3504240"/>
              <a:ext cx="727200" cy="219240"/>
            </a:xfrm>
            <a:custGeom>
              <a:avLst/>
              <a:gdLst/>
              <a:ahLst/>
              <a:rect l="l" t="t" r="r" b="b"/>
              <a:pathLst>
                <a:path w="224" h="67">
                  <a:moveTo>
                    <a:pt x="22" y="0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85" y="49"/>
                    <a:pt x="85" y="49"/>
                    <a:pt x="85" y="49"/>
                  </a:cubicBezTo>
                  <a:cubicBezTo>
                    <a:pt x="107" y="46"/>
                    <a:pt x="107" y="46"/>
                    <a:pt x="107" y="46"/>
                  </a:cubicBezTo>
                  <a:cubicBezTo>
                    <a:pt x="150" y="40"/>
                    <a:pt x="190" y="48"/>
                    <a:pt x="224" y="67"/>
                  </a:cubicBezTo>
                </a:path>
              </a:pathLst>
            </a:custGeom>
            <a:gradFill rotWithShape="0">
              <a:gsLst>
                <a:gs pos="0">
                  <a:srgbClr val="fece02"/>
                </a:gs>
                <a:gs pos="100000">
                  <a:srgbClr val="c73e01"/>
                </a:gs>
              </a:gsLst>
              <a:lin ang="19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42"/>
            <p:cNvSpPr/>
            <p:nvPr/>
          </p:nvSpPr>
          <p:spPr>
            <a:xfrm>
              <a:off x="3706200" y="3873600"/>
              <a:ext cx="532800" cy="1488960"/>
            </a:xfrm>
            <a:custGeom>
              <a:avLst/>
              <a:gdLst/>
              <a:ahLst/>
              <a:rect l="l" t="t" r="r" b="b"/>
              <a:pathLst>
                <a:path w="164" h="459">
                  <a:moveTo>
                    <a:pt x="142" y="419"/>
                  </a:moveTo>
                  <a:cubicBezTo>
                    <a:pt x="143" y="153"/>
                    <a:pt x="143" y="153"/>
                    <a:pt x="143" y="153"/>
                  </a:cubicBezTo>
                  <a:cubicBezTo>
                    <a:pt x="143" y="104"/>
                    <a:pt x="120" y="65"/>
                    <a:pt x="84" y="46"/>
                  </a:cubicBezTo>
                  <a:cubicBezTo>
                    <a:pt x="56" y="31"/>
                    <a:pt x="28" y="15"/>
                    <a:pt x="0" y="0"/>
                  </a:cubicBezTo>
                  <a:cubicBezTo>
                    <a:pt x="35" y="19"/>
                    <a:pt x="58" y="58"/>
                    <a:pt x="58" y="107"/>
                  </a:cubicBezTo>
                  <a:cubicBezTo>
                    <a:pt x="58" y="373"/>
                    <a:pt x="58" y="373"/>
                    <a:pt x="58" y="373"/>
                  </a:cubicBezTo>
                  <a:cubicBezTo>
                    <a:pt x="58" y="391"/>
                    <a:pt x="66" y="406"/>
                    <a:pt x="80" y="413"/>
                  </a:cubicBezTo>
                  <a:cubicBezTo>
                    <a:pt x="94" y="421"/>
                    <a:pt x="108" y="428"/>
                    <a:pt x="122" y="436"/>
                  </a:cubicBezTo>
                  <a:cubicBezTo>
                    <a:pt x="136" y="444"/>
                    <a:pt x="150" y="452"/>
                    <a:pt x="164" y="459"/>
                  </a:cubicBezTo>
                  <a:cubicBezTo>
                    <a:pt x="151" y="452"/>
                    <a:pt x="142" y="437"/>
                    <a:pt x="142" y="419"/>
                  </a:cubicBezTo>
                  <a:close/>
                </a:path>
              </a:pathLst>
            </a:custGeom>
            <a:gradFill rotWithShape="0">
              <a:gsLst>
                <a:gs pos="0">
                  <a:srgbClr val="fece02"/>
                </a:gs>
                <a:gs pos="100000">
                  <a:srgbClr val="c73e01"/>
                </a:gs>
              </a:gsLst>
              <a:lin ang="210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38"/>
            <p:cNvSpPr/>
            <p:nvPr/>
          </p:nvSpPr>
          <p:spPr>
            <a:xfrm>
              <a:off x="3180240" y="3195720"/>
              <a:ext cx="1296360" cy="2192400"/>
            </a:xfrm>
            <a:custGeom>
              <a:avLst/>
              <a:gdLst/>
              <a:ahLst/>
              <a:rect l="l" t="t" r="r" b="b"/>
              <a:pathLst>
                <a:path w="399" h="676">
                  <a:moveTo>
                    <a:pt x="178" y="2"/>
                  </a:moveTo>
                  <a:cubicBezTo>
                    <a:pt x="190" y="0"/>
                    <a:pt x="201" y="4"/>
                    <a:pt x="210" y="12"/>
                  </a:cubicBezTo>
                  <a:cubicBezTo>
                    <a:pt x="227" y="28"/>
                    <a:pt x="227" y="58"/>
                    <a:pt x="210" y="79"/>
                  </a:cubicBezTo>
                  <a:cubicBezTo>
                    <a:pt x="157" y="144"/>
                    <a:pt x="157" y="144"/>
                    <a:pt x="157" y="144"/>
                  </a:cubicBezTo>
                  <a:cubicBezTo>
                    <a:pt x="178" y="141"/>
                    <a:pt x="178" y="141"/>
                    <a:pt x="178" y="141"/>
                  </a:cubicBezTo>
                  <a:cubicBezTo>
                    <a:pt x="300" y="124"/>
                    <a:pt x="399" y="217"/>
                    <a:pt x="399" y="348"/>
                  </a:cubicBezTo>
                  <a:cubicBezTo>
                    <a:pt x="398" y="615"/>
                    <a:pt x="398" y="615"/>
                    <a:pt x="398" y="615"/>
                  </a:cubicBezTo>
                  <a:cubicBezTo>
                    <a:pt x="398" y="643"/>
                    <a:pt x="377" y="669"/>
                    <a:pt x="351" y="673"/>
                  </a:cubicBezTo>
                  <a:cubicBezTo>
                    <a:pt x="325" y="676"/>
                    <a:pt x="303" y="656"/>
                    <a:pt x="303" y="628"/>
                  </a:cubicBezTo>
                  <a:cubicBezTo>
                    <a:pt x="304" y="362"/>
                    <a:pt x="304" y="362"/>
                    <a:pt x="304" y="362"/>
                  </a:cubicBezTo>
                  <a:cubicBezTo>
                    <a:pt x="304" y="287"/>
                    <a:pt x="248" y="234"/>
                    <a:pt x="178" y="243"/>
                  </a:cubicBezTo>
                  <a:cubicBezTo>
                    <a:pt x="158" y="246"/>
                    <a:pt x="158" y="246"/>
                    <a:pt x="158" y="246"/>
                  </a:cubicBezTo>
                  <a:cubicBezTo>
                    <a:pt x="209" y="294"/>
                    <a:pt x="209" y="294"/>
                    <a:pt x="209" y="294"/>
                  </a:cubicBezTo>
                  <a:cubicBezTo>
                    <a:pt x="227" y="311"/>
                    <a:pt x="226" y="341"/>
                    <a:pt x="209" y="362"/>
                  </a:cubicBezTo>
                  <a:cubicBezTo>
                    <a:pt x="200" y="373"/>
                    <a:pt x="189" y="379"/>
                    <a:pt x="178" y="381"/>
                  </a:cubicBezTo>
                  <a:cubicBezTo>
                    <a:pt x="166" y="382"/>
                    <a:pt x="155" y="379"/>
                    <a:pt x="146" y="371"/>
                  </a:cubicBezTo>
                  <a:cubicBezTo>
                    <a:pt x="16" y="248"/>
                    <a:pt x="16" y="248"/>
                    <a:pt x="16" y="248"/>
                  </a:cubicBezTo>
                  <a:cubicBezTo>
                    <a:pt x="12" y="245"/>
                    <a:pt x="10" y="241"/>
                    <a:pt x="8" y="238"/>
                  </a:cubicBezTo>
                  <a:cubicBezTo>
                    <a:pt x="0" y="223"/>
                    <a:pt x="1" y="204"/>
                    <a:pt x="10" y="189"/>
                  </a:cubicBezTo>
                  <a:cubicBezTo>
                    <a:pt x="10" y="188"/>
                    <a:pt x="11" y="187"/>
                    <a:pt x="11" y="187"/>
                  </a:cubicBezTo>
                  <a:cubicBezTo>
                    <a:pt x="13" y="184"/>
                    <a:pt x="14" y="182"/>
                    <a:pt x="16" y="180"/>
                  </a:cubicBezTo>
                  <a:cubicBezTo>
                    <a:pt x="147" y="21"/>
                    <a:pt x="147" y="21"/>
                    <a:pt x="147" y="21"/>
                  </a:cubicBezTo>
                  <a:cubicBezTo>
                    <a:pt x="156" y="10"/>
                    <a:pt x="167" y="4"/>
                    <a:pt x="178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fece02"/>
                </a:gs>
                <a:gs pos="100000">
                  <a:srgbClr val="c73e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63"/>
            <p:cNvSpPr/>
            <p:nvPr/>
          </p:nvSpPr>
          <p:spPr>
            <a:xfrm>
              <a:off x="2916360" y="3059280"/>
              <a:ext cx="929880" cy="1366920"/>
            </a:xfrm>
            <a:custGeom>
              <a:avLst/>
              <a:gdLst/>
              <a:ahLst/>
              <a:rect l="l" t="t" r="r" b="b"/>
              <a:pathLst>
                <a:path w="287" h="421">
                  <a:moveTo>
                    <a:pt x="202" y="5"/>
                  </a:moveTo>
                  <a:cubicBezTo>
                    <a:pt x="195" y="1"/>
                    <a:pt x="187" y="0"/>
                    <a:pt x="179" y="1"/>
                  </a:cubicBezTo>
                  <a:cubicBezTo>
                    <a:pt x="167" y="3"/>
                    <a:pt x="156" y="9"/>
                    <a:pt x="147" y="19"/>
                  </a:cubicBezTo>
                  <a:cubicBezTo>
                    <a:pt x="16" y="179"/>
                    <a:pt x="16" y="179"/>
                    <a:pt x="16" y="179"/>
                  </a:cubicBezTo>
                  <a:cubicBezTo>
                    <a:pt x="14" y="181"/>
                    <a:pt x="13" y="183"/>
                    <a:pt x="11" y="185"/>
                  </a:cubicBezTo>
                  <a:cubicBezTo>
                    <a:pt x="11" y="186"/>
                    <a:pt x="11" y="187"/>
                    <a:pt x="10" y="187"/>
                  </a:cubicBezTo>
                  <a:cubicBezTo>
                    <a:pt x="1" y="203"/>
                    <a:pt x="0" y="222"/>
                    <a:pt x="8" y="236"/>
                  </a:cubicBezTo>
                  <a:cubicBezTo>
                    <a:pt x="10" y="240"/>
                    <a:pt x="13" y="244"/>
                    <a:pt x="16" y="247"/>
                  </a:cubicBezTo>
                  <a:cubicBezTo>
                    <a:pt x="146" y="370"/>
                    <a:pt x="146" y="370"/>
                    <a:pt x="146" y="370"/>
                  </a:cubicBezTo>
                  <a:cubicBezTo>
                    <a:pt x="149" y="372"/>
                    <a:pt x="151" y="374"/>
                    <a:pt x="154" y="375"/>
                  </a:cubicBezTo>
                  <a:cubicBezTo>
                    <a:pt x="181" y="390"/>
                    <a:pt x="208" y="405"/>
                    <a:pt x="235" y="419"/>
                  </a:cubicBezTo>
                  <a:cubicBezTo>
                    <a:pt x="236" y="420"/>
                    <a:pt x="238" y="421"/>
                    <a:pt x="239" y="421"/>
                  </a:cubicBezTo>
                  <a:cubicBezTo>
                    <a:pt x="236" y="420"/>
                    <a:pt x="234" y="418"/>
                    <a:pt x="231" y="416"/>
                  </a:cubicBezTo>
                  <a:cubicBezTo>
                    <a:pt x="101" y="293"/>
                    <a:pt x="101" y="293"/>
                    <a:pt x="101" y="293"/>
                  </a:cubicBezTo>
                  <a:cubicBezTo>
                    <a:pt x="97" y="290"/>
                    <a:pt x="95" y="286"/>
                    <a:pt x="93" y="283"/>
                  </a:cubicBezTo>
                  <a:cubicBezTo>
                    <a:pt x="85" y="268"/>
                    <a:pt x="86" y="249"/>
                    <a:pt x="95" y="234"/>
                  </a:cubicBezTo>
                  <a:cubicBezTo>
                    <a:pt x="95" y="233"/>
                    <a:pt x="96" y="232"/>
                    <a:pt x="96" y="232"/>
                  </a:cubicBezTo>
                  <a:cubicBezTo>
                    <a:pt x="98" y="229"/>
                    <a:pt x="99" y="227"/>
                    <a:pt x="101" y="225"/>
                  </a:cubicBezTo>
                  <a:cubicBezTo>
                    <a:pt x="232" y="66"/>
                    <a:pt x="232" y="66"/>
                    <a:pt x="232" y="66"/>
                  </a:cubicBezTo>
                  <a:cubicBezTo>
                    <a:pt x="241" y="55"/>
                    <a:pt x="252" y="49"/>
                    <a:pt x="263" y="47"/>
                  </a:cubicBezTo>
                  <a:cubicBezTo>
                    <a:pt x="272" y="46"/>
                    <a:pt x="280" y="47"/>
                    <a:pt x="287" y="51"/>
                  </a:cubicBezTo>
                  <a:lnTo>
                    <a:pt x="202" y="5"/>
                  </a:lnTo>
                  <a:close/>
                </a:path>
              </a:pathLst>
            </a:custGeom>
            <a:gradFill rotWithShape="0">
              <a:gsLst>
                <a:gs pos="0">
                  <a:srgbClr val="fece02"/>
                </a:gs>
                <a:gs pos="100000">
                  <a:srgbClr val="c73e0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1" name="矩形 16"/>
          <p:cNvSpPr/>
          <p:nvPr/>
        </p:nvSpPr>
        <p:spPr>
          <a:xfrm>
            <a:off x="826920" y="3521160"/>
            <a:ext cx="20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中国首家演示设计交易平台。基于演示设计一站式在线演示、素材销售、服务交易系统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矩形 17"/>
          <p:cNvSpPr/>
          <p:nvPr/>
        </p:nvSpPr>
        <p:spPr>
          <a:xfrm>
            <a:off x="5457960" y="1149480"/>
            <a:ext cx="29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中国首家演示设计交易平台。基于演示设计一站式在线演示、素材销售、服务交易系统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矩形 18"/>
          <p:cNvSpPr/>
          <p:nvPr/>
        </p:nvSpPr>
        <p:spPr>
          <a:xfrm>
            <a:off x="6226200" y="2658960"/>
            <a:ext cx="230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中国首家演示设计交易平台。基于演示设计一站式在线演示、素材销售、服务交易系统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01" dur="3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300"/>
                            </p:stCondLst>
                            <p:childTnLst>
                              <p:par>
                                <p:cTn id="30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3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600"/>
                            </p:stCondLst>
                            <p:childTnLst>
                              <p:par>
                                <p:cTn id="307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100"/>
                            </p:stCondLst>
                            <p:childTnLst>
                              <p:par>
                                <p:cTn id="31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3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400"/>
                            </p:stCondLst>
                            <p:childTnLst>
                              <p:par>
                                <p:cTn id="31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900"/>
                            </p:stCondLst>
                            <p:childTnLst>
                              <p:par>
                                <p:cTn id="32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3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2200"/>
                            </p:stCondLst>
                            <p:childTnLst>
                              <p:par>
                                <p:cTn id="325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图片 1" descr="3DSYRW_4012.jpg"/>
          <p:cNvPicPr/>
          <p:nvPr/>
        </p:nvPicPr>
        <p:blipFill>
          <a:blip r:embed="rId1"/>
          <a:srcRect l="0" t="26181" r="0" b="19777"/>
          <a:stretch/>
        </p:blipFill>
        <p:spPr>
          <a:xfrm>
            <a:off x="1425600" y="912960"/>
            <a:ext cx="5989680" cy="2716200"/>
          </a:xfrm>
          <a:prstGeom prst="rect">
            <a:avLst/>
          </a:prstGeom>
          <a:ln w="0">
            <a:noFill/>
          </a:ln>
        </p:spPr>
      </p:pic>
      <p:sp>
        <p:nvSpPr>
          <p:cNvPr id="435" name="Rectangle 1"/>
          <p:cNvSpPr/>
          <p:nvPr/>
        </p:nvSpPr>
        <p:spPr>
          <a:xfrm>
            <a:off x="1682640" y="4847040"/>
            <a:ext cx="560088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90000"/>
                </a:solidFill>
                <a:latin typeface="微软雅黑"/>
                <a:ea typeface="微软雅黑"/>
              </a:rPr>
              <a:t>安排专人负责，分工明确，责任到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组合 3"/>
          <p:cNvGrpSpPr/>
          <p:nvPr/>
        </p:nvGrpSpPr>
        <p:grpSpPr>
          <a:xfrm>
            <a:off x="1258920" y="3710160"/>
            <a:ext cx="1746360" cy="999720"/>
            <a:chOff x="1258920" y="3710160"/>
            <a:chExt cx="1746360" cy="999720"/>
          </a:xfrm>
        </p:grpSpPr>
        <p:grpSp>
          <p:nvGrpSpPr>
            <p:cNvPr id="437" name="Group 21"/>
            <p:cNvGrpSpPr/>
            <p:nvPr/>
          </p:nvGrpSpPr>
          <p:grpSpPr>
            <a:xfrm>
              <a:off x="1258920" y="3710160"/>
              <a:ext cx="1746360" cy="999720"/>
              <a:chOff x="1258920" y="3710160"/>
              <a:chExt cx="1746360" cy="999720"/>
            </a:xfrm>
          </p:grpSpPr>
          <p:sp>
            <p:nvSpPr>
              <p:cNvPr id="438" name="未知"/>
              <p:cNvSpPr/>
              <p:nvPr/>
            </p:nvSpPr>
            <p:spPr>
              <a:xfrm flipH="1">
                <a:off x="2293920" y="4402080"/>
                <a:ext cx="711360" cy="307800"/>
              </a:xfrm>
              <a:custGeom>
                <a:avLst/>
                <a:gdLst/>
                <a:ahLst/>
                <a:rect l="l" t="t" r="r" b="b"/>
                <a:pathLst>
                  <a:path w="2331" h="688">
                    <a:moveTo>
                      <a:pt x="2331" y="688"/>
                    </a:moveTo>
                    <a:cubicBezTo>
                      <a:pt x="2331" y="688"/>
                      <a:pt x="208" y="159"/>
                      <a:pt x="104" y="138"/>
                    </a:cubicBezTo>
                    <a:cubicBezTo>
                      <a:pt x="0" y="118"/>
                      <a:pt x="2086" y="0"/>
                      <a:pt x="2086" y="0"/>
                    </a:cubicBezTo>
                    <a:lnTo>
                      <a:pt x="2331" y="6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50196"/>
                    </a:srgbClr>
                  </a:gs>
                  <a:gs pos="100000">
                    <a:srgbClr val="666666">
                      <a:alpha val="34117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未知"/>
              <p:cNvSpPr/>
              <p:nvPr/>
            </p:nvSpPr>
            <p:spPr>
              <a:xfrm>
                <a:off x="2359800" y="3766320"/>
                <a:ext cx="398520" cy="448200"/>
              </a:xfrm>
              <a:custGeom>
                <a:avLst/>
                <a:gdLst/>
                <a:ahLst/>
                <a:rect l="l" t="t" r="r" b="b"/>
                <a:pathLst>
                  <a:path w="238" h="268">
                    <a:moveTo>
                      <a:pt x="0" y="0"/>
                    </a:moveTo>
                    <a:lnTo>
                      <a:pt x="200" y="268"/>
                    </a:lnTo>
                    <a:lnTo>
                      <a:pt x="238" y="240"/>
                    </a:lnTo>
                    <a:lnTo>
                      <a:pt x="200" y="2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20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未知"/>
              <p:cNvSpPr/>
              <p:nvPr/>
            </p:nvSpPr>
            <p:spPr>
              <a:xfrm>
                <a:off x="2359800" y="3712680"/>
                <a:ext cx="66960" cy="53640"/>
              </a:xfrm>
              <a:custGeom>
                <a:avLst/>
                <a:gdLst/>
                <a:ahLst/>
                <a:rect l="l" t="t" r="r" b="b"/>
                <a:pathLst>
                  <a:path w="40" h="32">
                    <a:moveTo>
                      <a:pt x="0" y="32"/>
                    </a:moveTo>
                    <a:lnTo>
                      <a:pt x="40" y="0"/>
                    </a:lnTo>
                    <a:lnTo>
                      <a:pt x="0" y="3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020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未知"/>
              <p:cNvSpPr/>
              <p:nvPr/>
            </p:nvSpPr>
            <p:spPr>
              <a:xfrm>
                <a:off x="1258920" y="3766320"/>
                <a:ext cx="1434960" cy="942120"/>
              </a:xfrm>
              <a:custGeom>
                <a:avLst/>
                <a:gdLst/>
                <a:ahLst/>
                <a:rect l="l" t="t" r="r" b="b"/>
                <a:pathLst>
                  <a:path w="858" h="564">
                    <a:moveTo>
                      <a:pt x="658" y="0"/>
                    </a:moveTo>
                    <a:lnTo>
                      <a:pt x="0" y="0"/>
                    </a:lnTo>
                    <a:lnTo>
                      <a:pt x="0" y="564"/>
                    </a:lnTo>
                    <a:lnTo>
                      <a:pt x="630" y="564"/>
                    </a:lnTo>
                    <a:lnTo>
                      <a:pt x="858" y="268"/>
                    </a:lnTo>
                    <a:lnTo>
                      <a:pt x="65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00000"/>
                  </a:gs>
                  <a:gs pos="100000">
                    <a:srgbClr val="99000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42" name="未知" descr=""/>
              <p:cNvPicPr/>
              <p:nvPr/>
            </p:nvPicPr>
            <p:blipFill>
              <a:blip r:embed="rId2"/>
              <a:stretch/>
            </p:blipFill>
            <p:spPr>
              <a:xfrm>
                <a:off x="2359800" y="3712680"/>
                <a:ext cx="398520" cy="50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3" name="未知"/>
              <p:cNvSpPr/>
              <p:nvPr/>
            </p:nvSpPr>
            <p:spPr>
              <a:xfrm>
                <a:off x="2312280" y="4167720"/>
                <a:ext cx="446040" cy="541080"/>
              </a:xfrm>
              <a:custGeom>
                <a:avLst/>
                <a:gdLst/>
                <a:ahLst/>
                <a:rect l="l" t="t" r="r" b="b"/>
                <a:pathLst>
                  <a:path w="266" h="324">
                    <a:moveTo>
                      <a:pt x="266" y="0"/>
                    </a:moveTo>
                    <a:lnTo>
                      <a:pt x="228" y="28"/>
                    </a:lnTo>
                    <a:lnTo>
                      <a:pt x="0" y="324"/>
                    </a:lnTo>
                    <a:lnTo>
                      <a:pt x="12" y="324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未知"/>
              <p:cNvSpPr/>
              <p:nvPr/>
            </p:nvSpPr>
            <p:spPr>
              <a:xfrm>
                <a:off x="2312280" y="4708800"/>
                <a:ext cx="20160" cy="1080"/>
              </a:xfrm>
              <a:custGeom>
                <a:avLst/>
                <a:gdLst/>
                <a:ahLst/>
                <a:rect l="l" t="t" r="r" b="b"/>
                <a:pathLst>
                  <a:path w="12" h="1">
                    <a:moveTo>
                      <a:pt x="12" y="0"/>
                    </a:move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20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未知"/>
              <p:cNvSpPr/>
              <p:nvPr/>
            </p:nvSpPr>
            <p:spPr>
              <a:xfrm>
                <a:off x="2427120" y="3710160"/>
                <a:ext cx="9360" cy="252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4" y="0"/>
                    </a:moveTo>
                    <a:lnTo>
                      <a:pt x="0" y="2"/>
                    </a:lnTo>
                    <a:lnTo>
                      <a:pt x="6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20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未知"/>
              <p:cNvSpPr/>
              <p:nvPr/>
            </p:nvSpPr>
            <p:spPr>
              <a:xfrm>
                <a:off x="1258920" y="3712680"/>
                <a:ext cx="1168200" cy="53640"/>
              </a:xfrm>
              <a:custGeom>
                <a:avLst/>
                <a:gdLst/>
                <a:ahLst/>
                <a:rect l="l" t="t" r="r" b="b"/>
                <a:pathLst>
                  <a:path w="698" h="32">
                    <a:moveTo>
                      <a:pt x="658" y="32"/>
                    </a:moveTo>
                    <a:lnTo>
                      <a:pt x="698" y="0"/>
                    </a:lnTo>
                    <a:lnTo>
                      <a:pt x="64" y="0"/>
                    </a:lnTo>
                    <a:lnTo>
                      <a:pt x="0" y="32"/>
                    </a:lnTo>
                    <a:lnTo>
                      <a:pt x="658" y="32"/>
                    </a:lnTo>
                    <a:lnTo>
                      <a:pt x="658" y="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6600"/>
                  </a:gs>
                  <a:gs pos="100000">
                    <a:srgbClr val="ffc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7" name="矩形 5"/>
            <p:cNvSpPr/>
            <p:nvPr/>
          </p:nvSpPr>
          <p:spPr>
            <a:xfrm>
              <a:off x="1436760" y="4065480"/>
              <a:ext cx="908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书目提供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组合 15"/>
          <p:cNvGrpSpPr/>
          <p:nvPr/>
        </p:nvGrpSpPr>
        <p:grpSpPr>
          <a:xfrm>
            <a:off x="2550960" y="3710160"/>
            <a:ext cx="1784160" cy="998280"/>
            <a:chOff x="2550960" y="3710160"/>
            <a:chExt cx="1784160" cy="998280"/>
          </a:xfrm>
        </p:grpSpPr>
        <p:grpSp>
          <p:nvGrpSpPr>
            <p:cNvPr id="449" name="Group 32"/>
            <p:cNvGrpSpPr/>
            <p:nvPr/>
          </p:nvGrpSpPr>
          <p:grpSpPr>
            <a:xfrm>
              <a:off x="2550960" y="3710160"/>
              <a:ext cx="1784160" cy="998280"/>
              <a:chOff x="2550960" y="3710160"/>
              <a:chExt cx="1784160" cy="998280"/>
            </a:xfrm>
          </p:grpSpPr>
          <p:sp>
            <p:nvSpPr>
              <p:cNvPr id="450" name="未知"/>
              <p:cNvSpPr/>
              <p:nvPr/>
            </p:nvSpPr>
            <p:spPr>
              <a:xfrm flipH="1">
                <a:off x="3623760" y="4399920"/>
                <a:ext cx="711000" cy="308520"/>
              </a:xfrm>
              <a:custGeom>
                <a:avLst/>
                <a:gdLst/>
                <a:ahLst/>
                <a:rect l="l" t="t" r="r" b="b"/>
                <a:pathLst>
                  <a:path w="2331" h="688">
                    <a:moveTo>
                      <a:pt x="2331" y="688"/>
                    </a:moveTo>
                    <a:cubicBezTo>
                      <a:pt x="2331" y="688"/>
                      <a:pt x="208" y="159"/>
                      <a:pt x="104" y="138"/>
                    </a:cubicBezTo>
                    <a:cubicBezTo>
                      <a:pt x="0" y="118"/>
                      <a:pt x="2086" y="0"/>
                      <a:pt x="2086" y="0"/>
                    </a:cubicBezTo>
                    <a:lnTo>
                      <a:pt x="2331" y="6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50196"/>
                    </a:srgbClr>
                  </a:gs>
                  <a:gs pos="100000">
                    <a:srgbClr val="666666">
                      <a:alpha val="34117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未知"/>
              <p:cNvSpPr/>
              <p:nvPr/>
            </p:nvSpPr>
            <p:spPr>
              <a:xfrm>
                <a:off x="2550960" y="3763800"/>
                <a:ext cx="1404360" cy="942840"/>
              </a:xfrm>
              <a:custGeom>
                <a:avLst/>
                <a:gdLst/>
                <a:ahLst/>
                <a:rect l="l" t="t" r="r" b="b"/>
                <a:pathLst>
                  <a:path w="840" h="564">
                    <a:moveTo>
                      <a:pt x="840" y="282"/>
                    </a:moveTo>
                    <a:lnTo>
                      <a:pt x="840" y="282"/>
                    </a:lnTo>
                    <a:lnTo>
                      <a:pt x="648" y="2"/>
                    </a:lnTo>
                    <a:lnTo>
                      <a:pt x="0" y="0"/>
                    </a:lnTo>
                    <a:lnTo>
                      <a:pt x="200" y="282"/>
                    </a:lnTo>
                    <a:lnTo>
                      <a:pt x="4" y="564"/>
                    </a:lnTo>
                    <a:lnTo>
                      <a:pt x="626" y="564"/>
                    </a:lnTo>
                    <a:lnTo>
                      <a:pt x="840" y="28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00000"/>
                  </a:gs>
                  <a:gs pos="100000">
                    <a:srgbClr val="99000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未知"/>
              <p:cNvSpPr/>
              <p:nvPr/>
            </p:nvSpPr>
            <p:spPr>
              <a:xfrm>
                <a:off x="3597120" y="4181400"/>
                <a:ext cx="428400" cy="525240"/>
              </a:xfrm>
              <a:custGeom>
                <a:avLst/>
                <a:gdLst/>
                <a:ahLst/>
                <a:rect l="l" t="t" r="r" b="b"/>
                <a:pathLst>
                  <a:path w="256" h="314">
                    <a:moveTo>
                      <a:pt x="214" y="32"/>
                    </a:moveTo>
                    <a:lnTo>
                      <a:pt x="0" y="314"/>
                    </a:lnTo>
                    <a:lnTo>
                      <a:pt x="18" y="314"/>
                    </a:lnTo>
                    <a:lnTo>
                      <a:pt x="256" y="0"/>
                    </a:lnTo>
                    <a:lnTo>
                      <a:pt x="214" y="32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53" name="未知" descr=""/>
              <p:cNvPicPr/>
              <p:nvPr/>
            </p:nvPicPr>
            <p:blipFill>
              <a:blip r:embed="rId3"/>
              <a:stretch/>
            </p:blipFill>
            <p:spPr>
              <a:xfrm>
                <a:off x="3633480" y="3710160"/>
                <a:ext cx="392040" cy="52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4" name="未知"/>
              <p:cNvSpPr/>
              <p:nvPr/>
            </p:nvSpPr>
            <p:spPr>
              <a:xfrm>
                <a:off x="2550960" y="3710160"/>
                <a:ext cx="1143360" cy="57960"/>
              </a:xfrm>
              <a:custGeom>
                <a:avLst/>
                <a:gdLst/>
                <a:ahLst/>
                <a:rect l="l" t="t" r="r" b="b"/>
                <a:pathLst>
                  <a:path w="684" h="34">
                    <a:moveTo>
                      <a:pt x="648" y="34"/>
                    </a:moveTo>
                    <a:lnTo>
                      <a:pt x="684" y="0"/>
                    </a:lnTo>
                    <a:lnTo>
                      <a:pt x="42" y="0"/>
                    </a:lnTo>
                    <a:lnTo>
                      <a:pt x="0" y="32"/>
                    </a:lnTo>
                    <a:lnTo>
                      <a:pt x="648" y="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6600"/>
                  </a:gs>
                  <a:gs pos="100000">
                    <a:srgbClr val="ffc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5" name="矩形 17"/>
            <p:cNvSpPr/>
            <p:nvPr/>
          </p:nvSpPr>
          <p:spPr>
            <a:xfrm>
              <a:off x="2889360" y="4065840"/>
              <a:ext cx="908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订单处理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" name="组合 23"/>
          <p:cNvGrpSpPr/>
          <p:nvPr/>
        </p:nvGrpSpPr>
        <p:grpSpPr>
          <a:xfrm>
            <a:off x="3887640" y="3710160"/>
            <a:ext cx="1782360" cy="998280"/>
            <a:chOff x="3887640" y="3710160"/>
            <a:chExt cx="1782360" cy="998280"/>
          </a:xfrm>
        </p:grpSpPr>
        <p:grpSp>
          <p:nvGrpSpPr>
            <p:cNvPr id="457" name="Group 32"/>
            <p:cNvGrpSpPr/>
            <p:nvPr/>
          </p:nvGrpSpPr>
          <p:grpSpPr>
            <a:xfrm>
              <a:off x="3887640" y="3710160"/>
              <a:ext cx="1782360" cy="998280"/>
              <a:chOff x="3887640" y="3710160"/>
              <a:chExt cx="1782360" cy="998280"/>
            </a:xfrm>
          </p:grpSpPr>
          <p:sp>
            <p:nvSpPr>
              <p:cNvPr id="458" name="未知"/>
              <p:cNvSpPr/>
              <p:nvPr/>
            </p:nvSpPr>
            <p:spPr>
              <a:xfrm flipH="1">
                <a:off x="4959360" y="4399920"/>
                <a:ext cx="710280" cy="308520"/>
              </a:xfrm>
              <a:custGeom>
                <a:avLst/>
                <a:gdLst/>
                <a:ahLst/>
                <a:rect l="l" t="t" r="r" b="b"/>
                <a:pathLst>
                  <a:path w="2331" h="688">
                    <a:moveTo>
                      <a:pt x="2331" y="688"/>
                    </a:moveTo>
                    <a:cubicBezTo>
                      <a:pt x="2331" y="688"/>
                      <a:pt x="208" y="159"/>
                      <a:pt x="104" y="138"/>
                    </a:cubicBezTo>
                    <a:cubicBezTo>
                      <a:pt x="0" y="118"/>
                      <a:pt x="2086" y="0"/>
                      <a:pt x="2086" y="0"/>
                    </a:cubicBezTo>
                    <a:lnTo>
                      <a:pt x="2331" y="6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50196"/>
                    </a:srgbClr>
                  </a:gs>
                  <a:gs pos="100000">
                    <a:srgbClr val="666666">
                      <a:alpha val="34117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未知"/>
              <p:cNvSpPr/>
              <p:nvPr/>
            </p:nvSpPr>
            <p:spPr>
              <a:xfrm>
                <a:off x="3887640" y="3763800"/>
                <a:ext cx="1403280" cy="942840"/>
              </a:xfrm>
              <a:custGeom>
                <a:avLst/>
                <a:gdLst/>
                <a:ahLst/>
                <a:rect l="l" t="t" r="r" b="b"/>
                <a:pathLst>
                  <a:path w="840" h="564">
                    <a:moveTo>
                      <a:pt x="840" y="282"/>
                    </a:moveTo>
                    <a:lnTo>
                      <a:pt x="840" y="282"/>
                    </a:lnTo>
                    <a:lnTo>
                      <a:pt x="648" y="2"/>
                    </a:lnTo>
                    <a:lnTo>
                      <a:pt x="0" y="0"/>
                    </a:lnTo>
                    <a:lnTo>
                      <a:pt x="200" y="282"/>
                    </a:lnTo>
                    <a:lnTo>
                      <a:pt x="4" y="564"/>
                    </a:lnTo>
                    <a:lnTo>
                      <a:pt x="626" y="564"/>
                    </a:lnTo>
                    <a:lnTo>
                      <a:pt x="840" y="28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00000"/>
                  </a:gs>
                  <a:gs pos="100000">
                    <a:srgbClr val="99000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未知"/>
              <p:cNvSpPr/>
              <p:nvPr/>
            </p:nvSpPr>
            <p:spPr>
              <a:xfrm>
                <a:off x="4933080" y="4181400"/>
                <a:ext cx="428040" cy="525240"/>
              </a:xfrm>
              <a:custGeom>
                <a:avLst/>
                <a:gdLst/>
                <a:ahLst/>
                <a:rect l="l" t="t" r="r" b="b"/>
                <a:pathLst>
                  <a:path w="256" h="314">
                    <a:moveTo>
                      <a:pt x="214" y="32"/>
                    </a:moveTo>
                    <a:lnTo>
                      <a:pt x="0" y="314"/>
                    </a:lnTo>
                    <a:lnTo>
                      <a:pt x="18" y="314"/>
                    </a:lnTo>
                    <a:lnTo>
                      <a:pt x="256" y="0"/>
                    </a:lnTo>
                    <a:lnTo>
                      <a:pt x="214" y="32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61" name="未知" descr=""/>
              <p:cNvPicPr/>
              <p:nvPr/>
            </p:nvPicPr>
            <p:blipFill>
              <a:blip r:embed="rId4"/>
              <a:stretch/>
            </p:blipFill>
            <p:spPr>
              <a:xfrm>
                <a:off x="4969440" y="3710160"/>
                <a:ext cx="391680" cy="52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2" name="未知"/>
              <p:cNvSpPr/>
              <p:nvPr/>
            </p:nvSpPr>
            <p:spPr>
              <a:xfrm>
                <a:off x="3887640" y="3710160"/>
                <a:ext cx="1142280" cy="57960"/>
              </a:xfrm>
              <a:custGeom>
                <a:avLst/>
                <a:gdLst/>
                <a:ahLst/>
                <a:rect l="l" t="t" r="r" b="b"/>
                <a:pathLst>
                  <a:path w="684" h="34">
                    <a:moveTo>
                      <a:pt x="648" y="34"/>
                    </a:moveTo>
                    <a:lnTo>
                      <a:pt x="684" y="0"/>
                    </a:lnTo>
                    <a:lnTo>
                      <a:pt x="42" y="0"/>
                    </a:lnTo>
                    <a:lnTo>
                      <a:pt x="0" y="32"/>
                    </a:lnTo>
                    <a:lnTo>
                      <a:pt x="648" y="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6600"/>
                  </a:gs>
                  <a:gs pos="100000">
                    <a:srgbClr val="ffc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3" name="矩形 25"/>
            <p:cNvSpPr/>
            <p:nvPr/>
          </p:nvSpPr>
          <p:spPr>
            <a:xfrm>
              <a:off x="4260960" y="4065840"/>
              <a:ext cx="857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信息反馈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" name="组合 31"/>
          <p:cNvGrpSpPr/>
          <p:nvPr/>
        </p:nvGrpSpPr>
        <p:grpSpPr>
          <a:xfrm>
            <a:off x="5195880" y="3710160"/>
            <a:ext cx="1784160" cy="998280"/>
            <a:chOff x="5195880" y="3710160"/>
            <a:chExt cx="1784160" cy="998280"/>
          </a:xfrm>
        </p:grpSpPr>
        <p:grpSp>
          <p:nvGrpSpPr>
            <p:cNvPr id="465" name="Group 32"/>
            <p:cNvGrpSpPr/>
            <p:nvPr/>
          </p:nvGrpSpPr>
          <p:grpSpPr>
            <a:xfrm>
              <a:off x="5195880" y="3710160"/>
              <a:ext cx="1784160" cy="998280"/>
              <a:chOff x="5195880" y="3710160"/>
              <a:chExt cx="1784160" cy="998280"/>
            </a:xfrm>
          </p:grpSpPr>
          <p:sp>
            <p:nvSpPr>
              <p:cNvPr id="466" name="未知"/>
              <p:cNvSpPr/>
              <p:nvPr/>
            </p:nvSpPr>
            <p:spPr>
              <a:xfrm flipH="1">
                <a:off x="6268680" y="4399920"/>
                <a:ext cx="711000" cy="308520"/>
              </a:xfrm>
              <a:custGeom>
                <a:avLst/>
                <a:gdLst/>
                <a:ahLst/>
                <a:rect l="l" t="t" r="r" b="b"/>
                <a:pathLst>
                  <a:path w="2331" h="688">
                    <a:moveTo>
                      <a:pt x="2331" y="688"/>
                    </a:moveTo>
                    <a:cubicBezTo>
                      <a:pt x="2331" y="688"/>
                      <a:pt x="208" y="159"/>
                      <a:pt x="104" y="138"/>
                    </a:cubicBezTo>
                    <a:cubicBezTo>
                      <a:pt x="0" y="118"/>
                      <a:pt x="2086" y="0"/>
                      <a:pt x="2086" y="0"/>
                    </a:cubicBezTo>
                    <a:lnTo>
                      <a:pt x="2331" y="6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50196"/>
                    </a:srgbClr>
                  </a:gs>
                  <a:gs pos="100000">
                    <a:srgbClr val="666666">
                      <a:alpha val="34117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未知"/>
              <p:cNvSpPr/>
              <p:nvPr/>
            </p:nvSpPr>
            <p:spPr>
              <a:xfrm>
                <a:off x="5195880" y="3763800"/>
                <a:ext cx="1404360" cy="942840"/>
              </a:xfrm>
              <a:custGeom>
                <a:avLst/>
                <a:gdLst/>
                <a:ahLst/>
                <a:rect l="l" t="t" r="r" b="b"/>
                <a:pathLst>
                  <a:path w="840" h="564">
                    <a:moveTo>
                      <a:pt x="840" y="282"/>
                    </a:moveTo>
                    <a:lnTo>
                      <a:pt x="840" y="282"/>
                    </a:lnTo>
                    <a:lnTo>
                      <a:pt x="648" y="2"/>
                    </a:lnTo>
                    <a:lnTo>
                      <a:pt x="0" y="0"/>
                    </a:lnTo>
                    <a:lnTo>
                      <a:pt x="200" y="282"/>
                    </a:lnTo>
                    <a:lnTo>
                      <a:pt x="4" y="564"/>
                    </a:lnTo>
                    <a:lnTo>
                      <a:pt x="626" y="564"/>
                    </a:lnTo>
                    <a:lnTo>
                      <a:pt x="840" y="28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00000"/>
                  </a:gs>
                  <a:gs pos="100000">
                    <a:srgbClr val="99000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未知"/>
              <p:cNvSpPr/>
              <p:nvPr/>
            </p:nvSpPr>
            <p:spPr>
              <a:xfrm>
                <a:off x="6242040" y="4181400"/>
                <a:ext cx="428400" cy="525240"/>
              </a:xfrm>
              <a:custGeom>
                <a:avLst/>
                <a:gdLst/>
                <a:ahLst/>
                <a:rect l="l" t="t" r="r" b="b"/>
                <a:pathLst>
                  <a:path w="256" h="314">
                    <a:moveTo>
                      <a:pt x="214" y="32"/>
                    </a:moveTo>
                    <a:lnTo>
                      <a:pt x="0" y="314"/>
                    </a:lnTo>
                    <a:lnTo>
                      <a:pt x="18" y="314"/>
                    </a:lnTo>
                    <a:lnTo>
                      <a:pt x="256" y="0"/>
                    </a:lnTo>
                    <a:lnTo>
                      <a:pt x="214" y="32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69" name="未知" descr=""/>
              <p:cNvPicPr/>
              <p:nvPr/>
            </p:nvPicPr>
            <p:blipFill>
              <a:blip r:embed="rId5"/>
              <a:stretch/>
            </p:blipFill>
            <p:spPr>
              <a:xfrm>
                <a:off x="6278400" y="3710160"/>
                <a:ext cx="392040" cy="52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0" name="未知"/>
              <p:cNvSpPr/>
              <p:nvPr/>
            </p:nvSpPr>
            <p:spPr>
              <a:xfrm>
                <a:off x="5195880" y="3710160"/>
                <a:ext cx="1143360" cy="57960"/>
              </a:xfrm>
              <a:custGeom>
                <a:avLst/>
                <a:gdLst/>
                <a:ahLst/>
                <a:rect l="l" t="t" r="r" b="b"/>
                <a:pathLst>
                  <a:path w="684" h="34">
                    <a:moveTo>
                      <a:pt x="648" y="34"/>
                    </a:moveTo>
                    <a:lnTo>
                      <a:pt x="684" y="0"/>
                    </a:lnTo>
                    <a:lnTo>
                      <a:pt x="42" y="0"/>
                    </a:lnTo>
                    <a:lnTo>
                      <a:pt x="0" y="32"/>
                    </a:lnTo>
                    <a:lnTo>
                      <a:pt x="648" y="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6600"/>
                  </a:gs>
                  <a:gs pos="100000">
                    <a:srgbClr val="ffc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1" name="矩形 33"/>
            <p:cNvSpPr/>
            <p:nvPr/>
          </p:nvSpPr>
          <p:spPr>
            <a:xfrm>
              <a:off x="5560560" y="4065840"/>
              <a:ext cx="908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图书加工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" name="组合 39"/>
          <p:cNvGrpSpPr/>
          <p:nvPr/>
        </p:nvGrpSpPr>
        <p:grpSpPr>
          <a:xfrm>
            <a:off x="6532560" y="3710160"/>
            <a:ext cx="1784160" cy="998280"/>
            <a:chOff x="6532560" y="3710160"/>
            <a:chExt cx="1784160" cy="998280"/>
          </a:xfrm>
        </p:grpSpPr>
        <p:grpSp>
          <p:nvGrpSpPr>
            <p:cNvPr id="473" name="Group 32"/>
            <p:cNvGrpSpPr/>
            <p:nvPr/>
          </p:nvGrpSpPr>
          <p:grpSpPr>
            <a:xfrm>
              <a:off x="6532560" y="3710160"/>
              <a:ext cx="1784160" cy="998280"/>
              <a:chOff x="6532560" y="3710160"/>
              <a:chExt cx="1784160" cy="998280"/>
            </a:xfrm>
          </p:grpSpPr>
          <p:sp>
            <p:nvSpPr>
              <p:cNvPr id="474" name="未知"/>
              <p:cNvSpPr/>
              <p:nvPr/>
            </p:nvSpPr>
            <p:spPr>
              <a:xfrm flipH="1">
                <a:off x="7605360" y="4399920"/>
                <a:ext cx="711000" cy="308520"/>
              </a:xfrm>
              <a:custGeom>
                <a:avLst/>
                <a:gdLst/>
                <a:ahLst/>
                <a:rect l="l" t="t" r="r" b="b"/>
                <a:pathLst>
                  <a:path w="2331" h="688">
                    <a:moveTo>
                      <a:pt x="2331" y="688"/>
                    </a:moveTo>
                    <a:cubicBezTo>
                      <a:pt x="2331" y="688"/>
                      <a:pt x="208" y="159"/>
                      <a:pt x="104" y="138"/>
                    </a:cubicBezTo>
                    <a:cubicBezTo>
                      <a:pt x="0" y="118"/>
                      <a:pt x="2086" y="0"/>
                      <a:pt x="2086" y="0"/>
                    </a:cubicBezTo>
                    <a:lnTo>
                      <a:pt x="2331" y="6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50196"/>
                    </a:srgbClr>
                  </a:gs>
                  <a:gs pos="100000">
                    <a:srgbClr val="666666">
                      <a:alpha val="34117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未知"/>
              <p:cNvSpPr/>
              <p:nvPr/>
            </p:nvSpPr>
            <p:spPr>
              <a:xfrm>
                <a:off x="6532560" y="3763800"/>
                <a:ext cx="1404360" cy="942840"/>
              </a:xfrm>
              <a:custGeom>
                <a:avLst/>
                <a:gdLst/>
                <a:ahLst/>
                <a:rect l="l" t="t" r="r" b="b"/>
                <a:pathLst>
                  <a:path w="840" h="564">
                    <a:moveTo>
                      <a:pt x="840" y="282"/>
                    </a:moveTo>
                    <a:lnTo>
                      <a:pt x="840" y="282"/>
                    </a:lnTo>
                    <a:lnTo>
                      <a:pt x="648" y="2"/>
                    </a:lnTo>
                    <a:lnTo>
                      <a:pt x="0" y="0"/>
                    </a:lnTo>
                    <a:lnTo>
                      <a:pt x="200" y="282"/>
                    </a:lnTo>
                    <a:lnTo>
                      <a:pt x="4" y="564"/>
                    </a:lnTo>
                    <a:lnTo>
                      <a:pt x="626" y="564"/>
                    </a:lnTo>
                    <a:lnTo>
                      <a:pt x="840" y="28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00000"/>
                  </a:gs>
                  <a:gs pos="100000">
                    <a:srgbClr val="99000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未知"/>
              <p:cNvSpPr/>
              <p:nvPr/>
            </p:nvSpPr>
            <p:spPr>
              <a:xfrm>
                <a:off x="7578720" y="4181400"/>
                <a:ext cx="428400" cy="525240"/>
              </a:xfrm>
              <a:custGeom>
                <a:avLst/>
                <a:gdLst/>
                <a:ahLst/>
                <a:rect l="l" t="t" r="r" b="b"/>
                <a:pathLst>
                  <a:path w="256" h="314">
                    <a:moveTo>
                      <a:pt x="214" y="32"/>
                    </a:moveTo>
                    <a:lnTo>
                      <a:pt x="0" y="314"/>
                    </a:lnTo>
                    <a:lnTo>
                      <a:pt x="18" y="314"/>
                    </a:lnTo>
                    <a:lnTo>
                      <a:pt x="256" y="0"/>
                    </a:lnTo>
                    <a:lnTo>
                      <a:pt x="214" y="32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77" name="未知" descr=""/>
              <p:cNvPicPr/>
              <p:nvPr/>
            </p:nvPicPr>
            <p:blipFill>
              <a:blip r:embed="rId6"/>
              <a:stretch/>
            </p:blipFill>
            <p:spPr>
              <a:xfrm>
                <a:off x="7615080" y="3710160"/>
                <a:ext cx="392040" cy="52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8" name="未知"/>
              <p:cNvSpPr/>
              <p:nvPr/>
            </p:nvSpPr>
            <p:spPr>
              <a:xfrm>
                <a:off x="6532560" y="3710160"/>
                <a:ext cx="1143360" cy="57960"/>
              </a:xfrm>
              <a:custGeom>
                <a:avLst/>
                <a:gdLst/>
                <a:ahLst/>
                <a:rect l="l" t="t" r="r" b="b"/>
                <a:pathLst>
                  <a:path w="684" h="34">
                    <a:moveTo>
                      <a:pt x="648" y="34"/>
                    </a:moveTo>
                    <a:lnTo>
                      <a:pt x="684" y="0"/>
                    </a:lnTo>
                    <a:lnTo>
                      <a:pt x="42" y="0"/>
                    </a:lnTo>
                    <a:lnTo>
                      <a:pt x="0" y="32"/>
                    </a:lnTo>
                    <a:lnTo>
                      <a:pt x="648" y="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6600"/>
                  </a:gs>
                  <a:gs pos="100000">
                    <a:srgbClr val="ffc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9" name="矩形 41"/>
            <p:cNvSpPr/>
            <p:nvPr/>
          </p:nvSpPr>
          <p:spPr>
            <a:xfrm>
              <a:off x="6888240" y="4065840"/>
              <a:ext cx="85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包装配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5000">
    <p:fade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4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2000"/>
                            </p:stCondLst>
                            <p:childTnLst>
                              <p:par>
                                <p:cTn id="349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500"/>
                            </p:stCondLst>
                            <p:childTnLst>
                              <p:par>
                                <p:cTn id="354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3000"/>
                            </p:stCondLst>
                            <p:childTnLst>
                              <p:par>
                                <p:cTn id="359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3500"/>
                            </p:stCondLst>
                            <p:childTnLst>
                              <p:par>
                                <p:cTn id="36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30T12:20:00Z</dcterms:created>
  <dc:creator>幻灯片之家：www.eepp.com</dc:creator>
  <dc:description>幻灯片之家：www.eepp.com</dc:description>
  <cp:keywords>幻灯片之家：www.eepp.com</cp:keywords>
  <dc:language>en-US</dc:language>
  <cp:lastModifiedBy>pc</cp:lastModifiedBy>
  <cp:lastPrinted>2113-01-01T00:00:00Z</cp:lastPrinted>
  <dcterms:modified xsi:type="dcterms:W3CDTF">2015-12-12T07:10:38Z</dcterms:modified>
  <cp:revision>27</cp:revision>
  <dc:subject>幻灯片之家：www.eepp.com</dc:subject>
  <dc:title>幻灯片之家：www.eepp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  <property fmtid="{D5CDD505-2E9C-101B-9397-08002B2CF9AE}" pid="3" name="Version">
    <vt:r8>1</vt:r8>
  </property>
</Properties>
</file>