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B8F-92DA-4BC7-8307-E0FC33F7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2E5-7706-4019-ABE9-2AD14E69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8F3-ECAF-42F1-9BB8-C4998B27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176-D718-463C-9EFB-44B5F62A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13C6-E57E-476C-B0A8-86E77EA9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FB63-5529-42D7-B622-BB9C503A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B727-B89F-4343-BA03-D5F7ED3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27B5-C693-4F64-A09B-CD5107D6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5D5F-D4EB-40E9-BC06-29DF8C7A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B83D-7925-4349-9D6F-EA3CD31B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57B3-F7CE-4573-8BB3-EA830D51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3BC-55ED-4BD8-B0DC-DC03ECDA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C5B6-5E69-4A2B-A40B-01401C1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C0FB-312C-48BA-8504-089FBF64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FE14-99A4-4545-8AC6-55571A9B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6A76-F626-466C-84EE-AA83135B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FD9B-BA1E-4C75-9671-48E150BC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F4DB-7CEE-49EF-8952-E9E586B8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05FD-DF61-427D-8740-12542DC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ECAF-F8D7-4144-93AC-D6522D7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E74E-FF16-41EC-83BF-DAA52BD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1BD5-06A2-4C4D-8986-0B37CFE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FE7-C416-4188-B743-EC1C32BB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9CBE-6B6E-4EBA-9D58-FB7670AD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75F8-2461-4983-98D0-2634F3A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BAB4-F04F-45A4-99CC-CBFF425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04AB-DCFC-44AC-9888-12595337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18B2-28D0-4214-9916-290A549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6404-105C-4CAC-9CBC-F91BE7E8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7D60-75BD-4E0E-AB63-E18A186B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82D-F7FA-4858-AD38-892BD820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A2E-092E-486C-8E90-3C616B98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75C-7C3E-4040-8B80-3079231B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DD3-F0DB-40D2-9B3F-2C34CBB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0B7-BBB0-4E9F-9193-353E6D5F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D44-25F9-432E-89B2-2FB9FDF4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2492-D4D4-40BC-9B3E-55D9C3119B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70BA-6736-4E08-BAA0-15EF2C22195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081-82E9-4F7E-813B-602365390F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1A8E-B5F7-44F0-9978-4E1D3C793A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报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Arial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8194"/>
          <p:cNvSpPr/>
          <p:nvPr/>
        </p:nvSpPr>
        <p:spPr>
          <a:xfrm>
            <a:off x="2266920" y="3718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192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0695-3D84-4C56-A2F6-0F3B8F1B6F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01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2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