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1CC-7AF0-4E59-B98E-0B9BC01E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333-CB1C-4885-9B3B-16C83C7A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BD9-AA30-49EC-B9DB-2D1D2824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C75-D088-4CCD-BEA6-2EE4B6CC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896D-D651-4698-84B9-49EA3B60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8335-082B-4E3C-BC69-3E62BF7D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659-5C08-42C7-9140-44915FE8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6218-A30C-4AB0-A597-C0642885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5874-B352-49E7-92D1-726A4D9B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199A-3A04-4340-811B-CB42D2A0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91EA-B631-4FBB-9D5B-7A25DA1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DF0-4BC4-4DF9-B1CD-15F71D1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7417-FC43-4F76-A71C-746FC012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523E-EF6B-42F6-9F56-09C5BD55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8B9C-015C-4CEB-8A60-E2A29A97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7270-86B3-497B-8088-2C38CFBC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E7AC-BFBB-4C57-A706-6F43766E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C8C-1E38-4153-9D02-E89FC660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719-8A50-4984-AC83-9AD1839D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FA0-995C-4B77-A850-56BE8B5A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26F-67D3-4DFE-8B53-3A3A158F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3BA-F1E7-4175-87AA-69B117D0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89F-C997-431B-91F0-46EFCFF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FA9-BE80-4F64-AF44-D286EF7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766-6158-4F42-8DD4-B110EB558B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4F06-8D26-4031-AE8F-EDE42CC2DD7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2769-2C1D-46D6-8F87-4724DC27EF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DA60-6DDE-43CF-8BEC-044899A2A7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8198"/>
          <p:cNvSpPr/>
          <p:nvPr/>
        </p:nvSpPr>
        <p:spPr>
          <a:xfrm>
            <a:off x="828720" y="2637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05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4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