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04D-48B0-4441-82B8-A63E42DD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178-2965-4981-B6A1-F13F7D24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A4F-912F-4312-AE59-96A90FA6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ECB-FC79-44CE-9A41-71259AF0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6EAF-B4A0-4342-B04D-193F22B2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9D04-707A-4CC7-B967-E9712416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7E13-1895-4B18-B941-E6BEE83A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F1AE-5631-4C02-93FB-CD7E5B87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6D5E-315A-4843-965B-C18F8D86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B357-210A-4608-8546-F1F43649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F3D7-1061-42DC-AA7F-EDBC4A72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0DA-8FEC-49EE-BCA0-A77E0D75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7590-33B6-49A4-80AB-56F018A4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A890-5A6D-451C-B86F-8CFF8D54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B3F2-568D-4B26-9628-F47576BE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36D2-AE6F-4B0A-929B-24D9DAB9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7548-0FD6-44B6-A9BD-B55771E0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4B7-7297-4A72-8CE9-1CDF805F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9C0-F8BC-4392-A974-94D74182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F65-C830-409B-AF48-3A780EB4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4D8-8ED5-4325-BF08-1F8DF44C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BCD-C1C1-4DDB-AC54-E916E8C7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26E-ED3F-449A-B198-10D05B36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F58-1ACA-4AAF-8BD5-4AFD7952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6552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65520"/>
            <a:ext cx="28958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6552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Microsoft JhengHei"/>
                <a:ea typeface="Microsoft JhengHe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510F-35A7-4BE7-B8BE-38E7175340F5}" type="slidenum">
              <a:rPr b="0" lang="zh-TW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组合 1030"/>
          <p:cNvGrpSpPr/>
          <p:nvPr/>
        </p:nvGrpSpPr>
        <p:grpSpPr>
          <a:xfrm>
            <a:off x="0" y="4724280"/>
            <a:ext cx="1476360" cy="2133720"/>
            <a:chOff x="0" y="4724280"/>
            <a:chExt cx="1476360" cy="2133720"/>
          </a:xfrm>
        </p:grpSpPr>
        <p:sp>
          <p:nvSpPr>
            <p:cNvPr id="6" name="Freeform 2704"/>
            <p:cNvSpPr/>
            <p:nvPr/>
          </p:nvSpPr>
          <p:spPr>
            <a:xfrm>
              <a:off x="0" y="4724280"/>
              <a:ext cx="1476360" cy="2133720"/>
            </a:xfrm>
            <a:custGeom>
              <a:avLst/>
              <a:gdLst/>
              <a:ahLst/>
              <a:rect l="l" t="t" r="r" b="b"/>
              <a:pathLst>
                <a:path w="2401" h="3323">
                  <a:moveTo>
                    <a:pt x="0" y="338"/>
                  </a:moveTo>
                  <a:lnTo>
                    <a:pt x="0" y="331"/>
                  </a:lnTo>
                  <a:lnTo>
                    <a:pt x="0" y="331"/>
                  </a:lnTo>
                  <a:lnTo>
                    <a:pt x="0" y="338"/>
                  </a:lnTo>
                  <a:lnTo>
                    <a:pt x="0" y="338"/>
                  </a:lnTo>
                  <a:close/>
                  <a:moveTo>
                    <a:pt x="2380" y="14"/>
                  </a:moveTo>
                  <a:lnTo>
                    <a:pt x="2380" y="14"/>
                  </a:lnTo>
                  <a:lnTo>
                    <a:pt x="2372" y="0"/>
                  </a:lnTo>
                  <a:lnTo>
                    <a:pt x="2358" y="0"/>
                  </a:lnTo>
                  <a:lnTo>
                    <a:pt x="2344" y="14"/>
                  </a:lnTo>
                  <a:lnTo>
                    <a:pt x="2295" y="120"/>
                  </a:lnTo>
                  <a:lnTo>
                    <a:pt x="2253" y="183"/>
                  </a:lnTo>
                  <a:lnTo>
                    <a:pt x="2168" y="268"/>
                  </a:lnTo>
                  <a:lnTo>
                    <a:pt x="2154" y="239"/>
                  </a:lnTo>
                  <a:lnTo>
                    <a:pt x="2147" y="204"/>
                  </a:lnTo>
                  <a:lnTo>
                    <a:pt x="2147" y="204"/>
                  </a:lnTo>
                  <a:lnTo>
                    <a:pt x="2133" y="190"/>
                  </a:lnTo>
                  <a:lnTo>
                    <a:pt x="2126" y="183"/>
                  </a:lnTo>
                  <a:lnTo>
                    <a:pt x="2112" y="183"/>
                  </a:lnTo>
                  <a:lnTo>
                    <a:pt x="2105" y="190"/>
                  </a:lnTo>
                  <a:lnTo>
                    <a:pt x="2098" y="211"/>
                  </a:lnTo>
                  <a:lnTo>
                    <a:pt x="2098" y="218"/>
                  </a:lnTo>
                  <a:lnTo>
                    <a:pt x="2098" y="289"/>
                  </a:lnTo>
                  <a:lnTo>
                    <a:pt x="2098" y="331"/>
                  </a:lnTo>
                  <a:lnTo>
                    <a:pt x="2119" y="387"/>
                  </a:lnTo>
                  <a:lnTo>
                    <a:pt x="2126" y="422"/>
                  </a:lnTo>
                  <a:lnTo>
                    <a:pt x="2105" y="479"/>
                  </a:lnTo>
                  <a:lnTo>
                    <a:pt x="2049" y="648"/>
                  </a:lnTo>
                  <a:lnTo>
                    <a:pt x="2049" y="648"/>
                  </a:lnTo>
                  <a:lnTo>
                    <a:pt x="2027" y="697"/>
                  </a:lnTo>
                  <a:lnTo>
                    <a:pt x="2006" y="746"/>
                  </a:lnTo>
                  <a:lnTo>
                    <a:pt x="1971" y="845"/>
                  </a:lnTo>
                  <a:lnTo>
                    <a:pt x="1950" y="943"/>
                  </a:lnTo>
                  <a:lnTo>
                    <a:pt x="1950" y="943"/>
                  </a:lnTo>
                  <a:lnTo>
                    <a:pt x="1943" y="979"/>
                  </a:lnTo>
                  <a:lnTo>
                    <a:pt x="1936" y="1007"/>
                  </a:lnTo>
                  <a:lnTo>
                    <a:pt x="1929" y="1021"/>
                  </a:lnTo>
                  <a:lnTo>
                    <a:pt x="1880" y="1077"/>
                  </a:lnTo>
                  <a:lnTo>
                    <a:pt x="1873" y="1077"/>
                  </a:lnTo>
                  <a:lnTo>
                    <a:pt x="1753" y="1211"/>
                  </a:lnTo>
                  <a:lnTo>
                    <a:pt x="1767" y="1239"/>
                  </a:lnTo>
                  <a:lnTo>
                    <a:pt x="1690" y="1338"/>
                  </a:lnTo>
                  <a:lnTo>
                    <a:pt x="1682" y="1373"/>
                  </a:lnTo>
                  <a:lnTo>
                    <a:pt x="1711" y="1401"/>
                  </a:lnTo>
                  <a:lnTo>
                    <a:pt x="1718" y="1443"/>
                  </a:lnTo>
                  <a:lnTo>
                    <a:pt x="1647" y="1471"/>
                  </a:lnTo>
                  <a:lnTo>
                    <a:pt x="1633" y="1500"/>
                  </a:lnTo>
                  <a:lnTo>
                    <a:pt x="1563" y="1507"/>
                  </a:lnTo>
                  <a:lnTo>
                    <a:pt x="1556" y="1528"/>
                  </a:lnTo>
                  <a:lnTo>
                    <a:pt x="1563" y="1584"/>
                  </a:lnTo>
                  <a:lnTo>
                    <a:pt x="1556" y="1584"/>
                  </a:lnTo>
                  <a:lnTo>
                    <a:pt x="1513" y="1563"/>
                  </a:lnTo>
                  <a:lnTo>
                    <a:pt x="1485" y="1570"/>
                  </a:lnTo>
                  <a:lnTo>
                    <a:pt x="1471" y="1535"/>
                  </a:lnTo>
                  <a:lnTo>
                    <a:pt x="1457" y="1528"/>
                  </a:lnTo>
                  <a:lnTo>
                    <a:pt x="1464" y="1429"/>
                  </a:lnTo>
                  <a:lnTo>
                    <a:pt x="1471" y="1401"/>
                  </a:lnTo>
                  <a:lnTo>
                    <a:pt x="1471" y="1401"/>
                  </a:lnTo>
                  <a:lnTo>
                    <a:pt x="1478" y="1401"/>
                  </a:lnTo>
                  <a:lnTo>
                    <a:pt x="1485" y="1401"/>
                  </a:lnTo>
                  <a:lnTo>
                    <a:pt x="1492" y="1394"/>
                  </a:lnTo>
                  <a:lnTo>
                    <a:pt x="1492" y="1394"/>
                  </a:lnTo>
                  <a:lnTo>
                    <a:pt x="1499" y="1352"/>
                  </a:lnTo>
                  <a:lnTo>
                    <a:pt x="1499" y="1309"/>
                  </a:lnTo>
                  <a:lnTo>
                    <a:pt x="1492" y="1274"/>
                  </a:lnTo>
                  <a:lnTo>
                    <a:pt x="1478" y="1253"/>
                  </a:lnTo>
                  <a:lnTo>
                    <a:pt x="1485" y="1246"/>
                  </a:lnTo>
                  <a:lnTo>
                    <a:pt x="1499" y="1190"/>
                  </a:lnTo>
                  <a:lnTo>
                    <a:pt x="1492" y="1155"/>
                  </a:lnTo>
                  <a:lnTo>
                    <a:pt x="1464" y="1133"/>
                  </a:lnTo>
                  <a:lnTo>
                    <a:pt x="1464" y="1112"/>
                  </a:lnTo>
                  <a:lnTo>
                    <a:pt x="1478" y="1112"/>
                  </a:lnTo>
                  <a:lnTo>
                    <a:pt x="1478" y="1098"/>
                  </a:lnTo>
                  <a:lnTo>
                    <a:pt x="1457" y="1091"/>
                  </a:lnTo>
                  <a:lnTo>
                    <a:pt x="1429" y="1063"/>
                  </a:lnTo>
                  <a:lnTo>
                    <a:pt x="1429" y="1028"/>
                  </a:lnTo>
                  <a:lnTo>
                    <a:pt x="1408" y="1014"/>
                  </a:lnTo>
                  <a:lnTo>
                    <a:pt x="1373" y="1007"/>
                  </a:lnTo>
                  <a:lnTo>
                    <a:pt x="1352" y="1000"/>
                  </a:lnTo>
                  <a:lnTo>
                    <a:pt x="1352" y="986"/>
                  </a:lnTo>
                  <a:lnTo>
                    <a:pt x="1330" y="972"/>
                  </a:lnTo>
                  <a:lnTo>
                    <a:pt x="1309" y="986"/>
                  </a:lnTo>
                  <a:lnTo>
                    <a:pt x="1295" y="972"/>
                  </a:lnTo>
                  <a:lnTo>
                    <a:pt x="1274" y="972"/>
                  </a:lnTo>
                  <a:lnTo>
                    <a:pt x="1267" y="943"/>
                  </a:lnTo>
                  <a:lnTo>
                    <a:pt x="1246" y="943"/>
                  </a:lnTo>
                  <a:lnTo>
                    <a:pt x="1232" y="965"/>
                  </a:lnTo>
                  <a:lnTo>
                    <a:pt x="1211" y="957"/>
                  </a:lnTo>
                  <a:lnTo>
                    <a:pt x="1147" y="965"/>
                  </a:lnTo>
                  <a:lnTo>
                    <a:pt x="1112" y="965"/>
                  </a:lnTo>
                  <a:lnTo>
                    <a:pt x="1084" y="972"/>
                  </a:lnTo>
                  <a:lnTo>
                    <a:pt x="1091" y="1007"/>
                  </a:lnTo>
                  <a:lnTo>
                    <a:pt x="1056" y="1042"/>
                  </a:lnTo>
                  <a:lnTo>
                    <a:pt x="1056" y="1070"/>
                  </a:lnTo>
                  <a:lnTo>
                    <a:pt x="1014" y="1077"/>
                  </a:lnTo>
                  <a:lnTo>
                    <a:pt x="1000" y="1091"/>
                  </a:lnTo>
                  <a:lnTo>
                    <a:pt x="1014" y="1126"/>
                  </a:lnTo>
                  <a:lnTo>
                    <a:pt x="992" y="1162"/>
                  </a:lnTo>
                  <a:lnTo>
                    <a:pt x="992" y="1197"/>
                  </a:lnTo>
                  <a:lnTo>
                    <a:pt x="978" y="1239"/>
                  </a:lnTo>
                  <a:lnTo>
                    <a:pt x="985" y="1295"/>
                  </a:lnTo>
                  <a:lnTo>
                    <a:pt x="978" y="1345"/>
                  </a:lnTo>
                  <a:lnTo>
                    <a:pt x="1000" y="1394"/>
                  </a:lnTo>
                  <a:lnTo>
                    <a:pt x="1014" y="1443"/>
                  </a:lnTo>
                  <a:lnTo>
                    <a:pt x="1049" y="1471"/>
                  </a:lnTo>
                  <a:lnTo>
                    <a:pt x="1063" y="1514"/>
                  </a:lnTo>
                  <a:lnTo>
                    <a:pt x="1105" y="1570"/>
                  </a:lnTo>
                  <a:lnTo>
                    <a:pt x="1112" y="1605"/>
                  </a:lnTo>
                  <a:lnTo>
                    <a:pt x="1098" y="1591"/>
                  </a:lnTo>
                  <a:lnTo>
                    <a:pt x="1063" y="1577"/>
                  </a:lnTo>
                  <a:lnTo>
                    <a:pt x="1056" y="1598"/>
                  </a:lnTo>
                  <a:lnTo>
                    <a:pt x="1042" y="1605"/>
                  </a:lnTo>
                  <a:lnTo>
                    <a:pt x="1042" y="1591"/>
                  </a:lnTo>
                  <a:lnTo>
                    <a:pt x="1028" y="1556"/>
                  </a:lnTo>
                  <a:lnTo>
                    <a:pt x="985" y="1542"/>
                  </a:lnTo>
                  <a:lnTo>
                    <a:pt x="971" y="1549"/>
                  </a:lnTo>
                  <a:lnTo>
                    <a:pt x="957" y="1549"/>
                  </a:lnTo>
                  <a:lnTo>
                    <a:pt x="929" y="1528"/>
                  </a:lnTo>
                  <a:lnTo>
                    <a:pt x="901" y="1507"/>
                  </a:lnTo>
                  <a:lnTo>
                    <a:pt x="852" y="1493"/>
                  </a:lnTo>
                  <a:lnTo>
                    <a:pt x="838" y="1436"/>
                  </a:lnTo>
                  <a:lnTo>
                    <a:pt x="823" y="1415"/>
                  </a:lnTo>
                  <a:lnTo>
                    <a:pt x="781" y="1373"/>
                  </a:lnTo>
                  <a:lnTo>
                    <a:pt x="774" y="1345"/>
                  </a:lnTo>
                  <a:lnTo>
                    <a:pt x="739" y="1288"/>
                  </a:lnTo>
                  <a:lnTo>
                    <a:pt x="704" y="1246"/>
                  </a:lnTo>
                  <a:lnTo>
                    <a:pt x="718" y="1204"/>
                  </a:lnTo>
                  <a:lnTo>
                    <a:pt x="704" y="1190"/>
                  </a:lnTo>
                  <a:lnTo>
                    <a:pt x="683" y="1190"/>
                  </a:lnTo>
                  <a:lnTo>
                    <a:pt x="676" y="1169"/>
                  </a:lnTo>
                  <a:lnTo>
                    <a:pt x="655" y="1148"/>
                  </a:lnTo>
                  <a:lnTo>
                    <a:pt x="626" y="1133"/>
                  </a:lnTo>
                  <a:lnTo>
                    <a:pt x="612" y="1133"/>
                  </a:lnTo>
                  <a:lnTo>
                    <a:pt x="612" y="1133"/>
                  </a:lnTo>
                  <a:lnTo>
                    <a:pt x="598" y="1119"/>
                  </a:lnTo>
                  <a:lnTo>
                    <a:pt x="577" y="1112"/>
                  </a:lnTo>
                  <a:lnTo>
                    <a:pt x="556" y="1098"/>
                  </a:lnTo>
                  <a:lnTo>
                    <a:pt x="535" y="1084"/>
                  </a:lnTo>
                  <a:lnTo>
                    <a:pt x="514" y="1007"/>
                  </a:lnTo>
                  <a:lnTo>
                    <a:pt x="514" y="1007"/>
                  </a:lnTo>
                  <a:lnTo>
                    <a:pt x="486" y="957"/>
                  </a:lnTo>
                  <a:lnTo>
                    <a:pt x="457" y="908"/>
                  </a:lnTo>
                  <a:lnTo>
                    <a:pt x="429" y="859"/>
                  </a:lnTo>
                  <a:lnTo>
                    <a:pt x="338" y="739"/>
                  </a:lnTo>
                  <a:lnTo>
                    <a:pt x="260" y="577"/>
                  </a:lnTo>
                  <a:lnTo>
                    <a:pt x="260" y="556"/>
                  </a:lnTo>
                  <a:lnTo>
                    <a:pt x="260" y="556"/>
                  </a:lnTo>
                  <a:lnTo>
                    <a:pt x="267" y="556"/>
                  </a:lnTo>
                  <a:lnTo>
                    <a:pt x="274" y="542"/>
                  </a:lnTo>
                  <a:lnTo>
                    <a:pt x="281" y="521"/>
                  </a:lnTo>
                  <a:lnTo>
                    <a:pt x="274" y="486"/>
                  </a:lnTo>
                  <a:lnTo>
                    <a:pt x="267" y="436"/>
                  </a:lnTo>
                  <a:lnTo>
                    <a:pt x="267" y="394"/>
                  </a:lnTo>
                  <a:lnTo>
                    <a:pt x="267" y="394"/>
                  </a:lnTo>
                  <a:lnTo>
                    <a:pt x="260" y="380"/>
                  </a:lnTo>
                  <a:lnTo>
                    <a:pt x="246" y="380"/>
                  </a:lnTo>
                  <a:lnTo>
                    <a:pt x="232" y="394"/>
                  </a:lnTo>
                  <a:lnTo>
                    <a:pt x="225" y="429"/>
                  </a:lnTo>
                  <a:lnTo>
                    <a:pt x="190" y="422"/>
                  </a:lnTo>
                  <a:lnTo>
                    <a:pt x="148" y="380"/>
                  </a:lnTo>
                  <a:lnTo>
                    <a:pt x="105" y="345"/>
                  </a:lnTo>
                  <a:lnTo>
                    <a:pt x="77" y="338"/>
                  </a:lnTo>
                  <a:lnTo>
                    <a:pt x="49" y="275"/>
                  </a:lnTo>
                  <a:lnTo>
                    <a:pt x="49" y="197"/>
                  </a:lnTo>
                  <a:lnTo>
                    <a:pt x="35" y="183"/>
                  </a:lnTo>
                  <a:lnTo>
                    <a:pt x="21" y="190"/>
                  </a:lnTo>
                  <a:lnTo>
                    <a:pt x="0" y="204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7" y="338"/>
                  </a:lnTo>
                  <a:lnTo>
                    <a:pt x="28" y="373"/>
                  </a:lnTo>
                  <a:lnTo>
                    <a:pt x="28" y="373"/>
                  </a:lnTo>
                  <a:lnTo>
                    <a:pt x="84" y="479"/>
                  </a:lnTo>
                  <a:lnTo>
                    <a:pt x="112" y="528"/>
                  </a:lnTo>
                  <a:lnTo>
                    <a:pt x="126" y="584"/>
                  </a:lnTo>
                  <a:lnTo>
                    <a:pt x="148" y="641"/>
                  </a:lnTo>
                  <a:lnTo>
                    <a:pt x="148" y="641"/>
                  </a:lnTo>
                  <a:lnTo>
                    <a:pt x="169" y="669"/>
                  </a:lnTo>
                  <a:lnTo>
                    <a:pt x="211" y="810"/>
                  </a:lnTo>
                  <a:lnTo>
                    <a:pt x="211" y="810"/>
                  </a:lnTo>
                  <a:lnTo>
                    <a:pt x="253" y="922"/>
                  </a:lnTo>
                  <a:lnTo>
                    <a:pt x="302" y="1028"/>
                  </a:lnTo>
                  <a:lnTo>
                    <a:pt x="359" y="1133"/>
                  </a:lnTo>
                  <a:lnTo>
                    <a:pt x="366" y="1162"/>
                  </a:lnTo>
                  <a:lnTo>
                    <a:pt x="394" y="1183"/>
                  </a:lnTo>
                  <a:lnTo>
                    <a:pt x="443" y="1281"/>
                  </a:lnTo>
                  <a:lnTo>
                    <a:pt x="422" y="1288"/>
                  </a:lnTo>
                  <a:lnTo>
                    <a:pt x="429" y="1352"/>
                  </a:lnTo>
                  <a:lnTo>
                    <a:pt x="436" y="1380"/>
                  </a:lnTo>
                  <a:lnTo>
                    <a:pt x="514" y="1436"/>
                  </a:lnTo>
                  <a:lnTo>
                    <a:pt x="521" y="1457"/>
                  </a:lnTo>
                  <a:lnTo>
                    <a:pt x="521" y="1457"/>
                  </a:lnTo>
                  <a:lnTo>
                    <a:pt x="535" y="1500"/>
                  </a:lnTo>
                  <a:lnTo>
                    <a:pt x="549" y="1549"/>
                  </a:lnTo>
                  <a:lnTo>
                    <a:pt x="591" y="1626"/>
                  </a:lnTo>
                  <a:lnTo>
                    <a:pt x="626" y="1690"/>
                  </a:lnTo>
                  <a:lnTo>
                    <a:pt x="647" y="1711"/>
                  </a:lnTo>
                  <a:lnTo>
                    <a:pt x="690" y="1795"/>
                  </a:lnTo>
                  <a:lnTo>
                    <a:pt x="690" y="1795"/>
                  </a:lnTo>
                  <a:lnTo>
                    <a:pt x="711" y="1816"/>
                  </a:lnTo>
                  <a:lnTo>
                    <a:pt x="725" y="1838"/>
                  </a:lnTo>
                  <a:lnTo>
                    <a:pt x="732" y="1859"/>
                  </a:lnTo>
                  <a:lnTo>
                    <a:pt x="732" y="1859"/>
                  </a:lnTo>
                  <a:lnTo>
                    <a:pt x="866" y="2316"/>
                  </a:lnTo>
                  <a:lnTo>
                    <a:pt x="992" y="2760"/>
                  </a:lnTo>
                  <a:lnTo>
                    <a:pt x="957" y="2894"/>
                  </a:lnTo>
                  <a:lnTo>
                    <a:pt x="957" y="2894"/>
                  </a:lnTo>
                  <a:lnTo>
                    <a:pt x="936" y="2915"/>
                  </a:lnTo>
                  <a:lnTo>
                    <a:pt x="922" y="2943"/>
                  </a:lnTo>
                  <a:lnTo>
                    <a:pt x="894" y="3006"/>
                  </a:lnTo>
                  <a:lnTo>
                    <a:pt x="873" y="3077"/>
                  </a:lnTo>
                  <a:lnTo>
                    <a:pt x="873" y="3077"/>
                  </a:lnTo>
                  <a:lnTo>
                    <a:pt x="859" y="3126"/>
                  </a:lnTo>
                  <a:lnTo>
                    <a:pt x="852" y="3182"/>
                  </a:lnTo>
                  <a:lnTo>
                    <a:pt x="852" y="3323"/>
                  </a:lnTo>
                  <a:lnTo>
                    <a:pt x="1957" y="3323"/>
                  </a:lnTo>
                  <a:lnTo>
                    <a:pt x="1908" y="2999"/>
                  </a:lnTo>
                  <a:lnTo>
                    <a:pt x="1908" y="2999"/>
                  </a:lnTo>
                  <a:lnTo>
                    <a:pt x="1894" y="2964"/>
                  </a:lnTo>
                  <a:lnTo>
                    <a:pt x="1887" y="2936"/>
                  </a:lnTo>
                  <a:lnTo>
                    <a:pt x="1866" y="2901"/>
                  </a:lnTo>
                  <a:lnTo>
                    <a:pt x="1844" y="2887"/>
                  </a:lnTo>
                  <a:lnTo>
                    <a:pt x="1837" y="2879"/>
                  </a:lnTo>
                  <a:lnTo>
                    <a:pt x="1837" y="2851"/>
                  </a:lnTo>
                  <a:lnTo>
                    <a:pt x="1823" y="2767"/>
                  </a:lnTo>
                  <a:lnTo>
                    <a:pt x="1795" y="2767"/>
                  </a:lnTo>
                  <a:lnTo>
                    <a:pt x="1795" y="2767"/>
                  </a:lnTo>
                  <a:lnTo>
                    <a:pt x="1830" y="2619"/>
                  </a:lnTo>
                  <a:lnTo>
                    <a:pt x="1851" y="2464"/>
                  </a:lnTo>
                  <a:lnTo>
                    <a:pt x="1866" y="2288"/>
                  </a:lnTo>
                  <a:lnTo>
                    <a:pt x="1873" y="2006"/>
                  </a:lnTo>
                  <a:lnTo>
                    <a:pt x="1866" y="1915"/>
                  </a:lnTo>
                  <a:lnTo>
                    <a:pt x="1880" y="1845"/>
                  </a:lnTo>
                  <a:lnTo>
                    <a:pt x="1873" y="1802"/>
                  </a:lnTo>
                  <a:lnTo>
                    <a:pt x="1887" y="1739"/>
                  </a:lnTo>
                  <a:lnTo>
                    <a:pt x="1887" y="1739"/>
                  </a:lnTo>
                  <a:lnTo>
                    <a:pt x="1922" y="1683"/>
                  </a:lnTo>
                  <a:lnTo>
                    <a:pt x="1950" y="1619"/>
                  </a:lnTo>
                  <a:lnTo>
                    <a:pt x="1985" y="1514"/>
                  </a:lnTo>
                  <a:lnTo>
                    <a:pt x="1999" y="1443"/>
                  </a:lnTo>
                  <a:lnTo>
                    <a:pt x="2006" y="1415"/>
                  </a:lnTo>
                  <a:lnTo>
                    <a:pt x="2035" y="1394"/>
                  </a:lnTo>
                  <a:lnTo>
                    <a:pt x="2042" y="1366"/>
                  </a:lnTo>
                  <a:lnTo>
                    <a:pt x="2105" y="1338"/>
                  </a:lnTo>
                  <a:lnTo>
                    <a:pt x="2105" y="1317"/>
                  </a:lnTo>
                  <a:lnTo>
                    <a:pt x="2091" y="1288"/>
                  </a:lnTo>
                  <a:lnTo>
                    <a:pt x="2084" y="1239"/>
                  </a:lnTo>
                  <a:lnTo>
                    <a:pt x="2063" y="1225"/>
                  </a:lnTo>
                  <a:lnTo>
                    <a:pt x="2091" y="1133"/>
                  </a:lnTo>
                  <a:lnTo>
                    <a:pt x="2105" y="1084"/>
                  </a:lnTo>
                  <a:lnTo>
                    <a:pt x="2126" y="1070"/>
                  </a:lnTo>
                  <a:lnTo>
                    <a:pt x="2133" y="1007"/>
                  </a:lnTo>
                  <a:lnTo>
                    <a:pt x="2133" y="1007"/>
                  </a:lnTo>
                  <a:lnTo>
                    <a:pt x="2161" y="929"/>
                  </a:lnTo>
                  <a:lnTo>
                    <a:pt x="2189" y="831"/>
                  </a:lnTo>
                  <a:lnTo>
                    <a:pt x="2211" y="704"/>
                  </a:lnTo>
                  <a:lnTo>
                    <a:pt x="2225" y="591"/>
                  </a:lnTo>
                  <a:lnTo>
                    <a:pt x="2232" y="486"/>
                  </a:lnTo>
                  <a:lnTo>
                    <a:pt x="2232" y="486"/>
                  </a:lnTo>
                  <a:lnTo>
                    <a:pt x="2253" y="436"/>
                  </a:lnTo>
                  <a:lnTo>
                    <a:pt x="2260" y="394"/>
                  </a:lnTo>
                  <a:lnTo>
                    <a:pt x="2267" y="359"/>
                  </a:lnTo>
                  <a:lnTo>
                    <a:pt x="2281" y="331"/>
                  </a:lnTo>
                  <a:lnTo>
                    <a:pt x="2323" y="218"/>
                  </a:lnTo>
                  <a:lnTo>
                    <a:pt x="2351" y="155"/>
                  </a:lnTo>
                  <a:lnTo>
                    <a:pt x="2380" y="84"/>
                  </a:lnTo>
                  <a:lnTo>
                    <a:pt x="2401" y="28"/>
                  </a:lnTo>
                  <a:lnTo>
                    <a:pt x="2401" y="28"/>
                  </a:lnTo>
                  <a:lnTo>
                    <a:pt x="2394" y="14"/>
                  </a:lnTo>
                  <a:lnTo>
                    <a:pt x="2387" y="7"/>
                  </a:lnTo>
                  <a:lnTo>
                    <a:pt x="2380" y="14"/>
                  </a:lnTo>
                  <a:lnTo>
                    <a:pt x="238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2705"/>
            <p:cNvSpPr/>
            <p:nvPr/>
          </p:nvSpPr>
          <p:spPr>
            <a:xfrm>
              <a:off x="454320" y="5741280"/>
              <a:ext cx="402840" cy="677880"/>
            </a:xfrm>
            <a:custGeom>
              <a:avLst/>
              <a:gdLst/>
              <a:ahLst/>
              <a:rect l="l" t="t" r="r" b="b"/>
              <a:pathLst>
                <a:path w="655" h="1056">
                  <a:moveTo>
                    <a:pt x="577" y="0"/>
                  </a:moveTo>
                  <a:lnTo>
                    <a:pt x="655" y="49"/>
                  </a:lnTo>
                  <a:lnTo>
                    <a:pt x="613" y="78"/>
                  </a:lnTo>
                  <a:lnTo>
                    <a:pt x="620" y="106"/>
                  </a:lnTo>
                  <a:lnTo>
                    <a:pt x="620" y="106"/>
                  </a:lnTo>
                  <a:lnTo>
                    <a:pt x="634" y="120"/>
                  </a:lnTo>
                  <a:lnTo>
                    <a:pt x="648" y="148"/>
                  </a:lnTo>
                  <a:lnTo>
                    <a:pt x="655" y="169"/>
                  </a:lnTo>
                  <a:lnTo>
                    <a:pt x="655" y="190"/>
                  </a:lnTo>
                  <a:lnTo>
                    <a:pt x="641" y="218"/>
                  </a:lnTo>
                  <a:lnTo>
                    <a:pt x="620" y="254"/>
                  </a:lnTo>
                  <a:lnTo>
                    <a:pt x="606" y="422"/>
                  </a:lnTo>
                  <a:lnTo>
                    <a:pt x="598" y="1007"/>
                  </a:lnTo>
                  <a:lnTo>
                    <a:pt x="563" y="1056"/>
                  </a:lnTo>
                  <a:lnTo>
                    <a:pt x="528" y="1021"/>
                  </a:lnTo>
                  <a:lnTo>
                    <a:pt x="549" y="803"/>
                  </a:lnTo>
                  <a:lnTo>
                    <a:pt x="556" y="591"/>
                  </a:lnTo>
                  <a:lnTo>
                    <a:pt x="535" y="451"/>
                  </a:lnTo>
                  <a:lnTo>
                    <a:pt x="472" y="613"/>
                  </a:lnTo>
                  <a:lnTo>
                    <a:pt x="472" y="613"/>
                  </a:lnTo>
                  <a:lnTo>
                    <a:pt x="465" y="627"/>
                  </a:lnTo>
                  <a:lnTo>
                    <a:pt x="451" y="648"/>
                  </a:lnTo>
                  <a:lnTo>
                    <a:pt x="429" y="669"/>
                  </a:lnTo>
                  <a:lnTo>
                    <a:pt x="197" y="866"/>
                  </a:lnTo>
                  <a:lnTo>
                    <a:pt x="0" y="831"/>
                  </a:lnTo>
                  <a:lnTo>
                    <a:pt x="35" y="676"/>
                  </a:lnTo>
                  <a:lnTo>
                    <a:pt x="359" y="451"/>
                  </a:lnTo>
                  <a:lnTo>
                    <a:pt x="451" y="387"/>
                  </a:lnTo>
                  <a:lnTo>
                    <a:pt x="451" y="324"/>
                  </a:lnTo>
                  <a:lnTo>
                    <a:pt x="472" y="289"/>
                  </a:lnTo>
                  <a:lnTo>
                    <a:pt x="472" y="211"/>
                  </a:lnTo>
                  <a:lnTo>
                    <a:pt x="472" y="211"/>
                  </a:lnTo>
                  <a:lnTo>
                    <a:pt x="493" y="169"/>
                  </a:lnTo>
                  <a:lnTo>
                    <a:pt x="514" y="134"/>
                  </a:lnTo>
                  <a:lnTo>
                    <a:pt x="528" y="120"/>
                  </a:lnTo>
                  <a:lnTo>
                    <a:pt x="542" y="113"/>
                  </a:lnTo>
                  <a:lnTo>
                    <a:pt x="549" y="92"/>
                  </a:lnTo>
                  <a:lnTo>
                    <a:pt x="514" y="70"/>
                  </a:lnTo>
                  <a:lnTo>
                    <a:pt x="563" y="14"/>
                  </a:lnTo>
                  <a:lnTo>
                    <a:pt x="5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9EC6-6B17-40E9-BF0B-B47408C814B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1915-6DE7-44CD-99FD-67E3B6119F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049" descr="113"/>
          <p:cNvPicPr/>
          <p:nvPr/>
        </p:nvPicPr>
        <p:blipFill>
          <a:blip r:embed="rId3"/>
          <a:srcRect l="11051" t="7874" r="47610" b="0"/>
          <a:stretch/>
        </p:blipFill>
        <p:spPr>
          <a:xfrm>
            <a:off x="17640" y="2205000"/>
            <a:ext cx="3178080" cy="4653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4723920"/>
            <a:ext cx="65487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工作计划</a:t>
            </a:r>
            <a:r>
              <a:rPr b="1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Microsoft JhengHei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图片 4099" descr="2810"/>
          <p:cNvPicPr/>
          <p:nvPr/>
        </p:nvPicPr>
        <p:blipFill>
          <a:blip r:embed="rId1"/>
          <a:srcRect l="18369" t="85554" r="21965" b="-4530"/>
          <a:stretch/>
        </p:blipFill>
        <p:spPr>
          <a:xfrm>
            <a:off x="0" y="6426360"/>
            <a:ext cx="2341440" cy="4316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2556000" y="6453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627280" y="5897520"/>
            <a:ext cx="51451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  <a:ea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C473-70FD-43D4-B48F-C95FF04DBC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按一下新增标题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加粗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5123" descr="2810"/>
          <p:cNvPicPr/>
          <p:nvPr/>
        </p:nvPicPr>
        <p:blipFill>
          <a:blip r:embed="rId8"/>
          <a:srcRect l="18369" t="85554" r="17396" b="-4530"/>
          <a:stretch/>
        </p:blipFill>
        <p:spPr>
          <a:xfrm>
            <a:off x="7093080" y="917640"/>
            <a:ext cx="2050920" cy="35064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8199"/>
          <p:cNvSpPr/>
          <p:nvPr/>
        </p:nvSpPr>
        <p:spPr>
          <a:xfrm>
            <a:off x="255600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08:5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48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