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AB5E-B691-4EDE-874F-E74FB7C28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9F1B-EE16-4196-B73E-891ED62E9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7858-34D2-48DE-B2A3-44704BA56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0D87-ADD4-47F7-B6DF-B0EDD7C3A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073F4-2712-4DB9-B8F2-9B65BB439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68654-B971-46AE-8AB8-CE0336300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40BB4-1AB4-4204-8678-1DA72DD33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04015-ABA1-4634-B3BA-0F887E85F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436A2-1877-4DAB-BE12-6C5D47662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2F75A-3659-47C9-9E59-732B0410C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D4D81-B1E9-4584-8BDB-1D9F3840F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E95A-3C3E-4610-87C4-F5DAC7B7A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45EB0-7B10-43A8-91EC-8B02F9776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B6EE2-CF99-42AA-8E44-54748B2AD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096F1-0A4D-4B73-B69E-667A08048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2AFDE-A91F-4C45-A2D5-940C3F064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69B8B-CA8D-4587-9625-777CA5F85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36D2-BD16-4534-A499-F6B3959F5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CF10-77C9-4C1C-9625-6A539F0B0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DDBA-2A7D-4721-B9FF-045B6C4EB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C463-B360-487C-A963-00D63EF94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D8BE-54C8-4B31-BC02-D8CB21419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ACEE-4ACA-401C-AC6B-01CF36CF1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598F-FEA7-401E-9F8D-E9AAF05B7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1CA25-2B5E-4097-9899-669A2CBC399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C4EE0-78B0-4D8F-9066-97622ECA49B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85800" y="320004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4099"/>
          <p:cNvSpPr/>
          <p:nvPr/>
        </p:nvSpPr>
        <p:spPr>
          <a:xfrm>
            <a:off x="898920" y="7221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1"/>
          <p:cNvSpPr/>
          <p:nvPr/>
        </p:nvSpPr>
        <p:spPr>
          <a:xfrm>
            <a:off x="1683720" y="228600"/>
            <a:ext cx="467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工作卡通笔</a:t>
            </a:r>
            <a:r>
              <a:rPr b="0" lang="en-US" sz="4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Microsoft JhengHei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88239-7687-472D-8BAC-3817123F9B8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谢谢欣赏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图片 6146" descr="图片4"/>
          <p:cNvPicPr/>
          <p:nvPr/>
        </p:nvPicPr>
        <p:blipFill>
          <a:blip r:embed="rId2"/>
          <a:stretch/>
        </p:blipFill>
        <p:spPr>
          <a:xfrm>
            <a:off x="762120" y="4952880"/>
            <a:ext cx="1447560" cy="1447920"/>
          </a:xfrm>
          <a:prstGeom prst="rect">
            <a:avLst/>
          </a:prstGeom>
          <a:ln w="0">
            <a:noFill/>
          </a:ln>
        </p:spPr>
      </p:pic>
      <p:pic>
        <p:nvPicPr>
          <p:cNvPr id="94" name="图片 6147" descr="图片1"/>
          <p:cNvPicPr/>
          <p:nvPr/>
        </p:nvPicPr>
        <p:blipFill>
          <a:blip r:embed="rId3"/>
          <a:stretch/>
        </p:blipFill>
        <p:spPr>
          <a:xfrm>
            <a:off x="2286000" y="495288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95" name="图片 6148" descr="图片2"/>
          <p:cNvPicPr/>
          <p:nvPr/>
        </p:nvPicPr>
        <p:blipFill>
          <a:blip r:embed="rId4"/>
          <a:stretch/>
        </p:blipFill>
        <p:spPr>
          <a:xfrm>
            <a:off x="3733920" y="4952880"/>
            <a:ext cx="1447560" cy="1447920"/>
          </a:xfrm>
          <a:prstGeom prst="rect">
            <a:avLst/>
          </a:prstGeom>
          <a:ln w="0">
            <a:noFill/>
          </a:ln>
        </p:spPr>
      </p:pic>
      <p:pic>
        <p:nvPicPr>
          <p:cNvPr id="96" name="图片 6149" descr="图片3"/>
          <p:cNvPicPr/>
          <p:nvPr/>
        </p:nvPicPr>
        <p:blipFill>
          <a:blip r:embed="rId5"/>
          <a:stretch/>
        </p:blipFill>
        <p:spPr>
          <a:xfrm>
            <a:off x="5029200" y="4952880"/>
            <a:ext cx="144792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1T03:30:49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10:28Z</dcterms:modified>
  <cp:revision>5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  <property fmtid="{D5CDD505-2E9C-101B-9397-08002B2CF9AE}" pid="3" name="NXTAG2">
    <vt:lpwstr>0008006a02000000000001024140</vt:lpwstr>
  </property>
  <property fmtid="{D5CDD505-2E9C-101B-9397-08002B2CF9AE}" pid="4" name="Version">
    <vt:r8>1</vt:r8>
  </property>
</Properties>
</file>