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1CE7-FB97-4189-A39D-FD8E49A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CFF0-52EC-4A00-82B6-2946EAE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1773-012B-476B-8A14-75F3324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5460-D70A-4C3D-9971-2CBC242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5E78-1FEA-4D55-AD92-8BFD72D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8ABA-AF37-44F9-90EC-70DF5AC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A8D-6991-4C76-A9BA-5EE66EB8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31A-A459-4438-9809-896FD3D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680-1860-43D2-BD17-256BE9B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35F1-D9C2-40D2-88A8-AE90C82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FF8-65C2-4D48-90A1-98802FE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0573-44FC-4565-9575-9FFD3629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0C1B-2501-4C08-A118-BBCB6D3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EB96-B2DA-4A11-A07A-440C3B88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28E-03FF-4332-ADE9-CDD017B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67C-BE74-400E-BB05-6AF02828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D2B6-82A8-42C7-927A-534E4607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7271-6955-4FB7-854F-A60709A5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7357-BD68-4C29-B92E-4352A5E5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F31B-D697-4CD7-A636-A7D7B89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DDBD-7A9C-4238-8246-891464E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D942-A596-4337-BC53-1C42C7BB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7601-BB92-417A-8859-A101B8F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B28F-3DFD-492B-B307-393A0AFC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D108-1FAB-4211-BF30-30F2894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6AD1-07E5-4F63-B87E-E101128D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2332-660F-493E-9E12-D23989E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EEC8-6238-4F40-859C-780ABDD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62BE-C6B2-41D6-8FAD-EA040068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A5A3-9F91-4A1B-8F31-4275FA8D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D419-0E1A-498F-8065-1CE863D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E70A-6DEF-4258-B98A-2F2527B5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6FD5-E64B-40E5-98FD-B8683DC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1671-6C70-41BE-86B4-81D344C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AC80-71B6-4F23-8338-2B8F2C2B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7559-F033-49EA-A02A-1FB0089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1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370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6290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A5BB-7A65-4870-947B-714CF99AB4A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99D-9901-442D-BD23-ECAF8C6149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996-DB40-4443-97B4-E51A5826DC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085"/>
          <p:cNvSpPr/>
          <p:nvPr/>
        </p:nvSpPr>
        <p:spPr>
          <a:xfrm>
            <a:off x="304920" y="15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02"/>
          <p:cNvSpPr/>
          <p:nvPr/>
        </p:nvSpPr>
        <p:spPr>
          <a:xfrm>
            <a:off x="4800600" y="2057400"/>
            <a:ext cx="4038480" cy="380880"/>
          </a:xfrm>
          <a:prstGeom prst="roundRect">
            <a:avLst>
              <a:gd name="adj" fmla="val 50000"/>
            </a:avLst>
          </a:prstGeom>
          <a:solidFill>
            <a:srgbClr val="d3703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370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4560" y="196488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83BA-FE39-4944-9DDA-769F8DEC2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876920" y="205704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067"/>
          <p:cNvGrpSpPr/>
          <p:nvPr/>
        </p:nvGrpSpPr>
        <p:grpSpPr>
          <a:xfrm>
            <a:off x="6995160" y="490320"/>
            <a:ext cx="702360" cy="708840"/>
            <a:chOff x="6995160" y="490320"/>
            <a:chExt cx="702360" cy="708840"/>
          </a:xfrm>
        </p:grpSpPr>
        <p:sp>
          <p:nvSpPr>
            <p:cNvPr id="128" name="椭圆 2063"/>
            <p:cNvSpPr/>
            <p:nvPr/>
          </p:nvSpPr>
          <p:spPr>
            <a:xfrm rot="1584600">
              <a:off x="7086600" y="577800"/>
              <a:ext cx="519120" cy="533520"/>
            </a:xfrm>
            <a:prstGeom prst="ellipse">
              <a:avLst/>
            </a:prstGeom>
            <a:solidFill>
              <a:srgbClr val="d3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左箭头 2064"/>
            <p:cNvSpPr/>
            <p:nvPr/>
          </p:nvSpPr>
          <p:spPr>
            <a:xfrm rot="1584600">
              <a:off x="7152840" y="716040"/>
              <a:ext cx="461880" cy="295200"/>
            </a:xfrm>
            <a:prstGeom prst="leftArrow">
              <a:avLst>
                <a:gd name="adj1" fmla="val 32009"/>
                <a:gd name="adj2" fmla="val 756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4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工作制服幻灯片免费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组合 4919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32" name="燕尾形 4915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4915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1a5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915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a50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4915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a50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915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e2b60"/>
                </a:gs>
                <a:gs pos="50000">
                  <a:srgbClr val="1a50b2"/>
                </a:gs>
                <a:gs pos="100000">
                  <a:srgbClr val="0e2b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915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113371"/>
                </a:gs>
                <a:gs pos="100000">
                  <a:srgbClr val="1a50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4916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4916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4916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4916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4916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4916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组合 4916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45" name="椭圆 4916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4916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4916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4917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椭圆 4917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b7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4917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b7e">
                    <a:alpha val="32156"/>
                  </a:srgbClr>
                </a:gs>
                <a:gs pos="100000">
                  <a:srgbClr val="1640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4917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b44"/>
                </a:gs>
                <a:gs pos="50000">
                  <a:srgbClr val="2f8b7e"/>
                </a:gs>
                <a:gs pos="100000">
                  <a:srgbClr val="194b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4917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850"/>
                </a:gs>
                <a:gs pos="100000">
                  <a:srgbClr val="2f8b7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4917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组合 4917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55" name="椭圆 4917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4917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4917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4918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4918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60" name="椭圆 4918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4918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4918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4918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圆角矩形 4918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4918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圆角矩形 4918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4918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4919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919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文本框 4919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任意多边形 70658"/>
          <p:cNvSpPr/>
          <p:nvPr/>
        </p:nvSpPr>
        <p:spPr>
          <a:xfrm>
            <a:off x="1219320" y="22096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2f8b7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70687"/>
          <p:cNvSpPr/>
          <p:nvPr/>
        </p:nvSpPr>
        <p:spPr>
          <a:xfrm>
            <a:off x="5943600" y="3962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068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70715"/>
          <p:cNvGrpSpPr/>
          <p:nvPr/>
        </p:nvGrpSpPr>
        <p:grpSpPr>
          <a:xfrm>
            <a:off x="1295280" y="1828800"/>
            <a:ext cx="3657600" cy="4181400"/>
            <a:chOff x="1295280" y="1828800"/>
            <a:chExt cx="3657600" cy="4181400"/>
          </a:xfrm>
        </p:grpSpPr>
        <p:sp>
          <p:nvSpPr>
            <p:cNvPr id="376" name="椭圆 70690"/>
            <p:cNvSpPr/>
            <p:nvPr/>
          </p:nvSpPr>
          <p:spPr>
            <a:xfrm rot="20876400">
              <a:off x="3316320" y="52005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70691"/>
            <p:cNvSpPr/>
            <p:nvPr/>
          </p:nvSpPr>
          <p:spPr>
            <a:xfrm>
              <a:off x="3247920" y="39816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70692"/>
            <p:cNvSpPr/>
            <p:nvPr/>
          </p:nvSpPr>
          <p:spPr>
            <a:xfrm>
              <a:off x="3268800" y="39909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70693"/>
            <p:cNvSpPr/>
            <p:nvPr/>
          </p:nvSpPr>
          <p:spPr>
            <a:xfrm>
              <a:off x="3286080" y="40068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70694"/>
            <p:cNvSpPr/>
            <p:nvPr/>
          </p:nvSpPr>
          <p:spPr>
            <a:xfrm>
              <a:off x="3378240" y="40514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70695"/>
            <p:cNvSpPr/>
            <p:nvPr/>
          </p:nvSpPr>
          <p:spPr>
            <a:xfrm>
              <a:off x="3665880" y="46083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70696"/>
            <p:cNvSpPr/>
            <p:nvPr/>
          </p:nvSpPr>
          <p:spPr>
            <a:xfrm rot="20826600">
              <a:off x="1473120" y="45907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70697"/>
            <p:cNvGrpSpPr/>
            <p:nvPr/>
          </p:nvGrpSpPr>
          <p:grpSpPr>
            <a:xfrm>
              <a:off x="1397160" y="3600360"/>
              <a:ext cx="1371240" cy="1441080"/>
              <a:chOff x="1397160" y="3600360"/>
              <a:chExt cx="1371240" cy="1441080"/>
            </a:xfrm>
          </p:grpSpPr>
          <p:sp>
            <p:nvSpPr>
              <p:cNvPr id="384" name="椭圆 70698"/>
              <p:cNvSpPr/>
              <p:nvPr/>
            </p:nvSpPr>
            <p:spPr>
              <a:xfrm>
                <a:off x="1397160" y="36003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70699"/>
              <p:cNvSpPr/>
              <p:nvPr/>
            </p:nvSpPr>
            <p:spPr>
              <a:xfrm>
                <a:off x="1414800" y="36086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70700"/>
              <p:cNvSpPr/>
              <p:nvPr/>
            </p:nvSpPr>
            <p:spPr>
              <a:xfrm>
                <a:off x="1428120" y="36223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70701"/>
              <p:cNvSpPr/>
              <p:nvPr/>
            </p:nvSpPr>
            <p:spPr>
              <a:xfrm>
                <a:off x="1499760" y="36590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文本框 70702"/>
              <p:cNvSpPr/>
              <p:nvPr/>
            </p:nvSpPr>
            <p:spPr>
              <a:xfrm>
                <a:off x="1677600" y="4106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椭圆 70703"/>
            <p:cNvSpPr/>
            <p:nvPr/>
          </p:nvSpPr>
          <p:spPr>
            <a:xfrm>
              <a:off x="1295280" y="28353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70704"/>
            <p:cNvSpPr/>
            <p:nvPr/>
          </p:nvSpPr>
          <p:spPr>
            <a:xfrm>
              <a:off x="1371600" y="22287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70705"/>
            <p:cNvSpPr/>
            <p:nvPr/>
          </p:nvSpPr>
          <p:spPr>
            <a:xfrm>
              <a:off x="1384200" y="22334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70706"/>
            <p:cNvSpPr/>
            <p:nvPr/>
          </p:nvSpPr>
          <p:spPr>
            <a:xfrm>
              <a:off x="1395360" y="22446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70707"/>
            <p:cNvSpPr/>
            <p:nvPr/>
          </p:nvSpPr>
          <p:spPr>
            <a:xfrm>
              <a:off x="1449360" y="22701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70708"/>
            <p:cNvSpPr/>
            <p:nvPr/>
          </p:nvSpPr>
          <p:spPr>
            <a:xfrm>
              <a:off x="1568520" y="2577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70709"/>
            <p:cNvSpPr/>
            <p:nvPr/>
          </p:nvSpPr>
          <p:spPr>
            <a:xfrm>
              <a:off x="2562120" y="23623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70710"/>
            <p:cNvSpPr/>
            <p:nvPr/>
          </p:nvSpPr>
          <p:spPr>
            <a:xfrm>
              <a:off x="2684520" y="18288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70711"/>
            <p:cNvSpPr/>
            <p:nvPr/>
          </p:nvSpPr>
          <p:spPr>
            <a:xfrm>
              <a:off x="2693880" y="18320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70712"/>
            <p:cNvSpPr/>
            <p:nvPr/>
          </p:nvSpPr>
          <p:spPr>
            <a:xfrm>
              <a:off x="2700360" y="18381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0713"/>
            <p:cNvSpPr/>
            <p:nvPr/>
          </p:nvSpPr>
          <p:spPr>
            <a:xfrm>
              <a:off x="2736720" y="18572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0714"/>
            <p:cNvSpPr/>
            <p:nvPr/>
          </p:nvSpPr>
          <p:spPr>
            <a:xfrm>
              <a:off x="2754720" y="2052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2" name="组合 7888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3" name="右箭头 7885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右箭头 7885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右箭头 7885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右箭头 7885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7885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7885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7885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7885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7885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7885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7886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7886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7886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7886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7886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7886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7886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7886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7886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7886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a50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78870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1a50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7887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e2b60"/>
                </a:gs>
                <a:gs pos="50000">
                  <a:srgbClr val="1a50b2"/>
                </a:gs>
                <a:gs pos="100000">
                  <a:srgbClr val="0e2b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78872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13371"/>
                </a:gs>
                <a:gs pos="100000">
                  <a:srgbClr val="1a50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7887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7887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8" name="椭圆 7887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7887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椭圆 7887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7887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文本框 7887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文本框 7172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71727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436" name="圆角矩形 71728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71729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71730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71731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71732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1733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71734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443" name="椭圆 71735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71736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71737"/>
              <p:cNvSpPr/>
              <p:nvPr/>
            </p:nvSpPr>
            <p:spPr>
              <a:xfrm>
                <a:off x="190188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71738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71739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文本框 71740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71741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1742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451" name="圆角矩形 71743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1744"/>
            <p:cNvSpPr/>
            <p:nvPr/>
          </p:nvSpPr>
          <p:spPr>
            <a:xfrm>
              <a:off x="353844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1745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1746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71747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71748"/>
            <p:cNvSpPr/>
            <p:nvPr/>
          </p:nvSpPr>
          <p:spPr>
            <a:xfrm>
              <a:off x="4255920" y="19890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71749"/>
            <p:cNvSpPr/>
            <p:nvPr/>
          </p:nvSpPr>
          <p:spPr>
            <a:xfrm>
              <a:off x="4264200" y="19922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71750"/>
            <p:cNvSpPr/>
            <p:nvPr/>
          </p:nvSpPr>
          <p:spPr>
            <a:xfrm>
              <a:off x="4270320" y="19987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71751"/>
            <p:cNvSpPr/>
            <p:nvPr/>
          </p:nvSpPr>
          <p:spPr>
            <a:xfrm>
              <a:off x="4305240" y="20145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71752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71753"/>
            <p:cNvSpPr/>
            <p:nvPr/>
          </p:nvSpPr>
          <p:spPr>
            <a:xfrm>
              <a:off x="358128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71754"/>
            <p:cNvSpPr/>
            <p:nvPr/>
          </p:nvSpPr>
          <p:spPr>
            <a:xfrm>
              <a:off x="3508200" y="51498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71755"/>
            <p:cNvSpPr/>
            <p:nvPr/>
          </p:nvSpPr>
          <p:spPr>
            <a:xfrm>
              <a:off x="35528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71756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65" name="圆角矩形 71757"/>
            <p:cNvSpPr/>
            <p:nvPr/>
          </p:nvSpPr>
          <p:spPr>
            <a:xfrm>
              <a:off x="5867280" y="22921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71758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71759"/>
            <p:cNvSpPr/>
            <p:nvPr/>
          </p:nvSpPr>
          <p:spPr>
            <a:xfrm>
              <a:off x="5918040" y="43639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71760"/>
            <p:cNvSpPr/>
            <p:nvPr/>
          </p:nvSpPr>
          <p:spPr>
            <a:xfrm>
              <a:off x="5918040" y="23223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组合 71761"/>
            <p:cNvGrpSpPr/>
            <p:nvPr/>
          </p:nvGrpSpPr>
          <p:grpSpPr>
            <a:xfrm>
              <a:off x="6611760" y="1984320"/>
              <a:ext cx="642960" cy="642960"/>
              <a:chOff x="6611760" y="1984320"/>
              <a:chExt cx="642960" cy="642960"/>
            </a:xfrm>
          </p:grpSpPr>
          <p:sp>
            <p:nvSpPr>
              <p:cNvPr id="470" name="椭圆 71762"/>
              <p:cNvSpPr/>
              <p:nvPr/>
            </p:nvSpPr>
            <p:spPr>
              <a:xfrm>
                <a:off x="6611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71763"/>
              <p:cNvSpPr/>
              <p:nvPr/>
            </p:nvSpPr>
            <p:spPr>
              <a:xfrm>
                <a:off x="6618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71764"/>
              <p:cNvSpPr/>
              <p:nvPr/>
            </p:nvSpPr>
            <p:spPr>
              <a:xfrm>
                <a:off x="662616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71765"/>
              <p:cNvSpPr/>
              <p:nvPr/>
            </p:nvSpPr>
            <p:spPr>
              <a:xfrm>
                <a:off x="6632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71766"/>
              <p:cNvSpPr/>
              <p:nvPr/>
            </p:nvSpPr>
            <p:spPr>
              <a:xfrm>
                <a:off x="6666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文本框 71767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71768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71769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圆角矩形 71770"/>
            <p:cNvSpPr/>
            <p:nvPr/>
          </p:nvSpPr>
          <p:spPr>
            <a:xfrm>
              <a:off x="59054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0" name="组合 5334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81" name="组合 53339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2" name="矩形 53250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53251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5334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5" name="组合 53305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6" name="组合 53306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7" name="任意多边形 53307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任意多边形 5330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组合 53309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0" name="任意多边形 53310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任意多边形 53311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组合 5331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3" name="椭圆 5331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5331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53315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53316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53317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组合 53318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99" name="椭圆 53319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53320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53321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53322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文本框 5332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文本框 53324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53344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6" name="组合 53287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7" name="组合 53288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8" name="任意多边形 53289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任意多边形 53290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组合 53291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1" name="任意多边形 53292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任意多边形 53293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" name="组合 53294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4" name="椭圆 5329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53296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53297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53298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53299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组合 53300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0" name="椭圆 53301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53302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53303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53304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文本框 53325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文本框 53326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组合 5334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7" name="组合 53252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8" name="组合 53253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29" name="任意多边形 53254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任意多边形 53255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组合 53256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2" name="任意多边形 53257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任意多边形 53258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组合 53259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5" name="椭圆 53260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53261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53262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53263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53264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组合 53265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1" name="椭圆 53266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53267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53268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53269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文本框 53327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文本框 53328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5334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8" name="组合 53270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49" name="组合 53271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0" name="任意多边形 53272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53273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组合 53274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3" name="任意多边形 53275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53276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椭圆 53277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5327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53279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椭圆 53280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53281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组合 53282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1" name="椭圆 53283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53284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53285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53286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文本框 53329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文本框 53330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组合 53341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68" name="文本框 5333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文本框 5333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53333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文本框 53334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2" name="直接箭头连接符 53335"/>
              <p:cNvCxnSpPr>
                <a:stCxn id="568" idx="3"/>
                <a:endCxn id="569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73" name="直接箭头连接符 53336"/>
              <p:cNvCxnSpPr>
                <a:stCxn id="569" idx="3"/>
                <a:endCxn id="570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53340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5" name="文本框 5334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78" name="组合 54280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79" name="燕尾形 5427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3703f"/>
                </a:gs>
                <a:gs pos="100000">
                  <a:srgbClr val="e09b7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燕尾形 5427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5f85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燕尾形 5427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f8b7e"/>
                </a:gs>
                <a:gs pos="100000">
                  <a:srgbClr val="6eaea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5427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b7e"/>
                </a:gs>
                <a:gs pos="100000">
                  <a:srgbClr val="6eaea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圆角矩形 5427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5f85c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圆角矩形 5427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703f"/>
                </a:gs>
                <a:gs pos="100000">
                  <a:srgbClr val="e09b7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5428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圆角矩形 5529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圆角矩形 5529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圆角矩形 5530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圆角矩形 5530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55302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92" name="矩形 5530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c25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组合 55304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94" name="椭圆 5530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矩形 55306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55307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55308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矩形 5530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组合 55310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0" name="椭圆 5531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55312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椭圆 55313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55314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矩形 55315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c25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组合 55316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06" name="椭圆 55317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矩形 55318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椭圆 5531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55320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矩形 55321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矩形 5532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5532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532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5532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532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532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532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532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5533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74960"/>
          <a:ext cx="7139160" cy="4030560"/>
        </p:xfrm>
        <a:graphic>
          <a:graphicData uri="http://schemas.openxmlformats.org/drawingml/2006/table">
            <a:tbl>
              <a:tblPr/>
              <a:tblGrid>
                <a:gridCol w="1425600"/>
                <a:gridCol w="1143000"/>
                <a:gridCol w="1141560"/>
                <a:gridCol w="1141200"/>
                <a:gridCol w="1144800"/>
                <a:gridCol w="1143000"/>
              </a:tblGrid>
              <a:tr h="501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1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622" name="文本框 5639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72727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624" name="椭圆 72706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2707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2708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72709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6e90c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72710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216158"/>
                </a:gs>
                <a:gs pos="100000">
                  <a:srgbClr val="2f8b7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72711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133a8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72712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d3703f"/>
                </a:gs>
                <a:gs pos="100000">
                  <a:srgbClr val="62341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72713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72714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72715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72716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72717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72718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72719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72720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72721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2722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a50b2">
                    <a:alpha val="19215"/>
                  </a:srgbClr>
                </a:gs>
                <a:gs pos="100000">
                  <a:srgbClr val="668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72723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文本框 7272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45" name="组合 77826"/>
          <p:cNvGrpSpPr/>
          <p:nvPr/>
        </p:nvGrpSpPr>
        <p:grpSpPr>
          <a:xfrm>
            <a:off x="1066680" y="1752480"/>
            <a:ext cx="7010280" cy="4419000"/>
            <a:chOff x="1066680" y="1752480"/>
            <a:chExt cx="7010280" cy="4419000"/>
          </a:xfrm>
        </p:grpSpPr>
        <p:sp>
          <p:nvSpPr>
            <p:cNvPr id="646" name="上箭头 77827"/>
            <p:cNvSpPr/>
            <p:nvPr/>
          </p:nvSpPr>
          <p:spPr>
            <a:xfrm>
              <a:off x="1999080" y="2468160"/>
              <a:ext cx="5206320" cy="2576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77828"/>
            <p:cNvSpPr/>
            <p:nvPr/>
          </p:nvSpPr>
          <p:spPr>
            <a:xfrm>
              <a:off x="1783800" y="175248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5049"/>
                </a:gs>
                <a:gs pos="50000">
                  <a:srgbClr val="2f8b7e"/>
                </a:gs>
                <a:gs pos="100000">
                  <a:srgbClr val="1b504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文本框 77829"/>
            <p:cNvSpPr/>
            <p:nvPr/>
          </p:nvSpPr>
          <p:spPr>
            <a:xfrm>
              <a:off x="3538800" y="3042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组合 77830"/>
            <p:cNvGrpSpPr/>
            <p:nvPr/>
          </p:nvGrpSpPr>
          <p:grpSpPr>
            <a:xfrm>
              <a:off x="1066680" y="4227480"/>
              <a:ext cx="1486800" cy="1944000"/>
              <a:chOff x="1066680" y="4227480"/>
              <a:chExt cx="1486800" cy="1944000"/>
            </a:xfrm>
          </p:grpSpPr>
          <p:grpSp>
            <p:nvGrpSpPr>
              <p:cNvPr id="650" name="组合 77831"/>
              <p:cNvGrpSpPr/>
              <p:nvPr/>
            </p:nvGrpSpPr>
            <p:grpSpPr>
              <a:xfrm>
                <a:off x="1066680" y="4227480"/>
                <a:ext cx="1398600" cy="1422360"/>
                <a:chOff x="1066680" y="4227480"/>
                <a:chExt cx="1398600" cy="1422360"/>
              </a:xfrm>
            </p:grpSpPr>
            <p:grpSp>
              <p:nvGrpSpPr>
                <p:cNvPr id="651" name="组合 77832"/>
                <p:cNvGrpSpPr/>
                <p:nvPr/>
              </p:nvGrpSpPr>
              <p:grpSpPr>
                <a:xfrm>
                  <a:off x="1066680" y="4227480"/>
                  <a:ext cx="1398600" cy="1422360"/>
                  <a:chOff x="1066680" y="4227480"/>
                  <a:chExt cx="1398600" cy="1422360"/>
                </a:xfrm>
              </p:grpSpPr>
              <p:sp>
                <p:nvSpPr>
                  <p:cNvPr id="652" name="椭圆 77833"/>
                  <p:cNvSpPr/>
                  <p:nvPr/>
                </p:nvSpPr>
                <p:spPr>
                  <a:xfrm>
                    <a:off x="1066680" y="422748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3703f"/>
                      </a:gs>
                      <a:gs pos="100000">
                        <a:srgbClr val="8647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任意多边形 77834"/>
                  <p:cNvSpPr/>
                  <p:nvPr/>
                </p:nvSpPr>
                <p:spPr>
                  <a:xfrm>
                    <a:off x="1226520" y="425088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370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文本框 77835"/>
                <p:cNvSpPr/>
                <p:nvPr/>
              </p:nvSpPr>
              <p:spPr>
                <a:xfrm>
                  <a:off x="1182960" y="49514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椭圆 77836"/>
              <p:cNvSpPr/>
              <p:nvPr/>
            </p:nvSpPr>
            <p:spPr>
              <a:xfrm>
                <a:off x="106668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77837"/>
            <p:cNvGrpSpPr/>
            <p:nvPr/>
          </p:nvGrpSpPr>
          <p:grpSpPr>
            <a:xfrm>
              <a:off x="2859840" y="4227480"/>
              <a:ext cx="1522080" cy="1944000"/>
              <a:chOff x="2859840" y="4227480"/>
              <a:chExt cx="1522080" cy="1944000"/>
            </a:xfrm>
          </p:grpSpPr>
          <p:grpSp>
            <p:nvGrpSpPr>
              <p:cNvPr id="657" name="组合 77838"/>
              <p:cNvGrpSpPr/>
              <p:nvPr/>
            </p:nvGrpSpPr>
            <p:grpSpPr>
              <a:xfrm>
                <a:off x="2859840" y="4227480"/>
                <a:ext cx="1434240" cy="1428120"/>
                <a:chOff x="2859840" y="4227480"/>
                <a:chExt cx="1434240" cy="1428120"/>
              </a:xfrm>
            </p:grpSpPr>
            <p:sp>
              <p:nvSpPr>
                <p:cNvPr id="658" name="椭圆 77839"/>
                <p:cNvSpPr/>
                <p:nvPr/>
              </p:nvSpPr>
              <p:spPr>
                <a:xfrm>
                  <a:off x="2859840" y="422748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50b2"/>
                    </a:gs>
                    <a:gs pos="100000">
                      <a:srgbClr val="0d29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 77840"/>
                <p:cNvSpPr/>
                <p:nvPr/>
              </p:nvSpPr>
              <p:spPr>
                <a:xfrm>
                  <a:off x="3023640" y="42508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a50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文本框 77841"/>
              <p:cNvSpPr/>
              <p:nvPr/>
            </p:nvSpPr>
            <p:spPr>
              <a:xfrm>
                <a:off x="2931120" y="491328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椭圆 77842"/>
              <p:cNvSpPr/>
              <p:nvPr/>
            </p:nvSpPr>
            <p:spPr>
              <a:xfrm>
                <a:off x="2895480" y="576036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组合 77843"/>
            <p:cNvGrpSpPr/>
            <p:nvPr/>
          </p:nvGrpSpPr>
          <p:grpSpPr>
            <a:xfrm>
              <a:off x="4797000" y="4186080"/>
              <a:ext cx="1535760" cy="1985400"/>
              <a:chOff x="4797000" y="4186080"/>
              <a:chExt cx="1535760" cy="1985400"/>
            </a:xfrm>
          </p:grpSpPr>
          <p:grpSp>
            <p:nvGrpSpPr>
              <p:cNvPr id="663" name="组合 77844"/>
              <p:cNvGrpSpPr/>
              <p:nvPr/>
            </p:nvGrpSpPr>
            <p:grpSpPr>
              <a:xfrm>
                <a:off x="4797000" y="4186080"/>
                <a:ext cx="1434240" cy="1428120"/>
                <a:chOff x="4797000" y="4186080"/>
                <a:chExt cx="1434240" cy="1428120"/>
              </a:xfrm>
            </p:grpSpPr>
            <p:sp>
              <p:nvSpPr>
                <p:cNvPr id="664" name="椭圆 77845"/>
                <p:cNvSpPr/>
                <p:nvPr/>
              </p:nvSpPr>
              <p:spPr>
                <a:xfrm>
                  <a:off x="4797000" y="418608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8b7e"/>
                    </a:gs>
                    <a:gs pos="100000">
                      <a:srgbClr val="1847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 77846"/>
                <p:cNvSpPr/>
                <p:nvPr/>
              </p:nvSpPr>
              <p:spPr>
                <a:xfrm>
                  <a:off x="4960800" y="42094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f8b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文本框 77847"/>
              <p:cNvSpPr/>
              <p:nvPr/>
            </p:nvSpPr>
            <p:spPr>
              <a:xfrm>
                <a:off x="4868280" y="487152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椭圆 77848"/>
              <p:cNvSpPr/>
              <p:nvPr/>
            </p:nvSpPr>
            <p:spPr>
              <a:xfrm>
                <a:off x="484596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77849"/>
            <p:cNvGrpSpPr/>
            <p:nvPr/>
          </p:nvGrpSpPr>
          <p:grpSpPr>
            <a:xfrm>
              <a:off x="6590160" y="4186080"/>
              <a:ext cx="1486800" cy="1985400"/>
              <a:chOff x="6590160" y="4186080"/>
              <a:chExt cx="1486800" cy="1985400"/>
            </a:xfrm>
          </p:grpSpPr>
          <p:grpSp>
            <p:nvGrpSpPr>
              <p:cNvPr id="669" name="组合 77850"/>
              <p:cNvGrpSpPr/>
              <p:nvPr/>
            </p:nvGrpSpPr>
            <p:grpSpPr>
              <a:xfrm>
                <a:off x="6590160" y="4186080"/>
                <a:ext cx="1434600" cy="1438200"/>
                <a:chOff x="6590160" y="4186080"/>
                <a:chExt cx="1434600" cy="1438200"/>
              </a:xfrm>
            </p:grpSpPr>
            <p:grpSp>
              <p:nvGrpSpPr>
                <p:cNvPr id="670" name="组合 77851"/>
                <p:cNvGrpSpPr/>
                <p:nvPr/>
              </p:nvGrpSpPr>
              <p:grpSpPr>
                <a:xfrm>
                  <a:off x="6590160" y="4186080"/>
                  <a:ext cx="1434600" cy="1438200"/>
                  <a:chOff x="6590160" y="4186080"/>
                  <a:chExt cx="1434600" cy="1438200"/>
                </a:xfrm>
              </p:grpSpPr>
              <p:sp>
                <p:nvSpPr>
                  <p:cNvPr id="671" name="椭圆 77852"/>
                  <p:cNvSpPr/>
                  <p:nvPr/>
                </p:nvSpPr>
                <p:spPr>
                  <a:xfrm>
                    <a:off x="6590160" y="418608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55ada"/>
                      </a:gs>
                      <a:gs pos="100000">
                        <a:srgbClr val="2016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任意多边形 77853"/>
                  <p:cNvSpPr/>
                  <p:nvPr/>
                </p:nvSpPr>
                <p:spPr>
                  <a:xfrm>
                    <a:off x="6753960" y="420984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55ad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文本框 77854"/>
                <p:cNvSpPr/>
                <p:nvPr/>
              </p:nvSpPr>
              <p:spPr>
                <a:xfrm>
                  <a:off x="6690240" y="48564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椭圆 77855"/>
              <p:cNvSpPr/>
              <p:nvPr/>
            </p:nvSpPr>
            <p:spPr>
              <a:xfrm>
                <a:off x="659016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组合 40995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34" name="组合 40962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35" name="六边形 40963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六边形 40964"/>
              <p:cNvSpPr/>
              <p:nvPr/>
            </p:nvSpPr>
            <p:spPr>
              <a:xfrm>
                <a:off x="1828800" y="20239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六边形 40965"/>
              <p:cNvSpPr/>
              <p:nvPr/>
            </p:nvSpPr>
            <p:spPr>
              <a:xfrm>
                <a:off x="1873080" y="20631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0c2552"/>
                  </a:gs>
                  <a:gs pos="100000">
                    <a:srgbClr val="1a50b2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38280" y="2633760"/>
              <a:ext cx="4800600" cy="360"/>
              <a:chOff x="2438280" y="2633760"/>
              <a:chExt cx="4800600" cy="360"/>
            </a:xfrm>
          </p:grpSpPr>
          <p:sp>
            <p:nvSpPr>
              <p:cNvPr id="139" name="直接连接符 40970"/>
              <p:cNvSpPr/>
              <p:nvPr/>
            </p:nvSpPr>
            <p:spPr>
              <a:xfrm>
                <a:off x="2438280" y="263376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438280" y="2633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文本框 40971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40972"/>
            <p:cNvSpPr/>
            <p:nvPr/>
          </p:nvSpPr>
          <p:spPr>
            <a:xfrm>
              <a:off x="202752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0996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44" name="组合 40966"/>
            <p:cNvGrpSpPr/>
            <p:nvPr/>
          </p:nvGrpSpPr>
          <p:grpSpPr>
            <a:xfrm>
              <a:off x="1828800" y="2938320"/>
              <a:ext cx="761760" cy="665280"/>
              <a:chOff x="1828800" y="2938320"/>
              <a:chExt cx="761760" cy="665280"/>
            </a:xfrm>
          </p:grpSpPr>
          <p:sp>
            <p:nvSpPr>
              <p:cNvPr id="145" name="六边形 40967"/>
              <p:cNvSpPr/>
              <p:nvPr/>
            </p:nvSpPr>
            <p:spPr>
              <a:xfrm>
                <a:off x="1834920" y="2949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六边形 40968"/>
              <p:cNvSpPr/>
              <p:nvPr/>
            </p:nvSpPr>
            <p:spPr>
              <a:xfrm>
                <a:off x="1828800" y="2938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六边形 40969"/>
              <p:cNvSpPr/>
              <p:nvPr/>
            </p:nvSpPr>
            <p:spPr>
              <a:xfrm>
                <a:off x="1873080" y="2977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38280" y="3548160"/>
              <a:ext cx="4800600" cy="360"/>
              <a:chOff x="2438280" y="3548160"/>
              <a:chExt cx="4800600" cy="360"/>
            </a:xfrm>
          </p:grpSpPr>
          <p:sp>
            <p:nvSpPr>
              <p:cNvPr id="149" name="直接连接符 40973"/>
              <p:cNvSpPr/>
              <p:nvPr/>
            </p:nvSpPr>
            <p:spPr>
              <a:xfrm>
                <a:off x="2438280" y="354816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2438280" y="35481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40974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0975"/>
            <p:cNvSpPr/>
            <p:nvPr/>
          </p:nvSpPr>
          <p:spPr>
            <a:xfrm>
              <a:off x="2027520" y="303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0997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54" name="组合 40976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55" name="六边形 40977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六边形 40978"/>
              <p:cNvSpPr/>
              <p:nvPr/>
            </p:nvSpPr>
            <p:spPr>
              <a:xfrm>
                <a:off x="1828800" y="38307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六边形 40979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c2552"/>
                  </a:gs>
                  <a:gs pos="100000">
                    <a:srgbClr val="1a50b2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38280" y="4440240"/>
              <a:ext cx="4800600" cy="360"/>
              <a:chOff x="2438280" y="4440240"/>
              <a:chExt cx="4800600" cy="360"/>
            </a:xfrm>
          </p:grpSpPr>
          <p:sp>
            <p:nvSpPr>
              <p:cNvPr id="159" name="直接连接符 40984"/>
              <p:cNvSpPr/>
              <p:nvPr/>
            </p:nvSpPr>
            <p:spPr>
              <a:xfrm>
                <a:off x="2438280" y="444024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2438280" y="44402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文本框 4098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40986"/>
            <p:cNvSpPr/>
            <p:nvPr/>
          </p:nvSpPr>
          <p:spPr>
            <a:xfrm>
              <a:off x="202752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40998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64" name="组合 40980"/>
            <p:cNvGrpSpPr/>
            <p:nvPr/>
          </p:nvGrpSpPr>
          <p:grpSpPr>
            <a:xfrm>
              <a:off x="1828800" y="4745160"/>
              <a:ext cx="761760" cy="664920"/>
              <a:chOff x="1828800" y="4745160"/>
              <a:chExt cx="761760" cy="664920"/>
            </a:xfrm>
          </p:grpSpPr>
          <p:sp>
            <p:nvSpPr>
              <p:cNvPr id="165" name="六边形 40981"/>
              <p:cNvSpPr/>
              <p:nvPr/>
            </p:nvSpPr>
            <p:spPr>
              <a:xfrm>
                <a:off x="1834920" y="4756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六边形 40982"/>
              <p:cNvSpPr/>
              <p:nvPr/>
            </p:nvSpPr>
            <p:spPr>
              <a:xfrm>
                <a:off x="1828800" y="47451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六边形 40983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438280" y="5354640"/>
              <a:ext cx="4800600" cy="360"/>
              <a:chOff x="2438280" y="5354640"/>
              <a:chExt cx="4800600" cy="360"/>
            </a:xfrm>
          </p:grpSpPr>
          <p:sp>
            <p:nvSpPr>
              <p:cNvPr id="169" name="直接连接符 40987"/>
              <p:cNvSpPr/>
              <p:nvPr/>
            </p:nvSpPr>
            <p:spPr>
              <a:xfrm>
                <a:off x="2438280" y="535464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438280" y="53546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文本框 40988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40989"/>
            <p:cNvSpPr/>
            <p:nvPr/>
          </p:nvSpPr>
          <p:spPr>
            <a:xfrm>
              <a:off x="20275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4099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099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E8F-4AC2-4CFE-AAA5-BB55242EE8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800240" y="211464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59394"/>
          <p:cNvSpPr txBox="1"/>
          <p:nvPr/>
        </p:nvSpPr>
        <p:spPr>
          <a:xfrm>
            <a:off x="1981080" y="2819520"/>
            <a:ext cx="5334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a50b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a50b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94800" y="1965240"/>
            <a:ext cx="7788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4198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1989"/>
          <p:cNvSpPr/>
          <p:nvPr/>
        </p:nvSpPr>
        <p:spPr>
          <a:xfrm>
            <a:off x="1523880" y="571500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组合 43030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81" name="圆角矩形 43012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43013"/>
            <p:cNvSpPr/>
            <p:nvPr/>
          </p:nvSpPr>
          <p:spPr>
            <a:xfrm>
              <a:off x="1238400" y="3705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任意多边形 43015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703f"/>
              </a:gs>
              <a:gs pos="100000">
                <a:srgbClr val="e3a4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3016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43032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86" name="组合 43018"/>
            <p:cNvGrpSpPr/>
            <p:nvPr/>
          </p:nvGrpSpPr>
          <p:grpSpPr>
            <a:xfrm>
              <a:off x="3048120" y="1781280"/>
              <a:ext cx="2998440" cy="1600920"/>
              <a:chOff x="3048120" y="1781280"/>
              <a:chExt cx="2998440" cy="1600920"/>
            </a:xfrm>
          </p:grpSpPr>
          <p:grpSp>
            <p:nvGrpSpPr>
              <p:cNvPr id="187" name="组合 43019"/>
              <p:cNvGrpSpPr/>
              <p:nvPr/>
            </p:nvGrpSpPr>
            <p:grpSpPr>
              <a:xfrm>
                <a:off x="3048120" y="1923840"/>
                <a:ext cx="2998440" cy="1458360"/>
                <a:chOff x="3048120" y="1923840"/>
                <a:chExt cx="2998440" cy="1458360"/>
              </a:xfrm>
            </p:grpSpPr>
            <p:sp>
              <p:nvSpPr>
                <p:cNvPr id="188" name="椭圆 43020"/>
                <p:cNvSpPr/>
                <p:nvPr/>
              </p:nvSpPr>
              <p:spPr>
                <a:xfrm>
                  <a:off x="3080880" y="1970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50b2"/>
                    </a:gs>
                    <a:gs pos="100000">
                      <a:srgbClr val="0d275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43021"/>
                <p:cNvSpPr/>
                <p:nvPr/>
              </p:nvSpPr>
              <p:spPr>
                <a:xfrm>
                  <a:off x="3048120" y="192384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b1dd"/>
                    </a:gs>
                    <a:gs pos="100000">
                      <a:srgbClr val="1a50b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椭圆 43022"/>
              <p:cNvSpPr/>
              <p:nvPr/>
            </p:nvSpPr>
            <p:spPr>
              <a:xfrm>
                <a:off x="318960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椭圆 43023"/>
              <p:cNvSpPr/>
              <p:nvPr/>
            </p:nvSpPr>
            <p:spPr>
              <a:xfrm>
                <a:off x="3224520" y="178884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2f8b7e">
                      <a:alpha val="0"/>
                    </a:srgbClr>
                  </a:gs>
                  <a:gs pos="100000">
                    <a:srgbClr val="b6d7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43024"/>
              <p:cNvSpPr/>
              <p:nvPr/>
            </p:nvSpPr>
            <p:spPr>
              <a:xfrm>
                <a:off x="3251520" y="180180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256e64"/>
                  </a:gs>
                  <a:gs pos="100000">
                    <a:srgbClr val="2f8b7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3025"/>
              <p:cNvSpPr/>
              <p:nvPr/>
            </p:nvSpPr>
            <p:spPr>
              <a:xfrm>
                <a:off x="3383280" y="182880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f8b7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文本框 43026"/>
            <p:cNvSpPr/>
            <p:nvPr/>
          </p:nvSpPr>
          <p:spPr>
            <a:xfrm>
              <a:off x="3882960" y="1981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4302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43031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97" name="圆角矩形 43010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43029"/>
            <p:cNvSpPr/>
            <p:nvPr/>
          </p:nvSpPr>
          <p:spPr>
            <a:xfrm>
              <a:off x="5810400" y="37339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任意多边形 43017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b6c7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组合 75778"/>
          <p:cNvGrpSpPr/>
          <p:nvPr/>
        </p:nvGrpSpPr>
        <p:grpSpPr>
          <a:xfrm>
            <a:off x="330120" y="1546200"/>
            <a:ext cx="8294760" cy="5187960"/>
            <a:chOff x="330120" y="1546200"/>
            <a:chExt cx="8294760" cy="5187960"/>
          </a:xfrm>
        </p:grpSpPr>
        <p:sp>
          <p:nvSpPr>
            <p:cNvPr id="202" name="任意多边形 75779"/>
            <p:cNvSpPr/>
            <p:nvPr/>
          </p:nvSpPr>
          <p:spPr>
            <a:xfrm rot="20241600">
              <a:off x="1042560" y="276804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75780"/>
            <p:cNvSpPr/>
            <p:nvPr/>
          </p:nvSpPr>
          <p:spPr>
            <a:xfrm rot="20056200">
              <a:off x="4469760" y="26150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75781"/>
            <p:cNvSpPr/>
            <p:nvPr/>
          </p:nvSpPr>
          <p:spPr>
            <a:xfrm rot="20056200">
              <a:off x="7401960" y="287424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75782"/>
            <p:cNvSpPr/>
            <p:nvPr/>
          </p:nvSpPr>
          <p:spPr>
            <a:xfrm rot="20056200">
              <a:off x="2830680" y="58064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75783"/>
            <p:cNvSpPr/>
            <p:nvPr/>
          </p:nvSpPr>
          <p:spPr>
            <a:xfrm rot="20056200">
              <a:off x="5677560" y="51739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75784"/>
            <p:cNvSpPr/>
            <p:nvPr/>
          </p:nvSpPr>
          <p:spPr>
            <a:xfrm rot="20056200">
              <a:off x="1882080" y="41673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75785"/>
            <p:cNvSpPr/>
            <p:nvPr/>
          </p:nvSpPr>
          <p:spPr>
            <a:xfrm>
              <a:off x="3792600" y="192564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91c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75786"/>
            <p:cNvSpPr/>
            <p:nvPr/>
          </p:nvSpPr>
          <p:spPr>
            <a:xfrm>
              <a:off x="1262160" y="34167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2f8b7e"/>
                </a:gs>
                <a:gs pos="100000">
                  <a:srgbClr val="0f2c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75787"/>
            <p:cNvSpPr/>
            <p:nvPr/>
          </p:nvSpPr>
          <p:spPr>
            <a:xfrm>
              <a:off x="2150280" y="50774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3703f"/>
                </a:gs>
                <a:gs pos="100000">
                  <a:srgbClr val="4b28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75788"/>
            <p:cNvSpPr/>
            <p:nvPr/>
          </p:nvSpPr>
          <p:spPr>
            <a:xfrm>
              <a:off x="4944600" y="44607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5789"/>
            <p:cNvSpPr/>
            <p:nvPr/>
          </p:nvSpPr>
          <p:spPr>
            <a:xfrm>
              <a:off x="6784200" y="214848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5790"/>
            <p:cNvSpPr/>
            <p:nvPr/>
          </p:nvSpPr>
          <p:spPr>
            <a:xfrm>
              <a:off x="1526760" y="386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75791"/>
            <p:cNvSpPr/>
            <p:nvPr/>
          </p:nvSpPr>
          <p:spPr>
            <a:xfrm>
              <a:off x="4133880" y="2372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75792"/>
            <p:cNvSpPr/>
            <p:nvPr/>
          </p:nvSpPr>
          <p:spPr>
            <a:xfrm>
              <a:off x="7088400" y="2644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5793"/>
            <p:cNvSpPr/>
            <p:nvPr/>
          </p:nvSpPr>
          <p:spPr>
            <a:xfrm>
              <a:off x="5285880" y="4908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75794"/>
            <p:cNvSpPr/>
            <p:nvPr/>
          </p:nvSpPr>
          <p:spPr>
            <a:xfrm>
              <a:off x="2444760" y="5517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75795"/>
            <p:cNvSpPr/>
            <p:nvPr/>
          </p:nvSpPr>
          <p:spPr>
            <a:xfrm>
              <a:off x="3348720" y="373680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12720" y="2372760"/>
              <a:ext cx="1841760" cy="1415880"/>
              <a:chOff x="2412720" y="2372760"/>
              <a:chExt cx="1841760" cy="1415880"/>
            </a:xfrm>
          </p:grpSpPr>
          <p:sp>
            <p:nvSpPr>
              <p:cNvPr id="220" name="直接连接符 75796"/>
              <p:cNvSpPr/>
              <p:nvPr/>
            </p:nvSpPr>
            <p:spPr>
              <a:xfrm>
                <a:off x="2412720" y="2372760"/>
                <a:ext cx="1841760" cy="14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2412720" y="2372760"/>
                <a:ext cx="1841760" cy="141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2" name="直接箭头连接符 75797"/>
            <p:cNvCxnSpPr/>
            <p:nvPr/>
          </p:nvCxnSpPr>
          <p:spPr>
            <a:xfrm flipH="1">
              <a:off x="470880" y="237240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3" name="文本框 75798"/>
            <p:cNvSpPr/>
            <p:nvPr/>
          </p:nvSpPr>
          <p:spPr>
            <a:xfrm>
              <a:off x="330120" y="192564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7579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页脚占位符 1"/>
          <p:cNvSpPr/>
          <p:nvPr/>
        </p:nvSpPr>
        <p:spPr>
          <a:xfrm>
            <a:off x="6629400" y="655308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7" name="组合 45076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228" name="圆柱形 45058"/>
            <p:cNvSpPr/>
            <p:nvPr/>
          </p:nvSpPr>
          <p:spPr>
            <a:xfrm>
              <a:off x="37591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柱形 45059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柱形 45060"/>
            <p:cNvSpPr/>
            <p:nvPr/>
          </p:nvSpPr>
          <p:spPr>
            <a:xfrm>
              <a:off x="37591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45061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062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5063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左箭头 45064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45065"/>
            <p:cNvSpPr/>
            <p:nvPr/>
          </p:nvSpPr>
          <p:spPr>
            <a:xfrm>
              <a:off x="12952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5066"/>
            <p:cNvSpPr/>
            <p:nvPr/>
          </p:nvSpPr>
          <p:spPr>
            <a:xfrm>
              <a:off x="13651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45067"/>
            <p:cNvSpPr/>
            <p:nvPr/>
          </p:nvSpPr>
          <p:spPr>
            <a:xfrm>
              <a:off x="60825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5068"/>
            <p:cNvSpPr/>
            <p:nvPr/>
          </p:nvSpPr>
          <p:spPr>
            <a:xfrm>
              <a:off x="61531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右箭头 45069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柱形 45070"/>
            <p:cNvSpPr/>
            <p:nvPr/>
          </p:nvSpPr>
          <p:spPr>
            <a:xfrm>
              <a:off x="30549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2341d"/>
                </a:gs>
                <a:gs pos="50000">
                  <a:srgbClr val="d3703f"/>
                </a:gs>
                <a:gs pos="100000">
                  <a:srgbClr val="6234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上箭头 45071"/>
            <p:cNvSpPr/>
            <p:nvPr/>
          </p:nvSpPr>
          <p:spPr>
            <a:xfrm>
              <a:off x="3728160" y="261828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45072"/>
            <p:cNvSpPr/>
            <p:nvPr/>
          </p:nvSpPr>
          <p:spPr>
            <a:xfrm>
              <a:off x="42127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柱形 45073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074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下箭头 45075"/>
            <p:cNvSpPr/>
            <p:nvPr/>
          </p:nvSpPr>
          <p:spPr>
            <a:xfrm>
              <a:off x="3708000" y="486216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4507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8" name="组合 47106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49" name="任意多边形 47107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47108"/>
            <p:cNvSpPr/>
            <p:nvPr/>
          </p:nvSpPr>
          <p:spPr>
            <a:xfrm>
              <a:off x="4832640" y="2286000"/>
              <a:ext cx="30157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47109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47110"/>
            <p:cNvSpPr/>
            <p:nvPr/>
          </p:nvSpPr>
          <p:spPr>
            <a:xfrm>
              <a:off x="4083480" y="3126600"/>
              <a:ext cx="3241800" cy="540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47111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47112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47113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523880" y="5632560"/>
              <a:ext cx="1069920" cy="360"/>
              <a:chOff x="1523880" y="5632560"/>
              <a:chExt cx="1069920" cy="360"/>
            </a:xfrm>
          </p:grpSpPr>
          <p:sp>
            <p:nvSpPr>
              <p:cNvPr id="257" name="直接连接符 47114"/>
              <p:cNvSpPr/>
              <p:nvPr/>
            </p:nvSpPr>
            <p:spPr>
              <a:xfrm flipH="1">
                <a:off x="1523880" y="5632560"/>
                <a:ext cx="10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1523880" y="5632560"/>
                <a:ext cx="106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523880" y="4791960"/>
              <a:ext cx="1818000" cy="360"/>
              <a:chOff x="1523880" y="4791960"/>
              <a:chExt cx="1818000" cy="360"/>
            </a:xfrm>
          </p:grpSpPr>
          <p:sp>
            <p:nvSpPr>
              <p:cNvPr id="260" name="直接连接符 47115"/>
              <p:cNvSpPr/>
              <p:nvPr/>
            </p:nvSpPr>
            <p:spPr>
              <a:xfrm flipH="1">
                <a:off x="1523880" y="4791960"/>
                <a:ext cx="18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523880" y="4791960"/>
                <a:ext cx="181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523520" y="3962160"/>
              <a:ext cx="2566800" cy="360"/>
              <a:chOff x="1523520" y="3962160"/>
              <a:chExt cx="2566800" cy="360"/>
            </a:xfrm>
          </p:grpSpPr>
          <p:sp>
            <p:nvSpPr>
              <p:cNvPr id="263" name="直接连接符 47116"/>
              <p:cNvSpPr/>
              <p:nvPr/>
            </p:nvSpPr>
            <p:spPr>
              <a:xfrm flipH="1">
                <a:off x="1523520" y="3962160"/>
                <a:ext cx="256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1523880" y="3962160"/>
                <a:ext cx="256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523880" y="3133800"/>
              <a:ext cx="3314880" cy="360"/>
              <a:chOff x="1523880" y="3133800"/>
              <a:chExt cx="3314880" cy="360"/>
            </a:xfrm>
          </p:grpSpPr>
          <p:sp>
            <p:nvSpPr>
              <p:cNvPr id="266" name="直接连接符 47117"/>
              <p:cNvSpPr/>
              <p:nvPr/>
            </p:nvSpPr>
            <p:spPr>
              <a:xfrm flipH="1">
                <a:off x="1523880" y="3133800"/>
                <a:ext cx="331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1523880" y="3133800"/>
                <a:ext cx="331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523520" y="2291760"/>
              <a:ext cx="4063680" cy="360"/>
              <a:chOff x="1523520" y="2291760"/>
              <a:chExt cx="4063680" cy="360"/>
            </a:xfrm>
          </p:grpSpPr>
          <p:sp>
            <p:nvSpPr>
              <p:cNvPr id="269" name="直接连接符 47118"/>
              <p:cNvSpPr/>
              <p:nvPr/>
            </p:nvSpPr>
            <p:spPr>
              <a:xfrm flipH="1">
                <a:off x="1523520" y="2291760"/>
                <a:ext cx="406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523880" y="2291760"/>
                <a:ext cx="406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685160" y="2286000"/>
              <a:ext cx="360" cy="871920"/>
              <a:chOff x="1685160" y="2286000"/>
              <a:chExt cx="360" cy="871920"/>
            </a:xfrm>
          </p:grpSpPr>
          <p:sp>
            <p:nvSpPr>
              <p:cNvPr id="272" name="直接连接符 47119"/>
              <p:cNvSpPr/>
              <p:nvPr/>
            </p:nvSpPr>
            <p:spPr>
              <a:xfrm>
                <a:off x="1685160" y="2286000"/>
                <a:ext cx="0" cy="87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685160" y="2286000"/>
                <a:ext cx="360" cy="87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85160" y="3157920"/>
              <a:ext cx="360" cy="816120"/>
              <a:chOff x="1685160" y="3157920"/>
              <a:chExt cx="360" cy="816120"/>
            </a:xfrm>
          </p:grpSpPr>
          <p:sp>
            <p:nvSpPr>
              <p:cNvPr id="275" name="直接连接符 47120"/>
              <p:cNvSpPr/>
              <p:nvPr/>
            </p:nvSpPr>
            <p:spPr>
              <a:xfrm>
                <a:off x="1685160" y="31579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685160" y="31579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685160" y="3974040"/>
              <a:ext cx="360" cy="816480"/>
              <a:chOff x="1685160" y="3974040"/>
              <a:chExt cx="360" cy="816480"/>
            </a:xfrm>
          </p:grpSpPr>
          <p:sp>
            <p:nvSpPr>
              <p:cNvPr id="278" name="直接连接符 47121"/>
              <p:cNvSpPr/>
              <p:nvPr/>
            </p:nvSpPr>
            <p:spPr>
              <a:xfrm>
                <a:off x="1685160" y="397404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1685160" y="397404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685160" y="4791960"/>
              <a:ext cx="360" cy="816480"/>
              <a:chOff x="1685160" y="4791960"/>
              <a:chExt cx="360" cy="816480"/>
            </a:xfrm>
          </p:grpSpPr>
          <p:sp>
            <p:nvSpPr>
              <p:cNvPr id="281" name="直接连接符 47122"/>
              <p:cNvSpPr/>
              <p:nvPr/>
            </p:nvSpPr>
            <p:spPr>
              <a:xfrm>
                <a:off x="1685160" y="479196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685160" y="479196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任意多边形 47123"/>
            <p:cNvSpPr/>
            <p:nvPr/>
          </p:nvSpPr>
          <p:spPr>
            <a:xfrm>
              <a:off x="3127320" y="2449080"/>
              <a:ext cx="165816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7124"/>
            <p:cNvSpPr/>
            <p:nvPr/>
          </p:nvSpPr>
          <p:spPr>
            <a:xfrm>
              <a:off x="4837680" y="2827440"/>
              <a:ext cx="2496960" cy="3038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7125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47126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47127"/>
            <p:cNvSpPr/>
            <p:nvPr/>
          </p:nvSpPr>
          <p:spPr>
            <a:xfrm>
              <a:off x="3341880" y="450288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7128"/>
            <p:cNvSpPr/>
            <p:nvPr/>
          </p:nvSpPr>
          <p:spPr>
            <a:xfrm>
              <a:off x="259236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47129"/>
            <p:cNvSpPr/>
            <p:nvPr/>
          </p:nvSpPr>
          <p:spPr>
            <a:xfrm>
              <a:off x="172476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47130"/>
            <p:cNvSpPr/>
            <p:nvPr/>
          </p:nvSpPr>
          <p:spPr>
            <a:xfrm>
              <a:off x="172476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7131"/>
            <p:cNvSpPr/>
            <p:nvPr/>
          </p:nvSpPr>
          <p:spPr>
            <a:xfrm>
              <a:off x="172476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47132"/>
            <p:cNvSpPr/>
            <p:nvPr/>
          </p:nvSpPr>
          <p:spPr>
            <a:xfrm>
              <a:off x="172476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4713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页脚占位符 1"/>
          <p:cNvSpPr/>
          <p:nvPr/>
        </p:nvSpPr>
        <p:spPr>
          <a:xfrm>
            <a:off x="6629400" y="655308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6" name="组合 4610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97" name="组合 46082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98" name="上箭头 46083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46084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46085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46086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46087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46088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a50b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4608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46090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e2b60"/>
                  </a:gs>
                  <a:gs pos="50000">
                    <a:srgbClr val="1a50b2"/>
                  </a:gs>
                  <a:gs pos="100000">
                    <a:srgbClr val="0e2b6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4609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圆柱形 46092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柱形 46093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柱形 46094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柱形 46095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柱形 46096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柱形 46097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6098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46099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46100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46101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6102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46103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46104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6105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4610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右箭头 48130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85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2f8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48131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3703f"/>
              </a:gs>
              <a:gs pos="100000">
                <a:srgbClr val="e09b7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48132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48133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a50b2"/>
              </a:gs>
              <a:gs pos="100000">
                <a:srgbClr val="5f85c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4813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813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8199"/>
          <p:cNvSpPr/>
          <p:nvPr/>
        </p:nvSpPr>
        <p:spPr>
          <a:xfrm>
            <a:off x="914400" y="152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4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