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3BF-5A86-4561-99F9-8DD63C1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585-16EB-4288-BE2D-0F42670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7A5-0E02-43FB-8EF0-E89BD270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F3F-8CFB-4DB5-8E02-D2356C7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45B-6F94-4BD6-83BC-472FA24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731E-6D5A-4F15-A8B0-943320C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C50-6B35-4FF8-B81A-5C4C823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9CC-C8DF-4924-9FD8-E642916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83E8-64E7-439F-880A-3ED69A5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6743-4549-4C0D-9B43-A3919DA4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8BF-5360-4461-9F2E-7D172DA3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4A9-6B61-45B4-92E0-1405321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47DA-C8AA-41D5-9A29-A7DAB4B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DBD-4CEF-43E1-BE20-BCC0A12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6937-9E4B-458D-B71A-5C5D4B52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8609-96F6-4FBE-AB05-E4860642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D8A-51B7-48AC-93B3-E0707D81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2FFA-AE05-4F35-8C63-51CA2B92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F3F3-6A22-4A19-A1F7-D8F79FC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1D29-46E3-4F5E-982C-835ED62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5188-52DC-46EB-8498-54F45AF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1DB1-CEAD-4ABD-AB16-C57604F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2E8-C0D7-4233-98E9-7F03A21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BB0D-B255-4820-AF23-40BFCA94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E5B3-5A8E-4C2E-A086-10FE9A8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3628-3BF2-4563-B6A4-C3DA859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1ABC-9E04-4868-8474-2539B67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44BB-DAF1-49F8-B678-982F0D6C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7514-C559-49C4-B014-68BB9AAE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7D0B-3A9E-4960-8E12-0AC20B76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0C1-E79F-4B3B-BD0E-C2C54F4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CBC-2E30-4C4E-8BC0-E24E1A0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6EA-AF04-4824-8BA3-DB7BDA12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226-83ED-4D03-BC57-D99FB7D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DD4-4C3A-4DEE-BC94-719B2FE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4F4-F9E7-43F2-BA65-747526E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71A3-D1A7-4F3C-A65F-89CF36EE609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07A-D989-4123-9572-6CC235BF9C9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7A6-3FBF-4999-9F2B-3BBF7996B0B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红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色庄严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7752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添加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下调整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在模板中添加您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图片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本模板默认字体为“微软雅黑”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如需修改字体请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下载使用须知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转载时请注明原创作者，请勿私自改动后提供该模板的下载，免费模板设计素材来自网络共享资源，请勿将模板应用于任何商业行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LOGO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0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版本选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下调整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0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版本选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——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在模板中添加您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图片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本模板默认字体为“微软雅黑”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如需修改字体请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下载使用须知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转载时请注明原创作者，请勿私自改动后提供该模板的下载，免费模板设计素材来自网络共享资源，请勿将模板应用于任何商业行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0120" y="19940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汇报完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67960" y="2498760"/>
            <a:ext cx="777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恳请各位领导批评指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8:47:18Z</dcterms:created>
  <dc:creator>An</dc:creator>
  <dc:description/>
  <dc:language>en-US</dc:language>
  <cp:lastModifiedBy>zhang</cp:lastModifiedBy>
  <dcterms:modified xsi:type="dcterms:W3CDTF">2015-09-04T14:49:4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