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3C5-0E94-4A06-ADFB-857F6E5D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D63-959F-4F9B-AB64-76BAA6D8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202E-0396-4A26-A7DF-E5A4B660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2105-AD55-4731-95C0-C6337C36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EDF5-D390-4101-B436-20E6F97F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3BED-A06C-4DB8-A31B-00947BA4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55A9-663F-4BF1-B863-04380688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DDDD-6756-4B8D-8DAD-1E47FDA1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8EC3-6FE9-4CEB-96C7-F7FC1698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3870-77F6-4133-8A10-323E2DE0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6FA7-AA2E-460C-91C5-4927F773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2BFF-559F-4D85-B2C9-938867DB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1F71-5633-40CA-A407-5A199E9C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C9B6-309D-4DCE-9B42-3A5C9F76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6461-6FC4-47D2-9A3C-BCAD030F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DBDB-23E8-4B64-A56D-969F5876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F8F9-A162-44CF-BEE9-7F4F44D7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7C5B-00B9-484D-BEFD-06CA1087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13B-F887-42C6-9AAA-F577196D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EB2F-ABF5-4146-BDC0-A29AC276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30E-CDF4-43FB-91DA-4374F985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28F-EE68-4A85-B712-99BE02C1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1C0-8EF7-4007-A587-9FA9C796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5E8-2ABF-4A53-B54C-3EC31D9B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44DC-D3BD-48EB-A651-487FA795466D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7D44-85A2-4AFE-B2E7-9581F953340C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会议及会谈实务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（一）文秘人员与会议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（二）会议的基本知识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、会议的目的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、会议以目的分类：；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、会议以形式分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、会议以职称来分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、会议用语（一般了解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第九章   差旅事宜（一般了解）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（一）文秘人员的职责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、准备旅行计划和旅馆信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、制定约会计划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、为商务洽谈收集资料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、决定旅行用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5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、行李问题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、安排差旅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7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、建立旅行——旅馆信息资料库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、办理旅行保险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（二）与上司一起旅行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旅行安排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设备安排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行为举止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工作交待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（三）差旅的预定工作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订票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预定飞机票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预定火车票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预订旅馆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（四）国（境）外旅行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、申请护照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、办理签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、办理“黄皮书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、购买机（车、船）票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、办理入出境手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、旅行过程安排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（五）旅行结束后的工作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-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ahoma"/>
              </a:rPr>
              <a:t>（三）会议的计划和准备（重点掌握）</a:t>
            </a:r>
            <a:br>
              <a:rPr sz="36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举行会议的决定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参加会议的人选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会议日期、时间的决定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会议场所的选择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5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议程表制作和执行方法（基本掌握）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会议通知的写法和传达方法（基本掌握）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7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会议资料的准备（重点掌握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宣布议程  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宣读并通过上次会议的会议记录 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财务主管报告 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 其他报告 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恢复旧的议题 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f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讨论新的议题  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g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委员会人事任命 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提名并选举行的负责人 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I 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通知 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j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休会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会议场所的布置：圆桌型：口字形；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字形； 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字形；教室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9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出席者的位置（一般了解）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会议用品的准备（一般了解）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11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为来宾安排膳宿等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Tahoma"/>
              </a:rPr>
              <a:t>（四）会议中的实务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、接待实务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、会场的管理及茶点招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、会议中的电话或来访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、宣读和做会议记录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、遵循会议议程的顺序规则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Tahoma"/>
              </a:rPr>
              <a:t>（五）会议后的实务（重点掌握）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、会议结束后的处理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出席者离去时；文秘人员离去前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、会议后的工作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制作议事录并分发；制作发送答谢卡；议事录和开会的各项资料分发给会议缺席者；会议有关文件的整理和保管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、会议业务的检查和总结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ahoma"/>
              </a:rPr>
              <a:t>（六）会议记录的制作（基本掌握）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会议记录的制作方法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会议记录的内容和格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修改会议记录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为会议记录编制索引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ahoma"/>
              </a:rPr>
              <a:t>（七）编写会议简报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报道式；转发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ahoma"/>
              </a:rPr>
              <a:t>（八）拟写会议记录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ahoma"/>
              </a:rPr>
              <a:t>（九）为上司参加会议作安排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会议预定计划管理；正在开会中的工作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ahoma"/>
              </a:rPr>
              <a:t>（十）和同事一起开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（十一）召开各种形式会议的方法</a:t>
            </a:r>
            <a:br>
              <a:rPr sz="3200"/>
            </a:b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                  （基本掌握）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办公会议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代表会议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联席会议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学术会议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5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新闻发布会、记者招待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报告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7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座谈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国际会议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9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电话、电视会议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签约仪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Tahoma"/>
              </a:rPr>
              <a:t>（十二）提高会议效率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遵循法律法规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合理确定会议目标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确定必要的与会者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减少会议数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5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缩小会议规模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简化会议程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7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缩短会议时间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控制会议经费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9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分析会议成本（一般了解）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第八章 日程安排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（一）日程安排与文秘人员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（二）日程安排的意义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（三）文秘人员在日程安排中的工作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（四）日程安排计划表的种类和管理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日程安排计划表的种类（基本掌握）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年预定表；月预订表、周预定表、日预定表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约会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3 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日程安排计划表的制作和填写（基本掌握）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日程安排计划的确认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5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、日程安排计划的变更和调整（一般了解）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（五）日程安排计划管理（基本掌握）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、提示工作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电子提示系统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人工提示系统：基本办公日程表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                     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固定活动日期一览表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                     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使用提示性备忘录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                     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准备约会表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                     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准备特殊提示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                     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准备交往提示文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                  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会议 实务 实务</cp:keywords>
  <dc:language>en-US</dc:language>
  <cp:lastModifiedBy/>
  <cp:revision>0</cp:revision>
  <dc:subject/>
  <dc:title/>
</cp:coreProperties>
</file>