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41C-5497-47F4-BC3B-866DF82E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1AF-6350-42F2-B20E-2639EA48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B80C8-AC4D-41CF-B428-7BD17AEE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07000-13F8-49E0-A6E7-8B9E3985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6993C-72D4-4F58-A2A1-A7E84CE5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D05D8-0FD3-400F-8D24-D2FFB928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B11C4-4BA2-4747-8F6D-7E1B9535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9EE01-6433-46E0-AFA7-C0BFE4AC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170F3-FB51-4060-8323-72645F43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DC85E-8BC7-4E4F-91CC-6245C1BF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1E7C7-1E64-4D15-82FF-A57B379A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314ED-B20D-4720-969B-6BB1746E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52C-FCF2-4B16-BE4D-9ABDF09A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E8B54-7842-43DF-88B4-B37B2402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878C7-D41A-45AD-ABD2-72F51061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43DDE-DEC6-4792-903F-375E4840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4230D-EE50-4B67-A010-B67C38A9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E3611-286C-46C6-9567-20293614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F9315-4D2C-44E4-BF47-234CDEF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8E543-873F-4CA9-881F-C07E4B9A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F00F2-1E77-4734-90A0-E553AEF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CF364-B72F-4BC5-9F8F-08F7C788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55F8D-4261-4C69-B674-76FDC50E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BA3-7A6A-4A98-8D7D-A9D01916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A2161-3E0D-484B-A3FD-7283D205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5262D-441F-481B-8BD4-7225E775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22077-A7B2-49A4-A052-BCB7D9B1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95261-D17A-4EAE-BE74-A024ABCD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B7C41-9BF9-4C27-B09E-89D43171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72DC3-33EB-4721-9FAD-A93B3BE3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CE24D-D2CA-4A51-BCFA-7E0D6D1D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AAE85-C828-4041-ACBC-9E57D41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4D89F-AF27-45A5-B3CE-1D054221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F2F81-B624-4920-9A05-C042154D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D342-57EC-4344-8DC2-95E69B0A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C917D-E9F5-4515-858A-A6AF51F2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1F2F6-2A16-430A-B538-52301325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54C4E-C3AF-4966-9278-CF15EF03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305F9-0236-408E-BB7C-3AE281E9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3C42E-BBE4-4F08-B802-78308758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2723B-F2C2-4AB2-80F1-97B012A9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49E66-A565-4D39-AE0D-BEEEF646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7214C-F5B5-431F-A7A2-434DB961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9B54F-EB4C-4C1D-8CC8-E6F60D38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591A3-4AB1-42BF-9E25-010649B2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1123-3072-41E4-B432-A544CA67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53B6D-9FD0-4DC8-B9EC-C44F6CA9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972A7-4C4E-4D80-BC4A-707EC6C6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76691-BD6D-4765-88FC-B19F288D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3DD6C-2840-4DE5-A535-68DA4A95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3D7D5-81F0-4433-BEE5-4DF8BB8F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1E31B-59D4-43AB-9B33-B681683B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73213-E6F4-4B13-8160-6C832216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2D9CD-0877-4364-B8F5-6DD2A461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56A97-44B9-4698-BCCA-6F27061A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A130B-9FFB-4784-B888-461E383A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23DF-2CD0-4B4D-85AC-6066340B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9CDC2-81FD-48C9-8FE8-CE58CF7B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A7C26-977A-4727-9240-A2CB0CDF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627B8-8D10-467A-9D5F-A754ABA0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8545D-996E-49EA-977A-BCCDF55A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26AFE-7C80-43FB-A7E1-0AC19CE6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2D2F4-ECBD-4027-9C51-673EE30C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8AA47-6B6F-420E-8381-820C7BAF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F7CF-4913-44C4-A568-8666F032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9CFD-3E74-4569-90B0-8651AD48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64DE-731A-4313-93EE-F6308F97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8F73-95E8-4C3A-9683-AA2CB26E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B9C-B263-424B-9ADE-11309A4A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1689-AE7C-4AEC-A065-E2DD373B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0AD6-0693-4D22-B038-E5DD262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52B0-3096-413C-A395-ED98529C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60D0-D4E3-45D2-9EEC-D0DCE086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CFD7-AA46-4526-AE50-DCCD74A7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8C97-33E0-46D9-AA9B-9AE9BC80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355D-22A8-4840-BCB4-96D5E5E0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4B9F-1054-468F-9241-F2A08544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BFD6-9BD4-4922-853E-FCFE2EAF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080F-676C-4623-B264-07A3734D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E59-2F7D-48A9-996D-7AB1014D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8AD1-C637-4FC2-ADD6-84519981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97195-4D89-4BF2-8C73-7E1DBC9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5632-A425-4386-8304-271BF689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E8E9-1D8F-45E5-9B28-BA52C7A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BF91-A929-40A1-B153-86B0F8FA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9891-457C-4CD0-AE77-3B312487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0B61-A07C-4C17-8339-D626728B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A1CD-8335-41F7-B71E-B71996B2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B3B4-821F-499C-AA19-8379919A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65BC-229F-4710-AEC6-A9E25529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91D-8944-4F24-9B48-D0FF9D60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3A8F4-FB40-4F63-95FD-13A82ED2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703E2-171F-487D-BCC4-5086D0E1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8B23-C527-4F3D-8E58-2D546728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8E56-5EDF-4985-9FB2-9D8342D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C7C56-01F2-4E52-8CEC-EA90A4B9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D8DC0-19CF-417A-9BD6-A4EE963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E8396-489C-42C8-9617-3CBC5F8A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0D6A-DD4A-4891-8EB9-31E0A711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4BA56-9FCF-44E9-A9BA-2FCF18E5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7FE9C-AD02-42E7-9F67-B9BE4EC9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60C-02C6-43E8-8C2D-C97AD184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C19E-75E1-4D9D-9A51-742A1A8B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43F4-0F0A-4975-80DC-8DF29AB9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9C9E-6AD4-47D2-A254-38D6D087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8406-FAA3-4B4D-AE68-2E900E36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573E2-C2C7-46B8-9527-E0BB2B46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6095A-0088-42E3-93A8-A59F4B8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23EB0-90AA-4147-9B22-00202822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6BDFB-D14F-474C-9BE1-AA852E3A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80FA-9ED5-4B30-9A98-ABD9FF06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E5574-3FEF-49A7-A60D-DDE0BB3E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5A6-EEF6-4E11-AA02-A86C9227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E709-6FD1-4841-AC7B-7AE06CB9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87F14-24B3-4602-A3FD-A7FC39DF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32273-6581-45F8-B5BF-CF269507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558D-C4A0-460D-8E6A-B2FFC298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E6717-9492-4EDB-80C1-CFCFAB49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8B00-40D0-41E2-ACE0-22A68858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52363-4217-402C-B169-2E03885A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44706-7103-4003-941A-F1610EA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EADD-3046-43C8-A7BF-8E641E4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9228A-739A-4C62-9B7D-A1AEBA61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387-701E-47B2-B402-993F240C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40EE5-A16A-4C80-88EF-B2F4335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2FC18-52E9-4EAC-A8F4-767C4A0F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ADE7-2024-452C-A3FE-C94C5BFC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1F415-FC66-4354-8738-B7043991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759BE-EB8A-4399-9F36-0C8465A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18A0D-5E69-4ADC-B1AA-36BF3FBB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A27C-96AE-4BF8-B7CC-18B42B65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3E238-8086-49C8-844F-668448B3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C4D4A-FE3C-4BDE-94F6-470BEBC8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E4823-26CC-42C1-A671-C77433C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122-F79E-420C-BABF-054DB15D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81B3F-8140-4C7B-B28A-5B4BC6AA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4ACEC-C237-4AA9-852B-A0AD0DF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84D9B-DD83-4E53-881E-DA81197E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DFDEA-7A1C-4166-883F-8E82699B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C1B8-6C4F-45A6-9475-895ED92B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3A5C9-0429-4FAB-AF53-A41930DE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A4B45-EFB5-4217-AF6B-2FC55887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00C10-00B2-4896-94E1-7E36C9C3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B73D4-907C-4F63-B435-7747EA31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74FCA-0A29-4712-B431-48B46FFC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C7F-C6BF-424F-9461-9ED3381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35241-27EC-4A9D-885B-DC4EBAFE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4DF1D-D20B-4B20-8645-B256233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EB28E-8707-47EC-A9DD-9FC73775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8461-19DD-4C22-808E-65659DF0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92E06-2958-4912-BAB2-C4BB9E28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72D49-B18B-4769-A9AB-79A0810B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453D3-3400-4D69-87AD-D92912E1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3C5A1-700C-4493-B8C1-D3B23ED8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89E10-0F75-40CD-9FA7-545B032E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1FA3C-CB0F-449C-B82B-7B0761B4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70D-FEFA-42A7-A3AF-6E21A4B11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07BB-817A-437B-BEAD-4DE8E6058D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EBD0-8FAA-48BC-88A9-FFCB8AB783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D67E-9579-412D-966E-212466F954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3E84-B294-4E77-9C56-071031DFB1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4A2A-E8E9-4E4F-8CF4-6E3C0A42AF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9905-CDCD-4428-B29A-D5CFB54008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27B7-4FA0-4BCD-81A8-9A28E43013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A87D-3841-4F43-A22C-A527AE501E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1E93-676C-408C-B476-0744BED20F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66D6-BC40-4FB5-B747-45B1943C0E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9BB2-D87E-474C-A8DB-C2B7FAC8214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AE34-3E02-44D5-84DF-E79DC56A96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37B4-9A3B-4607-9423-A9E99E16AA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FD04-875D-4DA4-91DE-54409A323C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50AC-069E-4762-8CA6-118C063D3F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5DA2-B743-480B-B855-2F9B9F0A95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3390-81C3-4774-A03F-6CBBD47CBD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DE7D-9D08-4A40-956F-FC25A94A48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0B55-9863-4550-8F6D-06E07E2828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B4D8-9B2C-41D7-AE58-A690C6000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3B64-CA7B-4653-8EFF-98CB1BEBEA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7CAB-C4EA-403C-8A26-8ECE97AC72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D05D-E02D-4A87-8C35-E9C2212C8A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B765-6CBC-43CC-9DD1-9B3F25539D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1026"/>
          <p:cNvSpPr txBox="1"/>
          <p:nvPr/>
        </p:nvSpPr>
        <p:spPr>
          <a:xfrm>
            <a:off x="3276720" y="2209680"/>
            <a:ext cx="3504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cc33"/>
                </a:solidFill>
                <a:latin typeface="宋体"/>
              </a:rPr>
              <a:t>假如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3"/>
          <p:cNvSpPr/>
          <p:nvPr/>
        </p:nvSpPr>
        <p:spPr>
          <a:xfrm>
            <a:off x="2655000" y="1413000"/>
            <a:ext cx="39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红红的太阳       许多好吃的谷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健康的身体        快活地成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659680" y="328464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寒冷的北风     缩着身子     轻轻叹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732760" y="407664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幸的朋友    苦苦等待      饿得哭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774440" y="1260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我要给窗前的小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画一个红红的太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1745640" y="34606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要给树上的小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许多好吃的谷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007680" y="1197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一定给不幸的朋友西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6018840" y="240048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一双好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还他一个健康的身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5141880" y="2384280"/>
            <a:ext cx="174600" cy="763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5445000" y="2384280"/>
            <a:ext cx="174600" cy="763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13"/>
          <p:cNvGrpSpPr/>
          <p:nvPr/>
        </p:nvGrpSpPr>
        <p:grpSpPr>
          <a:xfrm>
            <a:off x="5404320" y="4076640"/>
            <a:ext cx="2540520" cy="2451240"/>
            <a:chOff x="5404320" y="4076640"/>
            <a:chExt cx="2540520" cy="2451240"/>
          </a:xfrm>
        </p:grpSpPr>
        <p:sp>
          <p:nvSpPr>
            <p:cNvPr id="544" name="Text Box 5"/>
            <p:cNvSpPr/>
            <p:nvPr/>
          </p:nvSpPr>
          <p:spPr>
            <a:xfrm>
              <a:off x="5404320" y="40766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让小树在冬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0"/>
            <p:cNvSpPr/>
            <p:nvPr/>
          </p:nvSpPr>
          <p:spPr>
            <a:xfrm>
              <a:off x="6934680" y="594648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缩着身子，轻轻地叹息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1"/>
            <p:cNvSpPr/>
            <p:nvPr/>
          </p:nvSpPr>
          <p:spPr>
            <a:xfrm>
              <a:off x="5569560" y="527328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不会在寒冷的北风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2"/>
            <p:cNvSpPr/>
            <p:nvPr/>
          </p:nvSpPr>
          <p:spPr>
            <a:xfrm>
              <a:off x="5487480" y="467460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也能快活地成长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23"/>
          <p:cNvGrpSpPr/>
          <p:nvPr/>
        </p:nvGrpSpPr>
        <p:grpSpPr>
          <a:xfrm>
            <a:off x="4114800" y="0"/>
            <a:ext cx="5029200" cy="4106880"/>
            <a:chOff x="4114800" y="0"/>
            <a:chExt cx="5029200" cy="4106880"/>
          </a:xfrm>
        </p:grpSpPr>
        <p:pic>
          <p:nvPicPr>
            <p:cNvPr id="549" name="Picture 20" descr="bj3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41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Object 21" descr=""/>
            <p:cNvPicPr/>
            <p:nvPr/>
          </p:nvPicPr>
          <p:blipFill>
            <a:blip r:embed="rId2"/>
            <a:stretch/>
          </p:blipFill>
          <p:spPr>
            <a:xfrm>
              <a:off x="4114800" y="228600"/>
              <a:ext cx="1828800" cy="172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1" name="Picture 22" descr="Sr14711"/>
          <p:cNvPicPr/>
          <p:nvPr/>
        </p:nvPicPr>
        <p:blipFill>
          <a:blip r:embed="rId3"/>
          <a:stretch/>
        </p:blipFill>
        <p:spPr>
          <a:xfrm>
            <a:off x="0" y="2828880"/>
            <a:ext cx="4572000" cy="4029120"/>
          </a:xfrm>
          <a:prstGeom prst="rect">
            <a:avLst/>
          </a:prstGeom>
          <a:ln w="0">
            <a:noFill/>
          </a:ln>
        </p:spPr>
      </p:pic>
      <p:pic>
        <p:nvPicPr>
          <p:cNvPr id="552" name="Wind13.wav" descr=""/>
          <p:cNvPicPr/>
          <p:nvPr/>
        </p:nvPicPr>
        <p:blipFill>
          <a:blip r:embed="rId4"/>
          <a:stretch/>
        </p:blipFill>
        <p:spPr>
          <a:xfrm>
            <a:off x="228600" y="2895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53" name="Group 36"/>
          <p:cNvGrpSpPr/>
          <p:nvPr/>
        </p:nvGrpSpPr>
        <p:grpSpPr>
          <a:xfrm>
            <a:off x="956160" y="380880"/>
            <a:ext cx="2341440" cy="2135520"/>
            <a:chOff x="956160" y="380880"/>
            <a:chExt cx="2341440" cy="2135520"/>
          </a:xfrm>
        </p:grpSpPr>
        <p:sp>
          <p:nvSpPr>
            <p:cNvPr id="554" name="Text Box 31"/>
            <p:cNvSpPr/>
            <p:nvPr/>
          </p:nvSpPr>
          <p:spPr>
            <a:xfrm>
              <a:off x="1976040" y="1935000"/>
              <a:ext cx="98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画一个红红的太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32"/>
            <p:cNvSpPr/>
            <p:nvPr/>
          </p:nvSpPr>
          <p:spPr>
            <a:xfrm>
              <a:off x="1484280" y="3808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假如我有一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34"/>
            <p:cNvSpPr/>
            <p:nvPr/>
          </p:nvSpPr>
          <p:spPr>
            <a:xfrm>
              <a:off x="956160" y="9144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马良的神笔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35"/>
            <p:cNvSpPr/>
            <p:nvPr/>
          </p:nvSpPr>
          <p:spPr>
            <a:xfrm>
              <a:off x="1166040" y="144792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我要给窗前的小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5"/>
          <p:cNvSpPr/>
          <p:nvPr/>
        </p:nvSpPr>
        <p:spPr>
          <a:xfrm>
            <a:off x="3650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2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0" name="Picture 4" descr="bj6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 Box 7"/>
            <p:cNvSpPr/>
            <p:nvPr/>
          </p:nvSpPr>
          <p:spPr>
            <a:xfrm>
              <a:off x="3305520" y="441972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苦苦等待，饿得哭泣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8"/>
            <p:cNvSpPr/>
            <p:nvPr/>
          </p:nvSpPr>
          <p:spPr>
            <a:xfrm>
              <a:off x="2411280" y="2895480"/>
              <a:ext cx="317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鸟妈妈再也不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3237120" y="342900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到遥远的地方去寻食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0"/>
            <p:cNvSpPr/>
            <p:nvPr/>
          </p:nvSpPr>
          <p:spPr>
            <a:xfrm>
              <a:off x="3142440" y="391644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让小鸟呆在家里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9"/>
            <p:cNvSpPr/>
            <p:nvPr/>
          </p:nvSpPr>
          <p:spPr>
            <a:xfrm>
              <a:off x="2514600" y="213372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画许多好吃的谷粒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1"/>
            <p:cNvSpPr/>
            <p:nvPr/>
          </p:nvSpPr>
          <p:spPr>
            <a:xfrm>
              <a:off x="2438280" y="68580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假如我有一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22"/>
            <p:cNvSpPr/>
            <p:nvPr/>
          </p:nvSpPr>
          <p:spPr>
            <a:xfrm>
              <a:off x="2927520" y="11430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马良的神笔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3"/>
            <p:cNvSpPr/>
            <p:nvPr/>
          </p:nvSpPr>
          <p:spPr>
            <a:xfrm>
              <a:off x="3090240" y="160020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我要给树上的小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" descr="bj00"/>
          <p:cNvPicPr/>
          <p:nvPr/>
        </p:nvPicPr>
        <p:blipFill>
          <a:blip r:embed="rId1"/>
          <a:stretch/>
        </p:blipFill>
        <p:spPr>
          <a:xfrm>
            <a:off x="0" y="3344760"/>
            <a:ext cx="4572000" cy="35132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0" descr="00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4815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11"/>
          <p:cNvSpPr/>
          <p:nvPr/>
        </p:nvSpPr>
        <p:spPr>
          <a:xfrm>
            <a:off x="5601960" y="3733920"/>
            <a:ext cx="252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他再也不会只坐在屋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望着窗外的小树和飞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而是和我们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操场上奔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草地上游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ZJEAV7.WAV" descr=""/>
          <p:cNvPicPr/>
          <p:nvPr/>
        </p:nvPicPr>
        <p:blipFill>
          <a:blip r:embed="rId3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16"/>
          <p:cNvGrpSpPr/>
          <p:nvPr/>
        </p:nvGrpSpPr>
        <p:grpSpPr>
          <a:xfrm>
            <a:off x="250920" y="260280"/>
            <a:ext cx="4645080" cy="2244240"/>
            <a:chOff x="250920" y="260280"/>
            <a:chExt cx="4645080" cy="2244240"/>
          </a:xfrm>
        </p:grpSpPr>
        <p:sp>
          <p:nvSpPr>
            <p:cNvPr id="574" name="Rectangle 14"/>
            <p:cNvSpPr/>
            <p:nvPr/>
          </p:nvSpPr>
          <p:spPr>
            <a:xfrm>
              <a:off x="250920" y="26028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假如我有一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马良的神笔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我一定给不幸的朋友西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15"/>
            <p:cNvSpPr/>
            <p:nvPr/>
          </p:nvSpPr>
          <p:spPr>
            <a:xfrm>
              <a:off x="324000" y="1557360"/>
              <a:ext cx="45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画一双好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还他一个健康的身体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9103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bj00"/>
          <p:cNvPicPr/>
          <p:nvPr/>
        </p:nvPicPr>
        <p:blipFill>
          <a:blip r:embed="rId1"/>
          <a:stretch/>
        </p:blipFill>
        <p:spPr>
          <a:xfrm>
            <a:off x="0" y="3344760"/>
            <a:ext cx="4572000" cy="3513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00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4815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4"/>
          <p:cNvSpPr/>
          <p:nvPr/>
        </p:nvSpPr>
        <p:spPr>
          <a:xfrm>
            <a:off x="5601960" y="3733920"/>
            <a:ext cx="252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他再也不会只坐在屋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望着窗外的小树和飞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而是和我们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操场上奔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在草地上游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250920" y="260280"/>
            <a:ext cx="4645080" cy="2244240"/>
            <a:chOff x="250920" y="260280"/>
            <a:chExt cx="4645080" cy="2244240"/>
          </a:xfrm>
        </p:grpSpPr>
        <p:sp>
          <p:nvSpPr>
            <p:cNvPr id="580" name="Rectangle 7"/>
            <p:cNvSpPr/>
            <p:nvPr/>
          </p:nvSpPr>
          <p:spPr>
            <a:xfrm>
              <a:off x="250920" y="26028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假如我有一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马良的神笔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我一定给不幸的朋友西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8"/>
            <p:cNvSpPr/>
            <p:nvPr/>
          </p:nvSpPr>
          <p:spPr>
            <a:xfrm>
              <a:off x="324000" y="1557360"/>
              <a:ext cx="45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画一双好腿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还他一个健康的身体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2794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6094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12034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7"/>
          <p:cNvSpPr/>
          <p:nvPr/>
        </p:nvSpPr>
        <p:spPr>
          <a:xfrm>
            <a:off x="1752480" y="220968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8"/>
          <p:cNvSpPr/>
          <p:nvPr/>
        </p:nvSpPr>
        <p:spPr>
          <a:xfrm>
            <a:off x="1828800" y="266688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9"/>
          <p:cNvSpPr/>
          <p:nvPr/>
        </p:nvSpPr>
        <p:spPr>
          <a:xfrm>
            <a:off x="1371600" y="266688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2"/>
          <p:cNvSpPr/>
          <p:nvPr/>
        </p:nvSpPr>
        <p:spPr>
          <a:xfrm>
            <a:off x="2286000" y="1523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假如我有一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马良的神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要给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画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让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800000"/>
                </a:solidFill>
                <a:uFillTx/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假如人人都有一颗爱心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世界将变成美好的人间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7:27:50Z</dcterms:created>
  <dc:creator>金桥</dc:creator>
  <dc:description/>
  <dc:language>en-US</dc:language>
  <cp:lastModifiedBy>a</cp:lastModifiedBy>
  <dcterms:modified xsi:type="dcterms:W3CDTF">2015-03-18T05:50:52Z</dcterms:modified>
  <cp:revision>47</cp:revision>
  <dc:subject/>
  <dc:title>PowerPoint 演示文稿</dc:title>
</cp:coreProperties>
</file>