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814A-C57F-4FD3-A1AE-1BACBB10B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5BE3-0A54-47DE-BACE-21DFFD9CD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E06C-A00B-4DAD-9AA6-21AFA003E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6D83-C88E-4B15-AC12-87AABE936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AE2B8-7864-4C4F-A287-4F003FD08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28120-595F-40F4-813C-E8E08A8286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0567D-1931-483C-A8E4-EF82490270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12CF5-723D-47EB-BB36-5C49555BBE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93355-C7EC-46CB-BDCE-301387556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659B5-4004-4FE7-BF90-0AAA84F5E7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D0E8D-4B3E-4469-82B6-0F98941D6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8C6F-917E-4E5E-B3E7-513A3A7E3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98F7C-7A3A-4E9D-BC5F-022DE6C056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634F1-90F0-419B-9991-420218EF48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53642-9444-4178-8281-AFF4A514A5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62A0C-6E73-40AC-8170-7A98503687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0C65B-EAD2-47D3-BEE5-61DE5300A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69DF-7F82-4FF2-83AF-E3DD46F2D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066D-34EE-4327-AE8A-849E5668C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5BA0-68B7-4351-B1FF-1CF1679C7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9761-D890-4807-8623-34B674739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417F-E78C-4766-B61E-A73FE6292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B933-12DF-4779-8D63-F355EB793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4734-A96C-4298-81E4-7C3D3C741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651-179B-4D9F-836C-1054CE2B9D5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9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11C-29E0-483F-B34E-77C6585331F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华文行楷"/>
                <a:ea typeface="华文行楷"/>
              </a:rPr>
              <a:t>金融统计分析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XX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电视大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1295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5732C-C7C5-44E5-9529-15B05F78A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491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Arial Black"/>
              </a:rPr>
              <a:t>谢谢大家！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AAF6-F9DB-4791-B12C-F732555050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一章 </a:t>
            </a:r>
            <a:r>
              <a:rPr b="0" lang="zh-CN" sz="4400" spc="-1" strike="noStrike">
                <a:solidFill>
                  <a:srgbClr val="ffcc00"/>
                </a:solidFill>
                <a:latin typeface="宋体"/>
              </a:rPr>
              <a:t>金融统计分析基本问题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28600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金融活动与金融统计分析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金融统计体系和分析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1649-7F9D-4681-99BA-6A8BD2FCE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宋体"/>
              </a:rPr>
              <a:t>第二章  货币与银行统计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货币银行统计体系的基本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交易主体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货币银行统计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实例分析与重要指标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9FAD-E8ED-4F93-80F3-B7EF146EC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三章  证券市场统计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证券市场的基本概念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股票市场统计分析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债券市场统计分析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1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基金市场统计分析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9FB5-C302-4159-8A36-93229D55DE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四章  外汇市场与汇率统计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外汇市场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外汇市场交易价格：汇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、汇率决定的统计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、汇率变动对经济的影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86E5-AB41-485F-92CF-AD87E0510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五章    国际收支统计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国际收支统计的基本内容和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外债统计分析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1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、外汇储备统计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6CD8-1B55-412A-B217-C8C5F5C14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六章    商业银行统计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商业银行主要业务统计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商业银行的效益统计分析（杜邦模型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、商业银行风险统计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、商业银行风险敞口程度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280—2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40FD-C06C-40E3-BD83-5E9862F203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八章  资金流量统计与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资金流量核算的基本理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产生的背景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347~3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资金流量核算的定义及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资金流量核算中的平衡关系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1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资金流量核算的特点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355~3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资金流量核算的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C1CE-88CD-4592-A90A-2C63838673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九章 金融体系国际竞争力分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金融体系国际竞争力的基本理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金融体系国际竞争力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F9FF-E63F-499E-930A-B7758B36CB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金融 统计分析</cp:keywords>
  <dc:language>en-US</dc:language>
  <cp:lastModifiedBy/>
  <cp:revision>0</cp:revision>
  <dc:subject/>
  <dc:title/>
</cp:coreProperties>
</file>