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4A3-447A-4BF8-B74F-D1D68835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42F-0BD2-4FEB-9B56-07461C03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CF8-CA63-4AEA-9E2F-65432700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6FC-89BE-4F04-9949-50843B2C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8B73-C911-4325-85DE-1AE410A2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D42C-666C-4FF1-A4C7-D98BB695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88AA-3CE3-4EE7-8F9F-9FB72FEE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0CEB-AF87-40CA-806A-4AB7ACF6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5553-8001-4E91-8DE7-D1168DC5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DEBC-8322-4937-8DAE-E2B8C7A2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1D60-5FDC-413B-B8B6-0575867B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065-7887-45BE-B9DF-5297DAD7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BD55-8910-4E9A-888E-E02CBDDC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86ED-2595-4406-8EAE-CCD7149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1870-F8AD-4529-B010-7F50DC2A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7FB5-44F8-4874-B083-4CDB763D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E6A6-C24C-482D-9DD9-18B63047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E28-5184-48BD-971D-ED5AF09C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33B-FFDA-4D54-90F2-2A0D97EA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FC2-B4AF-4B4E-A88B-BE2207E8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26D-8255-4791-98F7-E24964CF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8E6-854C-4BD8-BF64-A81426CA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0B2-B6F1-4AC9-9B85-382AC545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D71-4404-45AA-B50F-EB56F4D5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B720-2C91-4983-A1E8-C8CE966DB79F}" type="slidenum">
              <a:rPr b="0" lang="zh-TW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9B69-25FB-4CB4-B825-F528C5219266}" type="slidenum">
              <a:rPr b="0" lang="zh-TW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700" spc="-1" strike="noStrike">
                <a:solidFill>
                  <a:srgbClr val="ffffcc"/>
                </a:solidFill>
                <a:latin typeface="Arial"/>
              </a:rPr>
              <a:t>軍事全球化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F7FD-17DD-4E16-89E8-0EBBC3E5AE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世界軍事秩序歷史比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00240"/>
          <a:ext cx="9144000" cy="5657760"/>
        </p:xfrm>
        <a:graphic>
          <a:graphicData uri="http://schemas.openxmlformats.org/drawingml/2006/table">
            <a:tbl>
              <a:tblPr/>
              <a:tblGrid>
                <a:gridCol w="1187280"/>
                <a:gridCol w="2305080"/>
                <a:gridCol w="2592360"/>
                <a:gridCol w="305928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前現代</a:t>
                      </a: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14-18</a:t>
                      </a: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世紀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現代（</a:t>
                      </a: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9-20</a:t>
                      </a: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世紀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當代</a:t>
                      </a: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1945-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地緣政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區域競爭、帝國擴張、有限戰爭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全球帝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全面戰爭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全球競爭、集體安全體制、全球安全體系復合體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武器移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手工藝、組織混亂的、地方性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戰爭的工業化、不受約束的世界武器市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武器生產、貿易跨國化、大量化、消費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地緣統理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文明與宗教約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多邊性法律約制、失敗的集體安全制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規範的普遍化、制度化、法律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5A4-0B68-4ABD-AA73-419AF0EAF0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不確定的威脅、不固定的戰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從波灣戰爭談起，九一一、阿富汗戰爭、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XX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伊戰爭充分展現軍事活動全球化的意義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上列戰爭可說是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XX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國為避免喪失全球威信，觸發全球反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XX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勢力，損害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XX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國所擔任世界警察的角色與主導國際秩序走向，勢必以軍事力量展現霸權的威望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從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preventive defense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、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forward deployment strategy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到保護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homeland secur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超限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F90-A61E-4D28-8621-FFF47BD2BE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戰爭的起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經濟利益與利害衝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宗教、文明差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種族差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政治問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恐怖主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生態、環境危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毒品、走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0FC-116E-47F8-8175-69F6612893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威脅主體不確定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在全球化時代，政治與軍事活動主體已不局限於主權國家，過去以國家為本位、以軍事安全為基本內容的安全觀，已不能夠完全反映人類安全現狀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威脅主體已不局限於民族國家，一個政治性恐怖組織、一個經濟性販毒集團、一 </a:t>
            </a:r>
            <a:br>
              <a:rPr sz="3200"/>
            </a:b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個宗教性祕密團体、甚至一個電腦「駭客」，都有可能對一個國家發動攻擊或戰爭。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37A-4BE8-4FF0-B453-A5B176F15F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軍事全球化的成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Verdana"/>
              </a:rPr>
              <a:t>威脅動因不確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Verdana"/>
              </a:rPr>
              <a:t>威脅主體不確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Verdana"/>
              </a:rPr>
              <a:t>威脅方式不確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Verdana"/>
              </a:rPr>
              <a:t>威脅程度不確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Verdana"/>
              </a:rPr>
              <a:t>傳統國際法、戰爭法約束的式微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746-8EB4-4B2B-B5CA-22AC8B770C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全球化戰爭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全球化時代戰爭的最明顯特點，是戰場全球化。國家利益、威脅來源與威脅方式的全球化，國家某些時候需要具備在全球進行軍事行動的能力，戰場突破前後方、遠與近的限制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近些年來新軍事革命的興起、新軍事技術的大量幵發應用、以及軍事體制的不斷調整更新，為戰場全球化提供了強大的物質技術基礎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C56-3300-4406-8567-86F5C3ED0B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全球化軍事活動特點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戰場同時化、同步化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偵察、通信全球化、全面化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作戰力量系統化、全面性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戰場無人化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從有什麼武器打什麼戰，到打什麼戰造什麼武器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技術轉化成作戰能力時間縮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網狀組織取代樹狀組織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667-8F89-4E4A-A4B6-9CAA7BEF4B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資訊時代戰爭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資訊達成的精確激動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平台加快速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全球機動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非對稱部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AC3-E20D-4EAA-A018-EF1B0D422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军事 全球化</cp:keywords>
  <dc:language>en-US</dc:language>
  <cp:lastModifiedBy/>
  <cp:revision>0</cp:revision>
  <dc:subject/>
  <dc:title/>
</cp:coreProperties>
</file>