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2.png" ContentType="image/png"/>
  <Override PartName="/ppt/media/image5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6.png" ContentType="image/png"/>
  <Override PartName="/ppt/media/image7.jpeg" ContentType="image/jpeg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BFE-11B2-403B-BFCA-3049D28B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80A-0E74-4CD8-8BC7-63CFC84F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0A81B-1D95-43A7-A2A0-7D1E748A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BA577-99AA-423C-B61E-D8C73A9B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5FAAB-885A-430D-8333-9929F61E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2A090-800C-4FD1-BDF8-1BFC6E92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E31F5-D221-4147-B8E7-70D3AAC0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B6560-E324-4883-AD10-41A4CA0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717B4-ED3E-4FF5-A285-C633ACE7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862B0-A225-4ECB-AF1B-FD09EF86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56F6E-35E9-400A-AB8A-E9C28DDB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8B692-7E65-4220-9828-D584E8D8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A84-B623-4909-8663-EDCF0E29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9EF5C-3548-414F-9C3C-D7501027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A2ADF-B811-48E8-8975-CC4F8337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2F292-1187-41C3-946D-D112B3AB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CD71A-F4AF-4C3C-9F35-821BB589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146C6-971A-4D42-813B-792061A0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5AAC9-F21C-456C-A87A-86179B20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6C69A-16E5-4AAB-854B-00B68FAF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A997F-C255-498B-8F71-3F24E877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DF391-D9D7-435E-A2B4-1ADB30B9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3DF27-AA64-40D8-AC0D-E9D23BBD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5D8-1C30-4F1E-977A-C32CF79A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A0347-2551-4B49-929B-80C39E0D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C807E-290A-43F5-82D8-82E97C9F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E2DD0-D3C0-483B-A8AA-03B9BB1A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B5D49-80FA-4D3E-8EA0-F25C8CF1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BF19-B4C0-44DD-9265-91E29B53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25190-8E82-4D94-BA13-97A09F30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83A8C-1283-4763-9D3C-D7096A00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F1AC6-727D-4647-AC1B-824DD253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7DB26-37DB-400C-BEBA-55B824B8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3912C-D866-4B24-92D3-119ED881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0F11-8214-4DFD-BBCE-C2E492B1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95F2B-F11A-43EE-9298-76ED1251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AB4C8-C92E-4473-ACAF-B62A81FF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F0605-6478-45E6-BAED-336C7AEC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7A27B-4360-400C-8B1C-697113E1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1DAAB-90BE-49C7-8B22-1CE9F693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D8B1E-01F8-4EA1-BA8A-80F09363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3A615-B718-4A45-A11A-A59C9859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F50B6-8C62-4BF5-840A-19D08AAF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59F5B-AEA1-465A-B4E2-9DAC59AB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8088E-BFB9-4D16-94FB-769086B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1E94-CF39-4898-97C7-FF0FC314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B5BA4-066D-42EB-8B3A-B98848E4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70F19-7B72-4AF8-8953-62DE66CF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7A3C3-5484-4C85-8BA0-AAE0E6EE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DD50D-39FA-40F9-AD24-BABFA4B7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1DD7A-82C4-422B-BFE8-C8B3EAA6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331BE-D962-432C-B795-07201CB8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3E447-AE6E-4674-BCBD-50FF03EB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DFDAA-3A7D-47BF-A76A-BFBF71FD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C21C3-9440-47D7-9D0B-D730582C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002EF-B6A3-441F-86F8-E9521C48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4B48-3A0A-4499-A4E9-12BA6E50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7419C-A182-4CCA-A95B-524C7859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C3FCE-F68B-4311-98D2-54A6E6A7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ECF2E-E5D9-4FC2-A4E4-C2EC142A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1A821-FC98-4A38-9A71-34968C6D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4BCDF-3379-4D3C-8D02-660A4A33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9EDE4-AC8C-46E9-B58C-E9C82151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6F3D3-D760-4F0B-B3FC-A22EBB72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631F-A2DC-46E0-B400-8791AAEB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C488-8505-43D3-B04F-4606D6F3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E353-E172-4ED7-B1AF-6CE27408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C9C3-9AF6-41ED-9D28-AD4A6324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9C4-3CC7-4025-BE4F-C64008F0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CACD-B86C-43D5-8F7D-064D9531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E58B-93AF-40DA-9552-9E01DD08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948F-EE6B-4B42-A88E-EF5B01FC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C174-D6EE-4C0F-A50A-07343CE2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3B29-8101-4945-900B-AB47E267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4318-1E6B-467C-9DFF-DA85A7B8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A1C4-5C3E-4B79-9C75-E39D6709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F1F6-C0D4-4817-8243-7F132C79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17BC-A4C1-4BB6-8028-D5495F29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EF1F-58C9-4AC0-BBBE-BA72B31E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280-5011-41A0-A69B-3C5D4D3C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E64C-1D6D-4760-AE8C-291D7132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CA17C-1C76-429F-BCF5-3B41F1F2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4B658-07F0-4FBD-8F70-C3605C40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4995-869E-45D4-B43B-DE2054FB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46CB-D7F6-4C35-925F-486464D0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F439-FD0E-4451-9B87-73604AA7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CB2D-FF32-41C4-9A9F-40D15BC9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D6A4F-DCCB-43AA-80AE-6AE36BCC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3D0F-50FF-43A3-9311-5798841E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348F6-1A30-42CF-B466-6ED83DFD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C7C-46F3-497F-81F5-4D83786B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A28DD-CD36-4805-8AB3-1B04CC46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130F9-194F-43AF-8F88-CF3A8539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ED65-0AAC-41B0-8C55-1A4D72EA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E7478-1B9F-4ECF-82B9-E20C3E7D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FFF85-B1EB-4ABC-A6EB-54858F12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570D1-5A9E-48D8-976A-8D1F8B43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3A5C-A1D4-4C66-A577-15401148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3EE7C-1BCE-4773-AA4F-87444707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00A08-B9A3-4626-84E7-399DE22C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2BFF9-B3F8-45B5-83B3-7DDAC4A7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9FE-2742-465D-8795-BD6E1185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99F7C-8C8E-40B2-9A49-8B8D5782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F2E6-FEE4-471D-8BF6-D41508E6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82CB5-1CCB-4C60-98E3-3A64EC42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7E145-EBD2-46CE-96F3-7531F66F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7F217-B593-45D9-9C1D-F0FCA94C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1A2DA-ECC5-42A0-922E-80120F3D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609B-29CD-47DA-AD0F-CF1B2E3D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5035F-1F9B-40B6-A2AD-F7B66AA0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42107-1470-44B5-B4D9-C7EEB120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92BA9-617C-4E07-8C1C-2CB7F891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C75-26F7-4E35-924B-AA250EAC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2BCE0-58BF-4D3F-AC33-28F5FBCF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B8108-0338-4B04-A2EA-E6116AF6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453FC-2816-40FB-A747-DEF9B7EE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97662-5C12-4B4C-8DCF-18505888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84CBC-C40B-4204-B10D-A912F1EB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FAD5F-4A88-4FBC-9026-B8C67114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88A8C-3545-4484-9419-6CFFFFD5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85FDA-CAB9-474C-9AF8-21D021C7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5AC42-A53B-4398-BE90-4514375F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FA5F1-53AC-4C63-A18A-4439FB9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F09-DA60-4B40-BB0A-06FCF1CF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824D7-8484-4852-8138-7529E61F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05AA9-1C97-4774-B79C-6BCCB67C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123D9-49DD-4E49-B7D8-3EB6A158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FD4F7-B0EC-4B04-883E-ED144309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B3701-8EDF-4A66-8237-8385994E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46F86-7BEF-44D2-9DAC-7EBEB0C2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B1B47-A493-4A39-9BFD-451B658D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BD3BB-9386-45BE-975D-C14FED8D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6DC5E-60BA-4879-B948-594E8076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3432E-FA36-4653-BD15-C612FB33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F13-333A-4024-A239-9F1DF155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FB548-495A-4A63-9769-F5C57BF2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5B96E-4893-4984-A34E-7CC3595F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8A53D-8CA7-461A-8757-2D957E85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F8E12-3542-495F-AAEE-2FCD6E87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83B0C-3C16-4A05-B9A5-0581699A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0F0CD-5276-43F7-8577-C0B628CF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3215A-B04A-4D9D-8F92-87B26C88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FEAF2-0FD4-45E0-9AEE-4EA6B8A1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81BCE-3743-4B78-8206-8712E526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36CFE-7675-40A5-BD47-5D598E05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B31-1A52-454C-B375-A85C02D1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6DB6B-3B40-477D-92BA-D67E38AF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AE47E-ACA0-46A8-8CA1-0258885A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D50B3-DF86-4222-87B7-A3121B05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0785A-0B79-4C51-945D-D6D5F327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1622D-F596-442B-B78F-B92AA75E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4D1CD-83F7-4991-9CF1-E87A0D8A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AC37D-4990-430C-8097-ED75B1CC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2DF7D-2DAF-4187-92E5-A2B0C54F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EC895-7293-4FD7-81BC-57510B21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03845-148B-45AB-86D5-0586A0CE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D2BA-2085-497D-B45C-E0CC8712C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499F-6B6D-49BD-8F31-02E04209BC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9D83-EECA-4AF3-BF58-495EF4395F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54A7-08F0-4877-B794-2EB1850C84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4A60-622E-4A8A-B816-3C13256DBD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0447-8A14-4E63-B51B-A643482153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B74C-10B3-4F96-86B6-54BFB47398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9383-38FE-4A8F-AC14-1EA8F5F85D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40CF-704C-4E71-86A5-50975A6EA4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7AD6-078E-4D24-A564-C5EBAABD4B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F27E-8876-4B17-9C49-DB3C50BBF6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1AD3-F7ED-4ADF-B49C-C3ED9AB686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ABE0-F40C-450E-B243-FB594A7878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1CA9-5BED-4FC8-92DF-D15AD8B78A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EE8F-7C4A-422E-9173-67B7358730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D5E7-68C5-4531-A688-068808EFA8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4D6D-AAFF-427F-A739-C0078B5326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830D-AB45-40F0-86EF-B3D02F82309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3C5F-583E-46A2-9967-1196076B2E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51D9-0001-47F0-9D23-53A5DA7D957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2641-5DAE-46DD-93F5-9F77B01168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D375-E75B-425D-A513-0410DC5DB6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6BB5-8882-458C-9018-D78C60025A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4539-45E9-432F-8378-101ACDE688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CFFC-DEBC-4AF3-8191-1AFCA35AFD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1.jpe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225360" y="450864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9" descr="ZG329-01"/>
          <p:cNvPicPr/>
          <p:nvPr/>
        </p:nvPicPr>
        <p:blipFill>
          <a:blip r:embed="rId10"/>
          <a:stretch/>
        </p:blipFill>
        <p:spPr>
          <a:xfrm>
            <a:off x="-533520" y="-1219320"/>
            <a:ext cx="10515600" cy="9579240"/>
          </a:xfrm>
          <a:prstGeom prst="rect">
            <a:avLst/>
          </a:prstGeom>
          <a:ln w="0">
            <a:noFill/>
          </a:ln>
        </p:spPr>
      </p:pic>
      <p:pic>
        <p:nvPicPr>
          <p:cNvPr id="535" name="WordArt 3" descr=""/>
          <p:cNvPicPr/>
          <p:nvPr/>
        </p:nvPicPr>
        <p:blipFill>
          <a:blip r:embed="rId11"/>
          <a:stretch/>
        </p:blipFill>
        <p:spPr>
          <a:xfrm>
            <a:off x="1755720" y="1268280"/>
            <a:ext cx="5254560" cy="167004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5"/>
          <p:cNvSpPr/>
          <p:nvPr/>
        </p:nvSpPr>
        <p:spPr>
          <a:xfrm>
            <a:off x="32400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195-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2286000" y="283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13" descr="200-a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pic090边框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2590920" y="251460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再  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shengri[1].mp3" descr=""/>
          <p:cNvPicPr/>
          <p:nvPr/>
        </p:nvPicPr>
        <p:blipFill>
          <a:blip r:embed="rId1"/>
          <a:stretch/>
        </p:blipFill>
        <p:spPr>
          <a:xfrm>
            <a:off x="533520" y="5638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183-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WordArt 6"/>
          <p:cNvSpPr txBox="1"/>
          <p:nvPr/>
        </p:nvSpPr>
        <p:spPr>
          <a:xfrm>
            <a:off x="3200400" y="380880"/>
            <a:ext cx="3276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生日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9" descr="ZG329-01"/>
          <p:cNvPicPr/>
          <p:nvPr/>
        </p:nvPicPr>
        <p:blipFill>
          <a:blip r:embed="rId1"/>
          <a:stretch/>
        </p:blipFill>
        <p:spPr>
          <a:xfrm>
            <a:off x="-228600" y="-1219320"/>
            <a:ext cx="10058400" cy="8893440"/>
          </a:xfrm>
          <a:prstGeom prst="rect">
            <a:avLst/>
          </a:prstGeom>
          <a:ln w="0">
            <a:noFill/>
          </a:ln>
        </p:spPr>
      </p:pic>
      <p:pic>
        <p:nvPicPr>
          <p:cNvPr id="541" name="WordArt 6" descr=""/>
          <p:cNvPicPr/>
          <p:nvPr/>
        </p:nvPicPr>
        <p:blipFill>
          <a:blip r:embed="rId2"/>
          <a:stretch/>
        </p:blipFill>
        <p:spPr>
          <a:xfrm>
            <a:off x="1731960" y="1731960"/>
            <a:ext cx="5186520" cy="15908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7"/>
          <p:cNvSpPr/>
          <p:nvPr/>
        </p:nvSpPr>
        <p:spPr>
          <a:xfrm>
            <a:off x="40968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桃花"/>
          <p:cNvPicPr/>
          <p:nvPr/>
        </p:nvPicPr>
        <p:blipFill>
          <a:blip r:embed="rId1"/>
          <a:stretch/>
        </p:blipFill>
        <p:spPr>
          <a:xfrm>
            <a:off x="-1143000" y="0"/>
            <a:ext cx="107442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2"/>
          <p:cNvSpPr/>
          <p:nvPr/>
        </p:nvSpPr>
        <p:spPr>
          <a:xfrm>
            <a:off x="970920" y="14144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33880" y="363600"/>
            <a:ext cx="210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en-US" sz="8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à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809160" y="457200"/>
            <a:ext cx="444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1" lang="en-US" sz="8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ù   xió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布     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10920" y="3352680"/>
            <a:ext cx="210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Times New Roman"/>
              </a:rPr>
              <a:t>ku</a:t>
            </a:r>
            <a:r>
              <a:rPr b="1" lang="en-US" sz="8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à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3887280" y="3276720"/>
            <a:ext cx="1648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Times New Roman"/>
              </a:rPr>
              <a:t>z</a:t>
            </a:r>
            <a:r>
              <a:rPr b="1" lang="en-US" sz="8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ĕ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5310360" y="44956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</a:rPr>
              <a:t>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5"/>
          <p:cNvSpPr/>
          <p:nvPr/>
        </p:nvSpPr>
        <p:spPr>
          <a:xfrm>
            <a:off x="4114800" y="5943600"/>
            <a:ext cx="2133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6"/>
          <p:cNvSpPr/>
          <p:nvPr/>
        </p:nvSpPr>
        <p:spPr>
          <a:xfrm>
            <a:off x="4191120" y="3048120"/>
            <a:ext cx="30477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7"/>
          <p:cNvSpPr/>
          <p:nvPr/>
        </p:nvSpPr>
        <p:spPr>
          <a:xfrm>
            <a:off x="2333160" y="44956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8"/>
          <p:cNvSpPr/>
          <p:nvPr/>
        </p:nvSpPr>
        <p:spPr>
          <a:xfrm>
            <a:off x="1066680" y="6019920"/>
            <a:ext cx="1981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12" descr="Idioms7"/>
          <p:cNvPicPr/>
          <p:nvPr/>
        </p:nvPicPr>
        <p:blipFill>
          <a:blip r:embed="rId1"/>
          <a:stretch/>
        </p:blipFill>
        <p:spPr>
          <a:xfrm>
            <a:off x="0" y="-23976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2"/>
          <p:cNvSpPr/>
          <p:nvPr/>
        </p:nvSpPr>
        <p:spPr>
          <a:xfrm>
            <a:off x="0" y="3808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ăo  ché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xi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ăo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y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ú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x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ng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 l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ái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 y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早   晨，小  云  醒   来 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n zhĕn  tou biān  fàng  zhe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ì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看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,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枕     头   边    放     着  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hī kĕ  ài  de  bù  xió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只  可 爱 的  布    熊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Idioms7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0" y="53352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ā  ma zŏu guò lái zhù xiáo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ú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妈  妈  走   过  来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祝   小   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h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ēng rì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ku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i  l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è  xiăo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ú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èn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ā m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生  日 快    乐。小   云  问  妈  妈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n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n me cóng l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ái bù guò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h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ēng r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您  怎  么    从   来  不 过    生   日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ā ma  xi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o zhe shuō  w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ŏ w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ng 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妈  妈    笑   着   说：“我   忘   了 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8153280" y="4114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457200" y="49528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7"/>
          <p:cNvSpPr/>
          <p:nvPr/>
        </p:nvSpPr>
        <p:spPr>
          <a:xfrm>
            <a:off x="5334120" y="6324480"/>
            <a:ext cx="2590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1203_a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214-a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771-a"/>
          <p:cNvPicPr/>
          <p:nvPr/>
        </p:nvPicPr>
        <p:blipFill>
          <a:blip r:embed="rId1"/>
          <a:stretch/>
        </p:blipFill>
        <p:spPr>
          <a:xfrm>
            <a:off x="-685800" y="57240"/>
            <a:ext cx="1028700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9T03:59:24Z</dcterms:created>
  <dc:creator>昌锐</dc:creator>
  <dc:description/>
  <dc:language>en-US</dc:language>
  <cp:lastModifiedBy>a</cp:lastModifiedBy>
  <dcterms:modified xsi:type="dcterms:W3CDTF">2015-02-09T03:01:11Z</dcterms:modified>
  <cp:revision>77</cp:revision>
  <dc:subject/>
  <dc:title>PowerPoint 演示文稿</dc:title>
</cp:coreProperties>
</file>