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82-C5D5-4D20-A180-76EE9805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8829-0D06-4D56-BB2E-023BFEC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F13-2B3D-44E3-8375-C7F1C349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82D-C0C1-4F84-B2AF-08A2034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9B8D-E1DE-4346-9D03-E90095C5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D21-FC66-48D3-A8C1-275880AB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A64D-8288-475E-9735-51F9310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792-C4D2-4B4A-9582-17A5E8D9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3BD-888F-4A08-8C6F-A062B01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F06-BC65-4876-923B-E82AA36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8C8-6C45-456A-9CF8-5940A54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B42-E2FA-4556-9FDA-0D73075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A82E-AC1A-46CF-95C3-13F16757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F1C-4585-493F-B010-051B768D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3900-E32B-44AC-A577-DE493C34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FCA-322F-41F2-93A9-4F3055EB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58FB-31D6-4955-8532-B90509B8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86C-11AD-4F74-82B7-D813DE6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106-8AF7-4C56-8BD7-FE7D4E01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F69-16B5-4159-B081-4C8989A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7CA4-0794-4AF1-BC36-2A0420E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46B-2447-4584-9040-D6513A3A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B0E-7EE9-48B0-BB10-9EF510E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8A0-1C9A-4A70-82D8-51C0AFF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ahom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ahoma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B87-EA74-4493-86DE-03BE813C19FA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0000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0E60-5671-4A55-8795-E82BFFAB2FC0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33717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情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董事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期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219564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標楷體"/>
                <a:ea typeface="標楷體"/>
              </a:rPr>
              <a:t>就業市場趨勢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056-1959-4166-AF6C-B51D15B2ED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93760" y="19810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~29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年青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問券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906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期        間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0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~26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4.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解讀年輕世代心情故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1FE-4BF3-46EE-A732-FED7D7670A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貨真價實的草莓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2009880"/>
            <a:ext cx="7559640" cy="433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CFF-98C5-4368-857E-69C84CE42D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生平無大志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59780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480-19A0-40A1-A1C5-5323E60A83F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3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只恨出道太晚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68348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2CB-0AA5-4CE2-9CF7-7D6D1C11BC1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4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高學歷，低成就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990800"/>
            <a:ext cx="887868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979-83E2-4B2C-903F-AC7DF6533CD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5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麵包徹底打敗愛情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296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20E-00FA-4392-B58D-EFE8E189A67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6).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出賣愛情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Love for Sale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7680" y="1989000"/>
            <a:ext cx="889632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93D-ACEA-4E35-BCB2-679B3440D4B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7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志趣無足輕重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5760" y="2060640"/>
            <a:ext cx="89582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4C2-D939-49D2-8D15-27EC5401CF4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8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書中自有黃金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8000" y="2133720"/>
            <a:ext cx="87660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6F4-3EDA-4D73-B3ED-ABE37C69357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9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算命仙＝就業諮商輔導師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73240" y="2276640"/>
            <a:ext cx="757548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3F6-BDB7-47F9-8850-F4C4D5380DC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綱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93400" y="2122560"/>
            <a:ext cx="647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2004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就業市場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趨勢分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最值得投入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來最有前途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工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解讀年輕世代心情故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面對青年的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煩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共同打造年輕世代的希望之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輔導體系面臨的重要課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Q&amp;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967-9DFE-471B-95CE-27903A37C2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0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養活自己比父母重要？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6960" y="1989000"/>
            <a:ext cx="8717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DBC-81C3-4A11-86C6-4C0C5479944E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唯薪主義者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7660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D01-8064-47B9-A045-52DB75F55E3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加班，沒什麼大不了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1720" y="1989000"/>
            <a:ext cx="86122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184-0CF4-4B11-85B2-67DFD5F9227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3).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XXX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萬歲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6520" y="1989000"/>
            <a:ext cx="86374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C2A-80F8-457E-AF6B-F9D3A3681E0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4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無危機感是最大危機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836460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736-20C4-4737-B68A-B2EF3AC963F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5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名牌的致命吸引力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7320" y="1989000"/>
            <a:ext cx="89866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F67-9119-4211-9697-E0DB3747D8D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6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拜金，沒什麼可恥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8502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A6A4-F7CC-4839-932C-98E24EF6007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7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勤修理財學分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4960" y="2133720"/>
            <a:ext cx="8879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4EB-0991-4D24-ABA7-1B6F9875F9D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8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新債奴階級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960" y="1989000"/>
            <a:ext cx="87170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065-48A1-4523-905E-E936893CC0C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19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銀行是衣食父母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758664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6A9-E8FF-4962-8AE2-68DE08F31B0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.2004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年就業市場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趨勢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407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就業市場全面復甦，今年將是求職轉業的安全年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高科技的理工人才供不應求，國防訓儲人才為首選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金融業加速人才新陳代謝，消費金融與財富管理人才最搶手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高學歷高保障，企業用人門檻轉向碩士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8BF-AD62-4C0B-A6D3-94D2821FB6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0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搶錢五大寇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882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55D-767E-470D-8BFC-03B5B0B3FA9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1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政治的絕緣體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1760" y="2133720"/>
            <a:ext cx="874224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05C-E101-4D51-B855-8B204B149A4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22)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藍綠青年政策「畫餅得丙」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960" y="2133720"/>
            <a:ext cx="866304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5E8-1BEC-4A8B-8BEC-3F496A1E4A3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面對青年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煩惱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93760" y="1981080"/>
            <a:ext cx="510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畢業即失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高學歷低成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所學不符志趣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生涯夢想破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被貼負面標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出頭機會受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478-D466-4C3B-867F-E9327371A34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面對青年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煩惱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93760" y="1981080"/>
            <a:ext cx="510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債務滾雪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低薪資高開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單身寄生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工作時數遽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被迫考研究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教改政策混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863-5E5D-46D1-8832-C58919975B1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共同打造年輕世代的希望王國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93400" y="1981080"/>
            <a:ext cx="719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曾經高唱我的未來不是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如今年輕世代卻淪為夢想折翼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失樂園世代，在現實壓力下集團庸俗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從金錢的赤裸渴求，到工作的唯薪主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從愛情的麵包萬歲，到政治的冷漠以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如何讓年輕人重新成為希望之國的子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在青春的原野，勇敢地追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61C-9518-446A-9DF9-E753299E67A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7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就業輔導體系面臨的重要課題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93400" y="1980720"/>
            <a:ext cx="7410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灌輸正確的職涯觀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提升學習的動力與環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及早認識企業與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協助找出學生的適才適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宣導正確的求職技巧與常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依科系別引領職涯地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ahoma"/>
                <a:ea typeface="標楷體"/>
              </a:rPr>
              <a:t>建立職涯諮商支援體系與訓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A48-F011-4D3B-801D-EA53F3C31C7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80773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就業情報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服務專線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0800-712-7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0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6CF-A2AC-4B49-B4AE-507DD89679EC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.2004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年就業市場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大趨勢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233856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跨領域人才成為職場新明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重視個人職場競爭力，上班族掀起另一波學習潮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精通英日文的雙語人才，成為企業的新寵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900" spc="-1" strike="noStrike">
                <a:solidFill>
                  <a:srgbClr val="000000"/>
                </a:solidFill>
                <a:latin typeface="標楷體"/>
                <a:ea typeface="標楷體"/>
              </a:rPr>
              <a:t>企業實習成為新鮮人踏入就業市場的第一步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7C1-5183-464A-B00F-A6AB52C321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一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zh-TW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981080"/>
          <a:ext cx="8381880" cy="4307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光電、半導體等高科技產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電子、電機、資工、自控、材料、電信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景的研發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理工背景，英語流利，具國際觀的國貿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務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研發實務經驗，擅溝通協調與掌握產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規劃的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PM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通訊服務產業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熟經銷商、通路的業務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熟國內外電信事務、英文聽說寫流利的策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略聯盟談判人才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系統安裝、測試、監控、維護的工程人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7A0-0A36-4D85-9115-1B52B02553D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二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2090880"/>
          <a:ext cx="8686440" cy="3995640"/>
        </p:xfrm>
        <a:graphic>
          <a:graphicData uri="http://schemas.openxmlformats.org/drawingml/2006/table">
            <a:tbl>
              <a:tblPr/>
              <a:tblGrid>
                <a:gridCol w="2653560"/>
                <a:gridCol w="6032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化醫療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護理、食品背景出身的臨床實驗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生物醫學相關背景的研究人員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博士以上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精通英文者尤佳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物流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個性開朗、對流行資訊具敏感度的基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管理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操守佳、具親和力的門市儲備幹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物業管理的清潔、保全、停車管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園藝、資訊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0A1-6ADA-4072-8392-985BEA296A8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139840"/>
          <a:ext cx="8381880" cy="357516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金融服務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專業證照與理財顧問特質的業務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協助資訊整合與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化作業的資訊工程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英文能力佳的國際金融事務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教育服務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2-3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內國小教師缺額仍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從事國小或補教業的英語教學師資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休閒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關懷客戶精神的專業管理與行銷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餐飲客房服務的基層員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B0A-67C1-4A13-A284-ECEF7CC63BC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最值得投入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產業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四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133720"/>
          <a:ext cx="8381880" cy="357480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產業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搶手人才類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企管顧問服務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協助企業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化、整合資源、掌握速度統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析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提供企業經營診斷的企管顧問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眾傳播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負責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T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支援的系統工程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集美編與行銷概念的採編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創意型產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富求心求變精神的創意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</a:t>
                      </a: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具行動力的企劃執行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8D9-89B6-4138-8CD7-AA948FC9B07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3.  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未來最有前途的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TW" sz="4000" spc="-1" strike="noStrike">
                <a:solidFill>
                  <a:srgbClr val="333399"/>
                </a:solidFill>
                <a:latin typeface="Times New Roman"/>
              </a:rPr>
              <a:t>個工作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執行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F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務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新育成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才仲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頭獵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R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投資說明人員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動產證券化顧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D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商品企宣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M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行銷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I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訊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T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案經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運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投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事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織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際法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企業內律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定期養老金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球採購人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KO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知識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全專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SO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顧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AF6-4FA3-4A46-ABFA-8641B18F52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3/3/2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就业 市场 分析</cp:keywords>
  <dc:language>en-US</dc:language>
  <cp:lastModifiedBy/>
  <cp:revision>0</cp:revision>
  <dc:subject/>
  <dc:title/>
</cp:coreProperties>
</file>