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450-26EB-49B5-9622-C554EBDF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321-E90B-42C2-9B4B-271EB4D2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35C6-E08C-46C1-99C8-AED48D82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09C-4EBC-48E3-85B4-A0AE7DE3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341B-22E2-4235-9CC3-4997D11E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050A-61B5-4058-B519-9701AEA0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9074-7C4B-43F1-8E8B-BD5D27A1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38C6-8079-47A2-B16D-6B08167C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CEAD-9D40-45B5-8CCC-57931150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F06E-0460-4B75-A141-125F5830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B017-2C43-4511-96A4-CCAA0822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07A-8106-4A3B-81D2-87303BBD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7444-F9A7-4FA0-99ED-D0C444FD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AD0C-777B-4A7B-A8F8-3BD49C4A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BDCA-904F-494D-BB90-B207E891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0616-D584-4DCE-A87B-13ED5009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9AF2-C4CB-4C9E-8F55-24B851B0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C58-73D3-4A12-845E-4818E44F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2E6-CD41-479E-9974-1FBC3A4F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C58-1670-4328-8502-A6FBB07B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14C-1A46-43E3-81AD-72226394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BF9-52D6-416C-BBB5-2A04B654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2A2-37D8-4004-9189-31DD7D1C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A1E-C3E3-418F-8E94-128BF7A0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EDC9-BBA8-409E-86EC-C78D5C74379A}" type="slidenum">
              <a:rPr b="0" lang="zh-CN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B1D2-3582-45E1-A4CF-8C77D434342A}" type="slidenum">
              <a:rPr b="0" lang="zh-CN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科学课程的理念与目标</a:t>
            </a:r>
            <a:br>
              <a:rPr sz="60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XXX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学研究室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X</a:t>
            </a:r>
            <a:br>
              <a:rPr sz="3200"/>
            </a:b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七、关于</a:t>
            </a:r>
            <a:r>
              <a:rPr b="1" lang="zh-CN" sz="4200" spc="-1" strike="noStrike">
                <a:solidFill>
                  <a:srgbClr val="ff3300"/>
                </a:solidFill>
                <a:latin typeface="黑体"/>
                <a:ea typeface="黑体"/>
              </a:rPr>
              <a:t>中小学科学课程改革的</a:t>
            </a:r>
            <a:br>
              <a:rPr sz="4200"/>
            </a:br>
            <a:r>
              <a:rPr b="1" lang="zh-CN" sz="4200" spc="-1" strike="noStrike">
                <a:solidFill>
                  <a:srgbClr val="ff3300"/>
                </a:solidFill>
                <a:latin typeface="黑体"/>
                <a:ea typeface="黑体"/>
              </a:rPr>
              <a:t>    几个具体问题</a:t>
            </a:r>
            <a:br>
              <a:rPr sz="4200"/>
            </a:br>
            <a:br>
              <a:rPr sz="42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科学技术类课程的课程资源建设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32000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新的科学课程中，课程资源开发的理念应当有哪些变化？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课程资源是否就是“物”的资源？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资源的建设是否一定都要花很多的钱？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资源建设的重点放在哪里？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…………………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略）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828800" y="914400"/>
            <a:ext cx="6553080" cy="4724280"/>
          </a:xfrm>
          <a:prstGeom prst="rect">
            <a:avLst/>
          </a:prstGeom>
        </p:spPr>
        <p:txBody>
          <a:bodyPr wrap="none" lIns="90000" rIns="90000" tIns="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幼圆"/>
              </a:rPr>
              <a:t>谢谢！！！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幼圆"/>
              <a:ea typeface="幼圆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一、小学科学课程改革的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背景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二、对中国中小学科学教育的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   两种估价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4d4d4d"/>
                </a:solidFill>
                <a:latin typeface="Times New Roman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科学教育在中国的中小学占有非常重要的地位。小学开设的科学课程目前叫“自然”。初中和高中开设的科学课程主要有物理、化学、生物，初中地理课以人文地理为主，高中地理含有自然地理内容。一些有条件的学校为学生开设了选修课，如环保、能源、信息技术、科技制作等等。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……………………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略）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三、课程性质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培养科学素养为宗旨的科学启蒙教育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四、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   基本理念和目标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五、小学科学课程改革的</a:t>
            </a: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    基本走向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133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六、科学课程内容的变化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0000"/>
                </a:solidFill>
                <a:latin typeface="Tahoma"/>
              </a:rPr>
              <a:t>七、《合理饮食》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04920" y="1219320"/>
          <a:ext cx="8305560" cy="5532480"/>
        </p:xfrm>
        <a:graphic>
          <a:graphicData uri="http://schemas.openxmlformats.org/drawingml/2006/table">
            <a:tbl>
              <a:tblPr/>
              <a:tblGrid>
                <a:gridCol w="4070160"/>
                <a:gridCol w="4235400"/>
              </a:tblGrid>
              <a:tr h="533160">
                <a:tc gridSpan="2"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内      容     要    求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教  学  大  纲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课   程   标   准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4542120"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通过教学，使学生知道食物的营养成分主要有蛋白质、脂肪、淀粉、盐类、维生素、水等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培养学生的实验能力——初步学会用实验的方法来检验食物的营养成分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向学生进行营养卫生教育，使学生知道营养卫生的基本要求</a:t>
                      </a: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了解需要的主要营养及其来源，懂得营养全面、合理的重要性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用分类的方法认识食物，培养学生分类的能力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用简单的图表进行统计，并对统计结果做出合理的评价，培养学生整理、分析资料的初步能力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能用文字语言、图片语言、图画语言表述自己的研究结果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培养学生利用资料获取知识的初步能力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、增进学生关心饮食的意识，乐于用学到的知识提高自己的饮食质量，培养良好的饮食习惯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1368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科学课程 理念 目标</cp:keywords>
  <dc:language>en-US</dc:language>
  <cp:lastModifiedBy/>
  <cp:revision>0</cp:revision>
  <dc:subject/>
  <dc:title/>
</cp:coreProperties>
</file>