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8C5-D94F-4445-BC7E-A6045D6A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7F-CC1F-48D3-B682-CC497571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873-8DC0-4E3B-9B51-C177F179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C8B-2EAE-48A3-90CB-3B353255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D55-F68C-4A73-BE55-CCD688E7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346-F2C1-42F4-9EDB-F03DC79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85D-1B1F-413F-AD9D-57F48FA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DEE6-08E8-40F9-8889-A8877C7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A001-E8B7-4230-9A52-FA83C79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102D-4517-49A4-9AE0-BC9A5265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112-75A8-4AB0-8C59-59B5205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773-B7ED-40E4-A4CE-ABAC739D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8136-A4C6-43A6-ADD2-8439210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8406-9821-4C6F-BC19-E65D455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5084-A952-4FE5-9B0E-79EF121E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9081-0AF7-423C-8D6E-7BA061E4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9EAF-8050-4F22-93C0-166BDE87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DF4-6E8D-4E75-81C5-6F47BC94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A5D-A37E-4579-AB8E-E98CE9C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F46-EA88-4C90-AD3F-5D0F0990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A57-ECDA-4D47-B73C-974D4F1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853-A6D8-4371-BB6A-D980F10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867-969C-447C-8679-C954B40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758-C1F8-44E6-8444-153010F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1D5-140A-4C55-BE02-C8A6FF1C38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4E8B-9B94-4C3A-9F8E-67E65C5F68D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劳动分工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混合经济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复杂系统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与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谐社会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920" y="4292640"/>
            <a:ext cx="7777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ahoma"/>
                <a:ea typeface="楷体_GB2312"/>
              </a:rPr>
              <a:t>产权，民主，法制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的局限，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  <a:ea typeface="楷体_GB2312"/>
              </a:rPr>
              <a:t>社区，科学，道德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的作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产权清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，到那一级？个人，家庭，企业，社区，国家？》分权创新与集权竞争的矛盾，人才与体制的矛盾，君子之泽，三世而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民主决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，短期还是长期行为？防止犯错还是鼓励创新？金钱，权利，舆论，利益对决策的影响。多数民众还是少数专家决策？科学上，多数人往往是错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法制，程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，与道德，公众的矛盾，法律的可操作性与局限性，情理法还是法理情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法不治众，法不治穷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法难容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均衡经济学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复杂经济学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的不同发展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边际定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差别定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边际思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整体思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价格至上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综合评价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市场份额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社会生态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技术指标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完全竞争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垄断竞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适度竞争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合作公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规模不经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规模范围经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自由放任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赢家通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新陈代谢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选优汰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有效市场</a:t>
            </a: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嫌贫爱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生机市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宏观调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无视历史</a:t>
            </a: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无轨游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战略规划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信用社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均衡经济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趋同竞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非均衡发展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多样互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市场经济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政商对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混合经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三方互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微观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宏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官商对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微观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中介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宏观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结构调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老子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:”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道生一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一生二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二生三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三生万物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混合经济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复杂系统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和谐社会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  <a:ea typeface="楷体_GB2312"/>
              </a:rPr>
              <a:t>发展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中兼顾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  <a:ea typeface="楷体_GB2312"/>
              </a:rPr>
              <a:t>效率，稳定，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  <a:ea typeface="楷体_GB2312"/>
              </a:rPr>
              <a:t>公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457000"/>
            <a:ext cx="777240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国际竞争力的基础：规模经济与范围经济，代价：高税入与少就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社会稳定的基础：中小企业创造大量就业，代价：低税入与多就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低税收与高福利的矛盾：国有企业与非赢利机构的贡献，代价：低赢利与多协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496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生态约束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人口问题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多样发展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竞争创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就业压力，老龄问题，区域差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国际竞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球战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建新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中部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化中心，上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融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三区互补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原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工贸易区，中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丘陵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退休教育区，边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林草原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生态区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行不同的产业政策，变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人口沉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才对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面改革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知识教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创新教育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革招生考试课程制度，培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跨学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创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导人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官本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”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一刀切”思维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区地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样发展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村建立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长老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急功近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财政联邦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方政府债卷市场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面的信用制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赢利合作组织免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民间产业协会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标准，竞争规范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谈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非赢利高标准的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开发研究院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政府与民间共同设立研究基金，作长期性基础研究，并与民间企业分享科研成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社会矛盾与异化的根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柏拉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(Plato, Republic):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劳动分工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增加效率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增加社会分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引起内斗与外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何减少内争强化外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答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军人统治阶级实行共产共子女，哲学家作国王，城市存在最佳规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马克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劳动分工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引起异化，私有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社会危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方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全面发展的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消灭私有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孙中山：发展民权民生，引进技术，节制资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无矛盾的理想社会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圣弃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利百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仁弃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复孝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巧弃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盗贼无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经：知识与原罪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梭：社会契约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学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狩猎采集社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始共产主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古典福利经济学：帕累托最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产权理论和新乌托邦：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私有制降低交易成本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斯：美国的经验研究，社会交易成本随劳动分工的程度增加（约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D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主义实验：以低成本普及教育与医疗；美国医疗成本远高于加拿大，西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起，拿破仑，红军激励士气的成功之道：军官与士兵同甘共苦 （对比：美国的管理层期权与股市泡沫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造原子弹的成本为美国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史现实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私有化鼓励创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同时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交易成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者的竞争过程，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新能开发更大资源则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补偿交易成本则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希腊，罗马，大英帝国，美国，等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产权理论与公司金融与行为金融学的矛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公司价值与融资结构无关＞与产权结构无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rton Mil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英美企业短期行为，投资不足；德日企业长期行为，投资过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为金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健全金融市场的要点是保护小股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业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社会环境研究：破产效率＞保护创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：德国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eiss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金会，美国信用社，学生合作社，芬兰与瑞典的创新社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体户，家族企业，合作企业，股份公司，非盈利组织的共存，技术竞争，企业文化，与领导才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真实世界的混合经济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经济与民间社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社区，教会，公学，大学，慈善组织，基金会，信用社＞非赢利非政府团体＞和谐社会的基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价：缺乏经济的可持续性，需要外来资源补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经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赢利竞争，技术创新＞发现新资源，改进效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价：创造性的毁灭，破坏生态，增加社会不稳定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府经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国家机器，军队，国有企业＞维持社会秩序与国家安全，维持社会稳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价：权力的扩张与寻租，官僚抑制体制创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稳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兼顾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合经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比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文明崩溃与历史教训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农业过度扩张与生态危机：撒哈拉沙漠与中国北方的沙漠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中国皇朝的历史循环：平分财产＞人口增长＞快于经济增长（汉代：皇孙卖草鞋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明代：闭关政策（海禁）＞逼商走私＞内战当作外战（倭寇），财政危机＞信用危机＞政治军事危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市场过度投机＞大萧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目前形式的资本主义是可持续文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均衡经济学的基本谬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经济的特点是创新与不稳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ow-Debreu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的误导：均衡存在唯一稳定，排除产品新陈代谢与经济危机的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市场理论的误导：否认非线性定价（规模效应，信用配给，金融泡沫）的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权理论的误导：富人比穷人聪明？（否认劳动分工的专业化，不确定风险下的企业家精神，社会协作的复杂性与历史约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化经济学与非平衡热力学：劳动分工，新陈代谢》熵增加而非减少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楷体_GB2312"/>
              </a:rPr>
              <a:t>和谐社会的科学基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维纳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控制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：稳定性的维持基于负反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薛定锷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量子生物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：稳定性与应变性的兼顾机制》大分子基因，负熵流（信息流），亚稳态，非周期性晶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普里高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非平衡物理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：结构演化基于正反馈（自催化反应，自组织），开放系统与耗散结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鍔冲姩鍒嗗伐 娣峰悎缁忔祹 澶嶆潅绯荤粺</cp:keywords>
  <dc:language>en-US</dc:language>
  <cp:lastModifiedBy/>
  <cp:revision>0</cp:revision>
  <dc:subject/>
  <dc:title/>
</cp:coreProperties>
</file>