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71F5-BE41-43CC-AAD9-91783F5A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4D0-14F6-4100-ADE1-6322EE0E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D20-CECA-4DDB-A028-E8B26F47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3C2-ADBF-4181-A650-7E8CB883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E48D-473A-4B08-905F-9CC02177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9AFD-2DE0-4DD9-98DF-FA2C32C5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AE27-D7A1-4B73-9AA0-FAC7F3B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D85-D977-49DE-9A6F-B997FB45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5EAE-1A62-451C-BD83-A350DFB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B4FB-08DD-4EAC-A058-BE68F990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6F5C-9983-4183-8573-EA1F48C1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1AF-CEB2-489F-ABE9-1C781415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6F14-F058-4DE5-B3E0-EAFB8C9A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9537-FDB3-4586-9A5A-22482C2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EC21-9D49-4256-86EA-37D0213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4F54-9DC0-40BE-AFCE-9CC9B9A9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560-AE62-4DA4-952D-9826891F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A7F-900D-4900-9294-50BD3A63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B63-8E59-42C0-98A7-AD868FD6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627-7EA0-40DE-A912-8014236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AC09-2156-467F-9339-F2991F02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93A5-36A3-41A1-9B77-CEB285E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AD0-CDA7-4B00-A290-D141980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242-C398-4369-AD90-578B9423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2B81-9CB8-457C-8AAB-E36869B4A44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DC8A-A64B-4684-9B17-E7D2917DC7D2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六个生活的启示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2120" y="1219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默想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这是一个聪明的孩子，他知道自己的有限，而更重要的，他也明白别人比自己强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凡事不只靠自己的力量，学会适时的依靠他人，是一种谦卑，更是一种聪明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4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听的艺术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美国知名主持人 “林克莱特” 一天访问一名小朋友，问他说： 「你长大後想要当甚么呀？」小朋友天真的回答：「嗯…我要当飞机的驾驶员！」林克莱特接著问：「如果有一天，你的飞机飞到太平洋上空所有引擎都 熄火了，你会怎么办？」小朋友想了 想 「我会先告诉坐在飞机上的人绑好安全带，然後我挂上我的降落伞跳出去。」当在现场的观众笑的东倒西歪时，林克莱特继续著注视这孩子，想看他是不是自作聪明的家伙。没想到，接著孩子的两行热泪夺眶而出，这才使的林克莱特发觉这孩子的悲悯之情远非笔墨所能形容。於是林克莱特问他说：「为甚么要这么做？」小孩的答案透露出一个孩子真挚的想法：「我要去拿燃料，我还要回来！！」「我还要回来！」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你听到别人说话时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你真的听懂他说的意思吗？你懂吗？如果不懂，就请听别人说完吧，这就是「听的艺术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听话不要听一半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还有，不要把自己的意思，投射到别人所说的话上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5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散步的启示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上帝给我一个任务，叫我牵一只蜗牛去散步。我不能走得太快，蜗牛已经尽力爬，每次总是挪那　一点点。我催它，我唬 它，我责备它，蜗牛用抱歉的眼光看著我，彷佛说：「人家已经尽了全力！」我拉它，我扯，我甚至想踢它，蜗牛受了伤，它流著汗，喘著气，往 前爬真奇怪，为什　上帝叫我牵一只蜗牛去散步？上帝啊！为什么？」天上一片安静。「唉！也许上帝去了抓蜗牛！」好吧！松手吧！反正上帝不管了，我还管什么？任蜗牛往前爬，我在後面生闷气。咦？我闻到花香，原来这边有个花园。我感到微风吹来， 原来夜里的风这　温柔。慢著！我听到鸟声，我听到虫鸣，我看到满天的星斗多亮丽。咦？以前怎么没有这些体会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我忽然想起来，莫非是我弄错了！原来上帝叫蜗牛牵我去散步。你找到你的蜗牛了吗？偶尔出去散散步吧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黑体"/>
                <a:ea typeface="黑体"/>
              </a:rPr>
              <a:t>(6) </a:t>
            </a:r>
            <a:r>
              <a:rPr b="1" lang="zh-CN" sz="5400" spc="-1" strike="noStrike">
                <a:solidFill>
                  <a:srgbClr val="ffcc66"/>
                </a:solidFill>
                <a:latin typeface="黑体"/>
                <a:ea typeface="黑体"/>
              </a:rPr>
              <a:t>你真的可以很自在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米兰昆德拉有一本书叫「生活在他方」，我对这五个字有很好的联想，我的生活总是在远方，都在想：如果明天我有钱，我就可以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但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你现在赚少钱不快乐，就算你有再多的钱，我保证你也不会快乐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你一个人的时候不会自得其乐，即使嫁了人，娶了老婆，别人跟你一起一样不快乐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如果现在不懂得享受生活，未来也不会享受生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1) </a:t>
            </a: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单纯的喜悦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有人问什么叫做自由，所谓的自由就是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你想要拒绝一个人的约会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已经不需要任何理由，你有权力过自己要过的生活，有权力去自己要去的地方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MS Hei"/>
                <a:ea typeface="MS Hei"/>
              </a:rPr>
              <a:t>其实生活很简单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男人跟女人都很喜欢在自己的人生设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adline</a:t>
            </a:r>
            <a:r>
              <a:rPr b="0" lang="en-US" sz="2800" spc="-1" strike="noStrike">
                <a:solidFill>
                  <a:srgbClr val="ffffff"/>
                </a:solidFill>
                <a:latin typeface="MS Hei"/>
                <a:ea typeface="MS Hei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比如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我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一定要结婚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6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一定生孩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0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时一定要一男一女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1</a:t>
            </a: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岁的时候一定要有房子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S Hei"/>
                <a:ea typeface="MS Hei"/>
              </a:rPr>
              <a:t>所以很多决定就很草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如果刚开始你找的那个人就不对，往後再怎么努力都不对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有时候，我们常常会觉得婚结了，所有问题就没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那如果结了婚还有问题，就赶快把小孩生一生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其实你的问题在这个阶段没解决，在下个阶段只会变大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你对未来不用期待太多，期待太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老实说挫折感会很深，不如看看你现在做什么事情，会让你觉得很自在，吸收到很多的东西，那个时候你才会觉得人生真的很充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另外，一个人如果太努力在活给别人看，就会痛苦得不得了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MS Hei"/>
                <a:ea typeface="MS Hei"/>
              </a:rPr>
              <a:t>今天如果你相信自己做得还不错，不在乎别人怎么看你的时候，你真的可以很自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一个小女孩每天都从家里走路去上学。一天早上天气不太好，云层渐渐变厚，到了下午时风吹得更急，不久开始有闪电、打雷、下大雨。小女孩的妈妈很担心，她担心小女孩会被打雷吓著，甚至被雷打到。雷雨下得愈来愈大，闪电像一把锐利的剑刺破天空，小女孩的妈妈赶紧开著她的车，沿著上学的路线去找小女孩，看到自己的小女儿一个人走在街上，却发现每次闪电时，她都停下脚步、抬头往上看、并露出微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看了许久，妈妈终於忍不住叫住她的孩子，问她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「你在做什么啊？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她说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「上帝刚才帮我照相，所以我要笑啊！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2) </a:t>
            </a:r>
            <a:r>
              <a:rPr b="0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失去与拥有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位企业家在商场上有著惊人的成就。当他在事业达到巅峰的时候，有一天陪同他的父亲，到一家高贵的餐厅用餐，现场有一位琴艺不凡的小提琴手正在为大家演奏。这位企业家在聆赏之余，想起当年自己也曾学过琴，而且几乎为之疯狂，便对他父亲说：「如果我从前好好学琴的话，现在也许就会在这儿演奏了。「是呀，孩子，」他父亲回答，「不过那样的话，你现在就不会在这儿用餐了。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默想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我们常为失去的机会或成就而嗟叹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但往往忘了为现在所拥有的感恩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133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(3) </a:t>
            </a: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知道自己</a:t>
            </a:r>
            <a:br>
              <a:rPr sz="6000"/>
            </a:br>
            <a:r>
              <a:rPr b="1" lang="zh-CN" sz="6000" spc="-1" strike="noStrike">
                <a:solidFill>
                  <a:srgbClr val="ffcc66"/>
                </a:solidFill>
                <a:latin typeface="黑体"/>
                <a:ea typeface="黑体"/>
              </a:rPr>
              <a:t>「有限」的聪明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有一个聪明的男孩，有一天妈妈带著他到杂货店去买东西，老板看到这个可爱的小孩，就打开一罐糖果，要小男孩自己拿一把糖果。但是这个男孩却没有任何的动作。几次的邀请之後，老板亲自抓了一大把糖果放进他的口袋中。回到家中，母亲很好奇的问小男孩，为什没有自己去抓糖果而要老板抓 呢？小男孩回答得很妙：「因为我的手比较小呀！而老板的手比较大，所以他拿的一定比我拿的多很多！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活 启示</cp:keywords>
  <dc:language>en-US</dc:language>
  <cp:lastModifiedBy/>
  <cp:revision>0</cp:revision>
  <dc:subject/>
  <dc:title/>
</cp:coreProperties>
</file>