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525-90A5-41E4-A177-85BE7DC5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D92-0D22-43D2-8F18-CC83DA3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3505-DE3F-4907-A4F3-3CFF72D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BF9E-C474-412A-B698-5DABC1C4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62B4C-AAB1-4D38-9ECC-C243AF5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1A95C-7EE5-4448-80A0-2025E4F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F5DB-9628-4BA3-9D29-8D1000F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73141-63F0-4925-981B-3E3E6C1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DDB0-C52A-4628-9F9E-4091A23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6B928-05DD-4C9B-BDD3-7C2FE2F0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35D9E-20DE-45C7-AFB5-BBED6C7F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3AD0-3F74-4FEF-8AA1-9CF51C1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C9F-CD91-40A0-9965-F420DBBC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99DC7-46F4-4AD0-A9DD-18F295D0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78528-AB00-47D2-AC4C-BE1851E8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1933-FA74-47A7-A57E-69C38D3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D4E4F-AAF1-4B46-B6B3-749C627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2C843-4668-468D-80B7-265FC3B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914E3-5540-4449-A1C6-95FB240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F1A03-C0BA-42BE-B6B7-601A6BC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2220E-AD9B-4D25-8EE5-ED52CBE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847C-A402-4573-A99C-4C17370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3F5C-3A7A-489D-91C7-D6170A44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10E-BC81-4B7F-B326-F8704CB4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9FCB4-354C-4127-A407-04FD044D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8C97A-214E-4CFD-9C6D-12CB59C9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82E61-FDEE-4D80-846E-55B5663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129D3-6EE4-45B0-9B5E-6D49F43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6C74A-C83A-421E-8B63-F1FBFC4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BFCF1-6341-473F-AB3A-7920B77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7F139-B087-40D6-9695-2606FCD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98D2-E456-4275-961D-97D9ADD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B1E84-9F81-4E58-A51C-D90FA63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E9CD-0E9B-49B6-9330-CCD9C93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C60-B57F-45FB-A7E2-72E5532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79C27-8BCB-4B56-9919-01EE300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C2874-F5DA-473A-8FD1-BE40A4A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3D4DC-04E9-4DB7-8728-765B100F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D05EC-97B2-45F5-93AD-0B24D709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A44C2-6208-4441-B016-35851E25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AC50F-77FF-4536-BE75-ED2C1F5E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0A0D5-48C0-49E0-B9E6-10C1DA97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65CF-D4CD-4087-871C-73716FE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8B896-C37E-451C-86B4-D1DBC86F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F21F5-F0A9-4286-BD40-DCE230F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F5B-F38B-4239-805B-3BAA1F26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8F7C3-55EB-4C2E-9638-50B81C8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A53AD-DAA7-4B2F-8F24-A381B9C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D8BB1-C459-4E5E-909A-591FBDA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8628B-753B-4300-ADCB-9601C656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C16F8-174D-42CE-B51E-5AE8B769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9171F-D042-4F6D-BF98-A52B2B24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4D58F-645A-4A5F-8F03-D185C17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499EA-2A16-4966-8F88-AFFC533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4895A-6CE2-4F99-A813-9FD7748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3C8DB-ABF2-4FB9-BE55-998E9E8F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CDA-DEE6-4B7C-AEF5-C58110C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77652-27F0-4C1D-9692-37D5177E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9955D-9EA8-4B7D-9C32-8A63A45E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7F0F7-E630-486B-8975-4C8227A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A1F3E-9015-43FE-90B4-E6869A1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BD769-4596-4273-8C58-3243659D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21A72-A3D8-4826-A678-8F261BF7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1956E-5A47-4113-ABF6-0CD40C0D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5345-79FB-4739-9486-CC3EE02E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4F4-BC0B-4D02-B6BC-68C0C1B2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CD2-6A18-41ED-A999-12010D60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8481-87B3-4943-9528-DB7BD42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CA2-6DCC-41EB-BF51-7860187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BA3B-2AF4-4A75-AAF7-1AAC5ACF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D7F-4F69-4EE7-805E-89BCC28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C72B-7115-4CC2-A357-6C30A77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8F0-08CA-456C-B3E8-831D2A73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AF8-CF92-4E0A-826B-55ABB179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9C96-81A2-4531-9249-ED141F4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487E-0F58-4AB9-B706-3F23C9F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BEAA-CDD5-4D68-8596-E4A3FFB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9E93-8A9A-4F10-A334-7BE02CE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BA91-D4F9-4031-8B63-397138F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CBD-2481-44DD-8D2B-8F0FC90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C03A-BA85-4DFC-B888-44FA4273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E7B0-20BF-40D1-8555-54F33C3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463B-943F-4330-B05B-B16B393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5179-160F-4259-9A9F-C9D5A0D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B5D1-70C5-456B-A819-C97618DD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DF60-AA1E-4560-9338-0EDB21CD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50463-6DDA-4000-B4A9-93CD66B1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21E6-E756-4FED-AA86-CA443B3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2BB7-78CA-40DB-9F77-DE9346D8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B458-8AC6-4C15-B9E6-0615E22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808-7A14-4EB8-9583-D1F8FF6E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1C95-A2FE-4FF6-9C41-CEA0002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6B45-9BE5-4BBF-94B0-D85FF00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075F-E98D-493E-823E-B941E5E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D27F-E358-4371-A79D-B4CE4356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577A-B383-4447-A949-1D177E0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4F98-51A4-4087-946B-1A63D5F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623E-8831-4F24-BA7E-8103DC0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A03A-6A5A-4C15-A93E-98F37265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4E59-EAAE-4DDE-8658-3E7192E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CCDD-AEF0-4C92-835D-D06B1E24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530-C9D2-4931-8282-E9AEDF0C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9A89-B97F-49B7-86FE-78FE265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001B-F1AA-4743-865A-BD1C8C5B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A99F-923A-417B-8FE5-7FF5A569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4E6A-1055-43E6-BFB5-2C4B1C2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1470-F6AC-4748-B4F0-3479661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3077-8D25-4C22-93E2-E7D27B4B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74F7-E163-42D3-8C75-07B53DF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F2DD-5F78-4BBE-A1C1-1026352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4EFE-FDAB-403B-A57B-4DEE6637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1007-98BB-4775-9ABF-6ECA954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46C-BDAD-487C-9C22-74EB85B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5A3A-34EC-44A6-A95D-8530AB69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2984-3608-4843-8E5E-627C498D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7105-3AAD-4505-B9A4-36FDE20F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63A0-59B9-4BD5-8C44-CFC5542C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0359-FBB2-4B65-9CEC-52627EB2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31EC-FCDA-4332-9E98-13A4226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B2B1-1C66-4290-A07A-56ECB85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600A-B0AE-40A9-8A4D-80CC1C2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2FB3-FC5F-4987-BEE2-A104426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5EF6-F4E8-43F0-A47B-C9E25E1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726-4BBE-4312-A36D-BA2554E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13ED-128D-420C-AE52-D4BF517E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D64D-170B-4695-8C82-733E2B5E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520C-F2C2-4CBD-8013-886FE00E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EE02-AE31-41A6-BFF6-FA2B0BFE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4D1C-7834-4E29-97FD-141BEC8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C39FC-FDCD-4506-B1F7-CDCA63F7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85FB-2F9D-45E0-BE24-4ECCDC05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3E55-7200-43EC-8DD6-43DBC9E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5E1D-9345-45DA-BA03-84E3EC5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C5C67-6F12-4FBE-B9ED-22B583D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3B0-F048-4C51-97E9-A4325BA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A5B2-B408-4208-B286-FC03FBC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D7E6F-6D64-41F6-AC9B-5804ACF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E09E-C817-43DF-95E8-2DD751C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A3D9-DEEA-4DC3-86DD-BFBD5C06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0576-6E0C-48D2-A4E6-79DCE0DD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FFB70-6BA7-44DA-A591-DB102DF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9B62-70E7-4ACB-8829-DC7B990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7ED2-9923-400A-A608-7A40A2E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BC14-1B88-407D-8954-FEA3C52F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1BEE-B02C-4E4A-B0E8-292F39A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FF5-549D-448F-80B7-6FF3485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163E-AD65-4C4C-AA46-4EAEAF74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2DFB2-BA41-4A7E-B0E6-E07583D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C916-03C1-4906-B29F-60474A5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D7355-6C51-4F06-8D50-5F79C55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022B-C63A-4C01-80FD-3EC91461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DA5F-AED0-400A-856E-3F9068F1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A6F0-5948-43F4-8ADD-D28CB706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2C707-73B6-4372-B4FA-13E6C92A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9C972-1A37-4286-BF8F-4E8F7F3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CE090-C459-4F77-A00B-E045821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AE80-072B-46A9-9B9D-18EA01422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03E-DE03-4CD6-9524-8F67ADAD11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86E-45C4-43C2-934F-3D764E102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669-5E41-41B9-891F-5637BCCF24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E4E-040E-4EBF-AFC5-A56989A933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7B21-00BA-45C8-A01E-8FC62A82EF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561-9127-44F2-B781-20459F31F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E8F-30A9-4EC2-9A72-FE5CD4D449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8B76-6907-4413-81CE-21F8A257CE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773-451A-4610-BA10-1A5B8FA6C1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18C-3672-4C1A-8E03-3FAE97D86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2503-190A-43C6-88DD-5DFB7EA0D5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8E2-EF36-4CE9-9FDF-D93883A9C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D45-D1A1-4279-862D-3E6459604D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D186-230C-4589-95C6-8C008E9B2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9625-2B98-48E2-A88D-CA8C185F64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564-CB39-4D59-83A1-CD42ED9FD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38F-69D4-4F61-AFC3-D17B0316CA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102-B5DC-4A22-8BA7-9A913E79B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761-6CB5-4F0E-9D42-61D43312B4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78AA-64AB-403B-AE1B-FF3261AF5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9546-0BD6-4A73-8E7D-4787B83A2D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9833-743F-4B33-AFD7-7F748FB11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D7A-A1D5-42C8-8C29-23A8C5AB6F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00D8-B63B-4989-82BB-C92BA04B0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214960" y="4643280"/>
            <a:ext cx="4857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新简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5286240" y="5143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4" descr="3.png"/>
          <p:cNvPicPr/>
          <p:nvPr/>
        </p:nvPicPr>
        <p:blipFill>
          <a:blip r:embed="rId2"/>
          <a:stretch/>
        </p:blipFill>
        <p:spPr>
          <a:xfrm>
            <a:off x="1424160" y="3032280"/>
            <a:ext cx="7434000" cy="3999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5" descr="2.png"/>
          <p:cNvPicPr/>
          <p:nvPr/>
        </p:nvPicPr>
        <p:blipFill>
          <a:blip r:embed="rId3"/>
          <a:stretch/>
        </p:blipFill>
        <p:spPr>
          <a:xfrm>
            <a:off x="642960" y="2071800"/>
            <a:ext cx="6083280" cy="1881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6" descr="1.png"/>
          <p:cNvPicPr/>
          <p:nvPr/>
        </p:nvPicPr>
        <p:blipFill>
          <a:blip r:embed="rId4"/>
          <a:stretch/>
        </p:blipFill>
        <p:spPr>
          <a:xfrm>
            <a:off x="2643120" y="2143080"/>
            <a:ext cx="6243840" cy="21020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0"/>
          <p:cNvSpPr/>
          <p:nvPr/>
        </p:nvSpPr>
        <p:spPr>
          <a:xfrm flipH="1">
            <a:off x="707148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1"/>
          <p:cNvSpPr/>
          <p:nvPr/>
        </p:nvSpPr>
        <p:spPr>
          <a:xfrm>
            <a:off x="5072040" y="3071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9"/>
          <p:cNvSpPr/>
          <p:nvPr/>
        </p:nvSpPr>
        <p:spPr>
          <a:xfrm>
            <a:off x="50004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7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4" descr="1.png"/>
          <p:cNvPicPr/>
          <p:nvPr/>
        </p:nvPicPr>
        <p:blipFill>
          <a:blip r:embed="rId2"/>
          <a:stretch/>
        </p:blipFill>
        <p:spPr>
          <a:xfrm>
            <a:off x="4164120" y="2103480"/>
            <a:ext cx="2958840" cy="27939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5" descr="2.png"/>
          <p:cNvPicPr/>
          <p:nvPr/>
        </p:nvPicPr>
        <p:blipFill>
          <a:blip r:embed="rId3"/>
          <a:stretch/>
        </p:blipFill>
        <p:spPr>
          <a:xfrm>
            <a:off x="6000840" y="2071800"/>
            <a:ext cx="2717640" cy="2857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6" descr="1.png"/>
          <p:cNvPicPr/>
          <p:nvPr/>
        </p:nvPicPr>
        <p:blipFill>
          <a:blip r:embed="rId4"/>
          <a:stretch/>
        </p:blipFill>
        <p:spPr>
          <a:xfrm>
            <a:off x="500040" y="2174760"/>
            <a:ext cx="2959200" cy="2793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7" descr="2.png"/>
          <p:cNvPicPr/>
          <p:nvPr/>
        </p:nvPicPr>
        <p:blipFill>
          <a:blip r:embed="rId5"/>
          <a:stretch/>
        </p:blipFill>
        <p:spPr>
          <a:xfrm>
            <a:off x="2336760" y="2143080"/>
            <a:ext cx="2718000" cy="28576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2"/>
          <p:cNvSpPr/>
          <p:nvPr/>
        </p:nvSpPr>
        <p:spPr>
          <a:xfrm>
            <a:off x="1140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3"/>
          <p:cNvSpPr/>
          <p:nvPr/>
        </p:nvSpPr>
        <p:spPr>
          <a:xfrm>
            <a:off x="321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4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5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14" descr="1.png"/>
          <p:cNvPicPr/>
          <p:nvPr/>
        </p:nvPicPr>
        <p:blipFill>
          <a:blip r:embed="rId2"/>
          <a:stretch/>
        </p:blipFill>
        <p:spPr>
          <a:xfrm>
            <a:off x="2428920" y="1012680"/>
            <a:ext cx="2913120" cy="25369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5" descr="2.png"/>
          <p:cNvPicPr/>
          <p:nvPr/>
        </p:nvPicPr>
        <p:blipFill>
          <a:blip r:embed="rId3"/>
          <a:stretch/>
        </p:blipFill>
        <p:spPr>
          <a:xfrm>
            <a:off x="4857840" y="78588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7" descr="2.png"/>
          <p:cNvPicPr/>
          <p:nvPr/>
        </p:nvPicPr>
        <p:blipFill>
          <a:blip r:embed="rId4"/>
          <a:stretch/>
        </p:blipFill>
        <p:spPr>
          <a:xfrm>
            <a:off x="2571840" y="321480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6" descr="1.png"/>
          <p:cNvPicPr/>
          <p:nvPr/>
        </p:nvPicPr>
        <p:blipFill>
          <a:blip r:embed="rId5"/>
          <a:stretch/>
        </p:blipFill>
        <p:spPr>
          <a:xfrm>
            <a:off x="4643280" y="3178080"/>
            <a:ext cx="2913120" cy="25369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0"/>
          <p:cNvSpPr/>
          <p:nvPr/>
        </p:nvSpPr>
        <p:spPr>
          <a:xfrm>
            <a:off x="3283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1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5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6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7" descr="1.png"/>
          <p:cNvPicPr/>
          <p:nvPr/>
        </p:nvPicPr>
        <p:blipFill>
          <a:blip r:embed="rId2"/>
          <a:stretch/>
        </p:blipFill>
        <p:spPr>
          <a:xfrm>
            <a:off x="1143000" y="3571920"/>
            <a:ext cx="2806560" cy="58428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4" descr="3.png"/>
          <p:cNvPicPr/>
          <p:nvPr/>
        </p:nvPicPr>
        <p:blipFill>
          <a:blip r:embed="rId3"/>
          <a:stretch/>
        </p:blipFill>
        <p:spPr>
          <a:xfrm>
            <a:off x="5786280" y="235728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2" descr="1.png"/>
          <p:cNvPicPr/>
          <p:nvPr/>
        </p:nvPicPr>
        <p:blipFill>
          <a:blip r:embed="rId4"/>
          <a:stretch/>
        </p:blipFill>
        <p:spPr>
          <a:xfrm>
            <a:off x="2786040" y="928800"/>
            <a:ext cx="4152960" cy="48132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3" descr="2.png"/>
          <p:cNvPicPr/>
          <p:nvPr/>
        </p:nvPicPr>
        <p:blipFill>
          <a:blip r:embed="rId5"/>
          <a:stretch/>
        </p:blipFill>
        <p:spPr>
          <a:xfrm>
            <a:off x="3751200" y="1069920"/>
            <a:ext cx="3606840" cy="47880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8"/>
          <p:cNvSpPr/>
          <p:nvPr/>
        </p:nvSpPr>
        <p:spPr>
          <a:xfrm>
            <a:off x="1783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6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7" descr="1.png"/>
          <p:cNvPicPr/>
          <p:nvPr/>
        </p:nvPicPr>
        <p:blipFill>
          <a:blip r:embed="rId2"/>
          <a:stretch/>
        </p:blipFill>
        <p:spPr>
          <a:xfrm>
            <a:off x="3157560" y="2357280"/>
            <a:ext cx="3030480" cy="185436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8" descr="2.png"/>
          <p:cNvPicPr/>
          <p:nvPr/>
        </p:nvPicPr>
        <p:blipFill>
          <a:blip r:embed="rId3"/>
          <a:stretch/>
        </p:blipFill>
        <p:spPr>
          <a:xfrm>
            <a:off x="5830920" y="2571840"/>
            <a:ext cx="2830320" cy="170316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9" descr="2.png"/>
          <p:cNvPicPr/>
          <p:nvPr/>
        </p:nvPicPr>
        <p:blipFill>
          <a:blip r:embed="rId4"/>
          <a:stretch/>
        </p:blipFill>
        <p:spPr>
          <a:xfrm>
            <a:off x="571680" y="2583000"/>
            <a:ext cx="2830320" cy="17031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1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4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1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14" descr="1.png"/>
          <p:cNvPicPr/>
          <p:nvPr/>
        </p:nvPicPr>
        <p:blipFill>
          <a:blip r:embed="rId2"/>
          <a:stretch/>
        </p:blipFill>
        <p:spPr>
          <a:xfrm>
            <a:off x="2495520" y="790560"/>
            <a:ext cx="4719600" cy="5138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15" descr="2.png"/>
          <p:cNvPicPr/>
          <p:nvPr/>
        </p:nvPicPr>
        <p:blipFill>
          <a:blip r:embed="rId3"/>
          <a:stretch/>
        </p:blipFill>
        <p:spPr>
          <a:xfrm>
            <a:off x="2000160" y="1000080"/>
            <a:ext cx="5621400" cy="49341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5140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3"/>
          <p:cNvSpPr/>
          <p:nvPr/>
        </p:nvSpPr>
        <p:spPr>
          <a:xfrm>
            <a:off x="2926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7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09T02:17:55Z</dcterms:modified>
  <cp:revision>332</cp:revision>
  <dc:subject/>
  <dc:title>幻灯片 1</dc:title>
</cp:coreProperties>
</file>