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04C-8F2F-4CCD-B317-3D796398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FBB-1AD5-417D-A992-0CAFCBA8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2361-13BD-4D3F-BE54-72395F37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55D3-CE76-48D3-A3C1-91A6039F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D3A-DEC9-4ADD-9DE9-932B441C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43F-2880-4825-B0CA-0ABFF769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89C-1CF9-4409-8724-4DE223D7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D12-E468-447F-8FA9-F016CB9D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8EF3-E971-4AC3-9823-A2E9A8B9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5F1A-D0CE-4D2F-99C6-7C632E15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54A5-4071-4323-8855-5488D876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602-246A-4865-BC92-B68602A7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9C36-48D3-4A1C-BEF4-D34D6B2817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农业的发展历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549360"/>
            <a:ext cx="806472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（三）近代农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即工业化农业时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工业：</a:t>
            </a:r>
            <a:r>
              <a:rPr b="1" lang="zh-CN" sz="22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十八世纪英国成功设计了种子条播机、脱谷机、收割机、饲料配制机；十九世纪内燃拖拉机的产生使畜力牵引为机械动力所替代，德国的齐得勒制成</a:t>
            </a:r>
            <a:r>
              <a:rPr b="1" lang="zh-CN" sz="22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DDT</a:t>
            </a:r>
            <a:r>
              <a:rPr b="1" lang="zh-CN" sz="22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；二十世纪合成氨、尿素、六六六、对硫磷等，化肥、农药工业长足发展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生物学：</a:t>
            </a:r>
            <a:r>
              <a:rPr b="1" lang="zh-CN" sz="22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十九世纪德国学者施来登、施旺创立了细胞学说，英国学者达尔文创立了进化论，德国学者李比希创立了植物矿质营养学说，奥地利生物学家孟德尔和美国生物学家摩尔根建立了遗传理论，俄国土壤学家道库恰耶夫发展了土壤学科。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533520"/>
            <a:ext cx="8569440" cy="37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华文仿宋"/>
                <a:ea typeface="华文仿宋"/>
              </a:rPr>
              <a:t>在细胞学、进化论、遗传学、植物营养学的基础上，近代农业有三次大突破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一次：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世纪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0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代美国双交玉米种的推广，由原来的亩产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0kg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增加到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50kg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二次：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世纪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代墨西哥选育的矮杆、高产、抗病、耐肥、抗倒伏、广适应的小麦品种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亩产由原来的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0kg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增加到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50kg,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并由此掀起一场“绿色革命”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三次：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世纪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代，菲律宾国际水稻研究所培育出矮杆、早熟、高产新品系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IR-8,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季稻亩产可达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00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－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50kg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685800"/>
            <a:ext cx="83534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由于农业的良种化、化学化、机械化的应用，使农业的面貌焕然一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良种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－－产量潜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化肥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－－增产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农药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－－病虫草害防治－－－稳产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机械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－－提高劳动生产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由此将四千年的传统农业推进到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近代农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带来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世纪农业的高速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907920"/>
            <a:ext cx="813600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近代农业的特征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机电工具和无机能源的大量应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动植物育种和科学的种植与养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投入增加，化学品广泛应用，技术密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产业分化，形成专业化、社会化的商品经济结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4360" y="620640"/>
            <a:ext cx="777528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黑体"/>
              </a:rPr>
              <a:t>但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黑体"/>
              </a:rPr>
              <a:t>化学品的污染，生态环境遭到破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黑体"/>
              </a:rPr>
              <a:t>自然资源的破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黑体"/>
              </a:rPr>
              <a:t>能源的过度消耗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黑体"/>
              </a:rPr>
              <a:t>困扰着社会，于是人们提出了农业可持续发展之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92280"/>
            <a:ext cx="8136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另一方面，随着世界经济一体化，要求农产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、要成为商品即，标准、均一、规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、要多品种，多品牌，多规格，以适应不同层次和类型的需求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、要品质优、成本低、价格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这就要求农业要走标准、集约、高效的道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83664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世纪下半叶发生了两个重大科学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276640"/>
            <a:ext cx="79912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1. DNA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双螺旋结构的发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------- DNA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重组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计算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-------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信息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1773360"/>
            <a:ext cx="8064720" cy="48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可持续发展的理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世界经济一体化的市场需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以生物技术与信息技术为主要代表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新的农业科技革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将近代农业推进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现代农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676520"/>
            <a:ext cx="8153280" cy="228600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方正琥珀简体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752480"/>
            <a:ext cx="808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那么，什么是现代农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现代农业有哪些特征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（四）现代农业及其特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现代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所谓现代农业，就是指在现代世界范围内处于先进水平的农业形态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700280"/>
            <a:ext cx="8675640" cy="64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765000"/>
            <a:ext cx="8351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（一）农业的发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原始农业时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人类以石器和木棍进行渔猎采集已有二百余万年历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史学家认为，农业的发端是在距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万年左右的新石器时期开始的。农业的产生是人类历史上最大的转折点，是人类社会历史上的第一次革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之所以说农业的产生是人类社会历史上的第一次革命，原因有以下三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765000"/>
            <a:ext cx="842472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代农业的主要特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一、现代农业是可持续发展农业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、现代农业是现代生物技术与传统技术相结合而运用的农业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三、现代农业是以现代工业装备和信息技术所武装的农业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四、现代农业是标准化农业。以农产品深加工为主体的食品等多元化产品制造技术迅猛发展</a:t>
            </a:r>
            <a:r>
              <a:rPr b="0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成为现代农业发展的重要动力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1700280"/>
            <a:ext cx="79200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现代农业的一个显著的根本的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就是有没有一套严格而科学的标准。现代农业是标准化农业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0643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、农业标准化是建设现代农业所必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70000"/>
              </a:lnSpc>
              <a:spcBef>
                <a:spcPts val="975"/>
              </a:spcBef>
              <a:buClr>
                <a:srgbClr val="99cc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cc00"/>
                </a:solidFill>
                <a:latin typeface="华文中宋"/>
                <a:ea typeface="华文中宋"/>
              </a:rPr>
              <a:t>是我国加入</a:t>
            </a:r>
            <a:r>
              <a:rPr b="1" lang="zh-CN" sz="2600" spc="-1" strike="noStrike">
                <a:solidFill>
                  <a:srgbClr val="99cc00"/>
                </a:solidFill>
                <a:latin typeface="华文中宋"/>
                <a:ea typeface="华文中宋"/>
              </a:rPr>
              <a:t>WTO</a:t>
            </a:r>
            <a:r>
              <a:rPr b="1" lang="zh-CN" sz="2600" spc="-1" strike="noStrike">
                <a:solidFill>
                  <a:srgbClr val="99cc00"/>
                </a:solidFill>
                <a:latin typeface="华文中宋"/>
                <a:ea typeface="华文中宋"/>
              </a:rPr>
              <a:t>的需要 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50000"/>
              </a:lnSpc>
              <a:buClr>
                <a:srgbClr val="99cc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cc00"/>
                </a:solidFill>
                <a:latin typeface="华文中宋"/>
                <a:ea typeface="华文中宋"/>
              </a:rPr>
              <a:t>是加速农业产业化进程的需要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50000"/>
              </a:lnSpc>
              <a:buClr>
                <a:srgbClr val="99cc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cc00"/>
                </a:solidFill>
                <a:latin typeface="华文中宋"/>
                <a:ea typeface="华文中宋"/>
              </a:rPr>
              <a:t>是实现农业生产科学管理的重要手段；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50000"/>
              </a:lnSpc>
              <a:buClr>
                <a:srgbClr val="99cc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cc00"/>
                </a:solidFill>
                <a:latin typeface="华文中宋"/>
                <a:ea typeface="华文中宋"/>
              </a:rPr>
              <a:t>是发展品牌农业，创名牌产品，保证产品质量的需要；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50000"/>
              </a:lnSpc>
              <a:buClr>
                <a:srgbClr val="99cc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cc00"/>
                </a:solidFill>
                <a:latin typeface="华文中宋"/>
                <a:ea typeface="华文中宋"/>
              </a:rPr>
              <a:t>是加快农业科技成果推广应用的需要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50000"/>
              </a:lnSpc>
              <a:buClr>
                <a:srgbClr val="99cc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cc00"/>
                </a:solidFill>
                <a:latin typeface="华文中宋"/>
                <a:ea typeface="华文中宋"/>
              </a:rPr>
              <a:t>是保障农产品质量和安全的需要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50000"/>
              </a:lnSpc>
              <a:buClr>
                <a:srgbClr val="99cc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cc00"/>
                </a:solidFill>
                <a:latin typeface="华文中宋"/>
                <a:ea typeface="华文中宋"/>
              </a:rPr>
              <a:t>是实现农业可持续发展的必然要求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1447920"/>
            <a:ext cx="8062920" cy="2013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总之，实施农业标准化，是建设现代农业所必需，对促进农业产业化，提高农产品质量，增强农产品在国际市场上的竞争力，增加农民收入，合理利用资源，走农业可持续发展的道路具有重要的现实意义和深远的历史意义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1844640"/>
            <a:ext cx="84963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一：它标志着人类对自然界进行改造的开端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：人类对野生动植物的驯化，逐步替代采集和狩猎。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达尔文在《物种起源》中写道：“家养族的最显著的特色之一，是我们所看到的它们，的确不是适应动物或植物自身的利益，而是适应人的使用或爱好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1143000"/>
            <a:ext cx="73911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.R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马歇尔研究提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类曾栽培过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000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多种植物，当今全球种植的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多种作物，几乎都是原始农业时期驯化完成的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马、牛、羊、豕、犬、鸡等“六畜”也都是距今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100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到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间的原始农业时期开始驯化家养的</a:t>
            </a:r>
            <a:r>
              <a:rPr b="1" lang="zh-CN" sz="24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762120"/>
            <a:ext cx="784872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第三：农业的出现是人类走向文明社会的关键步骤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最早的农业无论是起源于种植业、养殖业、或两者兼有，尽管其技术粗放简陋，但随技术的进步和收获物的增多，它对人类的物质文明和社会文化，确曾起过一种爆发性的影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685800"/>
            <a:ext cx="8352000" cy="42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原始农业时代的特征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石器农具的应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动植物驯化和自然生态条件下的粗放种植与养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劳动的动力是人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原始农业的产生逐步替代了采集和狩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1773360"/>
            <a:ext cx="7777080" cy="19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农业的发展历程告诉我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每一次科技和工具上的重大突破和革命，都将农业推上一个新的台阶，进入到一个新的历史时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692280"/>
            <a:ext cx="8496360" cy="1687680"/>
          </a:xfrm>
          <a:prstGeom prst="rect">
            <a:avLst/>
          </a:prstGeom>
          <a:solidFill>
            <a:srgbClr val="ffff99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二）传统农业</a:t>
            </a:r>
            <a:r>
              <a:rPr b="1" lang="zh-CN" sz="3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即经验农业时代</a:t>
            </a:r>
            <a:r>
              <a:rPr b="0" lang="zh-CN" sz="3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大约在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前，青铜的冶炼和青铜具的出现，以及后来铁的冶炼和应用，使金属农具得以应用，由此引发了劳动工具、土地加工、水利灌溉、施肥改土、耕作制度等一系列的革命性进展，逐步形成了精耕细作的技术体系，将原始农业推进到传统农业时代，从而，创造了四千年辉煌的农业文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549360"/>
            <a:ext cx="8207280" cy="41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传统农业的特征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 </a:t>
            </a:r>
            <a:r>
              <a:rPr b="1" lang="zh-CN" sz="3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1</a:t>
            </a:r>
            <a:r>
              <a:rPr b="1" lang="zh-CN" sz="3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金属质农具和木质农具的应用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  </a:t>
            </a:r>
            <a:r>
              <a:rPr b="1" lang="zh-CN" sz="3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2</a:t>
            </a:r>
            <a:r>
              <a:rPr b="1" lang="zh-CN" sz="3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精耕细作和养殖技术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  </a:t>
            </a:r>
            <a:r>
              <a:rPr b="1" lang="zh-CN" sz="3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3</a:t>
            </a:r>
            <a:r>
              <a:rPr b="1" lang="zh-CN" sz="3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劳动的动力是人力、畜力和其他自然力如风力、水力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教育 农业 发展历程</cp:keywords>
  <dc:language>en-US</dc:language>
  <cp:lastModifiedBy/>
  <cp:revision>0</cp:revision>
  <dc:subject/>
  <dc:title/>
</cp:coreProperties>
</file>