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9CBF-252A-4546-B402-1714A39C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6D7D-EE3D-49A6-9B6D-C1E1601A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5039-A59E-4840-9EDE-67438D40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3B20-DA4B-422D-B17D-1006409A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2DAE-97C6-4373-B4BD-D8BAAAE9C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5597-3133-4986-BE6A-86A7E8E5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BDCB-BDE0-48D8-8314-FA2EAFAB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56F9-61C3-4C61-83DE-42AD8B64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A9C3-5131-4D9B-AE3E-BCD7E628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E917-DA7C-4739-9AE3-BFA32772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6DCA-A899-402A-8320-D5A5C903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06C3-8F25-4CC6-B7EF-1A1D00F9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23A5-5EF1-490C-857B-B1FDFDC2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25A5-FBCC-43DF-9EED-5EC342E7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8FF9-70FB-42B9-BD52-6B4F988B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80C7-C001-4DA7-B594-F78B9B533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8E2B-1B6F-49DF-AB76-6CA4F3F0D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31F0-17A2-4A44-B67E-CE0B917B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063D-03D9-4FD9-BC34-90F7BD98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F853-3E42-4A19-80FF-D666E456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FC38-0F88-4B54-87E4-AF0BD34B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B78E-B507-4AFA-8AD5-3BB4949A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E784-54FB-4984-A12B-65900FEB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1EAB-3073-4E82-9FC3-68514D7E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Administrator\Desktop\新建文件夹\1291350070509.jpg"/>
          <p:cNvPicPr/>
          <p:nvPr/>
        </p:nvPicPr>
        <p:blipFill>
          <a:blip r:embed="rId2"/>
          <a:srcRect l="0" t="0" r="0" b="97333"/>
          <a:stretch/>
        </p:blipFill>
        <p:spPr>
          <a:xfrm>
            <a:off x="0" y="0"/>
            <a:ext cx="9143640" cy="151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Administrator\Desktop\新建文件夹\1291350070509.jpg"/>
          <p:cNvPicPr/>
          <p:nvPr/>
        </p:nvPicPr>
        <p:blipFill>
          <a:blip r:embed="rId3"/>
          <a:stretch/>
        </p:blipFill>
        <p:spPr>
          <a:xfrm>
            <a:off x="0" y="0"/>
            <a:ext cx="9143640" cy="5714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939393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939393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93939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939393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9393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7762DB-EADC-4C69-BA02-8DD087DEC9B1}" type="slidenum">
              <a:rPr b="0" lang="en-US" sz="1200" spc="-1" strike="noStrike">
                <a:solidFill>
                  <a:srgbClr val="93939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395640" y="3804840"/>
            <a:ext cx="835272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矩形 6"/>
          <p:cNvSpPr/>
          <p:nvPr/>
        </p:nvSpPr>
        <p:spPr>
          <a:xfrm>
            <a:off x="0" y="5715000"/>
            <a:ext cx="9143640" cy="9000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D8084A-D21E-457E-84D4-8166085C38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640" y="3804840"/>
            <a:ext cx="835272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点击此处添加标题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3120" y="5028840"/>
            <a:ext cx="83574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点击此处添加副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8466480" cy="6858000"/>
            <a:chOff x="0" y="0"/>
            <a:chExt cx="846648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800" cy="69912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680"/>
              <a:ext cx="8466480" cy="51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>
              <a:hlinkClick r:id="rId3"/>
            </p:cNvPr>
            <p:cNvSpPr/>
            <p:nvPr/>
          </p:nvSpPr>
          <p:spPr>
            <a:xfrm rot="20926800">
              <a:off x="1920600" y="3571920"/>
              <a:ext cx="4667040" cy="11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www.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eeppt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6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cfdef3"/>
      </a:accent1>
      <a:accent2>
        <a:srgbClr val="333399"/>
      </a:accent2>
      <a:accent3>
        <a:srgbClr val="ffffff"/>
      </a:accent3>
      <a:accent4>
        <a:srgbClr val="000000"/>
      </a:accent4>
      <a:accent5>
        <a:srgbClr val="e4ecf8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  <Words>24</Words>
  <Paragraphs>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51:22Z</dcterms:created>
  <dc:creator>ilovePPT.ORG</dc:creator>
  <dc:description/>
  <cp:keywords>ppt ppt模版 ppt设计</cp:keywords>
  <dc:language>en-US</dc:language>
  <cp:lastModifiedBy>a</cp:lastModifiedBy>
  <dcterms:modified xsi:type="dcterms:W3CDTF">2015-03-18T06:01:12Z</dcterms:modified>
  <cp:revision>2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