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027-C61A-4696-9645-AA7ECBE5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B22-09AD-45BA-B82A-4131490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F107D-1727-4825-AE15-8EE46D8F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82A2C-7CA3-47DC-8085-7C064E71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A1915-3EA4-43E7-B4F8-BA76B40C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D8CD1-9054-4EF5-B43A-1B2E73D1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A670-CE47-448B-A157-889AACBD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F1E65-289B-4B91-88B4-7BF98717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6FF69-E076-42FA-AC2F-FE9893AC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67574-A2F3-4CF0-899D-65F7E301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2F31A-4CD7-431D-9C7D-F3E71BB5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3E8BF-78B3-469E-8EBB-9D317E1B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80F-10F5-43D0-A4EF-C30549BE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F6121-775D-4CFE-B06C-1152F478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B89C8-CAFA-4596-BA26-98A8E815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7EBD1-9488-4A7E-BFDC-9251DF90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2DB0F-F781-40CC-9E5E-E098EA40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F85F0-1BD3-477A-9856-43BA6F7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6F585-2246-4992-9D8C-4B6A72C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24197-B8AC-4DE0-9C9B-F98FA0B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1BD96-6203-402F-A735-FEA44E41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074A5-7F07-4B03-B957-75464F48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EBD5C-8FB3-4C96-9A88-65622EA9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9E8-4571-4C0A-8D97-564D879D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5F279-64D2-49C6-AAD4-017B5918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74BF4-09EF-4B54-BF74-4B91F82B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7C30F-7BF4-4DFD-B3C1-4530A540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EE8B0-1F19-4AE7-9D7F-F97C8C61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2E684-CCAC-4ADB-AA56-746A09D5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2DE45-6675-41C1-978F-188822C1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5366B-BEF2-4E7D-84C6-868349E1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92C94-E262-45E5-A199-D4728DD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382E2-C838-4B97-B8ED-AE026E1D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705E8-A43D-486B-AD7E-4BE3389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ED95-C7F6-4C22-B221-655B4F48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BED0F-A356-4BDF-BEFD-4A8AA804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67FE2-36E7-4405-8E0A-4F416E2C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E7294-6042-4271-8242-53CEA25C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F3DA0-812A-4C7A-95D1-81FB79DB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83560-06D3-4A85-BA18-E50D1C47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8C812-04B2-4A54-81CF-58CA423C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1E637-879A-4E59-8AE2-A85F5A8D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FE7C8-B54C-4EBA-B098-01BEFE9F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4986E-A014-4A8C-93EE-BAC8FF06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D52EA-457A-40DF-8B93-85D3ACE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7D54-F837-429D-B9E0-D3F6515B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DCED5-B8BF-4633-AC5F-DEFCDC5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2AEEE-CABB-4B87-B6E1-FECC941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ACF3F-7742-4EAA-887F-51F311B5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D407C-FC3C-41A6-AFBD-10A02E5E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44B7C-B2AF-4C97-9ACC-14AD1CCB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8C733-379E-4244-8EE1-935FC1A9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5B3A0-5D6D-4F31-8028-9A3192EF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930C9-4396-4982-A70A-939908E4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14D83-4338-4109-9E86-1BD9B6C5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683D6-A8C7-4796-832F-F8A45EFA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66F1-0CD7-4607-87B6-5E655855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8599D-93E8-4869-97C7-5681BDB2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FB5FA-C986-42C8-BB94-871FA0AA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B47A0-D054-400B-93E9-4A2A6526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8C014-5A59-495C-8AB3-D817313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0EC86-D8B4-4CB0-95C3-974CE6EE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FC7F1-9B80-4565-8CDA-F82E3F1C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B2F70-8BB8-4540-9E63-EFDF2139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71D2-FCAF-4300-AFB9-528ACAF3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2AAD-898D-4130-A6BA-EC2B9B2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2C21-4ED1-49AE-937C-0E5ADB5D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B5A7-EB11-428E-9F92-821AE4E8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11D-80F4-4421-9FBA-CBB9EA9D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C86C-5921-43D6-A855-1B57643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A8B5-7043-4937-9DCD-E9876979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138C-6377-4CE7-BD49-9B622099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B64A-D5EC-4A6B-997F-1622D991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AACC-D5AC-4CA4-AD90-D75897B9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ADBD-0E29-46F7-BF8E-D405E387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1578-7EAD-4EFE-BA57-37B50713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D1DC-0B68-4D56-BE9E-26EA40F6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19AA-85BF-48B1-883A-7A7B9C5F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3E5D-38A6-45E7-8506-40BDD951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1C0-F696-4079-A8FC-433FB15F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0108-E897-43DE-B1BD-07A1241B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B534-DF12-4D1B-A112-EFE039C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0609-5140-4A9C-BB17-532B1274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7A3C-CF5F-4E08-BCF3-15A5C291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48EB-683F-4B37-8FDF-048A8441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ECFE-FB2A-487E-B062-CC177481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46C15-8DE9-4065-B087-B88C123E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1607-464C-408C-99D9-3C59D7B2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790A-BCA5-4645-88C4-AF5A27B9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5EDE-6501-479F-8F11-96732337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E43-629E-461C-89A3-CB714C5C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79F97-9F69-438D-89AB-ABE7E03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933D-44A8-4B5B-B8A6-CA06090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70A21-3180-4A21-9FC3-CF0473FD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460E-9BF1-47C9-97CB-DC6CE98C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CE19-6BBF-4B08-8149-EEF3795A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2064C-2ADD-4E4B-8141-F0954C34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5AF7-AF1F-430C-AC11-448ECC54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23CE6-67E7-4DEA-A0B1-607FEABB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AE99-E064-4A86-BDA0-515DA3E0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664BE-679E-451B-9E48-DF29ADB9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2AB-E67D-4775-B724-3E868D65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D764-0C53-46E2-8767-21F569C3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13A5E-D8ED-4DD4-BEAE-EB8AF4D1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1556A-3805-4DBA-AE36-816A9810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E6CE-7B41-42AD-8944-8001E12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9A0FC-66B1-4BD8-98BA-E97320F1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23013-C3EA-4347-B410-446A2B8D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49DC-2762-402C-9046-448A8E10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4998-1A3D-49CD-924C-6E955AEA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D331D-EA19-422E-9DAE-56DDC0D7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93231-3246-4C4F-8D9B-640D74C3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091-006C-46B1-9F17-1CA455CF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582A-F533-4D13-AB8D-9149A1DD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2EB10-12C3-457B-9020-38AC3AA2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2CEB7-F961-4B74-BAE5-99323512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D6A64-A953-4FE5-80FA-0E662285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712D-869A-4A5B-A4B4-D34A9A54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B0FE2-42AE-4A48-8090-44068F3E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7D05C-6058-4805-90D8-F3F9870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6976-4E77-43A3-AF66-A0754015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2EB10-91C6-4E76-ABE4-90FD10FA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C5BCE-86EB-4237-99CA-CD7382B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F67-1C98-4C4D-B3DA-32C941F3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938BC-1740-4080-ADCC-34B81AF8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4CEFC-1A2E-488A-B761-092F3851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63B1A-3EF0-43D7-943D-0B760891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B6C1B-C32C-4178-9C5C-6CD4E064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FA2EB-4091-4CB5-8F93-B46AD0CB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669B-5231-4DAF-B02E-B93B653F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BD86E-1DEF-4D56-8FFB-E0721020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D5E0-7E5B-4BAE-9934-7E6A7D42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EC52-F98D-4700-AB67-739F3001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1A90-1E01-4DA4-9CBC-D4291708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6BE-082A-498D-9CED-6677CAFF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B526-2275-4CB6-B4F0-402FFDB1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99533-F1E7-4918-A909-61F5C26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8FA1A-4271-495C-B2B9-9431CCAB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481DD-7152-4C64-9E35-166E4A13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5FDFD-4E53-4287-AC5C-778557D5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3D7E8-1F94-4208-905C-DA93121B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8496C-3F7D-4572-8EAE-15C26C3A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4D1B5-D6C5-4285-AD7C-57024B55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512AA-D519-4E27-8EF2-768ABDE9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7C628-0D93-46D1-A134-8B8368E6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8F8-0E2A-4A2D-91AA-1FE4EA5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94BCC-4EC1-43A9-A080-833212BB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B2257-F34B-44E1-8441-C5476E4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48A86-DD62-4146-B9CC-1F6D0D3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C7E66-26B7-4DC1-987E-CDBF0705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20A6-4A9E-4698-9F98-328EC8BF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8B50-0F11-4551-83AC-9C6BD557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A505A-FA5D-495D-8280-11B371F8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43438-C23A-4DE2-B745-2325A99E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5DFC0-45B9-49A0-9454-681A2471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D74CD-B860-456B-9E2E-9E99D3CF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A264-B4B8-47BA-A298-475C3BBDFE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8918-40A2-46E2-A462-77B14F400A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9017-C205-4E79-A03C-45FE17B16E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6961-8EDD-43EB-B1BC-D1A85FA4F9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6A34-C1AB-4AA0-AD3C-D9AA92CA1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01DE-178D-4F38-AE70-FD80366FA0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E06-879E-41C1-A93C-8E49273988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2EBF-077E-4FD6-8B2B-EB04C42EDF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D2A9-B9A3-4DDD-91D7-3FF246147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4753-3854-4BF9-8078-CCB419292A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61CC-86EE-4F4B-BF74-2F54C0F07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9F5E-7A11-410E-995F-FA7FC1BBA0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F9EF-46B3-4E30-A23D-C0FA469990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0788-F813-4D3F-B36F-C3755D09F2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8BFE-9554-46C2-B193-8B5D4D8B2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C18B-0D81-46BC-AC62-76B3A8CF94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6D6C-24A4-4165-B7CD-B99324C66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0322-43B0-403C-B098-3A7C2B1265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C09B-1EC5-4F65-84F3-257963EFF9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DF74-AD8F-489B-88CF-98461DB1AC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CD6-5E18-473A-B35C-D1EACD54A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C621-73FC-4537-A020-7AC5CF7DDA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B660-ACB3-49DF-B089-EFF42391ED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AB0B-7F5C-4883-97B1-9783C4F25A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75C-F341-4F9E-B924-E94E425F6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2928960" y="267012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143160" y="36925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10T11:13:20Z</dcterms:modified>
  <cp:revision>69</cp:revision>
  <dc:subject/>
  <dc:title>幻灯片 1</dc:title>
</cp:coreProperties>
</file>