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0E15-AF2C-4E37-9BC2-736883D2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E1A-12E1-4A47-A90C-A7AA1CC4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A97-215E-440A-9A9E-417ABFAF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753-5641-4FBE-BE73-388B4F65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0F18-EA1A-4A18-B5EE-6FD35E81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9066-CB8D-4BA6-884F-0D23A454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B9FF-F9A5-4EE6-B6B3-8F9795C1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78C5-5A9E-49C8-A8BF-6A790470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6ECB-C4AC-4124-9155-9408D902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2D9D-212A-4AD2-85A8-BF70EC36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690B-FFE6-4390-B178-A109F6E5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EF3-095C-40D6-B47A-29FB8A9B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FD1B-4FA5-4F0E-BC6B-4C9E82AB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F73B-2BDC-4034-951D-982058FA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522B-CEC0-4B60-8C2C-EF8DB981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C918-5A38-4907-AFBE-832ABDF3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2D78-FF3C-4F8A-8A76-4746FF6E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FBDF-C0F6-4B67-B1EF-7D961C2F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EFE-A4BC-421A-8FC7-96D32592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4790-10CE-4F35-B290-1B230D55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2819-4EFB-41DC-9D32-8482B2E3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99EE-E347-46AD-AE2F-CEFF77D4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25E8-8E6C-4512-8007-2C757561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E03D-04BB-4316-97D9-9D7C4253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8DAE-BA2A-4C71-934D-75540C3EA571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1D27-3CEB-4108-AEE9-366A6DE290C7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-249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200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4928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7535-6424-49B9-BE0D-935DE962F199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475240"/>
            <a:ext cx="28494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90D7-CBEE-4C31-A896-532D2216BD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wg_blurred_backgrounds_15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霓虹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9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11472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wg_blurred_backgrounds_15"/>
          <p:cNvPicPr/>
          <p:nvPr/>
        </p:nvPicPr>
        <p:blipFill>
          <a:blip r:embed="rId1"/>
          <a:srcRect l="0" t="0" r="0" b="77821"/>
          <a:stretch/>
        </p:blipFill>
        <p:spPr>
          <a:xfrm>
            <a:off x="0" y="4670280"/>
            <a:ext cx="899964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65080" y="240840"/>
            <a:ext cx="678492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65080" y="1403280"/>
            <a:ext cx="678492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wg_blurred_backgrounds_15"/>
          <p:cNvPicPr/>
          <p:nvPr/>
        </p:nvPicPr>
        <p:blipFill>
          <a:blip r:embed="rId1"/>
          <a:srcRect l="53574" t="0" r="28758" b="0"/>
          <a:stretch/>
        </p:blipFill>
        <p:spPr>
          <a:xfrm>
            <a:off x="0" y="0"/>
            <a:ext cx="15908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857840" y="914400"/>
            <a:ext cx="107316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857840" y="914400"/>
            <a:ext cx="107316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222640" y="882720"/>
            <a:ext cx="4030560" cy="4030560"/>
          </a:xfrm>
          <a:custGeom>
            <a:avLst/>
            <a:gdLst>
              <a:gd name="textAreaLeft" fmla="*/ 590040 w 4030560"/>
              <a:gd name="textAreaRight" fmla="*/ 3440520 w 4030560"/>
              <a:gd name="textAreaTop" fmla="*/ 590040 h 4030560"/>
              <a:gd name="textAreaBottom" fmla="*/ 3440520 h 4030560"/>
            </a:gdLst>
            <a:ahLst/>
            <a:rect l="textAreaLeft" t="textAreaTop" r="textAreaRight" b="textAreaBottom"/>
            <a:pathLst>
              <a:path w="21600" h="21600">
                <a:moveTo>
                  <a:pt x="20439" y="9939"/>
                </a:moveTo>
                <a:cubicBezTo>
                  <a:pt x="20311" y="8505"/>
                  <a:pt x="19865" y="7117"/>
                  <a:pt x="19132" y="5877"/>
                </a:cubicBezTo>
                <a:lnTo>
                  <a:pt x="20098" y="5306"/>
                </a:lnTo>
                <a:cubicBezTo>
                  <a:pt x="20916" y="6690"/>
                  <a:pt x="21414" y="8239"/>
                  <a:pt x="21557" y="9840"/>
                </a:cubicBezTo>
                <a:lnTo>
                  <a:pt x="24246" y="9600"/>
                </a:lnTo>
                <a:lnTo>
                  <a:pt x="21288" y="13137"/>
                </a:lnTo>
                <a:lnTo>
                  <a:pt x="17750" y="10179"/>
                </a:lnTo>
                <a:lnTo>
                  <a:pt x="20439" y="9939"/>
                </a:lnTo>
                <a:close/>
              </a:path>
            </a:pathLst>
          </a:custGeom>
          <a:solidFill>
            <a:srgbClr val="ff87c8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533920" y="2997360"/>
            <a:ext cx="10749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533920" y="2997360"/>
            <a:ext cx="10749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2298600" y="819000"/>
            <a:ext cx="4030920" cy="4030920"/>
          </a:xfrm>
          <a:custGeom>
            <a:avLst/>
            <a:gdLst>
              <a:gd name="textAreaLeft" fmla="*/ 590040 w 4030920"/>
              <a:gd name="textAreaRight" fmla="*/ 3440880 w 4030920"/>
              <a:gd name="textAreaTop" fmla="*/ 590040 h 4030920"/>
              <a:gd name="textAreaBottom" fmla="*/ 3440880 h 4030920"/>
            </a:gdLst>
            <a:ahLst/>
            <a:rect l="textAreaLeft" t="textAreaTop" r="textAreaRight" b="textAreaBottom"/>
            <a:pathLst>
              <a:path w="21600" h="21600">
                <a:moveTo>
                  <a:pt x="14593" y="19703"/>
                </a:moveTo>
                <a:cubicBezTo>
                  <a:pt x="16123" y="19051"/>
                  <a:pt x="17459" y="18016"/>
                  <a:pt x="18473" y="16697"/>
                </a:cubicBezTo>
                <a:lnTo>
                  <a:pt x="19363" y="17381"/>
                </a:lnTo>
                <a:cubicBezTo>
                  <a:pt x="18231" y="18853"/>
                  <a:pt x="16740" y="20008"/>
                  <a:pt x="15032" y="20735"/>
                </a:cubicBezTo>
                <a:lnTo>
                  <a:pt x="16091" y="23219"/>
                </a:lnTo>
                <a:lnTo>
                  <a:pt x="11812" y="21497"/>
                </a:lnTo>
                <a:lnTo>
                  <a:pt x="13534" y="17219"/>
                </a:lnTo>
                <a:lnTo>
                  <a:pt x="14593" y="19703"/>
                </a:lnTo>
                <a:close/>
              </a:path>
            </a:pathLst>
          </a:custGeom>
          <a:solidFill>
            <a:srgbClr val="ff87c8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3762360" y="4284720"/>
            <a:ext cx="107316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513240" y="4284720"/>
            <a:ext cx="10746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2222640" y="882720"/>
            <a:ext cx="4030560" cy="4030560"/>
          </a:xfrm>
          <a:custGeom>
            <a:avLst/>
            <a:gdLst>
              <a:gd name="textAreaLeft" fmla="*/ 590040 w 4030560"/>
              <a:gd name="textAreaRight" fmla="*/ 3440520 w 4030560"/>
              <a:gd name="textAreaTop" fmla="*/ 590040 h 4030560"/>
              <a:gd name="textAreaBottom" fmla="*/ 3440520 h 4030560"/>
            </a:gdLst>
            <a:ahLst/>
            <a:rect l="textAreaLeft" t="textAreaTop" r="textAreaRight" b="textAreaBottom"/>
            <a:pathLst>
              <a:path w="21600" h="21600">
                <a:moveTo>
                  <a:pt x="3738" y="17417"/>
                </a:moveTo>
                <a:cubicBezTo>
                  <a:pt x="4875" y="18631"/>
                  <a:pt x="6306" y="19531"/>
                  <a:pt x="7893" y="20031"/>
                </a:cubicBezTo>
                <a:lnTo>
                  <a:pt x="7556" y="21101"/>
                </a:lnTo>
                <a:cubicBezTo>
                  <a:pt x="5785" y="20543"/>
                  <a:pt x="4188" y="19539"/>
                  <a:pt x="2919" y="18184"/>
                </a:cubicBezTo>
                <a:lnTo>
                  <a:pt x="949" y="20031"/>
                </a:lnTo>
                <a:lnTo>
                  <a:pt x="1098" y="15421"/>
                </a:lnTo>
                <a:lnTo>
                  <a:pt x="5708" y="15571"/>
                </a:lnTo>
                <a:lnTo>
                  <a:pt x="3738" y="17417"/>
                </a:lnTo>
                <a:close/>
              </a:path>
            </a:pathLst>
          </a:custGeom>
          <a:solidFill>
            <a:srgbClr val="ff87c8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1990800" y="2997360"/>
            <a:ext cx="10746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1990800" y="2997360"/>
            <a:ext cx="10746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2187720" y="973080"/>
            <a:ext cx="4030560" cy="4030560"/>
          </a:xfrm>
          <a:custGeom>
            <a:avLst/>
            <a:gdLst>
              <a:gd name="textAreaLeft" fmla="*/ 590040 w 4030560"/>
              <a:gd name="textAreaRight" fmla="*/ 3440520 w 4030560"/>
              <a:gd name="textAreaTop" fmla="*/ 590040 h 4030560"/>
              <a:gd name="textAreaBottom" fmla="*/ 3440520 h 4030560"/>
            </a:gdLst>
            <a:ahLst/>
            <a:rect l="textAreaLeft" t="textAreaTop" r="textAreaRight" b="textAreaBottom"/>
            <a:pathLst>
              <a:path w="21600" h="21600">
                <a:moveTo>
                  <a:pt x="2027" y="6713"/>
                </a:moveTo>
                <a:cubicBezTo>
                  <a:pt x="1430" y="7993"/>
                  <a:pt x="1122" y="9387"/>
                  <a:pt x="1122" y="10800"/>
                </a:cubicBezTo>
                <a:cubicBezTo>
                  <a:pt x="1122" y="10827"/>
                  <a:pt x="1122" y="10855"/>
                  <a:pt x="1122" y="10883"/>
                </a:cubicBezTo>
                <a:lnTo>
                  <a:pt x="0" y="10893"/>
                </a:lnTo>
                <a:cubicBezTo>
                  <a:pt x="0" y="10862"/>
                  <a:pt x="0" y="10831"/>
                  <a:pt x="0" y="10800"/>
                </a:cubicBezTo>
                <a:cubicBezTo>
                  <a:pt x="0" y="9224"/>
                  <a:pt x="344" y="7667"/>
                  <a:pt x="1010" y="6239"/>
                </a:cubicBezTo>
                <a:lnTo>
                  <a:pt x="-1438" y="5099"/>
                </a:lnTo>
                <a:lnTo>
                  <a:pt x="2895" y="3520"/>
                </a:lnTo>
                <a:lnTo>
                  <a:pt x="4474" y="7853"/>
                </a:lnTo>
                <a:lnTo>
                  <a:pt x="2027" y="6713"/>
                </a:lnTo>
                <a:close/>
              </a:path>
            </a:pathLst>
          </a:custGeom>
          <a:solidFill>
            <a:srgbClr val="ff87c8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2666880" y="914400"/>
            <a:ext cx="107496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666880" y="914400"/>
            <a:ext cx="107496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6"/>
          <p:cNvSpPr/>
          <p:nvPr/>
        </p:nvSpPr>
        <p:spPr>
          <a:xfrm>
            <a:off x="2222640" y="882720"/>
            <a:ext cx="4030560" cy="4030560"/>
          </a:xfrm>
          <a:custGeom>
            <a:avLst/>
            <a:gdLst>
              <a:gd name="textAreaLeft" fmla="*/ 590040 w 4030560"/>
              <a:gd name="textAreaRight" fmla="*/ 3440520 w 4030560"/>
              <a:gd name="textAreaTop" fmla="*/ 590040 h 4030560"/>
              <a:gd name="textAreaBottom" fmla="*/ 3440520 h 4030560"/>
            </a:gdLst>
            <a:ahLst/>
            <a:rect l="textAreaLeft" t="textAreaTop" r="textAreaRight" b="textAreaBottom"/>
            <a:pathLst>
              <a:path w="21600" h="21600">
                <a:moveTo>
                  <a:pt x="12664" y="1303"/>
                </a:moveTo>
                <a:cubicBezTo>
                  <a:pt x="12050" y="1182"/>
                  <a:pt x="11425" y="1122"/>
                  <a:pt x="10799" y="1122"/>
                </a:cubicBezTo>
                <a:cubicBezTo>
                  <a:pt x="9857" y="1122"/>
                  <a:pt x="8920" y="1259"/>
                  <a:pt x="8018" y="1530"/>
                </a:cubicBezTo>
                <a:lnTo>
                  <a:pt x="7695" y="455"/>
                </a:lnTo>
                <a:cubicBezTo>
                  <a:pt x="8702" y="153"/>
                  <a:pt x="9748" y="0"/>
                  <a:pt x="10799" y="0"/>
                </a:cubicBezTo>
                <a:cubicBezTo>
                  <a:pt x="11498" y="0"/>
                  <a:pt x="12195" y="67"/>
                  <a:pt x="12880" y="202"/>
                </a:cubicBezTo>
                <a:lnTo>
                  <a:pt x="13401" y="-2448"/>
                </a:lnTo>
                <a:lnTo>
                  <a:pt x="15972" y="1380"/>
                </a:lnTo>
                <a:lnTo>
                  <a:pt x="12144" y="3952"/>
                </a:lnTo>
                <a:lnTo>
                  <a:pt x="12664" y="1303"/>
                </a:lnTo>
                <a:close/>
              </a:path>
            </a:pathLst>
          </a:custGeom>
          <a:solidFill>
            <a:srgbClr val="ff87c8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1639800" y="1349280"/>
            <a:ext cx="29210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040" rIns="320040" tIns="320040" bIns="320040" anchor="ctr">
            <a:noAutofit/>
          </a:bodyPr>
          <a:p>
            <a:pPr algn="ctr"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560840" y="1349280"/>
            <a:ext cx="29224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040" rIns="320040" tIns="320040" bIns="320040" anchor="ctr">
            <a:noAutofit/>
          </a:bodyPr>
          <a:p>
            <a:pPr algn="ctr"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1639800" y="3357720"/>
            <a:ext cx="29210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040" rIns="320040" tIns="320040" bIns="320040" anchor="ctr">
            <a:noAutofit/>
          </a:bodyPr>
          <a:p>
            <a:pPr algn="ctr"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4560840" y="3357720"/>
            <a:ext cx="29210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040" rIns="320040" tIns="320040" bIns="320040" anchor="ctr">
            <a:noAutofit/>
          </a:bodyPr>
          <a:p>
            <a:pPr algn="ctr"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3684600" y="2554200"/>
            <a:ext cx="1752480" cy="8035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724200" y="2593800"/>
            <a:ext cx="1673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1360" rIns="171360" tIns="171360" bIns="171360" anchor="ctr">
            <a:noAutofit/>
          </a:bodyPr>
          <a:p>
            <a:pPr algn="ctr"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wg_blurred_backgrounds_15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4280" y="221256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492120" y="0"/>
            <a:ext cx="7421400" cy="6012000"/>
            <a:chOff x="492120" y="0"/>
            <a:chExt cx="7421400" cy="6012000"/>
          </a:xfrm>
        </p:grpSpPr>
        <p:sp>
          <p:nvSpPr>
            <p:cNvPr id="115" name="矩形 4"/>
            <p:cNvSpPr/>
            <p:nvPr/>
          </p:nvSpPr>
          <p:spPr>
            <a:xfrm>
              <a:off x="1030680" y="0"/>
              <a:ext cx="5930640" cy="6274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92120" y="1503000"/>
              <a:ext cx="7421400" cy="45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7"/>
            <p:cNvSpPr/>
            <p:nvPr/>
          </p:nvSpPr>
          <p:spPr>
            <a:xfrm rot="20926800">
              <a:off x="2163600" y="3123000"/>
              <a:ext cx="4091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a</cp:lastModifiedBy>
  <dcterms:modified xsi:type="dcterms:W3CDTF">2015-01-22T02:25:56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2</vt:lpwstr>
  </property>
</Properties>
</file>