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773-B1CA-455D-8402-C0A0723F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E64-1610-49D2-AB34-72E14568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77170-1072-4FF1-81D8-BBFC3F57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32D35-0AE4-44F7-A522-D213046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4E430-D450-40F0-8D8B-A407BB3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CFCFA-FAF4-4050-98B5-89DEFA8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73AD4-7317-4025-A718-FCCA996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B12E1-B12B-4ADD-B96F-55C7B427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57D4D-FA1B-4785-A070-3EF1A14C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56C2-268C-4CE9-8FC1-F98DBB90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5381E-039F-499F-9E7E-DDF9AA03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A2EDE-B992-4FCE-A3C7-CD93360D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796-A52C-4523-A30C-712446A0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9AD51-997B-46AB-BD43-75BCA70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28D03-17E7-412F-A0E4-6DCA6600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1554-3E40-4F25-B7B9-8242277C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F378B-498B-41F2-A1ED-27D5EAB1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268AF-215F-4D50-8632-8F339E19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A0AC4-AAA2-47BD-8463-B7A35FC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B1BD5-2912-4F2F-A0D3-C21C027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0F45F-F6A6-4F8A-8DE9-C25176D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05083-0DBA-4DCA-A0EA-34FF7F14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91496-6604-4FBB-A031-E5DDE98C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E99-C608-4D28-8C27-CC617B61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31754-B49C-4EFF-BA5E-1C92CBC9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70914-6D91-40D1-97D7-F4D6BE0D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E968B-C031-41FA-A5E3-B4F538EB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6F9E-3652-48A5-8281-4FE27CCD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98E56-66EA-4E1F-805E-4B55799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DAF7A-C110-4563-BD62-59C8CB45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01571-AB34-4405-BE30-4DE723E7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B4CAF-9558-446C-A877-3798455F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14274-FFC6-4F5A-8C81-B0A9030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2E581-FBD5-44AF-B3F2-CC54AF41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AA3B-2EA9-47C7-BA2B-CB16674F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B09D5-09AA-4F64-B5BD-7A7D235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D2867-5F82-4FCB-AF1A-709C0A78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64C9B-2FC5-42C0-9D28-6020300E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C333F-055E-4495-B54D-45ECAFE3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30457-1CBB-4353-9378-F1CD805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11297-004D-403F-AC6F-E72B5AB8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3574A-F804-4966-BA9F-FCE657B6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52450-2C38-4263-A80A-E7416515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860B4-7936-49A2-97BF-70DF5C6A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FA0F4-F8D1-4288-8B34-0807C725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3E97-56EE-401D-97E9-84D99F8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14CDA-E19E-4593-A059-5B122BB2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C714C-3CE3-4E60-8E51-3D0C3E4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00D9E-AF5E-455A-9548-493EE4CD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55564-1D3D-4784-83E5-0CD8F459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C1399-72BF-49E7-8654-4C8CBA37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34010-B4CB-4148-B2CD-0A11A498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9193C-6D52-4C0A-9463-5CC57EE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EF6DF-F257-4B5F-AEFE-37E1AEAD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66135-01BB-4FE5-B8AD-217E3822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79605-FE52-4A07-982E-C555F9C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255A-9017-4A80-A558-CBF1852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409FA-B0C9-4FAC-B6D1-BABA3AAA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3F4B8-1A83-407E-93DD-D197DEB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69262-2C44-4135-A11A-1B823D2A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E98D9-5E82-4905-9851-D6D5EEE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126CC-550F-411A-90D0-B5416069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E9D4D-4E77-433B-A185-8349CA8A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02501-7A85-4731-9E41-DC595031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EA42-62A6-42B8-A9D1-C47EE0B9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38D2-FBBF-4B8A-B2D7-754BEAC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3ACE-6EE0-4B1C-8DB8-B7D30CE5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2972-1989-4CB6-8ABC-DF19EB8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684-8AD3-4F4C-A57C-E6D6721B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5067-B97D-422A-9F8D-94B0343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99A7-FD0A-4CC4-B277-6D1072E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2A8E-EB8D-4E76-9172-04F0B72E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D681-0FB3-4E35-9733-0EF7AB60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AB25-413C-478D-BB8D-3C122560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3B9F-835A-4FE8-9913-341ABB0F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12FA-64A8-4982-BF2B-8BB325D9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61D5-F53A-48FE-AAD5-BA9D86B1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37F9-06AB-4993-BA8E-33907C91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FC03-D140-4D43-B75D-4C329CCF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6B1-6D3B-40DF-B78E-48181E93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03FB-67AB-46E4-A009-6B76D86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3812-4053-47CD-88CC-4EABB1A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63ED-268B-4DCC-9B9E-C92566C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DC20-EBE0-49A5-968A-DB4BC739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1518-02D0-4508-B89D-10DF844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4A0A-9FC8-4C2F-9B5C-C5D0B232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0E22-FE7A-4EED-8AE2-F20761A2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C059-25C6-47EB-94EA-95EDDF5A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4712-99B3-4B6F-870A-0E764EB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6F741-BC04-4138-BE3E-05D8C01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E04-7595-4360-AF61-9B188F25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5D08-5F21-47A6-9599-060E9379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C5C29-59B3-452C-8A9F-81B4CF6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14CD-9886-4A28-ACFC-1B26277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997E-1F92-4ECE-AAAB-4EEEB56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6C03-E213-4BDD-BC58-0301E8C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B1BD-150E-468D-A906-EDAEA86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0DDC-77F1-47B6-BB82-8651483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28E1-7F78-4D2A-BB39-2ED26E77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F07C9-673B-42C9-B321-B919BFCE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45AD-7BDB-43F1-909C-6DB17F81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D4E-84B4-49A6-8993-3E9A38DD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5B054-53B6-4A5B-A1B6-A77724B8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9EF0-25A5-471E-AA2C-0481F69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7668-D497-4282-A069-6CCAA26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1030-FDA3-4DB6-A5B5-E5702C6B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3BF7-F719-41AA-8384-C8C4FDF7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C25C-716A-4D8F-9390-CFCC640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0D0E-6A62-4EEC-8C56-7CB3591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1916-5C2C-48C6-8954-3A3C9A2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EC0E-EDA2-434F-9961-A12F0822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5E77C-7178-461E-A820-75BF3FC2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F60-C05A-4F0B-8E60-C6A7EA0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ED90-3F9F-4472-98C1-5057C973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9FA74-8CBC-4663-9EC3-76E8ADF7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9C56-B607-4802-A34F-A1B4507E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157F-F98C-434D-AA65-F00DEC65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5773-A05F-4C53-910C-CC19387D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CDC99-5989-4F92-992B-DBA2B5C2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132B0-D24D-4423-9438-F02182BB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DB56-35DB-4B88-8A27-C08ACB9A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E6D2E-9DD0-46E0-A95B-62B0E92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B330-8499-4123-8728-42CBEB8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0C5-BFD2-47C5-92C4-26BA044C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261C-343B-4C65-8F49-1A0188ED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D6F95-595D-4012-9D08-8A945EBB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6F834-6DC7-4530-BA43-7F224133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14CC-C2B9-4277-9105-0217B27C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507F7-0F2A-413C-BDEA-71C5B8F9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A58B8-7F63-477C-80FE-7B44AA42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34BD-23BE-4DE4-B3EB-E33161F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1DB46-2ED4-4885-8D0E-33F827DC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681D-DD82-41FE-B651-FBB92F1C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4B2B-831B-432F-BAE3-7D4F757E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DE4-94CB-48CE-A171-1BFE3A55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5A67-7CB5-441B-876E-B03A804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FCF29-A9A5-4613-8920-91A661C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AF06-8F03-4488-AAE1-3824F632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BCF2A-7ADC-4665-B4BE-8D3E91AB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43DE-BA28-436C-9DAC-8A9EDC7E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C20B-E763-451D-9D6E-ED460783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6FFBE-144E-4662-8534-592C2C2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CAA2-3387-46CB-A888-790FC1B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AC419-C48D-45D7-BA50-301534A5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03A6-F3F2-4E86-ADD2-1C9C435A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AAD-3592-4CDF-9B2F-DCE09E5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14A0-BA54-4A85-9055-EE9D4FF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F5126-69FC-40FD-81E2-D9A13C7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0B4B9-E247-4611-A6FF-6BB1DA2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0E8CE-6150-43A4-AFC4-89AA347A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B350-15A4-495F-8325-6445F990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30811-0A7D-4CBF-AAF8-D82BA68D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7BCC-3423-43ED-8C2D-133AF7F8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7BF19-36CD-4AF7-BC8B-C76AC7E4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46439-80CB-483E-BA35-345462E5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5DBBB-F46A-4E0B-B59E-8984B52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D882-4491-40BB-B375-0E97EB613D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8E95-0997-45C2-A448-AE1C607F01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1D5D-EACC-4BDC-B0E4-5DFD06758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273A-82F2-42CF-8431-6591DEEE1F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8CE7-1272-4601-B283-DCAE694407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5B3B-295C-4F72-90ED-85AD50B236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BCBB-9B55-4F9E-81BB-008CC1DA2F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DC7-40EF-44A0-B40F-F260284B01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05AF-B0F8-4316-9FE9-D623793AD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0270-5289-4204-B20D-6F6CED65B1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CBA0-CA6C-4E91-ADB4-E0D6B3962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A32-859D-40EC-9577-7E45073E3B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C0D1-3E96-4445-B90B-E87D01811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CEB4-F95E-4F81-9D7A-E5BED52C65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8A3A-D17C-4579-97CF-587495E90A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EFD0-DF97-4B08-B1F5-474581D8BF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70E-2F47-4B90-96BA-FE4C6DB68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7198-449B-4B77-84B4-D45BB46292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198-508D-4304-BDF4-321E45B3A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C2A2-B879-4CDD-8F10-8F8C5060C0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36A-3D37-4BBA-8832-BE4C46227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A43F-5476-4F10-90D1-25A2D117D2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38FE-73D2-4D94-9DFA-75C562623B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6060-F51E-4120-BB0F-5D63D0F181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F381-3674-4FAF-AFAE-FD8B73DE7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2643120" y="192888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2928960" y="2759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09T02:10:29Z</dcterms:modified>
  <cp:revision>76</cp:revision>
  <dc:subject/>
  <dc:title>幻灯片 1</dc:title>
</cp:coreProperties>
</file>