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33D-D1BC-4439-9081-561D035F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D42-2645-4727-97DF-798CDAB9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0C240-670E-4899-B33B-DBF92628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C90E6-653B-4656-8D45-07308BE6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21BAE-F101-46F8-8A4E-7971FF71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D2B17-7DC4-4E3D-AD72-358B121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7FDBD-5075-4272-B6B3-F39B319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64264-8AAF-4E90-BA6B-BF2125D0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AD277-61F0-4C99-855B-23792084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1DF7B-2DF8-4B8B-A65D-F3F2B4CA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94A69-44F7-407F-9E74-C77370C8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B6976-8026-453B-BAC9-B4F33B0A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CA2-8735-451B-B543-5D696099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E736C-B0E3-4E94-8498-FC5F8777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FBBDC-423A-456A-B1F3-B330FB71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3C338-868A-42E4-BF14-E1D9D062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BDABA-B014-4E81-A69A-14376DA0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406DA-AF37-4CA7-8A55-7EB8A1CA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BAD46-24DB-4BA1-81A7-D4B70655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D7D2B-383A-437E-AABB-32380C1B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DC5FF-1C07-4F59-8DF4-A85842E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DF6BF-533C-4D89-B33E-C95B9145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9244A-CCA3-4EF5-A5EB-5432C5FD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541-CB98-43F7-95B8-8572E9A2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5B5F4-E536-4108-A786-AD573FC9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6EA50-1688-4EF4-B3FE-6F9F0588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22B28-1922-451D-B02F-ECEBD28C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16583-5156-46B6-AE0A-76C70BFF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E9470-9AEC-4ACF-B4B8-A8024CF0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0465A-381F-4BAB-9041-692D4391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F0E06-A50B-43A2-9E32-6B4AF50E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8BB35-79E8-4833-9BAE-733C68A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F766F-7DC1-46FC-AE56-E10F677A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EEE52-1A28-4F3F-83A7-F4238105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CD2B-406B-4D25-AE34-5B8CFE9E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0B7A8-B0E9-48DD-9D52-5A675687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EF6F4-F954-4B5D-8D45-F128D660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561E3-0F6A-496C-9F9C-08098255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E105D-D7EB-43BC-A8BA-5012FDF2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5A0A1-AB00-4FCA-ACCF-75BFC7C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4813A-1D94-4A60-AA35-90118827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051AF-4240-47FB-B6FF-48B1C82D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44750-2968-4C17-ADFD-B99828D7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58643-67F1-4944-BD6C-782398F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17051-3A24-4621-A306-4345866E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E80F-453E-4D1E-B015-AA94A537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71B63-7C0F-4E77-A642-FB7BB3A6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70A24-8BCC-4E67-A9E5-4A0F403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45E58-76F9-4EC2-8E4A-F9D0AC47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0A1DE-D4E5-488F-AC3E-33A1606E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61482-194F-4B24-A5D7-AD9DB1F0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210BE-EB9C-4177-AE54-8C8FF358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DDF7D-8794-4B56-BF32-AF7CB43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FCE74-9C82-4E07-9491-361785A7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55B95-F990-46E3-8B7F-8E20E45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473C5-7394-4295-BAB4-062E37CF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7F8C-2456-4FF6-9909-51FBB56F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6B12E-3AF2-4736-9F42-3B821D83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E48CE-5420-4F99-BA47-F1EE53BC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49D05-3AED-48A9-82E2-066466A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C8C0A-DB84-4E34-B37F-FCD706B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AD6E1-12C3-4351-8D3D-522F4387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E3B97-5C64-442F-8418-3C4D61AE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9C8A3-CF4B-4345-8463-58E02BBA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7554-5D4A-4843-BCC9-B68875A8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F66D-A5A5-4DAA-8D26-581EA9A7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C1D-54BA-4DA7-8C53-0512C8D6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C756-BE56-454E-82AF-3A7CBD50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3B6-8BFF-4F40-B746-EAF1607B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14F4-AA65-48D7-A173-38B994C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ABE2-24D1-42C4-B560-FD035693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83BA-651F-4050-A5D3-098C9E82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07C-B69F-47A5-BCBB-F305D4BA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3281-0ADA-4891-AE9A-1030F554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BBCA-6D96-4289-82FA-DE296DB2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5858-BF87-480A-B86F-1C398805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C241-3E82-41A6-B290-E1BC8954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E642-C664-4F2D-A417-0C59372A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E2AD-F6E9-4695-9B99-A8D8A130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5C3-B208-4CEB-8616-6BB82EF5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DDDD-A63E-4D89-BB56-D16362BE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1AE8-2546-446B-AFB8-8FAD4CE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F9C8-0113-4987-BB30-53A14B13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8D78-A238-426A-8F64-889D298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D1B4-0E63-4912-B31B-4813E59B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90B9-A772-4A31-9CBB-FAAC0410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21DC-D1B6-4B93-8751-9FD32B81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E09B-ADC2-40C8-849A-4485A773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7E212-3152-4C51-A3D6-C6C16298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0D33-CE14-46A1-A38E-84F6B6F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C98-0253-410C-B7F4-4C0AB2C7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E25C5-DDC7-4D90-BFEC-E8437811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46155-D113-4D98-813E-67511D4B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116C5-3B35-4ED4-ABA3-C2B481EE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E986-596B-4757-ADD7-B27B7AA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1E5C-951B-4F4D-A18E-A661311E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C08A3-3606-4CAE-8B55-BB44240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C0109-22B3-4498-BAEF-7DFEEAE9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76463-05A8-45C2-9131-4C978DDB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86FB-9B25-4974-A074-B7E4B95B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06A0-33FB-46DC-826C-A07D2D60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09A-B47A-4C79-8C4F-BBA6A36B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B3661-7F83-4667-A4A7-4E7BC4D1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F3D4E-1C8D-49B4-A7EE-15426CE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AB136-E91B-4F07-B72B-033CD6D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DA3E2-5A72-4068-A61C-EB20F8E6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2B055-4F34-45F6-B5C1-CDF3F519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8A512-CC63-4646-A297-3570E70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51ECC-5933-4E2B-BBE7-229402E5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2B79-B852-4A1F-B907-D8A56B3F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D2B7-AB03-46C6-B087-94465A8F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4CB1-FE46-4A8D-9647-F8ACF92D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BAD-205A-4D2E-84FA-CE52FF4A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583C-22FB-45FA-8473-E6BE10F2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9D375-2C12-4731-8AE2-24915388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27504-3C50-4665-8E7B-032CEDCC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C22CA-4051-4098-A203-D24F0D60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DE85E-46F2-4B17-B1B8-EB36F519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D0067-9097-4380-9ECD-BA74A27A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C895-C22D-42C5-A80C-46A5610C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6569F-11D7-40C4-9F8C-92C5EB1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9FCA8-0496-42E4-97B5-C4DE851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73D7-E9F4-4F1C-B751-21D6244D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65B-B8C2-4425-8905-0942CCC6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8D69-B6C8-47F5-ABD5-4BFE3FB2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15F6D-6417-4C4F-955F-BB58B11B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036F4-D23A-451D-8595-C96B73EA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767D2-531F-4668-A17B-E55A7923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B79D9-9E19-4604-A57F-6612D9C1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03970-D409-44D9-9255-10C1AC64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4270C-2E4E-4B4E-8D40-6D815E1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7A166-8C01-47D9-941D-1D14D63C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64D63-B6AF-4699-8085-F02DA75A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6587A-CC0F-4612-85D3-C0FF3223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F9E-FF3E-41CA-B855-240E480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5597A-86B2-4FEE-9AD6-A62CFF61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CAA41-A76D-4A92-857F-A7B30E1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604B-F20C-4564-ACD0-35435F2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1DEB7-B416-4478-A191-818AC4F2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25743-8ED0-4182-8F82-FAE117B1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E2A55-B9F7-4C05-9ACA-9D52B084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B649F-2927-4E32-A18C-E391A0ED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83835-3D3D-4ED0-884F-1928AE89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208EA-1B94-4BB7-AC66-1CED3967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7DF46-C079-47FE-AF12-CC338B99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965-C7B2-402E-B863-D20E126B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CF50B-FC6D-4F78-B92F-38EFC155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E8566-ACEE-4D84-BF3C-812B96C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F9867-0394-4EDF-AC7E-3CC97164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DCEE7-B1C9-4F1E-9E4F-605CDA60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9807D-1F86-44BD-BB9D-341274AE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B30E6-5DC0-4FC4-B2ED-687CFAB5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C0A49-5789-4415-BDDA-43BCB159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D8C50-7F0E-435B-926C-02C44999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2DEAE-471A-4D5D-B4A4-B727D038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CB4C3-E961-4AF4-8205-76614ED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20C7-C8F7-4961-B3DB-BEC807472E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1411-EAB9-4E0F-A907-6E3F48D5B3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A9FF-5604-4218-8432-DCA437A9F5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1BD-F50E-4FFE-B87B-0C28BCD301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7739-DC1E-4D1C-AFFF-2894CFE416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FDC0-3706-4A31-9C9F-29772267E3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3800-1130-4814-B64A-19CF1F2099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5505-BDE2-4C5D-8A44-2B21C78048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22E-BA1C-457A-A520-BC7DE67BB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058C-1F67-4042-B611-3BA28FAB99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DA72-4DCC-4701-BBD9-C4CAF2864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6109-1D2B-492B-A560-2D132147FD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77D0-BA5C-42B8-BC98-552498D93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63DD-D5D7-49E2-B6FE-7880EB8ADF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136C-E1D9-41C9-A51C-BC1842A69B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79B9-BDB4-4C47-83E8-5DC35F08DF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1C42-9AE0-4616-BEA2-D77663CA8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EF96-C5D8-4A9C-93D1-4F6CC58265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26E8-AB4C-43EC-B508-9E831532F4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FEFD-C413-4DB4-8F91-BCBB5962A2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F4FE-6DAD-45C4-BC96-BB451066A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D814-A26A-4254-AAC3-D00D7DA745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FC57-B4A6-4DBC-ACB5-489262CE3A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A86A-6B6C-4E63-8C65-505409AB0F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A982-F072-48A1-B135-51C39CEE51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071880" y="40784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143160" y="46530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10T11:39:07Z</dcterms:modified>
  <cp:revision>80</cp:revision>
  <dc:subject/>
  <dc:title>幻灯片 1</dc:title>
</cp:coreProperties>
</file>