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E83-851C-4C4A-B423-3BF95029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457-CC1A-484B-BB2A-B92F55B7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B37A7-9B16-4D30-BF00-3ADD4EFA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582AF-0396-4157-80FB-77504344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D039F-0293-4E7F-86FA-DC90DB1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30A3B-E8D9-4812-B886-5861E41E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95139-FFFB-427F-9C01-FB3511C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ABD4E-3BD1-4351-9757-B99F4EC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EF8F5-B8A2-4166-86D8-4A3ED719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7C9DC-9485-49CE-8B5A-CA1FDD0D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8BAF1-2814-4291-A954-8612B2F1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79356-3D12-4D17-9477-A7997E97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013-7232-44C3-A32B-2EDD8CC7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1B11C-1560-459B-8857-0768D57A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C8039-6B52-4DBD-BAEC-286E110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23FAC-C636-49F4-8FD5-E197D1B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FBAED-78B8-4B44-84AB-AF4358E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2585-FB11-4943-B6D2-6473E6E2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9AD5-4A64-4EE4-A7A8-BB2403F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54693-281D-408F-A79B-A0D39BCB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51FBE-AD49-45DC-9A79-BF770FA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D399E-6082-494D-8ADB-4E6B07D0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B8243-C631-4887-A7AC-8821A545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26B-96E6-4560-B76A-3839B9A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9C9F5-DAD3-4BC5-81D3-C6751963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F92F1-4050-4B10-831B-D71E7DE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CC4AA-766E-4507-A8AA-54F4F01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A6381-A84F-48C0-9002-866552E6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65241-2593-4CAB-9859-BB739416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125A-074F-42B6-A272-DABB8C7F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73B79-4E37-4E1A-81EE-E725D00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A2019-6970-40D3-9076-CE19D74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0E470-451C-4B08-B67A-F24C6E9C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55364-5052-4CA1-960E-C9DDADB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5C36-9DCE-4268-BD6A-DFE36A36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709A8-73B8-489C-BCCD-71D28087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15CD3-FB4D-49F4-B9A2-0A2FD512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069F7-67B8-4B42-95F0-9068170E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571B3-C6D4-4E02-BC24-10BAE8AE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72300-9844-4C2E-A62D-07D0945B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1D53F-9096-4E10-8B98-68AB8FA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8E3D9-4F22-4D1E-BDE6-476371F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9BFEE-3B33-4A90-83F7-1F8244A2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4D9E-D954-4AF1-A402-D6C11F5C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6B637-BBBF-4D52-AB93-D23EFDC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71D-9C22-4161-AF14-D3067C34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6473A-0BBF-4928-8E46-11CF85C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94F97-0AB5-4E17-BA7E-4B6B64A2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1F1F2-8BB7-4F5A-8718-D1E868F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FF011-6A40-488E-A8B7-DC08F448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D0746-FBFB-4B9C-9094-67C1FBBA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396B6-47C8-4F66-BE07-3FBF6FB0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554C2-1969-4D4A-9AFA-BD7CA25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DDA09-44DA-4545-B6CB-229513A4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23C94-7286-476B-AD95-EA57512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56054-4F35-48A4-B704-FD721704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F58-CFA0-4133-90CD-9BAD133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4DAFC-FF1A-4811-837C-3CE8CCA9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83093-4C55-4596-9324-DD3C29C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962A6-B4F7-4017-B4C7-B58D6F5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7F7AC-6729-4359-8CCB-4B558EA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3A531-4648-457D-BF99-ECA7B1F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3C9AC-5934-41C6-AE40-D7108842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CA679-F86F-448B-AED2-4FB12282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7FF1-A220-41FF-8EA5-D36F80F1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8CE6-9ACE-4FEA-8A3B-009552A2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879B-2DCC-4887-9603-ADA62121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609-1B21-4FB0-B374-1710DA9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590-AAC3-4226-9E9E-DC47D5CD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0D7D-DD5F-4E29-8D98-EDE799C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B95C-ECAA-44EC-A16B-D4CF201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694-CAEB-43EB-A7A4-E7F28BF6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578A-629B-4D4A-95BD-A4E123BA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B4C-4CBF-48BF-9C64-614C8C34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30A83-BBE4-45BE-811C-E5B6DA49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B0B9-67C4-43EE-A10A-971BDC15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C562-C06C-447A-98F3-ED8755F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A453-EB8E-4DED-96B0-0498739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38B5-165D-4F6C-A107-54A4ABE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F80-B359-4B55-90D5-4BC9C0B2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B86C-01F5-46A0-8069-A997FB9F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B974-4783-4DA5-AA70-6D174A4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3894-9683-4BD3-8341-87F95F4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C0E0-D53B-4739-9B87-44656CB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56C8-76D4-416E-A436-88A1514D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D70A-82FF-4F76-8C0D-87751484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AEDA-841B-4776-A593-60E771EE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EB71-F007-4171-BA96-441C4B85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FF1F-4E1E-41C8-A51C-B8B2D4E3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4270-72E8-4F05-9B1F-1C9068D6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0DB-470E-469D-A195-B6A3E508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2DBB-A8C3-4D72-B3AD-B2B7154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E81DB-E88B-4273-A652-4295254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55E5-BC8F-441D-B3E4-3E2784D1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A4B9-811C-4D9C-B841-6E7E25D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8D2C-9D42-4C00-BC96-55158E4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B7D6-9A03-4C9A-9073-AE5262B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60980-F896-4BA1-8151-9410DF1A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F71D-A69C-415F-9CA4-A16A395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DFF8-39D5-4936-A492-4CFE57F0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B141C-06E5-4688-85FF-1FB4650A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080-E601-4FF6-A86C-BF322F2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BB7F-BC16-446E-ADA9-AB6450B0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18395-D239-45B6-AD6C-C7240D82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EF92-5E81-4F34-8764-D65AF0F7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6E33-A89A-4256-ACF1-740F317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4A198-9B9D-4079-8D8A-5406B07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DB8B-ADE2-48C3-A2F1-1471BAF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377A3-523A-4010-9005-84D58006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5E0F-BB4C-4CCF-87F2-8132D531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CECD-07C8-4719-BEC7-4CF865D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AC73-56AF-4502-8C41-C4E946A9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088-7335-4CD0-939C-F8EFDB1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017F-A404-4C78-B6A4-FB494F94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8858B-60B1-4FE3-8C0E-F610B7D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02FC-30DE-41CA-B288-38DB8C9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2DCF6-F263-4395-B58C-A2E8914F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22F9B-E598-4D3A-B997-6585B6FC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8D1B-6508-4578-B96B-1A86EC6C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06ED-68C1-4C75-B7FE-B48CE9E3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315D-AE38-4BFA-BC95-921B235A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B7C13-FF4B-476F-8501-B50CC1D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06494-C1DA-4880-9D5C-AEC335F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130-9900-4511-826F-D300552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27C6-89E6-4BEF-8EF8-343C43A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E893-A92E-446E-804A-42BCA4F3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F0E5-6971-4FDE-BB1E-AB9C26F9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B99F-B69F-479A-B4E8-75567262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8CF2A-8649-403A-8716-F5FDB15D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8E4A8-C120-453B-91C9-EA8CE66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1694-3D0C-49F0-9B98-91661EA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1236-C4CD-42D0-B6FA-202A448E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B48B-CE4B-4ADB-990B-C086D987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BA5F-045D-4911-899F-2A53C71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109-64B0-4F85-8D8D-95BD6FF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6CA54-24BF-49D8-A4DE-4BC1F21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A126A-7F98-4B54-AC37-A233049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05C4-23B7-42D8-92B9-BCC8F1D0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8568B-484B-4134-A413-E3759E29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C73C-6700-4B58-A084-A6EB8FEF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67ED-39FA-44AB-89A2-C99C22B7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E3C0-84FB-420B-ACC4-EAE49106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0B071-47B6-4705-A55D-1BA51C92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6A8B9-2FFA-4621-BF13-251901E7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C9C7-BFD8-47FC-9AB3-5F421301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BD5-B5E3-45E4-ACAB-60E7C04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DB67C-532A-45ED-9928-A4D86C0F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F009-C18C-44A5-B1F7-F095EA5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535A-8D95-401D-8BFA-0636228B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AC88-4C07-4DD5-9D06-D66AEDED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BE58-D70C-4758-8FAD-494B72FD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0707-C052-49C7-8AD1-CD6ED749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2C0B1-4378-4882-803A-ED2A5E22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CDAB6-3AAA-41C8-8682-1BB95FDF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4620-4BB8-4417-944A-3AC5DBE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C3D1-55E2-4ED2-8250-6A92424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E6CE-55CB-47FF-8B2F-30A5339AA9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EA6-7C0A-4D61-AA71-CB5CC85A55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18E6-9CB0-48FC-A78E-F0A22796E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F0B-9C0C-4E55-86FB-65FFAFD4E0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9240-A30F-4BD8-88B2-D61AE652C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5EA-61FD-42F4-AE17-9FA77762A4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08A-73CD-47BF-8023-67749238D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DFCE-7BEC-4F2A-B06F-5558857B196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3E60-73C6-40DA-AA38-D9DACF9B56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D1D3-7F0E-4F47-91F5-6BBD466DA4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288E-7BE3-4CBA-8DD0-1E5EDE937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5B2-2131-4C7E-8F45-DC96235673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C59-B4E7-4560-8D4B-B34356B6D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C58D-BF63-41EC-BFBA-B7C2679494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E564-3BE9-45E0-B594-BD7DA8FFF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51FC-EEDF-478D-B623-EAF567FAD0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6509-45A5-4BFF-9C26-F3473B3D5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AA54-F581-4F52-9AC8-258C13D5D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5FB0-D86B-443C-88E1-EBA4FB0B5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F429-65F4-4F13-A407-CB0C67320C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B7C1-4CB2-4EA9-BEFD-427A1C542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9371-6E56-4B86-83B2-9BA2688EB0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31FC-60AB-4877-ADE3-B15278B69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324E-9D11-4195-A977-B88F23CFFA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BA4-DF80-45E3-B041-93379D470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3571920" y="28576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714840" y="35002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11:39:22Z</dcterms:modified>
  <cp:revision>77</cp:revision>
  <dc:subject/>
  <dc:title>幻灯片 1</dc:title>
</cp:coreProperties>
</file>