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946-C93B-4606-BA5E-30C14810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83B-4B36-42A1-A6AF-6197ED7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5D5D8-0DD1-4351-B6BB-B01C9E7A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AA9A-B0DC-49CB-AF45-738B4793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A0E96-7B63-4629-8622-065D896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701B8-0C20-4006-92FD-4E8C90A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B094F-33A5-4230-A082-8CE7067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6EFB-D9BD-4CFD-9BF5-2707D3C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94167-3639-45AD-9381-B2B607D9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C1233-5068-4562-8025-291D4F37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83E43-433C-428F-B4DD-05B36578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A1893-5E24-4549-BA3E-21B63729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15E-783C-4A24-85AE-707F858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2D3C-5148-4877-AD42-2FF99AED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3F6D-F2FC-472E-86E2-B3AB481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47A49-907E-4137-9C2D-98712FB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3FA9B-4700-49A6-A97F-7D273B7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7EF23-8E20-4F77-9333-2A7D831E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E0C92-EB56-4D5C-B068-A9CD8EB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EAEEC-4B97-4A16-8099-D89B809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9F36B-651A-42D2-B0F3-8E289A8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62C33-A121-4077-8CBB-0209E5D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A2D73-2744-43FC-A967-0E32357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0C5-7167-42A2-B697-79081B82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38113-39D5-4E66-A629-7DEF7491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4EA0B-ADDE-4B56-9FE9-12E60F13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36C6E-3974-4343-8FC2-FB6D3BA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35E4F-F4AD-4D01-AEBE-DE5E638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DCB3-57BA-4CDD-ADA4-4AABA082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3989-96F7-41A1-B76F-DB83951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D29A0-870D-4415-858B-B81AE8A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8DF4-98F6-4858-915A-632BD95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15D6-DFD7-4BED-BFED-AD76408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55DC-9C50-4308-97DF-6DCAA06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B52-B1B5-46B9-B75C-7CA5FF2D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0ECF-A5DC-4FC8-AA94-549DCE3C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A123C-6C31-4DC3-8D86-52A7F443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83FC4-75FF-4C0E-8221-1AE505FF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6D559-977C-4B6B-AE2E-D7EB0D48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05FA5-DC84-4087-8C2B-21D04E8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CFD3D-500F-4B08-8629-FBAE3E7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0BDCD-B641-4B47-9A4E-42D9EEDF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BD93-E36A-46AD-8D2D-94723BD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4DBCF-5C61-4AA0-9CB2-2741F748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606C-DD0F-445A-ACA1-80BBA6CD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7094-5332-4CC9-B382-E625911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C0371-2ADF-4425-9557-B4487FF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EA4E8-14AD-4079-A5F6-5AE85E3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CA45F-A445-46B0-80A7-E294F6F8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A51F7-DA1A-496E-BB9E-3D545A50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59DC4-6CEC-4852-92B8-146A2330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487B2-C7D4-42E3-AF0B-F3B6C237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F65BC-CEA3-4288-8B1C-0A73C3F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CB2C4-C271-452F-9A30-5C4913E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CA536-463F-478E-A023-A737D15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B3BE1-7270-4016-B845-214238E4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8BD-6344-48C2-9C97-1269C8F4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DFE88-A5D5-4DA9-81BF-3736F71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3832E-DB76-4E4F-BE24-C106843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99AE3-11DD-465C-944B-08B378F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531D3-41E2-482E-82D7-D9AEDAC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F9A2F-1524-4CE1-98CE-653AE10A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46785-BCE2-42AD-8B26-25056ECB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D202A-DD9D-440B-A750-7BBA1280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DB3-CA0D-4D6D-BF6A-40D8928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C9E2-4609-4939-B317-5F0E781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572-1D83-4C57-91A4-3645807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E49-8BAD-4C74-901C-3BFB35C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66F-6F5A-4454-AF9D-C174ACA0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C87-F624-4A84-A1A3-696E15BB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02B0-227D-4AEB-830E-D4D2CE41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2A7-467B-4DE8-A35A-8FFB645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4E89-5A2C-4CCE-A785-68351FB6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082F-8915-41FD-A5DA-C7828DC2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11E5-636C-47B0-915C-9697E77E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A101-393C-4471-8B2D-2351101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2414-2B5C-483C-8AE0-FC53290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2178-C888-4A3D-9BD9-AD9227E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B55E-769F-4A47-8B65-572A5C5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C56-2182-4C04-BC77-978D23B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749F-472D-4AD9-ABAB-13AD5B37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667C-F262-45F1-A7E9-DE029E8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5188-AC7D-4230-927E-BCFF3C26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3830-AC40-4391-8FAC-11DC326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4FDA-4E49-47AF-B373-264187C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BD8C-1CA2-4484-A5ED-3E1ADFFC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28CD-17BA-46FB-89B6-999FB72B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9C38-C389-41C7-A5C9-79A5AFCE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8E96-C7BB-4EC7-AB3C-47180C29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BCCE-3171-4950-8F80-56F46BE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6B9-545E-4A8B-8ED3-1E7E3C3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0F35-0312-485C-8315-4E30E389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C8EB-A819-4048-8E28-6F9BE36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E3E9-617E-4AFA-98A3-AA28869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59807-024A-4C24-91AF-385C2CD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3AD4-559E-4C76-BEDC-A52B9C2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0174-61F0-44A7-8564-1752995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1049-231D-4CA9-A146-C48BE93D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ACBC-04F5-4CC5-86A1-C399DC3D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4A58-DA4B-4E17-A819-786C58B7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0E4D-FDC0-461B-814F-27314E0C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55A-6EDD-4229-9976-6D5B5F3E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5A2B-E4F1-4849-AF10-81C744A0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953F-CBCD-4425-AB6A-E096B7F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FEBED-799A-4E3A-8FCC-CA0768D9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D673-8164-4061-A207-0995DC6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CE5A-4B2C-46AA-B7CA-4821A83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46DF-32DE-4CFC-88B5-CF49E283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52ED-22CB-41A9-A9CE-7D81924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7EA80-8BAE-4E93-AACA-CFD8814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005D6-2D0C-4044-B498-03585CA8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8EF9-0B81-4322-87BB-5D077655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4E4-0067-4793-937E-EC21035B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E7EA-FDFD-46BC-ACF2-DCBF8C25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B2A7-2710-4081-A791-3C669D5B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C8F4-704F-4F33-B6C0-3CFAB8AF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DE13-2CA1-4BE2-BB87-1B4E018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8DF4-DB4F-454F-B447-3AC0B29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89BD4-FA8E-4F1A-B88C-FCD532E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D98B-3B14-4AAB-BDCC-559ABD4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B21EF-F88A-4036-8BC1-1908E8A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703D-F3C8-443D-A55B-AC2F1D7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8954-D32D-4691-94E1-66510CD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373-A175-41BB-B584-D7C7CF9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70E1-6898-44C8-AC3B-6062807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9FE3-6E77-47F1-AE1F-A5324A5A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C403-E45C-4297-B565-2BF23890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5FEB-00C8-4267-B433-33735076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F407B-A7EB-4630-9C0F-18974FC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05EB-E950-40FB-A963-69EF4AD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E24A-EDD5-43D0-892A-5446D3E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012E-A781-44E7-BAAA-A736AB1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7E77-D665-4EEC-B9EC-D4D9B5E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0A6D-FFAA-4272-A3FC-4FB8A17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E1F-8518-41B9-A0B3-9C78ED0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D0BE-E4B4-4CA9-B10B-59A813E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9605-51C8-4511-9FD8-6E82B20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85C6-74C0-443C-820C-E66A84B5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456D-4739-421B-9EAE-2E889375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422B-A45D-4F96-B1F9-7FC18CDF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0CF5-86B5-4314-8990-172CD794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AA765-71CC-4480-8A76-D259894B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0A9F-AA5E-4120-9EEA-2541F87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34B1-AFC7-4688-BBF1-EBE3385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F510-88EA-4CF7-9E9F-D4817420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1D8-9F9E-4A08-AE58-02FDB77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D8B3E-D494-402B-BDF5-66FA4B4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26F4-34C5-4E8D-8C26-ED1ADB8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A9CD-F13E-40BA-BDE7-85AD283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DDD5-5EFC-439B-9BD4-82D2AE5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54D0-44AA-44E6-BEB0-6697F4CF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4679-D5A3-4A36-847B-9A7C816D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C733-3067-4606-B586-9FE1C119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DAA3-638E-4850-A405-C8CB6EAB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ECE57-2BA9-4E5A-973F-8B6EC104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FB0B1-695F-4C15-86F7-C8B5291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EA20-8A73-4C0B-B9E1-B9DC5EB49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E753-0C9D-4275-9718-59DF7588C0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DAD5-21DC-4328-B676-F4B75F470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C9D-EFF4-4D24-8DA7-F62DB22796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ECAA-A7A4-4E63-B4EF-5AC9C8C25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98B-FAAC-4630-9DCE-1B9D801B34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3601-F8AD-4333-842D-4C838D022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ECB-0D94-4832-8E34-39D6EDE04A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9114-EE26-4FBA-A185-E0AF057AA4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2D9B-6003-4B86-BFFC-0130ECAC93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F15-E594-49F6-B2DD-9E32CA191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DAF9-E809-4158-9C17-D10E424D50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3601-5D65-433D-960F-E7AEDDF51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0CD8-D93E-4147-AE50-0189638A24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37E5-3F42-4B83-BCB0-DABCBC34B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4D5E-98BF-44DA-A956-E54DFC3D51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6BC-10F0-4F73-B0CF-25B61E598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50D-9F2E-4018-AF3B-1E07AC4B47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754B-74B5-4446-9589-8BE5E2B2D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52C-E42B-44E9-A7EB-ED7EC3C047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1B59-B369-4276-BFB2-18816E84A6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1503-6B73-4C04-AB2C-F6A73C12CB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5CF-F493-4241-A998-81423FECB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D2C4-CBF3-4C8D-988C-3E3A9E2448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AA3-E6E9-4613-AD55-36D747EB71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000240" y="49388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429000" y="5653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11:39:34Z</dcterms:modified>
  <cp:revision>78</cp:revision>
  <dc:subject/>
  <dc:title>幻灯片 1</dc:title>
</cp:coreProperties>
</file>