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B58-AF52-403F-8A81-66C41B0A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145-E724-496D-93B4-BB79979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EE8-D702-4A72-9251-E8B250B0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6C8-3837-467A-9834-9E078A94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67A4-AC68-4EC2-AF5E-7976E8C1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649-7FBC-459C-8EE4-5C18F4D1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6D76-1175-410B-9C2F-6674A871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F7D5-AA76-40D8-B525-1B792FEF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2C6E-6BE9-4961-92BE-16904400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3CDA-EAF8-4B90-A076-DD65BE4D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1A91-675E-459F-A2D5-A13752C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4889-A296-4B9C-96FA-F99A9D1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6581-8EB8-4353-909E-B874273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1D67-4F74-44C0-A2E9-692780A1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03E2-AB56-4F8D-81C6-76D0A9E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1781-616E-4411-96BA-541D664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8A0D-8B02-4065-9D9F-AFEB91CF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0E4-310E-4CE1-A10E-FF81CDB4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868-7B2D-49C7-88B4-F764DA9F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A76-A892-451D-8106-0B91BBE4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596-D907-4E1B-9264-F341473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DF-3364-4ABA-A06D-CD7020E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8D4-5CEB-4E03-A7D6-D42D32A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754-D178-464A-ACEA-FEA714D5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147-B6DE-46CA-9EDC-BE253777C36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60E3-C60D-4FD2-83FB-54F6FB6745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51F9-1C21-4BD7-AEE9-8DFD646E33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FDC-8D76-4E04-B4B9-01106DDDE8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yanj.cn/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yanj.cn/" TargetMode="External"/><Relationship Id="rId12" Type="http://schemas.openxmlformats.org/officeDocument/2006/relationships/hyperlink" Target="http://www.yanj.cn/" TargetMode="External"/><Relationship Id="rId13" Type="http://schemas.openxmlformats.org/officeDocument/2006/relationships/hyperlink" Target="http://www.yanj.cn/" TargetMode="External"/><Relationship Id="rId14" Type="http://schemas.openxmlformats.org/officeDocument/2006/relationships/hyperlink" Target="http://www.yanj.cn/" TargetMode="External"/><Relationship Id="rId15" Type="http://schemas.openxmlformats.org/officeDocument/2006/relationships/hyperlink" Target="http://www.yanj.cn/" TargetMode="External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yanj.cn/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hyperlink" Target="http://www.yanj.cn/" TargetMode="External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yanj.cn/" TargetMode="Externa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hyperlink" Target="http://www.yanj.cn/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9.wmf"/><Relationship Id="rId3" Type="http://schemas.openxmlformats.org/officeDocument/2006/relationships/hyperlink" Target="http://www.yanj.cn/" TargetMode="External"/><Relationship Id="rId4" Type="http://schemas.openxmlformats.org/officeDocument/2006/relationships/image" Target="../media/image9.wmf"/><Relationship Id="rId5" Type="http://schemas.openxmlformats.org/officeDocument/2006/relationships/hyperlink" Target="http://www.yanj.cn/" TargetMode="External"/><Relationship Id="rId6" Type="http://schemas.openxmlformats.org/officeDocument/2006/relationships/image" Target="../media/image9.wmf"/><Relationship Id="rId7" Type="http://schemas.openxmlformats.org/officeDocument/2006/relationships/hyperlink" Target="http://www.yanj.cn/" TargetMode="External"/><Relationship Id="rId8" Type="http://schemas.openxmlformats.org/officeDocument/2006/relationships/image" Target="../media/image9.wmf"/><Relationship Id="rId9" Type="http://schemas.openxmlformats.org/officeDocument/2006/relationships/hyperlink" Target="http://www.yanj.cn/" TargetMode="External"/><Relationship Id="rId10" Type="http://schemas.openxmlformats.org/officeDocument/2006/relationships/hyperlink" Target="http://www.yanj.cn/" TargetMode="External"/><Relationship Id="rId11" Type="http://schemas.openxmlformats.org/officeDocument/2006/relationships/hyperlink" Target="http://www.eeppt.com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hyperlink" Target="http://www.yanj.cn/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yanj.cn/" TargetMode="External"/><Relationship Id="rId5" Type="http://schemas.openxmlformats.org/officeDocument/2006/relationships/image" Target="../media/image5.png"/><Relationship Id="rId6" Type="http://schemas.openxmlformats.org/officeDocument/2006/relationships/hyperlink" Target="http://www.yanj.cn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yanj.cn/" TargetMode="External"/><Relationship Id="rId4" Type="http://schemas.openxmlformats.org/officeDocument/2006/relationships/hyperlink" Target="http://www.yanj.cn/" TargetMode="External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>
            <a:hlinkClick r:id="rId1"/>
          </p:cNvPr>
          <p:cNvSpPr/>
          <p:nvPr/>
        </p:nvSpPr>
        <p:spPr>
          <a:xfrm>
            <a:off x="-34920" y="0"/>
            <a:ext cx="12268080" cy="6858000"/>
          </a:xfrm>
          <a:prstGeom prst="rect">
            <a:avLst/>
          </a:prstGeom>
          <a:solidFill>
            <a:srgbClr val="e949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23"/>
          <p:cNvGrpSpPr/>
          <p:nvPr/>
        </p:nvGrpSpPr>
        <p:grpSpPr>
          <a:xfrm>
            <a:off x="2532240" y="1685880"/>
            <a:ext cx="3773160" cy="5172120"/>
            <a:chOff x="2532240" y="1685880"/>
            <a:chExt cx="3773160" cy="5172120"/>
          </a:xfrm>
        </p:grpSpPr>
        <p:sp>
          <p:nvSpPr>
            <p:cNvPr id="86" name="文本框 152"/>
            <p:cNvSpPr/>
            <p:nvPr/>
          </p:nvSpPr>
          <p:spPr>
            <a:xfrm>
              <a:off x="2608200" y="1804320"/>
              <a:ext cx="3697200" cy="503640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cd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文本框 160"/>
            <p:cNvSpPr/>
            <p:nvPr/>
          </p:nvSpPr>
          <p:spPr>
            <a:xfrm>
              <a:off x="2532240" y="1685880"/>
              <a:ext cx="3697200" cy="517212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组合 22"/>
          <p:cNvGrpSpPr/>
          <p:nvPr/>
        </p:nvGrpSpPr>
        <p:grpSpPr>
          <a:xfrm>
            <a:off x="71280" y="1679400"/>
            <a:ext cx="2167200" cy="5178600"/>
            <a:chOff x="71280" y="1679400"/>
            <a:chExt cx="2167200" cy="5178600"/>
          </a:xfrm>
        </p:grpSpPr>
        <p:sp>
          <p:nvSpPr>
            <p:cNvPr id="89" name="文本框 151"/>
            <p:cNvSpPr/>
            <p:nvPr/>
          </p:nvSpPr>
          <p:spPr>
            <a:xfrm>
              <a:off x="147240" y="1797840"/>
              <a:ext cx="2091240" cy="5042880"/>
            </a:xfrm>
            <a:custGeom>
              <a:avLst/>
              <a:gdLst/>
              <a:ahLst/>
              <a:rect l="l" t="t" r="r" b="b"/>
              <a:pathLst>
                <a:path w="2090195" h="4847473">
                  <a:moveTo>
                    <a:pt x="0" y="0"/>
                  </a:moveTo>
                  <a:lnTo>
                    <a:pt x="2090195" y="0"/>
                  </a:lnTo>
                  <a:lnTo>
                    <a:pt x="2090195" y="4847473"/>
                  </a:lnTo>
                  <a:lnTo>
                    <a:pt x="825913" y="4847473"/>
                  </a:lnTo>
                  <a:lnTo>
                    <a:pt x="825913" y="628964"/>
                  </a:lnTo>
                  <a:lnTo>
                    <a:pt x="0" y="628964"/>
                  </a:lnTo>
                  <a:close/>
                </a:path>
              </a:pathLst>
            </a:custGeom>
            <a:solidFill>
              <a:srgbClr val="bf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文本框 159"/>
            <p:cNvSpPr/>
            <p:nvPr/>
          </p:nvSpPr>
          <p:spPr>
            <a:xfrm>
              <a:off x="71280" y="1679400"/>
              <a:ext cx="2091240" cy="5178600"/>
            </a:xfrm>
            <a:custGeom>
              <a:avLst/>
              <a:gdLst/>
              <a:ahLst/>
              <a:rect l="l" t="t" r="r" b="b"/>
              <a:pathLst>
                <a:path w="2090195" h="4847473">
                  <a:moveTo>
                    <a:pt x="0" y="0"/>
                  </a:moveTo>
                  <a:lnTo>
                    <a:pt x="2090195" y="0"/>
                  </a:lnTo>
                  <a:lnTo>
                    <a:pt x="2090195" y="4847473"/>
                  </a:lnTo>
                  <a:lnTo>
                    <a:pt x="825913" y="4847473"/>
                  </a:lnTo>
                  <a:lnTo>
                    <a:pt x="825913" y="628964"/>
                  </a:lnTo>
                  <a:lnTo>
                    <a:pt x="0" y="6289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6591240" y="1685880"/>
            <a:ext cx="3773520" cy="5172120"/>
            <a:chOff x="6591240" y="1685880"/>
            <a:chExt cx="3773520" cy="5172120"/>
          </a:xfrm>
        </p:grpSpPr>
        <p:sp>
          <p:nvSpPr>
            <p:cNvPr id="92" name="文本框 153"/>
            <p:cNvSpPr/>
            <p:nvPr/>
          </p:nvSpPr>
          <p:spPr>
            <a:xfrm>
              <a:off x="6667200" y="1804320"/>
              <a:ext cx="3697560" cy="503640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cd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文本框 162"/>
            <p:cNvSpPr/>
            <p:nvPr/>
          </p:nvSpPr>
          <p:spPr>
            <a:xfrm>
              <a:off x="6591240" y="1685880"/>
              <a:ext cx="3697560" cy="5172120"/>
            </a:xfrm>
            <a:custGeom>
              <a:avLst/>
              <a:gdLst/>
              <a:ahLst/>
              <a:rect l="l" t="t" r="r" b="b"/>
              <a:pathLst>
                <a:path w="3697548" h="4841120">
                  <a:moveTo>
                    <a:pt x="1257929" y="648024"/>
                  </a:moveTo>
                  <a:lnTo>
                    <a:pt x="1257929" y="4193096"/>
                  </a:lnTo>
                  <a:lnTo>
                    <a:pt x="2433267" y="4193096"/>
                  </a:lnTo>
                  <a:lnTo>
                    <a:pt x="2433267" y="648024"/>
                  </a:lnTo>
                  <a:close/>
                  <a:moveTo>
                    <a:pt x="0" y="0"/>
                  </a:moveTo>
                  <a:lnTo>
                    <a:pt x="3697548" y="0"/>
                  </a:lnTo>
                  <a:lnTo>
                    <a:pt x="3697548" y="4841120"/>
                  </a:lnTo>
                  <a:lnTo>
                    <a:pt x="0" y="4841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20"/>
          <p:cNvGrpSpPr/>
          <p:nvPr/>
        </p:nvGrpSpPr>
        <p:grpSpPr>
          <a:xfrm>
            <a:off x="10514160" y="1679400"/>
            <a:ext cx="1568160" cy="5186520"/>
            <a:chOff x="10514160" y="1679400"/>
            <a:chExt cx="1568160" cy="5186520"/>
          </a:xfrm>
        </p:grpSpPr>
        <p:sp>
          <p:nvSpPr>
            <p:cNvPr id="95" name="文本框 155"/>
            <p:cNvSpPr/>
            <p:nvPr/>
          </p:nvSpPr>
          <p:spPr>
            <a:xfrm>
              <a:off x="10590120" y="1728720"/>
              <a:ext cx="1492200" cy="5137200"/>
            </a:xfrm>
            <a:custGeom>
              <a:avLst/>
              <a:gdLst/>
              <a:ahLst/>
              <a:rect l="l" t="t" r="r" b="b"/>
              <a:pathLst>
                <a:path w="1491996" h="4985004">
                  <a:moveTo>
                    <a:pt x="170688" y="4402836"/>
                  </a:moveTo>
                  <a:lnTo>
                    <a:pt x="467868" y="4402836"/>
                  </a:lnTo>
                  <a:lnTo>
                    <a:pt x="350520" y="4985004"/>
                  </a:lnTo>
                  <a:lnTo>
                    <a:pt x="53340" y="4985004"/>
                  </a:lnTo>
                  <a:close/>
                  <a:moveTo>
                    <a:pt x="56388" y="4012692"/>
                  </a:moveTo>
                  <a:lnTo>
                    <a:pt x="342900" y="4012692"/>
                  </a:lnTo>
                  <a:lnTo>
                    <a:pt x="466344" y="4354068"/>
                  </a:lnTo>
                  <a:lnTo>
                    <a:pt x="178308" y="4354068"/>
                  </a:lnTo>
                  <a:close/>
                  <a:moveTo>
                    <a:pt x="790956" y="3640836"/>
                  </a:moveTo>
                  <a:lnTo>
                    <a:pt x="1086612" y="3640836"/>
                  </a:lnTo>
                  <a:lnTo>
                    <a:pt x="1086612" y="3842004"/>
                  </a:lnTo>
                  <a:lnTo>
                    <a:pt x="1362456" y="3842004"/>
                  </a:lnTo>
                  <a:lnTo>
                    <a:pt x="1362456" y="3989832"/>
                  </a:lnTo>
                  <a:lnTo>
                    <a:pt x="1086612" y="3989832"/>
                  </a:lnTo>
                  <a:lnTo>
                    <a:pt x="1086612" y="4239768"/>
                  </a:lnTo>
                  <a:lnTo>
                    <a:pt x="1435608" y="4239768"/>
                  </a:lnTo>
                  <a:lnTo>
                    <a:pt x="1435608" y="4386072"/>
                  </a:lnTo>
                  <a:lnTo>
                    <a:pt x="1022604" y="4386072"/>
                  </a:lnTo>
                  <a:lnTo>
                    <a:pt x="798576" y="4837176"/>
                  </a:lnTo>
                  <a:lnTo>
                    <a:pt x="1121664" y="4837176"/>
                  </a:lnTo>
                  <a:lnTo>
                    <a:pt x="1021080" y="4491228"/>
                  </a:lnTo>
                  <a:lnTo>
                    <a:pt x="1310640" y="4491228"/>
                  </a:lnTo>
                  <a:lnTo>
                    <a:pt x="1455420" y="4985004"/>
                  </a:lnTo>
                  <a:lnTo>
                    <a:pt x="1165860" y="4985004"/>
                  </a:lnTo>
                  <a:lnTo>
                    <a:pt x="1130808" y="4869180"/>
                  </a:lnTo>
                  <a:lnTo>
                    <a:pt x="1062228" y="4985004"/>
                  </a:lnTo>
                  <a:lnTo>
                    <a:pt x="470916" y="4985004"/>
                  </a:lnTo>
                  <a:lnTo>
                    <a:pt x="470916" y="4846320"/>
                  </a:lnTo>
                  <a:lnTo>
                    <a:pt x="702564" y="4386072"/>
                  </a:lnTo>
                  <a:lnTo>
                    <a:pt x="481584" y="4386072"/>
                  </a:lnTo>
                  <a:lnTo>
                    <a:pt x="481584" y="4239768"/>
                  </a:lnTo>
                  <a:lnTo>
                    <a:pt x="790956" y="4239768"/>
                  </a:lnTo>
                  <a:lnTo>
                    <a:pt x="790956" y="3991356"/>
                  </a:lnTo>
                  <a:lnTo>
                    <a:pt x="515112" y="3991356"/>
                  </a:lnTo>
                  <a:lnTo>
                    <a:pt x="515112" y="3842004"/>
                  </a:lnTo>
                  <a:lnTo>
                    <a:pt x="790956" y="3842004"/>
                  </a:lnTo>
                  <a:close/>
                  <a:moveTo>
                    <a:pt x="50292" y="3637788"/>
                  </a:moveTo>
                  <a:lnTo>
                    <a:pt x="341376" y="3637788"/>
                  </a:lnTo>
                  <a:lnTo>
                    <a:pt x="458724" y="3962400"/>
                  </a:lnTo>
                  <a:lnTo>
                    <a:pt x="166116" y="3962400"/>
                  </a:lnTo>
                  <a:close/>
                  <a:moveTo>
                    <a:pt x="85344" y="1824228"/>
                  </a:moveTo>
                  <a:lnTo>
                    <a:pt x="1418844" y="1824228"/>
                  </a:lnTo>
                  <a:lnTo>
                    <a:pt x="1418844" y="1973580"/>
                  </a:lnTo>
                  <a:lnTo>
                    <a:pt x="1115568" y="1973580"/>
                  </a:lnTo>
                  <a:lnTo>
                    <a:pt x="1115568" y="2554224"/>
                  </a:lnTo>
                  <a:lnTo>
                    <a:pt x="1161288" y="2554224"/>
                  </a:lnTo>
                  <a:lnTo>
                    <a:pt x="1211580" y="2104644"/>
                  </a:lnTo>
                  <a:lnTo>
                    <a:pt x="1440180" y="2104644"/>
                  </a:lnTo>
                  <a:lnTo>
                    <a:pt x="1371600" y="2706624"/>
                  </a:lnTo>
                  <a:lnTo>
                    <a:pt x="1115568" y="2706624"/>
                  </a:lnTo>
                  <a:lnTo>
                    <a:pt x="1115568" y="3006852"/>
                  </a:lnTo>
                  <a:lnTo>
                    <a:pt x="1459992" y="3006852"/>
                  </a:lnTo>
                  <a:lnTo>
                    <a:pt x="1397508" y="3159252"/>
                  </a:lnTo>
                  <a:lnTo>
                    <a:pt x="833628" y="3159252"/>
                  </a:lnTo>
                  <a:lnTo>
                    <a:pt x="833628" y="1973580"/>
                  </a:lnTo>
                  <a:lnTo>
                    <a:pt x="484632" y="1973580"/>
                  </a:lnTo>
                  <a:lnTo>
                    <a:pt x="438912" y="2138172"/>
                  </a:lnTo>
                  <a:lnTo>
                    <a:pt x="755904" y="2138172"/>
                  </a:lnTo>
                  <a:lnTo>
                    <a:pt x="755904" y="2791968"/>
                  </a:lnTo>
                  <a:lnTo>
                    <a:pt x="396240" y="3159252"/>
                  </a:lnTo>
                  <a:lnTo>
                    <a:pt x="44196" y="3159252"/>
                  </a:lnTo>
                  <a:lnTo>
                    <a:pt x="297180" y="2907792"/>
                  </a:lnTo>
                  <a:lnTo>
                    <a:pt x="102108" y="2557272"/>
                  </a:lnTo>
                  <a:lnTo>
                    <a:pt x="382524" y="2557272"/>
                  </a:lnTo>
                  <a:lnTo>
                    <a:pt x="478536" y="2721864"/>
                  </a:lnTo>
                  <a:lnTo>
                    <a:pt x="478536" y="2287524"/>
                  </a:lnTo>
                  <a:lnTo>
                    <a:pt x="399288" y="2287524"/>
                  </a:lnTo>
                  <a:lnTo>
                    <a:pt x="345948" y="2499360"/>
                  </a:lnTo>
                  <a:lnTo>
                    <a:pt x="59436" y="2499360"/>
                  </a:lnTo>
                  <a:lnTo>
                    <a:pt x="196596" y="1973580"/>
                  </a:lnTo>
                  <a:lnTo>
                    <a:pt x="85344" y="1973580"/>
                  </a:lnTo>
                  <a:close/>
                  <a:moveTo>
                    <a:pt x="600456" y="313944"/>
                  </a:moveTo>
                  <a:lnTo>
                    <a:pt x="902208" y="313944"/>
                  </a:lnTo>
                  <a:lnTo>
                    <a:pt x="902208" y="1325880"/>
                  </a:lnTo>
                  <a:lnTo>
                    <a:pt x="600456" y="1325880"/>
                  </a:lnTo>
                  <a:close/>
                  <a:moveTo>
                    <a:pt x="301752" y="0"/>
                  </a:moveTo>
                  <a:lnTo>
                    <a:pt x="1196340" y="0"/>
                  </a:lnTo>
                  <a:lnTo>
                    <a:pt x="1491996" y="632460"/>
                  </a:lnTo>
                  <a:lnTo>
                    <a:pt x="1168908" y="632460"/>
                  </a:lnTo>
                  <a:lnTo>
                    <a:pt x="932688" y="150876"/>
                  </a:lnTo>
                  <a:lnTo>
                    <a:pt x="565404" y="150876"/>
                  </a:lnTo>
                  <a:lnTo>
                    <a:pt x="323088" y="632460"/>
                  </a:lnTo>
                  <a:lnTo>
                    <a:pt x="0" y="632460"/>
                  </a:lnTo>
                  <a:close/>
                </a:path>
              </a:pathLst>
            </a:custGeom>
            <a:solidFill>
              <a:srgbClr val="bf17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文本框 164"/>
            <p:cNvSpPr/>
            <p:nvPr/>
          </p:nvSpPr>
          <p:spPr>
            <a:xfrm>
              <a:off x="10514160" y="1679400"/>
              <a:ext cx="1492200" cy="5162040"/>
            </a:xfrm>
            <a:custGeom>
              <a:avLst/>
              <a:gdLst/>
              <a:ahLst/>
              <a:rect l="l" t="t" r="r" b="b"/>
              <a:pathLst>
                <a:path w="1491996" h="4985004">
                  <a:moveTo>
                    <a:pt x="170688" y="4402836"/>
                  </a:moveTo>
                  <a:lnTo>
                    <a:pt x="467868" y="4402836"/>
                  </a:lnTo>
                  <a:lnTo>
                    <a:pt x="350520" y="4985004"/>
                  </a:lnTo>
                  <a:lnTo>
                    <a:pt x="53340" y="4985004"/>
                  </a:lnTo>
                  <a:close/>
                  <a:moveTo>
                    <a:pt x="56388" y="4012692"/>
                  </a:moveTo>
                  <a:lnTo>
                    <a:pt x="342900" y="4012692"/>
                  </a:lnTo>
                  <a:lnTo>
                    <a:pt x="466344" y="4354068"/>
                  </a:lnTo>
                  <a:lnTo>
                    <a:pt x="178308" y="4354068"/>
                  </a:lnTo>
                  <a:close/>
                  <a:moveTo>
                    <a:pt x="790956" y="3640836"/>
                  </a:moveTo>
                  <a:lnTo>
                    <a:pt x="1086612" y="3640836"/>
                  </a:lnTo>
                  <a:lnTo>
                    <a:pt x="1086612" y="3842004"/>
                  </a:lnTo>
                  <a:lnTo>
                    <a:pt x="1362456" y="3842004"/>
                  </a:lnTo>
                  <a:lnTo>
                    <a:pt x="1362456" y="3989832"/>
                  </a:lnTo>
                  <a:lnTo>
                    <a:pt x="1086612" y="3989832"/>
                  </a:lnTo>
                  <a:lnTo>
                    <a:pt x="1086612" y="4239768"/>
                  </a:lnTo>
                  <a:lnTo>
                    <a:pt x="1435608" y="4239768"/>
                  </a:lnTo>
                  <a:lnTo>
                    <a:pt x="1435608" y="4386072"/>
                  </a:lnTo>
                  <a:lnTo>
                    <a:pt x="1022604" y="4386072"/>
                  </a:lnTo>
                  <a:lnTo>
                    <a:pt x="798576" y="4837176"/>
                  </a:lnTo>
                  <a:lnTo>
                    <a:pt x="1121664" y="4837176"/>
                  </a:lnTo>
                  <a:lnTo>
                    <a:pt x="1021080" y="4491228"/>
                  </a:lnTo>
                  <a:lnTo>
                    <a:pt x="1310640" y="4491228"/>
                  </a:lnTo>
                  <a:lnTo>
                    <a:pt x="1455420" y="4985004"/>
                  </a:lnTo>
                  <a:lnTo>
                    <a:pt x="1165860" y="4985004"/>
                  </a:lnTo>
                  <a:lnTo>
                    <a:pt x="1130808" y="4869180"/>
                  </a:lnTo>
                  <a:lnTo>
                    <a:pt x="1062228" y="4985004"/>
                  </a:lnTo>
                  <a:lnTo>
                    <a:pt x="470916" y="4985004"/>
                  </a:lnTo>
                  <a:lnTo>
                    <a:pt x="470916" y="4846320"/>
                  </a:lnTo>
                  <a:lnTo>
                    <a:pt x="702564" y="4386072"/>
                  </a:lnTo>
                  <a:lnTo>
                    <a:pt x="481584" y="4386072"/>
                  </a:lnTo>
                  <a:lnTo>
                    <a:pt x="481584" y="4239768"/>
                  </a:lnTo>
                  <a:lnTo>
                    <a:pt x="790956" y="4239768"/>
                  </a:lnTo>
                  <a:lnTo>
                    <a:pt x="790956" y="3991356"/>
                  </a:lnTo>
                  <a:lnTo>
                    <a:pt x="515112" y="3991356"/>
                  </a:lnTo>
                  <a:lnTo>
                    <a:pt x="515112" y="3842004"/>
                  </a:lnTo>
                  <a:lnTo>
                    <a:pt x="790956" y="3842004"/>
                  </a:lnTo>
                  <a:close/>
                  <a:moveTo>
                    <a:pt x="50292" y="3637788"/>
                  </a:moveTo>
                  <a:lnTo>
                    <a:pt x="341376" y="3637788"/>
                  </a:lnTo>
                  <a:lnTo>
                    <a:pt x="458724" y="3962400"/>
                  </a:lnTo>
                  <a:lnTo>
                    <a:pt x="166116" y="3962400"/>
                  </a:lnTo>
                  <a:close/>
                  <a:moveTo>
                    <a:pt x="85344" y="1824228"/>
                  </a:moveTo>
                  <a:lnTo>
                    <a:pt x="1418844" y="1824228"/>
                  </a:lnTo>
                  <a:lnTo>
                    <a:pt x="1418844" y="1973580"/>
                  </a:lnTo>
                  <a:lnTo>
                    <a:pt x="1115568" y="1973580"/>
                  </a:lnTo>
                  <a:lnTo>
                    <a:pt x="1115568" y="2554224"/>
                  </a:lnTo>
                  <a:lnTo>
                    <a:pt x="1161288" y="2554224"/>
                  </a:lnTo>
                  <a:lnTo>
                    <a:pt x="1211580" y="2104644"/>
                  </a:lnTo>
                  <a:lnTo>
                    <a:pt x="1440180" y="2104644"/>
                  </a:lnTo>
                  <a:lnTo>
                    <a:pt x="1371600" y="2706624"/>
                  </a:lnTo>
                  <a:lnTo>
                    <a:pt x="1115568" y="2706624"/>
                  </a:lnTo>
                  <a:lnTo>
                    <a:pt x="1115568" y="3006852"/>
                  </a:lnTo>
                  <a:lnTo>
                    <a:pt x="1459992" y="3006852"/>
                  </a:lnTo>
                  <a:lnTo>
                    <a:pt x="1397508" y="3159252"/>
                  </a:lnTo>
                  <a:lnTo>
                    <a:pt x="833628" y="3159252"/>
                  </a:lnTo>
                  <a:lnTo>
                    <a:pt x="833628" y="1973580"/>
                  </a:lnTo>
                  <a:lnTo>
                    <a:pt x="484632" y="1973580"/>
                  </a:lnTo>
                  <a:lnTo>
                    <a:pt x="438912" y="2138172"/>
                  </a:lnTo>
                  <a:lnTo>
                    <a:pt x="755904" y="2138172"/>
                  </a:lnTo>
                  <a:lnTo>
                    <a:pt x="755904" y="2791968"/>
                  </a:lnTo>
                  <a:lnTo>
                    <a:pt x="396240" y="3159252"/>
                  </a:lnTo>
                  <a:lnTo>
                    <a:pt x="44196" y="3159252"/>
                  </a:lnTo>
                  <a:lnTo>
                    <a:pt x="297180" y="2907792"/>
                  </a:lnTo>
                  <a:lnTo>
                    <a:pt x="102108" y="2557272"/>
                  </a:lnTo>
                  <a:lnTo>
                    <a:pt x="382524" y="2557272"/>
                  </a:lnTo>
                  <a:lnTo>
                    <a:pt x="478536" y="2721864"/>
                  </a:lnTo>
                  <a:lnTo>
                    <a:pt x="478536" y="2287524"/>
                  </a:lnTo>
                  <a:lnTo>
                    <a:pt x="399288" y="2287524"/>
                  </a:lnTo>
                  <a:lnTo>
                    <a:pt x="345948" y="2499360"/>
                  </a:lnTo>
                  <a:lnTo>
                    <a:pt x="59436" y="2499360"/>
                  </a:lnTo>
                  <a:lnTo>
                    <a:pt x="196596" y="1973580"/>
                  </a:lnTo>
                  <a:lnTo>
                    <a:pt x="85344" y="1973580"/>
                  </a:lnTo>
                  <a:close/>
                  <a:moveTo>
                    <a:pt x="600456" y="313944"/>
                  </a:moveTo>
                  <a:lnTo>
                    <a:pt x="902208" y="313944"/>
                  </a:lnTo>
                  <a:lnTo>
                    <a:pt x="902208" y="1325880"/>
                  </a:lnTo>
                  <a:lnTo>
                    <a:pt x="600456" y="1325880"/>
                  </a:lnTo>
                  <a:close/>
                  <a:moveTo>
                    <a:pt x="301752" y="0"/>
                  </a:moveTo>
                  <a:lnTo>
                    <a:pt x="1196340" y="0"/>
                  </a:lnTo>
                  <a:lnTo>
                    <a:pt x="1491996" y="632460"/>
                  </a:lnTo>
                  <a:lnTo>
                    <a:pt x="1168908" y="632460"/>
                  </a:lnTo>
                  <a:lnTo>
                    <a:pt x="932688" y="150876"/>
                  </a:lnTo>
                  <a:lnTo>
                    <a:pt x="565404" y="150876"/>
                  </a:lnTo>
                  <a:lnTo>
                    <a:pt x="323088" y="632460"/>
                  </a:lnTo>
                  <a:lnTo>
                    <a:pt x="0" y="6324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[动画大师]_灯光"/>
          <p:cNvSpPr/>
          <p:nvPr/>
        </p:nvSpPr>
        <p:spPr>
          <a:xfrm>
            <a:off x="5076720" y="3176640"/>
            <a:ext cx="2990880" cy="3751200"/>
          </a:xfrm>
          <a:custGeom>
            <a:avLst/>
            <a:gdLst/>
            <a:ahLst/>
            <a:rect l="l" t="t" r="r" b="b"/>
            <a:pathLst>
              <a:path w="2990850" h="3657600">
                <a:moveTo>
                  <a:pt x="0" y="3657600"/>
                </a:moveTo>
                <a:lnTo>
                  <a:pt x="1981200" y="3657600"/>
                </a:lnTo>
                <a:lnTo>
                  <a:pt x="1981200" y="2705100"/>
                </a:lnTo>
                <a:lnTo>
                  <a:pt x="2114550" y="2705100"/>
                </a:lnTo>
                <a:lnTo>
                  <a:pt x="2114550" y="2533650"/>
                </a:lnTo>
                <a:lnTo>
                  <a:pt x="2495550" y="2533650"/>
                </a:lnTo>
                <a:lnTo>
                  <a:pt x="2495550" y="2667000"/>
                </a:lnTo>
                <a:lnTo>
                  <a:pt x="2667000" y="2667000"/>
                </a:lnTo>
                <a:lnTo>
                  <a:pt x="2667000" y="2533650"/>
                </a:lnTo>
                <a:lnTo>
                  <a:pt x="2990850" y="971550"/>
                </a:lnTo>
                <a:lnTo>
                  <a:pt x="2971800" y="228600"/>
                </a:lnTo>
                <a:lnTo>
                  <a:pt x="2324100" y="19050"/>
                </a:lnTo>
                <a:lnTo>
                  <a:pt x="2266950" y="0"/>
                </a:lnTo>
              </a:path>
            </a:pathLst>
          </a:custGeom>
          <a:solidFill>
            <a:srgbClr val="fff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[动画大师]_灯光"/>
          <p:cNvSpPr/>
          <p:nvPr/>
        </p:nvSpPr>
        <p:spPr>
          <a:xfrm>
            <a:off x="5076720" y="3176640"/>
            <a:ext cx="2990880" cy="3751200"/>
          </a:xfrm>
          <a:custGeom>
            <a:avLst/>
            <a:gdLst/>
            <a:ahLst/>
            <a:rect l="l" t="t" r="r" b="b"/>
            <a:pathLst>
              <a:path w="2990850" h="3657600">
                <a:moveTo>
                  <a:pt x="0" y="3657600"/>
                </a:moveTo>
                <a:lnTo>
                  <a:pt x="1981200" y="3657600"/>
                </a:lnTo>
                <a:lnTo>
                  <a:pt x="1981200" y="2705100"/>
                </a:lnTo>
                <a:lnTo>
                  <a:pt x="2114550" y="2705100"/>
                </a:lnTo>
                <a:lnTo>
                  <a:pt x="2114550" y="2533650"/>
                </a:lnTo>
                <a:lnTo>
                  <a:pt x="2495550" y="2533650"/>
                </a:lnTo>
                <a:lnTo>
                  <a:pt x="2495550" y="2667000"/>
                </a:lnTo>
                <a:lnTo>
                  <a:pt x="2667000" y="2667000"/>
                </a:lnTo>
                <a:lnTo>
                  <a:pt x="2667000" y="2533650"/>
                </a:lnTo>
                <a:lnTo>
                  <a:pt x="2990850" y="971550"/>
                </a:lnTo>
                <a:lnTo>
                  <a:pt x="2971800" y="228600"/>
                </a:lnTo>
                <a:lnTo>
                  <a:pt x="2324100" y="19050"/>
                </a:lnTo>
                <a:lnTo>
                  <a:pt x="2266950" y="0"/>
                </a:lnTo>
              </a:path>
            </a:pathLst>
          </a:custGeom>
          <a:solidFill>
            <a:srgbClr val="fff2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灯光"/>
          <p:cNvSpPr/>
          <p:nvPr/>
        </p:nvSpPr>
        <p:spPr>
          <a:xfrm>
            <a:off x="5067360" y="3191040"/>
            <a:ext cx="2990880" cy="3752640"/>
          </a:xfrm>
          <a:custGeom>
            <a:avLst/>
            <a:gdLst/>
            <a:ahLst/>
            <a:rect l="l" t="t" r="r" b="b"/>
            <a:pathLst>
              <a:path w="2990850" h="3657600">
                <a:moveTo>
                  <a:pt x="0" y="3657600"/>
                </a:moveTo>
                <a:lnTo>
                  <a:pt x="1981200" y="3657600"/>
                </a:lnTo>
                <a:lnTo>
                  <a:pt x="1981200" y="2705100"/>
                </a:lnTo>
                <a:lnTo>
                  <a:pt x="2114550" y="2705100"/>
                </a:lnTo>
                <a:lnTo>
                  <a:pt x="2114550" y="2533650"/>
                </a:lnTo>
                <a:lnTo>
                  <a:pt x="2495550" y="2533650"/>
                </a:lnTo>
                <a:lnTo>
                  <a:pt x="2495550" y="2667000"/>
                </a:lnTo>
                <a:lnTo>
                  <a:pt x="2667000" y="2667000"/>
                </a:lnTo>
                <a:lnTo>
                  <a:pt x="2667000" y="2533650"/>
                </a:lnTo>
                <a:lnTo>
                  <a:pt x="2990850" y="971550"/>
                </a:lnTo>
                <a:lnTo>
                  <a:pt x="2971800" y="228600"/>
                </a:lnTo>
                <a:lnTo>
                  <a:pt x="2324100" y="19050"/>
                </a:lnTo>
                <a:lnTo>
                  <a:pt x="2266950" y="0"/>
                </a:lnTo>
              </a:path>
            </a:pathLst>
          </a:custGeom>
          <a:solidFill>
            <a:srgbClr val="fff0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19080" y="-1119240"/>
            <a:ext cx="7499160" cy="3699000"/>
          </a:xfrm>
          <a:custGeom>
            <a:avLst/>
            <a:gdLst/>
            <a:ahLst/>
            <a:rect l="l" t="t" r="r" b="b"/>
            <a:pathLst>
              <a:path w="4724" h="2330">
                <a:moveTo>
                  <a:pt x="3478" y="0"/>
                </a:moveTo>
                <a:lnTo>
                  <a:pt x="0" y="0"/>
                </a:lnTo>
                <a:lnTo>
                  <a:pt x="0" y="2330"/>
                </a:lnTo>
                <a:lnTo>
                  <a:pt x="4724" y="1182"/>
                </a:lnTo>
                <a:lnTo>
                  <a:pt x="347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8"/>
          <p:cNvSpPr/>
          <p:nvPr/>
        </p:nvSpPr>
        <p:spPr>
          <a:xfrm>
            <a:off x="-442800" y="2444760"/>
            <a:ext cx="10342440" cy="5065560"/>
          </a:xfrm>
          <a:custGeom>
            <a:avLst/>
            <a:gdLst/>
            <a:ahLst/>
            <a:rect l="l" t="t" r="r" b="b"/>
            <a:pathLst>
              <a:path w="7656" h="3750">
                <a:moveTo>
                  <a:pt x="3253" y="3029"/>
                </a:moveTo>
                <a:lnTo>
                  <a:pt x="3253" y="2931"/>
                </a:lnTo>
                <a:lnTo>
                  <a:pt x="4203" y="2931"/>
                </a:lnTo>
                <a:lnTo>
                  <a:pt x="4203" y="3029"/>
                </a:lnTo>
                <a:lnTo>
                  <a:pt x="3808" y="3029"/>
                </a:lnTo>
                <a:lnTo>
                  <a:pt x="3808" y="3143"/>
                </a:lnTo>
                <a:lnTo>
                  <a:pt x="3808" y="3653"/>
                </a:lnTo>
                <a:lnTo>
                  <a:pt x="3648" y="3653"/>
                </a:lnTo>
                <a:lnTo>
                  <a:pt x="3648" y="3029"/>
                </a:lnTo>
                <a:lnTo>
                  <a:pt x="3253" y="3029"/>
                </a:lnTo>
                <a:moveTo>
                  <a:pt x="4643" y="2853"/>
                </a:moveTo>
                <a:lnTo>
                  <a:pt x="4643" y="2747"/>
                </a:lnTo>
                <a:lnTo>
                  <a:pt x="7230" y="2747"/>
                </a:lnTo>
                <a:lnTo>
                  <a:pt x="7230" y="2853"/>
                </a:lnTo>
                <a:lnTo>
                  <a:pt x="7181" y="2853"/>
                </a:lnTo>
                <a:lnTo>
                  <a:pt x="7181" y="3141"/>
                </a:lnTo>
                <a:lnTo>
                  <a:pt x="7181" y="3750"/>
                </a:lnTo>
                <a:lnTo>
                  <a:pt x="6947" y="3750"/>
                </a:lnTo>
                <a:lnTo>
                  <a:pt x="4691" y="3750"/>
                </a:lnTo>
                <a:lnTo>
                  <a:pt x="4691" y="2853"/>
                </a:lnTo>
                <a:lnTo>
                  <a:pt x="4643" y="2853"/>
                </a:lnTo>
                <a:moveTo>
                  <a:pt x="4876" y="0"/>
                </a:moveTo>
                <a:lnTo>
                  <a:pt x="4724" y="37"/>
                </a:lnTo>
                <a:lnTo>
                  <a:pt x="5711" y="973"/>
                </a:lnTo>
                <a:lnTo>
                  <a:pt x="5441" y="2296"/>
                </a:lnTo>
                <a:lnTo>
                  <a:pt x="4066" y="2469"/>
                </a:lnTo>
                <a:lnTo>
                  <a:pt x="4066" y="2772"/>
                </a:lnTo>
                <a:lnTo>
                  <a:pt x="4109" y="2847"/>
                </a:lnTo>
                <a:lnTo>
                  <a:pt x="4109" y="2931"/>
                </a:lnTo>
                <a:lnTo>
                  <a:pt x="3396" y="2931"/>
                </a:lnTo>
                <a:lnTo>
                  <a:pt x="3396" y="2847"/>
                </a:lnTo>
                <a:lnTo>
                  <a:pt x="3436" y="2772"/>
                </a:lnTo>
                <a:lnTo>
                  <a:pt x="3436" y="2548"/>
                </a:lnTo>
                <a:lnTo>
                  <a:pt x="0" y="2980"/>
                </a:lnTo>
                <a:lnTo>
                  <a:pt x="0" y="1185"/>
                </a:lnTo>
                <a:lnTo>
                  <a:pt x="0" y="3750"/>
                </a:lnTo>
                <a:lnTo>
                  <a:pt x="7656" y="3750"/>
                </a:lnTo>
                <a:lnTo>
                  <a:pt x="7656" y="2809"/>
                </a:lnTo>
                <a:lnTo>
                  <a:pt x="5451" y="177"/>
                </a:lnTo>
                <a:lnTo>
                  <a:pt x="487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3"/>
          <p:cNvSpPr/>
          <p:nvPr/>
        </p:nvSpPr>
        <p:spPr>
          <a:xfrm>
            <a:off x="9215280" y="4135320"/>
            <a:ext cx="430200" cy="1708200"/>
          </a:xfrm>
          <a:custGeom>
            <a:avLst/>
            <a:gdLst/>
            <a:ahLst/>
            <a:rect l="l" t="t" r="r" b="b"/>
            <a:pathLst>
              <a:path w="440" h="1751">
                <a:moveTo>
                  <a:pt x="73" y="1751"/>
                </a:moveTo>
                <a:lnTo>
                  <a:pt x="0" y="1735"/>
                </a:lnTo>
                <a:lnTo>
                  <a:pt x="367" y="0"/>
                </a:lnTo>
                <a:lnTo>
                  <a:pt x="440" y="16"/>
                </a:lnTo>
                <a:lnTo>
                  <a:pt x="73" y="1751"/>
                </a:lnTo>
                <a:close/>
              </a:path>
            </a:pathLst>
          </a:custGeom>
          <a:solidFill>
            <a:srgbClr val="fcc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7637400" y="2874960"/>
            <a:ext cx="2008080" cy="1260360"/>
          </a:xfrm>
          <a:custGeom>
            <a:avLst/>
            <a:gdLst/>
            <a:ahLst/>
            <a:rect l="l" t="t" r="r" b="b"/>
            <a:pathLst>
              <a:path w="2058" h="1293">
                <a:moveTo>
                  <a:pt x="0" y="63"/>
                </a:moveTo>
                <a:lnTo>
                  <a:pt x="38" y="0"/>
                </a:lnTo>
                <a:lnTo>
                  <a:pt x="2058" y="1229"/>
                </a:lnTo>
                <a:lnTo>
                  <a:pt x="2020" y="1293"/>
                </a:lnTo>
                <a:lnTo>
                  <a:pt x="0" y="63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9524880" y="4044960"/>
            <a:ext cx="182520" cy="182520"/>
          </a:xfrm>
          <a:prstGeom prst="ellipse">
            <a:avLst/>
          </a:prstGeom>
          <a:solidFill>
            <a:srgbClr val="fccc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台灯"/>
          <p:cNvSpPr/>
          <p:nvPr/>
        </p:nvSpPr>
        <p:spPr>
          <a:xfrm>
            <a:off x="7334280" y="2584440"/>
            <a:ext cx="749160" cy="847800"/>
          </a:xfrm>
          <a:custGeom>
            <a:avLst/>
            <a:gdLst/>
            <a:ahLst/>
            <a:rect l="l" t="t" r="r" b="b"/>
            <a:pathLst>
              <a:path w="575" h="650">
                <a:moveTo>
                  <a:pt x="496" y="283"/>
                </a:moveTo>
                <a:cubicBezTo>
                  <a:pt x="560" y="84"/>
                  <a:pt x="560" y="84"/>
                  <a:pt x="560" y="84"/>
                </a:cubicBezTo>
                <a:cubicBezTo>
                  <a:pt x="299" y="0"/>
                  <a:pt x="299" y="0"/>
                  <a:pt x="299" y="0"/>
                </a:cubicBezTo>
                <a:cubicBezTo>
                  <a:pt x="231" y="210"/>
                  <a:pt x="231" y="210"/>
                  <a:pt x="231" y="210"/>
                </a:cubicBezTo>
                <a:cubicBezTo>
                  <a:pt x="137" y="252"/>
                  <a:pt x="50" y="351"/>
                  <a:pt x="0" y="483"/>
                </a:cubicBezTo>
                <a:cubicBezTo>
                  <a:pt x="540" y="650"/>
                  <a:pt x="540" y="650"/>
                  <a:pt x="540" y="650"/>
                </a:cubicBezTo>
                <a:cubicBezTo>
                  <a:pt x="575" y="507"/>
                  <a:pt x="556" y="370"/>
                  <a:pt x="496" y="283"/>
                </a:cubicBez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231"/>
          <p:cNvGrpSpPr/>
          <p:nvPr/>
        </p:nvGrpSpPr>
        <p:grpSpPr>
          <a:xfrm>
            <a:off x="8539200" y="5200560"/>
            <a:ext cx="158760" cy="714600"/>
            <a:chOff x="8539200" y="5200560"/>
            <a:chExt cx="158760" cy="714600"/>
          </a:xfrm>
        </p:grpSpPr>
        <p:sp>
          <p:nvSpPr>
            <p:cNvPr id="107" name="Rectangle 37"/>
            <p:cNvSpPr/>
            <p:nvPr/>
          </p:nvSpPr>
          <p:spPr>
            <a:xfrm>
              <a:off x="8539200" y="5200560"/>
              <a:ext cx="158760" cy="71460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38"/>
            <p:cNvSpPr/>
            <p:nvPr/>
          </p:nvSpPr>
          <p:spPr>
            <a:xfrm>
              <a:off x="8562600" y="5310000"/>
              <a:ext cx="1119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39"/>
            <p:cNvSpPr/>
            <p:nvPr/>
          </p:nvSpPr>
          <p:spPr>
            <a:xfrm>
              <a:off x="8562600" y="5694120"/>
              <a:ext cx="1119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232"/>
          <p:cNvGrpSpPr/>
          <p:nvPr/>
        </p:nvGrpSpPr>
        <p:grpSpPr>
          <a:xfrm>
            <a:off x="8715240" y="5200560"/>
            <a:ext cx="160560" cy="714600"/>
            <a:chOff x="8715240" y="5200560"/>
            <a:chExt cx="160560" cy="714600"/>
          </a:xfrm>
        </p:grpSpPr>
        <p:sp>
          <p:nvSpPr>
            <p:cNvPr id="111" name="Rectangle 40"/>
            <p:cNvSpPr/>
            <p:nvPr/>
          </p:nvSpPr>
          <p:spPr>
            <a:xfrm>
              <a:off x="8715240" y="5200560"/>
              <a:ext cx="160560" cy="71460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41"/>
            <p:cNvSpPr/>
            <p:nvPr/>
          </p:nvSpPr>
          <p:spPr>
            <a:xfrm>
              <a:off x="8740440" y="5310000"/>
              <a:ext cx="11160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36"/>
          <p:cNvGrpSpPr/>
          <p:nvPr/>
        </p:nvGrpSpPr>
        <p:grpSpPr>
          <a:xfrm>
            <a:off x="8851320" y="5144760"/>
            <a:ext cx="558360" cy="803880"/>
            <a:chOff x="8851320" y="5144760"/>
            <a:chExt cx="558360" cy="803880"/>
          </a:xfrm>
        </p:grpSpPr>
        <p:grpSp>
          <p:nvGrpSpPr>
            <p:cNvPr id="114" name="组合 233"/>
            <p:cNvGrpSpPr/>
            <p:nvPr/>
          </p:nvGrpSpPr>
          <p:grpSpPr>
            <a:xfrm>
              <a:off x="8851320" y="5144760"/>
              <a:ext cx="558360" cy="803880"/>
              <a:chOff x="8851320" y="5144760"/>
              <a:chExt cx="558360" cy="803880"/>
            </a:xfrm>
          </p:grpSpPr>
          <p:sp>
            <p:nvSpPr>
              <p:cNvPr id="115" name="Freeform 43"/>
              <p:cNvSpPr/>
              <p:nvPr/>
            </p:nvSpPr>
            <p:spPr>
              <a:xfrm rot="20563800">
                <a:off x="8951400" y="5181120"/>
                <a:ext cx="357480" cy="730440"/>
              </a:xfrm>
              <a:custGeom>
                <a:avLst/>
                <a:gdLst/>
                <a:ahLst/>
                <a:rect l="l" t="t" r="r" b="b"/>
                <a:pathLst>
                  <a:path w="365" h="749">
                    <a:moveTo>
                      <a:pt x="365" y="703"/>
                    </a:moveTo>
                    <a:lnTo>
                      <a:pt x="208" y="749"/>
                    </a:lnTo>
                    <a:lnTo>
                      <a:pt x="0" y="47"/>
                    </a:lnTo>
                    <a:lnTo>
                      <a:pt x="156" y="0"/>
                    </a:lnTo>
                    <a:lnTo>
                      <a:pt x="365" y="703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44"/>
              <p:cNvSpPr/>
              <p:nvPr/>
            </p:nvSpPr>
            <p:spPr>
              <a:xfrm rot="20563800">
                <a:off x="8961120" y="5325840"/>
                <a:ext cx="124200" cy="12384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11" y="45"/>
                    </a:moveTo>
                    <a:cubicBezTo>
                      <a:pt x="120" y="73"/>
                      <a:pt x="103" y="103"/>
                      <a:pt x="75" y="111"/>
                    </a:cubicBezTo>
                    <a:cubicBezTo>
                      <a:pt x="47" y="120"/>
                      <a:pt x="17" y="103"/>
                      <a:pt x="8" y="75"/>
                    </a:cubicBezTo>
                    <a:cubicBezTo>
                      <a:pt x="0" y="47"/>
                      <a:pt x="16" y="17"/>
                      <a:pt x="45" y="8"/>
                    </a:cubicBezTo>
                    <a:cubicBezTo>
                      <a:pt x="73" y="0"/>
                      <a:pt x="103" y="16"/>
                      <a:pt x="111" y="45"/>
                    </a:cubicBez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Freeform 45"/>
            <p:cNvSpPr/>
            <p:nvPr/>
          </p:nvSpPr>
          <p:spPr>
            <a:xfrm rot="20563800">
              <a:off x="9173880" y="5643720"/>
              <a:ext cx="125280" cy="12456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11" y="45"/>
                  </a:moveTo>
                  <a:cubicBezTo>
                    <a:pt x="120" y="73"/>
                    <a:pt x="104" y="103"/>
                    <a:pt x="75" y="111"/>
                  </a:cubicBezTo>
                  <a:cubicBezTo>
                    <a:pt x="47" y="120"/>
                    <a:pt x="17" y="104"/>
                    <a:pt x="9" y="75"/>
                  </a:cubicBezTo>
                  <a:cubicBezTo>
                    <a:pt x="0" y="47"/>
                    <a:pt x="16" y="17"/>
                    <a:pt x="45" y="9"/>
                  </a:cubicBezTo>
                  <a:cubicBezTo>
                    <a:pt x="73" y="0"/>
                    <a:pt x="103" y="16"/>
                    <a:pt x="111" y="45"/>
                  </a:cubicBez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30"/>
          <p:cNvGrpSpPr/>
          <p:nvPr/>
        </p:nvGrpSpPr>
        <p:grpSpPr>
          <a:xfrm>
            <a:off x="8717040" y="5578560"/>
            <a:ext cx="714240" cy="336600"/>
            <a:chOff x="8717040" y="5578560"/>
            <a:chExt cx="714240" cy="336600"/>
          </a:xfrm>
        </p:grpSpPr>
        <p:sp>
          <p:nvSpPr>
            <p:cNvPr id="119" name="Rectangle 46"/>
            <p:cNvSpPr/>
            <p:nvPr/>
          </p:nvSpPr>
          <p:spPr>
            <a:xfrm>
              <a:off x="8717040" y="5757120"/>
              <a:ext cx="714240" cy="15804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>
              <a:off x="8826480" y="5780520"/>
              <a:ext cx="11124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48"/>
            <p:cNvSpPr/>
            <p:nvPr/>
          </p:nvSpPr>
          <p:spPr>
            <a:xfrm>
              <a:off x="9211680" y="5780520"/>
              <a:ext cx="1101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49"/>
            <p:cNvSpPr/>
            <p:nvPr/>
          </p:nvSpPr>
          <p:spPr>
            <a:xfrm>
              <a:off x="8717040" y="5578560"/>
              <a:ext cx="714240" cy="15804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50"/>
            <p:cNvSpPr/>
            <p:nvPr/>
          </p:nvSpPr>
          <p:spPr>
            <a:xfrm>
              <a:off x="8826480" y="5601960"/>
              <a:ext cx="11124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>
              <a:off x="9211680" y="5601960"/>
              <a:ext cx="110160" cy="111240"/>
            </a:xfrm>
            <a:prstGeom prst="ellipse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Freeform 53"/>
          <p:cNvSpPr/>
          <p:nvPr/>
        </p:nvSpPr>
        <p:spPr>
          <a:xfrm>
            <a:off x="7045200" y="6014880"/>
            <a:ext cx="2428920" cy="874800"/>
          </a:xfrm>
          <a:custGeom>
            <a:avLst/>
            <a:gdLst/>
            <a:ahLst/>
            <a:rect l="l" t="t" r="r" b="b"/>
            <a:pathLst>
              <a:path w="2490" h="897">
                <a:moveTo>
                  <a:pt x="0" y="897"/>
                </a:moveTo>
                <a:lnTo>
                  <a:pt x="2256" y="897"/>
                </a:lnTo>
                <a:lnTo>
                  <a:pt x="2490" y="897"/>
                </a:lnTo>
                <a:lnTo>
                  <a:pt x="2490" y="0"/>
                </a:lnTo>
                <a:lnTo>
                  <a:pt x="0" y="0"/>
                </a:lnTo>
                <a:lnTo>
                  <a:pt x="0" y="89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6997680" y="5911920"/>
            <a:ext cx="3062160" cy="102960"/>
          </a:xfrm>
          <a:prstGeom prst="rect">
            <a:avLst/>
          </a:prstGeom>
          <a:solidFill>
            <a:srgbClr val="49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6997680" y="5911920"/>
            <a:ext cx="252432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57"/>
          <p:cNvSpPr/>
          <p:nvPr/>
        </p:nvSpPr>
        <p:spPr>
          <a:xfrm>
            <a:off x="7045200" y="6014880"/>
            <a:ext cx="2428920" cy="281160"/>
          </a:xfrm>
          <a:custGeom>
            <a:avLst/>
            <a:gdLst/>
            <a:ahLst/>
            <a:rect l="l" t="t" r="r" b="b"/>
            <a:pathLst>
              <a:path w="2490" h="288">
                <a:moveTo>
                  <a:pt x="2490" y="0"/>
                </a:moveTo>
                <a:lnTo>
                  <a:pt x="0" y="0"/>
                </a:lnTo>
                <a:lnTo>
                  <a:pt x="0" y="122"/>
                </a:lnTo>
                <a:lnTo>
                  <a:pt x="2490" y="288"/>
                </a:lnTo>
                <a:lnTo>
                  <a:pt x="249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229"/>
          <p:cNvGrpSpPr/>
          <p:nvPr/>
        </p:nvGrpSpPr>
        <p:grpSpPr>
          <a:xfrm>
            <a:off x="7174080" y="5778360"/>
            <a:ext cx="446040" cy="133560"/>
            <a:chOff x="7174080" y="5778360"/>
            <a:chExt cx="446040" cy="133560"/>
          </a:xfrm>
        </p:grpSpPr>
        <p:grpSp>
          <p:nvGrpSpPr>
            <p:cNvPr id="130" name="组合 225"/>
            <p:cNvGrpSpPr/>
            <p:nvPr/>
          </p:nvGrpSpPr>
          <p:grpSpPr>
            <a:xfrm>
              <a:off x="7174080" y="5778360"/>
              <a:ext cx="446040" cy="133560"/>
              <a:chOff x="7174080" y="5778360"/>
              <a:chExt cx="446040" cy="133560"/>
            </a:xfrm>
          </p:grpSpPr>
          <p:sp>
            <p:nvSpPr>
              <p:cNvPr id="131" name="Rectangle 58"/>
              <p:cNvSpPr/>
              <p:nvPr/>
            </p:nvSpPr>
            <p:spPr>
              <a:xfrm>
                <a:off x="7174080" y="5857920"/>
                <a:ext cx="446040" cy="5400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Rectangle 59"/>
              <p:cNvSpPr/>
              <p:nvPr/>
            </p:nvSpPr>
            <p:spPr>
              <a:xfrm>
                <a:off x="7174080" y="5778360"/>
                <a:ext cx="446040" cy="8172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Freeform 60"/>
            <p:cNvSpPr/>
            <p:nvPr/>
          </p:nvSpPr>
          <p:spPr>
            <a:xfrm>
              <a:off x="7174080" y="5860080"/>
              <a:ext cx="446040" cy="51840"/>
            </a:xfrm>
            <a:custGeom>
              <a:avLst/>
              <a:gdLst/>
              <a:ahLst/>
              <a:rect l="l" t="t" r="r" b="b"/>
              <a:pathLst>
                <a:path w="457" h="53">
                  <a:moveTo>
                    <a:pt x="0" y="0"/>
                  </a:moveTo>
                  <a:lnTo>
                    <a:pt x="0" y="53"/>
                  </a:lnTo>
                  <a:lnTo>
                    <a:pt x="4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30"/>
          <p:cNvGrpSpPr/>
          <p:nvPr/>
        </p:nvGrpSpPr>
        <p:grpSpPr>
          <a:xfrm>
            <a:off x="7653960" y="4416840"/>
            <a:ext cx="831240" cy="1493280"/>
            <a:chOff x="7653960" y="4416840"/>
            <a:chExt cx="831240" cy="1493280"/>
          </a:xfrm>
        </p:grpSpPr>
        <p:grpSp>
          <p:nvGrpSpPr>
            <p:cNvPr id="135" name="组合 25"/>
            <p:cNvGrpSpPr/>
            <p:nvPr/>
          </p:nvGrpSpPr>
          <p:grpSpPr>
            <a:xfrm>
              <a:off x="7775640" y="5777640"/>
              <a:ext cx="709560" cy="132480"/>
              <a:chOff x="7775640" y="5777640"/>
              <a:chExt cx="709560" cy="132480"/>
            </a:xfrm>
          </p:grpSpPr>
          <p:sp>
            <p:nvSpPr>
              <p:cNvPr id="136" name="Rectangle 61"/>
              <p:cNvSpPr/>
              <p:nvPr/>
            </p:nvSpPr>
            <p:spPr>
              <a:xfrm>
                <a:off x="7775640" y="5855760"/>
                <a:ext cx="709560" cy="5436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62"/>
              <p:cNvSpPr/>
              <p:nvPr/>
            </p:nvSpPr>
            <p:spPr>
              <a:xfrm>
                <a:off x="7775640" y="5777640"/>
                <a:ext cx="709560" cy="8100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63"/>
            <p:cNvSpPr/>
            <p:nvPr/>
          </p:nvSpPr>
          <p:spPr>
            <a:xfrm>
              <a:off x="8129880" y="4787640"/>
              <a:ext cx="164880" cy="99000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64"/>
            <p:cNvSpPr/>
            <p:nvPr/>
          </p:nvSpPr>
          <p:spPr>
            <a:xfrm rot="20943600">
              <a:off x="7775280" y="4444920"/>
              <a:ext cx="425520" cy="1322640"/>
            </a:xfrm>
            <a:custGeom>
              <a:avLst/>
              <a:gdLst/>
              <a:ahLst/>
              <a:rect l="l" t="t" r="r" b="b"/>
              <a:pathLst>
                <a:path w="436" h="1356">
                  <a:moveTo>
                    <a:pt x="0" y="1323"/>
                  </a:moveTo>
                  <a:lnTo>
                    <a:pt x="270" y="0"/>
                  </a:lnTo>
                  <a:lnTo>
                    <a:pt x="436" y="34"/>
                  </a:lnTo>
                  <a:lnTo>
                    <a:pt x="166" y="1356"/>
                  </a:lnTo>
                  <a:lnTo>
                    <a:pt x="0" y="1323"/>
                  </a:ln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24"/>
          <p:cNvGrpSpPr/>
          <p:nvPr/>
        </p:nvGrpSpPr>
        <p:grpSpPr>
          <a:xfrm>
            <a:off x="7873920" y="5568840"/>
            <a:ext cx="381240" cy="341280"/>
            <a:chOff x="7873920" y="5568840"/>
            <a:chExt cx="381240" cy="341280"/>
          </a:xfrm>
        </p:grpSpPr>
        <p:sp>
          <p:nvSpPr>
            <p:cNvPr id="141" name="Freeform 67"/>
            <p:cNvSpPr/>
            <p:nvPr/>
          </p:nvSpPr>
          <p:spPr>
            <a:xfrm>
              <a:off x="7873920" y="5568840"/>
              <a:ext cx="381240" cy="341280"/>
            </a:xfrm>
            <a:custGeom>
              <a:avLst/>
              <a:gdLst/>
              <a:ahLst/>
              <a:rect l="l" t="t" r="r" b="b"/>
              <a:pathLst>
                <a:path w="391" h="351">
                  <a:moveTo>
                    <a:pt x="349" y="38"/>
                  </a:moveTo>
                  <a:lnTo>
                    <a:pt x="343" y="38"/>
                  </a:lnTo>
                  <a:lnTo>
                    <a:pt x="288" y="38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351"/>
                  </a:lnTo>
                  <a:lnTo>
                    <a:pt x="288" y="351"/>
                  </a:lnTo>
                  <a:lnTo>
                    <a:pt x="288" y="255"/>
                  </a:lnTo>
                  <a:lnTo>
                    <a:pt x="343" y="255"/>
                  </a:lnTo>
                  <a:lnTo>
                    <a:pt x="349" y="255"/>
                  </a:lnTo>
                  <a:lnTo>
                    <a:pt x="391" y="255"/>
                  </a:lnTo>
                  <a:lnTo>
                    <a:pt x="391" y="38"/>
                  </a:lnTo>
                  <a:lnTo>
                    <a:pt x="349" y="38"/>
                  </a:lnTo>
                  <a:close/>
                  <a:moveTo>
                    <a:pt x="343" y="209"/>
                  </a:moveTo>
                  <a:lnTo>
                    <a:pt x="288" y="209"/>
                  </a:lnTo>
                  <a:lnTo>
                    <a:pt x="288" y="85"/>
                  </a:lnTo>
                  <a:lnTo>
                    <a:pt x="343" y="85"/>
                  </a:lnTo>
                  <a:lnTo>
                    <a:pt x="343" y="209"/>
                  </a:lnTo>
                  <a:close/>
                </a:path>
              </a:pathLst>
            </a:custGeom>
            <a:solidFill>
              <a:srgbClr val="fcc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68"/>
            <p:cNvSpPr/>
            <p:nvPr/>
          </p:nvSpPr>
          <p:spPr>
            <a:xfrm>
              <a:off x="7914600" y="5610600"/>
              <a:ext cx="45720" cy="258840"/>
            </a:xfrm>
            <a:prstGeom prst="rect">
              <a:avLst/>
            </a:prstGeom>
            <a:solidFill>
              <a:srgbClr val="e99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组合 31"/>
          <p:cNvGrpSpPr/>
          <p:nvPr/>
        </p:nvGrpSpPr>
        <p:grpSpPr>
          <a:xfrm>
            <a:off x="7059600" y="5977080"/>
            <a:ext cx="2967120" cy="890280"/>
            <a:chOff x="7059600" y="5977080"/>
            <a:chExt cx="2967120" cy="890280"/>
          </a:xfrm>
        </p:grpSpPr>
        <p:sp>
          <p:nvSpPr>
            <p:cNvPr id="144" name="矩形 4"/>
            <p:cNvSpPr/>
            <p:nvPr/>
          </p:nvSpPr>
          <p:spPr>
            <a:xfrm>
              <a:off x="7059600" y="6020640"/>
              <a:ext cx="2967120" cy="846720"/>
            </a:xfrm>
            <a:prstGeom prst="rect">
              <a:avLst/>
            </a:pr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6"/>
            <p:cNvSpPr/>
            <p:nvPr/>
          </p:nvSpPr>
          <p:spPr>
            <a:xfrm>
              <a:off x="7059600" y="5977080"/>
              <a:ext cx="2953080" cy="280800"/>
            </a:xfrm>
            <a:custGeom>
              <a:avLst/>
              <a:gdLst/>
              <a:ahLst/>
              <a:rect l="l" t="t" r="r" b="b"/>
              <a:pathLst>
                <a:path w="2490" h="288">
                  <a:moveTo>
                    <a:pt x="2490" y="0"/>
                  </a:moveTo>
                  <a:lnTo>
                    <a:pt x="0" y="0"/>
                  </a:lnTo>
                  <a:lnTo>
                    <a:pt x="0" y="122"/>
                  </a:lnTo>
                  <a:lnTo>
                    <a:pt x="2490" y="288"/>
                  </a:lnTo>
                  <a:lnTo>
                    <a:pt x="2490" y="0"/>
                  </a:lnTo>
                  <a:close/>
                </a:path>
              </a:pathLst>
            </a:custGeom>
            <a:solidFill>
              <a:srgbClr val="49b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组合 34"/>
          <p:cNvGrpSpPr/>
          <p:nvPr/>
        </p:nvGrpSpPr>
        <p:grpSpPr>
          <a:xfrm>
            <a:off x="2617920" y="5310360"/>
            <a:ext cx="1895400" cy="3141360"/>
            <a:chOff x="2617920" y="5310360"/>
            <a:chExt cx="1895400" cy="3141360"/>
          </a:xfrm>
        </p:grpSpPr>
        <p:grpSp>
          <p:nvGrpSpPr>
            <p:cNvPr id="147" name="椅子"/>
            <p:cNvGrpSpPr/>
            <p:nvPr/>
          </p:nvGrpSpPr>
          <p:grpSpPr>
            <a:xfrm>
              <a:off x="3448440" y="5310360"/>
              <a:ext cx="1064880" cy="1554840"/>
              <a:chOff x="3448440" y="5310360"/>
              <a:chExt cx="1064880" cy="1554840"/>
            </a:xfrm>
          </p:grpSpPr>
          <p:grpSp>
            <p:nvGrpSpPr>
              <p:cNvPr id="148" name="Group 4"/>
              <p:cNvGrpSpPr/>
              <p:nvPr/>
            </p:nvGrpSpPr>
            <p:grpSpPr>
              <a:xfrm>
                <a:off x="3448440" y="5310360"/>
                <a:ext cx="1064880" cy="1554840"/>
                <a:chOff x="3448440" y="5310360"/>
                <a:chExt cx="1064880" cy="1554840"/>
              </a:xfrm>
            </p:grpSpPr>
            <p:sp>
              <p:nvSpPr>
                <p:cNvPr id="149" name="Rectangle 5"/>
                <p:cNvSpPr/>
                <p:nvPr/>
              </p:nvSpPr>
              <p:spPr>
                <a:xfrm>
                  <a:off x="3641400" y="6175080"/>
                  <a:ext cx="801720" cy="82800"/>
                </a:xfrm>
                <a:prstGeom prst="rect">
                  <a:avLst/>
                </a:prstGeom>
                <a:solidFill>
                  <a:srgbClr val="308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Rectangle 6"/>
                <p:cNvSpPr/>
                <p:nvPr/>
              </p:nvSpPr>
              <p:spPr>
                <a:xfrm>
                  <a:off x="3641400" y="6175080"/>
                  <a:ext cx="801720" cy="8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Freeform 7"/>
                <p:cNvSpPr/>
                <p:nvPr/>
              </p:nvSpPr>
              <p:spPr>
                <a:xfrm>
                  <a:off x="3448440" y="5461560"/>
                  <a:ext cx="272880" cy="796320"/>
                </a:xfrm>
                <a:custGeom>
                  <a:avLst/>
                  <a:gdLst/>
                  <a:ahLst/>
                  <a:rect l="l" t="t" r="r" b="b"/>
                  <a:pathLst>
                    <a:path w="379" h="1106">
                      <a:moveTo>
                        <a:pt x="268" y="1106"/>
                      </a:moveTo>
                      <a:lnTo>
                        <a:pt x="0" y="28"/>
                      </a:lnTo>
                      <a:lnTo>
                        <a:pt x="110" y="0"/>
                      </a:lnTo>
                      <a:lnTo>
                        <a:pt x="379" y="1078"/>
                      </a:lnTo>
                      <a:lnTo>
                        <a:pt x="268" y="1106"/>
                      </a:lnTo>
                      <a:close/>
                    </a:path>
                  </a:pathLst>
                </a:custGeom>
                <a:solidFill>
                  <a:srgbClr val="3084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Rectangle 8"/>
                <p:cNvSpPr/>
                <p:nvPr/>
              </p:nvSpPr>
              <p:spPr>
                <a:xfrm>
                  <a:off x="3975120" y="6257880"/>
                  <a:ext cx="134640" cy="524880"/>
                </a:xfrm>
                <a:prstGeom prst="rect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" name="Rectangle 9"/>
                <p:cNvSpPr/>
                <p:nvPr/>
              </p:nvSpPr>
              <p:spPr>
                <a:xfrm>
                  <a:off x="3975120" y="6257880"/>
                  <a:ext cx="13464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" name="Rectangle 10"/>
                <p:cNvSpPr/>
                <p:nvPr/>
              </p:nvSpPr>
              <p:spPr>
                <a:xfrm>
                  <a:off x="3641400" y="6713280"/>
                  <a:ext cx="801720" cy="82080"/>
                </a:xfrm>
                <a:prstGeom prst="rect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" name="Oval 11"/>
                <p:cNvSpPr/>
                <p:nvPr/>
              </p:nvSpPr>
              <p:spPr>
                <a:xfrm>
                  <a:off x="3573000" y="6725520"/>
                  <a:ext cx="138960" cy="139680"/>
                </a:xfrm>
                <a:prstGeom prst="ellipse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Oval 12"/>
                <p:cNvSpPr/>
                <p:nvPr/>
              </p:nvSpPr>
              <p:spPr>
                <a:xfrm>
                  <a:off x="4373640" y="6725520"/>
                  <a:ext cx="139680" cy="139680"/>
                </a:xfrm>
                <a:prstGeom prst="ellipse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" name="Freeform 13"/>
                <p:cNvSpPr/>
                <p:nvPr/>
              </p:nvSpPr>
              <p:spPr>
                <a:xfrm>
                  <a:off x="3975120" y="6257880"/>
                  <a:ext cx="134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133">
                      <a:moveTo>
                        <a:pt x="187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187" y="133"/>
                      </a:lnTo>
                      <a:lnTo>
                        <a:pt x="187" y="0"/>
                      </a:lnTo>
                      <a:close/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" name="Freeform 14"/>
                <p:cNvSpPr/>
                <p:nvPr/>
              </p:nvSpPr>
              <p:spPr>
                <a:xfrm>
                  <a:off x="3975120" y="6257880"/>
                  <a:ext cx="134640" cy="95760"/>
                </a:xfrm>
                <a:custGeom>
                  <a:avLst/>
                  <a:gdLst/>
                  <a:ahLst/>
                  <a:rect l="l" t="t" r="r" b="b"/>
                  <a:pathLst>
                    <a:path w="187" h="133">
                      <a:moveTo>
                        <a:pt x="187" y="0"/>
                      </a:moveTo>
                      <a:lnTo>
                        <a:pt x="0" y="0"/>
                      </a:lnTo>
                      <a:lnTo>
                        <a:pt x="0" y="91"/>
                      </a:lnTo>
                      <a:lnTo>
                        <a:pt x="187" y="133"/>
                      </a:lnTo>
                      <a:lnTo>
                        <a:pt x="187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" name="Rectangle 15"/>
                <p:cNvSpPr/>
                <p:nvPr/>
              </p:nvSpPr>
              <p:spPr>
                <a:xfrm>
                  <a:off x="3762360" y="6104520"/>
                  <a:ext cx="600840" cy="70200"/>
                </a:xfrm>
                <a:prstGeom prst="rect">
                  <a:avLst/>
                </a:pr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" name="Rectangle 16"/>
                <p:cNvSpPr/>
                <p:nvPr/>
              </p:nvSpPr>
              <p:spPr>
                <a:xfrm>
                  <a:off x="3762360" y="6104520"/>
                  <a:ext cx="600840" cy="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" name="Freeform 17"/>
                <p:cNvSpPr/>
                <p:nvPr/>
              </p:nvSpPr>
              <p:spPr>
                <a:xfrm>
                  <a:off x="3795480" y="5310360"/>
                  <a:ext cx="531720" cy="794160"/>
                </a:xfrm>
                <a:custGeom>
                  <a:avLst/>
                  <a:gdLst/>
                  <a:ahLst/>
                  <a:rect l="l" t="t" r="r" b="b"/>
                  <a:pathLst>
                    <a:path w="593" h="887">
                      <a:moveTo>
                        <a:pt x="521" y="93"/>
                      </a:moveTo>
                      <a:cubicBezTo>
                        <a:pt x="486" y="38"/>
                        <a:pt x="399" y="0"/>
                        <a:pt x="297" y="0"/>
                      </a:cubicBezTo>
                      <a:cubicBezTo>
                        <a:pt x="195" y="0"/>
                        <a:pt x="107" y="38"/>
                        <a:pt x="72" y="93"/>
                      </a:cubicBezTo>
                      <a:cubicBezTo>
                        <a:pt x="0" y="93"/>
                        <a:pt x="0" y="93"/>
                        <a:pt x="0" y="93"/>
                      </a:cubicBezTo>
                      <a:cubicBezTo>
                        <a:pt x="0" y="887"/>
                        <a:pt x="0" y="887"/>
                        <a:pt x="0" y="887"/>
                      </a:cubicBezTo>
                      <a:cubicBezTo>
                        <a:pt x="593" y="887"/>
                        <a:pt x="593" y="887"/>
                        <a:pt x="593" y="887"/>
                      </a:cubicBezTo>
                      <a:cubicBezTo>
                        <a:pt x="593" y="93"/>
                        <a:pt x="593" y="93"/>
                        <a:pt x="593" y="93"/>
                      </a:cubicBezTo>
                      <a:cubicBezTo>
                        <a:pt x="521" y="93"/>
                        <a:pt x="521" y="93"/>
                        <a:pt x="521" y="93"/>
                      </a:cubicBezTo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Freeform 21"/>
                <p:cNvSpPr/>
                <p:nvPr/>
              </p:nvSpPr>
              <p:spPr>
                <a:xfrm>
                  <a:off x="3762360" y="6041160"/>
                  <a:ext cx="600840" cy="63360"/>
                </a:xfrm>
                <a:custGeom>
                  <a:avLst/>
                  <a:gdLst/>
                  <a:ahLst/>
                  <a:rect l="l" t="t" r="r" b="b"/>
                  <a:pathLst>
                    <a:path w="834" h="88">
                      <a:moveTo>
                        <a:pt x="784" y="0"/>
                      </a:moveTo>
                      <a:lnTo>
                        <a:pt x="46" y="0"/>
                      </a:lnTo>
                      <a:lnTo>
                        <a:pt x="0" y="88"/>
                      </a:lnTo>
                      <a:lnTo>
                        <a:pt x="834" y="88"/>
                      </a:lnTo>
                      <a:lnTo>
                        <a:pt x="784" y="0"/>
                      </a:lnTo>
                      <a:close/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3" name="Freeform 22"/>
                <p:cNvSpPr/>
                <p:nvPr/>
              </p:nvSpPr>
              <p:spPr>
                <a:xfrm>
                  <a:off x="3762360" y="6041160"/>
                  <a:ext cx="600840" cy="63360"/>
                </a:xfrm>
                <a:custGeom>
                  <a:avLst/>
                  <a:gdLst/>
                  <a:ahLst/>
                  <a:rect l="l" t="t" r="r" b="b"/>
                  <a:pathLst>
                    <a:path w="834" h="88">
                      <a:moveTo>
                        <a:pt x="784" y="0"/>
                      </a:moveTo>
                      <a:lnTo>
                        <a:pt x="46" y="0"/>
                      </a:lnTo>
                      <a:lnTo>
                        <a:pt x="0" y="88"/>
                      </a:lnTo>
                      <a:lnTo>
                        <a:pt x="834" y="88"/>
                      </a:lnTo>
                      <a:lnTo>
                        <a:pt x="784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4" name="Freeform 23"/>
                <p:cNvSpPr/>
                <p:nvPr/>
              </p:nvSpPr>
              <p:spPr>
                <a:xfrm>
                  <a:off x="3762360" y="6104520"/>
                  <a:ext cx="600840" cy="70200"/>
                </a:xfrm>
                <a:custGeom>
                  <a:avLst/>
                  <a:gdLst/>
                  <a:ahLst/>
                  <a:rect l="l" t="t" r="r" b="b"/>
                  <a:pathLst>
                    <a:path w="834" h="98">
                      <a:moveTo>
                        <a:pt x="834" y="0"/>
                      </a:move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834" y="0"/>
                      </a:lnTo>
                      <a:close/>
                    </a:path>
                  </a:pathLst>
                </a:custGeom>
                <a:solidFill>
                  <a:srgbClr val="49bd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5" name="Freeform 24"/>
                <p:cNvSpPr/>
                <p:nvPr/>
              </p:nvSpPr>
              <p:spPr>
                <a:xfrm>
                  <a:off x="3762360" y="6104520"/>
                  <a:ext cx="600840" cy="70200"/>
                </a:xfrm>
                <a:custGeom>
                  <a:avLst/>
                  <a:gdLst/>
                  <a:ahLst/>
                  <a:rect l="l" t="t" r="r" b="b"/>
                  <a:pathLst>
                    <a:path w="834" h="98">
                      <a:moveTo>
                        <a:pt x="834" y="0"/>
                      </a:move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834" y="0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6" name="文本框 103"/>
              <p:cNvSpPr/>
              <p:nvPr/>
            </p:nvSpPr>
            <p:spPr>
              <a:xfrm>
                <a:off x="4031640" y="5628240"/>
                <a:ext cx="97560" cy="159840"/>
              </a:xfrm>
              <a:custGeom>
                <a:avLst/>
                <a:gdLst/>
                <a:ahLst/>
                <a:rect l="l" t="t" r="r" b="b"/>
                <a:pathLst>
                  <a:path w="136806" h="223708">
                    <a:moveTo>
                      <a:pt x="29598" y="24436"/>
                    </a:moveTo>
                    <a:lnTo>
                      <a:pt x="29598" y="113747"/>
                    </a:lnTo>
                    <a:lnTo>
                      <a:pt x="56271" y="113747"/>
                    </a:lnTo>
                    <a:cubicBezTo>
                      <a:pt x="65220" y="113747"/>
                      <a:pt x="72648" y="112600"/>
                      <a:pt x="78556" y="110305"/>
                    </a:cubicBezTo>
                    <a:cubicBezTo>
                      <a:pt x="84464" y="108011"/>
                      <a:pt x="89426" y="104827"/>
                      <a:pt x="93441" y="100755"/>
                    </a:cubicBezTo>
                    <a:cubicBezTo>
                      <a:pt x="97456" y="96682"/>
                      <a:pt x="100496" y="91806"/>
                      <a:pt x="102561" y="86128"/>
                    </a:cubicBezTo>
                    <a:cubicBezTo>
                      <a:pt x="104626" y="80449"/>
                      <a:pt x="105659" y="74283"/>
                      <a:pt x="105659" y="67629"/>
                    </a:cubicBezTo>
                    <a:cubicBezTo>
                      <a:pt x="105659" y="58566"/>
                      <a:pt x="103967" y="50994"/>
                      <a:pt x="100583" y="44914"/>
                    </a:cubicBezTo>
                    <a:cubicBezTo>
                      <a:pt x="97198" y="38834"/>
                      <a:pt x="93011" y="34302"/>
                      <a:pt x="88020" y="31319"/>
                    </a:cubicBezTo>
                    <a:cubicBezTo>
                      <a:pt x="83030" y="28337"/>
                      <a:pt x="77868" y="26444"/>
                      <a:pt x="72533" y="25641"/>
                    </a:cubicBezTo>
                    <a:cubicBezTo>
                      <a:pt x="67199" y="24838"/>
                      <a:pt x="62007" y="24436"/>
                      <a:pt x="56960" y="24436"/>
                    </a:cubicBezTo>
                    <a:close/>
                    <a:moveTo>
                      <a:pt x="11702" y="0"/>
                    </a:moveTo>
                    <a:lnTo>
                      <a:pt x="59369" y="0"/>
                    </a:lnTo>
                    <a:cubicBezTo>
                      <a:pt x="64187" y="0"/>
                      <a:pt x="68805" y="201"/>
                      <a:pt x="73221" y="603"/>
                    </a:cubicBezTo>
                    <a:cubicBezTo>
                      <a:pt x="77638" y="1004"/>
                      <a:pt x="82858" y="1865"/>
                      <a:pt x="88881" y="3184"/>
                    </a:cubicBezTo>
                    <a:cubicBezTo>
                      <a:pt x="94904" y="4503"/>
                      <a:pt x="101041" y="6970"/>
                      <a:pt x="107294" y="10584"/>
                    </a:cubicBezTo>
                    <a:cubicBezTo>
                      <a:pt x="113546" y="14197"/>
                      <a:pt x="118852" y="18643"/>
                      <a:pt x="123211" y="23920"/>
                    </a:cubicBezTo>
                    <a:cubicBezTo>
                      <a:pt x="127571" y="29197"/>
                      <a:pt x="130926" y="35306"/>
                      <a:pt x="133278" y="42247"/>
                    </a:cubicBezTo>
                    <a:cubicBezTo>
                      <a:pt x="135630" y="49187"/>
                      <a:pt x="136806" y="56845"/>
                      <a:pt x="136806" y="65220"/>
                    </a:cubicBezTo>
                    <a:cubicBezTo>
                      <a:pt x="136806" y="76348"/>
                      <a:pt x="134970" y="86386"/>
                      <a:pt x="131299" y="95334"/>
                    </a:cubicBezTo>
                    <a:cubicBezTo>
                      <a:pt x="127628" y="104282"/>
                      <a:pt x="122380" y="111911"/>
                      <a:pt x="115554" y="118221"/>
                    </a:cubicBezTo>
                    <a:cubicBezTo>
                      <a:pt x="108728" y="124531"/>
                      <a:pt x="100353" y="129407"/>
                      <a:pt x="90430" y="132848"/>
                    </a:cubicBezTo>
                    <a:cubicBezTo>
                      <a:pt x="80506" y="136290"/>
                      <a:pt x="68661" y="138011"/>
                      <a:pt x="54895" y="138011"/>
                    </a:cubicBezTo>
                    <a:lnTo>
                      <a:pt x="29598" y="138011"/>
                    </a:lnTo>
                    <a:lnTo>
                      <a:pt x="29598" y="218201"/>
                    </a:lnTo>
                    <a:cubicBezTo>
                      <a:pt x="29598" y="219119"/>
                      <a:pt x="29340" y="219922"/>
                      <a:pt x="28824" y="220610"/>
                    </a:cubicBezTo>
                    <a:cubicBezTo>
                      <a:pt x="28308" y="221299"/>
                      <a:pt x="27505" y="221844"/>
                      <a:pt x="26415" y="222245"/>
                    </a:cubicBezTo>
                    <a:cubicBezTo>
                      <a:pt x="25325" y="222647"/>
                      <a:pt x="23834" y="222991"/>
                      <a:pt x="21941" y="223278"/>
                    </a:cubicBezTo>
                    <a:cubicBezTo>
                      <a:pt x="20048" y="223564"/>
                      <a:pt x="17667" y="223708"/>
                      <a:pt x="14799" y="223708"/>
                    </a:cubicBezTo>
                    <a:cubicBezTo>
                      <a:pt x="11931" y="223708"/>
                      <a:pt x="9551" y="223564"/>
                      <a:pt x="7658" y="223278"/>
                    </a:cubicBezTo>
                    <a:cubicBezTo>
                      <a:pt x="5765" y="222991"/>
                      <a:pt x="4245" y="222647"/>
                      <a:pt x="3098" y="222245"/>
                    </a:cubicBezTo>
                    <a:cubicBezTo>
                      <a:pt x="1951" y="221844"/>
                      <a:pt x="1147" y="221299"/>
                      <a:pt x="689" y="220610"/>
                    </a:cubicBezTo>
                    <a:cubicBezTo>
                      <a:pt x="230" y="219922"/>
                      <a:pt x="0" y="219119"/>
                      <a:pt x="0" y="218201"/>
                    </a:cubicBezTo>
                    <a:lnTo>
                      <a:pt x="0" y="12735"/>
                    </a:lnTo>
                    <a:cubicBezTo>
                      <a:pt x="0" y="8146"/>
                      <a:pt x="1205" y="4876"/>
                      <a:pt x="3614" y="2926"/>
                    </a:cubicBezTo>
                    <a:cubicBezTo>
                      <a:pt x="6023" y="976"/>
                      <a:pt x="8719" y="0"/>
                      <a:pt x="11702" y="0"/>
                    </a:cubicBez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矩形 293"/>
            <p:cNvSpPr/>
            <p:nvPr/>
          </p:nvSpPr>
          <p:spPr>
            <a:xfrm>
              <a:off x="2617920" y="6840360"/>
              <a:ext cx="96228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294"/>
          <p:cNvGrpSpPr/>
          <p:nvPr/>
        </p:nvGrpSpPr>
        <p:grpSpPr>
          <a:xfrm>
            <a:off x="7866360" y="5292000"/>
            <a:ext cx="263520" cy="315720"/>
            <a:chOff x="7866360" y="5292000"/>
            <a:chExt cx="263520" cy="315720"/>
          </a:xfrm>
        </p:grpSpPr>
        <p:cxnSp>
          <p:nvCxnSpPr>
            <p:cNvPr id="169" name="曲线连接符 295"/>
            <p:cNvCxnSpPr/>
            <p:nvPr/>
          </p:nvCxnSpPr>
          <p:spPr>
            <a:xfrm>
              <a:off x="7890840" y="529740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0" name="曲线连接符 296"/>
            <p:cNvCxnSpPr/>
            <p:nvPr/>
          </p:nvCxnSpPr>
          <p:spPr>
            <a:xfrm>
              <a:off x="7990200" y="5292000"/>
              <a:ext cx="16920" cy="31104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1" name="曲线连接符 297"/>
            <p:cNvCxnSpPr/>
            <p:nvPr/>
          </p:nvCxnSpPr>
          <p:spPr>
            <a:xfrm>
              <a:off x="8089200" y="529704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</p:grpSp>
      <p:grpSp>
        <p:nvGrpSpPr>
          <p:cNvPr id="172" name="组合 298"/>
          <p:cNvGrpSpPr/>
          <p:nvPr/>
        </p:nvGrpSpPr>
        <p:grpSpPr>
          <a:xfrm>
            <a:off x="7866360" y="5290560"/>
            <a:ext cx="263520" cy="315720"/>
            <a:chOff x="7866360" y="5290560"/>
            <a:chExt cx="263520" cy="315720"/>
          </a:xfrm>
        </p:grpSpPr>
        <p:cxnSp>
          <p:nvCxnSpPr>
            <p:cNvPr id="173" name="曲线连接符 299"/>
            <p:cNvCxnSpPr/>
            <p:nvPr/>
          </p:nvCxnSpPr>
          <p:spPr>
            <a:xfrm>
              <a:off x="7890840" y="529596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4" name="曲线连接符 300"/>
            <p:cNvCxnSpPr/>
            <p:nvPr/>
          </p:nvCxnSpPr>
          <p:spPr>
            <a:xfrm>
              <a:off x="7990200" y="5290560"/>
              <a:ext cx="16920" cy="31104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  <p:cxnSp>
          <p:nvCxnSpPr>
            <p:cNvPr id="175" name="曲线连接符 301"/>
            <p:cNvCxnSpPr/>
            <p:nvPr/>
          </p:nvCxnSpPr>
          <p:spPr>
            <a:xfrm>
              <a:off x="8089200" y="5295600"/>
              <a:ext cx="16920" cy="310680"/>
            </a:xfrm>
            <a:prstGeom prst="straightConnector1">
              <a:avLst/>
            </a:prstGeom>
            <a:ln w="9360">
              <a:solidFill>
                <a:srgbClr val="fff2cc"/>
              </a:solidFill>
              <a:miter/>
            </a:ln>
          </p:spPr>
        </p:cxnSp>
      </p:grpSp>
      <p:grpSp>
        <p:nvGrpSpPr>
          <p:cNvPr id="176" name="椅子"/>
          <p:cNvGrpSpPr/>
          <p:nvPr/>
        </p:nvGrpSpPr>
        <p:grpSpPr>
          <a:xfrm>
            <a:off x="2026080" y="5918040"/>
            <a:ext cx="1623240" cy="1007640"/>
            <a:chOff x="2026080" y="5918040"/>
            <a:chExt cx="1623240" cy="1007640"/>
          </a:xfrm>
        </p:grpSpPr>
        <p:grpSp>
          <p:nvGrpSpPr>
            <p:cNvPr id="177" name="Group 4"/>
            <p:cNvGrpSpPr/>
            <p:nvPr/>
          </p:nvGrpSpPr>
          <p:grpSpPr>
            <a:xfrm>
              <a:off x="2026080" y="5918040"/>
              <a:ext cx="1623240" cy="1007640"/>
              <a:chOff x="2026080" y="5918040"/>
              <a:chExt cx="1623240" cy="1007640"/>
            </a:xfrm>
          </p:grpSpPr>
          <p:sp>
            <p:nvSpPr>
              <p:cNvPr id="178" name="Rectangle 5"/>
              <p:cNvSpPr/>
              <p:nvPr/>
            </p:nvSpPr>
            <p:spPr>
              <a:xfrm rot="16576800">
                <a:off x="2551680" y="6289200"/>
                <a:ext cx="802080" cy="82440"/>
              </a:xfrm>
              <a:prstGeom prst="rect">
                <a:avLst/>
              </a:prstGeom>
              <a:solidFill>
                <a:srgbClr val="308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Rectangle 6"/>
              <p:cNvSpPr/>
              <p:nvPr/>
            </p:nvSpPr>
            <p:spPr>
              <a:xfrm rot="16576800">
                <a:off x="2551680" y="6289200"/>
                <a:ext cx="8020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rot="16576800">
                <a:off x="2412000" y="6348240"/>
                <a:ext cx="272880" cy="795960"/>
              </a:xfrm>
              <a:custGeom>
                <a:avLst/>
                <a:gdLst/>
                <a:ahLst/>
                <a:rect l="l" t="t" r="r" b="b"/>
                <a:pathLst>
                  <a:path w="379" h="1106">
                    <a:moveTo>
                      <a:pt x="268" y="1106"/>
                    </a:moveTo>
                    <a:lnTo>
                      <a:pt x="0" y="28"/>
                    </a:lnTo>
                    <a:lnTo>
                      <a:pt x="110" y="0"/>
                    </a:lnTo>
                    <a:lnTo>
                      <a:pt x="379" y="1078"/>
                    </a:lnTo>
                    <a:lnTo>
                      <a:pt x="268" y="1106"/>
                    </a:lnTo>
                    <a:close/>
                  </a:path>
                </a:pathLst>
              </a:custGeom>
              <a:solidFill>
                <a:srgbClr val="3084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Rectangle 8"/>
              <p:cNvSpPr/>
              <p:nvPr/>
            </p:nvSpPr>
            <p:spPr>
              <a:xfrm rot="16576800">
                <a:off x="3187440" y="6101640"/>
                <a:ext cx="134640" cy="52452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Rectangle 9"/>
              <p:cNvSpPr/>
              <p:nvPr/>
            </p:nvSpPr>
            <p:spPr>
              <a:xfrm rot="16576800">
                <a:off x="3187440" y="6101640"/>
                <a:ext cx="13464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10"/>
              <p:cNvSpPr/>
              <p:nvPr/>
            </p:nvSpPr>
            <p:spPr>
              <a:xfrm rot="16576800">
                <a:off x="3086280" y="6348240"/>
                <a:ext cx="802080" cy="8208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Oval 11"/>
              <p:cNvSpPr/>
              <p:nvPr/>
            </p:nvSpPr>
            <p:spPr>
              <a:xfrm rot="16576800">
                <a:off x="3414600" y="6721560"/>
                <a:ext cx="138960" cy="139680"/>
              </a:xfrm>
              <a:prstGeom prst="ellipse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 rot="16576800">
                <a:off x="3502440" y="5925240"/>
                <a:ext cx="139680" cy="139680"/>
              </a:xfrm>
              <a:prstGeom prst="ellipse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13"/>
              <p:cNvSpPr/>
              <p:nvPr/>
            </p:nvSpPr>
            <p:spPr>
              <a:xfrm rot="16576800">
                <a:off x="2974320" y="6292440"/>
                <a:ext cx="134640" cy="95760"/>
              </a:xfrm>
              <a:custGeom>
                <a:avLst/>
                <a:gdLst/>
                <a:ahLst/>
                <a:rect l="l" t="t" r="r" b="b"/>
                <a:pathLst>
                  <a:path w="187" h="133">
                    <a:moveTo>
                      <a:pt x="187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187" y="133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14"/>
              <p:cNvSpPr/>
              <p:nvPr/>
            </p:nvSpPr>
            <p:spPr>
              <a:xfrm rot="16576800">
                <a:off x="2974320" y="6292440"/>
                <a:ext cx="134640" cy="95760"/>
              </a:xfrm>
              <a:custGeom>
                <a:avLst/>
                <a:gdLst/>
                <a:ahLst/>
                <a:rect l="l" t="t" r="r" b="b"/>
                <a:pathLst>
                  <a:path w="187" h="133">
                    <a:moveTo>
                      <a:pt x="187" y="0"/>
                    </a:moveTo>
                    <a:lnTo>
                      <a:pt x="0" y="0"/>
                    </a:lnTo>
                    <a:lnTo>
                      <a:pt x="0" y="91"/>
                    </a:lnTo>
                    <a:lnTo>
                      <a:pt x="187" y="133"/>
                    </a:lnTo>
                    <a:lnTo>
                      <a:pt x="18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Rectangle 15"/>
              <p:cNvSpPr/>
              <p:nvPr/>
            </p:nvSpPr>
            <p:spPr>
              <a:xfrm rot="16576800">
                <a:off x="2578320" y="6266520"/>
                <a:ext cx="600840" cy="70200"/>
              </a:xfrm>
              <a:prstGeom prst="rect">
                <a:avLst/>
              </a:pr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Rectangle 16"/>
              <p:cNvSpPr/>
              <p:nvPr/>
            </p:nvSpPr>
            <p:spPr>
              <a:xfrm rot="16576800">
                <a:off x="2578320" y="6266520"/>
                <a:ext cx="600840" cy="7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17"/>
              <p:cNvSpPr/>
              <p:nvPr/>
            </p:nvSpPr>
            <p:spPr>
              <a:xfrm rot="16576800">
                <a:off x="2183760" y="5859360"/>
                <a:ext cx="531720" cy="793800"/>
              </a:xfrm>
              <a:custGeom>
                <a:avLst/>
                <a:gdLst/>
                <a:ahLst/>
                <a:rect l="l" t="t" r="r" b="b"/>
                <a:pathLst>
                  <a:path w="593" h="887">
                    <a:moveTo>
                      <a:pt x="521" y="93"/>
                    </a:moveTo>
                    <a:cubicBezTo>
                      <a:pt x="486" y="38"/>
                      <a:pt x="399" y="0"/>
                      <a:pt x="297" y="0"/>
                    </a:cubicBezTo>
                    <a:cubicBezTo>
                      <a:pt x="195" y="0"/>
                      <a:pt x="107" y="38"/>
                      <a:pt x="72" y="93"/>
                    </a:cubicBezTo>
                    <a:cubicBezTo>
                      <a:pt x="0" y="93"/>
                      <a:pt x="0" y="93"/>
                      <a:pt x="0" y="93"/>
                    </a:cubicBezTo>
                    <a:cubicBezTo>
                      <a:pt x="0" y="887"/>
                      <a:pt x="0" y="887"/>
                      <a:pt x="0" y="887"/>
                    </a:cubicBezTo>
                    <a:cubicBezTo>
                      <a:pt x="593" y="887"/>
                      <a:pt x="593" y="887"/>
                      <a:pt x="593" y="887"/>
                    </a:cubicBezTo>
                    <a:cubicBezTo>
                      <a:pt x="593" y="93"/>
                      <a:pt x="593" y="93"/>
                      <a:pt x="593" y="93"/>
                    </a:cubicBezTo>
                    <a:cubicBezTo>
                      <a:pt x="521" y="93"/>
                      <a:pt x="521" y="93"/>
                      <a:pt x="521" y="93"/>
                    </a:cubicBezTo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1"/>
              <p:cNvSpPr/>
              <p:nvPr/>
            </p:nvSpPr>
            <p:spPr>
              <a:xfrm rot="16576800">
                <a:off x="2511720" y="6262560"/>
                <a:ext cx="600840" cy="63000"/>
              </a:xfrm>
              <a:custGeom>
                <a:avLst/>
                <a:gdLst/>
                <a:ahLst/>
                <a:rect l="l" t="t" r="r" b="b"/>
                <a:pathLst>
                  <a:path w="834" h="88">
                    <a:moveTo>
                      <a:pt x="784" y="0"/>
                    </a:moveTo>
                    <a:lnTo>
                      <a:pt x="46" y="0"/>
                    </a:lnTo>
                    <a:lnTo>
                      <a:pt x="0" y="88"/>
                    </a:lnTo>
                    <a:lnTo>
                      <a:pt x="834" y="88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2"/>
              <p:cNvSpPr/>
              <p:nvPr/>
            </p:nvSpPr>
            <p:spPr>
              <a:xfrm rot="16576800">
                <a:off x="2511720" y="6262560"/>
                <a:ext cx="600840" cy="63000"/>
              </a:xfrm>
              <a:custGeom>
                <a:avLst/>
                <a:gdLst/>
                <a:ahLst/>
                <a:rect l="l" t="t" r="r" b="b"/>
                <a:pathLst>
                  <a:path w="834" h="88">
                    <a:moveTo>
                      <a:pt x="784" y="0"/>
                    </a:moveTo>
                    <a:lnTo>
                      <a:pt x="46" y="0"/>
                    </a:lnTo>
                    <a:lnTo>
                      <a:pt x="0" y="88"/>
                    </a:lnTo>
                    <a:lnTo>
                      <a:pt x="834" y="88"/>
                    </a:lnTo>
                    <a:lnTo>
                      <a:pt x="78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3"/>
              <p:cNvSpPr/>
              <p:nvPr/>
            </p:nvSpPr>
            <p:spPr>
              <a:xfrm rot="16576800">
                <a:off x="2578320" y="6266520"/>
                <a:ext cx="600840" cy="70200"/>
              </a:xfrm>
              <a:custGeom>
                <a:avLst/>
                <a:gdLst/>
                <a:ahLst/>
                <a:rect l="l" t="t" r="r" b="b"/>
                <a:pathLst>
                  <a:path w="834" h="98">
                    <a:moveTo>
                      <a:pt x="834" y="0"/>
                    </a:moveTo>
                    <a:lnTo>
                      <a:pt x="0" y="0"/>
                    </a:lnTo>
                    <a:lnTo>
                      <a:pt x="0" y="98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49b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4"/>
              <p:cNvSpPr/>
              <p:nvPr/>
            </p:nvSpPr>
            <p:spPr>
              <a:xfrm rot="16576800">
                <a:off x="2578320" y="6266520"/>
                <a:ext cx="600840" cy="70200"/>
              </a:xfrm>
              <a:custGeom>
                <a:avLst/>
                <a:gdLst/>
                <a:ahLst/>
                <a:rect l="l" t="t" r="r" b="b"/>
                <a:pathLst>
                  <a:path w="834" h="98">
                    <a:moveTo>
                      <a:pt x="834" y="0"/>
                    </a:moveTo>
                    <a:lnTo>
                      <a:pt x="0" y="0"/>
                    </a:lnTo>
                    <a:lnTo>
                      <a:pt x="0" y="98"/>
                    </a:lnTo>
                    <a:lnTo>
                      <a:pt x="83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5" name="文本框 306"/>
            <p:cNvSpPr/>
            <p:nvPr/>
          </p:nvSpPr>
          <p:spPr>
            <a:xfrm rot="16576800">
              <a:off x="2403000" y="6157080"/>
              <a:ext cx="97560" cy="159480"/>
            </a:xfrm>
            <a:custGeom>
              <a:avLst/>
              <a:gdLst/>
              <a:ahLst/>
              <a:rect l="l" t="t" r="r" b="b"/>
              <a:pathLst>
                <a:path w="136806" h="223708">
                  <a:moveTo>
                    <a:pt x="29598" y="24436"/>
                  </a:moveTo>
                  <a:lnTo>
                    <a:pt x="29598" y="113747"/>
                  </a:lnTo>
                  <a:lnTo>
                    <a:pt x="56271" y="113747"/>
                  </a:lnTo>
                  <a:cubicBezTo>
                    <a:pt x="65220" y="113747"/>
                    <a:pt x="72648" y="112600"/>
                    <a:pt x="78556" y="110305"/>
                  </a:cubicBezTo>
                  <a:cubicBezTo>
                    <a:pt x="84464" y="108011"/>
                    <a:pt x="89426" y="104827"/>
                    <a:pt x="93441" y="100755"/>
                  </a:cubicBezTo>
                  <a:cubicBezTo>
                    <a:pt x="97456" y="96682"/>
                    <a:pt x="100496" y="91806"/>
                    <a:pt x="102561" y="86128"/>
                  </a:cubicBezTo>
                  <a:cubicBezTo>
                    <a:pt x="104626" y="80449"/>
                    <a:pt x="105659" y="74283"/>
                    <a:pt x="105659" y="67629"/>
                  </a:cubicBezTo>
                  <a:cubicBezTo>
                    <a:pt x="105659" y="58566"/>
                    <a:pt x="103967" y="50994"/>
                    <a:pt x="100583" y="44914"/>
                  </a:cubicBezTo>
                  <a:cubicBezTo>
                    <a:pt x="97198" y="38834"/>
                    <a:pt x="93011" y="34302"/>
                    <a:pt x="88020" y="31319"/>
                  </a:cubicBezTo>
                  <a:cubicBezTo>
                    <a:pt x="83030" y="28337"/>
                    <a:pt x="77868" y="26444"/>
                    <a:pt x="72533" y="25641"/>
                  </a:cubicBezTo>
                  <a:cubicBezTo>
                    <a:pt x="67199" y="24838"/>
                    <a:pt x="62007" y="24436"/>
                    <a:pt x="56960" y="24436"/>
                  </a:cubicBezTo>
                  <a:close/>
                  <a:moveTo>
                    <a:pt x="11702" y="0"/>
                  </a:moveTo>
                  <a:lnTo>
                    <a:pt x="59369" y="0"/>
                  </a:lnTo>
                  <a:cubicBezTo>
                    <a:pt x="64187" y="0"/>
                    <a:pt x="68805" y="201"/>
                    <a:pt x="73221" y="603"/>
                  </a:cubicBezTo>
                  <a:cubicBezTo>
                    <a:pt x="77638" y="1004"/>
                    <a:pt x="82858" y="1865"/>
                    <a:pt x="88881" y="3184"/>
                  </a:cubicBezTo>
                  <a:cubicBezTo>
                    <a:pt x="94904" y="4503"/>
                    <a:pt x="101041" y="6970"/>
                    <a:pt x="107294" y="10584"/>
                  </a:cubicBezTo>
                  <a:cubicBezTo>
                    <a:pt x="113546" y="14197"/>
                    <a:pt x="118852" y="18643"/>
                    <a:pt x="123211" y="23920"/>
                  </a:cubicBezTo>
                  <a:cubicBezTo>
                    <a:pt x="127571" y="29197"/>
                    <a:pt x="130926" y="35306"/>
                    <a:pt x="133278" y="42247"/>
                  </a:cubicBezTo>
                  <a:cubicBezTo>
                    <a:pt x="135630" y="49187"/>
                    <a:pt x="136806" y="56845"/>
                    <a:pt x="136806" y="65220"/>
                  </a:cubicBezTo>
                  <a:cubicBezTo>
                    <a:pt x="136806" y="76348"/>
                    <a:pt x="134970" y="86386"/>
                    <a:pt x="131299" y="95334"/>
                  </a:cubicBezTo>
                  <a:cubicBezTo>
                    <a:pt x="127628" y="104282"/>
                    <a:pt x="122380" y="111911"/>
                    <a:pt x="115554" y="118221"/>
                  </a:cubicBezTo>
                  <a:cubicBezTo>
                    <a:pt x="108728" y="124531"/>
                    <a:pt x="100353" y="129407"/>
                    <a:pt x="90430" y="132848"/>
                  </a:cubicBezTo>
                  <a:cubicBezTo>
                    <a:pt x="80506" y="136290"/>
                    <a:pt x="68661" y="138011"/>
                    <a:pt x="54895" y="138011"/>
                  </a:cubicBezTo>
                  <a:lnTo>
                    <a:pt x="29598" y="138011"/>
                  </a:lnTo>
                  <a:lnTo>
                    <a:pt x="29598" y="218201"/>
                  </a:lnTo>
                  <a:cubicBezTo>
                    <a:pt x="29598" y="219119"/>
                    <a:pt x="29340" y="219922"/>
                    <a:pt x="28824" y="220610"/>
                  </a:cubicBezTo>
                  <a:cubicBezTo>
                    <a:pt x="28308" y="221299"/>
                    <a:pt x="27505" y="221844"/>
                    <a:pt x="26415" y="222245"/>
                  </a:cubicBezTo>
                  <a:cubicBezTo>
                    <a:pt x="25325" y="222647"/>
                    <a:pt x="23834" y="222991"/>
                    <a:pt x="21941" y="223278"/>
                  </a:cubicBezTo>
                  <a:cubicBezTo>
                    <a:pt x="20048" y="223564"/>
                    <a:pt x="17667" y="223708"/>
                    <a:pt x="14799" y="223708"/>
                  </a:cubicBezTo>
                  <a:cubicBezTo>
                    <a:pt x="11931" y="223708"/>
                    <a:pt x="9551" y="223564"/>
                    <a:pt x="7658" y="223278"/>
                  </a:cubicBezTo>
                  <a:cubicBezTo>
                    <a:pt x="5765" y="222991"/>
                    <a:pt x="4245" y="222647"/>
                    <a:pt x="3098" y="222245"/>
                  </a:cubicBezTo>
                  <a:cubicBezTo>
                    <a:pt x="1951" y="221844"/>
                    <a:pt x="1147" y="221299"/>
                    <a:pt x="689" y="220610"/>
                  </a:cubicBezTo>
                  <a:cubicBezTo>
                    <a:pt x="230" y="219922"/>
                    <a:pt x="0" y="219119"/>
                    <a:pt x="0" y="218201"/>
                  </a:cubicBezTo>
                  <a:lnTo>
                    <a:pt x="0" y="12735"/>
                  </a:lnTo>
                  <a:cubicBezTo>
                    <a:pt x="0" y="8146"/>
                    <a:pt x="1205" y="4876"/>
                    <a:pt x="3614" y="2926"/>
                  </a:cubicBezTo>
                  <a:cubicBezTo>
                    <a:pt x="6023" y="976"/>
                    <a:pt x="8719" y="0"/>
                    <a:pt x="11702" y="0"/>
                  </a:cubicBez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死神"/>
          <p:cNvGrpSpPr/>
          <p:nvPr/>
        </p:nvGrpSpPr>
        <p:grpSpPr>
          <a:xfrm>
            <a:off x="2227320" y="2357280"/>
            <a:ext cx="4797360" cy="4835520"/>
            <a:chOff x="2227320" y="2357280"/>
            <a:chExt cx="4797360" cy="4835520"/>
          </a:xfrm>
        </p:grpSpPr>
        <p:sp>
          <p:nvSpPr>
            <p:cNvPr id="197" name="Freeform 209"/>
            <p:cNvSpPr/>
            <p:nvPr/>
          </p:nvSpPr>
          <p:spPr>
            <a:xfrm>
              <a:off x="3281760" y="3413880"/>
              <a:ext cx="2503080" cy="3217320"/>
            </a:xfrm>
            <a:custGeom>
              <a:avLst/>
              <a:gdLst/>
              <a:ahLst/>
              <a:rect l="l" t="t" r="r" b="b"/>
              <a:pathLst>
                <a:path w="1163" h="1495">
                  <a:moveTo>
                    <a:pt x="1163" y="1459"/>
                  </a:moveTo>
                  <a:lnTo>
                    <a:pt x="1117" y="1495"/>
                  </a:lnTo>
                  <a:lnTo>
                    <a:pt x="0" y="35"/>
                  </a:lnTo>
                  <a:lnTo>
                    <a:pt x="47" y="0"/>
                  </a:lnTo>
                  <a:lnTo>
                    <a:pt x="1163" y="1459"/>
                  </a:lnTo>
                  <a:close/>
                </a:path>
              </a:pathLst>
            </a:cu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210"/>
            <p:cNvSpPr/>
            <p:nvPr/>
          </p:nvSpPr>
          <p:spPr>
            <a:xfrm>
              <a:off x="2270160" y="3618360"/>
              <a:ext cx="1342800" cy="1820520"/>
            </a:xfrm>
            <a:custGeom>
              <a:avLst/>
              <a:gdLst/>
              <a:ahLst/>
              <a:rect l="l" t="t" r="r" b="b"/>
              <a:pathLst>
                <a:path w="707" h="958">
                  <a:moveTo>
                    <a:pt x="582" y="0"/>
                  </a:moveTo>
                  <a:cubicBezTo>
                    <a:pt x="582" y="0"/>
                    <a:pt x="0" y="359"/>
                    <a:pt x="649" y="958"/>
                  </a:cubicBezTo>
                  <a:cubicBezTo>
                    <a:pt x="649" y="958"/>
                    <a:pt x="267" y="401"/>
                    <a:pt x="707" y="166"/>
                  </a:cubicBezTo>
                  <a:lnTo>
                    <a:pt x="58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211"/>
            <p:cNvSpPr/>
            <p:nvPr/>
          </p:nvSpPr>
          <p:spPr>
            <a:xfrm>
              <a:off x="2227320" y="3562200"/>
              <a:ext cx="1344960" cy="1837800"/>
            </a:xfrm>
            <a:custGeom>
              <a:avLst/>
              <a:gdLst/>
              <a:ahLst/>
              <a:rect l="l" t="t" r="r" b="b"/>
              <a:pathLst>
                <a:path w="708" h="968">
                  <a:moveTo>
                    <a:pt x="583" y="0"/>
                  </a:moveTo>
                  <a:cubicBezTo>
                    <a:pt x="583" y="0"/>
                    <a:pt x="0" y="363"/>
                    <a:pt x="650" y="968"/>
                  </a:cubicBezTo>
                  <a:cubicBezTo>
                    <a:pt x="650" y="968"/>
                    <a:pt x="267" y="405"/>
                    <a:pt x="708" y="168"/>
                  </a:cubicBezTo>
                  <a:lnTo>
                    <a:pt x="58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212"/>
            <p:cNvSpPr/>
            <p:nvPr/>
          </p:nvSpPr>
          <p:spPr>
            <a:xfrm>
              <a:off x="4261320" y="4455360"/>
              <a:ext cx="849960" cy="808920"/>
            </a:xfrm>
            <a:custGeom>
              <a:avLst/>
              <a:gdLst/>
              <a:ahLst/>
              <a:rect l="l" t="t" r="r" b="b"/>
              <a:pathLst>
                <a:path w="448" h="426">
                  <a:moveTo>
                    <a:pt x="399" y="65"/>
                  </a:moveTo>
                  <a:cubicBezTo>
                    <a:pt x="439" y="113"/>
                    <a:pt x="448" y="170"/>
                    <a:pt x="419" y="194"/>
                  </a:cubicBezTo>
                  <a:cubicBezTo>
                    <a:pt x="171" y="402"/>
                    <a:pt x="171" y="402"/>
                    <a:pt x="171" y="402"/>
                  </a:cubicBezTo>
                  <a:cubicBezTo>
                    <a:pt x="143" y="426"/>
                    <a:pt x="88" y="407"/>
                    <a:pt x="48" y="360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9" y="313"/>
                    <a:pt x="0" y="255"/>
                    <a:pt x="29" y="231"/>
                  </a:cubicBezTo>
                  <a:cubicBezTo>
                    <a:pt x="276" y="24"/>
                    <a:pt x="276" y="24"/>
                    <a:pt x="276" y="24"/>
                  </a:cubicBezTo>
                  <a:cubicBezTo>
                    <a:pt x="305" y="0"/>
                    <a:pt x="360" y="18"/>
                    <a:pt x="399" y="65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213">
              <a:hlinkClick r:id="rId2"/>
            </p:cNvPr>
            <p:cNvSpPr/>
            <p:nvPr/>
          </p:nvSpPr>
          <p:spPr>
            <a:xfrm>
              <a:off x="4732560" y="2357280"/>
              <a:ext cx="2292120" cy="4835520"/>
            </a:xfrm>
            <a:custGeom>
              <a:avLst/>
              <a:gdLst/>
              <a:ahLst/>
              <a:rect l="l" t="t" r="r" b="b"/>
              <a:pathLst>
                <a:path w="1065" h="2247">
                  <a:moveTo>
                    <a:pt x="0" y="314"/>
                  </a:moveTo>
                  <a:lnTo>
                    <a:pt x="0" y="2247"/>
                  </a:lnTo>
                  <a:lnTo>
                    <a:pt x="2" y="2247"/>
                  </a:lnTo>
                  <a:lnTo>
                    <a:pt x="79" y="2114"/>
                  </a:lnTo>
                  <a:lnTo>
                    <a:pt x="155" y="2247"/>
                  </a:lnTo>
                  <a:lnTo>
                    <a:pt x="161" y="2247"/>
                  </a:lnTo>
                  <a:lnTo>
                    <a:pt x="237" y="2114"/>
                  </a:lnTo>
                  <a:lnTo>
                    <a:pt x="313" y="2247"/>
                  </a:lnTo>
                  <a:lnTo>
                    <a:pt x="319" y="2247"/>
                  </a:lnTo>
                  <a:lnTo>
                    <a:pt x="395" y="2114"/>
                  </a:lnTo>
                  <a:lnTo>
                    <a:pt x="471" y="2247"/>
                  </a:lnTo>
                  <a:lnTo>
                    <a:pt x="477" y="2247"/>
                  </a:lnTo>
                  <a:lnTo>
                    <a:pt x="553" y="2114"/>
                  </a:lnTo>
                  <a:lnTo>
                    <a:pt x="630" y="2247"/>
                  </a:lnTo>
                  <a:lnTo>
                    <a:pt x="635" y="2247"/>
                  </a:lnTo>
                  <a:lnTo>
                    <a:pt x="711" y="2114"/>
                  </a:lnTo>
                  <a:lnTo>
                    <a:pt x="788" y="2247"/>
                  </a:lnTo>
                  <a:lnTo>
                    <a:pt x="793" y="2247"/>
                  </a:lnTo>
                  <a:lnTo>
                    <a:pt x="869" y="2114"/>
                  </a:lnTo>
                  <a:lnTo>
                    <a:pt x="946" y="2247"/>
                  </a:lnTo>
                  <a:lnTo>
                    <a:pt x="949" y="2247"/>
                  </a:lnTo>
                  <a:lnTo>
                    <a:pt x="949" y="314"/>
                  </a:lnTo>
                  <a:lnTo>
                    <a:pt x="1065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组合 234"/>
            <p:cNvGrpSpPr/>
            <p:nvPr/>
          </p:nvGrpSpPr>
          <p:grpSpPr>
            <a:xfrm>
              <a:off x="5111640" y="3252240"/>
              <a:ext cx="1291320" cy="1252440"/>
              <a:chOff x="5111640" y="3252240"/>
              <a:chExt cx="1291320" cy="1252440"/>
            </a:xfrm>
          </p:grpSpPr>
          <p:sp>
            <p:nvSpPr>
              <p:cNvPr id="203" name="Freeform 214"/>
              <p:cNvSpPr/>
              <p:nvPr/>
            </p:nvSpPr>
            <p:spPr>
              <a:xfrm>
                <a:off x="5111640" y="3252240"/>
                <a:ext cx="1291320" cy="985680"/>
              </a:xfrm>
              <a:custGeom>
                <a:avLst/>
                <a:gdLst/>
                <a:ahLst/>
                <a:rect l="l" t="t" r="r" b="b"/>
                <a:pathLst>
                  <a:path w="600" h="458">
                    <a:moveTo>
                      <a:pt x="569" y="0"/>
                    </a:moveTo>
                    <a:lnTo>
                      <a:pt x="37" y="0"/>
                    </a:lnTo>
                    <a:lnTo>
                      <a:pt x="0" y="34"/>
                    </a:lnTo>
                    <a:lnTo>
                      <a:pt x="0" y="424"/>
                    </a:lnTo>
                    <a:lnTo>
                      <a:pt x="35" y="458"/>
                    </a:lnTo>
                    <a:lnTo>
                      <a:pt x="569" y="456"/>
                    </a:lnTo>
                    <a:lnTo>
                      <a:pt x="600" y="424"/>
                    </a:lnTo>
                    <a:lnTo>
                      <a:pt x="600" y="34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215"/>
              <p:cNvSpPr/>
              <p:nvPr/>
            </p:nvSpPr>
            <p:spPr>
              <a:xfrm>
                <a:off x="5505480" y="4115160"/>
                <a:ext cx="507960" cy="389520"/>
              </a:xfrm>
              <a:custGeom>
                <a:avLst/>
                <a:gdLst/>
                <a:ahLst/>
                <a:rect l="l" t="t" r="r" b="b"/>
                <a:pathLst>
                  <a:path w="236" h="181">
                    <a:moveTo>
                      <a:pt x="13" y="181"/>
                    </a:moveTo>
                    <a:lnTo>
                      <a:pt x="222" y="181"/>
                    </a:lnTo>
                    <a:lnTo>
                      <a:pt x="236" y="167"/>
                    </a:lnTo>
                    <a:lnTo>
                      <a:pt x="236" y="14"/>
                    </a:lnTo>
                    <a:lnTo>
                      <a:pt x="223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0" y="167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Oval 216"/>
              <p:cNvSpPr/>
              <p:nvPr/>
            </p:nvSpPr>
            <p:spPr>
              <a:xfrm>
                <a:off x="5151240" y="3497400"/>
                <a:ext cx="546480" cy="54648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Oval 217"/>
              <p:cNvSpPr/>
              <p:nvPr/>
            </p:nvSpPr>
            <p:spPr>
              <a:xfrm>
                <a:off x="5816520" y="3497400"/>
                <a:ext cx="546480" cy="54648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Rectangle 218"/>
              <p:cNvSpPr/>
              <p:nvPr/>
            </p:nvSpPr>
            <p:spPr>
              <a:xfrm>
                <a:off x="5565600" y="4250880"/>
                <a:ext cx="40680" cy="25380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Rectangle 219"/>
              <p:cNvSpPr/>
              <p:nvPr/>
            </p:nvSpPr>
            <p:spPr>
              <a:xfrm>
                <a:off x="5729400" y="4250880"/>
                <a:ext cx="40680" cy="25380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Rectangle 220"/>
              <p:cNvSpPr/>
              <p:nvPr/>
            </p:nvSpPr>
            <p:spPr>
              <a:xfrm>
                <a:off x="5882040" y="4250880"/>
                <a:ext cx="40680" cy="25380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221"/>
              <p:cNvSpPr/>
              <p:nvPr/>
            </p:nvSpPr>
            <p:spPr>
              <a:xfrm>
                <a:off x="5654880" y="4039920"/>
                <a:ext cx="176400" cy="15264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0" y="71"/>
                    </a:moveTo>
                    <a:lnTo>
                      <a:pt x="41" y="0"/>
                    </a:lnTo>
                    <a:lnTo>
                      <a:pt x="82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1" name="Freeform 222"/>
            <p:cNvSpPr/>
            <p:nvPr/>
          </p:nvSpPr>
          <p:spPr>
            <a:xfrm>
              <a:off x="5469120" y="4871520"/>
              <a:ext cx="830520" cy="791640"/>
            </a:xfrm>
            <a:custGeom>
              <a:avLst/>
              <a:gdLst/>
              <a:ahLst/>
              <a:rect l="l" t="t" r="r" b="b"/>
              <a:pathLst>
                <a:path w="437" h="417">
                  <a:moveTo>
                    <a:pt x="388" y="66"/>
                  </a:moveTo>
                  <a:cubicBezTo>
                    <a:pt x="427" y="113"/>
                    <a:pt x="437" y="170"/>
                    <a:pt x="409" y="193"/>
                  </a:cubicBezTo>
                  <a:cubicBezTo>
                    <a:pt x="170" y="394"/>
                    <a:pt x="170" y="394"/>
                    <a:pt x="170" y="394"/>
                  </a:cubicBezTo>
                  <a:cubicBezTo>
                    <a:pt x="142" y="417"/>
                    <a:pt x="88" y="397"/>
                    <a:pt x="49" y="350"/>
                  </a:cubicBezTo>
                  <a:cubicBezTo>
                    <a:pt x="49" y="350"/>
                    <a:pt x="49" y="350"/>
                    <a:pt x="49" y="350"/>
                  </a:cubicBezTo>
                  <a:cubicBezTo>
                    <a:pt x="9" y="303"/>
                    <a:pt x="0" y="246"/>
                    <a:pt x="27" y="223"/>
                  </a:cubicBezTo>
                  <a:cubicBezTo>
                    <a:pt x="266" y="23"/>
                    <a:pt x="266" y="23"/>
                    <a:pt x="266" y="23"/>
                  </a:cubicBezTo>
                  <a:cubicBezTo>
                    <a:pt x="294" y="0"/>
                    <a:pt x="348" y="19"/>
                    <a:pt x="388" y="66"/>
                  </a:cubicBezTo>
                  <a:close/>
                </a:path>
              </a:pathLst>
            </a:custGeom>
            <a:solidFill>
              <a:srgbClr val="324353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组合 71" descr=""/>
          <p:cNvPicPr/>
          <p:nvPr/>
        </p:nvPicPr>
        <p:blipFill>
          <a:blip r:embed="rId3"/>
          <a:stretch/>
        </p:blipFill>
        <p:spPr>
          <a:xfrm>
            <a:off x="7334280" y="2584440"/>
            <a:ext cx="4602240" cy="3038400"/>
          </a:xfrm>
          <a:prstGeom prst="rect">
            <a:avLst/>
          </a:prstGeom>
          <a:ln w="0">
            <a:noFill/>
          </a:ln>
        </p:spPr>
      </p:pic>
      <p:pic>
        <p:nvPicPr>
          <p:cNvPr id="213" name="Plants Vs. Zombies" descr=""/>
          <p:cNvPicPr/>
          <p:nvPr/>
        </p:nvPicPr>
        <p:blipFill>
          <a:blip r:embed="rId4"/>
          <a:stretch/>
        </p:blipFill>
        <p:spPr>
          <a:xfrm>
            <a:off x="5791320" y="-13572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5"/>
          <p:cNvGrpSpPr/>
          <p:nvPr/>
        </p:nvGrpSpPr>
        <p:grpSpPr>
          <a:xfrm>
            <a:off x="49320" y="1003320"/>
            <a:ext cx="3795480" cy="566640"/>
            <a:chOff x="49320" y="1003320"/>
            <a:chExt cx="3795480" cy="566640"/>
          </a:xfrm>
        </p:grpSpPr>
        <p:sp>
          <p:nvSpPr>
            <p:cNvPr id="215" name="任意多边形 148"/>
            <p:cNvSpPr/>
            <p:nvPr/>
          </p:nvSpPr>
          <p:spPr>
            <a:xfrm>
              <a:off x="49320" y="1012680"/>
              <a:ext cx="3075480" cy="557280"/>
            </a:xfrm>
            <a:custGeom>
              <a:avLst/>
              <a:gdLst/>
              <a:ahLst/>
              <a:rect l="l" t="t" r="r" b="b"/>
              <a:pathLst>
                <a:path w="3076092" h="557101">
                  <a:moveTo>
                    <a:pt x="2671242" y="79586"/>
                  </a:moveTo>
                  <a:lnTo>
                    <a:pt x="2671242" y="242217"/>
                  </a:lnTo>
                  <a:lnTo>
                    <a:pt x="2972284" y="242217"/>
                  </a:lnTo>
                  <a:lnTo>
                    <a:pt x="2972284" y="79586"/>
                  </a:lnTo>
                  <a:close/>
                  <a:moveTo>
                    <a:pt x="766242" y="79586"/>
                  </a:moveTo>
                  <a:lnTo>
                    <a:pt x="766242" y="259519"/>
                  </a:lnTo>
                  <a:lnTo>
                    <a:pt x="1056903" y="259519"/>
                  </a:lnTo>
                  <a:lnTo>
                    <a:pt x="1056903" y="79586"/>
                  </a:lnTo>
                  <a:close/>
                  <a:moveTo>
                    <a:pt x="89967" y="79586"/>
                  </a:moveTo>
                  <a:lnTo>
                    <a:pt x="89967" y="259519"/>
                  </a:lnTo>
                  <a:lnTo>
                    <a:pt x="380628" y="259519"/>
                  </a:lnTo>
                  <a:lnTo>
                    <a:pt x="380628" y="79586"/>
                  </a:lnTo>
                  <a:close/>
                  <a:moveTo>
                    <a:pt x="2581275" y="0"/>
                  </a:moveTo>
                  <a:lnTo>
                    <a:pt x="3058790" y="0"/>
                  </a:lnTo>
                  <a:lnTo>
                    <a:pt x="3058790" y="321803"/>
                  </a:lnTo>
                  <a:lnTo>
                    <a:pt x="2916920" y="321803"/>
                  </a:lnTo>
                  <a:lnTo>
                    <a:pt x="3076092" y="557101"/>
                  </a:lnTo>
                  <a:lnTo>
                    <a:pt x="2972284" y="557101"/>
                  </a:lnTo>
                  <a:lnTo>
                    <a:pt x="2813112" y="321803"/>
                  </a:lnTo>
                  <a:lnTo>
                    <a:pt x="2671242" y="321803"/>
                  </a:lnTo>
                  <a:lnTo>
                    <a:pt x="2671242" y="557101"/>
                  </a:lnTo>
                  <a:lnTo>
                    <a:pt x="2581275" y="557101"/>
                  </a:lnTo>
                  <a:close/>
                  <a:moveTo>
                    <a:pt x="1971675" y="0"/>
                  </a:moveTo>
                  <a:lnTo>
                    <a:pt x="2407667" y="0"/>
                  </a:lnTo>
                  <a:lnTo>
                    <a:pt x="2407667" y="79586"/>
                  </a:lnTo>
                  <a:lnTo>
                    <a:pt x="2061642" y="79586"/>
                  </a:lnTo>
                  <a:lnTo>
                    <a:pt x="2061642" y="235297"/>
                  </a:lnTo>
                  <a:lnTo>
                    <a:pt x="2328081" y="235297"/>
                  </a:lnTo>
                  <a:lnTo>
                    <a:pt x="2328081" y="321803"/>
                  </a:lnTo>
                  <a:lnTo>
                    <a:pt x="2061642" y="321803"/>
                  </a:lnTo>
                  <a:lnTo>
                    <a:pt x="2061642" y="477515"/>
                  </a:lnTo>
                  <a:lnTo>
                    <a:pt x="2407667" y="477515"/>
                  </a:lnTo>
                  <a:lnTo>
                    <a:pt x="2407667" y="557101"/>
                  </a:lnTo>
                  <a:lnTo>
                    <a:pt x="1971675" y="557101"/>
                  </a:lnTo>
                  <a:close/>
                  <a:moveTo>
                    <a:pt x="1317948" y="0"/>
                  </a:moveTo>
                  <a:lnTo>
                    <a:pt x="1798923" y="0"/>
                  </a:lnTo>
                  <a:lnTo>
                    <a:pt x="1798923" y="76125"/>
                  </a:lnTo>
                  <a:lnTo>
                    <a:pt x="1601689" y="76125"/>
                  </a:lnTo>
                  <a:lnTo>
                    <a:pt x="1601689" y="557101"/>
                  </a:lnTo>
                  <a:lnTo>
                    <a:pt x="1515182" y="557101"/>
                  </a:lnTo>
                  <a:lnTo>
                    <a:pt x="1515182" y="76125"/>
                  </a:lnTo>
                  <a:lnTo>
                    <a:pt x="1317948" y="76125"/>
                  </a:lnTo>
                  <a:close/>
                  <a:moveTo>
                    <a:pt x="676275" y="0"/>
                  </a:moveTo>
                  <a:lnTo>
                    <a:pt x="1146870" y="0"/>
                  </a:lnTo>
                  <a:lnTo>
                    <a:pt x="1146870" y="339105"/>
                  </a:lnTo>
                  <a:lnTo>
                    <a:pt x="766242" y="339105"/>
                  </a:lnTo>
                  <a:lnTo>
                    <a:pt x="766242" y="557101"/>
                  </a:lnTo>
                  <a:lnTo>
                    <a:pt x="676275" y="557101"/>
                  </a:lnTo>
                  <a:close/>
                  <a:moveTo>
                    <a:pt x="0" y="0"/>
                  </a:moveTo>
                  <a:lnTo>
                    <a:pt x="470595" y="0"/>
                  </a:lnTo>
                  <a:lnTo>
                    <a:pt x="470595" y="339105"/>
                  </a:lnTo>
                  <a:lnTo>
                    <a:pt x="89967" y="339105"/>
                  </a:lnTo>
                  <a:lnTo>
                    <a:pt x="89967" y="557101"/>
                  </a:lnTo>
                  <a:lnTo>
                    <a:pt x="0" y="557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49"/>
            <p:cNvSpPr/>
            <p:nvPr/>
          </p:nvSpPr>
          <p:spPr>
            <a:xfrm>
              <a:off x="3269160" y="1003320"/>
              <a:ext cx="575640" cy="563040"/>
            </a:xfrm>
            <a:custGeom>
              <a:avLst/>
              <a:gdLst/>
              <a:ahLst/>
              <a:rect l="l" t="t" r="r" b="b"/>
              <a:pathLst>
                <a:path w="575965" h="562571">
                  <a:moveTo>
                    <a:pt x="66973" y="316111"/>
                  </a:moveTo>
                  <a:lnTo>
                    <a:pt x="66973" y="503635"/>
                  </a:lnTo>
                  <a:lnTo>
                    <a:pt x="195560" y="503635"/>
                  </a:lnTo>
                  <a:lnTo>
                    <a:pt x="195560" y="316111"/>
                  </a:lnTo>
                  <a:close/>
                  <a:moveTo>
                    <a:pt x="391120" y="208955"/>
                  </a:moveTo>
                  <a:lnTo>
                    <a:pt x="450056" y="345579"/>
                  </a:lnTo>
                  <a:lnTo>
                    <a:pt x="401836" y="391120"/>
                  </a:lnTo>
                  <a:lnTo>
                    <a:pt x="342900" y="254496"/>
                  </a:lnTo>
                  <a:close/>
                  <a:moveTo>
                    <a:pt x="66973" y="99120"/>
                  </a:moveTo>
                  <a:lnTo>
                    <a:pt x="66973" y="257175"/>
                  </a:lnTo>
                  <a:lnTo>
                    <a:pt x="195560" y="257175"/>
                  </a:lnTo>
                  <a:lnTo>
                    <a:pt x="195560" y="99120"/>
                  </a:lnTo>
                  <a:close/>
                  <a:moveTo>
                    <a:pt x="342900" y="5358"/>
                  </a:moveTo>
                  <a:lnTo>
                    <a:pt x="378700" y="24110"/>
                  </a:lnTo>
                  <a:lnTo>
                    <a:pt x="575965" y="24110"/>
                  </a:lnTo>
                  <a:lnTo>
                    <a:pt x="570607" y="562571"/>
                  </a:lnTo>
                  <a:lnTo>
                    <a:pt x="399157" y="562571"/>
                  </a:lnTo>
                  <a:lnTo>
                    <a:pt x="399157" y="503635"/>
                  </a:lnTo>
                  <a:lnTo>
                    <a:pt x="503635" y="503635"/>
                  </a:lnTo>
                  <a:lnTo>
                    <a:pt x="508992" y="83046"/>
                  </a:lnTo>
                  <a:lnTo>
                    <a:pt x="387676" y="83046"/>
                  </a:lnTo>
                  <a:lnTo>
                    <a:pt x="358974" y="203597"/>
                  </a:lnTo>
                  <a:lnTo>
                    <a:pt x="302717" y="174129"/>
                  </a:lnTo>
                  <a:close/>
                  <a:moveTo>
                    <a:pt x="93762" y="0"/>
                  </a:moveTo>
                  <a:lnTo>
                    <a:pt x="163413" y="10716"/>
                  </a:lnTo>
                  <a:lnTo>
                    <a:pt x="155377" y="40184"/>
                  </a:lnTo>
                  <a:lnTo>
                    <a:pt x="259854" y="40184"/>
                  </a:lnTo>
                  <a:lnTo>
                    <a:pt x="259854" y="562571"/>
                  </a:lnTo>
                  <a:lnTo>
                    <a:pt x="0" y="562571"/>
                  </a:lnTo>
                  <a:lnTo>
                    <a:pt x="0" y="40184"/>
                  </a:lnTo>
                  <a:lnTo>
                    <a:pt x="80367" y="40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6"/>
          <p:cNvSpPr/>
          <p:nvPr/>
        </p:nvSpPr>
        <p:spPr>
          <a:xfrm>
            <a:off x="1144440" y="209520"/>
            <a:ext cx="87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ER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死法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卡通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7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2" presetSubtype="4">
                                  <p:stCondLst>
                                    <p:cond delay="435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7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4750"/>
                                  </p:stCondLst>
                                  <p:childTnLst>
                                    <p:animRot by="-5040000">
                                      <p:cBhvr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autoRev="1" nodeType="withEffect" fill="hold" presetClass="emph" presetID="8">
                                  <p:stCondLst>
                                    <p:cond delay="5250"/>
                                  </p:stCondLst>
                                  <p:childTnLst>
                                    <p:animRot by="480000">
                                      <p:cBhvr>
                                        <p:cTn id="91" dur="2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10">
                                  <p:stCondLst>
                                    <p:cond delay="63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">
                                  <p:stCondLst>
                                    <p:cond delay="635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1">
                                  <p:stCondLst>
                                    <p:cond delay="63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63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68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8">
                                  <p:stCondLst>
                                    <p:cond delay="7600"/>
                                  </p:stCondLst>
                                  <p:childTnLst>
                                    <p:animRot by="-1980000">
                                      <p:cBhvr>
                                        <p:cTn id="112" dur="2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autoRev="1" nodeType="withEffect" fill="hold" presetClass="emph" presetID="6" repeatCount="2000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7" dur="1450" fill="hold"/>
                                        <p:tgtEl>
                                          <p:spTgt spid="19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33112 -1.23866 C -0.32018 -1.21575 -0.30964 -1.1919 -0.29674 -1.172 C -0.28568 -1.15464 -0.27474 -1.13658 -0.26237 -1.122 C -0.1918 -1.03681 -0.16549 -1.02223 -0.08112 -0.95533 C -0.07813 -0.95278 -0.07487 -0.95163 -0.07174 -0.94977 C -0.01484 -0.91227 -0.03984 -0.92431 -0.00924 -0.91089 C 0.03398 -0.86459 -0.03516 -0.93658 0.04388 -0.86644 C 0.05052 -0.86042 0.05599 -0.85047 0.06263 -0.84422 C 0.08568 -0.82246 0.08867 -0.8213 0.10638 -0.81089 C 0.11367 -0.79977 0.1207 -0.7882 0.12826 -0.77755 C 0.13216 -0.77153 0.13698 -0.76737 0.14076 -0.76089 C 0.15612 -0.73357 0.16667 -0.7051 0.17826 -0.67223 C 0.18268 -0.6595 0.18659 -0.6463 0.19076 -0.63334 C 0.18971 -0.61482 0.19115 -0.59514 0.18763 -0.57778 C 0.1832 -0.55602 0.16901 -0.55232 0.15951 -0.54445 C 0.15195 -0.5382 0.12747 -0.51714 0.11888 -0.50556 C 0.11107 -0.49514 0.10482 -0.48195 0.09701 -0.47223 C 0.0901 -0.46343 0.08177 -0.45903 0.07513 -0.45001 C 0.02513 -0.38172 0.10104 -0.45093 0.01263 -0.36112 C -0.00195 -0.3463 -0.01758 -0.33403 -0.03112 -0.31667 C -0.03841 -0.30741 -0.04557 -0.29769 -0.05299 -0.28889 C -0.06745 -0.27177 -0.08451 -0.26065 -0.09674 -0.23889 C -0.1099 -0.21552 -0.10182 -0.22362 -0.12174 -0.21667 C -0.12695 -0.20556 -0.13294 -0.19538 -0.13737 -0.18334 C -0.13932 -0.17848 -0.13932 -0.172 -0.14049 -0.16667 C -0.14245 -0.15903 -0.14466 -0.15186 -0.14674 -0.14445 C -0.1457 -0.12964 -0.14661 -0.11389 -0.14362 -0.10001 C -0.1388 -0.07593 -0.10859 -0.06968 -0.10299 -0.06667 C -0.09674 -0.0632 -0.09036 -0.05996 -0.08424 -0.05556 C -0.05443 -0.03334 -0.07643 -0.04584 -0.04987 -0.02223 C -0.04701 -0.01945 -0.04362 -0.01876 -0.04049 -0.01667 C -0.03529 -0.0132 -0.03021 -0.00903 -0.02487 -0.00556 C -0.02188 -0.00348 -0.01888 -0.0007 -0.01549 -7.77778E-006 C -0.01042 0.00115 -0.00508 -7.77778E-006 0.00013 -7.77778E-006 E">
                                      <p:cBhvr>
                                        <p:cTn id="119" dur="58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7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478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2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9" name="组合 14"/>
          <p:cNvGrpSpPr/>
          <p:nvPr/>
        </p:nvGrpSpPr>
        <p:grpSpPr>
          <a:xfrm>
            <a:off x="7036920" y="3458160"/>
            <a:ext cx="2009160" cy="975240"/>
            <a:chOff x="7036920" y="3458160"/>
            <a:chExt cx="2009160" cy="975240"/>
          </a:xfrm>
        </p:grpSpPr>
        <p:grpSp>
          <p:nvGrpSpPr>
            <p:cNvPr id="1010" name="组合 12"/>
            <p:cNvGrpSpPr/>
            <p:nvPr/>
          </p:nvGrpSpPr>
          <p:grpSpPr>
            <a:xfrm>
              <a:off x="7951320" y="3458160"/>
              <a:ext cx="1094760" cy="645120"/>
              <a:chOff x="7951320" y="3458160"/>
              <a:chExt cx="1094760" cy="645120"/>
            </a:xfrm>
          </p:grpSpPr>
          <p:sp>
            <p:nvSpPr>
              <p:cNvPr id="1011" name="Freeform 5293"/>
              <p:cNvSpPr/>
              <p:nvPr/>
            </p:nvSpPr>
            <p:spPr>
              <a:xfrm rot="20866200">
                <a:off x="7985880" y="3561480"/>
                <a:ext cx="1025280" cy="438120"/>
              </a:xfrm>
              <a:custGeom>
                <a:avLst/>
                <a:gdLst/>
                <a:ahLst/>
                <a:rect l="l" t="t" r="r" b="b"/>
                <a:pathLst>
                  <a:path w="273" h="117">
                    <a:moveTo>
                      <a:pt x="4" y="79"/>
                    </a:moveTo>
                    <a:cubicBezTo>
                      <a:pt x="4" y="76"/>
                      <a:pt x="5" y="73"/>
                      <a:pt x="8" y="71"/>
                    </a:cubicBezTo>
                    <a:cubicBezTo>
                      <a:pt x="16" y="62"/>
                      <a:pt x="23" y="67"/>
                      <a:pt x="32" y="73"/>
                    </a:cubicBezTo>
                    <a:cubicBezTo>
                      <a:pt x="44" y="82"/>
                      <a:pt x="53" y="88"/>
                      <a:pt x="68" y="88"/>
                    </a:cubicBezTo>
                    <a:cubicBezTo>
                      <a:pt x="83" y="88"/>
                      <a:pt x="98" y="88"/>
                      <a:pt x="112" y="84"/>
                    </a:cubicBezTo>
                    <a:cubicBezTo>
                      <a:pt x="131" y="78"/>
                      <a:pt x="149" y="71"/>
                      <a:pt x="166" y="63"/>
                    </a:cubicBezTo>
                    <a:cubicBezTo>
                      <a:pt x="176" y="59"/>
                      <a:pt x="186" y="54"/>
                      <a:pt x="194" y="48"/>
                    </a:cubicBezTo>
                    <a:cubicBezTo>
                      <a:pt x="197" y="46"/>
                      <a:pt x="201" y="44"/>
                      <a:pt x="202" y="40"/>
                    </a:cubicBezTo>
                    <a:cubicBezTo>
                      <a:pt x="204" y="37"/>
                      <a:pt x="203" y="33"/>
                      <a:pt x="204" y="29"/>
                    </a:cubicBezTo>
                    <a:cubicBezTo>
                      <a:pt x="206" y="23"/>
                      <a:pt x="209" y="18"/>
                      <a:pt x="214" y="15"/>
                    </a:cubicBezTo>
                    <a:cubicBezTo>
                      <a:pt x="222" y="10"/>
                      <a:pt x="229" y="10"/>
                      <a:pt x="237" y="8"/>
                    </a:cubicBezTo>
                    <a:cubicBezTo>
                      <a:pt x="239" y="7"/>
                      <a:pt x="242" y="6"/>
                      <a:pt x="244" y="5"/>
                    </a:cubicBezTo>
                    <a:cubicBezTo>
                      <a:pt x="249" y="3"/>
                      <a:pt x="254" y="1"/>
                      <a:pt x="260" y="1"/>
                    </a:cubicBezTo>
                    <a:cubicBezTo>
                      <a:pt x="265" y="0"/>
                      <a:pt x="273" y="3"/>
                      <a:pt x="271" y="9"/>
                    </a:cubicBezTo>
                    <a:cubicBezTo>
                      <a:pt x="268" y="19"/>
                      <a:pt x="252" y="13"/>
                      <a:pt x="248" y="21"/>
                    </a:cubicBezTo>
                    <a:cubicBezTo>
                      <a:pt x="246" y="26"/>
                      <a:pt x="251" y="30"/>
                      <a:pt x="254" y="33"/>
                    </a:cubicBezTo>
                    <a:cubicBezTo>
                      <a:pt x="258" y="36"/>
                      <a:pt x="255" y="38"/>
                      <a:pt x="256" y="43"/>
                    </a:cubicBezTo>
                    <a:cubicBezTo>
                      <a:pt x="256" y="46"/>
                      <a:pt x="260" y="48"/>
                      <a:pt x="260" y="53"/>
                    </a:cubicBezTo>
                    <a:cubicBezTo>
                      <a:pt x="259" y="62"/>
                      <a:pt x="250" y="68"/>
                      <a:pt x="242" y="70"/>
                    </a:cubicBezTo>
                    <a:cubicBezTo>
                      <a:pt x="237" y="71"/>
                      <a:pt x="233" y="72"/>
                      <a:pt x="228" y="71"/>
                    </a:cubicBezTo>
                    <a:cubicBezTo>
                      <a:pt x="222" y="70"/>
                      <a:pt x="217" y="68"/>
                      <a:pt x="210" y="68"/>
                    </a:cubicBezTo>
                    <a:cubicBezTo>
                      <a:pt x="195" y="70"/>
                      <a:pt x="179" y="83"/>
                      <a:pt x="165" y="89"/>
                    </a:cubicBezTo>
                    <a:cubicBezTo>
                      <a:pt x="149" y="96"/>
                      <a:pt x="132" y="105"/>
                      <a:pt x="115" y="110"/>
                    </a:cubicBezTo>
                    <a:cubicBezTo>
                      <a:pt x="103" y="114"/>
                      <a:pt x="90" y="115"/>
                      <a:pt x="77" y="116"/>
                    </a:cubicBezTo>
                    <a:cubicBezTo>
                      <a:pt x="69" y="116"/>
                      <a:pt x="61" y="117"/>
                      <a:pt x="54" y="116"/>
                    </a:cubicBezTo>
                    <a:cubicBezTo>
                      <a:pt x="37" y="115"/>
                      <a:pt x="0" y="101"/>
                      <a:pt x="4" y="79"/>
                    </a:cubicBezTo>
                    <a:close/>
                  </a:path>
                </a:pathLst>
              </a:custGeom>
              <a:solidFill>
                <a:srgbClr val="d4a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5304"/>
              <p:cNvSpPr/>
              <p:nvPr/>
            </p:nvSpPr>
            <p:spPr>
              <a:xfrm rot="20866200">
                <a:off x="8846640" y="365508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8" y="4"/>
                    </a:moveTo>
                    <a:cubicBezTo>
                      <a:pt x="14" y="5"/>
                      <a:pt x="11" y="6"/>
                      <a:pt x="7" y="8"/>
                    </a:cubicBezTo>
                    <a:cubicBezTo>
                      <a:pt x="4" y="10"/>
                      <a:pt x="3" y="18"/>
                      <a:pt x="8" y="19"/>
                    </a:cubicBezTo>
                    <a:cubicBezTo>
                      <a:pt x="13" y="19"/>
                      <a:pt x="19" y="14"/>
                      <a:pt x="22" y="11"/>
                    </a:cubicBezTo>
                    <a:cubicBezTo>
                      <a:pt x="23" y="9"/>
                      <a:pt x="26" y="12"/>
                      <a:pt x="24" y="13"/>
                    </a:cubicBezTo>
                    <a:cubicBezTo>
                      <a:pt x="20" y="18"/>
                      <a:pt x="10" y="25"/>
                      <a:pt x="4" y="20"/>
                    </a:cubicBezTo>
                    <a:cubicBezTo>
                      <a:pt x="2" y="18"/>
                      <a:pt x="0" y="12"/>
                      <a:pt x="2" y="10"/>
                    </a:cubicBezTo>
                    <a:cubicBezTo>
                      <a:pt x="4" y="4"/>
                      <a:pt x="12" y="3"/>
                      <a:pt x="17" y="1"/>
                    </a:cubicBezTo>
                    <a:cubicBezTo>
                      <a:pt x="19" y="0"/>
                      <a:pt x="20" y="3"/>
                      <a:pt x="18" y="4"/>
                    </a:cubicBezTo>
                    <a:close/>
                  </a:path>
                </a:pathLst>
              </a:custGeom>
              <a:solidFill>
                <a:srgbClr val="c48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5305"/>
              <p:cNvSpPr/>
              <p:nvPr/>
            </p:nvSpPr>
            <p:spPr>
              <a:xfrm rot="20866200">
                <a:off x="8809200" y="361008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4"/>
                    </a:moveTo>
                    <a:cubicBezTo>
                      <a:pt x="15" y="4"/>
                      <a:pt x="13" y="5"/>
                      <a:pt x="11" y="6"/>
                    </a:cubicBezTo>
                    <a:cubicBezTo>
                      <a:pt x="9" y="6"/>
                      <a:pt x="8" y="7"/>
                      <a:pt x="6" y="8"/>
                    </a:cubicBezTo>
                    <a:cubicBezTo>
                      <a:pt x="3" y="11"/>
                      <a:pt x="4" y="14"/>
                      <a:pt x="8" y="17"/>
                    </a:cubicBezTo>
                    <a:cubicBezTo>
                      <a:pt x="14" y="18"/>
                      <a:pt x="18" y="14"/>
                      <a:pt x="22" y="12"/>
                    </a:cubicBezTo>
                    <a:cubicBezTo>
                      <a:pt x="24" y="11"/>
                      <a:pt x="25" y="14"/>
                      <a:pt x="24" y="14"/>
                    </a:cubicBezTo>
                    <a:cubicBezTo>
                      <a:pt x="17" y="18"/>
                      <a:pt x="7" y="25"/>
                      <a:pt x="2" y="16"/>
                    </a:cubicBezTo>
                    <a:cubicBezTo>
                      <a:pt x="0" y="13"/>
                      <a:pt x="1" y="9"/>
                      <a:pt x="3" y="7"/>
                    </a:cubicBezTo>
                    <a:cubicBezTo>
                      <a:pt x="6" y="3"/>
                      <a:pt x="12" y="2"/>
                      <a:pt x="17" y="1"/>
                    </a:cubicBezTo>
                    <a:cubicBezTo>
                      <a:pt x="19" y="0"/>
                      <a:pt x="19" y="3"/>
                      <a:pt x="17" y="4"/>
                    </a:cubicBezTo>
                    <a:close/>
                  </a:path>
                </a:pathLst>
              </a:custGeom>
              <a:solidFill>
                <a:srgbClr val="c48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5306"/>
              <p:cNvSpPr/>
              <p:nvPr/>
            </p:nvSpPr>
            <p:spPr>
              <a:xfrm rot="20866200">
                <a:off x="8744760" y="356148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3" y="13"/>
                    </a:moveTo>
                    <a:cubicBezTo>
                      <a:pt x="6" y="14"/>
                      <a:pt x="7" y="16"/>
                      <a:pt x="9" y="18"/>
                    </a:cubicBezTo>
                    <a:cubicBezTo>
                      <a:pt x="13" y="22"/>
                      <a:pt x="23" y="20"/>
                      <a:pt x="19" y="14"/>
                    </a:cubicBezTo>
                    <a:cubicBezTo>
                      <a:pt x="17" y="10"/>
                      <a:pt x="12" y="7"/>
                      <a:pt x="12" y="3"/>
                    </a:cubicBezTo>
                    <a:cubicBezTo>
                      <a:pt x="11" y="1"/>
                      <a:pt x="14" y="0"/>
                      <a:pt x="15" y="2"/>
                    </a:cubicBezTo>
                    <a:cubicBezTo>
                      <a:pt x="15" y="7"/>
                      <a:pt x="27" y="12"/>
                      <a:pt x="23" y="19"/>
                    </a:cubicBezTo>
                    <a:cubicBezTo>
                      <a:pt x="21" y="22"/>
                      <a:pt x="18" y="23"/>
                      <a:pt x="14" y="24"/>
                    </a:cubicBezTo>
                    <a:cubicBezTo>
                      <a:pt x="8" y="24"/>
                      <a:pt x="6" y="18"/>
                      <a:pt x="2" y="16"/>
                    </a:cubicBezTo>
                    <a:cubicBezTo>
                      <a:pt x="0" y="15"/>
                      <a:pt x="1" y="12"/>
                      <a:pt x="3" y="13"/>
                    </a:cubicBezTo>
                    <a:close/>
                  </a:path>
                </a:pathLst>
              </a:custGeom>
              <a:solidFill>
                <a:srgbClr val="c48e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15" name="组合 472"/>
            <p:cNvGrpSpPr/>
            <p:nvPr/>
          </p:nvGrpSpPr>
          <p:grpSpPr>
            <a:xfrm>
              <a:off x="7036920" y="3787920"/>
              <a:ext cx="1094760" cy="645480"/>
              <a:chOff x="7036920" y="3787920"/>
              <a:chExt cx="1094760" cy="645480"/>
            </a:xfrm>
          </p:grpSpPr>
          <p:sp>
            <p:nvSpPr>
              <p:cNvPr id="1016" name="Freeform 5293"/>
              <p:cNvSpPr/>
              <p:nvPr/>
            </p:nvSpPr>
            <p:spPr>
              <a:xfrm rot="10066200">
                <a:off x="7071480" y="3891240"/>
                <a:ext cx="1025280" cy="438120"/>
              </a:xfrm>
              <a:custGeom>
                <a:avLst/>
                <a:gdLst/>
                <a:ahLst/>
                <a:rect l="l" t="t" r="r" b="b"/>
                <a:pathLst>
                  <a:path w="273" h="117">
                    <a:moveTo>
                      <a:pt x="4" y="79"/>
                    </a:moveTo>
                    <a:cubicBezTo>
                      <a:pt x="4" y="76"/>
                      <a:pt x="5" y="73"/>
                      <a:pt x="8" y="71"/>
                    </a:cubicBezTo>
                    <a:cubicBezTo>
                      <a:pt x="16" y="62"/>
                      <a:pt x="23" y="67"/>
                      <a:pt x="32" y="73"/>
                    </a:cubicBezTo>
                    <a:cubicBezTo>
                      <a:pt x="44" y="82"/>
                      <a:pt x="53" y="88"/>
                      <a:pt x="68" y="88"/>
                    </a:cubicBezTo>
                    <a:cubicBezTo>
                      <a:pt x="83" y="88"/>
                      <a:pt x="98" y="88"/>
                      <a:pt x="112" y="84"/>
                    </a:cubicBezTo>
                    <a:cubicBezTo>
                      <a:pt x="131" y="78"/>
                      <a:pt x="149" y="71"/>
                      <a:pt x="166" y="63"/>
                    </a:cubicBezTo>
                    <a:cubicBezTo>
                      <a:pt x="176" y="59"/>
                      <a:pt x="186" y="54"/>
                      <a:pt x="194" y="48"/>
                    </a:cubicBezTo>
                    <a:cubicBezTo>
                      <a:pt x="197" y="46"/>
                      <a:pt x="201" y="44"/>
                      <a:pt x="202" y="40"/>
                    </a:cubicBezTo>
                    <a:cubicBezTo>
                      <a:pt x="204" y="37"/>
                      <a:pt x="203" y="33"/>
                      <a:pt x="204" y="29"/>
                    </a:cubicBezTo>
                    <a:cubicBezTo>
                      <a:pt x="206" y="23"/>
                      <a:pt x="209" y="18"/>
                      <a:pt x="214" y="15"/>
                    </a:cubicBezTo>
                    <a:cubicBezTo>
                      <a:pt x="222" y="10"/>
                      <a:pt x="229" y="10"/>
                      <a:pt x="237" y="8"/>
                    </a:cubicBezTo>
                    <a:cubicBezTo>
                      <a:pt x="239" y="7"/>
                      <a:pt x="242" y="6"/>
                      <a:pt x="244" y="5"/>
                    </a:cubicBezTo>
                    <a:cubicBezTo>
                      <a:pt x="249" y="3"/>
                      <a:pt x="254" y="1"/>
                      <a:pt x="260" y="1"/>
                    </a:cubicBezTo>
                    <a:cubicBezTo>
                      <a:pt x="265" y="0"/>
                      <a:pt x="273" y="3"/>
                      <a:pt x="271" y="9"/>
                    </a:cubicBezTo>
                    <a:cubicBezTo>
                      <a:pt x="268" y="19"/>
                      <a:pt x="252" y="13"/>
                      <a:pt x="248" y="21"/>
                    </a:cubicBezTo>
                    <a:cubicBezTo>
                      <a:pt x="246" y="26"/>
                      <a:pt x="251" y="30"/>
                      <a:pt x="254" y="33"/>
                    </a:cubicBezTo>
                    <a:cubicBezTo>
                      <a:pt x="258" y="36"/>
                      <a:pt x="255" y="38"/>
                      <a:pt x="256" y="43"/>
                    </a:cubicBezTo>
                    <a:cubicBezTo>
                      <a:pt x="256" y="46"/>
                      <a:pt x="260" y="48"/>
                      <a:pt x="260" y="53"/>
                    </a:cubicBezTo>
                    <a:cubicBezTo>
                      <a:pt x="259" y="62"/>
                      <a:pt x="250" y="68"/>
                      <a:pt x="242" y="70"/>
                    </a:cubicBezTo>
                    <a:cubicBezTo>
                      <a:pt x="237" y="71"/>
                      <a:pt x="233" y="72"/>
                      <a:pt x="228" y="71"/>
                    </a:cubicBezTo>
                    <a:cubicBezTo>
                      <a:pt x="222" y="70"/>
                      <a:pt x="217" y="68"/>
                      <a:pt x="210" y="68"/>
                    </a:cubicBezTo>
                    <a:cubicBezTo>
                      <a:pt x="195" y="70"/>
                      <a:pt x="179" y="83"/>
                      <a:pt x="165" y="89"/>
                    </a:cubicBezTo>
                    <a:cubicBezTo>
                      <a:pt x="149" y="96"/>
                      <a:pt x="132" y="105"/>
                      <a:pt x="115" y="110"/>
                    </a:cubicBezTo>
                    <a:cubicBezTo>
                      <a:pt x="103" y="114"/>
                      <a:pt x="90" y="115"/>
                      <a:pt x="77" y="116"/>
                    </a:cubicBezTo>
                    <a:cubicBezTo>
                      <a:pt x="69" y="116"/>
                      <a:pt x="61" y="117"/>
                      <a:pt x="54" y="116"/>
                    </a:cubicBezTo>
                    <a:cubicBezTo>
                      <a:pt x="37" y="115"/>
                      <a:pt x="0" y="101"/>
                      <a:pt x="4" y="79"/>
                    </a:cubicBezTo>
                    <a:close/>
                  </a:path>
                </a:pathLst>
              </a:custGeom>
              <a:solidFill>
                <a:srgbClr val="d4aa84">
                  <a:alpha val="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5304"/>
              <p:cNvSpPr/>
              <p:nvPr/>
            </p:nvSpPr>
            <p:spPr>
              <a:xfrm rot="10329000">
                <a:off x="7134120" y="4111560"/>
                <a:ext cx="96840" cy="93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8" y="4"/>
                    </a:moveTo>
                    <a:cubicBezTo>
                      <a:pt x="14" y="5"/>
                      <a:pt x="11" y="6"/>
                      <a:pt x="7" y="8"/>
                    </a:cubicBezTo>
                    <a:cubicBezTo>
                      <a:pt x="4" y="10"/>
                      <a:pt x="3" y="18"/>
                      <a:pt x="8" y="19"/>
                    </a:cubicBezTo>
                    <a:cubicBezTo>
                      <a:pt x="13" y="19"/>
                      <a:pt x="19" y="14"/>
                      <a:pt x="22" y="11"/>
                    </a:cubicBezTo>
                    <a:cubicBezTo>
                      <a:pt x="23" y="9"/>
                      <a:pt x="26" y="12"/>
                      <a:pt x="24" y="13"/>
                    </a:cubicBezTo>
                    <a:cubicBezTo>
                      <a:pt x="20" y="18"/>
                      <a:pt x="10" y="25"/>
                      <a:pt x="4" y="20"/>
                    </a:cubicBezTo>
                    <a:cubicBezTo>
                      <a:pt x="2" y="18"/>
                      <a:pt x="0" y="12"/>
                      <a:pt x="2" y="10"/>
                    </a:cubicBezTo>
                    <a:cubicBezTo>
                      <a:pt x="4" y="4"/>
                      <a:pt x="12" y="3"/>
                      <a:pt x="17" y="1"/>
                    </a:cubicBezTo>
                    <a:cubicBezTo>
                      <a:pt x="19" y="0"/>
                      <a:pt x="20" y="3"/>
                      <a:pt x="18" y="4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5305"/>
              <p:cNvSpPr/>
              <p:nvPr/>
            </p:nvSpPr>
            <p:spPr>
              <a:xfrm rot="10329000">
                <a:off x="7171560" y="41594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4"/>
                    </a:moveTo>
                    <a:cubicBezTo>
                      <a:pt x="15" y="4"/>
                      <a:pt x="13" y="5"/>
                      <a:pt x="11" y="6"/>
                    </a:cubicBezTo>
                    <a:cubicBezTo>
                      <a:pt x="9" y="6"/>
                      <a:pt x="8" y="7"/>
                      <a:pt x="6" y="8"/>
                    </a:cubicBezTo>
                    <a:cubicBezTo>
                      <a:pt x="3" y="11"/>
                      <a:pt x="4" y="14"/>
                      <a:pt x="8" y="17"/>
                    </a:cubicBezTo>
                    <a:cubicBezTo>
                      <a:pt x="14" y="18"/>
                      <a:pt x="18" y="14"/>
                      <a:pt x="22" y="12"/>
                    </a:cubicBezTo>
                    <a:cubicBezTo>
                      <a:pt x="24" y="11"/>
                      <a:pt x="25" y="14"/>
                      <a:pt x="24" y="14"/>
                    </a:cubicBezTo>
                    <a:cubicBezTo>
                      <a:pt x="17" y="18"/>
                      <a:pt x="7" y="25"/>
                      <a:pt x="2" y="16"/>
                    </a:cubicBezTo>
                    <a:cubicBezTo>
                      <a:pt x="0" y="13"/>
                      <a:pt x="1" y="9"/>
                      <a:pt x="3" y="7"/>
                    </a:cubicBezTo>
                    <a:cubicBezTo>
                      <a:pt x="6" y="3"/>
                      <a:pt x="12" y="2"/>
                      <a:pt x="17" y="1"/>
                    </a:cubicBezTo>
                    <a:cubicBezTo>
                      <a:pt x="19" y="0"/>
                      <a:pt x="19" y="3"/>
                      <a:pt x="17" y="4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5306"/>
              <p:cNvSpPr/>
              <p:nvPr/>
            </p:nvSpPr>
            <p:spPr>
              <a:xfrm rot="10329000">
                <a:off x="7224120" y="4215960"/>
                <a:ext cx="101520" cy="903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3" y="13"/>
                    </a:moveTo>
                    <a:cubicBezTo>
                      <a:pt x="6" y="14"/>
                      <a:pt x="7" y="16"/>
                      <a:pt x="9" y="18"/>
                    </a:cubicBezTo>
                    <a:cubicBezTo>
                      <a:pt x="13" y="22"/>
                      <a:pt x="23" y="20"/>
                      <a:pt x="19" y="14"/>
                    </a:cubicBezTo>
                    <a:cubicBezTo>
                      <a:pt x="17" y="10"/>
                      <a:pt x="12" y="7"/>
                      <a:pt x="12" y="3"/>
                    </a:cubicBezTo>
                    <a:cubicBezTo>
                      <a:pt x="11" y="1"/>
                      <a:pt x="14" y="0"/>
                      <a:pt x="15" y="2"/>
                    </a:cubicBezTo>
                    <a:cubicBezTo>
                      <a:pt x="15" y="7"/>
                      <a:pt x="27" y="12"/>
                      <a:pt x="23" y="19"/>
                    </a:cubicBezTo>
                    <a:cubicBezTo>
                      <a:pt x="21" y="22"/>
                      <a:pt x="18" y="23"/>
                      <a:pt x="14" y="24"/>
                    </a:cubicBezTo>
                    <a:cubicBezTo>
                      <a:pt x="8" y="24"/>
                      <a:pt x="6" y="18"/>
                      <a:pt x="2" y="16"/>
                    </a:cubicBezTo>
                    <a:cubicBezTo>
                      <a:pt x="0" y="15"/>
                      <a:pt x="1" y="12"/>
                      <a:pt x="3" y="13"/>
                    </a:cubicBezTo>
                    <a:close/>
                  </a:path>
                </a:pathLst>
              </a:custGeom>
              <a:solidFill>
                <a:srgbClr val="c48e6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20" name="文本框 481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68809" y="61131"/>
                </a:moveTo>
                <a:lnTo>
                  <a:pt x="1068809" y="187338"/>
                </a:lnTo>
                <a:lnTo>
                  <a:pt x="1267978" y="187338"/>
                </a:lnTo>
                <a:lnTo>
                  <a:pt x="1267978" y="61131"/>
                </a:lnTo>
                <a:close/>
                <a:moveTo>
                  <a:pt x="1015566" y="17748"/>
                </a:moveTo>
                <a:lnTo>
                  <a:pt x="1319249" y="17748"/>
                </a:lnTo>
                <a:lnTo>
                  <a:pt x="1319249" y="384535"/>
                </a:lnTo>
                <a:lnTo>
                  <a:pt x="1015566" y="384535"/>
                </a:lnTo>
                <a:lnTo>
                  <a:pt x="1015566" y="341152"/>
                </a:lnTo>
                <a:lnTo>
                  <a:pt x="1267978" y="341152"/>
                </a:lnTo>
                <a:lnTo>
                  <a:pt x="1267978" y="230721"/>
                </a:lnTo>
                <a:lnTo>
                  <a:pt x="1015566" y="23072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文本框 482"/>
          <p:cNvSpPr/>
          <p:nvPr/>
        </p:nvSpPr>
        <p:spPr>
          <a:xfrm>
            <a:off x="1130400" y="1795320"/>
            <a:ext cx="3438360" cy="417600"/>
          </a:xfrm>
          <a:custGeom>
            <a:avLst/>
            <a:gdLst/>
            <a:ahLst/>
            <a:rect l="l" t="t" r="r" b="b"/>
            <a:pathLst>
              <a:path w="3437818" h="418059">
                <a:moveTo>
                  <a:pt x="1562137" y="345096"/>
                </a:moveTo>
                <a:lnTo>
                  <a:pt x="1611436" y="402283"/>
                </a:lnTo>
                <a:lnTo>
                  <a:pt x="1564109" y="418059"/>
                </a:lnTo>
                <a:lnTo>
                  <a:pt x="1514810" y="360871"/>
                </a:lnTo>
                <a:close/>
                <a:moveTo>
                  <a:pt x="3138078" y="329320"/>
                </a:moveTo>
                <a:lnTo>
                  <a:pt x="3187377" y="329320"/>
                </a:lnTo>
                <a:lnTo>
                  <a:pt x="3187377" y="382563"/>
                </a:lnTo>
                <a:lnTo>
                  <a:pt x="3317527" y="382563"/>
                </a:lnTo>
                <a:lnTo>
                  <a:pt x="3317527" y="418059"/>
                </a:lnTo>
                <a:lnTo>
                  <a:pt x="3138078" y="418059"/>
                </a:lnTo>
                <a:close/>
                <a:moveTo>
                  <a:pt x="3400350" y="321432"/>
                </a:moveTo>
                <a:lnTo>
                  <a:pt x="3433874" y="390451"/>
                </a:lnTo>
                <a:lnTo>
                  <a:pt x="3398378" y="418059"/>
                </a:lnTo>
                <a:lnTo>
                  <a:pt x="3362883" y="349040"/>
                </a:lnTo>
                <a:close/>
                <a:moveTo>
                  <a:pt x="3041451" y="321432"/>
                </a:moveTo>
                <a:lnTo>
                  <a:pt x="3078919" y="349040"/>
                </a:lnTo>
                <a:lnTo>
                  <a:pt x="3043423" y="418059"/>
                </a:lnTo>
                <a:lnTo>
                  <a:pt x="3007928" y="390451"/>
                </a:lnTo>
                <a:close/>
                <a:moveTo>
                  <a:pt x="3291892" y="315516"/>
                </a:moveTo>
                <a:lnTo>
                  <a:pt x="3315555" y="351012"/>
                </a:lnTo>
                <a:lnTo>
                  <a:pt x="3272172" y="366787"/>
                </a:lnTo>
                <a:lnTo>
                  <a:pt x="3248508" y="331292"/>
                </a:lnTo>
                <a:close/>
                <a:moveTo>
                  <a:pt x="2532682" y="254385"/>
                </a:moveTo>
                <a:lnTo>
                  <a:pt x="2580010" y="266217"/>
                </a:lnTo>
                <a:lnTo>
                  <a:pt x="2544514" y="418059"/>
                </a:lnTo>
                <a:lnTo>
                  <a:pt x="2497187" y="408199"/>
                </a:lnTo>
                <a:close/>
                <a:moveTo>
                  <a:pt x="1859905" y="250441"/>
                </a:moveTo>
                <a:lnTo>
                  <a:pt x="1907232" y="250441"/>
                </a:lnTo>
                <a:lnTo>
                  <a:pt x="1907232" y="276077"/>
                </a:lnTo>
                <a:lnTo>
                  <a:pt x="1930896" y="276077"/>
                </a:lnTo>
                <a:lnTo>
                  <a:pt x="1930896" y="319460"/>
                </a:lnTo>
                <a:lnTo>
                  <a:pt x="1907232" y="319460"/>
                </a:lnTo>
                <a:lnTo>
                  <a:pt x="1907232" y="418059"/>
                </a:lnTo>
                <a:lnTo>
                  <a:pt x="1717923" y="418059"/>
                </a:lnTo>
                <a:lnTo>
                  <a:pt x="1717923" y="374675"/>
                </a:lnTo>
                <a:lnTo>
                  <a:pt x="1859905" y="374675"/>
                </a:lnTo>
                <a:lnTo>
                  <a:pt x="1859905" y="319460"/>
                </a:lnTo>
                <a:lnTo>
                  <a:pt x="1508894" y="319460"/>
                </a:lnTo>
                <a:lnTo>
                  <a:pt x="1508894" y="276077"/>
                </a:lnTo>
                <a:lnTo>
                  <a:pt x="1859905" y="276077"/>
                </a:lnTo>
                <a:close/>
                <a:moveTo>
                  <a:pt x="3071031" y="246497"/>
                </a:moveTo>
                <a:lnTo>
                  <a:pt x="3071031" y="270161"/>
                </a:lnTo>
                <a:lnTo>
                  <a:pt x="3372743" y="270161"/>
                </a:lnTo>
                <a:lnTo>
                  <a:pt x="3372743" y="246497"/>
                </a:lnTo>
                <a:close/>
                <a:moveTo>
                  <a:pt x="1000125" y="216917"/>
                </a:moveTo>
                <a:lnTo>
                  <a:pt x="1189434" y="216917"/>
                </a:lnTo>
                <a:lnTo>
                  <a:pt x="1129661" y="371954"/>
                </a:lnTo>
                <a:lnTo>
                  <a:pt x="1181546" y="386507"/>
                </a:lnTo>
                <a:lnTo>
                  <a:pt x="1155911" y="418059"/>
                </a:lnTo>
                <a:lnTo>
                  <a:pt x="994209" y="376647"/>
                </a:lnTo>
                <a:lnTo>
                  <a:pt x="1019844" y="341152"/>
                </a:lnTo>
                <a:lnTo>
                  <a:pt x="1089051" y="360563"/>
                </a:lnTo>
                <a:lnTo>
                  <a:pt x="1130275" y="258329"/>
                </a:lnTo>
                <a:lnTo>
                  <a:pt x="1000125" y="258329"/>
                </a:lnTo>
                <a:close/>
                <a:moveTo>
                  <a:pt x="3071031" y="185366"/>
                </a:moveTo>
                <a:lnTo>
                  <a:pt x="3071031" y="211001"/>
                </a:lnTo>
                <a:lnTo>
                  <a:pt x="3372743" y="211001"/>
                </a:lnTo>
                <a:lnTo>
                  <a:pt x="3372743" y="185366"/>
                </a:lnTo>
                <a:close/>
                <a:moveTo>
                  <a:pt x="1293949" y="179450"/>
                </a:moveTo>
                <a:lnTo>
                  <a:pt x="1343248" y="179450"/>
                </a:lnTo>
                <a:lnTo>
                  <a:pt x="1343248" y="325376"/>
                </a:lnTo>
                <a:lnTo>
                  <a:pt x="1435931" y="396367"/>
                </a:lnTo>
                <a:lnTo>
                  <a:pt x="1396491" y="418059"/>
                </a:lnTo>
                <a:lnTo>
                  <a:pt x="1319584" y="358899"/>
                </a:lnTo>
                <a:lnTo>
                  <a:pt x="1236761" y="418059"/>
                </a:lnTo>
                <a:lnTo>
                  <a:pt x="1199294" y="394395"/>
                </a:lnTo>
                <a:lnTo>
                  <a:pt x="1293949" y="325376"/>
                </a:lnTo>
                <a:close/>
                <a:moveTo>
                  <a:pt x="2735795" y="157758"/>
                </a:moveTo>
                <a:lnTo>
                  <a:pt x="2735795" y="199170"/>
                </a:lnTo>
                <a:lnTo>
                  <a:pt x="2792983" y="199170"/>
                </a:lnTo>
                <a:lnTo>
                  <a:pt x="2792983" y="157758"/>
                </a:lnTo>
                <a:close/>
                <a:moveTo>
                  <a:pt x="3025675" y="149870"/>
                </a:moveTo>
                <a:lnTo>
                  <a:pt x="3420070" y="149870"/>
                </a:lnTo>
                <a:lnTo>
                  <a:pt x="3420070" y="305656"/>
                </a:lnTo>
                <a:lnTo>
                  <a:pt x="3025675" y="305656"/>
                </a:lnTo>
                <a:close/>
                <a:moveTo>
                  <a:pt x="2292102" y="141982"/>
                </a:moveTo>
                <a:lnTo>
                  <a:pt x="2432112" y="248469"/>
                </a:lnTo>
                <a:lnTo>
                  <a:pt x="2396616" y="278049"/>
                </a:lnTo>
                <a:lnTo>
                  <a:pt x="2254634" y="171562"/>
                </a:lnTo>
                <a:close/>
                <a:moveTo>
                  <a:pt x="2516906" y="130151"/>
                </a:moveTo>
                <a:lnTo>
                  <a:pt x="2576066" y="181422"/>
                </a:lnTo>
                <a:lnTo>
                  <a:pt x="2558318" y="226777"/>
                </a:lnTo>
                <a:lnTo>
                  <a:pt x="2499159" y="173534"/>
                </a:lnTo>
                <a:close/>
                <a:moveTo>
                  <a:pt x="394171" y="116347"/>
                </a:moveTo>
                <a:lnTo>
                  <a:pt x="394171" y="218889"/>
                </a:lnTo>
                <a:lnTo>
                  <a:pt x="559817" y="218889"/>
                </a:lnTo>
                <a:lnTo>
                  <a:pt x="559817" y="116347"/>
                </a:lnTo>
                <a:close/>
                <a:moveTo>
                  <a:pt x="51271" y="116347"/>
                </a:moveTo>
                <a:lnTo>
                  <a:pt x="51271" y="218889"/>
                </a:lnTo>
                <a:lnTo>
                  <a:pt x="216917" y="218889"/>
                </a:lnTo>
                <a:lnTo>
                  <a:pt x="216917" y="116347"/>
                </a:lnTo>
                <a:close/>
                <a:moveTo>
                  <a:pt x="2601701" y="114375"/>
                </a:moveTo>
                <a:lnTo>
                  <a:pt x="2929049" y="114375"/>
                </a:lnTo>
                <a:lnTo>
                  <a:pt x="2929049" y="157758"/>
                </a:lnTo>
                <a:lnTo>
                  <a:pt x="2840310" y="157758"/>
                </a:lnTo>
                <a:lnTo>
                  <a:pt x="2840310" y="199170"/>
                </a:lnTo>
                <a:lnTo>
                  <a:pt x="2927077" y="199170"/>
                </a:lnTo>
                <a:lnTo>
                  <a:pt x="2927077" y="418059"/>
                </a:lnTo>
                <a:lnTo>
                  <a:pt x="2860030" y="418059"/>
                </a:lnTo>
                <a:lnTo>
                  <a:pt x="2860030" y="374675"/>
                </a:lnTo>
                <a:lnTo>
                  <a:pt x="2877777" y="374675"/>
                </a:lnTo>
                <a:lnTo>
                  <a:pt x="2877777" y="242553"/>
                </a:lnTo>
                <a:lnTo>
                  <a:pt x="2840310" y="242553"/>
                </a:lnTo>
                <a:lnTo>
                  <a:pt x="2840310" y="280021"/>
                </a:lnTo>
                <a:lnTo>
                  <a:pt x="2867918" y="311572"/>
                </a:lnTo>
                <a:lnTo>
                  <a:pt x="2850170" y="352984"/>
                </a:lnTo>
                <a:lnTo>
                  <a:pt x="2816646" y="313544"/>
                </a:lnTo>
                <a:lnTo>
                  <a:pt x="2785095" y="352984"/>
                </a:lnTo>
                <a:lnTo>
                  <a:pt x="2767347" y="311572"/>
                </a:lnTo>
                <a:lnTo>
                  <a:pt x="2792983" y="280021"/>
                </a:lnTo>
                <a:lnTo>
                  <a:pt x="2792983" y="242553"/>
                </a:lnTo>
                <a:lnTo>
                  <a:pt x="2735795" y="242553"/>
                </a:lnTo>
                <a:lnTo>
                  <a:pt x="2735795" y="280021"/>
                </a:lnTo>
                <a:lnTo>
                  <a:pt x="2761431" y="311572"/>
                </a:lnTo>
                <a:lnTo>
                  <a:pt x="2741711" y="352984"/>
                </a:lnTo>
                <a:lnTo>
                  <a:pt x="2712132" y="313544"/>
                </a:lnTo>
                <a:lnTo>
                  <a:pt x="2676636" y="352984"/>
                </a:lnTo>
                <a:lnTo>
                  <a:pt x="2660860" y="311572"/>
                </a:lnTo>
                <a:lnTo>
                  <a:pt x="2688468" y="280021"/>
                </a:lnTo>
                <a:lnTo>
                  <a:pt x="2688468" y="242553"/>
                </a:lnTo>
                <a:lnTo>
                  <a:pt x="2651001" y="242553"/>
                </a:lnTo>
                <a:lnTo>
                  <a:pt x="2651001" y="418059"/>
                </a:lnTo>
                <a:lnTo>
                  <a:pt x="2601701" y="418059"/>
                </a:lnTo>
                <a:lnTo>
                  <a:pt x="2601701" y="199170"/>
                </a:lnTo>
                <a:lnTo>
                  <a:pt x="2688468" y="199170"/>
                </a:lnTo>
                <a:lnTo>
                  <a:pt x="2688468" y="157758"/>
                </a:lnTo>
                <a:lnTo>
                  <a:pt x="2601701" y="157758"/>
                </a:lnTo>
                <a:close/>
                <a:moveTo>
                  <a:pt x="1079004" y="110431"/>
                </a:moveTo>
                <a:lnTo>
                  <a:pt x="1151967" y="175506"/>
                </a:lnTo>
                <a:lnTo>
                  <a:pt x="1106611" y="191282"/>
                </a:lnTo>
                <a:lnTo>
                  <a:pt x="1035620" y="126207"/>
                </a:lnTo>
                <a:close/>
                <a:moveTo>
                  <a:pt x="666080" y="70991"/>
                </a:moveTo>
                <a:lnTo>
                  <a:pt x="940184" y="70991"/>
                </a:lnTo>
                <a:lnTo>
                  <a:pt x="940184" y="114375"/>
                </a:lnTo>
                <a:lnTo>
                  <a:pt x="827782" y="114375"/>
                </a:lnTo>
                <a:lnTo>
                  <a:pt x="827782" y="388479"/>
                </a:lnTo>
                <a:lnTo>
                  <a:pt x="778482" y="388479"/>
                </a:lnTo>
                <a:lnTo>
                  <a:pt x="778482" y="114375"/>
                </a:lnTo>
                <a:lnTo>
                  <a:pt x="666080" y="114375"/>
                </a:lnTo>
                <a:close/>
                <a:moveTo>
                  <a:pt x="342900" y="70991"/>
                </a:moveTo>
                <a:lnTo>
                  <a:pt x="611088" y="70991"/>
                </a:lnTo>
                <a:lnTo>
                  <a:pt x="611088" y="264245"/>
                </a:lnTo>
                <a:lnTo>
                  <a:pt x="394171" y="264245"/>
                </a:lnTo>
                <a:lnTo>
                  <a:pt x="394171" y="388479"/>
                </a:lnTo>
                <a:lnTo>
                  <a:pt x="342900" y="388479"/>
                </a:lnTo>
                <a:close/>
                <a:moveTo>
                  <a:pt x="0" y="70991"/>
                </a:moveTo>
                <a:lnTo>
                  <a:pt x="268188" y="70991"/>
                </a:lnTo>
                <a:lnTo>
                  <a:pt x="268188" y="264245"/>
                </a:lnTo>
                <a:lnTo>
                  <a:pt x="51271" y="264245"/>
                </a:lnTo>
                <a:lnTo>
                  <a:pt x="51271" y="388479"/>
                </a:lnTo>
                <a:lnTo>
                  <a:pt x="0" y="388479"/>
                </a:lnTo>
                <a:close/>
                <a:moveTo>
                  <a:pt x="3134134" y="67047"/>
                </a:moveTo>
                <a:lnTo>
                  <a:pt x="3161742" y="92683"/>
                </a:lnTo>
                <a:lnTo>
                  <a:pt x="3285976" y="92683"/>
                </a:lnTo>
                <a:lnTo>
                  <a:pt x="3313583" y="67047"/>
                </a:lnTo>
                <a:lnTo>
                  <a:pt x="3366827" y="74935"/>
                </a:lnTo>
                <a:lnTo>
                  <a:pt x="3345135" y="92683"/>
                </a:lnTo>
                <a:lnTo>
                  <a:pt x="3437818" y="92683"/>
                </a:lnTo>
                <a:lnTo>
                  <a:pt x="3437818" y="128179"/>
                </a:lnTo>
                <a:lnTo>
                  <a:pt x="3009900" y="128179"/>
                </a:lnTo>
                <a:lnTo>
                  <a:pt x="3009900" y="92683"/>
                </a:lnTo>
                <a:lnTo>
                  <a:pt x="3102582" y="92683"/>
                </a:lnTo>
                <a:lnTo>
                  <a:pt x="3080891" y="74935"/>
                </a:lnTo>
                <a:close/>
                <a:moveTo>
                  <a:pt x="1564109" y="61132"/>
                </a:moveTo>
                <a:lnTo>
                  <a:pt x="1564109" y="96627"/>
                </a:lnTo>
                <a:lnTo>
                  <a:pt x="1869765" y="96627"/>
                </a:lnTo>
                <a:lnTo>
                  <a:pt x="1869765" y="61132"/>
                </a:lnTo>
                <a:close/>
                <a:moveTo>
                  <a:pt x="2002222" y="19720"/>
                </a:moveTo>
                <a:lnTo>
                  <a:pt x="2424224" y="19720"/>
                </a:lnTo>
                <a:lnTo>
                  <a:pt x="2424224" y="63104"/>
                </a:lnTo>
                <a:lnTo>
                  <a:pt x="2280270" y="63104"/>
                </a:lnTo>
                <a:lnTo>
                  <a:pt x="2234914" y="104435"/>
                </a:lnTo>
                <a:lnTo>
                  <a:pt x="2234914" y="418059"/>
                </a:lnTo>
                <a:lnTo>
                  <a:pt x="2185615" y="418059"/>
                </a:lnTo>
                <a:lnTo>
                  <a:pt x="2185615" y="149361"/>
                </a:lnTo>
                <a:lnTo>
                  <a:pt x="2035745" y="285936"/>
                </a:lnTo>
                <a:lnTo>
                  <a:pt x="1998278" y="262273"/>
                </a:lnTo>
                <a:lnTo>
                  <a:pt x="2217167" y="63104"/>
                </a:lnTo>
                <a:lnTo>
                  <a:pt x="2002222" y="63104"/>
                </a:lnTo>
                <a:close/>
                <a:moveTo>
                  <a:pt x="1213098" y="19720"/>
                </a:moveTo>
                <a:lnTo>
                  <a:pt x="1424099" y="19720"/>
                </a:lnTo>
                <a:lnTo>
                  <a:pt x="1424099" y="63104"/>
                </a:lnTo>
                <a:lnTo>
                  <a:pt x="1345220" y="63104"/>
                </a:lnTo>
                <a:lnTo>
                  <a:pt x="1339304" y="100571"/>
                </a:lnTo>
                <a:lnTo>
                  <a:pt x="1422127" y="100571"/>
                </a:lnTo>
                <a:lnTo>
                  <a:pt x="1422127" y="321432"/>
                </a:lnTo>
                <a:lnTo>
                  <a:pt x="1374800" y="321432"/>
                </a:lnTo>
                <a:lnTo>
                  <a:pt x="1374800" y="143954"/>
                </a:lnTo>
                <a:lnTo>
                  <a:pt x="1262397" y="143954"/>
                </a:lnTo>
                <a:lnTo>
                  <a:pt x="1262397" y="323404"/>
                </a:lnTo>
                <a:lnTo>
                  <a:pt x="1213098" y="323404"/>
                </a:lnTo>
                <a:lnTo>
                  <a:pt x="1213098" y="100571"/>
                </a:lnTo>
                <a:lnTo>
                  <a:pt x="1286061" y="100571"/>
                </a:lnTo>
                <a:lnTo>
                  <a:pt x="1293949" y="63104"/>
                </a:lnTo>
                <a:lnTo>
                  <a:pt x="1213098" y="63104"/>
                </a:lnTo>
                <a:close/>
                <a:moveTo>
                  <a:pt x="1516782" y="17748"/>
                </a:moveTo>
                <a:lnTo>
                  <a:pt x="1919064" y="17748"/>
                </a:lnTo>
                <a:lnTo>
                  <a:pt x="1919064" y="141982"/>
                </a:lnTo>
                <a:lnTo>
                  <a:pt x="1564109" y="141982"/>
                </a:lnTo>
                <a:lnTo>
                  <a:pt x="1564109" y="187338"/>
                </a:lnTo>
                <a:lnTo>
                  <a:pt x="1924980" y="187338"/>
                </a:lnTo>
                <a:lnTo>
                  <a:pt x="1924980" y="230721"/>
                </a:lnTo>
                <a:lnTo>
                  <a:pt x="1516782" y="230721"/>
                </a:lnTo>
                <a:close/>
                <a:moveTo>
                  <a:pt x="2670720" y="13804"/>
                </a:moveTo>
                <a:lnTo>
                  <a:pt x="2720020" y="13804"/>
                </a:lnTo>
                <a:lnTo>
                  <a:pt x="2720020" y="33524"/>
                </a:lnTo>
                <a:lnTo>
                  <a:pt x="2810730" y="33524"/>
                </a:lnTo>
                <a:lnTo>
                  <a:pt x="2810730" y="13804"/>
                </a:lnTo>
                <a:lnTo>
                  <a:pt x="2860030" y="13804"/>
                </a:lnTo>
                <a:lnTo>
                  <a:pt x="2860030" y="33524"/>
                </a:lnTo>
                <a:lnTo>
                  <a:pt x="2929049" y="33524"/>
                </a:lnTo>
                <a:lnTo>
                  <a:pt x="2929049" y="74935"/>
                </a:lnTo>
                <a:lnTo>
                  <a:pt x="2860030" y="74935"/>
                </a:lnTo>
                <a:lnTo>
                  <a:pt x="2860030" y="96627"/>
                </a:lnTo>
                <a:lnTo>
                  <a:pt x="2810730" y="96627"/>
                </a:lnTo>
                <a:lnTo>
                  <a:pt x="2810730" y="74935"/>
                </a:lnTo>
                <a:lnTo>
                  <a:pt x="2720020" y="74935"/>
                </a:lnTo>
                <a:lnTo>
                  <a:pt x="2720020" y="96627"/>
                </a:lnTo>
                <a:lnTo>
                  <a:pt x="2670720" y="96627"/>
                </a:lnTo>
                <a:lnTo>
                  <a:pt x="2670720" y="74935"/>
                </a:lnTo>
                <a:lnTo>
                  <a:pt x="2601701" y="74935"/>
                </a:lnTo>
                <a:lnTo>
                  <a:pt x="2601701" y="33524"/>
                </a:lnTo>
                <a:lnTo>
                  <a:pt x="2670720" y="33524"/>
                </a:lnTo>
                <a:close/>
                <a:moveTo>
                  <a:pt x="2524794" y="9860"/>
                </a:moveTo>
                <a:lnTo>
                  <a:pt x="2583954" y="61132"/>
                </a:lnTo>
                <a:lnTo>
                  <a:pt x="2566206" y="104515"/>
                </a:lnTo>
                <a:lnTo>
                  <a:pt x="2509019" y="55216"/>
                </a:lnTo>
                <a:close/>
                <a:moveTo>
                  <a:pt x="1094779" y="3944"/>
                </a:moveTo>
                <a:lnTo>
                  <a:pt x="1187462" y="78879"/>
                </a:lnTo>
                <a:lnTo>
                  <a:pt x="1173658" y="120291"/>
                </a:lnTo>
                <a:lnTo>
                  <a:pt x="1094779" y="55216"/>
                </a:lnTo>
                <a:lnTo>
                  <a:pt x="1009985" y="120291"/>
                </a:lnTo>
                <a:lnTo>
                  <a:pt x="996181" y="80851"/>
                </a:lnTo>
                <a:close/>
                <a:moveTo>
                  <a:pt x="3248508" y="0"/>
                </a:moveTo>
                <a:lnTo>
                  <a:pt x="3254424" y="23664"/>
                </a:lnTo>
                <a:lnTo>
                  <a:pt x="3427958" y="23664"/>
                </a:lnTo>
                <a:lnTo>
                  <a:pt x="3427958" y="59160"/>
                </a:lnTo>
                <a:lnTo>
                  <a:pt x="3019759" y="59160"/>
                </a:lnTo>
                <a:lnTo>
                  <a:pt x="3019759" y="23664"/>
                </a:lnTo>
                <a:lnTo>
                  <a:pt x="3201181" y="23664"/>
                </a:lnTo>
                <a:lnTo>
                  <a:pt x="3197237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5279"/>
          <p:cNvSpPr/>
          <p:nvPr/>
        </p:nvSpPr>
        <p:spPr>
          <a:xfrm>
            <a:off x="9286920" y="3102120"/>
            <a:ext cx="255600" cy="196560"/>
          </a:xfrm>
          <a:custGeom>
            <a:avLst/>
            <a:gdLst/>
            <a:ahLst/>
            <a:rect l="l" t="t" r="r" b="b"/>
            <a:pathLst>
              <a:path w="68" h="52">
                <a:moveTo>
                  <a:pt x="57" y="13"/>
                </a:moveTo>
                <a:cubicBezTo>
                  <a:pt x="60" y="15"/>
                  <a:pt x="62" y="19"/>
                  <a:pt x="63" y="22"/>
                </a:cubicBezTo>
                <a:cubicBezTo>
                  <a:pt x="68" y="37"/>
                  <a:pt x="57" y="49"/>
                  <a:pt x="42" y="50"/>
                </a:cubicBezTo>
                <a:cubicBezTo>
                  <a:pt x="23" y="52"/>
                  <a:pt x="4" y="40"/>
                  <a:pt x="2" y="21"/>
                </a:cubicBezTo>
                <a:cubicBezTo>
                  <a:pt x="0" y="9"/>
                  <a:pt x="10" y="4"/>
                  <a:pt x="20" y="2"/>
                </a:cubicBezTo>
                <a:cubicBezTo>
                  <a:pt x="31" y="0"/>
                  <a:pt x="48" y="4"/>
                  <a:pt x="57" y="13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5280"/>
          <p:cNvSpPr/>
          <p:nvPr/>
        </p:nvSpPr>
        <p:spPr>
          <a:xfrm>
            <a:off x="9418680" y="3376440"/>
            <a:ext cx="164880" cy="154080"/>
          </a:xfrm>
          <a:custGeom>
            <a:avLst/>
            <a:gdLst/>
            <a:ahLst/>
            <a:rect l="l" t="t" r="r" b="b"/>
            <a:pathLst>
              <a:path w="44" h="41">
                <a:moveTo>
                  <a:pt x="41" y="18"/>
                </a:moveTo>
                <a:cubicBezTo>
                  <a:pt x="36" y="37"/>
                  <a:pt x="3" y="41"/>
                  <a:pt x="1" y="18"/>
                </a:cubicBezTo>
                <a:cubicBezTo>
                  <a:pt x="0" y="6"/>
                  <a:pt x="11" y="0"/>
                  <a:pt x="23" y="1"/>
                </a:cubicBezTo>
                <a:cubicBezTo>
                  <a:pt x="33" y="1"/>
                  <a:pt x="44" y="6"/>
                  <a:pt x="41" y="18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4" name="组合 1"/>
          <p:cNvGrpSpPr/>
          <p:nvPr/>
        </p:nvGrpSpPr>
        <p:grpSpPr>
          <a:xfrm>
            <a:off x="9556920" y="2917800"/>
            <a:ext cx="2121840" cy="3108240"/>
            <a:chOff x="9556920" y="2917800"/>
            <a:chExt cx="2121840" cy="3108240"/>
          </a:xfrm>
        </p:grpSpPr>
        <p:grpSp>
          <p:nvGrpSpPr>
            <p:cNvPr id="1025" name="Group 5065"/>
            <p:cNvGrpSpPr/>
            <p:nvPr/>
          </p:nvGrpSpPr>
          <p:grpSpPr>
            <a:xfrm>
              <a:off x="9556920" y="2917800"/>
              <a:ext cx="2121840" cy="3108240"/>
              <a:chOff x="9556920" y="2917800"/>
              <a:chExt cx="2121840" cy="3108240"/>
            </a:xfrm>
          </p:grpSpPr>
          <p:sp>
            <p:nvSpPr>
              <p:cNvPr id="1026" name="Freeform 4866"/>
              <p:cNvSpPr/>
              <p:nvPr/>
            </p:nvSpPr>
            <p:spPr>
              <a:xfrm>
                <a:off x="10064520" y="5808600"/>
                <a:ext cx="1314000" cy="217440"/>
              </a:xfrm>
              <a:custGeom>
                <a:avLst/>
                <a:gdLst/>
                <a:ahLst/>
                <a:rect l="l" t="t" r="r" b="b"/>
                <a:pathLst>
                  <a:path w="350" h="58">
                    <a:moveTo>
                      <a:pt x="215" y="11"/>
                    </a:moveTo>
                    <a:cubicBezTo>
                      <a:pt x="207" y="13"/>
                      <a:pt x="199" y="13"/>
                      <a:pt x="190" y="13"/>
                    </a:cubicBezTo>
                    <a:cubicBezTo>
                      <a:pt x="168" y="14"/>
                      <a:pt x="147" y="13"/>
                      <a:pt x="125" y="9"/>
                    </a:cubicBezTo>
                    <a:cubicBezTo>
                      <a:pt x="114" y="8"/>
                      <a:pt x="103" y="6"/>
                      <a:pt x="92" y="5"/>
                    </a:cubicBezTo>
                    <a:cubicBezTo>
                      <a:pt x="72" y="3"/>
                      <a:pt x="43" y="2"/>
                      <a:pt x="27" y="12"/>
                    </a:cubicBezTo>
                    <a:cubicBezTo>
                      <a:pt x="21" y="16"/>
                      <a:pt x="16" y="21"/>
                      <a:pt x="13" y="26"/>
                    </a:cubicBezTo>
                    <a:cubicBezTo>
                      <a:pt x="0" y="53"/>
                      <a:pt x="65" y="58"/>
                      <a:pt x="85" y="54"/>
                    </a:cubicBezTo>
                    <a:cubicBezTo>
                      <a:pt x="94" y="52"/>
                      <a:pt x="102" y="49"/>
                      <a:pt x="110" y="47"/>
                    </a:cubicBezTo>
                    <a:cubicBezTo>
                      <a:pt x="125" y="44"/>
                      <a:pt x="138" y="42"/>
                      <a:pt x="153" y="41"/>
                    </a:cubicBezTo>
                    <a:cubicBezTo>
                      <a:pt x="172" y="40"/>
                      <a:pt x="188" y="42"/>
                      <a:pt x="207" y="45"/>
                    </a:cubicBezTo>
                    <a:cubicBezTo>
                      <a:pt x="222" y="48"/>
                      <a:pt x="236" y="51"/>
                      <a:pt x="251" y="53"/>
                    </a:cubicBezTo>
                    <a:cubicBezTo>
                      <a:pt x="264" y="55"/>
                      <a:pt x="275" y="54"/>
                      <a:pt x="288" y="53"/>
                    </a:cubicBezTo>
                    <a:cubicBezTo>
                      <a:pt x="309" y="52"/>
                      <a:pt x="332" y="45"/>
                      <a:pt x="345" y="24"/>
                    </a:cubicBezTo>
                    <a:cubicBezTo>
                      <a:pt x="348" y="19"/>
                      <a:pt x="350" y="12"/>
                      <a:pt x="345" y="7"/>
                    </a:cubicBezTo>
                    <a:cubicBezTo>
                      <a:pt x="340" y="2"/>
                      <a:pt x="330" y="2"/>
                      <a:pt x="324" y="2"/>
                    </a:cubicBezTo>
                    <a:cubicBezTo>
                      <a:pt x="306" y="0"/>
                      <a:pt x="288" y="4"/>
                      <a:pt x="270" y="5"/>
                    </a:cubicBezTo>
                    <a:cubicBezTo>
                      <a:pt x="252" y="5"/>
                      <a:pt x="233" y="7"/>
                      <a:pt x="215" y="11"/>
                    </a:cubicBezTo>
                    <a:close/>
                  </a:path>
                </a:pathLst>
              </a:custGeom>
              <a:solidFill>
                <a:srgbClr val="7c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4867">
                <a:hlinkClick r:id="rId2"/>
              </p:cNvPr>
              <p:cNvSpPr/>
              <p:nvPr/>
            </p:nvSpPr>
            <p:spPr>
              <a:xfrm>
                <a:off x="10131120" y="4880160"/>
                <a:ext cx="1296720" cy="1130040"/>
              </a:xfrm>
              <a:custGeom>
                <a:avLst/>
                <a:gdLst/>
                <a:ahLst/>
                <a:rect l="l" t="t" r="r" b="b"/>
                <a:pathLst>
                  <a:path w="345" h="301">
                    <a:moveTo>
                      <a:pt x="261" y="16"/>
                    </a:moveTo>
                    <a:cubicBezTo>
                      <a:pt x="274" y="16"/>
                      <a:pt x="285" y="12"/>
                      <a:pt x="297" y="10"/>
                    </a:cubicBezTo>
                    <a:cubicBezTo>
                      <a:pt x="305" y="8"/>
                      <a:pt x="317" y="1"/>
                      <a:pt x="325" y="3"/>
                    </a:cubicBezTo>
                    <a:cubicBezTo>
                      <a:pt x="335" y="6"/>
                      <a:pt x="334" y="22"/>
                      <a:pt x="336" y="30"/>
                    </a:cubicBezTo>
                    <a:cubicBezTo>
                      <a:pt x="338" y="41"/>
                      <a:pt x="340" y="51"/>
                      <a:pt x="341" y="62"/>
                    </a:cubicBezTo>
                    <a:cubicBezTo>
                      <a:pt x="343" y="85"/>
                      <a:pt x="345" y="108"/>
                      <a:pt x="342" y="131"/>
                    </a:cubicBezTo>
                    <a:cubicBezTo>
                      <a:pt x="340" y="149"/>
                      <a:pt x="338" y="172"/>
                      <a:pt x="333" y="190"/>
                    </a:cubicBezTo>
                    <a:cubicBezTo>
                      <a:pt x="332" y="194"/>
                      <a:pt x="331" y="198"/>
                      <a:pt x="330" y="201"/>
                    </a:cubicBezTo>
                    <a:cubicBezTo>
                      <a:pt x="329" y="204"/>
                      <a:pt x="328" y="207"/>
                      <a:pt x="328" y="210"/>
                    </a:cubicBezTo>
                    <a:cubicBezTo>
                      <a:pt x="327" y="214"/>
                      <a:pt x="326" y="219"/>
                      <a:pt x="325" y="223"/>
                    </a:cubicBezTo>
                    <a:cubicBezTo>
                      <a:pt x="324" y="226"/>
                      <a:pt x="323" y="232"/>
                      <a:pt x="325" y="236"/>
                    </a:cubicBezTo>
                    <a:cubicBezTo>
                      <a:pt x="326" y="238"/>
                      <a:pt x="329" y="240"/>
                      <a:pt x="330" y="243"/>
                    </a:cubicBezTo>
                    <a:cubicBezTo>
                      <a:pt x="336" y="263"/>
                      <a:pt x="315" y="270"/>
                      <a:pt x="300" y="279"/>
                    </a:cubicBezTo>
                    <a:cubicBezTo>
                      <a:pt x="290" y="285"/>
                      <a:pt x="262" y="301"/>
                      <a:pt x="254" y="284"/>
                    </a:cubicBezTo>
                    <a:cubicBezTo>
                      <a:pt x="250" y="274"/>
                      <a:pt x="259" y="261"/>
                      <a:pt x="266" y="254"/>
                    </a:cubicBezTo>
                    <a:cubicBezTo>
                      <a:pt x="272" y="249"/>
                      <a:pt x="279" y="248"/>
                      <a:pt x="284" y="242"/>
                    </a:cubicBezTo>
                    <a:cubicBezTo>
                      <a:pt x="294" y="229"/>
                      <a:pt x="293" y="210"/>
                      <a:pt x="291" y="195"/>
                    </a:cubicBezTo>
                    <a:cubicBezTo>
                      <a:pt x="289" y="177"/>
                      <a:pt x="282" y="156"/>
                      <a:pt x="273" y="139"/>
                    </a:cubicBezTo>
                    <a:cubicBezTo>
                      <a:pt x="271" y="134"/>
                      <a:pt x="267" y="130"/>
                      <a:pt x="262" y="126"/>
                    </a:cubicBezTo>
                    <a:cubicBezTo>
                      <a:pt x="252" y="119"/>
                      <a:pt x="241" y="113"/>
                      <a:pt x="228" y="110"/>
                    </a:cubicBezTo>
                    <a:cubicBezTo>
                      <a:pt x="211" y="107"/>
                      <a:pt x="189" y="102"/>
                      <a:pt x="171" y="104"/>
                    </a:cubicBezTo>
                    <a:cubicBezTo>
                      <a:pt x="147" y="107"/>
                      <a:pt x="122" y="115"/>
                      <a:pt x="106" y="134"/>
                    </a:cubicBezTo>
                    <a:cubicBezTo>
                      <a:pt x="95" y="147"/>
                      <a:pt x="86" y="166"/>
                      <a:pt x="83" y="182"/>
                    </a:cubicBezTo>
                    <a:cubicBezTo>
                      <a:pt x="81" y="197"/>
                      <a:pt x="77" y="214"/>
                      <a:pt x="77" y="229"/>
                    </a:cubicBezTo>
                    <a:cubicBezTo>
                      <a:pt x="76" y="237"/>
                      <a:pt x="83" y="244"/>
                      <a:pt x="84" y="252"/>
                    </a:cubicBezTo>
                    <a:cubicBezTo>
                      <a:pt x="87" y="269"/>
                      <a:pt x="68" y="276"/>
                      <a:pt x="55" y="281"/>
                    </a:cubicBezTo>
                    <a:cubicBezTo>
                      <a:pt x="43" y="285"/>
                      <a:pt x="33" y="290"/>
                      <a:pt x="19" y="289"/>
                    </a:cubicBezTo>
                    <a:cubicBezTo>
                      <a:pt x="9" y="289"/>
                      <a:pt x="0" y="288"/>
                      <a:pt x="0" y="277"/>
                    </a:cubicBezTo>
                    <a:cubicBezTo>
                      <a:pt x="0" y="269"/>
                      <a:pt x="7" y="261"/>
                      <a:pt x="13" y="257"/>
                    </a:cubicBezTo>
                    <a:cubicBezTo>
                      <a:pt x="21" y="250"/>
                      <a:pt x="31" y="247"/>
                      <a:pt x="39" y="240"/>
                    </a:cubicBezTo>
                    <a:cubicBezTo>
                      <a:pt x="47" y="233"/>
                      <a:pt x="42" y="222"/>
                      <a:pt x="41" y="214"/>
                    </a:cubicBezTo>
                    <a:cubicBezTo>
                      <a:pt x="41" y="201"/>
                      <a:pt x="38" y="188"/>
                      <a:pt x="38" y="176"/>
                    </a:cubicBezTo>
                    <a:cubicBezTo>
                      <a:pt x="38" y="161"/>
                      <a:pt x="37" y="147"/>
                      <a:pt x="36" y="133"/>
                    </a:cubicBezTo>
                    <a:cubicBezTo>
                      <a:pt x="36" y="112"/>
                      <a:pt x="37" y="92"/>
                      <a:pt x="38" y="71"/>
                    </a:cubicBezTo>
                    <a:cubicBezTo>
                      <a:pt x="39" y="52"/>
                      <a:pt x="43" y="33"/>
                      <a:pt x="56" y="18"/>
                    </a:cubicBezTo>
                    <a:cubicBezTo>
                      <a:pt x="73" y="0"/>
                      <a:pt x="109" y="11"/>
                      <a:pt x="129" y="12"/>
                    </a:cubicBezTo>
                    <a:cubicBezTo>
                      <a:pt x="150" y="13"/>
                      <a:pt x="171" y="12"/>
                      <a:pt x="191" y="12"/>
                    </a:cubicBezTo>
                    <a:cubicBezTo>
                      <a:pt x="215" y="12"/>
                      <a:pt x="238" y="16"/>
                      <a:pt x="261" y="16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4868"/>
              <p:cNvSpPr/>
              <p:nvPr/>
            </p:nvSpPr>
            <p:spPr>
              <a:xfrm>
                <a:off x="11370960" y="4525920"/>
                <a:ext cx="307800" cy="44784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28" y="95"/>
                    </a:moveTo>
                    <a:cubicBezTo>
                      <a:pt x="26" y="99"/>
                      <a:pt x="29" y="102"/>
                      <a:pt x="33" y="101"/>
                    </a:cubicBezTo>
                    <a:cubicBezTo>
                      <a:pt x="35" y="101"/>
                      <a:pt x="37" y="99"/>
                      <a:pt x="37" y="98"/>
                    </a:cubicBezTo>
                    <a:cubicBezTo>
                      <a:pt x="38" y="97"/>
                      <a:pt x="38" y="96"/>
                      <a:pt x="39" y="95"/>
                    </a:cubicBezTo>
                    <a:cubicBezTo>
                      <a:pt x="41" y="92"/>
                      <a:pt x="44" y="95"/>
                      <a:pt x="44" y="98"/>
                    </a:cubicBezTo>
                    <a:cubicBezTo>
                      <a:pt x="44" y="102"/>
                      <a:pt x="35" y="108"/>
                      <a:pt x="43" y="110"/>
                    </a:cubicBezTo>
                    <a:cubicBezTo>
                      <a:pt x="47" y="111"/>
                      <a:pt x="49" y="110"/>
                      <a:pt x="51" y="106"/>
                    </a:cubicBezTo>
                    <a:cubicBezTo>
                      <a:pt x="52" y="105"/>
                      <a:pt x="52" y="101"/>
                      <a:pt x="53" y="99"/>
                    </a:cubicBezTo>
                    <a:cubicBezTo>
                      <a:pt x="56" y="97"/>
                      <a:pt x="61" y="99"/>
                      <a:pt x="60" y="103"/>
                    </a:cubicBezTo>
                    <a:cubicBezTo>
                      <a:pt x="59" y="105"/>
                      <a:pt x="56" y="108"/>
                      <a:pt x="55" y="110"/>
                    </a:cubicBezTo>
                    <a:cubicBezTo>
                      <a:pt x="53" y="112"/>
                      <a:pt x="52" y="115"/>
                      <a:pt x="55" y="116"/>
                    </a:cubicBezTo>
                    <a:cubicBezTo>
                      <a:pt x="61" y="118"/>
                      <a:pt x="63" y="114"/>
                      <a:pt x="65" y="110"/>
                    </a:cubicBezTo>
                    <a:cubicBezTo>
                      <a:pt x="66" y="109"/>
                      <a:pt x="67" y="105"/>
                      <a:pt x="69" y="104"/>
                    </a:cubicBezTo>
                    <a:cubicBezTo>
                      <a:pt x="73" y="102"/>
                      <a:pt x="71" y="108"/>
                      <a:pt x="71" y="110"/>
                    </a:cubicBezTo>
                    <a:cubicBezTo>
                      <a:pt x="70" y="115"/>
                      <a:pt x="76" y="119"/>
                      <a:pt x="79" y="113"/>
                    </a:cubicBezTo>
                    <a:cubicBezTo>
                      <a:pt x="82" y="108"/>
                      <a:pt x="79" y="101"/>
                      <a:pt x="78" y="95"/>
                    </a:cubicBezTo>
                    <a:cubicBezTo>
                      <a:pt x="76" y="88"/>
                      <a:pt x="69" y="84"/>
                      <a:pt x="64" y="78"/>
                    </a:cubicBezTo>
                    <a:cubicBezTo>
                      <a:pt x="60" y="74"/>
                      <a:pt x="58" y="70"/>
                      <a:pt x="56" y="64"/>
                    </a:cubicBezTo>
                    <a:cubicBezTo>
                      <a:pt x="52" y="53"/>
                      <a:pt x="47" y="42"/>
                      <a:pt x="41" y="32"/>
                    </a:cubicBezTo>
                    <a:cubicBezTo>
                      <a:pt x="37" y="26"/>
                      <a:pt x="34" y="19"/>
                      <a:pt x="29" y="13"/>
                    </a:cubicBezTo>
                    <a:cubicBezTo>
                      <a:pt x="24" y="7"/>
                      <a:pt x="16" y="0"/>
                      <a:pt x="8" y="4"/>
                    </a:cubicBezTo>
                    <a:cubicBezTo>
                      <a:pt x="0" y="9"/>
                      <a:pt x="3" y="17"/>
                      <a:pt x="6" y="23"/>
                    </a:cubicBezTo>
                    <a:cubicBezTo>
                      <a:pt x="10" y="31"/>
                      <a:pt x="14" y="38"/>
                      <a:pt x="18" y="45"/>
                    </a:cubicBezTo>
                    <a:cubicBezTo>
                      <a:pt x="22" y="53"/>
                      <a:pt x="29" y="60"/>
                      <a:pt x="30" y="70"/>
                    </a:cubicBezTo>
                    <a:cubicBezTo>
                      <a:pt x="32" y="77"/>
                      <a:pt x="35" y="84"/>
                      <a:pt x="31" y="91"/>
                    </a:cubicBezTo>
                    <a:cubicBezTo>
                      <a:pt x="31" y="92"/>
                      <a:pt x="29" y="94"/>
                      <a:pt x="28" y="95"/>
                    </a:cubicBezTo>
                    <a:close/>
                  </a:path>
                </a:pathLst>
              </a:custGeom>
              <a:solidFill>
                <a:srgbClr val="d4a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4869"/>
              <p:cNvSpPr/>
              <p:nvPr/>
            </p:nvSpPr>
            <p:spPr>
              <a:xfrm>
                <a:off x="9910440" y="4684680"/>
                <a:ext cx="225000" cy="409680"/>
              </a:xfrm>
              <a:custGeom>
                <a:avLst/>
                <a:gdLst/>
                <a:ahLst/>
                <a:rect l="l" t="t" r="r" b="b"/>
                <a:pathLst>
                  <a:path w="60" h="109">
                    <a:moveTo>
                      <a:pt x="48" y="83"/>
                    </a:moveTo>
                    <a:cubicBezTo>
                      <a:pt x="46" y="87"/>
                      <a:pt x="42" y="85"/>
                      <a:pt x="40" y="82"/>
                    </a:cubicBezTo>
                    <a:cubicBezTo>
                      <a:pt x="40" y="80"/>
                      <a:pt x="37" y="77"/>
                      <a:pt x="35" y="79"/>
                    </a:cubicBezTo>
                    <a:cubicBezTo>
                      <a:pt x="32" y="83"/>
                      <a:pt x="36" y="87"/>
                      <a:pt x="38" y="89"/>
                    </a:cubicBezTo>
                    <a:cubicBezTo>
                      <a:pt x="42" y="96"/>
                      <a:pt x="34" y="98"/>
                      <a:pt x="31" y="92"/>
                    </a:cubicBezTo>
                    <a:cubicBezTo>
                      <a:pt x="30" y="90"/>
                      <a:pt x="28" y="86"/>
                      <a:pt x="26" y="86"/>
                    </a:cubicBezTo>
                    <a:cubicBezTo>
                      <a:pt x="22" y="85"/>
                      <a:pt x="23" y="89"/>
                      <a:pt x="23" y="91"/>
                    </a:cubicBezTo>
                    <a:cubicBezTo>
                      <a:pt x="24" y="94"/>
                      <a:pt x="27" y="99"/>
                      <a:pt x="24" y="101"/>
                    </a:cubicBezTo>
                    <a:cubicBezTo>
                      <a:pt x="21" y="104"/>
                      <a:pt x="19" y="99"/>
                      <a:pt x="18" y="97"/>
                    </a:cubicBezTo>
                    <a:cubicBezTo>
                      <a:pt x="17" y="95"/>
                      <a:pt x="15" y="91"/>
                      <a:pt x="12" y="93"/>
                    </a:cubicBezTo>
                    <a:cubicBezTo>
                      <a:pt x="9" y="95"/>
                      <a:pt x="13" y="101"/>
                      <a:pt x="11" y="104"/>
                    </a:cubicBezTo>
                    <a:cubicBezTo>
                      <a:pt x="7" y="109"/>
                      <a:pt x="4" y="103"/>
                      <a:pt x="3" y="100"/>
                    </a:cubicBezTo>
                    <a:cubicBezTo>
                      <a:pt x="0" y="87"/>
                      <a:pt x="8" y="81"/>
                      <a:pt x="13" y="70"/>
                    </a:cubicBezTo>
                    <a:cubicBezTo>
                      <a:pt x="16" y="63"/>
                      <a:pt x="17" y="55"/>
                      <a:pt x="20" y="47"/>
                    </a:cubicBezTo>
                    <a:cubicBezTo>
                      <a:pt x="23" y="37"/>
                      <a:pt x="27" y="27"/>
                      <a:pt x="31" y="18"/>
                    </a:cubicBezTo>
                    <a:cubicBezTo>
                      <a:pt x="33" y="15"/>
                      <a:pt x="34" y="10"/>
                      <a:pt x="36" y="7"/>
                    </a:cubicBezTo>
                    <a:cubicBezTo>
                      <a:pt x="36" y="5"/>
                      <a:pt x="37" y="2"/>
                      <a:pt x="38" y="1"/>
                    </a:cubicBezTo>
                    <a:cubicBezTo>
                      <a:pt x="40" y="0"/>
                      <a:pt x="46" y="1"/>
                      <a:pt x="48" y="2"/>
                    </a:cubicBezTo>
                    <a:cubicBezTo>
                      <a:pt x="51" y="3"/>
                      <a:pt x="57" y="6"/>
                      <a:pt x="59" y="9"/>
                    </a:cubicBezTo>
                    <a:cubicBezTo>
                      <a:pt x="60" y="12"/>
                      <a:pt x="57" y="15"/>
                      <a:pt x="56" y="18"/>
                    </a:cubicBezTo>
                    <a:cubicBezTo>
                      <a:pt x="52" y="26"/>
                      <a:pt x="51" y="34"/>
                      <a:pt x="48" y="41"/>
                    </a:cubicBezTo>
                    <a:cubicBezTo>
                      <a:pt x="47" y="46"/>
                      <a:pt x="45" y="51"/>
                      <a:pt x="43" y="55"/>
                    </a:cubicBezTo>
                    <a:cubicBezTo>
                      <a:pt x="41" y="60"/>
                      <a:pt x="40" y="63"/>
                      <a:pt x="42" y="68"/>
                    </a:cubicBezTo>
                    <a:cubicBezTo>
                      <a:pt x="43" y="72"/>
                      <a:pt x="49" y="79"/>
                      <a:pt x="48" y="83"/>
                    </a:cubicBezTo>
                    <a:cubicBezTo>
                      <a:pt x="48" y="83"/>
                      <a:pt x="48" y="83"/>
                      <a:pt x="48" y="83"/>
                    </a:cubicBezTo>
                    <a:close/>
                  </a:path>
                </a:pathLst>
              </a:custGeom>
              <a:solidFill>
                <a:srgbClr val="d4aa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4870">
                <a:hlinkClick r:id="rId3"/>
              </p:cNvPr>
              <p:cNvSpPr/>
              <p:nvPr/>
            </p:nvSpPr>
            <p:spPr>
              <a:xfrm>
                <a:off x="10015200" y="4272120"/>
                <a:ext cx="1501560" cy="852480"/>
              </a:xfrm>
              <a:custGeom>
                <a:avLst/>
                <a:gdLst/>
                <a:ahLst/>
                <a:rect l="l" t="t" r="r" b="b"/>
                <a:pathLst>
                  <a:path w="400" h="227">
                    <a:moveTo>
                      <a:pt x="399" y="93"/>
                    </a:moveTo>
                    <a:cubicBezTo>
                      <a:pt x="400" y="97"/>
                      <a:pt x="398" y="100"/>
                      <a:pt x="391" y="102"/>
                    </a:cubicBezTo>
                    <a:cubicBezTo>
                      <a:pt x="389" y="103"/>
                      <a:pt x="385" y="103"/>
                      <a:pt x="382" y="104"/>
                    </a:cubicBezTo>
                    <a:cubicBezTo>
                      <a:pt x="380" y="105"/>
                      <a:pt x="377" y="107"/>
                      <a:pt x="375" y="107"/>
                    </a:cubicBezTo>
                    <a:cubicBezTo>
                      <a:pt x="367" y="108"/>
                      <a:pt x="364" y="100"/>
                      <a:pt x="361" y="95"/>
                    </a:cubicBezTo>
                    <a:cubicBezTo>
                      <a:pt x="357" y="87"/>
                      <a:pt x="350" y="78"/>
                      <a:pt x="341" y="73"/>
                    </a:cubicBezTo>
                    <a:cubicBezTo>
                      <a:pt x="326" y="65"/>
                      <a:pt x="338" y="92"/>
                      <a:pt x="340" y="97"/>
                    </a:cubicBezTo>
                    <a:cubicBezTo>
                      <a:pt x="347" y="114"/>
                      <a:pt x="352" y="133"/>
                      <a:pt x="357" y="150"/>
                    </a:cubicBezTo>
                    <a:cubicBezTo>
                      <a:pt x="371" y="200"/>
                      <a:pt x="283" y="212"/>
                      <a:pt x="251" y="217"/>
                    </a:cubicBezTo>
                    <a:cubicBezTo>
                      <a:pt x="224" y="220"/>
                      <a:pt x="197" y="222"/>
                      <a:pt x="170" y="224"/>
                    </a:cubicBezTo>
                    <a:cubicBezTo>
                      <a:pt x="163" y="224"/>
                      <a:pt x="155" y="224"/>
                      <a:pt x="147" y="225"/>
                    </a:cubicBezTo>
                    <a:cubicBezTo>
                      <a:pt x="131" y="226"/>
                      <a:pt x="92" y="227"/>
                      <a:pt x="78" y="217"/>
                    </a:cubicBezTo>
                    <a:cubicBezTo>
                      <a:pt x="61" y="205"/>
                      <a:pt x="71" y="178"/>
                      <a:pt x="72" y="160"/>
                    </a:cubicBezTo>
                    <a:cubicBezTo>
                      <a:pt x="72" y="142"/>
                      <a:pt x="72" y="122"/>
                      <a:pt x="65" y="106"/>
                    </a:cubicBezTo>
                    <a:cubicBezTo>
                      <a:pt x="63" y="100"/>
                      <a:pt x="61" y="95"/>
                      <a:pt x="54" y="97"/>
                    </a:cubicBezTo>
                    <a:cubicBezTo>
                      <a:pt x="49" y="99"/>
                      <a:pt x="45" y="102"/>
                      <a:pt x="42" y="106"/>
                    </a:cubicBezTo>
                    <a:cubicBezTo>
                      <a:pt x="37" y="112"/>
                      <a:pt x="32" y="120"/>
                      <a:pt x="31" y="127"/>
                    </a:cubicBezTo>
                    <a:cubicBezTo>
                      <a:pt x="29" y="142"/>
                      <a:pt x="9" y="137"/>
                      <a:pt x="2" y="128"/>
                    </a:cubicBezTo>
                    <a:cubicBezTo>
                      <a:pt x="0" y="126"/>
                      <a:pt x="1" y="122"/>
                      <a:pt x="2" y="119"/>
                    </a:cubicBezTo>
                    <a:cubicBezTo>
                      <a:pt x="4" y="112"/>
                      <a:pt x="7" y="105"/>
                      <a:pt x="10" y="99"/>
                    </a:cubicBezTo>
                    <a:cubicBezTo>
                      <a:pt x="17" y="86"/>
                      <a:pt x="25" y="75"/>
                      <a:pt x="34" y="63"/>
                    </a:cubicBezTo>
                    <a:cubicBezTo>
                      <a:pt x="47" y="46"/>
                      <a:pt x="63" y="35"/>
                      <a:pt x="85" y="29"/>
                    </a:cubicBezTo>
                    <a:cubicBezTo>
                      <a:pt x="111" y="21"/>
                      <a:pt x="138" y="21"/>
                      <a:pt x="164" y="20"/>
                    </a:cubicBezTo>
                    <a:cubicBezTo>
                      <a:pt x="182" y="20"/>
                      <a:pt x="200" y="20"/>
                      <a:pt x="217" y="18"/>
                    </a:cubicBezTo>
                    <a:cubicBezTo>
                      <a:pt x="236" y="16"/>
                      <a:pt x="256" y="13"/>
                      <a:pt x="275" y="13"/>
                    </a:cubicBezTo>
                    <a:cubicBezTo>
                      <a:pt x="286" y="13"/>
                      <a:pt x="294" y="7"/>
                      <a:pt x="303" y="4"/>
                    </a:cubicBezTo>
                    <a:cubicBezTo>
                      <a:pt x="312" y="0"/>
                      <a:pt x="321" y="3"/>
                      <a:pt x="329" y="7"/>
                    </a:cubicBezTo>
                    <a:cubicBezTo>
                      <a:pt x="334" y="10"/>
                      <a:pt x="337" y="13"/>
                      <a:pt x="341" y="17"/>
                    </a:cubicBezTo>
                    <a:cubicBezTo>
                      <a:pt x="345" y="21"/>
                      <a:pt x="349" y="24"/>
                      <a:pt x="353" y="28"/>
                    </a:cubicBezTo>
                    <a:cubicBezTo>
                      <a:pt x="357" y="31"/>
                      <a:pt x="360" y="34"/>
                      <a:pt x="363" y="38"/>
                    </a:cubicBezTo>
                    <a:cubicBezTo>
                      <a:pt x="367" y="43"/>
                      <a:pt x="371" y="48"/>
                      <a:pt x="374" y="54"/>
                    </a:cubicBezTo>
                    <a:cubicBezTo>
                      <a:pt x="379" y="60"/>
                      <a:pt x="383" y="66"/>
                      <a:pt x="387" y="72"/>
                    </a:cubicBezTo>
                    <a:cubicBezTo>
                      <a:pt x="391" y="79"/>
                      <a:pt x="397" y="85"/>
                      <a:pt x="399" y="93"/>
                    </a:cubicBez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4871"/>
              <p:cNvSpPr/>
              <p:nvPr/>
            </p:nvSpPr>
            <p:spPr>
              <a:xfrm>
                <a:off x="10540800" y="4530600"/>
                <a:ext cx="202680" cy="11592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4"/>
                    </a:moveTo>
                    <a:cubicBezTo>
                      <a:pt x="0" y="7"/>
                      <a:pt x="0" y="13"/>
                      <a:pt x="1" y="16"/>
                    </a:cubicBezTo>
                    <a:cubicBezTo>
                      <a:pt x="2" y="19"/>
                      <a:pt x="3" y="19"/>
                      <a:pt x="6" y="20"/>
                    </a:cubicBezTo>
                    <a:cubicBezTo>
                      <a:pt x="7" y="21"/>
                      <a:pt x="10" y="22"/>
                      <a:pt x="11" y="23"/>
                    </a:cubicBezTo>
                    <a:cubicBezTo>
                      <a:pt x="14" y="25"/>
                      <a:pt x="18" y="29"/>
                      <a:pt x="21" y="30"/>
                    </a:cubicBezTo>
                    <a:cubicBezTo>
                      <a:pt x="24" y="31"/>
                      <a:pt x="33" y="30"/>
                      <a:pt x="37" y="29"/>
                    </a:cubicBezTo>
                    <a:cubicBezTo>
                      <a:pt x="39" y="24"/>
                      <a:pt x="44" y="20"/>
                      <a:pt x="47" y="16"/>
                    </a:cubicBezTo>
                    <a:cubicBezTo>
                      <a:pt x="50" y="14"/>
                      <a:pt x="52" y="13"/>
                      <a:pt x="53" y="10"/>
                    </a:cubicBezTo>
                    <a:cubicBezTo>
                      <a:pt x="54" y="7"/>
                      <a:pt x="53" y="3"/>
                      <a:pt x="52" y="0"/>
                    </a:cubicBezTo>
                    <a:cubicBezTo>
                      <a:pt x="47" y="1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4872"/>
              <p:cNvSpPr/>
              <p:nvPr/>
            </p:nvSpPr>
            <p:spPr>
              <a:xfrm>
                <a:off x="10612080" y="4583160"/>
                <a:ext cx="488520" cy="458640"/>
              </a:xfrm>
              <a:custGeom>
                <a:avLst/>
                <a:gdLst/>
                <a:ahLst/>
                <a:rect l="l" t="t" r="r" b="b"/>
                <a:pathLst>
                  <a:path w="130" h="122">
                    <a:moveTo>
                      <a:pt x="3" y="19"/>
                    </a:moveTo>
                    <a:cubicBezTo>
                      <a:pt x="6" y="37"/>
                      <a:pt x="3" y="69"/>
                      <a:pt x="25" y="79"/>
                    </a:cubicBezTo>
                    <a:cubicBezTo>
                      <a:pt x="30" y="81"/>
                      <a:pt x="34" y="82"/>
                      <a:pt x="39" y="84"/>
                    </a:cubicBezTo>
                    <a:cubicBezTo>
                      <a:pt x="51" y="88"/>
                      <a:pt x="65" y="90"/>
                      <a:pt x="75" y="99"/>
                    </a:cubicBezTo>
                    <a:cubicBezTo>
                      <a:pt x="81" y="103"/>
                      <a:pt x="84" y="109"/>
                      <a:pt x="87" y="115"/>
                    </a:cubicBezTo>
                    <a:cubicBezTo>
                      <a:pt x="90" y="121"/>
                      <a:pt x="98" y="119"/>
                      <a:pt x="103" y="120"/>
                    </a:cubicBezTo>
                    <a:cubicBezTo>
                      <a:pt x="109" y="121"/>
                      <a:pt x="115" y="122"/>
                      <a:pt x="120" y="121"/>
                    </a:cubicBezTo>
                    <a:cubicBezTo>
                      <a:pt x="122" y="121"/>
                      <a:pt x="129" y="106"/>
                      <a:pt x="129" y="104"/>
                    </a:cubicBezTo>
                    <a:cubicBezTo>
                      <a:pt x="130" y="96"/>
                      <a:pt x="124" y="93"/>
                      <a:pt x="119" y="88"/>
                    </a:cubicBezTo>
                    <a:cubicBezTo>
                      <a:pt x="111" y="79"/>
                      <a:pt x="101" y="69"/>
                      <a:pt x="88" y="64"/>
                    </a:cubicBezTo>
                    <a:cubicBezTo>
                      <a:pt x="72" y="59"/>
                      <a:pt x="53" y="65"/>
                      <a:pt x="37" y="57"/>
                    </a:cubicBezTo>
                    <a:cubicBezTo>
                      <a:pt x="25" y="50"/>
                      <a:pt x="23" y="37"/>
                      <a:pt x="19" y="25"/>
                    </a:cubicBezTo>
                    <a:cubicBezTo>
                      <a:pt x="18" y="19"/>
                      <a:pt x="13" y="0"/>
                      <a:pt x="3" y="8"/>
                    </a:cubicBezTo>
                    <a:cubicBezTo>
                      <a:pt x="0" y="10"/>
                      <a:pt x="1" y="13"/>
                      <a:pt x="2" y="16"/>
                    </a:cubicBezTo>
                    <a:cubicBezTo>
                      <a:pt x="2" y="17"/>
                      <a:pt x="3" y="18"/>
                      <a:pt x="3" y="19"/>
                    </a:cubicBezTo>
                    <a:close/>
                  </a:path>
                </a:pathLst>
              </a:custGeom>
              <a:solidFill>
                <a:srgbClr val="38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4873"/>
              <p:cNvSpPr/>
              <p:nvPr/>
            </p:nvSpPr>
            <p:spPr>
              <a:xfrm>
                <a:off x="10977480" y="4970520"/>
                <a:ext cx="5760" cy="22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5"/>
                      <a:pt x="2" y="6"/>
                    </a:cubicBezTo>
                    <a:cubicBezTo>
                      <a:pt x="2" y="4"/>
                      <a:pt x="1" y="2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4874"/>
              <p:cNvSpPr/>
              <p:nvPr/>
            </p:nvSpPr>
            <p:spPr>
              <a:xfrm>
                <a:off x="11066040" y="49323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3"/>
                    </a:moveTo>
                    <a:cubicBezTo>
                      <a:pt x="4" y="6"/>
                      <a:pt x="3" y="0"/>
                      <a:pt x="2" y="0"/>
                    </a:cubicBezTo>
                    <a:cubicBezTo>
                      <a:pt x="0" y="0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4875"/>
              <p:cNvSpPr/>
              <p:nvPr/>
            </p:nvSpPr>
            <p:spPr>
              <a:xfrm>
                <a:off x="10947240" y="489420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1"/>
                    </a:moveTo>
                    <a:cubicBezTo>
                      <a:pt x="3" y="1"/>
                      <a:pt x="0" y="5"/>
                      <a:pt x="3" y="4"/>
                    </a:cubicBezTo>
                    <a:cubicBezTo>
                      <a:pt x="2" y="3"/>
                      <a:pt x="2" y="1"/>
                      <a:pt x="1" y="0"/>
                    </a:cubicBezTo>
                    <a:cubicBezTo>
                      <a:pt x="0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4876"/>
              <p:cNvSpPr/>
              <p:nvPr/>
            </p:nvSpPr>
            <p:spPr>
              <a:xfrm>
                <a:off x="10917000" y="489096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0"/>
                    </a:moveTo>
                    <a:cubicBezTo>
                      <a:pt x="2" y="2"/>
                      <a:pt x="4" y="1"/>
                      <a:pt x="1" y="3"/>
                    </a:cubicBezTo>
                    <a:cubicBezTo>
                      <a:pt x="2" y="4"/>
                      <a:pt x="2" y="5"/>
                      <a:pt x="3" y="7"/>
                    </a:cubicBezTo>
                    <a:cubicBezTo>
                      <a:pt x="4" y="5"/>
                      <a:pt x="4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4877"/>
              <p:cNvSpPr/>
              <p:nvPr/>
            </p:nvSpPr>
            <p:spPr>
              <a:xfrm>
                <a:off x="10977480" y="4977000"/>
                <a:ext cx="2484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1"/>
                    </a:moveTo>
                    <a:cubicBezTo>
                      <a:pt x="2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1"/>
                      <a:pt x="1" y="5"/>
                      <a:pt x="0" y="3"/>
                    </a:cubicBezTo>
                    <a:cubicBezTo>
                      <a:pt x="0" y="4"/>
                      <a:pt x="1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5" y="6"/>
                      <a:pt x="6" y="7"/>
                    </a:cubicBezTo>
                    <a:cubicBezTo>
                      <a:pt x="5" y="6"/>
                      <a:pt x="6" y="4"/>
                      <a:pt x="7" y="3"/>
                    </a:cubicBezTo>
                    <a:cubicBezTo>
                      <a:pt x="6" y="3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7" y="2"/>
                      <a:pt x="5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2" y="3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4878"/>
              <p:cNvSpPr/>
              <p:nvPr/>
            </p:nvSpPr>
            <p:spPr>
              <a:xfrm>
                <a:off x="10994760" y="5022720"/>
                <a:ext cx="2340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cubicBezTo>
                      <a:pt x="4" y="1"/>
                      <a:pt x="1" y="0"/>
                      <a:pt x="0" y="1"/>
                    </a:cubicBezTo>
                    <a:cubicBezTo>
                      <a:pt x="2" y="1"/>
                      <a:pt x="5" y="3"/>
                      <a:pt x="6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4879"/>
              <p:cNvSpPr/>
              <p:nvPr/>
            </p:nvSpPr>
            <p:spPr>
              <a:xfrm>
                <a:off x="10953360" y="49626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cubicBezTo>
                      <a:pt x="0" y="1"/>
                      <a:pt x="4" y="2"/>
                      <a:pt x="2" y="4"/>
                    </a:cubicBezTo>
                    <a:cubicBezTo>
                      <a:pt x="3" y="5"/>
                      <a:pt x="4" y="5"/>
                      <a:pt x="6" y="4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3" y="2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4880"/>
              <p:cNvSpPr/>
              <p:nvPr/>
            </p:nvSpPr>
            <p:spPr>
              <a:xfrm>
                <a:off x="10942200" y="49928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2" y="0"/>
                      <a:pt x="1" y="2"/>
                      <a:pt x="1" y="0"/>
                    </a:cubicBezTo>
                    <a:cubicBezTo>
                      <a:pt x="0" y="1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4881"/>
              <p:cNvSpPr/>
              <p:nvPr/>
            </p:nvSpPr>
            <p:spPr>
              <a:xfrm>
                <a:off x="10924920" y="495936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3" y="0"/>
                    </a:cubicBezTo>
                    <a:cubicBezTo>
                      <a:pt x="2" y="0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4882"/>
              <p:cNvSpPr/>
              <p:nvPr/>
            </p:nvSpPr>
            <p:spPr>
              <a:xfrm>
                <a:off x="10920240" y="4973760"/>
                <a:ext cx="43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4883"/>
              <p:cNvSpPr/>
              <p:nvPr/>
            </p:nvSpPr>
            <p:spPr>
              <a:xfrm>
                <a:off x="10912320" y="4913280"/>
                <a:ext cx="45720" cy="637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7"/>
                    </a:moveTo>
                    <a:cubicBezTo>
                      <a:pt x="10" y="8"/>
                      <a:pt x="6" y="6"/>
                      <a:pt x="5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2" y="1"/>
                      <a:pt x="2" y="1"/>
                      <a:pt x="0" y="0"/>
                    </a:cubicBezTo>
                    <a:cubicBezTo>
                      <a:pt x="2" y="1"/>
                      <a:pt x="1" y="3"/>
                      <a:pt x="3" y="4"/>
                    </a:cubicBezTo>
                    <a:cubicBezTo>
                      <a:pt x="2" y="5"/>
                      <a:pt x="1" y="6"/>
                      <a:pt x="1" y="4"/>
                    </a:cubicBezTo>
                    <a:cubicBezTo>
                      <a:pt x="0" y="5"/>
                      <a:pt x="1" y="5"/>
                      <a:pt x="0" y="7"/>
                    </a:cubicBezTo>
                    <a:cubicBezTo>
                      <a:pt x="2" y="6"/>
                      <a:pt x="3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4" y="8"/>
                      <a:pt x="4" y="9"/>
                      <a:pt x="4" y="9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5" y="11"/>
                      <a:pt x="6" y="12"/>
                    </a:cubicBezTo>
                    <a:cubicBezTo>
                      <a:pt x="6" y="12"/>
                      <a:pt x="7" y="14"/>
                      <a:pt x="7" y="14"/>
                    </a:cubicBezTo>
                    <a:cubicBezTo>
                      <a:pt x="7" y="16"/>
                      <a:pt x="9" y="17"/>
                      <a:pt x="9" y="14"/>
                    </a:cubicBezTo>
                    <a:cubicBezTo>
                      <a:pt x="8" y="15"/>
                      <a:pt x="8" y="15"/>
                      <a:pt x="7" y="15"/>
                    </a:cubicBezTo>
                    <a:cubicBezTo>
                      <a:pt x="8" y="13"/>
                      <a:pt x="7" y="13"/>
                      <a:pt x="7" y="12"/>
                    </a:cubicBezTo>
                    <a:cubicBezTo>
                      <a:pt x="8" y="13"/>
                      <a:pt x="8" y="13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4"/>
                      <a:pt x="9" y="14"/>
                    </a:cubicBezTo>
                    <a:cubicBezTo>
                      <a:pt x="10" y="13"/>
                      <a:pt x="11" y="15"/>
                      <a:pt x="12" y="16"/>
                    </a:cubicBezTo>
                    <a:cubicBezTo>
                      <a:pt x="12" y="16"/>
                      <a:pt x="12" y="15"/>
                      <a:pt x="12" y="15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0" y="14"/>
                      <a:pt x="11" y="13"/>
                      <a:pt x="10" y="12"/>
                    </a:cubicBezTo>
                    <a:cubicBezTo>
                      <a:pt x="10" y="12"/>
                      <a:pt x="9" y="12"/>
                      <a:pt x="9" y="12"/>
                    </a:cubicBezTo>
                    <a:cubicBezTo>
                      <a:pt x="9" y="12"/>
                      <a:pt x="10" y="12"/>
                      <a:pt x="10" y="11"/>
                    </a:cubicBezTo>
                    <a:cubicBezTo>
                      <a:pt x="8" y="12"/>
                      <a:pt x="8" y="10"/>
                      <a:pt x="8" y="9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9" y="9"/>
                      <a:pt x="9" y="10"/>
                      <a:pt x="9" y="10"/>
                    </a:cubicBezTo>
                    <a:cubicBezTo>
                      <a:pt x="10" y="10"/>
                      <a:pt x="10" y="8"/>
                      <a:pt x="1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4884"/>
              <p:cNvSpPr/>
              <p:nvPr/>
            </p:nvSpPr>
            <p:spPr>
              <a:xfrm>
                <a:off x="10980360" y="494820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2"/>
                      <a:pt x="3" y="2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4885"/>
              <p:cNvSpPr/>
              <p:nvPr/>
            </p:nvSpPr>
            <p:spPr>
              <a:xfrm>
                <a:off x="10969200" y="49356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cubicBezTo>
                      <a:pt x="0" y="2"/>
                      <a:pt x="2" y="2"/>
                      <a:pt x="3" y="3"/>
                    </a:cubicBezTo>
                    <a:cubicBezTo>
                      <a:pt x="2" y="3"/>
                      <a:pt x="2" y="4"/>
                      <a:pt x="3" y="5"/>
                    </a:cubicBezTo>
                    <a:cubicBezTo>
                      <a:pt x="4" y="5"/>
                      <a:pt x="3" y="2"/>
                      <a:pt x="5" y="2"/>
                    </a:cubicBezTo>
                    <a:cubicBezTo>
                      <a:pt x="4" y="2"/>
                      <a:pt x="2" y="1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4886"/>
              <p:cNvSpPr/>
              <p:nvPr/>
            </p:nvSpPr>
            <p:spPr>
              <a:xfrm>
                <a:off x="10920240" y="4951440"/>
                <a:ext cx="32760" cy="33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0"/>
                    </a:moveTo>
                    <a:cubicBezTo>
                      <a:pt x="6" y="0"/>
                      <a:pt x="6" y="0"/>
                      <a:pt x="5" y="0"/>
                    </a:cubicBezTo>
                    <a:cubicBezTo>
                      <a:pt x="5" y="1"/>
                      <a:pt x="4" y="0"/>
                      <a:pt x="4" y="2"/>
                    </a:cubicBezTo>
                    <a:cubicBezTo>
                      <a:pt x="5" y="2"/>
                      <a:pt x="5" y="1"/>
                      <a:pt x="6" y="1"/>
                    </a:cubicBezTo>
                    <a:cubicBezTo>
                      <a:pt x="5" y="3"/>
                      <a:pt x="4" y="3"/>
                      <a:pt x="2" y="3"/>
                    </a:cubicBezTo>
                    <a:cubicBezTo>
                      <a:pt x="2" y="3"/>
                      <a:pt x="3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3" y="4"/>
                      <a:pt x="1" y="6"/>
                      <a:pt x="0" y="6"/>
                    </a:cubicBezTo>
                    <a:cubicBezTo>
                      <a:pt x="0" y="6"/>
                      <a:pt x="1" y="6"/>
                      <a:pt x="1" y="9"/>
                    </a:cubicBezTo>
                    <a:cubicBezTo>
                      <a:pt x="2" y="7"/>
                      <a:pt x="1" y="5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5" y="3"/>
                      <a:pt x="4" y="4"/>
                      <a:pt x="4" y="4"/>
                    </a:cubicBezTo>
                    <a:cubicBezTo>
                      <a:pt x="5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7" y="6"/>
                      <a:pt x="7" y="6"/>
                    </a:cubicBezTo>
                    <a:cubicBezTo>
                      <a:pt x="7" y="6"/>
                      <a:pt x="8" y="6"/>
                      <a:pt x="8" y="6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9" y="9"/>
                      <a:pt x="9" y="6"/>
                      <a:pt x="8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3"/>
                      <a:pt x="7" y="1"/>
                      <a:pt x="6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4887"/>
              <p:cNvSpPr/>
              <p:nvPr/>
            </p:nvSpPr>
            <p:spPr>
              <a:xfrm>
                <a:off x="10980360" y="49658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cubicBezTo>
                      <a:pt x="1" y="0"/>
                      <a:pt x="1" y="1"/>
                      <a:pt x="0" y="0"/>
                    </a:cubicBezTo>
                    <a:cubicBezTo>
                      <a:pt x="0" y="1"/>
                      <a:pt x="0" y="2"/>
                      <a:pt x="0" y="1"/>
                    </a:cubicBezTo>
                    <a:cubicBezTo>
                      <a:pt x="0" y="3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4888"/>
              <p:cNvSpPr/>
              <p:nvPr/>
            </p:nvSpPr>
            <p:spPr>
              <a:xfrm>
                <a:off x="10942200" y="497052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4"/>
                    </a:moveTo>
                    <a:cubicBezTo>
                      <a:pt x="0" y="4"/>
                      <a:pt x="1" y="4"/>
                      <a:pt x="1" y="5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3" y="3"/>
                      <a:pt x="4" y="3"/>
                      <a:pt x="4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2" y="6"/>
                      <a:pt x="4" y="7"/>
                      <a:pt x="5" y="7"/>
                    </a:cubicBezTo>
                    <a:cubicBezTo>
                      <a:pt x="4" y="6"/>
                      <a:pt x="6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6" y="6"/>
                      <a:pt x="6" y="5"/>
                      <a:pt x="8" y="9"/>
                    </a:cubicBezTo>
                    <a:cubicBezTo>
                      <a:pt x="9" y="8"/>
                      <a:pt x="11" y="8"/>
                      <a:pt x="10" y="6"/>
                    </a:cubicBezTo>
                    <a:cubicBezTo>
                      <a:pt x="8" y="4"/>
                      <a:pt x="5" y="2"/>
                      <a:pt x="2" y="0"/>
                    </a:cubicBezTo>
                    <a:cubicBezTo>
                      <a:pt x="1" y="1"/>
                      <a:pt x="2" y="3"/>
                      <a:pt x="0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4889"/>
              <p:cNvSpPr/>
              <p:nvPr/>
            </p:nvSpPr>
            <p:spPr>
              <a:xfrm>
                <a:off x="10931400" y="49849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0" y="0"/>
                      <a:pt x="2" y="2"/>
                      <a:pt x="2" y="3"/>
                    </a:cubicBezTo>
                    <a:cubicBezTo>
                      <a:pt x="2" y="2"/>
                      <a:pt x="3" y="2"/>
                      <a:pt x="4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4890"/>
              <p:cNvSpPr/>
              <p:nvPr/>
            </p:nvSpPr>
            <p:spPr>
              <a:xfrm>
                <a:off x="10917000" y="4899240"/>
                <a:ext cx="2484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2"/>
                    </a:moveTo>
                    <a:cubicBezTo>
                      <a:pt x="7" y="2"/>
                      <a:pt x="6" y="1"/>
                      <a:pt x="6" y="0"/>
                    </a:cubicBezTo>
                    <a:cubicBezTo>
                      <a:pt x="4" y="1"/>
                      <a:pt x="2" y="2"/>
                      <a:pt x="0" y="3"/>
                    </a:cubicBezTo>
                    <a:cubicBezTo>
                      <a:pt x="0" y="6"/>
                      <a:pt x="3" y="2"/>
                      <a:pt x="3" y="6"/>
                    </a:cubicBezTo>
                    <a:cubicBezTo>
                      <a:pt x="6" y="6"/>
                      <a:pt x="3" y="2"/>
                      <a:pt x="7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4891"/>
              <p:cNvSpPr/>
              <p:nvPr/>
            </p:nvSpPr>
            <p:spPr>
              <a:xfrm>
                <a:off x="10972440" y="501984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3"/>
                    </a:moveTo>
                    <a:cubicBezTo>
                      <a:pt x="4" y="1"/>
                      <a:pt x="3" y="0"/>
                      <a:pt x="0" y="1"/>
                    </a:cubicBezTo>
                    <a:cubicBezTo>
                      <a:pt x="0" y="4"/>
                      <a:pt x="3" y="3"/>
                      <a:pt x="6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4892"/>
              <p:cNvSpPr/>
              <p:nvPr/>
            </p:nvSpPr>
            <p:spPr>
              <a:xfrm>
                <a:off x="10980360" y="500688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2" y="7"/>
                      <a:pt x="3" y="6"/>
                      <a:pt x="4" y="7"/>
                    </a:cubicBezTo>
                    <a:cubicBezTo>
                      <a:pt x="5" y="5"/>
                      <a:pt x="6" y="3"/>
                      <a:pt x="4" y="2"/>
                    </a:cubicBezTo>
                    <a:cubicBezTo>
                      <a:pt x="4" y="1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4893"/>
              <p:cNvSpPr/>
              <p:nvPr/>
            </p:nvSpPr>
            <p:spPr>
              <a:xfrm>
                <a:off x="10983600" y="490212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2"/>
                    </a:moveTo>
                    <a:cubicBezTo>
                      <a:pt x="2" y="3"/>
                      <a:pt x="1" y="2"/>
                      <a:pt x="1" y="1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2" y="5"/>
                      <a:pt x="2" y="4"/>
                      <a:pt x="2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3" y="3"/>
                      <a:pt x="4" y="2"/>
                      <a:pt x="5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4894"/>
              <p:cNvSpPr/>
              <p:nvPr/>
            </p:nvSpPr>
            <p:spPr>
              <a:xfrm>
                <a:off x="10961280" y="49212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4895"/>
              <p:cNvSpPr/>
              <p:nvPr/>
            </p:nvSpPr>
            <p:spPr>
              <a:xfrm>
                <a:off x="10942200" y="497700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3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5" y="6"/>
                      <a:pt x="6" y="4"/>
                    </a:cubicBezTo>
                    <a:cubicBezTo>
                      <a:pt x="6" y="3"/>
                      <a:pt x="4" y="2"/>
                      <a:pt x="4" y="1"/>
                    </a:cubicBezTo>
                    <a:cubicBezTo>
                      <a:pt x="3" y="3"/>
                      <a:pt x="1" y="0"/>
                      <a:pt x="0" y="0"/>
                    </a:cubicBezTo>
                    <a:cubicBezTo>
                      <a:pt x="1" y="1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Freeform 4896"/>
              <p:cNvSpPr/>
              <p:nvPr/>
            </p:nvSpPr>
            <p:spPr>
              <a:xfrm>
                <a:off x="10947240" y="4932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3" y="0"/>
                    </a:cubicBezTo>
                    <a:cubicBezTo>
                      <a:pt x="2" y="0"/>
                      <a:pt x="1" y="1"/>
                      <a:pt x="1" y="0"/>
                    </a:cubicBezTo>
                    <a:cubicBezTo>
                      <a:pt x="1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Freeform 4897"/>
              <p:cNvSpPr/>
              <p:nvPr/>
            </p:nvSpPr>
            <p:spPr>
              <a:xfrm>
                <a:off x="10942200" y="4894200"/>
                <a:ext cx="45720" cy="651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7"/>
                    </a:moveTo>
                    <a:cubicBezTo>
                      <a:pt x="9" y="8"/>
                      <a:pt x="6" y="6"/>
                      <a:pt x="5" y="5"/>
                    </a:cubicBezTo>
                    <a:cubicBezTo>
                      <a:pt x="4" y="4"/>
                      <a:pt x="4" y="2"/>
                      <a:pt x="4" y="1"/>
                    </a:cubicBezTo>
                    <a:cubicBezTo>
                      <a:pt x="2" y="1"/>
                      <a:pt x="2" y="1"/>
                      <a:pt x="0" y="0"/>
                    </a:cubicBezTo>
                    <a:cubicBezTo>
                      <a:pt x="1" y="1"/>
                      <a:pt x="1" y="4"/>
                      <a:pt x="3" y="5"/>
                    </a:cubicBezTo>
                    <a:cubicBezTo>
                      <a:pt x="2" y="6"/>
                      <a:pt x="1" y="6"/>
                      <a:pt x="1" y="4"/>
                    </a:cubicBezTo>
                    <a:cubicBezTo>
                      <a:pt x="0" y="5"/>
                      <a:pt x="1" y="6"/>
                      <a:pt x="0" y="7"/>
                    </a:cubicBezTo>
                    <a:cubicBezTo>
                      <a:pt x="2" y="6"/>
                      <a:pt x="3" y="6"/>
                      <a:pt x="5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4" y="10"/>
                      <a:pt x="4" y="10"/>
                      <a:pt x="4" y="9"/>
                    </a:cubicBezTo>
                    <a:cubicBezTo>
                      <a:pt x="4" y="9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5" y="11"/>
                      <a:pt x="6" y="12"/>
                    </a:cubicBezTo>
                    <a:cubicBezTo>
                      <a:pt x="6" y="12"/>
                      <a:pt x="7" y="14"/>
                      <a:pt x="6" y="14"/>
                    </a:cubicBezTo>
                    <a:cubicBezTo>
                      <a:pt x="7" y="16"/>
                      <a:pt x="9" y="17"/>
                      <a:pt x="8" y="14"/>
                    </a:cubicBezTo>
                    <a:cubicBezTo>
                      <a:pt x="8" y="15"/>
                      <a:pt x="8" y="15"/>
                      <a:pt x="7" y="15"/>
                    </a:cubicBezTo>
                    <a:cubicBezTo>
                      <a:pt x="8" y="13"/>
                      <a:pt x="7" y="13"/>
                      <a:pt x="7" y="12"/>
                    </a:cubicBezTo>
                    <a:cubicBezTo>
                      <a:pt x="7" y="13"/>
                      <a:pt x="8" y="13"/>
                      <a:pt x="8" y="14"/>
                    </a:cubicBezTo>
                    <a:cubicBezTo>
                      <a:pt x="8" y="14"/>
                      <a:pt x="8" y="14"/>
                      <a:pt x="9" y="13"/>
                    </a:cubicBezTo>
                    <a:cubicBezTo>
                      <a:pt x="9" y="13"/>
                      <a:pt x="9" y="14"/>
                      <a:pt x="9" y="14"/>
                    </a:cubicBezTo>
                    <a:cubicBezTo>
                      <a:pt x="10" y="13"/>
                      <a:pt x="10" y="15"/>
                      <a:pt x="11" y="16"/>
                    </a:cubicBezTo>
                    <a:cubicBezTo>
                      <a:pt x="12" y="16"/>
                      <a:pt x="12" y="15"/>
                      <a:pt x="12" y="15"/>
                    </a:cubicBezTo>
                    <a:cubicBezTo>
                      <a:pt x="12" y="15"/>
                      <a:pt x="12" y="14"/>
                      <a:pt x="11" y="14"/>
                    </a:cubicBezTo>
                    <a:cubicBezTo>
                      <a:pt x="11" y="14"/>
                      <a:pt x="11" y="14"/>
                      <a:pt x="11" y="15"/>
                    </a:cubicBezTo>
                    <a:cubicBezTo>
                      <a:pt x="10" y="15"/>
                      <a:pt x="10" y="13"/>
                      <a:pt x="10" y="13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1"/>
                    </a:cubicBezTo>
                    <a:cubicBezTo>
                      <a:pt x="8" y="12"/>
                      <a:pt x="8" y="10"/>
                      <a:pt x="7" y="10"/>
                    </a:cubicBezTo>
                    <a:cubicBezTo>
                      <a:pt x="8" y="9"/>
                      <a:pt x="8" y="10"/>
                      <a:pt x="9" y="9"/>
                    </a:cubicBezTo>
                    <a:cubicBezTo>
                      <a:pt x="9" y="9"/>
                      <a:pt x="9" y="10"/>
                      <a:pt x="9" y="11"/>
                    </a:cubicBezTo>
                    <a:cubicBezTo>
                      <a:pt x="10" y="10"/>
                      <a:pt x="10" y="8"/>
                      <a:pt x="1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Freeform 4898"/>
              <p:cNvSpPr/>
              <p:nvPr/>
            </p:nvSpPr>
            <p:spPr>
              <a:xfrm>
                <a:off x="10931400" y="4932360"/>
                <a:ext cx="1044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1" y="0"/>
                      <a:pt x="0" y="2"/>
                      <a:pt x="0" y="1"/>
                    </a:cubicBezTo>
                    <a:cubicBezTo>
                      <a:pt x="0" y="3"/>
                      <a:pt x="2" y="2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1" y="3"/>
                      <a:pt x="0" y="2"/>
                      <a:pt x="2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4899"/>
              <p:cNvSpPr/>
              <p:nvPr/>
            </p:nvSpPr>
            <p:spPr>
              <a:xfrm>
                <a:off x="10917000" y="492444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1"/>
                      <a:pt x="2" y="1"/>
                      <a:pt x="3" y="2"/>
                    </a:cubicBezTo>
                    <a:cubicBezTo>
                      <a:pt x="3" y="3"/>
                      <a:pt x="2" y="3"/>
                      <a:pt x="3" y="4"/>
                    </a:cubicBezTo>
                    <a:cubicBezTo>
                      <a:pt x="4" y="4"/>
                      <a:pt x="3" y="2"/>
                      <a:pt x="5" y="2"/>
                    </a:cubicBezTo>
                    <a:cubicBezTo>
                      <a:pt x="4" y="2"/>
                      <a:pt x="3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Freeform 4900"/>
              <p:cNvSpPr/>
              <p:nvPr/>
            </p:nvSpPr>
            <p:spPr>
              <a:xfrm>
                <a:off x="10969200" y="50148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cubicBezTo>
                      <a:pt x="4" y="2"/>
                      <a:pt x="3" y="3"/>
                      <a:pt x="1" y="3"/>
                    </a:cubicBezTo>
                    <a:cubicBezTo>
                      <a:pt x="0" y="5"/>
                      <a:pt x="3" y="3"/>
                      <a:pt x="2" y="4"/>
                    </a:cubicBezTo>
                    <a:cubicBezTo>
                      <a:pt x="4" y="4"/>
                      <a:pt x="5" y="0"/>
                      <a:pt x="3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4901"/>
              <p:cNvSpPr/>
              <p:nvPr/>
            </p:nvSpPr>
            <p:spPr>
              <a:xfrm>
                <a:off x="10980360" y="4981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2" y="2"/>
                      <a:pt x="3" y="3"/>
                      <a:pt x="4" y="4"/>
                    </a:cubicBezTo>
                    <a:cubicBezTo>
                      <a:pt x="5" y="3"/>
                      <a:pt x="1" y="2"/>
                      <a:pt x="2" y="0"/>
                    </a:cubicBezTo>
                    <a:cubicBezTo>
                      <a:pt x="1" y="0"/>
                      <a:pt x="0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4902"/>
              <p:cNvSpPr/>
              <p:nvPr/>
            </p:nvSpPr>
            <p:spPr>
              <a:xfrm>
                <a:off x="10980360" y="50068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2" y="3"/>
                      <a:pt x="3" y="3"/>
                      <a:pt x="3" y="0"/>
                    </a:cubicBezTo>
                    <a:cubicBezTo>
                      <a:pt x="2" y="1"/>
                      <a:pt x="0" y="2"/>
                      <a:pt x="1" y="4"/>
                    </a:cubicBezTo>
                    <a:cubicBezTo>
                      <a:pt x="1" y="3"/>
                      <a:pt x="2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4903"/>
              <p:cNvSpPr/>
              <p:nvPr/>
            </p:nvSpPr>
            <p:spPr>
              <a:xfrm>
                <a:off x="10980360" y="497376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3"/>
                    </a:moveTo>
                    <a:cubicBezTo>
                      <a:pt x="2" y="3"/>
                      <a:pt x="3" y="6"/>
                      <a:pt x="4" y="5"/>
                    </a:cubicBezTo>
                    <a:cubicBezTo>
                      <a:pt x="4" y="5"/>
                      <a:pt x="4" y="6"/>
                      <a:pt x="4" y="7"/>
                    </a:cubicBezTo>
                    <a:cubicBezTo>
                      <a:pt x="6" y="4"/>
                      <a:pt x="2" y="2"/>
                      <a:pt x="2" y="0"/>
                    </a:cubicBezTo>
                    <a:cubicBezTo>
                      <a:pt x="0" y="0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4904"/>
              <p:cNvSpPr/>
              <p:nvPr/>
            </p:nvSpPr>
            <p:spPr>
              <a:xfrm>
                <a:off x="10977480" y="491796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4905"/>
              <p:cNvSpPr/>
              <p:nvPr/>
            </p:nvSpPr>
            <p:spPr>
              <a:xfrm>
                <a:off x="10994760" y="4959360"/>
                <a:ext cx="1224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1" y="2"/>
                      <a:pt x="2" y="1"/>
                      <a:pt x="2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4906"/>
              <p:cNvSpPr/>
              <p:nvPr/>
            </p:nvSpPr>
            <p:spPr>
              <a:xfrm>
                <a:off x="10939320" y="49514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2"/>
                      <a:pt x="2" y="1"/>
                      <a:pt x="2" y="1"/>
                    </a:cubicBezTo>
                    <a:cubicBezTo>
                      <a:pt x="1" y="0"/>
                      <a:pt x="1" y="2"/>
                      <a:pt x="1" y="2"/>
                    </a:cubicBezTo>
                    <a:cubicBezTo>
                      <a:pt x="0" y="3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4907"/>
              <p:cNvSpPr/>
              <p:nvPr/>
            </p:nvSpPr>
            <p:spPr>
              <a:xfrm>
                <a:off x="10936080" y="4913280"/>
                <a:ext cx="16920" cy="302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0"/>
                    </a:moveTo>
                    <a:cubicBezTo>
                      <a:pt x="1" y="3"/>
                      <a:pt x="0" y="3"/>
                      <a:pt x="2" y="8"/>
                    </a:cubicBezTo>
                    <a:cubicBezTo>
                      <a:pt x="3" y="5"/>
                      <a:pt x="5" y="2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4908"/>
              <p:cNvSpPr/>
              <p:nvPr/>
            </p:nvSpPr>
            <p:spPr>
              <a:xfrm>
                <a:off x="10999440" y="49849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cubicBezTo>
                      <a:pt x="4" y="0"/>
                      <a:pt x="4" y="1"/>
                      <a:pt x="2" y="0"/>
                    </a:cubicBezTo>
                    <a:cubicBezTo>
                      <a:pt x="3" y="1"/>
                      <a:pt x="2" y="1"/>
                      <a:pt x="2" y="2"/>
                    </a:cubicBezTo>
                    <a:cubicBezTo>
                      <a:pt x="5" y="2"/>
                      <a:pt x="0" y="3"/>
                      <a:pt x="3" y="4"/>
                    </a:cubicBezTo>
                    <a:cubicBezTo>
                      <a:pt x="2" y="5"/>
                      <a:pt x="2" y="6"/>
                      <a:pt x="3" y="7"/>
                    </a:cubicBezTo>
                    <a:cubicBezTo>
                      <a:pt x="4" y="5"/>
                      <a:pt x="7" y="2"/>
                      <a:pt x="4" y="2"/>
                    </a:cubicBezTo>
                    <a:cubicBezTo>
                      <a:pt x="3" y="0"/>
                      <a:pt x="6" y="1"/>
                      <a:pt x="5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4909"/>
              <p:cNvSpPr/>
              <p:nvPr/>
            </p:nvSpPr>
            <p:spPr>
              <a:xfrm>
                <a:off x="11007360" y="500688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0"/>
                    </a:moveTo>
                    <a:cubicBezTo>
                      <a:pt x="1" y="2"/>
                      <a:pt x="0" y="3"/>
                      <a:pt x="2" y="4"/>
                    </a:cubicBezTo>
                    <a:cubicBezTo>
                      <a:pt x="3" y="3"/>
                      <a:pt x="5" y="2"/>
                      <a:pt x="6" y="1"/>
                    </a:cubicBezTo>
                    <a:cubicBezTo>
                      <a:pt x="5" y="1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4910"/>
              <p:cNvSpPr/>
              <p:nvPr/>
            </p:nvSpPr>
            <p:spPr>
              <a:xfrm>
                <a:off x="11007360" y="500688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2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4911"/>
              <p:cNvSpPr/>
              <p:nvPr/>
            </p:nvSpPr>
            <p:spPr>
              <a:xfrm>
                <a:off x="10928160" y="489420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cubicBezTo>
                      <a:pt x="4" y="4"/>
                      <a:pt x="3" y="3"/>
                      <a:pt x="4" y="2"/>
                    </a:cubicBezTo>
                    <a:cubicBezTo>
                      <a:pt x="4" y="2"/>
                      <a:pt x="1" y="0"/>
                      <a:pt x="2" y="1"/>
                    </a:cubicBezTo>
                    <a:cubicBezTo>
                      <a:pt x="4" y="2"/>
                      <a:pt x="0" y="3"/>
                      <a:pt x="3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4912"/>
              <p:cNvSpPr/>
              <p:nvPr/>
            </p:nvSpPr>
            <p:spPr>
              <a:xfrm>
                <a:off x="10917000" y="494352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cubicBezTo>
                      <a:pt x="1" y="3"/>
                      <a:pt x="2" y="1"/>
                      <a:pt x="0" y="0"/>
                    </a:cubicBezTo>
                    <a:cubicBezTo>
                      <a:pt x="1" y="2"/>
                      <a:pt x="1" y="4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4913"/>
              <p:cNvSpPr/>
              <p:nvPr/>
            </p:nvSpPr>
            <p:spPr>
              <a:xfrm>
                <a:off x="10936080" y="494820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cubicBezTo>
                      <a:pt x="3" y="0"/>
                      <a:pt x="2" y="2"/>
                      <a:pt x="2" y="0"/>
                    </a:cubicBezTo>
                    <a:cubicBezTo>
                      <a:pt x="1" y="2"/>
                      <a:pt x="1" y="6"/>
                      <a:pt x="0" y="8"/>
                    </a:cubicBezTo>
                    <a:cubicBezTo>
                      <a:pt x="0" y="9"/>
                      <a:pt x="3" y="8"/>
                      <a:pt x="2" y="10"/>
                    </a:cubicBezTo>
                    <a:cubicBezTo>
                      <a:pt x="3" y="11"/>
                      <a:pt x="3" y="7"/>
                      <a:pt x="3" y="6"/>
                    </a:cubicBezTo>
                    <a:cubicBezTo>
                      <a:pt x="4" y="7"/>
                      <a:pt x="3" y="9"/>
                      <a:pt x="4" y="9"/>
                    </a:cubicBezTo>
                    <a:cubicBezTo>
                      <a:pt x="3" y="8"/>
                      <a:pt x="5" y="5"/>
                      <a:pt x="6" y="4"/>
                    </a:cubicBezTo>
                    <a:cubicBezTo>
                      <a:pt x="4" y="4"/>
                      <a:pt x="5" y="2"/>
                      <a:pt x="4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4914"/>
              <p:cNvSpPr/>
              <p:nvPr/>
            </p:nvSpPr>
            <p:spPr>
              <a:xfrm>
                <a:off x="10953360" y="495144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" y="7"/>
                    </a:moveTo>
                    <a:cubicBezTo>
                      <a:pt x="2" y="8"/>
                      <a:pt x="2" y="6"/>
                      <a:pt x="3" y="6"/>
                    </a:cubicBezTo>
                    <a:cubicBezTo>
                      <a:pt x="3" y="7"/>
                      <a:pt x="3" y="9"/>
                      <a:pt x="4" y="8"/>
                    </a:cubicBezTo>
                    <a:cubicBezTo>
                      <a:pt x="3" y="7"/>
                      <a:pt x="6" y="6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5"/>
                      <a:pt x="6" y="6"/>
                      <a:pt x="6" y="8"/>
                    </a:cubicBezTo>
                    <a:cubicBezTo>
                      <a:pt x="6" y="8"/>
                      <a:pt x="7" y="7"/>
                      <a:pt x="6" y="6"/>
                    </a:cubicBezTo>
                    <a:cubicBezTo>
                      <a:pt x="7" y="7"/>
                      <a:pt x="7" y="7"/>
                      <a:pt x="7" y="8"/>
                    </a:cubicBezTo>
                    <a:cubicBezTo>
                      <a:pt x="8" y="8"/>
                      <a:pt x="8" y="3"/>
                      <a:pt x="9" y="7"/>
                    </a:cubicBezTo>
                    <a:cubicBezTo>
                      <a:pt x="10" y="7"/>
                      <a:pt x="9" y="4"/>
                      <a:pt x="8" y="4"/>
                    </a:cubicBezTo>
                    <a:cubicBezTo>
                      <a:pt x="9" y="3"/>
                      <a:pt x="9" y="3"/>
                      <a:pt x="10" y="4"/>
                    </a:cubicBezTo>
                    <a:cubicBezTo>
                      <a:pt x="11" y="3"/>
                      <a:pt x="6" y="2"/>
                      <a:pt x="6" y="3"/>
                    </a:cubicBezTo>
                    <a:cubicBezTo>
                      <a:pt x="5" y="3"/>
                      <a:pt x="5" y="1"/>
                      <a:pt x="5" y="1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1" y="1"/>
                      <a:pt x="2" y="1"/>
                      <a:pt x="3" y="2"/>
                    </a:cubicBezTo>
                    <a:cubicBezTo>
                      <a:pt x="3" y="5"/>
                      <a:pt x="1" y="5"/>
                      <a:pt x="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4915"/>
              <p:cNvSpPr/>
              <p:nvPr/>
            </p:nvSpPr>
            <p:spPr>
              <a:xfrm>
                <a:off x="10920240" y="493236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cubicBezTo>
                      <a:pt x="0" y="0"/>
                      <a:pt x="2" y="2"/>
                      <a:pt x="0" y="2"/>
                    </a:cubicBezTo>
                    <a:cubicBezTo>
                      <a:pt x="0" y="3"/>
                      <a:pt x="2" y="0"/>
                      <a:pt x="3" y="3"/>
                    </a:cubicBezTo>
                    <a:cubicBezTo>
                      <a:pt x="4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4916"/>
              <p:cNvSpPr/>
              <p:nvPr/>
            </p:nvSpPr>
            <p:spPr>
              <a:xfrm>
                <a:off x="10920240" y="49100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2"/>
                    </a:moveTo>
                    <a:cubicBezTo>
                      <a:pt x="0" y="1"/>
                      <a:pt x="1" y="2"/>
                      <a:pt x="1" y="3"/>
                    </a:cubicBezTo>
                    <a:cubicBezTo>
                      <a:pt x="2" y="3"/>
                      <a:pt x="1" y="2"/>
                      <a:pt x="2" y="1"/>
                    </a:cubicBezTo>
                    <a:cubicBezTo>
                      <a:pt x="1" y="2"/>
                      <a:pt x="0" y="0"/>
                      <a:pt x="0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4917"/>
              <p:cNvSpPr/>
              <p:nvPr/>
            </p:nvSpPr>
            <p:spPr>
              <a:xfrm>
                <a:off x="10928160" y="491004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4918"/>
              <p:cNvSpPr/>
              <p:nvPr/>
            </p:nvSpPr>
            <p:spPr>
              <a:xfrm>
                <a:off x="11007360" y="49849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2"/>
                      <a:pt x="5" y="2"/>
                      <a:pt x="4" y="0"/>
                    </a:cubicBezTo>
                    <a:cubicBezTo>
                      <a:pt x="4" y="2"/>
                      <a:pt x="3" y="1"/>
                      <a:pt x="2" y="2"/>
                    </a:cubicBezTo>
                    <a:cubicBezTo>
                      <a:pt x="2" y="0"/>
                      <a:pt x="3" y="0"/>
                      <a:pt x="0" y="0"/>
                    </a:cubicBezTo>
                    <a:cubicBezTo>
                      <a:pt x="0" y="2"/>
                      <a:pt x="1" y="3"/>
                      <a:pt x="1" y="5"/>
                    </a:cubicBezTo>
                    <a:cubicBezTo>
                      <a:pt x="3" y="6"/>
                      <a:pt x="3" y="3"/>
                      <a:pt x="5" y="4"/>
                    </a:cubicBezTo>
                    <a:cubicBezTo>
                      <a:pt x="5" y="4"/>
                      <a:pt x="5" y="2"/>
                      <a:pt x="6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4919"/>
              <p:cNvSpPr/>
              <p:nvPr/>
            </p:nvSpPr>
            <p:spPr>
              <a:xfrm>
                <a:off x="10909080" y="494028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cubicBezTo>
                      <a:pt x="2" y="2"/>
                      <a:pt x="0" y="1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0" y="0"/>
                      <a:pt x="3" y="4"/>
                      <a:pt x="4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4920"/>
              <p:cNvSpPr/>
              <p:nvPr/>
            </p:nvSpPr>
            <p:spPr>
              <a:xfrm>
                <a:off x="10928160" y="489420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1" y="3"/>
                      <a:pt x="2" y="5"/>
                      <a:pt x="3" y="5"/>
                    </a:cubicBezTo>
                    <a:cubicBezTo>
                      <a:pt x="4" y="5"/>
                      <a:pt x="0" y="0"/>
                      <a:pt x="0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4921"/>
              <p:cNvSpPr/>
              <p:nvPr/>
            </p:nvSpPr>
            <p:spPr>
              <a:xfrm>
                <a:off x="10958400" y="4924440"/>
                <a:ext cx="1044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cubicBezTo>
                      <a:pt x="0" y="1"/>
                      <a:pt x="2" y="1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4922"/>
              <p:cNvSpPr/>
              <p:nvPr/>
            </p:nvSpPr>
            <p:spPr>
              <a:xfrm>
                <a:off x="10994760" y="4921200"/>
                <a:ext cx="26640" cy="33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4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2"/>
                      <a:pt x="7" y="2"/>
                      <a:pt x="6" y="1"/>
                    </a:cubicBez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0"/>
                      <a:pt x="3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2" y="4"/>
                      <a:pt x="2" y="5"/>
                      <a:pt x="3" y="6"/>
                    </a:cubicBezTo>
                    <a:cubicBezTo>
                      <a:pt x="3" y="7"/>
                      <a:pt x="2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5" y="9"/>
                    </a:cubicBezTo>
                    <a:cubicBezTo>
                      <a:pt x="6" y="8"/>
                      <a:pt x="3" y="6"/>
                      <a:pt x="4" y="4"/>
                    </a:cubicBezTo>
                    <a:cubicBezTo>
                      <a:pt x="4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2"/>
                      <a:pt x="5" y="5"/>
                      <a:pt x="7" y="4"/>
                    </a:cubicBezTo>
                    <a:close/>
                    <a:moveTo>
                      <a:pt x="2" y="3"/>
                    </a:moveTo>
                    <a:cubicBezTo>
                      <a:pt x="2" y="3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4923"/>
              <p:cNvSpPr/>
              <p:nvPr/>
            </p:nvSpPr>
            <p:spPr>
              <a:xfrm>
                <a:off x="10924920" y="491796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cubicBezTo>
                      <a:pt x="0" y="2"/>
                      <a:pt x="1" y="3"/>
                      <a:pt x="1" y="5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3" y="3"/>
                      <a:pt x="3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4924"/>
              <p:cNvSpPr/>
              <p:nvPr/>
            </p:nvSpPr>
            <p:spPr>
              <a:xfrm>
                <a:off x="10980360" y="49546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4"/>
                    </a:moveTo>
                    <a:cubicBezTo>
                      <a:pt x="4" y="4"/>
                      <a:pt x="5" y="3"/>
                      <a:pt x="4" y="1"/>
                    </a:cubicBezTo>
                    <a:cubicBezTo>
                      <a:pt x="1" y="0"/>
                      <a:pt x="2" y="2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4925"/>
              <p:cNvSpPr/>
              <p:nvPr/>
            </p:nvSpPr>
            <p:spPr>
              <a:xfrm>
                <a:off x="10924920" y="493560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cubicBezTo>
                      <a:pt x="5" y="4"/>
                      <a:pt x="5" y="4"/>
                      <a:pt x="5" y="3"/>
                    </a:cubicBezTo>
                    <a:cubicBezTo>
                      <a:pt x="4" y="2"/>
                      <a:pt x="4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2" y="2"/>
                      <a:pt x="2" y="5"/>
                      <a:pt x="5" y="5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4926"/>
              <p:cNvSpPr/>
              <p:nvPr/>
            </p:nvSpPr>
            <p:spPr>
              <a:xfrm>
                <a:off x="10977480" y="4929120"/>
                <a:ext cx="10440" cy="302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cubicBezTo>
                      <a:pt x="1" y="2"/>
                      <a:pt x="0" y="8"/>
                      <a:pt x="2" y="8"/>
                    </a:cubicBezTo>
                    <a:cubicBezTo>
                      <a:pt x="3" y="6"/>
                      <a:pt x="2" y="3"/>
                      <a:pt x="1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4927"/>
              <p:cNvSpPr/>
              <p:nvPr/>
            </p:nvSpPr>
            <p:spPr>
              <a:xfrm>
                <a:off x="11007360" y="497700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2"/>
                    </a:move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1"/>
                      <a:pt x="1" y="5"/>
                      <a:pt x="0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5" y="8"/>
                    </a:cubicBezTo>
                    <a:cubicBezTo>
                      <a:pt x="5" y="6"/>
                      <a:pt x="6" y="6"/>
                      <a:pt x="7" y="5"/>
                    </a:cubicBezTo>
                    <a:cubicBezTo>
                      <a:pt x="6" y="4"/>
                      <a:pt x="5" y="4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5" y="2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4" y="1"/>
                      <a:pt x="3" y="2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4928"/>
              <p:cNvSpPr/>
              <p:nvPr/>
            </p:nvSpPr>
            <p:spPr>
              <a:xfrm>
                <a:off x="10980360" y="495144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2" y="1"/>
                      <a:pt x="2" y="2"/>
                    </a:cubicBezTo>
                    <a:cubicBezTo>
                      <a:pt x="2" y="1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4929"/>
              <p:cNvSpPr/>
              <p:nvPr/>
            </p:nvSpPr>
            <p:spPr>
              <a:xfrm>
                <a:off x="10980360" y="49402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cubicBezTo>
                      <a:pt x="2" y="1"/>
                      <a:pt x="2" y="2"/>
                      <a:pt x="0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2"/>
                      <a:pt x="2" y="3"/>
                      <a:pt x="2" y="3"/>
                    </a:cubicBezTo>
                    <a:cubicBezTo>
                      <a:pt x="3" y="3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4930"/>
              <p:cNvSpPr/>
              <p:nvPr/>
            </p:nvSpPr>
            <p:spPr>
              <a:xfrm>
                <a:off x="11007360" y="4984920"/>
                <a:ext cx="52200" cy="410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4" y="9"/>
                    </a:moveTo>
                    <a:cubicBezTo>
                      <a:pt x="8" y="8"/>
                      <a:pt x="13" y="11"/>
                      <a:pt x="14" y="6"/>
                    </a:cubicBezTo>
                    <a:cubicBezTo>
                      <a:pt x="13" y="6"/>
                      <a:pt x="13" y="8"/>
                      <a:pt x="12" y="7"/>
                    </a:cubicBezTo>
                    <a:cubicBezTo>
                      <a:pt x="12" y="7"/>
                      <a:pt x="12" y="6"/>
                      <a:pt x="11" y="6"/>
                    </a:cubicBezTo>
                    <a:cubicBezTo>
                      <a:pt x="12" y="6"/>
                      <a:pt x="13" y="6"/>
                      <a:pt x="12" y="5"/>
                    </a:cubicBezTo>
                    <a:cubicBezTo>
                      <a:pt x="12" y="5"/>
                      <a:pt x="13" y="4"/>
                      <a:pt x="14" y="4"/>
                    </a:cubicBezTo>
                    <a:cubicBezTo>
                      <a:pt x="14" y="4"/>
                      <a:pt x="13" y="3"/>
                      <a:pt x="13" y="4"/>
                    </a:cubicBezTo>
                    <a:cubicBezTo>
                      <a:pt x="12" y="3"/>
                      <a:pt x="13" y="2"/>
                      <a:pt x="12" y="2"/>
                    </a:cubicBezTo>
                    <a:cubicBezTo>
                      <a:pt x="11" y="5"/>
                      <a:pt x="9" y="2"/>
                      <a:pt x="9" y="4"/>
                    </a:cubicBezTo>
                    <a:cubicBezTo>
                      <a:pt x="8" y="3"/>
                      <a:pt x="9" y="3"/>
                      <a:pt x="9" y="2"/>
                    </a:cubicBezTo>
                    <a:cubicBezTo>
                      <a:pt x="9" y="1"/>
                      <a:pt x="10" y="2"/>
                      <a:pt x="11" y="2"/>
                    </a:cubicBezTo>
                    <a:cubicBezTo>
                      <a:pt x="10" y="0"/>
                      <a:pt x="9" y="1"/>
                      <a:pt x="7" y="1"/>
                    </a:cubicBezTo>
                    <a:cubicBezTo>
                      <a:pt x="7" y="2"/>
                      <a:pt x="7" y="2"/>
                      <a:pt x="7" y="3"/>
                    </a:cubicBezTo>
                    <a:cubicBezTo>
                      <a:pt x="5" y="3"/>
                      <a:pt x="4" y="1"/>
                      <a:pt x="3" y="1"/>
                    </a:cubicBezTo>
                    <a:cubicBezTo>
                      <a:pt x="1" y="1"/>
                      <a:pt x="2" y="3"/>
                      <a:pt x="3" y="4"/>
                    </a:cubicBezTo>
                    <a:cubicBezTo>
                      <a:pt x="1" y="3"/>
                      <a:pt x="1" y="4"/>
                      <a:pt x="0" y="6"/>
                    </a:cubicBezTo>
                    <a:cubicBezTo>
                      <a:pt x="2" y="6"/>
                      <a:pt x="1" y="7"/>
                      <a:pt x="3" y="8"/>
                    </a:cubicBezTo>
                    <a:cubicBezTo>
                      <a:pt x="4" y="7"/>
                      <a:pt x="3" y="6"/>
                      <a:pt x="3" y="5"/>
                    </a:cubicBezTo>
                    <a:cubicBezTo>
                      <a:pt x="5" y="6"/>
                      <a:pt x="3" y="6"/>
                      <a:pt x="4" y="7"/>
                    </a:cubicBezTo>
                    <a:cubicBezTo>
                      <a:pt x="5" y="7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5" y="5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7" y="5"/>
                      <a:pt x="7" y="6"/>
                      <a:pt x="8" y="7"/>
                    </a:cubicBezTo>
                    <a:cubicBezTo>
                      <a:pt x="10" y="6"/>
                      <a:pt x="9" y="5"/>
                      <a:pt x="9" y="4"/>
                    </a:cubicBezTo>
                    <a:cubicBezTo>
                      <a:pt x="9" y="6"/>
                      <a:pt x="10" y="5"/>
                      <a:pt x="11" y="7"/>
                    </a:cubicBezTo>
                    <a:cubicBezTo>
                      <a:pt x="9" y="7"/>
                      <a:pt x="8" y="8"/>
                      <a:pt x="5" y="7"/>
                    </a:cubicBezTo>
                    <a:cubicBezTo>
                      <a:pt x="6" y="8"/>
                      <a:pt x="5" y="8"/>
                      <a:pt x="4" y="9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4931"/>
              <p:cNvSpPr/>
              <p:nvPr/>
            </p:nvSpPr>
            <p:spPr>
              <a:xfrm>
                <a:off x="10853640" y="4880160"/>
                <a:ext cx="55080" cy="489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6" y="11"/>
                    </a:moveTo>
                    <a:cubicBezTo>
                      <a:pt x="8" y="11"/>
                      <a:pt x="7" y="9"/>
                      <a:pt x="8" y="9"/>
                    </a:cubicBezTo>
                    <a:cubicBezTo>
                      <a:pt x="8" y="9"/>
                      <a:pt x="9" y="10"/>
                      <a:pt x="9" y="11"/>
                    </a:cubicBezTo>
                    <a:cubicBezTo>
                      <a:pt x="11" y="11"/>
                      <a:pt x="8" y="9"/>
                      <a:pt x="9" y="8"/>
                    </a:cubicBezTo>
                    <a:cubicBezTo>
                      <a:pt x="11" y="8"/>
                      <a:pt x="10" y="9"/>
                      <a:pt x="10" y="10"/>
                    </a:cubicBezTo>
                    <a:cubicBezTo>
                      <a:pt x="11" y="10"/>
                      <a:pt x="11" y="9"/>
                      <a:pt x="11" y="10"/>
                    </a:cubicBezTo>
                    <a:cubicBezTo>
                      <a:pt x="12" y="10"/>
                      <a:pt x="11" y="8"/>
                      <a:pt x="14" y="10"/>
                    </a:cubicBezTo>
                    <a:cubicBezTo>
                      <a:pt x="14" y="8"/>
                      <a:pt x="15" y="9"/>
                      <a:pt x="15" y="7"/>
                    </a:cubicBezTo>
                    <a:cubicBezTo>
                      <a:pt x="14" y="7"/>
                      <a:pt x="13" y="9"/>
                      <a:pt x="11" y="8"/>
                    </a:cubicBezTo>
                    <a:cubicBezTo>
                      <a:pt x="12" y="7"/>
                      <a:pt x="11" y="6"/>
                      <a:pt x="10" y="7"/>
                    </a:cubicBezTo>
                    <a:cubicBezTo>
                      <a:pt x="10" y="6"/>
                      <a:pt x="9" y="6"/>
                      <a:pt x="8" y="5"/>
                    </a:cubicBezTo>
                    <a:cubicBezTo>
                      <a:pt x="9" y="4"/>
                      <a:pt x="9" y="6"/>
                      <a:pt x="9" y="5"/>
                    </a:cubicBezTo>
                    <a:cubicBezTo>
                      <a:pt x="10" y="2"/>
                      <a:pt x="8" y="5"/>
                      <a:pt x="7" y="4"/>
                    </a:cubicBezTo>
                    <a:cubicBezTo>
                      <a:pt x="7" y="6"/>
                      <a:pt x="9" y="6"/>
                      <a:pt x="9" y="7"/>
                    </a:cubicBezTo>
                    <a:cubicBezTo>
                      <a:pt x="7" y="8"/>
                      <a:pt x="7" y="3"/>
                      <a:pt x="4" y="5"/>
                    </a:cubicBezTo>
                    <a:cubicBezTo>
                      <a:pt x="5" y="3"/>
                      <a:pt x="7" y="4"/>
                      <a:pt x="7" y="2"/>
                    </a:cubicBezTo>
                    <a:cubicBezTo>
                      <a:pt x="6" y="2"/>
                      <a:pt x="6" y="0"/>
                      <a:pt x="3" y="0"/>
                    </a:cubicBezTo>
                    <a:cubicBezTo>
                      <a:pt x="3" y="2"/>
                      <a:pt x="5" y="1"/>
                      <a:pt x="5" y="1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4" y="3"/>
                      <a:pt x="4" y="3"/>
                      <a:pt x="3" y="2"/>
                    </a:cubicBezTo>
                    <a:cubicBezTo>
                      <a:pt x="2" y="4"/>
                      <a:pt x="3" y="6"/>
                      <a:pt x="1" y="6"/>
                    </a:cubicBezTo>
                    <a:cubicBezTo>
                      <a:pt x="0" y="7"/>
                      <a:pt x="3" y="6"/>
                      <a:pt x="1" y="7"/>
                    </a:cubicBezTo>
                    <a:cubicBezTo>
                      <a:pt x="1" y="10"/>
                      <a:pt x="4" y="6"/>
                      <a:pt x="3" y="8"/>
                    </a:cubicBezTo>
                    <a:cubicBezTo>
                      <a:pt x="5" y="8"/>
                      <a:pt x="3" y="6"/>
                      <a:pt x="4" y="5"/>
                    </a:cubicBezTo>
                    <a:cubicBezTo>
                      <a:pt x="5" y="6"/>
                      <a:pt x="5" y="9"/>
                      <a:pt x="7" y="8"/>
                    </a:cubicBezTo>
                    <a:cubicBezTo>
                      <a:pt x="5" y="9"/>
                      <a:pt x="3" y="9"/>
                      <a:pt x="1" y="9"/>
                    </a:cubicBezTo>
                    <a:cubicBezTo>
                      <a:pt x="1" y="10"/>
                      <a:pt x="3" y="11"/>
                      <a:pt x="1" y="12"/>
                    </a:cubicBezTo>
                    <a:cubicBezTo>
                      <a:pt x="2" y="12"/>
                      <a:pt x="2" y="13"/>
                      <a:pt x="3" y="13"/>
                    </a:cubicBezTo>
                    <a:cubicBezTo>
                      <a:pt x="2" y="10"/>
                      <a:pt x="6" y="11"/>
                      <a:pt x="6" y="1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4932"/>
              <p:cNvSpPr/>
              <p:nvPr/>
            </p:nvSpPr>
            <p:spPr>
              <a:xfrm>
                <a:off x="10958400" y="49100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1" y="0"/>
                      <a:pt x="1" y="1"/>
                      <a:pt x="1" y="0"/>
                    </a:cubicBezTo>
                    <a:cubicBezTo>
                      <a:pt x="0" y="1"/>
                      <a:pt x="0" y="3"/>
                      <a:pt x="2" y="3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3" name="Freeform 4933"/>
              <p:cNvSpPr/>
              <p:nvPr/>
            </p:nvSpPr>
            <p:spPr>
              <a:xfrm>
                <a:off x="10942200" y="494352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cubicBezTo>
                      <a:pt x="3" y="2"/>
                      <a:pt x="1" y="2"/>
                      <a:pt x="1" y="0"/>
                    </a:cubicBezTo>
                    <a:cubicBezTo>
                      <a:pt x="0" y="1"/>
                      <a:pt x="1" y="1"/>
                      <a:pt x="0" y="2"/>
                    </a:cubicBezTo>
                    <a:cubicBezTo>
                      <a:pt x="1" y="3"/>
                      <a:pt x="2" y="4"/>
                      <a:pt x="3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4" name="Freeform 4934"/>
              <p:cNvSpPr/>
              <p:nvPr/>
            </p:nvSpPr>
            <p:spPr>
              <a:xfrm>
                <a:off x="10883520" y="4921200"/>
                <a:ext cx="3312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1"/>
                      <a:pt x="2" y="0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8"/>
                      <a:pt x="9" y="6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4935"/>
              <p:cNvSpPr/>
              <p:nvPr/>
            </p:nvSpPr>
            <p:spPr>
              <a:xfrm>
                <a:off x="10999440" y="49737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4"/>
                    </a:moveTo>
                    <a:cubicBezTo>
                      <a:pt x="4" y="5"/>
                      <a:pt x="5" y="4"/>
                      <a:pt x="4" y="1"/>
                    </a:cubicBezTo>
                    <a:cubicBezTo>
                      <a:pt x="1" y="0"/>
                      <a:pt x="2" y="3"/>
                      <a:pt x="0" y="2"/>
                    </a:cubicBezTo>
                    <a:cubicBezTo>
                      <a:pt x="0" y="3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Freeform 4936"/>
              <p:cNvSpPr/>
              <p:nvPr/>
            </p:nvSpPr>
            <p:spPr>
              <a:xfrm>
                <a:off x="10936080" y="4996080"/>
                <a:ext cx="14040" cy="266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1"/>
                    </a:moveTo>
                    <a:cubicBezTo>
                      <a:pt x="1" y="2"/>
                      <a:pt x="3" y="1"/>
                      <a:pt x="1" y="3"/>
                    </a:cubicBezTo>
                    <a:cubicBezTo>
                      <a:pt x="1" y="5"/>
                      <a:pt x="2" y="6"/>
                      <a:pt x="3" y="7"/>
                    </a:cubicBezTo>
                    <a:cubicBezTo>
                      <a:pt x="3" y="5"/>
                      <a:pt x="4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Freeform 4937"/>
              <p:cNvSpPr/>
              <p:nvPr/>
            </p:nvSpPr>
            <p:spPr>
              <a:xfrm>
                <a:off x="11018520" y="4935600"/>
                <a:ext cx="44280" cy="651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7"/>
                    </a:moveTo>
                    <a:cubicBezTo>
                      <a:pt x="10" y="8"/>
                      <a:pt x="6" y="6"/>
                      <a:pt x="5" y="5"/>
                    </a:cubicBezTo>
                    <a:cubicBezTo>
                      <a:pt x="4" y="4"/>
                      <a:pt x="5" y="2"/>
                      <a:pt x="4" y="1"/>
                    </a:cubicBezTo>
                    <a:cubicBezTo>
                      <a:pt x="2" y="1"/>
                      <a:pt x="3" y="1"/>
                      <a:pt x="1" y="0"/>
                    </a:cubicBezTo>
                    <a:cubicBezTo>
                      <a:pt x="2" y="1"/>
                      <a:pt x="2" y="4"/>
                      <a:pt x="3" y="4"/>
                    </a:cubicBezTo>
                    <a:cubicBezTo>
                      <a:pt x="3" y="5"/>
                      <a:pt x="1" y="6"/>
                      <a:pt x="1" y="4"/>
                    </a:cubicBezTo>
                    <a:cubicBezTo>
                      <a:pt x="0" y="5"/>
                      <a:pt x="1" y="5"/>
                      <a:pt x="0" y="7"/>
                    </a:cubicBezTo>
                    <a:cubicBezTo>
                      <a:pt x="2" y="6"/>
                      <a:pt x="4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8"/>
                      <a:pt x="4" y="9"/>
                      <a:pt x="4" y="9"/>
                    </a:cubicBezTo>
                    <a:cubicBezTo>
                      <a:pt x="4" y="10"/>
                      <a:pt x="4" y="9"/>
                      <a:pt x="4" y="9"/>
                    </a:cubicBezTo>
                    <a:cubicBezTo>
                      <a:pt x="5" y="9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1"/>
                      <a:pt x="6" y="11"/>
                      <a:pt x="7" y="12"/>
                    </a:cubicBezTo>
                    <a:cubicBezTo>
                      <a:pt x="6" y="12"/>
                      <a:pt x="7" y="14"/>
                      <a:pt x="7" y="14"/>
                    </a:cubicBezTo>
                    <a:cubicBezTo>
                      <a:pt x="7" y="16"/>
                      <a:pt x="10" y="17"/>
                      <a:pt x="9" y="14"/>
                    </a:cubicBezTo>
                    <a:cubicBezTo>
                      <a:pt x="9" y="15"/>
                      <a:pt x="8" y="15"/>
                      <a:pt x="8" y="15"/>
                    </a:cubicBezTo>
                    <a:cubicBezTo>
                      <a:pt x="9" y="13"/>
                      <a:pt x="7" y="13"/>
                      <a:pt x="8" y="12"/>
                    </a:cubicBezTo>
                    <a:cubicBezTo>
                      <a:pt x="8" y="13"/>
                      <a:pt x="8" y="13"/>
                      <a:pt x="8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10" y="14"/>
                      <a:pt x="10" y="14"/>
                    </a:cubicBezTo>
                    <a:cubicBezTo>
                      <a:pt x="10" y="13"/>
                      <a:pt x="11" y="15"/>
                      <a:pt x="12" y="16"/>
                    </a:cubicBezTo>
                    <a:cubicBezTo>
                      <a:pt x="12" y="16"/>
                      <a:pt x="12" y="15"/>
                      <a:pt x="12" y="15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4"/>
                      <a:pt x="11" y="13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1"/>
                    </a:cubicBezTo>
                    <a:cubicBezTo>
                      <a:pt x="9" y="12"/>
                      <a:pt x="9" y="10"/>
                      <a:pt x="8" y="10"/>
                    </a:cubicBezTo>
                    <a:cubicBezTo>
                      <a:pt x="8" y="9"/>
                      <a:pt x="9" y="9"/>
                      <a:pt x="9" y="9"/>
                    </a:cubicBezTo>
                    <a:cubicBezTo>
                      <a:pt x="10" y="9"/>
                      <a:pt x="9" y="10"/>
                      <a:pt x="9" y="10"/>
                    </a:cubicBezTo>
                    <a:cubicBezTo>
                      <a:pt x="11" y="10"/>
                      <a:pt x="10" y="8"/>
                      <a:pt x="11" y="7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Freeform 4938"/>
              <p:cNvSpPr/>
              <p:nvPr/>
            </p:nvSpPr>
            <p:spPr>
              <a:xfrm>
                <a:off x="11021760" y="49244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1"/>
                    </a:moveTo>
                    <a:cubicBezTo>
                      <a:pt x="7" y="1"/>
                      <a:pt x="7" y="0"/>
                      <a:pt x="6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1" y="5"/>
                      <a:pt x="3" y="1"/>
                      <a:pt x="4" y="5"/>
                    </a:cubicBezTo>
                    <a:cubicBezTo>
                      <a:pt x="7" y="5"/>
                      <a:pt x="3" y="1"/>
                      <a:pt x="7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4939"/>
              <p:cNvSpPr/>
              <p:nvPr/>
            </p:nvSpPr>
            <p:spPr>
              <a:xfrm>
                <a:off x="11048760" y="4921200"/>
                <a:ext cx="43920" cy="637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8"/>
                    </a:moveTo>
                    <a:cubicBezTo>
                      <a:pt x="10" y="8"/>
                      <a:pt x="6" y="6"/>
                      <a:pt x="5" y="5"/>
                    </a:cubicBezTo>
                    <a:cubicBezTo>
                      <a:pt x="4" y="5"/>
                      <a:pt x="5" y="2"/>
                      <a:pt x="4" y="1"/>
                    </a:cubicBezTo>
                    <a:cubicBezTo>
                      <a:pt x="2" y="1"/>
                      <a:pt x="2" y="1"/>
                      <a:pt x="0" y="0"/>
                    </a:cubicBezTo>
                    <a:cubicBezTo>
                      <a:pt x="2" y="2"/>
                      <a:pt x="2" y="4"/>
                      <a:pt x="3" y="5"/>
                    </a:cubicBezTo>
                    <a:cubicBezTo>
                      <a:pt x="3" y="6"/>
                      <a:pt x="1" y="6"/>
                      <a:pt x="1" y="4"/>
                    </a:cubicBezTo>
                    <a:cubicBezTo>
                      <a:pt x="0" y="5"/>
                      <a:pt x="1" y="6"/>
                      <a:pt x="0" y="7"/>
                    </a:cubicBezTo>
                    <a:cubicBezTo>
                      <a:pt x="2" y="7"/>
                      <a:pt x="4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4" y="8"/>
                      <a:pt x="4" y="9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1"/>
                      <a:pt x="6" y="12"/>
                      <a:pt x="7" y="12"/>
                    </a:cubicBezTo>
                    <a:cubicBezTo>
                      <a:pt x="6" y="12"/>
                      <a:pt x="7" y="15"/>
                      <a:pt x="7" y="14"/>
                    </a:cubicBezTo>
                    <a:cubicBezTo>
                      <a:pt x="7" y="16"/>
                      <a:pt x="10" y="17"/>
                      <a:pt x="9" y="15"/>
                    </a:cubicBezTo>
                    <a:cubicBezTo>
                      <a:pt x="8" y="15"/>
                      <a:pt x="8" y="15"/>
                      <a:pt x="7" y="15"/>
                    </a:cubicBezTo>
                    <a:cubicBezTo>
                      <a:pt x="8" y="14"/>
                      <a:pt x="7" y="14"/>
                      <a:pt x="7" y="13"/>
                    </a:cubicBezTo>
                    <a:cubicBezTo>
                      <a:pt x="8" y="13"/>
                      <a:pt x="8" y="14"/>
                      <a:pt x="8" y="14"/>
                    </a:cubicBezTo>
                    <a:cubicBezTo>
                      <a:pt x="8" y="14"/>
                      <a:pt x="9" y="14"/>
                      <a:pt x="9" y="13"/>
                    </a:cubicBezTo>
                    <a:cubicBezTo>
                      <a:pt x="9" y="14"/>
                      <a:pt x="10" y="14"/>
                      <a:pt x="9" y="15"/>
                    </a:cubicBezTo>
                    <a:cubicBezTo>
                      <a:pt x="10" y="13"/>
                      <a:pt x="11" y="15"/>
                      <a:pt x="12" y="16"/>
                    </a:cubicBezTo>
                    <a:cubicBezTo>
                      <a:pt x="12" y="16"/>
                      <a:pt x="12" y="16"/>
                      <a:pt x="12" y="15"/>
                    </a:cubicBezTo>
                    <a:cubicBezTo>
                      <a:pt x="12" y="15"/>
                      <a:pt x="12" y="15"/>
                      <a:pt x="12" y="14"/>
                    </a:cubicBezTo>
                    <a:cubicBezTo>
                      <a:pt x="11" y="14"/>
                      <a:pt x="11" y="14"/>
                      <a:pt x="11" y="15"/>
                    </a:cubicBezTo>
                    <a:cubicBezTo>
                      <a:pt x="11" y="15"/>
                      <a:pt x="11" y="13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10" y="12"/>
                      <a:pt x="10" y="11"/>
                    </a:cubicBezTo>
                    <a:cubicBezTo>
                      <a:pt x="9" y="12"/>
                      <a:pt x="9" y="11"/>
                      <a:pt x="8" y="10"/>
                    </a:cubicBezTo>
                    <a:cubicBezTo>
                      <a:pt x="8" y="9"/>
                      <a:pt x="9" y="10"/>
                      <a:pt x="9" y="9"/>
                    </a:cubicBezTo>
                    <a:cubicBezTo>
                      <a:pt x="10" y="9"/>
                      <a:pt x="9" y="10"/>
                      <a:pt x="9" y="11"/>
                    </a:cubicBezTo>
                    <a:cubicBezTo>
                      <a:pt x="10" y="11"/>
                      <a:pt x="10" y="8"/>
                      <a:pt x="11" y="8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Freeform 4940"/>
              <p:cNvSpPr/>
              <p:nvPr/>
            </p:nvSpPr>
            <p:spPr>
              <a:xfrm>
                <a:off x="11007360" y="49546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cubicBezTo>
                      <a:pt x="4" y="3"/>
                      <a:pt x="2" y="3"/>
                      <a:pt x="3" y="2"/>
                    </a:cubicBezTo>
                    <a:cubicBezTo>
                      <a:pt x="3" y="1"/>
                      <a:pt x="1" y="0"/>
                      <a:pt x="1" y="1"/>
                    </a:cubicBezTo>
                    <a:cubicBezTo>
                      <a:pt x="3" y="1"/>
                      <a:pt x="0" y="3"/>
                      <a:pt x="2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4941"/>
              <p:cNvSpPr/>
              <p:nvPr/>
            </p:nvSpPr>
            <p:spPr>
              <a:xfrm>
                <a:off x="11025000" y="49323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3" y="3"/>
                      <a:pt x="2" y="2"/>
                      <a:pt x="2" y="1"/>
                    </a:cubicBezTo>
                    <a:cubicBezTo>
                      <a:pt x="1" y="2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4942"/>
              <p:cNvSpPr/>
              <p:nvPr/>
            </p:nvSpPr>
            <p:spPr>
              <a:xfrm>
                <a:off x="10947240" y="503388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4943"/>
              <p:cNvSpPr/>
              <p:nvPr/>
            </p:nvSpPr>
            <p:spPr>
              <a:xfrm>
                <a:off x="10953360" y="500076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1" y="3"/>
                      <a:pt x="2" y="4"/>
                      <a:pt x="3" y="5"/>
                    </a:cubicBezTo>
                    <a:cubicBezTo>
                      <a:pt x="4" y="5"/>
                      <a:pt x="0" y="0"/>
                      <a:pt x="0" y="4"/>
                    </a:cubicBezTo>
                    <a:close/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4944"/>
              <p:cNvSpPr/>
              <p:nvPr/>
            </p:nvSpPr>
            <p:spPr>
              <a:xfrm>
                <a:off x="10675800" y="4289400"/>
                <a:ext cx="496440" cy="376200"/>
              </a:xfrm>
              <a:custGeom>
                <a:avLst/>
                <a:gdLst/>
                <a:ahLst/>
                <a:rect l="l" t="t" r="r" b="b"/>
                <a:pathLst>
                  <a:path w="132" h="100">
                    <a:moveTo>
                      <a:pt x="40" y="58"/>
                    </a:moveTo>
                    <a:cubicBezTo>
                      <a:pt x="37" y="60"/>
                      <a:pt x="33" y="63"/>
                      <a:pt x="29" y="65"/>
                    </a:cubicBezTo>
                    <a:cubicBezTo>
                      <a:pt x="25" y="66"/>
                      <a:pt x="21" y="66"/>
                      <a:pt x="16" y="68"/>
                    </a:cubicBezTo>
                    <a:cubicBezTo>
                      <a:pt x="13" y="69"/>
                      <a:pt x="9" y="70"/>
                      <a:pt x="5" y="72"/>
                    </a:cubicBezTo>
                    <a:cubicBezTo>
                      <a:pt x="0" y="75"/>
                      <a:pt x="3" y="77"/>
                      <a:pt x="7" y="80"/>
                    </a:cubicBezTo>
                    <a:cubicBezTo>
                      <a:pt x="14" y="85"/>
                      <a:pt x="25" y="100"/>
                      <a:pt x="34" y="98"/>
                    </a:cubicBezTo>
                    <a:cubicBezTo>
                      <a:pt x="43" y="95"/>
                      <a:pt x="50" y="87"/>
                      <a:pt x="57" y="82"/>
                    </a:cubicBezTo>
                    <a:cubicBezTo>
                      <a:pt x="67" y="75"/>
                      <a:pt x="77" y="68"/>
                      <a:pt x="86" y="60"/>
                    </a:cubicBezTo>
                    <a:cubicBezTo>
                      <a:pt x="96" y="52"/>
                      <a:pt x="105" y="43"/>
                      <a:pt x="114" y="34"/>
                    </a:cubicBezTo>
                    <a:cubicBezTo>
                      <a:pt x="121" y="27"/>
                      <a:pt x="127" y="20"/>
                      <a:pt x="130" y="12"/>
                    </a:cubicBezTo>
                    <a:cubicBezTo>
                      <a:pt x="131" y="8"/>
                      <a:pt x="132" y="4"/>
                      <a:pt x="130" y="1"/>
                    </a:cubicBezTo>
                    <a:cubicBezTo>
                      <a:pt x="130" y="0"/>
                      <a:pt x="119" y="9"/>
                      <a:pt x="118" y="10"/>
                    </a:cubicBezTo>
                    <a:cubicBezTo>
                      <a:pt x="113" y="14"/>
                      <a:pt x="107" y="18"/>
                      <a:pt x="102" y="22"/>
                    </a:cubicBezTo>
                    <a:cubicBezTo>
                      <a:pt x="98" y="25"/>
                      <a:pt x="95" y="28"/>
                      <a:pt x="91" y="31"/>
                    </a:cubicBezTo>
                    <a:cubicBezTo>
                      <a:pt x="86" y="34"/>
                      <a:pt x="81" y="35"/>
                      <a:pt x="76" y="37"/>
                    </a:cubicBezTo>
                    <a:cubicBezTo>
                      <a:pt x="73" y="39"/>
                      <a:pt x="69" y="40"/>
                      <a:pt x="65" y="42"/>
                    </a:cubicBezTo>
                    <a:cubicBezTo>
                      <a:pt x="61" y="44"/>
                      <a:pt x="58" y="47"/>
                      <a:pt x="54" y="49"/>
                    </a:cubicBezTo>
                    <a:cubicBezTo>
                      <a:pt x="49" y="52"/>
                      <a:pt x="45" y="55"/>
                      <a:pt x="40" y="58"/>
                    </a:cubicBez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4945"/>
              <p:cNvSpPr/>
              <p:nvPr/>
            </p:nvSpPr>
            <p:spPr>
              <a:xfrm>
                <a:off x="10248480" y="4478400"/>
                <a:ext cx="393480" cy="190440"/>
              </a:xfrm>
              <a:custGeom>
                <a:avLst/>
                <a:gdLst/>
                <a:ahLst/>
                <a:rect l="l" t="t" r="r" b="b"/>
                <a:pathLst>
                  <a:path w="105" h="51">
                    <a:moveTo>
                      <a:pt x="10" y="17"/>
                    </a:moveTo>
                    <a:cubicBezTo>
                      <a:pt x="16" y="21"/>
                      <a:pt x="22" y="26"/>
                      <a:pt x="28" y="30"/>
                    </a:cubicBezTo>
                    <a:cubicBezTo>
                      <a:pt x="34" y="34"/>
                      <a:pt x="41" y="36"/>
                      <a:pt x="48" y="40"/>
                    </a:cubicBezTo>
                    <a:cubicBezTo>
                      <a:pt x="53" y="42"/>
                      <a:pt x="58" y="44"/>
                      <a:pt x="63" y="47"/>
                    </a:cubicBezTo>
                    <a:cubicBezTo>
                      <a:pt x="67" y="48"/>
                      <a:pt x="72" y="51"/>
                      <a:pt x="76" y="51"/>
                    </a:cubicBezTo>
                    <a:cubicBezTo>
                      <a:pt x="84" y="50"/>
                      <a:pt x="89" y="41"/>
                      <a:pt x="93" y="35"/>
                    </a:cubicBezTo>
                    <a:cubicBezTo>
                      <a:pt x="95" y="30"/>
                      <a:pt x="98" y="26"/>
                      <a:pt x="100" y="22"/>
                    </a:cubicBezTo>
                    <a:cubicBezTo>
                      <a:pt x="101" y="19"/>
                      <a:pt x="101" y="17"/>
                      <a:pt x="102" y="15"/>
                    </a:cubicBezTo>
                    <a:cubicBezTo>
                      <a:pt x="103" y="13"/>
                      <a:pt x="105" y="10"/>
                      <a:pt x="104" y="7"/>
                    </a:cubicBezTo>
                    <a:cubicBezTo>
                      <a:pt x="96" y="7"/>
                      <a:pt x="88" y="6"/>
                      <a:pt x="79" y="6"/>
                    </a:cubicBezTo>
                    <a:cubicBezTo>
                      <a:pt x="69" y="7"/>
                      <a:pt x="58" y="5"/>
                      <a:pt x="48" y="4"/>
                    </a:cubicBezTo>
                    <a:cubicBezTo>
                      <a:pt x="39" y="4"/>
                      <a:pt x="31" y="1"/>
                      <a:pt x="23" y="0"/>
                    </a:cubicBezTo>
                    <a:cubicBezTo>
                      <a:pt x="19" y="0"/>
                      <a:pt x="16" y="1"/>
                      <a:pt x="12" y="2"/>
                    </a:cubicBezTo>
                    <a:cubicBezTo>
                      <a:pt x="8" y="3"/>
                      <a:pt x="0" y="2"/>
                      <a:pt x="1" y="8"/>
                    </a:cubicBezTo>
                    <a:cubicBezTo>
                      <a:pt x="2" y="12"/>
                      <a:pt x="7" y="15"/>
                      <a:pt x="10" y="17"/>
                    </a:cubicBezTo>
                    <a:close/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4946"/>
              <p:cNvSpPr/>
              <p:nvPr/>
            </p:nvSpPr>
            <p:spPr>
              <a:xfrm>
                <a:off x="10053360" y="3095640"/>
                <a:ext cx="1261800" cy="1630440"/>
              </a:xfrm>
              <a:custGeom>
                <a:avLst/>
                <a:gdLst/>
                <a:ahLst/>
                <a:rect l="l" t="t" r="r" b="b"/>
                <a:pathLst>
                  <a:path w="336" h="434">
                    <a:moveTo>
                      <a:pt x="137" y="410"/>
                    </a:moveTo>
                    <a:cubicBezTo>
                      <a:pt x="73" y="434"/>
                      <a:pt x="42" y="384"/>
                      <a:pt x="52" y="331"/>
                    </a:cubicBezTo>
                    <a:cubicBezTo>
                      <a:pt x="57" y="305"/>
                      <a:pt x="48" y="282"/>
                      <a:pt x="36" y="258"/>
                    </a:cubicBezTo>
                    <a:cubicBezTo>
                      <a:pt x="19" y="224"/>
                      <a:pt x="0" y="188"/>
                      <a:pt x="2" y="150"/>
                    </a:cubicBezTo>
                    <a:cubicBezTo>
                      <a:pt x="5" y="97"/>
                      <a:pt x="41" y="42"/>
                      <a:pt x="95" y="20"/>
                    </a:cubicBezTo>
                    <a:cubicBezTo>
                      <a:pt x="142" y="0"/>
                      <a:pt x="202" y="8"/>
                      <a:pt x="242" y="34"/>
                    </a:cubicBezTo>
                    <a:cubicBezTo>
                      <a:pt x="256" y="43"/>
                      <a:pt x="266" y="55"/>
                      <a:pt x="274" y="68"/>
                    </a:cubicBezTo>
                    <a:cubicBezTo>
                      <a:pt x="280" y="77"/>
                      <a:pt x="283" y="88"/>
                      <a:pt x="287" y="98"/>
                    </a:cubicBezTo>
                    <a:cubicBezTo>
                      <a:pt x="287" y="100"/>
                      <a:pt x="292" y="123"/>
                      <a:pt x="293" y="123"/>
                    </a:cubicBezTo>
                    <a:cubicBezTo>
                      <a:pt x="303" y="120"/>
                      <a:pt x="317" y="111"/>
                      <a:pt x="327" y="117"/>
                    </a:cubicBezTo>
                    <a:cubicBezTo>
                      <a:pt x="336" y="123"/>
                      <a:pt x="336" y="135"/>
                      <a:pt x="336" y="145"/>
                    </a:cubicBezTo>
                    <a:cubicBezTo>
                      <a:pt x="335" y="151"/>
                      <a:pt x="333" y="158"/>
                      <a:pt x="332" y="164"/>
                    </a:cubicBezTo>
                    <a:cubicBezTo>
                      <a:pt x="330" y="172"/>
                      <a:pt x="328" y="177"/>
                      <a:pt x="322" y="182"/>
                    </a:cubicBezTo>
                    <a:cubicBezTo>
                      <a:pt x="310" y="191"/>
                      <a:pt x="317" y="203"/>
                      <a:pt x="318" y="215"/>
                    </a:cubicBezTo>
                    <a:cubicBezTo>
                      <a:pt x="321" y="246"/>
                      <a:pt x="331" y="279"/>
                      <a:pt x="308" y="306"/>
                    </a:cubicBezTo>
                    <a:cubicBezTo>
                      <a:pt x="270" y="351"/>
                      <a:pt x="193" y="390"/>
                      <a:pt x="137" y="410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4947"/>
              <p:cNvSpPr/>
              <p:nvPr/>
            </p:nvSpPr>
            <p:spPr>
              <a:xfrm>
                <a:off x="10575720" y="3813120"/>
                <a:ext cx="198000" cy="5256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6" y="3"/>
                    </a:moveTo>
                    <a:cubicBezTo>
                      <a:pt x="20" y="8"/>
                      <a:pt x="34" y="6"/>
                      <a:pt x="47" y="1"/>
                    </a:cubicBezTo>
                    <a:cubicBezTo>
                      <a:pt x="51" y="0"/>
                      <a:pt x="53" y="5"/>
                      <a:pt x="49" y="6"/>
                    </a:cubicBezTo>
                    <a:cubicBezTo>
                      <a:pt x="34" y="12"/>
                      <a:pt x="19" y="14"/>
                      <a:pt x="4" y="8"/>
                    </a:cubicBezTo>
                    <a:cubicBezTo>
                      <a:pt x="0" y="7"/>
                      <a:pt x="3" y="2"/>
                      <a:pt x="6" y="3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4948"/>
              <p:cNvSpPr/>
              <p:nvPr/>
            </p:nvSpPr>
            <p:spPr>
              <a:xfrm>
                <a:off x="10267560" y="3873600"/>
                <a:ext cx="171360" cy="11268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44" y="5"/>
                    </a:moveTo>
                    <a:cubicBezTo>
                      <a:pt x="35" y="18"/>
                      <a:pt x="22" y="25"/>
                      <a:pt x="6" y="29"/>
                    </a:cubicBezTo>
                    <a:cubicBezTo>
                      <a:pt x="2" y="30"/>
                      <a:pt x="0" y="25"/>
                      <a:pt x="4" y="24"/>
                    </a:cubicBezTo>
                    <a:cubicBezTo>
                      <a:pt x="18" y="20"/>
                      <a:pt x="30" y="15"/>
                      <a:pt x="38" y="3"/>
                    </a:cubicBezTo>
                    <a:cubicBezTo>
                      <a:pt x="40" y="0"/>
                      <a:pt x="46" y="2"/>
                      <a:pt x="44" y="5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4949"/>
              <p:cNvSpPr/>
              <p:nvPr/>
            </p:nvSpPr>
            <p:spPr>
              <a:xfrm>
                <a:off x="10221480" y="3516480"/>
                <a:ext cx="1074600" cy="1206360"/>
              </a:xfrm>
              <a:custGeom>
                <a:avLst/>
                <a:gdLst/>
                <a:ahLst/>
                <a:rect l="l" t="t" r="r" b="b"/>
                <a:pathLst>
                  <a:path w="286" h="321">
                    <a:moveTo>
                      <a:pt x="6" y="228"/>
                    </a:moveTo>
                    <a:cubicBezTo>
                      <a:pt x="9" y="225"/>
                      <a:pt x="13" y="226"/>
                      <a:pt x="18" y="226"/>
                    </a:cubicBezTo>
                    <a:cubicBezTo>
                      <a:pt x="29" y="228"/>
                      <a:pt x="38" y="225"/>
                      <a:pt x="48" y="222"/>
                    </a:cubicBezTo>
                    <a:cubicBezTo>
                      <a:pt x="98" y="208"/>
                      <a:pt x="139" y="178"/>
                      <a:pt x="176" y="145"/>
                    </a:cubicBezTo>
                    <a:cubicBezTo>
                      <a:pt x="192" y="130"/>
                      <a:pt x="205" y="114"/>
                      <a:pt x="216" y="96"/>
                    </a:cubicBezTo>
                    <a:cubicBezTo>
                      <a:pt x="221" y="88"/>
                      <a:pt x="225" y="79"/>
                      <a:pt x="228" y="70"/>
                    </a:cubicBezTo>
                    <a:cubicBezTo>
                      <a:pt x="230" y="61"/>
                      <a:pt x="230" y="53"/>
                      <a:pt x="230" y="45"/>
                    </a:cubicBezTo>
                    <a:cubicBezTo>
                      <a:pt x="230" y="37"/>
                      <a:pt x="230" y="29"/>
                      <a:pt x="228" y="22"/>
                    </a:cubicBezTo>
                    <a:cubicBezTo>
                      <a:pt x="228" y="20"/>
                      <a:pt x="227" y="18"/>
                      <a:pt x="227" y="17"/>
                    </a:cubicBezTo>
                    <a:cubicBezTo>
                      <a:pt x="227" y="15"/>
                      <a:pt x="228" y="13"/>
                      <a:pt x="227" y="12"/>
                    </a:cubicBezTo>
                    <a:cubicBezTo>
                      <a:pt x="233" y="8"/>
                      <a:pt x="237" y="2"/>
                      <a:pt x="245" y="0"/>
                    </a:cubicBezTo>
                    <a:cubicBezTo>
                      <a:pt x="246" y="6"/>
                      <a:pt x="248" y="11"/>
                      <a:pt x="248" y="11"/>
                    </a:cubicBezTo>
                    <a:cubicBezTo>
                      <a:pt x="249" y="10"/>
                      <a:pt x="251" y="10"/>
                      <a:pt x="253" y="9"/>
                    </a:cubicBezTo>
                    <a:cubicBezTo>
                      <a:pt x="254" y="12"/>
                      <a:pt x="255" y="15"/>
                      <a:pt x="255" y="17"/>
                    </a:cubicBezTo>
                    <a:cubicBezTo>
                      <a:pt x="258" y="25"/>
                      <a:pt x="259" y="33"/>
                      <a:pt x="262" y="42"/>
                    </a:cubicBezTo>
                    <a:cubicBezTo>
                      <a:pt x="264" y="47"/>
                      <a:pt x="265" y="53"/>
                      <a:pt x="266" y="59"/>
                    </a:cubicBezTo>
                    <a:cubicBezTo>
                      <a:pt x="266" y="64"/>
                      <a:pt x="269" y="69"/>
                      <a:pt x="269" y="74"/>
                    </a:cubicBezTo>
                    <a:cubicBezTo>
                      <a:pt x="270" y="76"/>
                      <a:pt x="270" y="78"/>
                      <a:pt x="271" y="80"/>
                    </a:cubicBezTo>
                    <a:cubicBezTo>
                      <a:pt x="269" y="87"/>
                      <a:pt x="273" y="95"/>
                      <a:pt x="273" y="103"/>
                    </a:cubicBezTo>
                    <a:cubicBezTo>
                      <a:pt x="276" y="134"/>
                      <a:pt x="286" y="167"/>
                      <a:pt x="263" y="194"/>
                    </a:cubicBezTo>
                    <a:cubicBezTo>
                      <a:pt x="225" y="239"/>
                      <a:pt x="148" y="278"/>
                      <a:pt x="92" y="298"/>
                    </a:cubicBezTo>
                    <a:cubicBezTo>
                      <a:pt x="31" y="321"/>
                      <a:pt x="0" y="277"/>
                      <a:pt x="6" y="228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4950"/>
              <p:cNvSpPr/>
              <p:nvPr/>
            </p:nvSpPr>
            <p:spPr>
              <a:xfrm>
                <a:off x="10131120" y="3808440"/>
                <a:ext cx="687240" cy="714240"/>
              </a:xfrm>
              <a:custGeom>
                <a:avLst/>
                <a:gdLst/>
                <a:ahLst/>
                <a:rect l="l" t="t" r="r" b="b"/>
                <a:pathLst>
                  <a:path w="183" h="190">
                    <a:moveTo>
                      <a:pt x="10" y="3"/>
                    </a:moveTo>
                    <a:cubicBezTo>
                      <a:pt x="0" y="14"/>
                      <a:pt x="14" y="32"/>
                      <a:pt x="21" y="41"/>
                    </a:cubicBezTo>
                    <a:cubicBezTo>
                      <a:pt x="31" y="54"/>
                      <a:pt x="48" y="58"/>
                      <a:pt x="61" y="66"/>
                    </a:cubicBezTo>
                    <a:cubicBezTo>
                      <a:pt x="73" y="72"/>
                      <a:pt x="79" y="81"/>
                      <a:pt x="74" y="94"/>
                    </a:cubicBezTo>
                    <a:cubicBezTo>
                      <a:pt x="71" y="101"/>
                      <a:pt x="67" y="108"/>
                      <a:pt x="63" y="115"/>
                    </a:cubicBezTo>
                    <a:cubicBezTo>
                      <a:pt x="60" y="119"/>
                      <a:pt x="57" y="123"/>
                      <a:pt x="57" y="129"/>
                    </a:cubicBezTo>
                    <a:cubicBezTo>
                      <a:pt x="57" y="136"/>
                      <a:pt x="67" y="137"/>
                      <a:pt x="73" y="136"/>
                    </a:cubicBezTo>
                    <a:cubicBezTo>
                      <a:pt x="78" y="136"/>
                      <a:pt x="89" y="130"/>
                      <a:pt x="91" y="139"/>
                    </a:cubicBezTo>
                    <a:cubicBezTo>
                      <a:pt x="92" y="146"/>
                      <a:pt x="90" y="154"/>
                      <a:pt x="87" y="160"/>
                    </a:cubicBezTo>
                    <a:cubicBezTo>
                      <a:pt x="83" y="170"/>
                      <a:pt x="80" y="179"/>
                      <a:pt x="93" y="185"/>
                    </a:cubicBezTo>
                    <a:cubicBezTo>
                      <a:pt x="100" y="188"/>
                      <a:pt x="111" y="187"/>
                      <a:pt x="118" y="185"/>
                    </a:cubicBezTo>
                    <a:cubicBezTo>
                      <a:pt x="126" y="184"/>
                      <a:pt x="131" y="177"/>
                      <a:pt x="134" y="171"/>
                    </a:cubicBezTo>
                    <a:cubicBezTo>
                      <a:pt x="138" y="163"/>
                      <a:pt x="142" y="156"/>
                      <a:pt x="148" y="149"/>
                    </a:cubicBezTo>
                    <a:cubicBezTo>
                      <a:pt x="153" y="144"/>
                      <a:pt x="159" y="140"/>
                      <a:pt x="165" y="137"/>
                    </a:cubicBezTo>
                    <a:cubicBezTo>
                      <a:pt x="167" y="136"/>
                      <a:pt x="183" y="132"/>
                      <a:pt x="181" y="136"/>
                    </a:cubicBezTo>
                    <a:cubicBezTo>
                      <a:pt x="181" y="139"/>
                      <a:pt x="166" y="141"/>
                      <a:pt x="163" y="143"/>
                    </a:cubicBezTo>
                    <a:cubicBezTo>
                      <a:pt x="158" y="145"/>
                      <a:pt x="152" y="149"/>
                      <a:pt x="149" y="154"/>
                    </a:cubicBezTo>
                    <a:cubicBezTo>
                      <a:pt x="145" y="159"/>
                      <a:pt x="143" y="165"/>
                      <a:pt x="140" y="170"/>
                    </a:cubicBezTo>
                    <a:cubicBezTo>
                      <a:pt x="136" y="175"/>
                      <a:pt x="134" y="181"/>
                      <a:pt x="128" y="184"/>
                    </a:cubicBezTo>
                    <a:cubicBezTo>
                      <a:pt x="121" y="188"/>
                      <a:pt x="110" y="189"/>
                      <a:pt x="102" y="190"/>
                    </a:cubicBezTo>
                    <a:cubicBezTo>
                      <a:pt x="88" y="190"/>
                      <a:pt x="78" y="181"/>
                      <a:pt x="81" y="169"/>
                    </a:cubicBezTo>
                    <a:cubicBezTo>
                      <a:pt x="83" y="160"/>
                      <a:pt x="87" y="153"/>
                      <a:pt x="87" y="143"/>
                    </a:cubicBezTo>
                    <a:cubicBezTo>
                      <a:pt x="88" y="134"/>
                      <a:pt x="81" y="138"/>
                      <a:pt x="75" y="139"/>
                    </a:cubicBezTo>
                    <a:cubicBezTo>
                      <a:pt x="68" y="140"/>
                      <a:pt x="62" y="139"/>
                      <a:pt x="57" y="136"/>
                    </a:cubicBezTo>
                    <a:cubicBezTo>
                      <a:pt x="52" y="132"/>
                      <a:pt x="54" y="125"/>
                      <a:pt x="56" y="121"/>
                    </a:cubicBezTo>
                    <a:cubicBezTo>
                      <a:pt x="62" y="106"/>
                      <a:pt x="83" y="88"/>
                      <a:pt x="66" y="73"/>
                    </a:cubicBezTo>
                    <a:cubicBezTo>
                      <a:pt x="54" y="62"/>
                      <a:pt x="35" y="60"/>
                      <a:pt x="23" y="48"/>
                    </a:cubicBezTo>
                    <a:cubicBezTo>
                      <a:pt x="14" y="40"/>
                      <a:pt x="6" y="28"/>
                      <a:pt x="4" y="17"/>
                    </a:cubicBezTo>
                    <a:cubicBezTo>
                      <a:pt x="3" y="11"/>
                      <a:pt x="3" y="6"/>
                      <a:pt x="7" y="1"/>
                    </a:cubicBezTo>
                    <a:cubicBezTo>
                      <a:pt x="9" y="0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4951">
                <a:hlinkClick r:id="rId4"/>
              </p:cNvPr>
              <p:cNvSpPr/>
              <p:nvPr/>
            </p:nvSpPr>
            <p:spPr>
              <a:xfrm>
                <a:off x="9556920" y="2917800"/>
                <a:ext cx="1618920" cy="981000"/>
              </a:xfrm>
              <a:custGeom>
                <a:avLst/>
                <a:gdLst/>
                <a:ahLst/>
                <a:rect l="l" t="t" r="r" b="b"/>
                <a:pathLst>
                  <a:path w="431" h="261">
                    <a:moveTo>
                      <a:pt x="53" y="252"/>
                    </a:moveTo>
                    <a:cubicBezTo>
                      <a:pt x="53" y="252"/>
                      <a:pt x="53" y="252"/>
                      <a:pt x="53" y="253"/>
                    </a:cubicBezTo>
                    <a:cubicBezTo>
                      <a:pt x="75" y="261"/>
                      <a:pt x="103" y="252"/>
                      <a:pt x="123" y="245"/>
                    </a:cubicBezTo>
                    <a:cubicBezTo>
                      <a:pt x="135" y="240"/>
                      <a:pt x="147" y="234"/>
                      <a:pt x="157" y="227"/>
                    </a:cubicBezTo>
                    <a:cubicBezTo>
                      <a:pt x="163" y="222"/>
                      <a:pt x="175" y="214"/>
                      <a:pt x="173" y="206"/>
                    </a:cubicBezTo>
                    <a:cubicBezTo>
                      <a:pt x="174" y="209"/>
                      <a:pt x="176" y="211"/>
                      <a:pt x="177" y="214"/>
                    </a:cubicBezTo>
                    <a:cubicBezTo>
                      <a:pt x="178" y="218"/>
                      <a:pt x="179" y="221"/>
                      <a:pt x="178" y="225"/>
                    </a:cubicBezTo>
                    <a:cubicBezTo>
                      <a:pt x="177" y="231"/>
                      <a:pt x="171" y="236"/>
                      <a:pt x="164" y="238"/>
                    </a:cubicBezTo>
                    <a:cubicBezTo>
                      <a:pt x="168" y="239"/>
                      <a:pt x="173" y="237"/>
                      <a:pt x="177" y="236"/>
                    </a:cubicBezTo>
                    <a:cubicBezTo>
                      <a:pt x="182" y="235"/>
                      <a:pt x="186" y="234"/>
                      <a:pt x="191" y="232"/>
                    </a:cubicBezTo>
                    <a:cubicBezTo>
                      <a:pt x="220" y="221"/>
                      <a:pt x="232" y="204"/>
                      <a:pt x="234" y="177"/>
                    </a:cubicBezTo>
                    <a:cubicBezTo>
                      <a:pt x="239" y="183"/>
                      <a:pt x="241" y="191"/>
                      <a:pt x="240" y="199"/>
                    </a:cubicBezTo>
                    <a:cubicBezTo>
                      <a:pt x="240" y="203"/>
                      <a:pt x="238" y="207"/>
                      <a:pt x="237" y="211"/>
                    </a:cubicBezTo>
                    <a:cubicBezTo>
                      <a:pt x="236" y="213"/>
                      <a:pt x="235" y="215"/>
                      <a:pt x="234" y="217"/>
                    </a:cubicBezTo>
                    <a:cubicBezTo>
                      <a:pt x="232" y="220"/>
                      <a:pt x="229" y="221"/>
                      <a:pt x="226" y="222"/>
                    </a:cubicBezTo>
                    <a:cubicBezTo>
                      <a:pt x="228" y="221"/>
                      <a:pt x="232" y="221"/>
                      <a:pt x="235" y="221"/>
                    </a:cubicBezTo>
                    <a:cubicBezTo>
                      <a:pt x="254" y="216"/>
                      <a:pt x="269" y="210"/>
                      <a:pt x="285" y="200"/>
                    </a:cubicBezTo>
                    <a:cubicBezTo>
                      <a:pt x="296" y="194"/>
                      <a:pt x="305" y="189"/>
                      <a:pt x="312" y="179"/>
                    </a:cubicBezTo>
                    <a:cubicBezTo>
                      <a:pt x="315" y="176"/>
                      <a:pt x="317" y="172"/>
                      <a:pt x="319" y="167"/>
                    </a:cubicBezTo>
                    <a:cubicBezTo>
                      <a:pt x="321" y="161"/>
                      <a:pt x="320" y="156"/>
                      <a:pt x="322" y="150"/>
                    </a:cubicBezTo>
                    <a:cubicBezTo>
                      <a:pt x="324" y="140"/>
                      <a:pt x="334" y="123"/>
                      <a:pt x="346" y="121"/>
                    </a:cubicBezTo>
                    <a:cubicBezTo>
                      <a:pt x="354" y="121"/>
                      <a:pt x="359" y="125"/>
                      <a:pt x="365" y="129"/>
                    </a:cubicBezTo>
                    <a:cubicBezTo>
                      <a:pt x="373" y="134"/>
                      <a:pt x="380" y="141"/>
                      <a:pt x="385" y="147"/>
                    </a:cubicBezTo>
                    <a:cubicBezTo>
                      <a:pt x="396" y="160"/>
                      <a:pt x="405" y="175"/>
                      <a:pt x="406" y="192"/>
                    </a:cubicBezTo>
                    <a:cubicBezTo>
                      <a:pt x="414" y="184"/>
                      <a:pt x="422" y="175"/>
                      <a:pt x="430" y="167"/>
                    </a:cubicBezTo>
                    <a:cubicBezTo>
                      <a:pt x="431" y="166"/>
                      <a:pt x="425" y="139"/>
                      <a:pt x="425" y="135"/>
                    </a:cubicBezTo>
                    <a:cubicBezTo>
                      <a:pt x="424" y="123"/>
                      <a:pt x="425" y="110"/>
                      <a:pt x="423" y="97"/>
                    </a:cubicBezTo>
                    <a:cubicBezTo>
                      <a:pt x="422" y="81"/>
                      <a:pt x="418" y="62"/>
                      <a:pt x="402" y="53"/>
                    </a:cubicBezTo>
                    <a:cubicBezTo>
                      <a:pt x="391" y="47"/>
                      <a:pt x="381" y="52"/>
                      <a:pt x="370" y="49"/>
                    </a:cubicBezTo>
                    <a:cubicBezTo>
                      <a:pt x="354" y="46"/>
                      <a:pt x="348" y="26"/>
                      <a:pt x="336" y="18"/>
                    </a:cubicBezTo>
                    <a:cubicBezTo>
                      <a:pt x="322" y="9"/>
                      <a:pt x="307" y="5"/>
                      <a:pt x="291" y="4"/>
                    </a:cubicBezTo>
                    <a:cubicBezTo>
                      <a:pt x="245" y="0"/>
                      <a:pt x="199" y="13"/>
                      <a:pt x="161" y="37"/>
                    </a:cubicBezTo>
                    <a:cubicBezTo>
                      <a:pt x="127" y="58"/>
                      <a:pt x="101" y="85"/>
                      <a:pt x="88" y="120"/>
                    </a:cubicBezTo>
                    <a:cubicBezTo>
                      <a:pt x="75" y="156"/>
                      <a:pt x="52" y="211"/>
                      <a:pt x="1" y="212"/>
                    </a:cubicBezTo>
                    <a:cubicBezTo>
                      <a:pt x="0" y="211"/>
                      <a:pt x="0" y="211"/>
                      <a:pt x="1" y="212"/>
                    </a:cubicBezTo>
                    <a:cubicBezTo>
                      <a:pt x="19" y="220"/>
                      <a:pt x="34" y="222"/>
                      <a:pt x="53" y="217"/>
                    </a:cubicBezTo>
                    <a:cubicBezTo>
                      <a:pt x="57" y="216"/>
                      <a:pt x="92" y="210"/>
                      <a:pt x="92" y="206"/>
                    </a:cubicBezTo>
                    <a:cubicBezTo>
                      <a:pt x="92" y="213"/>
                      <a:pt x="61" y="256"/>
                      <a:pt x="53" y="252"/>
                    </a:cubicBezTo>
                    <a:close/>
                  </a:path>
                </a:pathLst>
              </a:custGeom>
              <a:solidFill>
                <a:srgbClr val="492c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4952"/>
              <p:cNvSpPr/>
              <p:nvPr/>
            </p:nvSpPr>
            <p:spPr>
              <a:xfrm>
                <a:off x="11052000" y="335124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4953"/>
              <p:cNvSpPr/>
              <p:nvPr/>
            </p:nvSpPr>
            <p:spPr>
              <a:xfrm>
                <a:off x="11104200" y="3376800"/>
                <a:ext cx="36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4954"/>
              <p:cNvSpPr/>
              <p:nvPr/>
            </p:nvSpPr>
            <p:spPr>
              <a:xfrm>
                <a:off x="11096280" y="33814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4955"/>
              <p:cNvSpPr/>
              <p:nvPr/>
            </p:nvSpPr>
            <p:spPr>
              <a:xfrm>
                <a:off x="11096280" y="33656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0"/>
                      <a:pt x="1" y="2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4956"/>
              <p:cNvSpPr/>
              <p:nvPr/>
            </p:nvSpPr>
            <p:spPr>
              <a:xfrm>
                <a:off x="11096280" y="31971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1"/>
                      <a:pt x="1" y="2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4957"/>
              <p:cNvSpPr/>
              <p:nvPr/>
            </p:nvSpPr>
            <p:spPr>
              <a:xfrm>
                <a:off x="11104200" y="341172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0"/>
                      <a:pt x="1" y="1"/>
                      <a:pt x="0" y="1"/>
                    </a:cubicBezTo>
                    <a:cubicBezTo>
                      <a:pt x="2" y="3"/>
                      <a:pt x="2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4958"/>
              <p:cNvSpPr/>
              <p:nvPr/>
            </p:nvSpPr>
            <p:spPr>
              <a:xfrm>
                <a:off x="10724760" y="30733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cubicBezTo>
                      <a:pt x="0" y="3"/>
                      <a:pt x="1" y="3"/>
                      <a:pt x="2" y="4"/>
                    </a:cubicBezTo>
                    <a:cubicBezTo>
                      <a:pt x="3" y="3"/>
                      <a:pt x="1" y="2"/>
                      <a:pt x="2" y="1"/>
                    </a:cubicBezTo>
                    <a:cubicBezTo>
                      <a:pt x="1" y="0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4959"/>
              <p:cNvSpPr/>
              <p:nvPr/>
            </p:nvSpPr>
            <p:spPr>
              <a:xfrm>
                <a:off x="11107440" y="333216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cubicBezTo>
                      <a:pt x="2" y="1"/>
                      <a:pt x="2" y="4"/>
                      <a:pt x="4" y="2"/>
                    </a:cubicBezTo>
                    <a:cubicBezTo>
                      <a:pt x="2" y="2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4960"/>
              <p:cNvSpPr/>
              <p:nvPr/>
            </p:nvSpPr>
            <p:spPr>
              <a:xfrm>
                <a:off x="11104200" y="33577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3"/>
                    </a:moveTo>
                    <a:cubicBezTo>
                      <a:pt x="5" y="3"/>
                      <a:pt x="3" y="4"/>
                      <a:pt x="4" y="4"/>
                    </a:cubicBezTo>
                    <a:cubicBezTo>
                      <a:pt x="5" y="3"/>
                      <a:pt x="6" y="5"/>
                      <a:pt x="7" y="4"/>
                    </a:cubicBezTo>
                    <a:cubicBezTo>
                      <a:pt x="8" y="3"/>
                      <a:pt x="8" y="2"/>
                      <a:pt x="7" y="1"/>
                    </a:cubicBezTo>
                    <a:cubicBezTo>
                      <a:pt x="7" y="2"/>
                      <a:pt x="2" y="0"/>
                      <a:pt x="2" y="2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0" y="3"/>
                      <a:pt x="4" y="1"/>
                      <a:pt x="3" y="3"/>
                    </a:cubicBezTo>
                    <a:cubicBezTo>
                      <a:pt x="3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4961"/>
              <p:cNvSpPr/>
              <p:nvPr/>
            </p:nvSpPr>
            <p:spPr>
              <a:xfrm>
                <a:off x="11074320" y="3274920"/>
                <a:ext cx="26280" cy="241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3" y="1"/>
                      <a:pt x="2" y="0"/>
                      <a:pt x="0" y="1"/>
                    </a:cubicBezTo>
                    <a:cubicBezTo>
                      <a:pt x="1" y="2"/>
                      <a:pt x="5" y="6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4962"/>
              <p:cNvSpPr/>
              <p:nvPr/>
            </p:nvSpPr>
            <p:spPr>
              <a:xfrm>
                <a:off x="10969200" y="31780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2" y="2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4963"/>
              <p:cNvSpPr/>
              <p:nvPr/>
            </p:nvSpPr>
            <p:spPr>
              <a:xfrm>
                <a:off x="11032920" y="31370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cubicBezTo>
                      <a:pt x="4" y="3"/>
                      <a:pt x="4" y="2"/>
                      <a:pt x="0" y="0"/>
                    </a:cubicBezTo>
                    <a:cubicBezTo>
                      <a:pt x="1" y="2"/>
                      <a:pt x="2" y="6"/>
                      <a:pt x="6" y="6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4964"/>
              <p:cNvSpPr/>
              <p:nvPr/>
            </p:nvSpPr>
            <p:spPr>
              <a:xfrm>
                <a:off x="11032920" y="31813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2" y="1"/>
                      <a:pt x="3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2" y="2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4965"/>
              <p:cNvSpPr/>
              <p:nvPr/>
            </p:nvSpPr>
            <p:spPr>
              <a:xfrm>
                <a:off x="11063160" y="316728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3" y="2"/>
                      <a:pt x="4" y="3"/>
                      <a:pt x="5" y="4"/>
                    </a:cubicBezTo>
                    <a:cubicBezTo>
                      <a:pt x="5" y="2"/>
                      <a:pt x="3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4966"/>
              <p:cNvSpPr/>
              <p:nvPr/>
            </p:nvSpPr>
            <p:spPr>
              <a:xfrm>
                <a:off x="11107440" y="319716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cubicBezTo>
                      <a:pt x="5" y="5"/>
                      <a:pt x="1" y="0"/>
                      <a:pt x="0" y="1"/>
                    </a:cubicBezTo>
                    <a:cubicBezTo>
                      <a:pt x="1" y="4"/>
                      <a:pt x="3" y="5"/>
                      <a:pt x="6" y="7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4967"/>
              <p:cNvSpPr/>
              <p:nvPr/>
            </p:nvSpPr>
            <p:spPr>
              <a:xfrm>
                <a:off x="11032920" y="3186000"/>
                <a:ext cx="15480" cy="2880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1" y="5"/>
                    </a:moveTo>
                    <a:cubicBezTo>
                      <a:pt x="2" y="6"/>
                      <a:pt x="2" y="8"/>
                      <a:pt x="4" y="8"/>
                    </a:cubicBezTo>
                    <a:cubicBezTo>
                      <a:pt x="4" y="7"/>
                      <a:pt x="4" y="6"/>
                      <a:pt x="4" y="5"/>
                    </a:cubicBezTo>
                    <a:cubicBezTo>
                      <a:pt x="3" y="5"/>
                      <a:pt x="2" y="7"/>
                      <a:pt x="2" y="5"/>
                    </a:cubicBezTo>
                    <a:cubicBezTo>
                      <a:pt x="3" y="6"/>
                      <a:pt x="4" y="5"/>
                      <a:pt x="4" y="3"/>
                    </a:cubicBezTo>
                    <a:cubicBezTo>
                      <a:pt x="2" y="3"/>
                      <a:pt x="1" y="0"/>
                      <a:pt x="0" y="2"/>
                    </a:cubicBezTo>
                    <a:cubicBezTo>
                      <a:pt x="1" y="3"/>
                      <a:pt x="3" y="3"/>
                      <a:pt x="3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4968"/>
              <p:cNvSpPr/>
              <p:nvPr/>
            </p:nvSpPr>
            <p:spPr>
              <a:xfrm>
                <a:off x="10683720" y="300852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4969"/>
              <p:cNvSpPr/>
              <p:nvPr/>
            </p:nvSpPr>
            <p:spPr>
              <a:xfrm>
                <a:off x="10683720" y="300852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4970"/>
              <p:cNvSpPr/>
              <p:nvPr/>
            </p:nvSpPr>
            <p:spPr>
              <a:xfrm>
                <a:off x="10669320" y="29973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4" y="0"/>
                      <a:pt x="0" y="2"/>
                      <a:pt x="0" y="2"/>
                    </a:cubicBezTo>
                    <a:cubicBezTo>
                      <a:pt x="0" y="3"/>
                      <a:pt x="3" y="1"/>
                      <a:pt x="4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4971"/>
              <p:cNvSpPr/>
              <p:nvPr/>
            </p:nvSpPr>
            <p:spPr>
              <a:xfrm>
                <a:off x="11002680" y="324504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1" y="5"/>
                      <a:pt x="2" y="4"/>
                    </a:cubicBezTo>
                    <a:cubicBezTo>
                      <a:pt x="0" y="3"/>
                      <a:pt x="3" y="2"/>
                      <a:pt x="4" y="2"/>
                    </a:cubicBezTo>
                    <a:cubicBezTo>
                      <a:pt x="1" y="2"/>
                      <a:pt x="4" y="0"/>
                      <a:pt x="2" y="0"/>
                    </a:cubicBezTo>
                    <a:cubicBezTo>
                      <a:pt x="1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4972"/>
              <p:cNvSpPr/>
              <p:nvPr/>
            </p:nvSpPr>
            <p:spPr>
              <a:xfrm>
                <a:off x="10699560" y="30132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5"/>
                    </a:moveTo>
                    <a:cubicBezTo>
                      <a:pt x="6" y="5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3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8" y="4"/>
                      <a:pt x="5" y="2"/>
                      <a:pt x="7" y="2"/>
                    </a:cubicBezTo>
                    <a:cubicBezTo>
                      <a:pt x="6" y="1"/>
                      <a:pt x="5" y="0"/>
                      <a:pt x="4" y="1"/>
                    </a:cubicBezTo>
                    <a:cubicBezTo>
                      <a:pt x="4" y="1"/>
                      <a:pt x="4" y="2"/>
                      <a:pt x="5" y="2"/>
                    </a:cubicBezTo>
                    <a:cubicBezTo>
                      <a:pt x="4" y="2"/>
                      <a:pt x="4" y="3"/>
                      <a:pt x="3" y="3"/>
                    </a:cubicBezTo>
                    <a:cubicBezTo>
                      <a:pt x="2" y="3"/>
                      <a:pt x="2" y="3"/>
                      <a:pt x="0" y="2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4" y="6"/>
                      <a:pt x="4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5" y="7"/>
                      <a:pt x="6" y="6"/>
                    </a:cubicBezTo>
                    <a:cubicBezTo>
                      <a:pt x="6" y="6"/>
                      <a:pt x="6" y="7"/>
                      <a:pt x="6" y="7"/>
                    </a:cubicBezTo>
                    <a:cubicBezTo>
                      <a:pt x="7" y="6"/>
                      <a:pt x="6" y="6"/>
                      <a:pt x="5" y="5"/>
                    </a:cubicBezTo>
                    <a:cubicBezTo>
                      <a:pt x="5" y="4"/>
                      <a:pt x="6" y="6"/>
                      <a:pt x="6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4973"/>
              <p:cNvSpPr/>
              <p:nvPr/>
            </p:nvSpPr>
            <p:spPr>
              <a:xfrm>
                <a:off x="11063160" y="318132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1"/>
                    </a:moveTo>
                    <a:cubicBezTo>
                      <a:pt x="3" y="3"/>
                      <a:pt x="7" y="7"/>
                      <a:pt x="7" y="6"/>
                    </a:cubicBezTo>
                    <a:cubicBezTo>
                      <a:pt x="6" y="5"/>
                      <a:pt x="5" y="1"/>
                      <a:pt x="3" y="2"/>
                    </a:cubicBezTo>
                    <a:cubicBezTo>
                      <a:pt x="4" y="4"/>
                      <a:pt x="0" y="0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4974"/>
              <p:cNvSpPr/>
              <p:nvPr/>
            </p:nvSpPr>
            <p:spPr>
              <a:xfrm>
                <a:off x="11071080" y="32227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1" y="2"/>
                      <a:pt x="3" y="5"/>
                      <a:pt x="4" y="4"/>
                    </a:cubicBezTo>
                    <a:cubicBezTo>
                      <a:pt x="3" y="3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4975"/>
              <p:cNvSpPr/>
              <p:nvPr/>
            </p:nvSpPr>
            <p:spPr>
              <a:xfrm>
                <a:off x="11059920" y="329400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2"/>
                    </a:moveTo>
                    <a:cubicBezTo>
                      <a:pt x="3" y="2"/>
                      <a:pt x="3" y="3"/>
                      <a:pt x="3" y="3"/>
                    </a:cubicBezTo>
                    <a:cubicBezTo>
                      <a:pt x="3" y="2"/>
                      <a:pt x="0" y="0"/>
                      <a:pt x="0" y="2"/>
                    </a:cubicBezTo>
                    <a:cubicBezTo>
                      <a:pt x="0" y="3"/>
                      <a:pt x="2" y="3"/>
                      <a:pt x="3" y="4"/>
                    </a:cubicBezTo>
                    <a:cubicBezTo>
                      <a:pt x="3" y="2"/>
                      <a:pt x="6" y="4"/>
                      <a:pt x="7" y="3"/>
                    </a:cubicBezTo>
                    <a:cubicBezTo>
                      <a:pt x="5" y="3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4976"/>
              <p:cNvSpPr/>
              <p:nvPr/>
            </p:nvSpPr>
            <p:spPr>
              <a:xfrm>
                <a:off x="11079000" y="3222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cubicBezTo>
                      <a:pt x="3" y="2"/>
                      <a:pt x="3" y="3"/>
                      <a:pt x="5" y="5"/>
                    </a:cubicBezTo>
                    <a:cubicBezTo>
                      <a:pt x="4" y="2"/>
                      <a:pt x="3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4977"/>
              <p:cNvSpPr/>
              <p:nvPr/>
            </p:nvSpPr>
            <p:spPr>
              <a:xfrm>
                <a:off x="11104200" y="3245040"/>
                <a:ext cx="1872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cubicBezTo>
                      <a:pt x="5" y="3"/>
                      <a:pt x="2" y="0"/>
                      <a:pt x="0" y="1"/>
                    </a:cubicBezTo>
                    <a:cubicBezTo>
                      <a:pt x="1" y="2"/>
                      <a:pt x="2" y="6"/>
                      <a:pt x="5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4978"/>
              <p:cNvSpPr/>
              <p:nvPr/>
            </p:nvSpPr>
            <p:spPr>
              <a:xfrm>
                <a:off x="11112120" y="32860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4979"/>
              <p:cNvSpPr/>
              <p:nvPr/>
            </p:nvSpPr>
            <p:spPr>
              <a:xfrm>
                <a:off x="10890000" y="3151080"/>
                <a:ext cx="21960" cy="16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4"/>
                    </a:moveTo>
                    <a:cubicBezTo>
                      <a:pt x="6" y="2"/>
                      <a:pt x="2" y="3"/>
                      <a:pt x="3" y="0"/>
                    </a:cubicBezTo>
                    <a:cubicBezTo>
                      <a:pt x="2" y="0"/>
                      <a:pt x="0" y="0"/>
                      <a:pt x="0" y="2"/>
                    </a:cubicBezTo>
                    <a:cubicBezTo>
                      <a:pt x="1" y="2"/>
                      <a:pt x="2" y="3"/>
                      <a:pt x="2" y="4"/>
                    </a:cubicBezTo>
                    <a:cubicBezTo>
                      <a:pt x="3" y="3"/>
                      <a:pt x="3" y="4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4980"/>
              <p:cNvSpPr/>
              <p:nvPr/>
            </p:nvSpPr>
            <p:spPr>
              <a:xfrm>
                <a:off x="10969200" y="314820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cubicBezTo>
                      <a:pt x="0" y="1"/>
                      <a:pt x="1" y="2"/>
                      <a:pt x="1" y="2"/>
                    </a:cubicBezTo>
                    <a:cubicBezTo>
                      <a:pt x="2" y="3"/>
                      <a:pt x="2" y="0"/>
                      <a:pt x="3" y="2"/>
                    </a:cubicBezTo>
                    <a:cubicBezTo>
                      <a:pt x="4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4981"/>
              <p:cNvSpPr/>
              <p:nvPr/>
            </p:nvSpPr>
            <p:spPr>
              <a:xfrm>
                <a:off x="10969200" y="316224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2" y="3"/>
                      <a:pt x="2" y="2"/>
                      <a:pt x="2" y="3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2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Freeform 4982"/>
              <p:cNvSpPr/>
              <p:nvPr/>
            </p:nvSpPr>
            <p:spPr>
              <a:xfrm>
                <a:off x="10894680" y="31622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Freeform 4983"/>
              <p:cNvSpPr/>
              <p:nvPr/>
            </p:nvSpPr>
            <p:spPr>
              <a:xfrm>
                <a:off x="10661400" y="298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1"/>
                      <a:pt x="1" y="1"/>
                      <a:pt x="2" y="1"/>
                    </a:cubicBezTo>
                    <a:cubicBezTo>
                      <a:pt x="1" y="2"/>
                      <a:pt x="0" y="1"/>
                      <a:pt x="0" y="2"/>
                    </a:cubicBezTo>
                    <a:cubicBezTo>
                      <a:pt x="2" y="2"/>
                      <a:pt x="1" y="2"/>
                      <a:pt x="2" y="3"/>
                    </a:cubicBezTo>
                    <a:cubicBezTo>
                      <a:pt x="3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Freeform 4984"/>
              <p:cNvSpPr/>
              <p:nvPr/>
            </p:nvSpPr>
            <p:spPr>
              <a:xfrm>
                <a:off x="11085120" y="33465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1" y="2"/>
                    </a:moveTo>
                    <a:cubicBezTo>
                      <a:pt x="0" y="3"/>
                      <a:pt x="1" y="3"/>
                      <a:pt x="1" y="5"/>
                    </a:cubicBezTo>
                    <a:cubicBezTo>
                      <a:pt x="2" y="1"/>
                      <a:pt x="8" y="3"/>
                      <a:pt x="9" y="1"/>
                    </a:cubicBezTo>
                    <a:cubicBezTo>
                      <a:pt x="7" y="0"/>
                      <a:pt x="3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4985"/>
              <p:cNvSpPr/>
              <p:nvPr/>
            </p:nvSpPr>
            <p:spPr>
              <a:xfrm>
                <a:off x="10721880" y="3046320"/>
                <a:ext cx="2484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4"/>
                    </a:moveTo>
                    <a:cubicBezTo>
                      <a:pt x="7" y="4"/>
                      <a:pt x="5" y="2"/>
                      <a:pt x="6" y="1"/>
                    </a:cubicBezTo>
                    <a:cubicBezTo>
                      <a:pt x="5" y="0"/>
                      <a:pt x="4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1"/>
                      <a:pt x="0" y="1"/>
                    </a:cubicBezTo>
                    <a:cubicBezTo>
                      <a:pt x="2" y="2"/>
                      <a:pt x="5" y="1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Freeform 4986"/>
              <p:cNvSpPr/>
              <p:nvPr/>
            </p:nvSpPr>
            <p:spPr>
              <a:xfrm>
                <a:off x="11093040" y="32749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2" y="1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4987"/>
              <p:cNvSpPr/>
              <p:nvPr/>
            </p:nvSpPr>
            <p:spPr>
              <a:xfrm>
                <a:off x="11082240" y="3365640"/>
                <a:ext cx="3276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7"/>
                    </a:moveTo>
                    <a:cubicBezTo>
                      <a:pt x="5" y="7"/>
                      <a:pt x="6" y="7"/>
                      <a:pt x="6" y="8"/>
                    </a:cubicBezTo>
                    <a:cubicBezTo>
                      <a:pt x="5" y="9"/>
                      <a:pt x="7" y="7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6"/>
                      <a:pt x="8" y="8"/>
                    </a:cubicBezTo>
                    <a:cubicBezTo>
                      <a:pt x="9" y="6"/>
                      <a:pt x="8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6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1"/>
                      <a:pt x="7" y="1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1" y="2"/>
                      <a:pt x="0" y="2"/>
                      <a:pt x="1" y="3"/>
                    </a:cubicBezTo>
                    <a:cubicBezTo>
                      <a:pt x="1" y="3"/>
                      <a:pt x="2" y="3"/>
                      <a:pt x="3" y="4"/>
                    </a:cubicBezTo>
                    <a:cubicBezTo>
                      <a:pt x="2" y="4"/>
                      <a:pt x="0" y="3"/>
                      <a:pt x="3" y="6"/>
                    </a:cubicBezTo>
                    <a:cubicBezTo>
                      <a:pt x="3" y="6"/>
                      <a:pt x="4" y="5"/>
                      <a:pt x="4" y="5"/>
                    </a:cubicBezTo>
                    <a:cubicBezTo>
                      <a:pt x="5" y="7"/>
                      <a:pt x="3" y="8"/>
                      <a:pt x="5" y="9"/>
                    </a:cubicBezTo>
                    <a:cubicBezTo>
                      <a:pt x="5" y="8"/>
                      <a:pt x="5" y="7"/>
                      <a:pt x="5" y="7"/>
                    </a:cubicBezTo>
                    <a:close/>
                    <a:moveTo>
                      <a:pt x="6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  <a:moveTo>
                      <a:pt x="4" y="2"/>
                    </a:moveTo>
                    <a:cubicBezTo>
                      <a:pt x="5" y="2"/>
                      <a:pt x="6" y="0"/>
                      <a:pt x="6" y="2"/>
                    </a:cubicBezTo>
                    <a:cubicBezTo>
                      <a:pt x="6" y="2"/>
                      <a:pt x="5" y="2"/>
                      <a:pt x="5" y="3"/>
                    </a:cubicBezTo>
                    <a:cubicBezTo>
                      <a:pt x="6" y="3"/>
                      <a:pt x="6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4" y="3"/>
                      <a:pt x="4" y="2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4988"/>
              <p:cNvSpPr/>
              <p:nvPr/>
            </p:nvSpPr>
            <p:spPr>
              <a:xfrm>
                <a:off x="10905840" y="3129120"/>
                <a:ext cx="41040" cy="381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9"/>
                    </a:moveTo>
                    <a:cubicBezTo>
                      <a:pt x="7" y="9"/>
                      <a:pt x="8" y="9"/>
                      <a:pt x="8" y="9"/>
                    </a:cubicBezTo>
                    <a:cubicBezTo>
                      <a:pt x="7" y="9"/>
                      <a:pt x="9" y="9"/>
                      <a:pt x="8" y="8"/>
                    </a:cubicBezTo>
                    <a:cubicBezTo>
                      <a:pt x="7" y="8"/>
                      <a:pt x="8" y="8"/>
                      <a:pt x="7" y="8"/>
                    </a:cubicBezTo>
                    <a:cubicBezTo>
                      <a:pt x="6" y="7"/>
                      <a:pt x="7" y="6"/>
                      <a:pt x="8" y="5"/>
                    </a:cubicBezTo>
                    <a:cubicBezTo>
                      <a:pt x="9" y="6"/>
                      <a:pt x="9" y="6"/>
                      <a:pt x="10" y="6"/>
                    </a:cubicBezTo>
                    <a:cubicBezTo>
                      <a:pt x="9" y="5"/>
                      <a:pt x="10" y="5"/>
                      <a:pt x="10" y="5"/>
                    </a:cubicBezTo>
                    <a:cubicBezTo>
                      <a:pt x="10" y="5"/>
                      <a:pt x="11" y="5"/>
                      <a:pt x="10" y="4"/>
                    </a:cubicBezTo>
                    <a:cubicBezTo>
                      <a:pt x="7" y="5"/>
                      <a:pt x="8" y="3"/>
                      <a:pt x="10" y="2"/>
                    </a:cubicBezTo>
                    <a:cubicBezTo>
                      <a:pt x="9" y="2"/>
                      <a:pt x="8" y="2"/>
                      <a:pt x="6" y="0"/>
                    </a:cubicBezTo>
                    <a:cubicBezTo>
                      <a:pt x="7" y="2"/>
                      <a:pt x="8" y="3"/>
                      <a:pt x="6" y="4"/>
                    </a:cubicBezTo>
                    <a:cubicBezTo>
                      <a:pt x="6" y="4"/>
                      <a:pt x="6" y="4"/>
                      <a:pt x="6" y="5"/>
                    </a:cubicBezTo>
                    <a:cubicBezTo>
                      <a:pt x="6" y="5"/>
                      <a:pt x="7" y="5"/>
                      <a:pt x="7" y="6"/>
                    </a:cubicBezTo>
                    <a:cubicBezTo>
                      <a:pt x="7" y="6"/>
                      <a:pt x="7" y="6"/>
                      <a:pt x="6" y="5"/>
                    </a:cubicBezTo>
                    <a:cubicBezTo>
                      <a:pt x="6" y="6"/>
                      <a:pt x="5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5" y="6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5" y="7"/>
                      <a:pt x="6" y="10"/>
                      <a:pt x="7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4989"/>
              <p:cNvSpPr/>
              <p:nvPr/>
            </p:nvSpPr>
            <p:spPr>
              <a:xfrm>
                <a:off x="10999440" y="3200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0" y="0"/>
                      <a:pt x="1" y="1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4990"/>
              <p:cNvSpPr/>
              <p:nvPr/>
            </p:nvSpPr>
            <p:spPr>
              <a:xfrm>
                <a:off x="11052000" y="32558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2"/>
                    </a:moveTo>
                    <a:cubicBezTo>
                      <a:pt x="2" y="3"/>
                      <a:pt x="2" y="1"/>
                      <a:pt x="3" y="2"/>
                    </a:cubicBezTo>
                    <a:cubicBezTo>
                      <a:pt x="3" y="1"/>
                      <a:pt x="1" y="1"/>
                      <a:pt x="0" y="0"/>
                    </a:cubicBezTo>
                    <a:cubicBezTo>
                      <a:pt x="0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4991"/>
              <p:cNvSpPr/>
              <p:nvPr/>
            </p:nvSpPr>
            <p:spPr>
              <a:xfrm>
                <a:off x="11107440" y="3414600"/>
                <a:ext cx="2340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4"/>
                    </a:moveTo>
                    <a:cubicBezTo>
                      <a:pt x="2" y="5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2"/>
                      <a:pt x="6" y="1"/>
                      <a:pt x="4" y="1"/>
                    </a:cubicBezTo>
                    <a:cubicBezTo>
                      <a:pt x="4" y="1"/>
                      <a:pt x="4" y="2"/>
                      <a:pt x="3" y="2"/>
                    </a:cubicBezTo>
                    <a:cubicBezTo>
                      <a:pt x="4" y="2"/>
                      <a:pt x="4" y="1"/>
                      <a:pt x="5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3" y="0"/>
                    </a:cubicBezTo>
                    <a:cubicBezTo>
                      <a:pt x="5" y="2"/>
                      <a:pt x="2" y="0"/>
                      <a:pt x="3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1" y="1"/>
                      <a:pt x="2" y="2"/>
                      <a:pt x="2" y="3"/>
                    </a:cubicBezTo>
                    <a:cubicBezTo>
                      <a:pt x="1" y="3"/>
                      <a:pt x="0" y="3"/>
                      <a:pt x="0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4992"/>
              <p:cNvSpPr/>
              <p:nvPr/>
            </p:nvSpPr>
            <p:spPr>
              <a:xfrm>
                <a:off x="11100960" y="34527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0"/>
                      <a:pt x="1" y="2"/>
                      <a:pt x="0" y="2"/>
                    </a:cubicBezTo>
                    <a:cubicBezTo>
                      <a:pt x="0" y="3"/>
                      <a:pt x="1" y="3"/>
                      <a:pt x="2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4993"/>
              <p:cNvSpPr/>
              <p:nvPr/>
            </p:nvSpPr>
            <p:spPr>
              <a:xfrm>
                <a:off x="11036160" y="3148200"/>
                <a:ext cx="59760" cy="410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7" y="0"/>
                    </a:moveTo>
                    <a:cubicBezTo>
                      <a:pt x="6" y="4"/>
                      <a:pt x="0" y="5"/>
                      <a:pt x="3" y="9"/>
                    </a:cubicBezTo>
                    <a:cubicBezTo>
                      <a:pt x="4" y="9"/>
                      <a:pt x="3" y="7"/>
                      <a:pt x="4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5" y="8"/>
                      <a:pt x="3" y="9"/>
                      <a:pt x="5" y="8"/>
                    </a:cubicBezTo>
                    <a:cubicBezTo>
                      <a:pt x="5" y="9"/>
                      <a:pt x="5" y="10"/>
                      <a:pt x="5" y="10"/>
                    </a:cubicBezTo>
                    <a:cubicBezTo>
                      <a:pt x="5" y="11"/>
                      <a:pt x="6" y="10"/>
                      <a:pt x="6" y="10"/>
                    </a:cubicBezTo>
                    <a:cubicBezTo>
                      <a:pt x="6" y="10"/>
                      <a:pt x="7" y="11"/>
                      <a:pt x="8" y="10"/>
                    </a:cubicBezTo>
                    <a:cubicBezTo>
                      <a:pt x="6" y="8"/>
                      <a:pt x="9" y="9"/>
                      <a:pt x="8" y="7"/>
                    </a:cubicBezTo>
                    <a:cubicBezTo>
                      <a:pt x="9" y="7"/>
                      <a:pt x="9" y="8"/>
                      <a:pt x="10" y="9"/>
                    </a:cubicBezTo>
                    <a:cubicBezTo>
                      <a:pt x="10" y="9"/>
                      <a:pt x="9" y="9"/>
                      <a:pt x="8" y="10"/>
                    </a:cubicBezTo>
                    <a:cubicBezTo>
                      <a:pt x="10" y="11"/>
                      <a:pt x="11" y="9"/>
                      <a:pt x="12" y="8"/>
                    </a:cubicBezTo>
                    <a:cubicBezTo>
                      <a:pt x="11" y="7"/>
                      <a:pt x="11" y="7"/>
                      <a:pt x="10" y="7"/>
                    </a:cubicBezTo>
                    <a:cubicBezTo>
                      <a:pt x="12" y="6"/>
                      <a:pt x="13" y="6"/>
                      <a:pt x="15" y="5"/>
                    </a:cubicBezTo>
                    <a:cubicBezTo>
                      <a:pt x="16" y="4"/>
                      <a:pt x="13" y="3"/>
                      <a:pt x="13" y="3"/>
                    </a:cubicBezTo>
                    <a:cubicBezTo>
                      <a:pt x="14" y="3"/>
                      <a:pt x="13" y="2"/>
                      <a:pt x="13" y="0"/>
                    </a:cubicBezTo>
                    <a:cubicBezTo>
                      <a:pt x="11" y="1"/>
                      <a:pt x="11" y="0"/>
                      <a:pt x="9" y="0"/>
                    </a:cubicBezTo>
                    <a:cubicBezTo>
                      <a:pt x="9" y="2"/>
                      <a:pt x="11" y="1"/>
                      <a:pt x="11" y="3"/>
                    </a:cubicBezTo>
                    <a:cubicBezTo>
                      <a:pt x="9" y="3"/>
                      <a:pt x="11" y="2"/>
                      <a:pt x="9" y="2"/>
                    </a:cubicBezTo>
                    <a:cubicBezTo>
                      <a:pt x="8" y="2"/>
                      <a:pt x="9" y="3"/>
                      <a:pt x="10" y="3"/>
                    </a:cubicBezTo>
                    <a:cubicBezTo>
                      <a:pt x="10" y="3"/>
                      <a:pt x="10" y="3"/>
                      <a:pt x="9" y="3"/>
                    </a:cubicBezTo>
                    <a:cubicBezTo>
                      <a:pt x="9" y="4"/>
                      <a:pt x="10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5"/>
                      <a:pt x="8" y="5"/>
                      <a:pt x="6" y="5"/>
                    </a:cubicBezTo>
                    <a:cubicBezTo>
                      <a:pt x="6" y="6"/>
                      <a:pt x="7" y="6"/>
                      <a:pt x="8" y="7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6" y="5"/>
                      <a:pt x="6" y="4"/>
                      <a:pt x="8" y="3"/>
                    </a:cubicBezTo>
                    <a:cubicBezTo>
                      <a:pt x="7" y="2"/>
                      <a:pt x="8" y="2"/>
                      <a:pt x="7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4994"/>
              <p:cNvSpPr/>
              <p:nvPr/>
            </p:nvSpPr>
            <p:spPr>
              <a:xfrm>
                <a:off x="10991520" y="311796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3"/>
                    </a:moveTo>
                    <a:cubicBezTo>
                      <a:pt x="2" y="2"/>
                      <a:pt x="3" y="2"/>
                      <a:pt x="5" y="3"/>
                    </a:cubicBezTo>
                    <a:cubicBezTo>
                      <a:pt x="6" y="2"/>
                      <a:pt x="3" y="2"/>
                      <a:pt x="4" y="1"/>
                    </a:cubicBezTo>
                    <a:cubicBezTo>
                      <a:pt x="3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4995"/>
              <p:cNvSpPr/>
              <p:nvPr/>
            </p:nvSpPr>
            <p:spPr>
              <a:xfrm>
                <a:off x="11018520" y="311004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2" y="0"/>
                    </a:cubicBezTo>
                    <a:cubicBezTo>
                      <a:pt x="1" y="0"/>
                      <a:pt x="1" y="2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4996"/>
              <p:cNvSpPr/>
              <p:nvPr/>
            </p:nvSpPr>
            <p:spPr>
              <a:xfrm>
                <a:off x="11120040" y="32497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cubicBezTo>
                      <a:pt x="1" y="3"/>
                      <a:pt x="2" y="2"/>
                      <a:pt x="2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3" y="0"/>
                      <a:pt x="1" y="3"/>
                      <a:pt x="2" y="1"/>
                    </a:cubicBezTo>
                    <a:cubicBezTo>
                      <a:pt x="0" y="0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4997"/>
              <p:cNvSpPr/>
              <p:nvPr/>
            </p:nvSpPr>
            <p:spPr>
              <a:xfrm>
                <a:off x="11079000" y="330984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6"/>
                    </a:moveTo>
                    <a:cubicBezTo>
                      <a:pt x="2" y="5"/>
                      <a:pt x="2" y="4"/>
                      <a:pt x="2" y="3"/>
                    </a:cubicBezTo>
                    <a:cubicBezTo>
                      <a:pt x="2" y="1"/>
                      <a:pt x="3" y="0"/>
                      <a:pt x="5" y="0"/>
                    </a:cubicBezTo>
                    <a:cubicBezTo>
                      <a:pt x="5" y="0"/>
                      <a:pt x="5" y="0"/>
                      <a:pt x="4" y="0"/>
                    </a:cubicBezTo>
                    <a:cubicBezTo>
                      <a:pt x="3" y="1"/>
                      <a:pt x="1" y="1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6"/>
                      <a:pt x="3" y="6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4998"/>
              <p:cNvSpPr/>
              <p:nvPr/>
            </p:nvSpPr>
            <p:spPr>
              <a:xfrm>
                <a:off x="11066040" y="3384720"/>
                <a:ext cx="34560" cy="219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1"/>
                      <a:pt x="6" y="0"/>
                      <a:pt x="5" y="0"/>
                    </a:cubicBezTo>
                    <a:cubicBezTo>
                      <a:pt x="4" y="0"/>
                      <a:pt x="3" y="0"/>
                      <a:pt x="5" y="1"/>
                    </a:cubicBezTo>
                    <a:cubicBezTo>
                      <a:pt x="2" y="3"/>
                      <a:pt x="2" y="0"/>
                      <a:pt x="0" y="0"/>
                    </a:cubicBezTo>
                    <a:cubicBezTo>
                      <a:pt x="1" y="2"/>
                      <a:pt x="4" y="3"/>
                      <a:pt x="4" y="4"/>
                    </a:cubicBezTo>
                    <a:cubicBezTo>
                      <a:pt x="4" y="5"/>
                      <a:pt x="6" y="3"/>
                      <a:pt x="4" y="3"/>
                    </a:cubicBezTo>
                    <a:cubicBezTo>
                      <a:pt x="5" y="2"/>
                      <a:pt x="6" y="3"/>
                      <a:pt x="6" y="4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6" y="6"/>
                      <a:pt x="6" y="5"/>
                      <a:pt x="7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3"/>
                      <a:pt x="8" y="2"/>
                      <a:pt x="7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4999"/>
              <p:cNvSpPr/>
              <p:nvPr/>
            </p:nvSpPr>
            <p:spPr>
              <a:xfrm>
                <a:off x="10980360" y="311472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1"/>
                    </a:moveTo>
                    <a:cubicBezTo>
                      <a:pt x="4" y="1"/>
                      <a:pt x="2" y="1"/>
                      <a:pt x="1" y="0"/>
                    </a:cubicBezTo>
                    <a:cubicBezTo>
                      <a:pt x="0" y="2"/>
                      <a:pt x="4" y="1"/>
                      <a:pt x="5" y="3"/>
                    </a:cubicBezTo>
                    <a:cubicBezTo>
                      <a:pt x="6" y="3"/>
                      <a:pt x="6" y="1"/>
                      <a:pt x="5" y="2"/>
                    </a:cubicBezTo>
                    <a:cubicBezTo>
                      <a:pt x="4" y="2"/>
                      <a:pt x="5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5000"/>
              <p:cNvSpPr/>
              <p:nvPr/>
            </p:nvSpPr>
            <p:spPr>
              <a:xfrm>
                <a:off x="11131200" y="333216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2" y="3"/>
                      <a:pt x="1" y="2"/>
                      <a:pt x="1" y="0"/>
                    </a:cubicBezTo>
                    <a:cubicBezTo>
                      <a:pt x="1" y="1"/>
                      <a:pt x="0" y="3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5001"/>
              <p:cNvSpPr/>
              <p:nvPr/>
            </p:nvSpPr>
            <p:spPr>
              <a:xfrm>
                <a:off x="11115360" y="3299040"/>
                <a:ext cx="26640" cy="17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5"/>
                    </a:moveTo>
                    <a:cubicBezTo>
                      <a:pt x="2" y="4"/>
                      <a:pt x="2" y="4"/>
                      <a:pt x="4" y="5"/>
                    </a:cubicBezTo>
                    <a:cubicBezTo>
                      <a:pt x="2" y="4"/>
                      <a:pt x="4" y="3"/>
                      <a:pt x="4" y="2"/>
                    </a:cubicBezTo>
                    <a:cubicBezTo>
                      <a:pt x="6" y="4"/>
                      <a:pt x="5" y="4"/>
                      <a:pt x="7" y="2"/>
                    </a:cubicBezTo>
                    <a:cubicBezTo>
                      <a:pt x="6" y="1"/>
                      <a:pt x="4" y="0"/>
                      <a:pt x="3" y="0"/>
                    </a:cubicBezTo>
                    <a:cubicBezTo>
                      <a:pt x="1" y="0"/>
                      <a:pt x="3" y="3"/>
                      <a:pt x="0" y="3"/>
                    </a:cubicBezTo>
                    <a:cubicBezTo>
                      <a:pt x="1" y="3"/>
                      <a:pt x="2" y="4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5002"/>
              <p:cNvSpPr/>
              <p:nvPr/>
            </p:nvSpPr>
            <p:spPr>
              <a:xfrm>
                <a:off x="11007360" y="312912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4"/>
                    </a:moveTo>
                    <a:cubicBezTo>
                      <a:pt x="2" y="3"/>
                      <a:pt x="4" y="2"/>
                      <a:pt x="3" y="0"/>
                    </a:cubicBezTo>
                    <a:cubicBezTo>
                      <a:pt x="2" y="0"/>
                      <a:pt x="2" y="0"/>
                      <a:pt x="1" y="1"/>
                    </a:cubicBezTo>
                    <a:cubicBezTo>
                      <a:pt x="4" y="2"/>
                      <a:pt x="0" y="1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5003"/>
              <p:cNvSpPr/>
              <p:nvPr/>
            </p:nvSpPr>
            <p:spPr>
              <a:xfrm>
                <a:off x="10890000" y="3137040"/>
                <a:ext cx="48960" cy="190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2" y="1"/>
                    </a:moveTo>
                    <a:cubicBezTo>
                      <a:pt x="12" y="1"/>
                      <a:pt x="11" y="1"/>
                      <a:pt x="10" y="0"/>
                    </a:cubicBezTo>
                    <a:cubicBezTo>
                      <a:pt x="10" y="1"/>
                      <a:pt x="11" y="1"/>
                      <a:pt x="11" y="2"/>
                    </a:cubicBezTo>
                    <a:cubicBezTo>
                      <a:pt x="10" y="3"/>
                      <a:pt x="9" y="3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0"/>
                      <a:pt x="6" y="0"/>
                      <a:pt x="6" y="0"/>
                    </a:cubicBezTo>
                    <a:cubicBezTo>
                      <a:pt x="7" y="1"/>
                      <a:pt x="6" y="4"/>
                      <a:pt x="8" y="3"/>
                    </a:cubicBezTo>
                    <a:cubicBezTo>
                      <a:pt x="8" y="3"/>
                      <a:pt x="8" y="3"/>
                      <a:pt x="8" y="4"/>
                    </a:cubicBezTo>
                    <a:cubicBezTo>
                      <a:pt x="5" y="2"/>
                      <a:pt x="6" y="3"/>
                      <a:pt x="2" y="0"/>
                    </a:cubicBezTo>
                    <a:cubicBezTo>
                      <a:pt x="1" y="1"/>
                      <a:pt x="0" y="2"/>
                      <a:pt x="2" y="4"/>
                    </a:cubicBezTo>
                    <a:cubicBezTo>
                      <a:pt x="5" y="4"/>
                      <a:pt x="8" y="5"/>
                      <a:pt x="12" y="5"/>
                    </a:cubicBezTo>
                    <a:cubicBezTo>
                      <a:pt x="13" y="4"/>
                      <a:pt x="11" y="2"/>
                      <a:pt x="1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5004"/>
              <p:cNvSpPr/>
              <p:nvPr/>
            </p:nvSpPr>
            <p:spPr>
              <a:xfrm>
                <a:off x="10917000" y="3117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cubicBezTo>
                      <a:pt x="4" y="2"/>
                      <a:pt x="2" y="1"/>
                      <a:pt x="2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5005"/>
              <p:cNvSpPr/>
              <p:nvPr/>
            </p:nvSpPr>
            <p:spPr>
              <a:xfrm>
                <a:off x="10966320" y="31561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1" y="3"/>
                      <a:pt x="2" y="3"/>
                      <a:pt x="3" y="2"/>
                    </a:cubicBezTo>
                    <a:cubicBezTo>
                      <a:pt x="2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5006"/>
              <p:cNvSpPr/>
              <p:nvPr/>
            </p:nvSpPr>
            <p:spPr>
              <a:xfrm>
                <a:off x="11123280" y="3403800"/>
                <a:ext cx="1872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3"/>
                    </a:moveTo>
                    <a:cubicBezTo>
                      <a:pt x="2" y="3"/>
                      <a:pt x="4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2" y="2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3" y="1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5007"/>
              <p:cNvSpPr/>
              <p:nvPr/>
            </p:nvSpPr>
            <p:spPr>
              <a:xfrm>
                <a:off x="10548720" y="29718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3" y="0"/>
                      <a:pt x="3" y="0"/>
                      <a:pt x="0" y="1"/>
                    </a:cubicBezTo>
                    <a:cubicBezTo>
                      <a:pt x="2" y="2"/>
                      <a:pt x="5" y="3"/>
                      <a:pt x="5" y="1"/>
                    </a:cubicBezTo>
                    <a:cubicBezTo>
                      <a:pt x="4" y="1"/>
                      <a:pt x="4" y="1"/>
                      <a:pt x="4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5008"/>
              <p:cNvSpPr/>
              <p:nvPr/>
            </p:nvSpPr>
            <p:spPr>
              <a:xfrm>
                <a:off x="10705680" y="305748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8" y="4"/>
                    </a:moveTo>
                    <a:cubicBezTo>
                      <a:pt x="9" y="4"/>
                      <a:pt x="10" y="5"/>
                      <a:pt x="11" y="4"/>
                    </a:cubicBezTo>
                    <a:cubicBezTo>
                      <a:pt x="11" y="3"/>
                      <a:pt x="11" y="3"/>
                      <a:pt x="11" y="2"/>
                    </a:cubicBezTo>
                    <a:cubicBezTo>
                      <a:pt x="9" y="2"/>
                      <a:pt x="6" y="0"/>
                      <a:pt x="6" y="3"/>
                    </a:cubicBezTo>
                    <a:cubicBezTo>
                      <a:pt x="5" y="3"/>
                      <a:pt x="4" y="2"/>
                      <a:pt x="4" y="3"/>
                    </a:cubicBezTo>
                    <a:cubicBezTo>
                      <a:pt x="3" y="1"/>
                      <a:pt x="2" y="1"/>
                      <a:pt x="0" y="1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4"/>
                      <a:pt x="7" y="2"/>
                      <a:pt x="9" y="3"/>
                    </a:cubicBezTo>
                    <a:cubicBezTo>
                      <a:pt x="10" y="4"/>
                      <a:pt x="9" y="3"/>
                      <a:pt x="8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5009"/>
              <p:cNvSpPr/>
              <p:nvPr/>
            </p:nvSpPr>
            <p:spPr>
              <a:xfrm>
                <a:off x="10661400" y="302436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2"/>
                      <a:pt x="2" y="2"/>
                      <a:pt x="3" y="2"/>
                    </a:cubicBezTo>
                    <a:cubicBezTo>
                      <a:pt x="4" y="1"/>
                      <a:pt x="1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5010"/>
              <p:cNvSpPr/>
              <p:nvPr/>
            </p:nvSpPr>
            <p:spPr>
              <a:xfrm>
                <a:off x="10694880" y="29894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1"/>
                    </a:moveTo>
                    <a:cubicBezTo>
                      <a:pt x="4" y="2"/>
                      <a:pt x="2" y="0"/>
                      <a:pt x="2" y="2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3"/>
                      <a:pt x="5" y="3"/>
                      <a:pt x="6" y="5"/>
                    </a:cubicBezTo>
                    <a:cubicBezTo>
                      <a:pt x="7" y="4"/>
                      <a:pt x="6" y="3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5011"/>
              <p:cNvSpPr/>
              <p:nvPr/>
            </p:nvSpPr>
            <p:spPr>
              <a:xfrm>
                <a:off x="10702800" y="3013200"/>
                <a:ext cx="43920" cy="25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2"/>
                    </a:moveTo>
                    <a:cubicBezTo>
                      <a:pt x="7" y="2"/>
                      <a:pt x="5" y="5"/>
                      <a:pt x="2" y="1"/>
                    </a:cubicBezTo>
                    <a:cubicBezTo>
                      <a:pt x="3" y="1"/>
                      <a:pt x="4" y="1"/>
                      <a:pt x="5" y="2"/>
                    </a:cubicBezTo>
                    <a:cubicBezTo>
                      <a:pt x="5" y="1"/>
                      <a:pt x="3" y="0"/>
                      <a:pt x="2" y="0"/>
                    </a:cubicBezTo>
                    <a:cubicBezTo>
                      <a:pt x="1" y="2"/>
                      <a:pt x="1" y="2"/>
                      <a:pt x="0" y="3"/>
                    </a:cubicBezTo>
                    <a:cubicBezTo>
                      <a:pt x="1" y="3"/>
                      <a:pt x="2" y="3"/>
                      <a:pt x="3" y="2"/>
                    </a:cubicBezTo>
                    <a:cubicBezTo>
                      <a:pt x="5" y="4"/>
                      <a:pt x="4" y="5"/>
                      <a:pt x="6" y="7"/>
                    </a:cubicBezTo>
                    <a:cubicBezTo>
                      <a:pt x="6" y="6"/>
                      <a:pt x="5" y="5"/>
                      <a:pt x="6" y="4"/>
                    </a:cubicBezTo>
                    <a:cubicBezTo>
                      <a:pt x="6" y="4"/>
                      <a:pt x="9" y="5"/>
                      <a:pt x="8" y="6"/>
                    </a:cubicBezTo>
                    <a:cubicBezTo>
                      <a:pt x="8" y="6"/>
                      <a:pt x="8" y="6"/>
                      <a:pt x="9" y="6"/>
                    </a:cubicBezTo>
                    <a:cubicBezTo>
                      <a:pt x="9" y="7"/>
                      <a:pt x="10" y="7"/>
                      <a:pt x="11" y="6"/>
                    </a:cubicBezTo>
                    <a:cubicBezTo>
                      <a:pt x="11" y="6"/>
                      <a:pt x="10" y="5"/>
                      <a:pt x="10" y="5"/>
                    </a:cubicBezTo>
                    <a:cubicBezTo>
                      <a:pt x="10" y="5"/>
                      <a:pt x="10" y="4"/>
                      <a:pt x="10" y="4"/>
                    </a:cubicBezTo>
                    <a:cubicBezTo>
                      <a:pt x="10" y="4"/>
                      <a:pt x="10" y="5"/>
                      <a:pt x="11" y="5"/>
                    </a:cubicBezTo>
                    <a:cubicBezTo>
                      <a:pt x="12" y="4"/>
                      <a:pt x="7" y="4"/>
                      <a:pt x="10" y="2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8" y="4"/>
                    </a:cubicBezTo>
                    <a:cubicBezTo>
                      <a:pt x="9" y="4"/>
                      <a:pt x="9" y="4"/>
                      <a:pt x="10" y="4"/>
                    </a:cubicBezTo>
                    <a:cubicBezTo>
                      <a:pt x="10" y="4"/>
                      <a:pt x="9" y="4"/>
                      <a:pt x="9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5012"/>
              <p:cNvSpPr/>
              <p:nvPr/>
            </p:nvSpPr>
            <p:spPr>
              <a:xfrm>
                <a:off x="10991520" y="311472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3" y="3"/>
                      <a:pt x="1" y="0"/>
                      <a:pt x="4" y="3"/>
                    </a:cubicBezTo>
                    <a:cubicBezTo>
                      <a:pt x="4" y="2"/>
                      <a:pt x="2" y="1"/>
                      <a:pt x="2" y="0"/>
                    </a:cubicBezTo>
                    <a:cubicBezTo>
                      <a:pt x="1" y="0"/>
                      <a:pt x="2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5013"/>
              <p:cNvSpPr/>
              <p:nvPr/>
            </p:nvSpPr>
            <p:spPr>
              <a:xfrm>
                <a:off x="10969200" y="311004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4"/>
                    </a:moveTo>
                    <a:cubicBezTo>
                      <a:pt x="3" y="5"/>
                      <a:pt x="2" y="2"/>
                      <a:pt x="3" y="4"/>
                    </a:cubicBezTo>
                    <a:cubicBezTo>
                      <a:pt x="3" y="3"/>
                      <a:pt x="2" y="2"/>
                      <a:pt x="3" y="2"/>
                    </a:cubicBezTo>
                    <a:cubicBezTo>
                      <a:pt x="3" y="1"/>
                      <a:pt x="2" y="1"/>
                      <a:pt x="1" y="0"/>
                    </a:cubicBezTo>
                    <a:cubicBezTo>
                      <a:pt x="1" y="2"/>
                      <a:pt x="1" y="1"/>
                      <a:pt x="0" y="3"/>
                    </a:cubicBezTo>
                    <a:cubicBezTo>
                      <a:pt x="1" y="4"/>
                      <a:pt x="2" y="3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5014"/>
              <p:cNvSpPr/>
              <p:nvPr/>
            </p:nvSpPr>
            <p:spPr>
              <a:xfrm>
                <a:off x="11007360" y="31510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4" y="2"/>
                      <a:pt x="3" y="1"/>
                      <a:pt x="2" y="0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2" y="3"/>
                      <a:pt x="4" y="5"/>
                      <a:pt x="6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5015"/>
              <p:cNvSpPr/>
              <p:nvPr/>
            </p:nvSpPr>
            <p:spPr>
              <a:xfrm>
                <a:off x="10631160" y="297504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cubicBezTo>
                      <a:pt x="4" y="2"/>
                      <a:pt x="4" y="1"/>
                      <a:pt x="3" y="0"/>
                    </a:cubicBezTo>
                    <a:cubicBezTo>
                      <a:pt x="3" y="0"/>
                      <a:pt x="2" y="0"/>
                      <a:pt x="1" y="0"/>
                    </a:cubicBezTo>
                    <a:cubicBezTo>
                      <a:pt x="0" y="2"/>
                      <a:pt x="2" y="1"/>
                      <a:pt x="2" y="4"/>
                    </a:cubicBezTo>
                    <a:cubicBezTo>
                      <a:pt x="3" y="4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5016"/>
              <p:cNvSpPr/>
              <p:nvPr/>
            </p:nvSpPr>
            <p:spPr>
              <a:xfrm>
                <a:off x="11090160" y="3238560"/>
                <a:ext cx="1692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cubicBezTo>
                      <a:pt x="0" y="2"/>
                      <a:pt x="0" y="4"/>
                      <a:pt x="3" y="6"/>
                    </a:cubicBezTo>
                    <a:cubicBezTo>
                      <a:pt x="5" y="4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5017"/>
              <p:cNvSpPr/>
              <p:nvPr/>
            </p:nvSpPr>
            <p:spPr>
              <a:xfrm>
                <a:off x="11066040" y="32450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5"/>
                    </a:moveTo>
                    <a:cubicBezTo>
                      <a:pt x="2" y="7"/>
                      <a:pt x="2" y="6"/>
                      <a:pt x="3" y="5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2" y="0"/>
                      <a:pt x="0" y="1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5018"/>
              <p:cNvSpPr/>
              <p:nvPr/>
            </p:nvSpPr>
            <p:spPr>
              <a:xfrm>
                <a:off x="11071080" y="314028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cubicBezTo>
                      <a:pt x="0" y="2"/>
                      <a:pt x="0" y="3"/>
                      <a:pt x="3" y="4"/>
                    </a:cubicBezTo>
                    <a:cubicBezTo>
                      <a:pt x="5" y="3"/>
                      <a:pt x="3" y="2"/>
                      <a:pt x="5" y="0"/>
                    </a:cubicBezTo>
                    <a:cubicBezTo>
                      <a:pt x="4" y="0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Freeform 5019"/>
              <p:cNvSpPr/>
              <p:nvPr/>
            </p:nvSpPr>
            <p:spPr>
              <a:xfrm>
                <a:off x="11021760" y="31179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cubicBezTo>
                      <a:pt x="1" y="3"/>
                      <a:pt x="1" y="3"/>
                      <a:pt x="2" y="4"/>
                    </a:cubicBezTo>
                    <a:cubicBezTo>
                      <a:pt x="3" y="5"/>
                      <a:pt x="4" y="5"/>
                      <a:pt x="5" y="6"/>
                    </a:cubicBezTo>
                    <a:cubicBezTo>
                      <a:pt x="6" y="5"/>
                      <a:pt x="7" y="4"/>
                      <a:pt x="8" y="2"/>
                    </a:cubicBezTo>
                    <a:cubicBezTo>
                      <a:pt x="7" y="2"/>
                      <a:pt x="6" y="2"/>
                      <a:pt x="6" y="1"/>
                    </a:cubicBezTo>
                    <a:cubicBezTo>
                      <a:pt x="4" y="3"/>
                      <a:pt x="2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Freeform 5020"/>
              <p:cNvSpPr/>
              <p:nvPr/>
            </p:nvSpPr>
            <p:spPr>
              <a:xfrm>
                <a:off x="11090160" y="33465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Freeform 5021"/>
              <p:cNvSpPr/>
              <p:nvPr/>
            </p:nvSpPr>
            <p:spPr>
              <a:xfrm>
                <a:off x="11093040" y="33433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5022"/>
              <p:cNvSpPr/>
              <p:nvPr/>
            </p:nvSpPr>
            <p:spPr>
              <a:xfrm>
                <a:off x="11085120" y="33465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1" y="3"/>
                      <a:pt x="2" y="2"/>
                      <a:pt x="3" y="2"/>
                    </a:cubicBezTo>
                    <a:cubicBezTo>
                      <a:pt x="3" y="2"/>
                      <a:pt x="2" y="1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Freeform 5023"/>
              <p:cNvSpPr/>
              <p:nvPr/>
            </p:nvSpPr>
            <p:spPr>
              <a:xfrm>
                <a:off x="10598040" y="2971800"/>
                <a:ext cx="13680" cy="64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cubicBezTo>
                      <a:pt x="3" y="2"/>
                      <a:pt x="3" y="2"/>
                      <a:pt x="4" y="2"/>
                    </a:cubicBezTo>
                    <a:cubicBezTo>
                      <a:pt x="4" y="1"/>
                      <a:pt x="2" y="1"/>
                      <a:pt x="2" y="0"/>
                    </a:cubicBezTo>
                    <a:cubicBezTo>
                      <a:pt x="2" y="1"/>
                      <a:pt x="0" y="0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5024"/>
              <p:cNvSpPr/>
              <p:nvPr/>
            </p:nvSpPr>
            <p:spPr>
              <a:xfrm>
                <a:off x="11131200" y="326880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2"/>
                      <a:pt x="2" y="2"/>
                      <a:pt x="4" y="2"/>
                    </a:cubicBezTo>
                    <a:cubicBezTo>
                      <a:pt x="2" y="0"/>
                      <a:pt x="2" y="1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5025"/>
              <p:cNvSpPr/>
              <p:nvPr/>
            </p:nvSpPr>
            <p:spPr>
              <a:xfrm>
                <a:off x="11066040" y="33814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2" y="2"/>
                      <a:pt x="2" y="0"/>
                      <a:pt x="0" y="1"/>
                    </a:cubicBezTo>
                    <a:cubicBezTo>
                      <a:pt x="2" y="2"/>
                      <a:pt x="2" y="4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5026"/>
              <p:cNvSpPr/>
              <p:nvPr/>
            </p:nvSpPr>
            <p:spPr>
              <a:xfrm>
                <a:off x="10713600" y="30243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cubicBezTo>
                      <a:pt x="3" y="3"/>
                      <a:pt x="4" y="2"/>
                      <a:pt x="4" y="1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2" y="1"/>
                      <a:pt x="2" y="5"/>
                      <a:pt x="5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5027"/>
              <p:cNvSpPr/>
              <p:nvPr/>
            </p:nvSpPr>
            <p:spPr>
              <a:xfrm>
                <a:off x="11055240" y="33512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1"/>
                    </a:moveTo>
                    <a:cubicBezTo>
                      <a:pt x="4" y="2"/>
                      <a:pt x="6" y="0"/>
                      <a:pt x="4" y="0"/>
                    </a:cubicBezTo>
                    <a:cubicBezTo>
                      <a:pt x="4" y="1"/>
                      <a:pt x="3" y="0"/>
                      <a:pt x="2" y="0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2" y="3"/>
                      <a:pt x="7" y="5"/>
                      <a:pt x="6" y="3"/>
                    </a:cubicBezTo>
                    <a:cubicBezTo>
                      <a:pt x="7" y="3"/>
                      <a:pt x="7" y="4"/>
                      <a:pt x="7" y="4"/>
                    </a:cubicBezTo>
                    <a:cubicBezTo>
                      <a:pt x="9" y="2"/>
                      <a:pt x="5" y="3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5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5028"/>
              <p:cNvSpPr/>
              <p:nvPr/>
            </p:nvSpPr>
            <p:spPr>
              <a:xfrm>
                <a:off x="11044080" y="3357720"/>
                <a:ext cx="2160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4" y="5"/>
                      <a:pt x="6" y="5"/>
                    </a:cubicBezTo>
                    <a:cubicBezTo>
                      <a:pt x="5" y="3"/>
                      <a:pt x="2" y="0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5029"/>
              <p:cNvSpPr/>
              <p:nvPr/>
            </p:nvSpPr>
            <p:spPr>
              <a:xfrm>
                <a:off x="10672560" y="30052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cubicBezTo>
                      <a:pt x="1" y="2"/>
                      <a:pt x="2" y="3"/>
                      <a:pt x="4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5" y="4"/>
                      <a:pt x="8" y="7"/>
                      <a:pt x="7" y="5"/>
                    </a:cubicBezTo>
                    <a:cubicBezTo>
                      <a:pt x="5" y="4"/>
                      <a:pt x="2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5030"/>
              <p:cNvSpPr/>
              <p:nvPr/>
            </p:nvSpPr>
            <p:spPr>
              <a:xfrm>
                <a:off x="11096280" y="3433680"/>
                <a:ext cx="234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cubicBezTo>
                      <a:pt x="1" y="2"/>
                      <a:pt x="4" y="7"/>
                      <a:pt x="6" y="6"/>
                    </a:cubicBezTo>
                    <a:cubicBezTo>
                      <a:pt x="4" y="3"/>
                      <a:pt x="2" y="2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5031"/>
              <p:cNvSpPr/>
              <p:nvPr/>
            </p:nvSpPr>
            <p:spPr>
              <a:xfrm>
                <a:off x="10581840" y="296064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cubicBezTo>
                      <a:pt x="0" y="1"/>
                      <a:pt x="4" y="3"/>
                      <a:pt x="4" y="4"/>
                    </a:cubicBezTo>
                    <a:cubicBezTo>
                      <a:pt x="4" y="4"/>
                      <a:pt x="3" y="4"/>
                      <a:pt x="4" y="6"/>
                    </a:cubicBezTo>
                    <a:cubicBezTo>
                      <a:pt x="5" y="6"/>
                      <a:pt x="6" y="5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8" y="6"/>
                      <a:pt x="9" y="7"/>
                      <a:pt x="10" y="9"/>
                    </a:cubicBezTo>
                    <a:cubicBezTo>
                      <a:pt x="11" y="3"/>
                      <a:pt x="6" y="1"/>
                      <a:pt x="3" y="0"/>
                    </a:cubicBezTo>
                    <a:close/>
                    <a:moveTo>
                      <a:pt x="4" y="4"/>
                    </a:moveTo>
                    <a:cubicBezTo>
                      <a:pt x="4" y="3"/>
                      <a:pt x="6" y="4"/>
                      <a:pt x="6" y="3"/>
                    </a:cubicBezTo>
                    <a:cubicBezTo>
                      <a:pt x="6" y="4"/>
                      <a:pt x="8" y="4"/>
                      <a:pt x="8" y="5"/>
                    </a:cubicBezTo>
                    <a:cubicBezTo>
                      <a:pt x="7" y="5"/>
                      <a:pt x="7" y="5"/>
                      <a:pt x="6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5032"/>
              <p:cNvSpPr/>
              <p:nvPr/>
            </p:nvSpPr>
            <p:spPr>
              <a:xfrm>
                <a:off x="11079000" y="34750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2" y="3"/>
                      <a:pt x="2" y="2"/>
                    </a:cubicBezTo>
                    <a:cubicBezTo>
                      <a:pt x="1" y="0"/>
                      <a:pt x="3" y="3"/>
                      <a:pt x="3" y="2"/>
                    </a:cubicBezTo>
                    <a:cubicBezTo>
                      <a:pt x="2" y="1"/>
                      <a:pt x="3" y="0"/>
                      <a:pt x="2" y="0"/>
                    </a:cubicBezTo>
                    <a:cubicBezTo>
                      <a:pt x="2" y="2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5033"/>
              <p:cNvSpPr/>
              <p:nvPr/>
            </p:nvSpPr>
            <p:spPr>
              <a:xfrm>
                <a:off x="11100960" y="34178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cubicBezTo>
                      <a:pt x="3" y="2"/>
                      <a:pt x="3" y="2"/>
                      <a:pt x="4" y="2"/>
                    </a:cubicBezTo>
                    <a:cubicBezTo>
                      <a:pt x="3" y="3"/>
                      <a:pt x="7" y="4"/>
                      <a:pt x="7" y="3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4" y="3"/>
                      <a:pt x="1" y="0"/>
                      <a:pt x="0" y="1"/>
                    </a:cubicBezTo>
                    <a:cubicBezTo>
                      <a:pt x="1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5034"/>
              <p:cNvSpPr/>
              <p:nvPr/>
            </p:nvSpPr>
            <p:spPr>
              <a:xfrm>
                <a:off x="11115360" y="3384720"/>
                <a:ext cx="1872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0" y="3"/>
                      <a:pt x="2" y="6"/>
                      <a:pt x="5" y="6"/>
                    </a:cubicBezTo>
                    <a:cubicBezTo>
                      <a:pt x="4" y="4"/>
                      <a:pt x="3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5035"/>
              <p:cNvSpPr/>
              <p:nvPr/>
            </p:nvSpPr>
            <p:spPr>
              <a:xfrm>
                <a:off x="11079000" y="3411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1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2" y="3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5036"/>
              <p:cNvSpPr/>
              <p:nvPr/>
            </p:nvSpPr>
            <p:spPr>
              <a:xfrm>
                <a:off x="11082240" y="336564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1"/>
                    </a:moveTo>
                    <a:cubicBezTo>
                      <a:pt x="3" y="0"/>
                      <a:pt x="0" y="1"/>
                      <a:pt x="1" y="2"/>
                    </a:cubicBezTo>
                    <a:cubicBezTo>
                      <a:pt x="2" y="1"/>
                      <a:pt x="3" y="3"/>
                      <a:pt x="4" y="1"/>
                    </a:cubicBezTo>
                    <a:cubicBezTo>
                      <a:pt x="3" y="3"/>
                      <a:pt x="6" y="3"/>
                      <a:pt x="4" y="4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6" y="5"/>
                      <a:pt x="9" y="8"/>
                      <a:pt x="8" y="7"/>
                    </a:cubicBezTo>
                    <a:cubicBezTo>
                      <a:pt x="8" y="6"/>
                      <a:pt x="7" y="5"/>
                      <a:pt x="8" y="3"/>
                    </a:cubicBezTo>
                    <a:cubicBezTo>
                      <a:pt x="5" y="3"/>
                      <a:pt x="4" y="3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5037"/>
              <p:cNvSpPr/>
              <p:nvPr/>
            </p:nvSpPr>
            <p:spPr>
              <a:xfrm>
                <a:off x="11048760" y="33210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2"/>
                    </a:moveTo>
                    <a:cubicBezTo>
                      <a:pt x="3" y="2"/>
                      <a:pt x="3" y="1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4" y="3"/>
                      <a:pt x="1" y="7"/>
                      <a:pt x="5" y="7"/>
                    </a:cubicBezTo>
                    <a:cubicBezTo>
                      <a:pt x="7" y="7"/>
                      <a:pt x="5" y="5"/>
                      <a:pt x="6" y="5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8" y="3"/>
                      <a:pt x="2" y="4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5038"/>
              <p:cNvSpPr/>
              <p:nvPr/>
            </p:nvSpPr>
            <p:spPr>
              <a:xfrm>
                <a:off x="10961280" y="31370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cubicBezTo>
                      <a:pt x="3" y="2"/>
                      <a:pt x="4" y="2"/>
                      <a:pt x="4" y="2"/>
                    </a:cubicBezTo>
                    <a:cubicBezTo>
                      <a:pt x="3" y="1"/>
                      <a:pt x="1" y="0"/>
                      <a:pt x="0" y="0"/>
                    </a:cubicBezTo>
                    <a:cubicBezTo>
                      <a:pt x="0" y="1"/>
                      <a:pt x="2" y="2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5039"/>
              <p:cNvSpPr/>
              <p:nvPr/>
            </p:nvSpPr>
            <p:spPr>
              <a:xfrm>
                <a:off x="11052000" y="32227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cubicBezTo>
                      <a:pt x="4" y="1"/>
                      <a:pt x="4" y="1"/>
                      <a:pt x="3" y="0"/>
                    </a:cubicBezTo>
                    <a:cubicBezTo>
                      <a:pt x="2" y="0"/>
                      <a:pt x="2" y="2"/>
                      <a:pt x="1" y="0"/>
                    </a:cubicBezTo>
                    <a:cubicBezTo>
                      <a:pt x="0" y="2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5040"/>
              <p:cNvSpPr/>
              <p:nvPr/>
            </p:nvSpPr>
            <p:spPr>
              <a:xfrm>
                <a:off x="11071080" y="3362400"/>
                <a:ext cx="32760" cy="1440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3"/>
                    </a:moveTo>
                    <a:cubicBezTo>
                      <a:pt x="9" y="2"/>
                      <a:pt x="8" y="2"/>
                      <a:pt x="8" y="0"/>
                    </a:cubicBezTo>
                    <a:cubicBezTo>
                      <a:pt x="7" y="4"/>
                      <a:pt x="2" y="2"/>
                      <a:pt x="0" y="3"/>
                    </a:cubicBezTo>
                    <a:cubicBezTo>
                      <a:pt x="2" y="4"/>
                      <a:pt x="7" y="3"/>
                      <a:pt x="9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5041"/>
              <p:cNvSpPr/>
              <p:nvPr/>
            </p:nvSpPr>
            <p:spPr>
              <a:xfrm>
                <a:off x="10721880" y="304344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1" y="2"/>
                      <a:pt x="2" y="4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2" y="2"/>
                      <a:pt x="1" y="2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5042"/>
              <p:cNvSpPr/>
              <p:nvPr/>
            </p:nvSpPr>
            <p:spPr>
              <a:xfrm>
                <a:off x="11079000" y="3327480"/>
                <a:ext cx="3276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2"/>
                    </a:moveTo>
                    <a:cubicBezTo>
                      <a:pt x="4" y="2"/>
                      <a:pt x="4" y="2"/>
                      <a:pt x="3" y="1"/>
                    </a:cubicBezTo>
                    <a:cubicBezTo>
                      <a:pt x="5" y="0"/>
                      <a:pt x="2" y="1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2" y="2"/>
                      <a:pt x="1" y="1"/>
                    </a:cubicBezTo>
                    <a:cubicBezTo>
                      <a:pt x="0" y="2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3" y="5"/>
                    </a:cubicBezTo>
                    <a:cubicBezTo>
                      <a:pt x="2" y="5"/>
                      <a:pt x="2" y="4"/>
                      <a:pt x="2" y="4"/>
                    </a:cubicBezTo>
                    <a:cubicBezTo>
                      <a:pt x="1" y="4"/>
                      <a:pt x="1" y="5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1" y="8"/>
                    </a:cubicBezTo>
                    <a:cubicBezTo>
                      <a:pt x="3" y="8"/>
                      <a:pt x="4" y="8"/>
                      <a:pt x="4" y="9"/>
                    </a:cubicBezTo>
                    <a:cubicBezTo>
                      <a:pt x="4" y="8"/>
                      <a:pt x="5" y="8"/>
                      <a:pt x="5" y="7"/>
                    </a:cubicBezTo>
                    <a:cubicBezTo>
                      <a:pt x="7" y="8"/>
                      <a:pt x="6" y="7"/>
                      <a:pt x="8" y="7"/>
                    </a:cubicBezTo>
                    <a:cubicBezTo>
                      <a:pt x="8" y="7"/>
                      <a:pt x="7" y="8"/>
                      <a:pt x="7" y="8"/>
                    </a:cubicBezTo>
                    <a:cubicBezTo>
                      <a:pt x="7" y="9"/>
                      <a:pt x="8" y="9"/>
                      <a:pt x="9" y="8"/>
                    </a:cubicBezTo>
                    <a:cubicBezTo>
                      <a:pt x="8" y="8"/>
                      <a:pt x="9" y="8"/>
                      <a:pt x="8" y="6"/>
                    </a:cubicBezTo>
                    <a:cubicBezTo>
                      <a:pt x="8" y="6"/>
                      <a:pt x="7" y="6"/>
                      <a:pt x="6" y="6"/>
                    </a:cubicBezTo>
                    <a:cubicBezTo>
                      <a:pt x="7" y="5"/>
                      <a:pt x="9" y="6"/>
                      <a:pt x="7" y="3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4" y="2"/>
                      <a:pt x="7" y="2"/>
                      <a:pt x="5" y="1"/>
                    </a:cubicBezTo>
                    <a:cubicBezTo>
                      <a:pt x="4" y="1"/>
                      <a:pt x="4" y="2"/>
                      <a:pt x="4" y="2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7"/>
                    </a:moveTo>
                    <a:cubicBezTo>
                      <a:pt x="4" y="7"/>
                      <a:pt x="3" y="8"/>
                      <a:pt x="3" y="6"/>
                    </a:cubicBezTo>
                    <a:cubicBezTo>
                      <a:pt x="3" y="7"/>
                      <a:pt x="4" y="7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4" y="6"/>
                      <a:pt x="5" y="7"/>
                      <a:pt x="5" y="7"/>
                    </a:cubicBezTo>
                    <a:close/>
                    <a:moveTo>
                      <a:pt x="5" y="4"/>
                    </a:moveTo>
                    <a:cubicBezTo>
                      <a:pt x="5" y="4"/>
                      <a:pt x="5" y="5"/>
                      <a:pt x="4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5043"/>
              <p:cNvSpPr/>
              <p:nvPr/>
            </p:nvSpPr>
            <p:spPr>
              <a:xfrm>
                <a:off x="10699560" y="3035520"/>
                <a:ext cx="1368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4" y="1"/>
                    </a:cubicBezTo>
                    <a:cubicBezTo>
                      <a:pt x="3" y="0"/>
                      <a:pt x="0" y="0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5044"/>
              <p:cNvSpPr/>
              <p:nvPr/>
            </p:nvSpPr>
            <p:spPr>
              <a:xfrm>
                <a:off x="11032920" y="333216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cubicBezTo>
                      <a:pt x="2" y="1"/>
                      <a:pt x="3" y="3"/>
                      <a:pt x="4" y="3"/>
                    </a:cubicBezTo>
                    <a:cubicBezTo>
                      <a:pt x="3" y="0"/>
                      <a:pt x="2" y="2"/>
                      <a:pt x="1" y="0"/>
                    </a:cubicBezTo>
                    <a:cubicBezTo>
                      <a:pt x="0" y="1"/>
                      <a:pt x="0" y="1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5045"/>
              <p:cNvSpPr/>
              <p:nvPr/>
            </p:nvSpPr>
            <p:spPr>
              <a:xfrm>
                <a:off x="10586880" y="2941560"/>
                <a:ext cx="43920" cy="33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5" y="9"/>
                    </a:moveTo>
                    <a:cubicBezTo>
                      <a:pt x="7" y="9"/>
                      <a:pt x="6" y="8"/>
                      <a:pt x="6" y="7"/>
                    </a:cubicBezTo>
                    <a:cubicBezTo>
                      <a:pt x="7" y="8"/>
                      <a:pt x="8" y="9"/>
                      <a:pt x="9" y="9"/>
                    </a:cubicBezTo>
                    <a:cubicBezTo>
                      <a:pt x="7" y="8"/>
                      <a:pt x="9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5"/>
                      <a:pt x="5" y="5"/>
                    </a:cubicBezTo>
                    <a:cubicBezTo>
                      <a:pt x="6" y="5"/>
                      <a:pt x="8" y="5"/>
                      <a:pt x="10" y="7"/>
                    </a:cubicBezTo>
                    <a:cubicBezTo>
                      <a:pt x="10" y="6"/>
                      <a:pt x="10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6"/>
                      <a:pt x="9" y="2"/>
                      <a:pt x="11" y="4"/>
                    </a:cubicBezTo>
                    <a:cubicBezTo>
                      <a:pt x="12" y="4"/>
                      <a:pt x="10" y="2"/>
                      <a:pt x="9" y="3"/>
                    </a:cubicBezTo>
                    <a:cubicBezTo>
                      <a:pt x="9" y="2"/>
                      <a:pt x="9" y="2"/>
                      <a:pt x="10" y="2"/>
                    </a:cubicBezTo>
                    <a:cubicBezTo>
                      <a:pt x="10" y="0"/>
                      <a:pt x="6" y="2"/>
                      <a:pt x="7" y="4"/>
                    </a:cubicBezTo>
                    <a:cubicBezTo>
                      <a:pt x="6" y="4"/>
                      <a:pt x="4" y="2"/>
                      <a:pt x="5" y="2"/>
                    </a:cubicBezTo>
                    <a:cubicBezTo>
                      <a:pt x="3" y="2"/>
                      <a:pt x="1" y="3"/>
                      <a:pt x="0" y="4"/>
                    </a:cubicBezTo>
                    <a:cubicBezTo>
                      <a:pt x="1" y="4"/>
                      <a:pt x="2" y="5"/>
                      <a:pt x="3" y="5"/>
                    </a:cubicBezTo>
                    <a:cubicBezTo>
                      <a:pt x="5" y="7"/>
                      <a:pt x="4" y="8"/>
                      <a:pt x="5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5046"/>
              <p:cNvSpPr/>
              <p:nvPr/>
            </p:nvSpPr>
            <p:spPr>
              <a:xfrm>
                <a:off x="10545480" y="296064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cubicBezTo>
                      <a:pt x="0" y="1"/>
                      <a:pt x="3" y="1"/>
                      <a:pt x="2" y="2"/>
                    </a:cubicBezTo>
                    <a:cubicBezTo>
                      <a:pt x="3" y="3"/>
                      <a:pt x="2" y="0"/>
                      <a:pt x="5" y="1"/>
                    </a:cubicBezTo>
                    <a:cubicBezTo>
                      <a:pt x="4" y="0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5047"/>
              <p:cNvSpPr/>
              <p:nvPr/>
            </p:nvSpPr>
            <p:spPr>
              <a:xfrm>
                <a:off x="11029680" y="321156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0" y="0"/>
                      <a:pt x="3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5"/>
                      <a:pt x="4" y="4"/>
                    </a:cubicBezTo>
                    <a:cubicBezTo>
                      <a:pt x="4" y="4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5048"/>
              <p:cNvSpPr/>
              <p:nvPr/>
            </p:nvSpPr>
            <p:spPr>
              <a:xfrm>
                <a:off x="11090160" y="3197160"/>
                <a:ext cx="1692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5"/>
                    </a:moveTo>
                    <a:cubicBezTo>
                      <a:pt x="3" y="7"/>
                      <a:pt x="3" y="4"/>
                      <a:pt x="4" y="5"/>
                    </a:cubicBezTo>
                    <a:cubicBezTo>
                      <a:pt x="5" y="3"/>
                      <a:pt x="2" y="1"/>
                      <a:pt x="0" y="0"/>
                    </a:cubicBezTo>
                    <a:cubicBezTo>
                      <a:pt x="1" y="2"/>
                      <a:pt x="3" y="2"/>
                      <a:pt x="2" y="5"/>
                    </a:cubicBezTo>
                    <a:cubicBezTo>
                      <a:pt x="3" y="5"/>
                      <a:pt x="2" y="5"/>
                      <a:pt x="2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5049"/>
              <p:cNvSpPr/>
              <p:nvPr/>
            </p:nvSpPr>
            <p:spPr>
              <a:xfrm>
                <a:off x="11093040" y="31813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2" y="2"/>
                      <a:pt x="2" y="3"/>
                      <a:pt x="4" y="2"/>
                    </a:cubicBezTo>
                    <a:cubicBezTo>
                      <a:pt x="4" y="0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5050"/>
              <p:cNvSpPr/>
              <p:nvPr/>
            </p:nvSpPr>
            <p:spPr>
              <a:xfrm>
                <a:off x="11066040" y="329400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1"/>
                    </a:moveTo>
                    <a:cubicBezTo>
                      <a:pt x="5" y="0"/>
                      <a:pt x="6" y="2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2" y="2"/>
                    </a:cubicBezTo>
                    <a:cubicBezTo>
                      <a:pt x="3" y="3"/>
                      <a:pt x="0" y="3"/>
                      <a:pt x="2" y="4"/>
                    </a:cubicBezTo>
                    <a:cubicBezTo>
                      <a:pt x="2" y="3"/>
                      <a:pt x="3" y="2"/>
                      <a:pt x="3" y="2"/>
                    </a:cubicBezTo>
                    <a:cubicBezTo>
                      <a:pt x="3" y="3"/>
                      <a:pt x="2" y="4"/>
                      <a:pt x="1" y="4"/>
                    </a:cubicBezTo>
                    <a:cubicBezTo>
                      <a:pt x="1" y="4"/>
                      <a:pt x="2" y="4"/>
                      <a:pt x="2" y="5"/>
                    </a:cubicBezTo>
                    <a:cubicBezTo>
                      <a:pt x="2" y="5"/>
                      <a:pt x="3" y="5"/>
                      <a:pt x="3" y="5"/>
                    </a:cubicBezTo>
                    <a:cubicBezTo>
                      <a:pt x="2" y="2"/>
                      <a:pt x="5" y="5"/>
                      <a:pt x="3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5" y="3"/>
                      <a:pt x="5" y="3"/>
                      <a:pt x="4" y="2"/>
                    </a:cubicBezTo>
                    <a:cubicBezTo>
                      <a:pt x="5" y="2"/>
                      <a:pt x="6" y="2"/>
                      <a:pt x="7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5051"/>
              <p:cNvSpPr/>
              <p:nvPr/>
            </p:nvSpPr>
            <p:spPr>
              <a:xfrm>
                <a:off x="11082240" y="3255840"/>
                <a:ext cx="10440" cy="12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1" y="3"/>
                      <a:pt x="2" y="1"/>
                      <a:pt x="3" y="1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5052"/>
              <p:cNvSpPr/>
              <p:nvPr/>
            </p:nvSpPr>
            <p:spPr>
              <a:xfrm>
                <a:off x="11074320" y="324180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2"/>
                      <a:pt x="2" y="3"/>
                      <a:pt x="0" y="2"/>
                    </a:cubicBezTo>
                    <a:cubicBezTo>
                      <a:pt x="0" y="3"/>
                      <a:pt x="1" y="2"/>
                      <a:pt x="1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4" y="3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5053"/>
              <p:cNvSpPr/>
              <p:nvPr/>
            </p:nvSpPr>
            <p:spPr>
              <a:xfrm>
                <a:off x="10988280" y="3178080"/>
                <a:ext cx="60120" cy="414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9" y="11"/>
                    </a:moveTo>
                    <a:cubicBezTo>
                      <a:pt x="10" y="8"/>
                      <a:pt x="16" y="7"/>
                      <a:pt x="14" y="3"/>
                    </a:cubicBezTo>
                    <a:cubicBezTo>
                      <a:pt x="12" y="3"/>
                      <a:pt x="14" y="5"/>
                      <a:pt x="13" y="5"/>
                    </a:cubicBezTo>
                    <a:cubicBezTo>
                      <a:pt x="12" y="5"/>
                      <a:pt x="12" y="4"/>
                      <a:pt x="11" y="5"/>
                    </a:cubicBezTo>
                    <a:cubicBezTo>
                      <a:pt x="11" y="4"/>
                      <a:pt x="13" y="3"/>
                      <a:pt x="11" y="3"/>
                    </a:cubicBezTo>
                    <a:cubicBezTo>
                      <a:pt x="11" y="3"/>
                      <a:pt x="11" y="2"/>
                      <a:pt x="12" y="2"/>
                    </a:cubicBezTo>
                    <a:cubicBezTo>
                      <a:pt x="12" y="1"/>
                      <a:pt x="11" y="1"/>
                      <a:pt x="11" y="2"/>
                    </a:cubicBezTo>
                    <a:cubicBezTo>
                      <a:pt x="10" y="2"/>
                      <a:pt x="10" y="1"/>
                      <a:pt x="9" y="1"/>
                    </a:cubicBezTo>
                    <a:cubicBezTo>
                      <a:pt x="11" y="3"/>
                      <a:pt x="7" y="2"/>
                      <a:pt x="8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7" y="0"/>
                      <a:pt x="6" y="2"/>
                      <a:pt x="5" y="3"/>
                    </a:cubicBezTo>
                    <a:cubicBezTo>
                      <a:pt x="5" y="4"/>
                      <a:pt x="6" y="4"/>
                      <a:pt x="6" y="4"/>
                    </a:cubicBezTo>
                    <a:cubicBezTo>
                      <a:pt x="4" y="5"/>
                      <a:pt x="3" y="5"/>
                      <a:pt x="1" y="5"/>
                    </a:cubicBezTo>
                    <a:cubicBezTo>
                      <a:pt x="0" y="6"/>
                      <a:pt x="2" y="8"/>
                      <a:pt x="3" y="8"/>
                    </a:cubicBezTo>
                    <a:cubicBezTo>
                      <a:pt x="2" y="8"/>
                      <a:pt x="2" y="9"/>
                      <a:pt x="2" y="11"/>
                    </a:cubicBezTo>
                    <a:cubicBezTo>
                      <a:pt x="5" y="10"/>
                      <a:pt x="4" y="11"/>
                      <a:pt x="6" y="11"/>
                    </a:cubicBezTo>
                    <a:cubicBezTo>
                      <a:pt x="6" y="9"/>
                      <a:pt x="5" y="10"/>
                      <a:pt x="5" y="8"/>
                    </a:cubicBezTo>
                    <a:cubicBezTo>
                      <a:pt x="7" y="8"/>
                      <a:pt x="5" y="9"/>
                      <a:pt x="6" y="10"/>
                    </a:cubicBezTo>
                    <a:cubicBezTo>
                      <a:pt x="7" y="9"/>
                      <a:pt x="6" y="9"/>
                      <a:pt x="6" y="8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6"/>
                      <a:pt x="8" y="7"/>
                      <a:pt x="9" y="7"/>
                    </a:cubicBezTo>
                    <a:cubicBezTo>
                      <a:pt x="10" y="5"/>
                      <a:pt x="9" y="6"/>
                      <a:pt x="8" y="5"/>
                    </a:cubicBezTo>
                    <a:cubicBezTo>
                      <a:pt x="10" y="6"/>
                      <a:pt x="10" y="4"/>
                      <a:pt x="12" y="5"/>
                    </a:cubicBezTo>
                    <a:cubicBezTo>
                      <a:pt x="10" y="6"/>
                      <a:pt x="10" y="8"/>
                      <a:pt x="8" y="9"/>
                    </a:cubicBezTo>
                    <a:cubicBezTo>
                      <a:pt x="9" y="9"/>
                      <a:pt x="8" y="9"/>
                      <a:pt x="9" y="1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5054"/>
              <p:cNvSpPr/>
              <p:nvPr/>
            </p:nvSpPr>
            <p:spPr>
              <a:xfrm>
                <a:off x="11018520" y="3245040"/>
                <a:ext cx="25200" cy="108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5" y="0"/>
                    </a:moveTo>
                    <a:cubicBezTo>
                      <a:pt x="5" y="2"/>
                      <a:pt x="3" y="2"/>
                      <a:pt x="2" y="0"/>
                    </a:cubicBezTo>
                    <a:cubicBezTo>
                      <a:pt x="0" y="1"/>
                      <a:pt x="4" y="2"/>
                      <a:pt x="2" y="2"/>
                    </a:cubicBezTo>
                    <a:cubicBezTo>
                      <a:pt x="3" y="3"/>
                      <a:pt x="7" y="2"/>
                      <a:pt x="5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5055"/>
              <p:cNvSpPr/>
              <p:nvPr/>
            </p:nvSpPr>
            <p:spPr>
              <a:xfrm>
                <a:off x="11002680" y="325296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cubicBezTo>
                      <a:pt x="2" y="1"/>
                      <a:pt x="2" y="1"/>
                      <a:pt x="1" y="0"/>
                    </a:cubicBezTo>
                    <a:cubicBezTo>
                      <a:pt x="1" y="1"/>
                      <a:pt x="0" y="1"/>
                      <a:pt x="1" y="3"/>
                    </a:cubicBezTo>
                    <a:cubicBezTo>
                      <a:pt x="2" y="3"/>
                      <a:pt x="2" y="1"/>
                      <a:pt x="3" y="2"/>
                    </a:cubicBezTo>
                    <a:cubicBezTo>
                      <a:pt x="3" y="2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5056"/>
              <p:cNvSpPr/>
              <p:nvPr/>
            </p:nvSpPr>
            <p:spPr>
              <a:xfrm>
                <a:off x="11085120" y="3387600"/>
                <a:ext cx="1548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1"/>
                      <a:pt x="3" y="2"/>
                      <a:pt x="2" y="1"/>
                    </a:cubicBezTo>
                    <a:cubicBezTo>
                      <a:pt x="1" y="0"/>
                      <a:pt x="2" y="2"/>
                      <a:pt x="0" y="2"/>
                    </a:cubicBezTo>
                    <a:cubicBezTo>
                      <a:pt x="1" y="4"/>
                      <a:pt x="4" y="1"/>
                      <a:pt x="3" y="3"/>
                    </a:cubicBezTo>
                    <a:cubicBezTo>
                      <a:pt x="4" y="4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5057"/>
              <p:cNvSpPr/>
              <p:nvPr/>
            </p:nvSpPr>
            <p:spPr>
              <a:xfrm>
                <a:off x="11048760" y="337356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cubicBezTo>
                      <a:pt x="5" y="0"/>
                      <a:pt x="3" y="1"/>
                      <a:pt x="4" y="2"/>
                    </a:cubicBezTo>
                    <a:cubicBezTo>
                      <a:pt x="2" y="2"/>
                      <a:pt x="1" y="1"/>
                      <a:pt x="0" y="2"/>
                    </a:cubicBezTo>
                    <a:cubicBezTo>
                      <a:pt x="1" y="4"/>
                      <a:pt x="4" y="2"/>
                      <a:pt x="3" y="4"/>
                    </a:cubicBezTo>
                    <a:cubicBezTo>
                      <a:pt x="3" y="5"/>
                      <a:pt x="4" y="5"/>
                      <a:pt x="4" y="5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4" y="2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Freeform 5058"/>
              <p:cNvSpPr/>
              <p:nvPr/>
            </p:nvSpPr>
            <p:spPr>
              <a:xfrm>
                <a:off x="11093040" y="32720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cubicBezTo>
                      <a:pt x="4" y="1"/>
                      <a:pt x="4" y="2"/>
                      <a:pt x="4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2" y="6"/>
                      <a:pt x="4" y="6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6" y="3"/>
                      <a:pt x="5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Freeform 5059"/>
              <p:cNvSpPr/>
              <p:nvPr/>
            </p:nvSpPr>
            <p:spPr>
              <a:xfrm>
                <a:off x="11096280" y="33210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4" y="6"/>
                      <a:pt x="5" y="6"/>
                      <a:pt x="4" y="5"/>
                    </a:cubicBezTo>
                    <a:cubicBezTo>
                      <a:pt x="6" y="4"/>
                      <a:pt x="6" y="7"/>
                      <a:pt x="8" y="7"/>
                    </a:cubicBezTo>
                    <a:cubicBezTo>
                      <a:pt x="8" y="5"/>
                      <a:pt x="4" y="4"/>
                      <a:pt x="5" y="3"/>
                    </a:cubicBezTo>
                    <a:cubicBezTo>
                      <a:pt x="4" y="2"/>
                      <a:pt x="3" y="3"/>
                      <a:pt x="4" y="4"/>
                    </a:cubicBezTo>
                    <a:cubicBezTo>
                      <a:pt x="3" y="4"/>
                      <a:pt x="3" y="3"/>
                      <a:pt x="2" y="3"/>
                    </a:cubicBezTo>
                    <a:cubicBezTo>
                      <a:pt x="2" y="2"/>
                      <a:pt x="3" y="2"/>
                      <a:pt x="4" y="2"/>
                    </a:cubicBezTo>
                    <a:cubicBezTo>
                      <a:pt x="2" y="0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4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Freeform 5060"/>
              <p:cNvSpPr/>
              <p:nvPr/>
            </p:nvSpPr>
            <p:spPr>
              <a:xfrm>
                <a:off x="11052000" y="337680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0" y="1"/>
                      <a:pt x="0" y="2"/>
                      <a:pt x="1" y="4"/>
                    </a:cubicBezTo>
                    <a:cubicBezTo>
                      <a:pt x="1" y="3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5061"/>
              <p:cNvSpPr/>
              <p:nvPr/>
            </p:nvSpPr>
            <p:spPr>
              <a:xfrm>
                <a:off x="11063160" y="339264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0"/>
                    </a:moveTo>
                    <a:cubicBezTo>
                      <a:pt x="5" y="0"/>
                      <a:pt x="5" y="0"/>
                      <a:pt x="2" y="0"/>
                    </a:cubicBezTo>
                    <a:cubicBezTo>
                      <a:pt x="4" y="1"/>
                      <a:pt x="3" y="1"/>
                      <a:pt x="2" y="2"/>
                    </a:cubicBezTo>
                    <a:cubicBezTo>
                      <a:pt x="1" y="0"/>
                      <a:pt x="2" y="0"/>
                      <a:pt x="0" y="2"/>
                    </a:cubicBezTo>
                    <a:cubicBezTo>
                      <a:pt x="1" y="3"/>
                      <a:pt x="2" y="4"/>
                      <a:pt x="3" y="5"/>
                    </a:cubicBezTo>
                    <a:cubicBezTo>
                      <a:pt x="6" y="5"/>
                      <a:pt x="4" y="2"/>
                      <a:pt x="7" y="2"/>
                    </a:cubicBezTo>
                    <a:cubicBezTo>
                      <a:pt x="6" y="1"/>
                      <a:pt x="5" y="0"/>
                      <a:pt x="6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Freeform 5062"/>
              <p:cNvSpPr/>
              <p:nvPr/>
            </p:nvSpPr>
            <p:spPr>
              <a:xfrm>
                <a:off x="10729800" y="3068640"/>
                <a:ext cx="136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3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4" y="3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5063"/>
              <p:cNvSpPr/>
              <p:nvPr/>
            </p:nvSpPr>
            <p:spPr>
              <a:xfrm>
                <a:off x="11055240" y="3392640"/>
                <a:ext cx="56520" cy="47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0" y="9"/>
                    </a:moveTo>
                    <a:cubicBezTo>
                      <a:pt x="10" y="8"/>
                      <a:pt x="9" y="8"/>
                      <a:pt x="9" y="6"/>
                    </a:cubicBezTo>
                    <a:cubicBezTo>
                      <a:pt x="10" y="7"/>
                      <a:pt x="11" y="6"/>
                      <a:pt x="11" y="7"/>
                    </a:cubicBezTo>
                    <a:cubicBezTo>
                      <a:pt x="13" y="6"/>
                      <a:pt x="10" y="6"/>
                      <a:pt x="10" y="5"/>
                    </a:cubicBezTo>
                    <a:cubicBezTo>
                      <a:pt x="11" y="4"/>
                      <a:pt x="11" y="5"/>
                      <a:pt x="12" y="6"/>
                    </a:cubicBezTo>
                    <a:cubicBezTo>
                      <a:pt x="12" y="6"/>
                      <a:pt x="12" y="5"/>
                      <a:pt x="13" y="6"/>
                    </a:cubicBezTo>
                    <a:cubicBezTo>
                      <a:pt x="13" y="5"/>
                      <a:pt x="11" y="4"/>
                      <a:pt x="14" y="4"/>
                    </a:cubicBezTo>
                    <a:cubicBezTo>
                      <a:pt x="14" y="2"/>
                      <a:pt x="15" y="2"/>
                      <a:pt x="13" y="1"/>
                    </a:cubicBezTo>
                    <a:cubicBezTo>
                      <a:pt x="12" y="1"/>
                      <a:pt x="13" y="3"/>
                      <a:pt x="11" y="4"/>
                    </a:cubicBezTo>
                    <a:cubicBezTo>
                      <a:pt x="11" y="3"/>
                      <a:pt x="10" y="2"/>
                      <a:pt x="10" y="4"/>
                    </a:cubicBezTo>
                    <a:cubicBezTo>
                      <a:pt x="9" y="3"/>
                      <a:pt x="8" y="4"/>
                      <a:pt x="7" y="3"/>
                    </a:cubicBezTo>
                    <a:cubicBezTo>
                      <a:pt x="6" y="2"/>
                      <a:pt x="8" y="3"/>
                      <a:pt x="8" y="2"/>
                    </a:cubicBezTo>
                    <a:cubicBezTo>
                      <a:pt x="6" y="0"/>
                      <a:pt x="6" y="3"/>
                      <a:pt x="6" y="3"/>
                    </a:cubicBezTo>
                    <a:cubicBezTo>
                      <a:pt x="6" y="4"/>
                      <a:pt x="8" y="4"/>
                      <a:pt x="9" y="4"/>
                    </a:cubicBezTo>
                    <a:cubicBezTo>
                      <a:pt x="8" y="6"/>
                      <a:pt x="5" y="3"/>
                      <a:pt x="4" y="5"/>
                    </a:cubicBezTo>
                    <a:cubicBezTo>
                      <a:pt x="3" y="3"/>
                      <a:pt x="5" y="4"/>
                      <a:pt x="4" y="2"/>
                    </a:cubicBezTo>
                    <a:cubicBezTo>
                      <a:pt x="3" y="2"/>
                      <a:pt x="1" y="1"/>
                      <a:pt x="0" y="3"/>
                    </a:cubicBezTo>
                    <a:cubicBezTo>
                      <a:pt x="0" y="4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3" y="4"/>
                      <a:pt x="2" y="4"/>
                      <a:pt x="0" y="4"/>
                    </a:cubicBezTo>
                    <a:cubicBezTo>
                      <a:pt x="2" y="6"/>
                      <a:pt x="3" y="7"/>
                      <a:pt x="2" y="8"/>
                    </a:cubicBezTo>
                    <a:cubicBezTo>
                      <a:pt x="2" y="9"/>
                      <a:pt x="4" y="7"/>
                      <a:pt x="3" y="9"/>
                    </a:cubicBezTo>
                    <a:cubicBezTo>
                      <a:pt x="5" y="11"/>
                      <a:pt x="4" y="7"/>
                      <a:pt x="5" y="8"/>
                    </a:cubicBezTo>
                    <a:cubicBezTo>
                      <a:pt x="6" y="8"/>
                      <a:pt x="4" y="7"/>
                      <a:pt x="4" y="6"/>
                    </a:cubicBezTo>
                    <a:cubicBezTo>
                      <a:pt x="5" y="6"/>
                      <a:pt x="7" y="8"/>
                      <a:pt x="8" y="7"/>
                    </a:cubicBezTo>
                    <a:cubicBezTo>
                      <a:pt x="8" y="8"/>
                      <a:pt x="6" y="9"/>
                      <a:pt x="4" y="11"/>
                    </a:cubicBezTo>
                    <a:cubicBezTo>
                      <a:pt x="5" y="11"/>
                      <a:pt x="7" y="11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6" y="11"/>
                      <a:pt x="10" y="9"/>
                      <a:pt x="10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5064"/>
              <p:cNvSpPr/>
              <p:nvPr/>
            </p:nvSpPr>
            <p:spPr>
              <a:xfrm>
                <a:off x="11071080" y="338148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cubicBezTo>
                      <a:pt x="3" y="0"/>
                      <a:pt x="2" y="4"/>
                      <a:pt x="1" y="2"/>
                    </a:cubicBezTo>
                    <a:cubicBezTo>
                      <a:pt x="0" y="3"/>
                      <a:pt x="2" y="4"/>
                      <a:pt x="1" y="5"/>
                    </a:cubicBezTo>
                    <a:cubicBezTo>
                      <a:pt x="3" y="6"/>
                      <a:pt x="3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5" name="Group 5266"/>
            <p:cNvGrpSpPr/>
            <p:nvPr/>
          </p:nvGrpSpPr>
          <p:grpSpPr>
            <a:xfrm>
              <a:off x="10510920" y="2933640"/>
              <a:ext cx="650880" cy="631800"/>
              <a:chOff x="10510920" y="2933640"/>
              <a:chExt cx="650880" cy="631800"/>
            </a:xfrm>
          </p:grpSpPr>
          <p:sp>
            <p:nvSpPr>
              <p:cNvPr id="1226" name="Freeform 5066"/>
              <p:cNvSpPr/>
              <p:nvPr/>
            </p:nvSpPr>
            <p:spPr>
              <a:xfrm>
                <a:off x="11033280" y="3238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2" y="0"/>
                      <a:pt x="2" y="1"/>
                      <a:pt x="1" y="1"/>
                    </a:cubicBezTo>
                    <a:cubicBezTo>
                      <a:pt x="0" y="1"/>
                      <a:pt x="3" y="3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5067"/>
              <p:cNvSpPr/>
              <p:nvPr/>
            </p:nvSpPr>
            <p:spPr>
              <a:xfrm>
                <a:off x="11060280" y="3211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1"/>
                      <a:pt x="2" y="0"/>
                      <a:pt x="0" y="2"/>
                    </a:cubicBezTo>
                    <a:cubicBezTo>
                      <a:pt x="1" y="3"/>
                      <a:pt x="2" y="3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5068"/>
              <p:cNvSpPr/>
              <p:nvPr/>
            </p:nvSpPr>
            <p:spPr>
              <a:xfrm>
                <a:off x="10823760" y="31068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2" y="2"/>
                      <a:pt x="2" y="1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1" y="3"/>
                      <a:pt x="4" y="4"/>
                      <a:pt x="5" y="3"/>
                    </a:cubicBezTo>
                    <a:cubicBezTo>
                      <a:pt x="4" y="2"/>
                      <a:pt x="2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5069"/>
              <p:cNvSpPr/>
              <p:nvPr/>
            </p:nvSpPr>
            <p:spPr>
              <a:xfrm>
                <a:off x="10868040" y="314316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4" y="3"/>
                    </a:moveTo>
                    <a:cubicBezTo>
                      <a:pt x="7" y="4"/>
                      <a:pt x="2" y="1"/>
                      <a:pt x="1" y="0"/>
                    </a:cubicBezTo>
                    <a:cubicBezTo>
                      <a:pt x="0" y="2"/>
                      <a:pt x="3" y="2"/>
                      <a:pt x="4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5070"/>
              <p:cNvSpPr/>
              <p:nvPr/>
            </p:nvSpPr>
            <p:spPr>
              <a:xfrm>
                <a:off x="10890360" y="3140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0"/>
                      <a:pt x="0" y="0"/>
                      <a:pt x="0" y="1"/>
                    </a:cubicBezTo>
                    <a:cubicBezTo>
                      <a:pt x="1" y="3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5071"/>
              <p:cNvSpPr/>
              <p:nvPr/>
            </p:nvSpPr>
            <p:spPr>
              <a:xfrm>
                <a:off x="10991880" y="325584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cubicBezTo>
                      <a:pt x="0" y="2"/>
                      <a:pt x="2" y="1"/>
                      <a:pt x="4" y="1"/>
                    </a:cubicBezTo>
                    <a:cubicBezTo>
                      <a:pt x="3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5072"/>
              <p:cNvSpPr/>
              <p:nvPr/>
            </p:nvSpPr>
            <p:spPr>
              <a:xfrm>
                <a:off x="10950840" y="317808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6" y="3"/>
                    </a:moveTo>
                    <a:cubicBezTo>
                      <a:pt x="5" y="5"/>
                      <a:pt x="3" y="2"/>
                      <a:pt x="3" y="4"/>
                    </a:cubicBezTo>
                    <a:cubicBezTo>
                      <a:pt x="5" y="5"/>
                      <a:pt x="7" y="5"/>
                      <a:pt x="9" y="5"/>
                    </a:cubicBezTo>
                    <a:cubicBezTo>
                      <a:pt x="10" y="4"/>
                      <a:pt x="9" y="3"/>
                      <a:pt x="11" y="4"/>
                    </a:cubicBezTo>
                    <a:cubicBezTo>
                      <a:pt x="11" y="2"/>
                      <a:pt x="7" y="1"/>
                      <a:pt x="5" y="1"/>
                    </a:cubicBezTo>
                    <a:cubicBezTo>
                      <a:pt x="4" y="0"/>
                      <a:pt x="7" y="1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ubicBezTo>
                      <a:pt x="2" y="1"/>
                      <a:pt x="3" y="1"/>
                      <a:pt x="6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5073"/>
              <p:cNvSpPr/>
              <p:nvPr/>
            </p:nvSpPr>
            <p:spPr>
              <a:xfrm>
                <a:off x="11052360" y="32990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1"/>
                    </a:moveTo>
                    <a:cubicBezTo>
                      <a:pt x="2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1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5" y="2"/>
                      <a:pt x="2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5074"/>
              <p:cNvSpPr/>
              <p:nvPr/>
            </p:nvSpPr>
            <p:spPr>
              <a:xfrm>
                <a:off x="10917360" y="3121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cubicBezTo>
                      <a:pt x="2" y="4"/>
                      <a:pt x="1" y="1"/>
                      <a:pt x="2" y="3"/>
                    </a:cubicBezTo>
                    <a:cubicBezTo>
                      <a:pt x="2" y="2"/>
                      <a:pt x="2" y="1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5075"/>
              <p:cNvSpPr/>
              <p:nvPr/>
            </p:nvSpPr>
            <p:spPr>
              <a:xfrm>
                <a:off x="10983960" y="32036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cubicBezTo>
                      <a:pt x="1" y="2"/>
                      <a:pt x="3" y="1"/>
                      <a:pt x="4" y="2"/>
                    </a:cubicBezTo>
                    <a:cubicBezTo>
                      <a:pt x="5" y="0"/>
                      <a:pt x="2" y="2"/>
                      <a:pt x="1" y="0"/>
                    </a:cubicBezTo>
                    <a:cubicBezTo>
                      <a:pt x="0" y="0"/>
                      <a:pt x="1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5076"/>
              <p:cNvSpPr/>
              <p:nvPr/>
            </p:nvSpPr>
            <p:spPr>
              <a:xfrm>
                <a:off x="10947600" y="315108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cubicBezTo>
                      <a:pt x="1" y="2"/>
                      <a:pt x="2" y="1"/>
                      <a:pt x="4" y="1"/>
                    </a:cubicBezTo>
                    <a:cubicBezTo>
                      <a:pt x="4" y="0"/>
                      <a:pt x="2" y="1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5077"/>
              <p:cNvSpPr/>
              <p:nvPr/>
            </p:nvSpPr>
            <p:spPr>
              <a:xfrm>
                <a:off x="10939680" y="314028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2"/>
                    </a:moveTo>
                    <a:cubicBezTo>
                      <a:pt x="3" y="0"/>
                      <a:pt x="3" y="1"/>
                      <a:pt x="0" y="0"/>
                    </a:cubicBezTo>
                    <a:cubicBezTo>
                      <a:pt x="2" y="1"/>
                      <a:pt x="3" y="3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5078"/>
              <p:cNvSpPr/>
              <p:nvPr/>
            </p:nvSpPr>
            <p:spPr>
              <a:xfrm>
                <a:off x="11049120" y="32749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0"/>
                      <a:pt x="2" y="1"/>
                      <a:pt x="1" y="0"/>
                    </a:cubicBezTo>
                    <a:cubicBezTo>
                      <a:pt x="0" y="0"/>
                      <a:pt x="1" y="0"/>
                      <a:pt x="2" y="2"/>
                    </a:cubicBezTo>
                    <a:cubicBezTo>
                      <a:pt x="3" y="1"/>
                      <a:pt x="3" y="2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5079"/>
              <p:cNvSpPr/>
              <p:nvPr/>
            </p:nvSpPr>
            <p:spPr>
              <a:xfrm>
                <a:off x="10972800" y="315612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1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5080"/>
              <p:cNvSpPr/>
              <p:nvPr/>
            </p:nvSpPr>
            <p:spPr>
              <a:xfrm>
                <a:off x="10999800" y="320040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2" y="1"/>
                      <a:pt x="4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9" y="0"/>
                      <a:pt x="5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5081"/>
              <p:cNvSpPr/>
              <p:nvPr/>
            </p:nvSpPr>
            <p:spPr>
              <a:xfrm>
                <a:off x="10676160" y="3008520"/>
                <a:ext cx="34920" cy="187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3" y="0"/>
                    </a:moveTo>
                    <a:cubicBezTo>
                      <a:pt x="3" y="1"/>
                      <a:pt x="2" y="1"/>
                      <a:pt x="1" y="2"/>
                    </a:cubicBezTo>
                    <a:cubicBezTo>
                      <a:pt x="0" y="5"/>
                      <a:pt x="9" y="3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5082"/>
              <p:cNvSpPr/>
              <p:nvPr/>
            </p:nvSpPr>
            <p:spPr>
              <a:xfrm>
                <a:off x="11044440" y="32306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2"/>
                      <a:pt x="0" y="2"/>
                      <a:pt x="2" y="4"/>
                    </a:cubicBezTo>
                    <a:cubicBezTo>
                      <a:pt x="3" y="4"/>
                      <a:pt x="3" y="3"/>
                      <a:pt x="2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5"/>
                      <a:pt x="2" y="5"/>
                      <a:pt x="2" y="6"/>
                    </a:cubicBezTo>
                    <a:cubicBezTo>
                      <a:pt x="5" y="10"/>
                      <a:pt x="10" y="3"/>
                      <a:pt x="8" y="0"/>
                    </a:cubicBezTo>
                    <a:cubicBezTo>
                      <a:pt x="7" y="1"/>
                      <a:pt x="6" y="2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5083"/>
              <p:cNvSpPr/>
              <p:nvPr/>
            </p:nvSpPr>
            <p:spPr>
              <a:xfrm>
                <a:off x="10972800" y="31924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cubicBezTo>
                      <a:pt x="5" y="2"/>
                      <a:pt x="5" y="1"/>
                      <a:pt x="3" y="0"/>
                    </a:cubicBezTo>
                    <a:cubicBezTo>
                      <a:pt x="0" y="1"/>
                      <a:pt x="2" y="2"/>
                      <a:pt x="0" y="3"/>
                    </a:cubicBezTo>
                    <a:cubicBezTo>
                      <a:pt x="1" y="4"/>
                      <a:pt x="2" y="3"/>
                      <a:pt x="3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5084"/>
              <p:cNvSpPr/>
              <p:nvPr/>
            </p:nvSpPr>
            <p:spPr>
              <a:xfrm>
                <a:off x="10977840" y="31482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cubicBezTo>
                      <a:pt x="7" y="3"/>
                      <a:pt x="6" y="2"/>
                      <a:pt x="6" y="2"/>
                    </a:cubicBezTo>
                    <a:cubicBezTo>
                      <a:pt x="5" y="1"/>
                      <a:pt x="4" y="0"/>
                      <a:pt x="3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3" y="3"/>
                      <a:pt x="6" y="5"/>
                      <a:pt x="7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5085"/>
              <p:cNvSpPr/>
              <p:nvPr/>
            </p:nvSpPr>
            <p:spPr>
              <a:xfrm>
                <a:off x="10730160" y="300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5086"/>
              <p:cNvSpPr/>
              <p:nvPr/>
            </p:nvSpPr>
            <p:spPr>
              <a:xfrm>
                <a:off x="10713960" y="3005280"/>
                <a:ext cx="82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5087"/>
              <p:cNvSpPr/>
              <p:nvPr/>
            </p:nvSpPr>
            <p:spPr>
              <a:xfrm>
                <a:off x="10827000" y="3057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5088"/>
              <p:cNvSpPr/>
              <p:nvPr/>
            </p:nvSpPr>
            <p:spPr>
              <a:xfrm>
                <a:off x="11131560" y="34671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4" y="2"/>
                      <a:pt x="0" y="3"/>
                      <a:pt x="2" y="4"/>
                    </a:cubicBezTo>
                    <a:cubicBezTo>
                      <a:pt x="3" y="3"/>
                      <a:pt x="4" y="1"/>
                      <a:pt x="4" y="0"/>
                    </a:cubicBezTo>
                    <a:cubicBezTo>
                      <a:pt x="2" y="0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5089"/>
              <p:cNvSpPr/>
              <p:nvPr/>
            </p:nvSpPr>
            <p:spPr>
              <a:xfrm>
                <a:off x="11107800" y="3406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2"/>
                      <a:pt x="2" y="2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2" y="2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5090"/>
              <p:cNvSpPr/>
              <p:nvPr/>
            </p:nvSpPr>
            <p:spPr>
              <a:xfrm>
                <a:off x="11104560" y="338148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5"/>
                    </a:moveTo>
                    <a:cubicBezTo>
                      <a:pt x="5" y="6"/>
                      <a:pt x="7" y="5"/>
                      <a:pt x="6" y="7"/>
                    </a:cubicBezTo>
                    <a:cubicBezTo>
                      <a:pt x="7" y="7"/>
                      <a:pt x="8" y="6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6" y="3"/>
                      <a:pt x="6" y="3"/>
                    </a:cubicBezTo>
                    <a:cubicBezTo>
                      <a:pt x="7" y="3"/>
                      <a:pt x="7" y="1"/>
                      <a:pt x="7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5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5" y="5"/>
                    </a:cubicBezTo>
                    <a:cubicBezTo>
                      <a:pt x="4" y="4"/>
                      <a:pt x="3" y="3"/>
                      <a:pt x="2" y="3"/>
                    </a:cubicBezTo>
                    <a:cubicBezTo>
                      <a:pt x="3" y="4"/>
                      <a:pt x="0" y="4"/>
                      <a:pt x="1" y="5"/>
                    </a:cubicBezTo>
                    <a:cubicBezTo>
                      <a:pt x="3" y="5"/>
                      <a:pt x="3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5091"/>
              <p:cNvSpPr/>
              <p:nvPr/>
            </p:nvSpPr>
            <p:spPr>
              <a:xfrm>
                <a:off x="11134800" y="34369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2" y="2"/>
                      <a:pt x="0" y="2"/>
                      <a:pt x="1" y="3"/>
                    </a:cubicBezTo>
                    <a:cubicBezTo>
                      <a:pt x="2" y="3"/>
                      <a:pt x="2" y="4"/>
                      <a:pt x="3" y="3"/>
                    </a:cubicBezTo>
                    <a:cubicBezTo>
                      <a:pt x="2" y="2"/>
                      <a:pt x="3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5092"/>
              <p:cNvSpPr/>
              <p:nvPr/>
            </p:nvSpPr>
            <p:spPr>
              <a:xfrm>
                <a:off x="11112480" y="34448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2" y="2"/>
                      <a:pt x="4" y="3"/>
                      <a:pt x="1" y="3"/>
                    </a:cubicBezTo>
                    <a:cubicBezTo>
                      <a:pt x="1" y="4"/>
                      <a:pt x="0" y="6"/>
                      <a:pt x="0" y="7"/>
                    </a:cubicBezTo>
                    <a:cubicBezTo>
                      <a:pt x="2" y="6"/>
                      <a:pt x="5" y="2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5093"/>
              <p:cNvSpPr/>
              <p:nvPr/>
            </p:nvSpPr>
            <p:spPr>
              <a:xfrm>
                <a:off x="11123640" y="33735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cubicBezTo>
                      <a:pt x="2" y="4"/>
                      <a:pt x="4" y="4"/>
                      <a:pt x="3" y="3"/>
                    </a:cubicBezTo>
                    <a:cubicBezTo>
                      <a:pt x="0" y="3"/>
                      <a:pt x="4" y="0"/>
                      <a:pt x="1" y="0"/>
                    </a:cubicBezTo>
                    <a:cubicBezTo>
                      <a:pt x="1" y="2"/>
                      <a:pt x="1" y="4"/>
                      <a:pt x="2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5094"/>
              <p:cNvSpPr/>
              <p:nvPr/>
            </p:nvSpPr>
            <p:spPr>
              <a:xfrm>
                <a:off x="10883880" y="31147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4" y="1"/>
                    </a:move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0" y="0"/>
                      <a:pt x="1" y="1"/>
                    </a:cubicBezTo>
                    <a:cubicBezTo>
                      <a:pt x="3" y="0"/>
                      <a:pt x="3" y="2"/>
                      <a:pt x="4" y="3"/>
                    </a:cubicBezTo>
                    <a:cubicBezTo>
                      <a:pt x="4" y="0"/>
                      <a:pt x="6" y="3"/>
                      <a:pt x="6" y="1"/>
                    </a:cubicBezTo>
                    <a:cubicBezTo>
                      <a:pt x="5" y="1"/>
                      <a:pt x="5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5095"/>
              <p:cNvSpPr/>
              <p:nvPr/>
            </p:nvSpPr>
            <p:spPr>
              <a:xfrm>
                <a:off x="10829880" y="31021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2"/>
                    </a:move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0" y="4"/>
                      <a:pt x="3" y="6"/>
                      <a:pt x="1" y="5"/>
                    </a:cubicBezTo>
                    <a:cubicBezTo>
                      <a:pt x="2" y="6"/>
                      <a:pt x="3" y="7"/>
                      <a:pt x="4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4" y="5"/>
                      <a:pt x="4" y="4"/>
                      <a:pt x="5" y="4"/>
                    </a:cubicBezTo>
                    <a:cubicBezTo>
                      <a:pt x="5" y="4"/>
                      <a:pt x="6" y="4"/>
                      <a:pt x="8" y="4"/>
                    </a:cubicBezTo>
                    <a:cubicBezTo>
                      <a:pt x="7" y="4"/>
                      <a:pt x="7" y="2"/>
                      <a:pt x="6" y="1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3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5096"/>
              <p:cNvSpPr/>
              <p:nvPr/>
            </p:nvSpPr>
            <p:spPr>
              <a:xfrm>
                <a:off x="10875960" y="31258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0"/>
                    </a:moveTo>
                    <a:cubicBezTo>
                      <a:pt x="3" y="1"/>
                      <a:pt x="0" y="3"/>
                      <a:pt x="0" y="4"/>
                    </a:cubicBezTo>
                    <a:cubicBezTo>
                      <a:pt x="1" y="3"/>
                      <a:pt x="5" y="2"/>
                      <a:pt x="4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5097"/>
              <p:cNvSpPr/>
              <p:nvPr/>
            </p:nvSpPr>
            <p:spPr>
              <a:xfrm>
                <a:off x="10875960" y="313236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cubicBezTo>
                      <a:pt x="2" y="2"/>
                      <a:pt x="1" y="3"/>
                      <a:pt x="0" y="5"/>
                    </a:cubicBezTo>
                    <a:cubicBezTo>
                      <a:pt x="2" y="4"/>
                      <a:pt x="5" y="3"/>
                      <a:pt x="4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5098"/>
              <p:cNvSpPr/>
              <p:nvPr/>
            </p:nvSpPr>
            <p:spPr>
              <a:xfrm>
                <a:off x="10800000" y="31068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2" y="0"/>
                    </a:moveTo>
                    <a:cubicBezTo>
                      <a:pt x="0" y="3"/>
                      <a:pt x="4" y="1"/>
                      <a:pt x="3" y="4"/>
                    </a:cubicBezTo>
                    <a:cubicBezTo>
                      <a:pt x="5" y="4"/>
                      <a:pt x="6" y="3"/>
                      <a:pt x="7" y="2"/>
                    </a:cubicBezTo>
                    <a:cubicBezTo>
                      <a:pt x="5" y="2"/>
                      <a:pt x="5" y="1"/>
                      <a:pt x="4" y="0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5099"/>
              <p:cNvSpPr/>
              <p:nvPr/>
            </p:nvSpPr>
            <p:spPr>
              <a:xfrm>
                <a:off x="10793520" y="30765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1"/>
                    </a:moveTo>
                    <a:cubicBezTo>
                      <a:pt x="4" y="1"/>
                      <a:pt x="4" y="1"/>
                      <a:pt x="3" y="0"/>
                    </a:cubicBezTo>
                    <a:cubicBezTo>
                      <a:pt x="2" y="0"/>
                      <a:pt x="3" y="2"/>
                      <a:pt x="1" y="1"/>
                    </a:cubicBezTo>
                    <a:cubicBezTo>
                      <a:pt x="0" y="3"/>
                      <a:pt x="4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5100"/>
              <p:cNvSpPr/>
              <p:nvPr/>
            </p:nvSpPr>
            <p:spPr>
              <a:xfrm>
                <a:off x="10755360" y="306072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0"/>
                    </a:cubicBezTo>
                    <a:cubicBezTo>
                      <a:pt x="2" y="0"/>
                      <a:pt x="2" y="2"/>
                      <a:pt x="0" y="1"/>
                    </a:cubicBezTo>
                    <a:cubicBezTo>
                      <a:pt x="1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5101"/>
              <p:cNvSpPr/>
              <p:nvPr/>
            </p:nvSpPr>
            <p:spPr>
              <a:xfrm>
                <a:off x="10766520" y="30798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5102"/>
              <p:cNvSpPr/>
              <p:nvPr/>
            </p:nvSpPr>
            <p:spPr>
              <a:xfrm>
                <a:off x="10812600" y="30798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1"/>
                    </a:moveTo>
                    <a:cubicBezTo>
                      <a:pt x="0" y="0"/>
                      <a:pt x="1" y="2"/>
                      <a:pt x="0" y="2"/>
                    </a:cubicBezTo>
                    <a:cubicBezTo>
                      <a:pt x="1" y="3"/>
                      <a:pt x="2" y="2"/>
                      <a:pt x="3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3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5103"/>
              <p:cNvSpPr/>
              <p:nvPr/>
            </p:nvSpPr>
            <p:spPr>
              <a:xfrm>
                <a:off x="10793520" y="30798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3"/>
                      <a:pt x="2" y="2"/>
                      <a:pt x="4" y="1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6" y="3"/>
                      <a:pt x="4" y="1"/>
                      <a:pt x="5" y="0"/>
                    </a:cubicBezTo>
                    <a:cubicBezTo>
                      <a:pt x="4" y="1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5104"/>
              <p:cNvSpPr/>
              <p:nvPr/>
            </p:nvSpPr>
            <p:spPr>
              <a:xfrm>
                <a:off x="10755360" y="3049560"/>
                <a:ext cx="41400" cy="381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3" y="2"/>
                      <a:pt x="1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3"/>
                      <a:pt x="3" y="4"/>
                      <a:pt x="2" y="5"/>
                    </a:cubicBezTo>
                    <a:cubicBezTo>
                      <a:pt x="2" y="5"/>
                      <a:pt x="2" y="4"/>
                      <a:pt x="1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0" y="6"/>
                      <a:pt x="1" y="6"/>
                    </a:cubicBezTo>
                    <a:cubicBezTo>
                      <a:pt x="3" y="5"/>
                      <a:pt x="3" y="8"/>
                      <a:pt x="2" y="8"/>
                    </a:cubicBezTo>
                    <a:cubicBezTo>
                      <a:pt x="2" y="8"/>
                      <a:pt x="3" y="8"/>
                      <a:pt x="5" y="10"/>
                    </a:cubicBezTo>
                    <a:cubicBezTo>
                      <a:pt x="4" y="8"/>
                      <a:pt x="3" y="7"/>
                      <a:pt x="4" y="6"/>
                    </a:cubicBezTo>
                    <a:cubicBezTo>
                      <a:pt x="5" y="6"/>
                      <a:pt x="5" y="6"/>
                      <a:pt x="5" y="5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4"/>
                      <a:pt x="5" y="4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6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4"/>
                    </a:cubicBezTo>
                    <a:cubicBezTo>
                      <a:pt x="8" y="4"/>
                      <a:pt x="8" y="4"/>
                      <a:pt x="9" y="4"/>
                    </a:cubicBezTo>
                    <a:cubicBezTo>
                      <a:pt x="9" y="4"/>
                      <a:pt x="9" y="4"/>
                      <a:pt x="9" y="5"/>
                    </a:cubicBezTo>
                    <a:cubicBezTo>
                      <a:pt x="11" y="5"/>
                      <a:pt x="9" y="3"/>
                      <a:pt x="8" y="3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5" y="2"/>
                      <a:pt x="4" y="0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5105"/>
              <p:cNvSpPr/>
              <p:nvPr/>
            </p:nvSpPr>
            <p:spPr>
              <a:xfrm>
                <a:off x="11107800" y="34257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3"/>
                      <a:pt x="1" y="2"/>
                      <a:pt x="3" y="1"/>
                    </a:cubicBezTo>
                    <a:cubicBezTo>
                      <a:pt x="2" y="1"/>
                      <a:pt x="1" y="1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5106"/>
              <p:cNvSpPr/>
              <p:nvPr/>
            </p:nvSpPr>
            <p:spPr>
              <a:xfrm>
                <a:off x="10823760" y="30956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0" y="1"/>
                      <a:pt x="1" y="2"/>
                      <a:pt x="0" y="2"/>
                    </a:cubicBezTo>
                    <a:cubicBezTo>
                      <a:pt x="0" y="2"/>
                      <a:pt x="1" y="3"/>
                      <a:pt x="0" y="3"/>
                    </a:cubicBezTo>
                    <a:cubicBezTo>
                      <a:pt x="2" y="4"/>
                      <a:pt x="2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5107"/>
              <p:cNvSpPr/>
              <p:nvPr/>
            </p:nvSpPr>
            <p:spPr>
              <a:xfrm>
                <a:off x="10782360" y="306072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" y="4"/>
                    </a:moveTo>
                    <a:cubicBezTo>
                      <a:pt x="2" y="4"/>
                      <a:pt x="2" y="4"/>
                      <a:pt x="3" y="5"/>
                    </a:cubicBezTo>
                    <a:cubicBezTo>
                      <a:pt x="4" y="4"/>
                      <a:pt x="3" y="4"/>
                      <a:pt x="2" y="3"/>
                    </a:cubicBezTo>
                    <a:cubicBezTo>
                      <a:pt x="3" y="2"/>
                      <a:pt x="5" y="1"/>
                      <a:pt x="6" y="3"/>
                    </a:cubicBezTo>
                    <a:cubicBezTo>
                      <a:pt x="6" y="4"/>
                      <a:pt x="5" y="4"/>
                      <a:pt x="5" y="4"/>
                    </a:cubicBezTo>
                    <a:cubicBezTo>
                      <a:pt x="4" y="4"/>
                      <a:pt x="7" y="4"/>
                      <a:pt x="7" y="4"/>
                    </a:cubicBezTo>
                    <a:cubicBezTo>
                      <a:pt x="6" y="3"/>
                      <a:pt x="7" y="0"/>
                      <a:pt x="5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8" y="2"/>
                      <a:pt x="7" y="1"/>
                      <a:pt x="11" y="3"/>
                    </a:cubicBezTo>
                    <a:cubicBezTo>
                      <a:pt x="12" y="2"/>
                      <a:pt x="13" y="1"/>
                      <a:pt x="11" y="0"/>
                    </a:cubicBezTo>
                    <a:cubicBezTo>
                      <a:pt x="8" y="0"/>
                      <a:pt x="4" y="0"/>
                      <a:pt x="1" y="0"/>
                    </a:cubicBezTo>
                    <a:cubicBezTo>
                      <a:pt x="0" y="1"/>
                      <a:pt x="3" y="2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5108"/>
              <p:cNvSpPr/>
              <p:nvPr/>
            </p:nvSpPr>
            <p:spPr>
              <a:xfrm>
                <a:off x="10782360" y="3079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cubicBezTo>
                      <a:pt x="0" y="1"/>
                      <a:pt x="2" y="1"/>
                      <a:pt x="3" y="2"/>
                    </a:cubicBezTo>
                    <a:cubicBezTo>
                      <a:pt x="3" y="2"/>
                      <a:pt x="3" y="1"/>
                      <a:pt x="4" y="1"/>
                    </a:cubicBezTo>
                    <a:cubicBezTo>
                      <a:pt x="3" y="0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5109"/>
              <p:cNvSpPr/>
              <p:nvPr/>
            </p:nvSpPr>
            <p:spPr>
              <a:xfrm>
                <a:off x="11134800" y="344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3" y="3"/>
                      <a:pt x="1" y="1"/>
                      <a:pt x="2" y="0"/>
                    </a:cubicBezTo>
                    <a:cubicBezTo>
                      <a:pt x="0" y="0"/>
                      <a:pt x="2" y="2"/>
                      <a:pt x="0" y="3"/>
                    </a:cubicBezTo>
                    <a:cubicBezTo>
                      <a:pt x="1" y="3"/>
                      <a:pt x="2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5110"/>
              <p:cNvSpPr/>
              <p:nvPr/>
            </p:nvSpPr>
            <p:spPr>
              <a:xfrm>
                <a:off x="10771200" y="3043440"/>
                <a:ext cx="41400" cy="140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1"/>
                    </a:moveTo>
                    <a:cubicBezTo>
                      <a:pt x="2" y="1"/>
                      <a:pt x="1" y="0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2" y="3"/>
                      <a:pt x="6" y="4"/>
                      <a:pt x="5" y="2"/>
                    </a:cubicBezTo>
                    <a:cubicBezTo>
                      <a:pt x="6" y="2"/>
                      <a:pt x="7" y="2"/>
                      <a:pt x="7" y="1"/>
                    </a:cubicBezTo>
                    <a:cubicBezTo>
                      <a:pt x="8" y="3"/>
                      <a:pt x="9" y="3"/>
                      <a:pt x="11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7" y="0"/>
                      <a:pt x="4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5111"/>
              <p:cNvSpPr/>
              <p:nvPr/>
            </p:nvSpPr>
            <p:spPr>
              <a:xfrm>
                <a:off x="10557000" y="29336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cubicBezTo>
                      <a:pt x="2" y="3"/>
                      <a:pt x="3" y="3"/>
                      <a:pt x="4" y="2"/>
                    </a:cubicBezTo>
                    <a:cubicBezTo>
                      <a:pt x="2" y="0"/>
                      <a:pt x="1" y="1"/>
                      <a:pt x="0" y="0"/>
                    </a:cubicBezTo>
                    <a:cubicBezTo>
                      <a:pt x="0" y="2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5112"/>
              <p:cNvSpPr/>
              <p:nvPr/>
            </p:nvSpPr>
            <p:spPr>
              <a:xfrm>
                <a:off x="11101320" y="3459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3"/>
                    </a:moveTo>
                    <a:cubicBezTo>
                      <a:pt x="8" y="3"/>
                      <a:pt x="8" y="2"/>
                      <a:pt x="8" y="1"/>
                    </a:cubicBezTo>
                    <a:cubicBezTo>
                      <a:pt x="6" y="1"/>
                      <a:pt x="4" y="0"/>
                      <a:pt x="2" y="0"/>
                    </a:cubicBezTo>
                    <a:cubicBezTo>
                      <a:pt x="0" y="3"/>
                      <a:pt x="5" y="1"/>
                      <a:pt x="2" y="4"/>
                    </a:cubicBezTo>
                    <a:cubicBezTo>
                      <a:pt x="5" y="6"/>
                      <a:pt x="5" y="1"/>
                      <a:pt x="8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Freeform 5113"/>
              <p:cNvSpPr/>
              <p:nvPr/>
            </p:nvSpPr>
            <p:spPr>
              <a:xfrm>
                <a:off x="10854000" y="31402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1"/>
                    </a:moveTo>
                    <a:cubicBezTo>
                      <a:pt x="4" y="0"/>
                      <a:pt x="2" y="0"/>
                      <a:pt x="0" y="3"/>
                    </a:cubicBezTo>
                    <a:cubicBezTo>
                      <a:pt x="2" y="5"/>
                      <a:pt x="4" y="3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Freeform 5114"/>
              <p:cNvSpPr/>
              <p:nvPr/>
            </p:nvSpPr>
            <p:spPr>
              <a:xfrm>
                <a:off x="11101320" y="34290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1" y="0"/>
                    </a:moveTo>
                    <a:cubicBezTo>
                      <a:pt x="0" y="4"/>
                      <a:pt x="1" y="6"/>
                      <a:pt x="4" y="7"/>
                    </a:cubicBezTo>
                    <a:cubicBezTo>
                      <a:pt x="4" y="4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Freeform 5115"/>
              <p:cNvSpPr/>
              <p:nvPr/>
            </p:nvSpPr>
            <p:spPr>
              <a:xfrm>
                <a:off x="10848960" y="312588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1"/>
                    </a:moveTo>
                    <a:cubicBezTo>
                      <a:pt x="0" y="2"/>
                      <a:pt x="1" y="3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5"/>
                      <a:pt x="4" y="5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7" y="5"/>
                      <a:pt x="8" y="5"/>
                    </a:cubicBezTo>
                    <a:cubicBezTo>
                      <a:pt x="8" y="3"/>
                      <a:pt x="7" y="1"/>
                      <a:pt x="5" y="1"/>
                    </a:cubicBezTo>
                    <a:cubicBezTo>
                      <a:pt x="4" y="1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5116"/>
              <p:cNvSpPr/>
              <p:nvPr/>
            </p:nvSpPr>
            <p:spPr>
              <a:xfrm>
                <a:off x="11101320" y="3305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2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Freeform 5117"/>
              <p:cNvSpPr/>
              <p:nvPr/>
            </p:nvSpPr>
            <p:spPr>
              <a:xfrm>
                <a:off x="10771200" y="303048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1" y="3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5118"/>
              <p:cNvSpPr/>
              <p:nvPr/>
            </p:nvSpPr>
            <p:spPr>
              <a:xfrm>
                <a:off x="11131560" y="34941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cubicBezTo>
                      <a:pt x="0" y="2"/>
                      <a:pt x="1" y="1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5119"/>
              <p:cNvSpPr/>
              <p:nvPr/>
            </p:nvSpPr>
            <p:spPr>
              <a:xfrm>
                <a:off x="10579320" y="29415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0" y="1"/>
                      <a:pt x="0" y="4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1"/>
                      <a:pt x="4" y="4"/>
                      <a:pt x="5" y="2"/>
                    </a:cubicBezTo>
                    <a:cubicBezTo>
                      <a:pt x="3" y="2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5120"/>
              <p:cNvSpPr/>
              <p:nvPr/>
            </p:nvSpPr>
            <p:spPr>
              <a:xfrm>
                <a:off x="10785600" y="30654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3"/>
                    </a:moveTo>
                    <a:cubicBezTo>
                      <a:pt x="3" y="2"/>
                      <a:pt x="3" y="1"/>
                      <a:pt x="3" y="1"/>
                    </a:cubicBezTo>
                    <a:cubicBezTo>
                      <a:pt x="3" y="3"/>
                      <a:pt x="7" y="3"/>
                      <a:pt x="7" y="1"/>
                    </a:cubicBezTo>
                    <a:cubicBezTo>
                      <a:pt x="6" y="1"/>
                      <a:pt x="4" y="1"/>
                      <a:pt x="4" y="0"/>
                    </a:cubicBezTo>
                    <a:cubicBezTo>
                      <a:pt x="4" y="2"/>
                      <a:pt x="0" y="1"/>
                      <a:pt x="0" y="2"/>
                    </a:cubicBezTo>
                    <a:cubicBezTo>
                      <a:pt x="1" y="2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5121"/>
              <p:cNvSpPr/>
              <p:nvPr/>
            </p:nvSpPr>
            <p:spPr>
              <a:xfrm>
                <a:off x="11115720" y="3497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0"/>
                      <a:pt x="0" y="1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5122"/>
              <p:cNvSpPr/>
              <p:nvPr/>
            </p:nvSpPr>
            <p:spPr>
              <a:xfrm>
                <a:off x="10740960" y="29638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5123"/>
              <p:cNvSpPr/>
              <p:nvPr/>
            </p:nvSpPr>
            <p:spPr>
              <a:xfrm>
                <a:off x="11120400" y="3452760"/>
                <a:ext cx="33480" cy="716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12"/>
                    </a:moveTo>
                    <a:cubicBezTo>
                      <a:pt x="8" y="11"/>
                      <a:pt x="6" y="8"/>
                      <a:pt x="6" y="7"/>
                    </a:cubicBezTo>
                    <a:cubicBezTo>
                      <a:pt x="5" y="6"/>
                      <a:pt x="7" y="4"/>
                      <a:pt x="7" y="3"/>
                    </a:cubicBezTo>
                    <a:cubicBezTo>
                      <a:pt x="6" y="2"/>
                      <a:pt x="6" y="2"/>
                      <a:pt x="5" y="0"/>
                    </a:cubicBezTo>
                    <a:cubicBezTo>
                      <a:pt x="5" y="2"/>
                      <a:pt x="4" y="4"/>
                      <a:pt x="4" y="5"/>
                    </a:cubicBezTo>
                    <a:cubicBezTo>
                      <a:pt x="3" y="6"/>
                      <a:pt x="2" y="5"/>
                      <a:pt x="3" y="4"/>
                    </a:cubicBezTo>
                    <a:cubicBezTo>
                      <a:pt x="2" y="4"/>
                      <a:pt x="2" y="5"/>
                      <a:pt x="1" y="6"/>
                    </a:cubicBezTo>
                    <a:cubicBezTo>
                      <a:pt x="3" y="6"/>
                      <a:pt x="4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3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2" y="10"/>
                      <a:pt x="2" y="11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1" y="11"/>
                      <a:pt x="2" y="12"/>
                      <a:pt x="3" y="13"/>
                    </a:cubicBezTo>
                    <a:cubicBezTo>
                      <a:pt x="2" y="13"/>
                      <a:pt x="2" y="16"/>
                      <a:pt x="1" y="15"/>
                    </a:cubicBezTo>
                    <a:cubicBezTo>
                      <a:pt x="0" y="17"/>
                      <a:pt x="2" y="19"/>
                      <a:pt x="3" y="16"/>
                    </a:cubicBezTo>
                    <a:cubicBezTo>
                      <a:pt x="2" y="17"/>
                      <a:pt x="2" y="17"/>
                      <a:pt x="1" y="16"/>
                    </a:cubicBezTo>
                    <a:cubicBezTo>
                      <a:pt x="3" y="15"/>
                      <a:pt x="2" y="15"/>
                      <a:pt x="3" y="14"/>
                    </a:cubicBezTo>
                    <a:cubicBezTo>
                      <a:pt x="3" y="15"/>
                      <a:pt x="3" y="15"/>
                      <a:pt x="2" y="16"/>
                    </a:cubicBezTo>
                    <a:cubicBezTo>
                      <a:pt x="3" y="16"/>
                      <a:pt x="3" y="16"/>
                      <a:pt x="4" y="15"/>
                    </a:cubicBezTo>
                    <a:cubicBezTo>
                      <a:pt x="4" y="16"/>
                      <a:pt x="4" y="16"/>
                      <a:pt x="3" y="17"/>
                    </a:cubicBezTo>
                    <a:cubicBezTo>
                      <a:pt x="5" y="16"/>
                      <a:pt x="4" y="18"/>
                      <a:pt x="4" y="19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8"/>
                      <a:pt x="5" y="18"/>
                      <a:pt x="6" y="18"/>
                    </a:cubicBezTo>
                    <a:cubicBezTo>
                      <a:pt x="5" y="17"/>
                      <a:pt x="5" y="18"/>
                      <a:pt x="5" y="18"/>
                    </a:cubicBezTo>
                    <a:cubicBezTo>
                      <a:pt x="4" y="17"/>
                      <a:pt x="5" y="16"/>
                      <a:pt x="5" y="15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4" y="14"/>
                      <a:pt x="5" y="13"/>
                      <a:pt x="5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6" y="13"/>
                      <a:pt x="6" y="13"/>
                    </a:cubicBezTo>
                    <a:cubicBezTo>
                      <a:pt x="7" y="14"/>
                      <a:pt x="8" y="12"/>
                      <a:pt x="9" y="1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5124"/>
              <p:cNvSpPr/>
              <p:nvPr/>
            </p:nvSpPr>
            <p:spPr>
              <a:xfrm>
                <a:off x="11145960" y="3549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0"/>
                      <a:pt x="1" y="1"/>
                      <a:pt x="1" y="0"/>
                    </a:cubicBezTo>
                    <a:cubicBezTo>
                      <a:pt x="0" y="1"/>
                      <a:pt x="2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5125"/>
              <p:cNvSpPr/>
              <p:nvPr/>
            </p:nvSpPr>
            <p:spPr>
              <a:xfrm>
                <a:off x="11145960" y="35305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cubicBezTo>
                      <a:pt x="0" y="1"/>
                      <a:pt x="1" y="2"/>
                      <a:pt x="2" y="3"/>
                    </a:cubicBezTo>
                    <a:cubicBezTo>
                      <a:pt x="1" y="4"/>
                      <a:pt x="0" y="4"/>
                      <a:pt x="0" y="5"/>
                    </a:cubicBezTo>
                    <a:cubicBezTo>
                      <a:pt x="1" y="5"/>
                      <a:pt x="2" y="3"/>
                      <a:pt x="3" y="4"/>
                    </a:cubicBezTo>
                    <a:cubicBezTo>
                      <a:pt x="2" y="4"/>
                      <a:pt x="2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5126"/>
              <p:cNvSpPr/>
              <p:nvPr/>
            </p:nvSpPr>
            <p:spPr>
              <a:xfrm>
                <a:off x="11142720" y="34369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2"/>
                    </a:moveTo>
                    <a:cubicBezTo>
                      <a:pt x="2" y="0"/>
                      <a:pt x="1" y="3"/>
                      <a:pt x="0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2" y="6"/>
                      <a:pt x="2" y="4"/>
                      <a:pt x="3" y="4"/>
                    </a:cubicBezTo>
                    <a:cubicBezTo>
                      <a:pt x="3" y="3"/>
                      <a:pt x="2" y="3"/>
                      <a:pt x="3" y="4"/>
                    </a:cubicBezTo>
                    <a:cubicBezTo>
                      <a:pt x="1" y="4"/>
                      <a:pt x="0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5127"/>
              <p:cNvSpPr/>
              <p:nvPr/>
            </p:nvSpPr>
            <p:spPr>
              <a:xfrm>
                <a:off x="10854000" y="3137040"/>
                <a:ext cx="1404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1"/>
                    </a:moveTo>
                    <a:cubicBezTo>
                      <a:pt x="2" y="2"/>
                      <a:pt x="2" y="3"/>
                      <a:pt x="1" y="4"/>
                    </a:cubicBezTo>
                    <a:cubicBezTo>
                      <a:pt x="2" y="6"/>
                      <a:pt x="2" y="3"/>
                      <a:pt x="3" y="4"/>
                    </a:cubicBezTo>
                    <a:cubicBezTo>
                      <a:pt x="4" y="3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5128"/>
              <p:cNvSpPr/>
              <p:nvPr/>
            </p:nvSpPr>
            <p:spPr>
              <a:xfrm>
                <a:off x="10834920" y="311004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1"/>
                    </a:moveTo>
                    <a:cubicBezTo>
                      <a:pt x="2" y="2"/>
                      <a:pt x="4" y="1"/>
                      <a:pt x="5" y="2"/>
                    </a:cubicBezTo>
                    <a:cubicBezTo>
                      <a:pt x="5" y="0"/>
                      <a:pt x="1" y="1"/>
                      <a:pt x="0" y="0"/>
                    </a:cubicBezTo>
                    <a:cubicBezTo>
                      <a:pt x="0" y="0"/>
                      <a:pt x="0" y="2"/>
                      <a:pt x="1" y="0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5129"/>
              <p:cNvSpPr/>
              <p:nvPr/>
            </p:nvSpPr>
            <p:spPr>
              <a:xfrm>
                <a:off x="10854000" y="312912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3"/>
                    </a:moveTo>
                    <a:cubicBezTo>
                      <a:pt x="3" y="2"/>
                      <a:pt x="3" y="2"/>
                      <a:pt x="1" y="0"/>
                    </a:cubicBezTo>
                    <a:cubicBezTo>
                      <a:pt x="1" y="1"/>
                      <a:pt x="0" y="3"/>
                      <a:pt x="2" y="4"/>
                    </a:cubicBezTo>
                    <a:cubicBezTo>
                      <a:pt x="2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5130"/>
              <p:cNvSpPr/>
              <p:nvPr/>
            </p:nvSpPr>
            <p:spPr>
              <a:xfrm>
                <a:off x="11107800" y="34066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3" y="3"/>
                      <a:pt x="1" y="1"/>
                      <a:pt x="1" y="0"/>
                    </a:cubicBezTo>
                    <a:cubicBezTo>
                      <a:pt x="0" y="0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5131"/>
              <p:cNvSpPr/>
              <p:nvPr/>
            </p:nvSpPr>
            <p:spPr>
              <a:xfrm>
                <a:off x="10827000" y="3102120"/>
                <a:ext cx="29880" cy="15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2" y="4"/>
                    </a:moveTo>
                    <a:cubicBezTo>
                      <a:pt x="3" y="3"/>
                      <a:pt x="6" y="4"/>
                      <a:pt x="6" y="3"/>
                    </a:cubicBezTo>
                    <a:cubicBezTo>
                      <a:pt x="6" y="3"/>
                      <a:pt x="7" y="4"/>
                      <a:pt x="8" y="4"/>
                    </a:cubicBezTo>
                    <a:cubicBezTo>
                      <a:pt x="7" y="1"/>
                      <a:pt x="3" y="2"/>
                      <a:pt x="2" y="0"/>
                    </a:cubicBezTo>
                    <a:cubicBezTo>
                      <a:pt x="0" y="2"/>
                      <a:pt x="1" y="3"/>
                      <a:pt x="2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5132"/>
              <p:cNvSpPr/>
              <p:nvPr/>
            </p:nvSpPr>
            <p:spPr>
              <a:xfrm>
                <a:off x="11123640" y="342576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cubicBezTo>
                      <a:pt x="4" y="1"/>
                      <a:pt x="2" y="0"/>
                      <a:pt x="1" y="0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4"/>
                      <a:pt x="2" y="2"/>
                      <a:pt x="5" y="3"/>
                    </a:cubicBezTo>
                    <a:cubicBezTo>
                      <a:pt x="5" y="2"/>
                      <a:pt x="5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5133"/>
              <p:cNvSpPr/>
              <p:nvPr/>
            </p:nvSpPr>
            <p:spPr>
              <a:xfrm>
                <a:off x="11131560" y="3425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cubicBezTo>
                      <a:pt x="0" y="4"/>
                      <a:pt x="1" y="6"/>
                      <a:pt x="4" y="6"/>
                    </a:cubicBezTo>
                    <a:cubicBezTo>
                      <a:pt x="4" y="4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Freeform 5134"/>
              <p:cNvSpPr/>
              <p:nvPr/>
            </p:nvSpPr>
            <p:spPr>
              <a:xfrm>
                <a:off x="10669680" y="2955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5" name="Freeform 5135"/>
              <p:cNvSpPr/>
              <p:nvPr/>
            </p:nvSpPr>
            <p:spPr>
              <a:xfrm>
                <a:off x="10598400" y="29862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3"/>
                      <a:pt x="2" y="2"/>
                      <a:pt x="3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5136"/>
              <p:cNvSpPr/>
              <p:nvPr/>
            </p:nvSpPr>
            <p:spPr>
              <a:xfrm>
                <a:off x="11149200" y="3497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5137"/>
              <p:cNvSpPr/>
              <p:nvPr/>
            </p:nvSpPr>
            <p:spPr>
              <a:xfrm>
                <a:off x="10829880" y="3079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cubicBezTo>
                      <a:pt x="1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1"/>
                      <a:pt x="1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5138"/>
              <p:cNvSpPr/>
              <p:nvPr/>
            </p:nvSpPr>
            <p:spPr>
              <a:xfrm>
                <a:off x="10782360" y="31100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cubicBezTo>
                      <a:pt x="3" y="1"/>
                      <a:pt x="2" y="1"/>
                      <a:pt x="1" y="0"/>
                    </a:cubicBezTo>
                    <a:cubicBezTo>
                      <a:pt x="0" y="1"/>
                      <a:pt x="2" y="2"/>
                      <a:pt x="1" y="2"/>
                    </a:cubicBezTo>
                    <a:cubicBezTo>
                      <a:pt x="2" y="4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5139"/>
              <p:cNvSpPr/>
              <p:nvPr/>
            </p:nvSpPr>
            <p:spPr>
              <a:xfrm>
                <a:off x="10837800" y="3065400"/>
                <a:ext cx="162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0" y="3"/>
                      <a:pt x="2" y="3"/>
                      <a:pt x="4" y="1"/>
                    </a:cubicBezTo>
                    <a:cubicBezTo>
                      <a:pt x="2" y="1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5140"/>
              <p:cNvSpPr/>
              <p:nvPr/>
            </p:nvSpPr>
            <p:spPr>
              <a:xfrm>
                <a:off x="10755360" y="29894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cubicBezTo>
                      <a:pt x="2" y="2"/>
                      <a:pt x="4" y="3"/>
                      <a:pt x="3" y="1"/>
                    </a:cubicBezTo>
                    <a:cubicBezTo>
                      <a:pt x="2" y="0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5141"/>
              <p:cNvSpPr/>
              <p:nvPr/>
            </p:nvSpPr>
            <p:spPr>
              <a:xfrm>
                <a:off x="11107800" y="34750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0"/>
                    </a:moveTo>
                    <a:cubicBezTo>
                      <a:pt x="2" y="3"/>
                      <a:pt x="1" y="3"/>
                      <a:pt x="0" y="7"/>
                    </a:cubicBezTo>
                    <a:cubicBezTo>
                      <a:pt x="2" y="6"/>
                      <a:pt x="6" y="4"/>
                      <a:pt x="5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5142"/>
              <p:cNvSpPr/>
              <p:nvPr/>
            </p:nvSpPr>
            <p:spPr>
              <a:xfrm>
                <a:off x="11126880" y="34527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0" y="4"/>
                      <a:pt x="1" y="4"/>
                      <a:pt x="1" y="5"/>
                    </a:cubicBezTo>
                    <a:cubicBezTo>
                      <a:pt x="2" y="2"/>
                      <a:pt x="3" y="1"/>
                      <a:pt x="4" y="0"/>
                    </a:cubicBezTo>
                    <a:cubicBezTo>
                      <a:pt x="1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5143"/>
              <p:cNvSpPr/>
              <p:nvPr/>
            </p:nvSpPr>
            <p:spPr>
              <a:xfrm>
                <a:off x="10890360" y="31100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cubicBezTo>
                      <a:pt x="1" y="1"/>
                      <a:pt x="2" y="3"/>
                      <a:pt x="3" y="2"/>
                    </a:cubicBezTo>
                    <a:cubicBezTo>
                      <a:pt x="2" y="0"/>
                      <a:pt x="4" y="3"/>
                      <a:pt x="4" y="2"/>
                    </a:cubicBezTo>
                    <a:cubicBezTo>
                      <a:pt x="3" y="1"/>
                      <a:pt x="4" y="0"/>
                      <a:pt x="3" y="0"/>
                    </a:cubicBezTo>
                    <a:cubicBezTo>
                      <a:pt x="2" y="2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5144"/>
              <p:cNvSpPr/>
              <p:nvPr/>
            </p:nvSpPr>
            <p:spPr>
              <a:xfrm>
                <a:off x="10856880" y="3095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3" y="1"/>
                      <a:pt x="0" y="6"/>
                      <a:pt x="3" y="4"/>
                    </a:cubicBezTo>
                    <a:cubicBezTo>
                      <a:pt x="3" y="5"/>
                      <a:pt x="3" y="6"/>
                      <a:pt x="5" y="6"/>
                    </a:cubicBezTo>
                    <a:cubicBezTo>
                      <a:pt x="4" y="5"/>
                      <a:pt x="5" y="0"/>
                      <a:pt x="2" y="2"/>
                    </a:cubicBezTo>
                    <a:cubicBezTo>
                      <a:pt x="0" y="1"/>
                      <a:pt x="4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5145"/>
              <p:cNvSpPr/>
              <p:nvPr/>
            </p:nvSpPr>
            <p:spPr>
              <a:xfrm>
                <a:off x="10875960" y="31068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1"/>
                    </a:moveTo>
                    <a:cubicBezTo>
                      <a:pt x="0" y="4"/>
                      <a:pt x="1" y="5"/>
                      <a:pt x="3" y="5"/>
                    </a:cubicBezTo>
                    <a:cubicBezTo>
                      <a:pt x="3" y="4"/>
                      <a:pt x="4" y="2"/>
                      <a:pt x="4" y="0"/>
                    </a:cubicBezTo>
                    <a:cubicBezTo>
                      <a:pt x="3" y="1"/>
                      <a:pt x="2" y="2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5146"/>
              <p:cNvSpPr/>
              <p:nvPr/>
            </p:nvSpPr>
            <p:spPr>
              <a:xfrm>
                <a:off x="10744200" y="300528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cubicBezTo>
                      <a:pt x="1" y="0"/>
                      <a:pt x="0" y="3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4" y="2"/>
                      <a:pt x="4" y="4"/>
                      <a:pt x="6" y="2"/>
                    </a:cubicBezTo>
                    <a:cubicBezTo>
                      <a:pt x="4" y="2"/>
                      <a:pt x="5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5147"/>
              <p:cNvSpPr/>
              <p:nvPr/>
            </p:nvSpPr>
            <p:spPr>
              <a:xfrm>
                <a:off x="10717200" y="29829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cubicBezTo>
                      <a:pt x="0" y="3"/>
                      <a:pt x="5" y="1"/>
                      <a:pt x="5" y="1"/>
                    </a:cubicBezTo>
                    <a:cubicBezTo>
                      <a:pt x="4" y="0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5148"/>
              <p:cNvSpPr/>
              <p:nvPr/>
            </p:nvSpPr>
            <p:spPr>
              <a:xfrm>
                <a:off x="10868040" y="31147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1"/>
                      <a:pt x="2" y="1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2"/>
                      <a:pt x="2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5149"/>
              <p:cNvSpPr/>
              <p:nvPr/>
            </p:nvSpPr>
            <p:spPr>
              <a:xfrm>
                <a:off x="10568160" y="293364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4" y="1"/>
                    </a:moveTo>
                    <a:cubicBezTo>
                      <a:pt x="3" y="0"/>
                      <a:pt x="0" y="1"/>
                      <a:pt x="1" y="2"/>
                    </a:cubicBezTo>
                    <a:cubicBezTo>
                      <a:pt x="2" y="1"/>
                      <a:pt x="3" y="4"/>
                      <a:pt x="4" y="2"/>
                    </a:cubicBezTo>
                    <a:cubicBezTo>
                      <a:pt x="3" y="4"/>
                      <a:pt x="6" y="4"/>
                      <a:pt x="4" y="5"/>
                    </a:cubicBezTo>
                    <a:cubicBezTo>
                      <a:pt x="5" y="5"/>
                      <a:pt x="5" y="4"/>
                      <a:pt x="6" y="5"/>
                    </a:cubicBezTo>
                    <a:cubicBezTo>
                      <a:pt x="6" y="6"/>
                      <a:pt x="8" y="9"/>
                      <a:pt x="8" y="7"/>
                    </a:cubicBezTo>
                    <a:cubicBezTo>
                      <a:pt x="7" y="6"/>
                      <a:pt x="6" y="5"/>
                      <a:pt x="7" y="4"/>
                    </a:cubicBezTo>
                    <a:cubicBezTo>
                      <a:pt x="5" y="3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5150"/>
              <p:cNvSpPr/>
              <p:nvPr/>
            </p:nvSpPr>
            <p:spPr>
              <a:xfrm>
                <a:off x="11120400" y="34560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cubicBezTo>
                      <a:pt x="3" y="5"/>
                      <a:pt x="2" y="4"/>
                      <a:pt x="3" y="4"/>
                    </a:cubicBezTo>
                    <a:cubicBezTo>
                      <a:pt x="3" y="3"/>
                      <a:pt x="2" y="0"/>
                      <a:pt x="2" y="2"/>
                    </a:cubicBezTo>
                    <a:cubicBezTo>
                      <a:pt x="4" y="3"/>
                      <a:pt x="0" y="2"/>
                      <a:pt x="1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5151"/>
              <p:cNvSpPr/>
              <p:nvPr/>
            </p:nvSpPr>
            <p:spPr>
              <a:xfrm>
                <a:off x="11126880" y="354960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4"/>
                    </a:moveTo>
                    <a:cubicBezTo>
                      <a:pt x="1" y="2"/>
                      <a:pt x="3" y="1"/>
                      <a:pt x="2" y="0"/>
                    </a:cubicBezTo>
                    <a:cubicBezTo>
                      <a:pt x="2" y="1"/>
                      <a:pt x="0" y="3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5152"/>
              <p:cNvSpPr/>
              <p:nvPr/>
            </p:nvSpPr>
            <p:spPr>
              <a:xfrm>
                <a:off x="10771200" y="299412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1" y="1"/>
                    </a:moveTo>
                    <a:cubicBezTo>
                      <a:pt x="0" y="0"/>
                      <a:pt x="1" y="2"/>
                      <a:pt x="1" y="3"/>
                    </a:cubicBezTo>
                    <a:cubicBezTo>
                      <a:pt x="2" y="2"/>
                      <a:pt x="3" y="3"/>
                      <a:pt x="4" y="3"/>
                    </a:cubicBezTo>
                    <a:cubicBezTo>
                      <a:pt x="6" y="3"/>
                      <a:pt x="4" y="2"/>
                      <a:pt x="4" y="1"/>
                    </a:cubicBezTo>
                    <a:cubicBezTo>
                      <a:pt x="3" y="1"/>
                      <a:pt x="3" y="2"/>
                      <a:pt x="3" y="1"/>
                    </a:cubicBezTo>
                    <a:cubicBezTo>
                      <a:pt x="3" y="3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Freeform 5153"/>
              <p:cNvSpPr/>
              <p:nvPr/>
            </p:nvSpPr>
            <p:spPr>
              <a:xfrm>
                <a:off x="10763280" y="30463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cubicBezTo>
                      <a:pt x="1" y="0"/>
                      <a:pt x="1" y="3"/>
                      <a:pt x="0" y="1"/>
                    </a:cubicBezTo>
                    <a:cubicBezTo>
                      <a:pt x="1" y="2"/>
                      <a:pt x="4" y="6"/>
                      <a:pt x="4" y="8"/>
                    </a:cubicBezTo>
                    <a:cubicBezTo>
                      <a:pt x="5" y="8"/>
                      <a:pt x="6" y="6"/>
                      <a:pt x="7" y="8"/>
                    </a:cubicBezTo>
                    <a:cubicBezTo>
                      <a:pt x="8" y="8"/>
                      <a:pt x="5" y="6"/>
                      <a:pt x="5" y="5"/>
                    </a:cubicBezTo>
                    <a:cubicBezTo>
                      <a:pt x="6" y="5"/>
                      <a:pt x="6" y="7"/>
                      <a:pt x="8" y="6"/>
                    </a:cubicBezTo>
                    <a:cubicBezTo>
                      <a:pt x="6" y="6"/>
                      <a:pt x="5" y="3"/>
                      <a:pt x="5" y="1"/>
                    </a:cubicBezTo>
                    <a:cubicBezTo>
                      <a:pt x="4" y="2"/>
                      <a:pt x="3" y="1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Freeform 5154"/>
              <p:cNvSpPr/>
              <p:nvPr/>
            </p:nvSpPr>
            <p:spPr>
              <a:xfrm>
                <a:off x="10793520" y="309096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5" y="9"/>
                    </a:moveTo>
                    <a:cubicBezTo>
                      <a:pt x="6" y="8"/>
                      <a:pt x="5" y="7"/>
                      <a:pt x="6" y="6"/>
                    </a:cubicBezTo>
                    <a:cubicBezTo>
                      <a:pt x="6" y="7"/>
                      <a:pt x="8" y="8"/>
                      <a:pt x="8" y="8"/>
                    </a:cubicBezTo>
                    <a:cubicBezTo>
                      <a:pt x="6" y="7"/>
                      <a:pt x="8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4" y="4"/>
                    </a:cubicBezTo>
                    <a:cubicBezTo>
                      <a:pt x="6" y="5"/>
                      <a:pt x="7" y="5"/>
                      <a:pt x="9" y="7"/>
                    </a:cubicBezTo>
                    <a:cubicBezTo>
                      <a:pt x="9" y="6"/>
                      <a:pt x="9" y="5"/>
                      <a:pt x="9" y="5"/>
                    </a:cubicBezTo>
                    <a:cubicBezTo>
                      <a:pt x="9" y="5"/>
                      <a:pt x="10" y="5"/>
                      <a:pt x="10" y="5"/>
                    </a:cubicBezTo>
                    <a:cubicBezTo>
                      <a:pt x="11" y="5"/>
                      <a:pt x="8" y="2"/>
                      <a:pt x="10" y="4"/>
                    </a:cubicBezTo>
                    <a:cubicBezTo>
                      <a:pt x="11" y="3"/>
                      <a:pt x="9" y="2"/>
                      <a:pt x="9" y="2"/>
                    </a:cubicBezTo>
                    <a:cubicBezTo>
                      <a:pt x="8" y="1"/>
                      <a:pt x="8" y="1"/>
                      <a:pt x="9" y="1"/>
                    </a:cubicBezTo>
                    <a:cubicBezTo>
                      <a:pt x="10" y="0"/>
                      <a:pt x="5" y="2"/>
                      <a:pt x="6" y="3"/>
                    </a:cubicBezTo>
                    <a:cubicBezTo>
                      <a:pt x="6" y="3"/>
                      <a:pt x="3" y="2"/>
                      <a:pt x="4" y="1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0" y="4"/>
                      <a:pt x="2" y="4"/>
                      <a:pt x="3" y="4"/>
                    </a:cubicBezTo>
                    <a:cubicBezTo>
                      <a:pt x="5" y="6"/>
                      <a:pt x="3" y="7"/>
                      <a:pt x="5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Freeform 5155"/>
              <p:cNvSpPr/>
              <p:nvPr/>
            </p:nvSpPr>
            <p:spPr>
              <a:xfrm>
                <a:off x="11138040" y="35384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2" y="0"/>
                      <a:pt x="2" y="3"/>
                      <a:pt x="1" y="2"/>
                    </a:cubicBezTo>
                    <a:cubicBezTo>
                      <a:pt x="0" y="3"/>
                      <a:pt x="3" y="2"/>
                      <a:pt x="3" y="4"/>
                    </a:cubicBezTo>
                    <a:cubicBezTo>
                      <a:pt x="4" y="3"/>
                      <a:pt x="2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5156"/>
              <p:cNvSpPr/>
              <p:nvPr/>
            </p:nvSpPr>
            <p:spPr>
              <a:xfrm>
                <a:off x="11104560" y="34639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1" y="4"/>
                      <a:pt x="1" y="2"/>
                      <a:pt x="2" y="1"/>
                    </a:cubicBezTo>
                    <a:cubicBezTo>
                      <a:pt x="1" y="2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Freeform 5157"/>
              <p:cNvSpPr/>
              <p:nvPr/>
            </p:nvSpPr>
            <p:spPr>
              <a:xfrm>
                <a:off x="11112480" y="34671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5158"/>
              <p:cNvSpPr/>
              <p:nvPr/>
            </p:nvSpPr>
            <p:spPr>
              <a:xfrm>
                <a:off x="11101320" y="34480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4" y="1"/>
                      <a:pt x="3" y="0"/>
                    </a:cubicBezTo>
                    <a:cubicBezTo>
                      <a:pt x="2" y="1"/>
                      <a:pt x="2" y="1"/>
                      <a:pt x="1" y="0"/>
                    </a:cubicBezTo>
                    <a:cubicBezTo>
                      <a:pt x="0" y="1"/>
                      <a:pt x="3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5159"/>
              <p:cNvSpPr/>
              <p:nvPr/>
            </p:nvSpPr>
            <p:spPr>
              <a:xfrm>
                <a:off x="11112480" y="342252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3"/>
                    </a:moveTo>
                    <a:cubicBezTo>
                      <a:pt x="2" y="2"/>
                      <a:pt x="1" y="1"/>
                      <a:pt x="1" y="0"/>
                    </a:cubicBezTo>
                    <a:cubicBezTo>
                      <a:pt x="0" y="1"/>
                      <a:pt x="1" y="2"/>
                      <a:pt x="0" y="3"/>
                    </a:cubicBezTo>
                    <a:cubicBezTo>
                      <a:pt x="1" y="5"/>
                      <a:pt x="1" y="1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5160"/>
              <p:cNvSpPr/>
              <p:nvPr/>
            </p:nvSpPr>
            <p:spPr>
              <a:xfrm>
                <a:off x="10815840" y="303048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2" y="2"/>
                    </a:moveTo>
                    <a:cubicBezTo>
                      <a:pt x="0" y="0"/>
                      <a:pt x="2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5"/>
                      <a:pt x="3" y="6"/>
                      <a:pt x="4" y="5"/>
                    </a:cubicBezTo>
                    <a:cubicBezTo>
                      <a:pt x="3" y="5"/>
                      <a:pt x="1" y="3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5161"/>
              <p:cNvSpPr/>
              <p:nvPr/>
            </p:nvSpPr>
            <p:spPr>
              <a:xfrm>
                <a:off x="11079360" y="330192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4"/>
                    </a:moveTo>
                    <a:cubicBezTo>
                      <a:pt x="0" y="5"/>
                      <a:pt x="4" y="4"/>
                      <a:pt x="3" y="5"/>
                    </a:cubicBezTo>
                    <a:cubicBezTo>
                      <a:pt x="5" y="5"/>
                      <a:pt x="7" y="2"/>
                      <a:pt x="7" y="0"/>
                    </a:cubicBezTo>
                    <a:cubicBezTo>
                      <a:pt x="6" y="1"/>
                      <a:pt x="6" y="4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5162"/>
              <p:cNvSpPr/>
              <p:nvPr/>
            </p:nvSpPr>
            <p:spPr>
              <a:xfrm>
                <a:off x="10898280" y="30956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1"/>
                      <a:pt x="2" y="1"/>
                      <a:pt x="2" y="0"/>
                    </a:cubicBezTo>
                    <a:cubicBezTo>
                      <a:pt x="0" y="0"/>
                      <a:pt x="2" y="2"/>
                      <a:pt x="0" y="2"/>
                    </a:cubicBezTo>
                    <a:cubicBezTo>
                      <a:pt x="0" y="4"/>
                      <a:pt x="3" y="1"/>
                      <a:pt x="2" y="3"/>
                    </a:cubicBezTo>
                    <a:cubicBezTo>
                      <a:pt x="3" y="4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5163"/>
              <p:cNvSpPr/>
              <p:nvPr/>
            </p:nvSpPr>
            <p:spPr>
              <a:xfrm>
                <a:off x="10634760" y="2936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0"/>
                      <a:pt x="2" y="1"/>
                      <a:pt x="3" y="2"/>
                    </a:cubicBezTo>
                    <a:cubicBezTo>
                      <a:pt x="2" y="2"/>
                      <a:pt x="0" y="1"/>
                      <a:pt x="0" y="2"/>
                    </a:cubicBezTo>
                    <a:cubicBezTo>
                      <a:pt x="1" y="4"/>
                      <a:pt x="3" y="2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2"/>
                      <a:pt x="2" y="3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5164"/>
              <p:cNvSpPr/>
              <p:nvPr/>
            </p:nvSpPr>
            <p:spPr>
              <a:xfrm>
                <a:off x="10856880" y="30909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cubicBezTo>
                      <a:pt x="5" y="1"/>
                      <a:pt x="4" y="1"/>
                      <a:pt x="2" y="0"/>
                    </a:cubicBezTo>
                    <a:cubicBezTo>
                      <a:pt x="4" y="2"/>
                      <a:pt x="2" y="2"/>
                      <a:pt x="2" y="3"/>
                    </a:cubicBezTo>
                    <a:cubicBezTo>
                      <a:pt x="1" y="1"/>
                      <a:pt x="2" y="1"/>
                      <a:pt x="0" y="3"/>
                    </a:cubicBezTo>
                    <a:cubicBezTo>
                      <a:pt x="0" y="4"/>
                      <a:pt x="2" y="5"/>
                      <a:pt x="3" y="6"/>
                    </a:cubicBezTo>
                    <a:cubicBezTo>
                      <a:pt x="5" y="5"/>
                      <a:pt x="4" y="3"/>
                      <a:pt x="6" y="2"/>
                    </a:cubicBezTo>
                    <a:cubicBezTo>
                      <a:pt x="6" y="2"/>
                      <a:pt x="5" y="1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5165"/>
              <p:cNvSpPr/>
              <p:nvPr/>
            </p:nvSpPr>
            <p:spPr>
              <a:xfrm>
                <a:off x="10669680" y="2952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3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3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5166"/>
              <p:cNvSpPr/>
              <p:nvPr/>
            </p:nvSpPr>
            <p:spPr>
              <a:xfrm>
                <a:off x="11123640" y="35416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2"/>
                      <a:pt x="2" y="0"/>
                      <a:pt x="0" y="1"/>
                    </a:cubicBezTo>
                    <a:cubicBezTo>
                      <a:pt x="0" y="2"/>
                      <a:pt x="1" y="2"/>
                      <a:pt x="1" y="3"/>
                    </a:cubicBezTo>
                    <a:cubicBezTo>
                      <a:pt x="2" y="0"/>
                      <a:pt x="2" y="4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5167"/>
              <p:cNvSpPr/>
              <p:nvPr/>
            </p:nvSpPr>
            <p:spPr>
              <a:xfrm>
                <a:off x="10819080" y="306072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cubicBezTo>
                      <a:pt x="1" y="0"/>
                      <a:pt x="2" y="1"/>
                      <a:pt x="1" y="1"/>
                    </a:cubicBezTo>
                    <a:cubicBezTo>
                      <a:pt x="0" y="1"/>
                      <a:pt x="2" y="3"/>
                      <a:pt x="3" y="2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1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5168"/>
              <p:cNvSpPr/>
              <p:nvPr/>
            </p:nvSpPr>
            <p:spPr>
              <a:xfrm>
                <a:off x="11115720" y="345276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4"/>
                    </a:moveTo>
                    <a:cubicBezTo>
                      <a:pt x="2" y="3"/>
                      <a:pt x="1" y="5"/>
                      <a:pt x="2" y="6"/>
                    </a:cubicBezTo>
                    <a:cubicBezTo>
                      <a:pt x="3" y="7"/>
                      <a:pt x="2" y="0"/>
                      <a:pt x="0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5169"/>
              <p:cNvSpPr/>
              <p:nvPr/>
            </p:nvSpPr>
            <p:spPr>
              <a:xfrm>
                <a:off x="10560240" y="29336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2"/>
                    </a:moveTo>
                    <a:cubicBezTo>
                      <a:pt x="7" y="4"/>
                      <a:pt x="3" y="0"/>
                      <a:pt x="2" y="0"/>
                    </a:cubicBezTo>
                    <a:cubicBezTo>
                      <a:pt x="0" y="2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5170"/>
              <p:cNvSpPr/>
              <p:nvPr/>
            </p:nvSpPr>
            <p:spPr>
              <a:xfrm>
                <a:off x="10672920" y="2963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0"/>
                      <a:pt x="0" y="1"/>
                    </a:cubicBezTo>
                    <a:cubicBezTo>
                      <a:pt x="1" y="2"/>
                      <a:pt x="2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5171"/>
              <p:cNvSpPr/>
              <p:nvPr/>
            </p:nvSpPr>
            <p:spPr>
              <a:xfrm>
                <a:off x="11126880" y="3497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2" y="1"/>
                      <a:pt x="2" y="3"/>
                    </a:cubicBezTo>
                    <a:cubicBezTo>
                      <a:pt x="3" y="2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5172"/>
              <p:cNvSpPr/>
              <p:nvPr/>
            </p:nvSpPr>
            <p:spPr>
              <a:xfrm>
                <a:off x="10736280" y="3002040"/>
                <a:ext cx="41400" cy="172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5" y="3"/>
                    </a:moveTo>
                    <a:cubicBezTo>
                      <a:pt x="4" y="4"/>
                      <a:pt x="3" y="2"/>
                      <a:pt x="2" y="4"/>
                    </a:cubicBezTo>
                    <a:cubicBezTo>
                      <a:pt x="4" y="5"/>
                      <a:pt x="6" y="4"/>
                      <a:pt x="8" y="5"/>
                    </a:cubicBezTo>
                    <a:cubicBezTo>
                      <a:pt x="9" y="4"/>
                      <a:pt x="8" y="3"/>
                      <a:pt x="11" y="4"/>
                    </a:cubicBezTo>
                    <a:cubicBezTo>
                      <a:pt x="10" y="2"/>
                      <a:pt x="6" y="1"/>
                      <a:pt x="5" y="1"/>
                    </a:cubicBezTo>
                    <a:cubicBezTo>
                      <a:pt x="4" y="0"/>
                      <a:pt x="6" y="1"/>
                      <a:pt x="6" y="0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2" y="1"/>
                      <a:pt x="3" y="1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5173"/>
              <p:cNvSpPr/>
              <p:nvPr/>
            </p:nvSpPr>
            <p:spPr>
              <a:xfrm>
                <a:off x="10771200" y="30243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1" y="3"/>
                      <a:pt x="2" y="2"/>
                      <a:pt x="4" y="3"/>
                    </a:cubicBezTo>
                    <a:cubicBezTo>
                      <a:pt x="4" y="0"/>
                      <a:pt x="1" y="2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5174"/>
              <p:cNvSpPr/>
              <p:nvPr/>
            </p:nvSpPr>
            <p:spPr>
              <a:xfrm>
                <a:off x="10733040" y="29718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cubicBezTo>
                      <a:pt x="1" y="3"/>
                      <a:pt x="2" y="2"/>
                      <a:pt x="3" y="2"/>
                    </a:cubicBezTo>
                    <a:cubicBezTo>
                      <a:pt x="4" y="1"/>
                      <a:pt x="1" y="2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5175"/>
              <p:cNvSpPr/>
              <p:nvPr/>
            </p:nvSpPr>
            <p:spPr>
              <a:xfrm>
                <a:off x="10725120" y="296388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2" y="0"/>
                      <a:pt x="2" y="0"/>
                      <a:pt x="0" y="0"/>
                    </a:cubicBezTo>
                    <a:cubicBezTo>
                      <a:pt x="1" y="1"/>
                      <a:pt x="3" y="3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5176"/>
              <p:cNvSpPr/>
              <p:nvPr/>
            </p:nvSpPr>
            <p:spPr>
              <a:xfrm>
                <a:off x="10755360" y="297828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1" y="2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5177"/>
              <p:cNvSpPr/>
              <p:nvPr/>
            </p:nvSpPr>
            <p:spPr>
              <a:xfrm>
                <a:off x="10785600" y="301932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1"/>
                    </a:moveTo>
                    <a:cubicBezTo>
                      <a:pt x="2" y="0"/>
                      <a:pt x="2" y="1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1" y="2"/>
                      <a:pt x="3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2"/>
                      <a:pt x="4" y="2"/>
                    </a:cubicBezTo>
                    <a:cubicBezTo>
                      <a:pt x="8" y="1"/>
                      <a:pt x="5" y="0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5178"/>
              <p:cNvSpPr/>
              <p:nvPr/>
            </p:nvSpPr>
            <p:spPr>
              <a:xfrm>
                <a:off x="10593360" y="2944800"/>
                <a:ext cx="241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cubicBezTo>
                      <a:pt x="2" y="2"/>
                      <a:pt x="5" y="4"/>
                      <a:pt x="5" y="3"/>
                    </a:cubicBezTo>
                    <a:cubicBezTo>
                      <a:pt x="5" y="3"/>
                      <a:pt x="5" y="4"/>
                      <a:pt x="6" y="5"/>
                    </a:cubicBezTo>
                    <a:cubicBezTo>
                      <a:pt x="6" y="2"/>
                      <a:pt x="2" y="1"/>
                      <a:pt x="1" y="0"/>
                    </a:cubicBezTo>
                    <a:cubicBezTo>
                      <a:pt x="0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5179"/>
              <p:cNvSpPr/>
              <p:nvPr/>
            </p:nvSpPr>
            <p:spPr>
              <a:xfrm>
                <a:off x="10661760" y="294480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5"/>
                    </a:moveTo>
                    <a:cubicBezTo>
                      <a:pt x="4" y="5"/>
                      <a:pt x="7" y="3"/>
                      <a:pt x="9" y="7"/>
                    </a:cubicBezTo>
                    <a:cubicBezTo>
                      <a:pt x="8" y="7"/>
                      <a:pt x="7" y="7"/>
                      <a:pt x="7" y="6"/>
                    </a:cubicBez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8" y="5"/>
                    </a:cubicBezTo>
                    <a:cubicBezTo>
                      <a:pt x="6" y="4"/>
                      <a:pt x="8" y="3"/>
                      <a:pt x="6" y="1"/>
                    </a:cubicBezTo>
                    <a:cubicBezTo>
                      <a:pt x="5" y="2"/>
                      <a:pt x="6" y="3"/>
                      <a:pt x="5" y="4"/>
                    </a:cubicBezTo>
                    <a:cubicBezTo>
                      <a:pt x="5" y="4"/>
                      <a:pt x="2" y="2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2" y="1"/>
                      <a:pt x="1" y="0"/>
                      <a:pt x="0" y="1"/>
                    </a:cubicBezTo>
                    <a:cubicBezTo>
                      <a:pt x="1" y="1"/>
                      <a:pt x="2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3"/>
                      <a:pt x="5" y="4"/>
                      <a:pt x="1" y="5"/>
                    </a:cubicBezTo>
                    <a:close/>
                    <a:moveTo>
                      <a:pt x="2" y="3"/>
                    </a:moveTo>
                    <a:cubicBezTo>
                      <a:pt x="2" y="3"/>
                      <a:pt x="3" y="3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5180"/>
              <p:cNvSpPr/>
              <p:nvPr/>
            </p:nvSpPr>
            <p:spPr>
              <a:xfrm>
                <a:off x="11131560" y="34941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5"/>
                    </a:moveTo>
                    <a:cubicBezTo>
                      <a:pt x="7" y="5"/>
                      <a:pt x="7" y="5"/>
                      <a:pt x="8" y="5"/>
                    </a:cubicBezTo>
                    <a:cubicBezTo>
                      <a:pt x="8" y="4"/>
                      <a:pt x="8" y="3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0"/>
                      <a:pt x="6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3"/>
                      <a:pt x="3" y="4"/>
                    </a:cubicBezTo>
                    <a:cubicBezTo>
                      <a:pt x="2" y="5"/>
                      <a:pt x="0" y="6"/>
                      <a:pt x="2" y="7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2" y="7"/>
                      <a:pt x="2" y="7"/>
                      <a:pt x="3" y="8"/>
                    </a:cubicBezTo>
                    <a:cubicBezTo>
                      <a:pt x="4" y="8"/>
                      <a:pt x="3" y="5"/>
                      <a:pt x="5" y="4"/>
                    </a:cubicBezTo>
                    <a:cubicBezTo>
                      <a:pt x="4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6" y="2"/>
                      <a:pt x="6" y="5"/>
                      <a:pt x="7" y="5"/>
                    </a:cubicBezTo>
                    <a:close/>
                    <a:moveTo>
                      <a:pt x="4" y="2"/>
                    </a:moveTo>
                    <a:cubicBezTo>
                      <a:pt x="4" y="2"/>
                      <a:pt x="4" y="3"/>
                      <a:pt x="4" y="3"/>
                    </a:cubicBezTo>
                    <a:cubicBezTo>
                      <a:pt x="4" y="3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5181"/>
              <p:cNvSpPr/>
              <p:nvPr/>
            </p:nvSpPr>
            <p:spPr>
              <a:xfrm>
                <a:off x="11101320" y="34704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1" y="2"/>
                      <a:pt x="0" y="3"/>
                      <a:pt x="0" y="4"/>
                    </a:cubicBezTo>
                    <a:cubicBezTo>
                      <a:pt x="0" y="5"/>
                      <a:pt x="1" y="5"/>
                      <a:pt x="2" y="5"/>
                    </a:cubicBezTo>
                    <a:cubicBezTo>
                      <a:pt x="3" y="3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5182"/>
              <p:cNvSpPr/>
              <p:nvPr/>
            </p:nvSpPr>
            <p:spPr>
              <a:xfrm>
                <a:off x="10785600" y="3049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cubicBezTo>
                      <a:pt x="1" y="1"/>
                      <a:pt x="1" y="3"/>
                      <a:pt x="0" y="4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5" y="4"/>
                      <a:pt x="2" y="3"/>
                      <a:pt x="4" y="1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5183"/>
              <p:cNvSpPr/>
              <p:nvPr/>
            </p:nvSpPr>
            <p:spPr>
              <a:xfrm>
                <a:off x="10829880" y="305424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2"/>
                    </a:moveTo>
                    <a:cubicBezTo>
                      <a:pt x="4" y="2"/>
                      <a:pt x="4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0" y="2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2" y="4"/>
                      <a:pt x="2" y="5"/>
                      <a:pt x="1" y="5"/>
                    </a:cubicBezTo>
                    <a:cubicBezTo>
                      <a:pt x="5" y="10"/>
                      <a:pt x="9" y="2"/>
                      <a:pt x="7" y="0"/>
                    </a:cubicBezTo>
                    <a:cubicBezTo>
                      <a:pt x="6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5184"/>
              <p:cNvSpPr/>
              <p:nvPr/>
            </p:nvSpPr>
            <p:spPr>
              <a:xfrm>
                <a:off x="10815840" y="30844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5"/>
                    </a:moveTo>
                    <a:cubicBezTo>
                      <a:pt x="6" y="3"/>
                      <a:pt x="5" y="2"/>
                      <a:pt x="3" y="0"/>
                    </a:cubicBezTo>
                    <a:cubicBezTo>
                      <a:pt x="0" y="2"/>
                      <a:pt x="2" y="3"/>
                      <a:pt x="0" y="4"/>
                    </a:cubicBezTo>
                    <a:cubicBezTo>
                      <a:pt x="1" y="5"/>
                      <a:pt x="2" y="4"/>
                      <a:pt x="3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5185"/>
              <p:cNvSpPr/>
              <p:nvPr/>
            </p:nvSpPr>
            <p:spPr>
              <a:xfrm>
                <a:off x="10804680" y="304632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cubicBezTo>
                      <a:pt x="1" y="3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5186"/>
              <p:cNvSpPr/>
              <p:nvPr/>
            </p:nvSpPr>
            <p:spPr>
              <a:xfrm>
                <a:off x="10980720" y="3121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1"/>
                      <a:pt x="1" y="1"/>
                      <a:pt x="1" y="0"/>
                    </a:cubicBezTo>
                    <a:cubicBezTo>
                      <a:pt x="0" y="1"/>
                      <a:pt x="2" y="2"/>
                      <a:pt x="1" y="2"/>
                    </a:cubicBezTo>
                    <a:cubicBezTo>
                      <a:pt x="1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5187"/>
              <p:cNvSpPr/>
              <p:nvPr/>
            </p:nvSpPr>
            <p:spPr>
              <a:xfrm>
                <a:off x="10782360" y="297180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cubicBezTo>
                      <a:pt x="2" y="3"/>
                      <a:pt x="3" y="4"/>
                      <a:pt x="4" y="3"/>
                    </a:cubicBezTo>
                    <a:cubicBezTo>
                      <a:pt x="5" y="5"/>
                      <a:pt x="4" y="4"/>
                      <a:pt x="3" y="5"/>
                    </a:cubicBezTo>
                    <a:cubicBezTo>
                      <a:pt x="5" y="5"/>
                      <a:pt x="8" y="7"/>
                      <a:pt x="7" y="6"/>
                    </a:cubicBezTo>
                    <a:cubicBezTo>
                      <a:pt x="6" y="4"/>
                      <a:pt x="3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5188"/>
              <p:cNvSpPr/>
              <p:nvPr/>
            </p:nvSpPr>
            <p:spPr>
              <a:xfrm>
                <a:off x="10774440" y="29862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2"/>
                      <a:pt x="2" y="2"/>
                      <a:pt x="4" y="1"/>
                    </a:cubicBezTo>
                    <a:cubicBezTo>
                      <a:pt x="2" y="1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5189"/>
              <p:cNvSpPr/>
              <p:nvPr/>
            </p:nvSpPr>
            <p:spPr>
              <a:xfrm>
                <a:off x="11126880" y="351144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0"/>
                    </a:moveTo>
                    <a:cubicBezTo>
                      <a:pt x="4" y="1"/>
                      <a:pt x="0" y="5"/>
                      <a:pt x="1" y="7"/>
                    </a:cubicBezTo>
                    <a:cubicBezTo>
                      <a:pt x="3" y="5"/>
                      <a:pt x="5" y="2"/>
                      <a:pt x="6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5190"/>
              <p:cNvSpPr/>
              <p:nvPr/>
            </p:nvSpPr>
            <p:spPr>
              <a:xfrm>
                <a:off x="10612440" y="2986200"/>
                <a:ext cx="4140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cubicBezTo>
                      <a:pt x="0" y="2"/>
                      <a:pt x="3" y="4"/>
                      <a:pt x="4" y="5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4" y="6"/>
                      <a:pt x="5" y="6"/>
                      <a:pt x="6" y="7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11" y="4"/>
                      <a:pt x="6" y="2"/>
                      <a:pt x="3" y="0"/>
                    </a:cubicBezTo>
                    <a:close/>
                    <a:moveTo>
                      <a:pt x="4" y="5"/>
                    </a:moveTo>
                    <a:cubicBezTo>
                      <a:pt x="4" y="4"/>
                      <a:pt x="5" y="4"/>
                      <a:pt x="6" y="4"/>
                    </a:cubicBezTo>
                    <a:cubicBezTo>
                      <a:pt x="6" y="5"/>
                      <a:pt x="8" y="5"/>
                      <a:pt x="7" y="6"/>
                    </a:cubicBezTo>
                    <a:cubicBezTo>
                      <a:pt x="7" y="6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4"/>
                    </a:cubicBezTo>
                    <a:cubicBezTo>
                      <a:pt x="5" y="5"/>
                      <a:pt x="4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5191"/>
              <p:cNvSpPr/>
              <p:nvPr/>
            </p:nvSpPr>
            <p:spPr>
              <a:xfrm>
                <a:off x="10848960" y="3035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2"/>
                    </a:moveTo>
                    <a:cubicBezTo>
                      <a:pt x="2" y="2"/>
                      <a:pt x="4" y="1"/>
                      <a:pt x="3" y="4"/>
                    </a:cubicBezTo>
                    <a:cubicBezTo>
                      <a:pt x="4" y="5"/>
                      <a:pt x="5" y="6"/>
                      <a:pt x="6" y="6"/>
                    </a:cubicBezTo>
                    <a:cubicBezTo>
                      <a:pt x="6" y="4"/>
                      <a:pt x="4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Freeform 5192"/>
              <p:cNvSpPr/>
              <p:nvPr/>
            </p:nvSpPr>
            <p:spPr>
              <a:xfrm>
                <a:off x="10785600" y="299412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5" y="3"/>
                    </a:moveTo>
                    <a:cubicBezTo>
                      <a:pt x="4" y="2"/>
                      <a:pt x="6" y="1"/>
                      <a:pt x="4" y="1"/>
                    </a:cubicBezTo>
                    <a:cubicBezTo>
                      <a:pt x="3" y="4"/>
                      <a:pt x="2" y="0"/>
                      <a:pt x="0" y="2"/>
                    </a:cubicBezTo>
                    <a:cubicBezTo>
                      <a:pt x="2" y="2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Freeform 5193"/>
              <p:cNvSpPr/>
              <p:nvPr/>
            </p:nvSpPr>
            <p:spPr>
              <a:xfrm>
                <a:off x="10628280" y="298944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cubicBezTo>
                      <a:pt x="1" y="0"/>
                      <a:pt x="2" y="2"/>
                      <a:pt x="0" y="2"/>
                    </a:cubicBezTo>
                    <a:cubicBezTo>
                      <a:pt x="1" y="2"/>
                      <a:pt x="0" y="3"/>
                      <a:pt x="1" y="3"/>
                    </a:cubicBezTo>
                    <a:cubicBezTo>
                      <a:pt x="4" y="2"/>
                      <a:pt x="0" y="6"/>
                      <a:pt x="4" y="4"/>
                    </a:cubicBezTo>
                    <a:cubicBezTo>
                      <a:pt x="4" y="6"/>
                      <a:pt x="4" y="7"/>
                      <a:pt x="5" y="7"/>
                    </a:cubicBezTo>
                    <a:cubicBezTo>
                      <a:pt x="5" y="5"/>
                      <a:pt x="5" y="0"/>
                      <a:pt x="3" y="2"/>
                    </a:cubicBezTo>
                    <a:cubicBezTo>
                      <a:pt x="1" y="2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Freeform 5194"/>
              <p:cNvSpPr/>
              <p:nvPr/>
            </p:nvSpPr>
            <p:spPr>
              <a:xfrm>
                <a:off x="10895040" y="31179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5195"/>
              <p:cNvSpPr/>
              <p:nvPr/>
            </p:nvSpPr>
            <p:spPr>
              <a:xfrm>
                <a:off x="10895040" y="31100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5196"/>
              <p:cNvSpPr/>
              <p:nvPr/>
            </p:nvSpPr>
            <p:spPr>
              <a:xfrm>
                <a:off x="10854000" y="30877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2"/>
                    </a:move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0" y="2"/>
                      <a:pt x="3" y="5"/>
                      <a:pt x="1" y="4"/>
                    </a:cubicBezTo>
                    <a:cubicBezTo>
                      <a:pt x="2" y="5"/>
                      <a:pt x="3" y="6"/>
                      <a:pt x="4" y="6"/>
                    </a:cubicBezTo>
                    <a:cubicBezTo>
                      <a:pt x="4" y="5"/>
                      <a:pt x="4" y="5"/>
                      <a:pt x="3" y="5"/>
                    </a:cubicBezTo>
                    <a:cubicBezTo>
                      <a:pt x="4" y="4"/>
                      <a:pt x="4" y="4"/>
                      <a:pt x="5" y="4"/>
                    </a:cubicBezTo>
                    <a:cubicBezTo>
                      <a:pt x="6" y="4"/>
                      <a:pt x="6" y="4"/>
                      <a:pt x="8" y="5"/>
                    </a:cubicBezTo>
                    <a:cubicBezTo>
                      <a:pt x="7" y="4"/>
                      <a:pt x="7" y="3"/>
                      <a:pt x="7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7" y="1"/>
                      <a:pt x="4" y="0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3"/>
                      <a:pt x="3" y="0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Freeform 5197"/>
              <p:cNvSpPr/>
              <p:nvPr/>
            </p:nvSpPr>
            <p:spPr>
              <a:xfrm>
                <a:off x="10846080" y="3057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cubicBezTo>
                      <a:pt x="3" y="3"/>
                      <a:pt x="1" y="0"/>
                      <a:pt x="0" y="0"/>
                    </a:cubicBezTo>
                    <a:cubicBezTo>
                      <a:pt x="0" y="2"/>
                      <a:pt x="1" y="5"/>
                      <a:pt x="4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5198"/>
              <p:cNvSpPr/>
              <p:nvPr/>
            </p:nvSpPr>
            <p:spPr>
              <a:xfrm>
                <a:off x="10875960" y="30956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2"/>
                    </a:moveTo>
                    <a:cubicBezTo>
                      <a:pt x="3" y="2"/>
                      <a:pt x="3" y="1"/>
                      <a:pt x="4" y="1"/>
                    </a:cubicBezTo>
                    <a:cubicBezTo>
                      <a:pt x="3" y="2"/>
                      <a:pt x="7" y="4"/>
                      <a:pt x="7" y="2"/>
                    </a:cubicBezTo>
                    <a:cubicBezTo>
                      <a:pt x="7" y="1"/>
                      <a:pt x="5" y="1"/>
                      <a:pt x="4" y="0"/>
                    </a:cubicBezTo>
                    <a:cubicBezTo>
                      <a:pt x="4" y="2"/>
                      <a:pt x="1" y="0"/>
                      <a:pt x="0" y="1"/>
                    </a:cubicBezTo>
                    <a:cubicBezTo>
                      <a:pt x="1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5199"/>
              <p:cNvSpPr/>
              <p:nvPr/>
            </p:nvSpPr>
            <p:spPr>
              <a:xfrm>
                <a:off x="10834920" y="3057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4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0" y="2"/>
                      <a:pt x="1" y="5"/>
                      <a:pt x="4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5200"/>
              <p:cNvSpPr/>
              <p:nvPr/>
            </p:nvSpPr>
            <p:spPr>
              <a:xfrm>
                <a:off x="10807920" y="30272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cubicBezTo>
                      <a:pt x="1" y="3"/>
                      <a:pt x="3" y="6"/>
                      <a:pt x="5" y="6"/>
                    </a:cubicBezTo>
                    <a:cubicBezTo>
                      <a:pt x="4" y="4"/>
                      <a:pt x="4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5201"/>
              <p:cNvSpPr/>
              <p:nvPr/>
            </p:nvSpPr>
            <p:spPr>
              <a:xfrm>
                <a:off x="10812600" y="30020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1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5202"/>
              <p:cNvSpPr/>
              <p:nvPr/>
            </p:nvSpPr>
            <p:spPr>
              <a:xfrm>
                <a:off x="10771200" y="2997360"/>
                <a:ext cx="28800" cy="298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1"/>
                    </a:moveTo>
                    <a:cubicBezTo>
                      <a:pt x="3" y="0"/>
                      <a:pt x="0" y="1"/>
                      <a:pt x="1" y="2"/>
                    </a:cubicBezTo>
                    <a:cubicBezTo>
                      <a:pt x="2" y="1"/>
                      <a:pt x="3" y="3"/>
                      <a:pt x="4" y="2"/>
                    </a:cubicBezTo>
                    <a:cubicBezTo>
                      <a:pt x="3" y="3"/>
                      <a:pt x="6" y="3"/>
                      <a:pt x="4" y="4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6" y="5"/>
                      <a:pt x="8" y="8"/>
                      <a:pt x="8" y="7"/>
                    </a:cubicBezTo>
                    <a:cubicBezTo>
                      <a:pt x="8" y="6"/>
                      <a:pt x="6" y="5"/>
                      <a:pt x="8" y="3"/>
                    </a:cubicBezTo>
                    <a:cubicBezTo>
                      <a:pt x="5" y="3"/>
                      <a:pt x="4" y="2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5203"/>
              <p:cNvSpPr/>
              <p:nvPr/>
            </p:nvSpPr>
            <p:spPr>
              <a:xfrm>
                <a:off x="11096640" y="3411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4"/>
                    </a:moveTo>
                    <a:cubicBezTo>
                      <a:pt x="3" y="5"/>
                      <a:pt x="2" y="3"/>
                      <a:pt x="3" y="3"/>
                    </a:cubicBezTo>
                    <a:cubicBezTo>
                      <a:pt x="4" y="2"/>
                      <a:pt x="3" y="0"/>
                      <a:pt x="2" y="1"/>
                    </a:cubicBezTo>
                    <a:cubicBezTo>
                      <a:pt x="4" y="3"/>
                      <a:pt x="0" y="2"/>
                      <a:pt x="1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5204"/>
              <p:cNvSpPr/>
              <p:nvPr/>
            </p:nvSpPr>
            <p:spPr>
              <a:xfrm>
                <a:off x="10950840" y="311004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0"/>
                    </a:moveTo>
                    <a:cubicBezTo>
                      <a:pt x="0" y="2"/>
                      <a:pt x="4" y="1"/>
                      <a:pt x="3" y="4"/>
                    </a:cubicBezTo>
                    <a:cubicBezTo>
                      <a:pt x="5" y="4"/>
                      <a:pt x="6" y="4"/>
                      <a:pt x="7" y="3"/>
                    </a:cubicBezTo>
                    <a:cubicBezTo>
                      <a:pt x="5" y="2"/>
                      <a:pt x="5" y="1"/>
                      <a:pt x="4" y="0"/>
                    </a:cubicBezTo>
                    <a:cubicBezTo>
                      <a:pt x="3" y="1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5205"/>
              <p:cNvSpPr/>
              <p:nvPr/>
            </p:nvSpPr>
            <p:spPr>
              <a:xfrm>
                <a:off x="10692000" y="29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cubicBezTo>
                      <a:pt x="3" y="1"/>
                      <a:pt x="4" y="2"/>
                      <a:pt x="4" y="2"/>
                    </a:cubicBezTo>
                    <a:cubicBezTo>
                      <a:pt x="3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3"/>
                    </a:cubicBezTo>
                    <a:cubicBezTo>
                      <a:pt x="3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5206"/>
              <p:cNvSpPr/>
              <p:nvPr/>
            </p:nvSpPr>
            <p:spPr>
              <a:xfrm>
                <a:off x="10722240" y="296388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2" y="2"/>
                      <a:pt x="2" y="0"/>
                      <a:pt x="0" y="0"/>
                    </a:cubicBezTo>
                    <a:cubicBezTo>
                      <a:pt x="1" y="1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5207"/>
              <p:cNvSpPr/>
              <p:nvPr/>
            </p:nvSpPr>
            <p:spPr>
              <a:xfrm>
                <a:off x="10829880" y="30085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1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1" y="3"/>
                      <a:pt x="2" y="3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2" y="3"/>
                      <a:pt x="1" y="3"/>
                      <a:pt x="2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5208"/>
              <p:cNvSpPr/>
              <p:nvPr/>
            </p:nvSpPr>
            <p:spPr>
              <a:xfrm>
                <a:off x="10812600" y="3087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2" y="1"/>
                      <a:pt x="3" y="1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5209"/>
              <p:cNvSpPr/>
              <p:nvPr/>
            </p:nvSpPr>
            <p:spPr>
              <a:xfrm>
                <a:off x="10804680" y="307332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2"/>
                      <a:pt x="2" y="2"/>
                      <a:pt x="0" y="2"/>
                    </a:cubicBezTo>
                    <a:cubicBezTo>
                      <a:pt x="0" y="3"/>
                      <a:pt x="1" y="2"/>
                      <a:pt x="1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5210"/>
              <p:cNvSpPr/>
              <p:nvPr/>
            </p:nvSpPr>
            <p:spPr>
              <a:xfrm>
                <a:off x="10854000" y="308448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8" y="10"/>
                    </a:moveTo>
                    <a:cubicBezTo>
                      <a:pt x="10" y="7"/>
                      <a:pt x="15" y="6"/>
                      <a:pt x="13" y="2"/>
                    </a:cubicBezTo>
                    <a:cubicBezTo>
                      <a:pt x="12" y="2"/>
                      <a:pt x="13" y="4"/>
                      <a:pt x="13" y="4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3"/>
                      <a:pt x="13" y="2"/>
                      <a:pt x="11" y="3"/>
                    </a:cubicBezTo>
                    <a:cubicBezTo>
                      <a:pt x="11" y="2"/>
                      <a:pt x="11" y="1"/>
                      <a:pt x="12" y="1"/>
                    </a:cubicBezTo>
                    <a:cubicBezTo>
                      <a:pt x="11" y="0"/>
                      <a:pt x="10" y="1"/>
                      <a:pt x="11" y="1"/>
                    </a:cubicBezTo>
                    <a:cubicBezTo>
                      <a:pt x="10" y="1"/>
                      <a:pt x="10" y="0"/>
                      <a:pt x="9" y="0"/>
                    </a:cubicBezTo>
                    <a:cubicBezTo>
                      <a:pt x="10" y="2"/>
                      <a:pt x="7" y="2"/>
                      <a:pt x="8" y="3"/>
                    </a:cubicBezTo>
                    <a:cubicBezTo>
                      <a:pt x="7" y="3"/>
                      <a:pt x="7" y="2"/>
                      <a:pt x="6" y="2"/>
                    </a:cubicBezTo>
                    <a:cubicBezTo>
                      <a:pt x="6" y="1"/>
                      <a:pt x="8" y="1"/>
                      <a:pt x="8" y="1"/>
                    </a:cubicBezTo>
                    <a:cubicBezTo>
                      <a:pt x="6" y="0"/>
                      <a:pt x="5" y="1"/>
                      <a:pt x="5" y="2"/>
                    </a:cubicBezTo>
                    <a:cubicBezTo>
                      <a:pt x="5" y="3"/>
                      <a:pt x="5" y="3"/>
                      <a:pt x="6" y="4"/>
                    </a:cubicBezTo>
                    <a:cubicBezTo>
                      <a:pt x="4" y="4"/>
                      <a:pt x="2" y="4"/>
                      <a:pt x="1" y="4"/>
                    </a:cubicBezTo>
                    <a:cubicBezTo>
                      <a:pt x="0" y="5"/>
                      <a:pt x="2" y="7"/>
                      <a:pt x="3" y="7"/>
                    </a:cubicBezTo>
                    <a:cubicBezTo>
                      <a:pt x="2" y="7"/>
                      <a:pt x="2" y="8"/>
                      <a:pt x="2" y="10"/>
                    </a:cubicBezTo>
                    <a:cubicBezTo>
                      <a:pt x="4" y="9"/>
                      <a:pt x="4" y="10"/>
                      <a:pt x="6" y="10"/>
                    </a:cubicBezTo>
                    <a:cubicBezTo>
                      <a:pt x="6" y="8"/>
                      <a:pt x="5" y="9"/>
                      <a:pt x="5" y="8"/>
                    </a:cubicBezTo>
                    <a:cubicBezTo>
                      <a:pt x="7" y="7"/>
                      <a:pt x="5" y="8"/>
                      <a:pt x="6" y="9"/>
                    </a:cubicBezTo>
                    <a:cubicBezTo>
                      <a:pt x="7" y="8"/>
                      <a:pt x="6" y="8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7" y="5"/>
                      <a:pt x="8" y="6"/>
                      <a:pt x="9" y="6"/>
                    </a:cubicBezTo>
                    <a:cubicBezTo>
                      <a:pt x="10" y="4"/>
                      <a:pt x="9" y="5"/>
                      <a:pt x="8" y="4"/>
                    </a:cubicBezTo>
                    <a:cubicBezTo>
                      <a:pt x="10" y="5"/>
                      <a:pt x="10" y="4"/>
                      <a:pt x="11" y="4"/>
                    </a:cubicBezTo>
                    <a:cubicBezTo>
                      <a:pt x="10" y="5"/>
                      <a:pt x="10" y="7"/>
                      <a:pt x="7" y="8"/>
                    </a:cubicBezTo>
                    <a:cubicBezTo>
                      <a:pt x="9" y="8"/>
                      <a:pt x="7" y="9"/>
                      <a:pt x="8" y="1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5211"/>
              <p:cNvSpPr/>
              <p:nvPr/>
            </p:nvSpPr>
            <p:spPr>
              <a:xfrm>
                <a:off x="10774440" y="301932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cubicBezTo>
                      <a:pt x="3" y="1"/>
                      <a:pt x="2" y="2"/>
                      <a:pt x="2" y="1"/>
                    </a:cubicBezTo>
                    <a:cubicBezTo>
                      <a:pt x="0" y="0"/>
                      <a:pt x="2" y="2"/>
                      <a:pt x="0" y="2"/>
                    </a:cubicBezTo>
                    <a:cubicBezTo>
                      <a:pt x="1" y="4"/>
                      <a:pt x="4" y="1"/>
                      <a:pt x="3" y="3"/>
                    </a:cubicBezTo>
                    <a:cubicBezTo>
                      <a:pt x="4" y="4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5212"/>
              <p:cNvSpPr/>
              <p:nvPr/>
            </p:nvSpPr>
            <p:spPr>
              <a:xfrm>
                <a:off x="10782360" y="2978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1" y="4"/>
                      <a:pt x="2" y="1"/>
                      <a:pt x="2" y="1"/>
                    </a:cubicBezTo>
                    <a:cubicBezTo>
                      <a:pt x="3" y="1"/>
                      <a:pt x="3" y="2"/>
                      <a:pt x="2" y="2"/>
                    </a:cubicBezTo>
                    <a:cubicBezTo>
                      <a:pt x="4" y="4"/>
                      <a:pt x="3" y="1"/>
                      <a:pt x="4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5213"/>
              <p:cNvSpPr/>
              <p:nvPr/>
            </p:nvSpPr>
            <p:spPr>
              <a:xfrm>
                <a:off x="10758600" y="30132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2"/>
                    </a:moveTo>
                    <a:cubicBezTo>
                      <a:pt x="3" y="0"/>
                      <a:pt x="2" y="4"/>
                      <a:pt x="1" y="2"/>
                    </a:cubicBezTo>
                    <a:cubicBezTo>
                      <a:pt x="0" y="3"/>
                      <a:pt x="2" y="4"/>
                      <a:pt x="1" y="5"/>
                    </a:cubicBezTo>
                    <a:cubicBezTo>
                      <a:pt x="3" y="6"/>
                      <a:pt x="3" y="2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5214"/>
              <p:cNvSpPr/>
              <p:nvPr/>
            </p:nvSpPr>
            <p:spPr>
              <a:xfrm>
                <a:off x="11134800" y="3483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1"/>
                      <a:pt x="1" y="2"/>
                      <a:pt x="2" y="1"/>
                    </a:cubicBezTo>
                    <a:cubicBezTo>
                      <a:pt x="1" y="0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3"/>
                      <a:pt x="3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5215"/>
              <p:cNvSpPr/>
              <p:nvPr/>
            </p:nvSpPr>
            <p:spPr>
              <a:xfrm>
                <a:off x="11104560" y="344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1"/>
                    </a:moveTo>
                    <a:cubicBezTo>
                      <a:pt x="0" y="1"/>
                      <a:pt x="2" y="2"/>
                      <a:pt x="2" y="3"/>
                    </a:cubicBezTo>
                    <a:cubicBezTo>
                      <a:pt x="3" y="2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5216"/>
              <p:cNvSpPr/>
              <p:nvPr/>
            </p:nvSpPr>
            <p:spPr>
              <a:xfrm>
                <a:off x="10687320" y="294804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6" y="3"/>
                    </a:moveTo>
                    <a:cubicBezTo>
                      <a:pt x="5" y="4"/>
                      <a:pt x="3" y="2"/>
                      <a:pt x="3" y="4"/>
                    </a:cubicBezTo>
                    <a:cubicBezTo>
                      <a:pt x="5" y="4"/>
                      <a:pt x="7" y="4"/>
                      <a:pt x="9" y="5"/>
                    </a:cubicBezTo>
                    <a:cubicBezTo>
                      <a:pt x="10" y="4"/>
                      <a:pt x="9" y="3"/>
                      <a:pt x="11" y="4"/>
                    </a:cubicBezTo>
                    <a:cubicBezTo>
                      <a:pt x="11" y="2"/>
                      <a:pt x="7" y="1"/>
                      <a:pt x="5" y="1"/>
                    </a:cubicBezTo>
                    <a:cubicBezTo>
                      <a:pt x="5" y="0"/>
                      <a:pt x="7" y="1"/>
                      <a:pt x="7" y="0"/>
                    </a:cubicBezTo>
                    <a:cubicBezTo>
                      <a:pt x="5" y="0"/>
                      <a:pt x="2" y="0"/>
                      <a:pt x="0" y="0"/>
                    </a:cubicBezTo>
                    <a:cubicBezTo>
                      <a:pt x="2" y="1"/>
                      <a:pt x="3" y="1"/>
                      <a:pt x="6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5217"/>
              <p:cNvSpPr/>
              <p:nvPr/>
            </p:nvSpPr>
            <p:spPr>
              <a:xfrm>
                <a:off x="10587240" y="294480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cubicBezTo>
                      <a:pt x="1" y="3"/>
                      <a:pt x="3" y="2"/>
                      <a:pt x="4" y="2"/>
                    </a:cubicBezTo>
                    <a:cubicBezTo>
                      <a:pt x="4" y="1"/>
                      <a:pt x="2" y="2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5218"/>
              <p:cNvSpPr/>
              <p:nvPr/>
            </p:nvSpPr>
            <p:spPr>
              <a:xfrm>
                <a:off x="10579320" y="29336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cubicBezTo>
                      <a:pt x="3" y="0"/>
                      <a:pt x="3" y="1"/>
                      <a:pt x="0" y="1"/>
                    </a:cubicBezTo>
                    <a:cubicBezTo>
                      <a:pt x="2" y="2"/>
                      <a:pt x="3" y="4"/>
                      <a:pt x="5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5219"/>
              <p:cNvSpPr/>
              <p:nvPr/>
            </p:nvSpPr>
            <p:spPr>
              <a:xfrm>
                <a:off x="10777680" y="310212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1"/>
                      <a:pt x="2" y="2"/>
                      <a:pt x="0" y="0"/>
                    </a:cubicBezTo>
                    <a:cubicBezTo>
                      <a:pt x="0" y="1"/>
                      <a:pt x="1" y="1"/>
                      <a:pt x="2" y="2"/>
                    </a:cubicBezTo>
                    <a:cubicBezTo>
                      <a:pt x="3" y="2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5220"/>
              <p:cNvSpPr/>
              <p:nvPr/>
            </p:nvSpPr>
            <p:spPr>
              <a:xfrm>
                <a:off x="10703160" y="298620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5221"/>
              <p:cNvSpPr/>
              <p:nvPr/>
            </p:nvSpPr>
            <p:spPr>
              <a:xfrm>
                <a:off x="10834920" y="30574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2"/>
                    </a:moveTo>
                    <a:cubicBezTo>
                      <a:pt x="6" y="1"/>
                      <a:pt x="5" y="1"/>
                      <a:pt x="5" y="0"/>
                    </a:cubicBezTo>
                    <a:cubicBezTo>
                      <a:pt x="3" y="2"/>
                      <a:pt x="2" y="3"/>
                      <a:pt x="0" y="4"/>
                    </a:cubicBezTo>
                    <a:cubicBezTo>
                      <a:pt x="2" y="8"/>
                      <a:pt x="3" y="3"/>
                      <a:pt x="5" y="6"/>
                    </a:cubicBezTo>
                    <a:cubicBezTo>
                      <a:pt x="7" y="5"/>
                      <a:pt x="3" y="3"/>
                      <a:pt x="6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5222"/>
              <p:cNvSpPr/>
              <p:nvPr/>
            </p:nvSpPr>
            <p:spPr>
              <a:xfrm>
                <a:off x="11120400" y="3489480"/>
                <a:ext cx="4140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8" y="5"/>
                    </a:moveTo>
                    <a:cubicBezTo>
                      <a:pt x="8" y="5"/>
                      <a:pt x="8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7" y="0"/>
                      <a:pt x="6" y="3"/>
                    </a:cubicBezTo>
                    <a:cubicBezTo>
                      <a:pt x="6" y="3"/>
                      <a:pt x="6" y="3"/>
                      <a:pt x="7" y="2"/>
                    </a:cubicBezTo>
                    <a:cubicBezTo>
                      <a:pt x="6" y="3"/>
                      <a:pt x="6" y="3"/>
                      <a:pt x="6" y="4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0" y="7"/>
                      <a:pt x="9" y="9"/>
                      <a:pt x="11" y="6"/>
                    </a:cubicBezTo>
                    <a:cubicBezTo>
                      <a:pt x="10" y="6"/>
                      <a:pt x="9" y="5"/>
                      <a:pt x="8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5223"/>
              <p:cNvSpPr/>
              <p:nvPr/>
            </p:nvSpPr>
            <p:spPr>
              <a:xfrm>
                <a:off x="10823760" y="303552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cubicBezTo>
                      <a:pt x="5" y="5"/>
                      <a:pt x="5" y="3"/>
                      <a:pt x="3" y="0"/>
                    </a:cubicBezTo>
                    <a:cubicBezTo>
                      <a:pt x="0" y="2"/>
                      <a:pt x="3" y="4"/>
                      <a:pt x="4" y="7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5224"/>
              <p:cNvSpPr/>
              <p:nvPr/>
            </p:nvSpPr>
            <p:spPr>
              <a:xfrm>
                <a:off x="10827000" y="30193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2" y="2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1" y="5"/>
                      <a:pt x="1" y="6"/>
                    </a:cubicBezTo>
                    <a:cubicBezTo>
                      <a:pt x="3" y="6"/>
                      <a:pt x="6" y="6"/>
                      <a:pt x="5" y="4"/>
                    </a:cubicBezTo>
                    <a:cubicBezTo>
                      <a:pt x="6" y="3"/>
                      <a:pt x="6" y="3"/>
                      <a:pt x="6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5225"/>
              <p:cNvSpPr/>
              <p:nvPr/>
            </p:nvSpPr>
            <p:spPr>
              <a:xfrm>
                <a:off x="10846080" y="3090960"/>
                <a:ext cx="18720" cy="158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cubicBezTo>
                      <a:pt x="5" y="3"/>
                      <a:pt x="5" y="1"/>
                      <a:pt x="2" y="0"/>
                    </a:cubicBezTo>
                    <a:cubicBezTo>
                      <a:pt x="0" y="1"/>
                      <a:pt x="2" y="2"/>
                      <a:pt x="0" y="3"/>
                    </a:cubicBezTo>
                    <a:cubicBezTo>
                      <a:pt x="1" y="4"/>
                      <a:pt x="2" y="3"/>
                      <a:pt x="3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5226"/>
              <p:cNvSpPr/>
              <p:nvPr/>
            </p:nvSpPr>
            <p:spPr>
              <a:xfrm>
                <a:off x="11123640" y="35244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6"/>
                    </a:moveTo>
                    <a:cubicBezTo>
                      <a:pt x="5" y="4"/>
                      <a:pt x="5" y="2"/>
                      <a:pt x="2" y="0"/>
                    </a:cubicBezTo>
                    <a:cubicBezTo>
                      <a:pt x="0" y="2"/>
                      <a:pt x="2" y="4"/>
                      <a:pt x="4" y="6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5227"/>
              <p:cNvSpPr/>
              <p:nvPr/>
            </p:nvSpPr>
            <p:spPr>
              <a:xfrm>
                <a:off x="10639440" y="2971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0"/>
                    </a:cubicBezTo>
                    <a:cubicBezTo>
                      <a:pt x="1" y="0"/>
                      <a:pt x="2" y="2"/>
                      <a:pt x="0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5228"/>
              <p:cNvSpPr/>
              <p:nvPr/>
            </p:nvSpPr>
            <p:spPr>
              <a:xfrm>
                <a:off x="10609200" y="294804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3"/>
                      <a:pt x="3" y="2"/>
                      <a:pt x="4" y="1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6" y="3"/>
                      <a:pt x="4" y="1"/>
                      <a:pt x="5" y="0"/>
                    </a:cubicBezTo>
                    <a:cubicBezTo>
                      <a:pt x="4" y="1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Freeform 5229"/>
              <p:cNvSpPr/>
              <p:nvPr/>
            </p:nvSpPr>
            <p:spPr>
              <a:xfrm>
                <a:off x="10623600" y="296712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3" y="2"/>
                      <a:pt x="2" y="0"/>
                      <a:pt x="0" y="1"/>
                    </a:cubicBezTo>
                    <a:cubicBezTo>
                      <a:pt x="1" y="1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Freeform 5230"/>
              <p:cNvSpPr/>
              <p:nvPr/>
            </p:nvSpPr>
            <p:spPr>
              <a:xfrm>
                <a:off x="10617480" y="295272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1"/>
                    </a:moveTo>
                    <a:cubicBezTo>
                      <a:pt x="0" y="2"/>
                      <a:pt x="3" y="2"/>
                      <a:pt x="2" y="3"/>
                    </a:cubicBezTo>
                    <a:cubicBezTo>
                      <a:pt x="3" y="4"/>
                      <a:pt x="2" y="1"/>
                      <a:pt x="5" y="2"/>
                    </a:cubicBezTo>
                    <a:cubicBezTo>
                      <a:pt x="4" y="0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Freeform 5231"/>
              <p:cNvSpPr/>
              <p:nvPr/>
            </p:nvSpPr>
            <p:spPr>
              <a:xfrm>
                <a:off x="10617480" y="29671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cubicBezTo>
                      <a:pt x="2" y="1"/>
                      <a:pt x="0" y="1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0" y="1"/>
                      <a:pt x="4" y="2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5232"/>
              <p:cNvSpPr/>
              <p:nvPr/>
            </p:nvSpPr>
            <p:spPr>
              <a:xfrm>
                <a:off x="10980720" y="32418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2" y="2"/>
                      <a:pt x="2" y="2"/>
                    </a:cubicBezTo>
                    <a:cubicBezTo>
                      <a:pt x="3" y="2"/>
                      <a:pt x="2" y="3"/>
                      <a:pt x="2" y="2"/>
                    </a:cubicBezTo>
                    <a:cubicBezTo>
                      <a:pt x="1" y="3"/>
                      <a:pt x="4" y="4"/>
                      <a:pt x="5" y="4"/>
                    </a:cubicBezTo>
                    <a:cubicBezTo>
                      <a:pt x="4" y="2"/>
                      <a:pt x="2" y="2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Freeform 5233"/>
              <p:cNvSpPr/>
              <p:nvPr/>
            </p:nvSpPr>
            <p:spPr>
              <a:xfrm>
                <a:off x="10906200" y="3200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cubicBezTo>
                      <a:pt x="3" y="0"/>
                      <a:pt x="3" y="4"/>
                      <a:pt x="5" y="3"/>
                    </a:cubicBezTo>
                    <a:cubicBezTo>
                      <a:pt x="3" y="1"/>
                      <a:pt x="2" y="0"/>
                      <a:pt x="0" y="0"/>
                    </a:cubicBezTo>
                    <a:cubicBezTo>
                      <a:pt x="0" y="1"/>
                      <a:pt x="1" y="1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5234"/>
              <p:cNvSpPr/>
              <p:nvPr/>
            </p:nvSpPr>
            <p:spPr>
              <a:xfrm>
                <a:off x="10823760" y="315108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cubicBezTo>
                      <a:pt x="2" y="3"/>
                      <a:pt x="3" y="2"/>
                      <a:pt x="2" y="5"/>
                    </a:cubicBezTo>
                    <a:cubicBezTo>
                      <a:pt x="4" y="5"/>
                      <a:pt x="5" y="6"/>
                      <a:pt x="7" y="6"/>
                    </a:cubicBezTo>
                    <a:cubicBezTo>
                      <a:pt x="5" y="4"/>
                      <a:pt x="2" y="0"/>
                      <a:pt x="0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5235"/>
              <p:cNvSpPr/>
              <p:nvPr/>
            </p:nvSpPr>
            <p:spPr>
              <a:xfrm>
                <a:off x="10961640" y="324180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1" y="0"/>
                    </a:moveTo>
                    <a:cubicBezTo>
                      <a:pt x="0" y="3"/>
                      <a:pt x="3" y="1"/>
                      <a:pt x="3" y="4"/>
                    </a:cubicBezTo>
                    <a:cubicBezTo>
                      <a:pt x="4" y="4"/>
                      <a:pt x="6" y="4"/>
                      <a:pt x="6" y="2"/>
                    </a:cubicBezTo>
                    <a:cubicBezTo>
                      <a:pt x="4" y="2"/>
                      <a:pt x="4" y="1"/>
                      <a:pt x="3" y="0"/>
                    </a:cubicBezTo>
                    <a:cubicBezTo>
                      <a:pt x="2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5236"/>
              <p:cNvSpPr/>
              <p:nvPr/>
            </p:nvSpPr>
            <p:spPr>
              <a:xfrm>
                <a:off x="10931760" y="326088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1" y="0"/>
                      <a:pt x="1" y="2"/>
                      <a:pt x="0" y="1"/>
                    </a:cubicBezTo>
                    <a:cubicBezTo>
                      <a:pt x="0" y="1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5237"/>
              <p:cNvSpPr/>
              <p:nvPr/>
            </p:nvSpPr>
            <p:spPr>
              <a:xfrm>
                <a:off x="10939680" y="3279960"/>
                <a:ext cx="288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5238"/>
              <p:cNvSpPr/>
              <p:nvPr/>
            </p:nvSpPr>
            <p:spPr>
              <a:xfrm>
                <a:off x="10834920" y="317808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3" y="0"/>
                    </a:moveTo>
                    <a:cubicBezTo>
                      <a:pt x="12" y="1"/>
                      <a:pt x="8" y="2"/>
                      <a:pt x="7" y="2"/>
                    </a:cubicBezTo>
                    <a:cubicBezTo>
                      <a:pt x="6" y="2"/>
                      <a:pt x="4" y="0"/>
                      <a:pt x="3" y="0"/>
                    </a:cubicBezTo>
                    <a:cubicBezTo>
                      <a:pt x="1" y="1"/>
                      <a:pt x="2" y="0"/>
                      <a:pt x="0" y="1"/>
                    </a:cubicBezTo>
                    <a:cubicBezTo>
                      <a:pt x="2" y="1"/>
                      <a:pt x="3" y="3"/>
                      <a:pt x="5" y="3"/>
                    </a:cubicBezTo>
                    <a:cubicBezTo>
                      <a:pt x="5" y="4"/>
                      <a:pt x="4" y="5"/>
                      <a:pt x="3" y="4"/>
                    </a:cubicBezTo>
                    <a:cubicBezTo>
                      <a:pt x="3" y="5"/>
                      <a:pt x="4" y="5"/>
                      <a:pt x="4" y="6"/>
                    </a:cubicBezTo>
                    <a:cubicBezTo>
                      <a:pt x="5" y="5"/>
                      <a:pt x="7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9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2" y="7"/>
                      <a:pt x="13" y="6"/>
                    </a:cubicBezTo>
                    <a:cubicBezTo>
                      <a:pt x="13" y="7"/>
                      <a:pt x="15" y="8"/>
                      <a:pt x="14" y="8"/>
                    </a:cubicBezTo>
                    <a:cubicBezTo>
                      <a:pt x="16" y="9"/>
                      <a:pt x="19" y="9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7"/>
                      <a:pt x="14" y="7"/>
                      <a:pt x="14" y="6"/>
                    </a:cubicBezTo>
                    <a:cubicBezTo>
                      <a:pt x="14" y="6"/>
                      <a:pt x="15" y="7"/>
                      <a:pt x="15" y="7"/>
                    </a:cubicBezTo>
                    <a:cubicBezTo>
                      <a:pt x="15" y="7"/>
                      <a:pt x="15" y="6"/>
                      <a:pt x="15" y="6"/>
                    </a:cubicBezTo>
                    <a:cubicBezTo>
                      <a:pt x="16" y="6"/>
                      <a:pt x="16" y="6"/>
                      <a:pt x="17" y="7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8" y="5"/>
                      <a:pt x="18" y="5"/>
                      <a:pt x="18" y="6"/>
                    </a:cubicBezTo>
                    <a:cubicBezTo>
                      <a:pt x="18" y="6"/>
                      <a:pt x="17" y="5"/>
                      <a:pt x="16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4"/>
                    </a:cubicBezTo>
                    <a:cubicBezTo>
                      <a:pt x="14" y="6"/>
                      <a:pt x="13" y="4"/>
                      <a:pt x="12" y="4"/>
                    </a:cubicBezTo>
                    <a:cubicBezTo>
                      <a:pt x="12" y="3"/>
                      <a:pt x="13" y="3"/>
                      <a:pt x="12" y="3"/>
                    </a:cubicBezTo>
                    <a:cubicBezTo>
                      <a:pt x="13" y="3"/>
                      <a:pt x="13" y="3"/>
                      <a:pt x="14" y="4"/>
                    </a:cubicBezTo>
                    <a:cubicBezTo>
                      <a:pt x="15" y="3"/>
                      <a:pt x="13" y="1"/>
                      <a:pt x="1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5239"/>
              <p:cNvSpPr/>
              <p:nvPr/>
            </p:nvSpPr>
            <p:spPr>
              <a:xfrm>
                <a:off x="10969560" y="32148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2"/>
                    </a:moveTo>
                    <a:cubicBezTo>
                      <a:pt x="1" y="0"/>
                      <a:pt x="1" y="3"/>
                      <a:pt x="0" y="3"/>
                    </a:cubicBezTo>
                    <a:cubicBezTo>
                      <a:pt x="1" y="4"/>
                      <a:pt x="3" y="2"/>
                      <a:pt x="4" y="4"/>
                    </a:cubicBezTo>
                    <a:cubicBezTo>
                      <a:pt x="4" y="4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3" y="3"/>
                      <a:pt x="1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5240"/>
              <p:cNvSpPr/>
              <p:nvPr/>
            </p:nvSpPr>
            <p:spPr>
              <a:xfrm>
                <a:off x="10950840" y="321948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2"/>
                      <a:pt x="3" y="1"/>
                      <a:pt x="4" y="1"/>
                    </a:cubicBezTo>
                    <a:cubicBezTo>
                      <a:pt x="4" y="2"/>
                      <a:pt x="4" y="2"/>
                      <a:pt x="5" y="3"/>
                    </a:cubicBezTo>
                    <a:cubicBezTo>
                      <a:pt x="6" y="2"/>
                      <a:pt x="4" y="1"/>
                      <a:pt x="5" y="0"/>
                    </a:cubicBezTo>
                    <a:cubicBezTo>
                      <a:pt x="4" y="0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5241"/>
              <p:cNvSpPr/>
              <p:nvPr/>
            </p:nvSpPr>
            <p:spPr>
              <a:xfrm>
                <a:off x="10510920" y="293364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1" y="1"/>
                      <a:pt x="2" y="2"/>
                    </a:cubicBezTo>
                    <a:cubicBezTo>
                      <a:pt x="3" y="2"/>
                      <a:pt x="2" y="1"/>
                      <a:pt x="3" y="1"/>
                    </a:cubicBezTo>
                    <a:cubicBezTo>
                      <a:pt x="4" y="3"/>
                      <a:pt x="3" y="4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5"/>
                      <a:pt x="1" y="5"/>
                    </a:cubicBezTo>
                    <a:cubicBezTo>
                      <a:pt x="1" y="5"/>
                      <a:pt x="0" y="6"/>
                      <a:pt x="1" y="6"/>
                    </a:cubicBezTo>
                    <a:cubicBezTo>
                      <a:pt x="3" y="5"/>
                      <a:pt x="3" y="7"/>
                      <a:pt x="2" y="8"/>
                    </a:cubicBezTo>
                    <a:cubicBezTo>
                      <a:pt x="2" y="8"/>
                      <a:pt x="3" y="8"/>
                      <a:pt x="5" y="9"/>
                    </a:cubicBezTo>
                    <a:cubicBezTo>
                      <a:pt x="4" y="8"/>
                      <a:pt x="3" y="6"/>
                      <a:pt x="4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4" y="3"/>
                      <a:pt x="4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4"/>
                      <a:pt x="8" y="4"/>
                      <a:pt x="9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1" y="5"/>
                      <a:pt x="9" y="3"/>
                      <a:pt x="8" y="2"/>
                    </a:cubicBezTo>
                    <a:cubicBezTo>
                      <a:pt x="8" y="2"/>
                      <a:pt x="8" y="2"/>
                      <a:pt x="8" y="1"/>
                    </a:cubicBezTo>
                    <a:cubicBezTo>
                      <a:pt x="5" y="2"/>
                      <a:pt x="4" y="0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5242"/>
              <p:cNvSpPr/>
              <p:nvPr/>
            </p:nvSpPr>
            <p:spPr>
              <a:xfrm>
                <a:off x="10980720" y="32338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2" y="1"/>
                      <a:pt x="0" y="2"/>
                    </a:cubicBezTo>
                    <a:cubicBezTo>
                      <a:pt x="0" y="2"/>
                      <a:pt x="1" y="2"/>
                      <a:pt x="0" y="2"/>
                    </a:cubicBezTo>
                    <a:cubicBezTo>
                      <a:pt x="2" y="3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5243"/>
              <p:cNvSpPr/>
              <p:nvPr/>
            </p:nvSpPr>
            <p:spPr>
              <a:xfrm>
                <a:off x="10530000" y="293688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0" y="5"/>
                    </a:moveTo>
                    <a:cubicBezTo>
                      <a:pt x="1" y="5"/>
                      <a:pt x="2" y="4"/>
                      <a:pt x="3" y="5"/>
                    </a:cubicBezTo>
                    <a:cubicBezTo>
                      <a:pt x="3" y="5"/>
                      <a:pt x="2" y="4"/>
                      <a:pt x="1" y="4"/>
                    </a:cubicBezTo>
                    <a:cubicBezTo>
                      <a:pt x="2" y="3"/>
                      <a:pt x="4" y="2"/>
                      <a:pt x="5" y="4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4" y="5"/>
                      <a:pt x="6" y="5"/>
                      <a:pt x="7" y="4"/>
                    </a:cubicBezTo>
                    <a:cubicBezTo>
                      <a:pt x="5" y="4"/>
                      <a:pt x="6" y="1"/>
                      <a:pt x="4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7" y="3"/>
                      <a:pt x="7" y="2"/>
                      <a:pt x="10" y="4"/>
                    </a:cubicBezTo>
                    <a:cubicBezTo>
                      <a:pt x="11" y="3"/>
                      <a:pt x="12" y="2"/>
                      <a:pt x="10" y="1"/>
                    </a:cubicBezTo>
                    <a:cubicBezTo>
                      <a:pt x="7" y="1"/>
                      <a:pt x="4" y="0"/>
                      <a:pt x="0" y="1"/>
                    </a:cubicBezTo>
                    <a:cubicBezTo>
                      <a:pt x="0" y="2"/>
                      <a:pt x="2" y="3"/>
                      <a:pt x="0" y="5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5244"/>
              <p:cNvSpPr/>
              <p:nvPr/>
            </p:nvSpPr>
            <p:spPr>
              <a:xfrm>
                <a:off x="10834920" y="3156120"/>
                <a:ext cx="25200" cy="298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1"/>
                    </a:moveTo>
                    <a:cubicBezTo>
                      <a:pt x="4" y="1"/>
                      <a:pt x="3" y="1"/>
                      <a:pt x="3" y="0"/>
                    </a:cubicBezTo>
                    <a:cubicBezTo>
                      <a:pt x="2" y="2"/>
                      <a:pt x="1" y="4"/>
                      <a:pt x="0" y="6"/>
                    </a:cubicBezTo>
                    <a:cubicBezTo>
                      <a:pt x="2" y="8"/>
                      <a:pt x="2" y="4"/>
                      <a:pt x="4" y="6"/>
                    </a:cubicBezTo>
                    <a:cubicBezTo>
                      <a:pt x="7" y="4"/>
                      <a:pt x="2" y="3"/>
                      <a:pt x="5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5245"/>
              <p:cNvSpPr/>
              <p:nvPr/>
            </p:nvSpPr>
            <p:spPr>
              <a:xfrm>
                <a:off x="10925280" y="31813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2"/>
                    </a:moveTo>
                    <a:cubicBezTo>
                      <a:pt x="2" y="3"/>
                      <a:pt x="1" y="2"/>
                      <a:pt x="0" y="3"/>
                    </a:cubicBezTo>
                    <a:cubicBezTo>
                      <a:pt x="0" y="4"/>
                      <a:pt x="2" y="3"/>
                      <a:pt x="2" y="4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5246"/>
              <p:cNvSpPr/>
              <p:nvPr/>
            </p:nvSpPr>
            <p:spPr>
              <a:xfrm>
                <a:off x="10936440" y="321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5247"/>
              <p:cNvSpPr/>
              <p:nvPr/>
            </p:nvSpPr>
            <p:spPr>
              <a:xfrm>
                <a:off x="10931760" y="3227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3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1" y="0"/>
                      <a:pt x="1" y="2"/>
                      <a:pt x="0" y="1"/>
                    </a:cubicBezTo>
                    <a:cubicBezTo>
                      <a:pt x="0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5248"/>
              <p:cNvSpPr/>
              <p:nvPr/>
            </p:nvSpPr>
            <p:spPr>
              <a:xfrm>
                <a:off x="10834920" y="3143160"/>
                <a:ext cx="74520" cy="3492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3" y="0"/>
                    </a:moveTo>
                    <a:cubicBezTo>
                      <a:pt x="12" y="1"/>
                      <a:pt x="8" y="2"/>
                      <a:pt x="7" y="2"/>
                    </a:cubicBezTo>
                    <a:cubicBezTo>
                      <a:pt x="6" y="2"/>
                      <a:pt x="5" y="0"/>
                      <a:pt x="3" y="0"/>
                    </a:cubicBezTo>
                    <a:cubicBezTo>
                      <a:pt x="2" y="1"/>
                      <a:pt x="2" y="0"/>
                      <a:pt x="0" y="1"/>
                    </a:cubicBezTo>
                    <a:cubicBezTo>
                      <a:pt x="2" y="1"/>
                      <a:pt x="3" y="3"/>
                      <a:pt x="5" y="3"/>
                    </a:cubicBezTo>
                    <a:cubicBezTo>
                      <a:pt x="5" y="4"/>
                      <a:pt x="4" y="5"/>
                      <a:pt x="3" y="4"/>
                    </a:cubicBezTo>
                    <a:cubicBezTo>
                      <a:pt x="3" y="5"/>
                      <a:pt x="4" y="5"/>
                      <a:pt x="4" y="6"/>
                    </a:cubicBezTo>
                    <a:cubicBezTo>
                      <a:pt x="6" y="5"/>
                      <a:pt x="7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5"/>
                      <a:pt x="9" y="5"/>
                      <a:pt x="9" y="6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2" y="7"/>
                      <a:pt x="13" y="6"/>
                    </a:cubicBezTo>
                    <a:cubicBezTo>
                      <a:pt x="13" y="7"/>
                      <a:pt x="15" y="8"/>
                      <a:pt x="14" y="8"/>
                    </a:cubicBezTo>
                    <a:cubicBezTo>
                      <a:pt x="16" y="9"/>
                      <a:pt x="19" y="9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6"/>
                      <a:pt x="14" y="7"/>
                      <a:pt x="14" y="6"/>
                    </a:cubicBezTo>
                    <a:cubicBezTo>
                      <a:pt x="14" y="6"/>
                      <a:pt x="15" y="7"/>
                      <a:pt x="15" y="7"/>
                    </a:cubicBezTo>
                    <a:cubicBezTo>
                      <a:pt x="15" y="7"/>
                      <a:pt x="16" y="6"/>
                      <a:pt x="16" y="6"/>
                    </a:cubicBezTo>
                    <a:cubicBezTo>
                      <a:pt x="16" y="6"/>
                      <a:pt x="16" y="6"/>
                      <a:pt x="17" y="7"/>
                    </a:cubicBezTo>
                    <a:cubicBezTo>
                      <a:pt x="16" y="5"/>
                      <a:pt x="18" y="6"/>
                      <a:pt x="19" y="6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8" y="5"/>
                      <a:pt x="18" y="5"/>
                      <a:pt x="18" y="6"/>
                    </a:cubicBezTo>
                    <a:cubicBezTo>
                      <a:pt x="18" y="6"/>
                      <a:pt x="17" y="5"/>
                      <a:pt x="16" y="5"/>
                    </a:cubicBezTo>
                    <a:cubicBezTo>
                      <a:pt x="16" y="5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4"/>
                    </a:cubicBezTo>
                    <a:cubicBezTo>
                      <a:pt x="14" y="5"/>
                      <a:pt x="13" y="4"/>
                      <a:pt x="12" y="4"/>
                    </a:cubicBezTo>
                    <a:cubicBezTo>
                      <a:pt x="12" y="4"/>
                      <a:pt x="13" y="3"/>
                      <a:pt x="12" y="3"/>
                    </a:cubicBezTo>
                    <a:cubicBezTo>
                      <a:pt x="13" y="3"/>
                      <a:pt x="13" y="3"/>
                      <a:pt x="14" y="4"/>
                    </a:cubicBezTo>
                    <a:cubicBezTo>
                      <a:pt x="15" y="3"/>
                      <a:pt x="13" y="1"/>
                      <a:pt x="1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5249"/>
              <p:cNvSpPr/>
              <p:nvPr/>
            </p:nvSpPr>
            <p:spPr>
              <a:xfrm>
                <a:off x="10920600" y="32385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1"/>
                    </a:moveTo>
                    <a:cubicBezTo>
                      <a:pt x="1" y="0"/>
                      <a:pt x="1" y="2"/>
                      <a:pt x="0" y="2"/>
                    </a:cubicBezTo>
                    <a:cubicBezTo>
                      <a:pt x="1" y="3"/>
                      <a:pt x="3" y="1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3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5250"/>
              <p:cNvSpPr/>
              <p:nvPr/>
            </p:nvSpPr>
            <p:spPr>
              <a:xfrm>
                <a:off x="10901520" y="323856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cubicBezTo>
                      <a:pt x="1" y="3"/>
                      <a:pt x="2" y="1"/>
                      <a:pt x="4" y="1"/>
                    </a:cubicBezTo>
                    <a:cubicBezTo>
                      <a:pt x="4" y="2"/>
                      <a:pt x="4" y="3"/>
                      <a:pt x="5" y="3"/>
                    </a:cubicBezTo>
                    <a:cubicBezTo>
                      <a:pt x="6" y="3"/>
                      <a:pt x="4" y="1"/>
                      <a:pt x="5" y="0"/>
                    </a:cubicBezTo>
                    <a:cubicBezTo>
                      <a:pt x="4" y="1"/>
                      <a:pt x="2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5251"/>
              <p:cNvSpPr/>
              <p:nvPr/>
            </p:nvSpPr>
            <p:spPr>
              <a:xfrm>
                <a:off x="10939680" y="3203640"/>
                <a:ext cx="792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5252"/>
              <p:cNvSpPr/>
              <p:nvPr/>
            </p:nvSpPr>
            <p:spPr>
              <a:xfrm>
                <a:off x="10988640" y="3219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1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5253"/>
              <p:cNvSpPr/>
              <p:nvPr/>
            </p:nvSpPr>
            <p:spPr>
              <a:xfrm>
                <a:off x="10939680" y="3249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0"/>
                      <a:pt x="2" y="0"/>
                      <a:pt x="2" y="0"/>
                    </a:cubicBezTo>
                    <a:cubicBezTo>
                      <a:pt x="0" y="0"/>
                      <a:pt x="2" y="2"/>
                      <a:pt x="1" y="2"/>
                    </a:cubicBezTo>
                    <a:cubicBezTo>
                      <a:pt x="2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5254"/>
              <p:cNvSpPr/>
              <p:nvPr/>
            </p:nvSpPr>
            <p:spPr>
              <a:xfrm>
                <a:off x="10856880" y="31622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1"/>
                    </a:moveTo>
                    <a:cubicBezTo>
                      <a:pt x="1" y="3"/>
                      <a:pt x="1" y="4"/>
                      <a:pt x="5" y="7"/>
                    </a:cubicBezTo>
                    <a:cubicBezTo>
                      <a:pt x="4" y="4"/>
                      <a:pt x="3" y="0"/>
                      <a:pt x="0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5255"/>
              <p:cNvSpPr/>
              <p:nvPr/>
            </p:nvSpPr>
            <p:spPr>
              <a:xfrm>
                <a:off x="10834920" y="31561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3"/>
                    </a:moveTo>
                    <a:cubicBezTo>
                      <a:pt x="5" y="2"/>
                      <a:pt x="4" y="2"/>
                      <a:pt x="4" y="1"/>
                    </a:cubicBezTo>
                    <a:cubicBezTo>
                      <a:pt x="3" y="0"/>
                      <a:pt x="0" y="1"/>
                      <a:pt x="2" y="1"/>
                    </a:cubicBezTo>
                    <a:cubicBezTo>
                      <a:pt x="4" y="0"/>
                      <a:pt x="2" y="3"/>
                      <a:pt x="4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5256"/>
              <p:cNvSpPr/>
              <p:nvPr/>
            </p:nvSpPr>
            <p:spPr>
              <a:xfrm>
                <a:off x="10917360" y="32558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2"/>
                    </a:moveTo>
                    <a:cubicBezTo>
                      <a:pt x="2" y="2"/>
                      <a:pt x="2" y="0"/>
                      <a:pt x="0" y="1"/>
                    </a:cubicBezTo>
                    <a:cubicBezTo>
                      <a:pt x="1" y="1"/>
                      <a:pt x="3" y="3"/>
                      <a:pt x="4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5257"/>
              <p:cNvSpPr/>
              <p:nvPr/>
            </p:nvSpPr>
            <p:spPr>
              <a:xfrm>
                <a:off x="10936440" y="32418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3" y="1"/>
                    </a:moveTo>
                    <a:cubicBezTo>
                      <a:pt x="1" y="0"/>
                      <a:pt x="2" y="3"/>
                      <a:pt x="0" y="2"/>
                    </a:cubicBezTo>
                    <a:cubicBezTo>
                      <a:pt x="2" y="3"/>
                      <a:pt x="4" y="7"/>
                      <a:pt x="4" y="9"/>
                    </a:cubicBezTo>
                    <a:cubicBezTo>
                      <a:pt x="5" y="9"/>
                      <a:pt x="6" y="7"/>
                      <a:pt x="8" y="8"/>
                    </a:cubicBezTo>
                    <a:cubicBezTo>
                      <a:pt x="9" y="9"/>
                      <a:pt x="6" y="6"/>
                      <a:pt x="6" y="5"/>
                    </a:cubicBezTo>
                    <a:cubicBezTo>
                      <a:pt x="7" y="5"/>
                      <a:pt x="7" y="8"/>
                      <a:pt x="9" y="7"/>
                    </a:cubicBezTo>
                    <a:cubicBezTo>
                      <a:pt x="7" y="6"/>
                      <a:pt x="6" y="4"/>
                      <a:pt x="6" y="2"/>
                    </a:cubicBezTo>
                    <a:cubicBezTo>
                      <a:pt x="5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5258"/>
              <p:cNvSpPr/>
              <p:nvPr/>
            </p:nvSpPr>
            <p:spPr>
              <a:xfrm>
                <a:off x="10950840" y="3227400"/>
                <a:ext cx="44280" cy="33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5" y="9"/>
                    </a:moveTo>
                    <a:cubicBezTo>
                      <a:pt x="6" y="9"/>
                      <a:pt x="6" y="7"/>
                      <a:pt x="6" y="7"/>
                    </a:cubicBezTo>
                    <a:cubicBezTo>
                      <a:pt x="7" y="8"/>
                      <a:pt x="8" y="9"/>
                      <a:pt x="8" y="8"/>
                    </a:cubicBezTo>
                    <a:cubicBezTo>
                      <a:pt x="7" y="8"/>
                      <a:pt x="8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6" y="5"/>
                      <a:pt x="8" y="5"/>
                      <a:pt x="9" y="7"/>
                    </a:cubicBezTo>
                    <a:cubicBezTo>
                      <a:pt x="10" y="6"/>
                      <a:pt x="9" y="6"/>
                      <a:pt x="9" y="5"/>
                    </a:cubicBezTo>
                    <a:cubicBezTo>
                      <a:pt x="10" y="5"/>
                      <a:pt x="10" y="5"/>
                      <a:pt x="11" y="6"/>
                    </a:cubicBezTo>
                    <a:cubicBezTo>
                      <a:pt x="11" y="5"/>
                      <a:pt x="8" y="2"/>
                      <a:pt x="11" y="4"/>
                    </a:cubicBezTo>
                    <a:cubicBezTo>
                      <a:pt x="12" y="3"/>
                      <a:pt x="9" y="2"/>
                      <a:pt x="9" y="3"/>
                    </a:cubicBezTo>
                    <a:cubicBezTo>
                      <a:pt x="8" y="2"/>
                      <a:pt x="9" y="1"/>
                      <a:pt x="10" y="1"/>
                    </a:cubicBezTo>
                    <a:cubicBezTo>
                      <a:pt x="10" y="0"/>
                      <a:pt x="6" y="2"/>
                      <a:pt x="6" y="3"/>
                    </a:cubicBezTo>
                    <a:cubicBezTo>
                      <a:pt x="6" y="3"/>
                      <a:pt x="4" y="2"/>
                      <a:pt x="4" y="2"/>
                    </a:cubicBezTo>
                    <a:cubicBezTo>
                      <a:pt x="2" y="2"/>
                      <a:pt x="1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5" y="6"/>
                      <a:pt x="4" y="8"/>
                      <a:pt x="5" y="9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5259"/>
              <p:cNvSpPr/>
              <p:nvPr/>
            </p:nvSpPr>
            <p:spPr>
              <a:xfrm>
                <a:off x="10909440" y="32418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1"/>
                    </a:moveTo>
                    <a:cubicBezTo>
                      <a:pt x="0" y="2"/>
                      <a:pt x="3" y="2"/>
                      <a:pt x="2" y="3"/>
                    </a:cubicBezTo>
                    <a:cubicBezTo>
                      <a:pt x="3" y="4"/>
                      <a:pt x="2" y="1"/>
                      <a:pt x="5" y="2"/>
                    </a:cubicBezTo>
                    <a:cubicBezTo>
                      <a:pt x="4" y="0"/>
                      <a:pt x="2" y="2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5260"/>
              <p:cNvSpPr/>
              <p:nvPr/>
            </p:nvSpPr>
            <p:spPr>
              <a:xfrm>
                <a:off x="10837800" y="317340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1" y="1"/>
                      <a:pt x="2" y="1"/>
                      <a:pt x="2" y="2"/>
                    </a:cubicBezTo>
                    <a:cubicBezTo>
                      <a:pt x="4" y="1"/>
                      <a:pt x="2" y="1"/>
                      <a:pt x="2" y="0"/>
                    </a:cubicBezTo>
                    <a:cubicBezTo>
                      <a:pt x="2" y="1"/>
                      <a:pt x="0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5261"/>
              <p:cNvSpPr/>
              <p:nvPr/>
            </p:nvSpPr>
            <p:spPr>
              <a:xfrm>
                <a:off x="10841040" y="31701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5262"/>
              <p:cNvSpPr/>
              <p:nvPr/>
            </p:nvSpPr>
            <p:spPr>
              <a:xfrm>
                <a:off x="10909440" y="3252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2"/>
                      <a:pt x="0" y="2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0" y="2"/>
                      <a:pt x="4" y="3"/>
                      <a:pt x="3" y="0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5263"/>
              <p:cNvSpPr/>
              <p:nvPr/>
            </p:nvSpPr>
            <p:spPr>
              <a:xfrm>
                <a:off x="10829880" y="315900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3"/>
                    </a:moveTo>
                    <a:cubicBezTo>
                      <a:pt x="3" y="1"/>
                      <a:pt x="5" y="2"/>
                      <a:pt x="6" y="2"/>
                    </a:cubicBezTo>
                    <a:cubicBezTo>
                      <a:pt x="7" y="2"/>
                      <a:pt x="0" y="0"/>
                      <a:pt x="3" y="3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5264"/>
              <p:cNvSpPr/>
              <p:nvPr/>
            </p:nvSpPr>
            <p:spPr>
              <a:xfrm>
                <a:off x="10936440" y="3214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cubicBezTo>
                      <a:pt x="0" y="2"/>
                      <a:pt x="2" y="1"/>
                      <a:pt x="4" y="1"/>
                    </a:cubicBezTo>
                    <a:cubicBezTo>
                      <a:pt x="2" y="0"/>
                      <a:pt x="0" y="0"/>
                      <a:pt x="0" y="2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5265"/>
              <p:cNvSpPr/>
              <p:nvPr/>
            </p:nvSpPr>
            <p:spPr>
              <a:xfrm>
                <a:off x="10931760" y="318924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3" y="0"/>
                      <a:pt x="3" y="0"/>
                      <a:pt x="3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2" y="0"/>
                      <a:pt x="2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4"/>
                      <a:pt x="2" y="4"/>
                      <a:pt x="1" y="4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6" y="6"/>
                      <a:pt x="6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8" y="6"/>
                      <a:pt x="8" y="6"/>
                    </a:cubicBezTo>
                    <a:cubicBezTo>
                      <a:pt x="9" y="5"/>
                      <a:pt x="5" y="5"/>
                      <a:pt x="4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2"/>
                      <a:pt x="6" y="3"/>
                      <a:pt x="7" y="1"/>
                    </a:cubicBezTo>
                    <a:close/>
                    <a:moveTo>
                      <a:pt x="2" y="4"/>
                    </a:moveTo>
                    <a:cubicBezTo>
                      <a:pt x="3" y="4"/>
                      <a:pt x="3" y="4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3a2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26" name="Freeform 5267"/>
            <p:cNvSpPr/>
            <p:nvPr/>
          </p:nvSpPr>
          <p:spPr>
            <a:xfrm>
              <a:off x="10845720" y="3173400"/>
              <a:ext cx="1872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1" y="2"/>
                    <a:pt x="2" y="4"/>
                    <a:pt x="3" y="5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4" y="2"/>
                    <a:pt x="2" y="0"/>
                    <a:pt x="0" y="2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7" name="Freeform 5268"/>
            <p:cNvSpPr/>
            <p:nvPr/>
          </p:nvSpPr>
          <p:spPr>
            <a:xfrm>
              <a:off x="10909440" y="3170160"/>
              <a:ext cx="41040" cy="33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3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3" y="5"/>
                  </a:cubicBezTo>
                  <a:cubicBezTo>
                    <a:pt x="2" y="5"/>
                    <a:pt x="2" y="4"/>
                    <a:pt x="3" y="4"/>
                  </a:cubicBezTo>
                  <a:cubicBezTo>
                    <a:pt x="2" y="2"/>
                    <a:pt x="1" y="6"/>
                    <a:pt x="2" y="4"/>
                  </a:cubicBezTo>
                  <a:cubicBezTo>
                    <a:pt x="0" y="3"/>
                    <a:pt x="1" y="5"/>
                    <a:pt x="1" y="5"/>
                  </a:cubicBezTo>
                  <a:cubicBezTo>
                    <a:pt x="1" y="5"/>
                    <a:pt x="2" y="5"/>
                    <a:pt x="3" y="6"/>
                  </a:cubicBezTo>
                  <a:cubicBezTo>
                    <a:pt x="2" y="6"/>
                    <a:pt x="2" y="7"/>
                    <a:pt x="1" y="7"/>
                  </a:cubicBezTo>
                  <a:cubicBezTo>
                    <a:pt x="2" y="8"/>
                    <a:pt x="3" y="8"/>
                    <a:pt x="4" y="9"/>
                  </a:cubicBezTo>
                  <a:cubicBezTo>
                    <a:pt x="5" y="8"/>
                    <a:pt x="5" y="8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2"/>
                    <a:pt x="11" y="1"/>
                    <a:pt x="9" y="0"/>
                  </a:cubicBezTo>
                  <a:cubicBezTo>
                    <a:pt x="8" y="1"/>
                    <a:pt x="7" y="2"/>
                    <a:pt x="6" y="3"/>
                  </a:cubicBezTo>
                  <a:cubicBezTo>
                    <a:pt x="6" y="3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8" name="Freeform 5269"/>
            <p:cNvSpPr/>
            <p:nvPr/>
          </p:nvSpPr>
          <p:spPr>
            <a:xfrm>
              <a:off x="10977480" y="3222360"/>
              <a:ext cx="1728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3" y="4"/>
                  </a:moveTo>
                  <a:cubicBezTo>
                    <a:pt x="5" y="3"/>
                    <a:pt x="5" y="1"/>
                    <a:pt x="2" y="0"/>
                  </a:cubicBezTo>
                  <a:cubicBezTo>
                    <a:pt x="0" y="1"/>
                    <a:pt x="2" y="2"/>
                    <a:pt x="0" y="4"/>
                  </a:cubicBezTo>
                  <a:cubicBezTo>
                    <a:pt x="1" y="4"/>
                    <a:pt x="2" y="3"/>
                    <a:pt x="3" y="4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5270"/>
            <p:cNvSpPr/>
            <p:nvPr/>
          </p:nvSpPr>
          <p:spPr>
            <a:xfrm>
              <a:off x="10912680" y="3238200"/>
              <a:ext cx="29880" cy="219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4"/>
                  </a:moveTo>
                  <a:cubicBezTo>
                    <a:pt x="7" y="3"/>
                    <a:pt x="7" y="3"/>
                    <a:pt x="6" y="2"/>
                  </a:cubicBezTo>
                  <a:cubicBezTo>
                    <a:pt x="5" y="2"/>
                    <a:pt x="5" y="1"/>
                    <a:pt x="4" y="0"/>
                  </a:cubicBezTo>
                  <a:cubicBezTo>
                    <a:pt x="3" y="1"/>
                    <a:pt x="1" y="2"/>
                    <a:pt x="0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4" y="3"/>
                    <a:pt x="6" y="6"/>
                    <a:pt x="8" y="4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5271"/>
            <p:cNvSpPr/>
            <p:nvPr/>
          </p:nvSpPr>
          <p:spPr>
            <a:xfrm>
              <a:off x="10953720" y="3208320"/>
              <a:ext cx="237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cubicBezTo>
                    <a:pt x="2" y="2"/>
                    <a:pt x="5" y="7"/>
                    <a:pt x="6" y="6"/>
                  </a:cubicBezTo>
                  <a:cubicBezTo>
                    <a:pt x="5" y="4"/>
                    <a:pt x="3" y="2"/>
                    <a:pt x="0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5272"/>
            <p:cNvSpPr/>
            <p:nvPr/>
          </p:nvSpPr>
          <p:spPr>
            <a:xfrm>
              <a:off x="10969560" y="3222360"/>
              <a:ext cx="1080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1" y="3"/>
                    <a:pt x="2" y="1"/>
                    <a:pt x="3" y="1"/>
                  </a:cubicBezTo>
                  <a:cubicBezTo>
                    <a:pt x="2" y="0"/>
                    <a:pt x="2" y="0"/>
                    <a:pt x="0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5273"/>
            <p:cNvSpPr/>
            <p:nvPr/>
          </p:nvSpPr>
          <p:spPr>
            <a:xfrm>
              <a:off x="10961640" y="3211200"/>
              <a:ext cx="15840" cy="10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3" y="0"/>
                  </a:moveTo>
                  <a:cubicBezTo>
                    <a:pt x="2" y="2"/>
                    <a:pt x="2" y="2"/>
                    <a:pt x="0" y="1"/>
                  </a:cubicBezTo>
                  <a:cubicBezTo>
                    <a:pt x="0" y="2"/>
                    <a:pt x="1" y="2"/>
                    <a:pt x="2" y="3"/>
                  </a:cubicBezTo>
                  <a:cubicBezTo>
                    <a:pt x="2" y="3"/>
                    <a:pt x="3" y="3"/>
                    <a:pt x="4" y="3"/>
                  </a:cubicBezTo>
                  <a:cubicBezTo>
                    <a:pt x="4" y="2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5274"/>
            <p:cNvSpPr/>
            <p:nvPr/>
          </p:nvSpPr>
          <p:spPr>
            <a:xfrm>
              <a:off x="10901520" y="3159000"/>
              <a:ext cx="56880" cy="489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0" y="9"/>
                  </a:moveTo>
                  <a:cubicBezTo>
                    <a:pt x="11" y="9"/>
                    <a:pt x="9" y="8"/>
                    <a:pt x="9" y="7"/>
                  </a:cubicBezTo>
                  <a:cubicBezTo>
                    <a:pt x="10" y="7"/>
                    <a:pt x="11" y="7"/>
                    <a:pt x="11" y="7"/>
                  </a:cubicBezTo>
                  <a:cubicBezTo>
                    <a:pt x="13" y="6"/>
                    <a:pt x="10" y="6"/>
                    <a:pt x="10" y="5"/>
                  </a:cubicBezTo>
                  <a:cubicBezTo>
                    <a:pt x="11" y="5"/>
                    <a:pt x="12" y="6"/>
                    <a:pt x="12" y="7"/>
                  </a:cubicBezTo>
                  <a:cubicBezTo>
                    <a:pt x="13" y="6"/>
                    <a:pt x="12" y="5"/>
                    <a:pt x="13" y="6"/>
                  </a:cubicBezTo>
                  <a:cubicBezTo>
                    <a:pt x="14" y="6"/>
                    <a:pt x="11" y="4"/>
                    <a:pt x="14" y="4"/>
                  </a:cubicBezTo>
                  <a:cubicBezTo>
                    <a:pt x="14" y="2"/>
                    <a:pt x="15" y="3"/>
                    <a:pt x="14" y="1"/>
                  </a:cubicBezTo>
                  <a:cubicBezTo>
                    <a:pt x="12" y="2"/>
                    <a:pt x="13" y="4"/>
                    <a:pt x="12" y="4"/>
                  </a:cubicBezTo>
                  <a:cubicBezTo>
                    <a:pt x="11" y="4"/>
                    <a:pt x="10" y="2"/>
                    <a:pt x="10" y="4"/>
                  </a:cubicBezTo>
                  <a:cubicBezTo>
                    <a:pt x="9" y="4"/>
                    <a:pt x="8" y="4"/>
                    <a:pt x="7" y="3"/>
                  </a:cubicBezTo>
                  <a:cubicBezTo>
                    <a:pt x="7" y="2"/>
                    <a:pt x="8" y="4"/>
                    <a:pt x="8" y="3"/>
                  </a:cubicBezTo>
                  <a:cubicBezTo>
                    <a:pt x="7" y="0"/>
                    <a:pt x="7" y="3"/>
                    <a:pt x="6" y="4"/>
                  </a:cubicBezTo>
                  <a:cubicBezTo>
                    <a:pt x="6" y="5"/>
                    <a:pt x="8" y="4"/>
                    <a:pt x="9" y="5"/>
                  </a:cubicBezTo>
                  <a:cubicBezTo>
                    <a:pt x="8" y="7"/>
                    <a:pt x="5" y="3"/>
                    <a:pt x="4" y="6"/>
                  </a:cubicBezTo>
                  <a:cubicBezTo>
                    <a:pt x="3" y="4"/>
                    <a:pt x="6" y="4"/>
                    <a:pt x="5" y="2"/>
                  </a:cubicBezTo>
                  <a:cubicBezTo>
                    <a:pt x="3" y="2"/>
                    <a:pt x="2" y="1"/>
                    <a:pt x="0" y="3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5"/>
                    <a:pt x="2" y="4"/>
                    <a:pt x="1" y="4"/>
                  </a:cubicBezTo>
                  <a:cubicBezTo>
                    <a:pt x="2" y="6"/>
                    <a:pt x="3" y="7"/>
                    <a:pt x="2" y="9"/>
                  </a:cubicBezTo>
                  <a:cubicBezTo>
                    <a:pt x="2" y="10"/>
                    <a:pt x="4" y="8"/>
                    <a:pt x="3" y="9"/>
                  </a:cubicBezTo>
                  <a:cubicBezTo>
                    <a:pt x="5" y="12"/>
                    <a:pt x="4" y="7"/>
                    <a:pt x="5" y="9"/>
                  </a:cubicBezTo>
                  <a:cubicBezTo>
                    <a:pt x="6" y="8"/>
                    <a:pt x="4" y="7"/>
                    <a:pt x="4" y="7"/>
                  </a:cubicBezTo>
                  <a:cubicBezTo>
                    <a:pt x="5" y="6"/>
                    <a:pt x="8" y="8"/>
                    <a:pt x="8" y="7"/>
                  </a:cubicBezTo>
                  <a:cubicBezTo>
                    <a:pt x="8" y="9"/>
                    <a:pt x="6" y="10"/>
                    <a:pt x="4" y="11"/>
                  </a:cubicBezTo>
                  <a:cubicBezTo>
                    <a:pt x="5" y="12"/>
                    <a:pt x="7" y="11"/>
                    <a:pt x="7" y="13"/>
                  </a:cubicBezTo>
                  <a:cubicBezTo>
                    <a:pt x="7" y="13"/>
                    <a:pt x="8" y="13"/>
                    <a:pt x="8" y="13"/>
                  </a:cubicBezTo>
                  <a:cubicBezTo>
                    <a:pt x="6" y="11"/>
                    <a:pt x="10" y="9"/>
                    <a:pt x="10" y="9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5275"/>
            <p:cNvSpPr/>
            <p:nvPr/>
          </p:nvSpPr>
          <p:spPr>
            <a:xfrm>
              <a:off x="10925280" y="3203280"/>
              <a:ext cx="10800" cy="1080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0"/>
                  </a:moveTo>
                  <a:cubicBezTo>
                    <a:pt x="1" y="1"/>
                    <a:pt x="1" y="2"/>
                    <a:pt x="1" y="1"/>
                  </a:cubicBezTo>
                  <a:cubicBezTo>
                    <a:pt x="0" y="2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2"/>
                    <a:pt x="3" y="1"/>
                    <a:pt x="2" y="0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5276"/>
            <p:cNvSpPr/>
            <p:nvPr/>
          </p:nvSpPr>
          <p:spPr>
            <a:xfrm>
              <a:off x="10936440" y="3241440"/>
              <a:ext cx="17280" cy="792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2"/>
                  </a:moveTo>
                  <a:cubicBezTo>
                    <a:pt x="3" y="0"/>
                    <a:pt x="2" y="1"/>
                    <a:pt x="1" y="0"/>
                  </a:cubicBezTo>
                  <a:cubicBezTo>
                    <a:pt x="0" y="1"/>
                    <a:pt x="1" y="0"/>
                    <a:pt x="2" y="2"/>
                  </a:cubicBezTo>
                  <a:cubicBezTo>
                    <a:pt x="3" y="2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5277"/>
            <p:cNvSpPr/>
            <p:nvPr/>
          </p:nvSpPr>
          <p:spPr>
            <a:xfrm>
              <a:off x="10936440" y="3197160"/>
              <a:ext cx="33120" cy="363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3"/>
                  </a:move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2" y="2"/>
                    <a:pt x="0" y="2"/>
                    <a:pt x="1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2" y="5"/>
                    <a:pt x="2" y="5"/>
                    <a:pt x="1" y="6"/>
                  </a:cubicBezTo>
                  <a:cubicBezTo>
                    <a:pt x="5" y="10"/>
                    <a:pt x="9" y="3"/>
                    <a:pt x="7" y="0"/>
                  </a:cubicBezTo>
                  <a:cubicBezTo>
                    <a:pt x="6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3a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7" name="组合 13"/>
          <p:cNvGrpSpPr/>
          <p:nvPr/>
        </p:nvGrpSpPr>
        <p:grpSpPr>
          <a:xfrm>
            <a:off x="5692680" y="2670120"/>
            <a:ext cx="2637000" cy="3375000"/>
            <a:chOff x="5692680" y="2670120"/>
            <a:chExt cx="2637000" cy="3375000"/>
          </a:xfrm>
        </p:grpSpPr>
        <p:sp>
          <p:nvSpPr>
            <p:cNvPr id="1438" name="Freeform 5292"/>
            <p:cNvSpPr/>
            <p:nvPr/>
          </p:nvSpPr>
          <p:spPr>
            <a:xfrm>
              <a:off x="5692680" y="3906720"/>
              <a:ext cx="330120" cy="992160"/>
            </a:xfrm>
            <a:custGeom>
              <a:avLst/>
              <a:gdLst/>
              <a:ahLst/>
              <a:rect l="l" t="t" r="r" b="b"/>
              <a:pathLst>
                <a:path w="88" h="264">
                  <a:moveTo>
                    <a:pt x="77" y="10"/>
                  </a:moveTo>
                  <a:cubicBezTo>
                    <a:pt x="79" y="12"/>
                    <a:pt x="81" y="14"/>
                    <a:pt x="83" y="17"/>
                  </a:cubicBezTo>
                  <a:cubicBezTo>
                    <a:pt x="88" y="28"/>
                    <a:pt x="81" y="33"/>
                    <a:pt x="73" y="39"/>
                  </a:cubicBezTo>
                  <a:cubicBezTo>
                    <a:pt x="60" y="47"/>
                    <a:pt x="51" y="54"/>
                    <a:pt x="46" y="68"/>
                  </a:cubicBezTo>
                  <a:cubicBezTo>
                    <a:pt x="42" y="82"/>
                    <a:pt x="36" y="96"/>
                    <a:pt x="35" y="111"/>
                  </a:cubicBezTo>
                  <a:cubicBezTo>
                    <a:pt x="34" y="131"/>
                    <a:pt x="35" y="150"/>
                    <a:pt x="36" y="169"/>
                  </a:cubicBezTo>
                  <a:cubicBezTo>
                    <a:pt x="37" y="180"/>
                    <a:pt x="38" y="190"/>
                    <a:pt x="41" y="200"/>
                  </a:cubicBezTo>
                  <a:cubicBezTo>
                    <a:pt x="42" y="204"/>
                    <a:pt x="43" y="208"/>
                    <a:pt x="45" y="211"/>
                  </a:cubicBezTo>
                  <a:cubicBezTo>
                    <a:pt x="48" y="214"/>
                    <a:pt x="52" y="214"/>
                    <a:pt x="55" y="216"/>
                  </a:cubicBezTo>
                  <a:cubicBezTo>
                    <a:pt x="60" y="220"/>
                    <a:pt x="64" y="225"/>
                    <a:pt x="65" y="231"/>
                  </a:cubicBezTo>
                  <a:cubicBezTo>
                    <a:pt x="66" y="235"/>
                    <a:pt x="68" y="243"/>
                    <a:pt x="66" y="247"/>
                  </a:cubicBezTo>
                  <a:cubicBezTo>
                    <a:pt x="65" y="251"/>
                    <a:pt x="62" y="251"/>
                    <a:pt x="59" y="253"/>
                  </a:cubicBezTo>
                  <a:cubicBezTo>
                    <a:pt x="57" y="255"/>
                    <a:pt x="56" y="258"/>
                    <a:pt x="53" y="259"/>
                  </a:cubicBezTo>
                  <a:cubicBezTo>
                    <a:pt x="49" y="262"/>
                    <a:pt x="48" y="260"/>
                    <a:pt x="44" y="259"/>
                  </a:cubicBezTo>
                  <a:cubicBezTo>
                    <a:pt x="39" y="258"/>
                    <a:pt x="39" y="260"/>
                    <a:pt x="35" y="262"/>
                  </a:cubicBezTo>
                  <a:cubicBezTo>
                    <a:pt x="30" y="264"/>
                    <a:pt x="29" y="261"/>
                    <a:pt x="25" y="260"/>
                  </a:cubicBezTo>
                  <a:cubicBezTo>
                    <a:pt x="21" y="259"/>
                    <a:pt x="18" y="262"/>
                    <a:pt x="14" y="260"/>
                  </a:cubicBezTo>
                  <a:cubicBezTo>
                    <a:pt x="2" y="254"/>
                    <a:pt x="0" y="235"/>
                    <a:pt x="5" y="225"/>
                  </a:cubicBezTo>
                  <a:cubicBezTo>
                    <a:pt x="8" y="219"/>
                    <a:pt x="15" y="215"/>
                    <a:pt x="16" y="209"/>
                  </a:cubicBezTo>
                  <a:cubicBezTo>
                    <a:pt x="20" y="193"/>
                    <a:pt x="13" y="174"/>
                    <a:pt x="12" y="159"/>
                  </a:cubicBezTo>
                  <a:cubicBezTo>
                    <a:pt x="11" y="141"/>
                    <a:pt x="8" y="123"/>
                    <a:pt x="9" y="105"/>
                  </a:cubicBezTo>
                  <a:cubicBezTo>
                    <a:pt x="10" y="92"/>
                    <a:pt x="13" y="79"/>
                    <a:pt x="17" y="67"/>
                  </a:cubicBezTo>
                  <a:cubicBezTo>
                    <a:pt x="19" y="60"/>
                    <a:pt x="22" y="52"/>
                    <a:pt x="25" y="45"/>
                  </a:cubicBezTo>
                  <a:cubicBezTo>
                    <a:pt x="31" y="29"/>
                    <a:pt x="57" y="0"/>
                    <a:pt x="77" y="10"/>
                  </a:cubicBezTo>
                  <a:close/>
                </a:path>
              </a:pathLst>
            </a:custGeom>
            <a:solidFill>
              <a:srgbClr val="d4aa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5290"/>
            <p:cNvSpPr/>
            <p:nvPr/>
          </p:nvSpPr>
          <p:spPr>
            <a:xfrm>
              <a:off x="6842160" y="5905440"/>
              <a:ext cx="819000" cy="139680"/>
            </a:xfrm>
            <a:custGeom>
              <a:avLst/>
              <a:gdLst/>
              <a:ahLst/>
              <a:rect l="l" t="t" r="r" b="b"/>
              <a:pathLst>
                <a:path w="218" h="37">
                  <a:moveTo>
                    <a:pt x="133" y="31"/>
                  </a:moveTo>
                  <a:cubicBezTo>
                    <a:pt x="128" y="29"/>
                    <a:pt x="123" y="29"/>
                    <a:pt x="118" y="29"/>
                  </a:cubicBezTo>
                  <a:cubicBezTo>
                    <a:pt x="104" y="29"/>
                    <a:pt x="91" y="29"/>
                    <a:pt x="78" y="32"/>
                  </a:cubicBezTo>
                  <a:cubicBezTo>
                    <a:pt x="71" y="33"/>
                    <a:pt x="64" y="34"/>
                    <a:pt x="57" y="35"/>
                  </a:cubicBezTo>
                  <a:cubicBezTo>
                    <a:pt x="44" y="36"/>
                    <a:pt x="27" y="36"/>
                    <a:pt x="17" y="30"/>
                  </a:cubicBezTo>
                  <a:cubicBezTo>
                    <a:pt x="13" y="28"/>
                    <a:pt x="10" y="25"/>
                    <a:pt x="8" y="21"/>
                  </a:cubicBezTo>
                  <a:cubicBezTo>
                    <a:pt x="0" y="4"/>
                    <a:pt x="40" y="1"/>
                    <a:pt x="53" y="3"/>
                  </a:cubicBezTo>
                  <a:cubicBezTo>
                    <a:pt x="58" y="4"/>
                    <a:pt x="63" y="6"/>
                    <a:pt x="68" y="7"/>
                  </a:cubicBezTo>
                  <a:cubicBezTo>
                    <a:pt x="77" y="10"/>
                    <a:pt x="85" y="11"/>
                    <a:pt x="94" y="11"/>
                  </a:cubicBezTo>
                  <a:cubicBezTo>
                    <a:pt x="106" y="12"/>
                    <a:pt x="116" y="11"/>
                    <a:pt x="128" y="9"/>
                  </a:cubicBezTo>
                  <a:cubicBezTo>
                    <a:pt x="141" y="6"/>
                    <a:pt x="155" y="3"/>
                    <a:pt x="169" y="2"/>
                  </a:cubicBezTo>
                  <a:cubicBezTo>
                    <a:pt x="180" y="1"/>
                    <a:pt x="196" y="0"/>
                    <a:pt x="207" y="4"/>
                  </a:cubicBezTo>
                  <a:cubicBezTo>
                    <a:pt x="212" y="6"/>
                    <a:pt x="218" y="9"/>
                    <a:pt x="217" y="14"/>
                  </a:cubicBezTo>
                  <a:cubicBezTo>
                    <a:pt x="217" y="19"/>
                    <a:pt x="210" y="25"/>
                    <a:pt x="206" y="28"/>
                  </a:cubicBezTo>
                  <a:cubicBezTo>
                    <a:pt x="204" y="30"/>
                    <a:pt x="201" y="30"/>
                    <a:pt x="198" y="31"/>
                  </a:cubicBezTo>
                  <a:cubicBezTo>
                    <a:pt x="177" y="37"/>
                    <a:pt x="154" y="36"/>
                    <a:pt x="133" y="31"/>
                  </a:cubicBezTo>
                  <a:close/>
                </a:path>
              </a:pathLst>
            </a:custGeom>
            <a:solidFill>
              <a:srgbClr val="7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5291">
              <a:hlinkClick r:id="rId5"/>
            </p:cNvPr>
            <p:cNvSpPr/>
            <p:nvPr/>
          </p:nvSpPr>
          <p:spPr>
            <a:xfrm>
              <a:off x="6181560" y="4643280"/>
              <a:ext cx="1806840" cy="1355760"/>
            </a:xfrm>
            <a:custGeom>
              <a:avLst/>
              <a:gdLst/>
              <a:ahLst/>
              <a:rect l="l" t="t" r="r" b="b"/>
              <a:pathLst>
                <a:path w="481" h="361">
                  <a:moveTo>
                    <a:pt x="325" y="282"/>
                  </a:moveTo>
                  <a:cubicBezTo>
                    <a:pt x="324" y="291"/>
                    <a:pt x="323" y="300"/>
                    <a:pt x="323" y="310"/>
                  </a:cubicBezTo>
                  <a:cubicBezTo>
                    <a:pt x="322" y="319"/>
                    <a:pt x="320" y="328"/>
                    <a:pt x="319" y="338"/>
                  </a:cubicBezTo>
                  <a:cubicBezTo>
                    <a:pt x="318" y="342"/>
                    <a:pt x="317" y="346"/>
                    <a:pt x="317" y="350"/>
                  </a:cubicBezTo>
                  <a:cubicBezTo>
                    <a:pt x="324" y="351"/>
                    <a:pt x="331" y="353"/>
                    <a:pt x="338" y="352"/>
                  </a:cubicBezTo>
                  <a:cubicBezTo>
                    <a:pt x="342" y="352"/>
                    <a:pt x="341" y="349"/>
                    <a:pt x="342" y="346"/>
                  </a:cubicBezTo>
                  <a:cubicBezTo>
                    <a:pt x="345" y="340"/>
                    <a:pt x="350" y="346"/>
                    <a:pt x="353" y="347"/>
                  </a:cubicBezTo>
                  <a:cubicBezTo>
                    <a:pt x="359" y="351"/>
                    <a:pt x="364" y="355"/>
                    <a:pt x="370" y="357"/>
                  </a:cubicBezTo>
                  <a:cubicBezTo>
                    <a:pt x="379" y="359"/>
                    <a:pt x="398" y="351"/>
                    <a:pt x="388" y="341"/>
                  </a:cubicBezTo>
                  <a:cubicBezTo>
                    <a:pt x="384" y="336"/>
                    <a:pt x="380" y="336"/>
                    <a:pt x="374" y="334"/>
                  </a:cubicBezTo>
                  <a:cubicBezTo>
                    <a:pt x="369" y="332"/>
                    <a:pt x="364" y="328"/>
                    <a:pt x="359" y="326"/>
                  </a:cubicBezTo>
                  <a:cubicBezTo>
                    <a:pt x="352" y="324"/>
                    <a:pt x="353" y="319"/>
                    <a:pt x="354" y="313"/>
                  </a:cubicBezTo>
                  <a:cubicBezTo>
                    <a:pt x="355" y="306"/>
                    <a:pt x="356" y="299"/>
                    <a:pt x="357" y="292"/>
                  </a:cubicBezTo>
                  <a:cubicBezTo>
                    <a:pt x="359" y="271"/>
                    <a:pt x="360" y="251"/>
                    <a:pt x="362" y="231"/>
                  </a:cubicBezTo>
                  <a:cubicBezTo>
                    <a:pt x="363" y="221"/>
                    <a:pt x="365" y="202"/>
                    <a:pt x="373" y="196"/>
                  </a:cubicBezTo>
                  <a:cubicBezTo>
                    <a:pt x="376" y="193"/>
                    <a:pt x="381" y="193"/>
                    <a:pt x="384" y="191"/>
                  </a:cubicBezTo>
                  <a:cubicBezTo>
                    <a:pt x="390" y="188"/>
                    <a:pt x="395" y="184"/>
                    <a:pt x="400" y="180"/>
                  </a:cubicBezTo>
                  <a:cubicBezTo>
                    <a:pt x="404" y="178"/>
                    <a:pt x="407" y="175"/>
                    <a:pt x="411" y="173"/>
                  </a:cubicBezTo>
                  <a:cubicBezTo>
                    <a:pt x="415" y="170"/>
                    <a:pt x="419" y="166"/>
                    <a:pt x="422" y="163"/>
                  </a:cubicBezTo>
                  <a:cubicBezTo>
                    <a:pt x="428" y="159"/>
                    <a:pt x="433" y="154"/>
                    <a:pt x="438" y="149"/>
                  </a:cubicBezTo>
                  <a:cubicBezTo>
                    <a:pt x="444" y="143"/>
                    <a:pt x="450" y="138"/>
                    <a:pt x="456" y="131"/>
                  </a:cubicBezTo>
                  <a:cubicBezTo>
                    <a:pt x="463" y="124"/>
                    <a:pt x="469" y="115"/>
                    <a:pt x="473" y="105"/>
                  </a:cubicBezTo>
                  <a:cubicBezTo>
                    <a:pt x="476" y="95"/>
                    <a:pt x="481" y="83"/>
                    <a:pt x="481" y="73"/>
                  </a:cubicBezTo>
                  <a:cubicBezTo>
                    <a:pt x="481" y="68"/>
                    <a:pt x="481" y="62"/>
                    <a:pt x="479" y="57"/>
                  </a:cubicBezTo>
                  <a:cubicBezTo>
                    <a:pt x="477" y="50"/>
                    <a:pt x="470" y="50"/>
                    <a:pt x="465" y="48"/>
                  </a:cubicBezTo>
                  <a:cubicBezTo>
                    <a:pt x="459" y="46"/>
                    <a:pt x="454" y="39"/>
                    <a:pt x="448" y="36"/>
                  </a:cubicBezTo>
                  <a:cubicBezTo>
                    <a:pt x="438" y="30"/>
                    <a:pt x="427" y="24"/>
                    <a:pt x="415" y="20"/>
                  </a:cubicBezTo>
                  <a:cubicBezTo>
                    <a:pt x="383" y="8"/>
                    <a:pt x="347" y="7"/>
                    <a:pt x="311" y="5"/>
                  </a:cubicBezTo>
                  <a:cubicBezTo>
                    <a:pt x="274" y="4"/>
                    <a:pt x="234" y="0"/>
                    <a:pt x="199" y="15"/>
                  </a:cubicBezTo>
                  <a:cubicBezTo>
                    <a:pt x="164" y="30"/>
                    <a:pt x="128" y="42"/>
                    <a:pt x="91" y="54"/>
                  </a:cubicBezTo>
                  <a:cubicBezTo>
                    <a:pt x="70" y="61"/>
                    <a:pt x="47" y="65"/>
                    <a:pt x="26" y="76"/>
                  </a:cubicBezTo>
                  <a:cubicBezTo>
                    <a:pt x="18" y="80"/>
                    <a:pt x="6" y="86"/>
                    <a:pt x="2" y="97"/>
                  </a:cubicBezTo>
                  <a:cubicBezTo>
                    <a:pt x="0" y="103"/>
                    <a:pt x="1" y="108"/>
                    <a:pt x="4" y="113"/>
                  </a:cubicBezTo>
                  <a:cubicBezTo>
                    <a:pt x="7" y="118"/>
                    <a:pt x="10" y="124"/>
                    <a:pt x="14" y="128"/>
                  </a:cubicBezTo>
                  <a:cubicBezTo>
                    <a:pt x="18" y="134"/>
                    <a:pt x="24" y="137"/>
                    <a:pt x="30" y="141"/>
                  </a:cubicBezTo>
                  <a:cubicBezTo>
                    <a:pt x="37" y="145"/>
                    <a:pt x="43" y="149"/>
                    <a:pt x="49" y="154"/>
                  </a:cubicBezTo>
                  <a:cubicBezTo>
                    <a:pt x="62" y="162"/>
                    <a:pt x="74" y="170"/>
                    <a:pt x="88" y="176"/>
                  </a:cubicBezTo>
                  <a:cubicBezTo>
                    <a:pt x="97" y="181"/>
                    <a:pt x="108" y="184"/>
                    <a:pt x="118" y="187"/>
                  </a:cubicBezTo>
                  <a:cubicBezTo>
                    <a:pt x="128" y="189"/>
                    <a:pt x="137" y="193"/>
                    <a:pt x="146" y="196"/>
                  </a:cubicBezTo>
                  <a:cubicBezTo>
                    <a:pt x="152" y="198"/>
                    <a:pt x="158" y="198"/>
                    <a:pt x="164" y="201"/>
                  </a:cubicBezTo>
                  <a:cubicBezTo>
                    <a:pt x="175" y="205"/>
                    <a:pt x="194" y="199"/>
                    <a:pt x="198" y="213"/>
                  </a:cubicBezTo>
                  <a:cubicBezTo>
                    <a:pt x="199" y="217"/>
                    <a:pt x="199" y="221"/>
                    <a:pt x="199" y="225"/>
                  </a:cubicBezTo>
                  <a:cubicBezTo>
                    <a:pt x="199" y="235"/>
                    <a:pt x="197" y="244"/>
                    <a:pt x="197" y="254"/>
                  </a:cubicBezTo>
                  <a:cubicBezTo>
                    <a:pt x="196" y="273"/>
                    <a:pt x="194" y="292"/>
                    <a:pt x="192" y="311"/>
                  </a:cubicBezTo>
                  <a:cubicBezTo>
                    <a:pt x="192" y="320"/>
                    <a:pt x="191" y="330"/>
                    <a:pt x="189" y="340"/>
                  </a:cubicBezTo>
                  <a:cubicBezTo>
                    <a:pt x="189" y="342"/>
                    <a:pt x="186" y="348"/>
                    <a:pt x="187" y="351"/>
                  </a:cubicBezTo>
                  <a:cubicBezTo>
                    <a:pt x="189" y="354"/>
                    <a:pt x="201" y="354"/>
                    <a:pt x="204" y="354"/>
                  </a:cubicBezTo>
                  <a:cubicBezTo>
                    <a:pt x="213" y="354"/>
                    <a:pt x="207" y="344"/>
                    <a:pt x="212" y="342"/>
                  </a:cubicBezTo>
                  <a:cubicBezTo>
                    <a:pt x="216" y="340"/>
                    <a:pt x="228" y="352"/>
                    <a:pt x="233" y="353"/>
                  </a:cubicBezTo>
                  <a:cubicBezTo>
                    <a:pt x="240" y="356"/>
                    <a:pt x="252" y="361"/>
                    <a:pt x="257" y="353"/>
                  </a:cubicBezTo>
                  <a:cubicBezTo>
                    <a:pt x="263" y="342"/>
                    <a:pt x="249" y="336"/>
                    <a:pt x="241" y="333"/>
                  </a:cubicBezTo>
                  <a:cubicBezTo>
                    <a:pt x="236" y="330"/>
                    <a:pt x="226" y="326"/>
                    <a:pt x="225" y="319"/>
                  </a:cubicBezTo>
                  <a:cubicBezTo>
                    <a:pt x="224" y="315"/>
                    <a:pt x="226" y="309"/>
                    <a:pt x="226" y="305"/>
                  </a:cubicBezTo>
                  <a:cubicBezTo>
                    <a:pt x="226" y="301"/>
                    <a:pt x="227" y="296"/>
                    <a:pt x="227" y="291"/>
                  </a:cubicBezTo>
                  <a:cubicBezTo>
                    <a:pt x="229" y="281"/>
                    <a:pt x="230" y="272"/>
                    <a:pt x="232" y="262"/>
                  </a:cubicBezTo>
                  <a:cubicBezTo>
                    <a:pt x="233" y="255"/>
                    <a:pt x="234" y="248"/>
                    <a:pt x="234" y="241"/>
                  </a:cubicBezTo>
                  <a:cubicBezTo>
                    <a:pt x="234" y="238"/>
                    <a:pt x="235" y="235"/>
                    <a:pt x="235" y="233"/>
                  </a:cubicBezTo>
                  <a:cubicBezTo>
                    <a:pt x="236" y="228"/>
                    <a:pt x="237" y="225"/>
                    <a:pt x="237" y="221"/>
                  </a:cubicBezTo>
                  <a:cubicBezTo>
                    <a:pt x="238" y="215"/>
                    <a:pt x="239" y="214"/>
                    <a:pt x="245" y="214"/>
                  </a:cubicBezTo>
                  <a:cubicBezTo>
                    <a:pt x="262" y="212"/>
                    <a:pt x="278" y="213"/>
                    <a:pt x="294" y="211"/>
                  </a:cubicBezTo>
                  <a:cubicBezTo>
                    <a:pt x="301" y="211"/>
                    <a:pt x="308" y="209"/>
                    <a:pt x="315" y="209"/>
                  </a:cubicBezTo>
                  <a:cubicBezTo>
                    <a:pt x="319" y="209"/>
                    <a:pt x="323" y="208"/>
                    <a:pt x="327" y="209"/>
                  </a:cubicBezTo>
                  <a:cubicBezTo>
                    <a:pt x="333" y="210"/>
                    <a:pt x="331" y="216"/>
                    <a:pt x="331" y="221"/>
                  </a:cubicBezTo>
                  <a:cubicBezTo>
                    <a:pt x="329" y="228"/>
                    <a:pt x="329" y="235"/>
                    <a:pt x="328" y="243"/>
                  </a:cubicBezTo>
                  <a:cubicBezTo>
                    <a:pt x="328" y="248"/>
                    <a:pt x="328" y="253"/>
                    <a:pt x="328" y="258"/>
                  </a:cubicBezTo>
                  <a:cubicBezTo>
                    <a:pt x="327" y="266"/>
                    <a:pt x="326" y="274"/>
                    <a:pt x="325" y="282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5294">
              <a:hlinkClick r:id="rId6"/>
            </p:cNvPr>
            <p:cNvSpPr/>
            <p:nvPr/>
          </p:nvSpPr>
          <p:spPr>
            <a:xfrm>
              <a:off x="5873400" y="3456000"/>
              <a:ext cx="2233800" cy="1641600"/>
            </a:xfrm>
            <a:custGeom>
              <a:avLst/>
              <a:gdLst/>
              <a:ahLst/>
              <a:rect l="l" t="t" r="r" b="b"/>
              <a:pathLst>
                <a:path w="595" h="437">
                  <a:moveTo>
                    <a:pt x="562" y="330"/>
                  </a:moveTo>
                  <a:cubicBezTo>
                    <a:pt x="551" y="290"/>
                    <a:pt x="542" y="250"/>
                    <a:pt x="528" y="211"/>
                  </a:cubicBezTo>
                  <a:cubicBezTo>
                    <a:pt x="525" y="201"/>
                    <a:pt x="521" y="191"/>
                    <a:pt x="517" y="181"/>
                  </a:cubicBezTo>
                  <a:cubicBezTo>
                    <a:pt x="515" y="178"/>
                    <a:pt x="506" y="167"/>
                    <a:pt x="508" y="164"/>
                  </a:cubicBezTo>
                  <a:cubicBezTo>
                    <a:pt x="514" y="149"/>
                    <a:pt x="552" y="167"/>
                    <a:pt x="559" y="171"/>
                  </a:cubicBezTo>
                  <a:cubicBezTo>
                    <a:pt x="565" y="175"/>
                    <a:pt x="576" y="182"/>
                    <a:pt x="583" y="177"/>
                  </a:cubicBezTo>
                  <a:cubicBezTo>
                    <a:pt x="586" y="175"/>
                    <a:pt x="595" y="156"/>
                    <a:pt x="594" y="152"/>
                  </a:cubicBezTo>
                  <a:cubicBezTo>
                    <a:pt x="594" y="143"/>
                    <a:pt x="580" y="136"/>
                    <a:pt x="574" y="132"/>
                  </a:cubicBezTo>
                  <a:cubicBezTo>
                    <a:pt x="558" y="122"/>
                    <a:pt x="532" y="112"/>
                    <a:pt x="513" y="110"/>
                  </a:cubicBezTo>
                  <a:cubicBezTo>
                    <a:pt x="506" y="110"/>
                    <a:pt x="500" y="109"/>
                    <a:pt x="493" y="109"/>
                  </a:cubicBezTo>
                  <a:cubicBezTo>
                    <a:pt x="488" y="110"/>
                    <a:pt x="483" y="110"/>
                    <a:pt x="478" y="108"/>
                  </a:cubicBezTo>
                  <a:cubicBezTo>
                    <a:pt x="474" y="107"/>
                    <a:pt x="472" y="103"/>
                    <a:pt x="470" y="100"/>
                  </a:cubicBezTo>
                  <a:cubicBezTo>
                    <a:pt x="447" y="73"/>
                    <a:pt x="428" y="48"/>
                    <a:pt x="394" y="34"/>
                  </a:cubicBezTo>
                  <a:cubicBezTo>
                    <a:pt x="370" y="24"/>
                    <a:pt x="349" y="20"/>
                    <a:pt x="325" y="15"/>
                  </a:cubicBezTo>
                  <a:cubicBezTo>
                    <a:pt x="303" y="9"/>
                    <a:pt x="280" y="0"/>
                    <a:pt x="256" y="4"/>
                  </a:cubicBezTo>
                  <a:cubicBezTo>
                    <a:pt x="226" y="9"/>
                    <a:pt x="197" y="17"/>
                    <a:pt x="170" y="32"/>
                  </a:cubicBezTo>
                  <a:cubicBezTo>
                    <a:pt x="158" y="39"/>
                    <a:pt x="146" y="47"/>
                    <a:pt x="136" y="57"/>
                  </a:cubicBezTo>
                  <a:cubicBezTo>
                    <a:pt x="131" y="62"/>
                    <a:pt x="126" y="67"/>
                    <a:pt x="121" y="73"/>
                  </a:cubicBezTo>
                  <a:cubicBezTo>
                    <a:pt x="118" y="77"/>
                    <a:pt x="111" y="84"/>
                    <a:pt x="109" y="90"/>
                  </a:cubicBezTo>
                  <a:cubicBezTo>
                    <a:pt x="109" y="89"/>
                    <a:pt x="84" y="90"/>
                    <a:pt x="82" y="90"/>
                  </a:cubicBezTo>
                  <a:cubicBezTo>
                    <a:pt x="66" y="91"/>
                    <a:pt x="56" y="97"/>
                    <a:pt x="42" y="103"/>
                  </a:cubicBezTo>
                  <a:cubicBezTo>
                    <a:pt x="32" y="106"/>
                    <a:pt x="25" y="109"/>
                    <a:pt x="17" y="117"/>
                  </a:cubicBezTo>
                  <a:cubicBezTo>
                    <a:pt x="9" y="124"/>
                    <a:pt x="0" y="130"/>
                    <a:pt x="2" y="141"/>
                  </a:cubicBezTo>
                  <a:cubicBezTo>
                    <a:pt x="3" y="149"/>
                    <a:pt x="5" y="166"/>
                    <a:pt x="13" y="168"/>
                  </a:cubicBezTo>
                  <a:cubicBezTo>
                    <a:pt x="22" y="171"/>
                    <a:pt x="33" y="158"/>
                    <a:pt x="40" y="154"/>
                  </a:cubicBezTo>
                  <a:cubicBezTo>
                    <a:pt x="48" y="150"/>
                    <a:pt x="79" y="139"/>
                    <a:pt x="84" y="150"/>
                  </a:cubicBezTo>
                  <a:cubicBezTo>
                    <a:pt x="86" y="155"/>
                    <a:pt x="76" y="175"/>
                    <a:pt x="74" y="180"/>
                  </a:cubicBezTo>
                  <a:cubicBezTo>
                    <a:pt x="71" y="190"/>
                    <a:pt x="68" y="200"/>
                    <a:pt x="66" y="211"/>
                  </a:cubicBezTo>
                  <a:cubicBezTo>
                    <a:pt x="55" y="264"/>
                    <a:pt x="41" y="328"/>
                    <a:pt x="58" y="381"/>
                  </a:cubicBezTo>
                  <a:cubicBezTo>
                    <a:pt x="62" y="396"/>
                    <a:pt x="72" y="431"/>
                    <a:pt x="90" y="435"/>
                  </a:cubicBezTo>
                  <a:cubicBezTo>
                    <a:pt x="101" y="437"/>
                    <a:pt x="110" y="428"/>
                    <a:pt x="120" y="424"/>
                  </a:cubicBezTo>
                  <a:cubicBezTo>
                    <a:pt x="131" y="420"/>
                    <a:pt x="143" y="417"/>
                    <a:pt x="154" y="414"/>
                  </a:cubicBezTo>
                  <a:cubicBezTo>
                    <a:pt x="185" y="405"/>
                    <a:pt x="219" y="401"/>
                    <a:pt x="251" y="392"/>
                  </a:cubicBezTo>
                  <a:cubicBezTo>
                    <a:pt x="262" y="390"/>
                    <a:pt x="272" y="390"/>
                    <a:pt x="284" y="389"/>
                  </a:cubicBezTo>
                  <a:cubicBezTo>
                    <a:pt x="312" y="385"/>
                    <a:pt x="340" y="382"/>
                    <a:pt x="368" y="381"/>
                  </a:cubicBezTo>
                  <a:cubicBezTo>
                    <a:pt x="390" y="381"/>
                    <a:pt x="412" y="377"/>
                    <a:pt x="433" y="377"/>
                  </a:cubicBezTo>
                  <a:cubicBezTo>
                    <a:pt x="474" y="376"/>
                    <a:pt x="524" y="372"/>
                    <a:pt x="562" y="387"/>
                  </a:cubicBezTo>
                  <a:cubicBezTo>
                    <a:pt x="568" y="389"/>
                    <a:pt x="563" y="335"/>
                    <a:pt x="562" y="33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5295"/>
            <p:cNvSpPr/>
            <p:nvPr/>
          </p:nvSpPr>
          <p:spPr>
            <a:xfrm>
              <a:off x="6946920" y="4365720"/>
              <a:ext cx="177480" cy="596880"/>
            </a:xfrm>
            <a:custGeom>
              <a:avLst/>
              <a:gdLst/>
              <a:ahLst/>
              <a:rect l="l" t="t" r="r" b="b"/>
              <a:pathLst>
                <a:path w="47" h="159">
                  <a:moveTo>
                    <a:pt x="18" y="81"/>
                  </a:moveTo>
                  <a:cubicBezTo>
                    <a:pt x="17" y="58"/>
                    <a:pt x="15" y="31"/>
                    <a:pt x="0" y="14"/>
                  </a:cubicBezTo>
                  <a:cubicBezTo>
                    <a:pt x="6" y="20"/>
                    <a:pt x="28" y="0"/>
                    <a:pt x="34" y="18"/>
                  </a:cubicBezTo>
                  <a:cubicBezTo>
                    <a:pt x="38" y="29"/>
                    <a:pt x="37" y="44"/>
                    <a:pt x="40" y="56"/>
                  </a:cubicBezTo>
                  <a:cubicBezTo>
                    <a:pt x="43" y="67"/>
                    <a:pt x="44" y="79"/>
                    <a:pt x="45" y="91"/>
                  </a:cubicBezTo>
                  <a:cubicBezTo>
                    <a:pt x="45" y="95"/>
                    <a:pt x="46" y="100"/>
                    <a:pt x="46" y="105"/>
                  </a:cubicBezTo>
                  <a:cubicBezTo>
                    <a:pt x="47" y="119"/>
                    <a:pt x="47" y="133"/>
                    <a:pt x="46" y="148"/>
                  </a:cubicBezTo>
                  <a:cubicBezTo>
                    <a:pt x="46" y="155"/>
                    <a:pt x="39" y="159"/>
                    <a:pt x="32" y="159"/>
                  </a:cubicBezTo>
                  <a:cubicBezTo>
                    <a:pt x="25" y="159"/>
                    <a:pt x="23" y="152"/>
                    <a:pt x="23" y="146"/>
                  </a:cubicBezTo>
                  <a:cubicBezTo>
                    <a:pt x="22" y="128"/>
                    <a:pt x="19" y="109"/>
                    <a:pt x="18" y="91"/>
                  </a:cubicBezTo>
                  <a:cubicBezTo>
                    <a:pt x="18" y="88"/>
                    <a:pt x="18" y="85"/>
                    <a:pt x="18" y="8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5296"/>
            <p:cNvSpPr/>
            <p:nvPr/>
          </p:nvSpPr>
          <p:spPr>
            <a:xfrm>
              <a:off x="6985080" y="4906800"/>
              <a:ext cx="172800" cy="99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4" y="3"/>
                  </a:moveTo>
                  <a:cubicBezTo>
                    <a:pt x="18" y="3"/>
                    <a:pt x="13" y="4"/>
                    <a:pt x="9" y="6"/>
                  </a:cubicBezTo>
                  <a:cubicBezTo>
                    <a:pt x="0" y="11"/>
                    <a:pt x="9" y="22"/>
                    <a:pt x="15" y="24"/>
                  </a:cubicBezTo>
                  <a:cubicBezTo>
                    <a:pt x="23" y="27"/>
                    <a:pt x="31" y="25"/>
                    <a:pt x="38" y="20"/>
                  </a:cubicBezTo>
                  <a:cubicBezTo>
                    <a:pt x="42" y="17"/>
                    <a:pt x="46" y="10"/>
                    <a:pt x="42" y="5"/>
                  </a:cubicBezTo>
                  <a:cubicBezTo>
                    <a:pt x="39" y="0"/>
                    <a:pt x="30" y="2"/>
                    <a:pt x="24" y="3"/>
                  </a:cubicBezTo>
                  <a:close/>
                </a:path>
              </a:pathLst>
            </a:custGeom>
            <a:solidFill>
              <a:srgbClr val="98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5297"/>
            <p:cNvSpPr/>
            <p:nvPr/>
          </p:nvSpPr>
          <p:spPr>
            <a:xfrm>
              <a:off x="7578720" y="4327560"/>
              <a:ext cx="176040" cy="596880"/>
            </a:xfrm>
            <a:custGeom>
              <a:avLst/>
              <a:gdLst/>
              <a:ahLst/>
              <a:rect l="l" t="t" r="r" b="b"/>
              <a:pathLst>
                <a:path w="47" h="159">
                  <a:moveTo>
                    <a:pt x="18" y="81"/>
                  </a:moveTo>
                  <a:cubicBezTo>
                    <a:pt x="17" y="59"/>
                    <a:pt x="15" y="32"/>
                    <a:pt x="0" y="14"/>
                  </a:cubicBezTo>
                  <a:cubicBezTo>
                    <a:pt x="6" y="21"/>
                    <a:pt x="28" y="0"/>
                    <a:pt x="34" y="19"/>
                  </a:cubicBezTo>
                  <a:cubicBezTo>
                    <a:pt x="38" y="30"/>
                    <a:pt x="37" y="44"/>
                    <a:pt x="40" y="56"/>
                  </a:cubicBezTo>
                  <a:cubicBezTo>
                    <a:pt x="43" y="68"/>
                    <a:pt x="44" y="80"/>
                    <a:pt x="45" y="91"/>
                  </a:cubicBezTo>
                  <a:cubicBezTo>
                    <a:pt x="46" y="96"/>
                    <a:pt x="46" y="101"/>
                    <a:pt x="46" y="105"/>
                  </a:cubicBezTo>
                  <a:cubicBezTo>
                    <a:pt x="47" y="120"/>
                    <a:pt x="47" y="134"/>
                    <a:pt x="47" y="148"/>
                  </a:cubicBezTo>
                  <a:cubicBezTo>
                    <a:pt x="46" y="155"/>
                    <a:pt x="39" y="159"/>
                    <a:pt x="32" y="159"/>
                  </a:cubicBezTo>
                  <a:cubicBezTo>
                    <a:pt x="25" y="159"/>
                    <a:pt x="23" y="153"/>
                    <a:pt x="23" y="146"/>
                  </a:cubicBezTo>
                  <a:cubicBezTo>
                    <a:pt x="22" y="128"/>
                    <a:pt x="20" y="110"/>
                    <a:pt x="19" y="92"/>
                  </a:cubicBezTo>
                  <a:cubicBezTo>
                    <a:pt x="18" y="88"/>
                    <a:pt x="18" y="85"/>
                    <a:pt x="18" y="81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5298"/>
            <p:cNvSpPr/>
            <p:nvPr/>
          </p:nvSpPr>
          <p:spPr>
            <a:xfrm>
              <a:off x="7615440" y="4869000"/>
              <a:ext cx="177480" cy="1015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25" y="3"/>
                  </a:moveTo>
                  <a:cubicBezTo>
                    <a:pt x="19" y="4"/>
                    <a:pt x="13" y="5"/>
                    <a:pt x="10" y="7"/>
                  </a:cubicBezTo>
                  <a:cubicBezTo>
                    <a:pt x="0" y="12"/>
                    <a:pt x="9" y="22"/>
                    <a:pt x="16" y="24"/>
                  </a:cubicBezTo>
                  <a:cubicBezTo>
                    <a:pt x="23" y="27"/>
                    <a:pt x="32" y="26"/>
                    <a:pt x="38" y="21"/>
                  </a:cubicBezTo>
                  <a:cubicBezTo>
                    <a:pt x="42" y="17"/>
                    <a:pt x="47" y="10"/>
                    <a:pt x="43" y="5"/>
                  </a:cubicBezTo>
                  <a:cubicBezTo>
                    <a:pt x="39" y="0"/>
                    <a:pt x="30" y="3"/>
                    <a:pt x="25" y="3"/>
                  </a:cubicBezTo>
                  <a:close/>
                </a:path>
              </a:pathLst>
            </a:custGeom>
            <a:solidFill>
              <a:srgbClr val="9898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5299"/>
            <p:cNvSpPr/>
            <p:nvPr/>
          </p:nvSpPr>
          <p:spPr>
            <a:xfrm>
              <a:off x="6583320" y="2670120"/>
              <a:ext cx="1581120" cy="1654200"/>
            </a:xfrm>
            <a:custGeom>
              <a:avLst/>
              <a:gdLst/>
              <a:ahLst/>
              <a:rect l="l" t="t" r="r" b="b"/>
              <a:pathLst>
                <a:path w="421" h="440">
                  <a:moveTo>
                    <a:pt x="98" y="32"/>
                  </a:moveTo>
                  <a:cubicBezTo>
                    <a:pt x="108" y="24"/>
                    <a:pt x="120" y="17"/>
                    <a:pt x="132" y="12"/>
                  </a:cubicBezTo>
                  <a:cubicBezTo>
                    <a:pt x="161" y="0"/>
                    <a:pt x="192" y="4"/>
                    <a:pt x="220" y="18"/>
                  </a:cubicBezTo>
                  <a:cubicBezTo>
                    <a:pt x="248" y="31"/>
                    <a:pt x="270" y="45"/>
                    <a:pt x="280" y="75"/>
                  </a:cubicBezTo>
                  <a:cubicBezTo>
                    <a:pt x="286" y="92"/>
                    <a:pt x="289" y="110"/>
                    <a:pt x="289" y="128"/>
                  </a:cubicBezTo>
                  <a:cubicBezTo>
                    <a:pt x="288" y="145"/>
                    <a:pt x="281" y="166"/>
                    <a:pt x="295" y="179"/>
                  </a:cubicBezTo>
                  <a:cubicBezTo>
                    <a:pt x="311" y="194"/>
                    <a:pt x="337" y="198"/>
                    <a:pt x="356" y="206"/>
                  </a:cubicBezTo>
                  <a:cubicBezTo>
                    <a:pt x="379" y="217"/>
                    <a:pt x="416" y="255"/>
                    <a:pt x="418" y="281"/>
                  </a:cubicBezTo>
                  <a:cubicBezTo>
                    <a:pt x="421" y="309"/>
                    <a:pt x="381" y="366"/>
                    <a:pt x="358" y="382"/>
                  </a:cubicBezTo>
                  <a:cubicBezTo>
                    <a:pt x="280" y="440"/>
                    <a:pt x="162" y="381"/>
                    <a:pt x="106" y="318"/>
                  </a:cubicBezTo>
                  <a:cubicBezTo>
                    <a:pt x="92" y="302"/>
                    <a:pt x="88" y="287"/>
                    <a:pt x="66" y="280"/>
                  </a:cubicBezTo>
                  <a:cubicBezTo>
                    <a:pt x="50" y="274"/>
                    <a:pt x="30" y="269"/>
                    <a:pt x="17" y="259"/>
                  </a:cubicBezTo>
                  <a:cubicBezTo>
                    <a:pt x="5" y="251"/>
                    <a:pt x="0" y="227"/>
                    <a:pt x="1" y="212"/>
                  </a:cubicBezTo>
                  <a:cubicBezTo>
                    <a:pt x="1" y="195"/>
                    <a:pt x="5" y="181"/>
                    <a:pt x="12" y="166"/>
                  </a:cubicBezTo>
                  <a:cubicBezTo>
                    <a:pt x="16" y="158"/>
                    <a:pt x="17" y="149"/>
                    <a:pt x="26" y="144"/>
                  </a:cubicBezTo>
                  <a:cubicBezTo>
                    <a:pt x="36" y="138"/>
                    <a:pt x="45" y="145"/>
                    <a:pt x="54" y="142"/>
                  </a:cubicBezTo>
                  <a:cubicBezTo>
                    <a:pt x="46" y="136"/>
                    <a:pt x="61" y="102"/>
                    <a:pt x="63" y="94"/>
                  </a:cubicBezTo>
                  <a:cubicBezTo>
                    <a:pt x="66" y="82"/>
                    <a:pt x="69" y="68"/>
                    <a:pt x="75" y="57"/>
                  </a:cubicBezTo>
                  <a:cubicBezTo>
                    <a:pt x="81" y="47"/>
                    <a:pt x="89" y="39"/>
                    <a:pt x="98" y="32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5300"/>
            <p:cNvSpPr/>
            <p:nvPr/>
          </p:nvSpPr>
          <p:spPr>
            <a:xfrm>
              <a:off x="7183440" y="2854080"/>
              <a:ext cx="574560" cy="906480"/>
            </a:xfrm>
            <a:custGeom>
              <a:avLst/>
              <a:gdLst/>
              <a:ahLst/>
              <a:rect l="l" t="t" r="r" b="b"/>
              <a:pathLst>
                <a:path w="153" h="241">
                  <a:moveTo>
                    <a:pt x="96" y="4"/>
                  </a:moveTo>
                  <a:cubicBezTo>
                    <a:pt x="104" y="12"/>
                    <a:pt x="108" y="26"/>
                    <a:pt x="110" y="37"/>
                  </a:cubicBezTo>
                  <a:cubicBezTo>
                    <a:pt x="111" y="50"/>
                    <a:pt x="109" y="63"/>
                    <a:pt x="105" y="75"/>
                  </a:cubicBezTo>
                  <a:cubicBezTo>
                    <a:pt x="101" y="87"/>
                    <a:pt x="94" y="99"/>
                    <a:pt x="88" y="110"/>
                  </a:cubicBezTo>
                  <a:cubicBezTo>
                    <a:pt x="82" y="118"/>
                    <a:pt x="75" y="127"/>
                    <a:pt x="75" y="138"/>
                  </a:cubicBezTo>
                  <a:cubicBezTo>
                    <a:pt x="72" y="179"/>
                    <a:pt x="146" y="123"/>
                    <a:pt x="148" y="153"/>
                  </a:cubicBezTo>
                  <a:cubicBezTo>
                    <a:pt x="149" y="167"/>
                    <a:pt x="134" y="171"/>
                    <a:pt x="123" y="172"/>
                  </a:cubicBezTo>
                  <a:cubicBezTo>
                    <a:pt x="114" y="173"/>
                    <a:pt x="102" y="172"/>
                    <a:pt x="96" y="179"/>
                  </a:cubicBezTo>
                  <a:cubicBezTo>
                    <a:pt x="91" y="183"/>
                    <a:pt x="92" y="191"/>
                    <a:pt x="95" y="196"/>
                  </a:cubicBezTo>
                  <a:cubicBezTo>
                    <a:pt x="98" y="205"/>
                    <a:pt x="108" y="208"/>
                    <a:pt x="113" y="215"/>
                  </a:cubicBezTo>
                  <a:cubicBezTo>
                    <a:pt x="116" y="220"/>
                    <a:pt x="116" y="227"/>
                    <a:pt x="112" y="231"/>
                  </a:cubicBezTo>
                  <a:cubicBezTo>
                    <a:pt x="109" y="235"/>
                    <a:pt x="103" y="236"/>
                    <a:pt x="99" y="237"/>
                  </a:cubicBezTo>
                  <a:cubicBezTo>
                    <a:pt x="86" y="239"/>
                    <a:pt x="71" y="239"/>
                    <a:pt x="59" y="236"/>
                  </a:cubicBezTo>
                  <a:cubicBezTo>
                    <a:pt x="47" y="234"/>
                    <a:pt x="37" y="229"/>
                    <a:pt x="27" y="223"/>
                  </a:cubicBezTo>
                  <a:cubicBezTo>
                    <a:pt x="18" y="219"/>
                    <a:pt x="8" y="212"/>
                    <a:pt x="4" y="202"/>
                  </a:cubicBezTo>
                  <a:cubicBezTo>
                    <a:pt x="3" y="200"/>
                    <a:pt x="0" y="201"/>
                    <a:pt x="1" y="203"/>
                  </a:cubicBezTo>
                  <a:cubicBezTo>
                    <a:pt x="4" y="212"/>
                    <a:pt x="11" y="217"/>
                    <a:pt x="19" y="222"/>
                  </a:cubicBezTo>
                  <a:cubicBezTo>
                    <a:pt x="27" y="228"/>
                    <a:pt x="36" y="232"/>
                    <a:pt x="46" y="236"/>
                  </a:cubicBezTo>
                  <a:cubicBezTo>
                    <a:pt x="58" y="240"/>
                    <a:pt x="71" y="241"/>
                    <a:pt x="84" y="241"/>
                  </a:cubicBezTo>
                  <a:cubicBezTo>
                    <a:pt x="93" y="241"/>
                    <a:pt x="104" y="241"/>
                    <a:pt x="112" y="235"/>
                  </a:cubicBezTo>
                  <a:cubicBezTo>
                    <a:pt x="119" y="230"/>
                    <a:pt x="120" y="220"/>
                    <a:pt x="116" y="214"/>
                  </a:cubicBezTo>
                  <a:cubicBezTo>
                    <a:pt x="111" y="206"/>
                    <a:pt x="102" y="203"/>
                    <a:pt x="97" y="194"/>
                  </a:cubicBezTo>
                  <a:cubicBezTo>
                    <a:pt x="96" y="191"/>
                    <a:pt x="95" y="186"/>
                    <a:pt x="97" y="183"/>
                  </a:cubicBezTo>
                  <a:cubicBezTo>
                    <a:pt x="99" y="177"/>
                    <a:pt x="107" y="177"/>
                    <a:pt x="112" y="176"/>
                  </a:cubicBezTo>
                  <a:cubicBezTo>
                    <a:pt x="123" y="175"/>
                    <a:pt x="134" y="176"/>
                    <a:pt x="144" y="169"/>
                  </a:cubicBezTo>
                  <a:cubicBezTo>
                    <a:pt x="150" y="164"/>
                    <a:pt x="153" y="155"/>
                    <a:pt x="150" y="147"/>
                  </a:cubicBezTo>
                  <a:cubicBezTo>
                    <a:pt x="147" y="140"/>
                    <a:pt x="137" y="140"/>
                    <a:pt x="130" y="141"/>
                  </a:cubicBezTo>
                  <a:cubicBezTo>
                    <a:pt x="122" y="142"/>
                    <a:pt x="115" y="144"/>
                    <a:pt x="107" y="146"/>
                  </a:cubicBezTo>
                  <a:cubicBezTo>
                    <a:pt x="101" y="149"/>
                    <a:pt x="94" y="151"/>
                    <a:pt x="87" y="150"/>
                  </a:cubicBezTo>
                  <a:cubicBezTo>
                    <a:pt x="76" y="150"/>
                    <a:pt x="77" y="137"/>
                    <a:pt x="80" y="130"/>
                  </a:cubicBezTo>
                  <a:cubicBezTo>
                    <a:pt x="84" y="119"/>
                    <a:pt x="92" y="110"/>
                    <a:pt x="97" y="100"/>
                  </a:cubicBezTo>
                  <a:cubicBezTo>
                    <a:pt x="103" y="88"/>
                    <a:pt x="109" y="77"/>
                    <a:pt x="112" y="64"/>
                  </a:cubicBezTo>
                  <a:cubicBezTo>
                    <a:pt x="114" y="53"/>
                    <a:pt x="114" y="40"/>
                    <a:pt x="112" y="29"/>
                  </a:cubicBezTo>
                  <a:cubicBezTo>
                    <a:pt x="110" y="20"/>
                    <a:pt x="105" y="9"/>
                    <a:pt x="99" y="2"/>
                  </a:cubicBezTo>
                  <a:cubicBezTo>
                    <a:pt x="97" y="0"/>
                    <a:pt x="95" y="3"/>
                    <a:pt x="96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5301"/>
            <p:cNvSpPr/>
            <p:nvPr/>
          </p:nvSpPr>
          <p:spPr>
            <a:xfrm>
              <a:off x="6278400" y="2734920"/>
              <a:ext cx="728640" cy="1103400"/>
            </a:xfrm>
            <a:custGeom>
              <a:avLst/>
              <a:gdLst/>
              <a:ahLst/>
              <a:rect l="l" t="t" r="r" b="b"/>
              <a:pathLst>
                <a:path w="194" h="294">
                  <a:moveTo>
                    <a:pt x="101" y="291"/>
                  </a:moveTo>
                  <a:cubicBezTo>
                    <a:pt x="106" y="293"/>
                    <a:pt x="110" y="294"/>
                    <a:pt x="115" y="293"/>
                  </a:cubicBezTo>
                  <a:cubicBezTo>
                    <a:pt x="127" y="289"/>
                    <a:pt x="122" y="275"/>
                    <a:pt x="126" y="266"/>
                  </a:cubicBezTo>
                  <a:cubicBezTo>
                    <a:pt x="132" y="256"/>
                    <a:pt x="150" y="255"/>
                    <a:pt x="144" y="240"/>
                  </a:cubicBezTo>
                  <a:cubicBezTo>
                    <a:pt x="141" y="231"/>
                    <a:pt x="138" y="232"/>
                    <a:pt x="129" y="231"/>
                  </a:cubicBezTo>
                  <a:cubicBezTo>
                    <a:pt x="101" y="227"/>
                    <a:pt x="77" y="170"/>
                    <a:pt x="99" y="148"/>
                  </a:cubicBezTo>
                  <a:cubicBezTo>
                    <a:pt x="105" y="142"/>
                    <a:pt x="115" y="138"/>
                    <a:pt x="124" y="139"/>
                  </a:cubicBezTo>
                  <a:cubicBezTo>
                    <a:pt x="128" y="140"/>
                    <a:pt x="132" y="143"/>
                    <a:pt x="135" y="145"/>
                  </a:cubicBezTo>
                  <a:cubicBezTo>
                    <a:pt x="137" y="147"/>
                    <a:pt x="138" y="148"/>
                    <a:pt x="140" y="150"/>
                  </a:cubicBezTo>
                  <a:cubicBezTo>
                    <a:pt x="143" y="153"/>
                    <a:pt x="144" y="156"/>
                    <a:pt x="146" y="159"/>
                  </a:cubicBezTo>
                  <a:cubicBezTo>
                    <a:pt x="147" y="162"/>
                    <a:pt x="149" y="165"/>
                    <a:pt x="153" y="165"/>
                  </a:cubicBezTo>
                  <a:cubicBezTo>
                    <a:pt x="158" y="164"/>
                    <a:pt x="160" y="160"/>
                    <a:pt x="161" y="156"/>
                  </a:cubicBezTo>
                  <a:cubicBezTo>
                    <a:pt x="163" y="151"/>
                    <a:pt x="168" y="147"/>
                    <a:pt x="171" y="142"/>
                  </a:cubicBezTo>
                  <a:cubicBezTo>
                    <a:pt x="176" y="134"/>
                    <a:pt x="180" y="124"/>
                    <a:pt x="181" y="114"/>
                  </a:cubicBezTo>
                  <a:cubicBezTo>
                    <a:pt x="184" y="95"/>
                    <a:pt x="180" y="74"/>
                    <a:pt x="184" y="55"/>
                  </a:cubicBezTo>
                  <a:cubicBezTo>
                    <a:pt x="188" y="40"/>
                    <a:pt x="194" y="19"/>
                    <a:pt x="179" y="7"/>
                  </a:cubicBezTo>
                  <a:cubicBezTo>
                    <a:pt x="169" y="0"/>
                    <a:pt x="150" y="2"/>
                    <a:pt x="138" y="5"/>
                  </a:cubicBezTo>
                  <a:cubicBezTo>
                    <a:pt x="110" y="10"/>
                    <a:pt x="97" y="27"/>
                    <a:pt x="81" y="47"/>
                  </a:cubicBezTo>
                  <a:cubicBezTo>
                    <a:pt x="74" y="57"/>
                    <a:pt x="61" y="55"/>
                    <a:pt x="52" y="61"/>
                  </a:cubicBezTo>
                  <a:cubicBezTo>
                    <a:pt x="28" y="78"/>
                    <a:pt x="41" y="88"/>
                    <a:pt x="45" y="108"/>
                  </a:cubicBezTo>
                  <a:cubicBezTo>
                    <a:pt x="49" y="134"/>
                    <a:pt x="29" y="144"/>
                    <a:pt x="13" y="161"/>
                  </a:cubicBezTo>
                  <a:cubicBezTo>
                    <a:pt x="0" y="176"/>
                    <a:pt x="9" y="203"/>
                    <a:pt x="22" y="215"/>
                  </a:cubicBezTo>
                  <a:cubicBezTo>
                    <a:pt x="31" y="223"/>
                    <a:pt x="49" y="221"/>
                    <a:pt x="51" y="235"/>
                  </a:cubicBezTo>
                  <a:cubicBezTo>
                    <a:pt x="52" y="241"/>
                    <a:pt x="45" y="247"/>
                    <a:pt x="45" y="253"/>
                  </a:cubicBezTo>
                  <a:cubicBezTo>
                    <a:pt x="44" y="259"/>
                    <a:pt x="46" y="264"/>
                    <a:pt x="51" y="266"/>
                  </a:cubicBezTo>
                  <a:cubicBezTo>
                    <a:pt x="56" y="270"/>
                    <a:pt x="62" y="270"/>
                    <a:pt x="68" y="272"/>
                  </a:cubicBezTo>
                  <a:cubicBezTo>
                    <a:pt x="73" y="273"/>
                    <a:pt x="79" y="273"/>
                    <a:pt x="83" y="276"/>
                  </a:cubicBezTo>
                  <a:cubicBezTo>
                    <a:pt x="87" y="278"/>
                    <a:pt x="88" y="282"/>
                    <a:pt x="91" y="284"/>
                  </a:cubicBezTo>
                  <a:cubicBezTo>
                    <a:pt x="93" y="287"/>
                    <a:pt x="98" y="289"/>
                    <a:pt x="101" y="291"/>
                  </a:cubicBezTo>
                  <a:close/>
                </a:path>
              </a:pathLst>
            </a:custGeom>
            <a:solidFill>
              <a:srgbClr val="dce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5302">
              <a:hlinkClick r:id="rId7"/>
            </p:cNvPr>
            <p:cNvSpPr/>
            <p:nvPr/>
          </p:nvSpPr>
          <p:spPr>
            <a:xfrm>
              <a:off x="6575400" y="2933640"/>
              <a:ext cx="1731960" cy="1814400"/>
            </a:xfrm>
            <a:custGeom>
              <a:avLst/>
              <a:gdLst/>
              <a:ahLst/>
              <a:rect l="l" t="t" r="r" b="b"/>
              <a:pathLst>
                <a:path w="461" h="483">
                  <a:moveTo>
                    <a:pt x="105" y="70"/>
                  </a:moveTo>
                  <a:cubicBezTo>
                    <a:pt x="110" y="98"/>
                    <a:pt x="114" y="125"/>
                    <a:pt x="117" y="131"/>
                  </a:cubicBezTo>
                  <a:cubicBezTo>
                    <a:pt x="137" y="175"/>
                    <a:pt x="181" y="185"/>
                    <a:pt x="230" y="190"/>
                  </a:cubicBezTo>
                  <a:cubicBezTo>
                    <a:pt x="279" y="195"/>
                    <a:pt x="320" y="170"/>
                    <a:pt x="372" y="176"/>
                  </a:cubicBezTo>
                  <a:cubicBezTo>
                    <a:pt x="396" y="178"/>
                    <a:pt x="414" y="185"/>
                    <a:pt x="425" y="208"/>
                  </a:cubicBezTo>
                  <a:cubicBezTo>
                    <a:pt x="430" y="216"/>
                    <a:pt x="429" y="228"/>
                    <a:pt x="433" y="237"/>
                  </a:cubicBezTo>
                  <a:cubicBezTo>
                    <a:pt x="438" y="246"/>
                    <a:pt x="452" y="252"/>
                    <a:pt x="450" y="264"/>
                  </a:cubicBezTo>
                  <a:cubicBezTo>
                    <a:pt x="449" y="272"/>
                    <a:pt x="437" y="276"/>
                    <a:pt x="435" y="285"/>
                  </a:cubicBezTo>
                  <a:cubicBezTo>
                    <a:pt x="433" y="296"/>
                    <a:pt x="443" y="293"/>
                    <a:pt x="449" y="301"/>
                  </a:cubicBezTo>
                  <a:cubicBezTo>
                    <a:pt x="461" y="320"/>
                    <a:pt x="439" y="332"/>
                    <a:pt x="434" y="348"/>
                  </a:cubicBezTo>
                  <a:cubicBezTo>
                    <a:pt x="444" y="359"/>
                    <a:pt x="441" y="372"/>
                    <a:pt x="434" y="384"/>
                  </a:cubicBezTo>
                  <a:cubicBezTo>
                    <a:pt x="430" y="391"/>
                    <a:pt x="424" y="397"/>
                    <a:pt x="421" y="405"/>
                  </a:cubicBezTo>
                  <a:cubicBezTo>
                    <a:pt x="418" y="412"/>
                    <a:pt x="419" y="421"/>
                    <a:pt x="416" y="428"/>
                  </a:cubicBezTo>
                  <a:cubicBezTo>
                    <a:pt x="410" y="443"/>
                    <a:pt x="390" y="438"/>
                    <a:pt x="380" y="448"/>
                  </a:cubicBezTo>
                  <a:cubicBezTo>
                    <a:pt x="372" y="456"/>
                    <a:pt x="365" y="467"/>
                    <a:pt x="354" y="472"/>
                  </a:cubicBezTo>
                  <a:cubicBezTo>
                    <a:pt x="329" y="483"/>
                    <a:pt x="307" y="454"/>
                    <a:pt x="284" y="455"/>
                  </a:cubicBezTo>
                  <a:cubicBezTo>
                    <a:pt x="271" y="455"/>
                    <a:pt x="265" y="467"/>
                    <a:pt x="255" y="470"/>
                  </a:cubicBezTo>
                  <a:cubicBezTo>
                    <a:pt x="242" y="472"/>
                    <a:pt x="229" y="466"/>
                    <a:pt x="218" y="461"/>
                  </a:cubicBezTo>
                  <a:cubicBezTo>
                    <a:pt x="203" y="454"/>
                    <a:pt x="200" y="451"/>
                    <a:pt x="184" y="450"/>
                  </a:cubicBezTo>
                  <a:cubicBezTo>
                    <a:pt x="171" y="450"/>
                    <a:pt x="145" y="460"/>
                    <a:pt x="137" y="442"/>
                  </a:cubicBezTo>
                  <a:cubicBezTo>
                    <a:pt x="136" y="439"/>
                    <a:pt x="138" y="435"/>
                    <a:pt x="137" y="432"/>
                  </a:cubicBezTo>
                  <a:cubicBezTo>
                    <a:pt x="129" y="417"/>
                    <a:pt x="105" y="426"/>
                    <a:pt x="93" y="417"/>
                  </a:cubicBezTo>
                  <a:cubicBezTo>
                    <a:pt x="82" y="410"/>
                    <a:pt x="90" y="396"/>
                    <a:pt x="82" y="387"/>
                  </a:cubicBezTo>
                  <a:cubicBezTo>
                    <a:pt x="75" y="380"/>
                    <a:pt x="64" y="382"/>
                    <a:pt x="57" y="376"/>
                  </a:cubicBezTo>
                  <a:cubicBezTo>
                    <a:pt x="38" y="358"/>
                    <a:pt x="58" y="343"/>
                    <a:pt x="53" y="324"/>
                  </a:cubicBezTo>
                  <a:cubicBezTo>
                    <a:pt x="50" y="314"/>
                    <a:pt x="37" y="312"/>
                    <a:pt x="32" y="303"/>
                  </a:cubicBezTo>
                  <a:cubicBezTo>
                    <a:pt x="29" y="297"/>
                    <a:pt x="28" y="290"/>
                    <a:pt x="27" y="284"/>
                  </a:cubicBezTo>
                  <a:cubicBezTo>
                    <a:pt x="26" y="279"/>
                    <a:pt x="26" y="271"/>
                    <a:pt x="22" y="267"/>
                  </a:cubicBezTo>
                  <a:cubicBezTo>
                    <a:pt x="18" y="263"/>
                    <a:pt x="10" y="262"/>
                    <a:pt x="7" y="258"/>
                  </a:cubicBezTo>
                  <a:cubicBezTo>
                    <a:pt x="3" y="253"/>
                    <a:pt x="5" y="247"/>
                    <a:pt x="6" y="243"/>
                  </a:cubicBezTo>
                  <a:cubicBezTo>
                    <a:pt x="8" y="238"/>
                    <a:pt x="10" y="231"/>
                    <a:pt x="8" y="227"/>
                  </a:cubicBezTo>
                  <a:cubicBezTo>
                    <a:pt x="6" y="223"/>
                    <a:pt x="0" y="217"/>
                    <a:pt x="4" y="213"/>
                  </a:cubicBezTo>
                  <a:cubicBezTo>
                    <a:pt x="7" y="210"/>
                    <a:pt x="13" y="210"/>
                    <a:pt x="17" y="208"/>
                  </a:cubicBezTo>
                  <a:cubicBezTo>
                    <a:pt x="23" y="203"/>
                    <a:pt x="25" y="194"/>
                    <a:pt x="33" y="188"/>
                  </a:cubicBezTo>
                  <a:cubicBezTo>
                    <a:pt x="41" y="183"/>
                    <a:pt x="50" y="179"/>
                    <a:pt x="56" y="172"/>
                  </a:cubicBezTo>
                  <a:cubicBezTo>
                    <a:pt x="87" y="135"/>
                    <a:pt x="62" y="94"/>
                    <a:pt x="52" y="60"/>
                  </a:cubicBezTo>
                  <a:cubicBezTo>
                    <a:pt x="46" y="40"/>
                    <a:pt x="64" y="0"/>
                    <a:pt x="88" y="14"/>
                  </a:cubicBezTo>
                  <a:cubicBezTo>
                    <a:pt x="104" y="24"/>
                    <a:pt x="102" y="54"/>
                    <a:pt x="105" y="70"/>
                  </a:cubicBezTo>
                  <a:close/>
                </a:path>
              </a:pathLst>
            </a:custGeom>
            <a:solidFill>
              <a:srgbClr val="dce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5303"/>
            <p:cNvSpPr/>
            <p:nvPr/>
          </p:nvSpPr>
          <p:spPr>
            <a:xfrm>
              <a:off x="7149960" y="3447720"/>
              <a:ext cx="1179720" cy="615960"/>
            </a:xfrm>
            <a:custGeom>
              <a:avLst/>
              <a:gdLst/>
              <a:ahLst/>
              <a:rect l="l" t="t" r="r" b="b"/>
              <a:pathLst>
                <a:path w="314" h="164">
                  <a:moveTo>
                    <a:pt x="235" y="21"/>
                  </a:moveTo>
                  <a:cubicBezTo>
                    <a:pt x="228" y="16"/>
                    <a:pt x="221" y="11"/>
                    <a:pt x="212" y="8"/>
                  </a:cubicBezTo>
                  <a:cubicBezTo>
                    <a:pt x="186" y="0"/>
                    <a:pt x="181" y="28"/>
                    <a:pt x="157" y="31"/>
                  </a:cubicBezTo>
                  <a:cubicBezTo>
                    <a:pt x="146" y="33"/>
                    <a:pt x="137" y="26"/>
                    <a:pt x="126" y="25"/>
                  </a:cubicBezTo>
                  <a:cubicBezTo>
                    <a:pt x="115" y="24"/>
                    <a:pt x="106" y="25"/>
                    <a:pt x="96" y="29"/>
                  </a:cubicBezTo>
                  <a:cubicBezTo>
                    <a:pt x="78" y="37"/>
                    <a:pt x="61" y="51"/>
                    <a:pt x="51" y="68"/>
                  </a:cubicBezTo>
                  <a:cubicBezTo>
                    <a:pt x="43" y="81"/>
                    <a:pt x="40" y="97"/>
                    <a:pt x="33" y="110"/>
                  </a:cubicBezTo>
                  <a:cubicBezTo>
                    <a:pt x="31" y="114"/>
                    <a:pt x="3" y="147"/>
                    <a:pt x="0" y="142"/>
                  </a:cubicBezTo>
                  <a:cubicBezTo>
                    <a:pt x="10" y="164"/>
                    <a:pt x="40" y="162"/>
                    <a:pt x="59" y="157"/>
                  </a:cubicBezTo>
                  <a:cubicBezTo>
                    <a:pt x="84" y="150"/>
                    <a:pt x="107" y="136"/>
                    <a:pt x="124" y="118"/>
                  </a:cubicBezTo>
                  <a:cubicBezTo>
                    <a:pt x="141" y="100"/>
                    <a:pt x="148" y="85"/>
                    <a:pt x="175" y="90"/>
                  </a:cubicBezTo>
                  <a:cubicBezTo>
                    <a:pt x="195" y="93"/>
                    <a:pt x="214" y="98"/>
                    <a:pt x="234" y="101"/>
                  </a:cubicBezTo>
                  <a:cubicBezTo>
                    <a:pt x="255" y="104"/>
                    <a:pt x="313" y="116"/>
                    <a:pt x="314" y="81"/>
                  </a:cubicBezTo>
                  <a:cubicBezTo>
                    <a:pt x="314" y="79"/>
                    <a:pt x="314" y="77"/>
                    <a:pt x="313" y="75"/>
                  </a:cubicBezTo>
                  <a:cubicBezTo>
                    <a:pt x="272" y="73"/>
                    <a:pt x="259" y="41"/>
                    <a:pt x="235" y="21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5307"/>
            <p:cNvSpPr/>
            <p:nvPr/>
          </p:nvSpPr>
          <p:spPr>
            <a:xfrm>
              <a:off x="7224840" y="2977920"/>
              <a:ext cx="158760" cy="7596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38" y="19"/>
                  </a:moveTo>
                  <a:cubicBezTo>
                    <a:pt x="32" y="17"/>
                    <a:pt x="26" y="14"/>
                    <a:pt x="20" y="11"/>
                  </a:cubicBezTo>
                  <a:cubicBezTo>
                    <a:pt x="14" y="9"/>
                    <a:pt x="9" y="8"/>
                    <a:pt x="3" y="5"/>
                  </a:cubicBezTo>
                  <a:cubicBezTo>
                    <a:pt x="0" y="4"/>
                    <a:pt x="2" y="0"/>
                    <a:pt x="5" y="1"/>
                  </a:cubicBezTo>
                  <a:cubicBezTo>
                    <a:pt x="10" y="4"/>
                    <a:pt x="16" y="5"/>
                    <a:pt x="21" y="7"/>
                  </a:cubicBezTo>
                  <a:cubicBezTo>
                    <a:pt x="27" y="9"/>
                    <a:pt x="33" y="13"/>
                    <a:pt x="39" y="14"/>
                  </a:cubicBezTo>
                  <a:cubicBezTo>
                    <a:pt x="42" y="15"/>
                    <a:pt x="41" y="20"/>
                    <a:pt x="38" y="19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5308"/>
            <p:cNvSpPr/>
            <p:nvPr/>
          </p:nvSpPr>
          <p:spPr>
            <a:xfrm>
              <a:off x="7416720" y="2917440"/>
              <a:ext cx="120600" cy="12852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0" y="4"/>
                  </a:moveTo>
                  <a:cubicBezTo>
                    <a:pt x="27" y="10"/>
                    <a:pt x="21" y="14"/>
                    <a:pt x="17" y="18"/>
                  </a:cubicBezTo>
                  <a:cubicBezTo>
                    <a:pt x="13" y="23"/>
                    <a:pt x="10" y="28"/>
                    <a:pt x="5" y="32"/>
                  </a:cubicBezTo>
                  <a:cubicBezTo>
                    <a:pt x="3" y="34"/>
                    <a:pt x="0" y="31"/>
                    <a:pt x="2" y="29"/>
                  </a:cubicBezTo>
                  <a:cubicBezTo>
                    <a:pt x="6" y="25"/>
                    <a:pt x="10" y="21"/>
                    <a:pt x="13" y="16"/>
                  </a:cubicBezTo>
                  <a:cubicBezTo>
                    <a:pt x="18" y="11"/>
                    <a:pt x="23" y="7"/>
                    <a:pt x="27" y="2"/>
                  </a:cubicBezTo>
                  <a:cubicBezTo>
                    <a:pt x="28" y="0"/>
                    <a:pt x="32" y="2"/>
                    <a:pt x="30" y="4"/>
                  </a:cubicBezTo>
                  <a:close/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Oval 5309"/>
            <p:cNvSpPr/>
            <p:nvPr/>
          </p:nvSpPr>
          <p:spPr>
            <a:xfrm>
              <a:off x="7331040" y="3049560"/>
              <a:ext cx="41040" cy="60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Oval 5310"/>
            <p:cNvSpPr/>
            <p:nvPr/>
          </p:nvSpPr>
          <p:spPr>
            <a:xfrm>
              <a:off x="7439040" y="3035160"/>
              <a:ext cx="41040" cy="60120"/>
            </a:xfrm>
            <a:prstGeom prst="ellips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5" name="组合 10"/>
          <p:cNvGrpSpPr/>
          <p:nvPr/>
        </p:nvGrpSpPr>
        <p:grpSpPr>
          <a:xfrm>
            <a:off x="8783640" y="1824120"/>
            <a:ext cx="1243080" cy="1190520"/>
            <a:chOff x="8783640" y="1824120"/>
            <a:chExt cx="1243080" cy="1190520"/>
          </a:xfrm>
        </p:grpSpPr>
        <p:grpSp>
          <p:nvGrpSpPr>
            <p:cNvPr id="1456" name="组合 6"/>
            <p:cNvGrpSpPr/>
            <p:nvPr/>
          </p:nvGrpSpPr>
          <p:grpSpPr>
            <a:xfrm>
              <a:off x="8783640" y="1824120"/>
              <a:ext cx="1243080" cy="1190520"/>
              <a:chOff x="8783640" y="1824120"/>
              <a:chExt cx="1243080" cy="1190520"/>
            </a:xfrm>
          </p:grpSpPr>
          <p:sp>
            <p:nvSpPr>
              <p:cNvPr id="1457" name="Freeform 5278">
                <a:hlinkClick r:id="rId8"/>
              </p:cNvPr>
              <p:cNvSpPr/>
              <p:nvPr/>
            </p:nvSpPr>
            <p:spPr>
              <a:xfrm>
                <a:off x="8783640" y="1824120"/>
                <a:ext cx="1243080" cy="1190520"/>
              </a:xfrm>
              <a:custGeom>
                <a:avLst/>
                <a:gdLst/>
                <a:ahLst/>
                <a:rect l="l" t="t" r="r" b="b"/>
                <a:pathLst>
                  <a:path w="331" h="317">
                    <a:moveTo>
                      <a:pt x="283" y="48"/>
                    </a:moveTo>
                    <a:cubicBezTo>
                      <a:pt x="292" y="57"/>
                      <a:pt x="300" y="67"/>
                      <a:pt x="306" y="74"/>
                    </a:cubicBezTo>
                    <a:cubicBezTo>
                      <a:pt x="321" y="95"/>
                      <a:pt x="331" y="120"/>
                      <a:pt x="330" y="146"/>
                    </a:cubicBezTo>
                    <a:cubicBezTo>
                      <a:pt x="328" y="189"/>
                      <a:pt x="325" y="231"/>
                      <a:pt x="288" y="259"/>
                    </a:cubicBezTo>
                    <a:cubicBezTo>
                      <a:pt x="232" y="300"/>
                      <a:pt x="166" y="317"/>
                      <a:pt x="102" y="281"/>
                    </a:cubicBezTo>
                    <a:cubicBezTo>
                      <a:pt x="70" y="264"/>
                      <a:pt x="40" y="244"/>
                      <a:pt x="26" y="209"/>
                    </a:cubicBezTo>
                    <a:cubicBezTo>
                      <a:pt x="0" y="148"/>
                      <a:pt x="0" y="81"/>
                      <a:pt x="58" y="38"/>
                    </a:cubicBezTo>
                    <a:cubicBezTo>
                      <a:pt x="98" y="9"/>
                      <a:pt x="154" y="0"/>
                      <a:pt x="203" y="11"/>
                    </a:cubicBezTo>
                    <a:cubicBezTo>
                      <a:pt x="220" y="15"/>
                      <a:pt x="239" y="18"/>
                      <a:pt x="255" y="26"/>
                    </a:cubicBezTo>
                    <a:cubicBezTo>
                      <a:pt x="263" y="31"/>
                      <a:pt x="274" y="39"/>
                      <a:pt x="283" y="48"/>
                    </a:cubicBez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5283"/>
              <p:cNvSpPr/>
              <p:nvPr/>
            </p:nvSpPr>
            <p:spPr>
              <a:xfrm>
                <a:off x="9306000" y="2360520"/>
                <a:ext cx="149040" cy="218880"/>
              </a:xfrm>
              <a:custGeom>
                <a:avLst/>
                <a:gdLst/>
                <a:ahLst/>
                <a:rect l="l" t="t" r="r" b="b"/>
                <a:pathLst>
                  <a:path w="94" h="138">
                    <a:moveTo>
                      <a:pt x="0" y="119"/>
                    </a:moveTo>
                    <a:lnTo>
                      <a:pt x="52" y="138"/>
                    </a:lnTo>
                    <a:lnTo>
                      <a:pt x="94" y="19"/>
                    </a:lnTo>
                    <a:lnTo>
                      <a:pt x="42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5284"/>
              <p:cNvSpPr/>
              <p:nvPr/>
            </p:nvSpPr>
            <p:spPr>
              <a:xfrm>
                <a:off x="9182160" y="2252520"/>
                <a:ext cx="168120" cy="280800"/>
              </a:xfrm>
              <a:custGeom>
                <a:avLst/>
                <a:gdLst/>
                <a:ahLst/>
                <a:rect l="l" t="t" r="r" b="b"/>
                <a:pathLst>
                  <a:path w="106" h="177">
                    <a:moveTo>
                      <a:pt x="0" y="158"/>
                    </a:moveTo>
                    <a:lnTo>
                      <a:pt x="49" y="177"/>
                    </a:lnTo>
                    <a:lnTo>
                      <a:pt x="106" y="19"/>
                    </a:lnTo>
                    <a:lnTo>
                      <a:pt x="56" y="0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5285"/>
              <p:cNvSpPr/>
              <p:nvPr/>
            </p:nvSpPr>
            <p:spPr>
              <a:xfrm>
                <a:off x="9053280" y="2143080"/>
                <a:ext cx="195120" cy="345960"/>
              </a:xfrm>
              <a:custGeom>
                <a:avLst/>
                <a:gdLst/>
                <a:ahLst/>
                <a:rect l="l" t="t" r="r" b="b"/>
                <a:pathLst>
                  <a:path w="123" h="218">
                    <a:moveTo>
                      <a:pt x="0" y="199"/>
                    </a:moveTo>
                    <a:lnTo>
                      <a:pt x="52" y="218"/>
                    </a:lnTo>
                    <a:lnTo>
                      <a:pt x="123" y="19"/>
                    </a:lnTo>
                    <a:lnTo>
                      <a:pt x="71" y="0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5286"/>
              <p:cNvSpPr/>
              <p:nvPr/>
            </p:nvSpPr>
            <p:spPr>
              <a:xfrm>
                <a:off x="9012240" y="2313000"/>
                <a:ext cx="792360" cy="404640"/>
              </a:xfrm>
              <a:custGeom>
                <a:avLst/>
                <a:gdLst/>
                <a:ahLst/>
                <a:rect l="l" t="t" r="r" b="b"/>
                <a:pathLst>
                  <a:path w="499" h="255">
                    <a:moveTo>
                      <a:pt x="487" y="0"/>
                    </a:moveTo>
                    <a:lnTo>
                      <a:pt x="435" y="144"/>
                    </a:lnTo>
                    <a:lnTo>
                      <a:pt x="424" y="180"/>
                    </a:lnTo>
                    <a:lnTo>
                      <a:pt x="402" y="239"/>
                    </a:lnTo>
                    <a:lnTo>
                      <a:pt x="5" y="99"/>
                    </a:lnTo>
                    <a:lnTo>
                      <a:pt x="0" y="111"/>
                    </a:lnTo>
                    <a:lnTo>
                      <a:pt x="398" y="251"/>
                    </a:lnTo>
                    <a:lnTo>
                      <a:pt x="409" y="255"/>
                    </a:lnTo>
                    <a:lnTo>
                      <a:pt x="414" y="243"/>
                    </a:lnTo>
                    <a:lnTo>
                      <a:pt x="435" y="184"/>
                    </a:lnTo>
                    <a:lnTo>
                      <a:pt x="447" y="149"/>
                    </a:lnTo>
                    <a:lnTo>
                      <a:pt x="499" y="4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686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5287"/>
              <p:cNvSpPr/>
              <p:nvPr/>
            </p:nvSpPr>
            <p:spPr>
              <a:xfrm>
                <a:off x="9553680" y="2165400"/>
                <a:ext cx="90360" cy="871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9"/>
                    </a:moveTo>
                    <a:cubicBezTo>
                      <a:pt x="23" y="10"/>
                      <a:pt x="23" y="11"/>
                      <a:pt x="22" y="12"/>
                    </a:cubicBezTo>
                    <a:cubicBezTo>
                      <a:pt x="21" y="13"/>
                      <a:pt x="20" y="15"/>
                      <a:pt x="19" y="16"/>
                    </a:cubicBezTo>
                    <a:cubicBezTo>
                      <a:pt x="18" y="17"/>
                      <a:pt x="17" y="18"/>
                      <a:pt x="16" y="19"/>
                    </a:cubicBezTo>
                    <a:cubicBezTo>
                      <a:pt x="15" y="20"/>
                      <a:pt x="14" y="21"/>
                      <a:pt x="12" y="22"/>
                    </a:cubicBezTo>
                    <a:cubicBezTo>
                      <a:pt x="11" y="22"/>
                      <a:pt x="9" y="23"/>
                      <a:pt x="8" y="23"/>
                    </a:cubicBezTo>
                    <a:cubicBezTo>
                      <a:pt x="6" y="23"/>
                      <a:pt x="5" y="23"/>
                      <a:pt x="3" y="22"/>
                    </a:cubicBezTo>
                    <a:cubicBezTo>
                      <a:pt x="3" y="22"/>
                      <a:pt x="2" y="22"/>
                      <a:pt x="1" y="21"/>
                    </a:cubicBezTo>
                    <a:cubicBezTo>
                      <a:pt x="1" y="20"/>
                      <a:pt x="1" y="20"/>
                      <a:pt x="0" y="19"/>
                    </a:cubicBezTo>
                    <a:cubicBezTo>
                      <a:pt x="0" y="18"/>
                      <a:pt x="0" y="17"/>
                      <a:pt x="0" y="16"/>
                    </a:cubicBezTo>
                    <a:cubicBezTo>
                      <a:pt x="0" y="15"/>
                      <a:pt x="0" y="15"/>
                      <a:pt x="0" y="14"/>
                    </a:cubicBezTo>
                    <a:cubicBezTo>
                      <a:pt x="1" y="13"/>
                      <a:pt x="1" y="12"/>
                      <a:pt x="2" y="11"/>
                    </a:cubicBezTo>
                    <a:cubicBezTo>
                      <a:pt x="3" y="9"/>
                      <a:pt x="4" y="8"/>
                      <a:pt x="5" y="7"/>
                    </a:cubicBezTo>
                    <a:cubicBezTo>
                      <a:pt x="6" y="6"/>
                      <a:pt x="7" y="5"/>
                      <a:pt x="8" y="4"/>
                    </a:cubicBezTo>
                    <a:cubicBezTo>
                      <a:pt x="9" y="3"/>
                      <a:pt x="10" y="2"/>
                      <a:pt x="11" y="2"/>
                    </a:cubicBezTo>
                    <a:cubicBezTo>
                      <a:pt x="12" y="1"/>
                      <a:pt x="13" y="1"/>
                      <a:pt x="14" y="1"/>
                    </a:cubicBezTo>
                    <a:cubicBezTo>
                      <a:pt x="15" y="0"/>
                      <a:pt x="16" y="0"/>
                      <a:pt x="16" y="0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9" y="0"/>
                      <a:pt x="20" y="0"/>
                      <a:pt x="20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1" y="0"/>
                      <a:pt x="21" y="1"/>
                      <a:pt x="22" y="1"/>
                    </a:cubicBezTo>
                    <a:cubicBezTo>
                      <a:pt x="22" y="1"/>
                      <a:pt x="23" y="1"/>
                      <a:pt x="23" y="2"/>
                    </a:cubicBezTo>
                    <a:cubicBezTo>
                      <a:pt x="23" y="2"/>
                      <a:pt x="24" y="3"/>
                      <a:pt x="24" y="4"/>
                    </a:cubicBezTo>
                    <a:cubicBezTo>
                      <a:pt x="24" y="5"/>
                      <a:pt x="24" y="5"/>
                      <a:pt x="24" y="6"/>
                    </a:cubicBezTo>
                    <a:cubicBezTo>
                      <a:pt x="24" y="7"/>
                      <a:pt x="24" y="8"/>
                      <a:pt x="24" y="9"/>
                    </a:cubicBezTo>
                    <a:close/>
                    <a:moveTo>
                      <a:pt x="20" y="7"/>
                    </a:moveTo>
                    <a:cubicBezTo>
                      <a:pt x="20" y="6"/>
                      <a:pt x="20" y="5"/>
                      <a:pt x="20" y="4"/>
                    </a:cubicBezTo>
                    <a:cubicBezTo>
                      <a:pt x="20" y="4"/>
                      <a:pt x="20" y="3"/>
                      <a:pt x="19" y="3"/>
                    </a:cubicBezTo>
                    <a:cubicBezTo>
                      <a:pt x="19" y="3"/>
                      <a:pt x="19" y="3"/>
                      <a:pt x="18" y="3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6" y="3"/>
                      <a:pt x="16" y="4"/>
                      <a:pt x="15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3" y="5"/>
                      <a:pt x="12" y="5"/>
                      <a:pt x="11" y="6"/>
                    </a:cubicBezTo>
                    <a:cubicBezTo>
                      <a:pt x="10" y="7"/>
                      <a:pt x="9" y="8"/>
                      <a:pt x="9" y="9"/>
                    </a:cubicBezTo>
                    <a:cubicBezTo>
                      <a:pt x="8" y="10"/>
                      <a:pt x="7" y="11"/>
                      <a:pt x="6" y="12"/>
                    </a:cubicBezTo>
                    <a:cubicBezTo>
                      <a:pt x="5" y="13"/>
                      <a:pt x="5" y="14"/>
                      <a:pt x="4" y="15"/>
                    </a:cubicBezTo>
                    <a:cubicBezTo>
                      <a:pt x="4" y="16"/>
                      <a:pt x="4" y="17"/>
                      <a:pt x="4" y="17"/>
                    </a:cubicBezTo>
                    <a:cubicBezTo>
                      <a:pt x="4" y="18"/>
                      <a:pt x="4" y="18"/>
                      <a:pt x="4" y="19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6" y="20"/>
                      <a:pt x="7" y="20"/>
                      <a:pt x="8" y="20"/>
                    </a:cubicBezTo>
                    <a:cubicBezTo>
                      <a:pt x="9" y="19"/>
                      <a:pt x="10" y="19"/>
                      <a:pt x="11" y="18"/>
                    </a:cubicBezTo>
                    <a:cubicBezTo>
                      <a:pt x="12" y="17"/>
                      <a:pt x="13" y="17"/>
                      <a:pt x="14" y="16"/>
                    </a:cubicBezTo>
                    <a:cubicBezTo>
                      <a:pt x="15" y="15"/>
                      <a:pt x="16" y="14"/>
                      <a:pt x="17" y="13"/>
                    </a:cubicBezTo>
                    <a:cubicBezTo>
                      <a:pt x="17" y="12"/>
                      <a:pt x="18" y="11"/>
                      <a:pt x="19" y="10"/>
                    </a:cubicBezTo>
                    <a:cubicBezTo>
                      <a:pt x="19" y="9"/>
                      <a:pt x="20" y="8"/>
                      <a:pt x="20" y="7"/>
                    </a:cubicBez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5288"/>
              <p:cNvSpPr/>
              <p:nvPr/>
            </p:nvSpPr>
            <p:spPr>
              <a:xfrm>
                <a:off x="9655200" y="2176560"/>
                <a:ext cx="129960" cy="1285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5" y="7"/>
                    </a:moveTo>
                    <a:cubicBezTo>
                      <a:pt x="6" y="6"/>
                      <a:pt x="6" y="5"/>
                      <a:pt x="8" y="4"/>
                    </a:cubicBezTo>
                    <a:cubicBezTo>
                      <a:pt x="9" y="3"/>
                      <a:pt x="10" y="2"/>
                      <a:pt x="11" y="2"/>
                    </a:cubicBezTo>
                    <a:cubicBezTo>
                      <a:pt x="12" y="1"/>
                      <a:pt x="14" y="1"/>
                      <a:pt x="15" y="1"/>
                    </a:cubicBezTo>
                    <a:cubicBezTo>
                      <a:pt x="16" y="0"/>
                      <a:pt x="17" y="0"/>
                      <a:pt x="17" y="1"/>
                    </a:cubicBezTo>
                    <a:cubicBezTo>
                      <a:pt x="18" y="1"/>
                      <a:pt x="19" y="1"/>
                      <a:pt x="19" y="2"/>
                    </a:cubicBezTo>
                    <a:cubicBezTo>
                      <a:pt x="19" y="2"/>
                      <a:pt x="20" y="3"/>
                      <a:pt x="20" y="4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20" y="7"/>
                      <a:pt x="20" y="8"/>
                    </a:cubicBezTo>
                    <a:cubicBezTo>
                      <a:pt x="19" y="9"/>
                      <a:pt x="19" y="10"/>
                      <a:pt x="18" y="11"/>
                    </a:cubicBezTo>
                    <a:cubicBezTo>
                      <a:pt x="17" y="11"/>
                      <a:pt x="16" y="12"/>
                      <a:pt x="15" y="12"/>
                    </a:cubicBezTo>
                    <a:cubicBezTo>
                      <a:pt x="14" y="13"/>
                      <a:pt x="13" y="13"/>
                      <a:pt x="11" y="13"/>
                    </a:cubicBezTo>
                    <a:cubicBezTo>
                      <a:pt x="10" y="13"/>
                      <a:pt x="9" y="13"/>
                      <a:pt x="8" y="12"/>
                    </a:cubicBezTo>
                    <a:cubicBezTo>
                      <a:pt x="7" y="12"/>
                      <a:pt x="6" y="11"/>
                      <a:pt x="6" y="10"/>
                    </a:cubicBezTo>
                    <a:cubicBezTo>
                      <a:pt x="5" y="9"/>
                      <a:pt x="5" y="8"/>
                      <a:pt x="5" y="7"/>
                    </a:cubicBezTo>
                    <a:close/>
                    <a:moveTo>
                      <a:pt x="32" y="8"/>
                    </a:moveTo>
                    <a:cubicBezTo>
                      <a:pt x="32" y="8"/>
                      <a:pt x="32" y="8"/>
                      <a:pt x="33" y="8"/>
                    </a:cubicBezTo>
                    <a:cubicBezTo>
                      <a:pt x="33" y="8"/>
                      <a:pt x="33" y="8"/>
                      <a:pt x="34" y="9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35" y="9"/>
                      <a:pt x="35" y="10"/>
                      <a:pt x="35" y="10"/>
                    </a:cubicBezTo>
                    <a:cubicBezTo>
                      <a:pt x="35" y="10"/>
                      <a:pt x="34" y="10"/>
                      <a:pt x="34" y="10"/>
                    </a:cubicBezTo>
                    <a:cubicBezTo>
                      <a:pt x="34" y="11"/>
                      <a:pt x="34" y="11"/>
                      <a:pt x="33" y="11"/>
                    </a:cubicBezTo>
                    <a:cubicBezTo>
                      <a:pt x="33" y="11"/>
                      <a:pt x="32" y="11"/>
                      <a:pt x="30" y="12"/>
                    </a:cubicBezTo>
                    <a:cubicBezTo>
                      <a:pt x="29" y="13"/>
                      <a:pt x="27" y="14"/>
                      <a:pt x="26" y="15"/>
                    </a:cubicBezTo>
                    <a:cubicBezTo>
                      <a:pt x="24" y="16"/>
                      <a:pt x="22" y="17"/>
                      <a:pt x="21" y="18"/>
                    </a:cubicBezTo>
                    <a:cubicBezTo>
                      <a:pt x="19" y="19"/>
                      <a:pt x="17" y="20"/>
                      <a:pt x="16" y="21"/>
                    </a:cubicBezTo>
                    <a:cubicBezTo>
                      <a:pt x="14" y="23"/>
                      <a:pt x="13" y="24"/>
                      <a:pt x="11" y="25"/>
                    </a:cubicBezTo>
                    <a:cubicBezTo>
                      <a:pt x="10" y="25"/>
                      <a:pt x="9" y="26"/>
                      <a:pt x="8" y="26"/>
                    </a:cubicBezTo>
                    <a:cubicBezTo>
                      <a:pt x="8" y="27"/>
                      <a:pt x="8" y="27"/>
                      <a:pt x="7" y="27"/>
                    </a:cubicBezTo>
                    <a:cubicBezTo>
                      <a:pt x="7" y="28"/>
                      <a:pt x="6" y="28"/>
                      <a:pt x="6" y="28"/>
                    </a:cubicBezTo>
                    <a:cubicBezTo>
                      <a:pt x="5" y="29"/>
                      <a:pt x="5" y="29"/>
                      <a:pt x="5" y="30"/>
                    </a:cubicBezTo>
                    <a:cubicBezTo>
                      <a:pt x="5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3" y="30"/>
                    </a:cubicBezTo>
                    <a:cubicBezTo>
                      <a:pt x="3" y="30"/>
                      <a:pt x="2" y="30"/>
                      <a:pt x="2" y="29"/>
                    </a:cubicBezTo>
                    <a:cubicBezTo>
                      <a:pt x="1" y="29"/>
                      <a:pt x="1" y="29"/>
                      <a:pt x="1" y="28"/>
                    </a:cubicBezTo>
                    <a:cubicBezTo>
                      <a:pt x="0" y="28"/>
                      <a:pt x="0" y="28"/>
                      <a:pt x="1" y="27"/>
                    </a:cubicBezTo>
                    <a:cubicBezTo>
                      <a:pt x="1" y="27"/>
                      <a:pt x="2" y="27"/>
                      <a:pt x="3" y="26"/>
                    </a:cubicBezTo>
                    <a:cubicBezTo>
                      <a:pt x="5" y="25"/>
                      <a:pt x="6" y="23"/>
                      <a:pt x="8" y="22"/>
                    </a:cubicBezTo>
                    <a:cubicBezTo>
                      <a:pt x="10" y="21"/>
                      <a:pt x="12" y="19"/>
                      <a:pt x="14" y="18"/>
                    </a:cubicBezTo>
                    <a:cubicBezTo>
                      <a:pt x="17" y="17"/>
                      <a:pt x="19" y="15"/>
                      <a:pt x="21" y="14"/>
                    </a:cubicBezTo>
                    <a:cubicBezTo>
                      <a:pt x="23" y="13"/>
                      <a:pt x="25" y="11"/>
                      <a:pt x="26" y="10"/>
                    </a:cubicBezTo>
                    <a:cubicBezTo>
                      <a:pt x="28" y="10"/>
                      <a:pt x="29" y="9"/>
                      <a:pt x="30" y="8"/>
                    </a:cubicBezTo>
                    <a:cubicBezTo>
                      <a:pt x="30" y="8"/>
                      <a:pt x="31" y="8"/>
                      <a:pt x="31" y="8"/>
                    </a:cubicBezTo>
                    <a:cubicBezTo>
                      <a:pt x="31" y="8"/>
                      <a:pt x="32" y="8"/>
                      <a:pt x="32" y="8"/>
                    </a:cubicBezTo>
                    <a:close/>
                    <a:moveTo>
                      <a:pt x="9" y="8"/>
                    </a:moveTo>
                    <a:cubicBezTo>
                      <a:pt x="9" y="8"/>
                      <a:pt x="9" y="9"/>
                      <a:pt x="9" y="9"/>
                    </a:cubicBezTo>
                    <a:cubicBezTo>
                      <a:pt x="9" y="9"/>
                      <a:pt x="10" y="10"/>
                      <a:pt x="10" y="10"/>
                    </a:cubicBezTo>
                    <a:cubicBezTo>
                      <a:pt x="11" y="10"/>
                      <a:pt x="11" y="10"/>
                      <a:pt x="12" y="10"/>
                    </a:cubicBezTo>
                    <a:cubicBezTo>
                      <a:pt x="13" y="10"/>
                      <a:pt x="13" y="10"/>
                      <a:pt x="14" y="10"/>
                    </a:cubicBezTo>
                    <a:cubicBezTo>
                      <a:pt x="14" y="9"/>
                      <a:pt x="15" y="9"/>
                      <a:pt x="15" y="9"/>
                    </a:cubicBezTo>
                    <a:cubicBezTo>
                      <a:pt x="16" y="8"/>
                      <a:pt x="16" y="8"/>
                      <a:pt x="17" y="7"/>
                    </a:cubicBezTo>
                    <a:cubicBezTo>
                      <a:pt x="17" y="6"/>
                      <a:pt x="17" y="6"/>
                      <a:pt x="17" y="5"/>
                    </a:cubicBezTo>
                    <a:cubicBezTo>
                      <a:pt x="17" y="5"/>
                      <a:pt x="16" y="4"/>
                      <a:pt x="16" y="4"/>
                    </a:cubicBezTo>
                    <a:cubicBezTo>
                      <a:pt x="15" y="4"/>
                      <a:pt x="14" y="4"/>
                      <a:pt x="14" y="4"/>
                    </a:cubicBezTo>
                    <a:cubicBezTo>
                      <a:pt x="13" y="4"/>
                      <a:pt x="12" y="4"/>
                      <a:pt x="12" y="5"/>
                    </a:cubicBezTo>
                    <a:cubicBezTo>
                      <a:pt x="11" y="5"/>
                      <a:pt x="10" y="6"/>
                      <a:pt x="10" y="6"/>
                    </a:cubicBezTo>
                    <a:cubicBezTo>
                      <a:pt x="9" y="7"/>
                      <a:pt x="9" y="7"/>
                      <a:pt x="9" y="8"/>
                    </a:cubicBezTo>
                    <a:close/>
                    <a:moveTo>
                      <a:pt x="16" y="28"/>
                    </a:moveTo>
                    <a:cubicBezTo>
                      <a:pt x="16" y="28"/>
                      <a:pt x="16" y="27"/>
                      <a:pt x="17" y="26"/>
                    </a:cubicBezTo>
                    <a:cubicBezTo>
                      <a:pt x="18" y="25"/>
                      <a:pt x="19" y="24"/>
                      <a:pt x="20" y="24"/>
                    </a:cubicBezTo>
                    <a:cubicBezTo>
                      <a:pt x="21" y="23"/>
                      <a:pt x="22" y="23"/>
                      <a:pt x="23" y="22"/>
                    </a:cubicBezTo>
                    <a:cubicBezTo>
                      <a:pt x="24" y="22"/>
                      <a:pt x="25" y="22"/>
                      <a:pt x="26" y="22"/>
                    </a:cubicBezTo>
                    <a:cubicBezTo>
                      <a:pt x="27" y="22"/>
                      <a:pt x="28" y="23"/>
                      <a:pt x="28" y="23"/>
                    </a:cubicBezTo>
                    <a:cubicBezTo>
                      <a:pt x="29" y="24"/>
                      <a:pt x="29" y="24"/>
                      <a:pt x="30" y="25"/>
                    </a:cubicBezTo>
                    <a:cubicBezTo>
                      <a:pt x="30" y="25"/>
                      <a:pt x="31" y="26"/>
                      <a:pt x="31" y="27"/>
                    </a:cubicBezTo>
                    <a:cubicBezTo>
                      <a:pt x="31" y="27"/>
                      <a:pt x="31" y="28"/>
                      <a:pt x="31" y="29"/>
                    </a:cubicBezTo>
                    <a:cubicBezTo>
                      <a:pt x="30" y="30"/>
                      <a:pt x="30" y="30"/>
                      <a:pt x="29" y="31"/>
                    </a:cubicBezTo>
                    <a:cubicBezTo>
                      <a:pt x="28" y="32"/>
                      <a:pt x="26" y="33"/>
                      <a:pt x="25" y="33"/>
                    </a:cubicBezTo>
                    <a:cubicBezTo>
                      <a:pt x="24" y="34"/>
                      <a:pt x="23" y="34"/>
                      <a:pt x="21" y="34"/>
                    </a:cubicBezTo>
                    <a:cubicBezTo>
                      <a:pt x="20" y="34"/>
                      <a:pt x="19" y="34"/>
                      <a:pt x="18" y="34"/>
                    </a:cubicBezTo>
                    <a:cubicBezTo>
                      <a:pt x="18" y="34"/>
                      <a:pt x="18" y="34"/>
                      <a:pt x="17" y="33"/>
                    </a:cubicBezTo>
                    <a:cubicBezTo>
                      <a:pt x="17" y="33"/>
                      <a:pt x="17" y="33"/>
                      <a:pt x="16" y="32"/>
                    </a:cubicBezTo>
                    <a:cubicBezTo>
                      <a:pt x="16" y="32"/>
                      <a:pt x="16" y="31"/>
                      <a:pt x="15" y="30"/>
                    </a:cubicBezTo>
                    <a:cubicBezTo>
                      <a:pt x="15" y="30"/>
                      <a:pt x="15" y="29"/>
                      <a:pt x="16" y="28"/>
                    </a:cubicBezTo>
                    <a:close/>
                    <a:moveTo>
                      <a:pt x="19" y="29"/>
                    </a:moveTo>
                    <a:cubicBezTo>
                      <a:pt x="19" y="29"/>
                      <a:pt x="19" y="30"/>
                      <a:pt x="19" y="30"/>
                    </a:cubicBezTo>
                    <a:cubicBezTo>
                      <a:pt x="19" y="31"/>
                      <a:pt x="19" y="31"/>
                      <a:pt x="20" y="31"/>
                    </a:cubicBezTo>
                    <a:cubicBezTo>
                      <a:pt x="21" y="31"/>
                      <a:pt x="21" y="31"/>
                      <a:pt x="22" y="31"/>
                    </a:cubicBezTo>
                    <a:cubicBezTo>
                      <a:pt x="23" y="31"/>
                      <a:pt x="24" y="31"/>
                      <a:pt x="24" y="30"/>
                    </a:cubicBezTo>
                    <a:cubicBezTo>
                      <a:pt x="25" y="30"/>
                      <a:pt x="26" y="30"/>
                      <a:pt x="26" y="29"/>
                    </a:cubicBezTo>
                    <a:cubicBezTo>
                      <a:pt x="27" y="29"/>
                      <a:pt x="27" y="28"/>
                      <a:pt x="27" y="28"/>
                    </a:cubicBezTo>
                    <a:cubicBezTo>
                      <a:pt x="27" y="27"/>
                      <a:pt x="27" y="27"/>
                      <a:pt x="27" y="26"/>
                    </a:cubicBezTo>
                    <a:cubicBezTo>
                      <a:pt x="26" y="25"/>
                      <a:pt x="26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3" y="25"/>
                      <a:pt x="22" y="25"/>
                      <a:pt x="22" y="26"/>
                    </a:cubicBezTo>
                    <a:cubicBezTo>
                      <a:pt x="21" y="26"/>
                      <a:pt x="20" y="27"/>
                      <a:pt x="20" y="27"/>
                    </a:cubicBezTo>
                    <a:cubicBezTo>
                      <a:pt x="19" y="28"/>
                      <a:pt x="19" y="28"/>
                      <a:pt x="19" y="29"/>
                    </a:cubicBez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5289"/>
              <p:cNvSpPr/>
              <p:nvPr/>
            </p:nvSpPr>
            <p:spPr>
              <a:xfrm>
                <a:off x="9237600" y="2046240"/>
                <a:ext cx="447480" cy="469800"/>
              </a:xfrm>
              <a:custGeom>
                <a:avLst/>
                <a:gdLst/>
                <a:ahLst/>
                <a:rect l="l" t="t" r="r" b="b"/>
                <a:pathLst>
                  <a:path w="282" h="296">
                    <a:moveTo>
                      <a:pt x="0" y="19"/>
                    </a:moveTo>
                    <a:lnTo>
                      <a:pt x="12" y="0"/>
                    </a:lnTo>
                    <a:lnTo>
                      <a:pt x="125" y="47"/>
                    </a:lnTo>
                    <a:lnTo>
                      <a:pt x="152" y="137"/>
                    </a:lnTo>
                    <a:lnTo>
                      <a:pt x="218" y="161"/>
                    </a:lnTo>
                    <a:lnTo>
                      <a:pt x="258" y="253"/>
                    </a:lnTo>
                    <a:lnTo>
                      <a:pt x="282" y="243"/>
                    </a:lnTo>
                    <a:lnTo>
                      <a:pt x="270" y="296"/>
                    </a:lnTo>
                    <a:lnTo>
                      <a:pt x="215" y="267"/>
                    </a:lnTo>
                    <a:lnTo>
                      <a:pt x="246" y="258"/>
                    </a:lnTo>
                    <a:lnTo>
                      <a:pt x="201" y="177"/>
                    </a:lnTo>
                    <a:lnTo>
                      <a:pt x="133" y="156"/>
                    </a:lnTo>
                    <a:lnTo>
                      <a:pt x="102" y="6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14e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5" name="Freeform 5281"/>
            <p:cNvSpPr/>
            <p:nvPr/>
          </p:nvSpPr>
          <p:spPr>
            <a:xfrm>
              <a:off x="9543600" y="256716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41"/>
                  </a:moveTo>
                  <a:lnTo>
                    <a:pt x="52" y="60"/>
                  </a:lnTo>
                  <a:lnTo>
                    <a:pt x="66" y="19"/>
                  </a:lnTo>
                  <a:lnTo>
                    <a:pt x="1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1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5282"/>
            <p:cNvSpPr/>
            <p:nvPr/>
          </p:nvSpPr>
          <p:spPr>
            <a:xfrm>
              <a:off x="9433080" y="2469240"/>
              <a:ext cx="128520" cy="15372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0" y="78"/>
                  </a:moveTo>
                  <a:lnTo>
                    <a:pt x="52" y="97"/>
                  </a:lnTo>
                  <a:lnTo>
                    <a:pt x="81" y="19"/>
                  </a:lnTo>
                  <a:lnTo>
                    <a:pt x="29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d14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7" name="组合 11"/>
          <p:cNvGrpSpPr/>
          <p:nvPr/>
        </p:nvGrpSpPr>
        <p:grpSpPr>
          <a:xfrm>
            <a:off x="5283360" y="2925720"/>
            <a:ext cx="1453680" cy="695160"/>
            <a:chOff x="5283360" y="2925720"/>
            <a:chExt cx="1453680" cy="695160"/>
          </a:xfrm>
        </p:grpSpPr>
        <p:sp>
          <p:nvSpPr>
            <p:cNvPr id="1468" name="Freeform 5311"/>
            <p:cNvSpPr/>
            <p:nvPr/>
          </p:nvSpPr>
          <p:spPr>
            <a:xfrm>
              <a:off x="5283360" y="2925720"/>
              <a:ext cx="739800" cy="6274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5311"/>
            <p:cNvSpPr/>
            <p:nvPr/>
          </p:nvSpPr>
          <p:spPr>
            <a:xfrm rot="10800000">
              <a:off x="5997240" y="2993400"/>
              <a:ext cx="739800" cy="6274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0" name="组合 464"/>
          <p:cNvGrpSpPr/>
          <p:nvPr/>
        </p:nvGrpSpPr>
        <p:grpSpPr>
          <a:xfrm>
            <a:off x="5842440" y="1652400"/>
            <a:ext cx="1796400" cy="2073600"/>
            <a:chOff x="5842440" y="1652400"/>
            <a:chExt cx="1796400" cy="2073600"/>
          </a:xfrm>
        </p:grpSpPr>
        <p:sp>
          <p:nvSpPr>
            <p:cNvPr id="1471" name="Freeform 5311"/>
            <p:cNvSpPr/>
            <p:nvPr/>
          </p:nvSpPr>
          <p:spPr>
            <a:xfrm rot="3033000">
              <a:off x="5984280" y="1879200"/>
              <a:ext cx="980640" cy="8308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5311"/>
            <p:cNvSpPr/>
            <p:nvPr/>
          </p:nvSpPr>
          <p:spPr>
            <a:xfrm rot="13833600">
              <a:off x="6516000" y="2667960"/>
              <a:ext cx="980640" cy="83088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3" name="组合 467"/>
          <p:cNvGrpSpPr/>
          <p:nvPr/>
        </p:nvGrpSpPr>
        <p:grpSpPr>
          <a:xfrm>
            <a:off x="6858360" y="1901520"/>
            <a:ext cx="1869120" cy="1702080"/>
            <a:chOff x="6858360" y="1901520"/>
            <a:chExt cx="1869120" cy="1702080"/>
          </a:xfrm>
        </p:grpSpPr>
        <p:sp>
          <p:nvSpPr>
            <p:cNvPr id="1474" name="Freeform 5311"/>
            <p:cNvSpPr/>
            <p:nvPr/>
          </p:nvSpPr>
          <p:spPr>
            <a:xfrm rot="8221200">
              <a:off x="7688880" y="2105640"/>
              <a:ext cx="899640" cy="76176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solidFill>
              <a:srgbClr val="d2d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5311"/>
            <p:cNvSpPr/>
            <p:nvPr/>
          </p:nvSpPr>
          <p:spPr>
            <a:xfrm rot="19021200">
              <a:off x="6996960" y="2637360"/>
              <a:ext cx="899640" cy="761760"/>
            </a:xfrm>
            <a:custGeom>
              <a:avLst/>
              <a:gdLst/>
              <a:ahLst/>
              <a:rect l="l" t="t" r="r" b="b"/>
              <a:pathLst>
                <a:path w="197" h="167">
                  <a:moveTo>
                    <a:pt x="125" y="122"/>
                  </a:moveTo>
                  <a:cubicBezTo>
                    <a:pt x="129" y="132"/>
                    <a:pt x="130" y="143"/>
                    <a:pt x="124" y="152"/>
                  </a:cubicBezTo>
                  <a:cubicBezTo>
                    <a:pt x="119" y="162"/>
                    <a:pt x="107" y="164"/>
                    <a:pt x="97" y="158"/>
                  </a:cubicBezTo>
                  <a:cubicBezTo>
                    <a:pt x="92" y="155"/>
                    <a:pt x="88" y="153"/>
                    <a:pt x="85" y="147"/>
                  </a:cubicBezTo>
                  <a:cubicBezTo>
                    <a:pt x="87" y="152"/>
                    <a:pt x="76" y="161"/>
                    <a:pt x="72" y="163"/>
                  </a:cubicBezTo>
                  <a:cubicBezTo>
                    <a:pt x="66" y="166"/>
                    <a:pt x="58" y="167"/>
                    <a:pt x="51" y="164"/>
                  </a:cubicBezTo>
                  <a:cubicBezTo>
                    <a:pt x="32" y="159"/>
                    <a:pt x="29" y="140"/>
                    <a:pt x="33" y="124"/>
                  </a:cubicBezTo>
                  <a:cubicBezTo>
                    <a:pt x="24" y="123"/>
                    <a:pt x="17" y="122"/>
                    <a:pt x="10" y="114"/>
                  </a:cubicBezTo>
                  <a:cubicBezTo>
                    <a:pt x="4" y="107"/>
                    <a:pt x="2" y="97"/>
                    <a:pt x="1" y="88"/>
                  </a:cubicBezTo>
                  <a:cubicBezTo>
                    <a:pt x="0" y="78"/>
                    <a:pt x="1" y="66"/>
                    <a:pt x="5" y="56"/>
                  </a:cubicBezTo>
                  <a:cubicBezTo>
                    <a:pt x="7" y="51"/>
                    <a:pt x="10" y="46"/>
                    <a:pt x="14" y="42"/>
                  </a:cubicBezTo>
                  <a:cubicBezTo>
                    <a:pt x="21" y="34"/>
                    <a:pt x="37" y="34"/>
                    <a:pt x="46" y="39"/>
                  </a:cubicBezTo>
                  <a:cubicBezTo>
                    <a:pt x="40" y="31"/>
                    <a:pt x="40" y="18"/>
                    <a:pt x="47" y="10"/>
                  </a:cubicBezTo>
                  <a:cubicBezTo>
                    <a:pt x="52" y="3"/>
                    <a:pt x="63" y="0"/>
                    <a:pt x="71" y="3"/>
                  </a:cubicBezTo>
                  <a:cubicBezTo>
                    <a:pt x="79" y="5"/>
                    <a:pt x="87" y="15"/>
                    <a:pt x="89" y="23"/>
                  </a:cubicBezTo>
                  <a:cubicBezTo>
                    <a:pt x="94" y="21"/>
                    <a:pt x="96" y="18"/>
                    <a:pt x="103" y="17"/>
                  </a:cubicBezTo>
                  <a:cubicBezTo>
                    <a:pt x="108" y="17"/>
                    <a:pt x="114" y="17"/>
                    <a:pt x="118" y="19"/>
                  </a:cubicBezTo>
                  <a:cubicBezTo>
                    <a:pt x="128" y="25"/>
                    <a:pt x="132" y="36"/>
                    <a:pt x="131" y="47"/>
                  </a:cubicBezTo>
                  <a:cubicBezTo>
                    <a:pt x="131" y="47"/>
                    <a:pt x="131" y="47"/>
                    <a:pt x="131" y="48"/>
                  </a:cubicBezTo>
                  <a:cubicBezTo>
                    <a:pt x="130" y="53"/>
                    <a:pt x="128" y="59"/>
                    <a:pt x="125" y="63"/>
                  </a:cubicBezTo>
                  <a:cubicBezTo>
                    <a:pt x="123" y="66"/>
                    <a:pt x="122" y="68"/>
                    <a:pt x="120" y="70"/>
                  </a:cubicBezTo>
                  <a:cubicBezTo>
                    <a:pt x="119" y="71"/>
                    <a:pt x="118" y="72"/>
                    <a:pt x="117" y="73"/>
                  </a:cubicBezTo>
                  <a:cubicBezTo>
                    <a:pt x="116" y="74"/>
                    <a:pt x="115" y="75"/>
                    <a:pt x="114" y="76"/>
                  </a:cubicBezTo>
                  <a:cubicBezTo>
                    <a:pt x="115" y="75"/>
                    <a:pt x="117" y="75"/>
                    <a:pt x="118" y="75"/>
                  </a:cubicBezTo>
                  <a:cubicBezTo>
                    <a:pt x="119" y="75"/>
                    <a:pt x="120" y="75"/>
                    <a:pt x="121" y="75"/>
                  </a:cubicBezTo>
                  <a:cubicBezTo>
                    <a:pt x="123" y="75"/>
                    <a:pt x="124" y="75"/>
                    <a:pt x="125" y="75"/>
                  </a:cubicBezTo>
                  <a:cubicBezTo>
                    <a:pt x="126" y="75"/>
                    <a:pt x="128" y="75"/>
                    <a:pt x="129" y="75"/>
                  </a:cubicBezTo>
                  <a:cubicBezTo>
                    <a:pt x="132" y="75"/>
                    <a:pt x="136" y="75"/>
                    <a:pt x="139" y="75"/>
                  </a:cubicBezTo>
                  <a:cubicBezTo>
                    <a:pt x="140" y="74"/>
                    <a:pt x="142" y="74"/>
                    <a:pt x="143" y="74"/>
                  </a:cubicBezTo>
                  <a:cubicBezTo>
                    <a:pt x="145" y="74"/>
                    <a:pt x="147" y="74"/>
                    <a:pt x="150" y="73"/>
                  </a:cubicBezTo>
                  <a:cubicBezTo>
                    <a:pt x="159" y="72"/>
                    <a:pt x="169" y="70"/>
                    <a:pt x="178" y="69"/>
                  </a:cubicBezTo>
                  <a:cubicBezTo>
                    <a:pt x="184" y="68"/>
                    <a:pt x="191" y="69"/>
                    <a:pt x="197" y="67"/>
                  </a:cubicBezTo>
                  <a:cubicBezTo>
                    <a:pt x="195" y="67"/>
                    <a:pt x="194" y="70"/>
                    <a:pt x="192" y="71"/>
                  </a:cubicBezTo>
                  <a:cubicBezTo>
                    <a:pt x="190" y="73"/>
                    <a:pt x="188" y="74"/>
                    <a:pt x="186" y="76"/>
                  </a:cubicBezTo>
                  <a:cubicBezTo>
                    <a:pt x="189" y="77"/>
                    <a:pt x="191" y="77"/>
                    <a:pt x="194" y="78"/>
                  </a:cubicBezTo>
                  <a:cubicBezTo>
                    <a:pt x="192" y="80"/>
                    <a:pt x="189" y="83"/>
                    <a:pt x="185" y="83"/>
                  </a:cubicBezTo>
                  <a:cubicBezTo>
                    <a:pt x="189" y="83"/>
                    <a:pt x="193" y="85"/>
                    <a:pt x="193" y="89"/>
                  </a:cubicBezTo>
                  <a:cubicBezTo>
                    <a:pt x="194" y="92"/>
                    <a:pt x="187" y="96"/>
                    <a:pt x="187" y="95"/>
                  </a:cubicBezTo>
                  <a:cubicBezTo>
                    <a:pt x="188" y="100"/>
                    <a:pt x="195" y="102"/>
                    <a:pt x="192" y="106"/>
                  </a:cubicBezTo>
                  <a:cubicBezTo>
                    <a:pt x="191" y="109"/>
                    <a:pt x="189" y="107"/>
                    <a:pt x="190" y="111"/>
                  </a:cubicBezTo>
                  <a:cubicBezTo>
                    <a:pt x="191" y="113"/>
                    <a:pt x="192" y="115"/>
                    <a:pt x="193" y="117"/>
                  </a:cubicBezTo>
                  <a:cubicBezTo>
                    <a:pt x="183" y="116"/>
                    <a:pt x="173" y="112"/>
                    <a:pt x="163" y="110"/>
                  </a:cubicBezTo>
                  <a:cubicBezTo>
                    <a:pt x="153" y="108"/>
                    <a:pt x="142" y="107"/>
                    <a:pt x="132" y="106"/>
                  </a:cubicBezTo>
                  <a:cubicBezTo>
                    <a:pt x="130" y="105"/>
                    <a:pt x="117" y="104"/>
                    <a:pt x="117" y="104"/>
                  </a:cubicBezTo>
                  <a:cubicBezTo>
                    <a:pt x="120" y="109"/>
                    <a:pt x="123" y="116"/>
                    <a:pt x="125" y="122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6" name="组合 2"/>
          <p:cNvGrpSpPr/>
          <p:nvPr/>
        </p:nvGrpSpPr>
        <p:grpSpPr>
          <a:xfrm>
            <a:off x="1103400" y="2657520"/>
            <a:ext cx="3265560" cy="1452600"/>
            <a:chOff x="1103400" y="2657520"/>
            <a:chExt cx="3265560" cy="1452600"/>
          </a:xfrm>
        </p:grpSpPr>
        <p:sp>
          <p:nvSpPr>
            <p:cNvPr id="1477" name="文本框 483"/>
            <p:cNvSpPr/>
            <p:nvPr/>
          </p:nvSpPr>
          <p:spPr>
            <a:xfrm>
              <a:off x="1165320" y="2706480"/>
              <a:ext cx="3203640" cy="1403640"/>
            </a:xfrm>
            <a:custGeom>
              <a:avLst/>
              <a:gdLst/>
              <a:ahLst/>
              <a:rect l="l" t="t" r="r" b="b"/>
              <a:pathLst>
                <a:path w="3203972" h="1403449">
                  <a:moveTo>
                    <a:pt x="0" y="1013221"/>
                  </a:moveTo>
                  <a:lnTo>
                    <a:pt x="1150144" y="1013221"/>
                  </a:lnTo>
                  <a:lnTo>
                    <a:pt x="1150144" y="1156989"/>
                  </a:lnTo>
                  <a:lnTo>
                    <a:pt x="0" y="1156989"/>
                  </a:lnTo>
                  <a:close/>
                  <a:moveTo>
                    <a:pt x="308074" y="629840"/>
                  </a:moveTo>
                  <a:lnTo>
                    <a:pt x="280690" y="759916"/>
                  </a:lnTo>
                  <a:lnTo>
                    <a:pt x="1150144" y="759916"/>
                  </a:lnTo>
                  <a:lnTo>
                    <a:pt x="1177528" y="629840"/>
                  </a:lnTo>
                  <a:close/>
                  <a:moveTo>
                    <a:pt x="27385" y="479226"/>
                  </a:moveTo>
                  <a:lnTo>
                    <a:pt x="1382911" y="479226"/>
                  </a:lnTo>
                  <a:lnTo>
                    <a:pt x="1334989" y="759916"/>
                  </a:lnTo>
                  <a:lnTo>
                    <a:pt x="1465064" y="759916"/>
                  </a:lnTo>
                  <a:lnTo>
                    <a:pt x="1410296" y="1403449"/>
                  </a:lnTo>
                  <a:lnTo>
                    <a:pt x="280690" y="1403449"/>
                  </a:lnTo>
                  <a:lnTo>
                    <a:pt x="280690" y="1252835"/>
                  </a:lnTo>
                  <a:lnTo>
                    <a:pt x="1245989" y="1252835"/>
                  </a:lnTo>
                  <a:lnTo>
                    <a:pt x="1280220" y="910530"/>
                  </a:lnTo>
                  <a:lnTo>
                    <a:pt x="75307" y="910530"/>
                  </a:lnTo>
                  <a:lnTo>
                    <a:pt x="130076" y="629840"/>
                  </a:lnTo>
                  <a:lnTo>
                    <a:pt x="27385" y="629840"/>
                  </a:lnTo>
                  <a:close/>
                  <a:moveTo>
                    <a:pt x="944761" y="143767"/>
                  </a:moveTo>
                  <a:lnTo>
                    <a:pt x="944761" y="246459"/>
                  </a:lnTo>
                  <a:lnTo>
                    <a:pt x="1245989" y="246459"/>
                  </a:lnTo>
                  <a:lnTo>
                    <a:pt x="1245989" y="143767"/>
                  </a:lnTo>
                  <a:close/>
                  <a:moveTo>
                    <a:pt x="205383" y="143767"/>
                  </a:moveTo>
                  <a:lnTo>
                    <a:pt x="205383" y="246459"/>
                  </a:lnTo>
                  <a:lnTo>
                    <a:pt x="520303" y="246459"/>
                  </a:lnTo>
                  <a:lnTo>
                    <a:pt x="520303" y="143767"/>
                  </a:lnTo>
                  <a:close/>
                  <a:moveTo>
                    <a:pt x="766763" y="6846"/>
                  </a:moveTo>
                  <a:lnTo>
                    <a:pt x="1417142" y="6846"/>
                  </a:lnTo>
                  <a:lnTo>
                    <a:pt x="1417142" y="390227"/>
                  </a:lnTo>
                  <a:lnTo>
                    <a:pt x="766763" y="390227"/>
                  </a:lnTo>
                  <a:close/>
                  <a:moveTo>
                    <a:pt x="34231" y="6846"/>
                  </a:moveTo>
                  <a:lnTo>
                    <a:pt x="677763" y="6846"/>
                  </a:lnTo>
                  <a:lnTo>
                    <a:pt x="677763" y="390227"/>
                  </a:lnTo>
                  <a:lnTo>
                    <a:pt x="34231" y="390227"/>
                  </a:lnTo>
                  <a:close/>
                  <a:moveTo>
                    <a:pt x="1752600" y="0"/>
                  </a:moveTo>
                  <a:lnTo>
                    <a:pt x="3190280" y="0"/>
                  </a:lnTo>
                  <a:lnTo>
                    <a:pt x="3190280" y="143767"/>
                  </a:lnTo>
                  <a:lnTo>
                    <a:pt x="2806899" y="143767"/>
                  </a:lnTo>
                  <a:lnTo>
                    <a:pt x="2806899" y="691455"/>
                  </a:lnTo>
                  <a:lnTo>
                    <a:pt x="3156049" y="308074"/>
                  </a:lnTo>
                  <a:lnTo>
                    <a:pt x="3203972" y="465534"/>
                  </a:lnTo>
                  <a:lnTo>
                    <a:pt x="2806899" y="896838"/>
                  </a:lnTo>
                  <a:lnTo>
                    <a:pt x="2806899" y="1252835"/>
                  </a:lnTo>
                  <a:lnTo>
                    <a:pt x="3203972" y="1252835"/>
                  </a:lnTo>
                  <a:lnTo>
                    <a:pt x="3197126" y="1403449"/>
                  </a:lnTo>
                  <a:lnTo>
                    <a:pt x="2642592" y="1403449"/>
                  </a:lnTo>
                  <a:lnTo>
                    <a:pt x="2642592" y="143767"/>
                  </a:lnTo>
                  <a:lnTo>
                    <a:pt x="2204442" y="143767"/>
                  </a:lnTo>
                  <a:lnTo>
                    <a:pt x="2055980" y="369689"/>
                  </a:lnTo>
                  <a:lnTo>
                    <a:pt x="2402979" y="369689"/>
                  </a:lnTo>
                  <a:lnTo>
                    <a:pt x="2402979" y="794146"/>
                  </a:lnTo>
                  <a:lnTo>
                    <a:pt x="1875830" y="1403449"/>
                  </a:lnTo>
                  <a:lnTo>
                    <a:pt x="1718370" y="1369218"/>
                  </a:lnTo>
                  <a:lnTo>
                    <a:pt x="1985362" y="1049530"/>
                  </a:lnTo>
                  <a:lnTo>
                    <a:pt x="1718370" y="794146"/>
                  </a:lnTo>
                  <a:lnTo>
                    <a:pt x="1868984" y="732532"/>
                  </a:lnTo>
                  <a:lnTo>
                    <a:pt x="2080854" y="935190"/>
                  </a:lnTo>
                  <a:lnTo>
                    <a:pt x="2238673" y="746224"/>
                  </a:lnTo>
                  <a:lnTo>
                    <a:pt x="2238673" y="513457"/>
                  </a:lnTo>
                  <a:lnTo>
                    <a:pt x="1961504" y="513457"/>
                  </a:lnTo>
                  <a:lnTo>
                    <a:pt x="1889522" y="622994"/>
                  </a:lnTo>
                  <a:lnTo>
                    <a:pt x="1732062" y="588764"/>
                  </a:lnTo>
                  <a:lnTo>
                    <a:pt x="2026444" y="143767"/>
                  </a:lnTo>
                  <a:lnTo>
                    <a:pt x="1752600" y="143767"/>
                  </a:lnTo>
                  <a:close/>
                </a:path>
              </a:pathLst>
            </a:custGeom>
            <a:solidFill>
              <a:srgbClr val="397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文本框 485"/>
            <p:cNvSpPr/>
            <p:nvPr/>
          </p:nvSpPr>
          <p:spPr>
            <a:xfrm>
              <a:off x="1103400" y="2657520"/>
              <a:ext cx="3203640" cy="1403640"/>
            </a:xfrm>
            <a:custGeom>
              <a:avLst/>
              <a:gdLst/>
              <a:ahLst/>
              <a:rect l="l" t="t" r="r" b="b"/>
              <a:pathLst>
                <a:path w="3203972" h="1403449">
                  <a:moveTo>
                    <a:pt x="0" y="1013221"/>
                  </a:moveTo>
                  <a:lnTo>
                    <a:pt x="1150144" y="1013221"/>
                  </a:lnTo>
                  <a:lnTo>
                    <a:pt x="1150144" y="1156989"/>
                  </a:lnTo>
                  <a:lnTo>
                    <a:pt x="0" y="1156989"/>
                  </a:lnTo>
                  <a:close/>
                  <a:moveTo>
                    <a:pt x="308074" y="629840"/>
                  </a:moveTo>
                  <a:lnTo>
                    <a:pt x="280690" y="759916"/>
                  </a:lnTo>
                  <a:lnTo>
                    <a:pt x="1150144" y="759916"/>
                  </a:lnTo>
                  <a:lnTo>
                    <a:pt x="1177528" y="629840"/>
                  </a:lnTo>
                  <a:close/>
                  <a:moveTo>
                    <a:pt x="27385" y="479226"/>
                  </a:moveTo>
                  <a:lnTo>
                    <a:pt x="1382911" y="479226"/>
                  </a:lnTo>
                  <a:lnTo>
                    <a:pt x="1334989" y="759916"/>
                  </a:lnTo>
                  <a:lnTo>
                    <a:pt x="1465064" y="759916"/>
                  </a:lnTo>
                  <a:lnTo>
                    <a:pt x="1410296" y="1403449"/>
                  </a:lnTo>
                  <a:lnTo>
                    <a:pt x="280690" y="1403449"/>
                  </a:lnTo>
                  <a:lnTo>
                    <a:pt x="280690" y="1252835"/>
                  </a:lnTo>
                  <a:lnTo>
                    <a:pt x="1245989" y="1252835"/>
                  </a:lnTo>
                  <a:lnTo>
                    <a:pt x="1280220" y="910530"/>
                  </a:lnTo>
                  <a:lnTo>
                    <a:pt x="75307" y="910530"/>
                  </a:lnTo>
                  <a:lnTo>
                    <a:pt x="130076" y="629840"/>
                  </a:lnTo>
                  <a:lnTo>
                    <a:pt x="27385" y="629840"/>
                  </a:lnTo>
                  <a:close/>
                  <a:moveTo>
                    <a:pt x="944761" y="143767"/>
                  </a:moveTo>
                  <a:lnTo>
                    <a:pt x="944761" y="246459"/>
                  </a:lnTo>
                  <a:lnTo>
                    <a:pt x="1245989" y="246459"/>
                  </a:lnTo>
                  <a:lnTo>
                    <a:pt x="1245989" y="143767"/>
                  </a:lnTo>
                  <a:close/>
                  <a:moveTo>
                    <a:pt x="205383" y="143767"/>
                  </a:moveTo>
                  <a:lnTo>
                    <a:pt x="205383" y="246459"/>
                  </a:lnTo>
                  <a:lnTo>
                    <a:pt x="520303" y="246459"/>
                  </a:lnTo>
                  <a:lnTo>
                    <a:pt x="520303" y="143767"/>
                  </a:lnTo>
                  <a:close/>
                  <a:moveTo>
                    <a:pt x="766763" y="6846"/>
                  </a:moveTo>
                  <a:lnTo>
                    <a:pt x="1417142" y="6846"/>
                  </a:lnTo>
                  <a:lnTo>
                    <a:pt x="1417142" y="390227"/>
                  </a:lnTo>
                  <a:lnTo>
                    <a:pt x="766763" y="390227"/>
                  </a:lnTo>
                  <a:close/>
                  <a:moveTo>
                    <a:pt x="34231" y="6846"/>
                  </a:moveTo>
                  <a:lnTo>
                    <a:pt x="677764" y="6846"/>
                  </a:lnTo>
                  <a:lnTo>
                    <a:pt x="677764" y="390227"/>
                  </a:lnTo>
                  <a:lnTo>
                    <a:pt x="34231" y="390227"/>
                  </a:lnTo>
                  <a:close/>
                  <a:moveTo>
                    <a:pt x="1752600" y="0"/>
                  </a:moveTo>
                  <a:lnTo>
                    <a:pt x="3190280" y="0"/>
                  </a:lnTo>
                  <a:lnTo>
                    <a:pt x="3190280" y="143767"/>
                  </a:lnTo>
                  <a:lnTo>
                    <a:pt x="2806899" y="143767"/>
                  </a:lnTo>
                  <a:lnTo>
                    <a:pt x="2806899" y="691455"/>
                  </a:lnTo>
                  <a:lnTo>
                    <a:pt x="3156049" y="308074"/>
                  </a:lnTo>
                  <a:lnTo>
                    <a:pt x="3203972" y="465534"/>
                  </a:lnTo>
                  <a:lnTo>
                    <a:pt x="2806899" y="896838"/>
                  </a:lnTo>
                  <a:lnTo>
                    <a:pt x="2806899" y="1252835"/>
                  </a:lnTo>
                  <a:lnTo>
                    <a:pt x="3203972" y="1252835"/>
                  </a:lnTo>
                  <a:lnTo>
                    <a:pt x="3197126" y="1403449"/>
                  </a:lnTo>
                  <a:lnTo>
                    <a:pt x="2642592" y="1403449"/>
                  </a:lnTo>
                  <a:lnTo>
                    <a:pt x="2642592" y="143767"/>
                  </a:lnTo>
                  <a:lnTo>
                    <a:pt x="2204442" y="143767"/>
                  </a:lnTo>
                  <a:lnTo>
                    <a:pt x="2055980" y="369689"/>
                  </a:lnTo>
                  <a:lnTo>
                    <a:pt x="2402979" y="369689"/>
                  </a:lnTo>
                  <a:lnTo>
                    <a:pt x="2402979" y="794146"/>
                  </a:lnTo>
                  <a:lnTo>
                    <a:pt x="1875830" y="1403449"/>
                  </a:lnTo>
                  <a:lnTo>
                    <a:pt x="1718370" y="1369218"/>
                  </a:lnTo>
                  <a:lnTo>
                    <a:pt x="1985362" y="1049530"/>
                  </a:lnTo>
                  <a:lnTo>
                    <a:pt x="1718370" y="794146"/>
                  </a:lnTo>
                  <a:lnTo>
                    <a:pt x="1868984" y="732532"/>
                  </a:lnTo>
                  <a:lnTo>
                    <a:pt x="2080854" y="935190"/>
                  </a:lnTo>
                  <a:lnTo>
                    <a:pt x="2238673" y="746224"/>
                  </a:lnTo>
                  <a:lnTo>
                    <a:pt x="2238673" y="513457"/>
                  </a:lnTo>
                  <a:lnTo>
                    <a:pt x="1961504" y="513457"/>
                  </a:lnTo>
                  <a:lnTo>
                    <a:pt x="1889522" y="622994"/>
                  </a:lnTo>
                  <a:lnTo>
                    <a:pt x="1732062" y="588764"/>
                  </a:lnTo>
                  <a:lnTo>
                    <a:pt x="2026444" y="143767"/>
                  </a:lnTo>
                  <a:lnTo>
                    <a:pt x="1752600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825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4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4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4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4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4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4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4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4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5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5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35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矩形 99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7b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文本框 103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09737" y="63103"/>
                </a:moveTo>
                <a:lnTo>
                  <a:pt x="1409737" y="339180"/>
                </a:lnTo>
                <a:lnTo>
                  <a:pt x="1610878" y="339180"/>
                </a:lnTo>
                <a:lnTo>
                  <a:pt x="1610878" y="63103"/>
                </a:lnTo>
                <a:close/>
                <a:moveTo>
                  <a:pt x="1358466" y="17748"/>
                </a:moveTo>
                <a:lnTo>
                  <a:pt x="1662149" y="17748"/>
                </a:lnTo>
                <a:lnTo>
                  <a:pt x="1662149" y="384535"/>
                </a:lnTo>
                <a:lnTo>
                  <a:pt x="1358466" y="384535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文本框 104"/>
          <p:cNvSpPr/>
          <p:nvPr/>
        </p:nvSpPr>
        <p:spPr>
          <a:xfrm>
            <a:off x="1130400" y="1798560"/>
            <a:ext cx="2946240" cy="416160"/>
          </a:xfrm>
          <a:custGeom>
            <a:avLst/>
            <a:gdLst/>
            <a:ahLst/>
            <a:rect l="l" t="t" r="r" b="b"/>
            <a:pathLst>
              <a:path w="2946462" h="416087">
                <a:moveTo>
                  <a:pt x="2203028" y="293824"/>
                </a:moveTo>
                <a:lnTo>
                  <a:pt x="2254299" y="384535"/>
                </a:lnTo>
                <a:lnTo>
                  <a:pt x="2216832" y="414115"/>
                </a:lnTo>
                <a:lnTo>
                  <a:pt x="2165560" y="323404"/>
                </a:lnTo>
                <a:close/>
                <a:moveTo>
                  <a:pt x="1556221" y="232693"/>
                </a:moveTo>
                <a:lnTo>
                  <a:pt x="1556221" y="370731"/>
                </a:lnTo>
                <a:lnTo>
                  <a:pt x="1650876" y="370731"/>
                </a:lnTo>
                <a:lnTo>
                  <a:pt x="1650876" y="232693"/>
                </a:lnTo>
                <a:close/>
                <a:moveTo>
                  <a:pt x="1157883" y="218889"/>
                </a:moveTo>
                <a:lnTo>
                  <a:pt x="1157883" y="370731"/>
                </a:lnTo>
                <a:lnTo>
                  <a:pt x="1213098" y="370731"/>
                </a:lnTo>
                <a:lnTo>
                  <a:pt x="1213098" y="218889"/>
                </a:lnTo>
                <a:close/>
                <a:moveTo>
                  <a:pt x="1794830" y="153814"/>
                </a:moveTo>
                <a:lnTo>
                  <a:pt x="1838213" y="254385"/>
                </a:lnTo>
                <a:lnTo>
                  <a:pt x="1802718" y="287908"/>
                </a:lnTo>
                <a:lnTo>
                  <a:pt x="1759334" y="187338"/>
                </a:lnTo>
                <a:close/>
                <a:moveTo>
                  <a:pt x="394171" y="112403"/>
                </a:moveTo>
                <a:lnTo>
                  <a:pt x="394171" y="214945"/>
                </a:lnTo>
                <a:lnTo>
                  <a:pt x="559817" y="214945"/>
                </a:lnTo>
                <a:lnTo>
                  <a:pt x="559817" y="112403"/>
                </a:lnTo>
                <a:close/>
                <a:moveTo>
                  <a:pt x="51271" y="112403"/>
                </a:moveTo>
                <a:lnTo>
                  <a:pt x="51271" y="214945"/>
                </a:lnTo>
                <a:lnTo>
                  <a:pt x="216917" y="214945"/>
                </a:lnTo>
                <a:lnTo>
                  <a:pt x="216917" y="112403"/>
                </a:lnTo>
                <a:close/>
                <a:moveTo>
                  <a:pt x="2590970" y="96627"/>
                </a:moveTo>
                <a:lnTo>
                  <a:pt x="2561927" y="240581"/>
                </a:lnTo>
                <a:lnTo>
                  <a:pt x="2599685" y="270971"/>
                </a:lnTo>
                <a:lnTo>
                  <a:pt x="2670385" y="187338"/>
                </a:lnTo>
                <a:lnTo>
                  <a:pt x="2670385" y="96627"/>
                </a:lnTo>
                <a:close/>
                <a:moveTo>
                  <a:pt x="1556221" y="72963"/>
                </a:moveTo>
                <a:lnTo>
                  <a:pt x="1556221" y="189310"/>
                </a:lnTo>
                <a:lnTo>
                  <a:pt x="1650876" y="189310"/>
                </a:lnTo>
                <a:lnTo>
                  <a:pt x="1650876" y="72963"/>
                </a:lnTo>
                <a:close/>
                <a:moveTo>
                  <a:pt x="666080" y="67047"/>
                </a:moveTo>
                <a:lnTo>
                  <a:pt x="940184" y="67047"/>
                </a:lnTo>
                <a:lnTo>
                  <a:pt x="940184" y="110431"/>
                </a:lnTo>
                <a:lnTo>
                  <a:pt x="827782" y="110431"/>
                </a:lnTo>
                <a:lnTo>
                  <a:pt x="827782" y="384535"/>
                </a:lnTo>
                <a:lnTo>
                  <a:pt x="778482" y="384535"/>
                </a:lnTo>
                <a:lnTo>
                  <a:pt x="778482" y="110431"/>
                </a:lnTo>
                <a:lnTo>
                  <a:pt x="666080" y="110431"/>
                </a:lnTo>
                <a:close/>
                <a:moveTo>
                  <a:pt x="342900" y="67047"/>
                </a:moveTo>
                <a:lnTo>
                  <a:pt x="611088" y="67047"/>
                </a:lnTo>
                <a:lnTo>
                  <a:pt x="611088" y="260301"/>
                </a:lnTo>
                <a:lnTo>
                  <a:pt x="394171" y="260301"/>
                </a:lnTo>
                <a:lnTo>
                  <a:pt x="394171" y="384535"/>
                </a:lnTo>
                <a:lnTo>
                  <a:pt x="342900" y="384535"/>
                </a:lnTo>
                <a:close/>
                <a:moveTo>
                  <a:pt x="0" y="67047"/>
                </a:moveTo>
                <a:lnTo>
                  <a:pt x="268188" y="67047"/>
                </a:lnTo>
                <a:lnTo>
                  <a:pt x="268188" y="260301"/>
                </a:lnTo>
                <a:lnTo>
                  <a:pt x="51271" y="260301"/>
                </a:lnTo>
                <a:lnTo>
                  <a:pt x="51271" y="384535"/>
                </a:lnTo>
                <a:lnTo>
                  <a:pt x="0" y="384535"/>
                </a:lnTo>
                <a:close/>
                <a:moveTo>
                  <a:pt x="2763068" y="17748"/>
                </a:moveTo>
                <a:lnTo>
                  <a:pt x="2944490" y="17748"/>
                </a:lnTo>
                <a:lnTo>
                  <a:pt x="2871527" y="169590"/>
                </a:lnTo>
                <a:lnTo>
                  <a:pt x="2946462" y="169590"/>
                </a:lnTo>
                <a:lnTo>
                  <a:pt x="2946462" y="211001"/>
                </a:lnTo>
                <a:lnTo>
                  <a:pt x="2910966" y="211001"/>
                </a:lnTo>
                <a:lnTo>
                  <a:pt x="2910966" y="414115"/>
                </a:lnTo>
                <a:lnTo>
                  <a:pt x="2763068" y="414115"/>
                </a:lnTo>
                <a:lnTo>
                  <a:pt x="2763068" y="370731"/>
                </a:lnTo>
                <a:lnTo>
                  <a:pt x="2861667" y="370731"/>
                </a:lnTo>
                <a:lnTo>
                  <a:pt x="2861667" y="211001"/>
                </a:lnTo>
                <a:lnTo>
                  <a:pt x="2741376" y="211001"/>
                </a:lnTo>
                <a:lnTo>
                  <a:pt x="2741376" y="169590"/>
                </a:lnTo>
                <a:lnTo>
                  <a:pt x="2816311" y="169590"/>
                </a:lnTo>
                <a:lnTo>
                  <a:pt x="2869555" y="61131"/>
                </a:lnTo>
                <a:lnTo>
                  <a:pt x="2763068" y="61131"/>
                </a:lnTo>
                <a:close/>
                <a:moveTo>
                  <a:pt x="2559955" y="7888"/>
                </a:moveTo>
                <a:lnTo>
                  <a:pt x="2607282" y="15776"/>
                </a:lnTo>
                <a:lnTo>
                  <a:pt x="2599723" y="53244"/>
                </a:lnTo>
                <a:lnTo>
                  <a:pt x="2719685" y="53244"/>
                </a:lnTo>
                <a:lnTo>
                  <a:pt x="2719685" y="201142"/>
                </a:lnTo>
                <a:lnTo>
                  <a:pt x="2634442" y="298947"/>
                </a:lnTo>
                <a:lnTo>
                  <a:pt x="2723629" y="370731"/>
                </a:lnTo>
                <a:lnTo>
                  <a:pt x="2705881" y="414115"/>
                </a:lnTo>
                <a:lnTo>
                  <a:pt x="2604437" y="333373"/>
                </a:lnTo>
                <a:lnTo>
                  <a:pt x="2532347" y="416087"/>
                </a:lnTo>
                <a:lnTo>
                  <a:pt x="2508684" y="378619"/>
                </a:lnTo>
                <a:lnTo>
                  <a:pt x="2570062" y="306014"/>
                </a:lnTo>
                <a:lnTo>
                  <a:pt x="2512628" y="260301"/>
                </a:lnTo>
                <a:lnTo>
                  <a:pt x="2543316" y="96627"/>
                </a:lnTo>
                <a:lnTo>
                  <a:pt x="2508684" y="96627"/>
                </a:lnTo>
                <a:lnTo>
                  <a:pt x="2508684" y="53244"/>
                </a:lnTo>
                <a:lnTo>
                  <a:pt x="2551451" y="53244"/>
                </a:lnTo>
                <a:close/>
                <a:moveTo>
                  <a:pt x="2195140" y="5916"/>
                </a:moveTo>
                <a:lnTo>
                  <a:pt x="2246411" y="5916"/>
                </a:lnTo>
                <a:lnTo>
                  <a:pt x="2246411" y="86767"/>
                </a:lnTo>
                <a:lnTo>
                  <a:pt x="2429805" y="86767"/>
                </a:lnTo>
                <a:lnTo>
                  <a:pt x="2429805" y="132123"/>
                </a:lnTo>
                <a:lnTo>
                  <a:pt x="2246411" y="132123"/>
                </a:lnTo>
                <a:lnTo>
                  <a:pt x="2246411" y="193254"/>
                </a:lnTo>
                <a:lnTo>
                  <a:pt x="2435721" y="382563"/>
                </a:lnTo>
                <a:lnTo>
                  <a:pt x="2398253" y="414115"/>
                </a:lnTo>
                <a:lnTo>
                  <a:pt x="2220776" y="236637"/>
                </a:lnTo>
                <a:lnTo>
                  <a:pt x="2045270" y="414115"/>
                </a:lnTo>
                <a:lnTo>
                  <a:pt x="2009775" y="384535"/>
                </a:lnTo>
                <a:lnTo>
                  <a:pt x="2195140" y="193254"/>
                </a:lnTo>
                <a:lnTo>
                  <a:pt x="2195140" y="132123"/>
                </a:lnTo>
                <a:lnTo>
                  <a:pt x="2015691" y="132123"/>
                </a:lnTo>
                <a:lnTo>
                  <a:pt x="2015691" y="86767"/>
                </a:lnTo>
                <a:lnTo>
                  <a:pt x="2195140" y="86767"/>
                </a:lnTo>
                <a:close/>
                <a:moveTo>
                  <a:pt x="1159854" y="5916"/>
                </a:moveTo>
                <a:lnTo>
                  <a:pt x="1209154" y="5916"/>
                </a:lnTo>
                <a:lnTo>
                  <a:pt x="1209154" y="55216"/>
                </a:lnTo>
                <a:lnTo>
                  <a:pt x="1268313" y="55216"/>
                </a:lnTo>
                <a:lnTo>
                  <a:pt x="1268313" y="96627"/>
                </a:lnTo>
                <a:lnTo>
                  <a:pt x="1209154" y="96627"/>
                </a:lnTo>
                <a:lnTo>
                  <a:pt x="1209154" y="175506"/>
                </a:lnTo>
                <a:lnTo>
                  <a:pt x="1262397" y="175506"/>
                </a:lnTo>
                <a:lnTo>
                  <a:pt x="1262397" y="414115"/>
                </a:lnTo>
                <a:lnTo>
                  <a:pt x="1108583" y="414115"/>
                </a:lnTo>
                <a:lnTo>
                  <a:pt x="1108583" y="175506"/>
                </a:lnTo>
                <a:lnTo>
                  <a:pt x="1159854" y="175506"/>
                </a:lnTo>
                <a:lnTo>
                  <a:pt x="1159854" y="96627"/>
                </a:lnTo>
                <a:lnTo>
                  <a:pt x="1098723" y="96627"/>
                </a:lnTo>
                <a:lnTo>
                  <a:pt x="1098723" y="55216"/>
                </a:lnTo>
                <a:lnTo>
                  <a:pt x="1159854" y="55216"/>
                </a:lnTo>
                <a:close/>
                <a:moveTo>
                  <a:pt x="1041536" y="5916"/>
                </a:moveTo>
                <a:lnTo>
                  <a:pt x="1079004" y="33524"/>
                </a:lnTo>
                <a:lnTo>
                  <a:pt x="1035664" y="191282"/>
                </a:lnTo>
                <a:lnTo>
                  <a:pt x="1065200" y="191282"/>
                </a:lnTo>
                <a:lnTo>
                  <a:pt x="1065200" y="414115"/>
                </a:lnTo>
                <a:lnTo>
                  <a:pt x="1015900" y="414115"/>
                </a:lnTo>
                <a:lnTo>
                  <a:pt x="1015900" y="202802"/>
                </a:lnTo>
                <a:lnTo>
                  <a:pt x="992237" y="185366"/>
                </a:lnTo>
                <a:close/>
                <a:moveTo>
                  <a:pt x="1759334" y="3944"/>
                </a:moveTo>
                <a:lnTo>
                  <a:pt x="1785687" y="17748"/>
                </a:lnTo>
                <a:lnTo>
                  <a:pt x="1930896" y="17748"/>
                </a:lnTo>
                <a:lnTo>
                  <a:pt x="1926952" y="414115"/>
                </a:lnTo>
                <a:lnTo>
                  <a:pt x="1800746" y="414115"/>
                </a:lnTo>
                <a:lnTo>
                  <a:pt x="1800746" y="370731"/>
                </a:lnTo>
                <a:lnTo>
                  <a:pt x="1877653" y="370731"/>
                </a:lnTo>
                <a:lnTo>
                  <a:pt x="1881596" y="61131"/>
                </a:lnTo>
                <a:lnTo>
                  <a:pt x="1792294" y="61131"/>
                </a:lnTo>
                <a:lnTo>
                  <a:pt x="1771166" y="149870"/>
                </a:lnTo>
                <a:lnTo>
                  <a:pt x="1729755" y="128179"/>
                </a:lnTo>
                <a:close/>
                <a:moveTo>
                  <a:pt x="1291977" y="1972"/>
                </a:moveTo>
                <a:lnTo>
                  <a:pt x="1319226" y="17748"/>
                </a:lnTo>
                <a:lnTo>
                  <a:pt x="1431987" y="17748"/>
                </a:lnTo>
                <a:lnTo>
                  <a:pt x="1431987" y="61131"/>
                </a:lnTo>
                <a:lnTo>
                  <a:pt x="1420155" y="61131"/>
                </a:lnTo>
                <a:lnTo>
                  <a:pt x="1420155" y="159730"/>
                </a:lnTo>
                <a:lnTo>
                  <a:pt x="1372697" y="273102"/>
                </a:lnTo>
                <a:lnTo>
                  <a:pt x="1426071" y="376647"/>
                </a:lnTo>
                <a:lnTo>
                  <a:pt x="1402407" y="414115"/>
                </a:lnTo>
                <a:lnTo>
                  <a:pt x="1353003" y="320149"/>
                </a:lnTo>
                <a:lnTo>
                  <a:pt x="1313668" y="414115"/>
                </a:lnTo>
                <a:lnTo>
                  <a:pt x="1286061" y="376647"/>
                </a:lnTo>
                <a:lnTo>
                  <a:pt x="1328790" y="274097"/>
                </a:lnTo>
                <a:lnTo>
                  <a:pt x="1301837" y="222833"/>
                </a:lnTo>
                <a:lnTo>
                  <a:pt x="1327472" y="185366"/>
                </a:lnTo>
                <a:lnTo>
                  <a:pt x="1348646" y="226443"/>
                </a:lnTo>
                <a:lnTo>
                  <a:pt x="1374800" y="163674"/>
                </a:lnTo>
                <a:lnTo>
                  <a:pt x="1374800" y="61131"/>
                </a:lnTo>
                <a:lnTo>
                  <a:pt x="1326669" y="61131"/>
                </a:lnTo>
                <a:lnTo>
                  <a:pt x="1317612" y="183394"/>
                </a:lnTo>
                <a:lnTo>
                  <a:pt x="1280145" y="161702"/>
                </a:lnTo>
                <a:close/>
                <a:moveTo>
                  <a:pt x="1575941" y="0"/>
                </a:moveTo>
                <a:lnTo>
                  <a:pt x="1627212" y="7888"/>
                </a:lnTo>
                <a:lnTo>
                  <a:pt x="1621296" y="29580"/>
                </a:lnTo>
                <a:lnTo>
                  <a:pt x="1698203" y="29580"/>
                </a:lnTo>
                <a:lnTo>
                  <a:pt x="1698203" y="414115"/>
                </a:lnTo>
                <a:lnTo>
                  <a:pt x="1506922" y="414115"/>
                </a:lnTo>
                <a:lnTo>
                  <a:pt x="1506922" y="29580"/>
                </a:lnTo>
                <a:lnTo>
                  <a:pt x="1566081" y="29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Freeform 687">
            <a:hlinkClick r:id="rId2"/>
          </p:cNvPr>
          <p:cNvSpPr/>
          <p:nvPr/>
        </p:nvSpPr>
        <p:spPr>
          <a:xfrm flipH="1">
            <a:off x="5260320" y="1816200"/>
            <a:ext cx="2050920" cy="1218960"/>
          </a:xfrm>
          <a:custGeom>
            <a:avLst/>
            <a:gdLst/>
            <a:ahLst/>
            <a:rect l="l" t="t" r="r" b="b"/>
            <a:pathLst>
              <a:path w="1195" h="711">
                <a:moveTo>
                  <a:pt x="331" y="0"/>
                </a:moveTo>
                <a:cubicBezTo>
                  <a:pt x="148" y="0"/>
                  <a:pt x="0" y="149"/>
                  <a:pt x="0" y="334"/>
                </a:cubicBezTo>
                <a:cubicBezTo>
                  <a:pt x="0" y="414"/>
                  <a:pt x="27" y="487"/>
                  <a:pt x="74" y="545"/>
                </a:cubicBezTo>
                <a:cubicBezTo>
                  <a:pt x="84" y="637"/>
                  <a:pt x="323" y="711"/>
                  <a:pt x="616" y="711"/>
                </a:cubicBezTo>
                <a:cubicBezTo>
                  <a:pt x="867" y="711"/>
                  <a:pt x="1078" y="657"/>
                  <a:pt x="1140" y="584"/>
                </a:cubicBezTo>
                <a:cubicBezTo>
                  <a:pt x="1174" y="554"/>
                  <a:pt x="1195" y="513"/>
                  <a:pt x="1195" y="469"/>
                </a:cubicBezTo>
                <a:cubicBezTo>
                  <a:pt x="1195" y="376"/>
                  <a:pt x="1104" y="301"/>
                  <a:pt x="992" y="301"/>
                </a:cubicBezTo>
                <a:cubicBezTo>
                  <a:pt x="979" y="301"/>
                  <a:pt x="965" y="303"/>
                  <a:pt x="953" y="305"/>
                </a:cubicBezTo>
                <a:cubicBezTo>
                  <a:pt x="929" y="199"/>
                  <a:pt x="821" y="118"/>
                  <a:pt x="691" y="118"/>
                </a:cubicBezTo>
                <a:cubicBezTo>
                  <a:pt x="657" y="118"/>
                  <a:pt x="625" y="124"/>
                  <a:pt x="596" y="134"/>
                </a:cubicBezTo>
                <a:cubicBezTo>
                  <a:pt x="535" y="52"/>
                  <a:pt x="439" y="0"/>
                  <a:pt x="331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Freeform 688">
            <a:hlinkClick r:id="rId3"/>
          </p:cNvPr>
          <p:cNvSpPr/>
          <p:nvPr/>
        </p:nvSpPr>
        <p:spPr>
          <a:xfrm flipH="1">
            <a:off x="5166720" y="3254400"/>
            <a:ext cx="2695320" cy="1604880"/>
          </a:xfrm>
          <a:custGeom>
            <a:avLst/>
            <a:gdLst/>
            <a:ahLst/>
            <a:rect l="l" t="t" r="r" b="b"/>
            <a:pathLst>
              <a:path w="1571" h="935">
                <a:moveTo>
                  <a:pt x="1136" y="0"/>
                </a:moveTo>
                <a:cubicBezTo>
                  <a:pt x="994" y="0"/>
                  <a:pt x="867" y="69"/>
                  <a:pt x="788" y="176"/>
                </a:cubicBezTo>
                <a:cubicBezTo>
                  <a:pt x="749" y="163"/>
                  <a:pt x="707" y="156"/>
                  <a:pt x="662" y="156"/>
                </a:cubicBezTo>
                <a:cubicBezTo>
                  <a:pt x="491" y="156"/>
                  <a:pt x="349" y="262"/>
                  <a:pt x="319" y="401"/>
                </a:cubicBezTo>
                <a:cubicBezTo>
                  <a:pt x="302" y="398"/>
                  <a:pt x="285" y="397"/>
                  <a:pt x="267" y="397"/>
                </a:cubicBezTo>
                <a:cubicBezTo>
                  <a:pt x="119" y="397"/>
                  <a:pt x="0" y="495"/>
                  <a:pt x="0" y="617"/>
                </a:cubicBezTo>
                <a:cubicBezTo>
                  <a:pt x="0" y="675"/>
                  <a:pt x="27" y="728"/>
                  <a:pt x="73" y="767"/>
                </a:cubicBezTo>
                <a:cubicBezTo>
                  <a:pt x="154" y="864"/>
                  <a:pt x="432" y="935"/>
                  <a:pt x="761" y="935"/>
                </a:cubicBezTo>
                <a:cubicBezTo>
                  <a:pt x="1146" y="935"/>
                  <a:pt x="1460" y="838"/>
                  <a:pt x="1474" y="716"/>
                </a:cubicBezTo>
                <a:cubicBezTo>
                  <a:pt x="1534" y="641"/>
                  <a:pt x="1571" y="544"/>
                  <a:pt x="1571" y="440"/>
                </a:cubicBezTo>
                <a:cubicBezTo>
                  <a:pt x="1571" y="197"/>
                  <a:pt x="1376" y="0"/>
                  <a:pt x="1136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Freeform 689">
            <a:hlinkClick r:id="rId4"/>
          </p:cNvPr>
          <p:cNvSpPr/>
          <p:nvPr/>
        </p:nvSpPr>
        <p:spPr>
          <a:xfrm flipH="1">
            <a:off x="8706600" y="1144440"/>
            <a:ext cx="2249640" cy="1338480"/>
          </a:xfrm>
          <a:custGeom>
            <a:avLst/>
            <a:gdLst/>
            <a:ahLst/>
            <a:rect l="l" t="t" r="r" b="b"/>
            <a:pathLst>
              <a:path w="1311" h="780">
                <a:moveTo>
                  <a:pt x="362" y="0"/>
                </a:moveTo>
                <a:cubicBezTo>
                  <a:pt x="162" y="0"/>
                  <a:pt x="0" y="164"/>
                  <a:pt x="0" y="366"/>
                </a:cubicBezTo>
                <a:cubicBezTo>
                  <a:pt x="0" y="454"/>
                  <a:pt x="30" y="534"/>
                  <a:pt x="81" y="597"/>
                </a:cubicBezTo>
                <a:cubicBezTo>
                  <a:pt x="92" y="699"/>
                  <a:pt x="354" y="780"/>
                  <a:pt x="675" y="780"/>
                </a:cubicBezTo>
                <a:cubicBezTo>
                  <a:pt x="950" y="780"/>
                  <a:pt x="1181" y="720"/>
                  <a:pt x="1250" y="640"/>
                </a:cubicBezTo>
                <a:cubicBezTo>
                  <a:pt x="1287" y="607"/>
                  <a:pt x="1311" y="563"/>
                  <a:pt x="1311" y="514"/>
                </a:cubicBezTo>
                <a:cubicBezTo>
                  <a:pt x="1311" y="413"/>
                  <a:pt x="1211" y="331"/>
                  <a:pt x="1088" y="331"/>
                </a:cubicBezTo>
                <a:cubicBezTo>
                  <a:pt x="1073" y="331"/>
                  <a:pt x="1058" y="332"/>
                  <a:pt x="1044" y="334"/>
                </a:cubicBezTo>
                <a:cubicBezTo>
                  <a:pt x="1019" y="218"/>
                  <a:pt x="900" y="130"/>
                  <a:pt x="758" y="130"/>
                </a:cubicBezTo>
                <a:cubicBezTo>
                  <a:pt x="721" y="130"/>
                  <a:pt x="685" y="136"/>
                  <a:pt x="653" y="146"/>
                </a:cubicBezTo>
                <a:cubicBezTo>
                  <a:pt x="587" y="57"/>
                  <a:pt x="481" y="0"/>
                  <a:pt x="362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Freeform 690">
            <a:hlinkClick r:id="rId5"/>
          </p:cNvPr>
          <p:cNvSpPr/>
          <p:nvPr/>
        </p:nvSpPr>
        <p:spPr>
          <a:xfrm flipH="1">
            <a:off x="9033840" y="4513320"/>
            <a:ext cx="1832040" cy="1089000"/>
          </a:xfrm>
          <a:custGeom>
            <a:avLst/>
            <a:gdLst/>
            <a:ahLst/>
            <a:rect l="l" t="t" r="r" b="b"/>
            <a:pathLst>
              <a:path w="1068" h="635">
                <a:moveTo>
                  <a:pt x="296" y="0"/>
                </a:moveTo>
                <a:cubicBezTo>
                  <a:pt x="133" y="0"/>
                  <a:pt x="0" y="133"/>
                  <a:pt x="0" y="298"/>
                </a:cubicBezTo>
                <a:cubicBezTo>
                  <a:pt x="0" y="369"/>
                  <a:pt x="25" y="435"/>
                  <a:pt x="67" y="486"/>
                </a:cubicBezTo>
                <a:cubicBezTo>
                  <a:pt x="76" y="569"/>
                  <a:pt x="289" y="635"/>
                  <a:pt x="550" y="635"/>
                </a:cubicBezTo>
                <a:cubicBezTo>
                  <a:pt x="774" y="635"/>
                  <a:pt x="963" y="586"/>
                  <a:pt x="1018" y="521"/>
                </a:cubicBezTo>
                <a:cubicBezTo>
                  <a:pt x="1049" y="494"/>
                  <a:pt x="1068" y="458"/>
                  <a:pt x="1068" y="418"/>
                </a:cubicBezTo>
                <a:cubicBezTo>
                  <a:pt x="1068" y="336"/>
                  <a:pt x="986" y="269"/>
                  <a:pt x="886" y="269"/>
                </a:cubicBezTo>
                <a:cubicBezTo>
                  <a:pt x="874" y="269"/>
                  <a:pt x="862" y="270"/>
                  <a:pt x="851" y="272"/>
                </a:cubicBezTo>
                <a:cubicBezTo>
                  <a:pt x="830" y="177"/>
                  <a:pt x="734" y="105"/>
                  <a:pt x="618" y="105"/>
                </a:cubicBezTo>
                <a:cubicBezTo>
                  <a:pt x="587" y="105"/>
                  <a:pt x="559" y="110"/>
                  <a:pt x="532" y="119"/>
                </a:cubicBezTo>
                <a:cubicBezTo>
                  <a:pt x="478" y="47"/>
                  <a:pt x="392" y="0"/>
                  <a:pt x="296" y="0"/>
                </a:cubicBezTo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Freeform 691">
            <a:hlinkClick r:id="rId6"/>
          </p:cNvPr>
          <p:cNvSpPr/>
          <p:nvPr/>
        </p:nvSpPr>
        <p:spPr>
          <a:xfrm flipH="1">
            <a:off x="10045800" y="4014720"/>
            <a:ext cx="2193840" cy="2882880"/>
          </a:xfrm>
          <a:custGeom>
            <a:avLst/>
            <a:gdLst/>
            <a:ahLst/>
            <a:rect l="l" t="t" r="r" b="b"/>
            <a:pathLst>
              <a:path w="1279" h="1680">
                <a:moveTo>
                  <a:pt x="1066" y="1017"/>
                </a:moveTo>
                <a:cubicBezTo>
                  <a:pt x="1184" y="1017"/>
                  <a:pt x="1279" y="918"/>
                  <a:pt x="1279" y="797"/>
                </a:cubicBezTo>
                <a:cubicBezTo>
                  <a:pt x="1279" y="693"/>
                  <a:pt x="1209" y="606"/>
                  <a:pt x="1115" y="583"/>
                </a:cubicBezTo>
                <a:cubicBezTo>
                  <a:pt x="1128" y="555"/>
                  <a:pt x="1134" y="524"/>
                  <a:pt x="1134" y="492"/>
                </a:cubicBezTo>
                <a:cubicBezTo>
                  <a:pt x="1134" y="370"/>
                  <a:pt x="1039" y="272"/>
                  <a:pt x="921" y="272"/>
                </a:cubicBezTo>
                <a:cubicBezTo>
                  <a:pt x="901" y="272"/>
                  <a:pt x="882" y="275"/>
                  <a:pt x="863" y="280"/>
                </a:cubicBezTo>
                <a:cubicBezTo>
                  <a:pt x="833" y="197"/>
                  <a:pt x="755" y="137"/>
                  <a:pt x="663" y="137"/>
                </a:cubicBezTo>
                <a:cubicBezTo>
                  <a:pt x="633" y="137"/>
                  <a:pt x="605" y="143"/>
                  <a:pt x="579" y="155"/>
                </a:cubicBezTo>
                <a:cubicBezTo>
                  <a:pt x="524" y="62"/>
                  <a:pt x="425" y="0"/>
                  <a:pt x="312" y="0"/>
                </a:cubicBezTo>
                <a:cubicBezTo>
                  <a:pt x="161" y="0"/>
                  <a:pt x="35" y="112"/>
                  <a:pt x="6" y="259"/>
                </a:cubicBezTo>
                <a:cubicBezTo>
                  <a:pt x="0" y="258"/>
                  <a:pt x="0" y="258"/>
                  <a:pt x="0" y="258"/>
                </a:cubicBezTo>
                <a:cubicBezTo>
                  <a:pt x="0" y="1680"/>
                  <a:pt x="0" y="1680"/>
                  <a:pt x="0" y="1680"/>
                </a:cubicBezTo>
                <a:cubicBezTo>
                  <a:pt x="776" y="1680"/>
                  <a:pt x="776" y="1680"/>
                  <a:pt x="776" y="1680"/>
                </a:cubicBezTo>
                <a:cubicBezTo>
                  <a:pt x="940" y="1680"/>
                  <a:pt x="1073" y="1543"/>
                  <a:pt x="1073" y="1373"/>
                </a:cubicBezTo>
                <a:cubicBezTo>
                  <a:pt x="1073" y="1279"/>
                  <a:pt x="1032" y="1195"/>
                  <a:pt x="967" y="1138"/>
                </a:cubicBezTo>
                <a:cubicBezTo>
                  <a:pt x="989" y="1099"/>
                  <a:pt x="1002" y="1055"/>
                  <a:pt x="1005" y="1008"/>
                </a:cubicBezTo>
                <a:cubicBezTo>
                  <a:pt x="1024" y="1014"/>
                  <a:pt x="1045" y="1017"/>
                  <a:pt x="1066" y="1017"/>
                </a:cubicBezTo>
                <a:close/>
              </a:path>
            </a:pathLst>
          </a:custGeom>
          <a:solidFill>
            <a:srgbClr val="d2d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Freeform 692"/>
          <p:cNvSpPr/>
          <p:nvPr/>
        </p:nvSpPr>
        <p:spPr>
          <a:xfrm flipH="1">
            <a:off x="10557000" y="4570560"/>
            <a:ext cx="1682640" cy="2327040"/>
          </a:xfrm>
          <a:custGeom>
            <a:avLst/>
            <a:gdLst/>
            <a:ahLst/>
            <a:rect l="l" t="t" r="r" b="b"/>
            <a:pathLst>
              <a:path w="981" h="1356">
                <a:moveTo>
                  <a:pt x="939" y="254"/>
                </a:moveTo>
                <a:cubicBezTo>
                  <a:pt x="958" y="232"/>
                  <a:pt x="969" y="203"/>
                  <a:pt x="969" y="171"/>
                </a:cubicBezTo>
                <a:cubicBezTo>
                  <a:pt x="969" y="101"/>
                  <a:pt x="916" y="45"/>
                  <a:pt x="851" y="45"/>
                </a:cubicBezTo>
                <a:cubicBezTo>
                  <a:pt x="815" y="45"/>
                  <a:pt x="784" y="62"/>
                  <a:pt x="762" y="87"/>
                </a:cubicBezTo>
                <a:cubicBezTo>
                  <a:pt x="734" y="35"/>
                  <a:pt x="682" y="0"/>
                  <a:pt x="621" y="0"/>
                </a:cubicBezTo>
                <a:cubicBezTo>
                  <a:pt x="547" y="0"/>
                  <a:pt x="485" y="53"/>
                  <a:pt x="466" y="125"/>
                </a:cubicBezTo>
                <a:cubicBezTo>
                  <a:pt x="443" y="113"/>
                  <a:pt x="418" y="106"/>
                  <a:pt x="391" y="106"/>
                </a:cubicBezTo>
                <a:cubicBezTo>
                  <a:pt x="355" y="106"/>
                  <a:pt x="321" y="118"/>
                  <a:pt x="295" y="139"/>
                </a:cubicBezTo>
                <a:cubicBezTo>
                  <a:pt x="268" y="118"/>
                  <a:pt x="235" y="106"/>
                  <a:pt x="199" y="106"/>
                </a:cubicBezTo>
                <a:cubicBezTo>
                  <a:pt x="131" y="106"/>
                  <a:pt x="73" y="150"/>
                  <a:pt x="49" y="213"/>
                </a:cubicBezTo>
                <a:cubicBezTo>
                  <a:pt x="49" y="214"/>
                  <a:pt x="48" y="215"/>
                  <a:pt x="48" y="216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1356"/>
                  <a:pt x="0" y="1356"/>
                  <a:pt x="0" y="1356"/>
                </a:cubicBezTo>
                <a:cubicBezTo>
                  <a:pt x="339" y="1185"/>
                  <a:pt x="339" y="1185"/>
                  <a:pt x="339" y="1185"/>
                </a:cubicBezTo>
                <a:cubicBezTo>
                  <a:pt x="339" y="1185"/>
                  <a:pt x="339" y="1185"/>
                  <a:pt x="339" y="1185"/>
                </a:cubicBezTo>
                <a:cubicBezTo>
                  <a:pt x="416" y="1154"/>
                  <a:pt x="471" y="1077"/>
                  <a:pt x="471" y="986"/>
                </a:cubicBezTo>
                <a:cubicBezTo>
                  <a:pt x="471" y="969"/>
                  <a:pt x="469" y="953"/>
                  <a:pt x="465" y="937"/>
                </a:cubicBezTo>
                <a:cubicBezTo>
                  <a:pt x="572" y="930"/>
                  <a:pt x="657" y="838"/>
                  <a:pt x="657" y="725"/>
                </a:cubicBezTo>
                <a:cubicBezTo>
                  <a:pt x="657" y="715"/>
                  <a:pt x="657" y="705"/>
                  <a:pt x="655" y="696"/>
                </a:cubicBezTo>
                <a:cubicBezTo>
                  <a:pt x="694" y="672"/>
                  <a:pt x="725" y="636"/>
                  <a:pt x="742" y="593"/>
                </a:cubicBezTo>
                <a:cubicBezTo>
                  <a:pt x="753" y="595"/>
                  <a:pt x="764" y="596"/>
                  <a:pt x="776" y="596"/>
                </a:cubicBezTo>
                <a:cubicBezTo>
                  <a:pt x="889" y="596"/>
                  <a:pt x="981" y="501"/>
                  <a:pt x="981" y="383"/>
                </a:cubicBezTo>
                <a:cubicBezTo>
                  <a:pt x="981" y="335"/>
                  <a:pt x="966" y="290"/>
                  <a:pt x="939" y="254"/>
                </a:cubicBezTo>
                <a:close/>
              </a:path>
            </a:pathLst>
          </a:custGeom>
          <a:solidFill>
            <a:srgbClr val="e0e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Freeform 693">
            <a:hlinkClick r:id="rId7"/>
          </p:cNvPr>
          <p:cNvSpPr/>
          <p:nvPr/>
        </p:nvSpPr>
        <p:spPr>
          <a:xfrm flipH="1">
            <a:off x="10650600" y="4762440"/>
            <a:ext cx="1603440" cy="1392120"/>
          </a:xfrm>
          <a:custGeom>
            <a:avLst/>
            <a:gdLst/>
            <a:ahLst/>
            <a:rect l="l" t="t" r="r" b="b"/>
            <a:pathLst>
              <a:path w="934" h="811">
                <a:moveTo>
                  <a:pt x="839" y="0"/>
                </a:moveTo>
                <a:cubicBezTo>
                  <a:pt x="798" y="0"/>
                  <a:pt x="764" y="26"/>
                  <a:pt x="750" y="63"/>
                </a:cubicBezTo>
                <a:cubicBezTo>
                  <a:pt x="734" y="51"/>
                  <a:pt x="714" y="43"/>
                  <a:pt x="692" y="43"/>
                </a:cubicBezTo>
                <a:cubicBezTo>
                  <a:pt x="639" y="43"/>
                  <a:pt x="596" y="88"/>
                  <a:pt x="596" y="143"/>
                </a:cubicBezTo>
                <a:cubicBezTo>
                  <a:pt x="596" y="152"/>
                  <a:pt x="597" y="161"/>
                  <a:pt x="599" y="169"/>
                </a:cubicBezTo>
                <a:cubicBezTo>
                  <a:pt x="592" y="173"/>
                  <a:pt x="585" y="178"/>
                  <a:pt x="579" y="185"/>
                </a:cubicBezTo>
                <a:cubicBezTo>
                  <a:pt x="491" y="142"/>
                  <a:pt x="345" y="167"/>
                  <a:pt x="213" y="256"/>
                </a:cubicBezTo>
                <a:cubicBezTo>
                  <a:pt x="194" y="270"/>
                  <a:pt x="175" y="284"/>
                  <a:pt x="158" y="299"/>
                </a:cubicBezTo>
                <a:cubicBezTo>
                  <a:pt x="142" y="288"/>
                  <a:pt x="124" y="281"/>
                  <a:pt x="104" y="281"/>
                </a:cubicBezTo>
                <a:cubicBezTo>
                  <a:pt x="51" y="281"/>
                  <a:pt x="8" y="326"/>
                  <a:pt x="8" y="381"/>
                </a:cubicBezTo>
                <a:cubicBezTo>
                  <a:pt x="8" y="409"/>
                  <a:pt x="19" y="434"/>
                  <a:pt x="36" y="453"/>
                </a:cubicBezTo>
                <a:cubicBezTo>
                  <a:pt x="4" y="522"/>
                  <a:pt x="0" y="590"/>
                  <a:pt x="34" y="640"/>
                </a:cubicBezTo>
                <a:cubicBezTo>
                  <a:pt x="34" y="640"/>
                  <a:pt x="35" y="641"/>
                  <a:pt x="35" y="641"/>
                </a:cubicBezTo>
                <a:cubicBezTo>
                  <a:pt x="18" y="659"/>
                  <a:pt x="8" y="683"/>
                  <a:pt x="8" y="711"/>
                </a:cubicBezTo>
                <a:cubicBezTo>
                  <a:pt x="8" y="766"/>
                  <a:pt x="51" y="811"/>
                  <a:pt x="104" y="811"/>
                </a:cubicBezTo>
                <a:cubicBezTo>
                  <a:pt x="157" y="811"/>
                  <a:pt x="200" y="766"/>
                  <a:pt x="200" y="711"/>
                </a:cubicBezTo>
                <a:cubicBezTo>
                  <a:pt x="200" y="710"/>
                  <a:pt x="200" y="709"/>
                  <a:pt x="200" y="708"/>
                </a:cubicBezTo>
                <a:cubicBezTo>
                  <a:pt x="210" y="707"/>
                  <a:pt x="221" y="706"/>
                  <a:pt x="233" y="705"/>
                </a:cubicBezTo>
                <a:cubicBezTo>
                  <a:pt x="260" y="728"/>
                  <a:pt x="302" y="742"/>
                  <a:pt x="349" y="742"/>
                </a:cubicBezTo>
                <a:cubicBezTo>
                  <a:pt x="432" y="742"/>
                  <a:pt x="499" y="697"/>
                  <a:pt x="499" y="642"/>
                </a:cubicBezTo>
                <a:cubicBezTo>
                  <a:pt x="499" y="626"/>
                  <a:pt x="493" y="611"/>
                  <a:pt x="483" y="597"/>
                </a:cubicBezTo>
                <a:cubicBezTo>
                  <a:pt x="491" y="591"/>
                  <a:pt x="499" y="584"/>
                  <a:pt x="507" y="577"/>
                </a:cubicBezTo>
                <a:cubicBezTo>
                  <a:pt x="511" y="578"/>
                  <a:pt x="515" y="578"/>
                  <a:pt x="519" y="578"/>
                </a:cubicBezTo>
                <a:cubicBezTo>
                  <a:pt x="572" y="578"/>
                  <a:pt x="615" y="533"/>
                  <a:pt x="615" y="478"/>
                </a:cubicBezTo>
                <a:cubicBezTo>
                  <a:pt x="615" y="471"/>
                  <a:pt x="614" y="465"/>
                  <a:pt x="613" y="458"/>
                </a:cubicBezTo>
                <a:cubicBezTo>
                  <a:pt x="634" y="424"/>
                  <a:pt x="649" y="389"/>
                  <a:pt x="655" y="355"/>
                </a:cubicBezTo>
                <a:cubicBezTo>
                  <a:pt x="705" y="351"/>
                  <a:pt x="743" y="308"/>
                  <a:pt x="743" y="255"/>
                </a:cubicBezTo>
                <a:cubicBezTo>
                  <a:pt x="743" y="247"/>
                  <a:pt x="742" y="238"/>
                  <a:pt x="740" y="230"/>
                </a:cubicBezTo>
                <a:cubicBezTo>
                  <a:pt x="758" y="219"/>
                  <a:pt x="773" y="201"/>
                  <a:pt x="781" y="181"/>
                </a:cubicBezTo>
                <a:cubicBezTo>
                  <a:pt x="797" y="193"/>
                  <a:pt x="817" y="201"/>
                  <a:pt x="839" y="201"/>
                </a:cubicBezTo>
                <a:cubicBezTo>
                  <a:pt x="891" y="201"/>
                  <a:pt x="934" y="156"/>
                  <a:pt x="934" y="101"/>
                </a:cubicBezTo>
                <a:cubicBezTo>
                  <a:pt x="934" y="45"/>
                  <a:pt x="891" y="0"/>
                  <a:pt x="8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9407520" y="3503520"/>
            <a:ext cx="1316160" cy="1809720"/>
            <a:chOff x="9407520" y="3503520"/>
            <a:chExt cx="1316160" cy="1809720"/>
          </a:xfrm>
        </p:grpSpPr>
        <p:sp>
          <p:nvSpPr>
            <p:cNvPr id="1490" name="Freeform 694"/>
            <p:cNvSpPr/>
            <p:nvPr/>
          </p:nvSpPr>
          <p:spPr>
            <a:xfrm flipH="1">
              <a:off x="9407520" y="3503520"/>
              <a:ext cx="1316160" cy="1809720"/>
            </a:xfrm>
            <a:custGeom>
              <a:avLst/>
              <a:gdLst/>
              <a:ahLst/>
              <a:rect l="l" t="t" r="r" b="b"/>
              <a:pathLst>
                <a:path w="767" h="1054">
                  <a:moveTo>
                    <a:pt x="767" y="244"/>
                  </a:moveTo>
                  <a:cubicBezTo>
                    <a:pt x="767" y="244"/>
                    <a:pt x="78" y="0"/>
                    <a:pt x="0" y="833"/>
                  </a:cubicBezTo>
                  <a:cubicBezTo>
                    <a:pt x="0" y="833"/>
                    <a:pt x="678" y="1054"/>
                    <a:pt x="767" y="244"/>
                  </a:cubicBezTo>
                  <a:close/>
                </a:path>
              </a:pathLst>
            </a:custGeom>
            <a:solidFill>
              <a:srgbClr val="f9a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695"/>
            <p:cNvSpPr/>
            <p:nvPr/>
          </p:nvSpPr>
          <p:spPr>
            <a:xfrm flipH="1">
              <a:off x="9461160" y="3595320"/>
              <a:ext cx="936720" cy="1422360"/>
            </a:xfrm>
            <a:custGeom>
              <a:avLst/>
              <a:gdLst/>
              <a:ahLst/>
              <a:rect l="l" t="t" r="r" b="b"/>
              <a:pathLst>
                <a:path w="546" h="829">
                  <a:moveTo>
                    <a:pt x="546" y="214"/>
                  </a:moveTo>
                  <a:cubicBezTo>
                    <a:pt x="546" y="214"/>
                    <a:pt x="24" y="0"/>
                    <a:pt x="0" y="634"/>
                  </a:cubicBezTo>
                  <a:cubicBezTo>
                    <a:pt x="0" y="634"/>
                    <a:pt x="512" y="829"/>
                    <a:pt x="546" y="214"/>
                  </a:cubicBezTo>
                  <a:close/>
                </a:path>
              </a:pathLst>
            </a:custGeom>
            <a:solidFill>
              <a:srgbClr val="fac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696">
              <a:hlinkClick r:id="rId8"/>
            </p:cNvPr>
            <p:cNvSpPr/>
            <p:nvPr/>
          </p:nvSpPr>
          <p:spPr>
            <a:xfrm flipH="1">
              <a:off x="9509040" y="3742920"/>
              <a:ext cx="620640" cy="952560"/>
            </a:xfrm>
            <a:custGeom>
              <a:avLst/>
              <a:gdLst/>
              <a:ahLst/>
              <a:rect l="l" t="t" r="r" b="b"/>
              <a:pathLst>
                <a:path w="362" h="555">
                  <a:moveTo>
                    <a:pt x="362" y="145"/>
                  </a:moveTo>
                  <a:cubicBezTo>
                    <a:pt x="362" y="145"/>
                    <a:pt x="14" y="0"/>
                    <a:pt x="0" y="423"/>
                  </a:cubicBezTo>
                  <a:cubicBezTo>
                    <a:pt x="0" y="423"/>
                    <a:pt x="342" y="555"/>
                    <a:pt x="362" y="145"/>
                  </a:cubicBezTo>
                  <a:close/>
                </a:path>
              </a:pathLst>
            </a:custGeom>
            <a:solidFill>
              <a:srgbClr val="f7da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3" name="组合 2"/>
          <p:cNvGrpSpPr/>
          <p:nvPr/>
        </p:nvGrpSpPr>
        <p:grpSpPr>
          <a:xfrm>
            <a:off x="6072120" y="828720"/>
            <a:ext cx="3938760" cy="3611520"/>
            <a:chOff x="6072120" y="828720"/>
            <a:chExt cx="3938760" cy="3611520"/>
          </a:xfrm>
        </p:grpSpPr>
        <p:sp>
          <p:nvSpPr>
            <p:cNvPr id="1494" name="Freeform 697">
              <a:hlinkClick r:id="rId9"/>
            </p:cNvPr>
            <p:cNvSpPr/>
            <p:nvPr/>
          </p:nvSpPr>
          <p:spPr>
            <a:xfrm flipH="1">
              <a:off x="6605280" y="1312920"/>
              <a:ext cx="3405600" cy="3090960"/>
            </a:xfrm>
            <a:custGeom>
              <a:avLst/>
              <a:gdLst/>
              <a:ahLst/>
              <a:rect l="l" t="t" r="r" b="b"/>
              <a:pathLst>
                <a:path w="1985" h="1801">
                  <a:moveTo>
                    <a:pt x="1195" y="1467"/>
                  </a:moveTo>
                  <a:cubicBezTo>
                    <a:pt x="1348" y="1464"/>
                    <a:pt x="1503" y="1410"/>
                    <a:pt x="1632" y="1304"/>
                  </a:cubicBezTo>
                  <a:cubicBezTo>
                    <a:pt x="1934" y="1057"/>
                    <a:pt x="1985" y="621"/>
                    <a:pt x="1746" y="328"/>
                  </a:cubicBezTo>
                  <a:cubicBezTo>
                    <a:pt x="1507" y="36"/>
                    <a:pt x="1069" y="0"/>
                    <a:pt x="767" y="246"/>
                  </a:cubicBezTo>
                  <a:cubicBezTo>
                    <a:pt x="645" y="346"/>
                    <a:pt x="564" y="477"/>
                    <a:pt x="527" y="616"/>
                  </a:cubicBezTo>
                  <a:cubicBezTo>
                    <a:pt x="526" y="615"/>
                    <a:pt x="526" y="615"/>
                    <a:pt x="526" y="615"/>
                  </a:cubicBezTo>
                  <a:cubicBezTo>
                    <a:pt x="526" y="615"/>
                    <a:pt x="526" y="616"/>
                    <a:pt x="526" y="617"/>
                  </a:cubicBezTo>
                  <a:cubicBezTo>
                    <a:pt x="508" y="685"/>
                    <a:pt x="501" y="754"/>
                    <a:pt x="503" y="824"/>
                  </a:cubicBezTo>
                  <a:cubicBezTo>
                    <a:pt x="480" y="960"/>
                    <a:pt x="435" y="1126"/>
                    <a:pt x="347" y="1196"/>
                  </a:cubicBezTo>
                  <a:cubicBezTo>
                    <a:pt x="61" y="1430"/>
                    <a:pt x="61" y="1430"/>
                    <a:pt x="61" y="1430"/>
                  </a:cubicBezTo>
                  <a:cubicBezTo>
                    <a:pt x="8" y="1473"/>
                    <a:pt x="0" y="1550"/>
                    <a:pt x="43" y="1603"/>
                  </a:cubicBezTo>
                  <a:cubicBezTo>
                    <a:pt x="156" y="1741"/>
                    <a:pt x="156" y="1741"/>
                    <a:pt x="156" y="1741"/>
                  </a:cubicBezTo>
                  <a:cubicBezTo>
                    <a:pt x="199" y="1793"/>
                    <a:pt x="277" y="1801"/>
                    <a:pt x="329" y="1758"/>
                  </a:cubicBezTo>
                  <a:cubicBezTo>
                    <a:pt x="647" y="1498"/>
                    <a:pt x="647" y="1498"/>
                    <a:pt x="647" y="1498"/>
                  </a:cubicBezTo>
                  <a:cubicBezTo>
                    <a:pt x="753" y="1449"/>
                    <a:pt x="917" y="1446"/>
                    <a:pt x="1039" y="1454"/>
                  </a:cubicBezTo>
                  <a:cubicBezTo>
                    <a:pt x="1086" y="1463"/>
                    <a:pt x="1135" y="1468"/>
                    <a:pt x="1184" y="1468"/>
                  </a:cubicBezTo>
                  <a:cubicBezTo>
                    <a:pt x="1193" y="1469"/>
                    <a:pt x="1199" y="1470"/>
                    <a:pt x="1199" y="1470"/>
                  </a:cubicBezTo>
                  <a:lnTo>
                    <a:pt x="1195" y="1467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698"/>
            <p:cNvSpPr/>
            <p:nvPr/>
          </p:nvSpPr>
          <p:spPr>
            <a:xfrm flipH="1">
              <a:off x="6604560" y="1876320"/>
              <a:ext cx="3232440" cy="2527200"/>
            </a:xfrm>
            <a:custGeom>
              <a:avLst/>
              <a:gdLst/>
              <a:ahLst/>
              <a:rect l="l" t="t" r="r" b="b"/>
              <a:pathLst>
                <a:path w="1884" h="1473">
                  <a:moveTo>
                    <a:pt x="1531" y="976"/>
                  </a:moveTo>
                  <a:cubicBezTo>
                    <a:pt x="1833" y="729"/>
                    <a:pt x="1884" y="293"/>
                    <a:pt x="1645" y="0"/>
                  </a:cubicBezTo>
                  <a:cubicBezTo>
                    <a:pt x="0" y="1346"/>
                    <a:pt x="0" y="1346"/>
                    <a:pt x="0" y="1346"/>
                  </a:cubicBezTo>
                  <a:cubicBezTo>
                    <a:pt x="55" y="1413"/>
                    <a:pt x="55" y="1413"/>
                    <a:pt x="55" y="1413"/>
                  </a:cubicBezTo>
                  <a:cubicBezTo>
                    <a:pt x="98" y="1465"/>
                    <a:pt x="176" y="1473"/>
                    <a:pt x="228" y="1430"/>
                  </a:cubicBezTo>
                  <a:cubicBezTo>
                    <a:pt x="546" y="1170"/>
                    <a:pt x="546" y="1170"/>
                    <a:pt x="546" y="1170"/>
                  </a:cubicBezTo>
                  <a:cubicBezTo>
                    <a:pt x="652" y="1121"/>
                    <a:pt x="816" y="1118"/>
                    <a:pt x="938" y="1126"/>
                  </a:cubicBezTo>
                  <a:cubicBezTo>
                    <a:pt x="985" y="1135"/>
                    <a:pt x="1034" y="1140"/>
                    <a:pt x="1083" y="1140"/>
                  </a:cubicBezTo>
                  <a:cubicBezTo>
                    <a:pt x="1092" y="1141"/>
                    <a:pt x="1098" y="1142"/>
                    <a:pt x="1098" y="1142"/>
                  </a:cubicBezTo>
                  <a:cubicBezTo>
                    <a:pt x="1094" y="1139"/>
                    <a:pt x="1094" y="1139"/>
                    <a:pt x="1094" y="1139"/>
                  </a:cubicBezTo>
                  <a:cubicBezTo>
                    <a:pt x="1247" y="1136"/>
                    <a:pt x="1402" y="1082"/>
                    <a:pt x="1531" y="976"/>
                  </a:cubicBezTo>
                  <a:close/>
                </a:path>
              </a:pathLst>
            </a:custGeom>
            <a:solidFill>
              <a:srgbClr val="efb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699"/>
            <p:cNvSpPr/>
            <p:nvPr/>
          </p:nvSpPr>
          <p:spPr>
            <a:xfrm flipH="1">
              <a:off x="8631360" y="2684520"/>
              <a:ext cx="714240" cy="914400"/>
            </a:xfrm>
            <a:custGeom>
              <a:avLst/>
              <a:gdLst/>
              <a:ahLst/>
              <a:rect l="l" t="t" r="r" b="b"/>
              <a:pathLst>
                <a:path w="450" h="576">
                  <a:moveTo>
                    <a:pt x="450" y="0"/>
                  </a:moveTo>
                  <a:lnTo>
                    <a:pt x="0" y="576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8631360" y="2684520"/>
              <a:ext cx="714240" cy="914400"/>
              <a:chOff x="8631360" y="2684520"/>
              <a:chExt cx="714240" cy="914400"/>
            </a:xfrm>
          </p:grpSpPr>
          <p:sp>
            <p:nvSpPr>
              <p:cNvPr id="1498" name="Line 700"/>
              <p:cNvSpPr/>
              <p:nvPr/>
            </p:nvSpPr>
            <p:spPr>
              <a:xfrm>
                <a:off x="8631360" y="2684520"/>
                <a:ext cx="71424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>
                <a:off x="8631360" y="2684520"/>
                <a:ext cx="71424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0" name="Freeform 701"/>
            <p:cNvSpPr/>
            <p:nvPr/>
          </p:nvSpPr>
          <p:spPr>
            <a:xfrm flipH="1">
              <a:off x="8568720" y="2624040"/>
              <a:ext cx="833400" cy="1035000"/>
            </a:xfrm>
            <a:custGeom>
              <a:avLst/>
              <a:gdLst/>
              <a:ahLst/>
              <a:rect l="l" t="t" r="r" b="b"/>
              <a:pathLst>
                <a:path w="486" h="603">
                  <a:moveTo>
                    <a:pt x="10" y="588"/>
                  </a:moveTo>
                  <a:cubicBezTo>
                    <a:pt x="1" y="577"/>
                    <a:pt x="0" y="561"/>
                    <a:pt x="9" y="549"/>
                  </a:cubicBezTo>
                  <a:cubicBezTo>
                    <a:pt x="426" y="16"/>
                    <a:pt x="426" y="16"/>
                    <a:pt x="426" y="16"/>
                  </a:cubicBezTo>
                  <a:cubicBezTo>
                    <a:pt x="436" y="3"/>
                    <a:pt x="456" y="0"/>
                    <a:pt x="470" y="11"/>
                  </a:cubicBezTo>
                  <a:cubicBezTo>
                    <a:pt x="483" y="21"/>
                    <a:pt x="486" y="41"/>
                    <a:pt x="475" y="54"/>
                  </a:cubicBezTo>
                  <a:cubicBezTo>
                    <a:pt x="58" y="587"/>
                    <a:pt x="58" y="587"/>
                    <a:pt x="58" y="587"/>
                  </a:cubicBezTo>
                  <a:cubicBezTo>
                    <a:pt x="48" y="601"/>
                    <a:pt x="28" y="603"/>
                    <a:pt x="15" y="593"/>
                  </a:cubicBezTo>
                  <a:cubicBezTo>
                    <a:pt x="13" y="591"/>
                    <a:pt x="11" y="589"/>
                    <a:pt x="10" y="5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702"/>
            <p:cNvSpPr/>
            <p:nvPr/>
          </p:nvSpPr>
          <p:spPr>
            <a:xfrm flipH="1">
              <a:off x="8568000" y="2683080"/>
              <a:ext cx="64800" cy="458640"/>
            </a:xfrm>
            <a:custGeom>
              <a:avLst/>
              <a:gdLst/>
              <a:ahLst/>
              <a:rect l="l" t="t" r="r" b="b"/>
              <a:pathLst>
                <a:path w="41" h="289">
                  <a:moveTo>
                    <a:pt x="0" y="0"/>
                  </a:moveTo>
                  <a:lnTo>
                    <a:pt x="41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8568000" y="2683080"/>
              <a:ext cx="64800" cy="458640"/>
              <a:chOff x="8568000" y="2683080"/>
              <a:chExt cx="64800" cy="458640"/>
            </a:xfrm>
          </p:grpSpPr>
          <p:sp>
            <p:nvSpPr>
              <p:cNvPr id="1503" name="Line 703"/>
              <p:cNvSpPr/>
              <p:nvPr/>
            </p:nvSpPr>
            <p:spPr>
              <a:xfrm flipH="1">
                <a:off x="8568000" y="2683080"/>
                <a:ext cx="64800" cy="458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8568000" y="2683080"/>
                <a:ext cx="64800" cy="4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5" name="Freeform 704"/>
            <p:cNvSpPr/>
            <p:nvPr/>
          </p:nvSpPr>
          <p:spPr>
            <a:xfrm flipH="1">
              <a:off x="8508960" y="2624040"/>
              <a:ext cx="180720" cy="573120"/>
            </a:xfrm>
            <a:custGeom>
              <a:avLst/>
              <a:gdLst/>
              <a:ahLst/>
              <a:rect l="l" t="t" r="r" b="b"/>
              <a:pathLst>
                <a:path w="105" h="334">
                  <a:moveTo>
                    <a:pt x="47" y="321"/>
                  </a:moveTo>
                  <a:cubicBezTo>
                    <a:pt x="44" y="317"/>
                    <a:pt x="41" y="312"/>
                    <a:pt x="40" y="306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0" y="21"/>
                    <a:pt x="12" y="5"/>
                    <a:pt x="29" y="3"/>
                  </a:cubicBezTo>
                  <a:cubicBezTo>
                    <a:pt x="46" y="0"/>
                    <a:pt x="62" y="12"/>
                    <a:pt x="64" y="29"/>
                  </a:cubicBezTo>
                  <a:cubicBezTo>
                    <a:pt x="102" y="297"/>
                    <a:pt x="102" y="297"/>
                    <a:pt x="102" y="297"/>
                  </a:cubicBezTo>
                  <a:cubicBezTo>
                    <a:pt x="105" y="314"/>
                    <a:pt x="93" y="330"/>
                    <a:pt x="76" y="332"/>
                  </a:cubicBezTo>
                  <a:cubicBezTo>
                    <a:pt x="64" y="334"/>
                    <a:pt x="54" y="330"/>
                    <a:pt x="47" y="3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705"/>
            <p:cNvSpPr/>
            <p:nvPr/>
          </p:nvSpPr>
          <p:spPr>
            <a:xfrm flipH="1">
              <a:off x="8132040" y="3294000"/>
              <a:ext cx="1036440" cy="519120"/>
            </a:xfrm>
            <a:custGeom>
              <a:avLst/>
              <a:gdLst/>
              <a:ahLst/>
              <a:rect l="l" t="t" r="r" b="b"/>
              <a:pathLst>
                <a:path w="653" h="327">
                  <a:moveTo>
                    <a:pt x="653" y="0"/>
                  </a:moveTo>
                  <a:lnTo>
                    <a:pt x="0" y="327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07" name=""/>
            <p:cNvGrpSpPr/>
            <p:nvPr/>
          </p:nvGrpSpPr>
          <p:grpSpPr>
            <a:xfrm>
              <a:off x="8132760" y="3294000"/>
              <a:ext cx="1036440" cy="519120"/>
              <a:chOff x="8132760" y="3294000"/>
              <a:chExt cx="1036440" cy="519120"/>
            </a:xfrm>
          </p:grpSpPr>
          <p:sp>
            <p:nvSpPr>
              <p:cNvPr id="1508" name="Line 706"/>
              <p:cNvSpPr/>
              <p:nvPr/>
            </p:nvSpPr>
            <p:spPr>
              <a:xfrm>
                <a:off x="8132760" y="3294000"/>
                <a:ext cx="1036440" cy="519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9" name=""/>
              <p:cNvSpPr txBox="1"/>
              <p:nvPr/>
            </p:nvSpPr>
            <p:spPr>
              <a:xfrm>
                <a:off x="8132760" y="3294000"/>
                <a:ext cx="10364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0" name="Freeform 707"/>
            <p:cNvSpPr/>
            <p:nvPr/>
          </p:nvSpPr>
          <p:spPr>
            <a:xfrm flipH="1">
              <a:off x="8071920" y="3233880"/>
              <a:ext cx="1158840" cy="637920"/>
            </a:xfrm>
            <a:custGeom>
              <a:avLst/>
              <a:gdLst/>
              <a:ahLst/>
              <a:rect l="l" t="t" r="r" b="b"/>
              <a:pathLst>
                <a:path w="676" h="372">
                  <a:moveTo>
                    <a:pt x="12" y="358"/>
                  </a:moveTo>
                  <a:cubicBezTo>
                    <a:pt x="10" y="356"/>
                    <a:pt x="9" y="354"/>
                    <a:pt x="8" y="352"/>
                  </a:cubicBezTo>
                  <a:cubicBezTo>
                    <a:pt x="0" y="336"/>
                    <a:pt x="6" y="318"/>
                    <a:pt x="22" y="310"/>
                  </a:cubicBezTo>
                  <a:cubicBezTo>
                    <a:pt x="627" y="7"/>
                    <a:pt x="627" y="7"/>
                    <a:pt x="627" y="7"/>
                  </a:cubicBezTo>
                  <a:cubicBezTo>
                    <a:pt x="642" y="0"/>
                    <a:pt x="661" y="6"/>
                    <a:pt x="668" y="21"/>
                  </a:cubicBezTo>
                  <a:cubicBezTo>
                    <a:pt x="676" y="36"/>
                    <a:pt x="670" y="55"/>
                    <a:pt x="654" y="63"/>
                  </a:cubicBezTo>
                  <a:cubicBezTo>
                    <a:pt x="50" y="366"/>
                    <a:pt x="50" y="366"/>
                    <a:pt x="50" y="366"/>
                  </a:cubicBezTo>
                  <a:cubicBezTo>
                    <a:pt x="36" y="372"/>
                    <a:pt x="21" y="369"/>
                    <a:pt x="12" y="358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708"/>
            <p:cNvSpPr/>
            <p:nvPr/>
          </p:nvSpPr>
          <p:spPr>
            <a:xfrm flipH="1">
              <a:off x="8131320" y="3140280"/>
              <a:ext cx="436320" cy="156960"/>
            </a:xfrm>
            <a:custGeom>
              <a:avLst/>
              <a:gdLst/>
              <a:ahLst/>
              <a:rect l="l" t="t" r="r" b="b"/>
              <a:pathLst>
                <a:path w="275" h="99">
                  <a:moveTo>
                    <a:pt x="275" y="99"/>
                  </a:moveTo>
                  <a:lnTo>
                    <a:pt x="0" y="0"/>
                  </a:lnTo>
                  <a:lnTo>
                    <a:pt x="275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8131320" y="3140280"/>
              <a:ext cx="436320" cy="156960"/>
              <a:chOff x="8131320" y="3140280"/>
              <a:chExt cx="436320" cy="156960"/>
            </a:xfrm>
          </p:grpSpPr>
          <p:sp>
            <p:nvSpPr>
              <p:cNvPr id="1513" name="Line 709"/>
              <p:cNvSpPr/>
              <p:nvPr/>
            </p:nvSpPr>
            <p:spPr>
              <a:xfrm flipV="1">
                <a:off x="8131320" y="3140280"/>
                <a:ext cx="436320" cy="156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 rot="10800000">
                <a:off x="8131320" y="3140280"/>
                <a:ext cx="436320" cy="15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5" name="Freeform 710"/>
            <p:cNvSpPr/>
            <p:nvPr/>
          </p:nvSpPr>
          <p:spPr>
            <a:xfrm flipH="1">
              <a:off x="8070120" y="3079800"/>
              <a:ext cx="554040" cy="277560"/>
            </a:xfrm>
            <a:custGeom>
              <a:avLst/>
              <a:gdLst/>
              <a:ahLst/>
              <a:rect l="l" t="t" r="r" b="b"/>
              <a:pathLst>
                <a:path w="323" h="161">
                  <a:moveTo>
                    <a:pt x="9" y="55"/>
                  </a:moveTo>
                  <a:cubicBezTo>
                    <a:pt x="2" y="47"/>
                    <a:pt x="0" y="35"/>
                    <a:pt x="3" y="25"/>
                  </a:cubicBezTo>
                  <a:cubicBezTo>
                    <a:pt x="9" y="8"/>
                    <a:pt x="27" y="0"/>
                    <a:pt x="43" y="6"/>
                  </a:cubicBezTo>
                  <a:cubicBezTo>
                    <a:pt x="298" y="96"/>
                    <a:pt x="298" y="96"/>
                    <a:pt x="298" y="96"/>
                  </a:cubicBezTo>
                  <a:cubicBezTo>
                    <a:pt x="314" y="102"/>
                    <a:pt x="323" y="120"/>
                    <a:pt x="317" y="136"/>
                  </a:cubicBezTo>
                  <a:cubicBezTo>
                    <a:pt x="311" y="152"/>
                    <a:pt x="294" y="161"/>
                    <a:pt x="277" y="155"/>
                  </a:cubicBezTo>
                  <a:cubicBezTo>
                    <a:pt x="22" y="64"/>
                    <a:pt x="22" y="64"/>
                    <a:pt x="22" y="64"/>
                  </a:cubicBezTo>
                  <a:cubicBezTo>
                    <a:pt x="17" y="62"/>
                    <a:pt x="12" y="59"/>
                    <a:pt x="9" y="5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711"/>
            <p:cNvSpPr/>
            <p:nvPr/>
          </p:nvSpPr>
          <p:spPr>
            <a:xfrm flipH="1">
              <a:off x="9370440" y="3703680"/>
              <a:ext cx="547560" cy="635040"/>
            </a:xfrm>
            <a:custGeom>
              <a:avLst/>
              <a:gdLst/>
              <a:ahLst/>
              <a:rect l="l" t="t" r="r" b="b"/>
              <a:pathLst>
                <a:path w="345" h="400">
                  <a:moveTo>
                    <a:pt x="291" y="400"/>
                  </a:moveTo>
                  <a:lnTo>
                    <a:pt x="0" y="45"/>
                  </a:lnTo>
                  <a:lnTo>
                    <a:pt x="55" y="0"/>
                  </a:lnTo>
                  <a:lnTo>
                    <a:pt x="345" y="356"/>
                  </a:lnTo>
                  <a:lnTo>
                    <a:pt x="291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712"/>
            <p:cNvSpPr/>
            <p:nvPr/>
          </p:nvSpPr>
          <p:spPr>
            <a:xfrm flipH="1">
              <a:off x="9259200" y="3614760"/>
              <a:ext cx="549000" cy="635040"/>
            </a:xfrm>
            <a:custGeom>
              <a:avLst/>
              <a:gdLst/>
              <a:ahLst/>
              <a:rect l="l" t="t" r="r" b="b"/>
              <a:pathLst>
                <a:path w="346" h="400">
                  <a:moveTo>
                    <a:pt x="291" y="400"/>
                  </a:moveTo>
                  <a:lnTo>
                    <a:pt x="0" y="44"/>
                  </a:lnTo>
                  <a:lnTo>
                    <a:pt x="56" y="0"/>
                  </a:lnTo>
                  <a:lnTo>
                    <a:pt x="346" y="354"/>
                  </a:lnTo>
                  <a:lnTo>
                    <a:pt x="291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713"/>
            <p:cNvSpPr/>
            <p:nvPr/>
          </p:nvSpPr>
          <p:spPr>
            <a:xfrm flipH="1">
              <a:off x="9149760" y="3522600"/>
              <a:ext cx="546120" cy="635040"/>
            </a:xfrm>
            <a:custGeom>
              <a:avLst/>
              <a:gdLst/>
              <a:ahLst/>
              <a:rect l="l" t="t" r="r" b="b"/>
              <a:pathLst>
                <a:path w="344" h="400">
                  <a:moveTo>
                    <a:pt x="289" y="400"/>
                  </a:moveTo>
                  <a:lnTo>
                    <a:pt x="0" y="46"/>
                  </a:lnTo>
                  <a:lnTo>
                    <a:pt x="54" y="0"/>
                  </a:lnTo>
                  <a:lnTo>
                    <a:pt x="344" y="356"/>
                  </a:lnTo>
                  <a:lnTo>
                    <a:pt x="289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714"/>
            <p:cNvSpPr/>
            <p:nvPr/>
          </p:nvSpPr>
          <p:spPr>
            <a:xfrm flipH="1">
              <a:off x="9033840" y="3430800"/>
              <a:ext cx="547560" cy="635040"/>
            </a:xfrm>
            <a:custGeom>
              <a:avLst/>
              <a:gdLst/>
              <a:ahLst/>
              <a:rect l="l" t="t" r="r" b="b"/>
              <a:pathLst>
                <a:path w="345" h="400">
                  <a:moveTo>
                    <a:pt x="290" y="400"/>
                  </a:moveTo>
                  <a:lnTo>
                    <a:pt x="0" y="44"/>
                  </a:lnTo>
                  <a:lnTo>
                    <a:pt x="54" y="0"/>
                  </a:lnTo>
                  <a:lnTo>
                    <a:pt x="345" y="355"/>
                  </a:lnTo>
                  <a:lnTo>
                    <a:pt x="290" y="400"/>
                  </a:lnTo>
                  <a:close/>
                </a:path>
              </a:pathLst>
            </a:custGeom>
            <a:solidFill>
              <a:srgbClr val="eb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715"/>
            <p:cNvSpPr/>
            <p:nvPr/>
          </p:nvSpPr>
          <p:spPr>
            <a:xfrm flipH="1">
              <a:off x="9033840" y="3714840"/>
              <a:ext cx="315720" cy="350640"/>
            </a:xfrm>
            <a:custGeom>
              <a:avLst/>
              <a:gdLst/>
              <a:ahLst/>
              <a:rect l="l" t="t" r="r" b="b"/>
              <a:pathLst>
                <a:path w="199" h="221">
                  <a:moveTo>
                    <a:pt x="144" y="221"/>
                  </a:moveTo>
                  <a:lnTo>
                    <a:pt x="0" y="45"/>
                  </a:lnTo>
                  <a:lnTo>
                    <a:pt x="55" y="0"/>
                  </a:lnTo>
                  <a:lnTo>
                    <a:pt x="199" y="176"/>
                  </a:lnTo>
                  <a:lnTo>
                    <a:pt x="144" y="221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716"/>
            <p:cNvSpPr/>
            <p:nvPr/>
          </p:nvSpPr>
          <p:spPr>
            <a:xfrm flipH="1">
              <a:off x="9150480" y="3810240"/>
              <a:ext cx="312480" cy="347400"/>
            </a:xfrm>
            <a:custGeom>
              <a:avLst/>
              <a:gdLst/>
              <a:ahLst/>
              <a:rect l="l" t="t" r="r" b="b"/>
              <a:pathLst>
                <a:path w="197" h="219">
                  <a:moveTo>
                    <a:pt x="142" y="219"/>
                  </a:moveTo>
                  <a:lnTo>
                    <a:pt x="0" y="44"/>
                  </a:lnTo>
                  <a:lnTo>
                    <a:pt x="54" y="0"/>
                  </a:lnTo>
                  <a:lnTo>
                    <a:pt x="197" y="175"/>
                  </a:lnTo>
                  <a:lnTo>
                    <a:pt x="142" y="219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717"/>
            <p:cNvSpPr/>
            <p:nvPr/>
          </p:nvSpPr>
          <p:spPr>
            <a:xfrm flipH="1">
              <a:off x="9259200" y="3899160"/>
              <a:ext cx="315720" cy="350640"/>
            </a:xfrm>
            <a:custGeom>
              <a:avLst/>
              <a:gdLst/>
              <a:ahLst/>
              <a:rect l="l" t="t" r="r" b="b"/>
              <a:pathLst>
                <a:path w="199" h="221">
                  <a:moveTo>
                    <a:pt x="144" y="221"/>
                  </a:moveTo>
                  <a:lnTo>
                    <a:pt x="0" y="44"/>
                  </a:lnTo>
                  <a:lnTo>
                    <a:pt x="56" y="0"/>
                  </a:lnTo>
                  <a:lnTo>
                    <a:pt x="199" y="175"/>
                  </a:lnTo>
                  <a:lnTo>
                    <a:pt x="144" y="221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718"/>
            <p:cNvSpPr/>
            <p:nvPr/>
          </p:nvSpPr>
          <p:spPr>
            <a:xfrm flipH="1">
              <a:off x="9370440" y="3989520"/>
              <a:ext cx="314280" cy="349200"/>
            </a:xfrm>
            <a:custGeom>
              <a:avLst/>
              <a:gdLst/>
              <a:ahLst/>
              <a:rect l="l" t="t" r="r" b="b"/>
              <a:pathLst>
                <a:path w="198" h="220">
                  <a:moveTo>
                    <a:pt x="144" y="220"/>
                  </a:moveTo>
                  <a:lnTo>
                    <a:pt x="0" y="45"/>
                  </a:lnTo>
                  <a:lnTo>
                    <a:pt x="55" y="0"/>
                  </a:lnTo>
                  <a:lnTo>
                    <a:pt x="198" y="176"/>
                  </a:lnTo>
                  <a:lnTo>
                    <a:pt x="144" y="220"/>
                  </a:lnTo>
                  <a:close/>
                </a:path>
              </a:pathLst>
            </a:custGeom>
            <a:solidFill>
              <a:srgbClr val="f789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719"/>
            <p:cNvSpPr/>
            <p:nvPr/>
          </p:nvSpPr>
          <p:spPr>
            <a:xfrm flipH="1">
              <a:off x="6516360" y="3502080"/>
              <a:ext cx="320400" cy="212400"/>
            </a:xfrm>
            <a:custGeom>
              <a:avLst/>
              <a:gdLst/>
              <a:ahLst/>
              <a:rect l="l" t="t" r="r" b="b"/>
              <a:pathLst>
                <a:path w="202" h="134">
                  <a:moveTo>
                    <a:pt x="202" y="134"/>
                  </a:moveTo>
                  <a:lnTo>
                    <a:pt x="0" y="0"/>
                  </a:lnTo>
                  <a:lnTo>
                    <a:pt x="202" y="134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25" name=""/>
            <p:cNvGrpSpPr/>
            <p:nvPr/>
          </p:nvGrpSpPr>
          <p:grpSpPr>
            <a:xfrm>
              <a:off x="6516360" y="3502080"/>
              <a:ext cx="320400" cy="212400"/>
              <a:chOff x="6516360" y="3502080"/>
              <a:chExt cx="320400" cy="212400"/>
            </a:xfrm>
          </p:grpSpPr>
          <p:sp>
            <p:nvSpPr>
              <p:cNvPr id="1526" name="Line 720"/>
              <p:cNvSpPr/>
              <p:nvPr/>
            </p:nvSpPr>
            <p:spPr>
              <a:xfrm flipV="1">
                <a:off x="6516360" y="3502080"/>
                <a:ext cx="320400" cy="212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7" name=""/>
              <p:cNvSpPr txBox="1"/>
              <p:nvPr/>
            </p:nvSpPr>
            <p:spPr>
              <a:xfrm rot="10800000">
                <a:off x="6516360" y="3502080"/>
                <a:ext cx="320400" cy="21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8" name="Freeform 721"/>
            <p:cNvSpPr/>
            <p:nvPr/>
          </p:nvSpPr>
          <p:spPr>
            <a:xfrm flipH="1">
              <a:off x="6476760" y="3438720"/>
              <a:ext cx="398160" cy="338040"/>
            </a:xfrm>
            <a:custGeom>
              <a:avLst/>
              <a:gdLst/>
              <a:ahLst/>
              <a:rect l="l" t="t" r="r" b="b"/>
              <a:pathLst>
                <a:path w="232" h="197">
                  <a:moveTo>
                    <a:pt x="3" y="38"/>
                  </a:moveTo>
                  <a:cubicBezTo>
                    <a:pt x="0" y="30"/>
                    <a:pt x="1" y="21"/>
                    <a:pt x="7" y="13"/>
                  </a:cubicBezTo>
                  <a:cubicBezTo>
                    <a:pt x="16" y="2"/>
                    <a:pt x="32" y="0"/>
                    <a:pt x="43" y="9"/>
                  </a:cubicBezTo>
                  <a:cubicBezTo>
                    <a:pt x="219" y="148"/>
                    <a:pt x="219" y="148"/>
                    <a:pt x="219" y="148"/>
                  </a:cubicBezTo>
                  <a:cubicBezTo>
                    <a:pt x="230" y="157"/>
                    <a:pt x="232" y="173"/>
                    <a:pt x="223" y="184"/>
                  </a:cubicBezTo>
                  <a:cubicBezTo>
                    <a:pt x="215" y="195"/>
                    <a:pt x="198" y="197"/>
                    <a:pt x="187" y="188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8" y="46"/>
                    <a:pt x="5" y="43"/>
                    <a:pt x="3" y="38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722"/>
            <p:cNvSpPr/>
            <p:nvPr/>
          </p:nvSpPr>
          <p:spPr>
            <a:xfrm flipH="1">
              <a:off x="6240240" y="3108240"/>
              <a:ext cx="334800" cy="185400"/>
            </a:xfrm>
            <a:custGeom>
              <a:avLst/>
              <a:gdLst/>
              <a:ahLst/>
              <a:rect l="l" t="t" r="r" b="b"/>
              <a:pathLst>
                <a:path w="211" h="117">
                  <a:moveTo>
                    <a:pt x="211" y="117"/>
                  </a:moveTo>
                  <a:lnTo>
                    <a:pt x="0" y="0"/>
                  </a:lnTo>
                  <a:lnTo>
                    <a:pt x="211" y="117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0" name=""/>
            <p:cNvGrpSpPr/>
            <p:nvPr/>
          </p:nvGrpSpPr>
          <p:grpSpPr>
            <a:xfrm>
              <a:off x="6240240" y="3107880"/>
              <a:ext cx="334800" cy="185400"/>
              <a:chOff x="6240240" y="3107880"/>
              <a:chExt cx="334800" cy="185400"/>
            </a:xfrm>
          </p:grpSpPr>
          <p:sp>
            <p:nvSpPr>
              <p:cNvPr id="1531" name="Line 723"/>
              <p:cNvSpPr/>
              <p:nvPr/>
            </p:nvSpPr>
            <p:spPr>
              <a:xfrm flipV="1">
                <a:off x="6240240" y="3107880"/>
                <a:ext cx="334800" cy="18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2" name=""/>
              <p:cNvSpPr txBox="1"/>
              <p:nvPr/>
            </p:nvSpPr>
            <p:spPr>
              <a:xfrm rot="10800000">
                <a:off x="6240240" y="3107880"/>
                <a:ext cx="334800" cy="185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3" name="Freeform 724"/>
            <p:cNvSpPr/>
            <p:nvPr/>
          </p:nvSpPr>
          <p:spPr>
            <a:xfrm flipH="1">
              <a:off x="6189480" y="3057480"/>
              <a:ext cx="434880" cy="287280"/>
            </a:xfrm>
            <a:custGeom>
              <a:avLst/>
              <a:gdLst/>
              <a:ahLst/>
              <a:rect l="l" t="t" r="r" b="b"/>
              <a:pathLst>
                <a:path w="253" h="167">
                  <a:moveTo>
                    <a:pt x="5" y="42"/>
                  </a:moveTo>
                  <a:cubicBezTo>
                    <a:pt x="1" y="35"/>
                    <a:pt x="0" y="25"/>
                    <a:pt x="5" y="17"/>
                  </a:cubicBezTo>
                  <a:cubicBezTo>
                    <a:pt x="12" y="5"/>
                    <a:pt x="28" y="0"/>
                    <a:pt x="40" y="7"/>
                  </a:cubicBezTo>
                  <a:cubicBezTo>
                    <a:pt x="236" y="115"/>
                    <a:pt x="236" y="115"/>
                    <a:pt x="236" y="115"/>
                  </a:cubicBezTo>
                  <a:cubicBezTo>
                    <a:pt x="249" y="122"/>
                    <a:pt x="253" y="137"/>
                    <a:pt x="246" y="150"/>
                  </a:cubicBezTo>
                  <a:cubicBezTo>
                    <a:pt x="240" y="162"/>
                    <a:pt x="224" y="167"/>
                    <a:pt x="211" y="160"/>
                  </a:cubicBezTo>
                  <a:cubicBezTo>
                    <a:pt x="15" y="52"/>
                    <a:pt x="15" y="52"/>
                    <a:pt x="15" y="52"/>
                  </a:cubicBezTo>
                  <a:cubicBezTo>
                    <a:pt x="11" y="50"/>
                    <a:pt x="8" y="46"/>
                    <a:pt x="5" y="42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725"/>
            <p:cNvSpPr/>
            <p:nvPr/>
          </p:nvSpPr>
          <p:spPr>
            <a:xfrm flipH="1">
              <a:off x="6117840" y="2676600"/>
              <a:ext cx="382320" cy="33120"/>
            </a:xfrm>
            <a:custGeom>
              <a:avLst/>
              <a:gdLst/>
              <a:ahLst/>
              <a:rect l="l" t="t" r="r" b="b"/>
              <a:pathLst>
                <a:path w="241" h="21">
                  <a:moveTo>
                    <a:pt x="241" y="21"/>
                  </a:moveTo>
                  <a:lnTo>
                    <a:pt x="0" y="0"/>
                  </a:lnTo>
                  <a:lnTo>
                    <a:pt x="241" y="21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5" name=""/>
            <p:cNvGrpSpPr/>
            <p:nvPr/>
          </p:nvGrpSpPr>
          <p:grpSpPr>
            <a:xfrm>
              <a:off x="6117840" y="2676600"/>
              <a:ext cx="382320" cy="33120"/>
              <a:chOff x="6117840" y="2676600"/>
              <a:chExt cx="382320" cy="33120"/>
            </a:xfrm>
          </p:grpSpPr>
          <p:sp>
            <p:nvSpPr>
              <p:cNvPr id="1536" name="Line 726"/>
              <p:cNvSpPr/>
              <p:nvPr/>
            </p:nvSpPr>
            <p:spPr>
              <a:xfrm flipV="1">
                <a:off x="6117840" y="2676600"/>
                <a:ext cx="382320" cy="3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7" name=""/>
              <p:cNvSpPr txBox="1"/>
              <p:nvPr/>
            </p:nvSpPr>
            <p:spPr>
              <a:xfrm rot="10800000">
                <a:off x="6117840" y="2676600"/>
                <a:ext cx="382320" cy="33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38" name="Freeform 727"/>
            <p:cNvSpPr/>
            <p:nvPr/>
          </p:nvSpPr>
          <p:spPr>
            <a:xfrm flipH="1">
              <a:off x="6072120" y="2630520"/>
              <a:ext cx="473040" cy="125280"/>
            </a:xfrm>
            <a:custGeom>
              <a:avLst/>
              <a:gdLst/>
              <a:ahLst/>
              <a:rect l="l" t="t" r="r" b="b"/>
              <a:pathLst>
                <a:path w="276" h="73">
                  <a:moveTo>
                    <a:pt x="11" y="48"/>
                  </a:moveTo>
                  <a:cubicBezTo>
                    <a:pt x="4" y="43"/>
                    <a:pt x="0" y="34"/>
                    <a:pt x="1" y="25"/>
                  </a:cubicBezTo>
                  <a:cubicBezTo>
                    <a:pt x="2" y="10"/>
                    <a:pt x="14" y="0"/>
                    <a:pt x="28" y="1"/>
                  </a:cubicBezTo>
                  <a:cubicBezTo>
                    <a:pt x="252" y="21"/>
                    <a:pt x="252" y="21"/>
                    <a:pt x="252" y="21"/>
                  </a:cubicBezTo>
                  <a:cubicBezTo>
                    <a:pt x="266" y="22"/>
                    <a:pt x="276" y="34"/>
                    <a:pt x="275" y="48"/>
                  </a:cubicBezTo>
                  <a:cubicBezTo>
                    <a:pt x="274" y="63"/>
                    <a:pt x="261" y="73"/>
                    <a:pt x="247" y="72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19" y="52"/>
                    <a:pt x="15" y="50"/>
                    <a:pt x="11" y="48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728"/>
            <p:cNvSpPr/>
            <p:nvPr/>
          </p:nvSpPr>
          <p:spPr>
            <a:xfrm flipH="1">
              <a:off x="6192720" y="2146320"/>
              <a:ext cx="379440" cy="56880"/>
            </a:xfrm>
            <a:custGeom>
              <a:avLst/>
              <a:gdLst/>
              <a:ahLst/>
              <a:rect l="l" t="t" r="r" b="b"/>
              <a:pathLst>
                <a:path w="239" h="36">
                  <a:moveTo>
                    <a:pt x="239" y="0"/>
                  </a:moveTo>
                  <a:lnTo>
                    <a:pt x="0" y="36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6192720" y="2146320"/>
              <a:ext cx="379440" cy="56880"/>
              <a:chOff x="6192720" y="2146320"/>
              <a:chExt cx="379440" cy="56880"/>
            </a:xfrm>
          </p:grpSpPr>
          <p:sp>
            <p:nvSpPr>
              <p:cNvPr id="1541" name="Line 729"/>
              <p:cNvSpPr/>
              <p:nvPr/>
            </p:nvSpPr>
            <p:spPr>
              <a:xfrm>
                <a:off x="6192720" y="2146320"/>
                <a:ext cx="379440" cy="56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2" name=""/>
              <p:cNvSpPr txBox="1"/>
              <p:nvPr/>
            </p:nvSpPr>
            <p:spPr>
              <a:xfrm>
                <a:off x="6192720" y="2146320"/>
                <a:ext cx="37944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11160" bIns="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3" name="Freeform 730"/>
            <p:cNvSpPr/>
            <p:nvPr/>
          </p:nvSpPr>
          <p:spPr>
            <a:xfrm flipH="1">
              <a:off x="6144120" y="2098800"/>
              <a:ext cx="476280" cy="149040"/>
            </a:xfrm>
            <a:custGeom>
              <a:avLst/>
              <a:gdLst/>
              <a:ahLst/>
              <a:rect l="l" t="t" r="r" b="b"/>
              <a:pathLst>
                <a:path w="277" h="87">
                  <a:moveTo>
                    <a:pt x="18" y="85"/>
                  </a:moveTo>
                  <a:cubicBezTo>
                    <a:pt x="10" y="81"/>
                    <a:pt x="4" y="74"/>
                    <a:pt x="2" y="65"/>
                  </a:cubicBezTo>
                  <a:cubicBezTo>
                    <a:pt x="0" y="51"/>
                    <a:pt x="10" y="38"/>
                    <a:pt x="24" y="35"/>
                  </a:cubicBezTo>
                  <a:cubicBezTo>
                    <a:pt x="246" y="2"/>
                    <a:pt x="246" y="2"/>
                    <a:pt x="246" y="2"/>
                  </a:cubicBezTo>
                  <a:cubicBezTo>
                    <a:pt x="260" y="0"/>
                    <a:pt x="273" y="10"/>
                    <a:pt x="275" y="24"/>
                  </a:cubicBezTo>
                  <a:cubicBezTo>
                    <a:pt x="277" y="38"/>
                    <a:pt x="267" y="51"/>
                    <a:pt x="253" y="53"/>
                  </a:cubicBezTo>
                  <a:cubicBezTo>
                    <a:pt x="32" y="86"/>
                    <a:pt x="32" y="86"/>
                    <a:pt x="32" y="86"/>
                  </a:cubicBezTo>
                  <a:cubicBezTo>
                    <a:pt x="27" y="87"/>
                    <a:pt x="22" y="86"/>
                    <a:pt x="18" y="85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731"/>
            <p:cNvSpPr/>
            <p:nvPr/>
          </p:nvSpPr>
          <p:spPr>
            <a:xfrm flipH="1">
              <a:off x="8537760" y="1066680"/>
              <a:ext cx="142560" cy="357120"/>
            </a:xfrm>
            <a:custGeom>
              <a:avLst/>
              <a:gdLst/>
              <a:ahLst/>
              <a:rect l="l" t="t" r="r" b="b"/>
              <a:pathLst>
                <a:path w="90" h="225">
                  <a:moveTo>
                    <a:pt x="0" y="0"/>
                  </a:moveTo>
                  <a:lnTo>
                    <a:pt x="9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5" name=""/>
            <p:cNvGrpSpPr/>
            <p:nvPr/>
          </p:nvGrpSpPr>
          <p:grpSpPr>
            <a:xfrm>
              <a:off x="8537760" y="1066680"/>
              <a:ext cx="142560" cy="357120"/>
              <a:chOff x="8537760" y="1066680"/>
              <a:chExt cx="142560" cy="357120"/>
            </a:xfrm>
          </p:grpSpPr>
          <p:sp>
            <p:nvSpPr>
              <p:cNvPr id="1546" name="Line 732"/>
              <p:cNvSpPr/>
              <p:nvPr/>
            </p:nvSpPr>
            <p:spPr>
              <a:xfrm flipH="1">
                <a:off x="8537760" y="1066680"/>
                <a:ext cx="142560" cy="357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>
                <a:off x="8537760" y="1066680"/>
                <a:ext cx="142560" cy="35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8" name="Freeform 733"/>
            <p:cNvSpPr/>
            <p:nvPr/>
          </p:nvSpPr>
          <p:spPr>
            <a:xfrm flipH="1">
              <a:off x="8472600" y="1022400"/>
              <a:ext cx="274320" cy="441360"/>
            </a:xfrm>
            <a:custGeom>
              <a:avLst/>
              <a:gdLst/>
              <a:ahLst/>
              <a:rect l="l" t="t" r="r" b="b"/>
              <a:pathLst>
                <a:path w="160" h="257">
                  <a:moveTo>
                    <a:pt x="117" y="252"/>
                  </a:moveTo>
                  <a:cubicBezTo>
                    <a:pt x="124" y="256"/>
                    <a:pt x="134" y="257"/>
                    <a:pt x="142" y="253"/>
                  </a:cubicBezTo>
                  <a:cubicBezTo>
                    <a:pt x="155" y="246"/>
                    <a:pt x="160" y="231"/>
                    <a:pt x="154" y="2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46" y="5"/>
                    <a:pt x="30" y="0"/>
                    <a:pt x="18" y="7"/>
                  </a:cubicBezTo>
                  <a:cubicBezTo>
                    <a:pt x="5" y="13"/>
                    <a:pt x="0" y="29"/>
                    <a:pt x="6" y="41"/>
                  </a:cubicBezTo>
                  <a:cubicBezTo>
                    <a:pt x="108" y="241"/>
                    <a:pt x="108" y="241"/>
                    <a:pt x="108" y="241"/>
                  </a:cubicBezTo>
                  <a:cubicBezTo>
                    <a:pt x="110" y="246"/>
                    <a:pt x="113" y="249"/>
                    <a:pt x="117" y="252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734"/>
            <p:cNvSpPr/>
            <p:nvPr/>
          </p:nvSpPr>
          <p:spPr>
            <a:xfrm flipH="1">
              <a:off x="8098560" y="879480"/>
              <a:ext cx="115560" cy="366480"/>
            </a:xfrm>
            <a:custGeom>
              <a:avLst/>
              <a:gdLst/>
              <a:ahLst/>
              <a:rect l="l" t="t" r="r" b="b"/>
              <a:pathLst>
                <a:path w="73" h="231">
                  <a:moveTo>
                    <a:pt x="0" y="0"/>
                  </a:moveTo>
                  <a:lnTo>
                    <a:pt x="73" y="2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8098920" y="879480"/>
              <a:ext cx="115920" cy="366480"/>
              <a:chOff x="8098920" y="879480"/>
              <a:chExt cx="115920" cy="366480"/>
            </a:xfrm>
          </p:grpSpPr>
          <p:sp>
            <p:nvSpPr>
              <p:cNvPr id="1551" name="Line 735"/>
              <p:cNvSpPr/>
              <p:nvPr/>
            </p:nvSpPr>
            <p:spPr>
              <a:xfrm flipH="1">
                <a:off x="8098920" y="879480"/>
                <a:ext cx="115560" cy="36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2" name=""/>
              <p:cNvSpPr txBox="1"/>
              <p:nvPr/>
            </p:nvSpPr>
            <p:spPr>
              <a:xfrm>
                <a:off x="8099280" y="879480"/>
                <a:ext cx="115560" cy="36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53" name="Freeform 736"/>
            <p:cNvSpPr/>
            <p:nvPr/>
          </p:nvSpPr>
          <p:spPr>
            <a:xfrm flipH="1">
              <a:off x="8049600" y="830160"/>
              <a:ext cx="214200" cy="463320"/>
            </a:xfrm>
            <a:custGeom>
              <a:avLst/>
              <a:gdLst/>
              <a:ahLst/>
              <a:rect l="l" t="t" r="r" b="b"/>
              <a:pathLst>
                <a:path w="125" h="270">
                  <a:moveTo>
                    <a:pt x="79" y="262"/>
                  </a:moveTo>
                  <a:cubicBezTo>
                    <a:pt x="85" y="267"/>
                    <a:pt x="95" y="270"/>
                    <a:pt x="104" y="267"/>
                  </a:cubicBezTo>
                  <a:cubicBezTo>
                    <a:pt x="117" y="263"/>
                    <a:pt x="125" y="248"/>
                    <a:pt x="121" y="235"/>
                  </a:cubicBezTo>
                  <a:cubicBezTo>
                    <a:pt x="54" y="21"/>
                    <a:pt x="54" y="21"/>
                    <a:pt x="54" y="21"/>
                  </a:cubicBezTo>
                  <a:cubicBezTo>
                    <a:pt x="50" y="7"/>
                    <a:pt x="35" y="0"/>
                    <a:pt x="21" y="4"/>
                  </a:cubicBezTo>
                  <a:cubicBezTo>
                    <a:pt x="8" y="8"/>
                    <a:pt x="0" y="23"/>
                    <a:pt x="5" y="36"/>
                  </a:cubicBezTo>
                  <a:cubicBezTo>
                    <a:pt x="71" y="250"/>
                    <a:pt x="71" y="250"/>
                    <a:pt x="71" y="250"/>
                  </a:cubicBezTo>
                  <a:cubicBezTo>
                    <a:pt x="73" y="255"/>
                    <a:pt x="75" y="259"/>
                    <a:pt x="79" y="262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737"/>
            <p:cNvSpPr/>
            <p:nvPr/>
          </p:nvSpPr>
          <p:spPr>
            <a:xfrm flipH="1">
              <a:off x="7616160" y="874440"/>
              <a:ext cx="45720" cy="382320"/>
            </a:xfrm>
            <a:custGeom>
              <a:avLst/>
              <a:gdLst/>
              <a:ahLst/>
              <a:rect l="l" t="t" r="r" b="b"/>
              <a:pathLst>
                <a:path w="29" h="241">
                  <a:moveTo>
                    <a:pt x="29" y="0"/>
                  </a:moveTo>
                  <a:lnTo>
                    <a:pt x="0" y="24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7616880" y="874440"/>
              <a:ext cx="45720" cy="382320"/>
              <a:chOff x="7616880" y="874440"/>
              <a:chExt cx="45720" cy="382320"/>
            </a:xfrm>
          </p:grpSpPr>
          <p:sp>
            <p:nvSpPr>
              <p:cNvPr id="1556" name="Line 738"/>
              <p:cNvSpPr/>
              <p:nvPr/>
            </p:nvSpPr>
            <p:spPr>
              <a:xfrm>
                <a:off x="7616880" y="874440"/>
                <a:ext cx="45720" cy="38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7" name=""/>
              <p:cNvSpPr txBox="1"/>
              <p:nvPr/>
            </p:nvSpPr>
            <p:spPr>
              <a:xfrm>
                <a:off x="7616880" y="874440"/>
                <a:ext cx="45720" cy="38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58" name="Freeform 739"/>
            <p:cNvSpPr/>
            <p:nvPr/>
          </p:nvSpPr>
          <p:spPr>
            <a:xfrm flipH="1">
              <a:off x="7570080" y="828720"/>
              <a:ext cx="136440" cy="47448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3" y="260"/>
                  </a:moveTo>
                  <a:cubicBezTo>
                    <a:pt x="7" y="268"/>
                    <a:pt x="14" y="274"/>
                    <a:pt x="24" y="275"/>
                  </a:cubicBezTo>
                  <a:cubicBezTo>
                    <a:pt x="38" y="277"/>
                    <a:pt x="50" y="267"/>
                    <a:pt x="52" y="252"/>
                  </a:cubicBezTo>
                  <a:cubicBezTo>
                    <a:pt x="77" y="30"/>
                    <a:pt x="77" y="30"/>
                    <a:pt x="77" y="30"/>
                  </a:cubicBezTo>
                  <a:cubicBezTo>
                    <a:pt x="79" y="16"/>
                    <a:pt x="69" y="3"/>
                    <a:pt x="55" y="1"/>
                  </a:cubicBezTo>
                  <a:cubicBezTo>
                    <a:pt x="40" y="0"/>
                    <a:pt x="28" y="10"/>
                    <a:pt x="26" y="24"/>
                  </a:cubicBezTo>
                  <a:cubicBezTo>
                    <a:pt x="1" y="247"/>
                    <a:pt x="1" y="247"/>
                    <a:pt x="1" y="247"/>
                  </a:cubicBezTo>
                  <a:cubicBezTo>
                    <a:pt x="0" y="251"/>
                    <a:pt x="1" y="256"/>
                    <a:pt x="3" y="260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740"/>
            <p:cNvSpPr/>
            <p:nvPr/>
          </p:nvSpPr>
          <p:spPr>
            <a:xfrm flipH="1">
              <a:off x="7080120" y="1060200"/>
              <a:ext cx="131760" cy="361800"/>
            </a:xfrm>
            <a:custGeom>
              <a:avLst/>
              <a:gdLst/>
              <a:ahLst/>
              <a:rect l="l" t="t" r="r" b="b"/>
              <a:pathLst>
                <a:path w="83" h="228">
                  <a:moveTo>
                    <a:pt x="83" y="0"/>
                  </a:moveTo>
                  <a:lnTo>
                    <a:pt x="0" y="22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0" name=""/>
            <p:cNvGrpSpPr/>
            <p:nvPr/>
          </p:nvGrpSpPr>
          <p:grpSpPr>
            <a:xfrm>
              <a:off x="7080120" y="1060200"/>
              <a:ext cx="131760" cy="361800"/>
              <a:chOff x="7080120" y="1060200"/>
              <a:chExt cx="131760" cy="361800"/>
            </a:xfrm>
          </p:grpSpPr>
          <p:sp>
            <p:nvSpPr>
              <p:cNvPr id="1561" name="Line 741"/>
              <p:cNvSpPr/>
              <p:nvPr/>
            </p:nvSpPr>
            <p:spPr>
              <a:xfrm>
                <a:off x="7080120" y="1060200"/>
                <a:ext cx="131760" cy="36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2" name=""/>
              <p:cNvSpPr txBox="1"/>
              <p:nvPr/>
            </p:nvSpPr>
            <p:spPr>
              <a:xfrm>
                <a:off x="7080120" y="1060200"/>
                <a:ext cx="1317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3" name="Freeform 742"/>
            <p:cNvSpPr/>
            <p:nvPr/>
          </p:nvSpPr>
          <p:spPr>
            <a:xfrm flipH="1">
              <a:off x="7030800" y="1011240"/>
              <a:ext cx="226800" cy="460080"/>
            </a:xfrm>
            <a:custGeom>
              <a:avLst/>
              <a:gdLst/>
              <a:ahLst/>
              <a:rect l="l" t="t" r="r" b="b"/>
              <a:pathLst>
                <a:path w="132" h="269">
                  <a:moveTo>
                    <a:pt x="1" y="245"/>
                  </a:moveTo>
                  <a:cubicBezTo>
                    <a:pt x="3" y="253"/>
                    <a:pt x="9" y="261"/>
                    <a:pt x="18" y="264"/>
                  </a:cubicBezTo>
                  <a:cubicBezTo>
                    <a:pt x="31" y="269"/>
                    <a:pt x="46" y="262"/>
                    <a:pt x="51" y="249"/>
                  </a:cubicBezTo>
                  <a:cubicBezTo>
                    <a:pt x="127" y="38"/>
                    <a:pt x="127" y="38"/>
                    <a:pt x="127" y="38"/>
                  </a:cubicBezTo>
                  <a:cubicBezTo>
                    <a:pt x="132" y="25"/>
                    <a:pt x="125" y="10"/>
                    <a:pt x="112" y="5"/>
                  </a:cubicBezTo>
                  <a:cubicBezTo>
                    <a:pt x="99" y="0"/>
                    <a:pt x="84" y="7"/>
                    <a:pt x="79" y="20"/>
                  </a:cubicBezTo>
                  <a:cubicBezTo>
                    <a:pt x="2" y="231"/>
                    <a:pt x="2" y="231"/>
                    <a:pt x="2" y="231"/>
                  </a:cubicBezTo>
                  <a:cubicBezTo>
                    <a:pt x="1" y="235"/>
                    <a:pt x="0" y="240"/>
                    <a:pt x="1" y="245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743"/>
            <p:cNvSpPr/>
            <p:nvPr/>
          </p:nvSpPr>
          <p:spPr>
            <a:xfrm flipH="1">
              <a:off x="6545160" y="1490760"/>
              <a:ext cx="296640" cy="24588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187" y="0"/>
                  </a:moveTo>
                  <a:lnTo>
                    <a:pt x="0" y="155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6545160" y="1490760"/>
              <a:ext cx="296640" cy="245880"/>
              <a:chOff x="6545160" y="1490760"/>
              <a:chExt cx="296640" cy="245880"/>
            </a:xfrm>
          </p:grpSpPr>
          <p:sp>
            <p:nvSpPr>
              <p:cNvPr id="1566" name="Line 744"/>
              <p:cNvSpPr/>
              <p:nvPr/>
            </p:nvSpPr>
            <p:spPr>
              <a:xfrm>
                <a:off x="6545160" y="1490760"/>
                <a:ext cx="296640" cy="245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7" name=""/>
              <p:cNvSpPr txBox="1"/>
              <p:nvPr/>
            </p:nvSpPr>
            <p:spPr>
              <a:xfrm>
                <a:off x="6545160" y="1490760"/>
                <a:ext cx="296640" cy="24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8" name="Freeform 745"/>
            <p:cNvSpPr/>
            <p:nvPr/>
          </p:nvSpPr>
          <p:spPr>
            <a:xfrm flipH="1">
              <a:off x="6495120" y="1442880"/>
              <a:ext cx="392040" cy="342720"/>
            </a:xfrm>
            <a:custGeom>
              <a:avLst/>
              <a:gdLst/>
              <a:ahLst/>
              <a:rect l="l" t="t" r="r" b="b"/>
              <a:pathLst>
                <a:path w="229" h="200">
                  <a:moveTo>
                    <a:pt x="3" y="163"/>
                  </a:moveTo>
                  <a:cubicBezTo>
                    <a:pt x="0" y="171"/>
                    <a:pt x="1" y="180"/>
                    <a:pt x="7" y="187"/>
                  </a:cubicBezTo>
                  <a:cubicBezTo>
                    <a:pt x="16" y="198"/>
                    <a:pt x="33" y="200"/>
                    <a:pt x="44" y="191"/>
                  </a:cubicBezTo>
                  <a:cubicBezTo>
                    <a:pt x="216" y="48"/>
                    <a:pt x="216" y="48"/>
                    <a:pt x="216" y="48"/>
                  </a:cubicBezTo>
                  <a:cubicBezTo>
                    <a:pt x="227" y="39"/>
                    <a:pt x="229" y="23"/>
                    <a:pt x="220" y="12"/>
                  </a:cubicBezTo>
                  <a:cubicBezTo>
                    <a:pt x="211" y="1"/>
                    <a:pt x="195" y="0"/>
                    <a:pt x="184" y="9"/>
                  </a:cubicBezTo>
                  <a:cubicBezTo>
                    <a:pt x="11" y="151"/>
                    <a:pt x="11" y="151"/>
                    <a:pt x="11" y="151"/>
                  </a:cubicBezTo>
                  <a:cubicBezTo>
                    <a:pt x="7" y="154"/>
                    <a:pt x="4" y="158"/>
                    <a:pt x="3" y="163"/>
                  </a:cubicBezTo>
                  <a:close/>
                </a:path>
              </a:pathLst>
            </a:custGeom>
            <a:solidFill>
              <a:srgbClr val="f3c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746"/>
            <p:cNvSpPr/>
            <p:nvPr/>
          </p:nvSpPr>
          <p:spPr>
            <a:xfrm flipH="1">
              <a:off x="9621360" y="4057920"/>
              <a:ext cx="68040" cy="13788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6" y="75"/>
                  </a:moveTo>
                  <a:cubicBezTo>
                    <a:pt x="17" y="53"/>
                    <a:pt x="17" y="53"/>
                    <a:pt x="17" y="53"/>
                  </a:cubicBezTo>
                  <a:cubicBezTo>
                    <a:pt x="31" y="27"/>
                    <a:pt x="40" y="25"/>
                    <a:pt x="40" y="25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1" y="2"/>
                    <a:pt x="31" y="2"/>
                    <a:pt x="31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5" y="23"/>
                    <a:pt x="3" y="45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78"/>
                    <a:pt x="5" y="81"/>
                    <a:pt x="6" y="75"/>
                  </a:cubicBezTo>
                  <a:close/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747"/>
            <p:cNvSpPr/>
            <p:nvPr/>
          </p:nvSpPr>
          <p:spPr>
            <a:xfrm flipH="1">
              <a:off x="9472680" y="4299120"/>
              <a:ext cx="61920" cy="141120"/>
            </a:xfrm>
            <a:custGeom>
              <a:avLst/>
              <a:gdLst/>
              <a:ahLst/>
              <a:rect l="l" t="t" r="r" b="b"/>
              <a:pathLst>
                <a:path w="36" h="82">
                  <a:moveTo>
                    <a:pt x="13" y="77"/>
                  </a:moveTo>
                  <a:cubicBezTo>
                    <a:pt x="19" y="53"/>
                    <a:pt x="19" y="53"/>
                    <a:pt x="19" y="53"/>
                  </a:cubicBezTo>
                  <a:cubicBezTo>
                    <a:pt x="28" y="25"/>
                    <a:pt x="36" y="22"/>
                    <a:pt x="36" y="22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12" y="24"/>
                    <a:pt x="12" y="24"/>
                    <a:pt x="12" y="24"/>
                  </a:cubicBezTo>
                  <a:cubicBezTo>
                    <a:pt x="12" y="24"/>
                    <a:pt x="2" y="26"/>
                    <a:pt x="4" y="48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7" y="81"/>
                    <a:pt x="12" y="82"/>
                    <a:pt x="13" y="77"/>
                  </a:cubicBezTo>
                  <a:close/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748"/>
            <p:cNvSpPr/>
            <p:nvPr/>
          </p:nvSpPr>
          <p:spPr>
            <a:xfrm flipH="1">
              <a:off x="8868600" y="3687840"/>
              <a:ext cx="795240" cy="652320"/>
            </a:xfrm>
            <a:custGeom>
              <a:avLst/>
              <a:gdLst/>
              <a:ahLst/>
              <a:rect l="l" t="t" r="r" b="b"/>
              <a:pathLst>
                <a:path w="501" h="411">
                  <a:moveTo>
                    <a:pt x="372" y="16"/>
                  </a:moveTo>
                  <a:lnTo>
                    <a:pt x="372" y="16"/>
                  </a:lnTo>
                  <a:lnTo>
                    <a:pt x="398" y="0"/>
                  </a:lnTo>
                  <a:lnTo>
                    <a:pt x="501" y="173"/>
                  </a:lnTo>
                  <a:lnTo>
                    <a:pt x="495" y="176"/>
                  </a:lnTo>
                  <a:lnTo>
                    <a:pt x="495" y="177"/>
                  </a:lnTo>
                  <a:lnTo>
                    <a:pt x="481" y="185"/>
                  </a:lnTo>
                  <a:lnTo>
                    <a:pt x="481" y="185"/>
                  </a:lnTo>
                  <a:lnTo>
                    <a:pt x="104" y="411"/>
                  </a:lnTo>
                  <a:lnTo>
                    <a:pt x="92" y="392"/>
                  </a:lnTo>
                  <a:lnTo>
                    <a:pt x="94" y="390"/>
                  </a:lnTo>
                  <a:lnTo>
                    <a:pt x="104" y="385"/>
                  </a:lnTo>
                  <a:lnTo>
                    <a:pt x="369" y="220"/>
                  </a:lnTo>
                  <a:lnTo>
                    <a:pt x="362" y="207"/>
                  </a:lnTo>
                  <a:lnTo>
                    <a:pt x="293" y="95"/>
                  </a:lnTo>
                  <a:lnTo>
                    <a:pt x="24" y="255"/>
                  </a:lnTo>
                  <a:lnTo>
                    <a:pt x="12" y="263"/>
                  </a:lnTo>
                  <a:lnTo>
                    <a:pt x="0" y="243"/>
                  </a:lnTo>
                  <a:lnTo>
                    <a:pt x="7" y="239"/>
                  </a:lnTo>
                  <a:lnTo>
                    <a:pt x="372" y="16"/>
                  </a:lnTo>
                  <a:close/>
                </a:path>
              </a:pathLst>
            </a:custGeom>
            <a:solidFill>
              <a:srgbClr val="414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749">
              <a:hlinkClick r:id="rId10"/>
            </p:cNvPr>
            <p:cNvSpPr/>
            <p:nvPr/>
          </p:nvSpPr>
          <p:spPr>
            <a:xfrm flipH="1">
              <a:off x="8208360" y="3225960"/>
              <a:ext cx="847800" cy="755640"/>
            </a:xfrm>
            <a:custGeom>
              <a:avLst/>
              <a:gdLst/>
              <a:ahLst/>
              <a:rect l="l" t="t" r="r" b="b"/>
              <a:pathLst>
                <a:path w="494" h="440">
                  <a:moveTo>
                    <a:pt x="429" y="141"/>
                  </a:moveTo>
                  <a:cubicBezTo>
                    <a:pt x="425" y="134"/>
                    <a:pt x="425" y="134"/>
                    <a:pt x="425" y="134"/>
                  </a:cubicBezTo>
                  <a:cubicBezTo>
                    <a:pt x="360" y="23"/>
                    <a:pt x="360" y="23"/>
                    <a:pt x="360" y="23"/>
                  </a:cubicBezTo>
                  <a:cubicBezTo>
                    <a:pt x="319" y="0"/>
                    <a:pt x="319" y="0"/>
                    <a:pt x="319" y="0"/>
                  </a:cubicBezTo>
                  <a:cubicBezTo>
                    <a:pt x="284" y="9"/>
                    <a:pt x="256" y="37"/>
                    <a:pt x="256" y="37"/>
                  </a:cubicBezTo>
                  <a:cubicBezTo>
                    <a:pt x="241" y="42"/>
                    <a:pt x="170" y="155"/>
                    <a:pt x="170" y="155"/>
                  </a:cubicBezTo>
                  <a:cubicBezTo>
                    <a:pt x="138" y="184"/>
                    <a:pt x="89" y="218"/>
                    <a:pt x="53" y="241"/>
                  </a:cubicBezTo>
                  <a:cubicBezTo>
                    <a:pt x="48" y="246"/>
                    <a:pt x="48" y="246"/>
                    <a:pt x="48" y="246"/>
                  </a:cubicBezTo>
                  <a:cubicBezTo>
                    <a:pt x="0" y="276"/>
                    <a:pt x="0" y="276"/>
                    <a:pt x="0" y="276"/>
                  </a:cubicBezTo>
                  <a:cubicBezTo>
                    <a:pt x="51" y="358"/>
                    <a:pt x="51" y="358"/>
                    <a:pt x="51" y="358"/>
                  </a:cubicBezTo>
                  <a:cubicBezTo>
                    <a:pt x="96" y="440"/>
                    <a:pt x="96" y="440"/>
                    <a:pt x="96" y="440"/>
                  </a:cubicBezTo>
                  <a:cubicBezTo>
                    <a:pt x="193" y="392"/>
                    <a:pt x="193" y="392"/>
                    <a:pt x="193" y="392"/>
                  </a:cubicBezTo>
                  <a:cubicBezTo>
                    <a:pt x="291" y="389"/>
                    <a:pt x="291" y="389"/>
                    <a:pt x="291" y="389"/>
                  </a:cubicBezTo>
                  <a:cubicBezTo>
                    <a:pt x="379" y="347"/>
                    <a:pt x="379" y="347"/>
                    <a:pt x="379" y="347"/>
                  </a:cubicBezTo>
                  <a:cubicBezTo>
                    <a:pt x="442" y="301"/>
                    <a:pt x="442" y="301"/>
                    <a:pt x="442" y="301"/>
                  </a:cubicBezTo>
                  <a:cubicBezTo>
                    <a:pt x="491" y="344"/>
                    <a:pt x="491" y="344"/>
                    <a:pt x="491" y="344"/>
                  </a:cubicBezTo>
                  <a:cubicBezTo>
                    <a:pt x="494" y="343"/>
                    <a:pt x="494" y="343"/>
                    <a:pt x="494" y="343"/>
                  </a:cubicBezTo>
                  <a:cubicBezTo>
                    <a:pt x="494" y="251"/>
                    <a:pt x="494" y="251"/>
                    <a:pt x="494" y="251"/>
                  </a:cubicBezTo>
                  <a:lnTo>
                    <a:pt x="429" y="14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750"/>
            <p:cNvSpPr/>
            <p:nvPr/>
          </p:nvSpPr>
          <p:spPr>
            <a:xfrm flipH="1">
              <a:off x="8023320" y="3605400"/>
              <a:ext cx="860400" cy="371160"/>
            </a:xfrm>
            <a:custGeom>
              <a:avLst/>
              <a:gdLst/>
              <a:ahLst/>
              <a:rect l="l" t="t" r="r" b="b"/>
              <a:pathLst>
                <a:path w="502" h="216">
                  <a:moveTo>
                    <a:pt x="382" y="0"/>
                  </a:moveTo>
                  <a:cubicBezTo>
                    <a:pt x="382" y="0"/>
                    <a:pt x="502" y="192"/>
                    <a:pt x="195" y="177"/>
                  </a:cubicBezTo>
                  <a:cubicBezTo>
                    <a:pt x="195" y="177"/>
                    <a:pt x="120" y="173"/>
                    <a:pt x="75" y="188"/>
                  </a:cubicBezTo>
                  <a:cubicBezTo>
                    <a:pt x="0" y="216"/>
                    <a:pt x="0" y="216"/>
                    <a:pt x="0" y="216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210" y="152"/>
                    <a:pt x="210" y="152"/>
                    <a:pt x="210" y="152"/>
                  </a:cubicBezTo>
                  <a:lnTo>
                    <a:pt x="382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751"/>
            <p:cNvSpPr/>
            <p:nvPr/>
          </p:nvSpPr>
          <p:spPr>
            <a:xfrm flipH="1">
              <a:off x="6963480" y="3240000"/>
              <a:ext cx="236520" cy="236520"/>
            </a:xfrm>
            <a:custGeom>
              <a:avLst/>
              <a:gdLst/>
              <a:ahLst/>
              <a:rect l="l" t="t" r="r" b="b"/>
              <a:pathLst>
                <a:path w="138" h="138">
                  <a:moveTo>
                    <a:pt x="9" y="103"/>
                  </a:moveTo>
                  <a:cubicBezTo>
                    <a:pt x="33" y="76"/>
                    <a:pt x="33" y="76"/>
                    <a:pt x="33" y="76"/>
                  </a:cubicBezTo>
                  <a:cubicBezTo>
                    <a:pt x="33" y="76"/>
                    <a:pt x="20" y="35"/>
                    <a:pt x="62" y="0"/>
                  </a:cubicBezTo>
                  <a:cubicBezTo>
                    <a:pt x="138" y="94"/>
                    <a:pt x="138" y="94"/>
                    <a:pt x="138" y="94"/>
                  </a:cubicBezTo>
                  <a:cubicBezTo>
                    <a:pt x="138" y="94"/>
                    <a:pt x="97" y="125"/>
                    <a:pt x="64" y="109"/>
                  </a:cubicBezTo>
                  <a:cubicBezTo>
                    <a:pt x="33" y="133"/>
                    <a:pt x="33" y="133"/>
                    <a:pt x="33" y="133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10" y="124"/>
                    <a:pt x="10" y="124"/>
                    <a:pt x="10" y="124"/>
                  </a:cubicBezTo>
                  <a:cubicBezTo>
                    <a:pt x="0" y="110"/>
                    <a:pt x="0" y="110"/>
                    <a:pt x="0" y="110"/>
                  </a:cubicBezTo>
                  <a:lnTo>
                    <a:pt x="9" y="103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752"/>
            <p:cNvSpPr/>
            <p:nvPr/>
          </p:nvSpPr>
          <p:spPr>
            <a:xfrm flipH="1">
              <a:off x="7095960" y="3381480"/>
              <a:ext cx="1349280" cy="527040"/>
            </a:xfrm>
            <a:custGeom>
              <a:avLst/>
              <a:gdLst/>
              <a:ahLst/>
              <a:rect l="l" t="t" r="r" b="b"/>
              <a:pathLst>
                <a:path w="787" h="307">
                  <a:moveTo>
                    <a:pt x="787" y="44"/>
                  </a:moveTo>
                  <a:cubicBezTo>
                    <a:pt x="787" y="44"/>
                    <a:pt x="452" y="307"/>
                    <a:pt x="3" y="301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0" y="237"/>
                    <a:pt x="356" y="281"/>
                    <a:pt x="741" y="0"/>
                  </a:cubicBezTo>
                  <a:lnTo>
                    <a:pt x="787" y="4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753">
              <a:hlinkClick r:id="rId11"/>
            </p:cNvPr>
            <p:cNvSpPr/>
            <p:nvPr/>
          </p:nvSpPr>
          <p:spPr>
            <a:xfrm flipH="1">
              <a:off x="7444440" y="2666880"/>
              <a:ext cx="1141560" cy="1160280"/>
            </a:xfrm>
            <a:custGeom>
              <a:avLst/>
              <a:gdLst/>
              <a:ahLst/>
              <a:rect l="l" t="t" r="r" b="b"/>
              <a:pathLst>
                <a:path w="665" h="676">
                  <a:moveTo>
                    <a:pt x="614" y="417"/>
                  </a:moveTo>
                  <a:cubicBezTo>
                    <a:pt x="628" y="404"/>
                    <a:pt x="635" y="388"/>
                    <a:pt x="635" y="388"/>
                  </a:cubicBezTo>
                  <a:cubicBezTo>
                    <a:pt x="635" y="388"/>
                    <a:pt x="635" y="388"/>
                    <a:pt x="635" y="388"/>
                  </a:cubicBezTo>
                  <a:cubicBezTo>
                    <a:pt x="665" y="333"/>
                    <a:pt x="625" y="226"/>
                    <a:pt x="537" y="135"/>
                  </a:cubicBezTo>
                  <a:cubicBezTo>
                    <a:pt x="450" y="45"/>
                    <a:pt x="345" y="0"/>
                    <a:pt x="288" y="27"/>
                  </a:cubicBezTo>
                  <a:cubicBezTo>
                    <a:pt x="288" y="27"/>
                    <a:pt x="288" y="27"/>
                    <a:pt x="288" y="27"/>
                  </a:cubicBezTo>
                  <a:cubicBezTo>
                    <a:pt x="277" y="31"/>
                    <a:pt x="263" y="43"/>
                    <a:pt x="263" y="43"/>
                  </a:cubicBezTo>
                  <a:cubicBezTo>
                    <a:pt x="263" y="43"/>
                    <a:pt x="21" y="260"/>
                    <a:pt x="1" y="486"/>
                  </a:cubicBezTo>
                  <a:cubicBezTo>
                    <a:pt x="1" y="486"/>
                    <a:pt x="1" y="486"/>
                    <a:pt x="1" y="486"/>
                  </a:cubicBezTo>
                  <a:cubicBezTo>
                    <a:pt x="1" y="486"/>
                    <a:pt x="1" y="486"/>
                    <a:pt x="1" y="486"/>
                  </a:cubicBezTo>
                  <a:cubicBezTo>
                    <a:pt x="0" y="505"/>
                    <a:pt x="0" y="524"/>
                    <a:pt x="1" y="543"/>
                  </a:cubicBezTo>
                  <a:cubicBezTo>
                    <a:pt x="3" y="571"/>
                    <a:pt x="7" y="603"/>
                    <a:pt x="19" y="623"/>
                  </a:cubicBezTo>
                  <a:cubicBezTo>
                    <a:pt x="21" y="626"/>
                    <a:pt x="22" y="629"/>
                    <a:pt x="25" y="632"/>
                  </a:cubicBezTo>
                  <a:cubicBezTo>
                    <a:pt x="25" y="632"/>
                    <a:pt x="25" y="632"/>
                    <a:pt x="25" y="632"/>
                  </a:cubicBezTo>
                  <a:cubicBezTo>
                    <a:pt x="25" y="632"/>
                    <a:pt x="25" y="632"/>
                    <a:pt x="25" y="632"/>
                  </a:cubicBezTo>
                  <a:cubicBezTo>
                    <a:pt x="25" y="632"/>
                    <a:pt x="25" y="632"/>
                    <a:pt x="25" y="632"/>
                  </a:cubicBezTo>
                  <a:cubicBezTo>
                    <a:pt x="25" y="632"/>
                    <a:pt x="26" y="633"/>
                    <a:pt x="28" y="635"/>
                  </a:cubicBezTo>
                  <a:cubicBezTo>
                    <a:pt x="27" y="634"/>
                    <a:pt x="27" y="634"/>
                    <a:pt x="27" y="634"/>
                  </a:cubicBezTo>
                  <a:cubicBezTo>
                    <a:pt x="28" y="635"/>
                    <a:pt x="28" y="635"/>
                    <a:pt x="28" y="635"/>
                  </a:cubicBezTo>
                  <a:cubicBezTo>
                    <a:pt x="33" y="641"/>
                    <a:pt x="45" y="653"/>
                    <a:pt x="53" y="656"/>
                  </a:cubicBezTo>
                  <a:cubicBezTo>
                    <a:pt x="54" y="656"/>
                    <a:pt x="55" y="656"/>
                    <a:pt x="56" y="657"/>
                  </a:cubicBezTo>
                  <a:cubicBezTo>
                    <a:pt x="68" y="661"/>
                    <a:pt x="108" y="676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151" y="671"/>
                    <a:pt x="151" y="671"/>
                    <a:pt x="151" y="671"/>
                  </a:cubicBezTo>
                  <a:cubicBezTo>
                    <a:pt x="236" y="670"/>
                    <a:pt x="394" y="630"/>
                    <a:pt x="614" y="417"/>
                  </a:cubicBezTo>
                  <a:close/>
                  <a:moveTo>
                    <a:pt x="26" y="633"/>
                  </a:moveTo>
                  <a:cubicBezTo>
                    <a:pt x="26" y="633"/>
                    <a:pt x="26" y="633"/>
                    <a:pt x="26" y="633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754"/>
            <p:cNvSpPr/>
            <p:nvPr/>
          </p:nvSpPr>
          <p:spPr>
            <a:xfrm flipH="1">
              <a:off x="7977960" y="3443400"/>
              <a:ext cx="145800" cy="11268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85" y="4"/>
                  </a:moveTo>
                  <a:cubicBezTo>
                    <a:pt x="85" y="4"/>
                    <a:pt x="76" y="66"/>
                    <a:pt x="33" y="49"/>
                  </a:cubicBezTo>
                  <a:cubicBezTo>
                    <a:pt x="33" y="49"/>
                    <a:pt x="0" y="35"/>
                    <a:pt x="2" y="0"/>
                  </a:cubicBezTo>
                  <a:cubicBezTo>
                    <a:pt x="2" y="0"/>
                    <a:pt x="18" y="45"/>
                    <a:pt x="44" y="42"/>
                  </a:cubicBezTo>
                  <a:cubicBezTo>
                    <a:pt x="44" y="42"/>
                    <a:pt x="71" y="45"/>
                    <a:pt x="85" y="4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755"/>
            <p:cNvSpPr/>
            <p:nvPr/>
          </p:nvSpPr>
          <p:spPr>
            <a:xfrm flipH="1">
              <a:off x="8068680" y="3421080"/>
              <a:ext cx="425160" cy="433080"/>
            </a:xfrm>
            <a:custGeom>
              <a:avLst/>
              <a:gdLst/>
              <a:ahLst/>
              <a:rect l="l" t="t" r="r" b="b"/>
              <a:pathLst>
                <a:path w="248" h="253">
                  <a:moveTo>
                    <a:pt x="66" y="0"/>
                  </a:moveTo>
                  <a:cubicBezTo>
                    <a:pt x="248" y="182"/>
                    <a:pt x="248" y="182"/>
                    <a:pt x="248" y="182"/>
                  </a:cubicBezTo>
                  <a:cubicBezTo>
                    <a:pt x="248" y="182"/>
                    <a:pt x="0" y="253"/>
                    <a:pt x="66" y="0"/>
                  </a:cubicBezTo>
                  <a:close/>
                </a:path>
              </a:pathLst>
            </a:custGeom>
            <a:solidFill>
              <a:srgbClr val="9a1c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756"/>
            <p:cNvSpPr/>
            <p:nvPr/>
          </p:nvSpPr>
          <p:spPr>
            <a:xfrm flipH="1">
              <a:off x="8243280" y="3583080"/>
              <a:ext cx="153720" cy="16164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0" y="0"/>
                  </a:moveTo>
                  <a:cubicBezTo>
                    <a:pt x="0" y="0"/>
                    <a:pt x="45" y="17"/>
                    <a:pt x="49" y="40"/>
                  </a:cubicBezTo>
                  <a:cubicBezTo>
                    <a:pt x="49" y="40"/>
                    <a:pt x="89" y="56"/>
                    <a:pt x="90" y="94"/>
                  </a:cubicBezTo>
                  <a:cubicBezTo>
                    <a:pt x="90" y="94"/>
                    <a:pt x="7" y="87"/>
                    <a:pt x="0" y="0"/>
                  </a:cubicBezTo>
                  <a:close/>
                </a:path>
              </a:pathLst>
            </a:custGeom>
            <a:solidFill>
              <a:srgbClr val="bc0a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757"/>
            <p:cNvSpPr/>
            <p:nvPr/>
          </p:nvSpPr>
          <p:spPr>
            <a:xfrm flipH="1">
              <a:off x="7981920" y="3167280"/>
              <a:ext cx="131760" cy="13464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64" y="66"/>
                  </a:moveTo>
                  <a:cubicBezTo>
                    <a:pt x="51" y="79"/>
                    <a:pt x="29" y="77"/>
                    <a:pt x="15" y="62"/>
                  </a:cubicBezTo>
                  <a:cubicBezTo>
                    <a:pt x="1" y="48"/>
                    <a:pt x="0" y="25"/>
                    <a:pt x="13" y="13"/>
                  </a:cubicBezTo>
                  <a:cubicBezTo>
                    <a:pt x="26" y="0"/>
                    <a:pt x="48" y="2"/>
                    <a:pt x="62" y="16"/>
                  </a:cubicBezTo>
                  <a:cubicBezTo>
                    <a:pt x="77" y="31"/>
                    <a:pt x="77" y="53"/>
                    <a:pt x="64" y="6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758"/>
            <p:cNvSpPr/>
            <p:nvPr/>
          </p:nvSpPr>
          <p:spPr>
            <a:xfrm flipH="1">
              <a:off x="7985880" y="3173400"/>
              <a:ext cx="122040" cy="122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58" y="58"/>
                  </a:moveTo>
                  <a:cubicBezTo>
                    <a:pt x="45" y="71"/>
                    <a:pt x="24" y="70"/>
                    <a:pt x="12" y="58"/>
                  </a:cubicBezTo>
                  <a:cubicBezTo>
                    <a:pt x="0" y="45"/>
                    <a:pt x="0" y="24"/>
                    <a:pt x="13" y="12"/>
                  </a:cubicBezTo>
                  <a:cubicBezTo>
                    <a:pt x="26" y="0"/>
                    <a:pt x="46" y="0"/>
                    <a:pt x="59" y="13"/>
                  </a:cubicBezTo>
                  <a:cubicBezTo>
                    <a:pt x="71" y="26"/>
                    <a:pt x="71" y="46"/>
                    <a:pt x="58" y="58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759"/>
            <p:cNvSpPr/>
            <p:nvPr/>
          </p:nvSpPr>
          <p:spPr>
            <a:xfrm flipH="1">
              <a:off x="8002440" y="3205080"/>
              <a:ext cx="72720" cy="74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5" y="35"/>
                  </a:moveTo>
                  <a:cubicBezTo>
                    <a:pt x="27" y="43"/>
                    <a:pt x="15" y="43"/>
                    <a:pt x="8" y="35"/>
                  </a:cubicBezTo>
                  <a:cubicBezTo>
                    <a:pt x="0" y="27"/>
                    <a:pt x="0" y="15"/>
                    <a:pt x="8" y="8"/>
                  </a:cubicBezTo>
                  <a:cubicBezTo>
                    <a:pt x="16" y="0"/>
                    <a:pt x="28" y="0"/>
                    <a:pt x="35" y="8"/>
                  </a:cubicBezTo>
                  <a:cubicBezTo>
                    <a:pt x="43" y="16"/>
                    <a:pt x="43" y="28"/>
                    <a:pt x="35" y="35"/>
                  </a:cubicBez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760"/>
            <p:cNvSpPr/>
            <p:nvPr/>
          </p:nvSpPr>
          <p:spPr>
            <a:xfrm flipH="1">
              <a:off x="8005680" y="3213000"/>
              <a:ext cx="2520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11" y="0"/>
                  </a:moveTo>
                  <a:lnTo>
                    <a:pt x="0" y="15"/>
                  </a:lnTo>
                  <a:lnTo>
                    <a:pt x="16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761"/>
            <p:cNvSpPr/>
            <p:nvPr/>
          </p:nvSpPr>
          <p:spPr>
            <a:xfrm flipH="1">
              <a:off x="7765920" y="3380040"/>
              <a:ext cx="134640" cy="134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64" y="66"/>
                  </a:moveTo>
                  <a:cubicBezTo>
                    <a:pt x="51" y="79"/>
                    <a:pt x="29" y="77"/>
                    <a:pt x="15" y="62"/>
                  </a:cubicBezTo>
                  <a:cubicBezTo>
                    <a:pt x="1" y="47"/>
                    <a:pt x="0" y="25"/>
                    <a:pt x="13" y="12"/>
                  </a:cubicBezTo>
                  <a:cubicBezTo>
                    <a:pt x="26" y="0"/>
                    <a:pt x="48" y="1"/>
                    <a:pt x="63" y="16"/>
                  </a:cubicBezTo>
                  <a:cubicBezTo>
                    <a:pt x="77" y="31"/>
                    <a:pt x="78" y="53"/>
                    <a:pt x="64" y="6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762"/>
            <p:cNvSpPr/>
            <p:nvPr/>
          </p:nvSpPr>
          <p:spPr>
            <a:xfrm flipH="1">
              <a:off x="7773120" y="3382920"/>
              <a:ext cx="122040" cy="12348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58" y="59"/>
                  </a:moveTo>
                  <a:cubicBezTo>
                    <a:pt x="45" y="72"/>
                    <a:pt x="25" y="71"/>
                    <a:pt x="12" y="58"/>
                  </a:cubicBezTo>
                  <a:cubicBezTo>
                    <a:pt x="0" y="46"/>
                    <a:pt x="0" y="25"/>
                    <a:pt x="13" y="13"/>
                  </a:cubicBezTo>
                  <a:cubicBezTo>
                    <a:pt x="26" y="0"/>
                    <a:pt x="47" y="1"/>
                    <a:pt x="59" y="14"/>
                  </a:cubicBezTo>
                  <a:cubicBezTo>
                    <a:pt x="71" y="26"/>
                    <a:pt x="71" y="47"/>
                    <a:pt x="58" y="59"/>
                  </a:cubicBez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763"/>
            <p:cNvSpPr/>
            <p:nvPr/>
          </p:nvSpPr>
          <p:spPr>
            <a:xfrm flipH="1">
              <a:off x="7789680" y="3416400"/>
              <a:ext cx="72720" cy="74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35" y="35"/>
                  </a:moveTo>
                  <a:cubicBezTo>
                    <a:pt x="28" y="43"/>
                    <a:pt x="15" y="42"/>
                    <a:pt x="8" y="35"/>
                  </a:cubicBezTo>
                  <a:cubicBezTo>
                    <a:pt x="0" y="27"/>
                    <a:pt x="1" y="15"/>
                    <a:pt x="8" y="7"/>
                  </a:cubicBezTo>
                  <a:cubicBezTo>
                    <a:pt x="16" y="0"/>
                    <a:pt x="28" y="0"/>
                    <a:pt x="36" y="8"/>
                  </a:cubicBezTo>
                  <a:cubicBezTo>
                    <a:pt x="43" y="16"/>
                    <a:pt x="43" y="28"/>
                    <a:pt x="35" y="35"/>
                  </a:cubicBez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764"/>
            <p:cNvSpPr/>
            <p:nvPr/>
          </p:nvSpPr>
          <p:spPr>
            <a:xfrm flipH="1">
              <a:off x="7792920" y="3424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0"/>
                  </a:moveTo>
                  <a:lnTo>
                    <a:pt x="0" y="15"/>
                  </a:lnTo>
                  <a:lnTo>
                    <a:pt x="15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1f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765"/>
            <p:cNvSpPr/>
            <p:nvPr/>
          </p:nvSpPr>
          <p:spPr>
            <a:xfrm flipH="1">
              <a:off x="7516800" y="2766960"/>
              <a:ext cx="892080" cy="699840"/>
            </a:xfrm>
            <a:custGeom>
              <a:avLst/>
              <a:gdLst/>
              <a:ahLst/>
              <a:rect l="l" t="t" r="r" b="b"/>
              <a:pathLst>
                <a:path w="520" h="408">
                  <a:moveTo>
                    <a:pt x="0" y="195"/>
                  </a:moveTo>
                  <a:cubicBezTo>
                    <a:pt x="0" y="195"/>
                    <a:pt x="95" y="75"/>
                    <a:pt x="177" y="62"/>
                  </a:cubicBezTo>
                  <a:cubicBezTo>
                    <a:pt x="177" y="62"/>
                    <a:pt x="267" y="212"/>
                    <a:pt x="474" y="262"/>
                  </a:cubicBezTo>
                  <a:cubicBezTo>
                    <a:pt x="474" y="262"/>
                    <a:pt x="486" y="372"/>
                    <a:pt x="457" y="408"/>
                  </a:cubicBezTo>
                  <a:cubicBezTo>
                    <a:pt x="499" y="370"/>
                    <a:pt x="499" y="370"/>
                    <a:pt x="499" y="370"/>
                  </a:cubicBezTo>
                  <a:cubicBezTo>
                    <a:pt x="520" y="349"/>
                    <a:pt x="520" y="349"/>
                    <a:pt x="520" y="349"/>
                  </a:cubicBezTo>
                  <a:cubicBezTo>
                    <a:pt x="516" y="240"/>
                    <a:pt x="516" y="240"/>
                    <a:pt x="516" y="240"/>
                  </a:cubicBezTo>
                  <a:cubicBezTo>
                    <a:pt x="463" y="184"/>
                    <a:pt x="463" y="184"/>
                    <a:pt x="463" y="184"/>
                  </a:cubicBezTo>
                  <a:cubicBezTo>
                    <a:pt x="216" y="17"/>
                    <a:pt x="216" y="17"/>
                    <a:pt x="216" y="17"/>
                  </a:cubicBezTo>
                  <a:cubicBezTo>
                    <a:pt x="137" y="0"/>
                    <a:pt x="137" y="0"/>
                    <a:pt x="137" y="0"/>
                  </a:cubicBezTo>
                  <a:lnTo>
                    <a:pt x="0" y="195"/>
                  </a:ln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766"/>
            <p:cNvSpPr/>
            <p:nvPr/>
          </p:nvSpPr>
          <p:spPr>
            <a:xfrm flipH="1">
              <a:off x="7281000" y="2378160"/>
              <a:ext cx="1173240" cy="1165320"/>
            </a:xfrm>
            <a:custGeom>
              <a:avLst/>
              <a:gdLst/>
              <a:ahLst/>
              <a:rect l="l" t="t" r="r" b="b"/>
              <a:pathLst>
                <a:path w="684" h="679">
                  <a:moveTo>
                    <a:pt x="576" y="406"/>
                  </a:moveTo>
                  <a:cubicBezTo>
                    <a:pt x="588" y="406"/>
                    <a:pt x="602" y="408"/>
                    <a:pt x="612" y="415"/>
                  </a:cubicBezTo>
                  <a:cubicBezTo>
                    <a:pt x="612" y="415"/>
                    <a:pt x="598" y="402"/>
                    <a:pt x="581" y="394"/>
                  </a:cubicBezTo>
                  <a:cubicBezTo>
                    <a:pt x="596" y="386"/>
                    <a:pt x="616" y="380"/>
                    <a:pt x="635" y="383"/>
                  </a:cubicBezTo>
                  <a:cubicBezTo>
                    <a:pt x="635" y="383"/>
                    <a:pt x="603" y="374"/>
                    <a:pt x="572" y="374"/>
                  </a:cubicBezTo>
                  <a:cubicBezTo>
                    <a:pt x="580" y="281"/>
                    <a:pt x="463" y="191"/>
                    <a:pt x="463" y="191"/>
                  </a:cubicBezTo>
                  <a:cubicBezTo>
                    <a:pt x="227" y="0"/>
                    <a:pt x="98" y="211"/>
                    <a:pt x="72" y="261"/>
                  </a:cubicBezTo>
                  <a:cubicBezTo>
                    <a:pt x="72" y="261"/>
                    <a:pt x="72" y="261"/>
                    <a:pt x="72" y="261"/>
                  </a:cubicBezTo>
                  <a:cubicBezTo>
                    <a:pt x="68" y="267"/>
                    <a:pt x="67" y="271"/>
                    <a:pt x="67" y="271"/>
                  </a:cubicBezTo>
                  <a:cubicBezTo>
                    <a:pt x="67" y="271"/>
                    <a:pt x="67" y="271"/>
                    <a:pt x="67" y="271"/>
                  </a:cubicBezTo>
                  <a:cubicBezTo>
                    <a:pt x="41" y="325"/>
                    <a:pt x="41" y="325"/>
                    <a:pt x="41" y="325"/>
                  </a:cubicBezTo>
                  <a:cubicBezTo>
                    <a:pt x="77" y="327"/>
                    <a:pt x="77" y="327"/>
                    <a:pt x="77" y="327"/>
                  </a:cubicBezTo>
                  <a:cubicBezTo>
                    <a:pt x="38" y="371"/>
                    <a:pt x="2" y="436"/>
                    <a:pt x="2" y="436"/>
                  </a:cubicBezTo>
                  <a:cubicBezTo>
                    <a:pt x="3" y="437"/>
                    <a:pt x="3" y="437"/>
                    <a:pt x="3" y="437"/>
                  </a:cubicBezTo>
                  <a:cubicBezTo>
                    <a:pt x="0" y="441"/>
                    <a:pt x="0" y="441"/>
                    <a:pt x="0" y="441"/>
                  </a:cubicBezTo>
                  <a:cubicBezTo>
                    <a:pt x="13" y="452"/>
                    <a:pt x="13" y="452"/>
                    <a:pt x="13" y="452"/>
                  </a:cubicBezTo>
                  <a:cubicBezTo>
                    <a:pt x="64" y="368"/>
                    <a:pt x="119" y="322"/>
                    <a:pt x="155" y="299"/>
                  </a:cubicBezTo>
                  <a:cubicBezTo>
                    <a:pt x="178" y="286"/>
                    <a:pt x="194" y="279"/>
                    <a:pt x="194" y="279"/>
                  </a:cubicBezTo>
                  <a:cubicBezTo>
                    <a:pt x="282" y="369"/>
                    <a:pt x="476" y="470"/>
                    <a:pt x="476" y="470"/>
                  </a:cubicBezTo>
                  <a:cubicBezTo>
                    <a:pt x="575" y="552"/>
                    <a:pt x="478" y="679"/>
                    <a:pt x="478" y="679"/>
                  </a:cubicBezTo>
                  <a:cubicBezTo>
                    <a:pt x="684" y="550"/>
                    <a:pt x="605" y="438"/>
                    <a:pt x="576" y="406"/>
                  </a:cubicBezTo>
                  <a:close/>
                </a:path>
              </a:pathLst>
            </a:custGeom>
            <a:solidFill>
              <a:srgbClr val="4040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767"/>
            <p:cNvSpPr/>
            <p:nvPr/>
          </p:nvSpPr>
          <p:spPr>
            <a:xfrm flipH="1">
              <a:off x="8307360" y="2836800"/>
              <a:ext cx="201600" cy="233280"/>
            </a:xfrm>
            <a:custGeom>
              <a:avLst/>
              <a:gdLst/>
              <a:ahLst/>
              <a:rect l="l" t="t" r="r" b="b"/>
              <a:pathLst>
                <a:path w="118" h="136">
                  <a:moveTo>
                    <a:pt x="118" y="64"/>
                  </a:moveTo>
                  <a:cubicBezTo>
                    <a:pt x="115" y="49"/>
                    <a:pt x="108" y="34"/>
                    <a:pt x="93" y="28"/>
                  </a:cubicBezTo>
                  <a:cubicBezTo>
                    <a:pt x="93" y="28"/>
                    <a:pt x="39" y="0"/>
                    <a:pt x="18" y="62"/>
                  </a:cubicBezTo>
                  <a:cubicBezTo>
                    <a:pt x="18" y="62"/>
                    <a:pt x="0" y="101"/>
                    <a:pt x="63" y="136"/>
                  </a:cubicBezTo>
                  <a:lnTo>
                    <a:pt x="118" y="64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768"/>
            <p:cNvSpPr/>
            <p:nvPr/>
          </p:nvSpPr>
          <p:spPr>
            <a:xfrm flipH="1">
              <a:off x="8332920" y="2898720"/>
              <a:ext cx="102960" cy="9684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0" y="15"/>
                  </a:moveTo>
                  <a:cubicBezTo>
                    <a:pt x="4" y="11"/>
                    <a:pt x="10" y="7"/>
                    <a:pt x="15" y="5"/>
                  </a:cubicBezTo>
                  <a:cubicBezTo>
                    <a:pt x="18" y="3"/>
                    <a:pt x="21" y="2"/>
                    <a:pt x="24" y="1"/>
                  </a:cubicBezTo>
                  <a:cubicBezTo>
                    <a:pt x="25" y="1"/>
                    <a:pt x="25" y="1"/>
                    <a:pt x="26" y="1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9" y="0"/>
                    <a:pt x="30" y="0"/>
                    <a:pt x="31" y="0"/>
                  </a:cubicBezTo>
                  <a:cubicBezTo>
                    <a:pt x="32" y="0"/>
                    <a:pt x="33" y="0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37" y="0"/>
                    <a:pt x="38" y="0"/>
                    <a:pt x="39" y="0"/>
                  </a:cubicBezTo>
                  <a:cubicBezTo>
                    <a:pt x="40" y="0"/>
                    <a:pt x="41" y="1"/>
                    <a:pt x="42" y="1"/>
                  </a:cubicBezTo>
                  <a:cubicBezTo>
                    <a:pt x="43" y="1"/>
                    <a:pt x="43" y="2"/>
                    <a:pt x="44" y="2"/>
                  </a:cubicBezTo>
                  <a:cubicBezTo>
                    <a:pt x="46" y="3"/>
                    <a:pt x="48" y="4"/>
                    <a:pt x="49" y="5"/>
                  </a:cubicBezTo>
                  <a:cubicBezTo>
                    <a:pt x="50" y="6"/>
                    <a:pt x="50" y="7"/>
                    <a:pt x="51" y="8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4" y="11"/>
                    <a:pt x="55" y="13"/>
                    <a:pt x="55" y="15"/>
                  </a:cubicBezTo>
                  <a:cubicBezTo>
                    <a:pt x="56" y="16"/>
                    <a:pt x="56" y="18"/>
                    <a:pt x="57" y="19"/>
                  </a:cubicBezTo>
                  <a:cubicBezTo>
                    <a:pt x="58" y="21"/>
                    <a:pt x="58" y="23"/>
                    <a:pt x="58" y="24"/>
                  </a:cubicBezTo>
                  <a:cubicBezTo>
                    <a:pt x="59" y="26"/>
                    <a:pt x="59" y="28"/>
                    <a:pt x="59" y="29"/>
                  </a:cubicBezTo>
                  <a:cubicBezTo>
                    <a:pt x="60" y="33"/>
                    <a:pt x="60" y="33"/>
                    <a:pt x="60" y="33"/>
                  </a:cubicBezTo>
                  <a:cubicBezTo>
                    <a:pt x="55" y="36"/>
                    <a:pt x="55" y="36"/>
                    <a:pt x="55" y="36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8" y="41"/>
                    <a:pt x="46" y="41"/>
                    <a:pt x="45" y="42"/>
                  </a:cubicBezTo>
                  <a:cubicBezTo>
                    <a:pt x="44" y="43"/>
                    <a:pt x="43" y="44"/>
                    <a:pt x="42" y="44"/>
                  </a:cubicBezTo>
                  <a:cubicBezTo>
                    <a:pt x="40" y="46"/>
                    <a:pt x="38" y="48"/>
                    <a:pt x="36" y="50"/>
                  </a:cubicBezTo>
                  <a:cubicBezTo>
                    <a:pt x="35" y="51"/>
                    <a:pt x="34" y="52"/>
                    <a:pt x="33" y="53"/>
                  </a:cubicBezTo>
                  <a:cubicBezTo>
                    <a:pt x="33" y="53"/>
                    <a:pt x="33" y="54"/>
                    <a:pt x="32" y="55"/>
                  </a:cubicBezTo>
                  <a:cubicBezTo>
                    <a:pt x="32" y="55"/>
                    <a:pt x="32" y="56"/>
                    <a:pt x="31" y="57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0" y="56"/>
                    <a:pt x="29" y="55"/>
                    <a:pt x="29" y="54"/>
                  </a:cubicBezTo>
                  <a:cubicBezTo>
                    <a:pt x="29" y="53"/>
                    <a:pt x="29" y="53"/>
                    <a:pt x="29" y="52"/>
                  </a:cubicBezTo>
                  <a:cubicBezTo>
                    <a:pt x="29" y="51"/>
                    <a:pt x="29" y="50"/>
                    <a:pt x="29" y="49"/>
                  </a:cubicBezTo>
                  <a:cubicBezTo>
                    <a:pt x="29" y="48"/>
                    <a:pt x="29" y="47"/>
                    <a:pt x="29" y="46"/>
                  </a:cubicBezTo>
                  <a:cubicBezTo>
                    <a:pt x="30" y="43"/>
                    <a:pt x="32" y="40"/>
                    <a:pt x="34" y="37"/>
                  </a:cubicBezTo>
                  <a:cubicBezTo>
                    <a:pt x="35" y="35"/>
                    <a:pt x="36" y="34"/>
                    <a:pt x="37" y="33"/>
                  </a:cubicBezTo>
                  <a:cubicBezTo>
                    <a:pt x="38" y="32"/>
                    <a:pt x="39" y="30"/>
                    <a:pt x="41" y="29"/>
                  </a:cubicBezTo>
                  <a:cubicBezTo>
                    <a:pt x="42" y="28"/>
                    <a:pt x="43" y="27"/>
                    <a:pt x="44" y="26"/>
                  </a:cubicBezTo>
                  <a:cubicBezTo>
                    <a:pt x="45" y="26"/>
                    <a:pt x="46" y="25"/>
                    <a:pt x="47" y="25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45" y="29"/>
                    <a:pt x="45" y="27"/>
                    <a:pt x="45" y="26"/>
                  </a:cubicBezTo>
                  <a:cubicBezTo>
                    <a:pt x="45" y="25"/>
                    <a:pt x="45" y="23"/>
                    <a:pt x="45" y="22"/>
                  </a:cubicBezTo>
                  <a:cubicBezTo>
                    <a:pt x="45" y="21"/>
                    <a:pt x="45" y="20"/>
                    <a:pt x="44" y="18"/>
                  </a:cubicBezTo>
                  <a:cubicBezTo>
                    <a:pt x="44" y="17"/>
                    <a:pt x="44" y="16"/>
                    <a:pt x="43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2" y="13"/>
                    <a:pt x="42" y="13"/>
                    <a:pt x="42" y="12"/>
                  </a:cubicBezTo>
                  <a:cubicBezTo>
                    <a:pt x="41" y="12"/>
                    <a:pt x="40" y="11"/>
                    <a:pt x="39" y="10"/>
                  </a:cubicBezTo>
                  <a:cubicBezTo>
                    <a:pt x="39" y="10"/>
                    <a:pt x="39" y="10"/>
                    <a:pt x="38" y="9"/>
                  </a:cubicBezTo>
                  <a:cubicBezTo>
                    <a:pt x="38" y="9"/>
                    <a:pt x="37" y="9"/>
                    <a:pt x="37" y="9"/>
                  </a:cubicBezTo>
                  <a:cubicBezTo>
                    <a:pt x="36" y="8"/>
                    <a:pt x="35" y="8"/>
                    <a:pt x="35" y="8"/>
                  </a:cubicBezTo>
                  <a:cubicBezTo>
                    <a:pt x="34" y="8"/>
                    <a:pt x="34" y="8"/>
                    <a:pt x="33" y="8"/>
                  </a:cubicBezTo>
                  <a:cubicBezTo>
                    <a:pt x="32" y="8"/>
                    <a:pt x="32" y="8"/>
                    <a:pt x="31" y="8"/>
                  </a:cubicBezTo>
                  <a:cubicBezTo>
                    <a:pt x="31" y="7"/>
                    <a:pt x="30" y="7"/>
                    <a:pt x="29" y="7"/>
                  </a:cubicBezTo>
                  <a:cubicBezTo>
                    <a:pt x="29" y="7"/>
                    <a:pt x="28" y="7"/>
                    <a:pt x="27" y="8"/>
                  </a:cubicBezTo>
                  <a:cubicBezTo>
                    <a:pt x="27" y="8"/>
                    <a:pt x="26" y="8"/>
                    <a:pt x="25" y="8"/>
                  </a:cubicBezTo>
                  <a:cubicBezTo>
                    <a:pt x="22" y="8"/>
                    <a:pt x="20" y="9"/>
                    <a:pt x="17" y="9"/>
                  </a:cubicBezTo>
                  <a:cubicBezTo>
                    <a:pt x="14" y="10"/>
                    <a:pt x="11" y="11"/>
                    <a:pt x="9" y="12"/>
                  </a:cubicBezTo>
                  <a:cubicBezTo>
                    <a:pt x="6" y="13"/>
                    <a:pt x="3" y="14"/>
                    <a:pt x="1" y="16"/>
                  </a:cubicBezTo>
                  <a:lnTo>
                    <a:pt x="0" y="15"/>
                  </a:ln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769"/>
            <p:cNvSpPr/>
            <p:nvPr/>
          </p:nvSpPr>
          <p:spPr>
            <a:xfrm flipH="1">
              <a:off x="7813080" y="2050920"/>
              <a:ext cx="236520" cy="23472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9" y="101"/>
                  </a:moveTo>
                  <a:cubicBezTo>
                    <a:pt x="34" y="76"/>
                    <a:pt x="34" y="76"/>
                    <a:pt x="34" y="76"/>
                  </a:cubicBezTo>
                  <a:cubicBezTo>
                    <a:pt x="34" y="76"/>
                    <a:pt x="22" y="34"/>
                    <a:pt x="65" y="0"/>
                  </a:cubicBezTo>
                  <a:cubicBezTo>
                    <a:pt x="138" y="97"/>
                    <a:pt x="138" y="97"/>
                    <a:pt x="138" y="97"/>
                  </a:cubicBezTo>
                  <a:cubicBezTo>
                    <a:pt x="138" y="97"/>
                    <a:pt x="97" y="127"/>
                    <a:pt x="64" y="109"/>
                  </a:cubicBezTo>
                  <a:cubicBezTo>
                    <a:pt x="32" y="132"/>
                    <a:pt x="32" y="132"/>
                    <a:pt x="32" y="132"/>
                  </a:cubicBezTo>
                  <a:cubicBezTo>
                    <a:pt x="19" y="137"/>
                    <a:pt x="19" y="137"/>
                    <a:pt x="19" y="137"/>
                  </a:cubicBezTo>
                  <a:cubicBezTo>
                    <a:pt x="9" y="123"/>
                    <a:pt x="9" y="123"/>
                    <a:pt x="9" y="123"/>
                  </a:cubicBezTo>
                  <a:cubicBezTo>
                    <a:pt x="0" y="109"/>
                    <a:pt x="0" y="109"/>
                    <a:pt x="0" y="109"/>
                  </a:cubicBezTo>
                  <a:lnTo>
                    <a:pt x="9" y="101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770"/>
            <p:cNvSpPr/>
            <p:nvPr/>
          </p:nvSpPr>
          <p:spPr>
            <a:xfrm flipH="1">
              <a:off x="7727760" y="1990800"/>
              <a:ext cx="210960" cy="226800"/>
            </a:xfrm>
            <a:custGeom>
              <a:avLst/>
              <a:gdLst/>
              <a:ahLst/>
              <a:rect l="l" t="t" r="r" b="b"/>
              <a:pathLst>
                <a:path w="123" h="132">
                  <a:moveTo>
                    <a:pt x="0" y="35"/>
                  </a:move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104" y="18"/>
                    <a:pt x="102" y="61"/>
                  </a:cubicBezTo>
                  <a:cubicBezTo>
                    <a:pt x="73" y="89"/>
                    <a:pt x="73" y="89"/>
                    <a:pt x="73" y="89"/>
                  </a:cubicBezTo>
                  <a:cubicBezTo>
                    <a:pt x="102" y="83"/>
                    <a:pt x="102" y="83"/>
                    <a:pt x="102" y="83"/>
                  </a:cubicBezTo>
                  <a:cubicBezTo>
                    <a:pt x="102" y="83"/>
                    <a:pt x="123" y="92"/>
                    <a:pt x="111" y="107"/>
                  </a:cubicBezTo>
                  <a:cubicBezTo>
                    <a:pt x="73" y="132"/>
                    <a:pt x="73" y="132"/>
                    <a:pt x="73" y="132"/>
                  </a:cubicBezTo>
                  <a:lnTo>
                    <a:pt x="0" y="35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771"/>
            <p:cNvSpPr/>
            <p:nvPr/>
          </p:nvSpPr>
          <p:spPr>
            <a:xfrm flipH="1">
              <a:off x="6883200" y="3175200"/>
              <a:ext cx="212400" cy="228600"/>
            </a:xfrm>
            <a:custGeom>
              <a:avLst/>
              <a:gdLst/>
              <a:ahLst/>
              <a:rect l="l" t="t" r="r" b="b"/>
              <a:pathLst>
                <a:path w="124" h="133">
                  <a:moveTo>
                    <a:pt x="76" y="133"/>
                  </a:moveTo>
                  <a:cubicBezTo>
                    <a:pt x="124" y="90"/>
                    <a:pt x="124" y="90"/>
                    <a:pt x="124" y="90"/>
                  </a:cubicBezTo>
                  <a:cubicBezTo>
                    <a:pt x="124" y="90"/>
                    <a:pt x="119" y="36"/>
                    <a:pt x="76" y="28"/>
                  </a:cubicBezTo>
                  <a:cubicBezTo>
                    <a:pt x="42" y="49"/>
                    <a:pt x="42" y="49"/>
                    <a:pt x="42" y="49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5" y="22"/>
                    <a:pt x="51" y="0"/>
                    <a:pt x="33" y="8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6" y="133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772"/>
            <p:cNvSpPr/>
            <p:nvPr/>
          </p:nvSpPr>
          <p:spPr>
            <a:xfrm flipH="1">
              <a:off x="7959600" y="2181240"/>
              <a:ext cx="728640" cy="1274760"/>
            </a:xfrm>
            <a:custGeom>
              <a:avLst/>
              <a:gdLst/>
              <a:ahLst/>
              <a:rect l="l" t="t" r="r" b="b"/>
              <a:pathLst>
                <a:path w="425" h="743">
                  <a:moveTo>
                    <a:pt x="389" y="0"/>
                  </a:moveTo>
                  <a:cubicBezTo>
                    <a:pt x="389" y="0"/>
                    <a:pt x="72" y="285"/>
                    <a:pt x="0" y="728"/>
                  </a:cubicBezTo>
                  <a:cubicBezTo>
                    <a:pt x="63" y="743"/>
                    <a:pt x="63" y="743"/>
                    <a:pt x="63" y="743"/>
                  </a:cubicBezTo>
                  <a:cubicBezTo>
                    <a:pt x="63" y="743"/>
                    <a:pt x="81" y="384"/>
                    <a:pt x="425" y="53"/>
                  </a:cubicBezTo>
                  <a:lnTo>
                    <a:pt x="389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773"/>
            <p:cNvSpPr/>
            <p:nvPr/>
          </p:nvSpPr>
          <p:spPr>
            <a:xfrm flipH="1">
              <a:off x="8743320" y="3922920"/>
              <a:ext cx="50760" cy="3492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20"/>
                  </a:moveTo>
                  <a:cubicBezTo>
                    <a:pt x="0" y="20"/>
                    <a:pt x="12" y="19"/>
                    <a:pt x="29" y="0"/>
                  </a:cubicBezTo>
                  <a:cubicBezTo>
                    <a:pt x="29" y="0"/>
                    <a:pt x="16" y="6"/>
                    <a:pt x="3" y="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774"/>
            <p:cNvSpPr/>
            <p:nvPr/>
          </p:nvSpPr>
          <p:spPr>
            <a:xfrm flipH="1">
              <a:off x="9259920" y="3143160"/>
              <a:ext cx="33120" cy="410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0" y="24"/>
                  </a:moveTo>
                  <a:cubicBezTo>
                    <a:pt x="0" y="24"/>
                    <a:pt x="2" y="2"/>
                    <a:pt x="18" y="0"/>
                  </a:cubicBezTo>
                  <a:cubicBezTo>
                    <a:pt x="18" y="0"/>
                    <a:pt x="11" y="10"/>
                    <a:pt x="18" y="16"/>
                  </a:cubicBezTo>
                  <a:cubicBezTo>
                    <a:pt x="20" y="20"/>
                    <a:pt x="20" y="20"/>
                    <a:pt x="20" y="2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775"/>
            <p:cNvSpPr/>
            <p:nvPr/>
          </p:nvSpPr>
          <p:spPr>
            <a:xfrm flipH="1">
              <a:off x="9271080" y="3092400"/>
              <a:ext cx="193680" cy="87120"/>
            </a:xfrm>
            <a:custGeom>
              <a:avLst/>
              <a:gdLst/>
              <a:ahLst/>
              <a:rect l="l" t="t" r="r" b="b"/>
              <a:pathLst>
                <a:path w="113" h="51">
                  <a:moveTo>
                    <a:pt x="10" y="51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44" y="0"/>
                    <a:pt x="110" y="33"/>
                    <a:pt x="113" y="35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10" y="42"/>
                    <a:pt x="110" y="42"/>
                    <a:pt x="110" y="42"/>
                  </a:cubicBezTo>
                  <a:cubicBezTo>
                    <a:pt x="106" y="49"/>
                    <a:pt x="106" y="49"/>
                    <a:pt x="106" y="49"/>
                  </a:cubicBezTo>
                  <a:cubicBezTo>
                    <a:pt x="105" y="49"/>
                    <a:pt x="46" y="19"/>
                    <a:pt x="10" y="51"/>
                  </a:cubicBez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776"/>
            <p:cNvSpPr/>
            <p:nvPr/>
          </p:nvSpPr>
          <p:spPr>
            <a:xfrm flipH="1">
              <a:off x="9268920" y="3160800"/>
              <a:ext cx="160200" cy="134640"/>
            </a:xfrm>
            <a:custGeom>
              <a:avLst/>
              <a:gdLst/>
              <a:ahLst/>
              <a:rect l="l" t="t" r="r" b="b"/>
              <a:pathLst>
                <a:path w="93" h="78">
                  <a:moveTo>
                    <a:pt x="13" y="78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21" y="41"/>
                    <a:pt x="81" y="1"/>
                    <a:pt x="84" y="0"/>
                  </a:cubicBezTo>
                  <a:cubicBezTo>
                    <a:pt x="93" y="13"/>
                    <a:pt x="93" y="13"/>
                    <a:pt x="93" y="13"/>
                  </a:cubicBezTo>
                  <a:cubicBezTo>
                    <a:pt x="92" y="13"/>
                    <a:pt x="32" y="53"/>
                    <a:pt x="13" y="78"/>
                  </a:cubicBez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777"/>
            <p:cNvSpPr/>
            <p:nvPr/>
          </p:nvSpPr>
          <p:spPr>
            <a:xfrm flipH="1">
              <a:off x="8784720" y="3171960"/>
              <a:ext cx="507960" cy="785880"/>
            </a:xfrm>
            <a:custGeom>
              <a:avLst/>
              <a:gdLst/>
              <a:ahLst/>
              <a:rect l="l" t="t" r="r" b="b"/>
              <a:pathLst>
                <a:path w="296" h="458">
                  <a:moveTo>
                    <a:pt x="292" y="458"/>
                  </a:moveTo>
                  <a:cubicBezTo>
                    <a:pt x="243" y="449"/>
                    <a:pt x="179" y="370"/>
                    <a:pt x="101" y="223"/>
                  </a:cubicBezTo>
                  <a:cubicBezTo>
                    <a:pt x="44" y="115"/>
                    <a:pt x="0" y="8"/>
                    <a:pt x="0" y="7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66" y="116"/>
                    <a:pt x="210" y="422"/>
                    <a:pt x="296" y="438"/>
                  </a:cubicBezTo>
                  <a:lnTo>
                    <a:pt x="292" y="458"/>
                  </a:lnTo>
                  <a:close/>
                </a:path>
              </a:pathLst>
            </a:custGeom>
            <a:solidFill>
              <a:srgbClr val="757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1" name="组合 3"/>
          <p:cNvGrpSpPr/>
          <p:nvPr/>
        </p:nvGrpSpPr>
        <p:grpSpPr>
          <a:xfrm>
            <a:off x="1057320" y="2643120"/>
            <a:ext cx="3311640" cy="1467000"/>
            <a:chOff x="1057320" y="2643120"/>
            <a:chExt cx="3311640" cy="1467000"/>
          </a:xfrm>
        </p:grpSpPr>
        <p:sp>
          <p:nvSpPr>
            <p:cNvPr id="1602" name="文本框 105"/>
            <p:cNvSpPr/>
            <p:nvPr/>
          </p:nvSpPr>
          <p:spPr>
            <a:xfrm>
              <a:off x="1123200" y="2692080"/>
              <a:ext cx="324576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34230" y="116384"/>
                  </a:moveTo>
                  <a:lnTo>
                    <a:pt x="205382" y="116384"/>
                  </a:lnTo>
                  <a:lnTo>
                    <a:pt x="205382" y="1006376"/>
                  </a:lnTo>
                  <a:lnTo>
                    <a:pt x="34230" y="1006376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335458" y="13693"/>
                  </a:moveTo>
                  <a:lnTo>
                    <a:pt x="506611" y="13693"/>
                  </a:lnTo>
                  <a:lnTo>
                    <a:pt x="506611" y="1040607"/>
                  </a:lnTo>
                  <a:lnTo>
                    <a:pt x="164306" y="1417142"/>
                  </a:lnTo>
                  <a:lnTo>
                    <a:pt x="0" y="1382911"/>
                  </a:lnTo>
                  <a:lnTo>
                    <a:pt x="335458" y="999530"/>
                  </a:lnTo>
                  <a:close/>
                  <a:moveTo>
                    <a:pt x="999529" y="0"/>
                  </a:moveTo>
                  <a:lnTo>
                    <a:pt x="1170682" y="0"/>
                  </a:lnTo>
                  <a:lnTo>
                    <a:pt x="1170682" y="102692"/>
                  </a:lnTo>
                  <a:lnTo>
                    <a:pt x="1499294" y="102692"/>
                  </a:lnTo>
                  <a:lnTo>
                    <a:pt x="1499294" y="1334989"/>
                  </a:lnTo>
                  <a:lnTo>
                    <a:pt x="1266527" y="1334989"/>
                  </a:lnTo>
                  <a:lnTo>
                    <a:pt x="1266527" y="1184375"/>
                  </a:lnTo>
                  <a:lnTo>
                    <a:pt x="1328142" y="1184375"/>
                  </a:lnTo>
                  <a:lnTo>
                    <a:pt x="1328142" y="239614"/>
                  </a:lnTo>
                  <a:lnTo>
                    <a:pt x="1170682" y="239614"/>
                  </a:lnTo>
                  <a:lnTo>
                    <a:pt x="1170682" y="1417142"/>
                  </a:lnTo>
                  <a:lnTo>
                    <a:pt x="999529" y="1417142"/>
                  </a:lnTo>
                  <a:lnTo>
                    <a:pt x="999529" y="239614"/>
                  </a:lnTo>
                  <a:lnTo>
                    <a:pt x="842069" y="239614"/>
                  </a:lnTo>
                  <a:lnTo>
                    <a:pt x="842069" y="1334989"/>
                  </a:lnTo>
                  <a:lnTo>
                    <a:pt x="670917" y="1334989"/>
                  </a:lnTo>
                  <a:lnTo>
                    <a:pt x="670917" y="102692"/>
                  </a:lnTo>
                  <a:lnTo>
                    <a:pt x="999529" y="102692"/>
                  </a:lnTo>
                  <a:close/>
                </a:path>
              </a:pathLst>
            </a:custGeom>
            <a:solidFill>
              <a:srgbClr val="a7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文本框 107"/>
            <p:cNvSpPr/>
            <p:nvPr/>
          </p:nvSpPr>
          <p:spPr>
            <a:xfrm>
              <a:off x="1057320" y="2643120"/>
              <a:ext cx="324576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34230" y="116384"/>
                  </a:moveTo>
                  <a:lnTo>
                    <a:pt x="205383" y="116384"/>
                  </a:lnTo>
                  <a:lnTo>
                    <a:pt x="205383" y="1006376"/>
                  </a:lnTo>
                  <a:lnTo>
                    <a:pt x="34230" y="1006376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335458" y="13693"/>
                  </a:moveTo>
                  <a:lnTo>
                    <a:pt x="506611" y="13693"/>
                  </a:lnTo>
                  <a:lnTo>
                    <a:pt x="506611" y="1040607"/>
                  </a:lnTo>
                  <a:lnTo>
                    <a:pt x="164306" y="1417142"/>
                  </a:lnTo>
                  <a:lnTo>
                    <a:pt x="0" y="1382911"/>
                  </a:lnTo>
                  <a:lnTo>
                    <a:pt x="335458" y="999530"/>
                  </a:lnTo>
                  <a:close/>
                  <a:moveTo>
                    <a:pt x="999529" y="0"/>
                  </a:moveTo>
                  <a:lnTo>
                    <a:pt x="1170682" y="0"/>
                  </a:lnTo>
                  <a:lnTo>
                    <a:pt x="1170682" y="102692"/>
                  </a:lnTo>
                  <a:lnTo>
                    <a:pt x="1499294" y="102692"/>
                  </a:lnTo>
                  <a:lnTo>
                    <a:pt x="1499294" y="1334989"/>
                  </a:lnTo>
                  <a:lnTo>
                    <a:pt x="1266527" y="1334989"/>
                  </a:lnTo>
                  <a:lnTo>
                    <a:pt x="1266527" y="1184375"/>
                  </a:lnTo>
                  <a:lnTo>
                    <a:pt x="1328142" y="1184375"/>
                  </a:lnTo>
                  <a:lnTo>
                    <a:pt x="1328142" y="239614"/>
                  </a:lnTo>
                  <a:lnTo>
                    <a:pt x="1170682" y="239614"/>
                  </a:lnTo>
                  <a:lnTo>
                    <a:pt x="1170682" y="1417142"/>
                  </a:lnTo>
                  <a:lnTo>
                    <a:pt x="999529" y="1417142"/>
                  </a:lnTo>
                  <a:lnTo>
                    <a:pt x="999529" y="239614"/>
                  </a:lnTo>
                  <a:lnTo>
                    <a:pt x="842069" y="239614"/>
                  </a:lnTo>
                  <a:lnTo>
                    <a:pt x="842069" y="1334989"/>
                  </a:lnTo>
                  <a:lnTo>
                    <a:pt x="670917" y="1334989"/>
                  </a:lnTo>
                  <a:lnTo>
                    <a:pt x="670917" y="102692"/>
                  </a:lnTo>
                  <a:lnTo>
                    <a:pt x="999529" y="1026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4" name="文本框 8199"/>
          <p:cNvSpPr/>
          <p:nvPr/>
        </p:nvSpPr>
        <p:spPr>
          <a:xfrm>
            <a:off x="2139840" y="5240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1" dur="500" fill="hold"/>
                                        <p:tgtEl>
                                          <p:spTgt spid="14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2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0.16745 -3.7037E-006 E">
                                      <p:cBhvr>
                                        <p:cTn id="873" dur="5250" fill="hold"/>
                                        <p:tgtEl>
                                          <p:spTgt spid="1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-1.85185E-006 L 0.0849 -1.85185E-006 E">
                                      <p:cBhvr>
                                        <p:cTn id="875" dur="5250" fill="hold"/>
                                        <p:tgtEl>
                                          <p:spTgt spid="1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6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0573 4.81481E-006 E">
                                      <p:cBhvr>
                                        <p:cTn id="877" dur="5250" fill="hold"/>
                                        <p:tgtEl>
                                          <p:spTgt spid="1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dur="indefinite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-1.85185E-006 L 0.0849 -1.85185E-006 E">
                                      <p:cBhvr>
                                        <p:cTn id="879" dur="5250" fill="hold"/>
                                        <p:tgtEl>
                                          <p:spTgt spid="1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2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2" dur="1250" autoRev="1" fill="hold"/>
                                        <p:tgtEl>
                                          <p:spTgt spid="14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5" dur="1250" autoRev="1" fill="hold"/>
                                        <p:tgtEl>
                                          <p:spTgt spid="14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7" dur="2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8" dur="1250" autoRev="1" fill="hold"/>
                                        <p:tgtEl>
                                          <p:spTgt spid="14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矩形 651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文本框 479"/>
          <p:cNvSpPr/>
          <p:nvPr/>
        </p:nvSpPr>
        <p:spPr>
          <a:xfrm>
            <a:off x="1125360" y="976320"/>
            <a:ext cx="1543320" cy="407880"/>
          </a:xfrm>
          <a:custGeom>
            <a:avLst/>
            <a:gdLst/>
            <a:ahLst/>
            <a:rect l="l" t="t" r="r" b="b"/>
            <a:pathLst>
              <a:path w="154383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31429" y="17748"/>
                </a:moveTo>
                <a:lnTo>
                  <a:pt x="1543831" y="17748"/>
                </a:lnTo>
                <a:lnTo>
                  <a:pt x="1543831" y="384535"/>
                </a:lnTo>
                <a:lnTo>
                  <a:pt x="1490588" y="384535"/>
                </a:lnTo>
                <a:lnTo>
                  <a:pt x="1490588" y="61131"/>
                </a:lnTo>
                <a:lnTo>
                  <a:pt x="1431429" y="6113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文本框 480"/>
          <p:cNvSpPr/>
          <p:nvPr/>
        </p:nvSpPr>
        <p:spPr>
          <a:xfrm>
            <a:off x="1130400" y="1798560"/>
            <a:ext cx="3456000" cy="416160"/>
          </a:xfrm>
          <a:custGeom>
            <a:avLst/>
            <a:gdLst/>
            <a:ahLst/>
            <a:rect l="l" t="t" r="r" b="b"/>
            <a:pathLst>
              <a:path w="3454896" h="416087">
                <a:moveTo>
                  <a:pt x="2184945" y="199170"/>
                </a:moveTo>
                <a:lnTo>
                  <a:pt x="2234245" y="203114"/>
                </a:lnTo>
                <a:lnTo>
                  <a:pt x="2225864" y="236637"/>
                </a:lnTo>
                <a:lnTo>
                  <a:pt x="2433414" y="236637"/>
                </a:lnTo>
                <a:lnTo>
                  <a:pt x="2427498" y="414115"/>
                </a:lnTo>
                <a:lnTo>
                  <a:pt x="2291432" y="414115"/>
                </a:lnTo>
                <a:lnTo>
                  <a:pt x="2289460" y="370731"/>
                </a:lnTo>
                <a:lnTo>
                  <a:pt x="2378199" y="370731"/>
                </a:lnTo>
                <a:lnTo>
                  <a:pt x="2382143" y="278048"/>
                </a:lnTo>
                <a:lnTo>
                  <a:pt x="2212267" y="278048"/>
                </a:lnTo>
                <a:lnTo>
                  <a:pt x="2070571" y="410171"/>
                </a:lnTo>
                <a:lnTo>
                  <a:pt x="2017328" y="400311"/>
                </a:lnTo>
                <a:lnTo>
                  <a:pt x="2150378" y="278048"/>
                </a:lnTo>
                <a:lnTo>
                  <a:pt x="2027188" y="278048"/>
                </a:lnTo>
                <a:lnTo>
                  <a:pt x="2027188" y="236637"/>
                </a:lnTo>
                <a:lnTo>
                  <a:pt x="2174240" y="236637"/>
                </a:lnTo>
                <a:close/>
                <a:moveTo>
                  <a:pt x="230720" y="199170"/>
                </a:moveTo>
                <a:lnTo>
                  <a:pt x="313543" y="283964"/>
                </a:lnTo>
                <a:lnTo>
                  <a:pt x="270160" y="309600"/>
                </a:lnTo>
                <a:lnTo>
                  <a:pt x="187337" y="222833"/>
                </a:lnTo>
                <a:close/>
                <a:moveTo>
                  <a:pt x="1567718" y="193254"/>
                </a:moveTo>
                <a:lnTo>
                  <a:pt x="1662373" y="240581"/>
                </a:lnTo>
                <a:lnTo>
                  <a:pt x="1618989" y="258329"/>
                </a:lnTo>
                <a:lnTo>
                  <a:pt x="1522363" y="211001"/>
                </a:lnTo>
                <a:close/>
                <a:moveTo>
                  <a:pt x="1794495" y="185366"/>
                </a:moveTo>
                <a:lnTo>
                  <a:pt x="1837878" y="201142"/>
                </a:lnTo>
                <a:lnTo>
                  <a:pt x="1818930" y="278048"/>
                </a:lnTo>
                <a:lnTo>
                  <a:pt x="1938449" y="278048"/>
                </a:lnTo>
                <a:lnTo>
                  <a:pt x="1938449" y="317488"/>
                </a:lnTo>
                <a:lnTo>
                  <a:pt x="1809213" y="317488"/>
                </a:lnTo>
                <a:lnTo>
                  <a:pt x="1804355" y="337208"/>
                </a:lnTo>
                <a:lnTo>
                  <a:pt x="1940421" y="382563"/>
                </a:lnTo>
                <a:lnTo>
                  <a:pt x="1910841" y="414115"/>
                </a:lnTo>
                <a:lnTo>
                  <a:pt x="1778719" y="372703"/>
                </a:lnTo>
                <a:lnTo>
                  <a:pt x="1540110" y="414115"/>
                </a:lnTo>
                <a:lnTo>
                  <a:pt x="1512503" y="382563"/>
                </a:lnTo>
                <a:lnTo>
                  <a:pt x="1757027" y="335236"/>
                </a:lnTo>
                <a:lnTo>
                  <a:pt x="1761464" y="317488"/>
                </a:lnTo>
                <a:lnTo>
                  <a:pt x="1520391" y="317488"/>
                </a:lnTo>
                <a:lnTo>
                  <a:pt x="1520391" y="278048"/>
                </a:lnTo>
                <a:lnTo>
                  <a:pt x="1771324" y="278048"/>
                </a:lnTo>
                <a:close/>
                <a:moveTo>
                  <a:pt x="1664345" y="169590"/>
                </a:moveTo>
                <a:lnTo>
                  <a:pt x="1758999" y="216917"/>
                </a:lnTo>
                <a:lnTo>
                  <a:pt x="1715616" y="234665"/>
                </a:lnTo>
                <a:lnTo>
                  <a:pt x="1618989" y="187338"/>
                </a:lnTo>
                <a:close/>
                <a:moveTo>
                  <a:pt x="2518209" y="153814"/>
                </a:moveTo>
                <a:lnTo>
                  <a:pt x="2719350" y="153814"/>
                </a:lnTo>
                <a:lnTo>
                  <a:pt x="2719350" y="197198"/>
                </a:lnTo>
                <a:lnTo>
                  <a:pt x="2604976" y="197198"/>
                </a:lnTo>
                <a:lnTo>
                  <a:pt x="2573424" y="360871"/>
                </a:lnTo>
                <a:lnTo>
                  <a:pt x="2672023" y="360871"/>
                </a:lnTo>
                <a:lnTo>
                  <a:pt x="2660191" y="260301"/>
                </a:lnTo>
                <a:lnTo>
                  <a:pt x="2701602" y="240581"/>
                </a:lnTo>
                <a:lnTo>
                  <a:pt x="2725266" y="404255"/>
                </a:lnTo>
                <a:lnTo>
                  <a:pt x="2518209" y="404255"/>
                </a:lnTo>
                <a:lnTo>
                  <a:pt x="2557648" y="197198"/>
                </a:lnTo>
                <a:lnTo>
                  <a:pt x="2518209" y="197198"/>
                </a:lnTo>
                <a:close/>
                <a:moveTo>
                  <a:pt x="2027188" y="124235"/>
                </a:moveTo>
                <a:lnTo>
                  <a:pt x="2437358" y="124235"/>
                </a:lnTo>
                <a:lnTo>
                  <a:pt x="2437358" y="203114"/>
                </a:lnTo>
                <a:lnTo>
                  <a:pt x="2390030" y="203114"/>
                </a:lnTo>
                <a:lnTo>
                  <a:pt x="2390030" y="167618"/>
                </a:lnTo>
                <a:lnTo>
                  <a:pt x="2074515" y="167618"/>
                </a:lnTo>
                <a:lnTo>
                  <a:pt x="2074515" y="203114"/>
                </a:lnTo>
                <a:lnTo>
                  <a:pt x="2027188" y="203114"/>
                </a:lnTo>
                <a:close/>
                <a:moveTo>
                  <a:pt x="2528069" y="23664"/>
                </a:moveTo>
                <a:lnTo>
                  <a:pt x="2711462" y="23664"/>
                </a:lnTo>
                <a:lnTo>
                  <a:pt x="2711462" y="65075"/>
                </a:lnTo>
                <a:lnTo>
                  <a:pt x="2528069" y="65075"/>
                </a:lnTo>
                <a:close/>
                <a:moveTo>
                  <a:pt x="1198959" y="9860"/>
                </a:moveTo>
                <a:lnTo>
                  <a:pt x="1246286" y="9860"/>
                </a:lnTo>
                <a:lnTo>
                  <a:pt x="1246286" y="157758"/>
                </a:lnTo>
                <a:lnTo>
                  <a:pt x="1372493" y="157758"/>
                </a:lnTo>
                <a:lnTo>
                  <a:pt x="1372493" y="27608"/>
                </a:lnTo>
                <a:lnTo>
                  <a:pt x="1419820" y="27608"/>
                </a:lnTo>
                <a:lnTo>
                  <a:pt x="1419820" y="201142"/>
                </a:lnTo>
                <a:lnTo>
                  <a:pt x="1246286" y="201142"/>
                </a:lnTo>
                <a:lnTo>
                  <a:pt x="1246286" y="370731"/>
                </a:lnTo>
                <a:lnTo>
                  <a:pt x="1380381" y="370731"/>
                </a:lnTo>
                <a:lnTo>
                  <a:pt x="1380381" y="254385"/>
                </a:lnTo>
                <a:lnTo>
                  <a:pt x="1427708" y="254385"/>
                </a:lnTo>
                <a:lnTo>
                  <a:pt x="1427708" y="414115"/>
                </a:lnTo>
                <a:lnTo>
                  <a:pt x="1017538" y="414115"/>
                </a:lnTo>
                <a:lnTo>
                  <a:pt x="1017538" y="254385"/>
                </a:lnTo>
                <a:lnTo>
                  <a:pt x="1064865" y="254385"/>
                </a:lnTo>
                <a:lnTo>
                  <a:pt x="1064865" y="370731"/>
                </a:lnTo>
                <a:lnTo>
                  <a:pt x="1198959" y="370731"/>
                </a:lnTo>
                <a:lnTo>
                  <a:pt x="1198959" y="201142"/>
                </a:lnTo>
                <a:lnTo>
                  <a:pt x="1025425" y="201142"/>
                </a:lnTo>
                <a:lnTo>
                  <a:pt x="1025425" y="27608"/>
                </a:lnTo>
                <a:lnTo>
                  <a:pt x="1072753" y="27608"/>
                </a:lnTo>
                <a:lnTo>
                  <a:pt x="1072753" y="157758"/>
                </a:lnTo>
                <a:lnTo>
                  <a:pt x="1198959" y="157758"/>
                </a:lnTo>
                <a:close/>
                <a:moveTo>
                  <a:pt x="903163" y="9860"/>
                </a:moveTo>
                <a:lnTo>
                  <a:pt x="934715" y="72963"/>
                </a:lnTo>
                <a:lnTo>
                  <a:pt x="905135" y="108459"/>
                </a:lnTo>
                <a:lnTo>
                  <a:pt x="873584" y="45356"/>
                </a:lnTo>
                <a:close/>
                <a:moveTo>
                  <a:pt x="796677" y="9860"/>
                </a:moveTo>
                <a:lnTo>
                  <a:pt x="797654" y="38791"/>
                </a:lnTo>
                <a:lnTo>
                  <a:pt x="845976" y="35496"/>
                </a:lnTo>
                <a:lnTo>
                  <a:pt x="855836" y="72963"/>
                </a:lnTo>
                <a:lnTo>
                  <a:pt x="798961" y="77487"/>
                </a:lnTo>
                <a:lnTo>
                  <a:pt x="801487" y="152233"/>
                </a:lnTo>
                <a:lnTo>
                  <a:pt x="911051" y="130151"/>
                </a:lnTo>
                <a:lnTo>
                  <a:pt x="930771" y="165646"/>
                </a:lnTo>
                <a:lnTo>
                  <a:pt x="802811" y="191436"/>
                </a:lnTo>
                <a:lnTo>
                  <a:pt x="806017" y="286341"/>
                </a:lnTo>
                <a:lnTo>
                  <a:pt x="901191" y="220861"/>
                </a:lnTo>
                <a:lnTo>
                  <a:pt x="936687" y="246497"/>
                </a:lnTo>
                <a:lnTo>
                  <a:pt x="832021" y="319088"/>
                </a:lnTo>
                <a:lnTo>
                  <a:pt x="936687" y="390451"/>
                </a:lnTo>
                <a:lnTo>
                  <a:pt x="901191" y="414115"/>
                </a:lnTo>
                <a:lnTo>
                  <a:pt x="794589" y="345049"/>
                </a:lnTo>
                <a:lnTo>
                  <a:pt x="692162" y="416087"/>
                </a:lnTo>
                <a:lnTo>
                  <a:pt x="654694" y="390451"/>
                </a:lnTo>
                <a:lnTo>
                  <a:pt x="760987" y="317322"/>
                </a:lnTo>
                <a:lnTo>
                  <a:pt x="757271" y="200615"/>
                </a:lnTo>
                <a:lnTo>
                  <a:pt x="676386" y="216917"/>
                </a:lnTo>
                <a:lnTo>
                  <a:pt x="656666" y="181422"/>
                </a:lnTo>
                <a:lnTo>
                  <a:pt x="756022" y="161397"/>
                </a:lnTo>
                <a:lnTo>
                  <a:pt x="753465" y="81106"/>
                </a:lnTo>
                <a:lnTo>
                  <a:pt x="682302" y="86767"/>
                </a:lnTo>
                <a:lnTo>
                  <a:pt x="672442" y="47328"/>
                </a:lnTo>
                <a:lnTo>
                  <a:pt x="752216" y="41889"/>
                </a:lnTo>
                <a:lnTo>
                  <a:pt x="751321" y="13804"/>
                </a:lnTo>
                <a:close/>
                <a:moveTo>
                  <a:pt x="1701812" y="7888"/>
                </a:moveTo>
                <a:lnTo>
                  <a:pt x="1749139" y="7888"/>
                </a:lnTo>
                <a:lnTo>
                  <a:pt x="1749139" y="27608"/>
                </a:lnTo>
                <a:lnTo>
                  <a:pt x="1936477" y="27608"/>
                </a:lnTo>
                <a:lnTo>
                  <a:pt x="1936477" y="69019"/>
                </a:lnTo>
                <a:lnTo>
                  <a:pt x="1749139" y="69019"/>
                </a:lnTo>
                <a:lnTo>
                  <a:pt x="1749139" y="102543"/>
                </a:lnTo>
                <a:lnTo>
                  <a:pt x="1944365" y="102543"/>
                </a:lnTo>
                <a:lnTo>
                  <a:pt x="1910841" y="232693"/>
                </a:lnTo>
                <a:lnTo>
                  <a:pt x="1871402" y="201142"/>
                </a:lnTo>
                <a:lnTo>
                  <a:pt x="1887178" y="143954"/>
                </a:lnTo>
                <a:lnTo>
                  <a:pt x="1520391" y="143954"/>
                </a:lnTo>
                <a:lnTo>
                  <a:pt x="1520391" y="102543"/>
                </a:lnTo>
                <a:lnTo>
                  <a:pt x="1701812" y="102543"/>
                </a:lnTo>
                <a:lnTo>
                  <a:pt x="1701812" y="69019"/>
                </a:lnTo>
                <a:lnTo>
                  <a:pt x="1518419" y="69019"/>
                </a:lnTo>
                <a:lnTo>
                  <a:pt x="1518419" y="27608"/>
                </a:lnTo>
                <a:lnTo>
                  <a:pt x="1701812" y="27608"/>
                </a:lnTo>
                <a:close/>
                <a:moveTo>
                  <a:pt x="191281" y="7888"/>
                </a:moveTo>
                <a:lnTo>
                  <a:pt x="238608" y="15776"/>
                </a:lnTo>
                <a:lnTo>
                  <a:pt x="202254" y="90711"/>
                </a:lnTo>
                <a:lnTo>
                  <a:pt x="422002" y="90711"/>
                </a:lnTo>
                <a:lnTo>
                  <a:pt x="412142" y="414115"/>
                </a:lnTo>
                <a:lnTo>
                  <a:pt x="287908" y="414115"/>
                </a:lnTo>
                <a:lnTo>
                  <a:pt x="287908" y="370731"/>
                </a:lnTo>
                <a:lnTo>
                  <a:pt x="364814" y="370731"/>
                </a:lnTo>
                <a:lnTo>
                  <a:pt x="370730" y="132123"/>
                </a:lnTo>
                <a:lnTo>
                  <a:pt x="182163" y="132123"/>
                </a:lnTo>
                <a:lnTo>
                  <a:pt x="45355" y="414115"/>
                </a:lnTo>
                <a:lnTo>
                  <a:pt x="0" y="404255"/>
                </a:lnTo>
                <a:lnTo>
                  <a:pt x="131327" y="132123"/>
                </a:lnTo>
                <a:lnTo>
                  <a:pt x="7888" y="132123"/>
                </a:lnTo>
                <a:lnTo>
                  <a:pt x="7888" y="90711"/>
                </a:lnTo>
                <a:lnTo>
                  <a:pt x="151312" y="90711"/>
                </a:lnTo>
                <a:close/>
                <a:moveTo>
                  <a:pt x="72963" y="7888"/>
                </a:moveTo>
                <a:lnTo>
                  <a:pt x="122262" y="51272"/>
                </a:lnTo>
                <a:lnTo>
                  <a:pt x="74935" y="69019"/>
                </a:lnTo>
                <a:lnTo>
                  <a:pt x="25635" y="25636"/>
                </a:lnTo>
                <a:close/>
                <a:moveTo>
                  <a:pt x="3163044" y="3944"/>
                </a:moveTo>
                <a:lnTo>
                  <a:pt x="3208399" y="17748"/>
                </a:lnTo>
                <a:lnTo>
                  <a:pt x="3198539" y="47328"/>
                </a:lnTo>
                <a:lnTo>
                  <a:pt x="3454896" y="47328"/>
                </a:lnTo>
                <a:lnTo>
                  <a:pt x="3447008" y="414115"/>
                </a:lnTo>
                <a:lnTo>
                  <a:pt x="3332633" y="414115"/>
                </a:lnTo>
                <a:lnTo>
                  <a:pt x="3332633" y="370731"/>
                </a:lnTo>
                <a:lnTo>
                  <a:pt x="3395737" y="370731"/>
                </a:lnTo>
                <a:lnTo>
                  <a:pt x="3403624" y="90711"/>
                </a:lnTo>
                <a:lnTo>
                  <a:pt x="3184078" y="90711"/>
                </a:lnTo>
                <a:lnTo>
                  <a:pt x="3076277" y="414115"/>
                </a:lnTo>
                <a:lnTo>
                  <a:pt x="3030922" y="400311"/>
                </a:lnTo>
                <a:lnTo>
                  <a:pt x="3134121" y="90711"/>
                </a:lnTo>
                <a:lnTo>
                  <a:pt x="3038809" y="90711"/>
                </a:lnTo>
                <a:lnTo>
                  <a:pt x="3038809" y="47328"/>
                </a:lnTo>
                <a:lnTo>
                  <a:pt x="3148583" y="47328"/>
                </a:lnTo>
                <a:close/>
                <a:moveTo>
                  <a:pt x="2121842" y="3944"/>
                </a:moveTo>
                <a:lnTo>
                  <a:pt x="2171142" y="3944"/>
                </a:lnTo>
                <a:lnTo>
                  <a:pt x="2171142" y="23664"/>
                </a:lnTo>
                <a:lnTo>
                  <a:pt x="2293404" y="23664"/>
                </a:lnTo>
                <a:lnTo>
                  <a:pt x="2293404" y="3944"/>
                </a:lnTo>
                <a:lnTo>
                  <a:pt x="2342703" y="3944"/>
                </a:lnTo>
                <a:lnTo>
                  <a:pt x="2342703" y="23664"/>
                </a:lnTo>
                <a:lnTo>
                  <a:pt x="2439330" y="23664"/>
                </a:lnTo>
                <a:lnTo>
                  <a:pt x="2439330" y="67047"/>
                </a:lnTo>
                <a:lnTo>
                  <a:pt x="2342703" y="67047"/>
                </a:lnTo>
                <a:lnTo>
                  <a:pt x="2342703" y="96627"/>
                </a:lnTo>
                <a:lnTo>
                  <a:pt x="2293404" y="96627"/>
                </a:lnTo>
                <a:lnTo>
                  <a:pt x="2293404" y="67047"/>
                </a:lnTo>
                <a:lnTo>
                  <a:pt x="2171142" y="67047"/>
                </a:lnTo>
                <a:lnTo>
                  <a:pt x="2171142" y="96627"/>
                </a:lnTo>
                <a:lnTo>
                  <a:pt x="2121842" y="96627"/>
                </a:lnTo>
                <a:lnTo>
                  <a:pt x="2121842" y="67047"/>
                </a:lnTo>
                <a:lnTo>
                  <a:pt x="2027188" y="67047"/>
                </a:lnTo>
                <a:lnTo>
                  <a:pt x="2027188" y="23664"/>
                </a:lnTo>
                <a:lnTo>
                  <a:pt x="2121842" y="23664"/>
                </a:lnTo>
                <a:close/>
                <a:moveTo>
                  <a:pt x="2800201" y="0"/>
                </a:moveTo>
                <a:lnTo>
                  <a:pt x="2847528" y="9860"/>
                </a:lnTo>
                <a:lnTo>
                  <a:pt x="2844666" y="35496"/>
                </a:lnTo>
                <a:lnTo>
                  <a:pt x="2948099" y="35496"/>
                </a:lnTo>
                <a:lnTo>
                  <a:pt x="2944155" y="414115"/>
                </a:lnTo>
                <a:lnTo>
                  <a:pt x="2869220" y="414115"/>
                </a:lnTo>
                <a:lnTo>
                  <a:pt x="2869220" y="368759"/>
                </a:lnTo>
                <a:lnTo>
                  <a:pt x="2892884" y="368759"/>
                </a:lnTo>
                <a:lnTo>
                  <a:pt x="2898799" y="78879"/>
                </a:lnTo>
                <a:lnTo>
                  <a:pt x="2839822" y="78879"/>
                </a:lnTo>
                <a:lnTo>
                  <a:pt x="2802173" y="416087"/>
                </a:lnTo>
                <a:lnTo>
                  <a:pt x="2756817" y="406227"/>
                </a:lnTo>
                <a:lnTo>
                  <a:pt x="2791777" y="78879"/>
                </a:lnTo>
                <a:lnTo>
                  <a:pt x="2756817" y="78879"/>
                </a:lnTo>
                <a:lnTo>
                  <a:pt x="2756817" y="35496"/>
                </a:lnTo>
                <a:lnTo>
                  <a:pt x="2796410" y="35496"/>
                </a:lnTo>
                <a:close/>
                <a:moveTo>
                  <a:pt x="528488" y="0"/>
                </a:moveTo>
                <a:lnTo>
                  <a:pt x="567928" y="25636"/>
                </a:lnTo>
                <a:lnTo>
                  <a:pt x="560839" y="53244"/>
                </a:lnTo>
                <a:lnTo>
                  <a:pt x="642863" y="53244"/>
                </a:lnTo>
                <a:lnTo>
                  <a:pt x="642863" y="94655"/>
                </a:lnTo>
                <a:lnTo>
                  <a:pt x="550207" y="94655"/>
                </a:lnTo>
                <a:lnTo>
                  <a:pt x="541093" y="130151"/>
                </a:lnTo>
                <a:lnTo>
                  <a:pt x="629059" y="130151"/>
                </a:lnTo>
                <a:lnTo>
                  <a:pt x="629059" y="171562"/>
                </a:lnTo>
                <a:lnTo>
                  <a:pt x="579760" y="171562"/>
                </a:lnTo>
                <a:lnTo>
                  <a:pt x="579760" y="211001"/>
                </a:lnTo>
                <a:lnTo>
                  <a:pt x="644835" y="211001"/>
                </a:lnTo>
                <a:lnTo>
                  <a:pt x="644835" y="254385"/>
                </a:lnTo>
                <a:lnTo>
                  <a:pt x="579760" y="254385"/>
                </a:lnTo>
                <a:lnTo>
                  <a:pt x="579760" y="332231"/>
                </a:lnTo>
                <a:lnTo>
                  <a:pt x="623143" y="311572"/>
                </a:lnTo>
                <a:lnTo>
                  <a:pt x="633003" y="352984"/>
                </a:lnTo>
                <a:lnTo>
                  <a:pt x="510741" y="412143"/>
                </a:lnTo>
                <a:lnTo>
                  <a:pt x="498909" y="370731"/>
                </a:lnTo>
                <a:lnTo>
                  <a:pt x="530460" y="355707"/>
                </a:lnTo>
                <a:lnTo>
                  <a:pt x="530460" y="254385"/>
                </a:lnTo>
                <a:lnTo>
                  <a:pt x="498909" y="254385"/>
                </a:lnTo>
                <a:lnTo>
                  <a:pt x="498909" y="211001"/>
                </a:lnTo>
                <a:lnTo>
                  <a:pt x="530460" y="211001"/>
                </a:lnTo>
                <a:lnTo>
                  <a:pt x="530460" y="171562"/>
                </a:lnTo>
                <a:lnTo>
                  <a:pt x="492993" y="1459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8" name="组合 6"/>
          <p:cNvGrpSpPr/>
          <p:nvPr/>
        </p:nvGrpSpPr>
        <p:grpSpPr>
          <a:xfrm>
            <a:off x="5560920" y="4059360"/>
            <a:ext cx="1747800" cy="2228760"/>
            <a:chOff x="5560920" y="4059360"/>
            <a:chExt cx="1747800" cy="2228760"/>
          </a:xfrm>
        </p:grpSpPr>
        <p:sp>
          <p:nvSpPr>
            <p:cNvPr id="1609" name="Freeform 40"/>
            <p:cNvSpPr/>
            <p:nvPr/>
          </p:nvSpPr>
          <p:spPr>
            <a:xfrm>
              <a:off x="6770520" y="4819680"/>
              <a:ext cx="190440" cy="168120"/>
            </a:xfrm>
            <a:custGeom>
              <a:avLst/>
              <a:gdLst/>
              <a:ahLst/>
              <a:rect l="l" t="t" r="r" b="b"/>
              <a:pathLst>
                <a:path w="105" h="92">
                  <a:moveTo>
                    <a:pt x="2" y="91"/>
                  </a:moveTo>
                  <a:cubicBezTo>
                    <a:pt x="2" y="91"/>
                    <a:pt x="6" y="43"/>
                    <a:pt x="27" y="25"/>
                  </a:cubicBezTo>
                  <a:cubicBezTo>
                    <a:pt x="48" y="8"/>
                    <a:pt x="59" y="4"/>
                    <a:pt x="59" y="4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3"/>
                    <a:pt x="74" y="22"/>
                    <a:pt x="102" y="0"/>
                  </a:cubicBezTo>
                  <a:cubicBezTo>
                    <a:pt x="102" y="0"/>
                    <a:pt x="104" y="5"/>
                    <a:pt x="104" y="8"/>
                  </a:cubicBezTo>
                  <a:cubicBezTo>
                    <a:pt x="104" y="11"/>
                    <a:pt x="72" y="29"/>
                    <a:pt x="72" y="29"/>
                  </a:cubicBezTo>
                  <a:cubicBezTo>
                    <a:pt x="102" y="19"/>
                    <a:pt x="102" y="19"/>
                    <a:pt x="102" y="19"/>
                  </a:cubicBezTo>
                  <a:cubicBezTo>
                    <a:pt x="102" y="19"/>
                    <a:pt x="105" y="27"/>
                    <a:pt x="100" y="29"/>
                  </a:cubicBezTo>
                  <a:cubicBezTo>
                    <a:pt x="96" y="30"/>
                    <a:pt x="72" y="37"/>
                    <a:pt x="72" y="37"/>
                  </a:cubicBezTo>
                  <a:cubicBezTo>
                    <a:pt x="92" y="36"/>
                    <a:pt x="92" y="36"/>
                    <a:pt x="92" y="36"/>
                  </a:cubicBezTo>
                  <a:cubicBezTo>
                    <a:pt x="92" y="36"/>
                    <a:pt x="97" y="40"/>
                    <a:pt x="91" y="42"/>
                  </a:cubicBezTo>
                  <a:cubicBezTo>
                    <a:pt x="84" y="45"/>
                    <a:pt x="67" y="44"/>
                    <a:pt x="67" y="44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49"/>
                    <a:pt x="82" y="52"/>
                    <a:pt x="76" y="53"/>
                  </a:cubicBezTo>
                  <a:cubicBezTo>
                    <a:pt x="71" y="55"/>
                    <a:pt x="56" y="49"/>
                    <a:pt x="56" y="49"/>
                  </a:cubicBezTo>
                  <a:cubicBezTo>
                    <a:pt x="56" y="49"/>
                    <a:pt x="26" y="61"/>
                    <a:pt x="23" y="84"/>
                  </a:cubicBezTo>
                  <a:cubicBezTo>
                    <a:pt x="0" y="92"/>
                    <a:pt x="0" y="92"/>
                    <a:pt x="0" y="92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41"/>
            <p:cNvSpPr/>
            <p:nvPr/>
          </p:nvSpPr>
          <p:spPr>
            <a:xfrm>
              <a:off x="5560920" y="5910480"/>
              <a:ext cx="152280" cy="16812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33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43" y="7"/>
                    <a:pt x="55" y="19"/>
                    <a:pt x="46" y="19"/>
                  </a:cubicBezTo>
                  <a:cubicBezTo>
                    <a:pt x="37" y="19"/>
                    <a:pt x="28" y="19"/>
                    <a:pt x="28" y="19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35" y="52"/>
                    <a:pt x="47" y="54"/>
                  </a:cubicBezTo>
                  <a:cubicBezTo>
                    <a:pt x="58" y="57"/>
                    <a:pt x="63" y="68"/>
                    <a:pt x="63" y="68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42"/>
            <p:cNvSpPr/>
            <p:nvPr/>
          </p:nvSpPr>
          <p:spPr>
            <a:xfrm>
              <a:off x="6451560" y="6086520"/>
              <a:ext cx="177480" cy="13968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30" y="0"/>
                  </a:moveTo>
                  <a:cubicBezTo>
                    <a:pt x="6" y="17"/>
                    <a:pt x="6" y="17"/>
                    <a:pt x="6" y="17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9" y="43"/>
                    <a:pt x="19" y="30"/>
                    <a:pt x="20" y="39"/>
                  </a:cubicBezTo>
                  <a:cubicBezTo>
                    <a:pt x="21" y="47"/>
                    <a:pt x="22" y="57"/>
                    <a:pt x="22" y="57"/>
                  </a:cubicBezTo>
                  <a:cubicBezTo>
                    <a:pt x="90" y="77"/>
                    <a:pt x="90" y="77"/>
                    <a:pt x="90" y="77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54" y="46"/>
                    <a:pt x="55" y="34"/>
                  </a:cubicBezTo>
                  <a:cubicBezTo>
                    <a:pt x="56" y="22"/>
                    <a:pt x="67" y="16"/>
                    <a:pt x="67" y="16"/>
                  </a:cubicBezTo>
                  <a:lnTo>
                    <a:pt x="30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43"/>
            <p:cNvSpPr/>
            <p:nvPr/>
          </p:nvSpPr>
          <p:spPr>
            <a:xfrm>
              <a:off x="5667120" y="5596200"/>
              <a:ext cx="996840" cy="691920"/>
            </a:xfrm>
            <a:custGeom>
              <a:avLst/>
              <a:gdLst/>
              <a:ahLst/>
              <a:rect l="l" t="t" r="r" b="b"/>
              <a:pathLst>
                <a:path w="547" h="380">
                  <a:moveTo>
                    <a:pt x="390" y="66"/>
                  </a:moveTo>
                  <a:cubicBezTo>
                    <a:pt x="390" y="66"/>
                    <a:pt x="170" y="0"/>
                    <a:pt x="164" y="56"/>
                  </a:cubicBezTo>
                  <a:cubicBezTo>
                    <a:pt x="158" y="111"/>
                    <a:pt x="182" y="134"/>
                    <a:pt x="182" y="134"/>
                  </a:cubicBezTo>
                  <a:cubicBezTo>
                    <a:pt x="174" y="312"/>
                    <a:pt x="24" y="198"/>
                    <a:pt x="24" y="198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88" y="380"/>
                    <a:pt x="246" y="147"/>
                    <a:pt x="246" y="147"/>
                  </a:cubicBezTo>
                  <a:cubicBezTo>
                    <a:pt x="326" y="161"/>
                    <a:pt x="396" y="117"/>
                    <a:pt x="396" y="117"/>
                  </a:cubicBezTo>
                  <a:cubicBezTo>
                    <a:pt x="396" y="117"/>
                    <a:pt x="547" y="145"/>
                    <a:pt x="458" y="255"/>
                  </a:cubicBezTo>
                  <a:cubicBezTo>
                    <a:pt x="448" y="266"/>
                    <a:pt x="448" y="266"/>
                    <a:pt x="448" y="266"/>
                  </a:cubicBezTo>
                  <a:cubicBezTo>
                    <a:pt x="496" y="299"/>
                    <a:pt x="496" y="299"/>
                    <a:pt x="496" y="299"/>
                  </a:cubicBezTo>
                  <a:cubicBezTo>
                    <a:pt x="496" y="299"/>
                    <a:pt x="526" y="252"/>
                    <a:pt x="535" y="178"/>
                  </a:cubicBezTo>
                  <a:cubicBezTo>
                    <a:pt x="544" y="104"/>
                    <a:pt x="456" y="80"/>
                    <a:pt x="403" y="70"/>
                  </a:cubicBezTo>
                  <a:lnTo>
                    <a:pt x="39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44"/>
            <p:cNvSpPr/>
            <p:nvPr/>
          </p:nvSpPr>
          <p:spPr>
            <a:xfrm>
              <a:off x="5922720" y="4221000"/>
              <a:ext cx="690480" cy="1015920"/>
            </a:xfrm>
            <a:custGeom>
              <a:avLst/>
              <a:gdLst/>
              <a:ahLst/>
              <a:rect l="l" t="t" r="r" b="b"/>
              <a:pathLst>
                <a:path w="379" h="558">
                  <a:moveTo>
                    <a:pt x="49" y="467"/>
                  </a:moveTo>
                  <a:cubicBezTo>
                    <a:pt x="49" y="467"/>
                    <a:pt x="0" y="292"/>
                    <a:pt x="33" y="154"/>
                  </a:cubicBezTo>
                  <a:cubicBezTo>
                    <a:pt x="37" y="139"/>
                    <a:pt x="44" y="128"/>
                    <a:pt x="51" y="118"/>
                  </a:cubicBezTo>
                  <a:cubicBezTo>
                    <a:pt x="61" y="94"/>
                    <a:pt x="77" y="65"/>
                    <a:pt x="102" y="44"/>
                  </a:cubicBezTo>
                  <a:cubicBezTo>
                    <a:pt x="154" y="0"/>
                    <a:pt x="237" y="26"/>
                    <a:pt x="250" y="23"/>
                  </a:cubicBezTo>
                  <a:cubicBezTo>
                    <a:pt x="250" y="23"/>
                    <a:pt x="379" y="60"/>
                    <a:pt x="278" y="176"/>
                  </a:cubicBezTo>
                  <a:cubicBezTo>
                    <a:pt x="328" y="299"/>
                    <a:pt x="262" y="427"/>
                    <a:pt x="215" y="496"/>
                  </a:cubicBezTo>
                  <a:cubicBezTo>
                    <a:pt x="215" y="496"/>
                    <a:pt x="146" y="558"/>
                    <a:pt x="49" y="46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45"/>
            <p:cNvSpPr/>
            <p:nvPr/>
          </p:nvSpPr>
          <p:spPr>
            <a:xfrm>
              <a:off x="6014880" y="4307040"/>
              <a:ext cx="473040" cy="925560"/>
            </a:xfrm>
            <a:custGeom>
              <a:avLst/>
              <a:gdLst/>
              <a:ahLst/>
              <a:rect l="l" t="t" r="r" b="b"/>
              <a:pathLst>
                <a:path w="259" h="508">
                  <a:moveTo>
                    <a:pt x="212" y="123"/>
                  </a:moveTo>
                  <a:cubicBezTo>
                    <a:pt x="212" y="123"/>
                    <a:pt x="259" y="49"/>
                    <a:pt x="207" y="24"/>
                  </a:cubicBezTo>
                  <a:cubicBezTo>
                    <a:pt x="155" y="0"/>
                    <a:pt x="73" y="0"/>
                    <a:pt x="48" y="77"/>
                  </a:cubicBezTo>
                  <a:cubicBezTo>
                    <a:pt x="23" y="155"/>
                    <a:pt x="0" y="306"/>
                    <a:pt x="3" y="344"/>
                  </a:cubicBezTo>
                  <a:cubicBezTo>
                    <a:pt x="5" y="378"/>
                    <a:pt x="34" y="508"/>
                    <a:pt x="164" y="402"/>
                  </a:cubicBezTo>
                  <a:cubicBezTo>
                    <a:pt x="190" y="381"/>
                    <a:pt x="256" y="213"/>
                    <a:pt x="212" y="123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46"/>
            <p:cNvSpPr/>
            <p:nvPr/>
          </p:nvSpPr>
          <p:spPr>
            <a:xfrm>
              <a:off x="6064200" y="4468680"/>
              <a:ext cx="360360" cy="349200"/>
            </a:xfrm>
            <a:custGeom>
              <a:avLst/>
              <a:gdLst/>
              <a:ahLst/>
              <a:rect l="l" t="t" r="r" b="b"/>
              <a:pathLst>
                <a:path w="197" h="192">
                  <a:moveTo>
                    <a:pt x="112" y="36"/>
                  </a:moveTo>
                  <a:cubicBezTo>
                    <a:pt x="112" y="36"/>
                    <a:pt x="62" y="115"/>
                    <a:pt x="0" y="88"/>
                  </a:cubicBezTo>
                  <a:cubicBezTo>
                    <a:pt x="0" y="88"/>
                    <a:pt x="23" y="192"/>
                    <a:pt x="81" y="148"/>
                  </a:cubicBezTo>
                  <a:cubicBezTo>
                    <a:pt x="138" y="103"/>
                    <a:pt x="119" y="180"/>
                    <a:pt x="181" y="182"/>
                  </a:cubicBezTo>
                  <a:cubicBezTo>
                    <a:pt x="197" y="174"/>
                    <a:pt x="197" y="174"/>
                    <a:pt x="197" y="174"/>
                  </a:cubicBezTo>
                  <a:cubicBezTo>
                    <a:pt x="197" y="174"/>
                    <a:pt x="136" y="121"/>
                    <a:pt x="155" y="56"/>
                  </a:cubicBezTo>
                  <a:cubicBezTo>
                    <a:pt x="155" y="56"/>
                    <a:pt x="157" y="0"/>
                    <a:pt x="112" y="3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47"/>
            <p:cNvSpPr/>
            <p:nvPr/>
          </p:nvSpPr>
          <p:spPr>
            <a:xfrm>
              <a:off x="6205320" y="4765680"/>
              <a:ext cx="101520" cy="885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9" y="22"/>
                  </a:moveTo>
                  <a:cubicBezTo>
                    <a:pt x="9" y="22"/>
                    <a:pt x="24" y="0"/>
                    <a:pt x="40" y="15"/>
                  </a:cubicBezTo>
                  <a:cubicBezTo>
                    <a:pt x="56" y="31"/>
                    <a:pt x="48" y="49"/>
                    <a:pt x="48" y="49"/>
                  </a:cubicBezTo>
                  <a:cubicBezTo>
                    <a:pt x="34" y="45"/>
                    <a:pt x="34" y="45"/>
                    <a:pt x="34" y="45"/>
                  </a:cubicBezTo>
                  <a:cubicBezTo>
                    <a:pt x="34" y="45"/>
                    <a:pt x="36" y="25"/>
                    <a:pt x="23" y="26"/>
                  </a:cubicBezTo>
                  <a:cubicBezTo>
                    <a:pt x="10" y="27"/>
                    <a:pt x="15" y="41"/>
                    <a:pt x="15" y="41"/>
                  </a:cubicBezTo>
                  <a:cubicBezTo>
                    <a:pt x="15" y="41"/>
                    <a:pt x="0" y="41"/>
                    <a:pt x="9" y="22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48"/>
            <p:cNvSpPr/>
            <p:nvPr/>
          </p:nvSpPr>
          <p:spPr>
            <a:xfrm>
              <a:off x="6235560" y="4867200"/>
              <a:ext cx="109440" cy="8064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48" y="41"/>
                  </a:moveTo>
                  <a:cubicBezTo>
                    <a:pt x="48" y="41"/>
                    <a:pt x="60" y="18"/>
                    <a:pt x="41" y="9"/>
                  </a:cubicBezTo>
                  <a:cubicBezTo>
                    <a:pt x="23" y="0"/>
                    <a:pt x="0" y="44"/>
                    <a:pt x="0" y="44"/>
                  </a:cubicBezTo>
                  <a:lnTo>
                    <a:pt x="48" y="41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49"/>
            <p:cNvSpPr/>
            <p:nvPr/>
          </p:nvSpPr>
          <p:spPr>
            <a:xfrm>
              <a:off x="6230880" y="4878360"/>
              <a:ext cx="109440" cy="1126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40"/>
                  </a:moveTo>
                  <a:cubicBezTo>
                    <a:pt x="0" y="40"/>
                    <a:pt x="34" y="0"/>
                    <a:pt x="47" y="24"/>
                  </a:cubicBezTo>
                  <a:cubicBezTo>
                    <a:pt x="60" y="49"/>
                    <a:pt x="30" y="62"/>
                    <a:pt x="0" y="40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50"/>
            <p:cNvSpPr/>
            <p:nvPr/>
          </p:nvSpPr>
          <p:spPr>
            <a:xfrm>
              <a:off x="6095880" y="4460760"/>
              <a:ext cx="230040" cy="23148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11" y="30"/>
                  </a:moveTo>
                  <a:cubicBezTo>
                    <a:pt x="111" y="30"/>
                    <a:pt x="51" y="127"/>
                    <a:pt x="0" y="94"/>
                  </a:cubicBezTo>
                  <a:cubicBezTo>
                    <a:pt x="0" y="94"/>
                    <a:pt x="73" y="90"/>
                    <a:pt x="85" y="17"/>
                  </a:cubicBezTo>
                  <a:cubicBezTo>
                    <a:pt x="85" y="17"/>
                    <a:pt x="90" y="0"/>
                    <a:pt x="108" y="5"/>
                  </a:cubicBezTo>
                  <a:cubicBezTo>
                    <a:pt x="126" y="10"/>
                    <a:pt x="111" y="30"/>
                    <a:pt x="111" y="3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51"/>
            <p:cNvSpPr/>
            <p:nvPr/>
          </p:nvSpPr>
          <p:spPr>
            <a:xfrm>
              <a:off x="6294240" y="4510080"/>
              <a:ext cx="129960" cy="276120"/>
            </a:xfrm>
            <a:custGeom>
              <a:avLst/>
              <a:gdLst/>
              <a:ahLst/>
              <a:rect l="l" t="t" r="r" b="b"/>
              <a:pathLst>
                <a:path w="71" h="151">
                  <a:moveTo>
                    <a:pt x="25" y="11"/>
                  </a:moveTo>
                  <a:cubicBezTo>
                    <a:pt x="25" y="11"/>
                    <a:pt x="0" y="110"/>
                    <a:pt x="71" y="151"/>
                  </a:cubicBezTo>
                  <a:cubicBezTo>
                    <a:pt x="71" y="151"/>
                    <a:pt x="30" y="118"/>
                    <a:pt x="37" y="72"/>
                  </a:cubicBezTo>
                  <a:cubicBezTo>
                    <a:pt x="45" y="26"/>
                    <a:pt x="42" y="11"/>
                    <a:pt x="40" y="9"/>
                  </a:cubicBezTo>
                  <a:cubicBezTo>
                    <a:pt x="39" y="6"/>
                    <a:pt x="28" y="0"/>
                    <a:pt x="25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52"/>
            <p:cNvSpPr/>
            <p:nvPr/>
          </p:nvSpPr>
          <p:spPr>
            <a:xfrm>
              <a:off x="6087960" y="4637160"/>
              <a:ext cx="158760" cy="1108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57" y="6"/>
                  </a:moveTo>
                  <a:cubicBezTo>
                    <a:pt x="57" y="6"/>
                    <a:pt x="0" y="54"/>
                    <a:pt x="38" y="58"/>
                  </a:cubicBezTo>
                  <a:cubicBezTo>
                    <a:pt x="76" y="61"/>
                    <a:pt x="87" y="0"/>
                    <a:pt x="5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53"/>
            <p:cNvSpPr/>
            <p:nvPr/>
          </p:nvSpPr>
          <p:spPr>
            <a:xfrm>
              <a:off x="6294240" y="4649760"/>
              <a:ext cx="77760" cy="136440"/>
            </a:xfrm>
            <a:custGeom>
              <a:avLst/>
              <a:gdLst/>
              <a:ahLst/>
              <a:rect l="l" t="t" r="r" b="b"/>
              <a:pathLst>
                <a:path w="43" h="75">
                  <a:moveTo>
                    <a:pt x="0" y="23"/>
                  </a:moveTo>
                  <a:cubicBezTo>
                    <a:pt x="0" y="23"/>
                    <a:pt x="1" y="51"/>
                    <a:pt x="22" y="63"/>
                  </a:cubicBezTo>
                  <a:cubicBezTo>
                    <a:pt x="43" y="75"/>
                    <a:pt x="36" y="52"/>
                    <a:pt x="26" y="32"/>
                  </a:cubicBezTo>
                  <a:cubicBezTo>
                    <a:pt x="17" y="13"/>
                    <a:pt x="1" y="0"/>
                    <a:pt x="0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54"/>
            <p:cNvSpPr/>
            <p:nvPr/>
          </p:nvSpPr>
          <p:spPr>
            <a:xfrm>
              <a:off x="5867280" y="4557600"/>
              <a:ext cx="125280" cy="318960"/>
            </a:xfrm>
            <a:custGeom>
              <a:avLst/>
              <a:gdLst/>
              <a:ahLst/>
              <a:rect l="l" t="t" r="r" b="b"/>
              <a:pathLst>
                <a:path w="68" h="175">
                  <a:moveTo>
                    <a:pt x="59" y="23"/>
                  </a:moveTo>
                  <a:cubicBezTo>
                    <a:pt x="59" y="23"/>
                    <a:pt x="25" y="0"/>
                    <a:pt x="12" y="42"/>
                  </a:cubicBezTo>
                  <a:cubicBezTo>
                    <a:pt x="0" y="84"/>
                    <a:pt x="57" y="175"/>
                    <a:pt x="62" y="134"/>
                  </a:cubicBezTo>
                  <a:cubicBezTo>
                    <a:pt x="68" y="9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55"/>
            <p:cNvSpPr/>
            <p:nvPr/>
          </p:nvSpPr>
          <p:spPr>
            <a:xfrm>
              <a:off x="5911560" y="4608360"/>
              <a:ext cx="71280" cy="17748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34" y="36"/>
                  </a:moveTo>
                  <a:cubicBezTo>
                    <a:pt x="34" y="36"/>
                    <a:pt x="39" y="0"/>
                    <a:pt x="20" y="8"/>
                  </a:cubicBezTo>
                  <a:cubicBezTo>
                    <a:pt x="0" y="16"/>
                    <a:pt x="7" y="7"/>
                    <a:pt x="19" y="38"/>
                  </a:cubicBezTo>
                  <a:cubicBezTo>
                    <a:pt x="30" y="68"/>
                    <a:pt x="21" y="75"/>
                    <a:pt x="13" y="65"/>
                  </a:cubicBezTo>
                  <a:cubicBezTo>
                    <a:pt x="6" y="55"/>
                    <a:pt x="14" y="97"/>
                    <a:pt x="26" y="86"/>
                  </a:cubicBezTo>
                  <a:cubicBezTo>
                    <a:pt x="38" y="75"/>
                    <a:pt x="35" y="52"/>
                    <a:pt x="34" y="36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56"/>
            <p:cNvSpPr/>
            <p:nvPr/>
          </p:nvSpPr>
          <p:spPr>
            <a:xfrm>
              <a:off x="5951160" y="4184640"/>
              <a:ext cx="544320" cy="625320"/>
            </a:xfrm>
            <a:custGeom>
              <a:avLst/>
              <a:gdLst/>
              <a:ahLst/>
              <a:rect l="l" t="t" r="r" b="b"/>
              <a:pathLst>
                <a:path w="299" h="343">
                  <a:moveTo>
                    <a:pt x="290" y="64"/>
                  </a:moveTo>
                  <a:cubicBezTo>
                    <a:pt x="290" y="64"/>
                    <a:pt x="299" y="122"/>
                    <a:pt x="230" y="110"/>
                  </a:cubicBezTo>
                  <a:cubicBezTo>
                    <a:pt x="161" y="98"/>
                    <a:pt x="89" y="92"/>
                    <a:pt x="74" y="121"/>
                  </a:cubicBezTo>
                  <a:cubicBezTo>
                    <a:pt x="58" y="150"/>
                    <a:pt x="27" y="343"/>
                    <a:pt x="27" y="343"/>
                  </a:cubicBezTo>
                  <a:cubicBezTo>
                    <a:pt x="16" y="339"/>
                    <a:pt x="16" y="339"/>
                    <a:pt x="16" y="339"/>
                  </a:cubicBezTo>
                  <a:cubicBezTo>
                    <a:pt x="16" y="339"/>
                    <a:pt x="20" y="226"/>
                    <a:pt x="10" y="224"/>
                  </a:cubicBezTo>
                  <a:cubicBezTo>
                    <a:pt x="0" y="222"/>
                    <a:pt x="27" y="100"/>
                    <a:pt x="71" y="61"/>
                  </a:cubicBezTo>
                  <a:cubicBezTo>
                    <a:pt x="115" y="23"/>
                    <a:pt x="278" y="0"/>
                    <a:pt x="290" y="6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57">
              <a:hlinkClick r:id="rId2"/>
            </p:cNvPr>
            <p:cNvSpPr/>
            <p:nvPr/>
          </p:nvSpPr>
          <p:spPr>
            <a:xfrm>
              <a:off x="5956200" y="4964040"/>
              <a:ext cx="866880" cy="860400"/>
            </a:xfrm>
            <a:custGeom>
              <a:avLst/>
              <a:gdLst/>
              <a:ahLst/>
              <a:rect l="l" t="t" r="r" b="b"/>
              <a:pathLst>
                <a:path w="476" h="472">
                  <a:moveTo>
                    <a:pt x="234" y="112"/>
                  </a:moveTo>
                  <a:cubicBezTo>
                    <a:pt x="234" y="112"/>
                    <a:pt x="244" y="407"/>
                    <a:pt x="246" y="415"/>
                  </a:cubicBezTo>
                  <a:cubicBezTo>
                    <a:pt x="248" y="423"/>
                    <a:pt x="71" y="472"/>
                    <a:pt x="0" y="421"/>
                  </a:cubicBezTo>
                  <a:cubicBezTo>
                    <a:pt x="0" y="421"/>
                    <a:pt x="20" y="71"/>
                    <a:pt x="26" y="68"/>
                  </a:cubicBezTo>
                  <a:cubicBezTo>
                    <a:pt x="31" y="64"/>
                    <a:pt x="30" y="59"/>
                    <a:pt x="30" y="59"/>
                  </a:cubicBezTo>
                  <a:cubicBezTo>
                    <a:pt x="110" y="132"/>
                    <a:pt x="196" y="70"/>
                    <a:pt x="196" y="70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234" y="23"/>
                    <a:pt x="353" y="180"/>
                    <a:pt x="392" y="144"/>
                  </a:cubicBezTo>
                  <a:cubicBezTo>
                    <a:pt x="430" y="108"/>
                    <a:pt x="445" y="0"/>
                    <a:pt x="445" y="0"/>
                  </a:cubicBezTo>
                  <a:cubicBezTo>
                    <a:pt x="474" y="0"/>
                    <a:pt x="474" y="0"/>
                    <a:pt x="474" y="0"/>
                  </a:cubicBezTo>
                  <a:cubicBezTo>
                    <a:pt x="474" y="0"/>
                    <a:pt x="476" y="224"/>
                    <a:pt x="361" y="193"/>
                  </a:cubicBezTo>
                  <a:cubicBezTo>
                    <a:pt x="249" y="163"/>
                    <a:pt x="234" y="112"/>
                    <a:pt x="234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58"/>
            <p:cNvSpPr/>
            <p:nvPr/>
          </p:nvSpPr>
          <p:spPr>
            <a:xfrm>
              <a:off x="6329160" y="5091120"/>
              <a:ext cx="74520" cy="657000"/>
            </a:xfrm>
            <a:custGeom>
              <a:avLst/>
              <a:gdLst/>
              <a:ahLst/>
              <a:rect l="l" t="t" r="r" b="b"/>
              <a:pathLst>
                <a:path w="41" h="360">
                  <a:moveTo>
                    <a:pt x="10" y="187"/>
                  </a:moveTo>
                  <a:cubicBezTo>
                    <a:pt x="17" y="247"/>
                    <a:pt x="5" y="331"/>
                    <a:pt x="0" y="360"/>
                  </a:cubicBezTo>
                  <a:cubicBezTo>
                    <a:pt x="25" y="354"/>
                    <a:pt x="41" y="347"/>
                    <a:pt x="41" y="345"/>
                  </a:cubicBezTo>
                  <a:cubicBezTo>
                    <a:pt x="39" y="337"/>
                    <a:pt x="29" y="13"/>
                    <a:pt x="29" y="13"/>
                  </a:cubicBezTo>
                  <a:cubicBezTo>
                    <a:pt x="29" y="11"/>
                    <a:pt x="29" y="7"/>
                    <a:pt x="29" y="0"/>
                  </a:cubicBezTo>
                  <a:cubicBezTo>
                    <a:pt x="25" y="19"/>
                    <a:pt x="2" y="119"/>
                    <a:pt x="10" y="187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59"/>
            <p:cNvSpPr/>
            <p:nvPr/>
          </p:nvSpPr>
          <p:spPr>
            <a:xfrm>
              <a:off x="6432480" y="4313160"/>
              <a:ext cx="141120" cy="17928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28"/>
                  </a:moveTo>
                  <a:cubicBezTo>
                    <a:pt x="0" y="28"/>
                    <a:pt x="37" y="53"/>
                    <a:pt x="20" y="98"/>
                  </a:cubicBezTo>
                  <a:cubicBezTo>
                    <a:pt x="20" y="98"/>
                    <a:pt x="77" y="29"/>
                    <a:pt x="23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60"/>
            <p:cNvSpPr/>
            <p:nvPr/>
          </p:nvSpPr>
          <p:spPr>
            <a:xfrm>
              <a:off x="6035400" y="5094360"/>
              <a:ext cx="241200" cy="187200"/>
            </a:xfrm>
            <a:custGeom>
              <a:avLst/>
              <a:gdLst/>
              <a:ahLst/>
              <a:rect l="l" t="t" r="r" b="b"/>
              <a:pathLst>
                <a:path w="132" h="103">
                  <a:moveTo>
                    <a:pt x="10" y="4"/>
                  </a:moveTo>
                  <a:cubicBezTo>
                    <a:pt x="10" y="4"/>
                    <a:pt x="15" y="85"/>
                    <a:pt x="37" y="74"/>
                  </a:cubicBezTo>
                  <a:cubicBezTo>
                    <a:pt x="59" y="64"/>
                    <a:pt x="63" y="27"/>
                    <a:pt x="63" y="27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1" y="28"/>
                    <a:pt x="75" y="96"/>
                    <a:pt x="96" y="79"/>
                  </a:cubicBezTo>
                  <a:cubicBezTo>
                    <a:pt x="118" y="62"/>
                    <a:pt x="128" y="13"/>
                    <a:pt x="128" y="13"/>
                  </a:cubicBezTo>
                  <a:cubicBezTo>
                    <a:pt x="132" y="8"/>
                    <a:pt x="132" y="8"/>
                    <a:pt x="132" y="8"/>
                  </a:cubicBezTo>
                  <a:cubicBezTo>
                    <a:pt x="132" y="8"/>
                    <a:pt x="131" y="89"/>
                    <a:pt x="88" y="89"/>
                  </a:cubicBezTo>
                  <a:cubicBezTo>
                    <a:pt x="44" y="89"/>
                    <a:pt x="64" y="43"/>
                    <a:pt x="64" y="43"/>
                  </a:cubicBezTo>
                  <a:cubicBezTo>
                    <a:pt x="64" y="43"/>
                    <a:pt x="50" y="103"/>
                    <a:pt x="19" y="83"/>
                  </a:cubicBezTo>
                  <a:cubicBezTo>
                    <a:pt x="0" y="71"/>
                    <a:pt x="7" y="0"/>
                    <a:pt x="7" y="0"/>
                  </a:cubicBezTo>
                  <a:lnTo>
                    <a:pt x="10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61"/>
            <p:cNvSpPr/>
            <p:nvPr/>
          </p:nvSpPr>
          <p:spPr>
            <a:xfrm>
              <a:off x="6119640" y="5143680"/>
              <a:ext cx="355320" cy="415800"/>
            </a:xfrm>
            <a:custGeom>
              <a:avLst/>
              <a:gdLst/>
              <a:ahLst/>
              <a:rect l="l" t="t" r="r" b="b"/>
              <a:pathLst>
                <a:path w="195" h="229">
                  <a:moveTo>
                    <a:pt x="25" y="0"/>
                  </a:moveTo>
                  <a:cubicBezTo>
                    <a:pt x="21" y="35"/>
                    <a:pt x="21" y="35"/>
                    <a:pt x="21" y="3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31" y="222"/>
                    <a:pt x="157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9"/>
                    <a:pt x="148" y="229"/>
                    <a:pt x="148" y="229"/>
                  </a:cubicBezTo>
                  <a:cubicBezTo>
                    <a:pt x="148" y="229"/>
                    <a:pt x="0" y="225"/>
                    <a:pt x="13" y="38"/>
                  </a:cubicBezTo>
                  <a:cubicBezTo>
                    <a:pt x="17" y="1"/>
                    <a:pt x="17" y="1"/>
                    <a:pt x="1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62"/>
            <p:cNvSpPr/>
            <p:nvPr/>
          </p:nvSpPr>
          <p:spPr>
            <a:xfrm>
              <a:off x="6327720" y="4059360"/>
              <a:ext cx="981000" cy="869760"/>
            </a:xfrm>
            <a:custGeom>
              <a:avLst/>
              <a:gdLst/>
              <a:ahLst/>
              <a:rect l="l" t="t" r="r" b="b"/>
              <a:pathLst>
                <a:path w="539" h="478">
                  <a:moveTo>
                    <a:pt x="483" y="194"/>
                  </a:moveTo>
                  <a:cubicBezTo>
                    <a:pt x="498" y="173"/>
                    <a:pt x="505" y="147"/>
                    <a:pt x="504" y="119"/>
                  </a:cubicBezTo>
                  <a:cubicBezTo>
                    <a:pt x="500" y="52"/>
                    <a:pt x="443" y="1"/>
                    <a:pt x="376" y="5"/>
                  </a:cubicBezTo>
                  <a:cubicBezTo>
                    <a:pt x="357" y="6"/>
                    <a:pt x="340" y="12"/>
                    <a:pt x="325" y="20"/>
                  </a:cubicBezTo>
                  <a:cubicBezTo>
                    <a:pt x="305" y="7"/>
                    <a:pt x="280" y="0"/>
                    <a:pt x="254" y="1"/>
                  </a:cubicBezTo>
                  <a:cubicBezTo>
                    <a:pt x="196" y="5"/>
                    <a:pt x="150" y="49"/>
                    <a:pt x="143" y="104"/>
                  </a:cubicBezTo>
                  <a:cubicBezTo>
                    <a:pt x="134" y="103"/>
                    <a:pt x="125" y="103"/>
                    <a:pt x="116" y="103"/>
                  </a:cubicBezTo>
                  <a:cubicBezTo>
                    <a:pt x="50" y="108"/>
                    <a:pt x="0" y="165"/>
                    <a:pt x="5" y="231"/>
                  </a:cubicBezTo>
                  <a:cubicBezTo>
                    <a:pt x="7" y="257"/>
                    <a:pt x="17" y="281"/>
                    <a:pt x="32" y="299"/>
                  </a:cubicBezTo>
                  <a:cubicBezTo>
                    <a:pt x="26" y="315"/>
                    <a:pt x="23" y="333"/>
                    <a:pt x="25" y="351"/>
                  </a:cubicBezTo>
                  <a:cubicBezTo>
                    <a:pt x="29" y="418"/>
                    <a:pt x="87" y="468"/>
                    <a:pt x="154" y="464"/>
                  </a:cubicBezTo>
                  <a:cubicBezTo>
                    <a:pt x="182" y="462"/>
                    <a:pt x="206" y="451"/>
                    <a:pt x="226" y="434"/>
                  </a:cubicBezTo>
                  <a:cubicBezTo>
                    <a:pt x="246" y="461"/>
                    <a:pt x="279" y="478"/>
                    <a:pt x="315" y="475"/>
                  </a:cubicBezTo>
                  <a:cubicBezTo>
                    <a:pt x="366" y="472"/>
                    <a:pt x="406" y="430"/>
                    <a:pt x="409" y="380"/>
                  </a:cubicBezTo>
                  <a:cubicBezTo>
                    <a:pt x="419" y="383"/>
                    <a:pt x="430" y="384"/>
                    <a:pt x="441" y="384"/>
                  </a:cubicBezTo>
                  <a:cubicBezTo>
                    <a:pt x="497" y="381"/>
                    <a:pt x="539" y="333"/>
                    <a:pt x="536" y="277"/>
                  </a:cubicBezTo>
                  <a:cubicBezTo>
                    <a:pt x="534" y="241"/>
                    <a:pt x="513" y="210"/>
                    <a:pt x="483" y="194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63"/>
            <p:cNvSpPr/>
            <p:nvPr/>
          </p:nvSpPr>
          <p:spPr>
            <a:xfrm>
              <a:off x="6327720" y="4059360"/>
              <a:ext cx="981000" cy="869760"/>
            </a:xfrm>
            <a:custGeom>
              <a:avLst/>
              <a:gdLst/>
              <a:ahLst/>
              <a:rect l="l" t="t" r="r" b="b"/>
              <a:pathLst>
                <a:path w="539" h="478">
                  <a:moveTo>
                    <a:pt x="254" y="15"/>
                  </a:moveTo>
                  <a:cubicBezTo>
                    <a:pt x="254" y="15"/>
                    <a:pt x="255" y="15"/>
                    <a:pt x="255" y="15"/>
                  </a:cubicBezTo>
                  <a:cubicBezTo>
                    <a:pt x="277" y="14"/>
                    <a:pt x="299" y="19"/>
                    <a:pt x="318" y="31"/>
                  </a:cubicBezTo>
                  <a:cubicBezTo>
                    <a:pt x="325" y="35"/>
                    <a:pt x="325" y="35"/>
                    <a:pt x="325" y="35"/>
                  </a:cubicBezTo>
                  <a:cubicBezTo>
                    <a:pt x="332" y="32"/>
                    <a:pt x="332" y="32"/>
                    <a:pt x="332" y="32"/>
                  </a:cubicBezTo>
                  <a:cubicBezTo>
                    <a:pt x="345" y="24"/>
                    <a:pt x="360" y="20"/>
                    <a:pt x="375" y="19"/>
                  </a:cubicBezTo>
                  <a:cubicBezTo>
                    <a:pt x="376" y="19"/>
                    <a:pt x="376" y="19"/>
                    <a:pt x="377" y="19"/>
                  </a:cubicBezTo>
                  <a:cubicBezTo>
                    <a:pt x="405" y="17"/>
                    <a:pt x="433" y="27"/>
                    <a:pt x="454" y="46"/>
                  </a:cubicBezTo>
                  <a:cubicBezTo>
                    <a:pt x="476" y="65"/>
                    <a:pt x="489" y="91"/>
                    <a:pt x="490" y="120"/>
                  </a:cubicBezTo>
                  <a:cubicBezTo>
                    <a:pt x="492" y="144"/>
                    <a:pt x="485" y="167"/>
                    <a:pt x="472" y="186"/>
                  </a:cubicBezTo>
                  <a:cubicBezTo>
                    <a:pt x="464" y="199"/>
                    <a:pt x="464" y="199"/>
                    <a:pt x="464" y="199"/>
                  </a:cubicBezTo>
                  <a:cubicBezTo>
                    <a:pt x="477" y="206"/>
                    <a:pt x="477" y="206"/>
                    <a:pt x="477" y="206"/>
                  </a:cubicBezTo>
                  <a:cubicBezTo>
                    <a:pt x="490" y="213"/>
                    <a:pt x="501" y="223"/>
                    <a:pt x="509" y="235"/>
                  </a:cubicBezTo>
                  <a:cubicBezTo>
                    <a:pt x="517" y="248"/>
                    <a:pt x="522" y="263"/>
                    <a:pt x="522" y="278"/>
                  </a:cubicBezTo>
                  <a:cubicBezTo>
                    <a:pt x="524" y="301"/>
                    <a:pt x="516" y="323"/>
                    <a:pt x="501" y="341"/>
                  </a:cubicBezTo>
                  <a:cubicBezTo>
                    <a:pt x="486" y="358"/>
                    <a:pt x="464" y="369"/>
                    <a:pt x="441" y="370"/>
                  </a:cubicBezTo>
                  <a:cubicBezTo>
                    <a:pt x="441" y="370"/>
                    <a:pt x="441" y="370"/>
                    <a:pt x="440" y="370"/>
                  </a:cubicBezTo>
                  <a:cubicBezTo>
                    <a:pt x="431" y="371"/>
                    <a:pt x="421" y="370"/>
                    <a:pt x="412" y="367"/>
                  </a:cubicBezTo>
                  <a:cubicBezTo>
                    <a:pt x="396" y="363"/>
                    <a:pt x="396" y="363"/>
                    <a:pt x="396" y="363"/>
                  </a:cubicBezTo>
                  <a:cubicBezTo>
                    <a:pt x="395" y="380"/>
                    <a:pt x="395" y="380"/>
                    <a:pt x="395" y="380"/>
                  </a:cubicBezTo>
                  <a:cubicBezTo>
                    <a:pt x="392" y="423"/>
                    <a:pt x="358" y="459"/>
                    <a:pt x="314" y="462"/>
                  </a:cubicBezTo>
                  <a:cubicBezTo>
                    <a:pt x="299" y="463"/>
                    <a:pt x="284" y="460"/>
                    <a:pt x="270" y="453"/>
                  </a:cubicBezTo>
                  <a:cubicBezTo>
                    <a:pt x="257" y="447"/>
                    <a:pt x="245" y="438"/>
                    <a:pt x="237" y="426"/>
                  </a:cubicBezTo>
                  <a:cubicBezTo>
                    <a:pt x="228" y="414"/>
                    <a:pt x="228" y="414"/>
                    <a:pt x="228" y="414"/>
                  </a:cubicBezTo>
                  <a:cubicBezTo>
                    <a:pt x="217" y="423"/>
                    <a:pt x="217" y="423"/>
                    <a:pt x="217" y="423"/>
                  </a:cubicBezTo>
                  <a:cubicBezTo>
                    <a:pt x="199" y="439"/>
                    <a:pt x="177" y="448"/>
                    <a:pt x="153" y="450"/>
                  </a:cubicBezTo>
                  <a:cubicBezTo>
                    <a:pt x="124" y="452"/>
                    <a:pt x="97" y="443"/>
                    <a:pt x="75" y="424"/>
                  </a:cubicBezTo>
                  <a:cubicBezTo>
                    <a:pt x="53" y="405"/>
                    <a:pt x="40" y="379"/>
                    <a:pt x="38" y="350"/>
                  </a:cubicBezTo>
                  <a:cubicBezTo>
                    <a:pt x="37" y="335"/>
                    <a:pt x="39" y="319"/>
                    <a:pt x="45" y="304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43" y="291"/>
                    <a:pt x="43" y="291"/>
                    <a:pt x="43" y="291"/>
                  </a:cubicBezTo>
                  <a:cubicBezTo>
                    <a:pt x="29" y="274"/>
                    <a:pt x="20" y="253"/>
                    <a:pt x="19" y="230"/>
                  </a:cubicBezTo>
                  <a:cubicBezTo>
                    <a:pt x="17" y="202"/>
                    <a:pt x="26" y="175"/>
                    <a:pt x="44" y="153"/>
                  </a:cubicBezTo>
                  <a:cubicBezTo>
                    <a:pt x="63" y="132"/>
                    <a:pt x="89" y="119"/>
                    <a:pt x="117" y="117"/>
                  </a:cubicBezTo>
                  <a:cubicBezTo>
                    <a:pt x="125" y="116"/>
                    <a:pt x="133" y="117"/>
                    <a:pt x="141" y="118"/>
                  </a:cubicBezTo>
                  <a:cubicBezTo>
                    <a:pt x="154" y="120"/>
                    <a:pt x="154" y="120"/>
                    <a:pt x="154" y="120"/>
                  </a:cubicBezTo>
                  <a:cubicBezTo>
                    <a:pt x="156" y="106"/>
                    <a:pt x="156" y="106"/>
                    <a:pt x="156" y="106"/>
                  </a:cubicBezTo>
                  <a:cubicBezTo>
                    <a:pt x="159" y="83"/>
                    <a:pt x="171" y="60"/>
                    <a:pt x="188" y="44"/>
                  </a:cubicBezTo>
                  <a:cubicBezTo>
                    <a:pt x="206" y="27"/>
                    <a:pt x="229" y="17"/>
                    <a:pt x="254" y="15"/>
                  </a:cubicBezTo>
                  <a:cubicBezTo>
                    <a:pt x="254" y="15"/>
                    <a:pt x="254" y="15"/>
                    <a:pt x="254" y="15"/>
                  </a:cubicBezTo>
                  <a:moveTo>
                    <a:pt x="253" y="2"/>
                  </a:moveTo>
                  <a:cubicBezTo>
                    <a:pt x="195" y="6"/>
                    <a:pt x="150" y="49"/>
                    <a:pt x="143" y="104"/>
                  </a:cubicBezTo>
                  <a:cubicBezTo>
                    <a:pt x="134" y="103"/>
                    <a:pt x="125" y="103"/>
                    <a:pt x="116" y="103"/>
                  </a:cubicBezTo>
                  <a:cubicBezTo>
                    <a:pt x="50" y="108"/>
                    <a:pt x="0" y="165"/>
                    <a:pt x="5" y="231"/>
                  </a:cubicBezTo>
                  <a:cubicBezTo>
                    <a:pt x="7" y="257"/>
                    <a:pt x="17" y="281"/>
                    <a:pt x="32" y="299"/>
                  </a:cubicBezTo>
                  <a:cubicBezTo>
                    <a:pt x="26" y="315"/>
                    <a:pt x="23" y="333"/>
                    <a:pt x="25" y="351"/>
                  </a:cubicBezTo>
                  <a:cubicBezTo>
                    <a:pt x="29" y="418"/>
                    <a:pt x="87" y="468"/>
                    <a:pt x="154" y="464"/>
                  </a:cubicBezTo>
                  <a:cubicBezTo>
                    <a:pt x="182" y="462"/>
                    <a:pt x="206" y="451"/>
                    <a:pt x="226" y="434"/>
                  </a:cubicBezTo>
                  <a:cubicBezTo>
                    <a:pt x="246" y="461"/>
                    <a:pt x="279" y="478"/>
                    <a:pt x="315" y="475"/>
                  </a:cubicBezTo>
                  <a:cubicBezTo>
                    <a:pt x="366" y="472"/>
                    <a:pt x="406" y="430"/>
                    <a:pt x="409" y="380"/>
                  </a:cubicBezTo>
                  <a:cubicBezTo>
                    <a:pt x="419" y="383"/>
                    <a:pt x="430" y="384"/>
                    <a:pt x="441" y="384"/>
                  </a:cubicBezTo>
                  <a:cubicBezTo>
                    <a:pt x="442" y="384"/>
                    <a:pt x="442" y="384"/>
                    <a:pt x="442" y="384"/>
                  </a:cubicBezTo>
                  <a:cubicBezTo>
                    <a:pt x="497" y="380"/>
                    <a:pt x="539" y="332"/>
                    <a:pt x="536" y="277"/>
                  </a:cubicBezTo>
                  <a:cubicBezTo>
                    <a:pt x="534" y="241"/>
                    <a:pt x="513" y="210"/>
                    <a:pt x="483" y="194"/>
                  </a:cubicBezTo>
                  <a:cubicBezTo>
                    <a:pt x="498" y="173"/>
                    <a:pt x="505" y="147"/>
                    <a:pt x="504" y="119"/>
                  </a:cubicBezTo>
                  <a:cubicBezTo>
                    <a:pt x="500" y="52"/>
                    <a:pt x="443" y="1"/>
                    <a:pt x="376" y="5"/>
                  </a:cubicBezTo>
                  <a:cubicBezTo>
                    <a:pt x="375" y="5"/>
                    <a:pt x="375" y="5"/>
                    <a:pt x="374" y="5"/>
                  </a:cubicBezTo>
                  <a:cubicBezTo>
                    <a:pt x="357" y="7"/>
                    <a:pt x="340" y="12"/>
                    <a:pt x="325" y="20"/>
                  </a:cubicBezTo>
                  <a:cubicBezTo>
                    <a:pt x="305" y="7"/>
                    <a:pt x="280" y="0"/>
                    <a:pt x="254" y="1"/>
                  </a:cubicBezTo>
                  <a:cubicBezTo>
                    <a:pt x="254" y="1"/>
                    <a:pt x="253" y="1"/>
                    <a:pt x="253" y="2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64"/>
            <p:cNvSpPr/>
            <p:nvPr/>
          </p:nvSpPr>
          <p:spPr>
            <a:xfrm>
              <a:off x="6538680" y="4221000"/>
              <a:ext cx="179280" cy="169560"/>
            </a:xfrm>
            <a:custGeom>
              <a:avLst/>
              <a:gdLst/>
              <a:ahLst/>
              <a:rect l="l" t="t" r="r" b="b"/>
              <a:pathLst>
                <a:path w="99" h="93">
                  <a:moveTo>
                    <a:pt x="10" y="93"/>
                  </a:moveTo>
                  <a:cubicBezTo>
                    <a:pt x="10" y="93"/>
                    <a:pt x="10" y="93"/>
                    <a:pt x="9" y="93"/>
                  </a:cubicBezTo>
                  <a:cubicBezTo>
                    <a:pt x="4" y="92"/>
                    <a:pt x="0" y="88"/>
                    <a:pt x="0" y="83"/>
                  </a:cubicBezTo>
                  <a:cubicBezTo>
                    <a:pt x="1" y="57"/>
                    <a:pt x="9" y="36"/>
                    <a:pt x="25" y="22"/>
                  </a:cubicBezTo>
                  <a:cubicBezTo>
                    <a:pt x="52" y="0"/>
                    <a:pt x="88" y="3"/>
                    <a:pt x="90" y="3"/>
                  </a:cubicBezTo>
                  <a:cubicBezTo>
                    <a:pt x="95" y="4"/>
                    <a:pt x="99" y="8"/>
                    <a:pt x="98" y="14"/>
                  </a:cubicBezTo>
                  <a:cubicBezTo>
                    <a:pt x="98" y="19"/>
                    <a:pt x="93" y="23"/>
                    <a:pt x="88" y="22"/>
                  </a:cubicBezTo>
                  <a:cubicBezTo>
                    <a:pt x="87" y="22"/>
                    <a:pt x="58" y="20"/>
                    <a:pt x="38" y="37"/>
                  </a:cubicBezTo>
                  <a:cubicBezTo>
                    <a:pt x="26" y="47"/>
                    <a:pt x="20" y="63"/>
                    <a:pt x="19" y="83"/>
                  </a:cubicBezTo>
                  <a:cubicBezTo>
                    <a:pt x="19" y="88"/>
                    <a:pt x="15" y="92"/>
                    <a:pt x="10" y="9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65"/>
            <p:cNvSpPr/>
            <p:nvPr/>
          </p:nvSpPr>
          <p:spPr>
            <a:xfrm>
              <a:off x="6886440" y="4094280"/>
              <a:ext cx="48960" cy="137880"/>
            </a:xfrm>
            <a:custGeom>
              <a:avLst/>
              <a:gdLst/>
              <a:ahLst/>
              <a:rect l="l" t="t" r="r" b="b"/>
              <a:pathLst>
                <a:path w="27" h="76">
                  <a:moveTo>
                    <a:pt x="11" y="75"/>
                  </a:moveTo>
                  <a:cubicBezTo>
                    <a:pt x="10" y="76"/>
                    <a:pt x="10" y="76"/>
                    <a:pt x="9" y="75"/>
                  </a:cubicBezTo>
                  <a:cubicBezTo>
                    <a:pt x="4" y="75"/>
                    <a:pt x="0" y="70"/>
                    <a:pt x="1" y="65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8" y="0"/>
                    <a:pt x="11" y="2"/>
                    <a:pt x="17" y="2"/>
                  </a:cubicBezTo>
                  <a:cubicBezTo>
                    <a:pt x="22" y="3"/>
                    <a:pt x="27" y="3"/>
                    <a:pt x="27" y="8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19" y="72"/>
                    <a:pt x="16" y="75"/>
                    <a:pt x="11" y="7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66"/>
            <p:cNvSpPr/>
            <p:nvPr/>
          </p:nvSpPr>
          <p:spPr>
            <a:xfrm>
              <a:off x="6383160" y="4554360"/>
              <a:ext cx="122040" cy="648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11" y="36"/>
                  </a:moveTo>
                  <a:cubicBezTo>
                    <a:pt x="8" y="36"/>
                    <a:pt x="5" y="35"/>
                    <a:pt x="3" y="33"/>
                  </a:cubicBezTo>
                  <a:cubicBezTo>
                    <a:pt x="0" y="29"/>
                    <a:pt x="0" y="23"/>
                    <a:pt x="4" y="19"/>
                  </a:cubicBezTo>
                  <a:cubicBezTo>
                    <a:pt x="5" y="18"/>
                    <a:pt x="25" y="0"/>
                    <a:pt x="58" y="6"/>
                  </a:cubicBezTo>
                  <a:cubicBezTo>
                    <a:pt x="64" y="7"/>
                    <a:pt x="67" y="12"/>
                    <a:pt x="66" y="18"/>
                  </a:cubicBezTo>
                  <a:cubicBezTo>
                    <a:pt x="65" y="23"/>
                    <a:pt x="60" y="26"/>
                    <a:pt x="55" y="25"/>
                  </a:cubicBezTo>
                  <a:cubicBezTo>
                    <a:pt x="31" y="21"/>
                    <a:pt x="17" y="33"/>
                    <a:pt x="17" y="33"/>
                  </a:cubicBezTo>
                  <a:cubicBezTo>
                    <a:pt x="15" y="35"/>
                    <a:pt x="13" y="36"/>
                    <a:pt x="11" y="36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67"/>
            <p:cNvSpPr/>
            <p:nvPr/>
          </p:nvSpPr>
          <p:spPr>
            <a:xfrm>
              <a:off x="6453000" y="4491000"/>
              <a:ext cx="98280" cy="185760"/>
            </a:xfrm>
            <a:custGeom>
              <a:avLst/>
              <a:gdLst/>
              <a:ahLst/>
              <a:rect l="l" t="t" r="r" b="b"/>
              <a:pathLst>
                <a:path w="54" h="102">
                  <a:moveTo>
                    <a:pt x="9" y="22"/>
                  </a:moveTo>
                  <a:cubicBezTo>
                    <a:pt x="9" y="22"/>
                    <a:pt x="30" y="45"/>
                    <a:pt x="7" y="87"/>
                  </a:cubicBezTo>
                  <a:cubicBezTo>
                    <a:pt x="5" y="92"/>
                    <a:pt x="7" y="98"/>
                    <a:pt x="11" y="100"/>
                  </a:cubicBezTo>
                  <a:cubicBezTo>
                    <a:pt x="13" y="101"/>
                    <a:pt x="15" y="102"/>
                    <a:pt x="17" y="101"/>
                  </a:cubicBezTo>
                  <a:cubicBezTo>
                    <a:pt x="20" y="101"/>
                    <a:pt x="23" y="99"/>
                    <a:pt x="24" y="96"/>
                  </a:cubicBezTo>
                  <a:cubicBezTo>
                    <a:pt x="54" y="41"/>
                    <a:pt x="24" y="10"/>
                    <a:pt x="23" y="9"/>
                  </a:cubicBezTo>
                  <a:cubicBezTo>
                    <a:pt x="23" y="9"/>
                    <a:pt x="14" y="0"/>
                    <a:pt x="7" y="7"/>
                  </a:cubicBezTo>
                  <a:cubicBezTo>
                    <a:pt x="0" y="15"/>
                    <a:pt x="8" y="20"/>
                    <a:pt x="9" y="22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68"/>
            <p:cNvSpPr/>
            <p:nvPr/>
          </p:nvSpPr>
          <p:spPr>
            <a:xfrm>
              <a:off x="6797520" y="4206960"/>
              <a:ext cx="207720" cy="79200"/>
            </a:xfrm>
            <a:custGeom>
              <a:avLst/>
              <a:gdLst/>
              <a:ahLst/>
              <a:rect l="l" t="t" r="r" b="b"/>
              <a:pathLst>
                <a:path w="114" h="44">
                  <a:moveTo>
                    <a:pt x="104" y="43"/>
                  </a:moveTo>
                  <a:cubicBezTo>
                    <a:pt x="101" y="44"/>
                    <a:pt x="99" y="43"/>
                    <a:pt x="97" y="41"/>
                  </a:cubicBezTo>
                  <a:cubicBezTo>
                    <a:pt x="61" y="4"/>
                    <a:pt x="17" y="28"/>
                    <a:pt x="16" y="29"/>
                  </a:cubicBezTo>
                  <a:cubicBezTo>
                    <a:pt x="11" y="32"/>
                    <a:pt x="5" y="30"/>
                    <a:pt x="2" y="25"/>
                  </a:cubicBezTo>
                  <a:cubicBezTo>
                    <a:pt x="0" y="21"/>
                    <a:pt x="1" y="15"/>
                    <a:pt x="6" y="12"/>
                  </a:cubicBezTo>
                  <a:cubicBezTo>
                    <a:pt x="7" y="12"/>
                    <a:pt x="21" y="4"/>
                    <a:pt x="40" y="2"/>
                  </a:cubicBezTo>
                  <a:cubicBezTo>
                    <a:pt x="59" y="0"/>
                    <a:pt x="86" y="2"/>
                    <a:pt x="110" y="27"/>
                  </a:cubicBezTo>
                  <a:cubicBezTo>
                    <a:pt x="114" y="31"/>
                    <a:pt x="114" y="37"/>
                    <a:pt x="110" y="41"/>
                  </a:cubicBezTo>
                  <a:cubicBezTo>
                    <a:pt x="109" y="42"/>
                    <a:pt x="106" y="43"/>
                    <a:pt x="104" y="4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69"/>
            <p:cNvSpPr/>
            <p:nvPr/>
          </p:nvSpPr>
          <p:spPr>
            <a:xfrm>
              <a:off x="7113600" y="4249800"/>
              <a:ext cx="98280" cy="183960"/>
            </a:xfrm>
            <a:custGeom>
              <a:avLst/>
              <a:gdLst/>
              <a:ahLst/>
              <a:rect l="l" t="t" r="r" b="b"/>
              <a:pathLst>
                <a:path w="54" h="101">
                  <a:moveTo>
                    <a:pt x="44" y="101"/>
                  </a:moveTo>
                  <a:cubicBezTo>
                    <a:pt x="43" y="101"/>
                    <a:pt x="41" y="101"/>
                    <a:pt x="40" y="100"/>
                  </a:cubicBezTo>
                  <a:cubicBezTo>
                    <a:pt x="8" y="86"/>
                    <a:pt x="1" y="61"/>
                    <a:pt x="0" y="43"/>
                  </a:cubicBezTo>
                  <a:cubicBezTo>
                    <a:pt x="0" y="24"/>
                    <a:pt x="7" y="8"/>
                    <a:pt x="7" y="8"/>
                  </a:cubicBezTo>
                  <a:cubicBezTo>
                    <a:pt x="9" y="3"/>
                    <a:pt x="15" y="0"/>
                    <a:pt x="20" y="3"/>
                  </a:cubicBezTo>
                  <a:cubicBezTo>
                    <a:pt x="25" y="5"/>
                    <a:pt x="27" y="10"/>
                    <a:pt x="25" y="15"/>
                  </a:cubicBezTo>
                  <a:cubicBezTo>
                    <a:pt x="25" y="16"/>
                    <a:pt x="19" y="28"/>
                    <a:pt x="20" y="43"/>
                  </a:cubicBezTo>
                  <a:cubicBezTo>
                    <a:pt x="20" y="62"/>
                    <a:pt x="29" y="75"/>
                    <a:pt x="47" y="82"/>
                  </a:cubicBezTo>
                  <a:cubicBezTo>
                    <a:pt x="52" y="84"/>
                    <a:pt x="54" y="90"/>
                    <a:pt x="52" y="95"/>
                  </a:cubicBezTo>
                  <a:cubicBezTo>
                    <a:pt x="51" y="99"/>
                    <a:pt x="48" y="101"/>
                    <a:pt x="44" y="101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70"/>
            <p:cNvSpPr/>
            <p:nvPr/>
          </p:nvSpPr>
          <p:spPr>
            <a:xfrm>
              <a:off x="6977160" y="4632480"/>
              <a:ext cx="107640" cy="128520"/>
            </a:xfrm>
            <a:custGeom>
              <a:avLst/>
              <a:gdLst/>
              <a:ahLst/>
              <a:rect l="l" t="t" r="r" b="b"/>
              <a:pathLst>
                <a:path w="59" h="70">
                  <a:moveTo>
                    <a:pt x="49" y="69"/>
                  </a:moveTo>
                  <a:cubicBezTo>
                    <a:pt x="45" y="70"/>
                    <a:pt x="40" y="67"/>
                    <a:pt x="39" y="63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35" y="50"/>
                    <a:pt x="22" y="22"/>
                    <a:pt x="9" y="20"/>
                  </a:cubicBezTo>
                  <a:cubicBezTo>
                    <a:pt x="4" y="19"/>
                    <a:pt x="0" y="14"/>
                    <a:pt x="1" y="9"/>
                  </a:cubicBezTo>
                  <a:cubicBezTo>
                    <a:pt x="2" y="4"/>
                    <a:pt x="7" y="0"/>
                    <a:pt x="12" y="1"/>
                  </a:cubicBezTo>
                  <a:cubicBezTo>
                    <a:pt x="41" y="6"/>
                    <a:pt x="56" y="52"/>
                    <a:pt x="57" y="57"/>
                  </a:cubicBezTo>
                  <a:cubicBezTo>
                    <a:pt x="59" y="62"/>
                    <a:pt x="56" y="67"/>
                    <a:pt x="51" y="69"/>
                  </a:cubicBezTo>
                  <a:cubicBezTo>
                    <a:pt x="50" y="69"/>
                    <a:pt x="50" y="69"/>
                    <a:pt x="49" y="6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71"/>
            <p:cNvSpPr/>
            <p:nvPr/>
          </p:nvSpPr>
          <p:spPr>
            <a:xfrm>
              <a:off x="6885000" y="4564080"/>
              <a:ext cx="144360" cy="13464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17" y="74"/>
                  </a:moveTo>
                  <a:cubicBezTo>
                    <a:pt x="13" y="74"/>
                    <a:pt x="9" y="74"/>
                    <a:pt x="9" y="74"/>
                  </a:cubicBezTo>
                  <a:cubicBezTo>
                    <a:pt x="4" y="74"/>
                    <a:pt x="0" y="69"/>
                    <a:pt x="0" y="64"/>
                  </a:cubicBezTo>
                  <a:cubicBezTo>
                    <a:pt x="0" y="58"/>
                    <a:pt x="5" y="54"/>
                    <a:pt x="10" y="55"/>
                  </a:cubicBezTo>
                  <a:cubicBezTo>
                    <a:pt x="11" y="55"/>
                    <a:pt x="36" y="55"/>
                    <a:pt x="50" y="41"/>
                  </a:cubicBezTo>
                  <a:cubicBezTo>
                    <a:pt x="56" y="34"/>
                    <a:pt x="59" y="24"/>
                    <a:pt x="58" y="11"/>
                  </a:cubicBezTo>
                  <a:cubicBezTo>
                    <a:pt x="58" y="6"/>
                    <a:pt x="61" y="1"/>
                    <a:pt x="67" y="1"/>
                  </a:cubicBezTo>
                  <a:cubicBezTo>
                    <a:pt x="67" y="1"/>
                    <a:pt x="67" y="1"/>
                    <a:pt x="67" y="1"/>
                  </a:cubicBezTo>
                  <a:cubicBezTo>
                    <a:pt x="72" y="0"/>
                    <a:pt x="77" y="4"/>
                    <a:pt x="77" y="10"/>
                  </a:cubicBezTo>
                  <a:cubicBezTo>
                    <a:pt x="79" y="28"/>
                    <a:pt x="74" y="44"/>
                    <a:pt x="64" y="55"/>
                  </a:cubicBezTo>
                  <a:cubicBezTo>
                    <a:pt x="50" y="69"/>
                    <a:pt x="29" y="73"/>
                    <a:pt x="17" y="74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72"/>
            <p:cNvSpPr/>
            <p:nvPr/>
          </p:nvSpPr>
          <p:spPr>
            <a:xfrm>
              <a:off x="6610320" y="4730760"/>
              <a:ext cx="228600" cy="104760"/>
            </a:xfrm>
            <a:custGeom>
              <a:avLst/>
              <a:gdLst/>
              <a:ahLst/>
              <a:rect l="l" t="t" r="r" b="b"/>
              <a:pathLst>
                <a:path w="126" h="57">
                  <a:moveTo>
                    <a:pt x="79" y="56"/>
                  </a:moveTo>
                  <a:cubicBezTo>
                    <a:pt x="58" y="57"/>
                    <a:pt x="42" y="51"/>
                    <a:pt x="30" y="44"/>
                  </a:cubicBezTo>
                  <a:cubicBezTo>
                    <a:pt x="11" y="33"/>
                    <a:pt x="3" y="17"/>
                    <a:pt x="2" y="16"/>
                  </a:cubicBezTo>
                  <a:cubicBezTo>
                    <a:pt x="0" y="11"/>
                    <a:pt x="2" y="5"/>
                    <a:pt x="6" y="3"/>
                  </a:cubicBezTo>
                  <a:cubicBezTo>
                    <a:pt x="11" y="0"/>
                    <a:pt x="17" y="2"/>
                    <a:pt x="19" y="7"/>
                  </a:cubicBezTo>
                  <a:cubicBezTo>
                    <a:pt x="21" y="9"/>
                    <a:pt x="47" y="56"/>
                    <a:pt x="111" y="27"/>
                  </a:cubicBezTo>
                  <a:cubicBezTo>
                    <a:pt x="116" y="25"/>
                    <a:pt x="122" y="27"/>
                    <a:pt x="124" y="32"/>
                  </a:cubicBezTo>
                  <a:cubicBezTo>
                    <a:pt x="126" y="37"/>
                    <a:pt x="124" y="43"/>
                    <a:pt x="119" y="45"/>
                  </a:cubicBezTo>
                  <a:cubicBezTo>
                    <a:pt x="104" y="52"/>
                    <a:pt x="91" y="55"/>
                    <a:pt x="79" y="56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73"/>
            <p:cNvSpPr/>
            <p:nvPr/>
          </p:nvSpPr>
          <p:spPr>
            <a:xfrm>
              <a:off x="6613560" y="4211640"/>
              <a:ext cx="465120" cy="407880"/>
            </a:xfrm>
            <a:custGeom>
              <a:avLst/>
              <a:gdLst/>
              <a:ahLst/>
              <a:rect l="l" t="t" r="r" b="b"/>
              <a:pathLst>
                <a:path w="255" h="224">
                  <a:moveTo>
                    <a:pt x="14" y="223"/>
                  </a:moveTo>
                  <a:cubicBezTo>
                    <a:pt x="9" y="224"/>
                    <a:pt x="4" y="220"/>
                    <a:pt x="4" y="215"/>
                  </a:cubicBezTo>
                  <a:cubicBezTo>
                    <a:pt x="0" y="195"/>
                    <a:pt x="4" y="178"/>
                    <a:pt x="15" y="165"/>
                  </a:cubicBezTo>
                  <a:cubicBezTo>
                    <a:pt x="30" y="147"/>
                    <a:pt x="54" y="142"/>
                    <a:pt x="67" y="140"/>
                  </a:cubicBezTo>
                  <a:cubicBezTo>
                    <a:pt x="74" y="111"/>
                    <a:pt x="89" y="91"/>
                    <a:pt x="110" y="80"/>
                  </a:cubicBezTo>
                  <a:cubicBezTo>
                    <a:pt x="135" y="66"/>
                    <a:pt x="163" y="69"/>
                    <a:pt x="180" y="73"/>
                  </a:cubicBezTo>
                  <a:cubicBezTo>
                    <a:pt x="180" y="68"/>
                    <a:pt x="180" y="62"/>
                    <a:pt x="182" y="55"/>
                  </a:cubicBezTo>
                  <a:cubicBezTo>
                    <a:pt x="186" y="38"/>
                    <a:pt x="200" y="16"/>
                    <a:pt x="241" y="1"/>
                  </a:cubicBezTo>
                  <a:cubicBezTo>
                    <a:pt x="246" y="0"/>
                    <a:pt x="251" y="2"/>
                    <a:pt x="253" y="7"/>
                  </a:cubicBezTo>
                  <a:cubicBezTo>
                    <a:pt x="255" y="12"/>
                    <a:pt x="252" y="18"/>
                    <a:pt x="247" y="20"/>
                  </a:cubicBezTo>
                  <a:cubicBezTo>
                    <a:pt x="222" y="29"/>
                    <a:pt x="206" y="42"/>
                    <a:pt x="201" y="59"/>
                  </a:cubicBezTo>
                  <a:cubicBezTo>
                    <a:pt x="197" y="72"/>
                    <a:pt x="200" y="83"/>
                    <a:pt x="201" y="83"/>
                  </a:cubicBezTo>
                  <a:cubicBezTo>
                    <a:pt x="207" y="103"/>
                    <a:pt x="207" y="103"/>
                    <a:pt x="207" y="103"/>
                  </a:cubicBezTo>
                  <a:cubicBezTo>
                    <a:pt x="188" y="95"/>
                    <a:pt x="188" y="95"/>
                    <a:pt x="188" y="95"/>
                  </a:cubicBezTo>
                  <a:cubicBezTo>
                    <a:pt x="187" y="95"/>
                    <a:pt x="149" y="80"/>
                    <a:pt x="119" y="97"/>
                  </a:cubicBezTo>
                  <a:cubicBezTo>
                    <a:pt x="101" y="106"/>
                    <a:pt x="90" y="125"/>
                    <a:pt x="84" y="152"/>
                  </a:cubicBezTo>
                  <a:cubicBezTo>
                    <a:pt x="82" y="159"/>
                    <a:pt x="82" y="159"/>
                    <a:pt x="82" y="159"/>
                  </a:cubicBezTo>
                  <a:cubicBezTo>
                    <a:pt x="75" y="159"/>
                    <a:pt x="75" y="159"/>
                    <a:pt x="75" y="159"/>
                  </a:cubicBezTo>
                  <a:cubicBezTo>
                    <a:pt x="74" y="159"/>
                    <a:pt x="44" y="160"/>
                    <a:pt x="30" y="177"/>
                  </a:cubicBezTo>
                  <a:cubicBezTo>
                    <a:pt x="22" y="186"/>
                    <a:pt x="20" y="197"/>
                    <a:pt x="23" y="212"/>
                  </a:cubicBezTo>
                  <a:cubicBezTo>
                    <a:pt x="24" y="217"/>
                    <a:pt x="20" y="222"/>
                    <a:pt x="15" y="223"/>
                  </a:cubicBezTo>
                  <a:cubicBezTo>
                    <a:pt x="14" y="223"/>
                    <a:pt x="14" y="223"/>
                    <a:pt x="14" y="22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74"/>
            <p:cNvSpPr/>
            <p:nvPr/>
          </p:nvSpPr>
          <p:spPr>
            <a:xfrm>
              <a:off x="6462720" y="4579920"/>
              <a:ext cx="191880" cy="102960"/>
            </a:xfrm>
            <a:custGeom>
              <a:avLst/>
              <a:gdLst/>
              <a:ahLst/>
              <a:rect l="l" t="t" r="r" b="b"/>
              <a:pathLst>
                <a:path w="106" h="57">
                  <a:moveTo>
                    <a:pt x="12" y="57"/>
                  </a:moveTo>
                  <a:cubicBezTo>
                    <a:pt x="10" y="57"/>
                    <a:pt x="8" y="56"/>
                    <a:pt x="7" y="55"/>
                  </a:cubicBezTo>
                  <a:cubicBezTo>
                    <a:pt x="2" y="53"/>
                    <a:pt x="0" y="47"/>
                    <a:pt x="3" y="42"/>
                  </a:cubicBezTo>
                  <a:cubicBezTo>
                    <a:pt x="3" y="41"/>
                    <a:pt x="10" y="29"/>
                    <a:pt x="25" y="19"/>
                  </a:cubicBezTo>
                  <a:cubicBezTo>
                    <a:pt x="38" y="10"/>
                    <a:pt x="62" y="0"/>
                    <a:pt x="98" y="6"/>
                  </a:cubicBezTo>
                  <a:cubicBezTo>
                    <a:pt x="103" y="7"/>
                    <a:pt x="106" y="12"/>
                    <a:pt x="106" y="17"/>
                  </a:cubicBezTo>
                  <a:cubicBezTo>
                    <a:pt x="105" y="23"/>
                    <a:pt x="100" y="26"/>
                    <a:pt x="94" y="25"/>
                  </a:cubicBezTo>
                  <a:cubicBezTo>
                    <a:pt x="40" y="16"/>
                    <a:pt x="21" y="50"/>
                    <a:pt x="20" y="51"/>
                  </a:cubicBezTo>
                  <a:cubicBezTo>
                    <a:pt x="18" y="54"/>
                    <a:pt x="15" y="56"/>
                    <a:pt x="12" y="57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75"/>
            <p:cNvSpPr/>
            <p:nvPr/>
          </p:nvSpPr>
          <p:spPr>
            <a:xfrm>
              <a:off x="7095960" y="4448160"/>
              <a:ext cx="163440" cy="263520"/>
            </a:xfrm>
            <a:custGeom>
              <a:avLst/>
              <a:gdLst/>
              <a:ahLst/>
              <a:rect l="l" t="t" r="r" b="b"/>
              <a:pathLst>
                <a:path w="90" h="144">
                  <a:moveTo>
                    <a:pt x="11" y="144"/>
                  </a:moveTo>
                  <a:cubicBezTo>
                    <a:pt x="7" y="144"/>
                    <a:pt x="2" y="141"/>
                    <a:pt x="1" y="136"/>
                  </a:cubicBezTo>
                  <a:cubicBezTo>
                    <a:pt x="0" y="131"/>
                    <a:pt x="3" y="126"/>
                    <a:pt x="8" y="124"/>
                  </a:cubicBezTo>
                  <a:cubicBezTo>
                    <a:pt x="32" y="119"/>
                    <a:pt x="47" y="109"/>
                    <a:pt x="54" y="93"/>
                  </a:cubicBezTo>
                  <a:cubicBezTo>
                    <a:pt x="68" y="61"/>
                    <a:pt x="44" y="17"/>
                    <a:pt x="44" y="16"/>
                  </a:cubicBezTo>
                  <a:cubicBezTo>
                    <a:pt x="41" y="11"/>
                    <a:pt x="43" y="6"/>
                    <a:pt x="48" y="3"/>
                  </a:cubicBezTo>
                  <a:cubicBezTo>
                    <a:pt x="52" y="0"/>
                    <a:pt x="58" y="2"/>
                    <a:pt x="61" y="7"/>
                  </a:cubicBezTo>
                  <a:cubicBezTo>
                    <a:pt x="62" y="9"/>
                    <a:pt x="90" y="60"/>
                    <a:pt x="72" y="101"/>
                  </a:cubicBezTo>
                  <a:cubicBezTo>
                    <a:pt x="62" y="122"/>
                    <a:pt x="42" y="137"/>
                    <a:pt x="13" y="143"/>
                  </a:cubicBezTo>
                  <a:cubicBezTo>
                    <a:pt x="12" y="143"/>
                    <a:pt x="12" y="144"/>
                    <a:pt x="11" y="144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76"/>
            <p:cNvSpPr/>
            <p:nvPr/>
          </p:nvSpPr>
          <p:spPr>
            <a:xfrm>
              <a:off x="6384960" y="4311720"/>
              <a:ext cx="147600" cy="20448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4" y="112"/>
                  </a:moveTo>
                  <a:cubicBezTo>
                    <a:pt x="10" y="112"/>
                    <a:pt x="6" y="110"/>
                    <a:pt x="6" y="105"/>
                  </a:cubicBezTo>
                  <a:cubicBezTo>
                    <a:pt x="0" y="78"/>
                    <a:pt x="3" y="54"/>
                    <a:pt x="16" y="35"/>
                  </a:cubicBezTo>
                  <a:cubicBezTo>
                    <a:pt x="36" y="7"/>
                    <a:pt x="69" y="1"/>
                    <a:pt x="71" y="1"/>
                  </a:cubicBezTo>
                  <a:cubicBezTo>
                    <a:pt x="75" y="0"/>
                    <a:pt x="80" y="3"/>
                    <a:pt x="80" y="8"/>
                  </a:cubicBezTo>
                  <a:cubicBezTo>
                    <a:pt x="81" y="12"/>
                    <a:pt x="78" y="17"/>
                    <a:pt x="73" y="17"/>
                  </a:cubicBezTo>
                  <a:cubicBezTo>
                    <a:pt x="73" y="17"/>
                    <a:pt x="73" y="17"/>
                    <a:pt x="73" y="17"/>
                  </a:cubicBezTo>
                  <a:cubicBezTo>
                    <a:pt x="73" y="17"/>
                    <a:pt x="45" y="23"/>
                    <a:pt x="30" y="45"/>
                  </a:cubicBezTo>
                  <a:cubicBezTo>
                    <a:pt x="20" y="60"/>
                    <a:pt x="17" y="79"/>
                    <a:pt x="22" y="102"/>
                  </a:cubicBezTo>
                  <a:cubicBezTo>
                    <a:pt x="23" y="107"/>
                    <a:pt x="20" y="111"/>
                    <a:pt x="16" y="112"/>
                  </a:cubicBezTo>
                  <a:cubicBezTo>
                    <a:pt x="15" y="112"/>
                    <a:pt x="15" y="112"/>
                    <a:pt x="14" y="112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77"/>
            <p:cNvSpPr/>
            <p:nvPr/>
          </p:nvSpPr>
          <p:spPr>
            <a:xfrm>
              <a:off x="6835680" y="4765680"/>
              <a:ext cx="187200" cy="11268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40" y="62"/>
                  </a:moveTo>
                  <a:cubicBezTo>
                    <a:pt x="30" y="62"/>
                    <a:pt x="20" y="61"/>
                    <a:pt x="8" y="56"/>
                  </a:cubicBezTo>
                  <a:cubicBezTo>
                    <a:pt x="3" y="54"/>
                    <a:pt x="0" y="49"/>
                    <a:pt x="2" y="44"/>
                  </a:cubicBezTo>
                  <a:cubicBezTo>
                    <a:pt x="4" y="39"/>
                    <a:pt x="10" y="36"/>
                    <a:pt x="15" y="38"/>
                  </a:cubicBezTo>
                  <a:cubicBezTo>
                    <a:pt x="60" y="56"/>
                    <a:pt x="82" y="9"/>
                    <a:pt x="83" y="7"/>
                  </a:cubicBezTo>
                  <a:cubicBezTo>
                    <a:pt x="85" y="3"/>
                    <a:pt x="91" y="0"/>
                    <a:pt x="96" y="3"/>
                  </a:cubicBezTo>
                  <a:cubicBezTo>
                    <a:pt x="101" y="5"/>
                    <a:pt x="103" y="11"/>
                    <a:pt x="101" y="15"/>
                  </a:cubicBezTo>
                  <a:cubicBezTo>
                    <a:pt x="100" y="16"/>
                    <a:pt x="93" y="32"/>
                    <a:pt x="78" y="45"/>
                  </a:cubicBezTo>
                  <a:cubicBezTo>
                    <a:pt x="69" y="53"/>
                    <a:pt x="56" y="60"/>
                    <a:pt x="40" y="62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78"/>
            <p:cNvSpPr/>
            <p:nvPr/>
          </p:nvSpPr>
          <p:spPr>
            <a:xfrm>
              <a:off x="6429240" y="4694400"/>
              <a:ext cx="182520" cy="158760"/>
            </a:xfrm>
            <a:custGeom>
              <a:avLst/>
              <a:gdLst/>
              <a:ahLst/>
              <a:rect l="l" t="t" r="r" b="b"/>
              <a:pathLst>
                <a:path w="100" h="87">
                  <a:moveTo>
                    <a:pt x="93" y="86"/>
                  </a:moveTo>
                  <a:cubicBezTo>
                    <a:pt x="93" y="86"/>
                    <a:pt x="93" y="86"/>
                    <a:pt x="93" y="86"/>
                  </a:cubicBezTo>
                  <a:cubicBezTo>
                    <a:pt x="63" y="87"/>
                    <a:pt x="38" y="74"/>
                    <a:pt x="20" y="49"/>
                  </a:cubicBezTo>
                  <a:cubicBezTo>
                    <a:pt x="6" y="30"/>
                    <a:pt x="1" y="12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ubicBezTo>
                    <a:pt x="11" y="0"/>
                    <a:pt x="15" y="3"/>
                    <a:pt x="16" y="7"/>
                  </a:cubicBezTo>
                  <a:cubicBezTo>
                    <a:pt x="16" y="7"/>
                    <a:pt x="21" y="24"/>
                    <a:pt x="33" y="40"/>
                  </a:cubicBezTo>
                  <a:cubicBezTo>
                    <a:pt x="48" y="60"/>
                    <a:pt x="68" y="71"/>
                    <a:pt x="93" y="71"/>
                  </a:cubicBezTo>
                  <a:cubicBezTo>
                    <a:pt x="97" y="71"/>
                    <a:pt x="100" y="74"/>
                    <a:pt x="100" y="78"/>
                  </a:cubicBezTo>
                  <a:cubicBezTo>
                    <a:pt x="100" y="83"/>
                    <a:pt x="97" y="86"/>
                    <a:pt x="93" y="86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79"/>
            <p:cNvSpPr/>
            <p:nvPr/>
          </p:nvSpPr>
          <p:spPr>
            <a:xfrm>
              <a:off x="6675480" y="4102200"/>
              <a:ext cx="185760" cy="104760"/>
            </a:xfrm>
            <a:custGeom>
              <a:avLst/>
              <a:gdLst/>
              <a:ahLst/>
              <a:rect l="l" t="t" r="r" b="b"/>
              <a:pathLst>
                <a:path w="102" h="57">
                  <a:moveTo>
                    <a:pt x="9" y="57"/>
                  </a:moveTo>
                  <a:cubicBezTo>
                    <a:pt x="8" y="57"/>
                    <a:pt x="6" y="57"/>
                    <a:pt x="5" y="56"/>
                  </a:cubicBezTo>
                  <a:cubicBezTo>
                    <a:pt x="1" y="54"/>
                    <a:pt x="0" y="49"/>
                    <a:pt x="2" y="45"/>
                  </a:cubicBezTo>
                  <a:cubicBezTo>
                    <a:pt x="26" y="0"/>
                    <a:pt x="92" y="9"/>
                    <a:pt x="95" y="9"/>
                  </a:cubicBezTo>
                  <a:cubicBezTo>
                    <a:pt x="99" y="10"/>
                    <a:pt x="102" y="14"/>
                    <a:pt x="101" y="18"/>
                  </a:cubicBezTo>
                  <a:cubicBezTo>
                    <a:pt x="101" y="23"/>
                    <a:pt x="97" y="26"/>
                    <a:pt x="92" y="25"/>
                  </a:cubicBezTo>
                  <a:cubicBezTo>
                    <a:pt x="92" y="25"/>
                    <a:pt x="92" y="25"/>
                    <a:pt x="92" y="25"/>
                  </a:cubicBezTo>
                  <a:cubicBezTo>
                    <a:pt x="92" y="25"/>
                    <a:pt x="35" y="17"/>
                    <a:pt x="16" y="53"/>
                  </a:cubicBezTo>
                  <a:cubicBezTo>
                    <a:pt x="15" y="55"/>
                    <a:pt x="12" y="57"/>
                    <a:pt x="9" y="57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80"/>
            <p:cNvSpPr/>
            <p:nvPr/>
          </p:nvSpPr>
          <p:spPr>
            <a:xfrm>
              <a:off x="6588000" y="4263840"/>
              <a:ext cx="423720" cy="411120"/>
            </a:xfrm>
            <a:custGeom>
              <a:avLst/>
              <a:gdLst/>
              <a:ahLst/>
              <a:rect l="l" t="t" r="r" b="b"/>
              <a:pathLst>
                <a:path w="233" h="225">
                  <a:moveTo>
                    <a:pt x="229" y="213"/>
                  </a:moveTo>
                  <a:cubicBezTo>
                    <a:pt x="231" y="211"/>
                    <a:pt x="233" y="208"/>
                    <a:pt x="233" y="204"/>
                  </a:cubicBezTo>
                  <a:cubicBezTo>
                    <a:pt x="232" y="199"/>
                    <a:pt x="227" y="195"/>
                    <a:pt x="222" y="196"/>
                  </a:cubicBezTo>
                  <a:cubicBezTo>
                    <a:pt x="152" y="204"/>
                    <a:pt x="112" y="91"/>
                    <a:pt x="111" y="88"/>
                  </a:cubicBezTo>
                  <a:cubicBezTo>
                    <a:pt x="95" y="37"/>
                    <a:pt x="68" y="17"/>
                    <a:pt x="49" y="9"/>
                  </a:cubicBezTo>
                  <a:cubicBezTo>
                    <a:pt x="27" y="0"/>
                    <a:pt x="10" y="3"/>
                    <a:pt x="9" y="4"/>
                  </a:cubicBezTo>
                  <a:cubicBezTo>
                    <a:pt x="4" y="5"/>
                    <a:pt x="0" y="10"/>
                    <a:pt x="1" y="15"/>
                  </a:cubicBezTo>
                  <a:cubicBezTo>
                    <a:pt x="3" y="21"/>
                    <a:pt x="8" y="24"/>
                    <a:pt x="13" y="23"/>
                  </a:cubicBezTo>
                  <a:cubicBezTo>
                    <a:pt x="16" y="22"/>
                    <a:pt x="66" y="13"/>
                    <a:pt x="92" y="94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4" y="100"/>
                    <a:pt x="138" y="225"/>
                    <a:pt x="224" y="215"/>
                  </a:cubicBezTo>
                  <a:cubicBezTo>
                    <a:pt x="226" y="215"/>
                    <a:pt x="227" y="214"/>
                    <a:pt x="229" y="21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81"/>
            <p:cNvSpPr/>
            <p:nvPr/>
          </p:nvSpPr>
          <p:spPr>
            <a:xfrm>
              <a:off x="6935760" y="4513320"/>
              <a:ext cx="149040" cy="8244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61" y="35"/>
                  </a:moveTo>
                  <a:cubicBezTo>
                    <a:pt x="68" y="30"/>
                    <a:pt x="74" y="23"/>
                    <a:pt x="80" y="14"/>
                  </a:cubicBezTo>
                  <a:cubicBezTo>
                    <a:pt x="82" y="10"/>
                    <a:pt x="81" y="5"/>
                    <a:pt x="77" y="2"/>
                  </a:cubicBezTo>
                  <a:cubicBezTo>
                    <a:pt x="74" y="0"/>
                    <a:pt x="69" y="1"/>
                    <a:pt x="66" y="5"/>
                  </a:cubicBezTo>
                  <a:cubicBezTo>
                    <a:pt x="58" y="17"/>
                    <a:pt x="49" y="25"/>
                    <a:pt x="39" y="26"/>
                  </a:cubicBezTo>
                  <a:cubicBezTo>
                    <a:pt x="26" y="29"/>
                    <a:pt x="15" y="20"/>
                    <a:pt x="15" y="20"/>
                  </a:cubicBezTo>
                  <a:cubicBezTo>
                    <a:pt x="11" y="18"/>
                    <a:pt x="6" y="18"/>
                    <a:pt x="3" y="22"/>
                  </a:cubicBezTo>
                  <a:cubicBezTo>
                    <a:pt x="0" y="25"/>
                    <a:pt x="1" y="31"/>
                    <a:pt x="4" y="33"/>
                  </a:cubicBezTo>
                  <a:cubicBezTo>
                    <a:pt x="5" y="34"/>
                    <a:pt x="21" y="46"/>
                    <a:pt x="42" y="43"/>
                  </a:cubicBezTo>
                  <a:cubicBezTo>
                    <a:pt x="49" y="42"/>
                    <a:pt x="55" y="39"/>
                    <a:pt x="61" y="3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Freeform 82"/>
            <p:cNvSpPr/>
            <p:nvPr/>
          </p:nvSpPr>
          <p:spPr>
            <a:xfrm>
              <a:off x="6624720" y="4572000"/>
              <a:ext cx="145800" cy="95040"/>
            </a:xfrm>
            <a:custGeom>
              <a:avLst/>
              <a:gdLst/>
              <a:ahLst/>
              <a:rect l="l" t="t" r="r" b="b"/>
              <a:pathLst>
                <a:path w="80" h="52">
                  <a:moveTo>
                    <a:pt x="76" y="49"/>
                  </a:moveTo>
                  <a:cubicBezTo>
                    <a:pt x="79" y="47"/>
                    <a:pt x="80" y="42"/>
                    <a:pt x="78" y="39"/>
                  </a:cubicBezTo>
                  <a:cubicBezTo>
                    <a:pt x="60" y="0"/>
                    <a:pt x="23" y="4"/>
                    <a:pt x="6" y="12"/>
                  </a:cubicBezTo>
                  <a:cubicBezTo>
                    <a:pt x="2" y="14"/>
                    <a:pt x="0" y="19"/>
                    <a:pt x="2" y="23"/>
                  </a:cubicBezTo>
                  <a:cubicBezTo>
                    <a:pt x="4" y="27"/>
                    <a:pt x="8" y="29"/>
                    <a:pt x="13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6" y="26"/>
                    <a:pt x="47" y="13"/>
                    <a:pt x="63" y="46"/>
                  </a:cubicBezTo>
                  <a:cubicBezTo>
                    <a:pt x="65" y="50"/>
                    <a:pt x="70" y="52"/>
                    <a:pt x="74" y="50"/>
                  </a:cubicBezTo>
                  <a:cubicBezTo>
                    <a:pt x="75" y="50"/>
                    <a:pt x="75" y="49"/>
                    <a:pt x="76" y="4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Freeform 83"/>
            <p:cNvSpPr/>
            <p:nvPr/>
          </p:nvSpPr>
          <p:spPr>
            <a:xfrm>
              <a:off x="6724440" y="4565520"/>
              <a:ext cx="144360" cy="15048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22" y="80"/>
                  </a:moveTo>
                  <a:cubicBezTo>
                    <a:pt x="24" y="79"/>
                    <a:pt x="26" y="75"/>
                    <a:pt x="25" y="72"/>
                  </a:cubicBezTo>
                  <a:cubicBezTo>
                    <a:pt x="17" y="34"/>
                    <a:pt x="71" y="17"/>
                    <a:pt x="72" y="17"/>
                  </a:cubicBezTo>
                  <a:cubicBezTo>
                    <a:pt x="76" y="16"/>
                    <a:pt x="79" y="11"/>
                    <a:pt x="77" y="7"/>
                  </a:cubicBezTo>
                  <a:cubicBezTo>
                    <a:pt x="76" y="2"/>
                    <a:pt x="72" y="0"/>
                    <a:pt x="67" y="1"/>
                  </a:cubicBezTo>
                  <a:cubicBezTo>
                    <a:pt x="43" y="8"/>
                    <a:pt x="0" y="33"/>
                    <a:pt x="9" y="75"/>
                  </a:cubicBezTo>
                  <a:cubicBezTo>
                    <a:pt x="10" y="80"/>
                    <a:pt x="14" y="83"/>
                    <a:pt x="18" y="82"/>
                  </a:cubicBezTo>
                  <a:cubicBezTo>
                    <a:pt x="20" y="81"/>
                    <a:pt x="21" y="81"/>
                    <a:pt x="22" y="80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3" name="Freeform 84"/>
            <p:cNvSpPr/>
            <p:nvPr/>
          </p:nvSpPr>
          <p:spPr>
            <a:xfrm>
              <a:off x="7007040" y="4467240"/>
              <a:ext cx="141120" cy="14760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74" y="79"/>
                  </a:moveTo>
                  <a:cubicBezTo>
                    <a:pt x="76" y="77"/>
                    <a:pt x="78" y="74"/>
                    <a:pt x="77" y="71"/>
                  </a:cubicBezTo>
                  <a:cubicBezTo>
                    <a:pt x="73" y="28"/>
                    <a:pt x="15" y="3"/>
                    <a:pt x="13" y="2"/>
                  </a:cubicBezTo>
                  <a:cubicBezTo>
                    <a:pt x="9" y="0"/>
                    <a:pt x="4" y="2"/>
                    <a:pt x="2" y="6"/>
                  </a:cubicBezTo>
                  <a:cubicBezTo>
                    <a:pt x="0" y="11"/>
                    <a:pt x="2" y="15"/>
                    <a:pt x="6" y="17"/>
                  </a:cubicBezTo>
                  <a:cubicBezTo>
                    <a:pt x="7" y="18"/>
                    <a:pt x="57" y="39"/>
                    <a:pt x="61" y="73"/>
                  </a:cubicBezTo>
                  <a:cubicBezTo>
                    <a:pt x="61" y="77"/>
                    <a:pt x="65" y="81"/>
                    <a:pt x="70" y="80"/>
                  </a:cubicBezTo>
                  <a:cubicBezTo>
                    <a:pt x="71" y="80"/>
                    <a:pt x="73" y="79"/>
                    <a:pt x="74" y="7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4" name="Freeform 94"/>
            <p:cNvSpPr/>
            <p:nvPr/>
          </p:nvSpPr>
          <p:spPr>
            <a:xfrm>
              <a:off x="6551640" y="4824360"/>
              <a:ext cx="231480" cy="11736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2" y="65"/>
                  </a:moveTo>
                  <a:cubicBezTo>
                    <a:pt x="2" y="65"/>
                    <a:pt x="21" y="20"/>
                    <a:pt x="47" y="10"/>
                  </a:cubicBezTo>
                  <a:cubicBezTo>
                    <a:pt x="72" y="0"/>
                    <a:pt x="84" y="0"/>
                    <a:pt x="84" y="0"/>
                  </a:cubicBezTo>
                  <a:cubicBezTo>
                    <a:pt x="86" y="6"/>
                    <a:pt x="86" y="6"/>
                    <a:pt x="86" y="6"/>
                  </a:cubicBezTo>
                  <a:cubicBezTo>
                    <a:pt x="48" y="19"/>
                    <a:pt x="48" y="19"/>
                    <a:pt x="48" y="19"/>
                  </a:cubicBezTo>
                  <a:cubicBezTo>
                    <a:pt x="48" y="19"/>
                    <a:pt x="93" y="22"/>
                    <a:pt x="126" y="10"/>
                  </a:cubicBezTo>
                  <a:cubicBezTo>
                    <a:pt x="126" y="10"/>
                    <a:pt x="127" y="15"/>
                    <a:pt x="126" y="18"/>
                  </a:cubicBezTo>
                  <a:cubicBezTo>
                    <a:pt x="125" y="21"/>
                    <a:pt x="88" y="28"/>
                    <a:pt x="88" y="28"/>
                  </a:cubicBezTo>
                  <a:cubicBezTo>
                    <a:pt x="120" y="28"/>
                    <a:pt x="120" y="28"/>
                    <a:pt x="120" y="28"/>
                  </a:cubicBezTo>
                  <a:cubicBezTo>
                    <a:pt x="120" y="28"/>
                    <a:pt x="120" y="37"/>
                    <a:pt x="115" y="37"/>
                  </a:cubicBezTo>
                  <a:cubicBezTo>
                    <a:pt x="111" y="37"/>
                    <a:pt x="86" y="36"/>
                    <a:pt x="86" y="36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9" y="47"/>
                    <a:pt x="102" y="47"/>
                  </a:cubicBezTo>
                  <a:cubicBezTo>
                    <a:pt x="95" y="47"/>
                    <a:pt x="79" y="40"/>
                    <a:pt x="79" y="40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7" y="49"/>
                    <a:pt x="90" y="53"/>
                    <a:pt x="85" y="53"/>
                  </a:cubicBezTo>
                  <a:cubicBezTo>
                    <a:pt x="79" y="53"/>
                    <a:pt x="67" y="42"/>
                    <a:pt x="67" y="42"/>
                  </a:cubicBezTo>
                  <a:cubicBezTo>
                    <a:pt x="67" y="42"/>
                    <a:pt x="35" y="43"/>
                    <a:pt x="25" y="64"/>
                  </a:cubicBezTo>
                  <a:cubicBezTo>
                    <a:pt x="0" y="64"/>
                    <a:pt x="0" y="64"/>
                    <a:pt x="0" y="64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95"/>
            <p:cNvSpPr/>
            <p:nvPr/>
          </p:nvSpPr>
          <p:spPr>
            <a:xfrm>
              <a:off x="5973480" y="4937040"/>
              <a:ext cx="689040" cy="695160"/>
            </a:xfrm>
            <a:custGeom>
              <a:avLst/>
              <a:gdLst/>
              <a:ahLst/>
              <a:rect l="l" t="t" r="r" b="b"/>
              <a:pathLst>
                <a:path w="378" h="382">
                  <a:moveTo>
                    <a:pt x="11" y="117"/>
                  </a:moveTo>
                  <a:cubicBezTo>
                    <a:pt x="11" y="117"/>
                    <a:pt x="208" y="328"/>
                    <a:pt x="293" y="210"/>
                  </a:cubicBezTo>
                  <a:cubicBezTo>
                    <a:pt x="378" y="93"/>
                    <a:pt x="348" y="0"/>
                    <a:pt x="348" y="0"/>
                  </a:cubicBezTo>
                  <a:cubicBezTo>
                    <a:pt x="313" y="2"/>
                    <a:pt x="313" y="2"/>
                    <a:pt x="313" y="2"/>
                  </a:cubicBezTo>
                  <a:cubicBezTo>
                    <a:pt x="313" y="2"/>
                    <a:pt x="303" y="382"/>
                    <a:pt x="30" y="83"/>
                  </a:cubicBezTo>
                  <a:cubicBezTo>
                    <a:pt x="30" y="83"/>
                    <a:pt x="0" y="71"/>
                    <a:pt x="11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96"/>
            <p:cNvSpPr/>
            <p:nvPr/>
          </p:nvSpPr>
          <p:spPr>
            <a:xfrm>
              <a:off x="5987880" y="4937040"/>
              <a:ext cx="674640" cy="596880"/>
            </a:xfrm>
            <a:custGeom>
              <a:avLst/>
              <a:gdLst/>
              <a:ahLst/>
              <a:rect l="l" t="t" r="r" b="b"/>
              <a:pathLst>
                <a:path w="370" h="328">
                  <a:moveTo>
                    <a:pt x="337" y="0"/>
                  </a:moveTo>
                  <a:cubicBezTo>
                    <a:pt x="335" y="60"/>
                    <a:pt x="319" y="232"/>
                    <a:pt x="213" y="233"/>
                  </a:cubicBezTo>
                  <a:cubicBezTo>
                    <a:pt x="85" y="234"/>
                    <a:pt x="1" y="97"/>
                    <a:pt x="1" y="97"/>
                  </a:cubicBezTo>
                  <a:cubicBezTo>
                    <a:pt x="1" y="97"/>
                    <a:pt x="1" y="97"/>
                    <a:pt x="1" y="97"/>
                  </a:cubicBezTo>
                  <a:cubicBezTo>
                    <a:pt x="0" y="102"/>
                    <a:pt x="1" y="108"/>
                    <a:pt x="3" y="117"/>
                  </a:cubicBezTo>
                  <a:cubicBezTo>
                    <a:pt x="3" y="117"/>
                    <a:pt x="200" y="328"/>
                    <a:pt x="285" y="210"/>
                  </a:cubicBezTo>
                  <a:cubicBezTo>
                    <a:pt x="370" y="93"/>
                    <a:pt x="340" y="0"/>
                    <a:pt x="340" y="0"/>
                  </a:cubicBezTo>
                  <a:lnTo>
                    <a:pt x="33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7" name="Freeform 99"/>
          <p:cNvSpPr/>
          <p:nvPr/>
        </p:nvSpPr>
        <p:spPr>
          <a:xfrm>
            <a:off x="7316640" y="5592600"/>
            <a:ext cx="997200" cy="692280"/>
          </a:xfrm>
          <a:custGeom>
            <a:avLst/>
            <a:gdLst/>
            <a:ahLst/>
            <a:rect l="l" t="t" r="r" b="b"/>
            <a:pathLst>
              <a:path w="547" h="380">
                <a:moveTo>
                  <a:pt x="384" y="78"/>
                </a:moveTo>
                <a:cubicBezTo>
                  <a:pt x="384" y="78"/>
                  <a:pt x="170" y="0"/>
                  <a:pt x="164" y="56"/>
                </a:cubicBezTo>
                <a:cubicBezTo>
                  <a:pt x="158" y="111"/>
                  <a:pt x="182" y="134"/>
                  <a:pt x="182" y="134"/>
                </a:cubicBezTo>
                <a:cubicBezTo>
                  <a:pt x="174" y="311"/>
                  <a:pt x="23" y="198"/>
                  <a:pt x="23" y="198"/>
                </a:cubicBezTo>
                <a:cubicBezTo>
                  <a:pt x="0" y="242"/>
                  <a:pt x="0" y="242"/>
                  <a:pt x="0" y="242"/>
                </a:cubicBezTo>
                <a:cubicBezTo>
                  <a:pt x="188" y="380"/>
                  <a:pt x="245" y="147"/>
                  <a:pt x="245" y="147"/>
                </a:cubicBezTo>
                <a:cubicBezTo>
                  <a:pt x="326" y="161"/>
                  <a:pt x="396" y="117"/>
                  <a:pt x="396" y="117"/>
                </a:cubicBezTo>
                <a:cubicBezTo>
                  <a:pt x="396" y="117"/>
                  <a:pt x="547" y="145"/>
                  <a:pt x="457" y="255"/>
                </a:cubicBezTo>
                <a:cubicBezTo>
                  <a:pt x="448" y="266"/>
                  <a:pt x="448" y="266"/>
                  <a:pt x="448" y="266"/>
                </a:cubicBezTo>
                <a:cubicBezTo>
                  <a:pt x="496" y="299"/>
                  <a:pt x="496" y="299"/>
                  <a:pt x="496" y="299"/>
                </a:cubicBezTo>
                <a:cubicBezTo>
                  <a:pt x="496" y="299"/>
                  <a:pt x="525" y="252"/>
                  <a:pt x="534" y="178"/>
                </a:cubicBezTo>
                <a:cubicBezTo>
                  <a:pt x="543" y="104"/>
                  <a:pt x="455" y="79"/>
                  <a:pt x="402" y="70"/>
                </a:cubicBezTo>
                <a:lnTo>
                  <a:pt x="38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8" name="组合 5"/>
          <p:cNvGrpSpPr/>
          <p:nvPr/>
        </p:nvGrpSpPr>
        <p:grpSpPr>
          <a:xfrm>
            <a:off x="7047000" y="3046320"/>
            <a:ext cx="1280880" cy="3176640"/>
            <a:chOff x="7047000" y="3046320"/>
            <a:chExt cx="1280880" cy="3176640"/>
          </a:xfrm>
        </p:grpSpPr>
        <p:sp>
          <p:nvSpPr>
            <p:cNvPr id="1659" name="Freeform 85">
              <a:hlinkClick r:id="rId3"/>
            </p:cNvPr>
            <p:cNvSpPr/>
            <p:nvPr/>
          </p:nvSpPr>
          <p:spPr>
            <a:xfrm>
              <a:off x="7047000" y="3046320"/>
              <a:ext cx="1268280" cy="1168200"/>
            </a:xfrm>
            <a:custGeom>
              <a:avLst/>
              <a:gdLst/>
              <a:ahLst/>
              <a:rect l="l" t="t" r="r" b="b"/>
              <a:pathLst>
                <a:path w="696" h="642">
                  <a:moveTo>
                    <a:pt x="124" y="214"/>
                  </a:moveTo>
                  <a:cubicBezTo>
                    <a:pt x="114" y="231"/>
                    <a:pt x="0" y="424"/>
                    <a:pt x="189" y="530"/>
                  </a:cubicBezTo>
                  <a:cubicBezTo>
                    <a:pt x="385" y="642"/>
                    <a:pt x="444" y="533"/>
                    <a:pt x="471" y="519"/>
                  </a:cubicBezTo>
                  <a:cubicBezTo>
                    <a:pt x="498" y="505"/>
                    <a:pt x="531" y="545"/>
                    <a:pt x="531" y="545"/>
                  </a:cubicBezTo>
                  <a:cubicBezTo>
                    <a:pt x="570" y="543"/>
                    <a:pt x="570" y="543"/>
                    <a:pt x="570" y="543"/>
                  </a:cubicBezTo>
                  <a:cubicBezTo>
                    <a:pt x="628" y="576"/>
                    <a:pt x="628" y="576"/>
                    <a:pt x="628" y="576"/>
                  </a:cubicBezTo>
                  <a:cubicBezTo>
                    <a:pt x="651" y="565"/>
                    <a:pt x="651" y="565"/>
                    <a:pt x="651" y="565"/>
                  </a:cubicBezTo>
                  <a:cubicBezTo>
                    <a:pt x="685" y="532"/>
                    <a:pt x="685" y="532"/>
                    <a:pt x="685" y="532"/>
                  </a:cubicBezTo>
                  <a:cubicBezTo>
                    <a:pt x="696" y="486"/>
                    <a:pt x="696" y="486"/>
                    <a:pt x="696" y="486"/>
                  </a:cubicBezTo>
                  <a:cubicBezTo>
                    <a:pt x="694" y="461"/>
                    <a:pt x="694" y="461"/>
                    <a:pt x="694" y="461"/>
                  </a:cubicBezTo>
                  <a:cubicBezTo>
                    <a:pt x="635" y="427"/>
                    <a:pt x="635" y="427"/>
                    <a:pt x="635" y="427"/>
                  </a:cubicBezTo>
                  <a:cubicBezTo>
                    <a:pt x="617" y="393"/>
                    <a:pt x="617" y="393"/>
                    <a:pt x="617" y="393"/>
                  </a:cubicBezTo>
                  <a:cubicBezTo>
                    <a:pt x="617" y="393"/>
                    <a:pt x="565" y="385"/>
                    <a:pt x="564" y="355"/>
                  </a:cubicBezTo>
                  <a:cubicBezTo>
                    <a:pt x="562" y="325"/>
                    <a:pt x="625" y="218"/>
                    <a:pt x="428" y="107"/>
                  </a:cubicBezTo>
                  <a:cubicBezTo>
                    <a:pt x="240" y="0"/>
                    <a:pt x="133" y="197"/>
                    <a:pt x="124" y="214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86"/>
            <p:cNvSpPr/>
            <p:nvPr/>
          </p:nvSpPr>
          <p:spPr>
            <a:xfrm>
              <a:off x="8186760" y="3860640"/>
              <a:ext cx="91800" cy="234720"/>
            </a:xfrm>
            <a:custGeom>
              <a:avLst/>
              <a:gdLst/>
              <a:ahLst/>
              <a:rect l="l" t="t" r="r" b="b"/>
              <a:pathLst>
                <a:path w="50" h="129">
                  <a:moveTo>
                    <a:pt x="0" y="129"/>
                  </a:moveTo>
                  <a:cubicBezTo>
                    <a:pt x="0" y="129"/>
                    <a:pt x="32" y="27"/>
                    <a:pt x="50" y="5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9" y="61"/>
                    <a:pt x="0" y="12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87"/>
            <p:cNvSpPr/>
            <p:nvPr/>
          </p:nvSpPr>
          <p:spPr>
            <a:xfrm>
              <a:off x="8155080" y="3841560"/>
              <a:ext cx="90360" cy="234720"/>
            </a:xfrm>
            <a:custGeom>
              <a:avLst/>
              <a:gdLst/>
              <a:ahLst/>
              <a:rect l="l" t="t" r="r" b="b"/>
              <a:pathLst>
                <a:path w="50" h="129">
                  <a:moveTo>
                    <a:pt x="0" y="129"/>
                  </a:moveTo>
                  <a:cubicBezTo>
                    <a:pt x="0" y="129"/>
                    <a:pt x="32" y="27"/>
                    <a:pt x="50" y="4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9" y="61"/>
                    <a:pt x="0" y="12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88"/>
            <p:cNvSpPr/>
            <p:nvPr/>
          </p:nvSpPr>
          <p:spPr>
            <a:xfrm>
              <a:off x="8121600" y="3824280"/>
              <a:ext cx="91800" cy="233280"/>
            </a:xfrm>
            <a:custGeom>
              <a:avLst/>
              <a:gdLst/>
              <a:ahLst/>
              <a:rect l="l" t="t" r="r" b="b"/>
              <a:pathLst>
                <a:path w="50" h="128">
                  <a:moveTo>
                    <a:pt x="0" y="128"/>
                  </a:moveTo>
                  <a:cubicBezTo>
                    <a:pt x="0" y="128"/>
                    <a:pt x="32" y="27"/>
                    <a:pt x="50" y="4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9" y="60"/>
                    <a:pt x="0" y="128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89"/>
            <p:cNvSpPr/>
            <p:nvPr/>
          </p:nvSpPr>
          <p:spPr>
            <a:xfrm>
              <a:off x="8013600" y="3762360"/>
              <a:ext cx="182520" cy="276120"/>
            </a:xfrm>
            <a:custGeom>
              <a:avLst/>
              <a:gdLst/>
              <a:ahLst/>
              <a:rect l="l" t="t" r="r" b="b"/>
              <a:pathLst>
                <a:path w="100" h="152">
                  <a:moveTo>
                    <a:pt x="0" y="152"/>
                  </a:moveTo>
                  <a:cubicBezTo>
                    <a:pt x="86" y="0"/>
                    <a:pt x="86" y="0"/>
                    <a:pt x="86" y="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44" y="94"/>
                    <a:pt x="39" y="150"/>
                  </a:cubicBezTo>
                  <a:lnTo>
                    <a:pt x="0" y="15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90"/>
            <p:cNvSpPr/>
            <p:nvPr/>
          </p:nvSpPr>
          <p:spPr>
            <a:xfrm>
              <a:off x="8205840" y="3903480"/>
              <a:ext cx="101520" cy="177480"/>
            </a:xfrm>
            <a:custGeom>
              <a:avLst/>
              <a:gdLst/>
              <a:ahLst/>
              <a:rect l="l" t="t" r="r" b="b"/>
              <a:pathLst>
                <a:path w="64" h="112">
                  <a:moveTo>
                    <a:pt x="0" y="112"/>
                  </a:moveTo>
                  <a:lnTo>
                    <a:pt x="63" y="0"/>
                  </a:lnTo>
                  <a:lnTo>
                    <a:pt x="64" y="19"/>
                  </a:lnTo>
                  <a:lnTo>
                    <a:pt x="54" y="68"/>
                  </a:lnTo>
                  <a:lnTo>
                    <a:pt x="16" y="105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91"/>
            <p:cNvSpPr/>
            <p:nvPr/>
          </p:nvSpPr>
          <p:spPr>
            <a:xfrm>
              <a:off x="7524720" y="3463560"/>
              <a:ext cx="550800" cy="457200"/>
            </a:xfrm>
            <a:custGeom>
              <a:avLst/>
              <a:gdLst/>
              <a:ahLst/>
              <a:rect l="l" t="t" r="r" b="b"/>
              <a:pathLst>
                <a:path w="303" h="251">
                  <a:moveTo>
                    <a:pt x="111" y="1"/>
                  </a:moveTo>
                  <a:cubicBezTo>
                    <a:pt x="109" y="1"/>
                    <a:pt x="107" y="3"/>
                    <a:pt x="106" y="5"/>
                  </a:cubicBezTo>
                  <a:cubicBezTo>
                    <a:pt x="104" y="8"/>
                    <a:pt x="103" y="11"/>
                    <a:pt x="103" y="14"/>
                  </a:cubicBezTo>
                  <a:cubicBezTo>
                    <a:pt x="102" y="20"/>
                    <a:pt x="107" y="29"/>
                    <a:pt x="116" y="40"/>
                  </a:cubicBezTo>
                  <a:cubicBezTo>
                    <a:pt x="115" y="44"/>
                    <a:pt x="113" y="48"/>
                    <a:pt x="110" y="52"/>
                  </a:cubicBezTo>
                  <a:cubicBezTo>
                    <a:pt x="109" y="54"/>
                    <a:pt x="108" y="57"/>
                    <a:pt x="106" y="59"/>
                  </a:cubicBezTo>
                  <a:cubicBezTo>
                    <a:pt x="96" y="75"/>
                    <a:pt x="88" y="88"/>
                    <a:pt x="82" y="99"/>
                  </a:cubicBezTo>
                  <a:cubicBezTo>
                    <a:pt x="80" y="103"/>
                    <a:pt x="78" y="106"/>
                    <a:pt x="76" y="109"/>
                  </a:cubicBezTo>
                  <a:cubicBezTo>
                    <a:pt x="74" y="112"/>
                    <a:pt x="72" y="116"/>
                    <a:pt x="70" y="119"/>
                  </a:cubicBezTo>
                  <a:cubicBezTo>
                    <a:pt x="64" y="130"/>
                    <a:pt x="57" y="144"/>
                    <a:pt x="48" y="161"/>
                  </a:cubicBezTo>
                  <a:cubicBezTo>
                    <a:pt x="47" y="164"/>
                    <a:pt x="46" y="166"/>
                    <a:pt x="45" y="168"/>
                  </a:cubicBezTo>
                  <a:cubicBezTo>
                    <a:pt x="43" y="172"/>
                    <a:pt x="40" y="176"/>
                    <a:pt x="37" y="179"/>
                  </a:cubicBezTo>
                  <a:cubicBezTo>
                    <a:pt x="24" y="177"/>
                    <a:pt x="13" y="177"/>
                    <a:pt x="8" y="181"/>
                  </a:cubicBezTo>
                  <a:cubicBezTo>
                    <a:pt x="5" y="183"/>
                    <a:pt x="3" y="186"/>
                    <a:pt x="2" y="188"/>
                  </a:cubicBezTo>
                  <a:cubicBezTo>
                    <a:pt x="1" y="190"/>
                    <a:pt x="0" y="193"/>
                    <a:pt x="1" y="195"/>
                  </a:cubicBezTo>
                  <a:cubicBezTo>
                    <a:pt x="1" y="197"/>
                    <a:pt x="3" y="199"/>
                    <a:pt x="4" y="200"/>
                  </a:cubicBezTo>
                  <a:cubicBezTo>
                    <a:pt x="12" y="204"/>
                    <a:pt x="26" y="200"/>
                    <a:pt x="39" y="184"/>
                  </a:cubicBezTo>
                  <a:cubicBezTo>
                    <a:pt x="46" y="185"/>
                    <a:pt x="54" y="186"/>
                    <a:pt x="62" y="188"/>
                  </a:cubicBezTo>
                  <a:cubicBezTo>
                    <a:pt x="101" y="196"/>
                    <a:pt x="157" y="211"/>
                    <a:pt x="202" y="225"/>
                  </a:cubicBezTo>
                  <a:cubicBezTo>
                    <a:pt x="247" y="239"/>
                    <a:pt x="282" y="251"/>
                    <a:pt x="282" y="251"/>
                  </a:cubicBezTo>
                  <a:cubicBezTo>
                    <a:pt x="284" y="246"/>
                    <a:pt x="284" y="246"/>
                    <a:pt x="284" y="246"/>
                  </a:cubicBezTo>
                  <a:cubicBezTo>
                    <a:pt x="284" y="246"/>
                    <a:pt x="221" y="225"/>
                    <a:pt x="156" y="207"/>
                  </a:cubicBezTo>
                  <a:cubicBezTo>
                    <a:pt x="123" y="197"/>
                    <a:pt x="89" y="188"/>
                    <a:pt x="63" y="183"/>
                  </a:cubicBezTo>
                  <a:cubicBezTo>
                    <a:pt x="55" y="182"/>
                    <a:pt x="49" y="181"/>
                    <a:pt x="43" y="180"/>
                  </a:cubicBezTo>
                  <a:cubicBezTo>
                    <a:pt x="45" y="177"/>
                    <a:pt x="47" y="173"/>
                    <a:pt x="49" y="170"/>
                  </a:cubicBezTo>
                  <a:cubicBezTo>
                    <a:pt x="50" y="168"/>
                    <a:pt x="51" y="166"/>
                    <a:pt x="52" y="163"/>
                  </a:cubicBezTo>
                  <a:cubicBezTo>
                    <a:pt x="58" y="151"/>
                    <a:pt x="64" y="141"/>
                    <a:pt x="68" y="132"/>
                  </a:cubicBezTo>
                  <a:cubicBezTo>
                    <a:pt x="70" y="133"/>
                    <a:pt x="70" y="133"/>
                    <a:pt x="70" y="133"/>
                  </a:cubicBezTo>
                  <a:cubicBezTo>
                    <a:pt x="70" y="133"/>
                    <a:pt x="72" y="126"/>
                    <a:pt x="80" y="112"/>
                  </a:cubicBezTo>
                  <a:cubicBezTo>
                    <a:pt x="88" y="98"/>
                    <a:pt x="93" y="92"/>
                    <a:pt x="93" y="92"/>
                  </a:cubicBezTo>
                  <a:cubicBezTo>
                    <a:pt x="92" y="91"/>
                    <a:pt x="92" y="91"/>
                    <a:pt x="92" y="91"/>
                  </a:cubicBezTo>
                  <a:cubicBezTo>
                    <a:pt x="97" y="82"/>
                    <a:pt x="103" y="72"/>
                    <a:pt x="110" y="61"/>
                  </a:cubicBezTo>
                  <a:cubicBezTo>
                    <a:pt x="112" y="59"/>
                    <a:pt x="113" y="57"/>
                    <a:pt x="114" y="55"/>
                  </a:cubicBezTo>
                  <a:cubicBezTo>
                    <a:pt x="116" y="51"/>
                    <a:pt x="118" y="48"/>
                    <a:pt x="119" y="44"/>
                  </a:cubicBezTo>
                  <a:cubicBezTo>
                    <a:pt x="123" y="49"/>
                    <a:pt x="128" y="54"/>
                    <a:pt x="133" y="60"/>
                  </a:cubicBezTo>
                  <a:cubicBezTo>
                    <a:pt x="188" y="120"/>
                    <a:pt x="300" y="217"/>
                    <a:pt x="300" y="217"/>
                  </a:cubicBezTo>
                  <a:cubicBezTo>
                    <a:pt x="303" y="213"/>
                    <a:pt x="303" y="213"/>
                    <a:pt x="303" y="213"/>
                  </a:cubicBezTo>
                  <a:cubicBezTo>
                    <a:pt x="303" y="213"/>
                    <a:pt x="303" y="213"/>
                    <a:pt x="303" y="213"/>
                  </a:cubicBezTo>
                  <a:cubicBezTo>
                    <a:pt x="303" y="213"/>
                    <a:pt x="253" y="170"/>
                    <a:pt x="204" y="124"/>
                  </a:cubicBezTo>
                  <a:cubicBezTo>
                    <a:pt x="179" y="101"/>
                    <a:pt x="154" y="77"/>
                    <a:pt x="136" y="56"/>
                  </a:cubicBezTo>
                  <a:cubicBezTo>
                    <a:pt x="130" y="50"/>
                    <a:pt x="125" y="45"/>
                    <a:pt x="121" y="39"/>
                  </a:cubicBezTo>
                  <a:cubicBezTo>
                    <a:pt x="128" y="19"/>
                    <a:pt x="124" y="6"/>
                    <a:pt x="117" y="1"/>
                  </a:cubicBezTo>
                  <a:cubicBezTo>
                    <a:pt x="115" y="0"/>
                    <a:pt x="113" y="0"/>
                    <a:pt x="111" y="1"/>
                  </a:cubicBezTo>
                  <a:close/>
                  <a:moveTo>
                    <a:pt x="22" y="193"/>
                  </a:moveTo>
                  <a:cubicBezTo>
                    <a:pt x="15" y="197"/>
                    <a:pt x="9" y="197"/>
                    <a:pt x="7" y="196"/>
                  </a:cubicBezTo>
                  <a:cubicBezTo>
                    <a:pt x="5" y="195"/>
                    <a:pt x="4" y="194"/>
                    <a:pt x="6" y="190"/>
                  </a:cubicBezTo>
                  <a:cubicBezTo>
                    <a:pt x="7" y="189"/>
                    <a:pt x="9" y="187"/>
                    <a:pt x="11" y="185"/>
                  </a:cubicBezTo>
                  <a:cubicBezTo>
                    <a:pt x="13" y="182"/>
                    <a:pt x="22" y="182"/>
                    <a:pt x="34" y="183"/>
                  </a:cubicBezTo>
                  <a:cubicBezTo>
                    <a:pt x="30" y="188"/>
                    <a:pt x="26" y="191"/>
                    <a:pt x="22" y="193"/>
                  </a:cubicBezTo>
                  <a:close/>
                  <a:moveTo>
                    <a:pt x="120" y="20"/>
                  </a:moveTo>
                  <a:cubicBezTo>
                    <a:pt x="120" y="24"/>
                    <a:pt x="120" y="29"/>
                    <a:pt x="118" y="35"/>
                  </a:cubicBezTo>
                  <a:cubicBezTo>
                    <a:pt x="111" y="25"/>
                    <a:pt x="107" y="18"/>
                    <a:pt x="107" y="15"/>
                  </a:cubicBezTo>
                  <a:cubicBezTo>
                    <a:pt x="108" y="12"/>
                    <a:pt x="109" y="9"/>
                    <a:pt x="110" y="8"/>
                  </a:cubicBezTo>
                  <a:cubicBezTo>
                    <a:pt x="112" y="4"/>
                    <a:pt x="113" y="4"/>
                    <a:pt x="115" y="5"/>
                  </a:cubicBezTo>
                  <a:cubicBezTo>
                    <a:pt x="117" y="6"/>
                    <a:pt x="120" y="11"/>
                    <a:pt x="12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92"/>
            <p:cNvSpPr/>
            <p:nvPr/>
          </p:nvSpPr>
          <p:spPr>
            <a:xfrm>
              <a:off x="7281720" y="3260520"/>
              <a:ext cx="527040" cy="334800"/>
            </a:xfrm>
            <a:custGeom>
              <a:avLst/>
              <a:gdLst/>
              <a:ahLst/>
              <a:rect l="l" t="t" r="r" b="b"/>
              <a:pathLst>
                <a:path w="289" h="184">
                  <a:moveTo>
                    <a:pt x="267" y="47"/>
                  </a:moveTo>
                  <a:cubicBezTo>
                    <a:pt x="240" y="32"/>
                    <a:pt x="215" y="29"/>
                    <a:pt x="191" y="34"/>
                  </a:cubicBezTo>
                  <a:cubicBezTo>
                    <a:pt x="191" y="34"/>
                    <a:pt x="191" y="34"/>
                    <a:pt x="191" y="34"/>
                  </a:cubicBezTo>
                  <a:cubicBezTo>
                    <a:pt x="166" y="39"/>
                    <a:pt x="143" y="52"/>
                    <a:pt x="121" y="68"/>
                  </a:cubicBezTo>
                  <a:cubicBezTo>
                    <a:pt x="121" y="68"/>
                    <a:pt x="121" y="68"/>
                    <a:pt x="121" y="68"/>
                  </a:cubicBezTo>
                  <a:cubicBezTo>
                    <a:pt x="78" y="101"/>
                    <a:pt x="45" y="148"/>
                    <a:pt x="33" y="167"/>
                  </a:cubicBezTo>
                  <a:cubicBezTo>
                    <a:pt x="33" y="167"/>
                    <a:pt x="33" y="167"/>
                    <a:pt x="33" y="167"/>
                  </a:cubicBezTo>
                  <a:cubicBezTo>
                    <a:pt x="29" y="172"/>
                    <a:pt x="27" y="175"/>
                    <a:pt x="27" y="175"/>
                  </a:cubicBezTo>
                  <a:cubicBezTo>
                    <a:pt x="27" y="175"/>
                    <a:pt x="27" y="175"/>
                    <a:pt x="27" y="175"/>
                  </a:cubicBezTo>
                  <a:cubicBezTo>
                    <a:pt x="24" y="182"/>
                    <a:pt x="15" y="184"/>
                    <a:pt x="9" y="180"/>
                  </a:cubicBezTo>
                  <a:cubicBezTo>
                    <a:pt x="9" y="180"/>
                    <a:pt x="9" y="180"/>
                    <a:pt x="9" y="180"/>
                  </a:cubicBezTo>
                  <a:cubicBezTo>
                    <a:pt x="2" y="176"/>
                    <a:pt x="0" y="168"/>
                    <a:pt x="4" y="161"/>
                  </a:cubicBezTo>
                  <a:cubicBezTo>
                    <a:pt x="4" y="161"/>
                    <a:pt x="4" y="161"/>
                    <a:pt x="4" y="161"/>
                  </a:cubicBezTo>
                  <a:cubicBezTo>
                    <a:pt x="4" y="161"/>
                    <a:pt x="22" y="131"/>
                    <a:pt x="51" y="97"/>
                  </a:cubicBezTo>
                  <a:cubicBezTo>
                    <a:pt x="51" y="97"/>
                    <a:pt x="51" y="97"/>
                    <a:pt x="51" y="97"/>
                  </a:cubicBezTo>
                  <a:cubicBezTo>
                    <a:pt x="81" y="63"/>
                    <a:pt x="123" y="25"/>
                    <a:pt x="173" y="10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206" y="0"/>
                    <a:pt x="244" y="2"/>
                    <a:pt x="280" y="23"/>
                  </a:cubicBezTo>
                  <a:cubicBezTo>
                    <a:pt x="280" y="23"/>
                    <a:pt x="280" y="23"/>
                    <a:pt x="280" y="23"/>
                  </a:cubicBezTo>
                  <a:cubicBezTo>
                    <a:pt x="287" y="26"/>
                    <a:pt x="289" y="35"/>
                    <a:pt x="286" y="41"/>
                  </a:cubicBezTo>
                  <a:cubicBezTo>
                    <a:pt x="286" y="41"/>
                    <a:pt x="286" y="41"/>
                    <a:pt x="286" y="41"/>
                  </a:cubicBezTo>
                  <a:cubicBezTo>
                    <a:pt x="282" y="48"/>
                    <a:pt x="274" y="50"/>
                    <a:pt x="267" y="47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93"/>
            <p:cNvSpPr/>
            <p:nvPr/>
          </p:nvSpPr>
          <p:spPr>
            <a:xfrm>
              <a:off x="7221600" y="3654360"/>
              <a:ext cx="95040" cy="950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31" y="3"/>
                  </a:moveTo>
                  <a:cubicBezTo>
                    <a:pt x="44" y="6"/>
                    <a:pt x="52" y="19"/>
                    <a:pt x="49" y="32"/>
                  </a:cubicBezTo>
                  <a:cubicBezTo>
                    <a:pt x="45" y="44"/>
                    <a:pt x="33" y="52"/>
                    <a:pt x="20" y="49"/>
                  </a:cubicBezTo>
                  <a:cubicBezTo>
                    <a:pt x="7" y="46"/>
                    <a:pt x="0" y="33"/>
                    <a:pt x="3" y="20"/>
                  </a:cubicBezTo>
                  <a:cubicBezTo>
                    <a:pt x="6" y="8"/>
                    <a:pt x="19" y="0"/>
                    <a:pt x="31" y="3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97"/>
            <p:cNvSpPr/>
            <p:nvPr/>
          </p:nvSpPr>
          <p:spPr>
            <a:xfrm>
              <a:off x="7207200" y="5905440"/>
              <a:ext cx="152280" cy="16956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33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43" y="7"/>
                    <a:pt x="55" y="19"/>
                    <a:pt x="47" y="19"/>
                  </a:cubicBezTo>
                  <a:cubicBezTo>
                    <a:pt x="38" y="19"/>
                    <a:pt x="28" y="19"/>
                    <a:pt x="28" y="19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35" y="52"/>
                    <a:pt x="47" y="54"/>
                  </a:cubicBezTo>
                  <a:cubicBezTo>
                    <a:pt x="59" y="57"/>
                    <a:pt x="64" y="68"/>
                    <a:pt x="64" y="68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98"/>
            <p:cNvSpPr/>
            <p:nvPr/>
          </p:nvSpPr>
          <p:spPr>
            <a:xfrm>
              <a:off x="8099280" y="6081840"/>
              <a:ext cx="179280" cy="141120"/>
            </a:xfrm>
            <a:custGeom>
              <a:avLst/>
              <a:gdLst/>
              <a:ahLst/>
              <a:rect l="l" t="t" r="r" b="b"/>
              <a:pathLst>
                <a:path w="98" h="78">
                  <a:moveTo>
                    <a:pt x="29" y="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8" y="44"/>
                    <a:pt x="19" y="31"/>
                    <a:pt x="19" y="40"/>
                  </a:cubicBezTo>
                  <a:cubicBezTo>
                    <a:pt x="20" y="48"/>
                    <a:pt x="22" y="58"/>
                    <a:pt x="22" y="58"/>
                  </a:cubicBezTo>
                  <a:cubicBezTo>
                    <a:pt x="89" y="78"/>
                    <a:pt x="89" y="78"/>
                    <a:pt x="89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8"/>
                    <a:pt x="54" y="47"/>
                    <a:pt x="55" y="35"/>
                  </a:cubicBezTo>
                  <a:cubicBezTo>
                    <a:pt x="56" y="23"/>
                    <a:pt x="66" y="17"/>
                    <a:pt x="66" y="17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100"/>
            <p:cNvSpPr/>
            <p:nvPr/>
          </p:nvSpPr>
          <p:spPr>
            <a:xfrm>
              <a:off x="8096400" y="4011480"/>
              <a:ext cx="231480" cy="118800"/>
            </a:xfrm>
            <a:custGeom>
              <a:avLst/>
              <a:gdLst/>
              <a:ahLst/>
              <a:rect l="l" t="t" r="r" b="b"/>
              <a:pathLst>
                <a:path w="127" h="65">
                  <a:moveTo>
                    <a:pt x="2" y="65"/>
                  </a:moveTo>
                  <a:cubicBezTo>
                    <a:pt x="2" y="65"/>
                    <a:pt x="21" y="20"/>
                    <a:pt x="46" y="10"/>
                  </a:cubicBezTo>
                  <a:cubicBezTo>
                    <a:pt x="72" y="0"/>
                    <a:pt x="84" y="0"/>
                    <a:pt x="84" y="0"/>
                  </a:cubicBezTo>
                  <a:cubicBezTo>
                    <a:pt x="86" y="6"/>
                    <a:pt x="86" y="6"/>
                    <a:pt x="86" y="6"/>
                  </a:cubicBezTo>
                  <a:cubicBezTo>
                    <a:pt x="47" y="19"/>
                    <a:pt x="47" y="19"/>
                    <a:pt x="47" y="19"/>
                  </a:cubicBezTo>
                  <a:cubicBezTo>
                    <a:pt x="47" y="19"/>
                    <a:pt x="92" y="22"/>
                    <a:pt x="125" y="10"/>
                  </a:cubicBezTo>
                  <a:cubicBezTo>
                    <a:pt x="125" y="10"/>
                    <a:pt x="127" y="15"/>
                    <a:pt x="125" y="18"/>
                  </a:cubicBezTo>
                  <a:cubicBezTo>
                    <a:pt x="124" y="21"/>
                    <a:pt x="88" y="28"/>
                    <a:pt x="88" y="28"/>
                  </a:cubicBezTo>
                  <a:cubicBezTo>
                    <a:pt x="120" y="28"/>
                    <a:pt x="120" y="28"/>
                    <a:pt x="120" y="28"/>
                  </a:cubicBezTo>
                  <a:cubicBezTo>
                    <a:pt x="120" y="28"/>
                    <a:pt x="120" y="37"/>
                    <a:pt x="115" y="37"/>
                  </a:cubicBezTo>
                  <a:cubicBezTo>
                    <a:pt x="110" y="37"/>
                    <a:pt x="86" y="36"/>
                    <a:pt x="86" y="36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9" y="47"/>
                    <a:pt x="102" y="47"/>
                  </a:cubicBezTo>
                  <a:cubicBezTo>
                    <a:pt x="95" y="47"/>
                    <a:pt x="78" y="40"/>
                    <a:pt x="78" y="40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7" y="49"/>
                    <a:pt x="90" y="52"/>
                    <a:pt x="84" y="52"/>
                  </a:cubicBezTo>
                  <a:cubicBezTo>
                    <a:pt x="78" y="52"/>
                    <a:pt x="66" y="42"/>
                    <a:pt x="66" y="42"/>
                  </a:cubicBezTo>
                  <a:cubicBezTo>
                    <a:pt x="66" y="42"/>
                    <a:pt x="34" y="43"/>
                    <a:pt x="25" y="64"/>
                  </a:cubicBezTo>
                  <a:cubicBezTo>
                    <a:pt x="0" y="64"/>
                    <a:pt x="0" y="64"/>
                    <a:pt x="0" y="64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101"/>
            <p:cNvSpPr/>
            <p:nvPr/>
          </p:nvSpPr>
          <p:spPr>
            <a:xfrm>
              <a:off x="7958160" y="4117680"/>
              <a:ext cx="191880" cy="958680"/>
            </a:xfrm>
            <a:custGeom>
              <a:avLst/>
              <a:gdLst/>
              <a:ahLst/>
              <a:rect l="l" t="t" r="r" b="b"/>
              <a:pathLst>
                <a:path w="121" h="604">
                  <a:moveTo>
                    <a:pt x="35" y="604"/>
                  </a:moveTo>
                  <a:lnTo>
                    <a:pt x="37" y="599"/>
                  </a:lnTo>
                  <a:lnTo>
                    <a:pt x="121" y="1"/>
                  </a:lnTo>
                  <a:lnTo>
                    <a:pt x="88" y="0"/>
                  </a:lnTo>
                  <a:lnTo>
                    <a:pt x="0" y="588"/>
                  </a:lnTo>
                  <a:lnTo>
                    <a:pt x="35" y="6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102"/>
            <p:cNvSpPr/>
            <p:nvPr/>
          </p:nvSpPr>
          <p:spPr>
            <a:xfrm>
              <a:off x="7269120" y="3914640"/>
              <a:ext cx="196560" cy="158760"/>
            </a:xfrm>
            <a:custGeom>
              <a:avLst/>
              <a:gdLst/>
              <a:ahLst/>
              <a:rect l="l" t="t" r="r" b="b"/>
              <a:pathLst>
                <a:path w="108" h="87">
                  <a:moveTo>
                    <a:pt x="105" y="87"/>
                  </a:moveTo>
                  <a:cubicBezTo>
                    <a:pt x="105" y="87"/>
                    <a:pt x="100" y="40"/>
                    <a:pt x="78" y="22"/>
                  </a:cubicBezTo>
                  <a:cubicBezTo>
                    <a:pt x="57" y="5"/>
                    <a:pt x="45" y="2"/>
                    <a:pt x="45" y="2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75" y="30"/>
                    <a:pt x="75" y="30"/>
                    <a:pt x="75" y="30"/>
                  </a:cubicBezTo>
                  <a:cubicBezTo>
                    <a:pt x="75" y="30"/>
                    <a:pt x="31" y="21"/>
                    <a:pt x="2" y="0"/>
                  </a:cubicBezTo>
                  <a:cubicBezTo>
                    <a:pt x="2" y="0"/>
                    <a:pt x="0" y="5"/>
                    <a:pt x="0" y="8"/>
                  </a:cubicBezTo>
                  <a:cubicBezTo>
                    <a:pt x="0" y="11"/>
                    <a:pt x="33" y="28"/>
                    <a:pt x="33" y="28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0" y="27"/>
                    <a:pt x="5" y="28"/>
                  </a:cubicBezTo>
                  <a:cubicBezTo>
                    <a:pt x="9" y="30"/>
                    <a:pt x="33" y="36"/>
                    <a:pt x="33" y="36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35"/>
                    <a:pt x="8" y="40"/>
                    <a:pt x="15" y="42"/>
                  </a:cubicBezTo>
                  <a:cubicBezTo>
                    <a:pt x="21" y="44"/>
                    <a:pt x="39" y="42"/>
                    <a:pt x="39" y="42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8" y="48"/>
                    <a:pt x="24" y="50"/>
                    <a:pt x="30" y="52"/>
                  </a:cubicBezTo>
                  <a:cubicBezTo>
                    <a:pt x="35" y="54"/>
                    <a:pt x="50" y="47"/>
                    <a:pt x="50" y="47"/>
                  </a:cubicBezTo>
                  <a:cubicBezTo>
                    <a:pt x="50" y="47"/>
                    <a:pt x="80" y="57"/>
                    <a:pt x="84" y="80"/>
                  </a:cubicBezTo>
                  <a:cubicBezTo>
                    <a:pt x="108" y="87"/>
                    <a:pt x="108" y="87"/>
                    <a:pt x="108" y="87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103"/>
            <p:cNvSpPr/>
            <p:nvPr/>
          </p:nvSpPr>
          <p:spPr>
            <a:xfrm>
              <a:off x="7543800" y="4200480"/>
              <a:ext cx="603000" cy="1004760"/>
            </a:xfrm>
            <a:custGeom>
              <a:avLst/>
              <a:gdLst/>
              <a:ahLst/>
              <a:rect l="l" t="t" r="r" b="b"/>
              <a:pathLst>
                <a:path w="331" h="551">
                  <a:moveTo>
                    <a:pt x="78" y="479"/>
                  </a:moveTo>
                  <a:cubicBezTo>
                    <a:pt x="78" y="479"/>
                    <a:pt x="0" y="315"/>
                    <a:pt x="8" y="173"/>
                  </a:cubicBezTo>
                  <a:cubicBezTo>
                    <a:pt x="9" y="158"/>
                    <a:pt x="14" y="145"/>
                    <a:pt x="19" y="134"/>
                  </a:cubicBezTo>
                  <a:cubicBezTo>
                    <a:pt x="25" y="109"/>
                    <a:pt x="35" y="78"/>
                    <a:pt x="56" y="52"/>
                  </a:cubicBezTo>
                  <a:cubicBezTo>
                    <a:pt x="100" y="0"/>
                    <a:pt x="186" y="11"/>
                    <a:pt x="198" y="5"/>
                  </a:cubicBezTo>
                  <a:cubicBezTo>
                    <a:pt x="198" y="5"/>
                    <a:pt x="331" y="20"/>
                    <a:pt x="252" y="152"/>
                  </a:cubicBezTo>
                  <a:cubicBezTo>
                    <a:pt x="323" y="264"/>
                    <a:pt x="281" y="402"/>
                    <a:pt x="247" y="477"/>
                  </a:cubicBezTo>
                  <a:cubicBezTo>
                    <a:pt x="247" y="477"/>
                    <a:pt x="190" y="551"/>
                    <a:pt x="78" y="479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104"/>
            <p:cNvSpPr/>
            <p:nvPr/>
          </p:nvSpPr>
          <p:spPr>
            <a:xfrm>
              <a:off x="7635960" y="4268520"/>
              <a:ext cx="447480" cy="965160"/>
            </a:xfrm>
            <a:custGeom>
              <a:avLst/>
              <a:gdLst/>
              <a:ahLst/>
              <a:rect l="l" t="t" r="r" b="b"/>
              <a:pathLst>
                <a:path w="246" h="530">
                  <a:moveTo>
                    <a:pt x="187" y="111"/>
                  </a:moveTo>
                  <a:cubicBezTo>
                    <a:pt x="187" y="111"/>
                    <a:pt x="220" y="30"/>
                    <a:pt x="164" y="15"/>
                  </a:cubicBezTo>
                  <a:cubicBezTo>
                    <a:pt x="109" y="0"/>
                    <a:pt x="28" y="14"/>
                    <a:pt x="18" y="95"/>
                  </a:cubicBezTo>
                  <a:cubicBezTo>
                    <a:pt x="7" y="176"/>
                    <a:pt x="0" y="333"/>
                    <a:pt x="20" y="366"/>
                  </a:cubicBezTo>
                  <a:cubicBezTo>
                    <a:pt x="40" y="399"/>
                    <a:pt x="126" y="530"/>
                    <a:pt x="189" y="394"/>
                  </a:cubicBezTo>
                  <a:cubicBezTo>
                    <a:pt x="203" y="365"/>
                    <a:pt x="246" y="192"/>
                    <a:pt x="187" y="111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105"/>
            <p:cNvSpPr/>
            <p:nvPr/>
          </p:nvSpPr>
          <p:spPr>
            <a:xfrm>
              <a:off x="7661160" y="4417920"/>
              <a:ext cx="380880" cy="38736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101" y="44"/>
                  </a:moveTo>
                  <a:cubicBezTo>
                    <a:pt x="101" y="44"/>
                    <a:pt x="66" y="131"/>
                    <a:pt x="0" y="115"/>
                  </a:cubicBezTo>
                  <a:cubicBezTo>
                    <a:pt x="0" y="115"/>
                    <a:pt x="41" y="213"/>
                    <a:pt x="90" y="159"/>
                  </a:cubicBezTo>
                  <a:cubicBezTo>
                    <a:pt x="139" y="106"/>
                    <a:pt x="134" y="185"/>
                    <a:pt x="195" y="175"/>
                  </a:cubicBezTo>
                  <a:cubicBezTo>
                    <a:pt x="209" y="165"/>
                    <a:pt x="209" y="165"/>
                    <a:pt x="209" y="165"/>
                  </a:cubicBezTo>
                  <a:cubicBezTo>
                    <a:pt x="209" y="165"/>
                    <a:pt x="140" y="123"/>
                    <a:pt x="147" y="56"/>
                  </a:cubicBezTo>
                  <a:cubicBezTo>
                    <a:pt x="147" y="56"/>
                    <a:pt x="139" y="0"/>
                    <a:pt x="101" y="44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106"/>
            <p:cNvSpPr/>
            <p:nvPr/>
          </p:nvSpPr>
          <p:spPr>
            <a:xfrm>
              <a:off x="7837560" y="4727520"/>
              <a:ext cx="96840" cy="838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5" y="26"/>
                  </a:moveTo>
                  <a:cubicBezTo>
                    <a:pt x="5" y="26"/>
                    <a:pt x="16" y="0"/>
                    <a:pt x="34" y="13"/>
                  </a:cubicBezTo>
                  <a:cubicBezTo>
                    <a:pt x="53" y="26"/>
                    <a:pt x="49" y="45"/>
                    <a:pt x="49" y="4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2" y="24"/>
                    <a:pt x="20" y="27"/>
                  </a:cubicBezTo>
                  <a:cubicBezTo>
                    <a:pt x="7" y="30"/>
                    <a:pt x="14" y="42"/>
                    <a:pt x="14" y="42"/>
                  </a:cubicBezTo>
                  <a:cubicBezTo>
                    <a:pt x="14" y="42"/>
                    <a:pt x="0" y="46"/>
                    <a:pt x="5" y="2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107"/>
            <p:cNvSpPr/>
            <p:nvPr/>
          </p:nvSpPr>
          <p:spPr>
            <a:xfrm>
              <a:off x="7886520" y="4824360"/>
              <a:ext cx="98280" cy="856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6" y="37"/>
                  </a:moveTo>
                  <a:cubicBezTo>
                    <a:pt x="46" y="37"/>
                    <a:pt x="54" y="11"/>
                    <a:pt x="34" y="6"/>
                  </a:cubicBezTo>
                  <a:cubicBezTo>
                    <a:pt x="14" y="0"/>
                    <a:pt x="0" y="47"/>
                    <a:pt x="0" y="47"/>
                  </a:cubicBezTo>
                  <a:lnTo>
                    <a:pt x="46" y="37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108"/>
            <p:cNvSpPr/>
            <p:nvPr/>
          </p:nvSpPr>
          <p:spPr>
            <a:xfrm>
              <a:off x="7881840" y="4830840"/>
              <a:ext cx="110880" cy="1141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6"/>
                  </a:moveTo>
                  <a:cubicBezTo>
                    <a:pt x="0" y="46"/>
                    <a:pt x="27" y="0"/>
                    <a:pt x="44" y="22"/>
                  </a:cubicBezTo>
                  <a:cubicBezTo>
                    <a:pt x="61" y="44"/>
                    <a:pt x="34" y="62"/>
                    <a:pt x="0" y="4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109"/>
            <p:cNvSpPr/>
            <p:nvPr/>
          </p:nvSpPr>
          <p:spPr>
            <a:xfrm>
              <a:off x="7692840" y="4429080"/>
              <a:ext cx="199800" cy="23940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97" y="25"/>
                  </a:moveTo>
                  <a:cubicBezTo>
                    <a:pt x="97" y="25"/>
                    <a:pt x="55" y="132"/>
                    <a:pt x="0" y="108"/>
                  </a:cubicBezTo>
                  <a:cubicBezTo>
                    <a:pt x="0" y="108"/>
                    <a:pt x="70" y="91"/>
                    <a:pt x="70" y="17"/>
                  </a:cubicBezTo>
                  <a:cubicBezTo>
                    <a:pt x="70" y="17"/>
                    <a:pt x="72" y="0"/>
                    <a:pt x="90" y="1"/>
                  </a:cubicBezTo>
                  <a:cubicBezTo>
                    <a:pt x="109" y="2"/>
                    <a:pt x="97" y="25"/>
                    <a:pt x="97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110"/>
            <p:cNvSpPr/>
            <p:nvPr/>
          </p:nvSpPr>
          <p:spPr>
            <a:xfrm>
              <a:off x="7900920" y="4459320"/>
              <a:ext cx="141120" cy="25848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" y="12"/>
                  </a:moveTo>
                  <a:cubicBezTo>
                    <a:pt x="7" y="12"/>
                    <a:pt x="0" y="114"/>
                    <a:pt x="77" y="142"/>
                  </a:cubicBezTo>
                  <a:cubicBezTo>
                    <a:pt x="77" y="142"/>
                    <a:pt x="31" y="117"/>
                    <a:pt x="31" y="70"/>
                  </a:cubicBezTo>
                  <a:cubicBezTo>
                    <a:pt x="30" y="23"/>
                    <a:pt x="24" y="10"/>
                    <a:pt x="22" y="7"/>
                  </a:cubicBezTo>
                  <a:cubicBezTo>
                    <a:pt x="20" y="5"/>
                    <a:pt x="8" y="0"/>
                    <a:pt x="7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111"/>
            <p:cNvSpPr/>
            <p:nvPr/>
          </p:nvSpPr>
          <p:spPr>
            <a:xfrm>
              <a:off x="7702560" y="4602240"/>
              <a:ext cx="141120" cy="12384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48" y="11"/>
                  </a:moveTo>
                  <a:cubicBezTo>
                    <a:pt x="48" y="11"/>
                    <a:pt x="0" y="68"/>
                    <a:pt x="39" y="65"/>
                  </a:cubicBezTo>
                  <a:cubicBezTo>
                    <a:pt x="77" y="62"/>
                    <a:pt x="77" y="0"/>
                    <a:pt x="4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112"/>
            <p:cNvSpPr/>
            <p:nvPr/>
          </p:nvSpPr>
          <p:spPr>
            <a:xfrm>
              <a:off x="7893000" y="4606920"/>
              <a:ext cx="99720" cy="1206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" y="22"/>
                  </a:moveTo>
                  <a:cubicBezTo>
                    <a:pt x="3" y="22"/>
                    <a:pt x="10" y="50"/>
                    <a:pt x="32" y="58"/>
                  </a:cubicBezTo>
                  <a:cubicBezTo>
                    <a:pt x="55" y="66"/>
                    <a:pt x="44" y="44"/>
                    <a:pt x="31" y="27"/>
                  </a:cubicBezTo>
                  <a:cubicBezTo>
                    <a:pt x="18" y="9"/>
                    <a:pt x="0" y="0"/>
                    <a:pt x="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113"/>
            <p:cNvSpPr/>
            <p:nvPr/>
          </p:nvSpPr>
          <p:spPr>
            <a:xfrm>
              <a:off x="7481880" y="4583160"/>
              <a:ext cx="131760" cy="304560"/>
            </a:xfrm>
            <a:custGeom>
              <a:avLst/>
              <a:gdLst/>
              <a:ahLst/>
              <a:rect l="l" t="t" r="r" b="b"/>
              <a:pathLst>
                <a:path w="72" h="167">
                  <a:moveTo>
                    <a:pt x="47" y="17"/>
                  </a:moveTo>
                  <a:cubicBezTo>
                    <a:pt x="47" y="17"/>
                    <a:pt x="10" y="0"/>
                    <a:pt x="5" y="44"/>
                  </a:cubicBezTo>
                  <a:cubicBezTo>
                    <a:pt x="0" y="88"/>
                    <a:pt x="72" y="167"/>
                    <a:pt x="70" y="126"/>
                  </a:cubicBezTo>
                  <a:cubicBezTo>
                    <a:pt x="68" y="84"/>
                    <a:pt x="47" y="17"/>
                    <a:pt x="47" y="1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114"/>
            <p:cNvSpPr/>
            <p:nvPr/>
          </p:nvSpPr>
          <p:spPr>
            <a:xfrm>
              <a:off x="7512120" y="4621320"/>
              <a:ext cx="87120" cy="1807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38" y="36"/>
                  </a:moveTo>
                  <a:cubicBezTo>
                    <a:pt x="38" y="36"/>
                    <a:pt x="36" y="0"/>
                    <a:pt x="18" y="11"/>
                  </a:cubicBezTo>
                  <a:cubicBezTo>
                    <a:pt x="0" y="22"/>
                    <a:pt x="6" y="13"/>
                    <a:pt x="23" y="41"/>
                  </a:cubicBezTo>
                  <a:cubicBezTo>
                    <a:pt x="39" y="69"/>
                    <a:pt x="31" y="77"/>
                    <a:pt x="22" y="69"/>
                  </a:cubicBezTo>
                  <a:cubicBezTo>
                    <a:pt x="13" y="60"/>
                    <a:pt x="29" y="99"/>
                    <a:pt x="39" y="87"/>
                  </a:cubicBezTo>
                  <a:cubicBezTo>
                    <a:pt x="48" y="74"/>
                    <a:pt x="41" y="52"/>
                    <a:pt x="38" y="36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115"/>
            <p:cNvSpPr/>
            <p:nvPr/>
          </p:nvSpPr>
          <p:spPr>
            <a:xfrm>
              <a:off x="7542000" y="4119480"/>
              <a:ext cx="504720" cy="696960"/>
            </a:xfrm>
            <a:custGeom>
              <a:avLst/>
              <a:gdLst/>
              <a:ahLst/>
              <a:rect l="l" t="t" r="r" b="b"/>
              <a:pathLst>
                <a:path w="277" h="383">
                  <a:moveTo>
                    <a:pt x="258" y="61"/>
                  </a:moveTo>
                  <a:cubicBezTo>
                    <a:pt x="258" y="61"/>
                    <a:pt x="277" y="117"/>
                    <a:pt x="207" y="117"/>
                  </a:cubicBezTo>
                  <a:cubicBezTo>
                    <a:pt x="137" y="117"/>
                    <a:pt x="66" y="124"/>
                    <a:pt x="55" y="156"/>
                  </a:cubicBezTo>
                  <a:cubicBezTo>
                    <a:pt x="45" y="188"/>
                    <a:pt x="48" y="383"/>
                    <a:pt x="48" y="383"/>
                  </a:cubicBezTo>
                  <a:cubicBezTo>
                    <a:pt x="37" y="381"/>
                    <a:pt x="37" y="381"/>
                    <a:pt x="37" y="381"/>
                  </a:cubicBezTo>
                  <a:cubicBezTo>
                    <a:pt x="37" y="381"/>
                    <a:pt x="21" y="268"/>
                    <a:pt x="11" y="268"/>
                  </a:cubicBezTo>
                  <a:cubicBezTo>
                    <a:pt x="0" y="268"/>
                    <a:pt x="6" y="143"/>
                    <a:pt x="42" y="97"/>
                  </a:cubicBezTo>
                  <a:cubicBezTo>
                    <a:pt x="78" y="52"/>
                    <a:pt x="235" y="0"/>
                    <a:pt x="258" y="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116"/>
            <p:cNvSpPr/>
            <p:nvPr/>
          </p:nvSpPr>
          <p:spPr>
            <a:xfrm>
              <a:off x="7415280" y="4049640"/>
              <a:ext cx="645840" cy="1765440"/>
            </a:xfrm>
            <a:custGeom>
              <a:avLst/>
              <a:gdLst/>
              <a:ahLst/>
              <a:rect l="l" t="t" r="r" b="b"/>
              <a:pathLst>
                <a:path w="355" h="969">
                  <a:moveTo>
                    <a:pt x="320" y="554"/>
                  </a:moveTo>
                  <a:cubicBezTo>
                    <a:pt x="320" y="554"/>
                    <a:pt x="323" y="560"/>
                    <a:pt x="329" y="564"/>
                  </a:cubicBezTo>
                  <a:cubicBezTo>
                    <a:pt x="335" y="568"/>
                    <a:pt x="355" y="917"/>
                    <a:pt x="355" y="917"/>
                  </a:cubicBezTo>
                  <a:cubicBezTo>
                    <a:pt x="283" y="969"/>
                    <a:pt x="107" y="919"/>
                    <a:pt x="109" y="911"/>
                  </a:cubicBezTo>
                  <a:cubicBezTo>
                    <a:pt x="111" y="903"/>
                    <a:pt x="121" y="580"/>
                    <a:pt x="121" y="580"/>
                  </a:cubicBezTo>
                  <a:cubicBezTo>
                    <a:pt x="127" y="550"/>
                    <a:pt x="0" y="0"/>
                    <a:pt x="0" y="0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158" y="566"/>
                    <a:pt x="158" y="566"/>
                    <a:pt x="158" y="566"/>
                  </a:cubicBezTo>
                  <a:cubicBezTo>
                    <a:pt x="158" y="566"/>
                    <a:pt x="240" y="628"/>
                    <a:pt x="320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117"/>
            <p:cNvSpPr/>
            <p:nvPr/>
          </p:nvSpPr>
          <p:spPr>
            <a:xfrm>
              <a:off x="7738920" y="5083200"/>
              <a:ext cx="241200" cy="187200"/>
            </a:xfrm>
            <a:custGeom>
              <a:avLst/>
              <a:gdLst/>
              <a:ahLst/>
              <a:rect l="l" t="t" r="r" b="b"/>
              <a:pathLst>
                <a:path w="132" h="103">
                  <a:moveTo>
                    <a:pt x="122" y="4"/>
                  </a:moveTo>
                  <a:cubicBezTo>
                    <a:pt x="122" y="4"/>
                    <a:pt x="118" y="85"/>
                    <a:pt x="96" y="75"/>
                  </a:cubicBezTo>
                  <a:cubicBezTo>
                    <a:pt x="73" y="65"/>
                    <a:pt x="70" y="28"/>
                    <a:pt x="70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8"/>
                    <a:pt x="58" y="96"/>
                    <a:pt x="36" y="79"/>
                  </a:cubicBezTo>
                  <a:cubicBezTo>
                    <a:pt x="15" y="62"/>
                    <a:pt x="5" y="13"/>
                    <a:pt x="5" y="1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89"/>
                    <a:pt x="45" y="89"/>
                  </a:cubicBezTo>
                  <a:cubicBezTo>
                    <a:pt x="89" y="89"/>
                    <a:pt x="68" y="43"/>
                    <a:pt x="68" y="43"/>
                  </a:cubicBezTo>
                  <a:cubicBezTo>
                    <a:pt x="68" y="43"/>
                    <a:pt x="82" y="103"/>
                    <a:pt x="114" y="83"/>
                  </a:cubicBezTo>
                  <a:cubicBezTo>
                    <a:pt x="132" y="71"/>
                    <a:pt x="126" y="0"/>
                    <a:pt x="126" y="0"/>
                  </a:cubicBezTo>
                  <a:lnTo>
                    <a:pt x="122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118"/>
            <p:cNvSpPr/>
            <p:nvPr/>
          </p:nvSpPr>
          <p:spPr>
            <a:xfrm>
              <a:off x="7848720" y="5133960"/>
              <a:ext cx="355320" cy="415800"/>
            </a:xfrm>
            <a:custGeom>
              <a:avLst/>
              <a:gdLst/>
              <a:ahLst/>
              <a:rect l="l" t="t" r="r" b="b"/>
              <a:pathLst>
                <a:path w="195" h="228">
                  <a:moveTo>
                    <a:pt x="10" y="0"/>
                  </a:moveTo>
                  <a:cubicBezTo>
                    <a:pt x="21" y="34"/>
                    <a:pt x="21" y="34"/>
                    <a:pt x="21" y="34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31" y="222"/>
                    <a:pt x="157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8"/>
                    <a:pt x="148" y="228"/>
                    <a:pt x="148" y="228"/>
                  </a:cubicBezTo>
                  <a:cubicBezTo>
                    <a:pt x="148" y="228"/>
                    <a:pt x="0" y="224"/>
                    <a:pt x="13" y="37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119"/>
            <p:cNvSpPr/>
            <p:nvPr/>
          </p:nvSpPr>
          <p:spPr>
            <a:xfrm>
              <a:off x="7612200" y="5083200"/>
              <a:ext cx="75960" cy="654120"/>
            </a:xfrm>
            <a:custGeom>
              <a:avLst/>
              <a:gdLst/>
              <a:ahLst/>
              <a:rect l="l" t="t" r="r" b="b"/>
              <a:pathLst>
                <a:path w="42" h="359">
                  <a:moveTo>
                    <a:pt x="32" y="186"/>
                  </a:moveTo>
                  <a:cubicBezTo>
                    <a:pt x="25" y="247"/>
                    <a:pt x="37" y="330"/>
                    <a:pt x="42" y="359"/>
                  </a:cubicBezTo>
                  <a:cubicBezTo>
                    <a:pt x="17" y="353"/>
                    <a:pt x="0" y="347"/>
                    <a:pt x="1" y="344"/>
                  </a:cubicBezTo>
                  <a:cubicBezTo>
                    <a:pt x="3" y="336"/>
                    <a:pt x="13" y="13"/>
                    <a:pt x="13" y="13"/>
                  </a:cubicBezTo>
                  <a:cubicBezTo>
                    <a:pt x="13" y="11"/>
                    <a:pt x="13" y="6"/>
                    <a:pt x="12" y="0"/>
                  </a:cubicBezTo>
                  <a:cubicBezTo>
                    <a:pt x="17" y="19"/>
                    <a:pt x="39" y="118"/>
                    <a:pt x="32" y="18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120"/>
            <p:cNvSpPr/>
            <p:nvPr/>
          </p:nvSpPr>
          <p:spPr>
            <a:xfrm>
              <a:off x="7974000" y="4243320"/>
              <a:ext cx="137880" cy="17604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31"/>
                  </a:moveTo>
                  <a:cubicBezTo>
                    <a:pt x="0" y="31"/>
                    <a:pt x="41" y="50"/>
                    <a:pt x="33" y="97"/>
                  </a:cubicBezTo>
                  <a:cubicBezTo>
                    <a:pt x="33" y="97"/>
                    <a:pt x="76" y="20"/>
                    <a:pt x="17" y="0"/>
                  </a:cubicBez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1" name="Freeform 143">
            <a:hlinkClick r:id="rId4"/>
          </p:cNvPr>
          <p:cNvSpPr/>
          <p:nvPr/>
        </p:nvSpPr>
        <p:spPr>
          <a:xfrm>
            <a:off x="9291600" y="4229280"/>
            <a:ext cx="1063800" cy="707760"/>
          </a:xfrm>
          <a:custGeom>
            <a:avLst/>
            <a:gdLst/>
            <a:ahLst/>
            <a:rect l="l" t="t" r="r" b="b"/>
            <a:pathLst>
              <a:path w="584" h="389">
                <a:moveTo>
                  <a:pt x="280" y="161"/>
                </a:moveTo>
                <a:cubicBezTo>
                  <a:pt x="280" y="161"/>
                  <a:pt x="227" y="22"/>
                  <a:pt x="114" y="83"/>
                </a:cubicBezTo>
                <a:cubicBezTo>
                  <a:pt x="0" y="144"/>
                  <a:pt x="47" y="308"/>
                  <a:pt x="238" y="389"/>
                </a:cubicBezTo>
                <a:cubicBezTo>
                  <a:pt x="238" y="389"/>
                  <a:pt x="584" y="339"/>
                  <a:pt x="517" y="149"/>
                </a:cubicBezTo>
                <a:cubicBezTo>
                  <a:pt x="517" y="149"/>
                  <a:pt x="430" y="0"/>
                  <a:pt x="280" y="161"/>
                </a:cubicBezTo>
                <a:close/>
              </a:path>
            </a:pathLst>
          </a:custGeom>
          <a:solidFill>
            <a:srgbClr val="e6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2" name="组合 2"/>
          <p:cNvGrpSpPr/>
          <p:nvPr/>
        </p:nvGrpSpPr>
        <p:grpSpPr>
          <a:xfrm>
            <a:off x="8547120" y="4186080"/>
            <a:ext cx="1697040" cy="2102040"/>
            <a:chOff x="8547120" y="4186080"/>
            <a:chExt cx="1697040" cy="2102040"/>
          </a:xfrm>
        </p:grpSpPr>
        <p:sp>
          <p:nvSpPr>
            <p:cNvPr id="1693" name="Freeform 121"/>
            <p:cNvSpPr/>
            <p:nvPr/>
          </p:nvSpPr>
          <p:spPr>
            <a:xfrm>
              <a:off x="9758520" y="4824360"/>
              <a:ext cx="188640" cy="164880"/>
            </a:xfrm>
            <a:custGeom>
              <a:avLst/>
              <a:gdLst/>
              <a:ahLst/>
              <a:rect l="l" t="t" r="r" b="b"/>
              <a:pathLst>
                <a:path w="104" h="91">
                  <a:moveTo>
                    <a:pt x="2" y="91"/>
                  </a:moveTo>
                  <a:cubicBezTo>
                    <a:pt x="2" y="91"/>
                    <a:pt x="6" y="43"/>
                    <a:pt x="26" y="25"/>
                  </a:cubicBezTo>
                  <a:cubicBezTo>
                    <a:pt x="47" y="7"/>
                    <a:pt x="59" y="3"/>
                    <a:pt x="59" y="3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3"/>
                    <a:pt x="74" y="22"/>
                    <a:pt x="101" y="0"/>
                  </a:cubicBezTo>
                  <a:cubicBezTo>
                    <a:pt x="101" y="0"/>
                    <a:pt x="104" y="4"/>
                    <a:pt x="104" y="7"/>
                  </a:cubicBezTo>
                  <a:cubicBezTo>
                    <a:pt x="104" y="11"/>
                    <a:pt x="72" y="29"/>
                    <a:pt x="72" y="29"/>
                  </a:cubicBezTo>
                  <a:cubicBezTo>
                    <a:pt x="102" y="19"/>
                    <a:pt x="102" y="19"/>
                    <a:pt x="102" y="19"/>
                  </a:cubicBezTo>
                  <a:cubicBezTo>
                    <a:pt x="102" y="19"/>
                    <a:pt x="104" y="27"/>
                    <a:pt x="100" y="28"/>
                  </a:cubicBezTo>
                  <a:cubicBezTo>
                    <a:pt x="96" y="30"/>
                    <a:pt x="72" y="37"/>
                    <a:pt x="72" y="37"/>
                  </a:cubicBezTo>
                  <a:cubicBezTo>
                    <a:pt x="92" y="36"/>
                    <a:pt x="92" y="36"/>
                    <a:pt x="92" y="36"/>
                  </a:cubicBezTo>
                  <a:cubicBezTo>
                    <a:pt x="92" y="36"/>
                    <a:pt x="97" y="40"/>
                    <a:pt x="91" y="42"/>
                  </a:cubicBezTo>
                  <a:cubicBezTo>
                    <a:pt x="84" y="44"/>
                    <a:pt x="67" y="43"/>
                    <a:pt x="67" y="43"/>
                  </a:cubicBezTo>
                  <a:cubicBezTo>
                    <a:pt x="77" y="49"/>
                    <a:pt x="77" y="49"/>
                    <a:pt x="77" y="49"/>
                  </a:cubicBezTo>
                  <a:cubicBezTo>
                    <a:pt x="77" y="49"/>
                    <a:pt x="82" y="51"/>
                    <a:pt x="76" y="53"/>
                  </a:cubicBezTo>
                  <a:cubicBezTo>
                    <a:pt x="71" y="55"/>
                    <a:pt x="56" y="49"/>
                    <a:pt x="56" y="49"/>
                  </a:cubicBezTo>
                  <a:cubicBezTo>
                    <a:pt x="56" y="49"/>
                    <a:pt x="26" y="60"/>
                    <a:pt x="23" y="83"/>
                  </a:cubicBezTo>
                  <a:cubicBezTo>
                    <a:pt x="0" y="91"/>
                    <a:pt x="0" y="91"/>
                    <a:pt x="0" y="91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122"/>
            <p:cNvSpPr/>
            <p:nvPr/>
          </p:nvSpPr>
          <p:spPr>
            <a:xfrm>
              <a:off x="8547120" y="5910480"/>
              <a:ext cx="152280" cy="17136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84" y="34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8"/>
                    <a:pt x="55" y="19"/>
                    <a:pt x="47" y="19"/>
                  </a:cubicBezTo>
                  <a:cubicBezTo>
                    <a:pt x="38" y="19"/>
                    <a:pt x="28" y="19"/>
                    <a:pt x="28" y="19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9" y="94"/>
                    <a:pt x="9" y="94"/>
                    <a:pt x="9" y="94"/>
                  </a:cubicBezTo>
                  <a:cubicBezTo>
                    <a:pt x="9" y="94"/>
                    <a:pt x="35" y="52"/>
                    <a:pt x="47" y="55"/>
                  </a:cubicBezTo>
                  <a:cubicBezTo>
                    <a:pt x="59" y="57"/>
                    <a:pt x="64" y="68"/>
                    <a:pt x="64" y="68"/>
                  </a:cubicBezTo>
                  <a:lnTo>
                    <a:pt x="84" y="3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123"/>
            <p:cNvSpPr/>
            <p:nvPr/>
          </p:nvSpPr>
          <p:spPr>
            <a:xfrm>
              <a:off x="9439200" y="6086520"/>
              <a:ext cx="177480" cy="139680"/>
            </a:xfrm>
            <a:custGeom>
              <a:avLst/>
              <a:gdLst/>
              <a:ahLst/>
              <a:rect l="l" t="t" r="r" b="b"/>
              <a:pathLst>
                <a:path w="98" h="77">
                  <a:moveTo>
                    <a:pt x="29" y="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4"/>
                    <a:pt x="19" y="30"/>
                    <a:pt x="20" y="39"/>
                  </a:cubicBezTo>
                  <a:cubicBezTo>
                    <a:pt x="20" y="48"/>
                    <a:pt x="22" y="57"/>
                    <a:pt x="22" y="57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98" y="67"/>
                    <a:pt x="98" y="67"/>
                    <a:pt x="98" y="67"/>
                  </a:cubicBezTo>
                  <a:cubicBezTo>
                    <a:pt x="98" y="67"/>
                    <a:pt x="54" y="47"/>
                    <a:pt x="55" y="34"/>
                  </a:cubicBezTo>
                  <a:cubicBezTo>
                    <a:pt x="56" y="22"/>
                    <a:pt x="66" y="16"/>
                    <a:pt x="66" y="16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124"/>
            <p:cNvSpPr/>
            <p:nvPr/>
          </p:nvSpPr>
          <p:spPr>
            <a:xfrm>
              <a:off x="8654760" y="5599080"/>
              <a:ext cx="996840" cy="689040"/>
            </a:xfrm>
            <a:custGeom>
              <a:avLst/>
              <a:gdLst/>
              <a:ahLst/>
              <a:rect l="l" t="t" r="r" b="b"/>
              <a:pathLst>
                <a:path w="547" h="379">
                  <a:moveTo>
                    <a:pt x="387" y="66"/>
                  </a:moveTo>
                  <a:cubicBezTo>
                    <a:pt x="387" y="66"/>
                    <a:pt x="170" y="0"/>
                    <a:pt x="164" y="55"/>
                  </a:cubicBezTo>
                  <a:cubicBezTo>
                    <a:pt x="158" y="110"/>
                    <a:pt x="182" y="133"/>
                    <a:pt x="182" y="133"/>
                  </a:cubicBezTo>
                  <a:cubicBezTo>
                    <a:pt x="174" y="311"/>
                    <a:pt x="23" y="197"/>
                    <a:pt x="23" y="1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88" y="379"/>
                    <a:pt x="245" y="147"/>
                    <a:pt x="245" y="147"/>
                  </a:cubicBezTo>
                  <a:cubicBezTo>
                    <a:pt x="326" y="161"/>
                    <a:pt x="396" y="116"/>
                    <a:pt x="396" y="116"/>
                  </a:cubicBezTo>
                  <a:cubicBezTo>
                    <a:pt x="396" y="116"/>
                    <a:pt x="547" y="144"/>
                    <a:pt x="457" y="254"/>
                  </a:cubicBezTo>
                  <a:cubicBezTo>
                    <a:pt x="448" y="265"/>
                    <a:pt x="448" y="265"/>
                    <a:pt x="448" y="265"/>
                  </a:cubicBezTo>
                  <a:cubicBezTo>
                    <a:pt x="496" y="298"/>
                    <a:pt x="496" y="298"/>
                    <a:pt x="496" y="298"/>
                  </a:cubicBezTo>
                  <a:cubicBezTo>
                    <a:pt x="496" y="298"/>
                    <a:pt x="525" y="252"/>
                    <a:pt x="534" y="178"/>
                  </a:cubicBezTo>
                  <a:cubicBezTo>
                    <a:pt x="543" y="104"/>
                    <a:pt x="455" y="79"/>
                    <a:pt x="402" y="70"/>
                  </a:cubicBezTo>
                  <a:lnTo>
                    <a:pt x="38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125"/>
            <p:cNvSpPr/>
            <p:nvPr/>
          </p:nvSpPr>
          <p:spPr>
            <a:xfrm>
              <a:off x="8910720" y="4223880"/>
              <a:ext cx="690480" cy="1017720"/>
            </a:xfrm>
            <a:custGeom>
              <a:avLst/>
              <a:gdLst/>
              <a:ahLst/>
              <a:rect l="l" t="t" r="r" b="b"/>
              <a:pathLst>
                <a:path w="379" h="558">
                  <a:moveTo>
                    <a:pt x="49" y="467"/>
                  </a:moveTo>
                  <a:cubicBezTo>
                    <a:pt x="49" y="467"/>
                    <a:pt x="0" y="292"/>
                    <a:pt x="33" y="153"/>
                  </a:cubicBezTo>
                  <a:cubicBezTo>
                    <a:pt x="37" y="139"/>
                    <a:pt x="44" y="127"/>
                    <a:pt x="51" y="117"/>
                  </a:cubicBezTo>
                  <a:cubicBezTo>
                    <a:pt x="61" y="93"/>
                    <a:pt x="77" y="65"/>
                    <a:pt x="102" y="44"/>
                  </a:cubicBezTo>
                  <a:cubicBezTo>
                    <a:pt x="154" y="0"/>
                    <a:pt x="237" y="26"/>
                    <a:pt x="250" y="22"/>
                  </a:cubicBezTo>
                  <a:cubicBezTo>
                    <a:pt x="250" y="22"/>
                    <a:pt x="379" y="60"/>
                    <a:pt x="277" y="176"/>
                  </a:cubicBezTo>
                  <a:cubicBezTo>
                    <a:pt x="327" y="298"/>
                    <a:pt x="261" y="427"/>
                    <a:pt x="215" y="495"/>
                  </a:cubicBezTo>
                  <a:cubicBezTo>
                    <a:pt x="215" y="495"/>
                    <a:pt x="146" y="558"/>
                    <a:pt x="49" y="46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126"/>
            <p:cNvSpPr/>
            <p:nvPr/>
          </p:nvSpPr>
          <p:spPr>
            <a:xfrm>
              <a:off x="9004320" y="4308120"/>
              <a:ext cx="469800" cy="927000"/>
            </a:xfrm>
            <a:custGeom>
              <a:avLst/>
              <a:gdLst/>
              <a:ahLst/>
              <a:rect l="l" t="t" r="r" b="b"/>
              <a:pathLst>
                <a:path w="258" h="509">
                  <a:moveTo>
                    <a:pt x="212" y="124"/>
                  </a:moveTo>
                  <a:cubicBezTo>
                    <a:pt x="212" y="124"/>
                    <a:pt x="258" y="49"/>
                    <a:pt x="206" y="25"/>
                  </a:cubicBezTo>
                  <a:cubicBezTo>
                    <a:pt x="154" y="0"/>
                    <a:pt x="73" y="0"/>
                    <a:pt x="48" y="78"/>
                  </a:cubicBezTo>
                  <a:cubicBezTo>
                    <a:pt x="23" y="155"/>
                    <a:pt x="0" y="306"/>
                    <a:pt x="3" y="345"/>
                  </a:cubicBezTo>
                  <a:cubicBezTo>
                    <a:pt x="5" y="378"/>
                    <a:pt x="34" y="509"/>
                    <a:pt x="164" y="403"/>
                  </a:cubicBezTo>
                  <a:cubicBezTo>
                    <a:pt x="189" y="382"/>
                    <a:pt x="255" y="214"/>
                    <a:pt x="212" y="124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127"/>
            <p:cNvSpPr/>
            <p:nvPr/>
          </p:nvSpPr>
          <p:spPr>
            <a:xfrm>
              <a:off x="9053640" y="4470120"/>
              <a:ext cx="357120" cy="352440"/>
            </a:xfrm>
            <a:custGeom>
              <a:avLst/>
              <a:gdLst/>
              <a:ahLst/>
              <a:rect l="l" t="t" r="r" b="b"/>
              <a:pathLst>
                <a:path w="196" h="193">
                  <a:moveTo>
                    <a:pt x="112" y="36"/>
                  </a:moveTo>
                  <a:cubicBezTo>
                    <a:pt x="112" y="36"/>
                    <a:pt x="62" y="116"/>
                    <a:pt x="0" y="89"/>
                  </a:cubicBezTo>
                  <a:cubicBezTo>
                    <a:pt x="0" y="89"/>
                    <a:pt x="23" y="193"/>
                    <a:pt x="81" y="148"/>
                  </a:cubicBezTo>
                  <a:cubicBezTo>
                    <a:pt x="138" y="104"/>
                    <a:pt x="119" y="181"/>
                    <a:pt x="181" y="183"/>
                  </a:cubicBezTo>
                  <a:cubicBezTo>
                    <a:pt x="196" y="175"/>
                    <a:pt x="196" y="175"/>
                    <a:pt x="196" y="175"/>
                  </a:cubicBezTo>
                  <a:cubicBezTo>
                    <a:pt x="196" y="175"/>
                    <a:pt x="136" y="121"/>
                    <a:pt x="155" y="56"/>
                  </a:cubicBezTo>
                  <a:cubicBezTo>
                    <a:pt x="155" y="56"/>
                    <a:pt x="157" y="0"/>
                    <a:pt x="112" y="3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128"/>
            <p:cNvSpPr/>
            <p:nvPr/>
          </p:nvSpPr>
          <p:spPr>
            <a:xfrm>
              <a:off x="9193320" y="4767120"/>
              <a:ext cx="101520" cy="8892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8" y="23"/>
                  </a:moveTo>
                  <a:cubicBezTo>
                    <a:pt x="8" y="23"/>
                    <a:pt x="24" y="0"/>
                    <a:pt x="40" y="16"/>
                  </a:cubicBezTo>
                  <a:cubicBezTo>
                    <a:pt x="56" y="32"/>
                    <a:pt x="48" y="49"/>
                    <a:pt x="48" y="49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6"/>
                    <a:pt x="36" y="26"/>
                    <a:pt x="23" y="27"/>
                  </a:cubicBezTo>
                  <a:cubicBezTo>
                    <a:pt x="10" y="28"/>
                    <a:pt x="14" y="41"/>
                    <a:pt x="14" y="41"/>
                  </a:cubicBezTo>
                  <a:cubicBezTo>
                    <a:pt x="14" y="41"/>
                    <a:pt x="0" y="42"/>
                    <a:pt x="8" y="23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129"/>
            <p:cNvSpPr/>
            <p:nvPr/>
          </p:nvSpPr>
          <p:spPr>
            <a:xfrm>
              <a:off x="9223200" y="4868640"/>
              <a:ext cx="109440" cy="8244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47" y="42"/>
                  </a:moveTo>
                  <a:cubicBezTo>
                    <a:pt x="47" y="42"/>
                    <a:pt x="60" y="19"/>
                    <a:pt x="41" y="9"/>
                  </a:cubicBezTo>
                  <a:cubicBezTo>
                    <a:pt x="22" y="0"/>
                    <a:pt x="0" y="45"/>
                    <a:pt x="0" y="45"/>
                  </a:cubicBezTo>
                  <a:lnTo>
                    <a:pt x="47" y="42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130"/>
            <p:cNvSpPr/>
            <p:nvPr/>
          </p:nvSpPr>
          <p:spPr>
            <a:xfrm>
              <a:off x="9218520" y="4879800"/>
              <a:ext cx="109440" cy="11556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0" y="40"/>
                  </a:moveTo>
                  <a:cubicBezTo>
                    <a:pt x="0" y="40"/>
                    <a:pt x="34" y="0"/>
                    <a:pt x="47" y="25"/>
                  </a:cubicBezTo>
                  <a:cubicBezTo>
                    <a:pt x="60" y="49"/>
                    <a:pt x="30" y="63"/>
                    <a:pt x="0" y="40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131"/>
            <p:cNvSpPr/>
            <p:nvPr/>
          </p:nvSpPr>
          <p:spPr>
            <a:xfrm>
              <a:off x="9083520" y="4465440"/>
              <a:ext cx="230040" cy="23004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111" y="29"/>
                  </a:moveTo>
                  <a:cubicBezTo>
                    <a:pt x="111" y="29"/>
                    <a:pt x="51" y="127"/>
                    <a:pt x="0" y="94"/>
                  </a:cubicBezTo>
                  <a:cubicBezTo>
                    <a:pt x="0" y="94"/>
                    <a:pt x="73" y="89"/>
                    <a:pt x="85" y="17"/>
                  </a:cubicBezTo>
                  <a:cubicBezTo>
                    <a:pt x="85" y="17"/>
                    <a:pt x="90" y="0"/>
                    <a:pt x="108" y="5"/>
                  </a:cubicBezTo>
                  <a:cubicBezTo>
                    <a:pt x="126" y="9"/>
                    <a:pt x="111" y="29"/>
                    <a:pt x="111" y="2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132"/>
            <p:cNvSpPr/>
            <p:nvPr/>
          </p:nvSpPr>
          <p:spPr>
            <a:xfrm>
              <a:off x="9282240" y="4512960"/>
              <a:ext cx="128520" cy="276120"/>
            </a:xfrm>
            <a:custGeom>
              <a:avLst/>
              <a:gdLst/>
              <a:ahLst/>
              <a:rect l="l" t="t" r="r" b="b"/>
              <a:pathLst>
                <a:path w="70" h="152">
                  <a:moveTo>
                    <a:pt x="25" y="12"/>
                  </a:moveTo>
                  <a:cubicBezTo>
                    <a:pt x="25" y="12"/>
                    <a:pt x="0" y="111"/>
                    <a:pt x="70" y="152"/>
                  </a:cubicBezTo>
                  <a:cubicBezTo>
                    <a:pt x="70" y="152"/>
                    <a:pt x="30" y="119"/>
                    <a:pt x="37" y="73"/>
                  </a:cubicBezTo>
                  <a:cubicBezTo>
                    <a:pt x="45" y="26"/>
                    <a:pt x="41" y="12"/>
                    <a:pt x="40" y="9"/>
                  </a:cubicBezTo>
                  <a:cubicBezTo>
                    <a:pt x="39" y="6"/>
                    <a:pt x="28" y="0"/>
                    <a:pt x="25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133"/>
            <p:cNvSpPr/>
            <p:nvPr/>
          </p:nvSpPr>
          <p:spPr>
            <a:xfrm>
              <a:off x="9075600" y="4640040"/>
              <a:ext cx="158760" cy="1108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57" y="5"/>
                  </a:moveTo>
                  <a:cubicBezTo>
                    <a:pt x="57" y="5"/>
                    <a:pt x="0" y="53"/>
                    <a:pt x="38" y="57"/>
                  </a:cubicBezTo>
                  <a:cubicBezTo>
                    <a:pt x="76" y="61"/>
                    <a:pt x="87" y="0"/>
                    <a:pt x="5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134"/>
            <p:cNvSpPr/>
            <p:nvPr/>
          </p:nvSpPr>
          <p:spPr>
            <a:xfrm>
              <a:off x="9282240" y="4652640"/>
              <a:ext cx="79200" cy="134640"/>
            </a:xfrm>
            <a:custGeom>
              <a:avLst/>
              <a:gdLst/>
              <a:ahLst/>
              <a:rect l="l" t="t" r="r" b="b"/>
              <a:pathLst>
                <a:path w="43" h="74">
                  <a:moveTo>
                    <a:pt x="0" y="22"/>
                  </a:moveTo>
                  <a:cubicBezTo>
                    <a:pt x="0" y="22"/>
                    <a:pt x="1" y="51"/>
                    <a:pt x="22" y="63"/>
                  </a:cubicBezTo>
                  <a:cubicBezTo>
                    <a:pt x="43" y="74"/>
                    <a:pt x="36" y="51"/>
                    <a:pt x="26" y="32"/>
                  </a:cubicBezTo>
                  <a:cubicBezTo>
                    <a:pt x="16" y="12"/>
                    <a:pt x="1" y="0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135"/>
            <p:cNvSpPr/>
            <p:nvPr/>
          </p:nvSpPr>
          <p:spPr>
            <a:xfrm>
              <a:off x="8856720" y="4562280"/>
              <a:ext cx="123840" cy="317520"/>
            </a:xfrm>
            <a:custGeom>
              <a:avLst/>
              <a:gdLst/>
              <a:ahLst/>
              <a:rect l="l" t="t" r="r" b="b"/>
              <a:pathLst>
                <a:path w="68" h="175">
                  <a:moveTo>
                    <a:pt x="59" y="23"/>
                  </a:moveTo>
                  <a:cubicBezTo>
                    <a:pt x="59" y="23"/>
                    <a:pt x="25" y="0"/>
                    <a:pt x="12" y="42"/>
                  </a:cubicBezTo>
                  <a:cubicBezTo>
                    <a:pt x="0" y="84"/>
                    <a:pt x="57" y="175"/>
                    <a:pt x="62" y="134"/>
                  </a:cubicBezTo>
                  <a:cubicBezTo>
                    <a:pt x="68" y="93"/>
                    <a:pt x="59" y="23"/>
                    <a:pt x="59" y="23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Freeform 136"/>
            <p:cNvSpPr/>
            <p:nvPr/>
          </p:nvSpPr>
          <p:spPr>
            <a:xfrm>
              <a:off x="8899560" y="4613040"/>
              <a:ext cx="71280" cy="17460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34" y="35"/>
                  </a:moveTo>
                  <a:cubicBezTo>
                    <a:pt x="34" y="35"/>
                    <a:pt x="39" y="0"/>
                    <a:pt x="19" y="8"/>
                  </a:cubicBezTo>
                  <a:cubicBezTo>
                    <a:pt x="0" y="15"/>
                    <a:pt x="7" y="7"/>
                    <a:pt x="19" y="37"/>
                  </a:cubicBezTo>
                  <a:cubicBezTo>
                    <a:pt x="30" y="68"/>
                    <a:pt x="20" y="74"/>
                    <a:pt x="13" y="65"/>
                  </a:cubicBezTo>
                  <a:cubicBezTo>
                    <a:pt x="5" y="55"/>
                    <a:pt x="14" y="96"/>
                    <a:pt x="26" y="85"/>
                  </a:cubicBezTo>
                  <a:cubicBezTo>
                    <a:pt x="38" y="75"/>
                    <a:pt x="35" y="51"/>
                    <a:pt x="34" y="35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Freeform 137"/>
            <p:cNvSpPr/>
            <p:nvPr/>
          </p:nvSpPr>
          <p:spPr>
            <a:xfrm>
              <a:off x="8937720" y="4186080"/>
              <a:ext cx="547560" cy="627120"/>
            </a:xfrm>
            <a:custGeom>
              <a:avLst/>
              <a:gdLst/>
              <a:ahLst/>
              <a:rect l="l" t="t" r="r" b="b"/>
              <a:pathLst>
                <a:path w="300" h="344">
                  <a:moveTo>
                    <a:pt x="290" y="64"/>
                  </a:moveTo>
                  <a:cubicBezTo>
                    <a:pt x="290" y="64"/>
                    <a:pt x="300" y="123"/>
                    <a:pt x="231" y="111"/>
                  </a:cubicBezTo>
                  <a:cubicBezTo>
                    <a:pt x="162" y="98"/>
                    <a:pt x="90" y="93"/>
                    <a:pt x="74" y="122"/>
                  </a:cubicBezTo>
                  <a:cubicBezTo>
                    <a:pt x="58" y="151"/>
                    <a:pt x="27" y="344"/>
                    <a:pt x="27" y="344"/>
                  </a:cubicBezTo>
                  <a:cubicBezTo>
                    <a:pt x="17" y="340"/>
                    <a:pt x="17" y="340"/>
                    <a:pt x="17" y="340"/>
                  </a:cubicBezTo>
                  <a:cubicBezTo>
                    <a:pt x="17" y="340"/>
                    <a:pt x="21" y="226"/>
                    <a:pt x="11" y="225"/>
                  </a:cubicBezTo>
                  <a:cubicBezTo>
                    <a:pt x="0" y="223"/>
                    <a:pt x="28" y="100"/>
                    <a:pt x="72" y="62"/>
                  </a:cubicBezTo>
                  <a:cubicBezTo>
                    <a:pt x="116" y="23"/>
                    <a:pt x="279" y="0"/>
                    <a:pt x="290" y="6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0" name="Freeform 138">
              <a:hlinkClick r:id="rId5"/>
            </p:cNvPr>
            <p:cNvSpPr/>
            <p:nvPr/>
          </p:nvSpPr>
          <p:spPr>
            <a:xfrm>
              <a:off x="8943840" y="4967280"/>
              <a:ext cx="866880" cy="860400"/>
            </a:xfrm>
            <a:custGeom>
              <a:avLst/>
              <a:gdLst/>
              <a:ahLst/>
              <a:rect l="l" t="t" r="r" b="b"/>
              <a:pathLst>
                <a:path w="476" h="472">
                  <a:moveTo>
                    <a:pt x="234" y="112"/>
                  </a:moveTo>
                  <a:cubicBezTo>
                    <a:pt x="234" y="112"/>
                    <a:pt x="244" y="407"/>
                    <a:pt x="246" y="415"/>
                  </a:cubicBezTo>
                  <a:cubicBezTo>
                    <a:pt x="248" y="422"/>
                    <a:pt x="71" y="472"/>
                    <a:pt x="0" y="420"/>
                  </a:cubicBezTo>
                  <a:cubicBezTo>
                    <a:pt x="0" y="420"/>
                    <a:pt x="19" y="71"/>
                    <a:pt x="25" y="67"/>
                  </a:cubicBezTo>
                  <a:cubicBezTo>
                    <a:pt x="31" y="63"/>
                    <a:pt x="29" y="58"/>
                    <a:pt x="29" y="58"/>
                  </a:cubicBezTo>
                  <a:cubicBezTo>
                    <a:pt x="110" y="132"/>
                    <a:pt x="196" y="69"/>
                    <a:pt x="196" y="69"/>
                  </a:cubicBezTo>
                  <a:cubicBezTo>
                    <a:pt x="234" y="23"/>
                    <a:pt x="234" y="23"/>
                    <a:pt x="234" y="23"/>
                  </a:cubicBezTo>
                  <a:cubicBezTo>
                    <a:pt x="234" y="23"/>
                    <a:pt x="353" y="179"/>
                    <a:pt x="392" y="144"/>
                  </a:cubicBezTo>
                  <a:cubicBezTo>
                    <a:pt x="430" y="108"/>
                    <a:pt x="445" y="0"/>
                    <a:pt x="445" y="0"/>
                  </a:cubicBezTo>
                  <a:cubicBezTo>
                    <a:pt x="474" y="0"/>
                    <a:pt x="474" y="0"/>
                    <a:pt x="474" y="0"/>
                  </a:cubicBezTo>
                  <a:cubicBezTo>
                    <a:pt x="474" y="0"/>
                    <a:pt x="476" y="223"/>
                    <a:pt x="361" y="193"/>
                  </a:cubicBezTo>
                  <a:cubicBezTo>
                    <a:pt x="249" y="163"/>
                    <a:pt x="234" y="112"/>
                    <a:pt x="234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39"/>
            <p:cNvSpPr/>
            <p:nvPr/>
          </p:nvSpPr>
          <p:spPr>
            <a:xfrm>
              <a:off x="9317160" y="5095800"/>
              <a:ext cx="74520" cy="655560"/>
            </a:xfrm>
            <a:custGeom>
              <a:avLst/>
              <a:gdLst/>
              <a:ahLst/>
              <a:rect l="l" t="t" r="r" b="b"/>
              <a:pathLst>
                <a:path w="41" h="360">
                  <a:moveTo>
                    <a:pt x="10" y="186"/>
                  </a:moveTo>
                  <a:cubicBezTo>
                    <a:pt x="17" y="247"/>
                    <a:pt x="4" y="330"/>
                    <a:pt x="0" y="360"/>
                  </a:cubicBezTo>
                  <a:cubicBezTo>
                    <a:pt x="25" y="353"/>
                    <a:pt x="41" y="347"/>
                    <a:pt x="41" y="345"/>
                  </a:cubicBezTo>
                  <a:cubicBezTo>
                    <a:pt x="39" y="337"/>
                    <a:pt x="29" y="13"/>
                    <a:pt x="29" y="13"/>
                  </a:cubicBezTo>
                  <a:cubicBezTo>
                    <a:pt x="28" y="11"/>
                    <a:pt x="29" y="6"/>
                    <a:pt x="29" y="0"/>
                  </a:cubicBezTo>
                  <a:cubicBezTo>
                    <a:pt x="25" y="19"/>
                    <a:pt x="2" y="118"/>
                    <a:pt x="10" y="18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40"/>
            <p:cNvSpPr/>
            <p:nvPr/>
          </p:nvSpPr>
          <p:spPr>
            <a:xfrm>
              <a:off x="9420120" y="4316040"/>
              <a:ext cx="141120" cy="17784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28"/>
                  </a:moveTo>
                  <a:cubicBezTo>
                    <a:pt x="0" y="28"/>
                    <a:pt x="37" y="54"/>
                    <a:pt x="20" y="98"/>
                  </a:cubicBezTo>
                  <a:cubicBezTo>
                    <a:pt x="20" y="98"/>
                    <a:pt x="77" y="30"/>
                    <a:pt x="22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41"/>
            <p:cNvSpPr/>
            <p:nvPr/>
          </p:nvSpPr>
          <p:spPr>
            <a:xfrm>
              <a:off x="9023400" y="5095800"/>
              <a:ext cx="241200" cy="188640"/>
            </a:xfrm>
            <a:custGeom>
              <a:avLst/>
              <a:gdLst/>
              <a:ahLst/>
              <a:rect l="l" t="t" r="r" b="b"/>
              <a:pathLst>
                <a:path w="132" h="104">
                  <a:moveTo>
                    <a:pt x="10" y="5"/>
                  </a:moveTo>
                  <a:cubicBezTo>
                    <a:pt x="10" y="5"/>
                    <a:pt x="15" y="85"/>
                    <a:pt x="37" y="75"/>
                  </a:cubicBezTo>
                  <a:cubicBezTo>
                    <a:pt x="59" y="65"/>
                    <a:pt x="63" y="28"/>
                    <a:pt x="63" y="28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1" y="29"/>
                    <a:pt x="75" y="96"/>
                    <a:pt x="96" y="79"/>
                  </a:cubicBezTo>
                  <a:cubicBezTo>
                    <a:pt x="118" y="62"/>
                    <a:pt x="128" y="13"/>
                    <a:pt x="128" y="13"/>
                  </a:cubicBezTo>
                  <a:cubicBezTo>
                    <a:pt x="132" y="9"/>
                    <a:pt x="132" y="9"/>
                    <a:pt x="132" y="9"/>
                  </a:cubicBezTo>
                  <a:cubicBezTo>
                    <a:pt x="132" y="9"/>
                    <a:pt x="131" y="90"/>
                    <a:pt x="88" y="90"/>
                  </a:cubicBezTo>
                  <a:cubicBezTo>
                    <a:pt x="44" y="90"/>
                    <a:pt x="64" y="43"/>
                    <a:pt x="64" y="43"/>
                  </a:cubicBezTo>
                  <a:cubicBezTo>
                    <a:pt x="64" y="43"/>
                    <a:pt x="50" y="104"/>
                    <a:pt x="19" y="84"/>
                  </a:cubicBezTo>
                  <a:cubicBezTo>
                    <a:pt x="0" y="72"/>
                    <a:pt x="7" y="0"/>
                    <a:pt x="7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42"/>
            <p:cNvSpPr/>
            <p:nvPr/>
          </p:nvSpPr>
          <p:spPr>
            <a:xfrm>
              <a:off x="9107280" y="5146560"/>
              <a:ext cx="355320" cy="415800"/>
            </a:xfrm>
            <a:custGeom>
              <a:avLst/>
              <a:gdLst/>
              <a:ahLst/>
              <a:rect l="l" t="t" r="r" b="b"/>
              <a:pathLst>
                <a:path w="195" h="228">
                  <a:moveTo>
                    <a:pt x="25" y="0"/>
                  </a:moveTo>
                  <a:cubicBezTo>
                    <a:pt x="21" y="34"/>
                    <a:pt x="21" y="34"/>
                    <a:pt x="21" y="3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31" y="222"/>
                    <a:pt x="156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8"/>
                    <a:pt x="148" y="228"/>
                    <a:pt x="148" y="228"/>
                  </a:cubicBezTo>
                  <a:cubicBezTo>
                    <a:pt x="148" y="228"/>
                    <a:pt x="0" y="224"/>
                    <a:pt x="13" y="38"/>
                  </a:cubicBezTo>
                  <a:cubicBezTo>
                    <a:pt x="17" y="1"/>
                    <a:pt x="17" y="1"/>
                    <a:pt x="17" y="1"/>
                  </a:cubicBezTo>
                  <a:lnTo>
                    <a:pt x="25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44"/>
            <p:cNvSpPr/>
            <p:nvPr/>
          </p:nvSpPr>
          <p:spPr>
            <a:xfrm>
              <a:off x="9472680" y="4576680"/>
              <a:ext cx="771480" cy="344520"/>
            </a:xfrm>
            <a:custGeom>
              <a:avLst/>
              <a:gdLst/>
              <a:ahLst/>
              <a:rect l="l" t="t" r="r" b="b"/>
              <a:pathLst>
                <a:path w="424" h="189">
                  <a:moveTo>
                    <a:pt x="0" y="83"/>
                  </a:moveTo>
                  <a:cubicBezTo>
                    <a:pt x="0" y="83"/>
                    <a:pt x="29" y="13"/>
                    <a:pt x="175" y="27"/>
                  </a:cubicBezTo>
                  <a:cubicBezTo>
                    <a:pt x="320" y="41"/>
                    <a:pt x="399" y="30"/>
                    <a:pt x="422" y="0"/>
                  </a:cubicBezTo>
                  <a:cubicBezTo>
                    <a:pt x="422" y="0"/>
                    <a:pt x="424" y="143"/>
                    <a:pt x="143" y="189"/>
                  </a:cubicBezTo>
                  <a:cubicBezTo>
                    <a:pt x="143" y="189"/>
                    <a:pt x="36" y="144"/>
                    <a:pt x="0" y="8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45"/>
            <p:cNvSpPr/>
            <p:nvPr/>
          </p:nvSpPr>
          <p:spPr>
            <a:xfrm>
              <a:off x="9516960" y="4312800"/>
              <a:ext cx="284040" cy="28404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41" y="143"/>
                  </a:moveTo>
                  <a:cubicBezTo>
                    <a:pt x="145" y="126"/>
                    <a:pt x="156" y="114"/>
                    <a:pt x="156" y="114"/>
                  </a:cubicBezTo>
                  <a:cubicBezTo>
                    <a:pt x="156" y="114"/>
                    <a:pt x="113" y="0"/>
                    <a:pt x="20" y="24"/>
                  </a:cubicBezTo>
                  <a:cubicBezTo>
                    <a:pt x="9" y="28"/>
                    <a:pt x="1" y="31"/>
                    <a:pt x="0" y="31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105" y="5"/>
                    <a:pt x="115" y="139"/>
                    <a:pt x="123" y="148"/>
                  </a:cubicBezTo>
                  <a:cubicBezTo>
                    <a:pt x="131" y="156"/>
                    <a:pt x="141" y="143"/>
                    <a:pt x="141" y="14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46"/>
            <p:cNvSpPr/>
            <p:nvPr/>
          </p:nvSpPr>
          <p:spPr>
            <a:xfrm>
              <a:off x="9410760" y="4397040"/>
              <a:ext cx="152280" cy="17136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9" y="94"/>
                  </a:moveTo>
                  <a:cubicBezTo>
                    <a:pt x="9" y="94"/>
                    <a:pt x="8" y="94"/>
                    <a:pt x="8" y="94"/>
                  </a:cubicBezTo>
                  <a:cubicBezTo>
                    <a:pt x="4" y="94"/>
                    <a:pt x="0" y="90"/>
                    <a:pt x="1" y="86"/>
                  </a:cubicBezTo>
                  <a:cubicBezTo>
                    <a:pt x="4" y="43"/>
                    <a:pt x="24" y="22"/>
                    <a:pt x="40" y="12"/>
                  </a:cubicBezTo>
                  <a:cubicBezTo>
                    <a:pt x="58" y="1"/>
                    <a:pt x="75" y="0"/>
                    <a:pt x="76" y="0"/>
                  </a:cubicBezTo>
                  <a:cubicBezTo>
                    <a:pt x="80" y="0"/>
                    <a:pt x="84" y="4"/>
                    <a:pt x="84" y="8"/>
                  </a:cubicBezTo>
                  <a:cubicBezTo>
                    <a:pt x="84" y="12"/>
                    <a:pt x="81" y="16"/>
                    <a:pt x="77" y="16"/>
                  </a:cubicBezTo>
                  <a:cubicBezTo>
                    <a:pt x="77" y="16"/>
                    <a:pt x="77" y="16"/>
                    <a:pt x="76" y="16"/>
                  </a:cubicBezTo>
                  <a:cubicBezTo>
                    <a:pt x="72" y="16"/>
                    <a:pt x="22" y="21"/>
                    <a:pt x="17" y="87"/>
                  </a:cubicBezTo>
                  <a:cubicBezTo>
                    <a:pt x="16" y="91"/>
                    <a:pt x="13" y="94"/>
                    <a:pt x="9" y="94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47"/>
            <p:cNvSpPr/>
            <p:nvPr/>
          </p:nvSpPr>
          <p:spPr>
            <a:xfrm>
              <a:off x="9801360" y="4403520"/>
              <a:ext cx="241200" cy="168120"/>
            </a:xfrm>
            <a:custGeom>
              <a:avLst/>
              <a:gdLst/>
              <a:ahLst/>
              <a:rect l="l" t="t" r="r" b="b"/>
              <a:pathLst>
                <a:path w="132" h="93">
                  <a:moveTo>
                    <a:pt x="9" y="93"/>
                  </a:moveTo>
                  <a:cubicBezTo>
                    <a:pt x="7" y="93"/>
                    <a:pt x="6" y="93"/>
                    <a:pt x="4" y="92"/>
                  </a:cubicBezTo>
                  <a:cubicBezTo>
                    <a:pt x="1" y="89"/>
                    <a:pt x="0" y="84"/>
                    <a:pt x="3" y="81"/>
                  </a:cubicBezTo>
                  <a:cubicBezTo>
                    <a:pt x="5" y="78"/>
                    <a:pt x="58" y="11"/>
                    <a:pt x="123" y="0"/>
                  </a:cubicBezTo>
                  <a:cubicBezTo>
                    <a:pt x="127" y="0"/>
                    <a:pt x="131" y="2"/>
                    <a:pt x="131" y="6"/>
                  </a:cubicBezTo>
                  <a:cubicBezTo>
                    <a:pt x="132" y="10"/>
                    <a:pt x="129" y="14"/>
                    <a:pt x="125" y="15"/>
                  </a:cubicBezTo>
                  <a:cubicBezTo>
                    <a:pt x="66" y="24"/>
                    <a:pt x="15" y="90"/>
                    <a:pt x="15" y="90"/>
                  </a:cubicBezTo>
                  <a:cubicBezTo>
                    <a:pt x="13" y="92"/>
                    <a:pt x="11" y="93"/>
                    <a:pt x="9" y="93"/>
                  </a:cubicBezTo>
                  <a:close/>
                </a:path>
              </a:pathLst>
            </a:custGeom>
            <a:solidFill>
              <a:srgbClr val="ffd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48"/>
            <p:cNvSpPr/>
            <p:nvPr/>
          </p:nvSpPr>
          <p:spPr>
            <a:xfrm>
              <a:off x="9539280" y="4827240"/>
              <a:ext cx="231480" cy="117360"/>
            </a:xfrm>
            <a:custGeom>
              <a:avLst/>
              <a:gdLst/>
              <a:ahLst/>
              <a:rect l="l" t="t" r="r" b="b"/>
              <a:pathLst>
                <a:path w="127" h="64">
                  <a:moveTo>
                    <a:pt x="2" y="64"/>
                  </a:moveTo>
                  <a:cubicBezTo>
                    <a:pt x="2" y="64"/>
                    <a:pt x="21" y="20"/>
                    <a:pt x="47" y="10"/>
                  </a:cubicBezTo>
                  <a:cubicBezTo>
                    <a:pt x="72" y="0"/>
                    <a:pt x="84" y="0"/>
                    <a:pt x="84" y="0"/>
                  </a:cubicBezTo>
                  <a:cubicBezTo>
                    <a:pt x="86" y="6"/>
                    <a:pt x="86" y="6"/>
                    <a:pt x="86" y="6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93" y="22"/>
                    <a:pt x="126" y="10"/>
                  </a:cubicBezTo>
                  <a:cubicBezTo>
                    <a:pt x="126" y="10"/>
                    <a:pt x="127" y="15"/>
                    <a:pt x="126" y="18"/>
                  </a:cubicBezTo>
                  <a:cubicBezTo>
                    <a:pt x="125" y="21"/>
                    <a:pt x="88" y="28"/>
                    <a:pt x="88" y="28"/>
                  </a:cubicBezTo>
                  <a:cubicBezTo>
                    <a:pt x="120" y="28"/>
                    <a:pt x="120" y="28"/>
                    <a:pt x="120" y="28"/>
                  </a:cubicBezTo>
                  <a:cubicBezTo>
                    <a:pt x="120" y="28"/>
                    <a:pt x="120" y="36"/>
                    <a:pt x="115" y="36"/>
                  </a:cubicBezTo>
                  <a:cubicBezTo>
                    <a:pt x="111" y="36"/>
                    <a:pt x="86" y="35"/>
                    <a:pt x="86" y="35"/>
                  </a:cubicBezTo>
                  <a:cubicBezTo>
                    <a:pt x="105" y="41"/>
                    <a:pt x="105" y="41"/>
                    <a:pt x="105" y="41"/>
                  </a:cubicBezTo>
                  <a:cubicBezTo>
                    <a:pt x="105" y="41"/>
                    <a:pt x="109" y="46"/>
                    <a:pt x="102" y="46"/>
                  </a:cubicBezTo>
                  <a:cubicBezTo>
                    <a:pt x="95" y="46"/>
                    <a:pt x="79" y="40"/>
                    <a:pt x="79" y="40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87" y="49"/>
                    <a:pt x="90" y="52"/>
                    <a:pt x="85" y="52"/>
                  </a:cubicBezTo>
                  <a:cubicBezTo>
                    <a:pt x="79" y="52"/>
                    <a:pt x="67" y="42"/>
                    <a:pt x="67" y="42"/>
                  </a:cubicBezTo>
                  <a:cubicBezTo>
                    <a:pt x="67" y="42"/>
                    <a:pt x="35" y="43"/>
                    <a:pt x="25" y="64"/>
                  </a:cubicBezTo>
                  <a:cubicBezTo>
                    <a:pt x="0" y="64"/>
                    <a:pt x="0" y="64"/>
                    <a:pt x="0" y="64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49"/>
            <p:cNvSpPr/>
            <p:nvPr/>
          </p:nvSpPr>
          <p:spPr>
            <a:xfrm>
              <a:off x="8961480" y="4940280"/>
              <a:ext cx="689040" cy="696960"/>
            </a:xfrm>
            <a:custGeom>
              <a:avLst/>
              <a:gdLst/>
              <a:ahLst/>
              <a:rect l="l" t="t" r="r" b="b"/>
              <a:pathLst>
                <a:path w="378" h="382">
                  <a:moveTo>
                    <a:pt x="11" y="117"/>
                  </a:moveTo>
                  <a:cubicBezTo>
                    <a:pt x="11" y="117"/>
                    <a:pt x="208" y="327"/>
                    <a:pt x="293" y="210"/>
                  </a:cubicBezTo>
                  <a:cubicBezTo>
                    <a:pt x="378" y="93"/>
                    <a:pt x="348" y="0"/>
                    <a:pt x="348" y="0"/>
                  </a:cubicBezTo>
                  <a:cubicBezTo>
                    <a:pt x="313" y="2"/>
                    <a:pt x="313" y="2"/>
                    <a:pt x="313" y="2"/>
                  </a:cubicBezTo>
                  <a:cubicBezTo>
                    <a:pt x="313" y="2"/>
                    <a:pt x="303" y="382"/>
                    <a:pt x="30" y="83"/>
                  </a:cubicBezTo>
                  <a:cubicBezTo>
                    <a:pt x="30" y="83"/>
                    <a:pt x="0" y="71"/>
                    <a:pt x="11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50"/>
            <p:cNvSpPr/>
            <p:nvPr/>
          </p:nvSpPr>
          <p:spPr>
            <a:xfrm>
              <a:off x="8975520" y="4940280"/>
              <a:ext cx="674640" cy="595440"/>
            </a:xfrm>
            <a:custGeom>
              <a:avLst/>
              <a:gdLst/>
              <a:ahLst/>
              <a:rect l="l" t="t" r="r" b="b"/>
              <a:pathLst>
                <a:path w="370" h="327">
                  <a:moveTo>
                    <a:pt x="337" y="0"/>
                  </a:moveTo>
                  <a:cubicBezTo>
                    <a:pt x="334" y="60"/>
                    <a:pt x="319" y="232"/>
                    <a:pt x="213" y="233"/>
                  </a:cubicBezTo>
                  <a:cubicBezTo>
                    <a:pt x="85" y="234"/>
                    <a:pt x="1" y="96"/>
                    <a:pt x="1" y="96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1"/>
                    <a:pt x="1" y="108"/>
                    <a:pt x="3" y="117"/>
                  </a:cubicBezTo>
                  <a:cubicBezTo>
                    <a:pt x="3" y="117"/>
                    <a:pt x="200" y="327"/>
                    <a:pt x="285" y="210"/>
                  </a:cubicBezTo>
                  <a:cubicBezTo>
                    <a:pt x="370" y="93"/>
                    <a:pt x="340" y="0"/>
                    <a:pt x="340" y="0"/>
                  </a:cubicBezTo>
                  <a:lnTo>
                    <a:pt x="33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2" name="组合 1"/>
          <p:cNvGrpSpPr/>
          <p:nvPr/>
        </p:nvGrpSpPr>
        <p:grpSpPr>
          <a:xfrm>
            <a:off x="9948960" y="2998800"/>
            <a:ext cx="1119240" cy="3252600"/>
            <a:chOff x="9948960" y="2998800"/>
            <a:chExt cx="1119240" cy="3252600"/>
          </a:xfrm>
        </p:grpSpPr>
        <p:sp>
          <p:nvSpPr>
            <p:cNvPr id="1723" name="Freeform 5"/>
            <p:cNvSpPr/>
            <p:nvPr/>
          </p:nvSpPr>
          <p:spPr>
            <a:xfrm>
              <a:off x="10010880" y="3132000"/>
              <a:ext cx="1057320" cy="1057320"/>
            </a:xfrm>
            <a:custGeom>
              <a:avLst/>
              <a:gdLst/>
              <a:ahLst/>
              <a:rect l="l" t="t" r="r" b="b"/>
              <a:pathLst>
                <a:path w="580" h="580">
                  <a:moveTo>
                    <a:pt x="556" y="247"/>
                  </a:moveTo>
                  <a:cubicBezTo>
                    <a:pt x="580" y="394"/>
                    <a:pt x="480" y="533"/>
                    <a:pt x="333" y="557"/>
                  </a:cubicBezTo>
                  <a:cubicBezTo>
                    <a:pt x="186" y="580"/>
                    <a:pt x="47" y="480"/>
                    <a:pt x="24" y="333"/>
                  </a:cubicBezTo>
                  <a:cubicBezTo>
                    <a:pt x="0" y="186"/>
                    <a:pt x="100" y="48"/>
                    <a:pt x="247" y="24"/>
                  </a:cubicBezTo>
                  <a:cubicBezTo>
                    <a:pt x="394" y="0"/>
                    <a:pt x="532" y="100"/>
                    <a:pt x="556" y="247"/>
                  </a:cubicBezTo>
                  <a:close/>
                </a:path>
              </a:pathLst>
            </a:custGeom>
            <a:solidFill>
              <a:srgbClr val="eaa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6"/>
            <p:cNvSpPr/>
            <p:nvPr/>
          </p:nvSpPr>
          <p:spPr>
            <a:xfrm>
              <a:off x="10055160" y="3178080"/>
              <a:ext cx="966960" cy="96840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510" y="226"/>
                  </a:moveTo>
                  <a:cubicBezTo>
                    <a:pt x="531" y="361"/>
                    <a:pt x="440" y="487"/>
                    <a:pt x="305" y="509"/>
                  </a:cubicBezTo>
                  <a:cubicBezTo>
                    <a:pt x="171" y="531"/>
                    <a:pt x="44" y="439"/>
                    <a:pt x="22" y="305"/>
                  </a:cubicBezTo>
                  <a:cubicBezTo>
                    <a:pt x="0" y="170"/>
                    <a:pt x="92" y="43"/>
                    <a:pt x="227" y="22"/>
                  </a:cubicBezTo>
                  <a:cubicBezTo>
                    <a:pt x="361" y="0"/>
                    <a:pt x="488" y="91"/>
                    <a:pt x="510" y="226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7"/>
            <p:cNvSpPr/>
            <p:nvPr/>
          </p:nvSpPr>
          <p:spPr>
            <a:xfrm>
              <a:off x="10072800" y="3195360"/>
              <a:ext cx="933480" cy="931680"/>
            </a:xfrm>
            <a:custGeom>
              <a:avLst/>
              <a:gdLst/>
              <a:ahLst/>
              <a:rect l="l" t="t" r="r" b="b"/>
              <a:pathLst>
                <a:path w="512" h="512">
                  <a:moveTo>
                    <a:pt x="491" y="218"/>
                  </a:moveTo>
                  <a:cubicBezTo>
                    <a:pt x="512" y="348"/>
                    <a:pt x="424" y="471"/>
                    <a:pt x="294" y="492"/>
                  </a:cubicBezTo>
                  <a:cubicBezTo>
                    <a:pt x="164" y="512"/>
                    <a:pt x="42" y="424"/>
                    <a:pt x="21" y="294"/>
                  </a:cubicBezTo>
                  <a:cubicBezTo>
                    <a:pt x="0" y="164"/>
                    <a:pt x="88" y="42"/>
                    <a:pt x="218" y="21"/>
                  </a:cubicBezTo>
                  <a:cubicBezTo>
                    <a:pt x="348" y="0"/>
                    <a:pt x="470" y="89"/>
                    <a:pt x="491" y="218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6" name="Freeform 8"/>
            <p:cNvSpPr/>
            <p:nvPr/>
          </p:nvSpPr>
          <p:spPr>
            <a:xfrm>
              <a:off x="10155240" y="3276360"/>
              <a:ext cx="768600" cy="771480"/>
            </a:xfrm>
            <a:custGeom>
              <a:avLst/>
              <a:gdLst/>
              <a:ahLst/>
              <a:rect l="l" t="t" r="r" b="b"/>
              <a:pathLst>
                <a:path w="422" h="423">
                  <a:moveTo>
                    <a:pt x="405" y="180"/>
                  </a:moveTo>
                  <a:cubicBezTo>
                    <a:pt x="422" y="287"/>
                    <a:pt x="349" y="388"/>
                    <a:pt x="242" y="405"/>
                  </a:cubicBezTo>
                  <a:cubicBezTo>
                    <a:pt x="135" y="423"/>
                    <a:pt x="34" y="350"/>
                    <a:pt x="17" y="243"/>
                  </a:cubicBezTo>
                  <a:cubicBezTo>
                    <a:pt x="0" y="135"/>
                    <a:pt x="72" y="35"/>
                    <a:pt x="180" y="17"/>
                  </a:cubicBezTo>
                  <a:cubicBezTo>
                    <a:pt x="287" y="0"/>
                    <a:pt x="388" y="73"/>
                    <a:pt x="405" y="180"/>
                  </a:cubicBez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7" name="Freeform 9">
              <a:hlinkClick r:id="rId6"/>
            </p:cNvPr>
            <p:cNvSpPr/>
            <p:nvPr/>
          </p:nvSpPr>
          <p:spPr>
            <a:xfrm>
              <a:off x="10163160" y="3286080"/>
              <a:ext cx="750960" cy="750600"/>
            </a:xfrm>
            <a:custGeom>
              <a:avLst/>
              <a:gdLst/>
              <a:ahLst/>
              <a:rect l="l" t="t" r="r" b="b"/>
              <a:pathLst>
                <a:path w="412" h="412">
                  <a:moveTo>
                    <a:pt x="395" y="176"/>
                  </a:moveTo>
                  <a:cubicBezTo>
                    <a:pt x="412" y="280"/>
                    <a:pt x="341" y="379"/>
                    <a:pt x="236" y="395"/>
                  </a:cubicBezTo>
                  <a:cubicBezTo>
                    <a:pt x="132" y="412"/>
                    <a:pt x="34" y="341"/>
                    <a:pt x="17" y="237"/>
                  </a:cubicBezTo>
                  <a:cubicBezTo>
                    <a:pt x="0" y="132"/>
                    <a:pt x="71" y="34"/>
                    <a:pt x="175" y="17"/>
                  </a:cubicBezTo>
                  <a:cubicBezTo>
                    <a:pt x="280" y="0"/>
                    <a:pt x="378" y="71"/>
                    <a:pt x="395" y="1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8" name="Freeform 10"/>
            <p:cNvSpPr/>
            <p:nvPr/>
          </p:nvSpPr>
          <p:spPr>
            <a:xfrm>
              <a:off x="10379160" y="3136680"/>
              <a:ext cx="15696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99" y="25"/>
                  </a:moveTo>
                  <a:lnTo>
                    <a:pt x="5" y="40"/>
                  </a:lnTo>
                  <a:lnTo>
                    <a:pt x="0" y="15"/>
                  </a:lnTo>
                  <a:lnTo>
                    <a:pt x="95" y="0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11"/>
            <p:cNvSpPr/>
            <p:nvPr/>
          </p:nvSpPr>
          <p:spPr>
            <a:xfrm>
              <a:off x="10333080" y="2998800"/>
              <a:ext cx="222120" cy="18252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122" y="77"/>
                  </a:moveTo>
                  <a:cubicBezTo>
                    <a:pt x="122" y="81"/>
                    <a:pt x="120" y="84"/>
                    <a:pt x="116" y="85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6" y="101"/>
                    <a:pt x="13" y="98"/>
                    <a:pt x="12" y="9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1"/>
                    <a:pt x="3" y="17"/>
                    <a:pt x="7" y="16"/>
                  </a:cubicBezTo>
                  <a:cubicBezTo>
                    <a:pt x="102" y="1"/>
                    <a:pt x="102" y="1"/>
                    <a:pt x="102" y="1"/>
                  </a:cubicBezTo>
                  <a:cubicBezTo>
                    <a:pt x="106" y="0"/>
                    <a:pt x="110" y="3"/>
                    <a:pt x="110" y="7"/>
                  </a:cubicBezTo>
                  <a:lnTo>
                    <a:pt x="122" y="77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12"/>
            <p:cNvSpPr/>
            <p:nvPr/>
          </p:nvSpPr>
          <p:spPr>
            <a:xfrm>
              <a:off x="10344240" y="3020760"/>
              <a:ext cx="60120" cy="16020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38" y="97"/>
                  </a:moveTo>
                  <a:lnTo>
                    <a:pt x="15" y="101"/>
                  </a:lnTo>
                  <a:lnTo>
                    <a:pt x="0" y="4"/>
                  </a:lnTo>
                  <a:lnTo>
                    <a:pt x="22" y="0"/>
                  </a:lnTo>
                  <a:lnTo>
                    <a:pt x="38" y="9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3"/>
            <p:cNvSpPr/>
            <p:nvPr/>
          </p:nvSpPr>
          <p:spPr>
            <a:xfrm>
              <a:off x="10412640" y="3012840"/>
              <a:ext cx="55440" cy="15840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35" y="96"/>
                  </a:moveTo>
                  <a:lnTo>
                    <a:pt x="14" y="100"/>
                  </a:lnTo>
                  <a:lnTo>
                    <a:pt x="0" y="2"/>
                  </a:lnTo>
                  <a:lnTo>
                    <a:pt x="19" y="0"/>
                  </a:lnTo>
                  <a:lnTo>
                    <a:pt x="35" y="9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4"/>
            <p:cNvSpPr/>
            <p:nvPr/>
          </p:nvSpPr>
          <p:spPr>
            <a:xfrm>
              <a:off x="10476000" y="3001680"/>
              <a:ext cx="60120" cy="158400"/>
            </a:xfrm>
            <a:custGeom>
              <a:avLst/>
              <a:gdLst/>
              <a:ahLst/>
              <a:rect l="l" t="t" r="r" b="b"/>
              <a:pathLst>
                <a:path w="38" h="100">
                  <a:moveTo>
                    <a:pt x="38" y="96"/>
                  </a:moveTo>
                  <a:lnTo>
                    <a:pt x="16" y="100"/>
                  </a:lnTo>
                  <a:lnTo>
                    <a:pt x="0" y="3"/>
                  </a:lnTo>
                  <a:lnTo>
                    <a:pt x="23" y="0"/>
                  </a:lnTo>
                  <a:lnTo>
                    <a:pt x="38" y="9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5"/>
            <p:cNvSpPr/>
            <p:nvPr/>
          </p:nvSpPr>
          <p:spPr>
            <a:xfrm>
              <a:off x="10344240" y="3027240"/>
              <a:ext cx="26640" cy="153720"/>
            </a:xfrm>
            <a:custGeom>
              <a:avLst/>
              <a:gdLst/>
              <a:ahLst/>
              <a:rect l="l" t="t" r="r" b="b"/>
              <a:pathLst>
                <a:path w="17" h="97">
                  <a:moveTo>
                    <a:pt x="17" y="96"/>
                  </a:moveTo>
                  <a:lnTo>
                    <a:pt x="15" y="97"/>
                  </a:lnTo>
                  <a:lnTo>
                    <a:pt x="0" y="0"/>
                  </a:lnTo>
                  <a:lnTo>
                    <a:pt x="2" y="0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6"/>
            <p:cNvSpPr/>
            <p:nvPr/>
          </p:nvSpPr>
          <p:spPr>
            <a:xfrm>
              <a:off x="10412640" y="3016080"/>
              <a:ext cx="26640" cy="155520"/>
            </a:xfrm>
            <a:custGeom>
              <a:avLst/>
              <a:gdLst/>
              <a:ahLst/>
              <a:rect l="l" t="t" r="r" b="b"/>
              <a:pathLst>
                <a:path w="17" h="98">
                  <a:moveTo>
                    <a:pt x="17" y="96"/>
                  </a:moveTo>
                  <a:lnTo>
                    <a:pt x="14" y="98"/>
                  </a:lnTo>
                  <a:lnTo>
                    <a:pt x="0" y="0"/>
                  </a:lnTo>
                  <a:lnTo>
                    <a:pt x="2" y="0"/>
                  </a:lnTo>
                  <a:lnTo>
                    <a:pt x="17" y="96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7"/>
            <p:cNvSpPr/>
            <p:nvPr/>
          </p:nvSpPr>
          <p:spPr>
            <a:xfrm>
              <a:off x="10476000" y="3004920"/>
              <a:ext cx="28440" cy="155520"/>
            </a:xfrm>
            <a:custGeom>
              <a:avLst/>
              <a:gdLst/>
              <a:ahLst/>
              <a:rect l="l" t="t" r="r" b="b"/>
              <a:pathLst>
                <a:path w="18" h="98">
                  <a:moveTo>
                    <a:pt x="18" y="98"/>
                  </a:moveTo>
                  <a:lnTo>
                    <a:pt x="16" y="98"/>
                  </a:lnTo>
                  <a:lnTo>
                    <a:pt x="0" y="1"/>
                  </a:lnTo>
                  <a:lnTo>
                    <a:pt x="2" y="0"/>
                  </a:lnTo>
                  <a:lnTo>
                    <a:pt x="18" y="98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8"/>
            <p:cNvSpPr/>
            <p:nvPr/>
          </p:nvSpPr>
          <p:spPr>
            <a:xfrm>
              <a:off x="10456920" y="3211200"/>
              <a:ext cx="33120" cy="6660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21" y="40"/>
                  </a:moveTo>
                  <a:lnTo>
                    <a:pt x="7" y="42"/>
                  </a:lnTo>
                  <a:lnTo>
                    <a:pt x="0" y="2"/>
                  </a:lnTo>
                  <a:lnTo>
                    <a:pt x="14" y="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9"/>
            <p:cNvSpPr/>
            <p:nvPr/>
          </p:nvSpPr>
          <p:spPr>
            <a:xfrm>
              <a:off x="10466640" y="326376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7"/>
                  </a:moveTo>
                  <a:lnTo>
                    <a:pt x="1" y="9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20"/>
            <p:cNvSpPr/>
            <p:nvPr/>
          </p:nvSpPr>
          <p:spPr>
            <a:xfrm>
              <a:off x="10761840" y="3290760"/>
              <a:ext cx="53640" cy="63360"/>
            </a:xfrm>
            <a:custGeom>
              <a:avLst/>
              <a:gdLst/>
              <a:ahLst/>
              <a:rect l="l" t="t" r="r" b="b"/>
              <a:pathLst>
                <a:path w="34" h="40">
                  <a:moveTo>
                    <a:pt x="10" y="40"/>
                  </a:moveTo>
                  <a:lnTo>
                    <a:pt x="0" y="34"/>
                  </a:lnTo>
                  <a:lnTo>
                    <a:pt x="25" y="0"/>
                  </a:lnTo>
                  <a:lnTo>
                    <a:pt x="34" y="7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21"/>
            <p:cNvSpPr/>
            <p:nvPr/>
          </p:nvSpPr>
          <p:spPr>
            <a:xfrm>
              <a:off x="10761840" y="3338280"/>
              <a:ext cx="2052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0" y="10"/>
                  </a:moveTo>
                  <a:lnTo>
                    <a:pt x="0" y="4"/>
                  </a:lnTo>
                  <a:lnTo>
                    <a:pt x="3" y="0"/>
                  </a:lnTo>
                  <a:lnTo>
                    <a:pt x="13" y="7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22"/>
            <p:cNvSpPr/>
            <p:nvPr/>
          </p:nvSpPr>
          <p:spPr>
            <a:xfrm>
              <a:off x="10922400" y="3590640"/>
              <a:ext cx="64800" cy="219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1" y="14"/>
                  </a:moveTo>
                  <a:lnTo>
                    <a:pt x="0" y="5"/>
                  </a:lnTo>
                  <a:lnTo>
                    <a:pt x="40" y="0"/>
                  </a:lnTo>
                  <a:lnTo>
                    <a:pt x="41" y="9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23"/>
            <p:cNvSpPr/>
            <p:nvPr/>
          </p:nvSpPr>
          <p:spPr>
            <a:xfrm>
              <a:off x="10922400" y="35971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1" y="10"/>
                  </a:moveTo>
                  <a:lnTo>
                    <a:pt x="0" y="1"/>
                  </a:lnTo>
                  <a:lnTo>
                    <a:pt x="7" y="0"/>
                  </a:lnTo>
                  <a:lnTo>
                    <a:pt x="8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24"/>
            <p:cNvSpPr/>
            <p:nvPr/>
          </p:nvSpPr>
          <p:spPr>
            <a:xfrm>
              <a:off x="10846080" y="3889080"/>
              <a:ext cx="6480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10"/>
                  </a:moveTo>
                  <a:lnTo>
                    <a:pt x="7" y="0"/>
                  </a:lnTo>
                  <a:lnTo>
                    <a:pt x="41" y="25"/>
                  </a:lnTo>
                  <a:lnTo>
                    <a:pt x="34" y="3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Freeform 25"/>
            <p:cNvSpPr/>
            <p:nvPr/>
          </p:nvSpPr>
          <p:spPr>
            <a:xfrm>
              <a:off x="10846080" y="388908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0"/>
                  </a:moveTo>
                  <a:lnTo>
                    <a:pt x="7" y="0"/>
                  </a:lnTo>
                  <a:lnTo>
                    <a:pt x="11" y="3"/>
                  </a:lnTo>
                  <a:lnTo>
                    <a:pt x="4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4" name="Freeform 26"/>
            <p:cNvSpPr/>
            <p:nvPr/>
          </p:nvSpPr>
          <p:spPr>
            <a:xfrm>
              <a:off x="10585440" y="4049640"/>
              <a:ext cx="28440" cy="6984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0" y="2"/>
                  </a:moveTo>
                  <a:lnTo>
                    <a:pt x="11" y="0"/>
                  </a:lnTo>
                  <a:lnTo>
                    <a:pt x="18" y="42"/>
                  </a:lnTo>
                  <a:lnTo>
                    <a:pt x="6" y="4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27"/>
            <p:cNvSpPr/>
            <p:nvPr/>
          </p:nvSpPr>
          <p:spPr>
            <a:xfrm>
              <a:off x="10585440" y="4049640"/>
              <a:ext cx="18720" cy="1080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0" y="2"/>
                  </a:moveTo>
                  <a:lnTo>
                    <a:pt x="11" y="0"/>
                  </a:lnTo>
                  <a:lnTo>
                    <a:pt x="12" y="4"/>
                  </a:lnTo>
                  <a:lnTo>
                    <a:pt x="1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28"/>
            <p:cNvSpPr/>
            <p:nvPr/>
          </p:nvSpPr>
          <p:spPr>
            <a:xfrm>
              <a:off x="10256760" y="3973320"/>
              <a:ext cx="53640" cy="6480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24" y="0"/>
                  </a:moveTo>
                  <a:lnTo>
                    <a:pt x="34" y="6"/>
                  </a:lnTo>
                  <a:lnTo>
                    <a:pt x="9" y="41"/>
                  </a:lnTo>
                  <a:lnTo>
                    <a:pt x="0" y="3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29"/>
            <p:cNvSpPr/>
            <p:nvPr/>
          </p:nvSpPr>
          <p:spPr>
            <a:xfrm>
              <a:off x="10291680" y="3973320"/>
              <a:ext cx="1872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2" y="0"/>
                  </a:moveTo>
                  <a:lnTo>
                    <a:pt x="12" y="6"/>
                  </a:lnTo>
                  <a:lnTo>
                    <a:pt x="9" y="11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30"/>
            <p:cNvSpPr/>
            <p:nvPr/>
          </p:nvSpPr>
          <p:spPr>
            <a:xfrm>
              <a:off x="10082160" y="370980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43" y="0"/>
                  </a:moveTo>
                  <a:lnTo>
                    <a:pt x="45" y="13"/>
                  </a:lnTo>
                  <a:lnTo>
                    <a:pt x="2" y="20"/>
                  </a:lnTo>
                  <a:lnTo>
                    <a:pt x="0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31"/>
            <p:cNvSpPr/>
            <p:nvPr/>
          </p:nvSpPr>
          <p:spPr>
            <a:xfrm>
              <a:off x="10140840" y="370980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0"/>
                  </a:moveTo>
                  <a:lnTo>
                    <a:pt x="8" y="13"/>
                  </a:lnTo>
                  <a:lnTo>
                    <a:pt x="2" y="14"/>
                  </a:lnTo>
                  <a:lnTo>
                    <a:pt x="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32"/>
            <p:cNvSpPr/>
            <p:nvPr/>
          </p:nvSpPr>
          <p:spPr>
            <a:xfrm>
              <a:off x="10163160" y="3384360"/>
              <a:ext cx="6480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41" y="24"/>
                  </a:moveTo>
                  <a:lnTo>
                    <a:pt x="34" y="34"/>
                  </a:lnTo>
                  <a:lnTo>
                    <a:pt x="0" y="9"/>
                  </a:lnTo>
                  <a:lnTo>
                    <a:pt x="7" y="0"/>
                  </a:lnTo>
                  <a:lnTo>
                    <a:pt x="41" y="24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33"/>
            <p:cNvSpPr/>
            <p:nvPr/>
          </p:nvSpPr>
          <p:spPr>
            <a:xfrm>
              <a:off x="10210680" y="3419280"/>
              <a:ext cx="17280" cy="18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2"/>
                  </a:moveTo>
                  <a:lnTo>
                    <a:pt x="4" y="12"/>
                  </a:lnTo>
                  <a:lnTo>
                    <a:pt x="0" y="9"/>
                  </a:lnTo>
                  <a:lnTo>
                    <a:pt x="7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965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151"/>
            <p:cNvSpPr/>
            <p:nvPr/>
          </p:nvSpPr>
          <p:spPr>
            <a:xfrm>
              <a:off x="9948960" y="5872320"/>
              <a:ext cx="152280" cy="16956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33"/>
                  </a:moveTo>
                  <a:cubicBezTo>
                    <a:pt x="69" y="8"/>
                    <a:pt x="69" y="8"/>
                    <a:pt x="69" y="8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43" y="7"/>
                    <a:pt x="55" y="19"/>
                    <a:pt x="46" y="19"/>
                  </a:cubicBezTo>
                  <a:cubicBezTo>
                    <a:pt x="38" y="19"/>
                    <a:pt x="28" y="19"/>
                    <a:pt x="28" y="19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35" y="52"/>
                    <a:pt x="47" y="54"/>
                  </a:cubicBezTo>
                  <a:cubicBezTo>
                    <a:pt x="59" y="57"/>
                    <a:pt x="63" y="68"/>
                    <a:pt x="63" y="68"/>
                  </a:cubicBezTo>
                  <a:lnTo>
                    <a:pt x="84" y="3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152"/>
            <p:cNvSpPr/>
            <p:nvPr/>
          </p:nvSpPr>
          <p:spPr>
            <a:xfrm>
              <a:off x="10841400" y="6048360"/>
              <a:ext cx="179280" cy="141120"/>
            </a:xfrm>
            <a:custGeom>
              <a:avLst/>
              <a:gdLst/>
              <a:ahLst/>
              <a:rect l="l" t="t" r="r" b="b"/>
              <a:pathLst>
                <a:path w="98" h="78">
                  <a:moveTo>
                    <a:pt x="29" y="0"/>
                  </a:moveTo>
                  <a:cubicBezTo>
                    <a:pt x="6" y="18"/>
                    <a:pt x="6" y="18"/>
                    <a:pt x="6" y="18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8" y="44"/>
                    <a:pt x="18" y="31"/>
                    <a:pt x="19" y="40"/>
                  </a:cubicBezTo>
                  <a:cubicBezTo>
                    <a:pt x="20" y="48"/>
                    <a:pt x="22" y="58"/>
                    <a:pt x="22" y="58"/>
                  </a:cubicBezTo>
                  <a:cubicBezTo>
                    <a:pt x="89" y="78"/>
                    <a:pt x="89" y="78"/>
                    <a:pt x="89" y="7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98" y="68"/>
                    <a:pt x="54" y="47"/>
                    <a:pt x="55" y="35"/>
                  </a:cubicBezTo>
                  <a:cubicBezTo>
                    <a:pt x="55" y="23"/>
                    <a:pt x="66" y="17"/>
                    <a:pt x="66" y="17"/>
                  </a:cubicBezTo>
                  <a:lnTo>
                    <a:pt x="29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153"/>
            <p:cNvSpPr/>
            <p:nvPr/>
          </p:nvSpPr>
          <p:spPr>
            <a:xfrm>
              <a:off x="10058400" y="5559480"/>
              <a:ext cx="997200" cy="691920"/>
            </a:xfrm>
            <a:custGeom>
              <a:avLst/>
              <a:gdLst/>
              <a:ahLst/>
              <a:rect l="l" t="t" r="r" b="b"/>
              <a:pathLst>
                <a:path w="547" h="380">
                  <a:moveTo>
                    <a:pt x="384" y="78"/>
                  </a:moveTo>
                  <a:cubicBezTo>
                    <a:pt x="384" y="78"/>
                    <a:pt x="170" y="0"/>
                    <a:pt x="164" y="56"/>
                  </a:cubicBezTo>
                  <a:cubicBezTo>
                    <a:pt x="158" y="111"/>
                    <a:pt x="182" y="134"/>
                    <a:pt x="182" y="134"/>
                  </a:cubicBezTo>
                  <a:cubicBezTo>
                    <a:pt x="174" y="311"/>
                    <a:pt x="23" y="198"/>
                    <a:pt x="23" y="198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187" y="380"/>
                    <a:pt x="245" y="147"/>
                    <a:pt x="245" y="147"/>
                  </a:cubicBezTo>
                  <a:cubicBezTo>
                    <a:pt x="326" y="161"/>
                    <a:pt x="395" y="117"/>
                    <a:pt x="395" y="117"/>
                  </a:cubicBezTo>
                  <a:cubicBezTo>
                    <a:pt x="395" y="117"/>
                    <a:pt x="547" y="145"/>
                    <a:pt x="457" y="255"/>
                  </a:cubicBezTo>
                  <a:cubicBezTo>
                    <a:pt x="448" y="266"/>
                    <a:pt x="448" y="266"/>
                    <a:pt x="448" y="266"/>
                  </a:cubicBezTo>
                  <a:cubicBezTo>
                    <a:pt x="495" y="299"/>
                    <a:pt x="495" y="299"/>
                    <a:pt x="495" y="299"/>
                  </a:cubicBezTo>
                  <a:cubicBezTo>
                    <a:pt x="495" y="299"/>
                    <a:pt x="525" y="252"/>
                    <a:pt x="534" y="178"/>
                  </a:cubicBezTo>
                  <a:cubicBezTo>
                    <a:pt x="543" y="104"/>
                    <a:pt x="455" y="79"/>
                    <a:pt x="402" y="70"/>
                  </a:cubicBezTo>
                  <a:lnTo>
                    <a:pt x="38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154"/>
            <p:cNvSpPr/>
            <p:nvPr/>
          </p:nvSpPr>
          <p:spPr>
            <a:xfrm>
              <a:off x="10833480" y="3913200"/>
              <a:ext cx="171360" cy="199800"/>
            </a:xfrm>
            <a:custGeom>
              <a:avLst/>
              <a:gdLst/>
              <a:ahLst/>
              <a:rect l="l" t="t" r="r" b="b"/>
              <a:pathLst>
                <a:path w="94" h="110">
                  <a:moveTo>
                    <a:pt x="6" y="110"/>
                  </a:moveTo>
                  <a:cubicBezTo>
                    <a:pt x="6" y="110"/>
                    <a:pt x="0" y="62"/>
                    <a:pt x="17" y="40"/>
                  </a:cubicBezTo>
                  <a:cubicBezTo>
                    <a:pt x="34" y="18"/>
                    <a:pt x="44" y="12"/>
                    <a:pt x="44" y="12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63" y="27"/>
                    <a:pt x="85" y="0"/>
                  </a:cubicBezTo>
                  <a:cubicBezTo>
                    <a:pt x="85" y="0"/>
                    <a:pt x="89" y="4"/>
                    <a:pt x="89" y="7"/>
                  </a:cubicBezTo>
                  <a:cubicBezTo>
                    <a:pt x="90" y="10"/>
                    <a:pt x="62" y="35"/>
                    <a:pt x="62" y="35"/>
                  </a:cubicBezTo>
                  <a:cubicBezTo>
                    <a:pt x="89" y="19"/>
                    <a:pt x="89" y="19"/>
                    <a:pt x="89" y="19"/>
                  </a:cubicBezTo>
                  <a:cubicBezTo>
                    <a:pt x="89" y="19"/>
                    <a:pt x="94" y="26"/>
                    <a:pt x="90" y="28"/>
                  </a:cubicBezTo>
                  <a:cubicBezTo>
                    <a:pt x="86" y="31"/>
                    <a:pt x="64" y="42"/>
                    <a:pt x="64" y="42"/>
                  </a:cubicBezTo>
                  <a:cubicBezTo>
                    <a:pt x="83" y="37"/>
                    <a:pt x="83" y="37"/>
                    <a:pt x="83" y="37"/>
                  </a:cubicBezTo>
                  <a:cubicBezTo>
                    <a:pt x="83" y="37"/>
                    <a:pt x="89" y="40"/>
                    <a:pt x="83" y="44"/>
                  </a:cubicBezTo>
                  <a:cubicBezTo>
                    <a:pt x="77" y="47"/>
                    <a:pt x="60" y="50"/>
                    <a:pt x="60" y="50"/>
                  </a:cubicBezTo>
                  <a:cubicBezTo>
                    <a:pt x="71" y="53"/>
                    <a:pt x="71" y="53"/>
                    <a:pt x="71" y="53"/>
                  </a:cubicBezTo>
                  <a:cubicBezTo>
                    <a:pt x="71" y="53"/>
                    <a:pt x="76" y="54"/>
                    <a:pt x="71" y="57"/>
                  </a:cubicBezTo>
                  <a:cubicBezTo>
                    <a:pt x="66" y="60"/>
                    <a:pt x="50" y="57"/>
                    <a:pt x="50" y="57"/>
                  </a:cubicBezTo>
                  <a:cubicBezTo>
                    <a:pt x="50" y="57"/>
                    <a:pt x="23" y="75"/>
                    <a:pt x="25" y="98"/>
                  </a:cubicBezTo>
                  <a:cubicBezTo>
                    <a:pt x="4" y="110"/>
                    <a:pt x="4" y="110"/>
                    <a:pt x="4" y="110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155"/>
            <p:cNvSpPr/>
            <p:nvPr/>
          </p:nvSpPr>
          <p:spPr>
            <a:xfrm>
              <a:off x="10699920" y="4084560"/>
              <a:ext cx="193680" cy="958680"/>
            </a:xfrm>
            <a:custGeom>
              <a:avLst/>
              <a:gdLst/>
              <a:ahLst/>
              <a:rect l="l" t="t" r="r" b="b"/>
              <a:pathLst>
                <a:path w="122" h="604">
                  <a:moveTo>
                    <a:pt x="35" y="604"/>
                  </a:moveTo>
                  <a:lnTo>
                    <a:pt x="37" y="599"/>
                  </a:lnTo>
                  <a:lnTo>
                    <a:pt x="122" y="1"/>
                  </a:lnTo>
                  <a:lnTo>
                    <a:pt x="88" y="0"/>
                  </a:lnTo>
                  <a:lnTo>
                    <a:pt x="0" y="588"/>
                  </a:lnTo>
                  <a:lnTo>
                    <a:pt x="35" y="6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156"/>
            <p:cNvSpPr/>
            <p:nvPr/>
          </p:nvSpPr>
          <p:spPr>
            <a:xfrm>
              <a:off x="10045800" y="3838320"/>
              <a:ext cx="164880" cy="209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82" y="115"/>
                  </a:moveTo>
                  <a:cubicBezTo>
                    <a:pt x="82" y="115"/>
                    <a:pt x="91" y="67"/>
                    <a:pt x="76" y="45"/>
                  </a:cubicBezTo>
                  <a:cubicBezTo>
                    <a:pt x="60" y="22"/>
                    <a:pt x="50" y="15"/>
                    <a:pt x="50" y="15"/>
                  </a:cubicBezTo>
                  <a:cubicBezTo>
                    <a:pt x="45" y="19"/>
                    <a:pt x="45" y="19"/>
                    <a:pt x="45" y="19"/>
                  </a:cubicBezTo>
                  <a:cubicBezTo>
                    <a:pt x="70" y="51"/>
                    <a:pt x="70" y="51"/>
                    <a:pt x="70" y="51"/>
                  </a:cubicBezTo>
                  <a:cubicBezTo>
                    <a:pt x="70" y="51"/>
                    <a:pt x="31" y="29"/>
                    <a:pt x="10" y="0"/>
                  </a:cubicBezTo>
                  <a:cubicBezTo>
                    <a:pt x="10" y="0"/>
                    <a:pt x="6" y="4"/>
                    <a:pt x="6" y="7"/>
                  </a:cubicBezTo>
                  <a:cubicBezTo>
                    <a:pt x="5" y="10"/>
                    <a:pt x="31" y="36"/>
                    <a:pt x="31" y="36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0" y="26"/>
                    <a:pt x="4" y="28"/>
                  </a:cubicBezTo>
                  <a:cubicBezTo>
                    <a:pt x="8" y="31"/>
                    <a:pt x="29" y="44"/>
                    <a:pt x="29" y="44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4" y="40"/>
                    <a:pt x="9" y="44"/>
                  </a:cubicBezTo>
                  <a:cubicBezTo>
                    <a:pt x="15" y="48"/>
                    <a:pt x="32" y="52"/>
                    <a:pt x="32" y="52"/>
                  </a:cubicBezTo>
                  <a:cubicBezTo>
                    <a:pt x="21" y="54"/>
                    <a:pt x="21" y="54"/>
                    <a:pt x="21" y="54"/>
                  </a:cubicBezTo>
                  <a:cubicBezTo>
                    <a:pt x="21" y="54"/>
                    <a:pt x="16" y="55"/>
                    <a:pt x="21" y="59"/>
                  </a:cubicBezTo>
                  <a:cubicBezTo>
                    <a:pt x="25" y="62"/>
                    <a:pt x="41" y="60"/>
                    <a:pt x="41" y="60"/>
                  </a:cubicBezTo>
                  <a:cubicBezTo>
                    <a:pt x="41" y="60"/>
                    <a:pt x="67" y="79"/>
                    <a:pt x="64" y="102"/>
                  </a:cubicBezTo>
                  <a:cubicBezTo>
                    <a:pt x="84" y="115"/>
                    <a:pt x="84" y="115"/>
                    <a:pt x="84" y="115"/>
                  </a:cubicBezTo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157"/>
            <p:cNvSpPr/>
            <p:nvPr/>
          </p:nvSpPr>
          <p:spPr>
            <a:xfrm>
              <a:off x="10285560" y="4167000"/>
              <a:ext cx="603360" cy="1004760"/>
            </a:xfrm>
            <a:custGeom>
              <a:avLst/>
              <a:gdLst/>
              <a:ahLst/>
              <a:rect l="l" t="t" r="r" b="b"/>
              <a:pathLst>
                <a:path w="331" h="551">
                  <a:moveTo>
                    <a:pt x="78" y="479"/>
                  </a:moveTo>
                  <a:cubicBezTo>
                    <a:pt x="78" y="479"/>
                    <a:pt x="0" y="315"/>
                    <a:pt x="8" y="173"/>
                  </a:cubicBezTo>
                  <a:cubicBezTo>
                    <a:pt x="9" y="158"/>
                    <a:pt x="14" y="145"/>
                    <a:pt x="19" y="134"/>
                  </a:cubicBezTo>
                  <a:cubicBezTo>
                    <a:pt x="24" y="109"/>
                    <a:pt x="35" y="78"/>
                    <a:pt x="56" y="52"/>
                  </a:cubicBezTo>
                  <a:cubicBezTo>
                    <a:pt x="100" y="0"/>
                    <a:pt x="186" y="11"/>
                    <a:pt x="198" y="5"/>
                  </a:cubicBezTo>
                  <a:cubicBezTo>
                    <a:pt x="198" y="5"/>
                    <a:pt x="331" y="20"/>
                    <a:pt x="252" y="152"/>
                  </a:cubicBezTo>
                  <a:cubicBezTo>
                    <a:pt x="323" y="264"/>
                    <a:pt x="281" y="402"/>
                    <a:pt x="247" y="477"/>
                  </a:cubicBezTo>
                  <a:cubicBezTo>
                    <a:pt x="247" y="477"/>
                    <a:pt x="190" y="551"/>
                    <a:pt x="78" y="479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158"/>
            <p:cNvSpPr/>
            <p:nvPr/>
          </p:nvSpPr>
          <p:spPr>
            <a:xfrm>
              <a:off x="10377720" y="4235400"/>
              <a:ext cx="447840" cy="965160"/>
            </a:xfrm>
            <a:custGeom>
              <a:avLst/>
              <a:gdLst/>
              <a:ahLst/>
              <a:rect l="l" t="t" r="r" b="b"/>
              <a:pathLst>
                <a:path w="246" h="530">
                  <a:moveTo>
                    <a:pt x="187" y="111"/>
                  </a:moveTo>
                  <a:cubicBezTo>
                    <a:pt x="187" y="111"/>
                    <a:pt x="220" y="30"/>
                    <a:pt x="164" y="15"/>
                  </a:cubicBezTo>
                  <a:cubicBezTo>
                    <a:pt x="109" y="0"/>
                    <a:pt x="28" y="14"/>
                    <a:pt x="17" y="95"/>
                  </a:cubicBezTo>
                  <a:cubicBezTo>
                    <a:pt x="7" y="176"/>
                    <a:pt x="0" y="333"/>
                    <a:pt x="20" y="366"/>
                  </a:cubicBezTo>
                  <a:cubicBezTo>
                    <a:pt x="40" y="399"/>
                    <a:pt x="126" y="530"/>
                    <a:pt x="189" y="394"/>
                  </a:cubicBezTo>
                  <a:cubicBezTo>
                    <a:pt x="203" y="365"/>
                    <a:pt x="246" y="192"/>
                    <a:pt x="187" y="111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159"/>
            <p:cNvSpPr/>
            <p:nvPr/>
          </p:nvSpPr>
          <p:spPr>
            <a:xfrm>
              <a:off x="10402920" y="4384440"/>
              <a:ext cx="380880" cy="38736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101" y="44"/>
                  </a:moveTo>
                  <a:cubicBezTo>
                    <a:pt x="101" y="44"/>
                    <a:pt x="66" y="131"/>
                    <a:pt x="0" y="115"/>
                  </a:cubicBezTo>
                  <a:cubicBezTo>
                    <a:pt x="0" y="115"/>
                    <a:pt x="41" y="213"/>
                    <a:pt x="90" y="159"/>
                  </a:cubicBezTo>
                  <a:cubicBezTo>
                    <a:pt x="139" y="106"/>
                    <a:pt x="134" y="185"/>
                    <a:pt x="195" y="175"/>
                  </a:cubicBezTo>
                  <a:cubicBezTo>
                    <a:pt x="209" y="165"/>
                    <a:pt x="209" y="165"/>
                    <a:pt x="209" y="165"/>
                  </a:cubicBezTo>
                  <a:cubicBezTo>
                    <a:pt x="209" y="165"/>
                    <a:pt x="140" y="123"/>
                    <a:pt x="147" y="56"/>
                  </a:cubicBezTo>
                  <a:cubicBezTo>
                    <a:pt x="147" y="56"/>
                    <a:pt x="139" y="0"/>
                    <a:pt x="101" y="44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160"/>
            <p:cNvSpPr/>
            <p:nvPr/>
          </p:nvSpPr>
          <p:spPr>
            <a:xfrm>
              <a:off x="10579320" y="4694040"/>
              <a:ext cx="96840" cy="838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5" y="26"/>
                  </a:moveTo>
                  <a:cubicBezTo>
                    <a:pt x="5" y="26"/>
                    <a:pt x="16" y="0"/>
                    <a:pt x="34" y="13"/>
                  </a:cubicBezTo>
                  <a:cubicBezTo>
                    <a:pt x="53" y="26"/>
                    <a:pt x="48" y="45"/>
                    <a:pt x="48" y="45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2" y="24"/>
                    <a:pt x="20" y="27"/>
                  </a:cubicBezTo>
                  <a:cubicBezTo>
                    <a:pt x="7" y="30"/>
                    <a:pt x="14" y="42"/>
                    <a:pt x="14" y="42"/>
                  </a:cubicBezTo>
                  <a:cubicBezTo>
                    <a:pt x="14" y="42"/>
                    <a:pt x="0" y="46"/>
                    <a:pt x="5" y="2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161"/>
            <p:cNvSpPr/>
            <p:nvPr/>
          </p:nvSpPr>
          <p:spPr>
            <a:xfrm>
              <a:off x="10628640" y="4790880"/>
              <a:ext cx="98280" cy="856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6" y="37"/>
                  </a:moveTo>
                  <a:cubicBezTo>
                    <a:pt x="46" y="37"/>
                    <a:pt x="54" y="11"/>
                    <a:pt x="34" y="6"/>
                  </a:cubicBezTo>
                  <a:cubicBezTo>
                    <a:pt x="14" y="0"/>
                    <a:pt x="0" y="47"/>
                    <a:pt x="0" y="47"/>
                  </a:cubicBezTo>
                  <a:lnTo>
                    <a:pt x="46" y="37"/>
                  </a:ln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162"/>
            <p:cNvSpPr/>
            <p:nvPr/>
          </p:nvSpPr>
          <p:spPr>
            <a:xfrm>
              <a:off x="10623600" y="4797360"/>
              <a:ext cx="110880" cy="1141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46"/>
                  </a:moveTo>
                  <a:cubicBezTo>
                    <a:pt x="0" y="46"/>
                    <a:pt x="27" y="0"/>
                    <a:pt x="44" y="22"/>
                  </a:cubicBezTo>
                  <a:cubicBezTo>
                    <a:pt x="61" y="44"/>
                    <a:pt x="34" y="62"/>
                    <a:pt x="0" y="46"/>
                  </a:cubicBezTo>
                  <a:close/>
                </a:path>
              </a:pathLst>
            </a:custGeom>
            <a:solidFill>
              <a:srgbClr val="ce99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163"/>
            <p:cNvSpPr/>
            <p:nvPr/>
          </p:nvSpPr>
          <p:spPr>
            <a:xfrm>
              <a:off x="10434600" y="4395600"/>
              <a:ext cx="199800" cy="23940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97" y="25"/>
                  </a:moveTo>
                  <a:cubicBezTo>
                    <a:pt x="97" y="25"/>
                    <a:pt x="55" y="132"/>
                    <a:pt x="0" y="108"/>
                  </a:cubicBezTo>
                  <a:cubicBezTo>
                    <a:pt x="0" y="108"/>
                    <a:pt x="70" y="91"/>
                    <a:pt x="70" y="17"/>
                  </a:cubicBezTo>
                  <a:cubicBezTo>
                    <a:pt x="70" y="17"/>
                    <a:pt x="72" y="0"/>
                    <a:pt x="90" y="1"/>
                  </a:cubicBezTo>
                  <a:cubicBezTo>
                    <a:pt x="109" y="2"/>
                    <a:pt x="97" y="25"/>
                    <a:pt x="97" y="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164"/>
            <p:cNvSpPr/>
            <p:nvPr/>
          </p:nvSpPr>
          <p:spPr>
            <a:xfrm>
              <a:off x="10642680" y="4425840"/>
              <a:ext cx="141120" cy="25848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" y="12"/>
                  </a:moveTo>
                  <a:cubicBezTo>
                    <a:pt x="7" y="12"/>
                    <a:pt x="0" y="114"/>
                    <a:pt x="77" y="142"/>
                  </a:cubicBezTo>
                  <a:cubicBezTo>
                    <a:pt x="77" y="142"/>
                    <a:pt x="31" y="117"/>
                    <a:pt x="30" y="70"/>
                  </a:cubicBezTo>
                  <a:cubicBezTo>
                    <a:pt x="30" y="23"/>
                    <a:pt x="24" y="10"/>
                    <a:pt x="22" y="7"/>
                  </a:cubicBezTo>
                  <a:cubicBezTo>
                    <a:pt x="20" y="5"/>
                    <a:pt x="8" y="0"/>
                    <a:pt x="7" y="1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165"/>
            <p:cNvSpPr/>
            <p:nvPr/>
          </p:nvSpPr>
          <p:spPr>
            <a:xfrm>
              <a:off x="10444320" y="4568760"/>
              <a:ext cx="141120" cy="123480"/>
            </a:xfrm>
            <a:custGeom>
              <a:avLst/>
              <a:gdLst/>
              <a:ahLst/>
              <a:rect l="l" t="t" r="r" b="b"/>
              <a:pathLst>
                <a:path w="77" h="68">
                  <a:moveTo>
                    <a:pt x="48" y="11"/>
                  </a:moveTo>
                  <a:cubicBezTo>
                    <a:pt x="48" y="11"/>
                    <a:pt x="0" y="68"/>
                    <a:pt x="39" y="65"/>
                  </a:cubicBezTo>
                  <a:cubicBezTo>
                    <a:pt x="77" y="62"/>
                    <a:pt x="77" y="0"/>
                    <a:pt x="4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166"/>
            <p:cNvSpPr/>
            <p:nvPr/>
          </p:nvSpPr>
          <p:spPr>
            <a:xfrm>
              <a:off x="10634760" y="4573440"/>
              <a:ext cx="98280" cy="120600"/>
            </a:xfrm>
            <a:custGeom>
              <a:avLst/>
              <a:gdLst/>
              <a:ahLst/>
              <a:rect l="l" t="t" r="r" b="b"/>
              <a:pathLst>
                <a:path w="54" h="66">
                  <a:moveTo>
                    <a:pt x="3" y="22"/>
                  </a:moveTo>
                  <a:cubicBezTo>
                    <a:pt x="3" y="22"/>
                    <a:pt x="10" y="50"/>
                    <a:pt x="32" y="58"/>
                  </a:cubicBezTo>
                  <a:cubicBezTo>
                    <a:pt x="54" y="66"/>
                    <a:pt x="44" y="44"/>
                    <a:pt x="31" y="27"/>
                  </a:cubicBezTo>
                  <a:cubicBezTo>
                    <a:pt x="18" y="9"/>
                    <a:pt x="0" y="0"/>
                    <a:pt x="3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167"/>
            <p:cNvSpPr/>
            <p:nvPr/>
          </p:nvSpPr>
          <p:spPr>
            <a:xfrm>
              <a:off x="10223640" y="4549680"/>
              <a:ext cx="131760" cy="304560"/>
            </a:xfrm>
            <a:custGeom>
              <a:avLst/>
              <a:gdLst/>
              <a:ahLst/>
              <a:rect l="l" t="t" r="r" b="b"/>
              <a:pathLst>
                <a:path w="72" h="167">
                  <a:moveTo>
                    <a:pt x="47" y="17"/>
                  </a:moveTo>
                  <a:cubicBezTo>
                    <a:pt x="47" y="17"/>
                    <a:pt x="10" y="0"/>
                    <a:pt x="5" y="44"/>
                  </a:cubicBezTo>
                  <a:cubicBezTo>
                    <a:pt x="0" y="88"/>
                    <a:pt x="72" y="167"/>
                    <a:pt x="70" y="126"/>
                  </a:cubicBezTo>
                  <a:cubicBezTo>
                    <a:pt x="68" y="84"/>
                    <a:pt x="47" y="17"/>
                    <a:pt x="47" y="17"/>
                  </a:cubicBezTo>
                  <a:close/>
                </a:path>
              </a:pathLst>
            </a:custGeom>
            <a:solidFill>
              <a:srgbClr val="f2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168"/>
            <p:cNvSpPr/>
            <p:nvPr/>
          </p:nvSpPr>
          <p:spPr>
            <a:xfrm>
              <a:off x="10253520" y="4587840"/>
              <a:ext cx="87120" cy="1807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38" y="36"/>
                  </a:moveTo>
                  <a:cubicBezTo>
                    <a:pt x="38" y="36"/>
                    <a:pt x="36" y="0"/>
                    <a:pt x="18" y="11"/>
                  </a:cubicBezTo>
                  <a:cubicBezTo>
                    <a:pt x="0" y="22"/>
                    <a:pt x="6" y="13"/>
                    <a:pt x="23" y="41"/>
                  </a:cubicBezTo>
                  <a:cubicBezTo>
                    <a:pt x="39" y="69"/>
                    <a:pt x="31" y="77"/>
                    <a:pt x="22" y="69"/>
                  </a:cubicBezTo>
                  <a:cubicBezTo>
                    <a:pt x="13" y="60"/>
                    <a:pt x="29" y="99"/>
                    <a:pt x="39" y="87"/>
                  </a:cubicBezTo>
                  <a:cubicBezTo>
                    <a:pt x="48" y="74"/>
                    <a:pt x="41" y="52"/>
                    <a:pt x="38" y="36"/>
                  </a:cubicBezTo>
                  <a:close/>
                </a:path>
              </a:pathLst>
            </a:custGeom>
            <a:solidFill>
              <a:srgbClr val="efc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169"/>
            <p:cNvSpPr/>
            <p:nvPr/>
          </p:nvSpPr>
          <p:spPr>
            <a:xfrm>
              <a:off x="10283760" y="4086000"/>
              <a:ext cx="504720" cy="696600"/>
            </a:xfrm>
            <a:custGeom>
              <a:avLst/>
              <a:gdLst/>
              <a:ahLst/>
              <a:rect l="l" t="t" r="r" b="b"/>
              <a:pathLst>
                <a:path w="277" h="383">
                  <a:moveTo>
                    <a:pt x="257" y="61"/>
                  </a:moveTo>
                  <a:cubicBezTo>
                    <a:pt x="257" y="61"/>
                    <a:pt x="277" y="117"/>
                    <a:pt x="207" y="117"/>
                  </a:cubicBezTo>
                  <a:cubicBezTo>
                    <a:pt x="137" y="117"/>
                    <a:pt x="66" y="124"/>
                    <a:pt x="55" y="156"/>
                  </a:cubicBezTo>
                  <a:cubicBezTo>
                    <a:pt x="44" y="188"/>
                    <a:pt x="48" y="383"/>
                    <a:pt x="48" y="383"/>
                  </a:cubicBezTo>
                  <a:cubicBezTo>
                    <a:pt x="37" y="381"/>
                    <a:pt x="37" y="381"/>
                    <a:pt x="37" y="381"/>
                  </a:cubicBezTo>
                  <a:cubicBezTo>
                    <a:pt x="37" y="381"/>
                    <a:pt x="21" y="268"/>
                    <a:pt x="11" y="268"/>
                  </a:cubicBezTo>
                  <a:cubicBezTo>
                    <a:pt x="0" y="268"/>
                    <a:pt x="6" y="143"/>
                    <a:pt x="42" y="97"/>
                  </a:cubicBezTo>
                  <a:cubicBezTo>
                    <a:pt x="78" y="52"/>
                    <a:pt x="235" y="0"/>
                    <a:pt x="257" y="6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170">
              <a:hlinkClick r:id="rId7"/>
            </p:cNvPr>
            <p:cNvSpPr/>
            <p:nvPr/>
          </p:nvSpPr>
          <p:spPr>
            <a:xfrm>
              <a:off x="10155240" y="4016160"/>
              <a:ext cx="647640" cy="1765080"/>
            </a:xfrm>
            <a:custGeom>
              <a:avLst/>
              <a:gdLst/>
              <a:ahLst/>
              <a:rect l="l" t="t" r="r" b="b"/>
              <a:pathLst>
                <a:path w="356" h="969">
                  <a:moveTo>
                    <a:pt x="321" y="554"/>
                  </a:moveTo>
                  <a:cubicBezTo>
                    <a:pt x="321" y="554"/>
                    <a:pt x="324" y="560"/>
                    <a:pt x="330" y="564"/>
                  </a:cubicBezTo>
                  <a:cubicBezTo>
                    <a:pt x="336" y="568"/>
                    <a:pt x="356" y="917"/>
                    <a:pt x="356" y="917"/>
                  </a:cubicBezTo>
                  <a:cubicBezTo>
                    <a:pt x="284" y="969"/>
                    <a:pt x="108" y="919"/>
                    <a:pt x="110" y="911"/>
                  </a:cubicBezTo>
                  <a:cubicBezTo>
                    <a:pt x="112" y="903"/>
                    <a:pt x="122" y="580"/>
                    <a:pt x="122" y="580"/>
                  </a:cubicBezTo>
                  <a:cubicBezTo>
                    <a:pt x="127" y="550"/>
                    <a:pt x="0" y="0"/>
                    <a:pt x="0" y="0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159" y="566"/>
                    <a:pt x="159" y="566"/>
                    <a:pt x="159" y="566"/>
                  </a:cubicBezTo>
                  <a:cubicBezTo>
                    <a:pt x="159" y="566"/>
                    <a:pt x="241" y="628"/>
                    <a:pt x="321" y="5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171"/>
            <p:cNvSpPr/>
            <p:nvPr/>
          </p:nvSpPr>
          <p:spPr>
            <a:xfrm>
              <a:off x="10480680" y="5049720"/>
              <a:ext cx="241200" cy="187200"/>
            </a:xfrm>
            <a:custGeom>
              <a:avLst/>
              <a:gdLst/>
              <a:ahLst/>
              <a:rect l="l" t="t" r="r" b="b"/>
              <a:pathLst>
                <a:path w="132" h="103">
                  <a:moveTo>
                    <a:pt x="122" y="4"/>
                  </a:moveTo>
                  <a:cubicBezTo>
                    <a:pt x="122" y="4"/>
                    <a:pt x="118" y="85"/>
                    <a:pt x="95" y="75"/>
                  </a:cubicBezTo>
                  <a:cubicBezTo>
                    <a:pt x="73" y="65"/>
                    <a:pt x="70" y="28"/>
                    <a:pt x="70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1" y="28"/>
                    <a:pt x="58" y="96"/>
                    <a:pt x="36" y="79"/>
                  </a:cubicBezTo>
                  <a:cubicBezTo>
                    <a:pt x="15" y="62"/>
                    <a:pt x="4" y="13"/>
                    <a:pt x="4" y="13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9"/>
                    <a:pt x="1" y="89"/>
                    <a:pt x="45" y="89"/>
                  </a:cubicBezTo>
                  <a:cubicBezTo>
                    <a:pt x="89" y="89"/>
                    <a:pt x="68" y="43"/>
                    <a:pt x="68" y="43"/>
                  </a:cubicBezTo>
                  <a:cubicBezTo>
                    <a:pt x="68" y="43"/>
                    <a:pt x="82" y="103"/>
                    <a:pt x="114" y="83"/>
                  </a:cubicBezTo>
                  <a:cubicBezTo>
                    <a:pt x="132" y="71"/>
                    <a:pt x="126" y="0"/>
                    <a:pt x="126" y="0"/>
                  </a:cubicBezTo>
                  <a:lnTo>
                    <a:pt x="122" y="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172"/>
            <p:cNvSpPr/>
            <p:nvPr/>
          </p:nvSpPr>
          <p:spPr>
            <a:xfrm>
              <a:off x="10590480" y="5100480"/>
              <a:ext cx="355680" cy="415800"/>
            </a:xfrm>
            <a:custGeom>
              <a:avLst/>
              <a:gdLst/>
              <a:ahLst/>
              <a:rect l="l" t="t" r="r" b="b"/>
              <a:pathLst>
                <a:path w="195" h="228">
                  <a:moveTo>
                    <a:pt x="10" y="0"/>
                  </a:moveTo>
                  <a:cubicBezTo>
                    <a:pt x="21" y="34"/>
                    <a:pt x="21" y="34"/>
                    <a:pt x="21" y="34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31" y="222"/>
                    <a:pt x="157" y="157"/>
                  </a:cubicBezTo>
                  <a:cubicBezTo>
                    <a:pt x="195" y="199"/>
                    <a:pt x="195" y="199"/>
                    <a:pt x="195" y="199"/>
                  </a:cubicBezTo>
                  <a:cubicBezTo>
                    <a:pt x="148" y="228"/>
                    <a:pt x="148" y="228"/>
                    <a:pt x="148" y="228"/>
                  </a:cubicBezTo>
                  <a:cubicBezTo>
                    <a:pt x="148" y="228"/>
                    <a:pt x="0" y="224"/>
                    <a:pt x="13" y="37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173"/>
            <p:cNvSpPr/>
            <p:nvPr/>
          </p:nvSpPr>
          <p:spPr>
            <a:xfrm>
              <a:off x="10353600" y="5049720"/>
              <a:ext cx="75960" cy="653760"/>
            </a:xfrm>
            <a:custGeom>
              <a:avLst/>
              <a:gdLst/>
              <a:ahLst/>
              <a:rect l="l" t="t" r="r" b="b"/>
              <a:pathLst>
                <a:path w="42" h="359">
                  <a:moveTo>
                    <a:pt x="32" y="186"/>
                  </a:moveTo>
                  <a:cubicBezTo>
                    <a:pt x="25" y="247"/>
                    <a:pt x="37" y="330"/>
                    <a:pt x="42" y="359"/>
                  </a:cubicBezTo>
                  <a:cubicBezTo>
                    <a:pt x="17" y="353"/>
                    <a:pt x="0" y="347"/>
                    <a:pt x="1" y="344"/>
                  </a:cubicBezTo>
                  <a:cubicBezTo>
                    <a:pt x="3" y="336"/>
                    <a:pt x="13" y="13"/>
                    <a:pt x="13" y="13"/>
                  </a:cubicBezTo>
                  <a:cubicBezTo>
                    <a:pt x="13" y="11"/>
                    <a:pt x="13" y="6"/>
                    <a:pt x="12" y="0"/>
                  </a:cubicBezTo>
                  <a:cubicBezTo>
                    <a:pt x="16" y="19"/>
                    <a:pt x="39" y="118"/>
                    <a:pt x="32" y="186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174"/>
            <p:cNvSpPr/>
            <p:nvPr/>
          </p:nvSpPr>
          <p:spPr>
            <a:xfrm>
              <a:off x="10715760" y="4209840"/>
              <a:ext cx="137880" cy="176040"/>
            </a:xfrm>
            <a:custGeom>
              <a:avLst/>
              <a:gdLst/>
              <a:ahLst/>
              <a:rect l="l" t="t" r="r" b="b"/>
              <a:pathLst>
                <a:path w="76" h="97">
                  <a:moveTo>
                    <a:pt x="0" y="31"/>
                  </a:moveTo>
                  <a:cubicBezTo>
                    <a:pt x="0" y="31"/>
                    <a:pt x="41" y="50"/>
                    <a:pt x="33" y="97"/>
                  </a:cubicBezTo>
                  <a:cubicBezTo>
                    <a:pt x="33" y="97"/>
                    <a:pt x="76" y="20"/>
                    <a:pt x="17" y="0"/>
                  </a:cubicBez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6" name="Freeform 175"/>
          <p:cNvSpPr/>
          <p:nvPr/>
        </p:nvSpPr>
        <p:spPr>
          <a:xfrm>
            <a:off x="5343480" y="6237360"/>
            <a:ext cx="6377040" cy="538200"/>
          </a:xfrm>
          <a:custGeom>
            <a:avLst/>
            <a:gdLst/>
            <a:ahLst/>
            <a:rect l="l" t="t" r="r" b="b"/>
            <a:pathLst>
              <a:path w="3500" h="295">
                <a:moveTo>
                  <a:pt x="3500" y="148"/>
                </a:moveTo>
                <a:cubicBezTo>
                  <a:pt x="3500" y="229"/>
                  <a:pt x="3434" y="295"/>
                  <a:pt x="3352" y="295"/>
                </a:cubicBezTo>
                <a:cubicBezTo>
                  <a:pt x="148" y="295"/>
                  <a:pt x="148" y="295"/>
                  <a:pt x="148" y="295"/>
                </a:cubicBezTo>
                <a:cubicBezTo>
                  <a:pt x="66" y="295"/>
                  <a:pt x="0" y="229"/>
                  <a:pt x="0" y="148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66"/>
                  <a:pt x="66" y="0"/>
                  <a:pt x="148" y="0"/>
                </a:cubicBezTo>
                <a:cubicBezTo>
                  <a:pt x="3352" y="0"/>
                  <a:pt x="3352" y="0"/>
                  <a:pt x="3352" y="0"/>
                </a:cubicBezTo>
                <a:cubicBezTo>
                  <a:pt x="3434" y="0"/>
                  <a:pt x="3500" y="66"/>
                  <a:pt x="3500" y="148"/>
                </a:cubicBezTo>
                <a:close/>
              </a:path>
            </a:pathLst>
          </a:custGeom>
          <a:solidFill>
            <a:srgbClr val="4e71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Freeform 176"/>
          <p:cNvSpPr/>
          <p:nvPr/>
        </p:nvSpPr>
        <p:spPr>
          <a:xfrm>
            <a:off x="5416560" y="6310440"/>
            <a:ext cx="6230880" cy="392040"/>
          </a:xfrm>
          <a:custGeom>
            <a:avLst/>
            <a:gdLst/>
            <a:ahLst/>
            <a:rect l="l" t="t" r="r" b="b"/>
            <a:pathLst>
              <a:path w="3420" h="215">
                <a:moveTo>
                  <a:pt x="3312" y="215"/>
                </a:moveTo>
                <a:cubicBezTo>
                  <a:pt x="108" y="215"/>
                  <a:pt x="108" y="215"/>
                  <a:pt x="108" y="215"/>
                </a:cubicBezTo>
                <a:cubicBezTo>
                  <a:pt x="49" y="215"/>
                  <a:pt x="0" y="167"/>
                  <a:pt x="0" y="108"/>
                </a:cubicBezTo>
                <a:cubicBezTo>
                  <a:pt x="0" y="49"/>
                  <a:pt x="49" y="0"/>
                  <a:pt x="108" y="0"/>
                </a:cubicBezTo>
                <a:cubicBezTo>
                  <a:pt x="3312" y="0"/>
                  <a:pt x="3312" y="0"/>
                  <a:pt x="3312" y="0"/>
                </a:cubicBezTo>
                <a:cubicBezTo>
                  <a:pt x="3372" y="0"/>
                  <a:pt x="3420" y="49"/>
                  <a:pt x="3420" y="108"/>
                </a:cubicBezTo>
                <a:cubicBezTo>
                  <a:pt x="3420" y="167"/>
                  <a:pt x="3372" y="215"/>
                  <a:pt x="3312" y="215"/>
                </a:cubicBez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8" name="组合 26"/>
          <p:cNvGrpSpPr/>
          <p:nvPr/>
        </p:nvGrpSpPr>
        <p:grpSpPr>
          <a:xfrm>
            <a:off x="5487840" y="6354720"/>
            <a:ext cx="297000" cy="297000"/>
            <a:chOff x="5487840" y="6354720"/>
            <a:chExt cx="297000" cy="297000"/>
          </a:xfrm>
        </p:grpSpPr>
        <p:sp>
          <p:nvSpPr>
            <p:cNvPr id="1779" name="Oval 177"/>
            <p:cNvSpPr/>
            <p:nvPr/>
          </p:nvSpPr>
          <p:spPr>
            <a:xfrm>
              <a:off x="54878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178"/>
            <p:cNvSpPr/>
            <p:nvPr/>
          </p:nvSpPr>
          <p:spPr>
            <a:xfrm>
              <a:off x="548784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Oval 179"/>
            <p:cNvSpPr/>
            <p:nvPr/>
          </p:nvSpPr>
          <p:spPr>
            <a:xfrm>
              <a:off x="552420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Oval 180"/>
            <p:cNvSpPr/>
            <p:nvPr/>
          </p:nvSpPr>
          <p:spPr>
            <a:xfrm>
              <a:off x="55670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Oval 181"/>
            <p:cNvSpPr/>
            <p:nvPr/>
          </p:nvSpPr>
          <p:spPr>
            <a:xfrm>
              <a:off x="56052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4" name="组合 25"/>
          <p:cNvGrpSpPr/>
          <p:nvPr/>
        </p:nvGrpSpPr>
        <p:grpSpPr>
          <a:xfrm>
            <a:off x="5848200" y="6354720"/>
            <a:ext cx="297000" cy="297000"/>
            <a:chOff x="5848200" y="6354720"/>
            <a:chExt cx="297000" cy="297000"/>
          </a:xfrm>
        </p:grpSpPr>
        <p:sp>
          <p:nvSpPr>
            <p:cNvPr id="1785" name="Oval 182"/>
            <p:cNvSpPr/>
            <p:nvPr/>
          </p:nvSpPr>
          <p:spPr>
            <a:xfrm>
              <a:off x="58482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183"/>
            <p:cNvSpPr/>
            <p:nvPr/>
          </p:nvSpPr>
          <p:spPr>
            <a:xfrm>
              <a:off x="584820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Oval 184"/>
            <p:cNvSpPr/>
            <p:nvPr/>
          </p:nvSpPr>
          <p:spPr>
            <a:xfrm>
              <a:off x="588456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Oval 185"/>
            <p:cNvSpPr/>
            <p:nvPr/>
          </p:nvSpPr>
          <p:spPr>
            <a:xfrm>
              <a:off x="5927400" y="6432480"/>
              <a:ext cx="1364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Oval 186"/>
            <p:cNvSpPr/>
            <p:nvPr/>
          </p:nvSpPr>
          <p:spPr>
            <a:xfrm>
              <a:off x="596556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0" name="组合 24"/>
          <p:cNvGrpSpPr/>
          <p:nvPr/>
        </p:nvGrpSpPr>
        <p:grpSpPr>
          <a:xfrm>
            <a:off x="6208560" y="6354720"/>
            <a:ext cx="297000" cy="297000"/>
            <a:chOff x="6208560" y="6354720"/>
            <a:chExt cx="297000" cy="297000"/>
          </a:xfrm>
        </p:grpSpPr>
        <p:sp>
          <p:nvSpPr>
            <p:cNvPr id="1791" name="Oval 187"/>
            <p:cNvSpPr/>
            <p:nvPr/>
          </p:nvSpPr>
          <p:spPr>
            <a:xfrm>
              <a:off x="620856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188"/>
            <p:cNvSpPr/>
            <p:nvPr/>
          </p:nvSpPr>
          <p:spPr>
            <a:xfrm>
              <a:off x="620856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Oval 189"/>
            <p:cNvSpPr/>
            <p:nvPr/>
          </p:nvSpPr>
          <p:spPr>
            <a:xfrm>
              <a:off x="624492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Oval 190"/>
            <p:cNvSpPr/>
            <p:nvPr/>
          </p:nvSpPr>
          <p:spPr>
            <a:xfrm>
              <a:off x="628632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Oval 191"/>
            <p:cNvSpPr/>
            <p:nvPr/>
          </p:nvSpPr>
          <p:spPr>
            <a:xfrm>
              <a:off x="632772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6" name="组合 23"/>
          <p:cNvGrpSpPr/>
          <p:nvPr/>
        </p:nvGrpSpPr>
        <p:grpSpPr>
          <a:xfrm>
            <a:off x="6568920" y="6354720"/>
            <a:ext cx="297000" cy="297000"/>
            <a:chOff x="6568920" y="6354720"/>
            <a:chExt cx="297000" cy="297000"/>
          </a:xfrm>
        </p:grpSpPr>
        <p:sp>
          <p:nvSpPr>
            <p:cNvPr id="1797" name="Oval 192"/>
            <p:cNvSpPr/>
            <p:nvPr/>
          </p:nvSpPr>
          <p:spPr>
            <a:xfrm>
              <a:off x="656892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193"/>
            <p:cNvSpPr/>
            <p:nvPr/>
          </p:nvSpPr>
          <p:spPr>
            <a:xfrm>
              <a:off x="656892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Oval 194"/>
            <p:cNvSpPr/>
            <p:nvPr/>
          </p:nvSpPr>
          <p:spPr>
            <a:xfrm>
              <a:off x="660528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Oval 195"/>
            <p:cNvSpPr/>
            <p:nvPr/>
          </p:nvSpPr>
          <p:spPr>
            <a:xfrm>
              <a:off x="664812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Oval 196"/>
            <p:cNvSpPr/>
            <p:nvPr/>
          </p:nvSpPr>
          <p:spPr>
            <a:xfrm>
              <a:off x="668808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2" name="组合 22"/>
          <p:cNvGrpSpPr/>
          <p:nvPr/>
        </p:nvGrpSpPr>
        <p:grpSpPr>
          <a:xfrm>
            <a:off x="6927840" y="6354720"/>
            <a:ext cx="299880" cy="297000"/>
            <a:chOff x="6927840" y="6354720"/>
            <a:chExt cx="299880" cy="297000"/>
          </a:xfrm>
        </p:grpSpPr>
        <p:sp>
          <p:nvSpPr>
            <p:cNvPr id="1803" name="Oval 197"/>
            <p:cNvSpPr/>
            <p:nvPr/>
          </p:nvSpPr>
          <p:spPr>
            <a:xfrm>
              <a:off x="6927840" y="6354720"/>
              <a:ext cx="29988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198"/>
            <p:cNvSpPr/>
            <p:nvPr/>
          </p:nvSpPr>
          <p:spPr>
            <a:xfrm>
              <a:off x="6930720" y="6354720"/>
              <a:ext cx="2937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4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8" y="83"/>
                    <a:pt x="78" y="83"/>
                    <a:pt x="78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4" y="0"/>
                  </a:cubicBezTo>
                  <a:cubicBezTo>
                    <a:pt x="87" y="83"/>
                    <a:pt x="87" y="83"/>
                    <a:pt x="87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5" y="87"/>
                    <a:pt x="85" y="87"/>
                    <a:pt x="85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5" y="79"/>
                    <a:pt x="85" y="79"/>
                    <a:pt x="85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Oval 199"/>
            <p:cNvSpPr/>
            <p:nvPr/>
          </p:nvSpPr>
          <p:spPr>
            <a:xfrm>
              <a:off x="6967440" y="6391080"/>
              <a:ext cx="2221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6" name="Oval 200"/>
            <p:cNvSpPr/>
            <p:nvPr/>
          </p:nvSpPr>
          <p:spPr>
            <a:xfrm>
              <a:off x="7008840" y="6432480"/>
              <a:ext cx="1378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7" name="Oval 201"/>
            <p:cNvSpPr/>
            <p:nvPr/>
          </p:nvSpPr>
          <p:spPr>
            <a:xfrm>
              <a:off x="7046640" y="6472080"/>
              <a:ext cx="619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8" name="组合 21"/>
          <p:cNvGrpSpPr/>
          <p:nvPr/>
        </p:nvGrpSpPr>
        <p:grpSpPr>
          <a:xfrm>
            <a:off x="7289640" y="6354720"/>
            <a:ext cx="297000" cy="297000"/>
            <a:chOff x="7289640" y="6354720"/>
            <a:chExt cx="297000" cy="297000"/>
          </a:xfrm>
        </p:grpSpPr>
        <p:sp>
          <p:nvSpPr>
            <p:cNvPr id="1809" name="Oval 202"/>
            <p:cNvSpPr/>
            <p:nvPr/>
          </p:nvSpPr>
          <p:spPr>
            <a:xfrm>
              <a:off x="72896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203"/>
            <p:cNvSpPr/>
            <p:nvPr/>
          </p:nvSpPr>
          <p:spPr>
            <a:xfrm>
              <a:off x="7289640" y="6354720"/>
              <a:ext cx="297000" cy="29700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7" y="142"/>
                  </a:moveTo>
                  <a:cubicBezTo>
                    <a:pt x="145" y="135"/>
                    <a:pt x="151" y="126"/>
                    <a:pt x="156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7" y="142"/>
                  </a:lnTo>
                  <a:close/>
                  <a:moveTo>
                    <a:pt x="117" y="8"/>
                  </a:moveTo>
                  <a:cubicBezTo>
                    <a:pt x="108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3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3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Oval 204"/>
            <p:cNvSpPr/>
            <p:nvPr/>
          </p:nvSpPr>
          <p:spPr>
            <a:xfrm>
              <a:off x="732780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Oval 206"/>
            <p:cNvSpPr/>
            <p:nvPr/>
          </p:nvSpPr>
          <p:spPr>
            <a:xfrm>
              <a:off x="73688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Oval 207"/>
            <p:cNvSpPr/>
            <p:nvPr/>
          </p:nvSpPr>
          <p:spPr>
            <a:xfrm>
              <a:off x="74070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4" name="组合 20"/>
          <p:cNvGrpSpPr/>
          <p:nvPr/>
        </p:nvGrpSpPr>
        <p:grpSpPr>
          <a:xfrm>
            <a:off x="7650000" y="6354720"/>
            <a:ext cx="297000" cy="297000"/>
            <a:chOff x="7650000" y="6354720"/>
            <a:chExt cx="297000" cy="297000"/>
          </a:xfrm>
        </p:grpSpPr>
        <p:sp>
          <p:nvSpPr>
            <p:cNvPr id="1815" name="Oval 208"/>
            <p:cNvSpPr/>
            <p:nvPr/>
          </p:nvSpPr>
          <p:spPr>
            <a:xfrm>
              <a:off x="76500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6" name="Freeform 209"/>
            <p:cNvSpPr/>
            <p:nvPr/>
          </p:nvSpPr>
          <p:spPr>
            <a:xfrm>
              <a:off x="765000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7" name="Oval 210"/>
            <p:cNvSpPr/>
            <p:nvPr/>
          </p:nvSpPr>
          <p:spPr>
            <a:xfrm>
              <a:off x="768636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Oval 211"/>
            <p:cNvSpPr/>
            <p:nvPr/>
          </p:nvSpPr>
          <p:spPr>
            <a:xfrm>
              <a:off x="772920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Oval 212"/>
            <p:cNvSpPr/>
            <p:nvPr/>
          </p:nvSpPr>
          <p:spPr>
            <a:xfrm>
              <a:off x="776736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0" name="组合 19"/>
          <p:cNvGrpSpPr/>
          <p:nvPr/>
        </p:nvGrpSpPr>
        <p:grpSpPr>
          <a:xfrm>
            <a:off x="8010360" y="6354720"/>
            <a:ext cx="297000" cy="297000"/>
            <a:chOff x="8010360" y="6354720"/>
            <a:chExt cx="297000" cy="297000"/>
          </a:xfrm>
        </p:grpSpPr>
        <p:sp>
          <p:nvSpPr>
            <p:cNvPr id="1821" name="Oval 213"/>
            <p:cNvSpPr/>
            <p:nvPr/>
          </p:nvSpPr>
          <p:spPr>
            <a:xfrm>
              <a:off x="801036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214"/>
            <p:cNvSpPr/>
            <p:nvPr/>
          </p:nvSpPr>
          <p:spPr>
            <a:xfrm>
              <a:off x="801036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Oval 215"/>
            <p:cNvSpPr/>
            <p:nvPr/>
          </p:nvSpPr>
          <p:spPr>
            <a:xfrm>
              <a:off x="804672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Oval 216"/>
            <p:cNvSpPr/>
            <p:nvPr/>
          </p:nvSpPr>
          <p:spPr>
            <a:xfrm>
              <a:off x="809136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Oval 217"/>
            <p:cNvSpPr/>
            <p:nvPr/>
          </p:nvSpPr>
          <p:spPr>
            <a:xfrm>
              <a:off x="812952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6" name="组合 18"/>
          <p:cNvGrpSpPr/>
          <p:nvPr/>
        </p:nvGrpSpPr>
        <p:grpSpPr>
          <a:xfrm>
            <a:off x="8370720" y="6354720"/>
            <a:ext cx="297000" cy="297000"/>
            <a:chOff x="8370720" y="6354720"/>
            <a:chExt cx="297000" cy="297000"/>
          </a:xfrm>
        </p:grpSpPr>
        <p:sp>
          <p:nvSpPr>
            <p:cNvPr id="1827" name="Oval 218"/>
            <p:cNvSpPr/>
            <p:nvPr/>
          </p:nvSpPr>
          <p:spPr>
            <a:xfrm>
              <a:off x="837072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8" name="Freeform 219"/>
            <p:cNvSpPr/>
            <p:nvPr/>
          </p:nvSpPr>
          <p:spPr>
            <a:xfrm>
              <a:off x="837072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9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9" name="Oval 220"/>
            <p:cNvSpPr/>
            <p:nvPr/>
          </p:nvSpPr>
          <p:spPr>
            <a:xfrm>
              <a:off x="840708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Oval 221"/>
            <p:cNvSpPr/>
            <p:nvPr/>
          </p:nvSpPr>
          <p:spPr>
            <a:xfrm>
              <a:off x="844992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Oval 222"/>
            <p:cNvSpPr/>
            <p:nvPr/>
          </p:nvSpPr>
          <p:spPr>
            <a:xfrm>
              <a:off x="848988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2" name="组合 17"/>
          <p:cNvGrpSpPr/>
          <p:nvPr/>
        </p:nvGrpSpPr>
        <p:grpSpPr>
          <a:xfrm>
            <a:off x="8732880" y="6354720"/>
            <a:ext cx="297000" cy="297000"/>
            <a:chOff x="8732880" y="6354720"/>
            <a:chExt cx="297000" cy="297000"/>
          </a:xfrm>
        </p:grpSpPr>
        <p:sp>
          <p:nvSpPr>
            <p:cNvPr id="1833" name="Oval 223"/>
            <p:cNvSpPr/>
            <p:nvPr/>
          </p:nvSpPr>
          <p:spPr>
            <a:xfrm>
              <a:off x="873288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224"/>
            <p:cNvSpPr/>
            <p:nvPr/>
          </p:nvSpPr>
          <p:spPr>
            <a:xfrm>
              <a:off x="873288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Oval 225"/>
            <p:cNvSpPr/>
            <p:nvPr/>
          </p:nvSpPr>
          <p:spPr>
            <a:xfrm>
              <a:off x="876924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Oval 226"/>
            <p:cNvSpPr/>
            <p:nvPr/>
          </p:nvSpPr>
          <p:spPr>
            <a:xfrm>
              <a:off x="88106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Oval 227"/>
            <p:cNvSpPr/>
            <p:nvPr/>
          </p:nvSpPr>
          <p:spPr>
            <a:xfrm>
              <a:off x="885024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8" name="组合 16"/>
          <p:cNvGrpSpPr/>
          <p:nvPr/>
        </p:nvGrpSpPr>
        <p:grpSpPr>
          <a:xfrm>
            <a:off x="9093240" y="6354720"/>
            <a:ext cx="297000" cy="297000"/>
            <a:chOff x="9093240" y="6354720"/>
            <a:chExt cx="297000" cy="297000"/>
          </a:xfrm>
        </p:grpSpPr>
        <p:sp>
          <p:nvSpPr>
            <p:cNvPr id="1839" name="Oval 228"/>
            <p:cNvSpPr/>
            <p:nvPr/>
          </p:nvSpPr>
          <p:spPr>
            <a:xfrm>
              <a:off x="90932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0" name="Freeform 229"/>
            <p:cNvSpPr/>
            <p:nvPr/>
          </p:nvSpPr>
          <p:spPr>
            <a:xfrm>
              <a:off x="909324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8" y="83"/>
                    <a:pt x="78" y="83"/>
                    <a:pt x="78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4" y="0"/>
                  </a:cubicBezTo>
                  <a:cubicBezTo>
                    <a:pt x="87" y="83"/>
                    <a:pt x="87" y="83"/>
                    <a:pt x="87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5" y="87"/>
                    <a:pt x="85" y="87"/>
                    <a:pt x="85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5" y="79"/>
                    <a:pt x="85" y="79"/>
                    <a:pt x="85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1" name="Oval 230"/>
            <p:cNvSpPr/>
            <p:nvPr/>
          </p:nvSpPr>
          <p:spPr>
            <a:xfrm>
              <a:off x="912960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Oval 231"/>
            <p:cNvSpPr/>
            <p:nvPr/>
          </p:nvSpPr>
          <p:spPr>
            <a:xfrm>
              <a:off x="917100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Oval 232"/>
            <p:cNvSpPr/>
            <p:nvPr/>
          </p:nvSpPr>
          <p:spPr>
            <a:xfrm>
              <a:off x="92106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4" name="组合 15"/>
          <p:cNvGrpSpPr/>
          <p:nvPr/>
        </p:nvGrpSpPr>
        <p:grpSpPr>
          <a:xfrm>
            <a:off x="9451800" y="6354720"/>
            <a:ext cx="297000" cy="297000"/>
            <a:chOff x="9451800" y="6354720"/>
            <a:chExt cx="297000" cy="297000"/>
          </a:xfrm>
        </p:grpSpPr>
        <p:sp>
          <p:nvSpPr>
            <p:cNvPr id="1845" name="Oval 233"/>
            <p:cNvSpPr/>
            <p:nvPr/>
          </p:nvSpPr>
          <p:spPr>
            <a:xfrm>
              <a:off x="94518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6" name="Freeform 234"/>
            <p:cNvSpPr/>
            <p:nvPr/>
          </p:nvSpPr>
          <p:spPr>
            <a:xfrm>
              <a:off x="9451800" y="6354720"/>
              <a:ext cx="297000" cy="29700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7" y="142"/>
                  </a:moveTo>
                  <a:cubicBezTo>
                    <a:pt x="145" y="135"/>
                    <a:pt x="151" y="126"/>
                    <a:pt x="156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7" y="142"/>
                  </a:lnTo>
                  <a:close/>
                  <a:moveTo>
                    <a:pt x="117" y="8"/>
                  </a:moveTo>
                  <a:cubicBezTo>
                    <a:pt x="108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3" y="71"/>
                  </a:moveTo>
                  <a:cubicBezTo>
                    <a:pt x="161" y="60"/>
                    <a:pt x="158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3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7" name="Oval 235"/>
            <p:cNvSpPr/>
            <p:nvPr/>
          </p:nvSpPr>
          <p:spPr>
            <a:xfrm>
              <a:off x="948996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8" name="Oval 236"/>
            <p:cNvSpPr/>
            <p:nvPr/>
          </p:nvSpPr>
          <p:spPr>
            <a:xfrm>
              <a:off x="953100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9" name="Oval 237"/>
            <p:cNvSpPr/>
            <p:nvPr/>
          </p:nvSpPr>
          <p:spPr>
            <a:xfrm>
              <a:off x="9570960" y="6472080"/>
              <a:ext cx="5868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0" name="组合 14"/>
          <p:cNvGrpSpPr/>
          <p:nvPr/>
        </p:nvGrpSpPr>
        <p:grpSpPr>
          <a:xfrm>
            <a:off x="9812160" y="6354720"/>
            <a:ext cx="297000" cy="297000"/>
            <a:chOff x="9812160" y="6354720"/>
            <a:chExt cx="297000" cy="297000"/>
          </a:xfrm>
        </p:grpSpPr>
        <p:sp>
          <p:nvSpPr>
            <p:cNvPr id="1851" name="Oval 238"/>
            <p:cNvSpPr/>
            <p:nvPr/>
          </p:nvSpPr>
          <p:spPr>
            <a:xfrm>
              <a:off x="981216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239"/>
            <p:cNvSpPr/>
            <p:nvPr/>
          </p:nvSpPr>
          <p:spPr>
            <a:xfrm>
              <a:off x="981216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7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9" y="12"/>
                  </a:moveTo>
                  <a:cubicBezTo>
                    <a:pt x="29" y="18"/>
                    <a:pt x="21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9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Oval 240"/>
            <p:cNvSpPr/>
            <p:nvPr/>
          </p:nvSpPr>
          <p:spPr>
            <a:xfrm>
              <a:off x="984852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Oval 241"/>
            <p:cNvSpPr/>
            <p:nvPr/>
          </p:nvSpPr>
          <p:spPr>
            <a:xfrm>
              <a:off x="989316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Oval 242"/>
            <p:cNvSpPr/>
            <p:nvPr/>
          </p:nvSpPr>
          <p:spPr>
            <a:xfrm>
              <a:off x="993132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6" name="组合 13"/>
          <p:cNvGrpSpPr/>
          <p:nvPr/>
        </p:nvGrpSpPr>
        <p:grpSpPr>
          <a:xfrm>
            <a:off x="10172880" y="6354720"/>
            <a:ext cx="296640" cy="297000"/>
            <a:chOff x="10172880" y="6354720"/>
            <a:chExt cx="296640" cy="297000"/>
          </a:xfrm>
        </p:grpSpPr>
        <p:sp>
          <p:nvSpPr>
            <p:cNvPr id="1857" name="Oval 243"/>
            <p:cNvSpPr/>
            <p:nvPr/>
          </p:nvSpPr>
          <p:spPr>
            <a:xfrm>
              <a:off x="10172880" y="6354720"/>
              <a:ext cx="29664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244"/>
            <p:cNvSpPr/>
            <p:nvPr/>
          </p:nvSpPr>
          <p:spPr>
            <a:xfrm>
              <a:off x="10172880" y="6354720"/>
              <a:ext cx="29520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3" y="161"/>
                  </a:moveTo>
                  <a:cubicBezTo>
                    <a:pt x="69" y="162"/>
                    <a:pt x="75" y="163"/>
                    <a:pt x="82" y="163"/>
                  </a:cubicBezTo>
                  <a:cubicBezTo>
                    <a:pt x="86" y="163"/>
                    <a:pt x="91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3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2" y="79"/>
                    <a:pt x="82" y="79"/>
                    <a:pt x="82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2" y="87"/>
                    <a:pt x="82" y="87"/>
                    <a:pt x="82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Oval 245"/>
            <p:cNvSpPr/>
            <p:nvPr/>
          </p:nvSpPr>
          <p:spPr>
            <a:xfrm>
              <a:off x="1020924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0" name="Oval 246"/>
            <p:cNvSpPr/>
            <p:nvPr/>
          </p:nvSpPr>
          <p:spPr>
            <a:xfrm>
              <a:off x="10253880" y="6432480"/>
              <a:ext cx="1378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1" name="Oval 247"/>
            <p:cNvSpPr/>
            <p:nvPr/>
          </p:nvSpPr>
          <p:spPr>
            <a:xfrm>
              <a:off x="1029168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2" name="组合 12"/>
          <p:cNvGrpSpPr/>
          <p:nvPr/>
        </p:nvGrpSpPr>
        <p:grpSpPr>
          <a:xfrm>
            <a:off x="10534680" y="6354720"/>
            <a:ext cx="297000" cy="297000"/>
            <a:chOff x="10534680" y="6354720"/>
            <a:chExt cx="297000" cy="297000"/>
          </a:xfrm>
        </p:grpSpPr>
        <p:sp>
          <p:nvSpPr>
            <p:cNvPr id="1863" name="Oval 248"/>
            <p:cNvSpPr/>
            <p:nvPr/>
          </p:nvSpPr>
          <p:spPr>
            <a:xfrm>
              <a:off x="1053468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249"/>
            <p:cNvSpPr/>
            <p:nvPr/>
          </p:nvSpPr>
          <p:spPr>
            <a:xfrm>
              <a:off x="1053468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9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3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1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2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9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Oval 250"/>
            <p:cNvSpPr/>
            <p:nvPr/>
          </p:nvSpPr>
          <p:spPr>
            <a:xfrm>
              <a:off x="1057104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Oval 251"/>
            <p:cNvSpPr/>
            <p:nvPr/>
          </p:nvSpPr>
          <p:spPr>
            <a:xfrm>
              <a:off x="1061244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Oval 252"/>
            <p:cNvSpPr/>
            <p:nvPr/>
          </p:nvSpPr>
          <p:spPr>
            <a:xfrm>
              <a:off x="1065204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8" name="组合 11"/>
          <p:cNvGrpSpPr/>
          <p:nvPr/>
        </p:nvGrpSpPr>
        <p:grpSpPr>
          <a:xfrm>
            <a:off x="10895040" y="6354720"/>
            <a:ext cx="297000" cy="297000"/>
            <a:chOff x="10895040" y="6354720"/>
            <a:chExt cx="297000" cy="297000"/>
          </a:xfrm>
        </p:grpSpPr>
        <p:sp>
          <p:nvSpPr>
            <p:cNvPr id="1869" name="Oval 253"/>
            <p:cNvSpPr/>
            <p:nvPr/>
          </p:nvSpPr>
          <p:spPr>
            <a:xfrm>
              <a:off x="1089504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0" name="Freeform 254"/>
            <p:cNvSpPr/>
            <p:nvPr/>
          </p:nvSpPr>
          <p:spPr>
            <a:xfrm>
              <a:off x="1089504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5" y="162"/>
                  </a:cubicBezTo>
                  <a:cubicBezTo>
                    <a:pt x="79" y="83"/>
                    <a:pt x="79" y="83"/>
                    <a:pt x="79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5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1" y="60"/>
                    <a:pt x="157" y="49"/>
                    <a:pt x="151" y="40"/>
                  </a:cubicBezTo>
                  <a:cubicBezTo>
                    <a:pt x="86" y="87"/>
                    <a:pt x="86" y="87"/>
                    <a:pt x="86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6" y="79"/>
                    <a:pt x="86" y="79"/>
                    <a:pt x="86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1" name="Oval 255"/>
            <p:cNvSpPr/>
            <p:nvPr/>
          </p:nvSpPr>
          <p:spPr>
            <a:xfrm>
              <a:off x="10931400" y="6391080"/>
              <a:ext cx="22392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Oval 256"/>
            <p:cNvSpPr/>
            <p:nvPr/>
          </p:nvSpPr>
          <p:spPr>
            <a:xfrm>
              <a:off x="10972800" y="6432480"/>
              <a:ext cx="13824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Oval 257"/>
            <p:cNvSpPr/>
            <p:nvPr/>
          </p:nvSpPr>
          <p:spPr>
            <a:xfrm>
              <a:off x="1101240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4" name="组合 7"/>
          <p:cNvGrpSpPr/>
          <p:nvPr/>
        </p:nvGrpSpPr>
        <p:grpSpPr>
          <a:xfrm>
            <a:off x="11255400" y="6354720"/>
            <a:ext cx="297000" cy="297000"/>
            <a:chOff x="11255400" y="6354720"/>
            <a:chExt cx="297000" cy="297000"/>
          </a:xfrm>
        </p:grpSpPr>
        <p:sp>
          <p:nvSpPr>
            <p:cNvPr id="1875" name="Oval 258"/>
            <p:cNvSpPr/>
            <p:nvPr/>
          </p:nvSpPr>
          <p:spPr>
            <a:xfrm>
              <a:off x="11255400" y="6354720"/>
              <a:ext cx="297000" cy="297000"/>
            </a:xfrm>
            <a:prstGeom prst="ellipse">
              <a:avLst/>
            </a:prstGeom>
            <a:solidFill>
              <a:srgbClr val="3a5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6" name="Freeform 259"/>
            <p:cNvSpPr/>
            <p:nvPr/>
          </p:nvSpPr>
          <p:spPr>
            <a:xfrm>
              <a:off x="11255400" y="6354720"/>
              <a:ext cx="295560" cy="29700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62" y="161"/>
                  </a:moveTo>
                  <a:cubicBezTo>
                    <a:pt x="68" y="162"/>
                    <a:pt x="75" y="163"/>
                    <a:pt x="81" y="163"/>
                  </a:cubicBezTo>
                  <a:cubicBezTo>
                    <a:pt x="86" y="163"/>
                    <a:pt x="90" y="163"/>
                    <a:pt x="94" y="162"/>
                  </a:cubicBezTo>
                  <a:cubicBezTo>
                    <a:pt x="78" y="83"/>
                    <a:pt x="78" y="83"/>
                    <a:pt x="78" y="83"/>
                  </a:cubicBezTo>
                  <a:lnTo>
                    <a:pt x="62" y="161"/>
                  </a:lnTo>
                  <a:close/>
                  <a:moveTo>
                    <a:pt x="0" y="82"/>
                  </a:moveTo>
                  <a:cubicBezTo>
                    <a:pt x="0" y="94"/>
                    <a:pt x="2" y="105"/>
                    <a:pt x="7" y="115"/>
                  </a:cubicBezTo>
                  <a:cubicBezTo>
                    <a:pt x="81" y="79"/>
                    <a:pt x="81" y="79"/>
                    <a:pt x="81" y="79"/>
                  </a:cubicBezTo>
                  <a:lnTo>
                    <a:pt x="0" y="82"/>
                  </a:lnTo>
                  <a:close/>
                  <a:moveTo>
                    <a:pt x="136" y="142"/>
                  </a:moveTo>
                  <a:cubicBezTo>
                    <a:pt x="144" y="135"/>
                    <a:pt x="150" y="126"/>
                    <a:pt x="155" y="116"/>
                  </a:cubicBezTo>
                  <a:cubicBezTo>
                    <a:pt x="81" y="87"/>
                    <a:pt x="81" y="87"/>
                    <a:pt x="81" y="87"/>
                  </a:cubicBezTo>
                  <a:lnTo>
                    <a:pt x="136" y="142"/>
                  </a:lnTo>
                  <a:close/>
                  <a:moveTo>
                    <a:pt x="117" y="8"/>
                  </a:moveTo>
                  <a:cubicBezTo>
                    <a:pt x="107" y="3"/>
                    <a:pt x="96" y="1"/>
                    <a:pt x="84" y="0"/>
                  </a:cubicBezTo>
                  <a:cubicBezTo>
                    <a:pt x="88" y="83"/>
                    <a:pt x="88" y="83"/>
                    <a:pt x="88" y="83"/>
                  </a:cubicBezTo>
                  <a:lnTo>
                    <a:pt x="117" y="8"/>
                  </a:lnTo>
                  <a:close/>
                  <a:moveTo>
                    <a:pt x="162" y="71"/>
                  </a:moveTo>
                  <a:cubicBezTo>
                    <a:pt x="160" y="60"/>
                    <a:pt x="157" y="49"/>
                    <a:pt x="151" y="40"/>
                  </a:cubicBezTo>
                  <a:cubicBezTo>
                    <a:pt x="85" y="87"/>
                    <a:pt x="85" y="87"/>
                    <a:pt x="85" y="87"/>
                  </a:cubicBezTo>
                  <a:lnTo>
                    <a:pt x="162" y="71"/>
                  </a:lnTo>
                  <a:close/>
                  <a:moveTo>
                    <a:pt x="38" y="12"/>
                  </a:moveTo>
                  <a:cubicBezTo>
                    <a:pt x="28" y="18"/>
                    <a:pt x="20" y="26"/>
                    <a:pt x="14" y="36"/>
                  </a:cubicBezTo>
                  <a:cubicBezTo>
                    <a:pt x="85" y="79"/>
                    <a:pt x="85" y="79"/>
                    <a:pt x="85" y="79"/>
                  </a:cubicBezTo>
                  <a:lnTo>
                    <a:pt x="38" y="12"/>
                  </a:lnTo>
                  <a:close/>
                </a:path>
              </a:pathLst>
            </a:custGeom>
            <a:solidFill>
              <a:srgbClr val="374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7" name="Oval 260"/>
            <p:cNvSpPr/>
            <p:nvPr/>
          </p:nvSpPr>
          <p:spPr>
            <a:xfrm>
              <a:off x="11291760" y="6391080"/>
              <a:ext cx="222480" cy="223920"/>
            </a:xfrm>
            <a:prstGeom prst="ellipse">
              <a:avLst/>
            </a:prstGeom>
            <a:solidFill>
              <a:srgbClr val="4e7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Oval 261"/>
            <p:cNvSpPr/>
            <p:nvPr/>
          </p:nvSpPr>
          <p:spPr>
            <a:xfrm>
              <a:off x="11333160" y="6432480"/>
              <a:ext cx="139680" cy="138240"/>
            </a:xfrm>
            <a:prstGeom prst="ellips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9" name="Oval 262"/>
            <p:cNvSpPr/>
            <p:nvPr/>
          </p:nvSpPr>
          <p:spPr>
            <a:xfrm>
              <a:off x="11374560" y="6472080"/>
              <a:ext cx="60120" cy="60120"/>
            </a:xfrm>
            <a:prstGeom prst="ellipse">
              <a:avLst/>
            </a:prstGeom>
            <a:solidFill>
              <a:srgbClr val="6f9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0" name="Freeform 263">
            <a:hlinkClick r:id="rId8"/>
          </p:cNvPr>
          <p:cNvSpPr/>
          <p:nvPr/>
        </p:nvSpPr>
        <p:spPr>
          <a:xfrm>
            <a:off x="8999640" y="795240"/>
            <a:ext cx="1226880" cy="1019160"/>
          </a:xfrm>
          <a:custGeom>
            <a:avLst/>
            <a:gdLst/>
            <a:ahLst/>
            <a:rect l="l" t="t" r="r" b="b"/>
            <a:pathLst>
              <a:path w="673" h="559">
                <a:moveTo>
                  <a:pt x="503" y="540"/>
                </a:moveTo>
                <a:cubicBezTo>
                  <a:pt x="503" y="540"/>
                  <a:pt x="577" y="468"/>
                  <a:pt x="608" y="402"/>
                </a:cubicBezTo>
                <a:cubicBezTo>
                  <a:pt x="639" y="337"/>
                  <a:pt x="609" y="257"/>
                  <a:pt x="609" y="257"/>
                </a:cubicBezTo>
                <a:cubicBezTo>
                  <a:pt x="673" y="192"/>
                  <a:pt x="673" y="192"/>
                  <a:pt x="673" y="192"/>
                </a:cubicBezTo>
                <a:cubicBezTo>
                  <a:pt x="589" y="93"/>
                  <a:pt x="589" y="93"/>
                  <a:pt x="589" y="93"/>
                </a:cubicBezTo>
                <a:cubicBezTo>
                  <a:pt x="589" y="93"/>
                  <a:pt x="576" y="100"/>
                  <a:pt x="503" y="152"/>
                </a:cubicBezTo>
                <a:cubicBezTo>
                  <a:pt x="431" y="205"/>
                  <a:pt x="303" y="102"/>
                  <a:pt x="271" y="70"/>
                </a:cubicBezTo>
                <a:cubicBezTo>
                  <a:pt x="240" y="38"/>
                  <a:pt x="166" y="0"/>
                  <a:pt x="145" y="21"/>
                </a:cubicBezTo>
                <a:cubicBezTo>
                  <a:pt x="124" y="43"/>
                  <a:pt x="150" y="58"/>
                  <a:pt x="150" y="58"/>
                </a:cubicBezTo>
                <a:cubicBezTo>
                  <a:pt x="177" y="62"/>
                  <a:pt x="264" y="112"/>
                  <a:pt x="254" y="140"/>
                </a:cubicBezTo>
                <a:cubicBezTo>
                  <a:pt x="248" y="155"/>
                  <a:pt x="236" y="149"/>
                  <a:pt x="236" y="149"/>
                </a:cubicBezTo>
                <a:cubicBezTo>
                  <a:pt x="178" y="97"/>
                  <a:pt x="96" y="93"/>
                  <a:pt x="67" y="96"/>
                </a:cubicBezTo>
                <a:cubicBezTo>
                  <a:pt x="39" y="98"/>
                  <a:pt x="29" y="141"/>
                  <a:pt x="96" y="142"/>
                </a:cubicBezTo>
                <a:cubicBezTo>
                  <a:pt x="162" y="143"/>
                  <a:pt x="223" y="195"/>
                  <a:pt x="219" y="211"/>
                </a:cubicBezTo>
                <a:cubicBezTo>
                  <a:pt x="215" y="228"/>
                  <a:pt x="188" y="217"/>
                  <a:pt x="188" y="217"/>
                </a:cubicBezTo>
                <a:cubicBezTo>
                  <a:pt x="91" y="181"/>
                  <a:pt x="8" y="199"/>
                  <a:pt x="4" y="228"/>
                </a:cubicBezTo>
                <a:cubicBezTo>
                  <a:pt x="0" y="269"/>
                  <a:pt x="42" y="259"/>
                  <a:pt x="42" y="259"/>
                </a:cubicBezTo>
                <a:cubicBezTo>
                  <a:pt x="97" y="238"/>
                  <a:pt x="246" y="289"/>
                  <a:pt x="258" y="295"/>
                </a:cubicBezTo>
                <a:cubicBezTo>
                  <a:pt x="270" y="301"/>
                  <a:pt x="263" y="316"/>
                  <a:pt x="263" y="316"/>
                </a:cubicBezTo>
                <a:cubicBezTo>
                  <a:pt x="164" y="287"/>
                  <a:pt x="111" y="343"/>
                  <a:pt x="111" y="343"/>
                </a:cubicBezTo>
                <a:cubicBezTo>
                  <a:pt x="111" y="343"/>
                  <a:pt x="74" y="374"/>
                  <a:pt x="100" y="393"/>
                </a:cubicBezTo>
                <a:cubicBezTo>
                  <a:pt x="127" y="412"/>
                  <a:pt x="147" y="388"/>
                  <a:pt x="147" y="388"/>
                </a:cubicBezTo>
                <a:cubicBezTo>
                  <a:pt x="170" y="340"/>
                  <a:pt x="295" y="379"/>
                  <a:pt x="295" y="379"/>
                </a:cubicBezTo>
                <a:cubicBezTo>
                  <a:pt x="295" y="379"/>
                  <a:pt x="377" y="402"/>
                  <a:pt x="421" y="397"/>
                </a:cubicBezTo>
                <a:cubicBezTo>
                  <a:pt x="488" y="390"/>
                  <a:pt x="528" y="357"/>
                  <a:pt x="543" y="383"/>
                </a:cubicBezTo>
                <a:cubicBezTo>
                  <a:pt x="566" y="427"/>
                  <a:pt x="456" y="500"/>
                  <a:pt x="456" y="500"/>
                </a:cubicBezTo>
                <a:cubicBezTo>
                  <a:pt x="456" y="500"/>
                  <a:pt x="419" y="524"/>
                  <a:pt x="447" y="543"/>
                </a:cubicBezTo>
                <a:cubicBezTo>
                  <a:pt x="470" y="559"/>
                  <a:pt x="481" y="555"/>
                  <a:pt x="503" y="540"/>
                </a:cubicBezTo>
                <a:close/>
              </a:path>
            </a:pathLst>
          </a:custGeom>
          <a:solidFill>
            <a:srgbClr val="efc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Freeform 264"/>
          <p:cNvSpPr/>
          <p:nvPr/>
        </p:nvSpPr>
        <p:spPr>
          <a:xfrm>
            <a:off x="10024920" y="965160"/>
            <a:ext cx="201600" cy="228600"/>
          </a:xfrm>
          <a:custGeom>
            <a:avLst/>
            <a:gdLst/>
            <a:ahLst/>
            <a:rect l="l" t="t" r="r" b="b"/>
            <a:pathLst>
              <a:path w="110" h="125">
                <a:moveTo>
                  <a:pt x="84" y="125"/>
                </a:moveTo>
                <a:cubicBezTo>
                  <a:pt x="110" y="99"/>
                  <a:pt x="110" y="99"/>
                  <a:pt x="110" y="99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1" y="2"/>
                  <a:pt x="0" y="17"/>
                </a:cubicBezTo>
                <a:cubicBezTo>
                  <a:pt x="10" y="23"/>
                  <a:pt x="85" y="76"/>
                  <a:pt x="84" y="125"/>
                </a:cubicBezTo>
                <a:close/>
              </a:path>
            </a:pathLst>
          </a:custGeom>
          <a:solidFill>
            <a:srgbClr val="e5b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Freeform 265"/>
          <p:cNvSpPr/>
          <p:nvPr/>
        </p:nvSpPr>
        <p:spPr>
          <a:xfrm>
            <a:off x="10042560" y="909720"/>
            <a:ext cx="237960" cy="274680"/>
          </a:xfrm>
          <a:custGeom>
            <a:avLst/>
            <a:gdLst/>
            <a:ahLst/>
            <a:rect l="l" t="t" r="r" b="b"/>
            <a:pathLst>
              <a:path w="150" h="173">
                <a:moveTo>
                  <a:pt x="28" y="0"/>
                </a:moveTo>
                <a:lnTo>
                  <a:pt x="0" y="25"/>
                </a:lnTo>
                <a:lnTo>
                  <a:pt x="119" y="173"/>
                </a:lnTo>
                <a:lnTo>
                  <a:pt x="150" y="161"/>
                </a:lnTo>
                <a:lnTo>
                  <a:pt x="28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Freeform 266"/>
          <p:cNvSpPr/>
          <p:nvPr/>
        </p:nvSpPr>
        <p:spPr>
          <a:xfrm>
            <a:off x="10078920" y="-1440"/>
            <a:ext cx="2114640" cy="1177920"/>
          </a:xfrm>
          <a:custGeom>
            <a:avLst/>
            <a:gdLst/>
            <a:ahLst/>
            <a:rect l="l" t="t" r="r" b="b"/>
            <a:pathLst>
              <a:path w="1332" h="742">
                <a:moveTo>
                  <a:pt x="1320" y="0"/>
                </a:moveTo>
                <a:lnTo>
                  <a:pt x="764" y="26"/>
                </a:lnTo>
                <a:lnTo>
                  <a:pt x="0" y="568"/>
                </a:lnTo>
                <a:lnTo>
                  <a:pt x="131" y="742"/>
                </a:lnTo>
                <a:lnTo>
                  <a:pt x="1332" y="392"/>
                </a:lnTo>
                <a:lnTo>
                  <a:pt x="1320" y="0"/>
                </a:lnTo>
                <a:close/>
              </a:path>
            </a:pathLst>
          </a:custGeom>
          <a:solidFill>
            <a:srgbClr val="e6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Freeform 267"/>
          <p:cNvSpPr/>
          <p:nvPr/>
        </p:nvSpPr>
        <p:spPr>
          <a:xfrm>
            <a:off x="9267840" y="1371600"/>
            <a:ext cx="781200" cy="208080"/>
          </a:xfrm>
          <a:custGeom>
            <a:avLst/>
            <a:gdLst/>
            <a:ahLst/>
            <a:rect l="l" t="t" r="r" b="b"/>
            <a:pathLst>
              <a:path w="429" h="114">
                <a:moveTo>
                  <a:pt x="148" y="63"/>
                </a:moveTo>
                <a:cubicBezTo>
                  <a:pt x="148" y="63"/>
                  <a:pt x="230" y="86"/>
                  <a:pt x="274" y="81"/>
                </a:cubicBezTo>
                <a:cubicBezTo>
                  <a:pt x="341" y="74"/>
                  <a:pt x="381" y="41"/>
                  <a:pt x="396" y="67"/>
                </a:cubicBezTo>
                <a:cubicBezTo>
                  <a:pt x="403" y="81"/>
                  <a:pt x="397" y="98"/>
                  <a:pt x="386" y="114"/>
                </a:cubicBezTo>
                <a:cubicBezTo>
                  <a:pt x="387" y="114"/>
                  <a:pt x="387" y="114"/>
                  <a:pt x="387" y="114"/>
                </a:cubicBezTo>
                <a:cubicBezTo>
                  <a:pt x="387" y="114"/>
                  <a:pt x="429" y="54"/>
                  <a:pt x="393" y="27"/>
                </a:cubicBezTo>
                <a:cubicBezTo>
                  <a:pt x="357" y="0"/>
                  <a:pt x="277" y="95"/>
                  <a:pt x="110" y="43"/>
                </a:cubicBezTo>
                <a:cubicBezTo>
                  <a:pt x="110" y="43"/>
                  <a:pt x="25" y="17"/>
                  <a:pt x="0" y="72"/>
                </a:cubicBezTo>
                <a:cubicBezTo>
                  <a:pt x="23" y="24"/>
                  <a:pt x="148" y="63"/>
                  <a:pt x="148" y="63"/>
                </a:cubicBezTo>
                <a:close/>
              </a:path>
            </a:pathLst>
          </a:custGeom>
          <a:solidFill>
            <a:srgbClr val="e5b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5" name="组合 257"/>
          <p:cNvGrpSpPr/>
          <p:nvPr/>
        </p:nvGrpSpPr>
        <p:grpSpPr>
          <a:xfrm>
            <a:off x="9218520" y="1708200"/>
            <a:ext cx="370080" cy="369720"/>
            <a:chOff x="9218520" y="1708200"/>
            <a:chExt cx="370080" cy="369720"/>
          </a:xfrm>
        </p:grpSpPr>
        <p:sp>
          <p:nvSpPr>
            <p:cNvPr id="1886" name="Oval 268"/>
            <p:cNvSpPr/>
            <p:nvPr/>
          </p:nvSpPr>
          <p:spPr>
            <a:xfrm>
              <a:off x="9218520" y="1708200"/>
              <a:ext cx="370080" cy="369720"/>
            </a:xfrm>
            <a:prstGeom prst="ellipse">
              <a:avLst/>
            </a:pr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7" name="Freeform 269"/>
            <p:cNvSpPr/>
            <p:nvPr/>
          </p:nvSpPr>
          <p:spPr>
            <a:xfrm>
              <a:off x="9235800" y="1793880"/>
              <a:ext cx="68040" cy="5076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1" y="28"/>
                  </a:moveTo>
                  <a:cubicBezTo>
                    <a:pt x="37" y="17"/>
                    <a:pt x="37" y="17"/>
                    <a:pt x="37" y="17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3"/>
                    <a:pt x="2" y="7"/>
                    <a:pt x="0" y="11"/>
                  </a:cubicBezTo>
                  <a:lnTo>
                    <a:pt x="31" y="2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270"/>
            <p:cNvSpPr/>
            <p:nvPr/>
          </p:nvSpPr>
          <p:spPr>
            <a:xfrm>
              <a:off x="9221400" y="1911240"/>
              <a:ext cx="66600" cy="3960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36" y="12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4"/>
                    <a:pt x="1" y="18"/>
                    <a:pt x="3" y="22"/>
                  </a:cubicBezTo>
                  <a:lnTo>
                    <a:pt x="36" y="1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271"/>
            <p:cNvSpPr/>
            <p:nvPr/>
          </p:nvSpPr>
          <p:spPr>
            <a:xfrm>
              <a:off x="9218520" y="1859040"/>
              <a:ext cx="65160" cy="2988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35" y="17"/>
                  </a:moveTo>
                  <a:cubicBezTo>
                    <a:pt x="36" y="4"/>
                    <a:pt x="36" y="4"/>
                    <a:pt x="36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4"/>
                    <a:pt x="0" y="8"/>
                    <a:pt x="0" y="13"/>
                  </a:cubicBezTo>
                  <a:lnTo>
                    <a:pt x="35" y="1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272"/>
            <p:cNvSpPr/>
            <p:nvPr/>
          </p:nvSpPr>
          <p:spPr>
            <a:xfrm>
              <a:off x="9246960" y="1952640"/>
              <a:ext cx="61920" cy="5868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34" y="1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2" y="26"/>
                    <a:pt x="4" y="29"/>
                    <a:pt x="7" y="32"/>
                  </a:cubicBezTo>
                  <a:lnTo>
                    <a:pt x="34" y="1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273"/>
            <p:cNvSpPr/>
            <p:nvPr/>
          </p:nvSpPr>
          <p:spPr>
            <a:xfrm>
              <a:off x="9362880" y="2005200"/>
              <a:ext cx="27000" cy="712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37"/>
                  </a:moveTo>
                  <a:cubicBezTo>
                    <a:pt x="4" y="38"/>
                    <a:pt x="8" y="39"/>
                    <a:pt x="12" y="3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274"/>
            <p:cNvSpPr/>
            <p:nvPr/>
          </p:nvSpPr>
          <p:spPr>
            <a:xfrm>
              <a:off x="9278640" y="1741320"/>
              <a:ext cx="60120" cy="698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3" y="38"/>
                  </a:moveTo>
                  <a:cubicBezTo>
                    <a:pt x="33" y="30"/>
                    <a:pt x="33" y="30"/>
                    <a:pt x="33" y="3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3"/>
                    <a:pt x="3" y="5"/>
                    <a:pt x="0" y="8"/>
                  </a:cubicBezTo>
                  <a:lnTo>
                    <a:pt x="23" y="3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275"/>
            <p:cNvSpPr/>
            <p:nvPr/>
          </p:nvSpPr>
          <p:spPr>
            <a:xfrm>
              <a:off x="9296280" y="1986120"/>
              <a:ext cx="48960" cy="7128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10" y="39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3" y="35"/>
                    <a:pt x="6" y="37"/>
                    <a:pt x="10" y="3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276"/>
            <p:cNvSpPr/>
            <p:nvPr/>
          </p:nvSpPr>
          <p:spPr>
            <a:xfrm>
              <a:off x="9331200" y="1716120"/>
              <a:ext cx="44280" cy="7452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2" y="4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4" y="2"/>
                    <a:pt x="0" y="4"/>
                  </a:cubicBezTo>
                  <a:lnTo>
                    <a:pt x="12" y="4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277"/>
            <p:cNvSpPr/>
            <p:nvPr/>
          </p:nvSpPr>
          <p:spPr>
            <a:xfrm>
              <a:off x="9502920" y="1893960"/>
              <a:ext cx="85680" cy="2700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10"/>
                    <a:pt x="47" y="6"/>
                    <a:pt x="47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278"/>
            <p:cNvSpPr/>
            <p:nvPr/>
          </p:nvSpPr>
          <p:spPr>
            <a:xfrm>
              <a:off x="9453600" y="1974960"/>
              <a:ext cx="69840" cy="727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9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32" y="38"/>
                    <a:pt x="35" y="35"/>
                    <a:pt x="38" y="32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279"/>
            <p:cNvSpPr/>
            <p:nvPr/>
          </p:nvSpPr>
          <p:spPr>
            <a:xfrm>
              <a:off x="9388440" y="1708200"/>
              <a:ext cx="21960" cy="777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cubicBezTo>
                    <a:pt x="11" y="0"/>
                    <a:pt x="10" y="0"/>
                    <a:pt x="8" y="0"/>
                  </a:cubicBezTo>
                  <a:cubicBezTo>
                    <a:pt x="5" y="0"/>
                    <a:pt x="3" y="0"/>
                    <a:pt x="0" y="0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2" y="42"/>
                    <a:pt x="12" y="42"/>
                    <a:pt x="12" y="42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8" name="Freeform 280"/>
            <p:cNvSpPr/>
            <p:nvPr/>
          </p:nvSpPr>
          <p:spPr>
            <a:xfrm>
              <a:off x="9412200" y="1998720"/>
              <a:ext cx="44280" cy="7596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12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3" y="42"/>
                    <a:pt x="13" y="42"/>
                    <a:pt x="13" y="42"/>
                  </a:cubicBezTo>
                  <a:cubicBezTo>
                    <a:pt x="17" y="42"/>
                    <a:pt x="21" y="41"/>
                    <a:pt x="25" y="39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9" name="Freeform 281"/>
            <p:cNvSpPr/>
            <p:nvPr/>
          </p:nvSpPr>
          <p:spPr>
            <a:xfrm>
              <a:off x="9487080" y="1938240"/>
              <a:ext cx="84240" cy="5400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5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2" y="27"/>
                    <a:pt x="44" y="23"/>
                    <a:pt x="46" y="19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0" name="Freeform 282"/>
            <p:cNvSpPr/>
            <p:nvPr/>
          </p:nvSpPr>
          <p:spPr>
            <a:xfrm>
              <a:off x="9431280" y="1717560"/>
              <a:ext cx="50760" cy="8244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0" y="40"/>
                  </a:moveTo>
                  <a:cubicBezTo>
                    <a:pt x="11" y="45"/>
                    <a:pt x="11" y="45"/>
                    <a:pt x="11" y="45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5" y="3"/>
                    <a:pt x="21" y="2"/>
                    <a:pt x="17" y="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1" name="Freeform 283"/>
            <p:cNvSpPr/>
            <p:nvPr/>
          </p:nvSpPr>
          <p:spPr>
            <a:xfrm>
              <a:off x="9468000" y="1757160"/>
              <a:ext cx="75960" cy="72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9" y="40"/>
                  </a:moveTo>
                  <a:cubicBezTo>
                    <a:pt x="42" y="9"/>
                    <a:pt x="42" y="9"/>
                    <a:pt x="42" y="9"/>
                  </a:cubicBezTo>
                  <a:cubicBezTo>
                    <a:pt x="39" y="6"/>
                    <a:pt x="36" y="3"/>
                    <a:pt x="33" y="0"/>
                  </a:cubicBezTo>
                  <a:cubicBezTo>
                    <a:pt x="0" y="31"/>
                    <a:pt x="0" y="31"/>
                    <a:pt x="0" y="31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2" name="Freeform 284"/>
            <p:cNvSpPr/>
            <p:nvPr/>
          </p:nvSpPr>
          <p:spPr>
            <a:xfrm>
              <a:off x="9493560" y="1822320"/>
              <a:ext cx="87120" cy="5076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48" y="11"/>
                  </a:moveTo>
                  <a:cubicBezTo>
                    <a:pt x="47" y="7"/>
                    <a:pt x="45" y="3"/>
                    <a:pt x="44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5" y="28"/>
                    <a:pt x="5" y="28"/>
                    <a:pt x="5" y="28"/>
                  </a:cubicBezTo>
                  <a:lnTo>
                    <a:pt x="48" y="1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Oval 285"/>
            <p:cNvSpPr/>
            <p:nvPr/>
          </p:nvSpPr>
          <p:spPr>
            <a:xfrm>
              <a:off x="9262800" y="1752480"/>
              <a:ext cx="279720" cy="282600"/>
            </a:xfrm>
            <a:prstGeom prst="ellipse">
              <a:avLst/>
            </a:pr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4" name="Freeform 286"/>
            <p:cNvSpPr/>
            <p:nvPr/>
          </p:nvSpPr>
          <p:spPr>
            <a:xfrm>
              <a:off x="9340920" y="1779480"/>
              <a:ext cx="120600" cy="24300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66" y="91"/>
                  </a:moveTo>
                  <a:cubicBezTo>
                    <a:pt x="66" y="98"/>
                    <a:pt x="64" y="105"/>
                    <a:pt x="60" y="110"/>
                  </a:cubicBezTo>
                  <a:cubicBezTo>
                    <a:pt x="55" y="115"/>
                    <a:pt x="49" y="118"/>
                    <a:pt x="42" y="119"/>
                  </a:cubicBezTo>
                  <a:cubicBezTo>
                    <a:pt x="42" y="133"/>
                    <a:pt x="42" y="133"/>
                    <a:pt x="42" y="133"/>
                  </a:cubicBezTo>
                  <a:cubicBezTo>
                    <a:pt x="38" y="133"/>
                    <a:pt x="38" y="133"/>
                    <a:pt x="38" y="133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8" y="119"/>
                    <a:pt x="37" y="119"/>
                    <a:pt x="35" y="119"/>
                  </a:cubicBezTo>
                  <a:cubicBezTo>
                    <a:pt x="33" y="119"/>
                    <a:pt x="32" y="119"/>
                    <a:pt x="31" y="119"/>
                  </a:cubicBezTo>
                  <a:cubicBezTo>
                    <a:pt x="30" y="119"/>
                    <a:pt x="29" y="119"/>
                    <a:pt x="28" y="119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18"/>
                    <a:pt x="24" y="118"/>
                    <a:pt x="24" y="118"/>
                  </a:cubicBezTo>
                  <a:cubicBezTo>
                    <a:pt x="18" y="115"/>
                    <a:pt x="14" y="111"/>
                    <a:pt x="12" y="107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2" y="86"/>
                    <a:pt x="12" y="86"/>
                    <a:pt x="12" y="86"/>
                  </a:cubicBezTo>
                  <a:cubicBezTo>
                    <a:pt x="12" y="90"/>
                    <a:pt x="13" y="95"/>
                    <a:pt x="15" y="98"/>
                  </a:cubicBezTo>
                  <a:cubicBezTo>
                    <a:pt x="17" y="103"/>
                    <a:pt x="20" y="106"/>
                    <a:pt x="24" y="107"/>
                  </a:cubicBezTo>
                  <a:cubicBezTo>
                    <a:pt x="24" y="69"/>
                    <a:pt x="24" y="69"/>
                    <a:pt x="24" y="69"/>
                  </a:cubicBezTo>
                  <a:cubicBezTo>
                    <a:pt x="8" y="62"/>
                    <a:pt x="0" y="53"/>
                    <a:pt x="0" y="41"/>
                  </a:cubicBezTo>
                  <a:cubicBezTo>
                    <a:pt x="0" y="34"/>
                    <a:pt x="2" y="28"/>
                    <a:pt x="6" y="23"/>
                  </a:cubicBezTo>
                  <a:cubicBezTo>
                    <a:pt x="11" y="18"/>
                    <a:pt x="16" y="15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3"/>
                    <a:pt x="30" y="13"/>
                    <a:pt x="32" y="13"/>
                  </a:cubicBezTo>
                  <a:cubicBezTo>
                    <a:pt x="34" y="13"/>
                    <a:pt x="36" y="14"/>
                    <a:pt x="38" y="14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6" y="17"/>
                    <a:pt x="50" y="20"/>
                    <a:pt x="52" y="25"/>
                  </a:cubicBezTo>
                  <a:cubicBezTo>
                    <a:pt x="52" y="15"/>
                    <a:pt x="52" y="15"/>
                    <a:pt x="52" y="15"/>
                  </a:cubicBezTo>
                  <a:cubicBezTo>
                    <a:pt x="64" y="15"/>
                    <a:pt x="64" y="15"/>
                    <a:pt x="64" y="15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2" y="36"/>
                    <a:pt x="49" y="30"/>
                    <a:pt x="42" y="26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58" y="67"/>
                    <a:pt x="66" y="77"/>
                    <a:pt x="66" y="91"/>
                  </a:cubicBezTo>
                  <a:close/>
                  <a:moveTo>
                    <a:pt x="24" y="24"/>
                  </a:moveTo>
                  <a:cubicBezTo>
                    <a:pt x="17" y="27"/>
                    <a:pt x="14" y="32"/>
                    <a:pt x="14" y="40"/>
                  </a:cubicBezTo>
                  <a:cubicBezTo>
                    <a:pt x="14" y="46"/>
                    <a:pt x="17" y="51"/>
                    <a:pt x="24" y="54"/>
                  </a:cubicBezTo>
                  <a:lnTo>
                    <a:pt x="24" y="24"/>
                  </a:lnTo>
                  <a:close/>
                  <a:moveTo>
                    <a:pt x="38" y="75"/>
                  </a:moveTo>
                  <a:cubicBezTo>
                    <a:pt x="36" y="73"/>
                    <a:pt x="32" y="72"/>
                    <a:pt x="28" y="71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31" y="110"/>
                    <a:pt x="33" y="110"/>
                    <a:pt x="34" y="110"/>
                  </a:cubicBezTo>
                  <a:cubicBezTo>
                    <a:pt x="36" y="110"/>
                    <a:pt x="37" y="110"/>
                    <a:pt x="38" y="109"/>
                  </a:cubicBezTo>
                  <a:lnTo>
                    <a:pt x="38" y="75"/>
                  </a:lnTo>
                  <a:close/>
                  <a:moveTo>
                    <a:pt x="38" y="24"/>
                  </a:moveTo>
                  <a:cubicBezTo>
                    <a:pt x="36" y="23"/>
                    <a:pt x="33" y="23"/>
                    <a:pt x="30" y="23"/>
                  </a:cubicBezTo>
                  <a:cubicBezTo>
                    <a:pt x="29" y="23"/>
                    <a:pt x="29" y="23"/>
                    <a:pt x="28" y="23"/>
                  </a:cubicBezTo>
                  <a:cubicBezTo>
                    <a:pt x="28" y="57"/>
                    <a:pt x="28" y="57"/>
                    <a:pt x="28" y="57"/>
                  </a:cubicBezTo>
                  <a:cubicBezTo>
                    <a:pt x="29" y="57"/>
                    <a:pt x="31" y="57"/>
                    <a:pt x="32" y="58"/>
                  </a:cubicBezTo>
                  <a:cubicBezTo>
                    <a:pt x="34" y="58"/>
                    <a:pt x="35" y="59"/>
                    <a:pt x="37" y="60"/>
                  </a:cubicBezTo>
                  <a:cubicBezTo>
                    <a:pt x="37" y="60"/>
                    <a:pt x="37" y="60"/>
                    <a:pt x="38" y="60"/>
                  </a:cubicBezTo>
                  <a:cubicBezTo>
                    <a:pt x="38" y="60"/>
                    <a:pt x="38" y="60"/>
                    <a:pt x="38" y="60"/>
                  </a:cubicBezTo>
                  <a:lnTo>
                    <a:pt x="38" y="24"/>
                  </a:lnTo>
                  <a:close/>
                  <a:moveTo>
                    <a:pt x="52" y="93"/>
                  </a:moveTo>
                  <a:cubicBezTo>
                    <a:pt x="52" y="86"/>
                    <a:pt x="49" y="80"/>
                    <a:pt x="42" y="77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9" y="105"/>
                    <a:pt x="52" y="100"/>
                    <a:pt x="52" y="93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5" name="Freeform 287"/>
            <p:cNvSpPr/>
            <p:nvPr/>
          </p:nvSpPr>
          <p:spPr>
            <a:xfrm>
              <a:off x="9340920" y="1774800"/>
              <a:ext cx="120600" cy="24120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66" y="91"/>
                  </a:moveTo>
                  <a:cubicBezTo>
                    <a:pt x="66" y="98"/>
                    <a:pt x="64" y="104"/>
                    <a:pt x="60" y="109"/>
                  </a:cubicBezTo>
                  <a:cubicBezTo>
                    <a:pt x="55" y="115"/>
                    <a:pt x="49" y="118"/>
                    <a:pt x="42" y="119"/>
                  </a:cubicBezTo>
                  <a:cubicBezTo>
                    <a:pt x="42" y="133"/>
                    <a:pt x="42" y="133"/>
                    <a:pt x="42" y="133"/>
                  </a:cubicBezTo>
                  <a:cubicBezTo>
                    <a:pt x="38" y="133"/>
                    <a:pt x="38" y="133"/>
                    <a:pt x="38" y="133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8" y="119"/>
                    <a:pt x="37" y="119"/>
                    <a:pt x="35" y="119"/>
                  </a:cubicBezTo>
                  <a:cubicBezTo>
                    <a:pt x="33" y="119"/>
                    <a:pt x="32" y="119"/>
                    <a:pt x="31" y="119"/>
                  </a:cubicBezTo>
                  <a:cubicBezTo>
                    <a:pt x="30" y="119"/>
                    <a:pt x="29" y="119"/>
                    <a:pt x="28" y="119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24" y="133"/>
                    <a:pt x="24" y="133"/>
                    <a:pt x="24" y="133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18" y="115"/>
                    <a:pt x="14" y="111"/>
                    <a:pt x="12" y="106"/>
                  </a:cubicBezTo>
                  <a:cubicBezTo>
                    <a:pt x="12" y="118"/>
                    <a:pt x="12" y="118"/>
                    <a:pt x="12" y="118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12" y="86"/>
                    <a:pt x="12" y="86"/>
                    <a:pt x="12" y="86"/>
                  </a:cubicBezTo>
                  <a:cubicBezTo>
                    <a:pt x="12" y="90"/>
                    <a:pt x="13" y="94"/>
                    <a:pt x="15" y="98"/>
                  </a:cubicBezTo>
                  <a:cubicBezTo>
                    <a:pt x="17" y="103"/>
                    <a:pt x="20" y="106"/>
                    <a:pt x="24" y="107"/>
                  </a:cubicBezTo>
                  <a:cubicBezTo>
                    <a:pt x="24" y="69"/>
                    <a:pt x="24" y="69"/>
                    <a:pt x="24" y="69"/>
                  </a:cubicBezTo>
                  <a:cubicBezTo>
                    <a:pt x="8" y="62"/>
                    <a:pt x="0" y="53"/>
                    <a:pt x="0" y="41"/>
                  </a:cubicBezTo>
                  <a:cubicBezTo>
                    <a:pt x="0" y="34"/>
                    <a:pt x="2" y="28"/>
                    <a:pt x="6" y="23"/>
                  </a:cubicBezTo>
                  <a:cubicBezTo>
                    <a:pt x="11" y="18"/>
                    <a:pt x="16" y="14"/>
                    <a:pt x="24" y="13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3"/>
                    <a:pt x="30" y="13"/>
                    <a:pt x="32" y="13"/>
                  </a:cubicBezTo>
                  <a:cubicBezTo>
                    <a:pt x="34" y="13"/>
                    <a:pt x="36" y="14"/>
                    <a:pt x="38" y="14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6" y="17"/>
                    <a:pt x="50" y="20"/>
                    <a:pt x="52" y="25"/>
                  </a:cubicBezTo>
                  <a:cubicBezTo>
                    <a:pt x="52" y="14"/>
                    <a:pt x="52" y="14"/>
                    <a:pt x="52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2" y="36"/>
                    <a:pt x="49" y="29"/>
                    <a:pt x="42" y="26"/>
                  </a:cubicBezTo>
                  <a:cubicBezTo>
                    <a:pt x="42" y="62"/>
                    <a:pt x="42" y="62"/>
                    <a:pt x="42" y="62"/>
                  </a:cubicBezTo>
                  <a:cubicBezTo>
                    <a:pt x="58" y="67"/>
                    <a:pt x="66" y="76"/>
                    <a:pt x="66" y="91"/>
                  </a:cubicBezTo>
                  <a:close/>
                  <a:moveTo>
                    <a:pt x="24" y="24"/>
                  </a:moveTo>
                  <a:cubicBezTo>
                    <a:pt x="17" y="27"/>
                    <a:pt x="14" y="32"/>
                    <a:pt x="14" y="39"/>
                  </a:cubicBezTo>
                  <a:cubicBezTo>
                    <a:pt x="14" y="46"/>
                    <a:pt x="17" y="51"/>
                    <a:pt x="24" y="54"/>
                  </a:cubicBezTo>
                  <a:lnTo>
                    <a:pt x="24" y="24"/>
                  </a:lnTo>
                  <a:close/>
                  <a:moveTo>
                    <a:pt x="38" y="75"/>
                  </a:moveTo>
                  <a:cubicBezTo>
                    <a:pt x="36" y="73"/>
                    <a:pt x="32" y="72"/>
                    <a:pt x="28" y="71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31" y="109"/>
                    <a:pt x="33" y="110"/>
                    <a:pt x="34" y="110"/>
                  </a:cubicBezTo>
                  <a:cubicBezTo>
                    <a:pt x="36" y="110"/>
                    <a:pt x="37" y="110"/>
                    <a:pt x="38" y="109"/>
                  </a:cubicBezTo>
                  <a:lnTo>
                    <a:pt x="38" y="75"/>
                  </a:lnTo>
                  <a:close/>
                  <a:moveTo>
                    <a:pt x="38" y="24"/>
                  </a:moveTo>
                  <a:cubicBezTo>
                    <a:pt x="36" y="23"/>
                    <a:pt x="33" y="23"/>
                    <a:pt x="30" y="23"/>
                  </a:cubicBezTo>
                  <a:cubicBezTo>
                    <a:pt x="29" y="23"/>
                    <a:pt x="29" y="23"/>
                    <a:pt x="28" y="23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9" y="57"/>
                    <a:pt x="31" y="57"/>
                    <a:pt x="32" y="58"/>
                  </a:cubicBezTo>
                  <a:cubicBezTo>
                    <a:pt x="34" y="58"/>
                    <a:pt x="35" y="59"/>
                    <a:pt x="37" y="60"/>
                  </a:cubicBezTo>
                  <a:cubicBezTo>
                    <a:pt x="37" y="60"/>
                    <a:pt x="37" y="60"/>
                    <a:pt x="38" y="60"/>
                  </a:cubicBezTo>
                  <a:cubicBezTo>
                    <a:pt x="38" y="60"/>
                    <a:pt x="38" y="60"/>
                    <a:pt x="38" y="60"/>
                  </a:cubicBezTo>
                  <a:lnTo>
                    <a:pt x="38" y="24"/>
                  </a:lnTo>
                  <a:close/>
                  <a:moveTo>
                    <a:pt x="52" y="93"/>
                  </a:moveTo>
                  <a:cubicBezTo>
                    <a:pt x="52" y="85"/>
                    <a:pt x="49" y="80"/>
                    <a:pt x="42" y="77"/>
                  </a:cubicBezTo>
                  <a:cubicBezTo>
                    <a:pt x="42" y="108"/>
                    <a:pt x="42" y="108"/>
                    <a:pt x="42" y="108"/>
                  </a:cubicBezTo>
                  <a:cubicBezTo>
                    <a:pt x="49" y="105"/>
                    <a:pt x="52" y="100"/>
                    <a:pt x="52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6" name="组合 255"/>
          <p:cNvGrpSpPr/>
          <p:nvPr/>
        </p:nvGrpSpPr>
        <p:grpSpPr>
          <a:xfrm>
            <a:off x="8786880" y="2130480"/>
            <a:ext cx="361800" cy="390600"/>
            <a:chOff x="8786880" y="2130480"/>
            <a:chExt cx="361800" cy="390600"/>
          </a:xfrm>
        </p:grpSpPr>
        <p:sp>
          <p:nvSpPr>
            <p:cNvPr id="1907" name="Freeform 288"/>
            <p:cNvSpPr/>
            <p:nvPr/>
          </p:nvSpPr>
          <p:spPr>
            <a:xfrm>
              <a:off x="8786880" y="2130480"/>
              <a:ext cx="361800" cy="39060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169" y="61"/>
                  </a:moveTo>
                  <a:cubicBezTo>
                    <a:pt x="199" y="107"/>
                    <a:pt x="193" y="164"/>
                    <a:pt x="154" y="190"/>
                  </a:cubicBezTo>
                  <a:cubicBezTo>
                    <a:pt x="116" y="215"/>
                    <a:pt x="61" y="199"/>
                    <a:pt x="30" y="154"/>
                  </a:cubicBezTo>
                  <a:cubicBezTo>
                    <a:pt x="0" y="108"/>
                    <a:pt x="6" y="51"/>
                    <a:pt x="45" y="25"/>
                  </a:cubicBezTo>
                  <a:cubicBezTo>
                    <a:pt x="83" y="0"/>
                    <a:pt x="138" y="16"/>
                    <a:pt x="169" y="61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289"/>
            <p:cNvSpPr/>
            <p:nvPr/>
          </p:nvSpPr>
          <p:spPr>
            <a:xfrm>
              <a:off x="8808840" y="2316240"/>
              <a:ext cx="58680" cy="18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32" y="11"/>
                  </a:move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1" y="8"/>
                    <a:pt x="1" y="11"/>
                  </a:cubicBezTo>
                  <a:lnTo>
                    <a:pt x="32" y="1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290"/>
            <p:cNvSpPr/>
            <p:nvPr/>
          </p:nvSpPr>
          <p:spPr>
            <a:xfrm>
              <a:off x="8862840" y="2394000"/>
              <a:ext cx="47520" cy="5868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8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3" y="26"/>
                    <a:pt x="5" y="29"/>
                    <a:pt x="9" y="32"/>
                  </a:cubicBezTo>
                  <a:lnTo>
                    <a:pt x="26" y="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291"/>
            <p:cNvSpPr/>
            <p:nvPr/>
          </p:nvSpPr>
          <p:spPr>
            <a:xfrm>
              <a:off x="8824680" y="2357640"/>
              <a:ext cx="58680" cy="410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32" y="1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6"/>
                    <a:pt x="4" y="19"/>
                    <a:pt x="6" y="23"/>
                  </a:cubicBezTo>
                  <a:lnTo>
                    <a:pt x="32" y="1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292"/>
            <p:cNvSpPr/>
            <p:nvPr/>
          </p:nvSpPr>
          <p:spPr>
            <a:xfrm>
              <a:off x="8916840" y="2421000"/>
              <a:ext cx="29880" cy="63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5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3" y="32"/>
                    <a:pt x="7" y="34"/>
                    <a:pt x="10" y="35"/>
                  </a:cubicBezTo>
                  <a:lnTo>
                    <a:pt x="17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293"/>
            <p:cNvSpPr/>
            <p:nvPr/>
          </p:nvSpPr>
          <p:spPr>
            <a:xfrm>
              <a:off x="9004320" y="2422800"/>
              <a:ext cx="50760" cy="6804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18" y="37"/>
                  </a:moveTo>
                  <a:cubicBezTo>
                    <a:pt x="22" y="36"/>
                    <a:pt x="25" y="34"/>
                    <a:pt x="28" y="33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18" y="3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294"/>
            <p:cNvSpPr/>
            <p:nvPr/>
          </p:nvSpPr>
          <p:spPr>
            <a:xfrm>
              <a:off x="8808840" y="2251080"/>
              <a:ext cx="63360" cy="4428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2" y="24"/>
                  </a:moveTo>
                  <a:cubicBezTo>
                    <a:pt x="35" y="13"/>
                    <a:pt x="35" y="13"/>
                    <a:pt x="35" y="1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3"/>
                    <a:pt x="1" y="7"/>
                    <a:pt x="0" y="10"/>
                  </a:cubicBezTo>
                  <a:lnTo>
                    <a:pt x="32" y="24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295"/>
            <p:cNvSpPr/>
            <p:nvPr/>
          </p:nvSpPr>
          <p:spPr>
            <a:xfrm>
              <a:off x="8964720" y="2433960"/>
              <a:ext cx="31680" cy="63360"/>
            </a:xfrm>
            <a:custGeom>
              <a:avLst/>
              <a:gdLst/>
              <a:ahLst/>
              <a:rect l="l" t="t" r="r" b="b"/>
              <a:pathLst>
                <a:path w="17" h="35">
                  <a:moveTo>
                    <a:pt x="17" y="35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10" y="35"/>
                    <a:pt x="13" y="35"/>
                    <a:pt x="17" y="3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296"/>
            <p:cNvSpPr/>
            <p:nvPr/>
          </p:nvSpPr>
          <p:spPr>
            <a:xfrm>
              <a:off x="8826480" y="2205000"/>
              <a:ext cx="63360" cy="5868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29" y="33"/>
                  </a:moveTo>
                  <a:cubicBezTo>
                    <a:pt x="35" y="25"/>
                    <a:pt x="35" y="25"/>
                    <a:pt x="35" y="2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5"/>
                    <a:pt x="0" y="8"/>
                  </a:cubicBezTo>
                  <a:lnTo>
                    <a:pt x="29" y="3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297"/>
            <p:cNvSpPr/>
            <p:nvPr/>
          </p:nvSpPr>
          <p:spPr>
            <a:xfrm>
              <a:off x="9036000" y="2244600"/>
              <a:ext cx="71280" cy="5400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0" y="20"/>
                  </a:moveTo>
                  <a:cubicBezTo>
                    <a:pt x="7" y="30"/>
                    <a:pt x="7" y="30"/>
                    <a:pt x="7" y="30"/>
                  </a:cubicBezTo>
                  <a:cubicBezTo>
                    <a:pt x="39" y="11"/>
                    <a:pt x="39" y="11"/>
                    <a:pt x="39" y="11"/>
                  </a:cubicBezTo>
                  <a:cubicBezTo>
                    <a:pt x="37" y="7"/>
                    <a:pt x="35" y="3"/>
                    <a:pt x="33" y="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298"/>
            <p:cNvSpPr/>
            <p:nvPr/>
          </p:nvSpPr>
          <p:spPr>
            <a:xfrm>
              <a:off x="9055080" y="2360880"/>
              <a:ext cx="69840" cy="4284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2" y="0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8" y="20"/>
                    <a:pt x="38" y="16"/>
                    <a:pt x="39" y="13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299"/>
            <p:cNvSpPr/>
            <p:nvPr/>
          </p:nvSpPr>
          <p:spPr>
            <a:xfrm>
              <a:off x="8858160" y="2173320"/>
              <a:ext cx="55440" cy="71280"/>
            </a:xfrm>
            <a:custGeom>
              <a:avLst/>
              <a:gdLst/>
              <a:ahLst/>
              <a:rect l="l" t="t" r="r" b="b"/>
              <a:pathLst>
                <a:path w="31" h="39">
                  <a:moveTo>
                    <a:pt x="8" y="0"/>
                  </a:moveTo>
                  <a:cubicBezTo>
                    <a:pt x="7" y="0"/>
                    <a:pt x="7" y="1"/>
                    <a:pt x="6" y="1"/>
                  </a:cubicBezTo>
                  <a:cubicBezTo>
                    <a:pt x="4" y="3"/>
                    <a:pt x="2" y="4"/>
                    <a:pt x="0" y="6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31" y="33"/>
                    <a:pt x="31" y="33"/>
                    <a:pt x="31" y="33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300"/>
            <p:cNvSpPr/>
            <p:nvPr/>
          </p:nvSpPr>
          <p:spPr>
            <a:xfrm>
              <a:off x="9034560" y="2397240"/>
              <a:ext cx="64800" cy="6012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6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2" y="31"/>
                    <a:pt x="34" y="28"/>
                    <a:pt x="36" y="25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301"/>
            <p:cNvSpPr/>
            <p:nvPr/>
          </p:nvSpPr>
          <p:spPr>
            <a:xfrm>
              <a:off x="9055080" y="2313000"/>
              <a:ext cx="72720" cy="284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0" y="3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0" y="8"/>
                    <a:pt x="39" y="4"/>
                    <a:pt x="39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302"/>
            <p:cNvSpPr/>
            <p:nvPr/>
          </p:nvSpPr>
          <p:spPr>
            <a:xfrm>
              <a:off x="8913600" y="2152440"/>
              <a:ext cx="36360" cy="777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0" y="42"/>
                  </a:moveTo>
                  <a:cubicBezTo>
                    <a:pt x="20" y="41"/>
                    <a:pt x="20" y="41"/>
                    <a:pt x="20" y="4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7" y="1"/>
                    <a:pt x="3" y="1"/>
                    <a:pt x="0" y="2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2" name="Freeform 303"/>
            <p:cNvSpPr/>
            <p:nvPr/>
          </p:nvSpPr>
          <p:spPr>
            <a:xfrm>
              <a:off x="8970840" y="2158920"/>
              <a:ext cx="28440" cy="77760"/>
            </a:xfrm>
            <a:custGeom>
              <a:avLst/>
              <a:gdLst/>
              <a:ahLst/>
              <a:rect l="l" t="t" r="r" b="b"/>
              <a:pathLst>
                <a:path w="16" h="43">
                  <a:moveTo>
                    <a:pt x="11" y="43"/>
                  </a:moveTo>
                  <a:cubicBezTo>
                    <a:pt x="16" y="3"/>
                    <a:pt x="16" y="3"/>
                    <a:pt x="16" y="3"/>
                  </a:cubicBezTo>
                  <a:cubicBezTo>
                    <a:pt x="12" y="2"/>
                    <a:pt x="9" y="1"/>
                    <a:pt x="5" y="0"/>
                  </a:cubicBezTo>
                  <a:cubicBezTo>
                    <a:pt x="0" y="40"/>
                    <a:pt x="0" y="40"/>
                    <a:pt x="0" y="40"/>
                  </a:cubicBezTo>
                  <a:lnTo>
                    <a:pt x="11" y="4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3" name="Freeform 304"/>
            <p:cNvSpPr/>
            <p:nvPr/>
          </p:nvSpPr>
          <p:spPr>
            <a:xfrm>
              <a:off x="9007560" y="2189160"/>
              <a:ext cx="54000" cy="7308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30" y="7"/>
                  </a:moveTo>
                  <a:cubicBezTo>
                    <a:pt x="27" y="5"/>
                    <a:pt x="24" y="2"/>
                    <a:pt x="21" y="0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9" y="40"/>
                    <a:pt x="9" y="40"/>
                    <a:pt x="9" y="40"/>
                  </a:cubicBezTo>
                  <a:lnTo>
                    <a:pt x="30" y="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305"/>
            <p:cNvSpPr/>
            <p:nvPr/>
          </p:nvSpPr>
          <p:spPr>
            <a:xfrm>
              <a:off x="8831160" y="2176560"/>
              <a:ext cx="274680" cy="29700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28" y="46"/>
                  </a:moveTo>
                  <a:cubicBezTo>
                    <a:pt x="151" y="81"/>
                    <a:pt x="146" y="124"/>
                    <a:pt x="117" y="144"/>
                  </a:cubicBezTo>
                  <a:cubicBezTo>
                    <a:pt x="88" y="163"/>
                    <a:pt x="46" y="151"/>
                    <a:pt x="23" y="117"/>
                  </a:cubicBezTo>
                  <a:cubicBezTo>
                    <a:pt x="0" y="82"/>
                    <a:pt x="5" y="38"/>
                    <a:pt x="34" y="19"/>
                  </a:cubicBezTo>
                  <a:cubicBezTo>
                    <a:pt x="63" y="0"/>
                    <a:pt x="105" y="12"/>
                    <a:pt x="128" y="46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306"/>
            <p:cNvSpPr/>
            <p:nvPr/>
          </p:nvSpPr>
          <p:spPr>
            <a:xfrm>
              <a:off x="8894880" y="2227320"/>
              <a:ext cx="152280" cy="20952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78" y="62"/>
                  </a:moveTo>
                  <a:cubicBezTo>
                    <a:pt x="82" y="68"/>
                    <a:pt x="83" y="74"/>
                    <a:pt x="83" y="80"/>
                  </a:cubicBezTo>
                  <a:cubicBezTo>
                    <a:pt x="83" y="86"/>
                    <a:pt x="81" y="91"/>
                    <a:pt x="77" y="96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1" y="109"/>
                    <a:pt x="81" y="109"/>
                    <a:pt x="81" y="109"/>
                  </a:cubicBezTo>
                  <a:cubicBezTo>
                    <a:pt x="74" y="98"/>
                    <a:pt x="74" y="98"/>
                    <a:pt x="74" y="98"/>
                  </a:cubicBezTo>
                  <a:cubicBezTo>
                    <a:pt x="74" y="98"/>
                    <a:pt x="73" y="99"/>
                    <a:pt x="72" y="99"/>
                  </a:cubicBezTo>
                  <a:cubicBezTo>
                    <a:pt x="71" y="100"/>
                    <a:pt x="70" y="100"/>
                    <a:pt x="69" y="101"/>
                  </a:cubicBezTo>
                  <a:cubicBezTo>
                    <a:pt x="68" y="101"/>
                    <a:pt x="68" y="102"/>
                    <a:pt x="67" y="102"/>
                  </a:cubicBezTo>
                  <a:cubicBezTo>
                    <a:pt x="75" y="113"/>
                    <a:pt x="75" y="113"/>
                    <a:pt x="75" y="113"/>
                  </a:cubicBezTo>
                  <a:cubicBezTo>
                    <a:pt x="71" y="115"/>
                    <a:pt x="71" y="115"/>
                    <a:pt x="71" y="11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58" y="103"/>
                    <a:pt x="53" y="102"/>
                    <a:pt x="49" y="9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47" y="114"/>
                    <a:pt x="47" y="114"/>
                    <a:pt x="47" y="114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38" y="82"/>
                    <a:pt x="38" y="82"/>
                    <a:pt x="38" y="82"/>
                  </a:cubicBezTo>
                  <a:cubicBezTo>
                    <a:pt x="41" y="86"/>
                    <a:pt x="43" y="89"/>
                    <a:pt x="47" y="91"/>
                  </a:cubicBezTo>
                  <a:cubicBezTo>
                    <a:pt x="51" y="94"/>
                    <a:pt x="54" y="95"/>
                    <a:pt x="57" y="94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23" y="65"/>
                    <a:pt x="12" y="61"/>
                    <a:pt x="6" y="52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8"/>
                    <a:pt x="2" y="23"/>
                    <a:pt x="7" y="1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1" y="16"/>
                    <a:pt x="12" y="15"/>
                  </a:cubicBezTo>
                  <a:cubicBezTo>
                    <a:pt x="14" y="14"/>
                    <a:pt x="16" y="13"/>
                    <a:pt x="17" y="13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8" y="12"/>
                    <a:pt x="33" y="15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44" y="32"/>
                    <a:pt x="44" y="32"/>
                    <a:pt x="44" y="32"/>
                  </a:cubicBezTo>
                  <a:cubicBezTo>
                    <a:pt x="39" y="24"/>
                    <a:pt x="33" y="20"/>
                    <a:pt x="26" y="20"/>
                  </a:cubicBezTo>
                  <a:cubicBezTo>
                    <a:pt x="46" y="49"/>
                    <a:pt x="46" y="49"/>
                    <a:pt x="46" y="49"/>
                  </a:cubicBezTo>
                  <a:cubicBezTo>
                    <a:pt x="59" y="46"/>
                    <a:pt x="70" y="50"/>
                    <a:pt x="78" y="62"/>
                  </a:cubicBezTo>
                  <a:close/>
                  <a:moveTo>
                    <a:pt x="13" y="27"/>
                  </a:moveTo>
                  <a:cubicBezTo>
                    <a:pt x="10" y="33"/>
                    <a:pt x="10" y="38"/>
                    <a:pt x="14" y="44"/>
                  </a:cubicBezTo>
                  <a:cubicBezTo>
                    <a:pt x="18" y="49"/>
                    <a:pt x="23" y="52"/>
                    <a:pt x="29" y="51"/>
                  </a:cubicBezTo>
                  <a:lnTo>
                    <a:pt x="13" y="27"/>
                  </a:lnTo>
                  <a:close/>
                  <a:moveTo>
                    <a:pt x="50" y="62"/>
                  </a:moveTo>
                  <a:cubicBezTo>
                    <a:pt x="47" y="62"/>
                    <a:pt x="44" y="62"/>
                    <a:pt x="41" y="63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4" y="93"/>
                    <a:pt x="65" y="93"/>
                    <a:pt x="66" y="92"/>
                  </a:cubicBezTo>
                  <a:cubicBezTo>
                    <a:pt x="67" y="91"/>
                    <a:pt x="68" y="90"/>
                    <a:pt x="69" y="90"/>
                  </a:cubicBezTo>
                  <a:lnTo>
                    <a:pt x="50" y="62"/>
                  </a:lnTo>
                  <a:close/>
                  <a:moveTo>
                    <a:pt x="22" y="21"/>
                  </a:moveTo>
                  <a:cubicBezTo>
                    <a:pt x="20" y="21"/>
                    <a:pt x="18" y="22"/>
                    <a:pt x="16" y="23"/>
                  </a:cubicBezTo>
                  <a:cubicBezTo>
                    <a:pt x="16" y="24"/>
                    <a:pt x="15" y="24"/>
                    <a:pt x="15" y="24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4" y="51"/>
                    <a:pt x="35" y="51"/>
                    <a:pt x="37" y="51"/>
                  </a:cubicBezTo>
                  <a:cubicBezTo>
                    <a:pt x="38" y="50"/>
                    <a:pt x="39" y="50"/>
                    <a:pt x="41" y="50"/>
                  </a:cubicBezTo>
                  <a:cubicBezTo>
                    <a:pt x="41" y="50"/>
                    <a:pt x="41" y="50"/>
                    <a:pt x="41" y="50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22" y="21"/>
                  </a:lnTo>
                  <a:close/>
                  <a:moveTo>
                    <a:pt x="69" y="70"/>
                  </a:moveTo>
                  <a:cubicBezTo>
                    <a:pt x="65" y="64"/>
                    <a:pt x="60" y="61"/>
                    <a:pt x="54" y="61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74" y="82"/>
                    <a:pt x="73" y="76"/>
                    <a:pt x="69" y="70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307"/>
            <p:cNvSpPr/>
            <p:nvPr/>
          </p:nvSpPr>
          <p:spPr>
            <a:xfrm>
              <a:off x="8889840" y="2222640"/>
              <a:ext cx="153720" cy="21132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78" y="62"/>
                  </a:moveTo>
                  <a:cubicBezTo>
                    <a:pt x="82" y="68"/>
                    <a:pt x="84" y="74"/>
                    <a:pt x="84" y="81"/>
                  </a:cubicBezTo>
                  <a:cubicBezTo>
                    <a:pt x="83" y="87"/>
                    <a:pt x="81" y="92"/>
                    <a:pt x="77" y="96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2" y="109"/>
                    <a:pt x="82" y="109"/>
                    <a:pt x="82" y="109"/>
                  </a:cubicBezTo>
                  <a:cubicBezTo>
                    <a:pt x="74" y="98"/>
                    <a:pt x="74" y="98"/>
                    <a:pt x="74" y="98"/>
                  </a:cubicBezTo>
                  <a:cubicBezTo>
                    <a:pt x="74" y="98"/>
                    <a:pt x="73" y="99"/>
                    <a:pt x="72" y="100"/>
                  </a:cubicBezTo>
                  <a:cubicBezTo>
                    <a:pt x="71" y="100"/>
                    <a:pt x="70" y="101"/>
                    <a:pt x="69" y="101"/>
                  </a:cubicBezTo>
                  <a:cubicBezTo>
                    <a:pt x="69" y="102"/>
                    <a:pt x="68" y="102"/>
                    <a:pt x="67" y="102"/>
                  </a:cubicBezTo>
                  <a:cubicBezTo>
                    <a:pt x="75" y="114"/>
                    <a:pt x="75" y="114"/>
                    <a:pt x="75" y="114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58" y="104"/>
                    <a:pt x="54" y="103"/>
                    <a:pt x="50" y="100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30" y="88"/>
                    <a:pt x="30" y="88"/>
                    <a:pt x="30" y="88"/>
                  </a:cubicBezTo>
                  <a:cubicBezTo>
                    <a:pt x="38" y="83"/>
                    <a:pt x="38" y="83"/>
                    <a:pt x="38" y="83"/>
                  </a:cubicBezTo>
                  <a:cubicBezTo>
                    <a:pt x="41" y="86"/>
                    <a:pt x="44" y="89"/>
                    <a:pt x="47" y="92"/>
                  </a:cubicBezTo>
                  <a:cubicBezTo>
                    <a:pt x="51" y="94"/>
                    <a:pt x="55" y="95"/>
                    <a:pt x="58" y="95"/>
                  </a:cubicBezTo>
                  <a:cubicBezTo>
                    <a:pt x="37" y="64"/>
                    <a:pt x="37" y="64"/>
                    <a:pt x="37" y="64"/>
                  </a:cubicBezTo>
                  <a:cubicBezTo>
                    <a:pt x="23" y="65"/>
                    <a:pt x="12" y="61"/>
                    <a:pt x="6" y="52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8"/>
                    <a:pt x="3" y="23"/>
                    <a:pt x="7" y="19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0" y="17"/>
                    <a:pt x="11" y="16"/>
                    <a:pt x="12" y="15"/>
                  </a:cubicBezTo>
                  <a:cubicBezTo>
                    <a:pt x="14" y="14"/>
                    <a:pt x="16" y="13"/>
                    <a:pt x="17" y="1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4" y="12"/>
                    <a:pt x="28" y="13"/>
                    <a:pt x="33" y="16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52" y="27"/>
                    <a:pt x="52" y="27"/>
                    <a:pt x="52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39" y="25"/>
                    <a:pt x="33" y="21"/>
                    <a:pt x="27" y="21"/>
                  </a:cubicBezTo>
                  <a:cubicBezTo>
                    <a:pt x="46" y="50"/>
                    <a:pt x="46" y="50"/>
                    <a:pt x="46" y="50"/>
                  </a:cubicBezTo>
                  <a:cubicBezTo>
                    <a:pt x="59" y="46"/>
                    <a:pt x="70" y="51"/>
                    <a:pt x="78" y="62"/>
                  </a:cubicBezTo>
                  <a:close/>
                  <a:moveTo>
                    <a:pt x="13" y="28"/>
                  </a:moveTo>
                  <a:cubicBezTo>
                    <a:pt x="10" y="33"/>
                    <a:pt x="11" y="39"/>
                    <a:pt x="15" y="44"/>
                  </a:cubicBezTo>
                  <a:cubicBezTo>
                    <a:pt x="18" y="50"/>
                    <a:pt x="23" y="52"/>
                    <a:pt x="29" y="52"/>
                  </a:cubicBezTo>
                  <a:lnTo>
                    <a:pt x="13" y="28"/>
                  </a:lnTo>
                  <a:close/>
                  <a:moveTo>
                    <a:pt x="50" y="62"/>
                  </a:moveTo>
                  <a:cubicBezTo>
                    <a:pt x="48" y="62"/>
                    <a:pt x="45" y="62"/>
                    <a:pt x="41" y="63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4" y="94"/>
                    <a:pt x="65" y="93"/>
                    <a:pt x="67" y="92"/>
                  </a:cubicBezTo>
                  <a:cubicBezTo>
                    <a:pt x="68" y="92"/>
                    <a:pt x="68" y="91"/>
                    <a:pt x="69" y="90"/>
                  </a:cubicBezTo>
                  <a:lnTo>
                    <a:pt x="50" y="62"/>
                  </a:lnTo>
                  <a:close/>
                  <a:moveTo>
                    <a:pt x="23" y="21"/>
                  </a:moveTo>
                  <a:cubicBezTo>
                    <a:pt x="21" y="21"/>
                    <a:pt x="19" y="22"/>
                    <a:pt x="17" y="24"/>
                  </a:cubicBezTo>
                  <a:cubicBezTo>
                    <a:pt x="16" y="24"/>
                    <a:pt x="16" y="24"/>
                    <a:pt x="16" y="25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6" y="51"/>
                    <a:pt x="37" y="51"/>
                  </a:cubicBezTo>
                  <a:cubicBezTo>
                    <a:pt x="38" y="51"/>
                    <a:pt x="40" y="51"/>
                    <a:pt x="41" y="50"/>
                  </a:cubicBezTo>
                  <a:cubicBezTo>
                    <a:pt x="41" y="50"/>
                    <a:pt x="42" y="50"/>
                    <a:pt x="42" y="50"/>
                  </a:cubicBezTo>
                  <a:cubicBezTo>
                    <a:pt x="42" y="50"/>
                    <a:pt x="42" y="50"/>
                    <a:pt x="42" y="50"/>
                  </a:cubicBezTo>
                  <a:lnTo>
                    <a:pt x="23" y="21"/>
                  </a:lnTo>
                  <a:close/>
                  <a:moveTo>
                    <a:pt x="69" y="71"/>
                  </a:moveTo>
                  <a:cubicBezTo>
                    <a:pt x="65" y="65"/>
                    <a:pt x="60" y="62"/>
                    <a:pt x="54" y="62"/>
                  </a:cubicBezTo>
                  <a:cubicBezTo>
                    <a:pt x="71" y="87"/>
                    <a:pt x="71" y="87"/>
                    <a:pt x="71" y="87"/>
                  </a:cubicBezTo>
                  <a:cubicBezTo>
                    <a:pt x="74" y="82"/>
                    <a:pt x="73" y="76"/>
                    <a:pt x="6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7" name="组合 256"/>
          <p:cNvGrpSpPr/>
          <p:nvPr/>
        </p:nvGrpSpPr>
        <p:grpSpPr>
          <a:xfrm>
            <a:off x="8748720" y="1557360"/>
            <a:ext cx="307800" cy="317520"/>
            <a:chOff x="8748720" y="1557360"/>
            <a:chExt cx="307800" cy="317520"/>
          </a:xfrm>
        </p:grpSpPr>
        <p:sp>
          <p:nvSpPr>
            <p:cNvPr id="1928" name="Freeform 308"/>
            <p:cNvSpPr/>
            <p:nvPr/>
          </p:nvSpPr>
          <p:spPr>
            <a:xfrm>
              <a:off x="8748720" y="1557360"/>
              <a:ext cx="307800" cy="31752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136" y="134"/>
                  </a:moveTo>
                  <a:cubicBezTo>
                    <a:pt x="105" y="168"/>
                    <a:pt x="57" y="174"/>
                    <a:pt x="29" y="147"/>
                  </a:cubicBezTo>
                  <a:cubicBezTo>
                    <a:pt x="0" y="121"/>
                    <a:pt x="3" y="73"/>
                    <a:pt x="34" y="39"/>
                  </a:cubicBezTo>
                  <a:cubicBezTo>
                    <a:pt x="65" y="6"/>
                    <a:pt x="113" y="0"/>
                    <a:pt x="141" y="26"/>
                  </a:cubicBezTo>
                  <a:cubicBezTo>
                    <a:pt x="169" y="52"/>
                    <a:pt x="167" y="101"/>
                    <a:pt x="136" y="134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309"/>
            <p:cNvSpPr/>
            <p:nvPr/>
          </p:nvSpPr>
          <p:spPr>
            <a:xfrm>
              <a:off x="8862840" y="1582560"/>
              <a:ext cx="27000" cy="540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6" y="29"/>
                  </a:moveTo>
                  <a:cubicBezTo>
                    <a:pt x="15" y="25"/>
                    <a:pt x="15" y="25"/>
                    <a:pt x="15" y="25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6" y="1"/>
                    <a:pt x="3" y="3"/>
                    <a:pt x="0" y="4"/>
                  </a:cubicBezTo>
                  <a:lnTo>
                    <a:pt x="6" y="2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310"/>
            <p:cNvSpPr/>
            <p:nvPr/>
          </p:nvSpPr>
          <p:spPr>
            <a:xfrm>
              <a:off x="8783640" y="1652400"/>
              <a:ext cx="48960" cy="3312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22" y="18"/>
                  </a:moveTo>
                  <a:cubicBezTo>
                    <a:pt x="27" y="9"/>
                    <a:pt x="27" y="9"/>
                    <a:pt x="27" y="9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3"/>
                    <a:pt x="2" y="5"/>
                    <a:pt x="0" y="8"/>
                  </a:cubicBezTo>
                  <a:lnTo>
                    <a:pt x="22" y="1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311"/>
            <p:cNvSpPr/>
            <p:nvPr/>
          </p:nvSpPr>
          <p:spPr>
            <a:xfrm>
              <a:off x="8818560" y="1609560"/>
              <a:ext cx="41040" cy="4608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5" y="25"/>
                  </a:moveTo>
                  <a:cubicBezTo>
                    <a:pt x="23" y="18"/>
                    <a:pt x="23" y="18"/>
                    <a:pt x="23" y="18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"/>
                    <a:pt x="2" y="4"/>
                    <a:pt x="0" y="7"/>
                  </a:cubicBezTo>
                  <a:lnTo>
                    <a:pt x="15" y="2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312"/>
            <p:cNvSpPr/>
            <p:nvPr/>
          </p:nvSpPr>
          <p:spPr>
            <a:xfrm>
              <a:off x="8766000" y="1701720"/>
              <a:ext cx="48960" cy="17280"/>
            </a:xfrm>
            <a:custGeom>
              <a:avLst/>
              <a:gdLst/>
              <a:ahLst/>
              <a:rect l="l" t="t" r="r" b="b"/>
              <a:pathLst>
                <a:path w="27" h="10">
                  <a:moveTo>
                    <a:pt x="26" y="9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0" y="7"/>
                    <a:pt x="0" y="10"/>
                  </a:cubicBezTo>
                  <a:lnTo>
                    <a:pt x="26" y="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313"/>
            <p:cNvSpPr/>
            <p:nvPr/>
          </p:nvSpPr>
          <p:spPr>
            <a:xfrm>
              <a:off x="8783640" y="1765440"/>
              <a:ext cx="50760" cy="5076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1"/>
                  </a:moveTo>
                  <a:cubicBezTo>
                    <a:pt x="1" y="24"/>
                    <a:pt x="3" y="26"/>
                    <a:pt x="5" y="28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2" y="0"/>
                    <a:pt x="22" y="0"/>
                    <a:pt x="22" y="0"/>
                  </a:cubicBezTo>
                  <a:lnTo>
                    <a:pt x="0" y="2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314"/>
            <p:cNvSpPr/>
            <p:nvPr/>
          </p:nvSpPr>
          <p:spPr>
            <a:xfrm>
              <a:off x="8907480" y="1576080"/>
              <a:ext cx="27000" cy="5220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0" y="29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1" y="0"/>
                    <a:pt x="8" y="0"/>
                    <a:pt x="5" y="0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315"/>
            <p:cNvSpPr/>
            <p:nvPr/>
          </p:nvSpPr>
          <p:spPr>
            <a:xfrm>
              <a:off x="8766000" y="1733760"/>
              <a:ext cx="52200" cy="3960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" y="21"/>
                  </a:moveTo>
                  <a:cubicBezTo>
                    <a:pt x="28" y="9"/>
                    <a:pt x="28" y="9"/>
                    <a:pt x="28" y="9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5"/>
                    <a:pt x="0" y="18"/>
                    <a:pt x="1" y="21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316"/>
            <p:cNvSpPr/>
            <p:nvPr/>
          </p:nvSpPr>
          <p:spPr>
            <a:xfrm>
              <a:off x="8934480" y="1581120"/>
              <a:ext cx="41040" cy="5688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0" y="28"/>
                  </a:moveTo>
                  <a:cubicBezTo>
                    <a:pt x="8" y="31"/>
                    <a:pt x="8" y="31"/>
                    <a:pt x="8" y="31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1" y="2"/>
                    <a:pt x="18" y="0"/>
                    <a:pt x="15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317"/>
            <p:cNvSpPr/>
            <p:nvPr/>
          </p:nvSpPr>
          <p:spPr>
            <a:xfrm>
              <a:off x="8939160" y="1763640"/>
              <a:ext cx="55440" cy="5220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7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5" y="27"/>
                    <a:pt x="27" y="25"/>
                    <a:pt x="30" y="22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318"/>
            <p:cNvSpPr/>
            <p:nvPr/>
          </p:nvSpPr>
          <p:spPr>
            <a:xfrm>
              <a:off x="8869320" y="1797120"/>
              <a:ext cx="23760" cy="586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3" y="33"/>
                    <a:pt x="6" y="33"/>
                    <a:pt x="9" y="33"/>
                  </a:cubicBezTo>
                  <a:lnTo>
                    <a:pt x="13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319"/>
            <p:cNvSpPr/>
            <p:nvPr/>
          </p:nvSpPr>
          <p:spPr>
            <a:xfrm>
              <a:off x="8956800" y="1596960"/>
              <a:ext cx="52200" cy="5688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9" y="6"/>
                  </a:moveTo>
                  <a:cubicBezTo>
                    <a:pt x="28" y="5"/>
                    <a:pt x="28" y="5"/>
                    <a:pt x="27" y="4"/>
                  </a:cubicBezTo>
                  <a:cubicBezTo>
                    <a:pt x="26" y="3"/>
                    <a:pt x="24" y="2"/>
                    <a:pt x="22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6" y="31"/>
                    <a:pt x="6" y="31"/>
                    <a:pt x="6" y="31"/>
                  </a:cubicBezTo>
                  <a:lnTo>
                    <a:pt x="29" y="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320"/>
            <p:cNvSpPr/>
            <p:nvPr/>
          </p:nvSpPr>
          <p:spPr>
            <a:xfrm>
              <a:off x="8818560" y="1787760"/>
              <a:ext cx="4104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3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3" y="30"/>
                    <a:pt x="5" y="32"/>
                    <a:pt x="8" y="33"/>
                  </a:cubicBezTo>
                  <a:lnTo>
                    <a:pt x="23" y="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321"/>
            <p:cNvSpPr/>
            <p:nvPr/>
          </p:nvSpPr>
          <p:spPr>
            <a:xfrm>
              <a:off x="8908920" y="1785960"/>
              <a:ext cx="34920" cy="619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9" y="0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3" y="33"/>
                    <a:pt x="16" y="32"/>
                    <a:pt x="19" y="30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322"/>
            <p:cNvSpPr/>
            <p:nvPr/>
          </p:nvSpPr>
          <p:spPr>
            <a:xfrm>
              <a:off x="8974080" y="1638360"/>
              <a:ext cx="61920" cy="442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0" y="16"/>
                  </a:moveTo>
                  <a:cubicBezTo>
                    <a:pt x="3" y="25"/>
                    <a:pt x="3" y="25"/>
                    <a:pt x="3" y="25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3" y="6"/>
                    <a:pt x="32" y="3"/>
                    <a:pt x="3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323"/>
            <p:cNvSpPr/>
            <p:nvPr/>
          </p:nvSpPr>
          <p:spPr>
            <a:xfrm>
              <a:off x="8978760" y="1692360"/>
              <a:ext cx="63360" cy="237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0" y="13"/>
                  </a:moveTo>
                  <a:cubicBezTo>
                    <a:pt x="34" y="10"/>
                    <a:pt x="34" y="10"/>
                    <a:pt x="34" y="10"/>
                  </a:cubicBezTo>
                  <a:cubicBezTo>
                    <a:pt x="34" y="6"/>
                    <a:pt x="35" y="3"/>
                    <a:pt x="35" y="0"/>
                  </a:cubicBezTo>
                  <a:cubicBezTo>
                    <a:pt x="1" y="4"/>
                    <a:pt x="1" y="4"/>
                    <a:pt x="1" y="4"/>
                  </a:cubicBezTo>
                  <a:lnTo>
                    <a:pt x="0" y="13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324"/>
            <p:cNvSpPr/>
            <p:nvPr/>
          </p:nvSpPr>
          <p:spPr>
            <a:xfrm>
              <a:off x="8964720" y="1731960"/>
              <a:ext cx="64800" cy="3492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30" y="19"/>
                  </a:moveTo>
                  <a:cubicBezTo>
                    <a:pt x="32" y="16"/>
                    <a:pt x="34" y="13"/>
                    <a:pt x="35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325"/>
            <p:cNvSpPr/>
            <p:nvPr/>
          </p:nvSpPr>
          <p:spPr>
            <a:xfrm>
              <a:off x="8786520" y="1595160"/>
              <a:ext cx="233280" cy="24156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103" y="102"/>
                  </a:moveTo>
                  <a:cubicBezTo>
                    <a:pt x="79" y="127"/>
                    <a:pt x="43" y="132"/>
                    <a:pt x="21" y="112"/>
                  </a:cubicBezTo>
                  <a:cubicBezTo>
                    <a:pt x="0" y="92"/>
                    <a:pt x="1" y="55"/>
                    <a:pt x="25" y="30"/>
                  </a:cubicBezTo>
                  <a:cubicBezTo>
                    <a:pt x="49" y="4"/>
                    <a:pt x="85" y="0"/>
                    <a:pt x="106" y="20"/>
                  </a:cubicBezTo>
                  <a:cubicBezTo>
                    <a:pt x="128" y="40"/>
                    <a:pt x="126" y="76"/>
                    <a:pt x="103" y="102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326"/>
            <p:cNvSpPr/>
            <p:nvPr/>
          </p:nvSpPr>
          <p:spPr>
            <a:xfrm>
              <a:off x="8815320" y="1639800"/>
              <a:ext cx="163440" cy="16020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8" y="74"/>
                  </a:moveTo>
                  <a:cubicBezTo>
                    <a:pt x="44" y="78"/>
                    <a:pt x="39" y="81"/>
                    <a:pt x="34" y="82"/>
                  </a:cubicBezTo>
                  <a:cubicBezTo>
                    <a:pt x="29" y="83"/>
                    <a:pt x="25" y="82"/>
                    <a:pt x="21" y="79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11" y="86"/>
                    <a:pt x="11" y="86"/>
                    <a:pt x="11" y="86"/>
                  </a:cubicBezTo>
                  <a:cubicBezTo>
                    <a:pt x="18" y="78"/>
                    <a:pt x="18" y="78"/>
                    <a:pt x="18" y="78"/>
                  </a:cubicBezTo>
                  <a:cubicBezTo>
                    <a:pt x="18" y="77"/>
                    <a:pt x="17" y="77"/>
                    <a:pt x="16" y="76"/>
                  </a:cubicBezTo>
                  <a:cubicBezTo>
                    <a:pt x="16" y="75"/>
                    <a:pt x="15" y="75"/>
                    <a:pt x="15" y="74"/>
                  </a:cubicBezTo>
                  <a:cubicBezTo>
                    <a:pt x="14" y="74"/>
                    <a:pt x="14" y="73"/>
                    <a:pt x="13" y="73"/>
                  </a:cubicBezTo>
                  <a:cubicBezTo>
                    <a:pt x="6" y="81"/>
                    <a:pt x="6" y="81"/>
                    <a:pt x="6" y="81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12" y="70"/>
                    <a:pt x="12" y="70"/>
                    <a:pt x="12" y="70"/>
                  </a:cubicBezTo>
                  <a:cubicBezTo>
                    <a:pt x="11" y="66"/>
                    <a:pt x="11" y="62"/>
                    <a:pt x="12" y="58"/>
                  </a:cubicBezTo>
                  <a:cubicBezTo>
                    <a:pt x="6" y="65"/>
                    <a:pt x="6" y="65"/>
                    <a:pt x="6" y="65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1" y="48"/>
                    <a:pt x="19" y="51"/>
                    <a:pt x="18" y="54"/>
                  </a:cubicBezTo>
                  <a:cubicBezTo>
                    <a:pt x="17" y="58"/>
                    <a:pt x="17" y="61"/>
                    <a:pt x="18" y="64"/>
                  </a:cubicBezTo>
                  <a:cubicBezTo>
                    <a:pt x="39" y="41"/>
                    <a:pt x="39" y="41"/>
                    <a:pt x="39" y="41"/>
                  </a:cubicBezTo>
                  <a:cubicBezTo>
                    <a:pt x="35" y="29"/>
                    <a:pt x="36" y="20"/>
                    <a:pt x="42" y="13"/>
                  </a:cubicBezTo>
                  <a:cubicBezTo>
                    <a:pt x="46" y="9"/>
                    <a:pt x="51" y="6"/>
                    <a:pt x="56" y="5"/>
                  </a:cubicBezTo>
                  <a:cubicBezTo>
                    <a:pt x="61" y="4"/>
                    <a:pt x="65" y="5"/>
                    <a:pt x="70" y="8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9" y="2"/>
                    <a:pt x="79" y="2"/>
                    <a:pt x="79" y="2"/>
                  </a:cubicBezTo>
                  <a:cubicBezTo>
                    <a:pt x="72" y="10"/>
                    <a:pt x="72" y="10"/>
                    <a:pt x="72" y="10"/>
                  </a:cubicBezTo>
                  <a:cubicBezTo>
                    <a:pt x="72" y="10"/>
                    <a:pt x="73" y="10"/>
                    <a:pt x="74" y="11"/>
                  </a:cubicBezTo>
                  <a:cubicBezTo>
                    <a:pt x="75" y="12"/>
                    <a:pt x="76" y="14"/>
                    <a:pt x="76" y="15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86" y="8"/>
                    <a:pt x="86" y="8"/>
                    <a:pt x="86" y="8"/>
                  </a:cubicBezTo>
                  <a:cubicBezTo>
                    <a:pt x="78" y="18"/>
                    <a:pt x="78" y="18"/>
                    <a:pt x="78" y="18"/>
                  </a:cubicBezTo>
                  <a:cubicBezTo>
                    <a:pt x="79" y="20"/>
                    <a:pt x="79" y="24"/>
                    <a:pt x="77" y="28"/>
                  </a:cubicBezTo>
                  <a:cubicBezTo>
                    <a:pt x="83" y="22"/>
                    <a:pt x="83" y="22"/>
                    <a:pt x="83" y="22"/>
                  </a:cubicBezTo>
                  <a:cubicBezTo>
                    <a:pt x="89" y="27"/>
                    <a:pt x="89" y="27"/>
                    <a:pt x="89" y="27"/>
                  </a:cubicBezTo>
                  <a:cubicBezTo>
                    <a:pt x="72" y="46"/>
                    <a:pt x="72" y="46"/>
                    <a:pt x="72" y="46"/>
                  </a:cubicBezTo>
                  <a:cubicBezTo>
                    <a:pt x="66" y="41"/>
                    <a:pt x="66" y="41"/>
                    <a:pt x="66" y="41"/>
                  </a:cubicBezTo>
                  <a:cubicBezTo>
                    <a:pt x="71" y="35"/>
                    <a:pt x="73" y="29"/>
                    <a:pt x="72" y="24"/>
                  </a:cubicBezTo>
                  <a:cubicBezTo>
                    <a:pt x="52" y="45"/>
                    <a:pt x="52" y="45"/>
                    <a:pt x="52" y="45"/>
                  </a:cubicBezTo>
                  <a:cubicBezTo>
                    <a:pt x="57" y="55"/>
                    <a:pt x="56" y="65"/>
                    <a:pt x="48" y="74"/>
                  </a:cubicBezTo>
                  <a:close/>
                  <a:moveTo>
                    <a:pt x="64" y="14"/>
                  </a:moveTo>
                  <a:cubicBezTo>
                    <a:pt x="59" y="13"/>
                    <a:pt x="54" y="14"/>
                    <a:pt x="50" y="19"/>
                  </a:cubicBezTo>
                  <a:cubicBezTo>
                    <a:pt x="47" y="23"/>
                    <a:pt x="46" y="27"/>
                    <a:pt x="47" y="32"/>
                  </a:cubicBezTo>
                  <a:lnTo>
                    <a:pt x="64" y="14"/>
                  </a:lnTo>
                  <a:close/>
                  <a:moveTo>
                    <a:pt x="43" y="51"/>
                  </a:moveTo>
                  <a:cubicBezTo>
                    <a:pt x="43" y="49"/>
                    <a:pt x="42" y="47"/>
                    <a:pt x="40" y="44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20" y="68"/>
                    <a:pt x="21" y="69"/>
                    <a:pt x="22" y="70"/>
                  </a:cubicBezTo>
                  <a:cubicBezTo>
                    <a:pt x="22" y="71"/>
                    <a:pt x="23" y="71"/>
                    <a:pt x="24" y="72"/>
                  </a:cubicBezTo>
                  <a:lnTo>
                    <a:pt x="43" y="51"/>
                  </a:lnTo>
                  <a:close/>
                  <a:moveTo>
                    <a:pt x="71" y="21"/>
                  </a:moveTo>
                  <a:cubicBezTo>
                    <a:pt x="70" y="19"/>
                    <a:pt x="69" y="18"/>
                    <a:pt x="68" y="16"/>
                  </a:cubicBezTo>
                  <a:cubicBezTo>
                    <a:pt x="67" y="16"/>
                    <a:pt x="67" y="16"/>
                    <a:pt x="67" y="1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9" y="36"/>
                    <a:pt x="49" y="37"/>
                    <a:pt x="49" y="38"/>
                  </a:cubicBezTo>
                  <a:cubicBezTo>
                    <a:pt x="50" y="39"/>
                    <a:pt x="50" y="40"/>
                    <a:pt x="51" y="41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51" y="42"/>
                    <a:pt x="51" y="42"/>
                    <a:pt x="51" y="42"/>
                  </a:cubicBezTo>
                  <a:lnTo>
                    <a:pt x="71" y="21"/>
                  </a:lnTo>
                  <a:close/>
                  <a:moveTo>
                    <a:pt x="40" y="68"/>
                  </a:moveTo>
                  <a:cubicBezTo>
                    <a:pt x="44" y="64"/>
                    <a:pt x="45" y="59"/>
                    <a:pt x="44" y="54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31" y="74"/>
                    <a:pt x="36" y="73"/>
                    <a:pt x="40" y="68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327"/>
            <p:cNvSpPr/>
            <p:nvPr/>
          </p:nvSpPr>
          <p:spPr>
            <a:xfrm>
              <a:off x="8818560" y="1636560"/>
              <a:ext cx="163440" cy="160200"/>
            </a:xfrm>
            <a:custGeom>
              <a:avLst/>
              <a:gdLst/>
              <a:ahLst/>
              <a:rect l="l" t="t" r="r" b="b"/>
              <a:pathLst>
                <a:path w="90" h="88">
                  <a:moveTo>
                    <a:pt x="49" y="74"/>
                  </a:moveTo>
                  <a:cubicBezTo>
                    <a:pt x="45" y="78"/>
                    <a:pt x="40" y="81"/>
                    <a:pt x="35" y="82"/>
                  </a:cubicBezTo>
                  <a:cubicBezTo>
                    <a:pt x="30" y="83"/>
                    <a:pt x="26" y="82"/>
                    <a:pt x="21" y="79"/>
                  </a:cubicBezTo>
                  <a:cubicBezTo>
                    <a:pt x="14" y="88"/>
                    <a:pt x="14" y="88"/>
                    <a:pt x="14" y="88"/>
                  </a:cubicBezTo>
                  <a:cubicBezTo>
                    <a:pt x="12" y="86"/>
                    <a:pt x="12" y="86"/>
                    <a:pt x="12" y="86"/>
                  </a:cubicBezTo>
                  <a:cubicBezTo>
                    <a:pt x="19" y="78"/>
                    <a:pt x="19" y="78"/>
                    <a:pt x="19" y="78"/>
                  </a:cubicBezTo>
                  <a:cubicBezTo>
                    <a:pt x="19" y="78"/>
                    <a:pt x="18" y="77"/>
                    <a:pt x="17" y="76"/>
                  </a:cubicBezTo>
                  <a:cubicBezTo>
                    <a:pt x="17" y="76"/>
                    <a:pt x="16" y="75"/>
                    <a:pt x="16" y="74"/>
                  </a:cubicBezTo>
                  <a:cubicBezTo>
                    <a:pt x="15" y="74"/>
                    <a:pt x="15" y="73"/>
                    <a:pt x="14" y="73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13" y="70"/>
                    <a:pt x="13" y="70"/>
                    <a:pt x="13" y="70"/>
                  </a:cubicBezTo>
                  <a:cubicBezTo>
                    <a:pt x="11" y="66"/>
                    <a:pt x="11" y="62"/>
                    <a:pt x="13" y="58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2" y="48"/>
                    <a:pt x="20" y="51"/>
                    <a:pt x="19" y="54"/>
                  </a:cubicBezTo>
                  <a:cubicBezTo>
                    <a:pt x="18" y="58"/>
                    <a:pt x="18" y="61"/>
                    <a:pt x="19" y="64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36" y="29"/>
                    <a:pt x="37" y="20"/>
                    <a:pt x="43" y="13"/>
                  </a:cubicBezTo>
                  <a:cubicBezTo>
                    <a:pt x="47" y="9"/>
                    <a:pt x="52" y="6"/>
                    <a:pt x="57" y="5"/>
                  </a:cubicBezTo>
                  <a:cubicBezTo>
                    <a:pt x="61" y="4"/>
                    <a:pt x="66" y="5"/>
                    <a:pt x="70" y="8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80" y="2"/>
                    <a:pt x="80" y="2"/>
                    <a:pt x="80" y="2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73" y="10"/>
                    <a:pt x="74" y="10"/>
                    <a:pt x="75" y="11"/>
                  </a:cubicBezTo>
                  <a:cubicBezTo>
                    <a:pt x="76" y="12"/>
                    <a:pt x="77" y="14"/>
                    <a:pt x="77" y="15"/>
                  </a:cubicBezTo>
                  <a:cubicBezTo>
                    <a:pt x="85" y="7"/>
                    <a:pt x="85" y="7"/>
                    <a:pt x="85" y="7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78" y="18"/>
                    <a:pt x="78" y="18"/>
                    <a:pt x="78" y="18"/>
                  </a:cubicBezTo>
                  <a:cubicBezTo>
                    <a:pt x="80" y="20"/>
                    <a:pt x="80" y="24"/>
                    <a:pt x="78" y="28"/>
                  </a:cubicBezTo>
                  <a:cubicBezTo>
                    <a:pt x="84" y="22"/>
                    <a:pt x="84" y="22"/>
                    <a:pt x="84" y="22"/>
                  </a:cubicBezTo>
                  <a:cubicBezTo>
                    <a:pt x="90" y="27"/>
                    <a:pt x="90" y="27"/>
                    <a:pt x="90" y="27"/>
                  </a:cubicBezTo>
                  <a:cubicBezTo>
                    <a:pt x="73" y="46"/>
                    <a:pt x="73" y="46"/>
                    <a:pt x="73" y="46"/>
                  </a:cubicBezTo>
                  <a:cubicBezTo>
                    <a:pt x="67" y="41"/>
                    <a:pt x="67" y="41"/>
                    <a:pt x="67" y="41"/>
                  </a:cubicBezTo>
                  <a:cubicBezTo>
                    <a:pt x="72" y="35"/>
                    <a:pt x="74" y="29"/>
                    <a:pt x="73" y="24"/>
                  </a:cubicBezTo>
                  <a:cubicBezTo>
                    <a:pt x="53" y="45"/>
                    <a:pt x="53" y="45"/>
                    <a:pt x="53" y="45"/>
                  </a:cubicBezTo>
                  <a:cubicBezTo>
                    <a:pt x="58" y="56"/>
                    <a:pt x="57" y="65"/>
                    <a:pt x="49" y="74"/>
                  </a:cubicBezTo>
                  <a:close/>
                  <a:moveTo>
                    <a:pt x="64" y="14"/>
                  </a:moveTo>
                  <a:cubicBezTo>
                    <a:pt x="60" y="13"/>
                    <a:pt x="55" y="14"/>
                    <a:pt x="51" y="19"/>
                  </a:cubicBezTo>
                  <a:cubicBezTo>
                    <a:pt x="48" y="23"/>
                    <a:pt x="47" y="27"/>
                    <a:pt x="48" y="32"/>
                  </a:cubicBezTo>
                  <a:lnTo>
                    <a:pt x="64" y="14"/>
                  </a:lnTo>
                  <a:close/>
                  <a:moveTo>
                    <a:pt x="44" y="51"/>
                  </a:moveTo>
                  <a:cubicBezTo>
                    <a:pt x="43" y="49"/>
                    <a:pt x="42" y="47"/>
                    <a:pt x="41" y="44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1" y="68"/>
                    <a:pt x="22" y="70"/>
                    <a:pt x="22" y="70"/>
                  </a:cubicBezTo>
                  <a:cubicBezTo>
                    <a:pt x="23" y="71"/>
                    <a:pt x="24" y="71"/>
                    <a:pt x="25" y="72"/>
                  </a:cubicBezTo>
                  <a:lnTo>
                    <a:pt x="44" y="51"/>
                  </a:lnTo>
                  <a:close/>
                  <a:moveTo>
                    <a:pt x="72" y="21"/>
                  </a:moveTo>
                  <a:cubicBezTo>
                    <a:pt x="71" y="19"/>
                    <a:pt x="70" y="18"/>
                    <a:pt x="68" y="16"/>
                  </a:cubicBezTo>
                  <a:cubicBezTo>
                    <a:pt x="68" y="16"/>
                    <a:pt x="68" y="16"/>
                    <a:pt x="67" y="1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36"/>
                    <a:pt x="50" y="37"/>
                    <a:pt x="50" y="38"/>
                  </a:cubicBezTo>
                  <a:cubicBezTo>
                    <a:pt x="51" y="39"/>
                    <a:pt x="51" y="40"/>
                    <a:pt x="52" y="42"/>
                  </a:cubicBezTo>
                  <a:cubicBezTo>
                    <a:pt x="52" y="42"/>
                    <a:pt x="52" y="42"/>
                    <a:pt x="52" y="42"/>
                  </a:cubicBezTo>
                  <a:cubicBezTo>
                    <a:pt x="52" y="42"/>
                    <a:pt x="52" y="42"/>
                    <a:pt x="52" y="42"/>
                  </a:cubicBezTo>
                  <a:lnTo>
                    <a:pt x="72" y="21"/>
                  </a:lnTo>
                  <a:close/>
                  <a:moveTo>
                    <a:pt x="40" y="68"/>
                  </a:moveTo>
                  <a:cubicBezTo>
                    <a:pt x="45" y="64"/>
                    <a:pt x="46" y="59"/>
                    <a:pt x="45" y="54"/>
                  </a:cubicBezTo>
                  <a:cubicBezTo>
                    <a:pt x="27" y="73"/>
                    <a:pt x="27" y="73"/>
                    <a:pt x="27" y="73"/>
                  </a:cubicBezTo>
                  <a:cubicBezTo>
                    <a:pt x="32" y="74"/>
                    <a:pt x="36" y="73"/>
                    <a:pt x="4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8" name="组合 30"/>
          <p:cNvGrpSpPr/>
          <p:nvPr/>
        </p:nvGrpSpPr>
        <p:grpSpPr>
          <a:xfrm>
            <a:off x="9147240" y="2452680"/>
            <a:ext cx="436320" cy="338040"/>
            <a:chOff x="9147240" y="2452680"/>
            <a:chExt cx="436320" cy="338040"/>
          </a:xfrm>
        </p:grpSpPr>
        <p:sp>
          <p:nvSpPr>
            <p:cNvPr id="1949" name="Freeform 328"/>
            <p:cNvSpPr/>
            <p:nvPr/>
          </p:nvSpPr>
          <p:spPr>
            <a:xfrm>
              <a:off x="9171000" y="2452680"/>
              <a:ext cx="396720" cy="239760"/>
            </a:xfrm>
            <a:custGeom>
              <a:avLst/>
              <a:gdLst/>
              <a:ahLst/>
              <a:rect l="l" t="t" r="r" b="b"/>
              <a:pathLst>
                <a:path w="218" h="132">
                  <a:moveTo>
                    <a:pt x="213" y="132"/>
                  </a:moveTo>
                  <a:cubicBezTo>
                    <a:pt x="218" y="80"/>
                    <a:pt x="218" y="80"/>
                    <a:pt x="218" y="80"/>
                  </a:cubicBezTo>
                  <a:cubicBezTo>
                    <a:pt x="218" y="80"/>
                    <a:pt x="208" y="29"/>
                    <a:pt x="118" y="15"/>
                  </a:cubicBezTo>
                  <a:cubicBezTo>
                    <a:pt x="27" y="0"/>
                    <a:pt x="0" y="54"/>
                    <a:pt x="0" y="54"/>
                  </a:cubicBezTo>
                  <a:cubicBezTo>
                    <a:pt x="0" y="94"/>
                    <a:pt x="0" y="94"/>
                    <a:pt x="0" y="94"/>
                  </a:cubicBezTo>
                  <a:lnTo>
                    <a:pt x="213" y="13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329"/>
            <p:cNvSpPr/>
            <p:nvPr/>
          </p:nvSpPr>
          <p:spPr>
            <a:xfrm>
              <a:off x="9147240" y="2506680"/>
              <a:ext cx="436320" cy="284040"/>
            </a:xfrm>
            <a:custGeom>
              <a:avLst/>
              <a:gdLst/>
              <a:ahLst/>
              <a:rect l="l" t="t" r="r" b="b"/>
              <a:pathLst>
                <a:path w="239" h="156">
                  <a:moveTo>
                    <a:pt x="194" y="36"/>
                  </a:moveTo>
                  <a:cubicBezTo>
                    <a:pt x="237" y="67"/>
                    <a:pt x="239" y="111"/>
                    <a:pt x="199" y="134"/>
                  </a:cubicBezTo>
                  <a:cubicBezTo>
                    <a:pt x="161" y="156"/>
                    <a:pt x="95" y="150"/>
                    <a:pt x="50" y="119"/>
                  </a:cubicBezTo>
                  <a:cubicBezTo>
                    <a:pt x="5" y="89"/>
                    <a:pt x="0" y="45"/>
                    <a:pt x="40" y="22"/>
                  </a:cubicBezTo>
                  <a:cubicBezTo>
                    <a:pt x="81" y="0"/>
                    <a:pt x="150" y="6"/>
                    <a:pt x="194" y="36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330"/>
            <p:cNvSpPr/>
            <p:nvPr/>
          </p:nvSpPr>
          <p:spPr>
            <a:xfrm>
              <a:off x="9180360" y="2652840"/>
              <a:ext cx="72720" cy="187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8"/>
                  </a:moveTo>
                  <a:cubicBezTo>
                    <a:pt x="35" y="0"/>
                    <a:pt x="35" y="0"/>
                    <a:pt x="35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5"/>
                    <a:pt x="2" y="8"/>
                    <a:pt x="4" y="11"/>
                  </a:cubicBezTo>
                  <a:lnTo>
                    <a:pt x="40" y="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331"/>
            <p:cNvSpPr/>
            <p:nvPr/>
          </p:nvSpPr>
          <p:spPr>
            <a:xfrm>
              <a:off x="9269280" y="2706840"/>
              <a:ext cx="47520" cy="442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6" y="5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3" y="21"/>
                    <a:pt x="7" y="23"/>
                    <a:pt x="11" y="24"/>
                  </a:cubicBezTo>
                  <a:lnTo>
                    <a:pt x="26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332"/>
            <p:cNvSpPr/>
            <p:nvPr/>
          </p:nvSpPr>
          <p:spPr>
            <a:xfrm>
              <a:off x="9213840" y="2681280"/>
              <a:ext cx="64800" cy="3492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6" y="7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3" y="14"/>
                    <a:pt x="6" y="17"/>
                    <a:pt x="9" y="19"/>
                  </a:cubicBezTo>
                  <a:lnTo>
                    <a:pt x="36" y="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333"/>
            <p:cNvSpPr/>
            <p:nvPr/>
          </p:nvSpPr>
          <p:spPr>
            <a:xfrm>
              <a:off x="9337680" y="2725920"/>
              <a:ext cx="25200" cy="442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14" y="2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5" y="24"/>
                    <a:pt x="9" y="25"/>
                    <a:pt x="13" y="25"/>
                  </a:cubicBezTo>
                  <a:lnTo>
                    <a:pt x="14" y="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334"/>
            <p:cNvSpPr/>
            <p:nvPr/>
          </p:nvSpPr>
          <p:spPr>
            <a:xfrm>
              <a:off x="9428040" y="2716200"/>
              <a:ext cx="69840" cy="4752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27" y="26"/>
                  </a:moveTo>
                  <a:cubicBezTo>
                    <a:pt x="31" y="25"/>
                    <a:pt x="34" y="24"/>
                    <a:pt x="38" y="23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27" y="2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335"/>
            <p:cNvSpPr/>
            <p:nvPr/>
          </p:nvSpPr>
          <p:spPr>
            <a:xfrm>
              <a:off x="9171000" y="2608200"/>
              <a:ext cx="74520" cy="28440"/>
            </a:xfrm>
            <a:custGeom>
              <a:avLst/>
              <a:gdLst/>
              <a:ahLst/>
              <a:rect l="l" t="t" r="r" b="b"/>
              <a:pathLst>
                <a:path w="41" h="15">
                  <a:moveTo>
                    <a:pt x="40" y="15"/>
                  </a:moveTo>
                  <a:cubicBezTo>
                    <a:pt x="41" y="7"/>
                    <a:pt x="41" y="7"/>
                    <a:pt x="41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3"/>
                    <a:pt x="0" y="6"/>
                    <a:pt x="0" y="8"/>
                  </a:cubicBezTo>
                  <a:lnTo>
                    <a:pt x="40" y="1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336"/>
            <p:cNvSpPr/>
            <p:nvPr/>
          </p:nvSpPr>
          <p:spPr>
            <a:xfrm>
              <a:off x="9387000" y="2728800"/>
              <a:ext cx="45720" cy="457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25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7" y="25"/>
                    <a:pt x="22" y="25"/>
                    <a:pt x="26" y="25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337"/>
            <p:cNvSpPr/>
            <p:nvPr/>
          </p:nvSpPr>
          <p:spPr>
            <a:xfrm>
              <a:off x="9182160" y="2571480"/>
              <a:ext cx="80640" cy="4104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38" y="22"/>
                  </a:moveTo>
                  <a:cubicBezTo>
                    <a:pt x="44" y="15"/>
                    <a:pt x="44" y="15"/>
                    <a:pt x="44" y="15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2"/>
                    <a:pt x="1" y="4"/>
                    <a:pt x="0" y="7"/>
                  </a:cubicBezTo>
                  <a:lnTo>
                    <a:pt x="38" y="2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338"/>
            <p:cNvSpPr/>
            <p:nvPr/>
          </p:nvSpPr>
          <p:spPr>
            <a:xfrm>
              <a:off x="9441000" y="2576520"/>
              <a:ext cx="80640" cy="442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18"/>
                  </a:moveTo>
                  <a:cubicBezTo>
                    <a:pt x="9" y="25"/>
                    <a:pt x="9" y="25"/>
                    <a:pt x="9" y="25"/>
                  </a:cubicBezTo>
                  <a:cubicBezTo>
                    <a:pt x="44" y="7"/>
                    <a:pt x="44" y="7"/>
                    <a:pt x="44" y="7"/>
                  </a:cubicBezTo>
                  <a:cubicBezTo>
                    <a:pt x="41" y="4"/>
                    <a:pt x="38" y="2"/>
                    <a:pt x="35" y="0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339"/>
            <p:cNvSpPr/>
            <p:nvPr/>
          </p:nvSpPr>
          <p:spPr>
            <a:xfrm>
              <a:off x="9478800" y="2665440"/>
              <a:ext cx="82440" cy="2700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45" y="12"/>
                    <a:pt x="45" y="9"/>
                    <a:pt x="45" y="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340"/>
            <p:cNvSpPr/>
            <p:nvPr/>
          </p:nvSpPr>
          <p:spPr>
            <a:xfrm>
              <a:off x="9209160" y="2544480"/>
              <a:ext cx="75960" cy="5076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9" y="0"/>
                  </a:moveTo>
                  <a:cubicBezTo>
                    <a:pt x="8" y="0"/>
                    <a:pt x="7" y="1"/>
                    <a:pt x="6" y="1"/>
                  </a:cubicBezTo>
                  <a:cubicBezTo>
                    <a:pt x="4" y="3"/>
                    <a:pt x="2" y="4"/>
                    <a:pt x="0" y="5"/>
                  </a:cubicBezTo>
                  <a:cubicBezTo>
                    <a:pt x="33" y="28"/>
                    <a:pt x="33" y="28"/>
                    <a:pt x="33" y="28"/>
                  </a:cubicBezTo>
                  <a:cubicBezTo>
                    <a:pt x="42" y="23"/>
                    <a:pt x="42" y="23"/>
                    <a:pt x="42" y="23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341"/>
            <p:cNvSpPr/>
            <p:nvPr/>
          </p:nvSpPr>
          <p:spPr>
            <a:xfrm>
              <a:off x="9461520" y="2693880"/>
              <a:ext cx="80640" cy="4284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5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41" y="21"/>
                    <a:pt x="43" y="18"/>
                    <a:pt x="45" y="16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342"/>
            <p:cNvSpPr/>
            <p:nvPr/>
          </p:nvSpPr>
          <p:spPr>
            <a:xfrm>
              <a:off x="9468000" y="2624040"/>
              <a:ext cx="87120" cy="2700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0" y="7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7" y="6"/>
                    <a:pt x="46" y="3"/>
                    <a:pt x="44" y="0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343"/>
            <p:cNvSpPr/>
            <p:nvPr/>
          </p:nvSpPr>
          <p:spPr>
            <a:xfrm>
              <a:off x="9271080" y="2525760"/>
              <a:ext cx="58680" cy="5544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0" y="31"/>
                  </a:moveTo>
                  <a:cubicBezTo>
                    <a:pt x="32" y="29"/>
                    <a:pt x="32" y="29"/>
                    <a:pt x="32" y="29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4" y="1"/>
                    <a:pt x="0" y="2"/>
                  </a:cubicBezTo>
                  <a:lnTo>
                    <a:pt x="20" y="3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344"/>
            <p:cNvSpPr/>
            <p:nvPr/>
          </p:nvSpPr>
          <p:spPr>
            <a:xfrm>
              <a:off x="9350280" y="2522520"/>
              <a:ext cx="26640" cy="586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32"/>
                  </a:moveTo>
                  <a:cubicBezTo>
                    <a:pt x="14" y="1"/>
                    <a:pt x="14" y="1"/>
                    <a:pt x="14" y="1"/>
                  </a:cubicBezTo>
                  <a:cubicBezTo>
                    <a:pt x="10" y="1"/>
                    <a:pt x="5" y="0"/>
                    <a:pt x="0" y="0"/>
                  </a:cubicBezTo>
                  <a:cubicBezTo>
                    <a:pt x="2" y="30"/>
                    <a:pt x="2" y="30"/>
                    <a:pt x="2" y="30"/>
                  </a:cubicBezTo>
                  <a:lnTo>
                    <a:pt x="15" y="3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345"/>
            <p:cNvSpPr/>
            <p:nvPr/>
          </p:nvSpPr>
          <p:spPr>
            <a:xfrm>
              <a:off x="9399600" y="2539800"/>
              <a:ext cx="55440" cy="5544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5"/>
                  </a:moveTo>
                  <a:cubicBezTo>
                    <a:pt x="27" y="3"/>
                    <a:pt x="23" y="1"/>
                    <a:pt x="19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3" y="31"/>
                    <a:pt x="13" y="31"/>
                    <a:pt x="13" y="31"/>
                  </a:cubicBezTo>
                  <a:lnTo>
                    <a:pt x="31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346"/>
            <p:cNvSpPr/>
            <p:nvPr/>
          </p:nvSpPr>
          <p:spPr>
            <a:xfrm>
              <a:off x="9200880" y="2539800"/>
              <a:ext cx="330120" cy="2174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47" y="28"/>
                  </a:moveTo>
                  <a:cubicBezTo>
                    <a:pt x="180" y="52"/>
                    <a:pt x="182" y="85"/>
                    <a:pt x="152" y="102"/>
                  </a:cubicBezTo>
                  <a:cubicBezTo>
                    <a:pt x="122" y="120"/>
                    <a:pt x="72" y="115"/>
                    <a:pt x="38" y="91"/>
                  </a:cubicBezTo>
                  <a:cubicBezTo>
                    <a:pt x="4" y="68"/>
                    <a:pt x="0" y="35"/>
                    <a:pt x="31" y="18"/>
                  </a:cubicBezTo>
                  <a:cubicBezTo>
                    <a:pt x="61" y="0"/>
                    <a:pt x="114" y="5"/>
                    <a:pt x="147" y="28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347"/>
            <p:cNvSpPr/>
            <p:nvPr/>
          </p:nvSpPr>
          <p:spPr>
            <a:xfrm>
              <a:off x="9264600" y="2577960"/>
              <a:ext cx="212760" cy="152280"/>
            </a:xfrm>
            <a:custGeom>
              <a:avLst/>
              <a:gdLst/>
              <a:ahLst/>
              <a:rect l="l" t="t" r="r" b="b"/>
              <a:pathLst>
                <a:path w="117" h="84">
                  <a:moveTo>
                    <a:pt x="102" y="42"/>
                  </a:moveTo>
                  <a:cubicBezTo>
                    <a:pt x="107" y="46"/>
                    <a:pt x="111" y="50"/>
                    <a:pt x="111" y="55"/>
                  </a:cubicBezTo>
                  <a:cubicBezTo>
                    <a:pt x="112" y="59"/>
                    <a:pt x="111" y="63"/>
                    <a:pt x="107" y="67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4" y="76"/>
                    <a:pt x="114" y="76"/>
                    <a:pt x="114" y="76"/>
                  </a:cubicBezTo>
                  <a:cubicBezTo>
                    <a:pt x="104" y="69"/>
                    <a:pt x="104" y="69"/>
                    <a:pt x="104" y="69"/>
                  </a:cubicBezTo>
                  <a:cubicBezTo>
                    <a:pt x="104" y="69"/>
                    <a:pt x="103" y="69"/>
                    <a:pt x="101" y="70"/>
                  </a:cubicBezTo>
                  <a:cubicBezTo>
                    <a:pt x="101" y="71"/>
                    <a:pt x="100" y="71"/>
                    <a:pt x="99" y="71"/>
                  </a:cubicBezTo>
                  <a:cubicBezTo>
                    <a:pt x="98" y="72"/>
                    <a:pt x="97" y="72"/>
                    <a:pt x="97" y="72"/>
                  </a:cubicBezTo>
                  <a:cubicBezTo>
                    <a:pt x="107" y="80"/>
                    <a:pt x="107" y="80"/>
                    <a:pt x="107" y="80"/>
                  </a:cubicBezTo>
                  <a:cubicBezTo>
                    <a:pt x="104" y="82"/>
                    <a:pt x="104" y="82"/>
                    <a:pt x="104" y="82"/>
                  </a:cubicBezTo>
                  <a:cubicBezTo>
                    <a:pt x="92" y="73"/>
                    <a:pt x="92" y="73"/>
                    <a:pt x="92" y="73"/>
                  </a:cubicBezTo>
                  <a:cubicBezTo>
                    <a:pt x="87" y="74"/>
                    <a:pt x="81" y="74"/>
                    <a:pt x="76" y="72"/>
                  </a:cubicBezTo>
                  <a:cubicBezTo>
                    <a:pt x="85" y="79"/>
                    <a:pt x="85" y="79"/>
                    <a:pt x="85" y="79"/>
                  </a:cubicBezTo>
                  <a:cubicBezTo>
                    <a:pt x="77" y="84"/>
                    <a:pt x="77" y="84"/>
                    <a:pt x="77" y="84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63" y="63"/>
                    <a:pt x="67" y="65"/>
                    <a:pt x="71" y="66"/>
                  </a:cubicBezTo>
                  <a:cubicBezTo>
                    <a:pt x="76" y="68"/>
                    <a:pt x="81" y="68"/>
                    <a:pt x="84" y="68"/>
                  </a:cubicBezTo>
                  <a:cubicBezTo>
                    <a:pt x="55" y="47"/>
                    <a:pt x="55" y="47"/>
                    <a:pt x="55" y="47"/>
                  </a:cubicBezTo>
                  <a:cubicBezTo>
                    <a:pt x="38" y="49"/>
                    <a:pt x="25" y="47"/>
                    <a:pt x="16" y="41"/>
                  </a:cubicBezTo>
                  <a:cubicBezTo>
                    <a:pt x="10" y="37"/>
                    <a:pt x="7" y="33"/>
                    <a:pt x="6" y="29"/>
                  </a:cubicBezTo>
                  <a:cubicBezTo>
                    <a:pt x="5" y="24"/>
                    <a:pt x="6" y="20"/>
                    <a:pt x="11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4"/>
                    <a:pt x="15" y="14"/>
                    <a:pt x="16" y="13"/>
                  </a:cubicBezTo>
                  <a:cubicBezTo>
                    <a:pt x="18" y="12"/>
                    <a:pt x="20" y="11"/>
                    <a:pt x="22" y="11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30" y="9"/>
                    <a:pt x="34" y="10"/>
                    <a:pt x="41" y="11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49" y="17"/>
                    <a:pt x="42" y="15"/>
                    <a:pt x="34" y="16"/>
                  </a:cubicBezTo>
                  <a:cubicBezTo>
                    <a:pt x="62" y="35"/>
                    <a:pt x="62" y="35"/>
                    <a:pt x="62" y="35"/>
                  </a:cubicBezTo>
                  <a:cubicBezTo>
                    <a:pt x="77" y="32"/>
                    <a:pt x="91" y="34"/>
                    <a:pt x="102" y="42"/>
                  </a:cubicBezTo>
                  <a:close/>
                  <a:moveTo>
                    <a:pt x="19" y="22"/>
                  </a:moveTo>
                  <a:cubicBezTo>
                    <a:pt x="17" y="27"/>
                    <a:pt x="19" y="31"/>
                    <a:pt x="25" y="35"/>
                  </a:cubicBezTo>
                  <a:cubicBezTo>
                    <a:pt x="30" y="38"/>
                    <a:pt x="36" y="39"/>
                    <a:pt x="43" y="39"/>
                  </a:cubicBezTo>
                  <a:lnTo>
                    <a:pt x="19" y="22"/>
                  </a:lnTo>
                  <a:close/>
                  <a:moveTo>
                    <a:pt x="69" y="44"/>
                  </a:moveTo>
                  <a:cubicBezTo>
                    <a:pt x="67" y="44"/>
                    <a:pt x="63" y="45"/>
                    <a:pt x="59" y="46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91" y="66"/>
                    <a:pt x="93" y="66"/>
                    <a:pt x="94" y="65"/>
                  </a:cubicBezTo>
                  <a:cubicBezTo>
                    <a:pt x="95" y="64"/>
                    <a:pt x="96" y="64"/>
                    <a:pt x="96" y="63"/>
                  </a:cubicBezTo>
                  <a:lnTo>
                    <a:pt x="69" y="44"/>
                  </a:lnTo>
                  <a:close/>
                  <a:moveTo>
                    <a:pt x="29" y="16"/>
                  </a:moveTo>
                  <a:cubicBezTo>
                    <a:pt x="27" y="17"/>
                    <a:pt x="25" y="18"/>
                    <a:pt x="23" y="19"/>
                  </a:cubicBezTo>
                  <a:cubicBezTo>
                    <a:pt x="22" y="19"/>
                    <a:pt x="22" y="20"/>
                    <a:pt x="22" y="2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8"/>
                    <a:pt x="50" y="38"/>
                    <a:pt x="52" y="37"/>
                  </a:cubicBezTo>
                  <a:cubicBezTo>
                    <a:pt x="53" y="37"/>
                    <a:pt x="55" y="37"/>
                    <a:pt x="57" y="36"/>
                  </a:cubicBezTo>
                  <a:cubicBezTo>
                    <a:pt x="57" y="36"/>
                    <a:pt x="57" y="36"/>
                    <a:pt x="57" y="36"/>
                  </a:cubicBezTo>
                  <a:cubicBezTo>
                    <a:pt x="57" y="36"/>
                    <a:pt x="58" y="36"/>
                    <a:pt x="58" y="36"/>
                  </a:cubicBezTo>
                  <a:lnTo>
                    <a:pt x="29" y="16"/>
                  </a:lnTo>
                  <a:close/>
                  <a:moveTo>
                    <a:pt x="93" y="49"/>
                  </a:moveTo>
                  <a:cubicBezTo>
                    <a:pt x="87" y="44"/>
                    <a:pt x="81" y="43"/>
                    <a:pt x="74" y="44"/>
                  </a:cubicBezTo>
                  <a:cubicBezTo>
                    <a:pt x="98" y="61"/>
                    <a:pt x="98" y="61"/>
                    <a:pt x="98" y="61"/>
                  </a:cubicBezTo>
                  <a:cubicBezTo>
                    <a:pt x="100" y="57"/>
                    <a:pt x="99" y="53"/>
                    <a:pt x="93" y="49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348"/>
            <p:cNvSpPr/>
            <p:nvPr/>
          </p:nvSpPr>
          <p:spPr>
            <a:xfrm>
              <a:off x="9259920" y="2576520"/>
              <a:ext cx="214200" cy="150840"/>
            </a:xfrm>
            <a:custGeom>
              <a:avLst/>
              <a:gdLst/>
              <a:ahLst/>
              <a:rect l="l" t="t" r="r" b="b"/>
              <a:pathLst>
                <a:path w="117" h="83">
                  <a:moveTo>
                    <a:pt x="101" y="41"/>
                  </a:moveTo>
                  <a:cubicBezTo>
                    <a:pt x="107" y="45"/>
                    <a:pt x="110" y="49"/>
                    <a:pt x="111" y="54"/>
                  </a:cubicBezTo>
                  <a:cubicBezTo>
                    <a:pt x="112" y="58"/>
                    <a:pt x="110" y="62"/>
                    <a:pt x="106" y="66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4" y="75"/>
                    <a:pt x="114" y="75"/>
                    <a:pt x="114" y="75"/>
                  </a:cubicBezTo>
                  <a:cubicBezTo>
                    <a:pt x="103" y="68"/>
                    <a:pt x="103" y="68"/>
                    <a:pt x="103" y="68"/>
                  </a:cubicBezTo>
                  <a:cubicBezTo>
                    <a:pt x="103" y="68"/>
                    <a:pt x="102" y="69"/>
                    <a:pt x="101" y="69"/>
                  </a:cubicBezTo>
                  <a:cubicBezTo>
                    <a:pt x="100" y="70"/>
                    <a:pt x="99" y="70"/>
                    <a:pt x="99" y="71"/>
                  </a:cubicBezTo>
                  <a:cubicBezTo>
                    <a:pt x="98" y="71"/>
                    <a:pt x="97" y="71"/>
                    <a:pt x="96" y="72"/>
                  </a:cubicBezTo>
                  <a:cubicBezTo>
                    <a:pt x="107" y="79"/>
                    <a:pt x="107" y="79"/>
                    <a:pt x="107" y="79"/>
                  </a:cubicBezTo>
                  <a:cubicBezTo>
                    <a:pt x="104" y="81"/>
                    <a:pt x="104" y="81"/>
                    <a:pt x="104" y="81"/>
                  </a:cubicBezTo>
                  <a:cubicBezTo>
                    <a:pt x="92" y="73"/>
                    <a:pt x="92" y="73"/>
                    <a:pt x="92" y="73"/>
                  </a:cubicBezTo>
                  <a:cubicBezTo>
                    <a:pt x="86" y="74"/>
                    <a:pt x="81" y="73"/>
                    <a:pt x="75" y="71"/>
                  </a:cubicBezTo>
                  <a:cubicBezTo>
                    <a:pt x="85" y="78"/>
                    <a:pt x="85" y="78"/>
                    <a:pt x="85" y="78"/>
                  </a:cubicBezTo>
                  <a:cubicBezTo>
                    <a:pt x="76" y="83"/>
                    <a:pt x="76" y="83"/>
                    <a:pt x="76" y="83"/>
                  </a:cubicBezTo>
                  <a:cubicBezTo>
                    <a:pt x="51" y="65"/>
                    <a:pt x="51" y="65"/>
                    <a:pt x="51" y="65"/>
                  </a:cubicBezTo>
                  <a:cubicBezTo>
                    <a:pt x="59" y="60"/>
                    <a:pt x="59" y="60"/>
                    <a:pt x="59" y="60"/>
                  </a:cubicBezTo>
                  <a:cubicBezTo>
                    <a:pt x="63" y="62"/>
                    <a:pt x="67" y="64"/>
                    <a:pt x="71" y="66"/>
                  </a:cubicBezTo>
                  <a:cubicBezTo>
                    <a:pt x="76" y="67"/>
                    <a:pt x="80" y="68"/>
                    <a:pt x="84" y="67"/>
                  </a:cubicBezTo>
                  <a:cubicBezTo>
                    <a:pt x="54" y="46"/>
                    <a:pt x="54" y="46"/>
                    <a:pt x="54" y="46"/>
                  </a:cubicBezTo>
                  <a:cubicBezTo>
                    <a:pt x="38" y="49"/>
                    <a:pt x="25" y="47"/>
                    <a:pt x="16" y="41"/>
                  </a:cubicBezTo>
                  <a:cubicBezTo>
                    <a:pt x="10" y="37"/>
                    <a:pt x="6" y="32"/>
                    <a:pt x="5" y="28"/>
                  </a:cubicBezTo>
                  <a:cubicBezTo>
                    <a:pt x="4" y="23"/>
                    <a:pt x="6" y="19"/>
                    <a:pt x="10" y="16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4" y="14"/>
                    <a:pt x="14" y="13"/>
                    <a:pt x="16" y="12"/>
                  </a:cubicBezTo>
                  <a:cubicBezTo>
                    <a:pt x="18" y="11"/>
                    <a:pt x="19" y="11"/>
                    <a:pt x="21" y="1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8"/>
                    <a:pt x="34" y="9"/>
                    <a:pt x="40" y="11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49" y="17"/>
                    <a:pt x="41" y="14"/>
                    <a:pt x="33" y="15"/>
                  </a:cubicBezTo>
                  <a:cubicBezTo>
                    <a:pt x="62" y="35"/>
                    <a:pt x="62" y="35"/>
                    <a:pt x="62" y="35"/>
                  </a:cubicBezTo>
                  <a:cubicBezTo>
                    <a:pt x="77" y="31"/>
                    <a:pt x="90" y="33"/>
                    <a:pt x="101" y="41"/>
                  </a:cubicBezTo>
                  <a:close/>
                  <a:moveTo>
                    <a:pt x="19" y="22"/>
                  </a:moveTo>
                  <a:cubicBezTo>
                    <a:pt x="17" y="26"/>
                    <a:pt x="18" y="30"/>
                    <a:pt x="24" y="34"/>
                  </a:cubicBezTo>
                  <a:cubicBezTo>
                    <a:pt x="29" y="37"/>
                    <a:pt x="35" y="39"/>
                    <a:pt x="42" y="38"/>
                  </a:cubicBezTo>
                  <a:lnTo>
                    <a:pt x="19" y="22"/>
                  </a:lnTo>
                  <a:close/>
                  <a:moveTo>
                    <a:pt x="69" y="43"/>
                  </a:moveTo>
                  <a:cubicBezTo>
                    <a:pt x="66" y="44"/>
                    <a:pt x="63" y="44"/>
                    <a:pt x="59" y="45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91" y="66"/>
                    <a:pt x="92" y="65"/>
                    <a:pt x="93" y="64"/>
                  </a:cubicBezTo>
                  <a:cubicBezTo>
                    <a:pt x="95" y="64"/>
                    <a:pt x="95" y="63"/>
                    <a:pt x="96" y="62"/>
                  </a:cubicBezTo>
                  <a:lnTo>
                    <a:pt x="69" y="43"/>
                  </a:lnTo>
                  <a:close/>
                  <a:moveTo>
                    <a:pt x="29" y="16"/>
                  </a:moveTo>
                  <a:cubicBezTo>
                    <a:pt x="27" y="16"/>
                    <a:pt x="24" y="17"/>
                    <a:pt x="22" y="18"/>
                  </a:cubicBezTo>
                  <a:cubicBezTo>
                    <a:pt x="22" y="19"/>
                    <a:pt x="21" y="19"/>
                    <a:pt x="21" y="19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49" y="37"/>
                    <a:pt x="50" y="37"/>
                    <a:pt x="51" y="37"/>
                  </a:cubicBezTo>
                  <a:cubicBezTo>
                    <a:pt x="53" y="36"/>
                    <a:pt x="54" y="36"/>
                    <a:pt x="56" y="36"/>
                  </a:cubicBezTo>
                  <a:cubicBezTo>
                    <a:pt x="57" y="36"/>
                    <a:pt x="57" y="36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lnTo>
                    <a:pt x="29" y="16"/>
                  </a:lnTo>
                  <a:close/>
                  <a:moveTo>
                    <a:pt x="93" y="48"/>
                  </a:moveTo>
                  <a:cubicBezTo>
                    <a:pt x="87" y="44"/>
                    <a:pt x="80" y="42"/>
                    <a:pt x="73" y="43"/>
                  </a:cubicBezTo>
                  <a:cubicBezTo>
                    <a:pt x="98" y="60"/>
                    <a:pt x="98" y="60"/>
                    <a:pt x="98" y="60"/>
                  </a:cubicBezTo>
                  <a:cubicBezTo>
                    <a:pt x="100" y="56"/>
                    <a:pt x="98" y="52"/>
                    <a:pt x="93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0" name="组合 28"/>
          <p:cNvGrpSpPr/>
          <p:nvPr/>
        </p:nvGrpSpPr>
        <p:grpSpPr>
          <a:xfrm>
            <a:off x="8982000" y="2998800"/>
            <a:ext cx="430200" cy="274680"/>
            <a:chOff x="8982000" y="2998800"/>
            <a:chExt cx="430200" cy="274680"/>
          </a:xfrm>
        </p:grpSpPr>
        <p:sp>
          <p:nvSpPr>
            <p:cNvPr id="1971" name="Freeform 349"/>
            <p:cNvSpPr/>
            <p:nvPr/>
          </p:nvSpPr>
          <p:spPr>
            <a:xfrm>
              <a:off x="9009000" y="3033720"/>
              <a:ext cx="401760" cy="239760"/>
            </a:xfrm>
            <a:custGeom>
              <a:avLst/>
              <a:gdLst/>
              <a:ahLst/>
              <a:rect l="l" t="t" r="r" b="b"/>
              <a:pathLst>
                <a:path w="220" h="132">
                  <a:moveTo>
                    <a:pt x="0" y="55"/>
                  </a:moveTo>
                  <a:cubicBezTo>
                    <a:pt x="4" y="93"/>
                    <a:pt x="4" y="93"/>
                    <a:pt x="4" y="93"/>
                  </a:cubicBezTo>
                  <a:cubicBezTo>
                    <a:pt x="4" y="93"/>
                    <a:pt x="27" y="132"/>
                    <a:pt x="120" y="111"/>
                  </a:cubicBezTo>
                  <a:cubicBezTo>
                    <a:pt x="208" y="92"/>
                    <a:pt x="220" y="32"/>
                    <a:pt x="220" y="32"/>
                  </a:cubicBezTo>
                  <a:cubicBezTo>
                    <a:pt x="204" y="0"/>
                    <a:pt x="204" y="0"/>
                    <a:pt x="204" y="0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350"/>
            <p:cNvSpPr/>
            <p:nvPr/>
          </p:nvSpPr>
          <p:spPr>
            <a:xfrm>
              <a:off x="8982000" y="2998800"/>
              <a:ext cx="430200" cy="211320"/>
            </a:xfrm>
            <a:custGeom>
              <a:avLst/>
              <a:gdLst/>
              <a:ahLst/>
              <a:rect l="l" t="t" r="r" b="b"/>
              <a:pathLst>
                <a:path w="236" h="116">
                  <a:moveTo>
                    <a:pt x="197" y="69"/>
                  </a:moveTo>
                  <a:cubicBezTo>
                    <a:pt x="161" y="100"/>
                    <a:pt x="102" y="116"/>
                    <a:pt x="61" y="106"/>
                  </a:cubicBezTo>
                  <a:cubicBezTo>
                    <a:pt x="17" y="98"/>
                    <a:pt x="0" y="74"/>
                    <a:pt x="27" y="49"/>
                  </a:cubicBezTo>
                  <a:cubicBezTo>
                    <a:pt x="55" y="23"/>
                    <a:pt x="125" y="0"/>
                    <a:pt x="178" y="1"/>
                  </a:cubicBezTo>
                  <a:cubicBezTo>
                    <a:pt x="229" y="4"/>
                    <a:pt x="236" y="36"/>
                    <a:pt x="197" y="69"/>
                  </a:cubicBezTo>
                  <a:close/>
                </a:path>
              </a:pathLst>
            </a:custGeom>
            <a:solidFill>
              <a:srgbClr val="e6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351"/>
            <p:cNvSpPr/>
            <p:nvPr/>
          </p:nvSpPr>
          <p:spPr>
            <a:xfrm>
              <a:off x="9090000" y="3039840"/>
              <a:ext cx="55440" cy="2844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19" y="15"/>
                  </a:moveTo>
                  <a:cubicBezTo>
                    <a:pt x="31" y="10"/>
                    <a:pt x="31" y="10"/>
                    <a:pt x="31" y="1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2"/>
                    <a:pt x="3" y="4"/>
                    <a:pt x="0" y="6"/>
                  </a:cubicBezTo>
                  <a:lnTo>
                    <a:pt x="19" y="1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352"/>
            <p:cNvSpPr/>
            <p:nvPr/>
          </p:nvSpPr>
          <p:spPr>
            <a:xfrm>
              <a:off x="9010440" y="3098880"/>
              <a:ext cx="68040" cy="1404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4" y="6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2" y="4"/>
                    <a:pt x="1" y="6"/>
                    <a:pt x="0" y="8"/>
                  </a:cubicBezTo>
                  <a:lnTo>
                    <a:pt x="34" y="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353"/>
            <p:cNvSpPr/>
            <p:nvPr/>
          </p:nvSpPr>
          <p:spPr>
            <a:xfrm>
              <a:off x="9036000" y="3071880"/>
              <a:ext cx="68040" cy="15840"/>
            </a:xfrm>
            <a:custGeom>
              <a:avLst/>
              <a:gdLst/>
              <a:ahLst/>
              <a:rect l="l" t="t" r="r" b="b"/>
              <a:pathLst>
                <a:path w="37" h="9">
                  <a:moveTo>
                    <a:pt x="30" y="9"/>
                  </a:moveTo>
                  <a:cubicBezTo>
                    <a:pt x="37" y="4"/>
                    <a:pt x="37" y="4"/>
                    <a:pt x="37" y="4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2"/>
                    <a:pt x="3" y="4"/>
                    <a:pt x="0" y="6"/>
                  </a:cubicBezTo>
                  <a:lnTo>
                    <a:pt x="30" y="9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354"/>
            <p:cNvSpPr/>
            <p:nvPr/>
          </p:nvSpPr>
          <p:spPr>
            <a:xfrm>
              <a:off x="9009000" y="3121200"/>
              <a:ext cx="63360" cy="2376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35" y="5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9"/>
                    <a:pt x="1" y="11"/>
                    <a:pt x="1" y="13"/>
                  </a:cubicBezTo>
                  <a:lnTo>
                    <a:pt x="35" y="5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7" name="Freeform 355"/>
            <p:cNvSpPr/>
            <p:nvPr/>
          </p:nvSpPr>
          <p:spPr>
            <a:xfrm>
              <a:off x="9063000" y="3151080"/>
              <a:ext cx="55440" cy="3636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18"/>
                  </a:moveTo>
                  <a:cubicBezTo>
                    <a:pt x="2" y="19"/>
                    <a:pt x="5" y="20"/>
                    <a:pt x="8" y="20"/>
                  </a:cubicBezTo>
                  <a:cubicBezTo>
                    <a:pt x="30" y="2"/>
                    <a:pt x="30" y="2"/>
                    <a:pt x="30" y="2"/>
                  </a:cubicBezTo>
                  <a:cubicBezTo>
                    <a:pt x="21" y="0"/>
                    <a:pt x="21" y="0"/>
                    <a:pt x="21" y="0"/>
                  </a:cubicBezTo>
                  <a:lnTo>
                    <a:pt x="0" y="1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8" name="Freeform 356"/>
            <p:cNvSpPr/>
            <p:nvPr/>
          </p:nvSpPr>
          <p:spPr>
            <a:xfrm>
              <a:off x="9159840" y="3016080"/>
              <a:ext cx="33120" cy="363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4" y="20"/>
                  </a:moveTo>
                  <a:cubicBezTo>
                    <a:pt x="18" y="16"/>
                    <a:pt x="18" y="16"/>
                    <a:pt x="18" y="16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9" y="1"/>
                    <a:pt x="4" y="2"/>
                    <a:pt x="0" y="4"/>
                  </a:cubicBezTo>
                  <a:lnTo>
                    <a:pt x="4" y="2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357"/>
            <p:cNvSpPr/>
            <p:nvPr/>
          </p:nvSpPr>
          <p:spPr>
            <a:xfrm>
              <a:off x="9024840" y="3138480"/>
              <a:ext cx="64800" cy="316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5" y="17"/>
                  </a:moveTo>
                  <a:cubicBezTo>
                    <a:pt x="35" y="4"/>
                    <a:pt x="35" y="4"/>
                    <a:pt x="35" y="4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" y="14"/>
                    <a:pt x="3" y="16"/>
                    <a:pt x="5" y="17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358"/>
            <p:cNvSpPr/>
            <p:nvPr/>
          </p:nvSpPr>
          <p:spPr>
            <a:xfrm>
              <a:off x="9209160" y="3003480"/>
              <a:ext cx="45720" cy="410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22"/>
                  </a:moveTo>
                  <a:cubicBezTo>
                    <a:pt x="13" y="21"/>
                    <a:pt x="13" y="21"/>
                    <a:pt x="13" y="21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1" y="0"/>
                    <a:pt x="16" y="1"/>
                    <a:pt x="11" y="2"/>
                  </a:cubicBezTo>
                  <a:lnTo>
                    <a:pt x="0" y="2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359"/>
            <p:cNvSpPr/>
            <p:nvPr/>
          </p:nvSpPr>
          <p:spPr>
            <a:xfrm>
              <a:off x="9259920" y="3112920"/>
              <a:ext cx="79200" cy="252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8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7" y="12"/>
                    <a:pt x="40" y="9"/>
                    <a:pt x="43" y="7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360"/>
            <p:cNvSpPr/>
            <p:nvPr/>
          </p:nvSpPr>
          <p:spPr>
            <a:xfrm>
              <a:off x="9178920" y="3151080"/>
              <a:ext cx="27000" cy="428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7" y="23"/>
                    <a:pt x="11" y="22"/>
                    <a:pt x="15" y="21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361"/>
            <p:cNvSpPr/>
            <p:nvPr/>
          </p:nvSpPr>
          <p:spPr>
            <a:xfrm>
              <a:off x="9244080" y="3000240"/>
              <a:ext cx="68040" cy="4428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37" y="1"/>
                  </a:moveTo>
                  <a:cubicBezTo>
                    <a:pt x="36" y="1"/>
                    <a:pt x="35" y="0"/>
                    <a:pt x="34" y="0"/>
                  </a:cubicBezTo>
                  <a:cubicBezTo>
                    <a:pt x="31" y="0"/>
                    <a:pt x="28" y="0"/>
                    <a:pt x="26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1" y="24"/>
                    <a:pt x="11" y="24"/>
                    <a:pt x="11" y="24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362"/>
            <p:cNvSpPr/>
            <p:nvPr/>
          </p:nvSpPr>
          <p:spPr>
            <a:xfrm>
              <a:off x="9118440" y="3159360"/>
              <a:ext cx="3780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3" y="21"/>
                    <a:pt x="7" y="21"/>
                    <a:pt x="10" y="21"/>
                  </a:cubicBezTo>
                  <a:lnTo>
                    <a:pt x="21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363"/>
            <p:cNvSpPr/>
            <p:nvPr/>
          </p:nvSpPr>
          <p:spPr>
            <a:xfrm>
              <a:off x="9221760" y="3135240"/>
              <a:ext cx="55440" cy="3960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0" y="0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22" y="20"/>
                    <a:pt x="26" y="19"/>
                    <a:pt x="30" y="17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364"/>
            <p:cNvSpPr/>
            <p:nvPr/>
          </p:nvSpPr>
          <p:spPr>
            <a:xfrm>
              <a:off x="9279000" y="3009600"/>
              <a:ext cx="87120" cy="44280"/>
            </a:xfrm>
            <a:custGeom>
              <a:avLst/>
              <a:gdLst/>
              <a:ahLst/>
              <a:rect l="l" t="t" r="r" b="b"/>
              <a:pathLst>
                <a:path w="48" h="25">
                  <a:moveTo>
                    <a:pt x="0" y="22"/>
                  </a:moveTo>
                  <a:cubicBezTo>
                    <a:pt x="7" y="25"/>
                    <a:pt x="7" y="25"/>
                    <a:pt x="7" y="25"/>
                  </a:cubicBezTo>
                  <a:cubicBezTo>
                    <a:pt x="48" y="4"/>
                    <a:pt x="48" y="4"/>
                    <a:pt x="48" y="4"/>
                  </a:cubicBezTo>
                  <a:cubicBezTo>
                    <a:pt x="46" y="2"/>
                    <a:pt x="44" y="1"/>
                    <a:pt x="41" y="0"/>
                  </a:cubicBezTo>
                  <a:lnTo>
                    <a:pt x="0" y="22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365"/>
            <p:cNvSpPr/>
            <p:nvPr/>
          </p:nvSpPr>
          <p:spPr>
            <a:xfrm>
              <a:off x="9296280" y="3036600"/>
              <a:ext cx="90360" cy="37800"/>
            </a:xfrm>
            <a:custGeom>
              <a:avLst/>
              <a:gdLst/>
              <a:ahLst/>
              <a:rect l="l" t="t" r="r" b="b"/>
              <a:pathLst>
                <a:path w="49" h="21">
                  <a:moveTo>
                    <a:pt x="1" y="21"/>
                  </a:moveTo>
                  <a:cubicBezTo>
                    <a:pt x="49" y="6"/>
                    <a:pt x="49" y="6"/>
                    <a:pt x="49" y="6"/>
                  </a:cubicBezTo>
                  <a:cubicBezTo>
                    <a:pt x="49" y="4"/>
                    <a:pt x="49" y="2"/>
                    <a:pt x="48" y="0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366"/>
            <p:cNvSpPr/>
            <p:nvPr/>
          </p:nvSpPr>
          <p:spPr>
            <a:xfrm>
              <a:off x="9288360" y="3078000"/>
              <a:ext cx="90360" cy="21960"/>
            </a:xfrm>
            <a:custGeom>
              <a:avLst/>
              <a:gdLst/>
              <a:ahLst/>
              <a:rect l="l" t="t" r="r" b="b"/>
              <a:pathLst>
                <a:path w="50" h="12">
                  <a:moveTo>
                    <a:pt x="45" y="8"/>
                  </a:moveTo>
                  <a:cubicBezTo>
                    <a:pt x="47" y="5"/>
                    <a:pt x="49" y="3"/>
                    <a:pt x="50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0" y="12"/>
                    <a:pt x="0" y="12"/>
                    <a:pt x="0" y="12"/>
                  </a:cubicBezTo>
                  <a:lnTo>
                    <a:pt x="45" y="8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367"/>
            <p:cNvSpPr/>
            <p:nvPr/>
          </p:nvSpPr>
          <p:spPr>
            <a:xfrm>
              <a:off x="9032760" y="3022560"/>
              <a:ext cx="325440" cy="160560"/>
            </a:xfrm>
            <a:custGeom>
              <a:avLst/>
              <a:gdLst/>
              <a:ahLst/>
              <a:rect l="l" t="t" r="r" b="b"/>
              <a:pathLst>
                <a:path w="179" h="88">
                  <a:moveTo>
                    <a:pt x="150" y="52"/>
                  </a:moveTo>
                  <a:cubicBezTo>
                    <a:pt x="124" y="76"/>
                    <a:pt x="78" y="88"/>
                    <a:pt x="45" y="82"/>
                  </a:cubicBezTo>
                  <a:cubicBezTo>
                    <a:pt x="12" y="76"/>
                    <a:pt x="0" y="57"/>
                    <a:pt x="21" y="37"/>
                  </a:cubicBezTo>
                  <a:cubicBezTo>
                    <a:pt x="43" y="17"/>
                    <a:pt x="95" y="0"/>
                    <a:pt x="134" y="2"/>
                  </a:cubicBezTo>
                  <a:cubicBezTo>
                    <a:pt x="172" y="5"/>
                    <a:pt x="179" y="28"/>
                    <a:pt x="150" y="52"/>
                  </a:cubicBezTo>
                  <a:close/>
                </a:path>
              </a:pathLst>
            </a:custGeom>
            <a:solidFill>
              <a:srgbClr val="f9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368"/>
            <p:cNvSpPr/>
            <p:nvPr/>
          </p:nvSpPr>
          <p:spPr>
            <a:xfrm>
              <a:off x="9084960" y="3039840"/>
              <a:ext cx="206280" cy="128520"/>
            </a:xfrm>
            <a:custGeom>
              <a:avLst/>
              <a:gdLst/>
              <a:ahLst/>
              <a:rect l="l" t="t" r="r" b="b"/>
              <a:pathLst>
                <a:path w="113" h="70">
                  <a:moveTo>
                    <a:pt x="68" y="52"/>
                  </a:moveTo>
                  <a:cubicBezTo>
                    <a:pt x="64" y="56"/>
                    <a:pt x="59" y="59"/>
                    <a:pt x="52" y="61"/>
                  </a:cubicBezTo>
                  <a:cubicBezTo>
                    <a:pt x="46" y="63"/>
                    <a:pt x="40" y="63"/>
                    <a:pt x="33" y="63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3" y="69"/>
                    <a:pt x="23" y="69"/>
                    <a:pt x="23" y="69"/>
                  </a:cubicBezTo>
                  <a:cubicBezTo>
                    <a:pt x="30" y="62"/>
                    <a:pt x="30" y="62"/>
                    <a:pt x="30" y="62"/>
                  </a:cubicBezTo>
                  <a:cubicBezTo>
                    <a:pt x="30" y="62"/>
                    <a:pt x="29" y="62"/>
                    <a:pt x="27" y="62"/>
                  </a:cubicBezTo>
                  <a:cubicBezTo>
                    <a:pt x="26" y="62"/>
                    <a:pt x="25" y="62"/>
                    <a:pt x="24" y="62"/>
                  </a:cubicBezTo>
                  <a:cubicBezTo>
                    <a:pt x="24" y="61"/>
                    <a:pt x="23" y="61"/>
                    <a:pt x="22" y="61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1" y="67"/>
                    <a:pt x="11" y="67"/>
                    <a:pt x="11" y="67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16" y="58"/>
                    <a:pt x="15" y="56"/>
                    <a:pt x="16" y="53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5" y="45"/>
                    <a:pt x="23" y="47"/>
                    <a:pt x="23" y="49"/>
                  </a:cubicBezTo>
                  <a:cubicBezTo>
                    <a:pt x="22" y="52"/>
                    <a:pt x="23" y="54"/>
                    <a:pt x="25" y="55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37" y="31"/>
                    <a:pt x="35" y="25"/>
                    <a:pt x="41" y="20"/>
                  </a:cubicBezTo>
                  <a:cubicBezTo>
                    <a:pt x="45" y="16"/>
                    <a:pt x="51" y="13"/>
                    <a:pt x="57" y="11"/>
                  </a:cubicBezTo>
                  <a:cubicBezTo>
                    <a:pt x="64" y="8"/>
                    <a:pt x="71" y="7"/>
                    <a:pt x="78" y="7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3" y="7"/>
                    <a:pt x="84" y="7"/>
                    <a:pt x="86" y="7"/>
                  </a:cubicBezTo>
                  <a:cubicBezTo>
                    <a:pt x="88" y="7"/>
                    <a:pt x="89" y="8"/>
                    <a:pt x="91" y="8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3" y="1"/>
                    <a:pt x="103" y="1"/>
                    <a:pt x="103" y="1"/>
                  </a:cubicBezTo>
                  <a:cubicBezTo>
                    <a:pt x="93" y="9"/>
                    <a:pt x="93" y="9"/>
                    <a:pt x="93" y="9"/>
                  </a:cubicBezTo>
                  <a:cubicBezTo>
                    <a:pt x="96" y="10"/>
                    <a:pt x="97" y="12"/>
                    <a:pt x="96" y="15"/>
                  </a:cubicBezTo>
                  <a:cubicBezTo>
                    <a:pt x="103" y="9"/>
                    <a:pt x="103" y="9"/>
                    <a:pt x="103" y="9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9" y="21"/>
                    <a:pt x="91" y="17"/>
                    <a:pt x="87" y="15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76" y="38"/>
                    <a:pt x="77" y="44"/>
                    <a:pt x="68" y="52"/>
                  </a:cubicBezTo>
                  <a:close/>
                  <a:moveTo>
                    <a:pt x="72" y="12"/>
                  </a:moveTo>
                  <a:cubicBezTo>
                    <a:pt x="65" y="14"/>
                    <a:pt x="59" y="16"/>
                    <a:pt x="55" y="20"/>
                  </a:cubicBezTo>
                  <a:cubicBezTo>
                    <a:pt x="51" y="23"/>
                    <a:pt x="51" y="26"/>
                    <a:pt x="55" y="28"/>
                  </a:cubicBezTo>
                  <a:lnTo>
                    <a:pt x="72" y="12"/>
                  </a:lnTo>
                  <a:close/>
                  <a:moveTo>
                    <a:pt x="55" y="40"/>
                  </a:moveTo>
                  <a:cubicBezTo>
                    <a:pt x="54" y="39"/>
                    <a:pt x="52" y="38"/>
                    <a:pt x="49" y="37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9" y="57"/>
                    <a:pt x="31" y="57"/>
                    <a:pt x="32" y="57"/>
                  </a:cubicBezTo>
                  <a:cubicBezTo>
                    <a:pt x="33" y="58"/>
                    <a:pt x="35" y="58"/>
                    <a:pt x="36" y="58"/>
                  </a:cubicBezTo>
                  <a:lnTo>
                    <a:pt x="55" y="40"/>
                  </a:lnTo>
                  <a:close/>
                  <a:moveTo>
                    <a:pt x="85" y="13"/>
                  </a:moveTo>
                  <a:cubicBezTo>
                    <a:pt x="83" y="13"/>
                    <a:pt x="81" y="12"/>
                    <a:pt x="78" y="12"/>
                  </a:cubicBezTo>
                  <a:cubicBezTo>
                    <a:pt x="78" y="12"/>
                    <a:pt x="77" y="12"/>
                    <a:pt x="77" y="12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30"/>
                    <a:pt x="59" y="30"/>
                    <a:pt x="60" y="31"/>
                  </a:cubicBezTo>
                  <a:cubicBezTo>
                    <a:pt x="60" y="31"/>
                    <a:pt x="61" y="32"/>
                    <a:pt x="63" y="32"/>
                  </a:cubicBezTo>
                  <a:cubicBezTo>
                    <a:pt x="63" y="32"/>
                    <a:pt x="63" y="32"/>
                    <a:pt x="63" y="32"/>
                  </a:cubicBezTo>
                  <a:cubicBezTo>
                    <a:pt x="63" y="32"/>
                    <a:pt x="63" y="32"/>
                    <a:pt x="63" y="33"/>
                  </a:cubicBezTo>
                  <a:lnTo>
                    <a:pt x="85" y="13"/>
                  </a:lnTo>
                  <a:close/>
                  <a:moveTo>
                    <a:pt x="56" y="51"/>
                  </a:moveTo>
                  <a:cubicBezTo>
                    <a:pt x="60" y="47"/>
                    <a:pt x="60" y="44"/>
                    <a:pt x="57" y="42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46" y="57"/>
                    <a:pt x="51" y="55"/>
                    <a:pt x="56" y="51"/>
                  </a:cubicBez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369"/>
            <p:cNvSpPr/>
            <p:nvPr/>
          </p:nvSpPr>
          <p:spPr>
            <a:xfrm>
              <a:off x="9090000" y="3036600"/>
              <a:ext cx="204840" cy="127080"/>
            </a:xfrm>
            <a:custGeom>
              <a:avLst/>
              <a:gdLst/>
              <a:ahLst/>
              <a:rect l="l" t="t" r="r" b="b"/>
              <a:pathLst>
                <a:path w="113" h="70">
                  <a:moveTo>
                    <a:pt x="68" y="52"/>
                  </a:moveTo>
                  <a:cubicBezTo>
                    <a:pt x="64" y="56"/>
                    <a:pt x="58" y="59"/>
                    <a:pt x="52" y="61"/>
                  </a:cubicBezTo>
                  <a:cubicBezTo>
                    <a:pt x="46" y="63"/>
                    <a:pt x="39" y="64"/>
                    <a:pt x="33" y="63"/>
                  </a:cubicBezTo>
                  <a:cubicBezTo>
                    <a:pt x="26" y="70"/>
                    <a:pt x="26" y="70"/>
                    <a:pt x="26" y="70"/>
                  </a:cubicBezTo>
                  <a:cubicBezTo>
                    <a:pt x="22" y="70"/>
                    <a:pt x="22" y="70"/>
                    <a:pt x="22" y="70"/>
                  </a:cubicBezTo>
                  <a:cubicBezTo>
                    <a:pt x="30" y="63"/>
                    <a:pt x="30" y="63"/>
                    <a:pt x="30" y="63"/>
                  </a:cubicBezTo>
                  <a:cubicBezTo>
                    <a:pt x="29" y="63"/>
                    <a:pt x="28" y="63"/>
                    <a:pt x="27" y="62"/>
                  </a:cubicBezTo>
                  <a:cubicBezTo>
                    <a:pt x="26" y="62"/>
                    <a:pt x="25" y="62"/>
                    <a:pt x="24" y="62"/>
                  </a:cubicBezTo>
                  <a:cubicBezTo>
                    <a:pt x="23" y="62"/>
                    <a:pt x="23" y="62"/>
                    <a:pt x="22" y="61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6" y="58"/>
                    <a:pt x="15" y="56"/>
                    <a:pt x="16" y="53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4" y="46"/>
                    <a:pt x="23" y="48"/>
                    <a:pt x="22" y="50"/>
                  </a:cubicBezTo>
                  <a:cubicBezTo>
                    <a:pt x="22" y="52"/>
                    <a:pt x="23" y="54"/>
                    <a:pt x="25" y="55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37" y="31"/>
                    <a:pt x="35" y="26"/>
                    <a:pt x="41" y="20"/>
                  </a:cubicBezTo>
                  <a:cubicBezTo>
                    <a:pt x="45" y="16"/>
                    <a:pt x="51" y="13"/>
                    <a:pt x="57" y="11"/>
                  </a:cubicBezTo>
                  <a:cubicBezTo>
                    <a:pt x="64" y="8"/>
                    <a:pt x="71" y="7"/>
                    <a:pt x="78" y="7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90" y="0"/>
                    <a:pt x="90" y="0"/>
                    <a:pt x="90" y="0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3" y="7"/>
                    <a:pt x="84" y="7"/>
                    <a:pt x="86" y="7"/>
                  </a:cubicBezTo>
                  <a:cubicBezTo>
                    <a:pt x="88" y="8"/>
                    <a:pt x="89" y="8"/>
                    <a:pt x="91" y="8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3" y="1"/>
                    <a:pt x="103" y="1"/>
                    <a:pt x="103" y="1"/>
                  </a:cubicBezTo>
                  <a:cubicBezTo>
                    <a:pt x="93" y="10"/>
                    <a:pt x="93" y="10"/>
                    <a:pt x="93" y="10"/>
                  </a:cubicBezTo>
                  <a:cubicBezTo>
                    <a:pt x="96" y="11"/>
                    <a:pt x="97" y="12"/>
                    <a:pt x="96" y="16"/>
                  </a:cubicBezTo>
                  <a:cubicBezTo>
                    <a:pt x="103" y="10"/>
                    <a:pt x="103" y="10"/>
                    <a:pt x="103" y="10"/>
                  </a:cubicBezTo>
                  <a:cubicBezTo>
                    <a:pt x="113" y="11"/>
                    <a:pt x="113" y="11"/>
                    <a:pt x="113" y="11"/>
                  </a:cubicBezTo>
                  <a:cubicBezTo>
                    <a:pt x="93" y="28"/>
                    <a:pt x="93" y="28"/>
                    <a:pt x="93" y="28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9" y="22"/>
                    <a:pt x="91" y="18"/>
                    <a:pt x="87" y="15"/>
                  </a:cubicBezTo>
                  <a:cubicBezTo>
                    <a:pt x="66" y="34"/>
                    <a:pt x="66" y="34"/>
                    <a:pt x="66" y="34"/>
                  </a:cubicBezTo>
                  <a:cubicBezTo>
                    <a:pt x="76" y="38"/>
                    <a:pt x="77" y="44"/>
                    <a:pt x="68" y="52"/>
                  </a:cubicBezTo>
                  <a:close/>
                  <a:moveTo>
                    <a:pt x="72" y="13"/>
                  </a:moveTo>
                  <a:cubicBezTo>
                    <a:pt x="65" y="14"/>
                    <a:pt x="59" y="16"/>
                    <a:pt x="54" y="20"/>
                  </a:cubicBezTo>
                  <a:cubicBezTo>
                    <a:pt x="51" y="23"/>
                    <a:pt x="51" y="26"/>
                    <a:pt x="54" y="28"/>
                  </a:cubicBezTo>
                  <a:lnTo>
                    <a:pt x="72" y="13"/>
                  </a:lnTo>
                  <a:close/>
                  <a:moveTo>
                    <a:pt x="55" y="40"/>
                  </a:moveTo>
                  <a:cubicBezTo>
                    <a:pt x="53" y="39"/>
                    <a:pt x="51" y="38"/>
                    <a:pt x="49" y="37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29" y="57"/>
                    <a:pt x="31" y="58"/>
                    <a:pt x="32" y="58"/>
                  </a:cubicBezTo>
                  <a:cubicBezTo>
                    <a:pt x="33" y="58"/>
                    <a:pt x="34" y="58"/>
                    <a:pt x="35" y="58"/>
                  </a:cubicBezTo>
                  <a:lnTo>
                    <a:pt x="55" y="40"/>
                  </a:lnTo>
                  <a:close/>
                  <a:moveTo>
                    <a:pt x="85" y="14"/>
                  </a:moveTo>
                  <a:cubicBezTo>
                    <a:pt x="83" y="13"/>
                    <a:pt x="81" y="13"/>
                    <a:pt x="78" y="13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30"/>
                    <a:pt x="59" y="31"/>
                    <a:pt x="59" y="31"/>
                  </a:cubicBezTo>
                  <a:cubicBezTo>
                    <a:pt x="60" y="32"/>
                    <a:pt x="61" y="32"/>
                    <a:pt x="63" y="33"/>
                  </a:cubicBezTo>
                  <a:cubicBezTo>
                    <a:pt x="63" y="33"/>
                    <a:pt x="63" y="33"/>
                    <a:pt x="63" y="33"/>
                  </a:cubicBezTo>
                  <a:cubicBezTo>
                    <a:pt x="63" y="33"/>
                    <a:pt x="63" y="33"/>
                    <a:pt x="63" y="33"/>
                  </a:cubicBezTo>
                  <a:lnTo>
                    <a:pt x="85" y="14"/>
                  </a:lnTo>
                  <a:close/>
                  <a:moveTo>
                    <a:pt x="55" y="51"/>
                  </a:moveTo>
                  <a:cubicBezTo>
                    <a:pt x="60" y="48"/>
                    <a:pt x="60" y="44"/>
                    <a:pt x="57" y="42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46" y="57"/>
                    <a:pt x="51" y="55"/>
                    <a:pt x="5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2" name="Freeform 370"/>
          <p:cNvSpPr/>
          <p:nvPr/>
        </p:nvSpPr>
        <p:spPr>
          <a:xfrm>
            <a:off x="10202760" y="334800"/>
            <a:ext cx="1979640" cy="841680"/>
          </a:xfrm>
          <a:custGeom>
            <a:avLst/>
            <a:gdLst/>
            <a:ahLst/>
            <a:rect l="l" t="t" r="r" b="b"/>
            <a:pathLst>
              <a:path w="1087" h="462">
                <a:moveTo>
                  <a:pt x="46" y="462"/>
                </a:moveTo>
                <a:cubicBezTo>
                  <a:pt x="1087" y="159"/>
                  <a:pt x="1087" y="159"/>
                  <a:pt x="1087" y="159"/>
                </a:cubicBezTo>
                <a:cubicBezTo>
                  <a:pt x="1087" y="0"/>
                  <a:pt x="1087" y="0"/>
                  <a:pt x="1087" y="0"/>
                </a:cubicBezTo>
                <a:cubicBezTo>
                  <a:pt x="875" y="174"/>
                  <a:pt x="99" y="375"/>
                  <a:pt x="0" y="401"/>
                </a:cubicBezTo>
                <a:lnTo>
                  <a:pt x="46" y="462"/>
                </a:lnTo>
                <a:close/>
              </a:path>
            </a:pathLst>
          </a:custGeom>
          <a:solidFill>
            <a:srgbClr val="c9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3" name="组合 258"/>
          <p:cNvGrpSpPr/>
          <p:nvPr/>
        </p:nvGrpSpPr>
        <p:grpSpPr>
          <a:xfrm>
            <a:off x="10310760" y="3389400"/>
            <a:ext cx="444600" cy="571320"/>
            <a:chOff x="10310760" y="3389400"/>
            <a:chExt cx="444600" cy="571320"/>
          </a:xfrm>
        </p:grpSpPr>
        <p:sp>
          <p:nvSpPr>
            <p:cNvPr id="1994" name="Freeform 34"/>
            <p:cNvSpPr/>
            <p:nvPr/>
          </p:nvSpPr>
          <p:spPr>
            <a:xfrm>
              <a:off x="10310760" y="3642840"/>
              <a:ext cx="257760" cy="317880"/>
            </a:xfrm>
            <a:custGeom>
              <a:avLst/>
              <a:gdLst/>
              <a:ahLst/>
              <a:rect l="l" t="t" r="r" b="b"/>
              <a:pathLst>
                <a:path w="141" h="174">
                  <a:moveTo>
                    <a:pt x="30" y="166"/>
                  </a:moveTo>
                  <a:cubicBezTo>
                    <a:pt x="25" y="172"/>
                    <a:pt x="15" y="174"/>
                    <a:pt x="9" y="169"/>
                  </a:cubicBezTo>
                  <a:cubicBezTo>
                    <a:pt x="8" y="168"/>
                    <a:pt x="8" y="168"/>
                    <a:pt x="8" y="168"/>
                  </a:cubicBezTo>
                  <a:cubicBezTo>
                    <a:pt x="2" y="163"/>
                    <a:pt x="0" y="154"/>
                    <a:pt x="5" y="147"/>
                  </a:cubicBezTo>
                  <a:cubicBezTo>
                    <a:pt x="111" y="7"/>
                    <a:pt x="111" y="7"/>
                    <a:pt x="111" y="7"/>
                  </a:cubicBezTo>
                  <a:cubicBezTo>
                    <a:pt x="116" y="1"/>
                    <a:pt x="126" y="0"/>
                    <a:pt x="132" y="5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40" y="10"/>
                    <a:pt x="141" y="19"/>
                    <a:pt x="136" y="26"/>
                  </a:cubicBezTo>
                  <a:lnTo>
                    <a:pt x="30" y="16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34"/>
            <p:cNvSpPr/>
            <p:nvPr/>
          </p:nvSpPr>
          <p:spPr>
            <a:xfrm>
              <a:off x="10497600" y="3389400"/>
              <a:ext cx="257760" cy="317880"/>
            </a:xfrm>
            <a:custGeom>
              <a:avLst/>
              <a:gdLst/>
              <a:ahLst/>
              <a:rect l="l" t="t" r="r" b="b"/>
              <a:pathLst>
                <a:path w="141" h="174">
                  <a:moveTo>
                    <a:pt x="30" y="166"/>
                  </a:moveTo>
                  <a:cubicBezTo>
                    <a:pt x="25" y="172"/>
                    <a:pt x="15" y="174"/>
                    <a:pt x="9" y="169"/>
                  </a:cubicBezTo>
                  <a:cubicBezTo>
                    <a:pt x="8" y="168"/>
                    <a:pt x="8" y="168"/>
                    <a:pt x="8" y="168"/>
                  </a:cubicBezTo>
                  <a:cubicBezTo>
                    <a:pt x="2" y="163"/>
                    <a:pt x="0" y="154"/>
                    <a:pt x="5" y="147"/>
                  </a:cubicBezTo>
                  <a:cubicBezTo>
                    <a:pt x="111" y="7"/>
                    <a:pt x="111" y="7"/>
                    <a:pt x="111" y="7"/>
                  </a:cubicBezTo>
                  <a:cubicBezTo>
                    <a:pt x="116" y="1"/>
                    <a:pt x="126" y="0"/>
                    <a:pt x="132" y="5"/>
                  </a:cubicBezTo>
                  <a:cubicBezTo>
                    <a:pt x="133" y="5"/>
                    <a:pt x="133" y="5"/>
                    <a:pt x="133" y="5"/>
                  </a:cubicBezTo>
                  <a:cubicBezTo>
                    <a:pt x="140" y="10"/>
                    <a:pt x="141" y="19"/>
                    <a:pt x="136" y="26"/>
                  </a:cubicBezTo>
                  <a:lnTo>
                    <a:pt x="30" y="16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6" name="组合 259"/>
          <p:cNvGrpSpPr/>
          <p:nvPr/>
        </p:nvGrpSpPr>
        <p:grpSpPr>
          <a:xfrm>
            <a:off x="10350360" y="3559320"/>
            <a:ext cx="371520" cy="253800"/>
            <a:chOff x="10350360" y="3559320"/>
            <a:chExt cx="371520" cy="253800"/>
          </a:xfrm>
        </p:grpSpPr>
        <p:sp>
          <p:nvSpPr>
            <p:cNvPr id="1997" name="Freeform 36"/>
            <p:cNvSpPr/>
            <p:nvPr/>
          </p:nvSpPr>
          <p:spPr>
            <a:xfrm>
              <a:off x="10350360" y="3559320"/>
              <a:ext cx="220320" cy="158760"/>
            </a:xfrm>
            <a:custGeom>
              <a:avLst/>
              <a:gdLst/>
              <a:ahLst/>
              <a:rect l="l" t="t" r="r" b="b"/>
              <a:pathLst>
                <a:path w="121" h="87">
                  <a:moveTo>
                    <a:pt x="111" y="56"/>
                  </a:moveTo>
                  <a:cubicBezTo>
                    <a:pt x="118" y="61"/>
                    <a:pt x="121" y="70"/>
                    <a:pt x="117" y="77"/>
                  </a:cubicBezTo>
                  <a:cubicBezTo>
                    <a:pt x="116" y="78"/>
                    <a:pt x="116" y="78"/>
                    <a:pt x="116" y="78"/>
                  </a:cubicBezTo>
                  <a:cubicBezTo>
                    <a:pt x="112" y="85"/>
                    <a:pt x="103" y="87"/>
                    <a:pt x="96" y="8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3" y="27"/>
                    <a:pt x="0" y="18"/>
                    <a:pt x="5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9" y="3"/>
                    <a:pt x="19" y="0"/>
                    <a:pt x="26" y="5"/>
                  </a:cubicBezTo>
                  <a:lnTo>
                    <a:pt x="111" y="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36"/>
            <p:cNvSpPr/>
            <p:nvPr/>
          </p:nvSpPr>
          <p:spPr>
            <a:xfrm>
              <a:off x="10501560" y="3654360"/>
              <a:ext cx="220320" cy="158760"/>
            </a:xfrm>
            <a:custGeom>
              <a:avLst/>
              <a:gdLst/>
              <a:ahLst/>
              <a:rect l="l" t="t" r="r" b="b"/>
              <a:pathLst>
                <a:path w="121" h="87">
                  <a:moveTo>
                    <a:pt x="111" y="56"/>
                  </a:moveTo>
                  <a:cubicBezTo>
                    <a:pt x="118" y="61"/>
                    <a:pt x="121" y="70"/>
                    <a:pt x="117" y="77"/>
                  </a:cubicBezTo>
                  <a:cubicBezTo>
                    <a:pt x="116" y="78"/>
                    <a:pt x="116" y="78"/>
                    <a:pt x="116" y="78"/>
                  </a:cubicBezTo>
                  <a:cubicBezTo>
                    <a:pt x="112" y="85"/>
                    <a:pt x="103" y="87"/>
                    <a:pt x="96" y="83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3" y="27"/>
                    <a:pt x="0" y="18"/>
                    <a:pt x="5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9" y="3"/>
                    <a:pt x="19" y="0"/>
                    <a:pt x="26" y="5"/>
                  </a:cubicBezTo>
                  <a:lnTo>
                    <a:pt x="111" y="56"/>
                  </a:lnTo>
                  <a:close/>
                </a:path>
              </a:pathLst>
            </a:custGeom>
            <a:solidFill>
              <a:srgbClr val="c9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9" name="Freeform 38"/>
          <p:cNvSpPr/>
          <p:nvPr/>
        </p:nvSpPr>
        <p:spPr>
          <a:xfrm>
            <a:off x="10510920" y="3654360"/>
            <a:ext cx="38160" cy="3816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7"/>
                </a:moveTo>
                <a:cubicBezTo>
                  <a:pt x="14" y="21"/>
                  <a:pt x="8" y="21"/>
                  <a:pt x="4" y="18"/>
                </a:cubicBezTo>
                <a:cubicBezTo>
                  <a:pt x="0" y="14"/>
                  <a:pt x="0" y="8"/>
                  <a:pt x="3" y="4"/>
                </a:cubicBezTo>
                <a:cubicBezTo>
                  <a:pt x="7" y="0"/>
                  <a:pt x="13" y="0"/>
                  <a:pt x="17" y="4"/>
                </a:cubicBezTo>
                <a:cubicBezTo>
                  <a:pt x="21" y="7"/>
                  <a:pt x="21" y="13"/>
                  <a:pt x="17" y="17"/>
                </a:cubicBezTo>
                <a:close/>
              </a:path>
            </a:pathLst>
          </a:custGeom>
          <a:solidFill>
            <a:srgbClr val="9657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0" name="组合 3"/>
          <p:cNvGrpSpPr/>
          <p:nvPr/>
        </p:nvGrpSpPr>
        <p:grpSpPr>
          <a:xfrm>
            <a:off x="1096920" y="2643120"/>
            <a:ext cx="3272040" cy="1467000"/>
            <a:chOff x="1096920" y="2643120"/>
            <a:chExt cx="3272040" cy="1467000"/>
          </a:xfrm>
        </p:grpSpPr>
        <p:sp>
          <p:nvSpPr>
            <p:cNvPr id="2001" name="文本框 652"/>
            <p:cNvSpPr/>
            <p:nvPr/>
          </p:nvSpPr>
          <p:spPr>
            <a:xfrm>
              <a:off x="1164600" y="2686320"/>
              <a:ext cx="3204360" cy="142380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198537" y="992684"/>
                  </a:moveTo>
                  <a:lnTo>
                    <a:pt x="198537" y="1273374"/>
                  </a:lnTo>
                  <a:lnTo>
                    <a:pt x="1252835" y="1273374"/>
                  </a:lnTo>
                  <a:lnTo>
                    <a:pt x="1252835" y="992684"/>
                  </a:lnTo>
                  <a:close/>
                  <a:moveTo>
                    <a:pt x="657225" y="335459"/>
                  </a:moveTo>
                  <a:lnTo>
                    <a:pt x="821531" y="335459"/>
                  </a:lnTo>
                  <a:lnTo>
                    <a:pt x="821531" y="492919"/>
                  </a:lnTo>
                  <a:lnTo>
                    <a:pt x="1465064" y="492919"/>
                  </a:lnTo>
                  <a:lnTo>
                    <a:pt x="1465064" y="636687"/>
                  </a:lnTo>
                  <a:lnTo>
                    <a:pt x="821531" y="636687"/>
                  </a:lnTo>
                  <a:lnTo>
                    <a:pt x="821531" y="842070"/>
                  </a:lnTo>
                  <a:lnTo>
                    <a:pt x="1423988" y="842070"/>
                  </a:lnTo>
                  <a:lnTo>
                    <a:pt x="1423988" y="1423988"/>
                  </a:lnTo>
                  <a:lnTo>
                    <a:pt x="27385" y="1423988"/>
                  </a:lnTo>
                  <a:lnTo>
                    <a:pt x="27385" y="842070"/>
                  </a:lnTo>
                  <a:lnTo>
                    <a:pt x="657225" y="842070"/>
                  </a:lnTo>
                  <a:lnTo>
                    <a:pt x="657225" y="636687"/>
                  </a:lnTo>
                  <a:lnTo>
                    <a:pt x="6846" y="636687"/>
                  </a:lnTo>
                  <a:lnTo>
                    <a:pt x="6846" y="492919"/>
                  </a:lnTo>
                  <a:lnTo>
                    <a:pt x="657225" y="492919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308074" y="0"/>
                  </a:moveTo>
                  <a:lnTo>
                    <a:pt x="479227" y="0"/>
                  </a:lnTo>
                  <a:lnTo>
                    <a:pt x="479227" y="68461"/>
                  </a:lnTo>
                  <a:lnTo>
                    <a:pt x="992684" y="68461"/>
                  </a:lnTo>
                  <a:lnTo>
                    <a:pt x="992684" y="0"/>
                  </a:lnTo>
                  <a:lnTo>
                    <a:pt x="1156990" y="0"/>
                  </a:lnTo>
                  <a:lnTo>
                    <a:pt x="1156990" y="68461"/>
                  </a:lnTo>
                  <a:lnTo>
                    <a:pt x="1451372" y="68461"/>
                  </a:lnTo>
                  <a:lnTo>
                    <a:pt x="1451372" y="212229"/>
                  </a:lnTo>
                  <a:lnTo>
                    <a:pt x="1156990" y="212229"/>
                  </a:lnTo>
                  <a:lnTo>
                    <a:pt x="1156990" y="342305"/>
                  </a:lnTo>
                  <a:lnTo>
                    <a:pt x="992684" y="342305"/>
                  </a:lnTo>
                  <a:lnTo>
                    <a:pt x="992684" y="212229"/>
                  </a:lnTo>
                  <a:lnTo>
                    <a:pt x="479227" y="212229"/>
                  </a:lnTo>
                  <a:lnTo>
                    <a:pt x="479227" y="342305"/>
                  </a:lnTo>
                  <a:lnTo>
                    <a:pt x="308074" y="342305"/>
                  </a:lnTo>
                  <a:lnTo>
                    <a:pt x="308074" y="212229"/>
                  </a:lnTo>
                  <a:lnTo>
                    <a:pt x="0" y="212229"/>
                  </a:lnTo>
                  <a:lnTo>
                    <a:pt x="0" y="68461"/>
                  </a:lnTo>
                  <a:lnTo>
                    <a:pt x="308074" y="68461"/>
                  </a:lnTo>
                  <a:close/>
                </a:path>
              </a:pathLst>
            </a:custGeom>
            <a:solidFill>
              <a:srgbClr val="364d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文本框 654"/>
            <p:cNvSpPr/>
            <p:nvPr/>
          </p:nvSpPr>
          <p:spPr>
            <a:xfrm>
              <a:off x="1096920" y="2643120"/>
              <a:ext cx="3204360" cy="142380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198537" y="992684"/>
                  </a:moveTo>
                  <a:lnTo>
                    <a:pt x="198537" y="1273374"/>
                  </a:lnTo>
                  <a:lnTo>
                    <a:pt x="1252835" y="1273374"/>
                  </a:lnTo>
                  <a:lnTo>
                    <a:pt x="1252835" y="992684"/>
                  </a:lnTo>
                  <a:close/>
                  <a:moveTo>
                    <a:pt x="657225" y="335459"/>
                  </a:moveTo>
                  <a:lnTo>
                    <a:pt x="821531" y="335459"/>
                  </a:lnTo>
                  <a:lnTo>
                    <a:pt x="821531" y="492919"/>
                  </a:lnTo>
                  <a:lnTo>
                    <a:pt x="1465064" y="492919"/>
                  </a:lnTo>
                  <a:lnTo>
                    <a:pt x="1465064" y="636687"/>
                  </a:lnTo>
                  <a:lnTo>
                    <a:pt x="821531" y="636687"/>
                  </a:lnTo>
                  <a:lnTo>
                    <a:pt x="821531" y="842070"/>
                  </a:lnTo>
                  <a:lnTo>
                    <a:pt x="1423988" y="842070"/>
                  </a:lnTo>
                  <a:lnTo>
                    <a:pt x="1423988" y="1423988"/>
                  </a:lnTo>
                  <a:lnTo>
                    <a:pt x="27385" y="1423988"/>
                  </a:lnTo>
                  <a:lnTo>
                    <a:pt x="27385" y="842070"/>
                  </a:lnTo>
                  <a:lnTo>
                    <a:pt x="657225" y="842070"/>
                  </a:lnTo>
                  <a:lnTo>
                    <a:pt x="657225" y="636687"/>
                  </a:lnTo>
                  <a:lnTo>
                    <a:pt x="6846" y="636687"/>
                  </a:lnTo>
                  <a:lnTo>
                    <a:pt x="6846" y="492919"/>
                  </a:lnTo>
                  <a:lnTo>
                    <a:pt x="657225" y="492919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308074" y="0"/>
                  </a:moveTo>
                  <a:lnTo>
                    <a:pt x="479227" y="0"/>
                  </a:lnTo>
                  <a:lnTo>
                    <a:pt x="479227" y="68461"/>
                  </a:lnTo>
                  <a:lnTo>
                    <a:pt x="992684" y="68461"/>
                  </a:lnTo>
                  <a:lnTo>
                    <a:pt x="992684" y="0"/>
                  </a:lnTo>
                  <a:lnTo>
                    <a:pt x="1156990" y="0"/>
                  </a:lnTo>
                  <a:lnTo>
                    <a:pt x="1156990" y="68461"/>
                  </a:lnTo>
                  <a:lnTo>
                    <a:pt x="1451372" y="68461"/>
                  </a:lnTo>
                  <a:lnTo>
                    <a:pt x="1451372" y="212229"/>
                  </a:lnTo>
                  <a:lnTo>
                    <a:pt x="1156990" y="212229"/>
                  </a:lnTo>
                  <a:lnTo>
                    <a:pt x="1156990" y="342305"/>
                  </a:lnTo>
                  <a:lnTo>
                    <a:pt x="992684" y="342305"/>
                  </a:lnTo>
                  <a:lnTo>
                    <a:pt x="992684" y="212229"/>
                  </a:lnTo>
                  <a:lnTo>
                    <a:pt x="479227" y="212229"/>
                  </a:lnTo>
                  <a:lnTo>
                    <a:pt x="479227" y="342305"/>
                  </a:lnTo>
                  <a:lnTo>
                    <a:pt x="308074" y="342305"/>
                  </a:lnTo>
                  <a:lnTo>
                    <a:pt x="308074" y="212229"/>
                  </a:lnTo>
                  <a:lnTo>
                    <a:pt x="0" y="212229"/>
                  </a:lnTo>
                  <a:lnTo>
                    <a:pt x="0" y="68461"/>
                  </a:lnTo>
                  <a:lnTo>
                    <a:pt x="308074" y="68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0" dur="175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2" dur="175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4" dur="175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6" dur="175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18" dur="175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0" dur="175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2" dur="175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4" dur="175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6" dur="175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8" dur="175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0" dur="175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2" dur="175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4" dur="175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6" dur="175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38" dur="175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0" dur="175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2" dur="175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evt="end">
                                        <p:tn val="943"/>
                                      </p:cond>
                                    </p:stCondLst>
                                  </p:cTn>
                                  <p:tgtEl>
                                    <p:spTgt spid="1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47" dur="indefinite" nodeType="withEffect" fill="hold" presetClass="entr" presetID="10" repeatCount="indefinite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0" dur="1" fill="hold">
                                    <p:stCondLst>
                                      <p:cond evt="end">
                                        <p:tn val="947"/>
                                      </p:cond>
                                    </p:stCondLst>
                                  </p:cTn>
                                  <p:tgtEl>
                                    <p:spTgt spid="1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1" dur="indefinite" nodeType="withEffect" fill="hold" presetClass="entr" presetID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4" dur="1" fill="hold">
                                    <p:stCondLst>
                                      <p:cond evt="end">
                                        <p:tn val="951"/>
                                      </p:cond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5" dur="indefinite" nodeType="withEffect" fill="hold" presetClass="entr" presetID="10" repeatCount="indefinite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8" dur="1" fill="hold">
                                    <p:stCondLst>
                                      <p:cond evt="end">
                                        <p:tn val="955"/>
                                      </p:cond>
                                    </p:stCondLst>
                                  </p:cTn>
                                  <p:tgtEl>
                                    <p:spTgt spid="19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9" dur="indefinite" nodeType="withEffect" fill="hold" presetClass="entr" presetID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2" dur="1" fill="hold">
                                    <p:stCondLst>
                                      <p:cond evt="end">
                                        <p:tn val="959"/>
                                      </p:cond>
                                    </p:stCondLst>
                                  </p:cTn>
                                  <p:tgtEl>
                                    <p:spTgt spid="1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6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4" dur="10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6" dur="30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矩形 1421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a9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文本框 611"/>
          <p:cNvSpPr/>
          <p:nvPr/>
        </p:nvSpPr>
        <p:spPr>
          <a:xfrm>
            <a:off x="1125360" y="976320"/>
            <a:ext cx="1659240" cy="407880"/>
          </a:xfrm>
          <a:custGeom>
            <a:avLst/>
            <a:gdLst/>
            <a:ahLst/>
            <a:rect l="l" t="t" r="r" b="b"/>
            <a:pathLst>
              <a:path w="16601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4382" y="17748"/>
                </a:moveTo>
                <a:lnTo>
                  <a:pt x="1660178" y="17748"/>
                </a:lnTo>
                <a:lnTo>
                  <a:pt x="1660178" y="222833"/>
                </a:lnTo>
                <a:lnTo>
                  <a:pt x="1417625" y="222833"/>
                </a:lnTo>
                <a:lnTo>
                  <a:pt x="1417625" y="339180"/>
                </a:lnTo>
                <a:lnTo>
                  <a:pt x="1660178" y="339180"/>
                </a:lnTo>
                <a:lnTo>
                  <a:pt x="1660178" y="384535"/>
                </a:lnTo>
                <a:lnTo>
                  <a:pt x="1360438" y="384535"/>
                </a:lnTo>
                <a:lnTo>
                  <a:pt x="1360438" y="177478"/>
                </a:lnTo>
                <a:lnTo>
                  <a:pt x="1604962" y="177478"/>
                </a:lnTo>
                <a:lnTo>
                  <a:pt x="1604962" y="63103"/>
                </a:lnTo>
                <a:lnTo>
                  <a:pt x="1364382" y="63103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文本框 610"/>
          <p:cNvSpPr/>
          <p:nvPr/>
        </p:nvSpPr>
        <p:spPr>
          <a:xfrm>
            <a:off x="1130400" y="1803240"/>
            <a:ext cx="2935080" cy="409680"/>
          </a:xfrm>
          <a:custGeom>
            <a:avLst/>
            <a:gdLst/>
            <a:ahLst/>
            <a:rect l="l" t="t" r="r" b="b"/>
            <a:pathLst>
              <a:path w="2934965" h="410171">
                <a:moveTo>
                  <a:pt x="1792858" y="268189"/>
                </a:moveTo>
                <a:lnTo>
                  <a:pt x="1792858" y="366787"/>
                </a:lnTo>
                <a:lnTo>
                  <a:pt x="1879625" y="366787"/>
                </a:lnTo>
                <a:lnTo>
                  <a:pt x="1879625" y="268189"/>
                </a:lnTo>
                <a:close/>
                <a:moveTo>
                  <a:pt x="1558193" y="268189"/>
                </a:moveTo>
                <a:lnTo>
                  <a:pt x="1558193" y="366787"/>
                </a:lnTo>
                <a:lnTo>
                  <a:pt x="1646932" y="366787"/>
                </a:lnTo>
                <a:lnTo>
                  <a:pt x="1646932" y="268189"/>
                </a:lnTo>
                <a:close/>
                <a:moveTo>
                  <a:pt x="1743558" y="224805"/>
                </a:moveTo>
                <a:lnTo>
                  <a:pt x="1928924" y="224805"/>
                </a:lnTo>
                <a:lnTo>
                  <a:pt x="1928924" y="410171"/>
                </a:lnTo>
                <a:lnTo>
                  <a:pt x="1743558" y="410171"/>
                </a:lnTo>
                <a:close/>
                <a:moveTo>
                  <a:pt x="1508894" y="224805"/>
                </a:moveTo>
                <a:lnTo>
                  <a:pt x="1696231" y="224805"/>
                </a:lnTo>
                <a:lnTo>
                  <a:pt x="1696231" y="410171"/>
                </a:lnTo>
                <a:lnTo>
                  <a:pt x="1508894" y="410171"/>
                </a:lnTo>
                <a:close/>
                <a:moveTo>
                  <a:pt x="2558318" y="189310"/>
                </a:moveTo>
                <a:lnTo>
                  <a:pt x="2652973" y="236637"/>
                </a:lnTo>
                <a:lnTo>
                  <a:pt x="2609589" y="254385"/>
                </a:lnTo>
                <a:lnTo>
                  <a:pt x="2512963" y="207057"/>
                </a:lnTo>
                <a:close/>
                <a:moveTo>
                  <a:pt x="2785095" y="181422"/>
                </a:moveTo>
                <a:lnTo>
                  <a:pt x="2828478" y="197198"/>
                </a:lnTo>
                <a:lnTo>
                  <a:pt x="2809530" y="274104"/>
                </a:lnTo>
                <a:lnTo>
                  <a:pt x="2929049" y="274104"/>
                </a:lnTo>
                <a:lnTo>
                  <a:pt x="2929049" y="313544"/>
                </a:lnTo>
                <a:lnTo>
                  <a:pt x="2799813" y="313544"/>
                </a:lnTo>
                <a:lnTo>
                  <a:pt x="2794955" y="333264"/>
                </a:lnTo>
                <a:lnTo>
                  <a:pt x="2931021" y="378619"/>
                </a:lnTo>
                <a:lnTo>
                  <a:pt x="2901441" y="410171"/>
                </a:lnTo>
                <a:lnTo>
                  <a:pt x="2769319" y="368759"/>
                </a:lnTo>
                <a:lnTo>
                  <a:pt x="2530710" y="410171"/>
                </a:lnTo>
                <a:lnTo>
                  <a:pt x="2503103" y="378619"/>
                </a:lnTo>
                <a:lnTo>
                  <a:pt x="2747627" y="331292"/>
                </a:lnTo>
                <a:lnTo>
                  <a:pt x="2752064" y="313544"/>
                </a:lnTo>
                <a:lnTo>
                  <a:pt x="2510991" y="313544"/>
                </a:lnTo>
                <a:lnTo>
                  <a:pt x="2510991" y="274104"/>
                </a:lnTo>
                <a:lnTo>
                  <a:pt x="2761924" y="274104"/>
                </a:lnTo>
                <a:close/>
                <a:moveTo>
                  <a:pt x="2654945" y="165646"/>
                </a:moveTo>
                <a:lnTo>
                  <a:pt x="2749599" y="212973"/>
                </a:lnTo>
                <a:lnTo>
                  <a:pt x="2706216" y="230721"/>
                </a:lnTo>
                <a:lnTo>
                  <a:pt x="2609589" y="183394"/>
                </a:lnTo>
                <a:close/>
                <a:moveTo>
                  <a:pt x="394171" y="108459"/>
                </a:moveTo>
                <a:lnTo>
                  <a:pt x="394171" y="211001"/>
                </a:lnTo>
                <a:lnTo>
                  <a:pt x="559817" y="211001"/>
                </a:lnTo>
                <a:lnTo>
                  <a:pt x="559817" y="108459"/>
                </a:lnTo>
                <a:close/>
                <a:moveTo>
                  <a:pt x="51271" y="108459"/>
                </a:moveTo>
                <a:lnTo>
                  <a:pt x="51271" y="211001"/>
                </a:lnTo>
                <a:lnTo>
                  <a:pt x="216917" y="211001"/>
                </a:lnTo>
                <a:lnTo>
                  <a:pt x="216917" y="108459"/>
                </a:lnTo>
                <a:close/>
                <a:moveTo>
                  <a:pt x="666080" y="63103"/>
                </a:moveTo>
                <a:lnTo>
                  <a:pt x="940184" y="63103"/>
                </a:lnTo>
                <a:lnTo>
                  <a:pt x="940184" y="106487"/>
                </a:lnTo>
                <a:lnTo>
                  <a:pt x="827782" y="106487"/>
                </a:lnTo>
                <a:lnTo>
                  <a:pt x="827782" y="380591"/>
                </a:lnTo>
                <a:lnTo>
                  <a:pt x="778482" y="380591"/>
                </a:lnTo>
                <a:lnTo>
                  <a:pt x="778482" y="106487"/>
                </a:lnTo>
                <a:lnTo>
                  <a:pt x="666080" y="106487"/>
                </a:lnTo>
                <a:close/>
                <a:moveTo>
                  <a:pt x="342900" y="63103"/>
                </a:moveTo>
                <a:lnTo>
                  <a:pt x="611088" y="63103"/>
                </a:lnTo>
                <a:lnTo>
                  <a:pt x="611088" y="256357"/>
                </a:lnTo>
                <a:lnTo>
                  <a:pt x="394171" y="256357"/>
                </a:lnTo>
                <a:lnTo>
                  <a:pt x="394171" y="380591"/>
                </a:lnTo>
                <a:lnTo>
                  <a:pt x="342900" y="380591"/>
                </a:lnTo>
                <a:close/>
                <a:moveTo>
                  <a:pt x="0" y="63103"/>
                </a:moveTo>
                <a:lnTo>
                  <a:pt x="268188" y="63103"/>
                </a:lnTo>
                <a:lnTo>
                  <a:pt x="268188" y="256357"/>
                </a:lnTo>
                <a:lnTo>
                  <a:pt x="51271" y="256357"/>
                </a:lnTo>
                <a:lnTo>
                  <a:pt x="51271" y="380591"/>
                </a:lnTo>
                <a:lnTo>
                  <a:pt x="0" y="380591"/>
                </a:lnTo>
                <a:close/>
                <a:moveTo>
                  <a:pt x="1570025" y="53244"/>
                </a:moveTo>
                <a:lnTo>
                  <a:pt x="1570025" y="136066"/>
                </a:lnTo>
                <a:lnTo>
                  <a:pt x="1865821" y="136066"/>
                </a:lnTo>
                <a:lnTo>
                  <a:pt x="1865821" y="53244"/>
                </a:lnTo>
                <a:close/>
                <a:moveTo>
                  <a:pt x="1520725" y="9860"/>
                </a:moveTo>
                <a:lnTo>
                  <a:pt x="1915120" y="9860"/>
                </a:lnTo>
                <a:lnTo>
                  <a:pt x="1915120" y="181422"/>
                </a:lnTo>
                <a:lnTo>
                  <a:pt x="1520725" y="181422"/>
                </a:lnTo>
                <a:close/>
                <a:moveTo>
                  <a:pt x="2692412" y="3944"/>
                </a:moveTo>
                <a:lnTo>
                  <a:pt x="2739739" y="3944"/>
                </a:lnTo>
                <a:lnTo>
                  <a:pt x="2739739" y="23664"/>
                </a:lnTo>
                <a:lnTo>
                  <a:pt x="2927077" y="23664"/>
                </a:lnTo>
                <a:lnTo>
                  <a:pt x="2927077" y="65075"/>
                </a:lnTo>
                <a:lnTo>
                  <a:pt x="2739739" y="65075"/>
                </a:lnTo>
                <a:lnTo>
                  <a:pt x="2739739" y="98599"/>
                </a:lnTo>
                <a:lnTo>
                  <a:pt x="2934965" y="98599"/>
                </a:lnTo>
                <a:lnTo>
                  <a:pt x="2901441" y="228749"/>
                </a:lnTo>
                <a:lnTo>
                  <a:pt x="2862002" y="197198"/>
                </a:lnTo>
                <a:lnTo>
                  <a:pt x="2877777" y="140010"/>
                </a:lnTo>
                <a:lnTo>
                  <a:pt x="2510991" y="140010"/>
                </a:lnTo>
                <a:lnTo>
                  <a:pt x="2510991" y="98599"/>
                </a:lnTo>
                <a:lnTo>
                  <a:pt x="2692412" y="98599"/>
                </a:lnTo>
                <a:lnTo>
                  <a:pt x="2692412" y="65075"/>
                </a:lnTo>
                <a:lnTo>
                  <a:pt x="2509019" y="65075"/>
                </a:lnTo>
                <a:lnTo>
                  <a:pt x="2509019" y="23664"/>
                </a:lnTo>
                <a:lnTo>
                  <a:pt x="2692412" y="23664"/>
                </a:lnTo>
                <a:close/>
                <a:moveTo>
                  <a:pt x="2185615" y="1972"/>
                </a:moveTo>
                <a:lnTo>
                  <a:pt x="2236886" y="1972"/>
                </a:lnTo>
                <a:lnTo>
                  <a:pt x="2236886" y="82823"/>
                </a:lnTo>
                <a:lnTo>
                  <a:pt x="2420280" y="82823"/>
                </a:lnTo>
                <a:lnTo>
                  <a:pt x="2420280" y="128179"/>
                </a:lnTo>
                <a:lnTo>
                  <a:pt x="2236886" y="128179"/>
                </a:lnTo>
                <a:lnTo>
                  <a:pt x="2236886" y="189310"/>
                </a:lnTo>
                <a:lnTo>
                  <a:pt x="2426196" y="378619"/>
                </a:lnTo>
                <a:lnTo>
                  <a:pt x="2388728" y="410171"/>
                </a:lnTo>
                <a:lnTo>
                  <a:pt x="2211251" y="232693"/>
                </a:lnTo>
                <a:lnTo>
                  <a:pt x="2037717" y="410171"/>
                </a:lnTo>
                <a:lnTo>
                  <a:pt x="2000250" y="380591"/>
                </a:lnTo>
                <a:lnTo>
                  <a:pt x="2185615" y="189310"/>
                </a:lnTo>
                <a:lnTo>
                  <a:pt x="2185615" y="128179"/>
                </a:lnTo>
                <a:lnTo>
                  <a:pt x="2006166" y="128179"/>
                </a:lnTo>
                <a:lnTo>
                  <a:pt x="2006166" y="82823"/>
                </a:lnTo>
                <a:lnTo>
                  <a:pt x="2185615" y="82823"/>
                </a:lnTo>
                <a:close/>
                <a:moveTo>
                  <a:pt x="1049424" y="1972"/>
                </a:moveTo>
                <a:lnTo>
                  <a:pt x="1086891" y="29580"/>
                </a:lnTo>
                <a:lnTo>
                  <a:pt x="1036617" y="187338"/>
                </a:lnTo>
                <a:lnTo>
                  <a:pt x="1065200" y="187338"/>
                </a:lnTo>
                <a:lnTo>
                  <a:pt x="1065200" y="410171"/>
                </a:lnTo>
                <a:lnTo>
                  <a:pt x="1015900" y="410171"/>
                </a:lnTo>
                <a:lnTo>
                  <a:pt x="1015900" y="198858"/>
                </a:lnTo>
                <a:lnTo>
                  <a:pt x="992237" y="181422"/>
                </a:lnTo>
                <a:close/>
                <a:moveTo>
                  <a:pt x="1179574" y="0"/>
                </a:moveTo>
                <a:lnTo>
                  <a:pt x="1199294" y="17644"/>
                </a:lnTo>
                <a:lnTo>
                  <a:pt x="1199294" y="15776"/>
                </a:lnTo>
                <a:lnTo>
                  <a:pt x="1426071" y="15776"/>
                </a:lnTo>
                <a:lnTo>
                  <a:pt x="1426071" y="59159"/>
                </a:lnTo>
                <a:lnTo>
                  <a:pt x="1293949" y="59159"/>
                </a:lnTo>
                <a:lnTo>
                  <a:pt x="1293949" y="147898"/>
                </a:lnTo>
                <a:lnTo>
                  <a:pt x="1418183" y="147898"/>
                </a:lnTo>
                <a:lnTo>
                  <a:pt x="1418183" y="193254"/>
                </a:lnTo>
                <a:lnTo>
                  <a:pt x="1293949" y="193254"/>
                </a:lnTo>
                <a:lnTo>
                  <a:pt x="1293949" y="283964"/>
                </a:lnTo>
                <a:lnTo>
                  <a:pt x="1418183" y="283964"/>
                </a:lnTo>
                <a:lnTo>
                  <a:pt x="1418183" y="327348"/>
                </a:lnTo>
                <a:lnTo>
                  <a:pt x="1293949" y="327348"/>
                </a:lnTo>
                <a:lnTo>
                  <a:pt x="1293949" y="410171"/>
                </a:lnTo>
                <a:lnTo>
                  <a:pt x="1246621" y="410171"/>
                </a:lnTo>
                <a:lnTo>
                  <a:pt x="1246621" y="59159"/>
                </a:lnTo>
                <a:lnTo>
                  <a:pt x="1209265" y="59159"/>
                </a:lnTo>
                <a:lnTo>
                  <a:pt x="1163798" y="209029"/>
                </a:lnTo>
                <a:lnTo>
                  <a:pt x="1126331" y="1774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Freeform 10">
            <a:hlinkClick r:id="rId2"/>
          </p:cNvPr>
          <p:cNvSpPr/>
          <p:nvPr/>
        </p:nvSpPr>
        <p:spPr>
          <a:xfrm>
            <a:off x="5511960" y="1184400"/>
            <a:ext cx="2708280" cy="2751120"/>
          </a:xfrm>
          <a:custGeom>
            <a:avLst/>
            <a:gdLst/>
            <a:ahLst/>
            <a:rect l="l" t="t" r="r" b="b"/>
            <a:pathLst>
              <a:path w="1126" h="1144">
                <a:moveTo>
                  <a:pt x="74" y="795"/>
                </a:moveTo>
                <a:cubicBezTo>
                  <a:pt x="299" y="690"/>
                  <a:pt x="299" y="690"/>
                  <a:pt x="299" y="690"/>
                </a:cubicBezTo>
                <a:cubicBezTo>
                  <a:pt x="328" y="743"/>
                  <a:pt x="375" y="787"/>
                  <a:pt x="435" y="813"/>
                </a:cubicBezTo>
                <a:cubicBezTo>
                  <a:pt x="352" y="1047"/>
                  <a:pt x="352" y="1047"/>
                  <a:pt x="352" y="1047"/>
                </a:cubicBezTo>
                <a:cubicBezTo>
                  <a:pt x="228" y="998"/>
                  <a:pt x="131" y="907"/>
                  <a:pt x="74" y="795"/>
                </a:cubicBezTo>
                <a:close/>
                <a:moveTo>
                  <a:pt x="283" y="657"/>
                </a:moveTo>
                <a:cubicBezTo>
                  <a:pt x="259" y="597"/>
                  <a:pt x="256" y="527"/>
                  <a:pt x="280" y="461"/>
                </a:cubicBezTo>
                <a:cubicBezTo>
                  <a:pt x="299" y="406"/>
                  <a:pt x="333" y="361"/>
                  <a:pt x="377" y="328"/>
                </a:cubicBezTo>
                <a:cubicBezTo>
                  <a:pt x="242" y="120"/>
                  <a:pt x="242" y="120"/>
                  <a:pt x="242" y="120"/>
                </a:cubicBezTo>
                <a:cubicBezTo>
                  <a:pt x="154" y="181"/>
                  <a:pt x="84" y="270"/>
                  <a:pt x="46" y="378"/>
                </a:cubicBezTo>
                <a:cubicBezTo>
                  <a:pt x="0" y="509"/>
                  <a:pt x="8" y="645"/>
                  <a:pt x="59" y="763"/>
                </a:cubicBezTo>
                <a:lnTo>
                  <a:pt x="283" y="657"/>
                </a:lnTo>
                <a:close/>
                <a:moveTo>
                  <a:pt x="407" y="309"/>
                </a:moveTo>
                <a:cubicBezTo>
                  <a:pt x="475" y="271"/>
                  <a:pt x="558" y="261"/>
                  <a:pt x="638" y="289"/>
                </a:cubicBezTo>
                <a:cubicBezTo>
                  <a:pt x="651" y="293"/>
                  <a:pt x="664" y="299"/>
                  <a:pt x="676" y="305"/>
                </a:cubicBezTo>
                <a:cubicBezTo>
                  <a:pt x="805" y="93"/>
                  <a:pt x="805" y="93"/>
                  <a:pt x="805" y="93"/>
                </a:cubicBezTo>
                <a:cubicBezTo>
                  <a:pt x="778" y="78"/>
                  <a:pt x="750" y="65"/>
                  <a:pt x="720" y="55"/>
                </a:cubicBezTo>
                <a:cubicBezTo>
                  <a:pt x="565" y="0"/>
                  <a:pt x="402" y="22"/>
                  <a:pt x="272" y="101"/>
                </a:cubicBezTo>
                <a:lnTo>
                  <a:pt x="407" y="309"/>
                </a:lnTo>
                <a:close/>
                <a:moveTo>
                  <a:pt x="706" y="324"/>
                </a:moveTo>
                <a:cubicBezTo>
                  <a:pt x="807" y="394"/>
                  <a:pt x="852" y="526"/>
                  <a:pt x="810" y="647"/>
                </a:cubicBezTo>
                <a:cubicBezTo>
                  <a:pt x="760" y="788"/>
                  <a:pt x="610" y="864"/>
                  <a:pt x="468" y="824"/>
                </a:cubicBezTo>
                <a:cubicBezTo>
                  <a:pt x="386" y="1059"/>
                  <a:pt x="386" y="1059"/>
                  <a:pt x="386" y="1059"/>
                </a:cubicBezTo>
                <a:cubicBezTo>
                  <a:pt x="657" y="1144"/>
                  <a:pt x="949" y="999"/>
                  <a:pt x="1044" y="730"/>
                </a:cubicBezTo>
                <a:cubicBezTo>
                  <a:pt x="1126" y="495"/>
                  <a:pt x="1034" y="242"/>
                  <a:pt x="836" y="112"/>
                </a:cubicBezTo>
                <a:lnTo>
                  <a:pt x="706" y="324"/>
                </a:lnTo>
                <a:close/>
              </a:path>
            </a:pathLst>
          </a:custGeom>
          <a:solidFill>
            <a:srgbClr val="d4e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Freeform 11"/>
          <p:cNvSpPr/>
          <p:nvPr/>
        </p:nvSpPr>
        <p:spPr>
          <a:xfrm>
            <a:off x="7661160" y="1965240"/>
            <a:ext cx="2659320" cy="2428920"/>
          </a:xfrm>
          <a:custGeom>
            <a:avLst/>
            <a:gdLst/>
            <a:ahLst/>
            <a:rect l="l" t="t" r="r" b="b"/>
            <a:pathLst>
              <a:path w="1106" h="1010">
                <a:moveTo>
                  <a:pt x="1064" y="865"/>
                </a:moveTo>
                <a:cubicBezTo>
                  <a:pt x="723" y="676"/>
                  <a:pt x="383" y="1010"/>
                  <a:pt x="42" y="821"/>
                </a:cubicBezTo>
                <a:cubicBezTo>
                  <a:pt x="28" y="621"/>
                  <a:pt x="14" y="420"/>
                  <a:pt x="0" y="220"/>
                </a:cubicBezTo>
                <a:cubicBezTo>
                  <a:pt x="369" y="392"/>
                  <a:pt x="738" y="0"/>
                  <a:pt x="1106" y="173"/>
                </a:cubicBezTo>
                <a:cubicBezTo>
                  <a:pt x="1092" y="403"/>
                  <a:pt x="1078" y="634"/>
                  <a:pt x="1064" y="865"/>
                </a:cubicBezTo>
                <a:close/>
              </a:path>
            </a:pathLst>
          </a:custGeom>
          <a:solidFill>
            <a:srgbClr val="468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Freeform 12"/>
          <p:cNvSpPr/>
          <p:nvPr/>
        </p:nvSpPr>
        <p:spPr>
          <a:xfrm>
            <a:off x="7661160" y="1965240"/>
            <a:ext cx="2659320" cy="2428920"/>
          </a:xfrm>
          <a:custGeom>
            <a:avLst/>
            <a:gdLst/>
            <a:ahLst/>
            <a:rect l="l" t="t" r="r" b="b"/>
            <a:pathLst>
              <a:path w="1106" h="1010">
                <a:moveTo>
                  <a:pt x="1064" y="865"/>
                </a:moveTo>
                <a:cubicBezTo>
                  <a:pt x="723" y="676"/>
                  <a:pt x="383" y="1010"/>
                  <a:pt x="42" y="821"/>
                </a:cubicBezTo>
                <a:cubicBezTo>
                  <a:pt x="28" y="621"/>
                  <a:pt x="14" y="420"/>
                  <a:pt x="0" y="220"/>
                </a:cubicBezTo>
                <a:cubicBezTo>
                  <a:pt x="369" y="392"/>
                  <a:pt x="738" y="0"/>
                  <a:pt x="1106" y="173"/>
                </a:cubicBezTo>
                <a:cubicBezTo>
                  <a:pt x="1092" y="403"/>
                  <a:pt x="1078" y="634"/>
                  <a:pt x="1064" y="865"/>
                </a:cubicBezTo>
                <a:close/>
              </a:path>
            </a:pathLst>
          </a:custGeom>
          <a:solidFill>
            <a:srgbClr val="0059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Freeform 13"/>
          <p:cNvSpPr/>
          <p:nvPr/>
        </p:nvSpPr>
        <p:spPr>
          <a:xfrm>
            <a:off x="7800840" y="2300400"/>
            <a:ext cx="2379960" cy="1788840"/>
          </a:xfrm>
          <a:custGeom>
            <a:avLst/>
            <a:gdLst/>
            <a:ahLst/>
            <a:rect l="l" t="t" r="r" b="b"/>
            <a:pathLst>
              <a:path w="990" h="744">
                <a:moveTo>
                  <a:pt x="966" y="574"/>
                </a:moveTo>
                <a:cubicBezTo>
                  <a:pt x="974" y="430"/>
                  <a:pt x="982" y="286"/>
                  <a:pt x="990" y="142"/>
                </a:cubicBezTo>
                <a:cubicBezTo>
                  <a:pt x="949" y="128"/>
                  <a:pt x="918" y="89"/>
                  <a:pt x="920" y="47"/>
                </a:cubicBezTo>
                <a:cubicBezTo>
                  <a:pt x="637" y="0"/>
                  <a:pt x="353" y="213"/>
                  <a:pt x="70" y="166"/>
                </a:cubicBezTo>
                <a:cubicBezTo>
                  <a:pt x="72" y="203"/>
                  <a:pt x="41" y="228"/>
                  <a:pt x="0" y="214"/>
                </a:cubicBezTo>
                <a:cubicBezTo>
                  <a:pt x="8" y="340"/>
                  <a:pt x="16" y="466"/>
                  <a:pt x="24" y="592"/>
                </a:cubicBezTo>
                <a:cubicBezTo>
                  <a:pt x="63" y="608"/>
                  <a:pt x="96" y="644"/>
                  <a:pt x="98" y="681"/>
                </a:cubicBezTo>
                <a:cubicBezTo>
                  <a:pt x="363" y="744"/>
                  <a:pt x="628" y="565"/>
                  <a:pt x="892" y="628"/>
                </a:cubicBezTo>
                <a:cubicBezTo>
                  <a:pt x="894" y="586"/>
                  <a:pt x="927" y="559"/>
                  <a:pt x="966" y="574"/>
                </a:cubicBezTo>
                <a:close/>
              </a:path>
            </a:pathLst>
          </a:custGeom>
          <a:solidFill>
            <a:srgbClr val="47a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Freeform 14"/>
          <p:cNvSpPr/>
          <p:nvPr/>
        </p:nvSpPr>
        <p:spPr>
          <a:xfrm>
            <a:off x="8580600" y="2743200"/>
            <a:ext cx="822240" cy="930240"/>
          </a:xfrm>
          <a:custGeom>
            <a:avLst/>
            <a:gdLst/>
            <a:ahLst/>
            <a:rect l="l" t="t" r="r" b="b"/>
            <a:pathLst>
              <a:path w="342" h="387">
                <a:moveTo>
                  <a:pt x="340" y="158"/>
                </a:moveTo>
                <a:cubicBezTo>
                  <a:pt x="337" y="253"/>
                  <a:pt x="262" y="343"/>
                  <a:pt x="171" y="365"/>
                </a:cubicBezTo>
                <a:cubicBezTo>
                  <a:pt x="80" y="387"/>
                  <a:pt x="5" y="326"/>
                  <a:pt x="3" y="236"/>
                </a:cubicBezTo>
                <a:cubicBezTo>
                  <a:pt x="0" y="146"/>
                  <a:pt x="76" y="56"/>
                  <a:pt x="171" y="28"/>
                </a:cubicBezTo>
                <a:cubicBezTo>
                  <a:pt x="266" y="0"/>
                  <a:pt x="342" y="61"/>
                  <a:pt x="340" y="158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Freeform 15"/>
          <p:cNvSpPr/>
          <p:nvPr/>
        </p:nvSpPr>
        <p:spPr>
          <a:xfrm>
            <a:off x="7986600" y="3135240"/>
            <a:ext cx="441360" cy="417600"/>
          </a:xfrm>
          <a:custGeom>
            <a:avLst/>
            <a:gdLst/>
            <a:ahLst/>
            <a:rect l="l" t="t" r="r" b="b"/>
            <a:pathLst>
              <a:path w="184" h="174">
                <a:moveTo>
                  <a:pt x="182" y="82"/>
                </a:moveTo>
                <a:cubicBezTo>
                  <a:pt x="184" y="130"/>
                  <a:pt x="145" y="174"/>
                  <a:pt x="96" y="172"/>
                </a:cubicBezTo>
                <a:cubicBezTo>
                  <a:pt x="47" y="170"/>
                  <a:pt x="5" y="122"/>
                  <a:pt x="3" y="76"/>
                </a:cubicBezTo>
                <a:cubicBezTo>
                  <a:pt x="0" y="29"/>
                  <a:pt x="39" y="0"/>
                  <a:pt x="89" y="1"/>
                </a:cubicBezTo>
                <a:cubicBezTo>
                  <a:pt x="139" y="1"/>
                  <a:pt x="181" y="34"/>
                  <a:pt x="182" y="82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Freeform 16"/>
          <p:cNvSpPr/>
          <p:nvPr/>
        </p:nvSpPr>
        <p:spPr>
          <a:xfrm>
            <a:off x="9543960" y="2860560"/>
            <a:ext cx="443160" cy="45900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181" y="105"/>
                </a:moveTo>
                <a:cubicBezTo>
                  <a:pt x="178" y="157"/>
                  <a:pt x="136" y="191"/>
                  <a:pt x="87" y="189"/>
                </a:cubicBezTo>
                <a:cubicBezTo>
                  <a:pt x="39" y="187"/>
                  <a:pt x="0" y="151"/>
                  <a:pt x="1" y="99"/>
                </a:cubicBezTo>
                <a:cubicBezTo>
                  <a:pt x="3" y="48"/>
                  <a:pt x="44" y="0"/>
                  <a:pt x="95" y="1"/>
                </a:cubicBezTo>
                <a:cubicBezTo>
                  <a:pt x="145" y="1"/>
                  <a:pt x="184" y="52"/>
                  <a:pt x="181" y="105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Freeform 17"/>
          <p:cNvSpPr/>
          <p:nvPr/>
        </p:nvSpPr>
        <p:spPr>
          <a:xfrm>
            <a:off x="8809200" y="2957400"/>
            <a:ext cx="361800" cy="514440"/>
          </a:xfrm>
          <a:custGeom>
            <a:avLst/>
            <a:gdLst/>
            <a:ahLst/>
            <a:rect l="l" t="t" r="r" b="b"/>
            <a:pathLst>
              <a:path w="151" h="214">
                <a:moveTo>
                  <a:pt x="146" y="40"/>
                </a:moveTo>
                <a:cubicBezTo>
                  <a:pt x="131" y="47"/>
                  <a:pt x="116" y="53"/>
                  <a:pt x="100" y="59"/>
                </a:cubicBezTo>
                <a:cubicBezTo>
                  <a:pt x="98" y="54"/>
                  <a:pt x="96" y="51"/>
                  <a:pt x="94" y="49"/>
                </a:cubicBezTo>
                <a:cubicBezTo>
                  <a:pt x="92" y="47"/>
                  <a:pt x="89" y="46"/>
                  <a:pt x="85" y="45"/>
                </a:cubicBezTo>
                <a:cubicBezTo>
                  <a:pt x="85" y="56"/>
                  <a:pt x="85" y="68"/>
                  <a:pt x="85" y="80"/>
                </a:cubicBezTo>
                <a:cubicBezTo>
                  <a:pt x="110" y="80"/>
                  <a:pt x="126" y="83"/>
                  <a:pt x="135" y="88"/>
                </a:cubicBezTo>
                <a:cubicBezTo>
                  <a:pt x="145" y="96"/>
                  <a:pt x="151" y="107"/>
                  <a:pt x="151" y="122"/>
                </a:cubicBezTo>
                <a:cubicBezTo>
                  <a:pt x="151" y="131"/>
                  <a:pt x="149" y="140"/>
                  <a:pt x="145" y="148"/>
                </a:cubicBezTo>
                <a:cubicBezTo>
                  <a:pt x="141" y="157"/>
                  <a:pt x="136" y="164"/>
                  <a:pt x="129" y="171"/>
                </a:cubicBezTo>
                <a:cubicBezTo>
                  <a:pt x="123" y="177"/>
                  <a:pt x="117" y="182"/>
                  <a:pt x="110" y="186"/>
                </a:cubicBezTo>
                <a:cubicBezTo>
                  <a:pt x="103" y="190"/>
                  <a:pt x="95" y="194"/>
                  <a:pt x="85" y="196"/>
                </a:cubicBezTo>
                <a:cubicBezTo>
                  <a:pt x="85" y="201"/>
                  <a:pt x="85" y="206"/>
                  <a:pt x="85" y="210"/>
                </a:cubicBezTo>
                <a:cubicBezTo>
                  <a:pt x="79" y="212"/>
                  <a:pt x="73" y="213"/>
                  <a:pt x="67" y="214"/>
                </a:cubicBezTo>
                <a:cubicBezTo>
                  <a:pt x="67" y="210"/>
                  <a:pt x="67" y="205"/>
                  <a:pt x="67" y="201"/>
                </a:cubicBezTo>
                <a:cubicBezTo>
                  <a:pt x="55" y="202"/>
                  <a:pt x="46" y="203"/>
                  <a:pt x="38" y="202"/>
                </a:cubicBezTo>
                <a:cubicBezTo>
                  <a:pt x="31" y="201"/>
                  <a:pt x="25" y="199"/>
                  <a:pt x="19" y="195"/>
                </a:cubicBezTo>
                <a:cubicBezTo>
                  <a:pt x="14" y="191"/>
                  <a:pt x="10" y="187"/>
                  <a:pt x="7" y="182"/>
                </a:cubicBezTo>
                <a:cubicBezTo>
                  <a:pt x="4" y="177"/>
                  <a:pt x="2" y="171"/>
                  <a:pt x="0" y="163"/>
                </a:cubicBezTo>
                <a:cubicBezTo>
                  <a:pt x="16" y="157"/>
                  <a:pt x="33" y="151"/>
                  <a:pt x="49" y="145"/>
                </a:cubicBezTo>
                <a:cubicBezTo>
                  <a:pt x="51" y="153"/>
                  <a:pt x="53" y="158"/>
                  <a:pt x="55" y="161"/>
                </a:cubicBezTo>
                <a:cubicBezTo>
                  <a:pt x="57" y="164"/>
                  <a:pt x="62" y="166"/>
                  <a:pt x="67" y="168"/>
                </a:cubicBezTo>
                <a:cubicBezTo>
                  <a:pt x="67" y="153"/>
                  <a:pt x="67" y="139"/>
                  <a:pt x="67" y="125"/>
                </a:cubicBezTo>
                <a:cubicBezTo>
                  <a:pt x="51" y="124"/>
                  <a:pt x="39" y="123"/>
                  <a:pt x="32" y="122"/>
                </a:cubicBezTo>
                <a:cubicBezTo>
                  <a:pt x="25" y="120"/>
                  <a:pt x="19" y="116"/>
                  <a:pt x="14" y="110"/>
                </a:cubicBezTo>
                <a:cubicBezTo>
                  <a:pt x="9" y="104"/>
                  <a:pt x="6" y="96"/>
                  <a:pt x="6" y="85"/>
                </a:cubicBezTo>
                <a:cubicBezTo>
                  <a:pt x="6" y="71"/>
                  <a:pt x="11" y="58"/>
                  <a:pt x="21" y="46"/>
                </a:cubicBezTo>
                <a:cubicBezTo>
                  <a:pt x="32" y="33"/>
                  <a:pt x="47" y="24"/>
                  <a:pt x="67" y="17"/>
                </a:cubicBezTo>
                <a:cubicBezTo>
                  <a:pt x="67" y="13"/>
                  <a:pt x="67" y="9"/>
                  <a:pt x="67" y="5"/>
                </a:cubicBezTo>
                <a:cubicBezTo>
                  <a:pt x="73" y="4"/>
                  <a:pt x="79" y="2"/>
                  <a:pt x="85" y="0"/>
                </a:cubicBezTo>
                <a:cubicBezTo>
                  <a:pt x="85" y="4"/>
                  <a:pt x="85" y="8"/>
                  <a:pt x="85" y="13"/>
                </a:cubicBezTo>
                <a:cubicBezTo>
                  <a:pt x="103" y="9"/>
                  <a:pt x="118" y="9"/>
                  <a:pt x="127" y="14"/>
                </a:cubicBezTo>
                <a:cubicBezTo>
                  <a:pt x="137" y="19"/>
                  <a:pt x="143" y="28"/>
                  <a:pt x="146" y="40"/>
                </a:cubicBezTo>
                <a:close/>
                <a:moveTo>
                  <a:pt x="67" y="49"/>
                </a:moveTo>
                <a:cubicBezTo>
                  <a:pt x="62" y="52"/>
                  <a:pt x="58" y="55"/>
                  <a:pt x="56" y="58"/>
                </a:cubicBezTo>
                <a:cubicBezTo>
                  <a:pt x="54" y="61"/>
                  <a:pt x="53" y="64"/>
                  <a:pt x="53" y="68"/>
                </a:cubicBezTo>
                <a:cubicBezTo>
                  <a:pt x="53" y="71"/>
                  <a:pt x="54" y="74"/>
                  <a:pt x="56" y="76"/>
                </a:cubicBezTo>
                <a:cubicBezTo>
                  <a:pt x="58" y="78"/>
                  <a:pt x="62" y="80"/>
                  <a:pt x="67" y="80"/>
                </a:cubicBezTo>
                <a:cubicBezTo>
                  <a:pt x="67" y="70"/>
                  <a:pt x="67" y="59"/>
                  <a:pt x="67" y="49"/>
                </a:cubicBezTo>
                <a:close/>
                <a:moveTo>
                  <a:pt x="85" y="164"/>
                </a:moveTo>
                <a:cubicBezTo>
                  <a:pt x="92" y="161"/>
                  <a:pt x="97" y="157"/>
                  <a:pt x="100" y="153"/>
                </a:cubicBezTo>
                <a:cubicBezTo>
                  <a:pt x="103" y="149"/>
                  <a:pt x="105" y="144"/>
                  <a:pt x="105" y="140"/>
                </a:cubicBezTo>
                <a:cubicBezTo>
                  <a:pt x="105" y="136"/>
                  <a:pt x="104" y="133"/>
                  <a:pt x="101" y="130"/>
                </a:cubicBezTo>
                <a:cubicBezTo>
                  <a:pt x="98" y="128"/>
                  <a:pt x="93" y="126"/>
                  <a:pt x="85" y="125"/>
                </a:cubicBezTo>
                <a:cubicBezTo>
                  <a:pt x="85" y="138"/>
                  <a:pt x="85" y="151"/>
                  <a:pt x="85" y="164"/>
                </a:cubicBezTo>
                <a:close/>
              </a:path>
            </a:pathLst>
          </a:custGeom>
          <a:solidFill>
            <a:srgbClr val="47a5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Freeform 18"/>
          <p:cNvSpPr/>
          <p:nvPr/>
        </p:nvSpPr>
        <p:spPr>
          <a:xfrm>
            <a:off x="7404120" y="2192400"/>
            <a:ext cx="2662200" cy="2428920"/>
          </a:xfrm>
          <a:custGeom>
            <a:avLst/>
            <a:gdLst/>
            <a:ahLst/>
            <a:rect l="l" t="t" r="r" b="b"/>
            <a:pathLst>
              <a:path w="1107" h="1010">
                <a:moveTo>
                  <a:pt x="1064" y="865"/>
                </a:moveTo>
                <a:cubicBezTo>
                  <a:pt x="723" y="677"/>
                  <a:pt x="383" y="1010"/>
                  <a:pt x="42" y="822"/>
                </a:cubicBezTo>
                <a:cubicBezTo>
                  <a:pt x="28" y="621"/>
                  <a:pt x="14" y="421"/>
                  <a:pt x="0" y="220"/>
                </a:cubicBezTo>
                <a:cubicBezTo>
                  <a:pt x="369" y="393"/>
                  <a:pt x="738" y="0"/>
                  <a:pt x="1107" y="173"/>
                </a:cubicBezTo>
                <a:cubicBezTo>
                  <a:pt x="1092" y="404"/>
                  <a:pt x="1078" y="635"/>
                  <a:pt x="1064" y="865"/>
                </a:cubicBezTo>
                <a:close/>
              </a:path>
            </a:pathLst>
          </a:custGeom>
          <a:solidFill>
            <a:srgbClr val="468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Freeform 19"/>
          <p:cNvSpPr/>
          <p:nvPr/>
        </p:nvSpPr>
        <p:spPr>
          <a:xfrm>
            <a:off x="7404120" y="2192400"/>
            <a:ext cx="2662200" cy="2428920"/>
          </a:xfrm>
          <a:custGeom>
            <a:avLst/>
            <a:gdLst/>
            <a:ahLst/>
            <a:rect l="l" t="t" r="r" b="b"/>
            <a:pathLst>
              <a:path w="1107" h="1010">
                <a:moveTo>
                  <a:pt x="1064" y="865"/>
                </a:moveTo>
                <a:cubicBezTo>
                  <a:pt x="723" y="677"/>
                  <a:pt x="383" y="1010"/>
                  <a:pt x="42" y="822"/>
                </a:cubicBezTo>
                <a:cubicBezTo>
                  <a:pt x="28" y="621"/>
                  <a:pt x="14" y="421"/>
                  <a:pt x="0" y="220"/>
                </a:cubicBezTo>
                <a:cubicBezTo>
                  <a:pt x="369" y="393"/>
                  <a:pt x="738" y="0"/>
                  <a:pt x="1107" y="173"/>
                </a:cubicBezTo>
                <a:cubicBezTo>
                  <a:pt x="1092" y="404"/>
                  <a:pt x="1078" y="635"/>
                  <a:pt x="1064" y="865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Freeform 20">
            <a:hlinkClick r:id="rId3"/>
          </p:cNvPr>
          <p:cNvSpPr/>
          <p:nvPr/>
        </p:nvSpPr>
        <p:spPr>
          <a:xfrm>
            <a:off x="7543800" y="2529000"/>
            <a:ext cx="2379600" cy="1788840"/>
          </a:xfrm>
          <a:custGeom>
            <a:avLst/>
            <a:gdLst/>
            <a:ahLst/>
            <a:rect l="l" t="t" r="r" b="b"/>
            <a:pathLst>
              <a:path w="990" h="744">
                <a:moveTo>
                  <a:pt x="966" y="573"/>
                </a:moveTo>
                <a:cubicBezTo>
                  <a:pt x="974" y="429"/>
                  <a:pt x="982" y="285"/>
                  <a:pt x="990" y="141"/>
                </a:cubicBezTo>
                <a:cubicBezTo>
                  <a:pt x="950" y="127"/>
                  <a:pt x="918" y="89"/>
                  <a:pt x="920" y="47"/>
                </a:cubicBezTo>
                <a:cubicBezTo>
                  <a:pt x="637" y="0"/>
                  <a:pt x="353" y="212"/>
                  <a:pt x="70" y="165"/>
                </a:cubicBezTo>
                <a:cubicBezTo>
                  <a:pt x="72" y="202"/>
                  <a:pt x="41" y="228"/>
                  <a:pt x="0" y="214"/>
                </a:cubicBezTo>
                <a:cubicBezTo>
                  <a:pt x="8" y="340"/>
                  <a:pt x="17" y="466"/>
                  <a:pt x="25" y="592"/>
                </a:cubicBezTo>
                <a:cubicBezTo>
                  <a:pt x="63" y="607"/>
                  <a:pt x="96" y="644"/>
                  <a:pt x="98" y="681"/>
                </a:cubicBezTo>
                <a:cubicBezTo>
                  <a:pt x="363" y="744"/>
                  <a:pt x="628" y="564"/>
                  <a:pt x="893" y="627"/>
                </a:cubicBezTo>
                <a:cubicBezTo>
                  <a:pt x="894" y="586"/>
                  <a:pt x="927" y="558"/>
                  <a:pt x="966" y="573"/>
                </a:cubicBezTo>
                <a:close/>
              </a:path>
            </a:pathLst>
          </a:custGeom>
          <a:solidFill>
            <a:srgbClr val="6cb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Freeform 21"/>
          <p:cNvSpPr/>
          <p:nvPr/>
        </p:nvSpPr>
        <p:spPr>
          <a:xfrm>
            <a:off x="8323200" y="2971800"/>
            <a:ext cx="822240" cy="927000"/>
          </a:xfrm>
          <a:custGeom>
            <a:avLst/>
            <a:gdLst/>
            <a:ahLst/>
            <a:rect l="l" t="t" r="r" b="b"/>
            <a:pathLst>
              <a:path w="342" h="386">
                <a:moveTo>
                  <a:pt x="340" y="157"/>
                </a:moveTo>
                <a:cubicBezTo>
                  <a:pt x="337" y="253"/>
                  <a:pt x="262" y="343"/>
                  <a:pt x="171" y="365"/>
                </a:cubicBezTo>
                <a:cubicBezTo>
                  <a:pt x="80" y="386"/>
                  <a:pt x="5" y="326"/>
                  <a:pt x="3" y="235"/>
                </a:cubicBezTo>
                <a:cubicBezTo>
                  <a:pt x="0" y="146"/>
                  <a:pt x="76" y="56"/>
                  <a:pt x="171" y="28"/>
                </a:cubicBezTo>
                <a:cubicBezTo>
                  <a:pt x="267" y="0"/>
                  <a:pt x="342" y="61"/>
                  <a:pt x="340" y="157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Freeform 22"/>
          <p:cNvSpPr/>
          <p:nvPr/>
        </p:nvSpPr>
        <p:spPr>
          <a:xfrm>
            <a:off x="7729560" y="3363840"/>
            <a:ext cx="441360" cy="416160"/>
          </a:xfrm>
          <a:custGeom>
            <a:avLst/>
            <a:gdLst/>
            <a:ahLst/>
            <a:rect l="l" t="t" r="r" b="b"/>
            <a:pathLst>
              <a:path w="184" h="173">
                <a:moveTo>
                  <a:pt x="183" y="82"/>
                </a:moveTo>
                <a:cubicBezTo>
                  <a:pt x="184" y="130"/>
                  <a:pt x="145" y="173"/>
                  <a:pt x="96" y="171"/>
                </a:cubicBezTo>
                <a:cubicBezTo>
                  <a:pt x="47" y="169"/>
                  <a:pt x="6" y="122"/>
                  <a:pt x="3" y="75"/>
                </a:cubicBezTo>
                <a:cubicBezTo>
                  <a:pt x="0" y="29"/>
                  <a:pt x="39" y="0"/>
                  <a:pt x="89" y="0"/>
                </a:cubicBezTo>
                <a:cubicBezTo>
                  <a:pt x="139" y="1"/>
                  <a:pt x="181" y="34"/>
                  <a:pt x="183" y="82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Freeform 23"/>
          <p:cNvSpPr/>
          <p:nvPr/>
        </p:nvSpPr>
        <p:spPr>
          <a:xfrm>
            <a:off x="9286920" y="3089160"/>
            <a:ext cx="442800" cy="45720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181" y="104"/>
                </a:moveTo>
                <a:cubicBezTo>
                  <a:pt x="178" y="157"/>
                  <a:pt x="137" y="190"/>
                  <a:pt x="88" y="189"/>
                </a:cubicBezTo>
                <a:cubicBezTo>
                  <a:pt x="39" y="187"/>
                  <a:pt x="0" y="150"/>
                  <a:pt x="1" y="99"/>
                </a:cubicBezTo>
                <a:cubicBezTo>
                  <a:pt x="3" y="48"/>
                  <a:pt x="44" y="0"/>
                  <a:pt x="95" y="0"/>
                </a:cubicBezTo>
                <a:cubicBezTo>
                  <a:pt x="145" y="0"/>
                  <a:pt x="184" y="51"/>
                  <a:pt x="181" y="104"/>
                </a:cubicBezTo>
                <a:close/>
              </a:path>
            </a:pathLst>
          </a:custGeom>
          <a:solidFill>
            <a:srgbClr val="007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Freeform 24"/>
          <p:cNvSpPr/>
          <p:nvPr/>
        </p:nvSpPr>
        <p:spPr>
          <a:xfrm>
            <a:off x="8551800" y="3184560"/>
            <a:ext cx="362160" cy="515880"/>
          </a:xfrm>
          <a:custGeom>
            <a:avLst/>
            <a:gdLst/>
            <a:ahLst/>
            <a:rect l="l" t="t" r="r" b="b"/>
            <a:pathLst>
              <a:path w="151" h="214">
                <a:moveTo>
                  <a:pt x="146" y="40"/>
                </a:moveTo>
                <a:cubicBezTo>
                  <a:pt x="131" y="46"/>
                  <a:pt x="116" y="53"/>
                  <a:pt x="100" y="59"/>
                </a:cubicBezTo>
                <a:cubicBezTo>
                  <a:pt x="98" y="54"/>
                  <a:pt x="96" y="50"/>
                  <a:pt x="94" y="49"/>
                </a:cubicBezTo>
                <a:cubicBezTo>
                  <a:pt x="92" y="47"/>
                  <a:pt x="89" y="45"/>
                  <a:pt x="85" y="44"/>
                </a:cubicBezTo>
                <a:cubicBezTo>
                  <a:pt x="85" y="56"/>
                  <a:pt x="85" y="68"/>
                  <a:pt x="85" y="80"/>
                </a:cubicBezTo>
                <a:cubicBezTo>
                  <a:pt x="110" y="80"/>
                  <a:pt x="126" y="83"/>
                  <a:pt x="135" y="88"/>
                </a:cubicBezTo>
                <a:cubicBezTo>
                  <a:pt x="146" y="95"/>
                  <a:pt x="151" y="106"/>
                  <a:pt x="151" y="122"/>
                </a:cubicBezTo>
                <a:cubicBezTo>
                  <a:pt x="151" y="131"/>
                  <a:pt x="149" y="139"/>
                  <a:pt x="145" y="148"/>
                </a:cubicBezTo>
                <a:cubicBezTo>
                  <a:pt x="141" y="156"/>
                  <a:pt x="136" y="164"/>
                  <a:pt x="130" y="170"/>
                </a:cubicBezTo>
                <a:cubicBezTo>
                  <a:pt x="123" y="177"/>
                  <a:pt x="117" y="182"/>
                  <a:pt x="110" y="186"/>
                </a:cubicBezTo>
                <a:cubicBezTo>
                  <a:pt x="103" y="190"/>
                  <a:pt x="95" y="193"/>
                  <a:pt x="85" y="196"/>
                </a:cubicBezTo>
                <a:cubicBezTo>
                  <a:pt x="85" y="200"/>
                  <a:pt x="85" y="205"/>
                  <a:pt x="85" y="210"/>
                </a:cubicBezTo>
                <a:cubicBezTo>
                  <a:pt x="79" y="211"/>
                  <a:pt x="73" y="213"/>
                  <a:pt x="67" y="214"/>
                </a:cubicBezTo>
                <a:cubicBezTo>
                  <a:pt x="67" y="209"/>
                  <a:pt x="67" y="205"/>
                  <a:pt x="67" y="200"/>
                </a:cubicBezTo>
                <a:cubicBezTo>
                  <a:pt x="56" y="202"/>
                  <a:pt x="46" y="202"/>
                  <a:pt x="39" y="201"/>
                </a:cubicBezTo>
                <a:cubicBezTo>
                  <a:pt x="31" y="200"/>
                  <a:pt x="25" y="198"/>
                  <a:pt x="19" y="194"/>
                </a:cubicBezTo>
                <a:cubicBezTo>
                  <a:pt x="14" y="191"/>
                  <a:pt x="10" y="186"/>
                  <a:pt x="7" y="182"/>
                </a:cubicBezTo>
                <a:cubicBezTo>
                  <a:pt x="4" y="177"/>
                  <a:pt x="2" y="170"/>
                  <a:pt x="0" y="162"/>
                </a:cubicBezTo>
                <a:cubicBezTo>
                  <a:pt x="16" y="157"/>
                  <a:pt x="33" y="151"/>
                  <a:pt x="49" y="145"/>
                </a:cubicBezTo>
                <a:cubicBezTo>
                  <a:pt x="51" y="152"/>
                  <a:pt x="53" y="158"/>
                  <a:pt x="55" y="161"/>
                </a:cubicBezTo>
                <a:cubicBezTo>
                  <a:pt x="58" y="164"/>
                  <a:pt x="62" y="166"/>
                  <a:pt x="67" y="167"/>
                </a:cubicBezTo>
                <a:cubicBezTo>
                  <a:pt x="67" y="153"/>
                  <a:pt x="67" y="138"/>
                  <a:pt x="67" y="124"/>
                </a:cubicBezTo>
                <a:cubicBezTo>
                  <a:pt x="51" y="124"/>
                  <a:pt x="39" y="123"/>
                  <a:pt x="32" y="121"/>
                </a:cubicBezTo>
                <a:cubicBezTo>
                  <a:pt x="25" y="120"/>
                  <a:pt x="19" y="116"/>
                  <a:pt x="14" y="110"/>
                </a:cubicBezTo>
                <a:cubicBezTo>
                  <a:pt x="9" y="104"/>
                  <a:pt x="7" y="95"/>
                  <a:pt x="7" y="85"/>
                </a:cubicBezTo>
                <a:cubicBezTo>
                  <a:pt x="6" y="71"/>
                  <a:pt x="11" y="57"/>
                  <a:pt x="22" y="45"/>
                </a:cubicBezTo>
                <a:cubicBezTo>
                  <a:pt x="32" y="33"/>
                  <a:pt x="47" y="23"/>
                  <a:pt x="67" y="17"/>
                </a:cubicBezTo>
                <a:cubicBezTo>
                  <a:pt x="67" y="13"/>
                  <a:pt x="67" y="9"/>
                  <a:pt x="67" y="5"/>
                </a:cubicBezTo>
                <a:cubicBezTo>
                  <a:pt x="73" y="3"/>
                  <a:pt x="79" y="2"/>
                  <a:pt x="85" y="0"/>
                </a:cubicBezTo>
                <a:cubicBezTo>
                  <a:pt x="85" y="4"/>
                  <a:pt x="85" y="8"/>
                  <a:pt x="85" y="12"/>
                </a:cubicBezTo>
                <a:cubicBezTo>
                  <a:pt x="104" y="8"/>
                  <a:pt x="118" y="9"/>
                  <a:pt x="127" y="14"/>
                </a:cubicBezTo>
                <a:cubicBezTo>
                  <a:pt x="137" y="19"/>
                  <a:pt x="143" y="28"/>
                  <a:pt x="146" y="40"/>
                </a:cubicBezTo>
                <a:close/>
                <a:moveTo>
                  <a:pt x="67" y="48"/>
                </a:moveTo>
                <a:cubicBezTo>
                  <a:pt x="62" y="51"/>
                  <a:pt x="58" y="55"/>
                  <a:pt x="56" y="58"/>
                </a:cubicBezTo>
                <a:cubicBezTo>
                  <a:pt x="54" y="61"/>
                  <a:pt x="53" y="64"/>
                  <a:pt x="53" y="67"/>
                </a:cubicBezTo>
                <a:cubicBezTo>
                  <a:pt x="53" y="71"/>
                  <a:pt x="54" y="74"/>
                  <a:pt x="56" y="76"/>
                </a:cubicBezTo>
                <a:cubicBezTo>
                  <a:pt x="58" y="78"/>
                  <a:pt x="62" y="79"/>
                  <a:pt x="67" y="80"/>
                </a:cubicBezTo>
                <a:cubicBezTo>
                  <a:pt x="67" y="69"/>
                  <a:pt x="67" y="59"/>
                  <a:pt x="67" y="48"/>
                </a:cubicBezTo>
                <a:close/>
                <a:moveTo>
                  <a:pt x="85" y="164"/>
                </a:moveTo>
                <a:cubicBezTo>
                  <a:pt x="92" y="161"/>
                  <a:pt x="97" y="157"/>
                  <a:pt x="100" y="153"/>
                </a:cubicBezTo>
                <a:cubicBezTo>
                  <a:pt x="103" y="148"/>
                  <a:pt x="105" y="144"/>
                  <a:pt x="105" y="139"/>
                </a:cubicBezTo>
                <a:cubicBezTo>
                  <a:pt x="105" y="136"/>
                  <a:pt x="104" y="132"/>
                  <a:pt x="101" y="130"/>
                </a:cubicBezTo>
                <a:cubicBezTo>
                  <a:pt x="98" y="127"/>
                  <a:pt x="93" y="126"/>
                  <a:pt x="85" y="125"/>
                </a:cubicBezTo>
                <a:cubicBezTo>
                  <a:pt x="85" y="138"/>
                  <a:pt x="85" y="151"/>
                  <a:pt x="85" y="164"/>
                </a:cubicBezTo>
                <a:close/>
              </a:path>
            </a:pathLst>
          </a:custGeom>
          <a:solidFill>
            <a:srgbClr val="6cb7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Freeform 25"/>
          <p:cNvSpPr/>
          <p:nvPr/>
        </p:nvSpPr>
        <p:spPr>
          <a:xfrm>
            <a:off x="7273800" y="475308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Freeform 26"/>
          <p:cNvSpPr/>
          <p:nvPr/>
        </p:nvSpPr>
        <p:spPr>
          <a:xfrm>
            <a:off x="7804080" y="4994280"/>
            <a:ext cx="1792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Freeform 27"/>
          <p:cNvSpPr/>
          <p:nvPr/>
        </p:nvSpPr>
        <p:spPr>
          <a:xfrm>
            <a:off x="7418520" y="4842000"/>
            <a:ext cx="92376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Freeform 28"/>
          <p:cNvSpPr/>
          <p:nvPr/>
        </p:nvSpPr>
        <p:spPr>
          <a:xfrm>
            <a:off x="7613640" y="487368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Freeform 29"/>
          <p:cNvSpPr/>
          <p:nvPr/>
        </p:nvSpPr>
        <p:spPr>
          <a:xfrm>
            <a:off x="8211960" y="5340240"/>
            <a:ext cx="16704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Freeform 30"/>
          <p:cNvSpPr/>
          <p:nvPr/>
        </p:nvSpPr>
        <p:spPr>
          <a:xfrm>
            <a:off x="8005680" y="5452920"/>
            <a:ext cx="16524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Freeform 31"/>
          <p:cNvSpPr/>
          <p:nvPr/>
        </p:nvSpPr>
        <p:spPr>
          <a:xfrm>
            <a:off x="7594560" y="54561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Freeform 32"/>
          <p:cNvSpPr/>
          <p:nvPr/>
        </p:nvSpPr>
        <p:spPr>
          <a:xfrm>
            <a:off x="7800840" y="54957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Freeform 33"/>
          <p:cNvSpPr/>
          <p:nvPr/>
        </p:nvSpPr>
        <p:spPr>
          <a:xfrm>
            <a:off x="7389720" y="534528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Freeform 34"/>
          <p:cNvSpPr/>
          <p:nvPr/>
        </p:nvSpPr>
        <p:spPr>
          <a:xfrm>
            <a:off x="7273800" y="512604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Freeform 35"/>
          <p:cNvSpPr/>
          <p:nvPr/>
        </p:nvSpPr>
        <p:spPr>
          <a:xfrm>
            <a:off x="8416800" y="512604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Freeform 36"/>
          <p:cNvSpPr/>
          <p:nvPr/>
        </p:nvSpPr>
        <p:spPr>
          <a:xfrm>
            <a:off x="7556400" y="5440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Freeform 37"/>
          <p:cNvSpPr/>
          <p:nvPr/>
        </p:nvSpPr>
        <p:spPr>
          <a:xfrm>
            <a:off x="8379000" y="5299200"/>
            <a:ext cx="3780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Freeform 38"/>
          <p:cNvSpPr/>
          <p:nvPr/>
        </p:nvSpPr>
        <p:spPr>
          <a:xfrm>
            <a:off x="8170920" y="5438880"/>
            <a:ext cx="4104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Freeform 39"/>
          <p:cNvSpPr/>
          <p:nvPr/>
        </p:nvSpPr>
        <p:spPr>
          <a:xfrm>
            <a:off x="7351560" y="53085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Freeform 40"/>
          <p:cNvSpPr/>
          <p:nvPr/>
        </p:nvSpPr>
        <p:spPr>
          <a:xfrm>
            <a:off x="7967520" y="54910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Freeform 41"/>
          <p:cNvSpPr/>
          <p:nvPr/>
        </p:nvSpPr>
        <p:spPr>
          <a:xfrm>
            <a:off x="7759800" y="5491080"/>
            <a:ext cx="41040" cy="1666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Freeform 42"/>
          <p:cNvSpPr/>
          <p:nvPr/>
        </p:nvSpPr>
        <p:spPr>
          <a:xfrm>
            <a:off x="7323120" y="4548240"/>
            <a:ext cx="121140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Freeform 43"/>
          <p:cNvSpPr/>
          <p:nvPr/>
        </p:nvSpPr>
        <p:spPr>
          <a:xfrm>
            <a:off x="7851600" y="4789440"/>
            <a:ext cx="17964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Freeform 44"/>
          <p:cNvSpPr/>
          <p:nvPr/>
        </p:nvSpPr>
        <p:spPr>
          <a:xfrm>
            <a:off x="7467480" y="4637160"/>
            <a:ext cx="922320" cy="57132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Freeform 45"/>
          <p:cNvSpPr/>
          <p:nvPr/>
        </p:nvSpPr>
        <p:spPr>
          <a:xfrm>
            <a:off x="7661160" y="4668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Freeform 46"/>
          <p:cNvSpPr/>
          <p:nvPr/>
        </p:nvSpPr>
        <p:spPr>
          <a:xfrm>
            <a:off x="8259840" y="513540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Freeform 47"/>
          <p:cNvSpPr/>
          <p:nvPr/>
        </p:nvSpPr>
        <p:spPr>
          <a:xfrm>
            <a:off x="8053560" y="5248440"/>
            <a:ext cx="166680" cy="19980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Freeform 48"/>
          <p:cNvSpPr/>
          <p:nvPr/>
        </p:nvSpPr>
        <p:spPr>
          <a:xfrm>
            <a:off x="7642080" y="52513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Freeform 49"/>
          <p:cNvSpPr/>
          <p:nvPr/>
        </p:nvSpPr>
        <p:spPr>
          <a:xfrm>
            <a:off x="7848720" y="52927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Freeform 50"/>
          <p:cNvSpPr/>
          <p:nvPr/>
        </p:nvSpPr>
        <p:spPr>
          <a:xfrm>
            <a:off x="7437600" y="51404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Freeform 51"/>
          <p:cNvSpPr/>
          <p:nvPr/>
        </p:nvSpPr>
        <p:spPr>
          <a:xfrm>
            <a:off x="7323120" y="492120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Freeform 52"/>
          <p:cNvSpPr/>
          <p:nvPr/>
        </p:nvSpPr>
        <p:spPr>
          <a:xfrm>
            <a:off x="8464680" y="49212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Freeform 53"/>
          <p:cNvSpPr/>
          <p:nvPr/>
        </p:nvSpPr>
        <p:spPr>
          <a:xfrm>
            <a:off x="7604280" y="5237280"/>
            <a:ext cx="3780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Freeform 54"/>
          <p:cNvSpPr/>
          <p:nvPr/>
        </p:nvSpPr>
        <p:spPr>
          <a:xfrm>
            <a:off x="8426520" y="50943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Freeform 55"/>
          <p:cNvSpPr/>
          <p:nvPr/>
        </p:nvSpPr>
        <p:spPr>
          <a:xfrm>
            <a:off x="8220240" y="523404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Freeform 56"/>
          <p:cNvSpPr/>
          <p:nvPr/>
        </p:nvSpPr>
        <p:spPr>
          <a:xfrm>
            <a:off x="7399440" y="510372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Freeform 57"/>
          <p:cNvSpPr/>
          <p:nvPr/>
        </p:nvSpPr>
        <p:spPr>
          <a:xfrm>
            <a:off x="8015400" y="5288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Freeform 58"/>
          <p:cNvSpPr/>
          <p:nvPr/>
        </p:nvSpPr>
        <p:spPr>
          <a:xfrm>
            <a:off x="7808760" y="5288040"/>
            <a:ext cx="3996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Freeform 59"/>
          <p:cNvSpPr/>
          <p:nvPr/>
        </p:nvSpPr>
        <p:spPr>
          <a:xfrm>
            <a:off x="7323120" y="4351320"/>
            <a:ext cx="121140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Freeform 60"/>
          <p:cNvSpPr/>
          <p:nvPr/>
        </p:nvSpPr>
        <p:spPr>
          <a:xfrm>
            <a:off x="7851600" y="4592520"/>
            <a:ext cx="179640" cy="25884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2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69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Freeform 61"/>
          <p:cNvSpPr/>
          <p:nvPr/>
        </p:nvSpPr>
        <p:spPr>
          <a:xfrm>
            <a:off x="7467480" y="4440240"/>
            <a:ext cx="9223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Freeform 62"/>
          <p:cNvSpPr/>
          <p:nvPr/>
        </p:nvSpPr>
        <p:spPr>
          <a:xfrm>
            <a:off x="7661160" y="44719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Freeform 63"/>
          <p:cNvSpPr/>
          <p:nvPr/>
        </p:nvSpPr>
        <p:spPr>
          <a:xfrm>
            <a:off x="8259840" y="493560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Freeform 64"/>
          <p:cNvSpPr/>
          <p:nvPr/>
        </p:nvSpPr>
        <p:spPr>
          <a:xfrm>
            <a:off x="8053560" y="5051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Freeform 65"/>
          <p:cNvSpPr/>
          <p:nvPr/>
        </p:nvSpPr>
        <p:spPr>
          <a:xfrm>
            <a:off x="7642080" y="5054760"/>
            <a:ext cx="166680" cy="1936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Freeform 66"/>
          <p:cNvSpPr/>
          <p:nvPr/>
        </p:nvSpPr>
        <p:spPr>
          <a:xfrm>
            <a:off x="7848720" y="50925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Freeform 67"/>
          <p:cNvSpPr/>
          <p:nvPr/>
        </p:nvSpPr>
        <p:spPr>
          <a:xfrm>
            <a:off x="7437600" y="494352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Freeform 68"/>
          <p:cNvSpPr/>
          <p:nvPr/>
        </p:nvSpPr>
        <p:spPr>
          <a:xfrm>
            <a:off x="7323120" y="472428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Freeform 69"/>
          <p:cNvSpPr/>
          <p:nvPr/>
        </p:nvSpPr>
        <p:spPr>
          <a:xfrm>
            <a:off x="8464680" y="472428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Freeform 70"/>
          <p:cNvSpPr/>
          <p:nvPr/>
        </p:nvSpPr>
        <p:spPr>
          <a:xfrm>
            <a:off x="7604280" y="5038560"/>
            <a:ext cx="37800" cy="1749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Freeform 71"/>
          <p:cNvSpPr/>
          <p:nvPr/>
        </p:nvSpPr>
        <p:spPr>
          <a:xfrm>
            <a:off x="8426520" y="489744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Freeform 72"/>
          <p:cNvSpPr/>
          <p:nvPr/>
        </p:nvSpPr>
        <p:spPr>
          <a:xfrm>
            <a:off x="8220240" y="5037120"/>
            <a:ext cx="39600" cy="17316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Freeform 73"/>
          <p:cNvSpPr/>
          <p:nvPr/>
        </p:nvSpPr>
        <p:spPr>
          <a:xfrm>
            <a:off x="7399440" y="49053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4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Freeform 74"/>
          <p:cNvSpPr/>
          <p:nvPr/>
        </p:nvSpPr>
        <p:spPr>
          <a:xfrm>
            <a:off x="8015400" y="5089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Freeform 75"/>
          <p:cNvSpPr/>
          <p:nvPr/>
        </p:nvSpPr>
        <p:spPr>
          <a:xfrm>
            <a:off x="7808760" y="5089680"/>
            <a:ext cx="3996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Freeform 76"/>
          <p:cNvSpPr/>
          <p:nvPr/>
        </p:nvSpPr>
        <p:spPr>
          <a:xfrm>
            <a:off x="7334280" y="41511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Freeform 77"/>
          <p:cNvSpPr/>
          <p:nvPr/>
        </p:nvSpPr>
        <p:spPr>
          <a:xfrm>
            <a:off x="7862760" y="4392720"/>
            <a:ext cx="181080" cy="26172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1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Freeform 78"/>
          <p:cNvSpPr/>
          <p:nvPr/>
        </p:nvSpPr>
        <p:spPr>
          <a:xfrm>
            <a:off x="7478640" y="42418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Freeform 79"/>
          <p:cNvSpPr/>
          <p:nvPr/>
        </p:nvSpPr>
        <p:spPr>
          <a:xfrm>
            <a:off x="7674120" y="4272120"/>
            <a:ext cx="53316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1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Freeform 80"/>
          <p:cNvSpPr/>
          <p:nvPr/>
        </p:nvSpPr>
        <p:spPr>
          <a:xfrm>
            <a:off x="8272440" y="4738680"/>
            <a:ext cx="16524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Freeform 81"/>
          <p:cNvSpPr/>
          <p:nvPr/>
        </p:nvSpPr>
        <p:spPr>
          <a:xfrm>
            <a:off x="8066160" y="4851360"/>
            <a:ext cx="1648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Freeform 82"/>
          <p:cNvSpPr/>
          <p:nvPr/>
        </p:nvSpPr>
        <p:spPr>
          <a:xfrm>
            <a:off x="7655040" y="485460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Freeform 83"/>
          <p:cNvSpPr/>
          <p:nvPr/>
        </p:nvSpPr>
        <p:spPr>
          <a:xfrm>
            <a:off x="7861320" y="489600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Freeform 84"/>
          <p:cNvSpPr/>
          <p:nvPr/>
        </p:nvSpPr>
        <p:spPr>
          <a:xfrm>
            <a:off x="7450200" y="4743360"/>
            <a:ext cx="1648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Freeform 85"/>
          <p:cNvSpPr/>
          <p:nvPr/>
        </p:nvSpPr>
        <p:spPr>
          <a:xfrm>
            <a:off x="7334280" y="452448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Freeform 86"/>
          <p:cNvSpPr/>
          <p:nvPr/>
        </p:nvSpPr>
        <p:spPr>
          <a:xfrm>
            <a:off x="8477280" y="452448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Freeform 87"/>
          <p:cNvSpPr/>
          <p:nvPr/>
        </p:nvSpPr>
        <p:spPr>
          <a:xfrm>
            <a:off x="7615080" y="484020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Freeform 88"/>
          <p:cNvSpPr/>
          <p:nvPr/>
        </p:nvSpPr>
        <p:spPr>
          <a:xfrm>
            <a:off x="8437680" y="46972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Freeform 89"/>
          <p:cNvSpPr/>
          <p:nvPr/>
        </p:nvSpPr>
        <p:spPr>
          <a:xfrm>
            <a:off x="8231040" y="4836960"/>
            <a:ext cx="41400" cy="1764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Freeform 90"/>
          <p:cNvSpPr/>
          <p:nvPr/>
        </p:nvSpPr>
        <p:spPr>
          <a:xfrm>
            <a:off x="7412040" y="47070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Freeform 91"/>
          <p:cNvSpPr/>
          <p:nvPr/>
        </p:nvSpPr>
        <p:spPr>
          <a:xfrm>
            <a:off x="8026560" y="4890960"/>
            <a:ext cx="3960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Freeform 92"/>
          <p:cNvSpPr/>
          <p:nvPr/>
        </p:nvSpPr>
        <p:spPr>
          <a:xfrm>
            <a:off x="7819920" y="4890960"/>
            <a:ext cx="41400" cy="16524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Freeform 93"/>
          <p:cNvSpPr/>
          <p:nvPr/>
        </p:nvSpPr>
        <p:spPr>
          <a:xfrm>
            <a:off x="7361280" y="39546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Freeform 94"/>
          <p:cNvSpPr/>
          <p:nvPr/>
        </p:nvSpPr>
        <p:spPr>
          <a:xfrm>
            <a:off x="7889760" y="4192560"/>
            <a:ext cx="1810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Freeform 95"/>
          <p:cNvSpPr/>
          <p:nvPr/>
        </p:nvSpPr>
        <p:spPr>
          <a:xfrm>
            <a:off x="7505640" y="4041720"/>
            <a:ext cx="9223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Freeform 96"/>
          <p:cNvSpPr/>
          <p:nvPr/>
        </p:nvSpPr>
        <p:spPr>
          <a:xfrm>
            <a:off x="7699320" y="4071960"/>
            <a:ext cx="5349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Freeform 97"/>
          <p:cNvSpPr/>
          <p:nvPr/>
        </p:nvSpPr>
        <p:spPr>
          <a:xfrm>
            <a:off x="8299440" y="4538520"/>
            <a:ext cx="16524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Freeform 98"/>
          <p:cNvSpPr/>
          <p:nvPr/>
        </p:nvSpPr>
        <p:spPr>
          <a:xfrm>
            <a:off x="8091360" y="4653000"/>
            <a:ext cx="166680" cy="1983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Freeform 99"/>
          <p:cNvSpPr/>
          <p:nvPr/>
        </p:nvSpPr>
        <p:spPr>
          <a:xfrm>
            <a:off x="7680240" y="465444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Freeform 100"/>
          <p:cNvSpPr/>
          <p:nvPr/>
        </p:nvSpPr>
        <p:spPr>
          <a:xfrm>
            <a:off x="7888320" y="469584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Freeform 101"/>
          <p:cNvSpPr/>
          <p:nvPr/>
        </p:nvSpPr>
        <p:spPr>
          <a:xfrm>
            <a:off x="7477200" y="4543560"/>
            <a:ext cx="164880" cy="25848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Freeform 102"/>
          <p:cNvSpPr/>
          <p:nvPr/>
        </p:nvSpPr>
        <p:spPr>
          <a:xfrm>
            <a:off x="7361280" y="4325760"/>
            <a:ext cx="76320" cy="34164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Freeform 103"/>
          <p:cNvSpPr/>
          <p:nvPr/>
        </p:nvSpPr>
        <p:spPr>
          <a:xfrm>
            <a:off x="8502480" y="4325760"/>
            <a:ext cx="70200" cy="33372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Freeform 104"/>
          <p:cNvSpPr/>
          <p:nvPr/>
        </p:nvSpPr>
        <p:spPr>
          <a:xfrm>
            <a:off x="7642080" y="46404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reeform 105"/>
          <p:cNvSpPr/>
          <p:nvPr/>
        </p:nvSpPr>
        <p:spPr>
          <a:xfrm>
            <a:off x="8464680" y="4498920"/>
            <a:ext cx="3780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Freeform 106"/>
          <p:cNvSpPr/>
          <p:nvPr/>
        </p:nvSpPr>
        <p:spPr>
          <a:xfrm>
            <a:off x="8258040" y="4637160"/>
            <a:ext cx="414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Freeform 107"/>
          <p:cNvSpPr/>
          <p:nvPr/>
        </p:nvSpPr>
        <p:spPr>
          <a:xfrm>
            <a:off x="7437600" y="4508640"/>
            <a:ext cx="39600" cy="1965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Freeform 108"/>
          <p:cNvSpPr/>
          <p:nvPr/>
        </p:nvSpPr>
        <p:spPr>
          <a:xfrm>
            <a:off x="8053560" y="469116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Freeform 109"/>
          <p:cNvSpPr/>
          <p:nvPr/>
        </p:nvSpPr>
        <p:spPr>
          <a:xfrm>
            <a:off x="7846920" y="4691160"/>
            <a:ext cx="4140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Freeform 110"/>
          <p:cNvSpPr/>
          <p:nvPr/>
        </p:nvSpPr>
        <p:spPr>
          <a:xfrm>
            <a:off x="7219800" y="3794040"/>
            <a:ext cx="121140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Freeform 111"/>
          <p:cNvSpPr/>
          <p:nvPr/>
        </p:nvSpPr>
        <p:spPr>
          <a:xfrm>
            <a:off x="7745400" y="4033800"/>
            <a:ext cx="18252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Freeform 112"/>
          <p:cNvSpPr/>
          <p:nvPr/>
        </p:nvSpPr>
        <p:spPr>
          <a:xfrm>
            <a:off x="7362720" y="3882960"/>
            <a:ext cx="92412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Freeform 113"/>
          <p:cNvSpPr/>
          <p:nvPr/>
        </p:nvSpPr>
        <p:spPr>
          <a:xfrm>
            <a:off x="7558200" y="3913200"/>
            <a:ext cx="5331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Freeform 114"/>
          <p:cNvSpPr/>
          <p:nvPr/>
        </p:nvSpPr>
        <p:spPr>
          <a:xfrm>
            <a:off x="8155080" y="4378320"/>
            <a:ext cx="168120" cy="25884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Freeform 115"/>
          <p:cNvSpPr/>
          <p:nvPr/>
        </p:nvSpPr>
        <p:spPr>
          <a:xfrm>
            <a:off x="7950240" y="449424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Freeform 116"/>
          <p:cNvSpPr/>
          <p:nvPr/>
        </p:nvSpPr>
        <p:spPr>
          <a:xfrm>
            <a:off x="7539120" y="4495680"/>
            <a:ext cx="1648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Freeform 117"/>
          <p:cNvSpPr/>
          <p:nvPr/>
        </p:nvSpPr>
        <p:spPr>
          <a:xfrm>
            <a:off x="7745400" y="453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Freeform 118"/>
          <p:cNvSpPr/>
          <p:nvPr/>
        </p:nvSpPr>
        <p:spPr>
          <a:xfrm>
            <a:off x="7334280" y="4384800"/>
            <a:ext cx="1666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Freeform 119"/>
          <p:cNvSpPr/>
          <p:nvPr/>
        </p:nvSpPr>
        <p:spPr>
          <a:xfrm>
            <a:off x="7219800" y="4167360"/>
            <a:ext cx="7488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Freeform 120"/>
          <p:cNvSpPr/>
          <p:nvPr/>
        </p:nvSpPr>
        <p:spPr>
          <a:xfrm>
            <a:off x="8361360" y="416736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Freeform 121"/>
          <p:cNvSpPr/>
          <p:nvPr/>
        </p:nvSpPr>
        <p:spPr>
          <a:xfrm>
            <a:off x="7500960" y="448164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Freeform 122"/>
          <p:cNvSpPr/>
          <p:nvPr/>
        </p:nvSpPr>
        <p:spPr>
          <a:xfrm>
            <a:off x="8323200" y="434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Freeform 123"/>
          <p:cNvSpPr/>
          <p:nvPr/>
        </p:nvSpPr>
        <p:spPr>
          <a:xfrm>
            <a:off x="8115480" y="447984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Freeform 124"/>
          <p:cNvSpPr/>
          <p:nvPr/>
        </p:nvSpPr>
        <p:spPr>
          <a:xfrm>
            <a:off x="7294680" y="4346640"/>
            <a:ext cx="3960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Freeform 125"/>
          <p:cNvSpPr/>
          <p:nvPr/>
        </p:nvSpPr>
        <p:spPr>
          <a:xfrm>
            <a:off x="7912080" y="453240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Freeform 126"/>
          <p:cNvSpPr/>
          <p:nvPr/>
        </p:nvSpPr>
        <p:spPr>
          <a:xfrm>
            <a:off x="7704000" y="4532400"/>
            <a:ext cx="414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Freeform 127"/>
          <p:cNvSpPr/>
          <p:nvPr/>
        </p:nvSpPr>
        <p:spPr>
          <a:xfrm>
            <a:off x="7310520" y="35575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2" y="310"/>
                  <a:pt x="0" y="241"/>
                  <a:pt x="0" y="155"/>
                </a:cubicBezTo>
                <a:cubicBezTo>
                  <a:pt x="0" y="70"/>
                  <a:pt x="112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Freeform 128"/>
          <p:cNvSpPr/>
          <p:nvPr/>
        </p:nvSpPr>
        <p:spPr>
          <a:xfrm>
            <a:off x="7837560" y="379872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5" y="6"/>
                </a:moveTo>
                <a:cubicBezTo>
                  <a:pt x="8" y="4"/>
                  <a:pt x="13" y="2"/>
                  <a:pt x="21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7" y="73"/>
                </a:cubicBezTo>
                <a:lnTo>
                  <a:pt x="47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Freeform 129"/>
          <p:cNvSpPr/>
          <p:nvPr/>
        </p:nvSpPr>
        <p:spPr>
          <a:xfrm>
            <a:off x="7454880" y="364644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6"/>
                  <a:pt x="192" y="236"/>
                </a:cubicBezTo>
                <a:cubicBezTo>
                  <a:pt x="86" y="236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2" y="156"/>
                  <a:pt x="302" y="148"/>
                </a:cubicBezTo>
                <a:cubicBezTo>
                  <a:pt x="302" y="135"/>
                  <a:pt x="294" y="123"/>
                  <a:pt x="278" y="114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6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3"/>
                  <a:pt x="281" y="53"/>
                  <a:pt x="267" y="46"/>
                </a:cubicBezTo>
                <a:cubicBezTo>
                  <a:pt x="253" y="40"/>
                  <a:pt x="232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0" y="36"/>
                  <a:pt x="128" y="41"/>
                  <a:pt x="113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6"/>
                </a:cubicBezTo>
                <a:cubicBezTo>
                  <a:pt x="110" y="113"/>
                  <a:pt x="118" y="118"/>
                  <a:pt x="128" y="121"/>
                </a:cubicBezTo>
                <a:cubicBezTo>
                  <a:pt x="138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9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0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0" y="200"/>
                  <a:pt x="233" y="199"/>
                  <a:pt x="243" y="197"/>
                </a:cubicBezTo>
                <a:cubicBezTo>
                  <a:pt x="253" y="195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Freeform 130"/>
          <p:cNvSpPr/>
          <p:nvPr/>
        </p:nvSpPr>
        <p:spPr>
          <a:xfrm>
            <a:off x="7650000" y="3678120"/>
            <a:ext cx="530280" cy="500040"/>
          </a:xfrm>
          <a:custGeom>
            <a:avLst/>
            <a:gdLst/>
            <a:ahLst/>
            <a:rect l="l" t="t" r="r" b="b"/>
            <a:pathLst>
              <a:path w="221" h="208">
                <a:moveTo>
                  <a:pt x="197" y="101"/>
                </a:moveTo>
                <a:cubicBezTo>
                  <a:pt x="213" y="110"/>
                  <a:pt x="221" y="122"/>
                  <a:pt x="221" y="135"/>
                </a:cubicBezTo>
                <a:cubicBezTo>
                  <a:pt x="221" y="143"/>
                  <a:pt x="219" y="151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2"/>
                  <a:pt x="162" y="184"/>
                </a:cubicBezTo>
                <a:cubicBezTo>
                  <a:pt x="152" y="186"/>
                  <a:pt x="139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9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6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7" y="111"/>
                  <a:pt x="47" y="108"/>
                </a:cubicBezTo>
                <a:cubicBezTo>
                  <a:pt x="37" y="105"/>
                  <a:pt x="29" y="100"/>
                  <a:pt x="21" y="93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2" y="36"/>
                </a:cubicBezTo>
                <a:cubicBezTo>
                  <a:pt x="47" y="28"/>
                  <a:pt x="69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1" y="23"/>
                  <a:pt x="172" y="27"/>
                  <a:pt x="186" y="33"/>
                </a:cubicBezTo>
                <a:cubicBezTo>
                  <a:pt x="200" y="40"/>
                  <a:pt x="209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5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7" y="101"/>
                </a:cubicBezTo>
                <a:close/>
                <a:moveTo>
                  <a:pt x="147" y="152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6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2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Freeform 131"/>
          <p:cNvSpPr/>
          <p:nvPr/>
        </p:nvSpPr>
        <p:spPr>
          <a:xfrm>
            <a:off x="8245440" y="414504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Freeform 132"/>
          <p:cNvSpPr/>
          <p:nvPr/>
        </p:nvSpPr>
        <p:spPr>
          <a:xfrm>
            <a:off x="8042400" y="425772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Freeform 133"/>
          <p:cNvSpPr/>
          <p:nvPr/>
        </p:nvSpPr>
        <p:spPr>
          <a:xfrm>
            <a:off x="7631280" y="426096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Freeform 134"/>
          <p:cNvSpPr/>
          <p:nvPr/>
        </p:nvSpPr>
        <p:spPr>
          <a:xfrm>
            <a:off x="7834320" y="4300560"/>
            <a:ext cx="168120" cy="163440"/>
          </a:xfrm>
          <a:custGeom>
            <a:avLst/>
            <a:gdLst/>
            <a:ahLst/>
            <a:rect l="l" t="t" r="r" b="b"/>
            <a:pathLst>
              <a:path w="70" h="68">
                <a:moveTo>
                  <a:pt x="34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4" y="68"/>
                </a:cubicBezTo>
                <a:cubicBezTo>
                  <a:pt x="46" y="68"/>
                  <a:pt x="58" y="67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8" y="1"/>
                  <a:pt x="46" y="1"/>
                  <a:pt x="34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Freeform 135"/>
          <p:cNvSpPr/>
          <p:nvPr/>
        </p:nvSpPr>
        <p:spPr>
          <a:xfrm>
            <a:off x="7423200" y="4149720"/>
            <a:ext cx="168120" cy="257040"/>
          </a:xfrm>
          <a:custGeom>
            <a:avLst/>
            <a:gdLst/>
            <a:ahLst/>
            <a:rect l="l" t="t" r="r" b="b"/>
            <a:pathLst>
              <a:path w="70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3" y="96"/>
                  <a:pt x="70" y="107"/>
                </a:cubicBezTo>
                <a:cubicBezTo>
                  <a:pt x="70" y="40"/>
                  <a:pt x="70" y="40"/>
                  <a:pt x="70" y="40"/>
                </a:cubicBezTo>
                <a:cubicBezTo>
                  <a:pt x="43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Freeform 136"/>
          <p:cNvSpPr/>
          <p:nvPr/>
        </p:nvSpPr>
        <p:spPr>
          <a:xfrm>
            <a:off x="7310520" y="3930480"/>
            <a:ext cx="74520" cy="34164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Freeform 137"/>
          <p:cNvSpPr/>
          <p:nvPr/>
        </p:nvSpPr>
        <p:spPr>
          <a:xfrm>
            <a:off x="8453520" y="3930480"/>
            <a:ext cx="680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Freeform 138"/>
          <p:cNvSpPr/>
          <p:nvPr/>
        </p:nvSpPr>
        <p:spPr>
          <a:xfrm>
            <a:off x="7591320" y="424656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0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0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Freeform 139"/>
          <p:cNvSpPr/>
          <p:nvPr/>
        </p:nvSpPr>
        <p:spPr>
          <a:xfrm>
            <a:off x="8413920" y="410364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5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5" y="11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Freeform 140"/>
          <p:cNvSpPr/>
          <p:nvPr/>
        </p:nvSpPr>
        <p:spPr>
          <a:xfrm>
            <a:off x="8207280" y="4243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Freeform 141"/>
          <p:cNvSpPr/>
          <p:nvPr/>
        </p:nvSpPr>
        <p:spPr>
          <a:xfrm>
            <a:off x="7385040" y="41115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Freeform 142"/>
          <p:cNvSpPr/>
          <p:nvPr/>
        </p:nvSpPr>
        <p:spPr>
          <a:xfrm>
            <a:off x="8002440" y="4295880"/>
            <a:ext cx="399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0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0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Freeform 143"/>
          <p:cNvSpPr/>
          <p:nvPr/>
        </p:nvSpPr>
        <p:spPr>
          <a:xfrm>
            <a:off x="7796160" y="42958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Freeform 144"/>
          <p:cNvSpPr/>
          <p:nvPr/>
        </p:nvSpPr>
        <p:spPr>
          <a:xfrm>
            <a:off x="7283520" y="336060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Freeform 145"/>
          <p:cNvSpPr/>
          <p:nvPr/>
        </p:nvSpPr>
        <p:spPr>
          <a:xfrm>
            <a:off x="7813800" y="3602160"/>
            <a:ext cx="18252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4" y="6"/>
                </a:moveTo>
                <a:cubicBezTo>
                  <a:pt x="7" y="3"/>
                  <a:pt x="13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Freeform 146"/>
          <p:cNvSpPr/>
          <p:nvPr/>
        </p:nvSpPr>
        <p:spPr>
          <a:xfrm>
            <a:off x="7427880" y="344952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3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3" y="65"/>
                  <a:pt x="217" y="67"/>
                  <a:pt x="220" y="70"/>
                </a:cubicBezTo>
                <a:cubicBezTo>
                  <a:pt x="222" y="72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4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6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8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8"/>
                  <a:pt x="87" y="165"/>
                  <a:pt x="91" y="170"/>
                </a:cubicBezTo>
                <a:cubicBezTo>
                  <a:pt x="95" y="175"/>
                  <a:pt x="102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9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4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Freeform 147"/>
          <p:cNvSpPr/>
          <p:nvPr/>
        </p:nvSpPr>
        <p:spPr>
          <a:xfrm>
            <a:off x="7623000" y="34815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4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1"/>
                  <a:pt x="163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4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5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5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3" y="26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4"/>
                  <a:pt x="132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2" y="88"/>
                  <a:pt x="186" y="94"/>
                  <a:pt x="198" y="101"/>
                </a:cubicBezTo>
                <a:close/>
                <a:moveTo>
                  <a:pt x="148" y="151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6" y="157"/>
                  <a:pt x="143" y="155"/>
                  <a:pt x="148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Freeform 148"/>
          <p:cNvSpPr/>
          <p:nvPr/>
        </p:nvSpPr>
        <p:spPr>
          <a:xfrm>
            <a:off x="8221680" y="394488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Freeform 149"/>
          <p:cNvSpPr/>
          <p:nvPr/>
        </p:nvSpPr>
        <p:spPr>
          <a:xfrm>
            <a:off x="8016840" y="406080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7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Freeform 150"/>
          <p:cNvSpPr/>
          <p:nvPr/>
        </p:nvSpPr>
        <p:spPr>
          <a:xfrm>
            <a:off x="7605720" y="4062240"/>
            <a:ext cx="1666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1" y="73"/>
                  <a:pt x="44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Freeform 151"/>
          <p:cNvSpPr/>
          <p:nvPr/>
        </p:nvSpPr>
        <p:spPr>
          <a:xfrm>
            <a:off x="7810560" y="410220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Freeform 152"/>
          <p:cNvSpPr/>
          <p:nvPr/>
        </p:nvSpPr>
        <p:spPr>
          <a:xfrm>
            <a:off x="7399440" y="395280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Freeform 153"/>
          <p:cNvSpPr/>
          <p:nvPr/>
        </p:nvSpPr>
        <p:spPr>
          <a:xfrm>
            <a:off x="7283520" y="37339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Freeform 154"/>
          <p:cNvSpPr/>
          <p:nvPr/>
        </p:nvSpPr>
        <p:spPr>
          <a:xfrm>
            <a:off x="8426520" y="373392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Freeform 155"/>
          <p:cNvSpPr/>
          <p:nvPr/>
        </p:nvSpPr>
        <p:spPr>
          <a:xfrm>
            <a:off x="7566120" y="4048200"/>
            <a:ext cx="396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8"/>
                  <a:pt x="11" y="70"/>
                  <a:pt x="17" y="72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Freeform 156"/>
          <p:cNvSpPr/>
          <p:nvPr/>
        </p:nvSpPr>
        <p:spPr>
          <a:xfrm>
            <a:off x="8388360" y="390672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Freeform 157"/>
          <p:cNvSpPr/>
          <p:nvPr/>
        </p:nvSpPr>
        <p:spPr>
          <a:xfrm>
            <a:off x="8183520" y="404640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5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Freeform 158"/>
          <p:cNvSpPr/>
          <p:nvPr/>
        </p:nvSpPr>
        <p:spPr>
          <a:xfrm>
            <a:off x="7361280" y="39132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Freeform 159"/>
          <p:cNvSpPr/>
          <p:nvPr/>
        </p:nvSpPr>
        <p:spPr>
          <a:xfrm>
            <a:off x="7977240" y="40989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6" y="67"/>
                  <a:pt x="11" y="67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0"/>
                  <a:pt x="6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Freeform 160"/>
          <p:cNvSpPr/>
          <p:nvPr/>
        </p:nvSpPr>
        <p:spPr>
          <a:xfrm>
            <a:off x="7772400" y="40989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Freeform 161"/>
          <p:cNvSpPr/>
          <p:nvPr/>
        </p:nvSpPr>
        <p:spPr>
          <a:xfrm>
            <a:off x="7283520" y="31640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Freeform 162"/>
          <p:cNvSpPr/>
          <p:nvPr/>
        </p:nvSpPr>
        <p:spPr>
          <a:xfrm>
            <a:off x="7813800" y="340200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8"/>
                  <a:pt x="0" y="14"/>
                </a:cubicBezTo>
                <a:cubicBezTo>
                  <a:pt x="0" y="11"/>
                  <a:pt x="1" y="9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5"/>
                  <a:pt x="70" y="82"/>
                </a:cubicBezTo>
                <a:cubicBezTo>
                  <a:pt x="66" y="79"/>
                  <a:pt x="58" y="76"/>
                  <a:pt x="46" y="74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Freeform 163"/>
          <p:cNvSpPr/>
          <p:nvPr/>
        </p:nvSpPr>
        <p:spPr>
          <a:xfrm>
            <a:off x="7427880" y="324972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9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9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4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4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6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200"/>
                  <a:pt x="180" y="201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1"/>
                  <a:pt x="206" y="201"/>
                  <a:pt x="206" y="201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Freeform 164"/>
          <p:cNvSpPr/>
          <p:nvPr/>
        </p:nvSpPr>
        <p:spPr>
          <a:xfrm>
            <a:off x="7623000" y="328140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1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8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82" y="187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3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1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5"/>
                  <a:pt x="149" y="132"/>
                </a:cubicBezTo>
                <a:cubicBezTo>
                  <a:pt x="145" y="129"/>
                  <a:pt x="137" y="126"/>
                  <a:pt x="125" y="124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9"/>
                  <a:pt x="79" y="61"/>
                  <a:pt x="79" y="64"/>
                </a:cubicBezTo>
                <a:cubicBezTo>
                  <a:pt x="79" y="68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Freeform 165"/>
          <p:cNvSpPr/>
          <p:nvPr/>
        </p:nvSpPr>
        <p:spPr>
          <a:xfrm>
            <a:off x="8221680" y="374796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Freeform 166"/>
          <p:cNvSpPr/>
          <p:nvPr/>
        </p:nvSpPr>
        <p:spPr>
          <a:xfrm>
            <a:off x="8016840" y="386064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80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Freeform 167"/>
          <p:cNvSpPr/>
          <p:nvPr/>
        </p:nvSpPr>
        <p:spPr>
          <a:xfrm>
            <a:off x="7605720" y="386388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6"/>
                  <a:pt x="69" y="16"/>
                  <a:pt x="69" y="16"/>
                </a:cubicBezTo>
                <a:cubicBezTo>
                  <a:pt x="44" y="13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Freeform 168"/>
          <p:cNvSpPr/>
          <p:nvPr/>
        </p:nvSpPr>
        <p:spPr>
          <a:xfrm>
            <a:off x="7810560" y="390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Freeform 169"/>
          <p:cNvSpPr/>
          <p:nvPr/>
        </p:nvSpPr>
        <p:spPr>
          <a:xfrm>
            <a:off x="7399440" y="375300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Freeform 170"/>
          <p:cNvSpPr/>
          <p:nvPr/>
        </p:nvSpPr>
        <p:spPr>
          <a:xfrm>
            <a:off x="7283520" y="3537000"/>
            <a:ext cx="77760" cy="338040"/>
          </a:xfrm>
          <a:custGeom>
            <a:avLst/>
            <a:gdLst/>
            <a:ahLst/>
            <a:rect l="l" t="t" r="r" b="b"/>
            <a:pathLst>
              <a:path w="32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3"/>
                  <a:pt x="12" y="119"/>
                  <a:pt x="32" y="141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2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Freeform 171"/>
          <p:cNvSpPr/>
          <p:nvPr/>
        </p:nvSpPr>
        <p:spPr>
          <a:xfrm>
            <a:off x="8426520" y="353700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Freeform 172"/>
          <p:cNvSpPr/>
          <p:nvPr/>
        </p:nvSpPr>
        <p:spPr>
          <a:xfrm>
            <a:off x="7566120" y="3849840"/>
            <a:ext cx="39600" cy="1746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3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Freeform 173"/>
          <p:cNvSpPr/>
          <p:nvPr/>
        </p:nvSpPr>
        <p:spPr>
          <a:xfrm>
            <a:off x="8388360" y="371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5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Freeform 174"/>
          <p:cNvSpPr/>
          <p:nvPr/>
        </p:nvSpPr>
        <p:spPr>
          <a:xfrm>
            <a:off x="8183520" y="38466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Freeform 175"/>
          <p:cNvSpPr/>
          <p:nvPr/>
        </p:nvSpPr>
        <p:spPr>
          <a:xfrm>
            <a:off x="7361280" y="37162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Freeform 176"/>
          <p:cNvSpPr/>
          <p:nvPr/>
        </p:nvSpPr>
        <p:spPr>
          <a:xfrm>
            <a:off x="7977240" y="389880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Freeform 177"/>
          <p:cNvSpPr/>
          <p:nvPr/>
        </p:nvSpPr>
        <p:spPr>
          <a:xfrm>
            <a:off x="7772400" y="3902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7"/>
                  <a:pt x="16" y="68"/>
                </a:cubicBezTo>
                <a:cubicBezTo>
                  <a:pt x="16" y="1"/>
                  <a:pt x="16" y="1"/>
                  <a:pt x="16" y="1"/>
                </a:cubicBezTo>
                <a:cubicBezTo>
                  <a:pt x="11" y="1"/>
                  <a:pt x="5" y="0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Freeform 178"/>
          <p:cNvSpPr/>
          <p:nvPr/>
        </p:nvSpPr>
        <p:spPr>
          <a:xfrm>
            <a:off x="7318440" y="2962440"/>
            <a:ext cx="12110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Freeform 179"/>
          <p:cNvSpPr/>
          <p:nvPr/>
        </p:nvSpPr>
        <p:spPr>
          <a:xfrm>
            <a:off x="7846920" y="320184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9" y="102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Freeform 180"/>
          <p:cNvSpPr/>
          <p:nvPr/>
        </p:nvSpPr>
        <p:spPr>
          <a:xfrm>
            <a:off x="7462800" y="3051000"/>
            <a:ext cx="92232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4"/>
                </a:cubicBezTo>
                <a:cubicBezTo>
                  <a:pt x="267" y="108"/>
                  <a:pt x="243" y="101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20" y="70"/>
                </a:cubicBezTo>
                <a:cubicBezTo>
                  <a:pt x="222" y="72"/>
                  <a:pt x="225" y="75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8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1"/>
                  <a:pt x="272" y="187"/>
                </a:cubicBezTo>
                <a:cubicBezTo>
                  <a:pt x="281" y="182"/>
                  <a:pt x="289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Freeform 181"/>
          <p:cNvSpPr/>
          <p:nvPr/>
        </p:nvSpPr>
        <p:spPr>
          <a:xfrm>
            <a:off x="7656480" y="30812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5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6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8"/>
                  <a:pt x="186" y="95"/>
                  <a:pt x="198" y="101"/>
                </a:cubicBezTo>
                <a:close/>
                <a:moveTo>
                  <a:pt x="148" y="152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8" y="152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Freeform 182"/>
          <p:cNvSpPr/>
          <p:nvPr/>
        </p:nvSpPr>
        <p:spPr>
          <a:xfrm>
            <a:off x="8255160" y="354816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Freeform 183"/>
          <p:cNvSpPr/>
          <p:nvPr/>
        </p:nvSpPr>
        <p:spPr>
          <a:xfrm>
            <a:off x="8048520" y="3660840"/>
            <a:ext cx="168480" cy="1983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Freeform 184"/>
          <p:cNvSpPr/>
          <p:nvPr/>
        </p:nvSpPr>
        <p:spPr>
          <a:xfrm>
            <a:off x="7637400" y="3664080"/>
            <a:ext cx="168480" cy="1965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Freeform 185"/>
          <p:cNvSpPr/>
          <p:nvPr/>
        </p:nvSpPr>
        <p:spPr>
          <a:xfrm>
            <a:off x="7843680" y="37051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Freeform 186"/>
          <p:cNvSpPr/>
          <p:nvPr/>
        </p:nvSpPr>
        <p:spPr>
          <a:xfrm>
            <a:off x="7432560" y="35528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Freeform 187"/>
          <p:cNvSpPr/>
          <p:nvPr/>
        </p:nvSpPr>
        <p:spPr>
          <a:xfrm>
            <a:off x="7318440" y="3333600"/>
            <a:ext cx="75960" cy="3430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Freeform 188"/>
          <p:cNvSpPr/>
          <p:nvPr/>
        </p:nvSpPr>
        <p:spPr>
          <a:xfrm>
            <a:off x="8459640" y="33336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Freeform 189"/>
          <p:cNvSpPr/>
          <p:nvPr/>
        </p:nvSpPr>
        <p:spPr>
          <a:xfrm>
            <a:off x="7599240" y="364968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Freeform 190"/>
          <p:cNvSpPr/>
          <p:nvPr/>
        </p:nvSpPr>
        <p:spPr>
          <a:xfrm>
            <a:off x="8421840" y="350676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Freeform 191"/>
          <p:cNvSpPr/>
          <p:nvPr/>
        </p:nvSpPr>
        <p:spPr>
          <a:xfrm>
            <a:off x="8217000" y="364644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Freeform 192"/>
          <p:cNvSpPr/>
          <p:nvPr/>
        </p:nvSpPr>
        <p:spPr>
          <a:xfrm>
            <a:off x="7394400" y="351468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Freeform 193"/>
          <p:cNvSpPr/>
          <p:nvPr/>
        </p:nvSpPr>
        <p:spPr>
          <a:xfrm>
            <a:off x="8010360" y="37004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Freeform 194"/>
          <p:cNvSpPr/>
          <p:nvPr/>
        </p:nvSpPr>
        <p:spPr>
          <a:xfrm>
            <a:off x="7805880" y="370044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Freeform 195"/>
          <p:cNvSpPr/>
          <p:nvPr/>
        </p:nvSpPr>
        <p:spPr>
          <a:xfrm>
            <a:off x="7273800" y="475308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Freeform 196"/>
          <p:cNvSpPr/>
          <p:nvPr/>
        </p:nvSpPr>
        <p:spPr>
          <a:xfrm>
            <a:off x="7804080" y="4994280"/>
            <a:ext cx="1792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Freeform 197"/>
          <p:cNvSpPr/>
          <p:nvPr/>
        </p:nvSpPr>
        <p:spPr>
          <a:xfrm>
            <a:off x="7418520" y="4842000"/>
            <a:ext cx="92376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Freeform 198"/>
          <p:cNvSpPr/>
          <p:nvPr/>
        </p:nvSpPr>
        <p:spPr>
          <a:xfrm>
            <a:off x="7613640" y="487368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Freeform 199"/>
          <p:cNvSpPr/>
          <p:nvPr/>
        </p:nvSpPr>
        <p:spPr>
          <a:xfrm>
            <a:off x="8211960" y="5340240"/>
            <a:ext cx="16704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Freeform 200"/>
          <p:cNvSpPr/>
          <p:nvPr/>
        </p:nvSpPr>
        <p:spPr>
          <a:xfrm>
            <a:off x="8005680" y="5452920"/>
            <a:ext cx="16524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Freeform 201"/>
          <p:cNvSpPr/>
          <p:nvPr/>
        </p:nvSpPr>
        <p:spPr>
          <a:xfrm>
            <a:off x="7594560" y="54561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Freeform 202"/>
          <p:cNvSpPr/>
          <p:nvPr/>
        </p:nvSpPr>
        <p:spPr>
          <a:xfrm>
            <a:off x="7800840" y="54957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Freeform 203"/>
          <p:cNvSpPr/>
          <p:nvPr/>
        </p:nvSpPr>
        <p:spPr>
          <a:xfrm>
            <a:off x="7389720" y="534528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Freeform 204"/>
          <p:cNvSpPr/>
          <p:nvPr/>
        </p:nvSpPr>
        <p:spPr>
          <a:xfrm>
            <a:off x="7273800" y="512604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Freeform 205"/>
          <p:cNvSpPr/>
          <p:nvPr/>
        </p:nvSpPr>
        <p:spPr>
          <a:xfrm>
            <a:off x="8416800" y="512604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Freeform 206"/>
          <p:cNvSpPr/>
          <p:nvPr/>
        </p:nvSpPr>
        <p:spPr>
          <a:xfrm>
            <a:off x="7556400" y="5440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Freeform 207"/>
          <p:cNvSpPr/>
          <p:nvPr/>
        </p:nvSpPr>
        <p:spPr>
          <a:xfrm>
            <a:off x="8379000" y="5299200"/>
            <a:ext cx="3780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Freeform 208"/>
          <p:cNvSpPr/>
          <p:nvPr/>
        </p:nvSpPr>
        <p:spPr>
          <a:xfrm>
            <a:off x="8170920" y="5438880"/>
            <a:ext cx="4104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Freeform 209"/>
          <p:cNvSpPr/>
          <p:nvPr/>
        </p:nvSpPr>
        <p:spPr>
          <a:xfrm>
            <a:off x="7351560" y="53085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Freeform 211"/>
          <p:cNvSpPr/>
          <p:nvPr/>
        </p:nvSpPr>
        <p:spPr>
          <a:xfrm>
            <a:off x="7967520" y="54910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Freeform 212"/>
          <p:cNvSpPr/>
          <p:nvPr/>
        </p:nvSpPr>
        <p:spPr>
          <a:xfrm>
            <a:off x="7759800" y="5491080"/>
            <a:ext cx="41040" cy="1666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Freeform 213"/>
          <p:cNvSpPr/>
          <p:nvPr/>
        </p:nvSpPr>
        <p:spPr>
          <a:xfrm>
            <a:off x="7323120" y="4548240"/>
            <a:ext cx="121140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Freeform 214"/>
          <p:cNvSpPr/>
          <p:nvPr/>
        </p:nvSpPr>
        <p:spPr>
          <a:xfrm>
            <a:off x="7851600" y="4789440"/>
            <a:ext cx="17964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Freeform 215"/>
          <p:cNvSpPr/>
          <p:nvPr/>
        </p:nvSpPr>
        <p:spPr>
          <a:xfrm>
            <a:off x="7467480" y="4637160"/>
            <a:ext cx="922320" cy="57132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Freeform 216"/>
          <p:cNvSpPr/>
          <p:nvPr/>
        </p:nvSpPr>
        <p:spPr>
          <a:xfrm>
            <a:off x="7661160" y="4668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Freeform 217"/>
          <p:cNvSpPr/>
          <p:nvPr/>
        </p:nvSpPr>
        <p:spPr>
          <a:xfrm>
            <a:off x="8259840" y="513540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Freeform 218"/>
          <p:cNvSpPr/>
          <p:nvPr/>
        </p:nvSpPr>
        <p:spPr>
          <a:xfrm>
            <a:off x="8053560" y="5248440"/>
            <a:ext cx="166680" cy="19980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Freeform 219"/>
          <p:cNvSpPr/>
          <p:nvPr/>
        </p:nvSpPr>
        <p:spPr>
          <a:xfrm>
            <a:off x="7642080" y="52513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Freeform 220"/>
          <p:cNvSpPr/>
          <p:nvPr/>
        </p:nvSpPr>
        <p:spPr>
          <a:xfrm>
            <a:off x="7848720" y="52927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Freeform 221"/>
          <p:cNvSpPr/>
          <p:nvPr/>
        </p:nvSpPr>
        <p:spPr>
          <a:xfrm>
            <a:off x="7437600" y="51404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Freeform 222"/>
          <p:cNvSpPr/>
          <p:nvPr/>
        </p:nvSpPr>
        <p:spPr>
          <a:xfrm>
            <a:off x="7323120" y="492120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Freeform 223"/>
          <p:cNvSpPr/>
          <p:nvPr/>
        </p:nvSpPr>
        <p:spPr>
          <a:xfrm>
            <a:off x="8464680" y="49212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Freeform 224"/>
          <p:cNvSpPr/>
          <p:nvPr/>
        </p:nvSpPr>
        <p:spPr>
          <a:xfrm>
            <a:off x="7604280" y="5237280"/>
            <a:ext cx="3780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Freeform 225"/>
          <p:cNvSpPr/>
          <p:nvPr/>
        </p:nvSpPr>
        <p:spPr>
          <a:xfrm>
            <a:off x="8426520" y="50943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Freeform 226"/>
          <p:cNvSpPr/>
          <p:nvPr/>
        </p:nvSpPr>
        <p:spPr>
          <a:xfrm>
            <a:off x="8220240" y="523404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Freeform 227"/>
          <p:cNvSpPr/>
          <p:nvPr/>
        </p:nvSpPr>
        <p:spPr>
          <a:xfrm>
            <a:off x="7399440" y="510372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Freeform 228"/>
          <p:cNvSpPr/>
          <p:nvPr/>
        </p:nvSpPr>
        <p:spPr>
          <a:xfrm>
            <a:off x="8015400" y="5288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Freeform 229"/>
          <p:cNvSpPr/>
          <p:nvPr/>
        </p:nvSpPr>
        <p:spPr>
          <a:xfrm>
            <a:off x="7808760" y="5288040"/>
            <a:ext cx="3996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Freeform 230"/>
          <p:cNvSpPr/>
          <p:nvPr/>
        </p:nvSpPr>
        <p:spPr>
          <a:xfrm>
            <a:off x="7323120" y="4351320"/>
            <a:ext cx="121140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Freeform 231"/>
          <p:cNvSpPr/>
          <p:nvPr/>
        </p:nvSpPr>
        <p:spPr>
          <a:xfrm>
            <a:off x="7851600" y="4592520"/>
            <a:ext cx="179640" cy="25884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2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69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Freeform 232"/>
          <p:cNvSpPr/>
          <p:nvPr/>
        </p:nvSpPr>
        <p:spPr>
          <a:xfrm>
            <a:off x="7467480" y="4440240"/>
            <a:ext cx="9223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Freeform 233"/>
          <p:cNvSpPr/>
          <p:nvPr/>
        </p:nvSpPr>
        <p:spPr>
          <a:xfrm>
            <a:off x="7661160" y="44719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Freeform 234"/>
          <p:cNvSpPr/>
          <p:nvPr/>
        </p:nvSpPr>
        <p:spPr>
          <a:xfrm>
            <a:off x="8259840" y="493560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Freeform 235"/>
          <p:cNvSpPr/>
          <p:nvPr/>
        </p:nvSpPr>
        <p:spPr>
          <a:xfrm>
            <a:off x="8053560" y="5051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Freeform 236"/>
          <p:cNvSpPr/>
          <p:nvPr/>
        </p:nvSpPr>
        <p:spPr>
          <a:xfrm>
            <a:off x="7642080" y="5054760"/>
            <a:ext cx="166680" cy="1936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Freeform 237"/>
          <p:cNvSpPr/>
          <p:nvPr/>
        </p:nvSpPr>
        <p:spPr>
          <a:xfrm>
            <a:off x="7848720" y="509256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Freeform 238"/>
          <p:cNvSpPr/>
          <p:nvPr/>
        </p:nvSpPr>
        <p:spPr>
          <a:xfrm>
            <a:off x="7437600" y="494352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Freeform 239"/>
          <p:cNvSpPr/>
          <p:nvPr/>
        </p:nvSpPr>
        <p:spPr>
          <a:xfrm>
            <a:off x="7323120" y="472428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Freeform 240"/>
          <p:cNvSpPr/>
          <p:nvPr/>
        </p:nvSpPr>
        <p:spPr>
          <a:xfrm>
            <a:off x="8464680" y="472428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Freeform 241"/>
          <p:cNvSpPr/>
          <p:nvPr/>
        </p:nvSpPr>
        <p:spPr>
          <a:xfrm>
            <a:off x="7604280" y="5038560"/>
            <a:ext cx="37800" cy="1749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Freeform 242"/>
          <p:cNvSpPr/>
          <p:nvPr/>
        </p:nvSpPr>
        <p:spPr>
          <a:xfrm>
            <a:off x="8426520" y="489744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Freeform 243"/>
          <p:cNvSpPr/>
          <p:nvPr/>
        </p:nvSpPr>
        <p:spPr>
          <a:xfrm>
            <a:off x="8220240" y="5037120"/>
            <a:ext cx="39600" cy="17316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Freeform 244"/>
          <p:cNvSpPr/>
          <p:nvPr/>
        </p:nvSpPr>
        <p:spPr>
          <a:xfrm>
            <a:off x="7399440" y="490536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4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Freeform 245"/>
          <p:cNvSpPr/>
          <p:nvPr/>
        </p:nvSpPr>
        <p:spPr>
          <a:xfrm>
            <a:off x="8015400" y="5089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Freeform 246"/>
          <p:cNvSpPr/>
          <p:nvPr/>
        </p:nvSpPr>
        <p:spPr>
          <a:xfrm>
            <a:off x="7808760" y="5089680"/>
            <a:ext cx="3996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Freeform 247"/>
          <p:cNvSpPr/>
          <p:nvPr/>
        </p:nvSpPr>
        <p:spPr>
          <a:xfrm>
            <a:off x="7334280" y="41511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Freeform 248"/>
          <p:cNvSpPr/>
          <p:nvPr/>
        </p:nvSpPr>
        <p:spPr>
          <a:xfrm>
            <a:off x="7862760" y="4392720"/>
            <a:ext cx="181080" cy="26172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1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Freeform 249"/>
          <p:cNvSpPr/>
          <p:nvPr/>
        </p:nvSpPr>
        <p:spPr>
          <a:xfrm>
            <a:off x="7478640" y="42418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Freeform 250"/>
          <p:cNvSpPr/>
          <p:nvPr/>
        </p:nvSpPr>
        <p:spPr>
          <a:xfrm>
            <a:off x="7674120" y="4272120"/>
            <a:ext cx="53316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1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Freeform 251"/>
          <p:cNvSpPr/>
          <p:nvPr/>
        </p:nvSpPr>
        <p:spPr>
          <a:xfrm>
            <a:off x="8272440" y="4738680"/>
            <a:ext cx="16524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Freeform 252"/>
          <p:cNvSpPr/>
          <p:nvPr/>
        </p:nvSpPr>
        <p:spPr>
          <a:xfrm>
            <a:off x="8066160" y="4851360"/>
            <a:ext cx="1648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Freeform 253"/>
          <p:cNvSpPr/>
          <p:nvPr/>
        </p:nvSpPr>
        <p:spPr>
          <a:xfrm>
            <a:off x="7655040" y="485460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Freeform 254"/>
          <p:cNvSpPr/>
          <p:nvPr/>
        </p:nvSpPr>
        <p:spPr>
          <a:xfrm>
            <a:off x="7861320" y="489600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Freeform 255"/>
          <p:cNvSpPr/>
          <p:nvPr/>
        </p:nvSpPr>
        <p:spPr>
          <a:xfrm>
            <a:off x="7450200" y="4743360"/>
            <a:ext cx="1648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Freeform 256"/>
          <p:cNvSpPr/>
          <p:nvPr/>
        </p:nvSpPr>
        <p:spPr>
          <a:xfrm>
            <a:off x="7334280" y="452448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Freeform 257"/>
          <p:cNvSpPr/>
          <p:nvPr/>
        </p:nvSpPr>
        <p:spPr>
          <a:xfrm>
            <a:off x="8477280" y="4524480"/>
            <a:ext cx="69840" cy="33480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Freeform 258"/>
          <p:cNvSpPr/>
          <p:nvPr/>
        </p:nvSpPr>
        <p:spPr>
          <a:xfrm>
            <a:off x="7615080" y="484020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Freeform 259"/>
          <p:cNvSpPr/>
          <p:nvPr/>
        </p:nvSpPr>
        <p:spPr>
          <a:xfrm>
            <a:off x="8437680" y="46972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Freeform 260"/>
          <p:cNvSpPr/>
          <p:nvPr/>
        </p:nvSpPr>
        <p:spPr>
          <a:xfrm>
            <a:off x="8231040" y="4836960"/>
            <a:ext cx="41400" cy="1764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Freeform 261"/>
          <p:cNvSpPr/>
          <p:nvPr/>
        </p:nvSpPr>
        <p:spPr>
          <a:xfrm>
            <a:off x="7412040" y="47070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Freeform 262"/>
          <p:cNvSpPr/>
          <p:nvPr/>
        </p:nvSpPr>
        <p:spPr>
          <a:xfrm>
            <a:off x="8026560" y="4890960"/>
            <a:ext cx="3960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Freeform 263"/>
          <p:cNvSpPr/>
          <p:nvPr/>
        </p:nvSpPr>
        <p:spPr>
          <a:xfrm>
            <a:off x="7819920" y="4890960"/>
            <a:ext cx="41400" cy="16524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Freeform 264"/>
          <p:cNvSpPr/>
          <p:nvPr/>
        </p:nvSpPr>
        <p:spPr>
          <a:xfrm>
            <a:off x="7361280" y="39546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Freeform 265"/>
          <p:cNvSpPr/>
          <p:nvPr/>
        </p:nvSpPr>
        <p:spPr>
          <a:xfrm>
            <a:off x="7889760" y="4192560"/>
            <a:ext cx="18108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2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69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Freeform 266"/>
          <p:cNvSpPr/>
          <p:nvPr/>
        </p:nvSpPr>
        <p:spPr>
          <a:xfrm>
            <a:off x="7505640" y="4041720"/>
            <a:ext cx="9223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1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5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6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3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Freeform 267"/>
          <p:cNvSpPr/>
          <p:nvPr/>
        </p:nvSpPr>
        <p:spPr>
          <a:xfrm>
            <a:off x="7699320" y="4071960"/>
            <a:ext cx="5349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2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1" y="94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0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8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Freeform 268"/>
          <p:cNvSpPr/>
          <p:nvPr/>
        </p:nvSpPr>
        <p:spPr>
          <a:xfrm>
            <a:off x="8299440" y="4538520"/>
            <a:ext cx="16524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Freeform 269"/>
          <p:cNvSpPr/>
          <p:nvPr/>
        </p:nvSpPr>
        <p:spPr>
          <a:xfrm>
            <a:off x="8091360" y="4653000"/>
            <a:ext cx="166680" cy="1983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Freeform 270"/>
          <p:cNvSpPr/>
          <p:nvPr/>
        </p:nvSpPr>
        <p:spPr>
          <a:xfrm>
            <a:off x="7680240" y="465444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Freeform 271"/>
          <p:cNvSpPr/>
          <p:nvPr/>
        </p:nvSpPr>
        <p:spPr>
          <a:xfrm>
            <a:off x="7888320" y="469584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Freeform 272"/>
          <p:cNvSpPr/>
          <p:nvPr/>
        </p:nvSpPr>
        <p:spPr>
          <a:xfrm>
            <a:off x="7477200" y="4543560"/>
            <a:ext cx="164880" cy="25848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8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Freeform 273"/>
          <p:cNvSpPr/>
          <p:nvPr/>
        </p:nvSpPr>
        <p:spPr>
          <a:xfrm>
            <a:off x="7361280" y="4325760"/>
            <a:ext cx="76320" cy="34164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Freeform 274"/>
          <p:cNvSpPr/>
          <p:nvPr/>
        </p:nvSpPr>
        <p:spPr>
          <a:xfrm>
            <a:off x="8502480" y="4325760"/>
            <a:ext cx="70200" cy="33372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Freeform 275"/>
          <p:cNvSpPr/>
          <p:nvPr/>
        </p:nvSpPr>
        <p:spPr>
          <a:xfrm>
            <a:off x="7642080" y="46404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Freeform 276"/>
          <p:cNvSpPr/>
          <p:nvPr/>
        </p:nvSpPr>
        <p:spPr>
          <a:xfrm>
            <a:off x="8464680" y="4498920"/>
            <a:ext cx="3780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Freeform 277"/>
          <p:cNvSpPr/>
          <p:nvPr/>
        </p:nvSpPr>
        <p:spPr>
          <a:xfrm>
            <a:off x="8258040" y="4637160"/>
            <a:ext cx="414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Freeform 278"/>
          <p:cNvSpPr/>
          <p:nvPr/>
        </p:nvSpPr>
        <p:spPr>
          <a:xfrm>
            <a:off x="7437600" y="4508640"/>
            <a:ext cx="39600" cy="1965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4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4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Freeform 279"/>
          <p:cNvSpPr/>
          <p:nvPr/>
        </p:nvSpPr>
        <p:spPr>
          <a:xfrm>
            <a:off x="8053560" y="469116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Freeform 280"/>
          <p:cNvSpPr/>
          <p:nvPr/>
        </p:nvSpPr>
        <p:spPr>
          <a:xfrm>
            <a:off x="7846920" y="4691160"/>
            <a:ext cx="41400" cy="164880"/>
          </a:xfrm>
          <a:custGeom>
            <a:avLst/>
            <a:gdLst/>
            <a:ahLst/>
            <a:rect l="l" t="t" r="r" b="b"/>
            <a:pathLst>
              <a:path w="17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8"/>
                  <a:pt x="11" y="68"/>
                  <a:pt x="17" y="69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2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Freeform 281"/>
          <p:cNvSpPr/>
          <p:nvPr/>
        </p:nvSpPr>
        <p:spPr>
          <a:xfrm>
            <a:off x="7219800" y="3794040"/>
            <a:ext cx="121140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Freeform 282"/>
          <p:cNvSpPr/>
          <p:nvPr/>
        </p:nvSpPr>
        <p:spPr>
          <a:xfrm>
            <a:off x="7745400" y="4033800"/>
            <a:ext cx="18252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Freeform 283"/>
          <p:cNvSpPr/>
          <p:nvPr/>
        </p:nvSpPr>
        <p:spPr>
          <a:xfrm>
            <a:off x="7362720" y="3882960"/>
            <a:ext cx="92412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Freeform 284"/>
          <p:cNvSpPr/>
          <p:nvPr/>
        </p:nvSpPr>
        <p:spPr>
          <a:xfrm>
            <a:off x="7558200" y="3913200"/>
            <a:ext cx="533160" cy="50148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Freeform 285"/>
          <p:cNvSpPr/>
          <p:nvPr/>
        </p:nvSpPr>
        <p:spPr>
          <a:xfrm>
            <a:off x="8155080" y="4378320"/>
            <a:ext cx="168120" cy="25884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Freeform 286"/>
          <p:cNvSpPr/>
          <p:nvPr/>
        </p:nvSpPr>
        <p:spPr>
          <a:xfrm>
            <a:off x="7950240" y="449424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Freeform 287"/>
          <p:cNvSpPr/>
          <p:nvPr/>
        </p:nvSpPr>
        <p:spPr>
          <a:xfrm>
            <a:off x="7539120" y="4495680"/>
            <a:ext cx="1648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Freeform 288"/>
          <p:cNvSpPr/>
          <p:nvPr/>
        </p:nvSpPr>
        <p:spPr>
          <a:xfrm>
            <a:off x="7745400" y="453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Freeform 289"/>
          <p:cNvSpPr/>
          <p:nvPr/>
        </p:nvSpPr>
        <p:spPr>
          <a:xfrm>
            <a:off x="7334280" y="4384800"/>
            <a:ext cx="1666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Freeform 290"/>
          <p:cNvSpPr/>
          <p:nvPr/>
        </p:nvSpPr>
        <p:spPr>
          <a:xfrm>
            <a:off x="7219800" y="4167360"/>
            <a:ext cx="7488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Freeform 291"/>
          <p:cNvSpPr/>
          <p:nvPr/>
        </p:nvSpPr>
        <p:spPr>
          <a:xfrm>
            <a:off x="8361360" y="416736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Freeform 292"/>
          <p:cNvSpPr/>
          <p:nvPr/>
        </p:nvSpPr>
        <p:spPr>
          <a:xfrm>
            <a:off x="7500960" y="448164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Freeform 293"/>
          <p:cNvSpPr/>
          <p:nvPr/>
        </p:nvSpPr>
        <p:spPr>
          <a:xfrm>
            <a:off x="8323200" y="434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Freeform 294"/>
          <p:cNvSpPr/>
          <p:nvPr/>
        </p:nvSpPr>
        <p:spPr>
          <a:xfrm>
            <a:off x="8115480" y="447984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Freeform 295"/>
          <p:cNvSpPr/>
          <p:nvPr/>
        </p:nvSpPr>
        <p:spPr>
          <a:xfrm>
            <a:off x="7294680" y="4346640"/>
            <a:ext cx="3960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Freeform 296"/>
          <p:cNvSpPr/>
          <p:nvPr/>
        </p:nvSpPr>
        <p:spPr>
          <a:xfrm>
            <a:off x="7912080" y="453240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Freeform 297"/>
          <p:cNvSpPr/>
          <p:nvPr/>
        </p:nvSpPr>
        <p:spPr>
          <a:xfrm>
            <a:off x="7704000" y="4532400"/>
            <a:ext cx="414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Freeform 298"/>
          <p:cNvSpPr/>
          <p:nvPr/>
        </p:nvSpPr>
        <p:spPr>
          <a:xfrm>
            <a:off x="7310520" y="35575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2" y="310"/>
                  <a:pt x="0" y="241"/>
                  <a:pt x="0" y="155"/>
                </a:cubicBezTo>
                <a:cubicBezTo>
                  <a:pt x="0" y="70"/>
                  <a:pt x="112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Freeform 299"/>
          <p:cNvSpPr/>
          <p:nvPr/>
        </p:nvSpPr>
        <p:spPr>
          <a:xfrm>
            <a:off x="7837560" y="379872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5" y="6"/>
                </a:moveTo>
                <a:cubicBezTo>
                  <a:pt x="8" y="4"/>
                  <a:pt x="13" y="2"/>
                  <a:pt x="21" y="0"/>
                </a:cubicBezTo>
                <a:cubicBezTo>
                  <a:pt x="21" y="29"/>
                  <a:pt x="21" y="29"/>
                  <a:pt x="21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7" y="73"/>
                </a:cubicBezTo>
                <a:lnTo>
                  <a:pt x="47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Freeform 300"/>
          <p:cNvSpPr/>
          <p:nvPr/>
        </p:nvSpPr>
        <p:spPr>
          <a:xfrm>
            <a:off x="7454880" y="364644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6"/>
                  <a:pt x="192" y="236"/>
                </a:cubicBezTo>
                <a:cubicBezTo>
                  <a:pt x="86" y="236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2" y="156"/>
                  <a:pt x="302" y="148"/>
                </a:cubicBezTo>
                <a:cubicBezTo>
                  <a:pt x="302" y="135"/>
                  <a:pt x="294" y="123"/>
                  <a:pt x="278" y="114"/>
                </a:cubicBezTo>
                <a:cubicBezTo>
                  <a:pt x="266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6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3"/>
                  <a:pt x="281" y="53"/>
                  <a:pt x="267" y="46"/>
                </a:cubicBezTo>
                <a:cubicBezTo>
                  <a:pt x="253" y="40"/>
                  <a:pt x="232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0" y="36"/>
                  <a:pt x="128" y="41"/>
                  <a:pt x="113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2"/>
                  <a:pt x="95" y="100"/>
                  <a:pt x="102" y="106"/>
                </a:cubicBezTo>
                <a:cubicBezTo>
                  <a:pt x="110" y="113"/>
                  <a:pt x="118" y="118"/>
                  <a:pt x="128" y="121"/>
                </a:cubicBezTo>
                <a:cubicBezTo>
                  <a:pt x="138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9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6" y="165"/>
                  <a:pt x="90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0" y="200"/>
                  <a:pt x="233" y="199"/>
                  <a:pt x="243" y="197"/>
                </a:cubicBezTo>
                <a:cubicBezTo>
                  <a:pt x="253" y="195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Freeform 301"/>
          <p:cNvSpPr/>
          <p:nvPr/>
        </p:nvSpPr>
        <p:spPr>
          <a:xfrm>
            <a:off x="7650000" y="3678120"/>
            <a:ext cx="530280" cy="500040"/>
          </a:xfrm>
          <a:custGeom>
            <a:avLst/>
            <a:gdLst/>
            <a:ahLst/>
            <a:rect l="l" t="t" r="r" b="b"/>
            <a:pathLst>
              <a:path w="221" h="208">
                <a:moveTo>
                  <a:pt x="197" y="101"/>
                </a:moveTo>
                <a:cubicBezTo>
                  <a:pt x="213" y="110"/>
                  <a:pt x="221" y="122"/>
                  <a:pt x="221" y="135"/>
                </a:cubicBezTo>
                <a:cubicBezTo>
                  <a:pt x="221" y="143"/>
                  <a:pt x="219" y="151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2"/>
                  <a:pt x="162" y="184"/>
                </a:cubicBezTo>
                <a:cubicBezTo>
                  <a:pt x="152" y="186"/>
                  <a:pt x="139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9" y="157"/>
                </a:cubicBezTo>
                <a:cubicBezTo>
                  <a:pt x="5" y="152"/>
                  <a:pt x="2" y="146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6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7" y="111"/>
                  <a:pt x="47" y="108"/>
                </a:cubicBezTo>
                <a:cubicBezTo>
                  <a:pt x="37" y="105"/>
                  <a:pt x="29" y="100"/>
                  <a:pt x="21" y="93"/>
                </a:cubicBezTo>
                <a:cubicBezTo>
                  <a:pt x="14" y="87"/>
                  <a:pt x="10" y="79"/>
                  <a:pt x="10" y="69"/>
                </a:cubicBezTo>
                <a:cubicBezTo>
                  <a:pt x="10" y="56"/>
                  <a:pt x="18" y="45"/>
                  <a:pt x="32" y="36"/>
                </a:cubicBezTo>
                <a:cubicBezTo>
                  <a:pt x="47" y="28"/>
                  <a:pt x="69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1" y="23"/>
                  <a:pt x="172" y="27"/>
                  <a:pt x="186" y="33"/>
                </a:cubicBezTo>
                <a:cubicBezTo>
                  <a:pt x="200" y="40"/>
                  <a:pt x="209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5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5" y="95"/>
                  <a:pt x="197" y="101"/>
                </a:cubicBezTo>
                <a:close/>
                <a:moveTo>
                  <a:pt x="147" y="152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6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2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3"/>
                </a:cubicBezTo>
                <a:cubicBezTo>
                  <a:pt x="86" y="75"/>
                  <a:pt x="91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Freeform 302"/>
          <p:cNvSpPr/>
          <p:nvPr/>
        </p:nvSpPr>
        <p:spPr>
          <a:xfrm>
            <a:off x="8245440" y="414504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Freeform 303"/>
          <p:cNvSpPr/>
          <p:nvPr/>
        </p:nvSpPr>
        <p:spPr>
          <a:xfrm>
            <a:off x="8042400" y="425772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4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Freeform 304"/>
          <p:cNvSpPr/>
          <p:nvPr/>
        </p:nvSpPr>
        <p:spPr>
          <a:xfrm>
            <a:off x="7631280" y="426096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1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Freeform 305"/>
          <p:cNvSpPr/>
          <p:nvPr/>
        </p:nvSpPr>
        <p:spPr>
          <a:xfrm>
            <a:off x="7834320" y="4300560"/>
            <a:ext cx="168120" cy="163440"/>
          </a:xfrm>
          <a:custGeom>
            <a:avLst/>
            <a:gdLst/>
            <a:ahLst/>
            <a:rect l="l" t="t" r="r" b="b"/>
            <a:pathLst>
              <a:path w="70" h="68">
                <a:moveTo>
                  <a:pt x="34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4" y="68"/>
                </a:cubicBezTo>
                <a:cubicBezTo>
                  <a:pt x="46" y="68"/>
                  <a:pt x="58" y="67"/>
                  <a:pt x="70" y="66"/>
                </a:cubicBezTo>
                <a:cubicBezTo>
                  <a:pt x="70" y="0"/>
                  <a:pt x="70" y="0"/>
                  <a:pt x="70" y="0"/>
                </a:cubicBezTo>
                <a:cubicBezTo>
                  <a:pt x="58" y="1"/>
                  <a:pt x="46" y="1"/>
                  <a:pt x="34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Freeform 306"/>
          <p:cNvSpPr/>
          <p:nvPr/>
        </p:nvSpPr>
        <p:spPr>
          <a:xfrm>
            <a:off x="7423200" y="4149720"/>
            <a:ext cx="168120" cy="257040"/>
          </a:xfrm>
          <a:custGeom>
            <a:avLst/>
            <a:gdLst/>
            <a:ahLst/>
            <a:rect l="l" t="t" r="r" b="b"/>
            <a:pathLst>
              <a:path w="70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3" y="96"/>
                  <a:pt x="70" y="107"/>
                </a:cubicBezTo>
                <a:cubicBezTo>
                  <a:pt x="70" y="40"/>
                  <a:pt x="70" y="40"/>
                  <a:pt x="70" y="40"/>
                </a:cubicBezTo>
                <a:cubicBezTo>
                  <a:pt x="43" y="30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Freeform 307"/>
          <p:cNvSpPr/>
          <p:nvPr/>
        </p:nvSpPr>
        <p:spPr>
          <a:xfrm>
            <a:off x="7310520" y="3930480"/>
            <a:ext cx="74520" cy="34164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20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Freeform 308"/>
          <p:cNvSpPr/>
          <p:nvPr/>
        </p:nvSpPr>
        <p:spPr>
          <a:xfrm>
            <a:off x="8453520" y="3930480"/>
            <a:ext cx="680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Freeform 309"/>
          <p:cNvSpPr/>
          <p:nvPr/>
        </p:nvSpPr>
        <p:spPr>
          <a:xfrm>
            <a:off x="7591320" y="4246560"/>
            <a:ext cx="399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0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0" y="4"/>
                  <a:pt x="5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Freeform 310"/>
          <p:cNvSpPr/>
          <p:nvPr/>
        </p:nvSpPr>
        <p:spPr>
          <a:xfrm>
            <a:off x="8413920" y="410364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5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5" y="11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Freeform 311"/>
          <p:cNvSpPr/>
          <p:nvPr/>
        </p:nvSpPr>
        <p:spPr>
          <a:xfrm>
            <a:off x="8207280" y="424332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Freeform 312"/>
          <p:cNvSpPr/>
          <p:nvPr/>
        </p:nvSpPr>
        <p:spPr>
          <a:xfrm>
            <a:off x="7385040" y="41115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Freeform 313"/>
          <p:cNvSpPr/>
          <p:nvPr/>
        </p:nvSpPr>
        <p:spPr>
          <a:xfrm>
            <a:off x="8002440" y="4295880"/>
            <a:ext cx="399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0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0" y="1"/>
                  <a:pt x="5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Freeform 314"/>
          <p:cNvSpPr/>
          <p:nvPr/>
        </p:nvSpPr>
        <p:spPr>
          <a:xfrm>
            <a:off x="7796160" y="42958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Freeform 315"/>
          <p:cNvSpPr/>
          <p:nvPr/>
        </p:nvSpPr>
        <p:spPr>
          <a:xfrm>
            <a:off x="7283520" y="336060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Freeform 316"/>
          <p:cNvSpPr/>
          <p:nvPr/>
        </p:nvSpPr>
        <p:spPr>
          <a:xfrm>
            <a:off x="7813800" y="3602160"/>
            <a:ext cx="18252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4" y="6"/>
                </a:moveTo>
                <a:cubicBezTo>
                  <a:pt x="7" y="3"/>
                  <a:pt x="13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7" y="107"/>
                  <a:pt x="64" y="105"/>
                  <a:pt x="69" y="101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Freeform 317"/>
          <p:cNvSpPr/>
          <p:nvPr/>
        </p:nvSpPr>
        <p:spPr>
          <a:xfrm>
            <a:off x="7427880" y="3449520"/>
            <a:ext cx="92412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3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3" y="65"/>
                  <a:pt x="217" y="67"/>
                  <a:pt x="220" y="70"/>
                </a:cubicBezTo>
                <a:cubicBezTo>
                  <a:pt x="222" y="72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4" y="39"/>
                  <a:pt x="233" y="36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6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8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8"/>
                  <a:pt x="87" y="165"/>
                  <a:pt x="91" y="170"/>
                </a:cubicBezTo>
                <a:cubicBezTo>
                  <a:pt x="95" y="175"/>
                  <a:pt x="102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9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4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Freeform 318"/>
          <p:cNvSpPr/>
          <p:nvPr/>
        </p:nvSpPr>
        <p:spPr>
          <a:xfrm>
            <a:off x="7623000" y="34815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4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1"/>
                  <a:pt x="163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4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5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5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3"/>
                  <a:pt x="173" y="26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4"/>
                  <a:pt x="132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2" y="88"/>
                  <a:pt x="186" y="94"/>
                  <a:pt x="198" y="101"/>
                </a:cubicBezTo>
                <a:close/>
                <a:moveTo>
                  <a:pt x="148" y="151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6" y="157"/>
                  <a:pt x="143" y="155"/>
                  <a:pt x="148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Freeform 319"/>
          <p:cNvSpPr/>
          <p:nvPr/>
        </p:nvSpPr>
        <p:spPr>
          <a:xfrm>
            <a:off x="8221680" y="394488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7"/>
                  <a:pt x="27" y="31"/>
                  <a:pt x="0" y="4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Freeform 320"/>
          <p:cNvSpPr/>
          <p:nvPr/>
        </p:nvSpPr>
        <p:spPr>
          <a:xfrm>
            <a:off x="8016840" y="406080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4" y="79"/>
                  <a:pt x="47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2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Freeform 321"/>
          <p:cNvSpPr/>
          <p:nvPr/>
        </p:nvSpPr>
        <p:spPr>
          <a:xfrm>
            <a:off x="7605720" y="4062240"/>
            <a:ext cx="16668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1" y="73"/>
                  <a:pt x="44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Freeform 322"/>
          <p:cNvSpPr/>
          <p:nvPr/>
        </p:nvSpPr>
        <p:spPr>
          <a:xfrm>
            <a:off x="7810560" y="410220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Freeform 323"/>
          <p:cNvSpPr/>
          <p:nvPr/>
        </p:nvSpPr>
        <p:spPr>
          <a:xfrm>
            <a:off x="7399440" y="395280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Freeform 324"/>
          <p:cNvSpPr/>
          <p:nvPr/>
        </p:nvSpPr>
        <p:spPr>
          <a:xfrm>
            <a:off x="7283520" y="37339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Freeform 325"/>
          <p:cNvSpPr/>
          <p:nvPr/>
        </p:nvSpPr>
        <p:spPr>
          <a:xfrm>
            <a:off x="8426520" y="373392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Freeform 326"/>
          <p:cNvSpPr/>
          <p:nvPr/>
        </p:nvSpPr>
        <p:spPr>
          <a:xfrm>
            <a:off x="7566120" y="4048200"/>
            <a:ext cx="396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8"/>
                  <a:pt x="11" y="70"/>
                  <a:pt x="17" y="72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Freeform 327"/>
          <p:cNvSpPr/>
          <p:nvPr/>
        </p:nvSpPr>
        <p:spPr>
          <a:xfrm>
            <a:off x="8388360" y="390672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Freeform 328"/>
          <p:cNvSpPr/>
          <p:nvPr/>
        </p:nvSpPr>
        <p:spPr>
          <a:xfrm>
            <a:off x="8183520" y="404640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5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Freeform 329"/>
          <p:cNvSpPr/>
          <p:nvPr/>
        </p:nvSpPr>
        <p:spPr>
          <a:xfrm>
            <a:off x="7361280" y="391320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Freeform 330"/>
          <p:cNvSpPr/>
          <p:nvPr/>
        </p:nvSpPr>
        <p:spPr>
          <a:xfrm>
            <a:off x="7977240" y="40989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6" y="67"/>
                  <a:pt x="11" y="67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0"/>
                  <a:pt x="6" y="1"/>
                  <a:pt x="0" y="1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Freeform 331"/>
          <p:cNvSpPr/>
          <p:nvPr/>
        </p:nvSpPr>
        <p:spPr>
          <a:xfrm>
            <a:off x="7772400" y="40989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1"/>
                  <a:pt x="5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Freeform 332"/>
          <p:cNvSpPr/>
          <p:nvPr/>
        </p:nvSpPr>
        <p:spPr>
          <a:xfrm>
            <a:off x="7283520" y="31640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Freeform 333"/>
          <p:cNvSpPr/>
          <p:nvPr/>
        </p:nvSpPr>
        <p:spPr>
          <a:xfrm>
            <a:off x="7813800" y="340200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8"/>
                  <a:pt x="0" y="14"/>
                </a:cubicBezTo>
                <a:cubicBezTo>
                  <a:pt x="0" y="11"/>
                  <a:pt x="1" y="9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5"/>
                  <a:pt x="70" y="82"/>
                </a:cubicBezTo>
                <a:cubicBezTo>
                  <a:pt x="66" y="79"/>
                  <a:pt x="58" y="76"/>
                  <a:pt x="46" y="74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Freeform 334"/>
          <p:cNvSpPr/>
          <p:nvPr/>
        </p:nvSpPr>
        <p:spPr>
          <a:xfrm>
            <a:off x="7427880" y="324972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9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9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4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4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6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200"/>
                  <a:pt x="180" y="201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1"/>
                  <a:pt x="206" y="201"/>
                  <a:pt x="206" y="201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Freeform 335"/>
          <p:cNvSpPr/>
          <p:nvPr/>
        </p:nvSpPr>
        <p:spPr>
          <a:xfrm>
            <a:off x="7623000" y="328140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1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8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8"/>
                  <a:pt x="99" y="188"/>
                  <a:pt x="99" y="188"/>
                </a:cubicBezTo>
                <a:cubicBezTo>
                  <a:pt x="82" y="187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3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1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5"/>
                  <a:pt x="149" y="132"/>
                </a:cubicBezTo>
                <a:cubicBezTo>
                  <a:pt x="145" y="129"/>
                  <a:pt x="137" y="126"/>
                  <a:pt x="125" y="124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9"/>
                  <a:pt x="79" y="61"/>
                  <a:pt x="79" y="64"/>
                </a:cubicBezTo>
                <a:cubicBezTo>
                  <a:pt x="79" y="68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Freeform 336"/>
          <p:cNvSpPr/>
          <p:nvPr/>
        </p:nvSpPr>
        <p:spPr>
          <a:xfrm>
            <a:off x="8221680" y="374796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Freeform 337"/>
          <p:cNvSpPr/>
          <p:nvPr/>
        </p:nvSpPr>
        <p:spPr>
          <a:xfrm>
            <a:off x="8016840" y="386064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80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Freeform 338"/>
          <p:cNvSpPr/>
          <p:nvPr/>
        </p:nvSpPr>
        <p:spPr>
          <a:xfrm>
            <a:off x="7605720" y="386388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6"/>
                  <a:pt x="69" y="16"/>
                  <a:pt x="69" y="16"/>
                </a:cubicBezTo>
                <a:cubicBezTo>
                  <a:pt x="44" y="13"/>
                  <a:pt x="21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Freeform 339"/>
          <p:cNvSpPr/>
          <p:nvPr/>
        </p:nvSpPr>
        <p:spPr>
          <a:xfrm>
            <a:off x="7810560" y="39038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8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2"/>
                  <a:pt x="33" y="2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Freeform 340"/>
          <p:cNvSpPr/>
          <p:nvPr/>
        </p:nvSpPr>
        <p:spPr>
          <a:xfrm>
            <a:off x="7399440" y="375300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Freeform 341"/>
          <p:cNvSpPr/>
          <p:nvPr/>
        </p:nvSpPr>
        <p:spPr>
          <a:xfrm>
            <a:off x="7283520" y="3537000"/>
            <a:ext cx="77760" cy="338040"/>
          </a:xfrm>
          <a:custGeom>
            <a:avLst/>
            <a:gdLst/>
            <a:ahLst/>
            <a:rect l="l" t="t" r="r" b="b"/>
            <a:pathLst>
              <a:path w="32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3"/>
                  <a:pt x="12" y="119"/>
                  <a:pt x="32" y="141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2"/>
                  <a:pt x="0" y="2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Freeform 342"/>
          <p:cNvSpPr/>
          <p:nvPr/>
        </p:nvSpPr>
        <p:spPr>
          <a:xfrm>
            <a:off x="8426520" y="353700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Freeform 343"/>
          <p:cNvSpPr/>
          <p:nvPr/>
        </p:nvSpPr>
        <p:spPr>
          <a:xfrm>
            <a:off x="7566120" y="3849840"/>
            <a:ext cx="39600" cy="17460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3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Freeform 344"/>
          <p:cNvSpPr/>
          <p:nvPr/>
        </p:nvSpPr>
        <p:spPr>
          <a:xfrm>
            <a:off x="8388360" y="3710160"/>
            <a:ext cx="381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2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5"/>
                  <a:pt x="6" y="11"/>
                  <a:pt x="0" y="1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Freeform 345"/>
          <p:cNvSpPr/>
          <p:nvPr/>
        </p:nvSpPr>
        <p:spPr>
          <a:xfrm>
            <a:off x="8183520" y="3846600"/>
            <a:ext cx="38160" cy="17604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Freeform 346"/>
          <p:cNvSpPr/>
          <p:nvPr/>
        </p:nvSpPr>
        <p:spPr>
          <a:xfrm>
            <a:off x="7361280" y="37162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Freeform 347"/>
          <p:cNvSpPr/>
          <p:nvPr/>
        </p:nvSpPr>
        <p:spPr>
          <a:xfrm>
            <a:off x="7977240" y="389880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Freeform 348"/>
          <p:cNvSpPr/>
          <p:nvPr/>
        </p:nvSpPr>
        <p:spPr>
          <a:xfrm>
            <a:off x="7772400" y="39020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1" y="67"/>
                  <a:pt x="16" y="68"/>
                </a:cubicBezTo>
                <a:cubicBezTo>
                  <a:pt x="16" y="1"/>
                  <a:pt x="16" y="1"/>
                  <a:pt x="16" y="1"/>
                </a:cubicBezTo>
                <a:cubicBezTo>
                  <a:pt x="11" y="1"/>
                  <a:pt x="5" y="0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Freeform 349"/>
          <p:cNvSpPr/>
          <p:nvPr/>
        </p:nvSpPr>
        <p:spPr>
          <a:xfrm>
            <a:off x="7318440" y="2962440"/>
            <a:ext cx="12110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Freeform 350"/>
          <p:cNvSpPr/>
          <p:nvPr/>
        </p:nvSpPr>
        <p:spPr>
          <a:xfrm>
            <a:off x="7846920" y="3201840"/>
            <a:ext cx="182520" cy="26208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9" y="102"/>
                </a:cubicBezTo>
                <a:cubicBezTo>
                  <a:pt x="73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Freeform 351">
            <a:hlinkClick r:id="rId4"/>
          </p:cNvPr>
          <p:cNvSpPr/>
          <p:nvPr/>
        </p:nvSpPr>
        <p:spPr>
          <a:xfrm>
            <a:off x="7462800" y="3051000"/>
            <a:ext cx="92232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4"/>
                </a:cubicBezTo>
                <a:cubicBezTo>
                  <a:pt x="267" y="108"/>
                  <a:pt x="243" y="101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20" y="70"/>
                </a:cubicBezTo>
                <a:cubicBezTo>
                  <a:pt x="222" y="72"/>
                  <a:pt x="225" y="75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8" y="46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2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3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7" y="192"/>
                  <a:pt x="138" y="195"/>
                </a:cubicBezTo>
                <a:cubicBezTo>
                  <a:pt x="148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1"/>
                  <a:pt x="272" y="187"/>
                </a:cubicBezTo>
                <a:cubicBezTo>
                  <a:pt x="281" y="182"/>
                  <a:pt x="289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Freeform 352"/>
          <p:cNvSpPr/>
          <p:nvPr/>
        </p:nvSpPr>
        <p:spPr>
          <a:xfrm>
            <a:off x="7656480" y="30812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8" y="164"/>
                  <a:pt x="200" y="169"/>
                  <a:pt x="191" y="174"/>
                </a:cubicBezTo>
                <a:cubicBezTo>
                  <a:pt x="182" y="178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5"/>
                  <a:pt x="57" y="182"/>
                </a:cubicBezTo>
                <a:cubicBezTo>
                  <a:pt x="46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0"/>
                  <a:pt x="78" y="146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7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2"/>
                  <a:pt x="141" y="59"/>
                  <a:pt x="139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8"/>
                  <a:pt x="186" y="95"/>
                  <a:pt x="198" y="101"/>
                </a:cubicBezTo>
                <a:close/>
                <a:moveTo>
                  <a:pt x="148" y="152"/>
                </a:moveTo>
                <a:cubicBezTo>
                  <a:pt x="152" y="148"/>
                  <a:pt x="155" y="145"/>
                  <a:pt x="155" y="141"/>
                </a:cubicBezTo>
                <a:cubicBezTo>
                  <a:pt x="155" y="137"/>
                  <a:pt x="153" y="134"/>
                  <a:pt x="149" y="131"/>
                </a:cubicBezTo>
                <a:cubicBezTo>
                  <a:pt x="145" y="128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8" y="152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Freeform 353"/>
          <p:cNvSpPr/>
          <p:nvPr/>
        </p:nvSpPr>
        <p:spPr>
          <a:xfrm>
            <a:off x="8255160" y="354816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Freeform 354"/>
          <p:cNvSpPr/>
          <p:nvPr/>
        </p:nvSpPr>
        <p:spPr>
          <a:xfrm>
            <a:off x="8048520" y="3660840"/>
            <a:ext cx="168480" cy="1983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48" y="7"/>
                  <a:pt x="25" y="13"/>
                  <a:pt x="0" y="16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Freeform 355"/>
          <p:cNvSpPr/>
          <p:nvPr/>
        </p:nvSpPr>
        <p:spPr>
          <a:xfrm>
            <a:off x="7637400" y="3664080"/>
            <a:ext cx="168480" cy="19656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Freeform 356"/>
          <p:cNvSpPr/>
          <p:nvPr/>
        </p:nvSpPr>
        <p:spPr>
          <a:xfrm>
            <a:off x="7843680" y="37051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6"/>
                  <a:pt x="0" y="66"/>
                  <a:pt x="0" y="66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Freeform 357"/>
          <p:cNvSpPr/>
          <p:nvPr/>
        </p:nvSpPr>
        <p:spPr>
          <a:xfrm>
            <a:off x="7432560" y="355284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Freeform 358"/>
          <p:cNvSpPr/>
          <p:nvPr/>
        </p:nvSpPr>
        <p:spPr>
          <a:xfrm>
            <a:off x="7318440" y="3333600"/>
            <a:ext cx="75960" cy="3430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Freeform 359"/>
          <p:cNvSpPr/>
          <p:nvPr/>
        </p:nvSpPr>
        <p:spPr>
          <a:xfrm>
            <a:off x="8459640" y="333360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c6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Freeform 360"/>
          <p:cNvSpPr/>
          <p:nvPr/>
        </p:nvSpPr>
        <p:spPr>
          <a:xfrm>
            <a:off x="7599240" y="364968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Freeform 361"/>
          <p:cNvSpPr/>
          <p:nvPr/>
        </p:nvSpPr>
        <p:spPr>
          <a:xfrm>
            <a:off x="8421840" y="350676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7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Freeform 362"/>
          <p:cNvSpPr/>
          <p:nvPr/>
        </p:nvSpPr>
        <p:spPr>
          <a:xfrm>
            <a:off x="8217000" y="3646440"/>
            <a:ext cx="38160" cy="1764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Freeform 363"/>
          <p:cNvSpPr/>
          <p:nvPr/>
        </p:nvSpPr>
        <p:spPr>
          <a:xfrm>
            <a:off x="7394400" y="351468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8"/>
                  <a:pt x="16" y="83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Freeform 364"/>
          <p:cNvSpPr/>
          <p:nvPr/>
        </p:nvSpPr>
        <p:spPr>
          <a:xfrm>
            <a:off x="8010360" y="370044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Freeform 365"/>
          <p:cNvSpPr/>
          <p:nvPr/>
        </p:nvSpPr>
        <p:spPr>
          <a:xfrm>
            <a:off x="7805880" y="3700440"/>
            <a:ext cx="3780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b6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Freeform 366"/>
          <p:cNvSpPr/>
          <p:nvPr/>
        </p:nvSpPr>
        <p:spPr>
          <a:xfrm>
            <a:off x="8259840" y="503244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Freeform 367"/>
          <p:cNvSpPr/>
          <p:nvPr/>
        </p:nvSpPr>
        <p:spPr>
          <a:xfrm>
            <a:off x="8790120" y="5272200"/>
            <a:ext cx="1792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6"/>
                  <a:pt x="7" y="24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4"/>
                  <a:pt x="68" y="101"/>
                </a:cubicBezTo>
                <a:cubicBezTo>
                  <a:pt x="73" y="98"/>
                  <a:pt x="75" y="94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3" name="Freeform 368"/>
          <p:cNvSpPr/>
          <p:nvPr/>
        </p:nvSpPr>
        <p:spPr>
          <a:xfrm>
            <a:off x="8404200" y="5121360"/>
            <a:ext cx="924120" cy="56808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1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Freeform 369"/>
          <p:cNvSpPr/>
          <p:nvPr/>
        </p:nvSpPr>
        <p:spPr>
          <a:xfrm>
            <a:off x="8599320" y="51530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8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4"/>
                  <a:pt x="92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Freeform 370"/>
          <p:cNvSpPr/>
          <p:nvPr/>
        </p:nvSpPr>
        <p:spPr>
          <a:xfrm>
            <a:off x="9198000" y="561672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Freeform 371"/>
          <p:cNvSpPr/>
          <p:nvPr/>
        </p:nvSpPr>
        <p:spPr>
          <a:xfrm>
            <a:off x="8991720" y="5732640"/>
            <a:ext cx="164880" cy="1965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Freeform 372"/>
          <p:cNvSpPr/>
          <p:nvPr/>
        </p:nvSpPr>
        <p:spPr>
          <a:xfrm>
            <a:off x="8580600" y="5734080"/>
            <a:ext cx="168120" cy="195120"/>
          </a:xfrm>
          <a:custGeom>
            <a:avLst/>
            <a:gdLst/>
            <a:ahLst/>
            <a:rect l="l" t="t" r="r" b="b"/>
            <a:pathLst>
              <a:path w="70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70" y="81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Freeform 373"/>
          <p:cNvSpPr/>
          <p:nvPr/>
        </p:nvSpPr>
        <p:spPr>
          <a:xfrm>
            <a:off x="8786880" y="577368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Freeform 374"/>
          <p:cNvSpPr/>
          <p:nvPr/>
        </p:nvSpPr>
        <p:spPr>
          <a:xfrm>
            <a:off x="8375760" y="562464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Freeform 375"/>
          <p:cNvSpPr/>
          <p:nvPr/>
        </p:nvSpPr>
        <p:spPr>
          <a:xfrm>
            <a:off x="8259840" y="54054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Freeform 376"/>
          <p:cNvSpPr/>
          <p:nvPr/>
        </p:nvSpPr>
        <p:spPr>
          <a:xfrm>
            <a:off x="9402840" y="540540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Freeform 377"/>
          <p:cNvSpPr/>
          <p:nvPr/>
        </p:nvSpPr>
        <p:spPr>
          <a:xfrm>
            <a:off x="8542440" y="571968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Freeform 378"/>
          <p:cNvSpPr/>
          <p:nvPr/>
        </p:nvSpPr>
        <p:spPr>
          <a:xfrm>
            <a:off x="9364680" y="55785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Freeform 379"/>
          <p:cNvSpPr/>
          <p:nvPr/>
        </p:nvSpPr>
        <p:spPr>
          <a:xfrm>
            <a:off x="9156600" y="57182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Freeform 380"/>
          <p:cNvSpPr/>
          <p:nvPr/>
        </p:nvSpPr>
        <p:spPr>
          <a:xfrm>
            <a:off x="8337600" y="5584680"/>
            <a:ext cx="38160" cy="1987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Freeform 381"/>
          <p:cNvSpPr/>
          <p:nvPr/>
        </p:nvSpPr>
        <p:spPr>
          <a:xfrm>
            <a:off x="895356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Freeform 382"/>
          <p:cNvSpPr/>
          <p:nvPr/>
        </p:nvSpPr>
        <p:spPr>
          <a:xfrm>
            <a:off x="874872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Freeform 383"/>
          <p:cNvSpPr/>
          <p:nvPr/>
        </p:nvSpPr>
        <p:spPr>
          <a:xfrm>
            <a:off x="8101080" y="479916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Freeform 384"/>
          <p:cNvSpPr/>
          <p:nvPr/>
        </p:nvSpPr>
        <p:spPr>
          <a:xfrm>
            <a:off x="8631360" y="5038560"/>
            <a:ext cx="182520" cy="2635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1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Freeform 385"/>
          <p:cNvSpPr/>
          <p:nvPr/>
        </p:nvSpPr>
        <p:spPr>
          <a:xfrm>
            <a:off x="8245440" y="48880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Freeform 386"/>
          <p:cNvSpPr/>
          <p:nvPr/>
        </p:nvSpPr>
        <p:spPr>
          <a:xfrm>
            <a:off x="8440560" y="49197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1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Freeform 387"/>
          <p:cNvSpPr/>
          <p:nvPr/>
        </p:nvSpPr>
        <p:spPr>
          <a:xfrm>
            <a:off x="9039240" y="538632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Freeform 388"/>
          <p:cNvSpPr/>
          <p:nvPr/>
        </p:nvSpPr>
        <p:spPr>
          <a:xfrm>
            <a:off x="8834400" y="54990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Freeform 389"/>
          <p:cNvSpPr/>
          <p:nvPr/>
        </p:nvSpPr>
        <p:spPr>
          <a:xfrm>
            <a:off x="8423280" y="550080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Freeform 390"/>
          <p:cNvSpPr/>
          <p:nvPr/>
        </p:nvSpPr>
        <p:spPr>
          <a:xfrm>
            <a:off x="8628120" y="554184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Freeform 391"/>
          <p:cNvSpPr/>
          <p:nvPr/>
        </p:nvSpPr>
        <p:spPr>
          <a:xfrm>
            <a:off x="8217000" y="539100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Freeform 392"/>
          <p:cNvSpPr/>
          <p:nvPr/>
        </p:nvSpPr>
        <p:spPr>
          <a:xfrm>
            <a:off x="8101080" y="51721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Freeform 393"/>
          <p:cNvSpPr/>
          <p:nvPr/>
        </p:nvSpPr>
        <p:spPr>
          <a:xfrm>
            <a:off x="9244080" y="517212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Freeform 394"/>
          <p:cNvSpPr/>
          <p:nvPr/>
        </p:nvSpPr>
        <p:spPr>
          <a:xfrm>
            <a:off x="8383680" y="548640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0" name="Freeform 395"/>
          <p:cNvSpPr/>
          <p:nvPr/>
        </p:nvSpPr>
        <p:spPr>
          <a:xfrm>
            <a:off x="9205920" y="53452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Freeform 396"/>
          <p:cNvSpPr/>
          <p:nvPr/>
        </p:nvSpPr>
        <p:spPr>
          <a:xfrm>
            <a:off x="9001080" y="548496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Freeform 397"/>
          <p:cNvSpPr/>
          <p:nvPr/>
        </p:nvSpPr>
        <p:spPr>
          <a:xfrm>
            <a:off x="8178840" y="535464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Freeform 398"/>
          <p:cNvSpPr/>
          <p:nvPr/>
        </p:nvSpPr>
        <p:spPr>
          <a:xfrm>
            <a:off x="8794800" y="55371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Freeform 399"/>
          <p:cNvSpPr/>
          <p:nvPr/>
        </p:nvSpPr>
        <p:spPr>
          <a:xfrm>
            <a:off x="8589960" y="553716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Freeform 400"/>
          <p:cNvSpPr/>
          <p:nvPr/>
        </p:nvSpPr>
        <p:spPr>
          <a:xfrm>
            <a:off x="8077320" y="46022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Freeform 401"/>
          <p:cNvSpPr/>
          <p:nvPr/>
        </p:nvSpPr>
        <p:spPr>
          <a:xfrm>
            <a:off x="8605800" y="4842000"/>
            <a:ext cx="1810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Freeform 402"/>
          <p:cNvSpPr/>
          <p:nvPr/>
        </p:nvSpPr>
        <p:spPr>
          <a:xfrm>
            <a:off x="8221680" y="4691160"/>
            <a:ext cx="92376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8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Freeform 403"/>
          <p:cNvSpPr/>
          <p:nvPr/>
        </p:nvSpPr>
        <p:spPr>
          <a:xfrm>
            <a:off x="8416800" y="4722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3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5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Freeform 404"/>
          <p:cNvSpPr/>
          <p:nvPr/>
        </p:nvSpPr>
        <p:spPr>
          <a:xfrm>
            <a:off x="9015480" y="5186520"/>
            <a:ext cx="1648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Freeform 405"/>
          <p:cNvSpPr/>
          <p:nvPr/>
        </p:nvSpPr>
        <p:spPr>
          <a:xfrm>
            <a:off x="8809200" y="530208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Freeform 406"/>
          <p:cNvSpPr/>
          <p:nvPr/>
        </p:nvSpPr>
        <p:spPr>
          <a:xfrm>
            <a:off x="8397720" y="5303880"/>
            <a:ext cx="16848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Freeform 407"/>
          <p:cNvSpPr/>
          <p:nvPr/>
        </p:nvSpPr>
        <p:spPr>
          <a:xfrm>
            <a:off x="8604360" y="5342040"/>
            <a:ext cx="1648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2" y="2"/>
                  <a:pt x="11" y="2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Freeform 408"/>
          <p:cNvSpPr/>
          <p:nvPr/>
        </p:nvSpPr>
        <p:spPr>
          <a:xfrm>
            <a:off x="8193240" y="5192640"/>
            <a:ext cx="1648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Freeform 409"/>
          <p:cNvSpPr/>
          <p:nvPr/>
        </p:nvSpPr>
        <p:spPr>
          <a:xfrm>
            <a:off x="8077320" y="49752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Freeform 410"/>
          <p:cNvSpPr/>
          <p:nvPr/>
        </p:nvSpPr>
        <p:spPr>
          <a:xfrm>
            <a:off x="9220320" y="49752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Freeform 412"/>
          <p:cNvSpPr/>
          <p:nvPr/>
        </p:nvSpPr>
        <p:spPr>
          <a:xfrm>
            <a:off x="8358120" y="528948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9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Freeform 413"/>
          <p:cNvSpPr/>
          <p:nvPr/>
        </p:nvSpPr>
        <p:spPr>
          <a:xfrm>
            <a:off x="9180360" y="5148360"/>
            <a:ext cx="399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Freeform 414"/>
          <p:cNvSpPr/>
          <p:nvPr/>
        </p:nvSpPr>
        <p:spPr>
          <a:xfrm>
            <a:off x="8974080" y="52880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Freeform 415"/>
          <p:cNvSpPr/>
          <p:nvPr/>
        </p:nvSpPr>
        <p:spPr>
          <a:xfrm>
            <a:off x="8155080" y="51544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Freeform 416"/>
          <p:cNvSpPr/>
          <p:nvPr/>
        </p:nvSpPr>
        <p:spPr>
          <a:xfrm>
            <a:off x="8769240" y="5340240"/>
            <a:ext cx="399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Freeform 417"/>
          <p:cNvSpPr/>
          <p:nvPr/>
        </p:nvSpPr>
        <p:spPr>
          <a:xfrm>
            <a:off x="8566200" y="53402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Freeform 418"/>
          <p:cNvSpPr/>
          <p:nvPr/>
        </p:nvSpPr>
        <p:spPr>
          <a:xfrm>
            <a:off x="8072280" y="44067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Freeform 419"/>
          <p:cNvSpPr/>
          <p:nvPr/>
        </p:nvSpPr>
        <p:spPr>
          <a:xfrm>
            <a:off x="8599320" y="4648320"/>
            <a:ext cx="18288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5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6"/>
                  <a:pt x="8" y="24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0"/>
                  <a:pt x="2" y="8"/>
                  <a:pt x="5" y="5"/>
                </a:cubicBezTo>
                <a:close/>
                <a:moveTo>
                  <a:pt x="47" y="108"/>
                </a:moveTo>
                <a:cubicBezTo>
                  <a:pt x="57" y="107"/>
                  <a:pt x="64" y="104"/>
                  <a:pt x="69" y="101"/>
                </a:cubicBezTo>
                <a:cubicBezTo>
                  <a:pt x="74" y="98"/>
                  <a:pt x="76" y="94"/>
                  <a:pt x="76" y="90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Freeform 420"/>
          <p:cNvSpPr/>
          <p:nvPr/>
        </p:nvSpPr>
        <p:spPr>
          <a:xfrm>
            <a:off x="8217000" y="4495680"/>
            <a:ext cx="92376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8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8" y="117"/>
                  <a:pt x="129" y="120"/>
                </a:cubicBezTo>
                <a:cubicBezTo>
                  <a:pt x="139" y="123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7"/>
                  <a:pt x="165" y="165"/>
                  <a:pt x="162" y="161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199"/>
                  <a:pt x="233" y="198"/>
                  <a:pt x="243" y="196"/>
                </a:cubicBezTo>
                <a:cubicBezTo>
                  <a:pt x="253" y="194"/>
                  <a:pt x="263" y="191"/>
                  <a:pt x="272" y="186"/>
                </a:cubicBezTo>
                <a:cubicBezTo>
                  <a:pt x="281" y="182"/>
                  <a:pt x="288" y="176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Freeform 421"/>
          <p:cNvSpPr/>
          <p:nvPr/>
        </p:nvSpPr>
        <p:spPr>
          <a:xfrm>
            <a:off x="8412120" y="45277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7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3"/>
                  <a:pt x="200" y="169"/>
                  <a:pt x="191" y="173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6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8"/>
                </a:cubicBezTo>
                <a:cubicBezTo>
                  <a:pt x="84" y="152"/>
                  <a:pt x="90" y="154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0"/>
                  <a:pt x="48" y="107"/>
                </a:cubicBezTo>
                <a:cubicBezTo>
                  <a:pt x="37" y="104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7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0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5"/>
                </a:cubicBezTo>
                <a:cubicBezTo>
                  <a:pt x="80" y="58"/>
                  <a:pt x="78" y="60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4"/>
                  <a:pt x="91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Freeform 422"/>
          <p:cNvSpPr/>
          <p:nvPr/>
        </p:nvSpPr>
        <p:spPr>
          <a:xfrm>
            <a:off x="9007560" y="4991040"/>
            <a:ext cx="16812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Freeform 423"/>
          <p:cNvSpPr/>
          <p:nvPr/>
        </p:nvSpPr>
        <p:spPr>
          <a:xfrm>
            <a:off x="8804160" y="51069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5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5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Freeform 424"/>
          <p:cNvSpPr/>
          <p:nvPr/>
        </p:nvSpPr>
        <p:spPr>
          <a:xfrm>
            <a:off x="8393040" y="5108400"/>
            <a:ext cx="16524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Freeform 425"/>
          <p:cNvSpPr/>
          <p:nvPr/>
        </p:nvSpPr>
        <p:spPr>
          <a:xfrm>
            <a:off x="8599320" y="514836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Freeform 426"/>
          <p:cNvSpPr/>
          <p:nvPr/>
        </p:nvSpPr>
        <p:spPr>
          <a:xfrm>
            <a:off x="8188200" y="4998960"/>
            <a:ext cx="16524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Freeform 427"/>
          <p:cNvSpPr/>
          <p:nvPr/>
        </p:nvSpPr>
        <p:spPr>
          <a:xfrm>
            <a:off x="8072280" y="4780080"/>
            <a:ext cx="74880" cy="338040"/>
          </a:xfrm>
          <a:custGeom>
            <a:avLst/>
            <a:gdLst/>
            <a:ahLst/>
            <a:rect l="l" t="t" r="r" b="b"/>
            <a:pathLst>
              <a:path w="31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1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Freeform 428"/>
          <p:cNvSpPr/>
          <p:nvPr/>
        </p:nvSpPr>
        <p:spPr>
          <a:xfrm>
            <a:off x="9215280" y="478008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Freeform 429"/>
          <p:cNvSpPr/>
          <p:nvPr/>
        </p:nvSpPr>
        <p:spPr>
          <a:xfrm>
            <a:off x="8353440" y="5094360"/>
            <a:ext cx="3960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Freeform 430"/>
          <p:cNvSpPr/>
          <p:nvPr/>
        </p:nvSpPr>
        <p:spPr>
          <a:xfrm>
            <a:off x="9175680" y="49528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5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Freeform 431"/>
          <p:cNvSpPr/>
          <p:nvPr/>
        </p:nvSpPr>
        <p:spPr>
          <a:xfrm>
            <a:off x="8969400" y="509256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Freeform 432"/>
          <p:cNvSpPr/>
          <p:nvPr/>
        </p:nvSpPr>
        <p:spPr>
          <a:xfrm>
            <a:off x="8147160" y="4960800"/>
            <a:ext cx="4104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Freeform 433"/>
          <p:cNvSpPr/>
          <p:nvPr/>
        </p:nvSpPr>
        <p:spPr>
          <a:xfrm>
            <a:off x="8764560" y="5143680"/>
            <a:ext cx="3960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2"/>
                </a:moveTo>
                <a:cubicBezTo>
                  <a:pt x="0" y="69"/>
                  <a:pt x="0" y="69"/>
                  <a:pt x="0" y="69"/>
                </a:cubicBezTo>
                <a:cubicBezTo>
                  <a:pt x="5" y="68"/>
                  <a:pt x="11" y="68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2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434"/>
          <p:cNvSpPr/>
          <p:nvPr/>
        </p:nvSpPr>
        <p:spPr>
          <a:xfrm>
            <a:off x="8558280" y="5145120"/>
            <a:ext cx="4104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1"/>
                  <a:pt x="17" y="1"/>
                  <a:pt x="17" y="1"/>
                </a:cubicBezTo>
                <a:cubicBezTo>
                  <a:pt x="11" y="1"/>
                  <a:pt x="6" y="0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Freeform 435"/>
          <p:cNvSpPr/>
          <p:nvPr/>
        </p:nvSpPr>
        <p:spPr>
          <a:xfrm>
            <a:off x="8136000" y="41353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436"/>
          <p:cNvSpPr/>
          <p:nvPr/>
        </p:nvSpPr>
        <p:spPr>
          <a:xfrm>
            <a:off x="8661240" y="4375080"/>
            <a:ext cx="18288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5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Freeform 437"/>
          <p:cNvSpPr/>
          <p:nvPr/>
        </p:nvSpPr>
        <p:spPr>
          <a:xfrm>
            <a:off x="8278920" y="4224240"/>
            <a:ext cx="92376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438"/>
          <p:cNvSpPr/>
          <p:nvPr/>
        </p:nvSpPr>
        <p:spPr>
          <a:xfrm>
            <a:off x="8474040" y="4255920"/>
            <a:ext cx="533520" cy="50040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70" y="22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Freeform 439"/>
          <p:cNvSpPr/>
          <p:nvPr/>
        </p:nvSpPr>
        <p:spPr>
          <a:xfrm>
            <a:off x="9070920" y="471960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440"/>
          <p:cNvSpPr/>
          <p:nvPr/>
        </p:nvSpPr>
        <p:spPr>
          <a:xfrm>
            <a:off x="8866080" y="4835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Freeform 441"/>
          <p:cNvSpPr/>
          <p:nvPr/>
        </p:nvSpPr>
        <p:spPr>
          <a:xfrm>
            <a:off x="8454960" y="483696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442"/>
          <p:cNvSpPr/>
          <p:nvPr/>
        </p:nvSpPr>
        <p:spPr>
          <a:xfrm>
            <a:off x="8661240" y="4875120"/>
            <a:ext cx="1666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Freeform 443"/>
          <p:cNvSpPr/>
          <p:nvPr/>
        </p:nvSpPr>
        <p:spPr>
          <a:xfrm>
            <a:off x="8250120" y="472752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444"/>
          <p:cNvSpPr/>
          <p:nvPr/>
        </p:nvSpPr>
        <p:spPr>
          <a:xfrm>
            <a:off x="8136000" y="4508640"/>
            <a:ext cx="7452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Freeform 445"/>
          <p:cNvSpPr/>
          <p:nvPr/>
        </p:nvSpPr>
        <p:spPr>
          <a:xfrm>
            <a:off x="9277200" y="450864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446"/>
          <p:cNvSpPr/>
          <p:nvPr/>
        </p:nvSpPr>
        <p:spPr>
          <a:xfrm>
            <a:off x="8416800" y="482292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Freeform 447"/>
          <p:cNvSpPr/>
          <p:nvPr/>
        </p:nvSpPr>
        <p:spPr>
          <a:xfrm>
            <a:off x="9239400" y="468144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448"/>
          <p:cNvSpPr/>
          <p:nvPr/>
        </p:nvSpPr>
        <p:spPr>
          <a:xfrm>
            <a:off x="9032760" y="482112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Freeform 449"/>
          <p:cNvSpPr/>
          <p:nvPr/>
        </p:nvSpPr>
        <p:spPr>
          <a:xfrm>
            <a:off x="8210520" y="4687920"/>
            <a:ext cx="39600" cy="19836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450"/>
          <p:cNvSpPr/>
          <p:nvPr/>
        </p:nvSpPr>
        <p:spPr>
          <a:xfrm>
            <a:off x="8827920" y="4873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Freeform 451"/>
          <p:cNvSpPr/>
          <p:nvPr/>
        </p:nvSpPr>
        <p:spPr>
          <a:xfrm>
            <a:off x="8621640" y="487368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452"/>
          <p:cNvSpPr/>
          <p:nvPr/>
        </p:nvSpPr>
        <p:spPr>
          <a:xfrm>
            <a:off x="8101080" y="3933720"/>
            <a:ext cx="1212840" cy="74304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Freeform 453"/>
          <p:cNvSpPr/>
          <p:nvPr/>
        </p:nvSpPr>
        <p:spPr>
          <a:xfrm>
            <a:off x="8631360" y="4172040"/>
            <a:ext cx="182520" cy="2617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2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454"/>
          <p:cNvSpPr/>
          <p:nvPr/>
        </p:nvSpPr>
        <p:spPr>
          <a:xfrm>
            <a:off x="8245440" y="4019400"/>
            <a:ext cx="924120" cy="57024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Freeform 455"/>
          <p:cNvSpPr/>
          <p:nvPr/>
        </p:nvSpPr>
        <p:spPr>
          <a:xfrm>
            <a:off x="8440560" y="40514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2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456"/>
          <p:cNvSpPr/>
          <p:nvPr/>
        </p:nvSpPr>
        <p:spPr>
          <a:xfrm>
            <a:off x="9039240" y="451800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Freeform 457"/>
          <p:cNvSpPr/>
          <p:nvPr/>
        </p:nvSpPr>
        <p:spPr>
          <a:xfrm>
            <a:off x="8834400" y="463068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458"/>
          <p:cNvSpPr/>
          <p:nvPr/>
        </p:nvSpPr>
        <p:spPr>
          <a:xfrm>
            <a:off x="8423280" y="463248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Freeform 459"/>
          <p:cNvSpPr/>
          <p:nvPr/>
        </p:nvSpPr>
        <p:spPr>
          <a:xfrm>
            <a:off x="8628120" y="46735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460"/>
          <p:cNvSpPr/>
          <p:nvPr/>
        </p:nvSpPr>
        <p:spPr>
          <a:xfrm>
            <a:off x="8217000" y="452268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Freeform 461"/>
          <p:cNvSpPr/>
          <p:nvPr/>
        </p:nvSpPr>
        <p:spPr>
          <a:xfrm>
            <a:off x="8101080" y="43038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462"/>
          <p:cNvSpPr/>
          <p:nvPr/>
        </p:nvSpPr>
        <p:spPr>
          <a:xfrm>
            <a:off x="9244080" y="43038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Freeform 463"/>
          <p:cNvSpPr/>
          <p:nvPr/>
        </p:nvSpPr>
        <p:spPr>
          <a:xfrm>
            <a:off x="8383680" y="461808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Freeform 464"/>
          <p:cNvSpPr/>
          <p:nvPr/>
        </p:nvSpPr>
        <p:spPr>
          <a:xfrm>
            <a:off x="9205920" y="447660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Freeform 465"/>
          <p:cNvSpPr/>
          <p:nvPr/>
        </p:nvSpPr>
        <p:spPr>
          <a:xfrm>
            <a:off x="9001080" y="4616280"/>
            <a:ext cx="38160" cy="17496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Freeform 466"/>
          <p:cNvSpPr/>
          <p:nvPr/>
        </p:nvSpPr>
        <p:spPr>
          <a:xfrm>
            <a:off x="8178840" y="448632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Freeform 467"/>
          <p:cNvSpPr/>
          <p:nvPr/>
        </p:nvSpPr>
        <p:spPr>
          <a:xfrm>
            <a:off x="8794800" y="466884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Freeform 468"/>
          <p:cNvSpPr/>
          <p:nvPr/>
        </p:nvSpPr>
        <p:spPr>
          <a:xfrm>
            <a:off x="8589960" y="466884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Freeform 469"/>
          <p:cNvSpPr/>
          <p:nvPr/>
        </p:nvSpPr>
        <p:spPr>
          <a:xfrm>
            <a:off x="8164440" y="37530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Freeform 470"/>
          <p:cNvSpPr/>
          <p:nvPr/>
        </p:nvSpPr>
        <p:spPr>
          <a:xfrm>
            <a:off x="8693280" y="3990960"/>
            <a:ext cx="18072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70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Freeform 471"/>
          <p:cNvSpPr/>
          <p:nvPr/>
        </p:nvSpPr>
        <p:spPr>
          <a:xfrm>
            <a:off x="8308800" y="3840120"/>
            <a:ext cx="92268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6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3" y="200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Freeform 472"/>
          <p:cNvSpPr/>
          <p:nvPr/>
        </p:nvSpPr>
        <p:spPr>
          <a:xfrm>
            <a:off x="8502480" y="3870360"/>
            <a:ext cx="5353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7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6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9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Freeform 473"/>
          <p:cNvSpPr/>
          <p:nvPr/>
        </p:nvSpPr>
        <p:spPr>
          <a:xfrm>
            <a:off x="9101160" y="433692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Freeform 474"/>
          <p:cNvSpPr/>
          <p:nvPr/>
        </p:nvSpPr>
        <p:spPr>
          <a:xfrm>
            <a:off x="8894880" y="44496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Freeform 475"/>
          <p:cNvSpPr/>
          <p:nvPr/>
        </p:nvSpPr>
        <p:spPr>
          <a:xfrm>
            <a:off x="8483760" y="4452840"/>
            <a:ext cx="16812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Freeform 476"/>
          <p:cNvSpPr/>
          <p:nvPr/>
        </p:nvSpPr>
        <p:spPr>
          <a:xfrm>
            <a:off x="8690040" y="44942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Freeform 477"/>
          <p:cNvSpPr/>
          <p:nvPr/>
        </p:nvSpPr>
        <p:spPr>
          <a:xfrm>
            <a:off x="8278920" y="434196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2" name="Freeform 478"/>
          <p:cNvSpPr/>
          <p:nvPr/>
        </p:nvSpPr>
        <p:spPr>
          <a:xfrm>
            <a:off x="8164440" y="412272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Freeform 479"/>
          <p:cNvSpPr/>
          <p:nvPr/>
        </p:nvSpPr>
        <p:spPr>
          <a:xfrm>
            <a:off x="9306000" y="412272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8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Freeform 480"/>
          <p:cNvSpPr/>
          <p:nvPr/>
        </p:nvSpPr>
        <p:spPr>
          <a:xfrm>
            <a:off x="8445600" y="443880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Freeform 481"/>
          <p:cNvSpPr/>
          <p:nvPr/>
        </p:nvSpPr>
        <p:spPr>
          <a:xfrm>
            <a:off x="9267840" y="42958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Freeform 482"/>
          <p:cNvSpPr/>
          <p:nvPr/>
        </p:nvSpPr>
        <p:spPr>
          <a:xfrm>
            <a:off x="9061560" y="443556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Freeform 483"/>
          <p:cNvSpPr/>
          <p:nvPr/>
        </p:nvSpPr>
        <p:spPr>
          <a:xfrm>
            <a:off x="8240760" y="430524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Freeform 484"/>
          <p:cNvSpPr/>
          <p:nvPr/>
        </p:nvSpPr>
        <p:spPr>
          <a:xfrm>
            <a:off x="8856720" y="44895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Freeform 485"/>
          <p:cNvSpPr/>
          <p:nvPr/>
        </p:nvSpPr>
        <p:spPr>
          <a:xfrm>
            <a:off x="8651880" y="4489560"/>
            <a:ext cx="3816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0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2"/>
                  <a:pt x="5" y="1"/>
                  <a:pt x="0" y="0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Freeform 486"/>
          <p:cNvSpPr/>
          <p:nvPr/>
        </p:nvSpPr>
        <p:spPr>
          <a:xfrm>
            <a:off x="8259840" y="503244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Freeform 487"/>
          <p:cNvSpPr/>
          <p:nvPr/>
        </p:nvSpPr>
        <p:spPr>
          <a:xfrm>
            <a:off x="8790120" y="5272200"/>
            <a:ext cx="1792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6"/>
                  <a:pt x="7" y="24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4"/>
                  <a:pt x="68" y="101"/>
                </a:cubicBezTo>
                <a:cubicBezTo>
                  <a:pt x="73" y="98"/>
                  <a:pt x="75" y="94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Freeform 488"/>
          <p:cNvSpPr/>
          <p:nvPr/>
        </p:nvSpPr>
        <p:spPr>
          <a:xfrm>
            <a:off x="8404200" y="5121360"/>
            <a:ext cx="924120" cy="56808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9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1" y="35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99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1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Freeform 489"/>
          <p:cNvSpPr/>
          <p:nvPr/>
        </p:nvSpPr>
        <p:spPr>
          <a:xfrm>
            <a:off x="8599320" y="51530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8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6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8" y="67"/>
                  <a:pt x="148" y="67"/>
                  <a:pt x="148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4"/>
                  <a:pt x="92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Freeform 490"/>
          <p:cNvSpPr/>
          <p:nvPr/>
        </p:nvSpPr>
        <p:spPr>
          <a:xfrm>
            <a:off x="9198000" y="5616720"/>
            <a:ext cx="1666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Freeform 491"/>
          <p:cNvSpPr/>
          <p:nvPr/>
        </p:nvSpPr>
        <p:spPr>
          <a:xfrm>
            <a:off x="8991720" y="5732640"/>
            <a:ext cx="164880" cy="1965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Freeform 492"/>
          <p:cNvSpPr/>
          <p:nvPr/>
        </p:nvSpPr>
        <p:spPr>
          <a:xfrm>
            <a:off x="8580600" y="5734080"/>
            <a:ext cx="168120" cy="195120"/>
          </a:xfrm>
          <a:custGeom>
            <a:avLst/>
            <a:gdLst/>
            <a:ahLst/>
            <a:rect l="l" t="t" r="r" b="b"/>
            <a:pathLst>
              <a:path w="70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70" y="81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Freeform 493"/>
          <p:cNvSpPr/>
          <p:nvPr/>
        </p:nvSpPr>
        <p:spPr>
          <a:xfrm>
            <a:off x="8786880" y="577368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2" y="2"/>
                  <a:pt x="11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Freeform 494"/>
          <p:cNvSpPr/>
          <p:nvPr/>
        </p:nvSpPr>
        <p:spPr>
          <a:xfrm>
            <a:off x="8375760" y="5624640"/>
            <a:ext cx="166680" cy="2538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Freeform 495"/>
          <p:cNvSpPr/>
          <p:nvPr/>
        </p:nvSpPr>
        <p:spPr>
          <a:xfrm>
            <a:off x="8259840" y="54054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Freeform 496"/>
          <p:cNvSpPr/>
          <p:nvPr/>
        </p:nvSpPr>
        <p:spPr>
          <a:xfrm>
            <a:off x="9402840" y="5405400"/>
            <a:ext cx="69840" cy="33192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9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Freeform 497"/>
          <p:cNvSpPr/>
          <p:nvPr/>
        </p:nvSpPr>
        <p:spPr>
          <a:xfrm>
            <a:off x="8542440" y="571968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Freeform 498"/>
          <p:cNvSpPr/>
          <p:nvPr/>
        </p:nvSpPr>
        <p:spPr>
          <a:xfrm>
            <a:off x="9364680" y="557856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Freeform 499"/>
          <p:cNvSpPr/>
          <p:nvPr/>
        </p:nvSpPr>
        <p:spPr>
          <a:xfrm>
            <a:off x="9156600" y="57182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Freeform 500"/>
          <p:cNvSpPr/>
          <p:nvPr/>
        </p:nvSpPr>
        <p:spPr>
          <a:xfrm>
            <a:off x="8337600" y="5584680"/>
            <a:ext cx="38160" cy="1987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Freeform 501"/>
          <p:cNvSpPr/>
          <p:nvPr/>
        </p:nvSpPr>
        <p:spPr>
          <a:xfrm>
            <a:off x="895356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Freeform 502"/>
          <p:cNvSpPr/>
          <p:nvPr/>
        </p:nvSpPr>
        <p:spPr>
          <a:xfrm>
            <a:off x="8748720" y="57704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Freeform 503"/>
          <p:cNvSpPr/>
          <p:nvPr/>
        </p:nvSpPr>
        <p:spPr>
          <a:xfrm>
            <a:off x="8101080" y="4799160"/>
            <a:ext cx="1212840" cy="7459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70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70"/>
                  <a:pt x="113" y="0"/>
                  <a:pt x="252" y="0"/>
                </a:cubicBezTo>
                <a:close/>
                <a:moveTo>
                  <a:pt x="252" y="274"/>
                </a:moveTo>
                <a:cubicBezTo>
                  <a:pt x="358" y="274"/>
                  <a:pt x="444" y="221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1"/>
                  <a:pt x="146" y="274"/>
                  <a:pt x="252" y="274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Freeform 504"/>
          <p:cNvSpPr/>
          <p:nvPr/>
        </p:nvSpPr>
        <p:spPr>
          <a:xfrm>
            <a:off x="8631360" y="5038560"/>
            <a:ext cx="182520" cy="2635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1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Freeform 505"/>
          <p:cNvSpPr/>
          <p:nvPr/>
        </p:nvSpPr>
        <p:spPr>
          <a:xfrm>
            <a:off x="8245440" y="4888080"/>
            <a:ext cx="92412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Freeform 506"/>
          <p:cNvSpPr/>
          <p:nvPr/>
        </p:nvSpPr>
        <p:spPr>
          <a:xfrm>
            <a:off x="8440560" y="491976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8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1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Freeform 507"/>
          <p:cNvSpPr/>
          <p:nvPr/>
        </p:nvSpPr>
        <p:spPr>
          <a:xfrm>
            <a:off x="9039240" y="538632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Freeform 508"/>
          <p:cNvSpPr/>
          <p:nvPr/>
        </p:nvSpPr>
        <p:spPr>
          <a:xfrm>
            <a:off x="8834400" y="54990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7"/>
                  <a:pt x="24" y="13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Freeform 509"/>
          <p:cNvSpPr/>
          <p:nvPr/>
        </p:nvSpPr>
        <p:spPr>
          <a:xfrm>
            <a:off x="8423280" y="550080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Freeform 510"/>
          <p:cNvSpPr/>
          <p:nvPr/>
        </p:nvSpPr>
        <p:spPr>
          <a:xfrm>
            <a:off x="8628120" y="5541840"/>
            <a:ext cx="166680" cy="16380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7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Freeform 511"/>
          <p:cNvSpPr/>
          <p:nvPr/>
        </p:nvSpPr>
        <p:spPr>
          <a:xfrm>
            <a:off x="8217000" y="539100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Freeform 512"/>
          <p:cNvSpPr/>
          <p:nvPr/>
        </p:nvSpPr>
        <p:spPr>
          <a:xfrm>
            <a:off x="8101080" y="517212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Freeform 513"/>
          <p:cNvSpPr/>
          <p:nvPr/>
        </p:nvSpPr>
        <p:spPr>
          <a:xfrm>
            <a:off x="9244080" y="517212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Freeform 514"/>
          <p:cNvSpPr/>
          <p:nvPr/>
        </p:nvSpPr>
        <p:spPr>
          <a:xfrm>
            <a:off x="8383680" y="548640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Freeform 515"/>
          <p:cNvSpPr/>
          <p:nvPr/>
        </p:nvSpPr>
        <p:spPr>
          <a:xfrm>
            <a:off x="9205920" y="53452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Freeform 516"/>
          <p:cNvSpPr/>
          <p:nvPr/>
        </p:nvSpPr>
        <p:spPr>
          <a:xfrm>
            <a:off x="9001080" y="548496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Freeform 517"/>
          <p:cNvSpPr/>
          <p:nvPr/>
        </p:nvSpPr>
        <p:spPr>
          <a:xfrm>
            <a:off x="8178840" y="535464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Freeform 518"/>
          <p:cNvSpPr/>
          <p:nvPr/>
        </p:nvSpPr>
        <p:spPr>
          <a:xfrm>
            <a:off x="8794800" y="553716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Freeform 519"/>
          <p:cNvSpPr/>
          <p:nvPr/>
        </p:nvSpPr>
        <p:spPr>
          <a:xfrm>
            <a:off x="8589960" y="553716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Freeform 520"/>
          <p:cNvSpPr/>
          <p:nvPr/>
        </p:nvSpPr>
        <p:spPr>
          <a:xfrm>
            <a:off x="8077320" y="4602240"/>
            <a:ext cx="1212840" cy="7444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Freeform 521"/>
          <p:cNvSpPr/>
          <p:nvPr/>
        </p:nvSpPr>
        <p:spPr>
          <a:xfrm>
            <a:off x="8605800" y="4842000"/>
            <a:ext cx="181080" cy="260280"/>
          </a:xfrm>
          <a:custGeom>
            <a:avLst/>
            <a:gdLst/>
            <a:ahLst/>
            <a:rect l="l" t="t" r="r" b="b"/>
            <a:pathLst>
              <a:path w="75" h="108">
                <a:moveTo>
                  <a:pt x="4" y="6"/>
                </a:moveTo>
                <a:cubicBezTo>
                  <a:pt x="7" y="3"/>
                  <a:pt x="12" y="1"/>
                  <a:pt x="20" y="0"/>
                </a:cubicBezTo>
                <a:cubicBezTo>
                  <a:pt x="20" y="28"/>
                  <a:pt x="20" y="28"/>
                  <a:pt x="20" y="28"/>
                </a:cubicBezTo>
                <a:cubicBezTo>
                  <a:pt x="13" y="27"/>
                  <a:pt x="7" y="25"/>
                  <a:pt x="4" y="22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8"/>
                </a:moveTo>
                <a:cubicBezTo>
                  <a:pt x="56" y="107"/>
                  <a:pt x="64" y="105"/>
                  <a:pt x="68" y="101"/>
                </a:cubicBezTo>
                <a:cubicBezTo>
                  <a:pt x="73" y="98"/>
                  <a:pt x="75" y="95"/>
                  <a:pt x="75" y="91"/>
                </a:cubicBezTo>
                <a:cubicBezTo>
                  <a:pt x="75" y="87"/>
                  <a:pt x="73" y="84"/>
                  <a:pt x="70" y="81"/>
                </a:cubicBezTo>
                <a:cubicBezTo>
                  <a:pt x="65" y="78"/>
                  <a:pt x="58" y="75"/>
                  <a:pt x="46" y="73"/>
                </a:cubicBezTo>
                <a:lnTo>
                  <a:pt x="46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Freeform 522"/>
          <p:cNvSpPr/>
          <p:nvPr/>
        </p:nvSpPr>
        <p:spPr>
          <a:xfrm>
            <a:off x="8221680" y="4691160"/>
            <a:ext cx="923760" cy="5666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7" y="108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2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0"/>
                  <a:pt x="114" y="49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1"/>
                  <a:pt x="95" y="100"/>
                  <a:pt x="103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8"/>
                  <a:pt x="156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7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4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Freeform 523"/>
          <p:cNvSpPr/>
          <p:nvPr/>
        </p:nvSpPr>
        <p:spPr>
          <a:xfrm>
            <a:off x="8416800" y="47228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3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0"/>
                  <a:pt x="77" y="145"/>
                  <a:pt x="81" y="149"/>
                </a:cubicBezTo>
                <a:cubicBezTo>
                  <a:pt x="85" y="152"/>
                  <a:pt x="91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2" y="93"/>
                </a:cubicBezTo>
                <a:cubicBezTo>
                  <a:pt x="14" y="87"/>
                  <a:pt x="11" y="78"/>
                  <a:pt x="11" y="69"/>
                </a:cubicBezTo>
                <a:cubicBezTo>
                  <a:pt x="11" y="56"/>
                  <a:pt x="18" y="45"/>
                  <a:pt x="33" y="36"/>
                </a:cubicBezTo>
                <a:cubicBezTo>
                  <a:pt x="48" y="27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1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3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6" y="95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9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2"/>
                </a:cubicBezTo>
                <a:cubicBezTo>
                  <a:pt x="86" y="75"/>
                  <a:pt x="92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Freeform 524"/>
          <p:cNvSpPr/>
          <p:nvPr/>
        </p:nvSpPr>
        <p:spPr>
          <a:xfrm>
            <a:off x="9015480" y="5186520"/>
            <a:ext cx="164880" cy="26028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7"/>
                  <a:pt x="27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Freeform 525"/>
          <p:cNvSpPr/>
          <p:nvPr/>
        </p:nvSpPr>
        <p:spPr>
          <a:xfrm>
            <a:off x="8809200" y="5302080"/>
            <a:ext cx="1648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Freeform 526"/>
          <p:cNvSpPr/>
          <p:nvPr/>
        </p:nvSpPr>
        <p:spPr>
          <a:xfrm>
            <a:off x="8397720" y="5303880"/>
            <a:ext cx="16848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Freeform 527"/>
          <p:cNvSpPr/>
          <p:nvPr/>
        </p:nvSpPr>
        <p:spPr>
          <a:xfrm>
            <a:off x="8604360" y="5342040"/>
            <a:ext cx="1648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2" y="2"/>
                  <a:pt x="11" y="2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Freeform 528"/>
          <p:cNvSpPr/>
          <p:nvPr/>
        </p:nvSpPr>
        <p:spPr>
          <a:xfrm>
            <a:off x="8193240" y="5192640"/>
            <a:ext cx="164880" cy="25560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9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Freeform 529"/>
          <p:cNvSpPr/>
          <p:nvPr/>
        </p:nvSpPr>
        <p:spPr>
          <a:xfrm>
            <a:off x="8077320" y="49752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19"/>
                  <a:pt x="32" y="142"/>
                </a:cubicBezTo>
                <a:cubicBezTo>
                  <a:pt x="32" y="75"/>
                  <a:pt x="32" y="75"/>
                  <a:pt x="32" y="75"/>
                </a:cubicBezTo>
                <a:cubicBezTo>
                  <a:pt x="12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Freeform 530"/>
          <p:cNvSpPr/>
          <p:nvPr/>
        </p:nvSpPr>
        <p:spPr>
          <a:xfrm>
            <a:off x="9220320" y="49752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Freeform 531"/>
          <p:cNvSpPr/>
          <p:nvPr/>
        </p:nvSpPr>
        <p:spPr>
          <a:xfrm>
            <a:off x="8358120" y="5289480"/>
            <a:ext cx="3960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9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Freeform 532"/>
          <p:cNvSpPr/>
          <p:nvPr/>
        </p:nvSpPr>
        <p:spPr>
          <a:xfrm>
            <a:off x="9180360" y="5148360"/>
            <a:ext cx="39960" cy="1983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Freeform 533"/>
          <p:cNvSpPr/>
          <p:nvPr/>
        </p:nvSpPr>
        <p:spPr>
          <a:xfrm>
            <a:off x="8974080" y="5288040"/>
            <a:ext cx="41400" cy="172800"/>
          </a:xfrm>
          <a:custGeom>
            <a:avLst/>
            <a:gdLst/>
            <a:ahLst/>
            <a:rect l="l" t="t" r="r" b="b"/>
            <a:pathLst>
              <a:path w="17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7" y="66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Freeform 534"/>
          <p:cNvSpPr/>
          <p:nvPr/>
        </p:nvSpPr>
        <p:spPr>
          <a:xfrm>
            <a:off x="8155080" y="515448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6"/>
                  <a:pt x="16" y="16"/>
                  <a:pt x="16" y="16"/>
                </a:cubicBezTo>
                <a:cubicBezTo>
                  <a:pt x="10" y="11"/>
                  <a:pt x="5" y="6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Freeform 535"/>
          <p:cNvSpPr/>
          <p:nvPr/>
        </p:nvSpPr>
        <p:spPr>
          <a:xfrm>
            <a:off x="8769240" y="5340240"/>
            <a:ext cx="399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Freeform 536"/>
          <p:cNvSpPr/>
          <p:nvPr/>
        </p:nvSpPr>
        <p:spPr>
          <a:xfrm>
            <a:off x="8566200" y="5340240"/>
            <a:ext cx="38160" cy="16380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7"/>
                  <a:pt x="10" y="68"/>
                  <a:pt x="16" y="68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1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Freeform 537"/>
          <p:cNvSpPr/>
          <p:nvPr/>
        </p:nvSpPr>
        <p:spPr>
          <a:xfrm>
            <a:off x="8072280" y="4406760"/>
            <a:ext cx="12128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0"/>
                  <a:pt x="391" y="310"/>
                  <a:pt x="252" y="310"/>
                </a:cubicBezTo>
                <a:cubicBezTo>
                  <a:pt x="113" y="310"/>
                  <a:pt x="0" y="240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Freeform 538"/>
          <p:cNvSpPr/>
          <p:nvPr/>
        </p:nvSpPr>
        <p:spPr>
          <a:xfrm>
            <a:off x="8599320" y="4648320"/>
            <a:ext cx="182880" cy="2584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5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6"/>
                  <a:pt x="8" y="24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0"/>
                  <a:pt x="2" y="8"/>
                  <a:pt x="5" y="5"/>
                </a:cubicBezTo>
                <a:close/>
                <a:moveTo>
                  <a:pt x="47" y="108"/>
                </a:moveTo>
                <a:cubicBezTo>
                  <a:pt x="57" y="107"/>
                  <a:pt x="64" y="104"/>
                  <a:pt x="69" y="101"/>
                </a:cubicBezTo>
                <a:cubicBezTo>
                  <a:pt x="74" y="98"/>
                  <a:pt x="76" y="94"/>
                  <a:pt x="76" y="90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Freeform 539"/>
          <p:cNvSpPr/>
          <p:nvPr/>
        </p:nvSpPr>
        <p:spPr>
          <a:xfrm>
            <a:off x="8217000" y="4495680"/>
            <a:ext cx="923760" cy="56844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8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7"/>
                  <a:pt x="219" y="69"/>
                </a:cubicBezTo>
                <a:cubicBezTo>
                  <a:pt x="222" y="71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0" y="62"/>
                  <a:pt x="281" y="53"/>
                  <a:pt x="267" y="46"/>
                </a:cubicBezTo>
                <a:cubicBezTo>
                  <a:pt x="253" y="39"/>
                  <a:pt x="233" y="35"/>
                  <a:pt x="206" y="34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4"/>
                  <a:pt x="180" y="34"/>
                  <a:pt x="180" y="34"/>
                </a:cubicBezTo>
                <a:cubicBezTo>
                  <a:pt x="150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8" y="117"/>
                  <a:pt x="129" y="120"/>
                </a:cubicBezTo>
                <a:cubicBezTo>
                  <a:pt x="139" y="123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7"/>
                  <a:pt x="165" y="165"/>
                  <a:pt x="162" y="161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4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199"/>
                  <a:pt x="233" y="198"/>
                  <a:pt x="243" y="196"/>
                </a:cubicBezTo>
                <a:cubicBezTo>
                  <a:pt x="253" y="194"/>
                  <a:pt x="263" y="191"/>
                  <a:pt x="272" y="186"/>
                </a:cubicBezTo>
                <a:cubicBezTo>
                  <a:pt x="281" y="182"/>
                  <a:pt x="288" y="176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Freeform 540"/>
          <p:cNvSpPr/>
          <p:nvPr/>
        </p:nvSpPr>
        <p:spPr>
          <a:xfrm>
            <a:off x="8412120" y="452772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7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3"/>
                  <a:pt x="200" y="169"/>
                  <a:pt x="191" y="173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6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1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8"/>
                </a:cubicBezTo>
                <a:cubicBezTo>
                  <a:pt x="84" y="152"/>
                  <a:pt x="90" y="154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0"/>
                  <a:pt x="48" y="107"/>
                </a:cubicBezTo>
                <a:cubicBezTo>
                  <a:pt x="37" y="104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69" y="22"/>
                  <a:pt x="99" y="21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1"/>
                  <a:pt x="125" y="21"/>
                  <a:pt x="125" y="21"/>
                </a:cubicBezTo>
                <a:cubicBezTo>
                  <a:pt x="152" y="22"/>
                  <a:pt x="172" y="26"/>
                  <a:pt x="186" y="33"/>
                </a:cubicBezTo>
                <a:cubicBezTo>
                  <a:pt x="200" y="40"/>
                  <a:pt x="209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8"/>
                  <a:pt x="138" y="56"/>
                </a:cubicBezTo>
                <a:cubicBezTo>
                  <a:pt x="136" y="54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7" y="101"/>
                </a:cubicBezTo>
                <a:close/>
                <a:moveTo>
                  <a:pt x="147" y="151"/>
                </a:moveTo>
                <a:cubicBezTo>
                  <a:pt x="152" y="148"/>
                  <a:pt x="154" y="144"/>
                  <a:pt x="154" y="140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2" y="154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5"/>
                </a:cubicBezTo>
                <a:cubicBezTo>
                  <a:pt x="80" y="58"/>
                  <a:pt x="78" y="60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4"/>
                  <a:pt x="91" y="76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Freeform 541"/>
          <p:cNvSpPr/>
          <p:nvPr/>
        </p:nvSpPr>
        <p:spPr>
          <a:xfrm>
            <a:off x="9007560" y="4991040"/>
            <a:ext cx="16812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Freeform 542"/>
          <p:cNvSpPr/>
          <p:nvPr/>
        </p:nvSpPr>
        <p:spPr>
          <a:xfrm>
            <a:off x="8804160" y="5106960"/>
            <a:ext cx="16524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5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5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Freeform 543"/>
          <p:cNvSpPr/>
          <p:nvPr/>
        </p:nvSpPr>
        <p:spPr>
          <a:xfrm>
            <a:off x="8393040" y="5108400"/>
            <a:ext cx="165240" cy="195480"/>
          </a:xfrm>
          <a:custGeom>
            <a:avLst/>
            <a:gdLst/>
            <a:ahLst/>
            <a:rect l="l" t="t" r="r" b="b"/>
            <a:pathLst>
              <a:path w="69" h="8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8"/>
                  <a:pt x="69" y="81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Freeform 544"/>
          <p:cNvSpPr/>
          <p:nvPr/>
        </p:nvSpPr>
        <p:spPr>
          <a:xfrm>
            <a:off x="8599320" y="5148360"/>
            <a:ext cx="16524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2"/>
                </a:moveTo>
                <a:cubicBezTo>
                  <a:pt x="21" y="2"/>
                  <a:pt x="10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8"/>
                  <a:pt x="33" y="68"/>
                </a:cubicBezTo>
                <a:cubicBezTo>
                  <a:pt x="45" y="68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Freeform 545"/>
          <p:cNvSpPr/>
          <p:nvPr/>
        </p:nvSpPr>
        <p:spPr>
          <a:xfrm>
            <a:off x="8188200" y="4998960"/>
            <a:ext cx="16524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Freeform 546"/>
          <p:cNvSpPr/>
          <p:nvPr/>
        </p:nvSpPr>
        <p:spPr>
          <a:xfrm>
            <a:off x="8072280" y="4780080"/>
            <a:ext cx="74880" cy="338040"/>
          </a:xfrm>
          <a:custGeom>
            <a:avLst/>
            <a:gdLst/>
            <a:ahLst/>
            <a:rect l="l" t="t" r="r" b="b"/>
            <a:pathLst>
              <a:path w="31" h="141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0" y="94"/>
                  <a:pt x="11" y="119"/>
                  <a:pt x="31" y="141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Freeform 547"/>
          <p:cNvSpPr/>
          <p:nvPr/>
        </p:nvSpPr>
        <p:spPr>
          <a:xfrm>
            <a:off x="9215280" y="4780080"/>
            <a:ext cx="69840" cy="331560"/>
          </a:xfrm>
          <a:custGeom>
            <a:avLst/>
            <a:gdLst/>
            <a:ahLst/>
            <a:rect l="l" t="t" r="r" b="b"/>
            <a:pathLst>
              <a:path w="29" h="138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8"/>
                  <a:pt x="0" y="138"/>
                  <a:pt x="0" y="138"/>
                </a:cubicBezTo>
                <a:cubicBezTo>
                  <a:pt x="18" y="117"/>
                  <a:pt x="29" y="92"/>
                  <a:pt x="29" y="66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Freeform 548"/>
          <p:cNvSpPr/>
          <p:nvPr/>
        </p:nvSpPr>
        <p:spPr>
          <a:xfrm>
            <a:off x="8353440" y="5094360"/>
            <a:ext cx="3960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Freeform 549"/>
          <p:cNvSpPr/>
          <p:nvPr/>
        </p:nvSpPr>
        <p:spPr>
          <a:xfrm>
            <a:off x="9175680" y="4952880"/>
            <a:ext cx="396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7"/>
                  <a:pt x="11" y="72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5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Freeform 550"/>
          <p:cNvSpPr/>
          <p:nvPr/>
        </p:nvSpPr>
        <p:spPr>
          <a:xfrm>
            <a:off x="8969400" y="509256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Freeform 551"/>
          <p:cNvSpPr/>
          <p:nvPr/>
        </p:nvSpPr>
        <p:spPr>
          <a:xfrm>
            <a:off x="8147160" y="4960800"/>
            <a:ext cx="41040" cy="19692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Freeform 552"/>
          <p:cNvSpPr/>
          <p:nvPr/>
        </p:nvSpPr>
        <p:spPr>
          <a:xfrm>
            <a:off x="8764560" y="5143680"/>
            <a:ext cx="3960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2"/>
                </a:moveTo>
                <a:cubicBezTo>
                  <a:pt x="0" y="69"/>
                  <a:pt x="0" y="69"/>
                  <a:pt x="0" y="69"/>
                </a:cubicBezTo>
                <a:cubicBezTo>
                  <a:pt x="5" y="68"/>
                  <a:pt x="11" y="68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2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Freeform 553"/>
          <p:cNvSpPr/>
          <p:nvPr/>
        </p:nvSpPr>
        <p:spPr>
          <a:xfrm>
            <a:off x="8558280" y="5145120"/>
            <a:ext cx="4104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1"/>
                  <a:pt x="17" y="1"/>
                  <a:pt x="17" y="1"/>
                </a:cubicBezTo>
                <a:cubicBezTo>
                  <a:pt x="11" y="1"/>
                  <a:pt x="6" y="0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Freeform 554"/>
          <p:cNvSpPr/>
          <p:nvPr/>
        </p:nvSpPr>
        <p:spPr>
          <a:xfrm>
            <a:off x="8136000" y="4135320"/>
            <a:ext cx="1211040" cy="74628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252" y="0"/>
                </a:moveTo>
                <a:cubicBezTo>
                  <a:pt x="391" y="0"/>
                  <a:pt x="504" y="69"/>
                  <a:pt x="504" y="155"/>
                </a:cubicBezTo>
                <a:cubicBezTo>
                  <a:pt x="504" y="241"/>
                  <a:pt x="391" y="310"/>
                  <a:pt x="252" y="310"/>
                </a:cubicBezTo>
                <a:cubicBezTo>
                  <a:pt x="113" y="310"/>
                  <a:pt x="0" y="241"/>
                  <a:pt x="0" y="155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5"/>
                </a:cubicBezTo>
                <a:cubicBezTo>
                  <a:pt x="444" y="90"/>
                  <a:pt x="358" y="37"/>
                  <a:pt x="252" y="37"/>
                </a:cubicBezTo>
                <a:cubicBezTo>
                  <a:pt x="146" y="37"/>
                  <a:pt x="60" y="90"/>
                  <a:pt x="60" y="155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Freeform 555"/>
          <p:cNvSpPr/>
          <p:nvPr/>
        </p:nvSpPr>
        <p:spPr>
          <a:xfrm>
            <a:off x="8661240" y="4375080"/>
            <a:ext cx="182880" cy="260280"/>
          </a:xfrm>
          <a:custGeom>
            <a:avLst/>
            <a:gdLst/>
            <a:ahLst/>
            <a:rect l="l" t="t" r="r" b="b"/>
            <a:pathLst>
              <a:path w="76" h="108">
                <a:moveTo>
                  <a:pt x="5" y="6"/>
                </a:moveTo>
                <a:cubicBezTo>
                  <a:pt x="8" y="3"/>
                  <a:pt x="13" y="1"/>
                  <a:pt x="21" y="0"/>
                </a:cubicBezTo>
                <a:cubicBezTo>
                  <a:pt x="21" y="28"/>
                  <a:pt x="21" y="28"/>
                  <a:pt x="21" y="28"/>
                </a:cubicBezTo>
                <a:cubicBezTo>
                  <a:pt x="13" y="27"/>
                  <a:pt x="8" y="25"/>
                  <a:pt x="5" y="22"/>
                </a:cubicBezTo>
                <a:cubicBezTo>
                  <a:pt x="2" y="20"/>
                  <a:pt x="0" y="17"/>
                  <a:pt x="0" y="14"/>
                </a:cubicBezTo>
                <a:cubicBezTo>
                  <a:pt x="0" y="11"/>
                  <a:pt x="2" y="8"/>
                  <a:pt x="5" y="6"/>
                </a:cubicBezTo>
                <a:close/>
                <a:moveTo>
                  <a:pt x="47" y="108"/>
                </a:moveTo>
                <a:cubicBezTo>
                  <a:pt x="57" y="107"/>
                  <a:pt x="65" y="105"/>
                  <a:pt x="69" y="101"/>
                </a:cubicBezTo>
                <a:cubicBezTo>
                  <a:pt x="74" y="98"/>
                  <a:pt x="76" y="95"/>
                  <a:pt x="76" y="91"/>
                </a:cubicBezTo>
                <a:cubicBezTo>
                  <a:pt x="76" y="87"/>
                  <a:pt x="74" y="84"/>
                  <a:pt x="70" y="81"/>
                </a:cubicBezTo>
                <a:cubicBezTo>
                  <a:pt x="66" y="78"/>
                  <a:pt x="59" y="75"/>
                  <a:pt x="47" y="73"/>
                </a:cubicBezTo>
                <a:lnTo>
                  <a:pt x="47" y="108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Freeform 556"/>
          <p:cNvSpPr/>
          <p:nvPr/>
        </p:nvSpPr>
        <p:spPr>
          <a:xfrm>
            <a:off x="8278920" y="4224240"/>
            <a:ext cx="923760" cy="567000"/>
          </a:xfrm>
          <a:custGeom>
            <a:avLst/>
            <a:gdLst/>
            <a:ahLst/>
            <a:rect l="l" t="t" r="r" b="b"/>
            <a:pathLst>
              <a:path w="384" h="236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3"/>
                  <a:pt x="298" y="236"/>
                  <a:pt x="192" y="236"/>
                </a:cubicBezTo>
                <a:cubicBezTo>
                  <a:pt x="86" y="236"/>
                  <a:pt x="0" y="183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3"/>
                  <a:pt x="303" y="156"/>
                  <a:pt x="303" y="148"/>
                </a:cubicBezTo>
                <a:cubicBezTo>
                  <a:pt x="303" y="134"/>
                  <a:pt x="295" y="123"/>
                  <a:pt x="279" y="114"/>
                </a:cubicBezTo>
                <a:cubicBezTo>
                  <a:pt x="266" y="107"/>
                  <a:pt x="242" y="101"/>
                  <a:pt x="206" y="95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12" y="65"/>
                  <a:pt x="217" y="68"/>
                  <a:pt x="219" y="70"/>
                </a:cubicBezTo>
                <a:cubicBezTo>
                  <a:pt x="222" y="72"/>
                  <a:pt x="225" y="75"/>
                  <a:pt x="228" y="80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2"/>
                  <a:pt x="281" y="53"/>
                  <a:pt x="267" y="46"/>
                </a:cubicBezTo>
                <a:cubicBezTo>
                  <a:pt x="253" y="39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5"/>
                  <a:pt x="128" y="40"/>
                  <a:pt x="114" y="49"/>
                </a:cubicBezTo>
                <a:cubicBezTo>
                  <a:pt x="99" y="58"/>
                  <a:pt x="91" y="69"/>
                  <a:pt x="91" y="82"/>
                </a:cubicBezTo>
                <a:cubicBezTo>
                  <a:pt x="91" y="91"/>
                  <a:pt x="95" y="99"/>
                  <a:pt x="102" y="106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7"/>
                  <a:pt x="180" y="131"/>
                </a:cubicBezTo>
                <a:cubicBezTo>
                  <a:pt x="180" y="170"/>
                  <a:pt x="180" y="170"/>
                  <a:pt x="180" y="170"/>
                </a:cubicBezTo>
                <a:cubicBezTo>
                  <a:pt x="171" y="168"/>
                  <a:pt x="165" y="165"/>
                  <a:pt x="162" y="162"/>
                </a:cubicBezTo>
                <a:cubicBezTo>
                  <a:pt x="158" y="158"/>
                  <a:pt x="155" y="153"/>
                  <a:pt x="153" y="146"/>
                </a:cubicBezTo>
                <a:cubicBezTo>
                  <a:pt x="81" y="151"/>
                  <a:pt x="81" y="151"/>
                  <a:pt x="81" y="151"/>
                </a:cubicBezTo>
                <a:cubicBezTo>
                  <a:pt x="83" y="158"/>
                  <a:pt x="86" y="165"/>
                  <a:pt x="91" y="170"/>
                </a:cubicBezTo>
                <a:cubicBezTo>
                  <a:pt x="95" y="175"/>
                  <a:pt x="101" y="180"/>
                  <a:pt x="109" y="184"/>
                </a:cubicBezTo>
                <a:cubicBezTo>
                  <a:pt x="117" y="189"/>
                  <a:pt x="126" y="192"/>
                  <a:pt x="137" y="195"/>
                </a:cubicBezTo>
                <a:cubicBezTo>
                  <a:pt x="148" y="197"/>
                  <a:pt x="162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8"/>
                  <a:pt x="243" y="196"/>
                </a:cubicBezTo>
                <a:cubicBezTo>
                  <a:pt x="253" y="194"/>
                  <a:pt x="263" y="191"/>
                  <a:pt x="272" y="187"/>
                </a:cubicBezTo>
                <a:cubicBezTo>
                  <a:pt x="281" y="182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Freeform 557"/>
          <p:cNvSpPr/>
          <p:nvPr/>
        </p:nvSpPr>
        <p:spPr>
          <a:xfrm>
            <a:off x="8474040" y="4255920"/>
            <a:ext cx="533520" cy="50040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1"/>
                </a:moveTo>
                <a:cubicBezTo>
                  <a:pt x="214" y="110"/>
                  <a:pt x="222" y="121"/>
                  <a:pt x="222" y="135"/>
                </a:cubicBezTo>
                <a:cubicBezTo>
                  <a:pt x="222" y="143"/>
                  <a:pt x="219" y="150"/>
                  <a:pt x="213" y="157"/>
                </a:cubicBezTo>
                <a:cubicBezTo>
                  <a:pt x="207" y="164"/>
                  <a:pt x="200" y="169"/>
                  <a:pt x="191" y="174"/>
                </a:cubicBezTo>
                <a:cubicBezTo>
                  <a:pt x="182" y="178"/>
                  <a:pt x="172" y="181"/>
                  <a:pt x="162" y="183"/>
                </a:cubicBezTo>
                <a:cubicBezTo>
                  <a:pt x="152" y="185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1" y="186"/>
                  <a:pt x="67" y="184"/>
                  <a:pt x="56" y="182"/>
                </a:cubicBezTo>
                <a:cubicBezTo>
                  <a:pt x="45" y="179"/>
                  <a:pt x="36" y="176"/>
                  <a:pt x="28" y="171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5" y="152"/>
                  <a:pt x="2" y="145"/>
                  <a:pt x="0" y="138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4" y="140"/>
                  <a:pt x="77" y="145"/>
                  <a:pt x="81" y="149"/>
                </a:cubicBezTo>
                <a:cubicBezTo>
                  <a:pt x="84" y="152"/>
                  <a:pt x="90" y="155"/>
                  <a:pt x="99" y="157"/>
                </a:cubicBezTo>
                <a:cubicBezTo>
                  <a:pt x="99" y="118"/>
                  <a:pt x="99" y="118"/>
                  <a:pt x="99" y="118"/>
                </a:cubicBezTo>
                <a:cubicBezTo>
                  <a:pt x="75" y="114"/>
                  <a:pt x="58" y="111"/>
                  <a:pt x="48" y="108"/>
                </a:cubicBezTo>
                <a:cubicBezTo>
                  <a:pt x="38" y="105"/>
                  <a:pt x="29" y="100"/>
                  <a:pt x="21" y="93"/>
                </a:cubicBezTo>
                <a:cubicBezTo>
                  <a:pt x="14" y="86"/>
                  <a:pt x="10" y="78"/>
                  <a:pt x="10" y="69"/>
                </a:cubicBezTo>
                <a:cubicBezTo>
                  <a:pt x="10" y="56"/>
                  <a:pt x="18" y="45"/>
                  <a:pt x="33" y="36"/>
                </a:cubicBezTo>
                <a:cubicBezTo>
                  <a:pt x="47" y="27"/>
                  <a:pt x="70" y="22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6"/>
                  <a:pt x="186" y="33"/>
                </a:cubicBezTo>
                <a:cubicBezTo>
                  <a:pt x="200" y="40"/>
                  <a:pt x="210" y="49"/>
                  <a:pt x="214" y="61"/>
                </a:cubicBezTo>
                <a:cubicBezTo>
                  <a:pt x="147" y="67"/>
                  <a:pt x="147" y="67"/>
                  <a:pt x="147" y="67"/>
                </a:cubicBezTo>
                <a:cubicBezTo>
                  <a:pt x="144" y="62"/>
                  <a:pt x="141" y="59"/>
                  <a:pt x="138" y="57"/>
                </a:cubicBezTo>
                <a:cubicBezTo>
                  <a:pt x="136" y="55"/>
                  <a:pt x="131" y="52"/>
                  <a:pt x="125" y="50"/>
                </a:cubicBezTo>
                <a:cubicBezTo>
                  <a:pt x="125" y="82"/>
                  <a:pt x="125" y="82"/>
                  <a:pt x="125" y="82"/>
                </a:cubicBezTo>
                <a:cubicBezTo>
                  <a:pt x="161" y="88"/>
                  <a:pt x="185" y="94"/>
                  <a:pt x="198" y="101"/>
                </a:cubicBezTo>
                <a:close/>
                <a:moveTo>
                  <a:pt x="147" y="151"/>
                </a:moveTo>
                <a:cubicBezTo>
                  <a:pt x="152" y="148"/>
                  <a:pt x="154" y="145"/>
                  <a:pt x="154" y="141"/>
                </a:cubicBezTo>
                <a:cubicBezTo>
                  <a:pt x="154" y="137"/>
                  <a:pt x="152" y="134"/>
                  <a:pt x="148" y="131"/>
                </a:cubicBezTo>
                <a:cubicBezTo>
                  <a:pt x="144" y="128"/>
                  <a:pt x="137" y="125"/>
                  <a:pt x="125" y="123"/>
                </a:cubicBezTo>
                <a:cubicBezTo>
                  <a:pt x="125" y="158"/>
                  <a:pt x="125" y="158"/>
                  <a:pt x="125" y="158"/>
                </a:cubicBezTo>
                <a:cubicBezTo>
                  <a:pt x="135" y="157"/>
                  <a:pt x="143" y="155"/>
                  <a:pt x="147" y="151"/>
                </a:cubicBezTo>
                <a:close/>
                <a:moveTo>
                  <a:pt x="99" y="78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1"/>
                  <a:pt x="86" y="53"/>
                  <a:pt x="83" y="56"/>
                </a:cubicBezTo>
                <a:cubicBezTo>
                  <a:pt x="80" y="58"/>
                  <a:pt x="78" y="61"/>
                  <a:pt x="78" y="64"/>
                </a:cubicBezTo>
                <a:cubicBezTo>
                  <a:pt x="78" y="67"/>
                  <a:pt x="80" y="70"/>
                  <a:pt x="83" y="72"/>
                </a:cubicBezTo>
                <a:cubicBezTo>
                  <a:pt x="86" y="75"/>
                  <a:pt x="91" y="77"/>
                  <a:pt x="99" y="78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Freeform 558"/>
          <p:cNvSpPr/>
          <p:nvPr/>
        </p:nvSpPr>
        <p:spPr>
          <a:xfrm>
            <a:off x="9070920" y="4719600"/>
            <a:ext cx="168480" cy="260280"/>
          </a:xfrm>
          <a:custGeom>
            <a:avLst/>
            <a:gdLst/>
            <a:ahLst/>
            <a:rect l="l" t="t" r="r" b="b"/>
            <a:pathLst>
              <a:path w="70" h="108">
                <a:moveTo>
                  <a:pt x="0" y="42"/>
                </a:moveTo>
                <a:cubicBezTo>
                  <a:pt x="0" y="108"/>
                  <a:pt x="0" y="108"/>
                  <a:pt x="0" y="108"/>
                </a:cubicBezTo>
                <a:cubicBezTo>
                  <a:pt x="28" y="97"/>
                  <a:pt x="51" y="83"/>
                  <a:pt x="70" y="67"/>
                </a:cubicBezTo>
                <a:cubicBezTo>
                  <a:pt x="70" y="0"/>
                  <a:pt x="70" y="0"/>
                  <a:pt x="70" y="0"/>
                </a:cubicBezTo>
                <a:cubicBezTo>
                  <a:pt x="51" y="17"/>
                  <a:pt x="28" y="31"/>
                  <a:pt x="0" y="4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Freeform 559"/>
          <p:cNvSpPr/>
          <p:nvPr/>
        </p:nvSpPr>
        <p:spPr>
          <a:xfrm>
            <a:off x="8866080" y="483552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16"/>
                </a:moveTo>
                <a:cubicBezTo>
                  <a:pt x="0" y="82"/>
                  <a:pt x="0" y="82"/>
                  <a:pt x="0" y="82"/>
                </a:cubicBezTo>
                <a:cubicBezTo>
                  <a:pt x="25" y="79"/>
                  <a:pt x="48" y="74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7"/>
                  <a:pt x="25" y="12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4" name="Freeform 560"/>
          <p:cNvSpPr/>
          <p:nvPr/>
        </p:nvSpPr>
        <p:spPr>
          <a:xfrm>
            <a:off x="8454960" y="4836960"/>
            <a:ext cx="166680" cy="19692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22" y="73"/>
                  <a:pt x="45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Freeform 561"/>
          <p:cNvSpPr/>
          <p:nvPr/>
        </p:nvSpPr>
        <p:spPr>
          <a:xfrm>
            <a:off x="8661240" y="4875120"/>
            <a:ext cx="166680" cy="166680"/>
          </a:xfrm>
          <a:custGeom>
            <a:avLst/>
            <a:gdLst/>
            <a:ahLst/>
            <a:rect l="l" t="t" r="r" b="b"/>
            <a:pathLst>
              <a:path w="69" h="69">
                <a:moveTo>
                  <a:pt x="33" y="2"/>
                </a:moveTo>
                <a:cubicBezTo>
                  <a:pt x="21" y="2"/>
                  <a:pt x="10" y="1"/>
                  <a:pt x="0" y="1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68"/>
                  <a:pt x="21" y="69"/>
                  <a:pt x="33" y="69"/>
                </a:cubicBezTo>
                <a:cubicBezTo>
                  <a:pt x="45" y="69"/>
                  <a:pt x="57" y="68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2"/>
                  <a:pt x="33" y="2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Freeform 562"/>
          <p:cNvSpPr/>
          <p:nvPr/>
        </p:nvSpPr>
        <p:spPr>
          <a:xfrm>
            <a:off x="8250120" y="4727520"/>
            <a:ext cx="166680" cy="254160"/>
          </a:xfrm>
          <a:custGeom>
            <a:avLst/>
            <a:gdLst/>
            <a:ahLst/>
            <a:rect l="l" t="t" r="r" b="b"/>
            <a:pathLst>
              <a:path w="69" h="106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18" y="82"/>
                  <a:pt x="42" y="96"/>
                  <a:pt x="69" y="106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29"/>
                  <a:pt x="18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Freeform 563"/>
          <p:cNvSpPr/>
          <p:nvPr/>
        </p:nvSpPr>
        <p:spPr>
          <a:xfrm>
            <a:off x="8136000" y="4508640"/>
            <a:ext cx="74520" cy="341280"/>
          </a:xfrm>
          <a:custGeom>
            <a:avLst/>
            <a:gdLst/>
            <a:ahLst/>
            <a:rect l="l" t="t" r="r" b="b"/>
            <a:pathLst>
              <a:path w="31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1" y="119"/>
                  <a:pt x="31" y="142"/>
                </a:cubicBezTo>
                <a:cubicBezTo>
                  <a:pt x="31" y="75"/>
                  <a:pt x="31" y="75"/>
                  <a:pt x="31" y="75"/>
                </a:cubicBezTo>
                <a:cubicBezTo>
                  <a:pt x="11" y="53"/>
                  <a:pt x="0" y="2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Freeform 564"/>
          <p:cNvSpPr/>
          <p:nvPr/>
        </p:nvSpPr>
        <p:spPr>
          <a:xfrm>
            <a:off x="9277200" y="450864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8" y="50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8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Freeform 565"/>
          <p:cNvSpPr/>
          <p:nvPr/>
        </p:nvSpPr>
        <p:spPr>
          <a:xfrm>
            <a:off x="8416800" y="4822920"/>
            <a:ext cx="38160" cy="17280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68"/>
                  <a:pt x="11" y="70"/>
                  <a:pt x="16" y="72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Freeform 566"/>
          <p:cNvSpPr/>
          <p:nvPr/>
        </p:nvSpPr>
        <p:spPr>
          <a:xfrm>
            <a:off x="9239400" y="4681440"/>
            <a:ext cx="3780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2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1"/>
                  <a:pt x="0" y="1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Freeform 567"/>
          <p:cNvSpPr/>
          <p:nvPr/>
        </p:nvSpPr>
        <p:spPr>
          <a:xfrm>
            <a:off x="9032760" y="4821120"/>
            <a:ext cx="38160" cy="173160"/>
          </a:xfrm>
          <a:custGeom>
            <a:avLst/>
            <a:gdLst/>
            <a:ahLst/>
            <a:rect l="l" t="t" r="r" b="b"/>
            <a:pathLst>
              <a:path w="16" h="72">
                <a:moveTo>
                  <a:pt x="0" y="6"/>
                </a:moveTo>
                <a:cubicBezTo>
                  <a:pt x="0" y="72"/>
                  <a:pt x="0" y="72"/>
                  <a:pt x="0" y="72"/>
                </a:cubicBezTo>
                <a:cubicBezTo>
                  <a:pt x="6" y="70"/>
                  <a:pt x="11" y="68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Freeform 568"/>
          <p:cNvSpPr/>
          <p:nvPr/>
        </p:nvSpPr>
        <p:spPr>
          <a:xfrm>
            <a:off x="8210520" y="4687920"/>
            <a:ext cx="39600" cy="198360"/>
          </a:xfrm>
          <a:custGeom>
            <a:avLst/>
            <a:gdLst/>
            <a:ahLst/>
            <a:rect l="l" t="t" r="r" b="b"/>
            <a:pathLst>
              <a:path w="17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72"/>
                  <a:pt x="11" y="77"/>
                  <a:pt x="17" y="82"/>
                </a:cubicBezTo>
                <a:cubicBezTo>
                  <a:pt x="17" y="16"/>
                  <a:pt x="17" y="16"/>
                  <a:pt x="17" y="16"/>
                </a:cubicBezTo>
                <a:cubicBezTo>
                  <a:pt x="11" y="11"/>
                  <a:pt x="5" y="6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Freeform 569"/>
          <p:cNvSpPr/>
          <p:nvPr/>
        </p:nvSpPr>
        <p:spPr>
          <a:xfrm>
            <a:off x="8827920" y="487368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1"/>
                </a:moveTo>
                <a:cubicBezTo>
                  <a:pt x="0" y="68"/>
                  <a:pt x="0" y="68"/>
                  <a:pt x="0" y="68"/>
                </a:cubicBezTo>
                <a:cubicBezTo>
                  <a:pt x="5" y="67"/>
                  <a:pt x="11" y="67"/>
                  <a:pt x="16" y="66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0"/>
                  <a:pt x="5" y="1"/>
                  <a:pt x="0" y="1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Freeform 570"/>
          <p:cNvSpPr/>
          <p:nvPr/>
        </p:nvSpPr>
        <p:spPr>
          <a:xfrm>
            <a:off x="8621640" y="487368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7"/>
                  <a:pt x="11" y="68"/>
                  <a:pt x="17" y="68"/>
                </a:cubicBezTo>
                <a:cubicBezTo>
                  <a:pt x="17" y="2"/>
                  <a:pt x="17" y="2"/>
                  <a:pt x="17" y="2"/>
                </a:cubicBezTo>
                <a:cubicBezTo>
                  <a:pt x="11" y="1"/>
                  <a:pt x="6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Freeform 571"/>
          <p:cNvSpPr/>
          <p:nvPr/>
        </p:nvSpPr>
        <p:spPr>
          <a:xfrm>
            <a:off x="8101080" y="3933720"/>
            <a:ext cx="1212840" cy="74304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Freeform 572"/>
          <p:cNvSpPr/>
          <p:nvPr/>
        </p:nvSpPr>
        <p:spPr>
          <a:xfrm>
            <a:off x="8631360" y="4172040"/>
            <a:ext cx="182520" cy="261720"/>
          </a:xfrm>
          <a:custGeom>
            <a:avLst/>
            <a:gdLst/>
            <a:ahLst/>
            <a:rect l="l" t="t" r="r" b="b"/>
            <a:pathLst>
              <a:path w="76" h="109">
                <a:moveTo>
                  <a:pt x="4" y="6"/>
                </a:moveTo>
                <a:cubicBezTo>
                  <a:pt x="7" y="4"/>
                  <a:pt x="13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8" y="25"/>
                  <a:pt x="5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7" y="107"/>
                  <a:pt x="64" y="105"/>
                  <a:pt x="69" y="102"/>
                </a:cubicBezTo>
                <a:cubicBezTo>
                  <a:pt x="73" y="99"/>
                  <a:pt x="76" y="95"/>
                  <a:pt x="76" y="91"/>
                </a:cubicBezTo>
                <a:cubicBezTo>
                  <a:pt x="76" y="88"/>
                  <a:pt x="74" y="84"/>
                  <a:pt x="70" y="82"/>
                </a:cubicBezTo>
                <a:cubicBezTo>
                  <a:pt x="66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Freeform 573"/>
          <p:cNvSpPr/>
          <p:nvPr/>
        </p:nvSpPr>
        <p:spPr>
          <a:xfrm>
            <a:off x="8245440" y="4019400"/>
            <a:ext cx="924120" cy="57024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5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3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3" y="66"/>
                  <a:pt x="217" y="68"/>
                  <a:pt x="220" y="70"/>
                </a:cubicBezTo>
                <a:cubicBezTo>
                  <a:pt x="222" y="72"/>
                  <a:pt x="225" y="76"/>
                  <a:pt x="229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8" y="47"/>
                </a:cubicBezTo>
                <a:cubicBezTo>
                  <a:pt x="254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6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9" y="159"/>
                  <a:pt x="156" y="154"/>
                  <a:pt x="154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4" y="159"/>
                  <a:pt x="87" y="165"/>
                  <a:pt x="91" y="170"/>
                </a:cubicBezTo>
                <a:cubicBezTo>
                  <a:pt x="95" y="175"/>
                  <a:pt x="102" y="180"/>
                  <a:pt x="109" y="185"/>
                </a:cubicBezTo>
                <a:cubicBezTo>
                  <a:pt x="117" y="189"/>
                  <a:pt x="127" y="193"/>
                  <a:pt x="138" y="195"/>
                </a:cubicBezTo>
                <a:cubicBezTo>
                  <a:pt x="149" y="198"/>
                  <a:pt x="163" y="199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4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9" y="177"/>
                  <a:pt x="295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Freeform 574"/>
          <p:cNvSpPr/>
          <p:nvPr/>
        </p:nvSpPr>
        <p:spPr>
          <a:xfrm>
            <a:off x="8440560" y="4051440"/>
            <a:ext cx="5335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4" y="157"/>
                </a:cubicBezTo>
                <a:cubicBezTo>
                  <a:pt x="208" y="164"/>
                  <a:pt x="200" y="170"/>
                  <a:pt x="191" y="174"/>
                </a:cubicBezTo>
                <a:cubicBezTo>
                  <a:pt x="182" y="179"/>
                  <a:pt x="173" y="182"/>
                  <a:pt x="163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6"/>
                  <a:pt x="68" y="185"/>
                  <a:pt x="57" y="182"/>
                </a:cubicBezTo>
                <a:cubicBezTo>
                  <a:pt x="46" y="180"/>
                  <a:pt x="36" y="176"/>
                  <a:pt x="28" y="172"/>
                </a:cubicBezTo>
                <a:cubicBezTo>
                  <a:pt x="21" y="167"/>
                  <a:pt x="14" y="162"/>
                  <a:pt x="10" y="157"/>
                </a:cubicBezTo>
                <a:cubicBezTo>
                  <a:pt x="6" y="152"/>
                  <a:pt x="3" y="146"/>
                  <a:pt x="0" y="139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5" y="141"/>
                  <a:pt x="78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5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3" y="27"/>
                  <a:pt x="187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4" y="63"/>
                  <a:pt x="141" y="59"/>
                  <a:pt x="139" y="57"/>
                </a:cubicBezTo>
                <a:cubicBezTo>
                  <a:pt x="136" y="55"/>
                  <a:pt x="132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2" y="89"/>
                  <a:pt x="186" y="95"/>
                  <a:pt x="198" y="102"/>
                </a:cubicBezTo>
                <a:close/>
                <a:moveTo>
                  <a:pt x="148" y="152"/>
                </a:moveTo>
                <a:cubicBezTo>
                  <a:pt x="152" y="149"/>
                  <a:pt x="155" y="145"/>
                  <a:pt x="155" y="141"/>
                </a:cubicBezTo>
                <a:cubicBezTo>
                  <a:pt x="155" y="138"/>
                  <a:pt x="153" y="134"/>
                  <a:pt x="149" y="132"/>
                </a:cubicBezTo>
                <a:cubicBezTo>
                  <a:pt x="145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6" y="157"/>
                  <a:pt x="143" y="155"/>
                  <a:pt x="148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2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4" y="73"/>
                </a:cubicBezTo>
                <a:cubicBezTo>
                  <a:pt x="87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Freeform 575"/>
          <p:cNvSpPr/>
          <p:nvPr/>
        </p:nvSpPr>
        <p:spPr>
          <a:xfrm>
            <a:off x="9039240" y="4518000"/>
            <a:ext cx="166680" cy="2588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1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1" y="16"/>
                  <a:pt x="27" y="30"/>
                  <a:pt x="0" y="4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Freeform 576"/>
          <p:cNvSpPr/>
          <p:nvPr/>
        </p:nvSpPr>
        <p:spPr>
          <a:xfrm>
            <a:off x="8834400" y="463068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4" y="79"/>
                  <a:pt x="47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7" y="8"/>
                  <a:pt x="24" y="13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Freeform 577"/>
          <p:cNvSpPr/>
          <p:nvPr/>
        </p:nvSpPr>
        <p:spPr>
          <a:xfrm>
            <a:off x="8423280" y="4632480"/>
            <a:ext cx="166680" cy="198360"/>
          </a:xfrm>
          <a:custGeom>
            <a:avLst/>
            <a:gdLst/>
            <a:ahLst/>
            <a:rect l="l" t="t" r="r" b="b"/>
            <a:pathLst>
              <a:path w="69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1" y="74"/>
                  <a:pt x="44" y="79"/>
                  <a:pt x="69" y="82"/>
                </a:cubicBezTo>
                <a:cubicBezTo>
                  <a:pt x="69" y="15"/>
                  <a:pt x="69" y="15"/>
                  <a:pt x="69" y="15"/>
                </a:cubicBezTo>
                <a:cubicBezTo>
                  <a:pt x="44" y="12"/>
                  <a:pt x="21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Freeform 578"/>
          <p:cNvSpPr/>
          <p:nvPr/>
        </p:nvSpPr>
        <p:spPr>
          <a:xfrm>
            <a:off x="8628120" y="467352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8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8" y="1"/>
                  <a:pt x="45" y="1"/>
                  <a:pt x="33" y="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Freeform 579"/>
          <p:cNvSpPr/>
          <p:nvPr/>
        </p:nvSpPr>
        <p:spPr>
          <a:xfrm>
            <a:off x="8217000" y="4522680"/>
            <a:ext cx="166680" cy="25740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Freeform 580"/>
          <p:cNvSpPr/>
          <p:nvPr/>
        </p:nvSpPr>
        <p:spPr>
          <a:xfrm>
            <a:off x="8101080" y="4303800"/>
            <a:ext cx="7776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Freeform 581"/>
          <p:cNvSpPr/>
          <p:nvPr/>
        </p:nvSpPr>
        <p:spPr>
          <a:xfrm>
            <a:off x="9244080" y="4303800"/>
            <a:ext cx="69840" cy="3333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7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Freeform 582"/>
          <p:cNvSpPr/>
          <p:nvPr/>
        </p:nvSpPr>
        <p:spPr>
          <a:xfrm>
            <a:off x="8383680" y="461808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6" y="69"/>
                  <a:pt x="11" y="71"/>
                  <a:pt x="17" y="73"/>
                </a:cubicBezTo>
                <a:cubicBezTo>
                  <a:pt x="17" y="6"/>
                  <a:pt x="17" y="6"/>
                  <a:pt x="17" y="6"/>
                </a:cubicBezTo>
                <a:cubicBezTo>
                  <a:pt x="11" y="4"/>
                  <a:pt x="6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Freeform 583"/>
          <p:cNvSpPr/>
          <p:nvPr/>
        </p:nvSpPr>
        <p:spPr>
          <a:xfrm>
            <a:off x="9205920" y="4476600"/>
            <a:ext cx="38160" cy="20016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2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2" y="6"/>
                  <a:pt x="6" y="12"/>
                  <a:pt x="0" y="17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Freeform 584"/>
          <p:cNvSpPr/>
          <p:nvPr/>
        </p:nvSpPr>
        <p:spPr>
          <a:xfrm>
            <a:off x="9001080" y="4616280"/>
            <a:ext cx="38160" cy="17496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5" y="71"/>
                  <a:pt x="11" y="69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2"/>
                  <a:pt x="5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Freeform 585"/>
          <p:cNvSpPr/>
          <p:nvPr/>
        </p:nvSpPr>
        <p:spPr>
          <a:xfrm>
            <a:off x="8178840" y="4486320"/>
            <a:ext cx="38160" cy="19692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Freeform 586"/>
          <p:cNvSpPr/>
          <p:nvPr/>
        </p:nvSpPr>
        <p:spPr>
          <a:xfrm>
            <a:off x="8794800" y="4668840"/>
            <a:ext cx="39600" cy="16344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6" y="68"/>
                  <a:pt x="11" y="67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1"/>
                  <a:pt x="6" y="1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Freeform 587"/>
          <p:cNvSpPr/>
          <p:nvPr/>
        </p:nvSpPr>
        <p:spPr>
          <a:xfrm>
            <a:off x="8589960" y="4668840"/>
            <a:ext cx="38160" cy="1666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1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1" y="2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Freeform 588"/>
          <p:cNvSpPr/>
          <p:nvPr/>
        </p:nvSpPr>
        <p:spPr>
          <a:xfrm>
            <a:off x="8164440" y="3753000"/>
            <a:ext cx="1211400" cy="742680"/>
          </a:xfrm>
          <a:custGeom>
            <a:avLst/>
            <a:gdLst/>
            <a:ahLst/>
            <a:rect l="l" t="t" r="r" b="b"/>
            <a:pathLst>
              <a:path w="504" h="309">
                <a:moveTo>
                  <a:pt x="252" y="0"/>
                </a:moveTo>
                <a:cubicBezTo>
                  <a:pt x="391" y="0"/>
                  <a:pt x="504" y="69"/>
                  <a:pt x="504" y="154"/>
                </a:cubicBezTo>
                <a:cubicBezTo>
                  <a:pt x="504" y="240"/>
                  <a:pt x="391" y="309"/>
                  <a:pt x="252" y="309"/>
                </a:cubicBezTo>
                <a:cubicBezTo>
                  <a:pt x="113" y="309"/>
                  <a:pt x="0" y="240"/>
                  <a:pt x="0" y="154"/>
                </a:cubicBezTo>
                <a:cubicBezTo>
                  <a:pt x="0" y="69"/>
                  <a:pt x="113" y="0"/>
                  <a:pt x="252" y="0"/>
                </a:cubicBezTo>
                <a:close/>
                <a:moveTo>
                  <a:pt x="252" y="273"/>
                </a:moveTo>
                <a:cubicBezTo>
                  <a:pt x="358" y="273"/>
                  <a:pt x="444" y="220"/>
                  <a:pt x="444" y="154"/>
                </a:cubicBezTo>
                <a:cubicBezTo>
                  <a:pt x="444" y="89"/>
                  <a:pt x="358" y="36"/>
                  <a:pt x="252" y="36"/>
                </a:cubicBezTo>
                <a:cubicBezTo>
                  <a:pt x="146" y="36"/>
                  <a:pt x="60" y="89"/>
                  <a:pt x="60" y="154"/>
                </a:cubicBezTo>
                <a:cubicBezTo>
                  <a:pt x="60" y="220"/>
                  <a:pt x="146" y="273"/>
                  <a:pt x="252" y="273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Freeform 589"/>
          <p:cNvSpPr/>
          <p:nvPr/>
        </p:nvSpPr>
        <p:spPr>
          <a:xfrm>
            <a:off x="8693280" y="3990960"/>
            <a:ext cx="180720" cy="262080"/>
          </a:xfrm>
          <a:custGeom>
            <a:avLst/>
            <a:gdLst/>
            <a:ahLst/>
            <a:rect l="l" t="t" r="r" b="b"/>
            <a:pathLst>
              <a:path w="75" h="109">
                <a:moveTo>
                  <a:pt x="4" y="6"/>
                </a:moveTo>
                <a:cubicBezTo>
                  <a:pt x="7" y="4"/>
                  <a:pt x="12" y="2"/>
                  <a:pt x="20" y="0"/>
                </a:cubicBezTo>
                <a:cubicBezTo>
                  <a:pt x="20" y="29"/>
                  <a:pt x="20" y="29"/>
                  <a:pt x="20" y="29"/>
                </a:cubicBezTo>
                <a:cubicBezTo>
                  <a:pt x="13" y="27"/>
                  <a:pt x="7" y="25"/>
                  <a:pt x="4" y="23"/>
                </a:cubicBezTo>
                <a:cubicBezTo>
                  <a:pt x="1" y="20"/>
                  <a:pt x="0" y="17"/>
                  <a:pt x="0" y="14"/>
                </a:cubicBezTo>
                <a:cubicBezTo>
                  <a:pt x="0" y="11"/>
                  <a:pt x="1" y="8"/>
                  <a:pt x="4" y="6"/>
                </a:cubicBezTo>
                <a:close/>
                <a:moveTo>
                  <a:pt x="46" y="109"/>
                </a:moveTo>
                <a:cubicBezTo>
                  <a:pt x="56" y="107"/>
                  <a:pt x="64" y="105"/>
                  <a:pt x="68" y="102"/>
                </a:cubicBezTo>
                <a:cubicBezTo>
                  <a:pt x="73" y="99"/>
                  <a:pt x="75" y="95"/>
                  <a:pt x="75" y="91"/>
                </a:cubicBezTo>
                <a:cubicBezTo>
                  <a:pt x="75" y="88"/>
                  <a:pt x="73" y="84"/>
                  <a:pt x="70" y="82"/>
                </a:cubicBezTo>
                <a:cubicBezTo>
                  <a:pt x="65" y="79"/>
                  <a:pt x="58" y="76"/>
                  <a:pt x="46" y="73"/>
                </a:cubicBezTo>
                <a:lnTo>
                  <a:pt x="46" y="109"/>
                </a:ln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Freeform 590">
            <a:hlinkClick r:id="rId5"/>
          </p:cNvPr>
          <p:cNvSpPr/>
          <p:nvPr/>
        </p:nvSpPr>
        <p:spPr>
          <a:xfrm>
            <a:off x="8308800" y="3840120"/>
            <a:ext cx="922680" cy="569880"/>
          </a:xfrm>
          <a:custGeom>
            <a:avLst/>
            <a:gdLst/>
            <a:ahLst/>
            <a:rect l="l" t="t" r="r" b="b"/>
            <a:pathLst>
              <a:path w="384" h="237">
                <a:moveTo>
                  <a:pt x="192" y="0"/>
                </a:moveTo>
                <a:cubicBezTo>
                  <a:pt x="298" y="0"/>
                  <a:pt x="384" y="53"/>
                  <a:pt x="384" y="118"/>
                </a:cubicBezTo>
                <a:cubicBezTo>
                  <a:pt x="384" y="184"/>
                  <a:pt x="298" y="237"/>
                  <a:pt x="192" y="237"/>
                </a:cubicBezTo>
                <a:cubicBezTo>
                  <a:pt x="86" y="237"/>
                  <a:pt x="0" y="184"/>
                  <a:pt x="0" y="118"/>
                </a:cubicBezTo>
                <a:cubicBezTo>
                  <a:pt x="0" y="53"/>
                  <a:pt x="86" y="0"/>
                  <a:pt x="192" y="0"/>
                </a:cubicBezTo>
                <a:close/>
                <a:moveTo>
                  <a:pt x="294" y="170"/>
                </a:moveTo>
                <a:cubicBezTo>
                  <a:pt x="300" y="164"/>
                  <a:pt x="303" y="156"/>
                  <a:pt x="303" y="148"/>
                </a:cubicBezTo>
                <a:cubicBezTo>
                  <a:pt x="303" y="135"/>
                  <a:pt x="295" y="123"/>
                  <a:pt x="279" y="115"/>
                </a:cubicBezTo>
                <a:cubicBezTo>
                  <a:pt x="267" y="108"/>
                  <a:pt x="242" y="102"/>
                  <a:pt x="206" y="96"/>
                </a:cubicBezTo>
                <a:cubicBezTo>
                  <a:pt x="206" y="64"/>
                  <a:pt x="206" y="64"/>
                  <a:pt x="206" y="64"/>
                </a:cubicBezTo>
                <a:cubicBezTo>
                  <a:pt x="212" y="66"/>
                  <a:pt x="217" y="68"/>
                  <a:pt x="219" y="70"/>
                </a:cubicBezTo>
                <a:cubicBezTo>
                  <a:pt x="222" y="72"/>
                  <a:pt x="225" y="76"/>
                  <a:pt x="228" y="81"/>
                </a:cubicBezTo>
                <a:cubicBezTo>
                  <a:pt x="295" y="74"/>
                  <a:pt x="295" y="74"/>
                  <a:pt x="295" y="74"/>
                </a:cubicBezTo>
                <a:cubicBezTo>
                  <a:pt x="291" y="63"/>
                  <a:pt x="282" y="53"/>
                  <a:pt x="267" y="47"/>
                </a:cubicBezTo>
                <a:cubicBezTo>
                  <a:pt x="253" y="40"/>
                  <a:pt x="233" y="36"/>
                  <a:pt x="206" y="35"/>
                </a:cubicBezTo>
                <a:cubicBezTo>
                  <a:pt x="206" y="13"/>
                  <a:pt x="206" y="13"/>
                  <a:pt x="206" y="13"/>
                </a:cubicBezTo>
                <a:cubicBezTo>
                  <a:pt x="180" y="13"/>
                  <a:pt x="180" y="13"/>
                  <a:pt x="180" y="13"/>
                </a:cubicBezTo>
                <a:cubicBezTo>
                  <a:pt x="180" y="35"/>
                  <a:pt x="180" y="35"/>
                  <a:pt x="180" y="35"/>
                </a:cubicBezTo>
                <a:cubicBezTo>
                  <a:pt x="151" y="36"/>
                  <a:pt x="129" y="41"/>
                  <a:pt x="114" y="50"/>
                </a:cubicBezTo>
                <a:cubicBezTo>
                  <a:pt x="99" y="58"/>
                  <a:pt x="92" y="69"/>
                  <a:pt x="92" y="82"/>
                </a:cubicBezTo>
                <a:cubicBezTo>
                  <a:pt x="92" y="92"/>
                  <a:pt x="95" y="100"/>
                  <a:pt x="103" y="107"/>
                </a:cubicBezTo>
                <a:cubicBezTo>
                  <a:pt x="110" y="113"/>
                  <a:pt x="119" y="118"/>
                  <a:pt x="129" y="121"/>
                </a:cubicBezTo>
                <a:cubicBezTo>
                  <a:pt x="139" y="124"/>
                  <a:pt x="156" y="128"/>
                  <a:pt x="180" y="132"/>
                </a:cubicBezTo>
                <a:cubicBezTo>
                  <a:pt x="180" y="171"/>
                  <a:pt x="180" y="171"/>
                  <a:pt x="180" y="171"/>
                </a:cubicBezTo>
                <a:cubicBezTo>
                  <a:pt x="172" y="168"/>
                  <a:pt x="166" y="165"/>
                  <a:pt x="162" y="162"/>
                </a:cubicBezTo>
                <a:cubicBezTo>
                  <a:pt x="158" y="159"/>
                  <a:pt x="156" y="154"/>
                  <a:pt x="153" y="146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3" y="159"/>
                  <a:pt x="87" y="165"/>
                  <a:pt x="91" y="170"/>
                </a:cubicBezTo>
                <a:cubicBezTo>
                  <a:pt x="95" y="175"/>
                  <a:pt x="101" y="180"/>
                  <a:pt x="109" y="185"/>
                </a:cubicBezTo>
                <a:cubicBezTo>
                  <a:pt x="117" y="189"/>
                  <a:pt x="126" y="193"/>
                  <a:pt x="137" y="195"/>
                </a:cubicBezTo>
                <a:cubicBezTo>
                  <a:pt x="148" y="198"/>
                  <a:pt x="163" y="200"/>
                  <a:pt x="180" y="200"/>
                </a:cubicBezTo>
                <a:cubicBezTo>
                  <a:pt x="180" y="221"/>
                  <a:pt x="180" y="221"/>
                  <a:pt x="180" y="221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06" y="200"/>
                  <a:pt x="206" y="200"/>
                  <a:pt x="206" y="200"/>
                </a:cubicBezTo>
                <a:cubicBezTo>
                  <a:pt x="221" y="200"/>
                  <a:pt x="233" y="199"/>
                  <a:pt x="243" y="197"/>
                </a:cubicBezTo>
                <a:cubicBezTo>
                  <a:pt x="254" y="195"/>
                  <a:pt x="263" y="192"/>
                  <a:pt x="272" y="187"/>
                </a:cubicBezTo>
                <a:cubicBezTo>
                  <a:pt x="281" y="183"/>
                  <a:pt x="288" y="177"/>
                  <a:pt x="294" y="170"/>
                </a:cubicBezTo>
                <a:close/>
              </a:path>
            </a:pathLst>
          </a:custGeom>
          <a:solidFill>
            <a:srgbClr val="fdc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Freeform 591"/>
          <p:cNvSpPr/>
          <p:nvPr/>
        </p:nvSpPr>
        <p:spPr>
          <a:xfrm>
            <a:off x="8502480" y="3870360"/>
            <a:ext cx="535320" cy="500040"/>
          </a:xfrm>
          <a:custGeom>
            <a:avLst/>
            <a:gdLst/>
            <a:ahLst/>
            <a:rect l="l" t="t" r="r" b="b"/>
            <a:pathLst>
              <a:path w="222" h="208">
                <a:moveTo>
                  <a:pt x="198" y="102"/>
                </a:moveTo>
                <a:cubicBezTo>
                  <a:pt x="214" y="110"/>
                  <a:pt x="222" y="122"/>
                  <a:pt x="222" y="135"/>
                </a:cubicBezTo>
                <a:cubicBezTo>
                  <a:pt x="222" y="143"/>
                  <a:pt x="219" y="151"/>
                  <a:pt x="213" y="157"/>
                </a:cubicBezTo>
                <a:cubicBezTo>
                  <a:pt x="207" y="164"/>
                  <a:pt x="200" y="170"/>
                  <a:pt x="191" y="174"/>
                </a:cubicBezTo>
                <a:cubicBezTo>
                  <a:pt x="182" y="179"/>
                  <a:pt x="173" y="182"/>
                  <a:pt x="162" y="184"/>
                </a:cubicBezTo>
                <a:cubicBezTo>
                  <a:pt x="152" y="186"/>
                  <a:pt x="140" y="187"/>
                  <a:pt x="125" y="187"/>
                </a:cubicBezTo>
                <a:cubicBezTo>
                  <a:pt x="125" y="208"/>
                  <a:pt x="125" y="208"/>
                  <a:pt x="125" y="208"/>
                </a:cubicBezTo>
                <a:cubicBezTo>
                  <a:pt x="99" y="208"/>
                  <a:pt x="99" y="208"/>
                  <a:pt x="99" y="208"/>
                </a:cubicBezTo>
                <a:cubicBezTo>
                  <a:pt x="99" y="187"/>
                  <a:pt x="99" y="187"/>
                  <a:pt x="99" y="187"/>
                </a:cubicBezTo>
                <a:cubicBezTo>
                  <a:pt x="82" y="187"/>
                  <a:pt x="67" y="185"/>
                  <a:pt x="56" y="182"/>
                </a:cubicBezTo>
                <a:cubicBezTo>
                  <a:pt x="45" y="180"/>
                  <a:pt x="36" y="176"/>
                  <a:pt x="28" y="172"/>
                </a:cubicBezTo>
                <a:cubicBezTo>
                  <a:pt x="20" y="167"/>
                  <a:pt x="14" y="162"/>
                  <a:pt x="10" y="157"/>
                </a:cubicBezTo>
                <a:cubicBezTo>
                  <a:pt x="6" y="152"/>
                  <a:pt x="2" y="146"/>
                  <a:pt x="0" y="139"/>
                </a:cubicBezTo>
                <a:cubicBezTo>
                  <a:pt x="72" y="133"/>
                  <a:pt x="72" y="133"/>
                  <a:pt x="72" y="133"/>
                </a:cubicBezTo>
                <a:cubicBezTo>
                  <a:pt x="75" y="141"/>
                  <a:pt x="77" y="146"/>
                  <a:pt x="81" y="149"/>
                </a:cubicBezTo>
                <a:cubicBezTo>
                  <a:pt x="85" y="152"/>
                  <a:pt x="91" y="155"/>
                  <a:pt x="99" y="158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75" y="115"/>
                  <a:pt x="58" y="111"/>
                  <a:pt x="48" y="108"/>
                </a:cubicBezTo>
                <a:cubicBezTo>
                  <a:pt x="38" y="105"/>
                  <a:pt x="29" y="100"/>
                  <a:pt x="22" y="94"/>
                </a:cubicBezTo>
                <a:cubicBezTo>
                  <a:pt x="14" y="87"/>
                  <a:pt x="11" y="79"/>
                  <a:pt x="11" y="69"/>
                </a:cubicBezTo>
                <a:cubicBezTo>
                  <a:pt x="11" y="56"/>
                  <a:pt x="18" y="45"/>
                  <a:pt x="33" y="37"/>
                </a:cubicBezTo>
                <a:cubicBezTo>
                  <a:pt x="48" y="28"/>
                  <a:pt x="70" y="23"/>
                  <a:pt x="99" y="22"/>
                </a:cubicBezTo>
                <a:cubicBezTo>
                  <a:pt x="99" y="0"/>
                  <a:pt x="99" y="0"/>
                  <a:pt x="99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25" y="22"/>
                  <a:pt x="125" y="22"/>
                  <a:pt x="125" y="22"/>
                </a:cubicBezTo>
                <a:cubicBezTo>
                  <a:pt x="152" y="23"/>
                  <a:pt x="172" y="27"/>
                  <a:pt x="186" y="34"/>
                </a:cubicBezTo>
                <a:cubicBezTo>
                  <a:pt x="201" y="40"/>
                  <a:pt x="210" y="50"/>
                  <a:pt x="214" y="61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44" y="63"/>
                  <a:pt x="141" y="59"/>
                  <a:pt x="138" y="57"/>
                </a:cubicBezTo>
                <a:cubicBezTo>
                  <a:pt x="136" y="55"/>
                  <a:pt x="131" y="53"/>
                  <a:pt x="125" y="51"/>
                </a:cubicBezTo>
                <a:cubicBezTo>
                  <a:pt x="125" y="83"/>
                  <a:pt x="125" y="83"/>
                  <a:pt x="125" y="83"/>
                </a:cubicBezTo>
                <a:cubicBezTo>
                  <a:pt x="161" y="89"/>
                  <a:pt x="186" y="95"/>
                  <a:pt x="198" y="102"/>
                </a:cubicBezTo>
                <a:close/>
                <a:moveTo>
                  <a:pt x="147" y="152"/>
                </a:moveTo>
                <a:cubicBezTo>
                  <a:pt x="152" y="149"/>
                  <a:pt x="154" y="145"/>
                  <a:pt x="154" y="141"/>
                </a:cubicBezTo>
                <a:cubicBezTo>
                  <a:pt x="154" y="138"/>
                  <a:pt x="152" y="134"/>
                  <a:pt x="149" y="132"/>
                </a:cubicBezTo>
                <a:cubicBezTo>
                  <a:pt x="144" y="129"/>
                  <a:pt x="137" y="126"/>
                  <a:pt x="125" y="123"/>
                </a:cubicBezTo>
                <a:cubicBezTo>
                  <a:pt x="125" y="159"/>
                  <a:pt x="125" y="159"/>
                  <a:pt x="125" y="159"/>
                </a:cubicBezTo>
                <a:cubicBezTo>
                  <a:pt x="135" y="157"/>
                  <a:pt x="143" y="155"/>
                  <a:pt x="147" y="152"/>
                </a:cubicBezTo>
                <a:close/>
                <a:moveTo>
                  <a:pt x="99" y="79"/>
                </a:moveTo>
                <a:cubicBezTo>
                  <a:pt x="99" y="50"/>
                  <a:pt x="99" y="50"/>
                  <a:pt x="99" y="50"/>
                </a:cubicBezTo>
                <a:cubicBezTo>
                  <a:pt x="91" y="52"/>
                  <a:pt x="86" y="54"/>
                  <a:pt x="83" y="56"/>
                </a:cubicBezTo>
                <a:cubicBezTo>
                  <a:pt x="80" y="58"/>
                  <a:pt x="79" y="61"/>
                  <a:pt x="79" y="64"/>
                </a:cubicBezTo>
                <a:cubicBezTo>
                  <a:pt x="79" y="67"/>
                  <a:pt x="80" y="70"/>
                  <a:pt x="83" y="73"/>
                </a:cubicBezTo>
                <a:cubicBezTo>
                  <a:pt x="86" y="75"/>
                  <a:pt x="92" y="77"/>
                  <a:pt x="99" y="79"/>
                </a:cubicBezTo>
                <a:close/>
              </a:path>
            </a:pathLst>
          </a:custGeom>
          <a:solidFill>
            <a:srgbClr val="fba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Freeform 592"/>
          <p:cNvSpPr/>
          <p:nvPr/>
        </p:nvSpPr>
        <p:spPr>
          <a:xfrm>
            <a:off x="9101160" y="4336920"/>
            <a:ext cx="166680" cy="260640"/>
          </a:xfrm>
          <a:custGeom>
            <a:avLst/>
            <a:gdLst/>
            <a:ahLst/>
            <a:rect l="l" t="t" r="r" b="b"/>
            <a:pathLst>
              <a:path w="69" h="108">
                <a:moveTo>
                  <a:pt x="0" y="41"/>
                </a:moveTo>
                <a:cubicBezTo>
                  <a:pt x="0" y="108"/>
                  <a:pt x="0" y="108"/>
                  <a:pt x="0" y="108"/>
                </a:cubicBezTo>
                <a:cubicBezTo>
                  <a:pt x="27" y="97"/>
                  <a:pt x="50" y="83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0" y="16"/>
                  <a:pt x="27" y="30"/>
                  <a:pt x="0" y="4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Freeform 593"/>
          <p:cNvSpPr/>
          <p:nvPr/>
        </p:nvSpPr>
        <p:spPr>
          <a:xfrm>
            <a:off x="8894880" y="4449600"/>
            <a:ext cx="166680" cy="200160"/>
          </a:xfrm>
          <a:custGeom>
            <a:avLst/>
            <a:gdLst/>
            <a:ahLst/>
            <a:rect l="l" t="t" r="r" b="b"/>
            <a:pathLst>
              <a:path w="69" h="83">
                <a:moveTo>
                  <a:pt x="0" y="16"/>
                </a:moveTo>
                <a:cubicBezTo>
                  <a:pt x="0" y="83"/>
                  <a:pt x="0" y="83"/>
                  <a:pt x="0" y="83"/>
                </a:cubicBezTo>
                <a:cubicBezTo>
                  <a:pt x="25" y="79"/>
                  <a:pt x="48" y="74"/>
                  <a:pt x="69" y="67"/>
                </a:cubicBezTo>
                <a:cubicBezTo>
                  <a:pt x="69" y="0"/>
                  <a:pt x="69" y="0"/>
                  <a:pt x="69" y="0"/>
                </a:cubicBezTo>
                <a:cubicBezTo>
                  <a:pt x="48" y="8"/>
                  <a:pt x="25" y="13"/>
                  <a:pt x="0" y="16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Freeform 594"/>
          <p:cNvSpPr/>
          <p:nvPr/>
        </p:nvSpPr>
        <p:spPr>
          <a:xfrm>
            <a:off x="8483760" y="4452840"/>
            <a:ext cx="168120" cy="196920"/>
          </a:xfrm>
          <a:custGeom>
            <a:avLst/>
            <a:gdLst/>
            <a:ahLst/>
            <a:rect l="l" t="t" r="r" b="b"/>
            <a:pathLst>
              <a:path w="70" h="8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22" y="74"/>
                  <a:pt x="45" y="79"/>
                  <a:pt x="70" y="82"/>
                </a:cubicBezTo>
                <a:cubicBezTo>
                  <a:pt x="70" y="15"/>
                  <a:pt x="70" y="15"/>
                  <a:pt x="70" y="15"/>
                </a:cubicBezTo>
                <a:cubicBezTo>
                  <a:pt x="45" y="12"/>
                  <a:pt x="22" y="7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Freeform 595"/>
          <p:cNvSpPr/>
          <p:nvPr/>
        </p:nvSpPr>
        <p:spPr>
          <a:xfrm>
            <a:off x="8690040" y="4494240"/>
            <a:ext cx="166680" cy="163440"/>
          </a:xfrm>
          <a:custGeom>
            <a:avLst/>
            <a:gdLst/>
            <a:ahLst/>
            <a:rect l="l" t="t" r="r" b="b"/>
            <a:pathLst>
              <a:path w="69" h="68">
                <a:moveTo>
                  <a:pt x="33" y="1"/>
                </a:moveTo>
                <a:cubicBezTo>
                  <a:pt x="22" y="1"/>
                  <a:pt x="11" y="1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1" y="68"/>
                  <a:pt x="22" y="68"/>
                  <a:pt x="33" y="68"/>
                </a:cubicBezTo>
                <a:cubicBezTo>
                  <a:pt x="45" y="68"/>
                  <a:pt x="57" y="67"/>
                  <a:pt x="69" y="66"/>
                </a:cubicBezTo>
                <a:cubicBezTo>
                  <a:pt x="69" y="0"/>
                  <a:pt x="69" y="0"/>
                  <a:pt x="69" y="0"/>
                </a:cubicBezTo>
                <a:cubicBezTo>
                  <a:pt x="57" y="1"/>
                  <a:pt x="45" y="1"/>
                  <a:pt x="33" y="1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Freeform 596"/>
          <p:cNvSpPr/>
          <p:nvPr/>
        </p:nvSpPr>
        <p:spPr>
          <a:xfrm>
            <a:off x="8278920" y="4341960"/>
            <a:ext cx="166680" cy="257040"/>
          </a:xfrm>
          <a:custGeom>
            <a:avLst/>
            <a:gdLst/>
            <a:ahLst/>
            <a:rect l="l" t="t" r="r" b="b"/>
            <a:pathLst>
              <a:path w="69" h="107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19" y="83"/>
                  <a:pt x="42" y="96"/>
                  <a:pt x="69" y="107"/>
                </a:cubicBezTo>
                <a:cubicBezTo>
                  <a:pt x="69" y="40"/>
                  <a:pt x="69" y="40"/>
                  <a:pt x="69" y="40"/>
                </a:cubicBezTo>
                <a:cubicBezTo>
                  <a:pt x="42" y="30"/>
                  <a:pt x="19" y="16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Freeform 597"/>
          <p:cNvSpPr/>
          <p:nvPr/>
        </p:nvSpPr>
        <p:spPr>
          <a:xfrm>
            <a:off x="8164440" y="4122720"/>
            <a:ext cx="76320" cy="341280"/>
          </a:xfrm>
          <a:custGeom>
            <a:avLst/>
            <a:gdLst/>
            <a:ahLst/>
            <a:rect l="l" t="t" r="r" b="b"/>
            <a:pathLst>
              <a:path w="32" h="142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0" y="94"/>
                  <a:pt x="12" y="120"/>
                  <a:pt x="32" y="142"/>
                </a:cubicBezTo>
                <a:cubicBezTo>
                  <a:pt x="32" y="76"/>
                  <a:pt x="32" y="76"/>
                  <a:pt x="32" y="76"/>
                </a:cubicBezTo>
                <a:cubicBezTo>
                  <a:pt x="12" y="53"/>
                  <a:pt x="0" y="28"/>
                  <a:pt x="0" y="0"/>
                </a:cubicBez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Freeform 598"/>
          <p:cNvSpPr/>
          <p:nvPr/>
        </p:nvSpPr>
        <p:spPr>
          <a:xfrm>
            <a:off x="9306000" y="4122720"/>
            <a:ext cx="69840" cy="335160"/>
          </a:xfrm>
          <a:custGeom>
            <a:avLst/>
            <a:gdLst/>
            <a:ahLst/>
            <a:rect l="l" t="t" r="r" b="b"/>
            <a:pathLst>
              <a:path w="29" h="139">
                <a:moveTo>
                  <a:pt x="29" y="0"/>
                </a:moveTo>
                <a:cubicBezTo>
                  <a:pt x="29" y="26"/>
                  <a:pt x="19" y="51"/>
                  <a:pt x="0" y="72"/>
                </a:cubicBezTo>
                <a:cubicBezTo>
                  <a:pt x="0" y="139"/>
                  <a:pt x="0" y="139"/>
                  <a:pt x="0" y="139"/>
                </a:cubicBezTo>
                <a:cubicBezTo>
                  <a:pt x="19" y="118"/>
                  <a:pt x="29" y="93"/>
                  <a:pt x="29" y="67"/>
                </a:cubicBezTo>
                <a:lnTo>
                  <a:pt x="29" y="0"/>
                </a:lnTo>
                <a:close/>
              </a:path>
            </a:pathLst>
          </a:custGeom>
          <a:solidFill>
            <a:srgbClr val="fb8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Freeform 599"/>
          <p:cNvSpPr/>
          <p:nvPr/>
        </p:nvSpPr>
        <p:spPr>
          <a:xfrm>
            <a:off x="8445600" y="4438800"/>
            <a:ext cx="38160" cy="174600"/>
          </a:xfrm>
          <a:custGeom>
            <a:avLst/>
            <a:gdLst/>
            <a:ahLst/>
            <a:rect l="l" t="t" r="r" b="b"/>
            <a:pathLst>
              <a:path w="16" h="73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9"/>
                  <a:pt x="11" y="71"/>
                  <a:pt x="16" y="73"/>
                </a:cubicBezTo>
                <a:cubicBezTo>
                  <a:pt x="16" y="6"/>
                  <a:pt x="16" y="6"/>
                  <a:pt x="16" y="6"/>
                </a:cubicBezTo>
                <a:cubicBezTo>
                  <a:pt x="11" y="4"/>
                  <a:pt x="5" y="2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Freeform 600"/>
          <p:cNvSpPr/>
          <p:nvPr/>
        </p:nvSpPr>
        <p:spPr>
          <a:xfrm>
            <a:off x="9267840" y="4295880"/>
            <a:ext cx="38160" cy="199800"/>
          </a:xfrm>
          <a:custGeom>
            <a:avLst/>
            <a:gdLst/>
            <a:ahLst/>
            <a:rect l="l" t="t" r="r" b="b"/>
            <a:pathLst>
              <a:path w="16" h="83">
                <a:moveTo>
                  <a:pt x="0" y="17"/>
                </a:moveTo>
                <a:cubicBezTo>
                  <a:pt x="0" y="83"/>
                  <a:pt x="0" y="83"/>
                  <a:pt x="0" y="83"/>
                </a:cubicBezTo>
                <a:cubicBezTo>
                  <a:pt x="6" y="78"/>
                  <a:pt x="11" y="73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6"/>
                  <a:pt x="6" y="12"/>
                  <a:pt x="0" y="17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Freeform 601"/>
          <p:cNvSpPr/>
          <p:nvPr/>
        </p:nvSpPr>
        <p:spPr>
          <a:xfrm>
            <a:off x="9061560" y="4435560"/>
            <a:ext cx="39600" cy="17604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6"/>
                </a:moveTo>
                <a:cubicBezTo>
                  <a:pt x="0" y="73"/>
                  <a:pt x="0" y="73"/>
                  <a:pt x="0" y="73"/>
                </a:cubicBezTo>
                <a:cubicBezTo>
                  <a:pt x="6" y="71"/>
                  <a:pt x="11" y="69"/>
                  <a:pt x="17" y="67"/>
                </a:cubicBezTo>
                <a:cubicBezTo>
                  <a:pt x="17" y="0"/>
                  <a:pt x="17" y="0"/>
                  <a:pt x="17" y="0"/>
                </a:cubicBezTo>
                <a:cubicBezTo>
                  <a:pt x="11" y="2"/>
                  <a:pt x="6" y="4"/>
                  <a:pt x="0" y="6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Freeform 602"/>
          <p:cNvSpPr/>
          <p:nvPr/>
        </p:nvSpPr>
        <p:spPr>
          <a:xfrm>
            <a:off x="8240760" y="4305240"/>
            <a:ext cx="38160" cy="198360"/>
          </a:xfrm>
          <a:custGeom>
            <a:avLst/>
            <a:gdLst/>
            <a:ahLst/>
            <a:rect l="l" t="t" r="r" b="b"/>
            <a:pathLst>
              <a:path w="16" h="82">
                <a:moveTo>
                  <a:pt x="0" y="0"/>
                </a:moveTo>
                <a:cubicBezTo>
                  <a:pt x="0" y="66"/>
                  <a:pt x="0" y="66"/>
                  <a:pt x="0" y="66"/>
                </a:cubicBezTo>
                <a:cubicBezTo>
                  <a:pt x="5" y="72"/>
                  <a:pt x="10" y="77"/>
                  <a:pt x="16" y="82"/>
                </a:cubicBezTo>
                <a:cubicBezTo>
                  <a:pt x="16" y="15"/>
                  <a:pt x="16" y="15"/>
                  <a:pt x="16" y="15"/>
                </a:cubicBezTo>
                <a:cubicBezTo>
                  <a:pt x="10" y="10"/>
                  <a:pt x="5" y="5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Freeform 603"/>
          <p:cNvSpPr/>
          <p:nvPr/>
        </p:nvSpPr>
        <p:spPr>
          <a:xfrm>
            <a:off x="8856720" y="4489560"/>
            <a:ext cx="38160" cy="163440"/>
          </a:xfrm>
          <a:custGeom>
            <a:avLst/>
            <a:gdLst/>
            <a:ahLst/>
            <a:rect l="l" t="t" r="r" b="b"/>
            <a:pathLst>
              <a:path w="16" h="68">
                <a:moveTo>
                  <a:pt x="0" y="2"/>
                </a:moveTo>
                <a:cubicBezTo>
                  <a:pt x="0" y="68"/>
                  <a:pt x="0" y="68"/>
                  <a:pt x="0" y="68"/>
                </a:cubicBezTo>
                <a:cubicBezTo>
                  <a:pt x="5" y="68"/>
                  <a:pt x="11" y="67"/>
                  <a:pt x="16" y="67"/>
                </a:cubicBezTo>
                <a:cubicBezTo>
                  <a:pt x="16" y="0"/>
                  <a:pt x="16" y="0"/>
                  <a:pt x="16" y="0"/>
                </a:cubicBezTo>
                <a:cubicBezTo>
                  <a:pt x="11" y="1"/>
                  <a:pt x="5" y="1"/>
                  <a:pt x="0" y="2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Freeform 604"/>
          <p:cNvSpPr/>
          <p:nvPr/>
        </p:nvSpPr>
        <p:spPr>
          <a:xfrm>
            <a:off x="8651880" y="4489560"/>
            <a:ext cx="38160" cy="164880"/>
          </a:xfrm>
          <a:custGeom>
            <a:avLst/>
            <a:gdLst/>
            <a:ahLst/>
            <a:rect l="l" t="t" r="r" b="b"/>
            <a:pathLst>
              <a:path w="16" h="69">
                <a:moveTo>
                  <a:pt x="0" y="0"/>
                </a:moveTo>
                <a:cubicBezTo>
                  <a:pt x="0" y="67"/>
                  <a:pt x="0" y="67"/>
                  <a:pt x="0" y="67"/>
                </a:cubicBezTo>
                <a:cubicBezTo>
                  <a:pt x="5" y="68"/>
                  <a:pt x="10" y="68"/>
                  <a:pt x="16" y="69"/>
                </a:cubicBezTo>
                <a:cubicBezTo>
                  <a:pt x="16" y="2"/>
                  <a:pt x="16" y="2"/>
                  <a:pt x="16" y="2"/>
                </a:cubicBezTo>
                <a:cubicBezTo>
                  <a:pt x="10" y="2"/>
                  <a:pt x="5" y="1"/>
                  <a:pt x="0" y="0"/>
                </a:cubicBezTo>
                <a:close/>
              </a:path>
            </a:pathLst>
          </a:custGeom>
          <a:solidFill>
            <a:srgbClr val="e5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Freeform 605">
            <a:hlinkClick r:id="rId6"/>
          </p:cNvPr>
          <p:cNvSpPr/>
          <p:nvPr/>
        </p:nvSpPr>
        <p:spPr>
          <a:xfrm rot="5107200">
            <a:off x="5940360" y="1418760"/>
            <a:ext cx="5648400" cy="4959360"/>
          </a:xfrm>
          <a:custGeom>
            <a:avLst/>
            <a:gdLst/>
            <a:ahLst/>
            <a:rect l="l" t="t" r="r" b="b"/>
            <a:pathLst>
              <a:path w="2348" h="2062">
                <a:moveTo>
                  <a:pt x="2348" y="844"/>
                </a:moveTo>
                <a:cubicBezTo>
                  <a:pt x="2187" y="1045"/>
                  <a:pt x="2187" y="1045"/>
                  <a:pt x="2187" y="1045"/>
                </a:cubicBezTo>
                <a:cubicBezTo>
                  <a:pt x="1999" y="871"/>
                  <a:pt x="1999" y="871"/>
                  <a:pt x="1999" y="871"/>
                </a:cubicBezTo>
                <a:cubicBezTo>
                  <a:pt x="2028" y="839"/>
                  <a:pt x="2028" y="839"/>
                  <a:pt x="2028" y="839"/>
                </a:cubicBezTo>
                <a:cubicBezTo>
                  <a:pt x="2156" y="958"/>
                  <a:pt x="2156" y="958"/>
                  <a:pt x="2156" y="958"/>
                </a:cubicBezTo>
                <a:cubicBezTo>
                  <a:pt x="2135" y="719"/>
                  <a:pt x="2029" y="498"/>
                  <a:pt x="1855" y="331"/>
                </a:cubicBezTo>
                <a:cubicBezTo>
                  <a:pt x="1670" y="153"/>
                  <a:pt x="1426" y="56"/>
                  <a:pt x="1170" y="56"/>
                </a:cubicBezTo>
                <a:cubicBezTo>
                  <a:pt x="925" y="56"/>
                  <a:pt x="689" y="146"/>
                  <a:pt x="507" y="310"/>
                </a:cubicBezTo>
                <a:cubicBezTo>
                  <a:pt x="326" y="473"/>
                  <a:pt x="212" y="696"/>
                  <a:pt x="186" y="937"/>
                </a:cubicBezTo>
                <a:cubicBezTo>
                  <a:pt x="184" y="952"/>
                  <a:pt x="171" y="963"/>
                  <a:pt x="155" y="961"/>
                </a:cubicBezTo>
                <a:cubicBezTo>
                  <a:pt x="140" y="960"/>
                  <a:pt x="129" y="946"/>
                  <a:pt x="131" y="931"/>
                </a:cubicBezTo>
                <a:cubicBezTo>
                  <a:pt x="159" y="676"/>
                  <a:pt x="279" y="441"/>
                  <a:pt x="470" y="269"/>
                </a:cubicBezTo>
                <a:cubicBezTo>
                  <a:pt x="662" y="96"/>
                  <a:pt x="911" y="0"/>
                  <a:pt x="1170" y="0"/>
                </a:cubicBezTo>
                <a:cubicBezTo>
                  <a:pt x="1170" y="0"/>
                  <a:pt x="1170" y="0"/>
                  <a:pt x="1170" y="0"/>
                </a:cubicBezTo>
                <a:cubicBezTo>
                  <a:pt x="1441" y="0"/>
                  <a:pt x="1698" y="103"/>
                  <a:pt x="1893" y="291"/>
                </a:cubicBezTo>
                <a:cubicBezTo>
                  <a:pt x="2076" y="466"/>
                  <a:pt x="2188" y="697"/>
                  <a:pt x="2211" y="947"/>
                </a:cubicBezTo>
                <a:cubicBezTo>
                  <a:pt x="2314" y="818"/>
                  <a:pt x="2314" y="818"/>
                  <a:pt x="2314" y="818"/>
                </a:cubicBezTo>
                <a:lnTo>
                  <a:pt x="2348" y="844"/>
                </a:lnTo>
                <a:close/>
                <a:moveTo>
                  <a:pt x="2192" y="1100"/>
                </a:moveTo>
                <a:cubicBezTo>
                  <a:pt x="2177" y="1099"/>
                  <a:pt x="2163" y="1110"/>
                  <a:pt x="2161" y="1125"/>
                </a:cubicBezTo>
                <a:cubicBezTo>
                  <a:pt x="2135" y="1366"/>
                  <a:pt x="2021" y="1588"/>
                  <a:pt x="1840" y="1751"/>
                </a:cubicBezTo>
                <a:cubicBezTo>
                  <a:pt x="1658" y="1916"/>
                  <a:pt x="1423" y="2006"/>
                  <a:pt x="1178" y="2006"/>
                </a:cubicBezTo>
                <a:cubicBezTo>
                  <a:pt x="921" y="2006"/>
                  <a:pt x="678" y="1908"/>
                  <a:pt x="493" y="1731"/>
                </a:cubicBezTo>
                <a:cubicBezTo>
                  <a:pt x="318" y="1564"/>
                  <a:pt x="213" y="1342"/>
                  <a:pt x="192" y="1104"/>
                </a:cubicBezTo>
                <a:cubicBezTo>
                  <a:pt x="320" y="1222"/>
                  <a:pt x="320" y="1222"/>
                  <a:pt x="320" y="1222"/>
                </a:cubicBezTo>
                <a:cubicBezTo>
                  <a:pt x="349" y="1191"/>
                  <a:pt x="349" y="1191"/>
                  <a:pt x="349" y="1191"/>
                </a:cubicBezTo>
                <a:cubicBezTo>
                  <a:pt x="160" y="1016"/>
                  <a:pt x="160" y="1016"/>
                  <a:pt x="160" y="1016"/>
                </a:cubicBezTo>
                <a:cubicBezTo>
                  <a:pt x="0" y="1217"/>
                  <a:pt x="0" y="1217"/>
                  <a:pt x="0" y="1217"/>
                </a:cubicBezTo>
                <a:cubicBezTo>
                  <a:pt x="33" y="1244"/>
                  <a:pt x="33" y="1244"/>
                  <a:pt x="33" y="1244"/>
                </a:cubicBezTo>
                <a:cubicBezTo>
                  <a:pt x="137" y="1114"/>
                  <a:pt x="137" y="1114"/>
                  <a:pt x="137" y="1114"/>
                </a:cubicBezTo>
                <a:cubicBezTo>
                  <a:pt x="160" y="1364"/>
                  <a:pt x="272" y="1596"/>
                  <a:pt x="454" y="1771"/>
                </a:cubicBezTo>
                <a:cubicBezTo>
                  <a:pt x="650" y="1958"/>
                  <a:pt x="907" y="2062"/>
                  <a:pt x="1178" y="2062"/>
                </a:cubicBezTo>
                <a:cubicBezTo>
                  <a:pt x="1178" y="2062"/>
                  <a:pt x="1178" y="2062"/>
                  <a:pt x="1178" y="2062"/>
                </a:cubicBezTo>
                <a:cubicBezTo>
                  <a:pt x="1437" y="2062"/>
                  <a:pt x="1685" y="1966"/>
                  <a:pt x="1878" y="1793"/>
                </a:cubicBezTo>
                <a:cubicBezTo>
                  <a:pt x="2068" y="1620"/>
                  <a:pt x="2189" y="1385"/>
                  <a:pt x="2217" y="1131"/>
                </a:cubicBezTo>
                <a:cubicBezTo>
                  <a:pt x="2218" y="1116"/>
                  <a:pt x="2207" y="1102"/>
                  <a:pt x="2192" y="1100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Freeform 606"/>
          <p:cNvSpPr/>
          <p:nvPr/>
        </p:nvSpPr>
        <p:spPr>
          <a:xfrm>
            <a:off x="9318600" y="4125960"/>
            <a:ext cx="93600" cy="95040"/>
          </a:xfrm>
          <a:custGeom>
            <a:avLst/>
            <a:gdLst/>
            <a:ahLst/>
            <a:rect l="l" t="t" r="r" b="b"/>
            <a:pathLst>
              <a:path w="39" h="39">
                <a:moveTo>
                  <a:pt x="39" y="20"/>
                </a:moveTo>
                <a:cubicBezTo>
                  <a:pt x="27" y="24"/>
                  <a:pt x="23" y="27"/>
                  <a:pt x="19" y="39"/>
                </a:cubicBezTo>
                <a:cubicBezTo>
                  <a:pt x="15" y="27"/>
                  <a:pt x="12" y="24"/>
                  <a:pt x="0" y="20"/>
                </a:cubicBezTo>
                <a:cubicBezTo>
                  <a:pt x="12" y="16"/>
                  <a:pt x="15" y="12"/>
                  <a:pt x="19" y="0"/>
                </a:cubicBezTo>
                <a:cubicBezTo>
                  <a:pt x="23" y="12"/>
                  <a:pt x="27" y="16"/>
                  <a:pt x="3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Freeform 607"/>
          <p:cNvSpPr/>
          <p:nvPr/>
        </p:nvSpPr>
        <p:spPr>
          <a:xfrm>
            <a:off x="9009000" y="4184640"/>
            <a:ext cx="387360" cy="387360"/>
          </a:xfrm>
          <a:custGeom>
            <a:avLst/>
            <a:gdLst/>
            <a:ahLst/>
            <a:rect l="l" t="t" r="r" b="b"/>
            <a:pathLst>
              <a:path w="161" h="161">
                <a:moveTo>
                  <a:pt x="161" y="80"/>
                </a:moveTo>
                <a:cubicBezTo>
                  <a:pt x="83" y="82"/>
                  <a:pt x="82" y="84"/>
                  <a:pt x="81" y="161"/>
                </a:cubicBezTo>
                <a:cubicBezTo>
                  <a:pt x="78" y="84"/>
                  <a:pt x="77" y="82"/>
                  <a:pt x="0" y="81"/>
                </a:cubicBezTo>
                <a:cubicBezTo>
                  <a:pt x="77" y="79"/>
                  <a:pt x="78" y="78"/>
                  <a:pt x="80" y="0"/>
                </a:cubicBezTo>
                <a:cubicBezTo>
                  <a:pt x="82" y="78"/>
                  <a:pt x="83" y="79"/>
                  <a:pt x="161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Freeform 608"/>
          <p:cNvSpPr/>
          <p:nvPr/>
        </p:nvSpPr>
        <p:spPr>
          <a:xfrm>
            <a:off x="7226280" y="3306600"/>
            <a:ext cx="289080" cy="28908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120" y="60"/>
                </a:moveTo>
                <a:cubicBezTo>
                  <a:pt x="62" y="61"/>
                  <a:pt x="61" y="62"/>
                  <a:pt x="60" y="120"/>
                </a:cubicBezTo>
                <a:cubicBezTo>
                  <a:pt x="59" y="62"/>
                  <a:pt x="58" y="61"/>
                  <a:pt x="0" y="60"/>
                </a:cubicBezTo>
                <a:cubicBezTo>
                  <a:pt x="58" y="59"/>
                  <a:pt x="59" y="58"/>
                  <a:pt x="60" y="0"/>
                </a:cubicBezTo>
                <a:cubicBezTo>
                  <a:pt x="61" y="58"/>
                  <a:pt x="62" y="59"/>
                  <a:pt x="1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Oval 609"/>
          <p:cNvSpPr/>
          <p:nvPr/>
        </p:nvSpPr>
        <p:spPr>
          <a:xfrm>
            <a:off x="9604440" y="4687920"/>
            <a:ext cx="480960" cy="484200"/>
          </a:xfrm>
          <a:prstGeom prst="ellipse">
            <a:avLst/>
          </a:prstGeom>
          <a:solidFill>
            <a:srgbClr val="d4ef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Freeform 610"/>
          <p:cNvSpPr/>
          <p:nvPr/>
        </p:nvSpPr>
        <p:spPr>
          <a:xfrm>
            <a:off x="9705960" y="4791240"/>
            <a:ext cx="276120" cy="27756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110" y="52"/>
                </a:moveTo>
                <a:cubicBezTo>
                  <a:pt x="63" y="52"/>
                  <a:pt x="63" y="52"/>
                  <a:pt x="63" y="52"/>
                </a:cubicBezTo>
                <a:cubicBezTo>
                  <a:pt x="63" y="5"/>
                  <a:pt x="63" y="5"/>
                  <a:pt x="63" y="5"/>
                </a:cubicBezTo>
                <a:cubicBezTo>
                  <a:pt x="63" y="2"/>
                  <a:pt x="61" y="0"/>
                  <a:pt x="58" y="0"/>
                </a:cubicBezTo>
                <a:cubicBezTo>
                  <a:pt x="55" y="0"/>
                  <a:pt x="52" y="2"/>
                  <a:pt x="52" y="5"/>
                </a:cubicBezTo>
                <a:cubicBezTo>
                  <a:pt x="52" y="52"/>
                  <a:pt x="52" y="52"/>
                  <a:pt x="52" y="52"/>
                </a:cubicBez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54"/>
                  <a:pt x="0" y="57"/>
                </a:cubicBezTo>
                <a:cubicBezTo>
                  <a:pt x="0" y="60"/>
                  <a:pt x="3" y="63"/>
                  <a:pt x="6" y="63"/>
                </a:cubicBezTo>
                <a:cubicBezTo>
                  <a:pt x="52" y="63"/>
                  <a:pt x="52" y="63"/>
                  <a:pt x="52" y="63"/>
                </a:cubicBezTo>
                <a:cubicBezTo>
                  <a:pt x="52" y="109"/>
                  <a:pt x="52" y="109"/>
                  <a:pt x="52" y="109"/>
                </a:cubicBezTo>
                <a:cubicBezTo>
                  <a:pt x="52" y="112"/>
                  <a:pt x="55" y="115"/>
                  <a:pt x="58" y="115"/>
                </a:cubicBezTo>
                <a:cubicBezTo>
                  <a:pt x="61" y="115"/>
                  <a:pt x="63" y="112"/>
                  <a:pt x="63" y="109"/>
                </a:cubicBezTo>
                <a:cubicBezTo>
                  <a:pt x="63" y="63"/>
                  <a:pt x="63" y="63"/>
                  <a:pt x="63" y="63"/>
                </a:cubicBezTo>
                <a:cubicBezTo>
                  <a:pt x="110" y="63"/>
                  <a:pt x="110" y="63"/>
                  <a:pt x="110" y="63"/>
                </a:cubicBezTo>
                <a:cubicBezTo>
                  <a:pt x="113" y="63"/>
                  <a:pt x="115" y="60"/>
                  <a:pt x="115" y="57"/>
                </a:cubicBezTo>
                <a:cubicBezTo>
                  <a:pt x="115" y="54"/>
                  <a:pt x="113" y="52"/>
                  <a:pt x="110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Freeform 613"/>
          <p:cNvSpPr/>
          <p:nvPr/>
        </p:nvSpPr>
        <p:spPr>
          <a:xfrm>
            <a:off x="10085400" y="4583160"/>
            <a:ext cx="290520" cy="290520"/>
          </a:xfrm>
          <a:custGeom>
            <a:avLst/>
            <a:gdLst/>
            <a:ahLst/>
            <a:rect l="l" t="t" r="r" b="b"/>
            <a:pathLst>
              <a:path w="121" h="121">
                <a:moveTo>
                  <a:pt x="115" y="55"/>
                </a:moveTo>
                <a:cubicBezTo>
                  <a:pt x="67" y="55"/>
                  <a:pt x="67" y="55"/>
                  <a:pt x="67" y="55"/>
                </a:cubicBezTo>
                <a:cubicBezTo>
                  <a:pt x="67" y="6"/>
                  <a:pt x="67" y="6"/>
                  <a:pt x="67" y="6"/>
                </a:cubicBezTo>
                <a:cubicBezTo>
                  <a:pt x="67" y="3"/>
                  <a:pt x="64" y="0"/>
                  <a:pt x="61" y="0"/>
                </a:cubicBezTo>
                <a:cubicBezTo>
                  <a:pt x="58" y="0"/>
                  <a:pt x="55" y="3"/>
                  <a:pt x="55" y="6"/>
                </a:cubicBezTo>
                <a:cubicBezTo>
                  <a:pt x="55" y="55"/>
                  <a:pt x="55" y="55"/>
                  <a:pt x="55" y="55"/>
                </a:cubicBezTo>
                <a:cubicBezTo>
                  <a:pt x="6" y="55"/>
                  <a:pt x="6" y="55"/>
                  <a:pt x="6" y="55"/>
                </a:cubicBezTo>
                <a:cubicBezTo>
                  <a:pt x="3" y="55"/>
                  <a:pt x="0" y="57"/>
                  <a:pt x="0" y="61"/>
                </a:cubicBezTo>
                <a:cubicBezTo>
                  <a:pt x="0" y="64"/>
                  <a:pt x="3" y="67"/>
                  <a:pt x="6" y="67"/>
                </a:cubicBezTo>
                <a:cubicBezTo>
                  <a:pt x="55" y="67"/>
                  <a:pt x="55" y="67"/>
                  <a:pt x="55" y="67"/>
                </a:cubicBezTo>
                <a:cubicBezTo>
                  <a:pt x="55" y="115"/>
                  <a:pt x="55" y="115"/>
                  <a:pt x="55" y="115"/>
                </a:cubicBezTo>
                <a:cubicBezTo>
                  <a:pt x="55" y="118"/>
                  <a:pt x="58" y="121"/>
                  <a:pt x="61" y="121"/>
                </a:cubicBezTo>
                <a:cubicBezTo>
                  <a:pt x="64" y="121"/>
                  <a:pt x="67" y="118"/>
                  <a:pt x="67" y="115"/>
                </a:cubicBezTo>
                <a:cubicBezTo>
                  <a:pt x="67" y="67"/>
                  <a:pt x="67" y="67"/>
                  <a:pt x="67" y="67"/>
                </a:cubicBezTo>
                <a:cubicBezTo>
                  <a:pt x="115" y="67"/>
                  <a:pt x="115" y="67"/>
                  <a:pt x="115" y="67"/>
                </a:cubicBezTo>
                <a:cubicBezTo>
                  <a:pt x="119" y="67"/>
                  <a:pt x="121" y="64"/>
                  <a:pt x="121" y="61"/>
                </a:cubicBezTo>
                <a:cubicBezTo>
                  <a:pt x="121" y="57"/>
                  <a:pt x="119" y="55"/>
                  <a:pt x="115" y="55"/>
                </a:cubicBezTo>
                <a:close/>
              </a:path>
            </a:pathLst>
          </a:custGeom>
          <a:solidFill>
            <a:srgbClr val="a8c2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6" name="组合 1"/>
          <p:cNvGrpSpPr/>
          <p:nvPr/>
        </p:nvGrpSpPr>
        <p:grpSpPr>
          <a:xfrm>
            <a:off x="1057320" y="2655720"/>
            <a:ext cx="3311640" cy="1454400"/>
            <a:chOff x="1057320" y="2655720"/>
            <a:chExt cx="3311640" cy="1454400"/>
          </a:xfrm>
        </p:grpSpPr>
        <p:sp>
          <p:nvSpPr>
            <p:cNvPr id="2607" name="文本框 609"/>
            <p:cNvSpPr/>
            <p:nvPr/>
          </p:nvSpPr>
          <p:spPr>
            <a:xfrm>
              <a:off x="1130400" y="2699280"/>
              <a:ext cx="3238560" cy="1410840"/>
            </a:xfrm>
            <a:custGeom>
              <a:avLst/>
              <a:gdLst/>
              <a:ahLst/>
              <a:rect l="l" t="t" r="r" b="b"/>
              <a:pathLst>
                <a:path w="3238202" h="1410296">
                  <a:moveTo>
                    <a:pt x="1410295" y="458689"/>
                  </a:moveTo>
                  <a:lnTo>
                    <a:pt x="1444526" y="588765"/>
                  </a:lnTo>
                  <a:lnTo>
                    <a:pt x="842069" y="598033"/>
                  </a:lnTo>
                  <a:lnTo>
                    <a:pt x="842069" y="835224"/>
                  </a:lnTo>
                  <a:lnTo>
                    <a:pt x="1478756" y="835224"/>
                  </a:lnTo>
                  <a:lnTo>
                    <a:pt x="1478756" y="978992"/>
                  </a:lnTo>
                  <a:lnTo>
                    <a:pt x="842069" y="978992"/>
                  </a:lnTo>
                  <a:lnTo>
                    <a:pt x="842069" y="1074837"/>
                  </a:lnTo>
                  <a:lnTo>
                    <a:pt x="1492448" y="1300758"/>
                  </a:lnTo>
                  <a:lnTo>
                    <a:pt x="1382911" y="1410296"/>
                  </a:lnTo>
                  <a:lnTo>
                    <a:pt x="759916" y="1191221"/>
                  </a:lnTo>
                  <a:lnTo>
                    <a:pt x="136922" y="1410296"/>
                  </a:lnTo>
                  <a:lnTo>
                    <a:pt x="34230" y="1300758"/>
                  </a:lnTo>
                  <a:lnTo>
                    <a:pt x="670917" y="1074837"/>
                  </a:lnTo>
                  <a:lnTo>
                    <a:pt x="670917" y="978992"/>
                  </a:lnTo>
                  <a:lnTo>
                    <a:pt x="41076" y="978992"/>
                  </a:lnTo>
                  <a:lnTo>
                    <a:pt x="41076" y="835224"/>
                  </a:lnTo>
                  <a:lnTo>
                    <a:pt x="670917" y="835224"/>
                  </a:lnTo>
                  <a:lnTo>
                    <a:pt x="670917" y="600666"/>
                  </a:lnTo>
                  <a:lnTo>
                    <a:pt x="109537" y="609303"/>
                  </a:lnTo>
                  <a:lnTo>
                    <a:pt x="75307" y="479227"/>
                  </a:lnTo>
                  <a:close/>
                  <a:moveTo>
                    <a:pt x="1786830" y="6847"/>
                  </a:moveTo>
                  <a:lnTo>
                    <a:pt x="3224510" y="6847"/>
                  </a:lnTo>
                  <a:lnTo>
                    <a:pt x="3224510" y="150614"/>
                  </a:lnTo>
                  <a:lnTo>
                    <a:pt x="2841129" y="150614"/>
                  </a:lnTo>
                  <a:lnTo>
                    <a:pt x="2841129" y="698302"/>
                  </a:lnTo>
                  <a:lnTo>
                    <a:pt x="3190279" y="314921"/>
                  </a:lnTo>
                  <a:lnTo>
                    <a:pt x="3238202" y="472381"/>
                  </a:lnTo>
                  <a:lnTo>
                    <a:pt x="2841129" y="903685"/>
                  </a:lnTo>
                  <a:lnTo>
                    <a:pt x="2841129" y="1259682"/>
                  </a:lnTo>
                  <a:lnTo>
                    <a:pt x="3238202" y="1259682"/>
                  </a:lnTo>
                  <a:lnTo>
                    <a:pt x="3231356" y="1410296"/>
                  </a:lnTo>
                  <a:lnTo>
                    <a:pt x="2676822" y="1410296"/>
                  </a:lnTo>
                  <a:lnTo>
                    <a:pt x="2676822" y="150614"/>
                  </a:lnTo>
                  <a:lnTo>
                    <a:pt x="2238672" y="150614"/>
                  </a:lnTo>
                  <a:lnTo>
                    <a:pt x="2090210" y="376536"/>
                  </a:lnTo>
                  <a:lnTo>
                    <a:pt x="2437209" y="376536"/>
                  </a:lnTo>
                  <a:lnTo>
                    <a:pt x="2437209" y="800993"/>
                  </a:lnTo>
                  <a:lnTo>
                    <a:pt x="1910060" y="1410296"/>
                  </a:lnTo>
                  <a:lnTo>
                    <a:pt x="1752600" y="1376065"/>
                  </a:lnTo>
                  <a:lnTo>
                    <a:pt x="2019592" y="1056377"/>
                  </a:lnTo>
                  <a:lnTo>
                    <a:pt x="1752600" y="800993"/>
                  </a:lnTo>
                  <a:lnTo>
                    <a:pt x="1903214" y="739379"/>
                  </a:lnTo>
                  <a:lnTo>
                    <a:pt x="2115084" y="942037"/>
                  </a:lnTo>
                  <a:lnTo>
                    <a:pt x="2272903" y="753071"/>
                  </a:lnTo>
                  <a:lnTo>
                    <a:pt x="2272903" y="520304"/>
                  </a:lnTo>
                  <a:lnTo>
                    <a:pt x="1995734" y="520304"/>
                  </a:lnTo>
                  <a:lnTo>
                    <a:pt x="1923752" y="629841"/>
                  </a:lnTo>
                  <a:lnTo>
                    <a:pt x="1766292" y="595611"/>
                  </a:lnTo>
                  <a:lnTo>
                    <a:pt x="2060674" y="150614"/>
                  </a:lnTo>
                  <a:lnTo>
                    <a:pt x="1786830" y="150614"/>
                  </a:lnTo>
                  <a:close/>
                  <a:moveTo>
                    <a:pt x="903684" y="0"/>
                  </a:moveTo>
                  <a:lnTo>
                    <a:pt x="1067990" y="34231"/>
                  </a:lnTo>
                  <a:lnTo>
                    <a:pt x="1492448" y="34231"/>
                  </a:lnTo>
                  <a:lnTo>
                    <a:pt x="1492448" y="171153"/>
                  </a:lnTo>
                  <a:lnTo>
                    <a:pt x="1278136" y="171153"/>
                  </a:lnTo>
                  <a:lnTo>
                    <a:pt x="1430833" y="301229"/>
                  </a:lnTo>
                  <a:lnTo>
                    <a:pt x="1259681" y="342305"/>
                  </a:lnTo>
                  <a:lnTo>
                    <a:pt x="1061144" y="171153"/>
                  </a:lnTo>
                  <a:lnTo>
                    <a:pt x="991923" y="171153"/>
                  </a:lnTo>
                  <a:lnTo>
                    <a:pt x="896838" y="342305"/>
                  </a:lnTo>
                  <a:lnTo>
                    <a:pt x="732532" y="308075"/>
                  </a:lnTo>
                  <a:close/>
                  <a:moveTo>
                    <a:pt x="171152" y="0"/>
                  </a:moveTo>
                  <a:lnTo>
                    <a:pt x="335458" y="34231"/>
                  </a:lnTo>
                  <a:lnTo>
                    <a:pt x="759916" y="34231"/>
                  </a:lnTo>
                  <a:lnTo>
                    <a:pt x="759916" y="171153"/>
                  </a:lnTo>
                  <a:lnTo>
                    <a:pt x="545604" y="171153"/>
                  </a:lnTo>
                  <a:lnTo>
                    <a:pt x="698301" y="301229"/>
                  </a:lnTo>
                  <a:lnTo>
                    <a:pt x="527149" y="342305"/>
                  </a:lnTo>
                  <a:lnTo>
                    <a:pt x="328612" y="171153"/>
                  </a:lnTo>
                  <a:lnTo>
                    <a:pt x="259391" y="171153"/>
                  </a:lnTo>
                  <a:lnTo>
                    <a:pt x="164306" y="342305"/>
                  </a:lnTo>
                  <a:lnTo>
                    <a:pt x="0" y="308075"/>
                  </a:lnTo>
                  <a:close/>
                </a:path>
              </a:pathLst>
            </a:custGeom>
            <a:solidFill>
              <a:srgbClr val="42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文本框 613"/>
            <p:cNvSpPr/>
            <p:nvPr/>
          </p:nvSpPr>
          <p:spPr>
            <a:xfrm>
              <a:off x="1057320" y="2655720"/>
              <a:ext cx="3238560" cy="1410840"/>
            </a:xfrm>
            <a:custGeom>
              <a:avLst/>
              <a:gdLst/>
              <a:ahLst/>
              <a:rect l="l" t="t" r="r" b="b"/>
              <a:pathLst>
                <a:path w="3238202" h="1410296">
                  <a:moveTo>
                    <a:pt x="1410295" y="458689"/>
                  </a:moveTo>
                  <a:lnTo>
                    <a:pt x="1444526" y="588765"/>
                  </a:lnTo>
                  <a:lnTo>
                    <a:pt x="842069" y="598033"/>
                  </a:lnTo>
                  <a:lnTo>
                    <a:pt x="842069" y="835224"/>
                  </a:lnTo>
                  <a:lnTo>
                    <a:pt x="1478756" y="835224"/>
                  </a:lnTo>
                  <a:lnTo>
                    <a:pt x="1478756" y="978992"/>
                  </a:lnTo>
                  <a:lnTo>
                    <a:pt x="842069" y="978992"/>
                  </a:lnTo>
                  <a:lnTo>
                    <a:pt x="842069" y="1074837"/>
                  </a:lnTo>
                  <a:lnTo>
                    <a:pt x="1492448" y="1300758"/>
                  </a:lnTo>
                  <a:lnTo>
                    <a:pt x="1382911" y="1410296"/>
                  </a:lnTo>
                  <a:lnTo>
                    <a:pt x="759916" y="1191221"/>
                  </a:lnTo>
                  <a:lnTo>
                    <a:pt x="136922" y="1410296"/>
                  </a:lnTo>
                  <a:lnTo>
                    <a:pt x="34230" y="1300758"/>
                  </a:lnTo>
                  <a:lnTo>
                    <a:pt x="670917" y="1074837"/>
                  </a:lnTo>
                  <a:lnTo>
                    <a:pt x="670917" y="978992"/>
                  </a:lnTo>
                  <a:lnTo>
                    <a:pt x="41076" y="978992"/>
                  </a:lnTo>
                  <a:lnTo>
                    <a:pt x="41076" y="835224"/>
                  </a:lnTo>
                  <a:lnTo>
                    <a:pt x="670917" y="835224"/>
                  </a:lnTo>
                  <a:lnTo>
                    <a:pt x="670917" y="600666"/>
                  </a:lnTo>
                  <a:lnTo>
                    <a:pt x="109537" y="609303"/>
                  </a:lnTo>
                  <a:lnTo>
                    <a:pt x="75307" y="479227"/>
                  </a:lnTo>
                  <a:close/>
                  <a:moveTo>
                    <a:pt x="1786830" y="6847"/>
                  </a:moveTo>
                  <a:lnTo>
                    <a:pt x="3224510" y="6847"/>
                  </a:lnTo>
                  <a:lnTo>
                    <a:pt x="3224510" y="150614"/>
                  </a:lnTo>
                  <a:lnTo>
                    <a:pt x="2841129" y="150614"/>
                  </a:lnTo>
                  <a:lnTo>
                    <a:pt x="2841129" y="698302"/>
                  </a:lnTo>
                  <a:lnTo>
                    <a:pt x="3190279" y="314921"/>
                  </a:lnTo>
                  <a:lnTo>
                    <a:pt x="3238202" y="472381"/>
                  </a:lnTo>
                  <a:lnTo>
                    <a:pt x="2841129" y="903685"/>
                  </a:lnTo>
                  <a:lnTo>
                    <a:pt x="2841129" y="1259682"/>
                  </a:lnTo>
                  <a:lnTo>
                    <a:pt x="3238202" y="1259682"/>
                  </a:lnTo>
                  <a:lnTo>
                    <a:pt x="3231356" y="1410296"/>
                  </a:lnTo>
                  <a:lnTo>
                    <a:pt x="2676822" y="1410296"/>
                  </a:lnTo>
                  <a:lnTo>
                    <a:pt x="2676822" y="150614"/>
                  </a:lnTo>
                  <a:lnTo>
                    <a:pt x="2238672" y="150614"/>
                  </a:lnTo>
                  <a:lnTo>
                    <a:pt x="2090210" y="376536"/>
                  </a:lnTo>
                  <a:lnTo>
                    <a:pt x="2437209" y="376536"/>
                  </a:lnTo>
                  <a:lnTo>
                    <a:pt x="2437209" y="800993"/>
                  </a:lnTo>
                  <a:lnTo>
                    <a:pt x="1910060" y="1410296"/>
                  </a:lnTo>
                  <a:lnTo>
                    <a:pt x="1752600" y="1376065"/>
                  </a:lnTo>
                  <a:lnTo>
                    <a:pt x="2019592" y="1056377"/>
                  </a:lnTo>
                  <a:lnTo>
                    <a:pt x="1752600" y="800993"/>
                  </a:lnTo>
                  <a:lnTo>
                    <a:pt x="1903214" y="739379"/>
                  </a:lnTo>
                  <a:lnTo>
                    <a:pt x="2115084" y="942037"/>
                  </a:lnTo>
                  <a:lnTo>
                    <a:pt x="2272903" y="753071"/>
                  </a:lnTo>
                  <a:lnTo>
                    <a:pt x="2272903" y="520304"/>
                  </a:lnTo>
                  <a:lnTo>
                    <a:pt x="1995734" y="520304"/>
                  </a:lnTo>
                  <a:lnTo>
                    <a:pt x="1923752" y="629841"/>
                  </a:lnTo>
                  <a:lnTo>
                    <a:pt x="1766292" y="595611"/>
                  </a:lnTo>
                  <a:lnTo>
                    <a:pt x="2060674" y="150614"/>
                  </a:lnTo>
                  <a:lnTo>
                    <a:pt x="1786830" y="150614"/>
                  </a:lnTo>
                  <a:close/>
                  <a:moveTo>
                    <a:pt x="903684" y="0"/>
                  </a:moveTo>
                  <a:lnTo>
                    <a:pt x="1067990" y="34231"/>
                  </a:lnTo>
                  <a:lnTo>
                    <a:pt x="1492448" y="34231"/>
                  </a:lnTo>
                  <a:lnTo>
                    <a:pt x="1492448" y="171153"/>
                  </a:lnTo>
                  <a:lnTo>
                    <a:pt x="1278136" y="171153"/>
                  </a:lnTo>
                  <a:lnTo>
                    <a:pt x="1430833" y="301229"/>
                  </a:lnTo>
                  <a:lnTo>
                    <a:pt x="1259681" y="342305"/>
                  </a:lnTo>
                  <a:lnTo>
                    <a:pt x="1061144" y="171153"/>
                  </a:lnTo>
                  <a:lnTo>
                    <a:pt x="991923" y="171153"/>
                  </a:lnTo>
                  <a:lnTo>
                    <a:pt x="896838" y="342305"/>
                  </a:lnTo>
                  <a:lnTo>
                    <a:pt x="732532" y="308075"/>
                  </a:lnTo>
                  <a:close/>
                  <a:moveTo>
                    <a:pt x="171152" y="0"/>
                  </a:moveTo>
                  <a:lnTo>
                    <a:pt x="335458" y="34231"/>
                  </a:lnTo>
                  <a:lnTo>
                    <a:pt x="759916" y="34231"/>
                  </a:lnTo>
                  <a:lnTo>
                    <a:pt x="759916" y="171153"/>
                  </a:lnTo>
                  <a:lnTo>
                    <a:pt x="545604" y="171153"/>
                  </a:lnTo>
                  <a:lnTo>
                    <a:pt x="698301" y="301229"/>
                  </a:lnTo>
                  <a:lnTo>
                    <a:pt x="527149" y="342305"/>
                  </a:lnTo>
                  <a:lnTo>
                    <a:pt x="328612" y="171153"/>
                  </a:lnTo>
                  <a:lnTo>
                    <a:pt x="259391" y="171153"/>
                  </a:lnTo>
                  <a:lnTo>
                    <a:pt x="164306" y="342305"/>
                  </a:lnTo>
                  <a:lnTo>
                    <a:pt x="0" y="3080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2" dur="3500" fill="hold"/>
                                        <p:tgtEl>
                                          <p:spTgt spid="2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4" dur="1000" fill="hold"/>
                                        <p:tgtEl>
                                          <p:spTgt spid="26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0" dur="2500" fill="hold"/>
                                        <p:tgtEl>
                                          <p:spTgt spid="2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2" dur="1000" fill="hold"/>
                                        <p:tgtEl>
                                          <p:spTgt spid="260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8" dur="2250" fill="hold"/>
                                        <p:tgtEl>
                                          <p:spTgt spid="2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9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0" dur="500" fill="hold"/>
                                        <p:tgtEl>
                                          <p:spTgt spid="26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2" dur="4000" fill="hold"/>
                                        <p:tgtEl>
                                          <p:spTgt spid="2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矩形 283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828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文本框 289"/>
          <p:cNvSpPr/>
          <p:nvPr/>
        </p:nvSpPr>
        <p:spPr>
          <a:xfrm>
            <a:off x="1125360" y="976320"/>
            <a:ext cx="1659240" cy="407880"/>
          </a:xfrm>
          <a:custGeom>
            <a:avLst/>
            <a:gdLst/>
            <a:ahLst/>
            <a:rect l="l" t="t" r="r" b="b"/>
            <a:pathLst>
              <a:path w="16601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0438" y="17748"/>
                </a:moveTo>
                <a:lnTo>
                  <a:pt x="1660178" y="17748"/>
                </a:lnTo>
                <a:lnTo>
                  <a:pt x="1660178" y="384535"/>
                </a:lnTo>
                <a:lnTo>
                  <a:pt x="1360438" y="384535"/>
                </a:lnTo>
                <a:lnTo>
                  <a:pt x="1360438" y="339180"/>
                </a:lnTo>
                <a:lnTo>
                  <a:pt x="1606934" y="339180"/>
                </a:lnTo>
                <a:lnTo>
                  <a:pt x="1606934" y="220861"/>
                </a:lnTo>
                <a:lnTo>
                  <a:pt x="1399877" y="220861"/>
                </a:lnTo>
                <a:lnTo>
                  <a:pt x="1399877" y="175506"/>
                </a:lnTo>
                <a:lnTo>
                  <a:pt x="1606934" y="175506"/>
                </a:lnTo>
                <a:lnTo>
                  <a:pt x="1606934" y="63103"/>
                </a:lnTo>
                <a:lnTo>
                  <a:pt x="1360438" y="63103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文本框 290"/>
          <p:cNvSpPr/>
          <p:nvPr/>
        </p:nvSpPr>
        <p:spPr>
          <a:xfrm>
            <a:off x="1122480" y="1797120"/>
            <a:ext cx="3473280" cy="415800"/>
          </a:xfrm>
          <a:custGeom>
            <a:avLst/>
            <a:gdLst/>
            <a:ahLst/>
            <a:rect l="l" t="t" r="r" b="b"/>
            <a:pathLst>
              <a:path w="3472197" h="416087">
                <a:moveTo>
                  <a:pt x="1058949" y="252413"/>
                </a:moveTo>
                <a:lnTo>
                  <a:pt x="1106276" y="264245"/>
                </a:lnTo>
                <a:lnTo>
                  <a:pt x="1056977" y="416087"/>
                </a:lnTo>
                <a:lnTo>
                  <a:pt x="1009650" y="406227"/>
                </a:lnTo>
                <a:close/>
                <a:moveTo>
                  <a:pt x="49299" y="252413"/>
                </a:moveTo>
                <a:lnTo>
                  <a:pt x="96626" y="264245"/>
                </a:lnTo>
                <a:lnTo>
                  <a:pt x="47327" y="416087"/>
                </a:lnTo>
                <a:lnTo>
                  <a:pt x="0" y="406227"/>
                </a:lnTo>
                <a:close/>
                <a:moveTo>
                  <a:pt x="583704" y="232693"/>
                </a:moveTo>
                <a:lnTo>
                  <a:pt x="583704" y="372703"/>
                </a:lnTo>
                <a:lnTo>
                  <a:pt x="869640" y="372703"/>
                </a:lnTo>
                <a:lnTo>
                  <a:pt x="869640" y="232693"/>
                </a:lnTo>
                <a:close/>
                <a:moveTo>
                  <a:pt x="2184945" y="220861"/>
                </a:moveTo>
                <a:lnTo>
                  <a:pt x="2184945" y="372703"/>
                </a:lnTo>
                <a:lnTo>
                  <a:pt x="2240161" y="372703"/>
                </a:lnTo>
                <a:lnTo>
                  <a:pt x="2240161" y="220861"/>
                </a:lnTo>
                <a:close/>
                <a:moveTo>
                  <a:pt x="1770831" y="175506"/>
                </a:moveTo>
                <a:lnTo>
                  <a:pt x="1826046" y="220861"/>
                </a:lnTo>
                <a:lnTo>
                  <a:pt x="1782663" y="238609"/>
                </a:lnTo>
                <a:lnTo>
                  <a:pt x="1725476" y="195226"/>
                </a:lnTo>
                <a:close/>
                <a:moveTo>
                  <a:pt x="1161492" y="167618"/>
                </a:moveTo>
                <a:lnTo>
                  <a:pt x="1437568" y="167618"/>
                </a:lnTo>
                <a:lnTo>
                  <a:pt x="1437568" y="244525"/>
                </a:lnTo>
                <a:lnTo>
                  <a:pt x="1333341" y="314277"/>
                </a:lnTo>
                <a:lnTo>
                  <a:pt x="1449400" y="388479"/>
                </a:lnTo>
                <a:lnTo>
                  <a:pt x="1411932" y="416087"/>
                </a:lnTo>
                <a:lnTo>
                  <a:pt x="1293466" y="340962"/>
                </a:lnTo>
                <a:lnTo>
                  <a:pt x="1181211" y="416087"/>
                </a:lnTo>
                <a:lnTo>
                  <a:pt x="1143744" y="390451"/>
                </a:lnTo>
                <a:lnTo>
                  <a:pt x="1254089" y="315991"/>
                </a:lnTo>
                <a:lnTo>
                  <a:pt x="1169380" y="262273"/>
                </a:lnTo>
                <a:lnTo>
                  <a:pt x="1208819" y="234665"/>
                </a:lnTo>
                <a:lnTo>
                  <a:pt x="1293949" y="289093"/>
                </a:lnTo>
                <a:lnTo>
                  <a:pt x="1386297" y="226777"/>
                </a:lnTo>
                <a:lnTo>
                  <a:pt x="1386297" y="209029"/>
                </a:lnTo>
                <a:lnTo>
                  <a:pt x="1161492" y="209029"/>
                </a:lnTo>
                <a:close/>
                <a:moveTo>
                  <a:pt x="151842" y="167618"/>
                </a:moveTo>
                <a:lnTo>
                  <a:pt x="427918" y="167618"/>
                </a:lnTo>
                <a:lnTo>
                  <a:pt x="427918" y="244525"/>
                </a:lnTo>
                <a:lnTo>
                  <a:pt x="323690" y="314277"/>
                </a:lnTo>
                <a:lnTo>
                  <a:pt x="439750" y="388479"/>
                </a:lnTo>
                <a:lnTo>
                  <a:pt x="402282" y="416087"/>
                </a:lnTo>
                <a:lnTo>
                  <a:pt x="283816" y="340962"/>
                </a:lnTo>
                <a:lnTo>
                  <a:pt x="171561" y="416087"/>
                </a:lnTo>
                <a:lnTo>
                  <a:pt x="134094" y="390451"/>
                </a:lnTo>
                <a:lnTo>
                  <a:pt x="244439" y="315991"/>
                </a:lnTo>
                <a:lnTo>
                  <a:pt x="159730" y="262273"/>
                </a:lnTo>
                <a:lnTo>
                  <a:pt x="199169" y="234665"/>
                </a:lnTo>
                <a:lnTo>
                  <a:pt x="284299" y="289093"/>
                </a:lnTo>
                <a:lnTo>
                  <a:pt x="376646" y="226777"/>
                </a:lnTo>
                <a:lnTo>
                  <a:pt x="376646" y="209029"/>
                </a:lnTo>
                <a:lnTo>
                  <a:pt x="151842" y="209029"/>
                </a:lnTo>
                <a:close/>
                <a:moveTo>
                  <a:pt x="1029370" y="128179"/>
                </a:moveTo>
                <a:lnTo>
                  <a:pt x="1102333" y="179450"/>
                </a:lnTo>
                <a:lnTo>
                  <a:pt x="1084585" y="224805"/>
                </a:lnTo>
                <a:lnTo>
                  <a:pt x="1011622" y="171562"/>
                </a:lnTo>
                <a:close/>
                <a:moveTo>
                  <a:pt x="19720" y="128179"/>
                </a:moveTo>
                <a:lnTo>
                  <a:pt x="92682" y="179450"/>
                </a:lnTo>
                <a:lnTo>
                  <a:pt x="74935" y="224805"/>
                </a:lnTo>
                <a:lnTo>
                  <a:pt x="1972" y="171562"/>
                </a:lnTo>
                <a:close/>
                <a:moveTo>
                  <a:pt x="2926184" y="114375"/>
                </a:moveTo>
                <a:lnTo>
                  <a:pt x="2926184" y="216917"/>
                </a:lnTo>
                <a:lnTo>
                  <a:pt x="3091830" y="216917"/>
                </a:lnTo>
                <a:lnTo>
                  <a:pt x="3091830" y="114375"/>
                </a:lnTo>
                <a:close/>
                <a:moveTo>
                  <a:pt x="2583284" y="114375"/>
                </a:moveTo>
                <a:lnTo>
                  <a:pt x="2583284" y="216917"/>
                </a:lnTo>
                <a:lnTo>
                  <a:pt x="2748930" y="216917"/>
                </a:lnTo>
                <a:lnTo>
                  <a:pt x="2748930" y="114375"/>
                </a:lnTo>
                <a:close/>
                <a:moveTo>
                  <a:pt x="1668289" y="110431"/>
                </a:moveTo>
                <a:lnTo>
                  <a:pt x="1932533" y="110431"/>
                </a:lnTo>
                <a:lnTo>
                  <a:pt x="1932533" y="226777"/>
                </a:lnTo>
                <a:lnTo>
                  <a:pt x="1820030" y="305040"/>
                </a:lnTo>
                <a:lnTo>
                  <a:pt x="1950281" y="390451"/>
                </a:lnTo>
                <a:lnTo>
                  <a:pt x="1912813" y="416087"/>
                </a:lnTo>
                <a:lnTo>
                  <a:pt x="1783148" y="330697"/>
                </a:lnTo>
                <a:lnTo>
                  <a:pt x="1660401" y="416087"/>
                </a:lnTo>
                <a:lnTo>
                  <a:pt x="1626877" y="390451"/>
                </a:lnTo>
                <a:lnTo>
                  <a:pt x="1746612" y="306637"/>
                </a:lnTo>
                <a:lnTo>
                  <a:pt x="1670261" y="256357"/>
                </a:lnTo>
                <a:lnTo>
                  <a:pt x="1709700" y="232693"/>
                </a:lnTo>
                <a:lnTo>
                  <a:pt x="1783300" y="280955"/>
                </a:lnTo>
                <a:lnTo>
                  <a:pt x="1883234" y="211001"/>
                </a:lnTo>
                <a:lnTo>
                  <a:pt x="1883234" y="153814"/>
                </a:lnTo>
                <a:lnTo>
                  <a:pt x="1697868" y="153814"/>
                </a:lnTo>
                <a:lnTo>
                  <a:pt x="1660401" y="228749"/>
                </a:lnTo>
                <a:lnTo>
                  <a:pt x="1632793" y="193254"/>
                </a:lnTo>
                <a:close/>
                <a:moveTo>
                  <a:pt x="1571662" y="102543"/>
                </a:moveTo>
                <a:lnTo>
                  <a:pt x="1607158" y="130151"/>
                </a:lnTo>
                <a:lnTo>
                  <a:pt x="1556450" y="248469"/>
                </a:lnTo>
                <a:lnTo>
                  <a:pt x="1587438" y="248469"/>
                </a:lnTo>
                <a:lnTo>
                  <a:pt x="1587438" y="416087"/>
                </a:lnTo>
                <a:lnTo>
                  <a:pt x="1538138" y="416087"/>
                </a:lnTo>
                <a:lnTo>
                  <a:pt x="1538138" y="260649"/>
                </a:lnTo>
                <a:lnTo>
                  <a:pt x="1514475" y="242553"/>
                </a:lnTo>
                <a:close/>
                <a:moveTo>
                  <a:pt x="3198093" y="69019"/>
                </a:moveTo>
                <a:lnTo>
                  <a:pt x="3472197" y="69019"/>
                </a:lnTo>
                <a:lnTo>
                  <a:pt x="3472197" y="112403"/>
                </a:lnTo>
                <a:lnTo>
                  <a:pt x="3359795" y="112403"/>
                </a:lnTo>
                <a:lnTo>
                  <a:pt x="3359795" y="386507"/>
                </a:lnTo>
                <a:lnTo>
                  <a:pt x="3310495" y="386507"/>
                </a:lnTo>
                <a:lnTo>
                  <a:pt x="3310495" y="112403"/>
                </a:lnTo>
                <a:lnTo>
                  <a:pt x="3198093" y="112403"/>
                </a:lnTo>
                <a:close/>
                <a:moveTo>
                  <a:pt x="2874913" y="69019"/>
                </a:moveTo>
                <a:lnTo>
                  <a:pt x="3143101" y="69019"/>
                </a:lnTo>
                <a:lnTo>
                  <a:pt x="3143101" y="262273"/>
                </a:lnTo>
                <a:lnTo>
                  <a:pt x="2926184" y="262273"/>
                </a:lnTo>
                <a:lnTo>
                  <a:pt x="2926184" y="386507"/>
                </a:lnTo>
                <a:lnTo>
                  <a:pt x="2874913" y="386507"/>
                </a:lnTo>
                <a:close/>
                <a:moveTo>
                  <a:pt x="2532013" y="69019"/>
                </a:moveTo>
                <a:lnTo>
                  <a:pt x="2800201" y="69019"/>
                </a:lnTo>
                <a:lnTo>
                  <a:pt x="2800201" y="262273"/>
                </a:lnTo>
                <a:lnTo>
                  <a:pt x="2583284" y="262273"/>
                </a:lnTo>
                <a:lnTo>
                  <a:pt x="2583284" y="386507"/>
                </a:lnTo>
                <a:lnTo>
                  <a:pt x="2532013" y="386507"/>
                </a:lnTo>
                <a:close/>
                <a:moveTo>
                  <a:pt x="583704" y="57188"/>
                </a:moveTo>
                <a:lnTo>
                  <a:pt x="583704" y="189310"/>
                </a:lnTo>
                <a:lnTo>
                  <a:pt x="869640" y="189310"/>
                </a:lnTo>
                <a:lnTo>
                  <a:pt x="869640" y="57188"/>
                </a:lnTo>
                <a:close/>
                <a:moveTo>
                  <a:pt x="1175296" y="15776"/>
                </a:moveTo>
                <a:lnTo>
                  <a:pt x="1425736" y="15776"/>
                </a:lnTo>
                <a:lnTo>
                  <a:pt x="1443484" y="118319"/>
                </a:lnTo>
                <a:lnTo>
                  <a:pt x="1396156" y="126207"/>
                </a:lnTo>
                <a:lnTo>
                  <a:pt x="1384325" y="59160"/>
                </a:lnTo>
                <a:lnTo>
                  <a:pt x="1216707" y="59160"/>
                </a:lnTo>
                <a:lnTo>
                  <a:pt x="1204875" y="126207"/>
                </a:lnTo>
                <a:lnTo>
                  <a:pt x="1155576" y="120291"/>
                </a:lnTo>
                <a:close/>
                <a:moveTo>
                  <a:pt x="165645" y="15776"/>
                </a:moveTo>
                <a:lnTo>
                  <a:pt x="416086" y="15776"/>
                </a:lnTo>
                <a:lnTo>
                  <a:pt x="433834" y="118319"/>
                </a:lnTo>
                <a:lnTo>
                  <a:pt x="386506" y="126207"/>
                </a:lnTo>
                <a:lnTo>
                  <a:pt x="374675" y="59160"/>
                </a:lnTo>
                <a:lnTo>
                  <a:pt x="207057" y="59160"/>
                </a:lnTo>
                <a:lnTo>
                  <a:pt x="195225" y="126207"/>
                </a:lnTo>
                <a:lnTo>
                  <a:pt x="145926" y="120291"/>
                </a:lnTo>
                <a:close/>
                <a:moveTo>
                  <a:pt x="534404" y="13804"/>
                </a:moveTo>
                <a:lnTo>
                  <a:pt x="918939" y="13804"/>
                </a:lnTo>
                <a:lnTo>
                  <a:pt x="918939" y="416087"/>
                </a:lnTo>
                <a:lnTo>
                  <a:pt x="534404" y="416087"/>
                </a:lnTo>
                <a:close/>
                <a:moveTo>
                  <a:pt x="2186917" y="7888"/>
                </a:moveTo>
                <a:lnTo>
                  <a:pt x="2236217" y="7888"/>
                </a:lnTo>
                <a:lnTo>
                  <a:pt x="2236217" y="57188"/>
                </a:lnTo>
                <a:lnTo>
                  <a:pt x="2295376" y="57188"/>
                </a:lnTo>
                <a:lnTo>
                  <a:pt x="2295376" y="98599"/>
                </a:lnTo>
                <a:lnTo>
                  <a:pt x="2236217" y="98599"/>
                </a:lnTo>
                <a:lnTo>
                  <a:pt x="2236217" y="177478"/>
                </a:lnTo>
                <a:lnTo>
                  <a:pt x="2289460" y="177478"/>
                </a:lnTo>
                <a:lnTo>
                  <a:pt x="2289460" y="416087"/>
                </a:lnTo>
                <a:lnTo>
                  <a:pt x="2135646" y="416087"/>
                </a:lnTo>
                <a:lnTo>
                  <a:pt x="2135646" y="177478"/>
                </a:lnTo>
                <a:lnTo>
                  <a:pt x="2186917" y="177478"/>
                </a:lnTo>
                <a:lnTo>
                  <a:pt x="2186917" y="98599"/>
                </a:lnTo>
                <a:lnTo>
                  <a:pt x="2125786" y="98599"/>
                </a:lnTo>
                <a:lnTo>
                  <a:pt x="2125786" y="57188"/>
                </a:lnTo>
                <a:lnTo>
                  <a:pt x="2186917" y="57188"/>
                </a:lnTo>
                <a:close/>
                <a:moveTo>
                  <a:pt x="2068599" y="7888"/>
                </a:moveTo>
                <a:lnTo>
                  <a:pt x="2106067" y="35496"/>
                </a:lnTo>
                <a:lnTo>
                  <a:pt x="2062726" y="193254"/>
                </a:lnTo>
                <a:lnTo>
                  <a:pt x="2092263" y="193254"/>
                </a:lnTo>
                <a:lnTo>
                  <a:pt x="2092263" y="416087"/>
                </a:lnTo>
                <a:lnTo>
                  <a:pt x="2042963" y="416087"/>
                </a:lnTo>
                <a:lnTo>
                  <a:pt x="2042963" y="204774"/>
                </a:lnTo>
                <a:lnTo>
                  <a:pt x="2019300" y="187338"/>
                </a:lnTo>
                <a:close/>
                <a:moveTo>
                  <a:pt x="1037257" y="7888"/>
                </a:moveTo>
                <a:lnTo>
                  <a:pt x="1110220" y="59160"/>
                </a:lnTo>
                <a:lnTo>
                  <a:pt x="1092473" y="102543"/>
                </a:lnTo>
                <a:lnTo>
                  <a:pt x="1021482" y="53244"/>
                </a:lnTo>
                <a:close/>
                <a:moveTo>
                  <a:pt x="27607" y="7888"/>
                </a:moveTo>
                <a:lnTo>
                  <a:pt x="100570" y="59160"/>
                </a:lnTo>
                <a:lnTo>
                  <a:pt x="82823" y="102543"/>
                </a:lnTo>
                <a:lnTo>
                  <a:pt x="11832" y="53244"/>
                </a:lnTo>
                <a:close/>
                <a:moveTo>
                  <a:pt x="2319040" y="3944"/>
                </a:moveTo>
                <a:lnTo>
                  <a:pt x="2346289" y="19720"/>
                </a:lnTo>
                <a:lnTo>
                  <a:pt x="2459050" y="19720"/>
                </a:lnTo>
                <a:lnTo>
                  <a:pt x="2459050" y="63103"/>
                </a:lnTo>
                <a:lnTo>
                  <a:pt x="2447218" y="63103"/>
                </a:lnTo>
                <a:lnTo>
                  <a:pt x="2447218" y="161702"/>
                </a:lnTo>
                <a:lnTo>
                  <a:pt x="2399760" y="275074"/>
                </a:lnTo>
                <a:lnTo>
                  <a:pt x="2453134" y="378619"/>
                </a:lnTo>
                <a:lnTo>
                  <a:pt x="2429470" y="416087"/>
                </a:lnTo>
                <a:lnTo>
                  <a:pt x="2380066" y="322121"/>
                </a:lnTo>
                <a:lnTo>
                  <a:pt x="2340731" y="416087"/>
                </a:lnTo>
                <a:lnTo>
                  <a:pt x="2313124" y="378619"/>
                </a:lnTo>
                <a:lnTo>
                  <a:pt x="2355853" y="276069"/>
                </a:lnTo>
                <a:lnTo>
                  <a:pt x="2328899" y="224805"/>
                </a:lnTo>
                <a:lnTo>
                  <a:pt x="2354535" y="187338"/>
                </a:lnTo>
                <a:lnTo>
                  <a:pt x="2375709" y="228415"/>
                </a:lnTo>
                <a:lnTo>
                  <a:pt x="2401862" y="165646"/>
                </a:lnTo>
                <a:lnTo>
                  <a:pt x="2401862" y="63103"/>
                </a:lnTo>
                <a:lnTo>
                  <a:pt x="2353732" y="63103"/>
                </a:lnTo>
                <a:lnTo>
                  <a:pt x="2344675" y="185366"/>
                </a:lnTo>
                <a:lnTo>
                  <a:pt x="2307208" y="163674"/>
                </a:lnTo>
                <a:close/>
                <a:moveTo>
                  <a:pt x="1766887" y="0"/>
                </a:moveTo>
                <a:lnTo>
                  <a:pt x="1776747" y="25636"/>
                </a:lnTo>
                <a:lnTo>
                  <a:pt x="1944365" y="25636"/>
                </a:lnTo>
                <a:lnTo>
                  <a:pt x="1944365" y="69019"/>
                </a:lnTo>
                <a:lnTo>
                  <a:pt x="1528279" y="69019"/>
                </a:lnTo>
                <a:lnTo>
                  <a:pt x="1528279" y="25636"/>
                </a:lnTo>
                <a:lnTo>
                  <a:pt x="1723504" y="25636"/>
                </a:lnTo>
                <a:lnTo>
                  <a:pt x="1719560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Freeform 5"/>
          <p:cNvSpPr/>
          <p:nvPr/>
        </p:nvSpPr>
        <p:spPr>
          <a:xfrm>
            <a:off x="5999040" y="3579840"/>
            <a:ext cx="225720" cy="206280"/>
          </a:xfrm>
          <a:custGeom>
            <a:avLst/>
            <a:gdLst/>
            <a:ahLst/>
            <a:rect l="l" t="t" r="r" b="b"/>
            <a:pathLst>
              <a:path w="66" h="60">
                <a:moveTo>
                  <a:pt x="24" y="53"/>
                </a:moveTo>
                <a:cubicBezTo>
                  <a:pt x="23" y="48"/>
                  <a:pt x="24" y="24"/>
                  <a:pt x="24" y="24"/>
                </a:cubicBezTo>
                <a:cubicBezTo>
                  <a:pt x="24" y="24"/>
                  <a:pt x="51" y="24"/>
                  <a:pt x="58" y="24"/>
                </a:cubicBezTo>
                <a:cubicBezTo>
                  <a:pt x="65" y="24"/>
                  <a:pt x="65" y="23"/>
                  <a:pt x="66" y="18"/>
                </a:cubicBezTo>
                <a:cubicBezTo>
                  <a:pt x="66" y="14"/>
                  <a:pt x="66" y="10"/>
                  <a:pt x="66" y="7"/>
                </a:cubicBezTo>
                <a:cubicBezTo>
                  <a:pt x="65" y="2"/>
                  <a:pt x="65" y="1"/>
                  <a:pt x="59" y="1"/>
                </a:cubicBezTo>
                <a:cubicBezTo>
                  <a:pt x="40" y="1"/>
                  <a:pt x="24" y="0"/>
                  <a:pt x="20" y="0"/>
                </a:cubicBezTo>
                <a:cubicBezTo>
                  <a:pt x="2" y="1"/>
                  <a:pt x="0" y="7"/>
                  <a:pt x="0" y="19"/>
                </a:cubicBezTo>
                <a:cubicBezTo>
                  <a:pt x="0" y="22"/>
                  <a:pt x="0" y="35"/>
                  <a:pt x="0" y="52"/>
                </a:cubicBezTo>
                <a:cubicBezTo>
                  <a:pt x="1" y="58"/>
                  <a:pt x="1" y="60"/>
                  <a:pt x="6" y="60"/>
                </a:cubicBezTo>
                <a:cubicBezTo>
                  <a:pt x="12" y="60"/>
                  <a:pt x="13" y="60"/>
                  <a:pt x="18" y="60"/>
                </a:cubicBezTo>
                <a:cubicBezTo>
                  <a:pt x="22" y="60"/>
                  <a:pt x="24" y="59"/>
                  <a:pt x="24" y="5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Freeform 6"/>
          <p:cNvSpPr/>
          <p:nvPr/>
        </p:nvSpPr>
        <p:spPr>
          <a:xfrm>
            <a:off x="5999040" y="4016520"/>
            <a:ext cx="204840" cy="226800"/>
          </a:xfrm>
          <a:custGeom>
            <a:avLst/>
            <a:gdLst/>
            <a:ahLst/>
            <a:rect l="l" t="t" r="r" b="b"/>
            <a:pathLst>
              <a:path w="60" h="66">
                <a:moveTo>
                  <a:pt x="53" y="43"/>
                </a:moveTo>
                <a:cubicBezTo>
                  <a:pt x="48" y="43"/>
                  <a:pt x="24" y="42"/>
                  <a:pt x="24" y="42"/>
                </a:cubicBezTo>
                <a:cubicBezTo>
                  <a:pt x="24" y="42"/>
                  <a:pt x="25" y="15"/>
                  <a:pt x="25" y="8"/>
                </a:cubicBezTo>
                <a:cubicBezTo>
                  <a:pt x="24" y="0"/>
                  <a:pt x="24" y="0"/>
                  <a:pt x="18" y="0"/>
                </a:cubicBezTo>
                <a:cubicBezTo>
                  <a:pt x="14" y="0"/>
                  <a:pt x="11" y="0"/>
                  <a:pt x="7" y="0"/>
                </a:cubicBezTo>
                <a:cubicBezTo>
                  <a:pt x="2" y="0"/>
                  <a:pt x="1" y="0"/>
                  <a:pt x="1" y="6"/>
                </a:cubicBezTo>
                <a:cubicBezTo>
                  <a:pt x="1" y="25"/>
                  <a:pt x="0" y="41"/>
                  <a:pt x="0" y="46"/>
                </a:cubicBezTo>
                <a:cubicBezTo>
                  <a:pt x="0" y="63"/>
                  <a:pt x="7" y="65"/>
                  <a:pt x="19" y="65"/>
                </a:cubicBezTo>
                <a:cubicBezTo>
                  <a:pt x="21" y="65"/>
                  <a:pt x="34" y="66"/>
                  <a:pt x="52" y="66"/>
                </a:cubicBezTo>
                <a:cubicBezTo>
                  <a:pt x="57" y="65"/>
                  <a:pt x="60" y="66"/>
                  <a:pt x="60" y="60"/>
                </a:cubicBezTo>
                <a:cubicBezTo>
                  <a:pt x="60" y="55"/>
                  <a:pt x="60" y="53"/>
                  <a:pt x="60" y="49"/>
                </a:cubicBezTo>
                <a:cubicBezTo>
                  <a:pt x="60" y="44"/>
                  <a:pt x="59" y="43"/>
                  <a:pt x="53" y="4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Freeform 7"/>
          <p:cNvSpPr/>
          <p:nvPr/>
        </p:nvSpPr>
        <p:spPr>
          <a:xfrm>
            <a:off x="6435720" y="3579840"/>
            <a:ext cx="223920" cy="206280"/>
          </a:xfrm>
          <a:custGeom>
            <a:avLst/>
            <a:gdLst/>
            <a:ahLst/>
            <a:rect l="l" t="t" r="r" b="b"/>
            <a:pathLst>
              <a:path w="65" h="60">
                <a:moveTo>
                  <a:pt x="42" y="53"/>
                </a:moveTo>
                <a:cubicBezTo>
                  <a:pt x="42" y="48"/>
                  <a:pt x="42" y="24"/>
                  <a:pt x="42" y="24"/>
                </a:cubicBezTo>
                <a:cubicBezTo>
                  <a:pt x="42" y="24"/>
                  <a:pt x="14" y="24"/>
                  <a:pt x="7" y="24"/>
                </a:cubicBezTo>
                <a:cubicBezTo>
                  <a:pt x="0" y="24"/>
                  <a:pt x="0" y="23"/>
                  <a:pt x="0" y="18"/>
                </a:cubicBezTo>
                <a:cubicBezTo>
                  <a:pt x="0" y="14"/>
                  <a:pt x="0" y="10"/>
                  <a:pt x="0" y="7"/>
                </a:cubicBezTo>
                <a:cubicBezTo>
                  <a:pt x="0" y="2"/>
                  <a:pt x="0" y="1"/>
                  <a:pt x="6" y="1"/>
                </a:cubicBezTo>
                <a:cubicBezTo>
                  <a:pt x="25" y="1"/>
                  <a:pt x="41" y="0"/>
                  <a:pt x="46" y="0"/>
                </a:cubicBezTo>
                <a:cubicBezTo>
                  <a:pt x="63" y="1"/>
                  <a:pt x="65" y="7"/>
                  <a:pt x="65" y="19"/>
                </a:cubicBezTo>
                <a:cubicBezTo>
                  <a:pt x="65" y="22"/>
                  <a:pt x="65" y="35"/>
                  <a:pt x="65" y="52"/>
                </a:cubicBezTo>
                <a:cubicBezTo>
                  <a:pt x="65" y="58"/>
                  <a:pt x="65" y="60"/>
                  <a:pt x="59" y="60"/>
                </a:cubicBezTo>
                <a:cubicBezTo>
                  <a:pt x="54" y="60"/>
                  <a:pt x="52" y="60"/>
                  <a:pt x="48" y="60"/>
                </a:cubicBezTo>
                <a:cubicBezTo>
                  <a:pt x="44" y="60"/>
                  <a:pt x="42" y="59"/>
                  <a:pt x="42" y="5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Freeform 8"/>
          <p:cNvSpPr/>
          <p:nvPr/>
        </p:nvSpPr>
        <p:spPr>
          <a:xfrm>
            <a:off x="6453360" y="4016520"/>
            <a:ext cx="206280" cy="226800"/>
          </a:xfrm>
          <a:custGeom>
            <a:avLst/>
            <a:gdLst/>
            <a:ahLst/>
            <a:rect l="l" t="t" r="r" b="b"/>
            <a:pathLst>
              <a:path w="60" h="66">
                <a:moveTo>
                  <a:pt x="7" y="43"/>
                </a:moveTo>
                <a:cubicBezTo>
                  <a:pt x="13" y="43"/>
                  <a:pt x="37" y="42"/>
                  <a:pt x="37" y="42"/>
                </a:cubicBezTo>
                <a:cubicBezTo>
                  <a:pt x="37" y="42"/>
                  <a:pt x="36" y="15"/>
                  <a:pt x="36" y="8"/>
                </a:cubicBezTo>
                <a:cubicBezTo>
                  <a:pt x="36" y="0"/>
                  <a:pt x="37" y="0"/>
                  <a:pt x="42" y="0"/>
                </a:cubicBezTo>
                <a:cubicBezTo>
                  <a:pt x="46" y="0"/>
                  <a:pt x="50" y="0"/>
                  <a:pt x="53" y="0"/>
                </a:cubicBezTo>
                <a:cubicBezTo>
                  <a:pt x="58" y="0"/>
                  <a:pt x="59" y="0"/>
                  <a:pt x="60" y="6"/>
                </a:cubicBezTo>
                <a:cubicBezTo>
                  <a:pt x="60" y="25"/>
                  <a:pt x="60" y="41"/>
                  <a:pt x="60" y="46"/>
                </a:cubicBezTo>
                <a:cubicBezTo>
                  <a:pt x="60" y="63"/>
                  <a:pt x="54" y="65"/>
                  <a:pt x="42" y="65"/>
                </a:cubicBezTo>
                <a:cubicBezTo>
                  <a:pt x="39" y="65"/>
                  <a:pt x="26" y="66"/>
                  <a:pt x="9" y="66"/>
                </a:cubicBezTo>
                <a:cubicBezTo>
                  <a:pt x="3" y="65"/>
                  <a:pt x="1" y="66"/>
                  <a:pt x="0" y="60"/>
                </a:cubicBezTo>
                <a:cubicBezTo>
                  <a:pt x="0" y="55"/>
                  <a:pt x="0" y="53"/>
                  <a:pt x="0" y="49"/>
                </a:cubicBezTo>
                <a:cubicBezTo>
                  <a:pt x="1" y="44"/>
                  <a:pt x="1" y="43"/>
                  <a:pt x="7" y="43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Freeform 9"/>
          <p:cNvSpPr/>
          <p:nvPr/>
        </p:nvSpPr>
        <p:spPr>
          <a:xfrm>
            <a:off x="6259680" y="2959200"/>
            <a:ext cx="99720" cy="260280"/>
          </a:xfrm>
          <a:custGeom>
            <a:avLst/>
            <a:gdLst/>
            <a:ahLst/>
            <a:rect l="l" t="t" r="r" b="b"/>
            <a:pathLst>
              <a:path w="29" h="76">
                <a:moveTo>
                  <a:pt x="29" y="14"/>
                </a:moveTo>
                <a:cubicBezTo>
                  <a:pt x="29" y="4"/>
                  <a:pt x="23" y="0"/>
                  <a:pt x="15" y="0"/>
                </a:cubicBezTo>
                <a:cubicBezTo>
                  <a:pt x="8" y="0"/>
                  <a:pt x="1" y="4"/>
                  <a:pt x="1" y="12"/>
                </a:cubicBezTo>
                <a:cubicBezTo>
                  <a:pt x="2" y="12"/>
                  <a:pt x="3" y="11"/>
                  <a:pt x="5" y="11"/>
                </a:cubicBezTo>
                <a:cubicBezTo>
                  <a:pt x="9" y="11"/>
                  <a:pt x="10" y="12"/>
                  <a:pt x="10" y="15"/>
                </a:cubicBezTo>
                <a:cubicBezTo>
                  <a:pt x="10" y="16"/>
                  <a:pt x="10" y="17"/>
                  <a:pt x="10" y="19"/>
                </a:cubicBezTo>
                <a:cubicBezTo>
                  <a:pt x="1" y="55"/>
                  <a:pt x="1" y="55"/>
                  <a:pt x="1" y="55"/>
                </a:cubicBezTo>
                <a:cubicBezTo>
                  <a:pt x="1" y="56"/>
                  <a:pt x="1" y="56"/>
                  <a:pt x="1" y="56"/>
                </a:cubicBezTo>
                <a:cubicBezTo>
                  <a:pt x="1" y="56"/>
                  <a:pt x="0" y="61"/>
                  <a:pt x="0" y="63"/>
                </a:cubicBezTo>
                <a:cubicBezTo>
                  <a:pt x="0" y="72"/>
                  <a:pt x="6" y="76"/>
                  <a:pt x="14" y="76"/>
                </a:cubicBezTo>
                <a:cubicBezTo>
                  <a:pt x="21" y="76"/>
                  <a:pt x="27" y="73"/>
                  <a:pt x="28" y="65"/>
                </a:cubicBezTo>
                <a:cubicBezTo>
                  <a:pt x="27" y="65"/>
                  <a:pt x="26" y="65"/>
                  <a:pt x="24" y="65"/>
                </a:cubicBezTo>
                <a:cubicBezTo>
                  <a:pt x="20" y="65"/>
                  <a:pt x="18" y="64"/>
                  <a:pt x="18" y="61"/>
                </a:cubicBezTo>
                <a:cubicBezTo>
                  <a:pt x="18" y="60"/>
                  <a:pt x="19" y="57"/>
                  <a:pt x="19" y="57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9"/>
                  <a:pt x="29" y="15"/>
                  <a:pt x="29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Oval 10"/>
          <p:cNvSpPr/>
          <p:nvPr/>
        </p:nvSpPr>
        <p:spPr>
          <a:xfrm>
            <a:off x="6280200" y="2873520"/>
            <a:ext cx="73080" cy="68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Freeform 11"/>
          <p:cNvSpPr/>
          <p:nvPr/>
        </p:nvSpPr>
        <p:spPr>
          <a:xfrm>
            <a:off x="6026040" y="2892600"/>
            <a:ext cx="185760" cy="306360"/>
          </a:xfrm>
          <a:custGeom>
            <a:avLst/>
            <a:gdLst/>
            <a:ahLst/>
            <a:rect l="l" t="t" r="r" b="b"/>
            <a:pathLst>
              <a:path w="54" h="89">
                <a:moveTo>
                  <a:pt x="49" y="89"/>
                </a:moveTo>
                <a:cubicBezTo>
                  <a:pt x="48" y="89"/>
                  <a:pt x="47" y="89"/>
                  <a:pt x="46" y="88"/>
                </a:cubicBezTo>
                <a:cubicBezTo>
                  <a:pt x="2" y="51"/>
                  <a:pt x="2" y="51"/>
                  <a:pt x="2" y="51"/>
                </a:cubicBezTo>
                <a:cubicBezTo>
                  <a:pt x="1" y="51"/>
                  <a:pt x="1" y="50"/>
                  <a:pt x="0" y="48"/>
                </a:cubicBezTo>
                <a:cubicBezTo>
                  <a:pt x="0" y="48"/>
                  <a:pt x="0" y="47"/>
                  <a:pt x="0" y="4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0"/>
                  <a:pt x="1" y="38"/>
                  <a:pt x="2" y="38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9" y="0"/>
                </a:cubicBezTo>
                <a:cubicBezTo>
                  <a:pt x="50" y="0"/>
                  <a:pt x="51" y="0"/>
                  <a:pt x="52" y="1"/>
                </a:cubicBezTo>
                <a:cubicBezTo>
                  <a:pt x="53" y="1"/>
                  <a:pt x="54" y="3"/>
                  <a:pt x="54" y="5"/>
                </a:cubicBezTo>
                <a:cubicBezTo>
                  <a:pt x="54" y="22"/>
                  <a:pt x="54" y="22"/>
                  <a:pt x="54" y="22"/>
                </a:cubicBezTo>
                <a:cubicBezTo>
                  <a:pt x="54" y="25"/>
                  <a:pt x="53" y="27"/>
                  <a:pt x="51" y="29"/>
                </a:cubicBezTo>
                <a:cubicBezTo>
                  <a:pt x="32" y="45"/>
                  <a:pt x="32" y="45"/>
                  <a:pt x="32" y="45"/>
                </a:cubicBezTo>
                <a:cubicBezTo>
                  <a:pt x="51" y="60"/>
                  <a:pt x="51" y="60"/>
                  <a:pt x="51" y="60"/>
                </a:cubicBezTo>
                <a:cubicBezTo>
                  <a:pt x="53" y="62"/>
                  <a:pt x="54" y="64"/>
                  <a:pt x="54" y="67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6"/>
                  <a:pt x="53" y="88"/>
                  <a:pt x="52" y="88"/>
                </a:cubicBezTo>
                <a:cubicBezTo>
                  <a:pt x="51" y="89"/>
                  <a:pt x="50" y="89"/>
                  <a:pt x="49" y="89"/>
                </a:cubicBezTo>
                <a:close/>
                <a:moveTo>
                  <a:pt x="8" y="43"/>
                </a:moveTo>
                <a:cubicBezTo>
                  <a:pt x="8" y="46"/>
                  <a:pt x="8" y="46"/>
                  <a:pt x="8" y="46"/>
                </a:cubicBezTo>
                <a:cubicBezTo>
                  <a:pt x="46" y="78"/>
                  <a:pt x="46" y="78"/>
                  <a:pt x="46" y="78"/>
                </a:cubicBezTo>
                <a:cubicBezTo>
                  <a:pt x="46" y="67"/>
                  <a:pt x="46" y="67"/>
                  <a:pt x="46" y="67"/>
                </a:cubicBezTo>
                <a:cubicBezTo>
                  <a:pt x="46" y="66"/>
                  <a:pt x="46" y="66"/>
                  <a:pt x="46" y="66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7"/>
                  <a:pt x="23" y="46"/>
                  <a:pt x="23" y="44"/>
                </a:cubicBezTo>
                <a:cubicBezTo>
                  <a:pt x="23" y="43"/>
                  <a:pt x="23" y="42"/>
                  <a:pt x="24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3"/>
                  <a:pt x="46" y="23"/>
                  <a:pt x="46" y="22"/>
                </a:cubicBezTo>
                <a:cubicBezTo>
                  <a:pt x="46" y="11"/>
                  <a:pt x="46" y="11"/>
                  <a:pt x="46" y="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Freeform 12"/>
          <p:cNvSpPr/>
          <p:nvPr/>
        </p:nvSpPr>
        <p:spPr>
          <a:xfrm>
            <a:off x="6408720" y="2900520"/>
            <a:ext cx="177840" cy="291960"/>
          </a:xfrm>
          <a:custGeom>
            <a:avLst/>
            <a:gdLst/>
            <a:ahLst/>
            <a:rect l="l" t="t" r="r" b="b"/>
            <a:pathLst>
              <a:path w="52" h="85">
                <a:moveTo>
                  <a:pt x="4" y="85"/>
                </a:moveTo>
                <a:cubicBezTo>
                  <a:pt x="4" y="85"/>
                  <a:pt x="2" y="85"/>
                  <a:pt x="2" y="85"/>
                </a:cubicBezTo>
                <a:cubicBezTo>
                  <a:pt x="1" y="84"/>
                  <a:pt x="0" y="83"/>
                  <a:pt x="0" y="80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61"/>
                  <a:pt x="1" y="59"/>
                  <a:pt x="3" y="57"/>
                </a:cubicBezTo>
                <a:cubicBezTo>
                  <a:pt x="20" y="42"/>
                  <a:pt x="20" y="42"/>
                  <a:pt x="20" y="42"/>
                </a:cubicBezTo>
                <a:cubicBezTo>
                  <a:pt x="3" y="28"/>
                  <a:pt x="3" y="28"/>
                  <a:pt x="3" y="28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1" y="1"/>
                  <a:pt x="2" y="0"/>
                </a:cubicBezTo>
                <a:cubicBezTo>
                  <a:pt x="3" y="0"/>
                  <a:pt x="4" y="0"/>
                  <a:pt x="4" y="0"/>
                </a:cubicBezTo>
                <a:cubicBezTo>
                  <a:pt x="6" y="0"/>
                  <a:pt x="7" y="0"/>
                  <a:pt x="8" y="1"/>
                </a:cubicBezTo>
                <a:cubicBezTo>
                  <a:pt x="50" y="36"/>
                  <a:pt x="50" y="36"/>
                  <a:pt x="50" y="36"/>
                </a:cubicBezTo>
                <a:cubicBezTo>
                  <a:pt x="51" y="37"/>
                  <a:pt x="52" y="39"/>
                  <a:pt x="52" y="40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6"/>
                  <a:pt x="52" y="46"/>
                </a:cubicBezTo>
                <a:cubicBezTo>
                  <a:pt x="51" y="47"/>
                  <a:pt x="51" y="48"/>
                  <a:pt x="50" y="49"/>
                </a:cubicBezTo>
                <a:cubicBezTo>
                  <a:pt x="8" y="84"/>
                  <a:pt x="8" y="84"/>
                  <a:pt x="8" y="84"/>
                </a:cubicBezTo>
                <a:cubicBezTo>
                  <a:pt x="7" y="85"/>
                  <a:pt x="6" y="85"/>
                  <a:pt x="4" y="85"/>
                </a:cubicBezTo>
                <a:close/>
                <a:moveTo>
                  <a:pt x="8" y="11"/>
                </a:moveTo>
                <a:cubicBezTo>
                  <a:pt x="8" y="21"/>
                  <a:pt x="8" y="21"/>
                  <a:pt x="8" y="21"/>
                </a:cubicBezTo>
                <a:cubicBezTo>
                  <a:pt x="8" y="22"/>
                  <a:pt x="8" y="22"/>
                  <a:pt x="8" y="22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39"/>
                  <a:pt x="29" y="39"/>
                  <a:pt x="29" y="39"/>
                </a:cubicBezTo>
                <a:cubicBezTo>
                  <a:pt x="30" y="40"/>
                  <a:pt x="30" y="41"/>
                  <a:pt x="30" y="42"/>
                </a:cubicBezTo>
                <a:cubicBezTo>
                  <a:pt x="30" y="44"/>
                  <a:pt x="30" y="45"/>
                  <a:pt x="29" y="46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4"/>
                  <a:pt x="8" y="64"/>
                  <a:pt x="8" y="64"/>
                </a:cubicBezTo>
                <a:cubicBezTo>
                  <a:pt x="8" y="74"/>
                  <a:pt x="8" y="74"/>
                  <a:pt x="8" y="74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1"/>
                  <a:pt x="44" y="41"/>
                  <a:pt x="44" y="41"/>
                </a:cubicBezTo>
                <a:lnTo>
                  <a:pt x="8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Oval 13">
            <a:hlinkClick r:id="rId2"/>
          </p:cNvPr>
          <p:cNvSpPr/>
          <p:nvPr/>
        </p:nvSpPr>
        <p:spPr>
          <a:xfrm>
            <a:off x="7924680" y="6257880"/>
            <a:ext cx="1886040" cy="198360"/>
          </a:xfrm>
          <a:prstGeom prst="ellipse">
            <a:avLst/>
          </a:prstGeom>
          <a:solidFill>
            <a:srgbClr val="229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Rectangle 14"/>
          <p:cNvSpPr/>
          <p:nvPr/>
        </p:nvSpPr>
        <p:spPr>
          <a:xfrm>
            <a:off x="8751960" y="2976480"/>
            <a:ext cx="220680" cy="136440"/>
          </a:xfrm>
          <a:prstGeom prst="rect">
            <a:avLst/>
          </a:prstGeom>
          <a:solidFill>
            <a:srgbClr val="e0c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Freeform 15">
            <a:hlinkClick r:id="rId3"/>
          </p:cNvPr>
          <p:cNvSpPr/>
          <p:nvPr/>
        </p:nvSpPr>
        <p:spPr>
          <a:xfrm>
            <a:off x="8588520" y="2260440"/>
            <a:ext cx="534960" cy="798840"/>
          </a:xfrm>
          <a:custGeom>
            <a:avLst/>
            <a:gdLst/>
            <a:ahLst/>
            <a:rect l="l" t="t" r="r" b="b"/>
            <a:pathLst>
              <a:path w="156" h="232">
                <a:moveTo>
                  <a:pt x="156" y="72"/>
                </a:moveTo>
                <a:cubicBezTo>
                  <a:pt x="156" y="32"/>
                  <a:pt x="121" y="0"/>
                  <a:pt x="78" y="0"/>
                </a:cubicBezTo>
                <a:cubicBezTo>
                  <a:pt x="35" y="0"/>
                  <a:pt x="0" y="32"/>
                  <a:pt x="0" y="72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200"/>
                  <a:pt x="35" y="232"/>
                  <a:pt x="78" y="232"/>
                </a:cubicBezTo>
                <a:cubicBezTo>
                  <a:pt x="121" y="232"/>
                  <a:pt x="156" y="200"/>
                  <a:pt x="156" y="160"/>
                </a:cubicBezTo>
                <a:cubicBezTo>
                  <a:pt x="156" y="72"/>
                  <a:pt x="156" y="72"/>
                  <a:pt x="156" y="72"/>
                </a:cubicBezTo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Freeform 16"/>
          <p:cNvSpPr/>
          <p:nvPr/>
        </p:nvSpPr>
        <p:spPr>
          <a:xfrm>
            <a:off x="8572680" y="2452680"/>
            <a:ext cx="28440" cy="206280"/>
          </a:xfrm>
          <a:custGeom>
            <a:avLst/>
            <a:gdLst/>
            <a:ahLst/>
            <a:rect l="l" t="t" r="r" b="b"/>
            <a:pathLst>
              <a:path w="8" h="60">
                <a:moveTo>
                  <a:pt x="0" y="56"/>
                </a:moveTo>
                <a:cubicBezTo>
                  <a:pt x="0" y="58"/>
                  <a:pt x="2" y="60"/>
                  <a:pt x="4" y="60"/>
                </a:cubicBezTo>
                <a:cubicBezTo>
                  <a:pt x="6" y="60"/>
                  <a:pt x="8" y="58"/>
                  <a:pt x="8" y="5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4"/>
                </a:cubicBezTo>
                <a:lnTo>
                  <a:pt x="0" y="56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Freeform 17"/>
          <p:cNvSpPr/>
          <p:nvPr/>
        </p:nvSpPr>
        <p:spPr>
          <a:xfrm>
            <a:off x="9109080" y="2452680"/>
            <a:ext cx="27000" cy="206280"/>
          </a:xfrm>
          <a:custGeom>
            <a:avLst/>
            <a:gdLst/>
            <a:ahLst/>
            <a:rect l="l" t="t" r="r" b="b"/>
            <a:pathLst>
              <a:path w="8" h="60">
                <a:moveTo>
                  <a:pt x="0" y="56"/>
                </a:moveTo>
                <a:cubicBezTo>
                  <a:pt x="0" y="58"/>
                  <a:pt x="2" y="60"/>
                  <a:pt x="4" y="60"/>
                </a:cubicBezTo>
                <a:cubicBezTo>
                  <a:pt x="6" y="60"/>
                  <a:pt x="8" y="58"/>
                  <a:pt x="8" y="56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4"/>
                </a:cubicBezTo>
                <a:lnTo>
                  <a:pt x="0" y="56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Freeform 18"/>
          <p:cNvSpPr/>
          <p:nvPr/>
        </p:nvSpPr>
        <p:spPr>
          <a:xfrm>
            <a:off x="8621640" y="2192400"/>
            <a:ext cx="598680" cy="50472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6" y="51"/>
                </a:moveTo>
                <a:cubicBezTo>
                  <a:pt x="6" y="51"/>
                  <a:pt x="84" y="147"/>
                  <a:pt x="174" y="70"/>
                </a:cubicBezTo>
                <a:cubicBezTo>
                  <a:pt x="161" y="64"/>
                  <a:pt x="64" y="52"/>
                  <a:pt x="58" y="0"/>
                </a:cubicBezTo>
                <a:cubicBezTo>
                  <a:pt x="32" y="0"/>
                  <a:pt x="0" y="25"/>
                  <a:pt x="6" y="51"/>
                </a:cubicBez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Freeform 19"/>
          <p:cNvSpPr/>
          <p:nvPr/>
        </p:nvSpPr>
        <p:spPr>
          <a:xfrm>
            <a:off x="8790120" y="2260440"/>
            <a:ext cx="401400" cy="209880"/>
          </a:xfrm>
          <a:custGeom>
            <a:avLst/>
            <a:gdLst/>
            <a:ahLst/>
            <a:rect l="l" t="t" r="r" b="b"/>
            <a:pathLst>
              <a:path w="117" h="61">
                <a:moveTo>
                  <a:pt x="9" y="0"/>
                </a:moveTo>
                <a:cubicBezTo>
                  <a:pt x="9" y="0"/>
                  <a:pt x="76" y="31"/>
                  <a:pt x="117" y="31"/>
                </a:cubicBezTo>
                <a:cubicBezTo>
                  <a:pt x="64" y="61"/>
                  <a:pt x="0" y="55"/>
                  <a:pt x="0" y="55"/>
                </a:cubicBezTo>
                <a:lnTo>
                  <a:pt x="9" y="0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Freeform 20"/>
          <p:cNvSpPr/>
          <p:nvPr/>
        </p:nvSpPr>
        <p:spPr>
          <a:xfrm>
            <a:off x="8751960" y="2163600"/>
            <a:ext cx="330120" cy="344520"/>
          </a:xfrm>
          <a:custGeom>
            <a:avLst/>
            <a:gdLst/>
            <a:ahLst/>
            <a:rect l="l" t="t" r="r" b="b"/>
            <a:pathLst>
              <a:path w="96" h="100">
                <a:moveTo>
                  <a:pt x="96" y="41"/>
                </a:moveTo>
                <a:cubicBezTo>
                  <a:pt x="96" y="19"/>
                  <a:pt x="75" y="0"/>
                  <a:pt x="48" y="0"/>
                </a:cubicBezTo>
                <a:cubicBezTo>
                  <a:pt x="21" y="0"/>
                  <a:pt x="0" y="19"/>
                  <a:pt x="0" y="41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81"/>
                  <a:pt x="21" y="100"/>
                  <a:pt x="48" y="100"/>
                </a:cubicBezTo>
                <a:cubicBezTo>
                  <a:pt x="75" y="100"/>
                  <a:pt x="96" y="81"/>
                  <a:pt x="96" y="59"/>
                </a:cubicBezTo>
                <a:lnTo>
                  <a:pt x="96" y="41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Freeform 21"/>
          <p:cNvSpPr/>
          <p:nvPr/>
        </p:nvSpPr>
        <p:spPr>
          <a:xfrm>
            <a:off x="8545680" y="2287440"/>
            <a:ext cx="137880" cy="220680"/>
          </a:xfrm>
          <a:custGeom>
            <a:avLst/>
            <a:gdLst/>
            <a:ahLst/>
            <a:rect l="l" t="t" r="r" b="b"/>
            <a:pathLst>
              <a:path w="40" h="64">
                <a:moveTo>
                  <a:pt x="40" y="17"/>
                </a:moveTo>
                <a:cubicBezTo>
                  <a:pt x="40" y="8"/>
                  <a:pt x="31" y="0"/>
                  <a:pt x="20" y="0"/>
                </a:cubicBezTo>
                <a:cubicBezTo>
                  <a:pt x="9" y="0"/>
                  <a:pt x="0" y="8"/>
                  <a:pt x="0" y="1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56"/>
                  <a:pt x="9" y="64"/>
                  <a:pt x="20" y="64"/>
                </a:cubicBezTo>
                <a:cubicBezTo>
                  <a:pt x="31" y="64"/>
                  <a:pt x="40" y="56"/>
                  <a:pt x="40" y="47"/>
                </a:cubicBezTo>
                <a:lnTo>
                  <a:pt x="40" y="17"/>
                </a:ln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Freeform 22"/>
          <p:cNvSpPr/>
          <p:nvPr/>
        </p:nvSpPr>
        <p:spPr>
          <a:xfrm>
            <a:off x="8588520" y="2820960"/>
            <a:ext cx="534960" cy="238320"/>
          </a:xfrm>
          <a:custGeom>
            <a:avLst/>
            <a:gdLst/>
            <a:ahLst/>
            <a:rect l="l" t="t" r="r" b="b"/>
            <a:pathLst>
              <a:path w="156" h="69">
                <a:moveTo>
                  <a:pt x="138" y="28"/>
                </a:moveTo>
                <a:cubicBezTo>
                  <a:pt x="129" y="36"/>
                  <a:pt x="118" y="43"/>
                  <a:pt x="109" y="48"/>
                </a:cubicBezTo>
                <a:cubicBezTo>
                  <a:pt x="93" y="54"/>
                  <a:pt x="86" y="39"/>
                  <a:pt x="85" y="37"/>
                </a:cubicBezTo>
                <a:cubicBezTo>
                  <a:pt x="82" y="32"/>
                  <a:pt x="91" y="18"/>
                  <a:pt x="91" y="18"/>
                </a:cubicBezTo>
                <a:cubicBezTo>
                  <a:pt x="65" y="18"/>
                  <a:pt x="65" y="18"/>
                  <a:pt x="65" y="18"/>
                </a:cubicBezTo>
                <a:cubicBezTo>
                  <a:pt x="65" y="18"/>
                  <a:pt x="74" y="32"/>
                  <a:pt x="71" y="37"/>
                </a:cubicBezTo>
                <a:cubicBezTo>
                  <a:pt x="70" y="39"/>
                  <a:pt x="63" y="54"/>
                  <a:pt x="47" y="48"/>
                </a:cubicBezTo>
                <a:cubicBezTo>
                  <a:pt x="38" y="43"/>
                  <a:pt x="27" y="36"/>
                  <a:pt x="18" y="28"/>
                </a:cubicBezTo>
                <a:cubicBezTo>
                  <a:pt x="6" y="18"/>
                  <a:pt x="0" y="0"/>
                  <a:pt x="0" y="0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9"/>
                  <a:pt x="2" y="14"/>
                </a:cubicBezTo>
                <a:cubicBezTo>
                  <a:pt x="11" y="55"/>
                  <a:pt x="56" y="67"/>
                  <a:pt x="56" y="67"/>
                </a:cubicBezTo>
                <a:cubicBezTo>
                  <a:pt x="77" y="69"/>
                  <a:pt x="77" y="69"/>
                  <a:pt x="77" y="69"/>
                </a:cubicBezTo>
                <a:cubicBezTo>
                  <a:pt x="79" y="69"/>
                  <a:pt x="79" y="69"/>
                  <a:pt x="79" y="69"/>
                </a:cubicBezTo>
                <a:cubicBezTo>
                  <a:pt x="100" y="67"/>
                  <a:pt x="100" y="67"/>
                  <a:pt x="100" y="67"/>
                </a:cubicBezTo>
                <a:cubicBezTo>
                  <a:pt x="100" y="67"/>
                  <a:pt x="145" y="55"/>
                  <a:pt x="154" y="14"/>
                </a:cubicBezTo>
                <a:cubicBezTo>
                  <a:pt x="155" y="9"/>
                  <a:pt x="155" y="7"/>
                  <a:pt x="155" y="7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0"/>
                  <a:pt x="150" y="18"/>
                  <a:pt x="138" y="28"/>
                </a:cubicBezTo>
                <a:close/>
              </a:path>
            </a:pathLst>
          </a:custGeom>
          <a:solidFill>
            <a:srgbClr val="4329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Oval 23"/>
          <p:cNvSpPr/>
          <p:nvPr/>
        </p:nvSpPr>
        <p:spPr>
          <a:xfrm>
            <a:off x="8666280" y="2552760"/>
            <a:ext cx="164880" cy="164880"/>
          </a:xfrm>
          <a:prstGeom prst="ellipse">
            <a:avLst/>
          </a:prstGeom>
          <a:solidFill>
            <a:srgbClr val="f7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Oval 24"/>
          <p:cNvSpPr/>
          <p:nvPr/>
        </p:nvSpPr>
        <p:spPr>
          <a:xfrm>
            <a:off x="8885160" y="2552760"/>
            <a:ext cx="163440" cy="162000"/>
          </a:xfrm>
          <a:prstGeom prst="ellipse">
            <a:avLst/>
          </a:prstGeom>
          <a:solidFill>
            <a:srgbClr val="f7f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Freeform 25"/>
          <p:cNvSpPr/>
          <p:nvPr/>
        </p:nvSpPr>
        <p:spPr>
          <a:xfrm>
            <a:off x="8628120" y="2541600"/>
            <a:ext cx="457200" cy="185760"/>
          </a:xfrm>
          <a:custGeom>
            <a:avLst/>
            <a:gdLst/>
            <a:ahLst/>
            <a:rect l="l" t="t" r="r" b="b"/>
            <a:pathLst>
              <a:path w="133" h="54">
                <a:moveTo>
                  <a:pt x="129" y="19"/>
                </a:moveTo>
                <a:cubicBezTo>
                  <a:pt x="124" y="19"/>
                  <a:pt x="124" y="19"/>
                  <a:pt x="124" y="19"/>
                </a:cubicBezTo>
                <a:cubicBezTo>
                  <a:pt x="124" y="19"/>
                  <a:pt x="124" y="19"/>
                  <a:pt x="124" y="19"/>
                </a:cubicBezTo>
                <a:cubicBezTo>
                  <a:pt x="121" y="8"/>
                  <a:pt x="110" y="0"/>
                  <a:pt x="98" y="0"/>
                </a:cubicBezTo>
                <a:cubicBezTo>
                  <a:pt x="85" y="0"/>
                  <a:pt x="74" y="8"/>
                  <a:pt x="72" y="20"/>
                </a:cubicBezTo>
                <a:cubicBezTo>
                  <a:pt x="71" y="21"/>
                  <a:pt x="71" y="21"/>
                  <a:pt x="71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7" y="21"/>
                  <a:pt x="67" y="21"/>
                  <a:pt x="67" y="2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21"/>
                  <a:pt x="66" y="21"/>
                  <a:pt x="66" y="21"/>
                </a:cubicBezTo>
                <a:cubicBezTo>
                  <a:pt x="62" y="21"/>
                  <a:pt x="62" y="21"/>
                  <a:pt x="62" y="21"/>
                </a:cubicBezTo>
                <a:cubicBezTo>
                  <a:pt x="62" y="21"/>
                  <a:pt x="62" y="21"/>
                  <a:pt x="62" y="20"/>
                </a:cubicBezTo>
                <a:cubicBezTo>
                  <a:pt x="59" y="9"/>
                  <a:pt x="48" y="0"/>
                  <a:pt x="35" y="0"/>
                </a:cubicBezTo>
                <a:cubicBezTo>
                  <a:pt x="23" y="0"/>
                  <a:pt x="12" y="8"/>
                  <a:pt x="9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19"/>
                  <a:pt x="4" y="19"/>
                  <a:pt x="4" y="19"/>
                </a:cubicBezTo>
                <a:cubicBezTo>
                  <a:pt x="2" y="19"/>
                  <a:pt x="0" y="21"/>
                  <a:pt x="0" y="23"/>
                </a:cubicBezTo>
                <a:cubicBezTo>
                  <a:pt x="0" y="26"/>
                  <a:pt x="2" y="27"/>
                  <a:pt x="4" y="27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42"/>
                  <a:pt x="20" y="54"/>
                  <a:pt x="35" y="54"/>
                </a:cubicBezTo>
                <a:cubicBezTo>
                  <a:pt x="50" y="54"/>
                  <a:pt x="62" y="43"/>
                  <a:pt x="62" y="28"/>
                </a:cubicBezTo>
                <a:cubicBezTo>
                  <a:pt x="63" y="28"/>
                  <a:pt x="65" y="27"/>
                  <a:pt x="66" y="27"/>
                </a:cubicBezTo>
                <a:cubicBezTo>
                  <a:pt x="67" y="27"/>
                  <a:pt x="67" y="27"/>
                  <a:pt x="67" y="27"/>
                </a:cubicBezTo>
                <a:cubicBezTo>
                  <a:pt x="68" y="27"/>
                  <a:pt x="70" y="28"/>
                  <a:pt x="71" y="29"/>
                </a:cubicBezTo>
                <a:cubicBezTo>
                  <a:pt x="71" y="29"/>
                  <a:pt x="71" y="29"/>
                  <a:pt x="71" y="29"/>
                </a:cubicBezTo>
                <a:cubicBezTo>
                  <a:pt x="72" y="43"/>
                  <a:pt x="84" y="54"/>
                  <a:pt x="98" y="54"/>
                </a:cubicBezTo>
                <a:cubicBezTo>
                  <a:pt x="113" y="54"/>
                  <a:pt x="125" y="42"/>
                  <a:pt x="125" y="27"/>
                </a:cubicBezTo>
                <a:cubicBezTo>
                  <a:pt x="129" y="27"/>
                  <a:pt x="129" y="27"/>
                  <a:pt x="129" y="27"/>
                </a:cubicBezTo>
                <a:cubicBezTo>
                  <a:pt x="131" y="27"/>
                  <a:pt x="133" y="26"/>
                  <a:pt x="133" y="23"/>
                </a:cubicBezTo>
                <a:cubicBezTo>
                  <a:pt x="133" y="21"/>
                  <a:pt x="131" y="19"/>
                  <a:pt x="129" y="19"/>
                </a:cubicBezTo>
                <a:close/>
                <a:moveTo>
                  <a:pt x="35" y="48"/>
                </a:moveTo>
                <a:cubicBezTo>
                  <a:pt x="24" y="48"/>
                  <a:pt x="14" y="39"/>
                  <a:pt x="14" y="27"/>
                </a:cubicBezTo>
                <a:cubicBezTo>
                  <a:pt x="14" y="15"/>
                  <a:pt x="24" y="6"/>
                  <a:pt x="35" y="6"/>
                </a:cubicBezTo>
                <a:cubicBezTo>
                  <a:pt x="47" y="6"/>
                  <a:pt x="56" y="15"/>
                  <a:pt x="56" y="27"/>
                </a:cubicBezTo>
                <a:cubicBezTo>
                  <a:pt x="56" y="39"/>
                  <a:pt x="47" y="48"/>
                  <a:pt x="35" y="48"/>
                </a:cubicBezTo>
                <a:close/>
                <a:moveTo>
                  <a:pt x="98" y="48"/>
                </a:moveTo>
                <a:cubicBezTo>
                  <a:pt x="86" y="48"/>
                  <a:pt x="77" y="38"/>
                  <a:pt x="77" y="27"/>
                </a:cubicBezTo>
                <a:cubicBezTo>
                  <a:pt x="77" y="15"/>
                  <a:pt x="86" y="6"/>
                  <a:pt x="98" y="6"/>
                </a:cubicBezTo>
                <a:cubicBezTo>
                  <a:pt x="110" y="6"/>
                  <a:pt x="119" y="15"/>
                  <a:pt x="119" y="27"/>
                </a:cubicBezTo>
                <a:cubicBezTo>
                  <a:pt x="119" y="38"/>
                  <a:pt x="110" y="48"/>
                  <a:pt x="98" y="48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Freeform 26"/>
          <p:cNvSpPr/>
          <p:nvPr/>
        </p:nvSpPr>
        <p:spPr>
          <a:xfrm>
            <a:off x="9220320" y="4110120"/>
            <a:ext cx="982440" cy="590400"/>
          </a:xfrm>
          <a:custGeom>
            <a:avLst/>
            <a:gdLst/>
            <a:ahLst/>
            <a:rect l="l" t="t" r="r" b="b"/>
            <a:pathLst>
              <a:path w="677" h="407">
                <a:moveTo>
                  <a:pt x="57" y="0"/>
                </a:moveTo>
                <a:lnTo>
                  <a:pt x="677" y="296"/>
                </a:lnTo>
                <a:lnTo>
                  <a:pt x="613" y="407"/>
                </a:lnTo>
                <a:lnTo>
                  <a:pt x="0" y="118"/>
                </a:lnTo>
                <a:lnTo>
                  <a:pt x="57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Freeform 27"/>
          <p:cNvSpPr/>
          <p:nvPr/>
        </p:nvSpPr>
        <p:spPr>
          <a:xfrm>
            <a:off x="10109160" y="4492800"/>
            <a:ext cx="636480" cy="225360"/>
          </a:xfrm>
          <a:custGeom>
            <a:avLst/>
            <a:gdLst/>
            <a:ahLst/>
            <a:rect l="l" t="t" r="r" b="b"/>
            <a:pathLst>
              <a:path w="185" h="66">
                <a:moveTo>
                  <a:pt x="171" y="21"/>
                </a:moveTo>
                <a:cubicBezTo>
                  <a:pt x="128" y="52"/>
                  <a:pt x="128" y="52"/>
                  <a:pt x="128" y="52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66" y="20"/>
                  <a:pt x="166" y="20"/>
                  <a:pt x="166" y="20"/>
                </a:cubicBezTo>
                <a:cubicBezTo>
                  <a:pt x="158" y="18"/>
                  <a:pt x="148" y="18"/>
                  <a:pt x="139" y="24"/>
                </a:cubicBezTo>
                <a:cubicBezTo>
                  <a:pt x="124" y="34"/>
                  <a:pt x="116" y="40"/>
                  <a:pt x="116" y="40"/>
                </a:cubicBezTo>
                <a:cubicBezTo>
                  <a:pt x="86" y="38"/>
                  <a:pt x="86" y="38"/>
                  <a:pt x="86" y="38"/>
                </a:cubicBezTo>
                <a:cubicBezTo>
                  <a:pt x="80" y="37"/>
                  <a:pt x="76" y="33"/>
                  <a:pt x="77" y="28"/>
                </a:cubicBezTo>
                <a:cubicBezTo>
                  <a:pt x="77" y="23"/>
                  <a:pt x="82" y="20"/>
                  <a:pt x="87" y="20"/>
                </a:cubicBezTo>
                <a:cubicBezTo>
                  <a:pt x="87" y="20"/>
                  <a:pt x="92" y="21"/>
                  <a:pt x="106" y="22"/>
                </a:cubicBezTo>
                <a:cubicBezTo>
                  <a:pt x="121" y="23"/>
                  <a:pt x="121" y="5"/>
                  <a:pt x="121" y="5"/>
                </a:cubicBezTo>
                <a:cubicBezTo>
                  <a:pt x="93" y="3"/>
                  <a:pt x="57" y="1"/>
                  <a:pt x="53" y="0"/>
                </a:cubicBezTo>
                <a:cubicBezTo>
                  <a:pt x="46" y="0"/>
                  <a:pt x="32" y="13"/>
                  <a:pt x="3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0" y="62"/>
                  <a:pt x="0" y="62"/>
                  <a:pt x="0" y="62"/>
                </a:cubicBezTo>
                <a:cubicBezTo>
                  <a:pt x="127" y="66"/>
                  <a:pt x="127" y="66"/>
                  <a:pt x="127" y="66"/>
                </a:cubicBezTo>
                <a:cubicBezTo>
                  <a:pt x="127" y="66"/>
                  <a:pt x="127" y="66"/>
                  <a:pt x="127" y="66"/>
                </a:cubicBezTo>
                <a:cubicBezTo>
                  <a:pt x="185" y="27"/>
                  <a:pt x="185" y="27"/>
                  <a:pt x="185" y="27"/>
                </a:cubicBezTo>
                <a:cubicBezTo>
                  <a:pt x="185" y="27"/>
                  <a:pt x="179" y="23"/>
                  <a:pt x="171" y="21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Freeform 28"/>
          <p:cNvSpPr/>
          <p:nvPr/>
        </p:nvSpPr>
        <p:spPr>
          <a:xfrm>
            <a:off x="7516800" y="4110120"/>
            <a:ext cx="981000" cy="590400"/>
          </a:xfrm>
          <a:custGeom>
            <a:avLst/>
            <a:gdLst/>
            <a:ahLst/>
            <a:rect l="l" t="t" r="r" b="b"/>
            <a:pathLst>
              <a:path w="675" h="407">
                <a:moveTo>
                  <a:pt x="621" y="0"/>
                </a:moveTo>
                <a:lnTo>
                  <a:pt x="0" y="296"/>
                </a:lnTo>
                <a:lnTo>
                  <a:pt x="62" y="407"/>
                </a:lnTo>
                <a:lnTo>
                  <a:pt x="675" y="118"/>
                </a:lnTo>
                <a:lnTo>
                  <a:pt x="621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Freeform 29"/>
          <p:cNvSpPr/>
          <p:nvPr/>
        </p:nvSpPr>
        <p:spPr>
          <a:xfrm>
            <a:off x="6973920" y="4492800"/>
            <a:ext cx="636480" cy="225360"/>
          </a:xfrm>
          <a:custGeom>
            <a:avLst/>
            <a:gdLst/>
            <a:ahLst/>
            <a:rect l="l" t="t" r="r" b="b"/>
            <a:pathLst>
              <a:path w="185" h="66">
                <a:moveTo>
                  <a:pt x="13" y="21"/>
                </a:moveTo>
                <a:cubicBezTo>
                  <a:pt x="57" y="52"/>
                  <a:pt x="57" y="52"/>
                  <a:pt x="57" y="52"/>
                </a:cubicBezTo>
                <a:cubicBezTo>
                  <a:pt x="63" y="51"/>
                  <a:pt x="63" y="51"/>
                  <a:pt x="63" y="51"/>
                </a:cubicBezTo>
                <a:cubicBezTo>
                  <a:pt x="18" y="20"/>
                  <a:pt x="18" y="20"/>
                  <a:pt x="18" y="20"/>
                </a:cubicBezTo>
                <a:cubicBezTo>
                  <a:pt x="27" y="18"/>
                  <a:pt x="36" y="18"/>
                  <a:pt x="45" y="24"/>
                </a:cubicBezTo>
                <a:cubicBezTo>
                  <a:pt x="61" y="34"/>
                  <a:pt x="68" y="40"/>
                  <a:pt x="68" y="40"/>
                </a:cubicBezTo>
                <a:cubicBezTo>
                  <a:pt x="99" y="38"/>
                  <a:pt x="99" y="38"/>
                  <a:pt x="99" y="38"/>
                </a:cubicBezTo>
                <a:cubicBezTo>
                  <a:pt x="104" y="37"/>
                  <a:pt x="108" y="33"/>
                  <a:pt x="108" y="28"/>
                </a:cubicBezTo>
                <a:cubicBezTo>
                  <a:pt x="108" y="23"/>
                  <a:pt x="103" y="20"/>
                  <a:pt x="98" y="20"/>
                </a:cubicBezTo>
                <a:cubicBezTo>
                  <a:pt x="98" y="20"/>
                  <a:pt x="93" y="21"/>
                  <a:pt x="78" y="22"/>
                </a:cubicBezTo>
                <a:cubicBezTo>
                  <a:pt x="64" y="23"/>
                  <a:pt x="63" y="5"/>
                  <a:pt x="63" y="5"/>
                </a:cubicBezTo>
                <a:cubicBezTo>
                  <a:pt x="92" y="3"/>
                  <a:pt x="127" y="1"/>
                  <a:pt x="131" y="0"/>
                </a:cubicBezTo>
                <a:cubicBezTo>
                  <a:pt x="138" y="0"/>
                  <a:pt x="153" y="13"/>
                  <a:pt x="153" y="13"/>
                </a:cubicBezTo>
                <a:cubicBezTo>
                  <a:pt x="162" y="13"/>
                  <a:pt x="162" y="13"/>
                  <a:pt x="162" y="13"/>
                </a:cubicBezTo>
                <a:cubicBezTo>
                  <a:pt x="185" y="62"/>
                  <a:pt x="185" y="62"/>
                  <a:pt x="185" y="62"/>
                </a:cubicBezTo>
                <a:cubicBezTo>
                  <a:pt x="57" y="66"/>
                  <a:pt x="57" y="66"/>
                  <a:pt x="57" y="66"/>
                </a:cubicBezTo>
                <a:cubicBezTo>
                  <a:pt x="57" y="66"/>
                  <a:pt x="57" y="66"/>
                  <a:pt x="57" y="66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5" y="23"/>
                  <a:pt x="13" y="21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Rectangle 30"/>
          <p:cNvSpPr/>
          <p:nvPr/>
        </p:nvSpPr>
        <p:spPr>
          <a:xfrm>
            <a:off x="9339120" y="3683160"/>
            <a:ext cx="987480" cy="188640"/>
          </a:xfrm>
          <a:prstGeom prst="rect">
            <a:avLst/>
          </a:pr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Freeform 31"/>
          <p:cNvSpPr/>
          <p:nvPr/>
        </p:nvSpPr>
        <p:spPr>
          <a:xfrm>
            <a:off x="10577520" y="3378240"/>
            <a:ext cx="206280" cy="228600"/>
          </a:xfrm>
          <a:custGeom>
            <a:avLst/>
            <a:gdLst/>
            <a:ahLst/>
            <a:rect l="l" t="t" r="r" b="b"/>
            <a:pathLst>
              <a:path w="60" h="67">
                <a:moveTo>
                  <a:pt x="60" y="48"/>
                </a:moveTo>
                <a:cubicBezTo>
                  <a:pt x="60" y="47"/>
                  <a:pt x="60" y="47"/>
                  <a:pt x="60" y="46"/>
                </a:cubicBezTo>
                <a:cubicBezTo>
                  <a:pt x="60" y="45"/>
                  <a:pt x="60" y="45"/>
                  <a:pt x="60" y="44"/>
                </a:cubicBezTo>
                <a:cubicBezTo>
                  <a:pt x="60" y="21"/>
                  <a:pt x="60" y="21"/>
                  <a:pt x="60" y="21"/>
                </a:cubicBezTo>
                <a:cubicBezTo>
                  <a:pt x="60" y="18"/>
                  <a:pt x="60" y="18"/>
                  <a:pt x="60" y="18"/>
                </a:cubicBezTo>
                <a:cubicBezTo>
                  <a:pt x="60" y="7"/>
                  <a:pt x="60" y="7"/>
                  <a:pt x="60" y="7"/>
                </a:cubicBezTo>
                <a:cubicBezTo>
                  <a:pt x="60" y="3"/>
                  <a:pt x="57" y="1"/>
                  <a:pt x="53" y="1"/>
                </a:cubicBezTo>
                <a:cubicBezTo>
                  <a:pt x="50" y="1"/>
                  <a:pt x="47" y="3"/>
                  <a:pt x="47" y="7"/>
                </a:cubicBezTo>
                <a:cubicBezTo>
                  <a:pt x="47" y="21"/>
                  <a:pt x="47" y="21"/>
                  <a:pt x="47" y="21"/>
                </a:cubicBezTo>
                <a:cubicBezTo>
                  <a:pt x="36" y="4"/>
                  <a:pt x="36" y="4"/>
                  <a:pt x="36" y="4"/>
                </a:cubicBezTo>
                <a:cubicBezTo>
                  <a:pt x="35" y="1"/>
                  <a:pt x="31" y="0"/>
                  <a:pt x="28" y="2"/>
                </a:cubicBezTo>
                <a:cubicBezTo>
                  <a:pt x="25" y="4"/>
                  <a:pt x="24" y="7"/>
                  <a:pt x="25" y="10"/>
                </a:cubicBezTo>
                <a:cubicBezTo>
                  <a:pt x="37" y="29"/>
                  <a:pt x="37" y="29"/>
                  <a:pt x="37" y="29"/>
                </a:cubicBezTo>
                <a:cubicBezTo>
                  <a:pt x="27" y="47"/>
                  <a:pt x="27" y="47"/>
                  <a:pt x="27" y="47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62"/>
                  <a:pt x="0" y="62"/>
                  <a:pt x="0" y="62"/>
                </a:cubicBezTo>
                <a:cubicBezTo>
                  <a:pt x="9" y="62"/>
                  <a:pt x="9" y="62"/>
                  <a:pt x="9" y="62"/>
                </a:cubicBezTo>
                <a:cubicBezTo>
                  <a:pt x="9" y="67"/>
                  <a:pt x="9" y="67"/>
                  <a:pt x="9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1"/>
                  <a:pt x="41" y="61"/>
                  <a:pt x="41" y="61"/>
                </a:cubicBezTo>
                <a:cubicBezTo>
                  <a:pt x="42" y="61"/>
                  <a:pt x="44" y="61"/>
                  <a:pt x="45" y="61"/>
                </a:cubicBezTo>
                <a:cubicBezTo>
                  <a:pt x="52" y="61"/>
                  <a:pt x="58" y="56"/>
                  <a:pt x="59" y="49"/>
                </a:cubicBezTo>
                <a:cubicBezTo>
                  <a:pt x="60" y="49"/>
                  <a:pt x="60" y="49"/>
                  <a:pt x="60" y="49"/>
                </a:cubicBezTo>
                <a:lnTo>
                  <a:pt x="60" y="48"/>
                </a:lnTo>
                <a:close/>
              </a:path>
            </a:pathLst>
          </a:custGeom>
          <a:solidFill>
            <a:srgbClr val="e0c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Freeform 32"/>
          <p:cNvSpPr/>
          <p:nvPr/>
        </p:nvSpPr>
        <p:spPr>
          <a:xfrm>
            <a:off x="10291680" y="3373560"/>
            <a:ext cx="617760" cy="498240"/>
          </a:xfrm>
          <a:custGeom>
            <a:avLst/>
            <a:gdLst/>
            <a:ahLst/>
            <a:rect l="l" t="t" r="r" b="b"/>
            <a:pathLst>
              <a:path w="180" h="145">
                <a:moveTo>
                  <a:pt x="174" y="3"/>
                </a:moveTo>
                <a:cubicBezTo>
                  <a:pt x="169" y="0"/>
                  <a:pt x="165" y="7"/>
                  <a:pt x="165" y="7"/>
                </a:cubicBezTo>
                <a:cubicBezTo>
                  <a:pt x="124" y="57"/>
                  <a:pt x="124" y="57"/>
                  <a:pt x="124" y="57"/>
                </a:cubicBezTo>
                <a:cubicBezTo>
                  <a:pt x="113" y="68"/>
                  <a:pt x="87" y="59"/>
                  <a:pt x="84" y="46"/>
                </a:cubicBezTo>
                <a:cubicBezTo>
                  <a:pt x="84" y="45"/>
                  <a:pt x="84" y="45"/>
                  <a:pt x="84" y="45"/>
                </a:cubicBezTo>
                <a:cubicBezTo>
                  <a:pt x="79" y="20"/>
                  <a:pt x="79" y="20"/>
                  <a:pt x="79" y="20"/>
                </a:cubicBezTo>
                <a:cubicBezTo>
                  <a:pt x="78" y="12"/>
                  <a:pt x="71" y="1"/>
                  <a:pt x="64" y="1"/>
                </a:cubicBezTo>
                <a:cubicBezTo>
                  <a:pt x="55" y="1"/>
                  <a:pt x="59" y="11"/>
                  <a:pt x="60" y="20"/>
                </a:cubicBezTo>
                <a:cubicBezTo>
                  <a:pt x="64" y="48"/>
                  <a:pt x="64" y="48"/>
                  <a:pt x="64" y="48"/>
                </a:cubicBezTo>
                <a:cubicBezTo>
                  <a:pt x="64" y="48"/>
                  <a:pt x="72" y="90"/>
                  <a:pt x="37" y="90"/>
                </a:cubicBezTo>
                <a:cubicBezTo>
                  <a:pt x="7" y="90"/>
                  <a:pt x="0" y="90"/>
                  <a:pt x="0" y="90"/>
                </a:cubicBezTo>
                <a:cubicBezTo>
                  <a:pt x="0" y="145"/>
                  <a:pt x="0" y="145"/>
                  <a:pt x="0" y="145"/>
                </a:cubicBezTo>
                <a:cubicBezTo>
                  <a:pt x="71" y="144"/>
                  <a:pt x="71" y="144"/>
                  <a:pt x="71" y="144"/>
                </a:cubicBezTo>
                <a:cubicBezTo>
                  <a:pt x="71" y="144"/>
                  <a:pt x="101" y="137"/>
                  <a:pt x="114" y="115"/>
                </a:cubicBezTo>
                <a:cubicBezTo>
                  <a:pt x="125" y="98"/>
                  <a:pt x="176" y="12"/>
                  <a:pt x="176" y="12"/>
                </a:cubicBezTo>
                <a:cubicBezTo>
                  <a:pt x="176" y="12"/>
                  <a:pt x="180" y="6"/>
                  <a:pt x="174" y="3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Freeform 33"/>
          <p:cNvSpPr/>
          <p:nvPr/>
        </p:nvSpPr>
        <p:spPr>
          <a:xfrm>
            <a:off x="10005840" y="2809800"/>
            <a:ext cx="619200" cy="227160"/>
          </a:xfrm>
          <a:custGeom>
            <a:avLst/>
            <a:gdLst/>
            <a:ahLst/>
            <a:rect l="l" t="t" r="r" b="b"/>
            <a:pathLst>
              <a:path w="180" h="66">
                <a:moveTo>
                  <a:pt x="166" y="21"/>
                </a:moveTo>
                <a:cubicBezTo>
                  <a:pt x="123" y="52"/>
                  <a:pt x="123" y="52"/>
                  <a:pt x="123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61" y="20"/>
                  <a:pt x="161" y="20"/>
                  <a:pt x="161" y="20"/>
                </a:cubicBezTo>
                <a:cubicBezTo>
                  <a:pt x="153" y="18"/>
                  <a:pt x="143" y="18"/>
                  <a:pt x="135" y="24"/>
                </a:cubicBezTo>
                <a:cubicBezTo>
                  <a:pt x="119" y="34"/>
                  <a:pt x="112" y="40"/>
                  <a:pt x="112" y="40"/>
                </a:cubicBezTo>
                <a:cubicBezTo>
                  <a:pt x="81" y="38"/>
                  <a:pt x="81" y="38"/>
                  <a:pt x="81" y="38"/>
                </a:cubicBezTo>
                <a:cubicBezTo>
                  <a:pt x="76" y="37"/>
                  <a:pt x="71" y="33"/>
                  <a:pt x="72" y="28"/>
                </a:cubicBezTo>
                <a:cubicBezTo>
                  <a:pt x="72" y="23"/>
                  <a:pt x="77" y="20"/>
                  <a:pt x="82" y="20"/>
                </a:cubicBezTo>
                <a:cubicBezTo>
                  <a:pt x="82" y="20"/>
                  <a:pt x="87" y="21"/>
                  <a:pt x="102" y="22"/>
                </a:cubicBezTo>
                <a:cubicBezTo>
                  <a:pt x="116" y="23"/>
                  <a:pt x="116" y="5"/>
                  <a:pt x="116" y="5"/>
                </a:cubicBezTo>
                <a:cubicBezTo>
                  <a:pt x="88" y="3"/>
                  <a:pt x="52" y="0"/>
                  <a:pt x="48" y="0"/>
                </a:cubicBezTo>
                <a:cubicBezTo>
                  <a:pt x="42" y="0"/>
                  <a:pt x="27" y="13"/>
                  <a:pt x="27" y="1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62"/>
                  <a:pt x="0" y="62"/>
                  <a:pt x="0" y="62"/>
                </a:cubicBezTo>
                <a:cubicBezTo>
                  <a:pt x="123" y="66"/>
                  <a:pt x="123" y="66"/>
                  <a:pt x="123" y="66"/>
                </a:cubicBezTo>
                <a:cubicBezTo>
                  <a:pt x="123" y="66"/>
                  <a:pt x="123" y="66"/>
                  <a:pt x="123" y="66"/>
                </a:cubicBezTo>
                <a:cubicBezTo>
                  <a:pt x="180" y="27"/>
                  <a:pt x="180" y="27"/>
                  <a:pt x="180" y="27"/>
                </a:cubicBezTo>
                <a:cubicBezTo>
                  <a:pt x="180" y="27"/>
                  <a:pt x="174" y="23"/>
                  <a:pt x="166" y="21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Freeform 34"/>
          <p:cNvSpPr/>
          <p:nvPr/>
        </p:nvSpPr>
        <p:spPr>
          <a:xfrm>
            <a:off x="9174240" y="2890800"/>
            <a:ext cx="952560" cy="568440"/>
          </a:xfrm>
          <a:custGeom>
            <a:avLst/>
            <a:gdLst/>
            <a:ahLst/>
            <a:rect l="l" t="t" r="r" b="b"/>
            <a:pathLst>
              <a:path w="656" h="392">
                <a:moveTo>
                  <a:pt x="573" y="0"/>
                </a:moveTo>
                <a:lnTo>
                  <a:pt x="334" y="113"/>
                </a:lnTo>
                <a:lnTo>
                  <a:pt x="0" y="276"/>
                </a:lnTo>
                <a:lnTo>
                  <a:pt x="59" y="392"/>
                </a:lnTo>
                <a:lnTo>
                  <a:pt x="372" y="239"/>
                </a:lnTo>
                <a:lnTo>
                  <a:pt x="656" y="87"/>
                </a:lnTo>
                <a:lnTo>
                  <a:pt x="573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Freeform 35"/>
          <p:cNvSpPr/>
          <p:nvPr/>
        </p:nvSpPr>
        <p:spPr>
          <a:xfrm>
            <a:off x="7112160" y="2800440"/>
            <a:ext cx="618840" cy="230040"/>
          </a:xfrm>
          <a:custGeom>
            <a:avLst/>
            <a:gdLst/>
            <a:ahLst/>
            <a:rect l="l" t="t" r="r" b="b"/>
            <a:pathLst>
              <a:path w="180" h="67">
                <a:moveTo>
                  <a:pt x="14" y="22"/>
                </a:moveTo>
                <a:cubicBezTo>
                  <a:pt x="57" y="52"/>
                  <a:pt x="57" y="52"/>
                  <a:pt x="57" y="52"/>
                </a:cubicBezTo>
                <a:cubicBezTo>
                  <a:pt x="63" y="52"/>
                  <a:pt x="63" y="52"/>
                  <a:pt x="63" y="52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9"/>
                  <a:pt x="37" y="19"/>
                  <a:pt x="46" y="25"/>
                </a:cubicBezTo>
                <a:cubicBezTo>
                  <a:pt x="61" y="35"/>
                  <a:pt x="68" y="41"/>
                  <a:pt x="68" y="41"/>
                </a:cubicBezTo>
                <a:cubicBezTo>
                  <a:pt x="99" y="38"/>
                  <a:pt x="99" y="38"/>
                  <a:pt x="99" y="38"/>
                </a:cubicBezTo>
                <a:cubicBezTo>
                  <a:pt x="105" y="38"/>
                  <a:pt x="109" y="34"/>
                  <a:pt x="108" y="29"/>
                </a:cubicBezTo>
                <a:cubicBezTo>
                  <a:pt x="108" y="24"/>
                  <a:pt x="103" y="21"/>
                  <a:pt x="98" y="21"/>
                </a:cubicBezTo>
                <a:cubicBezTo>
                  <a:pt x="98" y="21"/>
                  <a:pt x="93" y="21"/>
                  <a:pt x="79" y="22"/>
                </a:cubicBezTo>
                <a:cubicBezTo>
                  <a:pt x="64" y="23"/>
                  <a:pt x="64" y="6"/>
                  <a:pt x="64" y="6"/>
                </a:cubicBezTo>
                <a:cubicBezTo>
                  <a:pt x="92" y="4"/>
                  <a:pt x="128" y="1"/>
                  <a:pt x="132" y="1"/>
                </a:cubicBezTo>
                <a:cubicBezTo>
                  <a:pt x="138" y="0"/>
                  <a:pt x="153" y="14"/>
                  <a:pt x="153" y="14"/>
                </a:cubicBezTo>
                <a:cubicBezTo>
                  <a:pt x="180" y="24"/>
                  <a:pt x="180" y="24"/>
                  <a:pt x="180" y="24"/>
                </a:cubicBezTo>
                <a:cubicBezTo>
                  <a:pt x="180" y="62"/>
                  <a:pt x="180" y="62"/>
                  <a:pt x="180" y="62"/>
                </a:cubicBezTo>
                <a:cubicBezTo>
                  <a:pt x="57" y="67"/>
                  <a:pt x="57" y="67"/>
                  <a:pt x="57" y="67"/>
                </a:cubicBezTo>
                <a:cubicBezTo>
                  <a:pt x="57" y="66"/>
                  <a:pt x="57" y="66"/>
                  <a:pt x="57" y="66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6" y="24"/>
                  <a:pt x="14" y="22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Freeform 36"/>
          <p:cNvSpPr/>
          <p:nvPr/>
        </p:nvSpPr>
        <p:spPr>
          <a:xfrm>
            <a:off x="7610400" y="2882880"/>
            <a:ext cx="952560" cy="571680"/>
          </a:xfrm>
          <a:custGeom>
            <a:avLst/>
            <a:gdLst/>
            <a:ahLst/>
            <a:rect l="l" t="t" r="r" b="b"/>
            <a:pathLst>
              <a:path w="656" h="393">
                <a:moveTo>
                  <a:pt x="83" y="0"/>
                </a:moveTo>
                <a:lnTo>
                  <a:pt x="322" y="111"/>
                </a:lnTo>
                <a:lnTo>
                  <a:pt x="656" y="274"/>
                </a:lnTo>
                <a:lnTo>
                  <a:pt x="597" y="393"/>
                </a:lnTo>
                <a:lnTo>
                  <a:pt x="284" y="239"/>
                </a:lnTo>
                <a:lnTo>
                  <a:pt x="0" y="85"/>
                </a:lnTo>
                <a:lnTo>
                  <a:pt x="83" y="0"/>
                </a:ln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Rectangle 37"/>
          <p:cNvSpPr/>
          <p:nvPr/>
        </p:nvSpPr>
        <p:spPr>
          <a:xfrm>
            <a:off x="7408800" y="3683160"/>
            <a:ext cx="982800" cy="188640"/>
          </a:xfrm>
          <a:prstGeom prst="rect">
            <a:avLst/>
          </a:pr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Freeform 38"/>
          <p:cNvSpPr/>
          <p:nvPr/>
        </p:nvSpPr>
        <p:spPr>
          <a:xfrm>
            <a:off x="6951600" y="3378240"/>
            <a:ext cx="206280" cy="228600"/>
          </a:xfrm>
          <a:custGeom>
            <a:avLst/>
            <a:gdLst/>
            <a:ahLst/>
            <a:rect l="l" t="t" r="r" b="b"/>
            <a:pathLst>
              <a:path w="60" h="67">
                <a:moveTo>
                  <a:pt x="0" y="48"/>
                </a:moveTo>
                <a:cubicBezTo>
                  <a:pt x="0" y="47"/>
                  <a:pt x="0" y="47"/>
                  <a:pt x="0" y="46"/>
                </a:cubicBezTo>
                <a:cubicBezTo>
                  <a:pt x="0" y="45"/>
                  <a:pt x="0" y="45"/>
                  <a:pt x="0" y="4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1"/>
                  <a:pt x="6" y="1"/>
                </a:cubicBezTo>
                <a:cubicBezTo>
                  <a:pt x="10" y="1"/>
                  <a:pt x="12" y="3"/>
                  <a:pt x="12" y="7"/>
                </a:cubicBezTo>
                <a:cubicBezTo>
                  <a:pt x="12" y="21"/>
                  <a:pt x="12" y="21"/>
                  <a:pt x="12" y="21"/>
                </a:cubicBezTo>
                <a:cubicBezTo>
                  <a:pt x="23" y="4"/>
                  <a:pt x="23" y="4"/>
                  <a:pt x="23" y="4"/>
                </a:cubicBezTo>
                <a:cubicBezTo>
                  <a:pt x="25" y="1"/>
                  <a:pt x="29" y="0"/>
                  <a:pt x="32" y="2"/>
                </a:cubicBezTo>
                <a:cubicBezTo>
                  <a:pt x="35" y="4"/>
                  <a:pt x="36" y="7"/>
                  <a:pt x="34" y="10"/>
                </a:cubicBezTo>
                <a:cubicBezTo>
                  <a:pt x="22" y="29"/>
                  <a:pt x="22" y="29"/>
                  <a:pt x="22" y="29"/>
                </a:cubicBezTo>
                <a:cubicBezTo>
                  <a:pt x="32" y="47"/>
                  <a:pt x="32" y="47"/>
                  <a:pt x="32" y="47"/>
                </a:cubicBezTo>
                <a:cubicBezTo>
                  <a:pt x="60" y="47"/>
                  <a:pt x="60" y="47"/>
                  <a:pt x="60" y="47"/>
                </a:cubicBezTo>
                <a:cubicBezTo>
                  <a:pt x="60" y="62"/>
                  <a:pt x="60" y="62"/>
                  <a:pt x="60" y="62"/>
                </a:cubicBezTo>
                <a:cubicBezTo>
                  <a:pt x="50" y="62"/>
                  <a:pt x="50" y="62"/>
                  <a:pt x="50" y="62"/>
                </a:cubicBezTo>
                <a:cubicBezTo>
                  <a:pt x="50" y="67"/>
                  <a:pt x="50" y="67"/>
                  <a:pt x="50" y="67"/>
                </a:cubicBezTo>
                <a:cubicBezTo>
                  <a:pt x="19" y="67"/>
                  <a:pt x="19" y="67"/>
                  <a:pt x="19" y="67"/>
                </a:cubicBezTo>
                <a:cubicBezTo>
                  <a:pt x="19" y="61"/>
                  <a:pt x="19" y="61"/>
                  <a:pt x="19" y="61"/>
                </a:cubicBezTo>
                <a:cubicBezTo>
                  <a:pt x="17" y="61"/>
                  <a:pt x="16" y="61"/>
                  <a:pt x="14" y="61"/>
                </a:cubicBezTo>
                <a:cubicBezTo>
                  <a:pt x="7" y="61"/>
                  <a:pt x="1" y="56"/>
                  <a:pt x="0" y="49"/>
                </a:cubicBezTo>
                <a:cubicBezTo>
                  <a:pt x="0" y="49"/>
                  <a:pt x="0" y="49"/>
                  <a:pt x="0" y="49"/>
                </a:cubicBezTo>
                <a:lnTo>
                  <a:pt x="0" y="48"/>
                </a:lnTo>
                <a:close/>
              </a:path>
            </a:pathLst>
          </a:custGeom>
          <a:solidFill>
            <a:srgbClr val="e0ce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Freeform 39"/>
          <p:cNvSpPr/>
          <p:nvPr/>
        </p:nvSpPr>
        <p:spPr>
          <a:xfrm>
            <a:off x="6819840" y="3373560"/>
            <a:ext cx="622440" cy="4982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6" y="3"/>
                </a:moveTo>
                <a:cubicBezTo>
                  <a:pt x="11" y="0"/>
                  <a:pt x="16" y="7"/>
                  <a:pt x="16" y="7"/>
                </a:cubicBezTo>
                <a:cubicBezTo>
                  <a:pt x="56" y="57"/>
                  <a:pt x="56" y="57"/>
                  <a:pt x="56" y="57"/>
                </a:cubicBezTo>
                <a:cubicBezTo>
                  <a:pt x="67" y="68"/>
                  <a:pt x="93" y="59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102" y="12"/>
                  <a:pt x="109" y="1"/>
                  <a:pt x="116" y="1"/>
                </a:cubicBezTo>
                <a:cubicBezTo>
                  <a:pt x="126" y="1"/>
                  <a:pt x="122" y="11"/>
                  <a:pt x="120" y="20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7" y="48"/>
                  <a:pt x="109" y="90"/>
                  <a:pt x="143" y="90"/>
                </a:cubicBezTo>
                <a:cubicBezTo>
                  <a:pt x="174" y="90"/>
                  <a:pt x="180" y="90"/>
                  <a:pt x="180" y="90"/>
                </a:cubicBezTo>
                <a:cubicBezTo>
                  <a:pt x="181" y="145"/>
                  <a:pt x="181" y="145"/>
                  <a:pt x="181" y="145"/>
                </a:cubicBezTo>
                <a:cubicBezTo>
                  <a:pt x="110" y="144"/>
                  <a:pt x="110" y="144"/>
                  <a:pt x="110" y="144"/>
                </a:cubicBezTo>
                <a:cubicBezTo>
                  <a:pt x="110" y="144"/>
                  <a:pt x="79" y="137"/>
                  <a:pt x="66" y="115"/>
                </a:cubicBezTo>
                <a:cubicBezTo>
                  <a:pt x="56" y="98"/>
                  <a:pt x="4" y="12"/>
                  <a:pt x="4" y="12"/>
                </a:cubicBezTo>
                <a:cubicBezTo>
                  <a:pt x="4" y="12"/>
                  <a:pt x="0" y="6"/>
                  <a:pt x="6" y="3"/>
                </a:cubicBezTo>
                <a:close/>
              </a:path>
            </a:pathLst>
          </a:custGeom>
          <a:solidFill>
            <a:srgbClr val="f2e9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Freeform 40"/>
          <p:cNvSpPr/>
          <p:nvPr/>
        </p:nvSpPr>
        <p:spPr>
          <a:xfrm>
            <a:off x="8678880" y="3098880"/>
            <a:ext cx="365040" cy="149040"/>
          </a:xfrm>
          <a:custGeom>
            <a:avLst/>
            <a:gdLst/>
            <a:ahLst/>
            <a:rect l="l" t="t" r="r" b="b"/>
            <a:pathLst>
              <a:path w="106" h="43">
                <a:moveTo>
                  <a:pt x="106" y="21"/>
                </a:moveTo>
                <a:cubicBezTo>
                  <a:pt x="106" y="10"/>
                  <a:pt x="99" y="0"/>
                  <a:pt x="9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10"/>
                  <a:pt x="0" y="21"/>
                </a:cubicBezTo>
                <a:cubicBezTo>
                  <a:pt x="0" y="33"/>
                  <a:pt x="6" y="43"/>
                  <a:pt x="14" y="43"/>
                </a:cubicBezTo>
                <a:cubicBezTo>
                  <a:pt x="92" y="43"/>
                  <a:pt x="92" y="43"/>
                  <a:pt x="92" y="43"/>
                </a:cubicBezTo>
                <a:cubicBezTo>
                  <a:pt x="99" y="43"/>
                  <a:pt x="106" y="33"/>
                  <a:pt x="106" y="21"/>
                </a:cubicBez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Freeform 41"/>
          <p:cNvSpPr/>
          <p:nvPr/>
        </p:nvSpPr>
        <p:spPr>
          <a:xfrm>
            <a:off x="9285120" y="3260880"/>
            <a:ext cx="225720" cy="22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0" y="52"/>
                </a:moveTo>
                <a:lnTo>
                  <a:pt x="52" y="156"/>
                </a:lnTo>
                <a:lnTo>
                  <a:pt x="156" y="104"/>
                </a:lnTo>
                <a:lnTo>
                  <a:pt x="104" y="0"/>
                </a:lnTo>
                <a:lnTo>
                  <a:pt x="0" y="5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Freeform 42"/>
          <p:cNvSpPr/>
          <p:nvPr/>
        </p:nvSpPr>
        <p:spPr>
          <a:xfrm>
            <a:off x="9212400" y="3112920"/>
            <a:ext cx="223560" cy="2224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0"/>
                </a:moveTo>
                <a:lnTo>
                  <a:pt x="50" y="154"/>
                </a:lnTo>
                <a:lnTo>
                  <a:pt x="154" y="102"/>
                </a:lnTo>
                <a:lnTo>
                  <a:pt x="104" y="0"/>
                </a:lnTo>
                <a:lnTo>
                  <a:pt x="0" y="5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Freeform 43"/>
          <p:cNvSpPr/>
          <p:nvPr/>
        </p:nvSpPr>
        <p:spPr>
          <a:xfrm>
            <a:off x="9435960" y="3187800"/>
            <a:ext cx="223920" cy="22356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0"/>
                </a:moveTo>
                <a:lnTo>
                  <a:pt x="52" y="154"/>
                </a:lnTo>
                <a:lnTo>
                  <a:pt x="154" y="105"/>
                </a:lnTo>
                <a:lnTo>
                  <a:pt x="104" y="0"/>
                </a:lnTo>
                <a:lnTo>
                  <a:pt x="0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Freeform 44"/>
          <p:cNvSpPr/>
          <p:nvPr/>
        </p:nvSpPr>
        <p:spPr>
          <a:xfrm>
            <a:off x="9363240" y="3036960"/>
            <a:ext cx="22356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2"/>
                </a:moveTo>
                <a:lnTo>
                  <a:pt x="50" y="154"/>
                </a:lnTo>
                <a:lnTo>
                  <a:pt x="154" y="104"/>
                </a:lnTo>
                <a:lnTo>
                  <a:pt x="105" y="0"/>
                </a:lnTo>
                <a:lnTo>
                  <a:pt x="0" y="52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Freeform 45"/>
          <p:cNvSpPr/>
          <p:nvPr/>
        </p:nvSpPr>
        <p:spPr>
          <a:xfrm>
            <a:off x="9136080" y="333540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50"/>
                </a:moveTo>
                <a:lnTo>
                  <a:pt x="50" y="154"/>
                </a:lnTo>
                <a:lnTo>
                  <a:pt x="154" y="104"/>
                </a:lnTo>
                <a:lnTo>
                  <a:pt x="102" y="0"/>
                </a:lnTo>
                <a:lnTo>
                  <a:pt x="0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Freeform 46"/>
          <p:cNvSpPr/>
          <p:nvPr/>
        </p:nvSpPr>
        <p:spPr>
          <a:xfrm>
            <a:off x="9064800" y="3184560"/>
            <a:ext cx="220320" cy="223920"/>
          </a:xfrm>
          <a:custGeom>
            <a:avLst/>
            <a:gdLst/>
            <a:ahLst/>
            <a:rect l="l" t="t" r="r" b="b"/>
            <a:pathLst>
              <a:path w="152" h="154">
                <a:moveTo>
                  <a:pt x="50" y="154"/>
                </a:moveTo>
                <a:lnTo>
                  <a:pt x="152" y="104"/>
                </a:lnTo>
                <a:lnTo>
                  <a:pt x="102" y="0"/>
                </a:lnTo>
                <a:lnTo>
                  <a:pt x="0" y="52"/>
                </a:lnTo>
                <a:lnTo>
                  <a:pt x="50" y="15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Freeform 47"/>
          <p:cNvSpPr/>
          <p:nvPr/>
        </p:nvSpPr>
        <p:spPr>
          <a:xfrm>
            <a:off x="9501120" y="2989440"/>
            <a:ext cx="144360" cy="203040"/>
          </a:xfrm>
          <a:custGeom>
            <a:avLst/>
            <a:gdLst/>
            <a:ahLst/>
            <a:rect l="l" t="t" r="r" b="b"/>
            <a:pathLst>
              <a:path w="99" h="140">
                <a:moveTo>
                  <a:pt x="99" y="119"/>
                </a:moveTo>
                <a:lnTo>
                  <a:pt x="45" y="0"/>
                </a:lnTo>
                <a:lnTo>
                  <a:pt x="0" y="21"/>
                </a:lnTo>
                <a:lnTo>
                  <a:pt x="55" y="140"/>
                </a:lnTo>
                <a:lnTo>
                  <a:pt x="99" y="119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Freeform 48"/>
          <p:cNvSpPr/>
          <p:nvPr/>
        </p:nvSpPr>
        <p:spPr>
          <a:xfrm>
            <a:off x="9580680" y="3162240"/>
            <a:ext cx="144360" cy="198360"/>
          </a:xfrm>
          <a:custGeom>
            <a:avLst/>
            <a:gdLst/>
            <a:ahLst/>
            <a:rect l="l" t="t" r="r" b="b"/>
            <a:pathLst>
              <a:path w="99" h="137">
                <a:moveTo>
                  <a:pt x="99" y="116"/>
                </a:moveTo>
                <a:lnTo>
                  <a:pt x="44" y="0"/>
                </a:lnTo>
                <a:lnTo>
                  <a:pt x="0" y="21"/>
                </a:lnTo>
                <a:lnTo>
                  <a:pt x="54" y="137"/>
                </a:lnTo>
                <a:lnTo>
                  <a:pt x="99" y="116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Freeform 49"/>
          <p:cNvSpPr/>
          <p:nvPr/>
        </p:nvSpPr>
        <p:spPr>
          <a:xfrm>
            <a:off x="9312120" y="4054320"/>
            <a:ext cx="227160" cy="22392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0" y="102"/>
                </a:moveTo>
                <a:lnTo>
                  <a:pt x="52" y="0"/>
                </a:lnTo>
                <a:lnTo>
                  <a:pt x="156" y="50"/>
                </a:lnTo>
                <a:lnTo>
                  <a:pt x="104" y="154"/>
                </a:lnTo>
                <a:lnTo>
                  <a:pt x="0" y="10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Freeform 50"/>
          <p:cNvSpPr/>
          <p:nvPr/>
        </p:nvSpPr>
        <p:spPr>
          <a:xfrm>
            <a:off x="9239400" y="4203720"/>
            <a:ext cx="223560" cy="22536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0" y="104"/>
                </a:moveTo>
                <a:lnTo>
                  <a:pt x="50" y="0"/>
                </a:lnTo>
                <a:lnTo>
                  <a:pt x="154" y="52"/>
                </a:lnTo>
                <a:lnTo>
                  <a:pt x="104" y="156"/>
                </a:lnTo>
                <a:lnTo>
                  <a:pt x="0" y="104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Freeform 51"/>
          <p:cNvSpPr/>
          <p:nvPr/>
        </p:nvSpPr>
        <p:spPr>
          <a:xfrm>
            <a:off x="9462960" y="4127400"/>
            <a:ext cx="223920" cy="222480"/>
          </a:xfrm>
          <a:custGeom>
            <a:avLst/>
            <a:gdLst/>
            <a:ahLst/>
            <a:rect l="l" t="t" r="r" b="b"/>
            <a:pathLst>
              <a:path w="154" h="153">
                <a:moveTo>
                  <a:pt x="0" y="104"/>
                </a:moveTo>
                <a:lnTo>
                  <a:pt x="52" y="0"/>
                </a:lnTo>
                <a:lnTo>
                  <a:pt x="154" y="49"/>
                </a:lnTo>
                <a:lnTo>
                  <a:pt x="104" y="153"/>
                </a:lnTo>
                <a:lnTo>
                  <a:pt x="0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Freeform 52"/>
          <p:cNvSpPr/>
          <p:nvPr/>
        </p:nvSpPr>
        <p:spPr>
          <a:xfrm>
            <a:off x="9391680" y="4278240"/>
            <a:ext cx="2221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104"/>
                </a:moveTo>
                <a:lnTo>
                  <a:pt x="50" y="0"/>
                </a:lnTo>
                <a:lnTo>
                  <a:pt x="154" y="49"/>
                </a:lnTo>
                <a:lnTo>
                  <a:pt x="104" y="154"/>
                </a:lnTo>
                <a:lnTo>
                  <a:pt x="0" y="10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Freeform 53"/>
          <p:cNvSpPr/>
          <p:nvPr/>
        </p:nvSpPr>
        <p:spPr>
          <a:xfrm>
            <a:off x="9164520" y="397980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0" y="104"/>
                </a:moveTo>
                <a:lnTo>
                  <a:pt x="50" y="0"/>
                </a:lnTo>
                <a:lnTo>
                  <a:pt x="154" y="52"/>
                </a:lnTo>
                <a:lnTo>
                  <a:pt x="102" y="154"/>
                </a:lnTo>
                <a:lnTo>
                  <a:pt x="0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Freeform 54"/>
          <p:cNvSpPr/>
          <p:nvPr/>
        </p:nvSpPr>
        <p:spPr>
          <a:xfrm>
            <a:off x="9091440" y="4130640"/>
            <a:ext cx="220680" cy="223920"/>
          </a:xfrm>
          <a:custGeom>
            <a:avLst/>
            <a:gdLst/>
            <a:ahLst/>
            <a:rect l="l" t="t" r="r" b="b"/>
            <a:pathLst>
              <a:path w="152" h="154">
                <a:moveTo>
                  <a:pt x="50" y="0"/>
                </a:moveTo>
                <a:lnTo>
                  <a:pt x="152" y="50"/>
                </a:lnTo>
                <a:lnTo>
                  <a:pt x="102" y="154"/>
                </a:lnTo>
                <a:lnTo>
                  <a:pt x="0" y="104"/>
                </a:lnTo>
                <a:lnTo>
                  <a:pt x="50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Freeform 55"/>
          <p:cNvSpPr/>
          <p:nvPr/>
        </p:nvSpPr>
        <p:spPr>
          <a:xfrm>
            <a:off x="9528120" y="4349880"/>
            <a:ext cx="144360" cy="199800"/>
          </a:xfrm>
          <a:custGeom>
            <a:avLst/>
            <a:gdLst/>
            <a:ahLst/>
            <a:rect l="l" t="t" r="r" b="b"/>
            <a:pathLst>
              <a:path w="99" h="138">
                <a:moveTo>
                  <a:pt x="99" y="22"/>
                </a:moveTo>
                <a:lnTo>
                  <a:pt x="45" y="138"/>
                </a:lnTo>
                <a:lnTo>
                  <a:pt x="0" y="116"/>
                </a:lnTo>
                <a:lnTo>
                  <a:pt x="54" y="0"/>
                </a:lnTo>
                <a:lnTo>
                  <a:pt x="99" y="2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Freeform 56"/>
          <p:cNvSpPr/>
          <p:nvPr/>
        </p:nvSpPr>
        <p:spPr>
          <a:xfrm>
            <a:off x="9607680" y="4178160"/>
            <a:ext cx="144360" cy="203400"/>
          </a:xfrm>
          <a:custGeom>
            <a:avLst/>
            <a:gdLst/>
            <a:ahLst/>
            <a:rect l="l" t="t" r="r" b="b"/>
            <a:pathLst>
              <a:path w="100" h="140">
                <a:moveTo>
                  <a:pt x="100" y="21"/>
                </a:moveTo>
                <a:lnTo>
                  <a:pt x="45" y="140"/>
                </a:lnTo>
                <a:lnTo>
                  <a:pt x="0" y="118"/>
                </a:lnTo>
                <a:lnTo>
                  <a:pt x="55" y="0"/>
                </a:lnTo>
                <a:lnTo>
                  <a:pt x="100" y="2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Freeform 57"/>
          <p:cNvSpPr/>
          <p:nvPr/>
        </p:nvSpPr>
        <p:spPr>
          <a:xfrm>
            <a:off x="9407520" y="3768840"/>
            <a:ext cx="1699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6"/>
                </a:lnTo>
                <a:lnTo>
                  <a:pt x="114" y="116"/>
                </a:lnTo>
                <a:lnTo>
                  <a:pt x="116" y="0"/>
                </a:lnTo>
                <a:lnTo>
                  <a:pt x="0" y="0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Freeform 58"/>
          <p:cNvSpPr/>
          <p:nvPr/>
        </p:nvSpPr>
        <p:spPr>
          <a:xfrm>
            <a:off x="9407520" y="3600360"/>
            <a:ext cx="1699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6"/>
                </a:lnTo>
                <a:lnTo>
                  <a:pt x="116" y="116"/>
                </a:lnTo>
                <a:lnTo>
                  <a:pt x="116" y="3"/>
                </a:lnTo>
                <a:lnTo>
                  <a:pt x="0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Freeform 59"/>
          <p:cNvSpPr/>
          <p:nvPr/>
        </p:nvSpPr>
        <p:spPr>
          <a:xfrm>
            <a:off x="9574200" y="3768840"/>
            <a:ext cx="1681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0"/>
                </a:moveTo>
                <a:lnTo>
                  <a:pt x="0" y="116"/>
                </a:lnTo>
                <a:lnTo>
                  <a:pt x="116" y="116"/>
                </a:lnTo>
                <a:lnTo>
                  <a:pt x="116" y="3"/>
                </a:lnTo>
                <a:lnTo>
                  <a:pt x="0" y="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Freeform 60"/>
          <p:cNvSpPr/>
          <p:nvPr/>
        </p:nvSpPr>
        <p:spPr>
          <a:xfrm>
            <a:off x="9574200" y="3605040"/>
            <a:ext cx="1681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2" y="0"/>
                </a:moveTo>
                <a:lnTo>
                  <a:pt x="0" y="113"/>
                </a:lnTo>
                <a:lnTo>
                  <a:pt x="116" y="116"/>
                </a:lnTo>
                <a:lnTo>
                  <a:pt x="116" y="0"/>
                </a:lnTo>
                <a:lnTo>
                  <a:pt x="2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Rectangle 61"/>
          <p:cNvSpPr/>
          <p:nvPr/>
        </p:nvSpPr>
        <p:spPr>
          <a:xfrm>
            <a:off x="9239400" y="3768840"/>
            <a:ext cx="168120" cy="16812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Freeform 62"/>
          <p:cNvSpPr/>
          <p:nvPr/>
        </p:nvSpPr>
        <p:spPr>
          <a:xfrm>
            <a:off x="9239400" y="3600360"/>
            <a:ext cx="1681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0" y="116"/>
                </a:moveTo>
                <a:lnTo>
                  <a:pt x="116" y="116"/>
                </a:lnTo>
                <a:lnTo>
                  <a:pt x="116" y="0"/>
                </a:lnTo>
                <a:lnTo>
                  <a:pt x="0" y="3"/>
                </a:lnTo>
                <a:lnTo>
                  <a:pt x="0" y="11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Freeform 63"/>
          <p:cNvSpPr/>
          <p:nvPr/>
        </p:nvSpPr>
        <p:spPr>
          <a:xfrm>
            <a:off x="9734400" y="3584520"/>
            <a:ext cx="79560" cy="189000"/>
          </a:xfrm>
          <a:custGeom>
            <a:avLst/>
            <a:gdLst/>
            <a:ahLst/>
            <a:rect l="l" t="t" r="r" b="b"/>
            <a:pathLst>
              <a:path w="54" h="130">
                <a:moveTo>
                  <a:pt x="50" y="130"/>
                </a:moveTo>
                <a:lnTo>
                  <a:pt x="54" y="0"/>
                </a:lnTo>
                <a:lnTo>
                  <a:pt x="2" y="0"/>
                </a:lnTo>
                <a:lnTo>
                  <a:pt x="0" y="127"/>
                </a:lnTo>
                <a:lnTo>
                  <a:pt x="50" y="130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Freeform 64"/>
          <p:cNvSpPr/>
          <p:nvPr/>
        </p:nvSpPr>
        <p:spPr>
          <a:xfrm>
            <a:off x="9731520" y="3768840"/>
            <a:ext cx="75960" cy="190440"/>
          </a:xfrm>
          <a:custGeom>
            <a:avLst/>
            <a:gdLst/>
            <a:ahLst/>
            <a:rect l="l" t="t" r="r" b="b"/>
            <a:pathLst>
              <a:path w="52" h="131">
                <a:moveTo>
                  <a:pt x="49" y="131"/>
                </a:moveTo>
                <a:lnTo>
                  <a:pt x="52" y="3"/>
                </a:lnTo>
                <a:lnTo>
                  <a:pt x="2" y="0"/>
                </a:lnTo>
                <a:lnTo>
                  <a:pt x="0" y="128"/>
                </a:lnTo>
                <a:lnTo>
                  <a:pt x="49" y="13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Freeform 65"/>
          <p:cNvSpPr/>
          <p:nvPr/>
        </p:nvSpPr>
        <p:spPr>
          <a:xfrm>
            <a:off x="8229600" y="3260880"/>
            <a:ext cx="223920" cy="22680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154" y="52"/>
                </a:moveTo>
                <a:lnTo>
                  <a:pt x="104" y="156"/>
                </a:lnTo>
                <a:lnTo>
                  <a:pt x="0" y="104"/>
                </a:lnTo>
                <a:lnTo>
                  <a:pt x="50" y="0"/>
                </a:lnTo>
                <a:lnTo>
                  <a:pt x="154" y="5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Freeform 66"/>
          <p:cNvSpPr/>
          <p:nvPr/>
        </p:nvSpPr>
        <p:spPr>
          <a:xfrm>
            <a:off x="8300880" y="3112920"/>
            <a:ext cx="223920" cy="22248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50"/>
                </a:moveTo>
                <a:lnTo>
                  <a:pt x="104" y="154"/>
                </a:lnTo>
                <a:lnTo>
                  <a:pt x="0" y="102"/>
                </a:lnTo>
                <a:lnTo>
                  <a:pt x="52" y="0"/>
                </a:lnTo>
                <a:lnTo>
                  <a:pt x="154" y="5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Freeform 67"/>
          <p:cNvSpPr/>
          <p:nvPr/>
        </p:nvSpPr>
        <p:spPr>
          <a:xfrm>
            <a:off x="8078760" y="3187800"/>
            <a:ext cx="222120" cy="22356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50"/>
                </a:moveTo>
                <a:lnTo>
                  <a:pt x="104" y="154"/>
                </a:lnTo>
                <a:lnTo>
                  <a:pt x="0" y="105"/>
                </a:lnTo>
                <a:lnTo>
                  <a:pt x="50" y="0"/>
                </a:lnTo>
                <a:lnTo>
                  <a:pt x="154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Freeform 68"/>
          <p:cNvSpPr/>
          <p:nvPr/>
        </p:nvSpPr>
        <p:spPr>
          <a:xfrm>
            <a:off x="8150400" y="3036960"/>
            <a:ext cx="226800" cy="22392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156" y="52"/>
                </a:moveTo>
                <a:lnTo>
                  <a:pt x="104" y="154"/>
                </a:lnTo>
                <a:lnTo>
                  <a:pt x="0" y="104"/>
                </a:lnTo>
                <a:lnTo>
                  <a:pt x="52" y="0"/>
                </a:lnTo>
                <a:lnTo>
                  <a:pt x="156" y="52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Freeform 69"/>
          <p:cNvSpPr/>
          <p:nvPr/>
        </p:nvSpPr>
        <p:spPr>
          <a:xfrm>
            <a:off x="8380440" y="333540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50"/>
                </a:moveTo>
                <a:lnTo>
                  <a:pt x="105" y="154"/>
                </a:lnTo>
                <a:lnTo>
                  <a:pt x="0" y="104"/>
                </a:lnTo>
                <a:lnTo>
                  <a:pt x="50" y="0"/>
                </a:lnTo>
                <a:lnTo>
                  <a:pt x="154" y="5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7" name="Freeform 70"/>
          <p:cNvSpPr/>
          <p:nvPr/>
        </p:nvSpPr>
        <p:spPr>
          <a:xfrm>
            <a:off x="8453520" y="3184560"/>
            <a:ext cx="2221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04" y="154"/>
                </a:moveTo>
                <a:lnTo>
                  <a:pt x="0" y="104"/>
                </a:lnTo>
                <a:lnTo>
                  <a:pt x="50" y="0"/>
                </a:lnTo>
                <a:lnTo>
                  <a:pt x="154" y="52"/>
                </a:lnTo>
                <a:lnTo>
                  <a:pt x="104" y="15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Freeform 71"/>
          <p:cNvSpPr/>
          <p:nvPr/>
        </p:nvSpPr>
        <p:spPr>
          <a:xfrm>
            <a:off x="8093160" y="2989440"/>
            <a:ext cx="145800" cy="203040"/>
          </a:xfrm>
          <a:custGeom>
            <a:avLst/>
            <a:gdLst/>
            <a:ahLst/>
            <a:rect l="l" t="t" r="r" b="b"/>
            <a:pathLst>
              <a:path w="101" h="140">
                <a:moveTo>
                  <a:pt x="0" y="119"/>
                </a:moveTo>
                <a:lnTo>
                  <a:pt x="54" y="0"/>
                </a:lnTo>
                <a:lnTo>
                  <a:pt x="101" y="21"/>
                </a:lnTo>
                <a:lnTo>
                  <a:pt x="47" y="140"/>
                </a:lnTo>
                <a:lnTo>
                  <a:pt x="0" y="119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Freeform 72"/>
          <p:cNvSpPr/>
          <p:nvPr/>
        </p:nvSpPr>
        <p:spPr>
          <a:xfrm>
            <a:off x="8012160" y="3162240"/>
            <a:ext cx="149040" cy="198360"/>
          </a:xfrm>
          <a:custGeom>
            <a:avLst/>
            <a:gdLst/>
            <a:ahLst/>
            <a:rect l="l" t="t" r="r" b="b"/>
            <a:pathLst>
              <a:path w="102" h="137">
                <a:moveTo>
                  <a:pt x="0" y="116"/>
                </a:moveTo>
                <a:lnTo>
                  <a:pt x="55" y="0"/>
                </a:lnTo>
                <a:lnTo>
                  <a:pt x="102" y="21"/>
                </a:lnTo>
                <a:lnTo>
                  <a:pt x="48" y="137"/>
                </a:lnTo>
                <a:lnTo>
                  <a:pt x="0" y="116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Freeform 73"/>
          <p:cNvSpPr/>
          <p:nvPr/>
        </p:nvSpPr>
        <p:spPr>
          <a:xfrm>
            <a:off x="8201160" y="4054320"/>
            <a:ext cx="22356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54" y="102"/>
                </a:moveTo>
                <a:lnTo>
                  <a:pt x="105" y="0"/>
                </a:lnTo>
                <a:lnTo>
                  <a:pt x="0" y="50"/>
                </a:lnTo>
                <a:lnTo>
                  <a:pt x="50" y="154"/>
                </a:lnTo>
                <a:lnTo>
                  <a:pt x="154" y="10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Freeform 74"/>
          <p:cNvSpPr/>
          <p:nvPr/>
        </p:nvSpPr>
        <p:spPr>
          <a:xfrm>
            <a:off x="8273880" y="4203720"/>
            <a:ext cx="223920" cy="225360"/>
          </a:xfrm>
          <a:custGeom>
            <a:avLst/>
            <a:gdLst/>
            <a:ahLst/>
            <a:rect l="l" t="t" r="r" b="b"/>
            <a:pathLst>
              <a:path w="154" h="156">
                <a:moveTo>
                  <a:pt x="154" y="104"/>
                </a:moveTo>
                <a:lnTo>
                  <a:pt x="104" y="0"/>
                </a:lnTo>
                <a:lnTo>
                  <a:pt x="0" y="52"/>
                </a:lnTo>
                <a:lnTo>
                  <a:pt x="52" y="156"/>
                </a:lnTo>
                <a:lnTo>
                  <a:pt x="154" y="104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Freeform 75"/>
          <p:cNvSpPr/>
          <p:nvPr/>
        </p:nvSpPr>
        <p:spPr>
          <a:xfrm>
            <a:off x="8050320" y="4127400"/>
            <a:ext cx="223560" cy="222480"/>
          </a:xfrm>
          <a:custGeom>
            <a:avLst/>
            <a:gdLst/>
            <a:ahLst/>
            <a:rect l="l" t="t" r="r" b="b"/>
            <a:pathLst>
              <a:path w="154" h="153">
                <a:moveTo>
                  <a:pt x="154" y="104"/>
                </a:moveTo>
                <a:lnTo>
                  <a:pt x="104" y="0"/>
                </a:lnTo>
                <a:lnTo>
                  <a:pt x="0" y="49"/>
                </a:lnTo>
                <a:lnTo>
                  <a:pt x="50" y="153"/>
                </a:lnTo>
                <a:lnTo>
                  <a:pt x="154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Freeform 76"/>
          <p:cNvSpPr/>
          <p:nvPr/>
        </p:nvSpPr>
        <p:spPr>
          <a:xfrm>
            <a:off x="8123400" y="4278240"/>
            <a:ext cx="226800" cy="223920"/>
          </a:xfrm>
          <a:custGeom>
            <a:avLst/>
            <a:gdLst/>
            <a:ahLst/>
            <a:rect l="l" t="t" r="r" b="b"/>
            <a:pathLst>
              <a:path w="156" h="154">
                <a:moveTo>
                  <a:pt x="156" y="104"/>
                </a:moveTo>
                <a:lnTo>
                  <a:pt x="104" y="0"/>
                </a:lnTo>
                <a:lnTo>
                  <a:pt x="0" y="49"/>
                </a:lnTo>
                <a:lnTo>
                  <a:pt x="52" y="154"/>
                </a:lnTo>
                <a:lnTo>
                  <a:pt x="156" y="104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Freeform 77"/>
          <p:cNvSpPr/>
          <p:nvPr/>
        </p:nvSpPr>
        <p:spPr>
          <a:xfrm>
            <a:off x="8353440" y="3979800"/>
            <a:ext cx="222120" cy="223920"/>
          </a:xfrm>
          <a:custGeom>
            <a:avLst/>
            <a:gdLst/>
            <a:ahLst/>
            <a:rect l="l" t="t" r="r" b="b"/>
            <a:pathLst>
              <a:path w="153" h="154">
                <a:moveTo>
                  <a:pt x="153" y="104"/>
                </a:moveTo>
                <a:lnTo>
                  <a:pt x="104" y="0"/>
                </a:lnTo>
                <a:lnTo>
                  <a:pt x="0" y="52"/>
                </a:lnTo>
                <a:lnTo>
                  <a:pt x="49" y="154"/>
                </a:lnTo>
                <a:lnTo>
                  <a:pt x="153" y="104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Freeform 78"/>
          <p:cNvSpPr/>
          <p:nvPr/>
        </p:nvSpPr>
        <p:spPr>
          <a:xfrm>
            <a:off x="8424720" y="4130640"/>
            <a:ext cx="223920" cy="223920"/>
          </a:xfrm>
          <a:custGeom>
            <a:avLst/>
            <a:gdLst/>
            <a:ahLst/>
            <a:rect l="l" t="t" r="r" b="b"/>
            <a:pathLst>
              <a:path w="154" h="154">
                <a:moveTo>
                  <a:pt x="104" y="0"/>
                </a:moveTo>
                <a:lnTo>
                  <a:pt x="0" y="50"/>
                </a:lnTo>
                <a:lnTo>
                  <a:pt x="50" y="154"/>
                </a:lnTo>
                <a:lnTo>
                  <a:pt x="154" y="104"/>
                </a:lnTo>
                <a:lnTo>
                  <a:pt x="104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Freeform 79"/>
          <p:cNvSpPr/>
          <p:nvPr/>
        </p:nvSpPr>
        <p:spPr>
          <a:xfrm>
            <a:off x="8064360" y="4349880"/>
            <a:ext cx="149400" cy="199800"/>
          </a:xfrm>
          <a:custGeom>
            <a:avLst/>
            <a:gdLst/>
            <a:ahLst/>
            <a:rect l="l" t="t" r="r" b="b"/>
            <a:pathLst>
              <a:path w="102" h="138">
                <a:moveTo>
                  <a:pt x="0" y="22"/>
                </a:moveTo>
                <a:lnTo>
                  <a:pt x="54" y="138"/>
                </a:lnTo>
                <a:lnTo>
                  <a:pt x="102" y="116"/>
                </a:lnTo>
                <a:lnTo>
                  <a:pt x="47" y="0"/>
                </a:lnTo>
                <a:lnTo>
                  <a:pt x="0" y="22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Freeform 80"/>
          <p:cNvSpPr/>
          <p:nvPr/>
        </p:nvSpPr>
        <p:spPr>
          <a:xfrm>
            <a:off x="7985160" y="4178160"/>
            <a:ext cx="147600" cy="203400"/>
          </a:xfrm>
          <a:custGeom>
            <a:avLst/>
            <a:gdLst/>
            <a:ahLst/>
            <a:rect l="l" t="t" r="r" b="b"/>
            <a:pathLst>
              <a:path w="102" h="140">
                <a:moveTo>
                  <a:pt x="0" y="21"/>
                </a:moveTo>
                <a:lnTo>
                  <a:pt x="55" y="140"/>
                </a:lnTo>
                <a:lnTo>
                  <a:pt x="102" y="118"/>
                </a:lnTo>
                <a:lnTo>
                  <a:pt x="48" y="0"/>
                </a:lnTo>
                <a:lnTo>
                  <a:pt x="0" y="2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Rectangle 81"/>
          <p:cNvSpPr/>
          <p:nvPr/>
        </p:nvSpPr>
        <p:spPr>
          <a:xfrm>
            <a:off x="8164440" y="3768840"/>
            <a:ext cx="168480" cy="16812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Freeform 82"/>
          <p:cNvSpPr/>
          <p:nvPr/>
        </p:nvSpPr>
        <p:spPr>
          <a:xfrm>
            <a:off x="8164440" y="3600360"/>
            <a:ext cx="16848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4" y="0"/>
                </a:moveTo>
                <a:lnTo>
                  <a:pt x="116" y="116"/>
                </a:lnTo>
                <a:lnTo>
                  <a:pt x="0" y="116"/>
                </a:lnTo>
                <a:lnTo>
                  <a:pt x="0" y="3"/>
                </a:lnTo>
                <a:lnTo>
                  <a:pt x="114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Freeform 83"/>
          <p:cNvSpPr/>
          <p:nvPr/>
        </p:nvSpPr>
        <p:spPr>
          <a:xfrm>
            <a:off x="7994520" y="3768840"/>
            <a:ext cx="1699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0"/>
                </a:moveTo>
                <a:lnTo>
                  <a:pt x="116" y="116"/>
                </a:lnTo>
                <a:lnTo>
                  <a:pt x="0" y="116"/>
                </a:lnTo>
                <a:lnTo>
                  <a:pt x="0" y="3"/>
                </a:lnTo>
                <a:lnTo>
                  <a:pt x="116" y="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1" name="Freeform 84"/>
          <p:cNvSpPr/>
          <p:nvPr/>
        </p:nvSpPr>
        <p:spPr>
          <a:xfrm>
            <a:off x="7994520" y="3605040"/>
            <a:ext cx="1699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0"/>
                </a:moveTo>
                <a:lnTo>
                  <a:pt x="116" y="113"/>
                </a:lnTo>
                <a:lnTo>
                  <a:pt x="0" y="116"/>
                </a:lnTo>
                <a:lnTo>
                  <a:pt x="0" y="0"/>
                </a:lnTo>
                <a:lnTo>
                  <a:pt x="116" y="0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Freeform 85"/>
          <p:cNvSpPr/>
          <p:nvPr/>
        </p:nvSpPr>
        <p:spPr>
          <a:xfrm>
            <a:off x="8332920" y="3768840"/>
            <a:ext cx="168120" cy="16812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4" y="0"/>
                </a:moveTo>
                <a:lnTo>
                  <a:pt x="116" y="116"/>
                </a:lnTo>
                <a:lnTo>
                  <a:pt x="0" y="116"/>
                </a:lnTo>
                <a:lnTo>
                  <a:pt x="0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Freeform 86"/>
          <p:cNvSpPr/>
          <p:nvPr/>
        </p:nvSpPr>
        <p:spPr>
          <a:xfrm>
            <a:off x="8329680" y="3600360"/>
            <a:ext cx="168120" cy="168480"/>
          </a:xfrm>
          <a:custGeom>
            <a:avLst/>
            <a:gdLst/>
            <a:ahLst/>
            <a:rect l="l" t="t" r="r" b="b"/>
            <a:pathLst>
              <a:path w="116" h="116">
                <a:moveTo>
                  <a:pt x="116" y="116"/>
                </a:moveTo>
                <a:lnTo>
                  <a:pt x="2" y="116"/>
                </a:lnTo>
                <a:lnTo>
                  <a:pt x="0" y="0"/>
                </a:lnTo>
                <a:lnTo>
                  <a:pt x="116" y="3"/>
                </a:lnTo>
                <a:lnTo>
                  <a:pt x="116" y="11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Freeform 87"/>
          <p:cNvSpPr/>
          <p:nvPr/>
        </p:nvSpPr>
        <p:spPr>
          <a:xfrm>
            <a:off x="7926480" y="3584520"/>
            <a:ext cx="81000" cy="189000"/>
          </a:xfrm>
          <a:custGeom>
            <a:avLst/>
            <a:gdLst/>
            <a:ahLst/>
            <a:rect l="l" t="t" r="r" b="b"/>
            <a:pathLst>
              <a:path w="55" h="130">
                <a:moveTo>
                  <a:pt x="2" y="130"/>
                </a:moveTo>
                <a:lnTo>
                  <a:pt x="0" y="0"/>
                </a:lnTo>
                <a:lnTo>
                  <a:pt x="50" y="0"/>
                </a:lnTo>
                <a:lnTo>
                  <a:pt x="55" y="127"/>
                </a:lnTo>
                <a:lnTo>
                  <a:pt x="2" y="130"/>
                </a:lnTo>
                <a:close/>
              </a:path>
            </a:pathLst>
          </a:cu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Freeform 88"/>
          <p:cNvSpPr/>
          <p:nvPr/>
        </p:nvSpPr>
        <p:spPr>
          <a:xfrm>
            <a:off x="7929720" y="3768840"/>
            <a:ext cx="80640" cy="190440"/>
          </a:xfrm>
          <a:custGeom>
            <a:avLst/>
            <a:gdLst/>
            <a:ahLst/>
            <a:rect l="l" t="t" r="r" b="b"/>
            <a:pathLst>
              <a:path w="55" h="131">
                <a:moveTo>
                  <a:pt x="3" y="131"/>
                </a:moveTo>
                <a:lnTo>
                  <a:pt x="0" y="3"/>
                </a:lnTo>
                <a:lnTo>
                  <a:pt x="53" y="0"/>
                </a:lnTo>
                <a:lnTo>
                  <a:pt x="55" y="128"/>
                </a:lnTo>
                <a:lnTo>
                  <a:pt x="3" y="131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Freeform 89"/>
          <p:cNvSpPr/>
          <p:nvPr/>
        </p:nvSpPr>
        <p:spPr>
          <a:xfrm>
            <a:off x="8580600" y="3146400"/>
            <a:ext cx="571320" cy="149400"/>
          </a:xfrm>
          <a:custGeom>
            <a:avLst/>
            <a:gdLst/>
            <a:ahLst/>
            <a:rect l="l" t="t" r="r" b="b"/>
            <a:pathLst>
              <a:path w="166" h="43">
                <a:moveTo>
                  <a:pt x="166" y="21"/>
                </a:moveTo>
                <a:cubicBezTo>
                  <a:pt x="166" y="10"/>
                  <a:pt x="156" y="0"/>
                  <a:pt x="143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33"/>
                  <a:pt x="10" y="43"/>
                  <a:pt x="23" y="43"/>
                </a:cubicBezTo>
                <a:cubicBezTo>
                  <a:pt x="143" y="43"/>
                  <a:pt x="143" y="43"/>
                  <a:pt x="143" y="43"/>
                </a:cubicBezTo>
                <a:cubicBezTo>
                  <a:pt x="156" y="43"/>
                  <a:pt x="166" y="33"/>
                  <a:pt x="166" y="21"/>
                </a:cubicBez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Rectangle 90"/>
          <p:cNvSpPr/>
          <p:nvPr/>
        </p:nvSpPr>
        <p:spPr>
          <a:xfrm>
            <a:off x="9078840" y="5865840"/>
            <a:ext cx="171360" cy="237960"/>
          </a:xfrm>
          <a:prstGeom prst="rect">
            <a:avLst/>
          </a:prstGeom>
          <a:solidFill>
            <a:srgbClr val="2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Rectangle 91"/>
          <p:cNvSpPr/>
          <p:nvPr/>
        </p:nvSpPr>
        <p:spPr>
          <a:xfrm>
            <a:off x="8483760" y="5856120"/>
            <a:ext cx="172800" cy="236880"/>
          </a:xfrm>
          <a:prstGeom prst="rect">
            <a:avLst/>
          </a:prstGeom>
          <a:solidFill>
            <a:srgbClr val="2349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Freeform 92">
            <a:hlinkClick r:id="rId4"/>
          </p:cNvPr>
          <p:cNvSpPr/>
          <p:nvPr/>
        </p:nvSpPr>
        <p:spPr>
          <a:xfrm>
            <a:off x="8402760" y="4532400"/>
            <a:ext cx="922320" cy="882720"/>
          </a:xfrm>
          <a:custGeom>
            <a:avLst/>
            <a:gdLst/>
            <a:ahLst/>
            <a:rect l="l" t="t" r="r" b="b"/>
            <a:pathLst>
              <a:path w="636" h="608">
                <a:moveTo>
                  <a:pt x="636" y="0"/>
                </a:moveTo>
                <a:lnTo>
                  <a:pt x="0" y="0"/>
                </a:lnTo>
                <a:lnTo>
                  <a:pt x="2" y="608"/>
                </a:lnTo>
                <a:lnTo>
                  <a:pt x="165" y="608"/>
                </a:lnTo>
                <a:lnTo>
                  <a:pt x="213" y="237"/>
                </a:lnTo>
                <a:lnTo>
                  <a:pt x="414" y="239"/>
                </a:lnTo>
                <a:lnTo>
                  <a:pt x="473" y="608"/>
                </a:lnTo>
                <a:lnTo>
                  <a:pt x="636" y="608"/>
                </a:lnTo>
                <a:lnTo>
                  <a:pt x="636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Freeform 93"/>
          <p:cNvSpPr/>
          <p:nvPr/>
        </p:nvSpPr>
        <p:spPr>
          <a:xfrm>
            <a:off x="8404200" y="5375160"/>
            <a:ext cx="264960" cy="598680"/>
          </a:xfrm>
          <a:custGeom>
            <a:avLst/>
            <a:gdLst/>
            <a:ahLst/>
            <a:rect l="l" t="t" r="r" b="b"/>
            <a:pathLst>
              <a:path w="182" h="412">
                <a:moveTo>
                  <a:pt x="161" y="0"/>
                </a:moveTo>
                <a:lnTo>
                  <a:pt x="0" y="26"/>
                </a:lnTo>
                <a:lnTo>
                  <a:pt x="31" y="412"/>
                </a:lnTo>
                <a:lnTo>
                  <a:pt x="182" y="412"/>
                </a:lnTo>
                <a:lnTo>
                  <a:pt x="161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Freeform 94"/>
          <p:cNvSpPr/>
          <p:nvPr/>
        </p:nvSpPr>
        <p:spPr>
          <a:xfrm>
            <a:off x="9061560" y="5375160"/>
            <a:ext cx="263520" cy="598680"/>
          </a:xfrm>
          <a:custGeom>
            <a:avLst/>
            <a:gdLst/>
            <a:ahLst/>
            <a:rect l="l" t="t" r="r" b="b"/>
            <a:pathLst>
              <a:path w="182" h="412">
                <a:moveTo>
                  <a:pt x="21" y="0"/>
                </a:moveTo>
                <a:lnTo>
                  <a:pt x="182" y="26"/>
                </a:lnTo>
                <a:lnTo>
                  <a:pt x="147" y="409"/>
                </a:lnTo>
                <a:lnTo>
                  <a:pt x="0" y="412"/>
                </a:lnTo>
                <a:lnTo>
                  <a:pt x="21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Rectangle 95"/>
          <p:cNvSpPr/>
          <p:nvPr/>
        </p:nvSpPr>
        <p:spPr>
          <a:xfrm>
            <a:off x="8402760" y="4626000"/>
            <a:ext cx="922320" cy="103320"/>
          </a:xfrm>
          <a:prstGeom prst="rect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Oval 96"/>
          <p:cNvSpPr/>
          <p:nvPr/>
        </p:nvSpPr>
        <p:spPr>
          <a:xfrm>
            <a:off x="8786880" y="4597560"/>
            <a:ext cx="154080" cy="153720"/>
          </a:xfrm>
          <a:prstGeom prst="ellipse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Oval 97"/>
          <p:cNvSpPr/>
          <p:nvPr/>
        </p:nvSpPr>
        <p:spPr>
          <a:xfrm>
            <a:off x="8813880" y="4629240"/>
            <a:ext cx="96840" cy="9504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Oval 98"/>
          <p:cNvSpPr/>
          <p:nvPr/>
        </p:nvSpPr>
        <p:spPr>
          <a:xfrm>
            <a:off x="8669160" y="4665600"/>
            <a:ext cx="22320" cy="20880"/>
          </a:xfrm>
          <a:prstGeom prst="ellipse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Oval 99"/>
          <p:cNvSpPr/>
          <p:nvPr/>
        </p:nvSpPr>
        <p:spPr>
          <a:xfrm>
            <a:off x="8734320" y="4665600"/>
            <a:ext cx="20880" cy="20880"/>
          </a:xfrm>
          <a:prstGeom prst="ellipse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0600" bIns="-30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Rectangle 100"/>
          <p:cNvSpPr/>
          <p:nvPr/>
        </p:nvSpPr>
        <p:spPr>
          <a:xfrm>
            <a:off x="8391600" y="4199040"/>
            <a:ext cx="191880" cy="1918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Rectangle 101"/>
          <p:cNvSpPr/>
          <p:nvPr/>
        </p:nvSpPr>
        <p:spPr>
          <a:xfrm>
            <a:off x="8580600" y="4199040"/>
            <a:ext cx="191880" cy="1918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Rectangle 102"/>
          <p:cNvSpPr/>
          <p:nvPr/>
        </p:nvSpPr>
        <p:spPr>
          <a:xfrm>
            <a:off x="8391600" y="3622680"/>
            <a:ext cx="191880" cy="1904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Rectangle 103"/>
          <p:cNvSpPr/>
          <p:nvPr/>
        </p:nvSpPr>
        <p:spPr>
          <a:xfrm>
            <a:off x="8580600" y="3622680"/>
            <a:ext cx="191880" cy="1904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Rectangle 104"/>
          <p:cNvSpPr/>
          <p:nvPr/>
        </p:nvSpPr>
        <p:spPr>
          <a:xfrm>
            <a:off x="8391600" y="3813120"/>
            <a:ext cx="19188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Rectangle 105"/>
          <p:cNvSpPr/>
          <p:nvPr/>
        </p:nvSpPr>
        <p:spPr>
          <a:xfrm>
            <a:off x="8580600" y="3813120"/>
            <a:ext cx="1918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Freeform 106"/>
          <p:cNvSpPr/>
          <p:nvPr/>
        </p:nvSpPr>
        <p:spPr>
          <a:xfrm>
            <a:off x="8391600" y="3236760"/>
            <a:ext cx="191880" cy="19224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132" y="0"/>
                </a:moveTo>
                <a:lnTo>
                  <a:pt x="0" y="132"/>
                </a:lnTo>
                <a:lnTo>
                  <a:pt x="132" y="132"/>
                </a:lnTo>
                <a:lnTo>
                  <a:pt x="132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Rectangle 107"/>
          <p:cNvSpPr/>
          <p:nvPr/>
        </p:nvSpPr>
        <p:spPr>
          <a:xfrm>
            <a:off x="8580600" y="3236760"/>
            <a:ext cx="1918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Rectangle 108"/>
          <p:cNvSpPr/>
          <p:nvPr/>
        </p:nvSpPr>
        <p:spPr>
          <a:xfrm>
            <a:off x="8391600" y="3429000"/>
            <a:ext cx="19188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Rectangle 109"/>
          <p:cNvSpPr/>
          <p:nvPr/>
        </p:nvSpPr>
        <p:spPr>
          <a:xfrm>
            <a:off x="8580600" y="3429000"/>
            <a:ext cx="1918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Rectangle 110"/>
          <p:cNvSpPr/>
          <p:nvPr/>
        </p:nvSpPr>
        <p:spPr>
          <a:xfrm>
            <a:off x="8958240" y="4199040"/>
            <a:ext cx="193680" cy="1918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8" name="Rectangle 111"/>
          <p:cNvSpPr/>
          <p:nvPr/>
        </p:nvSpPr>
        <p:spPr>
          <a:xfrm>
            <a:off x="9151920" y="4199040"/>
            <a:ext cx="190440" cy="1918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Rectangle 112"/>
          <p:cNvSpPr/>
          <p:nvPr/>
        </p:nvSpPr>
        <p:spPr>
          <a:xfrm>
            <a:off x="8958240" y="3622680"/>
            <a:ext cx="193680" cy="1904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Rectangle 113"/>
          <p:cNvSpPr/>
          <p:nvPr/>
        </p:nvSpPr>
        <p:spPr>
          <a:xfrm>
            <a:off x="9151920" y="3622680"/>
            <a:ext cx="190440" cy="1904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Rectangle 114"/>
          <p:cNvSpPr/>
          <p:nvPr/>
        </p:nvSpPr>
        <p:spPr>
          <a:xfrm>
            <a:off x="8958240" y="3813120"/>
            <a:ext cx="1936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Rectangle 115"/>
          <p:cNvSpPr/>
          <p:nvPr/>
        </p:nvSpPr>
        <p:spPr>
          <a:xfrm>
            <a:off x="9151920" y="3813120"/>
            <a:ext cx="19044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Rectangle 116"/>
          <p:cNvSpPr/>
          <p:nvPr/>
        </p:nvSpPr>
        <p:spPr>
          <a:xfrm>
            <a:off x="8958240" y="3236760"/>
            <a:ext cx="1936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Freeform 117"/>
          <p:cNvSpPr/>
          <p:nvPr/>
        </p:nvSpPr>
        <p:spPr>
          <a:xfrm>
            <a:off x="9151920" y="3236760"/>
            <a:ext cx="190440" cy="19224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0" y="0"/>
                </a:moveTo>
                <a:lnTo>
                  <a:pt x="0" y="132"/>
                </a:lnTo>
                <a:lnTo>
                  <a:pt x="132" y="132"/>
                </a:lnTo>
                <a:lnTo>
                  <a:pt x="0" y="0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Rectangle 118"/>
          <p:cNvSpPr/>
          <p:nvPr/>
        </p:nvSpPr>
        <p:spPr>
          <a:xfrm>
            <a:off x="8958240" y="3429000"/>
            <a:ext cx="193680" cy="193680"/>
          </a:xfrm>
          <a:prstGeom prst="rect">
            <a:avLst/>
          </a:pr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Rectangle 119"/>
          <p:cNvSpPr/>
          <p:nvPr/>
        </p:nvSpPr>
        <p:spPr>
          <a:xfrm>
            <a:off x="9151920" y="3429000"/>
            <a:ext cx="190440" cy="193680"/>
          </a:xfrm>
          <a:prstGeom prst="rect">
            <a:avLst/>
          </a:pr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Rectangle 120"/>
          <p:cNvSpPr/>
          <p:nvPr/>
        </p:nvSpPr>
        <p:spPr>
          <a:xfrm>
            <a:off x="8769240" y="4199040"/>
            <a:ext cx="192240" cy="19188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Rectangle 121"/>
          <p:cNvSpPr/>
          <p:nvPr/>
        </p:nvSpPr>
        <p:spPr>
          <a:xfrm>
            <a:off x="8769240" y="3622680"/>
            <a:ext cx="192240" cy="1904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Rectangle 122"/>
          <p:cNvSpPr/>
          <p:nvPr/>
        </p:nvSpPr>
        <p:spPr>
          <a:xfrm>
            <a:off x="8769240" y="3813120"/>
            <a:ext cx="192240" cy="19368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Rectangle 123"/>
          <p:cNvSpPr/>
          <p:nvPr/>
        </p:nvSpPr>
        <p:spPr>
          <a:xfrm>
            <a:off x="8769240" y="3429000"/>
            <a:ext cx="192240" cy="19368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Oval 124"/>
          <p:cNvSpPr/>
          <p:nvPr/>
        </p:nvSpPr>
        <p:spPr>
          <a:xfrm>
            <a:off x="8817120" y="3683160"/>
            <a:ext cx="90360" cy="8568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Rectangle 125"/>
          <p:cNvSpPr/>
          <p:nvPr/>
        </p:nvSpPr>
        <p:spPr>
          <a:xfrm>
            <a:off x="8391600" y="4006800"/>
            <a:ext cx="19188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Rectangle 126"/>
          <p:cNvSpPr/>
          <p:nvPr/>
        </p:nvSpPr>
        <p:spPr>
          <a:xfrm>
            <a:off x="8580600" y="4006800"/>
            <a:ext cx="1918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Rectangle 127"/>
          <p:cNvSpPr/>
          <p:nvPr/>
        </p:nvSpPr>
        <p:spPr>
          <a:xfrm>
            <a:off x="8958240" y="4006800"/>
            <a:ext cx="1936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Rectangle 128"/>
          <p:cNvSpPr/>
          <p:nvPr/>
        </p:nvSpPr>
        <p:spPr>
          <a:xfrm>
            <a:off x="9151920" y="4006800"/>
            <a:ext cx="19044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Rectangle 129"/>
          <p:cNvSpPr/>
          <p:nvPr/>
        </p:nvSpPr>
        <p:spPr>
          <a:xfrm>
            <a:off x="8769240" y="4006800"/>
            <a:ext cx="192240" cy="1922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Oval 130"/>
          <p:cNvSpPr/>
          <p:nvPr/>
        </p:nvSpPr>
        <p:spPr>
          <a:xfrm>
            <a:off x="8817120" y="4051440"/>
            <a:ext cx="90360" cy="8892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Rectangle 131"/>
          <p:cNvSpPr/>
          <p:nvPr/>
        </p:nvSpPr>
        <p:spPr>
          <a:xfrm>
            <a:off x="8391600" y="4390920"/>
            <a:ext cx="19188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Rectangle 132"/>
          <p:cNvSpPr/>
          <p:nvPr/>
        </p:nvSpPr>
        <p:spPr>
          <a:xfrm>
            <a:off x="8580600" y="4390920"/>
            <a:ext cx="1918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Rectangle 133"/>
          <p:cNvSpPr/>
          <p:nvPr/>
        </p:nvSpPr>
        <p:spPr>
          <a:xfrm>
            <a:off x="8958240" y="4390920"/>
            <a:ext cx="193680" cy="192240"/>
          </a:xfrm>
          <a:prstGeom prst="rect">
            <a:avLst/>
          </a:prstGeom>
          <a:solidFill>
            <a:srgbClr val="ceaa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Rectangle 134"/>
          <p:cNvSpPr/>
          <p:nvPr/>
        </p:nvSpPr>
        <p:spPr>
          <a:xfrm>
            <a:off x="9151920" y="4390920"/>
            <a:ext cx="190440" cy="192240"/>
          </a:xfrm>
          <a:prstGeom prst="rect">
            <a:avLst/>
          </a:pr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Rectangle 135"/>
          <p:cNvSpPr/>
          <p:nvPr/>
        </p:nvSpPr>
        <p:spPr>
          <a:xfrm>
            <a:off x="8769240" y="4390920"/>
            <a:ext cx="192240" cy="1922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Oval 136"/>
          <p:cNvSpPr/>
          <p:nvPr/>
        </p:nvSpPr>
        <p:spPr>
          <a:xfrm>
            <a:off x="8817120" y="4437000"/>
            <a:ext cx="90360" cy="8892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7280" bIns="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Freeform 137"/>
          <p:cNvSpPr/>
          <p:nvPr/>
        </p:nvSpPr>
        <p:spPr>
          <a:xfrm>
            <a:off x="9040680" y="5986440"/>
            <a:ext cx="581040" cy="336600"/>
          </a:xfrm>
          <a:custGeom>
            <a:avLst/>
            <a:gdLst/>
            <a:ahLst/>
            <a:rect l="l" t="t" r="r" b="b"/>
            <a:pathLst>
              <a:path w="400" h="232">
                <a:moveTo>
                  <a:pt x="24" y="26"/>
                </a:moveTo>
                <a:lnTo>
                  <a:pt x="147" y="0"/>
                </a:lnTo>
                <a:lnTo>
                  <a:pt x="156" y="47"/>
                </a:lnTo>
                <a:lnTo>
                  <a:pt x="274" y="133"/>
                </a:lnTo>
                <a:lnTo>
                  <a:pt x="357" y="140"/>
                </a:lnTo>
                <a:lnTo>
                  <a:pt x="400" y="194"/>
                </a:lnTo>
                <a:lnTo>
                  <a:pt x="398" y="232"/>
                </a:lnTo>
                <a:lnTo>
                  <a:pt x="0" y="227"/>
                </a:lnTo>
                <a:lnTo>
                  <a:pt x="24" y="2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Freeform 138"/>
          <p:cNvSpPr/>
          <p:nvPr/>
        </p:nvSpPr>
        <p:spPr>
          <a:xfrm>
            <a:off x="9040680" y="6110280"/>
            <a:ext cx="309600" cy="212760"/>
          </a:xfrm>
          <a:custGeom>
            <a:avLst/>
            <a:gdLst/>
            <a:ahLst/>
            <a:rect l="l" t="t" r="r" b="b"/>
            <a:pathLst>
              <a:path w="213" h="147">
                <a:moveTo>
                  <a:pt x="213" y="97"/>
                </a:moveTo>
                <a:lnTo>
                  <a:pt x="128" y="0"/>
                </a:lnTo>
                <a:lnTo>
                  <a:pt x="16" y="12"/>
                </a:lnTo>
                <a:lnTo>
                  <a:pt x="0" y="147"/>
                </a:lnTo>
                <a:lnTo>
                  <a:pt x="149" y="145"/>
                </a:lnTo>
                <a:lnTo>
                  <a:pt x="213" y="97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Freeform 139"/>
          <p:cNvSpPr/>
          <p:nvPr/>
        </p:nvSpPr>
        <p:spPr>
          <a:xfrm>
            <a:off x="9040680" y="6162840"/>
            <a:ext cx="171720" cy="160200"/>
          </a:xfrm>
          <a:custGeom>
            <a:avLst/>
            <a:gdLst/>
            <a:ahLst/>
            <a:rect l="l" t="t" r="r" b="b"/>
            <a:pathLst>
              <a:path w="50" h="47">
                <a:moveTo>
                  <a:pt x="6" y="0"/>
                </a:moveTo>
                <a:cubicBezTo>
                  <a:pt x="0" y="46"/>
                  <a:pt x="0" y="46"/>
                  <a:pt x="0" y="46"/>
                </a:cubicBezTo>
                <a:cubicBezTo>
                  <a:pt x="44" y="47"/>
                  <a:pt x="44" y="47"/>
                  <a:pt x="44" y="47"/>
                </a:cubicBezTo>
                <a:cubicBezTo>
                  <a:pt x="44" y="29"/>
                  <a:pt x="50" y="4"/>
                  <a:pt x="6" y="0"/>
                </a:cubicBezTo>
                <a:close/>
              </a:path>
            </a:pathLst>
          </a:cu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Freeform 140"/>
          <p:cNvSpPr/>
          <p:nvPr/>
        </p:nvSpPr>
        <p:spPr>
          <a:xfrm>
            <a:off x="9037800" y="6292800"/>
            <a:ext cx="587160" cy="58680"/>
          </a:xfrm>
          <a:custGeom>
            <a:avLst/>
            <a:gdLst/>
            <a:ahLst/>
            <a:rect l="l" t="t" r="r" b="b"/>
            <a:pathLst>
              <a:path w="404" h="40">
                <a:moveTo>
                  <a:pt x="340" y="16"/>
                </a:moveTo>
                <a:lnTo>
                  <a:pt x="120" y="0"/>
                </a:lnTo>
                <a:lnTo>
                  <a:pt x="120" y="0"/>
                </a:lnTo>
                <a:lnTo>
                  <a:pt x="0" y="0"/>
                </a:lnTo>
                <a:lnTo>
                  <a:pt x="0" y="40"/>
                </a:lnTo>
                <a:lnTo>
                  <a:pt x="120" y="40"/>
                </a:lnTo>
                <a:lnTo>
                  <a:pt x="120" y="28"/>
                </a:lnTo>
                <a:lnTo>
                  <a:pt x="220" y="28"/>
                </a:lnTo>
                <a:lnTo>
                  <a:pt x="220" y="40"/>
                </a:lnTo>
                <a:lnTo>
                  <a:pt x="404" y="40"/>
                </a:lnTo>
                <a:lnTo>
                  <a:pt x="404" y="16"/>
                </a:lnTo>
                <a:lnTo>
                  <a:pt x="340" y="16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Freeform 141"/>
          <p:cNvSpPr/>
          <p:nvPr/>
        </p:nvSpPr>
        <p:spPr>
          <a:xfrm>
            <a:off x="9267840" y="606888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17" y="0"/>
                </a:moveTo>
                <a:lnTo>
                  <a:pt x="0" y="19"/>
                </a:lnTo>
                <a:lnTo>
                  <a:pt x="7" y="24"/>
                </a:lnTo>
                <a:lnTo>
                  <a:pt x="24" y="5"/>
                </a:lnTo>
                <a:lnTo>
                  <a:pt x="1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Rectangle 142"/>
          <p:cNvSpPr/>
          <p:nvPr/>
        </p:nvSpPr>
        <p:spPr>
          <a:xfrm>
            <a:off x="9232920" y="6027840"/>
            <a:ext cx="34920" cy="11160"/>
          </a:xfrm>
          <a:prstGeom prst="rect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Freeform 143"/>
          <p:cNvSpPr/>
          <p:nvPr/>
        </p:nvSpPr>
        <p:spPr>
          <a:xfrm>
            <a:off x="9309240" y="6099120"/>
            <a:ext cx="33120" cy="34920"/>
          </a:xfrm>
          <a:custGeom>
            <a:avLst/>
            <a:gdLst/>
            <a:ahLst/>
            <a:rect l="l" t="t" r="r" b="b"/>
            <a:pathLst>
              <a:path w="23" h="24">
                <a:moveTo>
                  <a:pt x="16" y="0"/>
                </a:moveTo>
                <a:lnTo>
                  <a:pt x="0" y="17"/>
                </a:lnTo>
                <a:lnTo>
                  <a:pt x="4" y="24"/>
                </a:lnTo>
                <a:lnTo>
                  <a:pt x="23" y="5"/>
                </a:lnTo>
                <a:lnTo>
                  <a:pt x="16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Freeform 144"/>
          <p:cNvSpPr/>
          <p:nvPr/>
        </p:nvSpPr>
        <p:spPr>
          <a:xfrm>
            <a:off x="9353520" y="6130800"/>
            <a:ext cx="31680" cy="33480"/>
          </a:xfrm>
          <a:custGeom>
            <a:avLst/>
            <a:gdLst/>
            <a:ahLst/>
            <a:rect l="l" t="t" r="r" b="b"/>
            <a:pathLst>
              <a:path w="22" h="23">
                <a:moveTo>
                  <a:pt x="15" y="0"/>
                </a:moveTo>
                <a:lnTo>
                  <a:pt x="0" y="18"/>
                </a:lnTo>
                <a:lnTo>
                  <a:pt x="7" y="23"/>
                </a:lnTo>
                <a:lnTo>
                  <a:pt x="22" y="4"/>
                </a:lnTo>
                <a:lnTo>
                  <a:pt x="15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Freeform 145"/>
          <p:cNvSpPr/>
          <p:nvPr/>
        </p:nvSpPr>
        <p:spPr>
          <a:xfrm>
            <a:off x="9388440" y="615780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17" y="0"/>
                </a:moveTo>
                <a:lnTo>
                  <a:pt x="0" y="19"/>
                </a:lnTo>
                <a:lnTo>
                  <a:pt x="7" y="24"/>
                </a:lnTo>
                <a:lnTo>
                  <a:pt x="24" y="5"/>
                </a:lnTo>
                <a:lnTo>
                  <a:pt x="1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Oval 146"/>
          <p:cNvSpPr/>
          <p:nvPr/>
        </p:nvSpPr>
        <p:spPr>
          <a:xfrm>
            <a:off x="9229680" y="6021360"/>
            <a:ext cx="25560" cy="2232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9880" bIns="-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Oval 147"/>
          <p:cNvSpPr/>
          <p:nvPr/>
        </p:nvSpPr>
        <p:spPr>
          <a:xfrm>
            <a:off x="9259920" y="6089760"/>
            <a:ext cx="25200" cy="237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Oval 148"/>
          <p:cNvSpPr/>
          <p:nvPr/>
        </p:nvSpPr>
        <p:spPr>
          <a:xfrm>
            <a:off x="9298080" y="6116760"/>
            <a:ext cx="25200" cy="2520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Oval 149"/>
          <p:cNvSpPr/>
          <p:nvPr/>
        </p:nvSpPr>
        <p:spPr>
          <a:xfrm>
            <a:off x="9339120" y="6154560"/>
            <a:ext cx="24120" cy="255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Oval 150"/>
          <p:cNvSpPr/>
          <p:nvPr/>
        </p:nvSpPr>
        <p:spPr>
          <a:xfrm>
            <a:off x="9380520" y="6180120"/>
            <a:ext cx="25560" cy="1908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1680" bIns="-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Freeform 151"/>
          <p:cNvSpPr/>
          <p:nvPr/>
        </p:nvSpPr>
        <p:spPr>
          <a:xfrm>
            <a:off x="8112240" y="5986440"/>
            <a:ext cx="581040" cy="336600"/>
          </a:xfrm>
          <a:custGeom>
            <a:avLst/>
            <a:gdLst/>
            <a:ahLst/>
            <a:rect l="l" t="t" r="r" b="b"/>
            <a:pathLst>
              <a:path w="400" h="232">
                <a:moveTo>
                  <a:pt x="376" y="26"/>
                </a:moveTo>
                <a:lnTo>
                  <a:pt x="253" y="0"/>
                </a:lnTo>
                <a:lnTo>
                  <a:pt x="241" y="47"/>
                </a:lnTo>
                <a:lnTo>
                  <a:pt x="125" y="133"/>
                </a:lnTo>
                <a:lnTo>
                  <a:pt x="42" y="140"/>
                </a:lnTo>
                <a:lnTo>
                  <a:pt x="0" y="194"/>
                </a:lnTo>
                <a:lnTo>
                  <a:pt x="2" y="232"/>
                </a:lnTo>
                <a:lnTo>
                  <a:pt x="400" y="227"/>
                </a:lnTo>
                <a:lnTo>
                  <a:pt x="376" y="26"/>
                </a:lnTo>
                <a:close/>
              </a:path>
            </a:pathLst>
          </a:custGeom>
          <a:solidFill>
            <a:srgbClr val="e5b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Freeform 152"/>
          <p:cNvSpPr/>
          <p:nvPr/>
        </p:nvSpPr>
        <p:spPr>
          <a:xfrm>
            <a:off x="8385120" y="6110280"/>
            <a:ext cx="308160" cy="212760"/>
          </a:xfrm>
          <a:custGeom>
            <a:avLst/>
            <a:gdLst/>
            <a:ahLst/>
            <a:rect l="l" t="t" r="r" b="b"/>
            <a:pathLst>
              <a:path w="213" h="147">
                <a:moveTo>
                  <a:pt x="0" y="97"/>
                </a:moveTo>
                <a:lnTo>
                  <a:pt x="85" y="0"/>
                </a:lnTo>
                <a:lnTo>
                  <a:pt x="196" y="12"/>
                </a:lnTo>
                <a:lnTo>
                  <a:pt x="213" y="147"/>
                </a:lnTo>
                <a:lnTo>
                  <a:pt x="64" y="145"/>
                </a:lnTo>
                <a:lnTo>
                  <a:pt x="0" y="97"/>
                </a:lnTo>
                <a:close/>
              </a:path>
            </a:pathLst>
          </a:custGeom>
          <a:solidFill>
            <a:srgbClr val="bc9c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Freeform 153"/>
          <p:cNvSpPr/>
          <p:nvPr/>
        </p:nvSpPr>
        <p:spPr>
          <a:xfrm>
            <a:off x="8521560" y="6162840"/>
            <a:ext cx="171720" cy="160200"/>
          </a:xfrm>
          <a:custGeom>
            <a:avLst/>
            <a:gdLst/>
            <a:ahLst/>
            <a:rect l="l" t="t" r="r" b="b"/>
            <a:pathLst>
              <a:path w="50" h="47">
                <a:moveTo>
                  <a:pt x="44" y="0"/>
                </a:moveTo>
                <a:cubicBezTo>
                  <a:pt x="50" y="46"/>
                  <a:pt x="50" y="46"/>
                  <a:pt x="50" y="46"/>
                </a:cubicBezTo>
                <a:cubicBezTo>
                  <a:pt x="6" y="47"/>
                  <a:pt x="6" y="47"/>
                  <a:pt x="6" y="47"/>
                </a:cubicBezTo>
                <a:cubicBezTo>
                  <a:pt x="6" y="29"/>
                  <a:pt x="0" y="4"/>
                  <a:pt x="44" y="0"/>
                </a:cubicBezTo>
                <a:close/>
              </a:path>
            </a:pathLst>
          </a:cu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Freeform 154"/>
          <p:cNvSpPr/>
          <p:nvPr/>
        </p:nvSpPr>
        <p:spPr>
          <a:xfrm>
            <a:off x="8110440" y="6292800"/>
            <a:ext cx="585720" cy="58680"/>
          </a:xfrm>
          <a:custGeom>
            <a:avLst/>
            <a:gdLst/>
            <a:ahLst/>
            <a:rect l="l" t="t" r="r" b="b"/>
            <a:pathLst>
              <a:path w="404" h="40">
                <a:moveTo>
                  <a:pt x="63" y="16"/>
                </a:moveTo>
                <a:lnTo>
                  <a:pt x="284" y="0"/>
                </a:lnTo>
                <a:lnTo>
                  <a:pt x="284" y="0"/>
                </a:lnTo>
                <a:lnTo>
                  <a:pt x="404" y="0"/>
                </a:lnTo>
                <a:lnTo>
                  <a:pt x="404" y="40"/>
                </a:lnTo>
                <a:lnTo>
                  <a:pt x="284" y="40"/>
                </a:lnTo>
                <a:lnTo>
                  <a:pt x="284" y="28"/>
                </a:lnTo>
                <a:lnTo>
                  <a:pt x="184" y="28"/>
                </a:lnTo>
                <a:lnTo>
                  <a:pt x="184" y="40"/>
                </a:lnTo>
                <a:lnTo>
                  <a:pt x="0" y="40"/>
                </a:lnTo>
                <a:lnTo>
                  <a:pt x="0" y="16"/>
                </a:lnTo>
                <a:lnTo>
                  <a:pt x="63" y="16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Freeform 155"/>
          <p:cNvSpPr/>
          <p:nvPr/>
        </p:nvSpPr>
        <p:spPr>
          <a:xfrm>
            <a:off x="8432640" y="606888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7" y="0"/>
                </a:moveTo>
                <a:lnTo>
                  <a:pt x="24" y="19"/>
                </a:lnTo>
                <a:lnTo>
                  <a:pt x="17" y="24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Rectangle 156"/>
          <p:cNvSpPr/>
          <p:nvPr/>
        </p:nvSpPr>
        <p:spPr>
          <a:xfrm>
            <a:off x="8467560" y="6027840"/>
            <a:ext cx="33480" cy="11160"/>
          </a:xfrm>
          <a:prstGeom prst="rect">
            <a:avLst/>
          </a:pr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Freeform 157"/>
          <p:cNvSpPr/>
          <p:nvPr/>
        </p:nvSpPr>
        <p:spPr>
          <a:xfrm>
            <a:off x="8391600" y="6099120"/>
            <a:ext cx="33120" cy="34920"/>
          </a:xfrm>
          <a:custGeom>
            <a:avLst/>
            <a:gdLst/>
            <a:ahLst/>
            <a:rect l="l" t="t" r="r" b="b"/>
            <a:pathLst>
              <a:path w="23" h="24">
                <a:moveTo>
                  <a:pt x="7" y="0"/>
                </a:moveTo>
                <a:lnTo>
                  <a:pt x="23" y="17"/>
                </a:lnTo>
                <a:lnTo>
                  <a:pt x="16" y="24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Freeform 158"/>
          <p:cNvSpPr/>
          <p:nvPr/>
        </p:nvSpPr>
        <p:spPr>
          <a:xfrm>
            <a:off x="8350200" y="6130800"/>
            <a:ext cx="30240" cy="33480"/>
          </a:xfrm>
          <a:custGeom>
            <a:avLst/>
            <a:gdLst/>
            <a:ahLst/>
            <a:rect l="l" t="t" r="r" b="b"/>
            <a:pathLst>
              <a:path w="21" h="23">
                <a:moveTo>
                  <a:pt x="7" y="0"/>
                </a:moveTo>
                <a:lnTo>
                  <a:pt x="21" y="18"/>
                </a:lnTo>
                <a:lnTo>
                  <a:pt x="14" y="23"/>
                </a:lnTo>
                <a:lnTo>
                  <a:pt x="0" y="4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Freeform 159"/>
          <p:cNvSpPr/>
          <p:nvPr/>
        </p:nvSpPr>
        <p:spPr>
          <a:xfrm>
            <a:off x="8312040" y="6157800"/>
            <a:ext cx="34920" cy="34920"/>
          </a:xfrm>
          <a:custGeom>
            <a:avLst/>
            <a:gdLst/>
            <a:ahLst/>
            <a:rect l="l" t="t" r="r" b="b"/>
            <a:pathLst>
              <a:path w="24" h="24">
                <a:moveTo>
                  <a:pt x="7" y="0"/>
                </a:moveTo>
                <a:lnTo>
                  <a:pt x="24" y="19"/>
                </a:lnTo>
                <a:lnTo>
                  <a:pt x="17" y="24"/>
                </a:lnTo>
                <a:lnTo>
                  <a:pt x="0" y="5"/>
                </a:lnTo>
                <a:lnTo>
                  <a:pt x="7" y="0"/>
                </a:lnTo>
                <a:close/>
              </a:path>
            </a:pathLst>
          </a:custGeom>
          <a:solidFill>
            <a:srgbClr val="5936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Oval 160"/>
          <p:cNvSpPr/>
          <p:nvPr/>
        </p:nvSpPr>
        <p:spPr>
          <a:xfrm>
            <a:off x="8480520" y="6021360"/>
            <a:ext cx="23760" cy="2232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9880" bIns="-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Oval 161"/>
          <p:cNvSpPr/>
          <p:nvPr/>
        </p:nvSpPr>
        <p:spPr>
          <a:xfrm>
            <a:off x="8450280" y="6089760"/>
            <a:ext cx="22320" cy="237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Oval 162"/>
          <p:cNvSpPr/>
          <p:nvPr/>
        </p:nvSpPr>
        <p:spPr>
          <a:xfrm>
            <a:off x="8412120" y="6116760"/>
            <a:ext cx="23760" cy="2520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720" bIns="-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Oval 163"/>
          <p:cNvSpPr/>
          <p:nvPr/>
        </p:nvSpPr>
        <p:spPr>
          <a:xfrm>
            <a:off x="8369280" y="6154560"/>
            <a:ext cx="25560" cy="2556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Oval 164"/>
          <p:cNvSpPr/>
          <p:nvPr/>
        </p:nvSpPr>
        <p:spPr>
          <a:xfrm>
            <a:off x="8329680" y="6180120"/>
            <a:ext cx="23760" cy="19080"/>
          </a:xfrm>
          <a:prstGeom prst="ellipse">
            <a:avLst/>
          </a:prstGeom>
          <a:solidFill>
            <a:srgbClr val="875d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1680" bIns="-31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Rectangle 165"/>
          <p:cNvSpPr/>
          <p:nvPr/>
        </p:nvSpPr>
        <p:spPr>
          <a:xfrm>
            <a:off x="8769240" y="3236760"/>
            <a:ext cx="192240" cy="192240"/>
          </a:xfrm>
          <a:prstGeom prst="rect">
            <a:avLst/>
          </a:prstGeom>
          <a:solidFill>
            <a:srgbClr val="5655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Oval 166"/>
          <p:cNvSpPr/>
          <p:nvPr/>
        </p:nvSpPr>
        <p:spPr>
          <a:xfrm>
            <a:off x="8817120" y="3287880"/>
            <a:ext cx="90360" cy="90360"/>
          </a:xfrm>
          <a:prstGeom prst="ellipse">
            <a:avLst/>
          </a:prstGeom>
          <a:solidFill>
            <a:srgbClr val="cfb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4" name="组合 1"/>
          <p:cNvGrpSpPr/>
          <p:nvPr/>
        </p:nvGrpSpPr>
        <p:grpSpPr>
          <a:xfrm>
            <a:off x="11034720" y="3033720"/>
            <a:ext cx="480960" cy="480960"/>
            <a:chOff x="11034720" y="3033720"/>
            <a:chExt cx="480960" cy="480960"/>
          </a:xfrm>
        </p:grpSpPr>
        <p:sp>
          <p:nvSpPr>
            <p:cNvPr id="2775" name="Oval 167"/>
            <p:cNvSpPr/>
            <p:nvPr/>
          </p:nvSpPr>
          <p:spPr>
            <a:xfrm>
              <a:off x="11095560" y="3091680"/>
              <a:ext cx="357480" cy="361800"/>
            </a:xfrm>
            <a:prstGeom prst="ellipse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Rectangle 168"/>
            <p:cNvSpPr/>
            <p:nvPr/>
          </p:nvSpPr>
          <p:spPr>
            <a:xfrm>
              <a:off x="11246760" y="3033720"/>
              <a:ext cx="55080" cy="480960"/>
            </a:xfrm>
            <a:prstGeom prst="rect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Rectangle 169"/>
            <p:cNvSpPr/>
            <p:nvPr/>
          </p:nvSpPr>
          <p:spPr>
            <a:xfrm>
              <a:off x="11034720" y="3247200"/>
              <a:ext cx="480960" cy="55080"/>
            </a:xfrm>
            <a:prstGeom prst="rect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170"/>
            <p:cNvSpPr/>
            <p:nvPr/>
          </p:nvSpPr>
          <p:spPr>
            <a:xfrm>
              <a:off x="11078280" y="3084480"/>
              <a:ext cx="392400" cy="379440"/>
            </a:xfrm>
            <a:custGeom>
              <a:avLst/>
              <a:gdLst/>
              <a:ahLst/>
              <a:rect l="l" t="t" r="r" b="b"/>
              <a:pathLst>
                <a:path w="270" h="261">
                  <a:moveTo>
                    <a:pt x="0" y="29"/>
                  </a:moveTo>
                  <a:lnTo>
                    <a:pt x="242" y="261"/>
                  </a:lnTo>
                  <a:lnTo>
                    <a:pt x="270" y="232"/>
                  </a:lnTo>
                  <a:lnTo>
                    <a:pt x="29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>
              <a:off x="11078280" y="3084480"/>
              <a:ext cx="392400" cy="379440"/>
            </a:xfrm>
            <a:custGeom>
              <a:avLst/>
              <a:gdLst/>
              <a:ahLst/>
              <a:rect l="l" t="t" r="r" b="b"/>
              <a:pathLst>
                <a:path w="270" h="261">
                  <a:moveTo>
                    <a:pt x="270" y="29"/>
                  </a:moveTo>
                  <a:lnTo>
                    <a:pt x="29" y="261"/>
                  </a:lnTo>
                  <a:lnTo>
                    <a:pt x="0" y="232"/>
                  </a:lnTo>
                  <a:lnTo>
                    <a:pt x="242" y="0"/>
                  </a:lnTo>
                  <a:lnTo>
                    <a:pt x="270" y="29"/>
                  </a:ln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Oval 172"/>
            <p:cNvSpPr/>
            <p:nvPr/>
          </p:nvSpPr>
          <p:spPr>
            <a:xfrm>
              <a:off x="11165400" y="3164400"/>
              <a:ext cx="219240" cy="21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Oval 173"/>
            <p:cNvSpPr/>
            <p:nvPr/>
          </p:nvSpPr>
          <p:spPr>
            <a:xfrm>
              <a:off x="11236680" y="3237120"/>
              <a:ext cx="75600" cy="75600"/>
            </a:xfrm>
            <a:prstGeom prst="ellipse">
              <a:avLst/>
            </a:pr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2" name="组合 3"/>
          <p:cNvGrpSpPr/>
          <p:nvPr/>
        </p:nvGrpSpPr>
        <p:grpSpPr>
          <a:xfrm>
            <a:off x="10742760" y="2614680"/>
            <a:ext cx="488880" cy="487440"/>
            <a:chOff x="10742760" y="2614680"/>
            <a:chExt cx="488880" cy="487440"/>
          </a:xfrm>
        </p:grpSpPr>
        <p:sp>
          <p:nvSpPr>
            <p:cNvPr id="2783" name="Freeform 174"/>
            <p:cNvSpPr/>
            <p:nvPr/>
          </p:nvSpPr>
          <p:spPr>
            <a:xfrm>
              <a:off x="10742760" y="2614680"/>
              <a:ext cx="488880" cy="48744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79" y="142"/>
                  </a:moveTo>
                  <a:cubicBezTo>
                    <a:pt x="63" y="142"/>
                    <a:pt x="63" y="142"/>
                    <a:pt x="63" y="142"/>
                  </a:cubicBezTo>
                  <a:cubicBezTo>
                    <a:pt x="62" y="142"/>
                    <a:pt x="61" y="141"/>
                    <a:pt x="61" y="140"/>
                  </a:cubicBezTo>
                  <a:cubicBezTo>
                    <a:pt x="61" y="123"/>
                    <a:pt x="61" y="123"/>
                    <a:pt x="61" y="123"/>
                  </a:cubicBezTo>
                  <a:cubicBezTo>
                    <a:pt x="54" y="122"/>
                    <a:pt x="46" y="119"/>
                    <a:pt x="40" y="114"/>
                  </a:cubicBezTo>
                  <a:cubicBezTo>
                    <a:pt x="27" y="126"/>
                    <a:pt x="27" y="126"/>
                    <a:pt x="27" y="126"/>
                  </a:cubicBezTo>
                  <a:cubicBezTo>
                    <a:pt x="27" y="126"/>
                    <a:pt x="26" y="126"/>
                    <a:pt x="25" y="126"/>
                  </a:cubicBezTo>
                  <a:cubicBezTo>
                    <a:pt x="14" y="114"/>
                    <a:pt x="14" y="114"/>
                    <a:pt x="14" y="114"/>
                  </a:cubicBezTo>
                  <a:cubicBezTo>
                    <a:pt x="14" y="114"/>
                    <a:pt x="14" y="113"/>
                    <a:pt x="14" y="113"/>
                  </a:cubicBezTo>
                  <a:cubicBezTo>
                    <a:pt x="14" y="112"/>
                    <a:pt x="14" y="112"/>
                    <a:pt x="14" y="112"/>
                  </a:cubicBezTo>
                  <a:cubicBezTo>
                    <a:pt x="26" y="100"/>
                    <a:pt x="26" y="100"/>
                    <a:pt x="26" y="100"/>
                  </a:cubicBezTo>
                  <a:cubicBezTo>
                    <a:pt x="22" y="94"/>
                    <a:pt x="20" y="87"/>
                    <a:pt x="18" y="80"/>
                  </a:cubicBezTo>
                  <a:cubicBezTo>
                    <a:pt x="1" y="80"/>
                    <a:pt x="1" y="80"/>
                    <a:pt x="1" y="80"/>
                  </a:cubicBezTo>
                  <a:cubicBezTo>
                    <a:pt x="1" y="80"/>
                    <a:pt x="0" y="80"/>
                    <a:pt x="0" y="7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1" y="61"/>
                    <a:pt x="1" y="61"/>
                  </a:cubicBezTo>
                  <a:cubicBezTo>
                    <a:pt x="18" y="61"/>
                    <a:pt x="18" y="61"/>
                    <a:pt x="18" y="61"/>
                  </a:cubicBezTo>
                  <a:cubicBezTo>
                    <a:pt x="20" y="54"/>
                    <a:pt x="22" y="47"/>
                    <a:pt x="26" y="41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4" y="29"/>
                    <a:pt x="14" y="28"/>
                  </a:cubicBezTo>
                  <a:cubicBezTo>
                    <a:pt x="14" y="28"/>
                    <a:pt x="14" y="28"/>
                    <a:pt x="14" y="27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5"/>
                    <a:pt x="27" y="15"/>
                    <a:pt x="27" y="15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3"/>
                    <a:pt x="54" y="20"/>
                    <a:pt x="61" y="18"/>
                  </a:cubicBezTo>
                  <a:cubicBezTo>
                    <a:pt x="61" y="1"/>
                    <a:pt x="61" y="1"/>
                    <a:pt x="61" y="1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80" y="0"/>
                    <a:pt x="81" y="0"/>
                    <a:pt x="81" y="1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88" y="20"/>
                    <a:pt x="96" y="23"/>
                    <a:pt x="102" y="27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5" y="15"/>
                    <a:pt x="116" y="15"/>
                    <a:pt x="117" y="16"/>
                  </a:cubicBezTo>
                  <a:cubicBezTo>
                    <a:pt x="128" y="27"/>
                    <a:pt x="128" y="27"/>
                    <a:pt x="128" y="27"/>
                  </a:cubicBezTo>
                  <a:cubicBezTo>
                    <a:pt x="128" y="28"/>
                    <a:pt x="128" y="28"/>
                    <a:pt x="128" y="28"/>
                  </a:cubicBezTo>
                  <a:cubicBezTo>
                    <a:pt x="128" y="29"/>
                    <a:pt x="128" y="29"/>
                    <a:pt x="128" y="30"/>
                  </a:cubicBezTo>
                  <a:cubicBezTo>
                    <a:pt x="116" y="41"/>
                    <a:pt x="116" y="41"/>
                    <a:pt x="116" y="41"/>
                  </a:cubicBezTo>
                  <a:cubicBezTo>
                    <a:pt x="119" y="47"/>
                    <a:pt x="122" y="54"/>
                    <a:pt x="123" y="61"/>
                  </a:cubicBezTo>
                  <a:cubicBezTo>
                    <a:pt x="140" y="61"/>
                    <a:pt x="140" y="61"/>
                    <a:pt x="140" y="61"/>
                  </a:cubicBezTo>
                  <a:cubicBezTo>
                    <a:pt x="141" y="61"/>
                    <a:pt x="142" y="62"/>
                    <a:pt x="142" y="62"/>
                  </a:cubicBezTo>
                  <a:cubicBezTo>
                    <a:pt x="142" y="79"/>
                    <a:pt x="142" y="79"/>
                    <a:pt x="142" y="79"/>
                  </a:cubicBezTo>
                  <a:cubicBezTo>
                    <a:pt x="142" y="80"/>
                    <a:pt x="141" y="80"/>
                    <a:pt x="140" y="80"/>
                  </a:cubicBezTo>
                  <a:cubicBezTo>
                    <a:pt x="123" y="80"/>
                    <a:pt x="123" y="80"/>
                    <a:pt x="123" y="80"/>
                  </a:cubicBezTo>
                  <a:cubicBezTo>
                    <a:pt x="122" y="87"/>
                    <a:pt x="119" y="94"/>
                    <a:pt x="116" y="100"/>
                  </a:cubicBezTo>
                  <a:cubicBezTo>
                    <a:pt x="128" y="112"/>
                    <a:pt x="128" y="112"/>
                    <a:pt x="128" y="112"/>
                  </a:cubicBezTo>
                  <a:cubicBezTo>
                    <a:pt x="128" y="112"/>
                    <a:pt x="128" y="112"/>
                    <a:pt x="128" y="113"/>
                  </a:cubicBezTo>
                  <a:cubicBezTo>
                    <a:pt x="128" y="113"/>
                    <a:pt x="128" y="114"/>
                    <a:pt x="128" y="114"/>
                  </a:cubicBezTo>
                  <a:cubicBezTo>
                    <a:pt x="117" y="126"/>
                    <a:pt x="117" y="126"/>
                    <a:pt x="117" y="126"/>
                  </a:cubicBezTo>
                  <a:cubicBezTo>
                    <a:pt x="116" y="126"/>
                    <a:pt x="115" y="126"/>
                    <a:pt x="114" y="126"/>
                  </a:cubicBezTo>
                  <a:cubicBezTo>
                    <a:pt x="102" y="114"/>
                    <a:pt x="102" y="114"/>
                    <a:pt x="102" y="114"/>
                  </a:cubicBezTo>
                  <a:cubicBezTo>
                    <a:pt x="96" y="119"/>
                    <a:pt x="88" y="122"/>
                    <a:pt x="81" y="123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1" y="141"/>
                    <a:pt x="80" y="142"/>
                    <a:pt x="79" y="142"/>
                  </a:cubicBezTo>
                  <a:close/>
                  <a:moveTo>
                    <a:pt x="64" y="139"/>
                  </a:moveTo>
                  <a:cubicBezTo>
                    <a:pt x="78" y="139"/>
                    <a:pt x="78" y="139"/>
                    <a:pt x="78" y="139"/>
                  </a:cubicBezTo>
                  <a:cubicBezTo>
                    <a:pt x="78" y="122"/>
                    <a:pt x="78" y="122"/>
                    <a:pt x="78" y="122"/>
                  </a:cubicBezTo>
                  <a:cubicBezTo>
                    <a:pt x="78" y="121"/>
                    <a:pt x="78" y="120"/>
                    <a:pt x="79" y="120"/>
                  </a:cubicBezTo>
                  <a:cubicBezTo>
                    <a:pt x="87" y="119"/>
                    <a:pt x="95" y="116"/>
                    <a:pt x="101" y="111"/>
                  </a:cubicBezTo>
                  <a:cubicBezTo>
                    <a:pt x="102" y="110"/>
                    <a:pt x="103" y="110"/>
                    <a:pt x="103" y="111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25" y="113"/>
                    <a:pt x="125" y="113"/>
                    <a:pt x="125" y="113"/>
                  </a:cubicBezTo>
                  <a:cubicBezTo>
                    <a:pt x="112" y="101"/>
                    <a:pt x="112" y="101"/>
                    <a:pt x="112" y="101"/>
                  </a:cubicBezTo>
                  <a:cubicBezTo>
                    <a:pt x="112" y="101"/>
                    <a:pt x="112" y="100"/>
                    <a:pt x="112" y="99"/>
                  </a:cubicBezTo>
                  <a:cubicBezTo>
                    <a:pt x="117" y="93"/>
                    <a:pt x="119" y="86"/>
                    <a:pt x="121" y="79"/>
                  </a:cubicBezTo>
                  <a:cubicBezTo>
                    <a:pt x="121" y="78"/>
                    <a:pt x="121" y="77"/>
                    <a:pt x="122" y="77"/>
                  </a:cubicBezTo>
                  <a:cubicBezTo>
                    <a:pt x="139" y="77"/>
                    <a:pt x="139" y="77"/>
                    <a:pt x="139" y="77"/>
                  </a:cubicBezTo>
                  <a:cubicBezTo>
                    <a:pt x="139" y="64"/>
                    <a:pt x="139" y="64"/>
                    <a:pt x="139" y="64"/>
                  </a:cubicBezTo>
                  <a:cubicBezTo>
                    <a:pt x="122" y="64"/>
                    <a:pt x="122" y="64"/>
                    <a:pt x="122" y="64"/>
                  </a:cubicBezTo>
                  <a:cubicBezTo>
                    <a:pt x="121" y="64"/>
                    <a:pt x="121" y="63"/>
                    <a:pt x="121" y="63"/>
                  </a:cubicBezTo>
                  <a:cubicBezTo>
                    <a:pt x="119" y="55"/>
                    <a:pt x="117" y="48"/>
                    <a:pt x="112" y="42"/>
                  </a:cubicBezTo>
                  <a:cubicBezTo>
                    <a:pt x="112" y="41"/>
                    <a:pt x="112" y="41"/>
                    <a:pt x="112" y="40"/>
                  </a:cubicBezTo>
                  <a:cubicBezTo>
                    <a:pt x="125" y="28"/>
                    <a:pt x="125" y="28"/>
                    <a:pt x="125" y="28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31"/>
                    <a:pt x="102" y="31"/>
                    <a:pt x="101" y="31"/>
                  </a:cubicBezTo>
                  <a:cubicBezTo>
                    <a:pt x="95" y="26"/>
                    <a:pt x="87" y="22"/>
                    <a:pt x="79" y="21"/>
                  </a:cubicBezTo>
                  <a:cubicBezTo>
                    <a:pt x="78" y="21"/>
                    <a:pt x="78" y="20"/>
                    <a:pt x="78" y="19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64" y="3"/>
                    <a:pt x="64" y="3"/>
                    <a:pt x="64" y="3"/>
                  </a:cubicBezTo>
                  <a:cubicBezTo>
                    <a:pt x="64" y="19"/>
                    <a:pt x="64" y="19"/>
                    <a:pt x="64" y="19"/>
                  </a:cubicBezTo>
                  <a:cubicBezTo>
                    <a:pt x="64" y="20"/>
                    <a:pt x="64" y="21"/>
                    <a:pt x="63" y="21"/>
                  </a:cubicBezTo>
                  <a:cubicBezTo>
                    <a:pt x="55" y="22"/>
                    <a:pt x="47" y="26"/>
                    <a:pt x="41" y="31"/>
                  </a:cubicBezTo>
                  <a:cubicBezTo>
                    <a:pt x="40" y="31"/>
                    <a:pt x="39" y="31"/>
                    <a:pt x="39" y="3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1"/>
                    <a:pt x="30" y="41"/>
                    <a:pt x="30" y="42"/>
                  </a:cubicBezTo>
                  <a:cubicBezTo>
                    <a:pt x="25" y="48"/>
                    <a:pt x="22" y="55"/>
                    <a:pt x="21" y="63"/>
                  </a:cubicBezTo>
                  <a:cubicBezTo>
                    <a:pt x="21" y="63"/>
                    <a:pt x="21" y="64"/>
                    <a:pt x="20" y="64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77"/>
                    <a:pt x="3" y="77"/>
                    <a:pt x="3" y="77"/>
                  </a:cubicBezTo>
                  <a:cubicBezTo>
                    <a:pt x="20" y="77"/>
                    <a:pt x="20" y="77"/>
                    <a:pt x="20" y="77"/>
                  </a:cubicBezTo>
                  <a:cubicBezTo>
                    <a:pt x="21" y="77"/>
                    <a:pt x="21" y="78"/>
                    <a:pt x="21" y="79"/>
                  </a:cubicBezTo>
                  <a:cubicBezTo>
                    <a:pt x="22" y="86"/>
                    <a:pt x="25" y="93"/>
                    <a:pt x="30" y="99"/>
                  </a:cubicBezTo>
                  <a:cubicBezTo>
                    <a:pt x="30" y="100"/>
                    <a:pt x="30" y="101"/>
                    <a:pt x="29" y="101"/>
                  </a:cubicBezTo>
                  <a:cubicBezTo>
                    <a:pt x="17" y="113"/>
                    <a:pt x="17" y="113"/>
                    <a:pt x="17" y="113"/>
                  </a:cubicBezTo>
                  <a:cubicBezTo>
                    <a:pt x="26" y="123"/>
                    <a:pt x="26" y="123"/>
                    <a:pt x="26" y="123"/>
                  </a:cubicBezTo>
                  <a:cubicBezTo>
                    <a:pt x="39" y="111"/>
                    <a:pt x="39" y="111"/>
                    <a:pt x="39" y="111"/>
                  </a:cubicBezTo>
                  <a:cubicBezTo>
                    <a:pt x="39" y="110"/>
                    <a:pt x="40" y="110"/>
                    <a:pt x="41" y="111"/>
                  </a:cubicBezTo>
                  <a:cubicBezTo>
                    <a:pt x="47" y="116"/>
                    <a:pt x="55" y="119"/>
                    <a:pt x="63" y="120"/>
                  </a:cubicBezTo>
                  <a:cubicBezTo>
                    <a:pt x="64" y="120"/>
                    <a:pt x="64" y="121"/>
                    <a:pt x="64" y="122"/>
                  </a:cubicBezTo>
                  <a:lnTo>
                    <a:pt x="64" y="139"/>
                  </a:lnTo>
                  <a:close/>
                  <a:moveTo>
                    <a:pt x="71" y="104"/>
                  </a:moveTo>
                  <a:cubicBezTo>
                    <a:pt x="52" y="104"/>
                    <a:pt x="37" y="89"/>
                    <a:pt x="37" y="71"/>
                  </a:cubicBezTo>
                  <a:cubicBezTo>
                    <a:pt x="37" y="52"/>
                    <a:pt x="52" y="37"/>
                    <a:pt x="71" y="37"/>
                  </a:cubicBezTo>
                  <a:cubicBezTo>
                    <a:pt x="89" y="37"/>
                    <a:pt x="104" y="52"/>
                    <a:pt x="104" y="71"/>
                  </a:cubicBezTo>
                  <a:cubicBezTo>
                    <a:pt x="104" y="89"/>
                    <a:pt x="89" y="104"/>
                    <a:pt x="71" y="104"/>
                  </a:cubicBezTo>
                  <a:close/>
                  <a:moveTo>
                    <a:pt x="71" y="40"/>
                  </a:moveTo>
                  <a:cubicBezTo>
                    <a:pt x="54" y="40"/>
                    <a:pt x="41" y="54"/>
                    <a:pt x="41" y="71"/>
                  </a:cubicBezTo>
                  <a:cubicBezTo>
                    <a:pt x="41" y="87"/>
                    <a:pt x="54" y="101"/>
                    <a:pt x="71" y="101"/>
                  </a:cubicBezTo>
                  <a:cubicBezTo>
                    <a:pt x="88" y="101"/>
                    <a:pt x="101" y="87"/>
                    <a:pt x="101" y="71"/>
                  </a:cubicBezTo>
                  <a:cubicBezTo>
                    <a:pt x="101" y="54"/>
                    <a:pt x="88" y="40"/>
                    <a:pt x="7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175"/>
            <p:cNvSpPr/>
            <p:nvPr/>
          </p:nvSpPr>
          <p:spPr>
            <a:xfrm>
              <a:off x="10942200" y="2813400"/>
              <a:ext cx="85680" cy="867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25"/>
                  </a:moveTo>
                  <a:cubicBezTo>
                    <a:pt x="6" y="25"/>
                    <a:pt x="0" y="20"/>
                    <a:pt x="0" y="13"/>
                  </a:cubicBezTo>
                  <a:cubicBezTo>
                    <a:pt x="0" y="6"/>
                    <a:pt x="6" y="0"/>
                    <a:pt x="13" y="0"/>
                  </a:cubicBezTo>
                  <a:cubicBezTo>
                    <a:pt x="20" y="0"/>
                    <a:pt x="25" y="6"/>
                    <a:pt x="25" y="13"/>
                  </a:cubicBezTo>
                  <a:cubicBezTo>
                    <a:pt x="25" y="20"/>
                    <a:pt x="20" y="25"/>
                    <a:pt x="13" y="25"/>
                  </a:cubicBezTo>
                  <a:close/>
                  <a:moveTo>
                    <a:pt x="13" y="3"/>
                  </a:moveTo>
                  <a:cubicBezTo>
                    <a:pt x="8" y="3"/>
                    <a:pt x="4" y="7"/>
                    <a:pt x="4" y="13"/>
                  </a:cubicBezTo>
                  <a:cubicBezTo>
                    <a:pt x="4" y="18"/>
                    <a:pt x="8" y="22"/>
                    <a:pt x="13" y="22"/>
                  </a:cubicBezTo>
                  <a:cubicBezTo>
                    <a:pt x="18" y="22"/>
                    <a:pt x="22" y="18"/>
                    <a:pt x="22" y="13"/>
                  </a:cubicBezTo>
                  <a:cubicBezTo>
                    <a:pt x="22" y="7"/>
                    <a:pt x="18" y="3"/>
                    <a:pt x="1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5" name="Freeform 176"/>
          <p:cNvSpPr/>
          <p:nvPr/>
        </p:nvSpPr>
        <p:spPr>
          <a:xfrm>
            <a:off x="10979280" y="3635280"/>
            <a:ext cx="333360" cy="333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48" y="57"/>
                </a:moveTo>
                <a:cubicBezTo>
                  <a:pt x="43" y="57"/>
                  <a:pt x="39" y="53"/>
                  <a:pt x="39" y="48"/>
                </a:cubicBezTo>
                <a:cubicBezTo>
                  <a:pt x="39" y="44"/>
                  <a:pt x="43" y="40"/>
                  <a:pt x="48" y="40"/>
                </a:cubicBezTo>
                <a:cubicBezTo>
                  <a:pt x="53" y="40"/>
                  <a:pt x="57" y="44"/>
                  <a:pt x="57" y="48"/>
                </a:cubicBezTo>
                <a:cubicBezTo>
                  <a:pt x="57" y="53"/>
                  <a:pt x="53" y="57"/>
                  <a:pt x="48" y="57"/>
                </a:cubicBezTo>
                <a:moveTo>
                  <a:pt x="52" y="0"/>
                </a:moveTo>
                <a:cubicBezTo>
                  <a:pt x="49" y="13"/>
                  <a:pt x="49" y="13"/>
                  <a:pt x="49" y="13"/>
                </a:cubicBezTo>
                <a:cubicBezTo>
                  <a:pt x="49" y="13"/>
                  <a:pt x="49" y="13"/>
                  <a:pt x="48" y="13"/>
                </a:cubicBezTo>
                <a:cubicBezTo>
                  <a:pt x="43" y="13"/>
                  <a:pt x="37" y="14"/>
                  <a:pt x="32" y="16"/>
                </a:cubicBezTo>
                <a:cubicBezTo>
                  <a:pt x="25" y="6"/>
                  <a:pt x="25" y="6"/>
                  <a:pt x="25" y="6"/>
                </a:cubicBezTo>
                <a:cubicBezTo>
                  <a:pt x="16" y="12"/>
                  <a:pt x="16" y="12"/>
                  <a:pt x="16" y="12"/>
                </a:cubicBezTo>
                <a:cubicBezTo>
                  <a:pt x="23" y="23"/>
                  <a:pt x="23" y="23"/>
                  <a:pt x="23" y="23"/>
                </a:cubicBezTo>
                <a:cubicBezTo>
                  <a:pt x="19" y="27"/>
                  <a:pt x="16" y="31"/>
                  <a:pt x="15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0" y="45"/>
                  <a:pt x="0" y="45"/>
                  <a:pt x="0" y="45"/>
                </a:cubicBezTo>
                <a:cubicBezTo>
                  <a:pt x="12" y="47"/>
                  <a:pt x="12" y="47"/>
                  <a:pt x="12" y="47"/>
                </a:cubicBezTo>
                <a:cubicBezTo>
                  <a:pt x="12" y="53"/>
                  <a:pt x="13" y="58"/>
                  <a:pt x="15" y="63"/>
                </a:cubicBezTo>
                <a:cubicBezTo>
                  <a:pt x="5" y="70"/>
                  <a:pt x="5" y="70"/>
                  <a:pt x="5" y="70"/>
                </a:cubicBezTo>
                <a:cubicBezTo>
                  <a:pt x="11" y="79"/>
                  <a:pt x="11" y="79"/>
                  <a:pt x="11" y="79"/>
                </a:cubicBezTo>
                <a:cubicBezTo>
                  <a:pt x="22" y="72"/>
                  <a:pt x="22" y="72"/>
                  <a:pt x="22" y="72"/>
                </a:cubicBezTo>
                <a:cubicBezTo>
                  <a:pt x="25" y="77"/>
                  <a:pt x="30" y="80"/>
                  <a:pt x="36" y="82"/>
                </a:cubicBezTo>
                <a:cubicBezTo>
                  <a:pt x="34" y="95"/>
                  <a:pt x="34" y="95"/>
                  <a:pt x="34" y="95"/>
                </a:cubicBezTo>
                <a:cubicBezTo>
                  <a:pt x="45" y="97"/>
                  <a:pt x="45" y="97"/>
                  <a:pt x="45" y="97"/>
                </a:cubicBezTo>
                <a:cubicBezTo>
                  <a:pt x="47" y="84"/>
                  <a:pt x="47" y="84"/>
                  <a:pt x="47" y="84"/>
                </a:cubicBezTo>
                <a:cubicBezTo>
                  <a:pt x="47" y="84"/>
                  <a:pt x="48" y="84"/>
                  <a:pt x="48" y="84"/>
                </a:cubicBezTo>
                <a:cubicBezTo>
                  <a:pt x="54" y="84"/>
                  <a:pt x="59" y="83"/>
                  <a:pt x="64" y="81"/>
                </a:cubicBezTo>
                <a:cubicBezTo>
                  <a:pt x="71" y="91"/>
                  <a:pt x="71" y="91"/>
                  <a:pt x="71" y="91"/>
                </a:cubicBezTo>
                <a:cubicBezTo>
                  <a:pt x="81" y="84"/>
                  <a:pt x="81" y="84"/>
                  <a:pt x="81" y="84"/>
                </a:cubicBezTo>
                <a:cubicBezTo>
                  <a:pt x="73" y="74"/>
                  <a:pt x="73" y="74"/>
                  <a:pt x="73" y="74"/>
                </a:cubicBezTo>
                <a:cubicBezTo>
                  <a:pt x="77" y="70"/>
                  <a:pt x="80" y="66"/>
                  <a:pt x="82" y="61"/>
                </a:cubicBezTo>
                <a:cubicBezTo>
                  <a:pt x="94" y="63"/>
                  <a:pt x="94" y="63"/>
                  <a:pt x="94" y="63"/>
                </a:cubicBezTo>
                <a:cubicBezTo>
                  <a:pt x="97" y="52"/>
                  <a:pt x="97" y="52"/>
                  <a:pt x="97" y="52"/>
                </a:cubicBezTo>
                <a:cubicBezTo>
                  <a:pt x="84" y="50"/>
                  <a:pt x="84" y="50"/>
                  <a:pt x="84" y="50"/>
                </a:cubicBezTo>
                <a:cubicBezTo>
                  <a:pt x="84" y="44"/>
                  <a:pt x="83" y="39"/>
                  <a:pt x="81" y="34"/>
                </a:cubicBezTo>
                <a:cubicBezTo>
                  <a:pt x="92" y="27"/>
                  <a:pt x="92" y="27"/>
                  <a:pt x="92" y="27"/>
                </a:cubicBezTo>
                <a:cubicBezTo>
                  <a:pt x="86" y="18"/>
                  <a:pt x="86" y="18"/>
                  <a:pt x="86" y="18"/>
                </a:cubicBezTo>
                <a:cubicBezTo>
                  <a:pt x="75" y="24"/>
                  <a:pt x="75" y="24"/>
                  <a:pt x="75" y="24"/>
                </a:cubicBezTo>
                <a:cubicBezTo>
                  <a:pt x="71" y="20"/>
                  <a:pt x="66" y="17"/>
                  <a:pt x="60" y="15"/>
                </a:cubicBezTo>
                <a:cubicBezTo>
                  <a:pt x="63" y="2"/>
                  <a:pt x="63" y="2"/>
                  <a:pt x="63" y="2"/>
                </a:cubicBezTo>
                <a:cubicBezTo>
                  <a:pt x="52" y="0"/>
                  <a:pt x="52" y="0"/>
                  <a:pt x="5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Freeform 177"/>
          <p:cNvSpPr/>
          <p:nvPr/>
        </p:nvSpPr>
        <p:spPr>
          <a:xfrm>
            <a:off x="6692760" y="2868480"/>
            <a:ext cx="333360" cy="333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49" y="57"/>
                </a:moveTo>
                <a:cubicBezTo>
                  <a:pt x="44" y="57"/>
                  <a:pt x="40" y="53"/>
                  <a:pt x="40" y="48"/>
                </a:cubicBezTo>
                <a:cubicBezTo>
                  <a:pt x="40" y="43"/>
                  <a:pt x="44" y="39"/>
                  <a:pt x="49" y="39"/>
                </a:cubicBezTo>
                <a:cubicBezTo>
                  <a:pt x="54" y="39"/>
                  <a:pt x="58" y="43"/>
                  <a:pt x="58" y="48"/>
                </a:cubicBezTo>
                <a:cubicBezTo>
                  <a:pt x="58" y="53"/>
                  <a:pt x="54" y="57"/>
                  <a:pt x="49" y="57"/>
                </a:cubicBezTo>
                <a:moveTo>
                  <a:pt x="52" y="0"/>
                </a:moveTo>
                <a:cubicBezTo>
                  <a:pt x="50" y="13"/>
                  <a:pt x="50" y="13"/>
                  <a:pt x="50" y="13"/>
                </a:cubicBezTo>
                <a:cubicBezTo>
                  <a:pt x="49" y="12"/>
                  <a:pt x="49" y="12"/>
                  <a:pt x="49" y="12"/>
                </a:cubicBezTo>
                <a:cubicBezTo>
                  <a:pt x="43" y="12"/>
                  <a:pt x="38" y="14"/>
                  <a:pt x="33" y="16"/>
                </a:cubicBezTo>
                <a:cubicBezTo>
                  <a:pt x="26" y="6"/>
                  <a:pt x="26" y="6"/>
                  <a:pt x="26" y="6"/>
                </a:cubicBezTo>
                <a:cubicBezTo>
                  <a:pt x="16" y="12"/>
                  <a:pt x="16" y="12"/>
                  <a:pt x="16" y="12"/>
                </a:cubicBezTo>
                <a:cubicBezTo>
                  <a:pt x="24" y="23"/>
                  <a:pt x="24" y="23"/>
                  <a:pt x="24" y="23"/>
                </a:cubicBezTo>
                <a:cubicBezTo>
                  <a:pt x="20" y="26"/>
                  <a:pt x="17" y="31"/>
                  <a:pt x="15" y="36"/>
                </a:cubicBezTo>
                <a:cubicBezTo>
                  <a:pt x="3" y="34"/>
                  <a:pt x="3" y="34"/>
                  <a:pt x="3" y="34"/>
                </a:cubicBezTo>
                <a:cubicBezTo>
                  <a:pt x="0" y="45"/>
                  <a:pt x="0" y="45"/>
                  <a:pt x="0" y="45"/>
                </a:cubicBezTo>
                <a:cubicBezTo>
                  <a:pt x="13" y="47"/>
                  <a:pt x="13" y="47"/>
                  <a:pt x="13" y="47"/>
                </a:cubicBezTo>
                <a:cubicBezTo>
                  <a:pt x="13" y="53"/>
                  <a:pt x="14" y="58"/>
                  <a:pt x="16" y="63"/>
                </a:cubicBezTo>
                <a:cubicBezTo>
                  <a:pt x="5" y="70"/>
                  <a:pt x="5" y="70"/>
                  <a:pt x="5" y="70"/>
                </a:cubicBezTo>
                <a:cubicBezTo>
                  <a:pt x="11" y="79"/>
                  <a:pt x="11" y="79"/>
                  <a:pt x="11" y="79"/>
                </a:cubicBezTo>
                <a:cubicBezTo>
                  <a:pt x="22" y="72"/>
                  <a:pt x="22" y="72"/>
                  <a:pt x="22" y="72"/>
                </a:cubicBezTo>
                <a:cubicBezTo>
                  <a:pt x="26" y="77"/>
                  <a:pt x="31" y="80"/>
                  <a:pt x="37" y="82"/>
                </a:cubicBezTo>
                <a:cubicBezTo>
                  <a:pt x="34" y="95"/>
                  <a:pt x="34" y="95"/>
                  <a:pt x="34" y="95"/>
                </a:cubicBezTo>
                <a:cubicBezTo>
                  <a:pt x="45" y="97"/>
                  <a:pt x="45" y="97"/>
                  <a:pt x="45" y="97"/>
                </a:cubicBezTo>
                <a:cubicBezTo>
                  <a:pt x="48" y="84"/>
                  <a:pt x="48" y="84"/>
                  <a:pt x="48" y="84"/>
                </a:cubicBezTo>
                <a:cubicBezTo>
                  <a:pt x="48" y="84"/>
                  <a:pt x="48" y="84"/>
                  <a:pt x="49" y="84"/>
                </a:cubicBezTo>
                <a:cubicBezTo>
                  <a:pt x="54" y="84"/>
                  <a:pt x="60" y="83"/>
                  <a:pt x="65" y="80"/>
                </a:cubicBezTo>
                <a:cubicBezTo>
                  <a:pt x="72" y="91"/>
                  <a:pt x="72" y="91"/>
                  <a:pt x="72" y="91"/>
                </a:cubicBezTo>
                <a:cubicBezTo>
                  <a:pt x="81" y="84"/>
                  <a:pt x="81" y="84"/>
                  <a:pt x="81" y="84"/>
                </a:cubicBezTo>
                <a:cubicBezTo>
                  <a:pt x="74" y="74"/>
                  <a:pt x="74" y="74"/>
                  <a:pt x="74" y="74"/>
                </a:cubicBezTo>
                <a:cubicBezTo>
                  <a:pt x="78" y="70"/>
                  <a:pt x="81" y="66"/>
                  <a:pt x="82" y="61"/>
                </a:cubicBezTo>
                <a:cubicBezTo>
                  <a:pt x="95" y="63"/>
                  <a:pt x="95" y="63"/>
                  <a:pt x="95" y="63"/>
                </a:cubicBezTo>
                <a:cubicBezTo>
                  <a:pt x="97" y="52"/>
                  <a:pt x="97" y="52"/>
                  <a:pt x="97" y="52"/>
                </a:cubicBezTo>
                <a:cubicBezTo>
                  <a:pt x="85" y="49"/>
                  <a:pt x="85" y="49"/>
                  <a:pt x="85" y="49"/>
                </a:cubicBezTo>
                <a:cubicBezTo>
                  <a:pt x="85" y="44"/>
                  <a:pt x="84" y="39"/>
                  <a:pt x="82" y="34"/>
                </a:cubicBezTo>
                <a:cubicBezTo>
                  <a:pt x="92" y="27"/>
                  <a:pt x="92" y="27"/>
                  <a:pt x="92" y="27"/>
                </a:cubicBezTo>
                <a:cubicBezTo>
                  <a:pt x="86" y="17"/>
                  <a:pt x="86" y="17"/>
                  <a:pt x="86" y="17"/>
                </a:cubicBezTo>
                <a:cubicBezTo>
                  <a:pt x="75" y="24"/>
                  <a:pt x="75" y="24"/>
                  <a:pt x="75" y="24"/>
                </a:cubicBezTo>
                <a:cubicBezTo>
                  <a:pt x="72" y="20"/>
                  <a:pt x="67" y="17"/>
                  <a:pt x="61" y="15"/>
                </a:cubicBezTo>
                <a:cubicBezTo>
                  <a:pt x="63" y="2"/>
                  <a:pt x="63" y="2"/>
                  <a:pt x="63" y="2"/>
                </a:cubicBezTo>
                <a:cubicBezTo>
                  <a:pt x="52" y="0"/>
                  <a:pt x="52" y="0"/>
                  <a:pt x="5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Freeform 180"/>
          <p:cNvSpPr/>
          <p:nvPr/>
        </p:nvSpPr>
        <p:spPr>
          <a:xfrm>
            <a:off x="9182160" y="1125360"/>
            <a:ext cx="625320" cy="96840"/>
          </a:xfrm>
          <a:custGeom>
            <a:avLst/>
            <a:gdLst/>
            <a:ahLst/>
            <a:rect l="l" t="t" r="r" b="b"/>
            <a:pathLst>
              <a:path w="182" h="28">
                <a:moveTo>
                  <a:pt x="0" y="19"/>
                </a:moveTo>
                <a:cubicBezTo>
                  <a:pt x="0" y="22"/>
                  <a:pt x="0" y="25"/>
                  <a:pt x="2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126" y="28"/>
                  <a:pt x="126" y="28"/>
                  <a:pt x="126" y="28"/>
                </a:cubicBezTo>
                <a:cubicBezTo>
                  <a:pt x="166" y="28"/>
                  <a:pt x="166" y="28"/>
                  <a:pt x="166" y="28"/>
                </a:cubicBezTo>
                <a:cubicBezTo>
                  <a:pt x="164" y="25"/>
                  <a:pt x="163" y="22"/>
                  <a:pt x="163" y="19"/>
                </a:cubicBezTo>
                <a:cubicBezTo>
                  <a:pt x="163" y="8"/>
                  <a:pt x="172" y="0"/>
                  <a:pt x="182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Freeform 181"/>
          <p:cNvSpPr/>
          <p:nvPr/>
        </p:nvSpPr>
        <p:spPr>
          <a:xfrm>
            <a:off x="9250200" y="1116000"/>
            <a:ext cx="640080" cy="801720"/>
          </a:xfrm>
          <a:custGeom>
            <a:avLst/>
            <a:gdLst/>
            <a:ahLst/>
            <a:rect l="l" t="t" r="r" b="b"/>
            <a:pathLst>
              <a:path w="186" h="233">
                <a:moveTo>
                  <a:pt x="163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23" y="0"/>
                  <a:pt x="23" y="32"/>
                </a:cubicBezTo>
                <a:cubicBezTo>
                  <a:pt x="23" y="81"/>
                  <a:pt x="23" y="186"/>
                  <a:pt x="23" y="206"/>
                </a:cubicBezTo>
                <a:cubicBezTo>
                  <a:pt x="23" y="233"/>
                  <a:pt x="47" y="230"/>
                  <a:pt x="47" y="230"/>
                </a:cubicBezTo>
                <a:cubicBezTo>
                  <a:pt x="186" y="230"/>
                  <a:pt x="186" y="230"/>
                  <a:pt x="186" y="230"/>
                </a:cubicBezTo>
                <a:cubicBezTo>
                  <a:pt x="186" y="230"/>
                  <a:pt x="186" y="52"/>
                  <a:pt x="186" y="26"/>
                </a:cubicBezTo>
                <a:cubicBezTo>
                  <a:pt x="186" y="3"/>
                  <a:pt x="163" y="3"/>
                  <a:pt x="163" y="3"/>
                </a:cubicBezTo>
                <a:close/>
              </a:path>
            </a:pathLst>
          </a:cu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Freeform 182"/>
          <p:cNvSpPr/>
          <p:nvPr/>
        </p:nvSpPr>
        <p:spPr>
          <a:xfrm>
            <a:off x="9398160" y="1809720"/>
            <a:ext cx="625320" cy="96840"/>
          </a:xfrm>
          <a:custGeom>
            <a:avLst/>
            <a:gdLst/>
            <a:ahLst/>
            <a:rect l="l" t="t" r="r" b="b"/>
            <a:pathLst>
              <a:path w="182" h="28">
                <a:moveTo>
                  <a:pt x="182" y="9"/>
                </a:moveTo>
                <a:cubicBezTo>
                  <a:pt x="182" y="6"/>
                  <a:pt x="181" y="3"/>
                  <a:pt x="18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8" y="3"/>
                  <a:pt x="19" y="6"/>
                  <a:pt x="19" y="9"/>
                </a:cubicBezTo>
                <a:cubicBezTo>
                  <a:pt x="19" y="19"/>
                  <a:pt x="10" y="28"/>
                  <a:pt x="0" y="28"/>
                </a:cubicBezTo>
                <a:cubicBezTo>
                  <a:pt x="39" y="28"/>
                  <a:pt x="39" y="28"/>
                  <a:pt x="39" y="28"/>
                </a:cubicBezTo>
                <a:cubicBezTo>
                  <a:pt x="143" y="28"/>
                  <a:pt x="143" y="28"/>
                  <a:pt x="143" y="28"/>
                </a:cubicBezTo>
                <a:cubicBezTo>
                  <a:pt x="163" y="28"/>
                  <a:pt x="163" y="28"/>
                  <a:pt x="163" y="28"/>
                </a:cubicBezTo>
                <a:cubicBezTo>
                  <a:pt x="174" y="28"/>
                  <a:pt x="182" y="19"/>
                  <a:pt x="182" y="9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Rectangle 183"/>
          <p:cNvSpPr/>
          <p:nvPr/>
        </p:nvSpPr>
        <p:spPr>
          <a:xfrm>
            <a:off x="9401040" y="1284120"/>
            <a:ext cx="179640" cy="1414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Rectangle 184"/>
          <p:cNvSpPr/>
          <p:nvPr/>
        </p:nvSpPr>
        <p:spPr>
          <a:xfrm>
            <a:off x="9648720" y="1293840"/>
            <a:ext cx="17172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Rectangle 185"/>
          <p:cNvSpPr/>
          <p:nvPr/>
        </p:nvSpPr>
        <p:spPr>
          <a:xfrm>
            <a:off x="9648720" y="1384200"/>
            <a:ext cx="171720" cy="302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Rectangle 186"/>
          <p:cNvSpPr/>
          <p:nvPr/>
        </p:nvSpPr>
        <p:spPr>
          <a:xfrm>
            <a:off x="9401040" y="1476360"/>
            <a:ext cx="130320" cy="284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7280" bIns="-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Rectangle 187"/>
          <p:cNvSpPr/>
          <p:nvPr/>
        </p:nvSpPr>
        <p:spPr>
          <a:xfrm>
            <a:off x="9621720" y="1476360"/>
            <a:ext cx="198720" cy="284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7280" bIns="-17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Rectangle 188"/>
          <p:cNvSpPr/>
          <p:nvPr/>
        </p:nvSpPr>
        <p:spPr>
          <a:xfrm>
            <a:off x="9401040" y="1565280"/>
            <a:ext cx="16848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Rectangle 189"/>
          <p:cNvSpPr/>
          <p:nvPr/>
        </p:nvSpPr>
        <p:spPr>
          <a:xfrm>
            <a:off x="9401040" y="1655640"/>
            <a:ext cx="241560" cy="302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Rectangle 190"/>
          <p:cNvSpPr/>
          <p:nvPr/>
        </p:nvSpPr>
        <p:spPr>
          <a:xfrm>
            <a:off x="9631440" y="1565280"/>
            <a:ext cx="4896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Rectangle 191"/>
          <p:cNvSpPr/>
          <p:nvPr/>
        </p:nvSpPr>
        <p:spPr>
          <a:xfrm>
            <a:off x="9731520" y="1565280"/>
            <a:ext cx="88920" cy="3168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Rectangle 192"/>
          <p:cNvSpPr/>
          <p:nvPr/>
        </p:nvSpPr>
        <p:spPr>
          <a:xfrm>
            <a:off x="9699480" y="1655640"/>
            <a:ext cx="120960" cy="302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Freeform 193"/>
          <p:cNvSpPr/>
          <p:nvPr/>
        </p:nvSpPr>
        <p:spPr>
          <a:xfrm>
            <a:off x="11128320" y="4540320"/>
            <a:ext cx="379440" cy="37764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94" y="107"/>
                </a:moveTo>
                <a:cubicBezTo>
                  <a:pt x="98" y="110"/>
                  <a:pt x="104" y="110"/>
                  <a:pt x="107" y="107"/>
                </a:cubicBezTo>
                <a:cubicBezTo>
                  <a:pt x="111" y="103"/>
                  <a:pt x="111" y="97"/>
                  <a:pt x="107" y="94"/>
                </a:cubicBezTo>
                <a:cubicBezTo>
                  <a:pt x="17" y="3"/>
                  <a:pt x="17" y="3"/>
                  <a:pt x="17" y="3"/>
                </a:cubicBezTo>
                <a:cubicBezTo>
                  <a:pt x="13" y="0"/>
                  <a:pt x="7" y="0"/>
                  <a:pt x="4" y="3"/>
                </a:cubicBezTo>
                <a:cubicBezTo>
                  <a:pt x="0" y="7"/>
                  <a:pt x="0" y="13"/>
                  <a:pt x="4" y="16"/>
                </a:cubicBezTo>
                <a:lnTo>
                  <a:pt x="94" y="107"/>
                </a:ln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Freeform 194"/>
          <p:cNvSpPr/>
          <p:nvPr/>
        </p:nvSpPr>
        <p:spPr>
          <a:xfrm>
            <a:off x="10909440" y="4322880"/>
            <a:ext cx="255600" cy="250560"/>
          </a:xfrm>
          <a:custGeom>
            <a:avLst/>
            <a:gdLst/>
            <a:ahLst/>
            <a:rect l="l" t="t" r="r" b="b"/>
            <a:pathLst>
              <a:path w="74" h="73">
                <a:moveTo>
                  <a:pt x="57" y="73"/>
                </a:moveTo>
                <a:cubicBezTo>
                  <a:pt x="74" y="56"/>
                  <a:pt x="74" y="56"/>
                  <a:pt x="74" y="56"/>
                </a:cubicBezTo>
                <a:cubicBezTo>
                  <a:pt x="40" y="7"/>
                  <a:pt x="40" y="7"/>
                  <a:pt x="40" y="7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2"/>
                  <a:pt x="29" y="23"/>
                  <a:pt x="31" y="24"/>
                </a:cubicBezTo>
                <a:cubicBezTo>
                  <a:pt x="33" y="26"/>
                  <a:pt x="33" y="29"/>
                  <a:pt x="31" y="31"/>
                </a:cubicBezTo>
                <a:cubicBezTo>
                  <a:pt x="29" y="32"/>
                  <a:pt x="26" y="32"/>
                  <a:pt x="24" y="31"/>
                </a:cubicBezTo>
                <a:cubicBezTo>
                  <a:pt x="23" y="29"/>
                  <a:pt x="23" y="27"/>
                  <a:pt x="23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3"/>
                  <a:pt x="0" y="3"/>
                  <a:pt x="0" y="3"/>
                </a:cubicBezTo>
                <a:cubicBezTo>
                  <a:pt x="8" y="40"/>
                  <a:pt x="8" y="40"/>
                  <a:pt x="8" y="40"/>
                </a:cubicBezTo>
                <a:lnTo>
                  <a:pt x="57" y="73"/>
                </a:lnTo>
                <a:close/>
              </a:path>
            </a:pathLst>
          </a:cu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Freeform 195"/>
          <p:cNvSpPr/>
          <p:nvPr/>
        </p:nvSpPr>
        <p:spPr>
          <a:xfrm>
            <a:off x="11085480" y="4497480"/>
            <a:ext cx="112680" cy="114120"/>
          </a:xfrm>
          <a:custGeom>
            <a:avLst/>
            <a:gdLst/>
            <a:ahLst/>
            <a:rect l="l" t="t" r="r" b="b"/>
            <a:pathLst>
              <a:path w="33" h="33">
                <a:moveTo>
                  <a:pt x="5" y="28"/>
                </a:moveTo>
                <a:cubicBezTo>
                  <a:pt x="9" y="32"/>
                  <a:pt x="14" y="33"/>
                  <a:pt x="16" y="31"/>
                </a:cubicBezTo>
                <a:cubicBezTo>
                  <a:pt x="31" y="16"/>
                  <a:pt x="31" y="16"/>
                  <a:pt x="31" y="16"/>
                </a:cubicBezTo>
                <a:cubicBezTo>
                  <a:pt x="33" y="14"/>
                  <a:pt x="32" y="9"/>
                  <a:pt x="28" y="5"/>
                </a:cubicBezTo>
                <a:cubicBezTo>
                  <a:pt x="24" y="1"/>
                  <a:pt x="20" y="0"/>
                  <a:pt x="17" y="2"/>
                </a:cubicBezTo>
                <a:cubicBezTo>
                  <a:pt x="3" y="17"/>
                  <a:pt x="3" y="17"/>
                  <a:pt x="3" y="17"/>
                </a:cubicBezTo>
                <a:cubicBezTo>
                  <a:pt x="0" y="19"/>
                  <a:pt x="2" y="24"/>
                  <a:pt x="5" y="28"/>
                </a:cubicBez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Freeform 196"/>
          <p:cNvSpPr/>
          <p:nvPr/>
        </p:nvSpPr>
        <p:spPr>
          <a:xfrm>
            <a:off x="11395080" y="4289400"/>
            <a:ext cx="193680" cy="181080"/>
          </a:xfrm>
          <a:custGeom>
            <a:avLst/>
            <a:gdLst/>
            <a:ahLst/>
            <a:rect l="l" t="t" r="r" b="b"/>
            <a:pathLst>
              <a:path w="56" h="53">
                <a:moveTo>
                  <a:pt x="39" y="0"/>
                </a:moveTo>
                <a:cubicBezTo>
                  <a:pt x="40" y="8"/>
                  <a:pt x="29" y="10"/>
                  <a:pt x="25" y="10"/>
                </a:cubicBezTo>
                <a:cubicBezTo>
                  <a:pt x="0" y="9"/>
                  <a:pt x="1" y="34"/>
                  <a:pt x="1" y="39"/>
                </a:cubicBezTo>
                <a:cubicBezTo>
                  <a:pt x="2" y="41"/>
                  <a:pt x="13" y="49"/>
                  <a:pt x="13" y="49"/>
                </a:cubicBezTo>
                <a:cubicBezTo>
                  <a:pt x="25" y="53"/>
                  <a:pt x="32" y="48"/>
                  <a:pt x="34" y="46"/>
                </a:cubicBezTo>
                <a:cubicBezTo>
                  <a:pt x="56" y="28"/>
                  <a:pt x="44" y="6"/>
                  <a:pt x="39" y="0"/>
                </a:cubicBezTo>
                <a:close/>
              </a:path>
            </a:pathLst>
          </a:custGeom>
          <a:solidFill>
            <a:srgbClr val="f2c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Freeform 197"/>
          <p:cNvSpPr/>
          <p:nvPr/>
        </p:nvSpPr>
        <p:spPr>
          <a:xfrm>
            <a:off x="11047320" y="4414680"/>
            <a:ext cx="412920" cy="48276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39" y="0"/>
                </a:moveTo>
                <a:lnTo>
                  <a:pt x="0" y="296"/>
                </a:lnTo>
                <a:lnTo>
                  <a:pt x="45" y="332"/>
                </a:lnTo>
                <a:lnTo>
                  <a:pt x="284" y="38"/>
                </a:lnTo>
                <a:lnTo>
                  <a:pt x="239" y="0"/>
                </a:ln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Freeform 198"/>
          <p:cNvSpPr/>
          <p:nvPr/>
        </p:nvSpPr>
        <p:spPr>
          <a:xfrm>
            <a:off x="11037960" y="4851360"/>
            <a:ext cx="68040" cy="63720"/>
          </a:xfrm>
          <a:custGeom>
            <a:avLst/>
            <a:gdLst/>
            <a:ahLst/>
            <a:rect l="l" t="t" r="r" b="b"/>
            <a:pathLst>
              <a:path w="47" h="43">
                <a:moveTo>
                  <a:pt x="33" y="43"/>
                </a:moveTo>
                <a:lnTo>
                  <a:pt x="47" y="26"/>
                </a:lnTo>
                <a:lnTo>
                  <a:pt x="12" y="0"/>
                </a:lnTo>
                <a:lnTo>
                  <a:pt x="0" y="17"/>
                </a:lnTo>
                <a:lnTo>
                  <a:pt x="33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Freeform 199"/>
          <p:cNvSpPr/>
          <p:nvPr/>
        </p:nvSpPr>
        <p:spPr>
          <a:xfrm>
            <a:off x="11382480" y="4414680"/>
            <a:ext cx="77760" cy="73080"/>
          </a:xfrm>
          <a:custGeom>
            <a:avLst/>
            <a:gdLst/>
            <a:ahLst/>
            <a:rect l="l" t="t" r="r" b="b"/>
            <a:pathLst>
              <a:path w="54" h="50">
                <a:moveTo>
                  <a:pt x="9" y="0"/>
                </a:moveTo>
                <a:lnTo>
                  <a:pt x="0" y="12"/>
                </a:lnTo>
                <a:lnTo>
                  <a:pt x="47" y="50"/>
                </a:lnTo>
                <a:lnTo>
                  <a:pt x="54" y="38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Freeform 200"/>
          <p:cNvSpPr/>
          <p:nvPr/>
        </p:nvSpPr>
        <p:spPr>
          <a:xfrm>
            <a:off x="10223640" y="1940040"/>
            <a:ext cx="174600" cy="266760"/>
          </a:xfrm>
          <a:custGeom>
            <a:avLst/>
            <a:gdLst/>
            <a:ahLst/>
            <a:rect l="l" t="t" r="r" b="b"/>
            <a:pathLst>
              <a:path w="51" h="77">
                <a:moveTo>
                  <a:pt x="47" y="77"/>
                </a:moveTo>
                <a:cubicBezTo>
                  <a:pt x="5" y="77"/>
                  <a:pt x="5" y="77"/>
                  <a:pt x="5" y="77"/>
                </a:cubicBezTo>
                <a:cubicBezTo>
                  <a:pt x="2" y="77"/>
                  <a:pt x="0" y="75"/>
                  <a:pt x="0" y="72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9" y="0"/>
                  <a:pt x="51" y="2"/>
                  <a:pt x="51" y="4"/>
                </a:cubicBezTo>
                <a:cubicBezTo>
                  <a:pt x="51" y="72"/>
                  <a:pt x="51" y="72"/>
                  <a:pt x="51" y="72"/>
                </a:cubicBezTo>
                <a:cubicBezTo>
                  <a:pt x="51" y="75"/>
                  <a:pt x="49" y="77"/>
                  <a:pt x="47" y="77"/>
                </a:cubicBezTo>
                <a:close/>
                <a:moveTo>
                  <a:pt x="9" y="67"/>
                </a:moveTo>
                <a:cubicBezTo>
                  <a:pt x="42" y="67"/>
                  <a:pt x="42" y="67"/>
                  <a:pt x="42" y="67"/>
                </a:cubicBezTo>
                <a:cubicBezTo>
                  <a:pt x="42" y="9"/>
                  <a:pt x="42" y="9"/>
                  <a:pt x="42" y="9"/>
                </a:cubicBezTo>
                <a:cubicBezTo>
                  <a:pt x="9" y="9"/>
                  <a:pt x="9" y="9"/>
                  <a:pt x="9" y="9"/>
                </a:cubicBezTo>
                <a:lnTo>
                  <a:pt x="9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Freeform 201"/>
          <p:cNvSpPr/>
          <p:nvPr/>
        </p:nvSpPr>
        <p:spPr>
          <a:xfrm>
            <a:off x="10466280" y="1797120"/>
            <a:ext cx="176400" cy="409680"/>
          </a:xfrm>
          <a:custGeom>
            <a:avLst/>
            <a:gdLst/>
            <a:ahLst/>
            <a:rect l="l" t="t" r="r" b="b"/>
            <a:pathLst>
              <a:path w="51" h="119">
                <a:moveTo>
                  <a:pt x="46" y="119"/>
                </a:moveTo>
                <a:cubicBezTo>
                  <a:pt x="5" y="119"/>
                  <a:pt x="5" y="119"/>
                  <a:pt x="5" y="119"/>
                </a:cubicBezTo>
                <a:cubicBezTo>
                  <a:pt x="2" y="119"/>
                  <a:pt x="0" y="117"/>
                  <a:pt x="0" y="1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9" y="0"/>
                  <a:pt x="51" y="2"/>
                  <a:pt x="51" y="4"/>
                </a:cubicBezTo>
                <a:cubicBezTo>
                  <a:pt x="51" y="114"/>
                  <a:pt x="51" y="114"/>
                  <a:pt x="51" y="114"/>
                </a:cubicBezTo>
                <a:cubicBezTo>
                  <a:pt x="51" y="117"/>
                  <a:pt x="49" y="119"/>
                  <a:pt x="46" y="119"/>
                </a:cubicBezTo>
                <a:moveTo>
                  <a:pt x="9" y="109"/>
                </a:moveTo>
                <a:cubicBezTo>
                  <a:pt x="42" y="109"/>
                  <a:pt x="42" y="109"/>
                  <a:pt x="42" y="109"/>
                </a:cubicBezTo>
                <a:cubicBezTo>
                  <a:pt x="42" y="9"/>
                  <a:pt x="42" y="9"/>
                  <a:pt x="42" y="9"/>
                </a:cubicBezTo>
                <a:cubicBezTo>
                  <a:pt x="9" y="9"/>
                  <a:pt x="9" y="9"/>
                  <a:pt x="9" y="9"/>
                </a:cubicBezTo>
                <a:cubicBezTo>
                  <a:pt x="9" y="109"/>
                  <a:pt x="9" y="109"/>
                  <a:pt x="9" y="1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Freeform 202"/>
          <p:cNvSpPr/>
          <p:nvPr/>
        </p:nvSpPr>
        <p:spPr>
          <a:xfrm>
            <a:off x="10710720" y="1582560"/>
            <a:ext cx="176400" cy="624240"/>
          </a:xfrm>
          <a:custGeom>
            <a:avLst/>
            <a:gdLst/>
            <a:ahLst/>
            <a:rect l="l" t="t" r="r" b="b"/>
            <a:pathLst>
              <a:path w="51" h="181">
                <a:moveTo>
                  <a:pt x="46" y="181"/>
                </a:moveTo>
                <a:cubicBezTo>
                  <a:pt x="5" y="181"/>
                  <a:pt x="5" y="181"/>
                  <a:pt x="5" y="181"/>
                </a:cubicBezTo>
                <a:cubicBezTo>
                  <a:pt x="2" y="181"/>
                  <a:pt x="0" y="179"/>
                  <a:pt x="0" y="176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9" y="0"/>
                  <a:pt x="51" y="2"/>
                  <a:pt x="51" y="5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1" y="179"/>
                  <a:pt x="49" y="181"/>
                  <a:pt x="46" y="181"/>
                </a:cubicBezTo>
                <a:moveTo>
                  <a:pt x="9" y="171"/>
                </a:moveTo>
                <a:cubicBezTo>
                  <a:pt x="42" y="171"/>
                  <a:pt x="42" y="171"/>
                  <a:pt x="42" y="171"/>
                </a:cubicBezTo>
                <a:cubicBezTo>
                  <a:pt x="42" y="10"/>
                  <a:pt x="42" y="10"/>
                  <a:pt x="42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9" y="171"/>
                  <a:pt x="9" y="171"/>
                  <a:pt x="9" y="1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Rectangle 203"/>
          <p:cNvSpPr/>
          <p:nvPr/>
        </p:nvSpPr>
        <p:spPr>
          <a:xfrm>
            <a:off x="10172880" y="2171880"/>
            <a:ext cx="765000" cy="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Rectangle 204"/>
          <p:cNvSpPr/>
          <p:nvPr/>
        </p:nvSpPr>
        <p:spPr>
          <a:xfrm>
            <a:off x="10172880" y="2171880"/>
            <a:ext cx="765000" cy="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6120" bIns="-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Rectangle 206"/>
          <p:cNvSpPr/>
          <p:nvPr/>
        </p:nvSpPr>
        <p:spPr>
          <a:xfrm>
            <a:off x="10182240" y="2060640"/>
            <a:ext cx="586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Rectangle 207"/>
          <p:cNvSpPr/>
          <p:nvPr/>
        </p:nvSpPr>
        <p:spPr>
          <a:xfrm>
            <a:off x="10383840" y="2060640"/>
            <a:ext cx="100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4" name="Rectangle 208"/>
          <p:cNvSpPr/>
          <p:nvPr/>
        </p:nvSpPr>
        <p:spPr>
          <a:xfrm>
            <a:off x="10625040" y="2060640"/>
            <a:ext cx="1033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Rectangle 209"/>
          <p:cNvSpPr/>
          <p:nvPr/>
        </p:nvSpPr>
        <p:spPr>
          <a:xfrm>
            <a:off x="10625040" y="2060640"/>
            <a:ext cx="10332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Rectangle 210"/>
          <p:cNvSpPr/>
          <p:nvPr/>
        </p:nvSpPr>
        <p:spPr>
          <a:xfrm>
            <a:off x="10869480" y="2060640"/>
            <a:ext cx="572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Rectangle 211"/>
          <p:cNvSpPr/>
          <p:nvPr/>
        </p:nvSpPr>
        <p:spPr>
          <a:xfrm>
            <a:off x="10869480" y="2060640"/>
            <a:ext cx="5724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Rectangle 212"/>
          <p:cNvSpPr/>
          <p:nvPr/>
        </p:nvSpPr>
        <p:spPr>
          <a:xfrm>
            <a:off x="10182240" y="1951200"/>
            <a:ext cx="586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Rectangle 213"/>
          <p:cNvSpPr/>
          <p:nvPr/>
        </p:nvSpPr>
        <p:spPr>
          <a:xfrm>
            <a:off x="10383840" y="1951200"/>
            <a:ext cx="100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Rectangle 214"/>
          <p:cNvSpPr/>
          <p:nvPr/>
        </p:nvSpPr>
        <p:spPr>
          <a:xfrm>
            <a:off x="10625040" y="1951200"/>
            <a:ext cx="1033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Rectangle 215"/>
          <p:cNvSpPr/>
          <p:nvPr/>
        </p:nvSpPr>
        <p:spPr>
          <a:xfrm>
            <a:off x="10869480" y="1951200"/>
            <a:ext cx="572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Rectangle 216"/>
          <p:cNvSpPr/>
          <p:nvPr/>
        </p:nvSpPr>
        <p:spPr>
          <a:xfrm>
            <a:off x="10869480" y="1951200"/>
            <a:ext cx="57240" cy="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Rectangle 217"/>
          <p:cNvSpPr/>
          <p:nvPr/>
        </p:nvSpPr>
        <p:spPr>
          <a:xfrm>
            <a:off x="10182240" y="1841400"/>
            <a:ext cx="30168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Rectangle 218"/>
          <p:cNvSpPr/>
          <p:nvPr/>
        </p:nvSpPr>
        <p:spPr>
          <a:xfrm>
            <a:off x="10625040" y="1841400"/>
            <a:ext cx="1033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Rectangle 219"/>
          <p:cNvSpPr/>
          <p:nvPr/>
        </p:nvSpPr>
        <p:spPr>
          <a:xfrm>
            <a:off x="10869480" y="1841400"/>
            <a:ext cx="5724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Rectangle 220"/>
          <p:cNvSpPr/>
          <p:nvPr/>
        </p:nvSpPr>
        <p:spPr>
          <a:xfrm>
            <a:off x="10182240" y="1728720"/>
            <a:ext cx="54612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3400" bIns="-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Rectangle 221"/>
          <p:cNvSpPr/>
          <p:nvPr/>
        </p:nvSpPr>
        <p:spPr>
          <a:xfrm>
            <a:off x="10869480" y="1728720"/>
            <a:ext cx="5724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3400" bIns="-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Rectangle 222"/>
          <p:cNvSpPr/>
          <p:nvPr/>
        </p:nvSpPr>
        <p:spPr>
          <a:xfrm>
            <a:off x="10182240" y="1617840"/>
            <a:ext cx="5461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Rectangle 223"/>
          <p:cNvSpPr/>
          <p:nvPr/>
        </p:nvSpPr>
        <p:spPr>
          <a:xfrm>
            <a:off x="10869480" y="1617840"/>
            <a:ext cx="572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Freeform 224"/>
          <p:cNvSpPr/>
          <p:nvPr/>
        </p:nvSpPr>
        <p:spPr>
          <a:xfrm>
            <a:off x="10952280" y="2239920"/>
            <a:ext cx="387360" cy="345960"/>
          </a:xfrm>
          <a:custGeom>
            <a:avLst/>
            <a:gdLst/>
            <a:ahLst/>
            <a:rect l="l" t="t" r="r" b="b"/>
            <a:pathLst>
              <a:path w="267" h="239">
                <a:moveTo>
                  <a:pt x="35" y="0"/>
                </a:moveTo>
                <a:lnTo>
                  <a:pt x="0" y="40"/>
                </a:lnTo>
                <a:lnTo>
                  <a:pt x="232" y="239"/>
                </a:lnTo>
                <a:lnTo>
                  <a:pt x="267" y="199"/>
                </a:lnTo>
                <a:lnTo>
                  <a:pt x="35" y="0"/>
                </a:lnTo>
                <a:close/>
              </a:path>
            </a:pathLst>
          </a:cu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Freeform 225"/>
          <p:cNvSpPr/>
          <p:nvPr/>
        </p:nvSpPr>
        <p:spPr>
          <a:xfrm>
            <a:off x="10982160" y="2232000"/>
            <a:ext cx="357480" cy="306360"/>
          </a:xfrm>
          <a:custGeom>
            <a:avLst/>
            <a:gdLst/>
            <a:ahLst/>
            <a:rect l="l" t="t" r="r" b="b"/>
            <a:pathLst>
              <a:path w="246" h="211">
                <a:moveTo>
                  <a:pt x="7" y="0"/>
                </a:moveTo>
                <a:lnTo>
                  <a:pt x="0" y="10"/>
                </a:lnTo>
                <a:lnTo>
                  <a:pt x="239" y="211"/>
                </a:lnTo>
                <a:lnTo>
                  <a:pt x="246" y="204"/>
                </a:lnTo>
                <a:lnTo>
                  <a:pt x="7" y="0"/>
                </a:lnTo>
                <a:close/>
              </a:path>
            </a:pathLst>
          </a:custGeom>
          <a:solidFill>
            <a:srgbClr val="cc3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Freeform 226"/>
          <p:cNvSpPr/>
          <p:nvPr/>
        </p:nvSpPr>
        <p:spPr>
          <a:xfrm>
            <a:off x="10941120" y="2281320"/>
            <a:ext cx="358560" cy="304560"/>
          </a:xfrm>
          <a:custGeom>
            <a:avLst/>
            <a:gdLst/>
            <a:ahLst/>
            <a:rect l="l" t="t" r="r" b="b"/>
            <a:pathLst>
              <a:path w="246" h="210">
                <a:moveTo>
                  <a:pt x="7" y="0"/>
                </a:moveTo>
                <a:lnTo>
                  <a:pt x="0" y="7"/>
                </a:lnTo>
                <a:lnTo>
                  <a:pt x="239" y="210"/>
                </a:lnTo>
                <a:lnTo>
                  <a:pt x="246" y="201"/>
                </a:lnTo>
                <a:lnTo>
                  <a:pt x="7" y="0"/>
                </a:lnTo>
                <a:close/>
              </a:path>
            </a:pathLst>
          </a:custGeom>
          <a:solidFill>
            <a:srgbClr val="cc3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Freeform 227"/>
          <p:cNvSpPr/>
          <p:nvPr/>
        </p:nvSpPr>
        <p:spPr>
          <a:xfrm>
            <a:off x="10642680" y="2021040"/>
            <a:ext cx="366480" cy="293400"/>
          </a:xfrm>
          <a:custGeom>
            <a:avLst/>
            <a:gdLst/>
            <a:ahLst/>
            <a:rect l="l" t="t" r="r" b="b"/>
            <a:pathLst>
              <a:path w="107" h="86">
                <a:moveTo>
                  <a:pt x="29" y="31"/>
                </a:moveTo>
                <a:cubicBezTo>
                  <a:pt x="29" y="44"/>
                  <a:pt x="29" y="44"/>
                  <a:pt x="29" y="44"/>
                </a:cubicBezTo>
                <a:cubicBezTo>
                  <a:pt x="62" y="44"/>
                  <a:pt x="62" y="44"/>
                  <a:pt x="62" y="44"/>
                </a:cubicBezTo>
                <a:cubicBezTo>
                  <a:pt x="62" y="33"/>
                  <a:pt x="62" y="33"/>
                  <a:pt x="62" y="33"/>
                </a:cubicBezTo>
                <a:cubicBezTo>
                  <a:pt x="29" y="31"/>
                  <a:pt x="29" y="31"/>
                  <a:pt x="29" y="31"/>
                </a:cubicBezTo>
                <a:moveTo>
                  <a:pt x="0" y="29"/>
                </a:move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4"/>
                  <a:pt x="1" y="44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30"/>
                  <a:pt x="20" y="30"/>
                  <a:pt x="20" y="30"/>
                </a:cubicBezTo>
                <a:cubicBezTo>
                  <a:pt x="0" y="29"/>
                  <a:pt x="0" y="29"/>
                  <a:pt x="0" y="29"/>
                </a:cubicBezTo>
                <a:moveTo>
                  <a:pt x="2" y="18"/>
                </a:moveTo>
                <a:cubicBezTo>
                  <a:pt x="2" y="18"/>
                  <a:pt x="2" y="18"/>
                  <a:pt x="2" y="18"/>
                </a:cubicBezTo>
                <a:cubicBezTo>
                  <a:pt x="1" y="20"/>
                  <a:pt x="1" y="23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1" y="23"/>
                  <a:pt x="1" y="20"/>
                  <a:pt x="2" y="18"/>
                </a:cubicBezTo>
                <a:moveTo>
                  <a:pt x="100" y="15"/>
                </a:moveTo>
                <a:cubicBezTo>
                  <a:pt x="103" y="22"/>
                  <a:pt x="104" y="29"/>
                  <a:pt x="104" y="36"/>
                </a:cubicBezTo>
                <a:cubicBezTo>
                  <a:pt x="71" y="34"/>
                  <a:pt x="71" y="34"/>
                  <a:pt x="71" y="34"/>
                </a:cubicBezTo>
                <a:cubicBezTo>
                  <a:pt x="71" y="44"/>
                  <a:pt x="71" y="44"/>
                  <a:pt x="71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56"/>
                  <a:pt x="86" y="56"/>
                  <a:pt x="86" y="56"/>
                </a:cubicBezTo>
                <a:cubicBezTo>
                  <a:pt x="5" y="56"/>
                  <a:pt x="5" y="56"/>
                  <a:pt x="5" y="56"/>
                </a:cubicBezTo>
                <a:cubicBezTo>
                  <a:pt x="8" y="62"/>
                  <a:pt x="12" y="68"/>
                  <a:pt x="18" y="73"/>
                </a:cubicBezTo>
                <a:cubicBezTo>
                  <a:pt x="28" y="81"/>
                  <a:pt x="40" y="86"/>
                  <a:pt x="52" y="86"/>
                </a:cubicBezTo>
                <a:cubicBezTo>
                  <a:pt x="66" y="86"/>
                  <a:pt x="81" y="79"/>
                  <a:pt x="91" y="67"/>
                </a:cubicBezTo>
                <a:cubicBezTo>
                  <a:pt x="104" y="52"/>
                  <a:pt x="107" y="32"/>
                  <a:pt x="100" y="15"/>
                </a:cubicBezTo>
                <a:moveTo>
                  <a:pt x="10" y="2"/>
                </a:moveTo>
                <a:cubicBezTo>
                  <a:pt x="8" y="5"/>
                  <a:pt x="6" y="9"/>
                  <a:pt x="4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9"/>
                  <a:pt x="8" y="5"/>
                  <a:pt x="10" y="2"/>
                </a:cubicBezTo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moveTo>
                  <a:pt x="10" y="2"/>
                </a:move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moveTo>
                  <a:pt x="12" y="0"/>
                </a:move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2" y="0"/>
                  <a:pt x="12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Freeform 228"/>
          <p:cNvSpPr/>
          <p:nvPr/>
        </p:nvSpPr>
        <p:spPr>
          <a:xfrm>
            <a:off x="10639440" y="2106720"/>
            <a:ext cx="3240" cy="56880"/>
          </a:xfrm>
          <a:custGeom>
            <a:avLst/>
            <a:gdLst/>
            <a:ahLst/>
            <a:rect l="l" t="t" r="r" b="b"/>
            <a:pathLst>
              <a:path w="1" h="17">
                <a:moveTo>
                  <a:pt x="1" y="0"/>
                </a:moveTo>
                <a:cubicBezTo>
                  <a:pt x="0" y="5"/>
                  <a:pt x="0" y="11"/>
                  <a:pt x="1" y="17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Freeform 229"/>
          <p:cNvSpPr/>
          <p:nvPr/>
        </p:nvSpPr>
        <p:spPr>
          <a:xfrm>
            <a:off x="10710720" y="2124000"/>
            <a:ext cx="176400" cy="47880"/>
          </a:xfrm>
          <a:custGeom>
            <a:avLst/>
            <a:gdLst/>
            <a:ahLst/>
            <a:rect l="l" t="t" r="r" b="b"/>
            <a:pathLst>
              <a:path w="121" h="33">
                <a:moveTo>
                  <a:pt x="100" y="7"/>
                </a:moveTo>
                <a:lnTo>
                  <a:pt x="100" y="33"/>
                </a:lnTo>
                <a:lnTo>
                  <a:pt x="121" y="33"/>
                </a:lnTo>
                <a:lnTo>
                  <a:pt x="121" y="9"/>
                </a:lnTo>
                <a:lnTo>
                  <a:pt x="100" y="7"/>
                </a:lnTo>
                <a:close/>
                <a:moveTo>
                  <a:pt x="0" y="0"/>
                </a:moveTo>
                <a:lnTo>
                  <a:pt x="0" y="33"/>
                </a:lnTo>
                <a:lnTo>
                  <a:pt x="22" y="33"/>
                </a:lnTo>
                <a:lnTo>
                  <a:pt x="22" y="2"/>
                </a:lnTo>
                <a:lnTo>
                  <a:pt x="0" y="0"/>
                </a:lnTo>
                <a:close/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Freeform 230"/>
          <p:cNvSpPr/>
          <p:nvPr/>
        </p:nvSpPr>
        <p:spPr>
          <a:xfrm>
            <a:off x="10710720" y="2124000"/>
            <a:ext cx="176400" cy="47880"/>
          </a:xfrm>
          <a:custGeom>
            <a:avLst/>
            <a:gdLst/>
            <a:ahLst/>
            <a:rect l="l" t="t" r="r" b="b"/>
            <a:pathLst>
              <a:path w="121" h="33">
                <a:moveTo>
                  <a:pt x="100" y="7"/>
                </a:moveTo>
                <a:lnTo>
                  <a:pt x="100" y="33"/>
                </a:lnTo>
                <a:lnTo>
                  <a:pt x="121" y="33"/>
                </a:lnTo>
                <a:lnTo>
                  <a:pt x="121" y="9"/>
                </a:lnTo>
                <a:lnTo>
                  <a:pt x="100" y="7"/>
                </a:lnTo>
                <a:moveTo>
                  <a:pt x="0" y="0"/>
                </a:moveTo>
                <a:lnTo>
                  <a:pt x="0" y="33"/>
                </a:lnTo>
                <a:lnTo>
                  <a:pt x="22" y="33"/>
                </a:lnTo>
                <a:lnTo>
                  <a:pt x="2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Freeform 231"/>
          <p:cNvSpPr/>
          <p:nvPr/>
        </p:nvSpPr>
        <p:spPr>
          <a:xfrm>
            <a:off x="10645920" y="2171880"/>
            <a:ext cx="291960" cy="39600"/>
          </a:xfrm>
          <a:custGeom>
            <a:avLst/>
            <a:gdLst/>
            <a:ahLst/>
            <a:rect l="l" t="t" r="r" b="b"/>
            <a:pathLst>
              <a:path w="85" h="12">
                <a:moveTo>
                  <a:pt x="85" y="0"/>
                </a:moveTo>
                <a:cubicBezTo>
                  <a:pt x="70" y="0"/>
                  <a:pt x="70" y="0"/>
                  <a:pt x="70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4"/>
                  <a:pt x="2" y="8"/>
                  <a:pt x="4" y="12"/>
                </a:cubicBezTo>
                <a:cubicBezTo>
                  <a:pt x="85" y="12"/>
                  <a:pt x="85" y="12"/>
                  <a:pt x="85" y="12"/>
                </a:cubicBezTo>
                <a:cubicBezTo>
                  <a:pt x="85" y="0"/>
                  <a:pt x="85" y="0"/>
                  <a:pt x="85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Freeform 232"/>
          <p:cNvSpPr/>
          <p:nvPr/>
        </p:nvSpPr>
        <p:spPr>
          <a:xfrm>
            <a:off x="10650600" y="2060640"/>
            <a:ext cx="4680" cy="20520"/>
          </a:xfrm>
          <a:custGeom>
            <a:avLst/>
            <a:gdLst/>
            <a:ahLst/>
            <a:rect l="l" t="t" r="r" b="b"/>
            <a:pathLst>
              <a:path w="2" h="6">
                <a:moveTo>
                  <a:pt x="2" y="0"/>
                </a:moveTo>
                <a:cubicBezTo>
                  <a:pt x="2" y="0"/>
                  <a:pt x="2" y="0"/>
                  <a:pt x="2" y="0"/>
                </a:cubicBezTo>
                <a:cubicBezTo>
                  <a:pt x="1" y="2"/>
                  <a:pt x="0" y="4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4"/>
                  <a:pt x="1" y="2"/>
                  <a:pt x="2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Freeform 233"/>
          <p:cNvSpPr/>
          <p:nvPr/>
        </p:nvSpPr>
        <p:spPr>
          <a:xfrm>
            <a:off x="10987200" y="20718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Freeform 234"/>
          <p:cNvSpPr/>
          <p:nvPr/>
        </p:nvSpPr>
        <p:spPr>
          <a:xfrm>
            <a:off x="10655280" y="1954080"/>
            <a:ext cx="344520" cy="189000"/>
          </a:xfrm>
          <a:custGeom>
            <a:avLst/>
            <a:gdLst/>
            <a:ahLst/>
            <a:rect l="l" t="t" r="r" b="b"/>
            <a:pathLst>
              <a:path w="100" h="55">
                <a:moveTo>
                  <a:pt x="16" y="11"/>
                </a:moveTo>
                <a:cubicBezTo>
                  <a:pt x="13" y="13"/>
                  <a:pt x="10" y="16"/>
                  <a:pt x="8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7" y="20"/>
                  <a:pt x="7" y="20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4" y="24"/>
                  <a:pt x="2" y="28"/>
                  <a:pt x="0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11"/>
                  <a:pt x="16" y="11"/>
                  <a:pt x="16" y="11"/>
                </a:cubicBezTo>
                <a:moveTo>
                  <a:pt x="70" y="5"/>
                </a:moveTo>
                <a:cubicBezTo>
                  <a:pt x="67" y="5"/>
                  <a:pt x="67" y="5"/>
                  <a:pt x="67" y="5"/>
                </a:cubicBezTo>
                <a:cubicBezTo>
                  <a:pt x="67" y="31"/>
                  <a:pt x="67" y="31"/>
                  <a:pt x="67" y="31"/>
                </a:cubicBezTo>
                <a:cubicBezTo>
                  <a:pt x="79" y="31"/>
                  <a:pt x="79" y="31"/>
                  <a:pt x="79" y="31"/>
                </a:cubicBezTo>
                <a:cubicBezTo>
                  <a:pt x="79" y="37"/>
                  <a:pt x="79" y="37"/>
                  <a:pt x="79" y="37"/>
                </a:cubicBezTo>
                <a:cubicBezTo>
                  <a:pt x="67" y="37"/>
                  <a:pt x="67" y="37"/>
                  <a:pt x="67" y="37"/>
                </a:cubicBezTo>
                <a:cubicBezTo>
                  <a:pt x="67" y="53"/>
                  <a:pt x="67" y="53"/>
                  <a:pt x="67" y="53"/>
                </a:cubicBezTo>
                <a:cubicBezTo>
                  <a:pt x="100" y="55"/>
                  <a:pt x="100" y="55"/>
                  <a:pt x="100" y="55"/>
                </a:cubicBezTo>
                <a:cubicBezTo>
                  <a:pt x="100" y="48"/>
                  <a:pt x="99" y="41"/>
                  <a:pt x="96" y="34"/>
                </a:cubicBezTo>
                <a:cubicBezTo>
                  <a:pt x="96" y="34"/>
                  <a:pt x="96" y="34"/>
                  <a:pt x="96" y="34"/>
                </a:cubicBezTo>
                <a:cubicBezTo>
                  <a:pt x="96" y="34"/>
                  <a:pt x="96" y="34"/>
                  <a:pt x="96" y="34"/>
                </a:cubicBezTo>
                <a:cubicBezTo>
                  <a:pt x="93" y="26"/>
                  <a:pt x="88" y="19"/>
                  <a:pt x="81" y="13"/>
                </a:cubicBezTo>
                <a:cubicBezTo>
                  <a:pt x="78" y="10"/>
                  <a:pt x="74" y="7"/>
                  <a:pt x="70" y="5"/>
                </a:cubicBezTo>
                <a:moveTo>
                  <a:pt x="48" y="0"/>
                </a:moveTo>
                <a:cubicBezTo>
                  <a:pt x="40" y="0"/>
                  <a:pt x="32" y="2"/>
                  <a:pt x="25" y="5"/>
                </a:cubicBezTo>
                <a:cubicBezTo>
                  <a:pt x="25" y="50"/>
                  <a:pt x="25" y="50"/>
                  <a:pt x="25" y="50"/>
                </a:cubicBezTo>
                <a:cubicBezTo>
                  <a:pt x="58" y="52"/>
                  <a:pt x="58" y="52"/>
                  <a:pt x="58" y="52"/>
                </a:cubicBezTo>
                <a:cubicBezTo>
                  <a:pt x="58" y="1"/>
                  <a:pt x="58" y="1"/>
                  <a:pt x="58" y="1"/>
                </a:cubicBezTo>
                <a:cubicBezTo>
                  <a:pt x="54" y="1"/>
                  <a:pt x="51" y="0"/>
                  <a:pt x="48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1" name="Freeform 235"/>
          <p:cNvSpPr/>
          <p:nvPr/>
        </p:nvSpPr>
        <p:spPr>
          <a:xfrm>
            <a:off x="10710720" y="1957320"/>
            <a:ext cx="176400" cy="179280"/>
          </a:xfrm>
          <a:custGeom>
            <a:avLst/>
            <a:gdLst/>
            <a:ahLst/>
            <a:rect l="l" t="t" r="r" b="b"/>
            <a:pathLst>
              <a:path w="51" h="52">
                <a:moveTo>
                  <a:pt x="9" y="4"/>
                </a:moveTo>
                <a:cubicBezTo>
                  <a:pt x="6" y="6"/>
                  <a:pt x="3" y="8"/>
                  <a:pt x="0" y="10"/>
                </a:cubicBezTo>
                <a:cubicBezTo>
                  <a:pt x="0" y="30"/>
                  <a:pt x="0" y="30"/>
                  <a:pt x="0" y="30"/>
                </a:cubicBezTo>
                <a:cubicBezTo>
                  <a:pt x="5" y="30"/>
                  <a:pt x="5" y="30"/>
                  <a:pt x="5" y="30"/>
                </a:cubicBezTo>
                <a:cubicBezTo>
                  <a:pt x="5" y="36"/>
                  <a:pt x="5" y="36"/>
                  <a:pt x="5" y="3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48"/>
                  <a:pt x="0" y="48"/>
                  <a:pt x="0" y="48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4"/>
                  <a:pt x="9" y="4"/>
                  <a:pt x="9" y="4"/>
                </a:cubicBezTo>
                <a:moveTo>
                  <a:pt x="42" y="0"/>
                </a:moveTo>
                <a:cubicBezTo>
                  <a:pt x="42" y="51"/>
                  <a:pt x="42" y="51"/>
                  <a:pt x="42" y="51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36"/>
                  <a:pt x="51" y="36"/>
                  <a:pt x="51" y="36"/>
                </a:cubicBezTo>
                <a:cubicBezTo>
                  <a:pt x="46" y="36"/>
                  <a:pt x="46" y="36"/>
                  <a:pt x="46" y="36"/>
                </a:cubicBezTo>
                <a:cubicBezTo>
                  <a:pt x="46" y="30"/>
                  <a:pt x="46" y="30"/>
                  <a:pt x="46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4"/>
                  <a:pt x="51" y="4"/>
                  <a:pt x="51" y="4"/>
                </a:cubicBezTo>
                <a:cubicBezTo>
                  <a:pt x="46" y="4"/>
                  <a:pt x="46" y="4"/>
                  <a:pt x="46" y="4"/>
                </a:cubicBezTo>
                <a:cubicBezTo>
                  <a:pt x="46" y="1"/>
                  <a:pt x="46" y="1"/>
                  <a:pt x="46" y="1"/>
                </a:cubicBezTo>
                <a:cubicBezTo>
                  <a:pt x="45" y="1"/>
                  <a:pt x="43" y="1"/>
                  <a:pt x="42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Freeform 236"/>
          <p:cNvSpPr/>
          <p:nvPr/>
        </p:nvSpPr>
        <p:spPr>
          <a:xfrm>
            <a:off x="10869480" y="1960560"/>
            <a:ext cx="27000" cy="1116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0"/>
                </a:moveTo>
                <a:cubicBezTo>
                  <a:pt x="0" y="3"/>
                  <a:pt x="0" y="3"/>
                  <a:pt x="0" y="3"/>
                </a:cubicBezTo>
                <a:cubicBezTo>
                  <a:pt x="5" y="3"/>
                  <a:pt x="5" y="3"/>
                  <a:pt x="5" y="3"/>
                </a:cubicBezTo>
                <a:cubicBezTo>
                  <a:pt x="8" y="3"/>
                  <a:pt x="8" y="3"/>
                  <a:pt x="8" y="3"/>
                </a:cubicBezTo>
                <a:cubicBezTo>
                  <a:pt x="5" y="2"/>
                  <a:pt x="3" y="1"/>
                  <a:pt x="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Freeform 237"/>
          <p:cNvSpPr/>
          <p:nvPr/>
        </p:nvSpPr>
        <p:spPr>
          <a:xfrm>
            <a:off x="10642680" y="2081160"/>
            <a:ext cx="68040" cy="42840"/>
          </a:xfrm>
          <a:custGeom>
            <a:avLst/>
            <a:gdLst/>
            <a:ahLst/>
            <a:rect l="l" t="t" r="r" b="b"/>
            <a:pathLst>
              <a:path w="20" h="12">
                <a:moveTo>
                  <a:pt x="20" y="0"/>
                </a:moveTo>
                <a:cubicBezTo>
                  <a:pt x="2" y="0"/>
                  <a:pt x="2" y="0"/>
                  <a:pt x="2" y="0"/>
                </a:cubicBezTo>
                <a:cubicBezTo>
                  <a:pt x="1" y="2"/>
                  <a:pt x="1" y="5"/>
                  <a:pt x="0" y="7"/>
                </a:cubicBezTo>
                <a:cubicBezTo>
                  <a:pt x="0" y="11"/>
                  <a:pt x="0" y="11"/>
                  <a:pt x="0" y="11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0"/>
                  <a:pt x="20" y="0"/>
                  <a:pt x="2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Freeform 238"/>
          <p:cNvSpPr/>
          <p:nvPr/>
        </p:nvSpPr>
        <p:spPr>
          <a:xfrm>
            <a:off x="10642680" y="2106720"/>
            <a:ext cx="360" cy="1260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cubicBezTo>
                  <a:pt x="0" y="1"/>
                  <a:pt x="0" y="3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Freeform 239"/>
          <p:cNvSpPr/>
          <p:nvPr/>
        </p:nvSpPr>
        <p:spPr>
          <a:xfrm>
            <a:off x="10650600" y="2060640"/>
            <a:ext cx="77760" cy="20520"/>
          </a:xfrm>
          <a:custGeom>
            <a:avLst/>
            <a:gdLst/>
            <a:ahLst/>
            <a:rect l="l" t="t" r="r" b="b"/>
            <a:pathLst>
              <a:path w="23" h="6">
                <a:moveTo>
                  <a:pt x="23" y="0"/>
                </a:moveTo>
                <a:cubicBezTo>
                  <a:pt x="18" y="0"/>
                  <a:pt x="18" y="0"/>
                  <a:pt x="18" y="0"/>
                </a:cubicBezTo>
                <a:cubicBezTo>
                  <a:pt x="2" y="0"/>
                  <a:pt x="2" y="0"/>
                  <a:pt x="2" y="0"/>
                </a:cubicBezTo>
                <a:cubicBezTo>
                  <a:pt x="1" y="2"/>
                  <a:pt x="0" y="4"/>
                  <a:pt x="0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23" y="6"/>
                  <a:pt x="23" y="6"/>
                  <a:pt x="23" y="6"/>
                </a:cubicBez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Freeform 240"/>
          <p:cNvSpPr/>
          <p:nvPr/>
        </p:nvSpPr>
        <p:spPr>
          <a:xfrm>
            <a:off x="10869480" y="2060640"/>
            <a:ext cx="57240" cy="20520"/>
          </a:xfrm>
          <a:custGeom>
            <a:avLst/>
            <a:gdLst/>
            <a:ahLst/>
            <a:rect l="l" t="t" r="r" b="b"/>
            <a:pathLst>
              <a:path w="40" h="14">
                <a:moveTo>
                  <a:pt x="40" y="0"/>
                </a:moveTo>
                <a:lnTo>
                  <a:pt x="12" y="0"/>
                </a:lnTo>
                <a:lnTo>
                  <a:pt x="0" y="0"/>
                </a:lnTo>
                <a:lnTo>
                  <a:pt x="0" y="14"/>
                </a:lnTo>
                <a:lnTo>
                  <a:pt x="12" y="14"/>
                </a:lnTo>
                <a:lnTo>
                  <a:pt x="40" y="14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Freeform 241"/>
          <p:cNvSpPr/>
          <p:nvPr/>
        </p:nvSpPr>
        <p:spPr>
          <a:xfrm>
            <a:off x="10869480" y="2060640"/>
            <a:ext cx="57240" cy="20520"/>
          </a:xfrm>
          <a:custGeom>
            <a:avLst/>
            <a:gdLst/>
            <a:ahLst/>
            <a:rect l="l" t="t" r="r" b="b"/>
            <a:pathLst>
              <a:path w="40" h="14">
                <a:moveTo>
                  <a:pt x="40" y="0"/>
                </a:moveTo>
                <a:lnTo>
                  <a:pt x="12" y="0"/>
                </a:lnTo>
                <a:lnTo>
                  <a:pt x="0" y="0"/>
                </a:lnTo>
                <a:lnTo>
                  <a:pt x="0" y="14"/>
                </a:lnTo>
                <a:lnTo>
                  <a:pt x="12" y="14"/>
                </a:lnTo>
                <a:lnTo>
                  <a:pt x="40" y="14"/>
                </a:lnTo>
                <a:lnTo>
                  <a:pt x="4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Freeform 242"/>
          <p:cNvSpPr/>
          <p:nvPr/>
        </p:nvSpPr>
        <p:spPr>
          <a:xfrm>
            <a:off x="10557000" y="1871640"/>
            <a:ext cx="528480" cy="525600"/>
          </a:xfrm>
          <a:custGeom>
            <a:avLst/>
            <a:gdLst/>
            <a:ahLst/>
            <a:rect l="l" t="t" r="r" b="b"/>
            <a:pathLst>
              <a:path w="154" h="153">
                <a:moveTo>
                  <a:pt x="24" y="32"/>
                </a:moveTo>
                <a:cubicBezTo>
                  <a:pt x="0" y="61"/>
                  <a:pt x="3" y="104"/>
                  <a:pt x="32" y="129"/>
                </a:cubicBezTo>
                <a:cubicBezTo>
                  <a:pt x="61" y="153"/>
                  <a:pt x="104" y="150"/>
                  <a:pt x="129" y="121"/>
                </a:cubicBezTo>
                <a:cubicBezTo>
                  <a:pt x="154" y="92"/>
                  <a:pt x="150" y="49"/>
                  <a:pt x="121" y="24"/>
                </a:cubicBezTo>
                <a:cubicBezTo>
                  <a:pt x="92" y="0"/>
                  <a:pt x="49" y="3"/>
                  <a:pt x="24" y="32"/>
                </a:cubicBezTo>
                <a:close/>
                <a:moveTo>
                  <a:pt x="116" y="110"/>
                </a:moveTo>
                <a:cubicBezTo>
                  <a:pt x="98" y="132"/>
                  <a:pt x="65" y="134"/>
                  <a:pt x="43" y="116"/>
                </a:cubicBezTo>
                <a:cubicBezTo>
                  <a:pt x="22" y="97"/>
                  <a:pt x="19" y="65"/>
                  <a:pt x="38" y="43"/>
                </a:cubicBezTo>
                <a:cubicBezTo>
                  <a:pt x="56" y="21"/>
                  <a:pt x="89" y="19"/>
                  <a:pt x="110" y="37"/>
                </a:cubicBezTo>
                <a:cubicBezTo>
                  <a:pt x="132" y="56"/>
                  <a:pt x="134" y="88"/>
                  <a:pt x="116" y="110"/>
                </a:cubicBezTo>
                <a:close/>
              </a:path>
            </a:pathLst>
          </a:cu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Freeform 243"/>
          <p:cNvSpPr/>
          <p:nvPr/>
        </p:nvSpPr>
        <p:spPr>
          <a:xfrm>
            <a:off x="10607760" y="1922400"/>
            <a:ext cx="422280" cy="4240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20" y="26"/>
                </a:moveTo>
                <a:cubicBezTo>
                  <a:pt x="0" y="49"/>
                  <a:pt x="3" y="84"/>
                  <a:pt x="26" y="103"/>
                </a:cubicBezTo>
                <a:cubicBezTo>
                  <a:pt x="49" y="123"/>
                  <a:pt x="84" y="120"/>
                  <a:pt x="104" y="97"/>
                </a:cubicBezTo>
                <a:cubicBezTo>
                  <a:pt x="123" y="74"/>
                  <a:pt x="120" y="39"/>
                  <a:pt x="97" y="20"/>
                </a:cubicBezTo>
                <a:cubicBezTo>
                  <a:pt x="74" y="0"/>
                  <a:pt x="40" y="3"/>
                  <a:pt x="20" y="26"/>
                </a:cubicBezTo>
                <a:close/>
                <a:moveTo>
                  <a:pt x="101" y="95"/>
                </a:moveTo>
                <a:cubicBezTo>
                  <a:pt x="83" y="117"/>
                  <a:pt x="50" y="119"/>
                  <a:pt x="28" y="101"/>
                </a:cubicBezTo>
                <a:cubicBezTo>
                  <a:pt x="7" y="82"/>
                  <a:pt x="4" y="50"/>
                  <a:pt x="23" y="28"/>
                </a:cubicBezTo>
                <a:cubicBezTo>
                  <a:pt x="41" y="6"/>
                  <a:pt x="74" y="4"/>
                  <a:pt x="95" y="22"/>
                </a:cubicBezTo>
                <a:cubicBezTo>
                  <a:pt x="117" y="41"/>
                  <a:pt x="119" y="73"/>
                  <a:pt x="101" y="95"/>
                </a:cubicBezTo>
                <a:close/>
              </a:path>
            </a:pathLst>
          </a:custGeom>
          <a:solidFill>
            <a:srgbClr val="083e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Freeform 244"/>
          <p:cNvSpPr/>
          <p:nvPr/>
        </p:nvSpPr>
        <p:spPr>
          <a:xfrm>
            <a:off x="7108920" y="1336680"/>
            <a:ext cx="312480" cy="531720"/>
          </a:xfrm>
          <a:custGeom>
            <a:avLst/>
            <a:gdLst/>
            <a:ahLst/>
            <a:rect l="l" t="t" r="r" b="b"/>
            <a:pathLst>
              <a:path w="91" h="155">
                <a:moveTo>
                  <a:pt x="77" y="155"/>
                </a:moveTo>
                <a:cubicBezTo>
                  <a:pt x="14" y="155"/>
                  <a:pt x="14" y="155"/>
                  <a:pt x="14" y="155"/>
                </a:cubicBezTo>
                <a:cubicBezTo>
                  <a:pt x="6" y="155"/>
                  <a:pt x="0" y="150"/>
                  <a:pt x="0" y="144"/>
                </a:cubicBezTo>
                <a:cubicBezTo>
                  <a:pt x="0" y="141"/>
                  <a:pt x="1" y="139"/>
                  <a:pt x="3" y="137"/>
                </a:cubicBezTo>
                <a:cubicBezTo>
                  <a:pt x="1" y="135"/>
                  <a:pt x="0" y="131"/>
                  <a:pt x="0" y="128"/>
                </a:cubicBezTo>
                <a:cubicBezTo>
                  <a:pt x="0" y="120"/>
                  <a:pt x="6" y="113"/>
                  <a:pt x="14" y="113"/>
                </a:cubicBezTo>
                <a:cubicBezTo>
                  <a:pt x="15" y="111"/>
                  <a:pt x="15" y="108"/>
                  <a:pt x="15" y="105"/>
                </a:cubicBezTo>
                <a:cubicBezTo>
                  <a:pt x="15" y="104"/>
                  <a:pt x="16" y="103"/>
                  <a:pt x="16" y="103"/>
                </a:cubicBezTo>
                <a:cubicBezTo>
                  <a:pt x="31" y="93"/>
                  <a:pt x="30" y="77"/>
                  <a:pt x="29" y="69"/>
                </a:cubicBezTo>
                <a:cubicBezTo>
                  <a:pt x="28" y="69"/>
                  <a:pt x="28" y="69"/>
                  <a:pt x="28" y="69"/>
                </a:cubicBezTo>
                <a:cubicBezTo>
                  <a:pt x="22" y="69"/>
                  <a:pt x="17" y="64"/>
                  <a:pt x="17" y="58"/>
                </a:cubicBezTo>
                <a:cubicBezTo>
                  <a:pt x="17" y="54"/>
                  <a:pt x="20" y="49"/>
                  <a:pt x="25" y="48"/>
                </a:cubicBezTo>
                <a:cubicBezTo>
                  <a:pt x="20" y="43"/>
                  <a:pt x="17" y="36"/>
                  <a:pt x="17" y="29"/>
                </a:cubicBezTo>
                <a:cubicBezTo>
                  <a:pt x="17" y="13"/>
                  <a:pt x="30" y="0"/>
                  <a:pt x="45" y="0"/>
                </a:cubicBezTo>
                <a:cubicBezTo>
                  <a:pt x="61" y="0"/>
                  <a:pt x="74" y="13"/>
                  <a:pt x="74" y="29"/>
                </a:cubicBezTo>
                <a:cubicBezTo>
                  <a:pt x="74" y="36"/>
                  <a:pt x="71" y="43"/>
                  <a:pt x="66" y="48"/>
                </a:cubicBezTo>
                <a:cubicBezTo>
                  <a:pt x="71" y="49"/>
                  <a:pt x="74" y="54"/>
                  <a:pt x="74" y="58"/>
                </a:cubicBezTo>
                <a:cubicBezTo>
                  <a:pt x="74" y="64"/>
                  <a:pt x="69" y="69"/>
                  <a:pt x="63" y="69"/>
                </a:cubicBezTo>
                <a:cubicBezTo>
                  <a:pt x="62" y="69"/>
                  <a:pt x="62" y="69"/>
                  <a:pt x="62" y="69"/>
                </a:cubicBezTo>
                <a:cubicBezTo>
                  <a:pt x="61" y="77"/>
                  <a:pt x="60" y="93"/>
                  <a:pt x="75" y="103"/>
                </a:cubicBezTo>
                <a:cubicBezTo>
                  <a:pt x="75" y="103"/>
                  <a:pt x="76" y="104"/>
                  <a:pt x="76" y="105"/>
                </a:cubicBezTo>
                <a:cubicBezTo>
                  <a:pt x="76" y="108"/>
                  <a:pt x="76" y="111"/>
                  <a:pt x="77" y="113"/>
                </a:cubicBezTo>
                <a:cubicBezTo>
                  <a:pt x="85" y="113"/>
                  <a:pt x="91" y="120"/>
                  <a:pt x="91" y="128"/>
                </a:cubicBezTo>
                <a:cubicBezTo>
                  <a:pt x="91" y="131"/>
                  <a:pt x="90" y="135"/>
                  <a:pt x="88" y="137"/>
                </a:cubicBezTo>
                <a:cubicBezTo>
                  <a:pt x="90" y="139"/>
                  <a:pt x="91" y="141"/>
                  <a:pt x="91" y="144"/>
                </a:cubicBezTo>
                <a:cubicBezTo>
                  <a:pt x="91" y="150"/>
                  <a:pt x="85" y="155"/>
                  <a:pt x="77" y="155"/>
                </a:cubicBezTo>
                <a:close/>
                <a:moveTo>
                  <a:pt x="14" y="119"/>
                </a:moveTo>
                <a:cubicBezTo>
                  <a:pt x="10" y="119"/>
                  <a:pt x="6" y="123"/>
                  <a:pt x="6" y="128"/>
                </a:cubicBezTo>
                <a:cubicBezTo>
                  <a:pt x="6" y="131"/>
                  <a:pt x="8" y="134"/>
                  <a:pt x="10" y="135"/>
                </a:cubicBezTo>
                <a:cubicBezTo>
                  <a:pt x="11" y="136"/>
                  <a:pt x="11" y="137"/>
                  <a:pt x="11" y="138"/>
                </a:cubicBezTo>
                <a:cubicBezTo>
                  <a:pt x="11" y="139"/>
                  <a:pt x="10" y="140"/>
                  <a:pt x="9" y="141"/>
                </a:cubicBezTo>
                <a:cubicBezTo>
                  <a:pt x="7" y="141"/>
                  <a:pt x="6" y="143"/>
                  <a:pt x="6" y="144"/>
                </a:cubicBezTo>
                <a:cubicBezTo>
                  <a:pt x="6" y="146"/>
                  <a:pt x="9" y="148"/>
                  <a:pt x="14" y="148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82" y="148"/>
                  <a:pt x="85" y="146"/>
                  <a:pt x="85" y="144"/>
                </a:cubicBezTo>
                <a:cubicBezTo>
                  <a:pt x="85" y="143"/>
                  <a:pt x="84" y="141"/>
                  <a:pt x="82" y="141"/>
                </a:cubicBezTo>
                <a:cubicBezTo>
                  <a:pt x="81" y="140"/>
                  <a:pt x="80" y="139"/>
                  <a:pt x="80" y="138"/>
                </a:cubicBezTo>
                <a:cubicBezTo>
                  <a:pt x="80" y="137"/>
                  <a:pt x="80" y="136"/>
                  <a:pt x="81" y="135"/>
                </a:cubicBezTo>
                <a:cubicBezTo>
                  <a:pt x="83" y="134"/>
                  <a:pt x="85" y="131"/>
                  <a:pt x="85" y="128"/>
                </a:cubicBezTo>
                <a:cubicBezTo>
                  <a:pt x="85" y="123"/>
                  <a:pt x="81" y="119"/>
                  <a:pt x="77" y="119"/>
                </a:cubicBezTo>
                <a:cubicBezTo>
                  <a:pt x="75" y="119"/>
                  <a:pt x="75" y="119"/>
                  <a:pt x="75" y="119"/>
                </a:cubicBezTo>
                <a:cubicBezTo>
                  <a:pt x="74" y="119"/>
                  <a:pt x="74" y="119"/>
                  <a:pt x="73" y="118"/>
                </a:cubicBezTo>
                <a:cubicBezTo>
                  <a:pt x="71" y="115"/>
                  <a:pt x="70" y="110"/>
                  <a:pt x="70" y="107"/>
                </a:cubicBezTo>
                <a:cubicBezTo>
                  <a:pt x="52" y="94"/>
                  <a:pt x="55" y="73"/>
                  <a:pt x="56" y="65"/>
                </a:cubicBezTo>
                <a:cubicBezTo>
                  <a:pt x="57" y="64"/>
                  <a:pt x="58" y="63"/>
                  <a:pt x="59" y="63"/>
                </a:cubicBezTo>
                <a:cubicBezTo>
                  <a:pt x="63" y="63"/>
                  <a:pt x="63" y="63"/>
                  <a:pt x="63" y="63"/>
                </a:cubicBezTo>
                <a:cubicBezTo>
                  <a:pt x="65" y="63"/>
                  <a:pt x="68" y="61"/>
                  <a:pt x="68" y="58"/>
                </a:cubicBezTo>
                <a:cubicBezTo>
                  <a:pt x="68" y="56"/>
                  <a:pt x="65" y="54"/>
                  <a:pt x="63" y="54"/>
                </a:cubicBezTo>
                <a:cubicBezTo>
                  <a:pt x="58" y="54"/>
                  <a:pt x="58" y="54"/>
                  <a:pt x="58" y="54"/>
                </a:cubicBezTo>
                <a:cubicBezTo>
                  <a:pt x="57" y="54"/>
                  <a:pt x="55" y="53"/>
                  <a:pt x="55" y="51"/>
                </a:cubicBezTo>
                <a:cubicBezTo>
                  <a:pt x="55" y="50"/>
                  <a:pt x="55" y="49"/>
                  <a:pt x="57" y="48"/>
                </a:cubicBezTo>
                <a:cubicBezTo>
                  <a:pt x="63" y="44"/>
                  <a:pt x="68" y="37"/>
                  <a:pt x="68" y="29"/>
                </a:cubicBezTo>
                <a:cubicBezTo>
                  <a:pt x="68" y="16"/>
                  <a:pt x="58" y="6"/>
                  <a:pt x="45" y="6"/>
                </a:cubicBezTo>
                <a:cubicBezTo>
                  <a:pt x="33" y="6"/>
                  <a:pt x="23" y="16"/>
                  <a:pt x="23" y="29"/>
                </a:cubicBezTo>
                <a:cubicBezTo>
                  <a:pt x="23" y="37"/>
                  <a:pt x="28" y="44"/>
                  <a:pt x="34" y="48"/>
                </a:cubicBezTo>
                <a:cubicBezTo>
                  <a:pt x="36" y="49"/>
                  <a:pt x="36" y="50"/>
                  <a:pt x="36" y="51"/>
                </a:cubicBezTo>
                <a:cubicBezTo>
                  <a:pt x="36" y="53"/>
                  <a:pt x="34" y="54"/>
                  <a:pt x="33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6" y="54"/>
                  <a:pt x="23" y="56"/>
                  <a:pt x="23" y="58"/>
                </a:cubicBezTo>
                <a:cubicBezTo>
                  <a:pt x="23" y="61"/>
                  <a:pt x="26" y="63"/>
                  <a:pt x="28" y="63"/>
                </a:cubicBezTo>
                <a:cubicBezTo>
                  <a:pt x="31" y="63"/>
                  <a:pt x="31" y="63"/>
                  <a:pt x="31" y="63"/>
                </a:cubicBezTo>
                <a:cubicBezTo>
                  <a:pt x="33" y="63"/>
                  <a:pt x="34" y="64"/>
                  <a:pt x="34" y="65"/>
                </a:cubicBezTo>
                <a:cubicBezTo>
                  <a:pt x="36" y="73"/>
                  <a:pt x="39" y="94"/>
                  <a:pt x="21" y="107"/>
                </a:cubicBezTo>
                <a:cubicBezTo>
                  <a:pt x="21" y="110"/>
                  <a:pt x="20" y="115"/>
                  <a:pt x="18" y="118"/>
                </a:cubicBezTo>
                <a:cubicBezTo>
                  <a:pt x="17" y="119"/>
                  <a:pt x="17" y="119"/>
                  <a:pt x="16" y="119"/>
                </a:cubicBezTo>
                <a:lnTo>
                  <a:pt x="14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Rectangle 245"/>
          <p:cNvSpPr/>
          <p:nvPr/>
        </p:nvSpPr>
        <p:spPr>
          <a:xfrm>
            <a:off x="6978600" y="1611360"/>
            <a:ext cx="82440" cy="6516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Rectangle 246"/>
          <p:cNvSpPr/>
          <p:nvPr/>
        </p:nvSpPr>
        <p:spPr>
          <a:xfrm>
            <a:off x="6978600" y="1611360"/>
            <a:ext cx="17640" cy="65160"/>
          </a:xfrm>
          <a:prstGeom prst="rect">
            <a:avLst/>
          </a:prstGeom>
          <a:solidFill>
            <a:srgbClr val="cc3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Rectangle 247"/>
          <p:cNvSpPr/>
          <p:nvPr/>
        </p:nvSpPr>
        <p:spPr>
          <a:xfrm>
            <a:off x="7043760" y="1611360"/>
            <a:ext cx="17280" cy="65160"/>
          </a:xfrm>
          <a:prstGeom prst="rect">
            <a:avLst/>
          </a:prstGeom>
          <a:solidFill>
            <a:srgbClr val="cc3d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Rectangle 248"/>
          <p:cNvSpPr/>
          <p:nvPr/>
        </p:nvSpPr>
        <p:spPr>
          <a:xfrm>
            <a:off x="6958080" y="1569960"/>
            <a:ext cx="123840" cy="4284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Oval 249"/>
          <p:cNvSpPr/>
          <p:nvPr/>
        </p:nvSpPr>
        <p:spPr>
          <a:xfrm>
            <a:off x="6751800" y="1663560"/>
            <a:ext cx="536400" cy="534960"/>
          </a:xfrm>
          <a:prstGeom prst="ellipse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Oval 250"/>
          <p:cNvSpPr/>
          <p:nvPr/>
        </p:nvSpPr>
        <p:spPr>
          <a:xfrm>
            <a:off x="6813720" y="1724040"/>
            <a:ext cx="412560" cy="41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Oval 251"/>
          <p:cNvSpPr/>
          <p:nvPr/>
        </p:nvSpPr>
        <p:spPr>
          <a:xfrm>
            <a:off x="6986520" y="1897200"/>
            <a:ext cx="65160" cy="63360"/>
          </a:xfrm>
          <a:prstGeom prst="ellipse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60" bIns="-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Rectangle 254"/>
          <p:cNvSpPr/>
          <p:nvPr/>
        </p:nvSpPr>
        <p:spPr>
          <a:xfrm>
            <a:off x="8761320" y="1754280"/>
            <a:ext cx="220680" cy="4284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Oval 255"/>
          <p:cNvSpPr/>
          <p:nvPr/>
        </p:nvSpPr>
        <p:spPr>
          <a:xfrm>
            <a:off x="8696160" y="1357200"/>
            <a:ext cx="354240" cy="354240"/>
          </a:xfrm>
          <a:prstGeom prst="ellipse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Rectangle 256"/>
          <p:cNvSpPr/>
          <p:nvPr/>
        </p:nvSpPr>
        <p:spPr>
          <a:xfrm>
            <a:off x="8761320" y="1562040"/>
            <a:ext cx="220680" cy="166680"/>
          </a:xfrm>
          <a:prstGeom prst="rect">
            <a:avLst/>
          </a:pr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Freeform 257"/>
          <p:cNvSpPr/>
          <p:nvPr/>
        </p:nvSpPr>
        <p:spPr>
          <a:xfrm>
            <a:off x="8761320" y="1824120"/>
            <a:ext cx="220680" cy="110880"/>
          </a:xfrm>
          <a:custGeom>
            <a:avLst/>
            <a:gdLst/>
            <a:ahLst/>
            <a:rect l="l" t="t" r="r" b="b"/>
            <a:pathLst>
              <a:path w="64" h="32">
                <a:moveTo>
                  <a:pt x="0" y="0"/>
                </a:moveTo>
                <a:cubicBezTo>
                  <a:pt x="0" y="18"/>
                  <a:pt x="15" y="32"/>
                  <a:pt x="32" y="32"/>
                </a:cubicBezTo>
                <a:cubicBezTo>
                  <a:pt x="50" y="32"/>
                  <a:pt x="64" y="18"/>
                  <a:pt x="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e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Freeform 258"/>
          <p:cNvSpPr/>
          <p:nvPr/>
        </p:nvSpPr>
        <p:spPr>
          <a:xfrm>
            <a:off x="8790120" y="1397160"/>
            <a:ext cx="177840" cy="296640"/>
          </a:xfrm>
          <a:custGeom>
            <a:avLst/>
            <a:gdLst/>
            <a:ahLst/>
            <a:rect l="l" t="t" r="r" b="b"/>
            <a:pathLst>
              <a:path w="123" h="204">
                <a:moveTo>
                  <a:pt x="59" y="0"/>
                </a:moveTo>
                <a:lnTo>
                  <a:pt x="0" y="116"/>
                </a:lnTo>
                <a:lnTo>
                  <a:pt x="74" y="116"/>
                </a:lnTo>
                <a:lnTo>
                  <a:pt x="45" y="204"/>
                </a:lnTo>
                <a:lnTo>
                  <a:pt x="123" y="88"/>
                </a:lnTo>
                <a:lnTo>
                  <a:pt x="38" y="88"/>
                </a:lnTo>
                <a:lnTo>
                  <a:pt x="59" y="0"/>
                </a:lnTo>
                <a:close/>
              </a:path>
            </a:pathLst>
          </a:custGeom>
          <a:solidFill>
            <a:srgbClr val="2ab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Rectangle 259"/>
          <p:cNvSpPr/>
          <p:nvPr/>
        </p:nvSpPr>
        <p:spPr>
          <a:xfrm>
            <a:off x="7731000" y="1341360"/>
            <a:ext cx="70812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Rectangle 260"/>
          <p:cNvSpPr/>
          <p:nvPr/>
        </p:nvSpPr>
        <p:spPr>
          <a:xfrm>
            <a:off x="7731000" y="1219320"/>
            <a:ext cx="708120" cy="144360"/>
          </a:xfrm>
          <a:prstGeom prst="rect">
            <a:avLst/>
          </a:prstGeom>
          <a:solidFill>
            <a:srgbClr val="0c4f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Rectangle 261"/>
          <p:cNvSpPr/>
          <p:nvPr/>
        </p:nvSpPr>
        <p:spPr>
          <a:xfrm>
            <a:off x="7823160" y="1476360"/>
            <a:ext cx="287280" cy="1144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Rectangle 262"/>
          <p:cNvSpPr/>
          <p:nvPr/>
        </p:nvSpPr>
        <p:spPr>
          <a:xfrm>
            <a:off x="7823160" y="1693800"/>
            <a:ext cx="287280" cy="1126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Rectangle 263"/>
          <p:cNvSpPr/>
          <p:nvPr/>
        </p:nvSpPr>
        <p:spPr>
          <a:xfrm>
            <a:off x="8174160" y="1476360"/>
            <a:ext cx="172800" cy="1764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080" bIns="-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Rectangle 264"/>
          <p:cNvSpPr/>
          <p:nvPr/>
        </p:nvSpPr>
        <p:spPr>
          <a:xfrm>
            <a:off x="8174160" y="1569960"/>
            <a:ext cx="172800" cy="208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Rectangle 265"/>
          <p:cNvSpPr/>
          <p:nvPr/>
        </p:nvSpPr>
        <p:spPr>
          <a:xfrm>
            <a:off x="8174160" y="1525680"/>
            <a:ext cx="172800" cy="172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Rectangle 266"/>
          <p:cNvSpPr/>
          <p:nvPr/>
        </p:nvSpPr>
        <p:spPr>
          <a:xfrm>
            <a:off x="8174160" y="1693800"/>
            <a:ext cx="172800" cy="208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840" bIns="-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Rectangle 267"/>
          <p:cNvSpPr/>
          <p:nvPr/>
        </p:nvSpPr>
        <p:spPr>
          <a:xfrm>
            <a:off x="8174160" y="1789200"/>
            <a:ext cx="172800" cy="1728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440" bIns="-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Rectangle 268"/>
          <p:cNvSpPr/>
          <p:nvPr/>
        </p:nvSpPr>
        <p:spPr>
          <a:xfrm>
            <a:off x="8174160" y="1741320"/>
            <a:ext cx="172800" cy="17640"/>
          </a:xfrm>
          <a:prstGeom prst="rect">
            <a:avLst/>
          </a:prstGeom>
          <a:solidFill>
            <a:srgbClr val="e84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080" bIns="-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Oval 269"/>
          <p:cNvSpPr/>
          <p:nvPr/>
        </p:nvSpPr>
        <p:spPr>
          <a:xfrm>
            <a:off x="7786800" y="1255680"/>
            <a:ext cx="5688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Oval 270"/>
          <p:cNvSpPr/>
          <p:nvPr/>
        </p:nvSpPr>
        <p:spPr>
          <a:xfrm>
            <a:off x="7881840" y="1255680"/>
            <a:ext cx="5580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Oval 271"/>
          <p:cNvSpPr/>
          <p:nvPr/>
        </p:nvSpPr>
        <p:spPr>
          <a:xfrm>
            <a:off x="7975440" y="1255680"/>
            <a:ext cx="5724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Rectangle 272"/>
          <p:cNvSpPr/>
          <p:nvPr/>
        </p:nvSpPr>
        <p:spPr>
          <a:xfrm>
            <a:off x="6153120" y="2154240"/>
            <a:ext cx="825480" cy="517680"/>
          </a:xfrm>
          <a:prstGeom prst="rect">
            <a:avLst/>
          </a:prstGeom>
          <a:solidFill>
            <a:srgbClr val="d7e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Freeform 273"/>
          <p:cNvSpPr/>
          <p:nvPr/>
        </p:nvSpPr>
        <p:spPr>
          <a:xfrm>
            <a:off x="6153120" y="2384280"/>
            <a:ext cx="825480" cy="287640"/>
          </a:xfrm>
          <a:custGeom>
            <a:avLst/>
            <a:gdLst/>
            <a:ahLst/>
            <a:rect l="l" t="t" r="r" b="b"/>
            <a:pathLst>
              <a:path w="568" h="198">
                <a:moveTo>
                  <a:pt x="0" y="198"/>
                </a:moveTo>
                <a:lnTo>
                  <a:pt x="568" y="198"/>
                </a:lnTo>
                <a:lnTo>
                  <a:pt x="284" y="0"/>
                </a:lnTo>
                <a:lnTo>
                  <a:pt x="0" y="1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Freeform 274"/>
          <p:cNvSpPr/>
          <p:nvPr/>
        </p:nvSpPr>
        <p:spPr>
          <a:xfrm>
            <a:off x="6153120" y="2154240"/>
            <a:ext cx="825480" cy="328680"/>
          </a:xfrm>
          <a:custGeom>
            <a:avLst/>
            <a:gdLst/>
            <a:ahLst/>
            <a:rect l="l" t="t" r="r" b="b"/>
            <a:pathLst>
              <a:path w="568" h="227">
                <a:moveTo>
                  <a:pt x="568" y="0"/>
                </a:moveTo>
                <a:lnTo>
                  <a:pt x="0" y="0"/>
                </a:lnTo>
                <a:lnTo>
                  <a:pt x="284" y="227"/>
                </a:lnTo>
                <a:lnTo>
                  <a:pt x="568" y="0"/>
                </a:lnTo>
                <a:close/>
              </a:path>
            </a:pathLst>
          </a:custGeom>
          <a:solidFill>
            <a:srgbClr val="afd8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Freeform 275"/>
          <p:cNvSpPr/>
          <p:nvPr/>
        </p:nvSpPr>
        <p:spPr>
          <a:xfrm>
            <a:off x="6153120" y="2154240"/>
            <a:ext cx="825480" cy="291960"/>
          </a:xfrm>
          <a:custGeom>
            <a:avLst/>
            <a:gdLst/>
            <a:ahLst/>
            <a:rect l="l" t="t" r="r" b="b"/>
            <a:pathLst>
              <a:path w="568" h="201">
                <a:moveTo>
                  <a:pt x="568" y="0"/>
                </a:moveTo>
                <a:lnTo>
                  <a:pt x="0" y="0"/>
                </a:lnTo>
                <a:lnTo>
                  <a:pt x="284" y="201"/>
                </a:lnTo>
                <a:lnTo>
                  <a:pt x="5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0" name="组合 280"/>
          <p:cNvGrpSpPr/>
          <p:nvPr/>
        </p:nvGrpSpPr>
        <p:grpSpPr>
          <a:xfrm>
            <a:off x="6861240" y="1909800"/>
            <a:ext cx="314280" cy="25200"/>
            <a:chOff x="6861240" y="1909800"/>
            <a:chExt cx="314280" cy="25200"/>
          </a:xfrm>
        </p:grpSpPr>
        <p:sp>
          <p:nvSpPr>
            <p:cNvPr id="2881" name="Freeform 253"/>
            <p:cNvSpPr/>
            <p:nvPr/>
          </p:nvSpPr>
          <p:spPr>
            <a:xfrm>
              <a:off x="7003800" y="1909800"/>
              <a:ext cx="171720" cy="252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3"/>
                  </a:moveTo>
                  <a:cubicBezTo>
                    <a:pt x="50" y="1"/>
                    <a:pt x="49" y="0"/>
                    <a:pt x="47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7"/>
                    <a:pt x="3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9" y="7"/>
                    <a:pt x="50" y="5"/>
                    <a:pt x="50" y="3"/>
                  </a:cubicBez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2" name="Freeform 253"/>
            <p:cNvSpPr/>
            <p:nvPr/>
          </p:nvSpPr>
          <p:spPr>
            <a:xfrm>
              <a:off x="6861240" y="1909800"/>
              <a:ext cx="171720" cy="2520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50" y="3"/>
                  </a:moveTo>
                  <a:cubicBezTo>
                    <a:pt x="50" y="1"/>
                    <a:pt x="49" y="0"/>
                    <a:pt x="47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5"/>
                    <a:pt x="1" y="7"/>
                    <a:pt x="3" y="7"/>
                  </a:cubicBezTo>
                  <a:cubicBezTo>
                    <a:pt x="47" y="7"/>
                    <a:pt x="47" y="7"/>
                    <a:pt x="47" y="7"/>
                  </a:cubicBezTo>
                  <a:cubicBezTo>
                    <a:pt x="49" y="7"/>
                    <a:pt x="50" y="5"/>
                    <a:pt x="50" y="3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3" name="组合 282"/>
          <p:cNvGrpSpPr/>
          <p:nvPr/>
        </p:nvGrpSpPr>
        <p:grpSpPr>
          <a:xfrm>
            <a:off x="7000920" y="1806480"/>
            <a:ext cx="41400" cy="254160"/>
            <a:chOff x="7000920" y="1806480"/>
            <a:chExt cx="41400" cy="254160"/>
          </a:xfrm>
        </p:grpSpPr>
        <p:sp>
          <p:nvSpPr>
            <p:cNvPr id="2884" name="Freeform 252"/>
            <p:cNvSpPr/>
            <p:nvPr/>
          </p:nvSpPr>
          <p:spPr>
            <a:xfrm>
              <a:off x="7000920" y="1911960"/>
              <a:ext cx="41400" cy="14868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2" y="6"/>
                  </a:moveTo>
                  <a:cubicBezTo>
                    <a:pt x="12" y="2"/>
                    <a:pt x="9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40"/>
                    <a:pt x="3" y="43"/>
                    <a:pt x="6" y="43"/>
                  </a:cubicBezTo>
                  <a:cubicBezTo>
                    <a:pt x="9" y="43"/>
                    <a:pt x="12" y="40"/>
                    <a:pt x="12" y="37"/>
                  </a:cubicBezTo>
                  <a:lnTo>
                    <a:pt x="12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5" name="Freeform 252"/>
            <p:cNvSpPr/>
            <p:nvPr/>
          </p:nvSpPr>
          <p:spPr>
            <a:xfrm>
              <a:off x="7000920" y="1806480"/>
              <a:ext cx="41400" cy="14868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2" y="6"/>
                  </a:moveTo>
                  <a:cubicBezTo>
                    <a:pt x="12" y="2"/>
                    <a:pt x="9" y="0"/>
                    <a:pt x="6" y="0"/>
                  </a:cubicBezTo>
                  <a:cubicBezTo>
                    <a:pt x="3" y="0"/>
                    <a:pt x="0" y="2"/>
                    <a:pt x="0" y="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40"/>
                    <a:pt x="3" y="43"/>
                    <a:pt x="6" y="43"/>
                  </a:cubicBezTo>
                  <a:cubicBezTo>
                    <a:pt x="9" y="43"/>
                    <a:pt x="12" y="40"/>
                    <a:pt x="12" y="37"/>
                  </a:cubicBezTo>
                  <a:lnTo>
                    <a:pt x="12" y="6"/>
                  </a:lnTo>
                  <a:close/>
                </a:path>
              </a:pathLst>
            </a:custGeom>
            <a:solidFill>
              <a:srgbClr val="e84d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6" name="组合 5"/>
          <p:cNvGrpSpPr/>
          <p:nvPr/>
        </p:nvGrpSpPr>
        <p:grpSpPr>
          <a:xfrm>
            <a:off x="1076400" y="2657520"/>
            <a:ext cx="3292560" cy="1452600"/>
            <a:chOff x="1076400" y="2657520"/>
            <a:chExt cx="3292560" cy="1452600"/>
          </a:xfrm>
        </p:grpSpPr>
        <p:sp>
          <p:nvSpPr>
            <p:cNvPr id="2887" name="文本框 291"/>
            <p:cNvSpPr/>
            <p:nvPr/>
          </p:nvSpPr>
          <p:spPr>
            <a:xfrm>
              <a:off x="1150920" y="2706480"/>
              <a:ext cx="3218040" cy="1403640"/>
            </a:xfrm>
            <a:custGeom>
              <a:avLst/>
              <a:gdLst/>
              <a:ahLst/>
              <a:rect l="l" t="t" r="r" b="b"/>
              <a:pathLst>
                <a:path w="3217664" h="1403449">
                  <a:moveTo>
                    <a:pt x="1109067" y="1156989"/>
                  </a:moveTo>
                  <a:lnTo>
                    <a:pt x="1478756" y="1334988"/>
                  </a:lnTo>
                  <a:lnTo>
                    <a:pt x="1314450" y="1403449"/>
                  </a:lnTo>
                  <a:lnTo>
                    <a:pt x="944761" y="1225450"/>
                  </a:lnTo>
                  <a:close/>
                  <a:moveTo>
                    <a:pt x="362843" y="1156989"/>
                  </a:moveTo>
                  <a:lnTo>
                    <a:pt x="527149" y="1225450"/>
                  </a:lnTo>
                  <a:lnTo>
                    <a:pt x="164306" y="1403449"/>
                  </a:lnTo>
                  <a:lnTo>
                    <a:pt x="0" y="1334988"/>
                  </a:lnTo>
                  <a:close/>
                  <a:moveTo>
                    <a:pt x="814685" y="390227"/>
                  </a:moveTo>
                  <a:lnTo>
                    <a:pt x="814685" y="472380"/>
                  </a:lnTo>
                  <a:lnTo>
                    <a:pt x="1252835" y="472380"/>
                  </a:lnTo>
                  <a:lnTo>
                    <a:pt x="1252835" y="390227"/>
                  </a:lnTo>
                  <a:close/>
                  <a:moveTo>
                    <a:pt x="232767" y="390227"/>
                  </a:moveTo>
                  <a:lnTo>
                    <a:pt x="232767" y="472380"/>
                  </a:lnTo>
                  <a:lnTo>
                    <a:pt x="657225" y="472380"/>
                  </a:lnTo>
                  <a:lnTo>
                    <a:pt x="657225" y="390227"/>
                  </a:lnTo>
                  <a:close/>
                  <a:moveTo>
                    <a:pt x="814685" y="164306"/>
                  </a:moveTo>
                  <a:lnTo>
                    <a:pt x="814685" y="253305"/>
                  </a:lnTo>
                  <a:lnTo>
                    <a:pt x="1252835" y="253305"/>
                  </a:lnTo>
                  <a:lnTo>
                    <a:pt x="1252835" y="164306"/>
                  </a:lnTo>
                  <a:close/>
                  <a:moveTo>
                    <a:pt x="232767" y="164306"/>
                  </a:moveTo>
                  <a:lnTo>
                    <a:pt x="232767" y="253305"/>
                  </a:lnTo>
                  <a:lnTo>
                    <a:pt x="657225" y="253305"/>
                  </a:lnTo>
                  <a:lnTo>
                    <a:pt x="657225" y="164306"/>
                  </a:lnTo>
                  <a:close/>
                  <a:moveTo>
                    <a:pt x="54769" y="27384"/>
                  </a:moveTo>
                  <a:lnTo>
                    <a:pt x="1423988" y="27384"/>
                  </a:lnTo>
                  <a:lnTo>
                    <a:pt x="1423988" y="602456"/>
                  </a:lnTo>
                  <a:lnTo>
                    <a:pt x="835223" y="602456"/>
                  </a:lnTo>
                  <a:lnTo>
                    <a:pt x="862608" y="609302"/>
                  </a:lnTo>
                  <a:lnTo>
                    <a:pt x="787301" y="691455"/>
                  </a:lnTo>
                  <a:lnTo>
                    <a:pt x="1129606" y="691455"/>
                  </a:lnTo>
                  <a:lnTo>
                    <a:pt x="1266527" y="657225"/>
                  </a:lnTo>
                  <a:lnTo>
                    <a:pt x="1458218" y="725686"/>
                  </a:lnTo>
                  <a:lnTo>
                    <a:pt x="509349" y="965299"/>
                  </a:lnTo>
                  <a:lnTo>
                    <a:pt x="1177528" y="965299"/>
                  </a:lnTo>
                  <a:lnTo>
                    <a:pt x="1143298" y="896838"/>
                  </a:lnTo>
                  <a:lnTo>
                    <a:pt x="1328142" y="862607"/>
                  </a:lnTo>
                  <a:lnTo>
                    <a:pt x="1444526" y="1095375"/>
                  </a:lnTo>
                  <a:lnTo>
                    <a:pt x="828377" y="1095375"/>
                  </a:lnTo>
                  <a:lnTo>
                    <a:pt x="828377" y="1403449"/>
                  </a:lnTo>
                  <a:lnTo>
                    <a:pt x="575072" y="1403449"/>
                  </a:lnTo>
                  <a:lnTo>
                    <a:pt x="575072" y="1273373"/>
                  </a:lnTo>
                  <a:lnTo>
                    <a:pt x="664071" y="1273373"/>
                  </a:lnTo>
                  <a:lnTo>
                    <a:pt x="664071" y="1095375"/>
                  </a:lnTo>
                  <a:lnTo>
                    <a:pt x="34230" y="1095375"/>
                  </a:lnTo>
                  <a:lnTo>
                    <a:pt x="34230" y="965299"/>
                  </a:lnTo>
                  <a:lnTo>
                    <a:pt x="609302" y="821531"/>
                  </a:lnTo>
                  <a:lnTo>
                    <a:pt x="41077" y="821531"/>
                  </a:lnTo>
                  <a:lnTo>
                    <a:pt x="41077" y="691455"/>
                  </a:lnTo>
                  <a:lnTo>
                    <a:pt x="575072" y="691455"/>
                  </a:lnTo>
                  <a:lnTo>
                    <a:pt x="664071" y="602456"/>
                  </a:lnTo>
                  <a:lnTo>
                    <a:pt x="54769" y="602456"/>
                  </a:lnTo>
                  <a:close/>
                  <a:moveTo>
                    <a:pt x="1766292" y="0"/>
                  </a:moveTo>
                  <a:lnTo>
                    <a:pt x="3203972" y="0"/>
                  </a:lnTo>
                  <a:lnTo>
                    <a:pt x="3203972" y="143767"/>
                  </a:lnTo>
                  <a:lnTo>
                    <a:pt x="2820591" y="143767"/>
                  </a:lnTo>
                  <a:lnTo>
                    <a:pt x="2820591" y="691455"/>
                  </a:lnTo>
                  <a:lnTo>
                    <a:pt x="3169741" y="308074"/>
                  </a:lnTo>
                  <a:lnTo>
                    <a:pt x="3217664" y="465534"/>
                  </a:lnTo>
                  <a:lnTo>
                    <a:pt x="2820591" y="896838"/>
                  </a:lnTo>
                  <a:lnTo>
                    <a:pt x="2820591" y="1252835"/>
                  </a:lnTo>
                  <a:lnTo>
                    <a:pt x="3217664" y="1252835"/>
                  </a:lnTo>
                  <a:lnTo>
                    <a:pt x="3210818" y="1403449"/>
                  </a:lnTo>
                  <a:lnTo>
                    <a:pt x="2656284" y="1403449"/>
                  </a:lnTo>
                  <a:lnTo>
                    <a:pt x="2656284" y="143767"/>
                  </a:lnTo>
                  <a:lnTo>
                    <a:pt x="2218134" y="143767"/>
                  </a:lnTo>
                  <a:lnTo>
                    <a:pt x="2069672" y="369689"/>
                  </a:lnTo>
                  <a:lnTo>
                    <a:pt x="2416671" y="369689"/>
                  </a:lnTo>
                  <a:lnTo>
                    <a:pt x="2416671" y="794146"/>
                  </a:lnTo>
                  <a:lnTo>
                    <a:pt x="1889522" y="1403449"/>
                  </a:lnTo>
                  <a:lnTo>
                    <a:pt x="1732062" y="1369218"/>
                  </a:lnTo>
                  <a:lnTo>
                    <a:pt x="1999054" y="1049530"/>
                  </a:lnTo>
                  <a:lnTo>
                    <a:pt x="1732062" y="794146"/>
                  </a:lnTo>
                  <a:lnTo>
                    <a:pt x="1882676" y="732532"/>
                  </a:lnTo>
                  <a:lnTo>
                    <a:pt x="2094546" y="935190"/>
                  </a:lnTo>
                  <a:lnTo>
                    <a:pt x="2252365" y="746224"/>
                  </a:lnTo>
                  <a:lnTo>
                    <a:pt x="2252365" y="513457"/>
                  </a:lnTo>
                  <a:lnTo>
                    <a:pt x="1975196" y="513457"/>
                  </a:lnTo>
                  <a:lnTo>
                    <a:pt x="1903214" y="622994"/>
                  </a:lnTo>
                  <a:lnTo>
                    <a:pt x="1745754" y="588764"/>
                  </a:lnTo>
                  <a:lnTo>
                    <a:pt x="2040136" y="143767"/>
                  </a:lnTo>
                  <a:lnTo>
                    <a:pt x="1766292" y="143767"/>
                  </a:lnTo>
                  <a:close/>
                </a:path>
              </a:pathLst>
            </a:custGeom>
            <a:solidFill>
              <a:srgbClr val="611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8" name="文本框 293"/>
            <p:cNvSpPr/>
            <p:nvPr/>
          </p:nvSpPr>
          <p:spPr>
            <a:xfrm>
              <a:off x="1076400" y="2657520"/>
              <a:ext cx="3218040" cy="1403640"/>
            </a:xfrm>
            <a:custGeom>
              <a:avLst/>
              <a:gdLst/>
              <a:ahLst/>
              <a:rect l="l" t="t" r="r" b="b"/>
              <a:pathLst>
                <a:path w="3217664" h="1403449">
                  <a:moveTo>
                    <a:pt x="1109067" y="1156989"/>
                  </a:moveTo>
                  <a:lnTo>
                    <a:pt x="1478756" y="1334988"/>
                  </a:lnTo>
                  <a:lnTo>
                    <a:pt x="1314450" y="1403449"/>
                  </a:lnTo>
                  <a:lnTo>
                    <a:pt x="944761" y="1225450"/>
                  </a:lnTo>
                  <a:close/>
                  <a:moveTo>
                    <a:pt x="362843" y="1156989"/>
                  </a:moveTo>
                  <a:lnTo>
                    <a:pt x="527149" y="1225450"/>
                  </a:lnTo>
                  <a:lnTo>
                    <a:pt x="164306" y="1403449"/>
                  </a:lnTo>
                  <a:lnTo>
                    <a:pt x="0" y="1334988"/>
                  </a:lnTo>
                  <a:close/>
                  <a:moveTo>
                    <a:pt x="814685" y="390227"/>
                  </a:moveTo>
                  <a:lnTo>
                    <a:pt x="814685" y="472380"/>
                  </a:lnTo>
                  <a:lnTo>
                    <a:pt x="1252835" y="472380"/>
                  </a:lnTo>
                  <a:lnTo>
                    <a:pt x="1252835" y="390227"/>
                  </a:lnTo>
                  <a:close/>
                  <a:moveTo>
                    <a:pt x="232767" y="390227"/>
                  </a:moveTo>
                  <a:lnTo>
                    <a:pt x="232767" y="472380"/>
                  </a:lnTo>
                  <a:lnTo>
                    <a:pt x="657225" y="472380"/>
                  </a:lnTo>
                  <a:lnTo>
                    <a:pt x="657225" y="390227"/>
                  </a:lnTo>
                  <a:close/>
                  <a:moveTo>
                    <a:pt x="814685" y="164306"/>
                  </a:moveTo>
                  <a:lnTo>
                    <a:pt x="814685" y="253305"/>
                  </a:lnTo>
                  <a:lnTo>
                    <a:pt x="1252835" y="253305"/>
                  </a:lnTo>
                  <a:lnTo>
                    <a:pt x="1252835" y="164306"/>
                  </a:lnTo>
                  <a:close/>
                  <a:moveTo>
                    <a:pt x="232767" y="164306"/>
                  </a:moveTo>
                  <a:lnTo>
                    <a:pt x="232767" y="253305"/>
                  </a:lnTo>
                  <a:lnTo>
                    <a:pt x="657225" y="253305"/>
                  </a:lnTo>
                  <a:lnTo>
                    <a:pt x="657225" y="164306"/>
                  </a:lnTo>
                  <a:close/>
                  <a:moveTo>
                    <a:pt x="54769" y="27384"/>
                  </a:moveTo>
                  <a:lnTo>
                    <a:pt x="1423988" y="27384"/>
                  </a:lnTo>
                  <a:lnTo>
                    <a:pt x="1423988" y="602456"/>
                  </a:lnTo>
                  <a:lnTo>
                    <a:pt x="835223" y="602456"/>
                  </a:lnTo>
                  <a:lnTo>
                    <a:pt x="862608" y="609302"/>
                  </a:lnTo>
                  <a:lnTo>
                    <a:pt x="787301" y="691455"/>
                  </a:lnTo>
                  <a:lnTo>
                    <a:pt x="1129606" y="691455"/>
                  </a:lnTo>
                  <a:lnTo>
                    <a:pt x="1266527" y="657225"/>
                  </a:lnTo>
                  <a:lnTo>
                    <a:pt x="1458218" y="725686"/>
                  </a:lnTo>
                  <a:lnTo>
                    <a:pt x="509349" y="965299"/>
                  </a:lnTo>
                  <a:lnTo>
                    <a:pt x="1177528" y="965299"/>
                  </a:lnTo>
                  <a:lnTo>
                    <a:pt x="1143298" y="896838"/>
                  </a:lnTo>
                  <a:lnTo>
                    <a:pt x="1328142" y="862607"/>
                  </a:lnTo>
                  <a:lnTo>
                    <a:pt x="1444526" y="1095375"/>
                  </a:lnTo>
                  <a:lnTo>
                    <a:pt x="828377" y="1095375"/>
                  </a:lnTo>
                  <a:lnTo>
                    <a:pt x="828377" y="1403449"/>
                  </a:lnTo>
                  <a:lnTo>
                    <a:pt x="575072" y="1403449"/>
                  </a:lnTo>
                  <a:lnTo>
                    <a:pt x="575072" y="1273373"/>
                  </a:lnTo>
                  <a:lnTo>
                    <a:pt x="664071" y="1273373"/>
                  </a:lnTo>
                  <a:lnTo>
                    <a:pt x="664071" y="1095375"/>
                  </a:lnTo>
                  <a:lnTo>
                    <a:pt x="34230" y="1095375"/>
                  </a:lnTo>
                  <a:lnTo>
                    <a:pt x="34230" y="965299"/>
                  </a:lnTo>
                  <a:lnTo>
                    <a:pt x="609302" y="821531"/>
                  </a:lnTo>
                  <a:lnTo>
                    <a:pt x="41077" y="821531"/>
                  </a:lnTo>
                  <a:lnTo>
                    <a:pt x="41077" y="691455"/>
                  </a:lnTo>
                  <a:lnTo>
                    <a:pt x="575072" y="691455"/>
                  </a:lnTo>
                  <a:lnTo>
                    <a:pt x="664071" y="602456"/>
                  </a:lnTo>
                  <a:lnTo>
                    <a:pt x="54769" y="602456"/>
                  </a:lnTo>
                  <a:close/>
                  <a:moveTo>
                    <a:pt x="1766292" y="0"/>
                  </a:moveTo>
                  <a:lnTo>
                    <a:pt x="3203972" y="0"/>
                  </a:lnTo>
                  <a:lnTo>
                    <a:pt x="3203972" y="143767"/>
                  </a:lnTo>
                  <a:lnTo>
                    <a:pt x="2820591" y="143767"/>
                  </a:lnTo>
                  <a:lnTo>
                    <a:pt x="2820591" y="691455"/>
                  </a:lnTo>
                  <a:lnTo>
                    <a:pt x="3169741" y="308074"/>
                  </a:lnTo>
                  <a:lnTo>
                    <a:pt x="3217664" y="465534"/>
                  </a:lnTo>
                  <a:lnTo>
                    <a:pt x="2820591" y="896838"/>
                  </a:lnTo>
                  <a:lnTo>
                    <a:pt x="2820591" y="1252835"/>
                  </a:lnTo>
                  <a:lnTo>
                    <a:pt x="3217664" y="1252835"/>
                  </a:lnTo>
                  <a:lnTo>
                    <a:pt x="3210818" y="1403449"/>
                  </a:lnTo>
                  <a:lnTo>
                    <a:pt x="2656284" y="1403449"/>
                  </a:lnTo>
                  <a:lnTo>
                    <a:pt x="2656284" y="143767"/>
                  </a:lnTo>
                  <a:lnTo>
                    <a:pt x="2218134" y="143767"/>
                  </a:lnTo>
                  <a:lnTo>
                    <a:pt x="2069672" y="369689"/>
                  </a:lnTo>
                  <a:lnTo>
                    <a:pt x="2416671" y="369689"/>
                  </a:lnTo>
                  <a:lnTo>
                    <a:pt x="2416671" y="794146"/>
                  </a:lnTo>
                  <a:lnTo>
                    <a:pt x="1889522" y="1403449"/>
                  </a:lnTo>
                  <a:lnTo>
                    <a:pt x="1732062" y="1369218"/>
                  </a:lnTo>
                  <a:lnTo>
                    <a:pt x="1999054" y="1049530"/>
                  </a:lnTo>
                  <a:lnTo>
                    <a:pt x="1732062" y="794146"/>
                  </a:lnTo>
                  <a:lnTo>
                    <a:pt x="1882676" y="732532"/>
                  </a:lnTo>
                  <a:lnTo>
                    <a:pt x="2094546" y="935190"/>
                  </a:lnTo>
                  <a:lnTo>
                    <a:pt x="2252365" y="746224"/>
                  </a:lnTo>
                  <a:lnTo>
                    <a:pt x="2252365" y="513457"/>
                  </a:lnTo>
                  <a:lnTo>
                    <a:pt x="1975196" y="513457"/>
                  </a:lnTo>
                  <a:lnTo>
                    <a:pt x="1903214" y="622994"/>
                  </a:lnTo>
                  <a:lnTo>
                    <a:pt x="1745754" y="588764"/>
                  </a:lnTo>
                  <a:lnTo>
                    <a:pt x="2040136" y="143767"/>
                  </a:lnTo>
                  <a:lnTo>
                    <a:pt x="1766292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9" name="组合 4"/>
          <p:cNvGrpSpPr/>
          <p:nvPr/>
        </p:nvGrpSpPr>
        <p:grpSpPr>
          <a:xfrm>
            <a:off x="6124680" y="4061160"/>
            <a:ext cx="1040040" cy="1007640"/>
            <a:chOff x="6124680" y="4061160"/>
            <a:chExt cx="1040040" cy="1007640"/>
          </a:xfrm>
        </p:grpSpPr>
        <p:grpSp>
          <p:nvGrpSpPr>
            <p:cNvPr id="2890" name="组合 2"/>
            <p:cNvGrpSpPr/>
            <p:nvPr/>
          </p:nvGrpSpPr>
          <p:grpSpPr>
            <a:xfrm>
              <a:off x="6124680" y="4428000"/>
              <a:ext cx="651960" cy="640800"/>
              <a:chOff x="6124680" y="4428000"/>
              <a:chExt cx="651960" cy="640800"/>
            </a:xfrm>
          </p:grpSpPr>
          <p:sp>
            <p:nvSpPr>
              <p:cNvPr id="2891" name="Freeform 178"/>
              <p:cNvSpPr/>
              <p:nvPr/>
            </p:nvSpPr>
            <p:spPr>
              <a:xfrm>
                <a:off x="6124680" y="4428000"/>
                <a:ext cx="651960" cy="640800"/>
              </a:xfrm>
              <a:custGeom>
                <a:avLst/>
                <a:gdLst/>
                <a:ahLst/>
                <a:rect l="l" t="t" r="r" b="b"/>
                <a:pathLst>
                  <a:path w="190" h="186">
                    <a:moveTo>
                      <a:pt x="181" y="65"/>
                    </a:moveTo>
                    <a:cubicBezTo>
                      <a:pt x="181" y="65"/>
                      <a:pt x="190" y="45"/>
                      <a:pt x="187" y="42"/>
                    </a:cubicBezTo>
                    <a:cubicBezTo>
                      <a:pt x="187" y="40"/>
                      <a:pt x="185" y="38"/>
                      <a:pt x="182" y="41"/>
                    </a:cubicBezTo>
                    <a:cubicBezTo>
                      <a:pt x="181" y="42"/>
                      <a:pt x="163" y="62"/>
                      <a:pt x="163" y="62"/>
                    </a:cubicBezTo>
                    <a:cubicBezTo>
                      <a:pt x="163" y="62"/>
                      <a:pt x="159" y="67"/>
                      <a:pt x="153" y="61"/>
                    </a:cubicBezTo>
                    <a:cubicBezTo>
                      <a:pt x="151" y="59"/>
                      <a:pt x="131" y="39"/>
                      <a:pt x="129" y="37"/>
                    </a:cubicBezTo>
                    <a:cubicBezTo>
                      <a:pt x="123" y="31"/>
                      <a:pt x="129" y="27"/>
                      <a:pt x="129" y="27"/>
                    </a:cubicBezTo>
                    <a:cubicBezTo>
                      <a:pt x="129" y="27"/>
                      <a:pt x="148" y="9"/>
                      <a:pt x="149" y="8"/>
                    </a:cubicBezTo>
                    <a:cubicBezTo>
                      <a:pt x="153" y="5"/>
                      <a:pt x="151" y="3"/>
                      <a:pt x="149" y="2"/>
                    </a:cubicBezTo>
                    <a:cubicBezTo>
                      <a:pt x="146" y="0"/>
                      <a:pt x="126" y="8"/>
                      <a:pt x="126" y="8"/>
                    </a:cubicBezTo>
                    <a:cubicBezTo>
                      <a:pt x="119" y="10"/>
                      <a:pt x="108" y="19"/>
                      <a:pt x="107" y="20"/>
                    </a:cubicBezTo>
                    <a:cubicBezTo>
                      <a:pt x="98" y="29"/>
                      <a:pt x="99" y="58"/>
                      <a:pt x="99" y="61"/>
                    </a:cubicBezTo>
                    <a:cubicBezTo>
                      <a:pt x="99" y="69"/>
                      <a:pt x="95" y="75"/>
                      <a:pt x="91" y="79"/>
                    </a:cubicBezTo>
                    <a:cubicBezTo>
                      <a:pt x="87" y="83"/>
                      <a:pt x="13" y="149"/>
                      <a:pt x="7" y="155"/>
                    </a:cubicBezTo>
                    <a:cubicBezTo>
                      <a:pt x="0" y="162"/>
                      <a:pt x="2" y="163"/>
                      <a:pt x="4" y="165"/>
                    </a:cubicBezTo>
                    <a:cubicBezTo>
                      <a:pt x="6" y="167"/>
                      <a:pt x="19" y="182"/>
                      <a:pt x="22" y="183"/>
                    </a:cubicBezTo>
                    <a:cubicBezTo>
                      <a:pt x="24" y="185"/>
                      <a:pt x="25" y="186"/>
                      <a:pt x="31" y="181"/>
                    </a:cubicBezTo>
                    <a:cubicBezTo>
                      <a:pt x="36" y="175"/>
                      <a:pt x="97" y="110"/>
                      <a:pt x="110" y="98"/>
                    </a:cubicBezTo>
                    <a:cubicBezTo>
                      <a:pt x="114" y="94"/>
                      <a:pt x="120" y="90"/>
                      <a:pt x="128" y="91"/>
                    </a:cubicBezTo>
                    <a:cubicBezTo>
                      <a:pt x="130" y="90"/>
                      <a:pt x="159" y="93"/>
                      <a:pt x="169" y="83"/>
                    </a:cubicBezTo>
                    <a:cubicBezTo>
                      <a:pt x="170" y="83"/>
                      <a:pt x="179" y="72"/>
                      <a:pt x="181" y="65"/>
                    </a:cubicBezTo>
                    <a:close/>
                  </a:path>
                </a:pathLst>
              </a:custGeom>
              <a:solidFill>
                <a:srgbClr val="0c4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179"/>
              <p:cNvSpPr/>
              <p:nvPr/>
            </p:nvSpPr>
            <p:spPr>
              <a:xfrm>
                <a:off x="6461640" y="4428000"/>
                <a:ext cx="315000" cy="31968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83" y="65"/>
                    </a:moveTo>
                    <a:cubicBezTo>
                      <a:pt x="83" y="65"/>
                      <a:pt x="92" y="45"/>
                      <a:pt x="89" y="42"/>
                    </a:cubicBezTo>
                    <a:cubicBezTo>
                      <a:pt x="89" y="40"/>
                      <a:pt x="87" y="38"/>
                      <a:pt x="84" y="41"/>
                    </a:cubicBezTo>
                    <a:cubicBezTo>
                      <a:pt x="83" y="42"/>
                      <a:pt x="65" y="62"/>
                      <a:pt x="65" y="62"/>
                    </a:cubicBezTo>
                    <a:cubicBezTo>
                      <a:pt x="65" y="62"/>
                      <a:pt x="61" y="67"/>
                      <a:pt x="55" y="61"/>
                    </a:cubicBezTo>
                    <a:cubicBezTo>
                      <a:pt x="53" y="59"/>
                      <a:pt x="33" y="39"/>
                      <a:pt x="31" y="37"/>
                    </a:cubicBezTo>
                    <a:cubicBezTo>
                      <a:pt x="25" y="31"/>
                      <a:pt x="31" y="27"/>
                      <a:pt x="31" y="27"/>
                    </a:cubicBezTo>
                    <a:cubicBezTo>
                      <a:pt x="31" y="27"/>
                      <a:pt x="50" y="9"/>
                      <a:pt x="51" y="8"/>
                    </a:cubicBezTo>
                    <a:cubicBezTo>
                      <a:pt x="55" y="5"/>
                      <a:pt x="53" y="3"/>
                      <a:pt x="51" y="2"/>
                    </a:cubicBezTo>
                    <a:cubicBezTo>
                      <a:pt x="48" y="0"/>
                      <a:pt x="28" y="8"/>
                      <a:pt x="28" y="8"/>
                    </a:cubicBezTo>
                    <a:cubicBezTo>
                      <a:pt x="21" y="10"/>
                      <a:pt x="10" y="19"/>
                      <a:pt x="9" y="20"/>
                    </a:cubicBezTo>
                    <a:cubicBezTo>
                      <a:pt x="0" y="29"/>
                      <a:pt x="1" y="58"/>
                      <a:pt x="1" y="61"/>
                    </a:cubicBezTo>
                    <a:cubicBezTo>
                      <a:pt x="1" y="69"/>
                      <a:pt x="22" y="90"/>
                      <a:pt x="30" y="91"/>
                    </a:cubicBezTo>
                    <a:cubicBezTo>
                      <a:pt x="32" y="90"/>
                      <a:pt x="61" y="93"/>
                      <a:pt x="71" y="83"/>
                    </a:cubicBezTo>
                    <a:cubicBezTo>
                      <a:pt x="72" y="83"/>
                      <a:pt x="81" y="72"/>
                      <a:pt x="83" y="65"/>
                    </a:cubicBez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3" name="Freeform 178"/>
            <p:cNvSpPr/>
            <p:nvPr/>
          </p:nvSpPr>
          <p:spPr>
            <a:xfrm rot="10632600">
              <a:off x="6497280" y="4076640"/>
              <a:ext cx="651960" cy="640800"/>
            </a:xfrm>
            <a:custGeom>
              <a:avLst/>
              <a:gdLst/>
              <a:ahLst/>
              <a:rect l="l" t="t" r="r" b="b"/>
              <a:pathLst>
                <a:path w="190" h="186">
                  <a:moveTo>
                    <a:pt x="181" y="65"/>
                  </a:moveTo>
                  <a:cubicBezTo>
                    <a:pt x="181" y="65"/>
                    <a:pt x="190" y="45"/>
                    <a:pt x="187" y="42"/>
                  </a:cubicBezTo>
                  <a:cubicBezTo>
                    <a:pt x="187" y="40"/>
                    <a:pt x="185" y="38"/>
                    <a:pt x="182" y="41"/>
                  </a:cubicBezTo>
                  <a:cubicBezTo>
                    <a:pt x="181" y="42"/>
                    <a:pt x="163" y="62"/>
                    <a:pt x="163" y="62"/>
                  </a:cubicBezTo>
                  <a:cubicBezTo>
                    <a:pt x="163" y="62"/>
                    <a:pt x="159" y="67"/>
                    <a:pt x="153" y="61"/>
                  </a:cubicBezTo>
                  <a:cubicBezTo>
                    <a:pt x="151" y="59"/>
                    <a:pt x="131" y="39"/>
                    <a:pt x="129" y="37"/>
                  </a:cubicBezTo>
                  <a:cubicBezTo>
                    <a:pt x="123" y="31"/>
                    <a:pt x="129" y="27"/>
                    <a:pt x="129" y="27"/>
                  </a:cubicBezTo>
                  <a:cubicBezTo>
                    <a:pt x="129" y="27"/>
                    <a:pt x="148" y="9"/>
                    <a:pt x="149" y="8"/>
                  </a:cubicBezTo>
                  <a:cubicBezTo>
                    <a:pt x="153" y="5"/>
                    <a:pt x="151" y="3"/>
                    <a:pt x="149" y="2"/>
                  </a:cubicBezTo>
                  <a:cubicBezTo>
                    <a:pt x="146" y="0"/>
                    <a:pt x="126" y="8"/>
                    <a:pt x="126" y="8"/>
                  </a:cubicBezTo>
                  <a:cubicBezTo>
                    <a:pt x="119" y="10"/>
                    <a:pt x="108" y="19"/>
                    <a:pt x="107" y="20"/>
                  </a:cubicBezTo>
                  <a:cubicBezTo>
                    <a:pt x="98" y="29"/>
                    <a:pt x="99" y="58"/>
                    <a:pt x="99" y="61"/>
                  </a:cubicBezTo>
                  <a:cubicBezTo>
                    <a:pt x="99" y="69"/>
                    <a:pt x="95" y="75"/>
                    <a:pt x="91" y="79"/>
                  </a:cubicBezTo>
                  <a:cubicBezTo>
                    <a:pt x="87" y="83"/>
                    <a:pt x="13" y="149"/>
                    <a:pt x="7" y="155"/>
                  </a:cubicBezTo>
                  <a:cubicBezTo>
                    <a:pt x="0" y="162"/>
                    <a:pt x="2" y="163"/>
                    <a:pt x="4" y="165"/>
                  </a:cubicBezTo>
                  <a:cubicBezTo>
                    <a:pt x="6" y="167"/>
                    <a:pt x="19" y="182"/>
                    <a:pt x="22" y="183"/>
                  </a:cubicBezTo>
                  <a:cubicBezTo>
                    <a:pt x="24" y="185"/>
                    <a:pt x="25" y="186"/>
                    <a:pt x="31" y="181"/>
                  </a:cubicBezTo>
                  <a:cubicBezTo>
                    <a:pt x="36" y="175"/>
                    <a:pt x="97" y="110"/>
                    <a:pt x="110" y="98"/>
                  </a:cubicBezTo>
                  <a:cubicBezTo>
                    <a:pt x="114" y="94"/>
                    <a:pt x="120" y="90"/>
                    <a:pt x="128" y="91"/>
                  </a:cubicBezTo>
                  <a:cubicBezTo>
                    <a:pt x="130" y="90"/>
                    <a:pt x="159" y="93"/>
                    <a:pt x="169" y="83"/>
                  </a:cubicBezTo>
                  <a:cubicBezTo>
                    <a:pt x="170" y="83"/>
                    <a:pt x="179" y="72"/>
                    <a:pt x="181" y="65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4" dur="3000" fill="hold"/>
                                        <p:tgtEl>
                                          <p:spTgt spid="2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6" dur="110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8" dur="325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0" dur="325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2" dur="325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44" dur="325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2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1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evt="end">
                                        <p:tn val="1045"/>
                                      </p:cond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4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050" dur="500" fill="hold"/>
                                        <p:tgtEl>
                                          <p:spTgt spid="2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矩形 302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4c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文本框 309"/>
          <p:cNvSpPr/>
          <p:nvPr/>
        </p:nvSpPr>
        <p:spPr>
          <a:xfrm>
            <a:off x="1125360" y="976320"/>
            <a:ext cx="1654200" cy="407880"/>
          </a:xfrm>
          <a:custGeom>
            <a:avLst/>
            <a:gdLst/>
            <a:ahLst/>
            <a:rect l="l" t="t" r="r" b="b"/>
            <a:pathLst>
              <a:path w="1654262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72270" y="17748"/>
                </a:moveTo>
                <a:lnTo>
                  <a:pt x="1429457" y="17748"/>
                </a:lnTo>
                <a:lnTo>
                  <a:pt x="1429457" y="220861"/>
                </a:lnTo>
                <a:lnTo>
                  <a:pt x="1601018" y="220861"/>
                </a:lnTo>
                <a:lnTo>
                  <a:pt x="1601018" y="17748"/>
                </a:lnTo>
                <a:lnTo>
                  <a:pt x="1654262" y="17748"/>
                </a:lnTo>
                <a:lnTo>
                  <a:pt x="1654262" y="384535"/>
                </a:lnTo>
                <a:lnTo>
                  <a:pt x="1601018" y="384535"/>
                </a:lnTo>
                <a:lnTo>
                  <a:pt x="1601018" y="270161"/>
                </a:lnTo>
                <a:lnTo>
                  <a:pt x="1372270" y="27016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AutoShape 3"/>
          <p:cNvSpPr/>
          <p:nvPr/>
        </p:nvSpPr>
        <p:spPr>
          <a:xfrm>
            <a:off x="4998960" y="2011320"/>
            <a:ext cx="70675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7" name="组合 308"/>
          <p:cNvGrpSpPr/>
          <p:nvPr/>
        </p:nvGrpSpPr>
        <p:grpSpPr>
          <a:xfrm>
            <a:off x="5618160" y="1981080"/>
            <a:ext cx="6448320" cy="4211640"/>
            <a:chOff x="5618160" y="1981080"/>
            <a:chExt cx="6448320" cy="4211640"/>
          </a:xfrm>
        </p:grpSpPr>
        <p:sp>
          <p:nvSpPr>
            <p:cNvPr id="2898" name="Rectangle 5">
              <a:hlinkClick r:id="rId2"/>
            </p:cNvPr>
            <p:cNvSpPr/>
            <p:nvPr/>
          </p:nvSpPr>
          <p:spPr>
            <a:xfrm>
              <a:off x="9207360" y="4138560"/>
              <a:ext cx="1191960" cy="55692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9" name="Freeform 6"/>
            <p:cNvSpPr/>
            <p:nvPr/>
          </p:nvSpPr>
          <p:spPr>
            <a:xfrm>
              <a:off x="9207360" y="4208400"/>
              <a:ext cx="33948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7"/>
                  </a:moveTo>
                  <a:cubicBezTo>
                    <a:pt x="80" y="7"/>
                    <a:pt x="99" y="7"/>
                    <a:pt x="116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3"/>
                    <a:pt x="116" y="2"/>
                  </a:cubicBezTo>
                  <a:cubicBezTo>
                    <a:pt x="99" y="1"/>
                    <a:pt x="80" y="1"/>
                    <a:pt x="59" y="1"/>
                  </a:cubicBezTo>
                  <a:cubicBezTo>
                    <a:pt x="48" y="1"/>
                    <a:pt x="38" y="0"/>
                    <a:pt x="27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7" y="8"/>
                  </a:cubicBezTo>
                  <a:cubicBezTo>
                    <a:pt x="38" y="8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0" name="Freeform 7"/>
            <p:cNvSpPr/>
            <p:nvPr/>
          </p:nvSpPr>
          <p:spPr>
            <a:xfrm>
              <a:off x="9207360" y="4457520"/>
              <a:ext cx="496800" cy="14040"/>
            </a:xfrm>
            <a:custGeom>
              <a:avLst/>
              <a:gdLst/>
              <a:ahLst/>
              <a:rect l="l" t="t" r="r" b="b"/>
              <a:pathLst>
                <a:path w="251" h="7">
                  <a:moveTo>
                    <a:pt x="74" y="7"/>
                  </a:moveTo>
                  <a:cubicBezTo>
                    <a:pt x="88" y="7"/>
                    <a:pt x="101" y="7"/>
                    <a:pt x="114" y="7"/>
                  </a:cubicBezTo>
                  <a:cubicBezTo>
                    <a:pt x="139" y="7"/>
                    <a:pt x="163" y="6"/>
                    <a:pt x="183" y="6"/>
                  </a:cubicBezTo>
                  <a:cubicBezTo>
                    <a:pt x="204" y="5"/>
                    <a:pt x="221" y="5"/>
                    <a:pt x="233" y="4"/>
                  </a:cubicBezTo>
                  <a:cubicBezTo>
                    <a:pt x="239" y="4"/>
                    <a:pt x="243" y="4"/>
                    <a:pt x="246" y="4"/>
                  </a:cubicBezTo>
                  <a:cubicBezTo>
                    <a:pt x="250" y="4"/>
                    <a:pt x="251" y="4"/>
                    <a:pt x="251" y="4"/>
                  </a:cubicBezTo>
                  <a:cubicBezTo>
                    <a:pt x="251" y="4"/>
                    <a:pt x="250" y="3"/>
                    <a:pt x="246" y="3"/>
                  </a:cubicBezTo>
                  <a:cubicBezTo>
                    <a:pt x="243" y="3"/>
                    <a:pt x="239" y="3"/>
                    <a:pt x="233" y="3"/>
                  </a:cubicBezTo>
                  <a:cubicBezTo>
                    <a:pt x="221" y="2"/>
                    <a:pt x="204" y="2"/>
                    <a:pt x="183" y="1"/>
                  </a:cubicBezTo>
                  <a:cubicBezTo>
                    <a:pt x="163" y="1"/>
                    <a:pt x="139" y="0"/>
                    <a:pt x="114" y="0"/>
                  </a:cubicBezTo>
                  <a:cubicBezTo>
                    <a:pt x="101" y="0"/>
                    <a:pt x="88" y="0"/>
                    <a:pt x="74" y="0"/>
                  </a:cubicBezTo>
                  <a:cubicBezTo>
                    <a:pt x="61" y="0"/>
                    <a:pt x="47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4" y="7"/>
                  </a:cubicBezTo>
                  <a:cubicBezTo>
                    <a:pt x="47" y="7"/>
                    <a:pt x="61" y="7"/>
                    <a:pt x="74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1" name="Freeform 8"/>
            <p:cNvSpPr/>
            <p:nvPr/>
          </p:nvSpPr>
          <p:spPr>
            <a:xfrm>
              <a:off x="9207360" y="4556160"/>
              <a:ext cx="33948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80" y="7"/>
                    <a:pt x="99" y="6"/>
                    <a:pt x="116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6" y="2"/>
                  </a:cubicBezTo>
                  <a:cubicBezTo>
                    <a:pt x="99" y="1"/>
                    <a:pt x="80" y="1"/>
                    <a:pt x="59" y="0"/>
                  </a:cubicBezTo>
                  <a:cubicBezTo>
                    <a:pt x="48" y="0"/>
                    <a:pt x="38" y="0"/>
                    <a:pt x="27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7" y="7"/>
                  </a:cubicBezTo>
                  <a:cubicBezTo>
                    <a:pt x="38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2" name="Freeform 9"/>
            <p:cNvSpPr/>
            <p:nvPr/>
          </p:nvSpPr>
          <p:spPr>
            <a:xfrm>
              <a:off x="9993240" y="4616280"/>
              <a:ext cx="406080" cy="15840"/>
            </a:xfrm>
            <a:custGeom>
              <a:avLst/>
              <a:gdLst/>
              <a:ahLst/>
              <a:rect l="l" t="t" r="r" b="b"/>
              <a:pathLst>
                <a:path w="205" h="8">
                  <a:moveTo>
                    <a:pt x="160" y="0"/>
                  </a:moveTo>
                  <a:cubicBezTo>
                    <a:pt x="148" y="0"/>
                    <a:pt x="136" y="0"/>
                    <a:pt x="124" y="0"/>
                  </a:cubicBezTo>
                  <a:cubicBezTo>
                    <a:pt x="113" y="1"/>
                    <a:pt x="102" y="1"/>
                    <a:pt x="91" y="1"/>
                  </a:cubicBezTo>
                  <a:cubicBezTo>
                    <a:pt x="80" y="1"/>
                    <a:pt x="70" y="1"/>
                    <a:pt x="61" y="2"/>
                  </a:cubicBezTo>
                  <a:cubicBezTo>
                    <a:pt x="43" y="2"/>
                    <a:pt x="27" y="3"/>
                    <a:pt x="16" y="3"/>
                  </a:cubicBezTo>
                  <a:cubicBezTo>
                    <a:pt x="11" y="3"/>
                    <a:pt x="7" y="3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1" y="4"/>
                    <a:pt x="16" y="5"/>
                  </a:cubicBezTo>
                  <a:cubicBezTo>
                    <a:pt x="27" y="5"/>
                    <a:pt x="43" y="6"/>
                    <a:pt x="61" y="6"/>
                  </a:cubicBezTo>
                  <a:cubicBezTo>
                    <a:pt x="70" y="6"/>
                    <a:pt x="80" y="6"/>
                    <a:pt x="91" y="7"/>
                  </a:cubicBezTo>
                  <a:cubicBezTo>
                    <a:pt x="102" y="7"/>
                    <a:pt x="113" y="7"/>
                    <a:pt x="124" y="7"/>
                  </a:cubicBezTo>
                  <a:cubicBezTo>
                    <a:pt x="136" y="7"/>
                    <a:pt x="148" y="7"/>
                    <a:pt x="160" y="7"/>
                  </a:cubicBezTo>
                  <a:cubicBezTo>
                    <a:pt x="172" y="7"/>
                    <a:pt x="184" y="8"/>
                    <a:pt x="197" y="8"/>
                  </a:cubicBezTo>
                  <a:cubicBezTo>
                    <a:pt x="200" y="8"/>
                    <a:pt x="202" y="8"/>
                    <a:pt x="205" y="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02" y="0"/>
                    <a:pt x="200" y="0"/>
                    <a:pt x="197" y="0"/>
                  </a:cubicBezTo>
                  <a:cubicBezTo>
                    <a:pt x="184" y="0"/>
                    <a:pt x="172" y="0"/>
                    <a:pt x="160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3" name="Freeform 10"/>
            <p:cNvSpPr/>
            <p:nvPr/>
          </p:nvSpPr>
          <p:spPr>
            <a:xfrm>
              <a:off x="9947160" y="4516200"/>
              <a:ext cx="452160" cy="1404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20" y="0"/>
                    <a:pt x="108" y="1"/>
                    <a:pt x="97" y="1"/>
                  </a:cubicBezTo>
                  <a:cubicBezTo>
                    <a:pt x="85" y="1"/>
                    <a:pt x="75" y="1"/>
                    <a:pt x="65" y="1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5" y="4"/>
                  </a:cubicBezTo>
                  <a:cubicBezTo>
                    <a:pt x="8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7" y="6"/>
                  </a:cubicBezTo>
                  <a:cubicBezTo>
                    <a:pt x="108" y="7"/>
                    <a:pt x="120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2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2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4" name="Freeform 11"/>
            <p:cNvSpPr/>
            <p:nvPr/>
          </p:nvSpPr>
          <p:spPr>
            <a:xfrm>
              <a:off x="9825120" y="4368600"/>
              <a:ext cx="5745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0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4" y="2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4" y="4"/>
                    <a:pt x="52" y="5"/>
                    <a:pt x="75" y="5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6"/>
                    <a:pt x="137" y="6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5" name="Freeform 12"/>
            <p:cNvSpPr/>
            <p:nvPr/>
          </p:nvSpPr>
          <p:spPr>
            <a:xfrm>
              <a:off x="10158480" y="4168800"/>
              <a:ext cx="241200" cy="15840"/>
            </a:xfrm>
            <a:custGeom>
              <a:avLst/>
              <a:gdLst/>
              <a:ahLst/>
              <a:rect l="l" t="t" r="r" b="b"/>
              <a:pathLst>
                <a:path w="122" h="8">
                  <a:moveTo>
                    <a:pt x="72" y="1"/>
                  </a:moveTo>
                  <a:cubicBezTo>
                    <a:pt x="64" y="1"/>
                    <a:pt x="56" y="2"/>
                    <a:pt x="48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6" y="6"/>
                    <a:pt x="64" y="7"/>
                    <a:pt x="72" y="7"/>
                  </a:cubicBezTo>
                  <a:cubicBezTo>
                    <a:pt x="80" y="7"/>
                    <a:pt x="89" y="7"/>
                    <a:pt x="98" y="7"/>
                  </a:cubicBezTo>
                  <a:cubicBezTo>
                    <a:pt x="106" y="7"/>
                    <a:pt x="114" y="8"/>
                    <a:pt x="122" y="8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1"/>
                    <a:pt x="98" y="1"/>
                  </a:cubicBezTo>
                  <a:cubicBezTo>
                    <a:pt x="89" y="1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6" name="Rectangle 13"/>
            <p:cNvSpPr/>
            <p:nvPr/>
          </p:nvSpPr>
          <p:spPr>
            <a:xfrm>
              <a:off x="9239040" y="3300120"/>
              <a:ext cx="1190520" cy="83808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7" name="Freeform 14"/>
            <p:cNvSpPr/>
            <p:nvPr/>
          </p:nvSpPr>
          <p:spPr>
            <a:xfrm>
              <a:off x="9239040" y="3485880"/>
              <a:ext cx="141120" cy="10800"/>
            </a:xfrm>
            <a:custGeom>
              <a:avLst/>
              <a:gdLst/>
              <a:ahLst/>
              <a:rect l="l" t="t" r="r" b="b"/>
              <a:pathLst>
                <a:path w="71" h="6">
                  <a:moveTo>
                    <a:pt x="71" y="3"/>
                  </a:moveTo>
                  <a:cubicBezTo>
                    <a:pt x="71" y="3"/>
                    <a:pt x="55" y="1"/>
                    <a:pt x="31" y="1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1" y="6"/>
                    <a:pt x="22" y="5"/>
                    <a:pt x="31" y="5"/>
                  </a:cubicBezTo>
                  <a:cubicBezTo>
                    <a:pt x="55" y="4"/>
                    <a:pt x="71" y="3"/>
                    <a:pt x="71" y="3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8" name="Freeform 15"/>
            <p:cNvSpPr/>
            <p:nvPr/>
          </p:nvSpPr>
          <p:spPr>
            <a:xfrm>
              <a:off x="9239040" y="358272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9" y="7"/>
                    <a:pt x="109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9" y="1"/>
                    <a:pt x="89" y="1"/>
                    <a:pt x="67" y="1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3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3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9" name="Freeform 16"/>
            <p:cNvSpPr/>
            <p:nvPr/>
          </p:nvSpPr>
          <p:spPr>
            <a:xfrm>
              <a:off x="9239040" y="3781440"/>
              <a:ext cx="65376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8"/>
                    <a:pt x="121" y="8"/>
                  </a:cubicBezTo>
                  <a:cubicBezTo>
                    <a:pt x="137" y="8"/>
                    <a:pt x="152" y="8"/>
                    <a:pt x="167" y="8"/>
                  </a:cubicBezTo>
                  <a:cubicBezTo>
                    <a:pt x="197" y="7"/>
                    <a:pt x="226" y="7"/>
                    <a:pt x="250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5"/>
                    <a:pt x="320" y="5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4"/>
                    <a:pt x="315" y="4"/>
                    <a:pt x="308" y="4"/>
                  </a:cubicBezTo>
                  <a:cubicBezTo>
                    <a:pt x="294" y="3"/>
                    <a:pt x="274" y="3"/>
                    <a:pt x="250" y="2"/>
                  </a:cubicBezTo>
                  <a:cubicBezTo>
                    <a:pt x="226" y="2"/>
                    <a:pt x="197" y="1"/>
                    <a:pt x="167" y="1"/>
                  </a:cubicBezTo>
                  <a:cubicBezTo>
                    <a:pt x="152" y="1"/>
                    <a:pt x="137" y="1"/>
                    <a:pt x="121" y="1"/>
                  </a:cubicBezTo>
                  <a:cubicBezTo>
                    <a:pt x="105" y="1"/>
                    <a:pt x="89" y="1"/>
                    <a:pt x="73" y="0"/>
                  </a:cubicBezTo>
                  <a:cubicBezTo>
                    <a:pt x="57" y="1"/>
                    <a:pt x="41" y="1"/>
                    <a:pt x="25" y="1"/>
                  </a:cubicBezTo>
                  <a:cubicBezTo>
                    <a:pt x="16" y="1"/>
                    <a:pt x="8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8"/>
                    <a:pt x="16" y="8"/>
                    <a:pt x="25" y="8"/>
                  </a:cubicBezTo>
                  <a:cubicBezTo>
                    <a:pt x="41" y="8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0" name="Freeform 17"/>
            <p:cNvSpPr/>
            <p:nvPr/>
          </p:nvSpPr>
          <p:spPr>
            <a:xfrm>
              <a:off x="9239040" y="3979800"/>
              <a:ext cx="527040" cy="14040"/>
            </a:xfrm>
            <a:custGeom>
              <a:avLst/>
              <a:gdLst/>
              <a:ahLst/>
              <a:rect l="l" t="t" r="r" b="b"/>
              <a:pathLst>
                <a:path w="266" h="7">
                  <a:moveTo>
                    <a:pt x="83" y="7"/>
                  </a:moveTo>
                  <a:cubicBezTo>
                    <a:pt x="97" y="7"/>
                    <a:pt x="111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5"/>
                    <a:pt x="235" y="5"/>
                    <a:pt x="247" y="4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3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3"/>
                    <a:pt x="217" y="2"/>
                    <a:pt x="196" y="1"/>
                  </a:cubicBezTo>
                  <a:cubicBezTo>
                    <a:pt x="175" y="1"/>
                    <a:pt x="150" y="1"/>
                    <a:pt x="124" y="0"/>
                  </a:cubicBezTo>
                  <a:cubicBezTo>
                    <a:pt x="111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4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4" y="7"/>
                    <a:pt x="27" y="7"/>
                    <a:pt x="41" y="7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1" name="Freeform 18"/>
            <p:cNvSpPr/>
            <p:nvPr/>
          </p:nvSpPr>
          <p:spPr>
            <a:xfrm>
              <a:off x="9239040" y="4059000"/>
              <a:ext cx="280800" cy="1404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7"/>
                    <a:pt x="76" y="6"/>
                    <a:pt x="91" y="6"/>
                  </a:cubicBezTo>
                  <a:cubicBezTo>
                    <a:pt x="122" y="5"/>
                    <a:pt x="142" y="4"/>
                    <a:pt x="142" y="4"/>
                  </a:cubicBezTo>
                  <a:cubicBezTo>
                    <a:pt x="142" y="4"/>
                    <a:pt x="122" y="2"/>
                    <a:pt x="91" y="2"/>
                  </a:cubicBezTo>
                  <a:cubicBezTo>
                    <a:pt x="76" y="1"/>
                    <a:pt x="58" y="1"/>
                    <a:pt x="39" y="0"/>
                  </a:cubicBezTo>
                  <a:cubicBezTo>
                    <a:pt x="29" y="0"/>
                    <a:pt x="20" y="0"/>
                    <a:pt x="10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10" y="7"/>
                  </a:cubicBezTo>
                  <a:cubicBezTo>
                    <a:pt x="20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2" name="Freeform 19"/>
            <p:cNvSpPr/>
            <p:nvPr/>
          </p:nvSpPr>
          <p:spPr>
            <a:xfrm>
              <a:off x="9978840" y="372096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1"/>
                  </a:moveTo>
                  <a:cubicBezTo>
                    <a:pt x="157" y="1"/>
                    <a:pt x="144" y="1"/>
                    <a:pt x="132" y="1"/>
                  </a:cubicBezTo>
                  <a:cubicBezTo>
                    <a:pt x="120" y="1"/>
                    <a:pt x="108" y="1"/>
                    <a:pt x="97" y="1"/>
                  </a:cubicBezTo>
                  <a:cubicBezTo>
                    <a:pt x="85" y="2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4"/>
                    <a:pt x="8" y="4"/>
                    <a:pt x="5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5" y="4"/>
                  </a:cubicBezTo>
                  <a:cubicBezTo>
                    <a:pt x="8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6"/>
                    <a:pt x="85" y="7"/>
                    <a:pt x="97" y="7"/>
                  </a:cubicBezTo>
                  <a:cubicBezTo>
                    <a:pt x="108" y="7"/>
                    <a:pt x="120" y="7"/>
                    <a:pt x="132" y="7"/>
                  </a:cubicBezTo>
                  <a:cubicBezTo>
                    <a:pt x="144" y="8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2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2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3" name="Freeform 20"/>
            <p:cNvSpPr/>
            <p:nvPr/>
          </p:nvSpPr>
          <p:spPr>
            <a:xfrm>
              <a:off x="10177560" y="3970080"/>
              <a:ext cx="252360" cy="14040"/>
            </a:xfrm>
            <a:custGeom>
              <a:avLst/>
              <a:gdLst/>
              <a:ahLst/>
              <a:rect l="l" t="t" r="r" b="b"/>
              <a:pathLst>
                <a:path w="128" h="7">
                  <a:moveTo>
                    <a:pt x="73" y="1"/>
                  </a:moveTo>
                  <a:cubicBezTo>
                    <a:pt x="65" y="1"/>
                    <a:pt x="57" y="1"/>
                    <a:pt x="49" y="1"/>
                  </a:cubicBezTo>
                  <a:cubicBezTo>
                    <a:pt x="19" y="2"/>
                    <a:pt x="0" y="4"/>
                    <a:pt x="0" y="4"/>
                  </a:cubicBezTo>
                  <a:cubicBezTo>
                    <a:pt x="0" y="4"/>
                    <a:pt x="19" y="5"/>
                    <a:pt x="49" y="6"/>
                  </a:cubicBezTo>
                  <a:cubicBezTo>
                    <a:pt x="57" y="6"/>
                    <a:pt x="65" y="6"/>
                    <a:pt x="73" y="6"/>
                  </a:cubicBezTo>
                  <a:cubicBezTo>
                    <a:pt x="82" y="7"/>
                    <a:pt x="91" y="7"/>
                    <a:pt x="100" y="7"/>
                  </a:cubicBezTo>
                  <a:cubicBezTo>
                    <a:pt x="109" y="7"/>
                    <a:pt x="119" y="7"/>
                    <a:pt x="128" y="7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19" y="0"/>
                    <a:pt x="109" y="0"/>
                    <a:pt x="100" y="0"/>
                  </a:cubicBezTo>
                  <a:cubicBezTo>
                    <a:pt x="91" y="0"/>
                    <a:pt x="82" y="1"/>
                    <a:pt x="73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4" name="Freeform 21"/>
            <p:cNvSpPr/>
            <p:nvPr/>
          </p:nvSpPr>
          <p:spPr>
            <a:xfrm>
              <a:off x="10207800" y="3622680"/>
              <a:ext cx="22212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2"/>
                    <a:pt x="47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7" y="6"/>
                  </a:cubicBezTo>
                  <a:cubicBezTo>
                    <a:pt x="54" y="6"/>
                    <a:pt x="62" y="7"/>
                    <a:pt x="70" y="7"/>
                  </a:cubicBezTo>
                  <a:cubicBezTo>
                    <a:pt x="78" y="7"/>
                    <a:pt x="87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1"/>
                    <a:pt x="95" y="1"/>
                  </a:cubicBezTo>
                  <a:cubicBezTo>
                    <a:pt x="87" y="1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5" name="Freeform 22"/>
            <p:cNvSpPr/>
            <p:nvPr/>
          </p:nvSpPr>
          <p:spPr>
            <a:xfrm>
              <a:off x="9834480" y="342396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0"/>
                    <a:pt x="169" y="0"/>
                    <a:pt x="155" y="0"/>
                  </a:cubicBezTo>
                  <a:cubicBezTo>
                    <a:pt x="141" y="0"/>
                    <a:pt x="127" y="1"/>
                    <a:pt x="114" y="1"/>
                  </a:cubicBezTo>
                  <a:cubicBezTo>
                    <a:pt x="101" y="1"/>
                    <a:pt x="88" y="1"/>
                    <a:pt x="77" y="1"/>
                  </a:cubicBezTo>
                  <a:cubicBezTo>
                    <a:pt x="54" y="2"/>
                    <a:pt x="34" y="3"/>
                    <a:pt x="21" y="3"/>
                  </a:cubicBezTo>
                  <a:cubicBezTo>
                    <a:pt x="14" y="3"/>
                    <a:pt x="9" y="3"/>
                    <a:pt x="6" y="3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6" y="4"/>
                  </a:cubicBezTo>
                  <a:cubicBezTo>
                    <a:pt x="9" y="4"/>
                    <a:pt x="14" y="4"/>
                    <a:pt x="21" y="4"/>
                  </a:cubicBezTo>
                  <a:cubicBezTo>
                    <a:pt x="34" y="5"/>
                    <a:pt x="54" y="5"/>
                    <a:pt x="77" y="6"/>
                  </a:cubicBezTo>
                  <a:cubicBezTo>
                    <a:pt x="88" y="6"/>
                    <a:pt x="101" y="6"/>
                    <a:pt x="114" y="6"/>
                  </a:cubicBezTo>
                  <a:cubicBezTo>
                    <a:pt x="127" y="7"/>
                    <a:pt x="141" y="7"/>
                    <a:pt x="155" y="7"/>
                  </a:cubicBezTo>
                  <a:cubicBezTo>
                    <a:pt x="169" y="7"/>
                    <a:pt x="184" y="7"/>
                    <a:pt x="199" y="7"/>
                  </a:cubicBezTo>
                  <a:cubicBezTo>
                    <a:pt x="214" y="7"/>
                    <a:pt x="230" y="7"/>
                    <a:pt x="245" y="7"/>
                  </a:cubicBezTo>
                  <a:cubicBezTo>
                    <a:pt x="260" y="7"/>
                    <a:pt x="276" y="7"/>
                    <a:pt x="291" y="7"/>
                  </a:cubicBezTo>
                  <a:cubicBezTo>
                    <a:pt x="294" y="7"/>
                    <a:pt x="298" y="7"/>
                    <a:pt x="301" y="7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298" y="0"/>
                    <a:pt x="294" y="0"/>
                    <a:pt x="291" y="0"/>
                  </a:cubicBezTo>
                  <a:cubicBezTo>
                    <a:pt x="276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6" name="Freeform 23"/>
            <p:cNvSpPr/>
            <p:nvPr/>
          </p:nvSpPr>
          <p:spPr>
            <a:xfrm>
              <a:off x="10024920" y="3344760"/>
              <a:ext cx="404640" cy="1404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160" y="0"/>
                  </a:moveTo>
                  <a:cubicBezTo>
                    <a:pt x="148" y="0"/>
                    <a:pt x="136" y="0"/>
                    <a:pt x="124" y="0"/>
                  </a:cubicBezTo>
                  <a:cubicBezTo>
                    <a:pt x="113" y="0"/>
                    <a:pt x="102" y="0"/>
                    <a:pt x="91" y="1"/>
                  </a:cubicBezTo>
                  <a:cubicBezTo>
                    <a:pt x="80" y="1"/>
                    <a:pt x="70" y="1"/>
                    <a:pt x="61" y="1"/>
                  </a:cubicBezTo>
                  <a:cubicBezTo>
                    <a:pt x="43" y="2"/>
                    <a:pt x="27" y="2"/>
                    <a:pt x="16" y="3"/>
                  </a:cubicBezTo>
                  <a:cubicBezTo>
                    <a:pt x="11" y="3"/>
                    <a:pt x="7" y="3"/>
                    <a:pt x="4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4" y="4"/>
                  </a:cubicBezTo>
                  <a:cubicBezTo>
                    <a:pt x="7" y="4"/>
                    <a:pt x="11" y="4"/>
                    <a:pt x="16" y="4"/>
                  </a:cubicBezTo>
                  <a:cubicBezTo>
                    <a:pt x="27" y="4"/>
                    <a:pt x="43" y="5"/>
                    <a:pt x="61" y="6"/>
                  </a:cubicBezTo>
                  <a:cubicBezTo>
                    <a:pt x="70" y="6"/>
                    <a:pt x="80" y="6"/>
                    <a:pt x="91" y="6"/>
                  </a:cubicBezTo>
                  <a:cubicBezTo>
                    <a:pt x="102" y="6"/>
                    <a:pt x="113" y="7"/>
                    <a:pt x="124" y="7"/>
                  </a:cubicBezTo>
                  <a:cubicBezTo>
                    <a:pt x="136" y="7"/>
                    <a:pt x="148" y="7"/>
                    <a:pt x="160" y="7"/>
                  </a:cubicBezTo>
                  <a:cubicBezTo>
                    <a:pt x="172" y="7"/>
                    <a:pt x="184" y="7"/>
                    <a:pt x="197" y="7"/>
                  </a:cubicBezTo>
                  <a:cubicBezTo>
                    <a:pt x="200" y="7"/>
                    <a:pt x="202" y="7"/>
                    <a:pt x="205" y="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02" y="0"/>
                    <a:pt x="200" y="0"/>
                    <a:pt x="197" y="0"/>
                  </a:cubicBezTo>
                  <a:cubicBezTo>
                    <a:pt x="184" y="0"/>
                    <a:pt x="172" y="0"/>
                    <a:pt x="160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7" name="Rectangle 24">
              <a:hlinkClick r:id="rId3"/>
            </p:cNvPr>
            <p:cNvSpPr/>
            <p:nvPr/>
          </p:nvSpPr>
          <p:spPr>
            <a:xfrm>
              <a:off x="9263160" y="2211120"/>
              <a:ext cx="1190520" cy="108900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8" name="Freeform 25"/>
            <p:cNvSpPr/>
            <p:nvPr/>
          </p:nvSpPr>
          <p:spPr>
            <a:xfrm>
              <a:off x="9263160" y="2266560"/>
              <a:ext cx="512640" cy="15840"/>
            </a:xfrm>
            <a:custGeom>
              <a:avLst/>
              <a:gdLst/>
              <a:ahLst/>
              <a:rect l="l" t="t" r="r" b="b"/>
              <a:pathLst>
                <a:path w="259" h="8">
                  <a:moveTo>
                    <a:pt x="79" y="8"/>
                  </a:moveTo>
                  <a:cubicBezTo>
                    <a:pt x="92" y="8"/>
                    <a:pt x="106" y="7"/>
                    <a:pt x="119" y="7"/>
                  </a:cubicBezTo>
                  <a:cubicBezTo>
                    <a:pt x="145" y="7"/>
                    <a:pt x="169" y="7"/>
                    <a:pt x="190" y="6"/>
                  </a:cubicBezTo>
                  <a:cubicBezTo>
                    <a:pt x="210" y="6"/>
                    <a:pt x="228" y="5"/>
                    <a:pt x="240" y="5"/>
                  </a:cubicBezTo>
                  <a:cubicBezTo>
                    <a:pt x="246" y="4"/>
                    <a:pt x="251" y="4"/>
                    <a:pt x="254" y="4"/>
                  </a:cubicBezTo>
                  <a:cubicBezTo>
                    <a:pt x="257" y="4"/>
                    <a:pt x="259" y="4"/>
                    <a:pt x="259" y="4"/>
                  </a:cubicBezTo>
                  <a:cubicBezTo>
                    <a:pt x="259" y="4"/>
                    <a:pt x="257" y="4"/>
                    <a:pt x="254" y="4"/>
                  </a:cubicBezTo>
                  <a:cubicBezTo>
                    <a:pt x="251" y="4"/>
                    <a:pt x="246" y="3"/>
                    <a:pt x="240" y="3"/>
                  </a:cubicBezTo>
                  <a:cubicBezTo>
                    <a:pt x="228" y="3"/>
                    <a:pt x="210" y="2"/>
                    <a:pt x="190" y="2"/>
                  </a:cubicBezTo>
                  <a:cubicBezTo>
                    <a:pt x="169" y="1"/>
                    <a:pt x="145" y="1"/>
                    <a:pt x="119" y="1"/>
                  </a:cubicBezTo>
                  <a:cubicBezTo>
                    <a:pt x="106" y="1"/>
                    <a:pt x="92" y="0"/>
                    <a:pt x="79" y="0"/>
                  </a:cubicBezTo>
                  <a:cubicBezTo>
                    <a:pt x="65" y="0"/>
                    <a:pt x="51" y="0"/>
                    <a:pt x="37" y="0"/>
                  </a:cubicBezTo>
                  <a:cubicBezTo>
                    <a:pt x="25" y="0"/>
                    <a:pt x="12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2" y="8"/>
                    <a:pt x="25" y="8"/>
                    <a:pt x="37" y="8"/>
                  </a:cubicBezTo>
                  <a:cubicBezTo>
                    <a:pt x="51" y="8"/>
                    <a:pt x="65" y="8"/>
                    <a:pt x="79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9" name="Freeform 26"/>
            <p:cNvSpPr/>
            <p:nvPr/>
          </p:nvSpPr>
          <p:spPr>
            <a:xfrm>
              <a:off x="9263160" y="238104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58" y="7"/>
                  </a:moveTo>
                  <a:cubicBezTo>
                    <a:pt x="74" y="7"/>
                    <a:pt x="89" y="7"/>
                    <a:pt x="104" y="7"/>
                  </a:cubicBezTo>
                  <a:cubicBezTo>
                    <a:pt x="119" y="7"/>
                    <a:pt x="133" y="7"/>
                    <a:pt x="147" y="7"/>
                  </a:cubicBezTo>
                  <a:cubicBezTo>
                    <a:pt x="176" y="7"/>
                    <a:pt x="202" y="6"/>
                    <a:pt x="225" y="6"/>
                  </a:cubicBezTo>
                  <a:cubicBezTo>
                    <a:pt x="248" y="5"/>
                    <a:pt x="267" y="5"/>
                    <a:pt x="280" y="4"/>
                  </a:cubicBezTo>
                  <a:cubicBezTo>
                    <a:pt x="287" y="4"/>
                    <a:pt x="292" y="4"/>
                    <a:pt x="296" y="4"/>
                  </a:cubicBezTo>
                  <a:cubicBezTo>
                    <a:pt x="299" y="4"/>
                    <a:pt x="301" y="4"/>
                    <a:pt x="301" y="4"/>
                  </a:cubicBezTo>
                  <a:cubicBezTo>
                    <a:pt x="301" y="4"/>
                    <a:pt x="299" y="4"/>
                    <a:pt x="296" y="3"/>
                  </a:cubicBezTo>
                  <a:cubicBezTo>
                    <a:pt x="292" y="3"/>
                    <a:pt x="287" y="3"/>
                    <a:pt x="280" y="3"/>
                  </a:cubicBezTo>
                  <a:cubicBezTo>
                    <a:pt x="267" y="3"/>
                    <a:pt x="248" y="2"/>
                    <a:pt x="225" y="1"/>
                  </a:cubicBezTo>
                  <a:cubicBezTo>
                    <a:pt x="202" y="1"/>
                    <a:pt x="176" y="1"/>
                    <a:pt x="147" y="0"/>
                  </a:cubicBezTo>
                  <a:cubicBezTo>
                    <a:pt x="133" y="0"/>
                    <a:pt x="119" y="0"/>
                    <a:pt x="104" y="0"/>
                  </a:cubicBezTo>
                  <a:cubicBezTo>
                    <a:pt x="89" y="0"/>
                    <a:pt x="74" y="0"/>
                    <a:pt x="58" y="0"/>
                  </a:cubicBezTo>
                  <a:cubicBezTo>
                    <a:pt x="43" y="0"/>
                    <a:pt x="28" y="0"/>
                    <a:pt x="13" y="0"/>
                  </a:cubicBezTo>
                  <a:cubicBezTo>
                    <a:pt x="9" y="0"/>
                    <a:pt x="4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9" y="7"/>
                    <a:pt x="13" y="7"/>
                  </a:cubicBezTo>
                  <a:cubicBezTo>
                    <a:pt x="28" y="7"/>
                    <a:pt x="43" y="7"/>
                    <a:pt x="58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0" name="Freeform 27"/>
            <p:cNvSpPr/>
            <p:nvPr/>
          </p:nvSpPr>
          <p:spPr>
            <a:xfrm>
              <a:off x="9263160" y="257940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9" y="7"/>
                    <a:pt x="109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9" y="1"/>
                    <a:pt x="89" y="1"/>
                    <a:pt x="67" y="1"/>
                  </a:cubicBezTo>
                  <a:cubicBezTo>
                    <a:pt x="56" y="1"/>
                    <a:pt x="45" y="0"/>
                    <a:pt x="34" y="0"/>
                  </a:cubicBezTo>
                  <a:cubicBezTo>
                    <a:pt x="23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3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1" name="Freeform 28"/>
            <p:cNvSpPr/>
            <p:nvPr/>
          </p:nvSpPr>
          <p:spPr>
            <a:xfrm>
              <a:off x="9263160" y="2838240"/>
              <a:ext cx="303120" cy="14040"/>
            </a:xfrm>
            <a:custGeom>
              <a:avLst/>
              <a:gdLst/>
              <a:ahLst/>
              <a:rect l="l" t="t" r="r" b="b"/>
              <a:pathLst>
                <a:path w="153" h="7">
                  <a:moveTo>
                    <a:pt x="46" y="7"/>
                  </a:moveTo>
                  <a:cubicBezTo>
                    <a:pt x="66" y="7"/>
                    <a:pt x="85" y="6"/>
                    <a:pt x="100" y="6"/>
                  </a:cubicBezTo>
                  <a:cubicBezTo>
                    <a:pt x="132" y="5"/>
                    <a:pt x="153" y="3"/>
                    <a:pt x="153" y="3"/>
                  </a:cubicBezTo>
                  <a:cubicBezTo>
                    <a:pt x="153" y="3"/>
                    <a:pt x="132" y="2"/>
                    <a:pt x="100" y="1"/>
                  </a:cubicBezTo>
                  <a:cubicBezTo>
                    <a:pt x="85" y="1"/>
                    <a:pt x="66" y="0"/>
                    <a:pt x="46" y="0"/>
                  </a:cubicBezTo>
                  <a:cubicBezTo>
                    <a:pt x="36" y="0"/>
                    <a:pt x="26" y="0"/>
                    <a:pt x="16" y="0"/>
                  </a:cubicBezTo>
                  <a:cubicBezTo>
                    <a:pt x="11" y="0"/>
                    <a:pt x="5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11" y="7"/>
                    <a:pt x="16" y="7"/>
                  </a:cubicBezTo>
                  <a:cubicBezTo>
                    <a:pt x="26" y="7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2" name="Freeform 29"/>
            <p:cNvSpPr/>
            <p:nvPr/>
          </p:nvSpPr>
          <p:spPr>
            <a:xfrm>
              <a:off x="9263160" y="2936520"/>
              <a:ext cx="380880" cy="14040"/>
            </a:xfrm>
            <a:custGeom>
              <a:avLst/>
              <a:gdLst/>
              <a:ahLst/>
              <a:rect l="l" t="t" r="r" b="b"/>
              <a:pathLst>
                <a:path w="192" h="7">
                  <a:moveTo>
                    <a:pt x="39" y="7"/>
                  </a:moveTo>
                  <a:cubicBezTo>
                    <a:pt x="51" y="7"/>
                    <a:pt x="62" y="7"/>
                    <a:pt x="73" y="7"/>
                  </a:cubicBezTo>
                  <a:cubicBezTo>
                    <a:pt x="95" y="7"/>
                    <a:pt x="116" y="6"/>
                    <a:pt x="133" y="6"/>
                  </a:cubicBezTo>
                  <a:cubicBezTo>
                    <a:pt x="151" y="5"/>
                    <a:pt x="166" y="5"/>
                    <a:pt x="176" y="4"/>
                  </a:cubicBezTo>
                  <a:cubicBezTo>
                    <a:pt x="181" y="4"/>
                    <a:pt x="185" y="4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3"/>
                  </a:cubicBezTo>
                  <a:cubicBezTo>
                    <a:pt x="185" y="3"/>
                    <a:pt x="181" y="3"/>
                    <a:pt x="176" y="3"/>
                  </a:cubicBezTo>
                  <a:cubicBezTo>
                    <a:pt x="166" y="3"/>
                    <a:pt x="151" y="2"/>
                    <a:pt x="133" y="2"/>
                  </a:cubicBezTo>
                  <a:cubicBezTo>
                    <a:pt x="116" y="1"/>
                    <a:pt x="95" y="1"/>
                    <a:pt x="73" y="0"/>
                  </a:cubicBezTo>
                  <a:cubicBezTo>
                    <a:pt x="62" y="0"/>
                    <a:pt x="51" y="0"/>
                    <a:pt x="39" y="0"/>
                  </a:cubicBezTo>
                  <a:cubicBezTo>
                    <a:pt x="28" y="0"/>
                    <a:pt x="16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7"/>
                    <a:pt x="4" y="7"/>
                  </a:cubicBezTo>
                  <a:cubicBezTo>
                    <a:pt x="16" y="7"/>
                    <a:pt x="28" y="7"/>
                    <a:pt x="3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3" name="Freeform 30"/>
            <p:cNvSpPr/>
            <p:nvPr/>
          </p:nvSpPr>
          <p:spPr>
            <a:xfrm>
              <a:off x="9263160" y="3233520"/>
              <a:ext cx="5270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1" y="8"/>
                    <a:pt x="124" y="8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5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1" y="1"/>
                    <a:pt x="97" y="1"/>
                    <a:pt x="83" y="1"/>
                  </a:cubicBezTo>
                  <a:cubicBezTo>
                    <a:pt x="69" y="1"/>
                    <a:pt x="55" y="1"/>
                    <a:pt x="41" y="0"/>
                  </a:cubicBezTo>
                  <a:cubicBezTo>
                    <a:pt x="27" y="1"/>
                    <a:pt x="14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4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4" name="Freeform 31"/>
            <p:cNvSpPr/>
            <p:nvPr/>
          </p:nvSpPr>
          <p:spPr>
            <a:xfrm>
              <a:off x="9880560" y="3181320"/>
              <a:ext cx="5727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1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4" y="3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4" y="5"/>
                    <a:pt x="52" y="5"/>
                    <a:pt x="75" y="6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5" name="Freeform 32"/>
            <p:cNvSpPr/>
            <p:nvPr/>
          </p:nvSpPr>
          <p:spPr>
            <a:xfrm>
              <a:off x="10307520" y="3081240"/>
              <a:ext cx="145800" cy="1404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41" y="1"/>
                  </a:moveTo>
                  <a:cubicBezTo>
                    <a:pt x="17" y="2"/>
                    <a:pt x="0" y="3"/>
                    <a:pt x="0" y="3"/>
                  </a:cubicBezTo>
                  <a:cubicBezTo>
                    <a:pt x="0" y="3"/>
                    <a:pt x="17" y="5"/>
                    <a:pt x="41" y="6"/>
                  </a:cubicBezTo>
                  <a:cubicBezTo>
                    <a:pt x="47" y="6"/>
                    <a:pt x="54" y="6"/>
                    <a:pt x="61" y="6"/>
                  </a:cubicBezTo>
                  <a:cubicBezTo>
                    <a:pt x="65" y="6"/>
                    <a:pt x="70" y="6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1"/>
                    <a:pt x="61" y="1"/>
                  </a:cubicBezTo>
                  <a:cubicBezTo>
                    <a:pt x="54" y="1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6" name="Freeform 33"/>
            <p:cNvSpPr/>
            <p:nvPr/>
          </p:nvSpPr>
          <p:spPr>
            <a:xfrm>
              <a:off x="10110960" y="2927160"/>
              <a:ext cx="342720" cy="14040"/>
            </a:xfrm>
            <a:custGeom>
              <a:avLst/>
              <a:gdLst/>
              <a:ahLst/>
              <a:rect l="l" t="t" r="r" b="b"/>
              <a:pathLst>
                <a:path w="174" h="7">
                  <a:moveTo>
                    <a:pt x="115" y="0"/>
                  </a:moveTo>
                  <a:cubicBezTo>
                    <a:pt x="104" y="0"/>
                    <a:pt x="94" y="1"/>
                    <a:pt x="84" y="1"/>
                  </a:cubicBezTo>
                  <a:cubicBezTo>
                    <a:pt x="75" y="1"/>
                    <a:pt x="65" y="1"/>
                    <a:pt x="57" y="2"/>
                  </a:cubicBezTo>
                  <a:cubicBezTo>
                    <a:pt x="23" y="2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6"/>
                    <a:pt x="75" y="6"/>
                    <a:pt x="84" y="6"/>
                  </a:cubicBezTo>
                  <a:cubicBezTo>
                    <a:pt x="94" y="7"/>
                    <a:pt x="104" y="7"/>
                    <a:pt x="115" y="7"/>
                  </a:cubicBezTo>
                  <a:cubicBezTo>
                    <a:pt x="126" y="7"/>
                    <a:pt x="137" y="7"/>
                    <a:pt x="148" y="7"/>
                  </a:cubicBezTo>
                  <a:cubicBezTo>
                    <a:pt x="156" y="7"/>
                    <a:pt x="165" y="7"/>
                    <a:pt x="174" y="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0"/>
                    <a:pt x="156" y="0"/>
                    <a:pt x="148" y="0"/>
                  </a:cubicBezTo>
                  <a:cubicBezTo>
                    <a:pt x="137" y="0"/>
                    <a:pt x="126" y="0"/>
                    <a:pt x="115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7" name="Freeform 34"/>
            <p:cNvSpPr/>
            <p:nvPr/>
          </p:nvSpPr>
          <p:spPr>
            <a:xfrm>
              <a:off x="9978840" y="2730240"/>
              <a:ext cx="474480" cy="12600"/>
            </a:xfrm>
            <a:custGeom>
              <a:avLst/>
              <a:gdLst/>
              <a:ahLst/>
              <a:rect l="l" t="t" r="r" b="b"/>
              <a:pathLst>
                <a:path w="240" h="7">
                  <a:moveTo>
                    <a:pt x="174" y="0"/>
                  </a:moveTo>
                  <a:cubicBezTo>
                    <a:pt x="161" y="0"/>
                    <a:pt x="148" y="0"/>
                    <a:pt x="136" y="0"/>
                  </a:cubicBezTo>
                  <a:cubicBezTo>
                    <a:pt x="123" y="0"/>
                    <a:pt x="111" y="0"/>
                    <a:pt x="99" y="0"/>
                  </a:cubicBezTo>
                  <a:cubicBezTo>
                    <a:pt x="88" y="1"/>
                    <a:pt x="77" y="1"/>
                    <a:pt x="67" y="1"/>
                  </a:cubicBezTo>
                  <a:cubicBezTo>
                    <a:pt x="47" y="2"/>
                    <a:pt x="30" y="2"/>
                    <a:pt x="18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3"/>
                    <a:pt x="5" y="3"/>
                  </a:cubicBezTo>
                  <a:cubicBezTo>
                    <a:pt x="8" y="4"/>
                    <a:pt x="12" y="4"/>
                    <a:pt x="18" y="4"/>
                  </a:cubicBezTo>
                  <a:cubicBezTo>
                    <a:pt x="30" y="4"/>
                    <a:pt x="47" y="5"/>
                    <a:pt x="67" y="5"/>
                  </a:cubicBezTo>
                  <a:cubicBezTo>
                    <a:pt x="77" y="6"/>
                    <a:pt x="88" y="6"/>
                    <a:pt x="99" y="6"/>
                  </a:cubicBezTo>
                  <a:cubicBezTo>
                    <a:pt x="111" y="6"/>
                    <a:pt x="123" y="6"/>
                    <a:pt x="136" y="7"/>
                  </a:cubicBezTo>
                  <a:cubicBezTo>
                    <a:pt x="148" y="7"/>
                    <a:pt x="161" y="7"/>
                    <a:pt x="174" y="7"/>
                  </a:cubicBezTo>
                  <a:cubicBezTo>
                    <a:pt x="188" y="7"/>
                    <a:pt x="201" y="7"/>
                    <a:pt x="214" y="7"/>
                  </a:cubicBezTo>
                  <a:cubicBezTo>
                    <a:pt x="223" y="7"/>
                    <a:pt x="232" y="7"/>
                    <a:pt x="240" y="7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32" y="0"/>
                    <a:pt x="223" y="0"/>
                    <a:pt x="214" y="0"/>
                  </a:cubicBezTo>
                  <a:cubicBezTo>
                    <a:pt x="201" y="0"/>
                    <a:pt x="188" y="0"/>
                    <a:pt x="174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8" name="Freeform 35"/>
            <p:cNvSpPr/>
            <p:nvPr/>
          </p:nvSpPr>
          <p:spPr>
            <a:xfrm>
              <a:off x="10063080" y="2530080"/>
              <a:ext cx="390240" cy="15840"/>
            </a:xfrm>
            <a:custGeom>
              <a:avLst/>
              <a:gdLst/>
              <a:ahLst/>
              <a:rect l="l" t="t" r="r" b="b"/>
              <a:pathLst>
                <a:path w="198" h="8">
                  <a:moveTo>
                    <a:pt x="157" y="0"/>
                  </a:moveTo>
                  <a:cubicBezTo>
                    <a:pt x="146" y="0"/>
                    <a:pt x="134" y="1"/>
                    <a:pt x="122" y="1"/>
                  </a:cubicBezTo>
                  <a:cubicBezTo>
                    <a:pt x="111" y="1"/>
                    <a:pt x="100" y="1"/>
                    <a:pt x="90" y="1"/>
                  </a:cubicBezTo>
                  <a:cubicBezTo>
                    <a:pt x="79" y="1"/>
                    <a:pt x="70" y="2"/>
                    <a:pt x="61" y="2"/>
                  </a:cubicBezTo>
                  <a:cubicBezTo>
                    <a:pt x="42" y="2"/>
                    <a:pt x="27" y="3"/>
                    <a:pt x="17" y="3"/>
                  </a:cubicBezTo>
                  <a:cubicBezTo>
                    <a:pt x="11" y="3"/>
                    <a:pt x="7" y="4"/>
                    <a:pt x="4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4" y="4"/>
                  </a:cubicBezTo>
                  <a:cubicBezTo>
                    <a:pt x="7" y="4"/>
                    <a:pt x="11" y="4"/>
                    <a:pt x="17" y="5"/>
                  </a:cubicBezTo>
                  <a:cubicBezTo>
                    <a:pt x="27" y="5"/>
                    <a:pt x="42" y="6"/>
                    <a:pt x="61" y="6"/>
                  </a:cubicBezTo>
                  <a:cubicBezTo>
                    <a:pt x="70" y="6"/>
                    <a:pt x="79" y="6"/>
                    <a:pt x="90" y="7"/>
                  </a:cubicBezTo>
                  <a:cubicBezTo>
                    <a:pt x="100" y="7"/>
                    <a:pt x="111" y="7"/>
                    <a:pt x="122" y="7"/>
                  </a:cubicBezTo>
                  <a:cubicBezTo>
                    <a:pt x="134" y="7"/>
                    <a:pt x="146" y="8"/>
                    <a:pt x="157" y="8"/>
                  </a:cubicBezTo>
                  <a:cubicBezTo>
                    <a:pt x="169" y="8"/>
                    <a:pt x="181" y="8"/>
                    <a:pt x="194" y="8"/>
                  </a:cubicBezTo>
                  <a:cubicBezTo>
                    <a:pt x="195" y="8"/>
                    <a:pt x="197" y="8"/>
                    <a:pt x="198" y="8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7" y="0"/>
                    <a:pt x="195" y="0"/>
                    <a:pt x="194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9" name="Freeform 36"/>
            <p:cNvSpPr/>
            <p:nvPr/>
          </p:nvSpPr>
          <p:spPr>
            <a:xfrm>
              <a:off x="10144080" y="2450880"/>
              <a:ext cx="309240" cy="126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1"/>
                    <a:pt x="89" y="1"/>
                    <a:pt x="80" y="1"/>
                  </a:cubicBezTo>
                  <a:cubicBezTo>
                    <a:pt x="71" y="1"/>
                    <a:pt x="62" y="1"/>
                    <a:pt x="54" y="2"/>
                  </a:cubicBezTo>
                  <a:cubicBezTo>
                    <a:pt x="22" y="3"/>
                    <a:pt x="0" y="4"/>
                    <a:pt x="0" y="4"/>
                  </a:cubicBezTo>
                  <a:cubicBezTo>
                    <a:pt x="0" y="4"/>
                    <a:pt x="22" y="5"/>
                    <a:pt x="54" y="6"/>
                  </a:cubicBezTo>
                  <a:cubicBezTo>
                    <a:pt x="62" y="6"/>
                    <a:pt x="71" y="6"/>
                    <a:pt x="80" y="7"/>
                  </a:cubicBezTo>
                  <a:cubicBezTo>
                    <a:pt x="89" y="7"/>
                    <a:pt x="99" y="7"/>
                    <a:pt x="109" y="7"/>
                  </a:cubicBezTo>
                  <a:cubicBezTo>
                    <a:pt x="120" y="7"/>
                    <a:pt x="130" y="7"/>
                    <a:pt x="141" y="7"/>
                  </a:cubicBezTo>
                  <a:cubicBezTo>
                    <a:pt x="146" y="7"/>
                    <a:pt x="152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2" y="0"/>
                    <a:pt x="146" y="0"/>
                    <a:pt x="141" y="0"/>
                  </a:cubicBezTo>
                  <a:cubicBezTo>
                    <a:pt x="130" y="0"/>
                    <a:pt x="120" y="0"/>
                    <a:pt x="10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0" name="Freeform 37"/>
            <p:cNvSpPr/>
            <p:nvPr/>
          </p:nvSpPr>
          <p:spPr>
            <a:xfrm>
              <a:off x="9991800" y="2322360"/>
              <a:ext cx="461880" cy="12600"/>
            </a:xfrm>
            <a:custGeom>
              <a:avLst/>
              <a:gdLst/>
              <a:ahLst/>
              <a:rect l="l" t="t" r="r" b="b"/>
              <a:pathLst>
                <a:path w="234" h="7">
                  <a:moveTo>
                    <a:pt x="172" y="0"/>
                  </a:moveTo>
                  <a:cubicBezTo>
                    <a:pt x="159" y="0"/>
                    <a:pt x="146" y="0"/>
                    <a:pt x="134" y="0"/>
                  </a:cubicBezTo>
                  <a:cubicBezTo>
                    <a:pt x="121" y="0"/>
                    <a:pt x="109" y="1"/>
                    <a:pt x="98" y="1"/>
                  </a:cubicBezTo>
                  <a:cubicBezTo>
                    <a:pt x="87" y="1"/>
                    <a:pt x="76" y="1"/>
                    <a:pt x="66" y="1"/>
                  </a:cubicBezTo>
                  <a:cubicBezTo>
                    <a:pt x="46" y="2"/>
                    <a:pt x="30" y="2"/>
                    <a:pt x="18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0" y="4"/>
                    <a:pt x="1" y="4"/>
                    <a:pt x="5" y="4"/>
                  </a:cubicBezTo>
                  <a:cubicBezTo>
                    <a:pt x="8" y="4"/>
                    <a:pt x="12" y="4"/>
                    <a:pt x="18" y="4"/>
                  </a:cubicBezTo>
                  <a:cubicBezTo>
                    <a:pt x="30" y="5"/>
                    <a:pt x="46" y="5"/>
                    <a:pt x="66" y="6"/>
                  </a:cubicBezTo>
                  <a:cubicBezTo>
                    <a:pt x="76" y="6"/>
                    <a:pt x="87" y="6"/>
                    <a:pt x="98" y="6"/>
                  </a:cubicBezTo>
                  <a:cubicBezTo>
                    <a:pt x="109" y="6"/>
                    <a:pt x="121" y="7"/>
                    <a:pt x="134" y="7"/>
                  </a:cubicBezTo>
                  <a:cubicBezTo>
                    <a:pt x="146" y="7"/>
                    <a:pt x="159" y="7"/>
                    <a:pt x="172" y="7"/>
                  </a:cubicBezTo>
                  <a:cubicBezTo>
                    <a:pt x="185" y="7"/>
                    <a:pt x="198" y="7"/>
                    <a:pt x="211" y="7"/>
                  </a:cubicBezTo>
                  <a:cubicBezTo>
                    <a:pt x="219" y="7"/>
                    <a:pt x="227" y="7"/>
                    <a:pt x="234" y="7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27" y="0"/>
                    <a:pt x="219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1" name="Freeform 38"/>
            <p:cNvSpPr/>
            <p:nvPr/>
          </p:nvSpPr>
          <p:spPr>
            <a:xfrm>
              <a:off x="10267920" y="2261880"/>
              <a:ext cx="185400" cy="14040"/>
            </a:xfrm>
            <a:custGeom>
              <a:avLst/>
              <a:gdLst/>
              <a:ahLst/>
              <a:rect l="l" t="t" r="r" b="b"/>
              <a:pathLst>
                <a:path w="94" h="7">
                  <a:moveTo>
                    <a:pt x="66" y="1"/>
                  </a:moveTo>
                  <a:cubicBezTo>
                    <a:pt x="58" y="1"/>
                    <a:pt x="51" y="1"/>
                    <a:pt x="45" y="1"/>
                  </a:cubicBezTo>
                  <a:cubicBezTo>
                    <a:pt x="18" y="2"/>
                    <a:pt x="0" y="3"/>
                    <a:pt x="0" y="3"/>
                  </a:cubicBezTo>
                  <a:cubicBezTo>
                    <a:pt x="0" y="3"/>
                    <a:pt x="18" y="5"/>
                    <a:pt x="45" y="6"/>
                  </a:cubicBezTo>
                  <a:cubicBezTo>
                    <a:pt x="51" y="6"/>
                    <a:pt x="58" y="6"/>
                    <a:pt x="66" y="6"/>
                  </a:cubicBezTo>
                  <a:cubicBezTo>
                    <a:pt x="74" y="6"/>
                    <a:pt x="82" y="7"/>
                    <a:pt x="90" y="7"/>
                  </a:cubicBezTo>
                  <a:cubicBezTo>
                    <a:pt x="91" y="7"/>
                    <a:pt x="93" y="7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1" y="0"/>
                    <a:pt x="90" y="0"/>
                  </a:cubicBezTo>
                  <a:cubicBezTo>
                    <a:pt x="82" y="0"/>
                    <a:pt x="74" y="0"/>
                    <a:pt x="66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2" name="Rectangle 39"/>
            <p:cNvSpPr/>
            <p:nvPr/>
          </p:nvSpPr>
          <p:spPr>
            <a:xfrm>
              <a:off x="5885640" y="4259880"/>
              <a:ext cx="1190520" cy="55404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3" name="Freeform 40"/>
            <p:cNvSpPr/>
            <p:nvPr/>
          </p:nvSpPr>
          <p:spPr>
            <a:xfrm>
              <a:off x="5885640" y="4328280"/>
              <a:ext cx="33804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79" y="7"/>
                    <a:pt x="99" y="6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5" y="1"/>
                  </a:cubicBezTo>
                  <a:cubicBezTo>
                    <a:pt x="99" y="1"/>
                    <a:pt x="79" y="1"/>
                    <a:pt x="59" y="0"/>
                  </a:cubicBezTo>
                  <a:cubicBezTo>
                    <a:pt x="48" y="0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6" y="7"/>
                  </a:cubicBezTo>
                  <a:cubicBezTo>
                    <a:pt x="37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4" name="Freeform 41"/>
            <p:cNvSpPr/>
            <p:nvPr/>
          </p:nvSpPr>
          <p:spPr>
            <a:xfrm>
              <a:off x="5885640" y="4575960"/>
              <a:ext cx="496800" cy="15840"/>
            </a:xfrm>
            <a:custGeom>
              <a:avLst/>
              <a:gdLst/>
              <a:ahLst/>
              <a:rect l="l" t="t" r="r" b="b"/>
              <a:pathLst>
                <a:path w="251" h="8">
                  <a:moveTo>
                    <a:pt x="74" y="8"/>
                  </a:moveTo>
                  <a:cubicBezTo>
                    <a:pt x="87" y="8"/>
                    <a:pt x="101" y="7"/>
                    <a:pt x="113" y="7"/>
                  </a:cubicBezTo>
                  <a:cubicBezTo>
                    <a:pt x="139" y="7"/>
                    <a:pt x="163" y="7"/>
                    <a:pt x="183" y="6"/>
                  </a:cubicBezTo>
                  <a:cubicBezTo>
                    <a:pt x="204" y="6"/>
                    <a:pt x="221" y="5"/>
                    <a:pt x="232" y="5"/>
                  </a:cubicBezTo>
                  <a:cubicBezTo>
                    <a:pt x="238" y="5"/>
                    <a:pt x="243" y="4"/>
                    <a:pt x="246" y="4"/>
                  </a:cubicBezTo>
                  <a:cubicBezTo>
                    <a:pt x="249" y="4"/>
                    <a:pt x="251" y="4"/>
                    <a:pt x="251" y="4"/>
                  </a:cubicBezTo>
                  <a:cubicBezTo>
                    <a:pt x="251" y="4"/>
                    <a:pt x="249" y="4"/>
                    <a:pt x="246" y="4"/>
                  </a:cubicBezTo>
                  <a:cubicBezTo>
                    <a:pt x="243" y="4"/>
                    <a:pt x="238" y="3"/>
                    <a:pt x="232" y="3"/>
                  </a:cubicBezTo>
                  <a:cubicBezTo>
                    <a:pt x="221" y="3"/>
                    <a:pt x="204" y="2"/>
                    <a:pt x="183" y="2"/>
                  </a:cubicBezTo>
                  <a:cubicBezTo>
                    <a:pt x="163" y="1"/>
                    <a:pt x="139" y="1"/>
                    <a:pt x="113" y="1"/>
                  </a:cubicBezTo>
                  <a:cubicBezTo>
                    <a:pt x="101" y="1"/>
                    <a:pt x="87" y="0"/>
                    <a:pt x="74" y="0"/>
                  </a:cubicBezTo>
                  <a:cubicBezTo>
                    <a:pt x="61" y="0"/>
                    <a:pt x="47" y="0"/>
                    <a:pt x="33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8"/>
                    <a:pt x="33" y="8"/>
                  </a:cubicBezTo>
                  <a:cubicBezTo>
                    <a:pt x="47" y="8"/>
                    <a:pt x="61" y="8"/>
                    <a:pt x="74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5" name="Freeform 42"/>
            <p:cNvSpPr/>
            <p:nvPr/>
          </p:nvSpPr>
          <p:spPr>
            <a:xfrm>
              <a:off x="5885640" y="4676040"/>
              <a:ext cx="33804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8"/>
                  </a:moveTo>
                  <a:cubicBezTo>
                    <a:pt x="79" y="7"/>
                    <a:pt x="99" y="7"/>
                    <a:pt x="115" y="6"/>
                  </a:cubicBezTo>
                  <a:cubicBezTo>
                    <a:pt x="149" y="6"/>
                    <a:pt x="171" y="4"/>
                    <a:pt x="171" y="4"/>
                  </a:cubicBezTo>
                  <a:cubicBezTo>
                    <a:pt x="171" y="4"/>
                    <a:pt x="149" y="3"/>
                    <a:pt x="115" y="2"/>
                  </a:cubicBezTo>
                  <a:cubicBezTo>
                    <a:pt x="99" y="2"/>
                    <a:pt x="79" y="1"/>
                    <a:pt x="59" y="1"/>
                  </a:cubicBezTo>
                  <a:cubicBezTo>
                    <a:pt x="48" y="1"/>
                    <a:pt x="37" y="1"/>
                    <a:pt x="26" y="1"/>
                  </a:cubicBezTo>
                  <a:cubicBezTo>
                    <a:pt x="18" y="1"/>
                    <a:pt x="9" y="1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6" y="8"/>
                  </a:cubicBezTo>
                  <a:cubicBezTo>
                    <a:pt x="37" y="8"/>
                    <a:pt x="48" y="8"/>
                    <a:pt x="59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6" name="Freeform 43"/>
            <p:cNvSpPr/>
            <p:nvPr/>
          </p:nvSpPr>
          <p:spPr>
            <a:xfrm>
              <a:off x="6669720" y="4736160"/>
              <a:ext cx="406080" cy="1404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0"/>
                    <a:pt x="102" y="0"/>
                    <a:pt x="92" y="1"/>
                  </a:cubicBezTo>
                  <a:cubicBezTo>
                    <a:pt x="81" y="1"/>
                    <a:pt x="71" y="1"/>
                    <a:pt x="62" y="1"/>
                  </a:cubicBezTo>
                  <a:cubicBezTo>
                    <a:pt x="44" y="2"/>
                    <a:pt x="28" y="2"/>
                    <a:pt x="17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4"/>
                    <a:pt x="44" y="5"/>
                    <a:pt x="62" y="5"/>
                  </a:cubicBezTo>
                  <a:cubicBezTo>
                    <a:pt x="71" y="6"/>
                    <a:pt x="81" y="6"/>
                    <a:pt x="92" y="6"/>
                  </a:cubicBezTo>
                  <a:cubicBezTo>
                    <a:pt x="102" y="6"/>
                    <a:pt x="114" y="6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7" name="Freeform 44"/>
            <p:cNvSpPr/>
            <p:nvPr/>
          </p:nvSpPr>
          <p:spPr>
            <a:xfrm>
              <a:off x="6625440" y="463608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1"/>
                  </a:moveTo>
                  <a:cubicBezTo>
                    <a:pt x="157" y="1"/>
                    <a:pt x="144" y="1"/>
                    <a:pt x="132" y="1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2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4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7"/>
                    <a:pt x="85" y="7"/>
                    <a:pt x="96" y="7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8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1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8" name="Freeform 45"/>
            <p:cNvSpPr/>
            <p:nvPr/>
          </p:nvSpPr>
          <p:spPr>
            <a:xfrm>
              <a:off x="6503040" y="448704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1"/>
                    <a:pt x="86" y="2"/>
                    <a:pt x="75" y="2"/>
                  </a:cubicBezTo>
                  <a:cubicBezTo>
                    <a:pt x="52" y="2"/>
                    <a:pt x="33" y="3"/>
                    <a:pt x="20" y="3"/>
                  </a:cubicBezTo>
                  <a:cubicBezTo>
                    <a:pt x="14" y="3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6"/>
                    <a:pt x="98" y="6"/>
                    <a:pt x="111" y="7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9" name="Freeform 46"/>
            <p:cNvSpPr/>
            <p:nvPr/>
          </p:nvSpPr>
          <p:spPr>
            <a:xfrm>
              <a:off x="6834960" y="4290120"/>
              <a:ext cx="241200" cy="1260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72" y="1"/>
                  </a:moveTo>
                  <a:cubicBezTo>
                    <a:pt x="63" y="1"/>
                    <a:pt x="55" y="1"/>
                    <a:pt x="48" y="1"/>
                  </a:cubicBezTo>
                  <a:cubicBezTo>
                    <a:pt x="19" y="2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5" y="6"/>
                    <a:pt x="63" y="6"/>
                    <a:pt x="72" y="6"/>
                  </a:cubicBezTo>
                  <a:cubicBezTo>
                    <a:pt x="80" y="6"/>
                    <a:pt x="89" y="7"/>
                    <a:pt x="98" y="7"/>
                  </a:cubicBezTo>
                  <a:cubicBezTo>
                    <a:pt x="106" y="7"/>
                    <a:pt x="114" y="7"/>
                    <a:pt x="122" y="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0"/>
                    <a:pt x="98" y="0"/>
                  </a:cubicBezTo>
                  <a:cubicBezTo>
                    <a:pt x="89" y="0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0" name="Rectangle 47">
              <a:hlinkClick r:id="rId4"/>
            </p:cNvPr>
            <p:cNvSpPr/>
            <p:nvPr/>
          </p:nvSpPr>
          <p:spPr>
            <a:xfrm>
              <a:off x="5917320" y="3418560"/>
              <a:ext cx="1190520" cy="84132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1" name="Freeform 48"/>
            <p:cNvSpPr/>
            <p:nvPr/>
          </p:nvSpPr>
          <p:spPr>
            <a:xfrm>
              <a:off x="5917320" y="3604320"/>
              <a:ext cx="141120" cy="12600"/>
            </a:xfrm>
            <a:custGeom>
              <a:avLst/>
              <a:gdLst/>
              <a:ahLst/>
              <a:rect l="l" t="t" r="r" b="b"/>
              <a:pathLst>
                <a:path w="71" h="6">
                  <a:moveTo>
                    <a:pt x="71" y="3"/>
                  </a:moveTo>
                  <a:cubicBezTo>
                    <a:pt x="71" y="3"/>
                    <a:pt x="55" y="2"/>
                    <a:pt x="31" y="1"/>
                  </a:cubicBezTo>
                  <a:cubicBezTo>
                    <a:pt x="22" y="1"/>
                    <a:pt x="11" y="0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1" y="6"/>
                    <a:pt x="22" y="6"/>
                    <a:pt x="31" y="5"/>
                  </a:cubicBezTo>
                  <a:cubicBezTo>
                    <a:pt x="55" y="5"/>
                    <a:pt x="71" y="3"/>
                    <a:pt x="71" y="3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2" name="Freeform 49"/>
            <p:cNvSpPr/>
            <p:nvPr/>
          </p:nvSpPr>
          <p:spPr>
            <a:xfrm>
              <a:off x="5917320" y="3702600"/>
              <a:ext cx="361800" cy="14040"/>
            </a:xfrm>
            <a:custGeom>
              <a:avLst/>
              <a:gdLst/>
              <a:ahLst/>
              <a:rect l="l" t="t" r="r" b="b"/>
              <a:pathLst>
                <a:path w="183" h="7">
                  <a:moveTo>
                    <a:pt x="67" y="7"/>
                  </a:moveTo>
                  <a:cubicBezTo>
                    <a:pt x="88" y="6"/>
                    <a:pt x="108" y="6"/>
                    <a:pt x="126" y="6"/>
                  </a:cubicBezTo>
                  <a:cubicBezTo>
                    <a:pt x="160" y="5"/>
                    <a:pt x="183" y="3"/>
                    <a:pt x="183" y="3"/>
                  </a:cubicBezTo>
                  <a:cubicBezTo>
                    <a:pt x="183" y="3"/>
                    <a:pt x="160" y="2"/>
                    <a:pt x="126" y="1"/>
                  </a:cubicBezTo>
                  <a:cubicBezTo>
                    <a:pt x="108" y="1"/>
                    <a:pt x="88" y="0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3" name="Freeform 50"/>
            <p:cNvSpPr/>
            <p:nvPr/>
          </p:nvSpPr>
          <p:spPr>
            <a:xfrm>
              <a:off x="5917320" y="3901320"/>
              <a:ext cx="65232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7"/>
                    <a:pt x="121" y="7"/>
                  </a:cubicBezTo>
                  <a:cubicBezTo>
                    <a:pt x="136" y="7"/>
                    <a:pt x="152" y="7"/>
                    <a:pt x="167" y="7"/>
                  </a:cubicBezTo>
                  <a:cubicBezTo>
                    <a:pt x="197" y="7"/>
                    <a:pt x="225" y="6"/>
                    <a:pt x="249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4"/>
                    <a:pt x="320" y="4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3"/>
                    <a:pt x="315" y="3"/>
                    <a:pt x="308" y="3"/>
                  </a:cubicBezTo>
                  <a:cubicBezTo>
                    <a:pt x="294" y="3"/>
                    <a:pt x="274" y="2"/>
                    <a:pt x="249" y="2"/>
                  </a:cubicBezTo>
                  <a:cubicBezTo>
                    <a:pt x="225" y="1"/>
                    <a:pt x="197" y="1"/>
                    <a:pt x="167" y="0"/>
                  </a:cubicBezTo>
                  <a:cubicBezTo>
                    <a:pt x="152" y="0"/>
                    <a:pt x="136" y="0"/>
                    <a:pt x="121" y="0"/>
                  </a:cubicBezTo>
                  <a:cubicBezTo>
                    <a:pt x="105" y="0"/>
                    <a:pt x="89" y="0"/>
                    <a:pt x="73" y="0"/>
                  </a:cubicBezTo>
                  <a:cubicBezTo>
                    <a:pt x="57" y="0"/>
                    <a:pt x="41" y="0"/>
                    <a:pt x="25" y="0"/>
                  </a:cubicBezTo>
                  <a:cubicBezTo>
                    <a:pt x="16" y="0"/>
                    <a:pt x="8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7"/>
                    <a:pt x="16" y="7"/>
                    <a:pt x="25" y="7"/>
                  </a:cubicBezTo>
                  <a:cubicBezTo>
                    <a:pt x="41" y="7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4" name="Freeform 51"/>
            <p:cNvSpPr/>
            <p:nvPr/>
          </p:nvSpPr>
          <p:spPr>
            <a:xfrm>
              <a:off x="5917320" y="4099680"/>
              <a:ext cx="5270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0" y="8"/>
                    <a:pt x="124" y="7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0" y="1"/>
                    <a:pt x="97" y="1"/>
                    <a:pt x="83" y="1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3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5" name="Freeform 52"/>
            <p:cNvSpPr/>
            <p:nvPr/>
          </p:nvSpPr>
          <p:spPr>
            <a:xfrm>
              <a:off x="5917320" y="4180680"/>
              <a:ext cx="280800" cy="1404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6"/>
                    <a:pt x="76" y="6"/>
                    <a:pt x="91" y="5"/>
                  </a:cubicBezTo>
                  <a:cubicBezTo>
                    <a:pt x="122" y="5"/>
                    <a:pt x="142" y="3"/>
                    <a:pt x="142" y="3"/>
                  </a:cubicBezTo>
                  <a:cubicBezTo>
                    <a:pt x="142" y="3"/>
                    <a:pt x="122" y="2"/>
                    <a:pt x="91" y="1"/>
                  </a:cubicBezTo>
                  <a:cubicBezTo>
                    <a:pt x="76" y="1"/>
                    <a:pt x="58" y="0"/>
                    <a:pt x="39" y="0"/>
                  </a:cubicBezTo>
                  <a:cubicBezTo>
                    <a:pt x="29" y="0"/>
                    <a:pt x="1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9" y="7"/>
                  </a:cubicBezTo>
                  <a:cubicBezTo>
                    <a:pt x="19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6" name="Freeform 53"/>
            <p:cNvSpPr/>
            <p:nvPr/>
          </p:nvSpPr>
          <p:spPr>
            <a:xfrm>
              <a:off x="6657120" y="3842280"/>
              <a:ext cx="450720" cy="1260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1"/>
                    <a:pt x="75" y="1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6" y="6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1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7" name="Freeform 54"/>
            <p:cNvSpPr/>
            <p:nvPr/>
          </p:nvSpPr>
          <p:spPr>
            <a:xfrm>
              <a:off x="6852240" y="4091760"/>
              <a:ext cx="255240" cy="14040"/>
            </a:xfrm>
            <a:custGeom>
              <a:avLst/>
              <a:gdLst/>
              <a:ahLst/>
              <a:rect l="l" t="t" r="r" b="b"/>
              <a:pathLst>
                <a:path w="129" h="7">
                  <a:moveTo>
                    <a:pt x="74" y="0"/>
                  </a:moveTo>
                  <a:cubicBezTo>
                    <a:pt x="66" y="1"/>
                    <a:pt x="58" y="1"/>
                    <a:pt x="50" y="1"/>
                  </a:cubicBezTo>
                  <a:cubicBezTo>
                    <a:pt x="20" y="2"/>
                    <a:pt x="0" y="3"/>
                    <a:pt x="0" y="3"/>
                  </a:cubicBezTo>
                  <a:cubicBezTo>
                    <a:pt x="0" y="3"/>
                    <a:pt x="20" y="4"/>
                    <a:pt x="50" y="5"/>
                  </a:cubicBezTo>
                  <a:cubicBezTo>
                    <a:pt x="58" y="6"/>
                    <a:pt x="66" y="6"/>
                    <a:pt x="74" y="6"/>
                  </a:cubicBezTo>
                  <a:cubicBezTo>
                    <a:pt x="83" y="6"/>
                    <a:pt x="92" y="6"/>
                    <a:pt x="101" y="6"/>
                  </a:cubicBezTo>
                  <a:cubicBezTo>
                    <a:pt x="110" y="7"/>
                    <a:pt x="119" y="7"/>
                    <a:pt x="129" y="7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9" y="0"/>
                    <a:pt x="110" y="0"/>
                    <a:pt x="101" y="0"/>
                  </a:cubicBezTo>
                  <a:cubicBezTo>
                    <a:pt x="92" y="0"/>
                    <a:pt x="83" y="0"/>
                    <a:pt x="74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8" name="Freeform 55"/>
            <p:cNvSpPr/>
            <p:nvPr/>
          </p:nvSpPr>
          <p:spPr>
            <a:xfrm>
              <a:off x="6883920" y="3742560"/>
              <a:ext cx="22356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1"/>
                    <a:pt x="47" y="1"/>
                  </a:cubicBezTo>
                  <a:cubicBezTo>
                    <a:pt x="19" y="2"/>
                    <a:pt x="0" y="3"/>
                    <a:pt x="0" y="3"/>
                  </a:cubicBezTo>
                  <a:cubicBezTo>
                    <a:pt x="0" y="3"/>
                    <a:pt x="19" y="5"/>
                    <a:pt x="47" y="6"/>
                  </a:cubicBezTo>
                  <a:cubicBezTo>
                    <a:pt x="54" y="6"/>
                    <a:pt x="62" y="6"/>
                    <a:pt x="70" y="6"/>
                  </a:cubicBezTo>
                  <a:cubicBezTo>
                    <a:pt x="78" y="6"/>
                    <a:pt x="86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0"/>
                    <a:pt x="95" y="0"/>
                  </a:cubicBezTo>
                  <a:cubicBezTo>
                    <a:pt x="86" y="0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9" name="Freeform 56"/>
            <p:cNvSpPr/>
            <p:nvPr/>
          </p:nvSpPr>
          <p:spPr>
            <a:xfrm>
              <a:off x="6512400" y="354384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8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1"/>
                    <a:pt x="169" y="1"/>
                    <a:pt x="155" y="1"/>
                  </a:cubicBezTo>
                  <a:cubicBezTo>
                    <a:pt x="141" y="1"/>
                    <a:pt x="127" y="1"/>
                    <a:pt x="114" y="1"/>
                  </a:cubicBezTo>
                  <a:cubicBezTo>
                    <a:pt x="100" y="2"/>
                    <a:pt x="88" y="2"/>
                    <a:pt x="76" y="2"/>
                  </a:cubicBezTo>
                  <a:cubicBezTo>
                    <a:pt x="53" y="2"/>
                    <a:pt x="34" y="3"/>
                    <a:pt x="21" y="3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5"/>
                    <a:pt x="21" y="5"/>
                  </a:cubicBezTo>
                  <a:cubicBezTo>
                    <a:pt x="34" y="5"/>
                    <a:pt x="53" y="6"/>
                    <a:pt x="76" y="6"/>
                  </a:cubicBezTo>
                  <a:cubicBezTo>
                    <a:pt x="88" y="6"/>
                    <a:pt x="100" y="7"/>
                    <a:pt x="114" y="7"/>
                  </a:cubicBezTo>
                  <a:cubicBezTo>
                    <a:pt x="127" y="7"/>
                    <a:pt x="141" y="7"/>
                    <a:pt x="155" y="7"/>
                  </a:cubicBezTo>
                  <a:cubicBezTo>
                    <a:pt x="169" y="8"/>
                    <a:pt x="184" y="8"/>
                    <a:pt x="199" y="8"/>
                  </a:cubicBezTo>
                  <a:cubicBezTo>
                    <a:pt x="214" y="8"/>
                    <a:pt x="230" y="8"/>
                    <a:pt x="245" y="8"/>
                  </a:cubicBezTo>
                  <a:cubicBezTo>
                    <a:pt x="260" y="8"/>
                    <a:pt x="275" y="8"/>
                    <a:pt x="291" y="8"/>
                  </a:cubicBezTo>
                  <a:cubicBezTo>
                    <a:pt x="294" y="8"/>
                    <a:pt x="298" y="8"/>
                    <a:pt x="301" y="8"/>
                  </a:cubicBezTo>
                  <a:cubicBezTo>
                    <a:pt x="301" y="1"/>
                    <a:pt x="301" y="1"/>
                    <a:pt x="301" y="1"/>
                  </a:cubicBezTo>
                  <a:cubicBezTo>
                    <a:pt x="298" y="1"/>
                    <a:pt x="294" y="0"/>
                    <a:pt x="291" y="0"/>
                  </a:cubicBezTo>
                  <a:cubicBezTo>
                    <a:pt x="275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0" name="Freeform 57"/>
            <p:cNvSpPr/>
            <p:nvPr/>
          </p:nvSpPr>
          <p:spPr>
            <a:xfrm>
              <a:off x="6701400" y="3464640"/>
              <a:ext cx="406080" cy="15840"/>
            </a:xfrm>
            <a:custGeom>
              <a:avLst/>
              <a:gdLst/>
              <a:ahLst/>
              <a:rect l="l" t="t" r="r" b="b"/>
              <a:pathLst>
                <a:path w="206" h="8">
                  <a:moveTo>
                    <a:pt x="161" y="0"/>
                  </a:moveTo>
                  <a:cubicBezTo>
                    <a:pt x="149" y="0"/>
                    <a:pt x="137" y="1"/>
                    <a:pt x="125" y="1"/>
                  </a:cubicBezTo>
                  <a:cubicBezTo>
                    <a:pt x="114" y="1"/>
                    <a:pt x="102" y="1"/>
                    <a:pt x="92" y="1"/>
                  </a:cubicBezTo>
                  <a:cubicBezTo>
                    <a:pt x="81" y="1"/>
                    <a:pt x="71" y="2"/>
                    <a:pt x="62" y="2"/>
                  </a:cubicBezTo>
                  <a:cubicBezTo>
                    <a:pt x="44" y="2"/>
                    <a:pt x="28" y="3"/>
                    <a:pt x="17" y="3"/>
                  </a:cubicBezTo>
                  <a:cubicBezTo>
                    <a:pt x="12" y="3"/>
                    <a:pt x="8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8" y="4"/>
                    <a:pt x="12" y="5"/>
                    <a:pt x="17" y="5"/>
                  </a:cubicBezTo>
                  <a:cubicBezTo>
                    <a:pt x="28" y="5"/>
                    <a:pt x="44" y="6"/>
                    <a:pt x="62" y="6"/>
                  </a:cubicBezTo>
                  <a:cubicBezTo>
                    <a:pt x="71" y="6"/>
                    <a:pt x="81" y="7"/>
                    <a:pt x="92" y="7"/>
                  </a:cubicBezTo>
                  <a:cubicBezTo>
                    <a:pt x="102" y="7"/>
                    <a:pt x="114" y="7"/>
                    <a:pt x="125" y="7"/>
                  </a:cubicBezTo>
                  <a:cubicBezTo>
                    <a:pt x="137" y="7"/>
                    <a:pt x="149" y="8"/>
                    <a:pt x="161" y="8"/>
                  </a:cubicBezTo>
                  <a:cubicBezTo>
                    <a:pt x="173" y="8"/>
                    <a:pt x="185" y="8"/>
                    <a:pt x="198" y="8"/>
                  </a:cubicBezTo>
                  <a:cubicBezTo>
                    <a:pt x="200" y="8"/>
                    <a:pt x="203" y="8"/>
                    <a:pt x="206" y="8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1" name="Rectangle 58">
              <a:hlinkClick r:id="rId5"/>
            </p:cNvPr>
            <p:cNvSpPr/>
            <p:nvPr/>
          </p:nvSpPr>
          <p:spPr>
            <a:xfrm>
              <a:off x="5941080" y="2329560"/>
              <a:ext cx="1190520" cy="1089000"/>
            </a:xfrm>
            <a:prstGeom prst="rect">
              <a:avLst/>
            </a:pr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2" name="Freeform 59"/>
            <p:cNvSpPr/>
            <p:nvPr/>
          </p:nvSpPr>
          <p:spPr>
            <a:xfrm>
              <a:off x="5941080" y="2386440"/>
              <a:ext cx="512640" cy="14040"/>
            </a:xfrm>
            <a:custGeom>
              <a:avLst/>
              <a:gdLst/>
              <a:ahLst/>
              <a:rect l="l" t="t" r="r" b="b"/>
              <a:pathLst>
                <a:path w="259" h="7">
                  <a:moveTo>
                    <a:pt x="78" y="7"/>
                  </a:moveTo>
                  <a:cubicBezTo>
                    <a:pt x="92" y="7"/>
                    <a:pt x="106" y="7"/>
                    <a:pt x="119" y="7"/>
                  </a:cubicBezTo>
                  <a:cubicBezTo>
                    <a:pt x="144" y="7"/>
                    <a:pt x="169" y="6"/>
                    <a:pt x="189" y="6"/>
                  </a:cubicBezTo>
                  <a:cubicBezTo>
                    <a:pt x="210" y="5"/>
                    <a:pt x="228" y="5"/>
                    <a:pt x="240" y="4"/>
                  </a:cubicBezTo>
                  <a:cubicBezTo>
                    <a:pt x="246" y="4"/>
                    <a:pt x="251" y="4"/>
                    <a:pt x="254" y="4"/>
                  </a:cubicBezTo>
                  <a:cubicBezTo>
                    <a:pt x="257" y="4"/>
                    <a:pt x="259" y="3"/>
                    <a:pt x="259" y="3"/>
                  </a:cubicBezTo>
                  <a:cubicBezTo>
                    <a:pt x="259" y="3"/>
                    <a:pt x="257" y="3"/>
                    <a:pt x="254" y="3"/>
                  </a:cubicBezTo>
                  <a:cubicBezTo>
                    <a:pt x="251" y="3"/>
                    <a:pt x="246" y="3"/>
                    <a:pt x="240" y="3"/>
                  </a:cubicBezTo>
                  <a:cubicBezTo>
                    <a:pt x="228" y="2"/>
                    <a:pt x="210" y="2"/>
                    <a:pt x="189" y="1"/>
                  </a:cubicBezTo>
                  <a:cubicBezTo>
                    <a:pt x="169" y="1"/>
                    <a:pt x="144" y="0"/>
                    <a:pt x="119" y="0"/>
                  </a:cubicBezTo>
                  <a:cubicBezTo>
                    <a:pt x="106" y="0"/>
                    <a:pt x="92" y="0"/>
                    <a:pt x="78" y="0"/>
                  </a:cubicBezTo>
                  <a:cubicBezTo>
                    <a:pt x="65" y="0"/>
                    <a:pt x="51" y="0"/>
                    <a:pt x="37" y="0"/>
                  </a:cubicBezTo>
                  <a:cubicBezTo>
                    <a:pt x="25" y="0"/>
                    <a:pt x="12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7"/>
                    <a:pt x="25" y="7"/>
                    <a:pt x="37" y="7"/>
                  </a:cubicBezTo>
                  <a:cubicBezTo>
                    <a:pt x="51" y="7"/>
                    <a:pt x="65" y="7"/>
                    <a:pt x="78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3" name="Freeform 60"/>
            <p:cNvSpPr/>
            <p:nvPr/>
          </p:nvSpPr>
          <p:spPr>
            <a:xfrm>
              <a:off x="5941080" y="2499120"/>
              <a:ext cx="595080" cy="15840"/>
            </a:xfrm>
            <a:custGeom>
              <a:avLst/>
              <a:gdLst/>
              <a:ahLst/>
              <a:rect l="l" t="t" r="r" b="b"/>
              <a:pathLst>
                <a:path w="301" h="8">
                  <a:moveTo>
                    <a:pt x="58" y="8"/>
                  </a:moveTo>
                  <a:cubicBezTo>
                    <a:pt x="73" y="8"/>
                    <a:pt x="89" y="8"/>
                    <a:pt x="104" y="8"/>
                  </a:cubicBezTo>
                  <a:cubicBezTo>
                    <a:pt x="118" y="8"/>
                    <a:pt x="133" y="8"/>
                    <a:pt x="147" y="7"/>
                  </a:cubicBezTo>
                  <a:cubicBezTo>
                    <a:pt x="176" y="7"/>
                    <a:pt x="202" y="7"/>
                    <a:pt x="225" y="6"/>
                  </a:cubicBezTo>
                  <a:cubicBezTo>
                    <a:pt x="248" y="6"/>
                    <a:pt x="267" y="5"/>
                    <a:pt x="280" y="5"/>
                  </a:cubicBezTo>
                  <a:cubicBezTo>
                    <a:pt x="287" y="5"/>
                    <a:pt x="292" y="5"/>
                    <a:pt x="295" y="4"/>
                  </a:cubicBezTo>
                  <a:cubicBezTo>
                    <a:pt x="299" y="4"/>
                    <a:pt x="301" y="4"/>
                    <a:pt x="301" y="4"/>
                  </a:cubicBezTo>
                  <a:cubicBezTo>
                    <a:pt x="301" y="4"/>
                    <a:pt x="299" y="4"/>
                    <a:pt x="295" y="4"/>
                  </a:cubicBezTo>
                  <a:cubicBezTo>
                    <a:pt x="292" y="4"/>
                    <a:pt x="287" y="4"/>
                    <a:pt x="280" y="3"/>
                  </a:cubicBezTo>
                  <a:cubicBezTo>
                    <a:pt x="267" y="3"/>
                    <a:pt x="248" y="2"/>
                    <a:pt x="225" y="2"/>
                  </a:cubicBezTo>
                  <a:cubicBezTo>
                    <a:pt x="202" y="2"/>
                    <a:pt x="176" y="1"/>
                    <a:pt x="147" y="1"/>
                  </a:cubicBezTo>
                  <a:cubicBezTo>
                    <a:pt x="133" y="1"/>
                    <a:pt x="118" y="1"/>
                    <a:pt x="104" y="1"/>
                  </a:cubicBezTo>
                  <a:cubicBezTo>
                    <a:pt x="89" y="1"/>
                    <a:pt x="73" y="0"/>
                    <a:pt x="58" y="0"/>
                  </a:cubicBezTo>
                  <a:cubicBezTo>
                    <a:pt x="43" y="0"/>
                    <a:pt x="28" y="1"/>
                    <a:pt x="13" y="1"/>
                  </a:cubicBezTo>
                  <a:cubicBezTo>
                    <a:pt x="9" y="1"/>
                    <a:pt x="4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" y="8"/>
                    <a:pt x="9" y="8"/>
                    <a:pt x="13" y="8"/>
                  </a:cubicBezTo>
                  <a:cubicBezTo>
                    <a:pt x="28" y="8"/>
                    <a:pt x="43" y="8"/>
                    <a:pt x="58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4" name="Freeform 61"/>
            <p:cNvSpPr/>
            <p:nvPr/>
          </p:nvSpPr>
          <p:spPr>
            <a:xfrm>
              <a:off x="5941080" y="2699280"/>
              <a:ext cx="361800" cy="14040"/>
            </a:xfrm>
            <a:custGeom>
              <a:avLst/>
              <a:gdLst/>
              <a:ahLst/>
              <a:rect l="l" t="t" r="r" b="b"/>
              <a:pathLst>
                <a:path w="183" h="7">
                  <a:moveTo>
                    <a:pt x="67" y="7"/>
                  </a:moveTo>
                  <a:cubicBezTo>
                    <a:pt x="88" y="7"/>
                    <a:pt x="108" y="6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2"/>
                    <a:pt x="126" y="1"/>
                  </a:cubicBezTo>
                  <a:cubicBezTo>
                    <a:pt x="108" y="1"/>
                    <a:pt x="88" y="1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5" name="Freeform 62"/>
            <p:cNvSpPr/>
            <p:nvPr/>
          </p:nvSpPr>
          <p:spPr>
            <a:xfrm>
              <a:off x="5941080" y="2956680"/>
              <a:ext cx="303120" cy="15840"/>
            </a:xfrm>
            <a:custGeom>
              <a:avLst/>
              <a:gdLst/>
              <a:ahLst/>
              <a:rect l="l" t="t" r="r" b="b"/>
              <a:pathLst>
                <a:path w="153" h="8">
                  <a:moveTo>
                    <a:pt x="46" y="7"/>
                  </a:moveTo>
                  <a:cubicBezTo>
                    <a:pt x="66" y="7"/>
                    <a:pt x="84" y="7"/>
                    <a:pt x="100" y="6"/>
                  </a:cubicBezTo>
                  <a:cubicBezTo>
                    <a:pt x="132" y="5"/>
                    <a:pt x="153" y="4"/>
                    <a:pt x="153" y="4"/>
                  </a:cubicBezTo>
                  <a:cubicBezTo>
                    <a:pt x="153" y="4"/>
                    <a:pt x="132" y="3"/>
                    <a:pt x="100" y="2"/>
                  </a:cubicBezTo>
                  <a:cubicBezTo>
                    <a:pt x="84" y="1"/>
                    <a:pt x="66" y="1"/>
                    <a:pt x="46" y="1"/>
                  </a:cubicBezTo>
                  <a:cubicBezTo>
                    <a:pt x="36" y="1"/>
                    <a:pt x="26" y="0"/>
                    <a:pt x="16" y="0"/>
                  </a:cubicBezTo>
                  <a:cubicBezTo>
                    <a:pt x="10" y="0"/>
                    <a:pt x="5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5" y="8"/>
                    <a:pt x="10" y="8"/>
                    <a:pt x="16" y="8"/>
                  </a:cubicBezTo>
                  <a:cubicBezTo>
                    <a:pt x="26" y="8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6" name="Freeform 63"/>
            <p:cNvSpPr/>
            <p:nvPr/>
          </p:nvSpPr>
          <p:spPr>
            <a:xfrm>
              <a:off x="5941080" y="3056400"/>
              <a:ext cx="379080" cy="15840"/>
            </a:xfrm>
            <a:custGeom>
              <a:avLst/>
              <a:gdLst/>
              <a:ahLst/>
              <a:rect l="l" t="t" r="r" b="b"/>
              <a:pathLst>
                <a:path w="192" h="8">
                  <a:moveTo>
                    <a:pt x="39" y="8"/>
                  </a:moveTo>
                  <a:cubicBezTo>
                    <a:pt x="51" y="8"/>
                    <a:pt x="62" y="8"/>
                    <a:pt x="73" y="8"/>
                  </a:cubicBezTo>
                  <a:cubicBezTo>
                    <a:pt x="95" y="7"/>
                    <a:pt x="116" y="7"/>
                    <a:pt x="133" y="6"/>
                  </a:cubicBezTo>
                  <a:cubicBezTo>
                    <a:pt x="151" y="6"/>
                    <a:pt x="166" y="5"/>
                    <a:pt x="176" y="5"/>
                  </a:cubicBezTo>
                  <a:cubicBezTo>
                    <a:pt x="181" y="5"/>
                    <a:pt x="185" y="5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4"/>
                  </a:cubicBezTo>
                  <a:cubicBezTo>
                    <a:pt x="185" y="4"/>
                    <a:pt x="181" y="4"/>
                    <a:pt x="176" y="3"/>
                  </a:cubicBezTo>
                  <a:cubicBezTo>
                    <a:pt x="166" y="3"/>
                    <a:pt x="151" y="2"/>
                    <a:pt x="133" y="2"/>
                  </a:cubicBezTo>
                  <a:cubicBezTo>
                    <a:pt x="116" y="2"/>
                    <a:pt x="95" y="1"/>
                    <a:pt x="73" y="1"/>
                  </a:cubicBezTo>
                  <a:cubicBezTo>
                    <a:pt x="62" y="1"/>
                    <a:pt x="51" y="1"/>
                    <a:pt x="39" y="1"/>
                  </a:cubicBezTo>
                  <a:cubicBezTo>
                    <a:pt x="27" y="1"/>
                    <a:pt x="16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3" y="8"/>
                    <a:pt x="4" y="8"/>
                  </a:cubicBezTo>
                  <a:cubicBezTo>
                    <a:pt x="16" y="8"/>
                    <a:pt x="27" y="8"/>
                    <a:pt x="39" y="8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7" name="Freeform 64"/>
            <p:cNvSpPr/>
            <p:nvPr/>
          </p:nvSpPr>
          <p:spPr>
            <a:xfrm>
              <a:off x="5941080" y="3354840"/>
              <a:ext cx="5270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7"/>
                  </a:moveTo>
                  <a:cubicBezTo>
                    <a:pt x="97" y="7"/>
                    <a:pt x="110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1"/>
                    <a:pt x="150" y="1"/>
                    <a:pt x="124" y="0"/>
                  </a:cubicBezTo>
                  <a:cubicBezTo>
                    <a:pt x="110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3" y="7"/>
                    <a:pt x="27" y="7"/>
                    <a:pt x="41" y="8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8" name="Freeform 65"/>
            <p:cNvSpPr/>
            <p:nvPr/>
          </p:nvSpPr>
          <p:spPr>
            <a:xfrm>
              <a:off x="6558480" y="329940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0"/>
                    <a:pt x="209" y="0"/>
                    <a:pt x="195" y="1"/>
                  </a:cubicBezTo>
                  <a:cubicBezTo>
                    <a:pt x="180" y="1"/>
                    <a:pt x="165" y="1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2"/>
                    <a:pt x="86" y="2"/>
                    <a:pt x="75" y="2"/>
                  </a:cubicBezTo>
                  <a:cubicBezTo>
                    <a:pt x="52" y="2"/>
                    <a:pt x="33" y="3"/>
                    <a:pt x="20" y="3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5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7"/>
                    <a:pt x="98" y="7"/>
                    <a:pt x="111" y="7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8"/>
                    <a:pt x="180" y="8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8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88" y="1"/>
                    <a:pt x="286" y="1"/>
                    <a:pt x="284" y="1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9" name="Freeform 66"/>
            <p:cNvSpPr/>
            <p:nvPr/>
          </p:nvSpPr>
          <p:spPr>
            <a:xfrm>
              <a:off x="6985800" y="3202560"/>
              <a:ext cx="145800" cy="12600"/>
            </a:xfrm>
            <a:custGeom>
              <a:avLst/>
              <a:gdLst/>
              <a:ahLst/>
              <a:rect l="l" t="t" r="r" b="b"/>
              <a:pathLst>
                <a:path w="74" h="6">
                  <a:moveTo>
                    <a:pt x="41" y="1"/>
                  </a:moveTo>
                  <a:cubicBezTo>
                    <a:pt x="16" y="2"/>
                    <a:pt x="0" y="3"/>
                    <a:pt x="0" y="3"/>
                  </a:cubicBezTo>
                  <a:cubicBezTo>
                    <a:pt x="0" y="3"/>
                    <a:pt x="16" y="4"/>
                    <a:pt x="41" y="5"/>
                  </a:cubicBezTo>
                  <a:cubicBezTo>
                    <a:pt x="47" y="5"/>
                    <a:pt x="54" y="6"/>
                    <a:pt x="61" y="6"/>
                  </a:cubicBezTo>
                  <a:cubicBezTo>
                    <a:pt x="65" y="6"/>
                    <a:pt x="70" y="6"/>
                    <a:pt x="74" y="6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0"/>
                    <a:pt x="61" y="0"/>
                  </a:cubicBezTo>
                  <a:cubicBezTo>
                    <a:pt x="54" y="0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0" name="Freeform 67"/>
            <p:cNvSpPr/>
            <p:nvPr/>
          </p:nvSpPr>
          <p:spPr>
            <a:xfrm>
              <a:off x="6787080" y="3047040"/>
              <a:ext cx="344160" cy="15840"/>
            </a:xfrm>
            <a:custGeom>
              <a:avLst/>
              <a:gdLst/>
              <a:ahLst/>
              <a:rect l="l" t="t" r="r" b="b"/>
              <a:pathLst>
                <a:path w="174" h="8">
                  <a:moveTo>
                    <a:pt x="115" y="1"/>
                  </a:moveTo>
                  <a:cubicBezTo>
                    <a:pt x="104" y="1"/>
                    <a:pt x="94" y="1"/>
                    <a:pt x="84" y="1"/>
                  </a:cubicBezTo>
                  <a:cubicBezTo>
                    <a:pt x="74" y="2"/>
                    <a:pt x="65" y="2"/>
                    <a:pt x="57" y="2"/>
                  </a:cubicBezTo>
                  <a:cubicBezTo>
                    <a:pt x="23" y="3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7"/>
                    <a:pt x="74" y="7"/>
                    <a:pt x="84" y="7"/>
                  </a:cubicBezTo>
                  <a:cubicBezTo>
                    <a:pt x="94" y="7"/>
                    <a:pt x="104" y="7"/>
                    <a:pt x="115" y="8"/>
                  </a:cubicBezTo>
                  <a:cubicBezTo>
                    <a:pt x="125" y="8"/>
                    <a:pt x="136" y="8"/>
                    <a:pt x="148" y="8"/>
                  </a:cubicBezTo>
                  <a:cubicBezTo>
                    <a:pt x="156" y="8"/>
                    <a:pt x="165" y="8"/>
                    <a:pt x="174" y="8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1"/>
                    <a:pt x="156" y="1"/>
                    <a:pt x="148" y="1"/>
                  </a:cubicBezTo>
                  <a:cubicBezTo>
                    <a:pt x="136" y="1"/>
                    <a:pt x="125" y="1"/>
                    <a:pt x="115" y="1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1" name="Freeform 68"/>
            <p:cNvSpPr/>
            <p:nvPr/>
          </p:nvSpPr>
          <p:spPr>
            <a:xfrm>
              <a:off x="6657120" y="2848680"/>
              <a:ext cx="474480" cy="15840"/>
            </a:xfrm>
            <a:custGeom>
              <a:avLst/>
              <a:gdLst/>
              <a:ahLst/>
              <a:rect l="l" t="t" r="r" b="b"/>
              <a:pathLst>
                <a:path w="240" h="8">
                  <a:moveTo>
                    <a:pt x="174" y="0"/>
                  </a:moveTo>
                  <a:cubicBezTo>
                    <a:pt x="161" y="0"/>
                    <a:pt x="148" y="0"/>
                    <a:pt x="135" y="1"/>
                  </a:cubicBezTo>
                  <a:cubicBezTo>
                    <a:pt x="123" y="1"/>
                    <a:pt x="111" y="1"/>
                    <a:pt x="99" y="1"/>
                  </a:cubicBezTo>
                  <a:cubicBezTo>
                    <a:pt x="88" y="1"/>
                    <a:pt x="77" y="1"/>
                    <a:pt x="67" y="2"/>
                  </a:cubicBezTo>
                  <a:cubicBezTo>
                    <a:pt x="47" y="2"/>
                    <a:pt x="30" y="3"/>
                    <a:pt x="18" y="3"/>
                  </a:cubicBezTo>
                  <a:cubicBezTo>
                    <a:pt x="12" y="3"/>
                    <a:pt x="8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8" y="4"/>
                    <a:pt x="12" y="4"/>
                    <a:pt x="18" y="5"/>
                  </a:cubicBezTo>
                  <a:cubicBezTo>
                    <a:pt x="30" y="5"/>
                    <a:pt x="47" y="6"/>
                    <a:pt x="67" y="6"/>
                  </a:cubicBezTo>
                  <a:cubicBezTo>
                    <a:pt x="77" y="6"/>
                    <a:pt x="88" y="6"/>
                    <a:pt x="99" y="7"/>
                  </a:cubicBezTo>
                  <a:cubicBezTo>
                    <a:pt x="111" y="7"/>
                    <a:pt x="123" y="7"/>
                    <a:pt x="135" y="7"/>
                  </a:cubicBezTo>
                  <a:cubicBezTo>
                    <a:pt x="148" y="7"/>
                    <a:pt x="161" y="7"/>
                    <a:pt x="174" y="7"/>
                  </a:cubicBezTo>
                  <a:cubicBezTo>
                    <a:pt x="187" y="8"/>
                    <a:pt x="201" y="8"/>
                    <a:pt x="214" y="8"/>
                  </a:cubicBezTo>
                  <a:cubicBezTo>
                    <a:pt x="223" y="8"/>
                    <a:pt x="231" y="8"/>
                    <a:pt x="240" y="8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31" y="0"/>
                    <a:pt x="223" y="0"/>
                    <a:pt x="214" y="0"/>
                  </a:cubicBezTo>
                  <a:cubicBezTo>
                    <a:pt x="201" y="0"/>
                    <a:pt x="187" y="0"/>
                    <a:pt x="174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2" name="Freeform 69"/>
            <p:cNvSpPr/>
            <p:nvPr/>
          </p:nvSpPr>
          <p:spPr>
            <a:xfrm>
              <a:off x="6739560" y="2649960"/>
              <a:ext cx="392040" cy="14040"/>
            </a:xfrm>
            <a:custGeom>
              <a:avLst/>
              <a:gdLst/>
              <a:ahLst/>
              <a:rect l="l" t="t" r="r" b="b"/>
              <a:pathLst>
                <a:path w="198" h="7">
                  <a:moveTo>
                    <a:pt x="157" y="0"/>
                  </a:moveTo>
                  <a:cubicBezTo>
                    <a:pt x="145" y="0"/>
                    <a:pt x="134" y="0"/>
                    <a:pt x="122" y="0"/>
                  </a:cubicBezTo>
                  <a:cubicBezTo>
                    <a:pt x="111" y="0"/>
                    <a:pt x="100" y="1"/>
                    <a:pt x="90" y="1"/>
                  </a:cubicBezTo>
                  <a:cubicBezTo>
                    <a:pt x="79" y="1"/>
                    <a:pt x="69" y="1"/>
                    <a:pt x="60" y="1"/>
                  </a:cubicBezTo>
                  <a:cubicBezTo>
                    <a:pt x="42" y="2"/>
                    <a:pt x="27" y="2"/>
                    <a:pt x="17" y="3"/>
                  </a:cubicBezTo>
                  <a:cubicBezTo>
                    <a:pt x="11" y="3"/>
                    <a:pt x="7" y="3"/>
                    <a:pt x="4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4"/>
                    <a:pt x="4" y="4"/>
                  </a:cubicBezTo>
                  <a:cubicBezTo>
                    <a:pt x="7" y="4"/>
                    <a:pt x="11" y="4"/>
                    <a:pt x="17" y="4"/>
                  </a:cubicBezTo>
                  <a:cubicBezTo>
                    <a:pt x="27" y="5"/>
                    <a:pt x="42" y="5"/>
                    <a:pt x="60" y="6"/>
                  </a:cubicBezTo>
                  <a:cubicBezTo>
                    <a:pt x="69" y="6"/>
                    <a:pt x="79" y="6"/>
                    <a:pt x="90" y="6"/>
                  </a:cubicBezTo>
                  <a:cubicBezTo>
                    <a:pt x="100" y="6"/>
                    <a:pt x="111" y="7"/>
                    <a:pt x="122" y="7"/>
                  </a:cubicBezTo>
                  <a:cubicBezTo>
                    <a:pt x="134" y="7"/>
                    <a:pt x="145" y="7"/>
                    <a:pt x="157" y="7"/>
                  </a:cubicBezTo>
                  <a:cubicBezTo>
                    <a:pt x="169" y="7"/>
                    <a:pt x="181" y="7"/>
                    <a:pt x="193" y="7"/>
                  </a:cubicBezTo>
                  <a:cubicBezTo>
                    <a:pt x="195" y="7"/>
                    <a:pt x="196" y="7"/>
                    <a:pt x="198" y="7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6" y="0"/>
                    <a:pt x="195" y="0"/>
                    <a:pt x="193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3" name="Freeform 70"/>
            <p:cNvSpPr/>
            <p:nvPr/>
          </p:nvSpPr>
          <p:spPr>
            <a:xfrm>
              <a:off x="6822000" y="2570760"/>
              <a:ext cx="309240" cy="1404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0"/>
                    <a:pt x="89" y="0"/>
                    <a:pt x="80" y="1"/>
                  </a:cubicBezTo>
                  <a:cubicBezTo>
                    <a:pt x="71" y="1"/>
                    <a:pt x="62" y="1"/>
                    <a:pt x="54" y="1"/>
                  </a:cubicBezTo>
                  <a:cubicBezTo>
                    <a:pt x="21" y="2"/>
                    <a:pt x="0" y="3"/>
                    <a:pt x="0" y="3"/>
                  </a:cubicBezTo>
                  <a:cubicBezTo>
                    <a:pt x="0" y="3"/>
                    <a:pt x="21" y="5"/>
                    <a:pt x="54" y="5"/>
                  </a:cubicBezTo>
                  <a:cubicBezTo>
                    <a:pt x="62" y="6"/>
                    <a:pt x="71" y="6"/>
                    <a:pt x="80" y="6"/>
                  </a:cubicBezTo>
                  <a:cubicBezTo>
                    <a:pt x="89" y="6"/>
                    <a:pt x="99" y="7"/>
                    <a:pt x="109" y="7"/>
                  </a:cubicBezTo>
                  <a:cubicBezTo>
                    <a:pt x="119" y="7"/>
                    <a:pt x="130" y="7"/>
                    <a:pt x="141" y="7"/>
                  </a:cubicBezTo>
                  <a:cubicBezTo>
                    <a:pt x="146" y="7"/>
                    <a:pt x="151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1" y="0"/>
                    <a:pt x="146" y="0"/>
                    <a:pt x="141" y="0"/>
                  </a:cubicBezTo>
                  <a:cubicBezTo>
                    <a:pt x="130" y="0"/>
                    <a:pt x="119" y="0"/>
                    <a:pt x="109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4" name="Freeform 71"/>
            <p:cNvSpPr/>
            <p:nvPr/>
          </p:nvSpPr>
          <p:spPr>
            <a:xfrm>
              <a:off x="6669720" y="2440440"/>
              <a:ext cx="461880" cy="15840"/>
            </a:xfrm>
            <a:custGeom>
              <a:avLst/>
              <a:gdLst/>
              <a:ahLst/>
              <a:rect l="l" t="t" r="r" b="b"/>
              <a:pathLst>
                <a:path w="234" h="8">
                  <a:moveTo>
                    <a:pt x="172" y="0"/>
                  </a:moveTo>
                  <a:cubicBezTo>
                    <a:pt x="159" y="0"/>
                    <a:pt x="146" y="1"/>
                    <a:pt x="134" y="1"/>
                  </a:cubicBezTo>
                  <a:cubicBezTo>
                    <a:pt x="121" y="1"/>
                    <a:pt x="109" y="1"/>
                    <a:pt x="98" y="1"/>
                  </a:cubicBezTo>
                  <a:cubicBezTo>
                    <a:pt x="86" y="2"/>
                    <a:pt x="76" y="2"/>
                    <a:pt x="66" y="2"/>
                  </a:cubicBezTo>
                  <a:cubicBezTo>
                    <a:pt x="46" y="2"/>
                    <a:pt x="29" y="3"/>
                    <a:pt x="18" y="3"/>
                  </a:cubicBezTo>
                  <a:cubicBezTo>
                    <a:pt x="12" y="4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6" y="6"/>
                    <a:pt x="66" y="6"/>
                  </a:cubicBezTo>
                  <a:cubicBezTo>
                    <a:pt x="76" y="6"/>
                    <a:pt x="86" y="7"/>
                    <a:pt x="98" y="7"/>
                  </a:cubicBezTo>
                  <a:cubicBezTo>
                    <a:pt x="109" y="7"/>
                    <a:pt x="121" y="7"/>
                    <a:pt x="134" y="7"/>
                  </a:cubicBezTo>
                  <a:cubicBezTo>
                    <a:pt x="146" y="7"/>
                    <a:pt x="159" y="8"/>
                    <a:pt x="172" y="8"/>
                  </a:cubicBezTo>
                  <a:cubicBezTo>
                    <a:pt x="185" y="8"/>
                    <a:pt x="198" y="8"/>
                    <a:pt x="211" y="8"/>
                  </a:cubicBezTo>
                  <a:cubicBezTo>
                    <a:pt x="219" y="8"/>
                    <a:pt x="226" y="8"/>
                    <a:pt x="234" y="8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26" y="0"/>
                    <a:pt x="219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5" name="Freeform 72"/>
            <p:cNvSpPr/>
            <p:nvPr/>
          </p:nvSpPr>
          <p:spPr>
            <a:xfrm>
              <a:off x="6945840" y="2383200"/>
              <a:ext cx="185400" cy="10800"/>
            </a:xfrm>
            <a:custGeom>
              <a:avLst/>
              <a:gdLst/>
              <a:ahLst/>
              <a:rect l="l" t="t" r="r" b="b"/>
              <a:pathLst>
                <a:path w="94" h="6">
                  <a:moveTo>
                    <a:pt x="66" y="0"/>
                  </a:moveTo>
                  <a:cubicBezTo>
                    <a:pt x="58" y="0"/>
                    <a:pt x="51" y="1"/>
                    <a:pt x="44" y="1"/>
                  </a:cubicBezTo>
                  <a:cubicBezTo>
                    <a:pt x="18" y="2"/>
                    <a:pt x="0" y="3"/>
                    <a:pt x="0" y="3"/>
                  </a:cubicBezTo>
                  <a:cubicBezTo>
                    <a:pt x="0" y="3"/>
                    <a:pt x="18" y="4"/>
                    <a:pt x="44" y="5"/>
                  </a:cubicBezTo>
                  <a:cubicBezTo>
                    <a:pt x="51" y="5"/>
                    <a:pt x="58" y="6"/>
                    <a:pt x="66" y="6"/>
                  </a:cubicBezTo>
                  <a:cubicBezTo>
                    <a:pt x="73" y="6"/>
                    <a:pt x="81" y="6"/>
                    <a:pt x="90" y="6"/>
                  </a:cubicBezTo>
                  <a:cubicBezTo>
                    <a:pt x="91" y="6"/>
                    <a:pt x="93" y="6"/>
                    <a:pt x="94" y="6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1" y="0"/>
                    <a:pt x="90" y="0"/>
                  </a:cubicBezTo>
                  <a:cubicBezTo>
                    <a:pt x="81" y="0"/>
                    <a:pt x="73" y="0"/>
                    <a:pt x="66" y="0"/>
                  </a:cubicBezTo>
                  <a:close/>
                </a:path>
              </a:pathLst>
            </a:custGeom>
            <a:solidFill>
              <a:srgbClr val="d3c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6" name="Rectangle 73"/>
            <p:cNvSpPr/>
            <p:nvPr/>
          </p:nvSpPr>
          <p:spPr>
            <a:xfrm>
              <a:off x="5689440" y="5479920"/>
              <a:ext cx="1190520" cy="5554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7" name="Freeform 74"/>
            <p:cNvSpPr/>
            <p:nvPr/>
          </p:nvSpPr>
          <p:spPr>
            <a:xfrm>
              <a:off x="6574320" y="4695120"/>
              <a:ext cx="33804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7"/>
                  </a:moveTo>
                  <a:cubicBezTo>
                    <a:pt x="79" y="7"/>
                    <a:pt x="99" y="7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3"/>
                    <a:pt x="115" y="2"/>
                  </a:cubicBezTo>
                  <a:cubicBezTo>
                    <a:pt x="99" y="1"/>
                    <a:pt x="79" y="1"/>
                    <a:pt x="59" y="1"/>
                  </a:cubicBezTo>
                  <a:cubicBezTo>
                    <a:pt x="48" y="1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6" y="8"/>
                  </a:cubicBezTo>
                  <a:cubicBezTo>
                    <a:pt x="37" y="8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8" name="Freeform 75"/>
            <p:cNvSpPr/>
            <p:nvPr/>
          </p:nvSpPr>
          <p:spPr>
            <a:xfrm>
              <a:off x="6574320" y="4944240"/>
              <a:ext cx="496800" cy="14040"/>
            </a:xfrm>
            <a:custGeom>
              <a:avLst/>
              <a:gdLst/>
              <a:ahLst/>
              <a:rect l="l" t="t" r="r" b="b"/>
              <a:pathLst>
                <a:path w="251" h="7">
                  <a:moveTo>
                    <a:pt x="74" y="7"/>
                  </a:moveTo>
                  <a:cubicBezTo>
                    <a:pt x="87" y="7"/>
                    <a:pt x="101" y="7"/>
                    <a:pt x="113" y="7"/>
                  </a:cubicBezTo>
                  <a:cubicBezTo>
                    <a:pt x="139" y="6"/>
                    <a:pt x="163" y="6"/>
                    <a:pt x="183" y="6"/>
                  </a:cubicBezTo>
                  <a:cubicBezTo>
                    <a:pt x="204" y="5"/>
                    <a:pt x="221" y="4"/>
                    <a:pt x="232" y="4"/>
                  </a:cubicBezTo>
                  <a:cubicBezTo>
                    <a:pt x="238" y="4"/>
                    <a:pt x="243" y="4"/>
                    <a:pt x="246" y="4"/>
                  </a:cubicBezTo>
                  <a:cubicBezTo>
                    <a:pt x="249" y="3"/>
                    <a:pt x="251" y="3"/>
                    <a:pt x="251" y="3"/>
                  </a:cubicBezTo>
                  <a:cubicBezTo>
                    <a:pt x="251" y="3"/>
                    <a:pt x="249" y="3"/>
                    <a:pt x="246" y="3"/>
                  </a:cubicBezTo>
                  <a:cubicBezTo>
                    <a:pt x="243" y="3"/>
                    <a:pt x="238" y="3"/>
                    <a:pt x="232" y="3"/>
                  </a:cubicBezTo>
                  <a:cubicBezTo>
                    <a:pt x="221" y="2"/>
                    <a:pt x="204" y="2"/>
                    <a:pt x="183" y="1"/>
                  </a:cubicBezTo>
                  <a:cubicBezTo>
                    <a:pt x="163" y="1"/>
                    <a:pt x="139" y="0"/>
                    <a:pt x="113" y="0"/>
                  </a:cubicBezTo>
                  <a:cubicBezTo>
                    <a:pt x="101" y="0"/>
                    <a:pt x="87" y="0"/>
                    <a:pt x="74" y="0"/>
                  </a:cubicBezTo>
                  <a:cubicBezTo>
                    <a:pt x="61" y="0"/>
                    <a:pt x="47" y="0"/>
                    <a:pt x="33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3" y="7"/>
                  </a:cubicBezTo>
                  <a:cubicBezTo>
                    <a:pt x="47" y="7"/>
                    <a:pt x="61" y="7"/>
                    <a:pt x="74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9" name="Freeform 76"/>
            <p:cNvSpPr/>
            <p:nvPr/>
          </p:nvSpPr>
          <p:spPr>
            <a:xfrm>
              <a:off x="6574320" y="5042520"/>
              <a:ext cx="33804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79" y="7"/>
                    <a:pt x="99" y="6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5" y="1"/>
                  </a:cubicBezTo>
                  <a:cubicBezTo>
                    <a:pt x="99" y="1"/>
                    <a:pt x="79" y="1"/>
                    <a:pt x="59" y="0"/>
                  </a:cubicBezTo>
                  <a:cubicBezTo>
                    <a:pt x="48" y="0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6" y="7"/>
                  </a:cubicBezTo>
                  <a:cubicBezTo>
                    <a:pt x="37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0" name="Freeform 77"/>
            <p:cNvSpPr/>
            <p:nvPr/>
          </p:nvSpPr>
          <p:spPr>
            <a:xfrm>
              <a:off x="6472080" y="5958000"/>
              <a:ext cx="407880" cy="1404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1"/>
                    <a:pt x="102" y="1"/>
                    <a:pt x="92" y="1"/>
                  </a:cubicBezTo>
                  <a:cubicBezTo>
                    <a:pt x="81" y="1"/>
                    <a:pt x="71" y="1"/>
                    <a:pt x="62" y="2"/>
                  </a:cubicBezTo>
                  <a:cubicBezTo>
                    <a:pt x="44" y="2"/>
                    <a:pt x="28" y="3"/>
                    <a:pt x="17" y="3"/>
                  </a:cubicBezTo>
                  <a:cubicBezTo>
                    <a:pt x="12" y="3"/>
                    <a:pt x="8" y="3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5"/>
                    <a:pt x="44" y="5"/>
                    <a:pt x="62" y="6"/>
                  </a:cubicBezTo>
                  <a:cubicBezTo>
                    <a:pt x="71" y="6"/>
                    <a:pt x="81" y="6"/>
                    <a:pt x="92" y="7"/>
                  </a:cubicBezTo>
                  <a:cubicBezTo>
                    <a:pt x="102" y="7"/>
                    <a:pt x="114" y="7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1" name="Freeform 78"/>
            <p:cNvSpPr/>
            <p:nvPr/>
          </p:nvSpPr>
          <p:spPr>
            <a:xfrm>
              <a:off x="6429240" y="5859360"/>
              <a:ext cx="450720" cy="1260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19" y="0"/>
                    <a:pt x="108" y="1"/>
                    <a:pt x="96" y="1"/>
                  </a:cubicBezTo>
                  <a:cubicBezTo>
                    <a:pt x="85" y="1"/>
                    <a:pt x="75" y="1"/>
                    <a:pt x="65" y="1"/>
                  </a:cubicBezTo>
                  <a:cubicBezTo>
                    <a:pt x="45" y="2"/>
                    <a:pt x="29" y="2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6" y="6"/>
                  </a:cubicBezTo>
                  <a:cubicBezTo>
                    <a:pt x="108" y="6"/>
                    <a:pt x="119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1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2" name="Freeform 79"/>
            <p:cNvSpPr/>
            <p:nvPr/>
          </p:nvSpPr>
          <p:spPr>
            <a:xfrm>
              <a:off x="6306840" y="570852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1"/>
                    <a:pt x="209" y="1"/>
                    <a:pt x="195" y="1"/>
                  </a:cubicBezTo>
                  <a:cubicBezTo>
                    <a:pt x="180" y="1"/>
                    <a:pt x="165" y="1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2"/>
                    <a:pt x="86" y="2"/>
                    <a:pt x="75" y="2"/>
                  </a:cubicBezTo>
                  <a:cubicBezTo>
                    <a:pt x="52" y="3"/>
                    <a:pt x="33" y="3"/>
                    <a:pt x="20" y="4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5"/>
                    <a:pt x="14" y="5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7"/>
                    <a:pt x="98" y="7"/>
                    <a:pt x="111" y="7"/>
                  </a:cubicBezTo>
                  <a:cubicBezTo>
                    <a:pt x="124" y="7"/>
                    <a:pt x="137" y="7"/>
                    <a:pt x="151" y="8"/>
                  </a:cubicBezTo>
                  <a:cubicBezTo>
                    <a:pt x="165" y="8"/>
                    <a:pt x="180" y="8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8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88" y="1"/>
                    <a:pt x="286" y="1"/>
                    <a:pt x="284" y="1"/>
                  </a:cubicBezTo>
                  <a:cubicBezTo>
                    <a:pt x="269" y="1"/>
                    <a:pt x="254" y="1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3" name="Freeform 80"/>
            <p:cNvSpPr/>
            <p:nvPr/>
          </p:nvSpPr>
          <p:spPr>
            <a:xfrm>
              <a:off x="6638760" y="5510160"/>
              <a:ext cx="241200" cy="140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72" y="1"/>
                  </a:moveTo>
                  <a:cubicBezTo>
                    <a:pt x="63" y="1"/>
                    <a:pt x="55" y="2"/>
                    <a:pt x="48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5" y="6"/>
                    <a:pt x="63" y="7"/>
                    <a:pt x="72" y="7"/>
                  </a:cubicBezTo>
                  <a:cubicBezTo>
                    <a:pt x="80" y="7"/>
                    <a:pt x="89" y="7"/>
                    <a:pt x="98" y="7"/>
                  </a:cubicBezTo>
                  <a:cubicBezTo>
                    <a:pt x="106" y="7"/>
                    <a:pt x="114" y="7"/>
                    <a:pt x="122" y="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1"/>
                    <a:pt x="98" y="1"/>
                  </a:cubicBezTo>
                  <a:cubicBezTo>
                    <a:pt x="89" y="1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4" name="Rectangle 81">
              <a:hlinkClick r:id="rId6"/>
            </p:cNvPr>
            <p:cNvSpPr/>
            <p:nvPr/>
          </p:nvSpPr>
          <p:spPr>
            <a:xfrm>
              <a:off x="5618160" y="4641840"/>
              <a:ext cx="1190520" cy="8380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5" name="Freeform 82"/>
            <p:cNvSpPr/>
            <p:nvPr/>
          </p:nvSpPr>
          <p:spPr>
            <a:xfrm>
              <a:off x="6503040" y="3971160"/>
              <a:ext cx="139680" cy="1404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71" y="4"/>
                  </a:moveTo>
                  <a:cubicBezTo>
                    <a:pt x="71" y="4"/>
                    <a:pt x="55" y="2"/>
                    <a:pt x="31" y="1"/>
                  </a:cubicBezTo>
                  <a:cubicBezTo>
                    <a:pt x="22" y="1"/>
                    <a:pt x="11" y="1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6"/>
                    <a:pt x="22" y="6"/>
                    <a:pt x="31" y="6"/>
                  </a:cubicBezTo>
                  <a:cubicBezTo>
                    <a:pt x="55" y="5"/>
                    <a:pt x="71" y="4"/>
                    <a:pt x="71" y="4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6" name="Freeform 83"/>
            <p:cNvSpPr/>
            <p:nvPr/>
          </p:nvSpPr>
          <p:spPr>
            <a:xfrm>
              <a:off x="6503040" y="406944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6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7" name="Freeform 84"/>
            <p:cNvSpPr/>
            <p:nvPr/>
          </p:nvSpPr>
          <p:spPr>
            <a:xfrm>
              <a:off x="6503040" y="4267800"/>
              <a:ext cx="65232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8"/>
                    <a:pt x="121" y="8"/>
                  </a:cubicBezTo>
                  <a:cubicBezTo>
                    <a:pt x="136" y="8"/>
                    <a:pt x="152" y="8"/>
                    <a:pt x="167" y="7"/>
                  </a:cubicBezTo>
                  <a:cubicBezTo>
                    <a:pt x="197" y="7"/>
                    <a:pt x="225" y="7"/>
                    <a:pt x="249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5"/>
                    <a:pt x="320" y="4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4"/>
                    <a:pt x="315" y="4"/>
                    <a:pt x="308" y="3"/>
                  </a:cubicBezTo>
                  <a:cubicBezTo>
                    <a:pt x="294" y="3"/>
                    <a:pt x="274" y="2"/>
                    <a:pt x="249" y="2"/>
                  </a:cubicBezTo>
                  <a:cubicBezTo>
                    <a:pt x="225" y="2"/>
                    <a:pt x="197" y="1"/>
                    <a:pt x="167" y="1"/>
                  </a:cubicBezTo>
                  <a:cubicBezTo>
                    <a:pt x="152" y="1"/>
                    <a:pt x="136" y="1"/>
                    <a:pt x="121" y="1"/>
                  </a:cubicBezTo>
                  <a:cubicBezTo>
                    <a:pt x="105" y="0"/>
                    <a:pt x="89" y="0"/>
                    <a:pt x="73" y="0"/>
                  </a:cubicBezTo>
                  <a:cubicBezTo>
                    <a:pt x="57" y="0"/>
                    <a:pt x="41" y="0"/>
                    <a:pt x="25" y="1"/>
                  </a:cubicBezTo>
                  <a:cubicBezTo>
                    <a:pt x="16" y="1"/>
                    <a:pt x="8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8"/>
                    <a:pt x="16" y="8"/>
                    <a:pt x="25" y="8"/>
                  </a:cubicBezTo>
                  <a:cubicBezTo>
                    <a:pt x="41" y="8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8" name="Freeform 85"/>
            <p:cNvSpPr/>
            <p:nvPr/>
          </p:nvSpPr>
          <p:spPr>
            <a:xfrm>
              <a:off x="6503040" y="4467960"/>
              <a:ext cx="525240" cy="12600"/>
            </a:xfrm>
            <a:custGeom>
              <a:avLst/>
              <a:gdLst/>
              <a:ahLst/>
              <a:rect l="l" t="t" r="r" b="b"/>
              <a:pathLst>
                <a:path w="266" h="7">
                  <a:moveTo>
                    <a:pt x="83" y="7"/>
                  </a:moveTo>
                  <a:cubicBezTo>
                    <a:pt x="97" y="7"/>
                    <a:pt x="110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5"/>
                    <a:pt x="235" y="5"/>
                    <a:pt x="247" y="4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3"/>
                    <a:pt x="261" y="3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2"/>
                    <a:pt x="217" y="2"/>
                    <a:pt x="196" y="1"/>
                  </a:cubicBezTo>
                  <a:cubicBezTo>
                    <a:pt x="175" y="1"/>
                    <a:pt x="150" y="0"/>
                    <a:pt x="124" y="0"/>
                  </a:cubicBezTo>
                  <a:cubicBezTo>
                    <a:pt x="110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3" y="7"/>
                    <a:pt x="27" y="7"/>
                    <a:pt x="41" y="7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9" name="Freeform 86"/>
            <p:cNvSpPr/>
            <p:nvPr/>
          </p:nvSpPr>
          <p:spPr>
            <a:xfrm>
              <a:off x="6503040" y="4547160"/>
              <a:ext cx="280800" cy="1260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7"/>
                    <a:pt x="76" y="6"/>
                    <a:pt x="91" y="6"/>
                  </a:cubicBezTo>
                  <a:cubicBezTo>
                    <a:pt x="122" y="5"/>
                    <a:pt x="142" y="4"/>
                    <a:pt x="142" y="4"/>
                  </a:cubicBezTo>
                  <a:cubicBezTo>
                    <a:pt x="142" y="4"/>
                    <a:pt x="122" y="2"/>
                    <a:pt x="91" y="2"/>
                  </a:cubicBezTo>
                  <a:cubicBezTo>
                    <a:pt x="76" y="1"/>
                    <a:pt x="58" y="1"/>
                    <a:pt x="39" y="0"/>
                  </a:cubicBezTo>
                  <a:cubicBezTo>
                    <a:pt x="29" y="0"/>
                    <a:pt x="1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9" y="7"/>
                  </a:cubicBezTo>
                  <a:cubicBezTo>
                    <a:pt x="19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0" name="Freeform 87"/>
            <p:cNvSpPr/>
            <p:nvPr/>
          </p:nvSpPr>
          <p:spPr>
            <a:xfrm>
              <a:off x="6357960" y="506268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0"/>
                  </a:moveTo>
                  <a:cubicBezTo>
                    <a:pt x="157" y="0"/>
                    <a:pt x="144" y="1"/>
                    <a:pt x="132" y="1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1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6"/>
                    <a:pt x="85" y="7"/>
                    <a:pt x="96" y="7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7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1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1" name="Freeform 88"/>
            <p:cNvSpPr/>
            <p:nvPr/>
          </p:nvSpPr>
          <p:spPr>
            <a:xfrm>
              <a:off x="6553080" y="5311800"/>
              <a:ext cx="255240" cy="14040"/>
            </a:xfrm>
            <a:custGeom>
              <a:avLst/>
              <a:gdLst/>
              <a:ahLst/>
              <a:rect l="l" t="t" r="r" b="b"/>
              <a:pathLst>
                <a:path w="129" h="7">
                  <a:moveTo>
                    <a:pt x="74" y="1"/>
                  </a:moveTo>
                  <a:cubicBezTo>
                    <a:pt x="66" y="1"/>
                    <a:pt x="58" y="1"/>
                    <a:pt x="50" y="1"/>
                  </a:cubicBezTo>
                  <a:cubicBezTo>
                    <a:pt x="20" y="2"/>
                    <a:pt x="0" y="4"/>
                    <a:pt x="0" y="4"/>
                  </a:cubicBezTo>
                  <a:cubicBezTo>
                    <a:pt x="0" y="4"/>
                    <a:pt x="20" y="5"/>
                    <a:pt x="50" y="6"/>
                  </a:cubicBezTo>
                  <a:cubicBezTo>
                    <a:pt x="58" y="6"/>
                    <a:pt x="66" y="6"/>
                    <a:pt x="74" y="6"/>
                  </a:cubicBezTo>
                  <a:cubicBezTo>
                    <a:pt x="83" y="7"/>
                    <a:pt x="92" y="7"/>
                    <a:pt x="101" y="7"/>
                  </a:cubicBezTo>
                  <a:cubicBezTo>
                    <a:pt x="110" y="7"/>
                    <a:pt x="119" y="7"/>
                    <a:pt x="129" y="7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9" y="0"/>
                    <a:pt x="110" y="0"/>
                    <a:pt x="101" y="0"/>
                  </a:cubicBezTo>
                  <a:cubicBezTo>
                    <a:pt x="92" y="0"/>
                    <a:pt x="83" y="1"/>
                    <a:pt x="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2" name="Freeform 89"/>
            <p:cNvSpPr/>
            <p:nvPr/>
          </p:nvSpPr>
          <p:spPr>
            <a:xfrm>
              <a:off x="6584760" y="4964040"/>
              <a:ext cx="22356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1"/>
                    <a:pt x="47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7" y="6"/>
                  </a:cubicBezTo>
                  <a:cubicBezTo>
                    <a:pt x="54" y="6"/>
                    <a:pt x="62" y="7"/>
                    <a:pt x="70" y="7"/>
                  </a:cubicBezTo>
                  <a:cubicBezTo>
                    <a:pt x="78" y="7"/>
                    <a:pt x="86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1"/>
                    <a:pt x="95" y="1"/>
                  </a:cubicBezTo>
                  <a:cubicBezTo>
                    <a:pt x="86" y="1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3" name="Freeform 90"/>
            <p:cNvSpPr/>
            <p:nvPr/>
          </p:nvSpPr>
          <p:spPr>
            <a:xfrm>
              <a:off x="6213240" y="476568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0"/>
                    <a:pt x="169" y="0"/>
                    <a:pt x="155" y="0"/>
                  </a:cubicBezTo>
                  <a:cubicBezTo>
                    <a:pt x="141" y="0"/>
                    <a:pt x="127" y="1"/>
                    <a:pt x="114" y="1"/>
                  </a:cubicBezTo>
                  <a:cubicBezTo>
                    <a:pt x="100" y="1"/>
                    <a:pt x="88" y="1"/>
                    <a:pt x="76" y="1"/>
                  </a:cubicBezTo>
                  <a:cubicBezTo>
                    <a:pt x="53" y="2"/>
                    <a:pt x="34" y="2"/>
                    <a:pt x="21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1" y="4"/>
                  </a:cubicBezTo>
                  <a:cubicBezTo>
                    <a:pt x="34" y="5"/>
                    <a:pt x="53" y="5"/>
                    <a:pt x="76" y="6"/>
                  </a:cubicBezTo>
                  <a:cubicBezTo>
                    <a:pt x="88" y="6"/>
                    <a:pt x="100" y="6"/>
                    <a:pt x="114" y="6"/>
                  </a:cubicBezTo>
                  <a:cubicBezTo>
                    <a:pt x="127" y="6"/>
                    <a:pt x="141" y="7"/>
                    <a:pt x="155" y="7"/>
                  </a:cubicBezTo>
                  <a:cubicBezTo>
                    <a:pt x="169" y="7"/>
                    <a:pt x="184" y="7"/>
                    <a:pt x="199" y="7"/>
                  </a:cubicBezTo>
                  <a:cubicBezTo>
                    <a:pt x="214" y="7"/>
                    <a:pt x="230" y="7"/>
                    <a:pt x="245" y="7"/>
                  </a:cubicBezTo>
                  <a:cubicBezTo>
                    <a:pt x="260" y="7"/>
                    <a:pt x="275" y="7"/>
                    <a:pt x="291" y="7"/>
                  </a:cubicBezTo>
                  <a:cubicBezTo>
                    <a:pt x="294" y="7"/>
                    <a:pt x="298" y="7"/>
                    <a:pt x="301" y="7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298" y="0"/>
                    <a:pt x="294" y="0"/>
                    <a:pt x="291" y="0"/>
                  </a:cubicBezTo>
                  <a:cubicBezTo>
                    <a:pt x="275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4" name="Freeform 91"/>
            <p:cNvSpPr/>
            <p:nvPr/>
          </p:nvSpPr>
          <p:spPr>
            <a:xfrm>
              <a:off x="6400800" y="4687920"/>
              <a:ext cx="407880" cy="1260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0"/>
                    <a:pt x="102" y="0"/>
                    <a:pt x="92" y="1"/>
                  </a:cubicBezTo>
                  <a:cubicBezTo>
                    <a:pt x="81" y="1"/>
                    <a:pt x="71" y="1"/>
                    <a:pt x="62" y="1"/>
                  </a:cubicBezTo>
                  <a:cubicBezTo>
                    <a:pt x="44" y="2"/>
                    <a:pt x="28" y="2"/>
                    <a:pt x="17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4"/>
                    <a:pt x="44" y="5"/>
                    <a:pt x="62" y="6"/>
                  </a:cubicBezTo>
                  <a:cubicBezTo>
                    <a:pt x="71" y="6"/>
                    <a:pt x="81" y="6"/>
                    <a:pt x="92" y="6"/>
                  </a:cubicBezTo>
                  <a:cubicBezTo>
                    <a:pt x="102" y="6"/>
                    <a:pt x="114" y="6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5" name="Rectangle 92">
              <a:hlinkClick r:id="rId7"/>
            </p:cNvPr>
            <p:cNvSpPr/>
            <p:nvPr/>
          </p:nvSpPr>
          <p:spPr>
            <a:xfrm>
              <a:off x="5641920" y="3800160"/>
              <a:ext cx="1190520" cy="84132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6" name="Freeform 93"/>
            <p:cNvSpPr/>
            <p:nvPr/>
          </p:nvSpPr>
          <p:spPr>
            <a:xfrm>
              <a:off x="6526800" y="306612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1"/>
                  </a:cubicBezTo>
                  <a:cubicBezTo>
                    <a:pt x="56" y="1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7" name="Freeform 94"/>
            <p:cNvSpPr/>
            <p:nvPr/>
          </p:nvSpPr>
          <p:spPr>
            <a:xfrm>
              <a:off x="6526800" y="3324960"/>
              <a:ext cx="303120" cy="14040"/>
            </a:xfrm>
            <a:custGeom>
              <a:avLst/>
              <a:gdLst/>
              <a:ahLst/>
              <a:rect l="l" t="t" r="r" b="b"/>
              <a:pathLst>
                <a:path w="153" h="7">
                  <a:moveTo>
                    <a:pt x="46" y="7"/>
                  </a:moveTo>
                  <a:cubicBezTo>
                    <a:pt x="66" y="6"/>
                    <a:pt x="84" y="6"/>
                    <a:pt x="100" y="6"/>
                  </a:cubicBezTo>
                  <a:cubicBezTo>
                    <a:pt x="132" y="5"/>
                    <a:pt x="153" y="3"/>
                    <a:pt x="153" y="3"/>
                  </a:cubicBezTo>
                  <a:cubicBezTo>
                    <a:pt x="153" y="3"/>
                    <a:pt x="132" y="2"/>
                    <a:pt x="100" y="1"/>
                  </a:cubicBezTo>
                  <a:cubicBezTo>
                    <a:pt x="84" y="1"/>
                    <a:pt x="66" y="0"/>
                    <a:pt x="46" y="0"/>
                  </a:cubicBezTo>
                  <a:cubicBezTo>
                    <a:pt x="36" y="0"/>
                    <a:pt x="26" y="0"/>
                    <a:pt x="16" y="0"/>
                  </a:cubicBezTo>
                  <a:cubicBezTo>
                    <a:pt x="10" y="0"/>
                    <a:pt x="5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10" y="7"/>
                    <a:pt x="16" y="7"/>
                  </a:cubicBezTo>
                  <a:cubicBezTo>
                    <a:pt x="26" y="7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8" name="Freeform 95"/>
            <p:cNvSpPr/>
            <p:nvPr/>
          </p:nvSpPr>
          <p:spPr>
            <a:xfrm>
              <a:off x="6526800" y="3424680"/>
              <a:ext cx="379080" cy="12600"/>
            </a:xfrm>
            <a:custGeom>
              <a:avLst/>
              <a:gdLst/>
              <a:ahLst/>
              <a:rect l="l" t="t" r="r" b="b"/>
              <a:pathLst>
                <a:path w="192" h="7">
                  <a:moveTo>
                    <a:pt x="39" y="7"/>
                  </a:moveTo>
                  <a:cubicBezTo>
                    <a:pt x="51" y="7"/>
                    <a:pt x="62" y="7"/>
                    <a:pt x="73" y="7"/>
                  </a:cubicBezTo>
                  <a:cubicBezTo>
                    <a:pt x="95" y="7"/>
                    <a:pt x="116" y="6"/>
                    <a:pt x="133" y="6"/>
                  </a:cubicBezTo>
                  <a:cubicBezTo>
                    <a:pt x="151" y="5"/>
                    <a:pt x="166" y="5"/>
                    <a:pt x="176" y="4"/>
                  </a:cubicBezTo>
                  <a:cubicBezTo>
                    <a:pt x="181" y="4"/>
                    <a:pt x="185" y="4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3"/>
                  </a:cubicBezTo>
                  <a:cubicBezTo>
                    <a:pt x="185" y="3"/>
                    <a:pt x="181" y="3"/>
                    <a:pt x="176" y="3"/>
                  </a:cubicBezTo>
                  <a:cubicBezTo>
                    <a:pt x="166" y="3"/>
                    <a:pt x="151" y="2"/>
                    <a:pt x="133" y="1"/>
                  </a:cubicBezTo>
                  <a:cubicBezTo>
                    <a:pt x="116" y="1"/>
                    <a:pt x="95" y="1"/>
                    <a:pt x="73" y="0"/>
                  </a:cubicBezTo>
                  <a:cubicBezTo>
                    <a:pt x="62" y="0"/>
                    <a:pt x="51" y="0"/>
                    <a:pt x="39" y="0"/>
                  </a:cubicBezTo>
                  <a:cubicBezTo>
                    <a:pt x="27" y="0"/>
                    <a:pt x="16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7"/>
                    <a:pt x="4" y="7"/>
                  </a:cubicBezTo>
                  <a:cubicBezTo>
                    <a:pt x="16" y="7"/>
                    <a:pt x="27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9" name="Freeform 96"/>
            <p:cNvSpPr/>
            <p:nvPr/>
          </p:nvSpPr>
          <p:spPr>
            <a:xfrm>
              <a:off x="6526800" y="3721680"/>
              <a:ext cx="5252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0" y="8"/>
                    <a:pt x="124" y="7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0" y="1"/>
                    <a:pt x="97" y="1"/>
                    <a:pt x="83" y="1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3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0" name="Freeform 97"/>
            <p:cNvSpPr/>
            <p:nvPr/>
          </p:nvSpPr>
          <p:spPr>
            <a:xfrm>
              <a:off x="6259320" y="4522680"/>
              <a:ext cx="5727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1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3" y="2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3" y="5"/>
                    <a:pt x="52" y="5"/>
                    <a:pt x="75" y="6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1" name="Freeform 98"/>
            <p:cNvSpPr/>
            <p:nvPr/>
          </p:nvSpPr>
          <p:spPr>
            <a:xfrm>
              <a:off x="6686280" y="4424400"/>
              <a:ext cx="145800" cy="126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41" y="1"/>
                  </a:moveTo>
                  <a:cubicBezTo>
                    <a:pt x="16" y="2"/>
                    <a:pt x="0" y="3"/>
                    <a:pt x="0" y="3"/>
                  </a:cubicBezTo>
                  <a:cubicBezTo>
                    <a:pt x="0" y="3"/>
                    <a:pt x="16" y="5"/>
                    <a:pt x="41" y="6"/>
                  </a:cubicBezTo>
                  <a:cubicBezTo>
                    <a:pt x="47" y="6"/>
                    <a:pt x="54" y="6"/>
                    <a:pt x="61" y="6"/>
                  </a:cubicBezTo>
                  <a:cubicBezTo>
                    <a:pt x="65" y="6"/>
                    <a:pt x="70" y="6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0"/>
                    <a:pt x="61" y="1"/>
                  </a:cubicBezTo>
                  <a:cubicBezTo>
                    <a:pt x="54" y="1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2" name="Freeform 99"/>
            <p:cNvSpPr/>
            <p:nvPr/>
          </p:nvSpPr>
          <p:spPr>
            <a:xfrm>
              <a:off x="6487920" y="4268520"/>
              <a:ext cx="344160" cy="14040"/>
            </a:xfrm>
            <a:custGeom>
              <a:avLst/>
              <a:gdLst/>
              <a:ahLst/>
              <a:rect l="l" t="t" r="r" b="b"/>
              <a:pathLst>
                <a:path w="174" h="7">
                  <a:moveTo>
                    <a:pt x="115" y="0"/>
                  </a:moveTo>
                  <a:cubicBezTo>
                    <a:pt x="104" y="0"/>
                    <a:pt x="94" y="1"/>
                    <a:pt x="84" y="1"/>
                  </a:cubicBezTo>
                  <a:cubicBezTo>
                    <a:pt x="74" y="1"/>
                    <a:pt x="65" y="1"/>
                    <a:pt x="57" y="1"/>
                  </a:cubicBezTo>
                  <a:cubicBezTo>
                    <a:pt x="23" y="2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6"/>
                    <a:pt x="74" y="6"/>
                    <a:pt x="84" y="6"/>
                  </a:cubicBezTo>
                  <a:cubicBezTo>
                    <a:pt x="94" y="7"/>
                    <a:pt x="104" y="7"/>
                    <a:pt x="115" y="7"/>
                  </a:cubicBezTo>
                  <a:cubicBezTo>
                    <a:pt x="125" y="7"/>
                    <a:pt x="136" y="7"/>
                    <a:pt x="148" y="7"/>
                  </a:cubicBezTo>
                  <a:cubicBezTo>
                    <a:pt x="156" y="7"/>
                    <a:pt x="165" y="7"/>
                    <a:pt x="174" y="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0"/>
                    <a:pt x="156" y="0"/>
                    <a:pt x="148" y="0"/>
                  </a:cubicBezTo>
                  <a:cubicBezTo>
                    <a:pt x="136" y="0"/>
                    <a:pt x="125" y="0"/>
                    <a:pt x="11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3" name="Freeform 100"/>
            <p:cNvSpPr/>
            <p:nvPr/>
          </p:nvSpPr>
          <p:spPr>
            <a:xfrm>
              <a:off x="6357960" y="4070160"/>
              <a:ext cx="474480" cy="15840"/>
            </a:xfrm>
            <a:custGeom>
              <a:avLst/>
              <a:gdLst/>
              <a:ahLst/>
              <a:rect l="l" t="t" r="r" b="b"/>
              <a:pathLst>
                <a:path w="240" h="8">
                  <a:moveTo>
                    <a:pt x="174" y="1"/>
                  </a:moveTo>
                  <a:cubicBezTo>
                    <a:pt x="161" y="1"/>
                    <a:pt x="148" y="1"/>
                    <a:pt x="135" y="1"/>
                  </a:cubicBezTo>
                  <a:cubicBezTo>
                    <a:pt x="123" y="1"/>
                    <a:pt x="111" y="1"/>
                    <a:pt x="99" y="1"/>
                  </a:cubicBezTo>
                  <a:cubicBezTo>
                    <a:pt x="88" y="2"/>
                    <a:pt x="77" y="2"/>
                    <a:pt x="67" y="2"/>
                  </a:cubicBezTo>
                  <a:cubicBezTo>
                    <a:pt x="47" y="2"/>
                    <a:pt x="30" y="3"/>
                    <a:pt x="18" y="3"/>
                  </a:cubicBezTo>
                  <a:cubicBezTo>
                    <a:pt x="12" y="4"/>
                    <a:pt x="8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8" y="5"/>
                    <a:pt x="12" y="5"/>
                    <a:pt x="18" y="5"/>
                  </a:cubicBezTo>
                  <a:cubicBezTo>
                    <a:pt x="30" y="5"/>
                    <a:pt x="47" y="6"/>
                    <a:pt x="67" y="6"/>
                  </a:cubicBezTo>
                  <a:cubicBezTo>
                    <a:pt x="77" y="7"/>
                    <a:pt x="88" y="7"/>
                    <a:pt x="99" y="7"/>
                  </a:cubicBezTo>
                  <a:cubicBezTo>
                    <a:pt x="111" y="7"/>
                    <a:pt x="123" y="7"/>
                    <a:pt x="135" y="8"/>
                  </a:cubicBezTo>
                  <a:cubicBezTo>
                    <a:pt x="148" y="8"/>
                    <a:pt x="161" y="8"/>
                    <a:pt x="174" y="8"/>
                  </a:cubicBezTo>
                  <a:cubicBezTo>
                    <a:pt x="187" y="8"/>
                    <a:pt x="201" y="8"/>
                    <a:pt x="214" y="8"/>
                  </a:cubicBezTo>
                  <a:cubicBezTo>
                    <a:pt x="223" y="8"/>
                    <a:pt x="231" y="8"/>
                    <a:pt x="240" y="8"/>
                  </a:cubicBezTo>
                  <a:cubicBezTo>
                    <a:pt x="240" y="1"/>
                    <a:pt x="240" y="1"/>
                    <a:pt x="240" y="1"/>
                  </a:cubicBezTo>
                  <a:cubicBezTo>
                    <a:pt x="231" y="1"/>
                    <a:pt x="223" y="0"/>
                    <a:pt x="214" y="0"/>
                  </a:cubicBezTo>
                  <a:cubicBezTo>
                    <a:pt x="201" y="0"/>
                    <a:pt x="187" y="1"/>
                    <a:pt x="1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Freeform 101"/>
            <p:cNvSpPr/>
            <p:nvPr/>
          </p:nvSpPr>
          <p:spPr>
            <a:xfrm>
              <a:off x="6440400" y="3871800"/>
              <a:ext cx="392040" cy="15840"/>
            </a:xfrm>
            <a:custGeom>
              <a:avLst/>
              <a:gdLst/>
              <a:ahLst/>
              <a:rect l="l" t="t" r="r" b="b"/>
              <a:pathLst>
                <a:path w="198" h="8">
                  <a:moveTo>
                    <a:pt x="157" y="0"/>
                  </a:moveTo>
                  <a:cubicBezTo>
                    <a:pt x="145" y="0"/>
                    <a:pt x="134" y="0"/>
                    <a:pt x="122" y="1"/>
                  </a:cubicBezTo>
                  <a:cubicBezTo>
                    <a:pt x="111" y="1"/>
                    <a:pt x="100" y="1"/>
                    <a:pt x="90" y="1"/>
                  </a:cubicBezTo>
                  <a:cubicBezTo>
                    <a:pt x="79" y="1"/>
                    <a:pt x="69" y="1"/>
                    <a:pt x="60" y="2"/>
                  </a:cubicBezTo>
                  <a:cubicBezTo>
                    <a:pt x="42" y="2"/>
                    <a:pt x="27" y="3"/>
                    <a:pt x="17" y="3"/>
                  </a:cubicBezTo>
                  <a:cubicBezTo>
                    <a:pt x="11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1" y="4"/>
                    <a:pt x="17" y="5"/>
                  </a:cubicBezTo>
                  <a:cubicBezTo>
                    <a:pt x="27" y="5"/>
                    <a:pt x="42" y="6"/>
                    <a:pt x="60" y="6"/>
                  </a:cubicBezTo>
                  <a:cubicBezTo>
                    <a:pt x="69" y="6"/>
                    <a:pt x="79" y="6"/>
                    <a:pt x="90" y="7"/>
                  </a:cubicBezTo>
                  <a:cubicBezTo>
                    <a:pt x="100" y="7"/>
                    <a:pt x="111" y="7"/>
                    <a:pt x="122" y="7"/>
                  </a:cubicBezTo>
                  <a:cubicBezTo>
                    <a:pt x="134" y="7"/>
                    <a:pt x="145" y="7"/>
                    <a:pt x="157" y="7"/>
                  </a:cubicBezTo>
                  <a:cubicBezTo>
                    <a:pt x="169" y="8"/>
                    <a:pt x="181" y="8"/>
                    <a:pt x="193" y="8"/>
                  </a:cubicBezTo>
                  <a:cubicBezTo>
                    <a:pt x="195" y="8"/>
                    <a:pt x="196" y="8"/>
                    <a:pt x="198" y="8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6" y="0"/>
                    <a:pt x="195" y="0"/>
                    <a:pt x="193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Freeform 102"/>
            <p:cNvSpPr/>
            <p:nvPr/>
          </p:nvSpPr>
          <p:spPr>
            <a:xfrm>
              <a:off x="6521400" y="3808440"/>
              <a:ext cx="311040" cy="1404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0"/>
                    <a:pt x="89" y="1"/>
                    <a:pt x="80" y="1"/>
                  </a:cubicBezTo>
                  <a:cubicBezTo>
                    <a:pt x="71" y="1"/>
                    <a:pt x="62" y="1"/>
                    <a:pt x="54" y="2"/>
                  </a:cubicBezTo>
                  <a:cubicBezTo>
                    <a:pt x="21" y="2"/>
                    <a:pt x="0" y="4"/>
                    <a:pt x="0" y="4"/>
                  </a:cubicBezTo>
                  <a:cubicBezTo>
                    <a:pt x="0" y="4"/>
                    <a:pt x="21" y="5"/>
                    <a:pt x="54" y="6"/>
                  </a:cubicBezTo>
                  <a:cubicBezTo>
                    <a:pt x="62" y="6"/>
                    <a:pt x="71" y="6"/>
                    <a:pt x="80" y="6"/>
                  </a:cubicBezTo>
                  <a:cubicBezTo>
                    <a:pt x="89" y="7"/>
                    <a:pt x="99" y="7"/>
                    <a:pt x="109" y="7"/>
                  </a:cubicBezTo>
                  <a:cubicBezTo>
                    <a:pt x="119" y="7"/>
                    <a:pt x="130" y="7"/>
                    <a:pt x="141" y="7"/>
                  </a:cubicBezTo>
                  <a:cubicBezTo>
                    <a:pt x="146" y="7"/>
                    <a:pt x="151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1" y="0"/>
                    <a:pt x="146" y="0"/>
                    <a:pt x="141" y="0"/>
                  </a:cubicBezTo>
                  <a:cubicBezTo>
                    <a:pt x="130" y="0"/>
                    <a:pt x="119" y="0"/>
                    <a:pt x="10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Rectangle 103">
              <a:hlinkClick r:id="rId8"/>
            </p:cNvPr>
            <p:cNvSpPr/>
            <p:nvPr/>
          </p:nvSpPr>
          <p:spPr>
            <a:xfrm>
              <a:off x="10844280" y="5479920"/>
              <a:ext cx="1190520" cy="5554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Freeform 104"/>
            <p:cNvSpPr/>
            <p:nvPr/>
          </p:nvSpPr>
          <p:spPr>
            <a:xfrm>
              <a:off x="10844280" y="5549760"/>
              <a:ext cx="338040" cy="15840"/>
            </a:xfrm>
            <a:custGeom>
              <a:avLst/>
              <a:gdLst/>
              <a:ahLst/>
              <a:rect l="l" t="t" r="r" b="b"/>
              <a:pathLst>
                <a:path w="171" h="8">
                  <a:moveTo>
                    <a:pt x="59" y="7"/>
                  </a:moveTo>
                  <a:cubicBezTo>
                    <a:pt x="79" y="7"/>
                    <a:pt x="99" y="7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3"/>
                    <a:pt x="115" y="2"/>
                  </a:cubicBezTo>
                  <a:cubicBezTo>
                    <a:pt x="99" y="1"/>
                    <a:pt x="79" y="1"/>
                    <a:pt x="59" y="1"/>
                  </a:cubicBezTo>
                  <a:cubicBezTo>
                    <a:pt x="48" y="1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9" y="8"/>
                    <a:pt x="18" y="8"/>
                    <a:pt x="26" y="8"/>
                  </a:cubicBezTo>
                  <a:cubicBezTo>
                    <a:pt x="37" y="8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105"/>
            <p:cNvSpPr/>
            <p:nvPr/>
          </p:nvSpPr>
          <p:spPr>
            <a:xfrm>
              <a:off x="10844280" y="5799240"/>
              <a:ext cx="496800" cy="14040"/>
            </a:xfrm>
            <a:custGeom>
              <a:avLst/>
              <a:gdLst/>
              <a:ahLst/>
              <a:rect l="l" t="t" r="r" b="b"/>
              <a:pathLst>
                <a:path w="251" h="7">
                  <a:moveTo>
                    <a:pt x="74" y="7"/>
                  </a:moveTo>
                  <a:cubicBezTo>
                    <a:pt x="87" y="7"/>
                    <a:pt x="101" y="7"/>
                    <a:pt x="113" y="7"/>
                  </a:cubicBezTo>
                  <a:cubicBezTo>
                    <a:pt x="139" y="6"/>
                    <a:pt x="163" y="6"/>
                    <a:pt x="183" y="6"/>
                  </a:cubicBezTo>
                  <a:cubicBezTo>
                    <a:pt x="204" y="5"/>
                    <a:pt x="221" y="4"/>
                    <a:pt x="232" y="4"/>
                  </a:cubicBezTo>
                  <a:cubicBezTo>
                    <a:pt x="238" y="4"/>
                    <a:pt x="243" y="4"/>
                    <a:pt x="246" y="4"/>
                  </a:cubicBezTo>
                  <a:cubicBezTo>
                    <a:pt x="249" y="3"/>
                    <a:pt x="251" y="3"/>
                    <a:pt x="251" y="3"/>
                  </a:cubicBezTo>
                  <a:cubicBezTo>
                    <a:pt x="251" y="3"/>
                    <a:pt x="249" y="3"/>
                    <a:pt x="246" y="3"/>
                  </a:cubicBezTo>
                  <a:cubicBezTo>
                    <a:pt x="243" y="3"/>
                    <a:pt x="238" y="3"/>
                    <a:pt x="232" y="3"/>
                  </a:cubicBezTo>
                  <a:cubicBezTo>
                    <a:pt x="221" y="2"/>
                    <a:pt x="204" y="2"/>
                    <a:pt x="183" y="1"/>
                  </a:cubicBezTo>
                  <a:cubicBezTo>
                    <a:pt x="163" y="1"/>
                    <a:pt x="139" y="0"/>
                    <a:pt x="113" y="0"/>
                  </a:cubicBezTo>
                  <a:cubicBezTo>
                    <a:pt x="101" y="0"/>
                    <a:pt x="87" y="0"/>
                    <a:pt x="74" y="0"/>
                  </a:cubicBezTo>
                  <a:cubicBezTo>
                    <a:pt x="61" y="0"/>
                    <a:pt x="47" y="0"/>
                    <a:pt x="33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7"/>
                    <a:pt x="22" y="7"/>
                    <a:pt x="33" y="7"/>
                  </a:cubicBezTo>
                  <a:cubicBezTo>
                    <a:pt x="47" y="7"/>
                    <a:pt x="61" y="7"/>
                    <a:pt x="74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Freeform 106"/>
            <p:cNvSpPr/>
            <p:nvPr/>
          </p:nvSpPr>
          <p:spPr>
            <a:xfrm>
              <a:off x="10844280" y="5897520"/>
              <a:ext cx="338040" cy="14040"/>
            </a:xfrm>
            <a:custGeom>
              <a:avLst/>
              <a:gdLst/>
              <a:ahLst/>
              <a:rect l="l" t="t" r="r" b="b"/>
              <a:pathLst>
                <a:path w="171" h="7">
                  <a:moveTo>
                    <a:pt x="59" y="7"/>
                  </a:moveTo>
                  <a:cubicBezTo>
                    <a:pt x="79" y="7"/>
                    <a:pt x="99" y="6"/>
                    <a:pt x="115" y="6"/>
                  </a:cubicBezTo>
                  <a:cubicBezTo>
                    <a:pt x="149" y="5"/>
                    <a:pt x="171" y="4"/>
                    <a:pt x="171" y="4"/>
                  </a:cubicBezTo>
                  <a:cubicBezTo>
                    <a:pt x="171" y="4"/>
                    <a:pt x="149" y="2"/>
                    <a:pt x="115" y="1"/>
                  </a:cubicBezTo>
                  <a:cubicBezTo>
                    <a:pt x="99" y="1"/>
                    <a:pt x="79" y="1"/>
                    <a:pt x="59" y="0"/>
                  </a:cubicBezTo>
                  <a:cubicBezTo>
                    <a:pt x="48" y="0"/>
                    <a:pt x="37" y="0"/>
                    <a:pt x="26" y="0"/>
                  </a:cubicBezTo>
                  <a:cubicBezTo>
                    <a:pt x="18" y="0"/>
                    <a:pt x="9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9" y="7"/>
                    <a:pt x="18" y="7"/>
                    <a:pt x="26" y="7"/>
                  </a:cubicBezTo>
                  <a:cubicBezTo>
                    <a:pt x="37" y="7"/>
                    <a:pt x="48" y="7"/>
                    <a:pt x="5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Freeform 107"/>
            <p:cNvSpPr/>
            <p:nvPr/>
          </p:nvSpPr>
          <p:spPr>
            <a:xfrm>
              <a:off x="11626920" y="5958000"/>
              <a:ext cx="407880" cy="1404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1"/>
                    <a:pt x="102" y="1"/>
                    <a:pt x="92" y="1"/>
                  </a:cubicBezTo>
                  <a:cubicBezTo>
                    <a:pt x="81" y="1"/>
                    <a:pt x="71" y="1"/>
                    <a:pt x="62" y="2"/>
                  </a:cubicBezTo>
                  <a:cubicBezTo>
                    <a:pt x="44" y="2"/>
                    <a:pt x="28" y="3"/>
                    <a:pt x="17" y="3"/>
                  </a:cubicBezTo>
                  <a:cubicBezTo>
                    <a:pt x="12" y="3"/>
                    <a:pt x="8" y="3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5"/>
                    <a:pt x="44" y="5"/>
                    <a:pt x="62" y="6"/>
                  </a:cubicBezTo>
                  <a:cubicBezTo>
                    <a:pt x="71" y="6"/>
                    <a:pt x="81" y="6"/>
                    <a:pt x="92" y="7"/>
                  </a:cubicBezTo>
                  <a:cubicBezTo>
                    <a:pt x="102" y="7"/>
                    <a:pt x="114" y="7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Freeform 108"/>
            <p:cNvSpPr/>
            <p:nvPr/>
          </p:nvSpPr>
          <p:spPr>
            <a:xfrm>
              <a:off x="11584080" y="5859360"/>
              <a:ext cx="450720" cy="12600"/>
            </a:xfrm>
            <a:custGeom>
              <a:avLst/>
              <a:gdLst/>
              <a:ahLst/>
              <a:rect l="l" t="t" r="r" b="b"/>
              <a:pathLst>
                <a:path w="228" h="7">
                  <a:moveTo>
                    <a:pt x="169" y="0"/>
                  </a:moveTo>
                  <a:cubicBezTo>
                    <a:pt x="157" y="0"/>
                    <a:pt x="144" y="0"/>
                    <a:pt x="132" y="0"/>
                  </a:cubicBezTo>
                  <a:cubicBezTo>
                    <a:pt x="119" y="0"/>
                    <a:pt x="108" y="1"/>
                    <a:pt x="96" y="1"/>
                  </a:cubicBezTo>
                  <a:cubicBezTo>
                    <a:pt x="85" y="1"/>
                    <a:pt x="75" y="1"/>
                    <a:pt x="65" y="1"/>
                  </a:cubicBezTo>
                  <a:cubicBezTo>
                    <a:pt x="45" y="2"/>
                    <a:pt x="29" y="2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3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5" y="5"/>
                    <a:pt x="65" y="6"/>
                  </a:cubicBezTo>
                  <a:cubicBezTo>
                    <a:pt x="75" y="6"/>
                    <a:pt x="85" y="6"/>
                    <a:pt x="96" y="6"/>
                  </a:cubicBezTo>
                  <a:cubicBezTo>
                    <a:pt x="108" y="6"/>
                    <a:pt x="119" y="7"/>
                    <a:pt x="132" y="7"/>
                  </a:cubicBezTo>
                  <a:cubicBezTo>
                    <a:pt x="144" y="7"/>
                    <a:pt x="157" y="7"/>
                    <a:pt x="169" y="7"/>
                  </a:cubicBezTo>
                  <a:cubicBezTo>
                    <a:pt x="182" y="7"/>
                    <a:pt x="195" y="7"/>
                    <a:pt x="208" y="7"/>
                  </a:cubicBezTo>
                  <a:cubicBezTo>
                    <a:pt x="215" y="7"/>
                    <a:pt x="221" y="7"/>
                    <a:pt x="228" y="7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Freeform 109"/>
            <p:cNvSpPr/>
            <p:nvPr/>
          </p:nvSpPr>
          <p:spPr>
            <a:xfrm>
              <a:off x="11461680" y="5708520"/>
              <a:ext cx="572760" cy="15840"/>
            </a:xfrm>
            <a:custGeom>
              <a:avLst/>
              <a:gdLst/>
              <a:ahLst/>
              <a:rect l="l" t="t" r="r" b="b"/>
              <a:pathLst>
                <a:path w="290" h="8">
                  <a:moveTo>
                    <a:pt x="239" y="0"/>
                  </a:moveTo>
                  <a:cubicBezTo>
                    <a:pt x="224" y="1"/>
                    <a:pt x="209" y="1"/>
                    <a:pt x="195" y="1"/>
                  </a:cubicBezTo>
                  <a:cubicBezTo>
                    <a:pt x="180" y="1"/>
                    <a:pt x="165" y="1"/>
                    <a:pt x="151" y="1"/>
                  </a:cubicBezTo>
                  <a:cubicBezTo>
                    <a:pt x="137" y="1"/>
                    <a:pt x="124" y="1"/>
                    <a:pt x="111" y="1"/>
                  </a:cubicBezTo>
                  <a:cubicBezTo>
                    <a:pt x="98" y="2"/>
                    <a:pt x="86" y="2"/>
                    <a:pt x="75" y="2"/>
                  </a:cubicBezTo>
                  <a:cubicBezTo>
                    <a:pt x="52" y="3"/>
                    <a:pt x="33" y="3"/>
                    <a:pt x="20" y="4"/>
                  </a:cubicBezTo>
                  <a:cubicBezTo>
                    <a:pt x="14" y="4"/>
                    <a:pt x="9" y="4"/>
                    <a:pt x="5" y="4"/>
                  </a:cubicBezTo>
                  <a:cubicBezTo>
                    <a:pt x="2" y="4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5"/>
                    <a:pt x="14" y="5"/>
                    <a:pt x="20" y="5"/>
                  </a:cubicBezTo>
                  <a:cubicBezTo>
                    <a:pt x="33" y="5"/>
                    <a:pt x="52" y="6"/>
                    <a:pt x="75" y="6"/>
                  </a:cubicBezTo>
                  <a:cubicBezTo>
                    <a:pt x="86" y="7"/>
                    <a:pt x="98" y="7"/>
                    <a:pt x="111" y="7"/>
                  </a:cubicBezTo>
                  <a:cubicBezTo>
                    <a:pt x="124" y="7"/>
                    <a:pt x="137" y="7"/>
                    <a:pt x="151" y="8"/>
                  </a:cubicBezTo>
                  <a:cubicBezTo>
                    <a:pt x="165" y="8"/>
                    <a:pt x="180" y="8"/>
                    <a:pt x="195" y="8"/>
                  </a:cubicBezTo>
                  <a:cubicBezTo>
                    <a:pt x="209" y="8"/>
                    <a:pt x="224" y="8"/>
                    <a:pt x="239" y="8"/>
                  </a:cubicBezTo>
                  <a:cubicBezTo>
                    <a:pt x="254" y="8"/>
                    <a:pt x="269" y="8"/>
                    <a:pt x="284" y="8"/>
                  </a:cubicBezTo>
                  <a:cubicBezTo>
                    <a:pt x="286" y="8"/>
                    <a:pt x="288" y="8"/>
                    <a:pt x="290" y="8"/>
                  </a:cubicBezTo>
                  <a:cubicBezTo>
                    <a:pt x="290" y="1"/>
                    <a:pt x="290" y="1"/>
                    <a:pt x="290" y="1"/>
                  </a:cubicBezTo>
                  <a:cubicBezTo>
                    <a:pt x="288" y="1"/>
                    <a:pt x="286" y="1"/>
                    <a:pt x="284" y="1"/>
                  </a:cubicBezTo>
                  <a:cubicBezTo>
                    <a:pt x="269" y="1"/>
                    <a:pt x="254" y="1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Freeform 110"/>
            <p:cNvSpPr/>
            <p:nvPr/>
          </p:nvSpPr>
          <p:spPr>
            <a:xfrm>
              <a:off x="11793600" y="5510160"/>
              <a:ext cx="241200" cy="14040"/>
            </a:xfrm>
            <a:custGeom>
              <a:avLst/>
              <a:gdLst/>
              <a:ahLst/>
              <a:rect l="l" t="t" r="r" b="b"/>
              <a:pathLst>
                <a:path w="122" h="7">
                  <a:moveTo>
                    <a:pt x="72" y="1"/>
                  </a:moveTo>
                  <a:cubicBezTo>
                    <a:pt x="63" y="1"/>
                    <a:pt x="55" y="2"/>
                    <a:pt x="48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8" y="6"/>
                  </a:cubicBezTo>
                  <a:cubicBezTo>
                    <a:pt x="55" y="6"/>
                    <a:pt x="63" y="7"/>
                    <a:pt x="72" y="7"/>
                  </a:cubicBezTo>
                  <a:cubicBezTo>
                    <a:pt x="80" y="7"/>
                    <a:pt x="89" y="7"/>
                    <a:pt x="98" y="7"/>
                  </a:cubicBezTo>
                  <a:cubicBezTo>
                    <a:pt x="106" y="7"/>
                    <a:pt x="114" y="7"/>
                    <a:pt x="122" y="7"/>
                  </a:cubicBezTo>
                  <a:cubicBezTo>
                    <a:pt x="122" y="0"/>
                    <a:pt x="122" y="0"/>
                    <a:pt x="122" y="0"/>
                  </a:cubicBezTo>
                  <a:cubicBezTo>
                    <a:pt x="114" y="0"/>
                    <a:pt x="106" y="1"/>
                    <a:pt x="98" y="1"/>
                  </a:cubicBezTo>
                  <a:cubicBezTo>
                    <a:pt x="89" y="1"/>
                    <a:pt x="80" y="1"/>
                    <a:pt x="72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Rectangle 111">
              <a:hlinkClick r:id="rId9"/>
            </p:cNvPr>
            <p:cNvSpPr/>
            <p:nvPr/>
          </p:nvSpPr>
          <p:spPr>
            <a:xfrm>
              <a:off x="10875960" y="4641840"/>
              <a:ext cx="1190520" cy="83808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Freeform 112"/>
            <p:cNvSpPr/>
            <p:nvPr/>
          </p:nvSpPr>
          <p:spPr>
            <a:xfrm>
              <a:off x="10875960" y="4825800"/>
              <a:ext cx="139680" cy="14040"/>
            </a:xfrm>
            <a:custGeom>
              <a:avLst/>
              <a:gdLst/>
              <a:ahLst/>
              <a:rect l="l" t="t" r="r" b="b"/>
              <a:pathLst>
                <a:path w="71" h="7">
                  <a:moveTo>
                    <a:pt x="71" y="4"/>
                  </a:moveTo>
                  <a:cubicBezTo>
                    <a:pt x="71" y="4"/>
                    <a:pt x="55" y="2"/>
                    <a:pt x="31" y="1"/>
                  </a:cubicBezTo>
                  <a:cubicBezTo>
                    <a:pt x="22" y="1"/>
                    <a:pt x="11" y="1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1" y="6"/>
                    <a:pt x="22" y="6"/>
                    <a:pt x="31" y="6"/>
                  </a:cubicBezTo>
                  <a:cubicBezTo>
                    <a:pt x="55" y="5"/>
                    <a:pt x="71" y="4"/>
                    <a:pt x="71" y="4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Freeform 113"/>
            <p:cNvSpPr/>
            <p:nvPr/>
          </p:nvSpPr>
          <p:spPr>
            <a:xfrm>
              <a:off x="10875960" y="492444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6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0"/>
                  </a:cubicBezTo>
                  <a:cubicBezTo>
                    <a:pt x="56" y="0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7"/>
                    <a:pt x="34" y="7"/>
                  </a:cubicBezTo>
                  <a:cubicBezTo>
                    <a:pt x="45" y="7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Freeform 114"/>
            <p:cNvSpPr/>
            <p:nvPr/>
          </p:nvSpPr>
          <p:spPr>
            <a:xfrm>
              <a:off x="10875960" y="5122800"/>
              <a:ext cx="652320" cy="15840"/>
            </a:xfrm>
            <a:custGeom>
              <a:avLst/>
              <a:gdLst/>
              <a:ahLst/>
              <a:rect l="l" t="t" r="r" b="b"/>
              <a:pathLst>
                <a:path w="330" h="8">
                  <a:moveTo>
                    <a:pt x="73" y="8"/>
                  </a:moveTo>
                  <a:cubicBezTo>
                    <a:pt x="89" y="8"/>
                    <a:pt x="105" y="8"/>
                    <a:pt x="121" y="8"/>
                  </a:cubicBezTo>
                  <a:cubicBezTo>
                    <a:pt x="136" y="8"/>
                    <a:pt x="152" y="8"/>
                    <a:pt x="167" y="7"/>
                  </a:cubicBezTo>
                  <a:cubicBezTo>
                    <a:pt x="197" y="7"/>
                    <a:pt x="225" y="7"/>
                    <a:pt x="249" y="6"/>
                  </a:cubicBezTo>
                  <a:cubicBezTo>
                    <a:pt x="274" y="6"/>
                    <a:pt x="294" y="5"/>
                    <a:pt x="308" y="5"/>
                  </a:cubicBezTo>
                  <a:cubicBezTo>
                    <a:pt x="315" y="5"/>
                    <a:pt x="320" y="4"/>
                    <a:pt x="324" y="4"/>
                  </a:cubicBezTo>
                  <a:cubicBezTo>
                    <a:pt x="328" y="4"/>
                    <a:pt x="330" y="4"/>
                    <a:pt x="330" y="4"/>
                  </a:cubicBezTo>
                  <a:cubicBezTo>
                    <a:pt x="330" y="4"/>
                    <a:pt x="328" y="4"/>
                    <a:pt x="324" y="4"/>
                  </a:cubicBezTo>
                  <a:cubicBezTo>
                    <a:pt x="320" y="4"/>
                    <a:pt x="315" y="4"/>
                    <a:pt x="308" y="3"/>
                  </a:cubicBezTo>
                  <a:cubicBezTo>
                    <a:pt x="294" y="3"/>
                    <a:pt x="274" y="2"/>
                    <a:pt x="249" y="2"/>
                  </a:cubicBezTo>
                  <a:cubicBezTo>
                    <a:pt x="225" y="2"/>
                    <a:pt x="197" y="1"/>
                    <a:pt x="167" y="1"/>
                  </a:cubicBezTo>
                  <a:cubicBezTo>
                    <a:pt x="152" y="1"/>
                    <a:pt x="136" y="1"/>
                    <a:pt x="121" y="1"/>
                  </a:cubicBezTo>
                  <a:cubicBezTo>
                    <a:pt x="105" y="0"/>
                    <a:pt x="89" y="0"/>
                    <a:pt x="73" y="0"/>
                  </a:cubicBezTo>
                  <a:cubicBezTo>
                    <a:pt x="57" y="0"/>
                    <a:pt x="41" y="0"/>
                    <a:pt x="25" y="1"/>
                  </a:cubicBezTo>
                  <a:cubicBezTo>
                    <a:pt x="16" y="1"/>
                    <a:pt x="8" y="1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8" y="8"/>
                    <a:pt x="16" y="8"/>
                    <a:pt x="25" y="8"/>
                  </a:cubicBezTo>
                  <a:cubicBezTo>
                    <a:pt x="41" y="8"/>
                    <a:pt x="57" y="8"/>
                    <a:pt x="7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115"/>
            <p:cNvSpPr/>
            <p:nvPr/>
          </p:nvSpPr>
          <p:spPr>
            <a:xfrm>
              <a:off x="10875960" y="5322960"/>
              <a:ext cx="525240" cy="12600"/>
            </a:xfrm>
            <a:custGeom>
              <a:avLst/>
              <a:gdLst/>
              <a:ahLst/>
              <a:rect l="l" t="t" r="r" b="b"/>
              <a:pathLst>
                <a:path w="266" h="7">
                  <a:moveTo>
                    <a:pt x="83" y="7"/>
                  </a:moveTo>
                  <a:cubicBezTo>
                    <a:pt x="97" y="7"/>
                    <a:pt x="110" y="7"/>
                    <a:pt x="124" y="7"/>
                  </a:cubicBezTo>
                  <a:cubicBezTo>
                    <a:pt x="150" y="7"/>
                    <a:pt x="175" y="6"/>
                    <a:pt x="196" y="6"/>
                  </a:cubicBezTo>
                  <a:cubicBezTo>
                    <a:pt x="217" y="5"/>
                    <a:pt x="235" y="5"/>
                    <a:pt x="247" y="4"/>
                  </a:cubicBezTo>
                  <a:cubicBezTo>
                    <a:pt x="253" y="4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3"/>
                    <a:pt x="261" y="3"/>
                  </a:cubicBezTo>
                  <a:cubicBezTo>
                    <a:pt x="258" y="3"/>
                    <a:pt x="253" y="3"/>
                    <a:pt x="247" y="3"/>
                  </a:cubicBezTo>
                  <a:cubicBezTo>
                    <a:pt x="235" y="2"/>
                    <a:pt x="217" y="2"/>
                    <a:pt x="196" y="1"/>
                  </a:cubicBezTo>
                  <a:cubicBezTo>
                    <a:pt x="175" y="1"/>
                    <a:pt x="150" y="0"/>
                    <a:pt x="124" y="0"/>
                  </a:cubicBezTo>
                  <a:cubicBezTo>
                    <a:pt x="110" y="0"/>
                    <a:pt x="97" y="0"/>
                    <a:pt x="83" y="0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3" y="7"/>
                    <a:pt x="27" y="7"/>
                    <a:pt x="41" y="7"/>
                  </a:cubicBezTo>
                  <a:cubicBezTo>
                    <a:pt x="55" y="7"/>
                    <a:pt x="69" y="7"/>
                    <a:pt x="83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Freeform 116"/>
            <p:cNvSpPr/>
            <p:nvPr/>
          </p:nvSpPr>
          <p:spPr>
            <a:xfrm>
              <a:off x="10875960" y="5402160"/>
              <a:ext cx="280800" cy="12600"/>
            </a:xfrm>
            <a:custGeom>
              <a:avLst/>
              <a:gdLst/>
              <a:ahLst/>
              <a:rect l="l" t="t" r="r" b="b"/>
              <a:pathLst>
                <a:path w="142" h="7">
                  <a:moveTo>
                    <a:pt x="39" y="7"/>
                  </a:moveTo>
                  <a:cubicBezTo>
                    <a:pt x="58" y="7"/>
                    <a:pt x="76" y="6"/>
                    <a:pt x="91" y="6"/>
                  </a:cubicBezTo>
                  <a:cubicBezTo>
                    <a:pt x="122" y="5"/>
                    <a:pt x="142" y="4"/>
                    <a:pt x="142" y="4"/>
                  </a:cubicBezTo>
                  <a:cubicBezTo>
                    <a:pt x="142" y="4"/>
                    <a:pt x="122" y="2"/>
                    <a:pt x="91" y="2"/>
                  </a:cubicBezTo>
                  <a:cubicBezTo>
                    <a:pt x="76" y="1"/>
                    <a:pt x="58" y="1"/>
                    <a:pt x="39" y="0"/>
                  </a:cubicBezTo>
                  <a:cubicBezTo>
                    <a:pt x="29" y="0"/>
                    <a:pt x="19" y="0"/>
                    <a:pt x="9" y="0"/>
                  </a:cubicBezTo>
                  <a:cubicBezTo>
                    <a:pt x="6" y="0"/>
                    <a:pt x="3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7"/>
                    <a:pt x="6" y="7"/>
                    <a:pt x="9" y="7"/>
                  </a:cubicBezTo>
                  <a:cubicBezTo>
                    <a:pt x="19" y="7"/>
                    <a:pt x="29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0" name="Freeform 117"/>
            <p:cNvSpPr/>
            <p:nvPr/>
          </p:nvSpPr>
          <p:spPr>
            <a:xfrm>
              <a:off x="11615760" y="5062680"/>
              <a:ext cx="450720" cy="1584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169" y="0"/>
                  </a:moveTo>
                  <a:cubicBezTo>
                    <a:pt x="157" y="0"/>
                    <a:pt x="144" y="1"/>
                    <a:pt x="132" y="1"/>
                  </a:cubicBezTo>
                  <a:cubicBezTo>
                    <a:pt x="119" y="1"/>
                    <a:pt x="108" y="1"/>
                    <a:pt x="96" y="1"/>
                  </a:cubicBezTo>
                  <a:cubicBezTo>
                    <a:pt x="85" y="1"/>
                    <a:pt x="75" y="2"/>
                    <a:pt x="65" y="2"/>
                  </a:cubicBezTo>
                  <a:cubicBezTo>
                    <a:pt x="45" y="2"/>
                    <a:pt x="29" y="3"/>
                    <a:pt x="18" y="3"/>
                  </a:cubicBezTo>
                  <a:cubicBezTo>
                    <a:pt x="12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2" y="5"/>
                    <a:pt x="18" y="5"/>
                  </a:cubicBezTo>
                  <a:cubicBezTo>
                    <a:pt x="29" y="5"/>
                    <a:pt x="45" y="6"/>
                    <a:pt x="65" y="6"/>
                  </a:cubicBezTo>
                  <a:cubicBezTo>
                    <a:pt x="75" y="6"/>
                    <a:pt x="85" y="7"/>
                    <a:pt x="96" y="7"/>
                  </a:cubicBezTo>
                  <a:cubicBezTo>
                    <a:pt x="108" y="7"/>
                    <a:pt x="119" y="7"/>
                    <a:pt x="132" y="7"/>
                  </a:cubicBezTo>
                  <a:cubicBezTo>
                    <a:pt x="144" y="7"/>
                    <a:pt x="157" y="8"/>
                    <a:pt x="169" y="8"/>
                  </a:cubicBezTo>
                  <a:cubicBezTo>
                    <a:pt x="182" y="8"/>
                    <a:pt x="195" y="8"/>
                    <a:pt x="208" y="8"/>
                  </a:cubicBezTo>
                  <a:cubicBezTo>
                    <a:pt x="215" y="8"/>
                    <a:pt x="221" y="8"/>
                    <a:pt x="228" y="8"/>
                  </a:cubicBezTo>
                  <a:cubicBezTo>
                    <a:pt x="228" y="0"/>
                    <a:pt x="228" y="0"/>
                    <a:pt x="228" y="0"/>
                  </a:cubicBezTo>
                  <a:cubicBezTo>
                    <a:pt x="221" y="0"/>
                    <a:pt x="215" y="0"/>
                    <a:pt x="208" y="0"/>
                  </a:cubicBezTo>
                  <a:cubicBezTo>
                    <a:pt x="195" y="0"/>
                    <a:pt x="182" y="0"/>
                    <a:pt x="16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1" name="Freeform 118"/>
            <p:cNvSpPr/>
            <p:nvPr/>
          </p:nvSpPr>
          <p:spPr>
            <a:xfrm>
              <a:off x="11811240" y="5311800"/>
              <a:ext cx="255240" cy="14040"/>
            </a:xfrm>
            <a:custGeom>
              <a:avLst/>
              <a:gdLst/>
              <a:ahLst/>
              <a:rect l="l" t="t" r="r" b="b"/>
              <a:pathLst>
                <a:path w="129" h="7">
                  <a:moveTo>
                    <a:pt x="74" y="1"/>
                  </a:moveTo>
                  <a:cubicBezTo>
                    <a:pt x="66" y="1"/>
                    <a:pt x="58" y="1"/>
                    <a:pt x="50" y="1"/>
                  </a:cubicBezTo>
                  <a:cubicBezTo>
                    <a:pt x="20" y="2"/>
                    <a:pt x="0" y="4"/>
                    <a:pt x="0" y="4"/>
                  </a:cubicBezTo>
                  <a:cubicBezTo>
                    <a:pt x="0" y="4"/>
                    <a:pt x="20" y="5"/>
                    <a:pt x="50" y="6"/>
                  </a:cubicBezTo>
                  <a:cubicBezTo>
                    <a:pt x="58" y="6"/>
                    <a:pt x="66" y="6"/>
                    <a:pt x="74" y="6"/>
                  </a:cubicBezTo>
                  <a:cubicBezTo>
                    <a:pt x="83" y="7"/>
                    <a:pt x="92" y="7"/>
                    <a:pt x="101" y="7"/>
                  </a:cubicBezTo>
                  <a:cubicBezTo>
                    <a:pt x="110" y="7"/>
                    <a:pt x="119" y="7"/>
                    <a:pt x="129" y="7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19" y="0"/>
                    <a:pt x="110" y="0"/>
                    <a:pt x="101" y="0"/>
                  </a:cubicBezTo>
                  <a:cubicBezTo>
                    <a:pt x="92" y="0"/>
                    <a:pt x="83" y="1"/>
                    <a:pt x="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2" name="Freeform 119"/>
            <p:cNvSpPr/>
            <p:nvPr/>
          </p:nvSpPr>
          <p:spPr>
            <a:xfrm>
              <a:off x="11842920" y="4964040"/>
              <a:ext cx="223560" cy="14040"/>
            </a:xfrm>
            <a:custGeom>
              <a:avLst/>
              <a:gdLst/>
              <a:ahLst/>
              <a:rect l="l" t="t" r="r" b="b"/>
              <a:pathLst>
                <a:path w="113" h="7">
                  <a:moveTo>
                    <a:pt x="70" y="1"/>
                  </a:moveTo>
                  <a:cubicBezTo>
                    <a:pt x="62" y="1"/>
                    <a:pt x="54" y="1"/>
                    <a:pt x="47" y="2"/>
                  </a:cubicBezTo>
                  <a:cubicBezTo>
                    <a:pt x="19" y="3"/>
                    <a:pt x="0" y="4"/>
                    <a:pt x="0" y="4"/>
                  </a:cubicBezTo>
                  <a:cubicBezTo>
                    <a:pt x="0" y="4"/>
                    <a:pt x="19" y="5"/>
                    <a:pt x="47" y="6"/>
                  </a:cubicBezTo>
                  <a:cubicBezTo>
                    <a:pt x="54" y="6"/>
                    <a:pt x="62" y="7"/>
                    <a:pt x="70" y="7"/>
                  </a:cubicBezTo>
                  <a:cubicBezTo>
                    <a:pt x="78" y="7"/>
                    <a:pt x="86" y="7"/>
                    <a:pt x="95" y="7"/>
                  </a:cubicBezTo>
                  <a:cubicBezTo>
                    <a:pt x="101" y="7"/>
                    <a:pt x="107" y="7"/>
                    <a:pt x="113" y="7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07" y="0"/>
                    <a:pt x="101" y="1"/>
                    <a:pt x="95" y="1"/>
                  </a:cubicBezTo>
                  <a:cubicBezTo>
                    <a:pt x="86" y="1"/>
                    <a:pt x="78" y="1"/>
                    <a:pt x="70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3" name="Freeform 120"/>
            <p:cNvSpPr/>
            <p:nvPr/>
          </p:nvSpPr>
          <p:spPr>
            <a:xfrm>
              <a:off x="11471400" y="476568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245" y="0"/>
                  </a:moveTo>
                  <a:cubicBezTo>
                    <a:pt x="230" y="0"/>
                    <a:pt x="214" y="0"/>
                    <a:pt x="199" y="0"/>
                  </a:cubicBezTo>
                  <a:cubicBezTo>
                    <a:pt x="184" y="0"/>
                    <a:pt x="169" y="0"/>
                    <a:pt x="155" y="0"/>
                  </a:cubicBezTo>
                  <a:cubicBezTo>
                    <a:pt x="141" y="0"/>
                    <a:pt x="127" y="1"/>
                    <a:pt x="114" y="1"/>
                  </a:cubicBezTo>
                  <a:cubicBezTo>
                    <a:pt x="100" y="1"/>
                    <a:pt x="88" y="1"/>
                    <a:pt x="76" y="1"/>
                  </a:cubicBezTo>
                  <a:cubicBezTo>
                    <a:pt x="53" y="2"/>
                    <a:pt x="34" y="2"/>
                    <a:pt x="21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1" y="4"/>
                  </a:cubicBezTo>
                  <a:cubicBezTo>
                    <a:pt x="34" y="5"/>
                    <a:pt x="53" y="5"/>
                    <a:pt x="76" y="6"/>
                  </a:cubicBezTo>
                  <a:cubicBezTo>
                    <a:pt x="88" y="6"/>
                    <a:pt x="100" y="6"/>
                    <a:pt x="114" y="6"/>
                  </a:cubicBezTo>
                  <a:cubicBezTo>
                    <a:pt x="127" y="6"/>
                    <a:pt x="141" y="7"/>
                    <a:pt x="155" y="7"/>
                  </a:cubicBezTo>
                  <a:cubicBezTo>
                    <a:pt x="169" y="7"/>
                    <a:pt x="184" y="7"/>
                    <a:pt x="199" y="7"/>
                  </a:cubicBezTo>
                  <a:cubicBezTo>
                    <a:pt x="214" y="7"/>
                    <a:pt x="230" y="7"/>
                    <a:pt x="245" y="7"/>
                  </a:cubicBezTo>
                  <a:cubicBezTo>
                    <a:pt x="260" y="7"/>
                    <a:pt x="275" y="7"/>
                    <a:pt x="291" y="7"/>
                  </a:cubicBezTo>
                  <a:cubicBezTo>
                    <a:pt x="294" y="7"/>
                    <a:pt x="298" y="7"/>
                    <a:pt x="301" y="7"/>
                  </a:cubicBezTo>
                  <a:cubicBezTo>
                    <a:pt x="301" y="0"/>
                    <a:pt x="301" y="0"/>
                    <a:pt x="301" y="0"/>
                  </a:cubicBezTo>
                  <a:cubicBezTo>
                    <a:pt x="298" y="0"/>
                    <a:pt x="294" y="0"/>
                    <a:pt x="291" y="0"/>
                  </a:cubicBezTo>
                  <a:cubicBezTo>
                    <a:pt x="275" y="0"/>
                    <a:pt x="260" y="0"/>
                    <a:pt x="24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4" name="Freeform 121"/>
            <p:cNvSpPr/>
            <p:nvPr/>
          </p:nvSpPr>
          <p:spPr>
            <a:xfrm>
              <a:off x="11658600" y="4687920"/>
              <a:ext cx="407880" cy="12600"/>
            </a:xfrm>
            <a:custGeom>
              <a:avLst/>
              <a:gdLst/>
              <a:ahLst/>
              <a:rect l="l" t="t" r="r" b="b"/>
              <a:pathLst>
                <a:path w="206" h="7">
                  <a:moveTo>
                    <a:pt x="161" y="0"/>
                  </a:moveTo>
                  <a:cubicBezTo>
                    <a:pt x="149" y="0"/>
                    <a:pt x="137" y="0"/>
                    <a:pt x="125" y="0"/>
                  </a:cubicBezTo>
                  <a:cubicBezTo>
                    <a:pt x="114" y="0"/>
                    <a:pt x="102" y="0"/>
                    <a:pt x="92" y="1"/>
                  </a:cubicBezTo>
                  <a:cubicBezTo>
                    <a:pt x="81" y="1"/>
                    <a:pt x="71" y="1"/>
                    <a:pt x="62" y="1"/>
                  </a:cubicBezTo>
                  <a:cubicBezTo>
                    <a:pt x="44" y="2"/>
                    <a:pt x="28" y="2"/>
                    <a:pt x="17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2" y="3"/>
                    <a:pt x="0" y="3"/>
                    <a:pt x="0" y="3"/>
                  </a:cubicBezTo>
                  <a:cubicBezTo>
                    <a:pt x="0" y="3"/>
                    <a:pt x="2" y="3"/>
                    <a:pt x="5" y="4"/>
                  </a:cubicBezTo>
                  <a:cubicBezTo>
                    <a:pt x="8" y="4"/>
                    <a:pt x="12" y="4"/>
                    <a:pt x="17" y="4"/>
                  </a:cubicBezTo>
                  <a:cubicBezTo>
                    <a:pt x="28" y="4"/>
                    <a:pt x="44" y="5"/>
                    <a:pt x="62" y="6"/>
                  </a:cubicBezTo>
                  <a:cubicBezTo>
                    <a:pt x="71" y="6"/>
                    <a:pt x="81" y="6"/>
                    <a:pt x="92" y="6"/>
                  </a:cubicBezTo>
                  <a:cubicBezTo>
                    <a:pt x="102" y="6"/>
                    <a:pt x="114" y="6"/>
                    <a:pt x="125" y="7"/>
                  </a:cubicBezTo>
                  <a:cubicBezTo>
                    <a:pt x="137" y="7"/>
                    <a:pt x="149" y="7"/>
                    <a:pt x="161" y="7"/>
                  </a:cubicBezTo>
                  <a:cubicBezTo>
                    <a:pt x="173" y="7"/>
                    <a:pt x="185" y="7"/>
                    <a:pt x="198" y="7"/>
                  </a:cubicBezTo>
                  <a:cubicBezTo>
                    <a:pt x="200" y="7"/>
                    <a:pt x="203" y="7"/>
                    <a:pt x="206" y="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03" y="0"/>
                    <a:pt x="200" y="0"/>
                    <a:pt x="198" y="0"/>
                  </a:cubicBezTo>
                  <a:cubicBezTo>
                    <a:pt x="185" y="0"/>
                    <a:pt x="173" y="0"/>
                    <a:pt x="161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5" name="Rectangle 122">
              <a:hlinkClick r:id="rId10"/>
            </p:cNvPr>
            <p:cNvSpPr/>
            <p:nvPr/>
          </p:nvSpPr>
          <p:spPr>
            <a:xfrm>
              <a:off x="10796760" y="3552840"/>
              <a:ext cx="1190520" cy="108900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6" name="Freeform 123"/>
            <p:cNvSpPr/>
            <p:nvPr/>
          </p:nvSpPr>
          <p:spPr>
            <a:xfrm>
              <a:off x="10796760" y="3608280"/>
              <a:ext cx="512640" cy="15840"/>
            </a:xfrm>
            <a:custGeom>
              <a:avLst/>
              <a:gdLst/>
              <a:ahLst/>
              <a:rect l="l" t="t" r="r" b="b"/>
              <a:pathLst>
                <a:path w="259" h="8">
                  <a:moveTo>
                    <a:pt x="78" y="7"/>
                  </a:moveTo>
                  <a:cubicBezTo>
                    <a:pt x="92" y="7"/>
                    <a:pt x="106" y="7"/>
                    <a:pt x="119" y="7"/>
                  </a:cubicBezTo>
                  <a:cubicBezTo>
                    <a:pt x="144" y="7"/>
                    <a:pt x="169" y="6"/>
                    <a:pt x="189" y="6"/>
                  </a:cubicBezTo>
                  <a:cubicBezTo>
                    <a:pt x="210" y="6"/>
                    <a:pt x="228" y="5"/>
                    <a:pt x="240" y="5"/>
                  </a:cubicBezTo>
                  <a:cubicBezTo>
                    <a:pt x="246" y="4"/>
                    <a:pt x="251" y="4"/>
                    <a:pt x="254" y="4"/>
                  </a:cubicBezTo>
                  <a:cubicBezTo>
                    <a:pt x="257" y="4"/>
                    <a:pt x="259" y="4"/>
                    <a:pt x="259" y="4"/>
                  </a:cubicBezTo>
                  <a:cubicBezTo>
                    <a:pt x="259" y="4"/>
                    <a:pt x="257" y="4"/>
                    <a:pt x="254" y="4"/>
                  </a:cubicBezTo>
                  <a:cubicBezTo>
                    <a:pt x="251" y="4"/>
                    <a:pt x="246" y="3"/>
                    <a:pt x="240" y="3"/>
                  </a:cubicBezTo>
                  <a:cubicBezTo>
                    <a:pt x="228" y="3"/>
                    <a:pt x="210" y="2"/>
                    <a:pt x="189" y="2"/>
                  </a:cubicBezTo>
                  <a:cubicBezTo>
                    <a:pt x="169" y="1"/>
                    <a:pt x="144" y="1"/>
                    <a:pt x="119" y="1"/>
                  </a:cubicBezTo>
                  <a:cubicBezTo>
                    <a:pt x="106" y="0"/>
                    <a:pt x="92" y="0"/>
                    <a:pt x="78" y="0"/>
                  </a:cubicBezTo>
                  <a:cubicBezTo>
                    <a:pt x="65" y="0"/>
                    <a:pt x="51" y="0"/>
                    <a:pt x="37" y="0"/>
                  </a:cubicBezTo>
                  <a:cubicBezTo>
                    <a:pt x="25" y="0"/>
                    <a:pt x="12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2" y="8"/>
                    <a:pt x="25" y="8"/>
                    <a:pt x="37" y="8"/>
                  </a:cubicBezTo>
                  <a:cubicBezTo>
                    <a:pt x="51" y="8"/>
                    <a:pt x="65" y="8"/>
                    <a:pt x="78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7" name="Freeform 124"/>
            <p:cNvSpPr/>
            <p:nvPr/>
          </p:nvSpPr>
          <p:spPr>
            <a:xfrm>
              <a:off x="10796760" y="3722400"/>
              <a:ext cx="595080" cy="1404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58" y="7"/>
                  </a:moveTo>
                  <a:cubicBezTo>
                    <a:pt x="73" y="7"/>
                    <a:pt x="89" y="7"/>
                    <a:pt x="104" y="7"/>
                  </a:cubicBezTo>
                  <a:cubicBezTo>
                    <a:pt x="118" y="7"/>
                    <a:pt x="133" y="7"/>
                    <a:pt x="147" y="7"/>
                  </a:cubicBezTo>
                  <a:cubicBezTo>
                    <a:pt x="176" y="7"/>
                    <a:pt x="202" y="6"/>
                    <a:pt x="225" y="6"/>
                  </a:cubicBezTo>
                  <a:cubicBezTo>
                    <a:pt x="248" y="5"/>
                    <a:pt x="267" y="5"/>
                    <a:pt x="280" y="4"/>
                  </a:cubicBezTo>
                  <a:cubicBezTo>
                    <a:pt x="287" y="4"/>
                    <a:pt x="292" y="4"/>
                    <a:pt x="295" y="4"/>
                  </a:cubicBezTo>
                  <a:cubicBezTo>
                    <a:pt x="299" y="4"/>
                    <a:pt x="301" y="4"/>
                    <a:pt x="301" y="4"/>
                  </a:cubicBezTo>
                  <a:cubicBezTo>
                    <a:pt x="301" y="4"/>
                    <a:pt x="299" y="3"/>
                    <a:pt x="295" y="3"/>
                  </a:cubicBezTo>
                  <a:cubicBezTo>
                    <a:pt x="292" y="3"/>
                    <a:pt x="287" y="3"/>
                    <a:pt x="280" y="3"/>
                  </a:cubicBezTo>
                  <a:cubicBezTo>
                    <a:pt x="267" y="3"/>
                    <a:pt x="248" y="2"/>
                    <a:pt x="225" y="1"/>
                  </a:cubicBezTo>
                  <a:cubicBezTo>
                    <a:pt x="202" y="1"/>
                    <a:pt x="176" y="1"/>
                    <a:pt x="147" y="0"/>
                  </a:cubicBezTo>
                  <a:cubicBezTo>
                    <a:pt x="133" y="0"/>
                    <a:pt x="118" y="0"/>
                    <a:pt x="104" y="0"/>
                  </a:cubicBezTo>
                  <a:cubicBezTo>
                    <a:pt x="89" y="0"/>
                    <a:pt x="73" y="0"/>
                    <a:pt x="58" y="0"/>
                  </a:cubicBezTo>
                  <a:cubicBezTo>
                    <a:pt x="43" y="0"/>
                    <a:pt x="28" y="0"/>
                    <a:pt x="13" y="0"/>
                  </a:cubicBezTo>
                  <a:cubicBezTo>
                    <a:pt x="9" y="0"/>
                    <a:pt x="4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9" y="7"/>
                    <a:pt x="13" y="7"/>
                  </a:cubicBezTo>
                  <a:cubicBezTo>
                    <a:pt x="28" y="7"/>
                    <a:pt x="43" y="7"/>
                    <a:pt x="58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8" name="Freeform 125"/>
            <p:cNvSpPr/>
            <p:nvPr/>
          </p:nvSpPr>
          <p:spPr>
            <a:xfrm>
              <a:off x="10796760" y="3921120"/>
              <a:ext cx="361800" cy="15840"/>
            </a:xfrm>
            <a:custGeom>
              <a:avLst/>
              <a:gdLst/>
              <a:ahLst/>
              <a:rect l="l" t="t" r="r" b="b"/>
              <a:pathLst>
                <a:path w="183" h="8">
                  <a:moveTo>
                    <a:pt x="67" y="7"/>
                  </a:moveTo>
                  <a:cubicBezTo>
                    <a:pt x="88" y="7"/>
                    <a:pt x="108" y="7"/>
                    <a:pt x="126" y="6"/>
                  </a:cubicBezTo>
                  <a:cubicBezTo>
                    <a:pt x="160" y="5"/>
                    <a:pt x="183" y="4"/>
                    <a:pt x="183" y="4"/>
                  </a:cubicBezTo>
                  <a:cubicBezTo>
                    <a:pt x="183" y="4"/>
                    <a:pt x="160" y="3"/>
                    <a:pt x="126" y="2"/>
                  </a:cubicBezTo>
                  <a:cubicBezTo>
                    <a:pt x="108" y="1"/>
                    <a:pt x="88" y="1"/>
                    <a:pt x="67" y="1"/>
                  </a:cubicBezTo>
                  <a:cubicBezTo>
                    <a:pt x="56" y="1"/>
                    <a:pt x="45" y="0"/>
                    <a:pt x="34" y="0"/>
                  </a:cubicBezTo>
                  <a:cubicBezTo>
                    <a:pt x="22" y="0"/>
                    <a:pt x="11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1" y="8"/>
                    <a:pt x="22" y="8"/>
                    <a:pt x="34" y="8"/>
                  </a:cubicBezTo>
                  <a:cubicBezTo>
                    <a:pt x="45" y="8"/>
                    <a:pt x="56" y="7"/>
                    <a:pt x="67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9" name="Freeform 126"/>
            <p:cNvSpPr/>
            <p:nvPr/>
          </p:nvSpPr>
          <p:spPr>
            <a:xfrm>
              <a:off x="10796760" y="4179600"/>
              <a:ext cx="303120" cy="14040"/>
            </a:xfrm>
            <a:custGeom>
              <a:avLst/>
              <a:gdLst/>
              <a:ahLst/>
              <a:rect l="l" t="t" r="r" b="b"/>
              <a:pathLst>
                <a:path w="153" h="7">
                  <a:moveTo>
                    <a:pt x="46" y="7"/>
                  </a:moveTo>
                  <a:cubicBezTo>
                    <a:pt x="66" y="6"/>
                    <a:pt x="84" y="6"/>
                    <a:pt x="100" y="6"/>
                  </a:cubicBezTo>
                  <a:cubicBezTo>
                    <a:pt x="132" y="5"/>
                    <a:pt x="153" y="3"/>
                    <a:pt x="153" y="3"/>
                  </a:cubicBezTo>
                  <a:cubicBezTo>
                    <a:pt x="153" y="3"/>
                    <a:pt x="132" y="2"/>
                    <a:pt x="100" y="1"/>
                  </a:cubicBezTo>
                  <a:cubicBezTo>
                    <a:pt x="84" y="1"/>
                    <a:pt x="66" y="0"/>
                    <a:pt x="46" y="0"/>
                  </a:cubicBezTo>
                  <a:cubicBezTo>
                    <a:pt x="36" y="0"/>
                    <a:pt x="26" y="0"/>
                    <a:pt x="16" y="0"/>
                  </a:cubicBezTo>
                  <a:cubicBezTo>
                    <a:pt x="10" y="0"/>
                    <a:pt x="5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5" y="7"/>
                    <a:pt x="10" y="7"/>
                    <a:pt x="16" y="7"/>
                  </a:cubicBezTo>
                  <a:cubicBezTo>
                    <a:pt x="26" y="7"/>
                    <a:pt x="36" y="7"/>
                    <a:pt x="46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0" name="Freeform 127"/>
            <p:cNvSpPr/>
            <p:nvPr/>
          </p:nvSpPr>
          <p:spPr>
            <a:xfrm>
              <a:off x="10796760" y="4279680"/>
              <a:ext cx="379080" cy="12600"/>
            </a:xfrm>
            <a:custGeom>
              <a:avLst/>
              <a:gdLst/>
              <a:ahLst/>
              <a:rect l="l" t="t" r="r" b="b"/>
              <a:pathLst>
                <a:path w="192" h="7">
                  <a:moveTo>
                    <a:pt x="39" y="7"/>
                  </a:moveTo>
                  <a:cubicBezTo>
                    <a:pt x="51" y="7"/>
                    <a:pt x="62" y="7"/>
                    <a:pt x="73" y="7"/>
                  </a:cubicBezTo>
                  <a:cubicBezTo>
                    <a:pt x="95" y="7"/>
                    <a:pt x="116" y="6"/>
                    <a:pt x="133" y="6"/>
                  </a:cubicBezTo>
                  <a:cubicBezTo>
                    <a:pt x="151" y="5"/>
                    <a:pt x="166" y="5"/>
                    <a:pt x="176" y="4"/>
                  </a:cubicBezTo>
                  <a:cubicBezTo>
                    <a:pt x="181" y="4"/>
                    <a:pt x="185" y="4"/>
                    <a:pt x="188" y="4"/>
                  </a:cubicBezTo>
                  <a:cubicBezTo>
                    <a:pt x="191" y="4"/>
                    <a:pt x="192" y="4"/>
                    <a:pt x="192" y="4"/>
                  </a:cubicBezTo>
                  <a:cubicBezTo>
                    <a:pt x="192" y="4"/>
                    <a:pt x="191" y="4"/>
                    <a:pt x="188" y="3"/>
                  </a:cubicBezTo>
                  <a:cubicBezTo>
                    <a:pt x="185" y="3"/>
                    <a:pt x="181" y="3"/>
                    <a:pt x="176" y="3"/>
                  </a:cubicBezTo>
                  <a:cubicBezTo>
                    <a:pt x="166" y="3"/>
                    <a:pt x="151" y="2"/>
                    <a:pt x="133" y="1"/>
                  </a:cubicBezTo>
                  <a:cubicBezTo>
                    <a:pt x="116" y="1"/>
                    <a:pt x="95" y="1"/>
                    <a:pt x="73" y="0"/>
                  </a:cubicBezTo>
                  <a:cubicBezTo>
                    <a:pt x="62" y="0"/>
                    <a:pt x="51" y="0"/>
                    <a:pt x="39" y="0"/>
                  </a:cubicBezTo>
                  <a:cubicBezTo>
                    <a:pt x="27" y="0"/>
                    <a:pt x="16" y="0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7"/>
                    <a:pt x="3" y="7"/>
                    <a:pt x="4" y="7"/>
                  </a:cubicBezTo>
                  <a:cubicBezTo>
                    <a:pt x="16" y="7"/>
                    <a:pt x="27" y="7"/>
                    <a:pt x="39" y="7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1" name="Freeform 128"/>
            <p:cNvSpPr/>
            <p:nvPr/>
          </p:nvSpPr>
          <p:spPr>
            <a:xfrm>
              <a:off x="10796760" y="4576680"/>
              <a:ext cx="525240" cy="15840"/>
            </a:xfrm>
            <a:custGeom>
              <a:avLst/>
              <a:gdLst/>
              <a:ahLst/>
              <a:rect l="l" t="t" r="r" b="b"/>
              <a:pathLst>
                <a:path w="266" h="8">
                  <a:moveTo>
                    <a:pt x="83" y="8"/>
                  </a:moveTo>
                  <a:cubicBezTo>
                    <a:pt x="97" y="8"/>
                    <a:pt x="110" y="8"/>
                    <a:pt x="124" y="7"/>
                  </a:cubicBezTo>
                  <a:cubicBezTo>
                    <a:pt x="150" y="7"/>
                    <a:pt x="175" y="7"/>
                    <a:pt x="196" y="6"/>
                  </a:cubicBezTo>
                  <a:cubicBezTo>
                    <a:pt x="217" y="6"/>
                    <a:pt x="235" y="5"/>
                    <a:pt x="247" y="5"/>
                  </a:cubicBezTo>
                  <a:cubicBezTo>
                    <a:pt x="253" y="5"/>
                    <a:pt x="258" y="4"/>
                    <a:pt x="261" y="4"/>
                  </a:cubicBezTo>
                  <a:cubicBezTo>
                    <a:pt x="265" y="4"/>
                    <a:pt x="266" y="4"/>
                    <a:pt x="266" y="4"/>
                  </a:cubicBezTo>
                  <a:cubicBezTo>
                    <a:pt x="266" y="4"/>
                    <a:pt x="265" y="4"/>
                    <a:pt x="261" y="4"/>
                  </a:cubicBezTo>
                  <a:cubicBezTo>
                    <a:pt x="258" y="4"/>
                    <a:pt x="253" y="4"/>
                    <a:pt x="247" y="3"/>
                  </a:cubicBezTo>
                  <a:cubicBezTo>
                    <a:pt x="235" y="3"/>
                    <a:pt x="217" y="2"/>
                    <a:pt x="196" y="2"/>
                  </a:cubicBezTo>
                  <a:cubicBezTo>
                    <a:pt x="175" y="2"/>
                    <a:pt x="150" y="1"/>
                    <a:pt x="124" y="1"/>
                  </a:cubicBezTo>
                  <a:cubicBezTo>
                    <a:pt x="110" y="1"/>
                    <a:pt x="97" y="1"/>
                    <a:pt x="83" y="1"/>
                  </a:cubicBezTo>
                  <a:cubicBezTo>
                    <a:pt x="69" y="0"/>
                    <a:pt x="55" y="0"/>
                    <a:pt x="41" y="0"/>
                  </a:cubicBezTo>
                  <a:cubicBezTo>
                    <a:pt x="27" y="0"/>
                    <a:pt x="13" y="0"/>
                    <a:pt x="0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3" y="8"/>
                    <a:pt x="27" y="8"/>
                    <a:pt x="41" y="8"/>
                  </a:cubicBezTo>
                  <a:cubicBezTo>
                    <a:pt x="55" y="8"/>
                    <a:pt x="69" y="8"/>
                    <a:pt x="83" y="8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2" name="Freeform 129"/>
            <p:cNvSpPr/>
            <p:nvPr/>
          </p:nvSpPr>
          <p:spPr>
            <a:xfrm>
              <a:off x="11414160" y="4522680"/>
              <a:ext cx="572760" cy="14040"/>
            </a:xfrm>
            <a:custGeom>
              <a:avLst/>
              <a:gdLst/>
              <a:ahLst/>
              <a:rect l="l" t="t" r="r" b="b"/>
              <a:pathLst>
                <a:path w="290" h="7">
                  <a:moveTo>
                    <a:pt x="239" y="0"/>
                  </a:moveTo>
                  <a:cubicBezTo>
                    <a:pt x="224" y="0"/>
                    <a:pt x="209" y="0"/>
                    <a:pt x="195" y="0"/>
                  </a:cubicBezTo>
                  <a:cubicBezTo>
                    <a:pt x="180" y="0"/>
                    <a:pt x="165" y="0"/>
                    <a:pt x="151" y="0"/>
                  </a:cubicBezTo>
                  <a:cubicBezTo>
                    <a:pt x="137" y="0"/>
                    <a:pt x="124" y="1"/>
                    <a:pt x="111" y="1"/>
                  </a:cubicBezTo>
                  <a:cubicBezTo>
                    <a:pt x="98" y="1"/>
                    <a:pt x="86" y="1"/>
                    <a:pt x="75" y="1"/>
                  </a:cubicBezTo>
                  <a:cubicBezTo>
                    <a:pt x="52" y="2"/>
                    <a:pt x="33" y="2"/>
                    <a:pt x="20" y="3"/>
                  </a:cubicBezTo>
                  <a:cubicBezTo>
                    <a:pt x="14" y="3"/>
                    <a:pt x="9" y="3"/>
                    <a:pt x="5" y="3"/>
                  </a:cubicBezTo>
                  <a:cubicBezTo>
                    <a:pt x="2" y="3"/>
                    <a:pt x="0" y="4"/>
                    <a:pt x="0" y="4"/>
                  </a:cubicBezTo>
                  <a:cubicBezTo>
                    <a:pt x="0" y="4"/>
                    <a:pt x="2" y="4"/>
                    <a:pt x="5" y="4"/>
                  </a:cubicBezTo>
                  <a:cubicBezTo>
                    <a:pt x="9" y="4"/>
                    <a:pt x="14" y="4"/>
                    <a:pt x="20" y="4"/>
                  </a:cubicBezTo>
                  <a:cubicBezTo>
                    <a:pt x="33" y="5"/>
                    <a:pt x="52" y="5"/>
                    <a:pt x="75" y="6"/>
                  </a:cubicBezTo>
                  <a:cubicBezTo>
                    <a:pt x="86" y="6"/>
                    <a:pt x="98" y="6"/>
                    <a:pt x="111" y="6"/>
                  </a:cubicBezTo>
                  <a:cubicBezTo>
                    <a:pt x="124" y="7"/>
                    <a:pt x="137" y="7"/>
                    <a:pt x="151" y="7"/>
                  </a:cubicBezTo>
                  <a:cubicBezTo>
                    <a:pt x="165" y="7"/>
                    <a:pt x="180" y="7"/>
                    <a:pt x="195" y="7"/>
                  </a:cubicBezTo>
                  <a:cubicBezTo>
                    <a:pt x="209" y="7"/>
                    <a:pt x="224" y="7"/>
                    <a:pt x="239" y="7"/>
                  </a:cubicBezTo>
                  <a:cubicBezTo>
                    <a:pt x="254" y="7"/>
                    <a:pt x="269" y="7"/>
                    <a:pt x="284" y="7"/>
                  </a:cubicBezTo>
                  <a:cubicBezTo>
                    <a:pt x="286" y="7"/>
                    <a:pt x="288" y="7"/>
                    <a:pt x="290" y="7"/>
                  </a:cubicBezTo>
                  <a:cubicBezTo>
                    <a:pt x="290" y="0"/>
                    <a:pt x="290" y="0"/>
                    <a:pt x="290" y="0"/>
                  </a:cubicBezTo>
                  <a:cubicBezTo>
                    <a:pt x="288" y="0"/>
                    <a:pt x="286" y="0"/>
                    <a:pt x="284" y="0"/>
                  </a:cubicBezTo>
                  <a:cubicBezTo>
                    <a:pt x="269" y="0"/>
                    <a:pt x="254" y="0"/>
                    <a:pt x="23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3" name="Freeform 130"/>
            <p:cNvSpPr/>
            <p:nvPr/>
          </p:nvSpPr>
          <p:spPr>
            <a:xfrm>
              <a:off x="11841120" y="4424400"/>
              <a:ext cx="145800" cy="12600"/>
            </a:xfrm>
            <a:custGeom>
              <a:avLst/>
              <a:gdLst/>
              <a:ahLst/>
              <a:rect l="l" t="t" r="r" b="b"/>
              <a:pathLst>
                <a:path w="74" h="7">
                  <a:moveTo>
                    <a:pt x="41" y="1"/>
                  </a:moveTo>
                  <a:cubicBezTo>
                    <a:pt x="16" y="2"/>
                    <a:pt x="0" y="3"/>
                    <a:pt x="0" y="3"/>
                  </a:cubicBezTo>
                  <a:cubicBezTo>
                    <a:pt x="0" y="3"/>
                    <a:pt x="16" y="5"/>
                    <a:pt x="41" y="6"/>
                  </a:cubicBezTo>
                  <a:cubicBezTo>
                    <a:pt x="47" y="6"/>
                    <a:pt x="54" y="6"/>
                    <a:pt x="61" y="6"/>
                  </a:cubicBezTo>
                  <a:cubicBezTo>
                    <a:pt x="65" y="6"/>
                    <a:pt x="70" y="6"/>
                    <a:pt x="74" y="7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0" y="0"/>
                    <a:pt x="65" y="0"/>
                    <a:pt x="61" y="1"/>
                  </a:cubicBezTo>
                  <a:cubicBezTo>
                    <a:pt x="54" y="1"/>
                    <a:pt x="47" y="1"/>
                    <a:pt x="41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4" name="Freeform 131"/>
            <p:cNvSpPr/>
            <p:nvPr/>
          </p:nvSpPr>
          <p:spPr>
            <a:xfrm>
              <a:off x="11642760" y="4268520"/>
              <a:ext cx="344160" cy="14040"/>
            </a:xfrm>
            <a:custGeom>
              <a:avLst/>
              <a:gdLst/>
              <a:ahLst/>
              <a:rect l="l" t="t" r="r" b="b"/>
              <a:pathLst>
                <a:path w="174" h="7">
                  <a:moveTo>
                    <a:pt x="115" y="0"/>
                  </a:moveTo>
                  <a:cubicBezTo>
                    <a:pt x="104" y="0"/>
                    <a:pt x="94" y="1"/>
                    <a:pt x="84" y="1"/>
                  </a:cubicBezTo>
                  <a:cubicBezTo>
                    <a:pt x="74" y="1"/>
                    <a:pt x="65" y="1"/>
                    <a:pt x="57" y="1"/>
                  </a:cubicBezTo>
                  <a:cubicBezTo>
                    <a:pt x="23" y="2"/>
                    <a:pt x="0" y="4"/>
                    <a:pt x="0" y="4"/>
                  </a:cubicBezTo>
                  <a:cubicBezTo>
                    <a:pt x="0" y="4"/>
                    <a:pt x="23" y="5"/>
                    <a:pt x="57" y="6"/>
                  </a:cubicBezTo>
                  <a:cubicBezTo>
                    <a:pt x="65" y="6"/>
                    <a:pt x="74" y="6"/>
                    <a:pt x="84" y="6"/>
                  </a:cubicBezTo>
                  <a:cubicBezTo>
                    <a:pt x="94" y="7"/>
                    <a:pt x="104" y="7"/>
                    <a:pt x="115" y="7"/>
                  </a:cubicBezTo>
                  <a:cubicBezTo>
                    <a:pt x="126" y="7"/>
                    <a:pt x="136" y="7"/>
                    <a:pt x="148" y="7"/>
                  </a:cubicBezTo>
                  <a:cubicBezTo>
                    <a:pt x="156" y="7"/>
                    <a:pt x="165" y="7"/>
                    <a:pt x="174" y="7"/>
                  </a:cubicBezTo>
                  <a:cubicBezTo>
                    <a:pt x="174" y="0"/>
                    <a:pt x="174" y="0"/>
                    <a:pt x="174" y="0"/>
                  </a:cubicBezTo>
                  <a:cubicBezTo>
                    <a:pt x="165" y="0"/>
                    <a:pt x="156" y="0"/>
                    <a:pt x="148" y="0"/>
                  </a:cubicBezTo>
                  <a:cubicBezTo>
                    <a:pt x="136" y="0"/>
                    <a:pt x="126" y="0"/>
                    <a:pt x="115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5" name="Freeform 132"/>
            <p:cNvSpPr/>
            <p:nvPr/>
          </p:nvSpPr>
          <p:spPr>
            <a:xfrm>
              <a:off x="11512440" y="4070160"/>
              <a:ext cx="474480" cy="15840"/>
            </a:xfrm>
            <a:custGeom>
              <a:avLst/>
              <a:gdLst/>
              <a:ahLst/>
              <a:rect l="l" t="t" r="r" b="b"/>
              <a:pathLst>
                <a:path w="240" h="8">
                  <a:moveTo>
                    <a:pt x="174" y="1"/>
                  </a:moveTo>
                  <a:cubicBezTo>
                    <a:pt x="161" y="1"/>
                    <a:pt x="148" y="1"/>
                    <a:pt x="135" y="1"/>
                  </a:cubicBezTo>
                  <a:cubicBezTo>
                    <a:pt x="123" y="1"/>
                    <a:pt x="111" y="1"/>
                    <a:pt x="99" y="1"/>
                  </a:cubicBezTo>
                  <a:cubicBezTo>
                    <a:pt x="88" y="2"/>
                    <a:pt x="77" y="2"/>
                    <a:pt x="67" y="2"/>
                  </a:cubicBezTo>
                  <a:cubicBezTo>
                    <a:pt x="47" y="2"/>
                    <a:pt x="30" y="3"/>
                    <a:pt x="18" y="3"/>
                  </a:cubicBezTo>
                  <a:cubicBezTo>
                    <a:pt x="12" y="4"/>
                    <a:pt x="8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8" y="5"/>
                    <a:pt x="12" y="5"/>
                    <a:pt x="18" y="5"/>
                  </a:cubicBezTo>
                  <a:cubicBezTo>
                    <a:pt x="30" y="5"/>
                    <a:pt x="47" y="6"/>
                    <a:pt x="67" y="6"/>
                  </a:cubicBezTo>
                  <a:cubicBezTo>
                    <a:pt x="77" y="7"/>
                    <a:pt x="88" y="7"/>
                    <a:pt x="99" y="7"/>
                  </a:cubicBezTo>
                  <a:cubicBezTo>
                    <a:pt x="111" y="7"/>
                    <a:pt x="123" y="7"/>
                    <a:pt x="135" y="8"/>
                  </a:cubicBezTo>
                  <a:cubicBezTo>
                    <a:pt x="148" y="8"/>
                    <a:pt x="161" y="8"/>
                    <a:pt x="174" y="8"/>
                  </a:cubicBezTo>
                  <a:cubicBezTo>
                    <a:pt x="187" y="8"/>
                    <a:pt x="201" y="8"/>
                    <a:pt x="214" y="8"/>
                  </a:cubicBezTo>
                  <a:cubicBezTo>
                    <a:pt x="223" y="8"/>
                    <a:pt x="231" y="8"/>
                    <a:pt x="240" y="8"/>
                  </a:cubicBezTo>
                  <a:cubicBezTo>
                    <a:pt x="240" y="1"/>
                    <a:pt x="240" y="1"/>
                    <a:pt x="240" y="1"/>
                  </a:cubicBezTo>
                  <a:cubicBezTo>
                    <a:pt x="231" y="1"/>
                    <a:pt x="223" y="0"/>
                    <a:pt x="214" y="0"/>
                  </a:cubicBezTo>
                  <a:cubicBezTo>
                    <a:pt x="201" y="0"/>
                    <a:pt x="187" y="1"/>
                    <a:pt x="174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6" name="Freeform 133"/>
            <p:cNvSpPr/>
            <p:nvPr/>
          </p:nvSpPr>
          <p:spPr>
            <a:xfrm>
              <a:off x="11595240" y="3871800"/>
              <a:ext cx="392040" cy="15840"/>
            </a:xfrm>
            <a:custGeom>
              <a:avLst/>
              <a:gdLst/>
              <a:ahLst/>
              <a:rect l="l" t="t" r="r" b="b"/>
              <a:pathLst>
                <a:path w="198" h="8">
                  <a:moveTo>
                    <a:pt x="157" y="0"/>
                  </a:moveTo>
                  <a:cubicBezTo>
                    <a:pt x="145" y="0"/>
                    <a:pt x="134" y="0"/>
                    <a:pt x="122" y="1"/>
                  </a:cubicBezTo>
                  <a:cubicBezTo>
                    <a:pt x="111" y="1"/>
                    <a:pt x="100" y="1"/>
                    <a:pt x="90" y="1"/>
                  </a:cubicBezTo>
                  <a:cubicBezTo>
                    <a:pt x="79" y="1"/>
                    <a:pt x="69" y="1"/>
                    <a:pt x="60" y="2"/>
                  </a:cubicBezTo>
                  <a:cubicBezTo>
                    <a:pt x="42" y="2"/>
                    <a:pt x="27" y="3"/>
                    <a:pt x="17" y="3"/>
                  </a:cubicBezTo>
                  <a:cubicBezTo>
                    <a:pt x="11" y="3"/>
                    <a:pt x="7" y="4"/>
                    <a:pt x="4" y="4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0" y="4"/>
                    <a:pt x="1" y="4"/>
                    <a:pt x="4" y="4"/>
                  </a:cubicBezTo>
                  <a:cubicBezTo>
                    <a:pt x="7" y="4"/>
                    <a:pt x="11" y="4"/>
                    <a:pt x="17" y="5"/>
                  </a:cubicBezTo>
                  <a:cubicBezTo>
                    <a:pt x="27" y="5"/>
                    <a:pt x="42" y="6"/>
                    <a:pt x="60" y="6"/>
                  </a:cubicBezTo>
                  <a:cubicBezTo>
                    <a:pt x="69" y="6"/>
                    <a:pt x="79" y="6"/>
                    <a:pt x="90" y="7"/>
                  </a:cubicBezTo>
                  <a:cubicBezTo>
                    <a:pt x="100" y="7"/>
                    <a:pt x="111" y="7"/>
                    <a:pt x="122" y="7"/>
                  </a:cubicBezTo>
                  <a:cubicBezTo>
                    <a:pt x="134" y="7"/>
                    <a:pt x="145" y="7"/>
                    <a:pt x="157" y="7"/>
                  </a:cubicBezTo>
                  <a:cubicBezTo>
                    <a:pt x="169" y="8"/>
                    <a:pt x="181" y="8"/>
                    <a:pt x="193" y="8"/>
                  </a:cubicBezTo>
                  <a:cubicBezTo>
                    <a:pt x="195" y="8"/>
                    <a:pt x="196" y="8"/>
                    <a:pt x="198" y="8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96" y="0"/>
                    <a:pt x="195" y="0"/>
                    <a:pt x="193" y="0"/>
                  </a:cubicBezTo>
                  <a:cubicBezTo>
                    <a:pt x="181" y="0"/>
                    <a:pt x="169" y="0"/>
                    <a:pt x="157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7" name="Freeform 134"/>
            <p:cNvSpPr/>
            <p:nvPr/>
          </p:nvSpPr>
          <p:spPr>
            <a:xfrm>
              <a:off x="11676240" y="3792240"/>
              <a:ext cx="311040" cy="1404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09" y="0"/>
                  </a:moveTo>
                  <a:cubicBezTo>
                    <a:pt x="99" y="0"/>
                    <a:pt x="89" y="1"/>
                    <a:pt x="80" y="1"/>
                  </a:cubicBezTo>
                  <a:cubicBezTo>
                    <a:pt x="71" y="1"/>
                    <a:pt x="62" y="1"/>
                    <a:pt x="54" y="2"/>
                  </a:cubicBezTo>
                  <a:cubicBezTo>
                    <a:pt x="21" y="2"/>
                    <a:pt x="0" y="4"/>
                    <a:pt x="0" y="4"/>
                  </a:cubicBezTo>
                  <a:cubicBezTo>
                    <a:pt x="0" y="4"/>
                    <a:pt x="21" y="5"/>
                    <a:pt x="54" y="6"/>
                  </a:cubicBezTo>
                  <a:cubicBezTo>
                    <a:pt x="62" y="6"/>
                    <a:pt x="71" y="6"/>
                    <a:pt x="80" y="6"/>
                  </a:cubicBezTo>
                  <a:cubicBezTo>
                    <a:pt x="89" y="7"/>
                    <a:pt x="99" y="7"/>
                    <a:pt x="109" y="7"/>
                  </a:cubicBezTo>
                  <a:cubicBezTo>
                    <a:pt x="119" y="7"/>
                    <a:pt x="130" y="7"/>
                    <a:pt x="141" y="7"/>
                  </a:cubicBezTo>
                  <a:cubicBezTo>
                    <a:pt x="146" y="7"/>
                    <a:pt x="151" y="7"/>
                    <a:pt x="157" y="7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51" y="0"/>
                    <a:pt x="146" y="0"/>
                    <a:pt x="141" y="0"/>
                  </a:cubicBezTo>
                  <a:cubicBezTo>
                    <a:pt x="130" y="0"/>
                    <a:pt x="119" y="0"/>
                    <a:pt x="109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8" name="Freeform 135"/>
            <p:cNvSpPr/>
            <p:nvPr/>
          </p:nvSpPr>
          <p:spPr>
            <a:xfrm>
              <a:off x="11525400" y="3663720"/>
              <a:ext cx="461880" cy="14040"/>
            </a:xfrm>
            <a:custGeom>
              <a:avLst/>
              <a:gdLst/>
              <a:ahLst/>
              <a:rect l="l" t="t" r="r" b="b"/>
              <a:pathLst>
                <a:path w="234" h="7">
                  <a:moveTo>
                    <a:pt x="172" y="0"/>
                  </a:moveTo>
                  <a:cubicBezTo>
                    <a:pt x="159" y="0"/>
                    <a:pt x="146" y="0"/>
                    <a:pt x="134" y="0"/>
                  </a:cubicBezTo>
                  <a:cubicBezTo>
                    <a:pt x="121" y="0"/>
                    <a:pt x="109" y="0"/>
                    <a:pt x="98" y="1"/>
                  </a:cubicBezTo>
                  <a:cubicBezTo>
                    <a:pt x="86" y="1"/>
                    <a:pt x="76" y="1"/>
                    <a:pt x="66" y="1"/>
                  </a:cubicBezTo>
                  <a:cubicBezTo>
                    <a:pt x="46" y="2"/>
                    <a:pt x="29" y="2"/>
                    <a:pt x="18" y="3"/>
                  </a:cubicBezTo>
                  <a:cubicBezTo>
                    <a:pt x="12" y="3"/>
                    <a:pt x="7" y="3"/>
                    <a:pt x="4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1" y="4"/>
                    <a:pt x="4" y="4"/>
                  </a:cubicBezTo>
                  <a:cubicBezTo>
                    <a:pt x="7" y="4"/>
                    <a:pt x="12" y="4"/>
                    <a:pt x="18" y="4"/>
                  </a:cubicBezTo>
                  <a:cubicBezTo>
                    <a:pt x="29" y="5"/>
                    <a:pt x="46" y="5"/>
                    <a:pt x="66" y="6"/>
                  </a:cubicBezTo>
                  <a:cubicBezTo>
                    <a:pt x="76" y="6"/>
                    <a:pt x="86" y="6"/>
                    <a:pt x="98" y="6"/>
                  </a:cubicBezTo>
                  <a:cubicBezTo>
                    <a:pt x="109" y="6"/>
                    <a:pt x="121" y="7"/>
                    <a:pt x="134" y="7"/>
                  </a:cubicBezTo>
                  <a:cubicBezTo>
                    <a:pt x="146" y="7"/>
                    <a:pt x="159" y="7"/>
                    <a:pt x="172" y="7"/>
                  </a:cubicBezTo>
                  <a:cubicBezTo>
                    <a:pt x="185" y="7"/>
                    <a:pt x="198" y="7"/>
                    <a:pt x="211" y="7"/>
                  </a:cubicBezTo>
                  <a:cubicBezTo>
                    <a:pt x="219" y="7"/>
                    <a:pt x="226" y="7"/>
                    <a:pt x="234" y="7"/>
                  </a:cubicBezTo>
                  <a:cubicBezTo>
                    <a:pt x="234" y="0"/>
                    <a:pt x="234" y="0"/>
                    <a:pt x="234" y="0"/>
                  </a:cubicBezTo>
                  <a:cubicBezTo>
                    <a:pt x="226" y="0"/>
                    <a:pt x="219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9" name="Freeform 136"/>
            <p:cNvSpPr/>
            <p:nvPr/>
          </p:nvSpPr>
          <p:spPr>
            <a:xfrm>
              <a:off x="11801520" y="3605040"/>
              <a:ext cx="185400" cy="12600"/>
            </a:xfrm>
            <a:custGeom>
              <a:avLst/>
              <a:gdLst/>
              <a:ahLst/>
              <a:rect l="l" t="t" r="r" b="b"/>
              <a:pathLst>
                <a:path w="94" h="7">
                  <a:moveTo>
                    <a:pt x="66" y="1"/>
                  </a:moveTo>
                  <a:cubicBezTo>
                    <a:pt x="58" y="1"/>
                    <a:pt x="51" y="1"/>
                    <a:pt x="44" y="1"/>
                  </a:cubicBezTo>
                  <a:cubicBezTo>
                    <a:pt x="18" y="2"/>
                    <a:pt x="0" y="3"/>
                    <a:pt x="0" y="3"/>
                  </a:cubicBezTo>
                  <a:cubicBezTo>
                    <a:pt x="0" y="3"/>
                    <a:pt x="18" y="5"/>
                    <a:pt x="44" y="5"/>
                  </a:cubicBezTo>
                  <a:cubicBezTo>
                    <a:pt x="51" y="6"/>
                    <a:pt x="58" y="6"/>
                    <a:pt x="66" y="6"/>
                  </a:cubicBezTo>
                  <a:cubicBezTo>
                    <a:pt x="73" y="6"/>
                    <a:pt x="81" y="7"/>
                    <a:pt x="90" y="7"/>
                  </a:cubicBezTo>
                  <a:cubicBezTo>
                    <a:pt x="91" y="7"/>
                    <a:pt x="93" y="7"/>
                    <a:pt x="94" y="7"/>
                  </a:cubicBezTo>
                  <a:cubicBezTo>
                    <a:pt x="94" y="0"/>
                    <a:pt x="94" y="0"/>
                    <a:pt x="94" y="0"/>
                  </a:cubicBezTo>
                  <a:cubicBezTo>
                    <a:pt x="93" y="0"/>
                    <a:pt x="91" y="0"/>
                    <a:pt x="90" y="0"/>
                  </a:cubicBezTo>
                  <a:cubicBezTo>
                    <a:pt x="81" y="0"/>
                    <a:pt x="73" y="0"/>
                    <a:pt x="66" y="1"/>
                  </a:cubicBezTo>
                  <a:close/>
                </a:path>
              </a:pathLst>
            </a:custGeom>
            <a:solidFill>
              <a:srgbClr val="e5e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0" name="Freeform 137"/>
            <p:cNvSpPr/>
            <p:nvPr/>
          </p:nvSpPr>
          <p:spPr>
            <a:xfrm>
              <a:off x="10706040" y="1981080"/>
              <a:ext cx="163440" cy="280800"/>
            </a:xfrm>
            <a:custGeom>
              <a:avLst/>
              <a:gdLst/>
              <a:ahLst/>
              <a:rect l="l" t="t" r="r" b="b"/>
              <a:pathLst>
                <a:path w="83" h="142">
                  <a:moveTo>
                    <a:pt x="83" y="142"/>
                  </a:moveTo>
                  <a:cubicBezTo>
                    <a:pt x="50" y="58"/>
                    <a:pt x="77" y="26"/>
                    <a:pt x="77" y="26"/>
                  </a:cubicBezTo>
                  <a:cubicBezTo>
                    <a:pt x="77" y="26"/>
                    <a:pt x="0" y="0"/>
                    <a:pt x="3" y="29"/>
                  </a:cubicBezTo>
                  <a:cubicBezTo>
                    <a:pt x="6" y="58"/>
                    <a:pt x="16" y="142"/>
                    <a:pt x="16" y="142"/>
                  </a:cubicBezTo>
                  <a:cubicBezTo>
                    <a:pt x="16" y="142"/>
                    <a:pt x="47" y="140"/>
                    <a:pt x="83" y="142"/>
                  </a:cubicBez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1" name="Freeform 138"/>
            <p:cNvSpPr/>
            <p:nvPr/>
          </p:nvSpPr>
          <p:spPr>
            <a:xfrm>
              <a:off x="10620360" y="2025360"/>
              <a:ext cx="691920" cy="903240"/>
            </a:xfrm>
            <a:custGeom>
              <a:avLst/>
              <a:gdLst/>
              <a:ahLst/>
              <a:rect l="l" t="t" r="r" b="b"/>
              <a:pathLst>
                <a:path w="350" h="457">
                  <a:moveTo>
                    <a:pt x="252" y="125"/>
                  </a:moveTo>
                  <a:cubicBezTo>
                    <a:pt x="252" y="125"/>
                    <a:pt x="135" y="307"/>
                    <a:pt x="350" y="439"/>
                  </a:cubicBezTo>
                  <a:cubicBezTo>
                    <a:pt x="350" y="439"/>
                    <a:pt x="159" y="457"/>
                    <a:pt x="108" y="362"/>
                  </a:cubicBezTo>
                  <a:cubicBezTo>
                    <a:pt x="56" y="266"/>
                    <a:pt x="0" y="85"/>
                    <a:pt x="47" y="0"/>
                  </a:cubicBezTo>
                  <a:cubicBezTo>
                    <a:pt x="47" y="0"/>
                    <a:pt x="118" y="93"/>
                    <a:pt x="252" y="12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2" name="Freeform 139"/>
            <p:cNvSpPr/>
            <p:nvPr/>
          </p:nvSpPr>
          <p:spPr>
            <a:xfrm>
              <a:off x="10620360" y="2025360"/>
              <a:ext cx="658800" cy="874440"/>
            </a:xfrm>
            <a:custGeom>
              <a:avLst/>
              <a:gdLst/>
              <a:ahLst/>
              <a:rect l="l" t="t" r="r" b="b"/>
              <a:pathLst>
                <a:path w="333" h="442">
                  <a:moveTo>
                    <a:pt x="197" y="314"/>
                  </a:moveTo>
                  <a:cubicBezTo>
                    <a:pt x="138" y="225"/>
                    <a:pt x="70" y="132"/>
                    <a:pt x="54" y="24"/>
                  </a:cubicBezTo>
                  <a:cubicBezTo>
                    <a:pt x="53" y="18"/>
                    <a:pt x="52" y="12"/>
                    <a:pt x="52" y="7"/>
                  </a:cubicBezTo>
                  <a:cubicBezTo>
                    <a:pt x="49" y="2"/>
                    <a:pt x="47" y="0"/>
                    <a:pt x="47" y="0"/>
                  </a:cubicBezTo>
                  <a:cubicBezTo>
                    <a:pt x="0" y="85"/>
                    <a:pt x="56" y="266"/>
                    <a:pt x="108" y="362"/>
                  </a:cubicBezTo>
                  <a:cubicBezTo>
                    <a:pt x="150" y="440"/>
                    <a:pt x="286" y="442"/>
                    <a:pt x="333" y="440"/>
                  </a:cubicBezTo>
                  <a:cubicBezTo>
                    <a:pt x="280" y="408"/>
                    <a:pt x="233" y="368"/>
                    <a:pt x="197" y="314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140"/>
            <p:cNvSpPr/>
            <p:nvPr/>
          </p:nvSpPr>
          <p:spPr>
            <a:xfrm>
              <a:off x="10701360" y="2976480"/>
              <a:ext cx="1309680" cy="590400"/>
            </a:xfrm>
            <a:custGeom>
              <a:avLst/>
              <a:gdLst/>
              <a:ahLst/>
              <a:rect l="l" t="t" r="r" b="b"/>
              <a:pathLst>
                <a:path w="662" h="298">
                  <a:moveTo>
                    <a:pt x="0" y="84"/>
                  </a:moveTo>
                  <a:cubicBezTo>
                    <a:pt x="0" y="84"/>
                    <a:pt x="191" y="86"/>
                    <a:pt x="301" y="0"/>
                  </a:cubicBezTo>
                  <a:cubicBezTo>
                    <a:pt x="301" y="0"/>
                    <a:pt x="461" y="132"/>
                    <a:pt x="662" y="62"/>
                  </a:cubicBezTo>
                  <a:cubicBezTo>
                    <a:pt x="475" y="271"/>
                    <a:pt x="475" y="271"/>
                    <a:pt x="475" y="271"/>
                  </a:cubicBezTo>
                  <a:cubicBezTo>
                    <a:pt x="475" y="271"/>
                    <a:pt x="205" y="298"/>
                    <a:pt x="0" y="8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Freeform 141"/>
            <p:cNvSpPr/>
            <p:nvPr/>
          </p:nvSpPr>
          <p:spPr>
            <a:xfrm>
              <a:off x="10701360" y="3141360"/>
              <a:ext cx="1163520" cy="425160"/>
            </a:xfrm>
            <a:custGeom>
              <a:avLst/>
              <a:gdLst/>
              <a:ahLst/>
              <a:rect l="l" t="t" r="r" b="b"/>
              <a:pathLst>
                <a:path w="588" h="215">
                  <a:moveTo>
                    <a:pt x="23" y="1"/>
                  </a:moveTo>
                  <a:cubicBezTo>
                    <a:pt x="23" y="0"/>
                    <a:pt x="22" y="0"/>
                    <a:pt x="22" y="0"/>
                  </a:cubicBezTo>
                  <a:cubicBezTo>
                    <a:pt x="8" y="1"/>
                    <a:pt x="0" y="1"/>
                    <a:pt x="0" y="1"/>
                  </a:cubicBezTo>
                  <a:cubicBezTo>
                    <a:pt x="205" y="215"/>
                    <a:pt x="475" y="188"/>
                    <a:pt x="475" y="188"/>
                  </a:cubicBezTo>
                  <a:cubicBezTo>
                    <a:pt x="588" y="61"/>
                    <a:pt x="588" y="61"/>
                    <a:pt x="588" y="61"/>
                  </a:cubicBezTo>
                  <a:cubicBezTo>
                    <a:pt x="395" y="174"/>
                    <a:pt x="103" y="30"/>
                    <a:pt x="23" y="1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5" name="Freeform 142"/>
            <p:cNvSpPr/>
            <p:nvPr/>
          </p:nvSpPr>
          <p:spPr>
            <a:xfrm>
              <a:off x="11482560" y="3189240"/>
              <a:ext cx="303120" cy="244440"/>
            </a:xfrm>
            <a:custGeom>
              <a:avLst/>
              <a:gdLst/>
              <a:ahLst/>
              <a:rect l="l" t="t" r="r" b="b"/>
              <a:pathLst>
                <a:path w="153" h="124">
                  <a:moveTo>
                    <a:pt x="121" y="0"/>
                  </a:moveTo>
                  <a:cubicBezTo>
                    <a:pt x="153" y="0"/>
                    <a:pt x="153" y="0"/>
                    <a:pt x="153" y="0"/>
                  </a:cubicBezTo>
                  <a:cubicBezTo>
                    <a:pt x="31" y="124"/>
                    <a:pt x="31" y="124"/>
                    <a:pt x="31" y="124"/>
                  </a:cubicBezTo>
                  <a:cubicBezTo>
                    <a:pt x="31" y="124"/>
                    <a:pt x="31" y="124"/>
                    <a:pt x="0" y="115"/>
                  </a:cubicBezTo>
                  <a:cubicBezTo>
                    <a:pt x="54" y="88"/>
                    <a:pt x="121" y="0"/>
                    <a:pt x="121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6" name="Freeform 143"/>
            <p:cNvSpPr/>
            <p:nvPr/>
          </p:nvSpPr>
          <p:spPr>
            <a:xfrm>
              <a:off x="11479320" y="3189240"/>
              <a:ext cx="215640" cy="17928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9" y="91"/>
                  </a:moveTo>
                  <a:cubicBezTo>
                    <a:pt x="109" y="0"/>
                    <a:pt x="109" y="0"/>
                    <a:pt x="109" y="0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7" y="0"/>
                    <a:pt x="41" y="48"/>
                    <a:pt x="0" y="84"/>
                  </a:cubicBezTo>
                  <a:cubicBezTo>
                    <a:pt x="7" y="86"/>
                    <a:pt x="14" y="88"/>
                    <a:pt x="19" y="91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7" name="Freeform 144"/>
            <p:cNvSpPr/>
            <p:nvPr/>
          </p:nvSpPr>
          <p:spPr>
            <a:xfrm>
              <a:off x="11372760" y="3166920"/>
              <a:ext cx="245880" cy="22212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16" y="112"/>
                  </a:moveTo>
                  <a:cubicBezTo>
                    <a:pt x="125" y="0"/>
                    <a:pt x="125" y="0"/>
                    <a:pt x="125" y="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93" y="0"/>
                    <a:pt x="47" y="54"/>
                    <a:pt x="0" y="98"/>
                  </a:cubicBezTo>
                  <a:cubicBezTo>
                    <a:pt x="6" y="102"/>
                    <a:pt x="11" y="106"/>
                    <a:pt x="16" y="112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8" name="Freeform 145"/>
            <p:cNvSpPr/>
            <p:nvPr/>
          </p:nvSpPr>
          <p:spPr>
            <a:xfrm>
              <a:off x="9793440" y="5102280"/>
              <a:ext cx="417240" cy="436320"/>
            </a:xfrm>
            <a:custGeom>
              <a:avLst/>
              <a:gdLst/>
              <a:ahLst/>
              <a:rect l="l" t="t" r="r" b="b"/>
              <a:pathLst>
                <a:path w="211" h="220">
                  <a:moveTo>
                    <a:pt x="97" y="167"/>
                  </a:moveTo>
                  <a:cubicBezTo>
                    <a:pt x="89" y="179"/>
                    <a:pt x="71" y="201"/>
                    <a:pt x="62" y="212"/>
                  </a:cubicBezTo>
                  <a:cubicBezTo>
                    <a:pt x="55" y="220"/>
                    <a:pt x="53" y="218"/>
                    <a:pt x="44" y="213"/>
                  </a:cubicBezTo>
                  <a:cubicBezTo>
                    <a:pt x="32" y="207"/>
                    <a:pt x="19" y="199"/>
                    <a:pt x="7" y="191"/>
                  </a:cubicBezTo>
                  <a:cubicBezTo>
                    <a:pt x="17" y="176"/>
                    <a:pt x="31" y="168"/>
                    <a:pt x="43" y="155"/>
                  </a:cubicBezTo>
                  <a:cubicBezTo>
                    <a:pt x="40" y="151"/>
                    <a:pt x="38" y="149"/>
                    <a:pt x="35" y="147"/>
                  </a:cubicBezTo>
                  <a:cubicBezTo>
                    <a:pt x="28" y="142"/>
                    <a:pt x="25" y="138"/>
                    <a:pt x="20" y="131"/>
                  </a:cubicBezTo>
                  <a:cubicBezTo>
                    <a:pt x="17" y="128"/>
                    <a:pt x="0" y="116"/>
                    <a:pt x="0" y="111"/>
                  </a:cubicBezTo>
                  <a:cubicBezTo>
                    <a:pt x="0" y="99"/>
                    <a:pt x="17" y="101"/>
                    <a:pt x="25" y="100"/>
                  </a:cubicBezTo>
                  <a:cubicBezTo>
                    <a:pt x="32" y="99"/>
                    <a:pt x="40" y="97"/>
                    <a:pt x="46" y="93"/>
                  </a:cubicBezTo>
                  <a:cubicBezTo>
                    <a:pt x="30" y="81"/>
                    <a:pt x="14" y="60"/>
                    <a:pt x="14" y="60"/>
                  </a:cubicBezTo>
                  <a:cubicBezTo>
                    <a:pt x="14" y="60"/>
                    <a:pt x="11" y="40"/>
                    <a:pt x="18" y="29"/>
                  </a:cubicBezTo>
                  <a:cubicBezTo>
                    <a:pt x="22" y="21"/>
                    <a:pt x="26" y="14"/>
                    <a:pt x="26" y="14"/>
                  </a:cubicBezTo>
                  <a:cubicBezTo>
                    <a:pt x="26" y="14"/>
                    <a:pt x="47" y="22"/>
                    <a:pt x="52" y="25"/>
                  </a:cubicBezTo>
                  <a:cubicBezTo>
                    <a:pt x="57" y="17"/>
                    <a:pt x="67" y="10"/>
                    <a:pt x="75" y="4"/>
                  </a:cubicBezTo>
                  <a:cubicBezTo>
                    <a:pt x="81" y="0"/>
                    <a:pt x="80" y="0"/>
                    <a:pt x="86" y="2"/>
                  </a:cubicBezTo>
                  <a:cubicBezTo>
                    <a:pt x="95" y="6"/>
                    <a:pt x="105" y="15"/>
                    <a:pt x="113" y="20"/>
                  </a:cubicBezTo>
                  <a:cubicBezTo>
                    <a:pt x="121" y="24"/>
                    <a:pt x="128" y="29"/>
                    <a:pt x="136" y="32"/>
                  </a:cubicBezTo>
                  <a:cubicBezTo>
                    <a:pt x="145" y="34"/>
                    <a:pt x="146" y="33"/>
                    <a:pt x="148" y="43"/>
                  </a:cubicBezTo>
                  <a:cubicBezTo>
                    <a:pt x="149" y="49"/>
                    <a:pt x="151" y="57"/>
                    <a:pt x="150" y="63"/>
                  </a:cubicBezTo>
                  <a:cubicBezTo>
                    <a:pt x="153" y="58"/>
                    <a:pt x="165" y="43"/>
                    <a:pt x="172" y="46"/>
                  </a:cubicBezTo>
                  <a:cubicBezTo>
                    <a:pt x="178" y="47"/>
                    <a:pt x="185" y="66"/>
                    <a:pt x="190" y="71"/>
                  </a:cubicBezTo>
                  <a:cubicBezTo>
                    <a:pt x="196" y="77"/>
                    <a:pt x="201" y="83"/>
                    <a:pt x="207" y="88"/>
                  </a:cubicBezTo>
                  <a:cubicBezTo>
                    <a:pt x="204" y="93"/>
                    <a:pt x="192" y="94"/>
                    <a:pt x="187" y="96"/>
                  </a:cubicBezTo>
                  <a:cubicBezTo>
                    <a:pt x="185" y="104"/>
                    <a:pt x="188" y="111"/>
                    <a:pt x="189" y="118"/>
                  </a:cubicBezTo>
                  <a:cubicBezTo>
                    <a:pt x="191" y="126"/>
                    <a:pt x="194" y="130"/>
                    <a:pt x="200" y="136"/>
                  </a:cubicBezTo>
                  <a:cubicBezTo>
                    <a:pt x="205" y="140"/>
                    <a:pt x="211" y="149"/>
                    <a:pt x="209" y="156"/>
                  </a:cubicBezTo>
                  <a:cubicBezTo>
                    <a:pt x="208" y="159"/>
                    <a:pt x="206" y="162"/>
                    <a:pt x="204" y="164"/>
                  </a:cubicBezTo>
                  <a:cubicBezTo>
                    <a:pt x="203" y="166"/>
                    <a:pt x="200" y="170"/>
                    <a:pt x="197" y="171"/>
                  </a:cubicBezTo>
                  <a:cubicBezTo>
                    <a:pt x="196" y="171"/>
                    <a:pt x="194" y="170"/>
                    <a:pt x="193" y="170"/>
                  </a:cubicBezTo>
                  <a:cubicBezTo>
                    <a:pt x="192" y="170"/>
                    <a:pt x="190" y="170"/>
                    <a:pt x="188" y="170"/>
                  </a:cubicBezTo>
                  <a:cubicBezTo>
                    <a:pt x="185" y="170"/>
                    <a:pt x="182" y="171"/>
                    <a:pt x="178" y="171"/>
                  </a:cubicBezTo>
                  <a:cubicBezTo>
                    <a:pt x="176" y="171"/>
                    <a:pt x="173" y="172"/>
                    <a:pt x="172" y="174"/>
                  </a:cubicBezTo>
                  <a:cubicBezTo>
                    <a:pt x="170" y="176"/>
                    <a:pt x="167" y="179"/>
                    <a:pt x="166" y="181"/>
                  </a:cubicBezTo>
                  <a:cubicBezTo>
                    <a:pt x="168" y="183"/>
                    <a:pt x="160" y="193"/>
                    <a:pt x="156" y="192"/>
                  </a:cubicBezTo>
                  <a:cubicBezTo>
                    <a:pt x="154" y="191"/>
                    <a:pt x="153" y="189"/>
                    <a:pt x="152" y="187"/>
                  </a:cubicBezTo>
                  <a:cubicBezTo>
                    <a:pt x="144" y="178"/>
                    <a:pt x="132" y="178"/>
                    <a:pt x="122" y="173"/>
                  </a:cubicBezTo>
                  <a:cubicBezTo>
                    <a:pt x="97" y="163"/>
                    <a:pt x="97" y="163"/>
                    <a:pt x="97" y="163"/>
                  </a:cubicBezTo>
                  <a:lnTo>
                    <a:pt x="97" y="167"/>
                  </a:lnTo>
                  <a:close/>
                </a:path>
              </a:pathLst>
            </a:custGeom>
            <a:solidFill>
              <a:srgbClr val="e2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9" name="Freeform 146"/>
            <p:cNvSpPr/>
            <p:nvPr/>
          </p:nvSpPr>
          <p:spPr>
            <a:xfrm>
              <a:off x="10017000" y="5295960"/>
              <a:ext cx="182520" cy="155520"/>
            </a:xfrm>
            <a:custGeom>
              <a:avLst/>
              <a:gdLst/>
              <a:ahLst/>
              <a:rect l="l" t="t" r="r" b="b"/>
              <a:pathLst>
                <a:path w="92" h="78">
                  <a:moveTo>
                    <a:pt x="44" y="18"/>
                  </a:moveTo>
                  <a:cubicBezTo>
                    <a:pt x="47" y="21"/>
                    <a:pt x="57" y="26"/>
                    <a:pt x="56" y="31"/>
                  </a:cubicBezTo>
                  <a:cubicBezTo>
                    <a:pt x="56" y="33"/>
                    <a:pt x="32" y="33"/>
                    <a:pt x="30" y="35"/>
                  </a:cubicBezTo>
                  <a:cubicBezTo>
                    <a:pt x="20" y="42"/>
                    <a:pt x="11" y="55"/>
                    <a:pt x="3" y="65"/>
                  </a:cubicBezTo>
                  <a:cubicBezTo>
                    <a:pt x="0" y="70"/>
                    <a:pt x="6" y="73"/>
                    <a:pt x="12" y="76"/>
                  </a:cubicBezTo>
                  <a:cubicBezTo>
                    <a:pt x="14" y="77"/>
                    <a:pt x="16" y="78"/>
                    <a:pt x="18" y="78"/>
                  </a:cubicBezTo>
                  <a:cubicBezTo>
                    <a:pt x="18" y="78"/>
                    <a:pt x="36" y="63"/>
                    <a:pt x="38" y="62"/>
                  </a:cubicBezTo>
                  <a:cubicBezTo>
                    <a:pt x="43" y="58"/>
                    <a:pt x="48" y="55"/>
                    <a:pt x="54" y="51"/>
                  </a:cubicBezTo>
                  <a:cubicBezTo>
                    <a:pt x="58" y="48"/>
                    <a:pt x="63" y="46"/>
                    <a:pt x="68" y="45"/>
                  </a:cubicBezTo>
                  <a:cubicBezTo>
                    <a:pt x="76" y="43"/>
                    <a:pt x="84" y="45"/>
                    <a:pt x="92" y="44"/>
                  </a:cubicBezTo>
                  <a:cubicBezTo>
                    <a:pt x="91" y="42"/>
                    <a:pt x="88" y="40"/>
                    <a:pt x="86" y="38"/>
                  </a:cubicBezTo>
                  <a:cubicBezTo>
                    <a:pt x="81" y="32"/>
                    <a:pt x="78" y="28"/>
                    <a:pt x="76" y="20"/>
                  </a:cubicBezTo>
                  <a:cubicBezTo>
                    <a:pt x="75" y="13"/>
                    <a:pt x="73" y="7"/>
                    <a:pt x="74" y="0"/>
                  </a:cubicBezTo>
                  <a:cubicBezTo>
                    <a:pt x="70" y="2"/>
                    <a:pt x="65" y="4"/>
                    <a:pt x="61" y="6"/>
                  </a:cubicBezTo>
                  <a:cubicBezTo>
                    <a:pt x="56" y="8"/>
                    <a:pt x="39" y="11"/>
                    <a:pt x="44" y="18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0" name="Freeform 147"/>
            <p:cNvSpPr/>
            <p:nvPr/>
          </p:nvSpPr>
          <p:spPr>
            <a:xfrm>
              <a:off x="9807480" y="5354640"/>
              <a:ext cx="203040" cy="156960"/>
            </a:xfrm>
            <a:custGeom>
              <a:avLst/>
              <a:gdLst/>
              <a:ahLst/>
              <a:rect l="l" t="t" r="r" b="b"/>
              <a:pathLst>
                <a:path w="103" h="80">
                  <a:moveTo>
                    <a:pt x="57" y="22"/>
                  </a:moveTo>
                  <a:cubicBezTo>
                    <a:pt x="73" y="26"/>
                    <a:pt x="88" y="16"/>
                    <a:pt x="102" y="9"/>
                  </a:cubicBezTo>
                  <a:cubicBezTo>
                    <a:pt x="102" y="9"/>
                    <a:pt x="103" y="8"/>
                    <a:pt x="103" y="8"/>
                  </a:cubicBezTo>
                  <a:cubicBezTo>
                    <a:pt x="97" y="7"/>
                    <a:pt x="90" y="6"/>
                    <a:pt x="84" y="5"/>
                  </a:cubicBezTo>
                  <a:cubicBezTo>
                    <a:pt x="77" y="9"/>
                    <a:pt x="71" y="13"/>
                    <a:pt x="63" y="15"/>
                  </a:cubicBezTo>
                  <a:cubicBezTo>
                    <a:pt x="62" y="15"/>
                    <a:pt x="61" y="15"/>
                    <a:pt x="61" y="15"/>
                  </a:cubicBezTo>
                  <a:cubicBezTo>
                    <a:pt x="57" y="17"/>
                    <a:pt x="53" y="19"/>
                    <a:pt x="48" y="16"/>
                  </a:cubicBezTo>
                  <a:cubicBezTo>
                    <a:pt x="43" y="12"/>
                    <a:pt x="40" y="6"/>
                    <a:pt x="37" y="0"/>
                  </a:cubicBezTo>
                  <a:cubicBezTo>
                    <a:pt x="35" y="0"/>
                    <a:pt x="34" y="0"/>
                    <a:pt x="32" y="0"/>
                  </a:cubicBezTo>
                  <a:cubicBezTo>
                    <a:pt x="31" y="6"/>
                    <a:pt x="33" y="12"/>
                    <a:pt x="33" y="18"/>
                  </a:cubicBezTo>
                  <a:cubicBezTo>
                    <a:pt x="33" y="20"/>
                    <a:pt x="33" y="22"/>
                    <a:pt x="32" y="23"/>
                  </a:cubicBezTo>
                  <a:cubicBezTo>
                    <a:pt x="33" y="25"/>
                    <a:pt x="34" y="26"/>
                    <a:pt x="36" y="28"/>
                  </a:cubicBezTo>
                  <a:cubicBezTo>
                    <a:pt x="24" y="41"/>
                    <a:pt x="10" y="49"/>
                    <a:pt x="0" y="64"/>
                  </a:cubicBezTo>
                  <a:cubicBezTo>
                    <a:pt x="8" y="69"/>
                    <a:pt x="17" y="75"/>
                    <a:pt x="26" y="80"/>
                  </a:cubicBezTo>
                  <a:cubicBezTo>
                    <a:pt x="27" y="77"/>
                    <a:pt x="29" y="75"/>
                    <a:pt x="32" y="74"/>
                  </a:cubicBezTo>
                  <a:cubicBezTo>
                    <a:pt x="44" y="68"/>
                    <a:pt x="50" y="53"/>
                    <a:pt x="63" y="47"/>
                  </a:cubicBezTo>
                  <a:cubicBezTo>
                    <a:pt x="71" y="43"/>
                    <a:pt x="81" y="41"/>
                    <a:pt x="90" y="41"/>
                  </a:cubicBezTo>
                  <a:cubicBezTo>
                    <a:pt x="90" y="40"/>
                    <a:pt x="90" y="40"/>
                    <a:pt x="90" y="40"/>
                  </a:cubicBezTo>
                  <a:cubicBezTo>
                    <a:pt x="90" y="39"/>
                    <a:pt x="90" y="38"/>
                    <a:pt x="90" y="36"/>
                  </a:cubicBezTo>
                  <a:cubicBezTo>
                    <a:pt x="84" y="35"/>
                    <a:pt x="77" y="36"/>
                    <a:pt x="71" y="36"/>
                  </a:cubicBezTo>
                  <a:cubicBezTo>
                    <a:pt x="65" y="35"/>
                    <a:pt x="59" y="31"/>
                    <a:pt x="54" y="28"/>
                  </a:cubicBezTo>
                  <a:cubicBezTo>
                    <a:pt x="50" y="26"/>
                    <a:pt x="53" y="21"/>
                    <a:pt x="57" y="22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1" name="Freeform 148"/>
            <p:cNvSpPr/>
            <p:nvPr/>
          </p:nvSpPr>
          <p:spPr>
            <a:xfrm>
              <a:off x="9793440" y="5102280"/>
              <a:ext cx="385560" cy="236520"/>
            </a:xfrm>
            <a:custGeom>
              <a:avLst/>
              <a:gdLst/>
              <a:ahLst/>
              <a:rect l="l" t="t" r="r" b="b"/>
              <a:pathLst>
                <a:path w="195" h="119">
                  <a:moveTo>
                    <a:pt x="47" y="22"/>
                  </a:moveTo>
                  <a:cubicBezTo>
                    <a:pt x="41" y="31"/>
                    <a:pt x="36" y="41"/>
                    <a:pt x="31" y="51"/>
                  </a:cubicBezTo>
                  <a:cubicBezTo>
                    <a:pt x="26" y="61"/>
                    <a:pt x="34" y="73"/>
                    <a:pt x="41" y="81"/>
                  </a:cubicBezTo>
                  <a:cubicBezTo>
                    <a:pt x="43" y="84"/>
                    <a:pt x="42" y="87"/>
                    <a:pt x="41" y="89"/>
                  </a:cubicBezTo>
                  <a:cubicBezTo>
                    <a:pt x="43" y="90"/>
                    <a:pt x="45" y="91"/>
                    <a:pt x="46" y="93"/>
                  </a:cubicBezTo>
                  <a:cubicBezTo>
                    <a:pt x="40" y="97"/>
                    <a:pt x="32" y="99"/>
                    <a:pt x="25" y="100"/>
                  </a:cubicBezTo>
                  <a:cubicBezTo>
                    <a:pt x="18" y="101"/>
                    <a:pt x="2" y="99"/>
                    <a:pt x="0" y="109"/>
                  </a:cubicBezTo>
                  <a:cubicBezTo>
                    <a:pt x="29" y="114"/>
                    <a:pt x="58" y="115"/>
                    <a:pt x="87" y="119"/>
                  </a:cubicBezTo>
                  <a:cubicBezTo>
                    <a:pt x="87" y="118"/>
                    <a:pt x="88" y="117"/>
                    <a:pt x="90" y="117"/>
                  </a:cubicBezTo>
                  <a:cubicBezTo>
                    <a:pt x="97" y="115"/>
                    <a:pt x="104" y="116"/>
                    <a:pt x="110" y="114"/>
                  </a:cubicBezTo>
                  <a:cubicBezTo>
                    <a:pt x="113" y="113"/>
                    <a:pt x="116" y="111"/>
                    <a:pt x="119" y="111"/>
                  </a:cubicBezTo>
                  <a:cubicBezTo>
                    <a:pt x="118" y="109"/>
                    <a:pt x="118" y="108"/>
                    <a:pt x="117" y="106"/>
                  </a:cubicBezTo>
                  <a:cubicBezTo>
                    <a:pt x="112" y="99"/>
                    <a:pt x="122" y="91"/>
                    <a:pt x="126" y="98"/>
                  </a:cubicBezTo>
                  <a:cubicBezTo>
                    <a:pt x="127" y="99"/>
                    <a:pt x="128" y="101"/>
                    <a:pt x="129" y="102"/>
                  </a:cubicBezTo>
                  <a:cubicBezTo>
                    <a:pt x="129" y="99"/>
                    <a:pt x="130" y="97"/>
                    <a:pt x="130" y="94"/>
                  </a:cubicBezTo>
                  <a:cubicBezTo>
                    <a:pt x="131" y="92"/>
                    <a:pt x="134" y="90"/>
                    <a:pt x="137" y="90"/>
                  </a:cubicBezTo>
                  <a:cubicBezTo>
                    <a:pt x="157" y="93"/>
                    <a:pt x="175" y="78"/>
                    <a:pt x="195" y="77"/>
                  </a:cubicBezTo>
                  <a:cubicBezTo>
                    <a:pt x="194" y="75"/>
                    <a:pt x="192" y="73"/>
                    <a:pt x="190" y="71"/>
                  </a:cubicBezTo>
                  <a:cubicBezTo>
                    <a:pt x="185" y="66"/>
                    <a:pt x="178" y="47"/>
                    <a:pt x="172" y="46"/>
                  </a:cubicBezTo>
                  <a:cubicBezTo>
                    <a:pt x="164" y="43"/>
                    <a:pt x="154" y="58"/>
                    <a:pt x="150" y="64"/>
                  </a:cubicBezTo>
                  <a:cubicBezTo>
                    <a:pt x="151" y="59"/>
                    <a:pt x="148" y="55"/>
                    <a:pt x="147" y="51"/>
                  </a:cubicBezTo>
                  <a:cubicBezTo>
                    <a:pt x="146" y="48"/>
                    <a:pt x="147" y="41"/>
                    <a:pt x="144" y="38"/>
                  </a:cubicBezTo>
                  <a:cubicBezTo>
                    <a:pt x="139" y="35"/>
                    <a:pt x="138" y="48"/>
                    <a:pt x="136" y="50"/>
                  </a:cubicBezTo>
                  <a:cubicBezTo>
                    <a:pt x="134" y="55"/>
                    <a:pt x="130" y="62"/>
                    <a:pt x="126" y="64"/>
                  </a:cubicBezTo>
                  <a:cubicBezTo>
                    <a:pt x="120" y="67"/>
                    <a:pt x="117" y="59"/>
                    <a:pt x="117" y="55"/>
                  </a:cubicBezTo>
                  <a:cubicBezTo>
                    <a:pt x="117" y="50"/>
                    <a:pt x="117" y="45"/>
                    <a:pt x="119" y="40"/>
                  </a:cubicBezTo>
                  <a:cubicBezTo>
                    <a:pt x="119" y="38"/>
                    <a:pt x="123" y="26"/>
                    <a:pt x="122" y="25"/>
                  </a:cubicBezTo>
                  <a:cubicBezTo>
                    <a:pt x="120" y="23"/>
                    <a:pt x="117" y="22"/>
                    <a:pt x="115" y="20"/>
                  </a:cubicBezTo>
                  <a:cubicBezTo>
                    <a:pt x="110" y="30"/>
                    <a:pt x="107" y="40"/>
                    <a:pt x="103" y="50"/>
                  </a:cubicBezTo>
                  <a:cubicBezTo>
                    <a:pt x="101" y="55"/>
                    <a:pt x="98" y="61"/>
                    <a:pt x="94" y="64"/>
                  </a:cubicBezTo>
                  <a:cubicBezTo>
                    <a:pt x="84" y="72"/>
                    <a:pt x="73" y="68"/>
                    <a:pt x="63" y="62"/>
                  </a:cubicBezTo>
                  <a:cubicBezTo>
                    <a:pt x="37" y="46"/>
                    <a:pt x="67" y="19"/>
                    <a:pt x="86" y="2"/>
                  </a:cubicBezTo>
                  <a:cubicBezTo>
                    <a:pt x="80" y="0"/>
                    <a:pt x="81" y="0"/>
                    <a:pt x="75" y="4"/>
                  </a:cubicBezTo>
                  <a:cubicBezTo>
                    <a:pt x="67" y="10"/>
                    <a:pt x="57" y="17"/>
                    <a:pt x="52" y="25"/>
                  </a:cubicBezTo>
                  <a:cubicBezTo>
                    <a:pt x="51" y="25"/>
                    <a:pt x="49" y="23"/>
                    <a:pt x="47" y="22"/>
                  </a:cubicBezTo>
                  <a:close/>
                  <a:moveTo>
                    <a:pt x="52" y="60"/>
                  </a:moveTo>
                  <a:cubicBezTo>
                    <a:pt x="69" y="68"/>
                    <a:pt x="83" y="81"/>
                    <a:pt x="99" y="90"/>
                  </a:cubicBezTo>
                  <a:cubicBezTo>
                    <a:pt x="100" y="90"/>
                    <a:pt x="101" y="90"/>
                    <a:pt x="101" y="90"/>
                  </a:cubicBezTo>
                  <a:cubicBezTo>
                    <a:pt x="104" y="90"/>
                    <a:pt x="105" y="92"/>
                    <a:pt x="105" y="93"/>
                  </a:cubicBezTo>
                  <a:cubicBezTo>
                    <a:pt x="105" y="93"/>
                    <a:pt x="106" y="93"/>
                    <a:pt x="106" y="93"/>
                  </a:cubicBezTo>
                  <a:cubicBezTo>
                    <a:pt x="113" y="97"/>
                    <a:pt x="109" y="108"/>
                    <a:pt x="102" y="106"/>
                  </a:cubicBezTo>
                  <a:cubicBezTo>
                    <a:pt x="102" y="106"/>
                    <a:pt x="102" y="106"/>
                    <a:pt x="101" y="106"/>
                  </a:cubicBezTo>
                  <a:cubicBezTo>
                    <a:pt x="91" y="108"/>
                    <a:pt x="81" y="108"/>
                    <a:pt x="71" y="107"/>
                  </a:cubicBezTo>
                  <a:cubicBezTo>
                    <a:pt x="68" y="107"/>
                    <a:pt x="66" y="106"/>
                    <a:pt x="66" y="104"/>
                  </a:cubicBezTo>
                  <a:cubicBezTo>
                    <a:pt x="65" y="103"/>
                    <a:pt x="64" y="103"/>
                    <a:pt x="64" y="102"/>
                  </a:cubicBezTo>
                  <a:cubicBezTo>
                    <a:pt x="59" y="96"/>
                    <a:pt x="57" y="89"/>
                    <a:pt x="53" y="83"/>
                  </a:cubicBezTo>
                  <a:cubicBezTo>
                    <a:pt x="49" y="78"/>
                    <a:pt x="46" y="73"/>
                    <a:pt x="43" y="68"/>
                  </a:cubicBezTo>
                  <a:cubicBezTo>
                    <a:pt x="40" y="62"/>
                    <a:pt x="47" y="57"/>
                    <a:pt x="52" y="60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2" name="Freeform 149"/>
            <p:cNvSpPr/>
            <p:nvPr/>
          </p:nvSpPr>
          <p:spPr>
            <a:xfrm>
              <a:off x="10024920" y="5295960"/>
              <a:ext cx="153720" cy="149040"/>
            </a:xfrm>
            <a:custGeom>
              <a:avLst/>
              <a:gdLst/>
              <a:ahLst/>
              <a:rect l="l" t="t" r="r" b="b"/>
              <a:pathLst>
                <a:path w="78" h="75">
                  <a:moveTo>
                    <a:pt x="6" y="21"/>
                  </a:moveTo>
                  <a:cubicBezTo>
                    <a:pt x="8" y="24"/>
                    <a:pt x="53" y="26"/>
                    <a:pt x="52" y="31"/>
                  </a:cubicBezTo>
                  <a:cubicBezTo>
                    <a:pt x="52" y="33"/>
                    <a:pt x="36" y="38"/>
                    <a:pt x="34" y="39"/>
                  </a:cubicBezTo>
                  <a:cubicBezTo>
                    <a:pt x="24" y="46"/>
                    <a:pt x="15" y="55"/>
                    <a:pt x="8" y="65"/>
                  </a:cubicBezTo>
                  <a:cubicBezTo>
                    <a:pt x="4" y="70"/>
                    <a:pt x="2" y="72"/>
                    <a:pt x="6" y="75"/>
                  </a:cubicBezTo>
                  <a:cubicBezTo>
                    <a:pt x="9" y="73"/>
                    <a:pt x="11" y="71"/>
                    <a:pt x="14" y="70"/>
                  </a:cubicBezTo>
                  <a:cubicBezTo>
                    <a:pt x="26" y="62"/>
                    <a:pt x="41" y="45"/>
                    <a:pt x="56" y="37"/>
                  </a:cubicBezTo>
                  <a:cubicBezTo>
                    <a:pt x="66" y="32"/>
                    <a:pt x="77" y="33"/>
                    <a:pt x="78" y="33"/>
                  </a:cubicBezTo>
                  <a:cubicBezTo>
                    <a:pt x="75" y="30"/>
                    <a:pt x="74" y="27"/>
                    <a:pt x="72" y="20"/>
                  </a:cubicBezTo>
                  <a:cubicBezTo>
                    <a:pt x="71" y="13"/>
                    <a:pt x="69" y="7"/>
                    <a:pt x="70" y="0"/>
                  </a:cubicBezTo>
                  <a:cubicBezTo>
                    <a:pt x="66" y="2"/>
                    <a:pt x="61" y="4"/>
                    <a:pt x="57" y="6"/>
                  </a:cubicBezTo>
                  <a:cubicBezTo>
                    <a:pt x="52" y="8"/>
                    <a:pt x="0" y="14"/>
                    <a:pt x="6" y="21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3" name="Freeform 150"/>
            <p:cNvSpPr/>
            <p:nvPr/>
          </p:nvSpPr>
          <p:spPr>
            <a:xfrm>
              <a:off x="10047240" y="5295960"/>
              <a:ext cx="115560" cy="31680"/>
            </a:xfrm>
            <a:custGeom>
              <a:avLst/>
              <a:gdLst/>
              <a:ahLst/>
              <a:rect l="l" t="t" r="r" b="b"/>
              <a:pathLst>
                <a:path w="59" h="16">
                  <a:moveTo>
                    <a:pt x="59" y="7"/>
                  </a:moveTo>
                  <a:cubicBezTo>
                    <a:pt x="59" y="5"/>
                    <a:pt x="58" y="3"/>
                    <a:pt x="59" y="0"/>
                  </a:cubicBezTo>
                  <a:cubicBezTo>
                    <a:pt x="55" y="2"/>
                    <a:pt x="50" y="4"/>
                    <a:pt x="46" y="6"/>
                  </a:cubicBezTo>
                  <a:cubicBezTo>
                    <a:pt x="42" y="8"/>
                    <a:pt x="12" y="11"/>
                    <a:pt x="0" y="16"/>
                  </a:cubicBezTo>
                  <a:cubicBezTo>
                    <a:pt x="20" y="15"/>
                    <a:pt x="40" y="12"/>
                    <a:pt x="59" y="7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4" name="Freeform 151"/>
            <p:cNvSpPr/>
            <p:nvPr/>
          </p:nvSpPr>
          <p:spPr>
            <a:xfrm>
              <a:off x="9807480" y="5354640"/>
              <a:ext cx="187200" cy="13644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38" y="27"/>
                  </a:moveTo>
                  <a:cubicBezTo>
                    <a:pt x="38" y="29"/>
                    <a:pt x="36" y="29"/>
                    <a:pt x="34" y="29"/>
                  </a:cubicBezTo>
                  <a:cubicBezTo>
                    <a:pt x="23" y="41"/>
                    <a:pt x="9" y="49"/>
                    <a:pt x="0" y="64"/>
                  </a:cubicBezTo>
                  <a:cubicBezTo>
                    <a:pt x="3" y="65"/>
                    <a:pt x="5" y="67"/>
                    <a:pt x="8" y="69"/>
                  </a:cubicBezTo>
                  <a:cubicBezTo>
                    <a:pt x="15" y="64"/>
                    <a:pt x="21" y="59"/>
                    <a:pt x="28" y="54"/>
                  </a:cubicBezTo>
                  <a:cubicBezTo>
                    <a:pt x="33" y="50"/>
                    <a:pt x="37" y="44"/>
                    <a:pt x="42" y="41"/>
                  </a:cubicBezTo>
                  <a:cubicBezTo>
                    <a:pt x="53" y="34"/>
                    <a:pt x="62" y="40"/>
                    <a:pt x="73" y="43"/>
                  </a:cubicBezTo>
                  <a:cubicBezTo>
                    <a:pt x="78" y="42"/>
                    <a:pt x="84" y="41"/>
                    <a:pt x="90" y="41"/>
                  </a:cubicBezTo>
                  <a:cubicBezTo>
                    <a:pt x="90" y="40"/>
                    <a:pt x="90" y="40"/>
                    <a:pt x="90" y="40"/>
                  </a:cubicBezTo>
                  <a:cubicBezTo>
                    <a:pt x="90" y="40"/>
                    <a:pt x="90" y="39"/>
                    <a:pt x="90" y="39"/>
                  </a:cubicBezTo>
                  <a:cubicBezTo>
                    <a:pt x="90" y="39"/>
                    <a:pt x="89" y="40"/>
                    <a:pt x="88" y="40"/>
                  </a:cubicBezTo>
                  <a:cubicBezTo>
                    <a:pt x="73" y="41"/>
                    <a:pt x="58" y="40"/>
                    <a:pt x="47" y="28"/>
                  </a:cubicBezTo>
                  <a:cubicBezTo>
                    <a:pt x="46" y="27"/>
                    <a:pt x="46" y="24"/>
                    <a:pt x="47" y="23"/>
                  </a:cubicBezTo>
                  <a:cubicBezTo>
                    <a:pt x="53" y="18"/>
                    <a:pt x="61" y="17"/>
                    <a:pt x="69" y="17"/>
                  </a:cubicBezTo>
                  <a:cubicBezTo>
                    <a:pt x="80" y="17"/>
                    <a:pt x="87" y="12"/>
                    <a:pt x="95" y="7"/>
                  </a:cubicBezTo>
                  <a:cubicBezTo>
                    <a:pt x="92" y="6"/>
                    <a:pt x="88" y="5"/>
                    <a:pt x="84" y="5"/>
                  </a:cubicBezTo>
                  <a:cubicBezTo>
                    <a:pt x="77" y="9"/>
                    <a:pt x="71" y="13"/>
                    <a:pt x="63" y="15"/>
                  </a:cubicBezTo>
                  <a:cubicBezTo>
                    <a:pt x="62" y="15"/>
                    <a:pt x="61" y="15"/>
                    <a:pt x="61" y="15"/>
                  </a:cubicBezTo>
                  <a:cubicBezTo>
                    <a:pt x="57" y="17"/>
                    <a:pt x="53" y="19"/>
                    <a:pt x="48" y="16"/>
                  </a:cubicBezTo>
                  <a:cubicBezTo>
                    <a:pt x="43" y="12"/>
                    <a:pt x="40" y="6"/>
                    <a:pt x="37" y="0"/>
                  </a:cubicBezTo>
                  <a:cubicBezTo>
                    <a:pt x="36" y="0"/>
                    <a:pt x="35" y="0"/>
                    <a:pt x="35" y="0"/>
                  </a:cubicBezTo>
                  <a:cubicBezTo>
                    <a:pt x="39" y="8"/>
                    <a:pt x="40" y="19"/>
                    <a:pt x="38" y="27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5" name="Freeform 152"/>
            <p:cNvSpPr/>
            <p:nvPr/>
          </p:nvSpPr>
          <p:spPr>
            <a:xfrm>
              <a:off x="10024920" y="5191200"/>
              <a:ext cx="117360" cy="9828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3" y="0"/>
                  </a:moveTo>
                  <a:cubicBezTo>
                    <a:pt x="53" y="0"/>
                    <a:pt x="45" y="1"/>
                    <a:pt x="33" y="18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3" y="15"/>
                    <a:pt x="22" y="33"/>
                    <a:pt x="2" y="42"/>
                  </a:cubicBezTo>
                  <a:cubicBezTo>
                    <a:pt x="2" y="42"/>
                    <a:pt x="0" y="49"/>
                    <a:pt x="11" y="46"/>
                  </a:cubicBezTo>
                  <a:cubicBezTo>
                    <a:pt x="22" y="42"/>
                    <a:pt x="59" y="3"/>
                    <a:pt x="53" y="0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6" name="Freeform 153"/>
            <p:cNvSpPr/>
            <p:nvPr/>
          </p:nvSpPr>
          <p:spPr>
            <a:xfrm>
              <a:off x="9793440" y="5105520"/>
              <a:ext cx="352080" cy="225360"/>
            </a:xfrm>
            <a:custGeom>
              <a:avLst/>
              <a:gdLst/>
              <a:ahLst/>
              <a:rect l="l" t="t" r="r" b="b"/>
              <a:pathLst>
                <a:path w="178" h="114">
                  <a:moveTo>
                    <a:pt x="56" y="23"/>
                  </a:moveTo>
                  <a:cubicBezTo>
                    <a:pt x="52" y="33"/>
                    <a:pt x="43" y="39"/>
                    <a:pt x="39" y="50"/>
                  </a:cubicBezTo>
                  <a:cubicBezTo>
                    <a:pt x="36" y="57"/>
                    <a:pt x="35" y="63"/>
                    <a:pt x="38" y="71"/>
                  </a:cubicBezTo>
                  <a:cubicBezTo>
                    <a:pt x="41" y="75"/>
                    <a:pt x="48" y="84"/>
                    <a:pt x="44" y="90"/>
                  </a:cubicBezTo>
                  <a:cubicBezTo>
                    <a:pt x="44" y="90"/>
                    <a:pt x="44" y="90"/>
                    <a:pt x="44" y="90"/>
                  </a:cubicBezTo>
                  <a:cubicBezTo>
                    <a:pt x="45" y="91"/>
                    <a:pt x="46" y="91"/>
                    <a:pt x="46" y="92"/>
                  </a:cubicBezTo>
                  <a:cubicBezTo>
                    <a:pt x="40" y="96"/>
                    <a:pt x="32" y="98"/>
                    <a:pt x="25" y="99"/>
                  </a:cubicBezTo>
                  <a:cubicBezTo>
                    <a:pt x="18" y="100"/>
                    <a:pt x="2" y="98"/>
                    <a:pt x="0" y="108"/>
                  </a:cubicBezTo>
                  <a:cubicBezTo>
                    <a:pt x="1" y="108"/>
                    <a:pt x="2" y="108"/>
                    <a:pt x="3" y="109"/>
                  </a:cubicBezTo>
                  <a:cubicBezTo>
                    <a:pt x="3" y="108"/>
                    <a:pt x="3" y="108"/>
                    <a:pt x="4" y="108"/>
                  </a:cubicBezTo>
                  <a:cubicBezTo>
                    <a:pt x="16" y="105"/>
                    <a:pt x="30" y="98"/>
                    <a:pt x="43" y="99"/>
                  </a:cubicBezTo>
                  <a:cubicBezTo>
                    <a:pt x="57" y="100"/>
                    <a:pt x="67" y="107"/>
                    <a:pt x="78" y="114"/>
                  </a:cubicBezTo>
                  <a:cubicBezTo>
                    <a:pt x="91" y="109"/>
                    <a:pt x="105" y="111"/>
                    <a:pt x="118" y="110"/>
                  </a:cubicBezTo>
                  <a:cubicBezTo>
                    <a:pt x="119" y="110"/>
                    <a:pt x="119" y="110"/>
                    <a:pt x="119" y="110"/>
                  </a:cubicBezTo>
                  <a:cubicBezTo>
                    <a:pt x="118" y="108"/>
                    <a:pt x="118" y="107"/>
                    <a:pt x="117" y="105"/>
                  </a:cubicBezTo>
                  <a:cubicBezTo>
                    <a:pt x="112" y="98"/>
                    <a:pt x="122" y="90"/>
                    <a:pt x="126" y="97"/>
                  </a:cubicBezTo>
                  <a:cubicBezTo>
                    <a:pt x="127" y="98"/>
                    <a:pt x="128" y="100"/>
                    <a:pt x="129" y="101"/>
                  </a:cubicBezTo>
                  <a:cubicBezTo>
                    <a:pt x="129" y="98"/>
                    <a:pt x="130" y="96"/>
                    <a:pt x="130" y="93"/>
                  </a:cubicBezTo>
                  <a:cubicBezTo>
                    <a:pt x="131" y="91"/>
                    <a:pt x="134" y="89"/>
                    <a:pt x="137" y="89"/>
                  </a:cubicBezTo>
                  <a:cubicBezTo>
                    <a:pt x="145" y="90"/>
                    <a:pt x="152" y="89"/>
                    <a:pt x="160" y="86"/>
                  </a:cubicBezTo>
                  <a:cubicBezTo>
                    <a:pt x="159" y="86"/>
                    <a:pt x="159" y="86"/>
                    <a:pt x="158" y="86"/>
                  </a:cubicBezTo>
                  <a:cubicBezTo>
                    <a:pt x="151" y="86"/>
                    <a:pt x="152" y="77"/>
                    <a:pt x="155" y="73"/>
                  </a:cubicBezTo>
                  <a:cubicBezTo>
                    <a:pt x="158" y="69"/>
                    <a:pt x="162" y="67"/>
                    <a:pt x="166" y="64"/>
                  </a:cubicBezTo>
                  <a:cubicBezTo>
                    <a:pt x="170" y="60"/>
                    <a:pt x="174" y="54"/>
                    <a:pt x="178" y="50"/>
                  </a:cubicBezTo>
                  <a:cubicBezTo>
                    <a:pt x="176" y="47"/>
                    <a:pt x="174" y="45"/>
                    <a:pt x="172" y="45"/>
                  </a:cubicBezTo>
                  <a:cubicBezTo>
                    <a:pt x="172" y="44"/>
                    <a:pt x="171" y="44"/>
                    <a:pt x="170" y="44"/>
                  </a:cubicBezTo>
                  <a:cubicBezTo>
                    <a:pt x="170" y="45"/>
                    <a:pt x="170" y="45"/>
                    <a:pt x="170" y="45"/>
                  </a:cubicBezTo>
                  <a:cubicBezTo>
                    <a:pt x="169" y="47"/>
                    <a:pt x="155" y="68"/>
                    <a:pt x="153" y="67"/>
                  </a:cubicBezTo>
                  <a:cubicBezTo>
                    <a:pt x="149" y="64"/>
                    <a:pt x="150" y="57"/>
                    <a:pt x="150" y="53"/>
                  </a:cubicBezTo>
                  <a:cubicBezTo>
                    <a:pt x="150" y="48"/>
                    <a:pt x="147" y="40"/>
                    <a:pt x="148" y="35"/>
                  </a:cubicBezTo>
                  <a:cubicBezTo>
                    <a:pt x="148" y="34"/>
                    <a:pt x="144" y="32"/>
                    <a:pt x="143" y="32"/>
                  </a:cubicBezTo>
                  <a:cubicBezTo>
                    <a:pt x="142" y="33"/>
                    <a:pt x="143" y="40"/>
                    <a:pt x="143" y="41"/>
                  </a:cubicBezTo>
                  <a:cubicBezTo>
                    <a:pt x="142" y="45"/>
                    <a:pt x="142" y="49"/>
                    <a:pt x="141" y="53"/>
                  </a:cubicBezTo>
                  <a:cubicBezTo>
                    <a:pt x="141" y="53"/>
                    <a:pt x="135" y="64"/>
                    <a:pt x="131" y="68"/>
                  </a:cubicBezTo>
                  <a:cubicBezTo>
                    <a:pt x="127" y="72"/>
                    <a:pt x="122" y="76"/>
                    <a:pt x="116" y="76"/>
                  </a:cubicBezTo>
                  <a:cubicBezTo>
                    <a:pt x="111" y="76"/>
                    <a:pt x="113" y="72"/>
                    <a:pt x="113" y="68"/>
                  </a:cubicBezTo>
                  <a:cubicBezTo>
                    <a:pt x="113" y="64"/>
                    <a:pt x="113" y="60"/>
                    <a:pt x="114" y="57"/>
                  </a:cubicBezTo>
                  <a:cubicBezTo>
                    <a:pt x="115" y="54"/>
                    <a:pt x="117" y="52"/>
                    <a:pt x="117" y="49"/>
                  </a:cubicBezTo>
                  <a:cubicBezTo>
                    <a:pt x="120" y="40"/>
                    <a:pt x="120" y="32"/>
                    <a:pt x="122" y="24"/>
                  </a:cubicBezTo>
                  <a:cubicBezTo>
                    <a:pt x="120" y="23"/>
                    <a:pt x="119" y="22"/>
                    <a:pt x="117" y="21"/>
                  </a:cubicBezTo>
                  <a:cubicBezTo>
                    <a:pt x="117" y="21"/>
                    <a:pt x="117" y="21"/>
                    <a:pt x="117" y="21"/>
                  </a:cubicBezTo>
                  <a:cubicBezTo>
                    <a:pt x="112" y="37"/>
                    <a:pt x="110" y="59"/>
                    <a:pt x="96" y="69"/>
                  </a:cubicBezTo>
                  <a:cubicBezTo>
                    <a:pt x="91" y="73"/>
                    <a:pt x="86" y="72"/>
                    <a:pt x="80" y="70"/>
                  </a:cubicBezTo>
                  <a:cubicBezTo>
                    <a:pt x="68" y="67"/>
                    <a:pt x="49" y="59"/>
                    <a:pt x="50" y="46"/>
                  </a:cubicBezTo>
                  <a:cubicBezTo>
                    <a:pt x="50" y="37"/>
                    <a:pt x="57" y="29"/>
                    <a:pt x="61" y="21"/>
                  </a:cubicBezTo>
                  <a:cubicBezTo>
                    <a:pt x="67" y="13"/>
                    <a:pt x="73" y="7"/>
                    <a:pt x="80" y="0"/>
                  </a:cubicBezTo>
                  <a:cubicBezTo>
                    <a:pt x="79" y="0"/>
                    <a:pt x="77" y="1"/>
                    <a:pt x="75" y="3"/>
                  </a:cubicBezTo>
                  <a:cubicBezTo>
                    <a:pt x="68" y="8"/>
                    <a:pt x="61" y="13"/>
                    <a:pt x="55" y="20"/>
                  </a:cubicBezTo>
                  <a:cubicBezTo>
                    <a:pt x="56" y="20"/>
                    <a:pt x="56" y="22"/>
                    <a:pt x="56" y="23"/>
                  </a:cubicBezTo>
                  <a:close/>
                  <a:moveTo>
                    <a:pt x="52" y="59"/>
                  </a:moveTo>
                  <a:cubicBezTo>
                    <a:pt x="69" y="67"/>
                    <a:pt x="83" y="80"/>
                    <a:pt x="99" y="89"/>
                  </a:cubicBezTo>
                  <a:cubicBezTo>
                    <a:pt x="100" y="89"/>
                    <a:pt x="101" y="89"/>
                    <a:pt x="101" y="89"/>
                  </a:cubicBezTo>
                  <a:cubicBezTo>
                    <a:pt x="104" y="89"/>
                    <a:pt x="105" y="91"/>
                    <a:pt x="105" y="92"/>
                  </a:cubicBezTo>
                  <a:cubicBezTo>
                    <a:pt x="105" y="92"/>
                    <a:pt x="106" y="92"/>
                    <a:pt x="106" y="92"/>
                  </a:cubicBezTo>
                  <a:cubicBezTo>
                    <a:pt x="113" y="96"/>
                    <a:pt x="109" y="107"/>
                    <a:pt x="102" y="105"/>
                  </a:cubicBezTo>
                  <a:cubicBezTo>
                    <a:pt x="102" y="105"/>
                    <a:pt x="102" y="105"/>
                    <a:pt x="101" y="105"/>
                  </a:cubicBezTo>
                  <a:cubicBezTo>
                    <a:pt x="91" y="107"/>
                    <a:pt x="81" y="107"/>
                    <a:pt x="71" y="106"/>
                  </a:cubicBezTo>
                  <a:cubicBezTo>
                    <a:pt x="68" y="106"/>
                    <a:pt x="66" y="105"/>
                    <a:pt x="66" y="103"/>
                  </a:cubicBezTo>
                  <a:cubicBezTo>
                    <a:pt x="65" y="102"/>
                    <a:pt x="64" y="102"/>
                    <a:pt x="64" y="101"/>
                  </a:cubicBezTo>
                  <a:cubicBezTo>
                    <a:pt x="59" y="95"/>
                    <a:pt x="57" y="88"/>
                    <a:pt x="53" y="82"/>
                  </a:cubicBezTo>
                  <a:cubicBezTo>
                    <a:pt x="49" y="77"/>
                    <a:pt x="46" y="72"/>
                    <a:pt x="43" y="67"/>
                  </a:cubicBezTo>
                  <a:cubicBezTo>
                    <a:pt x="40" y="61"/>
                    <a:pt x="47" y="56"/>
                    <a:pt x="52" y="59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7" name="Freeform 154"/>
            <p:cNvSpPr/>
            <p:nvPr/>
          </p:nvSpPr>
          <p:spPr>
            <a:xfrm>
              <a:off x="10104480" y="5423040"/>
              <a:ext cx="80640" cy="3960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39" y="8"/>
                  </a:moveTo>
                  <a:cubicBezTo>
                    <a:pt x="41" y="9"/>
                    <a:pt x="35" y="6"/>
                    <a:pt x="32" y="5"/>
                  </a:cubicBezTo>
                  <a:cubicBezTo>
                    <a:pt x="29" y="5"/>
                    <a:pt x="27" y="3"/>
                    <a:pt x="24" y="2"/>
                  </a:cubicBezTo>
                  <a:cubicBezTo>
                    <a:pt x="20" y="1"/>
                    <a:pt x="16" y="1"/>
                    <a:pt x="12" y="0"/>
                  </a:cubicBezTo>
                  <a:cubicBezTo>
                    <a:pt x="9" y="0"/>
                    <a:pt x="6" y="0"/>
                    <a:pt x="3" y="1"/>
                  </a:cubicBezTo>
                  <a:cubicBezTo>
                    <a:pt x="0" y="2"/>
                    <a:pt x="1" y="8"/>
                    <a:pt x="1" y="8"/>
                  </a:cubicBezTo>
                  <a:cubicBezTo>
                    <a:pt x="3" y="12"/>
                    <a:pt x="5" y="16"/>
                    <a:pt x="8" y="20"/>
                  </a:cubicBezTo>
                  <a:cubicBezTo>
                    <a:pt x="8" y="20"/>
                    <a:pt x="14" y="1"/>
                    <a:pt x="39" y="8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8" name="Freeform 155"/>
            <p:cNvSpPr/>
            <p:nvPr/>
          </p:nvSpPr>
          <p:spPr>
            <a:xfrm>
              <a:off x="10112400" y="5423040"/>
              <a:ext cx="72720" cy="2520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8" y="13"/>
                  </a:moveTo>
                  <a:cubicBezTo>
                    <a:pt x="12" y="9"/>
                    <a:pt x="20" y="4"/>
                    <a:pt x="35" y="8"/>
                  </a:cubicBezTo>
                  <a:cubicBezTo>
                    <a:pt x="37" y="9"/>
                    <a:pt x="31" y="6"/>
                    <a:pt x="28" y="5"/>
                  </a:cubicBezTo>
                  <a:cubicBezTo>
                    <a:pt x="25" y="5"/>
                    <a:pt x="23" y="3"/>
                    <a:pt x="20" y="2"/>
                  </a:cubicBezTo>
                  <a:cubicBezTo>
                    <a:pt x="16" y="1"/>
                    <a:pt x="12" y="1"/>
                    <a:pt x="8" y="0"/>
                  </a:cubicBezTo>
                  <a:cubicBezTo>
                    <a:pt x="5" y="0"/>
                    <a:pt x="2" y="0"/>
                    <a:pt x="0" y="1"/>
                  </a:cubicBezTo>
                  <a:cubicBezTo>
                    <a:pt x="0" y="6"/>
                    <a:pt x="4" y="10"/>
                    <a:pt x="8" y="13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9" name="Freeform 156"/>
            <p:cNvSpPr/>
            <p:nvPr/>
          </p:nvSpPr>
          <p:spPr>
            <a:xfrm>
              <a:off x="10169640" y="5238720"/>
              <a:ext cx="276120" cy="30312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96" y="63"/>
                  </a:moveTo>
                  <a:cubicBezTo>
                    <a:pt x="105" y="64"/>
                    <a:pt x="124" y="68"/>
                    <a:pt x="133" y="71"/>
                  </a:cubicBezTo>
                  <a:cubicBezTo>
                    <a:pt x="140" y="72"/>
                    <a:pt x="139" y="74"/>
                    <a:pt x="139" y="81"/>
                  </a:cubicBezTo>
                  <a:cubicBezTo>
                    <a:pt x="139" y="90"/>
                    <a:pt x="138" y="100"/>
                    <a:pt x="137" y="110"/>
                  </a:cubicBezTo>
                  <a:cubicBezTo>
                    <a:pt x="125" y="109"/>
                    <a:pt x="116" y="102"/>
                    <a:pt x="105" y="100"/>
                  </a:cubicBezTo>
                  <a:cubicBezTo>
                    <a:pt x="103" y="102"/>
                    <a:pt x="103" y="104"/>
                    <a:pt x="102" y="107"/>
                  </a:cubicBezTo>
                  <a:cubicBezTo>
                    <a:pt x="101" y="112"/>
                    <a:pt x="100" y="115"/>
                    <a:pt x="98" y="120"/>
                  </a:cubicBezTo>
                  <a:cubicBezTo>
                    <a:pt x="97" y="123"/>
                    <a:pt x="94" y="137"/>
                    <a:pt x="92" y="138"/>
                  </a:cubicBezTo>
                  <a:cubicBezTo>
                    <a:pt x="84" y="142"/>
                    <a:pt x="80" y="131"/>
                    <a:pt x="78" y="127"/>
                  </a:cubicBezTo>
                  <a:cubicBezTo>
                    <a:pt x="75" y="123"/>
                    <a:pt x="71" y="119"/>
                    <a:pt x="67" y="116"/>
                  </a:cubicBezTo>
                  <a:cubicBezTo>
                    <a:pt x="64" y="129"/>
                    <a:pt x="57" y="146"/>
                    <a:pt x="57" y="146"/>
                  </a:cubicBezTo>
                  <a:cubicBezTo>
                    <a:pt x="57" y="146"/>
                    <a:pt x="46" y="153"/>
                    <a:pt x="38" y="153"/>
                  </a:cubicBezTo>
                  <a:cubicBezTo>
                    <a:pt x="32" y="152"/>
                    <a:pt x="26" y="152"/>
                    <a:pt x="26" y="152"/>
                  </a:cubicBezTo>
                  <a:cubicBezTo>
                    <a:pt x="26" y="152"/>
                    <a:pt x="24" y="138"/>
                    <a:pt x="25" y="133"/>
                  </a:cubicBezTo>
                  <a:cubicBezTo>
                    <a:pt x="18" y="133"/>
                    <a:pt x="11" y="129"/>
                    <a:pt x="6" y="126"/>
                  </a:cubicBezTo>
                  <a:cubicBezTo>
                    <a:pt x="1" y="124"/>
                    <a:pt x="2" y="124"/>
                    <a:pt x="1" y="120"/>
                  </a:cubicBezTo>
                  <a:cubicBezTo>
                    <a:pt x="0" y="113"/>
                    <a:pt x="3" y="105"/>
                    <a:pt x="3" y="99"/>
                  </a:cubicBezTo>
                  <a:cubicBezTo>
                    <a:pt x="4" y="92"/>
                    <a:pt x="4" y="87"/>
                    <a:pt x="3" y="81"/>
                  </a:cubicBezTo>
                  <a:cubicBezTo>
                    <a:pt x="2" y="76"/>
                    <a:pt x="1" y="75"/>
                    <a:pt x="7" y="71"/>
                  </a:cubicBezTo>
                  <a:cubicBezTo>
                    <a:pt x="10" y="68"/>
                    <a:pt x="14" y="65"/>
                    <a:pt x="18" y="64"/>
                  </a:cubicBezTo>
                  <a:cubicBezTo>
                    <a:pt x="14" y="63"/>
                    <a:pt x="1" y="61"/>
                    <a:pt x="1" y="56"/>
                  </a:cubicBezTo>
                  <a:cubicBezTo>
                    <a:pt x="0" y="52"/>
                    <a:pt x="9" y="42"/>
                    <a:pt x="10" y="37"/>
                  </a:cubicBezTo>
                  <a:cubicBezTo>
                    <a:pt x="12" y="32"/>
                    <a:pt x="14" y="28"/>
                    <a:pt x="15" y="22"/>
                  </a:cubicBezTo>
                  <a:cubicBezTo>
                    <a:pt x="19" y="22"/>
                    <a:pt x="23" y="29"/>
                    <a:pt x="26" y="32"/>
                  </a:cubicBezTo>
                  <a:cubicBezTo>
                    <a:pt x="31" y="30"/>
                    <a:pt x="35" y="27"/>
                    <a:pt x="38" y="24"/>
                  </a:cubicBezTo>
                  <a:cubicBezTo>
                    <a:pt x="43" y="20"/>
                    <a:pt x="44" y="17"/>
                    <a:pt x="46" y="12"/>
                  </a:cubicBezTo>
                  <a:cubicBezTo>
                    <a:pt x="47" y="8"/>
                    <a:pt x="50" y="1"/>
                    <a:pt x="55" y="1"/>
                  </a:cubicBezTo>
                  <a:cubicBezTo>
                    <a:pt x="57" y="0"/>
                    <a:pt x="59" y="0"/>
                    <a:pt x="61" y="1"/>
                  </a:cubicBezTo>
                  <a:cubicBezTo>
                    <a:pt x="63" y="1"/>
                    <a:pt x="66" y="2"/>
                    <a:pt x="67" y="3"/>
                  </a:cubicBezTo>
                  <a:cubicBezTo>
                    <a:pt x="68" y="4"/>
                    <a:pt x="68" y="5"/>
                    <a:pt x="68" y="6"/>
                  </a:cubicBezTo>
                  <a:cubicBezTo>
                    <a:pt x="68" y="7"/>
                    <a:pt x="69" y="8"/>
                    <a:pt x="70" y="9"/>
                  </a:cubicBezTo>
                  <a:cubicBezTo>
                    <a:pt x="71" y="10"/>
                    <a:pt x="72" y="12"/>
                    <a:pt x="73" y="14"/>
                  </a:cubicBezTo>
                  <a:cubicBezTo>
                    <a:pt x="74" y="15"/>
                    <a:pt x="75" y="17"/>
                    <a:pt x="77" y="17"/>
                  </a:cubicBezTo>
                  <a:cubicBezTo>
                    <a:pt x="79" y="18"/>
                    <a:pt x="81" y="18"/>
                    <a:pt x="83" y="19"/>
                  </a:cubicBezTo>
                  <a:cubicBezTo>
                    <a:pt x="84" y="17"/>
                    <a:pt x="92" y="19"/>
                    <a:pt x="92" y="21"/>
                  </a:cubicBezTo>
                  <a:cubicBezTo>
                    <a:pt x="92" y="22"/>
                    <a:pt x="91" y="24"/>
                    <a:pt x="91" y="25"/>
                  </a:cubicBezTo>
                  <a:cubicBezTo>
                    <a:pt x="88" y="33"/>
                    <a:pt x="91" y="39"/>
                    <a:pt x="91" y="47"/>
                  </a:cubicBezTo>
                  <a:cubicBezTo>
                    <a:pt x="93" y="65"/>
                    <a:pt x="93" y="65"/>
                    <a:pt x="93" y="65"/>
                  </a:cubicBezTo>
                  <a:lnTo>
                    <a:pt x="96" y="63"/>
                  </a:lnTo>
                  <a:close/>
                </a:path>
              </a:pathLst>
            </a:custGeom>
            <a:solidFill>
              <a:srgbClr val="e2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0" name="Freeform 157"/>
            <p:cNvSpPr/>
            <p:nvPr/>
          </p:nvSpPr>
          <p:spPr>
            <a:xfrm>
              <a:off x="10225080" y="5253120"/>
              <a:ext cx="123480" cy="9360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19" y="36"/>
                  </a:moveTo>
                  <a:cubicBezTo>
                    <a:pt x="20" y="34"/>
                    <a:pt x="19" y="26"/>
                    <a:pt x="23" y="25"/>
                  </a:cubicBezTo>
                  <a:cubicBezTo>
                    <a:pt x="24" y="25"/>
                    <a:pt x="31" y="39"/>
                    <a:pt x="33" y="40"/>
                  </a:cubicBezTo>
                  <a:cubicBezTo>
                    <a:pt x="40" y="44"/>
                    <a:pt x="51" y="45"/>
                    <a:pt x="59" y="46"/>
                  </a:cubicBezTo>
                  <a:cubicBezTo>
                    <a:pt x="63" y="47"/>
                    <a:pt x="63" y="42"/>
                    <a:pt x="63" y="38"/>
                  </a:cubicBezTo>
                  <a:cubicBezTo>
                    <a:pt x="63" y="36"/>
                    <a:pt x="63" y="35"/>
                    <a:pt x="63" y="33"/>
                  </a:cubicBezTo>
                  <a:cubicBezTo>
                    <a:pt x="63" y="33"/>
                    <a:pt x="48" y="28"/>
                    <a:pt x="47" y="27"/>
                  </a:cubicBezTo>
                  <a:cubicBezTo>
                    <a:pt x="43" y="25"/>
                    <a:pt x="39" y="23"/>
                    <a:pt x="36" y="21"/>
                  </a:cubicBezTo>
                  <a:cubicBezTo>
                    <a:pt x="33" y="19"/>
                    <a:pt x="30" y="17"/>
                    <a:pt x="28" y="14"/>
                  </a:cubicBezTo>
                  <a:cubicBezTo>
                    <a:pt x="24" y="10"/>
                    <a:pt x="23" y="5"/>
                    <a:pt x="20" y="0"/>
                  </a:cubicBezTo>
                  <a:cubicBezTo>
                    <a:pt x="19" y="1"/>
                    <a:pt x="19" y="4"/>
                    <a:pt x="18" y="5"/>
                  </a:cubicBezTo>
                  <a:cubicBezTo>
                    <a:pt x="16" y="10"/>
                    <a:pt x="14" y="13"/>
                    <a:pt x="10" y="17"/>
                  </a:cubicBezTo>
                  <a:cubicBezTo>
                    <a:pt x="7" y="19"/>
                    <a:pt x="4" y="23"/>
                    <a:pt x="0" y="24"/>
                  </a:cubicBezTo>
                  <a:cubicBezTo>
                    <a:pt x="2" y="26"/>
                    <a:pt x="4" y="28"/>
                    <a:pt x="7" y="30"/>
                  </a:cubicBezTo>
                  <a:cubicBezTo>
                    <a:pt x="10" y="32"/>
                    <a:pt x="16" y="42"/>
                    <a:pt x="19" y="36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1" name="Freeform 158"/>
            <p:cNvSpPr/>
            <p:nvPr/>
          </p:nvSpPr>
          <p:spPr>
            <a:xfrm>
              <a:off x="10312560" y="5364000"/>
              <a:ext cx="131760" cy="9180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23" y="26"/>
                  </a:moveTo>
                  <a:cubicBezTo>
                    <a:pt x="20" y="15"/>
                    <a:pt x="10" y="9"/>
                    <a:pt x="2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2" y="7"/>
                    <a:pt x="3" y="11"/>
                    <a:pt x="4" y="15"/>
                  </a:cubicBezTo>
                  <a:cubicBezTo>
                    <a:pt x="9" y="17"/>
                    <a:pt x="13" y="20"/>
                    <a:pt x="17" y="24"/>
                  </a:cubicBezTo>
                  <a:cubicBezTo>
                    <a:pt x="17" y="25"/>
                    <a:pt x="17" y="25"/>
                    <a:pt x="17" y="26"/>
                  </a:cubicBezTo>
                  <a:cubicBezTo>
                    <a:pt x="20" y="27"/>
                    <a:pt x="22" y="29"/>
                    <a:pt x="22" y="33"/>
                  </a:cubicBezTo>
                  <a:cubicBezTo>
                    <a:pt x="21" y="37"/>
                    <a:pt x="19" y="41"/>
                    <a:pt x="16" y="44"/>
                  </a:cubicBezTo>
                  <a:cubicBezTo>
                    <a:pt x="16" y="45"/>
                    <a:pt x="17" y="46"/>
                    <a:pt x="17" y="47"/>
                  </a:cubicBezTo>
                  <a:cubicBezTo>
                    <a:pt x="21" y="46"/>
                    <a:pt x="24" y="43"/>
                    <a:pt x="28" y="41"/>
                  </a:cubicBezTo>
                  <a:cubicBezTo>
                    <a:pt x="29" y="40"/>
                    <a:pt x="30" y="40"/>
                    <a:pt x="31" y="40"/>
                  </a:cubicBezTo>
                  <a:cubicBezTo>
                    <a:pt x="32" y="39"/>
                    <a:pt x="32" y="38"/>
                    <a:pt x="33" y="37"/>
                  </a:cubicBezTo>
                  <a:cubicBezTo>
                    <a:pt x="44" y="39"/>
                    <a:pt x="53" y="46"/>
                    <a:pt x="65" y="47"/>
                  </a:cubicBezTo>
                  <a:cubicBezTo>
                    <a:pt x="66" y="40"/>
                    <a:pt x="66" y="33"/>
                    <a:pt x="67" y="27"/>
                  </a:cubicBezTo>
                  <a:cubicBezTo>
                    <a:pt x="65" y="27"/>
                    <a:pt x="63" y="26"/>
                    <a:pt x="61" y="25"/>
                  </a:cubicBezTo>
                  <a:cubicBezTo>
                    <a:pt x="54" y="19"/>
                    <a:pt x="43" y="21"/>
                    <a:pt x="36" y="15"/>
                  </a:cubicBezTo>
                  <a:cubicBezTo>
                    <a:pt x="31" y="11"/>
                    <a:pt x="27" y="6"/>
                    <a:pt x="2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3" y="1"/>
                    <a:pt x="22" y="1"/>
                    <a:pt x="21" y="2"/>
                  </a:cubicBezTo>
                  <a:cubicBezTo>
                    <a:pt x="22" y="6"/>
                    <a:pt x="25" y="9"/>
                    <a:pt x="27" y="13"/>
                  </a:cubicBezTo>
                  <a:cubicBezTo>
                    <a:pt x="28" y="17"/>
                    <a:pt x="27" y="22"/>
                    <a:pt x="27" y="26"/>
                  </a:cubicBezTo>
                  <a:cubicBezTo>
                    <a:pt x="27" y="28"/>
                    <a:pt x="23" y="28"/>
                    <a:pt x="23" y="26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2" name="Freeform 159"/>
            <p:cNvSpPr/>
            <p:nvPr/>
          </p:nvSpPr>
          <p:spPr>
            <a:xfrm>
              <a:off x="10169640" y="5303880"/>
              <a:ext cx="179280" cy="214200"/>
            </a:xfrm>
            <a:custGeom>
              <a:avLst/>
              <a:gdLst/>
              <a:ahLst/>
              <a:rect l="l" t="t" r="r" b="b"/>
              <a:pathLst>
                <a:path w="91" h="108">
                  <a:moveTo>
                    <a:pt x="25" y="104"/>
                  </a:moveTo>
                  <a:cubicBezTo>
                    <a:pt x="32" y="105"/>
                    <a:pt x="39" y="105"/>
                    <a:pt x="47" y="105"/>
                  </a:cubicBezTo>
                  <a:cubicBezTo>
                    <a:pt x="54" y="105"/>
                    <a:pt x="59" y="96"/>
                    <a:pt x="61" y="90"/>
                  </a:cubicBezTo>
                  <a:cubicBezTo>
                    <a:pt x="62" y="88"/>
                    <a:pt x="64" y="87"/>
                    <a:pt x="66" y="88"/>
                  </a:cubicBezTo>
                  <a:cubicBezTo>
                    <a:pt x="66" y="86"/>
                    <a:pt x="66" y="85"/>
                    <a:pt x="67" y="83"/>
                  </a:cubicBezTo>
                  <a:cubicBezTo>
                    <a:pt x="71" y="86"/>
                    <a:pt x="75" y="90"/>
                    <a:pt x="78" y="94"/>
                  </a:cubicBezTo>
                  <a:cubicBezTo>
                    <a:pt x="80" y="98"/>
                    <a:pt x="84" y="108"/>
                    <a:pt x="91" y="106"/>
                  </a:cubicBezTo>
                  <a:cubicBezTo>
                    <a:pt x="85" y="87"/>
                    <a:pt x="77" y="70"/>
                    <a:pt x="70" y="51"/>
                  </a:cubicBezTo>
                  <a:cubicBezTo>
                    <a:pt x="69" y="51"/>
                    <a:pt x="68" y="51"/>
                    <a:pt x="68" y="50"/>
                  </a:cubicBezTo>
                  <a:cubicBezTo>
                    <a:pt x="65" y="46"/>
                    <a:pt x="63" y="42"/>
                    <a:pt x="60" y="39"/>
                  </a:cubicBezTo>
                  <a:cubicBezTo>
                    <a:pt x="58" y="37"/>
                    <a:pt x="57" y="36"/>
                    <a:pt x="55" y="34"/>
                  </a:cubicBezTo>
                  <a:cubicBezTo>
                    <a:pt x="55" y="35"/>
                    <a:pt x="54" y="36"/>
                    <a:pt x="53" y="37"/>
                  </a:cubicBezTo>
                  <a:cubicBezTo>
                    <a:pt x="51" y="42"/>
                    <a:pt x="43" y="39"/>
                    <a:pt x="45" y="34"/>
                  </a:cubicBezTo>
                  <a:cubicBezTo>
                    <a:pt x="46" y="33"/>
                    <a:pt x="47" y="32"/>
                    <a:pt x="47" y="31"/>
                  </a:cubicBezTo>
                  <a:cubicBezTo>
                    <a:pt x="46" y="32"/>
                    <a:pt x="44" y="32"/>
                    <a:pt x="42" y="33"/>
                  </a:cubicBezTo>
                  <a:cubicBezTo>
                    <a:pt x="41" y="33"/>
                    <a:pt x="38" y="32"/>
                    <a:pt x="38" y="30"/>
                  </a:cubicBezTo>
                  <a:cubicBezTo>
                    <a:pt x="33" y="17"/>
                    <a:pt x="19" y="11"/>
                    <a:pt x="12" y="0"/>
                  </a:cubicBezTo>
                  <a:cubicBezTo>
                    <a:pt x="12" y="1"/>
                    <a:pt x="11" y="3"/>
                    <a:pt x="10" y="4"/>
                  </a:cubicBezTo>
                  <a:cubicBezTo>
                    <a:pt x="9" y="9"/>
                    <a:pt x="0" y="19"/>
                    <a:pt x="1" y="23"/>
                  </a:cubicBezTo>
                  <a:cubicBezTo>
                    <a:pt x="1" y="29"/>
                    <a:pt x="14" y="30"/>
                    <a:pt x="18" y="30"/>
                  </a:cubicBezTo>
                  <a:cubicBezTo>
                    <a:pt x="15" y="31"/>
                    <a:pt x="14" y="34"/>
                    <a:pt x="12" y="36"/>
                  </a:cubicBezTo>
                  <a:cubicBezTo>
                    <a:pt x="10" y="38"/>
                    <a:pt x="5" y="39"/>
                    <a:pt x="5" y="42"/>
                  </a:cubicBezTo>
                  <a:cubicBezTo>
                    <a:pt x="4" y="46"/>
                    <a:pt x="12" y="43"/>
                    <a:pt x="14" y="43"/>
                  </a:cubicBezTo>
                  <a:cubicBezTo>
                    <a:pt x="18" y="43"/>
                    <a:pt x="23" y="43"/>
                    <a:pt x="26" y="45"/>
                  </a:cubicBezTo>
                  <a:cubicBezTo>
                    <a:pt x="29" y="47"/>
                    <a:pt x="25" y="52"/>
                    <a:pt x="23" y="53"/>
                  </a:cubicBezTo>
                  <a:cubicBezTo>
                    <a:pt x="20" y="54"/>
                    <a:pt x="17" y="56"/>
                    <a:pt x="13" y="56"/>
                  </a:cubicBezTo>
                  <a:cubicBezTo>
                    <a:pt x="12" y="56"/>
                    <a:pt x="4" y="58"/>
                    <a:pt x="4" y="59"/>
                  </a:cubicBezTo>
                  <a:cubicBezTo>
                    <a:pt x="3" y="61"/>
                    <a:pt x="3" y="63"/>
                    <a:pt x="3" y="65"/>
                  </a:cubicBezTo>
                  <a:cubicBezTo>
                    <a:pt x="10" y="64"/>
                    <a:pt x="17" y="63"/>
                    <a:pt x="24" y="63"/>
                  </a:cubicBezTo>
                  <a:cubicBezTo>
                    <a:pt x="28" y="62"/>
                    <a:pt x="32" y="62"/>
                    <a:pt x="36" y="64"/>
                  </a:cubicBezTo>
                  <a:cubicBezTo>
                    <a:pt x="43" y="67"/>
                    <a:pt x="44" y="75"/>
                    <a:pt x="44" y="83"/>
                  </a:cubicBezTo>
                  <a:cubicBezTo>
                    <a:pt x="42" y="103"/>
                    <a:pt x="17" y="94"/>
                    <a:pt x="1" y="87"/>
                  </a:cubicBezTo>
                  <a:cubicBezTo>
                    <a:pt x="2" y="91"/>
                    <a:pt x="1" y="91"/>
                    <a:pt x="6" y="93"/>
                  </a:cubicBezTo>
                  <a:cubicBezTo>
                    <a:pt x="11" y="96"/>
                    <a:pt x="18" y="100"/>
                    <a:pt x="25" y="100"/>
                  </a:cubicBezTo>
                  <a:cubicBezTo>
                    <a:pt x="25" y="101"/>
                    <a:pt x="25" y="103"/>
                    <a:pt x="25" y="104"/>
                  </a:cubicBezTo>
                  <a:close/>
                  <a:moveTo>
                    <a:pt x="45" y="89"/>
                  </a:moveTo>
                  <a:cubicBezTo>
                    <a:pt x="45" y="77"/>
                    <a:pt x="48" y="65"/>
                    <a:pt x="49" y="53"/>
                  </a:cubicBezTo>
                  <a:cubicBezTo>
                    <a:pt x="49" y="52"/>
                    <a:pt x="49" y="52"/>
                    <a:pt x="48" y="51"/>
                  </a:cubicBezTo>
                  <a:cubicBezTo>
                    <a:pt x="48" y="50"/>
                    <a:pt x="48" y="49"/>
                    <a:pt x="49" y="48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49" y="43"/>
                    <a:pt x="57" y="41"/>
                    <a:pt x="57" y="46"/>
                  </a:cubicBezTo>
                  <a:cubicBezTo>
                    <a:pt x="58" y="46"/>
                    <a:pt x="58" y="46"/>
                    <a:pt x="58" y="47"/>
                  </a:cubicBezTo>
                  <a:cubicBezTo>
                    <a:pt x="62" y="52"/>
                    <a:pt x="65" y="58"/>
                    <a:pt x="68" y="64"/>
                  </a:cubicBezTo>
                  <a:cubicBezTo>
                    <a:pt x="69" y="66"/>
                    <a:pt x="68" y="67"/>
                    <a:pt x="67" y="68"/>
                  </a:cubicBezTo>
                  <a:cubicBezTo>
                    <a:pt x="67" y="69"/>
                    <a:pt x="67" y="69"/>
                    <a:pt x="67" y="70"/>
                  </a:cubicBezTo>
                  <a:cubicBezTo>
                    <a:pt x="65" y="74"/>
                    <a:pt x="61" y="78"/>
                    <a:pt x="59" y="83"/>
                  </a:cubicBezTo>
                  <a:cubicBezTo>
                    <a:pt x="57" y="86"/>
                    <a:pt x="55" y="89"/>
                    <a:pt x="53" y="93"/>
                  </a:cubicBezTo>
                  <a:cubicBezTo>
                    <a:pt x="51" y="97"/>
                    <a:pt x="45" y="93"/>
                    <a:pt x="45" y="89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3" name="Freeform 160"/>
            <p:cNvSpPr/>
            <p:nvPr/>
          </p:nvSpPr>
          <p:spPr>
            <a:xfrm>
              <a:off x="10225080" y="5273640"/>
              <a:ext cx="123480" cy="9972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1" y="46"/>
                  </a:moveTo>
                  <a:cubicBezTo>
                    <a:pt x="32" y="44"/>
                    <a:pt x="19" y="16"/>
                    <a:pt x="23" y="15"/>
                  </a:cubicBezTo>
                  <a:cubicBezTo>
                    <a:pt x="24" y="15"/>
                    <a:pt x="32" y="23"/>
                    <a:pt x="34" y="24"/>
                  </a:cubicBezTo>
                  <a:cubicBezTo>
                    <a:pt x="41" y="28"/>
                    <a:pt x="49" y="30"/>
                    <a:pt x="57" y="31"/>
                  </a:cubicBezTo>
                  <a:cubicBezTo>
                    <a:pt x="61" y="32"/>
                    <a:pt x="63" y="32"/>
                    <a:pt x="63" y="29"/>
                  </a:cubicBezTo>
                  <a:cubicBezTo>
                    <a:pt x="61" y="28"/>
                    <a:pt x="59" y="28"/>
                    <a:pt x="58" y="27"/>
                  </a:cubicBezTo>
                  <a:cubicBezTo>
                    <a:pt x="49" y="22"/>
                    <a:pt x="35" y="17"/>
                    <a:pt x="26" y="11"/>
                  </a:cubicBezTo>
                  <a:cubicBezTo>
                    <a:pt x="20" y="7"/>
                    <a:pt x="17" y="0"/>
                    <a:pt x="16" y="0"/>
                  </a:cubicBezTo>
                  <a:cubicBezTo>
                    <a:pt x="15" y="2"/>
                    <a:pt x="14" y="4"/>
                    <a:pt x="10" y="7"/>
                  </a:cubicBezTo>
                  <a:cubicBezTo>
                    <a:pt x="7" y="9"/>
                    <a:pt x="4" y="13"/>
                    <a:pt x="0" y="14"/>
                  </a:cubicBezTo>
                  <a:cubicBezTo>
                    <a:pt x="2" y="16"/>
                    <a:pt x="4" y="18"/>
                    <a:pt x="7" y="20"/>
                  </a:cubicBezTo>
                  <a:cubicBezTo>
                    <a:pt x="10" y="22"/>
                    <a:pt x="28" y="51"/>
                    <a:pt x="31" y="46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Freeform 161"/>
            <p:cNvSpPr/>
            <p:nvPr/>
          </p:nvSpPr>
          <p:spPr>
            <a:xfrm>
              <a:off x="10225080" y="5295960"/>
              <a:ext cx="53640" cy="666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4" y="0"/>
                  </a:moveTo>
                  <a:cubicBezTo>
                    <a:pt x="2" y="1"/>
                    <a:pt x="1" y="2"/>
                    <a:pt x="0" y="2"/>
                  </a:cubicBezTo>
                  <a:cubicBezTo>
                    <a:pt x="2" y="4"/>
                    <a:pt x="4" y="6"/>
                    <a:pt x="7" y="8"/>
                  </a:cubicBezTo>
                  <a:cubicBezTo>
                    <a:pt x="9" y="10"/>
                    <a:pt x="20" y="26"/>
                    <a:pt x="27" y="33"/>
                  </a:cubicBezTo>
                  <a:cubicBezTo>
                    <a:pt x="20" y="21"/>
                    <a:pt x="12" y="10"/>
                    <a:pt x="4" y="0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Freeform 162"/>
            <p:cNvSpPr/>
            <p:nvPr/>
          </p:nvSpPr>
          <p:spPr>
            <a:xfrm>
              <a:off x="10315440" y="5364000"/>
              <a:ext cx="125280" cy="91800"/>
            </a:xfrm>
            <a:custGeom>
              <a:avLst/>
              <a:gdLst/>
              <a:ahLst/>
              <a:rect l="l" t="t" r="r" b="b"/>
              <a:pathLst>
                <a:path w="63" h="47">
                  <a:moveTo>
                    <a:pt x="29" y="35"/>
                  </a:moveTo>
                  <a:cubicBezTo>
                    <a:pt x="31" y="35"/>
                    <a:pt x="32" y="36"/>
                    <a:pt x="32" y="37"/>
                  </a:cubicBezTo>
                  <a:cubicBezTo>
                    <a:pt x="43" y="40"/>
                    <a:pt x="51" y="46"/>
                    <a:pt x="63" y="47"/>
                  </a:cubicBezTo>
                  <a:cubicBezTo>
                    <a:pt x="63" y="45"/>
                    <a:pt x="63" y="43"/>
                    <a:pt x="63" y="41"/>
                  </a:cubicBezTo>
                  <a:cubicBezTo>
                    <a:pt x="59" y="38"/>
                    <a:pt x="54" y="35"/>
                    <a:pt x="48" y="33"/>
                  </a:cubicBezTo>
                  <a:cubicBezTo>
                    <a:pt x="45" y="32"/>
                    <a:pt x="40" y="31"/>
                    <a:pt x="36" y="29"/>
                  </a:cubicBezTo>
                  <a:cubicBezTo>
                    <a:pt x="29" y="24"/>
                    <a:pt x="30" y="17"/>
                    <a:pt x="29" y="10"/>
                  </a:cubicBezTo>
                  <a:cubicBezTo>
                    <a:pt x="26" y="7"/>
                    <a:pt x="24" y="4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1"/>
                    <a:pt x="22" y="1"/>
                    <a:pt x="22" y="2"/>
                  </a:cubicBezTo>
                  <a:cubicBezTo>
                    <a:pt x="27" y="11"/>
                    <a:pt x="31" y="20"/>
                    <a:pt x="27" y="30"/>
                  </a:cubicBezTo>
                  <a:cubicBezTo>
                    <a:pt x="27" y="31"/>
                    <a:pt x="26" y="32"/>
                    <a:pt x="24" y="31"/>
                  </a:cubicBezTo>
                  <a:cubicBezTo>
                    <a:pt x="19" y="29"/>
                    <a:pt x="17" y="25"/>
                    <a:pt x="14" y="20"/>
                  </a:cubicBezTo>
                  <a:cubicBezTo>
                    <a:pt x="11" y="14"/>
                    <a:pt x="6" y="11"/>
                    <a:pt x="0" y="8"/>
                  </a:cubicBezTo>
                  <a:cubicBezTo>
                    <a:pt x="1" y="10"/>
                    <a:pt x="2" y="12"/>
                    <a:pt x="2" y="15"/>
                  </a:cubicBezTo>
                  <a:cubicBezTo>
                    <a:pt x="7" y="17"/>
                    <a:pt x="11" y="20"/>
                    <a:pt x="15" y="24"/>
                  </a:cubicBezTo>
                  <a:cubicBezTo>
                    <a:pt x="15" y="25"/>
                    <a:pt x="15" y="25"/>
                    <a:pt x="15" y="26"/>
                  </a:cubicBezTo>
                  <a:cubicBezTo>
                    <a:pt x="18" y="27"/>
                    <a:pt x="20" y="29"/>
                    <a:pt x="20" y="33"/>
                  </a:cubicBezTo>
                  <a:cubicBezTo>
                    <a:pt x="19" y="37"/>
                    <a:pt x="17" y="41"/>
                    <a:pt x="14" y="44"/>
                  </a:cubicBezTo>
                  <a:cubicBezTo>
                    <a:pt x="14" y="45"/>
                    <a:pt x="14" y="45"/>
                    <a:pt x="15" y="46"/>
                  </a:cubicBezTo>
                  <a:cubicBezTo>
                    <a:pt x="18" y="41"/>
                    <a:pt x="24" y="37"/>
                    <a:pt x="29" y="35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Freeform 163"/>
            <p:cNvSpPr/>
            <p:nvPr/>
          </p:nvSpPr>
          <p:spPr>
            <a:xfrm>
              <a:off x="10171080" y="5343480"/>
              <a:ext cx="88560" cy="442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0" y="4"/>
                  </a:moveTo>
                  <a:cubicBezTo>
                    <a:pt x="0" y="4"/>
                    <a:pt x="3" y="9"/>
                    <a:pt x="17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29" y="13"/>
                    <a:pt x="40" y="22"/>
                  </a:cubicBezTo>
                  <a:cubicBezTo>
                    <a:pt x="40" y="22"/>
                    <a:pt x="45" y="21"/>
                    <a:pt x="40" y="15"/>
                  </a:cubicBezTo>
                  <a:cubicBezTo>
                    <a:pt x="35" y="10"/>
                    <a:pt x="0" y="0"/>
                    <a:pt x="0" y="4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Freeform 164"/>
            <p:cNvSpPr/>
            <p:nvPr/>
          </p:nvSpPr>
          <p:spPr>
            <a:xfrm>
              <a:off x="10169640" y="5338800"/>
              <a:ext cx="179280" cy="17928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3" y="81"/>
                  </a:moveTo>
                  <a:cubicBezTo>
                    <a:pt x="30" y="81"/>
                    <a:pt x="37" y="84"/>
                    <a:pt x="44" y="83"/>
                  </a:cubicBezTo>
                  <a:cubicBezTo>
                    <a:pt x="49" y="83"/>
                    <a:pt x="53" y="82"/>
                    <a:pt x="57" y="78"/>
                  </a:cubicBezTo>
                  <a:cubicBezTo>
                    <a:pt x="59" y="74"/>
                    <a:pt x="62" y="67"/>
                    <a:pt x="66" y="68"/>
                  </a:cubicBezTo>
                  <a:cubicBezTo>
                    <a:pt x="66" y="68"/>
                    <a:pt x="66" y="68"/>
                    <a:pt x="67" y="68"/>
                  </a:cubicBezTo>
                  <a:cubicBezTo>
                    <a:pt x="67" y="67"/>
                    <a:pt x="67" y="67"/>
                    <a:pt x="67" y="66"/>
                  </a:cubicBezTo>
                  <a:cubicBezTo>
                    <a:pt x="71" y="69"/>
                    <a:pt x="75" y="73"/>
                    <a:pt x="78" y="77"/>
                  </a:cubicBezTo>
                  <a:cubicBezTo>
                    <a:pt x="80" y="81"/>
                    <a:pt x="84" y="91"/>
                    <a:pt x="91" y="89"/>
                  </a:cubicBezTo>
                  <a:cubicBezTo>
                    <a:pt x="90" y="88"/>
                    <a:pt x="90" y="88"/>
                    <a:pt x="90" y="87"/>
                  </a:cubicBezTo>
                  <a:cubicBezTo>
                    <a:pt x="90" y="87"/>
                    <a:pt x="90" y="87"/>
                    <a:pt x="89" y="86"/>
                  </a:cubicBezTo>
                  <a:cubicBezTo>
                    <a:pt x="84" y="80"/>
                    <a:pt x="75" y="74"/>
                    <a:pt x="72" y="66"/>
                  </a:cubicBezTo>
                  <a:cubicBezTo>
                    <a:pt x="69" y="57"/>
                    <a:pt x="70" y="49"/>
                    <a:pt x="71" y="41"/>
                  </a:cubicBezTo>
                  <a:cubicBezTo>
                    <a:pt x="64" y="35"/>
                    <a:pt x="61" y="26"/>
                    <a:pt x="56" y="18"/>
                  </a:cubicBezTo>
                  <a:cubicBezTo>
                    <a:pt x="56" y="18"/>
                    <a:pt x="55" y="18"/>
                    <a:pt x="55" y="17"/>
                  </a:cubicBezTo>
                  <a:cubicBezTo>
                    <a:pt x="55" y="18"/>
                    <a:pt x="54" y="19"/>
                    <a:pt x="53" y="20"/>
                  </a:cubicBezTo>
                  <a:cubicBezTo>
                    <a:pt x="51" y="25"/>
                    <a:pt x="43" y="22"/>
                    <a:pt x="45" y="17"/>
                  </a:cubicBezTo>
                  <a:cubicBezTo>
                    <a:pt x="46" y="16"/>
                    <a:pt x="47" y="15"/>
                    <a:pt x="47" y="14"/>
                  </a:cubicBezTo>
                  <a:cubicBezTo>
                    <a:pt x="46" y="15"/>
                    <a:pt x="44" y="15"/>
                    <a:pt x="42" y="16"/>
                  </a:cubicBezTo>
                  <a:cubicBezTo>
                    <a:pt x="41" y="16"/>
                    <a:pt x="38" y="15"/>
                    <a:pt x="38" y="13"/>
                  </a:cubicBezTo>
                  <a:cubicBezTo>
                    <a:pt x="36" y="8"/>
                    <a:pt x="33" y="4"/>
                    <a:pt x="29" y="0"/>
                  </a:cubicBezTo>
                  <a:cubicBezTo>
                    <a:pt x="29" y="1"/>
                    <a:pt x="30" y="1"/>
                    <a:pt x="30" y="1"/>
                  </a:cubicBezTo>
                  <a:cubicBezTo>
                    <a:pt x="31" y="6"/>
                    <a:pt x="26" y="8"/>
                    <a:pt x="23" y="7"/>
                  </a:cubicBezTo>
                  <a:cubicBezTo>
                    <a:pt x="20" y="7"/>
                    <a:pt x="17" y="5"/>
                    <a:pt x="14" y="4"/>
                  </a:cubicBezTo>
                  <a:cubicBezTo>
                    <a:pt x="10" y="2"/>
                    <a:pt x="6" y="2"/>
                    <a:pt x="2" y="1"/>
                  </a:cubicBezTo>
                  <a:cubicBezTo>
                    <a:pt x="1" y="3"/>
                    <a:pt x="0" y="5"/>
                    <a:pt x="1" y="6"/>
                  </a:cubicBezTo>
                  <a:cubicBezTo>
                    <a:pt x="1" y="6"/>
                    <a:pt x="1" y="7"/>
                    <a:pt x="1" y="7"/>
                  </a:cubicBezTo>
                  <a:cubicBezTo>
                    <a:pt x="1" y="7"/>
                    <a:pt x="2" y="7"/>
                    <a:pt x="2" y="7"/>
                  </a:cubicBezTo>
                  <a:cubicBezTo>
                    <a:pt x="3" y="7"/>
                    <a:pt x="20" y="9"/>
                    <a:pt x="20" y="10"/>
                  </a:cubicBezTo>
                  <a:cubicBezTo>
                    <a:pt x="19" y="14"/>
                    <a:pt x="15" y="15"/>
                    <a:pt x="13" y="16"/>
                  </a:cubicBezTo>
                  <a:cubicBezTo>
                    <a:pt x="10" y="18"/>
                    <a:pt x="5" y="22"/>
                    <a:pt x="2" y="23"/>
                  </a:cubicBezTo>
                  <a:cubicBezTo>
                    <a:pt x="2" y="24"/>
                    <a:pt x="2" y="26"/>
                    <a:pt x="2" y="27"/>
                  </a:cubicBezTo>
                  <a:cubicBezTo>
                    <a:pt x="3" y="27"/>
                    <a:pt x="7" y="25"/>
                    <a:pt x="8" y="24"/>
                  </a:cubicBezTo>
                  <a:cubicBezTo>
                    <a:pt x="10" y="24"/>
                    <a:pt x="12" y="22"/>
                    <a:pt x="15" y="22"/>
                  </a:cubicBezTo>
                  <a:cubicBezTo>
                    <a:pt x="15" y="22"/>
                    <a:pt x="23" y="22"/>
                    <a:pt x="27" y="23"/>
                  </a:cubicBezTo>
                  <a:cubicBezTo>
                    <a:pt x="30" y="24"/>
                    <a:pt x="35" y="26"/>
                    <a:pt x="36" y="29"/>
                  </a:cubicBezTo>
                  <a:cubicBezTo>
                    <a:pt x="38" y="32"/>
                    <a:pt x="35" y="33"/>
                    <a:pt x="32" y="34"/>
                  </a:cubicBezTo>
                  <a:cubicBezTo>
                    <a:pt x="30" y="35"/>
                    <a:pt x="28" y="36"/>
                    <a:pt x="26" y="37"/>
                  </a:cubicBezTo>
                  <a:cubicBezTo>
                    <a:pt x="24" y="37"/>
                    <a:pt x="22" y="37"/>
                    <a:pt x="20" y="37"/>
                  </a:cubicBezTo>
                  <a:cubicBezTo>
                    <a:pt x="14" y="38"/>
                    <a:pt x="9" y="40"/>
                    <a:pt x="4" y="42"/>
                  </a:cubicBezTo>
                  <a:cubicBezTo>
                    <a:pt x="4" y="43"/>
                    <a:pt x="3" y="44"/>
                    <a:pt x="3" y="46"/>
                  </a:cubicBezTo>
                  <a:cubicBezTo>
                    <a:pt x="3" y="46"/>
                    <a:pt x="3" y="46"/>
                    <a:pt x="4" y="46"/>
                  </a:cubicBezTo>
                  <a:cubicBezTo>
                    <a:pt x="14" y="44"/>
                    <a:pt x="28" y="38"/>
                    <a:pt x="38" y="43"/>
                  </a:cubicBezTo>
                  <a:cubicBezTo>
                    <a:pt x="42" y="45"/>
                    <a:pt x="43" y="49"/>
                    <a:pt x="44" y="53"/>
                  </a:cubicBezTo>
                  <a:cubicBezTo>
                    <a:pt x="46" y="61"/>
                    <a:pt x="46" y="75"/>
                    <a:pt x="39" y="78"/>
                  </a:cubicBezTo>
                  <a:cubicBezTo>
                    <a:pt x="33" y="81"/>
                    <a:pt x="26" y="79"/>
                    <a:pt x="20" y="79"/>
                  </a:cubicBezTo>
                  <a:cubicBezTo>
                    <a:pt x="14" y="78"/>
                    <a:pt x="8" y="76"/>
                    <a:pt x="2" y="74"/>
                  </a:cubicBezTo>
                  <a:cubicBezTo>
                    <a:pt x="3" y="75"/>
                    <a:pt x="4" y="75"/>
                    <a:pt x="6" y="76"/>
                  </a:cubicBezTo>
                  <a:cubicBezTo>
                    <a:pt x="10" y="79"/>
                    <a:pt x="16" y="82"/>
                    <a:pt x="21" y="83"/>
                  </a:cubicBezTo>
                  <a:cubicBezTo>
                    <a:pt x="22" y="82"/>
                    <a:pt x="22" y="81"/>
                    <a:pt x="23" y="81"/>
                  </a:cubicBezTo>
                  <a:close/>
                  <a:moveTo>
                    <a:pt x="45" y="72"/>
                  </a:moveTo>
                  <a:cubicBezTo>
                    <a:pt x="45" y="60"/>
                    <a:pt x="48" y="48"/>
                    <a:pt x="49" y="36"/>
                  </a:cubicBezTo>
                  <a:cubicBezTo>
                    <a:pt x="49" y="35"/>
                    <a:pt x="49" y="35"/>
                    <a:pt x="48" y="34"/>
                  </a:cubicBezTo>
                  <a:cubicBezTo>
                    <a:pt x="48" y="33"/>
                    <a:pt x="48" y="32"/>
                    <a:pt x="49" y="31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9" y="26"/>
                    <a:pt x="57" y="24"/>
                    <a:pt x="57" y="29"/>
                  </a:cubicBezTo>
                  <a:cubicBezTo>
                    <a:pt x="58" y="29"/>
                    <a:pt x="58" y="29"/>
                    <a:pt x="58" y="30"/>
                  </a:cubicBezTo>
                  <a:cubicBezTo>
                    <a:pt x="62" y="35"/>
                    <a:pt x="65" y="41"/>
                    <a:pt x="68" y="47"/>
                  </a:cubicBezTo>
                  <a:cubicBezTo>
                    <a:pt x="69" y="49"/>
                    <a:pt x="68" y="50"/>
                    <a:pt x="67" y="51"/>
                  </a:cubicBezTo>
                  <a:cubicBezTo>
                    <a:pt x="67" y="52"/>
                    <a:pt x="67" y="52"/>
                    <a:pt x="67" y="53"/>
                  </a:cubicBezTo>
                  <a:cubicBezTo>
                    <a:pt x="65" y="57"/>
                    <a:pt x="61" y="61"/>
                    <a:pt x="59" y="66"/>
                  </a:cubicBezTo>
                  <a:cubicBezTo>
                    <a:pt x="57" y="69"/>
                    <a:pt x="55" y="72"/>
                    <a:pt x="53" y="76"/>
                  </a:cubicBezTo>
                  <a:cubicBezTo>
                    <a:pt x="51" y="80"/>
                    <a:pt x="45" y="76"/>
                    <a:pt x="45" y="72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165"/>
            <p:cNvSpPr/>
            <p:nvPr/>
          </p:nvSpPr>
          <p:spPr>
            <a:xfrm>
              <a:off x="10301400" y="5243400"/>
              <a:ext cx="34920" cy="52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"/>
                  </a:moveTo>
                  <a:cubicBezTo>
                    <a:pt x="0" y="0"/>
                    <a:pt x="1" y="5"/>
                    <a:pt x="1" y="7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2" y="15"/>
                    <a:pt x="3" y="18"/>
                    <a:pt x="4" y="20"/>
                  </a:cubicBezTo>
                  <a:cubicBezTo>
                    <a:pt x="4" y="22"/>
                    <a:pt x="5" y="24"/>
                    <a:pt x="7" y="26"/>
                  </a:cubicBezTo>
                  <a:cubicBezTo>
                    <a:pt x="9" y="27"/>
                    <a:pt x="12" y="25"/>
                    <a:pt x="11" y="24"/>
                  </a:cubicBezTo>
                  <a:cubicBezTo>
                    <a:pt x="14" y="22"/>
                    <a:pt x="15" y="20"/>
                    <a:pt x="17" y="17"/>
                  </a:cubicBezTo>
                  <a:cubicBezTo>
                    <a:pt x="17" y="17"/>
                    <a:pt x="4" y="19"/>
                    <a:pt x="0" y="2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Freeform 166"/>
            <p:cNvSpPr/>
            <p:nvPr/>
          </p:nvSpPr>
          <p:spPr>
            <a:xfrm>
              <a:off x="10301400" y="5243400"/>
              <a:ext cx="23760" cy="489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12" y="16"/>
                  </a:moveTo>
                  <a:cubicBezTo>
                    <a:pt x="8" y="15"/>
                    <a:pt x="2" y="12"/>
                    <a:pt x="0" y="2"/>
                  </a:cubicBezTo>
                  <a:cubicBezTo>
                    <a:pt x="0" y="0"/>
                    <a:pt x="1" y="5"/>
                    <a:pt x="1" y="7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2" y="15"/>
                    <a:pt x="3" y="18"/>
                    <a:pt x="4" y="20"/>
                  </a:cubicBezTo>
                  <a:cubicBezTo>
                    <a:pt x="4" y="22"/>
                    <a:pt x="5" y="24"/>
                    <a:pt x="7" y="25"/>
                  </a:cubicBezTo>
                  <a:cubicBezTo>
                    <a:pt x="9" y="23"/>
                    <a:pt x="11" y="20"/>
                    <a:pt x="12" y="16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Freeform 167"/>
            <p:cNvSpPr/>
            <p:nvPr/>
          </p:nvSpPr>
          <p:spPr>
            <a:xfrm>
              <a:off x="9831240" y="5397480"/>
              <a:ext cx="625320" cy="527040"/>
            </a:xfrm>
            <a:custGeom>
              <a:avLst/>
              <a:gdLst/>
              <a:ahLst/>
              <a:rect l="l" t="t" r="r" b="b"/>
              <a:pathLst>
                <a:path w="394" h="332">
                  <a:moveTo>
                    <a:pt x="0" y="332"/>
                  </a:moveTo>
                  <a:lnTo>
                    <a:pt x="293" y="332"/>
                  </a:lnTo>
                  <a:lnTo>
                    <a:pt x="394" y="29"/>
                  </a:lnTo>
                  <a:lnTo>
                    <a:pt x="71" y="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ce8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Freeform 168"/>
            <p:cNvSpPr/>
            <p:nvPr/>
          </p:nvSpPr>
          <p:spPr>
            <a:xfrm>
              <a:off x="9831240" y="5397480"/>
              <a:ext cx="504720" cy="527040"/>
            </a:xfrm>
            <a:custGeom>
              <a:avLst/>
              <a:gdLst/>
              <a:ahLst/>
              <a:rect l="l" t="t" r="r" b="b"/>
              <a:pathLst>
                <a:path w="255" h="266">
                  <a:moveTo>
                    <a:pt x="247" y="205"/>
                  </a:moveTo>
                  <a:cubicBezTo>
                    <a:pt x="174" y="205"/>
                    <a:pt x="114" y="144"/>
                    <a:pt x="114" y="71"/>
                  </a:cubicBezTo>
                  <a:cubicBezTo>
                    <a:pt x="114" y="48"/>
                    <a:pt x="120" y="26"/>
                    <a:pt x="131" y="6"/>
                  </a:cubicBezTo>
                  <a:cubicBezTo>
                    <a:pt x="57" y="0"/>
                    <a:pt x="57" y="0"/>
                    <a:pt x="57" y="0"/>
                  </a:cubicBezTo>
                  <a:cubicBezTo>
                    <a:pt x="0" y="266"/>
                    <a:pt x="0" y="266"/>
                    <a:pt x="0" y="266"/>
                  </a:cubicBezTo>
                  <a:cubicBezTo>
                    <a:pt x="235" y="266"/>
                    <a:pt x="235" y="266"/>
                    <a:pt x="235" y="266"/>
                  </a:cubicBezTo>
                  <a:cubicBezTo>
                    <a:pt x="255" y="204"/>
                    <a:pt x="255" y="204"/>
                    <a:pt x="255" y="204"/>
                  </a:cubicBezTo>
                  <a:cubicBezTo>
                    <a:pt x="253" y="205"/>
                    <a:pt x="250" y="205"/>
                    <a:pt x="247" y="205"/>
                  </a:cubicBezTo>
                  <a:close/>
                </a:path>
              </a:pathLst>
            </a:custGeom>
            <a:solidFill>
              <a:srgbClr val="c18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Freeform 169"/>
            <p:cNvSpPr/>
            <p:nvPr/>
          </p:nvSpPr>
          <p:spPr>
            <a:xfrm>
              <a:off x="10355400" y="5557680"/>
              <a:ext cx="398160" cy="36828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75" y="61"/>
                  </a:moveTo>
                  <a:cubicBezTo>
                    <a:pt x="75" y="49"/>
                    <a:pt x="78" y="24"/>
                    <a:pt x="79" y="12"/>
                  </a:cubicBezTo>
                  <a:cubicBezTo>
                    <a:pt x="80" y="2"/>
                    <a:pt x="83" y="3"/>
                    <a:pt x="92" y="2"/>
                  </a:cubicBezTo>
                  <a:cubicBezTo>
                    <a:pt x="104" y="1"/>
                    <a:pt x="117" y="0"/>
                    <a:pt x="129" y="0"/>
                  </a:cubicBezTo>
                  <a:cubicBezTo>
                    <a:pt x="129" y="16"/>
                    <a:pt x="123" y="29"/>
                    <a:pt x="121" y="43"/>
                  </a:cubicBezTo>
                  <a:cubicBezTo>
                    <a:pt x="124" y="45"/>
                    <a:pt x="127" y="45"/>
                    <a:pt x="130" y="45"/>
                  </a:cubicBezTo>
                  <a:cubicBezTo>
                    <a:pt x="137" y="46"/>
                    <a:pt x="142" y="47"/>
                    <a:pt x="149" y="49"/>
                  </a:cubicBezTo>
                  <a:cubicBezTo>
                    <a:pt x="153" y="50"/>
                    <a:pt x="171" y="51"/>
                    <a:pt x="173" y="54"/>
                  </a:cubicBezTo>
                  <a:cubicBezTo>
                    <a:pt x="178" y="63"/>
                    <a:pt x="165" y="70"/>
                    <a:pt x="160" y="74"/>
                  </a:cubicBezTo>
                  <a:cubicBezTo>
                    <a:pt x="155" y="78"/>
                    <a:pt x="151" y="84"/>
                    <a:pt x="148" y="90"/>
                  </a:cubicBezTo>
                  <a:cubicBezTo>
                    <a:pt x="166" y="91"/>
                    <a:pt x="188" y="98"/>
                    <a:pt x="188" y="98"/>
                  </a:cubicBezTo>
                  <a:cubicBezTo>
                    <a:pt x="188" y="98"/>
                    <a:pt x="199" y="111"/>
                    <a:pt x="200" y="122"/>
                  </a:cubicBezTo>
                  <a:cubicBezTo>
                    <a:pt x="200" y="129"/>
                    <a:pt x="201" y="137"/>
                    <a:pt x="201" y="137"/>
                  </a:cubicBezTo>
                  <a:cubicBezTo>
                    <a:pt x="201" y="137"/>
                    <a:pt x="182" y="141"/>
                    <a:pt x="177" y="141"/>
                  </a:cubicBezTo>
                  <a:cubicBezTo>
                    <a:pt x="177" y="150"/>
                    <a:pt x="174" y="159"/>
                    <a:pt x="171" y="167"/>
                  </a:cubicBezTo>
                  <a:cubicBezTo>
                    <a:pt x="168" y="173"/>
                    <a:pt x="168" y="173"/>
                    <a:pt x="163" y="174"/>
                  </a:cubicBezTo>
                  <a:cubicBezTo>
                    <a:pt x="155" y="176"/>
                    <a:pt x="144" y="174"/>
                    <a:pt x="135" y="175"/>
                  </a:cubicBezTo>
                  <a:cubicBezTo>
                    <a:pt x="127" y="175"/>
                    <a:pt x="121" y="175"/>
                    <a:pt x="113" y="177"/>
                  </a:cubicBezTo>
                  <a:cubicBezTo>
                    <a:pt x="106" y="180"/>
                    <a:pt x="106" y="181"/>
                    <a:pt x="99" y="175"/>
                  </a:cubicBezTo>
                  <a:cubicBezTo>
                    <a:pt x="95" y="171"/>
                    <a:pt x="90" y="166"/>
                    <a:pt x="88" y="161"/>
                  </a:cubicBezTo>
                  <a:cubicBezTo>
                    <a:pt x="88" y="167"/>
                    <a:pt x="87" y="183"/>
                    <a:pt x="80" y="185"/>
                  </a:cubicBezTo>
                  <a:cubicBezTo>
                    <a:pt x="75" y="186"/>
                    <a:pt x="61" y="176"/>
                    <a:pt x="55" y="175"/>
                  </a:cubicBezTo>
                  <a:cubicBezTo>
                    <a:pt x="48" y="173"/>
                    <a:pt x="42" y="171"/>
                    <a:pt x="35" y="171"/>
                  </a:cubicBezTo>
                  <a:cubicBezTo>
                    <a:pt x="34" y="166"/>
                    <a:pt x="43" y="159"/>
                    <a:pt x="45" y="155"/>
                  </a:cubicBezTo>
                  <a:cubicBezTo>
                    <a:pt x="43" y="149"/>
                    <a:pt x="38" y="145"/>
                    <a:pt x="33" y="141"/>
                  </a:cubicBezTo>
                  <a:cubicBezTo>
                    <a:pt x="28" y="136"/>
                    <a:pt x="24" y="134"/>
                    <a:pt x="17" y="133"/>
                  </a:cubicBezTo>
                  <a:cubicBezTo>
                    <a:pt x="12" y="132"/>
                    <a:pt x="2" y="129"/>
                    <a:pt x="1" y="123"/>
                  </a:cubicBezTo>
                  <a:cubicBezTo>
                    <a:pt x="0" y="121"/>
                    <a:pt x="0" y="118"/>
                    <a:pt x="0" y="115"/>
                  </a:cubicBezTo>
                  <a:cubicBezTo>
                    <a:pt x="0" y="113"/>
                    <a:pt x="0" y="108"/>
                    <a:pt x="2" y="107"/>
                  </a:cubicBezTo>
                  <a:cubicBezTo>
                    <a:pt x="3" y="106"/>
                    <a:pt x="4" y="106"/>
                    <a:pt x="5" y="105"/>
                  </a:cubicBezTo>
                  <a:cubicBezTo>
                    <a:pt x="6" y="105"/>
                    <a:pt x="8" y="104"/>
                    <a:pt x="9" y="103"/>
                  </a:cubicBezTo>
                  <a:cubicBezTo>
                    <a:pt x="11" y="101"/>
                    <a:pt x="13" y="99"/>
                    <a:pt x="15" y="97"/>
                  </a:cubicBezTo>
                  <a:cubicBezTo>
                    <a:pt x="17" y="96"/>
                    <a:pt x="18" y="94"/>
                    <a:pt x="19" y="92"/>
                  </a:cubicBezTo>
                  <a:cubicBezTo>
                    <a:pt x="19" y="89"/>
                    <a:pt x="20" y="86"/>
                    <a:pt x="20" y="84"/>
                  </a:cubicBezTo>
                  <a:cubicBezTo>
                    <a:pt x="17" y="83"/>
                    <a:pt x="18" y="73"/>
                    <a:pt x="21" y="72"/>
                  </a:cubicBezTo>
                  <a:cubicBezTo>
                    <a:pt x="23" y="71"/>
                    <a:pt x="25" y="73"/>
                    <a:pt x="26" y="73"/>
                  </a:cubicBezTo>
                  <a:cubicBezTo>
                    <a:pt x="37" y="75"/>
                    <a:pt x="45" y="70"/>
                    <a:pt x="55" y="69"/>
                  </a:cubicBezTo>
                  <a:cubicBezTo>
                    <a:pt x="78" y="63"/>
                    <a:pt x="78" y="63"/>
                    <a:pt x="78" y="63"/>
                  </a:cubicBezTo>
                  <a:lnTo>
                    <a:pt x="75" y="61"/>
                  </a:lnTo>
                  <a:close/>
                </a:path>
              </a:pathLst>
            </a:custGeom>
            <a:solidFill>
              <a:srgbClr val="e2de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Freeform 170"/>
            <p:cNvSpPr/>
            <p:nvPr/>
          </p:nvSpPr>
          <p:spPr>
            <a:xfrm>
              <a:off x="10375920" y="5692680"/>
              <a:ext cx="106200" cy="16956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47" y="59"/>
                  </a:moveTo>
                  <a:cubicBezTo>
                    <a:pt x="44" y="58"/>
                    <a:pt x="34" y="60"/>
                    <a:pt x="32" y="55"/>
                  </a:cubicBezTo>
                  <a:cubicBezTo>
                    <a:pt x="32" y="54"/>
                    <a:pt x="49" y="42"/>
                    <a:pt x="49" y="40"/>
                  </a:cubicBezTo>
                  <a:cubicBezTo>
                    <a:pt x="53" y="30"/>
                    <a:pt x="53" y="16"/>
                    <a:pt x="54" y="5"/>
                  </a:cubicBezTo>
                  <a:cubicBezTo>
                    <a:pt x="54" y="0"/>
                    <a:pt x="48" y="1"/>
                    <a:pt x="42" y="1"/>
                  </a:cubicBezTo>
                  <a:cubicBezTo>
                    <a:pt x="40" y="2"/>
                    <a:pt x="38" y="2"/>
                    <a:pt x="37" y="3"/>
                  </a:cubicBezTo>
                  <a:cubicBezTo>
                    <a:pt x="37" y="3"/>
                    <a:pt x="31" y="22"/>
                    <a:pt x="31" y="24"/>
                  </a:cubicBezTo>
                  <a:cubicBezTo>
                    <a:pt x="28" y="29"/>
                    <a:pt x="27" y="34"/>
                    <a:pt x="24" y="39"/>
                  </a:cubicBezTo>
                  <a:cubicBezTo>
                    <a:pt x="23" y="44"/>
                    <a:pt x="20" y="47"/>
                    <a:pt x="17" y="51"/>
                  </a:cubicBezTo>
                  <a:cubicBezTo>
                    <a:pt x="12" y="57"/>
                    <a:pt x="6" y="59"/>
                    <a:pt x="0" y="63"/>
                  </a:cubicBezTo>
                  <a:cubicBezTo>
                    <a:pt x="2" y="64"/>
                    <a:pt x="5" y="64"/>
                    <a:pt x="7" y="65"/>
                  </a:cubicBezTo>
                  <a:cubicBezTo>
                    <a:pt x="14" y="66"/>
                    <a:pt x="18" y="68"/>
                    <a:pt x="23" y="73"/>
                  </a:cubicBezTo>
                  <a:cubicBezTo>
                    <a:pt x="27" y="77"/>
                    <a:pt x="32" y="80"/>
                    <a:pt x="35" y="86"/>
                  </a:cubicBezTo>
                  <a:cubicBezTo>
                    <a:pt x="36" y="82"/>
                    <a:pt x="39" y="79"/>
                    <a:pt x="41" y="75"/>
                  </a:cubicBezTo>
                  <a:cubicBezTo>
                    <a:pt x="43" y="72"/>
                    <a:pt x="54" y="61"/>
                    <a:pt x="47" y="59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Freeform 171"/>
            <p:cNvSpPr/>
            <p:nvPr/>
          </p:nvSpPr>
          <p:spPr>
            <a:xfrm>
              <a:off x="10504440" y="5557680"/>
              <a:ext cx="122040" cy="177480"/>
            </a:xfrm>
            <a:custGeom>
              <a:avLst/>
              <a:gdLst/>
              <a:ahLst/>
              <a:rect l="l" t="t" r="r" b="b"/>
              <a:pathLst>
                <a:path w="62" h="90">
                  <a:moveTo>
                    <a:pt x="33" y="58"/>
                  </a:moveTo>
                  <a:cubicBezTo>
                    <a:pt x="20" y="63"/>
                    <a:pt x="14" y="77"/>
                    <a:pt x="7" y="89"/>
                  </a:cubicBezTo>
                  <a:cubicBezTo>
                    <a:pt x="7" y="89"/>
                    <a:pt x="7" y="90"/>
                    <a:pt x="7" y="90"/>
                  </a:cubicBezTo>
                  <a:cubicBezTo>
                    <a:pt x="12" y="88"/>
                    <a:pt x="17" y="86"/>
                    <a:pt x="22" y="83"/>
                  </a:cubicBezTo>
                  <a:cubicBezTo>
                    <a:pt x="25" y="77"/>
                    <a:pt x="28" y="71"/>
                    <a:pt x="32" y="66"/>
                  </a:cubicBezTo>
                  <a:cubicBezTo>
                    <a:pt x="33" y="65"/>
                    <a:pt x="34" y="65"/>
                    <a:pt x="34" y="65"/>
                  </a:cubicBezTo>
                  <a:cubicBezTo>
                    <a:pt x="36" y="61"/>
                    <a:pt x="38" y="58"/>
                    <a:pt x="42" y="58"/>
                  </a:cubicBezTo>
                  <a:cubicBezTo>
                    <a:pt x="48" y="58"/>
                    <a:pt x="53" y="61"/>
                    <a:pt x="59" y="64"/>
                  </a:cubicBezTo>
                  <a:cubicBezTo>
                    <a:pt x="60" y="63"/>
                    <a:pt x="61" y="62"/>
                    <a:pt x="62" y="62"/>
                  </a:cubicBezTo>
                  <a:cubicBezTo>
                    <a:pt x="60" y="57"/>
                    <a:pt x="56" y="53"/>
                    <a:pt x="52" y="49"/>
                  </a:cubicBezTo>
                  <a:cubicBezTo>
                    <a:pt x="51" y="48"/>
                    <a:pt x="51" y="46"/>
                    <a:pt x="51" y="45"/>
                  </a:cubicBezTo>
                  <a:cubicBezTo>
                    <a:pt x="49" y="44"/>
                    <a:pt x="48" y="44"/>
                    <a:pt x="46" y="43"/>
                  </a:cubicBezTo>
                  <a:cubicBezTo>
                    <a:pt x="48" y="29"/>
                    <a:pt x="54" y="16"/>
                    <a:pt x="54" y="0"/>
                  </a:cubicBezTo>
                  <a:cubicBezTo>
                    <a:pt x="45" y="0"/>
                    <a:pt x="37" y="1"/>
                    <a:pt x="28" y="1"/>
                  </a:cubicBezTo>
                  <a:cubicBezTo>
                    <a:pt x="28" y="3"/>
                    <a:pt x="28" y="6"/>
                    <a:pt x="26" y="9"/>
                  </a:cubicBezTo>
                  <a:cubicBezTo>
                    <a:pt x="20" y="19"/>
                    <a:pt x="24" y="32"/>
                    <a:pt x="17" y="42"/>
                  </a:cubicBezTo>
                  <a:cubicBezTo>
                    <a:pt x="13" y="50"/>
                    <a:pt x="7" y="56"/>
                    <a:pt x="0" y="6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" y="61"/>
                    <a:pt x="2" y="62"/>
                    <a:pt x="3" y="63"/>
                  </a:cubicBezTo>
                  <a:cubicBezTo>
                    <a:pt x="8" y="62"/>
                    <a:pt x="12" y="57"/>
                    <a:pt x="17" y="55"/>
                  </a:cubicBezTo>
                  <a:cubicBezTo>
                    <a:pt x="21" y="52"/>
                    <a:pt x="28" y="53"/>
                    <a:pt x="33" y="52"/>
                  </a:cubicBezTo>
                  <a:cubicBezTo>
                    <a:pt x="36" y="52"/>
                    <a:pt x="37" y="57"/>
                    <a:pt x="33" y="58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Freeform 172"/>
            <p:cNvSpPr/>
            <p:nvPr/>
          </p:nvSpPr>
          <p:spPr>
            <a:xfrm>
              <a:off x="10452240" y="5668920"/>
              <a:ext cx="263520" cy="257040"/>
            </a:xfrm>
            <a:custGeom>
              <a:avLst/>
              <a:gdLst/>
              <a:ahLst/>
              <a:rect l="l" t="t" r="r" b="b"/>
              <a:pathLst>
                <a:path w="133" h="130">
                  <a:moveTo>
                    <a:pt x="133" y="85"/>
                  </a:moveTo>
                  <a:cubicBezTo>
                    <a:pt x="132" y="76"/>
                    <a:pt x="132" y="66"/>
                    <a:pt x="130" y="56"/>
                  </a:cubicBezTo>
                  <a:cubicBezTo>
                    <a:pt x="129" y="47"/>
                    <a:pt x="117" y="42"/>
                    <a:pt x="109" y="40"/>
                  </a:cubicBezTo>
                  <a:cubicBezTo>
                    <a:pt x="106" y="39"/>
                    <a:pt x="105" y="36"/>
                    <a:pt x="105" y="34"/>
                  </a:cubicBezTo>
                  <a:cubicBezTo>
                    <a:pt x="103" y="34"/>
                    <a:pt x="101" y="34"/>
                    <a:pt x="99" y="34"/>
                  </a:cubicBezTo>
                  <a:cubicBezTo>
                    <a:pt x="102" y="28"/>
                    <a:pt x="106" y="22"/>
                    <a:pt x="111" y="18"/>
                  </a:cubicBezTo>
                  <a:cubicBezTo>
                    <a:pt x="116" y="14"/>
                    <a:pt x="128" y="8"/>
                    <a:pt x="124" y="0"/>
                  </a:cubicBezTo>
                  <a:cubicBezTo>
                    <a:pt x="101" y="10"/>
                    <a:pt x="80" y="23"/>
                    <a:pt x="58" y="35"/>
                  </a:cubicBezTo>
                  <a:cubicBezTo>
                    <a:pt x="58" y="36"/>
                    <a:pt x="57" y="37"/>
                    <a:pt x="56" y="38"/>
                  </a:cubicBezTo>
                  <a:cubicBezTo>
                    <a:pt x="52" y="42"/>
                    <a:pt x="47" y="45"/>
                    <a:pt x="43" y="50"/>
                  </a:cubicBezTo>
                  <a:cubicBezTo>
                    <a:pt x="41" y="52"/>
                    <a:pt x="40" y="54"/>
                    <a:pt x="38" y="56"/>
                  </a:cubicBezTo>
                  <a:cubicBezTo>
                    <a:pt x="39" y="57"/>
                    <a:pt x="41" y="58"/>
                    <a:pt x="42" y="58"/>
                  </a:cubicBezTo>
                  <a:cubicBezTo>
                    <a:pt x="49" y="61"/>
                    <a:pt x="46" y="72"/>
                    <a:pt x="39" y="69"/>
                  </a:cubicBezTo>
                  <a:cubicBezTo>
                    <a:pt x="38" y="68"/>
                    <a:pt x="37" y="68"/>
                    <a:pt x="35" y="67"/>
                  </a:cubicBezTo>
                  <a:cubicBezTo>
                    <a:pt x="36" y="69"/>
                    <a:pt x="37" y="71"/>
                    <a:pt x="38" y="73"/>
                  </a:cubicBezTo>
                  <a:cubicBezTo>
                    <a:pt x="39" y="75"/>
                    <a:pt x="38" y="78"/>
                    <a:pt x="35" y="79"/>
                  </a:cubicBezTo>
                  <a:cubicBezTo>
                    <a:pt x="19" y="87"/>
                    <a:pt x="13" y="106"/>
                    <a:pt x="0" y="117"/>
                  </a:cubicBezTo>
                  <a:cubicBezTo>
                    <a:pt x="2" y="118"/>
                    <a:pt x="4" y="118"/>
                    <a:pt x="6" y="119"/>
                  </a:cubicBezTo>
                  <a:cubicBezTo>
                    <a:pt x="12" y="120"/>
                    <a:pt x="26" y="130"/>
                    <a:pt x="31" y="129"/>
                  </a:cubicBezTo>
                  <a:cubicBezTo>
                    <a:pt x="39" y="127"/>
                    <a:pt x="39" y="111"/>
                    <a:pt x="39" y="105"/>
                  </a:cubicBezTo>
                  <a:cubicBezTo>
                    <a:pt x="40" y="108"/>
                    <a:pt x="44" y="110"/>
                    <a:pt x="47" y="112"/>
                  </a:cubicBezTo>
                  <a:cubicBezTo>
                    <a:pt x="49" y="114"/>
                    <a:pt x="52" y="120"/>
                    <a:pt x="55" y="120"/>
                  </a:cubicBezTo>
                  <a:cubicBezTo>
                    <a:pt x="60" y="120"/>
                    <a:pt x="55" y="110"/>
                    <a:pt x="55" y="108"/>
                  </a:cubicBezTo>
                  <a:cubicBezTo>
                    <a:pt x="54" y="104"/>
                    <a:pt x="54" y="97"/>
                    <a:pt x="56" y="93"/>
                  </a:cubicBezTo>
                  <a:cubicBezTo>
                    <a:pt x="58" y="88"/>
                    <a:pt x="65" y="92"/>
                    <a:pt x="67" y="95"/>
                  </a:cubicBezTo>
                  <a:cubicBezTo>
                    <a:pt x="69" y="99"/>
                    <a:pt x="72" y="103"/>
                    <a:pt x="73" y="107"/>
                  </a:cubicBezTo>
                  <a:cubicBezTo>
                    <a:pt x="73" y="108"/>
                    <a:pt x="76" y="119"/>
                    <a:pt x="78" y="119"/>
                  </a:cubicBezTo>
                  <a:cubicBezTo>
                    <a:pt x="80" y="119"/>
                    <a:pt x="82" y="119"/>
                    <a:pt x="85" y="119"/>
                  </a:cubicBezTo>
                  <a:cubicBezTo>
                    <a:pt x="84" y="110"/>
                    <a:pt x="81" y="101"/>
                    <a:pt x="79" y="92"/>
                  </a:cubicBezTo>
                  <a:cubicBezTo>
                    <a:pt x="78" y="87"/>
                    <a:pt x="77" y="82"/>
                    <a:pt x="79" y="77"/>
                  </a:cubicBezTo>
                  <a:cubicBezTo>
                    <a:pt x="82" y="67"/>
                    <a:pt x="92" y="64"/>
                    <a:pt x="102" y="64"/>
                  </a:cubicBezTo>
                  <a:cubicBezTo>
                    <a:pt x="129" y="63"/>
                    <a:pt x="120" y="97"/>
                    <a:pt x="114" y="118"/>
                  </a:cubicBezTo>
                  <a:cubicBezTo>
                    <a:pt x="119" y="117"/>
                    <a:pt x="119" y="117"/>
                    <a:pt x="122" y="111"/>
                  </a:cubicBezTo>
                  <a:cubicBezTo>
                    <a:pt x="125" y="103"/>
                    <a:pt x="128" y="94"/>
                    <a:pt x="128" y="85"/>
                  </a:cubicBezTo>
                  <a:cubicBezTo>
                    <a:pt x="129" y="85"/>
                    <a:pt x="131" y="85"/>
                    <a:pt x="133" y="85"/>
                  </a:cubicBezTo>
                  <a:close/>
                  <a:moveTo>
                    <a:pt x="111" y="60"/>
                  </a:moveTo>
                  <a:cubicBezTo>
                    <a:pt x="95" y="62"/>
                    <a:pt x="79" y="60"/>
                    <a:pt x="63" y="61"/>
                  </a:cubicBezTo>
                  <a:cubicBezTo>
                    <a:pt x="62" y="62"/>
                    <a:pt x="62" y="62"/>
                    <a:pt x="61" y="62"/>
                  </a:cubicBezTo>
                  <a:cubicBezTo>
                    <a:pt x="59" y="63"/>
                    <a:pt x="58" y="63"/>
                    <a:pt x="56" y="62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0" y="63"/>
                    <a:pt x="47" y="53"/>
                    <a:pt x="53" y="52"/>
                  </a:cubicBezTo>
                  <a:cubicBezTo>
                    <a:pt x="53" y="51"/>
                    <a:pt x="53" y="51"/>
                    <a:pt x="53" y="51"/>
                  </a:cubicBezTo>
                  <a:cubicBezTo>
                    <a:pt x="60" y="45"/>
                    <a:pt x="67" y="40"/>
                    <a:pt x="74" y="35"/>
                  </a:cubicBezTo>
                  <a:cubicBezTo>
                    <a:pt x="77" y="34"/>
                    <a:pt x="79" y="34"/>
                    <a:pt x="80" y="35"/>
                  </a:cubicBezTo>
                  <a:cubicBezTo>
                    <a:pt x="81" y="35"/>
                    <a:pt x="81" y="35"/>
                    <a:pt x="82" y="36"/>
                  </a:cubicBezTo>
                  <a:cubicBezTo>
                    <a:pt x="88" y="37"/>
                    <a:pt x="93" y="42"/>
                    <a:pt x="100" y="44"/>
                  </a:cubicBezTo>
                  <a:cubicBezTo>
                    <a:pt x="104" y="46"/>
                    <a:pt x="109" y="48"/>
                    <a:pt x="113" y="50"/>
                  </a:cubicBezTo>
                  <a:cubicBezTo>
                    <a:pt x="119" y="53"/>
                    <a:pt x="116" y="60"/>
                    <a:pt x="111" y="60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Freeform 173"/>
            <p:cNvSpPr/>
            <p:nvPr/>
          </p:nvSpPr>
          <p:spPr>
            <a:xfrm>
              <a:off x="10401480" y="5694480"/>
              <a:ext cx="128520" cy="168120"/>
            </a:xfrm>
            <a:custGeom>
              <a:avLst/>
              <a:gdLst/>
              <a:ahLst/>
              <a:rect l="l" t="t" r="r" b="b"/>
              <a:pathLst>
                <a:path w="65" h="85">
                  <a:moveTo>
                    <a:pt x="58" y="39"/>
                  </a:moveTo>
                  <a:cubicBezTo>
                    <a:pt x="54" y="38"/>
                    <a:pt x="21" y="59"/>
                    <a:pt x="19" y="54"/>
                  </a:cubicBezTo>
                  <a:cubicBezTo>
                    <a:pt x="19" y="53"/>
                    <a:pt x="28" y="42"/>
                    <a:pt x="29" y="39"/>
                  </a:cubicBezTo>
                  <a:cubicBezTo>
                    <a:pt x="32" y="29"/>
                    <a:pt x="34" y="19"/>
                    <a:pt x="35" y="8"/>
                  </a:cubicBezTo>
                  <a:cubicBezTo>
                    <a:pt x="35" y="3"/>
                    <a:pt x="35" y="0"/>
                    <a:pt x="31" y="0"/>
                  </a:cubicBezTo>
                  <a:cubicBezTo>
                    <a:pt x="30" y="3"/>
                    <a:pt x="29" y="5"/>
                    <a:pt x="28" y="8"/>
                  </a:cubicBezTo>
                  <a:cubicBezTo>
                    <a:pt x="23" y="19"/>
                    <a:pt x="20" y="39"/>
                    <a:pt x="14" y="51"/>
                  </a:cubicBezTo>
                  <a:cubicBezTo>
                    <a:pt x="9" y="60"/>
                    <a:pt x="0" y="65"/>
                    <a:pt x="0" y="65"/>
                  </a:cubicBezTo>
                  <a:cubicBezTo>
                    <a:pt x="3" y="66"/>
                    <a:pt x="6" y="68"/>
                    <a:pt x="10" y="72"/>
                  </a:cubicBezTo>
                  <a:cubicBezTo>
                    <a:pt x="14" y="76"/>
                    <a:pt x="19" y="79"/>
                    <a:pt x="22" y="85"/>
                  </a:cubicBezTo>
                  <a:cubicBezTo>
                    <a:pt x="23" y="81"/>
                    <a:pt x="26" y="78"/>
                    <a:pt x="28" y="74"/>
                  </a:cubicBezTo>
                  <a:cubicBezTo>
                    <a:pt x="30" y="71"/>
                    <a:pt x="65" y="42"/>
                    <a:pt x="58" y="39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Freeform 174"/>
            <p:cNvSpPr/>
            <p:nvPr/>
          </p:nvSpPr>
          <p:spPr>
            <a:xfrm>
              <a:off x="10436400" y="5783400"/>
              <a:ext cx="75960" cy="7920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5"/>
                  </a:moveTo>
                  <a:cubicBezTo>
                    <a:pt x="1" y="36"/>
                    <a:pt x="3" y="38"/>
                    <a:pt x="4" y="40"/>
                  </a:cubicBezTo>
                  <a:cubicBezTo>
                    <a:pt x="5" y="36"/>
                    <a:pt x="8" y="33"/>
                    <a:pt x="10" y="29"/>
                  </a:cubicBezTo>
                  <a:cubicBezTo>
                    <a:pt x="12" y="26"/>
                    <a:pt x="32" y="9"/>
                    <a:pt x="38" y="0"/>
                  </a:cubicBezTo>
                  <a:cubicBezTo>
                    <a:pt x="25" y="10"/>
                    <a:pt x="12" y="22"/>
                    <a:pt x="0" y="35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Freeform 175"/>
            <p:cNvSpPr/>
            <p:nvPr/>
          </p:nvSpPr>
          <p:spPr>
            <a:xfrm>
              <a:off x="10504440" y="5557680"/>
              <a:ext cx="117360" cy="17280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45" y="45"/>
                  </a:moveTo>
                  <a:cubicBezTo>
                    <a:pt x="44" y="44"/>
                    <a:pt x="45" y="42"/>
                    <a:pt x="46" y="42"/>
                  </a:cubicBezTo>
                  <a:cubicBezTo>
                    <a:pt x="48" y="28"/>
                    <a:pt x="54" y="15"/>
                    <a:pt x="54" y="0"/>
                  </a:cubicBezTo>
                  <a:cubicBezTo>
                    <a:pt x="51" y="0"/>
                    <a:pt x="49" y="0"/>
                    <a:pt x="46" y="0"/>
                  </a:cubicBezTo>
                  <a:cubicBezTo>
                    <a:pt x="43" y="7"/>
                    <a:pt x="41" y="14"/>
                    <a:pt x="39" y="21"/>
                  </a:cubicBezTo>
                  <a:cubicBezTo>
                    <a:pt x="38" y="26"/>
                    <a:pt x="37" y="32"/>
                    <a:pt x="35" y="37"/>
                  </a:cubicBezTo>
                  <a:cubicBezTo>
                    <a:pt x="30" y="48"/>
                    <a:pt x="21" y="48"/>
                    <a:pt x="12" y="50"/>
                  </a:cubicBezTo>
                  <a:cubicBezTo>
                    <a:pt x="8" y="54"/>
                    <a:pt x="5" y="57"/>
                    <a:pt x="0" y="60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1" y="61"/>
                    <a:pt x="1" y="62"/>
                    <a:pt x="1" y="62"/>
                  </a:cubicBezTo>
                  <a:cubicBezTo>
                    <a:pt x="1" y="61"/>
                    <a:pt x="2" y="61"/>
                    <a:pt x="2" y="60"/>
                  </a:cubicBezTo>
                  <a:cubicBezTo>
                    <a:pt x="13" y="52"/>
                    <a:pt x="24" y="46"/>
                    <a:pt x="38" y="49"/>
                  </a:cubicBezTo>
                  <a:cubicBezTo>
                    <a:pt x="39" y="49"/>
                    <a:pt x="40" y="51"/>
                    <a:pt x="40" y="52"/>
                  </a:cubicBezTo>
                  <a:cubicBezTo>
                    <a:pt x="38" y="59"/>
                    <a:pt x="33" y="63"/>
                    <a:pt x="27" y="67"/>
                  </a:cubicBezTo>
                  <a:cubicBezTo>
                    <a:pt x="19" y="72"/>
                    <a:pt x="16" y="79"/>
                    <a:pt x="13" y="87"/>
                  </a:cubicBezTo>
                  <a:cubicBezTo>
                    <a:pt x="16" y="86"/>
                    <a:pt x="19" y="85"/>
                    <a:pt x="22" y="83"/>
                  </a:cubicBezTo>
                  <a:cubicBezTo>
                    <a:pt x="25" y="77"/>
                    <a:pt x="28" y="71"/>
                    <a:pt x="32" y="66"/>
                  </a:cubicBezTo>
                  <a:cubicBezTo>
                    <a:pt x="33" y="65"/>
                    <a:pt x="34" y="65"/>
                    <a:pt x="34" y="65"/>
                  </a:cubicBezTo>
                  <a:cubicBezTo>
                    <a:pt x="36" y="61"/>
                    <a:pt x="38" y="58"/>
                    <a:pt x="42" y="58"/>
                  </a:cubicBezTo>
                  <a:cubicBezTo>
                    <a:pt x="48" y="58"/>
                    <a:pt x="53" y="61"/>
                    <a:pt x="59" y="64"/>
                  </a:cubicBezTo>
                  <a:cubicBezTo>
                    <a:pt x="59" y="63"/>
                    <a:pt x="60" y="63"/>
                    <a:pt x="60" y="63"/>
                  </a:cubicBezTo>
                  <a:cubicBezTo>
                    <a:pt x="53" y="59"/>
                    <a:pt x="47" y="52"/>
                    <a:pt x="45" y="45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Freeform 176"/>
            <p:cNvSpPr/>
            <p:nvPr/>
          </p:nvSpPr>
          <p:spPr>
            <a:xfrm>
              <a:off x="10507680" y="5800680"/>
              <a:ext cx="42840" cy="1234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5" y="61"/>
                  </a:moveTo>
                  <a:cubicBezTo>
                    <a:pt x="5" y="61"/>
                    <a:pt x="11" y="56"/>
                    <a:pt x="11" y="38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1"/>
                    <a:pt x="11" y="22"/>
                    <a:pt x="22" y="6"/>
                  </a:cubicBezTo>
                  <a:cubicBezTo>
                    <a:pt x="22" y="6"/>
                    <a:pt x="20" y="0"/>
                    <a:pt x="13" y="8"/>
                  </a:cubicBezTo>
                  <a:cubicBezTo>
                    <a:pt x="7" y="15"/>
                    <a:pt x="0" y="62"/>
                    <a:pt x="5" y="61"/>
                  </a:cubicBezTo>
                  <a:close/>
                </a:path>
              </a:pathLst>
            </a:custGeom>
            <a:solidFill>
              <a:srgbClr val="a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Freeform 177"/>
            <p:cNvSpPr/>
            <p:nvPr/>
          </p:nvSpPr>
          <p:spPr>
            <a:xfrm>
              <a:off x="10491840" y="5668920"/>
              <a:ext cx="214200" cy="255600"/>
            </a:xfrm>
            <a:custGeom>
              <a:avLst/>
              <a:gdLst/>
              <a:ahLst/>
              <a:rect l="l" t="t" r="r" b="b"/>
              <a:pathLst>
                <a:path w="108" h="129">
                  <a:moveTo>
                    <a:pt x="106" y="88"/>
                  </a:moveTo>
                  <a:cubicBezTo>
                    <a:pt x="104" y="79"/>
                    <a:pt x="107" y="70"/>
                    <a:pt x="105" y="60"/>
                  </a:cubicBezTo>
                  <a:cubicBezTo>
                    <a:pt x="103" y="54"/>
                    <a:pt x="101" y="49"/>
                    <a:pt x="96" y="45"/>
                  </a:cubicBezTo>
                  <a:cubicBezTo>
                    <a:pt x="91" y="43"/>
                    <a:pt x="82" y="40"/>
                    <a:pt x="82" y="34"/>
                  </a:cubicBezTo>
                  <a:cubicBezTo>
                    <a:pt x="82" y="34"/>
                    <a:pt x="82" y="34"/>
                    <a:pt x="82" y="34"/>
                  </a:cubicBezTo>
                  <a:cubicBezTo>
                    <a:pt x="81" y="34"/>
                    <a:pt x="80" y="34"/>
                    <a:pt x="79" y="34"/>
                  </a:cubicBezTo>
                  <a:cubicBezTo>
                    <a:pt x="82" y="28"/>
                    <a:pt x="86" y="22"/>
                    <a:pt x="91" y="18"/>
                  </a:cubicBezTo>
                  <a:cubicBezTo>
                    <a:pt x="96" y="14"/>
                    <a:pt x="108" y="8"/>
                    <a:pt x="104" y="0"/>
                  </a:cubicBezTo>
                  <a:cubicBezTo>
                    <a:pt x="104" y="0"/>
                    <a:pt x="103" y="0"/>
                    <a:pt x="103" y="0"/>
                  </a:cubicBezTo>
                  <a:cubicBezTo>
                    <a:pt x="102" y="1"/>
                    <a:pt x="102" y="1"/>
                    <a:pt x="102" y="2"/>
                  </a:cubicBezTo>
                  <a:cubicBezTo>
                    <a:pt x="95" y="10"/>
                    <a:pt x="88" y="21"/>
                    <a:pt x="78" y="27"/>
                  </a:cubicBezTo>
                  <a:cubicBezTo>
                    <a:pt x="68" y="33"/>
                    <a:pt x="57" y="32"/>
                    <a:pt x="46" y="33"/>
                  </a:cubicBezTo>
                  <a:cubicBezTo>
                    <a:pt x="39" y="43"/>
                    <a:pt x="28" y="48"/>
                    <a:pt x="19" y="55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9" y="57"/>
                    <a:pt x="21" y="58"/>
                    <a:pt x="22" y="58"/>
                  </a:cubicBezTo>
                  <a:cubicBezTo>
                    <a:pt x="29" y="61"/>
                    <a:pt x="26" y="72"/>
                    <a:pt x="19" y="69"/>
                  </a:cubicBezTo>
                  <a:cubicBezTo>
                    <a:pt x="18" y="68"/>
                    <a:pt x="17" y="68"/>
                    <a:pt x="15" y="67"/>
                  </a:cubicBezTo>
                  <a:cubicBezTo>
                    <a:pt x="16" y="69"/>
                    <a:pt x="17" y="71"/>
                    <a:pt x="18" y="73"/>
                  </a:cubicBezTo>
                  <a:cubicBezTo>
                    <a:pt x="19" y="75"/>
                    <a:pt x="18" y="78"/>
                    <a:pt x="15" y="79"/>
                  </a:cubicBezTo>
                  <a:cubicBezTo>
                    <a:pt x="9" y="82"/>
                    <a:pt x="4" y="87"/>
                    <a:pt x="0" y="93"/>
                  </a:cubicBezTo>
                  <a:cubicBezTo>
                    <a:pt x="0" y="92"/>
                    <a:pt x="1" y="92"/>
                    <a:pt x="1" y="92"/>
                  </a:cubicBezTo>
                  <a:cubicBezTo>
                    <a:pt x="7" y="89"/>
                    <a:pt x="10" y="95"/>
                    <a:pt x="10" y="100"/>
                  </a:cubicBezTo>
                  <a:cubicBezTo>
                    <a:pt x="10" y="104"/>
                    <a:pt x="8" y="108"/>
                    <a:pt x="7" y="112"/>
                  </a:cubicBezTo>
                  <a:cubicBezTo>
                    <a:pt x="5" y="117"/>
                    <a:pt x="6" y="122"/>
                    <a:pt x="4" y="127"/>
                  </a:cubicBezTo>
                  <a:cubicBezTo>
                    <a:pt x="7" y="128"/>
                    <a:pt x="10" y="129"/>
                    <a:pt x="11" y="129"/>
                  </a:cubicBezTo>
                  <a:cubicBezTo>
                    <a:pt x="12" y="128"/>
                    <a:pt x="13" y="128"/>
                    <a:pt x="13" y="128"/>
                  </a:cubicBezTo>
                  <a:cubicBezTo>
                    <a:pt x="13" y="127"/>
                    <a:pt x="13" y="127"/>
                    <a:pt x="13" y="127"/>
                  </a:cubicBezTo>
                  <a:cubicBezTo>
                    <a:pt x="13" y="125"/>
                    <a:pt x="13" y="103"/>
                    <a:pt x="15" y="103"/>
                  </a:cubicBezTo>
                  <a:cubicBezTo>
                    <a:pt x="19" y="103"/>
                    <a:pt x="21" y="109"/>
                    <a:pt x="23" y="112"/>
                  </a:cubicBezTo>
                  <a:cubicBezTo>
                    <a:pt x="26" y="115"/>
                    <a:pt x="32" y="120"/>
                    <a:pt x="34" y="124"/>
                  </a:cubicBezTo>
                  <a:cubicBezTo>
                    <a:pt x="34" y="124"/>
                    <a:pt x="38" y="124"/>
                    <a:pt x="38" y="123"/>
                  </a:cubicBezTo>
                  <a:cubicBezTo>
                    <a:pt x="39" y="122"/>
                    <a:pt x="35" y="118"/>
                    <a:pt x="34" y="117"/>
                  </a:cubicBezTo>
                  <a:cubicBezTo>
                    <a:pt x="33" y="114"/>
                    <a:pt x="31" y="111"/>
                    <a:pt x="30" y="108"/>
                  </a:cubicBezTo>
                  <a:cubicBezTo>
                    <a:pt x="30" y="107"/>
                    <a:pt x="29" y="97"/>
                    <a:pt x="30" y="92"/>
                  </a:cubicBezTo>
                  <a:cubicBezTo>
                    <a:pt x="31" y="87"/>
                    <a:pt x="32" y="82"/>
                    <a:pt x="36" y="79"/>
                  </a:cubicBezTo>
                  <a:cubicBezTo>
                    <a:pt x="40" y="76"/>
                    <a:pt x="41" y="80"/>
                    <a:pt x="43" y="83"/>
                  </a:cubicBezTo>
                  <a:cubicBezTo>
                    <a:pt x="45" y="86"/>
                    <a:pt x="47" y="88"/>
                    <a:pt x="47" y="91"/>
                  </a:cubicBezTo>
                  <a:cubicBezTo>
                    <a:pt x="48" y="94"/>
                    <a:pt x="48" y="96"/>
                    <a:pt x="49" y="99"/>
                  </a:cubicBezTo>
                  <a:cubicBezTo>
                    <a:pt x="51" y="106"/>
                    <a:pt x="55" y="113"/>
                    <a:pt x="58" y="119"/>
                  </a:cubicBezTo>
                  <a:cubicBezTo>
                    <a:pt x="59" y="119"/>
                    <a:pt x="61" y="119"/>
                    <a:pt x="62" y="119"/>
                  </a:cubicBezTo>
                  <a:cubicBezTo>
                    <a:pt x="62" y="119"/>
                    <a:pt x="62" y="119"/>
                    <a:pt x="62" y="119"/>
                  </a:cubicBezTo>
                  <a:cubicBezTo>
                    <a:pt x="58" y="105"/>
                    <a:pt x="49" y="88"/>
                    <a:pt x="54" y="74"/>
                  </a:cubicBezTo>
                  <a:cubicBezTo>
                    <a:pt x="56" y="69"/>
                    <a:pt x="60" y="67"/>
                    <a:pt x="65" y="66"/>
                  </a:cubicBezTo>
                  <a:cubicBezTo>
                    <a:pt x="76" y="62"/>
                    <a:pt x="93" y="59"/>
                    <a:pt x="99" y="68"/>
                  </a:cubicBezTo>
                  <a:cubicBezTo>
                    <a:pt x="103" y="75"/>
                    <a:pt x="102" y="84"/>
                    <a:pt x="102" y="92"/>
                  </a:cubicBezTo>
                  <a:cubicBezTo>
                    <a:pt x="103" y="100"/>
                    <a:pt x="101" y="108"/>
                    <a:pt x="99" y="116"/>
                  </a:cubicBezTo>
                  <a:cubicBezTo>
                    <a:pt x="100" y="115"/>
                    <a:pt x="101" y="114"/>
                    <a:pt x="102" y="111"/>
                  </a:cubicBezTo>
                  <a:cubicBezTo>
                    <a:pt x="104" y="105"/>
                    <a:pt x="107" y="97"/>
                    <a:pt x="108" y="90"/>
                  </a:cubicBezTo>
                  <a:cubicBezTo>
                    <a:pt x="107" y="90"/>
                    <a:pt x="106" y="89"/>
                    <a:pt x="106" y="88"/>
                  </a:cubicBezTo>
                  <a:close/>
                  <a:moveTo>
                    <a:pt x="91" y="60"/>
                  </a:moveTo>
                  <a:cubicBezTo>
                    <a:pt x="75" y="62"/>
                    <a:pt x="59" y="60"/>
                    <a:pt x="43" y="61"/>
                  </a:cubicBezTo>
                  <a:cubicBezTo>
                    <a:pt x="42" y="62"/>
                    <a:pt x="42" y="62"/>
                    <a:pt x="41" y="62"/>
                  </a:cubicBezTo>
                  <a:cubicBezTo>
                    <a:pt x="39" y="63"/>
                    <a:pt x="38" y="63"/>
                    <a:pt x="36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0" y="63"/>
                    <a:pt x="27" y="53"/>
                    <a:pt x="33" y="52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40" y="45"/>
                    <a:pt x="47" y="40"/>
                    <a:pt x="54" y="35"/>
                  </a:cubicBezTo>
                  <a:cubicBezTo>
                    <a:pt x="57" y="34"/>
                    <a:pt x="59" y="34"/>
                    <a:pt x="60" y="35"/>
                  </a:cubicBezTo>
                  <a:cubicBezTo>
                    <a:pt x="61" y="35"/>
                    <a:pt x="61" y="35"/>
                    <a:pt x="62" y="36"/>
                  </a:cubicBezTo>
                  <a:cubicBezTo>
                    <a:pt x="68" y="37"/>
                    <a:pt x="73" y="42"/>
                    <a:pt x="80" y="44"/>
                  </a:cubicBezTo>
                  <a:cubicBezTo>
                    <a:pt x="84" y="46"/>
                    <a:pt x="89" y="48"/>
                    <a:pt x="93" y="50"/>
                  </a:cubicBezTo>
                  <a:cubicBezTo>
                    <a:pt x="99" y="53"/>
                    <a:pt x="96" y="60"/>
                    <a:pt x="91" y="60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Freeform 178"/>
            <p:cNvSpPr/>
            <p:nvPr/>
          </p:nvSpPr>
          <p:spPr>
            <a:xfrm>
              <a:off x="10356840" y="5722920"/>
              <a:ext cx="64800" cy="457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" y="23"/>
                  </a:moveTo>
                  <a:cubicBezTo>
                    <a:pt x="0" y="24"/>
                    <a:pt x="6" y="23"/>
                    <a:pt x="8" y="22"/>
                  </a:cubicBezTo>
                  <a:cubicBezTo>
                    <a:pt x="11" y="21"/>
                    <a:pt x="13" y="21"/>
                    <a:pt x="15" y="21"/>
                  </a:cubicBezTo>
                  <a:cubicBezTo>
                    <a:pt x="19" y="19"/>
                    <a:pt x="22" y="18"/>
                    <a:pt x="25" y="16"/>
                  </a:cubicBezTo>
                  <a:cubicBezTo>
                    <a:pt x="27" y="15"/>
                    <a:pt x="30" y="13"/>
                    <a:pt x="32" y="11"/>
                  </a:cubicBezTo>
                  <a:cubicBezTo>
                    <a:pt x="33" y="9"/>
                    <a:pt x="30" y="5"/>
                    <a:pt x="29" y="6"/>
                  </a:cubicBezTo>
                  <a:cubicBezTo>
                    <a:pt x="26" y="3"/>
                    <a:pt x="23" y="2"/>
                    <a:pt x="19" y="0"/>
                  </a:cubicBezTo>
                  <a:cubicBezTo>
                    <a:pt x="19" y="0"/>
                    <a:pt x="24" y="16"/>
                    <a:pt x="2" y="23"/>
                  </a:cubicBezTo>
                  <a:close/>
                </a:path>
              </a:pathLst>
            </a:custGeom>
            <a:solidFill>
              <a:srgbClr val="d3d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Freeform 179"/>
            <p:cNvSpPr/>
            <p:nvPr/>
          </p:nvSpPr>
          <p:spPr>
            <a:xfrm>
              <a:off x="10356840" y="5735520"/>
              <a:ext cx="61560" cy="331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0"/>
                  </a:moveTo>
                  <a:cubicBezTo>
                    <a:pt x="18" y="5"/>
                    <a:pt x="15" y="12"/>
                    <a:pt x="2" y="16"/>
                  </a:cubicBezTo>
                  <a:cubicBezTo>
                    <a:pt x="0" y="17"/>
                    <a:pt x="6" y="16"/>
                    <a:pt x="8" y="15"/>
                  </a:cubicBezTo>
                  <a:cubicBezTo>
                    <a:pt x="11" y="14"/>
                    <a:pt x="13" y="14"/>
                    <a:pt x="15" y="14"/>
                  </a:cubicBezTo>
                  <a:cubicBezTo>
                    <a:pt x="19" y="12"/>
                    <a:pt x="22" y="11"/>
                    <a:pt x="25" y="9"/>
                  </a:cubicBezTo>
                  <a:cubicBezTo>
                    <a:pt x="27" y="8"/>
                    <a:pt x="30" y="7"/>
                    <a:pt x="31" y="5"/>
                  </a:cubicBezTo>
                  <a:cubicBezTo>
                    <a:pt x="28" y="2"/>
                    <a:pt x="24" y="0"/>
                    <a:pt x="19" y="0"/>
                  </a:cubicBez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Freeform 180">
              <a:hlinkClick r:id="rId11"/>
            </p:cNvPr>
            <p:cNvSpPr/>
            <p:nvPr/>
          </p:nvSpPr>
          <p:spPr>
            <a:xfrm>
              <a:off x="8408880" y="3396960"/>
              <a:ext cx="1082520" cy="1531800"/>
            </a:xfrm>
            <a:custGeom>
              <a:avLst/>
              <a:gdLst/>
              <a:ahLst/>
              <a:rect l="l" t="t" r="r" b="b"/>
              <a:pathLst>
                <a:path w="547" h="774">
                  <a:moveTo>
                    <a:pt x="0" y="462"/>
                  </a:moveTo>
                  <a:cubicBezTo>
                    <a:pt x="0" y="462"/>
                    <a:pt x="21" y="0"/>
                    <a:pt x="225" y="21"/>
                  </a:cubicBezTo>
                  <a:cubicBezTo>
                    <a:pt x="408" y="55"/>
                    <a:pt x="447" y="118"/>
                    <a:pt x="470" y="152"/>
                  </a:cubicBezTo>
                  <a:cubicBezTo>
                    <a:pt x="518" y="220"/>
                    <a:pt x="547" y="565"/>
                    <a:pt x="547" y="565"/>
                  </a:cubicBezTo>
                  <a:cubicBezTo>
                    <a:pt x="537" y="774"/>
                    <a:pt x="537" y="774"/>
                    <a:pt x="537" y="774"/>
                  </a:cubicBezTo>
                  <a:cubicBezTo>
                    <a:pt x="56" y="767"/>
                    <a:pt x="56" y="767"/>
                    <a:pt x="56" y="767"/>
                  </a:cubicBezTo>
                  <a:lnTo>
                    <a:pt x="0" y="462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Freeform 181"/>
            <p:cNvSpPr/>
            <p:nvPr/>
          </p:nvSpPr>
          <p:spPr>
            <a:xfrm>
              <a:off x="8270640" y="3849480"/>
              <a:ext cx="838080" cy="1071360"/>
            </a:xfrm>
            <a:custGeom>
              <a:avLst/>
              <a:gdLst/>
              <a:ahLst/>
              <a:rect l="l" t="t" r="r" b="b"/>
              <a:pathLst>
                <a:path w="424" h="541">
                  <a:moveTo>
                    <a:pt x="255" y="464"/>
                  </a:moveTo>
                  <a:cubicBezTo>
                    <a:pt x="254" y="463"/>
                    <a:pt x="253" y="461"/>
                    <a:pt x="252" y="460"/>
                  </a:cubicBezTo>
                  <a:cubicBezTo>
                    <a:pt x="245" y="450"/>
                    <a:pt x="223" y="430"/>
                    <a:pt x="222" y="418"/>
                  </a:cubicBezTo>
                  <a:cubicBezTo>
                    <a:pt x="219" y="397"/>
                    <a:pt x="257" y="383"/>
                    <a:pt x="275" y="381"/>
                  </a:cubicBezTo>
                  <a:cubicBezTo>
                    <a:pt x="310" y="377"/>
                    <a:pt x="348" y="373"/>
                    <a:pt x="383" y="368"/>
                  </a:cubicBezTo>
                  <a:cubicBezTo>
                    <a:pt x="399" y="366"/>
                    <a:pt x="413" y="365"/>
                    <a:pt x="419" y="349"/>
                  </a:cubicBezTo>
                  <a:cubicBezTo>
                    <a:pt x="424" y="334"/>
                    <a:pt x="418" y="327"/>
                    <a:pt x="407" y="318"/>
                  </a:cubicBezTo>
                  <a:cubicBezTo>
                    <a:pt x="396" y="310"/>
                    <a:pt x="381" y="307"/>
                    <a:pt x="368" y="303"/>
                  </a:cubicBezTo>
                  <a:cubicBezTo>
                    <a:pt x="347" y="297"/>
                    <a:pt x="330" y="303"/>
                    <a:pt x="308" y="302"/>
                  </a:cubicBezTo>
                  <a:cubicBezTo>
                    <a:pt x="286" y="301"/>
                    <a:pt x="246" y="295"/>
                    <a:pt x="227" y="284"/>
                  </a:cubicBezTo>
                  <a:cubicBezTo>
                    <a:pt x="221" y="253"/>
                    <a:pt x="87" y="258"/>
                    <a:pt x="86" y="244"/>
                  </a:cubicBezTo>
                  <a:cubicBezTo>
                    <a:pt x="84" y="214"/>
                    <a:pt x="133" y="148"/>
                    <a:pt x="130" y="118"/>
                  </a:cubicBezTo>
                  <a:cubicBezTo>
                    <a:pt x="130" y="117"/>
                    <a:pt x="130" y="116"/>
                    <a:pt x="130" y="116"/>
                  </a:cubicBezTo>
                  <a:cubicBezTo>
                    <a:pt x="130" y="77"/>
                    <a:pt x="127" y="38"/>
                    <a:pt x="123" y="0"/>
                  </a:cubicBezTo>
                  <a:cubicBezTo>
                    <a:pt x="99" y="114"/>
                    <a:pt x="0" y="285"/>
                    <a:pt x="0" y="285"/>
                  </a:cubicBezTo>
                  <a:cubicBezTo>
                    <a:pt x="126" y="538"/>
                    <a:pt x="126" y="538"/>
                    <a:pt x="126" y="538"/>
                  </a:cubicBezTo>
                  <a:cubicBezTo>
                    <a:pt x="126" y="541"/>
                    <a:pt x="265" y="541"/>
                    <a:pt x="277" y="541"/>
                  </a:cubicBezTo>
                  <a:cubicBezTo>
                    <a:pt x="315" y="541"/>
                    <a:pt x="293" y="516"/>
                    <a:pt x="280" y="498"/>
                  </a:cubicBezTo>
                  <a:cubicBezTo>
                    <a:pt x="272" y="487"/>
                    <a:pt x="264" y="475"/>
                    <a:pt x="255" y="464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Freeform 182"/>
            <p:cNvSpPr/>
            <p:nvPr/>
          </p:nvSpPr>
          <p:spPr>
            <a:xfrm>
              <a:off x="8518320" y="3444840"/>
              <a:ext cx="879480" cy="1484280"/>
            </a:xfrm>
            <a:custGeom>
              <a:avLst/>
              <a:gdLst/>
              <a:ahLst/>
              <a:rect l="l" t="t" r="r" b="b"/>
              <a:pathLst>
                <a:path w="445" h="750">
                  <a:moveTo>
                    <a:pt x="445" y="750"/>
                  </a:moveTo>
                  <a:cubicBezTo>
                    <a:pt x="445" y="741"/>
                    <a:pt x="444" y="732"/>
                    <a:pt x="443" y="724"/>
                  </a:cubicBezTo>
                  <a:cubicBezTo>
                    <a:pt x="441" y="689"/>
                    <a:pt x="433" y="657"/>
                    <a:pt x="425" y="624"/>
                  </a:cubicBezTo>
                  <a:cubicBezTo>
                    <a:pt x="408" y="558"/>
                    <a:pt x="391" y="491"/>
                    <a:pt x="368" y="427"/>
                  </a:cubicBezTo>
                  <a:cubicBezTo>
                    <a:pt x="327" y="315"/>
                    <a:pt x="263" y="179"/>
                    <a:pt x="133" y="153"/>
                  </a:cubicBezTo>
                  <a:cubicBezTo>
                    <a:pt x="118" y="150"/>
                    <a:pt x="115" y="136"/>
                    <a:pt x="120" y="124"/>
                  </a:cubicBezTo>
                  <a:cubicBezTo>
                    <a:pt x="119" y="118"/>
                    <a:pt x="121" y="112"/>
                    <a:pt x="127" y="107"/>
                  </a:cubicBezTo>
                  <a:cubicBezTo>
                    <a:pt x="151" y="87"/>
                    <a:pt x="143" y="39"/>
                    <a:pt x="129" y="0"/>
                  </a:cubicBezTo>
                  <a:cubicBezTo>
                    <a:pt x="38" y="22"/>
                    <a:pt x="9" y="160"/>
                    <a:pt x="0" y="273"/>
                  </a:cubicBezTo>
                  <a:cubicBezTo>
                    <a:pt x="34" y="261"/>
                    <a:pt x="69" y="253"/>
                    <a:pt x="105" y="252"/>
                  </a:cubicBezTo>
                  <a:cubicBezTo>
                    <a:pt x="108" y="252"/>
                    <a:pt x="111" y="252"/>
                    <a:pt x="113" y="253"/>
                  </a:cubicBezTo>
                  <a:cubicBezTo>
                    <a:pt x="125" y="251"/>
                    <a:pt x="141" y="258"/>
                    <a:pt x="142" y="274"/>
                  </a:cubicBezTo>
                  <a:cubicBezTo>
                    <a:pt x="143" y="280"/>
                    <a:pt x="196" y="403"/>
                    <a:pt x="196" y="537"/>
                  </a:cubicBezTo>
                  <a:cubicBezTo>
                    <a:pt x="196" y="601"/>
                    <a:pt x="187" y="684"/>
                    <a:pt x="174" y="747"/>
                  </a:cubicBezTo>
                  <a:lnTo>
                    <a:pt x="445" y="75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Freeform 183"/>
            <p:cNvSpPr/>
            <p:nvPr/>
          </p:nvSpPr>
          <p:spPr>
            <a:xfrm>
              <a:off x="8421480" y="3846240"/>
              <a:ext cx="338040" cy="284040"/>
            </a:xfrm>
            <a:custGeom>
              <a:avLst/>
              <a:gdLst/>
              <a:ahLst/>
              <a:rect l="l" t="t" r="r" b="b"/>
              <a:pathLst>
                <a:path w="171" h="144">
                  <a:moveTo>
                    <a:pt x="0" y="113"/>
                  </a:moveTo>
                  <a:cubicBezTo>
                    <a:pt x="0" y="113"/>
                    <a:pt x="82" y="144"/>
                    <a:pt x="99" y="142"/>
                  </a:cubicBezTo>
                  <a:cubicBezTo>
                    <a:pt x="116" y="140"/>
                    <a:pt x="143" y="110"/>
                    <a:pt x="151" y="89"/>
                  </a:cubicBezTo>
                  <a:cubicBezTo>
                    <a:pt x="171" y="36"/>
                    <a:pt x="153" y="9"/>
                    <a:pt x="153" y="9"/>
                  </a:cubicBezTo>
                  <a:cubicBezTo>
                    <a:pt x="124" y="0"/>
                    <a:pt x="124" y="0"/>
                    <a:pt x="124" y="0"/>
                  </a:cubicBezTo>
                  <a:lnTo>
                    <a:pt x="0" y="11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7" name="Freeform 184"/>
            <p:cNvSpPr/>
            <p:nvPr/>
          </p:nvSpPr>
          <p:spPr>
            <a:xfrm>
              <a:off x="8393040" y="3835080"/>
              <a:ext cx="323640" cy="264960"/>
            </a:xfrm>
            <a:custGeom>
              <a:avLst/>
              <a:gdLst/>
              <a:ahLst/>
              <a:rect l="l" t="t" r="r" b="b"/>
              <a:pathLst>
                <a:path w="164" h="134">
                  <a:moveTo>
                    <a:pt x="0" y="104"/>
                  </a:moveTo>
                  <a:cubicBezTo>
                    <a:pt x="0" y="104"/>
                    <a:pt x="82" y="134"/>
                    <a:pt x="99" y="133"/>
                  </a:cubicBezTo>
                  <a:cubicBezTo>
                    <a:pt x="116" y="131"/>
                    <a:pt x="135" y="118"/>
                    <a:pt x="143" y="96"/>
                  </a:cubicBezTo>
                  <a:cubicBezTo>
                    <a:pt x="164" y="43"/>
                    <a:pt x="162" y="25"/>
                    <a:pt x="162" y="25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0" y="104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8" name="Freeform 185"/>
            <p:cNvSpPr/>
            <p:nvPr/>
          </p:nvSpPr>
          <p:spPr>
            <a:xfrm>
              <a:off x="8575560" y="3460680"/>
              <a:ext cx="210960" cy="304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4" y="0"/>
                  </a:moveTo>
                  <a:cubicBezTo>
                    <a:pt x="4" y="0"/>
                    <a:pt x="73" y="22"/>
                    <a:pt x="79" y="28"/>
                  </a:cubicBezTo>
                  <a:cubicBezTo>
                    <a:pt x="85" y="35"/>
                    <a:pt x="107" y="45"/>
                    <a:pt x="86" y="154"/>
                  </a:cubicBezTo>
                  <a:cubicBezTo>
                    <a:pt x="0" y="133"/>
                    <a:pt x="0" y="133"/>
                    <a:pt x="0" y="13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9" name="Freeform 186"/>
            <p:cNvSpPr/>
            <p:nvPr/>
          </p:nvSpPr>
          <p:spPr>
            <a:xfrm>
              <a:off x="8559720" y="3438360"/>
              <a:ext cx="201600" cy="304560"/>
            </a:xfrm>
            <a:custGeom>
              <a:avLst/>
              <a:gdLst/>
              <a:ahLst/>
              <a:rect l="l" t="t" r="r" b="b"/>
              <a:pathLst>
                <a:path w="102" h="154">
                  <a:moveTo>
                    <a:pt x="0" y="0"/>
                  </a:moveTo>
                  <a:cubicBezTo>
                    <a:pt x="0" y="0"/>
                    <a:pt x="68" y="21"/>
                    <a:pt x="74" y="28"/>
                  </a:cubicBezTo>
                  <a:cubicBezTo>
                    <a:pt x="80" y="34"/>
                    <a:pt x="102" y="45"/>
                    <a:pt x="81" y="154"/>
                  </a:cubicBezTo>
                  <a:cubicBezTo>
                    <a:pt x="0" y="114"/>
                    <a:pt x="0" y="114"/>
                    <a:pt x="0" y="11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0" name="Freeform 187"/>
            <p:cNvSpPr/>
            <p:nvPr/>
          </p:nvSpPr>
          <p:spPr>
            <a:xfrm>
              <a:off x="8402400" y="3833640"/>
              <a:ext cx="282240" cy="225360"/>
            </a:xfrm>
            <a:custGeom>
              <a:avLst/>
              <a:gdLst/>
              <a:ahLst/>
              <a:rect l="l" t="t" r="r" b="b"/>
              <a:pathLst>
                <a:path w="143" h="114">
                  <a:moveTo>
                    <a:pt x="26" y="113"/>
                  </a:moveTo>
                  <a:cubicBezTo>
                    <a:pt x="23" y="114"/>
                    <a:pt x="20" y="114"/>
                    <a:pt x="17" y="114"/>
                  </a:cubicBezTo>
                  <a:cubicBezTo>
                    <a:pt x="9" y="114"/>
                    <a:pt x="0" y="111"/>
                    <a:pt x="4" y="101"/>
                  </a:cubicBezTo>
                  <a:cubicBezTo>
                    <a:pt x="7" y="93"/>
                    <a:pt x="17" y="87"/>
                    <a:pt x="23" y="81"/>
                  </a:cubicBezTo>
                  <a:cubicBezTo>
                    <a:pt x="36" y="66"/>
                    <a:pt x="49" y="53"/>
                    <a:pt x="64" y="42"/>
                  </a:cubicBezTo>
                  <a:cubicBezTo>
                    <a:pt x="77" y="31"/>
                    <a:pt x="89" y="17"/>
                    <a:pt x="104" y="8"/>
                  </a:cubicBezTo>
                  <a:cubicBezTo>
                    <a:pt x="108" y="5"/>
                    <a:pt x="143" y="0"/>
                    <a:pt x="142" y="16"/>
                  </a:cubicBezTo>
                  <a:cubicBezTo>
                    <a:pt x="141" y="35"/>
                    <a:pt x="119" y="22"/>
                    <a:pt x="108" y="35"/>
                  </a:cubicBezTo>
                  <a:cubicBezTo>
                    <a:pt x="102" y="42"/>
                    <a:pt x="98" y="47"/>
                    <a:pt x="91" y="53"/>
                  </a:cubicBezTo>
                  <a:cubicBezTo>
                    <a:pt x="83" y="59"/>
                    <a:pt x="79" y="68"/>
                    <a:pt x="71" y="75"/>
                  </a:cubicBezTo>
                  <a:cubicBezTo>
                    <a:pt x="60" y="85"/>
                    <a:pt x="49" y="94"/>
                    <a:pt x="39" y="105"/>
                  </a:cubicBezTo>
                  <a:cubicBezTo>
                    <a:pt x="35" y="109"/>
                    <a:pt x="31" y="112"/>
                    <a:pt x="26" y="11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1" name="Freeform 188"/>
            <p:cNvSpPr/>
            <p:nvPr/>
          </p:nvSpPr>
          <p:spPr>
            <a:xfrm>
              <a:off x="8578800" y="3449520"/>
              <a:ext cx="96840" cy="280800"/>
            </a:xfrm>
            <a:custGeom>
              <a:avLst/>
              <a:gdLst/>
              <a:ahLst/>
              <a:rect l="l" t="t" r="r" b="b"/>
              <a:pathLst>
                <a:path w="49" h="142">
                  <a:moveTo>
                    <a:pt x="4" y="10"/>
                  </a:moveTo>
                  <a:cubicBezTo>
                    <a:pt x="0" y="22"/>
                    <a:pt x="5" y="37"/>
                    <a:pt x="9" y="49"/>
                  </a:cubicBezTo>
                  <a:cubicBezTo>
                    <a:pt x="12" y="63"/>
                    <a:pt x="11" y="75"/>
                    <a:pt x="11" y="90"/>
                  </a:cubicBezTo>
                  <a:cubicBezTo>
                    <a:pt x="11" y="106"/>
                    <a:pt x="21" y="121"/>
                    <a:pt x="34" y="130"/>
                  </a:cubicBezTo>
                  <a:cubicBezTo>
                    <a:pt x="39" y="134"/>
                    <a:pt x="45" y="136"/>
                    <a:pt x="49" y="142"/>
                  </a:cubicBezTo>
                  <a:cubicBezTo>
                    <a:pt x="49" y="126"/>
                    <a:pt x="41" y="110"/>
                    <a:pt x="35" y="96"/>
                  </a:cubicBezTo>
                  <a:cubicBezTo>
                    <a:pt x="27" y="74"/>
                    <a:pt x="22" y="50"/>
                    <a:pt x="27" y="28"/>
                  </a:cubicBezTo>
                  <a:cubicBezTo>
                    <a:pt x="29" y="16"/>
                    <a:pt x="27" y="5"/>
                    <a:pt x="12" y="2"/>
                  </a:cubicBezTo>
                  <a:cubicBezTo>
                    <a:pt x="4" y="0"/>
                    <a:pt x="7" y="1"/>
                    <a:pt x="4" y="1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2" name="Freeform 189"/>
            <p:cNvSpPr/>
            <p:nvPr/>
          </p:nvSpPr>
          <p:spPr>
            <a:xfrm>
              <a:off x="8721720" y="3768480"/>
              <a:ext cx="650880" cy="1128600"/>
            </a:xfrm>
            <a:custGeom>
              <a:avLst/>
              <a:gdLst/>
              <a:ahLst/>
              <a:rect l="l" t="t" r="r" b="b"/>
              <a:pathLst>
                <a:path w="329" h="570">
                  <a:moveTo>
                    <a:pt x="0" y="0"/>
                  </a:moveTo>
                  <a:cubicBezTo>
                    <a:pt x="0" y="0"/>
                    <a:pt x="165" y="37"/>
                    <a:pt x="226" y="239"/>
                  </a:cubicBezTo>
                  <a:cubicBezTo>
                    <a:pt x="288" y="442"/>
                    <a:pt x="329" y="570"/>
                    <a:pt x="329" y="570"/>
                  </a:cubicBezTo>
                  <a:cubicBezTo>
                    <a:pt x="113" y="570"/>
                    <a:pt x="113" y="570"/>
                    <a:pt x="113" y="570"/>
                  </a:cubicBezTo>
                  <a:cubicBezTo>
                    <a:pt x="113" y="570"/>
                    <a:pt x="160" y="180"/>
                    <a:pt x="0" y="4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190"/>
            <p:cNvSpPr/>
            <p:nvPr/>
          </p:nvSpPr>
          <p:spPr>
            <a:xfrm>
              <a:off x="8721720" y="3806640"/>
              <a:ext cx="528480" cy="1090440"/>
            </a:xfrm>
            <a:custGeom>
              <a:avLst/>
              <a:gdLst/>
              <a:ahLst/>
              <a:rect l="l" t="t" r="r" b="b"/>
              <a:pathLst>
                <a:path w="267" h="551">
                  <a:moveTo>
                    <a:pt x="267" y="551"/>
                  </a:moveTo>
                  <a:cubicBezTo>
                    <a:pt x="239" y="441"/>
                    <a:pt x="238" y="376"/>
                    <a:pt x="206" y="267"/>
                  </a:cubicBezTo>
                  <a:cubicBezTo>
                    <a:pt x="192" y="219"/>
                    <a:pt x="164" y="155"/>
                    <a:pt x="127" y="106"/>
                  </a:cubicBezTo>
                  <a:cubicBezTo>
                    <a:pt x="89" y="57"/>
                    <a:pt x="11" y="9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160" y="161"/>
                    <a:pt x="113" y="551"/>
                    <a:pt x="113" y="551"/>
                  </a:cubicBezTo>
                  <a:lnTo>
                    <a:pt x="267" y="551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Freeform 191"/>
            <p:cNvSpPr/>
            <p:nvPr/>
          </p:nvSpPr>
          <p:spPr>
            <a:xfrm>
              <a:off x="8858160" y="3843360"/>
              <a:ext cx="112680" cy="326880"/>
            </a:xfrm>
            <a:custGeom>
              <a:avLst/>
              <a:gdLst/>
              <a:ahLst/>
              <a:rect l="l" t="t" r="r" b="b"/>
              <a:pathLst>
                <a:path w="57" h="165">
                  <a:moveTo>
                    <a:pt x="57" y="35"/>
                  </a:moveTo>
                  <a:cubicBezTo>
                    <a:pt x="42" y="21"/>
                    <a:pt x="28" y="10"/>
                    <a:pt x="14" y="0"/>
                  </a:cubicBezTo>
                  <a:cubicBezTo>
                    <a:pt x="13" y="35"/>
                    <a:pt x="8" y="69"/>
                    <a:pt x="0" y="103"/>
                  </a:cubicBezTo>
                  <a:cubicBezTo>
                    <a:pt x="9" y="122"/>
                    <a:pt x="16" y="143"/>
                    <a:pt x="22" y="165"/>
                  </a:cubicBezTo>
                  <a:cubicBezTo>
                    <a:pt x="42" y="124"/>
                    <a:pt x="53" y="81"/>
                    <a:pt x="57" y="3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5" name="Freeform 192"/>
            <p:cNvSpPr/>
            <p:nvPr/>
          </p:nvSpPr>
          <p:spPr>
            <a:xfrm>
              <a:off x="8931240" y="3998880"/>
              <a:ext cx="191880" cy="46188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97" y="64"/>
                  </a:moveTo>
                  <a:cubicBezTo>
                    <a:pt x="85" y="39"/>
                    <a:pt x="72" y="18"/>
                    <a:pt x="59" y="0"/>
                  </a:cubicBezTo>
                  <a:cubicBezTo>
                    <a:pt x="49" y="53"/>
                    <a:pt x="30" y="104"/>
                    <a:pt x="0" y="151"/>
                  </a:cubicBezTo>
                  <a:cubicBezTo>
                    <a:pt x="4" y="179"/>
                    <a:pt x="8" y="207"/>
                    <a:pt x="10" y="234"/>
                  </a:cubicBezTo>
                  <a:cubicBezTo>
                    <a:pt x="49" y="182"/>
                    <a:pt x="82" y="125"/>
                    <a:pt x="97" y="6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6" name="Freeform 193"/>
            <p:cNvSpPr/>
            <p:nvPr/>
          </p:nvSpPr>
          <p:spPr>
            <a:xfrm>
              <a:off x="8953560" y="4251240"/>
              <a:ext cx="285480" cy="542880"/>
            </a:xfrm>
            <a:custGeom>
              <a:avLst/>
              <a:gdLst/>
              <a:ahLst/>
              <a:rect l="l" t="t" r="r" b="b"/>
              <a:pathLst>
                <a:path w="145" h="274">
                  <a:moveTo>
                    <a:pt x="0" y="274"/>
                  </a:moveTo>
                  <a:cubicBezTo>
                    <a:pt x="61" y="231"/>
                    <a:pt x="106" y="175"/>
                    <a:pt x="145" y="112"/>
                  </a:cubicBezTo>
                  <a:cubicBezTo>
                    <a:pt x="134" y="78"/>
                    <a:pt x="123" y="40"/>
                    <a:pt x="111" y="0"/>
                  </a:cubicBezTo>
                  <a:cubicBezTo>
                    <a:pt x="85" y="62"/>
                    <a:pt x="46" y="120"/>
                    <a:pt x="2" y="171"/>
                  </a:cubicBezTo>
                  <a:cubicBezTo>
                    <a:pt x="3" y="212"/>
                    <a:pt x="2" y="247"/>
                    <a:pt x="0" y="27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7" name="Freeform 194"/>
            <p:cNvSpPr/>
            <p:nvPr/>
          </p:nvSpPr>
          <p:spPr>
            <a:xfrm>
              <a:off x="8631000" y="3725640"/>
              <a:ext cx="128520" cy="172800"/>
            </a:xfrm>
            <a:custGeom>
              <a:avLst/>
              <a:gdLst/>
              <a:ahLst/>
              <a:rect l="l" t="t" r="r" b="b"/>
              <a:pathLst>
                <a:path w="65" h="88">
                  <a:moveTo>
                    <a:pt x="0" y="77"/>
                  </a:moveTo>
                  <a:cubicBezTo>
                    <a:pt x="9" y="82"/>
                    <a:pt x="46" y="88"/>
                    <a:pt x="55" y="75"/>
                  </a:cubicBezTo>
                  <a:cubicBezTo>
                    <a:pt x="61" y="68"/>
                    <a:pt x="64" y="53"/>
                    <a:pt x="64" y="34"/>
                  </a:cubicBezTo>
                  <a:cubicBezTo>
                    <a:pt x="65" y="0"/>
                    <a:pt x="12" y="0"/>
                    <a:pt x="12" y="0"/>
                  </a:cubicBezTo>
                  <a:lnTo>
                    <a:pt x="0" y="77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8" name="Freeform 195"/>
            <p:cNvSpPr/>
            <p:nvPr/>
          </p:nvSpPr>
          <p:spPr>
            <a:xfrm>
              <a:off x="8891640" y="3552840"/>
              <a:ext cx="237960" cy="215640"/>
            </a:xfrm>
            <a:custGeom>
              <a:avLst/>
              <a:gdLst/>
              <a:ahLst/>
              <a:rect l="l" t="t" r="r" b="b"/>
              <a:pathLst>
                <a:path w="150" h="136">
                  <a:moveTo>
                    <a:pt x="0" y="79"/>
                  </a:moveTo>
                  <a:lnTo>
                    <a:pt x="61" y="0"/>
                  </a:lnTo>
                  <a:lnTo>
                    <a:pt x="140" y="67"/>
                  </a:lnTo>
                  <a:lnTo>
                    <a:pt x="150" y="119"/>
                  </a:lnTo>
                  <a:lnTo>
                    <a:pt x="97" y="136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9" name="Freeform 196"/>
            <p:cNvSpPr/>
            <p:nvPr/>
          </p:nvSpPr>
          <p:spPr>
            <a:xfrm>
              <a:off x="8905680" y="3552840"/>
              <a:ext cx="204480" cy="2095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0" y="75"/>
                  </a:moveTo>
                  <a:lnTo>
                    <a:pt x="52" y="0"/>
                  </a:lnTo>
                  <a:lnTo>
                    <a:pt x="126" y="67"/>
                  </a:lnTo>
                  <a:lnTo>
                    <a:pt x="129" y="107"/>
                  </a:lnTo>
                  <a:lnTo>
                    <a:pt x="87" y="132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0" name="Freeform 197"/>
            <p:cNvSpPr/>
            <p:nvPr/>
          </p:nvSpPr>
          <p:spPr>
            <a:xfrm>
              <a:off x="8912160" y="3558960"/>
              <a:ext cx="187200" cy="191880"/>
            </a:xfrm>
            <a:custGeom>
              <a:avLst/>
              <a:gdLst/>
              <a:ahLst/>
              <a:rect l="l" t="t" r="r" b="b"/>
              <a:pathLst>
                <a:path w="118" h="121">
                  <a:moveTo>
                    <a:pt x="0" y="68"/>
                  </a:moveTo>
                  <a:lnTo>
                    <a:pt x="47" y="0"/>
                  </a:lnTo>
                  <a:lnTo>
                    <a:pt x="114" y="62"/>
                  </a:lnTo>
                  <a:lnTo>
                    <a:pt x="118" y="98"/>
                  </a:lnTo>
                  <a:lnTo>
                    <a:pt x="79" y="121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1" name="Freeform 198"/>
            <p:cNvSpPr/>
            <p:nvPr/>
          </p:nvSpPr>
          <p:spPr>
            <a:xfrm>
              <a:off x="6411600" y="4348080"/>
              <a:ext cx="1120680" cy="206280"/>
            </a:xfrm>
            <a:custGeom>
              <a:avLst/>
              <a:gdLst/>
              <a:ahLst/>
              <a:rect l="l" t="t" r="r" b="b"/>
              <a:pathLst>
                <a:path w="706" h="130">
                  <a:moveTo>
                    <a:pt x="701" y="130"/>
                  </a:moveTo>
                  <a:lnTo>
                    <a:pt x="0" y="99"/>
                  </a:lnTo>
                  <a:lnTo>
                    <a:pt x="3" y="0"/>
                  </a:lnTo>
                  <a:lnTo>
                    <a:pt x="706" y="32"/>
                  </a:lnTo>
                  <a:lnTo>
                    <a:pt x="701" y="130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2" name="Freeform 199"/>
            <p:cNvSpPr/>
            <p:nvPr/>
          </p:nvSpPr>
          <p:spPr>
            <a:xfrm>
              <a:off x="6602400" y="4359240"/>
              <a:ext cx="930240" cy="195120"/>
            </a:xfrm>
            <a:custGeom>
              <a:avLst/>
              <a:gdLst/>
              <a:ahLst/>
              <a:rect l="l" t="t" r="r" b="b"/>
              <a:pathLst>
                <a:path w="470" h="99">
                  <a:moveTo>
                    <a:pt x="0" y="0"/>
                  </a:moveTo>
                  <a:cubicBezTo>
                    <a:pt x="14" y="5"/>
                    <a:pt x="27" y="9"/>
                    <a:pt x="40" y="13"/>
                  </a:cubicBezTo>
                  <a:cubicBezTo>
                    <a:pt x="41" y="13"/>
                    <a:pt x="42" y="13"/>
                    <a:pt x="42" y="13"/>
                  </a:cubicBezTo>
                  <a:cubicBezTo>
                    <a:pt x="154" y="32"/>
                    <a:pt x="154" y="32"/>
                    <a:pt x="154" y="32"/>
                  </a:cubicBezTo>
                  <a:cubicBezTo>
                    <a:pt x="364" y="63"/>
                    <a:pt x="364" y="63"/>
                    <a:pt x="364" y="63"/>
                  </a:cubicBezTo>
                  <a:cubicBezTo>
                    <a:pt x="364" y="63"/>
                    <a:pt x="109" y="73"/>
                    <a:pt x="108" y="75"/>
                  </a:cubicBezTo>
                  <a:cubicBezTo>
                    <a:pt x="466" y="99"/>
                    <a:pt x="466" y="99"/>
                    <a:pt x="466" y="99"/>
                  </a:cubicBezTo>
                  <a:cubicBezTo>
                    <a:pt x="470" y="20"/>
                    <a:pt x="470" y="20"/>
                    <a:pt x="470" y="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429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3" name="Freeform 200"/>
            <p:cNvSpPr/>
            <p:nvPr/>
          </p:nvSpPr>
          <p:spPr>
            <a:xfrm>
              <a:off x="6856200" y="4284720"/>
              <a:ext cx="1104840" cy="299880"/>
            </a:xfrm>
            <a:custGeom>
              <a:avLst/>
              <a:gdLst/>
              <a:ahLst/>
              <a:rect l="l" t="t" r="r" b="b"/>
              <a:pathLst>
                <a:path w="696" h="189">
                  <a:moveTo>
                    <a:pt x="686" y="189"/>
                  </a:moveTo>
                  <a:lnTo>
                    <a:pt x="0" y="50"/>
                  </a:lnTo>
                  <a:lnTo>
                    <a:pt x="10" y="0"/>
                  </a:lnTo>
                  <a:lnTo>
                    <a:pt x="696" y="138"/>
                  </a:lnTo>
                  <a:lnTo>
                    <a:pt x="686" y="189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4" name="Freeform 201"/>
            <p:cNvSpPr/>
            <p:nvPr/>
          </p:nvSpPr>
          <p:spPr>
            <a:xfrm>
              <a:off x="6856200" y="4284720"/>
              <a:ext cx="1104840" cy="29988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8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54" y="51"/>
                    <a:pt x="54" y="51"/>
                    <a:pt x="54" y="51"/>
                  </a:cubicBezTo>
                  <a:cubicBezTo>
                    <a:pt x="56" y="46"/>
                    <a:pt x="61" y="43"/>
                    <a:pt x="68" y="42"/>
                  </a:cubicBezTo>
                  <a:cubicBezTo>
                    <a:pt x="149" y="28"/>
                    <a:pt x="225" y="54"/>
                    <a:pt x="301" y="81"/>
                  </a:cubicBezTo>
                  <a:cubicBezTo>
                    <a:pt x="312" y="85"/>
                    <a:pt x="317" y="94"/>
                    <a:pt x="317" y="104"/>
                  </a:cubicBezTo>
                  <a:cubicBezTo>
                    <a:pt x="551" y="151"/>
                    <a:pt x="551" y="151"/>
                    <a:pt x="551" y="151"/>
                  </a:cubicBezTo>
                  <a:cubicBezTo>
                    <a:pt x="559" y="110"/>
                    <a:pt x="559" y="110"/>
                    <a:pt x="559" y="11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rgbClr val="59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5" name="Freeform 202"/>
            <p:cNvSpPr/>
            <p:nvPr/>
          </p:nvSpPr>
          <p:spPr>
            <a:xfrm>
              <a:off x="8664480" y="4441680"/>
              <a:ext cx="477720" cy="215640"/>
            </a:xfrm>
            <a:custGeom>
              <a:avLst/>
              <a:gdLst/>
              <a:ahLst/>
              <a:rect l="l" t="t" r="r" b="b"/>
              <a:pathLst>
                <a:path w="242" h="109">
                  <a:moveTo>
                    <a:pt x="0" y="14"/>
                  </a:moveTo>
                  <a:cubicBezTo>
                    <a:pt x="0" y="14"/>
                    <a:pt x="102" y="0"/>
                    <a:pt x="172" y="39"/>
                  </a:cubicBezTo>
                  <a:cubicBezTo>
                    <a:pt x="242" y="77"/>
                    <a:pt x="195" y="88"/>
                    <a:pt x="195" y="88"/>
                  </a:cubicBezTo>
                  <a:cubicBezTo>
                    <a:pt x="195" y="88"/>
                    <a:pt x="141" y="109"/>
                    <a:pt x="10" y="94"/>
                  </a:cubicBezTo>
                  <a:lnTo>
                    <a:pt x="0" y="14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6" name="Freeform 203"/>
            <p:cNvSpPr/>
            <p:nvPr/>
          </p:nvSpPr>
          <p:spPr>
            <a:xfrm>
              <a:off x="8664480" y="4465440"/>
              <a:ext cx="473040" cy="191880"/>
            </a:xfrm>
            <a:custGeom>
              <a:avLst/>
              <a:gdLst/>
              <a:ahLst/>
              <a:rect l="l" t="t" r="r" b="b"/>
              <a:pathLst>
                <a:path w="239" h="97">
                  <a:moveTo>
                    <a:pt x="178" y="30"/>
                  </a:moveTo>
                  <a:cubicBezTo>
                    <a:pt x="178" y="30"/>
                    <a:pt x="178" y="31"/>
                    <a:pt x="178" y="31"/>
                  </a:cubicBezTo>
                  <a:cubicBezTo>
                    <a:pt x="137" y="49"/>
                    <a:pt x="54" y="64"/>
                    <a:pt x="42" y="0"/>
                  </a:cubicBezTo>
                  <a:cubicBezTo>
                    <a:pt x="17" y="0"/>
                    <a:pt x="0" y="2"/>
                    <a:pt x="0" y="2"/>
                  </a:cubicBezTo>
                  <a:cubicBezTo>
                    <a:pt x="10" y="82"/>
                    <a:pt x="10" y="82"/>
                    <a:pt x="10" y="82"/>
                  </a:cubicBezTo>
                  <a:cubicBezTo>
                    <a:pt x="141" y="97"/>
                    <a:pt x="195" y="76"/>
                    <a:pt x="195" y="76"/>
                  </a:cubicBezTo>
                  <a:cubicBezTo>
                    <a:pt x="195" y="76"/>
                    <a:pt x="239" y="66"/>
                    <a:pt x="178" y="3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7" name="Freeform 204"/>
            <p:cNvSpPr/>
            <p:nvPr/>
          </p:nvSpPr>
          <p:spPr>
            <a:xfrm>
              <a:off x="7494480" y="4336920"/>
              <a:ext cx="1185840" cy="299880"/>
            </a:xfrm>
            <a:custGeom>
              <a:avLst/>
              <a:gdLst/>
              <a:ahLst/>
              <a:rect l="l" t="t" r="r" b="b"/>
              <a:pathLst>
                <a:path w="599" h="152">
                  <a:moveTo>
                    <a:pt x="581" y="41"/>
                  </a:moveTo>
                  <a:cubicBezTo>
                    <a:pt x="451" y="0"/>
                    <a:pt x="223" y="17"/>
                    <a:pt x="103" y="28"/>
                  </a:cubicBezTo>
                  <a:cubicBezTo>
                    <a:pt x="32" y="49"/>
                    <a:pt x="0" y="129"/>
                    <a:pt x="88" y="152"/>
                  </a:cubicBezTo>
                  <a:cubicBezTo>
                    <a:pt x="589" y="149"/>
                    <a:pt x="589" y="149"/>
                    <a:pt x="589" y="149"/>
                  </a:cubicBezTo>
                  <a:cubicBezTo>
                    <a:pt x="599" y="44"/>
                    <a:pt x="581" y="41"/>
                    <a:pt x="581" y="4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8" name="Freeform 206"/>
            <p:cNvSpPr/>
            <p:nvPr/>
          </p:nvSpPr>
          <p:spPr>
            <a:xfrm>
              <a:off x="7570800" y="4540320"/>
              <a:ext cx="1095120" cy="96840"/>
            </a:xfrm>
            <a:custGeom>
              <a:avLst/>
              <a:gdLst/>
              <a:ahLst/>
              <a:rect l="l" t="t" r="r" b="b"/>
              <a:pathLst>
                <a:path w="554" h="49">
                  <a:moveTo>
                    <a:pt x="543" y="7"/>
                  </a:moveTo>
                  <a:cubicBezTo>
                    <a:pt x="499" y="20"/>
                    <a:pt x="451" y="18"/>
                    <a:pt x="406" y="26"/>
                  </a:cubicBezTo>
                  <a:cubicBezTo>
                    <a:pt x="362" y="32"/>
                    <a:pt x="319" y="37"/>
                    <a:pt x="276" y="39"/>
                  </a:cubicBezTo>
                  <a:cubicBezTo>
                    <a:pt x="183" y="42"/>
                    <a:pt x="91" y="30"/>
                    <a:pt x="0" y="13"/>
                  </a:cubicBezTo>
                  <a:cubicBezTo>
                    <a:pt x="6" y="28"/>
                    <a:pt x="22" y="41"/>
                    <a:pt x="50" y="49"/>
                  </a:cubicBezTo>
                  <a:cubicBezTo>
                    <a:pt x="551" y="46"/>
                    <a:pt x="551" y="46"/>
                    <a:pt x="551" y="46"/>
                  </a:cubicBezTo>
                  <a:cubicBezTo>
                    <a:pt x="552" y="28"/>
                    <a:pt x="553" y="13"/>
                    <a:pt x="554" y="0"/>
                  </a:cubicBezTo>
                  <a:cubicBezTo>
                    <a:pt x="551" y="3"/>
                    <a:pt x="547" y="6"/>
                    <a:pt x="543" y="7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9" name="Freeform 207"/>
            <p:cNvSpPr/>
            <p:nvPr/>
          </p:nvSpPr>
          <p:spPr>
            <a:xfrm>
              <a:off x="7689600" y="4336920"/>
              <a:ext cx="973080" cy="129960"/>
            </a:xfrm>
            <a:custGeom>
              <a:avLst/>
              <a:gdLst/>
              <a:ahLst/>
              <a:rect l="l" t="t" r="r" b="b"/>
              <a:pathLst>
                <a:path w="492" h="66">
                  <a:moveTo>
                    <a:pt x="483" y="41"/>
                  </a:moveTo>
                  <a:cubicBezTo>
                    <a:pt x="353" y="0"/>
                    <a:pt x="125" y="17"/>
                    <a:pt x="5" y="28"/>
                  </a:cubicBezTo>
                  <a:cubicBezTo>
                    <a:pt x="4" y="40"/>
                    <a:pt x="2" y="52"/>
                    <a:pt x="0" y="64"/>
                  </a:cubicBezTo>
                  <a:cubicBezTo>
                    <a:pt x="4" y="64"/>
                    <a:pt x="8" y="63"/>
                    <a:pt x="12" y="63"/>
                  </a:cubicBezTo>
                  <a:cubicBezTo>
                    <a:pt x="30" y="60"/>
                    <a:pt x="48" y="58"/>
                    <a:pt x="66" y="54"/>
                  </a:cubicBezTo>
                  <a:cubicBezTo>
                    <a:pt x="101" y="48"/>
                    <a:pt x="137" y="40"/>
                    <a:pt x="172" y="37"/>
                  </a:cubicBezTo>
                  <a:cubicBezTo>
                    <a:pt x="279" y="25"/>
                    <a:pt x="388" y="50"/>
                    <a:pt x="492" y="66"/>
                  </a:cubicBezTo>
                  <a:cubicBezTo>
                    <a:pt x="489" y="43"/>
                    <a:pt x="483" y="41"/>
                    <a:pt x="483" y="4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0" name="Freeform 208"/>
            <p:cNvSpPr/>
            <p:nvPr/>
          </p:nvSpPr>
          <p:spPr>
            <a:xfrm>
              <a:off x="8593200" y="4421160"/>
              <a:ext cx="115560" cy="21888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54" y="0"/>
                  </a:moveTo>
                  <a:cubicBezTo>
                    <a:pt x="56" y="6"/>
                    <a:pt x="57" y="14"/>
                    <a:pt x="57" y="25"/>
                  </a:cubicBezTo>
                  <a:cubicBezTo>
                    <a:pt x="55" y="57"/>
                    <a:pt x="59" y="93"/>
                    <a:pt x="52" y="110"/>
                  </a:cubicBezTo>
                  <a:cubicBezTo>
                    <a:pt x="51" y="110"/>
                    <a:pt x="50" y="110"/>
                    <a:pt x="49" y="109"/>
                  </a:cubicBezTo>
                  <a:cubicBezTo>
                    <a:pt x="37" y="106"/>
                    <a:pt x="26" y="102"/>
                    <a:pt x="13" y="101"/>
                  </a:cubicBezTo>
                  <a:cubicBezTo>
                    <a:pt x="10" y="101"/>
                    <a:pt x="7" y="101"/>
                    <a:pt x="3" y="101"/>
                  </a:cubicBezTo>
                  <a:cubicBezTo>
                    <a:pt x="7" y="80"/>
                    <a:pt x="13" y="28"/>
                    <a:pt x="0" y="1"/>
                  </a:cubicBezTo>
                  <a:cubicBezTo>
                    <a:pt x="6" y="1"/>
                    <a:pt x="23" y="2"/>
                    <a:pt x="29" y="2"/>
                  </a:cubicBezTo>
                  <a:cubicBezTo>
                    <a:pt x="35" y="2"/>
                    <a:pt x="40" y="1"/>
                    <a:pt x="45" y="1"/>
                  </a:cubicBezTo>
                  <a:cubicBezTo>
                    <a:pt x="47" y="1"/>
                    <a:pt x="59" y="2"/>
                    <a:pt x="52" y="0"/>
                  </a:cubicBezTo>
                  <a:cubicBezTo>
                    <a:pt x="53" y="0"/>
                    <a:pt x="53" y="0"/>
                    <a:pt x="54" y="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1" name="Freeform 209"/>
            <p:cNvSpPr/>
            <p:nvPr/>
          </p:nvSpPr>
          <p:spPr>
            <a:xfrm>
              <a:off x="8615160" y="4395600"/>
              <a:ext cx="122040" cy="284040"/>
            </a:xfrm>
            <a:custGeom>
              <a:avLst/>
              <a:gdLst/>
              <a:ahLst/>
              <a:rect l="l" t="t" r="r" b="b"/>
              <a:pathLst>
                <a:path w="62" h="143">
                  <a:moveTo>
                    <a:pt x="9" y="7"/>
                  </a:moveTo>
                  <a:cubicBezTo>
                    <a:pt x="9" y="7"/>
                    <a:pt x="11" y="0"/>
                    <a:pt x="25" y="1"/>
                  </a:cubicBezTo>
                  <a:cubicBezTo>
                    <a:pt x="33" y="2"/>
                    <a:pt x="50" y="7"/>
                    <a:pt x="51" y="13"/>
                  </a:cubicBezTo>
                  <a:cubicBezTo>
                    <a:pt x="53" y="19"/>
                    <a:pt x="57" y="29"/>
                    <a:pt x="56" y="45"/>
                  </a:cubicBezTo>
                  <a:cubicBezTo>
                    <a:pt x="54" y="90"/>
                    <a:pt x="62" y="143"/>
                    <a:pt x="37" y="140"/>
                  </a:cubicBezTo>
                  <a:cubicBezTo>
                    <a:pt x="11" y="137"/>
                    <a:pt x="0" y="131"/>
                    <a:pt x="0" y="131"/>
                  </a:cubicBezTo>
                  <a:cubicBezTo>
                    <a:pt x="0" y="131"/>
                    <a:pt x="20" y="46"/>
                    <a:pt x="9" y="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2" name="Freeform 210">
              <a:hlinkClick r:id="rId12"/>
            </p:cNvPr>
            <p:cNvSpPr/>
            <p:nvPr/>
          </p:nvSpPr>
          <p:spPr>
            <a:xfrm>
              <a:off x="8923320" y="3444840"/>
              <a:ext cx="1288800" cy="1235160"/>
            </a:xfrm>
            <a:custGeom>
              <a:avLst/>
              <a:gdLst/>
              <a:ahLst/>
              <a:rect l="l" t="t" r="r" b="b"/>
              <a:pathLst>
                <a:path w="652" h="624">
                  <a:moveTo>
                    <a:pt x="328" y="480"/>
                  </a:moveTo>
                  <a:cubicBezTo>
                    <a:pt x="103" y="480"/>
                    <a:pt x="103" y="480"/>
                    <a:pt x="103" y="480"/>
                  </a:cubicBezTo>
                  <a:cubicBezTo>
                    <a:pt x="103" y="480"/>
                    <a:pt x="19" y="480"/>
                    <a:pt x="16" y="365"/>
                  </a:cubicBezTo>
                  <a:cubicBezTo>
                    <a:pt x="13" y="249"/>
                    <a:pt x="16" y="128"/>
                    <a:pt x="16" y="128"/>
                  </a:cubicBezTo>
                  <a:cubicBezTo>
                    <a:pt x="16" y="128"/>
                    <a:pt x="0" y="15"/>
                    <a:pt x="122" y="15"/>
                  </a:cubicBezTo>
                  <a:cubicBezTo>
                    <a:pt x="244" y="15"/>
                    <a:pt x="559" y="15"/>
                    <a:pt x="559" y="15"/>
                  </a:cubicBezTo>
                  <a:cubicBezTo>
                    <a:pt x="559" y="15"/>
                    <a:pt x="652" y="0"/>
                    <a:pt x="643" y="143"/>
                  </a:cubicBezTo>
                  <a:cubicBezTo>
                    <a:pt x="634" y="287"/>
                    <a:pt x="618" y="377"/>
                    <a:pt x="618" y="377"/>
                  </a:cubicBezTo>
                  <a:cubicBezTo>
                    <a:pt x="618" y="377"/>
                    <a:pt x="606" y="480"/>
                    <a:pt x="378" y="480"/>
                  </a:cubicBezTo>
                  <a:cubicBezTo>
                    <a:pt x="384" y="624"/>
                    <a:pt x="384" y="624"/>
                    <a:pt x="384" y="624"/>
                  </a:cubicBezTo>
                  <a:cubicBezTo>
                    <a:pt x="329" y="624"/>
                    <a:pt x="329" y="624"/>
                    <a:pt x="329" y="624"/>
                  </a:cubicBezTo>
                  <a:lnTo>
                    <a:pt x="328" y="48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3" name="Freeform 211"/>
            <p:cNvSpPr/>
            <p:nvPr/>
          </p:nvSpPr>
          <p:spPr>
            <a:xfrm>
              <a:off x="8932680" y="3487680"/>
              <a:ext cx="1217520" cy="1191960"/>
            </a:xfrm>
            <a:custGeom>
              <a:avLst/>
              <a:gdLst/>
              <a:ahLst/>
              <a:rect l="l" t="t" r="r" b="b"/>
              <a:pathLst>
                <a:path w="615" h="602">
                  <a:moveTo>
                    <a:pt x="436" y="389"/>
                  </a:moveTo>
                  <a:cubicBezTo>
                    <a:pt x="350" y="398"/>
                    <a:pt x="251" y="390"/>
                    <a:pt x="178" y="338"/>
                  </a:cubicBezTo>
                  <a:cubicBezTo>
                    <a:pt x="127" y="301"/>
                    <a:pt x="78" y="244"/>
                    <a:pt x="67" y="180"/>
                  </a:cubicBezTo>
                  <a:cubicBezTo>
                    <a:pt x="58" y="129"/>
                    <a:pt x="61" y="85"/>
                    <a:pt x="64" y="34"/>
                  </a:cubicBezTo>
                  <a:cubicBezTo>
                    <a:pt x="65" y="22"/>
                    <a:pt x="67" y="11"/>
                    <a:pt x="70" y="0"/>
                  </a:cubicBezTo>
                  <a:cubicBezTo>
                    <a:pt x="0" y="25"/>
                    <a:pt x="11" y="106"/>
                    <a:pt x="11" y="106"/>
                  </a:cubicBezTo>
                  <a:cubicBezTo>
                    <a:pt x="11" y="106"/>
                    <a:pt x="8" y="227"/>
                    <a:pt x="11" y="343"/>
                  </a:cubicBezTo>
                  <a:cubicBezTo>
                    <a:pt x="14" y="458"/>
                    <a:pt x="98" y="458"/>
                    <a:pt x="98" y="458"/>
                  </a:cubicBezTo>
                  <a:cubicBezTo>
                    <a:pt x="323" y="458"/>
                    <a:pt x="323" y="458"/>
                    <a:pt x="323" y="458"/>
                  </a:cubicBezTo>
                  <a:cubicBezTo>
                    <a:pt x="324" y="602"/>
                    <a:pt x="324" y="602"/>
                    <a:pt x="324" y="602"/>
                  </a:cubicBezTo>
                  <a:cubicBezTo>
                    <a:pt x="348" y="602"/>
                    <a:pt x="348" y="602"/>
                    <a:pt x="348" y="602"/>
                  </a:cubicBezTo>
                  <a:cubicBezTo>
                    <a:pt x="352" y="560"/>
                    <a:pt x="350" y="517"/>
                    <a:pt x="350" y="475"/>
                  </a:cubicBezTo>
                  <a:cubicBezTo>
                    <a:pt x="350" y="465"/>
                    <a:pt x="365" y="460"/>
                    <a:pt x="373" y="461"/>
                  </a:cubicBezTo>
                  <a:cubicBezTo>
                    <a:pt x="373" y="458"/>
                    <a:pt x="373" y="458"/>
                    <a:pt x="373" y="458"/>
                  </a:cubicBezTo>
                  <a:cubicBezTo>
                    <a:pt x="601" y="458"/>
                    <a:pt x="613" y="355"/>
                    <a:pt x="613" y="355"/>
                  </a:cubicBezTo>
                  <a:cubicBezTo>
                    <a:pt x="613" y="355"/>
                    <a:pt x="614" y="351"/>
                    <a:pt x="615" y="343"/>
                  </a:cubicBezTo>
                  <a:cubicBezTo>
                    <a:pt x="560" y="370"/>
                    <a:pt x="498" y="383"/>
                    <a:pt x="436" y="389"/>
                  </a:cubicBezTo>
                  <a:close/>
                </a:path>
              </a:pathLst>
            </a:cu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4" name="Freeform 212"/>
            <p:cNvSpPr/>
            <p:nvPr/>
          </p:nvSpPr>
          <p:spPr>
            <a:xfrm>
              <a:off x="8945640" y="3519360"/>
              <a:ext cx="615960" cy="874440"/>
            </a:xfrm>
            <a:custGeom>
              <a:avLst/>
              <a:gdLst/>
              <a:ahLst/>
              <a:rect l="l" t="t" r="r" b="b"/>
              <a:pathLst>
                <a:path w="312" h="442">
                  <a:moveTo>
                    <a:pt x="312" y="440"/>
                  </a:moveTo>
                  <a:cubicBezTo>
                    <a:pt x="292" y="438"/>
                    <a:pt x="270" y="437"/>
                    <a:pt x="251" y="430"/>
                  </a:cubicBezTo>
                  <a:cubicBezTo>
                    <a:pt x="168" y="428"/>
                    <a:pt x="53" y="415"/>
                    <a:pt x="31" y="325"/>
                  </a:cubicBezTo>
                  <a:cubicBezTo>
                    <a:pt x="20" y="277"/>
                    <a:pt x="29" y="224"/>
                    <a:pt x="28" y="176"/>
                  </a:cubicBezTo>
                  <a:cubicBezTo>
                    <a:pt x="28" y="134"/>
                    <a:pt x="35" y="91"/>
                    <a:pt x="33" y="49"/>
                  </a:cubicBezTo>
                  <a:cubicBezTo>
                    <a:pt x="32" y="31"/>
                    <a:pt x="32" y="17"/>
                    <a:pt x="36" y="0"/>
                  </a:cubicBezTo>
                  <a:cubicBezTo>
                    <a:pt x="12" y="22"/>
                    <a:pt x="0" y="57"/>
                    <a:pt x="5" y="90"/>
                  </a:cubicBezTo>
                  <a:cubicBezTo>
                    <a:pt x="5" y="90"/>
                    <a:pt x="2" y="211"/>
                    <a:pt x="5" y="327"/>
                  </a:cubicBezTo>
                  <a:cubicBezTo>
                    <a:pt x="8" y="442"/>
                    <a:pt x="92" y="442"/>
                    <a:pt x="92" y="442"/>
                  </a:cubicBezTo>
                  <a:cubicBezTo>
                    <a:pt x="312" y="442"/>
                    <a:pt x="312" y="442"/>
                    <a:pt x="312" y="442"/>
                  </a:cubicBezTo>
                  <a:cubicBezTo>
                    <a:pt x="312" y="441"/>
                    <a:pt x="312" y="440"/>
                    <a:pt x="312" y="440"/>
                  </a:cubicBezTo>
                  <a:close/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5" name="Freeform 213">
              <a:hlinkClick r:id="rId13"/>
            </p:cNvPr>
            <p:cNvSpPr/>
            <p:nvPr/>
          </p:nvSpPr>
          <p:spPr>
            <a:xfrm>
              <a:off x="6557760" y="4734000"/>
              <a:ext cx="3629160" cy="1312920"/>
            </a:xfrm>
            <a:custGeom>
              <a:avLst/>
              <a:gdLst/>
              <a:ahLst/>
              <a:rect l="l" t="t" r="r" b="b"/>
              <a:pathLst>
                <a:path w="2286" h="827">
                  <a:moveTo>
                    <a:pt x="0" y="0"/>
                  </a:moveTo>
                  <a:lnTo>
                    <a:pt x="259" y="827"/>
                  </a:lnTo>
                  <a:lnTo>
                    <a:pt x="2084" y="827"/>
                  </a:lnTo>
                  <a:lnTo>
                    <a:pt x="22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2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6" name="Freeform 214"/>
            <p:cNvSpPr/>
            <p:nvPr/>
          </p:nvSpPr>
          <p:spPr>
            <a:xfrm>
              <a:off x="6557760" y="4734000"/>
              <a:ext cx="3629160" cy="276120"/>
            </a:xfrm>
            <a:custGeom>
              <a:avLst/>
              <a:gdLst/>
              <a:ahLst/>
              <a:rect l="l" t="t" r="r" b="b"/>
              <a:pathLst>
                <a:path w="1835" h="139">
                  <a:moveTo>
                    <a:pt x="88" y="106"/>
                  </a:moveTo>
                  <a:cubicBezTo>
                    <a:pt x="400" y="111"/>
                    <a:pt x="712" y="128"/>
                    <a:pt x="1025" y="131"/>
                  </a:cubicBezTo>
                  <a:cubicBezTo>
                    <a:pt x="1175" y="133"/>
                    <a:pt x="1325" y="139"/>
                    <a:pt x="1475" y="133"/>
                  </a:cubicBezTo>
                  <a:cubicBezTo>
                    <a:pt x="1513" y="132"/>
                    <a:pt x="1551" y="130"/>
                    <a:pt x="1589" y="127"/>
                  </a:cubicBezTo>
                  <a:cubicBezTo>
                    <a:pt x="1607" y="125"/>
                    <a:pt x="1626" y="124"/>
                    <a:pt x="1645" y="122"/>
                  </a:cubicBezTo>
                  <a:cubicBezTo>
                    <a:pt x="1650" y="121"/>
                    <a:pt x="1678" y="117"/>
                    <a:pt x="1678" y="117"/>
                  </a:cubicBezTo>
                  <a:cubicBezTo>
                    <a:pt x="1723" y="111"/>
                    <a:pt x="1768" y="102"/>
                    <a:pt x="1813" y="92"/>
                  </a:cubicBezTo>
                  <a:cubicBezTo>
                    <a:pt x="1835" y="0"/>
                    <a:pt x="1835" y="0"/>
                    <a:pt x="183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52" y="109"/>
                    <a:pt x="70" y="106"/>
                    <a:pt x="88" y="106"/>
                  </a:cubicBez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7" name="Freeform 215"/>
            <p:cNvSpPr/>
            <p:nvPr/>
          </p:nvSpPr>
          <p:spPr>
            <a:xfrm>
              <a:off x="6813360" y="5548320"/>
              <a:ext cx="3162240" cy="498240"/>
            </a:xfrm>
            <a:custGeom>
              <a:avLst/>
              <a:gdLst/>
              <a:ahLst/>
              <a:rect l="l" t="t" r="r" b="b"/>
              <a:pathLst>
                <a:path w="1599" h="252">
                  <a:moveTo>
                    <a:pt x="1568" y="40"/>
                  </a:moveTo>
                  <a:cubicBezTo>
                    <a:pt x="1564" y="42"/>
                    <a:pt x="1559" y="44"/>
                    <a:pt x="1555" y="46"/>
                  </a:cubicBezTo>
                  <a:cubicBezTo>
                    <a:pt x="1545" y="51"/>
                    <a:pt x="1535" y="57"/>
                    <a:pt x="1525" y="63"/>
                  </a:cubicBezTo>
                  <a:cubicBezTo>
                    <a:pt x="1508" y="74"/>
                    <a:pt x="1489" y="80"/>
                    <a:pt x="1470" y="81"/>
                  </a:cubicBezTo>
                  <a:cubicBezTo>
                    <a:pt x="1338" y="118"/>
                    <a:pt x="1211" y="163"/>
                    <a:pt x="1074" y="174"/>
                  </a:cubicBezTo>
                  <a:cubicBezTo>
                    <a:pt x="943" y="185"/>
                    <a:pt x="813" y="176"/>
                    <a:pt x="682" y="177"/>
                  </a:cubicBezTo>
                  <a:cubicBezTo>
                    <a:pt x="577" y="178"/>
                    <a:pt x="472" y="182"/>
                    <a:pt x="368" y="168"/>
                  </a:cubicBezTo>
                  <a:cubicBezTo>
                    <a:pt x="240" y="151"/>
                    <a:pt x="125" y="113"/>
                    <a:pt x="24" y="29"/>
                  </a:cubicBezTo>
                  <a:cubicBezTo>
                    <a:pt x="14" y="21"/>
                    <a:pt x="6" y="11"/>
                    <a:pt x="0" y="0"/>
                  </a:cubicBezTo>
                  <a:cubicBezTo>
                    <a:pt x="79" y="252"/>
                    <a:pt x="79" y="252"/>
                    <a:pt x="79" y="252"/>
                  </a:cubicBezTo>
                  <a:cubicBezTo>
                    <a:pt x="1544" y="252"/>
                    <a:pt x="1544" y="252"/>
                    <a:pt x="1544" y="252"/>
                  </a:cubicBezTo>
                  <a:cubicBezTo>
                    <a:pt x="1599" y="27"/>
                    <a:pt x="1599" y="27"/>
                    <a:pt x="1599" y="27"/>
                  </a:cubicBezTo>
                  <a:cubicBezTo>
                    <a:pt x="1589" y="31"/>
                    <a:pt x="1578" y="36"/>
                    <a:pt x="1568" y="40"/>
                  </a:cubicBez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Rectangle 216"/>
            <p:cNvSpPr/>
            <p:nvPr/>
          </p:nvSpPr>
          <p:spPr>
            <a:xfrm>
              <a:off x="6294240" y="4624200"/>
              <a:ext cx="4122720" cy="220680"/>
            </a:xfrm>
            <a:prstGeom prst="rect">
              <a:avLst/>
            </a:prstGeom>
            <a:solidFill>
              <a:srgbClr val="422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217"/>
            <p:cNvSpPr/>
            <p:nvPr/>
          </p:nvSpPr>
          <p:spPr>
            <a:xfrm>
              <a:off x="6294240" y="4624200"/>
              <a:ext cx="468000" cy="220680"/>
            </a:xfrm>
            <a:custGeom>
              <a:avLst/>
              <a:gdLst/>
              <a:ahLst/>
              <a:rect l="l" t="t" r="r" b="b"/>
              <a:pathLst>
                <a:path w="237" h="112">
                  <a:moveTo>
                    <a:pt x="83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237" y="112"/>
                    <a:pt x="237" y="112"/>
                    <a:pt x="237" y="112"/>
                  </a:cubicBezTo>
                  <a:cubicBezTo>
                    <a:pt x="177" y="89"/>
                    <a:pt x="124" y="50"/>
                    <a:pt x="83" y="0"/>
                  </a:cubicBez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218"/>
            <p:cNvSpPr/>
            <p:nvPr/>
          </p:nvSpPr>
          <p:spPr>
            <a:xfrm>
              <a:off x="10047240" y="4624200"/>
              <a:ext cx="369720" cy="220680"/>
            </a:xfrm>
            <a:custGeom>
              <a:avLst/>
              <a:gdLst/>
              <a:ahLst/>
              <a:rect l="l" t="t" r="r" b="b"/>
              <a:pathLst>
                <a:path w="187" h="112">
                  <a:moveTo>
                    <a:pt x="76" y="0"/>
                  </a:moveTo>
                  <a:cubicBezTo>
                    <a:pt x="70" y="14"/>
                    <a:pt x="64" y="27"/>
                    <a:pt x="56" y="41"/>
                  </a:cubicBezTo>
                  <a:cubicBezTo>
                    <a:pt x="40" y="68"/>
                    <a:pt x="21" y="92"/>
                    <a:pt x="0" y="112"/>
                  </a:cubicBezTo>
                  <a:cubicBezTo>
                    <a:pt x="187" y="112"/>
                    <a:pt x="187" y="112"/>
                    <a:pt x="187" y="112"/>
                  </a:cubicBezTo>
                  <a:cubicBezTo>
                    <a:pt x="187" y="0"/>
                    <a:pt x="187" y="0"/>
                    <a:pt x="187" y="0"/>
                  </a:cubicBezTo>
                  <a:lnTo>
                    <a:pt x="76" y="0"/>
                  </a:lnTo>
                  <a:close/>
                </a:path>
              </a:pathLst>
            </a:custGeom>
            <a:solidFill>
              <a:srgbClr val="35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219"/>
            <p:cNvSpPr/>
            <p:nvPr/>
          </p:nvSpPr>
          <p:spPr>
            <a:xfrm>
              <a:off x="7277040" y="5791320"/>
              <a:ext cx="896760" cy="401400"/>
            </a:xfrm>
            <a:custGeom>
              <a:avLst/>
              <a:gdLst/>
              <a:ahLst/>
              <a:rect l="l" t="t" r="r" b="b"/>
              <a:pathLst>
                <a:path w="453" h="203">
                  <a:moveTo>
                    <a:pt x="0" y="57"/>
                  </a:moveTo>
                  <a:cubicBezTo>
                    <a:pt x="0" y="57"/>
                    <a:pt x="131" y="58"/>
                    <a:pt x="206" y="0"/>
                  </a:cubicBezTo>
                  <a:cubicBezTo>
                    <a:pt x="206" y="0"/>
                    <a:pt x="315" y="90"/>
                    <a:pt x="453" y="42"/>
                  </a:cubicBezTo>
                  <a:cubicBezTo>
                    <a:pt x="325" y="185"/>
                    <a:pt x="325" y="185"/>
                    <a:pt x="325" y="185"/>
                  </a:cubicBezTo>
                  <a:cubicBezTo>
                    <a:pt x="325" y="185"/>
                    <a:pt x="141" y="203"/>
                    <a:pt x="0" y="57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220"/>
            <p:cNvSpPr/>
            <p:nvPr/>
          </p:nvSpPr>
          <p:spPr>
            <a:xfrm>
              <a:off x="7277040" y="5902200"/>
              <a:ext cx="795240" cy="290520"/>
            </a:xfrm>
            <a:custGeom>
              <a:avLst/>
              <a:gdLst/>
              <a:ahLst/>
              <a:rect l="l" t="t" r="r" b="b"/>
              <a:pathLst>
                <a:path w="402" h="147">
                  <a:moveTo>
                    <a:pt x="16" y="1"/>
                  </a:moveTo>
                  <a:cubicBezTo>
                    <a:pt x="16" y="1"/>
                    <a:pt x="16" y="0"/>
                    <a:pt x="15" y="0"/>
                  </a:cubicBezTo>
                  <a:cubicBezTo>
                    <a:pt x="6" y="1"/>
                    <a:pt x="0" y="1"/>
                    <a:pt x="0" y="1"/>
                  </a:cubicBezTo>
                  <a:cubicBezTo>
                    <a:pt x="141" y="147"/>
                    <a:pt x="325" y="129"/>
                    <a:pt x="325" y="129"/>
                  </a:cubicBezTo>
                  <a:cubicBezTo>
                    <a:pt x="402" y="42"/>
                    <a:pt x="402" y="42"/>
                    <a:pt x="402" y="42"/>
                  </a:cubicBezTo>
                  <a:cubicBezTo>
                    <a:pt x="271" y="119"/>
                    <a:pt x="71" y="21"/>
                    <a:pt x="16" y="1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221"/>
            <p:cNvSpPr/>
            <p:nvPr/>
          </p:nvSpPr>
          <p:spPr>
            <a:xfrm>
              <a:off x="6821280" y="5041800"/>
              <a:ext cx="114120" cy="18864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8" y="96"/>
                  </a:moveTo>
                  <a:cubicBezTo>
                    <a:pt x="35" y="39"/>
                    <a:pt x="54" y="17"/>
                    <a:pt x="54" y="17"/>
                  </a:cubicBezTo>
                  <a:cubicBezTo>
                    <a:pt x="54" y="17"/>
                    <a:pt x="0" y="0"/>
                    <a:pt x="3" y="19"/>
                  </a:cubicBezTo>
                  <a:cubicBezTo>
                    <a:pt x="5" y="39"/>
                    <a:pt x="12" y="96"/>
                    <a:pt x="12" y="96"/>
                  </a:cubicBezTo>
                  <a:cubicBezTo>
                    <a:pt x="12" y="96"/>
                    <a:pt x="33" y="95"/>
                    <a:pt x="58" y="96"/>
                  </a:cubicBez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222"/>
            <p:cNvSpPr/>
            <p:nvPr/>
          </p:nvSpPr>
          <p:spPr>
            <a:xfrm>
              <a:off x="6762600" y="5068800"/>
              <a:ext cx="473040" cy="618840"/>
            </a:xfrm>
            <a:custGeom>
              <a:avLst/>
              <a:gdLst/>
              <a:ahLst/>
              <a:rect l="l" t="t" r="r" b="b"/>
              <a:pathLst>
                <a:path w="239" h="313">
                  <a:moveTo>
                    <a:pt x="173" y="86"/>
                  </a:moveTo>
                  <a:cubicBezTo>
                    <a:pt x="173" y="86"/>
                    <a:pt x="93" y="211"/>
                    <a:pt x="239" y="301"/>
                  </a:cubicBezTo>
                  <a:cubicBezTo>
                    <a:pt x="239" y="301"/>
                    <a:pt x="109" y="313"/>
                    <a:pt x="74" y="248"/>
                  </a:cubicBezTo>
                  <a:cubicBezTo>
                    <a:pt x="39" y="183"/>
                    <a:pt x="0" y="59"/>
                    <a:pt x="32" y="0"/>
                  </a:cubicBezTo>
                  <a:cubicBezTo>
                    <a:pt x="32" y="0"/>
                    <a:pt x="81" y="64"/>
                    <a:pt x="173" y="86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223"/>
            <p:cNvSpPr/>
            <p:nvPr/>
          </p:nvSpPr>
          <p:spPr>
            <a:xfrm>
              <a:off x="6762600" y="5068800"/>
              <a:ext cx="450720" cy="600120"/>
            </a:xfrm>
            <a:custGeom>
              <a:avLst/>
              <a:gdLst/>
              <a:ahLst/>
              <a:rect l="l" t="t" r="r" b="b"/>
              <a:pathLst>
                <a:path w="228" h="303">
                  <a:moveTo>
                    <a:pt x="135" y="215"/>
                  </a:moveTo>
                  <a:cubicBezTo>
                    <a:pt x="94" y="154"/>
                    <a:pt x="48" y="90"/>
                    <a:pt x="37" y="17"/>
                  </a:cubicBezTo>
                  <a:cubicBezTo>
                    <a:pt x="36" y="13"/>
                    <a:pt x="36" y="9"/>
                    <a:pt x="36" y="5"/>
                  </a:cubicBezTo>
                  <a:cubicBezTo>
                    <a:pt x="34" y="2"/>
                    <a:pt x="32" y="0"/>
                    <a:pt x="32" y="0"/>
                  </a:cubicBezTo>
                  <a:cubicBezTo>
                    <a:pt x="0" y="59"/>
                    <a:pt x="39" y="183"/>
                    <a:pt x="74" y="248"/>
                  </a:cubicBezTo>
                  <a:cubicBezTo>
                    <a:pt x="103" y="301"/>
                    <a:pt x="196" y="303"/>
                    <a:pt x="228" y="301"/>
                  </a:cubicBezTo>
                  <a:cubicBezTo>
                    <a:pt x="192" y="279"/>
                    <a:pt x="160" y="252"/>
                    <a:pt x="135" y="215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224"/>
            <p:cNvSpPr/>
            <p:nvPr/>
          </p:nvSpPr>
          <p:spPr>
            <a:xfrm>
              <a:off x="6616440" y="3006360"/>
              <a:ext cx="2063520" cy="1446120"/>
            </a:xfrm>
            <a:custGeom>
              <a:avLst/>
              <a:gdLst/>
              <a:ahLst/>
              <a:rect l="l" t="t" r="r" b="b"/>
              <a:pathLst>
                <a:path w="1043" h="731">
                  <a:moveTo>
                    <a:pt x="449" y="658"/>
                  </a:moveTo>
                  <a:cubicBezTo>
                    <a:pt x="449" y="658"/>
                    <a:pt x="693" y="722"/>
                    <a:pt x="774" y="727"/>
                  </a:cubicBezTo>
                  <a:cubicBezTo>
                    <a:pt x="854" y="731"/>
                    <a:pt x="865" y="720"/>
                    <a:pt x="887" y="679"/>
                  </a:cubicBezTo>
                  <a:cubicBezTo>
                    <a:pt x="908" y="638"/>
                    <a:pt x="948" y="496"/>
                    <a:pt x="966" y="479"/>
                  </a:cubicBezTo>
                  <a:cubicBezTo>
                    <a:pt x="985" y="461"/>
                    <a:pt x="1036" y="429"/>
                    <a:pt x="1040" y="398"/>
                  </a:cubicBezTo>
                  <a:cubicBezTo>
                    <a:pt x="1043" y="367"/>
                    <a:pt x="1017" y="346"/>
                    <a:pt x="1017" y="327"/>
                  </a:cubicBezTo>
                  <a:cubicBezTo>
                    <a:pt x="1017" y="308"/>
                    <a:pt x="1023" y="197"/>
                    <a:pt x="1021" y="172"/>
                  </a:cubicBezTo>
                  <a:cubicBezTo>
                    <a:pt x="1019" y="147"/>
                    <a:pt x="1002" y="125"/>
                    <a:pt x="948" y="109"/>
                  </a:cubicBezTo>
                  <a:cubicBezTo>
                    <a:pt x="894" y="93"/>
                    <a:pt x="677" y="18"/>
                    <a:pt x="565" y="13"/>
                  </a:cubicBezTo>
                  <a:cubicBezTo>
                    <a:pt x="453" y="8"/>
                    <a:pt x="360" y="0"/>
                    <a:pt x="302" y="56"/>
                  </a:cubicBezTo>
                  <a:cubicBezTo>
                    <a:pt x="276" y="72"/>
                    <a:pt x="0" y="541"/>
                    <a:pt x="449" y="65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225"/>
            <p:cNvSpPr/>
            <p:nvPr/>
          </p:nvSpPr>
          <p:spPr>
            <a:xfrm>
              <a:off x="7877160" y="2874600"/>
              <a:ext cx="426960" cy="301320"/>
            </a:xfrm>
            <a:custGeom>
              <a:avLst/>
              <a:gdLst/>
              <a:ahLst/>
              <a:rect l="l" t="t" r="r" b="b"/>
              <a:pathLst>
                <a:path w="216" h="153">
                  <a:moveTo>
                    <a:pt x="188" y="153"/>
                  </a:moveTo>
                  <a:cubicBezTo>
                    <a:pt x="216" y="41"/>
                    <a:pt x="88" y="0"/>
                    <a:pt x="44" y="43"/>
                  </a:cubicBezTo>
                  <a:cubicBezTo>
                    <a:pt x="0" y="86"/>
                    <a:pt x="55" y="138"/>
                    <a:pt x="55" y="138"/>
                  </a:cubicBezTo>
                  <a:lnTo>
                    <a:pt x="188" y="153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226"/>
            <p:cNvSpPr/>
            <p:nvPr/>
          </p:nvSpPr>
          <p:spPr>
            <a:xfrm>
              <a:off x="7542000" y="4271760"/>
              <a:ext cx="372960" cy="317520"/>
            </a:xfrm>
            <a:custGeom>
              <a:avLst/>
              <a:gdLst/>
              <a:ahLst/>
              <a:rect l="l" t="t" r="r" b="b"/>
              <a:pathLst>
                <a:path w="188" h="161">
                  <a:moveTo>
                    <a:pt x="188" y="57"/>
                  </a:moveTo>
                  <a:cubicBezTo>
                    <a:pt x="188" y="57"/>
                    <a:pt x="184" y="105"/>
                    <a:pt x="138" y="133"/>
                  </a:cubicBezTo>
                  <a:cubicBezTo>
                    <a:pt x="93" y="161"/>
                    <a:pt x="0" y="129"/>
                    <a:pt x="13" y="65"/>
                  </a:cubicBezTo>
                  <a:cubicBezTo>
                    <a:pt x="27" y="0"/>
                    <a:pt x="97" y="24"/>
                    <a:pt x="97" y="24"/>
                  </a:cubicBezTo>
                  <a:lnTo>
                    <a:pt x="188" y="5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227">
              <a:hlinkClick r:id="rId14"/>
            </p:cNvPr>
            <p:cNvSpPr/>
            <p:nvPr/>
          </p:nvSpPr>
          <p:spPr>
            <a:xfrm>
              <a:off x="6561000" y="3008160"/>
              <a:ext cx="2058840" cy="1431720"/>
            </a:xfrm>
            <a:custGeom>
              <a:avLst/>
              <a:gdLst/>
              <a:ahLst/>
              <a:rect l="l" t="t" r="r" b="b"/>
              <a:pathLst>
                <a:path w="1041" h="723">
                  <a:moveTo>
                    <a:pt x="449" y="634"/>
                  </a:moveTo>
                  <a:cubicBezTo>
                    <a:pt x="449" y="634"/>
                    <a:pt x="590" y="683"/>
                    <a:pt x="694" y="703"/>
                  </a:cubicBezTo>
                  <a:cubicBezTo>
                    <a:pt x="725" y="709"/>
                    <a:pt x="763" y="716"/>
                    <a:pt x="781" y="718"/>
                  </a:cubicBezTo>
                  <a:cubicBezTo>
                    <a:pt x="861" y="723"/>
                    <a:pt x="865" y="698"/>
                    <a:pt x="886" y="659"/>
                  </a:cubicBezTo>
                  <a:cubicBezTo>
                    <a:pt x="892" y="648"/>
                    <a:pt x="931" y="556"/>
                    <a:pt x="968" y="501"/>
                  </a:cubicBezTo>
                  <a:cubicBezTo>
                    <a:pt x="993" y="464"/>
                    <a:pt x="1021" y="440"/>
                    <a:pt x="1032" y="397"/>
                  </a:cubicBezTo>
                  <a:cubicBezTo>
                    <a:pt x="1041" y="363"/>
                    <a:pt x="1024" y="360"/>
                    <a:pt x="1023" y="328"/>
                  </a:cubicBezTo>
                  <a:cubicBezTo>
                    <a:pt x="1021" y="248"/>
                    <a:pt x="1015" y="182"/>
                    <a:pt x="1014" y="173"/>
                  </a:cubicBezTo>
                  <a:cubicBezTo>
                    <a:pt x="1012" y="149"/>
                    <a:pt x="995" y="128"/>
                    <a:pt x="941" y="112"/>
                  </a:cubicBezTo>
                  <a:cubicBezTo>
                    <a:pt x="887" y="96"/>
                    <a:pt x="667" y="32"/>
                    <a:pt x="555" y="26"/>
                  </a:cubicBezTo>
                  <a:cubicBezTo>
                    <a:pt x="443" y="20"/>
                    <a:pt x="354" y="0"/>
                    <a:pt x="296" y="54"/>
                  </a:cubicBezTo>
                  <a:cubicBezTo>
                    <a:pt x="271" y="68"/>
                    <a:pt x="0" y="517"/>
                    <a:pt x="449" y="634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228"/>
            <p:cNvSpPr/>
            <p:nvPr/>
          </p:nvSpPr>
          <p:spPr>
            <a:xfrm>
              <a:off x="6638760" y="3047760"/>
              <a:ext cx="858600" cy="1155600"/>
            </a:xfrm>
            <a:custGeom>
              <a:avLst/>
              <a:gdLst/>
              <a:ahLst/>
              <a:rect l="l" t="t" r="r" b="b"/>
              <a:pathLst>
                <a:path w="434" h="584">
                  <a:moveTo>
                    <a:pt x="401" y="432"/>
                  </a:moveTo>
                  <a:cubicBezTo>
                    <a:pt x="414" y="371"/>
                    <a:pt x="422" y="319"/>
                    <a:pt x="427" y="254"/>
                  </a:cubicBezTo>
                  <a:cubicBezTo>
                    <a:pt x="434" y="165"/>
                    <a:pt x="397" y="88"/>
                    <a:pt x="380" y="8"/>
                  </a:cubicBezTo>
                  <a:cubicBezTo>
                    <a:pt x="320" y="5"/>
                    <a:pt x="293" y="0"/>
                    <a:pt x="257" y="34"/>
                  </a:cubicBezTo>
                  <a:cubicBezTo>
                    <a:pt x="234" y="47"/>
                    <a:pt x="0" y="434"/>
                    <a:pt x="323" y="584"/>
                  </a:cubicBezTo>
                  <a:cubicBezTo>
                    <a:pt x="337" y="562"/>
                    <a:pt x="350" y="540"/>
                    <a:pt x="362" y="518"/>
                  </a:cubicBezTo>
                  <a:cubicBezTo>
                    <a:pt x="370" y="490"/>
                    <a:pt x="395" y="461"/>
                    <a:pt x="401" y="43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229"/>
            <p:cNvSpPr/>
            <p:nvPr/>
          </p:nvSpPr>
          <p:spPr>
            <a:xfrm>
              <a:off x="6987960" y="4047840"/>
              <a:ext cx="1035000" cy="388800"/>
            </a:xfrm>
            <a:custGeom>
              <a:avLst/>
              <a:gdLst/>
              <a:ahLst/>
              <a:rect l="l" t="t" r="r" b="b"/>
              <a:pathLst>
                <a:path w="523" h="197">
                  <a:moveTo>
                    <a:pt x="0" y="121"/>
                  </a:moveTo>
                  <a:cubicBezTo>
                    <a:pt x="0" y="121"/>
                    <a:pt x="211" y="188"/>
                    <a:pt x="292" y="197"/>
                  </a:cubicBezTo>
                  <a:cubicBezTo>
                    <a:pt x="293" y="197"/>
                    <a:pt x="283" y="123"/>
                    <a:pt x="370" y="134"/>
                  </a:cubicBezTo>
                  <a:cubicBezTo>
                    <a:pt x="458" y="146"/>
                    <a:pt x="502" y="153"/>
                    <a:pt x="502" y="153"/>
                  </a:cubicBezTo>
                  <a:cubicBezTo>
                    <a:pt x="502" y="153"/>
                    <a:pt x="511" y="153"/>
                    <a:pt x="517" y="132"/>
                  </a:cubicBezTo>
                  <a:cubicBezTo>
                    <a:pt x="523" y="111"/>
                    <a:pt x="513" y="107"/>
                    <a:pt x="513" y="107"/>
                  </a:cubicBezTo>
                  <a:cubicBezTo>
                    <a:pt x="78" y="0"/>
                    <a:pt x="78" y="0"/>
                    <a:pt x="78" y="0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230"/>
            <p:cNvSpPr/>
            <p:nvPr/>
          </p:nvSpPr>
          <p:spPr>
            <a:xfrm>
              <a:off x="7494480" y="4319640"/>
              <a:ext cx="139680" cy="117360"/>
            </a:xfrm>
            <a:custGeom>
              <a:avLst/>
              <a:gdLst/>
              <a:ahLst/>
              <a:rect l="l" t="t" r="r" b="b"/>
              <a:pathLst>
                <a:path w="70" h="60">
                  <a:moveTo>
                    <a:pt x="70" y="0"/>
                  </a:moveTo>
                  <a:cubicBezTo>
                    <a:pt x="70" y="0"/>
                    <a:pt x="69" y="0"/>
                    <a:pt x="68" y="0"/>
                  </a:cubicBezTo>
                  <a:cubicBezTo>
                    <a:pt x="67" y="0"/>
                    <a:pt x="67" y="0"/>
                    <a:pt x="66" y="0"/>
                  </a:cubicBezTo>
                  <a:cubicBezTo>
                    <a:pt x="47" y="0"/>
                    <a:pt x="28" y="3"/>
                    <a:pt x="10" y="10"/>
                  </a:cubicBezTo>
                  <a:cubicBezTo>
                    <a:pt x="7" y="24"/>
                    <a:pt x="4" y="39"/>
                    <a:pt x="0" y="54"/>
                  </a:cubicBezTo>
                  <a:cubicBezTo>
                    <a:pt x="14" y="57"/>
                    <a:pt x="26" y="59"/>
                    <a:pt x="36" y="60"/>
                  </a:cubicBezTo>
                  <a:cubicBezTo>
                    <a:pt x="37" y="60"/>
                    <a:pt x="31" y="14"/>
                    <a:pt x="70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231"/>
            <p:cNvSpPr/>
            <p:nvPr/>
          </p:nvSpPr>
          <p:spPr>
            <a:xfrm>
              <a:off x="7026120" y="4059000"/>
              <a:ext cx="296640" cy="27612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0" y="123"/>
                  </a:moveTo>
                  <a:cubicBezTo>
                    <a:pt x="63" y="139"/>
                    <a:pt x="63" y="139"/>
                    <a:pt x="63" y="139"/>
                  </a:cubicBezTo>
                  <a:cubicBezTo>
                    <a:pt x="63" y="139"/>
                    <a:pt x="133" y="85"/>
                    <a:pt x="150" y="16"/>
                  </a:cubicBezTo>
                  <a:cubicBezTo>
                    <a:pt x="96" y="0"/>
                    <a:pt x="96" y="0"/>
                    <a:pt x="96" y="0"/>
                  </a:cubicBezTo>
                  <a:lnTo>
                    <a:pt x="0" y="123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Freeform 232">
              <a:hlinkClick r:id="rId15"/>
            </p:cNvPr>
            <p:cNvSpPr/>
            <p:nvPr/>
          </p:nvSpPr>
          <p:spPr>
            <a:xfrm>
              <a:off x="6610320" y="2676240"/>
              <a:ext cx="1698480" cy="1728720"/>
            </a:xfrm>
            <a:custGeom>
              <a:avLst/>
              <a:gdLst/>
              <a:ahLst/>
              <a:rect l="l" t="t" r="r" b="b"/>
              <a:pathLst>
                <a:path w="858" h="874">
                  <a:moveTo>
                    <a:pt x="12" y="656"/>
                  </a:moveTo>
                  <a:cubicBezTo>
                    <a:pt x="12" y="656"/>
                    <a:pt x="110" y="659"/>
                    <a:pt x="124" y="538"/>
                  </a:cubicBezTo>
                  <a:cubicBezTo>
                    <a:pt x="137" y="416"/>
                    <a:pt x="71" y="359"/>
                    <a:pt x="99" y="264"/>
                  </a:cubicBezTo>
                  <a:cubicBezTo>
                    <a:pt x="127" y="170"/>
                    <a:pt x="207" y="118"/>
                    <a:pt x="267" y="132"/>
                  </a:cubicBezTo>
                  <a:cubicBezTo>
                    <a:pt x="267" y="132"/>
                    <a:pt x="260" y="20"/>
                    <a:pt x="367" y="8"/>
                  </a:cubicBezTo>
                  <a:cubicBezTo>
                    <a:pt x="433" y="0"/>
                    <a:pt x="523" y="60"/>
                    <a:pt x="684" y="143"/>
                  </a:cubicBezTo>
                  <a:cubicBezTo>
                    <a:pt x="684" y="143"/>
                    <a:pt x="649" y="170"/>
                    <a:pt x="678" y="217"/>
                  </a:cubicBezTo>
                  <a:cubicBezTo>
                    <a:pt x="696" y="245"/>
                    <a:pt x="848" y="271"/>
                    <a:pt x="848" y="271"/>
                  </a:cubicBezTo>
                  <a:cubicBezTo>
                    <a:pt x="848" y="271"/>
                    <a:pt x="858" y="278"/>
                    <a:pt x="852" y="304"/>
                  </a:cubicBezTo>
                  <a:cubicBezTo>
                    <a:pt x="846" y="330"/>
                    <a:pt x="833" y="328"/>
                    <a:pt x="833" y="328"/>
                  </a:cubicBezTo>
                  <a:cubicBezTo>
                    <a:pt x="833" y="328"/>
                    <a:pt x="658" y="286"/>
                    <a:pt x="514" y="248"/>
                  </a:cubicBezTo>
                  <a:cubicBezTo>
                    <a:pt x="453" y="232"/>
                    <a:pt x="405" y="236"/>
                    <a:pt x="385" y="241"/>
                  </a:cubicBezTo>
                  <a:cubicBezTo>
                    <a:pt x="385" y="241"/>
                    <a:pt x="471" y="453"/>
                    <a:pt x="369" y="664"/>
                  </a:cubicBezTo>
                  <a:cubicBezTo>
                    <a:pt x="266" y="874"/>
                    <a:pt x="122" y="862"/>
                    <a:pt x="19" y="850"/>
                  </a:cubicBezTo>
                  <a:cubicBezTo>
                    <a:pt x="19" y="850"/>
                    <a:pt x="58" y="823"/>
                    <a:pt x="91" y="774"/>
                  </a:cubicBezTo>
                  <a:cubicBezTo>
                    <a:pt x="91" y="774"/>
                    <a:pt x="22" y="777"/>
                    <a:pt x="0" y="730"/>
                  </a:cubicBezTo>
                  <a:cubicBezTo>
                    <a:pt x="0" y="730"/>
                    <a:pt x="48" y="733"/>
                    <a:pt x="75" y="707"/>
                  </a:cubicBezTo>
                  <a:cubicBezTo>
                    <a:pt x="75" y="707"/>
                    <a:pt x="33" y="714"/>
                    <a:pt x="12" y="656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Freeform 233"/>
            <p:cNvSpPr/>
            <p:nvPr/>
          </p:nvSpPr>
          <p:spPr>
            <a:xfrm>
              <a:off x="7853400" y="2908080"/>
              <a:ext cx="126720" cy="226800"/>
            </a:xfrm>
            <a:custGeom>
              <a:avLst/>
              <a:gdLst/>
              <a:ahLst/>
              <a:rect l="l" t="t" r="r" b="b"/>
              <a:pathLst>
                <a:path w="64" h="115">
                  <a:moveTo>
                    <a:pt x="0" y="60"/>
                  </a:moveTo>
                  <a:cubicBezTo>
                    <a:pt x="27" y="91"/>
                    <a:pt x="58" y="115"/>
                    <a:pt x="63" y="112"/>
                  </a:cubicBezTo>
                  <a:cubicBezTo>
                    <a:pt x="64" y="112"/>
                    <a:pt x="64" y="111"/>
                    <a:pt x="64" y="111"/>
                  </a:cubicBezTo>
                  <a:cubicBezTo>
                    <a:pt x="57" y="108"/>
                    <a:pt x="53" y="104"/>
                    <a:pt x="50" y="100"/>
                  </a:cubicBezTo>
                  <a:cubicBezTo>
                    <a:pt x="21" y="53"/>
                    <a:pt x="56" y="26"/>
                    <a:pt x="56" y="26"/>
                  </a:cubicBezTo>
                  <a:cubicBezTo>
                    <a:pt x="51" y="23"/>
                    <a:pt x="46" y="21"/>
                    <a:pt x="42" y="19"/>
                  </a:cubicBezTo>
                  <a:cubicBezTo>
                    <a:pt x="40" y="17"/>
                    <a:pt x="38" y="16"/>
                    <a:pt x="36" y="15"/>
                  </a:cubicBezTo>
                  <a:cubicBezTo>
                    <a:pt x="33" y="14"/>
                    <a:pt x="31" y="13"/>
                    <a:pt x="29" y="12"/>
                  </a:cubicBezTo>
                  <a:cubicBezTo>
                    <a:pt x="26" y="10"/>
                    <a:pt x="22" y="9"/>
                    <a:pt x="19" y="7"/>
                  </a:cubicBezTo>
                  <a:cubicBezTo>
                    <a:pt x="18" y="6"/>
                    <a:pt x="18" y="6"/>
                    <a:pt x="17" y="5"/>
                  </a:cubicBezTo>
                  <a:cubicBezTo>
                    <a:pt x="13" y="4"/>
                    <a:pt x="9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19"/>
                    <a:pt x="0" y="39"/>
                    <a:pt x="0" y="6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Freeform 234"/>
            <p:cNvSpPr/>
            <p:nvPr/>
          </p:nvSpPr>
          <p:spPr>
            <a:xfrm>
              <a:off x="7400880" y="3960720"/>
              <a:ext cx="147600" cy="1983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45" y="0"/>
                  </a:moveTo>
                  <a:cubicBezTo>
                    <a:pt x="45" y="0"/>
                    <a:pt x="6" y="8"/>
                    <a:pt x="3" y="37"/>
                  </a:cubicBezTo>
                  <a:cubicBezTo>
                    <a:pt x="0" y="66"/>
                    <a:pt x="42" y="90"/>
                    <a:pt x="42" y="90"/>
                  </a:cubicBezTo>
                  <a:cubicBezTo>
                    <a:pt x="75" y="100"/>
                    <a:pt x="75" y="100"/>
                    <a:pt x="75" y="100"/>
                  </a:cubicBezTo>
                  <a:cubicBezTo>
                    <a:pt x="75" y="100"/>
                    <a:pt x="29" y="49"/>
                    <a:pt x="45" y="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235"/>
            <p:cNvSpPr/>
            <p:nvPr/>
          </p:nvSpPr>
          <p:spPr>
            <a:xfrm>
              <a:off x="7605720" y="3236760"/>
              <a:ext cx="191880" cy="15228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41"/>
                  </a:moveTo>
                  <a:cubicBezTo>
                    <a:pt x="0" y="41"/>
                    <a:pt x="18" y="73"/>
                    <a:pt x="41" y="77"/>
                  </a:cubicBezTo>
                  <a:cubicBezTo>
                    <a:pt x="41" y="77"/>
                    <a:pt x="47" y="34"/>
                    <a:pt x="97" y="25"/>
                  </a:cubicBezTo>
                  <a:cubicBezTo>
                    <a:pt x="97" y="25"/>
                    <a:pt x="94" y="0"/>
                    <a:pt x="76" y="0"/>
                  </a:cubicBezTo>
                  <a:cubicBezTo>
                    <a:pt x="58" y="1"/>
                    <a:pt x="9" y="8"/>
                    <a:pt x="0" y="41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Freeform 236"/>
            <p:cNvSpPr/>
            <p:nvPr/>
          </p:nvSpPr>
          <p:spPr>
            <a:xfrm>
              <a:off x="7835760" y="3278160"/>
              <a:ext cx="114120" cy="223560"/>
            </a:xfrm>
            <a:custGeom>
              <a:avLst/>
              <a:gdLst/>
              <a:ahLst/>
              <a:rect l="l" t="t" r="r" b="b"/>
              <a:pathLst>
                <a:path w="72" h="141">
                  <a:moveTo>
                    <a:pt x="36" y="141"/>
                  </a:moveTo>
                  <a:lnTo>
                    <a:pt x="0" y="135"/>
                  </a:lnTo>
                  <a:lnTo>
                    <a:pt x="23" y="0"/>
                  </a:lnTo>
                  <a:lnTo>
                    <a:pt x="72" y="9"/>
                  </a:lnTo>
                  <a:lnTo>
                    <a:pt x="36" y="141"/>
                  </a:ln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237"/>
            <p:cNvSpPr/>
            <p:nvPr/>
          </p:nvSpPr>
          <p:spPr>
            <a:xfrm>
              <a:off x="8094600" y="2935080"/>
              <a:ext cx="161640" cy="236520"/>
            </a:xfrm>
            <a:custGeom>
              <a:avLst/>
              <a:gdLst/>
              <a:ahLst/>
              <a:rect l="l" t="t" r="r" b="b"/>
              <a:pathLst>
                <a:path w="82" h="119">
                  <a:moveTo>
                    <a:pt x="82" y="108"/>
                  </a:moveTo>
                  <a:cubicBezTo>
                    <a:pt x="71" y="119"/>
                    <a:pt x="71" y="119"/>
                    <a:pt x="71" y="119"/>
                  </a:cubicBezTo>
                  <a:cubicBezTo>
                    <a:pt x="71" y="119"/>
                    <a:pt x="63" y="20"/>
                    <a:pt x="0" y="4"/>
                  </a:cubicBezTo>
                  <a:cubicBezTo>
                    <a:pt x="0" y="4"/>
                    <a:pt x="75" y="0"/>
                    <a:pt x="82" y="10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238"/>
            <p:cNvSpPr/>
            <p:nvPr/>
          </p:nvSpPr>
          <p:spPr>
            <a:xfrm>
              <a:off x="7638840" y="4322520"/>
              <a:ext cx="196560" cy="19044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99" y="39"/>
                  </a:moveTo>
                  <a:cubicBezTo>
                    <a:pt x="99" y="39"/>
                    <a:pt x="0" y="0"/>
                    <a:pt x="6" y="58"/>
                  </a:cubicBezTo>
                  <a:cubicBezTo>
                    <a:pt x="10" y="94"/>
                    <a:pt x="45" y="96"/>
                    <a:pt x="70" y="81"/>
                  </a:cubicBezTo>
                  <a:cubicBezTo>
                    <a:pt x="85" y="71"/>
                    <a:pt x="97" y="54"/>
                    <a:pt x="99" y="3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239"/>
            <p:cNvSpPr/>
            <p:nvPr/>
          </p:nvSpPr>
          <p:spPr>
            <a:xfrm>
              <a:off x="7646760" y="4384440"/>
              <a:ext cx="185400" cy="11880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94" y="8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0" y="60"/>
                    <a:pt x="43" y="58"/>
                  </a:cubicBezTo>
                  <a:cubicBezTo>
                    <a:pt x="85" y="56"/>
                    <a:pt x="94" y="8"/>
                    <a:pt x="94" y="8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240"/>
            <p:cNvSpPr/>
            <p:nvPr/>
          </p:nvSpPr>
          <p:spPr>
            <a:xfrm>
              <a:off x="7775640" y="4143240"/>
              <a:ext cx="31680" cy="5220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12" y="1"/>
                  </a:moveTo>
                  <a:cubicBezTo>
                    <a:pt x="15" y="1"/>
                    <a:pt x="16" y="4"/>
                    <a:pt x="15" y="7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10" y="25"/>
                    <a:pt x="7" y="27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2" y="25"/>
                    <a:pt x="0" y="22"/>
                    <a:pt x="1" y="20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7" y="1"/>
                    <a:pt x="9" y="0"/>
                    <a:pt x="12" y="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241"/>
            <p:cNvSpPr/>
            <p:nvPr/>
          </p:nvSpPr>
          <p:spPr>
            <a:xfrm>
              <a:off x="7999200" y="3268440"/>
              <a:ext cx="28440" cy="442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10" y="0"/>
                  </a:moveTo>
                  <a:cubicBezTo>
                    <a:pt x="12" y="1"/>
                    <a:pt x="14" y="3"/>
                    <a:pt x="13" y="5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2"/>
                    <a:pt x="6" y="23"/>
                    <a:pt x="4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2" y="21"/>
                    <a:pt x="0" y="19"/>
                    <a:pt x="1" y="18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1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242"/>
            <p:cNvSpPr/>
            <p:nvPr/>
          </p:nvSpPr>
          <p:spPr>
            <a:xfrm>
              <a:off x="8515440" y="3743280"/>
              <a:ext cx="60120" cy="12672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24" y="2"/>
                  </a:moveTo>
                  <a:cubicBezTo>
                    <a:pt x="30" y="3"/>
                    <a:pt x="30" y="18"/>
                    <a:pt x="25" y="35"/>
                  </a:cubicBezTo>
                  <a:cubicBezTo>
                    <a:pt x="20" y="52"/>
                    <a:pt x="11" y="64"/>
                    <a:pt x="6" y="63"/>
                  </a:cubicBezTo>
                  <a:cubicBezTo>
                    <a:pt x="1" y="61"/>
                    <a:pt x="0" y="46"/>
                    <a:pt x="5" y="29"/>
                  </a:cubicBezTo>
                  <a:cubicBezTo>
                    <a:pt x="10" y="12"/>
                    <a:pt x="19" y="0"/>
                    <a:pt x="24" y="2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243"/>
            <p:cNvSpPr/>
            <p:nvPr/>
          </p:nvSpPr>
          <p:spPr>
            <a:xfrm>
              <a:off x="7211880" y="2754000"/>
              <a:ext cx="406080" cy="30780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95" y="154"/>
                  </a:moveTo>
                  <a:cubicBezTo>
                    <a:pt x="121" y="137"/>
                    <a:pt x="155" y="144"/>
                    <a:pt x="184" y="151"/>
                  </a:cubicBezTo>
                  <a:cubicBezTo>
                    <a:pt x="191" y="152"/>
                    <a:pt x="198" y="154"/>
                    <a:pt x="205" y="156"/>
                  </a:cubicBezTo>
                  <a:cubicBezTo>
                    <a:pt x="192" y="121"/>
                    <a:pt x="132" y="22"/>
                    <a:pt x="101" y="7"/>
                  </a:cubicBezTo>
                  <a:cubicBezTo>
                    <a:pt x="84" y="0"/>
                    <a:pt x="65" y="6"/>
                    <a:pt x="48" y="7"/>
                  </a:cubicBezTo>
                  <a:cubicBezTo>
                    <a:pt x="33" y="8"/>
                    <a:pt x="0" y="30"/>
                    <a:pt x="17" y="78"/>
                  </a:cubicBezTo>
                  <a:cubicBezTo>
                    <a:pt x="31" y="89"/>
                    <a:pt x="48" y="98"/>
                    <a:pt x="62" y="109"/>
                  </a:cubicBezTo>
                  <a:cubicBezTo>
                    <a:pt x="69" y="115"/>
                    <a:pt x="77" y="121"/>
                    <a:pt x="82" y="128"/>
                  </a:cubicBezTo>
                  <a:cubicBezTo>
                    <a:pt x="88" y="136"/>
                    <a:pt x="90" y="146"/>
                    <a:pt x="95" y="154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244"/>
            <p:cNvSpPr/>
            <p:nvPr/>
          </p:nvSpPr>
          <p:spPr>
            <a:xfrm>
              <a:off x="7145280" y="2944440"/>
              <a:ext cx="207720" cy="253800"/>
            </a:xfrm>
            <a:custGeom>
              <a:avLst/>
              <a:gdLst/>
              <a:ahLst/>
              <a:rect l="l" t="t" r="r" b="b"/>
              <a:pathLst>
                <a:path w="105" h="128">
                  <a:moveTo>
                    <a:pt x="12" y="0"/>
                  </a:moveTo>
                  <a:cubicBezTo>
                    <a:pt x="0" y="21"/>
                    <a:pt x="95" y="103"/>
                    <a:pt x="103" y="128"/>
                  </a:cubicBezTo>
                  <a:cubicBezTo>
                    <a:pt x="105" y="81"/>
                    <a:pt x="56" y="21"/>
                    <a:pt x="15" y="3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245"/>
            <p:cNvSpPr/>
            <p:nvPr/>
          </p:nvSpPr>
          <p:spPr>
            <a:xfrm>
              <a:off x="6846840" y="3044520"/>
              <a:ext cx="141120" cy="40932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25" y="207"/>
                  </a:moveTo>
                  <a:cubicBezTo>
                    <a:pt x="20" y="176"/>
                    <a:pt x="4" y="147"/>
                    <a:pt x="1" y="116"/>
                  </a:cubicBezTo>
                  <a:cubicBezTo>
                    <a:pt x="0" y="107"/>
                    <a:pt x="1" y="98"/>
                    <a:pt x="2" y="90"/>
                  </a:cubicBezTo>
                  <a:cubicBezTo>
                    <a:pt x="8" y="64"/>
                    <a:pt x="16" y="45"/>
                    <a:pt x="34" y="27"/>
                  </a:cubicBezTo>
                  <a:cubicBezTo>
                    <a:pt x="43" y="17"/>
                    <a:pt x="59" y="1"/>
                    <a:pt x="72" y="0"/>
                  </a:cubicBezTo>
                  <a:cubicBezTo>
                    <a:pt x="71" y="0"/>
                    <a:pt x="63" y="37"/>
                    <a:pt x="61" y="40"/>
                  </a:cubicBezTo>
                  <a:cubicBezTo>
                    <a:pt x="57" y="54"/>
                    <a:pt x="52" y="67"/>
                    <a:pt x="47" y="80"/>
                  </a:cubicBezTo>
                  <a:cubicBezTo>
                    <a:pt x="37" y="106"/>
                    <a:pt x="28" y="133"/>
                    <a:pt x="25" y="161"/>
                  </a:cubicBezTo>
                  <a:cubicBezTo>
                    <a:pt x="24" y="176"/>
                    <a:pt x="29" y="192"/>
                    <a:pt x="25" y="207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246"/>
            <p:cNvSpPr/>
            <p:nvPr/>
          </p:nvSpPr>
          <p:spPr>
            <a:xfrm>
              <a:off x="6710400" y="4059000"/>
              <a:ext cx="260280" cy="128520"/>
            </a:xfrm>
            <a:custGeom>
              <a:avLst/>
              <a:gdLst/>
              <a:ahLst/>
              <a:rect l="l" t="t" r="r" b="b"/>
              <a:pathLst>
                <a:path w="132" h="65">
                  <a:moveTo>
                    <a:pt x="0" y="62"/>
                  </a:moveTo>
                  <a:cubicBezTo>
                    <a:pt x="8" y="65"/>
                    <a:pt x="20" y="65"/>
                    <a:pt x="28" y="65"/>
                  </a:cubicBezTo>
                  <a:cubicBezTo>
                    <a:pt x="38" y="64"/>
                    <a:pt x="48" y="63"/>
                    <a:pt x="57" y="60"/>
                  </a:cubicBezTo>
                  <a:cubicBezTo>
                    <a:pt x="73" y="55"/>
                    <a:pt x="88" y="48"/>
                    <a:pt x="100" y="36"/>
                  </a:cubicBezTo>
                  <a:cubicBezTo>
                    <a:pt x="111" y="25"/>
                    <a:pt x="126" y="15"/>
                    <a:pt x="132" y="0"/>
                  </a:cubicBezTo>
                  <a:cubicBezTo>
                    <a:pt x="107" y="29"/>
                    <a:pt x="79" y="44"/>
                    <a:pt x="43" y="53"/>
                  </a:cubicBezTo>
                  <a:cubicBezTo>
                    <a:pt x="35" y="54"/>
                    <a:pt x="28" y="54"/>
                    <a:pt x="21" y="55"/>
                  </a:cubicBezTo>
                  <a:cubicBezTo>
                    <a:pt x="14" y="56"/>
                    <a:pt x="5" y="57"/>
                    <a:pt x="0" y="6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247"/>
            <p:cNvSpPr/>
            <p:nvPr/>
          </p:nvSpPr>
          <p:spPr>
            <a:xfrm>
              <a:off x="6730920" y="3929040"/>
              <a:ext cx="199800" cy="120600"/>
            </a:xfrm>
            <a:custGeom>
              <a:avLst/>
              <a:gdLst/>
              <a:ahLst/>
              <a:rect l="l" t="t" r="r" b="b"/>
              <a:pathLst>
                <a:path w="101" h="61">
                  <a:moveTo>
                    <a:pt x="90" y="11"/>
                  </a:moveTo>
                  <a:cubicBezTo>
                    <a:pt x="76" y="23"/>
                    <a:pt x="59" y="36"/>
                    <a:pt x="42" y="42"/>
                  </a:cubicBezTo>
                  <a:cubicBezTo>
                    <a:pt x="26" y="47"/>
                    <a:pt x="13" y="51"/>
                    <a:pt x="0" y="59"/>
                  </a:cubicBezTo>
                  <a:cubicBezTo>
                    <a:pt x="15" y="61"/>
                    <a:pt x="41" y="59"/>
                    <a:pt x="55" y="53"/>
                  </a:cubicBezTo>
                  <a:cubicBezTo>
                    <a:pt x="74" y="45"/>
                    <a:pt x="92" y="20"/>
                    <a:pt x="101" y="0"/>
                  </a:cubicBezTo>
                  <a:cubicBezTo>
                    <a:pt x="101" y="0"/>
                    <a:pt x="100" y="1"/>
                    <a:pt x="100" y="1"/>
                  </a:cubicBezTo>
                  <a:cubicBezTo>
                    <a:pt x="97" y="5"/>
                    <a:pt x="94" y="8"/>
                    <a:pt x="90" y="1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248"/>
            <p:cNvSpPr/>
            <p:nvPr/>
          </p:nvSpPr>
          <p:spPr>
            <a:xfrm>
              <a:off x="7707240" y="3501720"/>
              <a:ext cx="550800" cy="488880"/>
            </a:xfrm>
            <a:custGeom>
              <a:avLst/>
              <a:gdLst/>
              <a:ahLst/>
              <a:rect l="l" t="t" r="r" b="b"/>
              <a:pathLst>
                <a:path w="279" h="247">
                  <a:moveTo>
                    <a:pt x="24" y="151"/>
                  </a:moveTo>
                  <a:cubicBezTo>
                    <a:pt x="24" y="151"/>
                    <a:pt x="143" y="247"/>
                    <a:pt x="211" y="199"/>
                  </a:cubicBezTo>
                  <a:cubicBezTo>
                    <a:pt x="279" y="152"/>
                    <a:pt x="269" y="64"/>
                    <a:pt x="236" y="41"/>
                  </a:cubicBezTo>
                  <a:cubicBezTo>
                    <a:pt x="176" y="0"/>
                    <a:pt x="141" y="51"/>
                    <a:pt x="48" y="38"/>
                  </a:cubicBezTo>
                  <a:cubicBezTo>
                    <a:pt x="48" y="38"/>
                    <a:pt x="20" y="49"/>
                    <a:pt x="10" y="84"/>
                  </a:cubicBezTo>
                  <a:cubicBezTo>
                    <a:pt x="0" y="119"/>
                    <a:pt x="24" y="151"/>
                    <a:pt x="24" y="15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249"/>
            <p:cNvSpPr/>
            <p:nvPr/>
          </p:nvSpPr>
          <p:spPr>
            <a:xfrm>
              <a:off x="7702560" y="3517560"/>
              <a:ext cx="484200" cy="434880"/>
            </a:xfrm>
            <a:custGeom>
              <a:avLst/>
              <a:gdLst/>
              <a:ahLst/>
              <a:rect l="l" t="t" r="r" b="b"/>
              <a:pathLst>
                <a:path w="245" h="220">
                  <a:moveTo>
                    <a:pt x="21" y="136"/>
                  </a:moveTo>
                  <a:cubicBezTo>
                    <a:pt x="21" y="136"/>
                    <a:pt x="122" y="220"/>
                    <a:pt x="184" y="178"/>
                  </a:cubicBezTo>
                  <a:cubicBezTo>
                    <a:pt x="245" y="136"/>
                    <a:pt x="236" y="57"/>
                    <a:pt x="205" y="37"/>
                  </a:cubicBezTo>
                  <a:cubicBezTo>
                    <a:pt x="151" y="0"/>
                    <a:pt x="124" y="46"/>
                    <a:pt x="39" y="33"/>
                  </a:cubicBezTo>
                  <a:cubicBezTo>
                    <a:pt x="39" y="33"/>
                    <a:pt x="17" y="45"/>
                    <a:pt x="9" y="76"/>
                  </a:cubicBezTo>
                  <a:cubicBezTo>
                    <a:pt x="0" y="107"/>
                    <a:pt x="21" y="136"/>
                    <a:pt x="21" y="136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250"/>
            <p:cNvSpPr/>
            <p:nvPr/>
          </p:nvSpPr>
          <p:spPr>
            <a:xfrm>
              <a:off x="8072280" y="3695400"/>
              <a:ext cx="37800" cy="727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4" y="1"/>
                  </a:moveTo>
                  <a:cubicBezTo>
                    <a:pt x="18" y="2"/>
                    <a:pt x="19" y="10"/>
                    <a:pt x="17" y="20"/>
                  </a:cubicBezTo>
                  <a:cubicBezTo>
                    <a:pt x="15" y="30"/>
                    <a:pt x="9" y="37"/>
                    <a:pt x="5" y="36"/>
                  </a:cubicBezTo>
                  <a:cubicBezTo>
                    <a:pt x="1" y="35"/>
                    <a:pt x="0" y="26"/>
                    <a:pt x="2" y="17"/>
                  </a:cubicBezTo>
                  <a:cubicBezTo>
                    <a:pt x="4" y="7"/>
                    <a:pt x="10" y="0"/>
                    <a:pt x="14" y="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251"/>
            <p:cNvSpPr/>
            <p:nvPr/>
          </p:nvSpPr>
          <p:spPr>
            <a:xfrm>
              <a:off x="7959600" y="2965320"/>
              <a:ext cx="220320" cy="176040"/>
            </a:xfrm>
            <a:custGeom>
              <a:avLst/>
              <a:gdLst/>
              <a:ahLst/>
              <a:rect l="l" t="t" r="r" b="b"/>
              <a:pathLst>
                <a:path w="111" h="89">
                  <a:moveTo>
                    <a:pt x="106" y="89"/>
                  </a:moveTo>
                  <a:cubicBezTo>
                    <a:pt x="106" y="89"/>
                    <a:pt x="0" y="79"/>
                    <a:pt x="31" y="30"/>
                  </a:cubicBezTo>
                  <a:cubicBezTo>
                    <a:pt x="51" y="0"/>
                    <a:pt x="83" y="14"/>
                    <a:pt x="99" y="39"/>
                  </a:cubicBezTo>
                  <a:cubicBezTo>
                    <a:pt x="108" y="54"/>
                    <a:pt x="111" y="75"/>
                    <a:pt x="106" y="8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252"/>
            <p:cNvSpPr/>
            <p:nvPr/>
          </p:nvSpPr>
          <p:spPr>
            <a:xfrm>
              <a:off x="8048520" y="2965320"/>
              <a:ext cx="145800" cy="17460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60" y="88"/>
                  </a:moveTo>
                  <a:cubicBezTo>
                    <a:pt x="33" y="84"/>
                    <a:pt x="33" y="84"/>
                    <a:pt x="33" y="84"/>
                  </a:cubicBezTo>
                  <a:cubicBezTo>
                    <a:pt x="33" y="84"/>
                    <a:pt x="0" y="0"/>
                    <a:pt x="37" y="21"/>
                  </a:cubicBezTo>
                  <a:cubicBezTo>
                    <a:pt x="74" y="42"/>
                    <a:pt x="60" y="88"/>
                    <a:pt x="60" y="88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253"/>
            <p:cNvSpPr/>
            <p:nvPr/>
          </p:nvSpPr>
          <p:spPr>
            <a:xfrm>
              <a:off x="7719840" y="3906720"/>
              <a:ext cx="77760" cy="21744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13" y="0"/>
                  </a:moveTo>
                  <a:lnTo>
                    <a:pt x="49" y="0"/>
                  </a:lnTo>
                  <a:lnTo>
                    <a:pt x="49" y="137"/>
                  </a:lnTo>
                  <a:lnTo>
                    <a:pt x="0" y="13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256"/>
            <p:cNvSpPr/>
            <p:nvPr/>
          </p:nvSpPr>
          <p:spPr>
            <a:xfrm>
              <a:off x="6645240" y="4564080"/>
              <a:ext cx="1168200" cy="528480"/>
            </a:xfrm>
            <a:custGeom>
              <a:avLst/>
              <a:gdLst/>
              <a:ahLst/>
              <a:rect l="l" t="t" r="r" b="b"/>
              <a:pathLst>
                <a:path w="591" h="267">
                  <a:moveTo>
                    <a:pt x="353" y="0"/>
                  </a:moveTo>
                  <a:cubicBezTo>
                    <a:pt x="353" y="0"/>
                    <a:pt x="539" y="43"/>
                    <a:pt x="591" y="214"/>
                  </a:cubicBezTo>
                  <a:cubicBezTo>
                    <a:pt x="591" y="214"/>
                    <a:pt x="341" y="243"/>
                    <a:pt x="320" y="267"/>
                  </a:cubicBezTo>
                  <a:cubicBezTo>
                    <a:pt x="320" y="267"/>
                    <a:pt x="279" y="34"/>
                    <a:pt x="0" y="18"/>
                  </a:cubicBezTo>
                  <a:lnTo>
                    <a:pt x="353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257"/>
            <p:cNvSpPr/>
            <p:nvPr/>
          </p:nvSpPr>
          <p:spPr>
            <a:xfrm>
              <a:off x="6645240" y="4579920"/>
              <a:ext cx="1168200" cy="512640"/>
            </a:xfrm>
            <a:custGeom>
              <a:avLst/>
              <a:gdLst/>
              <a:ahLst/>
              <a:rect l="l" t="t" r="r" b="b"/>
              <a:pathLst>
                <a:path w="591" h="259">
                  <a:moveTo>
                    <a:pt x="373" y="176"/>
                  </a:moveTo>
                  <a:cubicBezTo>
                    <a:pt x="288" y="145"/>
                    <a:pt x="247" y="66"/>
                    <a:pt x="193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279" y="26"/>
                    <a:pt x="320" y="259"/>
                    <a:pt x="320" y="259"/>
                  </a:cubicBezTo>
                  <a:cubicBezTo>
                    <a:pt x="341" y="235"/>
                    <a:pt x="591" y="206"/>
                    <a:pt x="591" y="206"/>
                  </a:cubicBezTo>
                  <a:cubicBezTo>
                    <a:pt x="586" y="191"/>
                    <a:pt x="581" y="178"/>
                    <a:pt x="575" y="165"/>
                  </a:cubicBezTo>
                  <a:cubicBezTo>
                    <a:pt x="510" y="191"/>
                    <a:pt x="439" y="200"/>
                    <a:pt x="373" y="176"/>
                  </a:cubicBezTo>
                  <a:close/>
                </a:path>
              </a:pathLst>
            </a:custGeom>
            <a:solidFill>
              <a:srgbClr val="eae8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258"/>
            <p:cNvSpPr/>
            <p:nvPr/>
          </p:nvSpPr>
          <p:spPr>
            <a:xfrm>
              <a:off x="6645240" y="4564080"/>
              <a:ext cx="895320" cy="109440"/>
            </a:xfrm>
            <a:custGeom>
              <a:avLst/>
              <a:gdLst/>
              <a:ahLst/>
              <a:rect l="l" t="t" r="r" b="b"/>
              <a:pathLst>
                <a:path w="453" h="55">
                  <a:moveTo>
                    <a:pt x="350" y="43"/>
                  </a:moveTo>
                  <a:cubicBezTo>
                    <a:pt x="384" y="41"/>
                    <a:pt x="419" y="42"/>
                    <a:pt x="453" y="43"/>
                  </a:cubicBezTo>
                  <a:cubicBezTo>
                    <a:pt x="400" y="11"/>
                    <a:pt x="353" y="0"/>
                    <a:pt x="353" y="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60" y="21"/>
                    <a:pt x="109" y="35"/>
                    <a:pt x="149" y="54"/>
                  </a:cubicBezTo>
                  <a:cubicBezTo>
                    <a:pt x="216" y="55"/>
                    <a:pt x="283" y="47"/>
                    <a:pt x="350" y="43"/>
                  </a:cubicBez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Rectangle 259"/>
            <p:cNvSpPr/>
            <p:nvPr/>
          </p:nvSpPr>
          <p:spPr>
            <a:xfrm>
              <a:off x="6524640" y="4506840"/>
              <a:ext cx="852480" cy="118800"/>
            </a:xfrm>
            <a:prstGeom prst="rect">
              <a:avLst/>
            </a:pr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Rectangle 260"/>
            <p:cNvSpPr/>
            <p:nvPr/>
          </p:nvSpPr>
          <p:spPr>
            <a:xfrm>
              <a:off x="6524640" y="4506840"/>
              <a:ext cx="852480" cy="118800"/>
            </a:xfrm>
            <a:prstGeom prst="rect">
              <a:avLst/>
            </a:pr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261"/>
            <p:cNvSpPr/>
            <p:nvPr/>
          </p:nvSpPr>
          <p:spPr>
            <a:xfrm>
              <a:off x="6524640" y="4521240"/>
              <a:ext cx="852480" cy="104760"/>
            </a:xfrm>
            <a:custGeom>
              <a:avLst/>
              <a:gdLst/>
              <a:ahLst/>
              <a:rect l="l" t="t" r="r" b="b"/>
              <a:pathLst>
                <a:path w="431" h="53">
                  <a:moveTo>
                    <a:pt x="404" y="9"/>
                  </a:moveTo>
                  <a:cubicBezTo>
                    <a:pt x="361" y="18"/>
                    <a:pt x="319" y="24"/>
                    <a:pt x="275" y="27"/>
                  </a:cubicBezTo>
                  <a:cubicBezTo>
                    <a:pt x="228" y="29"/>
                    <a:pt x="180" y="32"/>
                    <a:pt x="133" y="30"/>
                  </a:cubicBezTo>
                  <a:cubicBezTo>
                    <a:pt x="88" y="28"/>
                    <a:pt x="43" y="27"/>
                    <a:pt x="0" y="42"/>
                  </a:cubicBezTo>
                  <a:cubicBezTo>
                    <a:pt x="0" y="53"/>
                    <a:pt x="0" y="53"/>
                    <a:pt x="0" y="53"/>
                  </a:cubicBezTo>
                  <a:cubicBezTo>
                    <a:pt x="431" y="53"/>
                    <a:pt x="431" y="53"/>
                    <a:pt x="431" y="53"/>
                  </a:cubicBezTo>
                  <a:cubicBezTo>
                    <a:pt x="431" y="0"/>
                    <a:pt x="431" y="0"/>
                    <a:pt x="431" y="0"/>
                  </a:cubicBezTo>
                  <a:cubicBezTo>
                    <a:pt x="423" y="4"/>
                    <a:pt x="413" y="7"/>
                    <a:pt x="404" y="9"/>
                  </a:cubicBezTo>
                  <a:close/>
                </a:path>
              </a:pathLst>
            </a:custGeom>
            <a:solidFill>
              <a:srgbClr val="273f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262"/>
            <p:cNvSpPr/>
            <p:nvPr/>
          </p:nvSpPr>
          <p:spPr>
            <a:xfrm>
              <a:off x="7388280" y="4802040"/>
              <a:ext cx="277560" cy="91800"/>
            </a:xfrm>
            <a:custGeom>
              <a:avLst/>
              <a:gdLst/>
              <a:ahLst/>
              <a:rect l="l" t="t" r="r" b="b"/>
              <a:pathLst>
                <a:path w="140" h="47">
                  <a:moveTo>
                    <a:pt x="140" y="21"/>
                  </a:moveTo>
                  <a:cubicBezTo>
                    <a:pt x="140" y="21"/>
                    <a:pt x="54" y="25"/>
                    <a:pt x="11" y="47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70" y="0"/>
                    <a:pt x="128" y="8"/>
                  </a:cubicBezTo>
                  <a:lnTo>
                    <a:pt x="140" y="21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263"/>
            <p:cNvSpPr/>
            <p:nvPr/>
          </p:nvSpPr>
          <p:spPr>
            <a:xfrm>
              <a:off x="7269120" y="4728960"/>
              <a:ext cx="325440" cy="72720"/>
            </a:xfrm>
            <a:custGeom>
              <a:avLst/>
              <a:gdLst/>
              <a:ahLst/>
              <a:rect l="l" t="t" r="r" b="b"/>
              <a:pathLst>
                <a:path w="164" h="37">
                  <a:moveTo>
                    <a:pt x="164" y="18"/>
                  </a:moveTo>
                  <a:cubicBezTo>
                    <a:pt x="164" y="18"/>
                    <a:pt x="127" y="5"/>
                    <a:pt x="13" y="37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5"/>
                    <a:pt x="81" y="0"/>
                    <a:pt x="152" y="6"/>
                  </a:cubicBezTo>
                  <a:lnTo>
                    <a:pt x="164" y="18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264"/>
            <p:cNvSpPr/>
            <p:nvPr/>
          </p:nvSpPr>
          <p:spPr>
            <a:xfrm>
              <a:off x="7329240" y="4776840"/>
              <a:ext cx="298440" cy="74520"/>
            </a:xfrm>
            <a:custGeom>
              <a:avLst/>
              <a:gdLst/>
              <a:ahLst/>
              <a:rect l="l" t="t" r="r" b="b"/>
              <a:pathLst>
                <a:path w="151" h="38">
                  <a:moveTo>
                    <a:pt x="138" y="3"/>
                  </a:moveTo>
                  <a:cubicBezTo>
                    <a:pt x="109" y="0"/>
                    <a:pt x="37" y="4"/>
                    <a:pt x="0" y="22"/>
                  </a:cubicBezTo>
                  <a:cubicBezTo>
                    <a:pt x="1" y="24"/>
                    <a:pt x="8" y="35"/>
                    <a:pt x="10" y="38"/>
                  </a:cubicBezTo>
                  <a:cubicBezTo>
                    <a:pt x="75" y="15"/>
                    <a:pt x="151" y="15"/>
                    <a:pt x="151" y="15"/>
                  </a:cubicBezTo>
                  <a:lnTo>
                    <a:pt x="138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265"/>
            <p:cNvSpPr/>
            <p:nvPr/>
          </p:nvSpPr>
          <p:spPr>
            <a:xfrm>
              <a:off x="7813440" y="5934240"/>
              <a:ext cx="206280" cy="169560"/>
            </a:xfrm>
            <a:custGeom>
              <a:avLst/>
              <a:gdLst/>
              <a:ahLst/>
              <a:rect l="l" t="t" r="r" b="b"/>
              <a:pathLst>
                <a:path w="104" h="86">
                  <a:moveTo>
                    <a:pt x="82" y="0"/>
                  </a:moveTo>
                  <a:cubicBezTo>
                    <a:pt x="104" y="0"/>
                    <a:pt x="104" y="0"/>
                    <a:pt x="104" y="0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6"/>
                    <a:pt x="20" y="86"/>
                    <a:pt x="0" y="79"/>
                  </a:cubicBezTo>
                  <a:cubicBezTo>
                    <a:pt x="36" y="61"/>
                    <a:pt x="82" y="0"/>
                    <a:pt x="82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Freeform 266"/>
            <p:cNvSpPr/>
            <p:nvPr/>
          </p:nvSpPr>
          <p:spPr>
            <a:xfrm>
              <a:off x="7810560" y="5934240"/>
              <a:ext cx="145800" cy="1234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13" y="63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28" y="33"/>
                    <a:pt x="0" y="58"/>
                  </a:cubicBezTo>
                  <a:cubicBezTo>
                    <a:pt x="5" y="59"/>
                    <a:pt x="9" y="61"/>
                    <a:pt x="13" y="63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267"/>
            <p:cNvSpPr/>
            <p:nvPr/>
          </p:nvSpPr>
          <p:spPr>
            <a:xfrm>
              <a:off x="7735680" y="5919840"/>
              <a:ext cx="168120" cy="15048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11" y="76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64" y="0"/>
                    <a:pt x="32" y="37"/>
                    <a:pt x="0" y="67"/>
                  </a:cubicBezTo>
                  <a:cubicBezTo>
                    <a:pt x="4" y="70"/>
                    <a:pt x="8" y="73"/>
                    <a:pt x="11" y="76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268"/>
            <p:cNvSpPr/>
            <p:nvPr/>
          </p:nvSpPr>
          <p:spPr>
            <a:xfrm>
              <a:off x="8680320" y="5973840"/>
              <a:ext cx="988920" cy="129960"/>
            </a:xfrm>
            <a:custGeom>
              <a:avLst/>
              <a:gdLst/>
              <a:ahLst/>
              <a:rect l="l" t="t" r="r" b="b"/>
              <a:pathLst>
                <a:path w="623" h="82">
                  <a:moveTo>
                    <a:pt x="619" y="82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623" y="15"/>
                  </a:lnTo>
                  <a:lnTo>
                    <a:pt x="619" y="82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269"/>
            <p:cNvSpPr/>
            <p:nvPr/>
          </p:nvSpPr>
          <p:spPr>
            <a:xfrm>
              <a:off x="8690040" y="5973840"/>
              <a:ext cx="979200" cy="39600"/>
            </a:xfrm>
            <a:custGeom>
              <a:avLst/>
              <a:gdLst/>
              <a:ahLst/>
              <a:rect l="l" t="t" r="r" b="b"/>
              <a:pathLst>
                <a:path w="495" h="20">
                  <a:moveTo>
                    <a:pt x="0" y="0"/>
                  </a:moveTo>
                  <a:cubicBezTo>
                    <a:pt x="6" y="4"/>
                    <a:pt x="12" y="8"/>
                    <a:pt x="18" y="12"/>
                  </a:cubicBezTo>
                  <a:cubicBezTo>
                    <a:pt x="42" y="15"/>
                    <a:pt x="65" y="19"/>
                    <a:pt x="88" y="19"/>
                  </a:cubicBezTo>
                  <a:cubicBezTo>
                    <a:pt x="91" y="19"/>
                    <a:pt x="92" y="20"/>
                    <a:pt x="94" y="20"/>
                  </a:cubicBezTo>
                  <a:cubicBezTo>
                    <a:pt x="495" y="20"/>
                    <a:pt x="495" y="20"/>
                    <a:pt x="495" y="20"/>
                  </a:cubicBezTo>
                  <a:cubicBezTo>
                    <a:pt x="495" y="12"/>
                    <a:pt x="495" y="12"/>
                    <a:pt x="495" y="1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270"/>
            <p:cNvSpPr/>
            <p:nvPr/>
          </p:nvSpPr>
          <p:spPr>
            <a:xfrm>
              <a:off x="8680320" y="6066000"/>
              <a:ext cx="984240" cy="37800"/>
            </a:xfrm>
            <a:custGeom>
              <a:avLst/>
              <a:gdLst/>
              <a:ahLst/>
              <a:rect l="l" t="t" r="r" b="b"/>
              <a:pathLst>
                <a:path w="620" h="24">
                  <a:moveTo>
                    <a:pt x="0" y="0"/>
                  </a:moveTo>
                  <a:lnTo>
                    <a:pt x="0" y="17"/>
                  </a:lnTo>
                  <a:lnTo>
                    <a:pt x="619" y="24"/>
                  </a:lnTo>
                  <a:lnTo>
                    <a:pt x="6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Freeform 271"/>
            <p:cNvSpPr/>
            <p:nvPr/>
          </p:nvSpPr>
          <p:spPr>
            <a:xfrm>
              <a:off x="8745480" y="5911920"/>
              <a:ext cx="982440" cy="91800"/>
            </a:xfrm>
            <a:custGeom>
              <a:avLst/>
              <a:gdLst/>
              <a:ahLst/>
              <a:rect l="l" t="t" r="r" b="b"/>
              <a:pathLst>
                <a:path w="619" h="58">
                  <a:moveTo>
                    <a:pt x="618" y="58"/>
                  </a:moveTo>
                  <a:lnTo>
                    <a:pt x="0" y="45"/>
                  </a:lnTo>
                  <a:lnTo>
                    <a:pt x="1" y="0"/>
                  </a:lnTo>
                  <a:lnTo>
                    <a:pt x="619" y="13"/>
                  </a:lnTo>
                  <a:lnTo>
                    <a:pt x="618" y="58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Freeform 272"/>
            <p:cNvSpPr/>
            <p:nvPr/>
          </p:nvSpPr>
          <p:spPr>
            <a:xfrm>
              <a:off x="8772480" y="5911920"/>
              <a:ext cx="823680" cy="41040"/>
            </a:xfrm>
            <a:custGeom>
              <a:avLst/>
              <a:gdLst/>
              <a:ahLst/>
              <a:rect l="l" t="t" r="r" b="b"/>
              <a:pathLst>
                <a:path w="416" h="21">
                  <a:moveTo>
                    <a:pt x="251" y="13"/>
                  </a:moveTo>
                  <a:cubicBezTo>
                    <a:pt x="294" y="13"/>
                    <a:pt x="338" y="15"/>
                    <a:pt x="381" y="13"/>
                  </a:cubicBezTo>
                  <a:cubicBezTo>
                    <a:pt x="393" y="13"/>
                    <a:pt x="405" y="11"/>
                    <a:pt x="416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0" y="21"/>
                    <a:pt x="168" y="11"/>
                    <a:pt x="251" y="13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Freeform 273"/>
            <p:cNvSpPr/>
            <p:nvPr/>
          </p:nvSpPr>
          <p:spPr>
            <a:xfrm>
              <a:off x="8745480" y="5958000"/>
              <a:ext cx="168120" cy="2988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56" y="12"/>
                    <a:pt x="28" y="8"/>
                    <a:pt x="0" y="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274"/>
            <p:cNvSpPr/>
            <p:nvPr/>
          </p:nvSpPr>
          <p:spPr>
            <a:xfrm>
              <a:off x="8812080" y="5843520"/>
              <a:ext cx="730080" cy="85680"/>
            </a:xfrm>
            <a:custGeom>
              <a:avLst/>
              <a:gdLst/>
              <a:ahLst/>
              <a:rect l="l" t="t" r="r" b="b"/>
              <a:pathLst>
                <a:path w="460" h="54">
                  <a:moveTo>
                    <a:pt x="459" y="54"/>
                  </a:moveTo>
                  <a:lnTo>
                    <a:pt x="0" y="44"/>
                  </a:lnTo>
                  <a:lnTo>
                    <a:pt x="1" y="0"/>
                  </a:lnTo>
                  <a:lnTo>
                    <a:pt x="460" y="8"/>
                  </a:lnTo>
                  <a:lnTo>
                    <a:pt x="459" y="54"/>
                  </a:lnTo>
                  <a:close/>
                </a:path>
              </a:pathLst>
            </a:custGeom>
            <a:solidFill>
              <a:srgbClr val="dd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Freeform 275"/>
            <p:cNvSpPr/>
            <p:nvPr/>
          </p:nvSpPr>
          <p:spPr>
            <a:xfrm>
              <a:off x="8812080" y="5864400"/>
              <a:ext cx="730080" cy="64800"/>
            </a:xfrm>
            <a:custGeom>
              <a:avLst/>
              <a:gdLst/>
              <a:ahLst/>
              <a:rect l="l" t="t" r="r" b="b"/>
              <a:pathLst>
                <a:path w="369" h="33">
                  <a:moveTo>
                    <a:pt x="168" y="25"/>
                  </a:moveTo>
                  <a:cubicBezTo>
                    <a:pt x="141" y="27"/>
                    <a:pt x="114" y="28"/>
                    <a:pt x="87" y="23"/>
                  </a:cubicBezTo>
                  <a:cubicBezTo>
                    <a:pt x="68" y="20"/>
                    <a:pt x="52" y="14"/>
                    <a:pt x="36" y="8"/>
                  </a:cubicBezTo>
                  <a:cubicBezTo>
                    <a:pt x="24" y="6"/>
                    <a:pt x="12" y="4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368" y="33"/>
                    <a:pt x="368" y="33"/>
                    <a:pt x="368" y="33"/>
                  </a:cubicBezTo>
                  <a:cubicBezTo>
                    <a:pt x="369" y="12"/>
                    <a:pt x="369" y="12"/>
                    <a:pt x="369" y="12"/>
                  </a:cubicBezTo>
                  <a:cubicBezTo>
                    <a:pt x="364" y="12"/>
                    <a:pt x="358" y="12"/>
                    <a:pt x="353" y="12"/>
                  </a:cubicBezTo>
                  <a:cubicBezTo>
                    <a:pt x="292" y="19"/>
                    <a:pt x="230" y="23"/>
                    <a:pt x="168" y="25"/>
                  </a:cubicBezTo>
                  <a:close/>
                </a:path>
              </a:pathLst>
            </a:custGeom>
            <a:solidFill>
              <a:srgbClr val="d39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276"/>
            <p:cNvSpPr/>
            <p:nvPr/>
          </p:nvSpPr>
          <p:spPr>
            <a:xfrm>
              <a:off x="8767800" y="6087960"/>
              <a:ext cx="750600" cy="104760"/>
            </a:xfrm>
            <a:custGeom>
              <a:avLst/>
              <a:gdLst/>
              <a:ahLst/>
              <a:rect l="l" t="t" r="r" b="b"/>
              <a:pathLst>
                <a:path w="473" h="66">
                  <a:moveTo>
                    <a:pt x="473" y="66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73" y="8"/>
                  </a:lnTo>
                  <a:lnTo>
                    <a:pt x="473" y="66"/>
                  </a:lnTo>
                  <a:close/>
                </a:path>
              </a:pathLst>
            </a:cu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277"/>
            <p:cNvSpPr/>
            <p:nvPr/>
          </p:nvSpPr>
          <p:spPr>
            <a:xfrm>
              <a:off x="8767800" y="6087960"/>
              <a:ext cx="750600" cy="33120"/>
            </a:xfrm>
            <a:custGeom>
              <a:avLst/>
              <a:gdLst/>
              <a:ahLst/>
              <a:rect l="l" t="t" r="r" b="b"/>
              <a:pathLst>
                <a:path w="380" h="17">
                  <a:moveTo>
                    <a:pt x="380" y="10"/>
                  </a:moveTo>
                  <a:cubicBezTo>
                    <a:pt x="380" y="6"/>
                    <a:pt x="380" y="6"/>
                    <a:pt x="38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27" y="17"/>
                    <a:pt x="253" y="12"/>
                    <a:pt x="380" y="10"/>
                  </a:cubicBez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278"/>
            <p:cNvSpPr/>
            <p:nvPr/>
          </p:nvSpPr>
          <p:spPr>
            <a:xfrm>
              <a:off x="8767800" y="6161040"/>
              <a:ext cx="750600" cy="31680"/>
            </a:xfrm>
            <a:custGeom>
              <a:avLst/>
              <a:gdLst/>
              <a:ahLst/>
              <a:rect l="l" t="t" r="r" b="b"/>
              <a:pathLst>
                <a:path w="380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380" y="16"/>
                    <a:pt x="380" y="16"/>
                    <a:pt x="380" y="1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253" y="1"/>
                    <a:pt x="127" y="6"/>
                    <a:pt x="0" y="1"/>
                  </a:cubicBez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279"/>
            <p:cNvSpPr/>
            <p:nvPr/>
          </p:nvSpPr>
          <p:spPr>
            <a:xfrm>
              <a:off x="8620200" y="5632560"/>
              <a:ext cx="992160" cy="131760"/>
            </a:xfrm>
            <a:custGeom>
              <a:avLst/>
              <a:gdLst/>
              <a:ahLst/>
              <a:rect l="l" t="t" r="r" b="b"/>
              <a:pathLst>
                <a:path w="625" h="83">
                  <a:moveTo>
                    <a:pt x="620" y="83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625" y="15"/>
                  </a:lnTo>
                  <a:lnTo>
                    <a:pt x="620" y="83"/>
                  </a:lnTo>
                  <a:close/>
                </a:path>
              </a:pathLst>
            </a:custGeom>
            <a:solidFill>
              <a:srgbClr val="304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280"/>
            <p:cNvSpPr/>
            <p:nvPr/>
          </p:nvSpPr>
          <p:spPr>
            <a:xfrm>
              <a:off x="8631000" y="5632560"/>
              <a:ext cx="981000" cy="39600"/>
            </a:xfrm>
            <a:custGeom>
              <a:avLst/>
              <a:gdLst/>
              <a:ahLst/>
              <a:rect l="l" t="t" r="r" b="b"/>
              <a:pathLst>
                <a:path w="496" h="20">
                  <a:moveTo>
                    <a:pt x="0" y="0"/>
                  </a:moveTo>
                  <a:cubicBezTo>
                    <a:pt x="6" y="4"/>
                    <a:pt x="12" y="8"/>
                    <a:pt x="18" y="12"/>
                  </a:cubicBezTo>
                  <a:cubicBezTo>
                    <a:pt x="42" y="15"/>
                    <a:pt x="65" y="19"/>
                    <a:pt x="89" y="19"/>
                  </a:cubicBezTo>
                  <a:cubicBezTo>
                    <a:pt x="91" y="19"/>
                    <a:pt x="93" y="20"/>
                    <a:pt x="94" y="20"/>
                  </a:cubicBezTo>
                  <a:cubicBezTo>
                    <a:pt x="495" y="20"/>
                    <a:pt x="495" y="20"/>
                    <a:pt x="495" y="20"/>
                  </a:cubicBezTo>
                  <a:cubicBezTo>
                    <a:pt x="496" y="12"/>
                    <a:pt x="496" y="12"/>
                    <a:pt x="496" y="1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281"/>
            <p:cNvSpPr/>
            <p:nvPr/>
          </p:nvSpPr>
          <p:spPr>
            <a:xfrm>
              <a:off x="8620200" y="5726160"/>
              <a:ext cx="985680" cy="37800"/>
            </a:xfrm>
            <a:custGeom>
              <a:avLst/>
              <a:gdLst/>
              <a:ahLst/>
              <a:rect l="l" t="t" r="r" b="b"/>
              <a:pathLst>
                <a:path w="621" h="24">
                  <a:moveTo>
                    <a:pt x="0" y="0"/>
                  </a:moveTo>
                  <a:lnTo>
                    <a:pt x="0" y="16"/>
                  </a:lnTo>
                  <a:lnTo>
                    <a:pt x="620" y="24"/>
                  </a:lnTo>
                  <a:lnTo>
                    <a:pt x="6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3a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282"/>
            <p:cNvSpPr/>
            <p:nvPr/>
          </p:nvSpPr>
          <p:spPr>
            <a:xfrm>
              <a:off x="8685000" y="5572080"/>
              <a:ext cx="984240" cy="90360"/>
            </a:xfrm>
            <a:custGeom>
              <a:avLst/>
              <a:gdLst/>
              <a:ahLst/>
              <a:rect l="l" t="t" r="r" b="b"/>
              <a:pathLst>
                <a:path w="620" h="57">
                  <a:moveTo>
                    <a:pt x="620" y="57"/>
                  </a:moveTo>
                  <a:lnTo>
                    <a:pt x="0" y="45"/>
                  </a:lnTo>
                  <a:lnTo>
                    <a:pt x="2" y="0"/>
                  </a:lnTo>
                  <a:lnTo>
                    <a:pt x="620" y="12"/>
                  </a:lnTo>
                  <a:lnTo>
                    <a:pt x="620" y="57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283"/>
            <p:cNvSpPr/>
            <p:nvPr/>
          </p:nvSpPr>
          <p:spPr>
            <a:xfrm>
              <a:off x="8713800" y="5572080"/>
              <a:ext cx="825480" cy="41040"/>
            </a:xfrm>
            <a:custGeom>
              <a:avLst/>
              <a:gdLst/>
              <a:ahLst/>
              <a:rect l="l" t="t" r="r" b="b"/>
              <a:pathLst>
                <a:path w="417" h="21">
                  <a:moveTo>
                    <a:pt x="251" y="13"/>
                  </a:moveTo>
                  <a:cubicBezTo>
                    <a:pt x="294" y="13"/>
                    <a:pt x="338" y="15"/>
                    <a:pt x="381" y="13"/>
                  </a:cubicBezTo>
                  <a:cubicBezTo>
                    <a:pt x="394" y="13"/>
                    <a:pt x="405" y="11"/>
                    <a:pt x="417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1" y="21"/>
                    <a:pt x="169" y="11"/>
                    <a:pt x="251" y="13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284"/>
            <p:cNvSpPr/>
            <p:nvPr/>
          </p:nvSpPr>
          <p:spPr>
            <a:xfrm>
              <a:off x="8685000" y="5616720"/>
              <a:ext cx="171360" cy="29880"/>
            </a:xfrm>
            <a:custGeom>
              <a:avLst/>
              <a:gdLst/>
              <a:ahLst/>
              <a:rect l="l" t="t" r="r" b="b"/>
              <a:pathLst>
                <a:path w="86" h="15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86" y="15"/>
                    <a:pt x="86" y="15"/>
                    <a:pt x="86" y="15"/>
                  </a:cubicBezTo>
                  <a:cubicBezTo>
                    <a:pt x="57" y="12"/>
                    <a:pt x="28" y="8"/>
                    <a:pt x="0" y="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285"/>
            <p:cNvSpPr/>
            <p:nvPr/>
          </p:nvSpPr>
          <p:spPr>
            <a:xfrm>
              <a:off x="8753400" y="5502240"/>
              <a:ext cx="730080" cy="87120"/>
            </a:xfrm>
            <a:custGeom>
              <a:avLst/>
              <a:gdLst/>
              <a:ahLst/>
              <a:rect l="l" t="t" r="r" b="b"/>
              <a:pathLst>
                <a:path w="460" h="55">
                  <a:moveTo>
                    <a:pt x="460" y="55"/>
                  </a:moveTo>
                  <a:lnTo>
                    <a:pt x="0" y="45"/>
                  </a:lnTo>
                  <a:lnTo>
                    <a:pt x="1" y="0"/>
                  </a:lnTo>
                  <a:lnTo>
                    <a:pt x="460" y="9"/>
                  </a:lnTo>
                  <a:lnTo>
                    <a:pt x="460" y="55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286"/>
            <p:cNvSpPr/>
            <p:nvPr/>
          </p:nvSpPr>
          <p:spPr>
            <a:xfrm>
              <a:off x="8753400" y="5524560"/>
              <a:ext cx="730080" cy="64800"/>
            </a:xfrm>
            <a:custGeom>
              <a:avLst/>
              <a:gdLst/>
              <a:ahLst/>
              <a:rect l="l" t="t" r="r" b="b"/>
              <a:pathLst>
                <a:path w="369" h="33">
                  <a:moveTo>
                    <a:pt x="168" y="25"/>
                  </a:moveTo>
                  <a:cubicBezTo>
                    <a:pt x="141" y="27"/>
                    <a:pt x="114" y="28"/>
                    <a:pt x="87" y="23"/>
                  </a:cubicBezTo>
                  <a:cubicBezTo>
                    <a:pt x="69" y="20"/>
                    <a:pt x="53" y="14"/>
                    <a:pt x="37" y="8"/>
                  </a:cubicBezTo>
                  <a:cubicBezTo>
                    <a:pt x="24" y="6"/>
                    <a:pt x="12" y="4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369" y="33"/>
                    <a:pt x="369" y="33"/>
                    <a:pt x="369" y="33"/>
                  </a:cubicBezTo>
                  <a:cubicBezTo>
                    <a:pt x="369" y="12"/>
                    <a:pt x="369" y="12"/>
                    <a:pt x="369" y="12"/>
                  </a:cubicBezTo>
                  <a:cubicBezTo>
                    <a:pt x="364" y="12"/>
                    <a:pt x="359" y="12"/>
                    <a:pt x="353" y="12"/>
                  </a:cubicBezTo>
                  <a:cubicBezTo>
                    <a:pt x="292" y="19"/>
                    <a:pt x="230" y="23"/>
                    <a:pt x="168" y="25"/>
                  </a:cubicBez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287"/>
            <p:cNvSpPr/>
            <p:nvPr/>
          </p:nvSpPr>
          <p:spPr>
            <a:xfrm>
              <a:off x="8707320" y="5748480"/>
              <a:ext cx="752400" cy="104760"/>
            </a:xfrm>
            <a:custGeom>
              <a:avLst/>
              <a:gdLst/>
              <a:ahLst/>
              <a:rect l="l" t="t" r="r" b="b"/>
              <a:pathLst>
                <a:path w="474" h="66">
                  <a:moveTo>
                    <a:pt x="474" y="66"/>
                  </a:moveTo>
                  <a:lnTo>
                    <a:pt x="0" y="66"/>
                  </a:lnTo>
                  <a:lnTo>
                    <a:pt x="0" y="0"/>
                  </a:lnTo>
                  <a:lnTo>
                    <a:pt x="474" y="7"/>
                  </a:lnTo>
                  <a:lnTo>
                    <a:pt x="474" y="66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288"/>
            <p:cNvSpPr/>
            <p:nvPr/>
          </p:nvSpPr>
          <p:spPr>
            <a:xfrm>
              <a:off x="8707320" y="5748480"/>
              <a:ext cx="752400" cy="33120"/>
            </a:xfrm>
            <a:custGeom>
              <a:avLst/>
              <a:gdLst/>
              <a:ahLst/>
              <a:rect l="l" t="t" r="r" b="b"/>
              <a:pathLst>
                <a:path w="380" h="17">
                  <a:moveTo>
                    <a:pt x="380" y="10"/>
                  </a:moveTo>
                  <a:cubicBezTo>
                    <a:pt x="380" y="6"/>
                    <a:pt x="380" y="6"/>
                    <a:pt x="380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27" y="17"/>
                    <a:pt x="254" y="12"/>
                    <a:pt x="380" y="1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289"/>
            <p:cNvSpPr/>
            <p:nvPr/>
          </p:nvSpPr>
          <p:spPr>
            <a:xfrm>
              <a:off x="8707320" y="5821560"/>
              <a:ext cx="752400" cy="31680"/>
            </a:xfrm>
            <a:custGeom>
              <a:avLst/>
              <a:gdLst/>
              <a:ahLst/>
              <a:rect l="l" t="t" r="r" b="b"/>
              <a:pathLst>
                <a:path w="380" h="16">
                  <a:moveTo>
                    <a:pt x="0" y="1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380" y="16"/>
                    <a:pt x="380" y="16"/>
                    <a:pt x="380" y="1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254" y="1"/>
                    <a:pt x="127" y="6"/>
                    <a:pt x="0" y="1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290"/>
            <p:cNvSpPr/>
            <p:nvPr/>
          </p:nvSpPr>
          <p:spPr>
            <a:xfrm>
              <a:off x="8672400" y="5389560"/>
              <a:ext cx="988920" cy="129960"/>
            </a:xfrm>
            <a:custGeom>
              <a:avLst/>
              <a:gdLst/>
              <a:ahLst/>
              <a:rect l="l" t="t" r="r" b="b"/>
              <a:pathLst>
                <a:path w="623" h="82">
                  <a:moveTo>
                    <a:pt x="619" y="82"/>
                  </a:moveTo>
                  <a:lnTo>
                    <a:pt x="0" y="75"/>
                  </a:lnTo>
                  <a:lnTo>
                    <a:pt x="0" y="0"/>
                  </a:lnTo>
                  <a:lnTo>
                    <a:pt x="623" y="16"/>
                  </a:lnTo>
                  <a:lnTo>
                    <a:pt x="619" y="82"/>
                  </a:lnTo>
                  <a:close/>
                </a:path>
              </a:pathLst>
            </a:custGeom>
            <a:solidFill>
              <a:srgbClr val="3036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291"/>
            <p:cNvSpPr/>
            <p:nvPr/>
          </p:nvSpPr>
          <p:spPr>
            <a:xfrm>
              <a:off x="8682120" y="5391000"/>
              <a:ext cx="979200" cy="39600"/>
            </a:xfrm>
            <a:custGeom>
              <a:avLst/>
              <a:gdLst/>
              <a:ahLst/>
              <a:rect l="l" t="t" r="r" b="b"/>
              <a:pathLst>
                <a:path w="495" h="20">
                  <a:moveTo>
                    <a:pt x="0" y="0"/>
                  </a:moveTo>
                  <a:cubicBezTo>
                    <a:pt x="6" y="4"/>
                    <a:pt x="12" y="8"/>
                    <a:pt x="18" y="11"/>
                  </a:cubicBezTo>
                  <a:cubicBezTo>
                    <a:pt x="42" y="14"/>
                    <a:pt x="65" y="18"/>
                    <a:pt x="88" y="18"/>
                  </a:cubicBezTo>
                  <a:cubicBezTo>
                    <a:pt x="91" y="19"/>
                    <a:pt x="92" y="19"/>
                    <a:pt x="94" y="20"/>
                  </a:cubicBezTo>
                  <a:cubicBezTo>
                    <a:pt x="495" y="20"/>
                    <a:pt x="495" y="20"/>
                    <a:pt x="495" y="20"/>
                  </a:cubicBezTo>
                  <a:cubicBezTo>
                    <a:pt x="495" y="12"/>
                    <a:pt x="495" y="12"/>
                    <a:pt x="495" y="1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292"/>
            <p:cNvSpPr/>
            <p:nvPr/>
          </p:nvSpPr>
          <p:spPr>
            <a:xfrm>
              <a:off x="8672400" y="5483160"/>
              <a:ext cx="984240" cy="36360"/>
            </a:xfrm>
            <a:custGeom>
              <a:avLst/>
              <a:gdLst/>
              <a:ahLst/>
              <a:rect l="l" t="t" r="r" b="b"/>
              <a:pathLst>
                <a:path w="620" h="23">
                  <a:moveTo>
                    <a:pt x="0" y="0"/>
                  </a:moveTo>
                  <a:lnTo>
                    <a:pt x="0" y="16"/>
                  </a:lnTo>
                  <a:lnTo>
                    <a:pt x="619" y="23"/>
                  </a:lnTo>
                  <a:lnTo>
                    <a:pt x="6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b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293"/>
            <p:cNvSpPr/>
            <p:nvPr/>
          </p:nvSpPr>
          <p:spPr>
            <a:xfrm>
              <a:off x="8737560" y="5327640"/>
              <a:ext cx="982440" cy="91800"/>
            </a:xfrm>
            <a:custGeom>
              <a:avLst/>
              <a:gdLst/>
              <a:ahLst/>
              <a:rect l="l" t="t" r="r" b="b"/>
              <a:pathLst>
                <a:path w="619" h="58">
                  <a:moveTo>
                    <a:pt x="618" y="58"/>
                  </a:moveTo>
                  <a:lnTo>
                    <a:pt x="0" y="45"/>
                  </a:lnTo>
                  <a:lnTo>
                    <a:pt x="1" y="0"/>
                  </a:lnTo>
                  <a:lnTo>
                    <a:pt x="619" y="13"/>
                  </a:lnTo>
                  <a:lnTo>
                    <a:pt x="618" y="58"/>
                  </a:lnTo>
                  <a:close/>
                </a:path>
              </a:pathLst>
            </a:custGeom>
            <a:solidFill>
              <a:srgbClr val="6d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294"/>
            <p:cNvSpPr/>
            <p:nvPr/>
          </p:nvSpPr>
          <p:spPr>
            <a:xfrm>
              <a:off x="8764560" y="5327640"/>
              <a:ext cx="823680" cy="42840"/>
            </a:xfrm>
            <a:custGeom>
              <a:avLst/>
              <a:gdLst/>
              <a:ahLst/>
              <a:rect l="l" t="t" r="r" b="b"/>
              <a:pathLst>
                <a:path w="416" h="21">
                  <a:moveTo>
                    <a:pt x="251" y="13"/>
                  </a:moveTo>
                  <a:cubicBezTo>
                    <a:pt x="294" y="14"/>
                    <a:pt x="338" y="16"/>
                    <a:pt x="381" y="14"/>
                  </a:cubicBezTo>
                  <a:cubicBezTo>
                    <a:pt x="393" y="13"/>
                    <a:pt x="405" y="11"/>
                    <a:pt x="416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0" y="21"/>
                    <a:pt x="168" y="11"/>
                    <a:pt x="251" y="13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295"/>
            <p:cNvSpPr/>
            <p:nvPr/>
          </p:nvSpPr>
          <p:spPr>
            <a:xfrm>
              <a:off x="8737560" y="5373720"/>
              <a:ext cx="168120" cy="2988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85" y="15"/>
                    <a:pt x="85" y="15"/>
                    <a:pt x="85" y="15"/>
                  </a:cubicBezTo>
                  <a:cubicBezTo>
                    <a:pt x="56" y="13"/>
                    <a:pt x="28" y="8"/>
                    <a:pt x="0" y="0"/>
                  </a:cubicBezTo>
                  <a:close/>
                </a:path>
              </a:pathLst>
            </a:custGeom>
            <a:solidFill>
              <a:srgbClr val="60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296"/>
            <p:cNvSpPr/>
            <p:nvPr/>
          </p:nvSpPr>
          <p:spPr>
            <a:xfrm>
              <a:off x="8804160" y="5259240"/>
              <a:ext cx="730080" cy="87120"/>
            </a:xfrm>
            <a:custGeom>
              <a:avLst/>
              <a:gdLst/>
              <a:ahLst/>
              <a:rect l="l" t="t" r="r" b="b"/>
              <a:pathLst>
                <a:path w="460" h="55">
                  <a:moveTo>
                    <a:pt x="459" y="55"/>
                  </a:moveTo>
                  <a:lnTo>
                    <a:pt x="0" y="46"/>
                  </a:lnTo>
                  <a:lnTo>
                    <a:pt x="1" y="0"/>
                  </a:lnTo>
                  <a:lnTo>
                    <a:pt x="460" y="10"/>
                  </a:lnTo>
                  <a:lnTo>
                    <a:pt x="459" y="55"/>
                  </a:lnTo>
                  <a:close/>
                </a:path>
              </a:pathLst>
            </a:custGeom>
            <a:solidFill>
              <a:srgbClr val="dd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297"/>
            <p:cNvSpPr/>
            <p:nvPr/>
          </p:nvSpPr>
          <p:spPr>
            <a:xfrm>
              <a:off x="8804160" y="5283360"/>
              <a:ext cx="730080" cy="63360"/>
            </a:xfrm>
            <a:custGeom>
              <a:avLst/>
              <a:gdLst/>
              <a:ahLst/>
              <a:rect l="l" t="t" r="r" b="b"/>
              <a:pathLst>
                <a:path w="369" h="32">
                  <a:moveTo>
                    <a:pt x="168" y="25"/>
                  </a:moveTo>
                  <a:cubicBezTo>
                    <a:pt x="141" y="26"/>
                    <a:pt x="114" y="27"/>
                    <a:pt x="87" y="23"/>
                  </a:cubicBezTo>
                  <a:cubicBezTo>
                    <a:pt x="68" y="20"/>
                    <a:pt x="52" y="13"/>
                    <a:pt x="36" y="7"/>
                  </a:cubicBezTo>
                  <a:cubicBezTo>
                    <a:pt x="24" y="6"/>
                    <a:pt x="12" y="3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368" y="32"/>
                    <a:pt x="368" y="32"/>
                    <a:pt x="368" y="32"/>
                  </a:cubicBezTo>
                  <a:cubicBezTo>
                    <a:pt x="369" y="11"/>
                    <a:pt x="369" y="11"/>
                    <a:pt x="369" y="11"/>
                  </a:cubicBezTo>
                  <a:cubicBezTo>
                    <a:pt x="364" y="11"/>
                    <a:pt x="358" y="11"/>
                    <a:pt x="353" y="11"/>
                  </a:cubicBezTo>
                  <a:cubicBezTo>
                    <a:pt x="292" y="19"/>
                    <a:pt x="230" y="22"/>
                    <a:pt x="168" y="25"/>
                  </a:cubicBezTo>
                  <a:close/>
                </a:path>
              </a:pathLst>
            </a:custGeom>
            <a:solidFill>
              <a:srgbClr val="d39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8" name="组合 306"/>
          <p:cNvGrpSpPr/>
          <p:nvPr/>
        </p:nvGrpSpPr>
        <p:grpSpPr>
          <a:xfrm>
            <a:off x="8255160" y="3592440"/>
            <a:ext cx="239400" cy="395280"/>
            <a:chOff x="8255160" y="3592440"/>
            <a:chExt cx="239400" cy="395280"/>
          </a:xfrm>
        </p:grpSpPr>
        <p:sp>
          <p:nvSpPr>
            <p:cNvPr id="3189" name="Freeform 254"/>
            <p:cNvSpPr/>
            <p:nvPr/>
          </p:nvSpPr>
          <p:spPr>
            <a:xfrm>
              <a:off x="8255160" y="3592440"/>
              <a:ext cx="239400" cy="395280"/>
            </a:xfrm>
            <a:custGeom>
              <a:avLst/>
              <a:gdLst/>
              <a:ahLst/>
              <a:rect l="l" t="t" r="r" b="b"/>
              <a:pathLst>
                <a:path w="121" h="200">
                  <a:moveTo>
                    <a:pt x="77" y="7"/>
                  </a:moveTo>
                  <a:cubicBezTo>
                    <a:pt x="48" y="0"/>
                    <a:pt x="16" y="27"/>
                    <a:pt x="9" y="53"/>
                  </a:cubicBezTo>
                  <a:cubicBezTo>
                    <a:pt x="0" y="85"/>
                    <a:pt x="5" y="128"/>
                    <a:pt x="19" y="157"/>
                  </a:cubicBezTo>
                  <a:cubicBezTo>
                    <a:pt x="34" y="189"/>
                    <a:pt x="65" y="200"/>
                    <a:pt x="90" y="170"/>
                  </a:cubicBezTo>
                  <a:cubicBezTo>
                    <a:pt x="109" y="147"/>
                    <a:pt x="121" y="108"/>
                    <a:pt x="119" y="78"/>
                  </a:cubicBezTo>
                  <a:cubicBezTo>
                    <a:pt x="118" y="53"/>
                    <a:pt x="105" y="14"/>
                    <a:pt x="78" y="7"/>
                  </a:cubicBezTo>
                  <a:cubicBezTo>
                    <a:pt x="78" y="7"/>
                    <a:pt x="77" y="7"/>
                    <a:pt x="77" y="7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255"/>
            <p:cNvSpPr/>
            <p:nvPr/>
          </p:nvSpPr>
          <p:spPr>
            <a:xfrm>
              <a:off x="8383680" y="3662280"/>
              <a:ext cx="110880" cy="276120"/>
            </a:xfrm>
            <a:custGeom>
              <a:avLst/>
              <a:gdLst/>
              <a:ahLst/>
              <a:rect l="l" t="t" r="r" b="b"/>
              <a:pathLst>
                <a:path w="56" h="140">
                  <a:moveTo>
                    <a:pt x="20" y="140"/>
                  </a:moveTo>
                  <a:cubicBezTo>
                    <a:pt x="22" y="139"/>
                    <a:pt x="23" y="137"/>
                    <a:pt x="25" y="135"/>
                  </a:cubicBezTo>
                  <a:cubicBezTo>
                    <a:pt x="44" y="112"/>
                    <a:pt x="56" y="73"/>
                    <a:pt x="54" y="43"/>
                  </a:cubicBezTo>
                  <a:cubicBezTo>
                    <a:pt x="54" y="30"/>
                    <a:pt x="50" y="14"/>
                    <a:pt x="43" y="0"/>
                  </a:cubicBezTo>
                  <a:cubicBezTo>
                    <a:pt x="8" y="37"/>
                    <a:pt x="0" y="94"/>
                    <a:pt x="20" y="140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1" name="组合 313"/>
          <p:cNvGrpSpPr/>
          <p:nvPr/>
        </p:nvGrpSpPr>
        <p:grpSpPr>
          <a:xfrm>
            <a:off x="7938360" y="3479400"/>
            <a:ext cx="359280" cy="669240"/>
            <a:chOff x="7938360" y="3479400"/>
            <a:chExt cx="359280" cy="669240"/>
          </a:xfrm>
        </p:grpSpPr>
        <p:sp>
          <p:nvSpPr>
            <p:cNvPr id="3192" name="Freeform 126"/>
            <p:cNvSpPr/>
            <p:nvPr/>
          </p:nvSpPr>
          <p:spPr>
            <a:xfrm rot="20763600">
              <a:off x="7970760" y="3824640"/>
              <a:ext cx="241200" cy="29952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66" y="0"/>
                  </a:moveTo>
                  <a:cubicBezTo>
                    <a:pt x="66" y="0"/>
                    <a:pt x="0" y="78"/>
                    <a:pt x="43" y="93"/>
                  </a:cubicBezTo>
                  <a:cubicBezTo>
                    <a:pt x="86" y="108"/>
                    <a:pt x="73" y="45"/>
                    <a:pt x="6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26"/>
            <p:cNvSpPr/>
            <p:nvPr/>
          </p:nvSpPr>
          <p:spPr>
            <a:xfrm rot="9844200">
              <a:off x="8019720" y="3506400"/>
              <a:ext cx="241200" cy="29952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66" y="0"/>
                  </a:moveTo>
                  <a:cubicBezTo>
                    <a:pt x="66" y="0"/>
                    <a:pt x="0" y="78"/>
                    <a:pt x="43" y="93"/>
                  </a:cubicBezTo>
                  <a:cubicBezTo>
                    <a:pt x="86" y="108"/>
                    <a:pt x="73" y="45"/>
                    <a:pt x="66" y="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4" name="组合 1"/>
          <p:cNvGrpSpPr/>
          <p:nvPr/>
        </p:nvGrpSpPr>
        <p:grpSpPr>
          <a:xfrm>
            <a:off x="1106640" y="2657520"/>
            <a:ext cx="3262320" cy="1452600"/>
            <a:chOff x="1106640" y="2657520"/>
            <a:chExt cx="3262320" cy="1452600"/>
          </a:xfrm>
        </p:grpSpPr>
        <p:sp>
          <p:nvSpPr>
            <p:cNvPr id="3195" name="文本框 314"/>
            <p:cNvSpPr/>
            <p:nvPr/>
          </p:nvSpPr>
          <p:spPr>
            <a:xfrm>
              <a:off x="1172520" y="2706480"/>
              <a:ext cx="3196440" cy="1403640"/>
            </a:xfrm>
            <a:custGeom>
              <a:avLst/>
              <a:gdLst/>
              <a:ahLst/>
              <a:rect l="l" t="t" r="r" b="b"/>
              <a:pathLst>
                <a:path w="3197126" h="1403449">
                  <a:moveTo>
                    <a:pt x="636687" y="266997"/>
                  </a:moveTo>
                  <a:lnTo>
                    <a:pt x="800993" y="266997"/>
                  </a:lnTo>
                  <a:lnTo>
                    <a:pt x="800993" y="410765"/>
                  </a:lnTo>
                  <a:lnTo>
                    <a:pt x="1143298" y="410765"/>
                  </a:lnTo>
                  <a:lnTo>
                    <a:pt x="1143298" y="561379"/>
                  </a:lnTo>
                  <a:lnTo>
                    <a:pt x="800993" y="561379"/>
                  </a:lnTo>
                  <a:lnTo>
                    <a:pt x="1156990" y="937914"/>
                  </a:lnTo>
                  <a:lnTo>
                    <a:pt x="1115914" y="1102221"/>
                  </a:lnTo>
                  <a:lnTo>
                    <a:pt x="800993" y="759916"/>
                  </a:lnTo>
                  <a:lnTo>
                    <a:pt x="800993" y="1136451"/>
                  </a:lnTo>
                  <a:lnTo>
                    <a:pt x="636687" y="1136451"/>
                  </a:lnTo>
                  <a:lnTo>
                    <a:pt x="636687" y="759916"/>
                  </a:lnTo>
                  <a:lnTo>
                    <a:pt x="308075" y="1109067"/>
                  </a:lnTo>
                  <a:lnTo>
                    <a:pt x="280690" y="937914"/>
                  </a:lnTo>
                  <a:lnTo>
                    <a:pt x="636687" y="561379"/>
                  </a:lnTo>
                  <a:lnTo>
                    <a:pt x="301228" y="561379"/>
                  </a:lnTo>
                  <a:lnTo>
                    <a:pt x="301228" y="410765"/>
                  </a:lnTo>
                  <a:lnTo>
                    <a:pt x="636687" y="410765"/>
                  </a:lnTo>
                  <a:close/>
                  <a:moveTo>
                    <a:pt x="164307" y="157460"/>
                  </a:moveTo>
                  <a:lnTo>
                    <a:pt x="164307" y="1252835"/>
                  </a:lnTo>
                  <a:lnTo>
                    <a:pt x="1280220" y="1252835"/>
                  </a:lnTo>
                  <a:lnTo>
                    <a:pt x="1280220" y="157460"/>
                  </a:lnTo>
                  <a:close/>
                  <a:moveTo>
                    <a:pt x="0" y="13692"/>
                  </a:moveTo>
                  <a:lnTo>
                    <a:pt x="1444526" y="13692"/>
                  </a:lnTo>
                  <a:lnTo>
                    <a:pt x="1444526" y="1403449"/>
                  </a:lnTo>
                  <a:lnTo>
                    <a:pt x="0" y="1403449"/>
                  </a:lnTo>
                  <a:close/>
                  <a:moveTo>
                    <a:pt x="1745754" y="0"/>
                  </a:moveTo>
                  <a:lnTo>
                    <a:pt x="3183434" y="0"/>
                  </a:lnTo>
                  <a:lnTo>
                    <a:pt x="3183434" y="143767"/>
                  </a:lnTo>
                  <a:lnTo>
                    <a:pt x="2800053" y="143767"/>
                  </a:lnTo>
                  <a:lnTo>
                    <a:pt x="2800053" y="691455"/>
                  </a:lnTo>
                  <a:lnTo>
                    <a:pt x="3149203" y="308074"/>
                  </a:lnTo>
                  <a:lnTo>
                    <a:pt x="3197126" y="465534"/>
                  </a:lnTo>
                  <a:lnTo>
                    <a:pt x="2800053" y="896838"/>
                  </a:lnTo>
                  <a:lnTo>
                    <a:pt x="2800053" y="1252835"/>
                  </a:lnTo>
                  <a:lnTo>
                    <a:pt x="3197126" y="1252835"/>
                  </a:lnTo>
                  <a:lnTo>
                    <a:pt x="3190280" y="1403449"/>
                  </a:lnTo>
                  <a:lnTo>
                    <a:pt x="2635746" y="1403449"/>
                  </a:lnTo>
                  <a:lnTo>
                    <a:pt x="2635746" y="143767"/>
                  </a:lnTo>
                  <a:lnTo>
                    <a:pt x="2197596" y="143767"/>
                  </a:lnTo>
                  <a:lnTo>
                    <a:pt x="2049134" y="369689"/>
                  </a:lnTo>
                  <a:lnTo>
                    <a:pt x="2396133" y="369689"/>
                  </a:lnTo>
                  <a:lnTo>
                    <a:pt x="2396133" y="794146"/>
                  </a:lnTo>
                  <a:lnTo>
                    <a:pt x="1868984" y="1403449"/>
                  </a:lnTo>
                  <a:lnTo>
                    <a:pt x="1711524" y="1369218"/>
                  </a:lnTo>
                  <a:lnTo>
                    <a:pt x="1978516" y="1049530"/>
                  </a:lnTo>
                  <a:lnTo>
                    <a:pt x="1711524" y="794146"/>
                  </a:lnTo>
                  <a:lnTo>
                    <a:pt x="1862138" y="732532"/>
                  </a:lnTo>
                  <a:lnTo>
                    <a:pt x="2074008" y="935190"/>
                  </a:lnTo>
                  <a:lnTo>
                    <a:pt x="2231827" y="746224"/>
                  </a:lnTo>
                  <a:lnTo>
                    <a:pt x="2231827" y="513457"/>
                  </a:lnTo>
                  <a:lnTo>
                    <a:pt x="1954658" y="513457"/>
                  </a:lnTo>
                  <a:lnTo>
                    <a:pt x="1882676" y="622994"/>
                  </a:lnTo>
                  <a:lnTo>
                    <a:pt x="1725216" y="588764"/>
                  </a:lnTo>
                  <a:lnTo>
                    <a:pt x="2019598" y="143767"/>
                  </a:lnTo>
                  <a:lnTo>
                    <a:pt x="1745754" y="143767"/>
                  </a:lnTo>
                  <a:close/>
                </a:path>
              </a:pathLst>
            </a:custGeom>
            <a:solidFill>
              <a:srgbClr val="50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文本框 316"/>
            <p:cNvSpPr/>
            <p:nvPr/>
          </p:nvSpPr>
          <p:spPr>
            <a:xfrm>
              <a:off x="1106640" y="2657520"/>
              <a:ext cx="3196440" cy="1403640"/>
            </a:xfrm>
            <a:custGeom>
              <a:avLst/>
              <a:gdLst/>
              <a:ahLst/>
              <a:rect l="l" t="t" r="r" b="b"/>
              <a:pathLst>
                <a:path w="3197126" h="1403449">
                  <a:moveTo>
                    <a:pt x="636687" y="266997"/>
                  </a:moveTo>
                  <a:lnTo>
                    <a:pt x="800993" y="266997"/>
                  </a:lnTo>
                  <a:lnTo>
                    <a:pt x="800993" y="410765"/>
                  </a:lnTo>
                  <a:lnTo>
                    <a:pt x="1143298" y="410765"/>
                  </a:lnTo>
                  <a:lnTo>
                    <a:pt x="1143298" y="561379"/>
                  </a:lnTo>
                  <a:lnTo>
                    <a:pt x="800993" y="561379"/>
                  </a:lnTo>
                  <a:lnTo>
                    <a:pt x="1156990" y="937914"/>
                  </a:lnTo>
                  <a:lnTo>
                    <a:pt x="1115914" y="1102221"/>
                  </a:lnTo>
                  <a:lnTo>
                    <a:pt x="800993" y="759916"/>
                  </a:lnTo>
                  <a:lnTo>
                    <a:pt x="800993" y="1136451"/>
                  </a:lnTo>
                  <a:lnTo>
                    <a:pt x="636687" y="1136451"/>
                  </a:lnTo>
                  <a:lnTo>
                    <a:pt x="636687" y="759916"/>
                  </a:lnTo>
                  <a:lnTo>
                    <a:pt x="308075" y="1109067"/>
                  </a:lnTo>
                  <a:lnTo>
                    <a:pt x="280690" y="937914"/>
                  </a:lnTo>
                  <a:lnTo>
                    <a:pt x="636687" y="561379"/>
                  </a:lnTo>
                  <a:lnTo>
                    <a:pt x="301228" y="561379"/>
                  </a:lnTo>
                  <a:lnTo>
                    <a:pt x="301228" y="410765"/>
                  </a:lnTo>
                  <a:lnTo>
                    <a:pt x="636687" y="410765"/>
                  </a:lnTo>
                  <a:close/>
                  <a:moveTo>
                    <a:pt x="164307" y="157460"/>
                  </a:moveTo>
                  <a:lnTo>
                    <a:pt x="164307" y="1252835"/>
                  </a:lnTo>
                  <a:lnTo>
                    <a:pt x="1280220" y="1252835"/>
                  </a:lnTo>
                  <a:lnTo>
                    <a:pt x="1280220" y="157460"/>
                  </a:lnTo>
                  <a:close/>
                  <a:moveTo>
                    <a:pt x="0" y="13692"/>
                  </a:moveTo>
                  <a:lnTo>
                    <a:pt x="1444526" y="13692"/>
                  </a:lnTo>
                  <a:lnTo>
                    <a:pt x="1444526" y="1403449"/>
                  </a:lnTo>
                  <a:lnTo>
                    <a:pt x="0" y="1403449"/>
                  </a:lnTo>
                  <a:close/>
                  <a:moveTo>
                    <a:pt x="1745754" y="0"/>
                  </a:moveTo>
                  <a:lnTo>
                    <a:pt x="3183434" y="0"/>
                  </a:lnTo>
                  <a:lnTo>
                    <a:pt x="3183434" y="143767"/>
                  </a:lnTo>
                  <a:lnTo>
                    <a:pt x="2800053" y="143767"/>
                  </a:lnTo>
                  <a:lnTo>
                    <a:pt x="2800053" y="691455"/>
                  </a:lnTo>
                  <a:lnTo>
                    <a:pt x="3149203" y="308074"/>
                  </a:lnTo>
                  <a:lnTo>
                    <a:pt x="3197126" y="465534"/>
                  </a:lnTo>
                  <a:lnTo>
                    <a:pt x="2800053" y="896838"/>
                  </a:lnTo>
                  <a:lnTo>
                    <a:pt x="2800053" y="1252835"/>
                  </a:lnTo>
                  <a:lnTo>
                    <a:pt x="3197126" y="1252835"/>
                  </a:lnTo>
                  <a:lnTo>
                    <a:pt x="3190280" y="1403449"/>
                  </a:lnTo>
                  <a:lnTo>
                    <a:pt x="2635746" y="1403449"/>
                  </a:lnTo>
                  <a:lnTo>
                    <a:pt x="2635746" y="143767"/>
                  </a:lnTo>
                  <a:lnTo>
                    <a:pt x="2197596" y="143767"/>
                  </a:lnTo>
                  <a:lnTo>
                    <a:pt x="2049134" y="369689"/>
                  </a:lnTo>
                  <a:lnTo>
                    <a:pt x="2396133" y="369689"/>
                  </a:lnTo>
                  <a:lnTo>
                    <a:pt x="2396133" y="794146"/>
                  </a:lnTo>
                  <a:lnTo>
                    <a:pt x="1868984" y="1403449"/>
                  </a:lnTo>
                  <a:lnTo>
                    <a:pt x="1711524" y="1369218"/>
                  </a:lnTo>
                  <a:lnTo>
                    <a:pt x="1978516" y="1049530"/>
                  </a:lnTo>
                  <a:lnTo>
                    <a:pt x="1711524" y="794146"/>
                  </a:lnTo>
                  <a:lnTo>
                    <a:pt x="1862138" y="732532"/>
                  </a:lnTo>
                  <a:lnTo>
                    <a:pt x="2074008" y="935190"/>
                  </a:lnTo>
                  <a:lnTo>
                    <a:pt x="2231827" y="746224"/>
                  </a:lnTo>
                  <a:lnTo>
                    <a:pt x="2231827" y="513457"/>
                  </a:lnTo>
                  <a:lnTo>
                    <a:pt x="1954658" y="513457"/>
                  </a:lnTo>
                  <a:lnTo>
                    <a:pt x="1882676" y="622994"/>
                  </a:lnTo>
                  <a:lnTo>
                    <a:pt x="1725216" y="588764"/>
                  </a:lnTo>
                  <a:lnTo>
                    <a:pt x="2019598" y="143767"/>
                  </a:lnTo>
                  <a:lnTo>
                    <a:pt x="1745754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7" name="文本框 307"/>
          <p:cNvSpPr/>
          <p:nvPr/>
        </p:nvSpPr>
        <p:spPr>
          <a:xfrm>
            <a:off x="1122480" y="1795320"/>
            <a:ext cx="3957480" cy="417600"/>
          </a:xfrm>
          <a:custGeom>
            <a:avLst/>
            <a:gdLst/>
            <a:ahLst/>
            <a:rect l="l" t="t" r="r" b="b"/>
            <a:pathLst>
              <a:path w="3956112" h="418059">
                <a:moveTo>
                  <a:pt x="3768774" y="315516"/>
                </a:moveTo>
                <a:lnTo>
                  <a:pt x="3818074" y="315516"/>
                </a:lnTo>
                <a:lnTo>
                  <a:pt x="3818074" y="374675"/>
                </a:lnTo>
                <a:lnTo>
                  <a:pt x="3956112" y="374675"/>
                </a:lnTo>
                <a:lnTo>
                  <a:pt x="3956112" y="418059"/>
                </a:lnTo>
                <a:lnTo>
                  <a:pt x="3768774" y="418059"/>
                </a:lnTo>
                <a:close/>
                <a:moveTo>
                  <a:pt x="3080556" y="287908"/>
                </a:moveTo>
                <a:lnTo>
                  <a:pt x="3080556" y="364815"/>
                </a:lnTo>
                <a:lnTo>
                  <a:pt x="3112107" y="364815"/>
                </a:lnTo>
                <a:lnTo>
                  <a:pt x="3112107" y="287908"/>
                </a:lnTo>
                <a:close/>
                <a:moveTo>
                  <a:pt x="2684189" y="280021"/>
                </a:moveTo>
                <a:lnTo>
                  <a:pt x="2684189" y="354956"/>
                </a:lnTo>
                <a:lnTo>
                  <a:pt x="2788704" y="354956"/>
                </a:lnTo>
                <a:lnTo>
                  <a:pt x="2788704" y="280021"/>
                </a:lnTo>
                <a:close/>
                <a:moveTo>
                  <a:pt x="1554249" y="254385"/>
                </a:moveTo>
                <a:lnTo>
                  <a:pt x="1601576" y="266217"/>
                </a:lnTo>
                <a:lnTo>
                  <a:pt x="1552277" y="418059"/>
                </a:lnTo>
                <a:lnTo>
                  <a:pt x="1504950" y="408199"/>
                </a:lnTo>
                <a:close/>
                <a:moveTo>
                  <a:pt x="3344800" y="242553"/>
                </a:moveTo>
                <a:lnTo>
                  <a:pt x="3344800" y="297768"/>
                </a:lnTo>
                <a:lnTo>
                  <a:pt x="3374380" y="297768"/>
                </a:lnTo>
                <a:lnTo>
                  <a:pt x="3374380" y="242553"/>
                </a:lnTo>
                <a:close/>
                <a:moveTo>
                  <a:pt x="3265921" y="242553"/>
                </a:moveTo>
                <a:lnTo>
                  <a:pt x="3265921" y="297768"/>
                </a:lnTo>
                <a:lnTo>
                  <a:pt x="3295501" y="297768"/>
                </a:lnTo>
                <a:lnTo>
                  <a:pt x="3295501" y="242553"/>
                </a:lnTo>
                <a:close/>
                <a:moveTo>
                  <a:pt x="2068934" y="232693"/>
                </a:moveTo>
                <a:lnTo>
                  <a:pt x="2068934" y="374675"/>
                </a:lnTo>
                <a:lnTo>
                  <a:pt x="2143869" y="374675"/>
                </a:lnTo>
                <a:lnTo>
                  <a:pt x="2143869" y="232693"/>
                </a:lnTo>
                <a:close/>
                <a:moveTo>
                  <a:pt x="3723419" y="222833"/>
                </a:moveTo>
                <a:lnTo>
                  <a:pt x="3774690" y="222833"/>
                </a:lnTo>
                <a:lnTo>
                  <a:pt x="3774690" y="293824"/>
                </a:lnTo>
                <a:lnTo>
                  <a:pt x="3577493" y="418059"/>
                </a:lnTo>
                <a:lnTo>
                  <a:pt x="3524250" y="406227"/>
                </a:lnTo>
                <a:lnTo>
                  <a:pt x="3723419" y="278049"/>
                </a:lnTo>
                <a:close/>
                <a:moveTo>
                  <a:pt x="165645" y="222833"/>
                </a:moveTo>
                <a:lnTo>
                  <a:pt x="165645" y="374675"/>
                </a:lnTo>
                <a:lnTo>
                  <a:pt x="220861" y="374675"/>
                </a:lnTo>
                <a:lnTo>
                  <a:pt x="220861" y="222833"/>
                </a:lnTo>
                <a:close/>
                <a:moveTo>
                  <a:pt x="3080556" y="175506"/>
                </a:moveTo>
                <a:lnTo>
                  <a:pt x="3080556" y="244525"/>
                </a:lnTo>
                <a:lnTo>
                  <a:pt x="3112107" y="244525"/>
                </a:lnTo>
                <a:lnTo>
                  <a:pt x="3112107" y="175506"/>
                </a:lnTo>
                <a:close/>
                <a:moveTo>
                  <a:pt x="2684189" y="169590"/>
                </a:moveTo>
                <a:lnTo>
                  <a:pt x="2684189" y="236637"/>
                </a:lnTo>
                <a:lnTo>
                  <a:pt x="2788704" y="236637"/>
                </a:lnTo>
                <a:lnTo>
                  <a:pt x="2788704" y="169590"/>
                </a:lnTo>
                <a:close/>
                <a:moveTo>
                  <a:pt x="1656792" y="169590"/>
                </a:moveTo>
                <a:lnTo>
                  <a:pt x="1932868" y="169590"/>
                </a:lnTo>
                <a:lnTo>
                  <a:pt x="1932868" y="246497"/>
                </a:lnTo>
                <a:lnTo>
                  <a:pt x="1828640" y="316249"/>
                </a:lnTo>
                <a:lnTo>
                  <a:pt x="1944700" y="390451"/>
                </a:lnTo>
                <a:lnTo>
                  <a:pt x="1907232" y="418059"/>
                </a:lnTo>
                <a:lnTo>
                  <a:pt x="1788766" y="342934"/>
                </a:lnTo>
                <a:lnTo>
                  <a:pt x="1676511" y="418059"/>
                </a:lnTo>
                <a:lnTo>
                  <a:pt x="1639044" y="392423"/>
                </a:lnTo>
                <a:lnTo>
                  <a:pt x="1749389" y="317963"/>
                </a:lnTo>
                <a:lnTo>
                  <a:pt x="1664680" y="264245"/>
                </a:lnTo>
                <a:lnTo>
                  <a:pt x="1704119" y="236637"/>
                </a:lnTo>
                <a:lnTo>
                  <a:pt x="1789249" y="291065"/>
                </a:lnTo>
                <a:lnTo>
                  <a:pt x="1881597" y="228749"/>
                </a:lnTo>
                <a:lnTo>
                  <a:pt x="1881597" y="211001"/>
                </a:lnTo>
                <a:lnTo>
                  <a:pt x="1656792" y="211001"/>
                </a:lnTo>
                <a:close/>
                <a:moveTo>
                  <a:pt x="2281907" y="149870"/>
                </a:moveTo>
                <a:lnTo>
                  <a:pt x="2331206" y="295796"/>
                </a:lnTo>
                <a:lnTo>
                  <a:pt x="2297683" y="331292"/>
                </a:lnTo>
                <a:lnTo>
                  <a:pt x="2248383" y="185366"/>
                </a:lnTo>
                <a:close/>
                <a:moveTo>
                  <a:pt x="3547913" y="147898"/>
                </a:moveTo>
                <a:lnTo>
                  <a:pt x="3942308" y="147898"/>
                </a:lnTo>
                <a:lnTo>
                  <a:pt x="3942308" y="309600"/>
                </a:lnTo>
                <a:lnTo>
                  <a:pt x="3893009" y="309600"/>
                </a:lnTo>
                <a:lnTo>
                  <a:pt x="3893009" y="191282"/>
                </a:lnTo>
                <a:lnTo>
                  <a:pt x="3597213" y="191282"/>
                </a:lnTo>
                <a:lnTo>
                  <a:pt x="3597213" y="309600"/>
                </a:lnTo>
                <a:lnTo>
                  <a:pt x="3547913" y="309600"/>
                </a:lnTo>
                <a:close/>
                <a:moveTo>
                  <a:pt x="3344800" y="147898"/>
                </a:moveTo>
                <a:lnTo>
                  <a:pt x="3344800" y="201142"/>
                </a:lnTo>
                <a:lnTo>
                  <a:pt x="3374380" y="201142"/>
                </a:lnTo>
                <a:lnTo>
                  <a:pt x="3374380" y="147898"/>
                </a:lnTo>
                <a:close/>
                <a:moveTo>
                  <a:pt x="3265921" y="147898"/>
                </a:moveTo>
                <a:lnTo>
                  <a:pt x="3265921" y="201142"/>
                </a:lnTo>
                <a:lnTo>
                  <a:pt x="3295501" y="201142"/>
                </a:lnTo>
                <a:lnTo>
                  <a:pt x="3295501" y="147898"/>
                </a:lnTo>
                <a:close/>
                <a:moveTo>
                  <a:pt x="1524670" y="130151"/>
                </a:moveTo>
                <a:lnTo>
                  <a:pt x="1597633" y="181422"/>
                </a:lnTo>
                <a:lnTo>
                  <a:pt x="1579885" y="226777"/>
                </a:lnTo>
                <a:lnTo>
                  <a:pt x="1506922" y="173534"/>
                </a:lnTo>
                <a:close/>
                <a:moveTo>
                  <a:pt x="2636862" y="126207"/>
                </a:moveTo>
                <a:lnTo>
                  <a:pt x="2836031" y="126207"/>
                </a:lnTo>
                <a:lnTo>
                  <a:pt x="2836031" y="398339"/>
                </a:lnTo>
                <a:lnTo>
                  <a:pt x="2636862" y="398339"/>
                </a:lnTo>
                <a:close/>
                <a:moveTo>
                  <a:pt x="906884" y="116347"/>
                </a:moveTo>
                <a:lnTo>
                  <a:pt x="906884" y="218889"/>
                </a:lnTo>
                <a:lnTo>
                  <a:pt x="1072530" y="218889"/>
                </a:lnTo>
                <a:lnTo>
                  <a:pt x="1072530" y="116347"/>
                </a:lnTo>
                <a:close/>
                <a:moveTo>
                  <a:pt x="563984" y="116347"/>
                </a:moveTo>
                <a:lnTo>
                  <a:pt x="563984" y="218889"/>
                </a:lnTo>
                <a:lnTo>
                  <a:pt x="729630" y="218889"/>
                </a:lnTo>
                <a:lnTo>
                  <a:pt x="729630" y="116347"/>
                </a:lnTo>
                <a:close/>
                <a:moveTo>
                  <a:pt x="2524460" y="96627"/>
                </a:moveTo>
                <a:lnTo>
                  <a:pt x="2573759" y="96627"/>
                </a:lnTo>
                <a:lnTo>
                  <a:pt x="2573759" y="418059"/>
                </a:lnTo>
                <a:lnTo>
                  <a:pt x="2524460" y="418059"/>
                </a:lnTo>
                <a:close/>
                <a:moveTo>
                  <a:pt x="1178793" y="70991"/>
                </a:moveTo>
                <a:lnTo>
                  <a:pt x="1452897" y="70991"/>
                </a:lnTo>
                <a:lnTo>
                  <a:pt x="1452897" y="114375"/>
                </a:lnTo>
                <a:lnTo>
                  <a:pt x="1340495" y="114375"/>
                </a:lnTo>
                <a:lnTo>
                  <a:pt x="1340495" y="388479"/>
                </a:lnTo>
                <a:lnTo>
                  <a:pt x="1291195" y="388479"/>
                </a:lnTo>
                <a:lnTo>
                  <a:pt x="1291195" y="114375"/>
                </a:lnTo>
                <a:lnTo>
                  <a:pt x="1178793" y="114375"/>
                </a:lnTo>
                <a:close/>
                <a:moveTo>
                  <a:pt x="855613" y="70991"/>
                </a:moveTo>
                <a:lnTo>
                  <a:pt x="1123801" y="70991"/>
                </a:lnTo>
                <a:lnTo>
                  <a:pt x="1123801" y="264245"/>
                </a:lnTo>
                <a:lnTo>
                  <a:pt x="906884" y="264245"/>
                </a:lnTo>
                <a:lnTo>
                  <a:pt x="906884" y="388479"/>
                </a:lnTo>
                <a:lnTo>
                  <a:pt x="855613" y="388479"/>
                </a:lnTo>
                <a:close/>
                <a:moveTo>
                  <a:pt x="512713" y="70991"/>
                </a:moveTo>
                <a:lnTo>
                  <a:pt x="780901" y="70991"/>
                </a:lnTo>
                <a:lnTo>
                  <a:pt x="780901" y="264245"/>
                </a:lnTo>
                <a:lnTo>
                  <a:pt x="563984" y="264245"/>
                </a:lnTo>
                <a:lnTo>
                  <a:pt x="563984" y="388479"/>
                </a:lnTo>
                <a:lnTo>
                  <a:pt x="512713" y="388479"/>
                </a:lnTo>
                <a:close/>
                <a:moveTo>
                  <a:pt x="3080556" y="65075"/>
                </a:moveTo>
                <a:lnTo>
                  <a:pt x="3080556" y="134095"/>
                </a:lnTo>
                <a:lnTo>
                  <a:pt x="3112107" y="134095"/>
                </a:lnTo>
                <a:lnTo>
                  <a:pt x="3112107" y="65075"/>
                </a:lnTo>
                <a:close/>
                <a:moveTo>
                  <a:pt x="2068934" y="65075"/>
                </a:moveTo>
                <a:lnTo>
                  <a:pt x="2068934" y="187338"/>
                </a:lnTo>
                <a:lnTo>
                  <a:pt x="2143869" y="187338"/>
                </a:lnTo>
                <a:lnTo>
                  <a:pt x="2143869" y="65075"/>
                </a:lnTo>
                <a:close/>
                <a:moveTo>
                  <a:pt x="3031257" y="21692"/>
                </a:moveTo>
                <a:lnTo>
                  <a:pt x="3161407" y="21692"/>
                </a:lnTo>
                <a:lnTo>
                  <a:pt x="3161407" y="406227"/>
                </a:lnTo>
                <a:lnTo>
                  <a:pt x="3031257" y="406227"/>
                </a:lnTo>
                <a:close/>
                <a:moveTo>
                  <a:pt x="2672358" y="21692"/>
                </a:moveTo>
                <a:lnTo>
                  <a:pt x="2946462" y="21692"/>
                </a:lnTo>
                <a:lnTo>
                  <a:pt x="2946462" y="418059"/>
                </a:lnTo>
                <a:lnTo>
                  <a:pt x="2871527" y="418059"/>
                </a:lnTo>
                <a:lnTo>
                  <a:pt x="2871527" y="374675"/>
                </a:lnTo>
                <a:lnTo>
                  <a:pt x="2897162" y="374675"/>
                </a:lnTo>
                <a:lnTo>
                  <a:pt x="2897162" y="65075"/>
                </a:lnTo>
                <a:lnTo>
                  <a:pt x="2672358" y="65075"/>
                </a:lnTo>
                <a:close/>
                <a:moveTo>
                  <a:pt x="2021607" y="21692"/>
                </a:moveTo>
                <a:lnTo>
                  <a:pt x="2193168" y="21692"/>
                </a:lnTo>
                <a:lnTo>
                  <a:pt x="2193168" y="418059"/>
                </a:lnTo>
                <a:lnTo>
                  <a:pt x="2021607" y="418059"/>
                </a:lnTo>
                <a:close/>
                <a:moveTo>
                  <a:pt x="3443399" y="17748"/>
                </a:moveTo>
                <a:lnTo>
                  <a:pt x="3451287" y="59160"/>
                </a:lnTo>
                <a:lnTo>
                  <a:pt x="3344800" y="60823"/>
                </a:lnTo>
                <a:lnTo>
                  <a:pt x="3344800" y="104515"/>
                </a:lnTo>
                <a:lnTo>
                  <a:pt x="3447343" y="104515"/>
                </a:lnTo>
                <a:lnTo>
                  <a:pt x="3447343" y="147898"/>
                </a:lnTo>
                <a:lnTo>
                  <a:pt x="3423679" y="147898"/>
                </a:lnTo>
                <a:lnTo>
                  <a:pt x="3423679" y="201142"/>
                </a:lnTo>
                <a:lnTo>
                  <a:pt x="3453259" y="201142"/>
                </a:lnTo>
                <a:lnTo>
                  <a:pt x="3453259" y="242553"/>
                </a:lnTo>
                <a:lnTo>
                  <a:pt x="3423679" y="242553"/>
                </a:lnTo>
                <a:lnTo>
                  <a:pt x="3423679" y="297768"/>
                </a:lnTo>
                <a:lnTo>
                  <a:pt x="3447343" y="297768"/>
                </a:lnTo>
                <a:lnTo>
                  <a:pt x="3447343" y="339180"/>
                </a:lnTo>
                <a:lnTo>
                  <a:pt x="3344800" y="339180"/>
                </a:lnTo>
                <a:lnTo>
                  <a:pt x="3344800" y="378619"/>
                </a:lnTo>
                <a:lnTo>
                  <a:pt x="3455231" y="378619"/>
                </a:lnTo>
                <a:lnTo>
                  <a:pt x="3455231" y="418059"/>
                </a:lnTo>
                <a:lnTo>
                  <a:pt x="3183098" y="418059"/>
                </a:lnTo>
                <a:lnTo>
                  <a:pt x="3183098" y="378619"/>
                </a:lnTo>
                <a:lnTo>
                  <a:pt x="3295501" y="378619"/>
                </a:lnTo>
                <a:lnTo>
                  <a:pt x="3295501" y="339180"/>
                </a:lnTo>
                <a:lnTo>
                  <a:pt x="3194930" y="339180"/>
                </a:lnTo>
                <a:lnTo>
                  <a:pt x="3194930" y="297768"/>
                </a:lnTo>
                <a:lnTo>
                  <a:pt x="3216622" y="297768"/>
                </a:lnTo>
                <a:lnTo>
                  <a:pt x="3216622" y="242553"/>
                </a:lnTo>
                <a:lnTo>
                  <a:pt x="3185070" y="242553"/>
                </a:lnTo>
                <a:lnTo>
                  <a:pt x="3185070" y="201142"/>
                </a:lnTo>
                <a:lnTo>
                  <a:pt x="3216622" y="201142"/>
                </a:lnTo>
                <a:lnTo>
                  <a:pt x="3216622" y="147898"/>
                </a:lnTo>
                <a:lnTo>
                  <a:pt x="3194930" y="147898"/>
                </a:lnTo>
                <a:lnTo>
                  <a:pt x="3194930" y="104515"/>
                </a:lnTo>
                <a:lnTo>
                  <a:pt x="3295501" y="104515"/>
                </a:lnTo>
                <a:lnTo>
                  <a:pt x="3295501" y="61594"/>
                </a:lnTo>
                <a:lnTo>
                  <a:pt x="3198874" y="63104"/>
                </a:lnTo>
                <a:lnTo>
                  <a:pt x="3190986" y="23664"/>
                </a:lnTo>
                <a:close/>
                <a:moveTo>
                  <a:pt x="1670596" y="17748"/>
                </a:moveTo>
                <a:lnTo>
                  <a:pt x="1921036" y="17748"/>
                </a:lnTo>
                <a:lnTo>
                  <a:pt x="1938784" y="120291"/>
                </a:lnTo>
                <a:lnTo>
                  <a:pt x="1891456" y="128179"/>
                </a:lnTo>
                <a:lnTo>
                  <a:pt x="1879625" y="61132"/>
                </a:lnTo>
                <a:lnTo>
                  <a:pt x="1712007" y="61132"/>
                </a:lnTo>
                <a:lnTo>
                  <a:pt x="1700175" y="128179"/>
                </a:lnTo>
                <a:lnTo>
                  <a:pt x="1650876" y="122263"/>
                </a:lnTo>
                <a:close/>
                <a:moveTo>
                  <a:pt x="2378534" y="11832"/>
                </a:moveTo>
                <a:lnTo>
                  <a:pt x="2427833" y="11832"/>
                </a:lnTo>
                <a:lnTo>
                  <a:pt x="2427833" y="72963"/>
                </a:lnTo>
                <a:lnTo>
                  <a:pt x="2451497" y="72963"/>
                </a:lnTo>
                <a:lnTo>
                  <a:pt x="2451497" y="116347"/>
                </a:lnTo>
                <a:lnTo>
                  <a:pt x="2427833" y="116347"/>
                </a:lnTo>
                <a:lnTo>
                  <a:pt x="2427833" y="418059"/>
                </a:lnTo>
                <a:lnTo>
                  <a:pt x="2317402" y="418059"/>
                </a:lnTo>
                <a:lnTo>
                  <a:pt x="2317402" y="374675"/>
                </a:lnTo>
                <a:lnTo>
                  <a:pt x="2378534" y="374675"/>
                </a:lnTo>
                <a:lnTo>
                  <a:pt x="2378534" y="116347"/>
                </a:lnTo>
                <a:lnTo>
                  <a:pt x="2236552" y="116347"/>
                </a:lnTo>
                <a:lnTo>
                  <a:pt x="2236552" y="72963"/>
                </a:lnTo>
                <a:lnTo>
                  <a:pt x="2378534" y="72963"/>
                </a:lnTo>
                <a:close/>
                <a:moveTo>
                  <a:pt x="1532557" y="9860"/>
                </a:moveTo>
                <a:lnTo>
                  <a:pt x="1605520" y="61132"/>
                </a:lnTo>
                <a:lnTo>
                  <a:pt x="1587773" y="104515"/>
                </a:lnTo>
                <a:lnTo>
                  <a:pt x="1516782" y="55216"/>
                </a:lnTo>
                <a:close/>
                <a:moveTo>
                  <a:pt x="167618" y="9860"/>
                </a:moveTo>
                <a:lnTo>
                  <a:pt x="216917" y="9860"/>
                </a:lnTo>
                <a:lnTo>
                  <a:pt x="216917" y="59160"/>
                </a:lnTo>
                <a:lnTo>
                  <a:pt x="276076" y="59160"/>
                </a:lnTo>
                <a:lnTo>
                  <a:pt x="276076" y="100571"/>
                </a:lnTo>
                <a:lnTo>
                  <a:pt x="216917" y="100571"/>
                </a:lnTo>
                <a:lnTo>
                  <a:pt x="216917" y="179450"/>
                </a:lnTo>
                <a:lnTo>
                  <a:pt x="270160" y="179450"/>
                </a:lnTo>
                <a:lnTo>
                  <a:pt x="270160" y="418059"/>
                </a:lnTo>
                <a:lnTo>
                  <a:pt x="116346" y="418059"/>
                </a:lnTo>
                <a:lnTo>
                  <a:pt x="116346" y="179450"/>
                </a:lnTo>
                <a:lnTo>
                  <a:pt x="167618" y="179450"/>
                </a:lnTo>
                <a:lnTo>
                  <a:pt x="167618" y="100571"/>
                </a:lnTo>
                <a:lnTo>
                  <a:pt x="106486" y="100571"/>
                </a:lnTo>
                <a:lnTo>
                  <a:pt x="106486" y="59160"/>
                </a:lnTo>
                <a:lnTo>
                  <a:pt x="167618" y="59160"/>
                </a:lnTo>
                <a:close/>
                <a:moveTo>
                  <a:pt x="49299" y="9860"/>
                </a:moveTo>
                <a:lnTo>
                  <a:pt x="86766" y="37468"/>
                </a:lnTo>
                <a:lnTo>
                  <a:pt x="43426" y="195226"/>
                </a:lnTo>
                <a:lnTo>
                  <a:pt x="72963" y="195226"/>
                </a:lnTo>
                <a:lnTo>
                  <a:pt x="72963" y="418059"/>
                </a:lnTo>
                <a:lnTo>
                  <a:pt x="23664" y="418059"/>
                </a:lnTo>
                <a:lnTo>
                  <a:pt x="23664" y="206746"/>
                </a:lnTo>
                <a:lnTo>
                  <a:pt x="0" y="189310"/>
                </a:lnTo>
                <a:close/>
                <a:moveTo>
                  <a:pt x="299740" y="5916"/>
                </a:moveTo>
                <a:lnTo>
                  <a:pt x="326989" y="21692"/>
                </a:lnTo>
                <a:lnTo>
                  <a:pt x="439750" y="21692"/>
                </a:lnTo>
                <a:lnTo>
                  <a:pt x="439750" y="65075"/>
                </a:lnTo>
                <a:lnTo>
                  <a:pt x="427918" y="65075"/>
                </a:lnTo>
                <a:lnTo>
                  <a:pt x="427918" y="163674"/>
                </a:lnTo>
                <a:lnTo>
                  <a:pt x="380460" y="277046"/>
                </a:lnTo>
                <a:lnTo>
                  <a:pt x="433834" y="380591"/>
                </a:lnTo>
                <a:lnTo>
                  <a:pt x="410170" y="418059"/>
                </a:lnTo>
                <a:lnTo>
                  <a:pt x="360766" y="324093"/>
                </a:lnTo>
                <a:lnTo>
                  <a:pt x="321431" y="418059"/>
                </a:lnTo>
                <a:lnTo>
                  <a:pt x="293824" y="380591"/>
                </a:lnTo>
                <a:lnTo>
                  <a:pt x="336553" y="278041"/>
                </a:lnTo>
                <a:lnTo>
                  <a:pt x="309599" y="226777"/>
                </a:lnTo>
                <a:lnTo>
                  <a:pt x="335235" y="189310"/>
                </a:lnTo>
                <a:lnTo>
                  <a:pt x="356409" y="230387"/>
                </a:lnTo>
                <a:lnTo>
                  <a:pt x="382562" y="167618"/>
                </a:lnTo>
                <a:lnTo>
                  <a:pt x="382562" y="65075"/>
                </a:lnTo>
                <a:lnTo>
                  <a:pt x="334432" y="65075"/>
                </a:lnTo>
                <a:lnTo>
                  <a:pt x="325375" y="187338"/>
                </a:lnTo>
                <a:lnTo>
                  <a:pt x="287908" y="165646"/>
                </a:lnTo>
                <a:close/>
                <a:moveTo>
                  <a:pt x="2573759" y="1972"/>
                </a:moveTo>
                <a:lnTo>
                  <a:pt x="2650666" y="65075"/>
                </a:lnTo>
                <a:lnTo>
                  <a:pt x="2611226" y="94655"/>
                </a:lnTo>
                <a:lnTo>
                  <a:pt x="2534319" y="29580"/>
                </a:lnTo>
                <a:close/>
                <a:moveTo>
                  <a:pt x="3758914" y="0"/>
                </a:moveTo>
                <a:lnTo>
                  <a:pt x="3796382" y="53244"/>
                </a:lnTo>
                <a:lnTo>
                  <a:pt x="3847653" y="53244"/>
                </a:lnTo>
                <a:lnTo>
                  <a:pt x="3891037" y="1972"/>
                </a:lnTo>
                <a:lnTo>
                  <a:pt x="3938364" y="13804"/>
                </a:lnTo>
                <a:lnTo>
                  <a:pt x="3904840" y="53244"/>
                </a:lnTo>
                <a:lnTo>
                  <a:pt x="3954140" y="53244"/>
                </a:lnTo>
                <a:lnTo>
                  <a:pt x="3954140" y="126207"/>
                </a:lnTo>
                <a:lnTo>
                  <a:pt x="3906812" y="126207"/>
                </a:lnTo>
                <a:lnTo>
                  <a:pt x="3906812" y="94655"/>
                </a:lnTo>
                <a:lnTo>
                  <a:pt x="3585381" y="94655"/>
                </a:lnTo>
                <a:lnTo>
                  <a:pt x="3585381" y="126207"/>
                </a:lnTo>
                <a:lnTo>
                  <a:pt x="3538054" y="126207"/>
                </a:lnTo>
                <a:lnTo>
                  <a:pt x="3538054" y="53244"/>
                </a:lnTo>
                <a:lnTo>
                  <a:pt x="3589325" y="53244"/>
                </a:lnTo>
                <a:lnTo>
                  <a:pt x="3557773" y="13804"/>
                </a:lnTo>
                <a:lnTo>
                  <a:pt x="3607073" y="1972"/>
                </a:lnTo>
                <a:lnTo>
                  <a:pt x="3648484" y="53244"/>
                </a:lnTo>
                <a:lnTo>
                  <a:pt x="3739195" y="53244"/>
                </a:lnTo>
                <a:lnTo>
                  <a:pt x="3707643" y="118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2" dur="1000" fill="hold"/>
                                        <p:tgtEl>
                                          <p:spTgt spid="318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07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4" dur="1000" fill="hold"/>
                                        <p:tgtEl>
                                          <p:spTgt spid="3191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矩形 2213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47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9" name="图片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6480" y="3813120"/>
            <a:ext cx="12204720" cy="2768760"/>
          </a:xfrm>
          <a:prstGeom prst="rect">
            <a:avLst/>
          </a:prstGeom>
          <a:ln w="0">
            <a:noFill/>
          </a:ln>
        </p:spPr>
      </p:pic>
      <p:pic>
        <p:nvPicPr>
          <p:cNvPr id="3200" name="图片 1357" descr="">
            <a:hlinkClick r:id="rId4"/>
          </p:cNvPr>
          <p:cNvPicPr/>
          <p:nvPr/>
        </p:nvPicPr>
        <p:blipFill>
          <a:blip r:embed="rId5"/>
          <a:srcRect l="0" t="0" r="0" b="41398"/>
          <a:stretch/>
        </p:blipFill>
        <p:spPr>
          <a:xfrm>
            <a:off x="5997600" y="2765520"/>
            <a:ext cx="2066760" cy="2022480"/>
          </a:xfrm>
          <a:prstGeom prst="rect">
            <a:avLst/>
          </a:prstGeom>
          <a:ln w="0">
            <a:noFill/>
          </a:ln>
        </p:spPr>
      </p:pic>
      <p:sp>
        <p:nvSpPr>
          <p:cNvPr id="3201" name="文本框 19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0438" y="17748"/>
                </a:moveTo>
                <a:lnTo>
                  <a:pt x="1662149" y="17748"/>
                </a:lnTo>
                <a:lnTo>
                  <a:pt x="1662149" y="61131"/>
                </a:lnTo>
                <a:lnTo>
                  <a:pt x="1413681" y="61131"/>
                </a:lnTo>
                <a:lnTo>
                  <a:pt x="1413681" y="177478"/>
                </a:lnTo>
                <a:lnTo>
                  <a:pt x="1662149" y="177478"/>
                </a:lnTo>
                <a:lnTo>
                  <a:pt x="1662149" y="384535"/>
                </a:lnTo>
                <a:lnTo>
                  <a:pt x="1360438" y="384535"/>
                </a:lnTo>
                <a:lnTo>
                  <a:pt x="1360438" y="341152"/>
                </a:lnTo>
                <a:lnTo>
                  <a:pt x="1610878" y="341152"/>
                </a:lnTo>
                <a:lnTo>
                  <a:pt x="1610878" y="220861"/>
                </a:lnTo>
                <a:lnTo>
                  <a:pt x="1360438" y="22086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2" name="文本框 18"/>
          <p:cNvSpPr/>
          <p:nvPr/>
        </p:nvSpPr>
        <p:spPr>
          <a:xfrm>
            <a:off x="1128600" y="1798560"/>
            <a:ext cx="3457800" cy="414360"/>
          </a:xfrm>
          <a:custGeom>
            <a:avLst/>
            <a:gdLst/>
            <a:ahLst/>
            <a:rect l="l" t="t" r="r" b="b"/>
            <a:pathLst>
              <a:path w="3457203" h="414115">
                <a:moveTo>
                  <a:pt x="2567843" y="232693"/>
                </a:moveTo>
                <a:lnTo>
                  <a:pt x="2567843" y="370731"/>
                </a:lnTo>
                <a:lnTo>
                  <a:pt x="2662498" y="370731"/>
                </a:lnTo>
                <a:lnTo>
                  <a:pt x="2662498" y="232693"/>
                </a:lnTo>
                <a:close/>
                <a:moveTo>
                  <a:pt x="2169504" y="218889"/>
                </a:moveTo>
                <a:lnTo>
                  <a:pt x="2169504" y="370731"/>
                </a:lnTo>
                <a:lnTo>
                  <a:pt x="2224720" y="370731"/>
                </a:lnTo>
                <a:lnTo>
                  <a:pt x="2224720" y="218889"/>
                </a:lnTo>
                <a:close/>
                <a:moveTo>
                  <a:pt x="2806452" y="153814"/>
                </a:moveTo>
                <a:lnTo>
                  <a:pt x="2849835" y="254385"/>
                </a:lnTo>
                <a:lnTo>
                  <a:pt x="2814340" y="287908"/>
                </a:lnTo>
                <a:lnTo>
                  <a:pt x="2770956" y="187338"/>
                </a:lnTo>
                <a:close/>
                <a:moveTo>
                  <a:pt x="1405793" y="112403"/>
                </a:moveTo>
                <a:lnTo>
                  <a:pt x="1405793" y="214945"/>
                </a:lnTo>
                <a:lnTo>
                  <a:pt x="1571439" y="214945"/>
                </a:lnTo>
                <a:lnTo>
                  <a:pt x="1571439" y="112403"/>
                </a:lnTo>
                <a:close/>
                <a:moveTo>
                  <a:pt x="1062893" y="112403"/>
                </a:moveTo>
                <a:lnTo>
                  <a:pt x="1062893" y="214945"/>
                </a:lnTo>
                <a:lnTo>
                  <a:pt x="1228539" y="214945"/>
                </a:lnTo>
                <a:lnTo>
                  <a:pt x="1228539" y="112403"/>
                </a:lnTo>
                <a:close/>
                <a:moveTo>
                  <a:pt x="3307333" y="76907"/>
                </a:moveTo>
                <a:lnTo>
                  <a:pt x="3307333" y="216917"/>
                </a:lnTo>
                <a:lnTo>
                  <a:pt x="3390156" y="216917"/>
                </a:lnTo>
                <a:lnTo>
                  <a:pt x="3390156" y="76907"/>
                </a:lnTo>
                <a:close/>
                <a:moveTo>
                  <a:pt x="2567843" y="72963"/>
                </a:moveTo>
                <a:lnTo>
                  <a:pt x="2567843" y="189310"/>
                </a:lnTo>
                <a:lnTo>
                  <a:pt x="2662498" y="189310"/>
                </a:lnTo>
                <a:lnTo>
                  <a:pt x="2662498" y="72963"/>
                </a:lnTo>
                <a:close/>
                <a:moveTo>
                  <a:pt x="1677702" y="67047"/>
                </a:moveTo>
                <a:lnTo>
                  <a:pt x="1951806" y="67047"/>
                </a:lnTo>
                <a:lnTo>
                  <a:pt x="1951806" y="110431"/>
                </a:lnTo>
                <a:lnTo>
                  <a:pt x="1839404" y="110431"/>
                </a:lnTo>
                <a:lnTo>
                  <a:pt x="1839404" y="384535"/>
                </a:lnTo>
                <a:lnTo>
                  <a:pt x="1790104" y="384535"/>
                </a:lnTo>
                <a:lnTo>
                  <a:pt x="1790104" y="110431"/>
                </a:lnTo>
                <a:lnTo>
                  <a:pt x="1677702" y="110431"/>
                </a:lnTo>
                <a:close/>
                <a:moveTo>
                  <a:pt x="1354522" y="67047"/>
                </a:moveTo>
                <a:lnTo>
                  <a:pt x="1622710" y="67047"/>
                </a:lnTo>
                <a:lnTo>
                  <a:pt x="1622710" y="260301"/>
                </a:lnTo>
                <a:lnTo>
                  <a:pt x="1405793" y="260301"/>
                </a:lnTo>
                <a:lnTo>
                  <a:pt x="1405793" y="384535"/>
                </a:lnTo>
                <a:lnTo>
                  <a:pt x="1354522" y="384535"/>
                </a:lnTo>
                <a:close/>
                <a:moveTo>
                  <a:pt x="1011622" y="67047"/>
                </a:moveTo>
                <a:lnTo>
                  <a:pt x="1279810" y="67047"/>
                </a:lnTo>
                <a:lnTo>
                  <a:pt x="1279810" y="260301"/>
                </a:lnTo>
                <a:lnTo>
                  <a:pt x="1062893" y="260301"/>
                </a:lnTo>
                <a:lnTo>
                  <a:pt x="1062893" y="384535"/>
                </a:lnTo>
                <a:lnTo>
                  <a:pt x="1011622" y="384535"/>
                </a:lnTo>
                <a:close/>
                <a:moveTo>
                  <a:pt x="55215" y="57188"/>
                </a:moveTo>
                <a:lnTo>
                  <a:pt x="55215" y="130151"/>
                </a:lnTo>
                <a:lnTo>
                  <a:pt x="179449" y="130151"/>
                </a:lnTo>
                <a:lnTo>
                  <a:pt x="179449" y="57188"/>
                </a:lnTo>
                <a:close/>
                <a:moveTo>
                  <a:pt x="3019425" y="55216"/>
                </a:moveTo>
                <a:lnTo>
                  <a:pt x="3031256" y="132123"/>
                </a:lnTo>
                <a:lnTo>
                  <a:pt x="3011537" y="258329"/>
                </a:lnTo>
                <a:lnTo>
                  <a:pt x="2999705" y="181422"/>
                </a:lnTo>
                <a:close/>
                <a:moveTo>
                  <a:pt x="278048" y="17748"/>
                </a:moveTo>
                <a:lnTo>
                  <a:pt x="325375" y="17748"/>
                </a:lnTo>
                <a:lnTo>
                  <a:pt x="325375" y="323404"/>
                </a:lnTo>
                <a:lnTo>
                  <a:pt x="278048" y="323404"/>
                </a:lnTo>
                <a:close/>
                <a:moveTo>
                  <a:pt x="7888" y="13804"/>
                </a:moveTo>
                <a:lnTo>
                  <a:pt x="224805" y="13804"/>
                </a:lnTo>
                <a:lnTo>
                  <a:pt x="224805" y="171562"/>
                </a:lnTo>
                <a:lnTo>
                  <a:pt x="116346" y="171562"/>
                </a:lnTo>
                <a:lnTo>
                  <a:pt x="112402" y="218889"/>
                </a:lnTo>
                <a:lnTo>
                  <a:pt x="224805" y="218889"/>
                </a:lnTo>
                <a:lnTo>
                  <a:pt x="224805" y="414115"/>
                </a:lnTo>
                <a:lnTo>
                  <a:pt x="134094" y="414115"/>
                </a:lnTo>
                <a:lnTo>
                  <a:pt x="134094" y="372703"/>
                </a:lnTo>
                <a:lnTo>
                  <a:pt x="175505" y="372703"/>
                </a:lnTo>
                <a:lnTo>
                  <a:pt x="175505" y="262273"/>
                </a:lnTo>
                <a:lnTo>
                  <a:pt x="104514" y="262273"/>
                </a:lnTo>
                <a:lnTo>
                  <a:pt x="43383" y="414115"/>
                </a:lnTo>
                <a:lnTo>
                  <a:pt x="0" y="406227"/>
                </a:lnTo>
                <a:lnTo>
                  <a:pt x="55215" y="262273"/>
                </a:lnTo>
                <a:lnTo>
                  <a:pt x="7888" y="262273"/>
                </a:lnTo>
                <a:lnTo>
                  <a:pt x="7888" y="218889"/>
                </a:lnTo>
                <a:lnTo>
                  <a:pt x="65075" y="218889"/>
                </a:lnTo>
                <a:lnTo>
                  <a:pt x="69019" y="171562"/>
                </a:lnTo>
                <a:lnTo>
                  <a:pt x="7888" y="171562"/>
                </a:lnTo>
                <a:close/>
                <a:moveTo>
                  <a:pt x="3260005" y="7888"/>
                </a:moveTo>
                <a:lnTo>
                  <a:pt x="3307333" y="7888"/>
                </a:lnTo>
                <a:lnTo>
                  <a:pt x="3307333" y="35496"/>
                </a:lnTo>
                <a:lnTo>
                  <a:pt x="3435511" y="35496"/>
                </a:lnTo>
                <a:lnTo>
                  <a:pt x="3435511" y="216917"/>
                </a:lnTo>
                <a:lnTo>
                  <a:pt x="3457203" y="216917"/>
                </a:lnTo>
                <a:lnTo>
                  <a:pt x="3457203" y="258329"/>
                </a:lnTo>
                <a:lnTo>
                  <a:pt x="3311277" y="258329"/>
                </a:lnTo>
                <a:lnTo>
                  <a:pt x="3289568" y="284713"/>
                </a:lnTo>
                <a:lnTo>
                  <a:pt x="3455231" y="388479"/>
                </a:lnTo>
                <a:lnTo>
                  <a:pt x="3415791" y="414115"/>
                </a:lnTo>
                <a:lnTo>
                  <a:pt x="3261666" y="318624"/>
                </a:lnTo>
                <a:lnTo>
                  <a:pt x="3183098" y="414115"/>
                </a:lnTo>
                <a:lnTo>
                  <a:pt x="3139715" y="402283"/>
                </a:lnTo>
                <a:lnTo>
                  <a:pt x="3256061" y="258329"/>
                </a:lnTo>
                <a:lnTo>
                  <a:pt x="3155491" y="258329"/>
                </a:lnTo>
                <a:lnTo>
                  <a:pt x="3155491" y="216917"/>
                </a:lnTo>
                <a:lnTo>
                  <a:pt x="3260005" y="216917"/>
                </a:lnTo>
                <a:lnTo>
                  <a:pt x="3260005" y="76907"/>
                </a:lnTo>
                <a:lnTo>
                  <a:pt x="3161407" y="76907"/>
                </a:lnTo>
                <a:lnTo>
                  <a:pt x="3161407" y="35496"/>
                </a:lnTo>
                <a:lnTo>
                  <a:pt x="3260005" y="35496"/>
                </a:lnTo>
                <a:close/>
                <a:moveTo>
                  <a:pt x="3037172" y="7888"/>
                </a:moveTo>
                <a:lnTo>
                  <a:pt x="3084500" y="7888"/>
                </a:lnTo>
                <a:lnTo>
                  <a:pt x="3084500" y="65075"/>
                </a:lnTo>
                <a:lnTo>
                  <a:pt x="3131827" y="116347"/>
                </a:lnTo>
                <a:lnTo>
                  <a:pt x="3116051" y="167618"/>
                </a:lnTo>
                <a:lnTo>
                  <a:pt x="3084500" y="130151"/>
                </a:lnTo>
                <a:lnTo>
                  <a:pt x="3084500" y="414115"/>
                </a:lnTo>
                <a:lnTo>
                  <a:pt x="3037172" y="414115"/>
                </a:lnTo>
                <a:close/>
                <a:moveTo>
                  <a:pt x="2171476" y="5916"/>
                </a:moveTo>
                <a:lnTo>
                  <a:pt x="2220776" y="5916"/>
                </a:lnTo>
                <a:lnTo>
                  <a:pt x="2220776" y="55216"/>
                </a:lnTo>
                <a:lnTo>
                  <a:pt x="2279935" y="55216"/>
                </a:lnTo>
                <a:lnTo>
                  <a:pt x="2279935" y="96627"/>
                </a:lnTo>
                <a:lnTo>
                  <a:pt x="2220776" y="96627"/>
                </a:lnTo>
                <a:lnTo>
                  <a:pt x="2220776" y="175506"/>
                </a:lnTo>
                <a:lnTo>
                  <a:pt x="2274019" y="175506"/>
                </a:lnTo>
                <a:lnTo>
                  <a:pt x="2274019" y="414115"/>
                </a:lnTo>
                <a:lnTo>
                  <a:pt x="2120205" y="414115"/>
                </a:lnTo>
                <a:lnTo>
                  <a:pt x="2120205" y="175506"/>
                </a:lnTo>
                <a:lnTo>
                  <a:pt x="2171476" y="175506"/>
                </a:lnTo>
                <a:lnTo>
                  <a:pt x="2171476" y="96627"/>
                </a:lnTo>
                <a:lnTo>
                  <a:pt x="2110345" y="96627"/>
                </a:lnTo>
                <a:lnTo>
                  <a:pt x="2110345" y="55216"/>
                </a:lnTo>
                <a:lnTo>
                  <a:pt x="2171476" y="55216"/>
                </a:lnTo>
                <a:close/>
                <a:moveTo>
                  <a:pt x="2053158" y="5916"/>
                </a:moveTo>
                <a:lnTo>
                  <a:pt x="2090626" y="33524"/>
                </a:lnTo>
                <a:lnTo>
                  <a:pt x="2047285" y="191282"/>
                </a:lnTo>
                <a:lnTo>
                  <a:pt x="2076822" y="191282"/>
                </a:lnTo>
                <a:lnTo>
                  <a:pt x="2076822" y="414115"/>
                </a:lnTo>
                <a:lnTo>
                  <a:pt x="2027522" y="414115"/>
                </a:lnTo>
                <a:lnTo>
                  <a:pt x="2027522" y="202802"/>
                </a:lnTo>
                <a:lnTo>
                  <a:pt x="2003859" y="185366"/>
                </a:lnTo>
                <a:close/>
                <a:moveTo>
                  <a:pt x="694134" y="5916"/>
                </a:moveTo>
                <a:lnTo>
                  <a:pt x="745405" y="5916"/>
                </a:lnTo>
                <a:lnTo>
                  <a:pt x="745405" y="169590"/>
                </a:lnTo>
                <a:lnTo>
                  <a:pt x="930771" y="374675"/>
                </a:lnTo>
                <a:lnTo>
                  <a:pt x="903163" y="414115"/>
                </a:lnTo>
                <a:lnTo>
                  <a:pt x="717798" y="212973"/>
                </a:lnTo>
                <a:lnTo>
                  <a:pt x="532432" y="414115"/>
                </a:lnTo>
                <a:lnTo>
                  <a:pt x="506797" y="376647"/>
                </a:lnTo>
                <a:lnTo>
                  <a:pt x="694134" y="169590"/>
                </a:lnTo>
                <a:close/>
                <a:moveTo>
                  <a:pt x="2770956" y="3944"/>
                </a:moveTo>
                <a:lnTo>
                  <a:pt x="2797309" y="17748"/>
                </a:lnTo>
                <a:lnTo>
                  <a:pt x="2942518" y="17748"/>
                </a:lnTo>
                <a:lnTo>
                  <a:pt x="2938574" y="414115"/>
                </a:lnTo>
                <a:lnTo>
                  <a:pt x="2812368" y="414115"/>
                </a:lnTo>
                <a:lnTo>
                  <a:pt x="2812368" y="370731"/>
                </a:lnTo>
                <a:lnTo>
                  <a:pt x="2889274" y="370731"/>
                </a:lnTo>
                <a:lnTo>
                  <a:pt x="2893218" y="61131"/>
                </a:lnTo>
                <a:lnTo>
                  <a:pt x="2803916" y="61131"/>
                </a:lnTo>
                <a:lnTo>
                  <a:pt x="2782788" y="149870"/>
                </a:lnTo>
                <a:lnTo>
                  <a:pt x="2741377" y="128179"/>
                </a:lnTo>
                <a:close/>
                <a:moveTo>
                  <a:pt x="376646" y="3944"/>
                </a:moveTo>
                <a:lnTo>
                  <a:pt x="425946" y="3944"/>
                </a:lnTo>
                <a:lnTo>
                  <a:pt x="425946" y="414115"/>
                </a:lnTo>
                <a:lnTo>
                  <a:pt x="281992" y="414115"/>
                </a:lnTo>
                <a:lnTo>
                  <a:pt x="281992" y="370731"/>
                </a:lnTo>
                <a:lnTo>
                  <a:pt x="376646" y="370731"/>
                </a:lnTo>
                <a:close/>
                <a:moveTo>
                  <a:pt x="2303599" y="1972"/>
                </a:moveTo>
                <a:lnTo>
                  <a:pt x="2330848" y="17748"/>
                </a:lnTo>
                <a:lnTo>
                  <a:pt x="2443609" y="17748"/>
                </a:lnTo>
                <a:lnTo>
                  <a:pt x="2443609" y="61131"/>
                </a:lnTo>
                <a:lnTo>
                  <a:pt x="2431777" y="61131"/>
                </a:lnTo>
                <a:lnTo>
                  <a:pt x="2431777" y="159730"/>
                </a:lnTo>
                <a:lnTo>
                  <a:pt x="2384319" y="273102"/>
                </a:lnTo>
                <a:lnTo>
                  <a:pt x="2437693" y="376647"/>
                </a:lnTo>
                <a:lnTo>
                  <a:pt x="2414029" y="414115"/>
                </a:lnTo>
                <a:lnTo>
                  <a:pt x="2364625" y="320149"/>
                </a:lnTo>
                <a:lnTo>
                  <a:pt x="2325290" y="414115"/>
                </a:lnTo>
                <a:lnTo>
                  <a:pt x="2297683" y="376647"/>
                </a:lnTo>
                <a:lnTo>
                  <a:pt x="2340412" y="274097"/>
                </a:lnTo>
                <a:lnTo>
                  <a:pt x="2313458" y="222833"/>
                </a:lnTo>
                <a:lnTo>
                  <a:pt x="2339094" y="185366"/>
                </a:lnTo>
                <a:lnTo>
                  <a:pt x="2360268" y="226443"/>
                </a:lnTo>
                <a:lnTo>
                  <a:pt x="2386421" y="163674"/>
                </a:lnTo>
                <a:lnTo>
                  <a:pt x="2386421" y="61131"/>
                </a:lnTo>
                <a:lnTo>
                  <a:pt x="2338291" y="61131"/>
                </a:lnTo>
                <a:lnTo>
                  <a:pt x="2329234" y="183394"/>
                </a:lnTo>
                <a:lnTo>
                  <a:pt x="2291767" y="161702"/>
                </a:lnTo>
                <a:close/>
                <a:moveTo>
                  <a:pt x="2587563" y="0"/>
                </a:moveTo>
                <a:lnTo>
                  <a:pt x="2638834" y="7888"/>
                </a:lnTo>
                <a:lnTo>
                  <a:pt x="2632918" y="29580"/>
                </a:lnTo>
                <a:lnTo>
                  <a:pt x="2709825" y="29580"/>
                </a:lnTo>
                <a:lnTo>
                  <a:pt x="2709825" y="414115"/>
                </a:lnTo>
                <a:lnTo>
                  <a:pt x="2518544" y="414115"/>
                </a:lnTo>
                <a:lnTo>
                  <a:pt x="2518544" y="29580"/>
                </a:lnTo>
                <a:lnTo>
                  <a:pt x="2577703" y="29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3" name="组合 5"/>
          <p:cNvGrpSpPr/>
          <p:nvPr/>
        </p:nvGrpSpPr>
        <p:grpSpPr>
          <a:xfrm>
            <a:off x="7950240" y="4040280"/>
            <a:ext cx="731880" cy="430200"/>
            <a:chOff x="7950240" y="4040280"/>
            <a:chExt cx="731880" cy="430200"/>
          </a:xfrm>
        </p:grpSpPr>
        <p:sp>
          <p:nvSpPr>
            <p:cNvPr id="3204" name="Freeform 5695"/>
            <p:cNvSpPr/>
            <p:nvPr/>
          </p:nvSpPr>
          <p:spPr>
            <a:xfrm>
              <a:off x="7950240" y="4040280"/>
              <a:ext cx="731880" cy="430200"/>
            </a:xfrm>
            <a:custGeom>
              <a:avLst/>
              <a:gdLst/>
              <a:ahLst/>
              <a:rect l="l" t="t" r="r" b="b"/>
              <a:pathLst>
                <a:path w="239" h="140">
                  <a:moveTo>
                    <a:pt x="43" y="127"/>
                  </a:moveTo>
                  <a:cubicBezTo>
                    <a:pt x="41" y="126"/>
                    <a:pt x="39" y="125"/>
                    <a:pt x="37" y="124"/>
                  </a:cubicBezTo>
                  <a:cubicBezTo>
                    <a:pt x="26" y="119"/>
                    <a:pt x="21" y="112"/>
                    <a:pt x="14" y="103"/>
                  </a:cubicBezTo>
                  <a:cubicBezTo>
                    <a:pt x="8" y="96"/>
                    <a:pt x="4" y="87"/>
                    <a:pt x="2" y="78"/>
                  </a:cubicBezTo>
                  <a:cubicBezTo>
                    <a:pt x="0" y="66"/>
                    <a:pt x="0" y="53"/>
                    <a:pt x="4" y="41"/>
                  </a:cubicBezTo>
                  <a:cubicBezTo>
                    <a:pt x="8" y="29"/>
                    <a:pt x="18" y="19"/>
                    <a:pt x="30" y="13"/>
                  </a:cubicBezTo>
                  <a:cubicBezTo>
                    <a:pt x="43" y="6"/>
                    <a:pt x="58" y="2"/>
                    <a:pt x="72" y="0"/>
                  </a:cubicBezTo>
                  <a:cubicBezTo>
                    <a:pt x="69" y="4"/>
                    <a:pt x="63" y="7"/>
                    <a:pt x="62" y="13"/>
                  </a:cubicBezTo>
                  <a:cubicBezTo>
                    <a:pt x="68" y="11"/>
                    <a:pt x="74" y="9"/>
                    <a:pt x="80" y="8"/>
                  </a:cubicBezTo>
                  <a:cubicBezTo>
                    <a:pt x="89" y="6"/>
                    <a:pt x="98" y="3"/>
                    <a:pt x="107" y="2"/>
                  </a:cubicBezTo>
                  <a:cubicBezTo>
                    <a:pt x="118" y="1"/>
                    <a:pt x="130" y="3"/>
                    <a:pt x="142" y="3"/>
                  </a:cubicBezTo>
                  <a:cubicBezTo>
                    <a:pt x="136" y="4"/>
                    <a:pt x="128" y="9"/>
                    <a:pt x="127" y="14"/>
                  </a:cubicBezTo>
                  <a:cubicBezTo>
                    <a:pt x="139" y="7"/>
                    <a:pt x="164" y="13"/>
                    <a:pt x="176" y="18"/>
                  </a:cubicBezTo>
                  <a:cubicBezTo>
                    <a:pt x="189" y="23"/>
                    <a:pt x="201" y="29"/>
                    <a:pt x="211" y="38"/>
                  </a:cubicBezTo>
                  <a:cubicBezTo>
                    <a:pt x="205" y="35"/>
                    <a:pt x="195" y="36"/>
                    <a:pt x="189" y="38"/>
                  </a:cubicBezTo>
                  <a:cubicBezTo>
                    <a:pt x="200" y="38"/>
                    <a:pt x="211" y="48"/>
                    <a:pt x="218" y="55"/>
                  </a:cubicBezTo>
                  <a:cubicBezTo>
                    <a:pt x="223" y="60"/>
                    <a:pt x="228" y="66"/>
                    <a:pt x="232" y="71"/>
                  </a:cubicBezTo>
                  <a:cubicBezTo>
                    <a:pt x="235" y="74"/>
                    <a:pt x="237" y="78"/>
                    <a:pt x="239" y="80"/>
                  </a:cubicBezTo>
                  <a:cubicBezTo>
                    <a:pt x="238" y="78"/>
                    <a:pt x="223" y="85"/>
                    <a:pt x="222" y="86"/>
                  </a:cubicBezTo>
                  <a:cubicBezTo>
                    <a:pt x="218" y="89"/>
                    <a:pt x="214" y="93"/>
                    <a:pt x="210" y="96"/>
                  </a:cubicBezTo>
                  <a:cubicBezTo>
                    <a:pt x="206" y="99"/>
                    <a:pt x="202" y="104"/>
                    <a:pt x="197" y="106"/>
                  </a:cubicBezTo>
                  <a:cubicBezTo>
                    <a:pt x="192" y="109"/>
                    <a:pt x="189" y="112"/>
                    <a:pt x="183" y="112"/>
                  </a:cubicBezTo>
                  <a:cubicBezTo>
                    <a:pt x="177" y="113"/>
                    <a:pt x="172" y="113"/>
                    <a:pt x="166" y="113"/>
                  </a:cubicBezTo>
                  <a:cubicBezTo>
                    <a:pt x="172" y="119"/>
                    <a:pt x="180" y="120"/>
                    <a:pt x="188" y="122"/>
                  </a:cubicBezTo>
                  <a:cubicBezTo>
                    <a:pt x="190" y="123"/>
                    <a:pt x="193" y="123"/>
                    <a:pt x="195" y="125"/>
                  </a:cubicBezTo>
                  <a:cubicBezTo>
                    <a:pt x="191" y="129"/>
                    <a:pt x="178" y="129"/>
                    <a:pt x="172" y="130"/>
                  </a:cubicBezTo>
                  <a:cubicBezTo>
                    <a:pt x="158" y="132"/>
                    <a:pt x="141" y="132"/>
                    <a:pt x="127" y="126"/>
                  </a:cubicBezTo>
                  <a:cubicBezTo>
                    <a:pt x="130" y="130"/>
                    <a:pt x="137" y="133"/>
                    <a:pt x="141" y="136"/>
                  </a:cubicBezTo>
                  <a:cubicBezTo>
                    <a:pt x="141" y="136"/>
                    <a:pt x="131" y="139"/>
                    <a:pt x="130" y="139"/>
                  </a:cubicBezTo>
                  <a:cubicBezTo>
                    <a:pt x="119" y="140"/>
                    <a:pt x="108" y="137"/>
                    <a:pt x="97" y="134"/>
                  </a:cubicBezTo>
                  <a:cubicBezTo>
                    <a:pt x="92" y="133"/>
                    <a:pt x="86" y="131"/>
                    <a:pt x="82" y="129"/>
                  </a:cubicBezTo>
                  <a:cubicBezTo>
                    <a:pt x="79" y="127"/>
                    <a:pt x="71" y="123"/>
                    <a:pt x="70" y="121"/>
                  </a:cubicBezTo>
                  <a:cubicBezTo>
                    <a:pt x="71" y="123"/>
                    <a:pt x="77" y="136"/>
                    <a:pt x="79" y="134"/>
                  </a:cubicBezTo>
                  <a:cubicBezTo>
                    <a:pt x="75" y="136"/>
                    <a:pt x="66" y="133"/>
                    <a:pt x="62" y="133"/>
                  </a:cubicBezTo>
                  <a:cubicBezTo>
                    <a:pt x="55" y="132"/>
                    <a:pt x="49" y="129"/>
                    <a:pt x="43" y="127"/>
                  </a:cubicBezTo>
                  <a:close/>
                </a:path>
              </a:pathLst>
            </a:custGeom>
            <a:solidFill>
              <a:srgbClr val="c9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5696"/>
            <p:cNvSpPr/>
            <p:nvPr/>
          </p:nvSpPr>
          <p:spPr>
            <a:xfrm>
              <a:off x="7950240" y="4134960"/>
              <a:ext cx="588240" cy="237960"/>
            </a:xfrm>
            <a:custGeom>
              <a:avLst/>
              <a:gdLst/>
              <a:ahLst/>
              <a:rect l="l" t="t" r="r" b="b"/>
              <a:pathLst>
                <a:path w="192" h="77">
                  <a:moveTo>
                    <a:pt x="24" y="58"/>
                  </a:moveTo>
                  <a:cubicBezTo>
                    <a:pt x="16" y="53"/>
                    <a:pt x="11" y="48"/>
                    <a:pt x="4" y="40"/>
                  </a:cubicBezTo>
                  <a:cubicBezTo>
                    <a:pt x="0" y="34"/>
                    <a:pt x="0" y="22"/>
                    <a:pt x="5" y="16"/>
                  </a:cubicBezTo>
                  <a:cubicBezTo>
                    <a:pt x="9" y="9"/>
                    <a:pt x="20" y="9"/>
                    <a:pt x="27" y="7"/>
                  </a:cubicBezTo>
                  <a:cubicBezTo>
                    <a:pt x="35" y="5"/>
                    <a:pt x="43" y="4"/>
                    <a:pt x="51" y="0"/>
                  </a:cubicBezTo>
                  <a:cubicBezTo>
                    <a:pt x="50" y="2"/>
                    <a:pt x="50" y="3"/>
                    <a:pt x="50" y="5"/>
                  </a:cubicBezTo>
                  <a:cubicBezTo>
                    <a:pt x="50" y="3"/>
                    <a:pt x="84" y="2"/>
                    <a:pt x="87" y="2"/>
                  </a:cubicBezTo>
                  <a:cubicBezTo>
                    <a:pt x="91" y="1"/>
                    <a:pt x="96" y="0"/>
                    <a:pt x="101" y="0"/>
                  </a:cubicBezTo>
                  <a:cubicBezTo>
                    <a:pt x="97" y="2"/>
                    <a:pt x="91" y="6"/>
                    <a:pt x="91" y="10"/>
                  </a:cubicBezTo>
                  <a:cubicBezTo>
                    <a:pt x="96" y="11"/>
                    <a:pt x="103" y="9"/>
                    <a:pt x="109" y="8"/>
                  </a:cubicBezTo>
                  <a:cubicBezTo>
                    <a:pt x="121" y="6"/>
                    <a:pt x="133" y="3"/>
                    <a:pt x="146" y="6"/>
                  </a:cubicBezTo>
                  <a:cubicBezTo>
                    <a:pt x="150" y="7"/>
                    <a:pt x="155" y="7"/>
                    <a:pt x="159" y="8"/>
                  </a:cubicBezTo>
                  <a:cubicBezTo>
                    <a:pt x="156" y="11"/>
                    <a:pt x="151" y="15"/>
                    <a:pt x="147" y="17"/>
                  </a:cubicBezTo>
                  <a:cubicBezTo>
                    <a:pt x="151" y="20"/>
                    <a:pt x="161" y="20"/>
                    <a:pt x="167" y="22"/>
                  </a:cubicBezTo>
                  <a:cubicBezTo>
                    <a:pt x="172" y="23"/>
                    <a:pt x="177" y="24"/>
                    <a:pt x="181" y="27"/>
                  </a:cubicBezTo>
                  <a:cubicBezTo>
                    <a:pt x="183" y="28"/>
                    <a:pt x="191" y="36"/>
                    <a:pt x="192" y="36"/>
                  </a:cubicBezTo>
                  <a:cubicBezTo>
                    <a:pt x="187" y="38"/>
                    <a:pt x="183" y="38"/>
                    <a:pt x="178" y="41"/>
                  </a:cubicBezTo>
                  <a:cubicBezTo>
                    <a:pt x="174" y="44"/>
                    <a:pt x="170" y="46"/>
                    <a:pt x="166" y="50"/>
                  </a:cubicBezTo>
                  <a:cubicBezTo>
                    <a:pt x="163" y="55"/>
                    <a:pt x="163" y="58"/>
                    <a:pt x="157" y="60"/>
                  </a:cubicBezTo>
                  <a:cubicBezTo>
                    <a:pt x="152" y="61"/>
                    <a:pt x="145" y="61"/>
                    <a:pt x="140" y="62"/>
                  </a:cubicBezTo>
                  <a:cubicBezTo>
                    <a:pt x="143" y="64"/>
                    <a:pt x="146" y="68"/>
                    <a:pt x="149" y="70"/>
                  </a:cubicBezTo>
                  <a:cubicBezTo>
                    <a:pt x="145" y="74"/>
                    <a:pt x="130" y="71"/>
                    <a:pt x="125" y="70"/>
                  </a:cubicBezTo>
                  <a:cubicBezTo>
                    <a:pt x="117" y="69"/>
                    <a:pt x="107" y="67"/>
                    <a:pt x="100" y="64"/>
                  </a:cubicBezTo>
                  <a:cubicBezTo>
                    <a:pt x="99" y="68"/>
                    <a:pt x="102" y="71"/>
                    <a:pt x="104" y="75"/>
                  </a:cubicBezTo>
                  <a:cubicBezTo>
                    <a:pt x="98" y="77"/>
                    <a:pt x="87" y="72"/>
                    <a:pt x="81" y="69"/>
                  </a:cubicBezTo>
                  <a:cubicBezTo>
                    <a:pt x="77" y="66"/>
                    <a:pt x="69" y="63"/>
                    <a:pt x="66" y="58"/>
                  </a:cubicBezTo>
                  <a:cubicBezTo>
                    <a:pt x="59" y="63"/>
                    <a:pt x="72" y="75"/>
                    <a:pt x="61" y="73"/>
                  </a:cubicBezTo>
                  <a:cubicBezTo>
                    <a:pt x="51" y="72"/>
                    <a:pt x="40" y="67"/>
                    <a:pt x="32" y="62"/>
                  </a:cubicBezTo>
                  <a:cubicBezTo>
                    <a:pt x="29" y="61"/>
                    <a:pt x="26" y="59"/>
                    <a:pt x="24" y="58"/>
                  </a:cubicBezTo>
                  <a:close/>
                </a:path>
              </a:pathLst>
            </a:custGeom>
            <a:solidFill>
              <a:srgbClr val="d888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5697"/>
            <p:cNvSpPr/>
            <p:nvPr/>
          </p:nvSpPr>
          <p:spPr>
            <a:xfrm>
              <a:off x="7950240" y="4181760"/>
              <a:ext cx="392400" cy="98640"/>
            </a:xfrm>
            <a:custGeom>
              <a:avLst/>
              <a:gdLst/>
              <a:ahLst/>
              <a:rect l="l" t="t" r="r" b="b"/>
              <a:pathLst>
                <a:path w="128" h="32">
                  <a:moveTo>
                    <a:pt x="12" y="22"/>
                  </a:moveTo>
                  <a:cubicBezTo>
                    <a:pt x="7" y="20"/>
                    <a:pt x="0" y="16"/>
                    <a:pt x="2" y="10"/>
                  </a:cubicBezTo>
                  <a:cubicBezTo>
                    <a:pt x="4" y="4"/>
                    <a:pt x="12" y="1"/>
                    <a:pt x="17" y="1"/>
                  </a:cubicBezTo>
                  <a:cubicBezTo>
                    <a:pt x="22" y="0"/>
                    <a:pt x="26" y="1"/>
                    <a:pt x="30" y="1"/>
                  </a:cubicBezTo>
                  <a:cubicBezTo>
                    <a:pt x="34" y="2"/>
                    <a:pt x="39" y="1"/>
                    <a:pt x="43" y="1"/>
                  </a:cubicBezTo>
                  <a:cubicBezTo>
                    <a:pt x="43" y="4"/>
                    <a:pt x="42" y="5"/>
                    <a:pt x="45" y="6"/>
                  </a:cubicBezTo>
                  <a:cubicBezTo>
                    <a:pt x="47" y="7"/>
                    <a:pt x="50" y="6"/>
                    <a:pt x="52" y="6"/>
                  </a:cubicBezTo>
                  <a:cubicBezTo>
                    <a:pt x="57" y="7"/>
                    <a:pt x="62" y="5"/>
                    <a:pt x="66" y="5"/>
                  </a:cubicBezTo>
                  <a:cubicBezTo>
                    <a:pt x="67" y="8"/>
                    <a:pt x="66" y="10"/>
                    <a:pt x="68" y="12"/>
                  </a:cubicBezTo>
                  <a:cubicBezTo>
                    <a:pt x="70" y="13"/>
                    <a:pt x="75" y="14"/>
                    <a:pt x="77" y="14"/>
                  </a:cubicBezTo>
                  <a:cubicBezTo>
                    <a:pt x="84" y="14"/>
                    <a:pt x="91" y="12"/>
                    <a:pt x="98" y="12"/>
                  </a:cubicBezTo>
                  <a:cubicBezTo>
                    <a:pt x="108" y="12"/>
                    <a:pt x="119" y="15"/>
                    <a:pt x="128" y="18"/>
                  </a:cubicBezTo>
                  <a:cubicBezTo>
                    <a:pt x="123" y="20"/>
                    <a:pt x="117" y="20"/>
                    <a:pt x="112" y="22"/>
                  </a:cubicBezTo>
                  <a:cubicBezTo>
                    <a:pt x="108" y="23"/>
                    <a:pt x="105" y="25"/>
                    <a:pt x="101" y="25"/>
                  </a:cubicBezTo>
                  <a:cubicBezTo>
                    <a:pt x="94" y="27"/>
                    <a:pt x="88" y="25"/>
                    <a:pt x="81" y="25"/>
                  </a:cubicBezTo>
                  <a:cubicBezTo>
                    <a:pt x="78" y="25"/>
                    <a:pt x="75" y="25"/>
                    <a:pt x="72" y="24"/>
                  </a:cubicBezTo>
                  <a:cubicBezTo>
                    <a:pt x="70" y="23"/>
                    <a:pt x="67" y="21"/>
                    <a:pt x="66" y="22"/>
                  </a:cubicBezTo>
                  <a:cubicBezTo>
                    <a:pt x="64" y="24"/>
                    <a:pt x="67" y="28"/>
                    <a:pt x="68" y="30"/>
                  </a:cubicBezTo>
                  <a:cubicBezTo>
                    <a:pt x="64" y="30"/>
                    <a:pt x="59" y="29"/>
                    <a:pt x="55" y="28"/>
                  </a:cubicBezTo>
                  <a:cubicBezTo>
                    <a:pt x="52" y="28"/>
                    <a:pt x="41" y="27"/>
                    <a:pt x="40" y="23"/>
                  </a:cubicBezTo>
                  <a:cubicBezTo>
                    <a:pt x="38" y="24"/>
                    <a:pt x="40" y="27"/>
                    <a:pt x="39" y="29"/>
                  </a:cubicBezTo>
                  <a:cubicBezTo>
                    <a:pt x="38" y="32"/>
                    <a:pt x="26" y="28"/>
                    <a:pt x="24" y="27"/>
                  </a:cubicBezTo>
                  <a:cubicBezTo>
                    <a:pt x="20" y="25"/>
                    <a:pt x="16" y="24"/>
                    <a:pt x="12" y="22"/>
                  </a:cubicBezTo>
                  <a:close/>
                </a:path>
              </a:pathLst>
            </a:custGeom>
            <a:solidFill>
              <a:srgbClr val="dd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07" name="图片 13" descr=""/>
          <p:cNvPicPr/>
          <p:nvPr/>
        </p:nvPicPr>
        <p:blipFill>
          <a:blip r:embed="rId6"/>
          <a:srcRect l="0" t="77392" r="0" b="0"/>
          <a:stretch/>
        </p:blipFill>
        <p:spPr>
          <a:xfrm>
            <a:off x="5965920" y="5126040"/>
            <a:ext cx="2066760" cy="779400"/>
          </a:xfrm>
          <a:prstGeom prst="rect">
            <a:avLst/>
          </a:prstGeom>
          <a:ln w="0">
            <a:noFill/>
          </a:ln>
        </p:spPr>
      </p:pic>
      <p:grpSp>
        <p:nvGrpSpPr>
          <p:cNvPr id="3208" name="组合 2"/>
          <p:cNvGrpSpPr/>
          <p:nvPr/>
        </p:nvGrpSpPr>
        <p:grpSpPr>
          <a:xfrm>
            <a:off x="1095480" y="2647800"/>
            <a:ext cx="3273480" cy="1462320"/>
            <a:chOff x="1095480" y="2647800"/>
            <a:chExt cx="3273480" cy="1462320"/>
          </a:xfrm>
        </p:grpSpPr>
        <p:sp>
          <p:nvSpPr>
            <p:cNvPr id="3209" name="文本框 17"/>
            <p:cNvSpPr/>
            <p:nvPr/>
          </p:nvSpPr>
          <p:spPr>
            <a:xfrm>
              <a:off x="1164960" y="2685600"/>
              <a:ext cx="3204000" cy="142452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95845" y="664071"/>
                  </a:moveTo>
                  <a:lnTo>
                    <a:pt x="1417142" y="664071"/>
                  </a:lnTo>
                  <a:lnTo>
                    <a:pt x="1348681" y="1273374"/>
                  </a:lnTo>
                  <a:lnTo>
                    <a:pt x="1471910" y="1273374"/>
                  </a:lnTo>
                  <a:lnTo>
                    <a:pt x="1471910" y="1423988"/>
                  </a:lnTo>
                  <a:lnTo>
                    <a:pt x="1163836" y="1423988"/>
                  </a:lnTo>
                  <a:lnTo>
                    <a:pt x="1232297" y="814685"/>
                  </a:lnTo>
                  <a:lnTo>
                    <a:pt x="95845" y="814685"/>
                  </a:lnTo>
                  <a:close/>
                  <a:moveTo>
                    <a:pt x="342305" y="349151"/>
                  </a:moveTo>
                  <a:lnTo>
                    <a:pt x="1410296" y="349151"/>
                  </a:lnTo>
                  <a:lnTo>
                    <a:pt x="1410296" y="499765"/>
                  </a:lnTo>
                  <a:lnTo>
                    <a:pt x="342305" y="499765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157460" y="0"/>
                  </a:moveTo>
                  <a:lnTo>
                    <a:pt x="249312" y="47923"/>
                  </a:lnTo>
                  <a:lnTo>
                    <a:pt x="1451372" y="47923"/>
                  </a:lnTo>
                  <a:lnTo>
                    <a:pt x="1451372" y="198537"/>
                  </a:lnTo>
                  <a:lnTo>
                    <a:pt x="276126" y="198537"/>
                  </a:lnTo>
                  <a:lnTo>
                    <a:pt x="143768" y="595610"/>
                  </a:lnTo>
                  <a:lnTo>
                    <a:pt x="0" y="513457"/>
                  </a:lnTo>
                  <a:close/>
                </a:path>
              </a:pathLst>
            </a:custGeom>
            <a:solidFill>
              <a:srgbClr val="cc59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文本框 21"/>
            <p:cNvSpPr/>
            <p:nvPr/>
          </p:nvSpPr>
          <p:spPr>
            <a:xfrm>
              <a:off x="1095480" y="2647800"/>
              <a:ext cx="3204000" cy="1424520"/>
            </a:xfrm>
            <a:custGeom>
              <a:avLst/>
              <a:gdLst/>
              <a:ahLst/>
              <a:rect l="l" t="t" r="r" b="b"/>
              <a:pathLst>
                <a:path w="3203972" h="1423988">
                  <a:moveTo>
                    <a:pt x="95845" y="664071"/>
                  </a:moveTo>
                  <a:lnTo>
                    <a:pt x="1417142" y="664071"/>
                  </a:lnTo>
                  <a:lnTo>
                    <a:pt x="1348681" y="1273374"/>
                  </a:lnTo>
                  <a:lnTo>
                    <a:pt x="1471910" y="1273374"/>
                  </a:lnTo>
                  <a:lnTo>
                    <a:pt x="1471910" y="1423988"/>
                  </a:lnTo>
                  <a:lnTo>
                    <a:pt x="1163836" y="1423988"/>
                  </a:lnTo>
                  <a:lnTo>
                    <a:pt x="1232297" y="814685"/>
                  </a:lnTo>
                  <a:lnTo>
                    <a:pt x="95845" y="814685"/>
                  </a:lnTo>
                  <a:close/>
                  <a:moveTo>
                    <a:pt x="342305" y="349151"/>
                  </a:moveTo>
                  <a:lnTo>
                    <a:pt x="1410296" y="349151"/>
                  </a:lnTo>
                  <a:lnTo>
                    <a:pt x="1410296" y="499765"/>
                  </a:lnTo>
                  <a:lnTo>
                    <a:pt x="342305" y="499765"/>
                  </a:lnTo>
                  <a:close/>
                  <a:moveTo>
                    <a:pt x="1752600" y="20539"/>
                  </a:moveTo>
                  <a:lnTo>
                    <a:pt x="3190280" y="20539"/>
                  </a:lnTo>
                  <a:lnTo>
                    <a:pt x="3190280" y="164306"/>
                  </a:lnTo>
                  <a:lnTo>
                    <a:pt x="2806899" y="164306"/>
                  </a:lnTo>
                  <a:lnTo>
                    <a:pt x="2806899" y="711994"/>
                  </a:lnTo>
                  <a:lnTo>
                    <a:pt x="3156049" y="328613"/>
                  </a:lnTo>
                  <a:lnTo>
                    <a:pt x="3203972" y="486073"/>
                  </a:lnTo>
                  <a:lnTo>
                    <a:pt x="2806899" y="917377"/>
                  </a:lnTo>
                  <a:lnTo>
                    <a:pt x="2806899" y="1273374"/>
                  </a:lnTo>
                  <a:lnTo>
                    <a:pt x="3203972" y="1273374"/>
                  </a:lnTo>
                  <a:lnTo>
                    <a:pt x="3197126" y="1423988"/>
                  </a:lnTo>
                  <a:lnTo>
                    <a:pt x="2642592" y="1423988"/>
                  </a:lnTo>
                  <a:lnTo>
                    <a:pt x="2642592" y="164306"/>
                  </a:lnTo>
                  <a:lnTo>
                    <a:pt x="2204442" y="164306"/>
                  </a:lnTo>
                  <a:lnTo>
                    <a:pt x="2055980" y="390228"/>
                  </a:lnTo>
                  <a:lnTo>
                    <a:pt x="2402979" y="390228"/>
                  </a:lnTo>
                  <a:lnTo>
                    <a:pt x="2402979" y="814685"/>
                  </a:lnTo>
                  <a:lnTo>
                    <a:pt x="1875830" y="1423988"/>
                  </a:lnTo>
                  <a:lnTo>
                    <a:pt x="1718370" y="1389757"/>
                  </a:lnTo>
                  <a:lnTo>
                    <a:pt x="1985362" y="1070069"/>
                  </a:lnTo>
                  <a:lnTo>
                    <a:pt x="1718370" y="814685"/>
                  </a:lnTo>
                  <a:lnTo>
                    <a:pt x="1868984" y="753071"/>
                  </a:lnTo>
                  <a:lnTo>
                    <a:pt x="2080854" y="955729"/>
                  </a:lnTo>
                  <a:lnTo>
                    <a:pt x="2238673" y="766763"/>
                  </a:lnTo>
                  <a:lnTo>
                    <a:pt x="2238673" y="533996"/>
                  </a:lnTo>
                  <a:lnTo>
                    <a:pt x="1961504" y="533996"/>
                  </a:lnTo>
                  <a:lnTo>
                    <a:pt x="1889522" y="643533"/>
                  </a:lnTo>
                  <a:lnTo>
                    <a:pt x="1732062" y="609303"/>
                  </a:lnTo>
                  <a:lnTo>
                    <a:pt x="2026444" y="164306"/>
                  </a:lnTo>
                  <a:lnTo>
                    <a:pt x="1752600" y="164306"/>
                  </a:lnTo>
                  <a:close/>
                  <a:moveTo>
                    <a:pt x="157460" y="0"/>
                  </a:moveTo>
                  <a:lnTo>
                    <a:pt x="249312" y="47923"/>
                  </a:lnTo>
                  <a:lnTo>
                    <a:pt x="1451372" y="47923"/>
                  </a:lnTo>
                  <a:lnTo>
                    <a:pt x="1451372" y="198537"/>
                  </a:lnTo>
                  <a:lnTo>
                    <a:pt x="276126" y="198537"/>
                  </a:lnTo>
                  <a:lnTo>
                    <a:pt x="143768" y="595610"/>
                  </a:lnTo>
                  <a:lnTo>
                    <a:pt x="0" y="5134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6" dur="200" fill="hold"/>
                                        <p:tgtEl>
                                          <p:spTgt spid="32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矩形 8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d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文本框 102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413681" y="214945"/>
                </a:moveTo>
                <a:lnTo>
                  <a:pt x="1413681" y="341152"/>
                </a:lnTo>
                <a:lnTo>
                  <a:pt x="1610878" y="341152"/>
                </a:lnTo>
                <a:lnTo>
                  <a:pt x="1610878" y="214945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60438" y="17748"/>
                </a:moveTo>
                <a:lnTo>
                  <a:pt x="1662149" y="17748"/>
                </a:lnTo>
                <a:lnTo>
                  <a:pt x="1662149" y="61131"/>
                </a:lnTo>
                <a:lnTo>
                  <a:pt x="1413681" y="61131"/>
                </a:lnTo>
                <a:lnTo>
                  <a:pt x="1413681" y="171562"/>
                </a:lnTo>
                <a:lnTo>
                  <a:pt x="1662149" y="171562"/>
                </a:lnTo>
                <a:lnTo>
                  <a:pt x="1662149" y="384535"/>
                </a:lnTo>
                <a:lnTo>
                  <a:pt x="1360438" y="384535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任意多边形 66">
            <a:hlinkClick r:id="rId2"/>
          </p:cNvPr>
          <p:cNvSpPr/>
          <p:nvPr/>
        </p:nvSpPr>
        <p:spPr>
          <a:xfrm>
            <a:off x="6184800" y="2759040"/>
            <a:ext cx="4584960" cy="4094280"/>
          </a:xfrm>
          <a:custGeom>
            <a:avLst/>
            <a:gdLst/>
            <a:ahLst/>
            <a:rect l="l" t="t" r="r" b="b"/>
            <a:pathLst>
              <a:path w="4584700" h="4094163">
                <a:moveTo>
                  <a:pt x="1722438" y="0"/>
                </a:moveTo>
                <a:lnTo>
                  <a:pt x="2967038" y="0"/>
                </a:lnTo>
                <a:lnTo>
                  <a:pt x="2967038" y="2843334"/>
                </a:lnTo>
                <a:lnTo>
                  <a:pt x="2857500" y="3083501"/>
                </a:lnTo>
                <a:lnTo>
                  <a:pt x="2967038" y="3110032"/>
                </a:lnTo>
                <a:lnTo>
                  <a:pt x="2967038" y="3330576"/>
                </a:lnTo>
                <a:lnTo>
                  <a:pt x="4584700" y="3330576"/>
                </a:lnTo>
                <a:lnTo>
                  <a:pt x="4584700" y="4094163"/>
                </a:lnTo>
                <a:lnTo>
                  <a:pt x="0" y="4094163"/>
                </a:lnTo>
                <a:lnTo>
                  <a:pt x="0" y="2994025"/>
                </a:lnTo>
                <a:lnTo>
                  <a:pt x="1722438" y="2994025"/>
                </a:lnTo>
                <a:lnTo>
                  <a:pt x="1722438" y="2678456"/>
                </a:lnTo>
                <a:lnTo>
                  <a:pt x="1889919" y="2647122"/>
                </a:lnTo>
                <a:lnTo>
                  <a:pt x="1722438" y="2440250"/>
                </a:lnTo>
                <a:close/>
              </a:path>
            </a:pathLst>
          </a:custGeom>
          <a:solidFill>
            <a:srgbClr val="ff7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Freeform 6">
            <a:hlinkClick r:id="rId3"/>
          </p:cNvPr>
          <p:cNvSpPr/>
          <p:nvPr/>
        </p:nvSpPr>
        <p:spPr>
          <a:xfrm>
            <a:off x="8169120" y="2908440"/>
            <a:ext cx="476280" cy="3474720"/>
          </a:xfrm>
          <a:custGeom>
            <a:avLst/>
            <a:gdLst/>
            <a:ahLst/>
            <a:rect l="l" t="t" r="r" b="b"/>
            <a:pathLst>
              <a:path w="513" h="3742">
                <a:moveTo>
                  <a:pt x="513" y="63"/>
                </a:moveTo>
                <a:cubicBezTo>
                  <a:pt x="513" y="61"/>
                  <a:pt x="513" y="61"/>
                  <a:pt x="513" y="61"/>
                </a:cubicBezTo>
                <a:cubicBezTo>
                  <a:pt x="513" y="44"/>
                  <a:pt x="504" y="32"/>
                  <a:pt x="497" y="27"/>
                </a:cubicBezTo>
                <a:cubicBezTo>
                  <a:pt x="486" y="18"/>
                  <a:pt x="482" y="16"/>
                  <a:pt x="473" y="12"/>
                </a:cubicBezTo>
                <a:cubicBezTo>
                  <a:pt x="454" y="4"/>
                  <a:pt x="428" y="0"/>
                  <a:pt x="411" y="9"/>
                </a:cubicBezTo>
                <a:cubicBezTo>
                  <a:pt x="403" y="13"/>
                  <a:pt x="397" y="20"/>
                  <a:pt x="394" y="29"/>
                </a:cubicBezTo>
                <a:cubicBezTo>
                  <a:pt x="392" y="31"/>
                  <a:pt x="392" y="31"/>
                  <a:pt x="392" y="31"/>
                </a:cubicBezTo>
                <a:cubicBezTo>
                  <a:pt x="388" y="40"/>
                  <a:pt x="383" y="48"/>
                  <a:pt x="378" y="56"/>
                </a:cubicBezTo>
                <a:cubicBezTo>
                  <a:pt x="372" y="65"/>
                  <a:pt x="365" y="75"/>
                  <a:pt x="358" y="84"/>
                </a:cubicBezTo>
                <a:cubicBezTo>
                  <a:pt x="352" y="93"/>
                  <a:pt x="313" y="134"/>
                  <a:pt x="304" y="143"/>
                </a:cubicBezTo>
                <a:cubicBezTo>
                  <a:pt x="301" y="146"/>
                  <a:pt x="213" y="235"/>
                  <a:pt x="209" y="239"/>
                </a:cubicBezTo>
                <a:cubicBezTo>
                  <a:pt x="21" y="426"/>
                  <a:pt x="21" y="426"/>
                  <a:pt x="21" y="426"/>
                </a:cubicBezTo>
                <a:cubicBezTo>
                  <a:pt x="7" y="439"/>
                  <a:pt x="0" y="453"/>
                  <a:pt x="0" y="468"/>
                </a:cubicBezTo>
                <a:cubicBezTo>
                  <a:pt x="0" y="481"/>
                  <a:pt x="4" y="492"/>
                  <a:pt x="11" y="501"/>
                </a:cubicBezTo>
                <a:cubicBezTo>
                  <a:pt x="21" y="511"/>
                  <a:pt x="21" y="511"/>
                  <a:pt x="21" y="511"/>
                </a:cubicBezTo>
                <a:cubicBezTo>
                  <a:pt x="28" y="516"/>
                  <a:pt x="37" y="520"/>
                  <a:pt x="47" y="522"/>
                </a:cubicBezTo>
                <a:cubicBezTo>
                  <a:pt x="60" y="525"/>
                  <a:pt x="74" y="523"/>
                  <a:pt x="87" y="515"/>
                </a:cubicBezTo>
                <a:cubicBezTo>
                  <a:pt x="90" y="514"/>
                  <a:pt x="90" y="514"/>
                  <a:pt x="90" y="514"/>
                </a:cubicBezTo>
                <a:cubicBezTo>
                  <a:pt x="92" y="512"/>
                  <a:pt x="92" y="512"/>
                  <a:pt x="92" y="512"/>
                </a:cubicBezTo>
                <a:cubicBezTo>
                  <a:pt x="100" y="505"/>
                  <a:pt x="390" y="214"/>
                  <a:pt x="397" y="207"/>
                </a:cubicBezTo>
                <a:cubicBezTo>
                  <a:pt x="397" y="3519"/>
                  <a:pt x="397" y="3519"/>
                  <a:pt x="397" y="3519"/>
                </a:cubicBezTo>
                <a:cubicBezTo>
                  <a:pt x="397" y="3690"/>
                  <a:pt x="397" y="3690"/>
                  <a:pt x="397" y="3690"/>
                </a:cubicBezTo>
                <a:cubicBezTo>
                  <a:pt x="397" y="3691"/>
                  <a:pt x="397" y="3691"/>
                  <a:pt x="397" y="3691"/>
                </a:cubicBezTo>
                <a:cubicBezTo>
                  <a:pt x="397" y="3709"/>
                  <a:pt x="405" y="3724"/>
                  <a:pt x="419" y="3733"/>
                </a:cubicBezTo>
                <a:cubicBezTo>
                  <a:pt x="429" y="3739"/>
                  <a:pt x="440" y="3742"/>
                  <a:pt x="453" y="3742"/>
                </a:cubicBezTo>
                <a:cubicBezTo>
                  <a:pt x="465" y="3742"/>
                  <a:pt x="477" y="3739"/>
                  <a:pt x="488" y="3732"/>
                </a:cubicBezTo>
                <a:cubicBezTo>
                  <a:pt x="504" y="3723"/>
                  <a:pt x="513" y="3707"/>
                  <a:pt x="513" y="3689"/>
                </a:cubicBezTo>
                <a:lnTo>
                  <a:pt x="513" y="63"/>
                </a:lnTo>
                <a:close/>
              </a:path>
            </a:pathLst>
          </a:custGeom>
          <a:solidFill>
            <a:srgbClr val="ec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Freeform 7"/>
          <p:cNvSpPr/>
          <p:nvPr/>
        </p:nvSpPr>
        <p:spPr>
          <a:xfrm>
            <a:off x="6937200" y="5927760"/>
            <a:ext cx="293760" cy="455400"/>
          </a:xfrm>
          <a:custGeom>
            <a:avLst/>
            <a:gdLst/>
            <a:ahLst/>
            <a:rect l="l" t="t" r="r" b="b"/>
            <a:pathLst>
              <a:path w="317" h="491">
                <a:moveTo>
                  <a:pt x="309" y="426"/>
                </a:moveTo>
                <a:cubicBezTo>
                  <a:pt x="300" y="410"/>
                  <a:pt x="280" y="405"/>
                  <a:pt x="263" y="402"/>
                </a:cubicBezTo>
                <a:cubicBezTo>
                  <a:pt x="247" y="400"/>
                  <a:pt x="230" y="398"/>
                  <a:pt x="211" y="398"/>
                </a:cubicBezTo>
                <a:cubicBezTo>
                  <a:pt x="207" y="398"/>
                  <a:pt x="207" y="398"/>
                  <a:pt x="207" y="398"/>
                </a:cubicBezTo>
                <a:cubicBezTo>
                  <a:pt x="189" y="399"/>
                  <a:pt x="167" y="399"/>
                  <a:pt x="141" y="399"/>
                </a:cubicBezTo>
                <a:cubicBezTo>
                  <a:pt x="131" y="399"/>
                  <a:pt x="121" y="399"/>
                  <a:pt x="112" y="399"/>
                </a:cubicBezTo>
                <a:cubicBezTo>
                  <a:pt x="117" y="394"/>
                  <a:pt x="122" y="388"/>
                  <a:pt x="127" y="382"/>
                </a:cubicBezTo>
                <a:cubicBezTo>
                  <a:pt x="137" y="372"/>
                  <a:pt x="148" y="362"/>
                  <a:pt x="161" y="352"/>
                </a:cubicBezTo>
                <a:cubicBezTo>
                  <a:pt x="174" y="342"/>
                  <a:pt x="188" y="332"/>
                  <a:pt x="204" y="323"/>
                </a:cubicBezTo>
                <a:cubicBezTo>
                  <a:pt x="221" y="313"/>
                  <a:pt x="236" y="301"/>
                  <a:pt x="249" y="288"/>
                </a:cubicBezTo>
                <a:cubicBezTo>
                  <a:pt x="262" y="274"/>
                  <a:pt x="273" y="260"/>
                  <a:pt x="282" y="245"/>
                </a:cubicBezTo>
                <a:cubicBezTo>
                  <a:pt x="290" y="229"/>
                  <a:pt x="297" y="214"/>
                  <a:pt x="301" y="198"/>
                </a:cubicBezTo>
                <a:cubicBezTo>
                  <a:pt x="306" y="181"/>
                  <a:pt x="308" y="165"/>
                  <a:pt x="308" y="149"/>
                </a:cubicBezTo>
                <a:cubicBezTo>
                  <a:pt x="308" y="129"/>
                  <a:pt x="305" y="111"/>
                  <a:pt x="298" y="93"/>
                </a:cubicBezTo>
                <a:cubicBezTo>
                  <a:pt x="292" y="75"/>
                  <a:pt x="282" y="58"/>
                  <a:pt x="269" y="45"/>
                </a:cubicBezTo>
                <a:cubicBezTo>
                  <a:pt x="255" y="31"/>
                  <a:pt x="238" y="20"/>
                  <a:pt x="219" y="12"/>
                </a:cubicBezTo>
                <a:cubicBezTo>
                  <a:pt x="199" y="4"/>
                  <a:pt x="176" y="0"/>
                  <a:pt x="151" y="0"/>
                </a:cubicBezTo>
                <a:cubicBezTo>
                  <a:pt x="131" y="0"/>
                  <a:pt x="111" y="4"/>
                  <a:pt x="93" y="12"/>
                </a:cubicBezTo>
                <a:cubicBezTo>
                  <a:pt x="76" y="20"/>
                  <a:pt x="60" y="30"/>
                  <a:pt x="47" y="43"/>
                </a:cubicBezTo>
                <a:cubicBezTo>
                  <a:pt x="33" y="56"/>
                  <a:pt x="23" y="72"/>
                  <a:pt x="15" y="89"/>
                </a:cubicBezTo>
                <a:cubicBezTo>
                  <a:pt x="7" y="107"/>
                  <a:pt x="3" y="125"/>
                  <a:pt x="3" y="144"/>
                </a:cubicBezTo>
                <a:cubicBezTo>
                  <a:pt x="3" y="178"/>
                  <a:pt x="26" y="190"/>
                  <a:pt x="46" y="190"/>
                </a:cubicBezTo>
                <a:cubicBezTo>
                  <a:pt x="74" y="190"/>
                  <a:pt x="87" y="173"/>
                  <a:pt x="89" y="156"/>
                </a:cubicBezTo>
                <a:cubicBezTo>
                  <a:pt x="89" y="155"/>
                  <a:pt x="89" y="155"/>
                  <a:pt x="89" y="155"/>
                </a:cubicBezTo>
                <a:cubicBezTo>
                  <a:pt x="90" y="144"/>
                  <a:pt x="92" y="133"/>
                  <a:pt x="95" y="124"/>
                </a:cubicBezTo>
                <a:cubicBezTo>
                  <a:pt x="98" y="116"/>
                  <a:pt x="102" y="109"/>
                  <a:pt x="107" y="103"/>
                </a:cubicBezTo>
                <a:cubicBezTo>
                  <a:pt x="111" y="98"/>
                  <a:pt x="117" y="94"/>
                  <a:pt x="124" y="91"/>
                </a:cubicBezTo>
                <a:cubicBezTo>
                  <a:pt x="132" y="88"/>
                  <a:pt x="142" y="86"/>
                  <a:pt x="153" y="86"/>
                </a:cubicBezTo>
                <a:cubicBezTo>
                  <a:pt x="177" y="86"/>
                  <a:pt x="193" y="92"/>
                  <a:pt x="203" y="103"/>
                </a:cubicBezTo>
                <a:cubicBezTo>
                  <a:pt x="214" y="117"/>
                  <a:pt x="220" y="131"/>
                  <a:pt x="220" y="148"/>
                </a:cubicBezTo>
                <a:cubicBezTo>
                  <a:pt x="220" y="156"/>
                  <a:pt x="218" y="165"/>
                  <a:pt x="216" y="174"/>
                </a:cubicBezTo>
                <a:cubicBezTo>
                  <a:pt x="212" y="183"/>
                  <a:pt x="208" y="193"/>
                  <a:pt x="202" y="202"/>
                </a:cubicBezTo>
                <a:cubicBezTo>
                  <a:pt x="197" y="212"/>
                  <a:pt x="190" y="221"/>
                  <a:pt x="181" y="230"/>
                </a:cubicBezTo>
                <a:cubicBezTo>
                  <a:pt x="173" y="238"/>
                  <a:pt x="164" y="246"/>
                  <a:pt x="154" y="253"/>
                </a:cubicBezTo>
                <a:cubicBezTo>
                  <a:pt x="130" y="268"/>
                  <a:pt x="109" y="283"/>
                  <a:pt x="91" y="300"/>
                </a:cubicBezTo>
                <a:cubicBezTo>
                  <a:pt x="72" y="316"/>
                  <a:pt x="56" y="333"/>
                  <a:pt x="44" y="349"/>
                </a:cubicBezTo>
                <a:cubicBezTo>
                  <a:pt x="30" y="366"/>
                  <a:pt x="20" y="383"/>
                  <a:pt x="12" y="400"/>
                </a:cubicBezTo>
                <a:cubicBezTo>
                  <a:pt x="4" y="419"/>
                  <a:pt x="0" y="435"/>
                  <a:pt x="1" y="450"/>
                </a:cubicBezTo>
                <a:cubicBezTo>
                  <a:pt x="3" y="487"/>
                  <a:pt x="28" y="489"/>
                  <a:pt x="33" y="489"/>
                </a:cubicBezTo>
                <a:cubicBezTo>
                  <a:pt x="34" y="489"/>
                  <a:pt x="36" y="489"/>
                  <a:pt x="37" y="489"/>
                </a:cubicBezTo>
                <a:cubicBezTo>
                  <a:pt x="55" y="488"/>
                  <a:pt x="73" y="487"/>
                  <a:pt x="89" y="487"/>
                </a:cubicBezTo>
                <a:cubicBezTo>
                  <a:pt x="106" y="487"/>
                  <a:pt x="123" y="487"/>
                  <a:pt x="138" y="487"/>
                </a:cubicBezTo>
                <a:cubicBezTo>
                  <a:pt x="151" y="487"/>
                  <a:pt x="164" y="487"/>
                  <a:pt x="178" y="487"/>
                </a:cubicBezTo>
                <a:cubicBezTo>
                  <a:pt x="191" y="487"/>
                  <a:pt x="204" y="487"/>
                  <a:pt x="215" y="488"/>
                </a:cubicBezTo>
                <a:cubicBezTo>
                  <a:pt x="227" y="488"/>
                  <a:pt x="238" y="488"/>
                  <a:pt x="247" y="489"/>
                </a:cubicBezTo>
                <a:cubicBezTo>
                  <a:pt x="256" y="489"/>
                  <a:pt x="263" y="490"/>
                  <a:pt x="268" y="491"/>
                </a:cubicBezTo>
                <a:cubicBezTo>
                  <a:pt x="272" y="491"/>
                  <a:pt x="272" y="491"/>
                  <a:pt x="272" y="491"/>
                </a:cubicBezTo>
                <a:cubicBezTo>
                  <a:pt x="275" y="491"/>
                  <a:pt x="275" y="491"/>
                  <a:pt x="275" y="491"/>
                </a:cubicBezTo>
                <a:cubicBezTo>
                  <a:pt x="301" y="487"/>
                  <a:pt x="310" y="471"/>
                  <a:pt x="313" y="463"/>
                </a:cubicBezTo>
                <a:cubicBezTo>
                  <a:pt x="317" y="450"/>
                  <a:pt x="316" y="437"/>
                  <a:pt x="309" y="426"/>
                </a:cubicBezTo>
                <a:close/>
              </a:path>
            </a:pathLst>
          </a:custGeom>
          <a:solidFill>
            <a:srgbClr val="ec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Freeform 8"/>
          <p:cNvSpPr/>
          <p:nvPr/>
        </p:nvSpPr>
        <p:spPr>
          <a:xfrm>
            <a:off x="9863280" y="6210360"/>
            <a:ext cx="128520" cy="172800"/>
          </a:xfrm>
          <a:custGeom>
            <a:avLst/>
            <a:gdLst/>
            <a:ahLst/>
            <a:rect l="l" t="t" r="r" b="b"/>
            <a:pathLst>
              <a:path w="139" h="187">
                <a:moveTo>
                  <a:pt x="138" y="118"/>
                </a:moveTo>
                <a:cubicBezTo>
                  <a:pt x="137" y="113"/>
                  <a:pt x="136" y="108"/>
                  <a:pt x="133" y="104"/>
                </a:cubicBezTo>
                <a:cubicBezTo>
                  <a:pt x="131" y="99"/>
                  <a:pt x="128" y="95"/>
                  <a:pt x="124" y="91"/>
                </a:cubicBezTo>
                <a:cubicBezTo>
                  <a:pt x="124" y="90"/>
                  <a:pt x="123" y="89"/>
                  <a:pt x="123" y="89"/>
                </a:cubicBezTo>
                <a:cubicBezTo>
                  <a:pt x="126" y="86"/>
                  <a:pt x="128" y="83"/>
                  <a:pt x="129" y="80"/>
                </a:cubicBezTo>
                <a:cubicBezTo>
                  <a:pt x="134" y="71"/>
                  <a:pt x="136" y="62"/>
                  <a:pt x="136" y="53"/>
                </a:cubicBezTo>
                <a:cubicBezTo>
                  <a:pt x="136" y="45"/>
                  <a:pt x="134" y="38"/>
                  <a:pt x="131" y="31"/>
                </a:cubicBezTo>
                <a:cubicBezTo>
                  <a:pt x="128" y="25"/>
                  <a:pt x="123" y="19"/>
                  <a:pt x="118" y="15"/>
                </a:cubicBezTo>
                <a:cubicBezTo>
                  <a:pt x="113" y="10"/>
                  <a:pt x="106" y="6"/>
                  <a:pt x="100" y="4"/>
                </a:cubicBezTo>
                <a:cubicBezTo>
                  <a:pt x="93" y="2"/>
                  <a:pt x="86" y="0"/>
                  <a:pt x="79" y="0"/>
                </a:cubicBezTo>
                <a:cubicBezTo>
                  <a:pt x="71" y="0"/>
                  <a:pt x="63" y="2"/>
                  <a:pt x="56" y="4"/>
                </a:cubicBezTo>
                <a:cubicBezTo>
                  <a:pt x="49" y="7"/>
                  <a:pt x="42" y="10"/>
                  <a:pt x="37" y="15"/>
                </a:cubicBezTo>
                <a:cubicBezTo>
                  <a:pt x="31" y="20"/>
                  <a:pt x="27" y="25"/>
                  <a:pt x="24" y="32"/>
                </a:cubicBezTo>
                <a:cubicBezTo>
                  <a:pt x="21" y="39"/>
                  <a:pt x="19" y="49"/>
                  <a:pt x="19" y="62"/>
                </a:cubicBezTo>
                <a:cubicBezTo>
                  <a:pt x="19" y="63"/>
                  <a:pt x="19" y="63"/>
                  <a:pt x="19" y="63"/>
                </a:cubicBezTo>
                <a:cubicBezTo>
                  <a:pt x="19" y="63"/>
                  <a:pt x="19" y="63"/>
                  <a:pt x="19" y="63"/>
                </a:cubicBezTo>
                <a:cubicBezTo>
                  <a:pt x="21" y="80"/>
                  <a:pt x="31" y="82"/>
                  <a:pt x="36" y="82"/>
                </a:cubicBezTo>
                <a:cubicBezTo>
                  <a:pt x="36" y="82"/>
                  <a:pt x="37" y="82"/>
                  <a:pt x="38" y="82"/>
                </a:cubicBezTo>
                <a:cubicBezTo>
                  <a:pt x="49" y="80"/>
                  <a:pt x="53" y="72"/>
                  <a:pt x="53" y="66"/>
                </a:cubicBezTo>
                <a:cubicBezTo>
                  <a:pt x="53" y="63"/>
                  <a:pt x="53" y="59"/>
                  <a:pt x="53" y="54"/>
                </a:cubicBezTo>
                <a:cubicBezTo>
                  <a:pt x="53" y="51"/>
                  <a:pt x="53" y="49"/>
                  <a:pt x="54" y="46"/>
                </a:cubicBezTo>
                <a:cubicBezTo>
                  <a:pt x="56" y="44"/>
                  <a:pt x="57" y="42"/>
                  <a:pt x="60" y="40"/>
                </a:cubicBezTo>
                <a:cubicBezTo>
                  <a:pt x="62" y="38"/>
                  <a:pt x="65" y="37"/>
                  <a:pt x="68" y="35"/>
                </a:cubicBezTo>
                <a:cubicBezTo>
                  <a:pt x="71" y="34"/>
                  <a:pt x="75" y="34"/>
                  <a:pt x="79" y="34"/>
                </a:cubicBezTo>
                <a:cubicBezTo>
                  <a:pt x="83" y="34"/>
                  <a:pt x="87" y="34"/>
                  <a:pt x="90" y="36"/>
                </a:cubicBezTo>
                <a:cubicBezTo>
                  <a:pt x="93" y="37"/>
                  <a:pt x="96" y="38"/>
                  <a:pt x="97" y="40"/>
                </a:cubicBezTo>
                <a:cubicBezTo>
                  <a:pt x="99" y="42"/>
                  <a:pt x="101" y="43"/>
                  <a:pt x="101" y="45"/>
                </a:cubicBezTo>
                <a:cubicBezTo>
                  <a:pt x="102" y="47"/>
                  <a:pt x="103" y="49"/>
                  <a:pt x="103" y="51"/>
                </a:cubicBezTo>
                <a:cubicBezTo>
                  <a:pt x="103" y="57"/>
                  <a:pt x="101" y="61"/>
                  <a:pt x="97" y="65"/>
                </a:cubicBezTo>
                <a:cubicBezTo>
                  <a:pt x="93" y="68"/>
                  <a:pt x="87" y="72"/>
                  <a:pt x="72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65" y="75"/>
                  <a:pt x="62" y="79"/>
                  <a:pt x="61" y="81"/>
                </a:cubicBezTo>
                <a:cubicBezTo>
                  <a:pt x="59" y="83"/>
                  <a:pt x="58" y="88"/>
                  <a:pt x="59" y="94"/>
                </a:cubicBezTo>
                <a:cubicBezTo>
                  <a:pt x="59" y="94"/>
                  <a:pt x="59" y="94"/>
                  <a:pt x="59" y="94"/>
                </a:cubicBezTo>
                <a:cubicBezTo>
                  <a:pt x="62" y="102"/>
                  <a:pt x="68" y="107"/>
                  <a:pt x="76" y="107"/>
                </a:cubicBezTo>
                <a:cubicBezTo>
                  <a:pt x="85" y="107"/>
                  <a:pt x="93" y="109"/>
                  <a:pt x="99" y="113"/>
                </a:cubicBezTo>
                <a:cubicBezTo>
                  <a:pt x="99" y="113"/>
                  <a:pt x="99" y="113"/>
                  <a:pt x="99" y="113"/>
                </a:cubicBezTo>
                <a:cubicBezTo>
                  <a:pt x="104" y="117"/>
                  <a:pt x="106" y="123"/>
                  <a:pt x="106" y="133"/>
                </a:cubicBezTo>
                <a:cubicBezTo>
                  <a:pt x="106" y="135"/>
                  <a:pt x="106" y="137"/>
                  <a:pt x="105" y="140"/>
                </a:cubicBezTo>
                <a:cubicBezTo>
                  <a:pt x="104" y="142"/>
                  <a:pt x="102" y="144"/>
                  <a:pt x="100" y="146"/>
                </a:cubicBezTo>
                <a:cubicBezTo>
                  <a:pt x="98" y="148"/>
                  <a:pt x="95" y="150"/>
                  <a:pt x="91" y="152"/>
                </a:cubicBezTo>
                <a:cubicBezTo>
                  <a:pt x="86" y="153"/>
                  <a:pt x="81" y="154"/>
                  <a:pt x="74" y="154"/>
                </a:cubicBezTo>
                <a:cubicBezTo>
                  <a:pt x="69" y="154"/>
                  <a:pt x="63" y="153"/>
                  <a:pt x="58" y="152"/>
                </a:cubicBezTo>
                <a:cubicBezTo>
                  <a:pt x="53" y="151"/>
                  <a:pt x="49" y="149"/>
                  <a:pt x="45" y="146"/>
                </a:cubicBezTo>
                <a:cubicBezTo>
                  <a:pt x="42" y="143"/>
                  <a:pt x="39" y="139"/>
                  <a:pt x="37" y="134"/>
                </a:cubicBezTo>
                <a:cubicBezTo>
                  <a:pt x="34" y="129"/>
                  <a:pt x="33" y="123"/>
                  <a:pt x="33" y="115"/>
                </a:cubicBezTo>
                <a:cubicBezTo>
                  <a:pt x="33" y="105"/>
                  <a:pt x="26" y="98"/>
                  <a:pt x="16" y="98"/>
                </a:cubicBezTo>
                <a:cubicBezTo>
                  <a:pt x="9" y="98"/>
                  <a:pt x="0" y="103"/>
                  <a:pt x="0" y="117"/>
                </a:cubicBezTo>
                <a:cubicBezTo>
                  <a:pt x="0" y="130"/>
                  <a:pt x="2" y="142"/>
                  <a:pt x="6" y="151"/>
                </a:cubicBezTo>
                <a:cubicBezTo>
                  <a:pt x="10" y="160"/>
                  <a:pt x="16" y="167"/>
                  <a:pt x="24" y="173"/>
                </a:cubicBezTo>
                <a:cubicBezTo>
                  <a:pt x="31" y="178"/>
                  <a:pt x="39" y="182"/>
                  <a:pt x="49" y="184"/>
                </a:cubicBezTo>
                <a:cubicBezTo>
                  <a:pt x="57" y="186"/>
                  <a:pt x="67" y="187"/>
                  <a:pt x="76" y="187"/>
                </a:cubicBezTo>
                <a:cubicBezTo>
                  <a:pt x="88" y="187"/>
                  <a:pt x="98" y="185"/>
                  <a:pt x="106" y="181"/>
                </a:cubicBezTo>
                <a:cubicBezTo>
                  <a:pt x="114" y="178"/>
                  <a:pt x="120" y="173"/>
                  <a:pt x="125" y="168"/>
                </a:cubicBezTo>
                <a:cubicBezTo>
                  <a:pt x="130" y="162"/>
                  <a:pt x="134" y="156"/>
                  <a:pt x="136" y="150"/>
                </a:cubicBezTo>
                <a:cubicBezTo>
                  <a:pt x="138" y="143"/>
                  <a:pt x="139" y="138"/>
                  <a:pt x="139" y="132"/>
                </a:cubicBezTo>
                <a:cubicBezTo>
                  <a:pt x="139" y="128"/>
                  <a:pt x="139" y="123"/>
                  <a:pt x="138" y="118"/>
                </a:cubicBezTo>
                <a:close/>
              </a:path>
            </a:pathLst>
          </a:custGeom>
          <a:solidFill>
            <a:srgbClr val="ecf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7" name="组合 3"/>
          <p:cNvGrpSpPr/>
          <p:nvPr/>
        </p:nvGrpSpPr>
        <p:grpSpPr>
          <a:xfrm>
            <a:off x="9379080" y="4967280"/>
            <a:ext cx="1168200" cy="1120680"/>
            <a:chOff x="9379080" y="4967280"/>
            <a:chExt cx="1168200" cy="1120680"/>
          </a:xfrm>
        </p:grpSpPr>
        <p:sp>
          <p:nvSpPr>
            <p:cNvPr id="3218" name="Freeform 9"/>
            <p:cNvSpPr/>
            <p:nvPr/>
          </p:nvSpPr>
          <p:spPr>
            <a:xfrm>
              <a:off x="9825120" y="5716440"/>
              <a:ext cx="56880" cy="350640"/>
            </a:xfrm>
            <a:custGeom>
              <a:avLst/>
              <a:gdLst/>
              <a:ahLst/>
              <a:rect l="l" t="t" r="r" b="b"/>
              <a:pathLst>
                <a:path w="61" h="378">
                  <a:moveTo>
                    <a:pt x="0" y="355"/>
                  </a:moveTo>
                  <a:cubicBezTo>
                    <a:pt x="0" y="368"/>
                    <a:pt x="22" y="378"/>
                    <a:pt x="35" y="378"/>
                  </a:cubicBezTo>
                  <a:cubicBezTo>
                    <a:pt x="35" y="378"/>
                    <a:pt x="35" y="378"/>
                    <a:pt x="35" y="378"/>
                  </a:cubicBezTo>
                  <a:cubicBezTo>
                    <a:pt x="47" y="378"/>
                    <a:pt x="61" y="368"/>
                    <a:pt x="61" y="355"/>
                  </a:cubicBezTo>
                  <a:cubicBezTo>
                    <a:pt x="61" y="22"/>
                    <a:pt x="61" y="22"/>
                    <a:pt x="61" y="22"/>
                  </a:cubicBezTo>
                  <a:cubicBezTo>
                    <a:pt x="61" y="10"/>
                    <a:pt x="47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2" y="0"/>
                    <a:pt x="0" y="10"/>
                    <a:pt x="0" y="22"/>
                  </a:cubicBezTo>
                  <a:lnTo>
                    <a:pt x="0" y="355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10"/>
            <p:cNvSpPr/>
            <p:nvPr/>
          </p:nvSpPr>
          <p:spPr>
            <a:xfrm>
              <a:off x="9825120" y="604836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0"/>
                  </a:moveTo>
                  <a:lnTo>
                    <a:pt x="28" y="25"/>
                  </a:lnTo>
                  <a:lnTo>
                    <a:pt x="19" y="16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11"/>
            <p:cNvSpPr/>
            <p:nvPr/>
          </p:nvSpPr>
          <p:spPr>
            <a:xfrm>
              <a:off x="9988560" y="5716440"/>
              <a:ext cx="56880" cy="350640"/>
            </a:xfrm>
            <a:custGeom>
              <a:avLst/>
              <a:gdLst/>
              <a:ahLst/>
              <a:rect l="l" t="t" r="r" b="b"/>
              <a:pathLst>
                <a:path w="61" h="378">
                  <a:moveTo>
                    <a:pt x="0" y="355"/>
                  </a:moveTo>
                  <a:cubicBezTo>
                    <a:pt x="0" y="368"/>
                    <a:pt x="22" y="378"/>
                    <a:pt x="35" y="378"/>
                  </a:cubicBezTo>
                  <a:cubicBezTo>
                    <a:pt x="35" y="378"/>
                    <a:pt x="35" y="378"/>
                    <a:pt x="35" y="378"/>
                  </a:cubicBezTo>
                  <a:cubicBezTo>
                    <a:pt x="47" y="378"/>
                    <a:pt x="61" y="368"/>
                    <a:pt x="61" y="355"/>
                  </a:cubicBezTo>
                  <a:cubicBezTo>
                    <a:pt x="61" y="22"/>
                    <a:pt x="61" y="22"/>
                    <a:pt x="61" y="22"/>
                  </a:cubicBezTo>
                  <a:cubicBezTo>
                    <a:pt x="61" y="10"/>
                    <a:pt x="47" y="0"/>
                    <a:pt x="3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2" y="0"/>
                    <a:pt x="0" y="10"/>
                    <a:pt x="0" y="22"/>
                  </a:cubicBezTo>
                  <a:lnTo>
                    <a:pt x="0" y="355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12"/>
            <p:cNvSpPr/>
            <p:nvPr/>
          </p:nvSpPr>
          <p:spPr>
            <a:xfrm>
              <a:off x="9988560" y="604836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36" y="0"/>
                  </a:moveTo>
                  <a:lnTo>
                    <a:pt x="28" y="25"/>
                  </a:lnTo>
                  <a:lnTo>
                    <a:pt x="18" y="16"/>
                  </a:lnTo>
                  <a:lnTo>
                    <a:pt x="6" y="24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13">
              <a:hlinkClick r:id="rId4"/>
            </p:cNvPr>
            <p:cNvSpPr/>
            <p:nvPr/>
          </p:nvSpPr>
          <p:spPr>
            <a:xfrm>
              <a:off x="9379080" y="4967280"/>
              <a:ext cx="1168200" cy="1030320"/>
            </a:xfrm>
            <a:custGeom>
              <a:avLst/>
              <a:gdLst/>
              <a:ahLst/>
              <a:rect l="l" t="t" r="r" b="b"/>
              <a:pathLst>
                <a:path w="1258" h="1109">
                  <a:moveTo>
                    <a:pt x="14" y="458"/>
                  </a:moveTo>
                  <a:cubicBezTo>
                    <a:pt x="25" y="406"/>
                    <a:pt x="65" y="368"/>
                    <a:pt x="116" y="354"/>
                  </a:cubicBezTo>
                  <a:cubicBezTo>
                    <a:pt x="86" y="322"/>
                    <a:pt x="72" y="279"/>
                    <a:pt x="81" y="235"/>
                  </a:cubicBezTo>
                  <a:cubicBezTo>
                    <a:pt x="97" y="160"/>
                    <a:pt x="177" y="112"/>
                    <a:pt x="261" y="129"/>
                  </a:cubicBezTo>
                  <a:cubicBezTo>
                    <a:pt x="275" y="132"/>
                    <a:pt x="287" y="136"/>
                    <a:pt x="299" y="142"/>
                  </a:cubicBezTo>
                  <a:cubicBezTo>
                    <a:pt x="299" y="136"/>
                    <a:pt x="300" y="129"/>
                    <a:pt x="301" y="123"/>
                  </a:cubicBezTo>
                  <a:cubicBezTo>
                    <a:pt x="317" y="47"/>
                    <a:pt x="398" y="0"/>
                    <a:pt x="481" y="17"/>
                  </a:cubicBezTo>
                  <a:cubicBezTo>
                    <a:pt x="530" y="27"/>
                    <a:pt x="569" y="57"/>
                    <a:pt x="590" y="94"/>
                  </a:cubicBezTo>
                  <a:cubicBezTo>
                    <a:pt x="622" y="45"/>
                    <a:pt x="686" y="18"/>
                    <a:pt x="752" y="32"/>
                  </a:cubicBezTo>
                  <a:cubicBezTo>
                    <a:pt x="817" y="45"/>
                    <a:pt x="865" y="93"/>
                    <a:pt x="876" y="149"/>
                  </a:cubicBezTo>
                  <a:cubicBezTo>
                    <a:pt x="909" y="128"/>
                    <a:pt x="952" y="119"/>
                    <a:pt x="996" y="128"/>
                  </a:cubicBezTo>
                  <a:cubicBezTo>
                    <a:pt x="1080" y="146"/>
                    <a:pt x="1135" y="221"/>
                    <a:pt x="1119" y="297"/>
                  </a:cubicBezTo>
                  <a:cubicBezTo>
                    <a:pt x="1115" y="316"/>
                    <a:pt x="1107" y="334"/>
                    <a:pt x="1095" y="349"/>
                  </a:cubicBezTo>
                  <a:cubicBezTo>
                    <a:pt x="1103" y="350"/>
                    <a:pt x="1111" y="351"/>
                    <a:pt x="1119" y="352"/>
                  </a:cubicBezTo>
                  <a:cubicBezTo>
                    <a:pt x="1202" y="370"/>
                    <a:pt x="1258" y="445"/>
                    <a:pt x="1242" y="521"/>
                  </a:cubicBezTo>
                  <a:cubicBezTo>
                    <a:pt x="1230" y="579"/>
                    <a:pt x="1179" y="621"/>
                    <a:pt x="1118" y="629"/>
                  </a:cubicBezTo>
                  <a:cubicBezTo>
                    <a:pt x="1155" y="662"/>
                    <a:pt x="1173" y="710"/>
                    <a:pt x="1163" y="758"/>
                  </a:cubicBezTo>
                  <a:cubicBezTo>
                    <a:pt x="1152" y="814"/>
                    <a:pt x="1104" y="854"/>
                    <a:pt x="1046" y="865"/>
                  </a:cubicBezTo>
                  <a:cubicBezTo>
                    <a:pt x="1050" y="882"/>
                    <a:pt x="1051" y="900"/>
                    <a:pt x="1047" y="918"/>
                  </a:cubicBezTo>
                  <a:cubicBezTo>
                    <a:pt x="1026" y="1008"/>
                    <a:pt x="945" y="1074"/>
                    <a:pt x="881" y="1067"/>
                  </a:cubicBezTo>
                  <a:cubicBezTo>
                    <a:pt x="832" y="1061"/>
                    <a:pt x="824" y="1047"/>
                    <a:pt x="804" y="1028"/>
                  </a:cubicBezTo>
                  <a:cubicBezTo>
                    <a:pt x="777" y="1086"/>
                    <a:pt x="693" y="1109"/>
                    <a:pt x="609" y="1091"/>
                  </a:cubicBezTo>
                  <a:cubicBezTo>
                    <a:pt x="558" y="1081"/>
                    <a:pt x="513" y="1063"/>
                    <a:pt x="493" y="1022"/>
                  </a:cubicBezTo>
                  <a:cubicBezTo>
                    <a:pt x="459" y="1046"/>
                    <a:pt x="417" y="1042"/>
                    <a:pt x="371" y="1032"/>
                  </a:cubicBezTo>
                  <a:cubicBezTo>
                    <a:pt x="287" y="1015"/>
                    <a:pt x="209" y="949"/>
                    <a:pt x="225" y="873"/>
                  </a:cubicBezTo>
                  <a:cubicBezTo>
                    <a:pt x="226" y="869"/>
                    <a:pt x="227" y="864"/>
                    <a:pt x="229" y="859"/>
                  </a:cubicBezTo>
                  <a:cubicBezTo>
                    <a:pt x="213" y="860"/>
                    <a:pt x="197" y="859"/>
                    <a:pt x="181" y="856"/>
                  </a:cubicBezTo>
                  <a:cubicBezTo>
                    <a:pt x="97" y="839"/>
                    <a:pt x="29" y="738"/>
                    <a:pt x="45" y="663"/>
                  </a:cubicBezTo>
                  <a:cubicBezTo>
                    <a:pt x="50" y="640"/>
                    <a:pt x="60" y="620"/>
                    <a:pt x="75" y="603"/>
                  </a:cubicBezTo>
                  <a:cubicBezTo>
                    <a:pt x="7" y="576"/>
                    <a:pt x="0" y="525"/>
                    <a:pt x="14" y="4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14"/>
            <p:cNvSpPr/>
            <p:nvPr/>
          </p:nvSpPr>
          <p:spPr>
            <a:xfrm>
              <a:off x="9786960" y="5554440"/>
              <a:ext cx="66600" cy="282600"/>
            </a:xfrm>
            <a:custGeom>
              <a:avLst/>
              <a:gdLst/>
              <a:ahLst/>
              <a:rect l="l" t="t" r="r" b="b"/>
              <a:pathLst>
                <a:path w="42" h="178">
                  <a:moveTo>
                    <a:pt x="2" y="0"/>
                  </a:moveTo>
                  <a:lnTo>
                    <a:pt x="42" y="28"/>
                  </a:lnTo>
                  <a:lnTo>
                    <a:pt x="15" y="46"/>
                  </a:lnTo>
                  <a:lnTo>
                    <a:pt x="27" y="156"/>
                  </a:lnTo>
                  <a:lnTo>
                    <a:pt x="15" y="178"/>
                  </a:lnTo>
                  <a:lnTo>
                    <a:pt x="0" y="153"/>
                  </a:lnTo>
                  <a:lnTo>
                    <a:pt x="8" y="4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7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15">
              <a:hlinkClick r:id="rId5"/>
            </p:cNvPr>
            <p:cNvSpPr/>
            <p:nvPr/>
          </p:nvSpPr>
          <p:spPr>
            <a:xfrm>
              <a:off x="9675720" y="5135400"/>
              <a:ext cx="536400" cy="511200"/>
            </a:xfrm>
            <a:custGeom>
              <a:avLst/>
              <a:gdLst/>
              <a:ahLst/>
              <a:rect l="l" t="t" r="r" b="b"/>
              <a:pathLst>
                <a:path w="578" h="550">
                  <a:moveTo>
                    <a:pt x="93" y="163"/>
                  </a:moveTo>
                  <a:cubicBezTo>
                    <a:pt x="0" y="327"/>
                    <a:pt x="94" y="459"/>
                    <a:pt x="163" y="498"/>
                  </a:cubicBezTo>
                  <a:cubicBezTo>
                    <a:pt x="234" y="538"/>
                    <a:pt x="392" y="550"/>
                    <a:pt x="485" y="386"/>
                  </a:cubicBezTo>
                  <a:cubicBezTo>
                    <a:pt x="578" y="223"/>
                    <a:pt x="503" y="151"/>
                    <a:pt x="395" y="89"/>
                  </a:cubicBezTo>
                  <a:cubicBezTo>
                    <a:pt x="287" y="28"/>
                    <a:pt x="186" y="0"/>
                    <a:pt x="93" y="163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16"/>
            <p:cNvSpPr/>
            <p:nvPr/>
          </p:nvSpPr>
          <p:spPr>
            <a:xfrm>
              <a:off x="10117080" y="5325840"/>
              <a:ext cx="133200" cy="13176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17" y="41"/>
                  </a:moveTo>
                  <a:cubicBezTo>
                    <a:pt x="0" y="71"/>
                    <a:pt x="11" y="109"/>
                    <a:pt x="41" y="126"/>
                  </a:cubicBezTo>
                  <a:cubicBezTo>
                    <a:pt x="71" y="143"/>
                    <a:pt x="109" y="132"/>
                    <a:pt x="126" y="102"/>
                  </a:cubicBezTo>
                  <a:cubicBezTo>
                    <a:pt x="143" y="72"/>
                    <a:pt x="132" y="34"/>
                    <a:pt x="102" y="17"/>
                  </a:cubicBezTo>
                  <a:cubicBezTo>
                    <a:pt x="72" y="0"/>
                    <a:pt x="34" y="11"/>
                    <a:pt x="17" y="41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17"/>
            <p:cNvSpPr/>
            <p:nvPr/>
          </p:nvSpPr>
          <p:spPr>
            <a:xfrm>
              <a:off x="9753480" y="5119560"/>
              <a:ext cx="133200" cy="131760"/>
            </a:xfrm>
            <a:custGeom>
              <a:avLst/>
              <a:gdLst/>
              <a:ahLst/>
              <a:rect l="l" t="t" r="r" b="b"/>
              <a:pathLst>
                <a:path w="143" h="142">
                  <a:moveTo>
                    <a:pt x="17" y="40"/>
                  </a:moveTo>
                  <a:cubicBezTo>
                    <a:pt x="0" y="70"/>
                    <a:pt x="11" y="108"/>
                    <a:pt x="41" y="125"/>
                  </a:cubicBezTo>
                  <a:cubicBezTo>
                    <a:pt x="71" y="142"/>
                    <a:pt x="109" y="131"/>
                    <a:pt x="126" y="102"/>
                  </a:cubicBezTo>
                  <a:cubicBezTo>
                    <a:pt x="143" y="72"/>
                    <a:pt x="132" y="34"/>
                    <a:pt x="102" y="17"/>
                  </a:cubicBezTo>
                  <a:cubicBezTo>
                    <a:pt x="72" y="0"/>
                    <a:pt x="34" y="10"/>
                    <a:pt x="17" y="40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18"/>
            <p:cNvSpPr/>
            <p:nvPr/>
          </p:nvSpPr>
          <p:spPr>
            <a:xfrm>
              <a:off x="9829800" y="5473800"/>
              <a:ext cx="101520" cy="8388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96" y="46"/>
                  </a:moveTo>
                  <a:cubicBezTo>
                    <a:pt x="109" y="66"/>
                    <a:pt x="54" y="90"/>
                    <a:pt x="28" y="75"/>
                  </a:cubicBezTo>
                  <a:cubicBezTo>
                    <a:pt x="1" y="60"/>
                    <a:pt x="0" y="5"/>
                    <a:pt x="18" y="2"/>
                  </a:cubicBezTo>
                  <a:cubicBezTo>
                    <a:pt x="26" y="0"/>
                    <a:pt x="85" y="30"/>
                    <a:pt x="96" y="46"/>
                  </a:cubicBezTo>
                  <a:close/>
                </a:path>
              </a:pathLst>
            </a:custGeom>
            <a:solidFill>
              <a:srgbClr val="f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19"/>
            <p:cNvSpPr/>
            <p:nvPr/>
          </p:nvSpPr>
          <p:spPr>
            <a:xfrm>
              <a:off x="9817200" y="527184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08" y="88"/>
                  </a:moveTo>
                  <a:cubicBezTo>
                    <a:pt x="123" y="62"/>
                    <a:pt x="114" y="29"/>
                    <a:pt x="88" y="14"/>
                  </a:cubicBezTo>
                  <a:cubicBezTo>
                    <a:pt x="62" y="0"/>
                    <a:pt x="29" y="9"/>
                    <a:pt x="15" y="34"/>
                  </a:cubicBezTo>
                  <a:cubicBezTo>
                    <a:pt x="0" y="60"/>
                    <a:pt x="9" y="93"/>
                    <a:pt x="35" y="108"/>
                  </a:cubicBezTo>
                  <a:cubicBezTo>
                    <a:pt x="61" y="122"/>
                    <a:pt x="93" y="113"/>
                    <a:pt x="10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20"/>
            <p:cNvSpPr/>
            <p:nvPr/>
          </p:nvSpPr>
          <p:spPr>
            <a:xfrm>
              <a:off x="9853560" y="5278320"/>
              <a:ext cx="36360" cy="363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4" y="27"/>
                  </a:moveTo>
                  <a:cubicBezTo>
                    <a:pt x="39" y="19"/>
                    <a:pt x="36" y="9"/>
                    <a:pt x="28" y="4"/>
                  </a:cubicBezTo>
                  <a:cubicBezTo>
                    <a:pt x="20" y="0"/>
                    <a:pt x="10" y="3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9" y="38"/>
                    <a:pt x="30" y="36"/>
                    <a:pt x="34" y="27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21"/>
            <p:cNvSpPr/>
            <p:nvPr/>
          </p:nvSpPr>
          <p:spPr>
            <a:xfrm>
              <a:off x="9974160" y="536256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08" y="88"/>
                  </a:moveTo>
                  <a:cubicBezTo>
                    <a:pt x="123" y="62"/>
                    <a:pt x="114" y="30"/>
                    <a:pt x="88" y="15"/>
                  </a:cubicBezTo>
                  <a:cubicBezTo>
                    <a:pt x="62" y="0"/>
                    <a:pt x="30" y="9"/>
                    <a:pt x="15" y="35"/>
                  </a:cubicBezTo>
                  <a:cubicBezTo>
                    <a:pt x="0" y="61"/>
                    <a:pt x="9" y="93"/>
                    <a:pt x="35" y="108"/>
                  </a:cubicBezTo>
                  <a:cubicBezTo>
                    <a:pt x="61" y="123"/>
                    <a:pt x="93" y="114"/>
                    <a:pt x="108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22"/>
            <p:cNvSpPr/>
            <p:nvPr/>
          </p:nvSpPr>
          <p:spPr>
            <a:xfrm>
              <a:off x="10009080" y="5368680"/>
              <a:ext cx="36360" cy="3636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4" y="28"/>
                  </a:moveTo>
                  <a:cubicBezTo>
                    <a:pt x="39" y="20"/>
                    <a:pt x="36" y="10"/>
                    <a:pt x="28" y="5"/>
                  </a:cubicBezTo>
                  <a:cubicBezTo>
                    <a:pt x="20" y="0"/>
                    <a:pt x="10" y="3"/>
                    <a:pt x="5" y="11"/>
                  </a:cubicBezTo>
                  <a:cubicBezTo>
                    <a:pt x="0" y="19"/>
                    <a:pt x="3" y="30"/>
                    <a:pt x="11" y="34"/>
                  </a:cubicBezTo>
                  <a:cubicBezTo>
                    <a:pt x="20" y="39"/>
                    <a:pt x="30" y="36"/>
                    <a:pt x="34" y="28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23"/>
            <p:cNvSpPr/>
            <p:nvPr/>
          </p:nvSpPr>
          <p:spPr>
            <a:xfrm>
              <a:off x="9855360" y="5089320"/>
              <a:ext cx="363240" cy="276120"/>
            </a:xfrm>
            <a:custGeom>
              <a:avLst/>
              <a:gdLst/>
              <a:ahLst/>
              <a:rect l="l" t="t" r="r" b="b"/>
              <a:pathLst>
                <a:path w="391" h="297">
                  <a:moveTo>
                    <a:pt x="125" y="20"/>
                  </a:moveTo>
                  <a:cubicBezTo>
                    <a:pt x="157" y="39"/>
                    <a:pt x="171" y="78"/>
                    <a:pt x="159" y="113"/>
                  </a:cubicBezTo>
                  <a:cubicBezTo>
                    <a:pt x="179" y="105"/>
                    <a:pt x="202" y="107"/>
                    <a:pt x="222" y="118"/>
                  </a:cubicBezTo>
                  <a:cubicBezTo>
                    <a:pt x="236" y="126"/>
                    <a:pt x="247" y="138"/>
                    <a:pt x="254" y="152"/>
                  </a:cubicBezTo>
                  <a:cubicBezTo>
                    <a:pt x="277" y="132"/>
                    <a:pt x="312" y="127"/>
                    <a:pt x="341" y="143"/>
                  </a:cubicBezTo>
                  <a:cubicBezTo>
                    <a:pt x="378" y="164"/>
                    <a:pt x="391" y="211"/>
                    <a:pt x="370" y="247"/>
                  </a:cubicBezTo>
                  <a:cubicBezTo>
                    <a:pt x="349" y="284"/>
                    <a:pt x="302" y="297"/>
                    <a:pt x="266" y="276"/>
                  </a:cubicBezTo>
                  <a:cubicBezTo>
                    <a:pt x="251" y="268"/>
                    <a:pt x="241" y="256"/>
                    <a:pt x="234" y="242"/>
                  </a:cubicBezTo>
                  <a:cubicBezTo>
                    <a:pt x="211" y="262"/>
                    <a:pt x="176" y="267"/>
                    <a:pt x="147" y="251"/>
                  </a:cubicBezTo>
                  <a:cubicBezTo>
                    <a:pt x="114" y="232"/>
                    <a:pt x="100" y="193"/>
                    <a:pt x="113" y="158"/>
                  </a:cubicBezTo>
                  <a:cubicBezTo>
                    <a:pt x="93" y="166"/>
                    <a:pt x="69" y="164"/>
                    <a:pt x="49" y="153"/>
                  </a:cubicBezTo>
                  <a:cubicBezTo>
                    <a:pt x="13" y="132"/>
                    <a:pt x="0" y="86"/>
                    <a:pt x="21" y="49"/>
                  </a:cubicBezTo>
                  <a:cubicBezTo>
                    <a:pt x="42" y="12"/>
                    <a:pt x="88" y="0"/>
                    <a:pt x="12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3" name="组合 1"/>
          <p:cNvGrpSpPr/>
          <p:nvPr/>
        </p:nvGrpSpPr>
        <p:grpSpPr>
          <a:xfrm>
            <a:off x="6450120" y="4630680"/>
            <a:ext cx="1166760" cy="1119240"/>
            <a:chOff x="6450120" y="4630680"/>
            <a:chExt cx="1166760" cy="1119240"/>
          </a:xfrm>
        </p:grpSpPr>
        <p:sp>
          <p:nvSpPr>
            <p:cNvPr id="3234" name="Freeform 24"/>
            <p:cNvSpPr/>
            <p:nvPr/>
          </p:nvSpPr>
          <p:spPr>
            <a:xfrm>
              <a:off x="7115400" y="5376960"/>
              <a:ext cx="56880" cy="352440"/>
            </a:xfrm>
            <a:custGeom>
              <a:avLst/>
              <a:gdLst/>
              <a:ahLst/>
              <a:rect l="l" t="t" r="r" b="b"/>
              <a:pathLst>
                <a:path w="61" h="379">
                  <a:moveTo>
                    <a:pt x="61" y="356"/>
                  </a:moveTo>
                  <a:cubicBezTo>
                    <a:pt x="61" y="368"/>
                    <a:pt x="38" y="379"/>
                    <a:pt x="26" y="379"/>
                  </a:cubicBezTo>
                  <a:cubicBezTo>
                    <a:pt x="26" y="379"/>
                    <a:pt x="26" y="379"/>
                    <a:pt x="26" y="379"/>
                  </a:cubicBezTo>
                  <a:cubicBezTo>
                    <a:pt x="13" y="379"/>
                    <a:pt x="0" y="368"/>
                    <a:pt x="0" y="35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3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8" y="0"/>
                    <a:pt x="61" y="10"/>
                    <a:pt x="61" y="23"/>
                  </a:cubicBezTo>
                  <a:lnTo>
                    <a:pt x="61" y="356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25"/>
            <p:cNvSpPr/>
            <p:nvPr/>
          </p:nvSpPr>
          <p:spPr>
            <a:xfrm>
              <a:off x="7115400" y="571032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8" y="25"/>
                  </a:lnTo>
                  <a:lnTo>
                    <a:pt x="17" y="16"/>
                  </a:lnTo>
                  <a:lnTo>
                    <a:pt x="30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26"/>
            <p:cNvSpPr/>
            <p:nvPr/>
          </p:nvSpPr>
          <p:spPr>
            <a:xfrm>
              <a:off x="6951600" y="5376960"/>
              <a:ext cx="56880" cy="352440"/>
            </a:xfrm>
            <a:custGeom>
              <a:avLst/>
              <a:gdLst/>
              <a:ahLst/>
              <a:rect l="l" t="t" r="r" b="b"/>
              <a:pathLst>
                <a:path w="61" h="379">
                  <a:moveTo>
                    <a:pt x="61" y="356"/>
                  </a:moveTo>
                  <a:cubicBezTo>
                    <a:pt x="61" y="368"/>
                    <a:pt x="39" y="379"/>
                    <a:pt x="26" y="379"/>
                  </a:cubicBezTo>
                  <a:cubicBezTo>
                    <a:pt x="26" y="379"/>
                    <a:pt x="26" y="379"/>
                    <a:pt x="26" y="379"/>
                  </a:cubicBezTo>
                  <a:cubicBezTo>
                    <a:pt x="14" y="379"/>
                    <a:pt x="0" y="368"/>
                    <a:pt x="0" y="356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0"/>
                    <a:pt x="14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39" y="0"/>
                    <a:pt x="61" y="10"/>
                    <a:pt x="61" y="23"/>
                  </a:cubicBezTo>
                  <a:lnTo>
                    <a:pt x="61" y="356"/>
                  </a:lnTo>
                  <a:close/>
                </a:path>
              </a:pathLst>
            </a:custGeom>
            <a:solidFill>
              <a:srgbClr val="f1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27"/>
            <p:cNvSpPr/>
            <p:nvPr/>
          </p:nvSpPr>
          <p:spPr>
            <a:xfrm>
              <a:off x="6951600" y="571032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0" y="0"/>
                  </a:moveTo>
                  <a:lnTo>
                    <a:pt x="8" y="25"/>
                  </a:lnTo>
                  <a:lnTo>
                    <a:pt x="17" y="16"/>
                  </a:lnTo>
                  <a:lnTo>
                    <a:pt x="30" y="24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28">
              <a:hlinkClick r:id="rId6"/>
            </p:cNvPr>
            <p:cNvSpPr/>
            <p:nvPr/>
          </p:nvSpPr>
          <p:spPr>
            <a:xfrm>
              <a:off x="6450120" y="4630680"/>
              <a:ext cx="1166760" cy="1028880"/>
            </a:xfrm>
            <a:custGeom>
              <a:avLst/>
              <a:gdLst/>
              <a:ahLst/>
              <a:rect l="l" t="t" r="r" b="b"/>
              <a:pathLst>
                <a:path w="1257" h="1108">
                  <a:moveTo>
                    <a:pt x="1244" y="457"/>
                  </a:moveTo>
                  <a:cubicBezTo>
                    <a:pt x="1233" y="406"/>
                    <a:pt x="1193" y="368"/>
                    <a:pt x="1142" y="354"/>
                  </a:cubicBezTo>
                  <a:cubicBezTo>
                    <a:pt x="1171" y="322"/>
                    <a:pt x="1186" y="278"/>
                    <a:pt x="1177" y="235"/>
                  </a:cubicBezTo>
                  <a:cubicBezTo>
                    <a:pt x="1161" y="159"/>
                    <a:pt x="1081" y="112"/>
                    <a:pt x="997" y="129"/>
                  </a:cubicBezTo>
                  <a:cubicBezTo>
                    <a:pt x="983" y="132"/>
                    <a:pt x="971" y="136"/>
                    <a:pt x="959" y="142"/>
                  </a:cubicBezTo>
                  <a:cubicBezTo>
                    <a:pt x="959" y="135"/>
                    <a:pt x="958" y="129"/>
                    <a:pt x="957" y="123"/>
                  </a:cubicBezTo>
                  <a:cubicBezTo>
                    <a:pt x="941" y="47"/>
                    <a:pt x="860" y="0"/>
                    <a:pt x="776" y="17"/>
                  </a:cubicBezTo>
                  <a:cubicBezTo>
                    <a:pt x="728" y="27"/>
                    <a:pt x="689" y="56"/>
                    <a:pt x="668" y="94"/>
                  </a:cubicBezTo>
                  <a:cubicBezTo>
                    <a:pt x="636" y="45"/>
                    <a:pt x="572" y="18"/>
                    <a:pt x="506" y="32"/>
                  </a:cubicBezTo>
                  <a:cubicBezTo>
                    <a:pt x="441" y="45"/>
                    <a:pt x="393" y="93"/>
                    <a:pt x="382" y="149"/>
                  </a:cubicBezTo>
                  <a:cubicBezTo>
                    <a:pt x="349" y="128"/>
                    <a:pt x="306" y="119"/>
                    <a:pt x="262" y="128"/>
                  </a:cubicBezTo>
                  <a:cubicBezTo>
                    <a:pt x="178" y="145"/>
                    <a:pt x="123" y="221"/>
                    <a:pt x="138" y="297"/>
                  </a:cubicBezTo>
                  <a:cubicBezTo>
                    <a:pt x="142" y="316"/>
                    <a:pt x="151" y="334"/>
                    <a:pt x="162" y="349"/>
                  </a:cubicBezTo>
                  <a:cubicBezTo>
                    <a:pt x="155" y="349"/>
                    <a:pt x="147" y="351"/>
                    <a:pt x="139" y="352"/>
                  </a:cubicBezTo>
                  <a:cubicBezTo>
                    <a:pt x="55" y="369"/>
                    <a:pt x="0" y="445"/>
                    <a:pt x="16" y="521"/>
                  </a:cubicBezTo>
                  <a:cubicBezTo>
                    <a:pt x="28" y="579"/>
                    <a:pt x="78" y="621"/>
                    <a:pt x="139" y="629"/>
                  </a:cubicBezTo>
                  <a:cubicBezTo>
                    <a:pt x="103" y="662"/>
                    <a:pt x="85" y="709"/>
                    <a:pt x="95" y="757"/>
                  </a:cubicBezTo>
                  <a:cubicBezTo>
                    <a:pt x="106" y="814"/>
                    <a:pt x="154" y="854"/>
                    <a:pt x="212" y="864"/>
                  </a:cubicBezTo>
                  <a:cubicBezTo>
                    <a:pt x="208" y="882"/>
                    <a:pt x="207" y="900"/>
                    <a:pt x="211" y="918"/>
                  </a:cubicBezTo>
                  <a:cubicBezTo>
                    <a:pt x="232" y="1008"/>
                    <a:pt x="313" y="1074"/>
                    <a:pt x="377" y="1066"/>
                  </a:cubicBezTo>
                  <a:cubicBezTo>
                    <a:pt x="426" y="1061"/>
                    <a:pt x="433" y="1046"/>
                    <a:pt x="454" y="1028"/>
                  </a:cubicBezTo>
                  <a:cubicBezTo>
                    <a:pt x="481" y="1086"/>
                    <a:pt x="565" y="1108"/>
                    <a:pt x="649" y="1091"/>
                  </a:cubicBezTo>
                  <a:cubicBezTo>
                    <a:pt x="700" y="1080"/>
                    <a:pt x="745" y="1063"/>
                    <a:pt x="765" y="1022"/>
                  </a:cubicBezTo>
                  <a:cubicBezTo>
                    <a:pt x="799" y="1046"/>
                    <a:pt x="841" y="1041"/>
                    <a:pt x="887" y="1032"/>
                  </a:cubicBezTo>
                  <a:cubicBezTo>
                    <a:pt x="971" y="1015"/>
                    <a:pt x="1049" y="949"/>
                    <a:pt x="1033" y="873"/>
                  </a:cubicBezTo>
                  <a:cubicBezTo>
                    <a:pt x="1032" y="868"/>
                    <a:pt x="1031" y="863"/>
                    <a:pt x="1029" y="859"/>
                  </a:cubicBezTo>
                  <a:cubicBezTo>
                    <a:pt x="1044" y="860"/>
                    <a:pt x="1060" y="859"/>
                    <a:pt x="1077" y="856"/>
                  </a:cubicBezTo>
                  <a:cubicBezTo>
                    <a:pt x="1160" y="838"/>
                    <a:pt x="1229" y="738"/>
                    <a:pt x="1213" y="662"/>
                  </a:cubicBezTo>
                  <a:cubicBezTo>
                    <a:pt x="1208" y="640"/>
                    <a:pt x="1198" y="619"/>
                    <a:pt x="1183" y="603"/>
                  </a:cubicBezTo>
                  <a:cubicBezTo>
                    <a:pt x="1251" y="576"/>
                    <a:pt x="1257" y="524"/>
                    <a:pt x="1244" y="4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29"/>
            <p:cNvSpPr/>
            <p:nvPr/>
          </p:nvSpPr>
          <p:spPr>
            <a:xfrm>
              <a:off x="7143840" y="5214960"/>
              <a:ext cx="66600" cy="284040"/>
            </a:xfrm>
            <a:custGeom>
              <a:avLst/>
              <a:gdLst/>
              <a:ahLst/>
              <a:rect l="l" t="t" r="r" b="b"/>
              <a:pathLst>
                <a:path w="42" h="179">
                  <a:moveTo>
                    <a:pt x="40" y="0"/>
                  </a:moveTo>
                  <a:lnTo>
                    <a:pt x="0" y="29"/>
                  </a:lnTo>
                  <a:lnTo>
                    <a:pt x="27" y="47"/>
                  </a:lnTo>
                  <a:lnTo>
                    <a:pt x="15" y="157"/>
                  </a:lnTo>
                  <a:lnTo>
                    <a:pt x="27" y="179"/>
                  </a:lnTo>
                  <a:lnTo>
                    <a:pt x="42" y="155"/>
                  </a:lnTo>
                  <a:lnTo>
                    <a:pt x="34" y="4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7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30">
              <a:hlinkClick r:id="rId7"/>
            </p:cNvPr>
            <p:cNvSpPr/>
            <p:nvPr/>
          </p:nvSpPr>
          <p:spPr>
            <a:xfrm>
              <a:off x="6784920" y="4797360"/>
              <a:ext cx="534960" cy="509760"/>
            </a:xfrm>
            <a:custGeom>
              <a:avLst/>
              <a:gdLst/>
              <a:ahLst/>
              <a:rect l="l" t="t" r="r" b="b"/>
              <a:pathLst>
                <a:path w="577" h="549">
                  <a:moveTo>
                    <a:pt x="485" y="163"/>
                  </a:moveTo>
                  <a:cubicBezTo>
                    <a:pt x="577" y="327"/>
                    <a:pt x="484" y="459"/>
                    <a:pt x="415" y="497"/>
                  </a:cubicBezTo>
                  <a:cubicBezTo>
                    <a:pt x="344" y="538"/>
                    <a:pt x="185" y="549"/>
                    <a:pt x="93" y="386"/>
                  </a:cubicBezTo>
                  <a:cubicBezTo>
                    <a:pt x="0" y="222"/>
                    <a:pt x="75" y="150"/>
                    <a:pt x="183" y="89"/>
                  </a:cubicBezTo>
                  <a:cubicBezTo>
                    <a:pt x="291" y="27"/>
                    <a:pt x="392" y="0"/>
                    <a:pt x="485" y="163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31"/>
            <p:cNvSpPr/>
            <p:nvPr/>
          </p:nvSpPr>
          <p:spPr>
            <a:xfrm>
              <a:off x="6746760" y="4987800"/>
              <a:ext cx="131760" cy="1317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125" y="40"/>
                  </a:moveTo>
                  <a:cubicBezTo>
                    <a:pt x="142" y="70"/>
                    <a:pt x="132" y="108"/>
                    <a:pt x="102" y="125"/>
                  </a:cubicBezTo>
                  <a:cubicBezTo>
                    <a:pt x="72" y="142"/>
                    <a:pt x="34" y="132"/>
                    <a:pt x="17" y="102"/>
                  </a:cubicBezTo>
                  <a:cubicBezTo>
                    <a:pt x="0" y="72"/>
                    <a:pt x="11" y="34"/>
                    <a:pt x="41" y="17"/>
                  </a:cubicBezTo>
                  <a:cubicBezTo>
                    <a:pt x="70" y="0"/>
                    <a:pt x="108" y="11"/>
                    <a:pt x="125" y="40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32"/>
            <p:cNvSpPr/>
            <p:nvPr/>
          </p:nvSpPr>
          <p:spPr>
            <a:xfrm>
              <a:off x="7110360" y="4779720"/>
              <a:ext cx="131760" cy="13320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125" y="41"/>
                  </a:moveTo>
                  <a:cubicBezTo>
                    <a:pt x="142" y="71"/>
                    <a:pt x="132" y="109"/>
                    <a:pt x="102" y="126"/>
                  </a:cubicBezTo>
                  <a:cubicBezTo>
                    <a:pt x="72" y="143"/>
                    <a:pt x="34" y="132"/>
                    <a:pt x="17" y="102"/>
                  </a:cubicBezTo>
                  <a:cubicBezTo>
                    <a:pt x="0" y="72"/>
                    <a:pt x="11" y="34"/>
                    <a:pt x="41" y="17"/>
                  </a:cubicBezTo>
                  <a:cubicBezTo>
                    <a:pt x="70" y="0"/>
                    <a:pt x="108" y="11"/>
                    <a:pt x="125" y="41"/>
                  </a:cubicBezTo>
                  <a:close/>
                </a:path>
              </a:pathLst>
            </a:custGeom>
            <a:solidFill>
              <a:srgbClr val="f7d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33"/>
            <p:cNvSpPr/>
            <p:nvPr/>
          </p:nvSpPr>
          <p:spPr>
            <a:xfrm>
              <a:off x="7066080" y="5135400"/>
              <a:ext cx="99720" cy="8388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14" y="46"/>
                  </a:moveTo>
                  <a:cubicBezTo>
                    <a:pt x="0" y="66"/>
                    <a:pt x="56" y="90"/>
                    <a:pt x="82" y="75"/>
                  </a:cubicBezTo>
                  <a:cubicBezTo>
                    <a:pt x="109" y="60"/>
                    <a:pt x="109" y="5"/>
                    <a:pt x="92" y="2"/>
                  </a:cubicBezTo>
                  <a:cubicBezTo>
                    <a:pt x="84" y="0"/>
                    <a:pt x="25" y="30"/>
                    <a:pt x="14" y="46"/>
                  </a:cubicBezTo>
                  <a:close/>
                </a:path>
              </a:pathLst>
            </a:custGeom>
            <a:solidFill>
              <a:srgbClr val="ffc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4" name="Freeform 34"/>
            <p:cNvSpPr/>
            <p:nvPr/>
          </p:nvSpPr>
          <p:spPr>
            <a:xfrm>
              <a:off x="7066080" y="493380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5" y="88"/>
                  </a:moveTo>
                  <a:cubicBezTo>
                    <a:pt x="0" y="63"/>
                    <a:pt x="9" y="30"/>
                    <a:pt x="35" y="15"/>
                  </a:cubicBezTo>
                  <a:cubicBezTo>
                    <a:pt x="61" y="0"/>
                    <a:pt x="93" y="9"/>
                    <a:pt x="108" y="35"/>
                  </a:cubicBezTo>
                  <a:cubicBezTo>
                    <a:pt x="123" y="61"/>
                    <a:pt x="114" y="94"/>
                    <a:pt x="88" y="108"/>
                  </a:cubicBezTo>
                  <a:cubicBezTo>
                    <a:pt x="62" y="123"/>
                    <a:pt x="29" y="114"/>
                    <a:pt x="15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5" name="Freeform 35"/>
            <p:cNvSpPr/>
            <p:nvPr/>
          </p:nvSpPr>
          <p:spPr>
            <a:xfrm>
              <a:off x="7107480" y="4940280"/>
              <a:ext cx="34920" cy="36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4" y="28"/>
                  </a:moveTo>
                  <a:cubicBezTo>
                    <a:pt x="0" y="20"/>
                    <a:pt x="3" y="10"/>
                    <a:pt x="11" y="5"/>
                  </a:cubicBezTo>
                  <a:cubicBezTo>
                    <a:pt x="19" y="0"/>
                    <a:pt x="29" y="3"/>
                    <a:pt x="34" y="11"/>
                  </a:cubicBezTo>
                  <a:cubicBezTo>
                    <a:pt x="38" y="20"/>
                    <a:pt x="36" y="30"/>
                    <a:pt x="28" y="35"/>
                  </a:cubicBezTo>
                  <a:cubicBezTo>
                    <a:pt x="19" y="39"/>
                    <a:pt x="9" y="36"/>
                    <a:pt x="4" y="28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6" name="Freeform 36"/>
            <p:cNvSpPr/>
            <p:nvPr/>
          </p:nvSpPr>
          <p:spPr>
            <a:xfrm>
              <a:off x="6908760" y="5024520"/>
              <a:ext cx="114120" cy="11412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5" y="88"/>
                  </a:moveTo>
                  <a:cubicBezTo>
                    <a:pt x="0" y="62"/>
                    <a:pt x="9" y="29"/>
                    <a:pt x="35" y="15"/>
                  </a:cubicBezTo>
                  <a:cubicBezTo>
                    <a:pt x="60" y="0"/>
                    <a:pt x="93" y="9"/>
                    <a:pt x="108" y="35"/>
                  </a:cubicBezTo>
                  <a:cubicBezTo>
                    <a:pt x="123" y="60"/>
                    <a:pt x="114" y="93"/>
                    <a:pt x="88" y="108"/>
                  </a:cubicBezTo>
                  <a:cubicBezTo>
                    <a:pt x="62" y="123"/>
                    <a:pt x="29" y="114"/>
                    <a:pt x="15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37"/>
            <p:cNvSpPr/>
            <p:nvPr/>
          </p:nvSpPr>
          <p:spPr>
            <a:xfrm>
              <a:off x="6951600" y="5030640"/>
              <a:ext cx="34920" cy="36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4" y="28"/>
                  </a:moveTo>
                  <a:cubicBezTo>
                    <a:pt x="0" y="20"/>
                    <a:pt x="3" y="9"/>
                    <a:pt x="11" y="5"/>
                  </a:cubicBezTo>
                  <a:cubicBezTo>
                    <a:pt x="19" y="0"/>
                    <a:pt x="29" y="3"/>
                    <a:pt x="34" y="11"/>
                  </a:cubicBezTo>
                  <a:cubicBezTo>
                    <a:pt x="38" y="19"/>
                    <a:pt x="36" y="29"/>
                    <a:pt x="27" y="34"/>
                  </a:cubicBezTo>
                  <a:cubicBezTo>
                    <a:pt x="19" y="39"/>
                    <a:pt x="9" y="36"/>
                    <a:pt x="4" y="28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38"/>
            <p:cNvSpPr/>
            <p:nvPr/>
          </p:nvSpPr>
          <p:spPr>
            <a:xfrm>
              <a:off x="6778800" y="4751280"/>
              <a:ext cx="363600" cy="276120"/>
            </a:xfrm>
            <a:custGeom>
              <a:avLst/>
              <a:gdLst/>
              <a:ahLst/>
              <a:rect l="l" t="t" r="r" b="b"/>
              <a:pathLst>
                <a:path w="391" h="298">
                  <a:moveTo>
                    <a:pt x="266" y="21"/>
                  </a:moveTo>
                  <a:cubicBezTo>
                    <a:pt x="233" y="40"/>
                    <a:pt x="220" y="79"/>
                    <a:pt x="232" y="113"/>
                  </a:cubicBezTo>
                  <a:cubicBezTo>
                    <a:pt x="212" y="106"/>
                    <a:pt x="189" y="107"/>
                    <a:pt x="169" y="119"/>
                  </a:cubicBezTo>
                  <a:cubicBezTo>
                    <a:pt x="154" y="127"/>
                    <a:pt x="144" y="139"/>
                    <a:pt x="137" y="153"/>
                  </a:cubicBezTo>
                  <a:cubicBezTo>
                    <a:pt x="114" y="132"/>
                    <a:pt x="79" y="128"/>
                    <a:pt x="50" y="144"/>
                  </a:cubicBezTo>
                  <a:cubicBezTo>
                    <a:pt x="13" y="165"/>
                    <a:pt x="0" y="212"/>
                    <a:pt x="21" y="248"/>
                  </a:cubicBezTo>
                  <a:cubicBezTo>
                    <a:pt x="42" y="285"/>
                    <a:pt x="88" y="298"/>
                    <a:pt x="125" y="277"/>
                  </a:cubicBezTo>
                  <a:cubicBezTo>
                    <a:pt x="139" y="269"/>
                    <a:pt x="150" y="257"/>
                    <a:pt x="156" y="243"/>
                  </a:cubicBezTo>
                  <a:cubicBezTo>
                    <a:pt x="180" y="263"/>
                    <a:pt x="215" y="268"/>
                    <a:pt x="244" y="251"/>
                  </a:cubicBezTo>
                  <a:cubicBezTo>
                    <a:pt x="277" y="233"/>
                    <a:pt x="290" y="193"/>
                    <a:pt x="278" y="159"/>
                  </a:cubicBezTo>
                  <a:cubicBezTo>
                    <a:pt x="298" y="166"/>
                    <a:pt x="321" y="165"/>
                    <a:pt x="342" y="154"/>
                  </a:cubicBezTo>
                  <a:cubicBezTo>
                    <a:pt x="378" y="133"/>
                    <a:pt x="391" y="86"/>
                    <a:pt x="370" y="50"/>
                  </a:cubicBezTo>
                  <a:cubicBezTo>
                    <a:pt x="349" y="13"/>
                    <a:pt x="303" y="0"/>
                    <a:pt x="26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9" name="Freeform 39"/>
          <p:cNvSpPr/>
          <p:nvPr/>
        </p:nvSpPr>
        <p:spPr>
          <a:xfrm>
            <a:off x="8405640" y="2386080"/>
            <a:ext cx="59040" cy="352440"/>
          </a:xfrm>
          <a:custGeom>
            <a:avLst/>
            <a:gdLst/>
            <a:ahLst/>
            <a:rect l="l" t="t" r="r" b="b"/>
            <a:pathLst>
              <a:path w="62" h="379">
                <a:moveTo>
                  <a:pt x="0" y="356"/>
                </a:moveTo>
                <a:cubicBezTo>
                  <a:pt x="0" y="368"/>
                  <a:pt x="23" y="379"/>
                  <a:pt x="35" y="379"/>
                </a:cubicBezTo>
                <a:cubicBezTo>
                  <a:pt x="35" y="379"/>
                  <a:pt x="35" y="379"/>
                  <a:pt x="35" y="379"/>
                </a:cubicBezTo>
                <a:cubicBezTo>
                  <a:pt x="48" y="379"/>
                  <a:pt x="62" y="368"/>
                  <a:pt x="62" y="356"/>
                </a:cubicBezTo>
                <a:cubicBezTo>
                  <a:pt x="62" y="23"/>
                  <a:pt x="62" y="23"/>
                  <a:pt x="62" y="23"/>
                </a:cubicBezTo>
                <a:cubicBezTo>
                  <a:pt x="62" y="10"/>
                  <a:pt x="48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3" y="0"/>
                  <a:pt x="0" y="10"/>
                  <a:pt x="0" y="23"/>
                </a:cubicBezTo>
                <a:lnTo>
                  <a:pt x="0" y="356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Freeform 40"/>
          <p:cNvSpPr/>
          <p:nvPr/>
        </p:nvSpPr>
        <p:spPr>
          <a:xfrm>
            <a:off x="8405640" y="2719440"/>
            <a:ext cx="59040" cy="39600"/>
          </a:xfrm>
          <a:custGeom>
            <a:avLst/>
            <a:gdLst/>
            <a:ahLst/>
            <a:rect l="l" t="t" r="r" b="b"/>
            <a:pathLst>
              <a:path w="37" h="25">
                <a:moveTo>
                  <a:pt x="37" y="0"/>
                </a:moveTo>
                <a:lnTo>
                  <a:pt x="29" y="25"/>
                </a:lnTo>
                <a:lnTo>
                  <a:pt x="19" y="16"/>
                </a:lnTo>
                <a:lnTo>
                  <a:pt x="6" y="24"/>
                </a:ln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1" name="Freeform 41"/>
          <p:cNvSpPr/>
          <p:nvPr/>
        </p:nvSpPr>
        <p:spPr>
          <a:xfrm>
            <a:off x="8569440" y="2386080"/>
            <a:ext cx="56880" cy="352440"/>
          </a:xfrm>
          <a:custGeom>
            <a:avLst/>
            <a:gdLst/>
            <a:ahLst/>
            <a:rect l="l" t="t" r="r" b="b"/>
            <a:pathLst>
              <a:path w="62" h="379">
                <a:moveTo>
                  <a:pt x="0" y="356"/>
                </a:moveTo>
                <a:cubicBezTo>
                  <a:pt x="0" y="368"/>
                  <a:pt x="23" y="379"/>
                  <a:pt x="35" y="379"/>
                </a:cubicBezTo>
                <a:cubicBezTo>
                  <a:pt x="35" y="379"/>
                  <a:pt x="35" y="379"/>
                  <a:pt x="35" y="379"/>
                </a:cubicBezTo>
                <a:cubicBezTo>
                  <a:pt x="48" y="379"/>
                  <a:pt x="62" y="368"/>
                  <a:pt x="62" y="356"/>
                </a:cubicBezTo>
                <a:cubicBezTo>
                  <a:pt x="62" y="23"/>
                  <a:pt x="62" y="23"/>
                  <a:pt x="62" y="23"/>
                </a:cubicBezTo>
                <a:cubicBezTo>
                  <a:pt x="62" y="10"/>
                  <a:pt x="48" y="0"/>
                  <a:pt x="3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3" y="0"/>
                  <a:pt x="0" y="10"/>
                  <a:pt x="0" y="23"/>
                </a:cubicBezTo>
                <a:lnTo>
                  <a:pt x="0" y="356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2" name="Freeform 42"/>
          <p:cNvSpPr/>
          <p:nvPr/>
        </p:nvSpPr>
        <p:spPr>
          <a:xfrm>
            <a:off x="8569440" y="2719440"/>
            <a:ext cx="56880" cy="39600"/>
          </a:xfrm>
          <a:custGeom>
            <a:avLst/>
            <a:gdLst/>
            <a:ahLst/>
            <a:rect l="l" t="t" r="r" b="b"/>
            <a:pathLst>
              <a:path w="36" h="25">
                <a:moveTo>
                  <a:pt x="36" y="0"/>
                </a:moveTo>
                <a:lnTo>
                  <a:pt x="29" y="25"/>
                </a:lnTo>
                <a:lnTo>
                  <a:pt x="19" y="16"/>
                </a:lnTo>
                <a:lnTo>
                  <a:pt x="6" y="24"/>
                </a:ln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3" name="Freeform 43">
            <a:hlinkClick r:id="rId8"/>
          </p:cNvPr>
          <p:cNvSpPr/>
          <p:nvPr/>
        </p:nvSpPr>
        <p:spPr>
          <a:xfrm>
            <a:off x="7951680" y="1655640"/>
            <a:ext cx="1128960" cy="990720"/>
          </a:xfrm>
          <a:custGeom>
            <a:avLst/>
            <a:gdLst/>
            <a:ahLst/>
            <a:rect l="l" t="t" r="r" b="b"/>
            <a:pathLst>
              <a:path w="1216" h="1067">
                <a:moveTo>
                  <a:pt x="1" y="570"/>
                </a:moveTo>
                <a:cubicBezTo>
                  <a:pt x="0" y="517"/>
                  <a:pt x="32" y="472"/>
                  <a:pt x="79" y="447"/>
                </a:cubicBezTo>
                <a:cubicBezTo>
                  <a:pt x="43" y="422"/>
                  <a:pt x="20" y="383"/>
                  <a:pt x="20" y="338"/>
                </a:cubicBezTo>
                <a:cubicBezTo>
                  <a:pt x="20" y="261"/>
                  <a:pt x="89" y="198"/>
                  <a:pt x="174" y="197"/>
                </a:cubicBezTo>
                <a:cubicBezTo>
                  <a:pt x="188" y="197"/>
                  <a:pt x="201" y="199"/>
                  <a:pt x="214" y="202"/>
                </a:cubicBezTo>
                <a:cubicBezTo>
                  <a:pt x="213" y="196"/>
                  <a:pt x="213" y="189"/>
                  <a:pt x="212" y="183"/>
                </a:cubicBezTo>
                <a:cubicBezTo>
                  <a:pt x="212" y="106"/>
                  <a:pt x="281" y="43"/>
                  <a:pt x="367" y="42"/>
                </a:cubicBezTo>
                <a:cubicBezTo>
                  <a:pt x="416" y="42"/>
                  <a:pt x="461" y="63"/>
                  <a:pt x="489" y="95"/>
                </a:cubicBezTo>
                <a:cubicBezTo>
                  <a:pt x="510" y="41"/>
                  <a:pt x="567" y="1"/>
                  <a:pt x="635" y="1"/>
                </a:cubicBezTo>
                <a:cubicBezTo>
                  <a:pt x="701" y="0"/>
                  <a:pt x="757" y="37"/>
                  <a:pt x="780" y="90"/>
                </a:cubicBezTo>
                <a:cubicBezTo>
                  <a:pt x="808" y="62"/>
                  <a:pt x="848" y="45"/>
                  <a:pt x="893" y="45"/>
                </a:cubicBezTo>
                <a:cubicBezTo>
                  <a:pt x="979" y="44"/>
                  <a:pt x="1048" y="107"/>
                  <a:pt x="1049" y="184"/>
                </a:cubicBezTo>
                <a:cubicBezTo>
                  <a:pt x="1049" y="204"/>
                  <a:pt x="1044" y="223"/>
                  <a:pt x="1036" y="240"/>
                </a:cubicBezTo>
                <a:cubicBezTo>
                  <a:pt x="1044" y="239"/>
                  <a:pt x="1052" y="238"/>
                  <a:pt x="1060" y="238"/>
                </a:cubicBezTo>
                <a:cubicBezTo>
                  <a:pt x="1145" y="238"/>
                  <a:pt x="1215" y="300"/>
                  <a:pt x="1215" y="378"/>
                </a:cubicBezTo>
                <a:cubicBezTo>
                  <a:pt x="1216" y="437"/>
                  <a:pt x="1175" y="489"/>
                  <a:pt x="1117" y="509"/>
                </a:cubicBezTo>
                <a:cubicBezTo>
                  <a:pt x="1159" y="534"/>
                  <a:pt x="1187" y="577"/>
                  <a:pt x="1187" y="626"/>
                </a:cubicBezTo>
                <a:cubicBezTo>
                  <a:pt x="1187" y="683"/>
                  <a:pt x="1149" y="733"/>
                  <a:pt x="1094" y="755"/>
                </a:cubicBezTo>
                <a:cubicBezTo>
                  <a:pt x="1102" y="771"/>
                  <a:pt x="1106" y="788"/>
                  <a:pt x="1106" y="807"/>
                </a:cubicBezTo>
                <a:cubicBezTo>
                  <a:pt x="1104" y="899"/>
                  <a:pt x="1039" y="980"/>
                  <a:pt x="975" y="986"/>
                </a:cubicBezTo>
                <a:cubicBezTo>
                  <a:pt x="926" y="991"/>
                  <a:pt x="915" y="979"/>
                  <a:pt x="891" y="965"/>
                </a:cubicBezTo>
                <a:cubicBezTo>
                  <a:pt x="877" y="1027"/>
                  <a:pt x="799" y="1066"/>
                  <a:pt x="714" y="1067"/>
                </a:cubicBezTo>
                <a:cubicBezTo>
                  <a:pt x="661" y="1067"/>
                  <a:pt x="614" y="1059"/>
                  <a:pt x="586" y="1023"/>
                </a:cubicBezTo>
                <a:cubicBezTo>
                  <a:pt x="558" y="1054"/>
                  <a:pt x="516" y="1058"/>
                  <a:pt x="468" y="1058"/>
                </a:cubicBezTo>
                <a:cubicBezTo>
                  <a:pt x="383" y="1058"/>
                  <a:pt x="293" y="1010"/>
                  <a:pt x="293" y="933"/>
                </a:cubicBezTo>
                <a:cubicBezTo>
                  <a:pt x="293" y="928"/>
                  <a:pt x="293" y="923"/>
                  <a:pt x="294" y="918"/>
                </a:cubicBezTo>
                <a:cubicBezTo>
                  <a:pt x="279" y="922"/>
                  <a:pt x="263" y="925"/>
                  <a:pt x="247" y="925"/>
                </a:cubicBezTo>
                <a:cubicBezTo>
                  <a:pt x="161" y="925"/>
                  <a:pt x="73" y="841"/>
                  <a:pt x="73" y="764"/>
                </a:cubicBezTo>
                <a:cubicBezTo>
                  <a:pt x="73" y="741"/>
                  <a:pt x="79" y="719"/>
                  <a:pt x="90" y="699"/>
                </a:cubicBezTo>
                <a:cubicBezTo>
                  <a:pt x="18" y="687"/>
                  <a:pt x="1" y="638"/>
                  <a:pt x="1" y="570"/>
                </a:cubicBez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Freeform 44"/>
          <p:cNvSpPr/>
          <p:nvPr/>
        </p:nvSpPr>
        <p:spPr>
          <a:xfrm>
            <a:off x="8477280" y="2324160"/>
            <a:ext cx="77760" cy="263520"/>
          </a:xfrm>
          <a:custGeom>
            <a:avLst/>
            <a:gdLst/>
            <a:ahLst/>
            <a:rect l="l" t="t" r="r" b="b"/>
            <a:pathLst>
              <a:path w="49" h="166">
                <a:moveTo>
                  <a:pt x="0" y="0"/>
                </a:moveTo>
                <a:lnTo>
                  <a:pt x="49" y="0"/>
                </a:lnTo>
                <a:lnTo>
                  <a:pt x="28" y="37"/>
                </a:lnTo>
                <a:lnTo>
                  <a:pt x="42" y="140"/>
                </a:lnTo>
                <a:lnTo>
                  <a:pt x="23" y="166"/>
                </a:lnTo>
                <a:lnTo>
                  <a:pt x="5" y="140"/>
                </a:lnTo>
                <a:lnTo>
                  <a:pt x="20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7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Freeform 45">
            <a:hlinkClick r:id="rId9"/>
          </p:cNvPr>
          <p:cNvSpPr/>
          <p:nvPr/>
        </p:nvSpPr>
        <p:spPr>
          <a:xfrm>
            <a:off x="8307360" y="1925640"/>
            <a:ext cx="420840" cy="404640"/>
          </a:xfrm>
          <a:custGeom>
            <a:avLst/>
            <a:gdLst/>
            <a:ahLst/>
            <a:rect l="l" t="t" r="r" b="b"/>
            <a:pathLst>
              <a:path w="454" h="436">
                <a:moveTo>
                  <a:pt x="2" y="216"/>
                </a:moveTo>
                <a:cubicBezTo>
                  <a:pt x="3" y="404"/>
                  <a:pt x="150" y="436"/>
                  <a:pt x="229" y="436"/>
                </a:cubicBezTo>
                <a:cubicBezTo>
                  <a:pt x="311" y="435"/>
                  <a:pt x="454" y="401"/>
                  <a:pt x="452" y="213"/>
                </a:cubicBezTo>
                <a:cubicBezTo>
                  <a:pt x="451" y="25"/>
                  <a:pt x="350" y="0"/>
                  <a:pt x="225" y="1"/>
                </a:cubicBezTo>
                <a:cubicBezTo>
                  <a:pt x="101" y="2"/>
                  <a:pt x="0" y="28"/>
                  <a:pt x="2" y="216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Freeform 46"/>
          <p:cNvSpPr/>
          <p:nvPr/>
        </p:nvSpPr>
        <p:spPr>
          <a:xfrm>
            <a:off x="8667720" y="1994040"/>
            <a:ext cx="115920" cy="11592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0" y="63"/>
                </a:moveTo>
                <a:cubicBezTo>
                  <a:pt x="0" y="98"/>
                  <a:pt x="28" y="125"/>
                  <a:pt x="63" y="125"/>
                </a:cubicBezTo>
                <a:cubicBezTo>
                  <a:pt x="97" y="125"/>
                  <a:pt x="125" y="97"/>
                  <a:pt x="125" y="62"/>
                </a:cubicBezTo>
                <a:cubicBezTo>
                  <a:pt x="124" y="28"/>
                  <a:pt x="96" y="0"/>
                  <a:pt x="62" y="0"/>
                </a:cubicBezTo>
                <a:cubicBezTo>
                  <a:pt x="28" y="1"/>
                  <a:pt x="0" y="29"/>
                  <a:pt x="0" y="63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7" name="Freeform 47"/>
          <p:cNvSpPr/>
          <p:nvPr/>
        </p:nvSpPr>
        <p:spPr>
          <a:xfrm>
            <a:off x="8248680" y="1996920"/>
            <a:ext cx="117360" cy="11592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0" y="63"/>
                </a:moveTo>
                <a:cubicBezTo>
                  <a:pt x="1" y="97"/>
                  <a:pt x="29" y="125"/>
                  <a:pt x="63" y="124"/>
                </a:cubicBezTo>
                <a:cubicBezTo>
                  <a:pt x="97" y="124"/>
                  <a:pt x="125" y="96"/>
                  <a:pt x="125" y="62"/>
                </a:cubicBezTo>
                <a:cubicBezTo>
                  <a:pt x="125" y="27"/>
                  <a:pt x="97" y="0"/>
                  <a:pt x="62" y="0"/>
                </a:cubicBezTo>
                <a:cubicBezTo>
                  <a:pt x="28" y="0"/>
                  <a:pt x="0" y="28"/>
                  <a:pt x="0" y="63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Freeform 48"/>
          <p:cNvSpPr/>
          <p:nvPr/>
        </p:nvSpPr>
        <p:spPr>
          <a:xfrm>
            <a:off x="8556480" y="2101680"/>
            <a:ext cx="100080" cy="1000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1" y="54"/>
                </a:moveTo>
                <a:cubicBezTo>
                  <a:pt x="1" y="84"/>
                  <a:pt x="25" y="108"/>
                  <a:pt x="55" y="107"/>
                </a:cubicBezTo>
                <a:cubicBezTo>
                  <a:pt x="84" y="107"/>
                  <a:pt x="108" y="83"/>
                  <a:pt x="108" y="53"/>
                </a:cubicBezTo>
                <a:cubicBezTo>
                  <a:pt x="108" y="24"/>
                  <a:pt x="83" y="0"/>
                  <a:pt x="54" y="0"/>
                </a:cubicBezTo>
                <a:cubicBezTo>
                  <a:pt x="24" y="0"/>
                  <a:pt x="0" y="24"/>
                  <a:pt x="1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Freeform 49"/>
          <p:cNvSpPr/>
          <p:nvPr/>
        </p:nvSpPr>
        <p:spPr>
          <a:xfrm>
            <a:off x="8572680" y="2139840"/>
            <a:ext cx="31680" cy="3204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17"/>
                </a:moveTo>
                <a:cubicBezTo>
                  <a:pt x="0" y="27"/>
                  <a:pt x="8" y="34"/>
                  <a:pt x="17" y="34"/>
                </a:cubicBezTo>
                <a:cubicBezTo>
                  <a:pt x="27" y="34"/>
                  <a:pt x="34" y="26"/>
                  <a:pt x="34" y="17"/>
                </a:cubicBezTo>
                <a:cubicBezTo>
                  <a:pt x="34" y="8"/>
                  <a:pt x="26" y="0"/>
                  <a:pt x="17" y="0"/>
                </a:cubicBezTo>
                <a:cubicBezTo>
                  <a:pt x="8" y="0"/>
                  <a:pt x="0" y="8"/>
                  <a:pt x="0" y="17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Freeform 50"/>
          <p:cNvSpPr/>
          <p:nvPr/>
        </p:nvSpPr>
        <p:spPr>
          <a:xfrm>
            <a:off x="8377200" y="2101680"/>
            <a:ext cx="100080" cy="10008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0" y="54"/>
                </a:moveTo>
                <a:cubicBezTo>
                  <a:pt x="0" y="84"/>
                  <a:pt x="25" y="108"/>
                  <a:pt x="54" y="107"/>
                </a:cubicBezTo>
                <a:cubicBezTo>
                  <a:pt x="84" y="107"/>
                  <a:pt x="108" y="83"/>
                  <a:pt x="107" y="53"/>
                </a:cubicBezTo>
                <a:cubicBezTo>
                  <a:pt x="107" y="24"/>
                  <a:pt x="83" y="0"/>
                  <a:pt x="53" y="0"/>
                </a:cubicBezTo>
                <a:cubicBezTo>
                  <a:pt x="24" y="0"/>
                  <a:pt x="0" y="24"/>
                  <a:pt x="0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1" name="Freeform 51"/>
          <p:cNvSpPr/>
          <p:nvPr/>
        </p:nvSpPr>
        <p:spPr>
          <a:xfrm>
            <a:off x="8394840" y="2139840"/>
            <a:ext cx="31680" cy="32040"/>
          </a:xfrm>
          <a:custGeom>
            <a:avLst/>
            <a:gdLst/>
            <a:ahLst/>
            <a:rect l="l" t="t" r="r" b="b"/>
            <a:pathLst>
              <a:path w="34" h="34">
                <a:moveTo>
                  <a:pt x="0" y="17"/>
                </a:moveTo>
                <a:cubicBezTo>
                  <a:pt x="0" y="27"/>
                  <a:pt x="8" y="34"/>
                  <a:pt x="17" y="34"/>
                </a:cubicBezTo>
                <a:cubicBezTo>
                  <a:pt x="26" y="34"/>
                  <a:pt x="34" y="26"/>
                  <a:pt x="34" y="17"/>
                </a:cubicBezTo>
                <a:cubicBezTo>
                  <a:pt x="34" y="8"/>
                  <a:pt x="26" y="0"/>
                  <a:pt x="17" y="0"/>
                </a:cubicBezTo>
                <a:cubicBezTo>
                  <a:pt x="7" y="0"/>
                  <a:pt x="0" y="8"/>
                  <a:pt x="0" y="17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Freeform 52"/>
          <p:cNvSpPr/>
          <p:nvPr/>
        </p:nvSpPr>
        <p:spPr>
          <a:xfrm>
            <a:off x="8483760" y="2265480"/>
            <a:ext cx="66600" cy="44280"/>
          </a:xfrm>
          <a:custGeom>
            <a:avLst/>
            <a:gdLst/>
            <a:ahLst/>
            <a:rect l="l" t="t" r="r" b="b"/>
            <a:pathLst>
              <a:path w="73" h="48">
                <a:moveTo>
                  <a:pt x="72" y="11"/>
                </a:moveTo>
                <a:cubicBezTo>
                  <a:pt x="73" y="21"/>
                  <a:pt x="54" y="48"/>
                  <a:pt x="36" y="48"/>
                </a:cubicBezTo>
                <a:cubicBezTo>
                  <a:pt x="22" y="48"/>
                  <a:pt x="0" y="23"/>
                  <a:pt x="0" y="12"/>
                </a:cubicBezTo>
                <a:cubicBezTo>
                  <a:pt x="0" y="2"/>
                  <a:pt x="71" y="0"/>
                  <a:pt x="72" y="11"/>
                </a:cubicBezTo>
                <a:close/>
              </a:path>
            </a:pathLst>
          </a:custGeom>
          <a:solidFill>
            <a:srgbClr val="ffc0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Freeform 53"/>
          <p:cNvSpPr/>
          <p:nvPr/>
        </p:nvSpPr>
        <p:spPr>
          <a:xfrm>
            <a:off x="8325000" y="1884240"/>
            <a:ext cx="384120" cy="220680"/>
          </a:xfrm>
          <a:custGeom>
            <a:avLst/>
            <a:gdLst/>
            <a:ahLst/>
            <a:rect l="l" t="t" r="r" b="b"/>
            <a:pathLst>
              <a:path w="414" h="237">
                <a:moveTo>
                  <a:pt x="79" y="2"/>
                </a:moveTo>
                <a:cubicBezTo>
                  <a:pt x="117" y="2"/>
                  <a:pt x="300" y="0"/>
                  <a:pt x="334" y="0"/>
                </a:cubicBezTo>
                <a:cubicBezTo>
                  <a:pt x="378" y="0"/>
                  <a:pt x="413" y="76"/>
                  <a:pt x="413" y="120"/>
                </a:cubicBezTo>
                <a:cubicBezTo>
                  <a:pt x="414" y="163"/>
                  <a:pt x="379" y="198"/>
                  <a:pt x="335" y="199"/>
                </a:cubicBezTo>
                <a:cubicBezTo>
                  <a:pt x="319" y="199"/>
                  <a:pt x="303" y="193"/>
                  <a:pt x="290" y="184"/>
                </a:cubicBezTo>
                <a:cubicBezTo>
                  <a:pt x="279" y="215"/>
                  <a:pt x="251" y="237"/>
                  <a:pt x="217" y="237"/>
                </a:cubicBezTo>
                <a:cubicBezTo>
                  <a:pt x="178" y="237"/>
                  <a:pt x="146" y="209"/>
                  <a:pt x="139" y="173"/>
                </a:cubicBezTo>
                <a:cubicBezTo>
                  <a:pt x="125" y="189"/>
                  <a:pt x="103" y="200"/>
                  <a:pt x="80" y="200"/>
                </a:cubicBezTo>
                <a:cubicBezTo>
                  <a:pt x="36" y="201"/>
                  <a:pt x="1" y="166"/>
                  <a:pt x="1" y="123"/>
                </a:cubicBezTo>
                <a:cubicBezTo>
                  <a:pt x="0" y="79"/>
                  <a:pt x="35" y="2"/>
                  <a:pt x="79" y="2"/>
                </a:cubicBez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Freeform 54"/>
          <p:cNvSpPr/>
          <p:nvPr/>
        </p:nvSpPr>
        <p:spPr>
          <a:xfrm>
            <a:off x="9961560" y="3016080"/>
            <a:ext cx="698400" cy="390600"/>
          </a:xfrm>
          <a:custGeom>
            <a:avLst/>
            <a:gdLst/>
            <a:ahLst/>
            <a:rect l="l" t="t" r="r" b="b"/>
            <a:pathLst>
              <a:path w="752" h="420">
                <a:moveTo>
                  <a:pt x="651" y="174"/>
                </a:moveTo>
                <a:cubicBezTo>
                  <a:pt x="653" y="164"/>
                  <a:pt x="654" y="155"/>
                  <a:pt x="654" y="145"/>
                </a:cubicBezTo>
                <a:cubicBezTo>
                  <a:pt x="654" y="67"/>
                  <a:pt x="594" y="4"/>
                  <a:pt x="520" y="4"/>
                </a:cubicBezTo>
                <a:cubicBezTo>
                  <a:pt x="488" y="4"/>
                  <a:pt x="457" y="17"/>
                  <a:pt x="434" y="37"/>
                </a:cubicBezTo>
                <a:cubicBezTo>
                  <a:pt x="407" y="14"/>
                  <a:pt x="370" y="0"/>
                  <a:pt x="329" y="0"/>
                </a:cubicBezTo>
                <a:cubicBezTo>
                  <a:pt x="257" y="0"/>
                  <a:pt x="197" y="45"/>
                  <a:pt x="181" y="105"/>
                </a:cubicBezTo>
                <a:cubicBezTo>
                  <a:pt x="179" y="105"/>
                  <a:pt x="178" y="105"/>
                  <a:pt x="176" y="105"/>
                </a:cubicBezTo>
                <a:cubicBezTo>
                  <a:pt x="79" y="105"/>
                  <a:pt x="0" y="162"/>
                  <a:pt x="0" y="233"/>
                </a:cubicBezTo>
                <a:cubicBezTo>
                  <a:pt x="0" y="303"/>
                  <a:pt x="79" y="360"/>
                  <a:pt x="176" y="360"/>
                </a:cubicBezTo>
                <a:cubicBezTo>
                  <a:pt x="192" y="360"/>
                  <a:pt x="208" y="359"/>
                  <a:pt x="223" y="356"/>
                </a:cubicBezTo>
                <a:cubicBezTo>
                  <a:pt x="251" y="394"/>
                  <a:pt x="314" y="420"/>
                  <a:pt x="387" y="420"/>
                </a:cubicBezTo>
                <a:cubicBezTo>
                  <a:pt x="434" y="420"/>
                  <a:pt x="477" y="409"/>
                  <a:pt x="510" y="390"/>
                </a:cubicBezTo>
                <a:cubicBezTo>
                  <a:pt x="534" y="401"/>
                  <a:pt x="561" y="407"/>
                  <a:pt x="591" y="407"/>
                </a:cubicBezTo>
                <a:cubicBezTo>
                  <a:pt x="680" y="407"/>
                  <a:pt x="752" y="353"/>
                  <a:pt x="752" y="286"/>
                </a:cubicBezTo>
                <a:cubicBezTo>
                  <a:pt x="752" y="235"/>
                  <a:pt x="710" y="192"/>
                  <a:pt x="651" y="174"/>
                </a:cubicBezTo>
                <a:close/>
              </a:path>
            </a:pathLst>
          </a:custGeom>
          <a:solidFill>
            <a:srgbClr val="c5e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Freeform 55"/>
          <p:cNvSpPr/>
          <p:nvPr/>
        </p:nvSpPr>
        <p:spPr>
          <a:xfrm>
            <a:off x="4684680" y="2955960"/>
            <a:ext cx="504720" cy="258840"/>
          </a:xfrm>
          <a:custGeom>
            <a:avLst/>
            <a:gdLst/>
            <a:ahLst/>
            <a:rect l="l" t="t" r="r" b="b"/>
            <a:pathLst>
              <a:path w="544" h="278">
                <a:moveTo>
                  <a:pt x="458" y="107"/>
                </a:moveTo>
                <a:cubicBezTo>
                  <a:pt x="453" y="106"/>
                  <a:pt x="449" y="106"/>
                  <a:pt x="445" y="106"/>
                </a:cubicBezTo>
                <a:cubicBezTo>
                  <a:pt x="440" y="57"/>
                  <a:pt x="380" y="14"/>
                  <a:pt x="305" y="7"/>
                </a:cubicBezTo>
                <a:cubicBezTo>
                  <a:pt x="229" y="0"/>
                  <a:pt x="169" y="30"/>
                  <a:pt x="157" y="85"/>
                </a:cubicBezTo>
                <a:cubicBezTo>
                  <a:pt x="147" y="83"/>
                  <a:pt x="126" y="75"/>
                  <a:pt x="115" y="74"/>
                </a:cubicBezTo>
                <a:cubicBezTo>
                  <a:pt x="46" y="65"/>
                  <a:pt x="0" y="119"/>
                  <a:pt x="0" y="174"/>
                </a:cubicBezTo>
                <a:cubicBezTo>
                  <a:pt x="0" y="221"/>
                  <a:pt x="41" y="272"/>
                  <a:pt x="88" y="271"/>
                </a:cubicBezTo>
                <a:cubicBezTo>
                  <a:pt x="88" y="275"/>
                  <a:pt x="472" y="278"/>
                  <a:pt x="471" y="271"/>
                </a:cubicBezTo>
                <a:cubicBezTo>
                  <a:pt x="506" y="264"/>
                  <a:pt x="533" y="231"/>
                  <a:pt x="538" y="199"/>
                </a:cubicBezTo>
                <a:cubicBezTo>
                  <a:pt x="544" y="156"/>
                  <a:pt x="509" y="115"/>
                  <a:pt x="458" y="107"/>
                </a:cubicBezTo>
                <a:close/>
              </a:path>
            </a:pathLst>
          </a:custGeom>
          <a:solidFill>
            <a:srgbClr val="c5e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Freeform 56"/>
          <p:cNvSpPr/>
          <p:nvPr/>
        </p:nvSpPr>
        <p:spPr>
          <a:xfrm>
            <a:off x="5621400" y="2135160"/>
            <a:ext cx="946080" cy="503280"/>
          </a:xfrm>
          <a:custGeom>
            <a:avLst/>
            <a:gdLst/>
            <a:ahLst/>
            <a:rect l="l" t="t" r="r" b="b"/>
            <a:pathLst>
              <a:path w="1019" h="541">
                <a:moveTo>
                  <a:pt x="883" y="232"/>
                </a:moveTo>
                <a:cubicBezTo>
                  <a:pt x="875" y="229"/>
                  <a:pt x="867" y="226"/>
                  <a:pt x="859" y="223"/>
                </a:cubicBezTo>
                <a:cubicBezTo>
                  <a:pt x="862" y="211"/>
                  <a:pt x="863" y="199"/>
                  <a:pt x="863" y="186"/>
                </a:cubicBezTo>
                <a:cubicBezTo>
                  <a:pt x="863" y="86"/>
                  <a:pt x="786" y="5"/>
                  <a:pt x="691" y="5"/>
                </a:cubicBezTo>
                <a:cubicBezTo>
                  <a:pt x="652" y="5"/>
                  <a:pt x="616" y="18"/>
                  <a:pt x="588" y="40"/>
                </a:cubicBezTo>
                <a:cubicBezTo>
                  <a:pt x="582" y="40"/>
                  <a:pt x="576" y="39"/>
                  <a:pt x="571" y="39"/>
                </a:cubicBezTo>
                <a:cubicBezTo>
                  <a:pt x="569" y="38"/>
                  <a:pt x="568" y="38"/>
                  <a:pt x="567" y="38"/>
                </a:cubicBezTo>
                <a:cubicBezTo>
                  <a:pt x="533" y="14"/>
                  <a:pt x="490" y="0"/>
                  <a:pt x="444" y="0"/>
                </a:cubicBezTo>
                <a:cubicBezTo>
                  <a:pt x="351" y="0"/>
                  <a:pt x="273" y="57"/>
                  <a:pt x="252" y="134"/>
                </a:cubicBezTo>
                <a:cubicBezTo>
                  <a:pt x="250" y="134"/>
                  <a:pt x="248" y="134"/>
                  <a:pt x="247" y="134"/>
                </a:cubicBezTo>
                <a:cubicBezTo>
                  <a:pt x="146" y="134"/>
                  <a:pt x="61" y="182"/>
                  <a:pt x="31" y="247"/>
                </a:cubicBezTo>
                <a:cubicBezTo>
                  <a:pt x="11" y="278"/>
                  <a:pt x="0" y="315"/>
                  <a:pt x="0" y="352"/>
                </a:cubicBezTo>
                <a:cubicBezTo>
                  <a:pt x="0" y="440"/>
                  <a:pt x="76" y="536"/>
                  <a:pt x="165" y="534"/>
                </a:cubicBezTo>
                <a:cubicBezTo>
                  <a:pt x="165" y="537"/>
                  <a:pt x="332" y="540"/>
                  <a:pt x="506" y="541"/>
                </a:cubicBezTo>
                <a:cubicBezTo>
                  <a:pt x="510" y="541"/>
                  <a:pt x="514" y="541"/>
                  <a:pt x="518" y="541"/>
                </a:cubicBezTo>
                <a:cubicBezTo>
                  <a:pt x="521" y="541"/>
                  <a:pt x="524" y="541"/>
                  <a:pt x="527" y="541"/>
                </a:cubicBezTo>
                <a:cubicBezTo>
                  <a:pt x="706" y="541"/>
                  <a:pt x="884" y="540"/>
                  <a:pt x="883" y="534"/>
                </a:cubicBezTo>
                <a:cubicBezTo>
                  <a:pt x="947" y="520"/>
                  <a:pt x="998" y="459"/>
                  <a:pt x="1007" y="399"/>
                </a:cubicBezTo>
                <a:cubicBezTo>
                  <a:pt x="1019" y="326"/>
                  <a:pt x="964" y="255"/>
                  <a:pt x="883" y="232"/>
                </a:cubicBezTo>
                <a:close/>
              </a:path>
            </a:pathLst>
          </a:custGeom>
          <a:solidFill>
            <a:srgbClr val="c5e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Freeform 57"/>
          <p:cNvSpPr/>
          <p:nvPr/>
        </p:nvSpPr>
        <p:spPr>
          <a:xfrm>
            <a:off x="4762440" y="6354720"/>
            <a:ext cx="7427880" cy="514440"/>
          </a:xfrm>
          <a:custGeom>
            <a:avLst/>
            <a:gdLst/>
            <a:ahLst/>
            <a:rect l="l" t="t" r="r" b="b"/>
            <a:pathLst>
              <a:path w="8000" h="554">
                <a:moveTo>
                  <a:pt x="113" y="208"/>
                </a:moveTo>
                <a:cubicBezTo>
                  <a:pt x="166" y="237"/>
                  <a:pt x="183" y="316"/>
                  <a:pt x="238" y="350"/>
                </a:cubicBezTo>
                <a:cubicBezTo>
                  <a:pt x="257" y="261"/>
                  <a:pt x="287" y="165"/>
                  <a:pt x="344" y="99"/>
                </a:cubicBezTo>
                <a:cubicBezTo>
                  <a:pt x="382" y="155"/>
                  <a:pt x="381" y="308"/>
                  <a:pt x="439" y="345"/>
                </a:cubicBezTo>
                <a:cubicBezTo>
                  <a:pt x="507" y="389"/>
                  <a:pt x="526" y="281"/>
                  <a:pt x="566" y="257"/>
                </a:cubicBezTo>
                <a:cubicBezTo>
                  <a:pt x="594" y="349"/>
                  <a:pt x="649" y="307"/>
                  <a:pt x="689" y="250"/>
                </a:cubicBezTo>
                <a:cubicBezTo>
                  <a:pt x="721" y="205"/>
                  <a:pt x="755" y="107"/>
                  <a:pt x="763" y="52"/>
                </a:cubicBezTo>
                <a:cubicBezTo>
                  <a:pt x="826" y="140"/>
                  <a:pt x="790" y="272"/>
                  <a:pt x="847" y="349"/>
                </a:cubicBezTo>
                <a:cubicBezTo>
                  <a:pt x="885" y="307"/>
                  <a:pt x="909" y="249"/>
                  <a:pt x="919" y="194"/>
                </a:cubicBezTo>
                <a:cubicBezTo>
                  <a:pt x="912" y="235"/>
                  <a:pt x="1015" y="337"/>
                  <a:pt x="1045" y="360"/>
                </a:cubicBezTo>
                <a:cubicBezTo>
                  <a:pt x="1095" y="317"/>
                  <a:pt x="1107" y="248"/>
                  <a:pt x="1143" y="195"/>
                </a:cubicBezTo>
                <a:cubicBezTo>
                  <a:pt x="1192" y="243"/>
                  <a:pt x="1171" y="362"/>
                  <a:pt x="1229" y="402"/>
                </a:cubicBezTo>
                <a:cubicBezTo>
                  <a:pt x="1254" y="326"/>
                  <a:pt x="1292" y="241"/>
                  <a:pt x="1335" y="178"/>
                </a:cubicBezTo>
                <a:cubicBezTo>
                  <a:pt x="1367" y="225"/>
                  <a:pt x="1358" y="283"/>
                  <a:pt x="1378" y="334"/>
                </a:cubicBezTo>
                <a:cubicBezTo>
                  <a:pt x="1396" y="378"/>
                  <a:pt x="1433" y="431"/>
                  <a:pt x="1464" y="467"/>
                </a:cubicBezTo>
                <a:cubicBezTo>
                  <a:pt x="1492" y="417"/>
                  <a:pt x="1496" y="347"/>
                  <a:pt x="1529" y="304"/>
                </a:cubicBezTo>
                <a:cubicBezTo>
                  <a:pt x="1525" y="309"/>
                  <a:pt x="1650" y="554"/>
                  <a:pt x="1740" y="413"/>
                </a:cubicBezTo>
                <a:cubicBezTo>
                  <a:pt x="1793" y="329"/>
                  <a:pt x="1777" y="207"/>
                  <a:pt x="1833" y="127"/>
                </a:cubicBezTo>
                <a:cubicBezTo>
                  <a:pt x="1841" y="167"/>
                  <a:pt x="1893" y="411"/>
                  <a:pt x="1941" y="388"/>
                </a:cubicBezTo>
                <a:cubicBezTo>
                  <a:pt x="1975" y="373"/>
                  <a:pt x="1975" y="235"/>
                  <a:pt x="1984" y="196"/>
                </a:cubicBezTo>
                <a:cubicBezTo>
                  <a:pt x="1978" y="222"/>
                  <a:pt x="2056" y="325"/>
                  <a:pt x="2073" y="343"/>
                </a:cubicBezTo>
                <a:cubicBezTo>
                  <a:pt x="2122" y="292"/>
                  <a:pt x="2088" y="197"/>
                  <a:pt x="2113" y="137"/>
                </a:cubicBezTo>
                <a:cubicBezTo>
                  <a:pt x="2184" y="205"/>
                  <a:pt x="2190" y="314"/>
                  <a:pt x="2239" y="394"/>
                </a:cubicBezTo>
                <a:cubicBezTo>
                  <a:pt x="2311" y="385"/>
                  <a:pt x="2305" y="273"/>
                  <a:pt x="2357" y="237"/>
                </a:cubicBezTo>
                <a:cubicBezTo>
                  <a:pt x="2396" y="296"/>
                  <a:pt x="2399" y="384"/>
                  <a:pt x="2441" y="446"/>
                </a:cubicBezTo>
                <a:cubicBezTo>
                  <a:pt x="2473" y="414"/>
                  <a:pt x="2489" y="362"/>
                  <a:pt x="2508" y="322"/>
                </a:cubicBezTo>
                <a:cubicBezTo>
                  <a:pt x="2581" y="388"/>
                  <a:pt x="2602" y="442"/>
                  <a:pt x="2648" y="332"/>
                </a:cubicBezTo>
                <a:cubicBezTo>
                  <a:pt x="2661" y="301"/>
                  <a:pt x="2684" y="136"/>
                  <a:pt x="2728" y="135"/>
                </a:cubicBezTo>
                <a:cubicBezTo>
                  <a:pt x="2738" y="206"/>
                  <a:pt x="2740" y="305"/>
                  <a:pt x="2796" y="355"/>
                </a:cubicBezTo>
                <a:cubicBezTo>
                  <a:pt x="2818" y="320"/>
                  <a:pt x="2814" y="262"/>
                  <a:pt x="2855" y="232"/>
                </a:cubicBezTo>
                <a:cubicBezTo>
                  <a:pt x="2856" y="288"/>
                  <a:pt x="2882" y="366"/>
                  <a:pt x="2931" y="396"/>
                </a:cubicBezTo>
                <a:cubicBezTo>
                  <a:pt x="2966" y="353"/>
                  <a:pt x="2995" y="304"/>
                  <a:pt x="3030" y="263"/>
                </a:cubicBezTo>
                <a:cubicBezTo>
                  <a:pt x="3062" y="316"/>
                  <a:pt x="3064" y="467"/>
                  <a:pt x="3130" y="491"/>
                </a:cubicBezTo>
                <a:cubicBezTo>
                  <a:pt x="3146" y="447"/>
                  <a:pt x="3159" y="377"/>
                  <a:pt x="3199" y="351"/>
                </a:cubicBezTo>
                <a:cubicBezTo>
                  <a:pt x="3208" y="345"/>
                  <a:pt x="3274" y="499"/>
                  <a:pt x="3321" y="477"/>
                </a:cubicBezTo>
                <a:cubicBezTo>
                  <a:pt x="3357" y="461"/>
                  <a:pt x="3348" y="263"/>
                  <a:pt x="3357" y="224"/>
                </a:cubicBezTo>
                <a:cubicBezTo>
                  <a:pt x="3351" y="229"/>
                  <a:pt x="3510" y="430"/>
                  <a:pt x="3521" y="446"/>
                </a:cubicBezTo>
                <a:cubicBezTo>
                  <a:pt x="3569" y="416"/>
                  <a:pt x="3560" y="344"/>
                  <a:pt x="3566" y="296"/>
                </a:cubicBezTo>
                <a:cubicBezTo>
                  <a:pt x="3569" y="271"/>
                  <a:pt x="3609" y="152"/>
                  <a:pt x="3602" y="140"/>
                </a:cubicBezTo>
                <a:cubicBezTo>
                  <a:pt x="3647" y="217"/>
                  <a:pt x="3677" y="308"/>
                  <a:pt x="3721" y="388"/>
                </a:cubicBezTo>
                <a:cubicBezTo>
                  <a:pt x="3754" y="335"/>
                  <a:pt x="3767" y="268"/>
                  <a:pt x="3798" y="212"/>
                </a:cubicBezTo>
                <a:cubicBezTo>
                  <a:pt x="3848" y="277"/>
                  <a:pt x="3850" y="368"/>
                  <a:pt x="3890" y="440"/>
                </a:cubicBezTo>
                <a:cubicBezTo>
                  <a:pt x="3967" y="346"/>
                  <a:pt x="3914" y="157"/>
                  <a:pt x="4002" y="83"/>
                </a:cubicBezTo>
                <a:cubicBezTo>
                  <a:pt x="3992" y="92"/>
                  <a:pt x="4128" y="349"/>
                  <a:pt x="4140" y="372"/>
                </a:cubicBezTo>
                <a:cubicBezTo>
                  <a:pt x="4181" y="328"/>
                  <a:pt x="4173" y="268"/>
                  <a:pt x="4177" y="209"/>
                </a:cubicBezTo>
                <a:cubicBezTo>
                  <a:pt x="4166" y="237"/>
                  <a:pt x="4294" y="323"/>
                  <a:pt x="4310" y="340"/>
                </a:cubicBezTo>
                <a:cubicBezTo>
                  <a:pt x="4351" y="382"/>
                  <a:pt x="4384" y="492"/>
                  <a:pt x="4459" y="484"/>
                </a:cubicBezTo>
                <a:cubicBezTo>
                  <a:pt x="4480" y="445"/>
                  <a:pt x="4488" y="400"/>
                  <a:pt x="4497" y="358"/>
                </a:cubicBezTo>
                <a:cubicBezTo>
                  <a:pt x="4540" y="374"/>
                  <a:pt x="4567" y="470"/>
                  <a:pt x="4607" y="506"/>
                </a:cubicBezTo>
                <a:cubicBezTo>
                  <a:pt x="4668" y="426"/>
                  <a:pt x="4629" y="260"/>
                  <a:pt x="4682" y="170"/>
                </a:cubicBezTo>
                <a:cubicBezTo>
                  <a:pt x="4679" y="176"/>
                  <a:pt x="4776" y="363"/>
                  <a:pt x="4794" y="363"/>
                </a:cubicBezTo>
                <a:cubicBezTo>
                  <a:pt x="4851" y="365"/>
                  <a:pt x="4889" y="186"/>
                  <a:pt x="4885" y="142"/>
                </a:cubicBezTo>
                <a:cubicBezTo>
                  <a:pt x="4915" y="165"/>
                  <a:pt x="4946" y="290"/>
                  <a:pt x="4957" y="333"/>
                </a:cubicBezTo>
                <a:cubicBezTo>
                  <a:pt x="4967" y="279"/>
                  <a:pt x="5001" y="214"/>
                  <a:pt x="5020" y="158"/>
                </a:cubicBezTo>
                <a:cubicBezTo>
                  <a:pt x="5031" y="124"/>
                  <a:pt x="5048" y="89"/>
                  <a:pt x="5067" y="60"/>
                </a:cubicBezTo>
                <a:cubicBezTo>
                  <a:pt x="5059" y="73"/>
                  <a:pt x="5142" y="228"/>
                  <a:pt x="5151" y="250"/>
                </a:cubicBezTo>
                <a:cubicBezTo>
                  <a:pt x="5177" y="311"/>
                  <a:pt x="5176" y="379"/>
                  <a:pt x="5204" y="437"/>
                </a:cubicBezTo>
                <a:cubicBezTo>
                  <a:pt x="5237" y="390"/>
                  <a:pt x="5259" y="327"/>
                  <a:pt x="5296" y="286"/>
                </a:cubicBezTo>
                <a:cubicBezTo>
                  <a:pt x="5312" y="317"/>
                  <a:pt x="5342" y="468"/>
                  <a:pt x="5404" y="427"/>
                </a:cubicBezTo>
                <a:cubicBezTo>
                  <a:pt x="5472" y="383"/>
                  <a:pt x="5409" y="244"/>
                  <a:pt x="5444" y="183"/>
                </a:cubicBezTo>
                <a:cubicBezTo>
                  <a:pt x="5446" y="180"/>
                  <a:pt x="5531" y="292"/>
                  <a:pt x="5540" y="303"/>
                </a:cubicBezTo>
                <a:cubicBezTo>
                  <a:pt x="5563" y="331"/>
                  <a:pt x="5630" y="66"/>
                  <a:pt x="5632" y="49"/>
                </a:cubicBezTo>
                <a:cubicBezTo>
                  <a:pt x="5630" y="67"/>
                  <a:pt x="5693" y="163"/>
                  <a:pt x="5702" y="196"/>
                </a:cubicBezTo>
                <a:cubicBezTo>
                  <a:pt x="5711" y="230"/>
                  <a:pt x="5712" y="264"/>
                  <a:pt x="5728" y="296"/>
                </a:cubicBezTo>
                <a:cubicBezTo>
                  <a:pt x="5792" y="266"/>
                  <a:pt x="5797" y="74"/>
                  <a:pt x="5803" y="7"/>
                </a:cubicBezTo>
                <a:cubicBezTo>
                  <a:pt x="5810" y="24"/>
                  <a:pt x="5889" y="300"/>
                  <a:pt x="5898" y="291"/>
                </a:cubicBezTo>
                <a:cubicBezTo>
                  <a:pt x="5951" y="241"/>
                  <a:pt x="5946" y="147"/>
                  <a:pt x="5959" y="81"/>
                </a:cubicBezTo>
                <a:cubicBezTo>
                  <a:pt x="5982" y="118"/>
                  <a:pt x="5998" y="163"/>
                  <a:pt x="6009" y="206"/>
                </a:cubicBezTo>
                <a:cubicBezTo>
                  <a:pt x="6012" y="218"/>
                  <a:pt x="6055" y="390"/>
                  <a:pt x="6062" y="381"/>
                </a:cubicBezTo>
                <a:cubicBezTo>
                  <a:pt x="6094" y="341"/>
                  <a:pt x="6083" y="299"/>
                  <a:pt x="6098" y="256"/>
                </a:cubicBezTo>
                <a:cubicBezTo>
                  <a:pt x="6099" y="253"/>
                  <a:pt x="6130" y="174"/>
                  <a:pt x="6134" y="187"/>
                </a:cubicBezTo>
                <a:cubicBezTo>
                  <a:pt x="6161" y="263"/>
                  <a:pt x="6203" y="333"/>
                  <a:pt x="6227" y="409"/>
                </a:cubicBezTo>
                <a:cubicBezTo>
                  <a:pt x="6280" y="374"/>
                  <a:pt x="6278" y="306"/>
                  <a:pt x="6312" y="263"/>
                </a:cubicBezTo>
                <a:cubicBezTo>
                  <a:pt x="6321" y="273"/>
                  <a:pt x="6446" y="426"/>
                  <a:pt x="6453" y="422"/>
                </a:cubicBezTo>
                <a:cubicBezTo>
                  <a:pt x="6468" y="414"/>
                  <a:pt x="6497" y="230"/>
                  <a:pt x="6503" y="204"/>
                </a:cubicBezTo>
                <a:cubicBezTo>
                  <a:pt x="6542" y="236"/>
                  <a:pt x="6571" y="432"/>
                  <a:pt x="6652" y="355"/>
                </a:cubicBezTo>
                <a:cubicBezTo>
                  <a:pt x="6721" y="290"/>
                  <a:pt x="6691" y="84"/>
                  <a:pt x="6697" y="0"/>
                </a:cubicBezTo>
                <a:cubicBezTo>
                  <a:pt x="6771" y="86"/>
                  <a:pt x="6777" y="200"/>
                  <a:pt x="6843" y="290"/>
                </a:cubicBezTo>
                <a:cubicBezTo>
                  <a:pt x="6820" y="258"/>
                  <a:pt x="6853" y="128"/>
                  <a:pt x="6872" y="99"/>
                </a:cubicBezTo>
                <a:cubicBezTo>
                  <a:pt x="6959" y="135"/>
                  <a:pt x="6941" y="265"/>
                  <a:pt x="7006" y="312"/>
                </a:cubicBezTo>
                <a:cubicBezTo>
                  <a:pt x="7029" y="287"/>
                  <a:pt x="7038" y="257"/>
                  <a:pt x="7047" y="224"/>
                </a:cubicBezTo>
                <a:cubicBezTo>
                  <a:pt x="7109" y="275"/>
                  <a:pt x="7122" y="350"/>
                  <a:pt x="7165" y="411"/>
                </a:cubicBezTo>
                <a:cubicBezTo>
                  <a:pt x="7229" y="500"/>
                  <a:pt x="7226" y="399"/>
                  <a:pt x="7268" y="350"/>
                </a:cubicBezTo>
                <a:cubicBezTo>
                  <a:pt x="7305" y="393"/>
                  <a:pt x="7338" y="493"/>
                  <a:pt x="7407" y="424"/>
                </a:cubicBezTo>
                <a:cubicBezTo>
                  <a:pt x="7450" y="380"/>
                  <a:pt x="7416" y="288"/>
                  <a:pt x="7448" y="237"/>
                </a:cubicBezTo>
                <a:cubicBezTo>
                  <a:pt x="7428" y="270"/>
                  <a:pt x="7546" y="374"/>
                  <a:pt x="7577" y="369"/>
                </a:cubicBezTo>
                <a:cubicBezTo>
                  <a:pt x="7644" y="356"/>
                  <a:pt x="7637" y="182"/>
                  <a:pt x="7678" y="138"/>
                </a:cubicBezTo>
                <a:cubicBezTo>
                  <a:pt x="7691" y="181"/>
                  <a:pt x="7718" y="471"/>
                  <a:pt x="7831" y="375"/>
                </a:cubicBezTo>
                <a:cubicBezTo>
                  <a:pt x="7868" y="343"/>
                  <a:pt x="7875" y="228"/>
                  <a:pt x="7875" y="179"/>
                </a:cubicBezTo>
                <a:cubicBezTo>
                  <a:pt x="7983" y="284"/>
                  <a:pt x="8000" y="537"/>
                  <a:pt x="8000" y="537"/>
                </a:cubicBezTo>
                <a:cubicBezTo>
                  <a:pt x="0" y="537"/>
                  <a:pt x="0" y="537"/>
                  <a:pt x="0" y="537"/>
                </a:cubicBezTo>
                <a:cubicBezTo>
                  <a:pt x="0" y="537"/>
                  <a:pt x="71" y="411"/>
                  <a:pt x="113" y="208"/>
                </a:cubicBezTo>
                <a:close/>
              </a:path>
            </a:pathLst>
          </a:custGeom>
          <a:solidFill>
            <a:srgbClr val="4a9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68" name="组合 8"/>
          <p:cNvGrpSpPr/>
          <p:nvPr/>
        </p:nvGrpSpPr>
        <p:grpSpPr>
          <a:xfrm>
            <a:off x="6736680" y="4801680"/>
            <a:ext cx="1436760" cy="951840"/>
            <a:chOff x="6736680" y="4801680"/>
            <a:chExt cx="1436760" cy="951840"/>
          </a:xfrm>
        </p:grpSpPr>
        <p:grpSp>
          <p:nvGrpSpPr>
            <p:cNvPr id="3269" name="Group 4"/>
            <p:cNvGrpSpPr/>
            <p:nvPr/>
          </p:nvGrpSpPr>
          <p:grpSpPr>
            <a:xfrm>
              <a:off x="7381440" y="4801680"/>
              <a:ext cx="792000" cy="625680"/>
              <a:chOff x="7381440" y="4801680"/>
              <a:chExt cx="792000" cy="625680"/>
            </a:xfrm>
          </p:grpSpPr>
          <p:sp>
            <p:nvSpPr>
              <p:cNvPr id="3270" name="Freeform 5"/>
              <p:cNvSpPr/>
              <p:nvPr/>
            </p:nvSpPr>
            <p:spPr>
              <a:xfrm rot="1538400">
                <a:off x="7457760" y="4944600"/>
                <a:ext cx="336240" cy="431280"/>
              </a:xfrm>
              <a:custGeom>
                <a:avLst/>
                <a:gdLst/>
                <a:ahLst/>
                <a:rect l="l" t="t" r="r" b="b"/>
                <a:pathLst>
                  <a:path w="102" h="131">
                    <a:moveTo>
                      <a:pt x="78" y="2"/>
                    </a:moveTo>
                    <a:cubicBezTo>
                      <a:pt x="79" y="0"/>
                      <a:pt x="78" y="0"/>
                      <a:pt x="77" y="1"/>
                    </a:cubicBezTo>
                    <a:cubicBezTo>
                      <a:pt x="76" y="1"/>
                      <a:pt x="76" y="1"/>
                      <a:pt x="76" y="1"/>
                    </a:cubicBezTo>
                    <a:cubicBezTo>
                      <a:pt x="73" y="4"/>
                      <a:pt x="68" y="9"/>
                      <a:pt x="65" y="13"/>
                    </a:cubicBezTo>
                    <a:cubicBezTo>
                      <a:pt x="63" y="15"/>
                      <a:pt x="65" y="20"/>
                      <a:pt x="64" y="21"/>
                    </a:cubicBezTo>
                    <a:cubicBezTo>
                      <a:pt x="49" y="42"/>
                      <a:pt x="25" y="70"/>
                      <a:pt x="17" y="77"/>
                    </a:cubicBezTo>
                    <a:cubicBezTo>
                      <a:pt x="13" y="80"/>
                      <a:pt x="12" y="83"/>
                      <a:pt x="10" y="87"/>
                    </a:cubicBezTo>
                    <a:cubicBezTo>
                      <a:pt x="1" y="99"/>
                      <a:pt x="0" y="114"/>
                      <a:pt x="13" y="122"/>
                    </a:cubicBezTo>
                    <a:cubicBezTo>
                      <a:pt x="25" y="131"/>
                      <a:pt x="38" y="125"/>
                      <a:pt x="47" y="112"/>
                    </a:cubicBezTo>
                    <a:cubicBezTo>
                      <a:pt x="49" y="109"/>
                      <a:pt x="52" y="106"/>
                      <a:pt x="52" y="103"/>
                    </a:cubicBezTo>
                    <a:cubicBezTo>
                      <a:pt x="52" y="102"/>
                      <a:pt x="53" y="102"/>
                      <a:pt x="53" y="101"/>
                    </a:cubicBezTo>
                    <a:cubicBezTo>
                      <a:pt x="55" y="92"/>
                      <a:pt x="64" y="71"/>
                      <a:pt x="79" y="49"/>
                    </a:cubicBezTo>
                    <a:cubicBezTo>
                      <a:pt x="87" y="36"/>
                      <a:pt x="94" y="31"/>
                      <a:pt x="96" y="28"/>
                    </a:cubicBezTo>
                    <a:cubicBezTo>
                      <a:pt x="98" y="25"/>
                      <a:pt x="100" y="21"/>
                      <a:pt x="102" y="18"/>
                    </a:cubicBez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1" name="Freeform 6"/>
              <p:cNvSpPr/>
              <p:nvPr/>
            </p:nvSpPr>
            <p:spPr>
              <a:xfrm rot="1538400">
                <a:off x="7725960" y="4862520"/>
                <a:ext cx="376200" cy="41472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114" y="66"/>
                    </a:moveTo>
                    <a:cubicBezTo>
                      <a:pt x="114" y="66"/>
                      <a:pt x="113" y="107"/>
                      <a:pt x="69" y="125"/>
                    </a:cubicBezTo>
                    <a:cubicBezTo>
                      <a:pt x="68" y="126"/>
                      <a:pt x="65" y="126"/>
                      <a:pt x="64" y="123"/>
                    </a:cubicBezTo>
                    <a:cubicBezTo>
                      <a:pt x="58" y="112"/>
                      <a:pt x="36" y="84"/>
                      <a:pt x="3" y="60"/>
                    </a:cubicBezTo>
                    <a:cubicBezTo>
                      <a:pt x="2" y="60"/>
                      <a:pt x="2" y="56"/>
                      <a:pt x="2" y="54"/>
                    </a:cubicBezTo>
                    <a:cubicBezTo>
                      <a:pt x="3" y="49"/>
                      <a:pt x="20" y="32"/>
                      <a:pt x="20" y="32"/>
                    </a:cubicBezTo>
                    <a:cubicBezTo>
                      <a:pt x="20" y="32"/>
                      <a:pt x="18" y="29"/>
                      <a:pt x="12" y="25"/>
                    </a:cubicBezTo>
                    <a:cubicBezTo>
                      <a:pt x="8" y="23"/>
                      <a:pt x="7" y="22"/>
                      <a:pt x="3" y="20"/>
                    </a:cubicBezTo>
                    <a:cubicBezTo>
                      <a:pt x="0" y="19"/>
                      <a:pt x="0" y="17"/>
                      <a:pt x="3" y="16"/>
                    </a:cubicBezTo>
                    <a:cubicBezTo>
                      <a:pt x="11" y="11"/>
                      <a:pt x="16" y="0"/>
                      <a:pt x="41" y="18"/>
                    </a:cubicBezTo>
                    <a:cubicBezTo>
                      <a:pt x="74" y="40"/>
                      <a:pt x="108" y="55"/>
                      <a:pt x="114" y="6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2" name="Freeform 7"/>
              <p:cNvSpPr/>
              <p:nvPr/>
            </p:nvSpPr>
            <p:spPr>
              <a:xfrm rot="1538400">
                <a:off x="7740000" y="4884120"/>
                <a:ext cx="343080" cy="369360"/>
              </a:xfrm>
              <a:custGeom>
                <a:avLst/>
                <a:gdLst/>
                <a:ahLst/>
                <a:rect l="l" t="t" r="r" b="b"/>
                <a:pathLst>
                  <a:path w="104" h="112">
                    <a:moveTo>
                      <a:pt x="60" y="111"/>
                    </a:moveTo>
                    <a:cubicBezTo>
                      <a:pt x="60" y="111"/>
                      <a:pt x="59" y="111"/>
                      <a:pt x="59" y="110"/>
                    </a:cubicBezTo>
                    <a:cubicBezTo>
                      <a:pt x="53" y="99"/>
                      <a:pt x="33" y="74"/>
                      <a:pt x="2" y="51"/>
                    </a:cubicBezTo>
                    <a:cubicBezTo>
                      <a:pt x="1" y="50"/>
                      <a:pt x="1" y="48"/>
                      <a:pt x="1" y="46"/>
                    </a:cubicBezTo>
                    <a:cubicBezTo>
                      <a:pt x="2" y="43"/>
                      <a:pt x="12" y="32"/>
                      <a:pt x="18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4"/>
                      <a:pt x="16" y="22"/>
                      <a:pt x="11" y="19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7" y="15"/>
                      <a:pt x="5" y="14"/>
                      <a:pt x="1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1" y="11"/>
                    </a:cubicBezTo>
                    <a:cubicBezTo>
                      <a:pt x="3" y="10"/>
                      <a:pt x="4" y="9"/>
                      <a:pt x="5" y="8"/>
                    </a:cubicBezTo>
                    <a:cubicBezTo>
                      <a:pt x="11" y="4"/>
                      <a:pt x="17" y="0"/>
                      <a:pt x="35" y="12"/>
                    </a:cubicBezTo>
                    <a:cubicBezTo>
                      <a:pt x="35" y="12"/>
                      <a:pt x="35" y="12"/>
                      <a:pt x="36" y="13"/>
                    </a:cubicBezTo>
                    <a:cubicBezTo>
                      <a:pt x="36" y="13"/>
                      <a:pt x="37" y="14"/>
                      <a:pt x="38" y="14"/>
                    </a:cubicBezTo>
                    <a:cubicBezTo>
                      <a:pt x="49" y="22"/>
                      <a:pt x="60" y="28"/>
                      <a:pt x="69" y="34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81" y="40"/>
                      <a:pt x="88" y="45"/>
                      <a:pt x="94" y="48"/>
                    </a:cubicBezTo>
                    <a:cubicBezTo>
                      <a:pt x="99" y="52"/>
                      <a:pt x="102" y="55"/>
                      <a:pt x="104" y="57"/>
                    </a:cubicBezTo>
                    <a:cubicBezTo>
                      <a:pt x="104" y="59"/>
                      <a:pt x="103" y="68"/>
                      <a:pt x="98" y="78"/>
                    </a:cubicBezTo>
                    <a:cubicBezTo>
                      <a:pt x="93" y="89"/>
                      <a:pt x="83" y="103"/>
                      <a:pt x="62" y="112"/>
                    </a:cubicBezTo>
                    <a:cubicBezTo>
                      <a:pt x="62" y="112"/>
                      <a:pt x="61" y="112"/>
                      <a:pt x="60" y="111"/>
                    </a:cubicBezTo>
                    <a:cubicBezTo>
                      <a:pt x="60" y="111"/>
                      <a:pt x="60" y="111"/>
                      <a:pt x="60" y="111"/>
                    </a:cubicBezTo>
                  </a:path>
                </a:pathLst>
              </a:custGeom>
              <a:solidFill>
                <a:srgbClr val="da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3" name="Freeform 8"/>
              <p:cNvSpPr/>
              <p:nvPr/>
            </p:nvSpPr>
            <p:spPr>
              <a:xfrm rot="1538400">
                <a:off x="7837200" y="5037120"/>
                <a:ext cx="230760" cy="27324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18" y="81"/>
                    </a:moveTo>
                    <a:cubicBezTo>
                      <a:pt x="18" y="80"/>
                      <a:pt x="17" y="80"/>
                      <a:pt x="17" y="79"/>
                    </a:cubicBezTo>
                    <a:cubicBezTo>
                      <a:pt x="14" y="73"/>
                      <a:pt x="8" y="65"/>
                      <a:pt x="1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23" y="39"/>
                      <a:pt x="32" y="28"/>
                      <a:pt x="41" y="1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6" y="2"/>
                      <a:pt x="48" y="3"/>
                      <a:pt x="50" y="5"/>
                    </a:cubicBezTo>
                    <a:cubicBezTo>
                      <a:pt x="56" y="8"/>
                      <a:pt x="61" y="11"/>
                      <a:pt x="65" y="14"/>
                    </a:cubicBezTo>
                    <a:cubicBezTo>
                      <a:pt x="68" y="16"/>
                      <a:pt x="69" y="17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31"/>
                      <a:pt x="64" y="44"/>
                    </a:cubicBezTo>
                    <a:cubicBezTo>
                      <a:pt x="59" y="56"/>
                      <a:pt x="47" y="73"/>
                      <a:pt x="24" y="82"/>
                    </a:cubicBezTo>
                    <a:cubicBezTo>
                      <a:pt x="23" y="83"/>
                      <a:pt x="20" y="82"/>
                      <a:pt x="18" y="8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4" name="Freeform 9"/>
              <p:cNvSpPr/>
              <p:nvPr/>
            </p:nvSpPr>
            <p:spPr>
              <a:xfrm rot="1538400">
                <a:off x="7803360" y="4829400"/>
                <a:ext cx="115200" cy="8640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7" y="9"/>
                    </a:moveTo>
                    <a:cubicBezTo>
                      <a:pt x="6" y="10"/>
                      <a:pt x="1" y="14"/>
                      <a:pt x="1" y="15"/>
                    </a:cubicBezTo>
                    <a:cubicBezTo>
                      <a:pt x="0" y="15"/>
                      <a:pt x="1" y="17"/>
                      <a:pt x="2" y="18"/>
                    </a:cubicBezTo>
                    <a:cubicBezTo>
                      <a:pt x="2" y="18"/>
                      <a:pt x="9" y="21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4" y="24"/>
                      <a:pt x="14" y="25"/>
                      <a:pt x="15" y="25"/>
                    </a:cubicBezTo>
                    <a:cubicBezTo>
                      <a:pt x="16" y="26"/>
                      <a:pt x="17" y="25"/>
                      <a:pt x="17" y="25"/>
                    </a:cubicBezTo>
                    <a:cubicBezTo>
                      <a:pt x="23" y="19"/>
                      <a:pt x="30" y="13"/>
                      <a:pt x="35" y="10"/>
                    </a:cubicBezTo>
                    <a:cubicBezTo>
                      <a:pt x="35" y="10"/>
                      <a:pt x="35" y="9"/>
                      <a:pt x="34" y="9"/>
                    </a:cubicBezTo>
                    <a:cubicBezTo>
                      <a:pt x="19" y="0"/>
                      <a:pt x="13" y="5"/>
                      <a:pt x="7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75" name="Group 4"/>
            <p:cNvGrpSpPr/>
            <p:nvPr/>
          </p:nvGrpSpPr>
          <p:grpSpPr>
            <a:xfrm>
              <a:off x="6736680" y="5123160"/>
              <a:ext cx="780480" cy="630360"/>
              <a:chOff x="6736680" y="5123160"/>
              <a:chExt cx="780480" cy="630360"/>
            </a:xfrm>
          </p:grpSpPr>
          <p:sp>
            <p:nvSpPr>
              <p:cNvPr id="3276" name="Freeform 5"/>
              <p:cNvSpPr/>
              <p:nvPr/>
            </p:nvSpPr>
            <p:spPr>
              <a:xfrm rot="12220800">
                <a:off x="7108200" y="5172120"/>
                <a:ext cx="336240" cy="431280"/>
              </a:xfrm>
              <a:custGeom>
                <a:avLst/>
                <a:gdLst/>
                <a:ahLst/>
                <a:rect l="l" t="t" r="r" b="b"/>
                <a:pathLst>
                  <a:path w="102" h="131">
                    <a:moveTo>
                      <a:pt x="78" y="2"/>
                    </a:moveTo>
                    <a:cubicBezTo>
                      <a:pt x="79" y="0"/>
                      <a:pt x="78" y="0"/>
                      <a:pt x="77" y="1"/>
                    </a:cubicBezTo>
                    <a:cubicBezTo>
                      <a:pt x="76" y="1"/>
                      <a:pt x="76" y="1"/>
                      <a:pt x="76" y="1"/>
                    </a:cubicBezTo>
                    <a:cubicBezTo>
                      <a:pt x="73" y="4"/>
                      <a:pt x="68" y="9"/>
                      <a:pt x="65" y="13"/>
                    </a:cubicBezTo>
                    <a:cubicBezTo>
                      <a:pt x="63" y="15"/>
                      <a:pt x="65" y="20"/>
                      <a:pt x="64" y="21"/>
                    </a:cubicBezTo>
                    <a:cubicBezTo>
                      <a:pt x="49" y="42"/>
                      <a:pt x="25" y="70"/>
                      <a:pt x="17" y="77"/>
                    </a:cubicBezTo>
                    <a:cubicBezTo>
                      <a:pt x="13" y="80"/>
                      <a:pt x="12" y="83"/>
                      <a:pt x="10" y="87"/>
                    </a:cubicBezTo>
                    <a:cubicBezTo>
                      <a:pt x="1" y="99"/>
                      <a:pt x="0" y="114"/>
                      <a:pt x="13" y="122"/>
                    </a:cubicBezTo>
                    <a:cubicBezTo>
                      <a:pt x="25" y="131"/>
                      <a:pt x="38" y="125"/>
                      <a:pt x="47" y="112"/>
                    </a:cubicBezTo>
                    <a:cubicBezTo>
                      <a:pt x="49" y="109"/>
                      <a:pt x="52" y="106"/>
                      <a:pt x="52" y="103"/>
                    </a:cubicBezTo>
                    <a:cubicBezTo>
                      <a:pt x="52" y="102"/>
                      <a:pt x="53" y="102"/>
                      <a:pt x="53" y="101"/>
                    </a:cubicBezTo>
                    <a:cubicBezTo>
                      <a:pt x="55" y="92"/>
                      <a:pt x="64" y="71"/>
                      <a:pt x="79" y="49"/>
                    </a:cubicBezTo>
                    <a:cubicBezTo>
                      <a:pt x="87" y="36"/>
                      <a:pt x="94" y="31"/>
                      <a:pt x="96" y="28"/>
                    </a:cubicBezTo>
                    <a:cubicBezTo>
                      <a:pt x="98" y="25"/>
                      <a:pt x="100" y="21"/>
                      <a:pt x="102" y="18"/>
                    </a:cubicBezTo>
                    <a:lnTo>
                      <a:pt x="78" y="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7" name="Freeform 6"/>
              <p:cNvSpPr/>
              <p:nvPr/>
            </p:nvSpPr>
            <p:spPr>
              <a:xfrm rot="12220800">
                <a:off x="6804000" y="5280480"/>
                <a:ext cx="376200" cy="41472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114" y="66"/>
                    </a:moveTo>
                    <a:cubicBezTo>
                      <a:pt x="114" y="66"/>
                      <a:pt x="113" y="107"/>
                      <a:pt x="69" y="125"/>
                    </a:cubicBezTo>
                    <a:cubicBezTo>
                      <a:pt x="68" y="126"/>
                      <a:pt x="65" y="126"/>
                      <a:pt x="64" y="123"/>
                    </a:cubicBezTo>
                    <a:cubicBezTo>
                      <a:pt x="58" y="112"/>
                      <a:pt x="36" y="84"/>
                      <a:pt x="3" y="60"/>
                    </a:cubicBezTo>
                    <a:cubicBezTo>
                      <a:pt x="2" y="60"/>
                      <a:pt x="2" y="56"/>
                      <a:pt x="2" y="54"/>
                    </a:cubicBezTo>
                    <a:cubicBezTo>
                      <a:pt x="3" y="49"/>
                      <a:pt x="20" y="32"/>
                      <a:pt x="20" y="32"/>
                    </a:cubicBezTo>
                    <a:cubicBezTo>
                      <a:pt x="20" y="32"/>
                      <a:pt x="18" y="29"/>
                      <a:pt x="12" y="25"/>
                    </a:cubicBezTo>
                    <a:cubicBezTo>
                      <a:pt x="8" y="23"/>
                      <a:pt x="7" y="22"/>
                      <a:pt x="3" y="20"/>
                    </a:cubicBezTo>
                    <a:cubicBezTo>
                      <a:pt x="0" y="19"/>
                      <a:pt x="0" y="17"/>
                      <a:pt x="3" y="16"/>
                    </a:cubicBezTo>
                    <a:cubicBezTo>
                      <a:pt x="11" y="11"/>
                      <a:pt x="16" y="0"/>
                      <a:pt x="41" y="18"/>
                    </a:cubicBezTo>
                    <a:cubicBezTo>
                      <a:pt x="74" y="40"/>
                      <a:pt x="108" y="55"/>
                      <a:pt x="114" y="66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8" name="Freeform 8"/>
              <p:cNvSpPr/>
              <p:nvPr/>
            </p:nvSpPr>
            <p:spPr>
              <a:xfrm rot="12220800">
                <a:off x="6834600" y="5248800"/>
                <a:ext cx="230760" cy="27324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18" y="81"/>
                    </a:moveTo>
                    <a:cubicBezTo>
                      <a:pt x="18" y="80"/>
                      <a:pt x="17" y="80"/>
                      <a:pt x="17" y="79"/>
                    </a:cubicBezTo>
                    <a:cubicBezTo>
                      <a:pt x="14" y="73"/>
                      <a:pt x="8" y="65"/>
                      <a:pt x="1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23" y="39"/>
                      <a:pt x="32" y="28"/>
                      <a:pt x="41" y="1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6" y="2"/>
                      <a:pt x="48" y="3"/>
                      <a:pt x="50" y="5"/>
                    </a:cubicBezTo>
                    <a:cubicBezTo>
                      <a:pt x="56" y="8"/>
                      <a:pt x="61" y="11"/>
                      <a:pt x="65" y="14"/>
                    </a:cubicBezTo>
                    <a:cubicBezTo>
                      <a:pt x="68" y="16"/>
                      <a:pt x="69" y="17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31"/>
                      <a:pt x="64" y="44"/>
                    </a:cubicBezTo>
                    <a:cubicBezTo>
                      <a:pt x="59" y="56"/>
                      <a:pt x="47" y="73"/>
                      <a:pt x="24" y="82"/>
                    </a:cubicBezTo>
                    <a:cubicBezTo>
                      <a:pt x="23" y="83"/>
                      <a:pt x="20" y="82"/>
                      <a:pt x="18" y="81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9" name="Freeform 9"/>
              <p:cNvSpPr/>
              <p:nvPr/>
            </p:nvSpPr>
            <p:spPr>
              <a:xfrm rot="12220800">
                <a:off x="6994080" y="5639760"/>
                <a:ext cx="115200" cy="8640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7" y="9"/>
                    </a:moveTo>
                    <a:cubicBezTo>
                      <a:pt x="6" y="10"/>
                      <a:pt x="1" y="14"/>
                      <a:pt x="1" y="15"/>
                    </a:cubicBezTo>
                    <a:cubicBezTo>
                      <a:pt x="0" y="15"/>
                      <a:pt x="1" y="17"/>
                      <a:pt x="2" y="18"/>
                    </a:cubicBezTo>
                    <a:cubicBezTo>
                      <a:pt x="2" y="18"/>
                      <a:pt x="9" y="21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4" y="24"/>
                      <a:pt x="14" y="25"/>
                      <a:pt x="15" y="25"/>
                    </a:cubicBezTo>
                    <a:cubicBezTo>
                      <a:pt x="16" y="26"/>
                      <a:pt x="17" y="25"/>
                      <a:pt x="17" y="25"/>
                    </a:cubicBezTo>
                    <a:cubicBezTo>
                      <a:pt x="23" y="19"/>
                      <a:pt x="30" y="13"/>
                      <a:pt x="35" y="10"/>
                    </a:cubicBezTo>
                    <a:cubicBezTo>
                      <a:pt x="35" y="10"/>
                      <a:pt x="35" y="9"/>
                      <a:pt x="34" y="9"/>
                    </a:cubicBezTo>
                    <a:cubicBezTo>
                      <a:pt x="19" y="0"/>
                      <a:pt x="13" y="5"/>
                      <a:pt x="7" y="9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280" name="组合 62"/>
          <p:cNvGrpSpPr/>
          <p:nvPr/>
        </p:nvGrpSpPr>
        <p:grpSpPr>
          <a:xfrm>
            <a:off x="8814240" y="5414040"/>
            <a:ext cx="848520" cy="571320"/>
            <a:chOff x="8814240" y="5414040"/>
            <a:chExt cx="848520" cy="571320"/>
          </a:xfrm>
        </p:grpSpPr>
        <p:grpSp>
          <p:nvGrpSpPr>
            <p:cNvPr id="3281" name="Group 4"/>
            <p:cNvGrpSpPr/>
            <p:nvPr/>
          </p:nvGrpSpPr>
          <p:grpSpPr>
            <a:xfrm>
              <a:off x="8814240" y="5414040"/>
              <a:ext cx="848520" cy="571320"/>
              <a:chOff x="8814240" y="5414040"/>
              <a:chExt cx="848520" cy="571320"/>
            </a:xfrm>
          </p:grpSpPr>
          <p:sp>
            <p:nvSpPr>
              <p:cNvPr id="3282" name="Freeform 5"/>
              <p:cNvSpPr/>
              <p:nvPr/>
            </p:nvSpPr>
            <p:spPr>
              <a:xfrm flipH="1" rot="19068600">
                <a:off x="9230760" y="5487480"/>
                <a:ext cx="322920" cy="447480"/>
              </a:xfrm>
              <a:custGeom>
                <a:avLst/>
                <a:gdLst/>
                <a:ahLst/>
                <a:rect l="l" t="t" r="r" b="b"/>
                <a:pathLst>
                  <a:path w="102" h="131">
                    <a:moveTo>
                      <a:pt x="78" y="2"/>
                    </a:moveTo>
                    <a:cubicBezTo>
                      <a:pt x="79" y="0"/>
                      <a:pt x="78" y="0"/>
                      <a:pt x="77" y="1"/>
                    </a:cubicBezTo>
                    <a:cubicBezTo>
                      <a:pt x="76" y="1"/>
                      <a:pt x="76" y="1"/>
                      <a:pt x="76" y="1"/>
                    </a:cubicBezTo>
                    <a:cubicBezTo>
                      <a:pt x="73" y="4"/>
                      <a:pt x="68" y="9"/>
                      <a:pt x="65" y="13"/>
                    </a:cubicBezTo>
                    <a:cubicBezTo>
                      <a:pt x="63" y="15"/>
                      <a:pt x="65" y="20"/>
                      <a:pt x="64" y="21"/>
                    </a:cubicBezTo>
                    <a:cubicBezTo>
                      <a:pt x="49" y="42"/>
                      <a:pt x="25" y="70"/>
                      <a:pt x="17" y="77"/>
                    </a:cubicBezTo>
                    <a:cubicBezTo>
                      <a:pt x="13" y="80"/>
                      <a:pt x="12" y="83"/>
                      <a:pt x="10" y="87"/>
                    </a:cubicBezTo>
                    <a:cubicBezTo>
                      <a:pt x="1" y="99"/>
                      <a:pt x="0" y="114"/>
                      <a:pt x="13" y="122"/>
                    </a:cubicBezTo>
                    <a:cubicBezTo>
                      <a:pt x="25" y="131"/>
                      <a:pt x="38" y="125"/>
                      <a:pt x="47" y="112"/>
                    </a:cubicBezTo>
                    <a:cubicBezTo>
                      <a:pt x="49" y="109"/>
                      <a:pt x="52" y="106"/>
                      <a:pt x="52" y="103"/>
                    </a:cubicBezTo>
                    <a:cubicBezTo>
                      <a:pt x="52" y="102"/>
                      <a:pt x="53" y="102"/>
                      <a:pt x="53" y="101"/>
                    </a:cubicBezTo>
                    <a:cubicBezTo>
                      <a:pt x="55" y="92"/>
                      <a:pt x="64" y="71"/>
                      <a:pt x="79" y="49"/>
                    </a:cubicBezTo>
                    <a:cubicBezTo>
                      <a:pt x="87" y="36"/>
                      <a:pt x="94" y="31"/>
                      <a:pt x="96" y="28"/>
                    </a:cubicBezTo>
                    <a:cubicBezTo>
                      <a:pt x="98" y="25"/>
                      <a:pt x="100" y="21"/>
                      <a:pt x="102" y="18"/>
                    </a:cubicBez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3" name="Freeform 6"/>
              <p:cNvSpPr/>
              <p:nvPr/>
            </p:nvSpPr>
            <p:spPr>
              <a:xfrm flipH="1" rot="19068600">
                <a:off x="8911800" y="5479200"/>
                <a:ext cx="361080" cy="430560"/>
              </a:xfrm>
              <a:custGeom>
                <a:avLst/>
                <a:gdLst/>
                <a:ahLst/>
                <a:rect l="l" t="t" r="r" b="b"/>
                <a:pathLst>
                  <a:path w="114" h="126">
                    <a:moveTo>
                      <a:pt x="114" y="66"/>
                    </a:moveTo>
                    <a:cubicBezTo>
                      <a:pt x="114" y="66"/>
                      <a:pt x="113" y="107"/>
                      <a:pt x="69" y="125"/>
                    </a:cubicBezTo>
                    <a:cubicBezTo>
                      <a:pt x="68" y="126"/>
                      <a:pt x="65" y="126"/>
                      <a:pt x="64" y="123"/>
                    </a:cubicBezTo>
                    <a:cubicBezTo>
                      <a:pt x="58" y="112"/>
                      <a:pt x="36" y="84"/>
                      <a:pt x="3" y="60"/>
                    </a:cubicBezTo>
                    <a:cubicBezTo>
                      <a:pt x="2" y="60"/>
                      <a:pt x="2" y="56"/>
                      <a:pt x="2" y="54"/>
                    </a:cubicBezTo>
                    <a:cubicBezTo>
                      <a:pt x="3" y="49"/>
                      <a:pt x="20" y="32"/>
                      <a:pt x="20" y="32"/>
                    </a:cubicBezTo>
                    <a:cubicBezTo>
                      <a:pt x="20" y="32"/>
                      <a:pt x="18" y="29"/>
                      <a:pt x="12" y="25"/>
                    </a:cubicBezTo>
                    <a:cubicBezTo>
                      <a:pt x="8" y="23"/>
                      <a:pt x="7" y="22"/>
                      <a:pt x="3" y="20"/>
                    </a:cubicBezTo>
                    <a:cubicBezTo>
                      <a:pt x="0" y="19"/>
                      <a:pt x="0" y="17"/>
                      <a:pt x="3" y="16"/>
                    </a:cubicBezTo>
                    <a:cubicBezTo>
                      <a:pt x="11" y="11"/>
                      <a:pt x="16" y="0"/>
                      <a:pt x="41" y="18"/>
                    </a:cubicBezTo>
                    <a:cubicBezTo>
                      <a:pt x="74" y="40"/>
                      <a:pt x="108" y="55"/>
                      <a:pt x="114" y="6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4" name="Freeform 7"/>
              <p:cNvSpPr/>
              <p:nvPr/>
            </p:nvSpPr>
            <p:spPr>
              <a:xfrm flipH="1" rot="19068600">
                <a:off x="8930520" y="5501520"/>
                <a:ext cx="329400" cy="383040"/>
              </a:xfrm>
              <a:custGeom>
                <a:avLst/>
                <a:gdLst/>
                <a:ahLst/>
                <a:rect l="l" t="t" r="r" b="b"/>
                <a:pathLst>
                  <a:path w="104" h="112">
                    <a:moveTo>
                      <a:pt x="60" y="111"/>
                    </a:moveTo>
                    <a:cubicBezTo>
                      <a:pt x="60" y="111"/>
                      <a:pt x="59" y="111"/>
                      <a:pt x="59" y="110"/>
                    </a:cubicBezTo>
                    <a:cubicBezTo>
                      <a:pt x="53" y="99"/>
                      <a:pt x="33" y="74"/>
                      <a:pt x="2" y="51"/>
                    </a:cubicBezTo>
                    <a:cubicBezTo>
                      <a:pt x="1" y="50"/>
                      <a:pt x="1" y="48"/>
                      <a:pt x="1" y="46"/>
                    </a:cubicBezTo>
                    <a:cubicBezTo>
                      <a:pt x="2" y="43"/>
                      <a:pt x="12" y="32"/>
                      <a:pt x="18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8" y="24"/>
                      <a:pt x="18" y="24"/>
                      <a:pt x="18" y="24"/>
                    </a:cubicBezTo>
                    <a:cubicBezTo>
                      <a:pt x="18" y="24"/>
                      <a:pt x="16" y="22"/>
                      <a:pt x="11" y="19"/>
                    </a:cubicBezTo>
                    <a:cubicBezTo>
                      <a:pt x="11" y="18"/>
                      <a:pt x="11" y="18"/>
                      <a:pt x="10" y="18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7" y="15"/>
                      <a:pt x="5" y="14"/>
                      <a:pt x="1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0" y="12"/>
                      <a:pt x="1" y="11"/>
                    </a:cubicBezTo>
                    <a:cubicBezTo>
                      <a:pt x="3" y="10"/>
                      <a:pt x="4" y="9"/>
                      <a:pt x="5" y="8"/>
                    </a:cubicBezTo>
                    <a:cubicBezTo>
                      <a:pt x="11" y="4"/>
                      <a:pt x="17" y="0"/>
                      <a:pt x="35" y="12"/>
                    </a:cubicBezTo>
                    <a:cubicBezTo>
                      <a:pt x="35" y="12"/>
                      <a:pt x="35" y="12"/>
                      <a:pt x="36" y="13"/>
                    </a:cubicBezTo>
                    <a:cubicBezTo>
                      <a:pt x="36" y="13"/>
                      <a:pt x="37" y="14"/>
                      <a:pt x="38" y="14"/>
                    </a:cubicBezTo>
                    <a:cubicBezTo>
                      <a:pt x="49" y="22"/>
                      <a:pt x="60" y="28"/>
                      <a:pt x="69" y="34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81" y="40"/>
                      <a:pt x="88" y="45"/>
                      <a:pt x="94" y="48"/>
                    </a:cubicBezTo>
                    <a:cubicBezTo>
                      <a:pt x="99" y="52"/>
                      <a:pt x="102" y="55"/>
                      <a:pt x="104" y="57"/>
                    </a:cubicBezTo>
                    <a:cubicBezTo>
                      <a:pt x="104" y="59"/>
                      <a:pt x="103" y="68"/>
                      <a:pt x="98" y="78"/>
                    </a:cubicBezTo>
                    <a:cubicBezTo>
                      <a:pt x="93" y="89"/>
                      <a:pt x="83" y="103"/>
                      <a:pt x="62" y="112"/>
                    </a:cubicBezTo>
                    <a:cubicBezTo>
                      <a:pt x="62" y="112"/>
                      <a:pt x="61" y="112"/>
                      <a:pt x="60" y="111"/>
                    </a:cubicBezTo>
                    <a:cubicBezTo>
                      <a:pt x="60" y="111"/>
                      <a:pt x="60" y="111"/>
                      <a:pt x="60" y="111"/>
                    </a:cubicBezTo>
                  </a:path>
                </a:pathLst>
              </a:custGeom>
              <a:solidFill>
                <a:srgbClr val="da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5" name="Freeform 8"/>
              <p:cNvSpPr/>
              <p:nvPr/>
            </p:nvSpPr>
            <p:spPr>
              <a:xfrm flipH="1" rot="19068600">
                <a:off x="8979120" y="5663880"/>
                <a:ext cx="221400" cy="283320"/>
              </a:xfrm>
              <a:custGeom>
                <a:avLst/>
                <a:gdLst/>
                <a:ahLst/>
                <a:rect l="l" t="t" r="r" b="b"/>
                <a:pathLst>
                  <a:path w="70" h="83">
                    <a:moveTo>
                      <a:pt x="18" y="81"/>
                    </a:moveTo>
                    <a:cubicBezTo>
                      <a:pt x="18" y="80"/>
                      <a:pt x="17" y="80"/>
                      <a:pt x="17" y="79"/>
                    </a:cubicBezTo>
                    <a:cubicBezTo>
                      <a:pt x="14" y="73"/>
                      <a:pt x="8" y="65"/>
                      <a:pt x="1" y="57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55"/>
                      <a:pt x="0" y="55"/>
                      <a:pt x="0" y="55"/>
                    </a:cubicBezTo>
                    <a:cubicBezTo>
                      <a:pt x="23" y="39"/>
                      <a:pt x="32" y="28"/>
                      <a:pt x="41" y="1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6" y="2"/>
                      <a:pt x="48" y="3"/>
                      <a:pt x="50" y="5"/>
                    </a:cubicBezTo>
                    <a:cubicBezTo>
                      <a:pt x="56" y="8"/>
                      <a:pt x="61" y="11"/>
                      <a:pt x="65" y="14"/>
                    </a:cubicBezTo>
                    <a:cubicBezTo>
                      <a:pt x="68" y="16"/>
                      <a:pt x="69" y="17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20"/>
                      <a:pt x="70" y="20"/>
                    </a:cubicBezTo>
                    <a:cubicBezTo>
                      <a:pt x="70" y="20"/>
                      <a:pt x="70" y="31"/>
                      <a:pt x="64" y="44"/>
                    </a:cubicBezTo>
                    <a:cubicBezTo>
                      <a:pt x="59" y="56"/>
                      <a:pt x="47" y="73"/>
                      <a:pt x="24" y="82"/>
                    </a:cubicBezTo>
                    <a:cubicBezTo>
                      <a:pt x="23" y="83"/>
                      <a:pt x="20" y="82"/>
                      <a:pt x="18" y="8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6" name="Freeform 9"/>
              <p:cNvSpPr/>
              <p:nvPr/>
            </p:nvSpPr>
            <p:spPr>
              <a:xfrm flipH="1" rot="19068600">
                <a:off x="9024120" y="5444640"/>
                <a:ext cx="110520" cy="896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7" y="9"/>
                    </a:moveTo>
                    <a:cubicBezTo>
                      <a:pt x="6" y="10"/>
                      <a:pt x="1" y="14"/>
                      <a:pt x="1" y="15"/>
                    </a:cubicBezTo>
                    <a:cubicBezTo>
                      <a:pt x="0" y="15"/>
                      <a:pt x="1" y="17"/>
                      <a:pt x="2" y="18"/>
                    </a:cubicBezTo>
                    <a:cubicBezTo>
                      <a:pt x="2" y="18"/>
                      <a:pt x="9" y="21"/>
                      <a:pt x="12" y="23"/>
                    </a:cubicBezTo>
                    <a:cubicBezTo>
                      <a:pt x="12" y="23"/>
                      <a:pt x="12" y="23"/>
                      <a:pt x="12" y="23"/>
                    </a:cubicBezTo>
                    <a:cubicBezTo>
                      <a:pt x="14" y="24"/>
                      <a:pt x="14" y="25"/>
                      <a:pt x="15" y="25"/>
                    </a:cubicBezTo>
                    <a:cubicBezTo>
                      <a:pt x="16" y="26"/>
                      <a:pt x="17" y="25"/>
                      <a:pt x="17" y="25"/>
                    </a:cubicBezTo>
                    <a:cubicBezTo>
                      <a:pt x="23" y="19"/>
                      <a:pt x="30" y="13"/>
                      <a:pt x="35" y="10"/>
                    </a:cubicBezTo>
                    <a:cubicBezTo>
                      <a:pt x="35" y="10"/>
                      <a:pt x="35" y="9"/>
                      <a:pt x="34" y="9"/>
                    </a:cubicBezTo>
                    <a:cubicBezTo>
                      <a:pt x="19" y="0"/>
                      <a:pt x="13" y="5"/>
                      <a:pt x="7" y="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87" name="Group 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288" name="组合 4"/>
          <p:cNvGrpSpPr/>
          <p:nvPr/>
        </p:nvGrpSpPr>
        <p:grpSpPr>
          <a:xfrm>
            <a:off x="1054080" y="2668680"/>
            <a:ext cx="3314880" cy="1441440"/>
            <a:chOff x="1054080" y="2668680"/>
            <a:chExt cx="3314880" cy="1441440"/>
          </a:xfrm>
        </p:grpSpPr>
        <p:sp>
          <p:nvSpPr>
            <p:cNvPr id="3289" name="文本框 104"/>
            <p:cNvSpPr/>
            <p:nvPr/>
          </p:nvSpPr>
          <p:spPr>
            <a:xfrm>
              <a:off x="1109520" y="2706480"/>
              <a:ext cx="3259440" cy="1403640"/>
            </a:xfrm>
            <a:custGeom>
              <a:avLst/>
              <a:gdLst/>
              <a:ahLst/>
              <a:rect l="l" t="t" r="r" b="b"/>
              <a:pathLst>
                <a:path w="3258740" h="1403449">
                  <a:moveTo>
                    <a:pt x="814685" y="1081682"/>
                  </a:moveTo>
                  <a:lnTo>
                    <a:pt x="985837" y="1081682"/>
                  </a:lnTo>
                  <a:lnTo>
                    <a:pt x="985837" y="1252835"/>
                  </a:lnTo>
                  <a:lnTo>
                    <a:pt x="1485602" y="1252835"/>
                  </a:lnTo>
                  <a:lnTo>
                    <a:pt x="1485602" y="1403449"/>
                  </a:lnTo>
                  <a:lnTo>
                    <a:pt x="814685" y="1403449"/>
                  </a:lnTo>
                  <a:close/>
                  <a:moveTo>
                    <a:pt x="1321296" y="1040606"/>
                  </a:moveTo>
                  <a:lnTo>
                    <a:pt x="1437679" y="1156989"/>
                  </a:lnTo>
                  <a:lnTo>
                    <a:pt x="1266527" y="1204912"/>
                  </a:lnTo>
                  <a:lnTo>
                    <a:pt x="1150143" y="1088528"/>
                  </a:lnTo>
                  <a:close/>
                  <a:moveTo>
                    <a:pt x="855761" y="725686"/>
                  </a:moveTo>
                  <a:lnTo>
                    <a:pt x="855761" y="848915"/>
                  </a:lnTo>
                  <a:lnTo>
                    <a:pt x="1300757" y="848915"/>
                  </a:lnTo>
                  <a:lnTo>
                    <a:pt x="1300757" y="725686"/>
                  </a:lnTo>
                  <a:close/>
                  <a:moveTo>
                    <a:pt x="260151" y="725686"/>
                  </a:moveTo>
                  <a:lnTo>
                    <a:pt x="260151" y="848915"/>
                  </a:lnTo>
                  <a:lnTo>
                    <a:pt x="691455" y="848915"/>
                  </a:lnTo>
                  <a:lnTo>
                    <a:pt x="691455" y="725686"/>
                  </a:lnTo>
                  <a:close/>
                  <a:moveTo>
                    <a:pt x="266997" y="472380"/>
                  </a:moveTo>
                  <a:lnTo>
                    <a:pt x="212228" y="581918"/>
                  </a:lnTo>
                  <a:lnTo>
                    <a:pt x="1115913" y="581918"/>
                  </a:lnTo>
                  <a:lnTo>
                    <a:pt x="1177528" y="472380"/>
                  </a:lnTo>
                  <a:close/>
                  <a:moveTo>
                    <a:pt x="164306" y="301228"/>
                  </a:moveTo>
                  <a:lnTo>
                    <a:pt x="266997" y="321766"/>
                  </a:lnTo>
                  <a:lnTo>
                    <a:pt x="1423987" y="321766"/>
                  </a:lnTo>
                  <a:lnTo>
                    <a:pt x="1300757" y="581918"/>
                  </a:lnTo>
                  <a:lnTo>
                    <a:pt x="1465064" y="581918"/>
                  </a:lnTo>
                  <a:lnTo>
                    <a:pt x="1465064" y="999529"/>
                  </a:lnTo>
                  <a:lnTo>
                    <a:pt x="800992" y="999529"/>
                  </a:lnTo>
                  <a:lnTo>
                    <a:pt x="205382" y="1403449"/>
                  </a:lnTo>
                  <a:lnTo>
                    <a:pt x="0" y="1369218"/>
                  </a:lnTo>
                  <a:lnTo>
                    <a:pt x="540841" y="999529"/>
                  </a:lnTo>
                  <a:lnTo>
                    <a:pt x="95845" y="999529"/>
                  </a:lnTo>
                  <a:lnTo>
                    <a:pt x="95845" y="588764"/>
                  </a:lnTo>
                  <a:lnTo>
                    <a:pt x="27384" y="575071"/>
                  </a:lnTo>
                  <a:close/>
                  <a:moveTo>
                    <a:pt x="68460" y="13692"/>
                  </a:moveTo>
                  <a:lnTo>
                    <a:pt x="1499294" y="13692"/>
                  </a:lnTo>
                  <a:lnTo>
                    <a:pt x="1499294" y="253305"/>
                  </a:lnTo>
                  <a:lnTo>
                    <a:pt x="1328142" y="253305"/>
                  </a:lnTo>
                  <a:lnTo>
                    <a:pt x="1328142" y="164306"/>
                  </a:lnTo>
                  <a:lnTo>
                    <a:pt x="232767" y="164306"/>
                  </a:lnTo>
                  <a:lnTo>
                    <a:pt x="232767" y="253305"/>
                  </a:lnTo>
                  <a:lnTo>
                    <a:pt x="68460" y="253305"/>
                  </a:lnTo>
                  <a:close/>
                  <a:moveTo>
                    <a:pt x="1807368" y="0"/>
                  </a:moveTo>
                  <a:lnTo>
                    <a:pt x="3245048" y="0"/>
                  </a:lnTo>
                  <a:lnTo>
                    <a:pt x="3245048" y="143767"/>
                  </a:lnTo>
                  <a:lnTo>
                    <a:pt x="2861667" y="143767"/>
                  </a:lnTo>
                  <a:lnTo>
                    <a:pt x="2861667" y="691455"/>
                  </a:lnTo>
                  <a:lnTo>
                    <a:pt x="3210817" y="308074"/>
                  </a:lnTo>
                  <a:lnTo>
                    <a:pt x="3258740" y="465534"/>
                  </a:lnTo>
                  <a:lnTo>
                    <a:pt x="2861667" y="896838"/>
                  </a:lnTo>
                  <a:lnTo>
                    <a:pt x="2861667" y="1252835"/>
                  </a:lnTo>
                  <a:lnTo>
                    <a:pt x="3258740" y="1252835"/>
                  </a:lnTo>
                  <a:lnTo>
                    <a:pt x="3251894" y="1403449"/>
                  </a:lnTo>
                  <a:lnTo>
                    <a:pt x="2697360" y="1403449"/>
                  </a:lnTo>
                  <a:lnTo>
                    <a:pt x="2697360" y="143767"/>
                  </a:lnTo>
                  <a:lnTo>
                    <a:pt x="2259210" y="143767"/>
                  </a:lnTo>
                  <a:lnTo>
                    <a:pt x="2110748" y="369689"/>
                  </a:lnTo>
                  <a:lnTo>
                    <a:pt x="2457747" y="369689"/>
                  </a:lnTo>
                  <a:lnTo>
                    <a:pt x="2457747" y="794146"/>
                  </a:lnTo>
                  <a:lnTo>
                    <a:pt x="1930598" y="1403449"/>
                  </a:lnTo>
                  <a:lnTo>
                    <a:pt x="1773138" y="1369218"/>
                  </a:lnTo>
                  <a:lnTo>
                    <a:pt x="2040130" y="1049530"/>
                  </a:lnTo>
                  <a:lnTo>
                    <a:pt x="1773138" y="794146"/>
                  </a:lnTo>
                  <a:lnTo>
                    <a:pt x="1923752" y="732532"/>
                  </a:lnTo>
                  <a:lnTo>
                    <a:pt x="2135622" y="935190"/>
                  </a:lnTo>
                  <a:lnTo>
                    <a:pt x="2293441" y="746224"/>
                  </a:lnTo>
                  <a:lnTo>
                    <a:pt x="2293441" y="513457"/>
                  </a:lnTo>
                  <a:lnTo>
                    <a:pt x="2016272" y="513457"/>
                  </a:lnTo>
                  <a:lnTo>
                    <a:pt x="1944290" y="622994"/>
                  </a:lnTo>
                  <a:lnTo>
                    <a:pt x="1786830" y="588764"/>
                  </a:lnTo>
                  <a:lnTo>
                    <a:pt x="2081212" y="143767"/>
                  </a:lnTo>
                  <a:lnTo>
                    <a:pt x="1807368" y="143767"/>
                  </a:lnTo>
                  <a:close/>
                </a:path>
              </a:pathLst>
            </a:custGeom>
            <a:solidFill>
              <a:srgbClr val="33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0" name="文本框 106"/>
            <p:cNvSpPr/>
            <p:nvPr/>
          </p:nvSpPr>
          <p:spPr>
            <a:xfrm>
              <a:off x="1054080" y="2668680"/>
              <a:ext cx="3259440" cy="1403640"/>
            </a:xfrm>
            <a:custGeom>
              <a:avLst/>
              <a:gdLst/>
              <a:ahLst/>
              <a:rect l="l" t="t" r="r" b="b"/>
              <a:pathLst>
                <a:path w="3258741" h="1403449">
                  <a:moveTo>
                    <a:pt x="814686" y="1081682"/>
                  </a:moveTo>
                  <a:lnTo>
                    <a:pt x="985838" y="1081682"/>
                  </a:lnTo>
                  <a:lnTo>
                    <a:pt x="985838" y="1252835"/>
                  </a:lnTo>
                  <a:lnTo>
                    <a:pt x="1485603" y="1252835"/>
                  </a:lnTo>
                  <a:lnTo>
                    <a:pt x="1485603" y="1403449"/>
                  </a:lnTo>
                  <a:lnTo>
                    <a:pt x="814686" y="1403449"/>
                  </a:lnTo>
                  <a:close/>
                  <a:moveTo>
                    <a:pt x="1321297" y="1040606"/>
                  </a:moveTo>
                  <a:lnTo>
                    <a:pt x="1437680" y="1156989"/>
                  </a:lnTo>
                  <a:lnTo>
                    <a:pt x="1266528" y="1204912"/>
                  </a:lnTo>
                  <a:lnTo>
                    <a:pt x="1150144" y="1088528"/>
                  </a:lnTo>
                  <a:close/>
                  <a:moveTo>
                    <a:pt x="855762" y="725686"/>
                  </a:moveTo>
                  <a:lnTo>
                    <a:pt x="855762" y="848915"/>
                  </a:lnTo>
                  <a:lnTo>
                    <a:pt x="1300758" y="848915"/>
                  </a:lnTo>
                  <a:lnTo>
                    <a:pt x="1300758" y="725686"/>
                  </a:lnTo>
                  <a:close/>
                  <a:moveTo>
                    <a:pt x="260152" y="725686"/>
                  </a:moveTo>
                  <a:lnTo>
                    <a:pt x="260152" y="848915"/>
                  </a:lnTo>
                  <a:lnTo>
                    <a:pt x="691456" y="848915"/>
                  </a:lnTo>
                  <a:lnTo>
                    <a:pt x="691456" y="725686"/>
                  </a:lnTo>
                  <a:close/>
                  <a:moveTo>
                    <a:pt x="266998" y="472380"/>
                  </a:moveTo>
                  <a:lnTo>
                    <a:pt x="212229" y="581918"/>
                  </a:lnTo>
                  <a:lnTo>
                    <a:pt x="1115914" y="581918"/>
                  </a:lnTo>
                  <a:lnTo>
                    <a:pt x="1177529" y="472380"/>
                  </a:lnTo>
                  <a:close/>
                  <a:moveTo>
                    <a:pt x="164307" y="301228"/>
                  </a:moveTo>
                  <a:lnTo>
                    <a:pt x="266998" y="321766"/>
                  </a:lnTo>
                  <a:lnTo>
                    <a:pt x="1423988" y="321766"/>
                  </a:lnTo>
                  <a:lnTo>
                    <a:pt x="1300758" y="581918"/>
                  </a:lnTo>
                  <a:lnTo>
                    <a:pt x="1465065" y="581918"/>
                  </a:lnTo>
                  <a:lnTo>
                    <a:pt x="1465065" y="999529"/>
                  </a:lnTo>
                  <a:lnTo>
                    <a:pt x="800993" y="999529"/>
                  </a:lnTo>
                  <a:lnTo>
                    <a:pt x="205383" y="1403449"/>
                  </a:lnTo>
                  <a:lnTo>
                    <a:pt x="0" y="1369218"/>
                  </a:lnTo>
                  <a:lnTo>
                    <a:pt x="540842" y="999529"/>
                  </a:lnTo>
                  <a:lnTo>
                    <a:pt x="95846" y="999529"/>
                  </a:lnTo>
                  <a:lnTo>
                    <a:pt x="95846" y="588764"/>
                  </a:lnTo>
                  <a:lnTo>
                    <a:pt x="27385" y="575071"/>
                  </a:lnTo>
                  <a:close/>
                  <a:moveTo>
                    <a:pt x="68461" y="13692"/>
                  </a:moveTo>
                  <a:lnTo>
                    <a:pt x="1499295" y="13692"/>
                  </a:lnTo>
                  <a:lnTo>
                    <a:pt x="1499295" y="253305"/>
                  </a:lnTo>
                  <a:lnTo>
                    <a:pt x="1328143" y="253305"/>
                  </a:lnTo>
                  <a:lnTo>
                    <a:pt x="1328143" y="164306"/>
                  </a:lnTo>
                  <a:lnTo>
                    <a:pt x="232768" y="164306"/>
                  </a:lnTo>
                  <a:lnTo>
                    <a:pt x="232768" y="253305"/>
                  </a:lnTo>
                  <a:lnTo>
                    <a:pt x="68461" y="253305"/>
                  </a:lnTo>
                  <a:close/>
                  <a:moveTo>
                    <a:pt x="1807369" y="0"/>
                  </a:moveTo>
                  <a:lnTo>
                    <a:pt x="3245049" y="0"/>
                  </a:lnTo>
                  <a:lnTo>
                    <a:pt x="3245049" y="143767"/>
                  </a:lnTo>
                  <a:lnTo>
                    <a:pt x="2861668" y="143767"/>
                  </a:lnTo>
                  <a:lnTo>
                    <a:pt x="2861668" y="691455"/>
                  </a:lnTo>
                  <a:lnTo>
                    <a:pt x="3210818" y="308074"/>
                  </a:lnTo>
                  <a:lnTo>
                    <a:pt x="3258741" y="465534"/>
                  </a:lnTo>
                  <a:lnTo>
                    <a:pt x="2861668" y="896838"/>
                  </a:lnTo>
                  <a:lnTo>
                    <a:pt x="2861668" y="1252835"/>
                  </a:lnTo>
                  <a:lnTo>
                    <a:pt x="3258741" y="1252835"/>
                  </a:lnTo>
                  <a:lnTo>
                    <a:pt x="3251895" y="1403449"/>
                  </a:lnTo>
                  <a:lnTo>
                    <a:pt x="2697361" y="1403449"/>
                  </a:lnTo>
                  <a:lnTo>
                    <a:pt x="2697361" y="143767"/>
                  </a:lnTo>
                  <a:lnTo>
                    <a:pt x="2259211" y="143767"/>
                  </a:lnTo>
                  <a:lnTo>
                    <a:pt x="2110749" y="369689"/>
                  </a:lnTo>
                  <a:lnTo>
                    <a:pt x="2457748" y="369689"/>
                  </a:lnTo>
                  <a:lnTo>
                    <a:pt x="2457748" y="794146"/>
                  </a:lnTo>
                  <a:lnTo>
                    <a:pt x="1930599" y="1403449"/>
                  </a:lnTo>
                  <a:lnTo>
                    <a:pt x="1773139" y="1369218"/>
                  </a:lnTo>
                  <a:lnTo>
                    <a:pt x="2040131" y="1049530"/>
                  </a:lnTo>
                  <a:lnTo>
                    <a:pt x="1773139" y="794146"/>
                  </a:lnTo>
                  <a:lnTo>
                    <a:pt x="1923753" y="732532"/>
                  </a:lnTo>
                  <a:lnTo>
                    <a:pt x="2135623" y="935190"/>
                  </a:lnTo>
                  <a:lnTo>
                    <a:pt x="2293442" y="746224"/>
                  </a:lnTo>
                  <a:lnTo>
                    <a:pt x="2293442" y="513457"/>
                  </a:lnTo>
                  <a:lnTo>
                    <a:pt x="2016273" y="513457"/>
                  </a:lnTo>
                  <a:lnTo>
                    <a:pt x="1944291" y="622994"/>
                  </a:lnTo>
                  <a:lnTo>
                    <a:pt x="1786831" y="588764"/>
                  </a:lnTo>
                  <a:lnTo>
                    <a:pt x="2081213" y="143767"/>
                  </a:lnTo>
                  <a:lnTo>
                    <a:pt x="1807369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1" name="文本框 99"/>
          <p:cNvSpPr/>
          <p:nvPr/>
        </p:nvSpPr>
        <p:spPr>
          <a:xfrm>
            <a:off x="1130400" y="1798560"/>
            <a:ext cx="3952800" cy="420840"/>
          </a:xfrm>
          <a:custGeom>
            <a:avLst/>
            <a:gdLst/>
            <a:ahLst/>
            <a:rect l="l" t="t" r="r" b="b"/>
            <a:pathLst>
              <a:path w="3952168" h="420031">
                <a:moveTo>
                  <a:pt x="1682427" y="345096"/>
                </a:moveTo>
                <a:lnTo>
                  <a:pt x="1723839" y="400311"/>
                </a:lnTo>
                <a:lnTo>
                  <a:pt x="1678483" y="414115"/>
                </a:lnTo>
                <a:lnTo>
                  <a:pt x="1637072" y="358899"/>
                </a:lnTo>
                <a:close/>
                <a:moveTo>
                  <a:pt x="2680245" y="299740"/>
                </a:moveTo>
                <a:lnTo>
                  <a:pt x="2680245" y="319460"/>
                </a:lnTo>
                <a:lnTo>
                  <a:pt x="2881387" y="319460"/>
                </a:lnTo>
                <a:lnTo>
                  <a:pt x="2881387" y="299740"/>
                </a:lnTo>
                <a:close/>
                <a:moveTo>
                  <a:pt x="3652428" y="287908"/>
                </a:moveTo>
                <a:lnTo>
                  <a:pt x="3701727" y="287908"/>
                </a:lnTo>
                <a:lnTo>
                  <a:pt x="3701727" y="370731"/>
                </a:lnTo>
                <a:lnTo>
                  <a:pt x="3831877" y="370731"/>
                </a:lnTo>
                <a:lnTo>
                  <a:pt x="3831877" y="414115"/>
                </a:lnTo>
                <a:lnTo>
                  <a:pt x="3652428" y="414115"/>
                </a:lnTo>
                <a:close/>
                <a:moveTo>
                  <a:pt x="3918644" y="280020"/>
                </a:moveTo>
                <a:lnTo>
                  <a:pt x="3952168" y="388479"/>
                </a:lnTo>
                <a:lnTo>
                  <a:pt x="3914700" y="414115"/>
                </a:lnTo>
                <a:lnTo>
                  <a:pt x="3879205" y="307628"/>
                </a:lnTo>
                <a:close/>
                <a:moveTo>
                  <a:pt x="3555801" y="280020"/>
                </a:moveTo>
                <a:lnTo>
                  <a:pt x="3595241" y="307628"/>
                </a:lnTo>
                <a:lnTo>
                  <a:pt x="3559745" y="414115"/>
                </a:lnTo>
                <a:lnTo>
                  <a:pt x="3522278" y="388479"/>
                </a:lnTo>
                <a:close/>
                <a:moveTo>
                  <a:pt x="3800326" y="264245"/>
                </a:moveTo>
                <a:lnTo>
                  <a:pt x="3820046" y="315516"/>
                </a:lnTo>
                <a:lnTo>
                  <a:pt x="3786522" y="349040"/>
                </a:lnTo>
                <a:lnTo>
                  <a:pt x="3764830" y="297768"/>
                </a:lnTo>
                <a:close/>
                <a:moveTo>
                  <a:pt x="2680245" y="250441"/>
                </a:moveTo>
                <a:lnTo>
                  <a:pt x="2680245" y="270161"/>
                </a:lnTo>
                <a:lnTo>
                  <a:pt x="2881387" y="270161"/>
                </a:lnTo>
                <a:lnTo>
                  <a:pt x="2881387" y="250441"/>
                </a:lnTo>
                <a:close/>
                <a:moveTo>
                  <a:pt x="2630946" y="220861"/>
                </a:moveTo>
                <a:lnTo>
                  <a:pt x="2930686" y="220861"/>
                </a:lnTo>
                <a:lnTo>
                  <a:pt x="2930686" y="349040"/>
                </a:lnTo>
                <a:lnTo>
                  <a:pt x="2630946" y="349040"/>
                </a:lnTo>
                <a:close/>
                <a:moveTo>
                  <a:pt x="1157883" y="218889"/>
                </a:moveTo>
                <a:lnTo>
                  <a:pt x="1157883" y="370731"/>
                </a:lnTo>
                <a:lnTo>
                  <a:pt x="1213098" y="370731"/>
                </a:lnTo>
                <a:lnTo>
                  <a:pt x="1213098" y="218889"/>
                </a:lnTo>
                <a:close/>
                <a:moveTo>
                  <a:pt x="1629184" y="214945"/>
                </a:moveTo>
                <a:lnTo>
                  <a:pt x="1924980" y="214945"/>
                </a:lnTo>
                <a:lnTo>
                  <a:pt x="1924980" y="256357"/>
                </a:lnTo>
                <a:lnTo>
                  <a:pt x="1905260" y="256357"/>
                </a:lnTo>
                <a:lnTo>
                  <a:pt x="1905260" y="283964"/>
                </a:lnTo>
                <a:lnTo>
                  <a:pt x="1936812" y="283964"/>
                </a:lnTo>
                <a:lnTo>
                  <a:pt x="1936812" y="325376"/>
                </a:lnTo>
                <a:lnTo>
                  <a:pt x="1905260" y="325376"/>
                </a:lnTo>
                <a:lnTo>
                  <a:pt x="1905260" y="414115"/>
                </a:lnTo>
                <a:lnTo>
                  <a:pt x="1782998" y="414115"/>
                </a:lnTo>
                <a:lnTo>
                  <a:pt x="1782998" y="370731"/>
                </a:lnTo>
                <a:lnTo>
                  <a:pt x="1855961" y="370731"/>
                </a:lnTo>
                <a:lnTo>
                  <a:pt x="1855961" y="325376"/>
                </a:lnTo>
                <a:lnTo>
                  <a:pt x="1619324" y="325376"/>
                </a:lnTo>
                <a:lnTo>
                  <a:pt x="1619324" y="283964"/>
                </a:lnTo>
                <a:lnTo>
                  <a:pt x="1855961" y="283964"/>
                </a:lnTo>
                <a:lnTo>
                  <a:pt x="1855961" y="256357"/>
                </a:lnTo>
                <a:lnTo>
                  <a:pt x="1629184" y="256357"/>
                </a:lnTo>
                <a:close/>
                <a:moveTo>
                  <a:pt x="2849835" y="151842"/>
                </a:moveTo>
                <a:lnTo>
                  <a:pt x="2849835" y="171562"/>
                </a:lnTo>
                <a:lnTo>
                  <a:pt x="2889274" y="171562"/>
                </a:lnTo>
                <a:lnTo>
                  <a:pt x="2889274" y="151842"/>
                </a:lnTo>
                <a:close/>
                <a:moveTo>
                  <a:pt x="2761096" y="151842"/>
                </a:moveTo>
                <a:lnTo>
                  <a:pt x="2761096" y="171562"/>
                </a:lnTo>
                <a:lnTo>
                  <a:pt x="2802508" y="171562"/>
                </a:lnTo>
                <a:lnTo>
                  <a:pt x="2802508" y="151842"/>
                </a:lnTo>
                <a:close/>
                <a:moveTo>
                  <a:pt x="2674329" y="151842"/>
                </a:moveTo>
                <a:lnTo>
                  <a:pt x="2674329" y="171562"/>
                </a:lnTo>
                <a:lnTo>
                  <a:pt x="2713769" y="171562"/>
                </a:lnTo>
                <a:lnTo>
                  <a:pt x="2713769" y="151842"/>
                </a:lnTo>
                <a:close/>
                <a:moveTo>
                  <a:pt x="1560165" y="141982"/>
                </a:moveTo>
                <a:lnTo>
                  <a:pt x="1587773" y="177478"/>
                </a:lnTo>
                <a:lnTo>
                  <a:pt x="1541833" y="250441"/>
                </a:lnTo>
                <a:lnTo>
                  <a:pt x="1568053" y="250441"/>
                </a:lnTo>
                <a:lnTo>
                  <a:pt x="1568053" y="414115"/>
                </a:lnTo>
                <a:lnTo>
                  <a:pt x="1520725" y="414115"/>
                </a:lnTo>
                <a:lnTo>
                  <a:pt x="1520725" y="283964"/>
                </a:lnTo>
                <a:lnTo>
                  <a:pt x="1491146" y="250441"/>
                </a:lnTo>
                <a:close/>
                <a:moveTo>
                  <a:pt x="2508684" y="138038"/>
                </a:moveTo>
                <a:lnTo>
                  <a:pt x="2579675" y="138038"/>
                </a:lnTo>
                <a:lnTo>
                  <a:pt x="2579675" y="319460"/>
                </a:lnTo>
                <a:lnTo>
                  <a:pt x="2634890" y="370731"/>
                </a:lnTo>
                <a:lnTo>
                  <a:pt x="2938574" y="370731"/>
                </a:lnTo>
                <a:lnTo>
                  <a:pt x="2938574" y="414115"/>
                </a:lnTo>
                <a:lnTo>
                  <a:pt x="2615170" y="414115"/>
                </a:lnTo>
                <a:lnTo>
                  <a:pt x="2561927" y="366787"/>
                </a:lnTo>
                <a:lnTo>
                  <a:pt x="2532347" y="420031"/>
                </a:lnTo>
                <a:lnTo>
                  <a:pt x="2500796" y="386507"/>
                </a:lnTo>
                <a:lnTo>
                  <a:pt x="2530375" y="327348"/>
                </a:lnTo>
                <a:lnTo>
                  <a:pt x="2530375" y="179450"/>
                </a:lnTo>
                <a:lnTo>
                  <a:pt x="2508684" y="179450"/>
                </a:lnTo>
                <a:close/>
                <a:moveTo>
                  <a:pt x="1682427" y="116347"/>
                </a:moveTo>
                <a:lnTo>
                  <a:pt x="1682427" y="145926"/>
                </a:lnTo>
                <a:lnTo>
                  <a:pt x="1877653" y="145926"/>
                </a:lnTo>
                <a:lnTo>
                  <a:pt x="1877653" y="116347"/>
                </a:lnTo>
                <a:close/>
                <a:moveTo>
                  <a:pt x="394171" y="112403"/>
                </a:moveTo>
                <a:lnTo>
                  <a:pt x="394171" y="214945"/>
                </a:lnTo>
                <a:lnTo>
                  <a:pt x="559817" y="214945"/>
                </a:lnTo>
                <a:lnTo>
                  <a:pt x="559817" y="112403"/>
                </a:lnTo>
                <a:close/>
                <a:moveTo>
                  <a:pt x="51271" y="112403"/>
                </a:moveTo>
                <a:lnTo>
                  <a:pt x="51271" y="214945"/>
                </a:lnTo>
                <a:lnTo>
                  <a:pt x="216917" y="214945"/>
                </a:lnTo>
                <a:lnTo>
                  <a:pt x="216917" y="112403"/>
                </a:lnTo>
                <a:close/>
                <a:moveTo>
                  <a:pt x="2849835" y="100571"/>
                </a:moveTo>
                <a:lnTo>
                  <a:pt x="2849835" y="122263"/>
                </a:lnTo>
                <a:lnTo>
                  <a:pt x="2889274" y="122263"/>
                </a:lnTo>
                <a:lnTo>
                  <a:pt x="2889274" y="100571"/>
                </a:lnTo>
                <a:close/>
                <a:moveTo>
                  <a:pt x="2761096" y="100571"/>
                </a:moveTo>
                <a:lnTo>
                  <a:pt x="2761096" y="122263"/>
                </a:lnTo>
                <a:lnTo>
                  <a:pt x="2802508" y="122263"/>
                </a:lnTo>
                <a:lnTo>
                  <a:pt x="2802508" y="100571"/>
                </a:lnTo>
                <a:close/>
                <a:moveTo>
                  <a:pt x="2674329" y="100571"/>
                </a:moveTo>
                <a:lnTo>
                  <a:pt x="2674329" y="122263"/>
                </a:lnTo>
                <a:lnTo>
                  <a:pt x="2713769" y="122263"/>
                </a:lnTo>
                <a:lnTo>
                  <a:pt x="2713769" y="100571"/>
                </a:lnTo>
                <a:close/>
                <a:moveTo>
                  <a:pt x="3083565" y="96627"/>
                </a:moveTo>
                <a:lnTo>
                  <a:pt x="3062808" y="244525"/>
                </a:lnTo>
                <a:lnTo>
                  <a:pt x="3088929" y="271112"/>
                </a:lnTo>
                <a:lnTo>
                  <a:pt x="3141687" y="199170"/>
                </a:lnTo>
                <a:lnTo>
                  <a:pt x="3141687" y="96627"/>
                </a:lnTo>
                <a:close/>
                <a:moveTo>
                  <a:pt x="2086145" y="96627"/>
                </a:moveTo>
                <a:lnTo>
                  <a:pt x="2057102" y="240581"/>
                </a:lnTo>
                <a:lnTo>
                  <a:pt x="2094860" y="270971"/>
                </a:lnTo>
                <a:lnTo>
                  <a:pt x="2165560" y="187338"/>
                </a:lnTo>
                <a:lnTo>
                  <a:pt x="2165560" y="96627"/>
                </a:lnTo>
                <a:close/>
                <a:moveTo>
                  <a:pt x="3277753" y="69019"/>
                </a:moveTo>
                <a:lnTo>
                  <a:pt x="3277753" y="167618"/>
                </a:lnTo>
                <a:lnTo>
                  <a:pt x="3394099" y="167618"/>
                </a:lnTo>
                <a:lnTo>
                  <a:pt x="3394099" y="69019"/>
                </a:lnTo>
                <a:close/>
                <a:moveTo>
                  <a:pt x="666080" y="67047"/>
                </a:moveTo>
                <a:lnTo>
                  <a:pt x="940184" y="67047"/>
                </a:lnTo>
                <a:lnTo>
                  <a:pt x="940184" y="110431"/>
                </a:lnTo>
                <a:lnTo>
                  <a:pt x="827782" y="110431"/>
                </a:lnTo>
                <a:lnTo>
                  <a:pt x="827782" y="384535"/>
                </a:lnTo>
                <a:lnTo>
                  <a:pt x="778482" y="384535"/>
                </a:lnTo>
                <a:lnTo>
                  <a:pt x="778482" y="110431"/>
                </a:lnTo>
                <a:lnTo>
                  <a:pt x="666080" y="110431"/>
                </a:lnTo>
                <a:close/>
                <a:moveTo>
                  <a:pt x="342900" y="67047"/>
                </a:moveTo>
                <a:lnTo>
                  <a:pt x="611088" y="67047"/>
                </a:lnTo>
                <a:lnTo>
                  <a:pt x="611088" y="260301"/>
                </a:lnTo>
                <a:lnTo>
                  <a:pt x="394171" y="260301"/>
                </a:lnTo>
                <a:lnTo>
                  <a:pt x="394171" y="384535"/>
                </a:lnTo>
                <a:lnTo>
                  <a:pt x="342900" y="384535"/>
                </a:lnTo>
                <a:close/>
                <a:moveTo>
                  <a:pt x="0" y="67047"/>
                </a:moveTo>
                <a:lnTo>
                  <a:pt x="268188" y="67047"/>
                </a:lnTo>
                <a:lnTo>
                  <a:pt x="268188" y="260301"/>
                </a:lnTo>
                <a:lnTo>
                  <a:pt x="51271" y="260301"/>
                </a:lnTo>
                <a:lnTo>
                  <a:pt x="51271" y="384535"/>
                </a:lnTo>
                <a:lnTo>
                  <a:pt x="0" y="384535"/>
                </a:lnTo>
                <a:close/>
                <a:moveTo>
                  <a:pt x="2761096" y="51272"/>
                </a:moveTo>
                <a:lnTo>
                  <a:pt x="2761096" y="72963"/>
                </a:lnTo>
                <a:lnTo>
                  <a:pt x="2802508" y="72963"/>
                </a:lnTo>
                <a:lnTo>
                  <a:pt x="2802508" y="51272"/>
                </a:lnTo>
                <a:close/>
                <a:moveTo>
                  <a:pt x="1682427" y="49300"/>
                </a:moveTo>
                <a:lnTo>
                  <a:pt x="1682427" y="76907"/>
                </a:lnTo>
                <a:lnTo>
                  <a:pt x="1877653" y="76907"/>
                </a:lnTo>
                <a:lnTo>
                  <a:pt x="1877653" y="49300"/>
                </a:lnTo>
                <a:close/>
                <a:moveTo>
                  <a:pt x="2258243" y="17748"/>
                </a:moveTo>
                <a:lnTo>
                  <a:pt x="2439665" y="17748"/>
                </a:lnTo>
                <a:lnTo>
                  <a:pt x="2366702" y="169590"/>
                </a:lnTo>
                <a:lnTo>
                  <a:pt x="2441637" y="169590"/>
                </a:lnTo>
                <a:lnTo>
                  <a:pt x="2441637" y="211001"/>
                </a:lnTo>
                <a:lnTo>
                  <a:pt x="2406141" y="211001"/>
                </a:lnTo>
                <a:lnTo>
                  <a:pt x="2406141" y="414115"/>
                </a:lnTo>
                <a:lnTo>
                  <a:pt x="2258243" y="414115"/>
                </a:lnTo>
                <a:lnTo>
                  <a:pt x="2258243" y="370731"/>
                </a:lnTo>
                <a:lnTo>
                  <a:pt x="2356842" y="370731"/>
                </a:lnTo>
                <a:lnTo>
                  <a:pt x="2356842" y="211001"/>
                </a:lnTo>
                <a:lnTo>
                  <a:pt x="2236551" y="211001"/>
                </a:lnTo>
                <a:lnTo>
                  <a:pt x="2236551" y="169590"/>
                </a:lnTo>
                <a:lnTo>
                  <a:pt x="2311486" y="169590"/>
                </a:lnTo>
                <a:lnTo>
                  <a:pt x="2364730" y="61131"/>
                </a:lnTo>
                <a:lnTo>
                  <a:pt x="2258243" y="61131"/>
                </a:lnTo>
                <a:close/>
                <a:moveTo>
                  <a:pt x="3540025" y="13804"/>
                </a:moveTo>
                <a:lnTo>
                  <a:pt x="3934420" y="13804"/>
                </a:lnTo>
                <a:lnTo>
                  <a:pt x="3934420" y="143954"/>
                </a:lnTo>
                <a:lnTo>
                  <a:pt x="3587353" y="143954"/>
                </a:lnTo>
                <a:lnTo>
                  <a:pt x="3587353" y="207057"/>
                </a:lnTo>
                <a:lnTo>
                  <a:pt x="3887093" y="207057"/>
                </a:lnTo>
                <a:lnTo>
                  <a:pt x="3887093" y="179450"/>
                </a:lnTo>
                <a:lnTo>
                  <a:pt x="3934420" y="191282"/>
                </a:lnTo>
                <a:lnTo>
                  <a:pt x="3934420" y="250441"/>
                </a:lnTo>
                <a:lnTo>
                  <a:pt x="3540025" y="250441"/>
                </a:lnTo>
                <a:lnTo>
                  <a:pt x="3540025" y="100571"/>
                </a:lnTo>
                <a:lnTo>
                  <a:pt x="3883149" y="100571"/>
                </a:lnTo>
                <a:lnTo>
                  <a:pt x="3883149" y="57188"/>
                </a:lnTo>
                <a:lnTo>
                  <a:pt x="3540025" y="57188"/>
                </a:lnTo>
                <a:close/>
                <a:moveTo>
                  <a:pt x="1631156" y="9860"/>
                </a:moveTo>
                <a:lnTo>
                  <a:pt x="1926952" y="9860"/>
                </a:lnTo>
                <a:lnTo>
                  <a:pt x="1926952" y="185366"/>
                </a:lnTo>
                <a:lnTo>
                  <a:pt x="1631156" y="185366"/>
                </a:lnTo>
                <a:close/>
                <a:moveTo>
                  <a:pt x="3050976" y="7888"/>
                </a:moveTo>
                <a:lnTo>
                  <a:pt x="3094360" y="19720"/>
                </a:lnTo>
                <a:lnTo>
                  <a:pt x="3089654" y="53244"/>
                </a:lnTo>
                <a:lnTo>
                  <a:pt x="3189014" y="53244"/>
                </a:lnTo>
                <a:lnTo>
                  <a:pt x="3189014" y="205086"/>
                </a:lnTo>
                <a:lnTo>
                  <a:pt x="3117730" y="300428"/>
                </a:lnTo>
                <a:lnTo>
                  <a:pt x="3173239" y="356927"/>
                </a:lnTo>
                <a:lnTo>
                  <a:pt x="3157463" y="398339"/>
                </a:lnTo>
                <a:lnTo>
                  <a:pt x="3092449" y="334241"/>
                </a:lnTo>
                <a:lnTo>
                  <a:pt x="3031256" y="416087"/>
                </a:lnTo>
                <a:lnTo>
                  <a:pt x="3011537" y="376647"/>
                </a:lnTo>
                <a:lnTo>
                  <a:pt x="3063538" y="305737"/>
                </a:lnTo>
                <a:lnTo>
                  <a:pt x="3017453" y="260301"/>
                </a:lnTo>
                <a:lnTo>
                  <a:pt x="3039191" y="96627"/>
                </a:lnTo>
                <a:lnTo>
                  <a:pt x="3013509" y="96627"/>
                </a:lnTo>
                <a:lnTo>
                  <a:pt x="3013509" y="53244"/>
                </a:lnTo>
                <a:lnTo>
                  <a:pt x="3044952" y="53244"/>
                </a:lnTo>
                <a:close/>
                <a:moveTo>
                  <a:pt x="2713769" y="7888"/>
                </a:moveTo>
                <a:lnTo>
                  <a:pt x="2761096" y="7888"/>
                </a:lnTo>
                <a:lnTo>
                  <a:pt x="2761096" y="21692"/>
                </a:lnTo>
                <a:lnTo>
                  <a:pt x="2802508" y="21692"/>
                </a:lnTo>
                <a:lnTo>
                  <a:pt x="2802508" y="7888"/>
                </a:lnTo>
                <a:lnTo>
                  <a:pt x="2849835" y="7888"/>
                </a:lnTo>
                <a:lnTo>
                  <a:pt x="2849835" y="21692"/>
                </a:lnTo>
                <a:lnTo>
                  <a:pt x="2940546" y="21692"/>
                </a:lnTo>
                <a:lnTo>
                  <a:pt x="2940546" y="51272"/>
                </a:lnTo>
                <a:lnTo>
                  <a:pt x="2849835" y="51272"/>
                </a:lnTo>
                <a:lnTo>
                  <a:pt x="2849835" y="72963"/>
                </a:lnTo>
                <a:lnTo>
                  <a:pt x="2938574" y="72963"/>
                </a:lnTo>
                <a:lnTo>
                  <a:pt x="2938574" y="199170"/>
                </a:lnTo>
                <a:lnTo>
                  <a:pt x="2625030" y="199170"/>
                </a:lnTo>
                <a:lnTo>
                  <a:pt x="2625030" y="72963"/>
                </a:lnTo>
                <a:lnTo>
                  <a:pt x="2713769" y="72963"/>
                </a:lnTo>
                <a:lnTo>
                  <a:pt x="2713769" y="51272"/>
                </a:lnTo>
                <a:lnTo>
                  <a:pt x="2625030" y="51272"/>
                </a:lnTo>
                <a:lnTo>
                  <a:pt x="2625030" y="21692"/>
                </a:lnTo>
                <a:lnTo>
                  <a:pt x="2713769" y="21692"/>
                </a:lnTo>
                <a:close/>
                <a:moveTo>
                  <a:pt x="2055130" y="7888"/>
                </a:moveTo>
                <a:lnTo>
                  <a:pt x="2102457" y="15776"/>
                </a:lnTo>
                <a:lnTo>
                  <a:pt x="2094898" y="53244"/>
                </a:lnTo>
                <a:lnTo>
                  <a:pt x="2214860" y="53244"/>
                </a:lnTo>
                <a:lnTo>
                  <a:pt x="2214860" y="201142"/>
                </a:lnTo>
                <a:lnTo>
                  <a:pt x="2129617" y="298947"/>
                </a:lnTo>
                <a:lnTo>
                  <a:pt x="2218804" y="370731"/>
                </a:lnTo>
                <a:lnTo>
                  <a:pt x="2201056" y="414115"/>
                </a:lnTo>
                <a:lnTo>
                  <a:pt x="2099612" y="333373"/>
                </a:lnTo>
                <a:lnTo>
                  <a:pt x="2027522" y="416087"/>
                </a:lnTo>
                <a:lnTo>
                  <a:pt x="2003859" y="378619"/>
                </a:lnTo>
                <a:lnTo>
                  <a:pt x="2065237" y="306014"/>
                </a:lnTo>
                <a:lnTo>
                  <a:pt x="2007803" y="260301"/>
                </a:lnTo>
                <a:lnTo>
                  <a:pt x="2038491" y="96627"/>
                </a:lnTo>
                <a:lnTo>
                  <a:pt x="2003859" y="96627"/>
                </a:lnTo>
                <a:lnTo>
                  <a:pt x="2003859" y="53244"/>
                </a:lnTo>
                <a:lnTo>
                  <a:pt x="2046626" y="53244"/>
                </a:lnTo>
                <a:close/>
                <a:moveTo>
                  <a:pt x="2538263" y="5916"/>
                </a:moveTo>
                <a:lnTo>
                  <a:pt x="2607283" y="78879"/>
                </a:lnTo>
                <a:lnTo>
                  <a:pt x="2581647" y="118319"/>
                </a:lnTo>
                <a:lnTo>
                  <a:pt x="2512628" y="45356"/>
                </a:lnTo>
                <a:close/>
                <a:moveTo>
                  <a:pt x="1159854" y="5916"/>
                </a:moveTo>
                <a:lnTo>
                  <a:pt x="1209154" y="5916"/>
                </a:lnTo>
                <a:lnTo>
                  <a:pt x="1209154" y="55216"/>
                </a:lnTo>
                <a:lnTo>
                  <a:pt x="1268313" y="55216"/>
                </a:lnTo>
                <a:lnTo>
                  <a:pt x="1268313" y="96627"/>
                </a:lnTo>
                <a:lnTo>
                  <a:pt x="1209154" y="96627"/>
                </a:lnTo>
                <a:lnTo>
                  <a:pt x="1209154" y="175506"/>
                </a:lnTo>
                <a:lnTo>
                  <a:pt x="1262397" y="175506"/>
                </a:lnTo>
                <a:lnTo>
                  <a:pt x="1262397" y="414115"/>
                </a:lnTo>
                <a:lnTo>
                  <a:pt x="1108583" y="414115"/>
                </a:lnTo>
                <a:lnTo>
                  <a:pt x="1108583" y="175506"/>
                </a:lnTo>
                <a:lnTo>
                  <a:pt x="1159854" y="175506"/>
                </a:lnTo>
                <a:lnTo>
                  <a:pt x="1159854" y="96627"/>
                </a:lnTo>
                <a:lnTo>
                  <a:pt x="1098723" y="96627"/>
                </a:lnTo>
                <a:lnTo>
                  <a:pt x="1098723" y="55216"/>
                </a:lnTo>
                <a:lnTo>
                  <a:pt x="1159854" y="55216"/>
                </a:lnTo>
                <a:close/>
                <a:moveTo>
                  <a:pt x="1041536" y="5916"/>
                </a:moveTo>
                <a:lnTo>
                  <a:pt x="1079004" y="33524"/>
                </a:lnTo>
                <a:lnTo>
                  <a:pt x="1035664" y="191282"/>
                </a:lnTo>
                <a:lnTo>
                  <a:pt x="1065200" y="191282"/>
                </a:lnTo>
                <a:lnTo>
                  <a:pt x="1065200" y="414115"/>
                </a:lnTo>
                <a:lnTo>
                  <a:pt x="1015900" y="414115"/>
                </a:lnTo>
                <a:lnTo>
                  <a:pt x="1015900" y="202802"/>
                </a:lnTo>
                <a:lnTo>
                  <a:pt x="992237" y="185366"/>
                </a:lnTo>
                <a:close/>
                <a:moveTo>
                  <a:pt x="1291977" y="1972"/>
                </a:moveTo>
                <a:lnTo>
                  <a:pt x="1319226" y="17748"/>
                </a:lnTo>
                <a:lnTo>
                  <a:pt x="1431987" y="17748"/>
                </a:lnTo>
                <a:lnTo>
                  <a:pt x="1431987" y="61131"/>
                </a:lnTo>
                <a:lnTo>
                  <a:pt x="1420155" y="61131"/>
                </a:lnTo>
                <a:lnTo>
                  <a:pt x="1420155" y="159730"/>
                </a:lnTo>
                <a:lnTo>
                  <a:pt x="1372697" y="273102"/>
                </a:lnTo>
                <a:lnTo>
                  <a:pt x="1426071" y="376647"/>
                </a:lnTo>
                <a:lnTo>
                  <a:pt x="1402407" y="414115"/>
                </a:lnTo>
                <a:lnTo>
                  <a:pt x="1353003" y="320149"/>
                </a:lnTo>
                <a:lnTo>
                  <a:pt x="1313668" y="414115"/>
                </a:lnTo>
                <a:lnTo>
                  <a:pt x="1286061" y="376647"/>
                </a:lnTo>
                <a:lnTo>
                  <a:pt x="1328790" y="274097"/>
                </a:lnTo>
                <a:lnTo>
                  <a:pt x="1301837" y="222833"/>
                </a:lnTo>
                <a:lnTo>
                  <a:pt x="1327472" y="185366"/>
                </a:lnTo>
                <a:lnTo>
                  <a:pt x="1348646" y="226443"/>
                </a:lnTo>
                <a:lnTo>
                  <a:pt x="1374800" y="163674"/>
                </a:lnTo>
                <a:lnTo>
                  <a:pt x="1374800" y="61131"/>
                </a:lnTo>
                <a:lnTo>
                  <a:pt x="1326669" y="61131"/>
                </a:lnTo>
                <a:lnTo>
                  <a:pt x="1317612" y="183394"/>
                </a:lnTo>
                <a:lnTo>
                  <a:pt x="1280145" y="161702"/>
                </a:lnTo>
                <a:close/>
                <a:moveTo>
                  <a:pt x="3360576" y="0"/>
                </a:moveTo>
                <a:lnTo>
                  <a:pt x="3368464" y="25636"/>
                </a:lnTo>
                <a:lnTo>
                  <a:pt x="3441427" y="25636"/>
                </a:lnTo>
                <a:lnTo>
                  <a:pt x="3441427" y="211001"/>
                </a:lnTo>
                <a:lnTo>
                  <a:pt x="3277753" y="211001"/>
                </a:lnTo>
                <a:lnTo>
                  <a:pt x="3277753" y="315516"/>
                </a:lnTo>
                <a:lnTo>
                  <a:pt x="3230426" y="414115"/>
                </a:lnTo>
                <a:lnTo>
                  <a:pt x="3187042" y="406227"/>
                </a:lnTo>
                <a:lnTo>
                  <a:pt x="3228454" y="317488"/>
                </a:lnTo>
                <a:lnTo>
                  <a:pt x="3228454" y="25636"/>
                </a:lnTo>
                <a:lnTo>
                  <a:pt x="3313249" y="25636"/>
                </a:lnTo>
                <a:lnTo>
                  <a:pt x="3307333" y="7888"/>
                </a:lnTo>
                <a:close/>
                <a:moveTo>
                  <a:pt x="1560165" y="0"/>
                </a:moveTo>
                <a:lnTo>
                  <a:pt x="1587773" y="35496"/>
                </a:lnTo>
                <a:lnTo>
                  <a:pt x="1524669" y="138038"/>
                </a:lnTo>
                <a:lnTo>
                  <a:pt x="1495090" y="104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18" dur="250" fill="hold"/>
                                        <p:tgtEl>
                                          <p:spTgt spid="3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9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20" dur="25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1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6 1.48148E-006 L 0.06901 1.48148E-006 E">
                                      <p:cBhvr>
                                        <p:cTn id="1122" dur="5500" fill="hold"/>
                                        <p:tgtEl>
                                          <p:spTgt spid="3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3.33333E-006 L 0.09154 3.33333E-006 E">
                                      <p:cBhvr>
                                        <p:cTn id="1124" dur="6500" fill="hold"/>
                                        <p:tgtEl>
                                          <p:spTgt spid="3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2.96296E-006 L 0.08295 2.96296E-006 E">
                                      <p:cBhvr>
                                        <p:cTn id="1126" dur="5750" fill="hold"/>
                                        <p:tgtEl>
                                          <p:spTgt spid="3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autoRev="1" nodeType="withEffect" fill="hold" presetClass="path" presetID="37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0.00093 L 0.00105 0.00324 C 0.0017 0.00324 0.003 0.00139 0.00339 0.00093 E">
                                      <p:cBhvr>
                                        <p:cTn id="1144" dur="500" fill="hold"/>
                                        <p:tgtEl>
                                          <p:spTgt spid="3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path" presetID="37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0.00093 L 0.00105 0.00324 C 0.0017 0.00324 0.003 0.00139 0.00339 0.00093 E">
                                      <p:cBhvr>
                                        <p:cTn id="1146" dur="500" fill="hold"/>
                                        <p:tgtEl>
                                          <p:spTgt spid="3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矩形 90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3" name="文本框 78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344662" y="17748"/>
                </a:moveTo>
                <a:lnTo>
                  <a:pt x="1662149" y="17748"/>
                </a:lnTo>
                <a:cubicBezTo>
                  <a:pt x="1631913" y="79536"/>
                  <a:pt x="1602990" y="140668"/>
                  <a:pt x="1575383" y="201141"/>
                </a:cubicBezTo>
                <a:cubicBezTo>
                  <a:pt x="1547775" y="261615"/>
                  <a:pt x="1518853" y="322746"/>
                  <a:pt x="1488616" y="384535"/>
                </a:cubicBezTo>
                <a:lnTo>
                  <a:pt x="1433401" y="384535"/>
                </a:lnTo>
                <a:lnTo>
                  <a:pt x="1585242" y="61131"/>
                </a:lnTo>
                <a:lnTo>
                  <a:pt x="1344662" y="6113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4" name="文本框 77"/>
          <p:cNvSpPr/>
          <p:nvPr/>
        </p:nvSpPr>
        <p:spPr>
          <a:xfrm>
            <a:off x="1130400" y="1797120"/>
            <a:ext cx="3444840" cy="415800"/>
          </a:xfrm>
          <a:custGeom>
            <a:avLst/>
            <a:gdLst/>
            <a:ahLst/>
            <a:rect l="l" t="t" r="r" b="b"/>
            <a:pathLst>
              <a:path w="3443399" h="416087">
                <a:moveTo>
                  <a:pt x="2275991" y="297768"/>
                </a:moveTo>
                <a:lnTo>
                  <a:pt x="2275991" y="372703"/>
                </a:lnTo>
                <a:lnTo>
                  <a:pt x="2386421" y="372703"/>
                </a:lnTo>
                <a:lnTo>
                  <a:pt x="2386421" y="297768"/>
                </a:lnTo>
                <a:close/>
                <a:moveTo>
                  <a:pt x="1747502" y="234665"/>
                </a:moveTo>
                <a:lnTo>
                  <a:pt x="1747502" y="276077"/>
                </a:lnTo>
                <a:lnTo>
                  <a:pt x="1867793" y="276077"/>
                </a:lnTo>
                <a:lnTo>
                  <a:pt x="1867793" y="234665"/>
                </a:lnTo>
                <a:close/>
                <a:moveTo>
                  <a:pt x="3173239" y="195226"/>
                </a:moveTo>
                <a:lnTo>
                  <a:pt x="3173239" y="256357"/>
                </a:lnTo>
                <a:lnTo>
                  <a:pt x="3289585" y="256357"/>
                </a:lnTo>
                <a:lnTo>
                  <a:pt x="3289585" y="195226"/>
                </a:lnTo>
                <a:close/>
                <a:moveTo>
                  <a:pt x="2275991" y="175506"/>
                </a:moveTo>
                <a:lnTo>
                  <a:pt x="2275991" y="254385"/>
                </a:lnTo>
                <a:lnTo>
                  <a:pt x="2386421" y="254385"/>
                </a:lnTo>
                <a:lnTo>
                  <a:pt x="2386421" y="175506"/>
                </a:lnTo>
                <a:close/>
                <a:moveTo>
                  <a:pt x="1747502" y="149870"/>
                </a:moveTo>
                <a:lnTo>
                  <a:pt x="1747502" y="191282"/>
                </a:lnTo>
                <a:lnTo>
                  <a:pt x="1867793" y="191282"/>
                </a:lnTo>
                <a:lnTo>
                  <a:pt x="1867793" y="149870"/>
                </a:lnTo>
                <a:close/>
                <a:moveTo>
                  <a:pt x="2025550" y="126207"/>
                </a:moveTo>
                <a:lnTo>
                  <a:pt x="2063018" y="153814"/>
                </a:lnTo>
                <a:lnTo>
                  <a:pt x="2039354" y="416087"/>
                </a:lnTo>
                <a:lnTo>
                  <a:pt x="2003859" y="388479"/>
                </a:lnTo>
                <a:close/>
                <a:moveTo>
                  <a:pt x="394171" y="114375"/>
                </a:moveTo>
                <a:lnTo>
                  <a:pt x="394171" y="216917"/>
                </a:lnTo>
                <a:lnTo>
                  <a:pt x="559817" y="216917"/>
                </a:lnTo>
                <a:lnTo>
                  <a:pt x="559817" y="114375"/>
                </a:lnTo>
                <a:close/>
                <a:moveTo>
                  <a:pt x="51271" y="114375"/>
                </a:moveTo>
                <a:lnTo>
                  <a:pt x="51271" y="216917"/>
                </a:lnTo>
                <a:lnTo>
                  <a:pt x="216917" y="216917"/>
                </a:lnTo>
                <a:lnTo>
                  <a:pt x="216917" y="114375"/>
                </a:lnTo>
                <a:close/>
                <a:moveTo>
                  <a:pt x="3187042" y="94655"/>
                </a:moveTo>
                <a:lnTo>
                  <a:pt x="3215636" y="151842"/>
                </a:lnTo>
                <a:lnTo>
                  <a:pt x="3249159" y="151842"/>
                </a:lnTo>
                <a:lnTo>
                  <a:pt x="3277753" y="94655"/>
                </a:lnTo>
                <a:lnTo>
                  <a:pt x="3325080" y="106487"/>
                </a:lnTo>
                <a:lnTo>
                  <a:pt x="3302403" y="151842"/>
                </a:lnTo>
                <a:lnTo>
                  <a:pt x="3338884" y="151842"/>
                </a:lnTo>
                <a:lnTo>
                  <a:pt x="3338884" y="299740"/>
                </a:lnTo>
                <a:lnTo>
                  <a:pt x="3301417" y="299740"/>
                </a:lnTo>
                <a:lnTo>
                  <a:pt x="3301417" y="372703"/>
                </a:lnTo>
                <a:lnTo>
                  <a:pt x="3338884" y="372703"/>
                </a:lnTo>
                <a:lnTo>
                  <a:pt x="3338884" y="416087"/>
                </a:lnTo>
                <a:lnTo>
                  <a:pt x="3254089" y="416087"/>
                </a:lnTo>
                <a:lnTo>
                  <a:pt x="3254089" y="299740"/>
                </a:lnTo>
                <a:lnTo>
                  <a:pt x="3216622" y="299740"/>
                </a:lnTo>
                <a:lnTo>
                  <a:pt x="3157463" y="416087"/>
                </a:lnTo>
                <a:lnTo>
                  <a:pt x="3112107" y="408199"/>
                </a:lnTo>
                <a:lnTo>
                  <a:pt x="3165351" y="299740"/>
                </a:lnTo>
                <a:lnTo>
                  <a:pt x="3123939" y="299740"/>
                </a:lnTo>
                <a:lnTo>
                  <a:pt x="3123939" y="151842"/>
                </a:lnTo>
                <a:lnTo>
                  <a:pt x="3162393" y="151842"/>
                </a:lnTo>
                <a:lnTo>
                  <a:pt x="3139715" y="106487"/>
                </a:lnTo>
                <a:close/>
                <a:moveTo>
                  <a:pt x="3021397" y="94655"/>
                </a:moveTo>
                <a:lnTo>
                  <a:pt x="3070696" y="94655"/>
                </a:lnTo>
                <a:lnTo>
                  <a:pt x="3070696" y="416087"/>
                </a:lnTo>
                <a:lnTo>
                  <a:pt x="3021397" y="416087"/>
                </a:lnTo>
                <a:close/>
                <a:moveTo>
                  <a:pt x="1226902" y="74935"/>
                </a:moveTo>
                <a:lnTo>
                  <a:pt x="1226902" y="159730"/>
                </a:lnTo>
                <a:lnTo>
                  <a:pt x="1282117" y="159730"/>
                </a:lnTo>
                <a:lnTo>
                  <a:pt x="1282117" y="74935"/>
                </a:lnTo>
                <a:close/>
                <a:moveTo>
                  <a:pt x="994209" y="70991"/>
                </a:moveTo>
                <a:lnTo>
                  <a:pt x="1130275" y="70991"/>
                </a:lnTo>
                <a:lnTo>
                  <a:pt x="1065802" y="193856"/>
                </a:lnTo>
                <a:lnTo>
                  <a:pt x="1090538" y="218592"/>
                </a:lnTo>
                <a:lnTo>
                  <a:pt x="1118443" y="147898"/>
                </a:lnTo>
                <a:lnTo>
                  <a:pt x="1140135" y="189310"/>
                </a:lnTo>
                <a:lnTo>
                  <a:pt x="1118375" y="246429"/>
                </a:lnTo>
                <a:lnTo>
                  <a:pt x="1138163" y="266217"/>
                </a:lnTo>
                <a:lnTo>
                  <a:pt x="1128303" y="309600"/>
                </a:lnTo>
                <a:lnTo>
                  <a:pt x="1063228" y="246038"/>
                </a:lnTo>
                <a:lnTo>
                  <a:pt x="1063228" y="416087"/>
                </a:lnTo>
                <a:lnTo>
                  <a:pt x="1015900" y="416087"/>
                </a:lnTo>
                <a:lnTo>
                  <a:pt x="1015900" y="267160"/>
                </a:lnTo>
                <a:lnTo>
                  <a:pt x="980405" y="256357"/>
                </a:lnTo>
                <a:lnTo>
                  <a:pt x="1059284" y="112403"/>
                </a:lnTo>
                <a:lnTo>
                  <a:pt x="994209" y="112403"/>
                </a:lnTo>
                <a:close/>
                <a:moveTo>
                  <a:pt x="666080" y="69019"/>
                </a:moveTo>
                <a:lnTo>
                  <a:pt x="940184" y="69019"/>
                </a:lnTo>
                <a:lnTo>
                  <a:pt x="940184" y="112403"/>
                </a:lnTo>
                <a:lnTo>
                  <a:pt x="827782" y="112403"/>
                </a:lnTo>
                <a:lnTo>
                  <a:pt x="827782" y="386507"/>
                </a:lnTo>
                <a:lnTo>
                  <a:pt x="778482" y="386507"/>
                </a:lnTo>
                <a:lnTo>
                  <a:pt x="778482" y="112403"/>
                </a:lnTo>
                <a:lnTo>
                  <a:pt x="666080" y="112403"/>
                </a:lnTo>
                <a:close/>
                <a:moveTo>
                  <a:pt x="342900" y="69019"/>
                </a:moveTo>
                <a:lnTo>
                  <a:pt x="611088" y="69019"/>
                </a:lnTo>
                <a:lnTo>
                  <a:pt x="611088" y="262273"/>
                </a:lnTo>
                <a:lnTo>
                  <a:pt x="394171" y="262273"/>
                </a:lnTo>
                <a:lnTo>
                  <a:pt x="394171" y="386507"/>
                </a:lnTo>
                <a:lnTo>
                  <a:pt x="342900" y="386507"/>
                </a:lnTo>
                <a:close/>
                <a:moveTo>
                  <a:pt x="0" y="69019"/>
                </a:moveTo>
                <a:lnTo>
                  <a:pt x="268188" y="69019"/>
                </a:lnTo>
                <a:lnTo>
                  <a:pt x="268188" y="262273"/>
                </a:lnTo>
                <a:lnTo>
                  <a:pt x="51271" y="262273"/>
                </a:lnTo>
                <a:lnTo>
                  <a:pt x="51271" y="386507"/>
                </a:lnTo>
                <a:lnTo>
                  <a:pt x="0" y="386507"/>
                </a:lnTo>
                <a:close/>
                <a:moveTo>
                  <a:pt x="1568316" y="63103"/>
                </a:moveTo>
                <a:lnTo>
                  <a:pt x="1552408" y="106487"/>
                </a:lnTo>
                <a:lnTo>
                  <a:pt x="1830325" y="106487"/>
                </a:lnTo>
                <a:lnTo>
                  <a:pt x="1844129" y="63103"/>
                </a:lnTo>
                <a:close/>
                <a:moveTo>
                  <a:pt x="2275991" y="59160"/>
                </a:moveTo>
                <a:lnTo>
                  <a:pt x="2275991" y="132123"/>
                </a:lnTo>
                <a:lnTo>
                  <a:pt x="2386421" y="132123"/>
                </a:lnTo>
                <a:lnTo>
                  <a:pt x="2386421" y="59160"/>
                </a:lnTo>
                <a:close/>
                <a:moveTo>
                  <a:pt x="3169295" y="19720"/>
                </a:moveTo>
                <a:lnTo>
                  <a:pt x="3443399" y="19720"/>
                </a:lnTo>
                <a:lnTo>
                  <a:pt x="3443399" y="416087"/>
                </a:lnTo>
                <a:lnTo>
                  <a:pt x="3384240" y="416087"/>
                </a:lnTo>
                <a:lnTo>
                  <a:pt x="3384240" y="372703"/>
                </a:lnTo>
                <a:lnTo>
                  <a:pt x="3394099" y="372703"/>
                </a:lnTo>
                <a:lnTo>
                  <a:pt x="3394099" y="63103"/>
                </a:lnTo>
                <a:lnTo>
                  <a:pt x="3169295" y="63103"/>
                </a:lnTo>
                <a:close/>
                <a:moveTo>
                  <a:pt x="2226692" y="13804"/>
                </a:moveTo>
                <a:lnTo>
                  <a:pt x="2433749" y="13804"/>
                </a:lnTo>
                <a:lnTo>
                  <a:pt x="2433749" y="416087"/>
                </a:lnTo>
                <a:lnTo>
                  <a:pt x="2226692" y="416087"/>
                </a:lnTo>
                <a:close/>
                <a:moveTo>
                  <a:pt x="2753208" y="7888"/>
                </a:moveTo>
                <a:lnTo>
                  <a:pt x="2796592" y="17748"/>
                </a:lnTo>
                <a:lnTo>
                  <a:pt x="2788123" y="43384"/>
                </a:lnTo>
                <a:lnTo>
                  <a:pt x="2936602" y="43384"/>
                </a:lnTo>
                <a:lnTo>
                  <a:pt x="2936602" y="86767"/>
                </a:lnTo>
                <a:lnTo>
                  <a:pt x="2773791" y="86767"/>
                </a:lnTo>
                <a:lnTo>
                  <a:pt x="2752944" y="149870"/>
                </a:lnTo>
                <a:lnTo>
                  <a:pt x="2946462" y="149870"/>
                </a:lnTo>
                <a:lnTo>
                  <a:pt x="2946462" y="191282"/>
                </a:lnTo>
                <a:lnTo>
                  <a:pt x="2739264" y="191282"/>
                </a:lnTo>
                <a:lnTo>
                  <a:pt x="2723629" y="238609"/>
                </a:lnTo>
                <a:lnTo>
                  <a:pt x="2946462" y="238609"/>
                </a:lnTo>
                <a:lnTo>
                  <a:pt x="2878242" y="369363"/>
                </a:lnTo>
                <a:lnTo>
                  <a:pt x="2942518" y="376647"/>
                </a:lnTo>
                <a:lnTo>
                  <a:pt x="2928714" y="414115"/>
                </a:lnTo>
                <a:lnTo>
                  <a:pt x="2632918" y="382563"/>
                </a:lnTo>
                <a:lnTo>
                  <a:pt x="2646722" y="343124"/>
                </a:lnTo>
                <a:lnTo>
                  <a:pt x="2831894" y="364110"/>
                </a:lnTo>
                <a:lnTo>
                  <a:pt x="2877443" y="280020"/>
                </a:lnTo>
                <a:lnTo>
                  <a:pt x="2660526" y="280020"/>
                </a:lnTo>
                <a:lnTo>
                  <a:pt x="2690748" y="191282"/>
                </a:lnTo>
                <a:lnTo>
                  <a:pt x="2627002" y="191282"/>
                </a:lnTo>
                <a:lnTo>
                  <a:pt x="2627002" y="149870"/>
                </a:lnTo>
                <a:lnTo>
                  <a:pt x="2704852" y="149870"/>
                </a:lnTo>
                <a:lnTo>
                  <a:pt x="2726344" y="86767"/>
                </a:lnTo>
                <a:lnTo>
                  <a:pt x="2638834" y="86767"/>
                </a:lnTo>
                <a:lnTo>
                  <a:pt x="2638834" y="43384"/>
                </a:lnTo>
                <a:lnTo>
                  <a:pt x="2741119" y="43384"/>
                </a:lnTo>
                <a:close/>
                <a:moveTo>
                  <a:pt x="2563899" y="7888"/>
                </a:moveTo>
                <a:lnTo>
                  <a:pt x="2601366" y="35496"/>
                </a:lnTo>
                <a:lnTo>
                  <a:pt x="2551092" y="193254"/>
                </a:lnTo>
                <a:lnTo>
                  <a:pt x="2579675" y="193254"/>
                </a:lnTo>
                <a:lnTo>
                  <a:pt x="2579675" y="416087"/>
                </a:lnTo>
                <a:lnTo>
                  <a:pt x="2530375" y="416087"/>
                </a:lnTo>
                <a:lnTo>
                  <a:pt x="2530375" y="204774"/>
                </a:lnTo>
                <a:lnTo>
                  <a:pt x="2506712" y="187338"/>
                </a:lnTo>
                <a:close/>
                <a:moveTo>
                  <a:pt x="2102457" y="7888"/>
                </a:moveTo>
                <a:lnTo>
                  <a:pt x="2149785" y="7888"/>
                </a:lnTo>
                <a:lnTo>
                  <a:pt x="2149785" y="55216"/>
                </a:lnTo>
                <a:lnTo>
                  <a:pt x="2189224" y="55216"/>
                </a:lnTo>
                <a:lnTo>
                  <a:pt x="2189224" y="98599"/>
                </a:lnTo>
                <a:lnTo>
                  <a:pt x="2149785" y="98599"/>
                </a:lnTo>
                <a:lnTo>
                  <a:pt x="2149785" y="189310"/>
                </a:lnTo>
                <a:lnTo>
                  <a:pt x="2195140" y="228749"/>
                </a:lnTo>
                <a:lnTo>
                  <a:pt x="2185280" y="276077"/>
                </a:lnTo>
                <a:lnTo>
                  <a:pt x="2149785" y="244525"/>
                </a:lnTo>
                <a:lnTo>
                  <a:pt x="2149785" y="416087"/>
                </a:lnTo>
                <a:lnTo>
                  <a:pt x="2102457" y="416087"/>
                </a:lnTo>
                <a:lnTo>
                  <a:pt x="2102457" y="96627"/>
                </a:lnTo>
                <a:lnTo>
                  <a:pt x="2003859" y="96627"/>
                </a:lnTo>
                <a:lnTo>
                  <a:pt x="2003859" y="55216"/>
                </a:lnTo>
                <a:lnTo>
                  <a:pt x="2102457" y="55216"/>
                </a:lnTo>
                <a:close/>
                <a:moveTo>
                  <a:pt x="1063228" y="7888"/>
                </a:moveTo>
                <a:lnTo>
                  <a:pt x="1106611" y="47328"/>
                </a:lnTo>
                <a:lnTo>
                  <a:pt x="1059284" y="63103"/>
                </a:lnTo>
                <a:lnTo>
                  <a:pt x="1013929" y="21692"/>
                </a:lnTo>
                <a:close/>
                <a:moveTo>
                  <a:pt x="1282117" y="5916"/>
                </a:moveTo>
                <a:lnTo>
                  <a:pt x="1329444" y="5916"/>
                </a:lnTo>
                <a:lnTo>
                  <a:pt x="1329444" y="31552"/>
                </a:lnTo>
                <a:lnTo>
                  <a:pt x="1428043" y="31552"/>
                </a:lnTo>
                <a:lnTo>
                  <a:pt x="1414239" y="136066"/>
                </a:lnTo>
                <a:lnTo>
                  <a:pt x="1372828" y="118319"/>
                </a:lnTo>
                <a:lnTo>
                  <a:pt x="1376771" y="74935"/>
                </a:lnTo>
                <a:lnTo>
                  <a:pt x="1329444" y="74935"/>
                </a:lnTo>
                <a:lnTo>
                  <a:pt x="1329444" y="159730"/>
                </a:lnTo>
                <a:lnTo>
                  <a:pt x="1422127" y="159730"/>
                </a:lnTo>
                <a:lnTo>
                  <a:pt x="1422127" y="240581"/>
                </a:lnTo>
                <a:lnTo>
                  <a:pt x="1357796" y="311266"/>
                </a:lnTo>
                <a:lnTo>
                  <a:pt x="1431987" y="396367"/>
                </a:lnTo>
                <a:lnTo>
                  <a:pt x="1392547" y="416087"/>
                </a:lnTo>
                <a:lnTo>
                  <a:pt x="1328811" y="343113"/>
                </a:lnTo>
                <a:lnTo>
                  <a:pt x="1262397" y="416087"/>
                </a:lnTo>
                <a:lnTo>
                  <a:pt x="1222958" y="396367"/>
                </a:lnTo>
                <a:lnTo>
                  <a:pt x="1300033" y="310164"/>
                </a:lnTo>
                <a:lnTo>
                  <a:pt x="1256481" y="260301"/>
                </a:lnTo>
                <a:lnTo>
                  <a:pt x="1297893" y="242553"/>
                </a:lnTo>
                <a:lnTo>
                  <a:pt x="1328793" y="277998"/>
                </a:lnTo>
                <a:lnTo>
                  <a:pt x="1372828" y="228749"/>
                </a:lnTo>
                <a:lnTo>
                  <a:pt x="1372828" y="205086"/>
                </a:lnTo>
                <a:lnTo>
                  <a:pt x="1226902" y="205086"/>
                </a:lnTo>
                <a:lnTo>
                  <a:pt x="1226902" y="311572"/>
                </a:lnTo>
                <a:lnTo>
                  <a:pt x="1181546" y="400311"/>
                </a:lnTo>
                <a:lnTo>
                  <a:pt x="1136191" y="390451"/>
                </a:lnTo>
                <a:lnTo>
                  <a:pt x="1179574" y="301712"/>
                </a:lnTo>
                <a:lnTo>
                  <a:pt x="1179574" y="31552"/>
                </a:lnTo>
                <a:lnTo>
                  <a:pt x="1282117" y="31552"/>
                </a:lnTo>
                <a:close/>
                <a:moveTo>
                  <a:pt x="1544389" y="1972"/>
                </a:moveTo>
                <a:lnTo>
                  <a:pt x="1565686" y="19720"/>
                </a:lnTo>
                <a:lnTo>
                  <a:pt x="1909204" y="19720"/>
                </a:lnTo>
                <a:lnTo>
                  <a:pt x="1881596" y="106487"/>
                </a:lnTo>
                <a:lnTo>
                  <a:pt x="1915120" y="106487"/>
                </a:lnTo>
                <a:lnTo>
                  <a:pt x="1915120" y="191282"/>
                </a:lnTo>
                <a:lnTo>
                  <a:pt x="1936812" y="191282"/>
                </a:lnTo>
                <a:lnTo>
                  <a:pt x="1936812" y="234665"/>
                </a:lnTo>
                <a:lnTo>
                  <a:pt x="1915120" y="234665"/>
                </a:lnTo>
                <a:lnTo>
                  <a:pt x="1915120" y="317488"/>
                </a:lnTo>
                <a:lnTo>
                  <a:pt x="1747502" y="317488"/>
                </a:lnTo>
                <a:lnTo>
                  <a:pt x="1747502" y="416087"/>
                </a:lnTo>
                <a:lnTo>
                  <a:pt x="1625240" y="416087"/>
                </a:lnTo>
                <a:lnTo>
                  <a:pt x="1625240" y="374675"/>
                </a:lnTo>
                <a:lnTo>
                  <a:pt x="1698203" y="374675"/>
                </a:lnTo>
                <a:lnTo>
                  <a:pt x="1698203" y="317488"/>
                </a:lnTo>
                <a:lnTo>
                  <a:pt x="1520725" y="317488"/>
                </a:lnTo>
                <a:lnTo>
                  <a:pt x="1520725" y="276077"/>
                </a:lnTo>
                <a:lnTo>
                  <a:pt x="1698203" y="276077"/>
                </a:lnTo>
                <a:lnTo>
                  <a:pt x="1698203" y="234665"/>
                </a:lnTo>
                <a:lnTo>
                  <a:pt x="1504950" y="234665"/>
                </a:lnTo>
                <a:lnTo>
                  <a:pt x="1504950" y="191282"/>
                </a:lnTo>
                <a:lnTo>
                  <a:pt x="1698203" y="191282"/>
                </a:lnTo>
                <a:lnTo>
                  <a:pt x="1698203" y="149870"/>
                </a:lnTo>
                <a:lnTo>
                  <a:pt x="1536501" y="149870"/>
                </a:lnTo>
                <a:lnTo>
                  <a:pt x="1520725" y="149870"/>
                </a:lnTo>
                <a:lnTo>
                  <a:pt x="1520725" y="136724"/>
                </a:lnTo>
                <a:lnTo>
                  <a:pt x="1501006" y="120291"/>
                </a:lnTo>
                <a:close/>
                <a:moveTo>
                  <a:pt x="3070696" y="0"/>
                </a:moveTo>
                <a:lnTo>
                  <a:pt x="3143659" y="61132"/>
                </a:lnTo>
                <a:lnTo>
                  <a:pt x="3104219" y="86767"/>
                </a:lnTo>
                <a:lnTo>
                  <a:pt x="3031256" y="236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5" name="组合 3"/>
          <p:cNvGrpSpPr/>
          <p:nvPr/>
        </p:nvGrpSpPr>
        <p:grpSpPr>
          <a:xfrm>
            <a:off x="5622480" y="3475080"/>
            <a:ext cx="6512400" cy="3382920"/>
            <a:chOff x="5622480" y="3475080"/>
            <a:chExt cx="6512400" cy="3382920"/>
          </a:xfrm>
        </p:grpSpPr>
        <p:sp>
          <p:nvSpPr>
            <p:cNvPr id="3296" name="Freeform 5">
              <a:hlinkClick r:id="rId2"/>
            </p:cNvPr>
            <p:cNvSpPr/>
            <p:nvPr/>
          </p:nvSpPr>
          <p:spPr>
            <a:xfrm flipH="1">
              <a:off x="5622120" y="3475080"/>
              <a:ext cx="6512040" cy="3382920"/>
            </a:xfrm>
            <a:custGeom>
              <a:avLst/>
              <a:gdLst/>
              <a:ahLst/>
              <a:rect l="l" t="t" r="r" b="b"/>
              <a:pathLst>
                <a:path w="4102" h="2131">
                  <a:moveTo>
                    <a:pt x="2632" y="0"/>
                  </a:moveTo>
                  <a:lnTo>
                    <a:pt x="1469" y="0"/>
                  </a:lnTo>
                  <a:lnTo>
                    <a:pt x="0" y="2131"/>
                  </a:lnTo>
                  <a:lnTo>
                    <a:pt x="4102" y="2131"/>
                  </a:lnTo>
                  <a:lnTo>
                    <a:pt x="2632" y="0"/>
                  </a:lnTo>
                  <a:close/>
                </a:path>
              </a:pathLst>
            </a:custGeom>
            <a:solidFill>
              <a:srgbClr val="f2d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7" name="Freeform 33">
              <a:hlinkClick r:id="rId3"/>
            </p:cNvPr>
            <p:cNvSpPr/>
            <p:nvPr/>
          </p:nvSpPr>
          <p:spPr>
            <a:xfrm flipH="1">
              <a:off x="8880480" y="3475080"/>
              <a:ext cx="3254400" cy="3382920"/>
            </a:xfrm>
            <a:custGeom>
              <a:avLst/>
              <a:gdLst/>
              <a:ahLst/>
              <a:rect l="l" t="t" r="r" b="b"/>
              <a:pathLst>
                <a:path w="2050" h="2131">
                  <a:moveTo>
                    <a:pt x="1469" y="0"/>
                  </a:moveTo>
                  <a:lnTo>
                    <a:pt x="0" y="2131"/>
                  </a:lnTo>
                  <a:lnTo>
                    <a:pt x="2050" y="2131"/>
                  </a:lnTo>
                  <a:lnTo>
                    <a:pt x="2050" y="0"/>
                  </a:lnTo>
                  <a:lnTo>
                    <a:pt x="1469" y="0"/>
                  </a:lnTo>
                  <a:close/>
                </a:path>
              </a:pathLst>
            </a:custGeom>
            <a:solidFill>
              <a:srgbClr val="c8b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98" name="Freeform 34">
            <a:hlinkClick r:id="rId4"/>
          </p:cNvPr>
          <p:cNvSpPr/>
          <p:nvPr/>
        </p:nvSpPr>
        <p:spPr>
          <a:xfrm flipH="1">
            <a:off x="10507680" y="3475080"/>
            <a:ext cx="1517760" cy="873000"/>
          </a:xfrm>
          <a:custGeom>
            <a:avLst/>
            <a:gdLst/>
            <a:ahLst/>
            <a:rect l="l" t="t" r="r" b="b"/>
            <a:pathLst>
              <a:path w="1045" h="601">
                <a:moveTo>
                  <a:pt x="831" y="173"/>
                </a:moveTo>
                <a:cubicBezTo>
                  <a:pt x="819" y="173"/>
                  <a:pt x="807" y="174"/>
                  <a:pt x="796" y="176"/>
                </a:cubicBezTo>
                <a:cubicBezTo>
                  <a:pt x="748" y="73"/>
                  <a:pt x="644" y="0"/>
                  <a:pt x="522" y="0"/>
                </a:cubicBezTo>
                <a:cubicBezTo>
                  <a:pt x="401" y="0"/>
                  <a:pt x="296" y="73"/>
                  <a:pt x="249" y="176"/>
                </a:cubicBezTo>
                <a:cubicBezTo>
                  <a:pt x="238" y="174"/>
                  <a:pt x="226" y="173"/>
                  <a:pt x="214" y="173"/>
                </a:cubicBezTo>
                <a:cubicBezTo>
                  <a:pt x="96" y="173"/>
                  <a:pt x="0" y="269"/>
                  <a:pt x="0" y="387"/>
                </a:cubicBezTo>
                <a:cubicBezTo>
                  <a:pt x="0" y="505"/>
                  <a:pt x="96" y="601"/>
                  <a:pt x="214" y="601"/>
                </a:cubicBezTo>
                <a:cubicBezTo>
                  <a:pt x="267" y="601"/>
                  <a:pt x="316" y="582"/>
                  <a:pt x="353" y="549"/>
                </a:cubicBezTo>
                <a:cubicBezTo>
                  <a:pt x="402" y="582"/>
                  <a:pt x="460" y="601"/>
                  <a:pt x="522" y="601"/>
                </a:cubicBezTo>
                <a:cubicBezTo>
                  <a:pt x="585" y="601"/>
                  <a:pt x="643" y="582"/>
                  <a:pt x="691" y="549"/>
                </a:cubicBezTo>
                <a:cubicBezTo>
                  <a:pt x="729" y="582"/>
                  <a:pt x="778" y="601"/>
                  <a:pt x="831" y="601"/>
                </a:cubicBezTo>
                <a:cubicBezTo>
                  <a:pt x="949" y="601"/>
                  <a:pt x="1045" y="505"/>
                  <a:pt x="1045" y="387"/>
                </a:cubicBezTo>
                <a:cubicBezTo>
                  <a:pt x="1045" y="269"/>
                  <a:pt x="949" y="173"/>
                  <a:pt x="831" y="1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Freeform 35">
            <a:hlinkClick r:id="rId5"/>
          </p:cNvPr>
          <p:cNvSpPr/>
          <p:nvPr/>
        </p:nvSpPr>
        <p:spPr>
          <a:xfrm flipH="1">
            <a:off x="5895360" y="4535640"/>
            <a:ext cx="847800" cy="487080"/>
          </a:xfrm>
          <a:custGeom>
            <a:avLst/>
            <a:gdLst/>
            <a:ahLst/>
            <a:rect l="l" t="t" r="r" b="b"/>
            <a:pathLst>
              <a:path w="584" h="336">
                <a:moveTo>
                  <a:pt x="465" y="97"/>
                </a:moveTo>
                <a:cubicBezTo>
                  <a:pt x="458" y="97"/>
                  <a:pt x="451" y="97"/>
                  <a:pt x="445" y="98"/>
                </a:cubicBezTo>
                <a:cubicBezTo>
                  <a:pt x="419" y="40"/>
                  <a:pt x="360" y="0"/>
                  <a:pt x="292" y="0"/>
                </a:cubicBezTo>
                <a:cubicBezTo>
                  <a:pt x="224" y="0"/>
                  <a:pt x="166" y="40"/>
                  <a:pt x="140" y="98"/>
                </a:cubicBezTo>
                <a:cubicBezTo>
                  <a:pt x="133" y="97"/>
                  <a:pt x="127" y="97"/>
                  <a:pt x="120" y="97"/>
                </a:cubicBezTo>
                <a:cubicBezTo>
                  <a:pt x="54" y="97"/>
                  <a:pt x="0" y="150"/>
                  <a:pt x="0" y="216"/>
                </a:cubicBezTo>
                <a:cubicBezTo>
                  <a:pt x="0" y="282"/>
                  <a:pt x="54" y="336"/>
                  <a:pt x="120" y="336"/>
                </a:cubicBezTo>
                <a:cubicBezTo>
                  <a:pt x="150" y="336"/>
                  <a:pt x="177" y="325"/>
                  <a:pt x="198" y="307"/>
                </a:cubicBezTo>
                <a:cubicBezTo>
                  <a:pt x="225" y="325"/>
                  <a:pt x="257" y="336"/>
                  <a:pt x="292" y="336"/>
                </a:cubicBezTo>
                <a:cubicBezTo>
                  <a:pt x="327" y="336"/>
                  <a:pt x="360" y="325"/>
                  <a:pt x="387" y="307"/>
                </a:cubicBezTo>
                <a:cubicBezTo>
                  <a:pt x="408" y="325"/>
                  <a:pt x="435" y="336"/>
                  <a:pt x="465" y="336"/>
                </a:cubicBezTo>
                <a:cubicBezTo>
                  <a:pt x="531" y="336"/>
                  <a:pt x="584" y="282"/>
                  <a:pt x="584" y="216"/>
                </a:cubicBezTo>
                <a:cubicBezTo>
                  <a:pt x="584" y="150"/>
                  <a:pt x="531" y="97"/>
                  <a:pt x="465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0" name="组合 71"/>
          <p:cNvGrpSpPr/>
          <p:nvPr/>
        </p:nvGrpSpPr>
        <p:grpSpPr>
          <a:xfrm>
            <a:off x="7210080" y="1657440"/>
            <a:ext cx="1263960" cy="1177560"/>
            <a:chOff x="7210080" y="1657440"/>
            <a:chExt cx="1263960" cy="1177560"/>
          </a:xfrm>
        </p:grpSpPr>
        <p:grpSp>
          <p:nvGrpSpPr>
            <p:cNvPr id="3301" name="组合 6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302" name="组合 64"/>
            <p:cNvGrpSpPr/>
            <p:nvPr/>
          </p:nvGrpSpPr>
          <p:grpSpPr>
            <a:xfrm>
              <a:off x="7210080" y="1657440"/>
              <a:ext cx="1263960" cy="1177560"/>
              <a:chOff x="7210080" y="1657440"/>
              <a:chExt cx="1263960" cy="1177560"/>
            </a:xfrm>
          </p:grpSpPr>
          <p:sp>
            <p:nvSpPr>
              <p:cNvPr id="3303" name="Freeform 8"/>
              <p:cNvSpPr/>
              <p:nvPr/>
            </p:nvSpPr>
            <p:spPr>
              <a:xfrm flipH="1">
                <a:off x="7450200" y="2355840"/>
                <a:ext cx="209520" cy="196560"/>
              </a:xfrm>
              <a:custGeom>
                <a:avLst/>
                <a:gdLst/>
                <a:ahLst/>
                <a:rect l="l" t="t" r="r" b="b"/>
                <a:pathLst>
                  <a:path w="145" h="136">
                    <a:moveTo>
                      <a:pt x="68" y="15"/>
                    </a:moveTo>
                    <a:cubicBezTo>
                      <a:pt x="75" y="9"/>
                      <a:pt x="96" y="2"/>
                      <a:pt x="98" y="1"/>
                    </a:cubicBezTo>
                    <a:cubicBezTo>
                      <a:pt x="103" y="0"/>
                      <a:pt x="105" y="2"/>
                      <a:pt x="109" y="6"/>
                    </a:cubicBezTo>
                    <a:cubicBezTo>
                      <a:pt x="111" y="9"/>
                      <a:pt x="112" y="14"/>
                      <a:pt x="110" y="18"/>
                    </a:cubicBezTo>
                    <a:cubicBezTo>
                      <a:pt x="113" y="18"/>
                      <a:pt x="117" y="19"/>
                      <a:pt x="120" y="22"/>
                    </a:cubicBezTo>
                    <a:cubicBezTo>
                      <a:pt x="122" y="25"/>
                      <a:pt x="125" y="30"/>
                      <a:pt x="122" y="34"/>
                    </a:cubicBezTo>
                    <a:cubicBezTo>
                      <a:pt x="125" y="33"/>
                      <a:pt x="130" y="35"/>
                      <a:pt x="132" y="39"/>
                    </a:cubicBezTo>
                    <a:cubicBezTo>
                      <a:pt x="136" y="46"/>
                      <a:pt x="133" y="49"/>
                      <a:pt x="133" y="51"/>
                    </a:cubicBezTo>
                    <a:cubicBezTo>
                      <a:pt x="136" y="51"/>
                      <a:pt x="140" y="53"/>
                      <a:pt x="142" y="58"/>
                    </a:cubicBezTo>
                    <a:cubicBezTo>
                      <a:pt x="145" y="62"/>
                      <a:pt x="143" y="76"/>
                      <a:pt x="117" y="93"/>
                    </a:cubicBezTo>
                    <a:cubicBezTo>
                      <a:pt x="96" y="109"/>
                      <a:pt x="40" y="136"/>
                      <a:pt x="40" y="136"/>
                    </a:cubicBezTo>
                    <a:cubicBezTo>
                      <a:pt x="0" y="73"/>
                      <a:pt x="0" y="73"/>
                      <a:pt x="0" y="73"/>
                    </a:cubicBezTo>
                    <a:lnTo>
                      <a:pt x="68" y="15"/>
                    </a:lnTo>
                    <a:close/>
                  </a:path>
                </a:pathLst>
              </a:custGeom>
              <a:solidFill>
                <a:srgbClr val="fc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4" name="Freeform 9"/>
              <p:cNvSpPr/>
              <p:nvPr/>
            </p:nvSpPr>
            <p:spPr>
              <a:xfrm flipH="1">
                <a:off x="7483320" y="2386080"/>
                <a:ext cx="85680" cy="126720"/>
              </a:xfrm>
              <a:custGeom>
                <a:avLst/>
                <a:gdLst/>
                <a:ahLst/>
                <a:rect l="l" t="t" r="r" b="b"/>
                <a:pathLst>
                  <a:path w="59" h="87">
                    <a:moveTo>
                      <a:pt x="54" y="72"/>
                    </a:moveTo>
                    <a:cubicBezTo>
                      <a:pt x="49" y="77"/>
                      <a:pt x="40" y="82"/>
                      <a:pt x="31" y="8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8" y="70"/>
                      <a:pt x="56" y="71"/>
                      <a:pt x="54" y="72"/>
                    </a:cubicBezTo>
                    <a:close/>
                  </a:path>
                </a:pathLst>
              </a:custGeom>
              <a:solidFill>
                <a:srgbClr val="cc7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5" name="Freeform 10">
                <a:hlinkClick r:id="rId6"/>
              </p:cNvPr>
              <p:cNvSpPr/>
              <p:nvPr/>
            </p:nvSpPr>
            <p:spPr>
              <a:xfrm flipH="1">
                <a:off x="7209720" y="1657440"/>
                <a:ext cx="981000" cy="1085760"/>
              </a:xfrm>
              <a:custGeom>
                <a:avLst/>
                <a:gdLst/>
                <a:ahLst/>
                <a:rect l="l" t="t" r="r" b="b"/>
                <a:pathLst>
                  <a:path w="676" h="748">
                    <a:moveTo>
                      <a:pt x="29" y="403"/>
                    </a:moveTo>
                    <a:cubicBezTo>
                      <a:pt x="66" y="460"/>
                      <a:pt x="143" y="477"/>
                      <a:pt x="200" y="440"/>
                    </a:cubicBezTo>
                    <a:cubicBezTo>
                      <a:pt x="204" y="437"/>
                      <a:pt x="208" y="434"/>
                      <a:pt x="211" y="432"/>
                    </a:cubicBezTo>
                    <a:cubicBezTo>
                      <a:pt x="283" y="475"/>
                      <a:pt x="352" y="489"/>
                      <a:pt x="404" y="463"/>
                    </a:cubicBezTo>
                    <a:cubicBezTo>
                      <a:pt x="494" y="603"/>
                      <a:pt x="494" y="603"/>
                      <a:pt x="494" y="603"/>
                    </a:cubicBezTo>
                    <a:cubicBezTo>
                      <a:pt x="432" y="648"/>
                      <a:pt x="399" y="712"/>
                      <a:pt x="422" y="748"/>
                    </a:cubicBezTo>
                    <a:cubicBezTo>
                      <a:pt x="676" y="584"/>
                      <a:pt x="676" y="584"/>
                      <a:pt x="676" y="584"/>
                    </a:cubicBezTo>
                    <a:cubicBezTo>
                      <a:pt x="653" y="548"/>
                      <a:pt x="583" y="551"/>
                      <a:pt x="518" y="588"/>
                    </a:cubicBezTo>
                    <a:cubicBezTo>
                      <a:pt x="428" y="448"/>
                      <a:pt x="428" y="448"/>
                      <a:pt x="428" y="448"/>
                    </a:cubicBezTo>
                    <a:cubicBezTo>
                      <a:pt x="471" y="412"/>
                      <a:pt x="487" y="343"/>
                      <a:pt x="477" y="261"/>
                    </a:cubicBezTo>
                    <a:cubicBezTo>
                      <a:pt x="480" y="259"/>
                      <a:pt x="484" y="257"/>
                      <a:pt x="488" y="254"/>
                    </a:cubicBezTo>
                    <a:cubicBezTo>
                      <a:pt x="545" y="217"/>
                      <a:pt x="562" y="141"/>
                      <a:pt x="525" y="83"/>
                    </a:cubicBezTo>
                    <a:cubicBezTo>
                      <a:pt x="496" y="38"/>
                      <a:pt x="442" y="19"/>
                      <a:pt x="393" y="30"/>
                    </a:cubicBezTo>
                    <a:cubicBezTo>
                      <a:pt x="387" y="20"/>
                      <a:pt x="381" y="10"/>
                      <a:pt x="375" y="0"/>
                    </a:cubicBezTo>
                    <a:cubicBezTo>
                      <a:pt x="15" y="232"/>
                      <a:pt x="15" y="232"/>
                      <a:pt x="15" y="232"/>
                    </a:cubicBezTo>
                    <a:cubicBezTo>
                      <a:pt x="21" y="242"/>
                      <a:pt x="28" y="251"/>
                      <a:pt x="34" y="261"/>
                    </a:cubicBezTo>
                    <a:cubicBezTo>
                      <a:pt x="4" y="301"/>
                      <a:pt x="0" y="358"/>
                      <a:pt x="29" y="403"/>
                    </a:cubicBezTo>
                    <a:close/>
                    <a:moveTo>
                      <a:pt x="470" y="224"/>
                    </a:moveTo>
                    <a:cubicBezTo>
                      <a:pt x="459" y="172"/>
                      <a:pt x="439" y="117"/>
                      <a:pt x="411" y="62"/>
                    </a:cubicBezTo>
                    <a:cubicBezTo>
                      <a:pt x="443" y="59"/>
                      <a:pt x="476" y="73"/>
                      <a:pt x="495" y="102"/>
                    </a:cubicBezTo>
                    <a:cubicBezTo>
                      <a:pt x="521" y="143"/>
                      <a:pt x="510" y="197"/>
                      <a:pt x="470" y="224"/>
                    </a:cubicBezTo>
                    <a:close/>
                    <a:moveTo>
                      <a:pt x="58" y="384"/>
                    </a:moveTo>
                    <a:cubicBezTo>
                      <a:pt x="40" y="354"/>
                      <a:pt x="40" y="318"/>
                      <a:pt x="57" y="290"/>
                    </a:cubicBezTo>
                    <a:cubicBezTo>
                      <a:pt x="95" y="339"/>
                      <a:pt x="137" y="380"/>
                      <a:pt x="179" y="411"/>
                    </a:cubicBezTo>
                    <a:cubicBezTo>
                      <a:pt x="138" y="436"/>
                      <a:pt x="84" y="424"/>
                      <a:pt x="58" y="384"/>
                    </a:cubicBezTo>
                    <a:close/>
                  </a:path>
                </a:pathLst>
              </a:custGeom>
              <a:solidFill>
                <a:srgbClr val="fbb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6" name="Freeform 11"/>
              <p:cNvSpPr/>
              <p:nvPr/>
            </p:nvSpPr>
            <p:spPr>
              <a:xfrm flipH="1">
                <a:off x="7452360" y="2355840"/>
                <a:ext cx="104760" cy="126720"/>
              </a:xfrm>
              <a:custGeom>
                <a:avLst/>
                <a:gdLst/>
                <a:ahLst/>
                <a:rect l="l" t="t" r="r" b="b"/>
                <a:pathLst>
                  <a:path w="72" h="87">
                    <a:moveTo>
                      <a:pt x="64" y="74"/>
                    </a:moveTo>
                    <a:cubicBezTo>
                      <a:pt x="64" y="74"/>
                      <a:pt x="45" y="87"/>
                      <a:pt x="39" y="79"/>
                    </a:cubicBezTo>
                    <a:cubicBezTo>
                      <a:pt x="31" y="68"/>
                      <a:pt x="41" y="63"/>
                      <a:pt x="46" y="60"/>
                    </a:cubicBezTo>
                    <a:cubicBezTo>
                      <a:pt x="46" y="60"/>
                      <a:pt x="29" y="69"/>
                      <a:pt x="24" y="61"/>
                    </a:cubicBezTo>
                    <a:cubicBezTo>
                      <a:pt x="19" y="52"/>
                      <a:pt x="29" y="47"/>
                      <a:pt x="35" y="44"/>
                    </a:cubicBezTo>
                    <a:cubicBezTo>
                      <a:pt x="35" y="44"/>
                      <a:pt x="20" y="52"/>
                      <a:pt x="15" y="44"/>
                    </a:cubicBezTo>
                    <a:cubicBezTo>
                      <a:pt x="10" y="35"/>
                      <a:pt x="26" y="28"/>
                      <a:pt x="26" y="28"/>
                    </a:cubicBezTo>
                    <a:cubicBezTo>
                      <a:pt x="26" y="28"/>
                      <a:pt x="11" y="36"/>
                      <a:pt x="6" y="27"/>
                    </a:cubicBezTo>
                    <a:cubicBezTo>
                      <a:pt x="0" y="18"/>
                      <a:pt x="17" y="8"/>
                      <a:pt x="17" y="8"/>
                    </a:cubicBezTo>
                    <a:cubicBezTo>
                      <a:pt x="17" y="8"/>
                      <a:pt x="28" y="0"/>
                      <a:pt x="52" y="36"/>
                    </a:cubicBezTo>
                    <a:cubicBezTo>
                      <a:pt x="72" y="63"/>
                      <a:pt x="64" y="74"/>
                      <a:pt x="64" y="74"/>
                    </a:cubicBezTo>
                    <a:close/>
                  </a:path>
                </a:pathLst>
              </a:custGeom>
              <a:solidFill>
                <a:srgbClr val="fc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7" name="Freeform 12"/>
              <p:cNvSpPr/>
              <p:nvPr/>
            </p:nvSpPr>
            <p:spPr>
              <a:xfrm flipH="1">
                <a:off x="7543080" y="2336760"/>
                <a:ext cx="115560" cy="14112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0" y="86"/>
                    </a:moveTo>
                    <a:cubicBezTo>
                      <a:pt x="0" y="86"/>
                      <a:pt x="22" y="52"/>
                      <a:pt x="40" y="29"/>
                    </a:cubicBezTo>
                    <a:cubicBezTo>
                      <a:pt x="51" y="16"/>
                      <a:pt x="63" y="0"/>
                      <a:pt x="72" y="8"/>
                    </a:cubicBezTo>
                    <a:cubicBezTo>
                      <a:pt x="80" y="16"/>
                      <a:pt x="68" y="28"/>
                      <a:pt x="68" y="28"/>
                    </a:cubicBezTo>
                    <a:cubicBezTo>
                      <a:pt x="63" y="33"/>
                      <a:pt x="56" y="42"/>
                      <a:pt x="57" y="49"/>
                    </a:cubicBezTo>
                    <a:cubicBezTo>
                      <a:pt x="58" y="60"/>
                      <a:pt x="63" y="67"/>
                      <a:pt x="53" y="80"/>
                    </a:cubicBezTo>
                    <a:cubicBezTo>
                      <a:pt x="38" y="97"/>
                      <a:pt x="0" y="86"/>
                      <a:pt x="0" y="86"/>
                    </a:cubicBezTo>
                    <a:close/>
                  </a:path>
                </a:pathLst>
              </a:custGeom>
              <a:solidFill>
                <a:srgbClr val="fcc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8" name="Freeform 13">
                <a:hlinkClick r:id="rId7"/>
              </p:cNvPr>
              <p:cNvSpPr/>
              <p:nvPr/>
            </p:nvSpPr>
            <p:spPr>
              <a:xfrm flipH="1">
                <a:off x="7535880" y="2404800"/>
                <a:ext cx="938160" cy="430200"/>
              </a:xfrm>
              <a:custGeom>
                <a:avLst/>
                <a:gdLst/>
                <a:ahLst/>
                <a:rect l="l" t="t" r="r" b="b"/>
                <a:pathLst>
                  <a:path w="645" h="296">
                    <a:moveTo>
                      <a:pt x="170" y="296"/>
                    </a:moveTo>
                    <a:cubicBezTo>
                      <a:pt x="109" y="296"/>
                      <a:pt x="52" y="284"/>
                      <a:pt x="0" y="260"/>
                    </a:cubicBezTo>
                    <a:cubicBezTo>
                      <a:pt x="53" y="146"/>
                      <a:pt x="53" y="146"/>
                      <a:pt x="53" y="146"/>
                    </a:cubicBezTo>
                    <a:cubicBezTo>
                      <a:pt x="271" y="248"/>
                      <a:pt x="560" y="3"/>
                      <a:pt x="563" y="0"/>
                    </a:cubicBezTo>
                    <a:cubicBezTo>
                      <a:pt x="645" y="95"/>
                      <a:pt x="645" y="95"/>
                      <a:pt x="645" y="95"/>
                    </a:cubicBezTo>
                    <a:cubicBezTo>
                      <a:pt x="642" y="98"/>
                      <a:pt x="558" y="171"/>
                      <a:pt x="439" y="227"/>
                    </a:cubicBezTo>
                    <a:cubicBezTo>
                      <a:pt x="368" y="262"/>
                      <a:pt x="299" y="283"/>
                      <a:pt x="234" y="292"/>
                    </a:cubicBezTo>
                    <a:cubicBezTo>
                      <a:pt x="212" y="295"/>
                      <a:pt x="191" y="296"/>
                      <a:pt x="170" y="2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09" name="组合 41"/>
          <p:cNvGrpSpPr/>
          <p:nvPr/>
        </p:nvGrpSpPr>
        <p:grpSpPr>
          <a:xfrm>
            <a:off x="8312040" y="1066680"/>
            <a:ext cx="1576440" cy="2428920"/>
            <a:chOff x="8312040" y="1066680"/>
            <a:chExt cx="1576440" cy="2428920"/>
          </a:xfrm>
        </p:grpSpPr>
        <p:sp>
          <p:nvSpPr>
            <p:cNvPr id="3310" name="Freeform 6"/>
            <p:cNvSpPr/>
            <p:nvPr/>
          </p:nvSpPr>
          <p:spPr>
            <a:xfrm flipH="1">
              <a:off x="9700560" y="2946240"/>
              <a:ext cx="176040" cy="247680"/>
            </a:xfrm>
            <a:custGeom>
              <a:avLst/>
              <a:gdLst/>
              <a:ahLst/>
              <a:rect l="l" t="t" r="r" b="b"/>
              <a:pathLst>
                <a:path w="122" h="170">
                  <a:moveTo>
                    <a:pt x="1" y="87"/>
                  </a:moveTo>
                  <a:cubicBezTo>
                    <a:pt x="2" y="61"/>
                    <a:pt x="18" y="0"/>
                    <a:pt x="18" y="0"/>
                  </a:cubicBezTo>
                  <a:cubicBezTo>
                    <a:pt x="91" y="10"/>
                    <a:pt x="91" y="10"/>
                    <a:pt x="91" y="10"/>
                  </a:cubicBezTo>
                  <a:cubicBezTo>
                    <a:pt x="91" y="10"/>
                    <a:pt x="122" y="105"/>
                    <a:pt x="110" y="109"/>
                  </a:cubicBezTo>
                  <a:cubicBezTo>
                    <a:pt x="99" y="114"/>
                    <a:pt x="93" y="99"/>
                    <a:pt x="93" y="99"/>
                  </a:cubicBezTo>
                  <a:cubicBezTo>
                    <a:pt x="92" y="112"/>
                    <a:pt x="78" y="170"/>
                    <a:pt x="67" y="126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7" y="126"/>
                    <a:pt x="51" y="159"/>
                    <a:pt x="46" y="123"/>
                  </a:cubicBezTo>
                  <a:cubicBezTo>
                    <a:pt x="46" y="123"/>
                    <a:pt x="46" y="123"/>
                    <a:pt x="46" y="123"/>
                  </a:cubicBezTo>
                  <a:cubicBezTo>
                    <a:pt x="46" y="123"/>
                    <a:pt x="28" y="154"/>
                    <a:pt x="22" y="121"/>
                  </a:cubicBezTo>
                  <a:cubicBezTo>
                    <a:pt x="22" y="121"/>
                    <a:pt x="19" y="134"/>
                    <a:pt x="9" y="132"/>
                  </a:cubicBezTo>
                  <a:cubicBezTo>
                    <a:pt x="2" y="132"/>
                    <a:pt x="0" y="109"/>
                    <a:pt x="1" y="87"/>
                  </a:cubicBezTo>
                  <a:close/>
                </a:path>
              </a:pathLst>
            </a:custGeom>
            <a:solidFill>
              <a:srgbClr val="fc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1" name="Freeform 7"/>
            <p:cNvSpPr/>
            <p:nvPr/>
          </p:nvSpPr>
          <p:spPr>
            <a:xfrm flipH="1">
              <a:off x="9736200" y="2946240"/>
              <a:ext cx="134640" cy="85680"/>
            </a:xfrm>
            <a:custGeom>
              <a:avLst/>
              <a:gdLst/>
              <a:ahLst/>
              <a:rect l="l" t="t" r="r" b="b"/>
              <a:pathLst>
                <a:path w="92" h="59">
                  <a:moveTo>
                    <a:pt x="92" y="30"/>
                  </a:moveTo>
                  <a:cubicBezTo>
                    <a:pt x="0" y="59"/>
                    <a:pt x="0" y="59"/>
                    <a:pt x="0" y="59"/>
                  </a:cubicBezTo>
                  <a:cubicBezTo>
                    <a:pt x="5" y="31"/>
                    <a:pt x="13" y="0"/>
                    <a:pt x="13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92" y="30"/>
                    <a:pt x="92" y="30"/>
                    <a:pt x="92" y="30"/>
                  </a:cubicBezTo>
                  <a:close/>
                </a:path>
              </a:pathLst>
            </a:custGeom>
            <a:solidFill>
              <a:srgbClr val="cc7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2" name="Freeform 14"/>
            <p:cNvSpPr/>
            <p:nvPr/>
          </p:nvSpPr>
          <p:spPr>
            <a:xfrm flipH="1">
              <a:off x="8497080" y="3006720"/>
              <a:ext cx="347400" cy="4888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00" y="0"/>
                  </a:moveTo>
                  <a:cubicBezTo>
                    <a:pt x="90" y="191"/>
                    <a:pt x="90" y="191"/>
                    <a:pt x="90" y="191"/>
                  </a:cubicBezTo>
                  <a:cubicBezTo>
                    <a:pt x="56" y="308"/>
                    <a:pt x="56" y="308"/>
                    <a:pt x="56" y="308"/>
                  </a:cubicBezTo>
                  <a:cubicBezTo>
                    <a:pt x="56" y="308"/>
                    <a:pt x="83" y="262"/>
                    <a:pt x="143" y="262"/>
                  </a:cubicBezTo>
                  <a:cubicBezTo>
                    <a:pt x="203" y="262"/>
                    <a:pt x="240" y="336"/>
                    <a:pt x="240" y="336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44" y="186"/>
                    <a:pt x="44" y="186"/>
                    <a:pt x="44" y="186"/>
                  </a:cubicBezTo>
                  <a:cubicBezTo>
                    <a:pt x="6" y="35"/>
                    <a:pt x="6" y="35"/>
                    <a:pt x="6" y="35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3" name="Freeform 15"/>
            <p:cNvSpPr/>
            <p:nvPr/>
          </p:nvSpPr>
          <p:spPr>
            <a:xfrm flipH="1">
              <a:off x="8312040" y="2627280"/>
              <a:ext cx="109440" cy="187200"/>
            </a:xfrm>
            <a:custGeom>
              <a:avLst/>
              <a:gdLst/>
              <a:ahLst/>
              <a:rect l="l" t="t" r="r" b="b"/>
              <a:pathLst>
                <a:path w="76" h="129">
                  <a:moveTo>
                    <a:pt x="35" y="0"/>
                  </a:moveTo>
                  <a:cubicBezTo>
                    <a:pt x="76" y="127"/>
                    <a:pt x="76" y="127"/>
                    <a:pt x="76" y="127"/>
                  </a:cubicBezTo>
                  <a:cubicBezTo>
                    <a:pt x="76" y="127"/>
                    <a:pt x="35" y="129"/>
                    <a:pt x="0" y="122"/>
                  </a:cubicBezTo>
                  <a:lnTo>
                    <a:pt x="35" y="0"/>
                  </a:lnTo>
                  <a:close/>
                </a:path>
              </a:pathLst>
            </a:custGeom>
            <a:solidFill>
              <a:srgbClr val="b7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4" name="Freeform 16"/>
            <p:cNvSpPr/>
            <p:nvPr/>
          </p:nvSpPr>
          <p:spPr>
            <a:xfrm flipH="1">
              <a:off x="9021600" y="3006720"/>
              <a:ext cx="349200" cy="4888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100" y="0"/>
                  </a:moveTo>
                  <a:cubicBezTo>
                    <a:pt x="90" y="191"/>
                    <a:pt x="90" y="191"/>
                    <a:pt x="90" y="191"/>
                  </a:cubicBezTo>
                  <a:cubicBezTo>
                    <a:pt x="56" y="308"/>
                    <a:pt x="56" y="308"/>
                    <a:pt x="56" y="308"/>
                  </a:cubicBezTo>
                  <a:cubicBezTo>
                    <a:pt x="56" y="308"/>
                    <a:pt x="83" y="262"/>
                    <a:pt x="143" y="262"/>
                  </a:cubicBezTo>
                  <a:cubicBezTo>
                    <a:pt x="203" y="262"/>
                    <a:pt x="240" y="336"/>
                    <a:pt x="240" y="336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44" y="186"/>
                    <a:pt x="44" y="186"/>
                    <a:pt x="44" y="186"/>
                  </a:cubicBezTo>
                  <a:cubicBezTo>
                    <a:pt x="6" y="35"/>
                    <a:pt x="6" y="35"/>
                    <a:pt x="6" y="35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15" name=""/>
            <p:cNvGrpSpPr/>
            <p:nvPr/>
          </p:nvGrpSpPr>
          <p:grpSpPr>
            <a:xfrm>
              <a:off x="8772480" y="2989440"/>
              <a:ext cx="360" cy="360"/>
              <a:chOff x="8772480" y="2989440"/>
              <a:chExt cx="360" cy="360"/>
            </a:xfrm>
          </p:grpSpPr>
          <p:sp>
            <p:nvSpPr>
              <p:cNvPr id="3316" name="Line 17"/>
              <p:cNvSpPr/>
              <p:nvPr/>
            </p:nvSpPr>
            <p:spPr>
              <a:xfrm>
                <a:off x="8772480" y="298944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7" name=""/>
              <p:cNvSpPr txBox="1"/>
              <p:nvPr/>
            </p:nvSpPr>
            <p:spPr>
              <a:xfrm>
                <a:off x="8772480" y="2989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18" name=""/>
            <p:cNvGrpSpPr/>
            <p:nvPr/>
          </p:nvGrpSpPr>
          <p:grpSpPr>
            <a:xfrm>
              <a:off x="8772480" y="2989440"/>
              <a:ext cx="360" cy="360"/>
              <a:chOff x="8772480" y="2989440"/>
              <a:chExt cx="360" cy="360"/>
            </a:xfrm>
          </p:grpSpPr>
          <p:sp>
            <p:nvSpPr>
              <p:cNvPr id="3319" name="Line 18"/>
              <p:cNvSpPr/>
              <p:nvPr/>
            </p:nvSpPr>
            <p:spPr>
              <a:xfrm>
                <a:off x="8772480" y="298944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0" name=""/>
              <p:cNvSpPr txBox="1"/>
              <p:nvPr/>
            </p:nvSpPr>
            <p:spPr>
              <a:xfrm>
                <a:off x="8772480" y="2989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1" name="Oval 19"/>
            <p:cNvSpPr/>
            <p:nvPr/>
          </p:nvSpPr>
          <p:spPr>
            <a:xfrm flipH="1">
              <a:off x="8421480" y="2620800"/>
              <a:ext cx="1160640" cy="579240"/>
            </a:xfrm>
            <a:prstGeom prst="ellipse">
              <a:avLst/>
            </a:pr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2" name="Freeform 20">
              <a:hlinkClick r:id="rId8"/>
            </p:cNvPr>
            <p:cNvSpPr/>
            <p:nvPr/>
          </p:nvSpPr>
          <p:spPr>
            <a:xfrm flipH="1">
              <a:off x="8370720" y="2560680"/>
              <a:ext cx="1260720" cy="460440"/>
            </a:xfrm>
            <a:custGeom>
              <a:avLst/>
              <a:gdLst/>
              <a:ahLst/>
              <a:rect l="l" t="t" r="r" b="b"/>
              <a:pathLst>
                <a:path w="867" h="317">
                  <a:moveTo>
                    <a:pt x="1" y="268"/>
                  </a:moveTo>
                  <a:cubicBezTo>
                    <a:pt x="1" y="268"/>
                    <a:pt x="93" y="317"/>
                    <a:pt x="423" y="317"/>
                  </a:cubicBezTo>
                  <a:cubicBezTo>
                    <a:pt x="766" y="317"/>
                    <a:pt x="867" y="268"/>
                    <a:pt x="867" y="268"/>
                  </a:cubicBezTo>
                  <a:cubicBezTo>
                    <a:pt x="867" y="0"/>
                    <a:pt x="867" y="0"/>
                    <a:pt x="86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3" name="Freeform 21"/>
            <p:cNvSpPr/>
            <p:nvPr/>
          </p:nvSpPr>
          <p:spPr>
            <a:xfrm flipH="1">
              <a:off x="8708760" y="2560680"/>
              <a:ext cx="131760" cy="377640"/>
            </a:xfrm>
            <a:custGeom>
              <a:avLst/>
              <a:gdLst/>
              <a:ahLst/>
              <a:rect l="l" t="t" r="r" b="b"/>
              <a:pathLst>
                <a:path w="83" h="238">
                  <a:moveTo>
                    <a:pt x="77" y="0"/>
                  </a:moveTo>
                  <a:lnTo>
                    <a:pt x="60" y="35"/>
                  </a:lnTo>
                  <a:lnTo>
                    <a:pt x="83" y="194"/>
                  </a:lnTo>
                  <a:lnTo>
                    <a:pt x="41" y="238"/>
                  </a:lnTo>
                  <a:lnTo>
                    <a:pt x="0" y="201"/>
                  </a:lnTo>
                  <a:lnTo>
                    <a:pt x="22" y="35"/>
                  </a:lnTo>
                  <a:lnTo>
                    <a:pt x="3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36b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4" name="Freeform 22">
              <a:hlinkClick r:id="rId9"/>
            </p:cNvPr>
            <p:cNvSpPr/>
            <p:nvPr/>
          </p:nvSpPr>
          <p:spPr>
            <a:xfrm flipH="1">
              <a:off x="8340480" y="1357200"/>
              <a:ext cx="1290960" cy="1203480"/>
            </a:xfrm>
            <a:custGeom>
              <a:avLst/>
              <a:gdLst/>
              <a:ahLst/>
              <a:rect l="l" t="t" r="r" b="b"/>
              <a:pathLst>
                <a:path w="813" h="758">
                  <a:moveTo>
                    <a:pt x="678" y="0"/>
                  </a:moveTo>
                  <a:lnTo>
                    <a:pt x="732" y="313"/>
                  </a:lnTo>
                  <a:lnTo>
                    <a:pt x="813" y="379"/>
                  </a:lnTo>
                  <a:lnTo>
                    <a:pt x="747" y="476"/>
                  </a:lnTo>
                  <a:lnTo>
                    <a:pt x="794" y="758"/>
                  </a:lnTo>
                  <a:lnTo>
                    <a:pt x="0" y="758"/>
                  </a:lnTo>
                  <a:lnTo>
                    <a:pt x="88" y="292"/>
                  </a:lnTo>
                  <a:lnTo>
                    <a:pt x="91" y="46"/>
                  </a:lnTo>
                  <a:lnTo>
                    <a:pt x="678" y="0"/>
                  </a:lnTo>
                  <a:close/>
                </a:path>
              </a:pathLst>
            </a:custGeom>
            <a:solidFill>
              <a:srgbClr val="fc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5" name="Freeform 23">
              <a:hlinkClick r:id="rId10"/>
            </p:cNvPr>
            <p:cNvSpPr/>
            <p:nvPr/>
          </p:nvSpPr>
          <p:spPr>
            <a:xfrm flipH="1">
              <a:off x="8354880" y="1066680"/>
              <a:ext cx="1324080" cy="1133640"/>
            </a:xfrm>
            <a:custGeom>
              <a:avLst/>
              <a:gdLst/>
              <a:ahLst/>
              <a:rect l="l" t="t" r="r" b="b"/>
              <a:pathLst>
                <a:path w="911" h="780">
                  <a:moveTo>
                    <a:pt x="740" y="82"/>
                  </a:moveTo>
                  <a:cubicBezTo>
                    <a:pt x="684" y="61"/>
                    <a:pt x="626" y="0"/>
                    <a:pt x="440" y="0"/>
                  </a:cubicBezTo>
                  <a:cubicBezTo>
                    <a:pt x="255" y="0"/>
                    <a:pt x="131" y="94"/>
                    <a:pt x="131" y="94"/>
                  </a:cubicBezTo>
                  <a:cubicBezTo>
                    <a:pt x="131" y="94"/>
                    <a:pt x="0" y="191"/>
                    <a:pt x="0" y="326"/>
                  </a:cubicBezTo>
                  <a:cubicBezTo>
                    <a:pt x="0" y="588"/>
                    <a:pt x="81" y="780"/>
                    <a:pt x="81" y="780"/>
                  </a:cubicBezTo>
                  <a:cubicBezTo>
                    <a:pt x="284" y="514"/>
                    <a:pt x="284" y="514"/>
                    <a:pt x="284" y="514"/>
                  </a:cubicBezTo>
                  <a:cubicBezTo>
                    <a:pt x="280" y="279"/>
                    <a:pt x="280" y="279"/>
                    <a:pt x="280" y="279"/>
                  </a:cubicBezTo>
                  <a:cubicBezTo>
                    <a:pt x="280" y="279"/>
                    <a:pt x="530" y="281"/>
                    <a:pt x="750" y="280"/>
                  </a:cubicBezTo>
                  <a:cubicBezTo>
                    <a:pt x="762" y="280"/>
                    <a:pt x="788" y="280"/>
                    <a:pt x="819" y="251"/>
                  </a:cubicBezTo>
                  <a:cubicBezTo>
                    <a:pt x="872" y="200"/>
                    <a:pt x="911" y="61"/>
                    <a:pt x="911" y="61"/>
                  </a:cubicBezTo>
                  <a:cubicBezTo>
                    <a:pt x="911" y="61"/>
                    <a:pt x="827" y="115"/>
                    <a:pt x="740" y="82"/>
                  </a:cubicBezTo>
                  <a:close/>
                </a:path>
              </a:pathLst>
            </a:custGeom>
            <a:solidFill>
              <a:srgbClr val="6c3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6" name="Oval 24"/>
            <p:cNvSpPr/>
            <p:nvPr/>
          </p:nvSpPr>
          <p:spPr>
            <a:xfrm flipH="1">
              <a:off x="9352080" y="1827000"/>
              <a:ext cx="288720" cy="288720"/>
            </a:xfrm>
            <a:prstGeom prst="ellipse">
              <a:avLst/>
            </a:prstGeom>
            <a:solidFill>
              <a:srgbClr val="fcc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7" name="Oval 25"/>
            <p:cNvSpPr/>
            <p:nvPr/>
          </p:nvSpPr>
          <p:spPr>
            <a:xfrm flipH="1">
              <a:off x="8607240" y="1704960"/>
              <a:ext cx="11736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8" name="Oval 26"/>
            <p:cNvSpPr/>
            <p:nvPr/>
          </p:nvSpPr>
          <p:spPr>
            <a:xfrm flipH="1">
              <a:off x="8828640" y="17049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9" name="Oval 27"/>
            <p:cNvSpPr/>
            <p:nvPr/>
          </p:nvSpPr>
          <p:spPr>
            <a:xfrm flipH="1">
              <a:off x="8617680" y="1739880"/>
              <a:ext cx="58680" cy="60120"/>
            </a:xfrm>
            <a:prstGeom prst="ellipse">
              <a:avLst/>
            </a:prstGeom>
            <a:solidFill>
              <a:srgbClr val="6c3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0" name="Oval 28"/>
            <p:cNvSpPr/>
            <p:nvPr/>
          </p:nvSpPr>
          <p:spPr>
            <a:xfrm flipH="1">
              <a:off x="8839800" y="1739880"/>
              <a:ext cx="58680" cy="60120"/>
            </a:xfrm>
            <a:prstGeom prst="ellipse">
              <a:avLst/>
            </a:prstGeom>
            <a:solidFill>
              <a:srgbClr val="6c3c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1" name="Freeform 29"/>
            <p:cNvSpPr/>
            <p:nvPr/>
          </p:nvSpPr>
          <p:spPr>
            <a:xfrm flipH="1">
              <a:off x="8629560" y="2163600"/>
              <a:ext cx="293760" cy="287280"/>
            </a:xfrm>
            <a:custGeom>
              <a:avLst/>
              <a:gdLst/>
              <a:ahLst/>
              <a:rect l="l" t="t" r="r" b="b"/>
              <a:pathLst>
                <a:path w="202" h="198">
                  <a:moveTo>
                    <a:pt x="101" y="198"/>
                  </a:moveTo>
                  <a:cubicBezTo>
                    <a:pt x="157" y="198"/>
                    <a:pt x="202" y="112"/>
                    <a:pt x="20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12"/>
                    <a:pt x="45" y="198"/>
                    <a:pt x="101" y="198"/>
                  </a:cubicBezTo>
                  <a:close/>
                </a:path>
              </a:pathLst>
            </a:custGeom>
            <a:solidFill>
              <a:srgbClr val="292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2" name="Freeform 30"/>
            <p:cNvSpPr/>
            <p:nvPr/>
          </p:nvSpPr>
          <p:spPr>
            <a:xfrm flipH="1">
              <a:off x="8651520" y="2268360"/>
              <a:ext cx="249120" cy="182520"/>
            </a:xfrm>
            <a:custGeom>
              <a:avLst/>
              <a:gdLst/>
              <a:ahLst/>
              <a:rect l="l" t="t" r="r" b="b"/>
              <a:pathLst>
                <a:path w="172" h="126">
                  <a:moveTo>
                    <a:pt x="0" y="35"/>
                  </a:moveTo>
                  <a:cubicBezTo>
                    <a:pt x="31" y="8"/>
                    <a:pt x="111" y="0"/>
                    <a:pt x="172" y="34"/>
                  </a:cubicBezTo>
                  <a:cubicBezTo>
                    <a:pt x="154" y="90"/>
                    <a:pt x="122" y="126"/>
                    <a:pt x="86" y="126"/>
                  </a:cubicBezTo>
                  <a:cubicBezTo>
                    <a:pt x="50" y="126"/>
                    <a:pt x="18" y="90"/>
                    <a:pt x="0" y="35"/>
                  </a:cubicBezTo>
                  <a:close/>
                </a:path>
              </a:pathLst>
            </a:custGeom>
            <a:solidFill>
              <a:srgbClr val="7722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Freeform 31"/>
            <p:cNvSpPr/>
            <p:nvPr/>
          </p:nvSpPr>
          <p:spPr>
            <a:xfrm flipH="1">
              <a:off x="9529920" y="2773440"/>
              <a:ext cx="101520" cy="10944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0"/>
                  </a:moveTo>
                  <a:cubicBezTo>
                    <a:pt x="70" y="0"/>
                    <a:pt x="0" y="29"/>
                    <a:pt x="0" y="75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70" y="0"/>
                  </a:lnTo>
                  <a:close/>
                </a:path>
              </a:pathLst>
            </a:custGeom>
            <a:solidFill>
              <a:srgbClr val="b7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Freeform 32"/>
            <p:cNvSpPr/>
            <p:nvPr/>
          </p:nvSpPr>
          <p:spPr>
            <a:xfrm flipH="1">
              <a:off x="9529920" y="2597040"/>
              <a:ext cx="358560" cy="392040"/>
            </a:xfrm>
            <a:custGeom>
              <a:avLst/>
              <a:gdLst/>
              <a:ahLst/>
              <a:rect l="l" t="t" r="r" b="b"/>
              <a:pathLst>
                <a:path w="247" h="270">
                  <a:moveTo>
                    <a:pt x="0" y="270"/>
                  </a:moveTo>
                  <a:cubicBezTo>
                    <a:pt x="0" y="267"/>
                    <a:pt x="0" y="237"/>
                    <a:pt x="9" y="199"/>
                  </a:cubicBezTo>
                  <a:cubicBezTo>
                    <a:pt x="14" y="176"/>
                    <a:pt x="22" y="154"/>
                    <a:pt x="31" y="134"/>
                  </a:cubicBezTo>
                  <a:cubicBezTo>
                    <a:pt x="44" y="108"/>
                    <a:pt x="60" y="85"/>
                    <a:pt x="79" y="66"/>
                  </a:cubicBezTo>
                  <a:cubicBezTo>
                    <a:pt x="99" y="45"/>
                    <a:pt x="123" y="29"/>
                    <a:pt x="150" y="18"/>
                  </a:cubicBezTo>
                  <a:cubicBezTo>
                    <a:pt x="179" y="6"/>
                    <a:pt x="212" y="0"/>
                    <a:pt x="247" y="0"/>
                  </a:cubicBezTo>
                  <a:cubicBezTo>
                    <a:pt x="247" y="122"/>
                    <a:pt x="247" y="122"/>
                    <a:pt x="247" y="122"/>
                  </a:cubicBezTo>
                  <a:cubicBezTo>
                    <a:pt x="212" y="122"/>
                    <a:pt x="185" y="131"/>
                    <a:pt x="165" y="151"/>
                  </a:cubicBezTo>
                  <a:cubicBezTo>
                    <a:pt x="144" y="173"/>
                    <a:pt x="133" y="204"/>
                    <a:pt x="128" y="226"/>
                  </a:cubicBezTo>
                  <a:cubicBezTo>
                    <a:pt x="122" y="251"/>
                    <a:pt x="122" y="269"/>
                    <a:pt x="122" y="270"/>
                  </a:cubicBezTo>
                  <a:lnTo>
                    <a:pt x="0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5" name="Freeform 35">
            <a:hlinkClick r:id="rId11"/>
          </p:cNvPr>
          <p:cNvSpPr/>
          <p:nvPr/>
        </p:nvSpPr>
        <p:spPr>
          <a:xfrm flipH="1">
            <a:off x="5232240" y="5145120"/>
            <a:ext cx="663840" cy="380880"/>
          </a:xfrm>
          <a:custGeom>
            <a:avLst/>
            <a:gdLst/>
            <a:ahLst/>
            <a:rect l="l" t="t" r="r" b="b"/>
            <a:pathLst>
              <a:path w="584" h="336">
                <a:moveTo>
                  <a:pt x="465" y="97"/>
                </a:moveTo>
                <a:cubicBezTo>
                  <a:pt x="458" y="97"/>
                  <a:pt x="451" y="97"/>
                  <a:pt x="445" y="98"/>
                </a:cubicBezTo>
                <a:cubicBezTo>
                  <a:pt x="419" y="40"/>
                  <a:pt x="360" y="0"/>
                  <a:pt x="292" y="0"/>
                </a:cubicBezTo>
                <a:cubicBezTo>
                  <a:pt x="224" y="0"/>
                  <a:pt x="166" y="40"/>
                  <a:pt x="140" y="98"/>
                </a:cubicBezTo>
                <a:cubicBezTo>
                  <a:pt x="133" y="97"/>
                  <a:pt x="127" y="97"/>
                  <a:pt x="120" y="97"/>
                </a:cubicBezTo>
                <a:cubicBezTo>
                  <a:pt x="54" y="97"/>
                  <a:pt x="0" y="150"/>
                  <a:pt x="0" y="216"/>
                </a:cubicBezTo>
                <a:cubicBezTo>
                  <a:pt x="0" y="282"/>
                  <a:pt x="54" y="336"/>
                  <a:pt x="120" y="336"/>
                </a:cubicBezTo>
                <a:cubicBezTo>
                  <a:pt x="150" y="336"/>
                  <a:pt x="177" y="325"/>
                  <a:pt x="198" y="307"/>
                </a:cubicBezTo>
                <a:cubicBezTo>
                  <a:pt x="225" y="325"/>
                  <a:pt x="257" y="336"/>
                  <a:pt x="292" y="336"/>
                </a:cubicBezTo>
                <a:cubicBezTo>
                  <a:pt x="327" y="336"/>
                  <a:pt x="360" y="325"/>
                  <a:pt x="387" y="307"/>
                </a:cubicBezTo>
                <a:cubicBezTo>
                  <a:pt x="408" y="325"/>
                  <a:pt x="435" y="336"/>
                  <a:pt x="465" y="336"/>
                </a:cubicBezTo>
                <a:cubicBezTo>
                  <a:pt x="531" y="336"/>
                  <a:pt x="584" y="282"/>
                  <a:pt x="584" y="216"/>
                </a:cubicBezTo>
                <a:cubicBezTo>
                  <a:pt x="584" y="150"/>
                  <a:pt x="531" y="97"/>
                  <a:pt x="465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6" name="组合 1"/>
          <p:cNvGrpSpPr/>
          <p:nvPr/>
        </p:nvGrpSpPr>
        <p:grpSpPr>
          <a:xfrm>
            <a:off x="1038240" y="2654280"/>
            <a:ext cx="3330720" cy="1455840"/>
            <a:chOff x="1038240" y="2654280"/>
            <a:chExt cx="3330720" cy="1455840"/>
          </a:xfrm>
        </p:grpSpPr>
        <p:sp>
          <p:nvSpPr>
            <p:cNvPr id="3337" name="文本框 76"/>
            <p:cNvSpPr/>
            <p:nvPr/>
          </p:nvSpPr>
          <p:spPr>
            <a:xfrm>
              <a:off x="1096200" y="2692080"/>
              <a:ext cx="3272760" cy="1418040"/>
            </a:xfrm>
            <a:custGeom>
              <a:avLst/>
              <a:gdLst/>
              <a:ahLst/>
              <a:rect l="l" t="t" r="r" b="b"/>
              <a:pathLst>
                <a:path w="3272433" h="1417142">
                  <a:moveTo>
                    <a:pt x="451843" y="1088529"/>
                  </a:moveTo>
                  <a:lnTo>
                    <a:pt x="499765" y="1239143"/>
                  </a:lnTo>
                  <a:lnTo>
                    <a:pt x="75307" y="1410296"/>
                  </a:lnTo>
                  <a:lnTo>
                    <a:pt x="27385" y="1266528"/>
                  </a:lnTo>
                  <a:close/>
                  <a:moveTo>
                    <a:pt x="636687" y="41077"/>
                  </a:moveTo>
                  <a:lnTo>
                    <a:pt x="1554064" y="41077"/>
                  </a:lnTo>
                  <a:lnTo>
                    <a:pt x="1554064" y="191691"/>
                  </a:lnTo>
                  <a:lnTo>
                    <a:pt x="1184375" y="191691"/>
                  </a:lnTo>
                  <a:lnTo>
                    <a:pt x="1184375" y="1266528"/>
                  </a:lnTo>
                  <a:lnTo>
                    <a:pt x="1554064" y="1266528"/>
                  </a:lnTo>
                  <a:lnTo>
                    <a:pt x="1554064" y="1417142"/>
                  </a:lnTo>
                  <a:lnTo>
                    <a:pt x="622995" y="1417142"/>
                  </a:lnTo>
                  <a:lnTo>
                    <a:pt x="622995" y="1266528"/>
                  </a:lnTo>
                  <a:lnTo>
                    <a:pt x="1013222" y="1266528"/>
                  </a:lnTo>
                  <a:lnTo>
                    <a:pt x="1013222" y="191691"/>
                  </a:lnTo>
                  <a:lnTo>
                    <a:pt x="636687" y="191691"/>
                  </a:lnTo>
                  <a:close/>
                  <a:moveTo>
                    <a:pt x="1821061" y="13693"/>
                  </a:moveTo>
                  <a:lnTo>
                    <a:pt x="3258741" y="13693"/>
                  </a:lnTo>
                  <a:lnTo>
                    <a:pt x="3258741" y="157460"/>
                  </a:lnTo>
                  <a:lnTo>
                    <a:pt x="2875360" y="157460"/>
                  </a:lnTo>
                  <a:lnTo>
                    <a:pt x="2875360" y="705148"/>
                  </a:lnTo>
                  <a:lnTo>
                    <a:pt x="3224510" y="321767"/>
                  </a:lnTo>
                  <a:lnTo>
                    <a:pt x="3272433" y="479227"/>
                  </a:lnTo>
                  <a:lnTo>
                    <a:pt x="2875360" y="910531"/>
                  </a:lnTo>
                  <a:lnTo>
                    <a:pt x="2875360" y="1266528"/>
                  </a:lnTo>
                  <a:lnTo>
                    <a:pt x="3272433" y="1266528"/>
                  </a:lnTo>
                  <a:lnTo>
                    <a:pt x="3265587" y="1417142"/>
                  </a:lnTo>
                  <a:lnTo>
                    <a:pt x="2711053" y="1417142"/>
                  </a:lnTo>
                  <a:lnTo>
                    <a:pt x="2711053" y="157460"/>
                  </a:lnTo>
                  <a:lnTo>
                    <a:pt x="2272903" y="157460"/>
                  </a:lnTo>
                  <a:lnTo>
                    <a:pt x="2124441" y="383382"/>
                  </a:lnTo>
                  <a:lnTo>
                    <a:pt x="2471440" y="383382"/>
                  </a:lnTo>
                  <a:lnTo>
                    <a:pt x="2471440" y="807839"/>
                  </a:lnTo>
                  <a:lnTo>
                    <a:pt x="1944291" y="1417142"/>
                  </a:lnTo>
                  <a:lnTo>
                    <a:pt x="1786831" y="1382911"/>
                  </a:lnTo>
                  <a:lnTo>
                    <a:pt x="2053823" y="1063223"/>
                  </a:lnTo>
                  <a:lnTo>
                    <a:pt x="1786831" y="807839"/>
                  </a:lnTo>
                  <a:lnTo>
                    <a:pt x="1937445" y="746225"/>
                  </a:lnTo>
                  <a:lnTo>
                    <a:pt x="2149315" y="948883"/>
                  </a:lnTo>
                  <a:lnTo>
                    <a:pt x="2307134" y="759917"/>
                  </a:lnTo>
                  <a:lnTo>
                    <a:pt x="2307134" y="527150"/>
                  </a:lnTo>
                  <a:lnTo>
                    <a:pt x="2029965" y="527150"/>
                  </a:lnTo>
                  <a:lnTo>
                    <a:pt x="1957983" y="636687"/>
                  </a:lnTo>
                  <a:lnTo>
                    <a:pt x="1800523" y="602457"/>
                  </a:lnTo>
                  <a:lnTo>
                    <a:pt x="2094905" y="157460"/>
                  </a:lnTo>
                  <a:lnTo>
                    <a:pt x="1821061" y="157460"/>
                  </a:lnTo>
                  <a:close/>
                  <a:moveTo>
                    <a:pt x="191691" y="0"/>
                  </a:moveTo>
                  <a:lnTo>
                    <a:pt x="342305" y="34231"/>
                  </a:lnTo>
                  <a:lnTo>
                    <a:pt x="212229" y="403920"/>
                  </a:lnTo>
                  <a:lnTo>
                    <a:pt x="365777" y="403920"/>
                  </a:lnTo>
                  <a:lnTo>
                    <a:pt x="465535" y="260152"/>
                  </a:lnTo>
                  <a:lnTo>
                    <a:pt x="547688" y="390228"/>
                  </a:lnTo>
                  <a:lnTo>
                    <a:pt x="280690" y="780455"/>
                  </a:lnTo>
                  <a:lnTo>
                    <a:pt x="486073" y="780455"/>
                  </a:lnTo>
                  <a:lnTo>
                    <a:pt x="486073" y="931069"/>
                  </a:lnTo>
                  <a:lnTo>
                    <a:pt x="0" y="931069"/>
                  </a:lnTo>
                  <a:lnTo>
                    <a:pt x="266020" y="547688"/>
                  </a:lnTo>
                  <a:lnTo>
                    <a:pt x="0" y="547688"/>
                  </a:lnTo>
                  <a:close/>
                </a:path>
              </a:pathLst>
            </a:custGeom>
            <a:solidFill>
              <a:srgbClr val="a8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文本框 80"/>
            <p:cNvSpPr/>
            <p:nvPr/>
          </p:nvSpPr>
          <p:spPr>
            <a:xfrm>
              <a:off x="1038240" y="2654280"/>
              <a:ext cx="3272760" cy="1418040"/>
            </a:xfrm>
            <a:custGeom>
              <a:avLst/>
              <a:gdLst/>
              <a:ahLst/>
              <a:rect l="l" t="t" r="r" b="b"/>
              <a:pathLst>
                <a:path w="3272433" h="1417142">
                  <a:moveTo>
                    <a:pt x="451843" y="1088529"/>
                  </a:moveTo>
                  <a:lnTo>
                    <a:pt x="499765" y="1239143"/>
                  </a:lnTo>
                  <a:lnTo>
                    <a:pt x="75307" y="1410296"/>
                  </a:lnTo>
                  <a:lnTo>
                    <a:pt x="27385" y="1266528"/>
                  </a:lnTo>
                  <a:close/>
                  <a:moveTo>
                    <a:pt x="636687" y="41077"/>
                  </a:moveTo>
                  <a:lnTo>
                    <a:pt x="1554064" y="41077"/>
                  </a:lnTo>
                  <a:lnTo>
                    <a:pt x="1554064" y="191691"/>
                  </a:lnTo>
                  <a:lnTo>
                    <a:pt x="1184375" y="191691"/>
                  </a:lnTo>
                  <a:lnTo>
                    <a:pt x="1184375" y="1266528"/>
                  </a:lnTo>
                  <a:lnTo>
                    <a:pt x="1554064" y="1266528"/>
                  </a:lnTo>
                  <a:lnTo>
                    <a:pt x="1554064" y="1417142"/>
                  </a:lnTo>
                  <a:lnTo>
                    <a:pt x="622995" y="1417142"/>
                  </a:lnTo>
                  <a:lnTo>
                    <a:pt x="622995" y="1266528"/>
                  </a:lnTo>
                  <a:lnTo>
                    <a:pt x="1013222" y="1266528"/>
                  </a:lnTo>
                  <a:lnTo>
                    <a:pt x="1013222" y="191691"/>
                  </a:lnTo>
                  <a:lnTo>
                    <a:pt x="636687" y="191691"/>
                  </a:lnTo>
                  <a:close/>
                  <a:moveTo>
                    <a:pt x="1821061" y="13693"/>
                  </a:moveTo>
                  <a:lnTo>
                    <a:pt x="3258741" y="13693"/>
                  </a:lnTo>
                  <a:lnTo>
                    <a:pt x="3258741" y="157460"/>
                  </a:lnTo>
                  <a:lnTo>
                    <a:pt x="2875360" y="157460"/>
                  </a:lnTo>
                  <a:lnTo>
                    <a:pt x="2875360" y="705148"/>
                  </a:lnTo>
                  <a:lnTo>
                    <a:pt x="3224510" y="321767"/>
                  </a:lnTo>
                  <a:lnTo>
                    <a:pt x="3272433" y="479227"/>
                  </a:lnTo>
                  <a:lnTo>
                    <a:pt x="2875360" y="910531"/>
                  </a:lnTo>
                  <a:lnTo>
                    <a:pt x="2875360" y="1266528"/>
                  </a:lnTo>
                  <a:lnTo>
                    <a:pt x="3272433" y="1266528"/>
                  </a:lnTo>
                  <a:lnTo>
                    <a:pt x="3265587" y="1417142"/>
                  </a:lnTo>
                  <a:lnTo>
                    <a:pt x="2711053" y="1417142"/>
                  </a:lnTo>
                  <a:lnTo>
                    <a:pt x="2711053" y="157460"/>
                  </a:lnTo>
                  <a:lnTo>
                    <a:pt x="2272903" y="157460"/>
                  </a:lnTo>
                  <a:lnTo>
                    <a:pt x="2124441" y="383382"/>
                  </a:lnTo>
                  <a:lnTo>
                    <a:pt x="2471440" y="383382"/>
                  </a:lnTo>
                  <a:lnTo>
                    <a:pt x="2471440" y="807839"/>
                  </a:lnTo>
                  <a:lnTo>
                    <a:pt x="1944291" y="1417142"/>
                  </a:lnTo>
                  <a:lnTo>
                    <a:pt x="1786831" y="1382911"/>
                  </a:lnTo>
                  <a:lnTo>
                    <a:pt x="2053823" y="1063223"/>
                  </a:lnTo>
                  <a:lnTo>
                    <a:pt x="1786831" y="807839"/>
                  </a:lnTo>
                  <a:lnTo>
                    <a:pt x="1937445" y="746225"/>
                  </a:lnTo>
                  <a:lnTo>
                    <a:pt x="2149315" y="948883"/>
                  </a:lnTo>
                  <a:lnTo>
                    <a:pt x="2307134" y="759917"/>
                  </a:lnTo>
                  <a:lnTo>
                    <a:pt x="2307134" y="527150"/>
                  </a:lnTo>
                  <a:lnTo>
                    <a:pt x="2029965" y="527150"/>
                  </a:lnTo>
                  <a:lnTo>
                    <a:pt x="1957983" y="636687"/>
                  </a:lnTo>
                  <a:lnTo>
                    <a:pt x="1800523" y="602457"/>
                  </a:lnTo>
                  <a:lnTo>
                    <a:pt x="2094905" y="157460"/>
                  </a:lnTo>
                  <a:lnTo>
                    <a:pt x="1821061" y="157460"/>
                  </a:lnTo>
                  <a:close/>
                  <a:moveTo>
                    <a:pt x="191691" y="0"/>
                  </a:moveTo>
                  <a:lnTo>
                    <a:pt x="342305" y="34231"/>
                  </a:lnTo>
                  <a:lnTo>
                    <a:pt x="212229" y="403920"/>
                  </a:lnTo>
                  <a:lnTo>
                    <a:pt x="365777" y="403920"/>
                  </a:lnTo>
                  <a:lnTo>
                    <a:pt x="465535" y="260152"/>
                  </a:lnTo>
                  <a:lnTo>
                    <a:pt x="547688" y="390228"/>
                  </a:lnTo>
                  <a:lnTo>
                    <a:pt x="280690" y="780455"/>
                  </a:lnTo>
                  <a:lnTo>
                    <a:pt x="486073" y="780455"/>
                  </a:lnTo>
                  <a:lnTo>
                    <a:pt x="486073" y="931069"/>
                  </a:lnTo>
                  <a:lnTo>
                    <a:pt x="0" y="931069"/>
                  </a:lnTo>
                  <a:lnTo>
                    <a:pt x="266020" y="547688"/>
                  </a:lnTo>
                  <a:lnTo>
                    <a:pt x="0" y="5476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25E-007 7.40741E-007 L 0.34349 7.40741E-007 E">
                                      <p:cBhvr>
                                        <p:cTn id="1152" dur="5500" fill="hold"/>
                                        <p:tgtEl>
                                          <p:spTgt spid="3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3.7037E-007 L -0.40573 -3.7037E-007 E">
                                      <p:cBhvr>
                                        <p:cTn id="1154" dur="5500" fill="hold"/>
                                        <p:tgtEl>
                                          <p:spTgt spid="3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7.40741E-007 L 0.34349 7.40741E-007 E">
                                      <p:cBhvr>
                                        <p:cTn id="1156" dur="5500" fill="hold"/>
                                        <p:tgtEl>
                                          <p:spTgt spid="3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158" dur="4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3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矩形 64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2c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Freeform 35"/>
          <p:cNvSpPr/>
          <p:nvPr/>
        </p:nvSpPr>
        <p:spPr>
          <a:xfrm>
            <a:off x="8308800" y="1170000"/>
            <a:ext cx="2608560" cy="26067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fec9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文本框 75"/>
          <p:cNvSpPr/>
          <p:nvPr/>
        </p:nvSpPr>
        <p:spPr>
          <a:xfrm>
            <a:off x="1125360" y="976320"/>
            <a:ext cx="1663920" cy="407880"/>
          </a:xfrm>
          <a:custGeom>
            <a:avLst/>
            <a:gdLst/>
            <a:ahLst/>
            <a:rect l="l" t="t" r="r" b="b"/>
            <a:pathLst>
              <a:path w="166412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409737" y="220861"/>
                </a:moveTo>
                <a:lnTo>
                  <a:pt x="1409737" y="343124"/>
                </a:lnTo>
                <a:lnTo>
                  <a:pt x="1612850" y="343124"/>
                </a:lnTo>
                <a:lnTo>
                  <a:pt x="1612850" y="220861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09737" y="61131"/>
                </a:moveTo>
                <a:lnTo>
                  <a:pt x="1409737" y="175506"/>
                </a:lnTo>
                <a:lnTo>
                  <a:pt x="1612850" y="175506"/>
                </a:lnTo>
                <a:lnTo>
                  <a:pt x="1612850" y="61131"/>
                </a:lnTo>
                <a:close/>
                <a:moveTo>
                  <a:pt x="1356494" y="17748"/>
                </a:moveTo>
                <a:lnTo>
                  <a:pt x="1664121" y="17748"/>
                </a:lnTo>
                <a:lnTo>
                  <a:pt x="1664121" y="384535"/>
                </a:lnTo>
                <a:lnTo>
                  <a:pt x="1356494" y="384535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2" name="Group 4"/>
          <p:cNvGrpSpPr/>
          <p:nvPr/>
        </p:nvGrpSpPr>
        <p:grpSpPr>
          <a:xfrm>
            <a:off x="2963880" y="3916440"/>
            <a:ext cx="4602240" cy="2724120"/>
            <a:chOff x="2963880" y="3916440"/>
            <a:chExt cx="4602240" cy="2724120"/>
          </a:xfrm>
        </p:grpSpPr>
        <p:sp>
          <p:nvSpPr>
            <p:cNvPr id="3343" name="Freeform 5"/>
            <p:cNvSpPr/>
            <p:nvPr/>
          </p:nvSpPr>
          <p:spPr>
            <a:xfrm>
              <a:off x="3078360" y="5842080"/>
              <a:ext cx="1901880" cy="684360"/>
            </a:xfrm>
            <a:custGeom>
              <a:avLst/>
              <a:gdLst/>
              <a:ahLst/>
              <a:rect l="l" t="t" r="r" b="b"/>
              <a:pathLst>
                <a:path w="713" h="256">
                  <a:moveTo>
                    <a:pt x="713" y="154"/>
                  </a:moveTo>
                  <a:cubicBezTo>
                    <a:pt x="713" y="154"/>
                    <a:pt x="465" y="256"/>
                    <a:pt x="445" y="256"/>
                  </a:cubicBezTo>
                  <a:cubicBezTo>
                    <a:pt x="425" y="256"/>
                    <a:pt x="112" y="50"/>
                    <a:pt x="112" y="50"/>
                  </a:cubicBezTo>
                  <a:cubicBezTo>
                    <a:pt x="112" y="50"/>
                    <a:pt x="44" y="116"/>
                    <a:pt x="7" y="61"/>
                  </a:cubicBezTo>
                  <a:cubicBezTo>
                    <a:pt x="0" y="52"/>
                    <a:pt x="103" y="0"/>
                    <a:pt x="112" y="1"/>
                  </a:cubicBezTo>
                  <a:cubicBezTo>
                    <a:pt x="116" y="1"/>
                    <a:pt x="455" y="145"/>
                    <a:pt x="455" y="145"/>
                  </a:cubicBezTo>
                  <a:lnTo>
                    <a:pt x="713" y="154"/>
                  </a:lnTo>
                  <a:close/>
                </a:path>
              </a:pathLst>
            </a:custGeom>
            <a:solidFill>
              <a:srgbClr val="232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Freeform 6">
              <a:hlinkClick r:id="rId2"/>
            </p:cNvPr>
            <p:cNvSpPr/>
            <p:nvPr/>
          </p:nvSpPr>
          <p:spPr>
            <a:xfrm>
              <a:off x="2963880" y="5829480"/>
              <a:ext cx="2046240" cy="689040"/>
            </a:xfrm>
            <a:custGeom>
              <a:avLst/>
              <a:gdLst/>
              <a:ahLst/>
              <a:rect l="l" t="t" r="r" b="b"/>
              <a:pathLst>
                <a:path w="767" h="258">
                  <a:moveTo>
                    <a:pt x="613" y="0"/>
                  </a:moveTo>
                  <a:cubicBezTo>
                    <a:pt x="613" y="7"/>
                    <a:pt x="372" y="174"/>
                    <a:pt x="372" y="174"/>
                  </a:cubicBezTo>
                  <a:cubicBezTo>
                    <a:pt x="372" y="174"/>
                    <a:pt x="121" y="94"/>
                    <a:pt x="100" y="102"/>
                  </a:cubicBezTo>
                  <a:cubicBezTo>
                    <a:pt x="78" y="110"/>
                    <a:pt x="0" y="220"/>
                    <a:pt x="5" y="233"/>
                  </a:cubicBezTo>
                  <a:cubicBezTo>
                    <a:pt x="10" y="247"/>
                    <a:pt x="78" y="258"/>
                    <a:pt x="116" y="168"/>
                  </a:cubicBezTo>
                  <a:cubicBezTo>
                    <a:pt x="116" y="168"/>
                    <a:pt x="346" y="253"/>
                    <a:pt x="374" y="251"/>
                  </a:cubicBezTo>
                  <a:cubicBezTo>
                    <a:pt x="403" y="249"/>
                    <a:pt x="767" y="159"/>
                    <a:pt x="767" y="159"/>
                  </a:cubicBezTo>
                  <a:lnTo>
                    <a:pt x="613" y="0"/>
                  </a:ln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Freeform 7">
              <a:hlinkClick r:id="rId3"/>
            </p:cNvPr>
            <p:cNvSpPr/>
            <p:nvPr/>
          </p:nvSpPr>
          <p:spPr>
            <a:xfrm>
              <a:off x="4579920" y="5332320"/>
              <a:ext cx="1324080" cy="920880"/>
            </a:xfrm>
            <a:custGeom>
              <a:avLst/>
              <a:gdLst/>
              <a:ahLst/>
              <a:rect l="l" t="t" r="r" b="b"/>
              <a:pathLst>
                <a:path w="496" h="345">
                  <a:moveTo>
                    <a:pt x="341" y="0"/>
                  </a:moveTo>
                  <a:cubicBezTo>
                    <a:pt x="496" y="100"/>
                    <a:pt x="496" y="100"/>
                    <a:pt x="496" y="100"/>
                  </a:cubicBezTo>
                  <a:cubicBezTo>
                    <a:pt x="161" y="345"/>
                    <a:pt x="161" y="345"/>
                    <a:pt x="161" y="345"/>
                  </a:cubicBezTo>
                  <a:cubicBezTo>
                    <a:pt x="161" y="345"/>
                    <a:pt x="87" y="322"/>
                    <a:pt x="45" y="268"/>
                  </a:cubicBezTo>
                  <a:cubicBezTo>
                    <a:pt x="14" y="228"/>
                    <a:pt x="0" y="186"/>
                    <a:pt x="0" y="186"/>
                  </a:cubicBezTo>
                  <a:lnTo>
                    <a:pt x="341" y="0"/>
                  </a:lnTo>
                  <a:close/>
                </a:path>
              </a:pathLst>
            </a:custGeom>
            <a:solidFill>
              <a:srgbClr val="eef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Freeform 8"/>
            <p:cNvSpPr/>
            <p:nvPr/>
          </p:nvSpPr>
          <p:spPr>
            <a:xfrm>
              <a:off x="4948200" y="5567400"/>
              <a:ext cx="792360" cy="1073160"/>
            </a:xfrm>
            <a:custGeom>
              <a:avLst/>
              <a:gdLst/>
              <a:ahLst/>
              <a:rect l="l" t="t" r="r" b="b"/>
              <a:pathLst>
                <a:path w="297" h="402">
                  <a:moveTo>
                    <a:pt x="277" y="0"/>
                  </a:moveTo>
                  <a:cubicBezTo>
                    <a:pt x="250" y="33"/>
                    <a:pt x="250" y="33"/>
                    <a:pt x="250" y="33"/>
                  </a:cubicBezTo>
                  <a:cubicBezTo>
                    <a:pt x="258" y="62"/>
                    <a:pt x="258" y="62"/>
                    <a:pt x="258" y="62"/>
                  </a:cubicBezTo>
                  <a:cubicBezTo>
                    <a:pt x="258" y="62"/>
                    <a:pt x="256" y="279"/>
                    <a:pt x="163" y="318"/>
                  </a:cubicBezTo>
                  <a:cubicBezTo>
                    <a:pt x="94" y="347"/>
                    <a:pt x="23" y="340"/>
                    <a:pt x="23" y="340"/>
                  </a:cubicBezTo>
                  <a:cubicBezTo>
                    <a:pt x="0" y="373"/>
                    <a:pt x="0" y="373"/>
                    <a:pt x="0" y="373"/>
                  </a:cubicBezTo>
                  <a:cubicBezTo>
                    <a:pt x="29" y="402"/>
                    <a:pt x="29" y="402"/>
                    <a:pt x="29" y="402"/>
                  </a:cubicBezTo>
                  <a:cubicBezTo>
                    <a:pt x="29" y="402"/>
                    <a:pt x="152" y="393"/>
                    <a:pt x="194" y="373"/>
                  </a:cubicBezTo>
                  <a:cubicBezTo>
                    <a:pt x="256" y="344"/>
                    <a:pt x="297" y="154"/>
                    <a:pt x="277" y="67"/>
                  </a:cubicBezTo>
                  <a:cubicBezTo>
                    <a:pt x="291" y="34"/>
                    <a:pt x="291" y="34"/>
                    <a:pt x="291" y="34"/>
                  </a:cubicBezTo>
                  <a:lnTo>
                    <a:pt x="277" y="0"/>
                  </a:ln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Freeform 9"/>
            <p:cNvSpPr/>
            <p:nvPr/>
          </p:nvSpPr>
          <p:spPr>
            <a:xfrm>
              <a:off x="5362560" y="5607000"/>
              <a:ext cx="76320" cy="371520"/>
            </a:xfrm>
            <a:custGeom>
              <a:avLst/>
              <a:gdLst/>
              <a:ahLst/>
              <a:rect l="l" t="t" r="r" b="b"/>
              <a:pathLst>
                <a:path w="48" h="234">
                  <a:moveTo>
                    <a:pt x="0" y="0"/>
                  </a:moveTo>
                  <a:lnTo>
                    <a:pt x="48" y="209"/>
                  </a:lnTo>
                  <a:lnTo>
                    <a:pt x="15" y="2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Freeform 10"/>
            <p:cNvSpPr/>
            <p:nvPr/>
          </p:nvSpPr>
          <p:spPr>
            <a:xfrm>
              <a:off x="5634000" y="5365800"/>
              <a:ext cx="211320" cy="19044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0" y="22"/>
                  </a:moveTo>
                  <a:cubicBezTo>
                    <a:pt x="21" y="71"/>
                    <a:pt x="21" y="71"/>
                    <a:pt x="21" y="71"/>
                  </a:cubicBezTo>
                  <a:cubicBezTo>
                    <a:pt x="51" y="63"/>
                    <a:pt x="51" y="63"/>
                    <a:pt x="51" y="63"/>
                  </a:cubicBezTo>
                  <a:cubicBezTo>
                    <a:pt x="79" y="23"/>
                    <a:pt x="79" y="23"/>
                    <a:pt x="79" y="23"/>
                  </a:cubicBezTo>
                  <a:cubicBezTo>
                    <a:pt x="67" y="23"/>
                    <a:pt x="43" y="18"/>
                    <a:pt x="14" y="0"/>
                  </a:cubicBezTo>
                  <a:lnTo>
                    <a:pt x="0" y="22"/>
                  </a:ln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9" name="Freeform 11"/>
            <p:cNvSpPr/>
            <p:nvPr/>
          </p:nvSpPr>
          <p:spPr>
            <a:xfrm>
              <a:off x="5672160" y="5332320"/>
              <a:ext cx="177840" cy="9540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9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29" y="31"/>
                    <a:pt x="53" y="36"/>
                    <a:pt x="65" y="36"/>
                  </a:cubicBezTo>
                  <a:cubicBezTo>
                    <a:pt x="67" y="34"/>
                    <a:pt x="67" y="34"/>
                    <a:pt x="67" y="34"/>
                  </a:cubicBezTo>
                  <a:lnTo>
                    <a:pt x="9" y="0"/>
                  </a:ln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0" name="Freeform 12"/>
            <p:cNvSpPr/>
            <p:nvPr/>
          </p:nvSpPr>
          <p:spPr>
            <a:xfrm>
              <a:off x="5362560" y="5505480"/>
              <a:ext cx="260640" cy="544680"/>
            </a:xfrm>
            <a:custGeom>
              <a:avLst/>
              <a:gdLst/>
              <a:ahLst/>
              <a:rect l="l" t="t" r="r" b="b"/>
              <a:pathLst>
                <a:path w="98" h="204">
                  <a:moveTo>
                    <a:pt x="64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0" y="38"/>
                    <a:pt x="18" y="120"/>
                    <a:pt x="39" y="204"/>
                  </a:cubicBezTo>
                  <a:cubicBezTo>
                    <a:pt x="98" y="166"/>
                    <a:pt x="98" y="166"/>
                    <a:pt x="98" y="166"/>
                  </a:cubicBezTo>
                  <a:cubicBezTo>
                    <a:pt x="80" y="83"/>
                    <a:pt x="64" y="0"/>
                    <a:pt x="64" y="0"/>
                  </a:cubicBezTo>
                  <a:close/>
                </a:path>
              </a:pathLst>
            </a:custGeom>
            <a:solidFill>
              <a:srgbClr val="eef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1" name="Freeform 13"/>
            <p:cNvSpPr/>
            <p:nvPr/>
          </p:nvSpPr>
          <p:spPr>
            <a:xfrm>
              <a:off x="5477040" y="5962680"/>
              <a:ext cx="1054080" cy="674640"/>
            </a:xfrm>
            <a:custGeom>
              <a:avLst/>
              <a:gdLst/>
              <a:ahLst/>
              <a:rect l="l" t="t" r="r" b="b"/>
              <a:pathLst>
                <a:path w="395" h="253">
                  <a:moveTo>
                    <a:pt x="361" y="188"/>
                  </a:moveTo>
                  <a:cubicBezTo>
                    <a:pt x="361" y="188"/>
                    <a:pt x="395" y="172"/>
                    <a:pt x="358" y="175"/>
                  </a:cubicBezTo>
                  <a:cubicBezTo>
                    <a:pt x="358" y="175"/>
                    <a:pt x="390" y="155"/>
                    <a:pt x="357" y="159"/>
                  </a:cubicBezTo>
                  <a:cubicBezTo>
                    <a:pt x="357" y="159"/>
                    <a:pt x="388" y="145"/>
                    <a:pt x="352" y="143"/>
                  </a:cubicBezTo>
                  <a:cubicBezTo>
                    <a:pt x="349" y="143"/>
                    <a:pt x="336" y="144"/>
                    <a:pt x="317" y="145"/>
                  </a:cubicBezTo>
                  <a:cubicBezTo>
                    <a:pt x="319" y="139"/>
                    <a:pt x="322" y="129"/>
                    <a:pt x="318" y="128"/>
                  </a:cubicBezTo>
                  <a:cubicBezTo>
                    <a:pt x="313" y="126"/>
                    <a:pt x="305" y="142"/>
                    <a:pt x="303" y="147"/>
                  </a:cubicBezTo>
                  <a:cubicBezTo>
                    <a:pt x="236" y="154"/>
                    <a:pt x="125" y="168"/>
                    <a:pt x="107" y="158"/>
                  </a:cubicBezTo>
                  <a:cubicBezTo>
                    <a:pt x="95" y="151"/>
                    <a:pt x="75" y="77"/>
                    <a:pt x="57" y="0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20" y="126"/>
                    <a:pt x="43" y="202"/>
                    <a:pt x="59" y="218"/>
                  </a:cubicBezTo>
                  <a:cubicBezTo>
                    <a:pt x="93" y="253"/>
                    <a:pt x="363" y="201"/>
                    <a:pt x="363" y="201"/>
                  </a:cubicBezTo>
                  <a:cubicBezTo>
                    <a:pt x="372" y="199"/>
                    <a:pt x="389" y="185"/>
                    <a:pt x="361" y="188"/>
                  </a:cubicBez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2" name="Freeform 14"/>
            <p:cNvSpPr/>
            <p:nvPr/>
          </p:nvSpPr>
          <p:spPr>
            <a:xfrm>
              <a:off x="5465880" y="5948280"/>
              <a:ext cx="163440" cy="14472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59" y="0"/>
                  </a:moveTo>
                  <a:cubicBezTo>
                    <a:pt x="0" y="38"/>
                    <a:pt x="0" y="38"/>
                    <a:pt x="0" y="38"/>
                  </a:cubicBezTo>
                  <a:cubicBezTo>
                    <a:pt x="2" y="44"/>
                    <a:pt x="3" y="49"/>
                    <a:pt x="4" y="54"/>
                  </a:cubicBezTo>
                  <a:cubicBezTo>
                    <a:pt x="61" y="5"/>
                    <a:pt x="61" y="5"/>
                    <a:pt x="61" y="5"/>
                  </a:cubicBezTo>
                  <a:cubicBezTo>
                    <a:pt x="60" y="3"/>
                    <a:pt x="60" y="2"/>
                    <a:pt x="59" y="0"/>
                  </a:cubicBezTo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3" name="Freeform 15"/>
            <p:cNvSpPr/>
            <p:nvPr/>
          </p:nvSpPr>
          <p:spPr>
            <a:xfrm>
              <a:off x="5740560" y="5384880"/>
              <a:ext cx="504720" cy="334800"/>
            </a:xfrm>
            <a:custGeom>
              <a:avLst/>
              <a:gdLst/>
              <a:ahLst/>
              <a:rect l="l" t="t" r="r" b="b"/>
              <a:pathLst>
                <a:path w="189" h="125">
                  <a:moveTo>
                    <a:pt x="13" y="67"/>
                  </a:moveTo>
                  <a:cubicBezTo>
                    <a:pt x="0" y="125"/>
                    <a:pt x="0" y="125"/>
                    <a:pt x="0" y="125"/>
                  </a:cubicBezTo>
                  <a:cubicBezTo>
                    <a:pt x="0" y="125"/>
                    <a:pt x="93" y="108"/>
                    <a:pt x="189" y="68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21" y="32"/>
                    <a:pt x="59" y="58"/>
                    <a:pt x="13" y="67"/>
                  </a:cubicBezTo>
                  <a:close/>
                </a:path>
              </a:pathLst>
            </a:custGeom>
            <a:solidFill>
              <a:srgbClr val="eef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4" name="Freeform 16"/>
            <p:cNvSpPr/>
            <p:nvPr/>
          </p:nvSpPr>
          <p:spPr>
            <a:xfrm>
              <a:off x="6230880" y="5372280"/>
              <a:ext cx="54000" cy="195120"/>
            </a:xfrm>
            <a:custGeom>
              <a:avLst/>
              <a:gdLst/>
              <a:ahLst/>
              <a:rect l="l" t="t" r="r" b="b"/>
              <a:pathLst>
                <a:path w="20" h="73">
                  <a:moveTo>
                    <a:pt x="0" y="5"/>
                  </a:moveTo>
                  <a:cubicBezTo>
                    <a:pt x="5" y="73"/>
                    <a:pt x="5" y="73"/>
                    <a:pt x="5" y="73"/>
                  </a:cubicBezTo>
                  <a:cubicBezTo>
                    <a:pt x="10" y="71"/>
                    <a:pt x="15" y="69"/>
                    <a:pt x="20" y="66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2"/>
                    <a:pt x="4" y="4"/>
                    <a:pt x="0" y="5"/>
                  </a:cubicBez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5" name="Freeform 17"/>
            <p:cNvSpPr/>
            <p:nvPr/>
          </p:nvSpPr>
          <p:spPr>
            <a:xfrm>
              <a:off x="7277040" y="4753080"/>
              <a:ext cx="203400" cy="11916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0" y="45"/>
                  </a:moveTo>
                  <a:cubicBezTo>
                    <a:pt x="0" y="45"/>
                    <a:pt x="40" y="6"/>
                    <a:pt x="60" y="3"/>
                  </a:cubicBezTo>
                  <a:cubicBezTo>
                    <a:pt x="73" y="0"/>
                    <a:pt x="76" y="11"/>
                    <a:pt x="60" y="17"/>
                  </a:cubicBezTo>
                  <a:cubicBezTo>
                    <a:pt x="42" y="24"/>
                    <a:pt x="34" y="41"/>
                    <a:pt x="34" y="41"/>
                  </a:cubicBezTo>
                  <a:lnTo>
                    <a:pt x="0" y="45"/>
                  </a:ln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6" name="Freeform 18">
              <a:hlinkClick r:id="rId4"/>
            </p:cNvPr>
            <p:cNvSpPr/>
            <p:nvPr/>
          </p:nvSpPr>
          <p:spPr>
            <a:xfrm>
              <a:off x="6261120" y="4805280"/>
              <a:ext cx="1305000" cy="743040"/>
            </a:xfrm>
            <a:custGeom>
              <a:avLst/>
              <a:gdLst/>
              <a:ahLst/>
              <a:rect l="l" t="t" r="r" b="b"/>
              <a:pathLst>
                <a:path w="489" h="278">
                  <a:moveTo>
                    <a:pt x="470" y="6"/>
                  </a:moveTo>
                  <a:cubicBezTo>
                    <a:pt x="451" y="0"/>
                    <a:pt x="434" y="4"/>
                    <a:pt x="422" y="14"/>
                  </a:cubicBezTo>
                  <a:cubicBezTo>
                    <a:pt x="410" y="24"/>
                    <a:pt x="356" y="22"/>
                    <a:pt x="342" y="25"/>
                  </a:cubicBezTo>
                  <a:cubicBezTo>
                    <a:pt x="294" y="36"/>
                    <a:pt x="236" y="57"/>
                    <a:pt x="175" y="103"/>
                  </a:cubicBezTo>
                  <a:cubicBezTo>
                    <a:pt x="127" y="140"/>
                    <a:pt x="63" y="179"/>
                    <a:pt x="0" y="212"/>
                  </a:cubicBezTo>
                  <a:cubicBezTo>
                    <a:pt x="9" y="278"/>
                    <a:pt x="9" y="278"/>
                    <a:pt x="9" y="278"/>
                  </a:cubicBezTo>
                  <a:cubicBezTo>
                    <a:pt x="71" y="251"/>
                    <a:pt x="141" y="214"/>
                    <a:pt x="204" y="164"/>
                  </a:cubicBezTo>
                  <a:cubicBezTo>
                    <a:pt x="271" y="110"/>
                    <a:pt x="316" y="91"/>
                    <a:pt x="347" y="89"/>
                  </a:cubicBezTo>
                  <a:cubicBezTo>
                    <a:pt x="347" y="89"/>
                    <a:pt x="347" y="89"/>
                    <a:pt x="347" y="89"/>
                  </a:cubicBezTo>
                  <a:cubicBezTo>
                    <a:pt x="365" y="85"/>
                    <a:pt x="371" y="79"/>
                    <a:pt x="385" y="85"/>
                  </a:cubicBezTo>
                  <a:cubicBezTo>
                    <a:pt x="402" y="92"/>
                    <a:pt x="425" y="95"/>
                    <a:pt x="430" y="85"/>
                  </a:cubicBezTo>
                  <a:cubicBezTo>
                    <a:pt x="435" y="75"/>
                    <a:pt x="408" y="71"/>
                    <a:pt x="394" y="67"/>
                  </a:cubicBezTo>
                  <a:cubicBezTo>
                    <a:pt x="380" y="63"/>
                    <a:pt x="381" y="41"/>
                    <a:pt x="411" y="38"/>
                  </a:cubicBezTo>
                  <a:cubicBezTo>
                    <a:pt x="441" y="35"/>
                    <a:pt x="440" y="9"/>
                    <a:pt x="467" y="22"/>
                  </a:cubicBezTo>
                  <a:cubicBezTo>
                    <a:pt x="477" y="27"/>
                    <a:pt x="489" y="12"/>
                    <a:pt x="470" y="6"/>
                  </a:cubicBez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7" name="Freeform 19">
              <a:hlinkClick r:id="rId5"/>
            </p:cNvPr>
            <p:cNvSpPr/>
            <p:nvPr/>
          </p:nvSpPr>
          <p:spPr>
            <a:xfrm>
              <a:off x="5297760" y="4130640"/>
              <a:ext cx="1163520" cy="1382760"/>
            </a:xfrm>
            <a:custGeom>
              <a:avLst/>
              <a:gdLst/>
              <a:ahLst/>
              <a:rect l="l" t="t" r="r" b="b"/>
              <a:pathLst>
                <a:path w="436" h="518">
                  <a:moveTo>
                    <a:pt x="391" y="196"/>
                  </a:moveTo>
                  <a:cubicBezTo>
                    <a:pt x="436" y="321"/>
                    <a:pt x="395" y="449"/>
                    <a:pt x="299" y="484"/>
                  </a:cubicBezTo>
                  <a:cubicBezTo>
                    <a:pt x="204" y="518"/>
                    <a:pt x="90" y="446"/>
                    <a:pt x="45" y="322"/>
                  </a:cubicBezTo>
                  <a:cubicBezTo>
                    <a:pt x="0" y="198"/>
                    <a:pt x="41" y="69"/>
                    <a:pt x="136" y="34"/>
                  </a:cubicBezTo>
                  <a:cubicBezTo>
                    <a:pt x="232" y="0"/>
                    <a:pt x="346" y="72"/>
                    <a:pt x="391" y="196"/>
                  </a:cubicBez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8" name="Freeform 20"/>
            <p:cNvSpPr/>
            <p:nvPr/>
          </p:nvSpPr>
          <p:spPr>
            <a:xfrm>
              <a:off x="6037200" y="5078520"/>
              <a:ext cx="220680" cy="117360"/>
            </a:xfrm>
            <a:custGeom>
              <a:avLst/>
              <a:gdLst/>
              <a:ahLst/>
              <a:rect l="l" t="t" r="r" b="b"/>
              <a:pathLst>
                <a:path w="83" h="44">
                  <a:moveTo>
                    <a:pt x="82" y="21"/>
                  </a:moveTo>
                  <a:cubicBezTo>
                    <a:pt x="83" y="32"/>
                    <a:pt x="65" y="43"/>
                    <a:pt x="42" y="44"/>
                  </a:cubicBezTo>
                  <a:cubicBezTo>
                    <a:pt x="19" y="44"/>
                    <a:pt x="0" y="35"/>
                    <a:pt x="0" y="23"/>
                  </a:cubicBezTo>
                  <a:cubicBezTo>
                    <a:pt x="0" y="11"/>
                    <a:pt x="18" y="1"/>
                    <a:pt x="41" y="0"/>
                  </a:cubicBezTo>
                  <a:cubicBezTo>
                    <a:pt x="63" y="0"/>
                    <a:pt x="82" y="9"/>
                    <a:pt x="82" y="21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9" name="Freeform 21"/>
            <p:cNvSpPr/>
            <p:nvPr/>
          </p:nvSpPr>
          <p:spPr>
            <a:xfrm>
              <a:off x="6296040" y="4613400"/>
              <a:ext cx="208080" cy="25092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0" y="34"/>
                  </a:moveTo>
                  <a:cubicBezTo>
                    <a:pt x="0" y="34"/>
                    <a:pt x="46" y="0"/>
                    <a:pt x="55" y="6"/>
                  </a:cubicBezTo>
                  <a:cubicBezTo>
                    <a:pt x="65" y="13"/>
                    <a:pt x="78" y="72"/>
                    <a:pt x="27" y="94"/>
                  </a:cubicBezTo>
                  <a:lnTo>
                    <a:pt x="0" y="34"/>
                  </a:lnTo>
                  <a:close/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0" name="Freeform 22"/>
            <p:cNvSpPr/>
            <p:nvPr/>
          </p:nvSpPr>
          <p:spPr>
            <a:xfrm>
              <a:off x="6276960" y="4856400"/>
              <a:ext cx="114480" cy="131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1" y="0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4" y="49"/>
                    <a:pt x="41" y="45"/>
                  </a:cubicBezTo>
                  <a:cubicBezTo>
                    <a:pt x="41" y="45"/>
                    <a:pt x="43" y="5"/>
                    <a:pt x="41" y="0"/>
                  </a:cubicBezTo>
                  <a:close/>
                </a:path>
              </a:pathLst>
            </a:custGeom>
            <a:solidFill>
              <a:srgbClr val="f0ba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1" name="Freeform 23"/>
            <p:cNvSpPr/>
            <p:nvPr/>
          </p:nvSpPr>
          <p:spPr>
            <a:xfrm>
              <a:off x="6175440" y="4523040"/>
              <a:ext cx="93600" cy="136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20"/>
                  </a:moveTo>
                  <a:cubicBezTo>
                    <a:pt x="29" y="18"/>
                    <a:pt x="28" y="17"/>
                    <a:pt x="27" y="15"/>
                  </a:cubicBezTo>
                  <a:cubicBezTo>
                    <a:pt x="26" y="18"/>
                    <a:pt x="24" y="19"/>
                    <a:pt x="21" y="20"/>
                  </a:cubicBezTo>
                  <a:cubicBezTo>
                    <a:pt x="18" y="20"/>
                    <a:pt x="15" y="17"/>
                    <a:pt x="15" y="13"/>
                  </a:cubicBezTo>
                  <a:cubicBezTo>
                    <a:pt x="14" y="10"/>
                    <a:pt x="17" y="7"/>
                    <a:pt x="21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17" y="2"/>
                    <a:pt x="12" y="0"/>
                    <a:pt x="8" y="2"/>
                  </a:cubicBezTo>
                  <a:cubicBezTo>
                    <a:pt x="1" y="5"/>
                    <a:pt x="0" y="17"/>
                    <a:pt x="5" y="30"/>
                  </a:cubicBezTo>
                  <a:cubicBezTo>
                    <a:pt x="10" y="43"/>
                    <a:pt x="20" y="51"/>
                    <a:pt x="26" y="48"/>
                  </a:cubicBezTo>
                  <a:cubicBezTo>
                    <a:pt x="33" y="45"/>
                    <a:pt x="35" y="33"/>
                    <a:pt x="30" y="20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2" name="Freeform 24"/>
            <p:cNvSpPr/>
            <p:nvPr/>
          </p:nvSpPr>
          <p:spPr>
            <a:xfrm>
              <a:off x="5932440" y="4616640"/>
              <a:ext cx="93960" cy="136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20"/>
                  </a:moveTo>
                  <a:cubicBezTo>
                    <a:pt x="30" y="18"/>
                    <a:pt x="29" y="17"/>
                    <a:pt x="28" y="15"/>
                  </a:cubicBezTo>
                  <a:cubicBezTo>
                    <a:pt x="27" y="18"/>
                    <a:pt x="25" y="19"/>
                    <a:pt x="22" y="20"/>
                  </a:cubicBezTo>
                  <a:cubicBezTo>
                    <a:pt x="18" y="20"/>
                    <a:pt x="15" y="17"/>
                    <a:pt x="15" y="13"/>
                  </a:cubicBezTo>
                  <a:cubicBezTo>
                    <a:pt x="15" y="10"/>
                    <a:pt x="18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17" y="2"/>
                    <a:pt x="12" y="0"/>
                    <a:pt x="9" y="2"/>
                  </a:cubicBezTo>
                  <a:cubicBezTo>
                    <a:pt x="2" y="5"/>
                    <a:pt x="0" y="17"/>
                    <a:pt x="5" y="30"/>
                  </a:cubicBezTo>
                  <a:cubicBezTo>
                    <a:pt x="11" y="43"/>
                    <a:pt x="20" y="51"/>
                    <a:pt x="27" y="48"/>
                  </a:cubicBezTo>
                  <a:cubicBezTo>
                    <a:pt x="34" y="45"/>
                    <a:pt x="35" y="33"/>
                    <a:pt x="30" y="20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3" name="Freeform 25"/>
            <p:cNvSpPr/>
            <p:nvPr/>
          </p:nvSpPr>
          <p:spPr>
            <a:xfrm>
              <a:off x="5058000" y="3916440"/>
              <a:ext cx="1230120" cy="1386000"/>
            </a:xfrm>
            <a:custGeom>
              <a:avLst/>
              <a:gdLst/>
              <a:ahLst/>
              <a:rect l="l" t="t" r="r" b="b"/>
              <a:pathLst>
                <a:path w="461" h="519">
                  <a:moveTo>
                    <a:pt x="445" y="188"/>
                  </a:moveTo>
                  <a:cubicBezTo>
                    <a:pt x="445" y="188"/>
                    <a:pt x="440" y="149"/>
                    <a:pt x="410" y="135"/>
                  </a:cubicBezTo>
                  <a:cubicBezTo>
                    <a:pt x="461" y="55"/>
                    <a:pt x="363" y="0"/>
                    <a:pt x="363" y="0"/>
                  </a:cubicBezTo>
                  <a:cubicBezTo>
                    <a:pt x="259" y="119"/>
                    <a:pt x="264" y="81"/>
                    <a:pt x="158" y="123"/>
                  </a:cubicBezTo>
                  <a:cubicBezTo>
                    <a:pt x="62" y="160"/>
                    <a:pt x="79" y="225"/>
                    <a:pt x="87" y="238"/>
                  </a:cubicBezTo>
                  <a:cubicBezTo>
                    <a:pt x="0" y="369"/>
                    <a:pt x="213" y="519"/>
                    <a:pt x="213" y="519"/>
                  </a:cubicBezTo>
                  <a:cubicBezTo>
                    <a:pt x="252" y="374"/>
                    <a:pt x="200" y="257"/>
                    <a:pt x="200" y="257"/>
                  </a:cubicBezTo>
                  <a:cubicBezTo>
                    <a:pt x="297" y="219"/>
                    <a:pt x="356" y="194"/>
                    <a:pt x="389" y="161"/>
                  </a:cubicBezTo>
                  <a:cubicBezTo>
                    <a:pt x="406" y="161"/>
                    <a:pt x="436" y="164"/>
                    <a:pt x="445" y="188"/>
                  </a:cubicBezTo>
                  <a:close/>
                </a:path>
              </a:pathLst>
            </a:custGeom>
            <a:solidFill>
              <a:srgbClr val="353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4" name="Freeform 26"/>
            <p:cNvSpPr/>
            <p:nvPr/>
          </p:nvSpPr>
          <p:spPr>
            <a:xfrm>
              <a:off x="5473800" y="4770360"/>
              <a:ext cx="235080" cy="26064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75" y="86"/>
                  </a:moveTo>
                  <a:cubicBezTo>
                    <a:pt x="62" y="97"/>
                    <a:pt x="37" y="89"/>
                    <a:pt x="20" y="69"/>
                  </a:cubicBezTo>
                  <a:cubicBezTo>
                    <a:pt x="3" y="48"/>
                    <a:pt x="0" y="22"/>
                    <a:pt x="14" y="11"/>
                  </a:cubicBezTo>
                  <a:cubicBezTo>
                    <a:pt x="27" y="0"/>
                    <a:pt x="52" y="8"/>
                    <a:pt x="69" y="29"/>
                  </a:cubicBezTo>
                  <a:cubicBezTo>
                    <a:pt x="86" y="50"/>
                    <a:pt x="88" y="75"/>
                    <a:pt x="75" y="86"/>
                  </a:cubicBezTo>
                </a:path>
              </a:pathLst>
            </a:custGeom>
            <a:solidFill>
              <a:srgbClr val="ffd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5" name="Freeform 34"/>
          <p:cNvSpPr/>
          <p:nvPr/>
        </p:nvSpPr>
        <p:spPr>
          <a:xfrm>
            <a:off x="9144000" y="3900600"/>
            <a:ext cx="906480" cy="549000"/>
          </a:xfrm>
          <a:custGeom>
            <a:avLst/>
            <a:gdLst/>
            <a:ahLst/>
            <a:rect l="l" t="t" r="r" b="b"/>
            <a:pathLst>
              <a:path w="388" h="235">
                <a:moveTo>
                  <a:pt x="388" y="0"/>
                </a:moveTo>
                <a:lnTo>
                  <a:pt x="192" y="235"/>
                </a:lnTo>
                <a:lnTo>
                  <a:pt x="0" y="2"/>
                </a:lnTo>
                <a:lnTo>
                  <a:pt x="388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6" name="Freeform 37"/>
          <p:cNvSpPr/>
          <p:nvPr/>
        </p:nvSpPr>
        <p:spPr>
          <a:xfrm>
            <a:off x="8589960" y="2982960"/>
            <a:ext cx="2030400" cy="923760"/>
          </a:xfrm>
          <a:custGeom>
            <a:avLst/>
            <a:gdLst/>
            <a:ahLst/>
            <a:rect l="l" t="t" r="r" b="b"/>
            <a:pathLst>
              <a:path w="870" h="396">
                <a:moveTo>
                  <a:pt x="663" y="395"/>
                </a:moveTo>
                <a:lnTo>
                  <a:pt x="870" y="146"/>
                </a:lnTo>
                <a:lnTo>
                  <a:pt x="870" y="146"/>
                </a:lnTo>
                <a:lnTo>
                  <a:pt x="870" y="146"/>
                </a:lnTo>
                <a:lnTo>
                  <a:pt x="653" y="0"/>
                </a:lnTo>
                <a:lnTo>
                  <a:pt x="435" y="148"/>
                </a:lnTo>
                <a:lnTo>
                  <a:pt x="217" y="2"/>
                </a:lnTo>
                <a:lnTo>
                  <a:pt x="0" y="148"/>
                </a:lnTo>
                <a:lnTo>
                  <a:pt x="0" y="148"/>
                </a:lnTo>
                <a:lnTo>
                  <a:pt x="0" y="148"/>
                </a:lnTo>
                <a:lnTo>
                  <a:pt x="209" y="396"/>
                </a:lnTo>
                <a:lnTo>
                  <a:pt x="663" y="395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7" name="组合 46"/>
          <p:cNvGrpSpPr/>
          <p:nvPr/>
        </p:nvGrpSpPr>
        <p:grpSpPr>
          <a:xfrm>
            <a:off x="8285040" y="5089680"/>
            <a:ext cx="2859840" cy="1099440"/>
            <a:chOff x="8285040" y="5089680"/>
            <a:chExt cx="2859840" cy="1099440"/>
          </a:xfrm>
        </p:grpSpPr>
        <p:grpSp>
          <p:nvGrpSpPr>
            <p:cNvPr id="3368" name="组合 42"/>
            <p:cNvGrpSpPr/>
            <p:nvPr/>
          </p:nvGrpSpPr>
          <p:grpSpPr>
            <a:xfrm>
              <a:off x="8285040" y="5089680"/>
              <a:ext cx="2859840" cy="1099440"/>
              <a:chOff x="8285040" y="5089680"/>
              <a:chExt cx="2859840" cy="1099440"/>
            </a:xfrm>
          </p:grpSpPr>
          <p:sp>
            <p:nvSpPr>
              <p:cNvPr id="3369" name="Rectangle 30">
                <a:hlinkClick r:id="rId6"/>
              </p:cNvPr>
              <p:cNvSpPr/>
              <p:nvPr/>
            </p:nvSpPr>
            <p:spPr>
              <a:xfrm>
                <a:off x="8583480" y="5089680"/>
                <a:ext cx="23414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ffff"/>
                    </a:solidFill>
                    <a:latin typeface="方正中等线简体"/>
                    <a:ea typeface="方正中等线简体"/>
                  </a:rPr>
                  <a:t>PPT</a:t>
                </a:r>
                <a:r>
                  <a:rPr b="0" lang="zh-CN" sz="4800" spc="-1" strike="noStrike">
                    <a:solidFill>
                      <a:srgbClr val="ffffff"/>
                    </a:solidFill>
                    <a:latin typeface="方正中等线简体"/>
                    <a:ea typeface="方正中等线简体"/>
                  </a:rPr>
                  <a:t>研究院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0" name="Rectangle 30"/>
              <p:cNvSpPr/>
              <p:nvPr/>
            </p:nvSpPr>
            <p:spPr>
              <a:xfrm>
                <a:off x="8285040" y="5914440"/>
                <a:ext cx="2859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方正中等线简体"/>
                    <a:ea typeface="方正中等线简体"/>
                  </a:rPr>
                  <a:t>POWERPOINT ACADEM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71" name="直接连接符 44"/>
            <p:cNvSpPr/>
            <p:nvPr/>
          </p:nvSpPr>
          <p:spPr>
            <a:xfrm>
              <a:off x="8308440" y="5874840"/>
              <a:ext cx="28364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2" name="Group 5"/>
          <p:cNvGrpSpPr/>
          <p:nvPr/>
        </p:nvGrpSpPr>
        <p:grpSpPr>
          <a:xfrm>
            <a:off x="7288200" y="-119160"/>
            <a:ext cx="5021280" cy="5021280"/>
            <a:chOff x="7288200" y="-119160"/>
            <a:chExt cx="5021280" cy="5021280"/>
          </a:xfrm>
        </p:grpSpPr>
        <p:sp>
          <p:nvSpPr>
            <p:cNvPr id="3373" name="椭圆 2"/>
            <p:cNvSpPr/>
            <p:nvPr/>
          </p:nvSpPr>
          <p:spPr>
            <a:xfrm>
              <a:off x="7288200" y="-119160"/>
              <a:ext cx="5021280" cy="502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74" name="组合 1"/>
            <p:cNvGrpSpPr/>
            <p:nvPr/>
          </p:nvGrpSpPr>
          <p:grpSpPr>
            <a:xfrm>
              <a:off x="7579800" y="187920"/>
              <a:ext cx="4458600" cy="2224800"/>
              <a:chOff x="7579800" y="187920"/>
              <a:chExt cx="4458600" cy="2224800"/>
            </a:xfrm>
          </p:grpSpPr>
          <p:sp>
            <p:nvSpPr>
              <p:cNvPr id="3375" name="直接连接符 43"/>
              <p:cNvSpPr/>
              <p:nvPr/>
            </p:nvSpPr>
            <p:spPr>
              <a:xfrm flipH="1">
                <a:off x="7579800" y="241272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6" name="直接连接符 45"/>
              <p:cNvSpPr/>
              <p:nvPr/>
            </p:nvSpPr>
            <p:spPr>
              <a:xfrm flipH="1">
                <a:off x="11426400" y="241272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7" name="直接连接符 47"/>
              <p:cNvSpPr/>
              <p:nvPr/>
            </p:nvSpPr>
            <p:spPr>
              <a:xfrm>
                <a:off x="9840600" y="187920"/>
                <a:ext cx="0" cy="6120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8" name="直接连接符 48"/>
              <p:cNvSpPr/>
              <p:nvPr/>
            </p:nvSpPr>
            <p:spPr>
              <a:xfrm flipH="1" flipV="1">
                <a:off x="8136360" y="102492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9" name="直接连接符 51"/>
              <p:cNvSpPr/>
              <p:nvPr/>
            </p:nvSpPr>
            <p:spPr>
              <a:xfrm flipV="1">
                <a:off x="11007000" y="102492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0" name="直接连接符 52"/>
              <p:cNvSpPr/>
              <p:nvPr/>
            </p:nvSpPr>
            <p:spPr>
              <a:xfrm flipH="1" flipV="1">
                <a:off x="8880480" y="58752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1" name="直接连接符 53"/>
              <p:cNvSpPr/>
              <p:nvPr/>
            </p:nvSpPr>
            <p:spPr>
              <a:xfrm flipV="1">
                <a:off x="10519920" y="58752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2" name="直接连接符 57"/>
              <p:cNvSpPr/>
              <p:nvPr/>
            </p:nvSpPr>
            <p:spPr>
              <a:xfrm flipH="1" flipV="1">
                <a:off x="7648200" y="170964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3" name="直接连接符 59"/>
              <p:cNvSpPr/>
              <p:nvPr/>
            </p:nvSpPr>
            <p:spPr>
              <a:xfrm flipV="1">
                <a:off x="11273400" y="170964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384" name="组合 33"/>
          <p:cNvGrpSpPr/>
          <p:nvPr/>
        </p:nvGrpSpPr>
        <p:grpSpPr>
          <a:xfrm>
            <a:off x="8308800" y="1168560"/>
            <a:ext cx="2608560" cy="2172960"/>
            <a:chOff x="8308800" y="1168560"/>
            <a:chExt cx="2608560" cy="2172960"/>
          </a:xfrm>
        </p:grpSpPr>
        <p:sp>
          <p:nvSpPr>
            <p:cNvPr id="3385" name="Freeform 36"/>
            <p:cNvSpPr/>
            <p:nvPr/>
          </p:nvSpPr>
          <p:spPr>
            <a:xfrm>
              <a:off x="9564120" y="1168560"/>
              <a:ext cx="1340640" cy="1344960"/>
            </a:xfrm>
            <a:custGeom>
              <a:avLst/>
              <a:gdLst/>
              <a:ahLst/>
              <a:rect l="l" t="t" r="r" b="b"/>
              <a:pathLst>
                <a:path w="358" h="359">
                  <a:moveTo>
                    <a:pt x="10" y="0"/>
                  </a:moveTo>
                  <a:cubicBezTo>
                    <a:pt x="7" y="0"/>
                    <a:pt x="3" y="0"/>
                    <a:pt x="0" y="0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358" y="359"/>
                    <a:pt x="358" y="359"/>
                    <a:pt x="358" y="359"/>
                  </a:cubicBezTo>
                  <a:cubicBezTo>
                    <a:pt x="358" y="355"/>
                    <a:pt x="358" y="352"/>
                    <a:pt x="358" y="348"/>
                  </a:cubicBezTo>
                  <a:cubicBezTo>
                    <a:pt x="358" y="156"/>
                    <a:pt x="202" y="0"/>
                    <a:pt x="10" y="0"/>
                  </a:cubicBezTo>
                  <a:close/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6" name="任意多边形 62"/>
            <p:cNvSpPr/>
            <p:nvPr/>
          </p:nvSpPr>
          <p:spPr>
            <a:xfrm>
              <a:off x="8308800" y="1172160"/>
              <a:ext cx="2608560" cy="2169360"/>
            </a:xfrm>
            <a:custGeom>
              <a:avLst/>
              <a:gdLst/>
              <a:ahLst/>
              <a:rect l="l" t="t" r="r" b="b"/>
              <a:pathLst>
                <a:path w="2608175" h="2169198">
                  <a:moveTo>
                    <a:pt x="1266614" y="0"/>
                  </a:moveTo>
                  <a:cubicBezTo>
                    <a:pt x="1266614" y="0"/>
                    <a:pt x="1266614" y="0"/>
                    <a:pt x="1266614" y="1340360"/>
                  </a:cubicBezTo>
                  <a:lnTo>
                    <a:pt x="2608175" y="1340360"/>
                  </a:lnTo>
                  <a:cubicBezTo>
                    <a:pt x="2598338" y="1648306"/>
                    <a:pt x="2483063" y="1929019"/>
                    <a:pt x="2297181" y="2147387"/>
                  </a:cubicBezTo>
                  <a:lnTo>
                    <a:pt x="2296530" y="2148082"/>
                  </a:lnTo>
                  <a:lnTo>
                    <a:pt x="1814281" y="1823620"/>
                  </a:lnTo>
                  <a:lnTo>
                    <a:pt x="1305255" y="2169198"/>
                  </a:lnTo>
                  <a:lnTo>
                    <a:pt x="796229" y="1828290"/>
                  </a:lnTo>
                  <a:lnTo>
                    <a:pt x="316138" y="2151301"/>
                  </a:lnTo>
                  <a:lnTo>
                    <a:pt x="298027" y="2131394"/>
                  </a:lnTo>
                  <a:cubicBezTo>
                    <a:pt x="111895" y="1906117"/>
                    <a:pt x="0" y="1617417"/>
                    <a:pt x="0" y="1302920"/>
                  </a:cubicBezTo>
                  <a:cubicBezTo>
                    <a:pt x="0" y="595299"/>
                    <a:pt x="562107" y="18720"/>
                    <a:pt x="1266614" y="0"/>
                  </a:cubicBezTo>
                  <a:close/>
                </a:path>
              </a:pathLst>
            </a:custGeom>
            <a:solidFill>
              <a:srgbClr val="fec9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7" name="Freeform 36"/>
          <p:cNvSpPr/>
          <p:nvPr/>
        </p:nvSpPr>
        <p:spPr>
          <a:xfrm>
            <a:off x="9577440" y="1168560"/>
            <a:ext cx="1339920" cy="13446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  <a:close/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8" name="Group 5"/>
          <p:cNvGrpSpPr/>
          <p:nvPr/>
        </p:nvGrpSpPr>
        <p:grpSpPr>
          <a:xfrm>
            <a:off x="7288200" y="-133200"/>
            <a:ext cx="5021280" cy="5021280"/>
            <a:chOff x="7288200" y="-133200"/>
            <a:chExt cx="5021280" cy="5021280"/>
          </a:xfrm>
        </p:grpSpPr>
        <p:sp>
          <p:nvSpPr>
            <p:cNvPr id="3389" name="椭圆 56">
              <a:hlinkClick r:id="rId7"/>
            </p:cNvPr>
            <p:cNvSpPr/>
            <p:nvPr/>
          </p:nvSpPr>
          <p:spPr>
            <a:xfrm>
              <a:off x="7288200" y="-133200"/>
              <a:ext cx="5021280" cy="502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90" name="组合 58"/>
            <p:cNvGrpSpPr/>
            <p:nvPr/>
          </p:nvGrpSpPr>
          <p:grpSpPr>
            <a:xfrm>
              <a:off x="7579800" y="173880"/>
              <a:ext cx="4458600" cy="2224800"/>
              <a:chOff x="7579800" y="173880"/>
              <a:chExt cx="4458600" cy="2224800"/>
            </a:xfrm>
          </p:grpSpPr>
          <p:sp>
            <p:nvSpPr>
              <p:cNvPr id="3391" name="直接连接符 60"/>
              <p:cNvSpPr/>
              <p:nvPr/>
            </p:nvSpPr>
            <p:spPr>
              <a:xfrm flipH="1">
                <a:off x="7579800" y="239868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2" name="直接连接符 61"/>
              <p:cNvSpPr/>
              <p:nvPr/>
            </p:nvSpPr>
            <p:spPr>
              <a:xfrm flipH="1">
                <a:off x="11426400" y="2398680"/>
                <a:ext cx="612000" cy="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3" name="直接连接符 63"/>
              <p:cNvSpPr/>
              <p:nvPr/>
            </p:nvSpPr>
            <p:spPr>
              <a:xfrm>
                <a:off x="9840600" y="173880"/>
                <a:ext cx="0" cy="6120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4" name="直接连接符 65"/>
              <p:cNvSpPr/>
              <p:nvPr/>
            </p:nvSpPr>
            <p:spPr>
              <a:xfrm flipH="1" flipV="1">
                <a:off x="8136360" y="101088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5" name="直接连接符 66"/>
              <p:cNvSpPr/>
              <p:nvPr/>
            </p:nvSpPr>
            <p:spPr>
              <a:xfrm flipV="1">
                <a:off x="11007000" y="1010880"/>
                <a:ext cx="432720" cy="4327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6" name="直接连接符 67"/>
              <p:cNvSpPr/>
              <p:nvPr/>
            </p:nvSpPr>
            <p:spPr>
              <a:xfrm flipH="1" flipV="1">
                <a:off x="8880480" y="57348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7" name="直接连接符 68"/>
              <p:cNvSpPr/>
              <p:nvPr/>
            </p:nvSpPr>
            <p:spPr>
              <a:xfrm flipV="1">
                <a:off x="10519920" y="573480"/>
                <a:ext cx="306000" cy="52992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8" name="直接连接符 69"/>
              <p:cNvSpPr/>
              <p:nvPr/>
            </p:nvSpPr>
            <p:spPr>
              <a:xfrm flipH="1" flipV="1">
                <a:off x="7648200" y="169560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9" name="直接连接符 70"/>
              <p:cNvSpPr/>
              <p:nvPr/>
            </p:nvSpPr>
            <p:spPr>
              <a:xfrm flipV="1">
                <a:off x="11273400" y="1695600"/>
                <a:ext cx="591120" cy="158400"/>
              </a:xfrm>
              <a:prstGeom prst="line">
                <a:avLst/>
              </a:prstGeom>
              <a:ln w="6480">
                <a:solidFill>
                  <a:srgbClr val="feea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00" name="组合 4"/>
          <p:cNvGrpSpPr/>
          <p:nvPr/>
        </p:nvGrpSpPr>
        <p:grpSpPr>
          <a:xfrm>
            <a:off x="1103400" y="2668680"/>
            <a:ext cx="3265560" cy="1441440"/>
            <a:chOff x="1103400" y="2668680"/>
            <a:chExt cx="3265560" cy="1441440"/>
          </a:xfrm>
        </p:grpSpPr>
        <p:sp>
          <p:nvSpPr>
            <p:cNvPr id="3401" name="文本框 77"/>
            <p:cNvSpPr/>
            <p:nvPr/>
          </p:nvSpPr>
          <p:spPr>
            <a:xfrm>
              <a:off x="1158480" y="2706480"/>
              <a:ext cx="3210480" cy="1403640"/>
            </a:xfrm>
            <a:custGeom>
              <a:avLst/>
              <a:gdLst/>
              <a:ahLst/>
              <a:rect l="l" t="t" r="r" b="b"/>
              <a:pathLst>
                <a:path w="3210818" h="1403449">
                  <a:moveTo>
                    <a:pt x="0" y="403919"/>
                  </a:moveTo>
                  <a:lnTo>
                    <a:pt x="1465064" y="403919"/>
                  </a:lnTo>
                  <a:lnTo>
                    <a:pt x="1465064" y="554533"/>
                  </a:lnTo>
                  <a:lnTo>
                    <a:pt x="403920" y="554533"/>
                  </a:lnTo>
                  <a:lnTo>
                    <a:pt x="308074" y="759916"/>
                  </a:lnTo>
                  <a:lnTo>
                    <a:pt x="1430834" y="759916"/>
                  </a:lnTo>
                  <a:lnTo>
                    <a:pt x="1355527" y="1403449"/>
                  </a:lnTo>
                  <a:lnTo>
                    <a:pt x="47923" y="1403449"/>
                  </a:lnTo>
                  <a:lnTo>
                    <a:pt x="47923" y="1252835"/>
                  </a:lnTo>
                  <a:lnTo>
                    <a:pt x="1191221" y="1252835"/>
                  </a:lnTo>
                  <a:lnTo>
                    <a:pt x="1232297" y="903684"/>
                  </a:lnTo>
                  <a:lnTo>
                    <a:pt x="54769" y="903684"/>
                  </a:lnTo>
                  <a:lnTo>
                    <a:pt x="219075" y="554533"/>
                  </a:lnTo>
                  <a:lnTo>
                    <a:pt x="0" y="554533"/>
                  </a:lnTo>
                  <a:close/>
                  <a:moveTo>
                    <a:pt x="54769" y="20538"/>
                  </a:moveTo>
                  <a:lnTo>
                    <a:pt x="1417142" y="20538"/>
                  </a:lnTo>
                  <a:lnTo>
                    <a:pt x="1417142" y="171152"/>
                  </a:lnTo>
                  <a:lnTo>
                    <a:pt x="54769" y="171152"/>
                  </a:lnTo>
                  <a:close/>
                  <a:moveTo>
                    <a:pt x="1759446" y="0"/>
                  </a:moveTo>
                  <a:lnTo>
                    <a:pt x="3197126" y="0"/>
                  </a:lnTo>
                  <a:lnTo>
                    <a:pt x="3197126" y="143767"/>
                  </a:lnTo>
                  <a:lnTo>
                    <a:pt x="2813745" y="143767"/>
                  </a:lnTo>
                  <a:lnTo>
                    <a:pt x="2813745" y="691455"/>
                  </a:lnTo>
                  <a:lnTo>
                    <a:pt x="3162895" y="308074"/>
                  </a:lnTo>
                  <a:lnTo>
                    <a:pt x="3210818" y="465534"/>
                  </a:lnTo>
                  <a:lnTo>
                    <a:pt x="2813745" y="896838"/>
                  </a:lnTo>
                  <a:lnTo>
                    <a:pt x="2813745" y="1252835"/>
                  </a:lnTo>
                  <a:lnTo>
                    <a:pt x="3210818" y="1252835"/>
                  </a:lnTo>
                  <a:lnTo>
                    <a:pt x="3203972" y="1403449"/>
                  </a:lnTo>
                  <a:lnTo>
                    <a:pt x="2649438" y="1403449"/>
                  </a:lnTo>
                  <a:lnTo>
                    <a:pt x="2649438" y="143767"/>
                  </a:lnTo>
                  <a:lnTo>
                    <a:pt x="2211288" y="143767"/>
                  </a:lnTo>
                  <a:lnTo>
                    <a:pt x="2062826" y="369689"/>
                  </a:lnTo>
                  <a:lnTo>
                    <a:pt x="2409825" y="369689"/>
                  </a:lnTo>
                  <a:lnTo>
                    <a:pt x="2409825" y="794146"/>
                  </a:lnTo>
                  <a:lnTo>
                    <a:pt x="1882676" y="1403449"/>
                  </a:lnTo>
                  <a:lnTo>
                    <a:pt x="1725216" y="1369218"/>
                  </a:lnTo>
                  <a:lnTo>
                    <a:pt x="1992208" y="1049530"/>
                  </a:lnTo>
                  <a:lnTo>
                    <a:pt x="1725216" y="794146"/>
                  </a:lnTo>
                  <a:lnTo>
                    <a:pt x="1875830" y="732532"/>
                  </a:lnTo>
                  <a:lnTo>
                    <a:pt x="2087700" y="935190"/>
                  </a:lnTo>
                  <a:lnTo>
                    <a:pt x="2245519" y="746224"/>
                  </a:lnTo>
                  <a:lnTo>
                    <a:pt x="2245519" y="513457"/>
                  </a:lnTo>
                  <a:lnTo>
                    <a:pt x="1968350" y="513457"/>
                  </a:lnTo>
                  <a:lnTo>
                    <a:pt x="1896368" y="622994"/>
                  </a:lnTo>
                  <a:lnTo>
                    <a:pt x="1738908" y="588764"/>
                  </a:lnTo>
                  <a:lnTo>
                    <a:pt x="2033290" y="143767"/>
                  </a:lnTo>
                  <a:lnTo>
                    <a:pt x="1759446" y="143767"/>
                  </a:lnTo>
                  <a:close/>
                </a:path>
              </a:pathLst>
            </a:custGeom>
            <a:solidFill>
              <a:srgbClr val="5e8f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2" name="文本框 79"/>
            <p:cNvSpPr/>
            <p:nvPr/>
          </p:nvSpPr>
          <p:spPr>
            <a:xfrm>
              <a:off x="1103400" y="2668680"/>
              <a:ext cx="3210480" cy="1403640"/>
            </a:xfrm>
            <a:custGeom>
              <a:avLst/>
              <a:gdLst/>
              <a:ahLst/>
              <a:rect l="l" t="t" r="r" b="b"/>
              <a:pathLst>
                <a:path w="3210818" h="1403449">
                  <a:moveTo>
                    <a:pt x="0" y="403919"/>
                  </a:moveTo>
                  <a:lnTo>
                    <a:pt x="1465064" y="403919"/>
                  </a:lnTo>
                  <a:lnTo>
                    <a:pt x="1465064" y="554533"/>
                  </a:lnTo>
                  <a:lnTo>
                    <a:pt x="403920" y="554533"/>
                  </a:lnTo>
                  <a:lnTo>
                    <a:pt x="308074" y="759916"/>
                  </a:lnTo>
                  <a:lnTo>
                    <a:pt x="1430834" y="759916"/>
                  </a:lnTo>
                  <a:lnTo>
                    <a:pt x="1355527" y="1403449"/>
                  </a:lnTo>
                  <a:lnTo>
                    <a:pt x="47923" y="1403449"/>
                  </a:lnTo>
                  <a:lnTo>
                    <a:pt x="47923" y="1252835"/>
                  </a:lnTo>
                  <a:lnTo>
                    <a:pt x="1191221" y="1252835"/>
                  </a:lnTo>
                  <a:lnTo>
                    <a:pt x="1232297" y="903684"/>
                  </a:lnTo>
                  <a:lnTo>
                    <a:pt x="54769" y="903684"/>
                  </a:lnTo>
                  <a:lnTo>
                    <a:pt x="219075" y="554533"/>
                  </a:lnTo>
                  <a:lnTo>
                    <a:pt x="0" y="554533"/>
                  </a:lnTo>
                  <a:close/>
                  <a:moveTo>
                    <a:pt x="54769" y="20538"/>
                  </a:moveTo>
                  <a:lnTo>
                    <a:pt x="1417142" y="20538"/>
                  </a:lnTo>
                  <a:lnTo>
                    <a:pt x="1417142" y="171152"/>
                  </a:lnTo>
                  <a:lnTo>
                    <a:pt x="54769" y="171152"/>
                  </a:lnTo>
                  <a:close/>
                  <a:moveTo>
                    <a:pt x="1759446" y="0"/>
                  </a:moveTo>
                  <a:lnTo>
                    <a:pt x="3197126" y="0"/>
                  </a:lnTo>
                  <a:lnTo>
                    <a:pt x="3197126" y="143767"/>
                  </a:lnTo>
                  <a:lnTo>
                    <a:pt x="2813745" y="143767"/>
                  </a:lnTo>
                  <a:lnTo>
                    <a:pt x="2813745" y="691455"/>
                  </a:lnTo>
                  <a:lnTo>
                    <a:pt x="3162895" y="308074"/>
                  </a:lnTo>
                  <a:lnTo>
                    <a:pt x="3210818" y="465534"/>
                  </a:lnTo>
                  <a:lnTo>
                    <a:pt x="2813745" y="896838"/>
                  </a:lnTo>
                  <a:lnTo>
                    <a:pt x="2813745" y="1252835"/>
                  </a:lnTo>
                  <a:lnTo>
                    <a:pt x="3210818" y="1252835"/>
                  </a:lnTo>
                  <a:lnTo>
                    <a:pt x="3203972" y="1403449"/>
                  </a:lnTo>
                  <a:lnTo>
                    <a:pt x="2649438" y="1403449"/>
                  </a:lnTo>
                  <a:lnTo>
                    <a:pt x="2649438" y="143767"/>
                  </a:lnTo>
                  <a:lnTo>
                    <a:pt x="2211288" y="143767"/>
                  </a:lnTo>
                  <a:lnTo>
                    <a:pt x="2062826" y="369689"/>
                  </a:lnTo>
                  <a:lnTo>
                    <a:pt x="2409825" y="369689"/>
                  </a:lnTo>
                  <a:lnTo>
                    <a:pt x="2409825" y="794146"/>
                  </a:lnTo>
                  <a:lnTo>
                    <a:pt x="1882676" y="1403449"/>
                  </a:lnTo>
                  <a:lnTo>
                    <a:pt x="1725216" y="1369218"/>
                  </a:lnTo>
                  <a:lnTo>
                    <a:pt x="1992208" y="1049530"/>
                  </a:lnTo>
                  <a:lnTo>
                    <a:pt x="1725216" y="794146"/>
                  </a:lnTo>
                  <a:lnTo>
                    <a:pt x="1875830" y="732532"/>
                  </a:lnTo>
                  <a:lnTo>
                    <a:pt x="2087700" y="935190"/>
                  </a:lnTo>
                  <a:lnTo>
                    <a:pt x="2245519" y="746224"/>
                  </a:lnTo>
                  <a:lnTo>
                    <a:pt x="2245519" y="513457"/>
                  </a:lnTo>
                  <a:lnTo>
                    <a:pt x="1968350" y="513457"/>
                  </a:lnTo>
                  <a:lnTo>
                    <a:pt x="1896368" y="622994"/>
                  </a:lnTo>
                  <a:lnTo>
                    <a:pt x="1738908" y="588764"/>
                  </a:lnTo>
                  <a:lnTo>
                    <a:pt x="2033290" y="143767"/>
                  </a:lnTo>
                  <a:lnTo>
                    <a:pt x="1759446" y="143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3" name="文本框 72"/>
          <p:cNvSpPr/>
          <p:nvPr/>
        </p:nvSpPr>
        <p:spPr>
          <a:xfrm>
            <a:off x="1122480" y="1795320"/>
            <a:ext cx="3959280" cy="417600"/>
          </a:xfrm>
          <a:custGeom>
            <a:avLst/>
            <a:gdLst/>
            <a:ahLst/>
            <a:rect l="l" t="t" r="r" b="b"/>
            <a:pathLst>
              <a:path w="3958084" h="418059">
                <a:moveTo>
                  <a:pt x="49299" y="254385"/>
                </a:moveTo>
                <a:lnTo>
                  <a:pt x="96627" y="266217"/>
                </a:lnTo>
                <a:lnTo>
                  <a:pt x="47327" y="418059"/>
                </a:lnTo>
                <a:lnTo>
                  <a:pt x="0" y="408199"/>
                </a:lnTo>
                <a:close/>
                <a:moveTo>
                  <a:pt x="3725391" y="232693"/>
                </a:moveTo>
                <a:lnTo>
                  <a:pt x="3958084" y="232693"/>
                </a:lnTo>
                <a:lnTo>
                  <a:pt x="3958084" y="276077"/>
                </a:lnTo>
                <a:lnTo>
                  <a:pt x="3910756" y="276077"/>
                </a:lnTo>
                <a:lnTo>
                  <a:pt x="3910756" y="376647"/>
                </a:lnTo>
                <a:lnTo>
                  <a:pt x="3958084" y="376647"/>
                </a:lnTo>
                <a:lnTo>
                  <a:pt x="3958084" y="418059"/>
                </a:lnTo>
                <a:lnTo>
                  <a:pt x="3863429" y="418059"/>
                </a:lnTo>
                <a:lnTo>
                  <a:pt x="3863429" y="276077"/>
                </a:lnTo>
                <a:lnTo>
                  <a:pt x="3823990" y="276077"/>
                </a:lnTo>
                <a:lnTo>
                  <a:pt x="3762858" y="418059"/>
                </a:lnTo>
                <a:lnTo>
                  <a:pt x="3719475" y="410171"/>
                </a:lnTo>
                <a:lnTo>
                  <a:pt x="3776662" y="276077"/>
                </a:lnTo>
                <a:lnTo>
                  <a:pt x="3725391" y="276077"/>
                </a:lnTo>
                <a:close/>
                <a:moveTo>
                  <a:pt x="3155491" y="193254"/>
                </a:moveTo>
                <a:lnTo>
                  <a:pt x="3204790" y="197198"/>
                </a:lnTo>
                <a:lnTo>
                  <a:pt x="3196902" y="234665"/>
                </a:lnTo>
                <a:lnTo>
                  <a:pt x="3437483" y="234665"/>
                </a:lnTo>
                <a:lnTo>
                  <a:pt x="3417763" y="374675"/>
                </a:lnTo>
                <a:lnTo>
                  <a:pt x="3459175" y="374675"/>
                </a:lnTo>
                <a:lnTo>
                  <a:pt x="3459175" y="418059"/>
                </a:lnTo>
                <a:lnTo>
                  <a:pt x="3360576" y="418059"/>
                </a:lnTo>
                <a:lnTo>
                  <a:pt x="3382268" y="278049"/>
                </a:lnTo>
                <a:lnTo>
                  <a:pt x="3175211" y="278049"/>
                </a:lnTo>
                <a:lnTo>
                  <a:pt x="3074640" y="418059"/>
                </a:lnTo>
                <a:lnTo>
                  <a:pt x="3027313" y="410171"/>
                </a:lnTo>
                <a:lnTo>
                  <a:pt x="3121967" y="278049"/>
                </a:lnTo>
                <a:lnTo>
                  <a:pt x="3039144" y="278049"/>
                </a:lnTo>
                <a:lnTo>
                  <a:pt x="3039144" y="234665"/>
                </a:lnTo>
                <a:lnTo>
                  <a:pt x="3145631" y="234665"/>
                </a:lnTo>
                <a:close/>
                <a:moveTo>
                  <a:pt x="2571787" y="191282"/>
                </a:moveTo>
                <a:lnTo>
                  <a:pt x="2571787" y="360871"/>
                </a:lnTo>
                <a:lnTo>
                  <a:pt x="2628974" y="360871"/>
                </a:lnTo>
                <a:lnTo>
                  <a:pt x="2628974" y="191282"/>
                </a:lnTo>
                <a:close/>
                <a:moveTo>
                  <a:pt x="151842" y="169590"/>
                </a:moveTo>
                <a:lnTo>
                  <a:pt x="427918" y="169590"/>
                </a:lnTo>
                <a:lnTo>
                  <a:pt x="427918" y="246497"/>
                </a:lnTo>
                <a:lnTo>
                  <a:pt x="323690" y="316249"/>
                </a:lnTo>
                <a:lnTo>
                  <a:pt x="439750" y="390451"/>
                </a:lnTo>
                <a:lnTo>
                  <a:pt x="402282" y="418059"/>
                </a:lnTo>
                <a:lnTo>
                  <a:pt x="283816" y="342934"/>
                </a:lnTo>
                <a:lnTo>
                  <a:pt x="171561" y="418059"/>
                </a:lnTo>
                <a:lnTo>
                  <a:pt x="134094" y="392423"/>
                </a:lnTo>
                <a:lnTo>
                  <a:pt x="244439" y="317963"/>
                </a:lnTo>
                <a:lnTo>
                  <a:pt x="159730" y="264245"/>
                </a:lnTo>
                <a:lnTo>
                  <a:pt x="199169" y="236637"/>
                </a:lnTo>
                <a:lnTo>
                  <a:pt x="284299" y="291065"/>
                </a:lnTo>
                <a:lnTo>
                  <a:pt x="376647" y="228749"/>
                </a:lnTo>
                <a:lnTo>
                  <a:pt x="376647" y="211001"/>
                </a:lnTo>
                <a:lnTo>
                  <a:pt x="151842" y="211001"/>
                </a:lnTo>
                <a:close/>
                <a:moveTo>
                  <a:pt x="3737223" y="134095"/>
                </a:moveTo>
                <a:lnTo>
                  <a:pt x="3946252" y="134095"/>
                </a:lnTo>
                <a:lnTo>
                  <a:pt x="3946252" y="177478"/>
                </a:lnTo>
                <a:lnTo>
                  <a:pt x="3737223" y="177478"/>
                </a:lnTo>
                <a:close/>
                <a:moveTo>
                  <a:pt x="19719" y="130151"/>
                </a:moveTo>
                <a:lnTo>
                  <a:pt x="92682" y="181422"/>
                </a:lnTo>
                <a:lnTo>
                  <a:pt x="74935" y="226777"/>
                </a:lnTo>
                <a:lnTo>
                  <a:pt x="1972" y="173534"/>
                </a:lnTo>
                <a:close/>
                <a:moveTo>
                  <a:pt x="1916534" y="116347"/>
                </a:moveTo>
                <a:lnTo>
                  <a:pt x="1916534" y="218889"/>
                </a:lnTo>
                <a:lnTo>
                  <a:pt x="2082179" y="218889"/>
                </a:lnTo>
                <a:lnTo>
                  <a:pt x="2082179" y="116347"/>
                </a:lnTo>
                <a:close/>
                <a:moveTo>
                  <a:pt x="1573634" y="116347"/>
                </a:moveTo>
                <a:lnTo>
                  <a:pt x="1573634" y="218889"/>
                </a:lnTo>
                <a:lnTo>
                  <a:pt x="1739280" y="218889"/>
                </a:lnTo>
                <a:lnTo>
                  <a:pt x="1739280" y="116347"/>
                </a:lnTo>
                <a:close/>
                <a:moveTo>
                  <a:pt x="3281697" y="108459"/>
                </a:moveTo>
                <a:lnTo>
                  <a:pt x="3451287" y="153814"/>
                </a:lnTo>
                <a:lnTo>
                  <a:pt x="3423679" y="185366"/>
                </a:lnTo>
                <a:lnTo>
                  <a:pt x="3254089" y="140010"/>
                </a:lnTo>
                <a:close/>
                <a:moveTo>
                  <a:pt x="3194930" y="108459"/>
                </a:moveTo>
                <a:lnTo>
                  <a:pt x="3222538" y="140010"/>
                </a:lnTo>
                <a:lnTo>
                  <a:pt x="3056892" y="183394"/>
                </a:lnTo>
                <a:lnTo>
                  <a:pt x="3029285" y="151842"/>
                </a:lnTo>
                <a:close/>
                <a:moveTo>
                  <a:pt x="2188443" y="70991"/>
                </a:moveTo>
                <a:lnTo>
                  <a:pt x="2462547" y="70991"/>
                </a:lnTo>
                <a:lnTo>
                  <a:pt x="2462547" y="114375"/>
                </a:lnTo>
                <a:lnTo>
                  <a:pt x="2350145" y="114375"/>
                </a:lnTo>
                <a:lnTo>
                  <a:pt x="2350145" y="388479"/>
                </a:lnTo>
                <a:lnTo>
                  <a:pt x="2300846" y="388479"/>
                </a:lnTo>
                <a:lnTo>
                  <a:pt x="2300846" y="114375"/>
                </a:lnTo>
                <a:lnTo>
                  <a:pt x="2188443" y="114375"/>
                </a:lnTo>
                <a:close/>
                <a:moveTo>
                  <a:pt x="1865263" y="70991"/>
                </a:moveTo>
                <a:lnTo>
                  <a:pt x="2133451" y="70991"/>
                </a:lnTo>
                <a:lnTo>
                  <a:pt x="2133451" y="264245"/>
                </a:lnTo>
                <a:lnTo>
                  <a:pt x="1916534" y="264245"/>
                </a:lnTo>
                <a:lnTo>
                  <a:pt x="1916534" y="388479"/>
                </a:lnTo>
                <a:lnTo>
                  <a:pt x="1865263" y="388479"/>
                </a:lnTo>
                <a:close/>
                <a:moveTo>
                  <a:pt x="1522363" y="70991"/>
                </a:moveTo>
                <a:lnTo>
                  <a:pt x="1790551" y="70991"/>
                </a:lnTo>
                <a:lnTo>
                  <a:pt x="1790551" y="264245"/>
                </a:lnTo>
                <a:lnTo>
                  <a:pt x="1573634" y="264245"/>
                </a:lnTo>
                <a:lnTo>
                  <a:pt x="1573634" y="388479"/>
                </a:lnTo>
                <a:lnTo>
                  <a:pt x="1522363" y="388479"/>
                </a:lnTo>
                <a:close/>
                <a:moveTo>
                  <a:pt x="810480" y="65075"/>
                </a:moveTo>
                <a:lnTo>
                  <a:pt x="810480" y="374675"/>
                </a:lnTo>
                <a:lnTo>
                  <a:pt x="885416" y="374675"/>
                </a:lnTo>
                <a:lnTo>
                  <a:pt x="885416" y="65075"/>
                </a:lnTo>
                <a:close/>
                <a:moveTo>
                  <a:pt x="2800536" y="61132"/>
                </a:moveTo>
                <a:lnTo>
                  <a:pt x="2800536" y="209030"/>
                </a:lnTo>
                <a:lnTo>
                  <a:pt x="2879415" y="209030"/>
                </a:lnTo>
                <a:lnTo>
                  <a:pt x="2879415" y="61132"/>
                </a:lnTo>
                <a:close/>
                <a:moveTo>
                  <a:pt x="3538054" y="21692"/>
                </a:moveTo>
                <a:lnTo>
                  <a:pt x="3701727" y="21692"/>
                </a:lnTo>
                <a:lnTo>
                  <a:pt x="3659298" y="193254"/>
                </a:lnTo>
                <a:lnTo>
                  <a:pt x="3689895" y="193254"/>
                </a:lnTo>
                <a:lnTo>
                  <a:pt x="3689895" y="398339"/>
                </a:lnTo>
                <a:lnTo>
                  <a:pt x="3614960" y="398339"/>
                </a:lnTo>
                <a:lnTo>
                  <a:pt x="3614960" y="354956"/>
                </a:lnTo>
                <a:lnTo>
                  <a:pt x="3640596" y="354956"/>
                </a:lnTo>
                <a:lnTo>
                  <a:pt x="3640596" y="194831"/>
                </a:lnTo>
                <a:lnTo>
                  <a:pt x="3616932" y="179450"/>
                </a:lnTo>
                <a:lnTo>
                  <a:pt x="3646512" y="65075"/>
                </a:lnTo>
                <a:lnTo>
                  <a:pt x="3587353" y="65075"/>
                </a:lnTo>
                <a:lnTo>
                  <a:pt x="3587353" y="418059"/>
                </a:lnTo>
                <a:lnTo>
                  <a:pt x="3538054" y="418059"/>
                </a:lnTo>
                <a:close/>
                <a:moveTo>
                  <a:pt x="2526432" y="21692"/>
                </a:moveTo>
                <a:lnTo>
                  <a:pt x="2676302" y="21692"/>
                </a:lnTo>
                <a:lnTo>
                  <a:pt x="2676302" y="65075"/>
                </a:lnTo>
                <a:lnTo>
                  <a:pt x="2613198" y="65075"/>
                </a:lnTo>
                <a:lnTo>
                  <a:pt x="2571787" y="147898"/>
                </a:lnTo>
                <a:lnTo>
                  <a:pt x="2674330" y="147898"/>
                </a:lnTo>
                <a:lnTo>
                  <a:pt x="2674330" y="404255"/>
                </a:lnTo>
                <a:lnTo>
                  <a:pt x="2526432" y="404255"/>
                </a:lnTo>
                <a:lnTo>
                  <a:pt x="2528159" y="179736"/>
                </a:lnTo>
                <a:lnTo>
                  <a:pt x="2512628" y="171562"/>
                </a:lnTo>
                <a:lnTo>
                  <a:pt x="2565871" y="65075"/>
                </a:lnTo>
                <a:lnTo>
                  <a:pt x="2526432" y="65075"/>
                </a:lnTo>
                <a:close/>
                <a:moveTo>
                  <a:pt x="759209" y="21692"/>
                </a:moveTo>
                <a:lnTo>
                  <a:pt x="934715" y="21692"/>
                </a:lnTo>
                <a:lnTo>
                  <a:pt x="934715" y="418059"/>
                </a:lnTo>
                <a:lnTo>
                  <a:pt x="759209" y="418059"/>
                </a:lnTo>
                <a:close/>
                <a:moveTo>
                  <a:pt x="2723629" y="19720"/>
                </a:moveTo>
                <a:lnTo>
                  <a:pt x="2954350" y="19720"/>
                </a:lnTo>
                <a:lnTo>
                  <a:pt x="2954350" y="61132"/>
                </a:lnTo>
                <a:lnTo>
                  <a:pt x="2926742" y="61132"/>
                </a:lnTo>
                <a:lnTo>
                  <a:pt x="2926742" y="209030"/>
                </a:lnTo>
                <a:lnTo>
                  <a:pt x="2954350" y="209030"/>
                </a:lnTo>
                <a:lnTo>
                  <a:pt x="2954350" y="252413"/>
                </a:lnTo>
                <a:lnTo>
                  <a:pt x="2926742" y="252413"/>
                </a:lnTo>
                <a:lnTo>
                  <a:pt x="2926742" y="418059"/>
                </a:lnTo>
                <a:lnTo>
                  <a:pt x="2879415" y="418059"/>
                </a:lnTo>
                <a:lnTo>
                  <a:pt x="2879415" y="252413"/>
                </a:lnTo>
                <a:lnTo>
                  <a:pt x="2800536" y="252413"/>
                </a:lnTo>
                <a:lnTo>
                  <a:pt x="2800536" y="323404"/>
                </a:lnTo>
                <a:lnTo>
                  <a:pt x="2765040" y="418059"/>
                </a:lnTo>
                <a:lnTo>
                  <a:pt x="2721657" y="414115"/>
                </a:lnTo>
                <a:lnTo>
                  <a:pt x="2753208" y="321432"/>
                </a:lnTo>
                <a:lnTo>
                  <a:pt x="2753208" y="252413"/>
                </a:lnTo>
                <a:lnTo>
                  <a:pt x="2721657" y="252413"/>
                </a:lnTo>
                <a:lnTo>
                  <a:pt x="2721657" y="209030"/>
                </a:lnTo>
                <a:lnTo>
                  <a:pt x="2753208" y="209030"/>
                </a:lnTo>
                <a:lnTo>
                  <a:pt x="2753208" y="61132"/>
                </a:lnTo>
                <a:lnTo>
                  <a:pt x="2723629" y="61132"/>
                </a:lnTo>
                <a:close/>
                <a:moveTo>
                  <a:pt x="1096417" y="17748"/>
                </a:moveTo>
                <a:lnTo>
                  <a:pt x="1311362" y="47328"/>
                </a:lnTo>
                <a:lnTo>
                  <a:pt x="1443484" y="404255"/>
                </a:lnTo>
                <a:lnTo>
                  <a:pt x="1398128" y="418059"/>
                </a:lnTo>
                <a:lnTo>
                  <a:pt x="1275866" y="82823"/>
                </a:lnTo>
                <a:lnTo>
                  <a:pt x="1194585" y="72088"/>
                </a:lnTo>
                <a:lnTo>
                  <a:pt x="1058949" y="418059"/>
                </a:lnTo>
                <a:lnTo>
                  <a:pt x="1017538" y="402283"/>
                </a:lnTo>
                <a:lnTo>
                  <a:pt x="1149332" y="66111"/>
                </a:lnTo>
                <a:lnTo>
                  <a:pt x="1066837" y="55216"/>
                </a:lnTo>
                <a:close/>
                <a:moveTo>
                  <a:pt x="165645" y="17748"/>
                </a:moveTo>
                <a:lnTo>
                  <a:pt x="416086" y="17748"/>
                </a:lnTo>
                <a:lnTo>
                  <a:pt x="433834" y="120291"/>
                </a:lnTo>
                <a:lnTo>
                  <a:pt x="386506" y="128179"/>
                </a:lnTo>
                <a:lnTo>
                  <a:pt x="374674" y="61132"/>
                </a:lnTo>
                <a:lnTo>
                  <a:pt x="207057" y="61132"/>
                </a:lnTo>
                <a:lnTo>
                  <a:pt x="195225" y="128179"/>
                </a:lnTo>
                <a:lnTo>
                  <a:pt x="145926" y="122263"/>
                </a:lnTo>
                <a:close/>
                <a:moveTo>
                  <a:pt x="27607" y="9860"/>
                </a:moveTo>
                <a:lnTo>
                  <a:pt x="100571" y="61132"/>
                </a:lnTo>
                <a:lnTo>
                  <a:pt x="82823" y="104515"/>
                </a:lnTo>
                <a:lnTo>
                  <a:pt x="11832" y="55216"/>
                </a:lnTo>
                <a:close/>
                <a:moveTo>
                  <a:pt x="3865401" y="3944"/>
                </a:moveTo>
                <a:lnTo>
                  <a:pt x="3871317" y="27608"/>
                </a:lnTo>
                <a:lnTo>
                  <a:pt x="3958084" y="27608"/>
                </a:lnTo>
                <a:lnTo>
                  <a:pt x="3958084" y="102543"/>
                </a:lnTo>
                <a:lnTo>
                  <a:pt x="3908784" y="102543"/>
                </a:lnTo>
                <a:lnTo>
                  <a:pt x="3908784" y="70991"/>
                </a:lnTo>
                <a:lnTo>
                  <a:pt x="3774690" y="70991"/>
                </a:lnTo>
                <a:lnTo>
                  <a:pt x="3774690" y="102543"/>
                </a:lnTo>
                <a:lnTo>
                  <a:pt x="3725391" y="102543"/>
                </a:lnTo>
                <a:lnTo>
                  <a:pt x="3725391" y="27608"/>
                </a:lnTo>
                <a:lnTo>
                  <a:pt x="3818074" y="27608"/>
                </a:lnTo>
                <a:lnTo>
                  <a:pt x="3814130" y="9860"/>
                </a:lnTo>
                <a:close/>
                <a:moveTo>
                  <a:pt x="558068" y="1972"/>
                </a:moveTo>
                <a:lnTo>
                  <a:pt x="607367" y="1972"/>
                </a:lnTo>
                <a:lnTo>
                  <a:pt x="605395" y="43384"/>
                </a:lnTo>
                <a:lnTo>
                  <a:pt x="703994" y="43384"/>
                </a:lnTo>
                <a:lnTo>
                  <a:pt x="703994" y="418059"/>
                </a:lnTo>
                <a:lnTo>
                  <a:pt x="625115" y="418059"/>
                </a:lnTo>
                <a:lnTo>
                  <a:pt x="625115" y="374675"/>
                </a:lnTo>
                <a:lnTo>
                  <a:pt x="656667" y="374675"/>
                </a:lnTo>
                <a:lnTo>
                  <a:pt x="656667" y="82823"/>
                </a:lnTo>
                <a:lnTo>
                  <a:pt x="601451" y="82823"/>
                </a:lnTo>
                <a:lnTo>
                  <a:pt x="550180" y="418059"/>
                </a:lnTo>
                <a:lnTo>
                  <a:pt x="504825" y="412143"/>
                </a:lnTo>
                <a:lnTo>
                  <a:pt x="552152" y="82823"/>
                </a:lnTo>
                <a:lnTo>
                  <a:pt x="506797" y="82823"/>
                </a:lnTo>
                <a:lnTo>
                  <a:pt x="506797" y="43384"/>
                </a:lnTo>
                <a:lnTo>
                  <a:pt x="556096" y="43384"/>
                </a:lnTo>
                <a:close/>
                <a:moveTo>
                  <a:pt x="3263949" y="0"/>
                </a:moveTo>
                <a:lnTo>
                  <a:pt x="3273809" y="21692"/>
                </a:lnTo>
                <a:lnTo>
                  <a:pt x="3445371" y="21692"/>
                </a:lnTo>
                <a:lnTo>
                  <a:pt x="3445371" y="100571"/>
                </a:lnTo>
                <a:lnTo>
                  <a:pt x="3398043" y="100571"/>
                </a:lnTo>
                <a:lnTo>
                  <a:pt x="3398043" y="65075"/>
                </a:lnTo>
                <a:lnTo>
                  <a:pt x="3084500" y="65075"/>
                </a:lnTo>
                <a:lnTo>
                  <a:pt x="3084500" y="100571"/>
                </a:lnTo>
                <a:lnTo>
                  <a:pt x="3035201" y="100571"/>
                </a:lnTo>
                <a:lnTo>
                  <a:pt x="3035201" y="21692"/>
                </a:lnTo>
                <a:lnTo>
                  <a:pt x="3220566" y="21692"/>
                </a:lnTo>
                <a:lnTo>
                  <a:pt x="3212678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3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1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203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5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6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20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56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4.79167E-006 2.96296E-006 L 0.01732 -0.02084 E">
                                      <p:cBhvr>
                                        <p:cTn id="1221" dur="250" fill="hold"/>
                                        <p:tgtEl>
                                          <p:spTgt spid="3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42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6.25E-007 3.7037E-006 L 6.25E-007 0.0125 E">
                                      <p:cBhvr>
                                        <p:cTn id="1223" dur="250" fill="hold"/>
                                        <p:tgtEl>
                                          <p:spTgt spid="3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1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250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27" dur="25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entr" presetID="6" presetSubtype="3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0" dur="250"/>
                                        <p:tgtEl>
                                          <p:spTgt spid="3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6" presetSubtype="32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5" dur="750"/>
                                        <p:tgtEl>
                                          <p:spTgt spid="3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6" dur="1" fill="hold">
                                    <p:stCondLst>
                                      <p:cond evt="end">
                                        <p:tn val="1233"/>
                                      </p:cond>
                                    </p:stCondLst>
                                  </p:cTn>
                                  <p:tgtEl>
                                    <p:spTgt spid="3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7" dur="indefinite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750"/>
                                        <p:tgtEl>
                                          <p:spTgt spid="3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9" dur="375" autoRev="1" fill="hold"/>
                                        <p:tgtEl>
                                          <p:spTgt spid="3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380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84c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文本框 73"/>
          <p:cNvSpPr/>
          <p:nvPr/>
        </p:nvSpPr>
        <p:spPr>
          <a:xfrm>
            <a:off x="1125360" y="976320"/>
            <a:ext cx="1200240" cy="407880"/>
          </a:xfrm>
          <a:custGeom>
            <a:avLst/>
            <a:gdLst/>
            <a:ahLst/>
            <a:rect l="l" t="t" r="r" b="b"/>
            <a:pathLst>
              <a:path w="120093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74"/>
          <p:cNvSpPr/>
          <p:nvPr/>
        </p:nvSpPr>
        <p:spPr>
          <a:xfrm>
            <a:off x="1136520" y="1797120"/>
            <a:ext cx="3443400" cy="422280"/>
          </a:xfrm>
          <a:custGeom>
            <a:avLst/>
            <a:gdLst/>
            <a:ahLst/>
            <a:rect l="l" t="t" r="r" b="b"/>
            <a:pathLst>
              <a:path w="3443064" h="422003">
                <a:moveTo>
                  <a:pt x="2417638" y="250441"/>
                </a:moveTo>
                <a:lnTo>
                  <a:pt x="2439330" y="287908"/>
                </a:lnTo>
                <a:lnTo>
                  <a:pt x="2410546" y="337625"/>
                </a:lnTo>
                <a:lnTo>
                  <a:pt x="2443274" y="374675"/>
                </a:lnTo>
                <a:lnTo>
                  <a:pt x="2425526" y="416087"/>
                </a:lnTo>
                <a:lnTo>
                  <a:pt x="2321011" y="299740"/>
                </a:lnTo>
                <a:lnTo>
                  <a:pt x="2338759" y="256357"/>
                </a:lnTo>
                <a:lnTo>
                  <a:pt x="2383967" y="307535"/>
                </a:lnTo>
                <a:close/>
                <a:moveTo>
                  <a:pt x="1595325" y="240581"/>
                </a:moveTo>
                <a:lnTo>
                  <a:pt x="1922673" y="240581"/>
                </a:lnTo>
                <a:lnTo>
                  <a:pt x="1922673" y="313544"/>
                </a:lnTo>
                <a:lnTo>
                  <a:pt x="1817240" y="348464"/>
                </a:lnTo>
                <a:lnTo>
                  <a:pt x="1942393" y="388479"/>
                </a:lnTo>
                <a:lnTo>
                  <a:pt x="1908869" y="416087"/>
                </a:lnTo>
                <a:lnTo>
                  <a:pt x="1758920" y="367781"/>
                </a:lnTo>
                <a:lnTo>
                  <a:pt x="1613073" y="416087"/>
                </a:lnTo>
                <a:lnTo>
                  <a:pt x="1581522" y="388479"/>
                </a:lnTo>
                <a:lnTo>
                  <a:pt x="1699872" y="348759"/>
                </a:lnTo>
                <a:lnTo>
                  <a:pt x="1615045" y="321432"/>
                </a:lnTo>
                <a:lnTo>
                  <a:pt x="1652513" y="295796"/>
                </a:lnTo>
                <a:lnTo>
                  <a:pt x="1757583" y="329390"/>
                </a:lnTo>
                <a:lnTo>
                  <a:pt x="1869430" y="291852"/>
                </a:lnTo>
                <a:lnTo>
                  <a:pt x="1869430" y="280020"/>
                </a:lnTo>
                <a:lnTo>
                  <a:pt x="1595325" y="280020"/>
                </a:lnTo>
                <a:close/>
                <a:moveTo>
                  <a:pt x="230720" y="195226"/>
                </a:moveTo>
                <a:lnTo>
                  <a:pt x="230720" y="268189"/>
                </a:lnTo>
                <a:lnTo>
                  <a:pt x="364814" y="268189"/>
                </a:lnTo>
                <a:lnTo>
                  <a:pt x="364814" y="195226"/>
                </a:lnTo>
                <a:close/>
                <a:moveTo>
                  <a:pt x="49299" y="195226"/>
                </a:moveTo>
                <a:lnTo>
                  <a:pt x="49299" y="268189"/>
                </a:lnTo>
                <a:lnTo>
                  <a:pt x="181421" y="268189"/>
                </a:lnTo>
                <a:lnTo>
                  <a:pt x="181421" y="195226"/>
                </a:lnTo>
                <a:close/>
                <a:moveTo>
                  <a:pt x="550180" y="175506"/>
                </a:moveTo>
                <a:lnTo>
                  <a:pt x="550180" y="248469"/>
                </a:lnTo>
                <a:lnTo>
                  <a:pt x="587647" y="248469"/>
                </a:lnTo>
                <a:lnTo>
                  <a:pt x="587647" y="175506"/>
                </a:lnTo>
                <a:close/>
                <a:moveTo>
                  <a:pt x="2273684" y="147898"/>
                </a:moveTo>
                <a:lnTo>
                  <a:pt x="2273684" y="195226"/>
                </a:lnTo>
                <a:lnTo>
                  <a:pt x="2386086" y="195226"/>
                </a:lnTo>
                <a:lnTo>
                  <a:pt x="2386086" y="147898"/>
                </a:lnTo>
                <a:close/>
                <a:moveTo>
                  <a:pt x="1688008" y="143954"/>
                </a:moveTo>
                <a:lnTo>
                  <a:pt x="1688008" y="169590"/>
                </a:lnTo>
                <a:lnTo>
                  <a:pt x="1839850" y="169590"/>
                </a:lnTo>
                <a:lnTo>
                  <a:pt x="1839850" y="143954"/>
                </a:lnTo>
                <a:close/>
                <a:moveTo>
                  <a:pt x="1299530" y="141982"/>
                </a:moveTo>
                <a:lnTo>
                  <a:pt x="1299530" y="185366"/>
                </a:lnTo>
                <a:lnTo>
                  <a:pt x="1376437" y="185366"/>
                </a:lnTo>
                <a:lnTo>
                  <a:pt x="1376437" y="141982"/>
                </a:lnTo>
                <a:close/>
                <a:moveTo>
                  <a:pt x="1177267" y="141982"/>
                </a:moveTo>
                <a:lnTo>
                  <a:pt x="1177267" y="185366"/>
                </a:lnTo>
                <a:lnTo>
                  <a:pt x="1254174" y="185366"/>
                </a:lnTo>
                <a:lnTo>
                  <a:pt x="1254174" y="141982"/>
                </a:lnTo>
                <a:close/>
                <a:moveTo>
                  <a:pt x="2810061" y="140010"/>
                </a:moveTo>
                <a:lnTo>
                  <a:pt x="2950071" y="246497"/>
                </a:lnTo>
                <a:lnTo>
                  <a:pt x="2914575" y="276077"/>
                </a:lnTo>
                <a:lnTo>
                  <a:pt x="2772593" y="169590"/>
                </a:lnTo>
                <a:close/>
                <a:moveTo>
                  <a:pt x="997818" y="140010"/>
                </a:moveTo>
                <a:lnTo>
                  <a:pt x="1068809" y="140010"/>
                </a:lnTo>
                <a:lnTo>
                  <a:pt x="1068809" y="321432"/>
                </a:lnTo>
                <a:lnTo>
                  <a:pt x="1124024" y="372703"/>
                </a:lnTo>
                <a:lnTo>
                  <a:pt x="1427708" y="372703"/>
                </a:lnTo>
                <a:lnTo>
                  <a:pt x="1427708" y="416087"/>
                </a:lnTo>
                <a:lnTo>
                  <a:pt x="1104304" y="416087"/>
                </a:lnTo>
                <a:lnTo>
                  <a:pt x="1051061" y="368759"/>
                </a:lnTo>
                <a:lnTo>
                  <a:pt x="1021481" y="422003"/>
                </a:lnTo>
                <a:lnTo>
                  <a:pt x="989930" y="388479"/>
                </a:lnTo>
                <a:lnTo>
                  <a:pt x="1019509" y="329320"/>
                </a:lnTo>
                <a:lnTo>
                  <a:pt x="1019509" y="181422"/>
                </a:lnTo>
                <a:lnTo>
                  <a:pt x="997818" y="181422"/>
                </a:lnTo>
                <a:close/>
                <a:moveTo>
                  <a:pt x="668498" y="114375"/>
                </a:moveTo>
                <a:lnTo>
                  <a:pt x="717798" y="114375"/>
                </a:lnTo>
                <a:lnTo>
                  <a:pt x="717798" y="372703"/>
                </a:lnTo>
                <a:lnTo>
                  <a:pt x="875555" y="372703"/>
                </a:lnTo>
                <a:lnTo>
                  <a:pt x="875555" y="114375"/>
                </a:lnTo>
                <a:lnTo>
                  <a:pt x="922883" y="114375"/>
                </a:lnTo>
                <a:lnTo>
                  <a:pt x="922883" y="416087"/>
                </a:lnTo>
                <a:lnTo>
                  <a:pt x="668498" y="416087"/>
                </a:lnTo>
                <a:close/>
                <a:moveTo>
                  <a:pt x="1638709" y="84795"/>
                </a:moveTo>
                <a:lnTo>
                  <a:pt x="1688008" y="84795"/>
                </a:lnTo>
                <a:lnTo>
                  <a:pt x="1688008" y="102543"/>
                </a:lnTo>
                <a:lnTo>
                  <a:pt x="1839850" y="102543"/>
                </a:lnTo>
                <a:lnTo>
                  <a:pt x="1839850" y="84795"/>
                </a:lnTo>
                <a:lnTo>
                  <a:pt x="1889149" y="84795"/>
                </a:lnTo>
                <a:lnTo>
                  <a:pt x="1889149" y="102543"/>
                </a:lnTo>
                <a:lnTo>
                  <a:pt x="1932533" y="102543"/>
                </a:lnTo>
                <a:lnTo>
                  <a:pt x="1932533" y="143954"/>
                </a:lnTo>
                <a:lnTo>
                  <a:pt x="1889149" y="143954"/>
                </a:lnTo>
                <a:lnTo>
                  <a:pt x="1889149" y="211001"/>
                </a:lnTo>
                <a:lnTo>
                  <a:pt x="1638709" y="211001"/>
                </a:lnTo>
                <a:lnTo>
                  <a:pt x="1638709" y="143954"/>
                </a:lnTo>
                <a:lnTo>
                  <a:pt x="1593354" y="143954"/>
                </a:lnTo>
                <a:lnTo>
                  <a:pt x="1593354" y="102543"/>
                </a:lnTo>
                <a:lnTo>
                  <a:pt x="1638709" y="102543"/>
                </a:lnTo>
                <a:close/>
                <a:moveTo>
                  <a:pt x="753293" y="82823"/>
                </a:moveTo>
                <a:lnTo>
                  <a:pt x="795691" y="171472"/>
                </a:lnTo>
                <a:lnTo>
                  <a:pt x="838088" y="82823"/>
                </a:lnTo>
                <a:lnTo>
                  <a:pt x="861752" y="126207"/>
                </a:lnTo>
                <a:lnTo>
                  <a:pt x="817691" y="217474"/>
                </a:lnTo>
                <a:lnTo>
                  <a:pt x="861752" y="309600"/>
                </a:lnTo>
                <a:lnTo>
                  <a:pt x="840060" y="354956"/>
                </a:lnTo>
                <a:lnTo>
                  <a:pt x="795691" y="263047"/>
                </a:lnTo>
                <a:lnTo>
                  <a:pt x="751321" y="354956"/>
                </a:lnTo>
                <a:lnTo>
                  <a:pt x="729629" y="309600"/>
                </a:lnTo>
                <a:lnTo>
                  <a:pt x="773690" y="217474"/>
                </a:lnTo>
                <a:lnTo>
                  <a:pt x="729629" y="126207"/>
                </a:lnTo>
                <a:close/>
                <a:moveTo>
                  <a:pt x="230720" y="78879"/>
                </a:moveTo>
                <a:lnTo>
                  <a:pt x="230720" y="149870"/>
                </a:lnTo>
                <a:lnTo>
                  <a:pt x="364814" y="149870"/>
                </a:lnTo>
                <a:lnTo>
                  <a:pt x="364814" y="78879"/>
                </a:lnTo>
                <a:close/>
                <a:moveTo>
                  <a:pt x="49299" y="78879"/>
                </a:moveTo>
                <a:lnTo>
                  <a:pt x="49299" y="149870"/>
                </a:lnTo>
                <a:lnTo>
                  <a:pt x="181421" y="149870"/>
                </a:lnTo>
                <a:lnTo>
                  <a:pt x="181421" y="78879"/>
                </a:lnTo>
                <a:close/>
                <a:moveTo>
                  <a:pt x="2066627" y="63103"/>
                </a:moveTo>
                <a:lnTo>
                  <a:pt x="2066627" y="140010"/>
                </a:lnTo>
                <a:lnTo>
                  <a:pt x="2145506" y="140010"/>
                </a:lnTo>
                <a:lnTo>
                  <a:pt x="2145506" y="63103"/>
                </a:lnTo>
                <a:close/>
                <a:moveTo>
                  <a:pt x="550180" y="59160"/>
                </a:moveTo>
                <a:lnTo>
                  <a:pt x="550180" y="132123"/>
                </a:lnTo>
                <a:lnTo>
                  <a:pt x="587647" y="132123"/>
                </a:lnTo>
                <a:lnTo>
                  <a:pt x="587647" y="59160"/>
                </a:lnTo>
                <a:close/>
                <a:moveTo>
                  <a:pt x="2273684" y="55216"/>
                </a:moveTo>
                <a:lnTo>
                  <a:pt x="2273684" y="104515"/>
                </a:lnTo>
                <a:lnTo>
                  <a:pt x="2386086" y="104515"/>
                </a:lnTo>
                <a:lnTo>
                  <a:pt x="2386086" y="55216"/>
                </a:lnTo>
                <a:close/>
                <a:moveTo>
                  <a:pt x="2019300" y="19720"/>
                </a:moveTo>
                <a:lnTo>
                  <a:pt x="2194805" y="19720"/>
                </a:lnTo>
                <a:lnTo>
                  <a:pt x="2194805" y="181422"/>
                </a:lnTo>
                <a:lnTo>
                  <a:pt x="2151422" y="181422"/>
                </a:lnTo>
                <a:lnTo>
                  <a:pt x="2151422" y="228749"/>
                </a:lnTo>
                <a:lnTo>
                  <a:pt x="2194805" y="228749"/>
                </a:lnTo>
                <a:lnTo>
                  <a:pt x="2194805" y="270161"/>
                </a:lnTo>
                <a:lnTo>
                  <a:pt x="2151422" y="270161"/>
                </a:lnTo>
                <a:lnTo>
                  <a:pt x="2151422" y="359609"/>
                </a:lnTo>
                <a:lnTo>
                  <a:pt x="2181001" y="354956"/>
                </a:lnTo>
                <a:lnTo>
                  <a:pt x="2198749" y="390451"/>
                </a:lnTo>
                <a:lnTo>
                  <a:pt x="2023243" y="416087"/>
                </a:lnTo>
                <a:lnTo>
                  <a:pt x="2005496" y="382563"/>
                </a:lnTo>
                <a:lnTo>
                  <a:pt x="2023243" y="379771"/>
                </a:lnTo>
                <a:lnTo>
                  <a:pt x="2023243" y="207058"/>
                </a:lnTo>
                <a:lnTo>
                  <a:pt x="2070571" y="207058"/>
                </a:lnTo>
                <a:lnTo>
                  <a:pt x="2070571" y="372327"/>
                </a:lnTo>
                <a:lnTo>
                  <a:pt x="2104094" y="367053"/>
                </a:lnTo>
                <a:lnTo>
                  <a:pt x="2104094" y="181422"/>
                </a:lnTo>
                <a:lnTo>
                  <a:pt x="2019300" y="181422"/>
                </a:lnTo>
                <a:close/>
                <a:moveTo>
                  <a:pt x="2520181" y="17748"/>
                </a:moveTo>
                <a:lnTo>
                  <a:pt x="2942183" y="17748"/>
                </a:lnTo>
                <a:lnTo>
                  <a:pt x="2942183" y="61132"/>
                </a:lnTo>
                <a:lnTo>
                  <a:pt x="2798229" y="61132"/>
                </a:lnTo>
                <a:lnTo>
                  <a:pt x="2752873" y="102463"/>
                </a:lnTo>
                <a:lnTo>
                  <a:pt x="2752873" y="416087"/>
                </a:lnTo>
                <a:lnTo>
                  <a:pt x="2703574" y="416087"/>
                </a:lnTo>
                <a:lnTo>
                  <a:pt x="2703574" y="147389"/>
                </a:lnTo>
                <a:lnTo>
                  <a:pt x="2553704" y="283964"/>
                </a:lnTo>
                <a:lnTo>
                  <a:pt x="2516237" y="260301"/>
                </a:lnTo>
                <a:lnTo>
                  <a:pt x="2735126" y="61132"/>
                </a:lnTo>
                <a:lnTo>
                  <a:pt x="2520181" y="61132"/>
                </a:lnTo>
                <a:close/>
                <a:moveTo>
                  <a:pt x="502853" y="15776"/>
                </a:moveTo>
                <a:lnTo>
                  <a:pt x="634975" y="15776"/>
                </a:lnTo>
                <a:lnTo>
                  <a:pt x="634975" y="416087"/>
                </a:lnTo>
                <a:lnTo>
                  <a:pt x="573844" y="416087"/>
                </a:lnTo>
                <a:lnTo>
                  <a:pt x="573844" y="372703"/>
                </a:lnTo>
                <a:lnTo>
                  <a:pt x="587647" y="372703"/>
                </a:lnTo>
                <a:lnTo>
                  <a:pt x="587647" y="289880"/>
                </a:lnTo>
                <a:lnTo>
                  <a:pt x="550180" y="289880"/>
                </a:lnTo>
                <a:lnTo>
                  <a:pt x="550180" y="319460"/>
                </a:lnTo>
                <a:lnTo>
                  <a:pt x="534404" y="416087"/>
                </a:lnTo>
                <a:lnTo>
                  <a:pt x="491021" y="394395"/>
                </a:lnTo>
                <a:lnTo>
                  <a:pt x="502853" y="309600"/>
                </a:lnTo>
                <a:close/>
                <a:moveTo>
                  <a:pt x="3188679" y="11832"/>
                </a:moveTo>
                <a:lnTo>
                  <a:pt x="3237979" y="11832"/>
                </a:lnTo>
                <a:lnTo>
                  <a:pt x="3237979" y="128179"/>
                </a:lnTo>
                <a:lnTo>
                  <a:pt x="3435176" y="128179"/>
                </a:lnTo>
                <a:lnTo>
                  <a:pt x="3435176" y="171562"/>
                </a:lnTo>
                <a:lnTo>
                  <a:pt x="3237979" y="171562"/>
                </a:lnTo>
                <a:lnTo>
                  <a:pt x="3237979" y="372703"/>
                </a:lnTo>
                <a:lnTo>
                  <a:pt x="3443064" y="372703"/>
                </a:lnTo>
                <a:lnTo>
                  <a:pt x="3443064" y="416087"/>
                </a:lnTo>
                <a:lnTo>
                  <a:pt x="3026978" y="416087"/>
                </a:lnTo>
                <a:lnTo>
                  <a:pt x="3026978" y="372703"/>
                </a:lnTo>
                <a:lnTo>
                  <a:pt x="3188679" y="372703"/>
                </a:lnTo>
                <a:close/>
                <a:moveTo>
                  <a:pt x="2224385" y="11832"/>
                </a:moveTo>
                <a:lnTo>
                  <a:pt x="2435386" y="11832"/>
                </a:lnTo>
                <a:lnTo>
                  <a:pt x="2435386" y="238609"/>
                </a:lnTo>
                <a:lnTo>
                  <a:pt x="2273684" y="238609"/>
                </a:lnTo>
                <a:lnTo>
                  <a:pt x="2273684" y="361364"/>
                </a:lnTo>
                <a:lnTo>
                  <a:pt x="2322983" y="349040"/>
                </a:lnTo>
                <a:lnTo>
                  <a:pt x="2340731" y="386507"/>
                </a:lnTo>
                <a:lnTo>
                  <a:pt x="2212553" y="416087"/>
                </a:lnTo>
                <a:lnTo>
                  <a:pt x="2196777" y="380591"/>
                </a:lnTo>
                <a:lnTo>
                  <a:pt x="2224385" y="373689"/>
                </a:lnTo>
                <a:close/>
                <a:moveTo>
                  <a:pt x="1027397" y="7888"/>
                </a:moveTo>
                <a:lnTo>
                  <a:pt x="1096416" y="80851"/>
                </a:lnTo>
                <a:lnTo>
                  <a:pt x="1070781" y="120291"/>
                </a:lnTo>
                <a:lnTo>
                  <a:pt x="1001762" y="47328"/>
                </a:lnTo>
                <a:close/>
                <a:moveTo>
                  <a:pt x="1254174" y="1972"/>
                </a:moveTo>
                <a:lnTo>
                  <a:pt x="1299530" y="1972"/>
                </a:lnTo>
                <a:lnTo>
                  <a:pt x="1299530" y="23664"/>
                </a:lnTo>
                <a:lnTo>
                  <a:pt x="1435596" y="23664"/>
                </a:lnTo>
                <a:lnTo>
                  <a:pt x="1435596" y="65075"/>
                </a:lnTo>
                <a:lnTo>
                  <a:pt x="1299530" y="65075"/>
                </a:lnTo>
                <a:lnTo>
                  <a:pt x="1299530" y="100571"/>
                </a:lnTo>
                <a:lnTo>
                  <a:pt x="1425736" y="100571"/>
                </a:lnTo>
                <a:lnTo>
                  <a:pt x="1425736" y="226777"/>
                </a:lnTo>
                <a:lnTo>
                  <a:pt x="1299530" y="226777"/>
                </a:lnTo>
                <a:lnTo>
                  <a:pt x="1435596" y="311572"/>
                </a:lnTo>
                <a:lnTo>
                  <a:pt x="1400100" y="337208"/>
                </a:lnTo>
                <a:lnTo>
                  <a:pt x="1299530" y="274105"/>
                </a:lnTo>
                <a:lnTo>
                  <a:pt x="1299530" y="343124"/>
                </a:lnTo>
                <a:lnTo>
                  <a:pt x="1254174" y="343124"/>
                </a:lnTo>
                <a:lnTo>
                  <a:pt x="1254174" y="274105"/>
                </a:lnTo>
                <a:lnTo>
                  <a:pt x="1149660" y="339180"/>
                </a:lnTo>
                <a:lnTo>
                  <a:pt x="1120080" y="311572"/>
                </a:lnTo>
                <a:lnTo>
                  <a:pt x="1254174" y="226777"/>
                </a:lnTo>
                <a:lnTo>
                  <a:pt x="1127968" y="226777"/>
                </a:lnTo>
                <a:lnTo>
                  <a:pt x="1127968" y="100571"/>
                </a:lnTo>
                <a:lnTo>
                  <a:pt x="1254174" y="100571"/>
                </a:lnTo>
                <a:lnTo>
                  <a:pt x="1254174" y="65075"/>
                </a:lnTo>
                <a:lnTo>
                  <a:pt x="1116136" y="65075"/>
                </a:lnTo>
                <a:lnTo>
                  <a:pt x="1116136" y="23664"/>
                </a:lnTo>
                <a:lnTo>
                  <a:pt x="1254174" y="23664"/>
                </a:lnTo>
                <a:close/>
                <a:moveTo>
                  <a:pt x="181421" y="1972"/>
                </a:moveTo>
                <a:lnTo>
                  <a:pt x="230720" y="1972"/>
                </a:lnTo>
                <a:lnTo>
                  <a:pt x="230720" y="35496"/>
                </a:lnTo>
                <a:lnTo>
                  <a:pt x="412142" y="35496"/>
                </a:lnTo>
                <a:lnTo>
                  <a:pt x="412142" y="309600"/>
                </a:lnTo>
                <a:lnTo>
                  <a:pt x="230720" y="309600"/>
                </a:lnTo>
                <a:lnTo>
                  <a:pt x="230720" y="372703"/>
                </a:lnTo>
                <a:lnTo>
                  <a:pt x="408198" y="372703"/>
                </a:lnTo>
                <a:lnTo>
                  <a:pt x="406226" y="416087"/>
                </a:lnTo>
                <a:lnTo>
                  <a:pt x="181421" y="416087"/>
                </a:lnTo>
                <a:lnTo>
                  <a:pt x="181421" y="309600"/>
                </a:lnTo>
                <a:lnTo>
                  <a:pt x="0" y="309600"/>
                </a:lnTo>
                <a:lnTo>
                  <a:pt x="0" y="35496"/>
                </a:lnTo>
                <a:lnTo>
                  <a:pt x="181421" y="35496"/>
                </a:lnTo>
                <a:close/>
                <a:moveTo>
                  <a:pt x="1782663" y="0"/>
                </a:moveTo>
                <a:lnTo>
                  <a:pt x="1788579" y="21692"/>
                </a:lnTo>
                <a:lnTo>
                  <a:pt x="1932533" y="21692"/>
                </a:lnTo>
                <a:lnTo>
                  <a:pt x="1932533" y="63103"/>
                </a:lnTo>
                <a:lnTo>
                  <a:pt x="1561802" y="63103"/>
                </a:lnTo>
                <a:lnTo>
                  <a:pt x="1561802" y="339180"/>
                </a:lnTo>
                <a:lnTo>
                  <a:pt x="1547998" y="416087"/>
                </a:lnTo>
                <a:lnTo>
                  <a:pt x="1500671" y="406227"/>
                </a:lnTo>
                <a:lnTo>
                  <a:pt x="1514475" y="323404"/>
                </a:lnTo>
                <a:lnTo>
                  <a:pt x="1514475" y="21692"/>
                </a:lnTo>
                <a:lnTo>
                  <a:pt x="1733364" y="21692"/>
                </a:lnTo>
                <a:lnTo>
                  <a:pt x="1729420" y="7888"/>
                </a:lnTo>
                <a:close/>
                <a:moveTo>
                  <a:pt x="814424" y="0"/>
                </a:moveTo>
                <a:lnTo>
                  <a:pt x="824284" y="31552"/>
                </a:lnTo>
                <a:lnTo>
                  <a:pt x="922883" y="31552"/>
                </a:lnTo>
                <a:lnTo>
                  <a:pt x="922883" y="72963"/>
                </a:lnTo>
                <a:lnTo>
                  <a:pt x="668498" y="72963"/>
                </a:lnTo>
                <a:lnTo>
                  <a:pt x="668498" y="31552"/>
                </a:lnTo>
                <a:lnTo>
                  <a:pt x="773013" y="31552"/>
                </a:lnTo>
                <a:lnTo>
                  <a:pt x="765125" y="98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6"/>
          <p:cNvSpPr/>
          <p:nvPr/>
        </p:nvSpPr>
        <p:spPr>
          <a:xfrm>
            <a:off x="5967360" y="5805360"/>
            <a:ext cx="4189320" cy="1086120"/>
          </a:xfrm>
          <a:custGeom>
            <a:avLst/>
            <a:gdLst/>
            <a:ahLst/>
            <a:rect l="l" t="t" r="r" b="b"/>
            <a:pathLst>
              <a:path w="2639" h="684">
                <a:moveTo>
                  <a:pt x="0" y="563"/>
                </a:moveTo>
                <a:lnTo>
                  <a:pt x="0" y="684"/>
                </a:lnTo>
                <a:lnTo>
                  <a:pt x="2241" y="684"/>
                </a:lnTo>
                <a:lnTo>
                  <a:pt x="2639" y="330"/>
                </a:lnTo>
                <a:lnTo>
                  <a:pt x="1055" y="0"/>
                </a:lnTo>
                <a:lnTo>
                  <a:pt x="0" y="563"/>
                </a:lnTo>
                <a:close/>
              </a:path>
            </a:pathLst>
          </a:custGeom>
          <a:solidFill>
            <a:srgbClr val="b7b7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7310520" y="5964120"/>
            <a:ext cx="2854080" cy="419040"/>
          </a:xfrm>
          <a:custGeom>
            <a:avLst/>
            <a:gdLst/>
            <a:ahLst/>
            <a:rect l="l" t="t" r="r" b="b"/>
            <a:pathLst>
              <a:path w="1216" h="178">
                <a:moveTo>
                  <a:pt x="1216" y="43"/>
                </a:moveTo>
                <a:cubicBezTo>
                  <a:pt x="1099" y="43"/>
                  <a:pt x="1099" y="43"/>
                  <a:pt x="1099" y="43"/>
                </a:cubicBezTo>
                <a:cubicBezTo>
                  <a:pt x="1086" y="32"/>
                  <a:pt x="1086" y="32"/>
                  <a:pt x="1086" y="32"/>
                </a:cubicBezTo>
                <a:cubicBezTo>
                  <a:pt x="1048" y="0"/>
                  <a:pt x="1017" y="4"/>
                  <a:pt x="973" y="4"/>
                </a:cubicBezTo>
                <a:cubicBezTo>
                  <a:pt x="609" y="4"/>
                  <a:pt x="609" y="4"/>
                  <a:pt x="609" y="4"/>
                </a:cubicBezTo>
                <a:cubicBezTo>
                  <a:pt x="607" y="4"/>
                  <a:pt x="607" y="4"/>
                  <a:pt x="607" y="4"/>
                </a:cubicBezTo>
                <a:cubicBezTo>
                  <a:pt x="243" y="4"/>
                  <a:pt x="243" y="4"/>
                  <a:pt x="243" y="4"/>
                </a:cubicBezTo>
                <a:cubicBezTo>
                  <a:pt x="199" y="4"/>
                  <a:pt x="168" y="0"/>
                  <a:pt x="130" y="32"/>
                </a:cubicBezTo>
                <a:cubicBezTo>
                  <a:pt x="117" y="43"/>
                  <a:pt x="117" y="43"/>
                  <a:pt x="117" y="43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3"/>
                  <a:pt x="0" y="153"/>
                  <a:pt x="0" y="153"/>
                </a:cubicBezTo>
                <a:cubicBezTo>
                  <a:pt x="0" y="155"/>
                  <a:pt x="0" y="155"/>
                  <a:pt x="0" y="155"/>
                </a:cubicBezTo>
                <a:cubicBezTo>
                  <a:pt x="0" y="155"/>
                  <a:pt x="0" y="155"/>
                  <a:pt x="0" y="155"/>
                </a:cubicBezTo>
                <a:cubicBezTo>
                  <a:pt x="2" y="169"/>
                  <a:pt x="21" y="178"/>
                  <a:pt x="55" y="178"/>
                </a:cubicBezTo>
                <a:cubicBezTo>
                  <a:pt x="607" y="178"/>
                  <a:pt x="607" y="178"/>
                  <a:pt x="607" y="178"/>
                </a:cubicBezTo>
                <a:cubicBezTo>
                  <a:pt x="609" y="178"/>
                  <a:pt x="609" y="178"/>
                  <a:pt x="609" y="178"/>
                </a:cubicBezTo>
                <a:cubicBezTo>
                  <a:pt x="1161" y="178"/>
                  <a:pt x="1161" y="178"/>
                  <a:pt x="1161" y="178"/>
                </a:cubicBezTo>
                <a:cubicBezTo>
                  <a:pt x="1195" y="178"/>
                  <a:pt x="1214" y="169"/>
                  <a:pt x="1216" y="155"/>
                </a:cubicBezTo>
                <a:cubicBezTo>
                  <a:pt x="1216" y="155"/>
                  <a:pt x="1216" y="155"/>
                  <a:pt x="1216" y="155"/>
                </a:cubicBezTo>
                <a:lnTo>
                  <a:pt x="1216" y="43"/>
                </a:lnTo>
                <a:close/>
              </a:path>
            </a:pathLst>
          </a:custGeom>
          <a:solidFill>
            <a:srgbClr val="93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8"/>
          <p:cNvSpPr/>
          <p:nvPr/>
        </p:nvSpPr>
        <p:spPr>
          <a:xfrm>
            <a:off x="7270920" y="5702400"/>
            <a:ext cx="2935080" cy="419040"/>
          </a:xfrm>
          <a:custGeom>
            <a:avLst/>
            <a:gdLst/>
            <a:ahLst/>
            <a:rect l="l" t="t" r="r" b="b"/>
            <a:pathLst>
              <a:path w="1250" h="179">
                <a:moveTo>
                  <a:pt x="1212" y="121"/>
                </a:moveTo>
                <a:cubicBezTo>
                  <a:pt x="1103" y="32"/>
                  <a:pt x="1103" y="32"/>
                  <a:pt x="1103" y="32"/>
                </a:cubicBezTo>
                <a:cubicBezTo>
                  <a:pt x="1065" y="0"/>
                  <a:pt x="1034" y="4"/>
                  <a:pt x="990" y="4"/>
                </a:cubicBezTo>
                <a:cubicBezTo>
                  <a:pt x="626" y="4"/>
                  <a:pt x="626" y="4"/>
                  <a:pt x="626" y="4"/>
                </a:cubicBezTo>
                <a:cubicBezTo>
                  <a:pt x="624" y="4"/>
                  <a:pt x="624" y="4"/>
                  <a:pt x="624" y="4"/>
                </a:cubicBezTo>
                <a:cubicBezTo>
                  <a:pt x="260" y="4"/>
                  <a:pt x="260" y="4"/>
                  <a:pt x="260" y="4"/>
                </a:cubicBezTo>
                <a:cubicBezTo>
                  <a:pt x="216" y="4"/>
                  <a:pt x="185" y="0"/>
                  <a:pt x="147" y="32"/>
                </a:cubicBezTo>
                <a:cubicBezTo>
                  <a:pt x="38" y="121"/>
                  <a:pt x="38" y="121"/>
                  <a:pt x="38" y="121"/>
                </a:cubicBezTo>
                <a:cubicBezTo>
                  <a:pt x="0" y="153"/>
                  <a:pt x="15" y="179"/>
                  <a:pt x="72" y="179"/>
                </a:cubicBezTo>
                <a:cubicBezTo>
                  <a:pt x="624" y="179"/>
                  <a:pt x="624" y="179"/>
                  <a:pt x="624" y="179"/>
                </a:cubicBezTo>
                <a:cubicBezTo>
                  <a:pt x="626" y="179"/>
                  <a:pt x="626" y="179"/>
                  <a:pt x="626" y="179"/>
                </a:cubicBezTo>
                <a:cubicBezTo>
                  <a:pt x="1178" y="179"/>
                  <a:pt x="1178" y="179"/>
                  <a:pt x="1178" y="179"/>
                </a:cubicBezTo>
                <a:cubicBezTo>
                  <a:pt x="1235" y="179"/>
                  <a:pt x="1250" y="153"/>
                  <a:pt x="1212" y="121"/>
                </a:cubicBezTo>
                <a:close/>
              </a:path>
            </a:pathLst>
          </a:custGeom>
          <a:solidFill>
            <a:srgbClr val="848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9"/>
          <p:cNvSpPr/>
          <p:nvPr/>
        </p:nvSpPr>
        <p:spPr>
          <a:xfrm>
            <a:off x="7893000" y="4346640"/>
            <a:ext cx="1690560" cy="1639800"/>
          </a:xfrm>
          <a:custGeom>
            <a:avLst/>
            <a:gdLst/>
            <a:ahLst/>
            <a:rect l="l" t="t" r="r" b="b"/>
            <a:pathLst>
              <a:path w="720" h="698">
                <a:moveTo>
                  <a:pt x="720" y="639"/>
                </a:moveTo>
                <a:cubicBezTo>
                  <a:pt x="720" y="672"/>
                  <a:pt x="694" y="698"/>
                  <a:pt x="662" y="698"/>
                </a:cubicBezTo>
                <a:cubicBezTo>
                  <a:pt x="58" y="698"/>
                  <a:pt x="58" y="698"/>
                  <a:pt x="58" y="698"/>
                </a:cubicBezTo>
                <a:cubicBezTo>
                  <a:pt x="26" y="698"/>
                  <a:pt x="0" y="672"/>
                  <a:pt x="0" y="63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26"/>
                  <a:pt x="26" y="0"/>
                  <a:pt x="58" y="0"/>
                </a:cubicBezTo>
                <a:cubicBezTo>
                  <a:pt x="662" y="0"/>
                  <a:pt x="662" y="0"/>
                  <a:pt x="662" y="0"/>
                </a:cubicBezTo>
                <a:cubicBezTo>
                  <a:pt x="694" y="0"/>
                  <a:pt x="720" y="26"/>
                  <a:pt x="720" y="58"/>
                </a:cubicBezTo>
                <a:lnTo>
                  <a:pt x="720" y="639"/>
                </a:lnTo>
                <a:close/>
              </a:path>
            </a:pathLst>
          </a:custGeom>
          <a:solidFill>
            <a:srgbClr val="9391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10"/>
          <p:cNvSpPr/>
          <p:nvPr/>
        </p:nvSpPr>
        <p:spPr>
          <a:xfrm>
            <a:off x="6276960" y="1635120"/>
            <a:ext cx="4921200" cy="3578400"/>
          </a:xfrm>
          <a:custGeom>
            <a:avLst/>
            <a:gdLst/>
            <a:ahLst/>
            <a:rect l="l" t="t" r="r" b="b"/>
            <a:pathLst>
              <a:path w="2096" h="1524">
                <a:moveTo>
                  <a:pt x="2096" y="1402"/>
                </a:moveTo>
                <a:cubicBezTo>
                  <a:pt x="2096" y="1469"/>
                  <a:pt x="2041" y="1524"/>
                  <a:pt x="1974" y="1524"/>
                </a:cubicBezTo>
                <a:cubicBezTo>
                  <a:pt x="122" y="1524"/>
                  <a:pt x="122" y="1524"/>
                  <a:pt x="122" y="1524"/>
                </a:cubicBezTo>
                <a:cubicBezTo>
                  <a:pt x="55" y="1524"/>
                  <a:pt x="0" y="1469"/>
                  <a:pt x="0" y="1402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55"/>
                  <a:pt x="55" y="0"/>
                  <a:pt x="122" y="0"/>
                </a:cubicBezTo>
                <a:cubicBezTo>
                  <a:pt x="1974" y="0"/>
                  <a:pt x="1974" y="0"/>
                  <a:pt x="1974" y="0"/>
                </a:cubicBezTo>
                <a:cubicBezTo>
                  <a:pt x="2041" y="0"/>
                  <a:pt x="2096" y="55"/>
                  <a:pt x="2096" y="122"/>
                </a:cubicBezTo>
                <a:lnTo>
                  <a:pt x="2096" y="1402"/>
                </a:lnTo>
                <a:close/>
              </a:path>
            </a:pathLst>
          </a:custGeom>
          <a:solidFill>
            <a:srgbClr val="8481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1">
            <a:hlinkClick r:id="rId2"/>
          </p:cNvPr>
          <p:cNvSpPr/>
          <p:nvPr/>
        </p:nvSpPr>
        <p:spPr>
          <a:xfrm>
            <a:off x="6481800" y="1839960"/>
            <a:ext cx="4513320" cy="3166920"/>
          </a:xfrm>
          <a:prstGeom prst="rect">
            <a:avLst/>
          </a:prstGeom>
          <a:solidFill>
            <a:srgbClr val="45e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281"/>
          <p:cNvGrpSpPr/>
          <p:nvPr/>
        </p:nvGrpSpPr>
        <p:grpSpPr>
          <a:xfrm>
            <a:off x="6850080" y="3178080"/>
            <a:ext cx="426960" cy="722520"/>
            <a:chOff x="6850080" y="3178080"/>
            <a:chExt cx="426960" cy="722520"/>
          </a:xfrm>
        </p:grpSpPr>
        <p:sp>
          <p:nvSpPr>
            <p:cNvPr id="229" name="Freeform 36"/>
            <p:cNvSpPr/>
            <p:nvPr/>
          </p:nvSpPr>
          <p:spPr>
            <a:xfrm>
              <a:off x="6850080" y="347184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72" y="135"/>
                  </a:moveTo>
                  <a:cubicBezTo>
                    <a:pt x="182" y="146"/>
                    <a:pt x="182" y="162"/>
                    <a:pt x="172" y="173"/>
                  </a:cubicBezTo>
                  <a:cubicBezTo>
                    <a:pt x="172" y="173"/>
                    <a:pt x="172" y="173"/>
                    <a:pt x="172" y="173"/>
                  </a:cubicBezTo>
                  <a:cubicBezTo>
                    <a:pt x="162" y="183"/>
                    <a:pt x="145" y="183"/>
                    <a:pt x="135" y="173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0" y="37"/>
                    <a:pt x="0" y="2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20" y="0"/>
                    <a:pt x="37" y="0"/>
                    <a:pt x="47" y="10"/>
                  </a:cubicBezTo>
                  <a:lnTo>
                    <a:pt x="172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6850080" y="317808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35" y="11"/>
                  </a:moveTo>
                  <a:cubicBezTo>
                    <a:pt x="145" y="0"/>
                    <a:pt x="162" y="0"/>
                    <a:pt x="172" y="11"/>
                  </a:cubicBezTo>
                  <a:cubicBezTo>
                    <a:pt x="172" y="11"/>
                    <a:pt x="172" y="11"/>
                    <a:pt x="172" y="11"/>
                  </a:cubicBezTo>
                  <a:cubicBezTo>
                    <a:pt x="182" y="21"/>
                    <a:pt x="182" y="37"/>
                    <a:pt x="172" y="48"/>
                  </a:cubicBezTo>
                  <a:cubicBezTo>
                    <a:pt x="47" y="173"/>
                    <a:pt x="47" y="173"/>
                    <a:pt x="47" y="173"/>
                  </a:cubicBezTo>
                  <a:cubicBezTo>
                    <a:pt x="37" y="183"/>
                    <a:pt x="20" y="183"/>
                    <a:pt x="10" y="17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0" y="162"/>
                    <a:pt x="0" y="146"/>
                    <a:pt x="10" y="135"/>
                  </a:cubicBezTo>
                  <a:lnTo>
                    <a:pt x="13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84"/>
          <p:cNvGrpSpPr/>
          <p:nvPr/>
        </p:nvGrpSpPr>
        <p:grpSpPr>
          <a:xfrm>
            <a:off x="10198080" y="3178080"/>
            <a:ext cx="426960" cy="722520"/>
            <a:chOff x="10198080" y="3178080"/>
            <a:chExt cx="426960" cy="722520"/>
          </a:xfrm>
        </p:grpSpPr>
        <p:sp>
          <p:nvSpPr>
            <p:cNvPr id="232" name="Freeform 38"/>
            <p:cNvSpPr/>
            <p:nvPr/>
          </p:nvSpPr>
          <p:spPr>
            <a:xfrm>
              <a:off x="10198080" y="347184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10" y="135"/>
                  </a:moveTo>
                  <a:cubicBezTo>
                    <a:pt x="0" y="146"/>
                    <a:pt x="0" y="162"/>
                    <a:pt x="10" y="173"/>
                  </a:cubicBezTo>
                  <a:cubicBezTo>
                    <a:pt x="10" y="173"/>
                    <a:pt x="10" y="173"/>
                    <a:pt x="10" y="173"/>
                  </a:cubicBezTo>
                  <a:cubicBezTo>
                    <a:pt x="20" y="183"/>
                    <a:pt x="37" y="183"/>
                    <a:pt x="47" y="173"/>
                  </a:cubicBezTo>
                  <a:cubicBezTo>
                    <a:pt x="172" y="48"/>
                    <a:pt x="172" y="48"/>
                    <a:pt x="172" y="48"/>
                  </a:cubicBezTo>
                  <a:cubicBezTo>
                    <a:pt x="182" y="37"/>
                    <a:pt x="182" y="21"/>
                    <a:pt x="172" y="10"/>
                  </a:cubicBezTo>
                  <a:cubicBezTo>
                    <a:pt x="172" y="10"/>
                    <a:pt x="172" y="10"/>
                    <a:pt x="172" y="10"/>
                  </a:cubicBezTo>
                  <a:cubicBezTo>
                    <a:pt x="162" y="0"/>
                    <a:pt x="145" y="0"/>
                    <a:pt x="135" y="10"/>
                  </a:cubicBezTo>
                  <a:lnTo>
                    <a:pt x="1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9"/>
            <p:cNvSpPr/>
            <p:nvPr/>
          </p:nvSpPr>
          <p:spPr>
            <a:xfrm>
              <a:off x="10198080" y="3178080"/>
              <a:ext cx="426960" cy="42876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47" y="11"/>
                  </a:moveTo>
                  <a:cubicBezTo>
                    <a:pt x="37" y="0"/>
                    <a:pt x="20" y="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0" y="21"/>
                    <a:pt x="0" y="37"/>
                    <a:pt x="10" y="48"/>
                  </a:cubicBezTo>
                  <a:cubicBezTo>
                    <a:pt x="135" y="173"/>
                    <a:pt x="135" y="173"/>
                    <a:pt x="135" y="173"/>
                  </a:cubicBezTo>
                  <a:cubicBezTo>
                    <a:pt x="145" y="183"/>
                    <a:pt x="162" y="183"/>
                    <a:pt x="172" y="173"/>
                  </a:cubicBezTo>
                  <a:cubicBezTo>
                    <a:pt x="172" y="173"/>
                    <a:pt x="172" y="173"/>
                    <a:pt x="172" y="173"/>
                  </a:cubicBezTo>
                  <a:cubicBezTo>
                    <a:pt x="182" y="162"/>
                    <a:pt x="182" y="146"/>
                    <a:pt x="172" y="135"/>
                  </a:cubicBezTo>
                  <a:lnTo>
                    <a:pt x="4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287"/>
          <p:cNvGrpSpPr/>
          <p:nvPr/>
        </p:nvGrpSpPr>
        <p:grpSpPr>
          <a:xfrm>
            <a:off x="7281720" y="3895560"/>
            <a:ext cx="662040" cy="667080"/>
            <a:chOff x="7281720" y="3895560"/>
            <a:chExt cx="662040" cy="667080"/>
          </a:xfrm>
        </p:grpSpPr>
        <p:sp>
          <p:nvSpPr>
            <p:cNvPr id="235" name="Oval 40"/>
            <p:cNvSpPr/>
            <p:nvPr/>
          </p:nvSpPr>
          <p:spPr>
            <a:xfrm>
              <a:off x="7338600" y="3965400"/>
              <a:ext cx="563760" cy="564120"/>
            </a:xfrm>
            <a:prstGeom prst="ellipse">
              <a:avLst/>
            </a:prstGeom>
            <a:solidFill>
              <a:srgbClr val="2bc1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>
              <a:off x="7583400" y="4391280"/>
              <a:ext cx="68040" cy="17136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8" y="72"/>
                  </a:moveTo>
                  <a:cubicBezTo>
                    <a:pt x="17" y="73"/>
                    <a:pt x="15" y="73"/>
                    <a:pt x="13" y="72"/>
                  </a:cubicBezTo>
                  <a:cubicBezTo>
                    <a:pt x="11" y="71"/>
                    <a:pt x="10" y="68"/>
                    <a:pt x="12" y="6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6" y="52"/>
                    <a:pt x="10" y="43"/>
                    <a:pt x="7" y="39"/>
                  </a:cubicBezTo>
                  <a:cubicBezTo>
                    <a:pt x="3" y="33"/>
                    <a:pt x="0" y="11"/>
                    <a:pt x="9" y="2"/>
                  </a:cubicBezTo>
                  <a:cubicBezTo>
                    <a:pt x="11" y="0"/>
                    <a:pt x="14" y="0"/>
                    <a:pt x="15" y="2"/>
                  </a:cubicBezTo>
                  <a:cubicBezTo>
                    <a:pt x="17" y="3"/>
                    <a:pt x="17" y="6"/>
                    <a:pt x="15" y="8"/>
                  </a:cubicBezTo>
                  <a:cubicBezTo>
                    <a:pt x="10" y="13"/>
                    <a:pt x="12" y="30"/>
                    <a:pt x="14" y="34"/>
                  </a:cubicBezTo>
                  <a:cubicBezTo>
                    <a:pt x="18" y="39"/>
                    <a:pt x="27" y="53"/>
                    <a:pt x="28" y="54"/>
                  </a:cubicBezTo>
                  <a:cubicBezTo>
                    <a:pt x="29" y="55"/>
                    <a:pt x="29" y="57"/>
                    <a:pt x="28" y="58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19" y="71"/>
                    <a:pt x="18" y="72"/>
                    <a:pt x="18" y="7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55"/>
            <p:cNvSpPr/>
            <p:nvPr/>
          </p:nvSpPr>
          <p:spPr>
            <a:xfrm>
              <a:off x="7338600" y="4194000"/>
              <a:ext cx="172800" cy="7452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24"/>
                  </a:moveTo>
                  <a:cubicBezTo>
                    <a:pt x="72" y="24"/>
                    <a:pt x="72" y="24"/>
                    <a:pt x="72" y="24"/>
                  </a:cubicBezTo>
                  <a:cubicBezTo>
                    <a:pt x="62" y="32"/>
                    <a:pt x="40" y="28"/>
                    <a:pt x="34" y="22"/>
                  </a:cubicBezTo>
                  <a:cubicBezTo>
                    <a:pt x="31" y="19"/>
                    <a:pt x="22" y="13"/>
                    <a:pt x="18" y="1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5" y="17"/>
                    <a:pt x="3" y="16"/>
                    <a:pt x="2" y="14"/>
                  </a:cubicBezTo>
                  <a:cubicBezTo>
                    <a:pt x="0" y="12"/>
                    <a:pt x="1" y="9"/>
                    <a:pt x="3" y="8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0"/>
                    <a:pt x="20" y="0"/>
                    <a:pt x="21" y="1"/>
                  </a:cubicBezTo>
                  <a:cubicBezTo>
                    <a:pt x="22" y="1"/>
                    <a:pt x="35" y="12"/>
                    <a:pt x="40" y="16"/>
                  </a:cubicBezTo>
                  <a:cubicBezTo>
                    <a:pt x="43" y="19"/>
                    <a:pt x="60" y="22"/>
                    <a:pt x="66" y="17"/>
                  </a:cubicBezTo>
                  <a:cubicBezTo>
                    <a:pt x="68" y="16"/>
                    <a:pt x="71" y="16"/>
                    <a:pt x="72" y="18"/>
                  </a:cubicBezTo>
                  <a:cubicBezTo>
                    <a:pt x="74" y="19"/>
                    <a:pt x="74" y="22"/>
                    <a:pt x="72" y="24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56"/>
            <p:cNvSpPr/>
            <p:nvPr/>
          </p:nvSpPr>
          <p:spPr>
            <a:xfrm>
              <a:off x="7467480" y="4272120"/>
              <a:ext cx="81000" cy="206280"/>
            </a:xfrm>
            <a:custGeom>
              <a:avLst/>
              <a:gdLst/>
              <a:ahLst/>
              <a:rect l="l" t="t" r="r" b="b"/>
              <a:pathLst>
                <a:path w="34" h="88">
                  <a:moveTo>
                    <a:pt x="7" y="87"/>
                  </a:moveTo>
                  <a:cubicBezTo>
                    <a:pt x="5" y="88"/>
                    <a:pt x="4" y="88"/>
                    <a:pt x="3" y="87"/>
                  </a:cubicBezTo>
                  <a:cubicBezTo>
                    <a:pt x="1" y="86"/>
                    <a:pt x="0" y="84"/>
                    <a:pt x="1" y="82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2" y="62"/>
                    <a:pt x="11" y="49"/>
                    <a:pt x="10" y="44"/>
                  </a:cubicBezTo>
                  <a:cubicBezTo>
                    <a:pt x="9" y="37"/>
                    <a:pt x="15" y="4"/>
                    <a:pt x="28" y="0"/>
                  </a:cubicBezTo>
                  <a:cubicBezTo>
                    <a:pt x="31" y="0"/>
                    <a:pt x="33" y="1"/>
                    <a:pt x="34" y="3"/>
                  </a:cubicBezTo>
                  <a:cubicBezTo>
                    <a:pt x="34" y="5"/>
                    <a:pt x="33" y="8"/>
                    <a:pt x="31" y="9"/>
                  </a:cubicBezTo>
                  <a:cubicBezTo>
                    <a:pt x="24" y="11"/>
                    <a:pt x="18" y="37"/>
                    <a:pt x="19" y="42"/>
                  </a:cubicBezTo>
                  <a:cubicBezTo>
                    <a:pt x="20" y="49"/>
                    <a:pt x="21" y="65"/>
                    <a:pt x="21" y="66"/>
                  </a:cubicBezTo>
                  <a:cubicBezTo>
                    <a:pt x="21" y="67"/>
                    <a:pt x="21" y="67"/>
                    <a:pt x="21" y="68"/>
                  </a:cubicBezTo>
                  <a:cubicBezTo>
                    <a:pt x="8" y="85"/>
                    <a:pt x="8" y="85"/>
                    <a:pt x="8" y="85"/>
                  </a:cubicBezTo>
                  <a:cubicBezTo>
                    <a:pt x="8" y="86"/>
                    <a:pt x="7" y="87"/>
                    <a:pt x="7" y="87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57"/>
            <p:cNvSpPr/>
            <p:nvPr/>
          </p:nvSpPr>
          <p:spPr>
            <a:xfrm>
              <a:off x="7773840" y="4218120"/>
              <a:ext cx="169920" cy="74520"/>
            </a:xfrm>
            <a:custGeom>
              <a:avLst/>
              <a:gdLst/>
              <a:ahLst/>
              <a:rect l="l" t="t" r="r" b="b"/>
              <a:pathLst>
                <a:path w="73" h="32">
                  <a:moveTo>
                    <a:pt x="71" y="23"/>
                  </a:moveTo>
                  <a:cubicBezTo>
                    <a:pt x="73" y="21"/>
                    <a:pt x="73" y="19"/>
                    <a:pt x="72" y="17"/>
                  </a:cubicBezTo>
                  <a:cubicBezTo>
                    <a:pt x="71" y="15"/>
                    <a:pt x="68" y="15"/>
                    <a:pt x="66" y="16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1" y="19"/>
                    <a:pt x="43" y="12"/>
                    <a:pt x="39" y="9"/>
                  </a:cubicBezTo>
                  <a:cubicBezTo>
                    <a:pt x="33" y="4"/>
                    <a:pt x="12" y="0"/>
                    <a:pt x="2" y="8"/>
                  </a:cubicBezTo>
                  <a:cubicBezTo>
                    <a:pt x="0" y="9"/>
                    <a:pt x="0" y="12"/>
                    <a:pt x="1" y="14"/>
                  </a:cubicBezTo>
                  <a:cubicBezTo>
                    <a:pt x="3" y="16"/>
                    <a:pt x="6" y="16"/>
                    <a:pt x="7" y="14"/>
                  </a:cubicBezTo>
                  <a:cubicBezTo>
                    <a:pt x="14" y="9"/>
                    <a:pt x="30" y="13"/>
                    <a:pt x="34" y="16"/>
                  </a:cubicBezTo>
                  <a:cubicBezTo>
                    <a:pt x="39" y="20"/>
                    <a:pt x="52" y="30"/>
                    <a:pt x="52" y="30"/>
                  </a:cubicBezTo>
                  <a:cubicBezTo>
                    <a:pt x="54" y="32"/>
                    <a:pt x="55" y="32"/>
                    <a:pt x="57" y="31"/>
                  </a:cubicBezTo>
                  <a:cubicBezTo>
                    <a:pt x="70" y="23"/>
                    <a:pt x="70" y="23"/>
                    <a:pt x="70" y="23"/>
                  </a:cubicBezTo>
                  <a:cubicBezTo>
                    <a:pt x="71" y="23"/>
                    <a:pt x="71" y="23"/>
                    <a:pt x="71" y="23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58"/>
            <p:cNvSpPr/>
            <p:nvPr/>
          </p:nvSpPr>
          <p:spPr>
            <a:xfrm>
              <a:off x="7594560" y="3955680"/>
              <a:ext cx="68040" cy="174600"/>
            </a:xfrm>
            <a:custGeom>
              <a:avLst/>
              <a:gdLst/>
              <a:ahLst/>
              <a:rect l="l" t="t" r="r" b="b"/>
              <a:pathLst>
                <a:path w="29" h="74">
                  <a:moveTo>
                    <a:pt x="19" y="72"/>
                  </a:moveTo>
                  <a:cubicBezTo>
                    <a:pt x="20" y="72"/>
                    <a:pt x="20" y="72"/>
                    <a:pt x="20" y="72"/>
                  </a:cubicBezTo>
                  <a:cubicBezTo>
                    <a:pt x="29" y="63"/>
                    <a:pt x="26" y="41"/>
                    <a:pt x="21" y="35"/>
                  </a:cubicBezTo>
                  <a:cubicBezTo>
                    <a:pt x="19" y="31"/>
                    <a:pt x="13" y="22"/>
                    <a:pt x="10" y="1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8" y="6"/>
                    <a:pt x="18" y="3"/>
                    <a:pt x="16" y="2"/>
                  </a:cubicBezTo>
                  <a:cubicBezTo>
                    <a:pt x="14" y="0"/>
                    <a:pt x="11" y="1"/>
                    <a:pt x="10" y="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0" y="17"/>
                    <a:pt x="0" y="19"/>
                    <a:pt x="1" y="20"/>
                  </a:cubicBezTo>
                  <a:cubicBezTo>
                    <a:pt x="2" y="21"/>
                    <a:pt x="11" y="35"/>
                    <a:pt x="14" y="40"/>
                  </a:cubicBezTo>
                  <a:cubicBezTo>
                    <a:pt x="17" y="44"/>
                    <a:pt x="19" y="60"/>
                    <a:pt x="14" y="66"/>
                  </a:cubicBezTo>
                  <a:cubicBezTo>
                    <a:pt x="12" y="68"/>
                    <a:pt x="12" y="71"/>
                    <a:pt x="14" y="72"/>
                  </a:cubicBezTo>
                  <a:cubicBezTo>
                    <a:pt x="15" y="74"/>
                    <a:pt x="18" y="74"/>
                    <a:pt x="19" y="7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59"/>
            <p:cNvSpPr/>
            <p:nvPr/>
          </p:nvSpPr>
          <p:spPr>
            <a:xfrm>
              <a:off x="7657920" y="4105080"/>
              <a:ext cx="210960" cy="64800"/>
            </a:xfrm>
            <a:custGeom>
              <a:avLst/>
              <a:gdLst/>
              <a:ahLst/>
              <a:rect l="l" t="t" r="r" b="b"/>
              <a:pathLst>
                <a:path w="90" h="28">
                  <a:moveTo>
                    <a:pt x="89" y="7"/>
                  </a:moveTo>
                  <a:cubicBezTo>
                    <a:pt x="90" y="6"/>
                    <a:pt x="90" y="5"/>
                    <a:pt x="90" y="3"/>
                  </a:cubicBezTo>
                  <a:cubicBezTo>
                    <a:pt x="89" y="1"/>
                    <a:pt x="87" y="0"/>
                    <a:pt x="84" y="1"/>
                  </a:cubicBezTo>
                  <a:cubicBezTo>
                    <a:pt x="68" y="11"/>
                    <a:pt x="68" y="11"/>
                    <a:pt x="68" y="11"/>
                  </a:cubicBezTo>
                  <a:cubicBezTo>
                    <a:pt x="64" y="11"/>
                    <a:pt x="51" y="9"/>
                    <a:pt x="46" y="7"/>
                  </a:cubicBezTo>
                  <a:cubicBezTo>
                    <a:pt x="39" y="6"/>
                    <a:pt x="6" y="9"/>
                    <a:pt x="1" y="22"/>
                  </a:cubicBezTo>
                  <a:cubicBezTo>
                    <a:pt x="0" y="24"/>
                    <a:pt x="1" y="26"/>
                    <a:pt x="4" y="27"/>
                  </a:cubicBezTo>
                  <a:cubicBezTo>
                    <a:pt x="6" y="28"/>
                    <a:pt x="8" y="27"/>
                    <a:pt x="9" y="25"/>
                  </a:cubicBezTo>
                  <a:cubicBezTo>
                    <a:pt x="12" y="18"/>
                    <a:pt x="38" y="14"/>
                    <a:pt x="44" y="16"/>
                  </a:cubicBezTo>
                  <a:cubicBezTo>
                    <a:pt x="50" y="17"/>
                    <a:pt x="67" y="20"/>
                    <a:pt x="67" y="20"/>
                  </a:cubicBezTo>
                  <a:cubicBezTo>
                    <a:pt x="68" y="20"/>
                    <a:pt x="69" y="20"/>
                    <a:pt x="69" y="20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8" y="8"/>
                    <a:pt x="89" y="8"/>
                    <a:pt x="89" y="7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60"/>
            <p:cNvSpPr/>
            <p:nvPr/>
          </p:nvSpPr>
          <p:spPr>
            <a:xfrm>
              <a:off x="7281720" y="4100400"/>
              <a:ext cx="225360" cy="100080"/>
            </a:xfrm>
            <a:custGeom>
              <a:avLst/>
              <a:gdLst/>
              <a:ahLst/>
              <a:rect l="l" t="t" r="r" b="b"/>
              <a:pathLst>
                <a:path w="96" h="43">
                  <a:moveTo>
                    <a:pt x="95" y="9"/>
                  </a:moveTo>
                  <a:cubicBezTo>
                    <a:pt x="94" y="9"/>
                    <a:pt x="94" y="10"/>
                    <a:pt x="93" y="10"/>
                  </a:cubicBezTo>
                  <a:cubicBezTo>
                    <a:pt x="93" y="10"/>
                    <a:pt x="83" y="13"/>
                    <a:pt x="76" y="15"/>
                  </a:cubicBezTo>
                  <a:cubicBezTo>
                    <a:pt x="73" y="16"/>
                    <a:pt x="68" y="14"/>
                    <a:pt x="61" y="13"/>
                  </a:cubicBezTo>
                  <a:cubicBezTo>
                    <a:pt x="51" y="11"/>
                    <a:pt x="37" y="7"/>
                    <a:pt x="29" y="12"/>
                  </a:cubicBezTo>
                  <a:cubicBezTo>
                    <a:pt x="15" y="18"/>
                    <a:pt x="7" y="40"/>
                    <a:pt x="7" y="41"/>
                  </a:cubicBezTo>
                  <a:cubicBezTo>
                    <a:pt x="6" y="42"/>
                    <a:pt x="4" y="43"/>
                    <a:pt x="2" y="43"/>
                  </a:cubicBezTo>
                  <a:cubicBezTo>
                    <a:pt x="0" y="42"/>
                    <a:pt x="0" y="40"/>
                    <a:pt x="0" y="38"/>
                  </a:cubicBezTo>
                  <a:cubicBezTo>
                    <a:pt x="0" y="37"/>
                    <a:pt x="9" y="13"/>
                    <a:pt x="26" y="5"/>
                  </a:cubicBezTo>
                  <a:cubicBezTo>
                    <a:pt x="37" y="0"/>
                    <a:pt x="51" y="4"/>
                    <a:pt x="62" y="6"/>
                  </a:cubicBezTo>
                  <a:cubicBezTo>
                    <a:pt x="67" y="7"/>
                    <a:pt x="73" y="9"/>
                    <a:pt x="74" y="8"/>
                  </a:cubicBezTo>
                  <a:cubicBezTo>
                    <a:pt x="81" y="6"/>
                    <a:pt x="91" y="3"/>
                    <a:pt x="91" y="3"/>
                  </a:cubicBezTo>
                  <a:cubicBezTo>
                    <a:pt x="93" y="3"/>
                    <a:pt x="95" y="4"/>
                    <a:pt x="96" y="6"/>
                  </a:cubicBezTo>
                  <a:cubicBezTo>
                    <a:pt x="96" y="7"/>
                    <a:pt x="96" y="8"/>
                    <a:pt x="95" y="9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61"/>
            <p:cNvSpPr/>
            <p:nvPr/>
          </p:nvSpPr>
          <p:spPr>
            <a:xfrm>
              <a:off x="7500600" y="3895560"/>
              <a:ext cx="112680" cy="217440"/>
            </a:xfrm>
            <a:custGeom>
              <a:avLst/>
              <a:gdLst/>
              <a:ahLst/>
              <a:rect l="l" t="t" r="r" b="b"/>
              <a:pathLst>
                <a:path w="48" h="93">
                  <a:moveTo>
                    <a:pt x="6" y="92"/>
                  </a:moveTo>
                  <a:cubicBezTo>
                    <a:pt x="6" y="92"/>
                    <a:pt x="7" y="91"/>
                    <a:pt x="7" y="91"/>
                  </a:cubicBezTo>
                  <a:cubicBezTo>
                    <a:pt x="7" y="91"/>
                    <a:pt x="11" y="81"/>
                    <a:pt x="13" y="74"/>
                  </a:cubicBezTo>
                  <a:cubicBezTo>
                    <a:pt x="14" y="71"/>
                    <a:pt x="14" y="65"/>
                    <a:pt x="13" y="58"/>
                  </a:cubicBezTo>
                  <a:cubicBezTo>
                    <a:pt x="11" y="48"/>
                    <a:pt x="9" y="35"/>
                    <a:pt x="14" y="26"/>
                  </a:cubicBezTo>
                  <a:cubicBezTo>
                    <a:pt x="22" y="13"/>
                    <a:pt x="45" y="7"/>
                    <a:pt x="45" y="7"/>
                  </a:cubicBezTo>
                  <a:cubicBezTo>
                    <a:pt x="47" y="6"/>
                    <a:pt x="48" y="4"/>
                    <a:pt x="47" y="3"/>
                  </a:cubicBezTo>
                  <a:cubicBezTo>
                    <a:pt x="47" y="1"/>
                    <a:pt x="45" y="0"/>
                    <a:pt x="43" y="0"/>
                  </a:cubicBezTo>
                  <a:cubicBezTo>
                    <a:pt x="42" y="0"/>
                    <a:pt x="17" y="7"/>
                    <a:pt x="8" y="23"/>
                  </a:cubicBezTo>
                  <a:cubicBezTo>
                    <a:pt x="2" y="33"/>
                    <a:pt x="4" y="48"/>
                    <a:pt x="6" y="59"/>
                  </a:cubicBezTo>
                  <a:cubicBezTo>
                    <a:pt x="7" y="64"/>
                    <a:pt x="7" y="70"/>
                    <a:pt x="7" y="72"/>
                  </a:cubicBezTo>
                  <a:cubicBezTo>
                    <a:pt x="4" y="78"/>
                    <a:pt x="1" y="88"/>
                    <a:pt x="1" y="88"/>
                  </a:cubicBezTo>
                  <a:cubicBezTo>
                    <a:pt x="0" y="90"/>
                    <a:pt x="1" y="92"/>
                    <a:pt x="3" y="93"/>
                  </a:cubicBezTo>
                  <a:cubicBezTo>
                    <a:pt x="4" y="93"/>
                    <a:pt x="5" y="93"/>
                    <a:pt x="6" y="9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62"/>
            <p:cNvSpPr/>
            <p:nvPr/>
          </p:nvSpPr>
          <p:spPr>
            <a:xfrm>
              <a:off x="7437240" y="4041720"/>
              <a:ext cx="430200" cy="433800"/>
            </a:xfrm>
            <a:custGeom>
              <a:avLst/>
              <a:gdLst/>
              <a:ahLst/>
              <a:rect l="l" t="t" r="r" b="b"/>
              <a:pathLst>
                <a:path w="183" h="185">
                  <a:moveTo>
                    <a:pt x="138" y="52"/>
                  </a:moveTo>
                  <a:cubicBezTo>
                    <a:pt x="183" y="81"/>
                    <a:pt x="173" y="131"/>
                    <a:pt x="147" y="155"/>
                  </a:cubicBezTo>
                  <a:cubicBezTo>
                    <a:pt x="121" y="179"/>
                    <a:pt x="73" y="185"/>
                    <a:pt x="45" y="139"/>
                  </a:cubicBezTo>
                  <a:cubicBezTo>
                    <a:pt x="16" y="90"/>
                    <a:pt x="0" y="48"/>
                    <a:pt x="26" y="24"/>
                  </a:cubicBezTo>
                  <a:cubicBezTo>
                    <a:pt x="53" y="0"/>
                    <a:pt x="92" y="22"/>
                    <a:pt x="138" y="52"/>
                  </a:cubicBezTo>
                  <a:close/>
                </a:path>
              </a:pathLst>
            </a:custGeom>
            <a:solidFill>
              <a:srgbClr val="c2c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63"/>
            <p:cNvSpPr/>
            <p:nvPr/>
          </p:nvSpPr>
          <p:spPr>
            <a:xfrm>
              <a:off x="7519680" y="4066920"/>
              <a:ext cx="328680" cy="352440"/>
            </a:xfrm>
            <a:custGeom>
              <a:avLst/>
              <a:gdLst/>
              <a:ahLst/>
              <a:rect l="l" t="t" r="r" b="b"/>
              <a:pathLst>
                <a:path w="140" h="150">
                  <a:moveTo>
                    <a:pt x="112" y="55"/>
                  </a:moveTo>
                  <a:cubicBezTo>
                    <a:pt x="67" y="23"/>
                    <a:pt x="29" y="0"/>
                    <a:pt x="2" y="22"/>
                  </a:cubicBezTo>
                  <a:cubicBezTo>
                    <a:pt x="1" y="23"/>
                    <a:pt x="1" y="23"/>
                    <a:pt x="0" y="24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8" y="148"/>
                    <a:pt x="110" y="146"/>
                    <a:pt x="112" y="144"/>
                  </a:cubicBezTo>
                  <a:cubicBezTo>
                    <a:pt x="130" y="128"/>
                    <a:pt x="140" y="101"/>
                    <a:pt x="131" y="75"/>
                  </a:cubicBezTo>
                  <a:cubicBezTo>
                    <a:pt x="127" y="68"/>
                    <a:pt x="120" y="62"/>
                    <a:pt x="112" y="55"/>
                  </a:cubicBezTo>
                  <a:close/>
                </a:path>
              </a:pathLst>
            </a:custGeom>
            <a:solidFill>
              <a:srgbClr val="878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64"/>
            <p:cNvSpPr/>
            <p:nvPr/>
          </p:nvSpPr>
          <p:spPr>
            <a:xfrm>
              <a:off x="7495920" y="4041720"/>
              <a:ext cx="371520" cy="36864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1" y="24"/>
                  </a:moveTo>
                  <a:cubicBezTo>
                    <a:pt x="1" y="24"/>
                    <a:pt x="1" y="25"/>
                    <a:pt x="0" y="25"/>
                  </a:cubicBezTo>
                  <a:cubicBezTo>
                    <a:pt x="121" y="157"/>
                    <a:pt x="121" y="157"/>
                    <a:pt x="121" y="157"/>
                  </a:cubicBezTo>
                  <a:cubicBezTo>
                    <a:pt x="121" y="156"/>
                    <a:pt x="122" y="156"/>
                    <a:pt x="122" y="155"/>
                  </a:cubicBezTo>
                  <a:cubicBezTo>
                    <a:pt x="148" y="131"/>
                    <a:pt x="158" y="81"/>
                    <a:pt x="113" y="52"/>
                  </a:cubicBezTo>
                  <a:cubicBezTo>
                    <a:pt x="67" y="22"/>
                    <a:pt x="28" y="0"/>
                    <a:pt x="1" y="24"/>
                  </a:cubicBezTo>
                  <a:close/>
                </a:path>
              </a:pathLst>
            </a:custGeom>
            <a:solidFill>
              <a:srgbClr val="93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65"/>
            <p:cNvSpPr/>
            <p:nvPr/>
          </p:nvSpPr>
          <p:spPr>
            <a:xfrm>
              <a:off x="7432560" y="4033800"/>
              <a:ext cx="142920" cy="13824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23" y="22"/>
                  </a:moveTo>
                  <a:cubicBezTo>
                    <a:pt x="0" y="43"/>
                    <a:pt x="15" y="59"/>
                    <a:pt x="15" y="59"/>
                  </a:cubicBezTo>
                  <a:cubicBezTo>
                    <a:pt x="23" y="56"/>
                    <a:pt x="58" y="24"/>
                    <a:pt x="61" y="18"/>
                  </a:cubicBezTo>
                  <a:cubicBezTo>
                    <a:pt x="61" y="18"/>
                    <a:pt x="46" y="0"/>
                    <a:pt x="23" y="2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70"/>
          <p:cNvGrpSpPr/>
          <p:nvPr/>
        </p:nvGrpSpPr>
        <p:grpSpPr>
          <a:xfrm>
            <a:off x="8296200" y="2554200"/>
            <a:ext cx="1023840" cy="1112760"/>
            <a:chOff x="8296200" y="2554200"/>
            <a:chExt cx="1023840" cy="1112760"/>
          </a:xfrm>
        </p:grpSpPr>
        <p:sp>
          <p:nvSpPr>
            <p:cNvPr id="249" name="Oval 41"/>
            <p:cNvSpPr/>
            <p:nvPr/>
          </p:nvSpPr>
          <p:spPr>
            <a:xfrm>
              <a:off x="8313480" y="2646000"/>
              <a:ext cx="966960" cy="966960"/>
            </a:xfrm>
            <a:prstGeom prst="ellipse">
              <a:avLst/>
            </a:prstGeom>
            <a:solidFill>
              <a:srgbClr val="2ec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42"/>
            <p:cNvSpPr/>
            <p:nvPr/>
          </p:nvSpPr>
          <p:spPr>
            <a:xfrm>
              <a:off x="8296200" y="3249360"/>
              <a:ext cx="264960" cy="201600"/>
            </a:xfrm>
            <a:custGeom>
              <a:avLst/>
              <a:gdLst/>
              <a:ahLst/>
              <a:rect l="l" t="t" r="r" b="b"/>
              <a:pathLst>
                <a:path w="113" h="86">
                  <a:moveTo>
                    <a:pt x="6" y="83"/>
                  </a:moveTo>
                  <a:cubicBezTo>
                    <a:pt x="3" y="82"/>
                    <a:pt x="0" y="79"/>
                    <a:pt x="1" y="76"/>
                  </a:cubicBezTo>
                  <a:cubicBezTo>
                    <a:pt x="1" y="71"/>
                    <a:pt x="5" y="68"/>
                    <a:pt x="9" y="68"/>
                  </a:cubicBezTo>
                  <a:cubicBezTo>
                    <a:pt x="32" y="70"/>
                    <a:pt x="32" y="70"/>
                    <a:pt x="32" y="70"/>
                  </a:cubicBezTo>
                  <a:cubicBezTo>
                    <a:pt x="36" y="62"/>
                    <a:pt x="44" y="45"/>
                    <a:pt x="47" y="37"/>
                  </a:cubicBezTo>
                  <a:cubicBezTo>
                    <a:pt x="52" y="23"/>
                    <a:pt x="84" y="0"/>
                    <a:pt x="106" y="5"/>
                  </a:cubicBezTo>
                  <a:cubicBezTo>
                    <a:pt x="111" y="6"/>
                    <a:pt x="113" y="10"/>
                    <a:pt x="112" y="14"/>
                  </a:cubicBezTo>
                  <a:cubicBezTo>
                    <a:pt x="111" y="18"/>
                    <a:pt x="107" y="21"/>
                    <a:pt x="103" y="20"/>
                  </a:cubicBezTo>
                  <a:cubicBezTo>
                    <a:pt x="89" y="16"/>
                    <a:pt x="64" y="35"/>
                    <a:pt x="61" y="43"/>
                  </a:cubicBezTo>
                  <a:cubicBezTo>
                    <a:pt x="57" y="53"/>
                    <a:pt x="44" y="80"/>
                    <a:pt x="43" y="81"/>
                  </a:cubicBezTo>
                  <a:cubicBezTo>
                    <a:pt x="42" y="84"/>
                    <a:pt x="39" y="86"/>
                    <a:pt x="36" y="86"/>
                  </a:cubicBezTo>
                  <a:cubicBezTo>
                    <a:pt x="8" y="84"/>
                    <a:pt x="8" y="84"/>
                    <a:pt x="8" y="84"/>
                  </a:cubicBezTo>
                  <a:cubicBezTo>
                    <a:pt x="7" y="84"/>
                    <a:pt x="7" y="84"/>
                    <a:pt x="6" y="83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43"/>
            <p:cNvSpPr/>
            <p:nvPr/>
          </p:nvSpPr>
          <p:spPr>
            <a:xfrm>
              <a:off x="8559720" y="2690640"/>
              <a:ext cx="147600" cy="28872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52" y="122"/>
                  </a:moveTo>
                  <a:cubicBezTo>
                    <a:pt x="52" y="122"/>
                    <a:pt x="52" y="122"/>
                    <a:pt x="52" y="122"/>
                  </a:cubicBezTo>
                  <a:cubicBezTo>
                    <a:pt x="30" y="114"/>
                    <a:pt x="17" y="77"/>
                    <a:pt x="20" y="63"/>
                  </a:cubicBezTo>
                  <a:cubicBezTo>
                    <a:pt x="21" y="55"/>
                    <a:pt x="24" y="36"/>
                    <a:pt x="25" y="27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2" y="13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40" y="17"/>
                    <a:pt x="41" y="20"/>
                    <a:pt x="41" y="23"/>
                  </a:cubicBezTo>
                  <a:cubicBezTo>
                    <a:pt x="41" y="25"/>
                    <a:pt x="37" y="54"/>
                    <a:pt x="35" y="66"/>
                  </a:cubicBezTo>
                  <a:cubicBezTo>
                    <a:pt x="33" y="74"/>
                    <a:pt x="43" y="103"/>
                    <a:pt x="57" y="108"/>
                  </a:cubicBezTo>
                  <a:cubicBezTo>
                    <a:pt x="61" y="109"/>
                    <a:pt x="63" y="113"/>
                    <a:pt x="62" y="117"/>
                  </a:cubicBezTo>
                  <a:cubicBezTo>
                    <a:pt x="60" y="121"/>
                    <a:pt x="56" y="123"/>
                    <a:pt x="52" y="12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8300880" y="3000240"/>
              <a:ext cx="377640" cy="156960"/>
            </a:xfrm>
            <a:custGeom>
              <a:avLst/>
              <a:gdLst/>
              <a:ahLst/>
              <a:rect l="l" t="t" r="r" b="b"/>
              <a:pathLst>
                <a:path w="161" h="67">
                  <a:moveTo>
                    <a:pt x="4" y="63"/>
                  </a:moveTo>
                  <a:cubicBezTo>
                    <a:pt x="2" y="62"/>
                    <a:pt x="0" y="60"/>
                    <a:pt x="0" y="57"/>
                  </a:cubicBezTo>
                  <a:cubicBezTo>
                    <a:pt x="0" y="53"/>
                    <a:pt x="3" y="49"/>
                    <a:pt x="7" y="48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8" y="48"/>
                    <a:pt x="67" y="35"/>
                    <a:pt x="74" y="29"/>
                  </a:cubicBezTo>
                  <a:cubicBezTo>
                    <a:pt x="84" y="21"/>
                    <a:pt x="139" y="0"/>
                    <a:pt x="158" y="17"/>
                  </a:cubicBezTo>
                  <a:cubicBezTo>
                    <a:pt x="161" y="20"/>
                    <a:pt x="161" y="25"/>
                    <a:pt x="158" y="28"/>
                  </a:cubicBezTo>
                  <a:cubicBezTo>
                    <a:pt x="156" y="31"/>
                    <a:pt x="151" y="31"/>
                    <a:pt x="147" y="28"/>
                  </a:cubicBezTo>
                  <a:cubicBezTo>
                    <a:pt x="138" y="20"/>
                    <a:pt x="92" y="34"/>
                    <a:pt x="84" y="41"/>
                  </a:cubicBezTo>
                  <a:cubicBezTo>
                    <a:pt x="75" y="48"/>
                    <a:pt x="51" y="65"/>
                    <a:pt x="50" y="66"/>
                  </a:cubicBezTo>
                  <a:cubicBezTo>
                    <a:pt x="49" y="67"/>
                    <a:pt x="47" y="67"/>
                    <a:pt x="46" y="67"/>
                  </a:cubicBezTo>
                  <a:cubicBezTo>
                    <a:pt x="9" y="64"/>
                    <a:pt x="9" y="64"/>
                    <a:pt x="9" y="64"/>
                  </a:cubicBezTo>
                  <a:cubicBezTo>
                    <a:pt x="7" y="64"/>
                    <a:pt x="5" y="64"/>
                    <a:pt x="4" y="63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45"/>
            <p:cNvSpPr/>
            <p:nvPr/>
          </p:nvSpPr>
          <p:spPr>
            <a:xfrm>
              <a:off x="8926560" y="3378240"/>
              <a:ext cx="147600" cy="288720"/>
            </a:xfrm>
            <a:custGeom>
              <a:avLst/>
              <a:gdLst/>
              <a:ahLst/>
              <a:rect l="l" t="t" r="r" b="b"/>
              <a:pathLst>
                <a:path w="63" h="123">
                  <a:moveTo>
                    <a:pt x="52" y="122"/>
                  </a:moveTo>
                  <a:cubicBezTo>
                    <a:pt x="55" y="123"/>
                    <a:pt x="59" y="122"/>
                    <a:pt x="61" y="119"/>
                  </a:cubicBezTo>
                  <a:cubicBezTo>
                    <a:pt x="63" y="115"/>
                    <a:pt x="62" y="110"/>
                    <a:pt x="58" y="108"/>
                  </a:cubicBezTo>
                  <a:cubicBezTo>
                    <a:pt x="38" y="97"/>
                    <a:pt x="38" y="97"/>
                    <a:pt x="38" y="97"/>
                  </a:cubicBezTo>
                  <a:cubicBezTo>
                    <a:pt x="39" y="88"/>
                    <a:pt x="42" y="69"/>
                    <a:pt x="43" y="61"/>
                  </a:cubicBezTo>
                  <a:cubicBezTo>
                    <a:pt x="46" y="47"/>
                    <a:pt x="33" y="9"/>
                    <a:pt x="11" y="1"/>
                  </a:cubicBezTo>
                  <a:cubicBezTo>
                    <a:pt x="7" y="0"/>
                    <a:pt x="3" y="2"/>
                    <a:pt x="1" y="6"/>
                  </a:cubicBezTo>
                  <a:cubicBezTo>
                    <a:pt x="0" y="10"/>
                    <a:pt x="2" y="15"/>
                    <a:pt x="6" y="16"/>
                  </a:cubicBezTo>
                  <a:cubicBezTo>
                    <a:pt x="20" y="21"/>
                    <a:pt x="30" y="50"/>
                    <a:pt x="28" y="58"/>
                  </a:cubicBezTo>
                  <a:cubicBezTo>
                    <a:pt x="26" y="69"/>
                    <a:pt x="22" y="99"/>
                    <a:pt x="22" y="100"/>
                  </a:cubicBezTo>
                  <a:cubicBezTo>
                    <a:pt x="22" y="103"/>
                    <a:pt x="23" y="106"/>
                    <a:pt x="26" y="108"/>
                  </a:cubicBezTo>
                  <a:cubicBezTo>
                    <a:pt x="50" y="121"/>
                    <a:pt x="50" y="121"/>
                    <a:pt x="50" y="121"/>
                  </a:cubicBezTo>
                  <a:cubicBezTo>
                    <a:pt x="51" y="122"/>
                    <a:pt x="51" y="122"/>
                    <a:pt x="52" y="122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46"/>
            <p:cNvSpPr/>
            <p:nvPr/>
          </p:nvSpPr>
          <p:spPr>
            <a:xfrm>
              <a:off x="8980560" y="2881080"/>
              <a:ext cx="261720" cy="201600"/>
            </a:xfrm>
            <a:custGeom>
              <a:avLst/>
              <a:gdLst/>
              <a:ahLst/>
              <a:rect l="l" t="t" r="r" b="b"/>
              <a:pathLst>
                <a:path w="112" h="86">
                  <a:moveTo>
                    <a:pt x="6" y="81"/>
                  </a:moveTo>
                  <a:cubicBezTo>
                    <a:pt x="6" y="81"/>
                    <a:pt x="6" y="81"/>
                    <a:pt x="6" y="81"/>
                  </a:cubicBezTo>
                  <a:cubicBezTo>
                    <a:pt x="29" y="86"/>
                    <a:pt x="60" y="62"/>
                    <a:pt x="66" y="49"/>
                  </a:cubicBezTo>
                  <a:cubicBezTo>
                    <a:pt x="69" y="41"/>
                    <a:pt x="77" y="24"/>
                    <a:pt x="81" y="16"/>
                  </a:cubicBezTo>
                  <a:cubicBezTo>
                    <a:pt x="104" y="17"/>
                    <a:pt x="104" y="17"/>
                    <a:pt x="104" y="17"/>
                  </a:cubicBezTo>
                  <a:cubicBezTo>
                    <a:pt x="108" y="18"/>
                    <a:pt x="112" y="14"/>
                    <a:pt x="112" y="10"/>
                  </a:cubicBezTo>
                  <a:cubicBezTo>
                    <a:pt x="112" y="6"/>
                    <a:pt x="109" y="2"/>
                    <a:pt x="105" y="2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74" y="0"/>
                    <a:pt x="71" y="2"/>
                    <a:pt x="70" y="4"/>
                  </a:cubicBezTo>
                  <a:cubicBezTo>
                    <a:pt x="69" y="6"/>
                    <a:pt x="56" y="32"/>
                    <a:pt x="51" y="43"/>
                  </a:cubicBezTo>
                  <a:cubicBezTo>
                    <a:pt x="48" y="51"/>
                    <a:pt x="24" y="69"/>
                    <a:pt x="10" y="66"/>
                  </a:cubicBezTo>
                  <a:cubicBezTo>
                    <a:pt x="6" y="65"/>
                    <a:pt x="2" y="67"/>
                    <a:pt x="1" y="72"/>
                  </a:cubicBezTo>
                  <a:cubicBezTo>
                    <a:pt x="0" y="76"/>
                    <a:pt x="2" y="80"/>
                    <a:pt x="6" y="81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47"/>
            <p:cNvSpPr/>
            <p:nvPr/>
          </p:nvSpPr>
          <p:spPr>
            <a:xfrm>
              <a:off x="8951760" y="3120840"/>
              <a:ext cx="280800" cy="29664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111" y="126"/>
                  </a:moveTo>
                  <a:cubicBezTo>
                    <a:pt x="113" y="127"/>
                    <a:pt x="115" y="126"/>
                    <a:pt x="117" y="124"/>
                  </a:cubicBezTo>
                  <a:cubicBezTo>
                    <a:pt x="120" y="120"/>
                    <a:pt x="119" y="116"/>
                    <a:pt x="116" y="113"/>
                  </a:cubicBezTo>
                  <a:cubicBezTo>
                    <a:pt x="84" y="97"/>
                    <a:pt x="84" y="97"/>
                    <a:pt x="84" y="97"/>
                  </a:cubicBezTo>
                  <a:cubicBezTo>
                    <a:pt x="82" y="90"/>
                    <a:pt x="73" y="68"/>
                    <a:pt x="70" y="59"/>
                  </a:cubicBezTo>
                  <a:cubicBezTo>
                    <a:pt x="67" y="47"/>
                    <a:pt x="31" y="0"/>
                    <a:pt x="7" y="4"/>
                  </a:cubicBezTo>
                  <a:cubicBezTo>
                    <a:pt x="3" y="4"/>
                    <a:pt x="0" y="8"/>
                    <a:pt x="1" y="12"/>
                  </a:cubicBezTo>
                  <a:cubicBezTo>
                    <a:pt x="1" y="17"/>
                    <a:pt x="5" y="19"/>
                    <a:pt x="9" y="19"/>
                  </a:cubicBezTo>
                  <a:cubicBezTo>
                    <a:pt x="22" y="17"/>
                    <a:pt x="53" y="54"/>
                    <a:pt x="56" y="64"/>
                  </a:cubicBezTo>
                  <a:cubicBezTo>
                    <a:pt x="59" y="75"/>
                    <a:pt x="70" y="103"/>
                    <a:pt x="70" y="104"/>
                  </a:cubicBezTo>
                  <a:cubicBezTo>
                    <a:pt x="71" y="105"/>
                    <a:pt x="72" y="106"/>
                    <a:pt x="73" y="107"/>
                  </a:cubicBezTo>
                  <a:cubicBezTo>
                    <a:pt x="106" y="125"/>
                    <a:pt x="106" y="125"/>
                    <a:pt x="106" y="125"/>
                  </a:cubicBezTo>
                  <a:cubicBezTo>
                    <a:pt x="107" y="126"/>
                    <a:pt x="109" y="126"/>
                    <a:pt x="111" y="126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48"/>
            <p:cNvSpPr/>
            <p:nvPr/>
          </p:nvSpPr>
          <p:spPr>
            <a:xfrm>
              <a:off x="8554680" y="2554200"/>
              <a:ext cx="342720" cy="30312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38" y="128"/>
                  </a:moveTo>
                  <a:cubicBezTo>
                    <a:pt x="137" y="128"/>
                    <a:pt x="136" y="128"/>
                    <a:pt x="135" y="127"/>
                  </a:cubicBezTo>
                  <a:cubicBezTo>
                    <a:pt x="135" y="127"/>
                    <a:pt x="121" y="114"/>
                    <a:pt x="112" y="105"/>
                  </a:cubicBezTo>
                  <a:cubicBezTo>
                    <a:pt x="107" y="100"/>
                    <a:pt x="104" y="91"/>
                    <a:pt x="100" y="79"/>
                  </a:cubicBezTo>
                  <a:cubicBezTo>
                    <a:pt x="95" y="62"/>
                    <a:pt x="87" y="38"/>
                    <a:pt x="73" y="28"/>
                  </a:cubicBezTo>
                  <a:cubicBezTo>
                    <a:pt x="50" y="13"/>
                    <a:pt x="8" y="21"/>
                    <a:pt x="8" y="21"/>
                  </a:cubicBezTo>
                  <a:cubicBezTo>
                    <a:pt x="5" y="22"/>
                    <a:pt x="1" y="20"/>
                    <a:pt x="1" y="16"/>
                  </a:cubicBezTo>
                  <a:cubicBezTo>
                    <a:pt x="0" y="13"/>
                    <a:pt x="2" y="10"/>
                    <a:pt x="5" y="9"/>
                  </a:cubicBezTo>
                  <a:cubicBezTo>
                    <a:pt x="7" y="9"/>
                    <a:pt x="53" y="0"/>
                    <a:pt x="80" y="18"/>
                  </a:cubicBezTo>
                  <a:cubicBezTo>
                    <a:pt x="98" y="30"/>
                    <a:pt x="106" y="56"/>
                    <a:pt x="112" y="75"/>
                  </a:cubicBezTo>
                  <a:cubicBezTo>
                    <a:pt x="115" y="84"/>
                    <a:pt x="118" y="94"/>
                    <a:pt x="120" y="96"/>
                  </a:cubicBezTo>
                  <a:cubicBezTo>
                    <a:pt x="130" y="105"/>
                    <a:pt x="143" y="118"/>
                    <a:pt x="144" y="118"/>
                  </a:cubicBezTo>
                  <a:cubicBezTo>
                    <a:pt x="146" y="120"/>
                    <a:pt x="146" y="124"/>
                    <a:pt x="144" y="127"/>
                  </a:cubicBezTo>
                  <a:cubicBezTo>
                    <a:pt x="142" y="128"/>
                    <a:pt x="140" y="129"/>
                    <a:pt x="138" y="128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49"/>
            <p:cNvSpPr/>
            <p:nvPr/>
          </p:nvSpPr>
          <p:spPr>
            <a:xfrm>
              <a:off x="8889840" y="2719080"/>
              <a:ext cx="430200" cy="144360"/>
            </a:xfrm>
            <a:custGeom>
              <a:avLst/>
              <a:gdLst/>
              <a:ahLst/>
              <a:rect l="l" t="t" r="r" b="b"/>
              <a:pathLst>
                <a:path w="183" h="62">
                  <a:moveTo>
                    <a:pt x="5" y="61"/>
                  </a:moveTo>
                  <a:cubicBezTo>
                    <a:pt x="6" y="62"/>
                    <a:pt x="7" y="62"/>
                    <a:pt x="8" y="61"/>
                  </a:cubicBezTo>
                  <a:cubicBezTo>
                    <a:pt x="8" y="61"/>
                    <a:pt x="26" y="58"/>
                    <a:pt x="39" y="56"/>
                  </a:cubicBezTo>
                  <a:cubicBezTo>
                    <a:pt x="46" y="55"/>
                    <a:pt x="53" y="49"/>
                    <a:pt x="63" y="41"/>
                  </a:cubicBezTo>
                  <a:cubicBezTo>
                    <a:pt x="77" y="29"/>
                    <a:pt x="96" y="14"/>
                    <a:pt x="114" y="13"/>
                  </a:cubicBezTo>
                  <a:cubicBezTo>
                    <a:pt x="141" y="13"/>
                    <a:pt x="172" y="43"/>
                    <a:pt x="172" y="43"/>
                  </a:cubicBezTo>
                  <a:cubicBezTo>
                    <a:pt x="174" y="45"/>
                    <a:pt x="178" y="45"/>
                    <a:pt x="181" y="43"/>
                  </a:cubicBezTo>
                  <a:cubicBezTo>
                    <a:pt x="183" y="40"/>
                    <a:pt x="183" y="37"/>
                    <a:pt x="181" y="34"/>
                  </a:cubicBezTo>
                  <a:cubicBezTo>
                    <a:pt x="179" y="33"/>
                    <a:pt x="146" y="0"/>
                    <a:pt x="113" y="1"/>
                  </a:cubicBezTo>
                  <a:cubicBezTo>
                    <a:pt x="92" y="1"/>
                    <a:pt x="71" y="18"/>
                    <a:pt x="55" y="31"/>
                  </a:cubicBezTo>
                  <a:cubicBezTo>
                    <a:pt x="48" y="37"/>
                    <a:pt x="40" y="43"/>
                    <a:pt x="37" y="44"/>
                  </a:cubicBezTo>
                  <a:cubicBezTo>
                    <a:pt x="24" y="46"/>
                    <a:pt x="6" y="49"/>
                    <a:pt x="6" y="49"/>
                  </a:cubicBezTo>
                  <a:cubicBezTo>
                    <a:pt x="2" y="50"/>
                    <a:pt x="0" y="53"/>
                    <a:pt x="1" y="56"/>
                  </a:cubicBezTo>
                  <a:cubicBezTo>
                    <a:pt x="1" y="59"/>
                    <a:pt x="3" y="61"/>
                    <a:pt x="5" y="61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50"/>
            <p:cNvSpPr/>
            <p:nvPr/>
          </p:nvSpPr>
          <p:spPr>
            <a:xfrm>
              <a:off x="8426160" y="2782800"/>
              <a:ext cx="630360" cy="806400"/>
            </a:xfrm>
            <a:custGeom>
              <a:avLst/>
              <a:gdLst/>
              <a:ahLst/>
              <a:rect l="l" t="t" r="r" b="b"/>
              <a:pathLst>
                <a:path w="269" h="344">
                  <a:moveTo>
                    <a:pt x="265" y="216"/>
                  </a:moveTo>
                  <a:cubicBezTo>
                    <a:pt x="261" y="313"/>
                    <a:pt x="175" y="344"/>
                    <a:pt x="114" y="326"/>
                  </a:cubicBezTo>
                  <a:cubicBezTo>
                    <a:pt x="53" y="308"/>
                    <a:pt x="0" y="238"/>
                    <a:pt x="45" y="153"/>
                  </a:cubicBezTo>
                  <a:cubicBezTo>
                    <a:pt x="94" y="63"/>
                    <a:pt x="145" y="0"/>
                    <a:pt x="206" y="19"/>
                  </a:cubicBezTo>
                  <a:cubicBezTo>
                    <a:pt x="267" y="37"/>
                    <a:pt x="269" y="118"/>
                    <a:pt x="265" y="216"/>
                  </a:cubicBezTo>
                  <a:close/>
                </a:path>
              </a:pathLst>
            </a:custGeom>
            <a:solidFill>
              <a:srgbClr val="939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51"/>
            <p:cNvSpPr/>
            <p:nvPr/>
          </p:nvSpPr>
          <p:spPr>
            <a:xfrm>
              <a:off x="8659800" y="2881080"/>
              <a:ext cx="379440" cy="69516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151" y="202"/>
                  </a:moveTo>
                  <a:cubicBezTo>
                    <a:pt x="160" y="103"/>
                    <a:pt x="161" y="22"/>
                    <a:pt x="101" y="1"/>
                  </a:cubicBezTo>
                  <a:cubicBezTo>
                    <a:pt x="100" y="1"/>
                    <a:pt x="99" y="0"/>
                    <a:pt x="98" y="0"/>
                  </a:cubicBezTo>
                  <a:cubicBezTo>
                    <a:pt x="0" y="279"/>
                    <a:pt x="0" y="279"/>
                    <a:pt x="0" y="279"/>
                  </a:cubicBezTo>
                  <a:cubicBezTo>
                    <a:pt x="4" y="281"/>
                    <a:pt x="9" y="282"/>
                    <a:pt x="14" y="284"/>
                  </a:cubicBezTo>
                  <a:cubicBezTo>
                    <a:pt x="55" y="296"/>
                    <a:pt x="107" y="286"/>
                    <a:pt x="138" y="250"/>
                  </a:cubicBezTo>
                  <a:cubicBezTo>
                    <a:pt x="145" y="236"/>
                    <a:pt x="149" y="220"/>
                    <a:pt x="151" y="202"/>
                  </a:cubicBezTo>
                  <a:close/>
                </a:path>
              </a:pathLst>
            </a:custGeom>
            <a:solidFill>
              <a:srgbClr val="878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52"/>
            <p:cNvSpPr/>
            <p:nvPr/>
          </p:nvSpPr>
          <p:spPr>
            <a:xfrm>
              <a:off x="8686800" y="2823840"/>
              <a:ext cx="369720" cy="765360"/>
            </a:xfrm>
            <a:custGeom>
              <a:avLst/>
              <a:gdLst/>
              <a:ahLst/>
              <a:rect l="l" t="t" r="r" b="b"/>
              <a:pathLst>
                <a:path w="158" h="326">
                  <a:moveTo>
                    <a:pt x="95" y="1"/>
                  </a:moveTo>
                  <a:cubicBezTo>
                    <a:pt x="94" y="0"/>
                    <a:pt x="93" y="0"/>
                    <a:pt x="92" y="0"/>
                  </a:cubicBezTo>
                  <a:cubicBezTo>
                    <a:pt x="0" y="307"/>
                    <a:pt x="0" y="307"/>
                    <a:pt x="0" y="307"/>
                  </a:cubicBezTo>
                  <a:cubicBezTo>
                    <a:pt x="1" y="307"/>
                    <a:pt x="2" y="308"/>
                    <a:pt x="3" y="308"/>
                  </a:cubicBezTo>
                  <a:cubicBezTo>
                    <a:pt x="64" y="326"/>
                    <a:pt x="150" y="295"/>
                    <a:pt x="154" y="198"/>
                  </a:cubicBezTo>
                  <a:cubicBezTo>
                    <a:pt x="158" y="100"/>
                    <a:pt x="156" y="19"/>
                    <a:pt x="95" y="1"/>
                  </a:cubicBezTo>
                  <a:close/>
                </a:path>
              </a:pathLst>
            </a:custGeom>
            <a:solidFill>
              <a:srgbClr val="c2c5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53"/>
            <p:cNvSpPr/>
            <p:nvPr/>
          </p:nvSpPr>
          <p:spPr>
            <a:xfrm>
              <a:off x="8766000" y="2758680"/>
              <a:ext cx="279360" cy="166680"/>
            </a:xfrm>
            <a:custGeom>
              <a:avLst/>
              <a:gdLst/>
              <a:ahLst/>
              <a:rect l="l" t="t" r="r" b="b"/>
              <a:pathLst>
                <a:path w="119" h="71">
                  <a:moveTo>
                    <a:pt x="63" y="15"/>
                  </a:moveTo>
                  <a:cubicBezTo>
                    <a:pt x="10" y="0"/>
                    <a:pt x="0" y="38"/>
                    <a:pt x="0" y="38"/>
                  </a:cubicBezTo>
                  <a:cubicBezTo>
                    <a:pt x="12" y="47"/>
                    <a:pt x="93" y="71"/>
                    <a:pt x="106" y="70"/>
                  </a:cubicBezTo>
                  <a:cubicBezTo>
                    <a:pt x="106" y="70"/>
                    <a:pt x="119" y="30"/>
                    <a:pt x="63" y="15"/>
                  </a:cubicBezTo>
                  <a:close/>
                </a:path>
              </a:pathLst>
            </a:custGeom>
            <a:solidFill>
              <a:srgbClr val="3d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合 257"/>
          <p:cNvGrpSpPr/>
          <p:nvPr/>
        </p:nvGrpSpPr>
        <p:grpSpPr>
          <a:xfrm>
            <a:off x="6694560" y="1947960"/>
            <a:ext cx="3122640" cy="6111720"/>
            <a:chOff x="6694560" y="1947960"/>
            <a:chExt cx="3122640" cy="6111720"/>
          </a:xfrm>
        </p:grpSpPr>
        <p:sp>
          <p:nvSpPr>
            <p:cNvPr id="263" name="Freeform 13"/>
            <p:cNvSpPr/>
            <p:nvPr/>
          </p:nvSpPr>
          <p:spPr>
            <a:xfrm>
              <a:off x="7434360" y="4443480"/>
              <a:ext cx="1535040" cy="2320920"/>
            </a:xfrm>
            <a:custGeom>
              <a:avLst/>
              <a:gdLst/>
              <a:ahLst/>
              <a:rect l="l" t="t" r="r" b="b"/>
              <a:pathLst>
                <a:path w="967" h="1462">
                  <a:moveTo>
                    <a:pt x="874" y="908"/>
                  </a:moveTo>
                  <a:lnTo>
                    <a:pt x="767" y="1068"/>
                  </a:lnTo>
                  <a:lnTo>
                    <a:pt x="602" y="1462"/>
                  </a:lnTo>
                  <a:lnTo>
                    <a:pt x="0" y="1462"/>
                  </a:lnTo>
                  <a:lnTo>
                    <a:pt x="386" y="782"/>
                  </a:lnTo>
                  <a:lnTo>
                    <a:pt x="528" y="155"/>
                  </a:lnTo>
                  <a:lnTo>
                    <a:pt x="967" y="0"/>
                  </a:lnTo>
                  <a:lnTo>
                    <a:pt x="803" y="297"/>
                  </a:lnTo>
                  <a:lnTo>
                    <a:pt x="874" y="908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4"/>
            <p:cNvSpPr/>
            <p:nvPr/>
          </p:nvSpPr>
          <p:spPr>
            <a:xfrm>
              <a:off x="8675640" y="3817800"/>
              <a:ext cx="342720" cy="2082600"/>
            </a:xfrm>
            <a:custGeom>
              <a:avLst/>
              <a:gdLst/>
              <a:ahLst/>
              <a:rect l="l" t="t" r="r" b="b"/>
              <a:pathLst>
                <a:path w="146" h="887">
                  <a:moveTo>
                    <a:pt x="0" y="841"/>
                  </a:moveTo>
                  <a:cubicBezTo>
                    <a:pt x="0" y="866"/>
                    <a:pt x="33" y="887"/>
                    <a:pt x="73" y="887"/>
                  </a:cubicBezTo>
                  <a:cubicBezTo>
                    <a:pt x="73" y="887"/>
                    <a:pt x="73" y="887"/>
                    <a:pt x="73" y="887"/>
                  </a:cubicBezTo>
                  <a:cubicBezTo>
                    <a:pt x="113" y="887"/>
                    <a:pt x="146" y="866"/>
                    <a:pt x="146" y="841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6" y="0"/>
                    <a:pt x="113" y="4"/>
                    <a:pt x="73" y="4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33" y="4"/>
                    <a:pt x="0" y="0"/>
                    <a:pt x="0" y="26"/>
                  </a:cubicBezTo>
                  <a:lnTo>
                    <a:pt x="0" y="841"/>
                  </a:ln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5"/>
            <p:cNvSpPr/>
            <p:nvPr/>
          </p:nvSpPr>
          <p:spPr>
            <a:xfrm>
              <a:off x="8059680" y="4379760"/>
              <a:ext cx="752400" cy="1589040"/>
            </a:xfrm>
            <a:custGeom>
              <a:avLst/>
              <a:gdLst/>
              <a:ahLst/>
              <a:rect l="l" t="t" r="r" b="b"/>
              <a:pathLst>
                <a:path w="320" h="677">
                  <a:moveTo>
                    <a:pt x="312" y="0"/>
                  </a:moveTo>
                  <a:cubicBezTo>
                    <a:pt x="312" y="0"/>
                    <a:pt x="300" y="82"/>
                    <a:pt x="303" y="164"/>
                  </a:cubicBezTo>
                  <a:cubicBezTo>
                    <a:pt x="306" y="242"/>
                    <a:pt x="320" y="330"/>
                    <a:pt x="294" y="387"/>
                  </a:cubicBezTo>
                  <a:cubicBezTo>
                    <a:pt x="162" y="677"/>
                    <a:pt x="0" y="498"/>
                    <a:pt x="33" y="409"/>
                  </a:cubicBezTo>
                  <a:cubicBezTo>
                    <a:pt x="59" y="339"/>
                    <a:pt x="220" y="17"/>
                    <a:pt x="220" y="17"/>
                  </a:cubicBezTo>
                  <a:lnTo>
                    <a:pt x="312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16"/>
            <p:cNvSpPr/>
            <p:nvPr/>
          </p:nvSpPr>
          <p:spPr>
            <a:xfrm>
              <a:off x="8356680" y="3968640"/>
              <a:ext cx="582480" cy="960120"/>
            </a:xfrm>
            <a:custGeom>
              <a:avLst/>
              <a:gdLst/>
              <a:ahLst/>
              <a:rect l="l" t="t" r="r" b="b"/>
              <a:pathLst>
                <a:path w="248" h="409">
                  <a:moveTo>
                    <a:pt x="10" y="380"/>
                  </a:moveTo>
                  <a:cubicBezTo>
                    <a:pt x="0" y="409"/>
                    <a:pt x="77" y="267"/>
                    <a:pt x="107" y="278"/>
                  </a:cubicBezTo>
                  <a:cubicBezTo>
                    <a:pt x="107" y="278"/>
                    <a:pt x="107" y="278"/>
                    <a:pt x="107" y="278"/>
                  </a:cubicBezTo>
                  <a:cubicBezTo>
                    <a:pt x="136" y="288"/>
                    <a:pt x="147" y="354"/>
                    <a:pt x="157" y="325"/>
                  </a:cubicBezTo>
                  <a:cubicBezTo>
                    <a:pt x="237" y="83"/>
                    <a:pt x="237" y="83"/>
                    <a:pt x="237" y="83"/>
                  </a:cubicBezTo>
                  <a:cubicBezTo>
                    <a:pt x="248" y="54"/>
                    <a:pt x="233" y="21"/>
                    <a:pt x="204" y="11"/>
                  </a:cubicBezTo>
                  <a:cubicBezTo>
                    <a:pt x="204" y="11"/>
                    <a:pt x="204" y="11"/>
                    <a:pt x="204" y="11"/>
                  </a:cubicBezTo>
                  <a:cubicBezTo>
                    <a:pt x="174" y="0"/>
                    <a:pt x="142" y="15"/>
                    <a:pt x="131" y="44"/>
                  </a:cubicBezTo>
                  <a:lnTo>
                    <a:pt x="10" y="38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17"/>
            <p:cNvSpPr/>
            <p:nvPr/>
          </p:nvSpPr>
          <p:spPr>
            <a:xfrm>
              <a:off x="8704440" y="4038480"/>
              <a:ext cx="172800" cy="164880"/>
            </a:xfrm>
            <a:custGeom>
              <a:avLst/>
              <a:gdLst/>
              <a:ahLst/>
              <a:rect l="l" t="t" r="r" b="b"/>
              <a:pathLst>
                <a:path w="74" h="70">
                  <a:moveTo>
                    <a:pt x="74" y="25"/>
                  </a:moveTo>
                  <a:cubicBezTo>
                    <a:pt x="65" y="47"/>
                    <a:pt x="65" y="47"/>
                    <a:pt x="65" y="47"/>
                  </a:cubicBezTo>
                  <a:cubicBezTo>
                    <a:pt x="60" y="62"/>
                    <a:pt x="42" y="70"/>
                    <a:pt x="25" y="64"/>
                  </a:cubicBezTo>
                  <a:cubicBezTo>
                    <a:pt x="8" y="58"/>
                    <a:pt x="0" y="40"/>
                    <a:pt x="5" y="24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24" y="0"/>
                    <a:pt x="44" y="8"/>
                  </a:cubicBezTo>
                  <a:cubicBezTo>
                    <a:pt x="69" y="17"/>
                    <a:pt x="68" y="20"/>
                    <a:pt x="74" y="25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8618760" y="4344840"/>
              <a:ext cx="160200" cy="6984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67" y="27"/>
                  </a:moveTo>
                  <a:cubicBezTo>
                    <a:pt x="68" y="25"/>
                    <a:pt x="67" y="23"/>
                    <a:pt x="65" y="23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1" y="7"/>
                    <a:pt x="2" y="7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4" y="30"/>
                    <a:pt x="66" y="29"/>
                    <a:pt x="67" y="27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9"/>
            <p:cNvSpPr/>
            <p:nvPr/>
          </p:nvSpPr>
          <p:spPr>
            <a:xfrm>
              <a:off x="8669520" y="4321080"/>
              <a:ext cx="85680" cy="4104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16"/>
                  </a:moveTo>
                  <a:cubicBezTo>
                    <a:pt x="37" y="14"/>
                    <a:pt x="36" y="12"/>
                    <a:pt x="34" y="12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3" y="0"/>
                    <a:pt x="1" y="1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3" y="7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4" y="18"/>
                    <a:pt x="36" y="17"/>
                    <a:pt x="36" y="16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8917200" y="5354640"/>
              <a:ext cx="345960" cy="450720"/>
            </a:xfrm>
            <a:custGeom>
              <a:avLst/>
              <a:gdLst/>
              <a:ahLst/>
              <a:rect l="l" t="t" r="r" b="b"/>
              <a:pathLst>
                <a:path w="147" h="192">
                  <a:moveTo>
                    <a:pt x="147" y="0"/>
                  </a:moveTo>
                  <a:cubicBezTo>
                    <a:pt x="137" y="125"/>
                    <a:pt x="137" y="125"/>
                    <a:pt x="137" y="125"/>
                  </a:cubicBezTo>
                  <a:cubicBezTo>
                    <a:pt x="2" y="192"/>
                    <a:pt x="2" y="192"/>
                    <a:pt x="2" y="192"/>
                  </a:cubicBezTo>
                  <a:cubicBezTo>
                    <a:pt x="2" y="192"/>
                    <a:pt x="0" y="132"/>
                    <a:pt x="25" y="99"/>
                  </a:cubicBezTo>
                  <a:cubicBezTo>
                    <a:pt x="43" y="74"/>
                    <a:pt x="147" y="0"/>
                    <a:pt x="147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1"/>
            <p:cNvSpPr/>
            <p:nvPr/>
          </p:nvSpPr>
          <p:spPr>
            <a:xfrm>
              <a:off x="8917200" y="5354640"/>
              <a:ext cx="345960" cy="450720"/>
            </a:xfrm>
            <a:custGeom>
              <a:avLst/>
              <a:gdLst/>
              <a:ahLst/>
              <a:rect l="l" t="t" r="r" b="b"/>
              <a:pathLst>
                <a:path w="147" h="192">
                  <a:moveTo>
                    <a:pt x="25" y="99"/>
                  </a:moveTo>
                  <a:cubicBezTo>
                    <a:pt x="43" y="74"/>
                    <a:pt x="147" y="0"/>
                    <a:pt x="147" y="0"/>
                  </a:cubicBezTo>
                  <a:cubicBezTo>
                    <a:pt x="142" y="66"/>
                    <a:pt x="142" y="66"/>
                    <a:pt x="142" y="66"/>
                  </a:cubicBezTo>
                  <a:cubicBezTo>
                    <a:pt x="97" y="91"/>
                    <a:pt x="64" y="110"/>
                    <a:pt x="46" y="128"/>
                  </a:cubicBezTo>
                  <a:cubicBezTo>
                    <a:pt x="36" y="138"/>
                    <a:pt x="28" y="161"/>
                    <a:pt x="21" y="182"/>
                  </a:cubicBezTo>
                  <a:cubicBezTo>
                    <a:pt x="2" y="192"/>
                    <a:pt x="2" y="192"/>
                    <a:pt x="2" y="192"/>
                  </a:cubicBezTo>
                  <a:cubicBezTo>
                    <a:pt x="2" y="192"/>
                    <a:pt x="0" y="132"/>
                    <a:pt x="25" y="99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2"/>
            <p:cNvSpPr/>
            <p:nvPr/>
          </p:nvSpPr>
          <p:spPr>
            <a:xfrm>
              <a:off x="8950320" y="5661000"/>
              <a:ext cx="106200" cy="129960"/>
            </a:xfrm>
            <a:custGeom>
              <a:avLst/>
              <a:gdLst/>
              <a:ahLst/>
              <a:rect l="l" t="t" r="r" b="b"/>
              <a:pathLst>
                <a:path w="45" h="55">
                  <a:moveTo>
                    <a:pt x="0" y="55"/>
                  </a:moveTo>
                  <a:cubicBezTo>
                    <a:pt x="1" y="48"/>
                    <a:pt x="2" y="41"/>
                    <a:pt x="3" y="35"/>
                  </a:cubicBezTo>
                  <a:cubicBezTo>
                    <a:pt x="8" y="18"/>
                    <a:pt x="42" y="0"/>
                    <a:pt x="42" y="0"/>
                  </a:cubicBezTo>
                  <a:cubicBezTo>
                    <a:pt x="45" y="32"/>
                    <a:pt x="45" y="32"/>
                    <a:pt x="45" y="32"/>
                  </a:cubicBezTo>
                  <a:lnTo>
                    <a:pt x="0" y="55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8940960" y="4978440"/>
              <a:ext cx="366480" cy="650880"/>
            </a:xfrm>
            <a:custGeom>
              <a:avLst/>
              <a:gdLst/>
              <a:ahLst/>
              <a:rect l="l" t="t" r="r" b="b"/>
              <a:pathLst>
                <a:path w="156" h="277">
                  <a:moveTo>
                    <a:pt x="120" y="0"/>
                  </a:moveTo>
                  <a:cubicBezTo>
                    <a:pt x="156" y="149"/>
                    <a:pt x="156" y="149"/>
                    <a:pt x="156" y="149"/>
                  </a:cubicBezTo>
                  <a:cubicBezTo>
                    <a:pt x="26" y="277"/>
                    <a:pt x="26" y="277"/>
                    <a:pt x="26" y="277"/>
                  </a:cubicBezTo>
                  <a:cubicBezTo>
                    <a:pt x="26" y="277"/>
                    <a:pt x="0" y="209"/>
                    <a:pt x="16" y="162"/>
                  </a:cubicBezTo>
                  <a:cubicBezTo>
                    <a:pt x="29" y="126"/>
                    <a:pt x="120" y="0"/>
                    <a:pt x="120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4"/>
            <p:cNvSpPr/>
            <p:nvPr/>
          </p:nvSpPr>
          <p:spPr>
            <a:xfrm>
              <a:off x="8940960" y="4978440"/>
              <a:ext cx="326880" cy="650880"/>
            </a:xfrm>
            <a:custGeom>
              <a:avLst/>
              <a:gdLst/>
              <a:ahLst/>
              <a:rect l="l" t="t" r="r" b="b"/>
              <a:pathLst>
                <a:path w="139" h="277">
                  <a:moveTo>
                    <a:pt x="16" y="162"/>
                  </a:moveTo>
                  <a:cubicBezTo>
                    <a:pt x="29" y="126"/>
                    <a:pt x="120" y="0"/>
                    <a:pt x="120" y="0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97" y="124"/>
                    <a:pt x="67" y="159"/>
                    <a:pt x="52" y="187"/>
                  </a:cubicBezTo>
                  <a:cubicBezTo>
                    <a:pt x="44" y="202"/>
                    <a:pt x="44" y="232"/>
                    <a:pt x="44" y="259"/>
                  </a:cubicBezTo>
                  <a:cubicBezTo>
                    <a:pt x="26" y="277"/>
                    <a:pt x="26" y="277"/>
                    <a:pt x="26" y="277"/>
                  </a:cubicBezTo>
                  <a:cubicBezTo>
                    <a:pt x="26" y="277"/>
                    <a:pt x="0" y="209"/>
                    <a:pt x="16" y="162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9018720" y="5415120"/>
              <a:ext cx="112680" cy="187200"/>
            </a:xfrm>
            <a:custGeom>
              <a:avLst/>
              <a:gdLst/>
              <a:ahLst/>
              <a:rect l="l" t="t" r="r" b="b"/>
              <a:pathLst>
                <a:path w="48" h="80">
                  <a:moveTo>
                    <a:pt x="5" y="80"/>
                  </a:moveTo>
                  <a:cubicBezTo>
                    <a:pt x="3" y="72"/>
                    <a:pt x="1" y="63"/>
                    <a:pt x="1" y="56"/>
                  </a:cubicBezTo>
                  <a:cubicBezTo>
                    <a:pt x="0" y="34"/>
                    <a:pt x="32" y="0"/>
                    <a:pt x="32" y="0"/>
                  </a:cubicBezTo>
                  <a:cubicBezTo>
                    <a:pt x="48" y="37"/>
                    <a:pt x="48" y="37"/>
                    <a:pt x="48" y="37"/>
                  </a:cubicBezTo>
                  <a:lnTo>
                    <a:pt x="5" y="80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6"/>
            <p:cNvSpPr/>
            <p:nvPr/>
          </p:nvSpPr>
          <p:spPr>
            <a:xfrm>
              <a:off x="8931600" y="4683240"/>
              <a:ext cx="355320" cy="663480"/>
            </a:xfrm>
            <a:custGeom>
              <a:avLst/>
              <a:gdLst/>
              <a:ahLst/>
              <a:rect l="l" t="t" r="r" b="b"/>
              <a:pathLst>
                <a:path w="151" h="283">
                  <a:moveTo>
                    <a:pt x="104" y="0"/>
                  </a:moveTo>
                  <a:cubicBezTo>
                    <a:pt x="151" y="145"/>
                    <a:pt x="151" y="145"/>
                    <a:pt x="151" y="145"/>
                  </a:cubicBezTo>
                  <a:cubicBezTo>
                    <a:pt x="31" y="283"/>
                    <a:pt x="31" y="283"/>
                    <a:pt x="31" y="283"/>
                  </a:cubicBezTo>
                  <a:cubicBezTo>
                    <a:pt x="31" y="283"/>
                    <a:pt x="0" y="217"/>
                    <a:pt x="13" y="168"/>
                  </a:cubicBezTo>
                  <a:cubicBezTo>
                    <a:pt x="22" y="132"/>
                    <a:pt x="104" y="0"/>
                    <a:pt x="104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7"/>
            <p:cNvSpPr/>
            <p:nvPr/>
          </p:nvSpPr>
          <p:spPr>
            <a:xfrm>
              <a:off x="8931600" y="4683240"/>
              <a:ext cx="303120" cy="663480"/>
            </a:xfrm>
            <a:custGeom>
              <a:avLst/>
              <a:gdLst/>
              <a:ahLst/>
              <a:rect l="l" t="t" r="r" b="b"/>
              <a:pathLst>
                <a:path w="129" h="283">
                  <a:moveTo>
                    <a:pt x="13" y="168"/>
                  </a:moveTo>
                  <a:cubicBezTo>
                    <a:pt x="22" y="132"/>
                    <a:pt x="104" y="0"/>
                    <a:pt x="104" y="0"/>
                  </a:cubicBezTo>
                  <a:cubicBezTo>
                    <a:pt x="129" y="77"/>
                    <a:pt x="129" y="77"/>
                    <a:pt x="129" y="77"/>
                  </a:cubicBezTo>
                  <a:cubicBezTo>
                    <a:pt x="90" y="125"/>
                    <a:pt x="62" y="162"/>
                    <a:pt x="50" y="191"/>
                  </a:cubicBezTo>
                  <a:cubicBezTo>
                    <a:pt x="43" y="207"/>
                    <a:pt x="45" y="236"/>
                    <a:pt x="47" y="264"/>
                  </a:cubicBezTo>
                  <a:cubicBezTo>
                    <a:pt x="31" y="283"/>
                    <a:pt x="31" y="283"/>
                    <a:pt x="31" y="283"/>
                  </a:cubicBezTo>
                  <a:cubicBezTo>
                    <a:pt x="31" y="283"/>
                    <a:pt x="0" y="217"/>
                    <a:pt x="13" y="168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8"/>
            <p:cNvSpPr/>
            <p:nvPr/>
          </p:nvSpPr>
          <p:spPr>
            <a:xfrm>
              <a:off x="9010800" y="5129280"/>
              <a:ext cx="112680" cy="188640"/>
            </a:xfrm>
            <a:custGeom>
              <a:avLst/>
              <a:gdLst/>
              <a:ahLst/>
              <a:rect l="l" t="t" r="r" b="b"/>
              <a:pathLst>
                <a:path w="48" h="81">
                  <a:moveTo>
                    <a:pt x="7" y="81"/>
                  </a:moveTo>
                  <a:cubicBezTo>
                    <a:pt x="5" y="73"/>
                    <a:pt x="3" y="64"/>
                    <a:pt x="2" y="58"/>
                  </a:cubicBezTo>
                  <a:cubicBezTo>
                    <a:pt x="0" y="36"/>
                    <a:pt x="29" y="0"/>
                    <a:pt x="29" y="0"/>
                  </a:cubicBezTo>
                  <a:cubicBezTo>
                    <a:pt x="48" y="34"/>
                    <a:pt x="48" y="34"/>
                    <a:pt x="48" y="34"/>
                  </a:cubicBezTo>
                  <a:lnTo>
                    <a:pt x="7" y="81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9"/>
            <p:cNvSpPr/>
            <p:nvPr/>
          </p:nvSpPr>
          <p:spPr>
            <a:xfrm>
              <a:off x="8956800" y="4452840"/>
              <a:ext cx="276120" cy="534960"/>
            </a:xfrm>
            <a:custGeom>
              <a:avLst/>
              <a:gdLst/>
              <a:ahLst/>
              <a:rect l="l" t="t" r="r" b="b"/>
              <a:pathLst>
                <a:path w="117" h="228">
                  <a:moveTo>
                    <a:pt x="26" y="0"/>
                  </a:moveTo>
                  <a:cubicBezTo>
                    <a:pt x="117" y="106"/>
                    <a:pt x="117" y="106"/>
                    <a:pt x="117" y="106"/>
                  </a:cubicBezTo>
                  <a:cubicBezTo>
                    <a:pt x="40" y="228"/>
                    <a:pt x="40" y="228"/>
                    <a:pt x="40" y="228"/>
                  </a:cubicBezTo>
                  <a:cubicBezTo>
                    <a:pt x="40" y="228"/>
                    <a:pt x="0" y="202"/>
                    <a:pt x="8" y="152"/>
                  </a:cubicBezTo>
                  <a:cubicBezTo>
                    <a:pt x="14" y="114"/>
                    <a:pt x="26" y="99"/>
                    <a:pt x="26" y="99"/>
                  </a:cubicBezTo>
                  <a:lnTo>
                    <a:pt x="26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0"/>
            <p:cNvSpPr/>
            <p:nvPr/>
          </p:nvSpPr>
          <p:spPr>
            <a:xfrm>
              <a:off x="9029880" y="4776840"/>
              <a:ext cx="110880" cy="18720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47" y="30"/>
                  </a:moveTo>
                  <a:cubicBezTo>
                    <a:pt x="15" y="80"/>
                    <a:pt x="15" y="80"/>
                    <a:pt x="15" y="80"/>
                  </a:cubicBezTo>
                  <a:cubicBezTo>
                    <a:pt x="12" y="74"/>
                    <a:pt x="9" y="67"/>
                    <a:pt x="7" y="62"/>
                  </a:cubicBezTo>
                  <a:cubicBezTo>
                    <a:pt x="0" y="41"/>
                    <a:pt x="21" y="0"/>
                    <a:pt x="21" y="0"/>
                  </a:cubicBezTo>
                  <a:lnTo>
                    <a:pt x="47" y="30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1"/>
            <p:cNvSpPr/>
            <p:nvPr/>
          </p:nvSpPr>
          <p:spPr>
            <a:xfrm>
              <a:off x="8983800" y="4452840"/>
              <a:ext cx="163440" cy="323640"/>
            </a:xfrm>
            <a:custGeom>
              <a:avLst/>
              <a:gdLst/>
              <a:ahLst/>
              <a:rect l="l" t="t" r="r" b="b"/>
              <a:pathLst>
                <a:path w="70" h="138">
                  <a:moveTo>
                    <a:pt x="15" y="0"/>
                  </a:moveTo>
                  <a:cubicBezTo>
                    <a:pt x="70" y="64"/>
                    <a:pt x="70" y="64"/>
                    <a:pt x="70" y="64"/>
                  </a:cubicBezTo>
                  <a:cubicBezTo>
                    <a:pt x="36" y="82"/>
                    <a:pt x="17" y="93"/>
                    <a:pt x="5" y="124"/>
                  </a:cubicBezTo>
                  <a:cubicBezTo>
                    <a:pt x="3" y="129"/>
                    <a:pt x="1" y="133"/>
                    <a:pt x="0" y="138"/>
                  </a:cubicBezTo>
                  <a:cubicBezTo>
                    <a:pt x="6" y="110"/>
                    <a:pt x="15" y="99"/>
                    <a:pt x="15" y="99"/>
                  </a:cubicBezTo>
                  <a:lnTo>
                    <a:pt x="15" y="0"/>
                  </a:ln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2"/>
            <p:cNvSpPr/>
            <p:nvPr/>
          </p:nvSpPr>
          <p:spPr>
            <a:xfrm>
              <a:off x="8631360" y="3762360"/>
              <a:ext cx="460440" cy="19980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43"/>
                  </a:moveTo>
                  <a:cubicBezTo>
                    <a:pt x="0" y="66"/>
                    <a:pt x="19" y="85"/>
                    <a:pt x="43" y="85"/>
                  </a:cubicBezTo>
                  <a:cubicBezTo>
                    <a:pt x="153" y="85"/>
                    <a:pt x="153" y="85"/>
                    <a:pt x="153" y="85"/>
                  </a:cubicBezTo>
                  <a:cubicBezTo>
                    <a:pt x="177" y="85"/>
                    <a:pt x="196" y="66"/>
                    <a:pt x="196" y="43"/>
                  </a:cubicBezTo>
                  <a:cubicBezTo>
                    <a:pt x="196" y="43"/>
                    <a:pt x="196" y="43"/>
                    <a:pt x="196" y="43"/>
                  </a:cubicBezTo>
                  <a:cubicBezTo>
                    <a:pt x="196" y="19"/>
                    <a:pt x="177" y="0"/>
                    <a:pt x="15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3"/>
            <p:cNvSpPr/>
            <p:nvPr/>
          </p:nvSpPr>
          <p:spPr>
            <a:xfrm>
              <a:off x="7877160" y="1947960"/>
              <a:ext cx="1940040" cy="1938240"/>
            </a:xfrm>
            <a:custGeom>
              <a:avLst/>
              <a:gdLst/>
              <a:ahLst/>
              <a:rect l="l" t="t" r="r" b="b"/>
              <a:pathLst>
                <a:path w="826" h="826">
                  <a:moveTo>
                    <a:pt x="413" y="0"/>
                  </a:moveTo>
                  <a:cubicBezTo>
                    <a:pt x="641" y="0"/>
                    <a:pt x="826" y="185"/>
                    <a:pt x="826" y="413"/>
                  </a:cubicBezTo>
                  <a:cubicBezTo>
                    <a:pt x="826" y="641"/>
                    <a:pt x="641" y="826"/>
                    <a:pt x="413" y="826"/>
                  </a:cubicBezTo>
                  <a:cubicBezTo>
                    <a:pt x="185" y="826"/>
                    <a:pt x="0" y="641"/>
                    <a:pt x="0" y="413"/>
                  </a:cubicBezTo>
                  <a:cubicBezTo>
                    <a:pt x="0" y="185"/>
                    <a:pt x="185" y="0"/>
                    <a:pt x="413" y="0"/>
                  </a:cubicBezTo>
                  <a:close/>
                  <a:moveTo>
                    <a:pt x="413" y="765"/>
                  </a:moveTo>
                  <a:cubicBezTo>
                    <a:pt x="607" y="765"/>
                    <a:pt x="765" y="607"/>
                    <a:pt x="765" y="413"/>
                  </a:cubicBezTo>
                  <a:cubicBezTo>
                    <a:pt x="765" y="219"/>
                    <a:pt x="607" y="62"/>
                    <a:pt x="413" y="62"/>
                  </a:cubicBezTo>
                  <a:cubicBezTo>
                    <a:pt x="219" y="62"/>
                    <a:pt x="62" y="219"/>
                    <a:pt x="62" y="413"/>
                  </a:cubicBezTo>
                  <a:cubicBezTo>
                    <a:pt x="62" y="607"/>
                    <a:pt x="219" y="765"/>
                    <a:pt x="413" y="765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34">
              <a:hlinkClick r:id="rId3"/>
            </p:cNvPr>
            <p:cNvSpPr/>
            <p:nvPr/>
          </p:nvSpPr>
          <p:spPr>
            <a:xfrm>
              <a:off x="6694560" y="5646600"/>
              <a:ext cx="2011320" cy="2413080"/>
            </a:xfrm>
            <a:custGeom>
              <a:avLst/>
              <a:gdLst/>
              <a:ahLst/>
              <a:rect l="l" t="t" r="r" b="b"/>
              <a:pathLst>
                <a:path w="14546" h="21591">
                  <a:moveTo>
                    <a:pt x="14546" y="4276"/>
                  </a:moveTo>
                  <a:cubicBezTo>
                    <a:pt x="11990" y="10048"/>
                    <a:pt x="9847" y="16160"/>
                    <a:pt x="6878" y="21591"/>
                  </a:cubicBezTo>
                  <a:lnTo>
                    <a:pt x="0" y="17841"/>
                  </a:lnTo>
                  <a:lnTo>
                    <a:pt x="9678" y="0"/>
                  </a:lnTo>
                  <a:lnTo>
                    <a:pt x="14546" y="4276"/>
                  </a:lnTo>
                  <a:close/>
                </a:path>
              </a:pathLst>
            </a:custGeom>
            <a:solidFill>
              <a:srgbClr val="2ecc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35"/>
            <p:cNvSpPr/>
            <p:nvPr/>
          </p:nvSpPr>
          <p:spPr>
            <a:xfrm>
              <a:off x="8083440" y="2149560"/>
              <a:ext cx="1503360" cy="820440"/>
            </a:xfrm>
            <a:custGeom>
              <a:avLst/>
              <a:gdLst/>
              <a:ahLst/>
              <a:rect l="l" t="t" r="r" b="b"/>
              <a:pathLst>
                <a:path w="640" h="350">
                  <a:moveTo>
                    <a:pt x="320" y="61"/>
                  </a:moveTo>
                  <a:cubicBezTo>
                    <a:pt x="154" y="61"/>
                    <a:pt x="17" y="188"/>
                    <a:pt x="2" y="350"/>
                  </a:cubicBezTo>
                  <a:cubicBezTo>
                    <a:pt x="1" y="341"/>
                    <a:pt x="0" y="330"/>
                    <a:pt x="0" y="320"/>
                  </a:cubicBezTo>
                  <a:cubicBezTo>
                    <a:pt x="0" y="144"/>
                    <a:pt x="144" y="0"/>
                    <a:pt x="320" y="0"/>
                  </a:cubicBezTo>
                  <a:cubicBezTo>
                    <a:pt x="497" y="0"/>
                    <a:pt x="640" y="144"/>
                    <a:pt x="640" y="320"/>
                  </a:cubicBezTo>
                  <a:cubicBezTo>
                    <a:pt x="640" y="330"/>
                    <a:pt x="640" y="341"/>
                    <a:pt x="639" y="350"/>
                  </a:cubicBezTo>
                  <a:cubicBezTo>
                    <a:pt x="624" y="188"/>
                    <a:pt x="487" y="61"/>
                    <a:pt x="320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组合 4"/>
          <p:cNvGrpSpPr/>
          <p:nvPr/>
        </p:nvGrpSpPr>
        <p:grpSpPr>
          <a:xfrm>
            <a:off x="1108080" y="2660760"/>
            <a:ext cx="3267000" cy="1455480"/>
            <a:chOff x="1108080" y="2660760"/>
            <a:chExt cx="3267000" cy="1455480"/>
          </a:xfrm>
        </p:grpSpPr>
        <p:sp>
          <p:nvSpPr>
            <p:cNvPr id="287" name="文本框 75"/>
            <p:cNvSpPr/>
            <p:nvPr/>
          </p:nvSpPr>
          <p:spPr>
            <a:xfrm>
              <a:off x="1164240" y="2693160"/>
              <a:ext cx="3210840" cy="1423080"/>
            </a:xfrm>
            <a:custGeom>
              <a:avLst/>
              <a:gdLst/>
              <a:ahLst/>
              <a:rect l="l" t="t" r="r" b="b"/>
              <a:pathLst>
                <a:path w="3210818" h="1423988">
                  <a:moveTo>
                    <a:pt x="978992" y="855762"/>
                  </a:moveTo>
                  <a:lnTo>
                    <a:pt x="1499295" y="1163836"/>
                  </a:lnTo>
                  <a:lnTo>
                    <a:pt x="1382911" y="1266528"/>
                  </a:lnTo>
                  <a:lnTo>
                    <a:pt x="848916" y="944761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568226" y="0"/>
                  </a:moveTo>
                  <a:lnTo>
                    <a:pt x="739378" y="0"/>
                  </a:lnTo>
                  <a:lnTo>
                    <a:pt x="739378" y="123230"/>
                  </a:lnTo>
                  <a:lnTo>
                    <a:pt x="1417142" y="123230"/>
                  </a:lnTo>
                  <a:lnTo>
                    <a:pt x="1417142" y="266998"/>
                  </a:lnTo>
                  <a:lnTo>
                    <a:pt x="739378" y="266998"/>
                  </a:lnTo>
                  <a:lnTo>
                    <a:pt x="739378" y="520303"/>
                  </a:lnTo>
                  <a:lnTo>
                    <a:pt x="1465064" y="520303"/>
                  </a:lnTo>
                  <a:lnTo>
                    <a:pt x="1465064" y="670918"/>
                  </a:lnTo>
                  <a:lnTo>
                    <a:pt x="739378" y="670918"/>
                  </a:lnTo>
                  <a:lnTo>
                    <a:pt x="739378" y="1423988"/>
                  </a:lnTo>
                  <a:lnTo>
                    <a:pt x="568226" y="1423988"/>
                  </a:lnTo>
                  <a:lnTo>
                    <a:pt x="568226" y="670918"/>
                  </a:lnTo>
                  <a:lnTo>
                    <a:pt x="0" y="670918"/>
                  </a:lnTo>
                  <a:lnTo>
                    <a:pt x="0" y="520303"/>
                  </a:lnTo>
                  <a:lnTo>
                    <a:pt x="568226" y="520303"/>
                  </a:lnTo>
                  <a:close/>
                </a:path>
              </a:pathLst>
            </a:custGeom>
            <a:solidFill>
              <a:srgbClr val="609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文本框 77"/>
            <p:cNvSpPr/>
            <p:nvPr/>
          </p:nvSpPr>
          <p:spPr>
            <a:xfrm>
              <a:off x="1108080" y="2660760"/>
              <a:ext cx="3210840" cy="1423080"/>
            </a:xfrm>
            <a:custGeom>
              <a:avLst/>
              <a:gdLst/>
              <a:ahLst/>
              <a:rect l="l" t="t" r="r" b="b"/>
              <a:pathLst>
                <a:path w="3210818" h="1423988">
                  <a:moveTo>
                    <a:pt x="978992" y="855762"/>
                  </a:moveTo>
                  <a:lnTo>
                    <a:pt x="1499295" y="1163836"/>
                  </a:lnTo>
                  <a:lnTo>
                    <a:pt x="1382911" y="1266528"/>
                  </a:lnTo>
                  <a:lnTo>
                    <a:pt x="848916" y="944761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568226" y="0"/>
                  </a:moveTo>
                  <a:lnTo>
                    <a:pt x="739378" y="0"/>
                  </a:lnTo>
                  <a:lnTo>
                    <a:pt x="739378" y="123230"/>
                  </a:lnTo>
                  <a:lnTo>
                    <a:pt x="1417142" y="123230"/>
                  </a:lnTo>
                  <a:lnTo>
                    <a:pt x="1417142" y="266998"/>
                  </a:lnTo>
                  <a:lnTo>
                    <a:pt x="739378" y="266998"/>
                  </a:lnTo>
                  <a:lnTo>
                    <a:pt x="739378" y="520303"/>
                  </a:lnTo>
                  <a:lnTo>
                    <a:pt x="1465064" y="520303"/>
                  </a:lnTo>
                  <a:lnTo>
                    <a:pt x="1465064" y="670918"/>
                  </a:lnTo>
                  <a:lnTo>
                    <a:pt x="739378" y="670918"/>
                  </a:lnTo>
                  <a:lnTo>
                    <a:pt x="739378" y="1423988"/>
                  </a:lnTo>
                  <a:lnTo>
                    <a:pt x="568226" y="1423988"/>
                  </a:lnTo>
                  <a:lnTo>
                    <a:pt x="568226" y="670918"/>
                  </a:lnTo>
                  <a:lnTo>
                    <a:pt x="0" y="670918"/>
                  </a:lnTo>
                  <a:lnTo>
                    <a:pt x="0" y="520303"/>
                  </a:lnTo>
                  <a:lnTo>
                    <a:pt x="568226" y="5203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C 0.00795 3.7037E-007 0.01472 0.01042 0.01472 0.02384 C 0.01472 0.03681 0.00795 0.04792 -3.33333E-006 0.04792 C -0.00833 0.04792 -0.01471 0.03681 -0.01471 0.02384 C -0.01471 0.01042 -0.00833 3.7037E-007 -3.33333E-006 3.7037E-007 Z">
                                      <p:cBhvr>
                                        <p:cTn id="15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55" dur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650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650" fill="hold">
                                          <p:stCondLst>
                                            <p:cond delay="13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650" fill="hold">
                                          <p:stCondLst>
                                            <p:cond delay="19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650" fill="hold">
                                          <p:stCondLst>
                                            <p:cond delay="2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矩形 25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d0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5" name="图片 256" descr=""/>
          <p:cNvPicPr/>
          <p:nvPr/>
        </p:nvPicPr>
        <p:blipFill>
          <a:blip r:embed="rId2"/>
          <a:stretch/>
        </p:blipFill>
        <p:spPr>
          <a:xfrm flipH="1">
            <a:off x="7351560" y="3381480"/>
            <a:ext cx="968400" cy="1360440"/>
          </a:xfrm>
          <a:prstGeom prst="rect">
            <a:avLst/>
          </a:prstGeom>
          <a:ln w="0">
            <a:noFill/>
          </a:ln>
        </p:spPr>
      </p:pic>
      <p:pic>
        <p:nvPicPr>
          <p:cNvPr id="3406" name="图片 25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356760" y="3348000"/>
            <a:ext cx="1023840" cy="1438200"/>
          </a:xfrm>
          <a:prstGeom prst="rect">
            <a:avLst/>
          </a:prstGeom>
          <a:ln w="0">
            <a:noFill/>
          </a:ln>
        </p:spPr>
      </p:pic>
      <p:sp>
        <p:nvSpPr>
          <p:cNvPr id="3407" name="文本框 262"/>
          <p:cNvSpPr/>
          <p:nvPr/>
        </p:nvSpPr>
        <p:spPr>
          <a:xfrm>
            <a:off x="1125360" y="976320"/>
            <a:ext cx="1662120" cy="407880"/>
          </a:xfrm>
          <a:custGeom>
            <a:avLst/>
            <a:gdLst/>
            <a:ahLst/>
            <a:rect l="l" t="t" r="r" b="b"/>
            <a:pathLst>
              <a:path w="16621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11709" y="61131"/>
                </a:moveTo>
                <a:lnTo>
                  <a:pt x="1411709" y="187338"/>
                </a:lnTo>
                <a:lnTo>
                  <a:pt x="1610878" y="187338"/>
                </a:lnTo>
                <a:lnTo>
                  <a:pt x="1610878" y="61131"/>
                </a:lnTo>
                <a:close/>
                <a:moveTo>
                  <a:pt x="1358466" y="17748"/>
                </a:moveTo>
                <a:lnTo>
                  <a:pt x="1662149" y="17748"/>
                </a:lnTo>
                <a:lnTo>
                  <a:pt x="1662149" y="384535"/>
                </a:lnTo>
                <a:lnTo>
                  <a:pt x="1358466" y="384535"/>
                </a:lnTo>
                <a:lnTo>
                  <a:pt x="1358466" y="341152"/>
                </a:lnTo>
                <a:lnTo>
                  <a:pt x="1610878" y="341152"/>
                </a:lnTo>
                <a:lnTo>
                  <a:pt x="1610878" y="230721"/>
                </a:lnTo>
                <a:lnTo>
                  <a:pt x="1358466" y="230721"/>
                </a:lnTo>
                <a:close/>
                <a:moveTo>
                  <a:pt x="1088529" y="17748"/>
                </a:moveTo>
                <a:lnTo>
                  <a:pt x="1200931" y="17748"/>
                </a:lnTo>
                <a:lnTo>
                  <a:pt x="1200931" y="384535"/>
                </a:lnTo>
                <a:lnTo>
                  <a:pt x="1147688" y="384535"/>
                </a:lnTo>
                <a:lnTo>
                  <a:pt x="1147688" y="61131"/>
                </a:lnTo>
                <a:lnTo>
                  <a:pt x="1088529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8" name="Oval 6"/>
          <p:cNvSpPr/>
          <p:nvPr/>
        </p:nvSpPr>
        <p:spPr>
          <a:xfrm>
            <a:off x="7781760" y="5530680"/>
            <a:ext cx="2295720" cy="571680"/>
          </a:xfrm>
          <a:prstGeom prst="ellipse">
            <a:avLst/>
          </a:prstGeom>
          <a:solidFill>
            <a:srgbClr val="ca0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9" name="图片 220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291680" y="3782880"/>
            <a:ext cx="1822680" cy="2559240"/>
          </a:xfrm>
          <a:prstGeom prst="rect">
            <a:avLst/>
          </a:prstGeom>
          <a:ln w="0">
            <a:noFill/>
          </a:ln>
        </p:spPr>
      </p:pic>
      <p:pic>
        <p:nvPicPr>
          <p:cNvPr id="3410" name="图片 221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>
            <a:off x="5746680" y="3676680"/>
            <a:ext cx="1876320" cy="2635200"/>
          </a:xfrm>
          <a:prstGeom prst="rect">
            <a:avLst/>
          </a:prstGeom>
          <a:ln w="0">
            <a:noFill/>
          </a:ln>
        </p:spPr>
      </p:pic>
      <p:grpSp>
        <p:nvGrpSpPr>
          <p:cNvPr id="3411" name="组合 3"/>
          <p:cNvGrpSpPr/>
          <p:nvPr/>
        </p:nvGrpSpPr>
        <p:grpSpPr>
          <a:xfrm>
            <a:off x="8733960" y="1633680"/>
            <a:ext cx="1541880" cy="2031840"/>
            <a:chOff x="8733960" y="1633680"/>
            <a:chExt cx="1541880" cy="2031840"/>
          </a:xfrm>
        </p:grpSpPr>
        <p:grpSp>
          <p:nvGrpSpPr>
            <p:cNvPr id="3412" name="组合 2"/>
            <p:cNvGrpSpPr/>
            <p:nvPr/>
          </p:nvGrpSpPr>
          <p:grpSpPr>
            <a:xfrm>
              <a:off x="8733960" y="1633680"/>
              <a:ext cx="1541880" cy="2031840"/>
              <a:chOff x="8733960" y="1633680"/>
              <a:chExt cx="1541880" cy="2031840"/>
            </a:xfrm>
          </p:grpSpPr>
          <p:sp>
            <p:nvSpPr>
              <p:cNvPr id="3413" name="Freeform 7"/>
              <p:cNvSpPr/>
              <p:nvPr/>
            </p:nvSpPr>
            <p:spPr>
              <a:xfrm>
                <a:off x="9759240" y="1633680"/>
                <a:ext cx="516600" cy="720000"/>
              </a:xfrm>
              <a:custGeom>
                <a:avLst/>
                <a:gdLst/>
                <a:ahLst/>
                <a:rect l="l" t="t" r="r" b="b"/>
                <a:pathLst>
                  <a:path w="156" h="215">
                    <a:moveTo>
                      <a:pt x="0" y="185"/>
                    </a:moveTo>
                    <a:cubicBezTo>
                      <a:pt x="29" y="109"/>
                      <a:pt x="29" y="109"/>
                      <a:pt x="29" y="109"/>
                    </a:cubicBezTo>
                    <a:cubicBezTo>
                      <a:pt x="29" y="109"/>
                      <a:pt x="60" y="10"/>
                      <a:pt x="91" y="4"/>
                    </a:cubicBezTo>
                    <a:cubicBezTo>
                      <a:pt x="91" y="4"/>
                      <a:pt x="113" y="0"/>
                      <a:pt x="106" y="15"/>
                    </a:cubicBezTo>
                    <a:cubicBezTo>
                      <a:pt x="101" y="23"/>
                      <a:pt x="101" y="23"/>
                      <a:pt x="101" y="23"/>
                    </a:cubicBezTo>
                    <a:cubicBezTo>
                      <a:pt x="101" y="23"/>
                      <a:pt x="120" y="7"/>
                      <a:pt x="131" y="16"/>
                    </a:cubicBezTo>
                    <a:cubicBezTo>
                      <a:pt x="131" y="16"/>
                      <a:pt x="138" y="21"/>
                      <a:pt x="125" y="40"/>
                    </a:cubicBezTo>
                    <a:cubicBezTo>
                      <a:pt x="125" y="40"/>
                      <a:pt x="133" y="25"/>
                      <a:pt x="145" y="37"/>
                    </a:cubicBezTo>
                    <a:cubicBezTo>
                      <a:pt x="156" y="49"/>
                      <a:pt x="128" y="74"/>
                      <a:pt x="116" y="132"/>
                    </a:cubicBezTo>
                    <a:cubicBezTo>
                      <a:pt x="105" y="189"/>
                      <a:pt x="61" y="202"/>
                      <a:pt x="61" y="202"/>
                    </a:cubicBezTo>
                    <a:cubicBezTo>
                      <a:pt x="48" y="215"/>
                      <a:pt x="48" y="215"/>
                      <a:pt x="48" y="215"/>
                    </a:cubicBez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Freeform 8"/>
              <p:cNvSpPr/>
              <p:nvPr/>
            </p:nvSpPr>
            <p:spPr>
              <a:xfrm>
                <a:off x="9759240" y="1835280"/>
                <a:ext cx="203760" cy="513000"/>
              </a:xfrm>
              <a:custGeom>
                <a:avLst/>
                <a:gdLst/>
                <a:ahLst/>
                <a:rect l="l" t="t" r="r" b="b"/>
                <a:pathLst>
                  <a:path w="62" h="153">
                    <a:moveTo>
                      <a:pt x="7" y="115"/>
                    </a:moveTo>
                    <a:cubicBezTo>
                      <a:pt x="7" y="115"/>
                      <a:pt x="0" y="113"/>
                      <a:pt x="7" y="85"/>
                    </a:cubicBezTo>
                    <a:cubicBezTo>
                      <a:pt x="14" y="57"/>
                      <a:pt x="30" y="0"/>
                      <a:pt x="38" y="2"/>
                    </a:cubicBezTo>
                    <a:cubicBezTo>
                      <a:pt x="45" y="3"/>
                      <a:pt x="50" y="11"/>
                      <a:pt x="47" y="20"/>
                    </a:cubicBezTo>
                    <a:cubicBezTo>
                      <a:pt x="45" y="28"/>
                      <a:pt x="41" y="61"/>
                      <a:pt x="48" y="76"/>
                    </a:cubicBezTo>
                    <a:cubicBezTo>
                      <a:pt x="48" y="76"/>
                      <a:pt x="62" y="153"/>
                      <a:pt x="7" y="115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Freeform 9"/>
              <p:cNvSpPr/>
              <p:nvPr/>
            </p:nvSpPr>
            <p:spPr>
              <a:xfrm>
                <a:off x="9759240" y="1633680"/>
                <a:ext cx="488160" cy="720000"/>
              </a:xfrm>
              <a:custGeom>
                <a:avLst/>
                <a:gdLst/>
                <a:ahLst/>
                <a:rect l="l" t="t" r="r" b="b"/>
                <a:pathLst>
                  <a:path w="148" h="215">
                    <a:moveTo>
                      <a:pt x="147" y="47"/>
                    </a:moveTo>
                    <a:cubicBezTo>
                      <a:pt x="148" y="44"/>
                      <a:pt x="147" y="40"/>
                      <a:pt x="145" y="37"/>
                    </a:cubicBezTo>
                    <a:cubicBezTo>
                      <a:pt x="145" y="37"/>
                      <a:pt x="145" y="37"/>
                      <a:pt x="145" y="37"/>
                    </a:cubicBezTo>
                    <a:cubicBezTo>
                      <a:pt x="143" y="36"/>
                      <a:pt x="142" y="35"/>
                      <a:pt x="141" y="34"/>
                    </a:cubicBezTo>
                    <a:cubicBezTo>
                      <a:pt x="140" y="34"/>
                      <a:pt x="140" y="34"/>
                      <a:pt x="139" y="33"/>
                    </a:cubicBezTo>
                    <a:cubicBezTo>
                      <a:pt x="141" y="35"/>
                      <a:pt x="140" y="38"/>
                      <a:pt x="141" y="39"/>
                    </a:cubicBezTo>
                    <a:cubicBezTo>
                      <a:pt x="143" y="46"/>
                      <a:pt x="143" y="49"/>
                      <a:pt x="140" y="56"/>
                    </a:cubicBezTo>
                    <a:cubicBezTo>
                      <a:pt x="135" y="67"/>
                      <a:pt x="127" y="77"/>
                      <a:pt x="122" y="88"/>
                    </a:cubicBezTo>
                    <a:cubicBezTo>
                      <a:pt x="120" y="93"/>
                      <a:pt x="118" y="107"/>
                      <a:pt x="110" y="101"/>
                    </a:cubicBezTo>
                    <a:cubicBezTo>
                      <a:pt x="108" y="100"/>
                      <a:pt x="105" y="96"/>
                      <a:pt x="103" y="94"/>
                    </a:cubicBezTo>
                    <a:cubicBezTo>
                      <a:pt x="95" y="87"/>
                      <a:pt x="109" y="75"/>
                      <a:pt x="114" y="69"/>
                    </a:cubicBezTo>
                    <a:cubicBezTo>
                      <a:pt x="121" y="58"/>
                      <a:pt x="127" y="47"/>
                      <a:pt x="130" y="34"/>
                    </a:cubicBezTo>
                    <a:cubicBezTo>
                      <a:pt x="130" y="34"/>
                      <a:pt x="130" y="34"/>
                      <a:pt x="130" y="34"/>
                    </a:cubicBezTo>
                    <a:cubicBezTo>
                      <a:pt x="128" y="36"/>
                      <a:pt x="127" y="37"/>
                      <a:pt x="126" y="38"/>
                    </a:cubicBezTo>
                    <a:cubicBezTo>
                      <a:pt x="132" y="29"/>
                      <a:pt x="133" y="23"/>
                      <a:pt x="133" y="20"/>
                    </a:cubicBezTo>
                    <a:cubicBezTo>
                      <a:pt x="133" y="20"/>
                      <a:pt x="133" y="20"/>
                      <a:pt x="133" y="20"/>
                    </a:cubicBezTo>
                    <a:cubicBezTo>
                      <a:pt x="129" y="22"/>
                      <a:pt x="129" y="27"/>
                      <a:pt x="127" y="31"/>
                    </a:cubicBezTo>
                    <a:cubicBezTo>
                      <a:pt x="124" y="40"/>
                      <a:pt x="119" y="49"/>
                      <a:pt x="113" y="57"/>
                    </a:cubicBezTo>
                    <a:cubicBezTo>
                      <a:pt x="108" y="65"/>
                      <a:pt x="97" y="84"/>
                      <a:pt x="85" y="79"/>
                    </a:cubicBezTo>
                    <a:cubicBezTo>
                      <a:pt x="78" y="76"/>
                      <a:pt x="80" y="70"/>
                      <a:pt x="83" y="64"/>
                    </a:cubicBezTo>
                    <a:cubicBezTo>
                      <a:pt x="87" y="58"/>
                      <a:pt x="91" y="52"/>
                      <a:pt x="94" y="45"/>
                    </a:cubicBezTo>
                    <a:cubicBezTo>
                      <a:pt x="98" y="39"/>
                      <a:pt x="99" y="31"/>
                      <a:pt x="104" y="26"/>
                    </a:cubicBezTo>
                    <a:cubicBezTo>
                      <a:pt x="109" y="20"/>
                      <a:pt x="117" y="18"/>
                      <a:pt x="123" y="13"/>
                    </a:cubicBezTo>
                    <a:cubicBezTo>
                      <a:pt x="113" y="13"/>
                      <a:pt x="101" y="23"/>
                      <a:pt x="101" y="23"/>
                    </a:cubicBezTo>
                    <a:cubicBezTo>
                      <a:pt x="106" y="15"/>
                      <a:pt x="106" y="15"/>
                      <a:pt x="106" y="15"/>
                    </a:cubicBezTo>
                    <a:cubicBezTo>
                      <a:pt x="113" y="0"/>
                      <a:pt x="91" y="4"/>
                      <a:pt x="91" y="4"/>
                    </a:cubicBezTo>
                    <a:cubicBezTo>
                      <a:pt x="89" y="4"/>
                      <a:pt x="86" y="6"/>
                      <a:pt x="83" y="7"/>
                    </a:cubicBezTo>
                    <a:cubicBezTo>
                      <a:pt x="83" y="7"/>
                      <a:pt x="83" y="7"/>
                      <a:pt x="83" y="7"/>
                    </a:cubicBezTo>
                    <a:cubicBezTo>
                      <a:pt x="88" y="7"/>
                      <a:pt x="99" y="7"/>
                      <a:pt x="99" y="11"/>
                    </a:cubicBezTo>
                    <a:cubicBezTo>
                      <a:pt x="98" y="15"/>
                      <a:pt x="98" y="16"/>
                      <a:pt x="96" y="21"/>
                    </a:cubicBezTo>
                    <a:cubicBezTo>
                      <a:pt x="94" y="25"/>
                      <a:pt x="93" y="28"/>
                      <a:pt x="91" y="31"/>
                    </a:cubicBezTo>
                    <a:cubicBezTo>
                      <a:pt x="89" y="37"/>
                      <a:pt x="86" y="43"/>
                      <a:pt x="83" y="49"/>
                    </a:cubicBezTo>
                    <a:cubicBezTo>
                      <a:pt x="78" y="57"/>
                      <a:pt x="73" y="68"/>
                      <a:pt x="63" y="72"/>
                    </a:cubicBezTo>
                    <a:cubicBezTo>
                      <a:pt x="54" y="75"/>
                      <a:pt x="54" y="65"/>
                      <a:pt x="48" y="62"/>
                    </a:cubicBezTo>
                    <a:cubicBezTo>
                      <a:pt x="47" y="63"/>
                      <a:pt x="47" y="63"/>
                      <a:pt x="47" y="64"/>
                    </a:cubicBezTo>
                    <a:cubicBezTo>
                      <a:pt x="46" y="65"/>
                      <a:pt x="46" y="66"/>
                      <a:pt x="45" y="67"/>
                    </a:cubicBezTo>
                    <a:cubicBezTo>
                      <a:pt x="45" y="66"/>
                      <a:pt x="45" y="66"/>
                      <a:pt x="45" y="66"/>
                    </a:cubicBezTo>
                    <a:cubicBezTo>
                      <a:pt x="45" y="67"/>
                      <a:pt x="44" y="68"/>
                      <a:pt x="45" y="68"/>
                    </a:cubicBezTo>
                    <a:cubicBezTo>
                      <a:pt x="49" y="75"/>
                      <a:pt x="46" y="86"/>
                      <a:pt x="44" y="95"/>
                    </a:cubicBezTo>
                    <a:cubicBezTo>
                      <a:pt x="45" y="99"/>
                      <a:pt x="46" y="104"/>
                      <a:pt x="46" y="108"/>
                    </a:cubicBezTo>
                    <a:cubicBezTo>
                      <a:pt x="48" y="119"/>
                      <a:pt x="50" y="131"/>
                      <a:pt x="48" y="142"/>
                    </a:cubicBezTo>
                    <a:cubicBezTo>
                      <a:pt x="49" y="147"/>
                      <a:pt x="48" y="153"/>
                      <a:pt x="43" y="156"/>
                    </a:cubicBezTo>
                    <a:cubicBezTo>
                      <a:pt x="38" y="158"/>
                      <a:pt x="29" y="161"/>
                      <a:pt x="22" y="160"/>
                    </a:cubicBezTo>
                    <a:cubicBezTo>
                      <a:pt x="23" y="159"/>
                      <a:pt x="23" y="159"/>
                      <a:pt x="23" y="159"/>
                    </a:cubicBezTo>
                    <a:cubicBezTo>
                      <a:pt x="22" y="159"/>
                      <a:pt x="21" y="158"/>
                      <a:pt x="20" y="158"/>
                    </a:cubicBezTo>
                    <a:cubicBezTo>
                      <a:pt x="19" y="158"/>
                      <a:pt x="19" y="158"/>
                      <a:pt x="18" y="158"/>
                    </a:cubicBezTo>
                    <a:cubicBezTo>
                      <a:pt x="17" y="158"/>
                      <a:pt x="16" y="157"/>
                      <a:pt x="16" y="156"/>
                    </a:cubicBezTo>
                    <a:cubicBezTo>
                      <a:pt x="15" y="154"/>
                      <a:pt x="14" y="152"/>
                      <a:pt x="14" y="149"/>
                    </a:cubicBezTo>
                    <a:cubicBezTo>
                      <a:pt x="8" y="133"/>
                      <a:pt x="15" y="113"/>
                      <a:pt x="22" y="98"/>
                    </a:cubicBezTo>
                    <a:cubicBezTo>
                      <a:pt x="22" y="98"/>
                      <a:pt x="22" y="97"/>
                      <a:pt x="21" y="97"/>
                    </a:cubicBezTo>
                    <a:cubicBezTo>
                      <a:pt x="20" y="98"/>
                      <a:pt x="20" y="99"/>
                      <a:pt x="20" y="100"/>
                    </a:cubicBezTo>
                    <a:cubicBezTo>
                      <a:pt x="14" y="116"/>
                      <a:pt x="10" y="133"/>
                      <a:pt x="7" y="145"/>
                    </a:cubicBezTo>
                    <a:cubicBezTo>
                      <a:pt x="5" y="150"/>
                      <a:pt x="4" y="154"/>
                      <a:pt x="4" y="158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3" y="166"/>
                      <a:pt x="4" y="170"/>
                      <a:pt x="4" y="172"/>
                    </a:cubicBezTo>
                    <a:cubicBezTo>
                      <a:pt x="4" y="172"/>
                      <a:pt x="4" y="172"/>
                      <a:pt x="4" y="172"/>
                    </a:cubicBezTo>
                    <a:cubicBezTo>
                      <a:pt x="5" y="173"/>
                      <a:pt x="5" y="173"/>
                      <a:pt x="5" y="173"/>
                    </a:cubicBezTo>
                    <a:cubicBezTo>
                      <a:pt x="0" y="185"/>
                      <a:pt x="0" y="185"/>
                      <a:pt x="0" y="185"/>
                    </a:cubicBezTo>
                    <a:cubicBezTo>
                      <a:pt x="48" y="215"/>
                      <a:pt x="48" y="215"/>
                      <a:pt x="48" y="215"/>
                    </a:cubicBezTo>
                    <a:cubicBezTo>
                      <a:pt x="61" y="202"/>
                      <a:pt x="61" y="202"/>
                      <a:pt x="61" y="202"/>
                    </a:cubicBezTo>
                    <a:cubicBezTo>
                      <a:pt x="61" y="202"/>
                      <a:pt x="105" y="189"/>
                      <a:pt x="116" y="132"/>
                    </a:cubicBezTo>
                    <a:cubicBezTo>
                      <a:pt x="122" y="103"/>
                      <a:pt x="132" y="82"/>
                      <a:pt x="140" y="67"/>
                    </a:cubicBezTo>
                    <a:cubicBezTo>
                      <a:pt x="142" y="60"/>
                      <a:pt x="145" y="54"/>
                      <a:pt x="147" y="47"/>
                    </a:cubicBezTo>
                    <a:close/>
                    <a:moveTo>
                      <a:pt x="102" y="139"/>
                    </a:moveTo>
                    <a:cubicBezTo>
                      <a:pt x="101" y="145"/>
                      <a:pt x="99" y="151"/>
                      <a:pt x="97" y="157"/>
                    </a:cubicBezTo>
                    <a:cubicBezTo>
                      <a:pt x="96" y="161"/>
                      <a:pt x="95" y="167"/>
                      <a:pt x="92" y="171"/>
                    </a:cubicBezTo>
                    <a:cubicBezTo>
                      <a:pt x="78" y="191"/>
                      <a:pt x="52" y="178"/>
                      <a:pt x="55" y="155"/>
                    </a:cubicBezTo>
                    <a:cubicBezTo>
                      <a:pt x="55" y="152"/>
                      <a:pt x="56" y="150"/>
                      <a:pt x="58" y="148"/>
                    </a:cubicBezTo>
                    <a:cubicBezTo>
                      <a:pt x="55" y="139"/>
                      <a:pt x="53" y="130"/>
                      <a:pt x="52" y="121"/>
                    </a:cubicBezTo>
                    <a:cubicBezTo>
                      <a:pt x="50" y="112"/>
                      <a:pt x="48" y="101"/>
                      <a:pt x="55" y="94"/>
                    </a:cubicBezTo>
                    <a:cubicBezTo>
                      <a:pt x="60" y="88"/>
                      <a:pt x="69" y="88"/>
                      <a:pt x="75" y="92"/>
                    </a:cubicBezTo>
                    <a:cubicBezTo>
                      <a:pt x="81" y="95"/>
                      <a:pt x="82" y="103"/>
                      <a:pt x="87" y="107"/>
                    </a:cubicBezTo>
                    <a:cubicBezTo>
                      <a:pt x="90" y="109"/>
                      <a:pt x="94" y="109"/>
                      <a:pt x="97" y="111"/>
                    </a:cubicBezTo>
                    <a:cubicBezTo>
                      <a:pt x="104" y="118"/>
                      <a:pt x="102" y="131"/>
                      <a:pt x="102" y="13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10"/>
              <p:cNvSpPr/>
              <p:nvPr/>
            </p:nvSpPr>
            <p:spPr>
              <a:xfrm>
                <a:off x="8733960" y="2235960"/>
                <a:ext cx="1219320" cy="1400760"/>
              </a:xfrm>
              <a:custGeom>
                <a:avLst/>
                <a:gdLst/>
                <a:ahLst/>
                <a:rect l="l" t="t" r="r" b="b"/>
                <a:pathLst>
                  <a:path w="368" h="417">
                    <a:moveTo>
                      <a:pt x="313" y="0"/>
                    </a:moveTo>
                    <a:cubicBezTo>
                      <a:pt x="80" y="324"/>
                      <a:pt x="80" y="324"/>
                      <a:pt x="80" y="324"/>
                    </a:cubicBezTo>
                    <a:cubicBezTo>
                      <a:pt x="80" y="324"/>
                      <a:pt x="58" y="356"/>
                      <a:pt x="0" y="356"/>
                    </a:cubicBezTo>
                    <a:cubicBezTo>
                      <a:pt x="1" y="358"/>
                      <a:pt x="2" y="360"/>
                      <a:pt x="2" y="363"/>
                    </a:cubicBezTo>
                    <a:cubicBezTo>
                      <a:pt x="16" y="360"/>
                      <a:pt x="30" y="360"/>
                      <a:pt x="44" y="362"/>
                    </a:cubicBezTo>
                    <a:cubicBezTo>
                      <a:pt x="44" y="362"/>
                      <a:pt x="44" y="362"/>
                      <a:pt x="44" y="362"/>
                    </a:cubicBezTo>
                    <a:cubicBezTo>
                      <a:pt x="50" y="359"/>
                      <a:pt x="57" y="357"/>
                      <a:pt x="64" y="356"/>
                    </a:cubicBezTo>
                    <a:cubicBezTo>
                      <a:pt x="90" y="355"/>
                      <a:pt x="108" y="371"/>
                      <a:pt x="116" y="393"/>
                    </a:cubicBezTo>
                    <a:cubicBezTo>
                      <a:pt x="118" y="398"/>
                      <a:pt x="118" y="403"/>
                      <a:pt x="119" y="408"/>
                    </a:cubicBezTo>
                    <a:cubicBezTo>
                      <a:pt x="119" y="408"/>
                      <a:pt x="119" y="408"/>
                      <a:pt x="119" y="408"/>
                    </a:cubicBezTo>
                    <a:cubicBezTo>
                      <a:pt x="120" y="410"/>
                      <a:pt x="120" y="415"/>
                      <a:pt x="122" y="417"/>
                    </a:cubicBezTo>
                    <a:cubicBezTo>
                      <a:pt x="122" y="391"/>
                      <a:pt x="140" y="363"/>
                      <a:pt x="150" y="348"/>
                    </a:cubicBezTo>
                    <a:cubicBezTo>
                      <a:pt x="161" y="331"/>
                      <a:pt x="323" y="157"/>
                      <a:pt x="363" y="42"/>
                    </a:cubicBezTo>
                    <a:cubicBezTo>
                      <a:pt x="363" y="42"/>
                      <a:pt x="368" y="32"/>
                      <a:pt x="313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Freeform 11"/>
              <p:cNvSpPr/>
              <p:nvPr/>
            </p:nvSpPr>
            <p:spPr>
              <a:xfrm>
                <a:off x="8733960" y="2332800"/>
                <a:ext cx="1208880" cy="1332720"/>
              </a:xfrm>
              <a:custGeom>
                <a:avLst/>
                <a:gdLst/>
                <a:ahLst/>
                <a:rect l="l" t="t" r="r" b="b"/>
                <a:pathLst>
                  <a:path w="365" h="397">
                    <a:moveTo>
                      <a:pt x="354" y="0"/>
                    </a:moveTo>
                    <a:cubicBezTo>
                      <a:pt x="322" y="62"/>
                      <a:pt x="292" y="131"/>
                      <a:pt x="244" y="185"/>
                    </a:cubicBezTo>
                    <a:cubicBezTo>
                      <a:pt x="228" y="203"/>
                      <a:pt x="211" y="220"/>
                      <a:pt x="194" y="237"/>
                    </a:cubicBezTo>
                    <a:cubicBezTo>
                      <a:pt x="185" y="246"/>
                      <a:pt x="177" y="255"/>
                      <a:pt x="169" y="263"/>
                    </a:cubicBezTo>
                    <a:cubicBezTo>
                      <a:pt x="162" y="271"/>
                      <a:pt x="157" y="280"/>
                      <a:pt x="148" y="287"/>
                    </a:cubicBezTo>
                    <a:cubicBezTo>
                      <a:pt x="140" y="295"/>
                      <a:pt x="124" y="277"/>
                      <a:pt x="113" y="280"/>
                    </a:cubicBezTo>
                    <a:cubicBezTo>
                      <a:pt x="100" y="284"/>
                      <a:pt x="88" y="287"/>
                      <a:pt x="74" y="290"/>
                    </a:cubicBezTo>
                    <a:cubicBezTo>
                      <a:pt x="63" y="293"/>
                      <a:pt x="52" y="314"/>
                      <a:pt x="42" y="319"/>
                    </a:cubicBezTo>
                    <a:cubicBezTo>
                      <a:pt x="42" y="320"/>
                      <a:pt x="43" y="320"/>
                      <a:pt x="43" y="321"/>
                    </a:cubicBezTo>
                    <a:cubicBezTo>
                      <a:pt x="29" y="323"/>
                      <a:pt x="15" y="325"/>
                      <a:pt x="0" y="327"/>
                    </a:cubicBezTo>
                    <a:cubicBezTo>
                      <a:pt x="1" y="329"/>
                      <a:pt x="2" y="331"/>
                      <a:pt x="2" y="334"/>
                    </a:cubicBezTo>
                    <a:cubicBezTo>
                      <a:pt x="16" y="331"/>
                      <a:pt x="30" y="331"/>
                      <a:pt x="44" y="333"/>
                    </a:cubicBezTo>
                    <a:cubicBezTo>
                      <a:pt x="44" y="333"/>
                      <a:pt x="44" y="333"/>
                      <a:pt x="44" y="333"/>
                    </a:cubicBezTo>
                    <a:cubicBezTo>
                      <a:pt x="50" y="330"/>
                      <a:pt x="57" y="328"/>
                      <a:pt x="64" y="327"/>
                    </a:cubicBezTo>
                    <a:cubicBezTo>
                      <a:pt x="74" y="327"/>
                      <a:pt x="83" y="329"/>
                      <a:pt x="91" y="334"/>
                    </a:cubicBezTo>
                    <a:cubicBezTo>
                      <a:pt x="94" y="335"/>
                      <a:pt x="96" y="337"/>
                      <a:pt x="98" y="339"/>
                    </a:cubicBezTo>
                    <a:cubicBezTo>
                      <a:pt x="106" y="345"/>
                      <a:pt x="112" y="354"/>
                      <a:pt x="116" y="364"/>
                    </a:cubicBezTo>
                    <a:cubicBezTo>
                      <a:pt x="118" y="369"/>
                      <a:pt x="118" y="374"/>
                      <a:pt x="119" y="379"/>
                    </a:cubicBezTo>
                    <a:cubicBezTo>
                      <a:pt x="119" y="379"/>
                      <a:pt x="118" y="378"/>
                      <a:pt x="118" y="378"/>
                    </a:cubicBezTo>
                    <a:cubicBezTo>
                      <a:pt x="119" y="380"/>
                      <a:pt x="119" y="395"/>
                      <a:pt x="120" y="397"/>
                    </a:cubicBezTo>
                    <a:cubicBezTo>
                      <a:pt x="121" y="391"/>
                      <a:pt x="126" y="355"/>
                      <a:pt x="150" y="319"/>
                    </a:cubicBezTo>
                    <a:cubicBezTo>
                      <a:pt x="161" y="302"/>
                      <a:pt x="323" y="128"/>
                      <a:pt x="363" y="13"/>
                    </a:cubicBezTo>
                    <a:cubicBezTo>
                      <a:pt x="363" y="13"/>
                      <a:pt x="365" y="9"/>
                      <a:pt x="354" y="0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12"/>
              <p:cNvSpPr/>
              <p:nvPr/>
            </p:nvSpPr>
            <p:spPr>
              <a:xfrm>
                <a:off x="9741240" y="2199240"/>
                <a:ext cx="232200" cy="222480"/>
              </a:xfrm>
              <a:custGeom>
                <a:avLst/>
                <a:gdLst/>
                <a:ahLst/>
                <a:rect l="l" t="t" r="r" b="b"/>
                <a:pathLst>
                  <a:path w="70" h="66">
                    <a:moveTo>
                      <a:pt x="69" y="37"/>
                    </a:moveTo>
                    <a:cubicBezTo>
                      <a:pt x="67" y="34"/>
                      <a:pt x="63" y="30"/>
                      <a:pt x="58" y="27"/>
                    </a:cubicBezTo>
                    <a:cubicBezTo>
                      <a:pt x="41" y="17"/>
                      <a:pt x="25" y="2"/>
                      <a:pt x="14" y="0"/>
                    </a:cubicBezTo>
                    <a:cubicBezTo>
                      <a:pt x="14" y="0"/>
                      <a:pt x="14" y="1"/>
                      <a:pt x="13" y="1"/>
                    </a:cubicBezTo>
                    <a:cubicBezTo>
                      <a:pt x="10" y="9"/>
                      <a:pt x="8" y="17"/>
                      <a:pt x="3" y="24"/>
                    </a:cubicBezTo>
                    <a:cubicBezTo>
                      <a:pt x="2" y="26"/>
                      <a:pt x="1" y="28"/>
                      <a:pt x="0" y="30"/>
                    </a:cubicBezTo>
                    <a:cubicBezTo>
                      <a:pt x="11" y="35"/>
                      <a:pt x="39" y="50"/>
                      <a:pt x="48" y="66"/>
                    </a:cubicBezTo>
                    <a:cubicBezTo>
                      <a:pt x="50" y="63"/>
                      <a:pt x="56" y="53"/>
                      <a:pt x="59" y="50"/>
                    </a:cubicBezTo>
                    <a:cubicBezTo>
                      <a:pt x="61" y="48"/>
                      <a:pt x="63" y="45"/>
                      <a:pt x="65" y="42"/>
                    </a:cubicBezTo>
                    <a:cubicBezTo>
                      <a:pt x="66" y="41"/>
                      <a:pt x="70" y="34"/>
                      <a:pt x="68" y="39"/>
                    </a:cubicBezTo>
                    <a:cubicBezTo>
                      <a:pt x="68" y="38"/>
                      <a:pt x="69" y="38"/>
                      <a:pt x="69" y="3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13"/>
              <p:cNvSpPr/>
              <p:nvPr/>
            </p:nvSpPr>
            <p:spPr>
              <a:xfrm>
                <a:off x="9720720" y="2136240"/>
                <a:ext cx="268560" cy="261720"/>
              </a:xfrm>
              <a:custGeom>
                <a:avLst/>
                <a:gdLst/>
                <a:ahLst/>
                <a:rect l="l" t="t" r="r" b="b"/>
                <a:pathLst>
                  <a:path w="81" h="78">
                    <a:moveTo>
                      <a:pt x="65" y="77"/>
                    </a:moveTo>
                    <a:cubicBezTo>
                      <a:pt x="65" y="77"/>
                      <a:pt x="69" y="78"/>
                      <a:pt x="74" y="71"/>
                    </a:cubicBezTo>
                    <a:cubicBezTo>
                      <a:pt x="77" y="66"/>
                      <a:pt x="81" y="55"/>
                      <a:pt x="78" y="52"/>
                    </a:cubicBezTo>
                    <a:cubicBezTo>
                      <a:pt x="76" y="49"/>
                      <a:pt x="72" y="43"/>
                      <a:pt x="64" y="38"/>
                    </a:cubicBezTo>
                    <a:cubicBezTo>
                      <a:pt x="41" y="24"/>
                      <a:pt x="18" y="0"/>
                      <a:pt x="10" y="15"/>
                    </a:cubicBezTo>
                    <a:cubicBezTo>
                      <a:pt x="2" y="30"/>
                      <a:pt x="0" y="38"/>
                      <a:pt x="0" y="38"/>
                    </a:cubicBezTo>
                    <a:cubicBezTo>
                      <a:pt x="0" y="38"/>
                      <a:pt x="50" y="57"/>
                      <a:pt x="65" y="77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20" name="组合 8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421" name="组合 1"/>
          <p:cNvGrpSpPr/>
          <p:nvPr/>
        </p:nvGrpSpPr>
        <p:grpSpPr>
          <a:xfrm>
            <a:off x="7562880" y="762120"/>
            <a:ext cx="2295360" cy="5054400"/>
            <a:chOff x="7562880" y="762120"/>
            <a:chExt cx="2295360" cy="5054400"/>
          </a:xfrm>
        </p:grpSpPr>
        <p:sp>
          <p:nvSpPr>
            <p:cNvPr id="3422" name="Freeform 14"/>
            <p:cNvSpPr/>
            <p:nvPr/>
          </p:nvSpPr>
          <p:spPr>
            <a:xfrm>
              <a:off x="8534520" y="4295160"/>
              <a:ext cx="756360" cy="1451520"/>
            </a:xfrm>
            <a:custGeom>
              <a:avLst/>
              <a:gdLst/>
              <a:ahLst/>
              <a:rect l="l" t="t" r="r" b="b"/>
              <a:pathLst>
                <a:path w="228" h="437">
                  <a:moveTo>
                    <a:pt x="11" y="0"/>
                  </a:moveTo>
                  <a:cubicBezTo>
                    <a:pt x="11" y="0"/>
                    <a:pt x="0" y="108"/>
                    <a:pt x="61" y="120"/>
                  </a:cubicBezTo>
                  <a:cubicBezTo>
                    <a:pt x="58" y="418"/>
                    <a:pt x="58" y="418"/>
                    <a:pt x="58" y="418"/>
                  </a:cubicBezTo>
                  <a:cubicBezTo>
                    <a:pt x="105" y="437"/>
                    <a:pt x="105" y="437"/>
                    <a:pt x="105" y="437"/>
                  </a:cubicBezTo>
                  <a:cubicBezTo>
                    <a:pt x="103" y="132"/>
                    <a:pt x="103" y="132"/>
                    <a:pt x="103" y="132"/>
                  </a:cubicBezTo>
                  <a:cubicBezTo>
                    <a:pt x="103" y="132"/>
                    <a:pt x="124" y="135"/>
                    <a:pt x="134" y="130"/>
                  </a:cubicBezTo>
                  <a:cubicBezTo>
                    <a:pt x="155" y="427"/>
                    <a:pt x="155" y="427"/>
                    <a:pt x="155" y="427"/>
                  </a:cubicBezTo>
                  <a:cubicBezTo>
                    <a:pt x="188" y="402"/>
                    <a:pt x="188" y="402"/>
                    <a:pt x="188" y="402"/>
                  </a:cubicBezTo>
                  <a:cubicBezTo>
                    <a:pt x="210" y="381"/>
                    <a:pt x="210" y="381"/>
                    <a:pt x="210" y="381"/>
                  </a:cubicBezTo>
                  <a:cubicBezTo>
                    <a:pt x="174" y="124"/>
                    <a:pt x="174" y="124"/>
                    <a:pt x="174" y="124"/>
                  </a:cubicBezTo>
                  <a:cubicBezTo>
                    <a:pt x="174" y="124"/>
                    <a:pt x="228" y="93"/>
                    <a:pt x="210" y="0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3" name="Freeform 15"/>
            <p:cNvSpPr/>
            <p:nvPr/>
          </p:nvSpPr>
          <p:spPr>
            <a:xfrm>
              <a:off x="8580960" y="4300200"/>
              <a:ext cx="709920" cy="1446120"/>
            </a:xfrm>
            <a:custGeom>
              <a:avLst/>
              <a:gdLst/>
              <a:ahLst/>
              <a:rect l="l" t="t" r="r" b="b"/>
              <a:pathLst>
                <a:path w="214" h="436">
                  <a:moveTo>
                    <a:pt x="142" y="153"/>
                  </a:moveTo>
                  <a:cubicBezTo>
                    <a:pt x="142" y="140"/>
                    <a:pt x="151" y="133"/>
                    <a:pt x="161" y="131"/>
                  </a:cubicBezTo>
                  <a:cubicBezTo>
                    <a:pt x="160" y="123"/>
                    <a:pt x="160" y="123"/>
                    <a:pt x="160" y="123"/>
                  </a:cubicBezTo>
                  <a:cubicBezTo>
                    <a:pt x="160" y="123"/>
                    <a:pt x="214" y="93"/>
                    <a:pt x="196" y="0"/>
                  </a:cubicBezTo>
                  <a:cubicBezTo>
                    <a:pt x="196" y="2"/>
                    <a:pt x="196" y="3"/>
                    <a:pt x="196" y="5"/>
                  </a:cubicBezTo>
                  <a:cubicBezTo>
                    <a:pt x="196" y="63"/>
                    <a:pt x="147" y="110"/>
                    <a:pt x="90" y="110"/>
                  </a:cubicBezTo>
                  <a:cubicBezTo>
                    <a:pt x="58" y="109"/>
                    <a:pt x="29" y="94"/>
                    <a:pt x="9" y="71"/>
                  </a:cubicBezTo>
                  <a:cubicBezTo>
                    <a:pt x="6" y="68"/>
                    <a:pt x="3" y="65"/>
                    <a:pt x="0" y="62"/>
                  </a:cubicBezTo>
                  <a:cubicBezTo>
                    <a:pt x="6" y="88"/>
                    <a:pt x="19" y="113"/>
                    <a:pt x="47" y="119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56" y="129"/>
                    <a:pt x="65" y="135"/>
                    <a:pt x="65" y="147"/>
                  </a:cubicBezTo>
                  <a:cubicBezTo>
                    <a:pt x="66" y="149"/>
                    <a:pt x="67" y="152"/>
                    <a:pt x="67" y="155"/>
                  </a:cubicBezTo>
                  <a:cubicBezTo>
                    <a:pt x="68" y="158"/>
                    <a:pt x="69" y="161"/>
                    <a:pt x="69" y="165"/>
                  </a:cubicBezTo>
                  <a:cubicBezTo>
                    <a:pt x="68" y="252"/>
                    <a:pt x="68" y="339"/>
                    <a:pt x="68" y="427"/>
                  </a:cubicBezTo>
                  <a:cubicBezTo>
                    <a:pt x="91" y="436"/>
                    <a:pt x="91" y="436"/>
                    <a:pt x="91" y="436"/>
                  </a:cubicBezTo>
                  <a:cubicBezTo>
                    <a:pt x="89" y="131"/>
                    <a:pt x="89" y="131"/>
                    <a:pt x="89" y="131"/>
                  </a:cubicBezTo>
                  <a:cubicBezTo>
                    <a:pt x="89" y="131"/>
                    <a:pt x="110" y="134"/>
                    <a:pt x="120" y="129"/>
                  </a:cubicBezTo>
                  <a:cubicBezTo>
                    <a:pt x="141" y="426"/>
                    <a:pt x="141" y="426"/>
                    <a:pt x="141" y="426"/>
                  </a:cubicBezTo>
                  <a:cubicBezTo>
                    <a:pt x="169" y="404"/>
                    <a:pt x="169" y="404"/>
                    <a:pt x="169" y="404"/>
                  </a:cubicBezTo>
                  <a:cubicBezTo>
                    <a:pt x="168" y="401"/>
                    <a:pt x="167" y="398"/>
                    <a:pt x="167" y="394"/>
                  </a:cubicBezTo>
                  <a:cubicBezTo>
                    <a:pt x="162" y="313"/>
                    <a:pt x="138" y="235"/>
                    <a:pt x="142" y="153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4" name="Freeform 16"/>
            <p:cNvSpPr/>
            <p:nvPr/>
          </p:nvSpPr>
          <p:spPr>
            <a:xfrm>
              <a:off x="8568000" y="4219920"/>
              <a:ext cx="668160" cy="189000"/>
            </a:xfrm>
            <a:custGeom>
              <a:avLst/>
              <a:gdLst/>
              <a:ahLst/>
              <a:rect l="l" t="t" r="r" b="b"/>
              <a:pathLst>
                <a:path w="201" h="57">
                  <a:moveTo>
                    <a:pt x="1" y="19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31"/>
                    <a:pt x="34" y="28"/>
                    <a:pt x="68" y="30"/>
                  </a:cubicBezTo>
                  <a:cubicBezTo>
                    <a:pt x="81" y="30"/>
                    <a:pt x="88" y="56"/>
                    <a:pt x="102" y="56"/>
                  </a:cubicBezTo>
                  <a:cubicBezTo>
                    <a:pt x="117" y="57"/>
                    <a:pt x="119" y="30"/>
                    <a:pt x="132" y="30"/>
                  </a:cubicBezTo>
                  <a:cubicBezTo>
                    <a:pt x="156" y="28"/>
                    <a:pt x="190" y="33"/>
                    <a:pt x="201" y="28"/>
                  </a:cubicBezTo>
                  <a:cubicBezTo>
                    <a:pt x="200" y="18"/>
                    <a:pt x="200" y="18"/>
                    <a:pt x="200" y="18"/>
                  </a:cubicBezTo>
                  <a:cubicBezTo>
                    <a:pt x="200" y="18"/>
                    <a:pt x="87" y="0"/>
                    <a:pt x="1" y="1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5" name="Freeform 17"/>
            <p:cNvSpPr/>
            <p:nvPr/>
          </p:nvSpPr>
          <p:spPr>
            <a:xfrm>
              <a:off x="8334720" y="3193560"/>
              <a:ext cx="266760" cy="959040"/>
            </a:xfrm>
            <a:custGeom>
              <a:avLst/>
              <a:gdLst/>
              <a:ahLst/>
              <a:rect l="l" t="t" r="r" b="b"/>
              <a:pathLst>
                <a:path w="80" h="289">
                  <a:moveTo>
                    <a:pt x="80" y="32"/>
                  </a:moveTo>
                  <a:cubicBezTo>
                    <a:pt x="80" y="32"/>
                    <a:pt x="53" y="0"/>
                    <a:pt x="33" y="42"/>
                  </a:cubicBezTo>
                  <a:cubicBezTo>
                    <a:pt x="12" y="84"/>
                    <a:pt x="2" y="161"/>
                    <a:pt x="1" y="194"/>
                  </a:cubicBezTo>
                  <a:cubicBezTo>
                    <a:pt x="0" y="226"/>
                    <a:pt x="46" y="289"/>
                    <a:pt x="74" y="282"/>
                  </a:cubicBezTo>
                  <a:lnTo>
                    <a:pt x="80" y="32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6" name="Freeform 18"/>
            <p:cNvSpPr/>
            <p:nvPr/>
          </p:nvSpPr>
          <p:spPr>
            <a:xfrm>
              <a:off x="8334720" y="3193560"/>
              <a:ext cx="266760" cy="959040"/>
            </a:xfrm>
            <a:custGeom>
              <a:avLst/>
              <a:gdLst/>
              <a:ahLst/>
              <a:rect l="l" t="t" r="r" b="b"/>
              <a:pathLst>
                <a:path w="80" h="289">
                  <a:moveTo>
                    <a:pt x="33" y="42"/>
                  </a:moveTo>
                  <a:cubicBezTo>
                    <a:pt x="33" y="42"/>
                    <a:pt x="32" y="43"/>
                    <a:pt x="32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44" y="26"/>
                    <a:pt x="61" y="42"/>
                    <a:pt x="59" y="63"/>
                  </a:cubicBezTo>
                  <a:cubicBezTo>
                    <a:pt x="58" y="78"/>
                    <a:pt x="58" y="93"/>
                    <a:pt x="55" y="107"/>
                  </a:cubicBezTo>
                  <a:cubicBezTo>
                    <a:pt x="53" y="120"/>
                    <a:pt x="51" y="133"/>
                    <a:pt x="51" y="147"/>
                  </a:cubicBezTo>
                  <a:cubicBezTo>
                    <a:pt x="51" y="157"/>
                    <a:pt x="55" y="166"/>
                    <a:pt x="49" y="176"/>
                  </a:cubicBezTo>
                  <a:cubicBezTo>
                    <a:pt x="46" y="180"/>
                    <a:pt x="39" y="181"/>
                    <a:pt x="34" y="184"/>
                  </a:cubicBezTo>
                  <a:cubicBezTo>
                    <a:pt x="43" y="192"/>
                    <a:pt x="51" y="199"/>
                    <a:pt x="55" y="211"/>
                  </a:cubicBezTo>
                  <a:cubicBezTo>
                    <a:pt x="57" y="218"/>
                    <a:pt x="60" y="256"/>
                    <a:pt x="55" y="263"/>
                  </a:cubicBezTo>
                  <a:cubicBezTo>
                    <a:pt x="50" y="270"/>
                    <a:pt x="38" y="252"/>
                    <a:pt x="32" y="247"/>
                  </a:cubicBezTo>
                  <a:cubicBezTo>
                    <a:pt x="27" y="242"/>
                    <a:pt x="23" y="235"/>
                    <a:pt x="20" y="229"/>
                  </a:cubicBezTo>
                  <a:cubicBezTo>
                    <a:pt x="17" y="221"/>
                    <a:pt x="13" y="213"/>
                    <a:pt x="10" y="205"/>
                  </a:cubicBezTo>
                  <a:cubicBezTo>
                    <a:pt x="8" y="199"/>
                    <a:pt x="1" y="173"/>
                    <a:pt x="1" y="194"/>
                  </a:cubicBezTo>
                  <a:cubicBezTo>
                    <a:pt x="0" y="226"/>
                    <a:pt x="46" y="289"/>
                    <a:pt x="74" y="282"/>
                  </a:cubicBezTo>
                  <a:cubicBezTo>
                    <a:pt x="80" y="32"/>
                    <a:pt x="80" y="32"/>
                    <a:pt x="80" y="32"/>
                  </a:cubicBezTo>
                  <a:cubicBezTo>
                    <a:pt x="80" y="32"/>
                    <a:pt x="53" y="0"/>
                    <a:pt x="33" y="42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7" name="Freeform 19"/>
            <p:cNvSpPr/>
            <p:nvPr/>
          </p:nvSpPr>
          <p:spPr>
            <a:xfrm>
              <a:off x="8492760" y="3245400"/>
              <a:ext cx="792720" cy="1049760"/>
            </a:xfrm>
            <a:custGeom>
              <a:avLst/>
              <a:gdLst/>
              <a:ahLst/>
              <a:rect l="l" t="t" r="r" b="b"/>
              <a:pathLst>
                <a:path w="238" h="316">
                  <a:moveTo>
                    <a:pt x="25" y="16"/>
                  </a:moveTo>
                  <a:cubicBezTo>
                    <a:pt x="25" y="16"/>
                    <a:pt x="59" y="0"/>
                    <a:pt x="179" y="4"/>
                  </a:cubicBezTo>
                  <a:cubicBezTo>
                    <a:pt x="179" y="4"/>
                    <a:pt x="194" y="8"/>
                    <a:pt x="198" y="26"/>
                  </a:cubicBezTo>
                  <a:cubicBezTo>
                    <a:pt x="201" y="37"/>
                    <a:pt x="206" y="131"/>
                    <a:pt x="226" y="220"/>
                  </a:cubicBezTo>
                  <a:cubicBezTo>
                    <a:pt x="238" y="276"/>
                    <a:pt x="222" y="316"/>
                    <a:pt x="222" y="316"/>
                  </a:cubicBezTo>
                  <a:cubicBezTo>
                    <a:pt x="23" y="316"/>
                    <a:pt x="23" y="316"/>
                    <a:pt x="23" y="316"/>
                  </a:cubicBezTo>
                  <a:cubicBezTo>
                    <a:pt x="23" y="316"/>
                    <a:pt x="0" y="47"/>
                    <a:pt x="25" y="16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8" name="Freeform 20"/>
            <p:cNvSpPr/>
            <p:nvPr/>
          </p:nvSpPr>
          <p:spPr>
            <a:xfrm>
              <a:off x="9029160" y="3255480"/>
              <a:ext cx="225360" cy="798120"/>
            </a:xfrm>
            <a:custGeom>
              <a:avLst/>
              <a:gdLst/>
              <a:ahLst/>
              <a:rect l="l" t="t" r="r" b="b"/>
              <a:pathLst>
                <a:path w="68" h="240">
                  <a:moveTo>
                    <a:pt x="65" y="217"/>
                  </a:moveTo>
                  <a:cubicBezTo>
                    <a:pt x="45" y="128"/>
                    <a:pt x="41" y="34"/>
                    <a:pt x="38" y="23"/>
                  </a:cubicBezTo>
                  <a:cubicBezTo>
                    <a:pt x="34" y="4"/>
                    <a:pt x="18" y="1"/>
                    <a:pt x="18" y="1"/>
                  </a:cubicBezTo>
                  <a:cubicBezTo>
                    <a:pt x="11" y="1"/>
                    <a:pt x="6" y="0"/>
                    <a:pt x="0" y="0"/>
                  </a:cubicBezTo>
                  <a:cubicBezTo>
                    <a:pt x="1" y="7"/>
                    <a:pt x="3" y="14"/>
                    <a:pt x="4" y="22"/>
                  </a:cubicBezTo>
                  <a:cubicBezTo>
                    <a:pt x="4" y="20"/>
                    <a:pt x="19" y="31"/>
                    <a:pt x="21" y="33"/>
                  </a:cubicBezTo>
                  <a:cubicBezTo>
                    <a:pt x="25" y="39"/>
                    <a:pt x="27" y="46"/>
                    <a:pt x="29" y="53"/>
                  </a:cubicBezTo>
                  <a:cubicBezTo>
                    <a:pt x="32" y="68"/>
                    <a:pt x="30" y="84"/>
                    <a:pt x="33" y="99"/>
                  </a:cubicBezTo>
                  <a:cubicBezTo>
                    <a:pt x="42" y="139"/>
                    <a:pt x="46" y="178"/>
                    <a:pt x="61" y="218"/>
                  </a:cubicBezTo>
                  <a:cubicBezTo>
                    <a:pt x="63" y="225"/>
                    <a:pt x="66" y="233"/>
                    <a:pt x="68" y="240"/>
                  </a:cubicBezTo>
                  <a:cubicBezTo>
                    <a:pt x="68" y="233"/>
                    <a:pt x="66" y="225"/>
                    <a:pt x="65" y="217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9" name="Freeform 21"/>
            <p:cNvSpPr/>
            <p:nvPr/>
          </p:nvSpPr>
          <p:spPr>
            <a:xfrm>
              <a:off x="8210520" y="5453640"/>
              <a:ext cx="712440" cy="362880"/>
            </a:xfrm>
            <a:custGeom>
              <a:avLst/>
              <a:gdLst/>
              <a:ahLst/>
              <a:rect l="l" t="t" r="r" b="b"/>
              <a:pathLst>
                <a:path w="214" h="109">
                  <a:moveTo>
                    <a:pt x="23" y="108"/>
                  </a:moveTo>
                  <a:cubicBezTo>
                    <a:pt x="23" y="108"/>
                    <a:pt x="161" y="109"/>
                    <a:pt x="206" y="95"/>
                  </a:cubicBezTo>
                  <a:cubicBezTo>
                    <a:pt x="206" y="95"/>
                    <a:pt x="214" y="5"/>
                    <a:pt x="107" y="2"/>
                  </a:cubicBezTo>
                  <a:cubicBezTo>
                    <a:pt x="0" y="0"/>
                    <a:pt x="4" y="101"/>
                    <a:pt x="23" y="108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0" name="Freeform 22"/>
            <p:cNvSpPr/>
            <p:nvPr/>
          </p:nvSpPr>
          <p:spPr>
            <a:xfrm>
              <a:off x="8264880" y="5459040"/>
              <a:ext cx="567360" cy="311040"/>
            </a:xfrm>
            <a:custGeom>
              <a:avLst/>
              <a:gdLst/>
              <a:ahLst/>
              <a:rect l="l" t="t" r="r" b="b"/>
              <a:pathLst>
                <a:path w="171" h="94">
                  <a:moveTo>
                    <a:pt x="171" y="33"/>
                  </a:moveTo>
                  <a:cubicBezTo>
                    <a:pt x="157" y="16"/>
                    <a:pt x="132" y="2"/>
                    <a:pt x="91" y="1"/>
                  </a:cubicBezTo>
                  <a:cubicBezTo>
                    <a:pt x="35" y="0"/>
                    <a:pt x="10" y="27"/>
                    <a:pt x="0" y="54"/>
                  </a:cubicBezTo>
                  <a:cubicBezTo>
                    <a:pt x="31" y="94"/>
                    <a:pt x="157" y="87"/>
                    <a:pt x="171" y="33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1" name="Freeform 23"/>
            <p:cNvSpPr/>
            <p:nvPr/>
          </p:nvSpPr>
          <p:spPr>
            <a:xfrm>
              <a:off x="8391960" y="5528880"/>
              <a:ext cx="93240" cy="489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28" y="7"/>
                  </a:moveTo>
                  <a:cubicBezTo>
                    <a:pt x="28" y="12"/>
                    <a:pt x="22" y="15"/>
                    <a:pt x="14" y="15"/>
                  </a:cubicBezTo>
                  <a:cubicBezTo>
                    <a:pt x="6" y="15"/>
                    <a:pt x="0" y="11"/>
                    <a:pt x="0" y="7"/>
                  </a:cubicBezTo>
                  <a:cubicBezTo>
                    <a:pt x="0" y="3"/>
                    <a:pt x="7" y="0"/>
                    <a:pt x="14" y="0"/>
                  </a:cubicBezTo>
                  <a:cubicBezTo>
                    <a:pt x="22" y="0"/>
                    <a:pt x="28" y="3"/>
                    <a:pt x="28" y="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2" name="Freeform 24"/>
            <p:cNvSpPr/>
            <p:nvPr/>
          </p:nvSpPr>
          <p:spPr>
            <a:xfrm>
              <a:off x="9008640" y="5453640"/>
              <a:ext cx="714960" cy="362880"/>
            </a:xfrm>
            <a:custGeom>
              <a:avLst/>
              <a:gdLst/>
              <a:ahLst/>
              <a:rect l="l" t="t" r="r" b="b"/>
              <a:pathLst>
                <a:path w="215" h="109">
                  <a:moveTo>
                    <a:pt x="192" y="108"/>
                  </a:moveTo>
                  <a:cubicBezTo>
                    <a:pt x="192" y="108"/>
                    <a:pt x="53" y="109"/>
                    <a:pt x="9" y="95"/>
                  </a:cubicBezTo>
                  <a:cubicBezTo>
                    <a:pt x="9" y="95"/>
                    <a:pt x="0" y="5"/>
                    <a:pt x="107" y="2"/>
                  </a:cubicBezTo>
                  <a:cubicBezTo>
                    <a:pt x="215" y="0"/>
                    <a:pt x="211" y="101"/>
                    <a:pt x="192" y="108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3" name="Freeform 25"/>
            <p:cNvSpPr/>
            <p:nvPr/>
          </p:nvSpPr>
          <p:spPr>
            <a:xfrm>
              <a:off x="9101880" y="5459040"/>
              <a:ext cx="564840" cy="311040"/>
            </a:xfrm>
            <a:custGeom>
              <a:avLst/>
              <a:gdLst/>
              <a:ahLst/>
              <a:rect l="l" t="t" r="r" b="b"/>
              <a:pathLst>
                <a:path w="170" h="94">
                  <a:moveTo>
                    <a:pt x="0" y="33"/>
                  </a:moveTo>
                  <a:cubicBezTo>
                    <a:pt x="14" y="16"/>
                    <a:pt x="38" y="2"/>
                    <a:pt x="79" y="1"/>
                  </a:cubicBezTo>
                  <a:cubicBezTo>
                    <a:pt x="135" y="0"/>
                    <a:pt x="161" y="27"/>
                    <a:pt x="170" y="54"/>
                  </a:cubicBezTo>
                  <a:cubicBezTo>
                    <a:pt x="140" y="94"/>
                    <a:pt x="13" y="87"/>
                    <a:pt x="0" y="33"/>
                  </a:cubicBez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4" name="Freeform 26"/>
            <p:cNvSpPr/>
            <p:nvPr/>
          </p:nvSpPr>
          <p:spPr>
            <a:xfrm>
              <a:off x="9448920" y="5528880"/>
              <a:ext cx="93240" cy="489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0" y="7"/>
                  </a:moveTo>
                  <a:cubicBezTo>
                    <a:pt x="0" y="12"/>
                    <a:pt x="6" y="15"/>
                    <a:pt x="14" y="15"/>
                  </a:cubicBezTo>
                  <a:cubicBezTo>
                    <a:pt x="22" y="15"/>
                    <a:pt x="28" y="11"/>
                    <a:pt x="28" y="7"/>
                  </a:cubicBezTo>
                  <a:cubicBezTo>
                    <a:pt x="28" y="3"/>
                    <a:pt x="22" y="0"/>
                    <a:pt x="14" y="0"/>
                  </a:cubicBezTo>
                  <a:cubicBezTo>
                    <a:pt x="6" y="0"/>
                    <a:pt x="0" y="3"/>
                    <a:pt x="0" y="7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5" name="Freeform 27"/>
            <p:cNvSpPr/>
            <p:nvPr/>
          </p:nvSpPr>
          <p:spPr>
            <a:xfrm>
              <a:off x="8550000" y="3099960"/>
              <a:ext cx="258840" cy="285120"/>
            </a:xfrm>
            <a:custGeom>
              <a:avLst/>
              <a:gdLst/>
              <a:ahLst/>
              <a:rect l="l" t="t" r="r" b="b"/>
              <a:pathLst>
                <a:path w="78" h="86">
                  <a:moveTo>
                    <a:pt x="7" y="0"/>
                  </a:moveTo>
                  <a:cubicBezTo>
                    <a:pt x="7" y="0"/>
                    <a:pt x="0" y="51"/>
                    <a:pt x="4" y="60"/>
                  </a:cubicBezTo>
                  <a:cubicBezTo>
                    <a:pt x="7" y="70"/>
                    <a:pt x="17" y="79"/>
                    <a:pt x="30" y="81"/>
                  </a:cubicBezTo>
                  <a:cubicBezTo>
                    <a:pt x="64" y="86"/>
                    <a:pt x="76" y="71"/>
                    <a:pt x="76" y="71"/>
                  </a:cubicBezTo>
                  <a:cubicBezTo>
                    <a:pt x="78" y="54"/>
                    <a:pt x="78" y="54"/>
                    <a:pt x="78" y="54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6" name="Freeform 28"/>
            <p:cNvSpPr/>
            <p:nvPr/>
          </p:nvSpPr>
          <p:spPr>
            <a:xfrm>
              <a:off x="8537040" y="3061080"/>
              <a:ext cx="266760" cy="28512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7" y="0"/>
                  </a:moveTo>
                  <a:cubicBezTo>
                    <a:pt x="7" y="0"/>
                    <a:pt x="0" y="51"/>
                    <a:pt x="3" y="60"/>
                  </a:cubicBezTo>
                  <a:cubicBezTo>
                    <a:pt x="7" y="70"/>
                    <a:pt x="17" y="79"/>
                    <a:pt x="30" y="81"/>
                  </a:cubicBezTo>
                  <a:cubicBezTo>
                    <a:pt x="63" y="86"/>
                    <a:pt x="74" y="82"/>
                    <a:pt x="74" y="82"/>
                  </a:cubicBezTo>
                  <a:cubicBezTo>
                    <a:pt x="80" y="48"/>
                    <a:pt x="80" y="48"/>
                    <a:pt x="80" y="4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7" name="Freeform 29"/>
            <p:cNvSpPr/>
            <p:nvPr/>
          </p:nvSpPr>
          <p:spPr>
            <a:xfrm>
              <a:off x="8902440" y="3112920"/>
              <a:ext cx="258840" cy="22284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8" y="0"/>
                  </a:moveTo>
                  <a:cubicBezTo>
                    <a:pt x="78" y="0"/>
                    <a:pt x="75" y="42"/>
                    <a:pt x="72" y="46"/>
                  </a:cubicBezTo>
                  <a:cubicBezTo>
                    <a:pt x="69" y="51"/>
                    <a:pt x="66" y="65"/>
                    <a:pt x="0" y="67"/>
                  </a:cubicBezTo>
                  <a:cubicBezTo>
                    <a:pt x="13" y="15"/>
                    <a:pt x="13" y="15"/>
                    <a:pt x="13" y="15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8" name="Freeform 30"/>
            <p:cNvSpPr/>
            <p:nvPr/>
          </p:nvSpPr>
          <p:spPr>
            <a:xfrm>
              <a:off x="8920440" y="3084480"/>
              <a:ext cx="258840" cy="22032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78" y="0"/>
                  </a:moveTo>
                  <a:cubicBezTo>
                    <a:pt x="78" y="0"/>
                    <a:pt x="75" y="42"/>
                    <a:pt x="72" y="46"/>
                  </a:cubicBezTo>
                  <a:cubicBezTo>
                    <a:pt x="69" y="51"/>
                    <a:pt x="66" y="65"/>
                    <a:pt x="0" y="67"/>
                  </a:cubicBezTo>
                  <a:cubicBezTo>
                    <a:pt x="12" y="15"/>
                    <a:pt x="12" y="15"/>
                    <a:pt x="12" y="15"/>
                  </a:cubicBezTo>
                  <a:lnTo>
                    <a:pt x="78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9" name="Freeform 31"/>
            <p:cNvSpPr/>
            <p:nvPr/>
          </p:nvSpPr>
          <p:spPr>
            <a:xfrm>
              <a:off x="8547480" y="3069000"/>
              <a:ext cx="279720" cy="23580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3" y="16"/>
                  </a:moveTo>
                  <a:cubicBezTo>
                    <a:pt x="2" y="14"/>
                    <a:pt x="1" y="12"/>
                    <a:pt x="1" y="11"/>
                  </a:cubicBezTo>
                  <a:cubicBezTo>
                    <a:pt x="0" y="6"/>
                    <a:pt x="0" y="0"/>
                    <a:pt x="7" y="1"/>
                  </a:cubicBezTo>
                  <a:cubicBezTo>
                    <a:pt x="12" y="2"/>
                    <a:pt x="17" y="7"/>
                    <a:pt x="21" y="10"/>
                  </a:cubicBezTo>
                  <a:cubicBezTo>
                    <a:pt x="31" y="15"/>
                    <a:pt x="40" y="21"/>
                    <a:pt x="49" y="28"/>
                  </a:cubicBezTo>
                  <a:cubicBezTo>
                    <a:pt x="57" y="34"/>
                    <a:pt x="67" y="39"/>
                    <a:pt x="74" y="46"/>
                  </a:cubicBezTo>
                  <a:cubicBezTo>
                    <a:pt x="76" y="48"/>
                    <a:pt x="84" y="68"/>
                    <a:pt x="74" y="70"/>
                  </a:cubicBezTo>
                  <a:cubicBezTo>
                    <a:pt x="63" y="71"/>
                    <a:pt x="67" y="57"/>
                    <a:pt x="59" y="52"/>
                  </a:cubicBezTo>
                  <a:cubicBezTo>
                    <a:pt x="54" y="50"/>
                    <a:pt x="51" y="48"/>
                    <a:pt x="46" y="45"/>
                  </a:cubicBezTo>
                  <a:cubicBezTo>
                    <a:pt x="42" y="41"/>
                    <a:pt x="36" y="40"/>
                    <a:pt x="31" y="36"/>
                  </a:cubicBezTo>
                  <a:cubicBezTo>
                    <a:pt x="24" y="31"/>
                    <a:pt x="17" y="26"/>
                    <a:pt x="10" y="22"/>
                  </a:cubicBezTo>
                  <a:cubicBezTo>
                    <a:pt x="7" y="20"/>
                    <a:pt x="4" y="18"/>
                    <a:pt x="3" y="16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0" name="Freeform 32"/>
            <p:cNvSpPr/>
            <p:nvPr/>
          </p:nvSpPr>
          <p:spPr>
            <a:xfrm>
              <a:off x="8922960" y="3107880"/>
              <a:ext cx="266760" cy="15552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70" y="3"/>
                  </a:moveTo>
                  <a:cubicBezTo>
                    <a:pt x="62" y="2"/>
                    <a:pt x="54" y="8"/>
                    <a:pt x="48" y="11"/>
                  </a:cubicBezTo>
                  <a:cubicBezTo>
                    <a:pt x="40" y="15"/>
                    <a:pt x="33" y="16"/>
                    <a:pt x="25" y="18"/>
                  </a:cubicBezTo>
                  <a:cubicBezTo>
                    <a:pt x="15" y="20"/>
                    <a:pt x="8" y="28"/>
                    <a:pt x="4" y="36"/>
                  </a:cubicBezTo>
                  <a:cubicBezTo>
                    <a:pt x="3" y="40"/>
                    <a:pt x="2" y="44"/>
                    <a:pt x="0" y="47"/>
                  </a:cubicBezTo>
                  <a:cubicBezTo>
                    <a:pt x="9" y="45"/>
                    <a:pt x="17" y="38"/>
                    <a:pt x="24" y="33"/>
                  </a:cubicBezTo>
                  <a:cubicBezTo>
                    <a:pt x="36" y="25"/>
                    <a:pt x="49" y="19"/>
                    <a:pt x="62" y="19"/>
                  </a:cubicBezTo>
                  <a:cubicBezTo>
                    <a:pt x="69" y="18"/>
                    <a:pt x="80" y="14"/>
                    <a:pt x="80" y="5"/>
                  </a:cubicBezTo>
                  <a:cubicBezTo>
                    <a:pt x="80" y="0"/>
                    <a:pt x="75" y="4"/>
                    <a:pt x="70" y="3"/>
                  </a:cubicBez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1" name="Freeform 33"/>
            <p:cNvSpPr/>
            <p:nvPr/>
          </p:nvSpPr>
          <p:spPr>
            <a:xfrm>
              <a:off x="8656200" y="3302280"/>
              <a:ext cx="445320" cy="992520"/>
            </a:xfrm>
            <a:custGeom>
              <a:avLst/>
              <a:gdLst/>
              <a:ahLst/>
              <a:rect l="l" t="t" r="r" b="b"/>
              <a:pathLst>
                <a:path w="172" h="383">
                  <a:moveTo>
                    <a:pt x="49" y="0"/>
                  </a:moveTo>
                  <a:lnTo>
                    <a:pt x="0" y="281"/>
                  </a:lnTo>
                  <a:lnTo>
                    <a:pt x="59" y="383"/>
                  </a:lnTo>
                  <a:lnTo>
                    <a:pt x="127" y="383"/>
                  </a:lnTo>
                  <a:lnTo>
                    <a:pt x="172" y="296"/>
                  </a:lnTo>
                  <a:lnTo>
                    <a:pt x="102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2" name="Freeform 34"/>
            <p:cNvSpPr/>
            <p:nvPr/>
          </p:nvSpPr>
          <p:spPr>
            <a:xfrm>
              <a:off x="8689680" y="3302280"/>
              <a:ext cx="383400" cy="1060200"/>
            </a:xfrm>
            <a:custGeom>
              <a:avLst/>
              <a:gdLst/>
              <a:ahLst/>
              <a:rect l="l" t="t" r="r" b="b"/>
              <a:pathLst>
                <a:path w="115" h="319">
                  <a:moveTo>
                    <a:pt x="34" y="2"/>
                  </a:moveTo>
                  <a:cubicBezTo>
                    <a:pt x="34" y="2"/>
                    <a:pt x="11" y="116"/>
                    <a:pt x="0" y="222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115" y="232"/>
                    <a:pt x="115" y="232"/>
                    <a:pt x="115" y="232"/>
                  </a:cubicBezTo>
                  <a:cubicBezTo>
                    <a:pt x="115" y="232"/>
                    <a:pt x="96" y="108"/>
                    <a:pt x="57" y="0"/>
                  </a:cubicBezTo>
                  <a:lnTo>
                    <a:pt x="34" y="2"/>
                  </a:lnTo>
                  <a:close/>
                </a:path>
              </a:pathLst>
            </a:custGeom>
            <a:solidFill>
              <a:srgbClr val="a832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3" name="Freeform 35"/>
            <p:cNvSpPr/>
            <p:nvPr/>
          </p:nvSpPr>
          <p:spPr>
            <a:xfrm>
              <a:off x="8855640" y="3302280"/>
              <a:ext cx="217440" cy="1060200"/>
            </a:xfrm>
            <a:custGeom>
              <a:avLst/>
              <a:gdLst/>
              <a:ahLst/>
              <a:rect l="l" t="t" r="r" b="b"/>
              <a:pathLst>
                <a:path w="65" h="319">
                  <a:moveTo>
                    <a:pt x="7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4" y="319"/>
                    <a:pt x="14" y="319"/>
                    <a:pt x="14" y="319"/>
                  </a:cubicBezTo>
                  <a:cubicBezTo>
                    <a:pt x="65" y="232"/>
                    <a:pt x="65" y="232"/>
                    <a:pt x="65" y="232"/>
                  </a:cubicBezTo>
                  <a:cubicBezTo>
                    <a:pt x="65" y="232"/>
                    <a:pt x="46" y="108"/>
                    <a:pt x="7" y="0"/>
                  </a:cubicBezTo>
                  <a:close/>
                </a:path>
              </a:pathLst>
            </a:custGeom>
            <a:solidFill>
              <a:srgbClr val="9b2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4" name="Freeform 36"/>
            <p:cNvSpPr/>
            <p:nvPr/>
          </p:nvSpPr>
          <p:spPr>
            <a:xfrm>
              <a:off x="8746920" y="3385080"/>
              <a:ext cx="191520" cy="2487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49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0" y="19"/>
                    <a:pt x="5" y="42"/>
                  </a:cubicBezTo>
                  <a:cubicBezTo>
                    <a:pt x="3" y="52"/>
                    <a:pt x="1" y="63"/>
                    <a:pt x="0" y="75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0" y="75"/>
                    <a:pt x="40" y="62"/>
                    <a:pt x="58" y="30"/>
                  </a:cubicBezTo>
                  <a:cubicBezTo>
                    <a:pt x="55" y="20"/>
                    <a:pt x="52" y="10"/>
                    <a:pt x="49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5" name="Freeform 37"/>
            <p:cNvSpPr/>
            <p:nvPr/>
          </p:nvSpPr>
          <p:spPr>
            <a:xfrm>
              <a:off x="8702640" y="3621240"/>
              <a:ext cx="300240" cy="29520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33"/>
                  </a:moveTo>
                  <a:cubicBezTo>
                    <a:pt x="90" y="33"/>
                    <a:pt x="90" y="33"/>
                    <a:pt x="90" y="33"/>
                  </a:cubicBezTo>
                  <a:cubicBezTo>
                    <a:pt x="88" y="22"/>
                    <a:pt x="85" y="11"/>
                    <a:pt x="82" y="0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41" y="36"/>
                    <a:pt x="5" y="53"/>
                    <a:pt x="5" y="53"/>
                  </a:cubicBezTo>
                  <a:cubicBezTo>
                    <a:pt x="5" y="53"/>
                    <a:pt x="5" y="53"/>
                    <a:pt x="5" y="53"/>
                  </a:cubicBezTo>
                  <a:cubicBezTo>
                    <a:pt x="3" y="65"/>
                    <a:pt x="2" y="77"/>
                    <a:pt x="0" y="89"/>
                  </a:cubicBezTo>
                  <a:cubicBezTo>
                    <a:pt x="53" y="83"/>
                    <a:pt x="90" y="33"/>
                    <a:pt x="90" y="3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6" name="Freeform 38"/>
            <p:cNvSpPr/>
            <p:nvPr/>
          </p:nvSpPr>
          <p:spPr>
            <a:xfrm>
              <a:off x="8754480" y="3870000"/>
              <a:ext cx="297720" cy="33948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15" y="102"/>
                  </a:moveTo>
                  <a:cubicBezTo>
                    <a:pt x="54" y="86"/>
                    <a:pt x="90" y="29"/>
                    <a:pt x="90" y="29"/>
                  </a:cubicBezTo>
                  <a:cubicBezTo>
                    <a:pt x="90" y="29"/>
                    <a:pt x="90" y="29"/>
                    <a:pt x="90" y="29"/>
                  </a:cubicBezTo>
                  <a:cubicBezTo>
                    <a:pt x="89" y="20"/>
                    <a:pt x="87" y="11"/>
                    <a:pt x="85" y="0"/>
                  </a:cubicBezTo>
                  <a:cubicBezTo>
                    <a:pt x="85" y="0"/>
                    <a:pt x="85" y="0"/>
                    <a:pt x="85" y="0"/>
                  </a:cubicBezTo>
                  <a:cubicBezTo>
                    <a:pt x="54" y="47"/>
                    <a:pt x="0" y="80"/>
                    <a:pt x="0" y="81"/>
                  </a:cubicBezTo>
                  <a:lnTo>
                    <a:pt x="15" y="102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7" name="Freeform 39"/>
            <p:cNvSpPr/>
            <p:nvPr/>
          </p:nvSpPr>
          <p:spPr>
            <a:xfrm>
              <a:off x="8767440" y="3209040"/>
              <a:ext cx="178560" cy="1191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" y="3"/>
                  </a:moveTo>
                  <a:cubicBezTo>
                    <a:pt x="0" y="8"/>
                    <a:pt x="1" y="30"/>
                    <a:pt x="10" y="34"/>
                  </a:cubicBezTo>
                  <a:cubicBezTo>
                    <a:pt x="14" y="36"/>
                    <a:pt x="24" y="36"/>
                    <a:pt x="34" y="34"/>
                  </a:cubicBezTo>
                  <a:cubicBezTo>
                    <a:pt x="54" y="30"/>
                    <a:pt x="48" y="0"/>
                    <a:pt x="48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9b2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8" name="Freeform 40"/>
            <p:cNvSpPr/>
            <p:nvPr/>
          </p:nvSpPr>
          <p:spPr>
            <a:xfrm>
              <a:off x="7863120" y="842400"/>
              <a:ext cx="1691640" cy="2436480"/>
            </a:xfrm>
            <a:custGeom>
              <a:avLst/>
              <a:gdLst/>
              <a:ahLst/>
              <a:rect l="l" t="t" r="r" b="b"/>
              <a:pathLst>
                <a:path w="509" h="734">
                  <a:moveTo>
                    <a:pt x="4" y="347"/>
                  </a:moveTo>
                  <a:cubicBezTo>
                    <a:pt x="4" y="347"/>
                    <a:pt x="0" y="536"/>
                    <a:pt x="11" y="595"/>
                  </a:cubicBezTo>
                  <a:cubicBezTo>
                    <a:pt x="21" y="654"/>
                    <a:pt x="32" y="660"/>
                    <a:pt x="65" y="669"/>
                  </a:cubicBezTo>
                  <a:cubicBezTo>
                    <a:pt x="99" y="677"/>
                    <a:pt x="209" y="682"/>
                    <a:pt x="224" y="692"/>
                  </a:cubicBezTo>
                  <a:cubicBezTo>
                    <a:pt x="240" y="702"/>
                    <a:pt x="273" y="734"/>
                    <a:pt x="296" y="731"/>
                  </a:cubicBezTo>
                  <a:cubicBezTo>
                    <a:pt x="319" y="728"/>
                    <a:pt x="330" y="706"/>
                    <a:pt x="344" y="703"/>
                  </a:cubicBezTo>
                  <a:cubicBezTo>
                    <a:pt x="358" y="699"/>
                    <a:pt x="439" y="684"/>
                    <a:pt x="457" y="678"/>
                  </a:cubicBezTo>
                  <a:cubicBezTo>
                    <a:pt x="475" y="672"/>
                    <a:pt x="488" y="656"/>
                    <a:pt x="490" y="614"/>
                  </a:cubicBezTo>
                  <a:cubicBezTo>
                    <a:pt x="493" y="572"/>
                    <a:pt x="509" y="401"/>
                    <a:pt x="493" y="319"/>
                  </a:cubicBezTo>
                  <a:cubicBezTo>
                    <a:pt x="477" y="236"/>
                    <a:pt x="467" y="168"/>
                    <a:pt x="416" y="135"/>
                  </a:cubicBezTo>
                  <a:cubicBezTo>
                    <a:pt x="400" y="119"/>
                    <a:pt x="11" y="0"/>
                    <a:pt x="4" y="34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9" name="Freeform 41"/>
            <p:cNvSpPr/>
            <p:nvPr/>
          </p:nvSpPr>
          <p:spPr>
            <a:xfrm>
              <a:off x="9435960" y="2076120"/>
              <a:ext cx="352080" cy="49500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12" y="149"/>
                  </a:moveTo>
                  <a:cubicBezTo>
                    <a:pt x="99" y="149"/>
                    <a:pt x="106" y="49"/>
                    <a:pt x="67" y="24"/>
                  </a:cubicBezTo>
                  <a:cubicBezTo>
                    <a:pt x="29" y="0"/>
                    <a:pt x="0" y="49"/>
                    <a:pt x="0" y="49"/>
                  </a:cubicBezTo>
                  <a:lnTo>
                    <a:pt x="12" y="14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0" name="Freeform 42"/>
            <p:cNvSpPr/>
            <p:nvPr/>
          </p:nvSpPr>
          <p:spPr>
            <a:xfrm>
              <a:off x="7596360" y="2094480"/>
              <a:ext cx="352080" cy="43776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92" y="127"/>
                  </a:moveTo>
                  <a:cubicBezTo>
                    <a:pt x="92" y="127"/>
                    <a:pt x="57" y="132"/>
                    <a:pt x="28" y="104"/>
                  </a:cubicBezTo>
                  <a:cubicBezTo>
                    <a:pt x="0" y="76"/>
                    <a:pt x="7" y="2"/>
                    <a:pt x="56" y="1"/>
                  </a:cubicBezTo>
                  <a:cubicBezTo>
                    <a:pt x="106" y="0"/>
                    <a:pt x="100" y="55"/>
                    <a:pt x="100" y="55"/>
                  </a:cubicBezTo>
                  <a:lnTo>
                    <a:pt x="92" y="127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1" name="Freeform 43"/>
            <p:cNvSpPr/>
            <p:nvPr/>
          </p:nvSpPr>
          <p:spPr>
            <a:xfrm>
              <a:off x="7878960" y="762120"/>
              <a:ext cx="1616760" cy="2423520"/>
            </a:xfrm>
            <a:custGeom>
              <a:avLst/>
              <a:gdLst/>
              <a:ahLst/>
              <a:rect l="l" t="t" r="r" b="b"/>
              <a:pathLst>
                <a:path w="486" h="730">
                  <a:moveTo>
                    <a:pt x="10" y="347"/>
                  </a:moveTo>
                  <a:cubicBezTo>
                    <a:pt x="10" y="347"/>
                    <a:pt x="0" y="458"/>
                    <a:pt x="3" y="536"/>
                  </a:cubicBezTo>
                  <a:cubicBezTo>
                    <a:pt x="4" y="560"/>
                    <a:pt x="6" y="589"/>
                    <a:pt x="8" y="603"/>
                  </a:cubicBezTo>
                  <a:cubicBezTo>
                    <a:pt x="18" y="662"/>
                    <a:pt x="36" y="660"/>
                    <a:pt x="69" y="669"/>
                  </a:cubicBezTo>
                  <a:cubicBezTo>
                    <a:pt x="78" y="671"/>
                    <a:pt x="151" y="683"/>
                    <a:pt x="198" y="701"/>
                  </a:cubicBezTo>
                  <a:cubicBezTo>
                    <a:pt x="229" y="712"/>
                    <a:pt x="252" y="728"/>
                    <a:pt x="285" y="729"/>
                  </a:cubicBezTo>
                  <a:cubicBezTo>
                    <a:pt x="311" y="730"/>
                    <a:pt x="310" y="716"/>
                    <a:pt x="333" y="710"/>
                  </a:cubicBezTo>
                  <a:cubicBezTo>
                    <a:pt x="391" y="695"/>
                    <a:pt x="438" y="679"/>
                    <a:pt x="444" y="677"/>
                  </a:cubicBezTo>
                  <a:cubicBezTo>
                    <a:pt x="461" y="671"/>
                    <a:pt x="474" y="655"/>
                    <a:pt x="476" y="613"/>
                  </a:cubicBezTo>
                  <a:cubicBezTo>
                    <a:pt x="479" y="571"/>
                    <a:pt x="486" y="400"/>
                    <a:pt x="471" y="317"/>
                  </a:cubicBezTo>
                  <a:cubicBezTo>
                    <a:pt x="456" y="235"/>
                    <a:pt x="455" y="167"/>
                    <a:pt x="406" y="134"/>
                  </a:cubicBezTo>
                  <a:cubicBezTo>
                    <a:pt x="391" y="118"/>
                    <a:pt x="18" y="0"/>
                    <a:pt x="10" y="347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2" name="Freeform 44"/>
            <p:cNvSpPr/>
            <p:nvPr/>
          </p:nvSpPr>
          <p:spPr>
            <a:xfrm>
              <a:off x="7938360" y="819000"/>
              <a:ext cx="1422360" cy="969120"/>
            </a:xfrm>
            <a:custGeom>
              <a:avLst/>
              <a:gdLst/>
              <a:ahLst/>
              <a:rect l="l" t="t" r="r" b="b"/>
              <a:pathLst>
                <a:path w="428" h="292">
                  <a:moveTo>
                    <a:pt x="124" y="291"/>
                  </a:moveTo>
                  <a:cubicBezTo>
                    <a:pt x="170" y="290"/>
                    <a:pt x="210" y="287"/>
                    <a:pt x="258" y="279"/>
                  </a:cubicBezTo>
                  <a:cubicBezTo>
                    <a:pt x="324" y="269"/>
                    <a:pt x="373" y="228"/>
                    <a:pt x="428" y="202"/>
                  </a:cubicBezTo>
                  <a:cubicBezTo>
                    <a:pt x="420" y="158"/>
                    <a:pt x="419" y="138"/>
                    <a:pt x="388" y="117"/>
                  </a:cubicBezTo>
                  <a:cubicBezTo>
                    <a:pt x="374" y="102"/>
                    <a:pt x="53" y="0"/>
                    <a:pt x="0" y="261"/>
                  </a:cubicBezTo>
                  <a:cubicBezTo>
                    <a:pt x="18" y="267"/>
                    <a:pt x="36" y="273"/>
                    <a:pt x="54" y="278"/>
                  </a:cubicBezTo>
                  <a:cubicBezTo>
                    <a:pt x="76" y="279"/>
                    <a:pt x="101" y="292"/>
                    <a:pt x="124" y="29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3" name="Freeform 45"/>
            <p:cNvSpPr/>
            <p:nvPr/>
          </p:nvSpPr>
          <p:spPr>
            <a:xfrm>
              <a:off x="7713000" y="1355400"/>
              <a:ext cx="375480" cy="1257120"/>
            </a:xfrm>
            <a:custGeom>
              <a:avLst/>
              <a:gdLst/>
              <a:ahLst/>
              <a:rect l="l" t="t" r="r" b="b"/>
              <a:pathLst>
                <a:path w="113" h="378">
                  <a:moveTo>
                    <a:pt x="12" y="0"/>
                  </a:moveTo>
                  <a:cubicBezTo>
                    <a:pt x="12" y="0"/>
                    <a:pt x="0" y="165"/>
                    <a:pt x="7" y="226"/>
                  </a:cubicBezTo>
                  <a:cubicBezTo>
                    <a:pt x="7" y="226"/>
                    <a:pt x="59" y="207"/>
                    <a:pt x="66" y="271"/>
                  </a:cubicBezTo>
                  <a:cubicBezTo>
                    <a:pt x="73" y="337"/>
                    <a:pt x="76" y="371"/>
                    <a:pt x="76" y="371"/>
                  </a:cubicBezTo>
                  <a:cubicBezTo>
                    <a:pt x="76" y="371"/>
                    <a:pt x="77" y="377"/>
                    <a:pt x="94" y="378"/>
                  </a:cubicBezTo>
                  <a:cubicBezTo>
                    <a:pt x="110" y="378"/>
                    <a:pt x="111" y="371"/>
                    <a:pt x="111" y="371"/>
                  </a:cubicBezTo>
                  <a:cubicBezTo>
                    <a:pt x="113" y="36"/>
                    <a:pt x="113" y="36"/>
                    <a:pt x="113" y="36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4" name="Freeform 46"/>
            <p:cNvSpPr/>
            <p:nvPr/>
          </p:nvSpPr>
          <p:spPr>
            <a:xfrm>
              <a:off x="7728480" y="2013840"/>
              <a:ext cx="171000" cy="13968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51" y="42"/>
                  </a:moveTo>
                  <a:cubicBezTo>
                    <a:pt x="51" y="42"/>
                    <a:pt x="51" y="41"/>
                    <a:pt x="51" y="41"/>
                  </a:cubicBezTo>
                  <a:cubicBezTo>
                    <a:pt x="51" y="40"/>
                    <a:pt x="51" y="39"/>
                    <a:pt x="51" y="39"/>
                  </a:cubicBezTo>
                  <a:cubicBezTo>
                    <a:pt x="48" y="25"/>
                    <a:pt x="42" y="12"/>
                    <a:pt x="34" y="0"/>
                  </a:cubicBezTo>
                  <a:cubicBezTo>
                    <a:pt x="23" y="0"/>
                    <a:pt x="11" y="1"/>
                    <a:pt x="0" y="1"/>
                  </a:cubicBezTo>
                  <a:cubicBezTo>
                    <a:pt x="1" y="11"/>
                    <a:pt x="1" y="20"/>
                    <a:pt x="2" y="28"/>
                  </a:cubicBezTo>
                  <a:cubicBezTo>
                    <a:pt x="2" y="28"/>
                    <a:pt x="34" y="16"/>
                    <a:pt x="51" y="42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5" name="Freeform 47"/>
            <p:cNvSpPr/>
            <p:nvPr/>
          </p:nvSpPr>
          <p:spPr>
            <a:xfrm>
              <a:off x="7738920" y="1407240"/>
              <a:ext cx="354960" cy="300600"/>
            </a:xfrm>
            <a:custGeom>
              <a:avLst/>
              <a:gdLst/>
              <a:ahLst/>
              <a:rect l="l" t="t" r="r" b="b"/>
              <a:pathLst>
                <a:path w="107" h="91">
                  <a:moveTo>
                    <a:pt x="1" y="0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0" y="49"/>
                    <a:pt x="52" y="90"/>
                    <a:pt x="105" y="91"/>
                  </a:cubicBezTo>
                  <a:cubicBezTo>
                    <a:pt x="107" y="48"/>
                    <a:pt x="107" y="48"/>
                    <a:pt x="107" y="48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6" name="Freeform 48"/>
            <p:cNvSpPr/>
            <p:nvPr/>
          </p:nvSpPr>
          <p:spPr>
            <a:xfrm>
              <a:off x="7562880" y="801000"/>
              <a:ext cx="2295360" cy="1858320"/>
            </a:xfrm>
            <a:custGeom>
              <a:avLst/>
              <a:gdLst/>
              <a:ahLst/>
              <a:rect l="l" t="t" r="r" b="b"/>
              <a:pathLst>
                <a:path w="690" h="559">
                  <a:moveTo>
                    <a:pt x="140" y="10"/>
                  </a:moveTo>
                  <a:cubicBezTo>
                    <a:pt x="140" y="10"/>
                    <a:pt x="155" y="81"/>
                    <a:pt x="246" y="70"/>
                  </a:cubicBezTo>
                  <a:cubicBezTo>
                    <a:pt x="336" y="59"/>
                    <a:pt x="367" y="0"/>
                    <a:pt x="440" y="4"/>
                  </a:cubicBezTo>
                  <a:cubicBezTo>
                    <a:pt x="513" y="8"/>
                    <a:pt x="565" y="57"/>
                    <a:pt x="565" y="104"/>
                  </a:cubicBezTo>
                  <a:cubicBezTo>
                    <a:pt x="565" y="104"/>
                    <a:pt x="646" y="79"/>
                    <a:pt x="674" y="155"/>
                  </a:cubicBezTo>
                  <a:cubicBezTo>
                    <a:pt x="690" y="201"/>
                    <a:pt x="662" y="277"/>
                    <a:pt x="630" y="408"/>
                  </a:cubicBezTo>
                  <a:cubicBezTo>
                    <a:pt x="630" y="409"/>
                    <a:pt x="605" y="388"/>
                    <a:pt x="575" y="418"/>
                  </a:cubicBezTo>
                  <a:cubicBezTo>
                    <a:pt x="558" y="435"/>
                    <a:pt x="566" y="550"/>
                    <a:pt x="566" y="550"/>
                  </a:cubicBezTo>
                  <a:cubicBezTo>
                    <a:pt x="566" y="550"/>
                    <a:pt x="562" y="559"/>
                    <a:pt x="542" y="559"/>
                  </a:cubicBezTo>
                  <a:cubicBezTo>
                    <a:pt x="523" y="559"/>
                    <a:pt x="522" y="550"/>
                    <a:pt x="522" y="550"/>
                  </a:cubicBezTo>
                  <a:cubicBezTo>
                    <a:pt x="522" y="550"/>
                    <a:pt x="522" y="415"/>
                    <a:pt x="524" y="303"/>
                  </a:cubicBezTo>
                  <a:cubicBezTo>
                    <a:pt x="526" y="257"/>
                    <a:pt x="514" y="222"/>
                    <a:pt x="507" y="208"/>
                  </a:cubicBezTo>
                  <a:cubicBezTo>
                    <a:pt x="507" y="208"/>
                    <a:pt x="368" y="308"/>
                    <a:pt x="197" y="270"/>
                  </a:cubicBezTo>
                  <a:cubicBezTo>
                    <a:pt x="26" y="232"/>
                    <a:pt x="10" y="125"/>
                    <a:pt x="0" y="48"/>
                  </a:cubicBezTo>
                  <a:cubicBezTo>
                    <a:pt x="0" y="48"/>
                    <a:pt x="27" y="72"/>
                    <a:pt x="68" y="87"/>
                  </a:cubicBezTo>
                  <a:cubicBezTo>
                    <a:pt x="68" y="87"/>
                    <a:pt x="54" y="38"/>
                    <a:pt x="84" y="13"/>
                  </a:cubicBezTo>
                  <a:cubicBezTo>
                    <a:pt x="84" y="13"/>
                    <a:pt x="90" y="49"/>
                    <a:pt x="114" y="64"/>
                  </a:cubicBezTo>
                  <a:cubicBezTo>
                    <a:pt x="114" y="64"/>
                    <a:pt x="102" y="35"/>
                    <a:pt x="140" y="1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7" name="Freeform 49"/>
            <p:cNvSpPr/>
            <p:nvPr/>
          </p:nvSpPr>
          <p:spPr>
            <a:xfrm>
              <a:off x="9446400" y="2021760"/>
              <a:ext cx="248400" cy="204480"/>
            </a:xfrm>
            <a:custGeom>
              <a:avLst/>
              <a:gdLst/>
              <a:ahLst/>
              <a:rect l="l" t="t" r="r" b="b"/>
              <a:pathLst>
                <a:path w="75" h="62">
                  <a:moveTo>
                    <a:pt x="30" y="7"/>
                  </a:moveTo>
                  <a:cubicBezTo>
                    <a:pt x="12" y="32"/>
                    <a:pt x="0" y="59"/>
                    <a:pt x="3" y="62"/>
                  </a:cubicBezTo>
                  <a:cubicBezTo>
                    <a:pt x="3" y="62"/>
                    <a:pt x="4" y="62"/>
                    <a:pt x="4" y="62"/>
                  </a:cubicBezTo>
                  <a:cubicBezTo>
                    <a:pt x="5" y="57"/>
                    <a:pt x="7" y="53"/>
                    <a:pt x="9" y="51"/>
                  </a:cubicBezTo>
                  <a:cubicBezTo>
                    <a:pt x="39" y="21"/>
                    <a:pt x="64" y="42"/>
                    <a:pt x="64" y="41"/>
                  </a:cubicBezTo>
                  <a:cubicBezTo>
                    <a:pt x="65" y="38"/>
                    <a:pt x="66" y="34"/>
                    <a:pt x="67" y="30"/>
                  </a:cubicBezTo>
                  <a:cubicBezTo>
                    <a:pt x="68" y="28"/>
                    <a:pt x="68" y="27"/>
                    <a:pt x="68" y="25"/>
                  </a:cubicBezTo>
                  <a:cubicBezTo>
                    <a:pt x="69" y="23"/>
                    <a:pt x="69" y="21"/>
                    <a:pt x="70" y="19"/>
                  </a:cubicBezTo>
                  <a:cubicBezTo>
                    <a:pt x="71" y="17"/>
                    <a:pt x="71" y="14"/>
                    <a:pt x="72" y="12"/>
                  </a:cubicBezTo>
                  <a:cubicBezTo>
                    <a:pt x="72" y="11"/>
                    <a:pt x="72" y="10"/>
                    <a:pt x="72" y="10"/>
                  </a:cubicBezTo>
                  <a:cubicBezTo>
                    <a:pt x="73" y="6"/>
                    <a:pt x="74" y="3"/>
                    <a:pt x="75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60" y="1"/>
                    <a:pt x="45" y="3"/>
                    <a:pt x="30" y="7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8" name="Freeform 50"/>
            <p:cNvSpPr/>
            <p:nvPr/>
          </p:nvSpPr>
          <p:spPr>
            <a:xfrm>
              <a:off x="8070480" y="1780560"/>
              <a:ext cx="222480" cy="22284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28"/>
                  </a:moveTo>
                  <a:cubicBezTo>
                    <a:pt x="67" y="28"/>
                    <a:pt x="55" y="0"/>
                    <a:pt x="33" y="3"/>
                  </a:cubicBezTo>
                  <a:cubicBezTo>
                    <a:pt x="11" y="6"/>
                    <a:pt x="1" y="41"/>
                    <a:pt x="1" y="41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7"/>
                    <a:pt x="29" y="24"/>
                    <a:pt x="67" y="28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9" name="Freeform 51"/>
            <p:cNvSpPr/>
            <p:nvPr/>
          </p:nvSpPr>
          <p:spPr>
            <a:xfrm>
              <a:off x="9050040" y="1827360"/>
              <a:ext cx="217440" cy="2253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20" y="0"/>
                  </a:moveTo>
                  <a:cubicBezTo>
                    <a:pt x="20" y="0"/>
                    <a:pt x="0" y="18"/>
                    <a:pt x="1" y="36"/>
                  </a:cubicBezTo>
                  <a:cubicBezTo>
                    <a:pt x="1" y="36"/>
                    <a:pt x="33" y="33"/>
                    <a:pt x="49" y="68"/>
                  </a:cubicBezTo>
                  <a:cubicBezTo>
                    <a:pt x="49" y="68"/>
                    <a:pt x="66" y="61"/>
                    <a:pt x="63" y="48"/>
                  </a:cubicBezTo>
                  <a:cubicBezTo>
                    <a:pt x="60" y="35"/>
                    <a:pt x="46" y="1"/>
                    <a:pt x="20" y="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0" name="Freeform 52"/>
            <p:cNvSpPr/>
            <p:nvPr/>
          </p:nvSpPr>
          <p:spPr>
            <a:xfrm>
              <a:off x="8169120" y="2071080"/>
              <a:ext cx="232920" cy="2304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69" y="37"/>
                  </a:moveTo>
                  <a:cubicBezTo>
                    <a:pt x="68" y="55"/>
                    <a:pt x="52" y="70"/>
                    <a:pt x="33" y="69"/>
                  </a:cubicBezTo>
                  <a:cubicBezTo>
                    <a:pt x="15" y="68"/>
                    <a:pt x="0" y="52"/>
                    <a:pt x="1" y="33"/>
                  </a:cubicBezTo>
                  <a:cubicBezTo>
                    <a:pt x="2" y="14"/>
                    <a:pt x="18" y="0"/>
                    <a:pt x="37" y="1"/>
                  </a:cubicBezTo>
                  <a:cubicBezTo>
                    <a:pt x="56" y="2"/>
                    <a:pt x="70" y="18"/>
                    <a:pt x="69" y="37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1" name="Freeform 53"/>
            <p:cNvSpPr/>
            <p:nvPr/>
          </p:nvSpPr>
          <p:spPr>
            <a:xfrm>
              <a:off x="8238960" y="2086560"/>
              <a:ext cx="124200" cy="10080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35" y="21"/>
                  </a:moveTo>
                  <a:cubicBezTo>
                    <a:pt x="32" y="28"/>
                    <a:pt x="23" y="30"/>
                    <a:pt x="14" y="26"/>
                  </a:cubicBezTo>
                  <a:cubicBezTo>
                    <a:pt x="5" y="22"/>
                    <a:pt x="0" y="14"/>
                    <a:pt x="3" y="8"/>
                  </a:cubicBezTo>
                  <a:cubicBezTo>
                    <a:pt x="6" y="2"/>
                    <a:pt x="15" y="0"/>
                    <a:pt x="24" y="3"/>
                  </a:cubicBezTo>
                  <a:cubicBezTo>
                    <a:pt x="33" y="7"/>
                    <a:pt x="38" y="15"/>
                    <a:pt x="35" y="2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2" name="Freeform 54"/>
            <p:cNvSpPr/>
            <p:nvPr/>
          </p:nvSpPr>
          <p:spPr>
            <a:xfrm>
              <a:off x="8977320" y="2071080"/>
              <a:ext cx="230400" cy="2304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69" y="37"/>
                  </a:moveTo>
                  <a:cubicBezTo>
                    <a:pt x="68" y="55"/>
                    <a:pt x="52" y="70"/>
                    <a:pt x="33" y="69"/>
                  </a:cubicBezTo>
                  <a:cubicBezTo>
                    <a:pt x="14" y="68"/>
                    <a:pt x="0" y="52"/>
                    <a:pt x="1" y="33"/>
                  </a:cubicBezTo>
                  <a:cubicBezTo>
                    <a:pt x="2" y="14"/>
                    <a:pt x="18" y="0"/>
                    <a:pt x="37" y="1"/>
                  </a:cubicBezTo>
                  <a:cubicBezTo>
                    <a:pt x="56" y="2"/>
                    <a:pt x="70" y="18"/>
                    <a:pt x="69" y="37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3" name="Freeform 55"/>
            <p:cNvSpPr/>
            <p:nvPr/>
          </p:nvSpPr>
          <p:spPr>
            <a:xfrm>
              <a:off x="9047520" y="2086560"/>
              <a:ext cx="121680" cy="10080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5" y="21"/>
                  </a:moveTo>
                  <a:cubicBezTo>
                    <a:pt x="32" y="28"/>
                    <a:pt x="23" y="30"/>
                    <a:pt x="14" y="26"/>
                  </a:cubicBezTo>
                  <a:cubicBezTo>
                    <a:pt x="5" y="22"/>
                    <a:pt x="0" y="14"/>
                    <a:pt x="3" y="8"/>
                  </a:cubicBezTo>
                  <a:cubicBezTo>
                    <a:pt x="5" y="2"/>
                    <a:pt x="15" y="0"/>
                    <a:pt x="24" y="3"/>
                  </a:cubicBezTo>
                  <a:cubicBezTo>
                    <a:pt x="32" y="7"/>
                    <a:pt x="37" y="15"/>
                    <a:pt x="35" y="21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4" name="Freeform 56"/>
            <p:cNvSpPr/>
            <p:nvPr/>
          </p:nvSpPr>
          <p:spPr>
            <a:xfrm>
              <a:off x="8404920" y="2234160"/>
              <a:ext cx="613800" cy="68940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49" y="22"/>
                  </a:moveTo>
                  <a:cubicBezTo>
                    <a:pt x="49" y="22"/>
                    <a:pt x="0" y="126"/>
                    <a:pt x="46" y="167"/>
                  </a:cubicBezTo>
                  <a:cubicBezTo>
                    <a:pt x="93" y="208"/>
                    <a:pt x="155" y="186"/>
                    <a:pt x="166" y="157"/>
                  </a:cubicBezTo>
                  <a:cubicBezTo>
                    <a:pt x="185" y="107"/>
                    <a:pt x="142" y="90"/>
                    <a:pt x="135" y="20"/>
                  </a:cubicBezTo>
                  <a:cubicBezTo>
                    <a:pt x="135" y="20"/>
                    <a:pt x="122" y="2"/>
                    <a:pt x="95" y="1"/>
                  </a:cubicBezTo>
                  <a:cubicBezTo>
                    <a:pt x="68" y="0"/>
                    <a:pt x="49" y="22"/>
                    <a:pt x="49" y="2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5" name="Freeform 57"/>
            <p:cNvSpPr/>
            <p:nvPr/>
          </p:nvSpPr>
          <p:spPr>
            <a:xfrm>
              <a:off x="8433360" y="2224080"/>
              <a:ext cx="549000" cy="609120"/>
            </a:xfrm>
            <a:custGeom>
              <a:avLst/>
              <a:gdLst/>
              <a:ahLst/>
              <a:rect l="l" t="t" r="r" b="b"/>
              <a:pathLst>
                <a:path w="165" h="184">
                  <a:moveTo>
                    <a:pt x="44" y="21"/>
                  </a:moveTo>
                  <a:cubicBezTo>
                    <a:pt x="44" y="21"/>
                    <a:pt x="0" y="109"/>
                    <a:pt x="42" y="146"/>
                  </a:cubicBezTo>
                  <a:cubicBezTo>
                    <a:pt x="83" y="184"/>
                    <a:pt x="139" y="164"/>
                    <a:pt x="148" y="137"/>
                  </a:cubicBezTo>
                  <a:cubicBezTo>
                    <a:pt x="165" y="91"/>
                    <a:pt x="128" y="80"/>
                    <a:pt x="122" y="16"/>
                  </a:cubicBezTo>
                  <a:cubicBezTo>
                    <a:pt x="122" y="16"/>
                    <a:pt x="109" y="2"/>
                    <a:pt x="85" y="1"/>
                  </a:cubicBezTo>
                  <a:cubicBezTo>
                    <a:pt x="61" y="0"/>
                    <a:pt x="44" y="21"/>
                    <a:pt x="44" y="21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6" name="Freeform 58"/>
            <p:cNvSpPr/>
            <p:nvPr/>
          </p:nvSpPr>
          <p:spPr>
            <a:xfrm>
              <a:off x="8427960" y="2801880"/>
              <a:ext cx="743400" cy="404280"/>
            </a:xfrm>
            <a:custGeom>
              <a:avLst/>
              <a:gdLst/>
              <a:ahLst/>
              <a:rect l="l" t="t" r="r" b="b"/>
              <a:pathLst>
                <a:path w="224" h="122">
                  <a:moveTo>
                    <a:pt x="0" y="52"/>
                  </a:moveTo>
                  <a:cubicBezTo>
                    <a:pt x="0" y="52"/>
                    <a:pt x="136" y="111"/>
                    <a:pt x="217" y="1"/>
                  </a:cubicBezTo>
                  <a:cubicBezTo>
                    <a:pt x="217" y="1"/>
                    <a:pt x="220" y="0"/>
                    <a:pt x="222" y="2"/>
                  </a:cubicBezTo>
                  <a:cubicBezTo>
                    <a:pt x="224" y="3"/>
                    <a:pt x="223" y="5"/>
                    <a:pt x="223" y="5"/>
                  </a:cubicBezTo>
                  <a:cubicBezTo>
                    <a:pt x="223" y="5"/>
                    <a:pt x="145" y="122"/>
                    <a:pt x="0" y="52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7" name="Freeform 59"/>
            <p:cNvSpPr/>
            <p:nvPr/>
          </p:nvSpPr>
          <p:spPr>
            <a:xfrm>
              <a:off x="9088920" y="2682720"/>
              <a:ext cx="139680" cy="11916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" y="19"/>
                  </a:moveTo>
                  <a:cubicBezTo>
                    <a:pt x="1" y="19"/>
                    <a:pt x="25" y="7"/>
                    <a:pt x="32" y="33"/>
                  </a:cubicBezTo>
                  <a:cubicBezTo>
                    <a:pt x="32" y="33"/>
                    <a:pt x="34" y="36"/>
                    <a:pt x="38" y="36"/>
                  </a:cubicBezTo>
                  <a:cubicBezTo>
                    <a:pt x="42" y="36"/>
                    <a:pt x="42" y="33"/>
                    <a:pt x="42" y="33"/>
                  </a:cubicBezTo>
                  <a:cubicBezTo>
                    <a:pt x="42" y="33"/>
                    <a:pt x="38" y="0"/>
                    <a:pt x="4" y="14"/>
                  </a:cubicBezTo>
                  <a:cubicBezTo>
                    <a:pt x="3" y="15"/>
                    <a:pt x="2" y="15"/>
                    <a:pt x="1" y="16"/>
                  </a:cubicBezTo>
                  <a:cubicBezTo>
                    <a:pt x="0" y="17"/>
                    <a:pt x="1" y="19"/>
                    <a:pt x="1" y="19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8" name="Freeform 60"/>
            <p:cNvSpPr/>
            <p:nvPr/>
          </p:nvSpPr>
          <p:spPr>
            <a:xfrm>
              <a:off x="9477360" y="2317320"/>
              <a:ext cx="292680" cy="25380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10" y="77"/>
                  </a:moveTo>
                  <a:cubicBezTo>
                    <a:pt x="0" y="71"/>
                    <a:pt x="0" y="71"/>
                    <a:pt x="0" y="71"/>
                  </a:cubicBezTo>
                  <a:cubicBezTo>
                    <a:pt x="0" y="71"/>
                    <a:pt x="71" y="48"/>
                    <a:pt x="72" y="0"/>
                  </a:cubicBezTo>
                  <a:cubicBezTo>
                    <a:pt x="72" y="0"/>
                    <a:pt x="88" y="53"/>
                    <a:pt x="10" y="77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9" name="Freeform 61"/>
            <p:cNvSpPr/>
            <p:nvPr/>
          </p:nvSpPr>
          <p:spPr>
            <a:xfrm>
              <a:off x="7676640" y="2159280"/>
              <a:ext cx="222480" cy="2692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55" y="79"/>
                  </a:moveTo>
                  <a:cubicBezTo>
                    <a:pt x="55" y="79"/>
                    <a:pt x="67" y="0"/>
                    <a:pt x="25" y="15"/>
                  </a:cubicBezTo>
                  <a:cubicBezTo>
                    <a:pt x="0" y="24"/>
                    <a:pt x="4" y="50"/>
                    <a:pt x="20" y="65"/>
                  </a:cubicBezTo>
                  <a:cubicBezTo>
                    <a:pt x="30" y="75"/>
                    <a:pt x="44" y="81"/>
                    <a:pt x="55" y="7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0" name="Freeform 62"/>
            <p:cNvSpPr/>
            <p:nvPr/>
          </p:nvSpPr>
          <p:spPr>
            <a:xfrm>
              <a:off x="7679160" y="2224080"/>
              <a:ext cx="186480" cy="20448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54" y="59"/>
                  </a:moveTo>
                  <a:cubicBezTo>
                    <a:pt x="56" y="39"/>
                    <a:pt x="56" y="39"/>
                    <a:pt x="56" y="39"/>
                  </a:cubicBezTo>
                  <a:cubicBezTo>
                    <a:pt x="56" y="39"/>
                    <a:pt x="0" y="0"/>
                    <a:pt x="9" y="31"/>
                  </a:cubicBezTo>
                  <a:cubicBezTo>
                    <a:pt x="18" y="62"/>
                    <a:pt x="54" y="59"/>
                    <a:pt x="54" y="59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1" name="Freeform 63"/>
            <p:cNvSpPr/>
            <p:nvPr/>
          </p:nvSpPr>
          <p:spPr>
            <a:xfrm>
              <a:off x="8098920" y="2288880"/>
              <a:ext cx="64440" cy="2844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5"/>
                  </a:moveTo>
                  <a:cubicBezTo>
                    <a:pt x="19" y="7"/>
                    <a:pt x="18" y="8"/>
                    <a:pt x="16" y="8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7"/>
                    <a:pt x="0" y="6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8" y="1"/>
                    <a:pt x="20" y="3"/>
                    <a:pt x="20" y="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2" name="Freeform 64"/>
            <p:cNvSpPr/>
            <p:nvPr/>
          </p:nvSpPr>
          <p:spPr>
            <a:xfrm>
              <a:off x="9241560" y="2306880"/>
              <a:ext cx="56880" cy="180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4"/>
                  </a:moveTo>
                  <a:cubicBezTo>
                    <a:pt x="16" y="5"/>
                    <a:pt x="15" y="6"/>
                    <a:pt x="1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5" y="0"/>
                    <a:pt x="17" y="2"/>
                    <a:pt x="16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3" name="Freeform 65"/>
            <p:cNvSpPr/>
            <p:nvPr/>
          </p:nvSpPr>
          <p:spPr>
            <a:xfrm>
              <a:off x="8713080" y="3089880"/>
              <a:ext cx="160560" cy="54360"/>
            </a:xfrm>
            <a:custGeom>
              <a:avLst/>
              <a:gdLst/>
              <a:ahLst/>
              <a:rect l="l" t="t" r="r" b="b"/>
              <a:pathLst>
                <a:path w="48" h="16">
                  <a:moveTo>
                    <a:pt x="48" y="10"/>
                  </a:moveTo>
                  <a:cubicBezTo>
                    <a:pt x="48" y="14"/>
                    <a:pt x="37" y="16"/>
                    <a:pt x="24" y="16"/>
                  </a:cubicBezTo>
                  <a:cubicBezTo>
                    <a:pt x="10" y="15"/>
                    <a:pt x="0" y="11"/>
                    <a:pt x="0" y="7"/>
                  </a:cubicBezTo>
                  <a:cubicBezTo>
                    <a:pt x="0" y="3"/>
                    <a:pt x="11" y="0"/>
                    <a:pt x="24" y="1"/>
                  </a:cubicBezTo>
                  <a:cubicBezTo>
                    <a:pt x="38" y="1"/>
                    <a:pt x="48" y="5"/>
                    <a:pt x="48" y="10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4" name="Freeform 66"/>
            <p:cNvSpPr/>
            <p:nvPr/>
          </p:nvSpPr>
          <p:spPr>
            <a:xfrm>
              <a:off x="9371160" y="1199880"/>
              <a:ext cx="370440" cy="567360"/>
            </a:xfrm>
            <a:custGeom>
              <a:avLst/>
              <a:gdLst/>
              <a:ahLst/>
              <a:rect l="l" t="t" r="r" b="b"/>
              <a:pathLst>
                <a:path w="111" h="171">
                  <a:moveTo>
                    <a:pt x="0" y="90"/>
                  </a:moveTo>
                  <a:cubicBezTo>
                    <a:pt x="17" y="106"/>
                    <a:pt x="18" y="132"/>
                    <a:pt x="18" y="154"/>
                  </a:cubicBezTo>
                  <a:cubicBezTo>
                    <a:pt x="18" y="160"/>
                    <a:pt x="18" y="165"/>
                    <a:pt x="18" y="171"/>
                  </a:cubicBezTo>
                  <a:cubicBezTo>
                    <a:pt x="42" y="155"/>
                    <a:pt x="103" y="94"/>
                    <a:pt x="108" y="69"/>
                  </a:cubicBezTo>
                  <a:cubicBezTo>
                    <a:pt x="111" y="55"/>
                    <a:pt x="103" y="43"/>
                    <a:pt x="99" y="30"/>
                  </a:cubicBezTo>
                  <a:cubicBezTo>
                    <a:pt x="96" y="20"/>
                    <a:pt x="74" y="0"/>
                    <a:pt x="42" y="20"/>
                  </a:cubicBezTo>
                  <a:cubicBezTo>
                    <a:pt x="36" y="33"/>
                    <a:pt x="33" y="46"/>
                    <a:pt x="27" y="59"/>
                  </a:cubicBezTo>
                  <a:cubicBezTo>
                    <a:pt x="24" y="65"/>
                    <a:pt x="21" y="71"/>
                    <a:pt x="17" y="76"/>
                  </a:cubicBezTo>
                  <a:cubicBezTo>
                    <a:pt x="12" y="82"/>
                    <a:pt x="5" y="85"/>
                    <a:pt x="0" y="90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5" name="Freeform 67"/>
            <p:cNvSpPr/>
            <p:nvPr/>
          </p:nvSpPr>
          <p:spPr>
            <a:xfrm>
              <a:off x="9184680" y="1166400"/>
              <a:ext cx="256320" cy="31356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77" y="5"/>
                  </a:moveTo>
                  <a:cubicBezTo>
                    <a:pt x="60" y="0"/>
                    <a:pt x="17" y="83"/>
                    <a:pt x="0" y="94"/>
                  </a:cubicBezTo>
                  <a:cubicBezTo>
                    <a:pt x="35" y="87"/>
                    <a:pt x="70" y="41"/>
                    <a:pt x="76" y="8"/>
                  </a:cubicBezTo>
                  <a:lnTo>
                    <a:pt x="77" y="5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6" name="Freeform 68"/>
            <p:cNvSpPr/>
            <p:nvPr/>
          </p:nvSpPr>
          <p:spPr>
            <a:xfrm>
              <a:off x="8744400" y="873360"/>
              <a:ext cx="528480" cy="126720"/>
            </a:xfrm>
            <a:custGeom>
              <a:avLst/>
              <a:gdLst/>
              <a:ahLst/>
              <a:rect l="l" t="t" r="r" b="b"/>
              <a:pathLst>
                <a:path w="159" h="38">
                  <a:moveTo>
                    <a:pt x="0" y="37"/>
                  </a:moveTo>
                  <a:cubicBezTo>
                    <a:pt x="21" y="28"/>
                    <a:pt x="39" y="12"/>
                    <a:pt x="61" y="4"/>
                  </a:cubicBezTo>
                  <a:cubicBezTo>
                    <a:pt x="68" y="2"/>
                    <a:pt x="74" y="1"/>
                    <a:pt x="81" y="1"/>
                  </a:cubicBezTo>
                  <a:cubicBezTo>
                    <a:pt x="100" y="0"/>
                    <a:pt x="116" y="3"/>
                    <a:pt x="132" y="13"/>
                  </a:cubicBezTo>
                  <a:cubicBezTo>
                    <a:pt x="141" y="18"/>
                    <a:pt x="155" y="27"/>
                    <a:pt x="159" y="36"/>
                  </a:cubicBezTo>
                  <a:cubicBezTo>
                    <a:pt x="158" y="35"/>
                    <a:pt x="130" y="35"/>
                    <a:pt x="127" y="35"/>
                  </a:cubicBezTo>
                  <a:cubicBezTo>
                    <a:pt x="116" y="34"/>
                    <a:pt x="106" y="33"/>
                    <a:pt x="95" y="31"/>
                  </a:cubicBezTo>
                  <a:cubicBezTo>
                    <a:pt x="75" y="29"/>
                    <a:pt x="54" y="27"/>
                    <a:pt x="33" y="30"/>
                  </a:cubicBezTo>
                  <a:cubicBezTo>
                    <a:pt x="22" y="31"/>
                    <a:pt x="11" y="38"/>
                    <a:pt x="0" y="37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7" name="Freeform 69"/>
            <p:cNvSpPr/>
            <p:nvPr/>
          </p:nvSpPr>
          <p:spPr>
            <a:xfrm>
              <a:off x="7793280" y="984960"/>
              <a:ext cx="227880" cy="28224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1" y="0"/>
                  </a:moveTo>
                  <a:cubicBezTo>
                    <a:pt x="0" y="7"/>
                    <a:pt x="3" y="15"/>
                    <a:pt x="4" y="21"/>
                  </a:cubicBezTo>
                  <a:cubicBezTo>
                    <a:pt x="6" y="28"/>
                    <a:pt x="9" y="35"/>
                    <a:pt x="13" y="41"/>
                  </a:cubicBezTo>
                  <a:cubicBezTo>
                    <a:pt x="19" y="52"/>
                    <a:pt x="27" y="62"/>
                    <a:pt x="38" y="68"/>
                  </a:cubicBezTo>
                  <a:cubicBezTo>
                    <a:pt x="47" y="74"/>
                    <a:pt x="58" y="84"/>
                    <a:pt x="69" y="85"/>
                  </a:cubicBezTo>
                  <a:cubicBezTo>
                    <a:pt x="44" y="73"/>
                    <a:pt x="28" y="55"/>
                    <a:pt x="16" y="30"/>
                  </a:cubicBezTo>
                  <a:cubicBezTo>
                    <a:pt x="13" y="25"/>
                    <a:pt x="12" y="19"/>
                    <a:pt x="10" y="14"/>
                  </a:cubicBezTo>
                  <a:cubicBezTo>
                    <a:pt x="8" y="10"/>
                    <a:pt x="6" y="3"/>
                    <a:pt x="1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8" name="Freeform 70"/>
            <p:cNvSpPr/>
            <p:nvPr/>
          </p:nvSpPr>
          <p:spPr>
            <a:xfrm>
              <a:off x="7969680" y="972000"/>
              <a:ext cx="201960" cy="212400"/>
            </a:xfrm>
            <a:custGeom>
              <a:avLst/>
              <a:gdLst/>
              <a:ahLst/>
              <a:rect l="l" t="t" r="r" b="b"/>
              <a:pathLst>
                <a:path w="61" h="64">
                  <a:moveTo>
                    <a:pt x="51" y="57"/>
                  </a:moveTo>
                  <a:cubicBezTo>
                    <a:pt x="40" y="50"/>
                    <a:pt x="27" y="39"/>
                    <a:pt x="20" y="28"/>
                  </a:cubicBezTo>
                  <a:cubicBezTo>
                    <a:pt x="14" y="17"/>
                    <a:pt x="9" y="9"/>
                    <a:pt x="0" y="0"/>
                  </a:cubicBezTo>
                  <a:cubicBezTo>
                    <a:pt x="2" y="12"/>
                    <a:pt x="8" y="30"/>
                    <a:pt x="15" y="39"/>
                  </a:cubicBezTo>
                  <a:cubicBezTo>
                    <a:pt x="24" y="52"/>
                    <a:pt x="45" y="61"/>
                    <a:pt x="61" y="64"/>
                  </a:cubicBezTo>
                  <a:cubicBezTo>
                    <a:pt x="61" y="63"/>
                    <a:pt x="60" y="63"/>
                    <a:pt x="60" y="63"/>
                  </a:cubicBezTo>
                  <a:cubicBezTo>
                    <a:pt x="57" y="62"/>
                    <a:pt x="54" y="60"/>
                    <a:pt x="51" y="57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9" name="Oval 71"/>
            <p:cNvSpPr/>
            <p:nvPr/>
          </p:nvSpPr>
          <p:spPr>
            <a:xfrm>
              <a:off x="8702640" y="2682720"/>
              <a:ext cx="90360" cy="36000"/>
            </a:xfrm>
            <a:prstGeom prst="ellipse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0" name="Freeform 72"/>
            <p:cNvSpPr/>
            <p:nvPr/>
          </p:nvSpPr>
          <p:spPr>
            <a:xfrm>
              <a:off x="9459360" y="2200680"/>
              <a:ext cx="222480" cy="269280"/>
            </a:xfrm>
            <a:custGeom>
              <a:avLst/>
              <a:gdLst/>
              <a:ahLst/>
              <a:rect l="l" t="t" r="r" b="b"/>
              <a:pathLst>
                <a:path w="67" h="81">
                  <a:moveTo>
                    <a:pt x="12" y="79"/>
                  </a:moveTo>
                  <a:cubicBezTo>
                    <a:pt x="12" y="79"/>
                    <a:pt x="0" y="0"/>
                    <a:pt x="41" y="15"/>
                  </a:cubicBezTo>
                  <a:cubicBezTo>
                    <a:pt x="67" y="24"/>
                    <a:pt x="62" y="50"/>
                    <a:pt x="47" y="65"/>
                  </a:cubicBezTo>
                  <a:cubicBezTo>
                    <a:pt x="37" y="75"/>
                    <a:pt x="22" y="81"/>
                    <a:pt x="12" y="79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1" name="Freeform 73"/>
            <p:cNvSpPr/>
            <p:nvPr/>
          </p:nvSpPr>
          <p:spPr>
            <a:xfrm>
              <a:off x="9490320" y="2262960"/>
              <a:ext cx="186480" cy="207360"/>
            </a:xfrm>
            <a:custGeom>
              <a:avLst/>
              <a:gdLst/>
              <a:ahLst/>
              <a:rect l="l" t="t" r="r" b="b"/>
              <a:pathLst>
                <a:path w="56" h="62">
                  <a:moveTo>
                    <a:pt x="2" y="59"/>
                  </a:moveTo>
                  <a:cubicBezTo>
                    <a:pt x="0" y="39"/>
                    <a:pt x="0" y="39"/>
                    <a:pt x="0" y="39"/>
                  </a:cubicBezTo>
                  <a:cubicBezTo>
                    <a:pt x="0" y="39"/>
                    <a:pt x="56" y="0"/>
                    <a:pt x="47" y="31"/>
                  </a:cubicBezTo>
                  <a:cubicBezTo>
                    <a:pt x="38" y="62"/>
                    <a:pt x="2" y="59"/>
                    <a:pt x="2" y="59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2" name="Freeform 74"/>
            <p:cNvSpPr/>
            <p:nvPr/>
          </p:nvSpPr>
          <p:spPr>
            <a:xfrm>
              <a:off x="8993160" y="3475800"/>
              <a:ext cx="126720" cy="17856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5"/>
                  </a:moveTo>
                  <a:lnTo>
                    <a:pt x="46" y="0"/>
                  </a:lnTo>
                  <a:lnTo>
                    <a:pt x="49" y="50"/>
                  </a:lnTo>
                  <a:lnTo>
                    <a:pt x="35" y="69"/>
                  </a:lnTo>
                  <a:lnTo>
                    <a:pt x="12" y="5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dd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3" name="Freeform 75"/>
            <p:cNvSpPr/>
            <p:nvPr/>
          </p:nvSpPr>
          <p:spPr>
            <a:xfrm>
              <a:off x="9003240" y="3475800"/>
              <a:ext cx="108720" cy="15804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0" y="6"/>
                  </a:moveTo>
                  <a:lnTo>
                    <a:pt x="42" y="0"/>
                  </a:lnTo>
                  <a:lnTo>
                    <a:pt x="42" y="47"/>
                  </a:lnTo>
                  <a:lnTo>
                    <a:pt x="31" y="61"/>
                  </a:lnTo>
                  <a:lnTo>
                    <a:pt x="9" y="5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4" name="Freeform 76"/>
            <p:cNvSpPr/>
            <p:nvPr/>
          </p:nvSpPr>
          <p:spPr>
            <a:xfrm>
              <a:off x="9006120" y="3478680"/>
              <a:ext cx="103320" cy="1450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6"/>
                  </a:moveTo>
                  <a:lnTo>
                    <a:pt x="40" y="0"/>
                  </a:lnTo>
                  <a:lnTo>
                    <a:pt x="40" y="44"/>
                  </a:lnTo>
                  <a:lnTo>
                    <a:pt x="28" y="56"/>
                  </a:lnTo>
                  <a:lnTo>
                    <a:pt x="9" y="5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5" name="组合 9"/>
          <p:cNvGrpSpPr/>
          <p:nvPr/>
        </p:nvGrpSpPr>
        <p:grpSpPr>
          <a:xfrm>
            <a:off x="7578000" y="770040"/>
            <a:ext cx="2713680" cy="5054400"/>
            <a:chOff x="7578000" y="770040"/>
            <a:chExt cx="2713680" cy="5054400"/>
          </a:xfrm>
        </p:grpSpPr>
        <p:grpSp>
          <p:nvGrpSpPr>
            <p:cNvPr id="3486" name="组合 172"/>
            <p:cNvGrpSpPr/>
            <p:nvPr/>
          </p:nvGrpSpPr>
          <p:grpSpPr>
            <a:xfrm>
              <a:off x="8749800" y="1641240"/>
              <a:ext cx="1541880" cy="2032200"/>
              <a:chOff x="8749800" y="1641240"/>
              <a:chExt cx="1541880" cy="2032200"/>
            </a:xfrm>
          </p:grpSpPr>
          <p:grpSp>
            <p:nvGrpSpPr>
              <p:cNvPr id="3487" name="组合 173"/>
              <p:cNvGrpSpPr/>
              <p:nvPr/>
            </p:nvGrpSpPr>
            <p:grpSpPr>
              <a:xfrm>
                <a:off x="8749800" y="1641240"/>
                <a:ext cx="1541880" cy="2032200"/>
                <a:chOff x="8749800" y="1641240"/>
                <a:chExt cx="1541880" cy="2032200"/>
              </a:xfrm>
            </p:grpSpPr>
            <p:sp>
              <p:nvSpPr>
                <p:cNvPr id="3488" name="Freeform 7"/>
                <p:cNvSpPr/>
                <p:nvPr/>
              </p:nvSpPr>
              <p:spPr>
                <a:xfrm>
                  <a:off x="9775080" y="1641240"/>
                  <a:ext cx="516600" cy="72000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9" name="Freeform 8"/>
                <p:cNvSpPr/>
                <p:nvPr/>
              </p:nvSpPr>
              <p:spPr>
                <a:xfrm>
                  <a:off x="9775080" y="1842840"/>
                  <a:ext cx="203760" cy="51336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0" name="Freeform 9"/>
                <p:cNvSpPr/>
                <p:nvPr/>
              </p:nvSpPr>
              <p:spPr>
                <a:xfrm>
                  <a:off x="9775080" y="1641240"/>
                  <a:ext cx="488160" cy="72000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1" name="Freeform 10"/>
                <p:cNvSpPr/>
                <p:nvPr/>
              </p:nvSpPr>
              <p:spPr>
                <a:xfrm>
                  <a:off x="8749800" y="2243520"/>
                  <a:ext cx="1219320" cy="140112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2" name="Freeform 11"/>
                <p:cNvSpPr/>
                <p:nvPr/>
              </p:nvSpPr>
              <p:spPr>
                <a:xfrm>
                  <a:off x="8749800" y="2340360"/>
                  <a:ext cx="1208880" cy="133308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3" name="Freeform 12"/>
                <p:cNvSpPr/>
                <p:nvPr/>
              </p:nvSpPr>
              <p:spPr>
                <a:xfrm>
                  <a:off x="9757080" y="2206800"/>
                  <a:ext cx="232200" cy="22248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94" name="Freeform 13"/>
                <p:cNvSpPr/>
                <p:nvPr/>
              </p:nvSpPr>
              <p:spPr>
                <a:xfrm>
                  <a:off x="9736560" y="2143800"/>
                  <a:ext cx="268560" cy="26172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95" name="组合 17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3496" name="组合 189"/>
            <p:cNvGrpSpPr/>
            <p:nvPr/>
          </p:nvGrpSpPr>
          <p:grpSpPr>
            <a:xfrm>
              <a:off x="7578000" y="770040"/>
              <a:ext cx="2296440" cy="5054400"/>
              <a:chOff x="7578000" y="770040"/>
              <a:chExt cx="2296440" cy="5054400"/>
            </a:xfrm>
          </p:grpSpPr>
          <p:sp>
            <p:nvSpPr>
              <p:cNvPr id="3497" name="Freeform 14"/>
              <p:cNvSpPr/>
              <p:nvPr/>
            </p:nvSpPr>
            <p:spPr>
              <a:xfrm>
                <a:off x="8550000" y="4303080"/>
                <a:ext cx="756720" cy="145152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11" y="0"/>
                    </a:moveTo>
                    <a:cubicBezTo>
                      <a:pt x="11" y="0"/>
                      <a:pt x="0" y="108"/>
                      <a:pt x="61" y="120"/>
                    </a:cubicBezTo>
                    <a:cubicBezTo>
                      <a:pt x="58" y="418"/>
                      <a:pt x="58" y="418"/>
                      <a:pt x="58" y="418"/>
                    </a:cubicBezTo>
                    <a:cubicBezTo>
                      <a:pt x="105" y="437"/>
                      <a:pt x="105" y="437"/>
                      <a:pt x="105" y="437"/>
                    </a:cubicBezTo>
                    <a:cubicBezTo>
                      <a:pt x="103" y="132"/>
                      <a:pt x="103" y="132"/>
                      <a:pt x="103" y="132"/>
                    </a:cubicBezTo>
                    <a:cubicBezTo>
                      <a:pt x="103" y="132"/>
                      <a:pt x="124" y="135"/>
                      <a:pt x="134" y="130"/>
                    </a:cubicBezTo>
                    <a:cubicBezTo>
                      <a:pt x="155" y="427"/>
                      <a:pt x="155" y="427"/>
                      <a:pt x="155" y="427"/>
                    </a:cubicBezTo>
                    <a:cubicBezTo>
                      <a:pt x="188" y="402"/>
                      <a:pt x="188" y="402"/>
                      <a:pt x="188" y="402"/>
                    </a:cubicBezTo>
                    <a:cubicBezTo>
                      <a:pt x="210" y="381"/>
                      <a:pt x="210" y="381"/>
                      <a:pt x="210" y="381"/>
                    </a:cubicBezTo>
                    <a:cubicBezTo>
                      <a:pt x="174" y="124"/>
                      <a:pt x="174" y="124"/>
                      <a:pt x="174" y="124"/>
                    </a:cubicBezTo>
                    <a:cubicBezTo>
                      <a:pt x="174" y="124"/>
                      <a:pt x="228" y="93"/>
                      <a:pt x="210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4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15">
                <a:hlinkClick r:id="rId9"/>
              </p:cNvPr>
              <p:cNvSpPr/>
              <p:nvPr/>
            </p:nvSpPr>
            <p:spPr>
              <a:xfrm>
                <a:off x="8596440" y="4308120"/>
                <a:ext cx="710280" cy="1446120"/>
              </a:xfrm>
              <a:custGeom>
                <a:avLst/>
                <a:gdLst/>
                <a:ahLst/>
                <a:rect l="l" t="t" r="r" b="b"/>
                <a:pathLst>
                  <a:path w="214" h="436">
                    <a:moveTo>
                      <a:pt x="142" y="153"/>
                    </a:moveTo>
                    <a:cubicBezTo>
                      <a:pt x="142" y="140"/>
                      <a:pt x="151" y="133"/>
                      <a:pt x="161" y="131"/>
                    </a:cubicBezTo>
                    <a:cubicBezTo>
                      <a:pt x="160" y="123"/>
                      <a:pt x="160" y="123"/>
                      <a:pt x="160" y="123"/>
                    </a:cubicBezTo>
                    <a:cubicBezTo>
                      <a:pt x="160" y="123"/>
                      <a:pt x="214" y="93"/>
                      <a:pt x="196" y="0"/>
                    </a:cubicBezTo>
                    <a:cubicBezTo>
                      <a:pt x="196" y="2"/>
                      <a:pt x="196" y="3"/>
                      <a:pt x="196" y="5"/>
                    </a:cubicBezTo>
                    <a:cubicBezTo>
                      <a:pt x="196" y="63"/>
                      <a:pt x="147" y="110"/>
                      <a:pt x="90" y="110"/>
                    </a:cubicBezTo>
                    <a:cubicBezTo>
                      <a:pt x="58" y="109"/>
                      <a:pt x="29" y="94"/>
                      <a:pt x="9" y="71"/>
                    </a:cubicBezTo>
                    <a:cubicBezTo>
                      <a:pt x="6" y="68"/>
                      <a:pt x="3" y="65"/>
                      <a:pt x="0" y="62"/>
                    </a:cubicBezTo>
                    <a:cubicBezTo>
                      <a:pt x="6" y="88"/>
                      <a:pt x="19" y="113"/>
                      <a:pt x="47" y="119"/>
                    </a:cubicBezTo>
                    <a:cubicBezTo>
                      <a:pt x="47" y="128"/>
                      <a:pt x="47" y="128"/>
                      <a:pt x="47" y="128"/>
                    </a:cubicBezTo>
                    <a:cubicBezTo>
                      <a:pt x="56" y="129"/>
                      <a:pt x="65" y="135"/>
                      <a:pt x="65" y="147"/>
                    </a:cubicBezTo>
                    <a:cubicBezTo>
                      <a:pt x="66" y="149"/>
                      <a:pt x="67" y="152"/>
                      <a:pt x="67" y="155"/>
                    </a:cubicBezTo>
                    <a:cubicBezTo>
                      <a:pt x="68" y="158"/>
                      <a:pt x="69" y="161"/>
                      <a:pt x="69" y="165"/>
                    </a:cubicBezTo>
                    <a:cubicBezTo>
                      <a:pt x="68" y="252"/>
                      <a:pt x="68" y="339"/>
                      <a:pt x="68" y="427"/>
                    </a:cubicBezTo>
                    <a:cubicBezTo>
                      <a:pt x="91" y="436"/>
                      <a:pt x="91" y="436"/>
                      <a:pt x="91" y="436"/>
                    </a:cubicBezTo>
                    <a:cubicBezTo>
                      <a:pt x="89" y="131"/>
                      <a:pt x="89" y="131"/>
                      <a:pt x="89" y="131"/>
                    </a:cubicBezTo>
                    <a:cubicBezTo>
                      <a:pt x="89" y="131"/>
                      <a:pt x="110" y="134"/>
                      <a:pt x="120" y="129"/>
                    </a:cubicBezTo>
                    <a:cubicBezTo>
                      <a:pt x="141" y="426"/>
                      <a:pt x="141" y="426"/>
                      <a:pt x="141" y="426"/>
                    </a:cubicBezTo>
                    <a:cubicBezTo>
                      <a:pt x="169" y="404"/>
                      <a:pt x="169" y="404"/>
                      <a:pt x="169" y="404"/>
                    </a:cubicBezTo>
                    <a:cubicBezTo>
                      <a:pt x="168" y="401"/>
                      <a:pt x="167" y="398"/>
                      <a:pt x="167" y="394"/>
                    </a:cubicBezTo>
                    <a:cubicBezTo>
                      <a:pt x="162" y="313"/>
                      <a:pt x="138" y="235"/>
                      <a:pt x="142" y="153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16"/>
              <p:cNvSpPr/>
              <p:nvPr/>
            </p:nvSpPr>
            <p:spPr>
              <a:xfrm>
                <a:off x="8583480" y="4227840"/>
                <a:ext cx="668520" cy="189000"/>
              </a:xfrm>
              <a:custGeom>
                <a:avLst/>
                <a:gdLst/>
                <a:ahLst/>
                <a:rect l="l" t="t" r="r" b="b"/>
                <a:pathLst>
                  <a:path w="201" h="57">
                    <a:moveTo>
                      <a:pt x="1" y="19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34" y="28"/>
                      <a:pt x="68" y="30"/>
                    </a:cubicBezTo>
                    <a:cubicBezTo>
                      <a:pt x="81" y="30"/>
                      <a:pt x="88" y="56"/>
                      <a:pt x="102" y="56"/>
                    </a:cubicBezTo>
                    <a:cubicBezTo>
                      <a:pt x="117" y="57"/>
                      <a:pt x="119" y="30"/>
                      <a:pt x="132" y="30"/>
                    </a:cubicBezTo>
                    <a:cubicBezTo>
                      <a:pt x="156" y="28"/>
                      <a:pt x="190" y="33"/>
                      <a:pt x="201" y="28"/>
                    </a:cubicBezTo>
                    <a:cubicBezTo>
                      <a:pt x="200" y="18"/>
                      <a:pt x="200" y="18"/>
                      <a:pt x="200" y="18"/>
                    </a:cubicBezTo>
                    <a:cubicBezTo>
                      <a:pt x="200" y="18"/>
                      <a:pt x="87" y="0"/>
                      <a:pt x="1" y="19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17"/>
              <p:cNvSpPr/>
              <p:nvPr/>
            </p:nvSpPr>
            <p:spPr>
              <a:xfrm>
                <a:off x="8350200" y="3201480"/>
                <a:ext cx="266760" cy="95904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80" y="32"/>
                    </a:moveTo>
                    <a:cubicBezTo>
                      <a:pt x="80" y="32"/>
                      <a:pt x="53" y="0"/>
                      <a:pt x="33" y="42"/>
                    </a:cubicBezTo>
                    <a:cubicBezTo>
                      <a:pt x="12" y="84"/>
                      <a:pt x="2" y="161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18"/>
              <p:cNvSpPr/>
              <p:nvPr/>
            </p:nvSpPr>
            <p:spPr>
              <a:xfrm>
                <a:off x="8350200" y="3201480"/>
                <a:ext cx="266760" cy="95904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33" y="42"/>
                    </a:moveTo>
                    <a:cubicBezTo>
                      <a:pt x="33" y="42"/>
                      <a:pt x="32" y="43"/>
                      <a:pt x="32" y="43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44" y="26"/>
                      <a:pt x="61" y="42"/>
                      <a:pt x="59" y="63"/>
                    </a:cubicBezTo>
                    <a:cubicBezTo>
                      <a:pt x="58" y="78"/>
                      <a:pt x="58" y="93"/>
                      <a:pt x="55" y="107"/>
                    </a:cubicBezTo>
                    <a:cubicBezTo>
                      <a:pt x="53" y="120"/>
                      <a:pt x="51" y="133"/>
                      <a:pt x="51" y="147"/>
                    </a:cubicBezTo>
                    <a:cubicBezTo>
                      <a:pt x="51" y="157"/>
                      <a:pt x="55" y="166"/>
                      <a:pt x="49" y="176"/>
                    </a:cubicBezTo>
                    <a:cubicBezTo>
                      <a:pt x="46" y="180"/>
                      <a:pt x="39" y="181"/>
                      <a:pt x="34" y="184"/>
                    </a:cubicBezTo>
                    <a:cubicBezTo>
                      <a:pt x="43" y="192"/>
                      <a:pt x="51" y="199"/>
                      <a:pt x="55" y="211"/>
                    </a:cubicBezTo>
                    <a:cubicBezTo>
                      <a:pt x="57" y="218"/>
                      <a:pt x="60" y="256"/>
                      <a:pt x="55" y="263"/>
                    </a:cubicBezTo>
                    <a:cubicBezTo>
                      <a:pt x="50" y="270"/>
                      <a:pt x="38" y="252"/>
                      <a:pt x="32" y="247"/>
                    </a:cubicBezTo>
                    <a:cubicBezTo>
                      <a:pt x="27" y="242"/>
                      <a:pt x="23" y="235"/>
                      <a:pt x="20" y="229"/>
                    </a:cubicBezTo>
                    <a:cubicBezTo>
                      <a:pt x="17" y="221"/>
                      <a:pt x="13" y="213"/>
                      <a:pt x="10" y="205"/>
                    </a:cubicBezTo>
                    <a:cubicBezTo>
                      <a:pt x="8" y="199"/>
                      <a:pt x="1" y="173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cubicBezTo>
                      <a:pt x="80" y="32"/>
                      <a:pt x="80" y="32"/>
                      <a:pt x="80" y="32"/>
                    </a:cubicBezTo>
                    <a:cubicBezTo>
                      <a:pt x="80" y="32"/>
                      <a:pt x="53" y="0"/>
                      <a:pt x="33" y="42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19"/>
              <p:cNvSpPr/>
              <p:nvPr/>
            </p:nvSpPr>
            <p:spPr>
              <a:xfrm>
                <a:off x="8508600" y="3253320"/>
                <a:ext cx="793080" cy="1049760"/>
              </a:xfrm>
              <a:custGeom>
                <a:avLst/>
                <a:gdLst/>
                <a:ahLst/>
                <a:rect l="l" t="t" r="r" b="b"/>
                <a:pathLst>
                  <a:path w="238" h="316">
                    <a:moveTo>
                      <a:pt x="25" y="16"/>
                    </a:moveTo>
                    <a:cubicBezTo>
                      <a:pt x="25" y="16"/>
                      <a:pt x="59" y="0"/>
                      <a:pt x="179" y="4"/>
                    </a:cubicBezTo>
                    <a:cubicBezTo>
                      <a:pt x="179" y="4"/>
                      <a:pt x="194" y="8"/>
                      <a:pt x="198" y="26"/>
                    </a:cubicBezTo>
                    <a:cubicBezTo>
                      <a:pt x="201" y="37"/>
                      <a:pt x="206" y="131"/>
                      <a:pt x="226" y="220"/>
                    </a:cubicBezTo>
                    <a:cubicBezTo>
                      <a:pt x="238" y="276"/>
                      <a:pt x="222" y="316"/>
                      <a:pt x="222" y="316"/>
                    </a:cubicBezTo>
                    <a:cubicBezTo>
                      <a:pt x="23" y="316"/>
                      <a:pt x="23" y="316"/>
                      <a:pt x="23" y="316"/>
                    </a:cubicBezTo>
                    <a:cubicBezTo>
                      <a:pt x="23" y="316"/>
                      <a:pt x="0" y="47"/>
                      <a:pt x="25" y="16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20"/>
              <p:cNvSpPr/>
              <p:nvPr/>
            </p:nvSpPr>
            <p:spPr>
              <a:xfrm>
                <a:off x="9045000" y="3263400"/>
                <a:ext cx="225360" cy="798120"/>
              </a:xfrm>
              <a:custGeom>
                <a:avLst/>
                <a:gdLst/>
                <a:ahLst/>
                <a:rect l="l" t="t" r="r" b="b"/>
                <a:pathLst>
                  <a:path w="68" h="240">
                    <a:moveTo>
                      <a:pt x="65" y="217"/>
                    </a:moveTo>
                    <a:cubicBezTo>
                      <a:pt x="45" y="128"/>
                      <a:pt x="41" y="34"/>
                      <a:pt x="38" y="23"/>
                    </a:cubicBezTo>
                    <a:cubicBezTo>
                      <a:pt x="34" y="4"/>
                      <a:pt x="18" y="1"/>
                      <a:pt x="18" y="1"/>
                    </a:cubicBezTo>
                    <a:cubicBezTo>
                      <a:pt x="11" y="1"/>
                      <a:pt x="6" y="0"/>
                      <a:pt x="0" y="0"/>
                    </a:cubicBezTo>
                    <a:cubicBezTo>
                      <a:pt x="1" y="7"/>
                      <a:pt x="3" y="14"/>
                      <a:pt x="4" y="22"/>
                    </a:cubicBezTo>
                    <a:cubicBezTo>
                      <a:pt x="4" y="20"/>
                      <a:pt x="19" y="31"/>
                      <a:pt x="21" y="33"/>
                    </a:cubicBezTo>
                    <a:cubicBezTo>
                      <a:pt x="25" y="39"/>
                      <a:pt x="27" y="46"/>
                      <a:pt x="29" y="53"/>
                    </a:cubicBezTo>
                    <a:cubicBezTo>
                      <a:pt x="32" y="68"/>
                      <a:pt x="30" y="84"/>
                      <a:pt x="33" y="99"/>
                    </a:cubicBezTo>
                    <a:cubicBezTo>
                      <a:pt x="42" y="139"/>
                      <a:pt x="46" y="178"/>
                      <a:pt x="61" y="218"/>
                    </a:cubicBezTo>
                    <a:cubicBezTo>
                      <a:pt x="63" y="225"/>
                      <a:pt x="66" y="233"/>
                      <a:pt x="68" y="240"/>
                    </a:cubicBezTo>
                    <a:cubicBezTo>
                      <a:pt x="68" y="233"/>
                      <a:pt x="66" y="225"/>
                      <a:pt x="65" y="21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21"/>
              <p:cNvSpPr/>
              <p:nvPr/>
            </p:nvSpPr>
            <p:spPr>
              <a:xfrm>
                <a:off x="8226000" y="5461560"/>
                <a:ext cx="712800" cy="362880"/>
              </a:xfrm>
              <a:custGeom>
                <a:avLst/>
                <a:gdLst/>
                <a:ahLst/>
                <a:rect l="l" t="t" r="r" b="b"/>
                <a:pathLst>
                  <a:path w="214" h="109">
                    <a:moveTo>
                      <a:pt x="23" y="108"/>
                    </a:moveTo>
                    <a:cubicBezTo>
                      <a:pt x="23" y="108"/>
                      <a:pt x="161" y="109"/>
                      <a:pt x="206" y="95"/>
                    </a:cubicBezTo>
                    <a:cubicBezTo>
                      <a:pt x="206" y="95"/>
                      <a:pt x="214" y="5"/>
                      <a:pt x="107" y="2"/>
                    </a:cubicBezTo>
                    <a:cubicBezTo>
                      <a:pt x="0" y="0"/>
                      <a:pt x="4" y="101"/>
                      <a:pt x="23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22"/>
              <p:cNvSpPr/>
              <p:nvPr/>
            </p:nvSpPr>
            <p:spPr>
              <a:xfrm>
                <a:off x="8280360" y="5466960"/>
                <a:ext cx="567360" cy="311040"/>
              </a:xfrm>
              <a:custGeom>
                <a:avLst/>
                <a:gdLst/>
                <a:ahLst/>
                <a:rect l="l" t="t" r="r" b="b"/>
                <a:pathLst>
                  <a:path w="171" h="94">
                    <a:moveTo>
                      <a:pt x="171" y="33"/>
                    </a:moveTo>
                    <a:cubicBezTo>
                      <a:pt x="157" y="16"/>
                      <a:pt x="132" y="2"/>
                      <a:pt x="91" y="1"/>
                    </a:cubicBezTo>
                    <a:cubicBezTo>
                      <a:pt x="35" y="0"/>
                      <a:pt x="10" y="27"/>
                      <a:pt x="0" y="54"/>
                    </a:cubicBezTo>
                    <a:cubicBezTo>
                      <a:pt x="31" y="94"/>
                      <a:pt x="157" y="87"/>
                      <a:pt x="171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23"/>
              <p:cNvSpPr/>
              <p:nvPr/>
            </p:nvSpPr>
            <p:spPr>
              <a:xfrm>
                <a:off x="8407440" y="5536800"/>
                <a:ext cx="93240" cy="489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7"/>
                    </a:moveTo>
                    <a:cubicBezTo>
                      <a:pt x="28" y="12"/>
                      <a:pt x="22" y="15"/>
                      <a:pt x="14" y="15"/>
                    </a:cubicBezTo>
                    <a:cubicBezTo>
                      <a:pt x="6" y="15"/>
                      <a:pt x="0" y="11"/>
                      <a:pt x="0" y="7"/>
                    </a:cubicBezTo>
                    <a:cubicBezTo>
                      <a:pt x="0" y="3"/>
                      <a:pt x="7" y="0"/>
                      <a:pt x="14" y="0"/>
                    </a:cubicBezTo>
                    <a:cubicBezTo>
                      <a:pt x="22" y="0"/>
                      <a:pt x="28" y="3"/>
                      <a:pt x="28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24"/>
              <p:cNvSpPr/>
              <p:nvPr/>
            </p:nvSpPr>
            <p:spPr>
              <a:xfrm>
                <a:off x="9024480" y="5461560"/>
                <a:ext cx="715320" cy="362880"/>
              </a:xfrm>
              <a:custGeom>
                <a:avLst/>
                <a:gdLst/>
                <a:ahLst/>
                <a:rect l="l" t="t" r="r" b="b"/>
                <a:pathLst>
                  <a:path w="215" h="109">
                    <a:moveTo>
                      <a:pt x="192" y="108"/>
                    </a:moveTo>
                    <a:cubicBezTo>
                      <a:pt x="192" y="108"/>
                      <a:pt x="53" y="109"/>
                      <a:pt x="9" y="95"/>
                    </a:cubicBezTo>
                    <a:cubicBezTo>
                      <a:pt x="9" y="95"/>
                      <a:pt x="0" y="5"/>
                      <a:pt x="107" y="2"/>
                    </a:cubicBezTo>
                    <a:cubicBezTo>
                      <a:pt x="215" y="0"/>
                      <a:pt x="211" y="101"/>
                      <a:pt x="192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25"/>
              <p:cNvSpPr/>
              <p:nvPr/>
            </p:nvSpPr>
            <p:spPr>
              <a:xfrm>
                <a:off x="9117720" y="5466960"/>
                <a:ext cx="564840" cy="311040"/>
              </a:xfrm>
              <a:custGeom>
                <a:avLst/>
                <a:gdLst/>
                <a:ahLst/>
                <a:rect l="l" t="t" r="r" b="b"/>
                <a:pathLst>
                  <a:path w="170" h="94">
                    <a:moveTo>
                      <a:pt x="0" y="33"/>
                    </a:moveTo>
                    <a:cubicBezTo>
                      <a:pt x="14" y="16"/>
                      <a:pt x="38" y="2"/>
                      <a:pt x="79" y="1"/>
                    </a:cubicBezTo>
                    <a:cubicBezTo>
                      <a:pt x="135" y="0"/>
                      <a:pt x="161" y="27"/>
                      <a:pt x="170" y="54"/>
                    </a:cubicBezTo>
                    <a:cubicBezTo>
                      <a:pt x="140" y="94"/>
                      <a:pt x="13" y="87"/>
                      <a:pt x="0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26"/>
              <p:cNvSpPr/>
              <p:nvPr/>
            </p:nvSpPr>
            <p:spPr>
              <a:xfrm>
                <a:off x="9465120" y="5536800"/>
                <a:ext cx="93240" cy="4896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7"/>
                    </a:moveTo>
                    <a:cubicBezTo>
                      <a:pt x="0" y="12"/>
                      <a:pt x="6" y="15"/>
                      <a:pt x="14" y="15"/>
                    </a:cubicBezTo>
                    <a:cubicBezTo>
                      <a:pt x="22" y="15"/>
                      <a:pt x="28" y="11"/>
                      <a:pt x="28" y="7"/>
                    </a:cubicBezTo>
                    <a:cubicBezTo>
                      <a:pt x="28" y="3"/>
                      <a:pt x="22" y="0"/>
                      <a:pt x="14" y="0"/>
                    </a:cubicBezTo>
                    <a:cubicBezTo>
                      <a:pt x="6" y="0"/>
                      <a:pt x="0" y="3"/>
                      <a:pt x="0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27"/>
              <p:cNvSpPr/>
              <p:nvPr/>
            </p:nvSpPr>
            <p:spPr>
              <a:xfrm>
                <a:off x="8565480" y="3107880"/>
                <a:ext cx="259200" cy="285120"/>
              </a:xfrm>
              <a:custGeom>
                <a:avLst/>
                <a:gdLst/>
                <a:ahLst/>
                <a:rect l="l" t="t" r="r" b="b"/>
                <a:pathLst>
                  <a:path w="78" h="86">
                    <a:moveTo>
                      <a:pt x="7" y="0"/>
                    </a:moveTo>
                    <a:cubicBezTo>
                      <a:pt x="7" y="0"/>
                      <a:pt x="0" y="51"/>
                      <a:pt x="4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4" y="86"/>
                      <a:pt x="76" y="71"/>
                      <a:pt x="76" y="71"/>
                    </a:cubicBezTo>
                    <a:cubicBezTo>
                      <a:pt x="78" y="54"/>
                      <a:pt x="78" y="54"/>
                      <a:pt x="78" y="54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28"/>
              <p:cNvSpPr/>
              <p:nvPr/>
            </p:nvSpPr>
            <p:spPr>
              <a:xfrm>
                <a:off x="8552520" y="3069000"/>
                <a:ext cx="266760" cy="285120"/>
              </a:xfrm>
              <a:custGeom>
                <a:avLst/>
                <a:gdLst/>
                <a:ahLst/>
                <a:rect l="l" t="t" r="r" b="b"/>
                <a:pathLst>
                  <a:path w="80" h="86">
                    <a:moveTo>
                      <a:pt x="7" y="0"/>
                    </a:moveTo>
                    <a:cubicBezTo>
                      <a:pt x="7" y="0"/>
                      <a:pt x="0" y="51"/>
                      <a:pt x="3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3" y="86"/>
                      <a:pt x="74" y="82"/>
                      <a:pt x="74" y="82"/>
                    </a:cubicBezTo>
                    <a:cubicBezTo>
                      <a:pt x="80" y="48"/>
                      <a:pt x="80" y="48"/>
                      <a:pt x="80" y="48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29"/>
              <p:cNvSpPr/>
              <p:nvPr/>
            </p:nvSpPr>
            <p:spPr>
              <a:xfrm>
                <a:off x="8917920" y="3120840"/>
                <a:ext cx="259200" cy="22284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30"/>
              <p:cNvSpPr/>
              <p:nvPr/>
            </p:nvSpPr>
            <p:spPr>
              <a:xfrm>
                <a:off x="8936280" y="3092400"/>
                <a:ext cx="259200" cy="22032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2" y="15"/>
                      <a:pt x="12" y="15"/>
                      <a:pt x="12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31"/>
              <p:cNvSpPr/>
              <p:nvPr/>
            </p:nvSpPr>
            <p:spPr>
              <a:xfrm>
                <a:off x="8562960" y="3076920"/>
                <a:ext cx="279720" cy="235800"/>
              </a:xfrm>
              <a:custGeom>
                <a:avLst/>
                <a:gdLst/>
                <a:ahLst/>
                <a:rect l="l" t="t" r="r" b="b"/>
                <a:pathLst>
                  <a:path w="84" h="71">
                    <a:moveTo>
                      <a:pt x="3" y="16"/>
                    </a:moveTo>
                    <a:cubicBezTo>
                      <a:pt x="2" y="14"/>
                      <a:pt x="1" y="12"/>
                      <a:pt x="1" y="11"/>
                    </a:cubicBezTo>
                    <a:cubicBezTo>
                      <a:pt x="0" y="6"/>
                      <a:pt x="0" y="0"/>
                      <a:pt x="7" y="1"/>
                    </a:cubicBezTo>
                    <a:cubicBezTo>
                      <a:pt x="12" y="2"/>
                      <a:pt x="17" y="7"/>
                      <a:pt x="21" y="10"/>
                    </a:cubicBezTo>
                    <a:cubicBezTo>
                      <a:pt x="31" y="15"/>
                      <a:pt x="40" y="21"/>
                      <a:pt x="49" y="28"/>
                    </a:cubicBezTo>
                    <a:cubicBezTo>
                      <a:pt x="57" y="34"/>
                      <a:pt x="67" y="39"/>
                      <a:pt x="74" y="46"/>
                    </a:cubicBezTo>
                    <a:cubicBezTo>
                      <a:pt x="76" y="48"/>
                      <a:pt x="84" y="68"/>
                      <a:pt x="74" y="70"/>
                    </a:cubicBezTo>
                    <a:cubicBezTo>
                      <a:pt x="63" y="71"/>
                      <a:pt x="67" y="57"/>
                      <a:pt x="59" y="52"/>
                    </a:cubicBezTo>
                    <a:cubicBezTo>
                      <a:pt x="54" y="50"/>
                      <a:pt x="51" y="48"/>
                      <a:pt x="46" y="45"/>
                    </a:cubicBezTo>
                    <a:cubicBezTo>
                      <a:pt x="42" y="41"/>
                      <a:pt x="36" y="40"/>
                      <a:pt x="31" y="36"/>
                    </a:cubicBezTo>
                    <a:cubicBezTo>
                      <a:pt x="24" y="31"/>
                      <a:pt x="17" y="26"/>
                      <a:pt x="10" y="22"/>
                    </a:cubicBezTo>
                    <a:cubicBezTo>
                      <a:pt x="7" y="20"/>
                      <a:pt x="4" y="18"/>
                      <a:pt x="3" y="16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32"/>
              <p:cNvSpPr/>
              <p:nvPr/>
            </p:nvSpPr>
            <p:spPr>
              <a:xfrm>
                <a:off x="8938800" y="3115800"/>
                <a:ext cx="266760" cy="15552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70" y="3"/>
                    </a:moveTo>
                    <a:cubicBezTo>
                      <a:pt x="62" y="2"/>
                      <a:pt x="54" y="8"/>
                      <a:pt x="48" y="11"/>
                    </a:cubicBezTo>
                    <a:cubicBezTo>
                      <a:pt x="40" y="15"/>
                      <a:pt x="33" y="16"/>
                      <a:pt x="25" y="18"/>
                    </a:cubicBezTo>
                    <a:cubicBezTo>
                      <a:pt x="15" y="20"/>
                      <a:pt x="8" y="28"/>
                      <a:pt x="4" y="36"/>
                    </a:cubicBezTo>
                    <a:cubicBezTo>
                      <a:pt x="3" y="40"/>
                      <a:pt x="2" y="44"/>
                      <a:pt x="0" y="47"/>
                    </a:cubicBezTo>
                    <a:cubicBezTo>
                      <a:pt x="9" y="45"/>
                      <a:pt x="17" y="38"/>
                      <a:pt x="24" y="33"/>
                    </a:cubicBezTo>
                    <a:cubicBezTo>
                      <a:pt x="36" y="25"/>
                      <a:pt x="49" y="19"/>
                      <a:pt x="62" y="19"/>
                    </a:cubicBezTo>
                    <a:cubicBezTo>
                      <a:pt x="69" y="18"/>
                      <a:pt x="80" y="14"/>
                      <a:pt x="80" y="5"/>
                    </a:cubicBezTo>
                    <a:cubicBezTo>
                      <a:pt x="80" y="0"/>
                      <a:pt x="75" y="4"/>
                      <a:pt x="70" y="3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33"/>
              <p:cNvSpPr/>
              <p:nvPr/>
            </p:nvSpPr>
            <p:spPr>
              <a:xfrm>
                <a:off x="8671680" y="3310200"/>
                <a:ext cx="445680" cy="992520"/>
              </a:xfrm>
              <a:custGeom>
                <a:avLst/>
                <a:gdLst/>
                <a:ahLst/>
                <a:rect l="l" t="t" r="r" b="b"/>
                <a:pathLst>
                  <a:path w="172" h="383">
                    <a:moveTo>
                      <a:pt x="49" y="0"/>
                    </a:moveTo>
                    <a:lnTo>
                      <a:pt x="0" y="281"/>
                    </a:lnTo>
                    <a:lnTo>
                      <a:pt x="59" y="383"/>
                    </a:lnTo>
                    <a:lnTo>
                      <a:pt x="127" y="383"/>
                    </a:lnTo>
                    <a:lnTo>
                      <a:pt x="172" y="296"/>
                    </a:lnTo>
                    <a:lnTo>
                      <a:pt x="102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34"/>
              <p:cNvSpPr/>
              <p:nvPr/>
            </p:nvSpPr>
            <p:spPr>
              <a:xfrm>
                <a:off x="8705520" y="3310200"/>
                <a:ext cx="383400" cy="1060200"/>
              </a:xfrm>
              <a:custGeom>
                <a:avLst/>
                <a:gdLst/>
                <a:ahLst/>
                <a:rect l="l" t="t" r="r" b="b"/>
                <a:pathLst>
                  <a:path w="115" h="319">
                    <a:moveTo>
                      <a:pt x="34" y="2"/>
                    </a:moveTo>
                    <a:cubicBezTo>
                      <a:pt x="34" y="2"/>
                      <a:pt x="11" y="116"/>
                      <a:pt x="0" y="222"/>
                    </a:cubicBezTo>
                    <a:cubicBezTo>
                      <a:pt x="64" y="319"/>
                      <a:pt x="64" y="319"/>
                      <a:pt x="64" y="319"/>
                    </a:cubicBezTo>
                    <a:cubicBezTo>
                      <a:pt x="115" y="232"/>
                      <a:pt x="115" y="232"/>
                      <a:pt x="115" y="232"/>
                    </a:cubicBezTo>
                    <a:cubicBezTo>
                      <a:pt x="115" y="232"/>
                      <a:pt x="96" y="108"/>
                      <a:pt x="57" y="0"/>
                    </a:cubicBez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a83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35"/>
              <p:cNvSpPr/>
              <p:nvPr/>
            </p:nvSpPr>
            <p:spPr>
              <a:xfrm>
                <a:off x="8871480" y="3310200"/>
                <a:ext cx="217440" cy="1060200"/>
              </a:xfrm>
              <a:custGeom>
                <a:avLst/>
                <a:gdLst/>
                <a:ahLst/>
                <a:rect l="l" t="t" r="r" b="b"/>
                <a:pathLst>
                  <a:path w="65" h="319">
                    <a:moveTo>
                      <a:pt x="7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4" y="319"/>
                      <a:pt x="14" y="319"/>
                      <a:pt x="14" y="319"/>
                    </a:cubicBezTo>
                    <a:cubicBezTo>
                      <a:pt x="65" y="232"/>
                      <a:pt x="65" y="232"/>
                      <a:pt x="65" y="232"/>
                    </a:cubicBezTo>
                    <a:cubicBezTo>
                      <a:pt x="65" y="232"/>
                      <a:pt x="46" y="108"/>
                      <a:pt x="7" y="0"/>
                    </a:cubicBez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36"/>
              <p:cNvSpPr/>
              <p:nvPr/>
            </p:nvSpPr>
            <p:spPr>
              <a:xfrm>
                <a:off x="8762400" y="3393000"/>
                <a:ext cx="191520" cy="248760"/>
              </a:xfrm>
              <a:custGeom>
                <a:avLst/>
                <a:gdLst/>
                <a:ahLst/>
                <a:rect l="l" t="t" r="r" b="b"/>
                <a:pathLst>
                  <a:path w="58" h="75">
                    <a:moveTo>
                      <a:pt x="49" y="0"/>
                    </a:move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40" y="19"/>
                      <a:pt x="5" y="42"/>
                    </a:cubicBezTo>
                    <a:cubicBezTo>
                      <a:pt x="3" y="52"/>
                      <a:pt x="1" y="63"/>
                      <a:pt x="0" y="75"/>
                    </a:cubicBezTo>
                    <a:cubicBezTo>
                      <a:pt x="0" y="75"/>
                      <a:pt x="0" y="75"/>
                      <a:pt x="0" y="75"/>
                    </a:cubicBezTo>
                    <a:cubicBezTo>
                      <a:pt x="0" y="75"/>
                      <a:pt x="40" y="62"/>
                      <a:pt x="58" y="30"/>
                    </a:cubicBezTo>
                    <a:cubicBezTo>
                      <a:pt x="55" y="20"/>
                      <a:pt x="52" y="10"/>
                      <a:pt x="49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37"/>
              <p:cNvSpPr/>
              <p:nvPr/>
            </p:nvSpPr>
            <p:spPr>
              <a:xfrm>
                <a:off x="8718480" y="3629160"/>
                <a:ext cx="300600" cy="29520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90" y="33"/>
                    </a:moveTo>
                    <a:cubicBezTo>
                      <a:pt x="90" y="33"/>
                      <a:pt x="90" y="33"/>
                      <a:pt x="90" y="33"/>
                    </a:cubicBezTo>
                    <a:cubicBezTo>
                      <a:pt x="88" y="22"/>
                      <a:pt x="85" y="11"/>
                      <a:pt x="82" y="0"/>
                    </a:cubicBezTo>
                    <a:cubicBezTo>
                      <a:pt x="82" y="0"/>
                      <a:pt x="82" y="0"/>
                      <a:pt x="82" y="0"/>
                    </a:cubicBezTo>
                    <a:cubicBezTo>
                      <a:pt x="41" y="36"/>
                      <a:pt x="5" y="53"/>
                      <a:pt x="5" y="53"/>
                    </a:cubicBezTo>
                    <a:cubicBezTo>
                      <a:pt x="5" y="53"/>
                      <a:pt x="5" y="53"/>
                      <a:pt x="5" y="53"/>
                    </a:cubicBezTo>
                    <a:cubicBezTo>
                      <a:pt x="3" y="65"/>
                      <a:pt x="2" y="77"/>
                      <a:pt x="0" y="89"/>
                    </a:cubicBezTo>
                    <a:cubicBezTo>
                      <a:pt x="53" y="83"/>
                      <a:pt x="90" y="33"/>
                      <a:pt x="90" y="33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38"/>
              <p:cNvSpPr/>
              <p:nvPr/>
            </p:nvSpPr>
            <p:spPr>
              <a:xfrm>
                <a:off x="8770320" y="3877920"/>
                <a:ext cx="298080" cy="33948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15" y="102"/>
                    </a:moveTo>
                    <a:cubicBezTo>
                      <a:pt x="54" y="86"/>
                      <a:pt x="90" y="29"/>
                      <a:pt x="90" y="29"/>
                    </a:cubicBezTo>
                    <a:cubicBezTo>
                      <a:pt x="90" y="29"/>
                      <a:pt x="90" y="29"/>
                      <a:pt x="90" y="29"/>
                    </a:cubicBezTo>
                    <a:cubicBezTo>
                      <a:pt x="89" y="20"/>
                      <a:pt x="87" y="11"/>
                      <a:pt x="85" y="0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54" y="47"/>
                      <a:pt x="0" y="80"/>
                      <a:pt x="0" y="81"/>
                    </a:cubicBez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39"/>
              <p:cNvSpPr/>
              <p:nvPr/>
            </p:nvSpPr>
            <p:spPr>
              <a:xfrm>
                <a:off x="8783280" y="3216960"/>
                <a:ext cx="178560" cy="11916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"/>
                    </a:moveTo>
                    <a:cubicBezTo>
                      <a:pt x="0" y="8"/>
                      <a:pt x="1" y="30"/>
                      <a:pt x="10" y="34"/>
                    </a:cubicBezTo>
                    <a:cubicBezTo>
                      <a:pt x="14" y="36"/>
                      <a:pt x="24" y="36"/>
                      <a:pt x="34" y="34"/>
                    </a:cubicBezTo>
                    <a:cubicBezTo>
                      <a:pt x="54" y="30"/>
                      <a:pt x="48" y="0"/>
                      <a:pt x="48" y="0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40"/>
              <p:cNvSpPr/>
              <p:nvPr/>
            </p:nvSpPr>
            <p:spPr>
              <a:xfrm>
                <a:off x="7878600" y="850320"/>
                <a:ext cx="1692720" cy="2436480"/>
              </a:xfrm>
              <a:custGeom>
                <a:avLst/>
                <a:gdLst/>
                <a:ahLst/>
                <a:rect l="l" t="t" r="r" b="b"/>
                <a:pathLst>
                  <a:path w="509" h="734">
                    <a:moveTo>
                      <a:pt x="4" y="347"/>
                    </a:moveTo>
                    <a:cubicBezTo>
                      <a:pt x="4" y="347"/>
                      <a:pt x="0" y="536"/>
                      <a:pt x="11" y="595"/>
                    </a:cubicBezTo>
                    <a:cubicBezTo>
                      <a:pt x="21" y="654"/>
                      <a:pt x="32" y="660"/>
                      <a:pt x="65" y="669"/>
                    </a:cubicBezTo>
                    <a:cubicBezTo>
                      <a:pt x="99" y="677"/>
                      <a:pt x="209" y="682"/>
                      <a:pt x="224" y="692"/>
                    </a:cubicBezTo>
                    <a:cubicBezTo>
                      <a:pt x="240" y="702"/>
                      <a:pt x="273" y="734"/>
                      <a:pt x="296" y="731"/>
                    </a:cubicBezTo>
                    <a:cubicBezTo>
                      <a:pt x="319" y="728"/>
                      <a:pt x="330" y="706"/>
                      <a:pt x="344" y="703"/>
                    </a:cubicBezTo>
                    <a:cubicBezTo>
                      <a:pt x="358" y="699"/>
                      <a:pt x="439" y="684"/>
                      <a:pt x="457" y="678"/>
                    </a:cubicBezTo>
                    <a:cubicBezTo>
                      <a:pt x="475" y="672"/>
                      <a:pt x="488" y="656"/>
                      <a:pt x="490" y="614"/>
                    </a:cubicBezTo>
                    <a:cubicBezTo>
                      <a:pt x="493" y="572"/>
                      <a:pt x="509" y="401"/>
                      <a:pt x="493" y="319"/>
                    </a:cubicBezTo>
                    <a:cubicBezTo>
                      <a:pt x="477" y="236"/>
                      <a:pt x="467" y="168"/>
                      <a:pt x="416" y="135"/>
                    </a:cubicBezTo>
                    <a:cubicBezTo>
                      <a:pt x="400" y="119"/>
                      <a:pt x="11" y="0"/>
                      <a:pt x="4" y="34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41"/>
              <p:cNvSpPr/>
              <p:nvPr/>
            </p:nvSpPr>
            <p:spPr>
              <a:xfrm>
                <a:off x="9452160" y="2084040"/>
                <a:ext cx="352440" cy="495000"/>
              </a:xfrm>
              <a:custGeom>
                <a:avLst/>
                <a:gdLst/>
                <a:ahLst/>
                <a:rect l="l" t="t" r="r" b="b"/>
                <a:pathLst>
                  <a:path w="106" h="149">
                    <a:moveTo>
                      <a:pt x="12" y="149"/>
                    </a:moveTo>
                    <a:cubicBezTo>
                      <a:pt x="99" y="149"/>
                      <a:pt x="106" y="49"/>
                      <a:pt x="67" y="24"/>
                    </a:cubicBezTo>
                    <a:cubicBezTo>
                      <a:pt x="29" y="0"/>
                      <a:pt x="0" y="49"/>
                      <a:pt x="0" y="49"/>
                    </a:cubicBezTo>
                    <a:lnTo>
                      <a:pt x="12" y="149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42"/>
              <p:cNvSpPr/>
              <p:nvPr/>
            </p:nvSpPr>
            <p:spPr>
              <a:xfrm>
                <a:off x="7611480" y="2102400"/>
                <a:ext cx="352440" cy="437760"/>
              </a:xfrm>
              <a:custGeom>
                <a:avLst/>
                <a:gdLst/>
                <a:ahLst/>
                <a:rect l="l" t="t" r="r" b="b"/>
                <a:pathLst>
                  <a:path w="106" h="132">
                    <a:moveTo>
                      <a:pt x="92" y="127"/>
                    </a:moveTo>
                    <a:cubicBezTo>
                      <a:pt x="92" y="127"/>
                      <a:pt x="57" y="132"/>
                      <a:pt x="28" y="104"/>
                    </a:cubicBezTo>
                    <a:cubicBezTo>
                      <a:pt x="0" y="76"/>
                      <a:pt x="7" y="2"/>
                      <a:pt x="56" y="1"/>
                    </a:cubicBezTo>
                    <a:cubicBezTo>
                      <a:pt x="106" y="0"/>
                      <a:pt x="100" y="55"/>
                      <a:pt x="100" y="55"/>
                    </a:cubicBezTo>
                    <a:lnTo>
                      <a:pt x="92" y="127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43">
                <a:hlinkClick r:id="rId10"/>
              </p:cNvPr>
              <p:cNvSpPr/>
              <p:nvPr/>
            </p:nvSpPr>
            <p:spPr>
              <a:xfrm>
                <a:off x="7894080" y="770040"/>
                <a:ext cx="1617480" cy="2423520"/>
              </a:xfrm>
              <a:custGeom>
                <a:avLst/>
                <a:gdLst/>
                <a:ahLst/>
                <a:rect l="l" t="t" r="r" b="b"/>
                <a:pathLst>
                  <a:path w="486" h="730">
                    <a:moveTo>
                      <a:pt x="10" y="347"/>
                    </a:moveTo>
                    <a:cubicBezTo>
                      <a:pt x="10" y="347"/>
                      <a:pt x="0" y="458"/>
                      <a:pt x="3" y="536"/>
                    </a:cubicBezTo>
                    <a:cubicBezTo>
                      <a:pt x="4" y="560"/>
                      <a:pt x="6" y="589"/>
                      <a:pt x="8" y="603"/>
                    </a:cubicBezTo>
                    <a:cubicBezTo>
                      <a:pt x="18" y="662"/>
                      <a:pt x="36" y="660"/>
                      <a:pt x="69" y="669"/>
                    </a:cubicBezTo>
                    <a:cubicBezTo>
                      <a:pt x="78" y="671"/>
                      <a:pt x="151" y="683"/>
                      <a:pt x="198" y="701"/>
                    </a:cubicBezTo>
                    <a:cubicBezTo>
                      <a:pt x="229" y="712"/>
                      <a:pt x="252" y="728"/>
                      <a:pt x="285" y="729"/>
                    </a:cubicBezTo>
                    <a:cubicBezTo>
                      <a:pt x="311" y="730"/>
                      <a:pt x="310" y="716"/>
                      <a:pt x="333" y="710"/>
                    </a:cubicBezTo>
                    <a:cubicBezTo>
                      <a:pt x="391" y="695"/>
                      <a:pt x="438" y="679"/>
                      <a:pt x="444" y="677"/>
                    </a:cubicBezTo>
                    <a:cubicBezTo>
                      <a:pt x="461" y="671"/>
                      <a:pt x="474" y="655"/>
                      <a:pt x="476" y="613"/>
                    </a:cubicBezTo>
                    <a:cubicBezTo>
                      <a:pt x="479" y="571"/>
                      <a:pt x="486" y="400"/>
                      <a:pt x="471" y="317"/>
                    </a:cubicBezTo>
                    <a:cubicBezTo>
                      <a:pt x="456" y="235"/>
                      <a:pt x="455" y="167"/>
                      <a:pt x="406" y="134"/>
                    </a:cubicBezTo>
                    <a:cubicBezTo>
                      <a:pt x="391" y="118"/>
                      <a:pt x="18" y="0"/>
                      <a:pt x="10" y="347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44"/>
              <p:cNvSpPr/>
              <p:nvPr/>
            </p:nvSpPr>
            <p:spPr>
              <a:xfrm>
                <a:off x="7953840" y="826920"/>
                <a:ext cx="1423080" cy="969120"/>
              </a:xfrm>
              <a:custGeom>
                <a:avLst/>
                <a:gdLst/>
                <a:ahLst/>
                <a:rect l="l" t="t" r="r" b="b"/>
                <a:pathLst>
                  <a:path w="428" h="292">
                    <a:moveTo>
                      <a:pt x="124" y="291"/>
                    </a:moveTo>
                    <a:cubicBezTo>
                      <a:pt x="170" y="290"/>
                      <a:pt x="210" y="287"/>
                      <a:pt x="258" y="279"/>
                    </a:cubicBezTo>
                    <a:cubicBezTo>
                      <a:pt x="324" y="269"/>
                      <a:pt x="373" y="228"/>
                      <a:pt x="428" y="202"/>
                    </a:cubicBezTo>
                    <a:cubicBezTo>
                      <a:pt x="420" y="158"/>
                      <a:pt x="419" y="138"/>
                      <a:pt x="388" y="117"/>
                    </a:cubicBezTo>
                    <a:cubicBezTo>
                      <a:pt x="374" y="102"/>
                      <a:pt x="53" y="0"/>
                      <a:pt x="0" y="261"/>
                    </a:cubicBezTo>
                    <a:cubicBezTo>
                      <a:pt x="18" y="267"/>
                      <a:pt x="36" y="273"/>
                      <a:pt x="54" y="278"/>
                    </a:cubicBezTo>
                    <a:cubicBezTo>
                      <a:pt x="76" y="279"/>
                      <a:pt x="101" y="292"/>
                      <a:pt x="124" y="291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Freeform 45"/>
              <p:cNvSpPr/>
              <p:nvPr/>
            </p:nvSpPr>
            <p:spPr>
              <a:xfrm>
                <a:off x="7728120" y="1363320"/>
                <a:ext cx="375840" cy="1257120"/>
              </a:xfrm>
              <a:custGeom>
                <a:avLst/>
                <a:gdLst/>
                <a:ahLst/>
                <a:rect l="l" t="t" r="r" b="b"/>
                <a:pathLst>
                  <a:path w="113" h="378">
                    <a:moveTo>
                      <a:pt x="12" y="0"/>
                    </a:moveTo>
                    <a:cubicBezTo>
                      <a:pt x="12" y="0"/>
                      <a:pt x="0" y="165"/>
                      <a:pt x="7" y="226"/>
                    </a:cubicBezTo>
                    <a:cubicBezTo>
                      <a:pt x="7" y="226"/>
                      <a:pt x="59" y="207"/>
                      <a:pt x="66" y="271"/>
                    </a:cubicBezTo>
                    <a:cubicBezTo>
                      <a:pt x="73" y="337"/>
                      <a:pt x="76" y="371"/>
                      <a:pt x="76" y="371"/>
                    </a:cubicBezTo>
                    <a:cubicBezTo>
                      <a:pt x="76" y="371"/>
                      <a:pt x="77" y="377"/>
                      <a:pt x="94" y="378"/>
                    </a:cubicBezTo>
                    <a:cubicBezTo>
                      <a:pt x="110" y="378"/>
                      <a:pt x="111" y="371"/>
                      <a:pt x="111" y="371"/>
                    </a:cubicBezTo>
                    <a:cubicBezTo>
                      <a:pt x="113" y="36"/>
                      <a:pt x="113" y="36"/>
                      <a:pt x="113" y="36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Freeform 46"/>
              <p:cNvSpPr/>
              <p:nvPr/>
            </p:nvSpPr>
            <p:spPr>
              <a:xfrm>
                <a:off x="7743600" y="2021760"/>
                <a:ext cx="171000" cy="13968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1" y="42"/>
                    </a:moveTo>
                    <a:cubicBezTo>
                      <a:pt x="51" y="42"/>
                      <a:pt x="51" y="41"/>
                      <a:pt x="51" y="41"/>
                    </a:cubicBezTo>
                    <a:cubicBezTo>
                      <a:pt x="51" y="40"/>
                      <a:pt x="51" y="39"/>
                      <a:pt x="51" y="39"/>
                    </a:cubicBezTo>
                    <a:cubicBezTo>
                      <a:pt x="48" y="25"/>
                      <a:pt x="42" y="12"/>
                      <a:pt x="34" y="0"/>
                    </a:cubicBezTo>
                    <a:cubicBezTo>
                      <a:pt x="23" y="0"/>
                      <a:pt x="11" y="1"/>
                      <a:pt x="0" y="1"/>
                    </a:cubicBezTo>
                    <a:cubicBezTo>
                      <a:pt x="1" y="11"/>
                      <a:pt x="1" y="20"/>
                      <a:pt x="2" y="28"/>
                    </a:cubicBezTo>
                    <a:cubicBezTo>
                      <a:pt x="2" y="28"/>
                      <a:pt x="34" y="16"/>
                      <a:pt x="51" y="42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Freeform 47"/>
              <p:cNvSpPr/>
              <p:nvPr/>
            </p:nvSpPr>
            <p:spPr>
              <a:xfrm>
                <a:off x="7754040" y="1415160"/>
                <a:ext cx="354960" cy="30060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1" y="0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52" y="90"/>
                      <a:pt x="105" y="91"/>
                    </a:cubicBezTo>
                    <a:cubicBezTo>
                      <a:pt x="107" y="48"/>
                      <a:pt x="107" y="48"/>
                      <a:pt x="107" y="48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48"/>
              <p:cNvSpPr/>
              <p:nvPr/>
            </p:nvSpPr>
            <p:spPr>
              <a:xfrm>
                <a:off x="7578000" y="808920"/>
                <a:ext cx="2296440" cy="185832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40" y="10"/>
                    </a:moveTo>
                    <a:cubicBezTo>
                      <a:pt x="140" y="10"/>
                      <a:pt x="155" y="81"/>
                      <a:pt x="246" y="70"/>
                    </a:cubicBezTo>
                    <a:cubicBezTo>
                      <a:pt x="336" y="59"/>
                      <a:pt x="367" y="0"/>
                      <a:pt x="440" y="4"/>
                    </a:cubicBezTo>
                    <a:cubicBezTo>
                      <a:pt x="513" y="8"/>
                      <a:pt x="565" y="57"/>
                      <a:pt x="565" y="104"/>
                    </a:cubicBezTo>
                    <a:cubicBezTo>
                      <a:pt x="565" y="104"/>
                      <a:pt x="646" y="79"/>
                      <a:pt x="674" y="155"/>
                    </a:cubicBezTo>
                    <a:cubicBezTo>
                      <a:pt x="690" y="201"/>
                      <a:pt x="662" y="277"/>
                      <a:pt x="630" y="408"/>
                    </a:cubicBezTo>
                    <a:cubicBezTo>
                      <a:pt x="630" y="409"/>
                      <a:pt x="605" y="388"/>
                      <a:pt x="575" y="418"/>
                    </a:cubicBezTo>
                    <a:cubicBezTo>
                      <a:pt x="558" y="435"/>
                      <a:pt x="566" y="550"/>
                      <a:pt x="566" y="550"/>
                    </a:cubicBezTo>
                    <a:cubicBezTo>
                      <a:pt x="566" y="550"/>
                      <a:pt x="562" y="559"/>
                      <a:pt x="542" y="559"/>
                    </a:cubicBezTo>
                    <a:cubicBezTo>
                      <a:pt x="523" y="559"/>
                      <a:pt x="522" y="550"/>
                      <a:pt x="522" y="550"/>
                    </a:cubicBezTo>
                    <a:cubicBezTo>
                      <a:pt x="522" y="550"/>
                      <a:pt x="522" y="415"/>
                      <a:pt x="524" y="303"/>
                    </a:cubicBezTo>
                    <a:cubicBezTo>
                      <a:pt x="526" y="257"/>
                      <a:pt x="514" y="222"/>
                      <a:pt x="507" y="208"/>
                    </a:cubicBezTo>
                    <a:cubicBezTo>
                      <a:pt x="507" y="208"/>
                      <a:pt x="368" y="308"/>
                      <a:pt x="197" y="270"/>
                    </a:cubicBezTo>
                    <a:cubicBezTo>
                      <a:pt x="26" y="232"/>
                      <a:pt x="10" y="125"/>
                      <a:pt x="0" y="48"/>
                    </a:cubicBezTo>
                    <a:cubicBezTo>
                      <a:pt x="0" y="48"/>
                      <a:pt x="27" y="72"/>
                      <a:pt x="68" y="87"/>
                    </a:cubicBezTo>
                    <a:cubicBezTo>
                      <a:pt x="68" y="87"/>
                      <a:pt x="54" y="38"/>
                      <a:pt x="84" y="13"/>
                    </a:cubicBezTo>
                    <a:cubicBezTo>
                      <a:pt x="84" y="13"/>
                      <a:pt x="90" y="49"/>
                      <a:pt x="114" y="64"/>
                    </a:cubicBezTo>
                    <a:cubicBezTo>
                      <a:pt x="114" y="64"/>
                      <a:pt x="102" y="35"/>
                      <a:pt x="140" y="1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Freeform 49"/>
              <p:cNvSpPr/>
              <p:nvPr/>
            </p:nvSpPr>
            <p:spPr>
              <a:xfrm>
                <a:off x="9462600" y="2029680"/>
                <a:ext cx="248760" cy="20448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30" y="7"/>
                    </a:moveTo>
                    <a:cubicBezTo>
                      <a:pt x="12" y="32"/>
                      <a:pt x="0" y="59"/>
                      <a:pt x="3" y="62"/>
                    </a:cubicBezTo>
                    <a:cubicBezTo>
                      <a:pt x="3" y="62"/>
                      <a:pt x="4" y="62"/>
                      <a:pt x="4" y="62"/>
                    </a:cubicBezTo>
                    <a:cubicBezTo>
                      <a:pt x="5" y="57"/>
                      <a:pt x="7" y="53"/>
                      <a:pt x="9" y="51"/>
                    </a:cubicBezTo>
                    <a:cubicBezTo>
                      <a:pt x="39" y="21"/>
                      <a:pt x="64" y="42"/>
                      <a:pt x="64" y="41"/>
                    </a:cubicBezTo>
                    <a:cubicBezTo>
                      <a:pt x="65" y="38"/>
                      <a:pt x="66" y="34"/>
                      <a:pt x="67" y="30"/>
                    </a:cubicBezTo>
                    <a:cubicBezTo>
                      <a:pt x="68" y="28"/>
                      <a:pt x="68" y="27"/>
                      <a:pt x="68" y="25"/>
                    </a:cubicBezTo>
                    <a:cubicBezTo>
                      <a:pt x="69" y="23"/>
                      <a:pt x="69" y="21"/>
                      <a:pt x="70" y="19"/>
                    </a:cubicBezTo>
                    <a:cubicBezTo>
                      <a:pt x="71" y="17"/>
                      <a:pt x="71" y="14"/>
                      <a:pt x="72" y="12"/>
                    </a:cubicBezTo>
                    <a:cubicBezTo>
                      <a:pt x="72" y="11"/>
                      <a:pt x="72" y="10"/>
                      <a:pt x="72" y="10"/>
                    </a:cubicBezTo>
                    <a:cubicBezTo>
                      <a:pt x="73" y="6"/>
                      <a:pt x="74" y="3"/>
                      <a:pt x="75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60" y="1"/>
                      <a:pt x="45" y="3"/>
                      <a:pt x="30" y="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50"/>
              <p:cNvSpPr/>
              <p:nvPr/>
            </p:nvSpPr>
            <p:spPr>
              <a:xfrm>
                <a:off x="8085960" y="1788480"/>
                <a:ext cx="222840" cy="2228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28"/>
                    </a:moveTo>
                    <a:cubicBezTo>
                      <a:pt x="67" y="28"/>
                      <a:pt x="55" y="0"/>
                      <a:pt x="33" y="3"/>
                    </a:cubicBezTo>
                    <a:cubicBezTo>
                      <a:pt x="11" y="6"/>
                      <a:pt x="1" y="41"/>
                      <a:pt x="1" y="41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29" y="24"/>
                      <a:pt x="67" y="28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51"/>
              <p:cNvSpPr/>
              <p:nvPr/>
            </p:nvSpPr>
            <p:spPr>
              <a:xfrm>
                <a:off x="9065880" y="1835280"/>
                <a:ext cx="217440" cy="22536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0" y="0"/>
                    </a:moveTo>
                    <a:cubicBezTo>
                      <a:pt x="20" y="0"/>
                      <a:pt x="0" y="18"/>
                      <a:pt x="1" y="36"/>
                    </a:cubicBezTo>
                    <a:cubicBezTo>
                      <a:pt x="1" y="36"/>
                      <a:pt x="33" y="33"/>
                      <a:pt x="49" y="68"/>
                    </a:cubicBezTo>
                    <a:cubicBezTo>
                      <a:pt x="49" y="68"/>
                      <a:pt x="66" y="61"/>
                      <a:pt x="63" y="48"/>
                    </a:cubicBezTo>
                    <a:cubicBezTo>
                      <a:pt x="60" y="35"/>
                      <a:pt x="46" y="1"/>
                      <a:pt x="20" y="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52"/>
              <p:cNvSpPr/>
              <p:nvPr/>
            </p:nvSpPr>
            <p:spPr>
              <a:xfrm>
                <a:off x="8184600" y="2079000"/>
                <a:ext cx="233280" cy="23040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5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53"/>
              <p:cNvSpPr/>
              <p:nvPr/>
            </p:nvSpPr>
            <p:spPr>
              <a:xfrm>
                <a:off x="8254440" y="2094480"/>
                <a:ext cx="124200" cy="1008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6" y="2"/>
                      <a:pt x="15" y="0"/>
                      <a:pt x="24" y="3"/>
                    </a:cubicBezTo>
                    <a:cubicBezTo>
                      <a:pt x="33" y="7"/>
                      <a:pt x="38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54"/>
              <p:cNvSpPr/>
              <p:nvPr/>
            </p:nvSpPr>
            <p:spPr>
              <a:xfrm>
                <a:off x="8993160" y="2079000"/>
                <a:ext cx="230400" cy="23040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4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55"/>
              <p:cNvSpPr/>
              <p:nvPr/>
            </p:nvSpPr>
            <p:spPr>
              <a:xfrm>
                <a:off x="9063360" y="2094480"/>
                <a:ext cx="121680" cy="10080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5" y="2"/>
                      <a:pt x="15" y="0"/>
                      <a:pt x="24" y="3"/>
                    </a:cubicBezTo>
                    <a:cubicBezTo>
                      <a:pt x="32" y="7"/>
                      <a:pt x="37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56"/>
              <p:cNvSpPr/>
              <p:nvPr/>
            </p:nvSpPr>
            <p:spPr>
              <a:xfrm>
                <a:off x="8420400" y="2242080"/>
                <a:ext cx="614160" cy="689400"/>
              </a:xfrm>
              <a:custGeom>
                <a:avLst/>
                <a:gdLst/>
                <a:ahLst/>
                <a:rect l="l" t="t" r="r" b="b"/>
                <a:pathLst>
                  <a:path w="185" h="208">
                    <a:moveTo>
                      <a:pt x="49" y="22"/>
                    </a:moveTo>
                    <a:cubicBezTo>
                      <a:pt x="49" y="22"/>
                      <a:pt x="0" y="126"/>
                      <a:pt x="46" y="167"/>
                    </a:cubicBezTo>
                    <a:cubicBezTo>
                      <a:pt x="93" y="208"/>
                      <a:pt x="155" y="186"/>
                      <a:pt x="166" y="157"/>
                    </a:cubicBezTo>
                    <a:cubicBezTo>
                      <a:pt x="185" y="107"/>
                      <a:pt x="142" y="90"/>
                      <a:pt x="135" y="20"/>
                    </a:cubicBezTo>
                    <a:cubicBezTo>
                      <a:pt x="135" y="20"/>
                      <a:pt x="122" y="2"/>
                      <a:pt x="95" y="1"/>
                    </a:cubicBezTo>
                    <a:cubicBezTo>
                      <a:pt x="68" y="0"/>
                      <a:pt x="49" y="22"/>
                      <a:pt x="49" y="22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57"/>
              <p:cNvSpPr/>
              <p:nvPr/>
            </p:nvSpPr>
            <p:spPr>
              <a:xfrm>
                <a:off x="8448840" y="2232000"/>
                <a:ext cx="549360" cy="60912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44" y="21"/>
                    </a:moveTo>
                    <a:cubicBezTo>
                      <a:pt x="44" y="21"/>
                      <a:pt x="0" y="109"/>
                      <a:pt x="42" y="146"/>
                    </a:cubicBezTo>
                    <a:cubicBezTo>
                      <a:pt x="83" y="184"/>
                      <a:pt x="139" y="164"/>
                      <a:pt x="148" y="137"/>
                    </a:cubicBezTo>
                    <a:cubicBezTo>
                      <a:pt x="165" y="91"/>
                      <a:pt x="128" y="80"/>
                      <a:pt x="122" y="16"/>
                    </a:cubicBezTo>
                    <a:cubicBezTo>
                      <a:pt x="122" y="16"/>
                      <a:pt x="109" y="2"/>
                      <a:pt x="85" y="1"/>
                    </a:cubicBezTo>
                    <a:cubicBezTo>
                      <a:pt x="61" y="0"/>
                      <a:pt x="44" y="21"/>
                      <a:pt x="44" y="21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58"/>
              <p:cNvSpPr/>
              <p:nvPr/>
            </p:nvSpPr>
            <p:spPr>
              <a:xfrm>
                <a:off x="8443800" y="2809800"/>
                <a:ext cx="743760" cy="404280"/>
              </a:xfrm>
              <a:custGeom>
                <a:avLst/>
                <a:gdLst/>
                <a:ahLst/>
                <a:rect l="l" t="t" r="r" b="b"/>
                <a:pathLst>
                  <a:path w="224" h="122">
                    <a:moveTo>
                      <a:pt x="0" y="52"/>
                    </a:moveTo>
                    <a:cubicBezTo>
                      <a:pt x="0" y="52"/>
                      <a:pt x="136" y="111"/>
                      <a:pt x="217" y="1"/>
                    </a:cubicBezTo>
                    <a:cubicBezTo>
                      <a:pt x="217" y="1"/>
                      <a:pt x="220" y="0"/>
                      <a:pt x="222" y="2"/>
                    </a:cubicBezTo>
                    <a:cubicBezTo>
                      <a:pt x="224" y="3"/>
                      <a:pt x="223" y="5"/>
                      <a:pt x="223" y="5"/>
                    </a:cubicBezTo>
                    <a:cubicBezTo>
                      <a:pt x="223" y="5"/>
                      <a:pt x="145" y="122"/>
                      <a:pt x="0" y="52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59"/>
              <p:cNvSpPr/>
              <p:nvPr/>
            </p:nvSpPr>
            <p:spPr>
              <a:xfrm>
                <a:off x="9104760" y="2690640"/>
                <a:ext cx="139680" cy="11916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" y="19"/>
                    </a:moveTo>
                    <a:cubicBezTo>
                      <a:pt x="1" y="19"/>
                      <a:pt x="25" y="7"/>
                      <a:pt x="32" y="33"/>
                    </a:cubicBezTo>
                    <a:cubicBezTo>
                      <a:pt x="32" y="33"/>
                      <a:pt x="34" y="36"/>
                      <a:pt x="38" y="36"/>
                    </a:cubicBezTo>
                    <a:cubicBezTo>
                      <a:pt x="42" y="36"/>
                      <a:pt x="42" y="33"/>
                      <a:pt x="42" y="33"/>
                    </a:cubicBezTo>
                    <a:cubicBezTo>
                      <a:pt x="42" y="33"/>
                      <a:pt x="38" y="0"/>
                      <a:pt x="4" y="14"/>
                    </a:cubicBezTo>
                    <a:cubicBezTo>
                      <a:pt x="3" y="15"/>
                      <a:pt x="2" y="15"/>
                      <a:pt x="1" y="16"/>
                    </a:cubicBezTo>
                    <a:cubicBezTo>
                      <a:pt x="0" y="17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60"/>
              <p:cNvSpPr/>
              <p:nvPr/>
            </p:nvSpPr>
            <p:spPr>
              <a:xfrm>
                <a:off x="9493560" y="2325240"/>
                <a:ext cx="292680" cy="253800"/>
              </a:xfrm>
              <a:custGeom>
                <a:avLst/>
                <a:gdLst/>
                <a:ahLst/>
                <a:rect l="l" t="t" r="r" b="b"/>
                <a:pathLst>
                  <a:path w="88" h="77">
                    <a:moveTo>
                      <a:pt x="10" y="77"/>
                    </a:moveTo>
                    <a:cubicBezTo>
                      <a:pt x="0" y="71"/>
                      <a:pt x="0" y="71"/>
                      <a:pt x="0" y="71"/>
                    </a:cubicBezTo>
                    <a:cubicBezTo>
                      <a:pt x="0" y="71"/>
                      <a:pt x="71" y="48"/>
                      <a:pt x="72" y="0"/>
                    </a:cubicBezTo>
                    <a:cubicBezTo>
                      <a:pt x="72" y="0"/>
                      <a:pt x="88" y="53"/>
                      <a:pt x="10" y="7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61"/>
              <p:cNvSpPr/>
              <p:nvPr/>
            </p:nvSpPr>
            <p:spPr>
              <a:xfrm>
                <a:off x="7691760" y="2167200"/>
                <a:ext cx="222840" cy="2692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55" y="79"/>
                    </a:moveTo>
                    <a:cubicBezTo>
                      <a:pt x="55" y="79"/>
                      <a:pt x="67" y="0"/>
                      <a:pt x="25" y="15"/>
                    </a:cubicBezTo>
                    <a:cubicBezTo>
                      <a:pt x="0" y="24"/>
                      <a:pt x="4" y="50"/>
                      <a:pt x="20" y="65"/>
                    </a:cubicBezTo>
                    <a:cubicBezTo>
                      <a:pt x="30" y="75"/>
                      <a:pt x="44" y="81"/>
                      <a:pt x="55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62"/>
              <p:cNvSpPr/>
              <p:nvPr/>
            </p:nvSpPr>
            <p:spPr>
              <a:xfrm>
                <a:off x="7694640" y="2232000"/>
                <a:ext cx="186480" cy="2044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4" y="59"/>
                    </a:moveTo>
                    <a:cubicBezTo>
                      <a:pt x="56" y="39"/>
                      <a:pt x="56" y="39"/>
                      <a:pt x="56" y="39"/>
                    </a:cubicBezTo>
                    <a:cubicBezTo>
                      <a:pt x="56" y="39"/>
                      <a:pt x="0" y="0"/>
                      <a:pt x="9" y="31"/>
                    </a:cubicBezTo>
                    <a:cubicBezTo>
                      <a:pt x="18" y="62"/>
                      <a:pt x="54" y="59"/>
                      <a:pt x="54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63"/>
              <p:cNvSpPr/>
              <p:nvPr/>
            </p:nvSpPr>
            <p:spPr>
              <a:xfrm>
                <a:off x="8114400" y="2296800"/>
                <a:ext cx="64800" cy="2844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5"/>
                    </a:moveTo>
                    <a:cubicBezTo>
                      <a:pt x="19" y="7"/>
                      <a:pt x="18" y="8"/>
                      <a:pt x="1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1" y="7"/>
                      <a:pt x="0" y="6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8" y="1"/>
                      <a:pt x="20" y="3"/>
                      <a:pt x="20" y="5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64"/>
              <p:cNvSpPr/>
              <p:nvPr/>
            </p:nvSpPr>
            <p:spPr>
              <a:xfrm>
                <a:off x="9257760" y="2314800"/>
                <a:ext cx="56880" cy="1800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4"/>
                    </a:moveTo>
                    <a:cubicBezTo>
                      <a:pt x="16" y="5"/>
                      <a:pt x="15" y="6"/>
                      <a:pt x="14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6" y="4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65"/>
              <p:cNvSpPr/>
              <p:nvPr/>
            </p:nvSpPr>
            <p:spPr>
              <a:xfrm>
                <a:off x="8728920" y="3097800"/>
                <a:ext cx="160560" cy="543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10"/>
                    </a:moveTo>
                    <a:cubicBezTo>
                      <a:pt x="48" y="14"/>
                      <a:pt x="37" y="16"/>
                      <a:pt x="24" y="16"/>
                    </a:cubicBezTo>
                    <a:cubicBezTo>
                      <a:pt x="10" y="15"/>
                      <a:pt x="0" y="11"/>
                      <a:pt x="0" y="7"/>
                    </a:cubicBezTo>
                    <a:cubicBezTo>
                      <a:pt x="0" y="3"/>
                      <a:pt x="11" y="0"/>
                      <a:pt x="24" y="1"/>
                    </a:cubicBezTo>
                    <a:cubicBezTo>
                      <a:pt x="38" y="1"/>
                      <a:pt x="48" y="5"/>
                      <a:pt x="48" y="10"/>
                    </a:cubicBezTo>
                    <a:close/>
                  </a:path>
                </a:pathLst>
              </a:custGeom>
              <a:solidFill>
                <a:srgbClr val="ffe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66"/>
              <p:cNvSpPr/>
              <p:nvPr/>
            </p:nvSpPr>
            <p:spPr>
              <a:xfrm>
                <a:off x="9387360" y="1207800"/>
                <a:ext cx="370440" cy="567360"/>
              </a:xfrm>
              <a:custGeom>
                <a:avLst/>
                <a:gdLst/>
                <a:ahLst/>
                <a:rect l="l" t="t" r="r" b="b"/>
                <a:pathLst>
                  <a:path w="111" h="171">
                    <a:moveTo>
                      <a:pt x="0" y="90"/>
                    </a:moveTo>
                    <a:cubicBezTo>
                      <a:pt x="17" y="106"/>
                      <a:pt x="18" y="132"/>
                      <a:pt x="18" y="154"/>
                    </a:cubicBezTo>
                    <a:cubicBezTo>
                      <a:pt x="18" y="160"/>
                      <a:pt x="18" y="165"/>
                      <a:pt x="18" y="171"/>
                    </a:cubicBezTo>
                    <a:cubicBezTo>
                      <a:pt x="42" y="155"/>
                      <a:pt x="103" y="94"/>
                      <a:pt x="108" y="69"/>
                    </a:cubicBezTo>
                    <a:cubicBezTo>
                      <a:pt x="111" y="55"/>
                      <a:pt x="103" y="43"/>
                      <a:pt x="99" y="30"/>
                    </a:cubicBezTo>
                    <a:cubicBezTo>
                      <a:pt x="96" y="20"/>
                      <a:pt x="74" y="0"/>
                      <a:pt x="42" y="20"/>
                    </a:cubicBezTo>
                    <a:cubicBezTo>
                      <a:pt x="36" y="33"/>
                      <a:pt x="33" y="46"/>
                      <a:pt x="27" y="59"/>
                    </a:cubicBezTo>
                    <a:cubicBezTo>
                      <a:pt x="24" y="65"/>
                      <a:pt x="21" y="71"/>
                      <a:pt x="17" y="76"/>
                    </a:cubicBezTo>
                    <a:cubicBezTo>
                      <a:pt x="12" y="82"/>
                      <a:pt x="5" y="85"/>
                      <a:pt x="0" y="90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67"/>
              <p:cNvSpPr/>
              <p:nvPr/>
            </p:nvSpPr>
            <p:spPr>
              <a:xfrm>
                <a:off x="9200520" y="1174320"/>
                <a:ext cx="256320" cy="31356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77" y="5"/>
                    </a:moveTo>
                    <a:cubicBezTo>
                      <a:pt x="60" y="0"/>
                      <a:pt x="17" y="83"/>
                      <a:pt x="0" y="94"/>
                    </a:cubicBezTo>
                    <a:cubicBezTo>
                      <a:pt x="35" y="87"/>
                      <a:pt x="70" y="41"/>
                      <a:pt x="76" y="8"/>
                    </a:cubicBez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68"/>
              <p:cNvSpPr/>
              <p:nvPr/>
            </p:nvSpPr>
            <p:spPr>
              <a:xfrm>
                <a:off x="8759880" y="881280"/>
                <a:ext cx="528480" cy="12672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37"/>
                    </a:moveTo>
                    <a:cubicBezTo>
                      <a:pt x="21" y="28"/>
                      <a:pt x="39" y="12"/>
                      <a:pt x="61" y="4"/>
                    </a:cubicBezTo>
                    <a:cubicBezTo>
                      <a:pt x="68" y="2"/>
                      <a:pt x="74" y="1"/>
                      <a:pt x="81" y="1"/>
                    </a:cubicBezTo>
                    <a:cubicBezTo>
                      <a:pt x="100" y="0"/>
                      <a:pt x="116" y="3"/>
                      <a:pt x="132" y="13"/>
                    </a:cubicBezTo>
                    <a:cubicBezTo>
                      <a:pt x="141" y="18"/>
                      <a:pt x="155" y="27"/>
                      <a:pt x="159" y="36"/>
                    </a:cubicBezTo>
                    <a:cubicBezTo>
                      <a:pt x="158" y="35"/>
                      <a:pt x="130" y="35"/>
                      <a:pt x="127" y="35"/>
                    </a:cubicBezTo>
                    <a:cubicBezTo>
                      <a:pt x="116" y="34"/>
                      <a:pt x="106" y="33"/>
                      <a:pt x="95" y="31"/>
                    </a:cubicBezTo>
                    <a:cubicBezTo>
                      <a:pt x="75" y="29"/>
                      <a:pt x="54" y="27"/>
                      <a:pt x="33" y="30"/>
                    </a:cubicBezTo>
                    <a:cubicBezTo>
                      <a:pt x="22" y="31"/>
                      <a:pt x="11" y="38"/>
                      <a:pt x="0" y="37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69"/>
              <p:cNvSpPr/>
              <p:nvPr/>
            </p:nvSpPr>
            <p:spPr>
              <a:xfrm>
                <a:off x="7808400" y="992880"/>
                <a:ext cx="227880" cy="282240"/>
              </a:xfrm>
              <a:custGeom>
                <a:avLst/>
                <a:gdLst/>
                <a:ahLst/>
                <a:rect l="l" t="t" r="r" b="b"/>
                <a:pathLst>
                  <a:path w="69" h="85">
                    <a:moveTo>
                      <a:pt x="1" y="0"/>
                    </a:moveTo>
                    <a:cubicBezTo>
                      <a:pt x="0" y="7"/>
                      <a:pt x="3" y="15"/>
                      <a:pt x="4" y="21"/>
                    </a:cubicBezTo>
                    <a:cubicBezTo>
                      <a:pt x="6" y="28"/>
                      <a:pt x="9" y="35"/>
                      <a:pt x="13" y="41"/>
                    </a:cubicBezTo>
                    <a:cubicBezTo>
                      <a:pt x="19" y="52"/>
                      <a:pt x="27" y="62"/>
                      <a:pt x="38" y="68"/>
                    </a:cubicBezTo>
                    <a:cubicBezTo>
                      <a:pt x="47" y="74"/>
                      <a:pt x="58" y="84"/>
                      <a:pt x="69" y="85"/>
                    </a:cubicBezTo>
                    <a:cubicBezTo>
                      <a:pt x="44" y="73"/>
                      <a:pt x="28" y="55"/>
                      <a:pt x="16" y="30"/>
                    </a:cubicBezTo>
                    <a:cubicBezTo>
                      <a:pt x="13" y="25"/>
                      <a:pt x="12" y="19"/>
                      <a:pt x="10" y="14"/>
                    </a:cubicBezTo>
                    <a:cubicBezTo>
                      <a:pt x="8" y="10"/>
                      <a:pt x="6" y="3"/>
                      <a:pt x="1" y="0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70"/>
              <p:cNvSpPr/>
              <p:nvPr/>
            </p:nvSpPr>
            <p:spPr>
              <a:xfrm>
                <a:off x="7984800" y="979920"/>
                <a:ext cx="201960" cy="21240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1" y="57"/>
                    </a:moveTo>
                    <a:cubicBezTo>
                      <a:pt x="40" y="50"/>
                      <a:pt x="27" y="39"/>
                      <a:pt x="20" y="28"/>
                    </a:cubicBezTo>
                    <a:cubicBezTo>
                      <a:pt x="14" y="17"/>
                      <a:pt x="9" y="9"/>
                      <a:pt x="0" y="0"/>
                    </a:cubicBezTo>
                    <a:cubicBezTo>
                      <a:pt x="2" y="12"/>
                      <a:pt x="8" y="30"/>
                      <a:pt x="15" y="39"/>
                    </a:cubicBezTo>
                    <a:cubicBezTo>
                      <a:pt x="24" y="52"/>
                      <a:pt x="45" y="61"/>
                      <a:pt x="61" y="64"/>
                    </a:cubicBezTo>
                    <a:cubicBezTo>
                      <a:pt x="61" y="63"/>
                      <a:pt x="60" y="63"/>
                      <a:pt x="60" y="63"/>
                    </a:cubicBezTo>
                    <a:cubicBezTo>
                      <a:pt x="57" y="62"/>
                      <a:pt x="54" y="60"/>
                      <a:pt x="51" y="5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Oval 71"/>
              <p:cNvSpPr/>
              <p:nvPr/>
            </p:nvSpPr>
            <p:spPr>
              <a:xfrm>
                <a:off x="8718480" y="2690640"/>
                <a:ext cx="90720" cy="36000"/>
              </a:xfrm>
              <a:prstGeom prst="ellipse">
                <a:avLst/>
              </a:pr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72"/>
              <p:cNvSpPr/>
              <p:nvPr/>
            </p:nvSpPr>
            <p:spPr>
              <a:xfrm>
                <a:off x="9475560" y="2208600"/>
                <a:ext cx="222840" cy="2692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12" y="79"/>
                    </a:moveTo>
                    <a:cubicBezTo>
                      <a:pt x="12" y="79"/>
                      <a:pt x="0" y="0"/>
                      <a:pt x="41" y="15"/>
                    </a:cubicBezTo>
                    <a:cubicBezTo>
                      <a:pt x="67" y="24"/>
                      <a:pt x="62" y="50"/>
                      <a:pt x="47" y="65"/>
                    </a:cubicBezTo>
                    <a:cubicBezTo>
                      <a:pt x="37" y="75"/>
                      <a:pt x="22" y="81"/>
                      <a:pt x="12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73"/>
              <p:cNvSpPr/>
              <p:nvPr/>
            </p:nvSpPr>
            <p:spPr>
              <a:xfrm>
                <a:off x="9506520" y="2270880"/>
                <a:ext cx="186480" cy="20736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" y="59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39"/>
                      <a:pt x="56" y="0"/>
                      <a:pt x="47" y="31"/>
                    </a:cubicBezTo>
                    <a:cubicBezTo>
                      <a:pt x="38" y="62"/>
                      <a:pt x="2" y="59"/>
                      <a:pt x="2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74"/>
              <p:cNvSpPr/>
              <p:nvPr/>
            </p:nvSpPr>
            <p:spPr>
              <a:xfrm>
                <a:off x="9008640" y="3483720"/>
                <a:ext cx="126720" cy="17856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0" y="5"/>
                    </a:moveTo>
                    <a:lnTo>
                      <a:pt x="46" y="0"/>
                    </a:lnTo>
                    <a:lnTo>
                      <a:pt x="49" y="50"/>
                    </a:lnTo>
                    <a:lnTo>
                      <a:pt x="35" y="69"/>
                    </a:lnTo>
                    <a:lnTo>
                      <a:pt x="12" y="5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75"/>
              <p:cNvSpPr/>
              <p:nvPr/>
            </p:nvSpPr>
            <p:spPr>
              <a:xfrm>
                <a:off x="9019080" y="3483720"/>
                <a:ext cx="108720" cy="15804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6"/>
                    </a:moveTo>
                    <a:lnTo>
                      <a:pt x="42" y="0"/>
                    </a:lnTo>
                    <a:lnTo>
                      <a:pt x="42" y="47"/>
                    </a:lnTo>
                    <a:lnTo>
                      <a:pt x="31" y="61"/>
                    </a:lnTo>
                    <a:lnTo>
                      <a:pt x="9" y="5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76"/>
              <p:cNvSpPr/>
              <p:nvPr/>
            </p:nvSpPr>
            <p:spPr>
              <a:xfrm>
                <a:off x="9021600" y="3486600"/>
                <a:ext cx="103680" cy="14508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0" y="6"/>
                    </a:moveTo>
                    <a:lnTo>
                      <a:pt x="40" y="0"/>
                    </a:lnTo>
                    <a:lnTo>
                      <a:pt x="40" y="44"/>
                    </a:lnTo>
                    <a:lnTo>
                      <a:pt x="28" y="56"/>
                    </a:lnTo>
                    <a:lnTo>
                      <a:pt x="9" y="5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60" name="组合 4"/>
          <p:cNvGrpSpPr/>
          <p:nvPr/>
        </p:nvGrpSpPr>
        <p:grpSpPr>
          <a:xfrm>
            <a:off x="1092240" y="2641680"/>
            <a:ext cx="3276720" cy="1468440"/>
            <a:chOff x="1092240" y="2641680"/>
            <a:chExt cx="3276720" cy="1468440"/>
          </a:xfrm>
        </p:grpSpPr>
        <p:sp>
          <p:nvSpPr>
            <p:cNvPr id="3561" name="文本框 264"/>
            <p:cNvSpPr/>
            <p:nvPr/>
          </p:nvSpPr>
          <p:spPr>
            <a:xfrm>
              <a:off x="1151640" y="2679480"/>
              <a:ext cx="3217320" cy="1430640"/>
            </a:xfrm>
            <a:custGeom>
              <a:avLst/>
              <a:gdLst/>
              <a:ahLst/>
              <a:rect l="l" t="t" r="r" b="b"/>
              <a:pathLst>
                <a:path w="3217664" h="1430834">
                  <a:moveTo>
                    <a:pt x="999530" y="725686"/>
                  </a:moveTo>
                  <a:lnTo>
                    <a:pt x="1163836" y="826617"/>
                  </a:lnTo>
                  <a:lnTo>
                    <a:pt x="1328142" y="725686"/>
                  </a:lnTo>
                  <a:lnTo>
                    <a:pt x="1471910" y="794147"/>
                  </a:lnTo>
                  <a:lnTo>
                    <a:pt x="1291444" y="905005"/>
                  </a:lnTo>
                  <a:lnTo>
                    <a:pt x="1478756" y="1020068"/>
                  </a:lnTo>
                  <a:lnTo>
                    <a:pt x="1334988" y="1088529"/>
                  </a:lnTo>
                  <a:lnTo>
                    <a:pt x="1163836" y="983393"/>
                  </a:lnTo>
                  <a:lnTo>
                    <a:pt x="992684" y="1088529"/>
                  </a:lnTo>
                  <a:lnTo>
                    <a:pt x="848916" y="1020068"/>
                  </a:lnTo>
                  <a:lnTo>
                    <a:pt x="1036228" y="905005"/>
                  </a:lnTo>
                  <a:lnTo>
                    <a:pt x="855762" y="794147"/>
                  </a:lnTo>
                  <a:close/>
                  <a:moveTo>
                    <a:pt x="150614" y="725686"/>
                  </a:moveTo>
                  <a:lnTo>
                    <a:pt x="314920" y="826617"/>
                  </a:lnTo>
                  <a:lnTo>
                    <a:pt x="479227" y="725686"/>
                  </a:lnTo>
                  <a:lnTo>
                    <a:pt x="622995" y="794147"/>
                  </a:lnTo>
                  <a:lnTo>
                    <a:pt x="442528" y="905005"/>
                  </a:lnTo>
                  <a:lnTo>
                    <a:pt x="629841" y="1020068"/>
                  </a:lnTo>
                  <a:lnTo>
                    <a:pt x="486073" y="1088529"/>
                  </a:lnTo>
                  <a:lnTo>
                    <a:pt x="314920" y="983393"/>
                  </a:lnTo>
                  <a:lnTo>
                    <a:pt x="143768" y="1088529"/>
                  </a:lnTo>
                  <a:lnTo>
                    <a:pt x="0" y="1020068"/>
                  </a:lnTo>
                  <a:lnTo>
                    <a:pt x="187312" y="905005"/>
                  </a:lnTo>
                  <a:lnTo>
                    <a:pt x="6846" y="794147"/>
                  </a:lnTo>
                  <a:close/>
                  <a:moveTo>
                    <a:pt x="999530" y="287536"/>
                  </a:moveTo>
                  <a:lnTo>
                    <a:pt x="1163836" y="388467"/>
                  </a:lnTo>
                  <a:lnTo>
                    <a:pt x="1328142" y="287536"/>
                  </a:lnTo>
                  <a:lnTo>
                    <a:pt x="1471910" y="355997"/>
                  </a:lnTo>
                  <a:lnTo>
                    <a:pt x="1291444" y="466855"/>
                  </a:lnTo>
                  <a:lnTo>
                    <a:pt x="1478756" y="581918"/>
                  </a:lnTo>
                  <a:lnTo>
                    <a:pt x="1334988" y="650379"/>
                  </a:lnTo>
                  <a:lnTo>
                    <a:pt x="1163836" y="545243"/>
                  </a:lnTo>
                  <a:lnTo>
                    <a:pt x="992684" y="650379"/>
                  </a:lnTo>
                  <a:lnTo>
                    <a:pt x="848916" y="581918"/>
                  </a:lnTo>
                  <a:lnTo>
                    <a:pt x="1036228" y="466855"/>
                  </a:lnTo>
                  <a:lnTo>
                    <a:pt x="855762" y="355997"/>
                  </a:lnTo>
                  <a:close/>
                  <a:moveTo>
                    <a:pt x="150614" y="287536"/>
                  </a:moveTo>
                  <a:lnTo>
                    <a:pt x="314920" y="388467"/>
                  </a:lnTo>
                  <a:lnTo>
                    <a:pt x="479227" y="287536"/>
                  </a:lnTo>
                  <a:lnTo>
                    <a:pt x="622995" y="355997"/>
                  </a:lnTo>
                  <a:lnTo>
                    <a:pt x="442528" y="466855"/>
                  </a:lnTo>
                  <a:lnTo>
                    <a:pt x="629841" y="581918"/>
                  </a:lnTo>
                  <a:lnTo>
                    <a:pt x="486073" y="650379"/>
                  </a:lnTo>
                  <a:lnTo>
                    <a:pt x="314920" y="545243"/>
                  </a:lnTo>
                  <a:lnTo>
                    <a:pt x="143768" y="650379"/>
                  </a:lnTo>
                  <a:lnTo>
                    <a:pt x="0" y="581918"/>
                  </a:lnTo>
                  <a:lnTo>
                    <a:pt x="187312" y="466855"/>
                  </a:lnTo>
                  <a:lnTo>
                    <a:pt x="6846" y="355997"/>
                  </a:lnTo>
                  <a:close/>
                  <a:moveTo>
                    <a:pt x="1766292" y="27385"/>
                  </a:moveTo>
                  <a:lnTo>
                    <a:pt x="3203972" y="27385"/>
                  </a:lnTo>
                  <a:lnTo>
                    <a:pt x="3203972" y="171152"/>
                  </a:lnTo>
                  <a:lnTo>
                    <a:pt x="2820591" y="171152"/>
                  </a:lnTo>
                  <a:lnTo>
                    <a:pt x="2820591" y="718840"/>
                  </a:lnTo>
                  <a:lnTo>
                    <a:pt x="3169741" y="335459"/>
                  </a:lnTo>
                  <a:lnTo>
                    <a:pt x="3217664" y="492919"/>
                  </a:lnTo>
                  <a:lnTo>
                    <a:pt x="2820591" y="924223"/>
                  </a:lnTo>
                  <a:lnTo>
                    <a:pt x="2820591" y="1280220"/>
                  </a:lnTo>
                  <a:lnTo>
                    <a:pt x="3217664" y="1280220"/>
                  </a:lnTo>
                  <a:lnTo>
                    <a:pt x="3210818" y="1430834"/>
                  </a:lnTo>
                  <a:lnTo>
                    <a:pt x="2656284" y="1430834"/>
                  </a:lnTo>
                  <a:lnTo>
                    <a:pt x="2656284" y="171152"/>
                  </a:lnTo>
                  <a:lnTo>
                    <a:pt x="2218134" y="171152"/>
                  </a:lnTo>
                  <a:lnTo>
                    <a:pt x="2069672" y="397074"/>
                  </a:lnTo>
                  <a:lnTo>
                    <a:pt x="2416671" y="397074"/>
                  </a:lnTo>
                  <a:lnTo>
                    <a:pt x="2416671" y="821531"/>
                  </a:lnTo>
                  <a:lnTo>
                    <a:pt x="1889522" y="1430834"/>
                  </a:lnTo>
                  <a:lnTo>
                    <a:pt x="1732062" y="1396603"/>
                  </a:lnTo>
                  <a:lnTo>
                    <a:pt x="1999054" y="1076915"/>
                  </a:lnTo>
                  <a:lnTo>
                    <a:pt x="1732062" y="821531"/>
                  </a:lnTo>
                  <a:lnTo>
                    <a:pt x="1882676" y="759917"/>
                  </a:lnTo>
                  <a:lnTo>
                    <a:pt x="2094546" y="962575"/>
                  </a:lnTo>
                  <a:lnTo>
                    <a:pt x="2252365" y="773609"/>
                  </a:lnTo>
                  <a:lnTo>
                    <a:pt x="2252365" y="540842"/>
                  </a:lnTo>
                  <a:lnTo>
                    <a:pt x="1975196" y="540842"/>
                  </a:lnTo>
                  <a:lnTo>
                    <a:pt x="1903214" y="650379"/>
                  </a:lnTo>
                  <a:lnTo>
                    <a:pt x="1745754" y="616149"/>
                  </a:lnTo>
                  <a:lnTo>
                    <a:pt x="2040136" y="171152"/>
                  </a:lnTo>
                  <a:lnTo>
                    <a:pt x="1766292" y="171152"/>
                  </a:lnTo>
                  <a:close/>
                  <a:moveTo>
                    <a:pt x="657225" y="0"/>
                  </a:moveTo>
                  <a:lnTo>
                    <a:pt x="821531" y="0"/>
                  </a:lnTo>
                  <a:lnTo>
                    <a:pt x="821531" y="61615"/>
                  </a:lnTo>
                  <a:lnTo>
                    <a:pt x="1465064" y="61615"/>
                  </a:lnTo>
                  <a:lnTo>
                    <a:pt x="1465064" y="205383"/>
                  </a:lnTo>
                  <a:lnTo>
                    <a:pt x="821531" y="205383"/>
                  </a:lnTo>
                  <a:lnTo>
                    <a:pt x="821531" y="1122760"/>
                  </a:lnTo>
                  <a:lnTo>
                    <a:pt x="1492449" y="1307604"/>
                  </a:lnTo>
                  <a:lnTo>
                    <a:pt x="1396603" y="1430834"/>
                  </a:lnTo>
                  <a:lnTo>
                    <a:pt x="746224" y="1252835"/>
                  </a:lnTo>
                  <a:lnTo>
                    <a:pt x="82153" y="1423988"/>
                  </a:lnTo>
                  <a:lnTo>
                    <a:pt x="0" y="1300758"/>
                  </a:lnTo>
                  <a:lnTo>
                    <a:pt x="657225" y="1122760"/>
                  </a:lnTo>
                  <a:lnTo>
                    <a:pt x="657225" y="205383"/>
                  </a:lnTo>
                  <a:lnTo>
                    <a:pt x="6846" y="205383"/>
                  </a:lnTo>
                  <a:lnTo>
                    <a:pt x="6846" y="61615"/>
                  </a:lnTo>
                  <a:lnTo>
                    <a:pt x="657225" y="61615"/>
                  </a:lnTo>
                  <a:close/>
                </a:path>
              </a:pathLst>
            </a:custGeom>
            <a:solidFill>
              <a:srgbClr val="b30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2" name="文本框 266"/>
            <p:cNvSpPr/>
            <p:nvPr/>
          </p:nvSpPr>
          <p:spPr>
            <a:xfrm>
              <a:off x="1092240" y="2641680"/>
              <a:ext cx="3217320" cy="1430640"/>
            </a:xfrm>
            <a:custGeom>
              <a:avLst/>
              <a:gdLst/>
              <a:ahLst/>
              <a:rect l="l" t="t" r="r" b="b"/>
              <a:pathLst>
                <a:path w="3217664" h="1430834">
                  <a:moveTo>
                    <a:pt x="999530" y="725686"/>
                  </a:moveTo>
                  <a:lnTo>
                    <a:pt x="1163836" y="826617"/>
                  </a:lnTo>
                  <a:lnTo>
                    <a:pt x="1328142" y="725686"/>
                  </a:lnTo>
                  <a:lnTo>
                    <a:pt x="1471910" y="794147"/>
                  </a:lnTo>
                  <a:lnTo>
                    <a:pt x="1291444" y="905005"/>
                  </a:lnTo>
                  <a:lnTo>
                    <a:pt x="1478756" y="1020068"/>
                  </a:lnTo>
                  <a:lnTo>
                    <a:pt x="1334988" y="1088529"/>
                  </a:lnTo>
                  <a:lnTo>
                    <a:pt x="1163836" y="983393"/>
                  </a:lnTo>
                  <a:lnTo>
                    <a:pt x="992684" y="1088529"/>
                  </a:lnTo>
                  <a:lnTo>
                    <a:pt x="848916" y="1020068"/>
                  </a:lnTo>
                  <a:lnTo>
                    <a:pt x="1036228" y="905005"/>
                  </a:lnTo>
                  <a:lnTo>
                    <a:pt x="855762" y="794147"/>
                  </a:lnTo>
                  <a:close/>
                  <a:moveTo>
                    <a:pt x="150614" y="725686"/>
                  </a:moveTo>
                  <a:lnTo>
                    <a:pt x="314920" y="826617"/>
                  </a:lnTo>
                  <a:lnTo>
                    <a:pt x="479227" y="725686"/>
                  </a:lnTo>
                  <a:lnTo>
                    <a:pt x="622995" y="794147"/>
                  </a:lnTo>
                  <a:lnTo>
                    <a:pt x="442528" y="905005"/>
                  </a:lnTo>
                  <a:lnTo>
                    <a:pt x="629841" y="1020068"/>
                  </a:lnTo>
                  <a:lnTo>
                    <a:pt x="486073" y="1088529"/>
                  </a:lnTo>
                  <a:lnTo>
                    <a:pt x="314920" y="983393"/>
                  </a:lnTo>
                  <a:lnTo>
                    <a:pt x="143768" y="1088529"/>
                  </a:lnTo>
                  <a:lnTo>
                    <a:pt x="0" y="1020068"/>
                  </a:lnTo>
                  <a:lnTo>
                    <a:pt x="187312" y="905005"/>
                  </a:lnTo>
                  <a:lnTo>
                    <a:pt x="6846" y="794147"/>
                  </a:lnTo>
                  <a:close/>
                  <a:moveTo>
                    <a:pt x="999530" y="287536"/>
                  </a:moveTo>
                  <a:lnTo>
                    <a:pt x="1163836" y="388467"/>
                  </a:lnTo>
                  <a:lnTo>
                    <a:pt x="1328142" y="287536"/>
                  </a:lnTo>
                  <a:lnTo>
                    <a:pt x="1471910" y="355997"/>
                  </a:lnTo>
                  <a:lnTo>
                    <a:pt x="1291444" y="466855"/>
                  </a:lnTo>
                  <a:lnTo>
                    <a:pt x="1478756" y="581918"/>
                  </a:lnTo>
                  <a:lnTo>
                    <a:pt x="1334988" y="650379"/>
                  </a:lnTo>
                  <a:lnTo>
                    <a:pt x="1163836" y="545243"/>
                  </a:lnTo>
                  <a:lnTo>
                    <a:pt x="992684" y="650379"/>
                  </a:lnTo>
                  <a:lnTo>
                    <a:pt x="848916" y="581918"/>
                  </a:lnTo>
                  <a:lnTo>
                    <a:pt x="1036228" y="466855"/>
                  </a:lnTo>
                  <a:lnTo>
                    <a:pt x="855762" y="355997"/>
                  </a:lnTo>
                  <a:close/>
                  <a:moveTo>
                    <a:pt x="150614" y="287536"/>
                  </a:moveTo>
                  <a:lnTo>
                    <a:pt x="314920" y="388467"/>
                  </a:lnTo>
                  <a:lnTo>
                    <a:pt x="479227" y="287536"/>
                  </a:lnTo>
                  <a:lnTo>
                    <a:pt x="622995" y="355997"/>
                  </a:lnTo>
                  <a:lnTo>
                    <a:pt x="442528" y="466855"/>
                  </a:lnTo>
                  <a:lnTo>
                    <a:pt x="629841" y="581918"/>
                  </a:lnTo>
                  <a:lnTo>
                    <a:pt x="486073" y="650379"/>
                  </a:lnTo>
                  <a:lnTo>
                    <a:pt x="314920" y="545243"/>
                  </a:lnTo>
                  <a:lnTo>
                    <a:pt x="143768" y="650379"/>
                  </a:lnTo>
                  <a:lnTo>
                    <a:pt x="0" y="581918"/>
                  </a:lnTo>
                  <a:lnTo>
                    <a:pt x="187312" y="466855"/>
                  </a:lnTo>
                  <a:lnTo>
                    <a:pt x="6846" y="355997"/>
                  </a:lnTo>
                  <a:close/>
                  <a:moveTo>
                    <a:pt x="1766292" y="27385"/>
                  </a:moveTo>
                  <a:lnTo>
                    <a:pt x="3203972" y="27385"/>
                  </a:lnTo>
                  <a:lnTo>
                    <a:pt x="3203972" y="171152"/>
                  </a:lnTo>
                  <a:lnTo>
                    <a:pt x="2820591" y="171152"/>
                  </a:lnTo>
                  <a:lnTo>
                    <a:pt x="2820591" y="718840"/>
                  </a:lnTo>
                  <a:lnTo>
                    <a:pt x="3169741" y="335459"/>
                  </a:lnTo>
                  <a:lnTo>
                    <a:pt x="3217664" y="492919"/>
                  </a:lnTo>
                  <a:lnTo>
                    <a:pt x="2820591" y="924223"/>
                  </a:lnTo>
                  <a:lnTo>
                    <a:pt x="2820591" y="1280220"/>
                  </a:lnTo>
                  <a:lnTo>
                    <a:pt x="3217664" y="1280220"/>
                  </a:lnTo>
                  <a:lnTo>
                    <a:pt x="3210818" y="1430834"/>
                  </a:lnTo>
                  <a:lnTo>
                    <a:pt x="2656284" y="1430834"/>
                  </a:lnTo>
                  <a:lnTo>
                    <a:pt x="2656284" y="171152"/>
                  </a:lnTo>
                  <a:lnTo>
                    <a:pt x="2218134" y="171152"/>
                  </a:lnTo>
                  <a:lnTo>
                    <a:pt x="2069672" y="397074"/>
                  </a:lnTo>
                  <a:lnTo>
                    <a:pt x="2416671" y="397074"/>
                  </a:lnTo>
                  <a:lnTo>
                    <a:pt x="2416671" y="821531"/>
                  </a:lnTo>
                  <a:lnTo>
                    <a:pt x="1889522" y="1430834"/>
                  </a:lnTo>
                  <a:lnTo>
                    <a:pt x="1732062" y="1396603"/>
                  </a:lnTo>
                  <a:lnTo>
                    <a:pt x="1999054" y="1076915"/>
                  </a:lnTo>
                  <a:lnTo>
                    <a:pt x="1732062" y="821531"/>
                  </a:lnTo>
                  <a:lnTo>
                    <a:pt x="1882676" y="759917"/>
                  </a:lnTo>
                  <a:lnTo>
                    <a:pt x="2094546" y="962575"/>
                  </a:lnTo>
                  <a:lnTo>
                    <a:pt x="2252365" y="773609"/>
                  </a:lnTo>
                  <a:lnTo>
                    <a:pt x="2252365" y="540842"/>
                  </a:lnTo>
                  <a:lnTo>
                    <a:pt x="1975196" y="540842"/>
                  </a:lnTo>
                  <a:lnTo>
                    <a:pt x="1903214" y="650379"/>
                  </a:lnTo>
                  <a:lnTo>
                    <a:pt x="1745754" y="616149"/>
                  </a:lnTo>
                  <a:lnTo>
                    <a:pt x="2040136" y="171152"/>
                  </a:lnTo>
                  <a:lnTo>
                    <a:pt x="1766292" y="171152"/>
                  </a:lnTo>
                  <a:close/>
                  <a:moveTo>
                    <a:pt x="657225" y="0"/>
                  </a:moveTo>
                  <a:lnTo>
                    <a:pt x="821531" y="0"/>
                  </a:lnTo>
                  <a:lnTo>
                    <a:pt x="821531" y="61615"/>
                  </a:lnTo>
                  <a:lnTo>
                    <a:pt x="1465064" y="61615"/>
                  </a:lnTo>
                  <a:lnTo>
                    <a:pt x="1465064" y="205383"/>
                  </a:lnTo>
                  <a:lnTo>
                    <a:pt x="821531" y="205383"/>
                  </a:lnTo>
                  <a:lnTo>
                    <a:pt x="821531" y="1122760"/>
                  </a:lnTo>
                  <a:lnTo>
                    <a:pt x="1492449" y="1307604"/>
                  </a:lnTo>
                  <a:lnTo>
                    <a:pt x="1396603" y="1430834"/>
                  </a:lnTo>
                  <a:lnTo>
                    <a:pt x="746224" y="1252835"/>
                  </a:lnTo>
                  <a:lnTo>
                    <a:pt x="82153" y="1423988"/>
                  </a:lnTo>
                  <a:lnTo>
                    <a:pt x="0" y="1300758"/>
                  </a:lnTo>
                  <a:lnTo>
                    <a:pt x="657225" y="1122760"/>
                  </a:lnTo>
                  <a:lnTo>
                    <a:pt x="657225" y="205383"/>
                  </a:lnTo>
                  <a:lnTo>
                    <a:pt x="6846" y="205383"/>
                  </a:lnTo>
                  <a:lnTo>
                    <a:pt x="6846" y="61615"/>
                  </a:lnTo>
                  <a:lnTo>
                    <a:pt x="657225" y="616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63" name="文本框 259"/>
          <p:cNvSpPr/>
          <p:nvPr/>
        </p:nvSpPr>
        <p:spPr>
          <a:xfrm>
            <a:off x="1111320" y="1797120"/>
            <a:ext cx="3989160" cy="415800"/>
          </a:xfrm>
          <a:custGeom>
            <a:avLst/>
            <a:gdLst/>
            <a:ahLst/>
            <a:rect l="l" t="t" r="r" b="b"/>
            <a:pathLst>
              <a:path w="3988854" h="416087">
                <a:moveTo>
                  <a:pt x="2106067" y="356927"/>
                </a:moveTo>
                <a:lnTo>
                  <a:pt x="2106067" y="380591"/>
                </a:lnTo>
                <a:lnTo>
                  <a:pt x="2399891" y="380591"/>
                </a:lnTo>
                <a:lnTo>
                  <a:pt x="2399891" y="356927"/>
                </a:lnTo>
                <a:close/>
                <a:moveTo>
                  <a:pt x="2106067" y="297768"/>
                </a:moveTo>
                <a:lnTo>
                  <a:pt x="2106067" y="321432"/>
                </a:lnTo>
                <a:lnTo>
                  <a:pt x="2399891" y="321432"/>
                </a:lnTo>
                <a:lnTo>
                  <a:pt x="2399891" y="297768"/>
                </a:lnTo>
                <a:close/>
                <a:moveTo>
                  <a:pt x="715826" y="250441"/>
                </a:moveTo>
                <a:lnTo>
                  <a:pt x="763154" y="250441"/>
                </a:lnTo>
                <a:lnTo>
                  <a:pt x="763154" y="272133"/>
                </a:lnTo>
                <a:lnTo>
                  <a:pt x="944575" y="272133"/>
                </a:lnTo>
                <a:lnTo>
                  <a:pt x="944575" y="313544"/>
                </a:lnTo>
                <a:lnTo>
                  <a:pt x="763154" y="313544"/>
                </a:lnTo>
                <a:lnTo>
                  <a:pt x="763154" y="331292"/>
                </a:lnTo>
                <a:lnTo>
                  <a:pt x="954435" y="382563"/>
                </a:lnTo>
                <a:lnTo>
                  <a:pt x="926827" y="416087"/>
                </a:lnTo>
                <a:lnTo>
                  <a:pt x="737518" y="366787"/>
                </a:lnTo>
                <a:lnTo>
                  <a:pt x="548209" y="416087"/>
                </a:lnTo>
                <a:lnTo>
                  <a:pt x="522573" y="382563"/>
                </a:lnTo>
                <a:lnTo>
                  <a:pt x="713854" y="331292"/>
                </a:lnTo>
                <a:lnTo>
                  <a:pt x="713854" y="313544"/>
                </a:lnTo>
                <a:lnTo>
                  <a:pt x="532433" y="313544"/>
                </a:lnTo>
                <a:lnTo>
                  <a:pt x="532433" y="272133"/>
                </a:lnTo>
                <a:lnTo>
                  <a:pt x="715826" y="272133"/>
                </a:lnTo>
                <a:close/>
                <a:moveTo>
                  <a:pt x="2106067" y="238609"/>
                </a:moveTo>
                <a:lnTo>
                  <a:pt x="2106067" y="262273"/>
                </a:lnTo>
                <a:lnTo>
                  <a:pt x="2399891" y="262273"/>
                </a:lnTo>
                <a:lnTo>
                  <a:pt x="2399891" y="238609"/>
                </a:lnTo>
                <a:close/>
                <a:moveTo>
                  <a:pt x="3442841" y="114375"/>
                </a:moveTo>
                <a:lnTo>
                  <a:pt x="3442841" y="216917"/>
                </a:lnTo>
                <a:lnTo>
                  <a:pt x="3608487" y="216917"/>
                </a:lnTo>
                <a:lnTo>
                  <a:pt x="3608487" y="114375"/>
                </a:lnTo>
                <a:close/>
                <a:moveTo>
                  <a:pt x="3099941" y="114375"/>
                </a:moveTo>
                <a:lnTo>
                  <a:pt x="3099941" y="216917"/>
                </a:lnTo>
                <a:lnTo>
                  <a:pt x="3265587" y="216917"/>
                </a:lnTo>
                <a:lnTo>
                  <a:pt x="3265587" y="114375"/>
                </a:lnTo>
                <a:close/>
                <a:moveTo>
                  <a:pt x="1130918" y="96627"/>
                </a:moveTo>
                <a:lnTo>
                  <a:pt x="1099711" y="224683"/>
                </a:lnTo>
                <a:lnTo>
                  <a:pt x="1241959" y="286467"/>
                </a:lnTo>
                <a:lnTo>
                  <a:pt x="1376437" y="227324"/>
                </a:lnTo>
                <a:lnTo>
                  <a:pt x="1376437" y="96627"/>
                </a:lnTo>
                <a:close/>
                <a:moveTo>
                  <a:pt x="1689981" y="74935"/>
                </a:moveTo>
                <a:lnTo>
                  <a:pt x="1739280" y="74935"/>
                </a:lnTo>
                <a:lnTo>
                  <a:pt x="1739280" y="88739"/>
                </a:lnTo>
                <a:lnTo>
                  <a:pt x="1877318" y="88739"/>
                </a:lnTo>
                <a:lnTo>
                  <a:pt x="1877318" y="126207"/>
                </a:lnTo>
                <a:lnTo>
                  <a:pt x="1739280" y="126207"/>
                </a:lnTo>
                <a:lnTo>
                  <a:pt x="1739280" y="153814"/>
                </a:lnTo>
                <a:lnTo>
                  <a:pt x="1869430" y="153814"/>
                </a:lnTo>
                <a:lnTo>
                  <a:pt x="1869430" y="191282"/>
                </a:lnTo>
                <a:lnTo>
                  <a:pt x="1739280" y="191282"/>
                </a:lnTo>
                <a:lnTo>
                  <a:pt x="1739280" y="218889"/>
                </a:lnTo>
                <a:lnTo>
                  <a:pt x="1877318" y="218889"/>
                </a:lnTo>
                <a:lnTo>
                  <a:pt x="1863514" y="343124"/>
                </a:lnTo>
                <a:lnTo>
                  <a:pt x="1788579" y="343124"/>
                </a:lnTo>
                <a:lnTo>
                  <a:pt x="1788579" y="303684"/>
                </a:lnTo>
                <a:lnTo>
                  <a:pt x="1822103" y="303684"/>
                </a:lnTo>
                <a:lnTo>
                  <a:pt x="1826047" y="256357"/>
                </a:lnTo>
                <a:lnTo>
                  <a:pt x="1739280" y="256357"/>
                </a:lnTo>
                <a:lnTo>
                  <a:pt x="1739280" y="347068"/>
                </a:lnTo>
                <a:lnTo>
                  <a:pt x="1689981" y="347068"/>
                </a:lnTo>
                <a:lnTo>
                  <a:pt x="1689981" y="256357"/>
                </a:lnTo>
                <a:lnTo>
                  <a:pt x="1613074" y="256357"/>
                </a:lnTo>
                <a:lnTo>
                  <a:pt x="1613074" y="218889"/>
                </a:lnTo>
                <a:lnTo>
                  <a:pt x="1689981" y="218889"/>
                </a:lnTo>
                <a:lnTo>
                  <a:pt x="1689981" y="191282"/>
                </a:lnTo>
                <a:lnTo>
                  <a:pt x="1624905" y="191282"/>
                </a:lnTo>
                <a:lnTo>
                  <a:pt x="1624905" y="153814"/>
                </a:lnTo>
                <a:lnTo>
                  <a:pt x="1689981" y="153814"/>
                </a:lnTo>
                <a:lnTo>
                  <a:pt x="1689981" y="126207"/>
                </a:lnTo>
                <a:lnTo>
                  <a:pt x="1617018" y="126207"/>
                </a:lnTo>
                <a:lnTo>
                  <a:pt x="1617018" y="88739"/>
                </a:lnTo>
                <a:lnTo>
                  <a:pt x="1689981" y="88739"/>
                </a:lnTo>
                <a:close/>
                <a:moveTo>
                  <a:pt x="246497" y="74935"/>
                </a:moveTo>
                <a:lnTo>
                  <a:pt x="246497" y="159730"/>
                </a:lnTo>
                <a:lnTo>
                  <a:pt x="301712" y="159730"/>
                </a:lnTo>
                <a:lnTo>
                  <a:pt x="301712" y="74935"/>
                </a:lnTo>
                <a:close/>
                <a:moveTo>
                  <a:pt x="13804" y="70991"/>
                </a:moveTo>
                <a:lnTo>
                  <a:pt x="149870" y="70991"/>
                </a:lnTo>
                <a:lnTo>
                  <a:pt x="85397" y="193856"/>
                </a:lnTo>
                <a:lnTo>
                  <a:pt x="110133" y="218592"/>
                </a:lnTo>
                <a:lnTo>
                  <a:pt x="138038" y="147898"/>
                </a:lnTo>
                <a:lnTo>
                  <a:pt x="159730" y="189310"/>
                </a:lnTo>
                <a:lnTo>
                  <a:pt x="137970" y="246429"/>
                </a:lnTo>
                <a:lnTo>
                  <a:pt x="157758" y="266217"/>
                </a:lnTo>
                <a:lnTo>
                  <a:pt x="147898" y="309600"/>
                </a:lnTo>
                <a:lnTo>
                  <a:pt x="82823" y="246038"/>
                </a:lnTo>
                <a:lnTo>
                  <a:pt x="82823" y="416087"/>
                </a:lnTo>
                <a:lnTo>
                  <a:pt x="35495" y="416087"/>
                </a:lnTo>
                <a:lnTo>
                  <a:pt x="35495" y="267160"/>
                </a:lnTo>
                <a:lnTo>
                  <a:pt x="0" y="256357"/>
                </a:lnTo>
                <a:lnTo>
                  <a:pt x="78879" y="112403"/>
                </a:lnTo>
                <a:lnTo>
                  <a:pt x="13804" y="112403"/>
                </a:lnTo>
                <a:close/>
                <a:moveTo>
                  <a:pt x="3714750" y="69019"/>
                </a:moveTo>
                <a:lnTo>
                  <a:pt x="3988854" y="69019"/>
                </a:lnTo>
                <a:lnTo>
                  <a:pt x="3988854" y="112403"/>
                </a:lnTo>
                <a:lnTo>
                  <a:pt x="3876452" y="112403"/>
                </a:lnTo>
                <a:lnTo>
                  <a:pt x="3876452" y="386507"/>
                </a:lnTo>
                <a:lnTo>
                  <a:pt x="3827152" y="386507"/>
                </a:lnTo>
                <a:lnTo>
                  <a:pt x="3827152" y="112403"/>
                </a:lnTo>
                <a:lnTo>
                  <a:pt x="3714750" y="112403"/>
                </a:lnTo>
                <a:close/>
                <a:moveTo>
                  <a:pt x="3391570" y="69019"/>
                </a:moveTo>
                <a:lnTo>
                  <a:pt x="3659758" y="69019"/>
                </a:lnTo>
                <a:lnTo>
                  <a:pt x="3659758" y="262273"/>
                </a:lnTo>
                <a:lnTo>
                  <a:pt x="3442841" y="262273"/>
                </a:lnTo>
                <a:lnTo>
                  <a:pt x="3442841" y="386507"/>
                </a:lnTo>
                <a:lnTo>
                  <a:pt x="3391570" y="386507"/>
                </a:lnTo>
                <a:close/>
                <a:moveTo>
                  <a:pt x="3048670" y="69019"/>
                </a:moveTo>
                <a:lnTo>
                  <a:pt x="3316858" y="69019"/>
                </a:lnTo>
                <a:lnTo>
                  <a:pt x="3316858" y="262273"/>
                </a:lnTo>
                <a:lnTo>
                  <a:pt x="3099941" y="262273"/>
                </a:lnTo>
                <a:lnTo>
                  <a:pt x="3099941" y="386507"/>
                </a:lnTo>
                <a:lnTo>
                  <a:pt x="3048670" y="386507"/>
                </a:lnTo>
                <a:close/>
                <a:moveTo>
                  <a:pt x="1583494" y="53244"/>
                </a:moveTo>
                <a:lnTo>
                  <a:pt x="1583494" y="376647"/>
                </a:lnTo>
                <a:lnTo>
                  <a:pt x="1908870" y="376647"/>
                </a:lnTo>
                <a:lnTo>
                  <a:pt x="1908870" y="53244"/>
                </a:lnTo>
                <a:close/>
                <a:moveTo>
                  <a:pt x="1536167" y="13804"/>
                </a:moveTo>
                <a:lnTo>
                  <a:pt x="1956197" y="13804"/>
                </a:lnTo>
                <a:lnTo>
                  <a:pt x="1956197" y="416087"/>
                </a:lnTo>
                <a:lnTo>
                  <a:pt x="1536167" y="416087"/>
                </a:lnTo>
                <a:close/>
                <a:moveTo>
                  <a:pt x="1102333" y="9860"/>
                </a:moveTo>
                <a:lnTo>
                  <a:pt x="1149660" y="19720"/>
                </a:lnTo>
                <a:lnTo>
                  <a:pt x="1141971" y="51272"/>
                </a:lnTo>
                <a:lnTo>
                  <a:pt x="1461232" y="51272"/>
                </a:lnTo>
                <a:lnTo>
                  <a:pt x="1461232" y="96627"/>
                </a:lnTo>
                <a:lnTo>
                  <a:pt x="1425736" y="96627"/>
                </a:lnTo>
                <a:lnTo>
                  <a:pt x="1425736" y="252413"/>
                </a:lnTo>
                <a:lnTo>
                  <a:pt x="1295022" y="309514"/>
                </a:lnTo>
                <a:lnTo>
                  <a:pt x="1463204" y="382563"/>
                </a:lnTo>
                <a:lnTo>
                  <a:pt x="1431652" y="416087"/>
                </a:lnTo>
                <a:lnTo>
                  <a:pt x="1240664" y="333260"/>
                </a:lnTo>
                <a:lnTo>
                  <a:pt x="1051061" y="416087"/>
                </a:lnTo>
                <a:lnTo>
                  <a:pt x="1023454" y="382563"/>
                </a:lnTo>
                <a:lnTo>
                  <a:pt x="1187744" y="310310"/>
                </a:lnTo>
                <a:lnTo>
                  <a:pt x="1045145" y="248469"/>
                </a:lnTo>
                <a:lnTo>
                  <a:pt x="1081537" y="96627"/>
                </a:lnTo>
                <a:lnTo>
                  <a:pt x="1023454" y="96627"/>
                </a:lnTo>
                <a:lnTo>
                  <a:pt x="1023454" y="51272"/>
                </a:lnTo>
                <a:lnTo>
                  <a:pt x="1092408" y="51272"/>
                </a:lnTo>
                <a:close/>
                <a:moveTo>
                  <a:pt x="2756818" y="7888"/>
                </a:moveTo>
                <a:lnTo>
                  <a:pt x="2796257" y="25636"/>
                </a:lnTo>
                <a:lnTo>
                  <a:pt x="2768650" y="108459"/>
                </a:lnTo>
                <a:lnTo>
                  <a:pt x="2790341" y="108459"/>
                </a:lnTo>
                <a:lnTo>
                  <a:pt x="2790341" y="149870"/>
                </a:lnTo>
                <a:lnTo>
                  <a:pt x="2707518" y="149870"/>
                </a:lnTo>
                <a:lnTo>
                  <a:pt x="2674932" y="185366"/>
                </a:lnTo>
                <a:lnTo>
                  <a:pt x="2790341" y="185366"/>
                </a:lnTo>
                <a:lnTo>
                  <a:pt x="2790341" y="201142"/>
                </a:lnTo>
                <a:lnTo>
                  <a:pt x="2717543" y="270704"/>
                </a:lnTo>
                <a:lnTo>
                  <a:pt x="2788369" y="262273"/>
                </a:lnTo>
                <a:lnTo>
                  <a:pt x="2800201" y="299740"/>
                </a:lnTo>
                <a:lnTo>
                  <a:pt x="2741042" y="306839"/>
                </a:lnTo>
                <a:lnTo>
                  <a:pt x="2741042" y="416087"/>
                </a:lnTo>
                <a:lnTo>
                  <a:pt x="2559620" y="416087"/>
                </a:lnTo>
                <a:lnTo>
                  <a:pt x="2559620" y="372703"/>
                </a:lnTo>
                <a:lnTo>
                  <a:pt x="2691743" y="372703"/>
                </a:lnTo>
                <a:lnTo>
                  <a:pt x="2691743" y="312755"/>
                </a:lnTo>
                <a:lnTo>
                  <a:pt x="2553704" y="329320"/>
                </a:lnTo>
                <a:lnTo>
                  <a:pt x="2539901" y="291852"/>
                </a:lnTo>
                <a:lnTo>
                  <a:pt x="2647871" y="278999"/>
                </a:lnTo>
                <a:lnTo>
                  <a:pt x="2703574" y="226777"/>
                </a:lnTo>
                <a:lnTo>
                  <a:pt x="2636915" y="226777"/>
                </a:lnTo>
                <a:lnTo>
                  <a:pt x="2597088" y="270161"/>
                </a:lnTo>
                <a:lnTo>
                  <a:pt x="2551733" y="258329"/>
                </a:lnTo>
                <a:lnTo>
                  <a:pt x="2580416" y="226777"/>
                </a:lnTo>
                <a:lnTo>
                  <a:pt x="2559620" y="226777"/>
                </a:lnTo>
                <a:lnTo>
                  <a:pt x="2559620" y="185366"/>
                </a:lnTo>
                <a:lnTo>
                  <a:pt x="2618062" y="185366"/>
                </a:lnTo>
                <a:lnTo>
                  <a:pt x="2650331" y="149870"/>
                </a:lnTo>
                <a:lnTo>
                  <a:pt x="2551733" y="149870"/>
                </a:lnTo>
                <a:lnTo>
                  <a:pt x="2551733" y="108459"/>
                </a:lnTo>
                <a:lnTo>
                  <a:pt x="2616808" y="108459"/>
                </a:lnTo>
                <a:lnTo>
                  <a:pt x="2616808" y="70991"/>
                </a:lnTo>
                <a:lnTo>
                  <a:pt x="2563564" y="70991"/>
                </a:lnTo>
                <a:lnTo>
                  <a:pt x="2563564" y="29580"/>
                </a:lnTo>
                <a:lnTo>
                  <a:pt x="2616808" y="29580"/>
                </a:lnTo>
                <a:lnTo>
                  <a:pt x="2616808" y="9860"/>
                </a:lnTo>
                <a:lnTo>
                  <a:pt x="2664135" y="9860"/>
                </a:lnTo>
                <a:lnTo>
                  <a:pt x="2664135" y="29580"/>
                </a:lnTo>
                <a:lnTo>
                  <a:pt x="2715406" y="29580"/>
                </a:lnTo>
                <a:lnTo>
                  <a:pt x="2715406" y="70991"/>
                </a:lnTo>
                <a:lnTo>
                  <a:pt x="2664135" y="70991"/>
                </a:lnTo>
                <a:lnTo>
                  <a:pt x="2664135" y="108459"/>
                </a:lnTo>
                <a:lnTo>
                  <a:pt x="2719350" y="108459"/>
                </a:lnTo>
                <a:close/>
                <a:moveTo>
                  <a:pt x="82823" y="7888"/>
                </a:moveTo>
                <a:lnTo>
                  <a:pt x="126206" y="47328"/>
                </a:lnTo>
                <a:lnTo>
                  <a:pt x="78879" y="63103"/>
                </a:lnTo>
                <a:lnTo>
                  <a:pt x="33523" y="21692"/>
                </a:lnTo>
                <a:close/>
                <a:moveTo>
                  <a:pt x="301712" y="5916"/>
                </a:moveTo>
                <a:lnTo>
                  <a:pt x="349039" y="5916"/>
                </a:lnTo>
                <a:lnTo>
                  <a:pt x="349039" y="31552"/>
                </a:lnTo>
                <a:lnTo>
                  <a:pt x="447638" y="31552"/>
                </a:lnTo>
                <a:lnTo>
                  <a:pt x="433834" y="136066"/>
                </a:lnTo>
                <a:lnTo>
                  <a:pt x="392422" y="118319"/>
                </a:lnTo>
                <a:lnTo>
                  <a:pt x="396366" y="74935"/>
                </a:lnTo>
                <a:lnTo>
                  <a:pt x="349039" y="74935"/>
                </a:lnTo>
                <a:lnTo>
                  <a:pt x="349039" y="159730"/>
                </a:lnTo>
                <a:lnTo>
                  <a:pt x="441722" y="159730"/>
                </a:lnTo>
                <a:lnTo>
                  <a:pt x="441722" y="240581"/>
                </a:lnTo>
                <a:lnTo>
                  <a:pt x="377391" y="311266"/>
                </a:lnTo>
                <a:lnTo>
                  <a:pt x="451582" y="396367"/>
                </a:lnTo>
                <a:lnTo>
                  <a:pt x="412142" y="416087"/>
                </a:lnTo>
                <a:lnTo>
                  <a:pt x="348406" y="343113"/>
                </a:lnTo>
                <a:lnTo>
                  <a:pt x="281992" y="416087"/>
                </a:lnTo>
                <a:lnTo>
                  <a:pt x="242553" y="396367"/>
                </a:lnTo>
                <a:lnTo>
                  <a:pt x="319628" y="310164"/>
                </a:lnTo>
                <a:lnTo>
                  <a:pt x="276076" y="260301"/>
                </a:lnTo>
                <a:lnTo>
                  <a:pt x="317488" y="242553"/>
                </a:lnTo>
                <a:lnTo>
                  <a:pt x="348388" y="277998"/>
                </a:lnTo>
                <a:lnTo>
                  <a:pt x="392422" y="228749"/>
                </a:lnTo>
                <a:lnTo>
                  <a:pt x="392422" y="205086"/>
                </a:lnTo>
                <a:lnTo>
                  <a:pt x="246497" y="205086"/>
                </a:lnTo>
                <a:lnTo>
                  <a:pt x="246497" y="311572"/>
                </a:lnTo>
                <a:lnTo>
                  <a:pt x="201141" y="400311"/>
                </a:lnTo>
                <a:lnTo>
                  <a:pt x="155786" y="390451"/>
                </a:lnTo>
                <a:lnTo>
                  <a:pt x="199169" y="301712"/>
                </a:lnTo>
                <a:lnTo>
                  <a:pt x="199169" y="31552"/>
                </a:lnTo>
                <a:lnTo>
                  <a:pt x="301712" y="31552"/>
                </a:lnTo>
                <a:close/>
                <a:moveTo>
                  <a:pt x="2827809" y="3944"/>
                </a:moveTo>
                <a:lnTo>
                  <a:pt x="2850345" y="19720"/>
                </a:lnTo>
                <a:lnTo>
                  <a:pt x="2977679" y="19720"/>
                </a:lnTo>
                <a:lnTo>
                  <a:pt x="2977679" y="63103"/>
                </a:lnTo>
                <a:lnTo>
                  <a:pt x="2963875" y="63103"/>
                </a:lnTo>
                <a:lnTo>
                  <a:pt x="2963875" y="173534"/>
                </a:lnTo>
                <a:lnTo>
                  <a:pt x="2913607" y="271677"/>
                </a:lnTo>
                <a:lnTo>
                  <a:pt x="2979651" y="380591"/>
                </a:lnTo>
                <a:lnTo>
                  <a:pt x="2952043" y="416087"/>
                </a:lnTo>
                <a:lnTo>
                  <a:pt x="2890625" y="316546"/>
                </a:lnTo>
                <a:lnTo>
                  <a:pt x="2839641" y="416087"/>
                </a:lnTo>
                <a:lnTo>
                  <a:pt x="2808089" y="386507"/>
                </a:lnTo>
                <a:lnTo>
                  <a:pt x="2864356" y="273973"/>
                </a:lnTo>
                <a:lnTo>
                  <a:pt x="2837669" y="230721"/>
                </a:lnTo>
                <a:lnTo>
                  <a:pt x="2867248" y="195226"/>
                </a:lnTo>
                <a:lnTo>
                  <a:pt x="2887243" y="228199"/>
                </a:lnTo>
                <a:lnTo>
                  <a:pt x="2916547" y="169590"/>
                </a:lnTo>
                <a:lnTo>
                  <a:pt x="2916547" y="63103"/>
                </a:lnTo>
                <a:lnTo>
                  <a:pt x="2863304" y="63103"/>
                </a:lnTo>
                <a:lnTo>
                  <a:pt x="2845556" y="205086"/>
                </a:lnTo>
                <a:lnTo>
                  <a:pt x="2808089" y="179450"/>
                </a:lnTo>
                <a:close/>
                <a:moveTo>
                  <a:pt x="2167198" y="0"/>
                </a:moveTo>
                <a:lnTo>
                  <a:pt x="2179030" y="25636"/>
                </a:lnTo>
                <a:lnTo>
                  <a:pt x="2330872" y="25636"/>
                </a:lnTo>
                <a:lnTo>
                  <a:pt x="2346647" y="0"/>
                </a:lnTo>
                <a:lnTo>
                  <a:pt x="2397919" y="7888"/>
                </a:lnTo>
                <a:lnTo>
                  <a:pt x="2388059" y="25636"/>
                </a:lnTo>
                <a:lnTo>
                  <a:pt x="2461022" y="25636"/>
                </a:lnTo>
                <a:lnTo>
                  <a:pt x="2461022" y="61132"/>
                </a:lnTo>
                <a:lnTo>
                  <a:pt x="2239054" y="61132"/>
                </a:lnTo>
                <a:lnTo>
                  <a:pt x="2224939" y="84795"/>
                </a:lnTo>
                <a:lnTo>
                  <a:pt x="2451162" y="84795"/>
                </a:lnTo>
                <a:lnTo>
                  <a:pt x="2451162" y="120291"/>
                </a:lnTo>
                <a:lnTo>
                  <a:pt x="2203766" y="120291"/>
                </a:lnTo>
                <a:lnTo>
                  <a:pt x="2189651" y="143954"/>
                </a:lnTo>
                <a:lnTo>
                  <a:pt x="2464966" y="143954"/>
                </a:lnTo>
                <a:lnTo>
                  <a:pt x="2464966" y="179450"/>
                </a:lnTo>
                <a:lnTo>
                  <a:pt x="2154728" y="179450"/>
                </a:lnTo>
                <a:lnTo>
                  <a:pt x="2123466" y="201142"/>
                </a:lnTo>
                <a:lnTo>
                  <a:pt x="2449190" y="201142"/>
                </a:lnTo>
                <a:lnTo>
                  <a:pt x="2449190" y="416087"/>
                </a:lnTo>
                <a:lnTo>
                  <a:pt x="2054795" y="416087"/>
                </a:lnTo>
                <a:lnTo>
                  <a:pt x="2054795" y="234074"/>
                </a:lnTo>
                <a:lnTo>
                  <a:pt x="2027188" y="218889"/>
                </a:lnTo>
                <a:lnTo>
                  <a:pt x="2084027" y="179450"/>
                </a:lnTo>
                <a:lnTo>
                  <a:pt x="2037048" y="179450"/>
                </a:lnTo>
                <a:lnTo>
                  <a:pt x="2037048" y="143954"/>
                </a:lnTo>
                <a:lnTo>
                  <a:pt x="2136823" y="143954"/>
                </a:lnTo>
                <a:lnTo>
                  <a:pt x="2150938" y="120291"/>
                </a:lnTo>
                <a:lnTo>
                  <a:pt x="2052823" y="120291"/>
                </a:lnTo>
                <a:lnTo>
                  <a:pt x="2052823" y="84795"/>
                </a:lnTo>
                <a:lnTo>
                  <a:pt x="2172110" y="84795"/>
                </a:lnTo>
                <a:lnTo>
                  <a:pt x="2186226" y="61132"/>
                </a:lnTo>
                <a:lnTo>
                  <a:pt x="2040992" y="61132"/>
                </a:lnTo>
                <a:lnTo>
                  <a:pt x="2040992" y="25636"/>
                </a:lnTo>
                <a:lnTo>
                  <a:pt x="2123814" y="25636"/>
                </a:lnTo>
                <a:lnTo>
                  <a:pt x="2115927" y="9860"/>
                </a:lnTo>
                <a:close/>
                <a:moveTo>
                  <a:pt x="631031" y="0"/>
                </a:moveTo>
                <a:lnTo>
                  <a:pt x="652723" y="31552"/>
                </a:lnTo>
                <a:lnTo>
                  <a:pt x="820340" y="31552"/>
                </a:lnTo>
                <a:lnTo>
                  <a:pt x="838088" y="0"/>
                </a:lnTo>
                <a:lnTo>
                  <a:pt x="887388" y="15776"/>
                </a:lnTo>
                <a:lnTo>
                  <a:pt x="877528" y="31552"/>
                </a:lnTo>
                <a:lnTo>
                  <a:pt x="950491" y="31552"/>
                </a:lnTo>
                <a:lnTo>
                  <a:pt x="950491" y="74935"/>
                </a:lnTo>
                <a:lnTo>
                  <a:pt x="763154" y="74935"/>
                </a:lnTo>
                <a:lnTo>
                  <a:pt x="763154" y="112403"/>
                </a:lnTo>
                <a:lnTo>
                  <a:pt x="934715" y="112403"/>
                </a:lnTo>
                <a:lnTo>
                  <a:pt x="934715" y="153814"/>
                </a:lnTo>
                <a:lnTo>
                  <a:pt x="763154" y="153814"/>
                </a:lnTo>
                <a:lnTo>
                  <a:pt x="763154" y="189310"/>
                </a:lnTo>
                <a:lnTo>
                  <a:pt x="948519" y="189310"/>
                </a:lnTo>
                <a:lnTo>
                  <a:pt x="948519" y="232693"/>
                </a:lnTo>
                <a:lnTo>
                  <a:pt x="528489" y="232693"/>
                </a:lnTo>
                <a:lnTo>
                  <a:pt x="528489" y="189310"/>
                </a:lnTo>
                <a:lnTo>
                  <a:pt x="715826" y="189310"/>
                </a:lnTo>
                <a:lnTo>
                  <a:pt x="715826" y="153814"/>
                </a:lnTo>
                <a:lnTo>
                  <a:pt x="540320" y="153814"/>
                </a:lnTo>
                <a:lnTo>
                  <a:pt x="540320" y="112403"/>
                </a:lnTo>
                <a:lnTo>
                  <a:pt x="715826" y="112403"/>
                </a:lnTo>
                <a:lnTo>
                  <a:pt x="715826" y="74935"/>
                </a:lnTo>
                <a:lnTo>
                  <a:pt x="528489" y="74935"/>
                </a:lnTo>
                <a:lnTo>
                  <a:pt x="528489" y="31552"/>
                </a:lnTo>
                <a:lnTo>
                  <a:pt x="593564" y="31552"/>
                </a:lnTo>
                <a:lnTo>
                  <a:pt x="583704" y="157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文本框 8199"/>
          <p:cNvSpPr/>
          <p:nvPr/>
        </p:nvSpPr>
        <p:spPr>
          <a:xfrm>
            <a:off x="2014560" y="3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25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5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25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ntr" presetID="1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3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3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dur="indefinite" autoRev="1" nodeType="withEffect" fill="hold" presetClass="emph" presetID="8" repeatCount="indefinite">
                                  <p:stCondLst>
                                    <p:cond delay="750"/>
                                  </p:stCondLst>
                                  <p:childTnLst>
                                    <p:animRot by="1500000">
                                      <p:cBhvr>
                                        <p:cTn id="1276" dur="500" fill="hold"/>
                                        <p:tgtEl>
                                          <p:spTgt spid="3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3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3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3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dur="indefinite" autoRev="1" nodeType="withEffect" fill="hold" presetClass="path" presetID="42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0833E-006 -7.40741E-007 L -0.00013 0.04074 E">
                                      <p:cBhvr>
                                        <p:cTn id="1298" dur="500" fill="hold"/>
                                        <p:tgtEl>
                                          <p:spTgt spid="3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autoRev="1" nodeType="withEffect" fill="hold" presetClass="path" presetID="42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66667E-006 3.7037E-007 L 1.66667E-006 0.02431 E">
                                      <p:cBhvr>
                                        <p:cTn id="1300" dur="500" fill="hold"/>
                                        <p:tgtEl>
                                          <p:spTgt spid="3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dur="indefinite" autoRev="1" nodeType="withEffect" fill="hold" presetClass="path" presetID="42" repeatCount="indefinite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5E-006 4.44444E-006 L 5E-006 0.02523 E">
                                      <p:cBhvr>
                                        <p:cTn id="1302" dur="500" fill="hold"/>
                                        <p:tgtEl>
                                          <p:spTgt spid="3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dur="indefinite" autoRev="1" nodeType="withEffect" fill="hold" presetClass="path" presetID="42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08333E-007 -4.44444E-006 L -2.08333E-007 0.03727 E">
                                      <p:cBhvr>
                                        <p:cTn id="1304" dur="500" fill="hold"/>
                                        <p:tgtEl>
                                          <p:spTgt spid="3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矩形 199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46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文本框 205"/>
          <p:cNvSpPr/>
          <p:nvPr/>
        </p:nvSpPr>
        <p:spPr>
          <a:xfrm>
            <a:off x="1125360" y="976320"/>
            <a:ext cx="1719360" cy="407880"/>
          </a:xfrm>
          <a:custGeom>
            <a:avLst/>
            <a:gdLst/>
            <a:ahLst/>
            <a:rect l="l" t="t" r="r" b="b"/>
            <a:pathLst>
              <a:path w="171929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466887" y="63103"/>
                </a:moveTo>
                <a:lnTo>
                  <a:pt x="1466887" y="339180"/>
                </a:lnTo>
                <a:lnTo>
                  <a:pt x="1668028" y="339180"/>
                </a:lnTo>
                <a:lnTo>
                  <a:pt x="1668028" y="63103"/>
                </a:lnTo>
                <a:close/>
                <a:moveTo>
                  <a:pt x="1415616" y="17748"/>
                </a:moveTo>
                <a:lnTo>
                  <a:pt x="1719299" y="17748"/>
                </a:lnTo>
                <a:lnTo>
                  <a:pt x="1719299" y="384535"/>
                </a:lnTo>
                <a:lnTo>
                  <a:pt x="1415616" y="384535"/>
                </a:lnTo>
                <a:close/>
                <a:moveTo>
                  <a:pt x="1021482" y="17748"/>
                </a:moveTo>
                <a:lnTo>
                  <a:pt x="1317278" y="17748"/>
                </a:lnTo>
                <a:lnTo>
                  <a:pt x="1317278" y="222833"/>
                </a:lnTo>
                <a:lnTo>
                  <a:pt x="1074725" y="222833"/>
                </a:lnTo>
                <a:lnTo>
                  <a:pt x="1074725" y="339180"/>
                </a:lnTo>
                <a:lnTo>
                  <a:pt x="1317278" y="339180"/>
                </a:lnTo>
                <a:lnTo>
                  <a:pt x="1317278" y="384535"/>
                </a:lnTo>
                <a:lnTo>
                  <a:pt x="1017538" y="384535"/>
                </a:lnTo>
                <a:lnTo>
                  <a:pt x="1017538" y="177478"/>
                </a:lnTo>
                <a:lnTo>
                  <a:pt x="1262062" y="177478"/>
                </a:lnTo>
                <a:lnTo>
                  <a:pt x="1262062" y="63103"/>
                </a:lnTo>
                <a:lnTo>
                  <a:pt x="1021482" y="63103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7" name="文本框 206"/>
          <p:cNvSpPr/>
          <p:nvPr/>
        </p:nvSpPr>
        <p:spPr>
          <a:xfrm>
            <a:off x="1119240" y="1797120"/>
            <a:ext cx="3967200" cy="415800"/>
          </a:xfrm>
          <a:custGeom>
            <a:avLst/>
            <a:gdLst/>
            <a:ahLst/>
            <a:rect l="l" t="t" r="r" b="b"/>
            <a:pathLst>
              <a:path w="3967944" h="416087">
                <a:moveTo>
                  <a:pt x="1589410" y="345096"/>
                </a:moveTo>
                <a:lnTo>
                  <a:pt x="1589410" y="374675"/>
                </a:lnTo>
                <a:lnTo>
                  <a:pt x="1887178" y="374675"/>
                </a:lnTo>
                <a:lnTo>
                  <a:pt x="1887178" y="345096"/>
                </a:lnTo>
                <a:close/>
                <a:moveTo>
                  <a:pt x="422002" y="333264"/>
                </a:moveTo>
                <a:lnTo>
                  <a:pt x="445666" y="368759"/>
                </a:lnTo>
                <a:lnTo>
                  <a:pt x="23664" y="414115"/>
                </a:lnTo>
                <a:lnTo>
                  <a:pt x="0" y="378619"/>
                </a:lnTo>
                <a:close/>
                <a:moveTo>
                  <a:pt x="3721447" y="315516"/>
                </a:moveTo>
                <a:lnTo>
                  <a:pt x="3772718" y="315516"/>
                </a:lnTo>
                <a:lnTo>
                  <a:pt x="3772718" y="349040"/>
                </a:lnTo>
                <a:lnTo>
                  <a:pt x="3967944" y="386507"/>
                </a:lnTo>
                <a:lnTo>
                  <a:pt x="3932448" y="416087"/>
                </a:lnTo>
                <a:lnTo>
                  <a:pt x="3749055" y="384535"/>
                </a:lnTo>
                <a:lnTo>
                  <a:pt x="3563689" y="416087"/>
                </a:lnTo>
                <a:lnTo>
                  <a:pt x="3530166" y="386507"/>
                </a:lnTo>
                <a:lnTo>
                  <a:pt x="3721447" y="349040"/>
                </a:lnTo>
                <a:close/>
                <a:moveTo>
                  <a:pt x="1589410" y="272133"/>
                </a:moveTo>
                <a:lnTo>
                  <a:pt x="1589410" y="303684"/>
                </a:lnTo>
                <a:lnTo>
                  <a:pt x="1887178" y="303684"/>
                </a:lnTo>
                <a:lnTo>
                  <a:pt x="1887178" y="272133"/>
                </a:lnTo>
                <a:close/>
                <a:moveTo>
                  <a:pt x="398338" y="252413"/>
                </a:moveTo>
                <a:lnTo>
                  <a:pt x="422002" y="289880"/>
                </a:lnTo>
                <a:lnTo>
                  <a:pt x="45355" y="333264"/>
                </a:lnTo>
                <a:lnTo>
                  <a:pt x="19720" y="295796"/>
                </a:lnTo>
                <a:close/>
                <a:moveTo>
                  <a:pt x="3666232" y="232693"/>
                </a:moveTo>
                <a:lnTo>
                  <a:pt x="3622848" y="256357"/>
                </a:lnTo>
                <a:lnTo>
                  <a:pt x="3883149" y="256357"/>
                </a:lnTo>
                <a:lnTo>
                  <a:pt x="3837793" y="232693"/>
                </a:lnTo>
                <a:close/>
                <a:moveTo>
                  <a:pt x="1542082" y="230721"/>
                </a:moveTo>
                <a:lnTo>
                  <a:pt x="1936477" y="230721"/>
                </a:lnTo>
                <a:lnTo>
                  <a:pt x="1936477" y="416087"/>
                </a:lnTo>
                <a:lnTo>
                  <a:pt x="1542082" y="416087"/>
                </a:lnTo>
                <a:close/>
                <a:moveTo>
                  <a:pt x="281992" y="193254"/>
                </a:moveTo>
                <a:lnTo>
                  <a:pt x="307628" y="226777"/>
                </a:lnTo>
                <a:lnTo>
                  <a:pt x="104514" y="254385"/>
                </a:lnTo>
                <a:lnTo>
                  <a:pt x="78879" y="220861"/>
                </a:lnTo>
                <a:close/>
                <a:moveTo>
                  <a:pt x="3682008" y="179450"/>
                </a:moveTo>
                <a:lnTo>
                  <a:pt x="3682008" y="201142"/>
                </a:lnTo>
                <a:lnTo>
                  <a:pt x="3816102" y="201142"/>
                </a:lnTo>
                <a:lnTo>
                  <a:pt x="3816102" y="179450"/>
                </a:lnTo>
                <a:close/>
                <a:moveTo>
                  <a:pt x="3682008" y="128179"/>
                </a:moveTo>
                <a:lnTo>
                  <a:pt x="3682008" y="145926"/>
                </a:lnTo>
                <a:lnTo>
                  <a:pt x="3816102" y="145926"/>
                </a:lnTo>
                <a:lnTo>
                  <a:pt x="3816102" y="128179"/>
                </a:lnTo>
                <a:close/>
                <a:moveTo>
                  <a:pt x="2425303" y="114375"/>
                </a:moveTo>
                <a:lnTo>
                  <a:pt x="2425303" y="216917"/>
                </a:lnTo>
                <a:lnTo>
                  <a:pt x="2590949" y="216917"/>
                </a:lnTo>
                <a:lnTo>
                  <a:pt x="2590949" y="114375"/>
                </a:lnTo>
                <a:close/>
                <a:moveTo>
                  <a:pt x="2082403" y="114375"/>
                </a:moveTo>
                <a:lnTo>
                  <a:pt x="2082403" y="216917"/>
                </a:lnTo>
                <a:lnTo>
                  <a:pt x="2248049" y="216917"/>
                </a:lnTo>
                <a:lnTo>
                  <a:pt x="2248049" y="114375"/>
                </a:lnTo>
                <a:close/>
                <a:moveTo>
                  <a:pt x="1246287" y="88739"/>
                </a:moveTo>
                <a:lnTo>
                  <a:pt x="1246287" y="220861"/>
                </a:lnTo>
                <a:lnTo>
                  <a:pt x="1396157" y="220861"/>
                </a:lnTo>
                <a:lnTo>
                  <a:pt x="1396157" y="88739"/>
                </a:lnTo>
                <a:close/>
                <a:moveTo>
                  <a:pt x="1904925" y="86767"/>
                </a:moveTo>
                <a:lnTo>
                  <a:pt x="1950281" y="108459"/>
                </a:lnTo>
                <a:lnTo>
                  <a:pt x="1895066" y="140010"/>
                </a:lnTo>
                <a:lnTo>
                  <a:pt x="1847738" y="118319"/>
                </a:lnTo>
                <a:close/>
                <a:moveTo>
                  <a:pt x="1573634" y="86767"/>
                </a:moveTo>
                <a:lnTo>
                  <a:pt x="1630821" y="118319"/>
                </a:lnTo>
                <a:lnTo>
                  <a:pt x="1583494" y="140010"/>
                </a:lnTo>
                <a:lnTo>
                  <a:pt x="1528279" y="108459"/>
                </a:lnTo>
                <a:close/>
                <a:moveTo>
                  <a:pt x="3632708" y="78879"/>
                </a:moveTo>
                <a:lnTo>
                  <a:pt x="3682008" y="78879"/>
                </a:lnTo>
                <a:lnTo>
                  <a:pt x="3682008" y="94655"/>
                </a:lnTo>
                <a:lnTo>
                  <a:pt x="3816102" y="94655"/>
                </a:lnTo>
                <a:lnTo>
                  <a:pt x="3816102" y="78879"/>
                </a:lnTo>
                <a:lnTo>
                  <a:pt x="3865401" y="78879"/>
                </a:lnTo>
                <a:lnTo>
                  <a:pt x="3865401" y="94655"/>
                </a:lnTo>
                <a:lnTo>
                  <a:pt x="3946252" y="94655"/>
                </a:lnTo>
                <a:lnTo>
                  <a:pt x="3946252" y="128179"/>
                </a:lnTo>
                <a:lnTo>
                  <a:pt x="3865401" y="128179"/>
                </a:lnTo>
                <a:lnTo>
                  <a:pt x="3865401" y="145926"/>
                </a:lnTo>
                <a:lnTo>
                  <a:pt x="3946252" y="145926"/>
                </a:lnTo>
                <a:lnTo>
                  <a:pt x="3946252" y="179450"/>
                </a:lnTo>
                <a:lnTo>
                  <a:pt x="3865401" y="179450"/>
                </a:lnTo>
                <a:lnTo>
                  <a:pt x="3865401" y="201142"/>
                </a:lnTo>
                <a:lnTo>
                  <a:pt x="3958084" y="201142"/>
                </a:lnTo>
                <a:lnTo>
                  <a:pt x="3958084" y="232693"/>
                </a:lnTo>
                <a:lnTo>
                  <a:pt x="3914700" y="232693"/>
                </a:lnTo>
                <a:lnTo>
                  <a:pt x="3965972" y="260301"/>
                </a:lnTo>
                <a:lnTo>
                  <a:pt x="3926532" y="272133"/>
                </a:lnTo>
                <a:lnTo>
                  <a:pt x="3926532" y="345096"/>
                </a:lnTo>
                <a:lnTo>
                  <a:pt x="3879205" y="345096"/>
                </a:lnTo>
                <a:lnTo>
                  <a:pt x="3879205" y="293824"/>
                </a:lnTo>
                <a:lnTo>
                  <a:pt x="3620876" y="293824"/>
                </a:lnTo>
                <a:lnTo>
                  <a:pt x="3620876" y="345096"/>
                </a:lnTo>
                <a:lnTo>
                  <a:pt x="3571577" y="345096"/>
                </a:lnTo>
                <a:lnTo>
                  <a:pt x="3571577" y="274105"/>
                </a:lnTo>
                <a:lnTo>
                  <a:pt x="3534110" y="262273"/>
                </a:lnTo>
                <a:lnTo>
                  <a:pt x="3591297" y="232693"/>
                </a:lnTo>
                <a:lnTo>
                  <a:pt x="3540026" y="232693"/>
                </a:lnTo>
                <a:lnTo>
                  <a:pt x="3540026" y="201142"/>
                </a:lnTo>
                <a:lnTo>
                  <a:pt x="3632708" y="201142"/>
                </a:lnTo>
                <a:lnTo>
                  <a:pt x="3632708" y="179450"/>
                </a:lnTo>
                <a:lnTo>
                  <a:pt x="3551857" y="179450"/>
                </a:lnTo>
                <a:lnTo>
                  <a:pt x="3551857" y="145926"/>
                </a:lnTo>
                <a:lnTo>
                  <a:pt x="3632708" y="145926"/>
                </a:lnTo>
                <a:lnTo>
                  <a:pt x="3632708" y="128179"/>
                </a:lnTo>
                <a:lnTo>
                  <a:pt x="3551857" y="128179"/>
                </a:lnTo>
                <a:lnTo>
                  <a:pt x="3551857" y="94655"/>
                </a:lnTo>
                <a:lnTo>
                  <a:pt x="3632708" y="94655"/>
                </a:lnTo>
                <a:close/>
                <a:moveTo>
                  <a:pt x="1699840" y="72963"/>
                </a:moveTo>
                <a:lnTo>
                  <a:pt x="1699840" y="157758"/>
                </a:lnTo>
                <a:lnTo>
                  <a:pt x="1778719" y="157758"/>
                </a:lnTo>
                <a:lnTo>
                  <a:pt x="1778719" y="72963"/>
                </a:lnTo>
                <a:close/>
                <a:moveTo>
                  <a:pt x="2697212" y="69019"/>
                </a:moveTo>
                <a:lnTo>
                  <a:pt x="2971316" y="69019"/>
                </a:lnTo>
                <a:lnTo>
                  <a:pt x="2971316" y="112403"/>
                </a:lnTo>
                <a:lnTo>
                  <a:pt x="2858914" y="112403"/>
                </a:lnTo>
                <a:lnTo>
                  <a:pt x="2858914" y="386507"/>
                </a:lnTo>
                <a:lnTo>
                  <a:pt x="2809614" y="386507"/>
                </a:lnTo>
                <a:lnTo>
                  <a:pt x="2809614" y="112403"/>
                </a:lnTo>
                <a:lnTo>
                  <a:pt x="2697212" y="112403"/>
                </a:lnTo>
                <a:close/>
                <a:moveTo>
                  <a:pt x="2374032" y="69019"/>
                </a:moveTo>
                <a:lnTo>
                  <a:pt x="2642220" y="69019"/>
                </a:lnTo>
                <a:lnTo>
                  <a:pt x="2642220" y="262273"/>
                </a:lnTo>
                <a:lnTo>
                  <a:pt x="2425303" y="262273"/>
                </a:lnTo>
                <a:lnTo>
                  <a:pt x="2425303" y="386507"/>
                </a:lnTo>
                <a:lnTo>
                  <a:pt x="2374032" y="386507"/>
                </a:lnTo>
                <a:close/>
                <a:moveTo>
                  <a:pt x="2031132" y="69019"/>
                </a:moveTo>
                <a:lnTo>
                  <a:pt x="2299320" y="69019"/>
                </a:lnTo>
                <a:lnTo>
                  <a:pt x="2299320" y="262273"/>
                </a:lnTo>
                <a:lnTo>
                  <a:pt x="2082403" y="262273"/>
                </a:lnTo>
                <a:lnTo>
                  <a:pt x="2082403" y="386507"/>
                </a:lnTo>
                <a:lnTo>
                  <a:pt x="2031132" y="386507"/>
                </a:lnTo>
                <a:close/>
                <a:moveTo>
                  <a:pt x="814425" y="63103"/>
                </a:moveTo>
                <a:lnTo>
                  <a:pt x="814425" y="372703"/>
                </a:lnTo>
                <a:lnTo>
                  <a:pt x="889359" y="372703"/>
                </a:lnTo>
                <a:lnTo>
                  <a:pt x="889359" y="63103"/>
                </a:lnTo>
                <a:close/>
                <a:moveTo>
                  <a:pt x="763153" y="19720"/>
                </a:moveTo>
                <a:lnTo>
                  <a:pt x="938659" y="19720"/>
                </a:lnTo>
                <a:lnTo>
                  <a:pt x="938659" y="416087"/>
                </a:lnTo>
                <a:lnTo>
                  <a:pt x="763153" y="416087"/>
                </a:lnTo>
                <a:close/>
                <a:moveTo>
                  <a:pt x="3216622" y="7888"/>
                </a:moveTo>
                <a:lnTo>
                  <a:pt x="3267893" y="7888"/>
                </a:lnTo>
                <a:lnTo>
                  <a:pt x="3267893" y="88739"/>
                </a:lnTo>
                <a:lnTo>
                  <a:pt x="3451287" y="88739"/>
                </a:lnTo>
                <a:lnTo>
                  <a:pt x="3451287" y="134095"/>
                </a:lnTo>
                <a:lnTo>
                  <a:pt x="3267893" y="134095"/>
                </a:lnTo>
                <a:lnTo>
                  <a:pt x="3267893" y="195226"/>
                </a:lnTo>
                <a:lnTo>
                  <a:pt x="3457203" y="384535"/>
                </a:lnTo>
                <a:lnTo>
                  <a:pt x="3419735" y="416087"/>
                </a:lnTo>
                <a:lnTo>
                  <a:pt x="3242258" y="238609"/>
                </a:lnTo>
                <a:lnTo>
                  <a:pt x="3068724" y="416087"/>
                </a:lnTo>
                <a:lnTo>
                  <a:pt x="3031257" y="386507"/>
                </a:lnTo>
                <a:lnTo>
                  <a:pt x="3216622" y="195226"/>
                </a:lnTo>
                <a:lnTo>
                  <a:pt x="3216622" y="134095"/>
                </a:lnTo>
                <a:lnTo>
                  <a:pt x="3037173" y="134095"/>
                </a:lnTo>
                <a:lnTo>
                  <a:pt x="3037173" y="88739"/>
                </a:lnTo>
                <a:lnTo>
                  <a:pt x="3216622" y="88739"/>
                </a:lnTo>
                <a:close/>
                <a:moveTo>
                  <a:pt x="74935" y="3944"/>
                </a:moveTo>
                <a:lnTo>
                  <a:pt x="126206" y="11832"/>
                </a:lnTo>
                <a:lnTo>
                  <a:pt x="106486" y="39440"/>
                </a:lnTo>
                <a:lnTo>
                  <a:pt x="349039" y="39440"/>
                </a:lnTo>
                <a:lnTo>
                  <a:pt x="333263" y="19720"/>
                </a:lnTo>
                <a:lnTo>
                  <a:pt x="384535" y="11832"/>
                </a:lnTo>
                <a:lnTo>
                  <a:pt x="429890" y="80851"/>
                </a:lnTo>
                <a:lnTo>
                  <a:pt x="240580" y="80851"/>
                </a:lnTo>
                <a:lnTo>
                  <a:pt x="232693" y="114375"/>
                </a:lnTo>
                <a:lnTo>
                  <a:pt x="431862" y="114375"/>
                </a:lnTo>
                <a:lnTo>
                  <a:pt x="431862" y="155786"/>
                </a:lnTo>
                <a:lnTo>
                  <a:pt x="352983" y="155786"/>
                </a:lnTo>
                <a:lnTo>
                  <a:pt x="435806" y="197198"/>
                </a:lnTo>
                <a:lnTo>
                  <a:pt x="388479" y="212973"/>
                </a:lnTo>
                <a:lnTo>
                  <a:pt x="276076" y="155786"/>
                </a:lnTo>
                <a:lnTo>
                  <a:pt x="191281" y="155786"/>
                </a:lnTo>
                <a:lnTo>
                  <a:pt x="63103" y="214945"/>
                </a:lnTo>
                <a:lnTo>
                  <a:pt x="13804" y="199170"/>
                </a:lnTo>
                <a:lnTo>
                  <a:pt x="108458" y="155786"/>
                </a:lnTo>
                <a:lnTo>
                  <a:pt x="17747" y="155786"/>
                </a:lnTo>
                <a:lnTo>
                  <a:pt x="17747" y="114375"/>
                </a:lnTo>
                <a:lnTo>
                  <a:pt x="177477" y="114375"/>
                </a:lnTo>
                <a:lnTo>
                  <a:pt x="187337" y="80851"/>
                </a:lnTo>
                <a:lnTo>
                  <a:pt x="21692" y="80851"/>
                </a:lnTo>
                <a:close/>
                <a:moveTo>
                  <a:pt x="3772718" y="1972"/>
                </a:moveTo>
                <a:lnTo>
                  <a:pt x="3778634" y="25636"/>
                </a:lnTo>
                <a:lnTo>
                  <a:pt x="3958084" y="25636"/>
                </a:lnTo>
                <a:lnTo>
                  <a:pt x="3958084" y="78879"/>
                </a:lnTo>
                <a:lnTo>
                  <a:pt x="3908784" y="78879"/>
                </a:lnTo>
                <a:lnTo>
                  <a:pt x="3908784" y="61132"/>
                </a:lnTo>
                <a:lnTo>
                  <a:pt x="3587353" y="61132"/>
                </a:lnTo>
                <a:lnTo>
                  <a:pt x="3587353" y="78879"/>
                </a:lnTo>
                <a:lnTo>
                  <a:pt x="3540026" y="78879"/>
                </a:lnTo>
                <a:lnTo>
                  <a:pt x="3540026" y="25636"/>
                </a:lnTo>
                <a:lnTo>
                  <a:pt x="3725391" y="25636"/>
                </a:lnTo>
                <a:lnTo>
                  <a:pt x="3719475" y="9860"/>
                </a:lnTo>
                <a:close/>
                <a:moveTo>
                  <a:pt x="1043173" y="1972"/>
                </a:moveTo>
                <a:lnTo>
                  <a:pt x="1082613" y="27608"/>
                </a:lnTo>
                <a:lnTo>
                  <a:pt x="1075524" y="55216"/>
                </a:lnTo>
                <a:lnTo>
                  <a:pt x="1157548" y="55216"/>
                </a:lnTo>
                <a:lnTo>
                  <a:pt x="1157548" y="96627"/>
                </a:lnTo>
                <a:lnTo>
                  <a:pt x="1064892" y="96627"/>
                </a:lnTo>
                <a:lnTo>
                  <a:pt x="1055778" y="132123"/>
                </a:lnTo>
                <a:lnTo>
                  <a:pt x="1143744" y="132123"/>
                </a:lnTo>
                <a:lnTo>
                  <a:pt x="1143744" y="173534"/>
                </a:lnTo>
                <a:lnTo>
                  <a:pt x="1094445" y="173534"/>
                </a:lnTo>
                <a:lnTo>
                  <a:pt x="1094445" y="212973"/>
                </a:lnTo>
                <a:lnTo>
                  <a:pt x="1159520" y="212973"/>
                </a:lnTo>
                <a:lnTo>
                  <a:pt x="1159520" y="256357"/>
                </a:lnTo>
                <a:lnTo>
                  <a:pt x="1094445" y="256357"/>
                </a:lnTo>
                <a:lnTo>
                  <a:pt x="1094445" y="334203"/>
                </a:lnTo>
                <a:lnTo>
                  <a:pt x="1137828" y="313544"/>
                </a:lnTo>
                <a:lnTo>
                  <a:pt x="1147688" y="354956"/>
                </a:lnTo>
                <a:lnTo>
                  <a:pt x="1025426" y="414115"/>
                </a:lnTo>
                <a:lnTo>
                  <a:pt x="1013594" y="372703"/>
                </a:lnTo>
                <a:lnTo>
                  <a:pt x="1045145" y="357679"/>
                </a:lnTo>
                <a:lnTo>
                  <a:pt x="1045145" y="256357"/>
                </a:lnTo>
                <a:lnTo>
                  <a:pt x="1013594" y="256357"/>
                </a:lnTo>
                <a:lnTo>
                  <a:pt x="1013594" y="212973"/>
                </a:lnTo>
                <a:lnTo>
                  <a:pt x="1045145" y="212973"/>
                </a:lnTo>
                <a:lnTo>
                  <a:pt x="1045145" y="173534"/>
                </a:lnTo>
                <a:lnTo>
                  <a:pt x="1007678" y="147898"/>
                </a:lnTo>
                <a:close/>
                <a:moveTo>
                  <a:pt x="1668289" y="0"/>
                </a:moveTo>
                <a:lnTo>
                  <a:pt x="1688008" y="31552"/>
                </a:lnTo>
                <a:lnTo>
                  <a:pt x="1796467" y="31552"/>
                </a:lnTo>
                <a:lnTo>
                  <a:pt x="1820131" y="0"/>
                </a:lnTo>
                <a:lnTo>
                  <a:pt x="1863514" y="13804"/>
                </a:lnTo>
                <a:lnTo>
                  <a:pt x="1853654" y="31552"/>
                </a:lnTo>
                <a:lnTo>
                  <a:pt x="1948309" y="31552"/>
                </a:lnTo>
                <a:lnTo>
                  <a:pt x="1948309" y="72963"/>
                </a:lnTo>
                <a:lnTo>
                  <a:pt x="1828019" y="72963"/>
                </a:lnTo>
                <a:lnTo>
                  <a:pt x="1828019" y="157758"/>
                </a:lnTo>
                <a:lnTo>
                  <a:pt x="1954225" y="157758"/>
                </a:lnTo>
                <a:lnTo>
                  <a:pt x="1954225" y="199170"/>
                </a:lnTo>
                <a:lnTo>
                  <a:pt x="1524335" y="199170"/>
                </a:lnTo>
                <a:lnTo>
                  <a:pt x="1524335" y="157758"/>
                </a:lnTo>
                <a:lnTo>
                  <a:pt x="1652513" y="157758"/>
                </a:lnTo>
                <a:lnTo>
                  <a:pt x="1652513" y="72963"/>
                </a:lnTo>
                <a:lnTo>
                  <a:pt x="1536167" y="72963"/>
                </a:lnTo>
                <a:lnTo>
                  <a:pt x="1536167" y="31552"/>
                </a:lnTo>
                <a:lnTo>
                  <a:pt x="1630821" y="31552"/>
                </a:lnTo>
                <a:lnTo>
                  <a:pt x="1620961" y="13804"/>
                </a:lnTo>
                <a:close/>
                <a:moveTo>
                  <a:pt x="1277838" y="0"/>
                </a:moveTo>
                <a:lnTo>
                  <a:pt x="1303474" y="49300"/>
                </a:lnTo>
                <a:lnTo>
                  <a:pt x="1342913" y="49300"/>
                </a:lnTo>
                <a:lnTo>
                  <a:pt x="1368549" y="0"/>
                </a:lnTo>
                <a:lnTo>
                  <a:pt x="1415876" y="11832"/>
                </a:lnTo>
                <a:lnTo>
                  <a:pt x="1396157" y="49300"/>
                </a:lnTo>
                <a:lnTo>
                  <a:pt x="1445456" y="49300"/>
                </a:lnTo>
                <a:lnTo>
                  <a:pt x="1445456" y="264245"/>
                </a:lnTo>
                <a:lnTo>
                  <a:pt x="1394185" y="264245"/>
                </a:lnTo>
                <a:lnTo>
                  <a:pt x="1394185" y="372703"/>
                </a:lnTo>
                <a:lnTo>
                  <a:pt x="1453344" y="372703"/>
                </a:lnTo>
                <a:lnTo>
                  <a:pt x="1453344" y="416087"/>
                </a:lnTo>
                <a:lnTo>
                  <a:pt x="1346857" y="416087"/>
                </a:lnTo>
                <a:lnTo>
                  <a:pt x="1346857" y="264245"/>
                </a:lnTo>
                <a:lnTo>
                  <a:pt x="1305446" y="264245"/>
                </a:lnTo>
                <a:lnTo>
                  <a:pt x="1226567" y="416087"/>
                </a:lnTo>
                <a:lnTo>
                  <a:pt x="1179240" y="408199"/>
                </a:lnTo>
                <a:lnTo>
                  <a:pt x="1254174" y="264245"/>
                </a:lnTo>
                <a:lnTo>
                  <a:pt x="1196987" y="264245"/>
                </a:lnTo>
                <a:lnTo>
                  <a:pt x="1196987" y="49300"/>
                </a:lnTo>
                <a:lnTo>
                  <a:pt x="1250231" y="49300"/>
                </a:lnTo>
                <a:lnTo>
                  <a:pt x="1230511" y="11832"/>
                </a:lnTo>
                <a:close/>
                <a:moveTo>
                  <a:pt x="562012" y="0"/>
                </a:moveTo>
                <a:lnTo>
                  <a:pt x="611312" y="0"/>
                </a:lnTo>
                <a:lnTo>
                  <a:pt x="609339" y="41412"/>
                </a:lnTo>
                <a:lnTo>
                  <a:pt x="707938" y="41412"/>
                </a:lnTo>
                <a:lnTo>
                  <a:pt x="707938" y="416087"/>
                </a:lnTo>
                <a:lnTo>
                  <a:pt x="629059" y="416087"/>
                </a:lnTo>
                <a:lnTo>
                  <a:pt x="629059" y="372703"/>
                </a:lnTo>
                <a:lnTo>
                  <a:pt x="660611" y="372703"/>
                </a:lnTo>
                <a:lnTo>
                  <a:pt x="660611" y="80851"/>
                </a:lnTo>
                <a:lnTo>
                  <a:pt x="605396" y="80851"/>
                </a:lnTo>
                <a:lnTo>
                  <a:pt x="554124" y="416087"/>
                </a:lnTo>
                <a:lnTo>
                  <a:pt x="508769" y="410171"/>
                </a:lnTo>
                <a:lnTo>
                  <a:pt x="556096" y="80851"/>
                </a:lnTo>
                <a:lnTo>
                  <a:pt x="510741" y="80851"/>
                </a:lnTo>
                <a:lnTo>
                  <a:pt x="510741" y="41412"/>
                </a:lnTo>
                <a:lnTo>
                  <a:pt x="560040" y="41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Freeform 19"/>
          <p:cNvSpPr/>
          <p:nvPr/>
        </p:nvSpPr>
        <p:spPr>
          <a:xfrm>
            <a:off x="9412200" y="3736800"/>
            <a:ext cx="25560" cy="25560"/>
          </a:xfrm>
          <a:custGeom>
            <a:avLst/>
            <a:gdLst/>
            <a:ahLst/>
            <a:rect l="l" t="t" r="r" b="b"/>
            <a:pathLst>
              <a:path w="11" h="11">
                <a:moveTo>
                  <a:pt x="9" y="9"/>
                </a:moveTo>
                <a:cubicBezTo>
                  <a:pt x="7" y="11"/>
                  <a:pt x="4" y="11"/>
                  <a:pt x="2" y="9"/>
                </a:cubicBezTo>
                <a:cubicBezTo>
                  <a:pt x="0" y="7"/>
                  <a:pt x="0" y="4"/>
                  <a:pt x="2" y="2"/>
                </a:cubicBezTo>
                <a:cubicBezTo>
                  <a:pt x="4" y="0"/>
                  <a:pt x="8" y="0"/>
                  <a:pt x="9" y="2"/>
                </a:cubicBezTo>
                <a:cubicBezTo>
                  <a:pt x="11" y="4"/>
                  <a:pt x="11" y="7"/>
                  <a:pt x="9" y="9"/>
                </a:cubicBezTo>
                <a:close/>
              </a:path>
            </a:pathLst>
          </a:custGeom>
          <a:solidFill>
            <a:srgbClr val="ef6c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Freeform 21"/>
          <p:cNvSpPr/>
          <p:nvPr/>
        </p:nvSpPr>
        <p:spPr>
          <a:xfrm>
            <a:off x="6567480" y="1595520"/>
            <a:ext cx="311040" cy="31248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187" y="23"/>
                </a:moveTo>
                <a:lnTo>
                  <a:pt x="160" y="91"/>
                </a:lnTo>
                <a:lnTo>
                  <a:pt x="203" y="150"/>
                </a:lnTo>
                <a:lnTo>
                  <a:pt x="130" y="146"/>
                </a:lnTo>
                <a:lnTo>
                  <a:pt x="88" y="203"/>
                </a:lnTo>
                <a:lnTo>
                  <a:pt x="69" y="133"/>
                </a:lnTo>
                <a:lnTo>
                  <a:pt x="0" y="111"/>
                </a:lnTo>
                <a:lnTo>
                  <a:pt x="62" y="72"/>
                </a:lnTo>
                <a:lnTo>
                  <a:pt x="62" y="0"/>
                </a:lnTo>
                <a:lnTo>
                  <a:pt x="118" y="46"/>
                </a:lnTo>
                <a:lnTo>
                  <a:pt x="187" y="23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0" name="Freeform 22"/>
          <p:cNvSpPr/>
          <p:nvPr/>
        </p:nvSpPr>
        <p:spPr>
          <a:xfrm>
            <a:off x="6748560" y="1666800"/>
            <a:ext cx="561960" cy="563760"/>
          </a:xfrm>
          <a:custGeom>
            <a:avLst/>
            <a:gdLst/>
            <a:ahLst/>
            <a:rect l="l" t="t" r="r" b="b"/>
            <a:pathLst>
              <a:path w="253" h="254">
                <a:moveTo>
                  <a:pt x="237" y="164"/>
                </a:moveTo>
                <a:cubicBezTo>
                  <a:pt x="198" y="60"/>
                  <a:pt x="95" y="0"/>
                  <a:pt x="0" y="23"/>
                </a:cubicBezTo>
                <a:cubicBezTo>
                  <a:pt x="8" y="44"/>
                  <a:pt x="8" y="44"/>
                  <a:pt x="8" y="44"/>
                </a:cubicBezTo>
                <a:cubicBezTo>
                  <a:pt x="102" y="30"/>
                  <a:pt x="199" y="91"/>
                  <a:pt x="237" y="193"/>
                </a:cubicBezTo>
                <a:cubicBezTo>
                  <a:pt x="245" y="213"/>
                  <a:pt x="250" y="234"/>
                  <a:pt x="252" y="254"/>
                </a:cubicBezTo>
                <a:cubicBezTo>
                  <a:pt x="253" y="225"/>
                  <a:pt x="248" y="194"/>
                  <a:pt x="237" y="164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1" name="Freeform 23"/>
          <p:cNvSpPr/>
          <p:nvPr/>
        </p:nvSpPr>
        <p:spPr>
          <a:xfrm>
            <a:off x="6703920" y="6049800"/>
            <a:ext cx="306360" cy="314640"/>
          </a:xfrm>
          <a:custGeom>
            <a:avLst/>
            <a:gdLst/>
            <a:ahLst/>
            <a:rect l="l" t="t" r="r" b="b"/>
            <a:pathLst>
              <a:path w="199" h="204">
                <a:moveTo>
                  <a:pt x="0" y="46"/>
                </a:moveTo>
                <a:lnTo>
                  <a:pt x="72" y="54"/>
                </a:lnTo>
                <a:lnTo>
                  <a:pt x="120" y="0"/>
                </a:lnTo>
                <a:lnTo>
                  <a:pt x="133" y="70"/>
                </a:lnTo>
                <a:lnTo>
                  <a:pt x="199" y="97"/>
                </a:lnTo>
                <a:lnTo>
                  <a:pt x="136" y="132"/>
                </a:lnTo>
                <a:lnTo>
                  <a:pt x="131" y="204"/>
                </a:lnTo>
                <a:lnTo>
                  <a:pt x="78" y="155"/>
                </a:lnTo>
                <a:lnTo>
                  <a:pt x="7" y="172"/>
                </a:lnTo>
                <a:lnTo>
                  <a:pt x="39" y="106"/>
                </a:lnTo>
                <a:lnTo>
                  <a:pt x="0" y="46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2" name="Freeform 24"/>
          <p:cNvSpPr/>
          <p:nvPr/>
        </p:nvSpPr>
        <p:spPr>
          <a:xfrm>
            <a:off x="6705720" y="5533920"/>
            <a:ext cx="461880" cy="665280"/>
          </a:xfrm>
          <a:custGeom>
            <a:avLst/>
            <a:gdLst/>
            <a:ahLst/>
            <a:rect l="l" t="t" r="r" b="b"/>
            <a:pathLst>
              <a:path w="208" h="300">
                <a:moveTo>
                  <a:pt x="124" y="37"/>
                </a:moveTo>
                <a:cubicBezTo>
                  <a:pt x="33" y="100"/>
                  <a:pt x="0" y="214"/>
                  <a:pt x="45" y="300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27" y="200"/>
                  <a:pt x="62" y="91"/>
                  <a:pt x="152" y="29"/>
                </a:cubicBezTo>
                <a:cubicBezTo>
                  <a:pt x="170" y="17"/>
                  <a:pt x="189" y="7"/>
                  <a:pt x="208" y="0"/>
                </a:cubicBezTo>
                <a:cubicBezTo>
                  <a:pt x="179" y="6"/>
                  <a:pt x="151" y="18"/>
                  <a:pt x="124" y="37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Freeform 25"/>
          <p:cNvSpPr/>
          <p:nvPr/>
        </p:nvSpPr>
        <p:spPr>
          <a:xfrm>
            <a:off x="11495160" y="1352520"/>
            <a:ext cx="312840" cy="312840"/>
          </a:xfrm>
          <a:custGeom>
            <a:avLst/>
            <a:gdLst/>
            <a:ahLst/>
            <a:rect l="l" t="t" r="r" b="b"/>
            <a:pathLst>
              <a:path w="203" h="203">
                <a:moveTo>
                  <a:pt x="60" y="0"/>
                </a:moveTo>
                <a:lnTo>
                  <a:pt x="62" y="72"/>
                </a:lnTo>
                <a:lnTo>
                  <a:pt x="0" y="112"/>
                </a:lnTo>
                <a:lnTo>
                  <a:pt x="69" y="134"/>
                </a:lnTo>
                <a:lnTo>
                  <a:pt x="88" y="203"/>
                </a:lnTo>
                <a:lnTo>
                  <a:pt x="131" y="144"/>
                </a:lnTo>
                <a:lnTo>
                  <a:pt x="203" y="148"/>
                </a:lnTo>
                <a:lnTo>
                  <a:pt x="160" y="91"/>
                </a:lnTo>
                <a:lnTo>
                  <a:pt x="186" y="23"/>
                </a:lnTo>
                <a:lnTo>
                  <a:pt x="117" y="46"/>
                </a:lnTo>
                <a:lnTo>
                  <a:pt x="60" y="0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4" name="Freeform 26"/>
          <p:cNvSpPr/>
          <p:nvPr/>
        </p:nvSpPr>
        <p:spPr>
          <a:xfrm>
            <a:off x="10950480" y="1347840"/>
            <a:ext cx="706680" cy="398520"/>
          </a:xfrm>
          <a:custGeom>
            <a:avLst/>
            <a:gdLst/>
            <a:ahLst/>
            <a:rect l="l" t="t" r="r" b="b"/>
            <a:pathLst>
              <a:path w="319" h="180">
                <a:moveTo>
                  <a:pt x="47" y="101"/>
                </a:moveTo>
                <a:cubicBezTo>
                  <a:pt x="121" y="18"/>
                  <a:pt x="238" y="0"/>
                  <a:pt x="319" y="55"/>
                </a:cubicBezTo>
                <a:cubicBezTo>
                  <a:pt x="304" y="72"/>
                  <a:pt x="304" y="72"/>
                  <a:pt x="304" y="72"/>
                </a:cubicBezTo>
                <a:cubicBezTo>
                  <a:pt x="221" y="25"/>
                  <a:pt x="109" y="46"/>
                  <a:pt x="36" y="128"/>
                </a:cubicBezTo>
                <a:cubicBezTo>
                  <a:pt x="22" y="144"/>
                  <a:pt x="10" y="162"/>
                  <a:pt x="0" y="180"/>
                </a:cubicBezTo>
                <a:cubicBezTo>
                  <a:pt x="10" y="152"/>
                  <a:pt x="26" y="125"/>
                  <a:pt x="47" y="10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75" name="组合 8"/>
          <p:cNvGrpSpPr/>
          <p:nvPr/>
        </p:nvGrpSpPr>
        <p:grpSpPr>
          <a:xfrm>
            <a:off x="7791480" y="1427040"/>
            <a:ext cx="218880" cy="196920"/>
            <a:chOff x="7791480" y="1427040"/>
            <a:chExt cx="218880" cy="196920"/>
          </a:xfrm>
        </p:grpSpPr>
        <p:sp>
          <p:nvSpPr>
            <p:cNvPr id="3576" name="Freeform 20"/>
            <p:cNvSpPr/>
            <p:nvPr/>
          </p:nvSpPr>
          <p:spPr>
            <a:xfrm>
              <a:off x="7904880" y="1427040"/>
              <a:ext cx="105480" cy="106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9" y="40"/>
                  </a:moveTo>
                  <a:cubicBezTo>
                    <a:pt x="30" y="48"/>
                    <a:pt x="17" y="48"/>
                    <a:pt x="9" y="39"/>
                  </a:cubicBezTo>
                  <a:cubicBezTo>
                    <a:pt x="0" y="30"/>
                    <a:pt x="1" y="17"/>
                    <a:pt x="10" y="8"/>
                  </a:cubicBezTo>
                  <a:cubicBezTo>
                    <a:pt x="18" y="0"/>
                    <a:pt x="32" y="1"/>
                    <a:pt x="40" y="9"/>
                  </a:cubicBezTo>
                  <a:cubicBezTo>
                    <a:pt x="48" y="18"/>
                    <a:pt x="48" y="32"/>
                    <a:pt x="39" y="40"/>
                  </a:cubicBez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7" name="Freeform 27"/>
            <p:cNvSpPr/>
            <p:nvPr/>
          </p:nvSpPr>
          <p:spPr>
            <a:xfrm>
              <a:off x="7791480" y="1473480"/>
              <a:ext cx="180720" cy="15048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28" y="65"/>
                  </a:moveTo>
                  <a:cubicBezTo>
                    <a:pt x="60" y="57"/>
                    <a:pt x="82" y="29"/>
                    <a:pt x="79" y="0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3" y="30"/>
                    <a:pt x="51" y="56"/>
                    <a:pt x="19" y="64"/>
                  </a:cubicBezTo>
                  <a:cubicBezTo>
                    <a:pt x="13" y="65"/>
                    <a:pt x="6" y="66"/>
                    <a:pt x="0" y="66"/>
                  </a:cubicBezTo>
                  <a:cubicBezTo>
                    <a:pt x="9" y="67"/>
                    <a:pt x="18" y="67"/>
                    <a:pt x="28" y="65"/>
                  </a:cubicBez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8" name="Freeform 9"/>
          <p:cNvSpPr/>
          <p:nvPr/>
        </p:nvSpPr>
        <p:spPr>
          <a:xfrm>
            <a:off x="7421400" y="1201680"/>
            <a:ext cx="162000" cy="157320"/>
          </a:xfrm>
          <a:custGeom>
            <a:avLst/>
            <a:gdLst/>
            <a:ahLst/>
            <a:rect l="l" t="t" r="r" b="b"/>
            <a:pathLst>
              <a:path w="105" h="102">
                <a:moveTo>
                  <a:pt x="89" y="4"/>
                </a:moveTo>
                <a:lnTo>
                  <a:pt x="79" y="40"/>
                </a:lnTo>
                <a:lnTo>
                  <a:pt x="105" y="68"/>
                </a:lnTo>
                <a:lnTo>
                  <a:pt x="67" y="69"/>
                </a:lnTo>
                <a:lnTo>
                  <a:pt x="49" y="102"/>
                </a:lnTo>
                <a:lnTo>
                  <a:pt x="36" y="68"/>
                </a:lnTo>
                <a:lnTo>
                  <a:pt x="0" y="59"/>
                </a:lnTo>
                <a:lnTo>
                  <a:pt x="28" y="36"/>
                </a:lnTo>
                <a:lnTo>
                  <a:pt x="24" y="0"/>
                </a:lnTo>
                <a:lnTo>
                  <a:pt x="56" y="20"/>
                </a:lnTo>
                <a:lnTo>
                  <a:pt x="89" y="4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9" name="Freeform 29"/>
          <p:cNvSpPr/>
          <p:nvPr/>
        </p:nvSpPr>
        <p:spPr>
          <a:xfrm>
            <a:off x="7478640" y="1268280"/>
            <a:ext cx="114480" cy="330480"/>
          </a:xfrm>
          <a:custGeom>
            <a:avLst/>
            <a:gdLst/>
            <a:ahLst/>
            <a:rect l="l" t="t" r="r" b="b"/>
            <a:pathLst>
              <a:path w="52" h="149">
                <a:moveTo>
                  <a:pt x="27" y="119"/>
                </a:moveTo>
                <a:cubicBezTo>
                  <a:pt x="52" y="78"/>
                  <a:pt x="43" y="26"/>
                  <a:pt x="9" y="0"/>
                </a:cubicBezTo>
                <a:cubicBezTo>
                  <a:pt x="5" y="9"/>
                  <a:pt x="5" y="9"/>
                  <a:pt x="5" y="9"/>
                </a:cubicBezTo>
                <a:cubicBezTo>
                  <a:pt x="35" y="37"/>
                  <a:pt x="41" y="86"/>
                  <a:pt x="17" y="128"/>
                </a:cubicBezTo>
                <a:cubicBezTo>
                  <a:pt x="12" y="136"/>
                  <a:pt x="7" y="143"/>
                  <a:pt x="0" y="149"/>
                </a:cubicBezTo>
                <a:cubicBezTo>
                  <a:pt x="11" y="142"/>
                  <a:pt x="20" y="132"/>
                  <a:pt x="27" y="119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0" name="Freeform 30"/>
          <p:cNvSpPr/>
          <p:nvPr/>
        </p:nvSpPr>
        <p:spPr>
          <a:xfrm>
            <a:off x="11571120" y="6183360"/>
            <a:ext cx="282600" cy="274680"/>
          </a:xfrm>
          <a:custGeom>
            <a:avLst/>
            <a:gdLst/>
            <a:ahLst/>
            <a:rect l="l" t="t" r="r" b="b"/>
            <a:pathLst>
              <a:path w="183" h="178">
                <a:moveTo>
                  <a:pt x="183" y="71"/>
                </a:moveTo>
                <a:lnTo>
                  <a:pt x="134" y="113"/>
                </a:lnTo>
                <a:lnTo>
                  <a:pt x="143" y="178"/>
                </a:lnTo>
                <a:lnTo>
                  <a:pt x="88" y="143"/>
                </a:lnTo>
                <a:lnTo>
                  <a:pt x="31" y="172"/>
                </a:lnTo>
                <a:lnTo>
                  <a:pt x="45" y="108"/>
                </a:lnTo>
                <a:lnTo>
                  <a:pt x="0" y="62"/>
                </a:lnTo>
                <a:lnTo>
                  <a:pt x="65" y="58"/>
                </a:lnTo>
                <a:lnTo>
                  <a:pt x="94" y="0"/>
                </a:lnTo>
                <a:lnTo>
                  <a:pt x="120" y="61"/>
                </a:lnTo>
                <a:lnTo>
                  <a:pt x="183" y="71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1" name="Freeform 36"/>
          <p:cNvSpPr/>
          <p:nvPr/>
        </p:nvSpPr>
        <p:spPr>
          <a:xfrm>
            <a:off x="11111040" y="6000840"/>
            <a:ext cx="600120" cy="345960"/>
          </a:xfrm>
          <a:custGeom>
            <a:avLst/>
            <a:gdLst/>
            <a:ahLst/>
            <a:rect l="l" t="t" r="r" b="b"/>
            <a:pathLst>
              <a:path w="270" h="156">
                <a:moveTo>
                  <a:pt x="81" y="1"/>
                </a:moveTo>
                <a:cubicBezTo>
                  <a:pt x="180" y="2"/>
                  <a:pt x="260" y="70"/>
                  <a:pt x="270" y="156"/>
                </a:cubicBezTo>
                <a:cubicBezTo>
                  <a:pt x="250" y="156"/>
                  <a:pt x="250" y="156"/>
                  <a:pt x="250" y="156"/>
                </a:cubicBezTo>
                <a:cubicBezTo>
                  <a:pt x="233" y="73"/>
                  <a:pt x="153" y="10"/>
                  <a:pt x="56" y="9"/>
                </a:cubicBezTo>
                <a:cubicBezTo>
                  <a:pt x="37" y="9"/>
                  <a:pt x="18" y="11"/>
                  <a:pt x="0" y="16"/>
                </a:cubicBezTo>
                <a:cubicBezTo>
                  <a:pt x="25" y="6"/>
                  <a:pt x="52" y="0"/>
                  <a:pt x="81" y="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Freeform 31"/>
          <p:cNvSpPr/>
          <p:nvPr/>
        </p:nvSpPr>
        <p:spPr>
          <a:xfrm>
            <a:off x="10469520" y="6031080"/>
            <a:ext cx="209520" cy="212400"/>
          </a:xfrm>
          <a:custGeom>
            <a:avLst/>
            <a:gdLst/>
            <a:ahLst/>
            <a:rect l="l" t="t" r="r" b="b"/>
            <a:pathLst>
              <a:path w="136" h="138">
                <a:moveTo>
                  <a:pt x="136" y="76"/>
                </a:moveTo>
                <a:lnTo>
                  <a:pt x="90" y="91"/>
                </a:lnTo>
                <a:lnTo>
                  <a:pt x="77" y="138"/>
                </a:lnTo>
                <a:lnTo>
                  <a:pt x="49" y="98"/>
                </a:lnTo>
                <a:lnTo>
                  <a:pt x="0" y="101"/>
                </a:lnTo>
                <a:lnTo>
                  <a:pt x="29" y="61"/>
                </a:lnTo>
                <a:lnTo>
                  <a:pt x="12" y="16"/>
                </a:lnTo>
                <a:lnTo>
                  <a:pt x="58" y="32"/>
                </a:lnTo>
                <a:lnTo>
                  <a:pt x="95" y="0"/>
                </a:lnTo>
                <a:lnTo>
                  <a:pt x="95" y="49"/>
                </a:lnTo>
                <a:lnTo>
                  <a:pt x="136" y="76"/>
                </a:ln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Freeform 37"/>
          <p:cNvSpPr/>
          <p:nvPr/>
        </p:nvSpPr>
        <p:spPr>
          <a:xfrm>
            <a:off x="10574280" y="5864400"/>
            <a:ext cx="146160" cy="268200"/>
          </a:xfrm>
          <a:custGeom>
            <a:avLst/>
            <a:gdLst/>
            <a:ahLst/>
            <a:rect l="l" t="t" r="r" b="b"/>
            <a:pathLst>
              <a:path w="66" h="122">
                <a:moveTo>
                  <a:pt x="64" y="35"/>
                </a:moveTo>
                <a:cubicBezTo>
                  <a:pt x="66" y="79"/>
                  <a:pt x="38" y="116"/>
                  <a:pt x="1" y="122"/>
                </a:cubicBezTo>
                <a:cubicBezTo>
                  <a:pt x="0" y="113"/>
                  <a:pt x="0" y="113"/>
                  <a:pt x="0" y="113"/>
                </a:cubicBezTo>
                <a:cubicBezTo>
                  <a:pt x="36" y="104"/>
                  <a:pt x="62" y="67"/>
                  <a:pt x="60" y="25"/>
                </a:cubicBezTo>
                <a:cubicBezTo>
                  <a:pt x="60" y="16"/>
                  <a:pt x="58" y="8"/>
                  <a:pt x="56" y="0"/>
                </a:cubicBezTo>
                <a:cubicBezTo>
                  <a:pt x="61" y="11"/>
                  <a:pt x="64" y="23"/>
                  <a:pt x="64" y="35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Freeform 32"/>
          <p:cNvSpPr/>
          <p:nvPr/>
        </p:nvSpPr>
        <p:spPr>
          <a:xfrm>
            <a:off x="11490480" y="5502240"/>
            <a:ext cx="228600" cy="227160"/>
          </a:xfrm>
          <a:custGeom>
            <a:avLst/>
            <a:gdLst/>
            <a:ahLst/>
            <a:rect l="l" t="t" r="r" b="b"/>
            <a:pathLst>
              <a:path w="103" h="103">
                <a:moveTo>
                  <a:pt x="103" y="81"/>
                </a:moveTo>
                <a:cubicBezTo>
                  <a:pt x="75" y="65"/>
                  <a:pt x="65" y="28"/>
                  <a:pt x="81" y="0"/>
                </a:cubicBezTo>
                <a:cubicBezTo>
                  <a:pt x="65" y="28"/>
                  <a:pt x="29" y="38"/>
                  <a:pt x="0" y="22"/>
                </a:cubicBezTo>
                <a:cubicBezTo>
                  <a:pt x="29" y="38"/>
                  <a:pt x="39" y="75"/>
                  <a:pt x="22" y="103"/>
                </a:cubicBezTo>
                <a:cubicBezTo>
                  <a:pt x="39" y="75"/>
                  <a:pt x="75" y="65"/>
                  <a:pt x="103" y="8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5" name="Freeform 38"/>
          <p:cNvSpPr/>
          <p:nvPr/>
        </p:nvSpPr>
        <p:spPr>
          <a:xfrm>
            <a:off x="11194920" y="5423040"/>
            <a:ext cx="425520" cy="169560"/>
          </a:xfrm>
          <a:custGeom>
            <a:avLst/>
            <a:gdLst/>
            <a:ahLst/>
            <a:rect l="l" t="t" r="r" b="b"/>
            <a:pathLst>
              <a:path w="192" h="76">
                <a:moveTo>
                  <a:pt x="44" y="21"/>
                </a:moveTo>
                <a:cubicBezTo>
                  <a:pt x="103" y="0"/>
                  <a:pt x="167" y="22"/>
                  <a:pt x="192" y="72"/>
                </a:cubicBezTo>
                <a:cubicBezTo>
                  <a:pt x="180" y="76"/>
                  <a:pt x="180" y="76"/>
                  <a:pt x="180" y="76"/>
                </a:cubicBezTo>
                <a:cubicBezTo>
                  <a:pt x="151" y="30"/>
                  <a:pt x="89" y="11"/>
                  <a:pt x="31" y="32"/>
                </a:cubicBezTo>
                <a:cubicBezTo>
                  <a:pt x="20" y="36"/>
                  <a:pt x="9" y="42"/>
                  <a:pt x="0" y="48"/>
                </a:cubicBezTo>
                <a:cubicBezTo>
                  <a:pt x="12" y="37"/>
                  <a:pt x="27" y="28"/>
                  <a:pt x="44" y="21"/>
                </a:cubicBezTo>
                <a:close/>
              </a:path>
            </a:pathLst>
          </a:custGeom>
          <a:solidFill>
            <a:srgbClr val="fdd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Oval 39"/>
          <p:cNvSpPr/>
          <p:nvPr/>
        </p:nvSpPr>
        <p:spPr>
          <a:xfrm>
            <a:off x="7139160" y="1461960"/>
            <a:ext cx="4573440" cy="4575240"/>
          </a:xfrm>
          <a:prstGeom prst="ellipse">
            <a:avLst/>
          </a:prstGeom>
          <a:solidFill>
            <a:srgbClr val="d657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Oval 40">
            <a:hlinkClick r:id="rId2"/>
          </p:cNvPr>
          <p:cNvSpPr/>
          <p:nvPr/>
        </p:nvSpPr>
        <p:spPr>
          <a:xfrm>
            <a:off x="7139160" y="1461960"/>
            <a:ext cx="4573440" cy="4575240"/>
          </a:xfrm>
          <a:prstGeom prst="ellipse">
            <a:avLst/>
          </a:prstGeom>
          <a:solidFill>
            <a:srgbClr val="ffde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Oval 41">
            <a:hlinkClick r:id="rId3"/>
          </p:cNvPr>
          <p:cNvSpPr/>
          <p:nvPr/>
        </p:nvSpPr>
        <p:spPr>
          <a:xfrm>
            <a:off x="7242120" y="1565280"/>
            <a:ext cx="4367160" cy="4368960"/>
          </a:xfrm>
          <a:prstGeom prst="ellipse">
            <a:avLst/>
          </a:prstGeom>
          <a:solidFill>
            <a:srgbClr val="ba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9" name="Oval 42"/>
          <p:cNvSpPr/>
          <p:nvPr/>
        </p:nvSpPr>
        <p:spPr>
          <a:xfrm>
            <a:off x="7523280" y="1846440"/>
            <a:ext cx="3805200" cy="3806640"/>
          </a:xfrm>
          <a:prstGeom prst="ellipse">
            <a:avLst/>
          </a:prstGeom>
          <a:solidFill>
            <a:srgbClr val="e03b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90" name="组合 2"/>
          <p:cNvGrpSpPr/>
          <p:nvPr/>
        </p:nvGrpSpPr>
        <p:grpSpPr>
          <a:xfrm>
            <a:off x="6859440" y="1193760"/>
            <a:ext cx="5164920" cy="5164920"/>
            <a:chOff x="6859440" y="1193760"/>
            <a:chExt cx="5164920" cy="5164920"/>
          </a:xfrm>
        </p:grpSpPr>
        <p:sp>
          <p:nvSpPr>
            <p:cNvPr id="3591" name="Oval 43"/>
            <p:cNvSpPr/>
            <p:nvPr/>
          </p:nvSpPr>
          <p:spPr>
            <a:xfrm rot="18759000">
              <a:off x="7614720" y="1947960"/>
              <a:ext cx="3654360" cy="3656160"/>
            </a:xfrm>
            <a:prstGeom prst="ellipse">
              <a:avLst/>
            </a:prstGeom>
            <a:solidFill>
              <a:srgbClr val="ba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2" name="Freeform 44"/>
            <p:cNvSpPr/>
            <p:nvPr/>
          </p:nvSpPr>
          <p:spPr>
            <a:xfrm rot="18759000">
              <a:off x="9225000" y="5265360"/>
              <a:ext cx="581040" cy="58104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15" y="228"/>
                  </a:moveTo>
                  <a:cubicBezTo>
                    <a:pt x="26" y="39"/>
                    <a:pt x="26" y="39"/>
                    <a:pt x="26" y="39"/>
                  </a:cubicBezTo>
                  <a:cubicBezTo>
                    <a:pt x="17" y="26"/>
                    <a:pt x="8" y="13"/>
                    <a:pt x="0" y="0"/>
                  </a:cubicBezTo>
                  <a:cubicBezTo>
                    <a:pt x="254" y="254"/>
                    <a:pt x="254" y="254"/>
                    <a:pt x="254" y="254"/>
                  </a:cubicBezTo>
                  <a:cubicBezTo>
                    <a:pt x="241" y="246"/>
                    <a:pt x="228" y="237"/>
                    <a:pt x="215" y="22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3" name="Freeform 45"/>
            <p:cNvSpPr/>
            <p:nvPr/>
          </p:nvSpPr>
          <p:spPr>
            <a:xfrm rot="18759000">
              <a:off x="9094320" y="5084280"/>
              <a:ext cx="839520" cy="839880"/>
            </a:xfrm>
            <a:custGeom>
              <a:avLst/>
              <a:gdLst/>
              <a:ahLst/>
              <a:rect l="l" t="t" r="r" b="b"/>
              <a:pathLst>
                <a:path w="367" h="367">
                  <a:moveTo>
                    <a:pt x="340" y="353"/>
                  </a:moveTo>
                  <a:cubicBezTo>
                    <a:pt x="13" y="26"/>
                    <a:pt x="13" y="26"/>
                    <a:pt x="13" y="26"/>
                  </a:cubicBezTo>
                  <a:cubicBezTo>
                    <a:pt x="9" y="17"/>
                    <a:pt x="4" y="9"/>
                    <a:pt x="0" y="0"/>
                  </a:cubicBezTo>
                  <a:cubicBezTo>
                    <a:pt x="367" y="367"/>
                    <a:pt x="367" y="367"/>
                    <a:pt x="367" y="367"/>
                  </a:cubicBezTo>
                  <a:cubicBezTo>
                    <a:pt x="358" y="362"/>
                    <a:pt x="349" y="358"/>
                    <a:pt x="340" y="35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4" name="Freeform 46"/>
            <p:cNvSpPr/>
            <p:nvPr/>
          </p:nvSpPr>
          <p:spPr>
            <a:xfrm rot="18759000">
              <a:off x="8995680" y="4936680"/>
              <a:ext cx="1028520" cy="1030320"/>
            </a:xfrm>
            <a:custGeom>
              <a:avLst/>
              <a:gdLst/>
              <a:ahLst/>
              <a:rect l="l" t="t" r="r" b="b"/>
              <a:pathLst>
                <a:path w="450" h="450">
                  <a:moveTo>
                    <a:pt x="428" y="441"/>
                  </a:moveTo>
                  <a:cubicBezTo>
                    <a:pt x="9" y="22"/>
                    <a:pt x="9" y="22"/>
                    <a:pt x="9" y="22"/>
                  </a:cubicBezTo>
                  <a:cubicBezTo>
                    <a:pt x="6" y="15"/>
                    <a:pt x="3" y="7"/>
                    <a:pt x="0" y="0"/>
                  </a:cubicBezTo>
                  <a:cubicBezTo>
                    <a:pt x="450" y="450"/>
                    <a:pt x="450" y="450"/>
                    <a:pt x="450" y="450"/>
                  </a:cubicBezTo>
                  <a:cubicBezTo>
                    <a:pt x="443" y="447"/>
                    <a:pt x="436" y="444"/>
                    <a:pt x="428" y="44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5" name="Freeform 47"/>
            <p:cNvSpPr/>
            <p:nvPr/>
          </p:nvSpPr>
          <p:spPr>
            <a:xfrm rot="18759000">
              <a:off x="8916480" y="4807440"/>
              <a:ext cx="1184040" cy="1185840"/>
            </a:xfrm>
            <a:custGeom>
              <a:avLst/>
              <a:gdLst/>
              <a:ahLst/>
              <a:rect l="l" t="t" r="r" b="b"/>
              <a:pathLst>
                <a:path w="518" h="518">
                  <a:moveTo>
                    <a:pt x="499" y="511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5" y="13"/>
                    <a:pt x="3" y="6"/>
                    <a:pt x="0" y="0"/>
                  </a:cubicBezTo>
                  <a:cubicBezTo>
                    <a:pt x="518" y="518"/>
                    <a:pt x="518" y="518"/>
                    <a:pt x="518" y="518"/>
                  </a:cubicBezTo>
                  <a:cubicBezTo>
                    <a:pt x="512" y="516"/>
                    <a:pt x="505" y="514"/>
                    <a:pt x="499" y="51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6" name="Freeform 48"/>
            <p:cNvSpPr/>
            <p:nvPr/>
          </p:nvSpPr>
          <p:spPr>
            <a:xfrm rot="18759000">
              <a:off x="8848440" y="4689720"/>
              <a:ext cx="1317600" cy="131616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58" y="571"/>
                  </a:moveTo>
                  <a:cubicBezTo>
                    <a:pt x="4" y="18"/>
                    <a:pt x="4" y="18"/>
                    <a:pt x="4" y="18"/>
                  </a:cubicBezTo>
                  <a:cubicBezTo>
                    <a:pt x="3" y="12"/>
                    <a:pt x="1" y="6"/>
                    <a:pt x="0" y="0"/>
                  </a:cubicBezTo>
                  <a:cubicBezTo>
                    <a:pt x="576" y="576"/>
                    <a:pt x="576" y="576"/>
                    <a:pt x="576" y="576"/>
                  </a:cubicBezTo>
                  <a:cubicBezTo>
                    <a:pt x="570" y="574"/>
                    <a:pt x="564" y="573"/>
                    <a:pt x="558" y="57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7" name="Freeform 49"/>
            <p:cNvSpPr/>
            <p:nvPr/>
          </p:nvSpPr>
          <p:spPr>
            <a:xfrm rot="18759000">
              <a:off x="8786880" y="4578480"/>
              <a:ext cx="1433520" cy="1433520"/>
            </a:xfrm>
            <a:custGeom>
              <a:avLst/>
              <a:gdLst/>
              <a:ahLst/>
              <a:rect l="l" t="t" r="r" b="b"/>
              <a:pathLst>
                <a:path w="627" h="627">
                  <a:moveTo>
                    <a:pt x="611" y="624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2" y="11"/>
                    <a:pt x="1" y="6"/>
                    <a:pt x="0" y="0"/>
                  </a:cubicBezTo>
                  <a:cubicBezTo>
                    <a:pt x="627" y="627"/>
                    <a:pt x="627" y="627"/>
                    <a:pt x="627" y="627"/>
                  </a:cubicBezTo>
                  <a:cubicBezTo>
                    <a:pt x="622" y="626"/>
                    <a:pt x="616" y="625"/>
                    <a:pt x="611" y="62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8" name="Freeform 50"/>
            <p:cNvSpPr/>
            <p:nvPr/>
          </p:nvSpPr>
          <p:spPr>
            <a:xfrm rot="18759000">
              <a:off x="8732160" y="4474800"/>
              <a:ext cx="1538280" cy="1538280"/>
            </a:xfrm>
            <a:custGeom>
              <a:avLst/>
              <a:gdLst/>
              <a:ahLst/>
              <a:rect l="l" t="t" r="r" b="b"/>
              <a:pathLst>
                <a:path w="673" h="673">
                  <a:moveTo>
                    <a:pt x="658" y="671"/>
                  </a:moveTo>
                  <a:cubicBezTo>
                    <a:pt x="3" y="16"/>
                    <a:pt x="3" y="16"/>
                    <a:pt x="3" y="16"/>
                  </a:cubicBezTo>
                  <a:cubicBezTo>
                    <a:pt x="2" y="11"/>
                    <a:pt x="1" y="5"/>
                    <a:pt x="0" y="0"/>
                  </a:cubicBezTo>
                  <a:cubicBezTo>
                    <a:pt x="673" y="673"/>
                    <a:pt x="673" y="673"/>
                    <a:pt x="673" y="673"/>
                  </a:cubicBezTo>
                  <a:cubicBezTo>
                    <a:pt x="668" y="672"/>
                    <a:pt x="663" y="672"/>
                    <a:pt x="658" y="67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9" name="Freeform 51"/>
            <p:cNvSpPr/>
            <p:nvPr/>
          </p:nvSpPr>
          <p:spPr>
            <a:xfrm rot="18759000">
              <a:off x="8684640" y="4375440"/>
              <a:ext cx="1633320" cy="1633680"/>
            </a:xfrm>
            <a:custGeom>
              <a:avLst/>
              <a:gdLst/>
              <a:ahLst/>
              <a:rect l="l" t="t" r="r" b="b"/>
              <a:pathLst>
                <a:path w="714" h="714">
                  <a:moveTo>
                    <a:pt x="699" y="712"/>
                  </a:moveTo>
                  <a:cubicBezTo>
                    <a:pt x="1" y="14"/>
                    <a:pt x="1" y="14"/>
                    <a:pt x="1" y="14"/>
                  </a:cubicBezTo>
                  <a:cubicBezTo>
                    <a:pt x="1" y="9"/>
                    <a:pt x="0" y="4"/>
                    <a:pt x="0" y="0"/>
                  </a:cubicBezTo>
                  <a:cubicBezTo>
                    <a:pt x="714" y="714"/>
                    <a:pt x="714" y="714"/>
                    <a:pt x="714" y="714"/>
                  </a:cubicBezTo>
                  <a:cubicBezTo>
                    <a:pt x="709" y="713"/>
                    <a:pt x="704" y="713"/>
                    <a:pt x="699" y="71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0" name="Freeform 52"/>
            <p:cNvSpPr/>
            <p:nvPr/>
          </p:nvSpPr>
          <p:spPr>
            <a:xfrm rot="18759000">
              <a:off x="8638200" y="4281480"/>
              <a:ext cx="1719360" cy="1716120"/>
            </a:xfrm>
            <a:custGeom>
              <a:avLst/>
              <a:gdLst/>
              <a:ahLst/>
              <a:rect l="l" t="t" r="r" b="b"/>
              <a:pathLst>
                <a:path w="752" h="751">
                  <a:moveTo>
                    <a:pt x="738" y="751"/>
                  </a:moveTo>
                  <a:cubicBezTo>
                    <a:pt x="1" y="13"/>
                    <a:pt x="1" y="13"/>
                    <a:pt x="1" y="13"/>
                  </a:cubicBezTo>
                  <a:cubicBezTo>
                    <a:pt x="1" y="9"/>
                    <a:pt x="0" y="4"/>
                    <a:pt x="0" y="0"/>
                  </a:cubicBezTo>
                  <a:cubicBezTo>
                    <a:pt x="752" y="751"/>
                    <a:pt x="752" y="751"/>
                    <a:pt x="752" y="751"/>
                  </a:cubicBezTo>
                  <a:cubicBezTo>
                    <a:pt x="747" y="751"/>
                    <a:pt x="743" y="751"/>
                    <a:pt x="738" y="75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1" name="Freeform 53"/>
            <p:cNvSpPr/>
            <p:nvPr/>
          </p:nvSpPr>
          <p:spPr>
            <a:xfrm rot="18759000">
              <a:off x="8596800" y="4188600"/>
              <a:ext cx="1798560" cy="1798560"/>
            </a:xfrm>
            <a:custGeom>
              <a:avLst/>
              <a:gdLst/>
              <a:ahLst/>
              <a:rect l="l" t="t" r="r" b="b"/>
              <a:pathLst>
                <a:path w="786" h="787">
                  <a:moveTo>
                    <a:pt x="773" y="786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786" y="787"/>
                    <a:pt x="786" y="787"/>
                    <a:pt x="786" y="787"/>
                  </a:cubicBezTo>
                  <a:cubicBezTo>
                    <a:pt x="782" y="787"/>
                    <a:pt x="777" y="786"/>
                    <a:pt x="773" y="78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2" name="Freeform 54"/>
            <p:cNvSpPr/>
            <p:nvPr/>
          </p:nvSpPr>
          <p:spPr>
            <a:xfrm rot="18759000">
              <a:off x="8558280" y="4100400"/>
              <a:ext cx="1871640" cy="1871640"/>
            </a:xfrm>
            <a:custGeom>
              <a:avLst/>
              <a:gdLst/>
              <a:ahLst/>
              <a:rect l="l" t="t" r="r" b="b"/>
              <a:pathLst>
                <a:path w="818" h="819">
                  <a:moveTo>
                    <a:pt x="806" y="819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ubicBezTo>
                    <a:pt x="818" y="819"/>
                    <a:pt x="818" y="819"/>
                    <a:pt x="818" y="819"/>
                  </a:cubicBezTo>
                  <a:cubicBezTo>
                    <a:pt x="814" y="819"/>
                    <a:pt x="810" y="819"/>
                    <a:pt x="806" y="81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3" name="Freeform 55"/>
            <p:cNvSpPr/>
            <p:nvPr/>
          </p:nvSpPr>
          <p:spPr>
            <a:xfrm rot="18759000">
              <a:off x="8522640" y="4014000"/>
              <a:ext cx="1938240" cy="1941480"/>
            </a:xfrm>
            <a:custGeom>
              <a:avLst/>
              <a:gdLst/>
              <a:ahLst/>
              <a:rect l="l" t="t" r="r" b="b"/>
              <a:pathLst>
                <a:path w="848" h="849">
                  <a:moveTo>
                    <a:pt x="836" y="849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ubicBezTo>
                    <a:pt x="848" y="848"/>
                    <a:pt x="848" y="848"/>
                    <a:pt x="848" y="848"/>
                  </a:cubicBezTo>
                  <a:cubicBezTo>
                    <a:pt x="844" y="848"/>
                    <a:pt x="840" y="849"/>
                    <a:pt x="836" y="84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4" name="Freeform 56"/>
            <p:cNvSpPr/>
            <p:nvPr/>
          </p:nvSpPr>
          <p:spPr>
            <a:xfrm rot="18759000">
              <a:off x="8489160" y="3931200"/>
              <a:ext cx="2003400" cy="2003400"/>
            </a:xfrm>
            <a:custGeom>
              <a:avLst/>
              <a:gdLst/>
              <a:ahLst/>
              <a:rect l="l" t="t" r="r" b="b"/>
              <a:pathLst>
                <a:path w="876" h="876">
                  <a:moveTo>
                    <a:pt x="864" y="876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0" y="3"/>
                    <a:pt x="1" y="0"/>
                  </a:cubicBezTo>
                  <a:cubicBezTo>
                    <a:pt x="876" y="875"/>
                    <a:pt x="876" y="875"/>
                    <a:pt x="876" y="875"/>
                  </a:cubicBezTo>
                  <a:cubicBezTo>
                    <a:pt x="872" y="875"/>
                    <a:pt x="868" y="876"/>
                    <a:pt x="864" y="87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5" name="Freeform 57"/>
            <p:cNvSpPr/>
            <p:nvPr/>
          </p:nvSpPr>
          <p:spPr>
            <a:xfrm rot="18759000">
              <a:off x="8457120" y="3850560"/>
              <a:ext cx="2062080" cy="2063880"/>
            </a:xfrm>
            <a:custGeom>
              <a:avLst/>
              <a:gdLst/>
              <a:ahLst/>
              <a:rect l="l" t="t" r="r" b="b"/>
              <a:pathLst>
                <a:path w="902" h="902">
                  <a:moveTo>
                    <a:pt x="890" y="902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7"/>
                    <a:pt x="1" y="4"/>
                    <a:pt x="1" y="0"/>
                  </a:cubicBezTo>
                  <a:cubicBezTo>
                    <a:pt x="902" y="900"/>
                    <a:pt x="902" y="900"/>
                    <a:pt x="902" y="900"/>
                  </a:cubicBezTo>
                  <a:cubicBezTo>
                    <a:pt x="898" y="901"/>
                    <a:pt x="894" y="901"/>
                    <a:pt x="890" y="90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6" name="Freeform 58"/>
            <p:cNvSpPr/>
            <p:nvPr/>
          </p:nvSpPr>
          <p:spPr>
            <a:xfrm rot="18759000">
              <a:off x="8425080" y="3771720"/>
              <a:ext cx="2120760" cy="2117880"/>
            </a:xfrm>
            <a:custGeom>
              <a:avLst/>
              <a:gdLst/>
              <a:ahLst/>
              <a:rect l="l" t="t" r="r" b="b"/>
              <a:pathLst>
                <a:path w="927" h="926">
                  <a:moveTo>
                    <a:pt x="915" y="926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" y="7"/>
                    <a:pt x="2" y="4"/>
                    <a:pt x="2" y="0"/>
                  </a:cubicBezTo>
                  <a:cubicBezTo>
                    <a:pt x="927" y="924"/>
                    <a:pt x="927" y="924"/>
                    <a:pt x="927" y="924"/>
                  </a:cubicBezTo>
                  <a:cubicBezTo>
                    <a:pt x="923" y="925"/>
                    <a:pt x="919" y="925"/>
                    <a:pt x="915" y="92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7" name="Freeform 59"/>
            <p:cNvSpPr/>
            <p:nvPr/>
          </p:nvSpPr>
          <p:spPr>
            <a:xfrm rot="18759000">
              <a:off x="8397360" y="3695040"/>
              <a:ext cx="2171520" cy="2168640"/>
            </a:xfrm>
            <a:custGeom>
              <a:avLst/>
              <a:gdLst/>
              <a:ahLst/>
              <a:rect l="l" t="t" r="r" b="b"/>
              <a:pathLst>
                <a:path w="949" h="948">
                  <a:moveTo>
                    <a:pt x="938" y="94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1" y="7"/>
                    <a:pt x="2" y="3"/>
                    <a:pt x="2" y="0"/>
                  </a:cubicBezTo>
                  <a:cubicBezTo>
                    <a:pt x="949" y="946"/>
                    <a:pt x="949" y="946"/>
                    <a:pt x="949" y="946"/>
                  </a:cubicBezTo>
                  <a:cubicBezTo>
                    <a:pt x="945" y="947"/>
                    <a:pt x="941" y="947"/>
                    <a:pt x="938" y="94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8" name="Freeform 60"/>
            <p:cNvSpPr/>
            <p:nvPr/>
          </p:nvSpPr>
          <p:spPr>
            <a:xfrm rot="18759000">
              <a:off x="8374320" y="3620880"/>
              <a:ext cx="2216160" cy="2216160"/>
            </a:xfrm>
            <a:custGeom>
              <a:avLst/>
              <a:gdLst/>
              <a:ahLst/>
              <a:rect l="l" t="t" r="r" b="b"/>
              <a:pathLst>
                <a:path w="969" h="969">
                  <a:moveTo>
                    <a:pt x="958" y="969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3"/>
                    <a:pt x="2" y="0"/>
                  </a:cubicBezTo>
                  <a:cubicBezTo>
                    <a:pt x="969" y="966"/>
                    <a:pt x="969" y="966"/>
                    <a:pt x="969" y="966"/>
                  </a:cubicBezTo>
                  <a:cubicBezTo>
                    <a:pt x="965" y="967"/>
                    <a:pt x="962" y="968"/>
                    <a:pt x="958" y="96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9" name="Freeform 61"/>
            <p:cNvSpPr/>
            <p:nvPr/>
          </p:nvSpPr>
          <p:spPr>
            <a:xfrm rot="18759000">
              <a:off x="8348400" y="3546720"/>
              <a:ext cx="2259000" cy="2259000"/>
            </a:xfrm>
            <a:custGeom>
              <a:avLst/>
              <a:gdLst/>
              <a:ahLst/>
              <a:rect l="l" t="t" r="r" b="b"/>
              <a:pathLst>
                <a:path w="988" h="988">
                  <a:moveTo>
                    <a:pt x="978" y="988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3"/>
                    <a:pt x="3" y="0"/>
                  </a:cubicBezTo>
                  <a:cubicBezTo>
                    <a:pt x="988" y="985"/>
                    <a:pt x="988" y="985"/>
                    <a:pt x="988" y="985"/>
                  </a:cubicBezTo>
                  <a:cubicBezTo>
                    <a:pt x="985" y="986"/>
                    <a:pt x="982" y="987"/>
                    <a:pt x="978" y="98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0" name="Freeform 62"/>
            <p:cNvSpPr/>
            <p:nvPr/>
          </p:nvSpPr>
          <p:spPr>
            <a:xfrm rot="18759000">
              <a:off x="8325720" y="3474360"/>
              <a:ext cx="2300400" cy="2300400"/>
            </a:xfrm>
            <a:custGeom>
              <a:avLst/>
              <a:gdLst/>
              <a:ahLst/>
              <a:rect l="l" t="t" r="r" b="b"/>
              <a:pathLst>
                <a:path w="1006" h="1006">
                  <a:moveTo>
                    <a:pt x="996" y="1006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4"/>
                    <a:pt x="3" y="0"/>
                  </a:cubicBezTo>
                  <a:cubicBezTo>
                    <a:pt x="1006" y="1003"/>
                    <a:pt x="1006" y="1003"/>
                    <a:pt x="1006" y="1003"/>
                  </a:cubicBezTo>
                  <a:cubicBezTo>
                    <a:pt x="1003" y="1004"/>
                    <a:pt x="1000" y="1005"/>
                    <a:pt x="996" y="100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1" name="Freeform 63"/>
            <p:cNvSpPr/>
            <p:nvPr/>
          </p:nvSpPr>
          <p:spPr>
            <a:xfrm rot="18759000">
              <a:off x="8305560" y="3405240"/>
              <a:ext cx="2338560" cy="2337120"/>
            </a:xfrm>
            <a:custGeom>
              <a:avLst/>
              <a:gdLst/>
              <a:ahLst/>
              <a:rect l="l" t="t" r="r" b="b"/>
              <a:pathLst>
                <a:path w="1022" h="1022">
                  <a:moveTo>
                    <a:pt x="1013" y="1022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7"/>
                    <a:pt x="2" y="3"/>
                    <a:pt x="3" y="0"/>
                  </a:cubicBezTo>
                  <a:cubicBezTo>
                    <a:pt x="1022" y="1019"/>
                    <a:pt x="1022" y="1019"/>
                    <a:pt x="1022" y="1019"/>
                  </a:cubicBezTo>
                  <a:cubicBezTo>
                    <a:pt x="1019" y="1020"/>
                    <a:pt x="1016" y="1021"/>
                    <a:pt x="1013" y="102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2" name="Freeform 64"/>
            <p:cNvSpPr/>
            <p:nvPr/>
          </p:nvSpPr>
          <p:spPr>
            <a:xfrm rot="18759000">
              <a:off x="8287560" y="3336840"/>
              <a:ext cx="2371680" cy="2370240"/>
            </a:xfrm>
            <a:custGeom>
              <a:avLst/>
              <a:gdLst/>
              <a:ahLst/>
              <a:rect l="l" t="t" r="r" b="b"/>
              <a:pathLst>
                <a:path w="1037" h="1037">
                  <a:moveTo>
                    <a:pt x="1027" y="1037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1037" y="1033"/>
                    <a:pt x="1037" y="1033"/>
                    <a:pt x="1037" y="1033"/>
                  </a:cubicBezTo>
                  <a:cubicBezTo>
                    <a:pt x="1034" y="1035"/>
                    <a:pt x="1031" y="1036"/>
                    <a:pt x="1027" y="103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3" name="Freeform 65"/>
            <p:cNvSpPr/>
            <p:nvPr/>
          </p:nvSpPr>
          <p:spPr>
            <a:xfrm rot="18759000">
              <a:off x="8269560" y="3269880"/>
              <a:ext cx="2403360" cy="2401920"/>
            </a:xfrm>
            <a:custGeom>
              <a:avLst/>
              <a:gdLst/>
              <a:ahLst/>
              <a:rect l="l" t="t" r="r" b="b"/>
              <a:pathLst>
                <a:path w="1051" h="1051">
                  <a:moveTo>
                    <a:pt x="1042" y="1051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6"/>
                    <a:pt x="2" y="3"/>
                    <a:pt x="3" y="0"/>
                  </a:cubicBezTo>
                  <a:cubicBezTo>
                    <a:pt x="1051" y="1047"/>
                    <a:pt x="1051" y="1047"/>
                    <a:pt x="1051" y="1047"/>
                  </a:cubicBezTo>
                  <a:cubicBezTo>
                    <a:pt x="1048" y="1048"/>
                    <a:pt x="1045" y="1050"/>
                    <a:pt x="1042" y="105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4" name="Freeform 66"/>
            <p:cNvSpPr/>
            <p:nvPr/>
          </p:nvSpPr>
          <p:spPr>
            <a:xfrm rot="18759000">
              <a:off x="8250840" y="3201120"/>
              <a:ext cx="2433600" cy="2433960"/>
            </a:xfrm>
            <a:custGeom>
              <a:avLst/>
              <a:gdLst/>
              <a:ahLst/>
              <a:rect l="l" t="t" r="r" b="b"/>
              <a:pathLst>
                <a:path w="1064" h="1064">
                  <a:moveTo>
                    <a:pt x="1055" y="1064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3" y="3"/>
                    <a:pt x="4" y="0"/>
                  </a:cubicBezTo>
                  <a:cubicBezTo>
                    <a:pt x="1064" y="1060"/>
                    <a:pt x="1064" y="1060"/>
                    <a:pt x="1064" y="1060"/>
                  </a:cubicBezTo>
                  <a:cubicBezTo>
                    <a:pt x="1061" y="1062"/>
                    <a:pt x="1058" y="1063"/>
                    <a:pt x="1055" y="106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5" name="Freeform 67"/>
            <p:cNvSpPr/>
            <p:nvPr/>
          </p:nvSpPr>
          <p:spPr>
            <a:xfrm rot="18759000">
              <a:off x="8236800" y="3137400"/>
              <a:ext cx="2460600" cy="2459160"/>
            </a:xfrm>
            <a:custGeom>
              <a:avLst/>
              <a:gdLst/>
              <a:ahLst/>
              <a:rect l="l" t="t" r="r" b="b"/>
              <a:pathLst>
                <a:path w="1076" h="1075">
                  <a:moveTo>
                    <a:pt x="1067" y="1075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3" y="2"/>
                    <a:pt x="5" y="0"/>
                  </a:cubicBezTo>
                  <a:cubicBezTo>
                    <a:pt x="1076" y="1071"/>
                    <a:pt x="1076" y="1071"/>
                    <a:pt x="1076" y="1071"/>
                  </a:cubicBezTo>
                  <a:cubicBezTo>
                    <a:pt x="1073" y="1072"/>
                    <a:pt x="1070" y="1074"/>
                    <a:pt x="1067" y="107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6" name="Freeform 68"/>
            <p:cNvSpPr/>
            <p:nvPr/>
          </p:nvSpPr>
          <p:spPr>
            <a:xfrm rot="18759000">
              <a:off x="8222040" y="3072240"/>
              <a:ext cx="2482920" cy="2484720"/>
            </a:xfrm>
            <a:custGeom>
              <a:avLst/>
              <a:gdLst/>
              <a:ahLst/>
              <a:rect l="l" t="t" r="r" b="b"/>
              <a:pathLst>
                <a:path w="1086" h="1086">
                  <a:moveTo>
                    <a:pt x="1078" y="1086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3" y="3"/>
                    <a:pt x="5" y="0"/>
                  </a:cubicBezTo>
                  <a:cubicBezTo>
                    <a:pt x="1086" y="1082"/>
                    <a:pt x="1086" y="1082"/>
                    <a:pt x="1086" y="1082"/>
                  </a:cubicBezTo>
                  <a:cubicBezTo>
                    <a:pt x="1083" y="1083"/>
                    <a:pt x="1080" y="1085"/>
                    <a:pt x="1078" y="108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7" name="Freeform 69"/>
            <p:cNvSpPr/>
            <p:nvPr/>
          </p:nvSpPr>
          <p:spPr>
            <a:xfrm rot="18759000">
              <a:off x="8209080" y="3012480"/>
              <a:ext cx="2506680" cy="2503800"/>
            </a:xfrm>
            <a:custGeom>
              <a:avLst/>
              <a:gdLst/>
              <a:ahLst/>
              <a:rect l="l" t="t" r="r" b="b"/>
              <a:pathLst>
                <a:path w="1096" h="1095">
                  <a:moveTo>
                    <a:pt x="1088" y="1095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3" y="2"/>
                    <a:pt x="5" y="0"/>
                  </a:cubicBezTo>
                  <a:cubicBezTo>
                    <a:pt x="1096" y="1090"/>
                    <a:pt x="1096" y="1090"/>
                    <a:pt x="1096" y="1090"/>
                  </a:cubicBezTo>
                  <a:cubicBezTo>
                    <a:pt x="1093" y="1092"/>
                    <a:pt x="1090" y="1094"/>
                    <a:pt x="1088" y="109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8" name="Freeform 70"/>
            <p:cNvSpPr/>
            <p:nvPr/>
          </p:nvSpPr>
          <p:spPr>
            <a:xfrm rot="18759000">
              <a:off x="8197200" y="2948400"/>
              <a:ext cx="2524320" cy="252576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1096" y="110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3" y="3"/>
                    <a:pt x="5" y="0"/>
                  </a:cubicBezTo>
                  <a:cubicBezTo>
                    <a:pt x="1104" y="1099"/>
                    <a:pt x="1104" y="1099"/>
                    <a:pt x="1104" y="1099"/>
                  </a:cubicBezTo>
                  <a:cubicBezTo>
                    <a:pt x="1101" y="1101"/>
                    <a:pt x="1099" y="1103"/>
                    <a:pt x="1096" y="110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9" name="Freeform 71"/>
            <p:cNvSpPr/>
            <p:nvPr/>
          </p:nvSpPr>
          <p:spPr>
            <a:xfrm rot="18759000">
              <a:off x="8186040" y="2890080"/>
              <a:ext cx="2543040" cy="2540160"/>
            </a:xfrm>
            <a:custGeom>
              <a:avLst/>
              <a:gdLst/>
              <a:ahLst/>
              <a:rect l="l" t="t" r="r" b="b"/>
              <a:pathLst>
                <a:path w="1112" h="1111">
                  <a:moveTo>
                    <a:pt x="1104" y="1111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4" y="2"/>
                    <a:pt x="5" y="0"/>
                  </a:cubicBezTo>
                  <a:cubicBezTo>
                    <a:pt x="1112" y="1106"/>
                    <a:pt x="1112" y="1106"/>
                    <a:pt x="1112" y="1106"/>
                  </a:cubicBezTo>
                  <a:cubicBezTo>
                    <a:pt x="1109" y="1108"/>
                    <a:pt x="1106" y="1109"/>
                    <a:pt x="1104" y="111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0" name="Freeform 72"/>
            <p:cNvSpPr/>
            <p:nvPr/>
          </p:nvSpPr>
          <p:spPr>
            <a:xfrm rot="18759000">
              <a:off x="8177400" y="2829240"/>
              <a:ext cx="2556000" cy="2557800"/>
            </a:xfrm>
            <a:custGeom>
              <a:avLst/>
              <a:gdLst/>
              <a:ahLst/>
              <a:rect l="l" t="t" r="r" b="b"/>
              <a:pathLst>
                <a:path w="1118" h="1118">
                  <a:moveTo>
                    <a:pt x="1110" y="1118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6"/>
                    <a:pt x="4" y="3"/>
                    <a:pt x="5" y="0"/>
                  </a:cubicBezTo>
                  <a:cubicBezTo>
                    <a:pt x="1118" y="1113"/>
                    <a:pt x="1118" y="1113"/>
                    <a:pt x="1118" y="1113"/>
                  </a:cubicBezTo>
                  <a:cubicBezTo>
                    <a:pt x="1115" y="1115"/>
                    <a:pt x="1113" y="1117"/>
                    <a:pt x="1110" y="111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1" name="Freeform 73"/>
            <p:cNvSpPr/>
            <p:nvPr/>
          </p:nvSpPr>
          <p:spPr>
            <a:xfrm rot="18759000">
              <a:off x="8168040" y="2772720"/>
              <a:ext cx="2571840" cy="2568600"/>
            </a:xfrm>
            <a:custGeom>
              <a:avLst/>
              <a:gdLst/>
              <a:ahLst/>
              <a:rect l="l" t="t" r="r" b="b"/>
              <a:pathLst>
                <a:path w="1124" h="1123">
                  <a:moveTo>
                    <a:pt x="1116" y="1123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4" y="2"/>
                    <a:pt x="6" y="0"/>
                  </a:cubicBezTo>
                  <a:cubicBezTo>
                    <a:pt x="1124" y="1118"/>
                    <a:pt x="1124" y="1118"/>
                    <a:pt x="1124" y="1118"/>
                  </a:cubicBezTo>
                  <a:cubicBezTo>
                    <a:pt x="1121" y="1119"/>
                    <a:pt x="1119" y="1121"/>
                    <a:pt x="1116" y="112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2" name="Freeform 74"/>
            <p:cNvSpPr/>
            <p:nvPr/>
          </p:nvSpPr>
          <p:spPr>
            <a:xfrm rot="18759000">
              <a:off x="8161560" y="2714400"/>
              <a:ext cx="2579760" cy="2579760"/>
            </a:xfrm>
            <a:custGeom>
              <a:avLst/>
              <a:gdLst/>
              <a:ahLst/>
              <a:rect l="l" t="t" r="r" b="b"/>
              <a:pathLst>
                <a:path w="1128" h="1128">
                  <a:moveTo>
                    <a:pt x="1121" y="1128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2" y="5"/>
                    <a:pt x="4" y="3"/>
                    <a:pt x="6" y="0"/>
                  </a:cubicBezTo>
                  <a:cubicBezTo>
                    <a:pt x="1128" y="1123"/>
                    <a:pt x="1128" y="1123"/>
                    <a:pt x="1128" y="1123"/>
                  </a:cubicBezTo>
                  <a:cubicBezTo>
                    <a:pt x="1126" y="1125"/>
                    <a:pt x="1123" y="1126"/>
                    <a:pt x="1121" y="112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3" name="Freeform 75"/>
            <p:cNvSpPr/>
            <p:nvPr/>
          </p:nvSpPr>
          <p:spPr>
            <a:xfrm rot="18759000">
              <a:off x="8154720" y="2659320"/>
              <a:ext cx="2589120" cy="2586240"/>
            </a:xfrm>
            <a:custGeom>
              <a:avLst/>
              <a:gdLst/>
              <a:ahLst/>
              <a:rect l="l" t="t" r="r" b="b"/>
              <a:pathLst>
                <a:path w="1132" h="1131">
                  <a:moveTo>
                    <a:pt x="1125" y="1131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4"/>
                    <a:pt x="4" y="2"/>
                    <a:pt x="6" y="0"/>
                  </a:cubicBezTo>
                  <a:cubicBezTo>
                    <a:pt x="1132" y="1125"/>
                    <a:pt x="1132" y="1125"/>
                    <a:pt x="1132" y="1125"/>
                  </a:cubicBezTo>
                  <a:cubicBezTo>
                    <a:pt x="1129" y="1127"/>
                    <a:pt x="1127" y="1129"/>
                    <a:pt x="1125" y="113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4" name="Freeform 76"/>
            <p:cNvSpPr/>
            <p:nvPr/>
          </p:nvSpPr>
          <p:spPr>
            <a:xfrm rot="18759000">
              <a:off x="8149680" y="2605320"/>
              <a:ext cx="2594160" cy="2592720"/>
            </a:xfrm>
            <a:custGeom>
              <a:avLst/>
              <a:gdLst/>
              <a:ahLst/>
              <a:rect l="l" t="t" r="r" b="b"/>
              <a:pathLst>
                <a:path w="1134" h="1134">
                  <a:moveTo>
                    <a:pt x="1127" y="1134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4" y="3"/>
                    <a:pt x="6" y="0"/>
                  </a:cubicBezTo>
                  <a:cubicBezTo>
                    <a:pt x="1134" y="1128"/>
                    <a:pt x="1134" y="1128"/>
                    <a:pt x="1134" y="1128"/>
                  </a:cubicBezTo>
                  <a:cubicBezTo>
                    <a:pt x="1132" y="1130"/>
                    <a:pt x="1129" y="1132"/>
                    <a:pt x="1127" y="1134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5" name="Freeform 77"/>
            <p:cNvSpPr/>
            <p:nvPr/>
          </p:nvSpPr>
          <p:spPr>
            <a:xfrm rot="18759000">
              <a:off x="8145720" y="2550960"/>
              <a:ext cx="2597040" cy="2597400"/>
            </a:xfrm>
            <a:custGeom>
              <a:avLst/>
              <a:gdLst/>
              <a:ahLst/>
              <a:rect l="l" t="t" r="r" b="b"/>
              <a:pathLst>
                <a:path w="1136" h="1136">
                  <a:moveTo>
                    <a:pt x="1129" y="1136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5"/>
                    <a:pt x="4" y="3"/>
                    <a:pt x="6" y="0"/>
                  </a:cubicBezTo>
                  <a:cubicBezTo>
                    <a:pt x="1136" y="1130"/>
                    <a:pt x="1136" y="1130"/>
                    <a:pt x="1136" y="1130"/>
                  </a:cubicBezTo>
                  <a:cubicBezTo>
                    <a:pt x="1134" y="1132"/>
                    <a:pt x="1131" y="1134"/>
                    <a:pt x="1129" y="113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6" name="Freeform 78">
              <a:hlinkClick r:id="rId4"/>
            </p:cNvPr>
            <p:cNvSpPr/>
            <p:nvPr/>
          </p:nvSpPr>
          <p:spPr>
            <a:xfrm rot="18759000">
              <a:off x="8144280" y="2498040"/>
              <a:ext cx="2598840" cy="2600640"/>
            </a:xfrm>
            <a:custGeom>
              <a:avLst/>
              <a:gdLst/>
              <a:ahLst/>
              <a:rect l="l" t="t" r="r" b="b"/>
              <a:pathLst>
                <a:path w="1136" h="1137">
                  <a:moveTo>
                    <a:pt x="1130" y="113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2" y="4"/>
                    <a:pt x="4" y="2"/>
                    <a:pt x="6" y="0"/>
                  </a:cubicBezTo>
                  <a:cubicBezTo>
                    <a:pt x="1136" y="1130"/>
                    <a:pt x="1136" y="1130"/>
                    <a:pt x="1136" y="1130"/>
                  </a:cubicBezTo>
                  <a:cubicBezTo>
                    <a:pt x="1134" y="1133"/>
                    <a:pt x="1132" y="1135"/>
                    <a:pt x="1130" y="113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7" name="Freeform 79"/>
            <p:cNvSpPr/>
            <p:nvPr/>
          </p:nvSpPr>
          <p:spPr>
            <a:xfrm rot="18759000">
              <a:off x="8142120" y="2446920"/>
              <a:ext cx="2598840" cy="2600640"/>
            </a:xfrm>
            <a:custGeom>
              <a:avLst/>
              <a:gdLst/>
              <a:ahLst/>
              <a:rect l="l" t="t" r="r" b="b"/>
              <a:pathLst>
                <a:path w="1136" h="1137">
                  <a:moveTo>
                    <a:pt x="1130" y="1137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4" y="2"/>
                    <a:pt x="6" y="0"/>
                  </a:cubicBezTo>
                  <a:cubicBezTo>
                    <a:pt x="1136" y="1130"/>
                    <a:pt x="1136" y="1130"/>
                    <a:pt x="1136" y="1130"/>
                  </a:cubicBezTo>
                  <a:cubicBezTo>
                    <a:pt x="1134" y="1132"/>
                    <a:pt x="1132" y="1135"/>
                    <a:pt x="1130" y="113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8" name="Freeform 80"/>
            <p:cNvSpPr/>
            <p:nvPr/>
          </p:nvSpPr>
          <p:spPr>
            <a:xfrm rot="18759000">
              <a:off x="8139240" y="2396880"/>
              <a:ext cx="2598840" cy="2595600"/>
            </a:xfrm>
            <a:custGeom>
              <a:avLst/>
              <a:gdLst/>
              <a:ahLst/>
              <a:rect l="l" t="t" r="r" b="b"/>
              <a:pathLst>
                <a:path w="1136" h="1135">
                  <a:moveTo>
                    <a:pt x="1130" y="1135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5" y="2"/>
                    <a:pt x="7" y="0"/>
                  </a:cubicBezTo>
                  <a:cubicBezTo>
                    <a:pt x="1136" y="1129"/>
                    <a:pt x="1136" y="1129"/>
                    <a:pt x="1136" y="1129"/>
                  </a:cubicBezTo>
                  <a:cubicBezTo>
                    <a:pt x="1134" y="1131"/>
                    <a:pt x="1132" y="1133"/>
                    <a:pt x="1130" y="113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9" name="Freeform 81"/>
            <p:cNvSpPr/>
            <p:nvPr/>
          </p:nvSpPr>
          <p:spPr>
            <a:xfrm rot="18759000">
              <a:off x="8141040" y="2348280"/>
              <a:ext cx="2592360" cy="2590920"/>
            </a:xfrm>
            <a:custGeom>
              <a:avLst/>
              <a:gdLst/>
              <a:ahLst/>
              <a:rect l="l" t="t" r="r" b="b"/>
              <a:pathLst>
                <a:path w="1134" h="1133">
                  <a:moveTo>
                    <a:pt x="1128" y="1133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5" y="2"/>
                    <a:pt x="7" y="0"/>
                  </a:cubicBezTo>
                  <a:cubicBezTo>
                    <a:pt x="1134" y="1126"/>
                    <a:pt x="1134" y="1126"/>
                    <a:pt x="1134" y="1126"/>
                  </a:cubicBezTo>
                  <a:cubicBezTo>
                    <a:pt x="1132" y="1129"/>
                    <a:pt x="1130" y="1131"/>
                    <a:pt x="1128" y="113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0" name="Freeform 82"/>
            <p:cNvSpPr/>
            <p:nvPr/>
          </p:nvSpPr>
          <p:spPr>
            <a:xfrm rot="18759000">
              <a:off x="8139960" y="2298240"/>
              <a:ext cx="2589120" cy="2586240"/>
            </a:xfrm>
            <a:custGeom>
              <a:avLst/>
              <a:gdLst/>
              <a:ahLst/>
              <a:rect l="l" t="t" r="r" b="b"/>
              <a:pathLst>
                <a:path w="1132" h="1131">
                  <a:moveTo>
                    <a:pt x="1126" y="1131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5" y="2"/>
                    <a:pt x="8" y="0"/>
                  </a:cubicBezTo>
                  <a:cubicBezTo>
                    <a:pt x="1132" y="1124"/>
                    <a:pt x="1132" y="1124"/>
                    <a:pt x="1132" y="1124"/>
                  </a:cubicBezTo>
                  <a:cubicBezTo>
                    <a:pt x="1130" y="1126"/>
                    <a:pt x="1128" y="1129"/>
                    <a:pt x="1126" y="113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1" name="Freeform 83"/>
            <p:cNvSpPr/>
            <p:nvPr/>
          </p:nvSpPr>
          <p:spPr>
            <a:xfrm rot="18759000">
              <a:off x="8142480" y="2251440"/>
              <a:ext cx="2579760" cy="2576520"/>
            </a:xfrm>
            <a:custGeom>
              <a:avLst/>
              <a:gdLst/>
              <a:ahLst/>
              <a:rect l="l" t="t" r="r" b="b"/>
              <a:pathLst>
                <a:path w="1128" h="1127">
                  <a:moveTo>
                    <a:pt x="1122" y="1127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4"/>
                    <a:pt x="5" y="2"/>
                    <a:pt x="8" y="0"/>
                  </a:cubicBezTo>
                  <a:cubicBezTo>
                    <a:pt x="1128" y="1120"/>
                    <a:pt x="1128" y="1120"/>
                    <a:pt x="1128" y="1120"/>
                  </a:cubicBezTo>
                  <a:cubicBezTo>
                    <a:pt x="1126" y="1122"/>
                    <a:pt x="1124" y="1125"/>
                    <a:pt x="1122" y="112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2" name="Freeform 84"/>
            <p:cNvSpPr/>
            <p:nvPr/>
          </p:nvSpPr>
          <p:spPr>
            <a:xfrm rot="18759000">
              <a:off x="8146800" y="2204640"/>
              <a:ext cx="2567160" cy="2567160"/>
            </a:xfrm>
            <a:custGeom>
              <a:avLst/>
              <a:gdLst/>
              <a:ahLst/>
              <a:rect l="l" t="t" r="r" b="b"/>
              <a:pathLst>
                <a:path w="1122" h="1123">
                  <a:moveTo>
                    <a:pt x="1117" y="1123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4"/>
                    <a:pt x="5" y="2"/>
                    <a:pt x="7" y="0"/>
                  </a:cubicBezTo>
                  <a:cubicBezTo>
                    <a:pt x="1122" y="1115"/>
                    <a:pt x="1122" y="1115"/>
                    <a:pt x="1122" y="1115"/>
                  </a:cubicBezTo>
                  <a:cubicBezTo>
                    <a:pt x="1120" y="1118"/>
                    <a:pt x="1119" y="1120"/>
                    <a:pt x="1117" y="112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3" name="Freeform 85"/>
            <p:cNvSpPr/>
            <p:nvPr/>
          </p:nvSpPr>
          <p:spPr>
            <a:xfrm rot="18759000">
              <a:off x="8150040" y="2160720"/>
              <a:ext cx="2554200" cy="2554560"/>
            </a:xfrm>
            <a:custGeom>
              <a:avLst/>
              <a:gdLst/>
              <a:ahLst/>
              <a:rect l="l" t="t" r="r" b="b"/>
              <a:pathLst>
                <a:path w="1117" h="1117">
                  <a:moveTo>
                    <a:pt x="1112" y="1117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3"/>
                    <a:pt x="6" y="2"/>
                    <a:pt x="8" y="0"/>
                  </a:cubicBezTo>
                  <a:cubicBezTo>
                    <a:pt x="1117" y="1109"/>
                    <a:pt x="1117" y="1109"/>
                    <a:pt x="1117" y="1109"/>
                  </a:cubicBezTo>
                  <a:cubicBezTo>
                    <a:pt x="1116" y="1112"/>
                    <a:pt x="1114" y="1114"/>
                    <a:pt x="1112" y="111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4" name="Freeform 86"/>
            <p:cNvSpPr/>
            <p:nvPr/>
          </p:nvSpPr>
          <p:spPr>
            <a:xfrm rot="18759000">
              <a:off x="8156880" y="2114280"/>
              <a:ext cx="2538360" cy="2541600"/>
            </a:xfrm>
            <a:custGeom>
              <a:avLst/>
              <a:gdLst/>
              <a:ahLst/>
              <a:rect l="l" t="t" r="r" b="b"/>
              <a:pathLst>
                <a:path w="1110" h="1111">
                  <a:moveTo>
                    <a:pt x="1105" y="1111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2" y="4"/>
                    <a:pt x="5" y="2"/>
                    <a:pt x="8" y="0"/>
                  </a:cubicBezTo>
                  <a:cubicBezTo>
                    <a:pt x="1110" y="1103"/>
                    <a:pt x="1110" y="1103"/>
                    <a:pt x="1110" y="1103"/>
                  </a:cubicBezTo>
                  <a:cubicBezTo>
                    <a:pt x="1109" y="1105"/>
                    <a:pt x="1107" y="1108"/>
                    <a:pt x="1105" y="111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5" name="Freeform 87"/>
            <p:cNvSpPr/>
            <p:nvPr/>
          </p:nvSpPr>
          <p:spPr>
            <a:xfrm rot="18759000">
              <a:off x="8164080" y="2072160"/>
              <a:ext cx="2519280" cy="2522880"/>
            </a:xfrm>
            <a:custGeom>
              <a:avLst/>
              <a:gdLst/>
              <a:ahLst/>
              <a:rect l="l" t="t" r="r" b="b"/>
              <a:pathLst>
                <a:path w="1102" h="1103">
                  <a:moveTo>
                    <a:pt x="1098" y="1103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2" y="3"/>
                    <a:pt x="5" y="2"/>
                    <a:pt x="8" y="0"/>
                  </a:cubicBezTo>
                  <a:cubicBezTo>
                    <a:pt x="1102" y="1095"/>
                    <a:pt x="1102" y="1095"/>
                    <a:pt x="1102" y="1095"/>
                  </a:cubicBezTo>
                  <a:cubicBezTo>
                    <a:pt x="1101" y="1098"/>
                    <a:pt x="1099" y="1100"/>
                    <a:pt x="1098" y="110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6" name="Freeform 88"/>
            <p:cNvSpPr/>
            <p:nvPr/>
          </p:nvSpPr>
          <p:spPr>
            <a:xfrm rot="18759000">
              <a:off x="8171640" y="2029320"/>
              <a:ext cx="2502000" cy="2503800"/>
            </a:xfrm>
            <a:custGeom>
              <a:avLst/>
              <a:gdLst/>
              <a:ahLst/>
              <a:rect l="l" t="t" r="r" b="b"/>
              <a:pathLst>
                <a:path w="1094" h="1095">
                  <a:moveTo>
                    <a:pt x="1089" y="109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3"/>
                    <a:pt x="5" y="2"/>
                    <a:pt x="8" y="0"/>
                  </a:cubicBezTo>
                  <a:cubicBezTo>
                    <a:pt x="1094" y="1086"/>
                    <a:pt x="1094" y="1086"/>
                    <a:pt x="1094" y="1086"/>
                  </a:cubicBezTo>
                  <a:cubicBezTo>
                    <a:pt x="1093" y="1089"/>
                    <a:pt x="1091" y="1092"/>
                    <a:pt x="1089" y="109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7" name="Freeform 89"/>
            <p:cNvSpPr/>
            <p:nvPr/>
          </p:nvSpPr>
          <p:spPr>
            <a:xfrm rot="18759000">
              <a:off x="8180640" y="1989360"/>
              <a:ext cx="2479680" cy="2481480"/>
            </a:xfrm>
            <a:custGeom>
              <a:avLst/>
              <a:gdLst/>
              <a:ahLst/>
              <a:rect l="l" t="t" r="r" b="b"/>
              <a:pathLst>
                <a:path w="1084" h="1085">
                  <a:moveTo>
                    <a:pt x="1080" y="108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2" y="3"/>
                    <a:pt x="5" y="2"/>
                    <a:pt x="8" y="0"/>
                  </a:cubicBezTo>
                  <a:cubicBezTo>
                    <a:pt x="1084" y="1076"/>
                    <a:pt x="1084" y="1076"/>
                    <a:pt x="1084" y="1076"/>
                  </a:cubicBezTo>
                  <a:cubicBezTo>
                    <a:pt x="1083" y="1079"/>
                    <a:pt x="1081" y="1082"/>
                    <a:pt x="1080" y="108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8" name="Freeform 90"/>
            <p:cNvSpPr/>
            <p:nvPr/>
          </p:nvSpPr>
          <p:spPr>
            <a:xfrm rot="18759000">
              <a:off x="8189280" y="1949400"/>
              <a:ext cx="2455920" cy="2457720"/>
            </a:xfrm>
            <a:custGeom>
              <a:avLst/>
              <a:gdLst/>
              <a:ahLst/>
              <a:rect l="l" t="t" r="r" b="b"/>
              <a:pathLst>
                <a:path w="1074" h="1075">
                  <a:moveTo>
                    <a:pt x="1070" y="107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3"/>
                    <a:pt x="6" y="2"/>
                    <a:pt x="9" y="0"/>
                  </a:cubicBezTo>
                  <a:cubicBezTo>
                    <a:pt x="1074" y="1066"/>
                    <a:pt x="1074" y="1066"/>
                    <a:pt x="1074" y="1066"/>
                  </a:cubicBezTo>
                  <a:cubicBezTo>
                    <a:pt x="1073" y="1069"/>
                    <a:pt x="1071" y="1072"/>
                    <a:pt x="1070" y="107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9" name="Freeform 91"/>
            <p:cNvSpPr/>
            <p:nvPr/>
          </p:nvSpPr>
          <p:spPr>
            <a:xfrm rot="18759000">
              <a:off x="8201520" y="1911240"/>
              <a:ext cx="2428920" cy="2430720"/>
            </a:xfrm>
            <a:custGeom>
              <a:avLst/>
              <a:gdLst/>
              <a:ahLst/>
              <a:rect l="l" t="t" r="r" b="b"/>
              <a:pathLst>
                <a:path w="1062" h="1063">
                  <a:moveTo>
                    <a:pt x="1058" y="1063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3" y="3"/>
                    <a:pt x="6" y="2"/>
                    <a:pt x="9" y="0"/>
                  </a:cubicBezTo>
                  <a:cubicBezTo>
                    <a:pt x="1062" y="1054"/>
                    <a:pt x="1062" y="1054"/>
                    <a:pt x="1062" y="1054"/>
                  </a:cubicBezTo>
                  <a:cubicBezTo>
                    <a:pt x="1061" y="1057"/>
                    <a:pt x="1059" y="1060"/>
                    <a:pt x="1058" y="106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0" name="Freeform 92"/>
            <p:cNvSpPr/>
            <p:nvPr/>
          </p:nvSpPr>
          <p:spPr>
            <a:xfrm rot="18759000">
              <a:off x="8213760" y="1875600"/>
              <a:ext cx="2400480" cy="2399040"/>
            </a:xfrm>
            <a:custGeom>
              <a:avLst/>
              <a:gdLst/>
              <a:ahLst/>
              <a:rect l="l" t="t" r="r" b="b"/>
              <a:pathLst>
                <a:path w="1050" h="1049">
                  <a:moveTo>
                    <a:pt x="1046" y="1049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3" y="2"/>
                    <a:pt x="6" y="1"/>
                    <a:pt x="9" y="0"/>
                  </a:cubicBezTo>
                  <a:cubicBezTo>
                    <a:pt x="1050" y="1040"/>
                    <a:pt x="1050" y="1040"/>
                    <a:pt x="1050" y="1040"/>
                  </a:cubicBezTo>
                  <a:cubicBezTo>
                    <a:pt x="1048" y="1043"/>
                    <a:pt x="1047" y="1046"/>
                    <a:pt x="1046" y="104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1" name="Freeform 93"/>
            <p:cNvSpPr/>
            <p:nvPr/>
          </p:nvSpPr>
          <p:spPr>
            <a:xfrm rot="18759000">
              <a:off x="8227440" y="1839960"/>
              <a:ext cx="2368440" cy="2367000"/>
            </a:xfrm>
            <a:custGeom>
              <a:avLst/>
              <a:gdLst/>
              <a:ahLst/>
              <a:rect l="l" t="t" r="r" b="b"/>
              <a:pathLst>
                <a:path w="1036" h="1035">
                  <a:moveTo>
                    <a:pt x="1032" y="1035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6" y="1"/>
                    <a:pt x="10" y="0"/>
                  </a:cubicBezTo>
                  <a:cubicBezTo>
                    <a:pt x="1036" y="1026"/>
                    <a:pt x="1036" y="1026"/>
                    <a:pt x="1036" y="1026"/>
                  </a:cubicBezTo>
                  <a:cubicBezTo>
                    <a:pt x="1034" y="1029"/>
                    <a:pt x="1033" y="1032"/>
                    <a:pt x="1032" y="103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2" name="Freeform 94"/>
            <p:cNvSpPr/>
            <p:nvPr/>
          </p:nvSpPr>
          <p:spPr>
            <a:xfrm rot="18759000">
              <a:off x="8242920" y="1805760"/>
              <a:ext cx="2333520" cy="2332080"/>
            </a:xfrm>
            <a:custGeom>
              <a:avLst/>
              <a:gdLst/>
              <a:ahLst/>
              <a:rect l="l" t="t" r="r" b="b"/>
              <a:pathLst>
                <a:path w="1020" h="1020">
                  <a:moveTo>
                    <a:pt x="1017" y="102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6" y="1"/>
                    <a:pt x="9" y="0"/>
                  </a:cubicBezTo>
                  <a:cubicBezTo>
                    <a:pt x="1020" y="1010"/>
                    <a:pt x="1020" y="1010"/>
                    <a:pt x="1020" y="1010"/>
                  </a:cubicBezTo>
                  <a:cubicBezTo>
                    <a:pt x="1019" y="1013"/>
                    <a:pt x="1018" y="1016"/>
                    <a:pt x="1017" y="1020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3" name="Freeform 95"/>
            <p:cNvSpPr/>
            <p:nvPr/>
          </p:nvSpPr>
          <p:spPr>
            <a:xfrm rot="18759000">
              <a:off x="8259120" y="1773360"/>
              <a:ext cx="2295360" cy="2292480"/>
            </a:xfrm>
            <a:custGeom>
              <a:avLst/>
              <a:gdLst/>
              <a:ahLst/>
              <a:rect l="l" t="t" r="r" b="b"/>
              <a:pathLst>
                <a:path w="1004" h="1003">
                  <a:moveTo>
                    <a:pt x="1001" y="100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7" y="1"/>
                    <a:pt x="10" y="0"/>
                  </a:cubicBezTo>
                  <a:cubicBezTo>
                    <a:pt x="1004" y="994"/>
                    <a:pt x="1004" y="994"/>
                    <a:pt x="1004" y="994"/>
                  </a:cubicBezTo>
                  <a:cubicBezTo>
                    <a:pt x="1003" y="997"/>
                    <a:pt x="1002" y="1000"/>
                    <a:pt x="1001" y="100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4" name="Freeform 96"/>
            <p:cNvSpPr/>
            <p:nvPr/>
          </p:nvSpPr>
          <p:spPr>
            <a:xfrm rot="18759000">
              <a:off x="8278920" y="1742040"/>
              <a:ext cx="2254320" cy="2254320"/>
            </a:xfrm>
            <a:custGeom>
              <a:avLst/>
              <a:gdLst/>
              <a:ahLst/>
              <a:rect l="l" t="t" r="r" b="b"/>
              <a:pathLst>
                <a:path w="986" h="986">
                  <a:moveTo>
                    <a:pt x="983" y="986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3" y="2"/>
                    <a:pt x="7" y="1"/>
                    <a:pt x="10" y="0"/>
                  </a:cubicBezTo>
                  <a:cubicBezTo>
                    <a:pt x="986" y="975"/>
                    <a:pt x="986" y="975"/>
                    <a:pt x="986" y="975"/>
                  </a:cubicBezTo>
                  <a:cubicBezTo>
                    <a:pt x="985" y="979"/>
                    <a:pt x="984" y="982"/>
                    <a:pt x="983" y="98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5" name="Freeform 97"/>
            <p:cNvSpPr/>
            <p:nvPr/>
          </p:nvSpPr>
          <p:spPr>
            <a:xfrm rot="18759000">
              <a:off x="8296920" y="1713240"/>
              <a:ext cx="2211480" cy="2208240"/>
            </a:xfrm>
            <a:custGeom>
              <a:avLst/>
              <a:gdLst/>
              <a:ahLst/>
              <a:rect l="l" t="t" r="r" b="b"/>
              <a:pathLst>
                <a:path w="967" h="966">
                  <a:moveTo>
                    <a:pt x="964" y="966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4" y="1"/>
                    <a:pt x="7" y="0"/>
                    <a:pt x="11" y="0"/>
                  </a:cubicBezTo>
                  <a:cubicBezTo>
                    <a:pt x="967" y="955"/>
                    <a:pt x="967" y="955"/>
                    <a:pt x="967" y="955"/>
                  </a:cubicBezTo>
                  <a:cubicBezTo>
                    <a:pt x="966" y="959"/>
                    <a:pt x="965" y="962"/>
                    <a:pt x="964" y="96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6" name="Freeform 98"/>
            <p:cNvSpPr/>
            <p:nvPr/>
          </p:nvSpPr>
          <p:spPr>
            <a:xfrm rot="18759000">
              <a:off x="8320320" y="1684080"/>
              <a:ext cx="2160720" cy="2163960"/>
            </a:xfrm>
            <a:custGeom>
              <a:avLst/>
              <a:gdLst/>
              <a:ahLst/>
              <a:rect l="l" t="t" r="r" b="b"/>
              <a:pathLst>
                <a:path w="945" h="946">
                  <a:moveTo>
                    <a:pt x="943" y="946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3" y="1"/>
                    <a:pt x="7" y="1"/>
                    <a:pt x="11" y="0"/>
                  </a:cubicBezTo>
                  <a:cubicBezTo>
                    <a:pt x="945" y="935"/>
                    <a:pt x="945" y="935"/>
                    <a:pt x="945" y="935"/>
                  </a:cubicBezTo>
                  <a:cubicBezTo>
                    <a:pt x="945" y="938"/>
                    <a:pt x="944" y="942"/>
                    <a:pt x="943" y="946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7" name="Freeform 99"/>
            <p:cNvSpPr/>
            <p:nvPr/>
          </p:nvSpPr>
          <p:spPr>
            <a:xfrm rot="18759000">
              <a:off x="8343000" y="1658160"/>
              <a:ext cx="2109600" cy="2111400"/>
            </a:xfrm>
            <a:custGeom>
              <a:avLst/>
              <a:gdLst/>
              <a:ahLst/>
              <a:rect l="l" t="t" r="r" b="b"/>
              <a:pathLst>
                <a:path w="923" h="923">
                  <a:moveTo>
                    <a:pt x="921" y="923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4" y="2"/>
                    <a:pt x="7" y="1"/>
                    <a:pt x="11" y="0"/>
                  </a:cubicBezTo>
                  <a:cubicBezTo>
                    <a:pt x="923" y="912"/>
                    <a:pt x="923" y="912"/>
                    <a:pt x="923" y="912"/>
                  </a:cubicBezTo>
                  <a:cubicBezTo>
                    <a:pt x="922" y="916"/>
                    <a:pt x="922" y="920"/>
                    <a:pt x="921" y="92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8" name="Freeform 100"/>
            <p:cNvSpPr/>
            <p:nvPr/>
          </p:nvSpPr>
          <p:spPr>
            <a:xfrm rot="18759000">
              <a:off x="8368560" y="1636200"/>
              <a:ext cx="2055960" cy="2052720"/>
            </a:xfrm>
            <a:custGeom>
              <a:avLst/>
              <a:gdLst/>
              <a:ahLst/>
              <a:rect l="l" t="t" r="r" b="b"/>
              <a:pathLst>
                <a:path w="899" h="898">
                  <a:moveTo>
                    <a:pt x="897" y="898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4" y="1"/>
                    <a:pt x="8" y="0"/>
                    <a:pt x="11" y="0"/>
                  </a:cubicBezTo>
                  <a:cubicBezTo>
                    <a:pt x="899" y="887"/>
                    <a:pt x="899" y="887"/>
                    <a:pt x="899" y="887"/>
                  </a:cubicBezTo>
                  <a:cubicBezTo>
                    <a:pt x="898" y="891"/>
                    <a:pt x="898" y="895"/>
                    <a:pt x="897" y="898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9" name="Freeform 101"/>
            <p:cNvSpPr/>
            <p:nvPr/>
          </p:nvSpPr>
          <p:spPr>
            <a:xfrm rot="18759000">
              <a:off x="8397720" y="1614240"/>
              <a:ext cx="1996920" cy="1995480"/>
            </a:xfrm>
            <a:custGeom>
              <a:avLst/>
              <a:gdLst/>
              <a:ahLst/>
              <a:rect l="l" t="t" r="r" b="b"/>
              <a:pathLst>
                <a:path w="873" h="873">
                  <a:moveTo>
                    <a:pt x="872" y="873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4" y="0"/>
                    <a:pt x="8" y="0"/>
                    <a:pt x="12" y="0"/>
                  </a:cubicBezTo>
                  <a:cubicBezTo>
                    <a:pt x="873" y="861"/>
                    <a:pt x="873" y="861"/>
                    <a:pt x="873" y="861"/>
                  </a:cubicBezTo>
                  <a:cubicBezTo>
                    <a:pt x="872" y="865"/>
                    <a:pt x="872" y="869"/>
                    <a:pt x="872" y="87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0" name="Freeform 102"/>
            <p:cNvSpPr/>
            <p:nvPr/>
          </p:nvSpPr>
          <p:spPr>
            <a:xfrm rot="18759000">
              <a:off x="8427240" y="1594440"/>
              <a:ext cx="1932120" cy="1932120"/>
            </a:xfrm>
            <a:custGeom>
              <a:avLst/>
              <a:gdLst/>
              <a:ahLst/>
              <a:rect l="l" t="t" r="r" b="b"/>
              <a:pathLst>
                <a:path w="845" h="845">
                  <a:moveTo>
                    <a:pt x="844" y="84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ubicBezTo>
                    <a:pt x="845" y="832"/>
                    <a:pt x="845" y="832"/>
                    <a:pt x="845" y="832"/>
                  </a:cubicBezTo>
                  <a:cubicBezTo>
                    <a:pt x="844" y="836"/>
                    <a:pt x="844" y="841"/>
                    <a:pt x="844" y="84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1" name="Freeform 103"/>
            <p:cNvSpPr/>
            <p:nvPr/>
          </p:nvSpPr>
          <p:spPr>
            <a:xfrm rot="18759000">
              <a:off x="8460000" y="1577160"/>
              <a:ext cx="1860480" cy="1863720"/>
            </a:xfrm>
            <a:custGeom>
              <a:avLst/>
              <a:gdLst/>
              <a:ahLst/>
              <a:rect l="l" t="t" r="r" b="b"/>
              <a:pathLst>
                <a:path w="814" h="815">
                  <a:moveTo>
                    <a:pt x="814" y="815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814" y="802"/>
                    <a:pt x="814" y="802"/>
                    <a:pt x="814" y="802"/>
                  </a:cubicBezTo>
                  <a:cubicBezTo>
                    <a:pt x="814" y="806"/>
                    <a:pt x="814" y="810"/>
                    <a:pt x="814" y="81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2" name="Freeform 104"/>
            <p:cNvSpPr/>
            <p:nvPr/>
          </p:nvSpPr>
          <p:spPr>
            <a:xfrm rot="18759000">
              <a:off x="8493840" y="1562400"/>
              <a:ext cx="1787400" cy="1789200"/>
            </a:xfrm>
            <a:custGeom>
              <a:avLst/>
              <a:gdLst/>
              <a:ahLst/>
              <a:rect l="l" t="t" r="r" b="b"/>
              <a:pathLst>
                <a:path w="782" h="782">
                  <a:moveTo>
                    <a:pt x="782" y="769"/>
                  </a:moveTo>
                  <a:cubicBezTo>
                    <a:pt x="782" y="774"/>
                    <a:pt x="782" y="778"/>
                    <a:pt x="782" y="78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1"/>
                    <a:pt x="13" y="1"/>
                  </a:cubicBezTo>
                  <a:lnTo>
                    <a:pt x="782" y="769"/>
                  </a:ln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3" name="Freeform 105"/>
            <p:cNvSpPr/>
            <p:nvPr/>
          </p:nvSpPr>
          <p:spPr>
            <a:xfrm rot="18759000">
              <a:off x="8532720" y="1550520"/>
              <a:ext cx="1708200" cy="1708200"/>
            </a:xfrm>
            <a:custGeom>
              <a:avLst/>
              <a:gdLst/>
              <a:ahLst/>
              <a:rect l="l" t="t" r="r" b="b"/>
              <a:pathLst>
                <a:path w="747" h="747">
                  <a:moveTo>
                    <a:pt x="14" y="1"/>
                  </a:moveTo>
                  <a:cubicBezTo>
                    <a:pt x="746" y="733"/>
                    <a:pt x="746" y="733"/>
                    <a:pt x="746" y="733"/>
                  </a:cubicBezTo>
                  <a:cubicBezTo>
                    <a:pt x="746" y="738"/>
                    <a:pt x="746" y="742"/>
                    <a:pt x="747" y="74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0"/>
                    <a:pt x="14" y="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4" name="Freeform 106"/>
            <p:cNvSpPr/>
            <p:nvPr/>
          </p:nvSpPr>
          <p:spPr>
            <a:xfrm rot="18759000">
              <a:off x="8573400" y="1541880"/>
              <a:ext cx="1622520" cy="1622520"/>
            </a:xfrm>
            <a:custGeom>
              <a:avLst/>
              <a:gdLst/>
              <a:ahLst/>
              <a:rect l="l" t="t" r="r" b="b"/>
              <a:pathLst>
                <a:path w="709" h="709">
                  <a:moveTo>
                    <a:pt x="14" y="1"/>
                  </a:moveTo>
                  <a:cubicBezTo>
                    <a:pt x="707" y="694"/>
                    <a:pt x="707" y="694"/>
                    <a:pt x="707" y="694"/>
                  </a:cubicBezTo>
                  <a:cubicBezTo>
                    <a:pt x="708" y="699"/>
                    <a:pt x="708" y="704"/>
                    <a:pt x="709" y="70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0"/>
                    <a:pt x="9" y="1"/>
                    <a:pt x="14" y="1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5" name="Freeform 107"/>
            <p:cNvSpPr/>
            <p:nvPr/>
          </p:nvSpPr>
          <p:spPr>
            <a:xfrm rot="18759000">
              <a:off x="8620560" y="1539720"/>
              <a:ext cx="1523880" cy="1523880"/>
            </a:xfrm>
            <a:custGeom>
              <a:avLst/>
              <a:gdLst/>
              <a:ahLst/>
              <a:rect l="l" t="t" r="r" b="b"/>
              <a:pathLst>
                <a:path w="667" h="667">
                  <a:moveTo>
                    <a:pt x="15" y="2"/>
                  </a:moveTo>
                  <a:cubicBezTo>
                    <a:pt x="664" y="651"/>
                    <a:pt x="664" y="651"/>
                    <a:pt x="664" y="651"/>
                  </a:cubicBezTo>
                  <a:cubicBezTo>
                    <a:pt x="665" y="656"/>
                    <a:pt x="666" y="662"/>
                    <a:pt x="667" y="66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0"/>
                    <a:pt x="10" y="1"/>
                    <a:pt x="15" y="2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6" name="Freeform 108"/>
            <p:cNvSpPr/>
            <p:nvPr/>
          </p:nvSpPr>
          <p:spPr>
            <a:xfrm rot="18759000">
              <a:off x="8670240" y="1540800"/>
              <a:ext cx="1419120" cy="1417680"/>
            </a:xfrm>
            <a:custGeom>
              <a:avLst/>
              <a:gdLst/>
              <a:ahLst/>
              <a:rect l="l" t="t" r="r" b="b"/>
              <a:pathLst>
                <a:path w="621" h="620">
                  <a:moveTo>
                    <a:pt x="16" y="3"/>
                  </a:moveTo>
                  <a:cubicBezTo>
                    <a:pt x="617" y="604"/>
                    <a:pt x="617" y="604"/>
                    <a:pt x="617" y="604"/>
                  </a:cubicBezTo>
                  <a:cubicBezTo>
                    <a:pt x="619" y="609"/>
                    <a:pt x="620" y="615"/>
                    <a:pt x="621" y="62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" y="1"/>
                    <a:pt x="11" y="2"/>
                    <a:pt x="16" y="3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7" name="Freeform 109"/>
            <p:cNvSpPr/>
            <p:nvPr/>
          </p:nvSpPr>
          <p:spPr>
            <a:xfrm rot="18759000">
              <a:off x="8726040" y="1546560"/>
              <a:ext cx="1301760" cy="1300320"/>
            </a:xfrm>
            <a:custGeom>
              <a:avLst/>
              <a:gdLst/>
              <a:ahLst/>
              <a:rect l="l" t="t" r="r" b="b"/>
              <a:pathLst>
                <a:path w="569" h="569">
                  <a:moveTo>
                    <a:pt x="18" y="5"/>
                  </a:moveTo>
                  <a:cubicBezTo>
                    <a:pt x="564" y="552"/>
                    <a:pt x="564" y="552"/>
                    <a:pt x="564" y="552"/>
                  </a:cubicBezTo>
                  <a:cubicBezTo>
                    <a:pt x="566" y="558"/>
                    <a:pt x="567" y="563"/>
                    <a:pt x="569" y="56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"/>
                    <a:pt x="12" y="4"/>
                    <a:pt x="18" y="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8" name="Freeform 110"/>
            <p:cNvSpPr/>
            <p:nvPr/>
          </p:nvSpPr>
          <p:spPr>
            <a:xfrm rot="18759000">
              <a:off x="8794080" y="1562400"/>
              <a:ext cx="1163520" cy="1165320"/>
            </a:xfrm>
            <a:custGeom>
              <a:avLst/>
              <a:gdLst/>
              <a:ahLst/>
              <a:rect l="l" t="t" r="r" b="b"/>
              <a:pathLst>
                <a:path w="509" h="510">
                  <a:moveTo>
                    <a:pt x="19" y="7"/>
                  </a:moveTo>
                  <a:cubicBezTo>
                    <a:pt x="503" y="490"/>
                    <a:pt x="503" y="490"/>
                    <a:pt x="503" y="490"/>
                  </a:cubicBezTo>
                  <a:cubicBezTo>
                    <a:pt x="505" y="497"/>
                    <a:pt x="507" y="503"/>
                    <a:pt x="509" y="51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2"/>
                    <a:pt x="13" y="4"/>
                    <a:pt x="19" y="7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9" name="Freeform 111"/>
            <p:cNvSpPr/>
            <p:nvPr/>
          </p:nvSpPr>
          <p:spPr>
            <a:xfrm rot="18759000">
              <a:off x="8869320" y="1590120"/>
              <a:ext cx="1008000" cy="1006560"/>
            </a:xfrm>
            <a:custGeom>
              <a:avLst/>
              <a:gdLst/>
              <a:ahLst/>
              <a:rect l="l" t="t" r="r" b="b"/>
              <a:pathLst>
                <a:path w="441" h="440">
                  <a:moveTo>
                    <a:pt x="23" y="9"/>
                  </a:moveTo>
                  <a:cubicBezTo>
                    <a:pt x="431" y="417"/>
                    <a:pt x="431" y="417"/>
                    <a:pt x="431" y="417"/>
                  </a:cubicBezTo>
                  <a:cubicBezTo>
                    <a:pt x="435" y="425"/>
                    <a:pt x="438" y="432"/>
                    <a:pt x="441" y="44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3"/>
                    <a:pt x="16" y="6"/>
                    <a:pt x="23" y="9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0" name="Freeform 112"/>
            <p:cNvSpPr/>
            <p:nvPr/>
          </p:nvSpPr>
          <p:spPr>
            <a:xfrm rot="18759000">
              <a:off x="8965440" y="1635840"/>
              <a:ext cx="811080" cy="811080"/>
            </a:xfrm>
            <a:custGeom>
              <a:avLst/>
              <a:gdLst/>
              <a:ahLst/>
              <a:rect l="l" t="t" r="r" b="b"/>
              <a:pathLst>
                <a:path w="355" h="355">
                  <a:moveTo>
                    <a:pt x="28" y="15"/>
                  </a:moveTo>
                  <a:cubicBezTo>
                    <a:pt x="341" y="328"/>
                    <a:pt x="341" y="328"/>
                    <a:pt x="341" y="328"/>
                  </a:cubicBezTo>
                  <a:cubicBezTo>
                    <a:pt x="346" y="337"/>
                    <a:pt x="350" y="346"/>
                    <a:pt x="355" y="35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5"/>
                    <a:pt x="19" y="10"/>
                    <a:pt x="28" y="15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1" name="Freeform 113"/>
            <p:cNvSpPr/>
            <p:nvPr/>
          </p:nvSpPr>
          <p:spPr>
            <a:xfrm rot="18759000">
              <a:off x="9099000" y="1720800"/>
              <a:ext cx="538200" cy="53640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43" y="30"/>
                  </a:moveTo>
                  <a:cubicBezTo>
                    <a:pt x="206" y="193"/>
                    <a:pt x="206" y="193"/>
                    <a:pt x="206" y="193"/>
                  </a:cubicBezTo>
                  <a:cubicBezTo>
                    <a:pt x="216" y="206"/>
                    <a:pt x="226" y="221"/>
                    <a:pt x="235" y="23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9"/>
                    <a:pt x="29" y="19"/>
                    <a:pt x="43" y="30"/>
                  </a:cubicBezTo>
                  <a:close/>
                </a:path>
              </a:pathLst>
            </a:custGeom>
            <a:solidFill>
              <a:srgbClr val="e03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2" name="Rectangle 117"/>
            <p:cNvSpPr/>
            <p:nvPr/>
          </p:nvSpPr>
          <p:spPr>
            <a:xfrm rot="18759000">
              <a:off x="9946800" y="196740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63" name="文本框 201"/>
          <p:cNvSpPr/>
          <p:nvPr/>
        </p:nvSpPr>
        <p:spPr>
          <a:xfrm>
            <a:off x="7835760" y="6216480"/>
            <a:ext cx="326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Freeform 114"/>
          <p:cNvSpPr/>
          <p:nvPr/>
        </p:nvSpPr>
        <p:spPr>
          <a:xfrm>
            <a:off x="7732800" y="4681440"/>
            <a:ext cx="3379680" cy="1128960"/>
          </a:xfrm>
          <a:custGeom>
            <a:avLst/>
            <a:gdLst/>
            <a:ahLst/>
            <a:rect l="l" t="t" r="r" b="b"/>
            <a:pathLst>
              <a:path w="1478" h="494">
                <a:moveTo>
                  <a:pt x="0" y="0"/>
                </a:moveTo>
                <a:cubicBezTo>
                  <a:pt x="120" y="290"/>
                  <a:pt x="406" y="494"/>
                  <a:pt x="739" y="494"/>
                </a:cubicBezTo>
                <a:cubicBezTo>
                  <a:pt x="1072" y="494"/>
                  <a:pt x="1358" y="290"/>
                  <a:pt x="147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ba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5" name="组合 9"/>
          <p:cNvGrpSpPr/>
          <p:nvPr/>
        </p:nvGrpSpPr>
        <p:grpSpPr>
          <a:xfrm>
            <a:off x="7662960" y="4287960"/>
            <a:ext cx="3601800" cy="915840"/>
            <a:chOff x="7662960" y="4287960"/>
            <a:chExt cx="3601800" cy="915840"/>
          </a:xfrm>
        </p:grpSpPr>
        <p:sp>
          <p:nvSpPr>
            <p:cNvPr id="3666" name="Freeform 119">
              <a:hlinkClick r:id="rId5"/>
            </p:cNvPr>
            <p:cNvSpPr/>
            <p:nvPr/>
          </p:nvSpPr>
          <p:spPr>
            <a:xfrm>
              <a:off x="7662960" y="4308480"/>
              <a:ext cx="1085760" cy="895320"/>
            </a:xfrm>
            <a:custGeom>
              <a:avLst/>
              <a:gdLst/>
              <a:ahLst/>
              <a:rect l="l" t="t" r="r" b="b"/>
              <a:pathLst>
                <a:path w="475" h="391">
                  <a:moveTo>
                    <a:pt x="414" y="293"/>
                  </a:moveTo>
                  <a:cubicBezTo>
                    <a:pt x="351" y="330"/>
                    <a:pt x="351" y="330"/>
                    <a:pt x="351" y="330"/>
                  </a:cubicBezTo>
                  <a:cubicBezTo>
                    <a:pt x="358" y="332"/>
                    <a:pt x="358" y="332"/>
                    <a:pt x="358" y="332"/>
                  </a:cubicBezTo>
                  <a:cubicBezTo>
                    <a:pt x="204" y="391"/>
                    <a:pt x="204" y="391"/>
                    <a:pt x="204" y="391"/>
                  </a:cubicBezTo>
                  <a:cubicBezTo>
                    <a:pt x="121" y="322"/>
                    <a:pt x="52" y="238"/>
                    <a:pt x="0" y="145"/>
                  </a:cubicBezTo>
                  <a:cubicBezTo>
                    <a:pt x="131" y="127"/>
                    <a:pt x="131" y="127"/>
                    <a:pt x="131" y="127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62" y="115"/>
                    <a:pt x="356" y="212"/>
                    <a:pt x="475" y="274"/>
                  </a:cubicBezTo>
                  <a:cubicBezTo>
                    <a:pt x="474" y="274"/>
                    <a:pt x="474" y="275"/>
                    <a:pt x="474" y="275"/>
                  </a:cubicBezTo>
                  <a:lnTo>
                    <a:pt x="414" y="293"/>
                  </a:lnTo>
                  <a:close/>
                </a:path>
              </a:pathLst>
            </a:custGeom>
            <a:solidFill>
              <a:srgbClr val="109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7" name="Freeform 121">
              <a:hlinkClick r:id="rId6"/>
            </p:cNvPr>
            <p:cNvSpPr/>
            <p:nvPr/>
          </p:nvSpPr>
          <p:spPr>
            <a:xfrm>
              <a:off x="10180800" y="4287960"/>
              <a:ext cx="1083960" cy="895320"/>
            </a:xfrm>
            <a:custGeom>
              <a:avLst/>
              <a:gdLst/>
              <a:ahLst/>
              <a:rect l="l" t="t" r="r" b="b"/>
              <a:pathLst>
                <a:path w="474" h="391">
                  <a:moveTo>
                    <a:pt x="60" y="294"/>
                  </a:moveTo>
                  <a:cubicBezTo>
                    <a:pt x="123" y="330"/>
                    <a:pt x="123" y="330"/>
                    <a:pt x="123" y="330"/>
                  </a:cubicBezTo>
                  <a:cubicBezTo>
                    <a:pt x="116" y="332"/>
                    <a:pt x="116" y="332"/>
                    <a:pt x="116" y="332"/>
                  </a:cubicBezTo>
                  <a:cubicBezTo>
                    <a:pt x="270" y="391"/>
                    <a:pt x="270" y="391"/>
                    <a:pt x="270" y="391"/>
                  </a:cubicBezTo>
                  <a:cubicBezTo>
                    <a:pt x="353" y="322"/>
                    <a:pt x="422" y="239"/>
                    <a:pt x="474" y="146"/>
                  </a:cubicBezTo>
                  <a:cubicBezTo>
                    <a:pt x="343" y="128"/>
                    <a:pt x="343" y="128"/>
                    <a:pt x="343" y="128"/>
                  </a:cubicBezTo>
                  <a:cubicBezTo>
                    <a:pt x="271" y="0"/>
                    <a:pt x="271" y="0"/>
                    <a:pt x="271" y="0"/>
                  </a:cubicBezTo>
                  <a:cubicBezTo>
                    <a:pt x="212" y="116"/>
                    <a:pt x="118" y="213"/>
                    <a:pt x="0" y="275"/>
                  </a:cubicBezTo>
                  <a:cubicBezTo>
                    <a:pt x="0" y="275"/>
                    <a:pt x="0" y="275"/>
                    <a:pt x="0" y="275"/>
                  </a:cubicBezTo>
                  <a:lnTo>
                    <a:pt x="60" y="294"/>
                  </a:lnTo>
                  <a:close/>
                </a:path>
              </a:pathLst>
            </a:custGeom>
            <a:solidFill>
              <a:srgbClr val="1099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8" name="组合 6"/>
          <p:cNvGrpSpPr/>
          <p:nvPr/>
        </p:nvGrpSpPr>
        <p:grpSpPr>
          <a:xfrm>
            <a:off x="8348760" y="4700520"/>
            <a:ext cx="2243160" cy="406440"/>
            <a:chOff x="8348760" y="4700520"/>
            <a:chExt cx="2243160" cy="406440"/>
          </a:xfrm>
        </p:grpSpPr>
        <p:sp>
          <p:nvSpPr>
            <p:cNvPr id="3669" name="Freeform 120"/>
            <p:cNvSpPr/>
            <p:nvPr/>
          </p:nvSpPr>
          <p:spPr>
            <a:xfrm>
              <a:off x="8348760" y="4717800"/>
              <a:ext cx="404640" cy="389160"/>
            </a:xfrm>
            <a:custGeom>
              <a:avLst/>
              <a:gdLst/>
              <a:ahLst/>
              <a:rect l="l" t="t" r="r" b="b"/>
              <a:pathLst>
                <a:path w="255" h="245">
                  <a:moveTo>
                    <a:pt x="0" y="0"/>
                  </a:moveTo>
                  <a:lnTo>
                    <a:pt x="255" y="139"/>
                  </a:lnTo>
                  <a:lnTo>
                    <a:pt x="184" y="2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0" name="Freeform 122"/>
            <p:cNvSpPr/>
            <p:nvPr/>
          </p:nvSpPr>
          <p:spPr>
            <a:xfrm>
              <a:off x="10187280" y="4700520"/>
              <a:ext cx="404640" cy="385920"/>
            </a:xfrm>
            <a:custGeom>
              <a:avLst/>
              <a:gdLst/>
              <a:ahLst/>
              <a:rect l="l" t="t" r="r" b="b"/>
              <a:pathLst>
                <a:path w="255" h="243">
                  <a:moveTo>
                    <a:pt x="255" y="0"/>
                  </a:moveTo>
                  <a:lnTo>
                    <a:pt x="0" y="137"/>
                  </a:lnTo>
                  <a:lnTo>
                    <a:pt x="72" y="243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08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1" name="组合 7"/>
          <p:cNvGrpSpPr/>
          <p:nvPr/>
        </p:nvGrpSpPr>
        <p:grpSpPr>
          <a:xfrm>
            <a:off x="7970760" y="4303800"/>
            <a:ext cx="3005280" cy="1577880"/>
            <a:chOff x="7970760" y="4303800"/>
            <a:chExt cx="3005280" cy="1577880"/>
          </a:xfrm>
        </p:grpSpPr>
        <p:sp>
          <p:nvSpPr>
            <p:cNvPr id="3672" name="Freeform 123"/>
            <p:cNvSpPr/>
            <p:nvPr/>
          </p:nvSpPr>
          <p:spPr>
            <a:xfrm>
              <a:off x="8045280" y="4771440"/>
              <a:ext cx="2859480" cy="1110240"/>
            </a:xfrm>
            <a:custGeom>
              <a:avLst/>
              <a:gdLst/>
              <a:ahLst/>
              <a:rect l="l" t="t" r="r" b="b"/>
              <a:pathLst>
                <a:path w="1250" h="485">
                  <a:moveTo>
                    <a:pt x="621" y="485"/>
                  </a:moveTo>
                  <a:cubicBezTo>
                    <a:pt x="375" y="485"/>
                    <a:pt x="154" y="374"/>
                    <a:pt x="0" y="197"/>
                  </a:cubicBezTo>
                  <a:cubicBezTo>
                    <a:pt x="158" y="9"/>
                    <a:pt x="158" y="9"/>
                    <a:pt x="158" y="9"/>
                  </a:cubicBezTo>
                  <a:cubicBezTo>
                    <a:pt x="269" y="149"/>
                    <a:pt x="435" y="237"/>
                    <a:pt x="621" y="237"/>
                  </a:cubicBezTo>
                  <a:cubicBezTo>
                    <a:pt x="812" y="237"/>
                    <a:pt x="981" y="145"/>
                    <a:pt x="1092" y="0"/>
                  </a:cubicBezTo>
                  <a:cubicBezTo>
                    <a:pt x="1250" y="187"/>
                    <a:pt x="1250" y="187"/>
                    <a:pt x="1250" y="187"/>
                  </a:cubicBezTo>
                  <a:cubicBezTo>
                    <a:pt x="1096" y="370"/>
                    <a:pt x="872" y="485"/>
                    <a:pt x="621" y="485"/>
                  </a:cubicBezTo>
                  <a:close/>
                </a:path>
              </a:pathLst>
            </a:custGeom>
            <a:solidFill>
              <a:srgbClr val="9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3" name="Freeform 124"/>
            <p:cNvSpPr/>
            <p:nvPr/>
          </p:nvSpPr>
          <p:spPr>
            <a:xfrm>
              <a:off x="7970760" y="4703040"/>
              <a:ext cx="3005280" cy="1112040"/>
            </a:xfrm>
            <a:custGeom>
              <a:avLst/>
              <a:gdLst/>
              <a:ahLst/>
              <a:rect l="l" t="t" r="r" b="b"/>
              <a:pathLst>
                <a:path w="1314" h="486">
                  <a:moveTo>
                    <a:pt x="653" y="486"/>
                  </a:moveTo>
                  <a:cubicBezTo>
                    <a:pt x="394" y="486"/>
                    <a:pt x="161" y="375"/>
                    <a:pt x="0" y="197"/>
                  </a:cubicBezTo>
                  <a:cubicBezTo>
                    <a:pt x="166" y="10"/>
                    <a:pt x="166" y="10"/>
                    <a:pt x="166" y="10"/>
                  </a:cubicBezTo>
                  <a:cubicBezTo>
                    <a:pt x="282" y="149"/>
                    <a:pt x="457" y="238"/>
                    <a:pt x="653" y="238"/>
                  </a:cubicBezTo>
                  <a:cubicBezTo>
                    <a:pt x="853" y="238"/>
                    <a:pt x="1032" y="145"/>
                    <a:pt x="1148" y="0"/>
                  </a:cubicBezTo>
                  <a:cubicBezTo>
                    <a:pt x="1314" y="188"/>
                    <a:pt x="1314" y="188"/>
                    <a:pt x="1314" y="188"/>
                  </a:cubicBezTo>
                  <a:cubicBezTo>
                    <a:pt x="1153" y="371"/>
                    <a:pt x="916" y="486"/>
                    <a:pt x="653" y="486"/>
                  </a:cubicBezTo>
                  <a:close/>
                </a:path>
              </a:pathLst>
            </a:custGeom>
            <a:solidFill>
              <a:srgbClr val="1a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4" name="Freeform 125"/>
            <p:cNvSpPr/>
            <p:nvPr/>
          </p:nvSpPr>
          <p:spPr>
            <a:xfrm>
              <a:off x="7970760" y="4703040"/>
              <a:ext cx="3005280" cy="655920"/>
            </a:xfrm>
            <a:custGeom>
              <a:avLst/>
              <a:gdLst/>
              <a:ahLst/>
              <a:rect l="l" t="t" r="r" b="b"/>
              <a:pathLst>
                <a:path w="1314" h="287">
                  <a:moveTo>
                    <a:pt x="166" y="59"/>
                  </a:moveTo>
                  <a:cubicBezTo>
                    <a:pt x="282" y="199"/>
                    <a:pt x="457" y="287"/>
                    <a:pt x="653" y="287"/>
                  </a:cubicBezTo>
                  <a:cubicBezTo>
                    <a:pt x="853" y="287"/>
                    <a:pt x="1032" y="194"/>
                    <a:pt x="1148" y="50"/>
                  </a:cubicBezTo>
                  <a:cubicBezTo>
                    <a:pt x="1148" y="50"/>
                    <a:pt x="1307" y="196"/>
                    <a:pt x="1314" y="188"/>
                  </a:cubicBezTo>
                  <a:cubicBezTo>
                    <a:pt x="1148" y="0"/>
                    <a:pt x="1148" y="0"/>
                    <a:pt x="1148" y="0"/>
                  </a:cubicBezTo>
                  <a:cubicBezTo>
                    <a:pt x="1032" y="145"/>
                    <a:pt x="853" y="238"/>
                    <a:pt x="653" y="238"/>
                  </a:cubicBezTo>
                  <a:cubicBezTo>
                    <a:pt x="457" y="238"/>
                    <a:pt x="282" y="149"/>
                    <a:pt x="166" y="10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7" y="206"/>
                    <a:pt x="166" y="59"/>
                    <a:pt x="166" y="59"/>
                  </a:cubicBezTo>
                  <a:close/>
                </a:path>
              </a:pathLst>
            </a:custGeom>
            <a:solidFill>
              <a:srgbClr val="25c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5" name="文本框 200" descr=""/>
            <p:cNvPicPr/>
            <p:nvPr/>
          </p:nvPicPr>
          <p:blipFill>
            <a:blip r:embed="rId7"/>
            <a:stretch/>
          </p:blipFill>
          <p:spPr>
            <a:xfrm>
              <a:off x="8138880" y="4303800"/>
              <a:ext cx="2602800" cy="149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6" name="组合 1"/>
          <p:cNvGrpSpPr/>
          <p:nvPr/>
        </p:nvGrpSpPr>
        <p:grpSpPr>
          <a:xfrm>
            <a:off x="8129520" y="2087640"/>
            <a:ext cx="2546280" cy="3082680"/>
            <a:chOff x="8129520" y="2087640"/>
            <a:chExt cx="2546280" cy="3082680"/>
          </a:xfrm>
        </p:grpSpPr>
        <p:sp>
          <p:nvSpPr>
            <p:cNvPr id="3677" name="Rectangle 115"/>
            <p:cNvSpPr/>
            <p:nvPr/>
          </p:nvSpPr>
          <p:spPr>
            <a:xfrm>
              <a:off x="8464320" y="359568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8" name="Rectangle 116"/>
            <p:cNvSpPr/>
            <p:nvPr/>
          </p:nvSpPr>
          <p:spPr>
            <a:xfrm>
              <a:off x="8129520" y="330192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9" name="Rectangle 118"/>
            <p:cNvSpPr/>
            <p:nvPr/>
          </p:nvSpPr>
          <p:spPr>
            <a:xfrm>
              <a:off x="8980200" y="3382920"/>
              <a:ext cx="1440" cy="1440"/>
            </a:xfrm>
            <a:prstGeom prst="rect">
              <a:avLst/>
            </a:prstGeom>
            <a:solidFill>
              <a:srgbClr val="d6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0" name="Oval 126"/>
            <p:cNvSpPr/>
            <p:nvPr/>
          </p:nvSpPr>
          <p:spPr>
            <a:xfrm>
              <a:off x="8619840" y="4702320"/>
              <a:ext cx="1636560" cy="468000"/>
            </a:xfrm>
            <a:prstGeom prst="ellipse">
              <a:avLst/>
            </a:prstGeom>
            <a:solidFill>
              <a:srgbClr val="9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1" name="Freeform 127"/>
            <p:cNvSpPr/>
            <p:nvPr/>
          </p:nvSpPr>
          <p:spPr>
            <a:xfrm>
              <a:off x="8678520" y="4216320"/>
              <a:ext cx="1511280" cy="898200"/>
            </a:xfrm>
            <a:custGeom>
              <a:avLst/>
              <a:gdLst/>
              <a:ahLst/>
              <a:rect l="l" t="t" r="r" b="b"/>
              <a:pathLst>
                <a:path w="661" h="393">
                  <a:moveTo>
                    <a:pt x="661" y="294"/>
                  </a:moveTo>
                  <a:cubicBezTo>
                    <a:pt x="661" y="349"/>
                    <a:pt x="513" y="393"/>
                    <a:pt x="330" y="393"/>
                  </a:cubicBezTo>
                  <a:cubicBezTo>
                    <a:pt x="330" y="393"/>
                    <a:pt x="330" y="393"/>
                    <a:pt x="330" y="393"/>
                  </a:cubicBezTo>
                  <a:cubicBezTo>
                    <a:pt x="148" y="393"/>
                    <a:pt x="0" y="349"/>
                    <a:pt x="0" y="294"/>
                  </a:cubicBezTo>
                  <a:cubicBezTo>
                    <a:pt x="0" y="99"/>
                    <a:pt x="0" y="99"/>
                    <a:pt x="0" y="99"/>
                  </a:cubicBezTo>
                  <a:cubicBezTo>
                    <a:pt x="0" y="44"/>
                    <a:pt x="148" y="0"/>
                    <a:pt x="330" y="0"/>
                  </a:cubicBezTo>
                  <a:cubicBezTo>
                    <a:pt x="330" y="0"/>
                    <a:pt x="330" y="0"/>
                    <a:pt x="330" y="0"/>
                  </a:cubicBezTo>
                  <a:cubicBezTo>
                    <a:pt x="513" y="0"/>
                    <a:pt x="661" y="44"/>
                    <a:pt x="661" y="99"/>
                  </a:cubicBezTo>
                  <a:lnTo>
                    <a:pt x="661" y="294"/>
                  </a:lnTo>
                  <a:close/>
                </a:path>
              </a:pathLst>
            </a:custGeom>
            <a:solidFill>
              <a:srgbClr val="7c0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2" name="Freeform 128"/>
            <p:cNvSpPr/>
            <p:nvPr/>
          </p:nvSpPr>
          <p:spPr>
            <a:xfrm>
              <a:off x="8681760" y="4226040"/>
              <a:ext cx="1508040" cy="473040"/>
            </a:xfrm>
            <a:custGeom>
              <a:avLst/>
              <a:gdLst/>
              <a:ahLst/>
              <a:rect l="l" t="t" r="r" b="b"/>
              <a:pathLst>
                <a:path w="660" h="207">
                  <a:moveTo>
                    <a:pt x="326" y="201"/>
                  </a:moveTo>
                  <a:cubicBezTo>
                    <a:pt x="496" y="207"/>
                    <a:pt x="640" y="168"/>
                    <a:pt x="660" y="118"/>
                  </a:cubicBezTo>
                  <a:cubicBezTo>
                    <a:pt x="660" y="95"/>
                    <a:pt x="660" y="95"/>
                    <a:pt x="660" y="95"/>
                  </a:cubicBezTo>
                  <a:cubicBezTo>
                    <a:pt x="641" y="46"/>
                    <a:pt x="501" y="9"/>
                    <a:pt x="333" y="3"/>
                  </a:cubicBezTo>
                  <a:cubicBezTo>
                    <a:pt x="252" y="0"/>
                    <a:pt x="177" y="6"/>
                    <a:pt x="119" y="19"/>
                  </a:cubicBezTo>
                  <a:cubicBezTo>
                    <a:pt x="48" y="36"/>
                    <a:pt x="3" y="62"/>
                    <a:pt x="0" y="92"/>
                  </a:cubicBezTo>
                  <a:cubicBezTo>
                    <a:pt x="0" y="146"/>
                    <a:pt x="145" y="195"/>
                    <a:pt x="326" y="201"/>
                  </a:cubicBezTo>
                  <a:close/>
                </a:path>
              </a:pathLst>
            </a:custGeom>
            <a:solidFill>
              <a:srgbClr val="5b0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3" name="Freeform 129"/>
            <p:cNvSpPr/>
            <p:nvPr/>
          </p:nvSpPr>
          <p:spPr>
            <a:xfrm>
              <a:off x="9933120" y="4386240"/>
              <a:ext cx="257040" cy="623880"/>
            </a:xfrm>
            <a:custGeom>
              <a:avLst/>
              <a:gdLst/>
              <a:ahLst/>
              <a:rect l="l" t="t" r="r" b="b"/>
              <a:pathLst>
                <a:path w="113" h="273">
                  <a:moveTo>
                    <a:pt x="61" y="273"/>
                  </a:moveTo>
                  <a:cubicBezTo>
                    <a:pt x="93" y="258"/>
                    <a:pt x="113" y="240"/>
                    <a:pt x="113" y="220"/>
                  </a:cubicBezTo>
                  <a:cubicBezTo>
                    <a:pt x="113" y="25"/>
                    <a:pt x="113" y="25"/>
                    <a:pt x="113" y="25"/>
                  </a:cubicBezTo>
                  <a:cubicBezTo>
                    <a:pt x="113" y="16"/>
                    <a:pt x="109" y="8"/>
                    <a:pt x="102" y="0"/>
                  </a:cubicBezTo>
                  <a:cubicBezTo>
                    <a:pt x="0" y="109"/>
                    <a:pt x="0" y="109"/>
                    <a:pt x="0" y="109"/>
                  </a:cubicBezTo>
                  <a:lnTo>
                    <a:pt x="61" y="273"/>
                  </a:lnTo>
                  <a:close/>
                </a:path>
              </a:pathLst>
            </a:custGeom>
            <a:solidFill>
              <a:srgbClr val="5b0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4" name="Oval 130"/>
            <p:cNvSpPr/>
            <p:nvPr/>
          </p:nvSpPr>
          <p:spPr>
            <a:xfrm>
              <a:off x="8678520" y="4216320"/>
              <a:ext cx="1511280" cy="453960"/>
            </a:xfrm>
            <a:prstGeom prst="ellipse">
              <a:avLst/>
            </a:prstGeom>
            <a:solidFill>
              <a:srgbClr val="9b1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5" name="Oval 131"/>
            <p:cNvSpPr/>
            <p:nvPr/>
          </p:nvSpPr>
          <p:spPr>
            <a:xfrm>
              <a:off x="8962920" y="4297320"/>
              <a:ext cx="1030320" cy="276120"/>
            </a:xfrm>
            <a:prstGeom prst="ellipse">
              <a:avLst/>
            </a:prstGeom>
            <a:solidFill>
              <a:srgbClr val="5b06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6" name="Freeform 132"/>
            <p:cNvSpPr/>
            <p:nvPr/>
          </p:nvSpPr>
          <p:spPr>
            <a:xfrm>
              <a:off x="8162640" y="2565360"/>
              <a:ext cx="765000" cy="76644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303" y="335"/>
                  </a:moveTo>
                  <a:cubicBezTo>
                    <a:pt x="287" y="335"/>
                    <a:pt x="142" y="333"/>
                    <a:pt x="72" y="263"/>
                  </a:cubicBezTo>
                  <a:cubicBezTo>
                    <a:pt x="2" y="193"/>
                    <a:pt x="0" y="48"/>
                    <a:pt x="0" y="32"/>
                  </a:cubicBezTo>
                  <a:cubicBezTo>
                    <a:pt x="0" y="14"/>
                    <a:pt x="14" y="0"/>
                    <a:pt x="31" y="0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95" y="0"/>
                    <a:pt x="209" y="14"/>
                    <a:pt x="209" y="32"/>
                  </a:cubicBezTo>
                  <a:cubicBezTo>
                    <a:pt x="209" y="49"/>
                    <a:pt x="195" y="63"/>
                    <a:pt x="178" y="63"/>
                  </a:cubicBezTo>
                  <a:cubicBezTo>
                    <a:pt x="64" y="63"/>
                    <a:pt x="64" y="63"/>
                    <a:pt x="64" y="63"/>
                  </a:cubicBezTo>
                  <a:cubicBezTo>
                    <a:pt x="68" y="111"/>
                    <a:pt x="82" y="184"/>
                    <a:pt x="116" y="219"/>
                  </a:cubicBezTo>
                  <a:cubicBezTo>
                    <a:pt x="160" y="263"/>
                    <a:pt x="266" y="272"/>
                    <a:pt x="303" y="273"/>
                  </a:cubicBezTo>
                  <a:cubicBezTo>
                    <a:pt x="321" y="273"/>
                    <a:pt x="335" y="287"/>
                    <a:pt x="335" y="304"/>
                  </a:cubicBezTo>
                  <a:cubicBezTo>
                    <a:pt x="335" y="321"/>
                    <a:pt x="321" y="335"/>
                    <a:pt x="303" y="335"/>
                  </a:cubicBezTo>
                  <a:close/>
                </a:path>
              </a:pathLst>
            </a:cu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7" name="Freeform 133"/>
            <p:cNvSpPr/>
            <p:nvPr/>
          </p:nvSpPr>
          <p:spPr>
            <a:xfrm>
              <a:off x="9909000" y="2565360"/>
              <a:ext cx="766800" cy="76644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31" y="335"/>
                  </a:moveTo>
                  <a:cubicBezTo>
                    <a:pt x="48" y="335"/>
                    <a:pt x="193" y="333"/>
                    <a:pt x="263" y="263"/>
                  </a:cubicBezTo>
                  <a:cubicBezTo>
                    <a:pt x="333" y="193"/>
                    <a:pt x="335" y="48"/>
                    <a:pt x="335" y="32"/>
                  </a:cubicBezTo>
                  <a:cubicBezTo>
                    <a:pt x="335" y="14"/>
                    <a:pt x="321" y="0"/>
                    <a:pt x="304" y="0"/>
                  </a:cubicBezTo>
                  <a:cubicBezTo>
                    <a:pt x="157" y="0"/>
                    <a:pt x="157" y="0"/>
                    <a:pt x="157" y="0"/>
                  </a:cubicBezTo>
                  <a:cubicBezTo>
                    <a:pt x="140" y="0"/>
                    <a:pt x="126" y="14"/>
                    <a:pt x="126" y="32"/>
                  </a:cubicBezTo>
                  <a:cubicBezTo>
                    <a:pt x="126" y="49"/>
                    <a:pt x="140" y="63"/>
                    <a:pt x="157" y="63"/>
                  </a:cubicBezTo>
                  <a:cubicBezTo>
                    <a:pt x="271" y="63"/>
                    <a:pt x="271" y="63"/>
                    <a:pt x="271" y="63"/>
                  </a:cubicBezTo>
                  <a:cubicBezTo>
                    <a:pt x="267" y="111"/>
                    <a:pt x="253" y="184"/>
                    <a:pt x="219" y="219"/>
                  </a:cubicBezTo>
                  <a:cubicBezTo>
                    <a:pt x="175" y="263"/>
                    <a:pt x="69" y="272"/>
                    <a:pt x="31" y="273"/>
                  </a:cubicBezTo>
                  <a:cubicBezTo>
                    <a:pt x="14" y="273"/>
                    <a:pt x="0" y="287"/>
                    <a:pt x="0" y="304"/>
                  </a:cubicBezTo>
                  <a:cubicBezTo>
                    <a:pt x="0" y="321"/>
                    <a:pt x="14" y="335"/>
                    <a:pt x="31" y="335"/>
                  </a:cubicBezTo>
                  <a:close/>
                </a:path>
              </a:pathLst>
            </a:cu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8" name="Oval 134"/>
            <p:cNvSpPr/>
            <p:nvPr/>
          </p:nvSpPr>
          <p:spPr>
            <a:xfrm>
              <a:off x="8902440" y="4241880"/>
              <a:ext cx="1054080" cy="288720"/>
            </a:xfrm>
            <a:prstGeom prst="ellipse">
              <a:avLst/>
            </a:pr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9" name="Freeform 135"/>
            <p:cNvSpPr/>
            <p:nvPr/>
          </p:nvSpPr>
          <p:spPr>
            <a:xfrm>
              <a:off x="9047160" y="3427200"/>
              <a:ext cx="766800" cy="1006200"/>
            </a:xfrm>
            <a:custGeom>
              <a:avLst/>
              <a:gdLst/>
              <a:ahLst/>
              <a:rect l="l" t="t" r="r" b="b"/>
              <a:pathLst>
                <a:path w="335" h="440">
                  <a:moveTo>
                    <a:pt x="230" y="176"/>
                  </a:moveTo>
                  <a:cubicBezTo>
                    <a:pt x="251" y="91"/>
                    <a:pt x="209" y="0"/>
                    <a:pt x="209" y="0"/>
                  </a:cubicBezTo>
                  <a:cubicBezTo>
                    <a:pt x="168" y="0"/>
                    <a:pt x="168" y="0"/>
                    <a:pt x="168" y="0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6" y="0"/>
                    <a:pt x="84" y="91"/>
                    <a:pt x="105" y="176"/>
                  </a:cubicBezTo>
                  <a:cubicBezTo>
                    <a:pt x="126" y="264"/>
                    <a:pt x="84" y="374"/>
                    <a:pt x="0" y="418"/>
                  </a:cubicBezTo>
                  <a:cubicBezTo>
                    <a:pt x="168" y="440"/>
                    <a:pt x="168" y="440"/>
                    <a:pt x="168" y="440"/>
                  </a:cubicBezTo>
                  <a:cubicBezTo>
                    <a:pt x="335" y="418"/>
                    <a:pt x="335" y="418"/>
                    <a:pt x="335" y="418"/>
                  </a:cubicBezTo>
                  <a:cubicBezTo>
                    <a:pt x="251" y="374"/>
                    <a:pt x="209" y="264"/>
                    <a:pt x="230" y="176"/>
                  </a:cubicBezTo>
                  <a:close/>
                </a:path>
              </a:pathLst>
            </a:cu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0" name="Freeform 136"/>
            <p:cNvSpPr/>
            <p:nvPr/>
          </p:nvSpPr>
          <p:spPr>
            <a:xfrm>
              <a:off x="8955000" y="4303800"/>
              <a:ext cx="954000" cy="187200"/>
            </a:xfrm>
            <a:custGeom>
              <a:avLst/>
              <a:gdLst/>
              <a:ahLst/>
              <a:rect l="l" t="t" r="r" b="b"/>
              <a:pathLst>
                <a:path w="417" h="82">
                  <a:moveTo>
                    <a:pt x="395" y="0"/>
                  </a:moveTo>
                  <a:cubicBezTo>
                    <a:pt x="396" y="1"/>
                    <a:pt x="396" y="3"/>
                    <a:pt x="396" y="4"/>
                  </a:cubicBezTo>
                  <a:cubicBezTo>
                    <a:pt x="396" y="39"/>
                    <a:pt x="302" y="67"/>
                    <a:pt x="187" y="67"/>
                  </a:cubicBezTo>
                  <a:cubicBezTo>
                    <a:pt x="105" y="67"/>
                    <a:pt x="35" y="53"/>
                    <a:pt x="0" y="33"/>
                  </a:cubicBezTo>
                  <a:cubicBezTo>
                    <a:pt x="14" y="61"/>
                    <a:pt x="101" y="82"/>
                    <a:pt x="208" y="82"/>
                  </a:cubicBezTo>
                  <a:cubicBezTo>
                    <a:pt x="323" y="82"/>
                    <a:pt x="417" y="57"/>
                    <a:pt x="417" y="25"/>
                  </a:cubicBezTo>
                  <a:cubicBezTo>
                    <a:pt x="417" y="16"/>
                    <a:pt x="409" y="7"/>
                    <a:pt x="395" y="0"/>
                  </a:cubicBez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1" name="Freeform 137"/>
            <p:cNvSpPr/>
            <p:nvPr/>
          </p:nvSpPr>
          <p:spPr>
            <a:xfrm>
              <a:off x="8472240" y="2344680"/>
              <a:ext cx="1914480" cy="1573200"/>
            </a:xfrm>
            <a:custGeom>
              <a:avLst/>
              <a:gdLst/>
              <a:ahLst/>
              <a:rect l="l" t="t" r="r" b="b"/>
              <a:pathLst>
                <a:path w="837" h="688">
                  <a:moveTo>
                    <a:pt x="0" y="0"/>
                  </a:moveTo>
                  <a:cubicBezTo>
                    <a:pt x="0" y="0"/>
                    <a:pt x="56" y="688"/>
                    <a:pt x="419" y="688"/>
                  </a:cubicBezTo>
                  <a:cubicBezTo>
                    <a:pt x="744" y="688"/>
                    <a:pt x="837" y="0"/>
                    <a:pt x="8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2" name="Freeform 138"/>
            <p:cNvSpPr/>
            <p:nvPr/>
          </p:nvSpPr>
          <p:spPr>
            <a:xfrm>
              <a:off x="9867960" y="2373120"/>
              <a:ext cx="423720" cy="588960"/>
            </a:xfrm>
            <a:custGeom>
              <a:avLst/>
              <a:gdLst/>
              <a:ahLst/>
              <a:rect l="l" t="t" r="r" b="b"/>
              <a:pathLst>
                <a:path w="185" h="257">
                  <a:moveTo>
                    <a:pt x="135" y="225"/>
                  </a:moveTo>
                  <a:cubicBezTo>
                    <a:pt x="172" y="103"/>
                    <a:pt x="185" y="0"/>
                    <a:pt x="18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0" y="47"/>
                    <a:pt x="28" y="149"/>
                    <a:pt x="0" y="257"/>
                  </a:cubicBezTo>
                  <a:cubicBezTo>
                    <a:pt x="51" y="248"/>
                    <a:pt x="97" y="237"/>
                    <a:pt x="135" y="225"/>
                  </a:cubicBezTo>
                  <a:close/>
                </a:path>
              </a:pathLst>
            </a:custGeom>
            <a:solidFill>
              <a:srgbClr val="ff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3" name="Freeform 139"/>
            <p:cNvSpPr/>
            <p:nvPr/>
          </p:nvSpPr>
          <p:spPr>
            <a:xfrm>
              <a:off x="9286920" y="3105000"/>
              <a:ext cx="819000" cy="706320"/>
            </a:xfrm>
            <a:custGeom>
              <a:avLst/>
              <a:gdLst/>
              <a:ahLst/>
              <a:rect l="l" t="t" r="r" b="b"/>
              <a:pathLst>
                <a:path w="358" h="309">
                  <a:moveTo>
                    <a:pt x="227" y="26"/>
                  </a:moveTo>
                  <a:cubicBezTo>
                    <a:pt x="182" y="155"/>
                    <a:pt x="111" y="274"/>
                    <a:pt x="0" y="302"/>
                  </a:cubicBezTo>
                  <a:cubicBezTo>
                    <a:pt x="18" y="306"/>
                    <a:pt x="37" y="309"/>
                    <a:pt x="57" y="309"/>
                  </a:cubicBezTo>
                  <a:cubicBezTo>
                    <a:pt x="204" y="309"/>
                    <a:pt x="299" y="155"/>
                    <a:pt x="358" y="0"/>
                  </a:cubicBezTo>
                  <a:cubicBezTo>
                    <a:pt x="319" y="10"/>
                    <a:pt x="275" y="19"/>
                    <a:pt x="227" y="26"/>
                  </a:cubicBezTo>
                  <a:close/>
                </a:path>
              </a:pathLst>
            </a:custGeom>
            <a:solidFill>
              <a:srgbClr val="ffd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4" name="Oval 140"/>
            <p:cNvSpPr/>
            <p:nvPr/>
          </p:nvSpPr>
          <p:spPr>
            <a:xfrm>
              <a:off x="8472240" y="2087640"/>
              <a:ext cx="1914480" cy="510840"/>
            </a:xfrm>
            <a:prstGeom prst="ellipse">
              <a:avLst/>
            </a:prstGeom>
            <a:solidFill>
              <a:srgbClr val="fea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5" name="Oval 141"/>
            <p:cNvSpPr/>
            <p:nvPr/>
          </p:nvSpPr>
          <p:spPr>
            <a:xfrm>
              <a:off x="8569080" y="2136600"/>
              <a:ext cx="1722600" cy="380880"/>
            </a:xfrm>
            <a:prstGeom prst="ellipse">
              <a:avLst/>
            </a:prstGeom>
            <a:solidFill>
              <a:srgbClr val="fdd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96" name="组合 19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697" name="Freeform 608"/>
          <p:cNvSpPr/>
          <p:nvPr/>
        </p:nvSpPr>
        <p:spPr>
          <a:xfrm>
            <a:off x="9806040" y="2212920"/>
            <a:ext cx="547560" cy="547920"/>
          </a:xfrm>
          <a:custGeom>
            <a:avLst/>
            <a:gdLst/>
            <a:ahLst/>
            <a:rect l="l" t="t" r="r" b="b"/>
            <a:pathLst>
              <a:path w="120" h="120">
                <a:moveTo>
                  <a:pt x="120" y="60"/>
                </a:moveTo>
                <a:cubicBezTo>
                  <a:pt x="62" y="61"/>
                  <a:pt x="61" y="62"/>
                  <a:pt x="60" y="120"/>
                </a:cubicBezTo>
                <a:cubicBezTo>
                  <a:pt x="59" y="62"/>
                  <a:pt x="58" y="61"/>
                  <a:pt x="0" y="60"/>
                </a:cubicBezTo>
                <a:cubicBezTo>
                  <a:pt x="58" y="59"/>
                  <a:pt x="59" y="58"/>
                  <a:pt x="60" y="0"/>
                </a:cubicBezTo>
                <a:cubicBezTo>
                  <a:pt x="61" y="58"/>
                  <a:pt x="62" y="59"/>
                  <a:pt x="120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8" name="组合 3"/>
          <p:cNvGrpSpPr/>
          <p:nvPr/>
        </p:nvGrpSpPr>
        <p:grpSpPr>
          <a:xfrm>
            <a:off x="1092240" y="2612880"/>
            <a:ext cx="5057640" cy="1497240"/>
            <a:chOff x="1092240" y="2612880"/>
            <a:chExt cx="5057640" cy="1497240"/>
          </a:xfrm>
        </p:grpSpPr>
        <p:sp>
          <p:nvSpPr>
            <p:cNvPr id="3699" name="文本框 211"/>
            <p:cNvSpPr/>
            <p:nvPr/>
          </p:nvSpPr>
          <p:spPr>
            <a:xfrm>
              <a:off x="1149120" y="2678400"/>
              <a:ext cx="5000760" cy="1431720"/>
            </a:xfrm>
            <a:custGeom>
              <a:avLst/>
              <a:gdLst/>
              <a:ahLst/>
              <a:rect l="l" t="t" r="r" b="b"/>
              <a:pathLst>
                <a:path w="5000327" h="1430834">
                  <a:moveTo>
                    <a:pt x="1273373" y="944761"/>
                  </a:moveTo>
                  <a:lnTo>
                    <a:pt x="1444526" y="944761"/>
                  </a:lnTo>
                  <a:lnTo>
                    <a:pt x="1444526" y="1430834"/>
                  </a:lnTo>
                  <a:lnTo>
                    <a:pt x="1273373" y="1430834"/>
                  </a:lnTo>
                  <a:close/>
                  <a:moveTo>
                    <a:pt x="794147" y="924223"/>
                  </a:moveTo>
                  <a:lnTo>
                    <a:pt x="965299" y="924223"/>
                  </a:lnTo>
                  <a:lnTo>
                    <a:pt x="965299" y="1273374"/>
                  </a:lnTo>
                  <a:lnTo>
                    <a:pt x="848915" y="1430834"/>
                  </a:lnTo>
                  <a:lnTo>
                    <a:pt x="684609" y="1410296"/>
                  </a:lnTo>
                  <a:lnTo>
                    <a:pt x="794147" y="1239143"/>
                  </a:lnTo>
                  <a:close/>
                  <a:moveTo>
                    <a:pt x="342304" y="896838"/>
                  </a:moveTo>
                  <a:lnTo>
                    <a:pt x="369689" y="1040606"/>
                  </a:lnTo>
                  <a:lnTo>
                    <a:pt x="27384" y="1109067"/>
                  </a:lnTo>
                  <a:lnTo>
                    <a:pt x="0" y="965299"/>
                  </a:lnTo>
                  <a:close/>
                  <a:moveTo>
                    <a:pt x="1458218" y="41077"/>
                  </a:moveTo>
                  <a:lnTo>
                    <a:pt x="1519833" y="171152"/>
                  </a:lnTo>
                  <a:lnTo>
                    <a:pt x="1215921" y="176780"/>
                  </a:lnTo>
                  <a:lnTo>
                    <a:pt x="1184374" y="403920"/>
                  </a:lnTo>
                  <a:lnTo>
                    <a:pt x="1519833" y="403920"/>
                  </a:lnTo>
                  <a:lnTo>
                    <a:pt x="1519833" y="554534"/>
                  </a:lnTo>
                  <a:lnTo>
                    <a:pt x="1321296" y="554534"/>
                  </a:lnTo>
                  <a:lnTo>
                    <a:pt x="1526679" y="807839"/>
                  </a:lnTo>
                  <a:lnTo>
                    <a:pt x="1376065" y="848916"/>
                  </a:lnTo>
                  <a:lnTo>
                    <a:pt x="1122759" y="554534"/>
                  </a:lnTo>
                  <a:lnTo>
                    <a:pt x="855762" y="862608"/>
                  </a:lnTo>
                  <a:lnTo>
                    <a:pt x="698301" y="814685"/>
                  </a:lnTo>
                  <a:lnTo>
                    <a:pt x="931068" y="554534"/>
                  </a:lnTo>
                  <a:lnTo>
                    <a:pt x="705147" y="554534"/>
                  </a:lnTo>
                  <a:lnTo>
                    <a:pt x="705147" y="403920"/>
                  </a:lnTo>
                  <a:lnTo>
                    <a:pt x="1020068" y="403920"/>
                  </a:lnTo>
                  <a:lnTo>
                    <a:pt x="1051191" y="179831"/>
                  </a:lnTo>
                  <a:lnTo>
                    <a:pt x="780454" y="184845"/>
                  </a:lnTo>
                  <a:lnTo>
                    <a:pt x="725686" y="54769"/>
                  </a:lnTo>
                  <a:close/>
                  <a:moveTo>
                    <a:pt x="6846" y="41077"/>
                  </a:moveTo>
                  <a:lnTo>
                    <a:pt x="588764" y="41077"/>
                  </a:lnTo>
                  <a:lnTo>
                    <a:pt x="513457" y="664071"/>
                  </a:lnTo>
                  <a:lnTo>
                    <a:pt x="609302" y="664071"/>
                  </a:lnTo>
                  <a:lnTo>
                    <a:pt x="575072" y="1430834"/>
                  </a:lnTo>
                  <a:lnTo>
                    <a:pt x="13692" y="1430834"/>
                  </a:lnTo>
                  <a:lnTo>
                    <a:pt x="20538" y="1280220"/>
                  </a:lnTo>
                  <a:lnTo>
                    <a:pt x="410765" y="1280220"/>
                  </a:lnTo>
                  <a:lnTo>
                    <a:pt x="431304" y="814685"/>
                  </a:lnTo>
                  <a:lnTo>
                    <a:pt x="6846" y="814685"/>
                  </a:lnTo>
                  <a:lnTo>
                    <a:pt x="68461" y="253306"/>
                  </a:lnTo>
                  <a:lnTo>
                    <a:pt x="239613" y="266998"/>
                  </a:lnTo>
                  <a:lnTo>
                    <a:pt x="191690" y="664071"/>
                  </a:lnTo>
                  <a:lnTo>
                    <a:pt x="342304" y="664071"/>
                  </a:lnTo>
                  <a:lnTo>
                    <a:pt x="397073" y="191691"/>
                  </a:lnTo>
                  <a:lnTo>
                    <a:pt x="6846" y="191691"/>
                  </a:lnTo>
                  <a:close/>
                  <a:moveTo>
                    <a:pt x="3548955" y="27385"/>
                  </a:moveTo>
                  <a:lnTo>
                    <a:pt x="4986635" y="27385"/>
                  </a:lnTo>
                  <a:lnTo>
                    <a:pt x="4986635" y="171152"/>
                  </a:lnTo>
                  <a:lnTo>
                    <a:pt x="4603254" y="171152"/>
                  </a:lnTo>
                  <a:lnTo>
                    <a:pt x="4603254" y="718840"/>
                  </a:lnTo>
                  <a:lnTo>
                    <a:pt x="4952404" y="335459"/>
                  </a:lnTo>
                  <a:lnTo>
                    <a:pt x="5000327" y="492919"/>
                  </a:lnTo>
                  <a:lnTo>
                    <a:pt x="4603254" y="924223"/>
                  </a:lnTo>
                  <a:lnTo>
                    <a:pt x="4603254" y="1280220"/>
                  </a:lnTo>
                  <a:lnTo>
                    <a:pt x="5000327" y="1280220"/>
                  </a:lnTo>
                  <a:lnTo>
                    <a:pt x="4993481" y="1430834"/>
                  </a:lnTo>
                  <a:lnTo>
                    <a:pt x="4438948" y="1430834"/>
                  </a:lnTo>
                  <a:lnTo>
                    <a:pt x="4438948" y="171152"/>
                  </a:lnTo>
                  <a:lnTo>
                    <a:pt x="4000798" y="171152"/>
                  </a:lnTo>
                  <a:lnTo>
                    <a:pt x="3852335" y="397074"/>
                  </a:lnTo>
                  <a:lnTo>
                    <a:pt x="4199334" y="397074"/>
                  </a:lnTo>
                  <a:lnTo>
                    <a:pt x="4199334" y="821531"/>
                  </a:lnTo>
                  <a:lnTo>
                    <a:pt x="3672185" y="1430834"/>
                  </a:lnTo>
                  <a:lnTo>
                    <a:pt x="3514725" y="1396603"/>
                  </a:lnTo>
                  <a:lnTo>
                    <a:pt x="3781717" y="1076915"/>
                  </a:lnTo>
                  <a:lnTo>
                    <a:pt x="3514725" y="821531"/>
                  </a:lnTo>
                  <a:lnTo>
                    <a:pt x="3665339" y="759917"/>
                  </a:lnTo>
                  <a:lnTo>
                    <a:pt x="3877210" y="962575"/>
                  </a:lnTo>
                  <a:lnTo>
                    <a:pt x="4035028" y="773609"/>
                  </a:lnTo>
                  <a:lnTo>
                    <a:pt x="4035028" y="540842"/>
                  </a:lnTo>
                  <a:lnTo>
                    <a:pt x="3757859" y="540842"/>
                  </a:lnTo>
                  <a:lnTo>
                    <a:pt x="3685877" y="650379"/>
                  </a:lnTo>
                  <a:lnTo>
                    <a:pt x="3528417" y="616149"/>
                  </a:lnTo>
                  <a:lnTo>
                    <a:pt x="3822799" y="171152"/>
                  </a:lnTo>
                  <a:lnTo>
                    <a:pt x="3548955" y="171152"/>
                  </a:lnTo>
                  <a:close/>
                  <a:moveTo>
                    <a:pt x="2313979" y="13692"/>
                  </a:moveTo>
                  <a:lnTo>
                    <a:pt x="2471440" y="13692"/>
                  </a:lnTo>
                  <a:lnTo>
                    <a:pt x="2471440" y="82153"/>
                  </a:lnTo>
                  <a:lnTo>
                    <a:pt x="2683669" y="82153"/>
                  </a:lnTo>
                  <a:lnTo>
                    <a:pt x="2683669" y="225921"/>
                  </a:lnTo>
                  <a:lnTo>
                    <a:pt x="2471440" y="225921"/>
                  </a:lnTo>
                  <a:lnTo>
                    <a:pt x="2471440" y="355997"/>
                  </a:lnTo>
                  <a:lnTo>
                    <a:pt x="2649438" y="355997"/>
                  </a:lnTo>
                  <a:lnTo>
                    <a:pt x="2649438" y="499765"/>
                  </a:lnTo>
                  <a:lnTo>
                    <a:pt x="2471440" y="499765"/>
                  </a:lnTo>
                  <a:lnTo>
                    <a:pt x="2471440" y="650379"/>
                  </a:lnTo>
                  <a:lnTo>
                    <a:pt x="2697361" y="650379"/>
                  </a:lnTo>
                  <a:lnTo>
                    <a:pt x="2697361" y="794147"/>
                  </a:lnTo>
                  <a:lnTo>
                    <a:pt x="2375594" y="794147"/>
                  </a:lnTo>
                  <a:lnTo>
                    <a:pt x="2355571" y="910531"/>
                  </a:lnTo>
                  <a:lnTo>
                    <a:pt x="2649438" y="910531"/>
                  </a:lnTo>
                  <a:lnTo>
                    <a:pt x="2649438" y="1430834"/>
                  </a:lnTo>
                  <a:lnTo>
                    <a:pt x="2409825" y="1430834"/>
                  </a:lnTo>
                  <a:lnTo>
                    <a:pt x="2409825" y="1293912"/>
                  </a:lnTo>
                  <a:lnTo>
                    <a:pt x="2485132" y="1293912"/>
                  </a:lnTo>
                  <a:lnTo>
                    <a:pt x="2485132" y="1061145"/>
                  </a:lnTo>
                  <a:lnTo>
                    <a:pt x="2329659" y="1061145"/>
                  </a:lnTo>
                  <a:lnTo>
                    <a:pt x="2266057" y="1430834"/>
                  </a:lnTo>
                  <a:lnTo>
                    <a:pt x="2115443" y="1403449"/>
                  </a:lnTo>
                  <a:lnTo>
                    <a:pt x="2218134" y="794147"/>
                  </a:lnTo>
                  <a:lnTo>
                    <a:pt x="2088058" y="794147"/>
                  </a:lnTo>
                  <a:lnTo>
                    <a:pt x="2088058" y="650379"/>
                  </a:lnTo>
                  <a:lnTo>
                    <a:pt x="2313979" y="650379"/>
                  </a:lnTo>
                  <a:lnTo>
                    <a:pt x="2313979" y="499765"/>
                  </a:lnTo>
                  <a:lnTo>
                    <a:pt x="2122289" y="499765"/>
                  </a:lnTo>
                  <a:lnTo>
                    <a:pt x="2122289" y="355997"/>
                  </a:lnTo>
                  <a:lnTo>
                    <a:pt x="2313979" y="355997"/>
                  </a:lnTo>
                  <a:lnTo>
                    <a:pt x="2313979" y="225921"/>
                  </a:lnTo>
                  <a:lnTo>
                    <a:pt x="2094905" y="225921"/>
                  </a:lnTo>
                  <a:lnTo>
                    <a:pt x="2094905" y="82153"/>
                  </a:lnTo>
                  <a:lnTo>
                    <a:pt x="2313979" y="82153"/>
                  </a:lnTo>
                  <a:close/>
                  <a:moveTo>
                    <a:pt x="1896368" y="13692"/>
                  </a:moveTo>
                  <a:lnTo>
                    <a:pt x="2026444" y="109538"/>
                  </a:lnTo>
                  <a:lnTo>
                    <a:pt x="1894036" y="657225"/>
                  </a:lnTo>
                  <a:lnTo>
                    <a:pt x="1999059" y="657225"/>
                  </a:lnTo>
                  <a:lnTo>
                    <a:pt x="1999059" y="1430834"/>
                  </a:lnTo>
                  <a:lnTo>
                    <a:pt x="1827907" y="1430834"/>
                  </a:lnTo>
                  <a:lnTo>
                    <a:pt x="1827907" y="697221"/>
                  </a:lnTo>
                  <a:lnTo>
                    <a:pt x="1745754" y="636687"/>
                  </a:lnTo>
                  <a:close/>
                  <a:moveTo>
                    <a:pt x="2786360" y="0"/>
                  </a:moveTo>
                  <a:lnTo>
                    <a:pt x="2880961" y="54769"/>
                  </a:lnTo>
                  <a:lnTo>
                    <a:pt x="3272433" y="54769"/>
                  </a:lnTo>
                  <a:lnTo>
                    <a:pt x="3272433" y="205383"/>
                  </a:lnTo>
                  <a:lnTo>
                    <a:pt x="3231356" y="205383"/>
                  </a:lnTo>
                  <a:lnTo>
                    <a:pt x="3231356" y="547688"/>
                  </a:lnTo>
                  <a:lnTo>
                    <a:pt x="3066596" y="941280"/>
                  </a:lnTo>
                  <a:lnTo>
                    <a:pt x="3251894" y="1300758"/>
                  </a:lnTo>
                  <a:lnTo>
                    <a:pt x="3169741" y="1430834"/>
                  </a:lnTo>
                  <a:lnTo>
                    <a:pt x="2998224" y="1104614"/>
                  </a:lnTo>
                  <a:lnTo>
                    <a:pt x="2861667" y="1430834"/>
                  </a:lnTo>
                  <a:lnTo>
                    <a:pt x="2765822" y="1300758"/>
                  </a:lnTo>
                  <a:lnTo>
                    <a:pt x="2914164" y="944736"/>
                  </a:lnTo>
                  <a:lnTo>
                    <a:pt x="2820590" y="766763"/>
                  </a:lnTo>
                  <a:lnTo>
                    <a:pt x="2909590" y="636687"/>
                  </a:lnTo>
                  <a:lnTo>
                    <a:pt x="2983099" y="779294"/>
                  </a:lnTo>
                  <a:lnTo>
                    <a:pt x="3073896" y="561380"/>
                  </a:lnTo>
                  <a:lnTo>
                    <a:pt x="3073896" y="205383"/>
                  </a:lnTo>
                  <a:lnTo>
                    <a:pt x="2906801" y="205383"/>
                  </a:lnTo>
                  <a:lnTo>
                    <a:pt x="2875359" y="629841"/>
                  </a:lnTo>
                  <a:lnTo>
                    <a:pt x="2745283" y="554534"/>
                  </a:lnTo>
                  <a:close/>
                </a:path>
              </a:pathLst>
            </a:custGeom>
            <a:solidFill>
              <a:srgbClr val="ac3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0" name="文本框 214"/>
            <p:cNvSpPr/>
            <p:nvPr/>
          </p:nvSpPr>
          <p:spPr>
            <a:xfrm>
              <a:off x="1092240" y="2612880"/>
              <a:ext cx="5000760" cy="1431720"/>
            </a:xfrm>
            <a:custGeom>
              <a:avLst/>
              <a:gdLst/>
              <a:ahLst/>
              <a:rect l="l" t="t" r="r" b="b"/>
              <a:pathLst>
                <a:path w="5000327" h="1430834">
                  <a:moveTo>
                    <a:pt x="1273373" y="944761"/>
                  </a:moveTo>
                  <a:lnTo>
                    <a:pt x="1444526" y="944761"/>
                  </a:lnTo>
                  <a:lnTo>
                    <a:pt x="1444526" y="1430834"/>
                  </a:lnTo>
                  <a:lnTo>
                    <a:pt x="1273373" y="1430834"/>
                  </a:lnTo>
                  <a:close/>
                  <a:moveTo>
                    <a:pt x="794147" y="924223"/>
                  </a:moveTo>
                  <a:lnTo>
                    <a:pt x="965299" y="924223"/>
                  </a:lnTo>
                  <a:lnTo>
                    <a:pt x="965299" y="1273374"/>
                  </a:lnTo>
                  <a:lnTo>
                    <a:pt x="848915" y="1430834"/>
                  </a:lnTo>
                  <a:lnTo>
                    <a:pt x="684609" y="1410296"/>
                  </a:lnTo>
                  <a:lnTo>
                    <a:pt x="794147" y="1239143"/>
                  </a:lnTo>
                  <a:close/>
                  <a:moveTo>
                    <a:pt x="342304" y="896838"/>
                  </a:moveTo>
                  <a:lnTo>
                    <a:pt x="369689" y="1040606"/>
                  </a:lnTo>
                  <a:lnTo>
                    <a:pt x="27384" y="1109067"/>
                  </a:lnTo>
                  <a:lnTo>
                    <a:pt x="0" y="965299"/>
                  </a:lnTo>
                  <a:close/>
                  <a:moveTo>
                    <a:pt x="1458218" y="41077"/>
                  </a:moveTo>
                  <a:lnTo>
                    <a:pt x="1519833" y="171152"/>
                  </a:lnTo>
                  <a:lnTo>
                    <a:pt x="1215921" y="176780"/>
                  </a:lnTo>
                  <a:lnTo>
                    <a:pt x="1184374" y="403920"/>
                  </a:lnTo>
                  <a:lnTo>
                    <a:pt x="1519833" y="403920"/>
                  </a:lnTo>
                  <a:lnTo>
                    <a:pt x="1519833" y="554534"/>
                  </a:lnTo>
                  <a:lnTo>
                    <a:pt x="1321296" y="554534"/>
                  </a:lnTo>
                  <a:lnTo>
                    <a:pt x="1526679" y="807839"/>
                  </a:lnTo>
                  <a:lnTo>
                    <a:pt x="1376065" y="848916"/>
                  </a:lnTo>
                  <a:lnTo>
                    <a:pt x="1122759" y="554534"/>
                  </a:lnTo>
                  <a:lnTo>
                    <a:pt x="855762" y="862608"/>
                  </a:lnTo>
                  <a:lnTo>
                    <a:pt x="698301" y="814685"/>
                  </a:lnTo>
                  <a:lnTo>
                    <a:pt x="931068" y="554534"/>
                  </a:lnTo>
                  <a:lnTo>
                    <a:pt x="705147" y="554534"/>
                  </a:lnTo>
                  <a:lnTo>
                    <a:pt x="705147" y="403920"/>
                  </a:lnTo>
                  <a:lnTo>
                    <a:pt x="1020068" y="403920"/>
                  </a:lnTo>
                  <a:lnTo>
                    <a:pt x="1051191" y="179831"/>
                  </a:lnTo>
                  <a:lnTo>
                    <a:pt x="780454" y="184845"/>
                  </a:lnTo>
                  <a:lnTo>
                    <a:pt x="725686" y="54769"/>
                  </a:lnTo>
                  <a:close/>
                  <a:moveTo>
                    <a:pt x="6846" y="41077"/>
                  </a:moveTo>
                  <a:lnTo>
                    <a:pt x="588764" y="41077"/>
                  </a:lnTo>
                  <a:lnTo>
                    <a:pt x="513457" y="664071"/>
                  </a:lnTo>
                  <a:lnTo>
                    <a:pt x="609302" y="664071"/>
                  </a:lnTo>
                  <a:lnTo>
                    <a:pt x="575072" y="1430834"/>
                  </a:lnTo>
                  <a:lnTo>
                    <a:pt x="13692" y="1430834"/>
                  </a:lnTo>
                  <a:lnTo>
                    <a:pt x="20538" y="1280220"/>
                  </a:lnTo>
                  <a:lnTo>
                    <a:pt x="410765" y="1280220"/>
                  </a:lnTo>
                  <a:lnTo>
                    <a:pt x="431304" y="814685"/>
                  </a:lnTo>
                  <a:lnTo>
                    <a:pt x="6846" y="814685"/>
                  </a:lnTo>
                  <a:lnTo>
                    <a:pt x="68461" y="253306"/>
                  </a:lnTo>
                  <a:lnTo>
                    <a:pt x="239613" y="266998"/>
                  </a:lnTo>
                  <a:lnTo>
                    <a:pt x="191690" y="664071"/>
                  </a:lnTo>
                  <a:lnTo>
                    <a:pt x="342304" y="664071"/>
                  </a:lnTo>
                  <a:lnTo>
                    <a:pt x="397073" y="191691"/>
                  </a:lnTo>
                  <a:lnTo>
                    <a:pt x="6846" y="191691"/>
                  </a:lnTo>
                  <a:close/>
                  <a:moveTo>
                    <a:pt x="3548955" y="27385"/>
                  </a:moveTo>
                  <a:lnTo>
                    <a:pt x="4986635" y="27385"/>
                  </a:lnTo>
                  <a:lnTo>
                    <a:pt x="4986635" y="171152"/>
                  </a:lnTo>
                  <a:lnTo>
                    <a:pt x="4603254" y="171152"/>
                  </a:lnTo>
                  <a:lnTo>
                    <a:pt x="4603254" y="718840"/>
                  </a:lnTo>
                  <a:lnTo>
                    <a:pt x="4952404" y="335459"/>
                  </a:lnTo>
                  <a:lnTo>
                    <a:pt x="5000327" y="492919"/>
                  </a:lnTo>
                  <a:lnTo>
                    <a:pt x="4603254" y="924223"/>
                  </a:lnTo>
                  <a:lnTo>
                    <a:pt x="4603254" y="1280220"/>
                  </a:lnTo>
                  <a:lnTo>
                    <a:pt x="5000327" y="1280220"/>
                  </a:lnTo>
                  <a:lnTo>
                    <a:pt x="4993481" y="1430834"/>
                  </a:lnTo>
                  <a:lnTo>
                    <a:pt x="4438948" y="1430834"/>
                  </a:lnTo>
                  <a:lnTo>
                    <a:pt x="4438948" y="171152"/>
                  </a:lnTo>
                  <a:lnTo>
                    <a:pt x="4000798" y="171152"/>
                  </a:lnTo>
                  <a:lnTo>
                    <a:pt x="3852335" y="397074"/>
                  </a:lnTo>
                  <a:lnTo>
                    <a:pt x="4199334" y="397074"/>
                  </a:lnTo>
                  <a:lnTo>
                    <a:pt x="4199334" y="821531"/>
                  </a:lnTo>
                  <a:lnTo>
                    <a:pt x="3672185" y="1430834"/>
                  </a:lnTo>
                  <a:lnTo>
                    <a:pt x="3514725" y="1396603"/>
                  </a:lnTo>
                  <a:lnTo>
                    <a:pt x="3781717" y="1076915"/>
                  </a:lnTo>
                  <a:lnTo>
                    <a:pt x="3514725" y="821531"/>
                  </a:lnTo>
                  <a:lnTo>
                    <a:pt x="3665339" y="759917"/>
                  </a:lnTo>
                  <a:lnTo>
                    <a:pt x="3877210" y="962575"/>
                  </a:lnTo>
                  <a:lnTo>
                    <a:pt x="4035028" y="773609"/>
                  </a:lnTo>
                  <a:lnTo>
                    <a:pt x="4035028" y="540842"/>
                  </a:lnTo>
                  <a:lnTo>
                    <a:pt x="3757859" y="540842"/>
                  </a:lnTo>
                  <a:lnTo>
                    <a:pt x="3685877" y="650379"/>
                  </a:lnTo>
                  <a:lnTo>
                    <a:pt x="3528417" y="616149"/>
                  </a:lnTo>
                  <a:lnTo>
                    <a:pt x="3822799" y="171152"/>
                  </a:lnTo>
                  <a:lnTo>
                    <a:pt x="3548955" y="171152"/>
                  </a:lnTo>
                  <a:close/>
                  <a:moveTo>
                    <a:pt x="2313979" y="13692"/>
                  </a:moveTo>
                  <a:lnTo>
                    <a:pt x="2471440" y="13692"/>
                  </a:lnTo>
                  <a:lnTo>
                    <a:pt x="2471440" y="82153"/>
                  </a:lnTo>
                  <a:lnTo>
                    <a:pt x="2683669" y="82153"/>
                  </a:lnTo>
                  <a:lnTo>
                    <a:pt x="2683669" y="225921"/>
                  </a:lnTo>
                  <a:lnTo>
                    <a:pt x="2471440" y="225921"/>
                  </a:lnTo>
                  <a:lnTo>
                    <a:pt x="2471440" y="355997"/>
                  </a:lnTo>
                  <a:lnTo>
                    <a:pt x="2649438" y="355997"/>
                  </a:lnTo>
                  <a:lnTo>
                    <a:pt x="2649438" y="499765"/>
                  </a:lnTo>
                  <a:lnTo>
                    <a:pt x="2471440" y="499765"/>
                  </a:lnTo>
                  <a:lnTo>
                    <a:pt x="2471440" y="650379"/>
                  </a:lnTo>
                  <a:lnTo>
                    <a:pt x="2697361" y="650379"/>
                  </a:lnTo>
                  <a:lnTo>
                    <a:pt x="2697361" y="794147"/>
                  </a:lnTo>
                  <a:lnTo>
                    <a:pt x="2375594" y="794147"/>
                  </a:lnTo>
                  <a:lnTo>
                    <a:pt x="2355571" y="910531"/>
                  </a:lnTo>
                  <a:lnTo>
                    <a:pt x="2649438" y="910531"/>
                  </a:lnTo>
                  <a:lnTo>
                    <a:pt x="2649438" y="1430834"/>
                  </a:lnTo>
                  <a:lnTo>
                    <a:pt x="2409825" y="1430834"/>
                  </a:lnTo>
                  <a:lnTo>
                    <a:pt x="2409825" y="1293912"/>
                  </a:lnTo>
                  <a:lnTo>
                    <a:pt x="2485132" y="1293912"/>
                  </a:lnTo>
                  <a:lnTo>
                    <a:pt x="2485132" y="1061145"/>
                  </a:lnTo>
                  <a:lnTo>
                    <a:pt x="2329659" y="1061145"/>
                  </a:lnTo>
                  <a:lnTo>
                    <a:pt x="2266057" y="1430834"/>
                  </a:lnTo>
                  <a:lnTo>
                    <a:pt x="2115443" y="1403449"/>
                  </a:lnTo>
                  <a:lnTo>
                    <a:pt x="2218134" y="794147"/>
                  </a:lnTo>
                  <a:lnTo>
                    <a:pt x="2088058" y="794147"/>
                  </a:lnTo>
                  <a:lnTo>
                    <a:pt x="2088058" y="650379"/>
                  </a:lnTo>
                  <a:lnTo>
                    <a:pt x="2313979" y="650379"/>
                  </a:lnTo>
                  <a:lnTo>
                    <a:pt x="2313979" y="499765"/>
                  </a:lnTo>
                  <a:lnTo>
                    <a:pt x="2122289" y="499765"/>
                  </a:lnTo>
                  <a:lnTo>
                    <a:pt x="2122289" y="355997"/>
                  </a:lnTo>
                  <a:lnTo>
                    <a:pt x="2313979" y="355997"/>
                  </a:lnTo>
                  <a:lnTo>
                    <a:pt x="2313979" y="225921"/>
                  </a:lnTo>
                  <a:lnTo>
                    <a:pt x="2094905" y="225921"/>
                  </a:lnTo>
                  <a:lnTo>
                    <a:pt x="2094905" y="82153"/>
                  </a:lnTo>
                  <a:lnTo>
                    <a:pt x="2313979" y="82153"/>
                  </a:lnTo>
                  <a:close/>
                  <a:moveTo>
                    <a:pt x="1896368" y="13692"/>
                  </a:moveTo>
                  <a:lnTo>
                    <a:pt x="2026444" y="109538"/>
                  </a:lnTo>
                  <a:lnTo>
                    <a:pt x="1894036" y="657225"/>
                  </a:lnTo>
                  <a:lnTo>
                    <a:pt x="1999059" y="657225"/>
                  </a:lnTo>
                  <a:lnTo>
                    <a:pt x="1999059" y="1430834"/>
                  </a:lnTo>
                  <a:lnTo>
                    <a:pt x="1827907" y="1430834"/>
                  </a:lnTo>
                  <a:lnTo>
                    <a:pt x="1827907" y="697221"/>
                  </a:lnTo>
                  <a:lnTo>
                    <a:pt x="1745754" y="636687"/>
                  </a:lnTo>
                  <a:close/>
                  <a:moveTo>
                    <a:pt x="2786360" y="0"/>
                  </a:moveTo>
                  <a:lnTo>
                    <a:pt x="2880961" y="54769"/>
                  </a:lnTo>
                  <a:lnTo>
                    <a:pt x="3272433" y="54769"/>
                  </a:lnTo>
                  <a:lnTo>
                    <a:pt x="3272433" y="205383"/>
                  </a:lnTo>
                  <a:lnTo>
                    <a:pt x="3231356" y="205383"/>
                  </a:lnTo>
                  <a:lnTo>
                    <a:pt x="3231356" y="547688"/>
                  </a:lnTo>
                  <a:lnTo>
                    <a:pt x="3066596" y="941280"/>
                  </a:lnTo>
                  <a:lnTo>
                    <a:pt x="3251894" y="1300758"/>
                  </a:lnTo>
                  <a:lnTo>
                    <a:pt x="3169741" y="1430834"/>
                  </a:lnTo>
                  <a:lnTo>
                    <a:pt x="2998224" y="1104614"/>
                  </a:lnTo>
                  <a:lnTo>
                    <a:pt x="2861667" y="1430834"/>
                  </a:lnTo>
                  <a:lnTo>
                    <a:pt x="2765822" y="1300758"/>
                  </a:lnTo>
                  <a:lnTo>
                    <a:pt x="2914164" y="944736"/>
                  </a:lnTo>
                  <a:lnTo>
                    <a:pt x="2820590" y="766763"/>
                  </a:lnTo>
                  <a:lnTo>
                    <a:pt x="2909590" y="636687"/>
                  </a:lnTo>
                  <a:lnTo>
                    <a:pt x="2983099" y="779294"/>
                  </a:lnTo>
                  <a:lnTo>
                    <a:pt x="3073896" y="561380"/>
                  </a:lnTo>
                  <a:lnTo>
                    <a:pt x="3073896" y="205383"/>
                  </a:lnTo>
                  <a:lnTo>
                    <a:pt x="2906801" y="205383"/>
                  </a:lnTo>
                  <a:lnTo>
                    <a:pt x="2875359" y="629841"/>
                  </a:lnTo>
                  <a:lnTo>
                    <a:pt x="2745283" y="554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25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50" fill="hold"/>
                                        <p:tgtEl>
                                          <p:spTgt spid="3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25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50" fill="hold"/>
                                        <p:tgtEl>
                                          <p:spTgt spid="3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250" fill="hold"/>
                                        <p:tgtEl>
                                          <p:spTgt spid="3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50" fill="hold"/>
                                        <p:tgtEl>
                                          <p:spTgt spid="3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25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5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250" fill="hold"/>
                                        <p:tgtEl>
                                          <p:spTgt spid="3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50" fill="hold"/>
                                        <p:tgtEl>
                                          <p:spTgt spid="3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25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50" fill="hold"/>
                                        <p:tgtEl>
                                          <p:spTgt spid="3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25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14" presetSubtype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2" dur="25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3300000">
                                      <p:cBhvr>
                                        <p:cTn id="1354" dur="1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5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dur="indefinite" autoRev="1" nodeType="withEffect" fill="hold" presetClass="path" presetID="6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638 -1E-005 L 0.01638 -0.02476 E">
                                      <p:cBhvr>
                                        <p:cTn id="1359" dur="100" fill="hold"/>
                                        <p:tgtEl>
                                          <p:spTgt spid="3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2" dur="2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56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409 0.0301 L -3.125E-006 0.00116 E">
                                      <p:cBhvr>
                                        <p:cTn id="1364" dur="150" fill="hold"/>
                                        <p:tgtEl>
                                          <p:spTgt spid="3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entr" presetID="16" presetSubtype="21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7" dur="25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entr" presetID="16" presetSubtype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0" dur="250"/>
                                        <p:tgtEl>
                                          <p:spTgt spid="3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75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75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21600000">
                                      <p:cBhvr>
                                        <p:cTn id="1376" dur="125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7" dur="indefinite" autoRev="1" nodeType="withEffect" fill="hold" presetClass="emph" presetID="6" repeatCount="indefinite">
                                  <p:stCondLst>
                                    <p:cond delay="2250"/>
                                  </p:stCondLst>
                                  <p:childTnLst>
                                    <p:animScale>
                                      <p:cBhvr>
                                        <p:cTn id="1378" dur="750" fill="hold"/>
                                        <p:tgtEl>
                                          <p:spTgt spid="36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5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50" fill="hold"/>
                                        <p:tgtEl>
                                          <p:spTgt spid="3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50" fill="hold"/>
                                        <p:tgtEl>
                                          <p:spTgt spid="3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750" fill="hold"/>
                                        <p:tgtEl>
                                          <p:spTgt spid="3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750" fill="hold"/>
                                        <p:tgtEl>
                                          <p:spTgt spid="3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path" presetID="36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2552 -0.09791 C 0.02148 -0.09514 0.02031 -0.09722 0.01172 -0.08565 C 0.00443 -0.07592 -0.01458 -0.04398 2.08333E-007 -0.00023 E">
                                      <p:cBhvr>
                                        <p:cTn id="1389" dur="400" fill="hold"/>
                                        <p:tgtEl>
                                          <p:spTgt spid="3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391" dur="2000" fill="hold"/>
                                        <p:tgtEl>
                                          <p:spTgt spid="3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2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75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75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03" dur="2000" fill="hold"/>
                                        <p:tgtEl>
                                          <p:spTgt spid="3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1067 -0.03797 C 0.01172 -0.01366 0.01028 -0.02107 0.0082 -0.01135 C 0.0039 -0.00185 0.00182 -0.00347 -0.00013 -0.00116 E">
                                      <p:cBhvr>
                                        <p:cTn id="1405" dur="400" fill="hold"/>
                                        <p:tgtEl>
                                          <p:spTgt spid="3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8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750" fill="hold"/>
                                        <p:tgtEl>
                                          <p:spTgt spid="3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750" fill="hold"/>
                                        <p:tgtEl>
                                          <p:spTgt spid="3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-21600000">
                                      <p:cBhvr>
                                        <p:cTn id="1414" dur="2000" fill="hold"/>
                                        <p:tgtEl>
                                          <p:spTgt spid="3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4779 -0.04375 C -0.02344 -0.05185 -0.00456 -0.02431 -0.00052 -0.00023 E">
                                      <p:cBhvr>
                                        <p:cTn id="1416" dur="400" fill="hold"/>
                                        <p:tgtEl>
                                          <p:spTgt spid="3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9" dur="5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75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75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25" dur="2000" fill="hold"/>
                                        <p:tgtEl>
                                          <p:spTgt spid="3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319 -0.01528 C -0.01497 -0.0338 0.00052 -0.01319 -0.00013 -0.00023 E">
                                      <p:cBhvr>
                                        <p:cTn id="1427" dur="400" fill="hold"/>
                                        <p:tgtEl>
                                          <p:spTgt spid="3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75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75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3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5612 0.03078 C -0.03958 -0.02639 -0.00638 -0.01551 -0.00013 -0.00023 E">
                                      <p:cBhvr>
                                        <p:cTn id="1438" dur="400" fill="hold"/>
                                        <p:tgtEl>
                                          <p:spTgt spid="3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3" dur="500"/>
                                        <p:tgtEl>
                                          <p:spTgt spid="3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75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75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21600000">
                                      <p:cBhvr>
                                        <p:cTn id="1453" dur="2000" fill="hold"/>
                                        <p:tgtEl>
                                          <p:spTgt spid="3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4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0.00026 0.04399 C 0.00782 0.02871 0.00482 0.00625 -0.00026 -0.00138 E">
                                      <p:cBhvr>
                                        <p:cTn id="1455" dur="400" fill="hold"/>
                                        <p:tgtEl>
                                          <p:spTgt spid="3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8" dur="5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75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75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mph" presetID="8" repeatCount="indefinite">
                                  <p:stCondLst>
                                    <p:cond delay="1250"/>
                                  </p:stCondLst>
                                  <p:childTnLst>
                                    <p:animRot by="-21600000">
                                      <p:cBhvr>
                                        <p:cTn id="1464" dur="20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path" presetID="50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4766 0.06783 C 0.04297 -0.01134 0.0017 -0.00532 -0.00026 -0.00069 E">
                                      <p:cBhvr>
                                        <p:cTn id="1466" dur="400" fill="hold"/>
                                        <p:tgtEl>
                                          <p:spTgt spid="3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8" dur="4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xit" presetID="22" presetSubtype="1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71" dur="4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4" dur="4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7" dur="4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0" dur="4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xit" presetID="22" presetSubtype="2">
                                  <p:stCondLst>
                                    <p:cond delay="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3" dur="4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4">
                                  <p:stCondLst>
                                    <p:cond delay="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6" dur="4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xit" presetID="22" presetSubtype="4">
                                  <p:stCondLst>
                                    <p:cond delay="1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9" dur="400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3B10-AE59-4AA6-AA75-D196549BDBD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矩形 204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a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6" name="图片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24160" y="2376360"/>
            <a:ext cx="8229600" cy="4772160"/>
          </a:xfrm>
          <a:prstGeom prst="rect">
            <a:avLst/>
          </a:prstGeom>
          <a:ln w="0">
            <a:noFill/>
          </a:ln>
        </p:spPr>
      </p:pic>
      <p:sp>
        <p:nvSpPr>
          <p:cNvPr id="3707" name="任意多边形 8">
            <a:hlinkClick r:id="rId4"/>
          </p:cNvPr>
          <p:cNvSpPr/>
          <p:nvPr/>
        </p:nvSpPr>
        <p:spPr>
          <a:xfrm>
            <a:off x="3262320" y="1387440"/>
            <a:ext cx="6149880" cy="490680"/>
          </a:xfrm>
          <a:custGeom>
            <a:avLst/>
            <a:gdLst/>
            <a:ahLst/>
            <a:rect l="l" t="t" r="r" b="b"/>
            <a:pathLst>
              <a:path w="6148685" h="491021">
                <a:moveTo>
                  <a:pt x="5685234" y="374489"/>
                </a:moveTo>
                <a:lnTo>
                  <a:pt x="5683820" y="387920"/>
                </a:lnTo>
                <a:lnTo>
                  <a:pt x="5731185" y="387920"/>
                </a:lnTo>
                <a:lnTo>
                  <a:pt x="5731185" y="374489"/>
                </a:lnTo>
                <a:close/>
                <a:moveTo>
                  <a:pt x="6002350" y="358229"/>
                </a:moveTo>
                <a:lnTo>
                  <a:pt x="6143736" y="358229"/>
                </a:lnTo>
                <a:lnTo>
                  <a:pt x="6143736" y="366006"/>
                </a:lnTo>
                <a:lnTo>
                  <a:pt x="6101320" y="386507"/>
                </a:lnTo>
                <a:lnTo>
                  <a:pt x="6148685" y="386507"/>
                </a:lnTo>
                <a:lnTo>
                  <a:pt x="6148685" y="402059"/>
                </a:lnTo>
                <a:lnTo>
                  <a:pt x="6121114" y="402059"/>
                </a:lnTo>
                <a:lnTo>
                  <a:pt x="6121114" y="435992"/>
                </a:lnTo>
                <a:lnTo>
                  <a:pt x="6015074" y="435992"/>
                </a:lnTo>
                <a:lnTo>
                  <a:pt x="6015074" y="420439"/>
                </a:lnTo>
                <a:lnTo>
                  <a:pt x="6102734" y="420439"/>
                </a:lnTo>
                <a:lnTo>
                  <a:pt x="6102734" y="402059"/>
                </a:lnTo>
                <a:lnTo>
                  <a:pt x="5998815" y="402059"/>
                </a:lnTo>
                <a:lnTo>
                  <a:pt x="5998815" y="386507"/>
                </a:lnTo>
                <a:lnTo>
                  <a:pt x="6068094" y="386507"/>
                </a:lnTo>
                <a:lnTo>
                  <a:pt x="6099200" y="373075"/>
                </a:lnTo>
                <a:lnTo>
                  <a:pt x="6002350" y="373075"/>
                </a:lnTo>
                <a:close/>
                <a:moveTo>
                  <a:pt x="5748152" y="346211"/>
                </a:moveTo>
                <a:lnTo>
                  <a:pt x="5748152" y="358936"/>
                </a:lnTo>
                <a:lnTo>
                  <a:pt x="5793395" y="358936"/>
                </a:lnTo>
                <a:lnTo>
                  <a:pt x="5793395" y="346211"/>
                </a:lnTo>
                <a:close/>
                <a:moveTo>
                  <a:pt x="5668975" y="330659"/>
                </a:moveTo>
                <a:lnTo>
                  <a:pt x="5810362" y="330659"/>
                </a:lnTo>
                <a:lnTo>
                  <a:pt x="5810362" y="374489"/>
                </a:lnTo>
                <a:lnTo>
                  <a:pt x="5748152" y="374489"/>
                </a:lnTo>
                <a:lnTo>
                  <a:pt x="5748152" y="387920"/>
                </a:lnTo>
                <a:lnTo>
                  <a:pt x="5813896" y="387920"/>
                </a:lnTo>
                <a:lnTo>
                  <a:pt x="5811068" y="433871"/>
                </a:lnTo>
                <a:lnTo>
                  <a:pt x="5782791" y="433871"/>
                </a:lnTo>
                <a:lnTo>
                  <a:pt x="5782791" y="419026"/>
                </a:lnTo>
                <a:lnTo>
                  <a:pt x="5794809" y="419026"/>
                </a:lnTo>
                <a:lnTo>
                  <a:pt x="5795516" y="402766"/>
                </a:lnTo>
                <a:lnTo>
                  <a:pt x="5748152" y="402766"/>
                </a:lnTo>
                <a:lnTo>
                  <a:pt x="5748152" y="435992"/>
                </a:lnTo>
                <a:lnTo>
                  <a:pt x="5731185" y="435992"/>
                </a:lnTo>
                <a:lnTo>
                  <a:pt x="5731185" y="402766"/>
                </a:lnTo>
                <a:lnTo>
                  <a:pt x="5714926" y="402766"/>
                </a:lnTo>
                <a:lnTo>
                  <a:pt x="5679579" y="435992"/>
                </a:lnTo>
                <a:lnTo>
                  <a:pt x="5661906" y="432457"/>
                </a:lnTo>
                <a:lnTo>
                  <a:pt x="5693010" y="402766"/>
                </a:lnTo>
                <a:lnTo>
                  <a:pt x="5664026" y="402766"/>
                </a:lnTo>
                <a:lnTo>
                  <a:pt x="5668975" y="358936"/>
                </a:lnTo>
                <a:lnTo>
                  <a:pt x="5731185" y="358936"/>
                </a:lnTo>
                <a:lnTo>
                  <a:pt x="5731185" y="346211"/>
                </a:lnTo>
                <a:lnTo>
                  <a:pt x="5668975" y="346211"/>
                </a:lnTo>
                <a:close/>
                <a:moveTo>
                  <a:pt x="4710857" y="293824"/>
                </a:moveTo>
                <a:lnTo>
                  <a:pt x="4758184" y="305656"/>
                </a:lnTo>
                <a:lnTo>
                  <a:pt x="4708885" y="457498"/>
                </a:lnTo>
                <a:lnTo>
                  <a:pt x="4661557" y="447638"/>
                </a:lnTo>
                <a:close/>
                <a:moveTo>
                  <a:pt x="6143030" y="291777"/>
                </a:moveTo>
                <a:lnTo>
                  <a:pt x="6145150" y="304502"/>
                </a:lnTo>
                <a:lnTo>
                  <a:pt x="6081526" y="305452"/>
                </a:lnTo>
                <a:lnTo>
                  <a:pt x="6081526" y="317227"/>
                </a:lnTo>
                <a:lnTo>
                  <a:pt x="6147978" y="317227"/>
                </a:lnTo>
                <a:lnTo>
                  <a:pt x="6147978" y="331366"/>
                </a:lnTo>
                <a:lnTo>
                  <a:pt x="6121822" y="331366"/>
                </a:lnTo>
                <a:lnTo>
                  <a:pt x="6148685" y="346918"/>
                </a:lnTo>
                <a:lnTo>
                  <a:pt x="6130304" y="351867"/>
                </a:lnTo>
                <a:lnTo>
                  <a:pt x="6092838" y="331366"/>
                </a:lnTo>
                <a:lnTo>
                  <a:pt x="6081526" y="331366"/>
                </a:lnTo>
                <a:lnTo>
                  <a:pt x="6081526" y="350453"/>
                </a:lnTo>
                <a:lnTo>
                  <a:pt x="6064560" y="350453"/>
                </a:lnTo>
                <a:lnTo>
                  <a:pt x="6064560" y="331366"/>
                </a:lnTo>
                <a:lnTo>
                  <a:pt x="6052542" y="331366"/>
                </a:lnTo>
                <a:lnTo>
                  <a:pt x="6015074" y="351867"/>
                </a:lnTo>
                <a:lnTo>
                  <a:pt x="5996694" y="346918"/>
                </a:lnTo>
                <a:lnTo>
                  <a:pt x="6024972" y="331366"/>
                </a:lnTo>
                <a:lnTo>
                  <a:pt x="5998108" y="331366"/>
                </a:lnTo>
                <a:lnTo>
                  <a:pt x="5998108" y="317227"/>
                </a:lnTo>
                <a:lnTo>
                  <a:pt x="6064560" y="317227"/>
                </a:lnTo>
                <a:lnTo>
                  <a:pt x="6064560" y="305705"/>
                </a:lnTo>
                <a:lnTo>
                  <a:pt x="6003056" y="306623"/>
                </a:lnTo>
                <a:lnTo>
                  <a:pt x="6000936" y="294605"/>
                </a:lnTo>
                <a:close/>
                <a:moveTo>
                  <a:pt x="5754514" y="290364"/>
                </a:moveTo>
                <a:lnTo>
                  <a:pt x="5771480" y="293898"/>
                </a:lnTo>
                <a:lnTo>
                  <a:pt x="5815310" y="293898"/>
                </a:lnTo>
                <a:lnTo>
                  <a:pt x="5815310" y="308037"/>
                </a:lnTo>
                <a:lnTo>
                  <a:pt x="5793678" y="308037"/>
                </a:lnTo>
                <a:lnTo>
                  <a:pt x="5808948" y="319348"/>
                </a:lnTo>
                <a:lnTo>
                  <a:pt x="5789154" y="323590"/>
                </a:lnTo>
                <a:lnTo>
                  <a:pt x="5768652" y="308037"/>
                </a:lnTo>
                <a:lnTo>
                  <a:pt x="5763064" y="308037"/>
                </a:lnTo>
                <a:lnTo>
                  <a:pt x="5753807" y="323590"/>
                </a:lnTo>
                <a:lnTo>
                  <a:pt x="5736840" y="320055"/>
                </a:lnTo>
                <a:close/>
                <a:moveTo>
                  <a:pt x="5678872" y="290364"/>
                </a:moveTo>
                <a:lnTo>
                  <a:pt x="5695838" y="293898"/>
                </a:lnTo>
                <a:lnTo>
                  <a:pt x="5739668" y="293898"/>
                </a:lnTo>
                <a:lnTo>
                  <a:pt x="5739668" y="308037"/>
                </a:lnTo>
                <a:lnTo>
                  <a:pt x="5718036" y="308037"/>
                </a:lnTo>
                <a:lnTo>
                  <a:pt x="5733306" y="319348"/>
                </a:lnTo>
                <a:lnTo>
                  <a:pt x="5713512" y="323590"/>
                </a:lnTo>
                <a:lnTo>
                  <a:pt x="5693010" y="308037"/>
                </a:lnTo>
                <a:lnTo>
                  <a:pt x="5687422" y="308037"/>
                </a:lnTo>
                <a:lnTo>
                  <a:pt x="5678165" y="323590"/>
                </a:lnTo>
                <a:lnTo>
                  <a:pt x="5661198" y="320055"/>
                </a:lnTo>
                <a:close/>
                <a:moveTo>
                  <a:pt x="2053717" y="276076"/>
                </a:moveTo>
                <a:lnTo>
                  <a:pt x="2053717" y="414114"/>
                </a:lnTo>
                <a:lnTo>
                  <a:pt x="2148371" y="414114"/>
                </a:lnTo>
                <a:lnTo>
                  <a:pt x="2148371" y="276076"/>
                </a:lnTo>
                <a:close/>
                <a:moveTo>
                  <a:pt x="5881055" y="262347"/>
                </a:moveTo>
                <a:lnTo>
                  <a:pt x="5931954" y="262347"/>
                </a:lnTo>
                <a:lnTo>
                  <a:pt x="5931954" y="428439"/>
                </a:lnTo>
                <a:lnTo>
                  <a:pt x="5907844" y="428439"/>
                </a:lnTo>
                <a:lnTo>
                  <a:pt x="5907844" y="281992"/>
                </a:lnTo>
                <a:lnTo>
                  <a:pt x="5881055" y="281992"/>
                </a:lnTo>
                <a:close/>
                <a:moveTo>
                  <a:pt x="2292325" y="197197"/>
                </a:moveTo>
                <a:lnTo>
                  <a:pt x="2335709" y="297768"/>
                </a:lnTo>
                <a:lnTo>
                  <a:pt x="2300213" y="331291"/>
                </a:lnTo>
                <a:lnTo>
                  <a:pt x="2256830" y="230721"/>
                </a:lnTo>
                <a:close/>
                <a:moveTo>
                  <a:pt x="4681277" y="169590"/>
                </a:moveTo>
                <a:lnTo>
                  <a:pt x="4754240" y="220861"/>
                </a:lnTo>
                <a:lnTo>
                  <a:pt x="4736492" y="266216"/>
                </a:lnTo>
                <a:lnTo>
                  <a:pt x="4663529" y="212973"/>
                </a:lnTo>
                <a:close/>
                <a:moveTo>
                  <a:pt x="1701291" y="155786"/>
                </a:moveTo>
                <a:lnTo>
                  <a:pt x="1701291" y="248469"/>
                </a:lnTo>
                <a:lnTo>
                  <a:pt x="1872853" y="248469"/>
                </a:lnTo>
                <a:lnTo>
                  <a:pt x="1872853" y="155786"/>
                </a:lnTo>
                <a:close/>
                <a:moveTo>
                  <a:pt x="739267" y="155786"/>
                </a:moveTo>
                <a:lnTo>
                  <a:pt x="739267" y="258328"/>
                </a:lnTo>
                <a:lnTo>
                  <a:pt x="904912" y="258328"/>
                </a:lnTo>
                <a:lnTo>
                  <a:pt x="904912" y="155786"/>
                </a:lnTo>
                <a:close/>
                <a:moveTo>
                  <a:pt x="396366" y="155786"/>
                </a:moveTo>
                <a:lnTo>
                  <a:pt x="396366" y="258328"/>
                </a:lnTo>
                <a:lnTo>
                  <a:pt x="562012" y="258328"/>
                </a:lnTo>
                <a:lnTo>
                  <a:pt x="562012" y="155786"/>
                </a:lnTo>
                <a:close/>
                <a:moveTo>
                  <a:pt x="3849105" y="138038"/>
                </a:moveTo>
                <a:lnTo>
                  <a:pt x="3896432" y="138038"/>
                </a:lnTo>
                <a:lnTo>
                  <a:pt x="3896432" y="463414"/>
                </a:lnTo>
                <a:lnTo>
                  <a:pt x="3849105" y="463414"/>
                </a:lnTo>
                <a:close/>
                <a:moveTo>
                  <a:pt x="2053717" y="116346"/>
                </a:moveTo>
                <a:lnTo>
                  <a:pt x="2053717" y="232693"/>
                </a:lnTo>
                <a:lnTo>
                  <a:pt x="2148371" y="232693"/>
                </a:lnTo>
                <a:lnTo>
                  <a:pt x="2148371" y="116346"/>
                </a:lnTo>
                <a:close/>
                <a:moveTo>
                  <a:pt x="3301492" y="112402"/>
                </a:moveTo>
                <a:lnTo>
                  <a:pt x="3301492" y="388479"/>
                </a:lnTo>
                <a:lnTo>
                  <a:pt x="3502633" y="388479"/>
                </a:lnTo>
                <a:lnTo>
                  <a:pt x="3502633" y="112402"/>
                </a:lnTo>
                <a:close/>
                <a:moveTo>
                  <a:pt x="2901442" y="112402"/>
                </a:moveTo>
                <a:lnTo>
                  <a:pt x="2901442" y="388479"/>
                </a:lnTo>
                <a:lnTo>
                  <a:pt x="3102583" y="388479"/>
                </a:lnTo>
                <a:lnTo>
                  <a:pt x="3102583" y="112402"/>
                </a:lnTo>
                <a:close/>
                <a:moveTo>
                  <a:pt x="1650020" y="110430"/>
                </a:moveTo>
                <a:lnTo>
                  <a:pt x="1922152" y="110430"/>
                </a:lnTo>
                <a:lnTo>
                  <a:pt x="1922152" y="293824"/>
                </a:lnTo>
                <a:lnTo>
                  <a:pt x="1841302" y="293824"/>
                </a:lnTo>
                <a:lnTo>
                  <a:pt x="1932012" y="427918"/>
                </a:lnTo>
                <a:lnTo>
                  <a:pt x="1872853" y="427918"/>
                </a:lnTo>
                <a:lnTo>
                  <a:pt x="1782142" y="293824"/>
                </a:lnTo>
                <a:lnTo>
                  <a:pt x="1701291" y="293824"/>
                </a:lnTo>
                <a:lnTo>
                  <a:pt x="1701291" y="427918"/>
                </a:lnTo>
                <a:lnTo>
                  <a:pt x="1650020" y="427918"/>
                </a:lnTo>
                <a:close/>
                <a:moveTo>
                  <a:pt x="1345220" y="110430"/>
                </a:moveTo>
                <a:lnTo>
                  <a:pt x="1593689" y="110430"/>
                </a:lnTo>
                <a:lnTo>
                  <a:pt x="1593689" y="155786"/>
                </a:lnTo>
                <a:lnTo>
                  <a:pt x="1396491" y="155786"/>
                </a:lnTo>
                <a:lnTo>
                  <a:pt x="1396491" y="244525"/>
                </a:lnTo>
                <a:lnTo>
                  <a:pt x="1548333" y="244525"/>
                </a:lnTo>
                <a:lnTo>
                  <a:pt x="1548333" y="293824"/>
                </a:lnTo>
                <a:lnTo>
                  <a:pt x="1396491" y="293824"/>
                </a:lnTo>
                <a:lnTo>
                  <a:pt x="1396491" y="382563"/>
                </a:lnTo>
                <a:lnTo>
                  <a:pt x="1593689" y="382563"/>
                </a:lnTo>
                <a:lnTo>
                  <a:pt x="1593689" y="427918"/>
                </a:lnTo>
                <a:lnTo>
                  <a:pt x="1345220" y="427918"/>
                </a:lnTo>
                <a:close/>
                <a:moveTo>
                  <a:pt x="1011175" y="110430"/>
                </a:moveTo>
                <a:lnTo>
                  <a:pt x="1285280" y="110430"/>
                </a:lnTo>
                <a:lnTo>
                  <a:pt x="1285280" y="153814"/>
                </a:lnTo>
                <a:lnTo>
                  <a:pt x="1172877" y="153814"/>
                </a:lnTo>
                <a:lnTo>
                  <a:pt x="1172877" y="427918"/>
                </a:lnTo>
                <a:lnTo>
                  <a:pt x="1123578" y="427918"/>
                </a:lnTo>
                <a:lnTo>
                  <a:pt x="1123578" y="153814"/>
                </a:lnTo>
                <a:lnTo>
                  <a:pt x="1011175" y="153814"/>
                </a:lnTo>
                <a:close/>
                <a:moveTo>
                  <a:pt x="687995" y="110430"/>
                </a:moveTo>
                <a:lnTo>
                  <a:pt x="956183" y="110430"/>
                </a:lnTo>
                <a:lnTo>
                  <a:pt x="956183" y="303684"/>
                </a:lnTo>
                <a:lnTo>
                  <a:pt x="739267" y="303684"/>
                </a:lnTo>
                <a:lnTo>
                  <a:pt x="739267" y="427918"/>
                </a:lnTo>
                <a:lnTo>
                  <a:pt x="687995" y="427918"/>
                </a:lnTo>
                <a:close/>
                <a:moveTo>
                  <a:pt x="345095" y="110430"/>
                </a:moveTo>
                <a:lnTo>
                  <a:pt x="613284" y="110430"/>
                </a:lnTo>
                <a:lnTo>
                  <a:pt x="613284" y="303684"/>
                </a:lnTo>
                <a:lnTo>
                  <a:pt x="396366" y="303684"/>
                </a:lnTo>
                <a:lnTo>
                  <a:pt x="396366" y="427918"/>
                </a:lnTo>
                <a:lnTo>
                  <a:pt x="345095" y="427918"/>
                </a:lnTo>
                <a:close/>
                <a:moveTo>
                  <a:pt x="3250220" y="67047"/>
                </a:moveTo>
                <a:lnTo>
                  <a:pt x="3553904" y="67047"/>
                </a:lnTo>
                <a:lnTo>
                  <a:pt x="3553904" y="433834"/>
                </a:lnTo>
                <a:lnTo>
                  <a:pt x="3250220" y="433834"/>
                </a:lnTo>
                <a:close/>
                <a:moveTo>
                  <a:pt x="2850170" y="67047"/>
                </a:moveTo>
                <a:lnTo>
                  <a:pt x="3153854" y="67047"/>
                </a:lnTo>
                <a:lnTo>
                  <a:pt x="3153854" y="433834"/>
                </a:lnTo>
                <a:lnTo>
                  <a:pt x="2850170" y="433834"/>
                </a:lnTo>
                <a:close/>
                <a:moveTo>
                  <a:pt x="2580233" y="67047"/>
                </a:moveTo>
                <a:lnTo>
                  <a:pt x="2692636" y="67047"/>
                </a:lnTo>
                <a:lnTo>
                  <a:pt x="2692636" y="433834"/>
                </a:lnTo>
                <a:lnTo>
                  <a:pt x="2639392" y="433834"/>
                </a:lnTo>
                <a:lnTo>
                  <a:pt x="2639392" y="110430"/>
                </a:lnTo>
                <a:lnTo>
                  <a:pt x="2580233" y="110430"/>
                </a:lnTo>
                <a:close/>
                <a:moveTo>
                  <a:pt x="4168564" y="53243"/>
                </a:moveTo>
                <a:lnTo>
                  <a:pt x="4582679" y="53243"/>
                </a:lnTo>
                <a:lnTo>
                  <a:pt x="4582679" y="94655"/>
                </a:lnTo>
                <a:lnTo>
                  <a:pt x="4472248" y="94655"/>
                </a:lnTo>
                <a:lnTo>
                  <a:pt x="4472248" y="252412"/>
                </a:lnTo>
                <a:lnTo>
                  <a:pt x="4572819" y="141982"/>
                </a:lnTo>
                <a:lnTo>
                  <a:pt x="4586622" y="187337"/>
                </a:lnTo>
                <a:lnTo>
                  <a:pt x="4472248" y="311572"/>
                </a:lnTo>
                <a:lnTo>
                  <a:pt x="4472248" y="414114"/>
                </a:lnTo>
                <a:lnTo>
                  <a:pt x="4586622" y="414114"/>
                </a:lnTo>
                <a:lnTo>
                  <a:pt x="4584650" y="457498"/>
                </a:lnTo>
                <a:lnTo>
                  <a:pt x="4424921" y="457498"/>
                </a:lnTo>
                <a:lnTo>
                  <a:pt x="4424921" y="94655"/>
                </a:lnTo>
                <a:lnTo>
                  <a:pt x="4298714" y="94655"/>
                </a:lnTo>
                <a:lnTo>
                  <a:pt x="4255951" y="159730"/>
                </a:lnTo>
                <a:lnTo>
                  <a:pt x="4355902" y="159730"/>
                </a:lnTo>
                <a:lnTo>
                  <a:pt x="4355902" y="281992"/>
                </a:lnTo>
                <a:lnTo>
                  <a:pt x="4204060" y="457498"/>
                </a:lnTo>
                <a:lnTo>
                  <a:pt x="4158704" y="447638"/>
                </a:lnTo>
                <a:lnTo>
                  <a:pt x="4235610" y="355554"/>
                </a:lnTo>
                <a:lnTo>
                  <a:pt x="4158704" y="281992"/>
                </a:lnTo>
                <a:lnTo>
                  <a:pt x="4202088" y="264244"/>
                </a:lnTo>
                <a:lnTo>
                  <a:pt x="4263115" y="322619"/>
                </a:lnTo>
                <a:lnTo>
                  <a:pt x="4308574" y="268188"/>
                </a:lnTo>
                <a:lnTo>
                  <a:pt x="4308574" y="201141"/>
                </a:lnTo>
                <a:lnTo>
                  <a:pt x="4228737" y="201141"/>
                </a:lnTo>
                <a:lnTo>
                  <a:pt x="4208004" y="232693"/>
                </a:lnTo>
                <a:lnTo>
                  <a:pt x="4162648" y="222833"/>
                </a:lnTo>
                <a:lnTo>
                  <a:pt x="4247443" y="94655"/>
                </a:lnTo>
                <a:lnTo>
                  <a:pt x="4168564" y="94655"/>
                </a:lnTo>
                <a:close/>
                <a:moveTo>
                  <a:pt x="4917914" y="51271"/>
                </a:moveTo>
                <a:lnTo>
                  <a:pt x="4967213" y="51271"/>
                </a:lnTo>
                <a:lnTo>
                  <a:pt x="4967213" y="80851"/>
                </a:lnTo>
                <a:lnTo>
                  <a:pt x="5091447" y="80851"/>
                </a:lnTo>
                <a:lnTo>
                  <a:pt x="5091447" y="122262"/>
                </a:lnTo>
                <a:lnTo>
                  <a:pt x="4967213" y="122262"/>
                </a:lnTo>
                <a:lnTo>
                  <a:pt x="4967213" y="232693"/>
                </a:lnTo>
                <a:lnTo>
                  <a:pt x="5101307" y="232693"/>
                </a:lnTo>
                <a:lnTo>
                  <a:pt x="5101307" y="276076"/>
                </a:lnTo>
                <a:lnTo>
                  <a:pt x="4947493" y="276076"/>
                </a:lnTo>
                <a:lnTo>
                  <a:pt x="4868615" y="414114"/>
                </a:lnTo>
                <a:lnTo>
                  <a:pt x="5038204" y="414114"/>
                </a:lnTo>
                <a:lnTo>
                  <a:pt x="5016513" y="347067"/>
                </a:lnTo>
                <a:lnTo>
                  <a:pt x="5053980" y="315516"/>
                </a:lnTo>
                <a:lnTo>
                  <a:pt x="5095391" y="457498"/>
                </a:lnTo>
                <a:lnTo>
                  <a:pt x="4795652" y="457498"/>
                </a:lnTo>
                <a:lnTo>
                  <a:pt x="4898194" y="276076"/>
                </a:lnTo>
                <a:lnTo>
                  <a:pt x="4799596" y="276076"/>
                </a:lnTo>
                <a:lnTo>
                  <a:pt x="4799596" y="232693"/>
                </a:lnTo>
                <a:lnTo>
                  <a:pt x="4917914" y="232693"/>
                </a:lnTo>
                <a:lnTo>
                  <a:pt x="4917914" y="122262"/>
                </a:lnTo>
                <a:lnTo>
                  <a:pt x="4805511" y="122262"/>
                </a:lnTo>
                <a:lnTo>
                  <a:pt x="4805511" y="80851"/>
                </a:lnTo>
                <a:lnTo>
                  <a:pt x="4917914" y="80851"/>
                </a:lnTo>
                <a:close/>
                <a:moveTo>
                  <a:pt x="4689165" y="49299"/>
                </a:moveTo>
                <a:lnTo>
                  <a:pt x="4762128" y="100571"/>
                </a:lnTo>
                <a:lnTo>
                  <a:pt x="4744380" y="143954"/>
                </a:lnTo>
                <a:lnTo>
                  <a:pt x="4673389" y="94655"/>
                </a:lnTo>
                <a:close/>
                <a:moveTo>
                  <a:pt x="2256830" y="47327"/>
                </a:moveTo>
                <a:lnTo>
                  <a:pt x="2283182" y="61131"/>
                </a:lnTo>
                <a:lnTo>
                  <a:pt x="2428391" y="61131"/>
                </a:lnTo>
                <a:lnTo>
                  <a:pt x="2424447" y="457498"/>
                </a:lnTo>
                <a:lnTo>
                  <a:pt x="2298241" y="457498"/>
                </a:lnTo>
                <a:lnTo>
                  <a:pt x="2298241" y="414114"/>
                </a:lnTo>
                <a:lnTo>
                  <a:pt x="2375148" y="414114"/>
                </a:lnTo>
                <a:lnTo>
                  <a:pt x="2379092" y="104514"/>
                </a:lnTo>
                <a:lnTo>
                  <a:pt x="2289790" y="104514"/>
                </a:lnTo>
                <a:lnTo>
                  <a:pt x="2268662" y="193253"/>
                </a:lnTo>
                <a:lnTo>
                  <a:pt x="2227250" y="171562"/>
                </a:lnTo>
                <a:close/>
                <a:moveTo>
                  <a:pt x="3872768" y="45355"/>
                </a:moveTo>
                <a:lnTo>
                  <a:pt x="4087713" y="159730"/>
                </a:lnTo>
                <a:lnTo>
                  <a:pt x="4058134" y="197197"/>
                </a:lnTo>
                <a:lnTo>
                  <a:pt x="3872768" y="94655"/>
                </a:lnTo>
                <a:lnTo>
                  <a:pt x="3687403" y="197197"/>
                </a:lnTo>
                <a:lnTo>
                  <a:pt x="3661767" y="159730"/>
                </a:lnTo>
                <a:close/>
                <a:moveTo>
                  <a:pt x="2073436" y="43383"/>
                </a:moveTo>
                <a:lnTo>
                  <a:pt x="2124708" y="51271"/>
                </a:lnTo>
                <a:lnTo>
                  <a:pt x="2118792" y="72963"/>
                </a:lnTo>
                <a:lnTo>
                  <a:pt x="2195699" y="72963"/>
                </a:lnTo>
                <a:lnTo>
                  <a:pt x="2195699" y="457498"/>
                </a:lnTo>
                <a:lnTo>
                  <a:pt x="2004417" y="457498"/>
                </a:lnTo>
                <a:lnTo>
                  <a:pt x="2004417" y="72963"/>
                </a:lnTo>
                <a:lnTo>
                  <a:pt x="2063576" y="72963"/>
                </a:lnTo>
                <a:close/>
                <a:moveTo>
                  <a:pt x="5315917" y="0"/>
                </a:moveTo>
                <a:lnTo>
                  <a:pt x="5341553" y="0"/>
                </a:lnTo>
                <a:lnTo>
                  <a:pt x="5450012" y="246497"/>
                </a:lnTo>
                <a:lnTo>
                  <a:pt x="5341553" y="491021"/>
                </a:lnTo>
                <a:lnTo>
                  <a:pt x="5313946" y="491021"/>
                </a:lnTo>
                <a:lnTo>
                  <a:pt x="5424376" y="248469"/>
                </a:lnTo>
                <a:close/>
                <a:moveTo>
                  <a:pt x="5242954" y="0"/>
                </a:moveTo>
                <a:lnTo>
                  <a:pt x="5270562" y="0"/>
                </a:lnTo>
                <a:lnTo>
                  <a:pt x="5379020" y="246497"/>
                </a:lnTo>
                <a:lnTo>
                  <a:pt x="5270562" y="491021"/>
                </a:lnTo>
                <a:lnTo>
                  <a:pt x="5242954" y="491021"/>
                </a:lnTo>
                <a:lnTo>
                  <a:pt x="5351412" y="248469"/>
                </a:lnTo>
                <a:close/>
                <a:moveTo>
                  <a:pt x="179450" y="0"/>
                </a:moveTo>
                <a:lnTo>
                  <a:pt x="207057" y="0"/>
                </a:lnTo>
                <a:lnTo>
                  <a:pt x="98598" y="248469"/>
                </a:lnTo>
                <a:lnTo>
                  <a:pt x="207057" y="491021"/>
                </a:lnTo>
                <a:lnTo>
                  <a:pt x="179450" y="491021"/>
                </a:lnTo>
                <a:lnTo>
                  <a:pt x="70991" y="246497"/>
                </a:lnTo>
                <a:close/>
                <a:moveTo>
                  <a:pt x="106487" y="0"/>
                </a:moveTo>
                <a:lnTo>
                  <a:pt x="134094" y="0"/>
                </a:lnTo>
                <a:lnTo>
                  <a:pt x="25636" y="248469"/>
                </a:lnTo>
                <a:lnTo>
                  <a:pt x="136066" y="491021"/>
                </a:lnTo>
                <a:lnTo>
                  <a:pt x="108459" y="491021"/>
                </a:lnTo>
                <a:lnTo>
                  <a:pt x="0" y="2464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8" name="任意多边形 14"/>
          <p:cNvSpPr/>
          <p:nvPr/>
        </p:nvSpPr>
        <p:spPr>
          <a:xfrm>
            <a:off x="4154400" y="2346480"/>
            <a:ext cx="623880" cy="360360"/>
          </a:xfrm>
          <a:custGeom>
            <a:avLst/>
            <a:gdLst/>
            <a:ahLst/>
            <a:rect l="l" t="t" r="r" b="b"/>
            <a:pathLst>
              <a:path w="625297" h="360540">
                <a:moveTo>
                  <a:pt x="468801" y="21283"/>
                </a:moveTo>
                <a:cubicBezTo>
                  <a:pt x="449618" y="21956"/>
                  <a:pt x="432874" y="26079"/>
                  <a:pt x="418571" y="33652"/>
                </a:cubicBezTo>
                <a:cubicBezTo>
                  <a:pt x="404268" y="41224"/>
                  <a:pt x="391731" y="51236"/>
                  <a:pt x="380962" y="63689"/>
                </a:cubicBezTo>
                <a:cubicBezTo>
                  <a:pt x="367163" y="79843"/>
                  <a:pt x="356814" y="99195"/>
                  <a:pt x="349915" y="121744"/>
                </a:cubicBezTo>
                <a:cubicBezTo>
                  <a:pt x="343016" y="144292"/>
                  <a:pt x="339902" y="167178"/>
                  <a:pt x="340576" y="190400"/>
                </a:cubicBezTo>
                <a:cubicBezTo>
                  <a:pt x="340912" y="207900"/>
                  <a:pt x="343268" y="224896"/>
                  <a:pt x="347643" y="241387"/>
                </a:cubicBezTo>
                <a:cubicBezTo>
                  <a:pt x="352018" y="257878"/>
                  <a:pt x="358581" y="272855"/>
                  <a:pt x="367331" y="286317"/>
                </a:cubicBezTo>
                <a:cubicBezTo>
                  <a:pt x="378101" y="302471"/>
                  <a:pt x="391899" y="315344"/>
                  <a:pt x="408727" y="324936"/>
                </a:cubicBezTo>
                <a:cubicBezTo>
                  <a:pt x="425554" y="334527"/>
                  <a:pt x="445579" y="339491"/>
                  <a:pt x="468801" y="339828"/>
                </a:cubicBezTo>
                <a:cubicBezTo>
                  <a:pt x="491350" y="340165"/>
                  <a:pt x="511206" y="335537"/>
                  <a:pt x="528370" y="325945"/>
                </a:cubicBezTo>
                <a:cubicBezTo>
                  <a:pt x="545534" y="316354"/>
                  <a:pt x="559670" y="303481"/>
                  <a:pt x="570776" y="287326"/>
                </a:cubicBezTo>
                <a:cubicBezTo>
                  <a:pt x="580536" y="273191"/>
                  <a:pt x="587772" y="257205"/>
                  <a:pt x="592483" y="239368"/>
                </a:cubicBezTo>
                <a:cubicBezTo>
                  <a:pt x="597195" y="221531"/>
                  <a:pt x="599719" y="203020"/>
                  <a:pt x="600056" y="183837"/>
                </a:cubicBezTo>
                <a:cubicBezTo>
                  <a:pt x="600392" y="160615"/>
                  <a:pt x="597279" y="138066"/>
                  <a:pt x="590716" y="116190"/>
                </a:cubicBezTo>
                <a:cubicBezTo>
                  <a:pt x="584154" y="94315"/>
                  <a:pt x="574309" y="75468"/>
                  <a:pt x="561184" y="59650"/>
                </a:cubicBezTo>
                <a:cubicBezTo>
                  <a:pt x="550751" y="47198"/>
                  <a:pt x="537962" y="37522"/>
                  <a:pt x="522817" y="30623"/>
                </a:cubicBezTo>
                <a:cubicBezTo>
                  <a:pt x="507673" y="23723"/>
                  <a:pt x="489667" y="20610"/>
                  <a:pt x="468801" y="21283"/>
                </a:cubicBezTo>
                <a:close/>
                <a:moveTo>
                  <a:pt x="0" y="5634"/>
                </a:moveTo>
                <a:lnTo>
                  <a:pt x="281692" y="5634"/>
                </a:lnTo>
                <a:lnTo>
                  <a:pt x="281692" y="26332"/>
                </a:lnTo>
                <a:lnTo>
                  <a:pt x="151952" y="26332"/>
                </a:lnTo>
                <a:lnTo>
                  <a:pt x="151952" y="353963"/>
                </a:lnTo>
                <a:lnTo>
                  <a:pt x="127216" y="353963"/>
                </a:lnTo>
                <a:lnTo>
                  <a:pt x="127216" y="26332"/>
                </a:lnTo>
                <a:lnTo>
                  <a:pt x="0" y="26332"/>
                </a:lnTo>
                <a:close/>
                <a:moveTo>
                  <a:pt x="468801" y="81"/>
                </a:moveTo>
                <a:cubicBezTo>
                  <a:pt x="493033" y="-592"/>
                  <a:pt x="514151" y="2941"/>
                  <a:pt x="532157" y="10682"/>
                </a:cubicBezTo>
                <a:cubicBezTo>
                  <a:pt x="550162" y="18423"/>
                  <a:pt x="565391" y="29192"/>
                  <a:pt x="577843" y="42991"/>
                </a:cubicBezTo>
                <a:cubicBezTo>
                  <a:pt x="585920" y="51405"/>
                  <a:pt x="592904" y="61080"/>
                  <a:pt x="598793" y="72018"/>
                </a:cubicBezTo>
                <a:cubicBezTo>
                  <a:pt x="604683" y="82956"/>
                  <a:pt x="609563" y="94567"/>
                  <a:pt x="613433" y="106851"/>
                </a:cubicBezTo>
                <a:cubicBezTo>
                  <a:pt x="617304" y="119135"/>
                  <a:pt x="620249" y="131924"/>
                  <a:pt x="622268" y="145218"/>
                </a:cubicBezTo>
                <a:cubicBezTo>
                  <a:pt x="624287" y="158512"/>
                  <a:pt x="625297" y="171890"/>
                  <a:pt x="625297" y="185352"/>
                </a:cubicBezTo>
                <a:cubicBezTo>
                  <a:pt x="625297" y="206891"/>
                  <a:pt x="622604" y="227841"/>
                  <a:pt x="617220" y="248202"/>
                </a:cubicBezTo>
                <a:cubicBezTo>
                  <a:pt x="611835" y="268563"/>
                  <a:pt x="603589" y="286485"/>
                  <a:pt x="592483" y="301966"/>
                </a:cubicBezTo>
                <a:cubicBezTo>
                  <a:pt x="579694" y="319467"/>
                  <a:pt x="563287" y="333518"/>
                  <a:pt x="543263" y="344119"/>
                </a:cubicBezTo>
                <a:cubicBezTo>
                  <a:pt x="523238" y="354720"/>
                  <a:pt x="498417" y="360189"/>
                  <a:pt x="468801" y="360526"/>
                </a:cubicBezTo>
                <a:cubicBezTo>
                  <a:pt x="439858" y="360862"/>
                  <a:pt x="415121" y="355309"/>
                  <a:pt x="394592" y="343867"/>
                </a:cubicBezTo>
                <a:cubicBezTo>
                  <a:pt x="374062" y="332424"/>
                  <a:pt x="357403" y="316606"/>
                  <a:pt x="344614" y="296413"/>
                </a:cubicBezTo>
                <a:cubicBezTo>
                  <a:pt x="334854" y="280932"/>
                  <a:pt x="327618" y="263768"/>
                  <a:pt x="322907" y="244921"/>
                </a:cubicBezTo>
                <a:cubicBezTo>
                  <a:pt x="318195" y="226074"/>
                  <a:pt x="315671" y="206722"/>
                  <a:pt x="315334" y="186866"/>
                </a:cubicBezTo>
                <a:cubicBezTo>
                  <a:pt x="314998" y="161961"/>
                  <a:pt x="318363" y="137730"/>
                  <a:pt x="325431" y="114171"/>
                </a:cubicBezTo>
                <a:cubicBezTo>
                  <a:pt x="332498" y="90613"/>
                  <a:pt x="343605" y="69915"/>
                  <a:pt x="358749" y="52078"/>
                </a:cubicBezTo>
                <a:cubicBezTo>
                  <a:pt x="371538" y="36596"/>
                  <a:pt x="387188" y="24228"/>
                  <a:pt x="405698" y="14973"/>
                </a:cubicBezTo>
                <a:cubicBezTo>
                  <a:pt x="424208" y="5718"/>
                  <a:pt x="445243" y="754"/>
                  <a:pt x="468801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任意多边形 16"/>
          <p:cNvSpPr/>
          <p:nvPr/>
        </p:nvSpPr>
        <p:spPr>
          <a:xfrm>
            <a:off x="5062680" y="2338560"/>
            <a:ext cx="541080" cy="347400"/>
          </a:xfrm>
          <a:custGeom>
            <a:avLst/>
            <a:gdLst/>
            <a:ahLst/>
            <a:rect l="l" t="t" r="r" b="b"/>
            <a:pathLst>
              <a:path w="541630" h="348329">
                <a:moveTo>
                  <a:pt x="25242" y="173155"/>
                </a:moveTo>
                <a:lnTo>
                  <a:pt x="25242" y="294313"/>
                </a:lnTo>
                <a:cubicBezTo>
                  <a:pt x="25242" y="304073"/>
                  <a:pt x="27513" y="312234"/>
                  <a:pt x="32057" y="318797"/>
                </a:cubicBezTo>
                <a:cubicBezTo>
                  <a:pt x="36600" y="325360"/>
                  <a:pt x="45266" y="328641"/>
                  <a:pt x="58055" y="328641"/>
                </a:cubicBezTo>
                <a:lnTo>
                  <a:pt x="158515" y="328641"/>
                </a:lnTo>
                <a:cubicBezTo>
                  <a:pt x="172987" y="328641"/>
                  <a:pt x="185187" y="326201"/>
                  <a:pt x="195115" y="321321"/>
                </a:cubicBezTo>
                <a:cubicBezTo>
                  <a:pt x="205044" y="316441"/>
                  <a:pt x="213205" y="310131"/>
                  <a:pt x="219599" y="302390"/>
                </a:cubicBezTo>
                <a:cubicBezTo>
                  <a:pt x="225321" y="294986"/>
                  <a:pt x="229528" y="286656"/>
                  <a:pt x="232220" y="277401"/>
                </a:cubicBezTo>
                <a:cubicBezTo>
                  <a:pt x="234912" y="268146"/>
                  <a:pt x="236090" y="258807"/>
                  <a:pt x="235754" y="249383"/>
                </a:cubicBezTo>
                <a:cubicBezTo>
                  <a:pt x="235081" y="231883"/>
                  <a:pt x="230032" y="216402"/>
                  <a:pt x="220609" y="202940"/>
                </a:cubicBezTo>
                <a:cubicBezTo>
                  <a:pt x="214215" y="194189"/>
                  <a:pt x="206137" y="187038"/>
                  <a:pt x="196377" y="181484"/>
                </a:cubicBezTo>
                <a:cubicBezTo>
                  <a:pt x="186617" y="175931"/>
                  <a:pt x="174838" y="173155"/>
                  <a:pt x="161040" y="173155"/>
                </a:cubicBezTo>
                <a:close/>
                <a:moveTo>
                  <a:pt x="54522" y="19688"/>
                </a:moveTo>
                <a:cubicBezTo>
                  <a:pt x="45435" y="19688"/>
                  <a:pt x="38283" y="22969"/>
                  <a:pt x="33066" y="29532"/>
                </a:cubicBezTo>
                <a:cubicBezTo>
                  <a:pt x="27850" y="36095"/>
                  <a:pt x="25242" y="42742"/>
                  <a:pt x="25242" y="49473"/>
                </a:cubicBezTo>
                <a:lnTo>
                  <a:pt x="25242" y="152962"/>
                </a:lnTo>
                <a:lnTo>
                  <a:pt x="160535" y="152962"/>
                </a:lnTo>
                <a:cubicBezTo>
                  <a:pt x="172651" y="152962"/>
                  <a:pt x="183084" y="149933"/>
                  <a:pt x="191834" y="143875"/>
                </a:cubicBezTo>
                <a:cubicBezTo>
                  <a:pt x="200584" y="137817"/>
                  <a:pt x="207484" y="130245"/>
                  <a:pt x="212532" y="121158"/>
                </a:cubicBezTo>
                <a:cubicBezTo>
                  <a:pt x="220272" y="107023"/>
                  <a:pt x="223301" y="91710"/>
                  <a:pt x="221619" y="75219"/>
                </a:cubicBezTo>
                <a:cubicBezTo>
                  <a:pt x="220946" y="68151"/>
                  <a:pt x="219263" y="61420"/>
                  <a:pt x="216570" y="55026"/>
                </a:cubicBezTo>
                <a:cubicBezTo>
                  <a:pt x="213878" y="48631"/>
                  <a:pt x="210176" y="42910"/>
                  <a:pt x="205464" y="37862"/>
                </a:cubicBezTo>
                <a:cubicBezTo>
                  <a:pt x="200079" y="32140"/>
                  <a:pt x="193601" y="27681"/>
                  <a:pt x="186028" y="24484"/>
                </a:cubicBezTo>
                <a:cubicBezTo>
                  <a:pt x="178456" y="21287"/>
                  <a:pt x="169285" y="19688"/>
                  <a:pt x="158515" y="19688"/>
                </a:cubicBezTo>
                <a:close/>
                <a:moveTo>
                  <a:pt x="356359" y="0"/>
                </a:moveTo>
                <a:lnTo>
                  <a:pt x="541630" y="0"/>
                </a:lnTo>
                <a:lnTo>
                  <a:pt x="541630" y="20698"/>
                </a:lnTo>
                <a:lnTo>
                  <a:pt x="354340" y="20698"/>
                </a:lnTo>
                <a:cubicBezTo>
                  <a:pt x="331455" y="20698"/>
                  <a:pt x="320012" y="32309"/>
                  <a:pt x="320012" y="55531"/>
                </a:cubicBezTo>
                <a:lnTo>
                  <a:pt x="320012" y="157505"/>
                </a:lnTo>
                <a:lnTo>
                  <a:pt x="528505" y="157505"/>
                </a:lnTo>
                <a:lnTo>
                  <a:pt x="528505" y="178708"/>
                </a:lnTo>
                <a:lnTo>
                  <a:pt x="320012" y="178708"/>
                </a:lnTo>
                <a:lnTo>
                  <a:pt x="320012" y="291789"/>
                </a:lnTo>
                <a:cubicBezTo>
                  <a:pt x="320012" y="303568"/>
                  <a:pt x="322788" y="312402"/>
                  <a:pt x="328341" y="318292"/>
                </a:cubicBezTo>
                <a:cubicBezTo>
                  <a:pt x="333895" y="324182"/>
                  <a:pt x="342897" y="327126"/>
                  <a:pt x="355350" y="327126"/>
                </a:cubicBezTo>
                <a:lnTo>
                  <a:pt x="541630" y="327126"/>
                </a:lnTo>
                <a:lnTo>
                  <a:pt x="541630" y="348329"/>
                </a:lnTo>
                <a:lnTo>
                  <a:pt x="352321" y="348329"/>
                </a:lnTo>
                <a:cubicBezTo>
                  <a:pt x="333137" y="348329"/>
                  <a:pt x="318666" y="343281"/>
                  <a:pt x="308906" y="333184"/>
                </a:cubicBezTo>
                <a:cubicBezTo>
                  <a:pt x="299819" y="324098"/>
                  <a:pt x="295275" y="310467"/>
                  <a:pt x="295275" y="292294"/>
                </a:cubicBezTo>
                <a:lnTo>
                  <a:pt x="295275" y="58055"/>
                </a:lnTo>
                <a:cubicBezTo>
                  <a:pt x="295275" y="36516"/>
                  <a:pt x="300829" y="21203"/>
                  <a:pt x="311935" y="12116"/>
                </a:cubicBezTo>
                <a:cubicBezTo>
                  <a:pt x="321358" y="4038"/>
                  <a:pt x="336166" y="0"/>
                  <a:pt x="356359" y="0"/>
                </a:cubicBezTo>
                <a:close/>
                <a:moveTo>
                  <a:pt x="53007" y="0"/>
                </a:moveTo>
                <a:lnTo>
                  <a:pt x="162554" y="0"/>
                </a:lnTo>
                <a:cubicBezTo>
                  <a:pt x="176689" y="0"/>
                  <a:pt x="188889" y="2103"/>
                  <a:pt x="199154" y="6310"/>
                </a:cubicBezTo>
                <a:cubicBezTo>
                  <a:pt x="209419" y="10517"/>
                  <a:pt x="217917" y="16323"/>
                  <a:pt x="224648" y="23727"/>
                </a:cubicBezTo>
                <a:cubicBezTo>
                  <a:pt x="231379" y="30458"/>
                  <a:pt x="236427" y="38198"/>
                  <a:pt x="239792" y="46949"/>
                </a:cubicBezTo>
                <a:cubicBezTo>
                  <a:pt x="243158" y="55699"/>
                  <a:pt x="245345" y="64954"/>
                  <a:pt x="246355" y="74714"/>
                </a:cubicBezTo>
                <a:cubicBezTo>
                  <a:pt x="247028" y="83464"/>
                  <a:pt x="246607" y="92130"/>
                  <a:pt x="245093" y="100712"/>
                </a:cubicBezTo>
                <a:cubicBezTo>
                  <a:pt x="243579" y="109294"/>
                  <a:pt x="240802" y="117456"/>
                  <a:pt x="236763" y="125197"/>
                </a:cubicBezTo>
                <a:cubicBezTo>
                  <a:pt x="233061" y="132601"/>
                  <a:pt x="228265" y="139416"/>
                  <a:pt x="222376" y="145642"/>
                </a:cubicBezTo>
                <a:cubicBezTo>
                  <a:pt x="216486" y="151868"/>
                  <a:pt x="209503" y="157337"/>
                  <a:pt x="201426" y="162049"/>
                </a:cubicBezTo>
                <a:cubicBezTo>
                  <a:pt x="221282" y="170462"/>
                  <a:pt x="236259" y="183083"/>
                  <a:pt x="246355" y="199911"/>
                </a:cubicBezTo>
                <a:cubicBezTo>
                  <a:pt x="255442" y="215055"/>
                  <a:pt x="259985" y="232051"/>
                  <a:pt x="259985" y="250898"/>
                </a:cubicBezTo>
                <a:cubicBezTo>
                  <a:pt x="259985" y="262677"/>
                  <a:pt x="258218" y="274456"/>
                  <a:pt x="254685" y="286236"/>
                </a:cubicBezTo>
                <a:cubicBezTo>
                  <a:pt x="251151" y="298015"/>
                  <a:pt x="245345" y="308448"/>
                  <a:pt x="237268" y="317535"/>
                </a:cubicBezTo>
                <a:cubicBezTo>
                  <a:pt x="229191" y="326958"/>
                  <a:pt x="218674" y="334446"/>
                  <a:pt x="205717" y="340000"/>
                </a:cubicBezTo>
                <a:cubicBezTo>
                  <a:pt x="192759" y="345553"/>
                  <a:pt x="176689" y="348329"/>
                  <a:pt x="157506" y="348329"/>
                </a:cubicBezTo>
                <a:lnTo>
                  <a:pt x="58560" y="348329"/>
                </a:lnTo>
                <a:cubicBezTo>
                  <a:pt x="49810" y="348329"/>
                  <a:pt x="41817" y="347404"/>
                  <a:pt x="34581" y="345553"/>
                </a:cubicBezTo>
                <a:cubicBezTo>
                  <a:pt x="27345" y="343702"/>
                  <a:pt x="21203" y="340420"/>
                  <a:pt x="16155" y="335709"/>
                </a:cubicBezTo>
                <a:cubicBezTo>
                  <a:pt x="11107" y="330997"/>
                  <a:pt x="7152" y="325191"/>
                  <a:pt x="4291" y="318292"/>
                </a:cubicBezTo>
                <a:cubicBezTo>
                  <a:pt x="1431" y="311393"/>
                  <a:pt x="0" y="302558"/>
                  <a:pt x="0" y="291789"/>
                </a:cubicBezTo>
                <a:lnTo>
                  <a:pt x="0" y="52502"/>
                </a:lnTo>
                <a:cubicBezTo>
                  <a:pt x="0" y="43751"/>
                  <a:pt x="1178" y="36179"/>
                  <a:pt x="3534" y="29785"/>
                </a:cubicBezTo>
                <a:cubicBezTo>
                  <a:pt x="5890" y="23390"/>
                  <a:pt x="9087" y="18005"/>
                  <a:pt x="13126" y="13630"/>
                </a:cubicBezTo>
                <a:cubicBezTo>
                  <a:pt x="21876" y="4543"/>
                  <a:pt x="35170" y="0"/>
                  <a:pt x="5300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任意多边形 18"/>
          <p:cNvSpPr/>
          <p:nvPr/>
        </p:nvSpPr>
        <p:spPr>
          <a:xfrm>
            <a:off x="5886360" y="2346480"/>
            <a:ext cx="2525760" cy="361800"/>
          </a:xfrm>
          <a:custGeom>
            <a:avLst/>
            <a:gdLst/>
            <a:ahLst/>
            <a:rect l="l" t="t" r="r" b="b"/>
            <a:pathLst>
              <a:path w="2525889" h="362068">
                <a:moveTo>
                  <a:pt x="2285088" y="27198"/>
                </a:moveTo>
                <a:cubicBezTo>
                  <a:pt x="2276338" y="27198"/>
                  <a:pt x="2269186" y="30395"/>
                  <a:pt x="2263633" y="36789"/>
                </a:cubicBezTo>
                <a:cubicBezTo>
                  <a:pt x="2258080" y="43184"/>
                  <a:pt x="2255303" y="50756"/>
                  <a:pt x="2255303" y="59507"/>
                </a:cubicBezTo>
                <a:lnTo>
                  <a:pt x="2255303" y="298794"/>
                </a:lnTo>
                <a:cubicBezTo>
                  <a:pt x="2255303" y="310909"/>
                  <a:pt x="2258080" y="319744"/>
                  <a:pt x="2263633" y="325297"/>
                </a:cubicBezTo>
                <a:cubicBezTo>
                  <a:pt x="2269186" y="330850"/>
                  <a:pt x="2277684" y="333626"/>
                  <a:pt x="2289127" y="333626"/>
                </a:cubicBezTo>
                <a:lnTo>
                  <a:pt x="2386053" y="333626"/>
                </a:lnTo>
                <a:cubicBezTo>
                  <a:pt x="2399179" y="333626"/>
                  <a:pt x="2411379" y="332364"/>
                  <a:pt x="2422653" y="329840"/>
                </a:cubicBezTo>
                <a:cubicBezTo>
                  <a:pt x="2433927" y="327316"/>
                  <a:pt x="2443940" y="323193"/>
                  <a:pt x="2452690" y="317472"/>
                </a:cubicBezTo>
                <a:cubicBezTo>
                  <a:pt x="2461440" y="312087"/>
                  <a:pt x="2469013" y="305188"/>
                  <a:pt x="2475407" y="296774"/>
                </a:cubicBezTo>
                <a:cubicBezTo>
                  <a:pt x="2481802" y="288361"/>
                  <a:pt x="2486850" y="278096"/>
                  <a:pt x="2490552" y="265980"/>
                </a:cubicBezTo>
                <a:cubicBezTo>
                  <a:pt x="2493918" y="255210"/>
                  <a:pt x="2496357" y="242253"/>
                  <a:pt x="2497872" y="227108"/>
                </a:cubicBezTo>
                <a:cubicBezTo>
                  <a:pt x="2499386" y="211964"/>
                  <a:pt x="2500143" y="196146"/>
                  <a:pt x="2500143" y="179655"/>
                </a:cubicBezTo>
                <a:cubicBezTo>
                  <a:pt x="2500143" y="163837"/>
                  <a:pt x="2499386" y="148608"/>
                  <a:pt x="2497872" y="133968"/>
                </a:cubicBezTo>
                <a:cubicBezTo>
                  <a:pt x="2496357" y="119328"/>
                  <a:pt x="2494086" y="106792"/>
                  <a:pt x="2491057" y="96359"/>
                </a:cubicBezTo>
                <a:cubicBezTo>
                  <a:pt x="2487355" y="84579"/>
                  <a:pt x="2482475" y="74146"/>
                  <a:pt x="2476417" y="65060"/>
                </a:cubicBezTo>
                <a:cubicBezTo>
                  <a:pt x="2470359" y="55973"/>
                  <a:pt x="2462113" y="48400"/>
                  <a:pt x="2451680" y="42342"/>
                </a:cubicBezTo>
                <a:cubicBezTo>
                  <a:pt x="2443603" y="37631"/>
                  <a:pt x="2434011" y="33929"/>
                  <a:pt x="2422905" y="31236"/>
                </a:cubicBezTo>
                <a:cubicBezTo>
                  <a:pt x="2411799" y="28544"/>
                  <a:pt x="2399011" y="27198"/>
                  <a:pt x="2384538" y="27198"/>
                </a:cubicBezTo>
                <a:close/>
                <a:moveTo>
                  <a:pt x="487549" y="22149"/>
                </a:moveTo>
                <a:cubicBezTo>
                  <a:pt x="468366" y="22823"/>
                  <a:pt x="451622" y="26945"/>
                  <a:pt x="437319" y="34518"/>
                </a:cubicBezTo>
                <a:cubicBezTo>
                  <a:pt x="423016" y="42090"/>
                  <a:pt x="410479" y="52102"/>
                  <a:pt x="399710" y="64555"/>
                </a:cubicBezTo>
                <a:cubicBezTo>
                  <a:pt x="385911" y="80709"/>
                  <a:pt x="375562" y="100061"/>
                  <a:pt x="368663" y="122610"/>
                </a:cubicBezTo>
                <a:cubicBezTo>
                  <a:pt x="361764" y="145158"/>
                  <a:pt x="358650" y="168044"/>
                  <a:pt x="359324" y="191266"/>
                </a:cubicBezTo>
                <a:cubicBezTo>
                  <a:pt x="359660" y="208766"/>
                  <a:pt x="362016" y="225762"/>
                  <a:pt x="366391" y="242253"/>
                </a:cubicBezTo>
                <a:cubicBezTo>
                  <a:pt x="370766" y="258744"/>
                  <a:pt x="377329" y="273721"/>
                  <a:pt x="386079" y="287183"/>
                </a:cubicBezTo>
                <a:cubicBezTo>
                  <a:pt x="396849" y="303337"/>
                  <a:pt x="410647" y="316210"/>
                  <a:pt x="427475" y="325802"/>
                </a:cubicBezTo>
                <a:cubicBezTo>
                  <a:pt x="444302" y="335393"/>
                  <a:pt x="464327" y="340358"/>
                  <a:pt x="487549" y="340694"/>
                </a:cubicBezTo>
                <a:cubicBezTo>
                  <a:pt x="510098" y="341031"/>
                  <a:pt x="529954" y="336403"/>
                  <a:pt x="547118" y="326811"/>
                </a:cubicBezTo>
                <a:cubicBezTo>
                  <a:pt x="564283" y="317220"/>
                  <a:pt x="578418" y="304347"/>
                  <a:pt x="589524" y="288192"/>
                </a:cubicBezTo>
                <a:cubicBezTo>
                  <a:pt x="599284" y="274057"/>
                  <a:pt x="606520" y="258071"/>
                  <a:pt x="611231" y="240234"/>
                </a:cubicBezTo>
                <a:cubicBezTo>
                  <a:pt x="615943" y="222397"/>
                  <a:pt x="618467" y="203886"/>
                  <a:pt x="618804" y="184703"/>
                </a:cubicBezTo>
                <a:cubicBezTo>
                  <a:pt x="619140" y="161481"/>
                  <a:pt x="616027" y="138932"/>
                  <a:pt x="609464" y="117057"/>
                </a:cubicBezTo>
                <a:cubicBezTo>
                  <a:pt x="602902" y="95181"/>
                  <a:pt x="593058" y="76334"/>
                  <a:pt x="579932" y="60516"/>
                </a:cubicBezTo>
                <a:cubicBezTo>
                  <a:pt x="569499" y="48064"/>
                  <a:pt x="556710" y="38388"/>
                  <a:pt x="541565" y="31489"/>
                </a:cubicBezTo>
                <a:cubicBezTo>
                  <a:pt x="526421" y="24589"/>
                  <a:pt x="508415" y="21476"/>
                  <a:pt x="487549" y="22149"/>
                </a:cubicBezTo>
                <a:close/>
                <a:moveTo>
                  <a:pt x="2285593" y="6500"/>
                </a:moveTo>
                <a:lnTo>
                  <a:pt x="2374947" y="6500"/>
                </a:lnTo>
                <a:cubicBezTo>
                  <a:pt x="2390765" y="6500"/>
                  <a:pt x="2405825" y="7510"/>
                  <a:pt x="2420129" y="9529"/>
                </a:cubicBezTo>
                <a:cubicBezTo>
                  <a:pt x="2434432" y="11548"/>
                  <a:pt x="2447810" y="15418"/>
                  <a:pt x="2460262" y="21140"/>
                </a:cubicBezTo>
                <a:cubicBezTo>
                  <a:pt x="2473724" y="27534"/>
                  <a:pt x="2484662" y="35696"/>
                  <a:pt x="2493076" y="45624"/>
                </a:cubicBezTo>
                <a:cubicBezTo>
                  <a:pt x="2501490" y="55552"/>
                  <a:pt x="2508052" y="66742"/>
                  <a:pt x="2512764" y="79195"/>
                </a:cubicBezTo>
                <a:cubicBezTo>
                  <a:pt x="2517476" y="91310"/>
                  <a:pt x="2520841" y="106203"/>
                  <a:pt x="2522861" y="123872"/>
                </a:cubicBezTo>
                <a:cubicBezTo>
                  <a:pt x="2524880" y="141541"/>
                  <a:pt x="2525889" y="159798"/>
                  <a:pt x="2525889" y="178645"/>
                </a:cubicBezTo>
                <a:cubicBezTo>
                  <a:pt x="2525889" y="197492"/>
                  <a:pt x="2524796" y="215582"/>
                  <a:pt x="2522608" y="232914"/>
                </a:cubicBezTo>
                <a:cubicBezTo>
                  <a:pt x="2520421" y="250246"/>
                  <a:pt x="2517307" y="265139"/>
                  <a:pt x="2513269" y="277591"/>
                </a:cubicBezTo>
                <a:cubicBezTo>
                  <a:pt x="2508894" y="290380"/>
                  <a:pt x="2502920" y="301991"/>
                  <a:pt x="2495348" y="312424"/>
                </a:cubicBezTo>
                <a:cubicBezTo>
                  <a:pt x="2487775" y="322857"/>
                  <a:pt x="2477595" y="331439"/>
                  <a:pt x="2464806" y="338170"/>
                </a:cubicBezTo>
                <a:cubicBezTo>
                  <a:pt x="2454709" y="343555"/>
                  <a:pt x="2442930" y="347677"/>
                  <a:pt x="2429468" y="350538"/>
                </a:cubicBezTo>
                <a:cubicBezTo>
                  <a:pt x="2416006" y="353399"/>
                  <a:pt x="2400356" y="354829"/>
                  <a:pt x="2382519" y="354829"/>
                </a:cubicBezTo>
                <a:lnTo>
                  <a:pt x="2291651" y="354829"/>
                </a:lnTo>
                <a:cubicBezTo>
                  <a:pt x="2281554" y="354829"/>
                  <a:pt x="2272552" y="353735"/>
                  <a:pt x="2264643" y="351548"/>
                </a:cubicBezTo>
                <a:cubicBezTo>
                  <a:pt x="2256734" y="349360"/>
                  <a:pt x="2250087" y="345742"/>
                  <a:pt x="2244702" y="340694"/>
                </a:cubicBezTo>
                <a:cubicBezTo>
                  <a:pt x="2239991" y="335982"/>
                  <a:pt x="2236457" y="330177"/>
                  <a:pt x="2234101" y="323278"/>
                </a:cubicBezTo>
                <a:cubicBezTo>
                  <a:pt x="2231745" y="316378"/>
                  <a:pt x="2230567" y="307712"/>
                  <a:pt x="2230567" y="297279"/>
                </a:cubicBezTo>
                <a:lnTo>
                  <a:pt x="2230567" y="61021"/>
                </a:lnTo>
                <a:cubicBezTo>
                  <a:pt x="2230567" y="53280"/>
                  <a:pt x="2231661" y="46381"/>
                  <a:pt x="2233848" y="40323"/>
                </a:cubicBezTo>
                <a:cubicBezTo>
                  <a:pt x="2236036" y="34265"/>
                  <a:pt x="2238981" y="28880"/>
                  <a:pt x="2242683" y="24169"/>
                </a:cubicBezTo>
                <a:cubicBezTo>
                  <a:pt x="2251769" y="12390"/>
                  <a:pt x="2266073" y="6500"/>
                  <a:pt x="2285593" y="6500"/>
                </a:cubicBezTo>
                <a:close/>
                <a:moveTo>
                  <a:pt x="2015426" y="6500"/>
                </a:moveTo>
                <a:lnTo>
                  <a:pt x="2200697" y="6500"/>
                </a:lnTo>
                <a:lnTo>
                  <a:pt x="2200697" y="27198"/>
                </a:lnTo>
                <a:lnTo>
                  <a:pt x="2013407" y="27198"/>
                </a:lnTo>
                <a:cubicBezTo>
                  <a:pt x="1990521" y="27198"/>
                  <a:pt x="1979078" y="38809"/>
                  <a:pt x="1979078" y="62031"/>
                </a:cubicBezTo>
                <a:lnTo>
                  <a:pt x="1979078" y="164005"/>
                </a:lnTo>
                <a:lnTo>
                  <a:pt x="2187571" y="164005"/>
                </a:lnTo>
                <a:lnTo>
                  <a:pt x="2187571" y="185208"/>
                </a:lnTo>
                <a:lnTo>
                  <a:pt x="1979078" y="185208"/>
                </a:lnTo>
                <a:lnTo>
                  <a:pt x="1979078" y="298289"/>
                </a:lnTo>
                <a:cubicBezTo>
                  <a:pt x="1979078" y="310068"/>
                  <a:pt x="1981855" y="318902"/>
                  <a:pt x="1987408" y="324792"/>
                </a:cubicBezTo>
                <a:cubicBezTo>
                  <a:pt x="1992961" y="330682"/>
                  <a:pt x="2001964" y="333626"/>
                  <a:pt x="2014416" y="333626"/>
                </a:cubicBezTo>
                <a:lnTo>
                  <a:pt x="2200697" y="333626"/>
                </a:lnTo>
                <a:lnTo>
                  <a:pt x="2200697" y="354829"/>
                </a:lnTo>
                <a:lnTo>
                  <a:pt x="2011387" y="354829"/>
                </a:lnTo>
                <a:cubicBezTo>
                  <a:pt x="1992204" y="354829"/>
                  <a:pt x="1977732" y="349781"/>
                  <a:pt x="1967972" y="339684"/>
                </a:cubicBezTo>
                <a:cubicBezTo>
                  <a:pt x="1958885" y="330598"/>
                  <a:pt x="1954342" y="316967"/>
                  <a:pt x="1954342" y="298794"/>
                </a:cubicBezTo>
                <a:lnTo>
                  <a:pt x="1954342" y="64555"/>
                </a:lnTo>
                <a:cubicBezTo>
                  <a:pt x="1954342" y="43016"/>
                  <a:pt x="1959895" y="27703"/>
                  <a:pt x="1971001" y="18616"/>
                </a:cubicBezTo>
                <a:cubicBezTo>
                  <a:pt x="1980425" y="10538"/>
                  <a:pt x="1995233" y="6500"/>
                  <a:pt x="2015426" y="6500"/>
                </a:cubicBezTo>
                <a:close/>
                <a:moveTo>
                  <a:pt x="1669097" y="6500"/>
                </a:moveTo>
                <a:lnTo>
                  <a:pt x="1693833" y="6500"/>
                </a:lnTo>
                <a:lnTo>
                  <a:pt x="1693833" y="253359"/>
                </a:lnTo>
                <a:cubicBezTo>
                  <a:pt x="1693833" y="265475"/>
                  <a:pt x="1695937" y="276329"/>
                  <a:pt x="1700144" y="285921"/>
                </a:cubicBezTo>
                <a:cubicBezTo>
                  <a:pt x="1704351" y="295512"/>
                  <a:pt x="1709819" y="303842"/>
                  <a:pt x="1716550" y="310909"/>
                </a:cubicBezTo>
                <a:cubicBezTo>
                  <a:pt x="1725301" y="319996"/>
                  <a:pt x="1735565" y="326895"/>
                  <a:pt x="1747345" y="331607"/>
                </a:cubicBezTo>
                <a:cubicBezTo>
                  <a:pt x="1759124" y="336319"/>
                  <a:pt x="1771745" y="339011"/>
                  <a:pt x="1785206" y="339684"/>
                </a:cubicBezTo>
                <a:cubicBezTo>
                  <a:pt x="1799342" y="340358"/>
                  <a:pt x="1812804" y="338843"/>
                  <a:pt x="1825593" y="335141"/>
                </a:cubicBezTo>
                <a:cubicBezTo>
                  <a:pt x="1838381" y="331439"/>
                  <a:pt x="1849993" y="325549"/>
                  <a:pt x="1860425" y="317472"/>
                </a:cubicBezTo>
                <a:cubicBezTo>
                  <a:pt x="1869512" y="310068"/>
                  <a:pt x="1876832" y="301065"/>
                  <a:pt x="1882385" y="290464"/>
                </a:cubicBezTo>
                <a:cubicBezTo>
                  <a:pt x="1887939" y="279863"/>
                  <a:pt x="1890715" y="267494"/>
                  <a:pt x="1890715" y="253359"/>
                </a:cubicBezTo>
                <a:lnTo>
                  <a:pt x="1890715" y="6500"/>
                </a:lnTo>
                <a:lnTo>
                  <a:pt x="1915452" y="6500"/>
                </a:lnTo>
                <a:lnTo>
                  <a:pt x="1915452" y="257903"/>
                </a:lnTo>
                <a:cubicBezTo>
                  <a:pt x="1915452" y="276413"/>
                  <a:pt x="1911581" y="292231"/>
                  <a:pt x="1903840" y="305356"/>
                </a:cubicBezTo>
                <a:cubicBezTo>
                  <a:pt x="1896100" y="318482"/>
                  <a:pt x="1885835" y="329420"/>
                  <a:pt x="1873046" y="338170"/>
                </a:cubicBezTo>
                <a:cubicBezTo>
                  <a:pt x="1860930" y="346584"/>
                  <a:pt x="1847216" y="352642"/>
                  <a:pt x="1831903" y="356344"/>
                </a:cubicBezTo>
                <a:cubicBezTo>
                  <a:pt x="1816590" y="360046"/>
                  <a:pt x="1801024" y="361560"/>
                  <a:pt x="1785206" y="360887"/>
                </a:cubicBezTo>
                <a:cubicBezTo>
                  <a:pt x="1768042" y="360214"/>
                  <a:pt x="1751552" y="356764"/>
                  <a:pt x="1735734" y="350538"/>
                </a:cubicBezTo>
                <a:cubicBezTo>
                  <a:pt x="1719916" y="344312"/>
                  <a:pt x="1706454" y="335478"/>
                  <a:pt x="1695348" y="324035"/>
                </a:cubicBezTo>
                <a:cubicBezTo>
                  <a:pt x="1687270" y="315621"/>
                  <a:pt x="1680876" y="306029"/>
                  <a:pt x="1676164" y="295260"/>
                </a:cubicBezTo>
                <a:cubicBezTo>
                  <a:pt x="1671453" y="284490"/>
                  <a:pt x="1669097" y="272038"/>
                  <a:pt x="1669097" y="257903"/>
                </a:cubicBezTo>
                <a:close/>
                <a:moveTo>
                  <a:pt x="1383347" y="6500"/>
                </a:moveTo>
                <a:lnTo>
                  <a:pt x="1410103" y="6500"/>
                </a:lnTo>
                <a:lnTo>
                  <a:pt x="1607994" y="319491"/>
                </a:lnTo>
                <a:lnTo>
                  <a:pt x="1607994" y="6500"/>
                </a:lnTo>
                <a:lnTo>
                  <a:pt x="1632730" y="6500"/>
                </a:lnTo>
                <a:lnTo>
                  <a:pt x="1632730" y="354829"/>
                </a:lnTo>
                <a:lnTo>
                  <a:pt x="1602946" y="354829"/>
                </a:lnTo>
                <a:lnTo>
                  <a:pt x="1408083" y="45876"/>
                </a:lnTo>
                <a:lnTo>
                  <a:pt x="1408083" y="354829"/>
                </a:lnTo>
                <a:lnTo>
                  <a:pt x="1383347" y="354829"/>
                </a:lnTo>
                <a:close/>
                <a:moveTo>
                  <a:pt x="1298260" y="6500"/>
                </a:moveTo>
                <a:lnTo>
                  <a:pt x="1323501" y="6500"/>
                </a:lnTo>
                <a:lnTo>
                  <a:pt x="1323501" y="354829"/>
                </a:lnTo>
                <a:lnTo>
                  <a:pt x="1298260" y="354829"/>
                </a:lnTo>
                <a:close/>
                <a:moveTo>
                  <a:pt x="961723" y="6500"/>
                </a:moveTo>
                <a:lnTo>
                  <a:pt x="1243415" y="6500"/>
                </a:lnTo>
                <a:lnTo>
                  <a:pt x="1243415" y="27198"/>
                </a:lnTo>
                <a:lnTo>
                  <a:pt x="1113675" y="27198"/>
                </a:lnTo>
                <a:lnTo>
                  <a:pt x="1113675" y="354829"/>
                </a:lnTo>
                <a:lnTo>
                  <a:pt x="1088939" y="354829"/>
                </a:lnTo>
                <a:lnTo>
                  <a:pt x="1088939" y="27198"/>
                </a:lnTo>
                <a:lnTo>
                  <a:pt x="961723" y="27198"/>
                </a:lnTo>
                <a:close/>
                <a:moveTo>
                  <a:pt x="678497" y="6500"/>
                </a:moveTo>
                <a:lnTo>
                  <a:pt x="705252" y="6500"/>
                </a:lnTo>
                <a:lnTo>
                  <a:pt x="903144" y="319491"/>
                </a:lnTo>
                <a:lnTo>
                  <a:pt x="903144" y="6500"/>
                </a:lnTo>
                <a:lnTo>
                  <a:pt x="927881" y="6500"/>
                </a:lnTo>
                <a:lnTo>
                  <a:pt x="927881" y="354829"/>
                </a:lnTo>
                <a:lnTo>
                  <a:pt x="898096" y="354829"/>
                </a:lnTo>
                <a:lnTo>
                  <a:pt x="703233" y="45876"/>
                </a:lnTo>
                <a:lnTo>
                  <a:pt x="703233" y="354829"/>
                </a:lnTo>
                <a:lnTo>
                  <a:pt x="678497" y="354829"/>
                </a:lnTo>
                <a:close/>
                <a:moveTo>
                  <a:pt x="487549" y="947"/>
                </a:moveTo>
                <a:cubicBezTo>
                  <a:pt x="511781" y="274"/>
                  <a:pt x="532899" y="3808"/>
                  <a:pt x="550905" y="11548"/>
                </a:cubicBezTo>
                <a:cubicBezTo>
                  <a:pt x="568910" y="19289"/>
                  <a:pt x="584139" y="30058"/>
                  <a:pt x="596591" y="43857"/>
                </a:cubicBezTo>
                <a:cubicBezTo>
                  <a:pt x="604668" y="52271"/>
                  <a:pt x="611652" y="61946"/>
                  <a:pt x="617542" y="72884"/>
                </a:cubicBezTo>
                <a:cubicBezTo>
                  <a:pt x="623431" y="83822"/>
                  <a:pt x="628311" y="95433"/>
                  <a:pt x="632181" y="107717"/>
                </a:cubicBezTo>
                <a:cubicBezTo>
                  <a:pt x="636052" y="120001"/>
                  <a:pt x="638997" y="132790"/>
                  <a:pt x="641016" y="146084"/>
                </a:cubicBezTo>
                <a:cubicBezTo>
                  <a:pt x="643035" y="159378"/>
                  <a:pt x="644045" y="172756"/>
                  <a:pt x="644045" y="186218"/>
                </a:cubicBezTo>
                <a:cubicBezTo>
                  <a:pt x="644045" y="207757"/>
                  <a:pt x="641353" y="228707"/>
                  <a:pt x="635968" y="249068"/>
                </a:cubicBezTo>
                <a:cubicBezTo>
                  <a:pt x="630583" y="269430"/>
                  <a:pt x="622337" y="287351"/>
                  <a:pt x="611231" y="302832"/>
                </a:cubicBezTo>
                <a:cubicBezTo>
                  <a:pt x="598442" y="320333"/>
                  <a:pt x="582036" y="334384"/>
                  <a:pt x="562011" y="344985"/>
                </a:cubicBezTo>
                <a:cubicBezTo>
                  <a:pt x="541986" y="355586"/>
                  <a:pt x="517166" y="361055"/>
                  <a:pt x="487549" y="361392"/>
                </a:cubicBezTo>
                <a:cubicBezTo>
                  <a:pt x="458606" y="361728"/>
                  <a:pt x="433869" y="356175"/>
                  <a:pt x="413340" y="344733"/>
                </a:cubicBezTo>
                <a:cubicBezTo>
                  <a:pt x="392810" y="333290"/>
                  <a:pt x="376151" y="317472"/>
                  <a:pt x="363362" y="297279"/>
                </a:cubicBezTo>
                <a:cubicBezTo>
                  <a:pt x="353602" y="281798"/>
                  <a:pt x="346366" y="264634"/>
                  <a:pt x="341655" y="245787"/>
                </a:cubicBezTo>
                <a:cubicBezTo>
                  <a:pt x="336943" y="226940"/>
                  <a:pt x="334419" y="207589"/>
                  <a:pt x="334082" y="187732"/>
                </a:cubicBezTo>
                <a:cubicBezTo>
                  <a:pt x="333746" y="162827"/>
                  <a:pt x="337111" y="138596"/>
                  <a:pt x="344179" y="115037"/>
                </a:cubicBezTo>
                <a:cubicBezTo>
                  <a:pt x="351246" y="91479"/>
                  <a:pt x="362353" y="70781"/>
                  <a:pt x="377497" y="52944"/>
                </a:cubicBezTo>
                <a:cubicBezTo>
                  <a:pt x="390286" y="37462"/>
                  <a:pt x="405936" y="25094"/>
                  <a:pt x="424446" y="15839"/>
                </a:cubicBezTo>
                <a:cubicBezTo>
                  <a:pt x="442956" y="6584"/>
                  <a:pt x="463991" y="1620"/>
                  <a:pt x="487549" y="947"/>
                </a:cubicBezTo>
                <a:close/>
                <a:moveTo>
                  <a:pt x="145087" y="442"/>
                </a:moveTo>
                <a:cubicBezTo>
                  <a:pt x="183117" y="-1914"/>
                  <a:pt x="215426" y="5154"/>
                  <a:pt x="242014" y="21645"/>
                </a:cubicBezTo>
                <a:cubicBezTo>
                  <a:pt x="256149" y="30395"/>
                  <a:pt x="268012" y="42174"/>
                  <a:pt x="277604" y="56982"/>
                </a:cubicBezTo>
                <a:cubicBezTo>
                  <a:pt x="287196" y="71791"/>
                  <a:pt x="294347" y="88786"/>
                  <a:pt x="299059" y="107970"/>
                </a:cubicBezTo>
                <a:lnTo>
                  <a:pt x="269779" y="107970"/>
                </a:lnTo>
                <a:cubicBezTo>
                  <a:pt x="262038" y="77344"/>
                  <a:pt x="247735" y="54627"/>
                  <a:pt x="226869" y="39818"/>
                </a:cubicBezTo>
                <a:cubicBezTo>
                  <a:pt x="206003" y="25010"/>
                  <a:pt x="179584" y="18616"/>
                  <a:pt x="147611" y="20635"/>
                </a:cubicBezTo>
                <a:cubicBezTo>
                  <a:pt x="130447" y="21645"/>
                  <a:pt x="113872" y="26609"/>
                  <a:pt x="97886" y="35527"/>
                </a:cubicBezTo>
                <a:cubicBezTo>
                  <a:pt x="81900" y="44446"/>
                  <a:pt x="68017" y="56982"/>
                  <a:pt x="56238" y="73137"/>
                </a:cubicBezTo>
                <a:cubicBezTo>
                  <a:pt x="46142" y="86935"/>
                  <a:pt x="38317" y="103847"/>
                  <a:pt x="32764" y="123872"/>
                </a:cubicBezTo>
                <a:cubicBezTo>
                  <a:pt x="27211" y="143896"/>
                  <a:pt x="24771" y="165183"/>
                  <a:pt x="25444" y="187732"/>
                </a:cubicBezTo>
                <a:cubicBezTo>
                  <a:pt x="26117" y="208262"/>
                  <a:pt x="29146" y="228202"/>
                  <a:pt x="34531" y="247554"/>
                </a:cubicBezTo>
                <a:cubicBezTo>
                  <a:pt x="39915" y="266905"/>
                  <a:pt x="48161" y="283817"/>
                  <a:pt x="59267" y="298289"/>
                </a:cubicBezTo>
                <a:cubicBezTo>
                  <a:pt x="70373" y="312424"/>
                  <a:pt x="84172" y="323446"/>
                  <a:pt x="100663" y="331355"/>
                </a:cubicBezTo>
                <a:cubicBezTo>
                  <a:pt x="117154" y="339264"/>
                  <a:pt x="137010" y="342545"/>
                  <a:pt x="160232" y="341199"/>
                </a:cubicBezTo>
                <a:cubicBezTo>
                  <a:pt x="190522" y="339853"/>
                  <a:pt x="214921" y="331607"/>
                  <a:pt x="233432" y="316462"/>
                </a:cubicBezTo>
                <a:cubicBezTo>
                  <a:pt x="243865" y="308049"/>
                  <a:pt x="252952" y="297616"/>
                  <a:pt x="260692" y="285163"/>
                </a:cubicBezTo>
                <a:cubicBezTo>
                  <a:pt x="268433" y="272711"/>
                  <a:pt x="273649" y="258239"/>
                  <a:pt x="276342" y="241748"/>
                </a:cubicBezTo>
                <a:lnTo>
                  <a:pt x="303602" y="241748"/>
                </a:lnTo>
                <a:cubicBezTo>
                  <a:pt x="301583" y="257903"/>
                  <a:pt x="297040" y="272543"/>
                  <a:pt x="289972" y="285668"/>
                </a:cubicBezTo>
                <a:cubicBezTo>
                  <a:pt x="282905" y="298794"/>
                  <a:pt x="274659" y="310236"/>
                  <a:pt x="265236" y="319996"/>
                </a:cubicBezTo>
                <a:cubicBezTo>
                  <a:pt x="252447" y="333122"/>
                  <a:pt x="237302" y="343218"/>
                  <a:pt x="219801" y="350286"/>
                </a:cubicBezTo>
                <a:cubicBezTo>
                  <a:pt x="202301" y="357353"/>
                  <a:pt x="182613" y="361224"/>
                  <a:pt x="160737" y="361897"/>
                </a:cubicBezTo>
                <a:cubicBezTo>
                  <a:pt x="134149" y="362906"/>
                  <a:pt x="111180" y="359457"/>
                  <a:pt x="91828" y="351548"/>
                </a:cubicBezTo>
                <a:cubicBezTo>
                  <a:pt x="72477" y="343639"/>
                  <a:pt x="56406" y="332280"/>
                  <a:pt x="43617" y="317472"/>
                </a:cubicBezTo>
                <a:cubicBezTo>
                  <a:pt x="29482" y="301654"/>
                  <a:pt x="18965" y="282807"/>
                  <a:pt x="12066" y="260932"/>
                </a:cubicBezTo>
                <a:cubicBezTo>
                  <a:pt x="5167" y="239056"/>
                  <a:pt x="1212" y="215329"/>
                  <a:pt x="203" y="189751"/>
                </a:cubicBezTo>
                <a:cubicBezTo>
                  <a:pt x="-807" y="163837"/>
                  <a:pt x="1969" y="139605"/>
                  <a:pt x="8532" y="117057"/>
                </a:cubicBezTo>
                <a:cubicBezTo>
                  <a:pt x="15095" y="94508"/>
                  <a:pt x="24266" y="75493"/>
                  <a:pt x="36045" y="60011"/>
                </a:cubicBezTo>
                <a:cubicBezTo>
                  <a:pt x="50180" y="41838"/>
                  <a:pt x="66755" y="27703"/>
                  <a:pt x="85770" y="17606"/>
                </a:cubicBezTo>
                <a:cubicBezTo>
                  <a:pt x="104785" y="7510"/>
                  <a:pt x="124558" y="1788"/>
                  <a:pt x="145087" y="4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0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3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3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3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23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b6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128"/>
          <p:cNvSpPr/>
          <p:nvPr/>
        </p:nvSpPr>
        <p:spPr>
          <a:xfrm>
            <a:off x="1125360" y="976320"/>
            <a:ext cx="1316160" cy="407880"/>
          </a:xfrm>
          <a:custGeom>
            <a:avLst/>
            <a:gdLst/>
            <a:ahLst/>
            <a:rect l="l" t="t" r="r" b="b"/>
            <a:pathLst>
              <a:path w="13172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21482" y="17748"/>
                </a:moveTo>
                <a:lnTo>
                  <a:pt x="1317278" y="17748"/>
                </a:lnTo>
                <a:lnTo>
                  <a:pt x="1317278" y="222833"/>
                </a:lnTo>
                <a:lnTo>
                  <a:pt x="1074725" y="222833"/>
                </a:lnTo>
                <a:lnTo>
                  <a:pt x="1074725" y="339180"/>
                </a:lnTo>
                <a:lnTo>
                  <a:pt x="1317278" y="339180"/>
                </a:lnTo>
                <a:lnTo>
                  <a:pt x="1317278" y="384535"/>
                </a:lnTo>
                <a:lnTo>
                  <a:pt x="1017538" y="384535"/>
                </a:lnTo>
                <a:lnTo>
                  <a:pt x="1017538" y="177478"/>
                </a:lnTo>
                <a:lnTo>
                  <a:pt x="1262062" y="177478"/>
                </a:lnTo>
                <a:lnTo>
                  <a:pt x="1262062" y="63103"/>
                </a:lnTo>
                <a:lnTo>
                  <a:pt x="1021482" y="63103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6926400" y="4389480"/>
            <a:ext cx="2146320" cy="1042920"/>
          </a:xfrm>
          <a:custGeom>
            <a:avLst/>
            <a:gdLst/>
            <a:ahLst/>
            <a:rect l="l" t="t" r="r" b="b"/>
            <a:pathLst>
              <a:path w="1227" h="596">
                <a:moveTo>
                  <a:pt x="474" y="0"/>
                </a:moveTo>
                <a:lnTo>
                  <a:pt x="381" y="360"/>
                </a:lnTo>
                <a:lnTo>
                  <a:pt x="0" y="518"/>
                </a:lnTo>
                <a:lnTo>
                  <a:pt x="0" y="596"/>
                </a:lnTo>
                <a:lnTo>
                  <a:pt x="1227" y="555"/>
                </a:lnTo>
                <a:lnTo>
                  <a:pt x="1227" y="471"/>
                </a:lnTo>
                <a:lnTo>
                  <a:pt x="846" y="337"/>
                </a:lnTo>
                <a:lnTo>
                  <a:pt x="750" y="0"/>
                </a:lnTo>
                <a:lnTo>
                  <a:pt x="474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6"/>
          <p:cNvSpPr/>
          <p:nvPr/>
        </p:nvSpPr>
        <p:spPr>
          <a:xfrm>
            <a:off x="6926400" y="5181480"/>
            <a:ext cx="2146320" cy="250920"/>
          </a:xfrm>
          <a:custGeom>
            <a:avLst/>
            <a:gdLst/>
            <a:ahLst/>
            <a:rect l="l" t="t" r="r" b="b"/>
            <a:pathLst>
              <a:path w="1021" h="120">
                <a:moveTo>
                  <a:pt x="798" y="39"/>
                </a:moveTo>
                <a:cubicBezTo>
                  <a:pt x="704" y="62"/>
                  <a:pt x="611" y="63"/>
                  <a:pt x="514" y="65"/>
                </a:cubicBezTo>
                <a:cubicBezTo>
                  <a:pt x="411" y="67"/>
                  <a:pt x="308" y="76"/>
                  <a:pt x="205" y="66"/>
                </a:cubicBezTo>
                <a:cubicBezTo>
                  <a:pt x="138" y="59"/>
                  <a:pt x="67" y="66"/>
                  <a:pt x="0" y="75"/>
                </a:cubicBezTo>
                <a:cubicBezTo>
                  <a:pt x="0" y="120"/>
                  <a:pt x="0" y="120"/>
                  <a:pt x="0" y="120"/>
                </a:cubicBezTo>
                <a:cubicBezTo>
                  <a:pt x="1021" y="86"/>
                  <a:pt x="1021" y="86"/>
                  <a:pt x="1021" y="86"/>
                </a:cubicBezTo>
                <a:cubicBezTo>
                  <a:pt x="1021" y="16"/>
                  <a:pt x="1021" y="16"/>
                  <a:pt x="1021" y="16"/>
                </a:cubicBezTo>
                <a:cubicBezTo>
                  <a:pt x="976" y="0"/>
                  <a:pt x="976" y="0"/>
                  <a:pt x="976" y="0"/>
                </a:cubicBezTo>
                <a:cubicBezTo>
                  <a:pt x="917" y="16"/>
                  <a:pt x="858" y="24"/>
                  <a:pt x="798" y="39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7704000" y="4389480"/>
            <a:ext cx="600120" cy="235080"/>
          </a:xfrm>
          <a:custGeom>
            <a:avLst/>
            <a:gdLst/>
            <a:ahLst/>
            <a:rect l="l" t="t" r="r" b="b"/>
            <a:pathLst>
              <a:path w="286" h="112">
                <a:moveTo>
                  <a:pt x="286" y="110"/>
                </a:moveTo>
                <a:cubicBezTo>
                  <a:pt x="255" y="0"/>
                  <a:pt x="255" y="0"/>
                  <a:pt x="25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0" y="97"/>
                  <a:pt x="0" y="97"/>
                  <a:pt x="0" y="97"/>
                </a:cubicBezTo>
                <a:cubicBezTo>
                  <a:pt x="95" y="106"/>
                  <a:pt x="191" y="112"/>
                  <a:pt x="286" y="110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5668920" y="760320"/>
            <a:ext cx="4529160" cy="3708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9">
            <a:hlinkClick r:id="rId2"/>
          </p:cNvPr>
          <p:cNvSpPr/>
          <p:nvPr/>
        </p:nvSpPr>
        <p:spPr>
          <a:xfrm>
            <a:off x="5789520" y="865080"/>
            <a:ext cx="4286520" cy="3498840"/>
          </a:xfrm>
          <a:prstGeom prst="rect">
            <a:avLst/>
          </a:prstGeom>
          <a:solidFill>
            <a:srgbClr val="bae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1">
            <a:hlinkClick r:id="rId3"/>
          </p:cNvPr>
          <p:cNvSpPr/>
          <p:nvPr/>
        </p:nvSpPr>
        <p:spPr>
          <a:xfrm>
            <a:off x="5789520" y="1670040"/>
            <a:ext cx="4286520" cy="2693880"/>
          </a:xfrm>
          <a:custGeom>
            <a:avLst/>
            <a:gdLst/>
            <a:ahLst/>
            <a:rect l="l" t="t" r="r" b="b"/>
            <a:pathLst>
              <a:path w="2039" h="1282">
                <a:moveTo>
                  <a:pt x="1948" y="14"/>
                </a:moveTo>
                <a:cubicBezTo>
                  <a:pt x="1834" y="38"/>
                  <a:pt x="1730" y="82"/>
                  <a:pt x="1633" y="147"/>
                </a:cubicBezTo>
                <a:cubicBezTo>
                  <a:pt x="1542" y="207"/>
                  <a:pt x="1459" y="276"/>
                  <a:pt x="1371" y="340"/>
                </a:cubicBezTo>
                <a:cubicBezTo>
                  <a:pt x="1282" y="405"/>
                  <a:pt x="1187" y="462"/>
                  <a:pt x="1088" y="511"/>
                </a:cubicBezTo>
                <a:cubicBezTo>
                  <a:pt x="895" y="606"/>
                  <a:pt x="689" y="662"/>
                  <a:pt x="478" y="694"/>
                </a:cubicBezTo>
                <a:cubicBezTo>
                  <a:pt x="320" y="718"/>
                  <a:pt x="159" y="730"/>
                  <a:pt x="0" y="715"/>
                </a:cubicBezTo>
                <a:cubicBezTo>
                  <a:pt x="0" y="1282"/>
                  <a:pt x="0" y="1282"/>
                  <a:pt x="0" y="1282"/>
                </a:cubicBezTo>
                <a:cubicBezTo>
                  <a:pt x="2039" y="1282"/>
                  <a:pt x="2039" y="1282"/>
                  <a:pt x="2039" y="1282"/>
                </a:cubicBezTo>
                <a:cubicBezTo>
                  <a:pt x="2039" y="0"/>
                  <a:pt x="2039" y="0"/>
                  <a:pt x="2039" y="0"/>
                </a:cubicBezTo>
                <a:cubicBezTo>
                  <a:pt x="2008" y="3"/>
                  <a:pt x="1978" y="8"/>
                  <a:pt x="1948" y="14"/>
                </a:cubicBezTo>
                <a:close/>
              </a:path>
            </a:pathLst>
          </a:custGeom>
          <a:solidFill>
            <a:srgbClr val="cf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2"/>
          <p:cNvSpPr/>
          <p:nvPr/>
        </p:nvSpPr>
        <p:spPr>
          <a:xfrm>
            <a:off x="9556920" y="2241720"/>
            <a:ext cx="218880" cy="220320"/>
          </a:xfrm>
          <a:prstGeom prst="ellipse">
            <a:avLst/>
          </a:prstGeom>
          <a:solidFill>
            <a:srgbClr val="63b6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3"/>
          <p:cNvSpPr/>
          <p:nvPr/>
        </p:nvSpPr>
        <p:spPr>
          <a:xfrm>
            <a:off x="9555120" y="2241720"/>
            <a:ext cx="220680" cy="22032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88" y="13"/>
                </a:moveTo>
                <a:cubicBezTo>
                  <a:pt x="88" y="14"/>
                  <a:pt x="87" y="15"/>
                  <a:pt x="86" y="16"/>
                </a:cubicBezTo>
                <a:cubicBezTo>
                  <a:pt x="85" y="17"/>
                  <a:pt x="84" y="19"/>
                  <a:pt x="84" y="20"/>
                </a:cubicBezTo>
                <a:cubicBezTo>
                  <a:pt x="84" y="22"/>
                  <a:pt x="84" y="23"/>
                  <a:pt x="84" y="24"/>
                </a:cubicBezTo>
                <a:cubicBezTo>
                  <a:pt x="84" y="26"/>
                  <a:pt x="83" y="27"/>
                  <a:pt x="83" y="28"/>
                </a:cubicBezTo>
                <a:cubicBezTo>
                  <a:pt x="82" y="30"/>
                  <a:pt x="82" y="31"/>
                  <a:pt x="82" y="32"/>
                </a:cubicBezTo>
                <a:cubicBezTo>
                  <a:pt x="82" y="33"/>
                  <a:pt x="83" y="35"/>
                  <a:pt x="84" y="36"/>
                </a:cubicBezTo>
                <a:cubicBezTo>
                  <a:pt x="85" y="37"/>
                  <a:pt x="87" y="35"/>
                  <a:pt x="88" y="35"/>
                </a:cubicBezTo>
                <a:cubicBezTo>
                  <a:pt x="92" y="35"/>
                  <a:pt x="93" y="40"/>
                  <a:pt x="91" y="43"/>
                </a:cubicBezTo>
                <a:cubicBezTo>
                  <a:pt x="88" y="49"/>
                  <a:pt x="82" y="42"/>
                  <a:pt x="78" y="45"/>
                </a:cubicBezTo>
                <a:cubicBezTo>
                  <a:pt x="77" y="46"/>
                  <a:pt x="75" y="46"/>
                  <a:pt x="75" y="47"/>
                </a:cubicBezTo>
                <a:cubicBezTo>
                  <a:pt x="74" y="48"/>
                  <a:pt x="74" y="49"/>
                  <a:pt x="73" y="49"/>
                </a:cubicBezTo>
                <a:cubicBezTo>
                  <a:pt x="71" y="50"/>
                  <a:pt x="67" y="50"/>
                  <a:pt x="67" y="53"/>
                </a:cubicBezTo>
                <a:cubicBezTo>
                  <a:pt x="67" y="56"/>
                  <a:pt x="73" y="60"/>
                  <a:pt x="70" y="62"/>
                </a:cubicBezTo>
                <a:cubicBezTo>
                  <a:pt x="69" y="64"/>
                  <a:pt x="66" y="64"/>
                  <a:pt x="65" y="66"/>
                </a:cubicBezTo>
                <a:cubicBezTo>
                  <a:pt x="62" y="67"/>
                  <a:pt x="59" y="70"/>
                  <a:pt x="61" y="73"/>
                </a:cubicBezTo>
                <a:cubicBezTo>
                  <a:pt x="62" y="76"/>
                  <a:pt x="66" y="78"/>
                  <a:pt x="69" y="78"/>
                </a:cubicBezTo>
                <a:cubicBezTo>
                  <a:pt x="70" y="77"/>
                  <a:pt x="71" y="77"/>
                  <a:pt x="72" y="77"/>
                </a:cubicBezTo>
                <a:cubicBezTo>
                  <a:pt x="72" y="77"/>
                  <a:pt x="73" y="76"/>
                  <a:pt x="73" y="77"/>
                </a:cubicBezTo>
                <a:cubicBezTo>
                  <a:pt x="74" y="77"/>
                  <a:pt x="74" y="79"/>
                  <a:pt x="73" y="80"/>
                </a:cubicBezTo>
                <a:cubicBezTo>
                  <a:pt x="71" y="82"/>
                  <a:pt x="69" y="83"/>
                  <a:pt x="68" y="85"/>
                </a:cubicBezTo>
                <a:cubicBezTo>
                  <a:pt x="68" y="88"/>
                  <a:pt x="68" y="90"/>
                  <a:pt x="68" y="92"/>
                </a:cubicBezTo>
                <a:cubicBezTo>
                  <a:pt x="67" y="93"/>
                  <a:pt x="67" y="94"/>
                  <a:pt x="65" y="95"/>
                </a:cubicBezTo>
                <a:cubicBezTo>
                  <a:pt x="63" y="98"/>
                  <a:pt x="58" y="98"/>
                  <a:pt x="55" y="98"/>
                </a:cubicBezTo>
                <a:cubicBezTo>
                  <a:pt x="50" y="99"/>
                  <a:pt x="46" y="99"/>
                  <a:pt x="41" y="98"/>
                </a:cubicBezTo>
                <a:cubicBezTo>
                  <a:pt x="36" y="97"/>
                  <a:pt x="30" y="96"/>
                  <a:pt x="26" y="91"/>
                </a:cubicBezTo>
                <a:cubicBezTo>
                  <a:pt x="23" y="88"/>
                  <a:pt x="24" y="82"/>
                  <a:pt x="24" y="78"/>
                </a:cubicBezTo>
                <a:cubicBezTo>
                  <a:pt x="25" y="75"/>
                  <a:pt x="25" y="71"/>
                  <a:pt x="25" y="68"/>
                </a:cubicBezTo>
                <a:cubicBezTo>
                  <a:pt x="25" y="65"/>
                  <a:pt x="25" y="61"/>
                  <a:pt x="25" y="58"/>
                </a:cubicBezTo>
                <a:cubicBezTo>
                  <a:pt x="25" y="55"/>
                  <a:pt x="26" y="53"/>
                  <a:pt x="27" y="50"/>
                </a:cubicBezTo>
                <a:cubicBezTo>
                  <a:pt x="28" y="49"/>
                  <a:pt x="29" y="46"/>
                  <a:pt x="31" y="46"/>
                </a:cubicBezTo>
                <a:cubicBezTo>
                  <a:pt x="32" y="45"/>
                  <a:pt x="34" y="45"/>
                  <a:pt x="35" y="46"/>
                </a:cubicBezTo>
                <a:cubicBezTo>
                  <a:pt x="38" y="46"/>
                  <a:pt x="40" y="46"/>
                  <a:pt x="43" y="46"/>
                </a:cubicBezTo>
                <a:cubicBezTo>
                  <a:pt x="45" y="47"/>
                  <a:pt x="47" y="48"/>
                  <a:pt x="49" y="47"/>
                </a:cubicBezTo>
                <a:cubicBezTo>
                  <a:pt x="50" y="46"/>
                  <a:pt x="51" y="45"/>
                  <a:pt x="53" y="44"/>
                </a:cubicBezTo>
                <a:cubicBezTo>
                  <a:pt x="54" y="43"/>
                  <a:pt x="56" y="42"/>
                  <a:pt x="58" y="41"/>
                </a:cubicBezTo>
                <a:cubicBezTo>
                  <a:pt x="61" y="40"/>
                  <a:pt x="64" y="40"/>
                  <a:pt x="66" y="39"/>
                </a:cubicBezTo>
                <a:cubicBezTo>
                  <a:pt x="69" y="38"/>
                  <a:pt x="71" y="35"/>
                  <a:pt x="72" y="32"/>
                </a:cubicBezTo>
                <a:cubicBezTo>
                  <a:pt x="73" y="29"/>
                  <a:pt x="73" y="26"/>
                  <a:pt x="74" y="23"/>
                </a:cubicBezTo>
                <a:cubicBezTo>
                  <a:pt x="75" y="21"/>
                  <a:pt x="76" y="19"/>
                  <a:pt x="77" y="18"/>
                </a:cubicBezTo>
                <a:cubicBezTo>
                  <a:pt x="79" y="15"/>
                  <a:pt x="81" y="12"/>
                  <a:pt x="82" y="8"/>
                </a:cubicBezTo>
                <a:cubicBezTo>
                  <a:pt x="74" y="3"/>
                  <a:pt x="64" y="0"/>
                  <a:pt x="54" y="0"/>
                </a:cubicBezTo>
                <a:cubicBezTo>
                  <a:pt x="25" y="0"/>
                  <a:pt x="1" y="24"/>
                  <a:pt x="1" y="52"/>
                </a:cubicBezTo>
                <a:cubicBezTo>
                  <a:pt x="1" y="81"/>
                  <a:pt x="25" y="105"/>
                  <a:pt x="54" y="105"/>
                </a:cubicBezTo>
                <a:cubicBezTo>
                  <a:pt x="83" y="105"/>
                  <a:pt x="106" y="81"/>
                  <a:pt x="106" y="52"/>
                </a:cubicBezTo>
                <a:cubicBezTo>
                  <a:pt x="106" y="37"/>
                  <a:pt x="99" y="23"/>
                  <a:pt x="88" y="13"/>
                </a:cubicBezTo>
                <a:close/>
                <a:moveTo>
                  <a:pt x="16" y="60"/>
                </a:moveTo>
                <a:cubicBezTo>
                  <a:pt x="14" y="62"/>
                  <a:pt x="14" y="65"/>
                  <a:pt x="13" y="68"/>
                </a:cubicBezTo>
                <a:cubicBezTo>
                  <a:pt x="11" y="71"/>
                  <a:pt x="9" y="73"/>
                  <a:pt x="7" y="69"/>
                </a:cubicBezTo>
                <a:cubicBezTo>
                  <a:pt x="0" y="60"/>
                  <a:pt x="3" y="47"/>
                  <a:pt x="7" y="37"/>
                </a:cubicBezTo>
                <a:cubicBezTo>
                  <a:pt x="9" y="34"/>
                  <a:pt x="10" y="31"/>
                  <a:pt x="11" y="28"/>
                </a:cubicBezTo>
                <a:cubicBezTo>
                  <a:pt x="13" y="25"/>
                  <a:pt x="14" y="21"/>
                  <a:pt x="17" y="19"/>
                </a:cubicBezTo>
                <a:cubicBezTo>
                  <a:pt x="19" y="16"/>
                  <a:pt x="20" y="18"/>
                  <a:pt x="21" y="21"/>
                </a:cubicBezTo>
                <a:cubicBezTo>
                  <a:pt x="21" y="24"/>
                  <a:pt x="25" y="24"/>
                  <a:pt x="27" y="26"/>
                </a:cubicBezTo>
                <a:cubicBezTo>
                  <a:pt x="28" y="27"/>
                  <a:pt x="29" y="28"/>
                  <a:pt x="29" y="28"/>
                </a:cubicBezTo>
                <a:cubicBezTo>
                  <a:pt x="29" y="29"/>
                  <a:pt x="30" y="30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1"/>
                  <a:pt x="31" y="31"/>
                </a:cubicBezTo>
                <a:cubicBezTo>
                  <a:pt x="31" y="31"/>
                  <a:pt x="31" y="32"/>
                  <a:pt x="31" y="32"/>
                </a:cubicBezTo>
                <a:cubicBezTo>
                  <a:pt x="33" y="34"/>
                  <a:pt x="34" y="37"/>
                  <a:pt x="31" y="39"/>
                </a:cubicBezTo>
                <a:cubicBezTo>
                  <a:pt x="29" y="40"/>
                  <a:pt x="27" y="42"/>
                  <a:pt x="25" y="44"/>
                </a:cubicBezTo>
                <a:cubicBezTo>
                  <a:pt x="24" y="46"/>
                  <a:pt x="22" y="49"/>
                  <a:pt x="21" y="51"/>
                </a:cubicBezTo>
                <a:cubicBezTo>
                  <a:pt x="19" y="54"/>
                  <a:pt x="17" y="57"/>
                  <a:pt x="16" y="60"/>
                </a:cubicBezTo>
                <a:close/>
              </a:path>
            </a:pathLst>
          </a:custGeom>
          <a:solidFill>
            <a:srgbClr val="479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4"/>
          <p:cNvSpPr/>
          <p:nvPr/>
        </p:nvSpPr>
        <p:spPr>
          <a:xfrm>
            <a:off x="9650520" y="2352600"/>
            <a:ext cx="28440" cy="38160"/>
          </a:xfrm>
          <a:custGeom>
            <a:avLst/>
            <a:gdLst/>
            <a:ahLst/>
            <a:rect l="l" t="t" r="r" b="b"/>
            <a:pathLst>
              <a:path w="13" h="19">
                <a:moveTo>
                  <a:pt x="10" y="4"/>
                </a:moveTo>
                <a:cubicBezTo>
                  <a:pt x="10" y="3"/>
                  <a:pt x="11" y="0"/>
                  <a:pt x="9" y="0"/>
                </a:cubicBezTo>
                <a:cubicBezTo>
                  <a:pt x="8" y="0"/>
                  <a:pt x="7" y="0"/>
                  <a:pt x="7" y="1"/>
                </a:cubicBezTo>
                <a:cubicBezTo>
                  <a:pt x="5" y="2"/>
                  <a:pt x="3" y="4"/>
                  <a:pt x="1" y="5"/>
                </a:cubicBezTo>
                <a:cubicBezTo>
                  <a:pt x="1" y="5"/>
                  <a:pt x="1" y="5"/>
                  <a:pt x="1" y="5"/>
                </a:cubicBezTo>
                <a:cubicBezTo>
                  <a:pt x="0" y="8"/>
                  <a:pt x="4" y="8"/>
                  <a:pt x="4" y="11"/>
                </a:cubicBezTo>
                <a:cubicBezTo>
                  <a:pt x="4" y="12"/>
                  <a:pt x="2" y="15"/>
                  <a:pt x="2" y="16"/>
                </a:cubicBezTo>
                <a:cubicBezTo>
                  <a:pt x="2" y="18"/>
                  <a:pt x="4" y="17"/>
                  <a:pt x="5" y="17"/>
                </a:cubicBezTo>
                <a:cubicBezTo>
                  <a:pt x="7" y="16"/>
                  <a:pt x="8" y="19"/>
                  <a:pt x="10" y="18"/>
                </a:cubicBezTo>
                <a:cubicBezTo>
                  <a:pt x="13" y="18"/>
                  <a:pt x="9" y="12"/>
                  <a:pt x="9" y="10"/>
                </a:cubicBezTo>
                <a:cubicBezTo>
                  <a:pt x="8" y="8"/>
                  <a:pt x="9" y="6"/>
                  <a:pt x="10" y="4"/>
                </a:cubicBezTo>
                <a:close/>
              </a:path>
            </a:pathLst>
          </a:custGeom>
          <a:solidFill>
            <a:srgbClr val="479d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5"/>
          <p:cNvSpPr/>
          <p:nvPr/>
        </p:nvSpPr>
        <p:spPr>
          <a:xfrm>
            <a:off x="9650520" y="2347920"/>
            <a:ext cx="28440" cy="41400"/>
          </a:xfrm>
          <a:custGeom>
            <a:avLst/>
            <a:gdLst/>
            <a:ahLst/>
            <a:rect l="l" t="t" r="r" b="b"/>
            <a:pathLst>
              <a:path w="13" h="19">
                <a:moveTo>
                  <a:pt x="11" y="4"/>
                </a:moveTo>
                <a:cubicBezTo>
                  <a:pt x="11" y="3"/>
                  <a:pt x="12" y="0"/>
                  <a:pt x="10" y="0"/>
                </a:cubicBezTo>
                <a:cubicBezTo>
                  <a:pt x="9" y="0"/>
                  <a:pt x="8" y="1"/>
                  <a:pt x="8" y="1"/>
                </a:cubicBezTo>
                <a:cubicBezTo>
                  <a:pt x="6" y="2"/>
                  <a:pt x="4" y="4"/>
                  <a:pt x="2" y="5"/>
                </a:cubicBezTo>
                <a:cubicBezTo>
                  <a:pt x="2" y="5"/>
                  <a:pt x="2" y="5"/>
                  <a:pt x="2" y="5"/>
                </a:cubicBezTo>
                <a:cubicBezTo>
                  <a:pt x="0" y="8"/>
                  <a:pt x="5" y="8"/>
                  <a:pt x="5" y="11"/>
                </a:cubicBezTo>
                <a:cubicBezTo>
                  <a:pt x="5" y="12"/>
                  <a:pt x="3" y="15"/>
                  <a:pt x="3" y="16"/>
                </a:cubicBezTo>
                <a:cubicBezTo>
                  <a:pt x="3" y="18"/>
                  <a:pt x="5" y="17"/>
                  <a:pt x="6" y="17"/>
                </a:cubicBezTo>
                <a:cubicBezTo>
                  <a:pt x="8" y="16"/>
                  <a:pt x="9" y="19"/>
                  <a:pt x="11" y="18"/>
                </a:cubicBezTo>
                <a:cubicBezTo>
                  <a:pt x="13" y="18"/>
                  <a:pt x="10" y="12"/>
                  <a:pt x="10" y="10"/>
                </a:cubicBezTo>
                <a:cubicBezTo>
                  <a:pt x="9" y="8"/>
                  <a:pt x="10" y="6"/>
                  <a:pt x="11" y="4"/>
                </a:cubicBezTo>
                <a:close/>
              </a:path>
            </a:pathLst>
          </a:custGeom>
          <a:solidFill>
            <a:srgbClr val="b2d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6"/>
          <p:cNvSpPr/>
          <p:nvPr/>
        </p:nvSpPr>
        <p:spPr>
          <a:xfrm>
            <a:off x="9563040" y="2241720"/>
            <a:ext cx="155520" cy="215640"/>
          </a:xfrm>
          <a:custGeom>
            <a:avLst/>
            <a:gdLst/>
            <a:ahLst/>
            <a:rect l="l" t="t" r="r" b="b"/>
            <a:pathLst>
              <a:path w="74" h="102">
                <a:moveTo>
                  <a:pt x="74" y="6"/>
                </a:moveTo>
                <a:cubicBezTo>
                  <a:pt x="67" y="2"/>
                  <a:pt x="58" y="0"/>
                  <a:pt x="50" y="0"/>
                </a:cubicBezTo>
                <a:cubicBezTo>
                  <a:pt x="39" y="0"/>
                  <a:pt x="28" y="4"/>
                  <a:pt x="20" y="10"/>
                </a:cubicBezTo>
                <a:cubicBezTo>
                  <a:pt x="19" y="13"/>
                  <a:pt x="18" y="16"/>
                  <a:pt x="18" y="19"/>
                </a:cubicBezTo>
                <a:cubicBezTo>
                  <a:pt x="17" y="23"/>
                  <a:pt x="23" y="22"/>
                  <a:pt x="25" y="24"/>
                </a:cubicBezTo>
                <a:cubicBezTo>
                  <a:pt x="28" y="26"/>
                  <a:pt x="27" y="30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7" y="35"/>
                  <a:pt x="24" y="36"/>
                  <a:pt x="22" y="39"/>
                </a:cubicBezTo>
                <a:cubicBezTo>
                  <a:pt x="19" y="42"/>
                  <a:pt x="17" y="45"/>
                  <a:pt x="15" y="49"/>
                </a:cubicBezTo>
                <a:cubicBezTo>
                  <a:pt x="14" y="50"/>
                  <a:pt x="13" y="52"/>
                  <a:pt x="11" y="53"/>
                </a:cubicBezTo>
                <a:cubicBezTo>
                  <a:pt x="10" y="54"/>
                  <a:pt x="8" y="55"/>
                  <a:pt x="9" y="57"/>
                </a:cubicBezTo>
                <a:cubicBezTo>
                  <a:pt x="9" y="58"/>
                  <a:pt x="9" y="58"/>
                  <a:pt x="9" y="59"/>
                </a:cubicBezTo>
                <a:cubicBezTo>
                  <a:pt x="9" y="61"/>
                  <a:pt x="8" y="61"/>
                  <a:pt x="6" y="62"/>
                </a:cubicBezTo>
                <a:cubicBezTo>
                  <a:pt x="3" y="63"/>
                  <a:pt x="1" y="66"/>
                  <a:pt x="0" y="69"/>
                </a:cubicBezTo>
                <a:cubicBezTo>
                  <a:pt x="5" y="85"/>
                  <a:pt x="18" y="97"/>
                  <a:pt x="34" y="102"/>
                </a:cubicBezTo>
                <a:cubicBezTo>
                  <a:pt x="35" y="100"/>
                  <a:pt x="35" y="98"/>
                  <a:pt x="33" y="96"/>
                </a:cubicBezTo>
                <a:cubicBezTo>
                  <a:pt x="32" y="93"/>
                  <a:pt x="29" y="92"/>
                  <a:pt x="27" y="91"/>
                </a:cubicBezTo>
                <a:cubicBezTo>
                  <a:pt x="26" y="89"/>
                  <a:pt x="24" y="87"/>
                  <a:pt x="24" y="85"/>
                </a:cubicBezTo>
                <a:cubicBezTo>
                  <a:pt x="25" y="83"/>
                  <a:pt x="27" y="81"/>
                  <a:pt x="29" y="79"/>
                </a:cubicBezTo>
                <a:cubicBezTo>
                  <a:pt x="30" y="78"/>
                  <a:pt x="30" y="78"/>
                  <a:pt x="30" y="77"/>
                </a:cubicBezTo>
                <a:cubicBezTo>
                  <a:pt x="31" y="76"/>
                  <a:pt x="32" y="73"/>
                  <a:pt x="30" y="73"/>
                </a:cubicBezTo>
                <a:cubicBezTo>
                  <a:pt x="29" y="73"/>
                  <a:pt x="29" y="72"/>
                  <a:pt x="28" y="72"/>
                </a:cubicBezTo>
                <a:cubicBezTo>
                  <a:pt x="26" y="71"/>
                  <a:pt x="24" y="69"/>
                  <a:pt x="26" y="67"/>
                </a:cubicBezTo>
                <a:cubicBezTo>
                  <a:pt x="26" y="66"/>
                  <a:pt x="28" y="65"/>
                  <a:pt x="28" y="64"/>
                </a:cubicBezTo>
                <a:cubicBezTo>
                  <a:pt x="29" y="62"/>
                  <a:pt x="29" y="59"/>
                  <a:pt x="27" y="58"/>
                </a:cubicBezTo>
                <a:cubicBezTo>
                  <a:pt x="25" y="57"/>
                  <a:pt x="22" y="57"/>
                  <a:pt x="21" y="55"/>
                </a:cubicBezTo>
                <a:cubicBezTo>
                  <a:pt x="20" y="53"/>
                  <a:pt x="20" y="51"/>
                  <a:pt x="21" y="49"/>
                </a:cubicBezTo>
                <a:cubicBezTo>
                  <a:pt x="21" y="47"/>
                  <a:pt x="23" y="45"/>
                  <a:pt x="24" y="42"/>
                </a:cubicBezTo>
                <a:cubicBezTo>
                  <a:pt x="25" y="42"/>
                  <a:pt x="27" y="39"/>
                  <a:pt x="28" y="39"/>
                </a:cubicBezTo>
                <a:cubicBezTo>
                  <a:pt x="29" y="40"/>
                  <a:pt x="30" y="41"/>
                  <a:pt x="30" y="42"/>
                </a:cubicBezTo>
                <a:cubicBezTo>
                  <a:pt x="31" y="43"/>
                  <a:pt x="32" y="46"/>
                  <a:pt x="33" y="45"/>
                </a:cubicBezTo>
                <a:cubicBezTo>
                  <a:pt x="34" y="44"/>
                  <a:pt x="35" y="44"/>
                  <a:pt x="35" y="43"/>
                </a:cubicBezTo>
                <a:cubicBezTo>
                  <a:pt x="36" y="43"/>
                  <a:pt x="37" y="42"/>
                  <a:pt x="38" y="43"/>
                </a:cubicBezTo>
                <a:cubicBezTo>
                  <a:pt x="40" y="44"/>
                  <a:pt x="41" y="45"/>
                  <a:pt x="42" y="46"/>
                </a:cubicBezTo>
                <a:cubicBezTo>
                  <a:pt x="45" y="47"/>
                  <a:pt x="47" y="44"/>
                  <a:pt x="48" y="42"/>
                </a:cubicBezTo>
                <a:cubicBezTo>
                  <a:pt x="50" y="39"/>
                  <a:pt x="53" y="37"/>
                  <a:pt x="57" y="38"/>
                </a:cubicBezTo>
                <a:cubicBezTo>
                  <a:pt x="59" y="38"/>
                  <a:pt x="60" y="39"/>
                  <a:pt x="61" y="38"/>
                </a:cubicBezTo>
                <a:cubicBezTo>
                  <a:pt x="63" y="38"/>
                  <a:pt x="64" y="37"/>
                  <a:pt x="65" y="36"/>
                </a:cubicBezTo>
                <a:cubicBezTo>
                  <a:pt x="67" y="33"/>
                  <a:pt x="67" y="30"/>
                  <a:pt x="67" y="27"/>
                </a:cubicBezTo>
                <a:cubicBezTo>
                  <a:pt x="66" y="25"/>
                  <a:pt x="67" y="22"/>
                  <a:pt x="68" y="21"/>
                </a:cubicBezTo>
                <a:cubicBezTo>
                  <a:pt x="70" y="19"/>
                  <a:pt x="73" y="17"/>
                  <a:pt x="73" y="15"/>
                </a:cubicBezTo>
                <a:cubicBezTo>
                  <a:pt x="74" y="12"/>
                  <a:pt x="74" y="9"/>
                  <a:pt x="74" y="6"/>
                </a:cubicBezTo>
                <a:close/>
              </a:path>
            </a:pathLst>
          </a:custGeom>
          <a:solidFill>
            <a:srgbClr val="b2d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7"/>
          <p:cNvSpPr/>
          <p:nvPr/>
        </p:nvSpPr>
        <p:spPr>
          <a:xfrm>
            <a:off x="9677520" y="2273400"/>
            <a:ext cx="98280" cy="188640"/>
          </a:xfrm>
          <a:custGeom>
            <a:avLst/>
            <a:gdLst/>
            <a:ahLst/>
            <a:rect l="l" t="t" r="r" b="b"/>
            <a:pathLst>
              <a:path w="48" h="90">
                <a:moveTo>
                  <a:pt x="32" y="0"/>
                </a:moveTo>
                <a:cubicBezTo>
                  <a:pt x="32" y="0"/>
                  <a:pt x="31" y="0"/>
                  <a:pt x="31" y="0"/>
                </a:cubicBezTo>
                <a:cubicBezTo>
                  <a:pt x="30" y="1"/>
                  <a:pt x="25" y="4"/>
                  <a:pt x="27" y="6"/>
                </a:cubicBezTo>
                <a:cubicBezTo>
                  <a:pt x="28" y="6"/>
                  <a:pt x="28" y="8"/>
                  <a:pt x="29" y="9"/>
                </a:cubicBezTo>
                <a:cubicBezTo>
                  <a:pt x="29" y="10"/>
                  <a:pt x="27" y="12"/>
                  <a:pt x="27" y="13"/>
                </a:cubicBezTo>
                <a:cubicBezTo>
                  <a:pt x="26" y="14"/>
                  <a:pt x="25" y="16"/>
                  <a:pt x="25" y="17"/>
                </a:cubicBezTo>
                <a:cubicBezTo>
                  <a:pt x="25" y="19"/>
                  <a:pt x="27" y="20"/>
                  <a:pt x="28" y="19"/>
                </a:cubicBezTo>
                <a:cubicBezTo>
                  <a:pt x="29" y="18"/>
                  <a:pt x="30" y="17"/>
                  <a:pt x="31" y="17"/>
                </a:cubicBezTo>
                <a:cubicBezTo>
                  <a:pt x="34" y="18"/>
                  <a:pt x="36" y="23"/>
                  <a:pt x="35" y="26"/>
                </a:cubicBezTo>
                <a:cubicBezTo>
                  <a:pt x="34" y="28"/>
                  <a:pt x="32" y="32"/>
                  <a:pt x="29" y="32"/>
                </a:cubicBezTo>
                <a:cubicBezTo>
                  <a:pt x="27" y="31"/>
                  <a:pt x="25" y="29"/>
                  <a:pt x="22" y="30"/>
                </a:cubicBezTo>
                <a:cubicBezTo>
                  <a:pt x="20" y="30"/>
                  <a:pt x="18" y="31"/>
                  <a:pt x="17" y="33"/>
                </a:cubicBezTo>
                <a:cubicBezTo>
                  <a:pt x="17" y="34"/>
                  <a:pt x="17" y="35"/>
                  <a:pt x="17" y="36"/>
                </a:cubicBezTo>
                <a:cubicBezTo>
                  <a:pt x="15" y="38"/>
                  <a:pt x="12" y="37"/>
                  <a:pt x="11" y="40"/>
                </a:cubicBezTo>
                <a:cubicBezTo>
                  <a:pt x="11" y="41"/>
                  <a:pt x="12" y="42"/>
                  <a:pt x="13" y="43"/>
                </a:cubicBezTo>
                <a:cubicBezTo>
                  <a:pt x="15" y="44"/>
                  <a:pt x="17" y="45"/>
                  <a:pt x="16" y="47"/>
                </a:cubicBezTo>
                <a:cubicBezTo>
                  <a:pt x="14" y="50"/>
                  <a:pt x="11" y="51"/>
                  <a:pt x="8" y="52"/>
                </a:cubicBezTo>
                <a:cubicBezTo>
                  <a:pt x="6" y="53"/>
                  <a:pt x="4" y="55"/>
                  <a:pt x="4" y="57"/>
                </a:cubicBezTo>
                <a:cubicBezTo>
                  <a:pt x="4" y="60"/>
                  <a:pt x="6" y="61"/>
                  <a:pt x="9" y="61"/>
                </a:cubicBezTo>
                <a:cubicBezTo>
                  <a:pt x="11" y="60"/>
                  <a:pt x="15" y="58"/>
                  <a:pt x="18" y="59"/>
                </a:cubicBezTo>
                <a:cubicBezTo>
                  <a:pt x="20" y="61"/>
                  <a:pt x="20" y="64"/>
                  <a:pt x="18" y="66"/>
                </a:cubicBezTo>
                <a:cubicBezTo>
                  <a:pt x="16" y="67"/>
                  <a:pt x="15" y="68"/>
                  <a:pt x="13" y="70"/>
                </a:cubicBezTo>
                <a:cubicBezTo>
                  <a:pt x="12" y="70"/>
                  <a:pt x="12" y="71"/>
                  <a:pt x="11" y="72"/>
                </a:cubicBezTo>
                <a:cubicBezTo>
                  <a:pt x="10" y="73"/>
                  <a:pt x="11" y="72"/>
                  <a:pt x="11" y="73"/>
                </a:cubicBezTo>
                <a:cubicBezTo>
                  <a:pt x="14" y="76"/>
                  <a:pt x="12" y="78"/>
                  <a:pt x="10" y="80"/>
                </a:cubicBezTo>
                <a:cubicBezTo>
                  <a:pt x="7" y="83"/>
                  <a:pt x="4" y="86"/>
                  <a:pt x="0" y="89"/>
                </a:cubicBezTo>
                <a:cubicBezTo>
                  <a:pt x="0" y="89"/>
                  <a:pt x="0" y="89"/>
                  <a:pt x="0" y="90"/>
                </a:cubicBezTo>
                <a:cubicBezTo>
                  <a:pt x="27" y="88"/>
                  <a:pt x="48" y="65"/>
                  <a:pt x="48" y="37"/>
                </a:cubicBezTo>
                <a:cubicBezTo>
                  <a:pt x="48" y="23"/>
                  <a:pt x="42" y="9"/>
                  <a:pt x="32" y="0"/>
                </a:cubicBezTo>
                <a:close/>
              </a:path>
            </a:pathLst>
          </a:custGeom>
          <a:solidFill>
            <a:srgbClr val="b2d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8"/>
          <p:cNvSpPr/>
          <p:nvPr/>
        </p:nvSpPr>
        <p:spPr>
          <a:xfrm>
            <a:off x="9688680" y="2330280"/>
            <a:ext cx="66600" cy="130320"/>
          </a:xfrm>
          <a:custGeom>
            <a:avLst/>
            <a:gdLst/>
            <a:ahLst/>
            <a:rect l="l" t="t" r="r" b="b"/>
            <a:pathLst>
              <a:path w="38" h="74">
                <a:moveTo>
                  <a:pt x="11" y="12"/>
                </a:moveTo>
                <a:lnTo>
                  <a:pt x="5" y="0"/>
                </a:lnTo>
                <a:lnTo>
                  <a:pt x="0" y="4"/>
                </a:lnTo>
                <a:lnTo>
                  <a:pt x="9" y="68"/>
                </a:lnTo>
                <a:lnTo>
                  <a:pt x="14" y="68"/>
                </a:lnTo>
                <a:lnTo>
                  <a:pt x="24" y="54"/>
                </a:lnTo>
                <a:lnTo>
                  <a:pt x="35" y="74"/>
                </a:lnTo>
                <a:lnTo>
                  <a:pt x="38" y="74"/>
                </a:lnTo>
                <a:lnTo>
                  <a:pt x="38" y="64"/>
                </a:lnTo>
                <a:lnTo>
                  <a:pt x="11" y="12"/>
                </a:lnTo>
                <a:close/>
              </a:path>
            </a:pathLst>
          </a:cu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9"/>
          <p:cNvSpPr/>
          <p:nvPr/>
        </p:nvSpPr>
        <p:spPr>
          <a:xfrm>
            <a:off x="9698040" y="2330280"/>
            <a:ext cx="74520" cy="130320"/>
          </a:xfrm>
          <a:custGeom>
            <a:avLst/>
            <a:gdLst/>
            <a:ahLst/>
            <a:rect l="l" t="t" r="r" b="b"/>
            <a:pathLst>
              <a:path w="43" h="74">
                <a:moveTo>
                  <a:pt x="9" y="68"/>
                </a:moveTo>
                <a:lnTo>
                  <a:pt x="0" y="0"/>
                </a:lnTo>
                <a:lnTo>
                  <a:pt x="43" y="34"/>
                </a:lnTo>
                <a:lnTo>
                  <a:pt x="30" y="39"/>
                </a:lnTo>
                <a:lnTo>
                  <a:pt x="43" y="63"/>
                </a:lnTo>
                <a:lnTo>
                  <a:pt x="33" y="74"/>
                </a:lnTo>
                <a:lnTo>
                  <a:pt x="21" y="50"/>
                </a:lnTo>
                <a:lnTo>
                  <a:pt x="9" y="68"/>
                </a:lnTo>
                <a:close/>
              </a:path>
            </a:pathLst>
          </a:custGeom>
          <a:solidFill>
            <a:srgbClr val="f9f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9532800" y="2505240"/>
            <a:ext cx="268560" cy="58680"/>
          </a:xfrm>
          <a:prstGeom prst="rect">
            <a:avLst/>
          </a:prstGeom>
          <a:solidFill>
            <a:srgbClr val="c9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9590040" y="1998720"/>
            <a:ext cx="223920" cy="55440"/>
          </a:xfrm>
          <a:prstGeom prst="rect">
            <a:avLst/>
          </a:prstGeom>
          <a:solidFill>
            <a:srgbClr val="c9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2"/>
          <p:cNvSpPr/>
          <p:nvPr/>
        </p:nvSpPr>
        <p:spPr>
          <a:xfrm>
            <a:off x="9590040" y="1709640"/>
            <a:ext cx="223920" cy="247680"/>
          </a:xfrm>
          <a:custGeom>
            <a:avLst/>
            <a:gdLst/>
            <a:ahLst/>
            <a:rect l="l" t="t" r="r" b="b"/>
            <a:pathLst>
              <a:path w="128" h="141">
                <a:moveTo>
                  <a:pt x="0" y="0"/>
                </a:moveTo>
                <a:lnTo>
                  <a:pt x="128" y="0"/>
                </a:lnTo>
                <a:lnTo>
                  <a:pt x="103" y="141"/>
                </a:lnTo>
                <a:lnTo>
                  <a:pt x="27" y="141"/>
                </a:lnTo>
                <a:lnTo>
                  <a:pt x="0" y="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3"/>
          <p:cNvSpPr/>
          <p:nvPr/>
        </p:nvSpPr>
        <p:spPr>
          <a:xfrm>
            <a:off x="9628200" y="1709640"/>
            <a:ext cx="185760" cy="247680"/>
          </a:xfrm>
          <a:custGeom>
            <a:avLst/>
            <a:gdLst/>
            <a:ahLst/>
            <a:rect l="l" t="t" r="r" b="b"/>
            <a:pathLst>
              <a:path w="88" h="117">
                <a:moveTo>
                  <a:pt x="76" y="0"/>
                </a:moveTo>
                <a:cubicBezTo>
                  <a:pt x="74" y="17"/>
                  <a:pt x="69" y="33"/>
                  <a:pt x="61" y="47"/>
                </a:cubicBezTo>
                <a:cubicBezTo>
                  <a:pt x="47" y="73"/>
                  <a:pt x="26" y="88"/>
                  <a:pt x="0" y="95"/>
                </a:cubicBezTo>
                <a:cubicBezTo>
                  <a:pt x="4" y="117"/>
                  <a:pt x="4" y="117"/>
                  <a:pt x="4" y="117"/>
                </a:cubicBezTo>
                <a:cubicBezTo>
                  <a:pt x="67" y="117"/>
                  <a:pt x="67" y="117"/>
                  <a:pt x="67" y="117"/>
                </a:cubicBezTo>
                <a:cubicBezTo>
                  <a:pt x="88" y="0"/>
                  <a:pt x="88" y="0"/>
                  <a:pt x="88" y="0"/>
                </a:cubicBezTo>
                <a:lnTo>
                  <a:pt x="76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9563040" y="1501920"/>
            <a:ext cx="95400" cy="56880"/>
          </a:xfrm>
          <a:prstGeom prst="rect">
            <a:avLst/>
          </a:prstGeom>
          <a:solidFill>
            <a:srgbClr val="b5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9678960" y="1501920"/>
            <a:ext cx="185760" cy="56880"/>
          </a:xfrm>
          <a:prstGeom prst="rect">
            <a:avLst/>
          </a:prstGeom>
          <a:solidFill>
            <a:srgbClr val="b5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160" bIns="11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9615600" y="1170000"/>
            <a:ext cx="166680" cy="290520"/>
          </a:xfrm>
          <a:custGeom>
            <a:avLst/>
            <a:gdLst/>
            <a:ahLst/>
            <a:rect l="l" t="t" r="r" b="b"/>
            <a:pathLst>
              <a:path w="95" h="166">
                <a:moveTo>
                  <a:pt x="12" y="60"/>
                </a:moveTo>
                <a:lnTo>
                  <a:pt x="0" y="30"/>
                </a:lnTo>
                <a:lnTo>
                  <a:pt x="95" y="0"/>
                </a:lnTo>
                <a:lnTo>
                  <a:pt x="95" y="166"/>
                </a:lnTo>
                <a:lnTo>
                  <a:pt x="12" y="60"/>
                </a:lnTo>
                <a:close/>
              </a:path>
            </a:pathLst>
          </a:custGeom>
          <a:solidFill>
            <a:srgbClr val="e8b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7"/>
          <p:cNvSpPr/>
          <p:nvPr/>
        </p:nvSpPr>
        <p:spPr>
          <a:xfrm>
            <a:off x="9615600" y="1222200"/>
            <a:ext cx="196560" cy="255600"/>
          </a:xfrm>
          <a:custGeom>
            <a:avLst/>
            <a:gdLst/>
            <a:ahLst/>
            <a:rect l="l" t="t" r="r" b="b"/>
            <a:pathLst>
              <a:path w="112" h="146">
                <a:moveTo>
                  <a:pt x="0" y="0"/>
                </a:moveTo>
                <a:lnTo>
                  <a:pt x="0" y="146"/>
                </a:lnTo>
                <a:lnTo>
                  <a:pt x="112" y="146"/>
                </a:lnTo>
                <a:lnTo>
                  <a:pt x="112" y="23"/>
                </a:lnTo>
                <a:lnTo>
                  <a:pt x="57" y="22"/>
                </a:lnTo>
                <a:lnTo>
                  <a:pt x="4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8"/>
          <p:cNvSpPr/>
          <p:nvPr/>
        </p:nvSpPr>
        <p:spPr>
          <a:xfrm>
            <a:off x="9615600" y="1374840"/>
            <a:ext cx="196560" cy="102960"/>
          </a:xfrm>
          <a:custGeom>
            <a:avLst/>
            <a:gdLst/>
            <a:ahLst/>
            <a:rect l="l" t="t" r="r" b="b"/>
            <a:pathLst>
              <a:path w="93" h="49">
                <a:moveTo>
                  <a:pt x="79" y="18"/>
                </a:moveTo>
                <a:cubicBezTo>
                  <a:pt x="62" y="26"/>
                  <a:pt x="45" y="29"/>
                  <a:pt x="27" y="23"/>
                </a:cubicBezTo>
                <a:cubicBezTo>
                  <a:pt x="15" y="20"/>
                  <a:pt x="6" y="11"/>
                  <a:pt x="0" y="0"/>
                </a:cubicBezTo>
                <a:cubicBezTo>
                  <a:pt x="0" y="49"/>
                  <a:pt x="0" y="49"/>
                  <a:pt x="0" y="49"/>
                </a:cubicBezTo>
                <a:cubicBezTo>
                  <a:pt x="93" y="49"/>
                  <a:pt x="93" y="49"/>
                  <a:pt x="93" y="49"/>
                </a:cubicBezTo>
                <a:cubicBezTo>
                  <a:pt x="93" y="7"/>
                  <a:pt x="93" y="7"/>
                  <a:pt x="93" y="7"/>
                </a:cubicBezTo>
                <a:cubicBezTo>
                  <a:pt x="89" y="11"/>
                  <a:pt x="85" y="15"/>
                  <a:pt x="79" y="18"/>
                </a:cubicBezTo>
                <a:close/>
              </a:path>
            </a:pathLst>
          </a:custGeom>
          <a:solidFill>
            <a:srgbClr val="e8b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9"/>
          <p:cNvSpPr/>
          <p:nvPr/>
        </p:nvSpPr>
        <p:spPr>
          <a:xfrm>
            <a:off x="9590040" y="3036960"/>
            <a:ext cx="166680" cy="57240"/>
          </a:xfrm>
          <a:prstGeom prst="rect">
            <a:avLst/>
          </a:prstGeom>
          <a:solidFill>
            <a:srgbClr val="c9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9566280" y="2749680"/>
            <a:ext cx="216000" cy="264960"/>
          </a:xfrm>
          <a:custGeom>
            <a:avLst/>
            <a:gdLst/>
            <a:ahLst/>
            <a:rect l="l" t="t" r="r" b="b"/>
            <a:pathLst>
              <a:path w="102" h="127">
                <a:moveTo>
                  <a:pt x="78" y="0"/>
                </a:move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92"/>
                  <a:pt x="11" y="103"/>
                  <a:pt x="25" y="103"/>
                </a:cubicBezTo>
                <a:cubicBezTo>
                  <a:pt x="48" y="103"/>
                  <a:pt x="48" y="103"/>
                  <a:pt x="48" y="103"/>
                </a:cubicBezTo>
                <a:cubicBezTo>
                  <a:pt x="40" y="127"/>
                  <a:pt x="40" y="127"/>
                  <a:pt x="40" y="127"/>
                </a:cubicBezTo>
                <a:cubicBezTo>
                  <a:pt x="74" y="103"/>
                  <a:pt x="74" y="103"/>
                  <a:pt x="74" y="103"/>
                </a:cubicBezTo>
                <a:cubicBezTo>
                  <a:pt x="78" y="103"/>
                  <a:pt x="78" y="103"/>
                  <a:pt x="78" y="103"/>
                </a:cubicBezTo>
                <a:cubicBezTo>
                  <a:pt x="91" y="103"/>
                  <a:pt x="102" y="92"/>
                  <a:pt x="102" y="79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2" y="11"/>
                  <a:pt x="91" y="0"/>
                  <a:pt x="78" y="0"/>
                </a:cubicBezTo>
                <a:close/>
              </a:path>
            </a:pathLst>
          </a:custGeom>
          <a:solidFill>
            <a:srgbClr val="2759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31"/>
          <p:cNvSpPr/>
          <p:nvPr/>
        </p:nvSpPr>
        <p:spPr>
          <a:xfrm>
            <a:off x="9599760" y="2797200"/>
            <a:ext cx="147600" cy="20520"/>
          </a:xfrm>
          <a:prstGeom prst="rect">
            <a:avLst/>
          </a:prstGeom>
          <a:solidFill>
            <a:srgbClr val="7aa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9599760" y="2838600"/>
            <a:ext cx="147600" cy="20520"/>
          </a:xfrm>
          <a:prstGeom prst="rect">
            <a:avLst/>
          </a:prstGeom>
          <a:solidFill>
            <a:srgbClr val="7aa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3"/>
          <p:cNvSpPr/>
          <p:nvPr/>
        </p:nvSpPr>
        <p:spPr>
          <a:xfrm>
            <a:off x="9599760" y="2882880"/>
            <a:ext cx="147600" cy="20520"/>
          </a:xfrm>
          <a:prstGeom prst="rect">
            <a:avLst/>
          </a:prstGeom>
          <a:solidFill>
            <a:srgbClr val="7aa4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0" bIns="-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4"/>
          <p:cNvSpPr/>
          <p:nvPr/>
        </p:nvSpPr>
        <p:spPr>
          <a:xfrm rot="412200">
            <a:off x="10026720" y="4830840"/>
            <a:ext cx="812880" cy="804960"/>
          </a:xfrm>
          <a:custGeom>
            <a:avLst/>
            <a:gdLst/>
            <a:ahLst/>
            <a:rect l="l" t="t" r="r" b="b"/>
            <a:pathLst>
              <a:path w="465" h="460">
                <a:moveTo>
                  <a:pt x="70" y="0"/>
                </a:moveTo>
                <a:lnTo>
                  <a:pt x="333" y="242"/>
                </a:lnTo>
                <a:lnTo>
                  <a:pt x="412" y="163"/>
                </a:lnTo>
                <a:lnTo>
                  <a:pt x="465" y="460"/>
                </a:lnTo>
                <a:lnTo>
                  <a:pt x="168" y="431"/>
                </a:lnTo>
                <a:lnTo>
                  <a:pt x="246" y="335"/>
                </a:lnTo>
                <a:lnTo>
                  <a:pt x="0" y="116"/>
                </a:lnTo>
                <a:lnTo>
                  <a:pt x="70" y="0"/>
                </a:lnTo>
                <a:close/>
              </a:path>
            </a:pathLst>
          </a:custGeom>
          <a:solidFill>
            <a:srgbClr val="ffb5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组合 38"/>
          <p:cNvGrpSpPr/>
          <p:nvPr/>
        </p:nvGrpSpPr>
        <p:grpSpPr>
          <a:xfrm>
            <a:off x="6159600" y="460440"/>
            <a:ext cx="3127320" cy="4405320"/>
            <a:chOff x="6159600" y="460440"/>
            <a:chExt cx="3127320" cy="4405320"/>
          </a:xfrm>
        </p:grpSpPr>
        <p:sp>
          <p:nvSpPr>
            <p:cNvPr id="321" name="Freeform 10"/>
            <p:cNvSpPr/>
            <p:nvPr/>
          </p:nvSpPr>
          <p:spPr>
            <a:xfrm>
              <a:off x="8004240" y="1163520"/>
              <a:ext cx="1130400" cy="1500480"/>
            </a:xfrm>
            <a:custGeom>
              <a:avLst/>
              <a:gdLst/>
              <a:ahLst/>
              <a:rect l="l" t="t" r="r" b="b"/>
              <a:pathLst>
                <a:path w="538" h="714">
                  <a:moveTo>
                    <a:pt x="435" y="261"/>
                  </a:moveTo>
                  <a:cubicBezTo>
                    <a:pt x="477" y="180"/>
                    <a:pt x="520" y="97"/>
                    <a:pt x="537" y="6"/>
                  </a:cubicBezTo>
                  <a:cubicBezTo>
                    <a:pt x="537" y="4"/>
                    <a:pt x="538" y="2"/>
                    <a:pt x="538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73" y="128"/>
                    <a:pt x="27" y="252"/>
                    <a:pt x="11" y="383"/>
                  </a:cubicBezTo>
                  <a:cubicBezTo>
                    <a:pt x="2" y="456"/>
                    <a:pt x="0" y="532"/>
                    <a:pt x="44" y="595"/>
                  </a:cubicBezTo>
                  <a:cubicBezTo>
                    <a:pt x="79" y="648"/>
                    <a:pt x="133" y="683"/>
                    <a:pt x="187" y="714"/>
                  </a:cubicBezTo>
                  <a:cubicBezTo>
                    <a:pt x="203" y="636"/>
                    <a:pt x="257" y="576"/>
                    <a:pt x="301" y="513"/>
                  </a:cubicBezTo>
                  <a:cubicBezTo>
                    <a:pt x="356" y="436"/>
                    <a:pt x="392" y="345"/>
                    <a:pt x="435" y="261"/>
                  </a:cubicBezTo>
                  <a:close/>
                </a:path>
              </a:pathLst>
            </a:custGeom>
            <a:solidFill>
              <a:srgbClr val="acd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36"/>
            <p:cNvSpPr/>
            <p:nvPr/>
          </p:nvSpPr>
          <p:spPr>
            <a:xfrm>
              <a:off x="6159600" y="824040"/>
              <a:ext cx="3127320" cy="4041720"/>
            </a:xfrm>
            <a:custGeom>
              <a:avLst/>
              <a:gdLst/>
              <a:ahLst/>
              <a:rect l="l" t="t" r="r" b="b"/>
              <a:pathLst>
                <a:path w="1487" h="1924">
                  <a:moveTo>
                    <a:pt x="1079" y="834"/>
                  </a:moveTo>
                  <a:cubicBezTo>
                    <a:pt x="206" y="0"/>
                    <a:pt x="206" y="0"/>
                    <a:pt x="206" y="0"/>
                  </a:cubicBezTo>
                  <a:cubicBezTo>
                    <a:pt x="198" y="16"/>
                    <a:pt x="190" y="35"/>
                    <a:pt x="191" y="53"/>
                  </a:cubicBezTo>
                  <a:cubicBezTo>
                    <a:pt x="193" y="75"/>
                    <a:pt x="201" y="96"/>
                    <a:pt x="213" y="114"/>
                  </a:cubicBezTo>
                  <a:cubicBezTo>
                    <a:pt x="239" y="157"/>
                    <a:pt x="269" y="193"/>
                    <a:pt x="287" y="241"/>
                  </a:cubicBezTo>
                  <a:cubicBezTo>
                    <a:pt x="304" y="287"/>
                    <a:pt x="319" y="337"/>
                    <a:pt x="323" y="387"/>
                  </a:cubicBezTo>
                  <a:cubicBezTo>
                    <a:pt x="325" y="417"/>
                    <a:pt x="324" y="460"/>
                    <a:pt x="288" y="470"/>
                  </a:cubicBezTo>
                  <a:cubicBezTo>
                    <a:pt x="286" y="470"/>
                    <a:pt x="283" y="469"/>
                    <a:pt x="282" y="466"/>
                  </a:cubicBezTo>
                  <a:cubicBezTo>
                    <a:pt x="274" y="443"/>
                    <a:pt x="270" y="416"/>
                    <a:pt x="257" y="394"/>
                  </a:cubicBezTo>
                  <a:cubicBezTo>
                    <a:pt x="248" y="379"/>
                    <a:pt x="217" y="342"/>
                    <a:pt x="198" y="362"/>
                  </a:cubicBezTo>
                  <a:cubicBezTo>
                    <a:pt x="189" y="371"/>
                    <a:pt x="175" y="372"/>
                    <a:pt x="163" y="368"/>
                  </a:cubicBezTo>
                  <a:cubicBezTo>
                    <a:pt x="137" y="357"/>
                    <a:pt x="116" y="337"/>
                    <a:pt x="85" y="344"/>
                  </a:cubicBezTo>
                  <a:cubicBezTo>
                    <a:pt x="30" y="358"/>
                    <a:pt x="0" y="437"/>
                    <a:pt x="33" y="484"/>
                  </a:cubicBezTo>
                  <a:cubicBezTo>
                    <a:pt x="49" y="506"/>
                    <a:pt x="70" y="522"/>
                    <a:pt x="87" y="542"/>
                  </a:cubicBezTo>
                  <a:cubicBezTo>
                    <a:pt x="107" y="565"/>
                    <a:pt x="128" y="587"/>
                    <a:pt x="151" y="608"/>
                  </a:cubicBezTo>
                  <a:cubicBezTo>
                    <a:pt x="203" y="653"/>
                    <a:pt x="260" y="693"/>
                    <a:pt x="313" y="737"/>
                  </a:cubicBezTo>
                  <a:cubicBezTo>
                    <a:pt x="341" y="760"/>
                    <a:pt x="366" y="786"/>
                    <a:pt x="395" y="807"/>
                  </a:cubicBezTo>
                  <a:cubicBezTo>
                    <a:pt x="418" y="824"/>
                    <a:pt x="442" y="834"/>
                    <a:pt x="468" y="845"/>
                  </a:cubicBezTo>
                  <a:cubicBezTo>
                    <a:pt x="497" y="857"/>
                    <a:pt x="522" y="884"/>
                    <a:pt x="494" y="914"/>
                  </a:cubicBezTo>
                  <a:cubicBezTo>
                    <a:pt x="481" y="929"/>
                    <a:pt x="439" y="936"/>
                    <a:pt x="447" y="961"/>
                  </a:cubicBezTo>
                  <a:cubicBezTo>
                    <a:pt x="453" y="983"/>
                    <a:pt x="466" y="1002"/>
                    <a:pt x="478" y="1021"/>
                  </a:cubicBezTo>
                  <a:cubicBezTo>
                    <a:pt x="493" y="1046"/>
                    <a:pt x="514" y="1082"/>
                    <a:pt x="541" y="1097"/>
                  </a:cubicBezTo>
                  <a:cubicBezTo>
                    <a:pt x="559" y="1107"/>
                    <a:pt x="580" y="1111"/>
                    <a:pt x="597" y="1124"/>
                  </a:cubicBezTo>
                  <a:cubicBezTo>
                    <a:pt x="633" y="1149"/>
                    <a:pt x="653" y="1188"/>
                    <a:pt x="675" y="1224"/>
                  </a:cubicBezTo>
                  <a:cubicBezTo>
                    <a:pt x="704" y="1272"/>
                    <a:pt x="738" y="1319"/>
                    <a:pt x="797" y="1330"/>
                  </a:cubicBezTo>
                  <a:cubicBezTo>
                    <a:pt x="852" y="1340"/>
                    <a:pt x="919" y="1335"/>
                    <a:pt x="960" y="1380"/>
                  </a:cubicBezTo>
                  <a:cubicBezTo>
                    <a:pt x="1000" y="1424"/>
                    <a:pt x="1021" y="1488"/>
                    <a:pt x="1043" y="1542"/>
                  </a:cubicBezTo>
                  <a:cubicBezTo>
                    <a:pt x="1071" y="1612"/>
                    <a:pt x="1096" y="1683"/>
                    <a:pt x="1118" y="1755"/>
                  </a:cubicBezTo>
                  <a:cubicBezTo>
                    <a:pt x="1133" y="1803"/>
                    <a:pt x="1159" y="1856"/>
                    <a:pt x="1197" y="1890"/>
                  </a:cubicBezTo>
                  <a:cubicBezTo>
                    <a:pt x="1219" y="1909"/>
                    <a:pt x="1246" y="1924"/>
                    <a:pt x="1276" y="1923"/>
                  </a:cubicBezTo>
                  <a:cubicBezTo>
                    <a:pt x="1300" y="1922"/>
                    <a:pt x="1333" y="1915"/>
                    <a:pt x="1341" y="1887"/>
                  </a:cubicBezTo>
                  <a:cubicBezTo>
                    <a:pt x="1354" y="1846"/>
                    <a:pt x="1330" y="1796"/>
                    <a:pt x="1307" y="1762"/>
                  </a:cubicBezTo>
                  <a:cubicBezTo>
                    <a:pt x="1292" y="1740"/>
                    <a:pt x="1273" y="1721"/>
                    <a:pt x="1259" y="1699"/>
                  </a:cubicBezTo>
                  <a:cubicBezTo>
                    <a:pt x="1245" y="1677"/>
                    <a:pt x="1232" y="1653"/>
                    <a:pt x="1223" y="1629"/>
                  </a:cubicBezTo>
                  <a:cubicBezTo>
                    <a:pt x="1197" y="1566"/>
                    <a:pt x="1182" y="1498"/>
                    <a:pt x="1148" y="1438"/>
                  </a:cubicBezTo>
                  <a:cubicBezTo>
                    <a:pt x="1132" y="1409"/>
                    <a:pt x="1111" y="1387"/>
                    <a:pt x="1089" y="1362"/>
                  </a:cubicBezTo>
                  <a:cubicBezTo>
                    <a:pt x="1074" y="1345"/>
                    <a:pt x="1061" y="1328"/>
                    <a:pt x="1056" y="1305"/>
                  </a:cubicBezTo>
                  <a:cubicBezTo>
                    <a:pt x="1056" y="1303"/>
                    <a:pt x="1057" y="1300"/>
                    <a:pt x="1060" y="1299"/>
                  </a:cubicBezTo>
                  <a:cubicBezTo>
                    <a:pt x="1098" y="1292"/>
                    <a:pt x="1133" y="1359"/>
                    <a:pt x="1148" y="1384"/>
                  </a:cubicBezTo>
                  <a:cubicBezTo>
                    <a:pt x="1182" y="1439"/>
                    <a:pt x="1209" y="1496"/>
                    <a:pt x="1240" y="1552"/>
                  </a:cubicBezTo>
                  <a:cubicBezTo>
                    <a:pt x="1257" y="1582"/>
                    <a:pt x="1275" y="1608"/>
                    <a:pt x="1285" y="1641"/>
                  </a:cubicBezTo>
                  <a:cubicBezTo>
                    <a:pt x="1299" y="1686"/>
                    <a:pt x="1306" y="1736"/>
                    <a:pt x="1331" y="1776"/>
                  </a:cubicBezTo>
                  <a:cubicBezTo>
                    <a:pt x="1353" y="1810"/>
                    <a:pt x="1419" y="1893"/>
                    <a:pt x="1464" y="1849"/>
                  </a:cubicBezTo>
                  <a:cubicBezTo>
                    <a:pt x="1487" y="1826"/>
                    <a:pt x="1487" y="1778"/>
                    <a:pt x="1486" y="1748"/>
                  </a:cubicBezTo>
                  <a:cubicBezTo>
                    <a:pt x="1485" y="1723"/>
                    <a:pt x="1482" y="1699"/>
                    <a:pt x="1468" y="1678"/>
                  </a:cubicBezTo>
                  <a:cubicBezTo>
                    <a:pt x="1451" y="1652"/>
                    <a:pt x="1428" y="1632"/>
                    <a:pt x="1408" y="1609"/>
                  </a:cubicBezTo>
                  <a:cubicBezTo>
                    <a:pt x="1363" y="1557"/>
                    <a:pt x="1335" y="1487"/>
                    <a:pt x="1304" y="1426"/>
                  </a:cubicBezTo>
                  <a:cubicBezTo>
                    <a:pt x="1272" y="1362"/>
                    <a:pt x="1225" y="1312"/>
                    <a:pt x="1182" y="1256"/>
                  </a:cubicBezTo>
                  <a:cubicBezTo>
                    <a:pt x="1164" y="1233"/>
                    <a:pt x="1147" y="1209"/>
                    <a:pt x="1137" y="1181"/>
                  </a:cubicBezTo>
                  <a:cubicBezTo>
                    <a:pt x="1127" y="1152"/>
                    <a:pt x="1122" y="1121"/>
                    <a:pt x="1111" y="1092"/>
                  </a:cubicBezTo>
                  <a:cubicBezTo>
                    <a:pt x="1092" y="1040"/>
                    <a:pt x="1042" y="998"/>
                    <a:pt x="1038" y="942"/>
                  </a:cubicBezTo>
                  <a:cubicBezTo>
                    <a:pt x="1034" y="898"/>
                    <a:pt x="1045" y="861"/>
                    <a:pt x="1079" y="834"/>
                  </a:cubicBezTo>
                  <a:close/>
                </a:path>
              </a:pathLst>
            </a:custGeom>
            <a:solidFill>
              <a:srgbClr val="66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8530920" y="4409280"/>
              <a:ext cx="435600" cy="374040"/>
            </a:xfrm>
            <a:custGeom>
              <a:avLst/>
              <a:gdLst/>
              <a:ahLst/>
              <a:rect l="l" t="t" r="r" b="b"/>
              <a:pathLst>
                <a:path w="207" h="178">
                  <a:moveTo>
                    <a:pt x="37" y="1"/>
                  </a:moveTo>
                  <a:cubicBezTo>
                    <a:pt x="26" y="0"/>
                    <a:pt x="21" y="8"/>
                    <a:pt x="15" y="16"/>
                  </a:cubicBezTo>
                  <a:cubicBezTo>
                    <a:pt x="8" y="25"/>
                    <a:pt x="3" y="29"/>
                    <a:pt x="2" y="41"/>
                  </a:cubicBezTo>
                  <a:cubicBezTo>
                    <a:pt x="0" y="64"/>
                    <a:pt x="11" y="84"/>
                    <a:pt x="26" y="102"/>
                  </a:cubicBezTo>
                  <a:cubicBezTo>
                    <a:pt x="52" y="134"/>
                    <a:pt x="94" y="158"/>
                    <a:pt x="133" y="170"/>
                  </a:cubicBezTo>
                  <a:cubicBezTo>
                    <a:pt x="151" y="175"/>
                    <a:pt x="175" y="178"/>
                    <a:pt x="192" y="167"/>
                  </a:cubicBezTo>
                  <a:cubicBezTo>
                    <a:pt x="207" y="158"/>
                    <a:pt x="197" y="139"/>
                    <a:pt x="190" y="127"/>
                  </a:cubicBezTo>
                  <a:cubicBezTo>
                    <a:pt x="172" y="96"/>
                    <a:pt x="155" y="62"/>
                    <a:pt x="131" y="35"/>
                  </a:cubicBezTo>
                  <a:cubicBezTo>
                    <a:pt x="121" y="23"/>
                    <a:pt x="101" y="9"/>
                    <a:pt x="85" y="4"/>
                  </a:cubicBezTo>
                  <a:lnTo>
                    <a:pt x="37" y="1"/>
                  </a:ln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8530920" y="4418280"/>
              <a:ext cx="423360" cy="365400"/>
            </a:xfrm>
            <a:custGeom>
              <a:avLst/>
              <a:gdLst/>
              <a:ahLst/>
              <a:rect l="l" t="t" r="r" b="b"/>
              <a:pathLst>
                <a:path w="201" h="174">
                  <a:moveTo>
                    <a:pt x="136" y="156"/>
                  </a:moveTo>
                  <a:cubicBezTo>
                    <a:pt x="101" y="145"/>
                    <a:pt x="53" y="127"/>
                    <a:pt x="31" y="95"/>
                  </a:cubicBezTo>
                  <a:cubicBezTo>
                    <a:pt x="11" y="65"/>
                    <a:pt x="10" y="27"/>
                    <a:pt x="25" y="0"/>
                  </a:cubicBezTo>
                  <a:cubicBezTo>
                    <a:pt x="21" y="3"/>
                    <a:pt x="18" y="7"/>
                    <a:pt x="15" y="12"/>
                  </a:cubicBezTo>
                  <a:cubicBezTo>
                    <a:pt x="8" y="21"/>
                    <a:pt x="3" y="25"/>
                    <a:pt x="2" y="37"/>
                  </a:cubicBezTo>
                  <a:cubicBezTo>
                    <a:pt x="0" y="60"/>
                    <a:pt x="11" y="80"/>
                    <a:pt x="26" y="98"/>
                  </a:cubicBezTo>
                  <a:cubicBezTo>
                    <a:pt x="52" y="130"/>
                    <a:pt x="94" y="154"/>
                    <a:pt x="133" y="166"/>
                  </a:cubicBezTo>
                  <a:cubicBezTo>
                    <a:pt x="151" y="171"/>
                    <a:pt x="175" y="174"/>
                    <a:pt x="192" y="163"/>
                  </a:cubicBezTo>
                  <a:cubicBezTo>
                    <a:pt x="201" y="158"/>
                    <a:pt x="201" y="148"/>
                    <a:pt x="198" y="139"/>
                  </a:cubicBezTo>
                  <a:cubicBezTo>
                    <a:pt x="182" y="155"/>
                    <a:pt x="162" y="163"/>
                    <a:pt x="136" y="156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8559000" y="4409280"/>
              <a:ext cx="174960" cy="82080"/>
            </a:xfrm>
            <a:custGeom>
              <a:avLst/>
              <a:gdLst/>
              <a:ahLst/>
              <a:rect l="l" t="t" r="r" b="b"/>
              <a:pathLst>
                <a:path w="83" h="39">
                  <a:moveTo>
                    <a:pt x="59" y="34"/>
                  </a:moveTo>
                  <a:cubicBezTo>
                    <a:pt x="74" y="29"/>
                    <a:pt x="81" y="20"/>
                    <a:pt x="83" y="9"/>
                  </a:cubicBezTo>
                  <a:cubicBezTo>
                    <a:pt x="79" y="7"/>
                    <a:pt x="76" y="5"/>
                    <a:pt x="72" y="4"/>
                  </a:cubicBezTo>
                  <a:cubicBezTo>
                    <a:pt x="24" y="1"/>
                    <a:pt x="24" y="1"/>
                    <a:pt x="24" y="1"/>
                  </a:cubicBezTo>
                  <a:cubicBezTo>
                    <a:pt x="13" y="0"/>
                    <a:pt x="8" y="8"/>
                    <a:pt x="2" y="16"/>
                  </a:cubicBezTo>
                  <a:cubicBezTo>
                    <a:pt x="1" y="16"/>
                    <a:pt x="1" y="17"/>
                    <a:pt x="0" y="18"/>
                  </a:cubicBezTo>
                  <a:cubicBezTo>
                    <a:pt x="12" y="34"/>
                    <a:pt x="40" y="39"/>
                    <a:pt x="59" y="34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8893440" y="4278240"/>
              <a:ext cx="320040" cy="408960"/>
            </a:xfrm>
            <a:custGeom>
              <a:avLst/>
              <a:gdLst/>
              <a:ahLst/>
              <a:rect l="l" t="t" r="r" b="b"/>
              <a:pathLst>
                <a:path w="152" h="195">
                  <a:moveTo>
                    <a:pt x="34" y="8"/>
                  </a:moveTo>
                  <a:cubicBezTo>
                    <a:pt x="10" y="5"/>
                    <a:pt x="0" y="32"/>
                    <a:pt x="0" y="51"/>
                  </a:cubicBezTo>
                  <a:cubicBezTo>
                    <a:pt x="0" y="80"/>
                    <a:pt x="15" y="110"/>
                    <a:pt x="34" y="133"/>
                  </a:cubicBezTo>
                  <a:cubicBezTo>
                    <a:pt x="51" y="152"/>
                    <a:pt x="75" y="177"/>
                    <a:pt x="99" y="186"/>
                  </a:cubicBezTo>
                  <a:cubicBezTo>
                    <a:pt x="108" y="190"/>
                    <a:pt x="126" y="195"/>
                    <a:pt x="136" y="188"/>
                  </a:cubicBezTo>
                  <a:cubicBezTo>
                    <a:pt x="143" y="183"/>
                    <a:pt x="144" y="167"/>
                    <a:pt x="145" y="158"/>
                  </a:cubicBezTo>
                  <a:cubicBezTo>
                    <a:pt x="152" y="109"/>
                    <a:pt x="121" y="26"/>
                    <a:pt x="78" y="0"/>
                  </a:cubicBezTo>
                  <a:lnTo>
                    <a:pt x="34" y="8"/>
                  </a:lnTo>
                  <a:close/>
                </a:path>
              </a:pathLst>
            </a:custGeom>
            <a:solidFill>
              <a:srgbClr val="3534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>
              <a:off x="8914320" y="4278240"/>
              <a:ext cx="299160" cy="408960"/>
            </a:xfrm>
            <a:custGeom>
              <a:avLst/>
              <a:gdLst/>
              <a:ahLst/>
              <a:rect l="l" t="t" r="r" b="b"/>
              <a:pathLst>
                <a:path w="142" h="195">
                  <a:moveTo>
                    <a:pt x="68" y="0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13" y="7"/>
                    <a:pt x="6" y="11"/>
                    <a:pt x="0" y="18"/>
                  </a:cubicBezTo>
                  <a:cubicBezTo>
                    <a:pt x="8" y="27"/>
                    <a:pt x="16" y="37"/>
                    <a:pt x="26" y="39"/>
                  </a:cubicBezTo>
                  <a:cubicBezTo>
                    <a:pt x="45" y="43"/>
                    <a:pt x="46" y="32"/>
                    <a:pt x="60" y="29"/>
                  </a:cubicBezTo>
                  <a:cubicBezTo>
                    <a:pt x="73" y="26"/>
                    <a:pt x="85" y="30"/>
                    <a:pt x="93" y="40"/>
                  </a:cubicBezTo>
                  <a:cubicBezTo>
                    <a:pt x="113" y="65"/>
                    <a:pt x="123" y="100"/>
                    <a:pt x="126" y="132"/>
                  </a:cubicBezTo>
                  <a:cubicBezTo>
                    <a:pt x="128" y="158"/>
                    <a:pt x="117" y="177"/>
                    <a:pt x="88" y="176"/>
                  </a:cubicBezTo>
                  <a:cubicBezTo>
                    <a:pt x="80" y="175"/>
                    <a:pt x="72" y="174"/>
                    <a:pt x="64" y="172"/>
                  </a:cubicBezTo>
                  <a:cubicBezTo>
                    <a:pt x="72" y="178"/>
                    <a:pt x="81" y="183"/>
                    <a:pt x="89" y="186"/>
                  </a:cubicBezTo>
                  <a:cubicBezTo>
                    <a:pt x="98" y="190"/>
                    <a:pt x="116" y="195"/>
                    <a:pt x="126" y="188"/>
                  </a:cubicBezTo>
                  <a:cubicBezTo>
                    <a:pt x="133" y="183"/>
                    <a:pt x="134" y="167"/>
                    <a:pt x="135" y="158"/>
                  </a:cubicBezTo>
                  <a:cubicBezTo>
                    <a:pt x="142" y="109"/>
                    <a:pt x="111" y="26"/>
                    <a:pt x="68" y="0"/>
                  </a:cubicBezTo>
                  <a:close/>
                </a:path>
              </a:pathLst>
            </a:custGeom>
            <a:solidFill>
              <a:srgbClr val="2a2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6299280" y="1562040"/>
              <a:ext cx="360360" cy="5086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167" y="159"/>
                  </a:moveTo>
                  <a:cubicBezTo>
                    <a:pt x="167" y="159"/>
                    <a:pt x="172" y="125"/>
                    <a:pt x="163" y="104"/>
                  </a:cubicBezTo>
                  <a:cubicBezTo>
                    <a:pt x="154" y="83"/>
                    <a:pt x="160" y="37"/>
                    <a:pt x="147" y="33"/>
                  </a:cubicBezTo>
                  <a:cubicBezTo>
                    <a:pt x="133" y="30"/>
                    <a:pt x="120" y="32"/>
                    <a:pt x="118" y="83"/>
                  </a:cubicBezTo>
                  <a:cubicBezTo>
                    <a:pt x="118" y="83"/>
                    <a:pt x="105" y="86"/>
                    <a:pt x="69" y="43"/>
                  </a:cubicBezTo>
                  <a:cubicBezTo>
                    <a:pt x="32" y="0"/>
                    <a:pt x="24" y="20"/>
                    <a:pt x="27" y="40"/>
                  </a:cubicBezTo>
                  <a:cubicBezTo>
                    <a:pt x="27" y="40"/>
                    <a:pt x="28" y="60"/>
                    <a:pt x="37" y="70"/>
                  </a:cubicBezTo>
                  <a:cubicBezTo>
                    <a:pt x="37" y="70"/>
                    <a:pt x="21" y="56"/>
                    <a:pt x="15" y="62"/>
                  </a:cubicBezTo>
                  <a:cubicBezTo>
                    <a:pt x="8" y="67"/>
                    <a:pt x="0" y="89"/>
                    <a:pt x="16" y="106"/>
                  </a:cubicBezTo>
                  <a:cubicBezTo>
                    <a:pt x="16" y="106"/>
                    <a:pt x="1" y="101"/>
                    <a:pt x="1" y="119"/>
                  </a:cubicBezTo>
                  <a:cubicBezTo>
                    <a:pt x="1" y="136"/>
                    <a:pt x="58" y="227"/>
                    <a:pt x="158" y="242"/>
                  </a:cubicBezTo>
                  <a:lnTo>
                    <a:pt x="167" y="15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6458760" y="1630440"/>
              <a:ext cx="134640" cy="21852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"/>
                  </a:moveTo>
                  <a:cubicBezTo>
                    <a:pt x="53" y="0"/>
                    <a:pt x="44" y="8"/>
                    <a:pt x="42" y="51"/>
                  </a:cubicBezTo>
                  <a:cubicBezTo>
                    <a:pt x="42" y="51"/>
                    <a:pt x="39" y="52"/>
                    <a:pt x="34" y="49"/>
                  </a:cubicBezTo>
                  <a:cubicBezTo>
                    <a:pt x="33" y="51"/>
                    <a:pt x="31" y="53"/>
                    <a:pt x="30" y="55"/>
                  </a:cubicBezTo>
                  <a:cubicBezTo>
                    <a:pt x="26" y="58"/>
                    <a:pt x="22" y="60"/>
                    <a:pt x="18" y="63"/>
                  </a:cubicBezTo>
                  <a:cubicBezTo>
                    <a:pt x="14" y="65"/>
                    <a:pt x="11" y="69"/>
                    <a:pt x="8" y="72"/>
                  </a:cubicBezTo>
                  <a:cubicBezTo>
                    <a:pt x="1" y="81"/>
                    <a:pt x="0" y="93"/>
                    <a:pt x="2" y="104"/>
                  </a:cubicBezTo>
                  <a:cubicBezTo>
                    <a:pt x="4" y="92"/>
                    <a:pt x="7" y="82"/>
                    <a:pt x="19" y="74"/>
                  </a:cubicBezTo>
                  <a:cubicBezTo>
                    <a:pt x="27" y="68"/>
                    <a:pt x="37" y="68"/>
                    <a:pt x="44" y="62"/>
                  </a:cubicBezTo>
                  <a:cubicBezTo>
                    <a:pt x="58" y="51"/>
                    <a:pt x="51" y="38"/>
                    <a:pt x="53" y="24"/>
                  </a:cubicBezTo>
                  <a:cubicBezTo>
                    <a:pt x="54" y="17"/>
                    <a:pt x="58" y="7"/>
                    <a:pt x="64" y="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6346800" y="1621440"/>
              <a:ext cx="165960" cy="19404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31" y="75"/>
                  </a:moveTo>
                  <a:cubicBezTo>
                    <a:pt x="34" y="80"/>
                    <a:pt x="39" y="87"/>
                    <a:pt x="38" y="92"/>
                  </a:cubicBezTo>
                  <a:cubicBezTo>
                    <a:pt x="43" y="87"/>
                    <a:pt x="48" y="81"/>
                    <a:pt x="53" y="76"/>
                  </a:cubicBezTo>
                  <a:cubicBezTo>
                    <a:pt x="56" y="71"/>
                    <a:pt x="59" y="66"/>
                    <a:pt x="65" y="63"/>
                  </a:cubicBezTo>
                  <a:cubicBezTo>
                    <a:pt x="71" y="59"/>
                    <a:pt x="76" y="54"/>
                    <a:pt x="79" y="48"/>
                  </a:cubicBezTo>
                  <a:cubicBezTo>
                    <a:pt x="71" y="43"/>
                    <a:pt x="60" y="33"/>
                    <a:pt x="46" y="15"/>
                  </a:cubicBezTo>
                  <a:cubicBezTo>
                    <a:pt x="40" y="9"/>
                    <a:pt x="35" y="4"/>
                    <a:pt x="31" y="0"/>
                  </a:cubicBezTo>
                  <a:cubicBezTo>
                    <a:pt x="34" y="10"/>
                    <a:pt x="38" y="19"/>
                    <a:pt x="45" y="27"/>
                  </a:cubicBezTo>
                  <a:cubicBezTo>
                    <a:pt x="51" y="34"/>
                    <a:pt x="56" y="40"/>
                    <a:pt x="61" y="48"/>
                  </a:cubicBezTo>
                  <a:cubicBezTo>
                    <a:pt x="66" y="57"/>
                    <a:pt x="64" y="69"/>
                    <a:pt x="51" y="67"/>
                  </a:cubicBezTo>
                  <a:cubicBezTo>
                    <a:pt x="32" y="65"/>
                    <a:pt x="18" y="41"/>
                    <a:pt x="10" y="26"/>
                  </a:cubicBezTo>
                  <a:cubicBezTo>
                    <a:pt x="8" y="22"/>
                    <a:pt x="6" y="18"/>
                    <a:pt x="4" y="13"/>
                  </a:cubicBezTo>
                  <a:cubicBezTo>
                    <a:pt x="5" y="18"/>
                    <a:pt x="6" y="34"/>
                    <a:pt x="14" y="42"/>
                  </a:cubicBezTo>
                  <a:cubicBezTo>
                    <a:pt x="14" y="42"/>
                    <a:pt x="6" y="35"/>
                    <a:pt x="0" y="33"/>
                  </a:cubicBezTo>
                  <a:cubicBezTo>
                    <a:pt x="7" y="48"/>
                    <a:pt x="19" y="60"/>
                    <a:pt x="31" y="7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6313320" y="1738800"/>
              <a:ext cx="104760" cy="122400"/>
            </a:xfrm>
            <a:custGeom>
              <a:avLst/>
              <a:gdLst/>
              <a:ahLst/>
              <a:rect l="l" t="t" r="r" b="b"/>
              <a:pathLst>
                <a:path w="50" h="58">
                  <a:moveTo>
                    <a:pt x="40" y="58"/>
                  </a:moveTo>
                  <a:cubicBezTo>
                    <a:pt x="43" y="52"/>
                    <a:pt x="46" y="47"/>
                    <a:pt x="50" y="42"/>
                  </a:cubicBezTo>
                  <a:cubicBezTo>
                    <a:pt x="49" y="42"/>
                    <a:pt x="48" y="43"/>
                    <a:pt x="46" y="43"/>
                  </a:cubicBezTo>
                  <a:cubicBezTo>
                    <a:pt x="35" y="45"/>
                    <a:pt x="16" y="21"/>
                    <a:pt x="9" y="14"/>
                  </a:cubicBezTo>
                  <a:cubicBezTo>
                    <a:pt x="5" y="9"/>
                    <a:pt x="2" y="4"/>
                    <a:pt x="0" y="0"/>
                  </a:cubicBezTo>
                  <a:cubicBezTo>
                    <a:pt x="0" y="7"/>
                    <a:pt x="2" y="15"/>
                    <a:pt x="9" y="22"/>
                  </a:cubicBezTo>
                  <a:cubicBezTo>
                    <a:pt x="9" y="22"/>
                    <a:pt x="7" y="21"/>
                    <a:pt x="5" y="21"/>
                  </a:cubicBezTo>
                  <a:cubicBezTo>
                    <a:pt x="10" y="28"/>
                    <a:pt x="15" y="34"/>
                    <a:pt x="21" y="39"/>
                  </a:cubicBezTo>
                  <a:cubicBezTo>
                    <a:pt x="27" y="45"/>
                    <a:pt x="34" y="51"/>
                    <a:pt x="40" y="58"/>
                  </a:cubicBezTo>
                  <a:cubicBezTo>
                    <a:pt x="40" y="58"/>
                    <a:pt x="40" y="58"/>
                    <a:pt x="40" y="5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6301080" y="1785960"/>
              <a:ext cx="356760" cy="28476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166" y="53"/>
                  </a:moveTo>
                  <a:cubicBezTo>
                    <a:pt x="166" y="53"/>
                    <a:pt x="170" y="22"/>
                    <a:pt x="163" y="0"/>
                  </a:cubicBezTo>
                  <a:cubicBezTo>
                    <a:pt x="155" y="30"/>
                    <a:pt x="142" y="63"/>
                    <a:pt x="117" y="76"/>
                  </a:cubicBezTo>
                  <a:cubicBezTo>
                    <a:pt x="106" y="83"/>
                    <a:pt x="91" y="86"/>
                    <a:pt x="77" y="82"/>
                  </a:cubicBezTo>
                  <a:cubicBezTo>
                    <a:pt x="64" y="78"/>
                    <a:pt x="56" y="65"/>
                    <a:pt x="45" y="56"/>
                  </a:cubicBezTo>
                  <a:cubicBezTo>
                    <a:pt x="43" y="57"/>
                    <a:pt x="41" y="57"/>
                    <a:pt x="39" y="56"/>
                  </a:cubicBezTo>
                  <a:cubicBezTo>
                    <a:pt x="24" y="53"/>
                    <a:pt x="14" y="34"/>
                    <a:pt x="6" y="22"/>
                  </a:cubicBezTo>
                  <a:cubicBezTo>
                    <a:pt x="4" y="19"/>
                    <a:pt x="2" y="16"/>
                    <a:pt x="0" y="1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30"/>
                    <a:pt x="57" y="121"/>
                    <a:pt x="157" y="136"/>
                  </a:cubicBezTo>
                  <a:lnTo>
                    <a:pt x="166" y="53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6567120" y="1936440"/>
              <a:ext cx="1097280" cy="877680"/>
            </a:xfrm>
            <a:custGeom>
              <a:avLst/>
              <a:gdLst/>
              <a:ahLst/>
              <a:rect l="l" t="t" r="r" b="b"/>
              <a:pathLst>
                <a:path w="627" h="502">
                  <a:moveTo>
                    <a:pt x="627" y="361"/>
                  </a:moveTo>
                  <a:lnTo>
                    <a:pt x="59" y="9"/>
                  </a:lnTo>
                  <a:lnTo>
                    <a:pt x="47" y="0"/>
                  </a:lnTo>
                  <a:lnTo>
                    <a:pt x="0" y="68"/>
                  </a:lnTo>
                  <a:lnTo>
                    <a:pt x="601" y="502"/>
                  </a:lnTo>
                  <a:lnTo>
                    <a:pt x="627" y="361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6567120" y="1936440"/>
              <a:ext cx="1069200" cy="877680"/>
            </a:xfrm>
            <a:custGeom>
              <a:avLst/>
              <a:gdLst/>
              <a:ahLst/>
              <a:rect l="l" t="t" r="r" b="b"/>
              <a:pathLst>
                <a:path w="508" h="418">
                  <a:moveTo>
                    <a:pt x="348" y="259"/>
                  </a:moveTo>
                  <a:cubicBezTo>
                    <a:pt x="293" y="224"/>
                    <a:pt x="239" y="188"/>
                    <a:pt x="181" y="157"/>
                  </a:cubicBezTo>
                  <a:cubicBezTo>
                    <a:pt x="133" y="132"/>
                    <a:pt x="72" y="109"/>
                    <a:pt x="38" y="64"/>
                  </a:cubicBezTo>
                  <a:cubicBezTo>
                    <a:pt x="28" y="51"/>
                    <a:pt x="37" y="41"/>
                    <a:pt x="44" y="26"/>
                  </a:cubicBezTo>
                  <a:cubicBezTo>
                    <a:pt x="47" y="20"/>
                    <a:pt x="49" y="15"/>
                    <a:pt x="52" y="9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500" y="418"/>
                    <a:pt x="500" y="418"/>
                    <a:pt x="500" y="418"/>
                  </a:cubicBezTo>
                  <a:cubicBezTo>
                    <a:pt x="508" y="372"/>
                    <a:pt x="508" y="372"/>
                    <a:pt x="508" y="372"/>
                  </a:cubicBezTo>
                  <a:cubicBezTo>
                    <a:pt x="457" y="331"/>
                    <a:pt x="403" y="295"/>
                    <a:pt x="348" y="25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6525360" y="1894320"/>
              <a:ext cx="157320" cy="188640"/>
            </a:xfrm>
            <a:custGeom>
              <a:avLst/>
              <a:gdLst/>
              <a:ahLst/>
              <a:rect l="l" t="t" r="r" b="b"/>
              <a:pathLst>
                <a:path w="75" h="90">
                  <a:moveTo>
                    <a:pt x="0" y="72"/>
                  </a:moveTo>
                  <a:cubicBezTo>
                    <a:pt x="25" y="90"/>
                    <a:pt x="25" y="90"/>
                    <a:pt x="25" y="90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0"/>
                    <a:pt x="4" y="45"/>
                    <a:pt x="0" y="72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8656920" y="830880"/>
              <a:ext cx="428760" cy="552600"/>
            </a:xfrm>
            <a:custGeom>
              <a:avLst/>
              <a:gdLst/>
              <a:ahLst/>
              <a:rect l="l" t="t" r="r" b="b"/>
              <a:pathLst>
                <a:path w="204" h="263">
                  <a:moveTo>
                    <a:pt x="78" y="208"/>
                  </a:moveTo>
                  <a:cubicBezTo>
                    <a:pt x="78" y="208"/>
                    <a:pt x="52" y="187"/>
                    <a:pt x="44" y="165"/>
                  </a:cubicBezTo>
                  <a:cubicBezTo>
                    <a:pt x="36" y="144"/>
                    <a:pt x="0" y="114"/>
                    <a:pt x="7" y="103"/>
                  </a:cubicBezTo>
                  <a:cubicBezTo>
                    <a:pt x="14" y="91"/>
                    <a:pt x="25" y="83"/>
                    <a:pt x="62" y="119"/>
                  </a:cubicBezTo>
                  <a:cubicBezTo>
                    <a:pt x="62" y="119"/>
                    <a:pt x="74" y="113"/>
                    <a:pt x="70" y="56"/>
                  </a:cubicBezTo>
                  <a:cubicBezTo>
                    <a:pt x="67" y="0"/>
                    <a:pt x="87" y="9"/>
                    <a:pt x="98" y="26"/>
                  </a:cubicBezTo>
                  <a:cubicBezTo>
                    <a:pt x="98" y="26"/>
                    <a:pt x="111" y="41"/>
                    <a:pt x="112" y="54"/>
                  </a:cubicBezTo>
                  <a:cubicBezTo>
                    <a:pt x="112" y="54"/>
                    <a:pt x="113" y="33"/>
                    <a:pt x="122" y="32"/>
                  </a:cubicBezTo>
                  <a:cubicBezTo>
                    <a:pt x="131" y="32"/>
                    <a:pt x="151" y="42"/>
                    <a:pt x="151" y="66"/>
                  </a:cubicBezTo>
                  <a:cubicBezTo>
                    <a:pt x="151" y="66"/>
                    <a:pt x="160" y="52"/>
                    <a:pt x="172" y="64"/>
                  </a:cubicBezTo>
                  <a:cubicBezTo>
                    <a:pt x="183" y="77"/>
                    <a:pt x="204" y="182"/>
                    <a:pt x="142" y="263"/>
                  </a:cubicBezTo>
                  <a:lnTo>
                    <a:pt x="78" y="20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8681400" y="1018080"/>
              <a:ext cx="244800" cy="8712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0" y="8"/>
                  </a:moveTo>
                  <a:cubicBezTo>
                    <a:pt x="8" y="1"/>
                    <a:pt x="20" y="0"/>
                    <a:pt x="51" y="30"/>
                  </a:cubicBezTo>
                  <a:cubicBezTo>
                    <a:pt x="51" y="30"/>
                    <a:pt x="53" y="29"/>
                    <a:pt x="55" y="23"/>
                  </a:cubicBezTo>
                  <a:cubicBezTo>
                    <a:pt x="57" y="23"/>
                    <a:pt x="60" y="24"/>
                    <a:pt x="62" y="24"/>
                  </a:cubicBezTo>
                  <a:cubicBezTo>
                    <a:pt x="67" y="24"/>
                    <a:pt x="72" y="23"/>
                    <a:pt x="77" y="22"/>
                  </a:cubicBezTo>
                  <a:cubicBezTo>
                    <a:pt x="81" y="21"/>
                    <a:pt x="85" y="22"/>
                    <a:pt x="90" y="22"/>
                  </a:cubicBezTo>
                  <a:cubicBezTo>
                    <a:pt x="101" y="24"/>
                    <a:pt x="110" y="32"/>
                    <a:pt x="117" y="41"/>
                  </a:cubicBezTo>
                  <a:cubicBezTo>
                    <a:pt x="107" y="34"/>
                    <a:pt x="97" y="28"/>
                    <a:pt x="83" y="31"/>
                  </a:cubicBezTo>
                  <a:cubicBezTo>
                    <a:pt x="74" y="32"/>
                    <a:pt x="66" y="39"/>
                    <a:pt x="57" y="39"/>
                  </a:cubicBezTo>
                  <a:cubicBezTo>
                    <a:pt x="39" y="41"/>
                    <a:pt x="35" y="27"/>
                    <a:pt x="24" y="18"/>
                  </a:cubicBezTo>
                  <a:cubicBezTo>
                    <a:pt x="18" y="13"/>
                    <a:pt x="9" y="10"/>
                    <a:pt x="0" y="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53"/>
            <p:cNvSpPr/>
            <p:nvPr/>
          </p:nvSpPr>
          <p:spPr>
            <a:xfrm>
              <a:off x="8802360" y="888840"/>
              <a:ext cx="124200" cy="16956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3" y="62"/>
                  </a:moveTo>
                  <a:cubicBezTo>
                    <a:pt x="54" y="68"/>
                    <a:pt x="55" y="76"/>
                    <a:pt x="59" y="80"/>
                  </a:cubicBezTo>
                  <a:cubicBezTo>
                    <a:pt x="52" y="79"/>
                    <a:pt x="45" y="79"/>
                    <a:pt x="38" y="79"/>
                  </a:cubicBezTo>
                  <a:cubicBezTo>
                    <a:pt x="32" y="77"/>
                    <a:pt x="26" y="76"/>
                    <a:pt x="20" y="77"/>
                  </a:cubicBezTo>
                  <a:cubicBezTo>
                    <a:pt x="12" y="79"/>
                    <a:pt x="5" y="78"/>
                    <a:pt x="0" y="76"/>
                  </a:cubicBezTo>
                  <a:cubicBezTo>
                    <a:pt x="2" y="67"/>
                    <a:pt x="3" y="52"/>
                    <a:pt x="1" y="29"/>
                  </a:cubicBezTo>
                  <a:cubicBezTo>
                    <a:pt x="1" y="21"/>
                    <a:pt x="1" y="14"/>
                    <a:pt x="1" y="8"/>
                  </a:cubicBezTo>
                  <a:cubicBezTo>
                    <a:pt x="6" y="17"/>
                    <a:pt x="9" y="27"/>
                    <a:pt x="10" y="37"/>
                  </a:cubicBezTo>
                  <a:cubicBezTo>
                    <a:pt x="10" y="46"/>
                    <a:pt x="11" y="55"/>
                    <a:pt x="13" y="64"/>
                  </a:cubicBezTo>
                  <a:cubicBezTo>
                    <a:pt x="15" y="74"/>
                    <a:pt x="25" y="81"/>
                    <a:pt x="33" y="71"/>
                  </a:cubicBezTo>
                  <a:cubicBezTo>
                    <a:pt x="46" y="56"/>
                    <a:pt x="39" y="29"/>
                    <a:pt x="34" y="13"/>
                  </a:cubicBezTo>
                  <a:cubicBezTo>
                    <a:pt x="33" y="8"/>
                    <a:pt x="32" y="4"/>
                    <a:pt x="30" y="0"/>
                  </a:cubicBezTo>
                  <a:cubicBezTo>
                    <a:pt x="33" y="3"/>
                    <a:pt x="42" y="16"/>
                    <a:pt x="43" y="27"/>
                  </a:cubicBezTo>
                  <a:cubicBezTo>
                    <a:pt x="43" y="27"/>
                    <a:pt x="44" y="17"/>
                    <a:pt x="47" y="10"/>
                  </a:cubicBezTo>
                  <a:cubicBezTo>
                    <a:pt x="52" y="27"/>
                    <a:pt x="51" y="44"/>
                    <a:pt x="53" y="62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54"/>
            <p:cNvSpPr/>
            <p:nvPr/>
          </p:nvSpPr>
          <p:spPr>
            <a:xfrm>
              <a:off x="8944200" y="921960"/>
              <a:ext cx="41760" cy="146880"/>
            </a:xfrm>
            <a:custGeom>
              <a:avLst/>
              <a:gdLst/>
              <a:ahLst/>
              <a:rect l="l" t="t" r="r" b="b"/>
              <a:pathLst>
                <a:path w="20" h="70">
                  <a:moveTo>
                    <a:pt x="18" y="70"/>
                  </a:moveTo>
                  <a:cubicBezTo>
                    <a:pt x="12" y="68"/>
                    <a:pt x="6" y="66"/>
                    <a:pt x="0" y="65"/>
                  </a:cubicBezTo>
                  <a:cubicBezTo>
                    <a:pt x="1" y="65"/>
                    <a:pt x="2" y="64"/>
                    <a:pt x="3" y="63"/>
                  </a:cubicBezTo>
                  <a:cubicBezTo>
                    <a:pt x="13" y="57"/>
                    <a:pt x="10" y="27"/>
                    <a:pt x="10" y="17"/>
                  </a:cubicBezTo>
                  <a:cubicBezTo>
                    <a:pt x="10" y="11"/>
                    <a:pt x="9" y="5"/>
                    <a:pt x="7" y="0"/>
                  </a:cubicBezTo>
                  <a:cubicBezTo>
                    <a:pt x="12" y="5"/>
                    <a:pt x="15" y="13"/>
                    <a:pt x="15" y="23"/>
                  </a:cubicBezTo>
                  <a:cubicBezTo>
                    <a:pt x="15" y="23"/>
                    <a:pt x="16" y="21"/>
                    <a:pt x="18" y="19"/>
                  </a:cubicBezTo>
                  <a:cubicBezTo>
                    <a:pt x="19" y="27"/>
                    <a:pt x="20" y="35"/>
                    <a:pt x="19" y="43"/>
                  </a:cubicBezTo>
                  <a:cubicBezTo>
                    <a:pt x="18" y="52"/>
                    <a:pt x="17" y="61"/>
                    <a:pt x="18" y="70"/>
                  </a:cubicBezTo>
                  <a:cubicBezTo>
                    <a:pt x="18" y="70"/>
                    <a:pt x="18" y="70"/>
                    <a:pt x="18" y="7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8751600" y="965880"/>
              <a:ext cx="334080" cy="417960"/>
            </a:xfrm>
            <a:custGeom>
              <a:avLst/>
              <a:gdLst/>
              <a:ahLst/>
              <a:rect l="l" t="t" r="r" b="b"/>
              <a:pathLst>
                <a:path w="159" h="199">
                  <a:moveTo>
                    <a:pt x="33" y="144"/>
                  </a:moveTo>
                  <a:cubicBezTo>
                    <a:pt x="33" y="144"/>
                    <a:pt x="9" y="124"/>
                    <a:pt x="0" y="103"/>
                  </a:cubicBezTo>
                  <a:cubicBezTo>
                    <a:pt x="25" y="120"/>
                    <a:pt x="57" y="135"/>
                    <a:pt x="85" y="127"/>
                  </a:cubicBezTo>
                  <a:cubicBezTo>
                    <a:pt x="98" y="124"/>
                    <a:pt x="111" y="116"/>
                    <a:pt x="118" y="104"/>
                  </a:cubicBezTo>
                  <a:cubicBezTo>
                    <a:pt x="125" y="92"/>
                    <a:pt x="122" y="77"/>
                    <a:pt x="124" y="63"/>
                  </a:cubicBezTo>
                  <a:cubicBezTo>
                    <a:pt x="125" y="63"/>
                    <a:pt x="127" y="61"/>
                    <a:pt x="128" y="59"/>
                  </a:cubicBezTo>
                  <a:cubicBezTo>
                    <a:pt x="136" y="47"/>
                    <a:pt x="131" y="25"/>
                    <a:pt x="129" y="12"/>
                  </a:cubicBezTo>
                  <a:cubicBezTo>
                    <a:pt x="128" y="8"/>
                    <a:pt x="127" y="4"/>
                    <a:pt x="126" y="0"/>
                  </a:cubicBezTo>
                  <a:cubicBezTo>
                    <a:pt x="126" y="0"/>
                    <a:pt x="126" y="0"/>
                    <a:pt x="127" y="0"/>
                  </a:cubicBezTo>
                  <a:cubicBezTo>
                    <a:pt x="138" y="13"/>
                    <a:pt x="159" y="118"/>
                    <a:pt x="97" y="199"/>
                  </a:cubicBezTo>
                  <a:lnTo>
                    <a:pt x="33" y="144"/>
                  </a:ln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8102160" y="1259640"/>
              <a:ext cx="899280" cy="1365840"/>
            </a:xfrm>
            <a:custGeom>
              <a:avLst/>
              <a:gdLst/>
              <a:ahLst/>
              <a:rect l="l" t="t" r="r" b="b"/>
              <a:pathLst>
                <a:path w="428" h="650">
                  <a:moveTo>
                    <a:pt x="56" y="650"/>
                  </a:moveTo>
                  <a:cubicBezTo>
                    <a:pt x="56" y="650"/>
                    <a:pt x="149" y="593"/>
                    <a:pt x="275" y="357"/>
                  </a:cubicBezTo>
                  <a:cubicBezTo>
                    <a:pt x="401" y="121"/>
                    <a:pt x="428" y="19"/>
                    <a:pt x="428" y="19"/>
                  </a:cubicBezTo>
                  <a:cubicBezTo>
                    <a:pt x="428" y="19"/>
                    <a:pt x="409" y="0"/>
                    <a:pt x="351" y="11"/>
                  </a:cubicBezTo>
                  <a:cubicBezTo>
                    <a:pt x="351" y="11"/>
                    <a:pt x="351" y="58"/>
                    <a:pt x="336" y="108"/>
                  </a:cubicBezTo>
                  <a:cubicBezTo>
                    <a:pt x="334" y="116"/>
                    <a:pt x="287" y="216"/>
                    <a:pt x="262" y="261"/>
                  </a:cubicBezTo>
                  <a:cubicBezTo>
                    <a:pt x="186" y="399"/>
                    <a:pt x="20" y="572"/>
                    <a:pt x="20" y="572"/>
                  </a:cubicBezTo>
                  <a:cubicBezTo>
                    <a:pt x="20" y="572"/>
                    <a:pt x="0" y="627"/>
                    <a:pt x="56" y="65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8835480" y="1259640"/>
              <a:ext cx="165960" cy="11160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68" y="53"/>
                  </a:moveTo>
                  <a:cubicBezTo>
                    <a:pt x="76" y="30"/>
                    <a:pt x="79" y="19"/>
                    <a:pt x="79" y="19"/>
                  </a:cubicBezTo>
                  <a:cubicBezTo>
                    <a:pt x="79" y="19"/>
                    <a:pt x="60" y="0"/>
                    <a:pt x="2" y="11"/>
                  </a:cubicBezTo>
                  <a:cubicBezTo>
                    <a:pt x="2" y="11"/>
                    <a:pt x="2" y="21"/>
                    <a:pt x="0" y="37"/>
                  </a:cubicBezTo>
                  <a:cubicBezTo>
                    <a:pt x="24" y="38"/>
                    <a:pt x="46" y="45"/>
                    <a:pt x="68" y="5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8102160" y="1259640"/>
              <a:ext cx="899280" cy="1365840"/>
            </a:xfrm>
            <a:custGeom>
              <a:avLst/>
              <a:gdLst/>
              <a:ahLst/>
              <a:rect l="l" t="t" r="r" b="b"/>
              <a:pathLst>
                <a:path w="428" h="650">
                  <a:moveTo>
                    <a:pt x="351" y="11"/>
                  </a:moveTo>
                  <a:cubicBezTo>
                    <a:pt x="351" y="11"/>
                    <a:pt x="351" y="25"/>
                    <a:pt x="348" y="46"/>
                  </a:cubicBezTo>
                  <a:cubicBezTo>
                    <a:pt x="366" y="48"/>
                    <a:pt x="385" y="54"/>
                    <a:pt x="390" y="70"/>
                  </a:cubicBezTo>
                  <a:cubicBezTo>
                    <a:pt x="401" y="100"/>
                    <a:pt x="372" y="135"/>
                    <a:pt x="359" y="160"/>
                  </a:cubicBezTo>
                  <a:cubicBezTo>
                    <a:pt x="337" y="198"/>
                    <a:pt x="323" y="241"/>
                    <a:pt x="298" y="277"/>
                  </a:cubicBezTo>
                  <a:cubicBezTo>
                    <a:pt x="275" y="313"/>
                    <a:pt x="244" y="344"/>
                    <a:pt x="236" y="388"/>
                  </a:cubicBezTo>
                  <a:cubicBezTo>
                    <a:pt x="235" y="392"/>
                    <a:pt x="229" y="393"/>
                    <a:pt x="227" y="389"/>
                  </a:cubicBezTo>
                  <a:cubicBezTo>
                    <a:pt x="220" y="374"/>
                    <a:pt x="213" y="359"/>
                    <a:pt x="210" y="344"/>
                  </a:cubicBezTo>
                  <a:cubicBezTo>
                    <a:pt x="128" y="459"/>
                    <a:pt x="20" y="572"/>
                    <a:pt x="20" y="572"/>
                  </a:cubicBezTo>
                  <a:cubicBezTo>
                    <a:pt x="20" y="572"/>
                    <a:pt x="0" y="627"/>
                    <a:pt x="56" y="650"/>
                  </a:cubicBezTo>
                  <a:cubicBezTo>
                    <a:pt x="56" y="650"/>
                    <a:pt x="149" y="593"/>
                    <a:pt x="275" y="357"/>
                  </a:cubicBezTo>
                  <a:cubicBezTo>
                    <a:pt x="401" y="121"/>
                    <a:pt x="428" y="19"/>
                    <a:pt x="428" y="19"/>
                  </a:cubicBezTo>
                  <a:cubicBezTo>
                    <a:pt x="428" y="19"/>
                    <a:pt x="409" y="0"/>
                    <a:pt x="351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8835480" y="1259640"/>
              <a:ext cx="165960" cy="11160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68" y="53"/>
                  </a:moveTo>
                  <a:cubicBezTo>
                    <a:pt x="76" y="30"/>
                    <a:pt x="79" y="19"/>
                    <a:pt x="79" y="19"/>
                  </a:cubicBezTo>
                  <a:cubicBezTo>
                    <a:pt x="79" y="19"/>
                    <a:pt x="60" y="0"/>
                    <a:pt x="2" y="11"/>
                  </a:cubicBezTo>
                  <a:cubicBezTo>
                    <a:pt x="2" y="11"/>
                    <a:pt x="2" y="21"/>
                    <a:pt x="0" y="37"/>
                  </a:cubicBezTo>
                  <a:cubicBezTo>
                    <a:pt x="24" y="38"/>
                    <a:pt x="46" y="45"/>
                    <a:pt x="68" y="5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8058600" y="3402000"/>
              <a:ext cx="654480" cy="1064880"/>
            </a:xfrm>
            <a:custGeom>
              <a:avLst/>
              <a:gdLst/>
              <a:ahLst/>
              <a:rect l="l" t="t" r="r" b="b"/>
              <a:pathLst>
                <a:path w="311" h="507">
                  <a:moveTo>
                    <a:pt x="62" y="27"/>
                  </a:moveTo>
                  <a:cubicBezTo>
                    <a:pt x="62" y="27"/>
                    <a:pt x="194" y="138"/>
                    <a:pt x="310" y="484"/>
                  </a:cubicBezTo>
                  <a:cubicBezTo>
                    <a:pt x="310" y="484"/>
                    <a:pt x="311" y="505"/>
                    <a:pt x="281" y="506"/>
                  </a:cubicBezTo>
                  <a:cubicBezTo>
                    <a:pt x="251" y="507"/>
                    <a:pt x="239" y="482"/>
                    <a:pt x="240" y="459"/>
                  </a:cubicBezTo>
                  <a:cubicBezTo>
                    <a:pt x="241" y="436"/>
                    <a:pt x="207" y="334"/>
                    <a:pt x="183" y="292"/>
                  </a:cubicBezTo>
                  <a:cubicBezTo>
                    <a:pt x="159" y="250"/>
                    <a:pt x="71" y="72"/>
                    <a:pt x="0" y="71"/>
                  </a:cubicBezTo>
                  <a:cubicBezTo>
                    <a:pt x="0" y="71"/>
                    <a:pt x="6" y="0"/>
                    <a:pt x="62" y="27"/>
                  </a:cubicBez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8058600" y="3402000"/>
              <a:ext cx="591480" cy="1064880"/>
            </a:xfrm>
            <a:custGeom>
              <a:avLst/>
              <a:gdLst/>
              <a:ahLst/>
              <a:rect l="l" t="t" r="r" b="b"/>
              <a:pathLst>
                <a:path w="281" h="507">
                  <a:moveTo>
                    <a:pt x="279" y="499"/>
                  </a:moveTo>
                  <a:cubicBezTo>
                    <a:pt x="273" y="477"/>
                    <a:pt x="267" y="456"/>
                    <a:pt x="260" y="436"/>
                  </a:cubicBezTo>
                  <a:cubicBezTo>
                    <a:pt x="245" y="391"/>
                    <a:pt x="229" y="347"/>
                    <a:pt x="207" y="305"/>
                  </a:cubicBezTo>
                  <a:cubicBezTo>
                    <a:pt x="186" y="264"/>
                    <a:pt x="161" y="226"/>
                    <a:pt x="135" y="187"/>
                  </a:cubicBezTo>
                  <a:cubicBezTo>
                    <a:pt x="124" y="169"/>
                    <a:pt x="113" y="150"/>
                    <a:pt x="104" y="131"/>
                  </a:cubicBezTo>
                  <a:cubicBezTo>
                    <a:pt x="95" y="112"/>
                    <a:pt x="82" y="95"/>
                    <a:pt x="74" y="77"/>
                  </a:cubicBezTo>
                  <a:cubicBezTo>
                    <a:pt x="73" y="74"/>
                    <a:pt x="73" y="71"/>
                    <a:pt x="75" y="70"/>
                  </a:cubicBezTo>
                  <a:cubicBezTo>
                    <a:pt x="82" y="67"/>
                    <a:pt x="88" y="65"/>
                    <a:pt x="95" y="62"/>
                  </a:cubicBezTo>
                  <a:cubicBezTo>
                    <a:pt x="74" y="38"/>
                    <a:pt x="62" y="27"/>
                    <a:pt x="62" y="27"/>
                  </a:cubicBezTo>
                  <a:cubicBezTo>
                    <a:pt x="6" y="0"/>
                    <a:pt x="0" y="71"/>
                    <a:pt x="0" y="71"/>
                  </a:cubicBezTo>
                  <a:cubicBezTo>
                    <a:pt x="71" y="72"/>
                    <a:pt x="159" y="250"/>
                    <a:pt x="183" y="292"/>
                  </a:cubicBezTo>
                  <a:cubicBezTo>
                    <a:pt x="207" y="334"/>
                    <a:pt x="241" y="436"/>
                    <a:pt x="240" y="459"/>
                  </a:cubicBezTo>
                  <a:cubicBezTo>
                    <a:pt x="239" y="482"/>
                    <a:pt x="251" y="507"/>
                    <a:pt x="281" y="506"/>
                  </a:cubicBezTo>
                  <a:cubicBezTo>
                    <a:pt x="281" y="506"/>
                    <a:pt x="281" y="506"/>
                    <a:pt x="281" y="506"/>
                  </a:cubicBezTo>
                  <a:cubicBezTo>
                    <a:pt x="281" y="503"/>
                    <a:pt x="280" y="501"/>
                    <a:pt x="279" y="49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8343720" y="3290040"/>
              <a:ext cx="693000" cy="1064880"/>
            </a:xfrm>
            <a:custGeom>
              <a:avLst/>
              <a:gdLst/>
              <a:ahLst/>
              <a:rect l="l" t="t" r="r" b="b"/>
              <a:pathLst>
                <a:path w="329" h="507">
                  <a:moveTo>
                    <a:pt x="37" y="9"/>
                  </a:moveTo>
                  <a:cubicBezTo>
                    <a:pt x="37" y="9"/>
                    <a:pt x="180" y="150"/>
                    <a:pt x="236" y="259"/>
                  </a:cubicBezTo>
                  <a:cubicBezTo>
                    <a:pt x="291" y="368"/>
                    <a:pt x="325" y="473"/>
                    <a:pt x="325" y="473"/>
                  </a:cubicBezTo>
                  <a:cubicBezTo>
                    <a:pt x="325" y="473"/>
                    <a:pt x="329" y="495"/>
                    <a:pt x="307" y="501"/>
                  </a:cubicBezTo>
                  <a:cubicBezTo>
                    <a:pt x="285" y="507"/>
                    <a:pt x="265" y="439"/>
                    <a:pt x="265" y="439"/>
                  </a:cubicBezTo>
                  <a:cubicBezTo>
                    <a:pt x="265" y="439"/>
                    <a:pt x="219" y="284"/>
                    <a:pt x="133" y="172"/>
                  </a:cubicBezTo>
                  <a:cubicBezTo>
                    <a:pt x="93" y="120"/>
                    <a:pt x="14" y="51"/>
                    <a:pt x="14" y="51"/>
                  </a:cubicBezTo>
                  <a:cubicBezTo>
                    <a:pt x="14" y="51"/>
                    <a:pt x="0" y="0"/>
                    <a:pt x="37" y="9"/>
                  </a:cubicBez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8343720" y="3290040"/>
              <a:ext cx="687600" cy="1036800"/>
            </a:xfrm>
            <a:custGeom>
              <a:avLst/>
              <a:gdLst/>
              <a:ahLst/>
              <a:rect l="l" t="t" r="r" b="b"/>
              <a:pathLst>
                <a:path w="327" h="494">
                  <a:moveTo>
                    <a:pt x="68" y="61"/>
                  </a:moveTo>
                  <a:cubicBezTo>
                    <a:pt x="83" y="65"/>
                    <a:pt x="94" y="90"/>
                    <a:pt x="101" y="102"/>
                  </a:cubicBezTo>
                  <a:cubicBezTo>
                    <a:pt x="118" y="129"/>
                    <a:pt x="144" y="149"/>
                    <a:pt x="164" y="173"/>
                  </a:cubicBezTo>
                  <a:cubicBezTo>
                    <a:pt x="183" y="194"/>
                    <a:pt x="199" y="217"/>
                    <a:pt x="213" y="241"/>
                  </a:cubicBezTo>
                  <a:cubicBezTo>
                    <a:pt x="241" y="292"/>
                    <a:pt x="262" y="345"/>
                    <a:pt x="283" y="399"/>
                  </a:cubicBezTo>
                  <a:cubicBezTo>
                    <a:pt x="295" y="431"/>
                    <a:pt x="308" y="462"/>
                    <a:pt x="319" y="494"/>
                  </a:cubicBezTo>
                  <a:cubicBezTo>
                    <a:pt x="327" y="486"/>
                    <a:pt x="325" y="473"/>
                    <a:pt x="325" y="473"/>
                  </a:cubicBezTo>
                  <a:cubicBezTo>
                    <a:pt x="325" y="473"/>
                    <a:pt x="291" y="368"/>
                    <a:pt x="236" y="259"/>
                  </a:cubicBezTo>
                  <a:cubicBezTo>
                    <a:pt x="180" y="150"/>
                    <a:pt x="37" y="9"/>
                    <a:pt x="37" y="9"/>
                  </a:cubicBezTo>
                  <a:cubicBezTo>
                    <a:pt x="0" y="0"/>
                    <a:pt x="14" y="51"/>
                    <a:pt x="14" y="51"/>
                  </a:cubicBezTo>
                  <a:cubicBezTo>
                    <a:pt x="14" y="51"/>
                    <a:pt x="24" y="59"/>
                    <a:pt x="38" y="73"/>
                  </a:cubicBezTo>
                  <a:cubicBezTo>
                    <a:pt x="47" y="66"/>
                    <a:pt x="56" y="59"/>
                    <a:pt x="68" y="61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7498440" y="2464560"/>
              <a:ext cx="862560" cy="1049040"/>
            </a:xfrm>
            <a:custGeom>
              <a:avLst/>
              <a:gdLst/>
              <a:ahLst/>
              <a:rect l="l" t="t" r="r" b="b"/>
              <a:pathLst>
                <a:path w="410" h="500">
                  <a:moveTo>
                    <a:pt x="242" y="342"/>
                  </a:moveTo>
                  <a:cubicBezTo>
                    <a:pt x="274" y="322"/>
                    <a:pt x="310" y="300"/>
                    <a:pt x="348" y="294"/>
                  </a:cubicBezTo>
                  <a:cubicBezTo>
                    <a:pt x="368" y="290"/>
                    <a:pt x="388" y="288"/>
                    <a:pt x="408" y="291"/>
                  </a:cubicBezTo>
                  <a:cubicBezTo>
                    <a:pt x="409" y="291"/>
                    <a:pt x="409" y="291"/>
                    <a:pt x="410" y="291"/>
                  </a:cubicBezTo>
                  <a:cubicBezTo>
                    <a:pt x="408" y="289"/>
                    <a:pt x="406" y="287"/>
                    <a:pt x="404" y="285"/>
                  </a:cubicBezTo>
                  <a:cubicBezTo>
                    <a:pt x="330" y="208"/>
                    <a:pt x="382" y="52"/>
                    <a:pt x="357" y="23"/>
                  </a:cubicBezTo>
                  <a:cubicBezTo>
                    <a:pt x="337" y="0"/>
                    <a:pt x="281" y="33"/>
                    <a:pt x="281" y="33"/>
                  </a:cubicBezTo>
                  <a:cubicBezTo>
                    <a:pt x="148" y="44"/>
                    <a:pt x="128" y="39"/>
                    <a:pt x="107" y="38"/>
                  </a:cubicBezTo>
                  <a:cubicBezTo>
                    <a:pt x="78" y="37"/>
                    <a:pt x="61" y="50"/>
                    <a:pt x="61" y="50"/>
                  </a:cubicBezTo>
                  <a:cubicBezTo>
                    <a:pt x="0" y="220"/>
                    <a:pt x="45" y="395"/>
                    <a:pt x="98" y="476"/>
                  </a:cubicBezTo>
                  <a:cubicBezTo>
                    <a:pt x="105" y="487"/>
                    <a:pt x="117" y="495"/>
                    <a:pt x="134" y="500"/>
                  </a:cubicBezTo>
                  <a:cubicBezTo>
                    <a:pt x="133" y="437"/>
                    <a:pt x="195" y="374"/>
                    <a:pt x="242" y="342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65"/>
            <p:cNvSpPr/>
            <p:nvPr/>
          </p:nvSpPr>
          <p:spPr>
            <a:xfrm>
              <a:off x="7557840" y="2536200"/>
              <a:ext cx="493560" cy="597960"/>
            </a:xfrm>
            <a:custGeom>
              <a:avLst/>
              <a:gdLst/>
              <a:ahLst/>
              <a:rect l="l" t="t" r="r" b="b"/>
              <a:pathLst>
                <a:path w="235" h="285">
                  <a:moveTo>
                    <a:pt x="84" y="266"/>
                  </a:moveTo>
                  <a:cubicBezTo>
                    <a:pt x="122" y="253"/>
                    <a:pt x="161" y="235"/>
                    <a:pt x="188" y="205"/>
                  </a:cubicBezTo>
                  <a:cubicBezTo>
                    <a:pt x="218" y="170"/>
                    <a:pt x="229" y="135"/>
                    <a:pt x="225" y="90"/>
                  </a:cubicBezTo>
                  <a:cubicBezTo>
                    <a:pt x="223" y="74"/>
                    <a:pt x="222" y="58"/>
                    <a:pt x="226" y="43"/>
                  </a:cubicBezTo>
                  <a:cubicBezTo>
                    <a:pt x="228" y="33"/>
                    <a:pt x="235" y="20"/>
                    <a:pt x="234" y="9"/>
                  </a:cubicBezTo>
                  <a:cubicBezTo>
                    <a:pt x="234" y="6"/>
                    <a:pt x="233" y="3"/>
                    <a:pt x="233" y="0"/>
                  </a:cubicBezTo>
                  <a:cubicBezTo>
                    <a:pt x="203" y="3"/>
                    <a:pt x="179" y="4"/>
                    <a:pt x="161" y="5"/>
                  </a:cubicBezTo>
                  <a:cubicBezTo>
                    <a:pt x="170" y="21"/>
                    <a:pt x="176" y="38"/>
                    <a:pt x="171" y="55"/>
                  </a:cubicBezTo>
                  <a:cubicBezTo>
                    <a:pt x="163" y="81"/>
                    <a:pt x="141" y="96"/>
                    <a:pt x="116" y="105"/>
                  </a:cubicBezTo>
                  <a:cubicBezTo>
                    <a:pt x="85" y="115"/>
                    <a:pt x="41" y="125"/>
                    <a:pt x="9" y="113"/>
                  </a:cubicBezTo>
                  <a:cubicBezTo>
                    <a:pt x="0" y="173"/>
                    <a:pt x="3" y="232"/>
                    <a:pt x="12" y="285"/>
                  </a:cubicBezTo>
                  <a:cubicBezTo>
                    <a:pt x="36" y="278"/>
                    <a:pt x="61" y="274"/>
                    <a:pt x="84" y="26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66"/>
            <p:cNvSpPr/>
            <p:nvPr/>
          </p:nvSpPr>
          <p:spPr>
            <a:xfrm>
              <a:off x="7522920" y="2468160"/>
              <a:ext cx="838080" cy="1045800"/>
            </a:xfrm>
            <a:custGeom>
              <a:avLst/>
              <a:gdLst/>
              <a:ahLst/>
              <a:rect l="l" t="t" r="r" b="b"/>
              <a:pathLst>
                <a:path w="399" h="498">
                  <a:moveTo>
                    <a:pt x="393" y="283"/>
                  </a:moveTo>
                  <a:cubicBezTo>
                    <a:pt x="319" y="206"/>
                    <a:pt x="371" y="50"/>
                    <a:pt x="346" y="21"/>
                  </a:cubicBezTo>
                  <a:cubicBezTo>
                    <a:pt x="328" y="0"/>
                    <a:pt x="283" y="24"/>
                    <a:pt x="273" y="30"/>
                  </a:cubicBezTo>
                  <a:cubicBezTo>
                    <a:pt x="273" y="30"/>
                    <a:pt x="274" y="31"/>
                    <a:pt x="275" y="31"/>
                  </a:cubicBezTo>
                  <a:cubicBezTo>
                    <a:pt x="276" y="31"/>
                    <a:pt x="276" y="31"/>
                    <a:pt x="277" y="32"/>
                  </a:cubicBezTo>
                  <a:cubicBezTo>
                    <a:pt x="303" y="20"/>
                    <a:pt x="343" y="13"/>
                    <a:pt x="344" y="53"/>
                  </a:cubicBezTo>
                  <a:cubicBezTo>
                    <a:pt x="345" y="82"/>
                    <a:pt x="337" y="110"/>
                    <a:pt x="339" y="139"/>
                  </a:cubicBezTo>
                  <a:cubicBezTo>
                    <a:pt x="343" y="176"/>
                    <a:pt x="349" y="213"/>
                    <a:pt x="353" y="250"/>
                  </a:cubicBezTo>
                  <a:cubicBezTo>
                    <a:pt x="353" y="253"/>
                    <a:pt x="351" y="255"/>
                    <a:pt x="348" y="255"/>
                  </a:cubicBezTo>
                  <a:cubicBezTo>
                    <a:pt x="284" y="252"/>
                    <a:pt x="212" y="257"/>
                    <a:pt x="162" y="304"/>
                  </a:cubicBezTo>
                  <a:cubicBezTo>
                    <a:pt x="137" y="328"/>
                    <a:pt x="124" y="355"/>
                    <a:pt x="106" y="382"/>
                  </a:cubicBezTo>
                  <a:cubicBezTo>
                    <a:pt x="100" y="391"/>
                    <a:pt x="94" y="397"/>
                    <a:pt x="84" y="391"/>
                  </a:cubicBezTo>
                  <a:cubicBezTo>
                    <a:pt x="67" y="382"/>
                    <a:pt x="63" y="349"/>
                    <a:pt x="60" y="332"/>
                  </a:cubicBezTo>
                  <a:cubicBezTo>
                    <a:pt x="57" y="305"/>
                    <a:pt x="58" y="277"/>
                    <a:pt x="57" y="249"/>
                  </a:cubicBezTo>
                  <a:cubicBezTo>
                    <a:pt x="55" y="201"/>
                    <a:pt x="49" y="154"/>
                    <a:pt x="32" y="110"/>
                  </a:cubicBezTo>
                  <a:cubicBezTo>
                    <a:pt x="0" y="259"/>
                    <a:pt x="40" y="403"/>
                    <a:pt x="87" y="474"/>
                  </a:cubicBezTo>
                  <a:cubicBezTo>
                    <a:pt x="94" y="485"/>
                    <a:pt x="106" y="493"/>
                    <a:pt x="123" y="498"/>
                  </a:cubicBezTo>
                  <a:cubicBezTo>
                    <a:pt x="122" y="435"/>
                    <a:pt x="184" y="372"/>
                    <a:pt x="231" y="340"/>
                  </a:cubicBezTo>
                  <a:cubicBezTo>
                    <a:pt x="263" y="320"/>
                    <a:pt x="299" y="298"/>
                    <a:pt x="337" y="292"/>
                  </a:cubicBezTo>
                  <a:cubicBezTo>
                    <a:pt x="357" y="288"/>
                    <a:pt x="377" y="286"/>
                    <a:pt x="397" y="289"/>
                  </a:cubicBezTo>
                  <a:cubicBezTo>
                    <a:pt x="398" y="289"/>
                    <a:pt x="398" y="289"/>
                    <a:pt x="399" y="289"/>
                  </a:cubicBezTo>
                  <a:cubicBezTo>
                    <a:pt x="397" y="287"/>
                    <a:pt x="395" y="285"/>
                    <a:pt x="393" y="283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7675200" y="2431440"/>
              <a:ext cx="260640" cy="263880"/>
            </a:xfrm>
            <a:custGeom>
              <a:avLst/>
              <a:gdLst/>
              <a:ahLst/>
              <a:rect l="l" t="t" r="r" b="b"/>
              <a:pathLst>
                <a:path w="124" h="126">
                  <a:moveTo>
                    <a:pt x="1" y="0"/>
                  </a:moveTo>
                  <a:cubicBezTo>
                    <a:pt x="1" y="0"/>
                    <a:pt x="0" y="82"/>
                    <a:pt x="7" y="96"/>
                  </a:cubicBezTo>
                  <a:cubicBezTo>
                    <a:pt x="14" y="111"/>
                    <a:pt x="31" y="124"/>
                    <a:pt x="53" y="124"/>
                  </a:cubicBezTo>
                  <a:cubicBezTo>
                    <a:pt x="106" y="126"/>
                    <a:pt x="124" y="101"/>
                    <a:pt x="124" y="101"/>
                  </a:cubicBezTo>
                  <a:cubicBezTo>
                    <a:pt x="119" y="50"/>
                    <a:pt x="119" y="50"/>
                    <a:pt x="119" y="5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7657560" y="2391120"/>
              <a:ext cx="274680" cy="263880"/>
            </a:xfrm>
            <a:custGeom>
              <a:avLst/>
              <a:gdLst/>
              <a:ahLst/>
              <a:rect l="l" t="t" r="r" b="b"/>
              <a:pathLst>
                <a:path w="131" h="126">
                  <a:moveTo>
                    <a:pt x="2" y="0"/>
                  </a:moveTo>
                  <a:cubicBezTo>
                    <a:pt x="2" y="0"/>
                    <a:pt x="0" y="82"/>
                    <a:pt x="7" y="97"/>
                  </a:cubicBezTo>
                  <a:cubicBezTo>
                    <a:pt x="14" y="112"/>
                    <a:pt x="31" y="124"/>
                    <a:pt x="53" y="125"/>
                  </a:cubicBezTo>
                  <a:cubicBezTo>
                    <a:pt x="107" y="126"/>
                    <a:pt x="131" y="109"/>
                    <a:pt x="131" y="109"/>
                  </a:cubicBezTo>
                  <a:cubicBezTo>
                    <a:pt x="108" y="65"/>
                    <a:pt x="108" y="65"/>
                    <a:pt x="108" y="65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7659360" y="2391120"/>
              <a:ext cx="244800" cy="17820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37" y="69"/>
                  </a:moveTo>
                  <a:cubicBezTo>
                    <a:pt x="25" y="69"/>
                    <a:pt x="14" y="71"/>
                    <a:pt x="2" y="72"/>
                  </a:cubicBezTo>
                  <a:cubicBezTo>
                    <a:pt x="0" y="43"/>
                    <a:pt x="1" y="0"/>
                    <a:pt x="1" y="0"/>
                  </a:cubicBezTo>
                  <a:cubicBezTo>
                    <a:pt x="107" y="65"/>
                    <a:pt x="107" y="65"/>
                    <a:pt x="107" y="65"/>
                  </a:cubicBezTo>
                  <a:cubicBezTo>
                    <a:pt x="117" y="85"/>
                    <a:pt x="117" y="85"/>
                    <a:pt x="117" y="85"/>
                  </a:cubicBezTo>
                  <a:cubicBezTo>
                    <a:pt x="91" y="81"/>
                    <a:pt x="65" y="69"/>
                    <a:pt x="37" y="69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8002440" y="2378880"/>
              <a:ext cx="159120" cy="246600"/>
            </a:xfrm>
            <a:custGeom>
              <a:avLst/>
              <a:gdLst/>
              <a:ahLst/>
              <a:rect l="l" t="t" r="r" b="b"/>
              <a:pathLst>
                <a:path w="76" h="118">
                  <a:moveTo>
                    <a:pt x="73" y="0"/>
                  </a:moveTo>
                  <a:cubicBezTo>
                    <a:pt x="73" y="0"/>
                    <a:pt x="76" y="67"/>
                    <a:pt x="73" y="75"/>
                  </a:cubicBezTo>
                  <a:cubicBezTo>
                    <a:pt x="71" y="82"/>
                    <a:pt x="70" y="105"/>
                    <a:pt x="6" y="118"/>
                  </a:cubicBezTo>
                  <a:cubicBezTo>
                    <a:pt x="0" y="35"/>
                    <a:pt x="0" y="35"/>
                    <a:pt x="0" y="35"/>
                  </a:cubicBezTo>
                  <a:lnTo>
                    <a:pt x="73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8023320" y="2349000"/>
              <a:ext cx="143280" cy="24480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6" y="0"/>
                  </a:moveTo>
                  <a:cubicBezTo>
                    <a:pt x="66" y="0"/>
                    <a:pt x="69" y="67"/>
                    <a:pt x="67" y="74"/>
                  </a:cubicBezTo>
                  <a:cubicBezTo>
                    <a:pt x="64" y="81"/>
                    <a:pt x="64" y="104"/>
                    <a:pt x="0" y="117"/>
                  </a:cubicBezTo>
                  <a:cubicBezTo>
                    <a:pt x="4" y="33"/>
                    <a:pt x="4" y="33"/>
                    <a:pt x="4" y="33"/>
                  </a:cubicBezTo>
                  <a:lnTo>
                    <a:pt x="66" y="0"/>
                  </a:ln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8023320" y="2349000"/>
              <a:ext cx="141480" cy="21852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7" y="100"/>
                  </a:moveTo>
                  <a:cubicBezTo>
                    <a:pt x="32" y="90"/>
                    <a:pt x="44" y="59"/>
                    <a:pt x="68" y="50"/>
                  </a:cubicBezTo>
                  <a:cubicBezTo>
                    <a:pt x="67" y="28"/>
                    <a:pt x="66" y="0"/>
                    <a:pt x="66" y="0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0" y="104"/>
                    <a:pt x="0" y="104"/>
                    <a:pt x="0" y="104"/>
                  </a:cubicBezTo>
                  <a:cubicBezTo>
                    <a:pt x="2" y="103"/>
                    <a:pt x="5" y="101"/>
                    <a:pt x="7" y="1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7157160" y="2581920"/>
              <a:ext cx="890640" cy="571680"/>
            </a:xfrm>
            <a:custGeom>
              <a:avLst/>
              <a:gdLst/>
              <a:ahLst/>
              <a:rect l="l" t="t" r="r" b="b"/>
              <a:pathLst>
                <a:path w="424" h="272">
                  <a:moveTo>
                    <a:pt x="406" y="13"/>
                  </a:moveTo>
                  <a:cubicBezTo>
                    <a:pt x="406" y="13"/>
                    <a:pt x="424" y="171"/>
                    <a:pt x="303" y="221"/>
                  </a:cubicBezTo>
                  <a:cubicBezTo>
                    <a:pt x="181" y="272"/>
                    <a:pt x="92" y="260"/>
                    <a:pt x="92" y="26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23" y="35"/>
                    <a:pt x="123" y="35"/>
                    <a:pt x="123" y="35"/>
                  </a:cubicBezTo>
                  <a:cubicBezTo>
                    <a:pt x="123" y="35"/>
                    <a:pt x="219" y="136"/>
                    <a:pt x="301" y="105"/>
                  </a:cubicBezTo>
                  <a:cubicBezTo>
                    <a:pt x="382" y="74"/>
                    <a:pt x="371" y="15"/>
                    <a:pt x="371" y="15"/>
                  </a:cubicBezTo>
                  <a:cubicBezTo>
                    <a:pt x="389" y="0"/>
                    <a:pt x="389" y="0"/>
                    <a:pt x="389" y="0"/>
                  </a:cubicBezTo>
                  <a:lnTo>
                    <a:pt x="406" y="13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7914960" y="2525760"/>
              <a:ext cx="122400" cy="94320"/>
            </a:xfrm>
            <a:custGeom>
              <a:avLst/>
              <a:gdLst/>
              <a:ahLst/>
              <a:rect l="l" t="t" r="r" b="b"/>
              <a:pathLst>
                <a:path w="58" h="45">
                  <a:moveTo>
                    <a:pt x="56" y="0"/>
                  </a:moveTo>
                  <a:cubicBezTo>
                    <a:pt x="56" y="0"/>
                    <a:pt x="32" y="12"/>
                    <a:pt x="0" y="11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5" y="39"/>
                    <a:pt x="8" y="42"/>
                    <a:pt x="13" y="43"/>
                  </a:cubicBezTo>
                  <a:cubicBezTo>
                    <a:pt x="22" y="45"/>
                    <a:pt x="38" y="45"/>
                    <a:pt x="55" y="34"/>
                  </a:cubicBezTo>
                  <a:cubicBezTo>
                    <a:pt x="57" y="33"/>
                    <a:pt x="58" y="30"/>
                    <a:pt x="58" y="28"/>
                  </a:cubicBezTo>
                  <a:lnTo>
                    <a:pt x="5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7157160" y="2611440"/>
              <a:ext cx="824040" cy="344520"/>
            </a:xfrm>
            <a:custGeom>
              <a:avLst/>
              <a:gdLst/>
              <a:ahLst/>
              <a:rect l="l" t="t" r="r" b="b"/>
              <a:pathLst>
                <a:path w="392" h="164">
                  <a:moveTo>
                    <a:pt x="391" y="7"/>
                  </a:moveTo>
                  <a:cubicBezTo>
                    <a:pt x="392" y="20"/>
                    <a:pt x="388" y="38"/>
                    <a:pt x="383" y="48"/>
                  </a:cubicBezTo>
                  <a:cubicBezTo>
                    <a:pt x="376" y="64"/>
                    <a:pt x="363" y="77"/>
                    <a:pt x="350" y="89"/>
                  </a:cubicBezTo>
                  <a:cubicBezTo>
                    <a:pt x="323" y="115"/>
                    <a:pt x="294" y="140"/>
                    <a:pt x="258" y="153"/>
                  </a:cubicBezTo>
                  <a:cubicBezTo>
                    <a:pt x="242" y="159"/>
                    <a:pt x="223" y="164"/>
                    <a:pt x="206" y="164"/>
                  </a:cubicBezTo>
                  <a:cubicBezTo>
                    <a:pt x="134" y="164"/>
                    <a:pt x="64" y="132"/>
                    <a:pt x="0" y="106"/>
                  </a:cubicBezTo>
                  <a:cubicBezTo>
                    <a:pt x="123" y="21"/>
                    <a:pt x="123" y="21"/>
                    <a:pt x="123" y="21"/>
                  </a:cubicBezTo>
                  <a:cubicBezTo>
                    <a:pt x="123" y="21"/>
                    <a:pt x="219" y="122"/>
                    <a:pt x="301" y="91"/>
                  </a:cubicBezTo>
                  <a:cubicBezTo>
                    <a:pt x="382" y="60"/>
                    <a:pt x="371" y="1"/>
                    <a:pt x="371" y="1"/>
                  </a:cubicBezTo>
                  <a:cubicBezTo>
                    <a:pt x="377" y="1"/>
                    <a:pt x="383" y="1"/>
                    <a:pt x="389" y="0"/>
                  </a:cubicBezTo>
                  <a:cubicBezTo>
                    <a:pt x="390" y="2"/>
                    <a:pt x="390" y="4"/>
                    <a:pt x="391" y="7"/>
                  </a:cubicBez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7776720" y="2741040"/>
              <a:ext cx="228960" cy="1029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9" y="0"/>
                  </a:move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29" y="22"/>
                    <a:pt x="0" y="31"/>
                  </a:cubicBezTo>
                  <a:cubicBezTo>
                    <a:pt x="0" y="31"/>
                    <a:pt x="34" y="49"/>
                    <a:pt x="100" y="39"/>
                  </a:cubicBezTo>
                  <a:cubicBezTo>
                    <a:pt x="100" y="39"/>
                    <a:pt x="107" y="21"/>
                    <a:pt x="109" y="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77"/>
            <p:cNvSpPr/>
            <p:nvPr/>
          </p:nvSpPr>
          <p:spPr>
            <a:xfrm>
              <a:off x="7324920" y="2655360"/>
              <a:ext cx="556560" cy="423000"/>
            </a:xfrm>
            <a:custGeom>
              <a:avLst/>
              <a:gdLst/>
              <a:ahLst/>
              <a:rect l="l" t="t" r="r" b="b"/>
              <a:pathLst>
                <a:path w="265" h="201">
                  <a:moveTo>
                    <a:pt x="132" y="63"/>
                  </a:moveTo>
                  <a:cubicBezTo>
                    <a:pt x="265" y="161"/>
                    <a:pt x="265" y="161"/>
                    <a:pt x="265" y="161"/>
                  </a:cubicBezTo>
                  <a:cubicBezTo>
                    <a:pt x="265" y="161"/>
                    <a:pt x="240" y="185"/>
                    <a:pt x="185" y="20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0"/>
                    <a:pt x="88" y="45"/>
                    <a:pt x="132" y="63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78"/>
            <p:cNvSpPr/>
            <p:nvPr/>
          </p:nvSpPr>
          <p:spPr>
            <a:xfrm>
              <a:off x="7183440" y="2782800"/>
              <a:ext cx="344520" cy="349560"/>
            </a:xfrm>
            <a:custGeom>
              <a:avLst/>
              <a:gdLst/>
              <a:ahLst/>
              <a:rect l="l" t="t" r="r" b="b"/>
              <a:pathLst>
                <a:path w="164" h="166">
                  <a:moveTo>
                    <a:pt x="164" y="160"/>
                  </a:moveTo>
                  <a:cubicBezTo>
                    <a:pt x="21" y="0"/>
                    <a:pt x="21" y="0"/>
                    <a:pt x="21" y="0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19" y="165"/>
                    <a:pt x="119" y="165"/>
                    <a:pt x="119" y="165"/>
                  </a:cubicBezTo>
                  <a:cubicBezTo>
                    <a:pt x="119" y="165"/>
                    <a:pt x="139" y="166"/>
                    <a:pt x="164" y="16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6875280" y="696240"/>
              <a:ext cx="1667880" cy="1876320"/>
            </a:xfrm>
            <a:custGeom>
              <a:avLst/>
              <a:gdLst/>
              <a:ahLst/>
              <a:rect l="l" t="t" r="r" b="b"/>
              <a:pathLst>
                <a:path w="794" h="893">
                  <a:moveTo>
                    <a:pt x="82" y="453"/>
                  </a:moveTo>
                  <a:cubicBezTo>
                    <a:pt x="82" y="453"/>
                    <a:pt x="128" y="700"/>
                    <a:pt x="157" y="774"/>
                  </a:cubicBezTo>
                  <a:cubicBezTo>
                    <a:pt x="186" y="849"/>
                    <a:pt x="201" y="854"/>
                    <a:pt x="247" y="856"/>
                  </a:cubicBezTo>
                  <a:cubicBezTo>
                    <a:pt x="293" y="858"/>
                    <a:pt x="420" y="854"/>
                    <a:pt x="443" y="863"/>
                  </a:cubicBezTo>
                  <a:cubicBezTo>
                    <a:pt x="466" y="872"/>
                    <a:pt x="505" y="893"/>
                    <a:pt x="535" y="883"/>
                  </a:cubicBezTo>
                  <a:cubicBezTo>
                    <a:pt x="564" y="873"/>
                    <a:pt x="601" y="835"/>
                    <a:pt x="619" y="827"/>
                  </a:cubicBezTo>
                  <a:cubicBezTo>
                    <a:pt x="636" y="819"/>
                    <a:pt x="737" y="777"/>
                    <a:pt x="759" y="765"/>
                  </a:cubicBezTo>
                  <a:cubicBezTo>
                    <a:pt x="781" y="752"/>
                    <a:pt x="794" y="729"/>
                    <a:pt x="786" y="673"/>
                  </a:cubicBezTo>
                  <a:cubicBezTo>
                    <a:pt x="778" y="618"/>
                    <a:pt x="754" y="391"/>
                    <a:pt x="711" y="288"/>
                  </a:cubicBezTo>
                  <a:cubicBezTo>
                    <a:pt x="669" y="185"/>
                    <a:pt x="638" y="98"/>
                    <a:pt x="563" y="69"/>
                  </a:cubicBezTo>
                  <a:cubicBezTo>
                    <a:pt x="538" y="53"/>
                    <a:pt x="0" y="0"/>
                    <a:pt x="82" y="453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8373600" y="1443240"/>
              <a:ext cx="323640" cy="416160"/>
            </a:xfrm>
            <a:custGeom>
              <a:avLst/>
              <a:gdLst/>
              <a:ahLst/>
              <a:rect l="l" t="t" r="r" b="b"/>
              <a:pathLst>
                <a:path w="154" h="198">
                  <a:moveTo>
                    <a:pt x="42" y="198"/>
                  </a:moveTo>
                  <a:cubicBezTo>
                    <a:pt x="154" y="176"/>
                    <a:pt x="138" y="43"/>
                    <a:pt x="81" y="22"/>
                  </a:cubicBezTo>
                  <a:cubicBezTo>
                    <a:pt x="24" y="0"/>
                    <a:pt x="0" y="71"/>
                    <a:pt x="0" y="71"/>
                  </a:cubicBezTo>
                  <a:lnTo>
                    <a:pt x="42" y="198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6855840" y="1721160"/>
              <a:ext cx="302760" cy="388080"/>
            </a:xfrm>
            <a:custGeom>
              <a:avLst/>
              <a:gdLst/>
              <a:ahLst/>
              <a:rect l="l" t="t" r="r" b="b"/>
              <a:pathLst>
                <a:path w="144" h="185">
                  <a:moveTo>
                    <a:pt x="144" y="169"/>
                  </a:moveTo>
                  <a:cubicBezTo>
                    <a:pt x="144" y="169"/>
                    <a:pt x="99" y="185"/>
                    <a:pt x="55" y="156"/>
                  </a:cubicBezTo>
                  <a:cubicBezTo>
                    <a:pt x="11" y="127"/>
                    <a:pt x="0" y="29"/>
                    <a:pt x="64" y="15"/>
                  </a:cubicBezTo>
                  <a:cubicBezTo>
                    <a:pt x="128" y="0"/>
                    <a:pt x="136" y="73"/>
                    <a:pt x="136" y="73"/>
                  </a:cubicBezTo>
                  <a:lnTo>
                    <a:pt x="144" y="169"/>
                  </a:ln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82">
              <a:hlinkClick r:id="rId4"/>
            </p:cNvPr>
            <p:cNvSpPr/>
            <p:nvPr/>
          </p:nvSpPr>
          <p:spPr>
            <a:xfrm>
              <a:off x="6892920" y="626400"/>
              <a:ext cx="1613520" cy="1873080"/>
            </a:xfrm>
            <a:custGeom>
              <a:avLst/>
              <a:gdLst/>
              <a:ahLst/>
              <a:rect l="l" t="t" r="r" b="b"/>
              <a:pathLst>
                <a:path w="767" h="892">
                  <a:moveTo>
                    <a:pt x="82" y="453"/>
                  </a:moveTo>
                  <a:cubicBezTo>
                    <a:pt x="82" y="453"/>
                    <a:pt x="98" y="600"/>
                    <a:pt x="123" y="702"/>
                  </a:cubicBezTo>
                  <a:cubicBezTo>
                    <a:pt x="131" y="732"/>
                    <a:pt x="140" y="769"/>
                    <a:pt x="147" y="787"/>
                  </a:cubicBezTo>
                  <a:cubicBezTo>
                    <a:pt x="175" y="861"/>
                    <a:pt x="199" y="854"/>
                    <a:pt x="243" y="857"/>
                  </a:cubicBezTo>
                  <a:cubicBezTo>
                    <a:pt x="256" y="857"/>
                    <a:pt x="354" y="854"/>
                    <a:pt x="420" y="864"/>
                  </a:cubicBezTo>
                  <a:cubicBezTo>
                    <a:pt x="463" y="871"/>
                    <a:pt x="468" y="892"/>
                    <a:pt x="511" y="885"/>
                  </a:cubicBezTo>
                  <a:cubicBezTo>
                    <a:pt x="545" y="878"/>
                    <a:pt x="570" y="855"/>
                    <a:pt x="598" y="841"/>
                  </a:cubicBezTo>
                  <a:cubicBezTo>
                    <a:pt x="670" y="806"/>
                    <a:pt x="726" y="773"/>
                    <a:pt x="734" y="768"/>
                  </a:cubicBezTo>
                  <a:cubicBezTo>
                    <a:pt x="754" y="756"/>
                    <a:pt x="767" y="732"/>
                    <a:pt x="759" y="677"/>
                  </a:cubicBezTo>
                  <a:cubicBezTo>
                    <a:pt x="751" y="622"/>
                    <a:pt x="715" y="397"/>
                    <a:pt x="674" y="294"/>
                  </a:cubicBezTo>
                  <a:cubicBezTo>
                    <a:pt x="633" y="190"/>
                    <a:pt x="613" y="102"/>
                    <a:pt x="541" y="72"/>
                  </a:cubicBezTo>
                  <a:cubicBezTo>
                    <a:pt x="517" y="56"/>
                    <a:pt x="0" y="0"/>
                    <a:pt x="82" y="453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7599960" y="2113200"/>
              <a:ext cx="644040" cy="300600"/>
            </a:xfrm>
            <a:custGeom>
              <a:avLst/>
              <a:gdLst/>
              <a:ahLst/>
              <a:rect l="l" t="t" r="r" b="b"/>
              <a:pathLst>
                <a:path w="306" h="143">
                  <a:moveTo>
                    <a:pt x="299" y="20"/>
                  </a:moveTo>
                  <a:cubicBezTo>
                    <a:pt x="299" y="20"/>
                    <a:pt x="296" y="41"/>
                    <a:pt x="283" y="44"/>
                  </a:cubicBezTo>
                  <a:cubicBezTo>
                    <a:pt x="269" y="48"/>
                    <a:pt x="270" y="44"/>
                    <a:pt x="259" y="34"/>
                  </a:cubicBezTo>
                  <a:cubicBezTo>
                    <a:pt x="242" y="19"/>
                    <a:pt x="234" y="0"/>
                    <a:pt x="209" y="13"/>
                  </a:cubicBezTo>
                  <a:cubicBezTo>
                    <a:pt x="189" y="23"/>
                    <a:pt x="188" y="47"/>
                    <a:pt x="159" y="48"/>
                  </a:cubicBezTo>
                  <a:cubicBezTo>
                    <a:pt x="138" y="49"/>
                    <a:pt x="119" y="26"/>
                    <a:pt x="98" y="26"/>
                  </a:cubicBezTo>
                  <a:cubicBezTo>
                    <a:pt x="78" y="27"/>
                    <a:pt x="78" y="43"/>
                    <a:pt x="68" y="55"/>
                  </a:cubicBezTo>
                  <a:cubicBezTo>
                    <a:pt x="55" y="71"/>
                    <a:pt x="60" y="67"/>
                    <a:pt x="39" y="68"/>
                  </a:cubicBezTo>
                  <a:cubicBezTo>
                    <a:pt x="22" y="69"/>
                    <a:pt x="10" y="67"/>
                    <a:pt x="4" y="86"/>
                  </a:cubicBezTo>
                  <a:cubicBezTo>
                    <a:pt x="0" y="100"/>
                    <a:pt x="9" y="119"/>
                    <a:pt x="22" y="122"/>
                  </a:cubicBezTo>
                  <a:cubicBezTo>
                    <a:pt x="28" y="143"/>
                    <a:pt x="63" y="135"/>
                    <a:pt x="76" y="126"/>
                  </a:cubicBezTo>
                  <a:cubicBezTo>
                    <a:pt x="97" y="112"/>
                    <a:pt x="102" y="85"/>
                    <a:pt x="133" y="95"/>
                  </a:cubicBezTo>
                  <a:cubicBezTo>
                    <a:pt x="155" y="102"/>
                    <a:pt x="166" y="119"/>
                    <a:pt x="192" y="117"/>
                  </a:cubicBezTo>
                  <a:cubicBezTo>
                    <a:pt x="221" y="115"/>
                    <a:pt x="218" y="96"/>
                    <a:pt x="223" y="74"/>
                  </a:cubicBezTo>
                  <a:cubicBezTo>
                    <a:pt x="223" y="74"/>
                    <a:pt x="231" y="41"/>
                    <a:pt x="251" y="39"/>
                  </a:cubicBezTo>
                  <a:cubicBezTo>
                    <a:pt x="260" y="38"/>
                    <a:pt x="278" y="55"/>
                    <a:pt x="285" y="52"/>
                  </a:cubicBezTo>
                  <a:cubicBezTo>
                    <a:pt x="306" y="43"/>
                    <a:pt x="299" y="20"/>
                    <a:pt x="299" y="20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7599960" y="2167200"/>
              <a:ext cx="404280" cy="246600"/>
            </a:xfrm>
            <a:custGeom>
              <a:avLst/>
              <a:gdLst/>
              <a:ahLst/>
              <a:rect l="l" t="t" r="r" b="b"/>
              <a:pathLst>
                <a:path w="192" h="117">
                  <a:moveTo>
                    <a:pt x="131" y="13"/>
                  </a:moveTo>
                  <a:cubicBezTo>
                    <a:pt x="120" y="7"/>
                    <a:pt x="110" y="0"/>
                    <a:pt x="98" y="0"/>
                  </a:cubicBezTo>
                  <a:cubicBezTo>
                    <a:pt x="78" y="1"/>
                    <a:pt x="78" y="17"/>
                    <a:pt x="68" y="29"/>
                  </a:cubicBezTo>
                  <a:cubicBezTo>
                    <a:pt x="55" y="45"/>
                    <a:pt x="60" y="41"/>
                    <a:pt x="39" y="42"/>
                  </a:cubicBezTo>
                  <a:cubicBezTo>
                    <a:pt x="22" y="43"/>
                    <a:pt x="10" y="41"/>
                    <a:pt x="4" y="60"/>
                  </a:cubicBezTo>
                  <a:cubicBezTo>
                    <a:pt x="0" y="74"/>
                    <a:pt x="9" y="93"/>
                    <a:pt x="22" y="96"/>
                  </a:cubicBezTo>
                  <a:cubicBezTo>
                    <a:pt x="28" y="117"/>
                    <a:pt x="63" y="109"/>
                    <a:pt x="76" y="100"/>
                  </a:cubicBezTo>
                  <a:cubicBezTo>
                    <a:pt x="97" y="86"/>
                    <a:pt x="102" y="59"/>
                    <a:pt x="133" y="69"/>
                  </a:cubicBezTo>
                  <a:cubicBezTo>
                    <a:pt x="155" y="76"/>
                    <a:pt x="166" y="93"/>
                    <a:pt x="192" y="91"/>
                  </a:cubicBezTo>
                  <a:cubicBezTo>
                    <a:pt x="192" y="91"/>
                    <a:pt x="192" y="91"/>
                    <a:pt x="192" y="91"/>
                  </a:cubicBezTo>
                  <a:cubicBezTo>
                    <a:pt x="176" y="62"/>
                    <a:pt x="159" y="34"/>
                    <a:pt x="131" y="13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7046640" y="642240"/>
              <a:ext cx="1140840" cy="771120"/>
            </a:xfrm>
            <a:custGeom>
              <a:avLst/>
              <a:gdLst/>
              <a:ahLst/>
              <a:rect l="l" t="t" r="r" b="b"/>
              <a:pathLst>
                <a:path w="543" h="367">
                  <a:moveTo>
                    <a:pt x="170" y="361"/>
                  </a:moveTo>
                  <a:cubicBezTo>
                    <a:pt x="230" y="347"/>
                    <a:pt x="281" y="332"/>
                    <a:pt x="341" y="310"/>
                  </a:cubicBezTo>
                  <a:cubicBezTo>
                    <a:pt x="424" y="279"/>
                    <a:pt x="477" y="213"/>
                    <a:pt x="543" y="164"/>
                  </a:cubicBezTo>
                  <a:cubicBezTo>
                    <a:pt x="520" y="109"/>
                    <a:pt x="514" y="83"/>
                    <a:pt x="468" y="64"/>
                  </a:cubicBezTo>
                  <a:cubicBezTo>
                    <a:pt x="446" y="49"/>
                    <a:pt x="0" y="0"/>
                    <a:pt x="1" y="354"/>
                  </a:cubicBezTo>
                  <a:cubicBezTo>
                    <a:pt x="26" y="357"/>
                    <a:pt x="51" y="360"/>
                    <a:pt x="76" y="362"/>
                  </a:cubicBezTo>
                  <a:cubicBezTo>
                    <a:pt x="105" y="357"/>
                    <a:pt x="141" y="367"/>
                    <a:pt x="170" y="361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6840360" y="1147680"/>
              <a:ext cx="477720" cy="993240"/>
            </a:xfrm>
            <a:custGeom>
              <a:avLst/>
              <a:gdLst/>
              <a:ahLst/>
              <a:rect l="l" t="t" r="r" b="b"/>
              <a:pathLst>
                <a:path w="227" h="473">
                  <a:moveTo>
                    <a:pt x="0" y="0"/>
                  </a:moveTo>
                  <a:cubicBezTo>
                    <a:pt x="0" y="0"/>
                    <a:pt x="28" y="218"/>
                    <a:pt x="54" y="295"/>
                  </a:cubicBezTo>
                  <a:cubicBezTo>
                    <a:pt x="54" y="295"/>
                    <a:pt x="65" y="288"/>
                    <a:pt x="81" y="286"/>
                  </a:cubicBezTo>
                  <a:cubicBezTo>
                    <a:pt x="101" y="284"/>
                    <a:pt x="127" y="291"/>
                    <a:pt x="142" y="339"/>
                  </a:cubicBezTo>
                  <a:cubicBezTo>
                    <a:pt x="169" y="422"/>
                    <a:pt x="181" y="465"/>
                    <a:pt x="181" y="465"/>
                  </a:cubicBezTo>
                  <a:cubicBezTo>
                    <a:pt x="181" y="465"/>
                    <a:pt x="185" y="473"/>
                    <a:pt x="206" y="470"/>
                  </a:cubicBezTo>
                  <a:cubicBezTo>
                    <a:pt x="227" y="466"/>
                    <a:pt x="227" y="456"/>
                    <a:pt x="227" y="456"/>
                  </a:cubicBezTo>
                  <a:cubicBezTo>
                    <a:pt x="141" y="20"/>
                    <a:pt x="141" y="20"/>
                    <a:pt x="141" y="2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6932880" y="1672200"/>
              <a:ext cx="162720" cy="106560"/>
            </a:xfrm>
            <a:custGeom>
              <a:avLst/>
              <a:gdLst/>
              <a:ahLst/>
              <a:rect l="l" t="t" r="r" b="b"/>
              <a:pathLst>
                <a:path w="77" h="51">
                  <a:moveTo>
                    <a:pt x="76" y="46"/>
                  </a:moveTo>
                  <a:cubicBezTo>
                    <a:pt x="68" y="29"/>
                    <a:pt x="57" y="13"/>
                    <a:pt x="44" y="0"/>
                  </a:cubicBezTo>
                  <a:cubicBezTo>
                    <a:pt x="29" y="4"/>
                    <a:pt x="15" y="7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3" y="23"/>
                    <a:pt x="6" y="35"/>
                    <a:pt x="10" y="45"/>
                  </a:cubicBezTo>
                  <a:cubicBezTo>
                    <a:pt x="10" y="45"/>
                    <a:pt x="21" y="38"/>
                    <a:pt x="37" y="36"/>
                  </a:cubicBezTo>
                  <a:cubicBezTo>
                    <a:pt x="47" y="35"/>
                    <a:pt x="60" y="36"/>
                    <a:pt x="71" y="45"/>
                  </a:cubicBezTo>
                  <a:cubicBezTo>
                    <a:pt x="72" y="46"/>
                    <a:pt x="72" y="46"/>
                    <a:pt x="73" y="47"/>
                  </a:cubicBezTo>
                  <a:cubicBezTo>
                    <a:pt x="73" y="47"/>
                    <a:pt x="73" y="47"/>
                    <a:pt x="73" y="47"/>
                  </a:cubicBezTo>
                  <a:cubicBezTo>
                    <a:pt x="75" y="48"/>
                    <a:pt x="76" y="49"/>
                    <a:pt x="77" y="51"/>
                  </a:cubicBezTo>
                  <a:cubicBezTo>
                    <a:pt x="77" y="50"/>
                    <a:pt x="77" y="49"/>
                    <a:pt x="77" y="48"/>
                  </a:cubicBezTo>
                  <a:cubicBezTo>
                    <a:pt x="76" y="48"/>
                    <a:pt x="76" y="47"/>
                    <a:pt x="76" y="46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6840360" y="1189440"/>
              <a:ext cx="334080" cy="218520"/>
            </a:xfrm>
            <a:custGeom>
              <a:avLst/>
              <a:gdLst/>
              <a:ahLst/>
              <a:rect l="l" t="t" r="r" b="b"/>
              <a:pathLst>
                <a:path w="159" h="104">
                  <a:moveTo>
                    <a:pt x="0" y="0"/>
                  </a:moveTo>
                  <a:cubicBezTo>
                    <a:pt x="12" y="64"/>
                    <a:pt x="12" y="64"/>
                    <a:pt x="12" y="64"/>
                  </a:cubicBezTo>
                  <a:cubicBezTo>
                    <a:pt x="12" y="64"/>
                    <a:pt x="90" y="104"/>
                    <a:pt x="159" y="91"/>
                  </a:cubicBezTo>
                  <a:cubicBezTo>
                    <a:pt x="151" y="35"/>
                    <a:pt x="151" y="35"/>
                    <a:pt x="151" y="3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89"/>
            <p:cNvSpPr/>
            <p:nvPr/>
          </p:nvSpPr>
          <p:spPr>
            <a:xfrm>
              <a:off x="6619680" y="460440"/>
              <a:ext cx="1972440" cy="1498680"/>
            </a:xfrm>
            <a:custGeom>
              <a:avLst/>
              <a:gdLst/>
              <a:ahLst/>
              <a:rect l="l" t="t" r="r" b="b"/>
              <a:pathLst>
                <a:path w="938" h="714">
                  <a:moveTo>
                    <a:pt x="172" y="100"/>
                  </a:moveTo>
                  <a:cubicBezTo>
                    <a:pt x="172" y="100"/>
                    <a:pt x="210" y="189"/>
                    <a:pt x="325" y="151"/>
                  </a:cubicBezTo>
                  <a:cubicBezTo>
                    <a:pt x="440" y="112"/>
                    <a:pt x="464" y="28"/>
                    <a:pt x="560" y="14"/>
                  </a:cubicBezTo>
                  <a:cubicBezTo>
                    <a:pt x="657" y="0"/>
                    <a:pt x="737" y="50"/>
                    <a:pt x="750" y="111"/>
                  </a:cubicBezTo>
                  <a:cubicBezTo>
                    <a:pt x="750" y="111"/>
                    <a:pt x="848" y="57"/>
                    <a:pt x="904" y="148"/>
                  </a:cubicBezTo>
                  <a:cubicBezTo>
                    <a:pt x="938" y="204"/>
                    <a:pt x="922" y="311"/>
                    <a:pt x="915" y="490"/>
                  </a:cubicBezTo>
                  <a:cubicBezTo>
                    <a:pt x="915" y="490"/>
                    <a:pt x="912" y="488"/>
                    <a:pt x="907" y="487"/>
                  </a:cubicBezTo>
                  <a:cubicBezTo>
                    <a:pt x="902" y="486"/>
                    <a:pt x="895" y="485"/>
                    <a:pt x="887" y="486"/>
                  </a:cubicBezTo>
                  <a:cubicBezTo>
                    <a:pt x="874" y="488"/>
                    <a:pt x="858" y="497"/>
                    <a:pt x="846" y="515"/>
                  </a:cubicBezTo>
                  <a:cubicBezTo>
                    <a:pt x="828" y="542"/>
                    <a:pt x="868" y="691"/>
                    <a:pt x="868" y="691"/>
                  </a:cubicBezTo>
                  <a:cubicBezTo>
                    <a:pt x="868" y="691"/>
                    <a:pt x="866" y="703"/>
                    <a:pt x="840" y="708"/>
                  </a:cubicBezTo>
                  <a:cubicBezTo>
                    <a:pt x="814" y="714"/>
                    <a:pt x="811" y="702"/>
                    <a:pt x="811" y="702"/>
                  </a:cubicBezTo>
                  <a:cubicBezTo>
                    <a:pt x="811" y="702"/>
                    <a:pt x="775" y="527"/>
                    <a:pt x="749" y="381"/>
                  </a:cubicBezTo>
                  <a:cubicBezTo>
                    <a:pt x="738" y="320"/>
                    <a:pt x="714" y="278"/>
                    <a:pt x="701" y="262"/>
                  </a:cubicBezTo>
                  <a:cubicBezTo>
                    <a:pt x="701" y="262"/>
                    <a:pt x="546" y="429"/>
                    <a:pt x="314" y="424"/>
                  </a:cubicBezTo>
                  <a:cubicBezTo>
                    <a:pt x="82" y="420"/>
                    <a:pt x="33" y="285"/>
                    <a:pt x="0" y="187"/>
                  </a:cubicBezTo>
                  <a:cubicBezTo>
                    <a:pt x="0" y="187"/>
                    <a:pt x="41" y="211"/>
                    <a:pt x="98" y="220"/>
                  </a:cubicBezTo>
                  <a:cubicBezTo>
                    <a:pt x="98" y="220"/>
                    <a:pt x="67" y="159"/>
                    <a:pt x="100" y="120"/>
                  </a:cubicBezTo>
                  <a:cubicBezTo>
                    <a:pt x="100" y="120"/>
                    <a:pt x="117" y="165"/>
                    <a:pt x="152" y="178"/>
                  </a:cubicBezTo>
                  <a:cubicBezTo>
                    <a:pt x="152" y="178"/>
                    <a:pt x="129" y="143"/>
                    <a:pt x="172" y="100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90"/>
            <p:cNvSpPr/>
            <p:nvPr/>
          </p:nvSpPr>
          <p:spPr>
            <a:xfrm>
              <a:off x="8378640" y="1371600"/>
              <a:ext cx="169560" cy="208080"/>
            </a:xfrm>
            <a:custGeom>
              <a:avLst/>
              <a:gdLst/>
              <a:ahLst/>
              <a:rect l="l" t="t" r="r" b="b"/>
              <a:pathLst>
                <a:path w="81" h="99">
                  <a:moveTo>
                    <a:pt x="80" y="31"/>
                  </a:moveTo>
                  <a:cubicBezTo>
                    <a:pt x="80" y="29"/>
                    <a:pt x="80" y="27"/>
                    <a:pt x="80" y="25"/>
                  </a:cubicBezTo>
                  <a:cubicBezTo>
                    <a:pt x="80" y="23"/>
                    <a:pt x="80" y="20"/>
                    <a:pt x="80" y="17"/>
                  </a:cubicBezTo>
                  <a:cubicBezTo>
                    <a:pt x="80" y="15"/>
                    <a:pt x="81" y="13"/>
                    <a:pt x="81" y="10"/>
                  </a:cubicBezTo>
                  <a:cubicBezTo>
                    <a:pt x="81" y="7"/>
                    <a:pt x="81" y="4"/>
                    <a:pt x="81" y="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62" y="4"/>
                    <a:pt x="43" y="11"/>
                    <a:pt x="24" y="20"/>
                  </a:cubicBezTo>
                  <a:cubicBezTo>
                    <a:pt x="8" y="57"/>
                    <a:pt x="0" y="96"/>
                    <a:pt x="6" y="99"/>
                  </a:cubicBezTo>
                  <a:cubicBezTo>
                    <a:pt x="6" y="99"/>
                    <a:pt x="6" y="99"/>
                    <a:pt x="6" y="99"/>
                  </a:cubicBezTo>
                  <a:cubicBezTo>
                    <a:pt x="6" y="91"/>
                    <a:pt x="8" y="85"/>
                    <a:pt x="10" y="81"/>
                  </a:cubicBezTo>
                  <a:cubicBezTo>
                    <a:pt x="22" y="63"/>
                    <a:pt x="38" y="54"/>
                    <a:pt x="51" y="52"/>
                  </a:cubicBezTo>
                  <a:cubicBezTo>
                    <a:pt x="59" y="51"/>
                    <a:pt x="66" y="52"/>
                    <a:pt x="71" y="53"/>
                  </a:cubicBezTo>
                  <a:cubicBezTo>
                    <a:pt x="74" y="54"/>
                    <a:pt x="76" y="55"/>
                    <a:pt x="77" y="55"/>
                  </a:cubicBezTo>
                  <a:cubicBezTo>
                    <a:pt x="78" y="55"/>
                    <a:pt x="79" y="56"/>
                    <a:pt x="79" y="56"/>
                  </a:cubicBezTo>
                  <a:cubicBezTo>
                    <a:pt x="79" y="51"/>
                    <a:pt x="79" y="46"/>
                    <a:pt x="79" y="41"/>
                  </a:cubicBezTo>
                  <a:cubicBezTo>
                    <a:pt x="79" y="38"/>
                    <a:pt x="80" y="35"/>
                    <a:pt x="80" y="3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7255080" y="1506240"/>
              <a:ext cx="197640" cy="169560"/>
            </a:xfrm>
            <a:custGeom>
              <a:avLst/>
              <a:gdLst/>
              <a:ahLst/>
              <a:rect l="l" t="t" r="r" b="b"/>
              <a:pathLst>
                <a:path w="94" h="81">
                  <a:moveTo>
                    <a:pt x="94" y="38"/>
                  </a:moveTo>
                  <a:cubicBezTo>
                    <a:pt x="94" y="38"/>
                    <a:pt x="82" y="0"/>
                    <a:pt x="52" y="2"/>
                  </a:cubicBezTo>
                  <a:cubicBezTo>
                    <a:pt x="2" y="3"/>
                    <a:pt x="0" y="81"/>
                    <a:pt x="0" y="81"/>
                  </a:cubicBezTo>
                  <a:cubicBezTo>
                    <a:pt x="0" y="81"/>
                    <a:pt x="44" y="29"/>
                    <a:pt x="94" y="38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8004240" y="1305000"/>
              <a:ext cx="218520" cy="150120"/>
            </a:xfrm>
            <a:custGeom>
              <a:avLst/>
              <a:gdLst/>
              <a:ahLst/>
              <a:rect l="l" t="t" r="r" b="b"/>
              <a:pathLst>
                <a:path w="104" h="72">
                  <a:moveTo>
                    <a:pt x="26" y="15"/>
                  </a:moveTo>
                  <a:cubicBezTo>
                    <a:pt x="26" y="15"/>
                    <a:pt x="0" y="28"/>
                    <a:pt x="1" y="62"/>
                  </a:cubicBezTo>
                  <a:cubicBezTo>
                    <a:pt x="1" y="62"/>
                    <a:pt x="64" y="40"/>
                    <a:pt x="104" y="72"/>
                  </a:cubicBezTo>
                  <a:cubicBezTo>
                    <a:pt x="104" y="72"/>
                    <a:pt x="104" y="50"/>
                    <a:pt x="92" y="36"/>
                  </a:cubicBezTo>
                  <a:cubicBezTo>
                    <a:pt x="80" y="23"/>
                    <a:pt x="57" y="0"/>
                    <a:pt x="26" y="15"/>
                  </a:cubicBezTo>
                  <a:close/>
                </a:path>
              </a:pathLst>
            </a:custGeom>
            <a:solidFill>
              <a:srgbClr val="443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7347960" y="1635480"/>
              <a:ext cx="201240" cy="202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3" y="41"/>
                  </a:moveTo>
                  <a:cubicBezTo>
                    <a:pt x="96" y="66"/>
                    <a:pt x="79" y="89"/>
                    <a:pt x="55" y="93"/>
                  </a:cubicBezTo>
                  <a:cubicBezTo>
                    <a:pt x="30" y="96"/>
                    <a:pt x="7" y="79"/>
                    <a:pt x="3" y="54"/>
                  </a:cubicBezTo>
                  <a:cubicBezTo>
                    <a:pt x="0" y="30"/>
                    <a:pt x="17" y="7"/>
                    <a:pt x="42" y="3"/>
                  </a:cubicBezTo>
                  <a:cubicBezTo>
                    <a:pt x="66" y="0"/>
                    <a:pt x="89" y="17"/>
                    <a:pt x="93" y="41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7953480" y="1508040"/>
              <a:ext cx="202680" cy="18864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94" y="42"/>
                  </a:moveTo>
                  <a:cubicBezTo>
                    <a:pt x="97" y="67"/>
                    <a:pt x="79" y="83"/>
                    <a:pt x="54" y="87"/>
                  </a:cubicBezTo>
                  <a:cubicBezTo>
                    <a:pt x="30" y="90"/>
                    <a:pt x="7" y="73"/>
                    <a:pt x="3" y="49"/>
                  </a:cubicBezTo>
                  <a:cubicBezTo>
                    <a:pt x="0" y="24"/>
                    <a:pt x="15" y="7"/>
                    <a:pt x="39" y="3"/>
                  </a:cubicBezTo>
                  <a:cubicBezTo>
                    <a:pt x="64" y="0"/>
                    <a:pt x="90" y="18"/>
                    <a:pt x="94" y="42"/>
                  </a:cubicBezTo>
                  <a:close/>
                </a:path>
              </a:pathLst>
            </a:custGeom>
            <a:solidFill>
              <a:srgbClr val="474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7442280" y="1721160"/>
              <a:ext cx="96120" cy="90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40" y="6"/>
                  </a:moveTo>
                  <a:cubicBezTo>
                    <a:pt x="46" y="13"/>
                    <a:pt x="44" y="25"/>
                    <a:pt x="34" y="34"/>
                  </a:cubicBezTo>
                  <a:cubicBezTo>
                    <a:pt x="25" y="43"/>
                    <a:pt x="13" y="44"/>
                    <a:pt x="6" y="38"/>
                  </a:cubicBezTo>
                  <a:cubicBezTo>
                    <a:pt x="0" y="31"/>
                    <a:pt x="3" y="19"/>
                    <a:pt x="12" y="10"/>
                  </a:cubicBezTo>
                  <a:cubicBezTo>
                    <a:pt x="22" y="1"/>
                    <a:pt x="34" y="0"/>
                    <a:pt x="40" y="6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8046000" y="1590120"/>
              <a:ext cx="94320" cy="8208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1" y="10"/>
                  </a:moveTo>
                  <a:cubicBezTo>
                    <a:pt x="45" y="17"/>
                    <a:pt x="40" y="28"/>
                    <a:pt x="30" y="34"/>
                  </a:cubicBezTo>
                  <a:cubicBezTo>
                    <a:pt x="19" y="39"/>
                    <a:pt x="8" y="37"/>
                    <a:pt x="4" y="29"/>
                  </a:cubicBezTo>
                  <a:cubicBezTo>
                    <a:pt x="0" y="22"/>
                    <a:pt x="5" y="11"/>
                    <a:pt x="15" y="5"/>
                  </a:cubicBezTo>
                  <a:cubicBezTo>
                    <a:pt x="25" y="0"/>
                    <a:pt x="37" y="2"/>
                    <a:pt x="41" y="10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8462880" y="1607760"/>
              <a:ext cx="228960" cy="2466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4" y="118"/>
                  </a:moveTo>
                  <a:cubicBezTo>
                    <a:pt x="0" y="113"/>
                    <a:pt x="0" y="113"/>
                    <a:pt x="0" y="113"/>
                  </a:cubicBezTo>
                  <a:cubicBezTo>
                    <a:pt x="0" y="113"/>
                    <a:pt x="85" y="64"/>
                    <a:pt x="74" y="0"/>
                  </a:cubicBezTo>
                  <a:cubicBezTo>
                    <a:pt x="74" y="0"/>
                    <a:pt x="109" y="66"/>
                    <a:pt x="14" y="118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6927840" y="1784160"/>
              <a:ext cx="180000" cy="232560"/>
            </a:xfrm>
            <a:custGeom>
              <a:avLst/>
              <a:gdLst/>
              <a:ahLst/>
              <a:rect l="l" t="t" r="r" b="b"/>
              <a:pathLst>
                <a:path w="86" h="111">
                  <a:moveTo>
                    <a:pt x="86" y="106"/>
                  </a:moveTo>
                  <a:cubicBezTo>
                    <a:pt x="86" y="106"/>
                    <a:pt x="80" y="0"/>
                    <a:pt x="30" y="30"/>
                  </a:cubicBezTo>
                  <a:cubicBezTo>
                    <a:pt x="0" y="49"/>
                    <a:pt x="12" y="81"/>
                    <a:pt x="36" y="97"/>
                  </a:cubicBezTo>
                  <a:cubicBezTo>
                    <a:pt x="51" y="107"/>
                    <a:pt x="72" y="111"/>
                    <a:pt x="86" y="106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6924240" y="1871640"/>
              <a:ext cx="181800" cy="159120"/>
            </a:xfrm>
            <a:custGeom>
              <a:avLst/>
              <a:gdLst/>
              <a:ahLst/>
              <a:rect l="l" t="t" r="r" b="b"/>
              <a:pathLst>
                <a:path w="86" h="76">
                  <a:moveTo>
                    <a:pt x="86" y="63"/>
                  </a:moveTo>
                  <a:cubicBezTo>
                    <a:pt x="83" y="36"/>
                    <a:pt x="83" y="36"/>
                    <a:pt x="83" y="36"/>
                  </a:cubicBezTo>
                  <a:cubicBezTo>
                    <a:pt x="83" y="36"/>
                    <a:pt x="0" y="0"/>
                    <a:pt x="20" y="38"/>
                  </a:cubicBezTo>
                  <a:cubicBezTo>
                    <a:pt x="40" y="76"/>
                    <a:pt x="86" y="63"/>
                    <a:pt x="86" y="63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7283160" y="1848960"/>
              <a:ext cx="54000" cy="259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5"/>
                  </a:moveTo>
                  <a:cubicBezTo>
                    <a:pt x="26" y="7"/>
                    <a:pt x="25" y="10"/>
                    <a:pt x="22" y="10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3" y="13"/>
                    <a:pt x="1" y="11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6"/>
                    <a:pt x="2" y="3"/>
                    <a:pt x="4" y="3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0"/>
                    <a:pt x="26" y="2"/>
                    <a:pt x="26" y="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01"/>
            <p:cNvSpPr/>
            <p:nvPr/>
          </p:nvSpPr>
          <p:spPr>
            <a:xfrm>
              <a:off x="8224560" y="1672200"/>
              <a:ext cx="48960" cy="226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4"/>
                  </a:moveTo>
                  <a:cubicBezTo>
                    <a:pt x="23" y="6"/>
                    <a:pt x="22" y="8"/>
                    <a:pt x="20" y="8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1"/>
                    <a:pt x="1" y="9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5"/>
                    <a:pt x="1" y="3"/>
                    <a:pt x="3" y="3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1" y="0"/>
                    <a:pt x="22" y="2"/>
                    <a:pt x="23" y="4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02"/>
            <p:cNvSpPr/>
            <p:nvPr/>
          </p:nvSpPr>
          <p:spPr>
            <a:xfrm>
              <a:off x="7923600" y="2394720"/>
              <a:ext cx="134640" cy="52200"/>
            </a:xfrm>
            <a:custGeom>
              <a:avLst/>
              <a:gdLst/>
              <a:ahLst/>
              <a:rect l="l" t="t" r="r" b="b"/>
              <a:pathLst>
                <a:path w="64" h="25">
                  <a:moveTo>
                    <a:pt x="64" y="8"/>
                  </a:moveTo>
                  <a:cubicBezTo>
                    <a:pt x="64" y="14"/>
                    <a:pt x="51" y="20"/>
                    <a:pt x="34" y="23"/>
                  </a:cubicBezTo>
                  <a:cubicBezTo>
                    <a:pt x="16" y="25"/>
                    <a:pt x="2" y="23"/>
                    <a:pt x="1" y="17"/>
                  </a:cubicBezTo>
                  <a:cubicBezTo>
                    <a:pt x="0" y="12"/>
                    <a:pt x="13" y="5"/>
                    <a:pt x="31" y="3"/>
                  </a:cubicBezTo>
                  <a:cubicBezTo>
                    <a:pt x="48" y="0"/>
                    <a:pt x="63" y="3"/>
                    <a:pt x="64" y="8"/>
                  </a:cubicBezTo>
                  <a:close/>
                </a:path>
              </a:pathLst>
            </a:custGeom>
            <a:solidFill>
              <a:srgbClr val="ffe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8196840" y="705240"/>
              <a:ext cx="283320" cy="500040"/>
            </a:xfrm>
            <a:custGeom>
              <a:avLst/>
              <a:gdLst/>
              <a:ahLst/>
              <a:rect l="l" t="t" r="r" b="b"/>
              <a:pathLst>
                <a:path w="135" h="238">
                  <a:moveTo>
                    <a:pt x="0" y="138"/>
                  </a:moveTo>
                  <a:cubicBezTo>
                    <a:pt x="27" y="154"/>
                    <a:pt x="35" y="187"/>
                    <a:pt x="40" y="216"/>
                  </a:cubicBezTo>
                  <a:cubicBezTo>
                    <a:pt x="42" y="223"/>
                    <a:pt x="43" y="230"/>
                    <a:pt x="45" y="238"/>
                  </a:cubicBezTo>
                  <a:cubicBezTo>
                    <a:pt x="71" y="211"/>
                    <a:pt x="135" y="116"/>
                    <a:pt x="135" y="81"/>
                  </a:cubicBezTo>
                  <a:cubicBezTo>
                    <a:pt x="135" y="63"/>
                    <a:pt x="121" y="48"/>
                    <a:pt x="113" y="33"/>
                  </a:cubicBezTo>
                  <a:cubicBezTo>
                    <a:pt x="106" y="21"/>
                    <a:pt x="72" y="0"/>
                    <a:pt x="36" y="35"/>
                  </a:cubicBezTo>
                  <a:cubicBezTo>
                    <a:pt x="32" y="53"/>
                    <a:pt x="31" y="71"/>
                    <a:pt x="27" y="89"/>
                  </a:cubicBezTo>
                  <a:cubicBezTo>
                    <a:pt x="25" y="98"/>
                    <a:pt x="22" y="107"/>
                    <a:pt x="18" y="115"/>
                  </a:cubicBezTo>
                  <a:cubicBezTo>
                    <a:pt x="14" y="124"/>
                    <a:pt x="5" y="130"/>
                    <a:pt x="0" y="138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8040960" y="719280"/>
              <a:ext cx="162720" cy="288360"/>
            </a:xfrm>
            <a:custGeom>
              <a:avLst/>
              <a:gdLst/>
              <a:ahLst/>
              <a:rect l="l" t="t" r="r" b="b"/>
              <a:pathLst>
                <a:path w="77" h="138">
                  <a:moveTo>
                    <a:pt x="77" y="3"/>
                  </a:moveTo>
                  <a:cubicBezTo>
                    <a:pt x="53" y="0"/>
                    <a:pt x="19" y="120"/>
                    <a:pt x="0" y="138"/>
                  </a:cubicBezTo>
                  <a:cubicBezTo>
                    <a:pt x="43" y="120"/>
                    <a:pt x="76" y="51"/>
                    <a:pt x="76" y="6"/>
                  </a:cubicBezTo>
                  <a:lnTo>
                    <a:pt x="77" y="3"/>
                  </a:ln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7596360" y="528480"/>
              <a:ext cx="432000" cy="157320"/>
            </a:xfrm>
            <a:custGeom>
              <a:avLst/>
              <a:gdLst/>
              <a:ahLst/>
              <a:rect l="l" t="t" r="r" b="b"/>
              <a:pathLst>
                <a:path w="206" h="75">
                  <a:moveTo>
                    <a:pt x="0" y="75"/>
                  </a:moveTo>
                  <a:cubicBezTo>
                    <a:pt x="25" y="58"/>
                    <a:pt x="44" y="32"/>
                    <a:pt x="71" y="16"/>
                  </a:cubicBezTo>
                  <a:cubicBezTo>
                    <a:pt x="79" y="12"/>
                    <a:pt x="87" y="8"/>
                    <a:pt x="96" y="6"/>
                  </a:cubicBezTo>
                  <a:cubicBezTo>
                    <a:pt x="121" y="0"/>
                    <a:pt x="142" y="0"/>
                    <a:pt x="165" y="8"/>
                  </a:cubicBezTo>
                  <a:cubicBezTo>
                    <a:pt x="178" y="13"/>
                    <a:pt x="199" y="20"/>
                    <a:pt x="206" y="31"/>
                  </a:cubicBezTo>
                  <a:cubicBezTo>
                    <a:pt x="206" y="31"/>
                    <a:pt x="169" y="38"/>
                    <a:pt x="165" y="39"/>
                  </a:cubicBezTo>
                  <a:cubicBezTo>
                    <a:pt x="151" y="40"/>
                    <a:pt x="137" y="41"/>
                    <a:pt x="123" y="42"/>
                  </a:cubicBezTo>
                  <a:cubicBezTo>
                    <a:pt x="95" y="44"/>
                    <a:pt x="68" y="47"/>
                    <a:pt x="41" y="56"/>
                  </a:cubicBezTo>
                  <a:cubicBezTo>
                    <a:pt x="27" y="62"/>
                    <a:pt x="15" y="73"/>
                    <a:pt x="0" y="75"/>
                  </a:cubicBezTo>
                  <a:close/>
                </a:path>
              </a:pathLst>
            </a:custGeom>
            <a:solidFill>
              <a:srgbClr val="5139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6815880" y="834480"/>
              <a:ext cx="232560" cy="197280"/>
            </a:xfrm>
            <a:custGeom>
              <a:avLst/>
              <a:gdLst/>
              <a:ahLst/>
              <a:rect l="l" t="t" r="r" b="b"/>
              <a:pathLst>
                <a:path w="111" h="94">
                  <a:moveTo>
                    <a:pt x="0" y="0"/>
                  </a:moveTo>
                  <a:cubicBezTo>
                    <a:pt x="0" y="9"/>
                    <a:pt x="5" y="19"/>
                    <a:pt x="9" y="27"/>
                  </a:cubicBezTo>
                  <a:cubicBezTo>
                    <a:pt x="14" y="35"/>
                    <a:pt x="19" y="43"/>
                    <a:pt x="26" y="50"/>
                  </a:cubicBezTo>
                  <a:cubicBezTo>
                    <a:pt x="37" y="63"/>
                    <a:pt x="49" y="73"/>
                    <a:pt x="65" y="79"/>
                  </a:cubicBezTo>
                  <a:cubicBezTo>
                    <a:pt x="79" y="84"/>
                    <a:pt x="95" y="94"/>
                    <a:pt x="111" y="92"/>
                  </a:cubicBezTo>
                  <a:cubicBezTo>
                    <a:pt x="74" y="83"/>
                    <a:pt x="49" y="64"/>
                    <a:pt x="26" y="34"/>
                  </a:cubicBezTo>
                  <a:cubicBezTo>
                    <a:pt x="22" y="29"/>
                    <a:pt x="19" y="22"/>
                    <a:pt x="15" y="16"/>
                  </a:cubicBezTo>
                  <a:cubicBezTo>
                    <a:pt x="12" y="10"/>
                    <a:pt x="7" y="2"/>
                    <a:pt x="0" y="0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6957360" y="794160"/>
              <a:ext cx="199440" cy="13968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81" y="61"/>
                  </a:moveTo>
                  <a:cubicBezTo>
                    <a:pt x="64" y="54"/>
                    <a:pt x="45" y="43"/>
                    <a:pt x="33" y="31"/>
                  </a:cubicBezTo>
                  <a:cubicBezTo>
                    <a:pt x="21" y="19"/>
                    <a:pt x="13" y="9"/>
                    <a:pt x="0" y="0"/>
                  </a:cubicBezTo>
                  <a:cubicBezTo>
                    <a:pt x="5" y="15"/>
                    <a:pt x="17" y="36"/>
                    <a:pt x="28" y="47"/>
                  </a:cubicBezTo>
                  <a:cubicBezTo>
                    <a:pt x="44" y="61"/>
                    <a:pt x="74" y="67"/>
                    <a:pt x="95" y="66"/>
                  </a:cubicBezTo>
                  <a:cubicBezTo>
                    <a:pt x="95" y="66"/>
                    <a:pt x="94" y="66"/>
                    <a:pt x="94" y="66"/>
                  </a:cubicBezTo>
                  <a:cubicBezTo>
                    <a:pt x="89" y="65"/>
                    <a:pt x="85" y="63"/>
                    <a:pt x="81" y="61"/>
                  </a:cubicBezTo>
                  <a:close/>
                </a:path>
              </a:pathLst>
            </a:custGeom>
            <a:solidFill>
              <a:srgbClr val="3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7568280" y="1590120"/>
              <a:ext cx="496800" cy="577080"/>
            </a:xfrm>
            <a:custGeom>
              <a:avLst/>
              <a:gdLst/>
              <a:ahLst/>
              <a:rect l="l" t="t" r="r" b="b"/>
              <a:pathLst>
                <a:path w="236" h="275">
                  <a:moveTo>
                    <a:pt x="37" y="45"/>
                  </a:moveTo>
                  <a:cubicBezTo>
                    <a:pt x="37" y="45"/>
                    <a:pt x="0" y="193"/>
                    <a:pt x="72" y="234"/>
                  </a:cubicBezTo>
                  <a:cubicBezTo>
                    <a:pt x="143" y="275"/>
                    <a:pt x="218" y="230"/>
                    <a:pt x="225" y="190"/>
                  </a:cubicBezTo>
                  <a:cubicBezTo>
                    <a:pt x="236" y="120"/>
                    <a:pt x="176" y="109"/>
                    <a:pt x="149" y="20"/>
                  </a:cubicBezTo>
                  <a:cubicBezTo>
                    <a:pt x="149" y="20"/>
                    <a:pt x="127" y="0"/>
                    <a:pt x="91" y="6"/>
                  </a:cubicBezTo>
                  <a:cubicBezTo>
                    <a:pt x="56" y="11"/>
                    <a:pt x="37" y="45"/>
                    <a:pt x="37" y="45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7585920" y="1583280"/>
              <a:ext cx="441000" cy="510480"/>
            </a:xfrm>
            <a:custGeom>
              <a:avLst/>
              <a:gdLst/>
              <a:ahLst/>
              <a:rect l="l" t="t" r="r" b="b"/>
              <a:pathLst>
                <a:path w="210" h="243">
                  <a:moveTo>
                    <a:pt x="33" y="42"/>
                  </a:moveTo>
                  <a:cubicBezTo>
                    <a:pt x="33" y="42"/>
                    <a:pt x="0" y="168"/>
                    <a:pt x="64" y="205"/>
                  </a:cubicBezTo>
                  <a:cubicBezTo>
                    <a:pt x="127" y="243"/>
                    <a:pt x="194" y="202"/>
                    <a:pt x="200" y="166"/>
                  </a:cubicBezTo>
                  <a:cubicBezTo>
                    <a:pt x="210" y="101"/>
                    <a:pt x="158" y="97"/>
                    <a:pt x="133" y="15"/>
                  </a:cubicBezTo>
                  <a:cubicBezTo>
                    <a:pt x="133" y="15"/>
                    <a:pt x="114" y="0"/>
                    <a:pt x="82" y="5"/>
                  </a:cubicBezTo>
                  <a:cubicBezTo>
                    <a:pt x="50" y="11"/>
                    <a:pt x="33" y="42"/>
                    <a:pt x="33" y="42"/>
                  </a:cubicBezTo>
                  <a:close/>
                </a:path>
              </a:pathLst>
            </a:custGeom>
            <a:solidFill>
              <a:srgbClr val="f9d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7822080" y="1959120"/>
              <a:ext cx="78480" cy="381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6" y="5"/>
                  </a:moveTo>
                  <a:cubicBezTo>
                    <a:pt x="37" y="9"/>
                    <a:pt x="30" y="14"/>
                    <a:pt x="20" y="16"/>
                  </a:cubicBezTo>
                  <a:cubicBezTo>
                    <a:pt x="10" y="18"/>
                    <a:pt x="2" y="16"/>
                    <a:pt x="1" y="12"/>
                  </a:cubicBezTo>
                  <a:cubicBezTo>
                    <a:pt x="0" y="8"/>
                    <a:pt x="7" y="3"/>
                    <a:pt x="17" y="1"/>
                  </a:cubicBezTo>
                  <a:cubicBezTo>
                    <a:pt x="27" y="0"/>
                    <a:pt x="35" y="1"/>
                    <a:pt x="36" y="5"/>
                  </a:cubicBezTo>
                  <a:close/>
                </a:path>
              </a:pathLst>
            </a:cu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8384040" y="1557000"/>
              <a:ext cx="199440" cy="20952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36" y="100"/>
                  </a:moveTo>
                  <a:cubicBezTo>
                    <a:pt x="36" y="100"/>
                    <a:pt x="0" y="0"/>
                    <a:pt x="58" y="8"/>
                  </a:cubicBezTo>
                  <a:cubicBezTo>
                    <a:pt x="93" y="13"/>
                    <a:pt x="95" y="48"/>
                    <a:pt x="79" y="72"/>
                  </a:cubicBezTo>
                  <a:cubicBezTo>
                    <a:pt x="69" y="87"/>
                    <a:pt x="51" y="99"/>
                    <a:pt x="36" y="100"/>
                  </a:cubicBezTo>
                  <a:close/>
                </a:path>
              </a:pathLst>
            </a:custGeom>
            <a:solidFill>
              <a:srgbClr val="f7c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8445240" y="1571040"/>
              <a:ext cx="131040" cy="194040"/>
            </a:xfrm>
            <a:custGeom>
              <a:avLst/>
              <a:gdLst/>
              <a:ahLst/>
              <a:rect l="l" t="t" r="r" b="b"/>
              <a:pathLst>
                <a:path w="62" h="92">
                  <a:moveTo>
                    <a:pt x="7" y="92"/>
                  </a:moveTo>
                  <a:cubicBezTo>
                    <a:pt x="0" y="66"/>
                    <a:pt x="0" y="66"/>
                    <a:pt x="0" y="66"/>
                  </a:cubicBezTo>
                  <a:cubicBezTo>
                    <a:pt x="0" y="66"/>
                    <a:pt x="62" y="0"/>
                    <a:pt x="59" y="43"/>
                  </a:cubicBezTo>
                  <a:cubicBezTo>
                    <a:pt x="55" y="85"/>
                    <a:pt x="7" y="92"/>
                    <a:pt x="7" y="92"/>
                  </a:cubicBezTo>
                  <a:close/>
                </a:path>
              </a:pathLst>
            </a:custGeom>
            <a:solidFill>
              <a:srgbClr val="e5b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113"/>
            <p:cNvSpPr/>
            <p:nvPr/>
          </p:nvSpPr>
          <p:spPr>
            <a:xfrm>
              <a:off x="7673400" y="3043440"/>
              <a:ext cx="910080" cy="587520"/>
            </a:xfrm>
            <a:custGeom>
              <a:avLst/>
              <a:gdLst/>
              <a:ahLst/>
              <a:rect l="l" t="t" r="r" b="b"/>
              <a:pathLst>
                <a:path w="433" h="279">
                  <a:moveTo>
                    <a:pt x="287" y="0"/>
                  </a:moveTo>
                  <a:cubicBezTo>
                    <a:pt x="287" y="0"/>
                    <a:pt x="339" y="18"/>
                    <a:pt x="348" y="25"/>
                  </a:cubicBezTo>
                  <a:cubicBezTo>
                    <a:pt x="356" y="32"/>
                    <a:pt x="433" y="111"/>
                    <a:pt x="348" y="184"/>
                  </a:cubicBezTo>
                  <a:cubicBezTo>
                    <a:pt x="263" y="256"/>
                    <a:pt x="85" y="279"/>
                    <a:pt x="46" y="214"/>
                  </a:cubicBezTo>
                  <a:cubicBezTo>
                    <a:pt x="46" y="214"/>
                    <a:pt x="0" y="35"/>
                    <a:pt x="287" y="0"/>
                  </a:cubicBezTo>
                  <a:close/>
                </a:path>
              </a:pathLst>
            </a:custGeom>
            <a:solidFill>
              <a:srgbClr val="1f4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114"/>
            <p:cNvSpPr/>
            <p:nvPr/>
          </p:nvSpPr>
          <p:spPr>
            <a:xfrm>
              <a:off x="7673400" y="3043440"/>
              <a:ext cx="824040" cy="587520"/>
            </a:xfrm>
            <a:custGeom>
              <a:avLst/>
              <a:gdLst/>
              <a:ahLst/>
              <a:rect l="l" t="t" r="r" b="b"/>
              <a:pathLst>
                <a:path w="392" h="279">
                  <a:moveTo>
                    <a:pt x="383" y="79"/>
                  </a:moveTo>
                  <a:cubicBezTo>
                    <a:pt x="373" y="96"/>
                    <a:pt x="355" y="113"/>
                    <a:pt x="341" y="123"/>
                  </a:cubicBezTo>
                  <a:cubicBezTo>
                    <a:pt x="284" y="167"/>
                    <a:pt x="210" y="204"/>
                    <a:pt x="139" y="214"/>
                  </a:cubicBezTo>
                  <a:cubicBezTo>
                    <a:pt x="120" y="216"/>
                    <a:pt x="87" y="216"/>
                    <a:pt x="79" y="194"/>
                  </a:cubicBezTo>
                  <a:cubicBezTo>
                    <a:pt x="77" y="189"/>
                    <a:pt x="76" y="184"/>
                    <a:pt x="76" y="180"/>
                  </a:cubicBezTo>
                  <a:cubicBezTo>
                    <a:pt x="62" y="161"/>
                    <a:pt x="76" y="126"/>
                    <a:pt x="88" y="111"/>
                  </a:cubicBezTo>
                  <a:cubicBezTo>
                    <a:pt x="117" y="75"/>
                    <a:pt x="167" y="45"/>
                    <a:pt x="210" y="30"/>
                  </a:cubicBezTo>
                  <a:cubicBezTo>
                    <a:pt x="233" y="22"/>
                    <a:pt x="260" y="18"/>
                    <a:pt x="285" y="20"/>
                  </a:cubicBezTo>
                  <a:cubicBezTo>
                    <a:pt x="294" y="20"/>
                    <a:pt x="302" y="24"/>
                    <a:pt x="310" y="28"/>
                  </a:cubicBezTo>
                  <a:cubicBezTo>
                    <a:pt x="324" y="27"/>
                    <a:pt x="338" y="28"/>
                    <a:pt x="352" y="29"/>
                  </a:cubicBezTo>
                  <a:cubicBezTo>
                    <a:pt x="350" y="27"/>
                    <a:pt x="349" y="26"/>
                    <a:pt x="348" y="25"/>
                  </a:cubicBezTo>
                  <a:cubicBezTo>
                    <a:pt x="339" y="18"/>
                    <a:pt x="287" y="0"/>
                    <a:pt x="287" y="0"/>
                  </a:cubicBezTo>
                  <a:cubicBezTo>
                    <a:pt x="0" y="35"/>
                    <a:pt x="46" y="214"/>
                    <a:pt x="46" y="214"/>
                  </a:cubicBezTo>
                  <a:cubicBezTo>
                    <a:pt x="85" y="279"/>
                    <a:pt x="263" y="256"/>
                    <a:pt x="348" y="184"/>
                  </a:cubicBezTo>
                  <a:cubicBezTo>
                    <a:pt x="391" y="147"/>
                    <a:pt x="392" y="109"/>
                    <a:pt x="383" y="79"/>
                  </a:cubicBezTo>
                  <a:close/>
                </a:path>
              </a:pathLst>
            </a:custGeom>
            <a:solidFill>
              <a:srgbClr val="1b32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8818200" y="4671720"/>
              <a:ext cx="57600" cy="453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" y="18"/>
                  </a:moveTo>
                  <a:cubicBezTo>
                    <a:pt x="4" y="21"/>
                    <a:pt x="11" y="21"/>
                    <a:pt x="18" y="17"/>
                  </a:cubicBezTo>
                  <a:cubicBezTo>
                    <a:pt x="24" y="13"/>
                    <a:pt x="28" y="7"/>
                    <a:pt x="26" y="4"/>
                  </a:cubicBezTo>
                  <a:cubicBezTo>
                    <a:pt x="24" y="0"/>
                    <a:pt x="17" y="1"/>
                    <a:pt x="10" y="4"/>
                  </a:cubicBezTo>
                  <a:cubicBezTo>
                    <a:pt x="4" y="8"/>
                    <a:pt x="0" y="14"/>
                    <a:pt x="2" y="18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9078840" y="4556520"/>
              <a:ext cx="63000" cy="3996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2" y="15"/>
                  </a:moveTo>
                  <a:cubicBezTo>
                    <a:pt x="3" y="18"/>
                    <a:pt x="10" y="19"/>
                    <a:pt x="18" y="17"/>
                  </a:cubicBezTo>
                  <a:cubicBezTo>
                    <a:pt x="25" y="14"/>
                    <a:pt x="30" y="9"/>
                    <a:pt x="28" y="5"/>
                  </a:cubicBezTo>
                  <a:cubicBezTo>
                    <a:pt x="27" y="1"/>
                    <a:pt x="20" y="0"/>
                    <a:pt x="12" y="3"/>
                  </a:cubicBezTo>
                  <a:cubicBezTo>
                    <a:pt x="5" y="6"/>
                    <a:pt x="0" y="11"/>
                    <a:pt x="2" y="15"/>
                  </a:cubicBezTo>
                  <a:close/>
                </a:path>
              </a:pathLst>
            </a:custGeom>
            <a:solidFill>
              <a:srgbClr val="484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Freeform 37"/>
          <p:cNvSpPr/>
          <p:nvPr/>
        </p:nvSpPr>
        <p:spPr>
          <a:xfrm>
            <a:off x="5780160" y="2941560"/>
            <a:ext cx="1565280" cy="2657520"/>
          </a:xfrm>
          <a:custGeom>
            <a:avLst/>
            <a:gdLst/>
            <a:ahLst/>
            <a:rect l="l" t="t" r="r" b="b"/>
            <a:pathLst>
              <a:path w="895" h="1519">
                <a:moveTo>
                  <a:pt x="0" y="0"/>
                </a:moveTo>
                <a:lnTo>
                  <a:pt x="645" y="536"/>
                </a:lnTo>
                <a:lnTo>
                  <a:pt x="552" y="734"/>
                </a:lnTo>
                <a:lnTo>
                  <a:pt x="779" y="861"/>
                </a:lnTo>
                <a:lnTo>
                  <a:pt x="686" y="1107"/>
                </a:lnTo>
                <a:lnTo>
                  <a:pt x="759" y="1224"/>
                </a:lnTo>
                <a:lnTo>
                  <a:pt x="895" y="1121"/>
                </a:lnTo>
                <a:lnTo>
                  <a:pt x="895" y="1519"/>
                </a:lnTo>
                <a:lnTo>
                  <a:pt x="558" y="1408"/>
                </a:lnTo>
                <a:lnTo>
                  <a:pt x="665" y="1301"/>
                </a:lnTo>
                <a:lnTo>
                  <a:pt x="546" y="1107"/>
                </a:lnTo>
                <a:lnTo>
                  <a:pt x="622" y="931"/>
                </a:lnTo>
                <a:lnTo>
                  <a:pt x="419" y="795"/>
                </a:lnTo>
                <a:lnTo>
                  <a:pt x="495" y="583"/>
                </a:lnTo>
                <a:lnTo>
                  <a:pt x="0" y="171"/>
                </a:lnTo>
                <a:lnTo>
                  <a:pt x="0" y="0"/>
                </a:lnTo>
                <a:close/>
              </a:path>
            </a:pathLst>
          </a:custGeom>
          <a:solidFill>
            <a:srgbClr val="e06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组合 1"/>
          <p:cNvGrpSpPr/>
          <p:nvPr/>
        </p:nvGrpSpPr>
        <p:grpSpPr>
          <a:xfrm>
            <a:off x="1076400" y="2620800"/>
            <a:ext cx="3298680" cy="1489320"/>
            <a:chOff x="1076400" y="2620800"/>
            <a:chExt cx="3298680" cy="1489320"/>
          </a:xfrm>
        </p:grpSpPr>
        <p:sp>
          <p:nvSpPr>
            <p:cNvPr id="404" name="文本框 126"/>
            <p:cNvSpPr/>
            <p:nvPr/>
          </p:nvSpPr>
          <p:spPr>
            <a:xfrm>
              <a:off x="1129320" y="2665440"/>
              <a:ext cx="3245760" cy="1444680"/>
            </a:xfrm>
            <a:custGeom>
              <a:avLst/>
              <a:gdLst/>
              <a:ahLst/>
              <a:rect l="l" t="t" r="r" b="b"/>
              <a:pathLst>
                <a:path w="3245048" h="1444526">
                  <a:moveTo>
                    <a:pt x="780454" y="766763"/>
                  </a:moveTo>
                  <a:lnTo>
                    <a:pt x="614832" y="883146"/>
                  </a:lnTo>
                  <a:lnTo>
                    <a:pt x="1308174" y="883146"/>
                  </a:lnTo>
                  <a:lnTo>
                    <a:pt x="1143297" y="766763"/>
                  </a:lnTo>
                  <a:close/>
                  <a:moveTo>
                    <a:pt x="766762" y="260152"/>
                  </a:moveTo>
                  <a:lnTo>
                    <a:pt x="956356" y="348949"/>
                  </a:lnTo>
                  <a:lnTo>
                    <a:pt x="1143297" y="260152"/>
                  </a:lnTo>
                  <a:lnTo>
                    <a:pt x="1293911" y="328612"/>
                  </a:lnTo>
                  <a:lnTo>
                    <a:pt x="1104765" y="418457"/>
                  </a:lnTo>
                  <a:lnTo>
                    <a:pt x="1307604" y="513457"/>
                  </a:lnTo>
                  <a:lnTo>
                    <a:pt x="1143297" y="581918"/>
                  </a:lnTo>
                  <a:lnTo>
                    <a:pt x="950619" y="491676"/>
                  </a:lnTo>
                  <a:lnTo>
                    <a:pt x="746224" y="588764"/>
                  </a:lnTo>
                  <a:lnTo>
                    <a:pt x="595610" y="520303"/>
                  </a:lnTo>
                  <a:lnTo>
                    <a:pt x="802210" y="422168"/>
                  </a:lnTo>
                  <a:lnTo>
                    <a:pt x="602456" y="328612"/>
                  </a:lnTo>
                  <a:close/>
                  <a:moveTo>
                    <a:pt x="568226" y="212229"/>
                  </a:moveTo>
                  <a:lnTo>
                    <a:pt x="568226" y="629841"/>
                  </a:lnTo>
                  <a:lnTo>
                    <a:pt x="1328142" y="629841"/>
                  </a:lnTo>
                  <a:lnTo>
                    <a:pt x="1328142" y="212229"/>
                  </a:lnTo>
                  <a:close/>
                  <a:moveTo>
                    <a:pt x="1793676" y="41077"/>
                  </a:moveTo>
                  <a:lnTo>
                    <a:pt x="3231356" y="41077"/>
                  </a:lnTo>
                  <a:lnTo>
                    <a:pt x="3231356" y="184844"/>
                  </a:lnTo>
                  <a:lnTo>
                    <a:pt x="2847975" y="184844"/>
                  </a:lnTo>
                  <a:lnTo>
                    <a:pt x="2847975" y="732532"/>
                  </a:lnTo>
                  <a:lnTo>
                    <a:pt x="3197125" y="349151"/>
                  </a:lnTo>
                  <a:lnTo>
                    <a:pt x="3245048" y="506611"/>
                  </a:lnTo>
                  <a:lnTo>
                    <a:pt x="2847975" y="937915"/>
                  </a:lnTo>
                  <a:lnTo>
                    <a:pt x="2847975" y="1293912"/>
                  </a:lnTo>
                  <a:lnTo>
                    <a:pt x="3245048" y="1293912"/>
                  </a:lnTo>
                  <a:lnTo>
                    <a:pt x="3238202" y="1444526"/>
                  </a:lnTo>
                  <a:lnTo>
                    <a:pt x="2683668" y="1444526"/>
                  </a:lnTo>
                  <a:lnTo>
                    <a:pt x="2683668" y="184844"/>
                  </a:lnTo>
                  <a:lnTo>
                    <a:pt x="2245518" y="184844"/>
                  </a:lnTo>
                  <a:lnTo>
                    <a:pt x="2097056" y="410766"/>
                  </a:lnTo>
                  <a:lnTo>
                    <a:pt x="2444055" y="410766"/>
                  </a:lnTo>
                  <a:lnTo>
                    <a:pt x="2444055" y="835223"/>
                  </a:lnTo>
                  <a:lnTo>
                    <a:pt x="1916906" y="1444526"/>
                  </a:lnTo>
                  <a:lnTo>
                    <a:pt x="1759446" y="1410295"/>
                  </a:lnTo>
                  <a:lnTo>
                    <a:pt x="2026438" y="1090607"/>
                  </a:lnTo>
                  <a:lnTo>
                    <a:pt x="1759446" y="835223"/>
                  </a:lnTo>
                  <a:lnTo>
                    <a:pt x="1910060" y="773609"/>
                  </a:lnTo>
                  <a:lnTo>
                    <a:pt x="2121930" y="976267"/>
                  </a:lnTo>
                  <a:lnTo>
                    <a:pt x="2279749" y="787301"/>
                  </a:lnTo>
                  <a:lnTo>
                    <a:pt x="2279749" y="554534"/>
                  </a:lnTo>
                  <a:lnTo>
                    <a:pt x="2002580" y="554534"/>
                  </a:lnTo>
                  <a:lnTo>
                    <a:pt x="1930598" y="664071"/>
                  </a:lnTo>
                  <a:lnTo>
                    <a:pt x="1773138" y="629841"/>
                  </a:lnTo>
                  <a:lnTo>
                    <a:pt x="2067520" y="184844"/>
                  </a:lnTo>
                  <a:lnTo>
                    <a:pt x="1793676" y="184844"/>
                  </a:lnTo>
                  <a:close/>
                  <a:moveTo>
                    <a:pt x="198537" y="27384"/>
                  </a:moveTo>
                  <a:lnTo>
                    <a:pt x="328612" y="123230"/>
                  </a:lnTo>
                  <a:lnTo>
                    <a:pt x="154074" y="670917"/>
                  </a:lnTo>
                  <a:lnTo>
                    <a:pt x="253305" y="670917"/>
                  </a:lnTo>
                  <a:lnTo>
                    <a:pt x="253305" y="1444526"/>
                  </a:lnTo>
                  <a:lnTo>
                    <a:pt x="82153" y="1444526"/>
                  </a:lnTo>
                  <a:lnTo>
                    <a:pt x="82153" y="710913"/>
                  </a:lnTo>
                  <a:lnTo>
                    <a:pt x="0" y="650379"/>
                  </a:lnTo>
                  <a:close/>
                  <a:moveTo>
                    <a:pt x="883146" y="0"/>
                  </a:moveTo>
                  <a:lnTo>
                    <a:pt x="1047452" y="20538"/>
                  </a:lnTo>
                  <a:lnTo>
                    <a:pt x="1026914" y="75307"/>
                  </a:lnTo>
                  <a:lnTo>
                    <a:pt x="1499294" y="75307"/>
                  </a:lnTo>
                  <a:lnTo>
                    <a:pt x="1499294" y="766763"/>
                  </a:lnTo>
                  <a:lnTo>
                    <a:pt x="1376065" y="766763"/>
                  </a:lnTo>
                  <a:lnTo>
                    <a:pt x="1519833" y="869454"/>
                  </a:lnTo>
                  <a:lnTo>
                    <a:pt x="1423987" y="910530"/>
                  </a:lnTo>
                  <a:lnTo>
                    <a:pt x="1423987" y="1143298"/>
                  </a:lnTo>
                  <a:lnTo>
                    <a:pt x="1138646" y="1239875"/>
                  </a:lnTo>
                  <a:lnTo>
                    <a:pt x="1526679" y="1369219"/>
                  </a:lnTo>
                  <a:lnTo>
                    <a:pt x="1369218" y="1444526"/>
                  </a:lnTo>
                  <a:lnTo>
                    <a:pt x="943264" y="1306004"/>
                  </a:lnTo>
                  <a:lnTo>
                    <a:pt x="533995" y="1444526"/>
                  </a:lnTo>
                  <a:lnTo>
                    <a:pt x="390227" y="1369219"/>
                  </a:lnTo>
                  <a:lnTo>
                    <a:pt x="750430" y="1243294"/>
                  </a:lnTo>
                  <a:lnTo>
                    <a:pt x="527149" y="1170682"/>
                  </a:lnTo>
                  <a:lnTo>
                    <a:pt x="705147" y="1095375"/>
                  </a:lnTo>
                  <a:lnTo>
                    <a:pt x="944924" y="1175300"/>
                  </a:lnTo>
                  <a:lnTo>
                    <a:pt x="1232297" y="1074837"/>
                  </a:lnTo>
                  <a:lnTo>
                    <a:pt x="1232297" y="1020068"/>
                  </a:lnTo>
                  <a:lnTo>
                    <a:pt x="616148" y="1020068"/>
                  </a:lnTo>
                  <a:lnTo>
                    <a:pt x="581918" y="1102221"/>
                  </a:lnTo>
                  <a:lnTo>
                    <a:pt x="417611" y="1067991"/>
                  </a:lnTo>
                  <a:lnTo>
                    <a:pt x="476292" y="923956"/>
                  </a:lnTo>
                  <a:lnTo>
                    <a:pt x="376535" y="883146"/>
                  </a:lnTo>
                  <a:lnTo>
                    <a:pt x="554533" y="766763"/>
                  </a:lnTo>
                  <a:lnTo>
                    <a:pt x="403919" y="766763"/>
                  </a:lnTo>
                  <a:lnTo>
                    <a:pt x="403919" y="75307"/>
                  </a:lnTo>
                  <a:lnTo>
                    <a:pt x="842069" y="75307"/>
                  </a:lnTo>
                  <a:close/>
                </a:path>
              </a:pathLst>
            </a:custGeom>
            <a:solidFill>
              <a:srgbClr val="3a52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文本框 130"/>
            <p:cNvSpPr/>
            <p:nvPr/>
          </p:nvSpPr>
          <p:spPr>
            <a:xfrm>
              <a:off x="1076400" y="2620800"/>
              <a:ext cx="3245760" cy="1444680"/>
            </a:xfrm>
            <a:custGeom>
              <a:avLst/>
              <a:gdLst/>
              <a:ahLst/>
              <a:rect l="l" t="t" r="r" b="b"/>
              <a:pathLst>
                <a:path w="3245048" h="1444526">
                  <a:moveTo>
                    <a:pt x="780454" y="766763"/>
                  </a:moveTo>
                  <a:lnTo>
                    <a:pt x="614832" y="883146"/>
                  </a:lnTo>
                  <a:lnTo>
                    <a:pt x="1308174" y="883146"/>
                  </a:lnTo>
                  <a:lnTo>
                    <a:pt x="1143297" y="766763"/>
                  </a:lnTo>
                  <a:close/>
                  <a:moveTo>
                    <a:pt x="766762" y="260152"/>
                  </a:moveTo>
                  <a:lnTo>
                    <a:pt x="956356" y="348949"/>
                  </a:lnTo>
                  <a:lnTo>
                    <a:pt x="1143297" y="260152"/>
                  </a:lnTo>
                  <a:lnTo>
                    <a:pt x="1293911" y="328612"/>
                  </a:lnTo>
                  <a:lnTo>
                    <a:pt x="1104765" y="418457"/>
                  </a:lnTo>
                  <a:lnTo>
                    <a:pt x="1307604" y="513457"/>
                  </a:lnTo>
                  <a:lnTo>
                    <a:pt x="1143297" y="581918"/>
                  </a:lnTo>
                  <a:lnTo>
                    <a:pt x="950619" y="491676"/>
                  </a:lnTo>
                  <a:lnTo>
                    <a:pt x="746224" y="588764"/>
                  </a:lnTo>
                  <a:lnTo>
                    <a:pt x="595610" y="520303"/>
                  </a:lnTo>
                  <a:lnTo>
                    <a:pt x="802210" y="422168"/>
                  </a:lnTo>
                  <a:lnTo>
                    <a:pt x="602456" y="328612"/>
                  </a:lnTo>
                  <a:close/>
                  <a:moveTo>
                    <a:pt x="568225" y="212229"/>
                  </a:moveTo>
                  <a:lnTo>
                    <a:pt x="568225" y="629841"/>
                  </a:lnTo>
                  <a:lnTo>
                    <a:pt x="1328142" y="629841"/>
                  </a:lnTo>
                  <a:lnTo>
                    <a:pt x="1328142" y="212229"/>
                  </a:lnTo>
                  <a:close/>
                  <a:moveTo>
                    <a:pt x="1793676" y="41077"/>
                  </a:moveTo>
                  <a:lnTo>
                    <a:pt x="3231356" y="41077"/>
                  </a:lnTo>
                  <a:lnTo>
                    <a:pt x="3231356" y="184844"/>
                  </a:lnTo>
                  <a:lnTo>
                    <a:pt x="2847975" y="184844"/>
                  </a:lnTo>
                  <a:lnTo>
                    <a:pt x="2847975" y="732532"/>
                  </a:lnTo>
                  <a:lnTo>
                    <a:pt x="3197125" y="349151"/>
                  </a:lnTo>
                  <a:lnTo>
                    <a:pt x="3245048" y="506611"/>
                  </a:lnTo>
                  <a:lnTo>
                    <a:pt x="2847975" y="937915"/>
                  </a:lnTo>
                  <a:lnTo>
                    <a:pt x="2847975" y="1293912"/>
                  </a:lnTo>
                  <a:lnTo>
                    <a:pt x="3245048" y="1293912"/>
                  </a:lnTo>
                  <a:lnTo>
                    <a:pt x="3238202" y="1444526"/>
                  </a:lnTo>
                  <a:lnTo>
                    <a:pt x="2683668" y="1444526"/>
                  </a:lnTo>
                  <a:lnTo>
                    <a:pt x="2683668" y="184844"/>
                  </a:lnTo>
                  <a:lnTo>
                    <a:pt x="2245518" y="184844"/>
                  </a:lnTo>
                  <a:lnTo>
                    <a:pt x="2097056" y="410766"/>
                  </a:lnTo>
                  <a:lnTo>
                    <a:pt x="2444055" y="410766"/>
                  </a:lnTo>
                  <a:lnTo>
                    <a:pt x="2444055" y="835223"/>
                  </a:lnTo>
                  <a:lnTo>
                    <a:pt x="1916906" y="1444526"/>
                  </a:lnTo>
                  <a:lnTo>
                    <a:pt x="1759446" y="1410295"/>
                  </a:lnTo>
                  <a:lnTo>
                    <a:pt x="2026438" y="1090607"/>
                  </a:lnTo>
                  <a:lnTo>
                    <a:pt x="1759446" y="835223"/>
                  </a:lnTo>
                  <a:lnTo>
                    <a:pt x="1910060" y="773609"/>
                  </a:lnTo>
                  <a:lnTo>
                    <a:pt x="2121930" y="976267"/>
                  </a:lnTo>
                  <a:lnTo>
                    <a:pt x="2279749" y="787301"/>
                  </a:lnTo>
                  <a:lnTo>
                    <a:pt x="2279749" y="554534"/>
                  </a:lnTo>
                  <a:lnTo>
                    <a:pt x="2002580" y="554534"/>
                  </a:lnTo>
                  <a:lnTo>
                    <a:pt x="1930598" y="664071"/>
                  </a:lnTo>
                  <a:lnTo>
                    <a:pt x="1773138" y="629841"/>
                  </a:lnTo>
                  <a:lnTo>
                    <a:pt x="2067520" y="184844"/>
                  </a:lnTo>
                  <a:lnTo>
                    <a:pt x="1793676" y="184844"/>
                  </a:lnTo>
                  <a:close/>
                  <a:moveTo>
                    <a:pt x="198536" y="27384"/>
                  </a:moveTo>
                  <a:lnTo>
                    <a:pt x="328612" y="123230"/>
                  </a:lnTo>
                  <a:lnTo>
                    <a:pt x="154074" y="670917"/>
                  </a:lnTo>
                  <a:lnTo>
                    <a:pt x="253305" y="670917"/>
                  </a:lnTo>
                  <a:lnTo>
                    <a:pt x="253305" y="1444526"/>
                  </a:lnTo>
                  <a:lnTo>
                    <a:pt x="82153" y="1444526"/>
                  </a:lnTo>
                  <a:lnTo>
                    <a:pt x="82153" y="710913"/>
                  </a:lnTo>
                  <a:lnTo>
                    <a:pt x="0" y="650379"/>
                  </a:lnTo>
                  <a:close/>
                  <a:moveTo>
                    <a:pt x="883146" y="0"/>
                  </a:moveTo>
                  <a:lnTo>
                    <a:pt x="1047452" y="20538"/>
                  </a:lnTo>
                  <a:lnTo>
                    <a:pt x="1026914" y="75307"/>
                  </a:lnTo>
                  <a:lnTo>
                    <a:pt x="1499294" y="75307"/>
                  </a:lnTo>
                  <a:lnTo>
                    <a:pt x="1499294" y="766763"/>
                  </a:lnTo>
                  <a:lnTo>
                    <a:pt x="1376065" y="766763"/>
                  </a:lnTo>
                  <a:lnTo>
                    <a:pt x="1519833" y="869454"/>
                  </a:lnTo>
                  <a:lnTo>
                    <a:pt x="1423987" y="910530"/>
                  </a:lnTo>
                  <a:lnTo>
                    <a:pt x="1423987" y="1143298"/>
                  </a:lnTo>
                  <a:lnTo>
                    <a:pt x="1138646" y="1239875"/>
                  </a:lnTo>
                  <a:lnTo>
                    <a:pt x="1526679" y="1369219"/>
                  </a:lnTo>
                  <a:lnTo>
                    <a:pt x="1369218" y="1444526"/>
                  </a:lnTo>
                  <a:lnTo>
                    <a:pt x="943264" y="1306004"/>
                  </a:lnTo>
                  <a:lnTo>
                    <a:pt x="533995" y="1444526"/>
                  </a:lnTo>
                  <a:lnTo>
                    <a:pt x="390227" y="1369219"/>
                  </a:lnTo>
                  <a:lnTo>
                    <a:pt x="750431" y="1243294"/>
                  </a:lnTo>
                  <a:lnTo>
                    <a:pt x="527149" y="1170682"/>
                  </a:lnTo>
                  <a:lnTo>
                    <a:pt x="705147" y="1095375"/>
                  </a:lnTo>
                  <a:lnTo>
                    <a:pt x="944924" y="1175300"/>
                  </a:lnTo>
                  <a:lnTo>
                    <a:pt x="1232297" y="1074837"/>
                  </a:lnTo>
                  <a:lnTo>
                    <a:pt x="1232297" y="1020068"/>
                  </a:lnTo>
                  <a:lnTo>
                    <a:pt x="616148" y="1020068"/>
                  </a:lnTo>
                  <a:lnTo>
                    <a:pt x="581918" y="1102221"/>
                  </a:lnTo>
                  <a:lnTo>
                    <a:pt x="417611" y="1067991"/>
                  </a:lnTo>
                  <a:lnTo>
                    <a:pt x="476292" y="923956"/>
                  </a:lnTo>
                  <a:lnTo>
                    <a:pt x="376535" y="883146"/>
                  </a:lnTo>
                  <a:lnTo>
                    <a:pt x="554533" y="766763"/>
                  </a:lnTo>
                  <a:lnTo>
                    <a:pt x="403919" y="766763"/>
                  </a:lnTo>
                  <a:lnTo>
                    <a:pt x="403919" y="75307"/>
                  </a:lnTo>
                  <a:lnTo>
                    <a:pt x="842069" y="753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文本框 134"/>
          <p:cNvSpPr/>
          <p:nvPr/>
        </p:nvSpPr>
        <p:spPr>
          <a:xfrm>
            <a:off x="1122480" y="1800360"/>
            <a:ext cx="3973320" cy="444240"/>
          </a:xfrm>
          <a:custGeom>
            <a:avLst/>
            <a:gdLst/>
            <a:ahLst/>
            <a:rect l="l" t="t" r="r" b="b"/>
            <a:pathLst>
              <a:path w="3973525" h="443694">
                <a:moveTo>
                  <a:pt x="2096207" y="301712"/>
                </a:moveTo>
                <a:lnTo>
                  <a:pt x="2143534" y="301712"/>
                </a:lnTo>
                <a:lnTo>
                  <a:pt x="2143534" y="345096"/>
                </a:lnTo>
                <a:cubicBezTo>
                  <a:pt x="2144849" y="389794"/>
                  <a:pt x="2129073" y="422660"/>
                  <a:pt x="2096207" y="443694"/>
                </a:cubicBezTo>
                <a:lnTo>
                  <a:pt x="2082403" y="431862"/>
                </a:lnTo>
                <a:cubicBezTo>
                  <a:pt x="2111325" y="410828"/>
                  <a:pt x="2125129" y="384535"/>
                  <a:pt x="2123814" y="352983"/>
                </a:cubicBezTo>
                <a:lnTo>
                  <a:pt x="2096207" y="352983"/>
                </a:lnTo>
                <a:close/>
                <a:moveTo>
                  <a:pt x="2573424" y="248469"/>
                </a:moveTo>
                <a:lnTo>
                  <a:pt x="2620751" y="260301"/>
                </a:lnTo>
                <a:lnTo>
                  <a:pt x="2571452" y="412143"/>
                </a:lnTo>
                <a:lnTo>
                  <a:pt x="2524125" y="402283"/>
                </a:lnTo>
                <a:close/>
                <a:moveTo>
                  <a:pt x="165645" y="216917"/>
                </a:moveTo>
                <a:lnTo>
                  <a:pt x="165645" y="368759"/>
                </a:lnTo>
                <a:lnTo>
                  <a:pt x="220861" y="368759"/>
                </a:lnTo>
                <a:lnTo>
                  <a:pt x="220861" y="216917"/>
                </a:lnTo>
                <a:close/>
                <a:moveTo>
                  <a:pt x="2675967" y="163674"/>
                </a:moveTo>
                <a:lnTo>
                  <a:pt x="2952043" y="163674"/>
                </a:lnTo>
                <a:lnTo>
                  <a:pt x="2952043" y="240581"/>
                </a:lnTo>
                <a:lnTo>
                  <a:pt x="2847815" y="310333"/>
                </a:lnTo>
                <a:lnTo>
                  <a:pt x="2963875" y="384535"/>
                </a:lnTo>
                <a:lnTo>
                  <a:pt x="2926407" y="412143"/>
                </a:lnTo>
                <a:lnTo>
                  <a:pt x="2807941" y="337018"/>
                </a:lnTo>
                <a:lnTo>
                  <a:pt x="2695686" y="412143"/>
                </a:lnTo>
                <a:lnTo>
                  <a:pt x="2658219" y="386507"/>
                </a:lnTo>
                <a:lnTo>
                  <a:pt x="2768564" y="312047"/>
                </a:lnTo>
                <a:lnTo>
                  <a:pt x="2683855" y="258329"/>
                </a:lnTo>
                <a:lnTo>
                  <a:pt x="2723294" y="230721"/>
                </a:lnTo>
                <a:lnTo>
                  <a:pt x="2808425" y="285149"/>
                </a:lnTo>
                <a:lnTo>
                  <a:pt x="2900772" y="222833"/>
                </a:lnTo>
                <a:lnTo>
                  <a:pt x="2900772" y="205085"/>
                </a:lnTo>
                <a:lnTo>
                  <a:pt x="2675967" y="205085"/>
                </a:lnTo>
                <a:close/>
                <a:moveTo>
                  <a:pt x="2543844" y="124235"/>
                </a:moveTo>
                <a:lnTo>
                  <a:pt x="2616807" y="175506"/>
                </a:lnTo>
                <a:lnTo>
                  <a:pt x="2599060" y="220861"/>
                </a:lnTo>
                <a:lnTo>
                  <a:pt x="2526097" y="167618"/>
                </a:lnTo>
                <a:close/>
                <a:moveTo>
                  <a:pt x="3673785" y="116347"/>
                </a:moveTo>
                <a:lnTo>
                  <a:pt x="3967609" y="116347"/>
                </a:lnTo>
                <a:lnTo>
                  <a:pt x="3967609" y="136066"/>
                </a:lnTo>
                <a:lnTo>
                  <a:pt x="3878870" y="226777"/>
                </a:lnTo>
                <a:lnTo>
                  <a:pt x="3973525" y="226777"/>
                </a:lnTo>
                <a:lnTo>
                  <a:pt x="3973525" y="270161"/>
                </a:lnTo>
                <a:lnTo>
                  <a:pt x="3928169" y="270161"/>
                </a:lnTo>
                <a:lnTo>
                  <a:pt x="3928169" y="412143"/>
                </a:lnTo>
                <a:lnTo>
                  <a:pt x="3683645" y="412143"/>
                </a:lnTo>
                <a:lnTo>
                  <a:pt x="3683645" y="370731"/>
                </a:lnTo>
                <a:lnTo>
                  <a:pt x="3878870" y="370731"/>
                </a:lnTo>
                <a:lnTo>
                  <a:pt x="3878870" y="270161"/>
                </a:lnTo>
                <a:lnTo>
                  <a:pt x="3659981" y="270161"/>
                </a:lnTo>
                <a:lnTo>
                  <a:pt x="3659981" y="226777"/>
                </a:lnTo>
                <a:lnTo>
                  <a:pt x="3813795" y="226777"/>
                </a:lnTo>
                <a:lnTo>
                  <a:pt x="3882814" y="159730"/>
                </a:lnTo>
                <a:lnTo>
                  <a:pt x="3673785" y="159730"/>
                </a:lnTo>
                <a:close/>
                <a:moveTo>
                  <a:pt x="3204455" y="55216"/>
                </a:moveTo>
                <a:lnTo>
                  <a:pt x="3204455" y="128179"/>
                </a:lnTo>
                <a:lnTo>
                  <a:pt x="3409540" y="128179"/>
                </a:lnTo>
                <a:lnTo>
                  <a:pt x="3409540" y="55216"/>
                </a:lnTo>
                <a:close/>
                <a:moveTo>
                  <a:pt x="1396156" y="17748"/>
                </a:moveTo>
                <a:lnTo>
                  <a:pt x="1443484" y="33524"/>
                </a:lnTo>
                <a:lnTo>
                  <a:pt x="1344885" y="126207"/>
                </a:lnTo>
                <a:lnTo>
                  <a:pt x="1299530" y="110431"/>
                </a:lnTo>
                <a:close/>
                <a:moveTo>
                  <a:pt x="1064865" y="17748"/>
                </a:moveTo>
                <a:lnTo>
                  <a:pt x="1161492" y="110431"/>
                </a:lnTo>
                <a:lnTo>
                  <a:pt x="1116136" y="126207"/>
                </a:lnTo>
                <a:lnTo>
                  <a:pt x="1017538" y="33524"/>
                </a:lnTo>
                <a:close/>
                <a:moveTo>
                  <a:pt x="1536167" y="15776"/>
                </a:moveTo>
                <a:lnTo>
                  <a:pt x="1934505" y="15776"/>
                </a:lnTo>
                <a:lnTo>
                  <a:pt x="1934505" y="61131"/>
                </a:lnTo>
                <a:lnTo>
                  <a:pt x="1760971" y="61131"/>
                </a:lnTo>
                <a:lnTo>
                  <a:pt x="1760971" y="169590"/>
                </a:lnTo>
                <a:lnTo>
                  <a:pt x="1948309" y="169590"/>
                </a:lnTo>
                <a:lnTo>
                  <a:pt x="1948309" y="214945"/>
                </a:lnTo>
                <a:lnTo>
                  <a:pt x="1760971" y="214945"/>
                </a:lnTo>
                <a:lnTo>
                  <a:pt x="1760971" y="266217"/>
                </a:lnTo>
                <a:lnTo>
                  <a:pt x="1948309" y="376647"/>
                </a:lnTo>
                <a:lnTo>
                  <a:pt x="1918729" y="412143"/>
                </a:lnTo>
                <a:lnTo>
                  <a:pt x="1735336" y="305656"/>
                </a:lnTo>
                <a:lnTo>
                  <a:pt x="1549970" y="412143"/>
                </a:lnTo>
                <a:lnTo>
                  <a:pt x="1524335" y="376647"/>
                </a:lnTo>
                <a:lnTo>
                  <a:pt x="1709700" y="266217"/>
                </a:lnTo>
                <a:lnTo>
                  <a:pt x="1709700" y="214945"/>
                </a:lnTo>
                <a:lnTo>
                  <a:pt x="1522363" y="214945"/>
                </a:lnTo>
                <a:lnTo>
                  <a:pt x="1522363" y="169590"/>
                </a:lnTo>
                <a:lnTo>
                  <a:pt x="1709700" y="169590"/>
                </a:lnTo>
                <a:lnTo>
                  <a:pt x="1709700" y="61131"/>
                </a:lnTo>
                <a:lnTo>
                  <a:pt x="1536167" y="61131"/>
                </a:lnTo>
                <a:close/>
                <a:moveTo>
                  <a:pt x="3157128" y="11832"/>
                </a:moveTo>
                <a:lnTo>
                  <a:pt x="3458840" y="11832"/>
                </a:lnTo>
                <a:lnTo>
                  <a:pt x="3458840" y="169590"/>
                </a:lnTo>
                <a:lnTo>
                  <a:pt x="3330662" y="169590"/>
                </a:lnTo>
                <a:lnTo>
                  <a:pt x="3330662" y="220861"/>
                </a:lnTo>
                <a:lnTo>
                  <a:pt x="3468700" y="220861"/>
                </a:lnTo>
                <a:lnTo>
                  <a:pt x="3468700" y="264245"/>
                </a:lnTo>
                <a:lnTo>
                  <a:pt x="3409540" y="264245"/>
                </a:lnTo>
                <a:lnTo>
                  <a:pt x="3468700" y="396367"/>
                </a:lnTo>
                <a:lnTo>
                  <a:pt x="3427288" y="412143"/>
                </a:lnTo>
                <a:lnTo>
                  <a:pt x="3362213" y="264245"/>
                </a:lnTo>
                <a:lnTo>
                  <a:pt x="3330662" y="264245"/>
                </a:lnTo>
                <a:lnTo>
                  <a:pt x="3330662" y="412143"/>
                </a:lnTo>
                <a:lnTo>
                  <a:pt x="3283334" y="412143"/>
                </a:lnTo>
                <a:lnTo>
                  <a:pt x="3283334" y="264245"/>
                </a:lnTo>
                <a:lnTo>
                  <a:pt x="3251783" y="264245"/>
                </a:lnTo>
                <a:lnTo>
                  <a:pt x="3182764" y="412143"/>
                </a:lnTo>
                <a:lnTo>
                  <a:pt x="3141352" y="398339"/>
                </a:lnTo>
                <a:lnTo>
                  <a:pt x="3202483" y="264245"/>
                </a:lnTo>
                <a:lnTo>
                  <a:pt x="3143324" y="264245"/>
                </a:lnTo>
                <a:lnTo>
                  <a:pt x="3143324" y="220861"/>
                </a:lnTo>
                <a:lnTo>
                  <a:pt x="3283334" y="220861"/>
                </a:lnTo>
                <a:lnTo>
                  <a:pt x="3283334" y="169590"/>
                </a:lnTo>
                <a:lnTo>
                  <a:pt x="3157128" y="169590"/>
                </a:lnTo>
                <a:close/>
                <a:moveTo>
                  <a:pt x="2689770" y="11832"/>
                </a:moveTo>
                <a:lnTo>
                  <a:pt x="2940211" y="11832"/>
                </a:lnTo>
                <a:lnTo>
                  <a:pt x="2957959" y="114375"/>
                </a:lnTo>
                <a:lnTo>
                  <a:pt x="2910631" y="122263"/>
                </a:lnTo>
                <a:lnTo>
                  <a:pt x="2898800" y="55216"/>
                </a:lnTo>
                <a:lnTo>
                  <a:pt x="2731182" y="55216"/>
                </a:lnTo>
                <a:lnTo>
                  <a:pt x="2719350" y="122263"/>
                </a:lnTo>
                <a:lnTo>
                  <a:pt x="2670051" y="116347"/>
                </a:lnTo>
                <a:close/>
                <a:moveTo>
                  <a:pt x="524545" y="11832"/>
                </a:moveTo>
                <a:lnTo>
                  <a:pt x="928799" y="11832"/>
                </a:lnTo>
                <a:lnTo>
                  <a:pt x="928799" y="29580"/>
                </a:lnTo>
                <a:lnTo>
                  <a:pt x="798649" y="179450"/>
                </a:lnTo>
                <a:lnTo>
                  <a:pt x="798649" y="412143"/>
                </a:lnTo>
                <a:lnTo>
                  <a:pt x="603423" y="412143"/>
                </a:lnTo>
                <a:lnTo>
                  <a:pt x="603423" y="370731"/>
                </a:lnTo>
                <a:lnTo>
                  <a:pt x="751321" y="370731"/>
                </a:lnTo>
                <a:lnTo>
                  <a:pt x="751321" y="159730"/>
                </a:lnTo>
                <a:lnTo>
                  <a:pt x="845976" y="53244"/>
                </a:lnTo>
                <a:lnTo>
                  <a:pt x="524545" y="53244"/>
                </a:lnTo>
                <a:close/>
                <a:moveTo>
                  <a:pt x="1206847" y="7888"/>
                </a:moveTo>
                <a:lnTo>
                  <a:pt x="1254174" y="7888"/>
                </a:lnTo>
                <a:lnTo>
                  <a:pt x="1254174" y="169590"/>
                </a:lnTo>
                <a:lnTo>
                  <a:pt x="1433624" y="169590"/>
                </a:lnTo>
                <a:lnTo>
                  <a:pt x="1433624" y="211001"/>
                </a:lnTo>
                <a:lnTo>
                  <a:pt x="1254174" y="211001"/>
                </a:lnTo>
                <a:lnTo>
                  <a:pt x="1254174" y="309600"/>
                </a:lnTo>
                <a:lnTo>
                  <a:pt x="1443484" y="309600"/>
                </a:lnTo>
                <a:lnTo>
                  <a:pt x="1443484" y="351012"/>
                </a:lnTo>
                <a:lnTo>
                  <a:pt x="1254174" y="351012"/>
                </a:lnTo>
                <a:lnTo>
                  <a:pt x="1254174" y="412143"/>
                </a:lnTo>
                <a:lnTo>
                  <a:pt x="1206847" y="412143"/>
                </a:lnTo>
                <a:lnTo>
                  <a:pt x="1206847" y="351012"/>
                </a:lnTo>
                <a:lnTo>
                  <a:pt x="1017538" y="351012"/>
                </a:lnTo>
                <a:lnTo>
                  <a:pt x="1017538" y="309600"/>
                </a:lnTo>
                <a:lnTo>
                  <a:pt x="1206847" y="309600"/>
                </a:lnTo>
                <a:lnTo>
                  <a:pt x="1206847" y="211001"/>
                </a:lnTo>
                <a:lnTo>
                  <a:pt x="1029369" y="211001"/>
                </a:lnTo>
                <a:lnTo>
                  <a:pt x="1029369" y="169590"/>
                </a:lnTo>
                <a:lnTo>
                  <a:pt x="1206847" y="169590"/>
                </a:lnTo>
                <a:close/>
                <a:moveTo>
                  <a:pt x="3086137" y="3944"/>
                </a:moveTo>
                <a:lnTo>
                  <a:pt x="3123604" y="31552"/>
                </a:lnTo>
                <a:lnTo>
                  <a:pt x="3073330" y="189310"/>
                </a:lnTo>
                <a:lnTo>
                  <a:pt x="3101913" y="189310"/>
                </a:lnTo>
                <a:lnTo>
                  <a:pt x="3101913" y="412143"/>
                </a:lnTo>
                <a:lnTo>
                  <a:pt x="3052613" y="412143"/>
                </a:lnTo>
                <a:lnTo>
                  <a:pt x="3052613" y="200830"/>
                </a:lnTo>
                <a:lnTo>
                  <a:pt x="3028950" y="183394"/>
                </a:lnTo>
                <a:close/>
                <a:moveTo>
                  <a:pt x="2551732" y="3944"/>
                </a:moveTo>
                <a:lnTo>
                  <a:pt x="2624695" y="55216"/>
                </a:lnTo>
                <a:lnTo>
                  <a:pt x="2606948" y="98599"/>
                </a:lnTo>
                <a:lnTo>
                  <a:pt x="2535957" y="49300"/>
                </a:lnTo>
                <a:close/>
                <a:moveTo>
                  <a:pt x="167617" y="3944"/>
                </a:moveTo>
                <a:lnTo>
                  <a:pt x="216917" y="3944"/>
                </a:lnTo>
                <a:lnTo>
                  <a:pt x="216917" y="53244"/>
                </a:lnTo>
                <a:lnTo>
                  <a:pt x="276076" y="53244"/>
                </a:lnTo>
                <a:lnTo>
                  <a:pt x="276076" y="94655"/>
                </a:lnTo>
                <a:lnTo>
                  <a:pt x="216917" y="94655"/>
                </a:lnTo>
                <a:lnTo>
                  <a:pt x="216917" y="173534"/>
                </a:lnTo>
                <a:lnTo>
                  <a:pt x="270160" y="173534"/>
                </a:lnTo>
                <a:lnTo>
                  <a:pt x="270160" y="412143"/>
                </a:lnTo>
                <a:lnTo>
                  <a:pt x="116346" y="412143"/>
                </a:lnTo>
                <a:lnTo>
                  <a:pt x="116346" y="173534"/>
                </a:lnTo>
                <a:lnTo>
                  <a:pt x="167617" y="173534"/>
                </a:lnTo>
                <a:lnTo>
                  <a:pt x="167617" y="94655"/>
                </a:lnTo>
                <a:lnTo>
                  <a:pt x="106486" y="94655"/>
                </a:lnTo>
                <a:lnTo>
                  <a:pt x="106486" y="53244"/>
                </a:lnTo>
                <a:lnTo>
                  <a:pt x="167617" y="53244"/>
                </a:lnTo>
                <a:close/>
                <a:moveTo>
                  <a:pt x="49299" y="3944"/>
                </a:moveTo>
                <a:lnTo>
                  <a:pt x="86767" y="31552"/>
                </a:lnTo>
                <a:lnTo>
                  <a:pt x="43427" y="189310"/>
                </a:lnTo>
                <a:lnTo>
                  <a:pt x="72963" y="189310"/>
                </a:lnTo>
                <a:lnTo>
                  <a:pt x="72963" y="412143"/>
                </a:lnTo>
                <a:lnTo>
                  <a:pt x="23663" y="412143"/>
                </a:lnTo>
                <a:lnTo>
                  <a:pt x="23663" y="200830"/>
                </a:lnTo>
                <a:lnTo>
                  <a:pt x="0" y="183394"/>
                </a:lnTo>
                <a:close/>
                <a:moveTo>
                  <a:pt x="3659981" y="1972"/>
                </a:moveTo>
                <a:lnTo>
                  <a:pt x="3705336" y="15776"/>
                </a:lnTo>
                <a:lnTo>
                  <a:pt x="3967609" y="15776"/>
                </a:lnTo>
                <a:lnTo>
                  <a:pt x="3967609" y="59159"/>
                </a:lnTo>
                <a:lnTo>
                  <a:pt x="3675947" y="59159"/>
                </a:lnTo>
                <a:lnTo>
                  <a:pt x="3585110" y="193254"/>
                </a:lnTo>
                <a:lnTo>
                  <a:pt x="3606738" y="193254"/>
                </a:lnTo>
                <a:lnTo>
                  <a:pt x="3606738" y="412143"/>
                </a:lnTo>
                <a:lnTo>
                  <a:pt x="3557438" y="412143"/>
                </a:lnTo>
                <a:lnTo>
                  <a:pt x="3557438" y="193254"/>
                </a:lnTo>
                <a:lnTo>
                  <a:pt x="3561664" y="193254"/>
                </a:lnTo>
                <a:lnTo>
                  <a:pt x="3535747" y="185366"/>
                </a:lnTo>
                <a:lnTo>
                  <a:pt x="3621241" y="59159"/>
                </a:lnTo>
                <a:lnTo>
                  <a:pt x="3543635" y="59159"/>
                </a:lnTo>
                <a:lnTo>
                  <a:pt x="3543635" y="15776"/>
                </a:lnTo>
                <a:lnTo>
                  <a:pt x="3650630" y="15776"/>
                </a:lnTo>
                <a:close/>
                <a:moveTo>
                  <a:pt x="299740" y="0"/>
                </a:moveTo>
                <a:lnTo>
                  <a:pt x="326989" y="15776"/>
                </a:lnTo>
                <a:lnTo>
                  <a:pt x="439750" y="15776"/>
                </a:lnTo>
                <a:lnTo>
                  <a:pt x="439750" y="59159"/>
                </a:lnTo>
                <a:lnTo>
                  <a:pt x="427918" y="59159"/>
                </a:lnTo>
                <a:lnTo>
                  <a:pt x="427918" y="157758"/>
                </a:lnTo>
                <a:lnTo>
                  <a:pt x="380460" y="271130"/>
                </a:lnTo>
                <a:lnTo>
                  <a:pt x="433834" y="374675"/>
                </a:lnTo>
                <a:lnTo>
                  <a:pt x="410170" y="412143"/>
                </a:lnTo>
                <a:lnTo>
                  <a:pt x="360766" y="318177"/>
                </a:lnTo>
                <a:lnTo>
                  <a:pt x="321431" y="412143"/>
                </a:lnTo>
                <a:lnTo>
                  <a:pt x="293824" y="374675"/>
                </a:lnTo>
                <a:lnTo>
                  <a:pt x="336553" y="272125"/>
                </a:lnTo>
                <a:lnTo>
                  <a:pt x="309600" y="220861"/>
                </a:lnTo>
                <a:lnTo>
                  <a:pt x="335235" y="183394"/>
                </a:lnTo>
                <a:lnTo>
                  <a:pt x="356409" y="224471"/>
                </a:lnTo>
                <a:lnTo>
                  <a:pt x="382563" y="161702"/>
                </a:lnTo>
                <a:lnTo>
                  <a:pt x="382563" y="59159"/>
                </a:lnTo>
                <a:lnTo>
                  <a:pt x="334432" y="59159"/>
                </a:lnTo>
                <a:lnTo>
                  <a:pt x="325375" y="181422"/>
                </a:lnTo>
                <a:lnTo>
                  <a:pt x="287908" y="1597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矩形 64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d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文本框 71"/>
          <p:cNvSpPr/>
          <p:nvPr/>
        </p:nvSpPr>
        <p:spPr>
          <a:xfrm>
            <a:off x="1125360" y="976320"/>
            <a:ext cx="1316160" cy="407880"/>
          </a:xfrm>
          <a:custGeom>
            <a:avLst/>
            <a:gdLst/>
            <a:ahLst/>
            <a:rect l="l" t="t" r="r" b="b"/>
            <a:pathLst>
              <a:path w="1317278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17538" y="17748"/>
                </a:moveTo>
                <a:lnTo>
                  <a:pt x="1317278" y="17748"/>
                </a:lnTo>
                <a:lnTo>
                  <a:pt x="1317278" y="384535"/>
                </a:lnTo>
                <a:lnTo>
                  <a:pt x="1017538" y="384535"/>
                </a:lnTo>
                <a:lnTo>
                  <a:pt x="1017538" y="339180"/>
                </a:lnTo>
                <a:lnTo>
                  <a:pt x="1264034" y="339180"/>
                </a:lnTo>
                <a:lnTo>
                  <a:pt x="1264034" y="220861"/>
                </a:lnTo>
                <a:lnTo>
                  <a:pt x="1056977" y="220861"/>
                </a:lnTo>
                <a:lnTo>
                  <a:pt x="1056977" y="175506"/>
                </a:lnTo>
                <a:lnTo>
                  <a:pt x="1264034" y="175506"/>
                </a:lnTo>
                <a:lnTo>
                  <a:pt x="1264034" y="63103"/>
                </a:lnTo>
                <a:lnTo>
                  <a:pt x="1017538" y="63103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0"/>
          <p:cNvSpPr/>
          <p:nvPr/>
        </p:nvSpPr>
        <p:spPr>
          <a:xfrm>
            <a:off x="1130400" y="1797120"/>
            <a:ext cx="3441600" cy="417600"/>
          </a:xfrm>
          <a:custGeom>
            <a:avLst/>
            <a:gdLst/>
            <a:ahLst/>
            <a:rect l="l" t="t" r="r" b="b"/>
            <a:pathLst>
              <a:path w="3441427" h="418059">
                <a:moveTo>
                  <a:pt x="3149575" y="335236"/>
                </a:moveTo>
                <a:lnTo>
                  <a:pt x="3149575" y="362843"/>
                </a:lnTo>
                <a:lnTo>
                  <a:pt x="3317193" y="362843"/>
                </a:lnTo>
                <a:lnTo>
                  <a:pt x="3317193" y="335236"/>
                </a:lnTo>
                <a:close/>
                <a:moveTo>
                  <a:pt x="3102247" y="295796"/>
                </a:moveTo>
                <a:lnTo>
                  <a:pt x="3364520" y="295796"/>
                </a:lnTo>
                <a:lnTo>
                  <a:pt x="3364520" y="402283"/>
                </a:lnTo>
                <a:lnTo>
                  <a:pt x="3102247" y="402283"/>
                </a:lnTo>
                <a:close/>
                <a:moveTo>
                  <a:pt x="2776872" y="228749"/>
                </a:moveTo>
                <a:lnTo>
                  <a:pt x="2938574" y="228749"/>
                </a:lnTo>
                <a:lnTo>
                  <a:pt x="2938574" y="354956"/>
                </a:lnTo>
                <a:lnTo>
                  <a:pt x="2772928" y="416087"/>
                </a:lnTo>
                <a:lnTo>
                  <a:pt x="2743348" y="386507"/>
                </a:lnTo>
                <a:lnTo>
                  <a:pt x="2822076" y="356718"/>
                </a:lnTo>
                <a:lnTo>
                  <a:pt x="2757152" y="327348"/>
                </a:lnTo>
                <a:lnTo>
                  <a:pt x="2806452" y="307628"/>
                </a:lnTo>
                <a:lnTo>
                  <a:pt x="2871791" y="337907"/>
                </a:lnTo>
                <a:lnTo>
                  <a:pt x="2889274" y="331292"/>
                </a:lnTo>
                <a:lnTo>
                  <a:pt x="2889274" y="272133"/>
                </a:lnTo>
                <a:lnTo>
                  <a:pt x="2798564" y="272133"/>
                </a:lnTo>
                <a:lnTo>
                  <a:pt x="2770956" y="295796"/>
                </a:lnTo>
                <a:lnTo>
                  <a:pt x="2739405" y="264245"/>
                </a:lnTo>
                <a:close/>
                <a:moveTo>
                  <a:pt x="3023369" y="226777"/>
                </a:moveTo>
                <a:lnTo>
                  <a:pt x="3441427" y="226777"/>
                </a:lnTo>
                <a:lnTo>
                  <a:pt x="3441427" y="416087"/>
                </a:lnTo>
                <a:lnTo>
                  <a:pt x="3382268" y="416087"/>
                </a:lnTo>
                <a:lnTo>
                  <a:pt x="3382268" y="376647"/>
                </a:lnTo>
                <a:lnTo>
                  <a:pt x="3394099" y="376647"/>
                </a:lnTo>
                <a:lnTo>
                  <a:pt x="3394099" y="268189"/>
                </a:lnTo>
                <a:lnTo>
                  <a:pt x="3070696" y="268189"/>
                </a:lnTo>
                <a:lnTo>
                  <a:pt x="3070696" y="416087"/>
                </a:lnTo>
                <a:lnTo>
                  <a:pt x="3023369" y="416087"/>
                </a:lnTo>
                <a:close/>
                <a:moveTo>
                  <a:pt x="2565871" y="165646"/>
                </a:moveTo>
                <a:lnTo>
                  <a:pt x="2565871" y="285936"/>
                </a:lnTo>
                <a:lnTo>
                  <a:pt x="2597422" y="285936"/>
                </a:lnTo>
                <a:lnTo>
                  <a:pt x="2597422" y="165646"/>
                </a:lnTo>
                <a:close/>
                <a:moveTo>
                  <a:pt x="2301627" y="140010"/>
                </a:moveTo>
                <a:lnTo>
                  <a:pt x="2441637" y="246497"/>
                </a:lnTo>
                <a:lnTo>
                  <a:pt x="2406141" y="276077"/>
                </a:lnTo>
                <a:lnTo>
                  <a:pt x="2264159" y="169590"/>
                </a:lnTo>
                <a:close/>
                <a:moveTo>
                  <a:pt x="3088444" y="132123"/>
                </a:moveTo>
                <a:lnTo>
                  <a:pt x="3088444" y="157758"/>
                </a:lnTo>
                <a:lnTo>
                  <a:pt x="3376352" y="157758"/>
                </a:lnTo>
                <a:lnTo>
                  <a:pt x="3376352" y="132123"/>
                </a:lnTo>
                <a:close/>
                <a:moveTo>
                  <a:pt x="2516572" y="122263"/>
                </a:moveTo>
                <a:lnTo>
                  <a:pt x="2644750" y="122263"/>
                </a:lnTo>
                <a:lnTo>
                  <a:pt x="2644750" y="327348"/>
                </a:lnTo>
                <a:lnTo>
                  <a:pt x="2516572" y="327348"/>
                </a:lnTo>
                <a:close/>
                <a:moveTo>
                  <a:pt x="394171" y="114375"/>
                </a:moveTo>
                <a:lnTo>
                  <a:pt x="394171" y="216917"/>
                </a:lnTo>
                <a:lnTo>
                  <a:pt x="559817" y="216917"/>
                </a:lnTo>
                <a:lnTo>
                  <a:pt x="559817" y="114375"/>
                </a:lnTo>
                <a:close/>
                <a:moveTo>
                  <a:pt x="51271" y="114375"/>
                </a:moveTo>
                <a:lnTo>
                  <a:pt x="51271" y="216917"/>
                </a:lnTo>
                <a:lnTo>
                  <a:pt x="216917" y="216917"/>
                </a:lnTo>
                <a:lnTo>
                  <a:pt x="216917" y="114375"/>
                </a:lnTo>
                <a:close/>
                <a:moveTo>
                  <a:pt x="3039144" y="92683"/>
                </a:moveTo>
                <a:lnTo>
                  <a:pt x="3425651" y="92683"/>
                </a:lnTo>
                <a:lnTo>
                  <a:pt x="3425651" y="197198"/>
                </a:lnTo>
                <a:lnTo>
                  <a:pt x="3039144" y="197198"/>
                </a:lnTo>
                <a:close/>
                <a:moveTo>
                  <a:pt x="666080" y="69019"/>
                </a:moveTo>
                <a:lnTo>
                  <a:pt x="940184" y="69019"/>
                </a:lnTo>
                <a:lnTo>
                  <a:pt x="940184" y="112403"/>
                </a:lnTo>
                <a:lnTo>
                  <a:pt x="827782" y="112403"/>
                </a:lnTo>
                <a:lnTo>
                  <a:pt x="827782" y="386507"/>
                </a:lnTo>
                <a:lnTo>
                  <a:pt x="778482" y="386507"/>
                </a:lnTo>
                <a:lnTo>
                  <a:pt x="778482" y="112403"/>
                </a:lnTo>
                <a:lnTo>
                  <a:pt x="666080" y="112403"/>
                </a:lnTo>
                <a:close/>
                <a:moveTo>
                  <a:pt x="342900" y="69019"/>
                </a:moveTo>
                <a:lnTo>
                  <a:pt x="611088" y="69019"/>
                </a:lnTo>
                <a:lnTo>
                  <a:pt x="611088" y="262273"/>
                </a:lnTo>
                <a:lnTo>
                  <a:pt x="394171" y="262273"/>
                </a:lnTo>
                <a:lnTo>
                  <a:pt x="394171" y="386507"/>
                </a:lnTo>
                <a:lnTo>
                  <a:pt x="342900" y="386507"/>
                </a:lnTo>
                <a:close/>
                <a:moveTo>
                  <a:pt x="0" y="69019"/>
                </a:moveTo>
                <a:lnTo>
                  <a:pt x="268188" y="69019"/>
                </a:lnTo>
                <a:lnTo>
                  <a:pt x="268188" y="262273"/>
                </a:lnTo>
                <a:lnTo>
                  <a:pt x="51271" y="262273"/>
                </a:lnTo>
                <a:lnTo>
                  <a:pt x="51271" y="386507"/>
                </a:lnTo>
                <a:lnTo>
                  <a:pt x="0" y="386507"/>
                </a:lnTo>
                <a:close/>
                <a:moveTo>
                  <a:pt x="2011747" y="17748"/>
                </a:moveTo>
                <a:lnTo>
                  <a:pt x="2433749" y="17748"/>
                </a:lnTo>
                <a:lnTo>
                  <a:pt x="2433749" y="61132"/>
                </a:lnTo>
                <a:lnTo>
                  <a:pt x="2289795" y="61132"/>
                </a:lnTo>
                <a:lnTo>
                  <a:pt x="2244439" y="102463"/>
                </a:lnTo>
                <a:lnTo>
                  <a:pt x="2244439" y="416087"/>
                </a:lnTo>
                <a:lnTo>
                  <a:pt x="2195140" y="416087"/>
                </a:lnTo>
                <a:lnTo>
                  <a:pt x="2195140" y="147389"/>
                </a:lnTo>
                <a:lnTo>
                  <a:pt x="2045270" y="283964"/>
                </a:lnTo>
                <a:lnTo>
                  <a:pt x="2007803" y="260301"/>
                </a:lnTo>
                <a:lnTo>
                  <a:pt x="2226692" y="61132"/>
                </a:lnTo>
                <a:lnTo>
                  <a:pt x="2011747" y="61132"/>
                </a:lnTo>
                <a:close/>
                <a:moveTo>
                  <a:pt x="2776872" y="15776"/>
                </a:moveTo>
                <a:lnTo>
                  <a:pt x="2938574" y="15776"/>
                </a:lnTo>
                <a:lnTo>
                  <a:pt x="2938574" y="141982"/>
                </a:lnTo>
                <a:lnTo>
                  <a:pt x="2772928" y="203114"/>
                </a:lnTo>
                <a:lnTo>
                  <a:pt x="2743348" y="173534"/>
                </a:lnTo>
                <a:lnTo>
                  <a:pt x="2822076" y="143745"/>
                </a:lnTo>
                <a:lnTo>
                  <a:pt x="2757152" y="114375"/>
                </a:lnTo>
                <a:lnTo>
                  <a:pt x="2806452" y="94655"/>
                </a:lnTo>
                <a:lnTo>
                  <a:pt x="2871791" y="124934"/>
                </a:lnTo>
                <a:lnTo>
                  <a:pt x="2889274" y="118319"/>
                </a:lnTo>
                <a:lnTo>
                  <a:pt x="2889274" y="59160"/>
                </a:lnTo>
                <a:lnTo>
                  <a:pt x="2798564" y="59160"/>
                </a:lnTo>
                <a:lnTo>
                  <a:pt x="2770956" y="82823"/>
                </a:lnTo>
                <a:lnTo>
                  <a:pt x="2739405" y="51272"/>
                </a:lnTo>
                <a:close/>
                <a:moveTo>
                  <a:pt x="1029704" y="11832"/>
                </a:moveTo>
                <a:lnTo>
                  <a:pt x="1077032" y="11832"/>
                </a:lnTo>
                <a:lnTo>
                  <a:pt x="1077032" y="74935"/>
                </a:lnTo>
                <a:lnTo>
                  <a:pt x="1112527" y="74935"/>
                </a:lnTo>
                <a:lnTo>
                  <a:pt x="1112527" y="118319"/>
                </a:lnTo>
                <a:lnTo>
                  <a:pt x="1077032" y="118319"/>
                </a:lnTo>
                <a:lnTo>
                  <a:pt x="1077032" y="220204"/>
                </a:lnTo>
                <a:lnTo>
                  <a:pt x="1110555" y="209029"/>
                </a:lnTo>
                <a:lnTo>
                  <a:pt x="1120415" y="252413"/>
                </a:lnTo>
                <a:lnTo>
                  <a:pt x="1077032" y="266648"/>
                </a:lnTo>
                <a:lnTo>
                  <a:pt x="1077032" y="416087"/>
                </a:lnTo>
                <a:lnTo>
                  <a:pt x="994209" y="416087"/>
                </a:lnTo>
                <a:lnTo>
                  <a:pt x="994209" y="372703"/>
                </a:lnTo>
                <a:lnTo>
                  <a:pt x="1029704" y="372703"/>
                </a:lnTo>
                <a:lnTo>
                  <a:pt x="1029704" y="282177"/>
                </a:lnTo>
                <a:lnTo>
                  <a:pt x="994209" y="293824"/>
                </a:lnTo>
                <a:lnTo>
                  <a:pt x="986321" y="250441"/>
                </a:lnTo>
                <a:lnTo>
                  <a:pt x="1029704" y="235980"/>
                </a:lnTo>
                <a:lnTo>
                  <a:pt x="1029704" y="118319"/>
                </a:lnTo>
                <a:lnTo>
                  <a:pt x="988293" y="118319"/>
                </a:lnTo>
                <a:lnTo>
                  <a:pt x="988293" y="74935"/>
                </a:lnTo>
                <a:lnTo>
                  <a:pt x="1029704" y="74935"/>
                </a:lnTo>
                <a:close/>
                <a:moveTo>
                  <a:pt x="1692287" y="9860"/>
                </a:moveTo>
                <a:lnTo>
                  <a:pt x="1741586" y="9860"/>
                </a:lnTo>
                <a:lnTo>
                  <a:pt x="1741586" y="80851"/>
                </a:lnTo>
                <a:lnTo>
                  <a:pt x="1926952" y="80851"/>
                </a:lnTo>
                <a:lnTo>
                  <a:pt x="1926952" y="122263"/>
                </a:lnTo>
                <a:lnTo>
                  <a:pt x="1852017" y="122263"/>
                </a:lnTo>
                <a:lnTo>
                  <a:pt x="1932868" y="402283"/>
                </a:lnTo>
                <a:lnTo>
                  <a:pt x="1887512" y="416087"/>
                </a:lnTo>
                <a:lnTo>
                  <a:pt x="1800746" y="122263"/>
                </a:lnTo>
                <a:lnTo>
                  <a:pt x="1741586" y="122263"/>
                </a:lnTo>
                <a:lnTo>
                  <a:pt x="1741586" y="416087"/>
                </a:lnTo>
                <a:lnTo>
                  <a:pt x="1692287" y="416087"/>
                </a:lnTo>
                <a:lnTo>
                  <a:pt x="1692287" y="122263"/>
                </a:lnTo>
                <a:lnTo>
                  <a:pt x="1635100" y="122263"/>
                </a:lnTo>
                <a:lnTo>
                  <a:pt x="1548333" y="416087"/>
                </a:lnTo>
                <a:lnTo>
                  <a:pt x="1504950" y="402283"/>
                </a:lnTo>
                <a:lnTo>
                  <a:pt x="1583829" y="122263"/>
                </a:lnTo>
                <a:lnTo>
                  <a:pt x="1510866" y="122263"/>
                </a:lnTo>
                <a:lnTo>
                  <a:pt x="1510866" y="80851"/>
                </a:lnTo>
                <a:lnTo>
                  <a:pt x="1692287" y="80851"/>
                </a:lnTo>
                <a:close/>
                <a:moveTo>
                  <a:pt x="1260425" y="7888"/>
                </a:moveTo>
                <a:lnTo>
                  <a:pt x="1309724" y="7888"/>
                </a:lnTo>
                <a:lnTo>
                  <a:pt x="1309724" y="35496"/>
                </a:lnTo>
                <a:lnTo>
                  <a:pt x="1431987" y="35496"/>
                </a:lnTo>
                <a:lnTo>
                  <a:pt x="1431987" y="78879"/>
                </a:lnTo>
                <a:lnTo>
                  <a:pt x="1309724" y="78879"/>
                </a:lnTo>
                <a:lnTo>
                  <a:pt x="1309724" y="138038"/>
                </a:lnTo>
                <a:lnTo>
                  <a:pt x="1418183" y="138038"/>
                </a:lnTo>
                <a:lnTo>
                  <a:pt x="1418183" y="222833"/>
                </a:lnTo>
                <a:lnTo>
                  <a:pt x="1314684" y="303977"/>
                </a:lnTo>
                <a:lnTo>
                  <a:pt x="1433959" y="390451"/>
                </a:lnTo>
                <a:lnTo>
                  <a:pt x="1398463" y="418059"/>
                </a:lnTo>
                <a:lnTo>
                  <a:pt x="1279514" y="331550"/>
                </a:lnTo>
                <a:lnTo>
                  <a:pt x="1171686" y="416087"/>
                </a:lnTo>
                <a:lnTo>
                  <a:pt x="1134219" y="394395"/>
                </a:lnTo>
                <a:lnTo>
                  <a:pt x="1244677" y="306214"/>
                </a:lnTo>
                <a:lnTo>
                  <a:pt x="1159854" y="244525"/>
                </a:lnTo>
                <a:lnTo>
                  <a:pt x="1197322" y="218889"/>
                </a:lnTo>
                <a:lnTo>
                  <a:pt x="1279464" y="278443"/>
                </a:lnTo>
                <a:lnTo>
                  <a:pt x="1368884" y="207058"/>
                </a:lnTo>
                <a:lnTo>
                  <a:pt x="1368884" y="181422"/>
                </a:lnTo>
                <a:lnTo>
                  <a:pt x="1149995" y="181422"/>
                </a:lnTo>
                <a:lnTo>
                  <a:pt x="1149995" y="138038"/>
                </a:lnTo>
                <a:lnTo>
                  <a:pt x="1260425" y="138038"/>
                </a:lnTo>
                <a:lnTo>
                  <a:pt x="1260425" y="78879"/>
                </a:lnTo>
                <a:lnTo>
                  <a:pt x="1138163" y="78879"/>
                </a:lnTo>
                <a:lnTo>
                  <a:pt x="1138163" y="35496"/>
                </a:lnTo>
                <a:lnTo>
                  <a:pt x="1260425" y="35496"/>
                </a:lnTo>
                <a:close/>
                <a:moveTo>
                  <a:pt x="2538263" y="3944"/>
                </a:moveTo>
                <a:lnTo>
                  <a:pt x="2546868" y="19720"/>
                </a:lnTo>
                <a:lnTo>
                  <a:pt x="2723629" y="19720"/>
                </a:lnTo>
                <a:lnTo>
                  <a:pt x="2723629" y="416087"/>
                </a:lnTo>
                <a:lnTo>
                  <a:pt x="2528403" y="416087"/>
                </a:lnTo>
                <a:lnTo>
                  <a:pt x="2528403" y="372703"/>
                </a:lnTo>
                <a:lnTo>
                  <a:pt x="2676301" y="372703"/>
                </a:lnTo>
                <a:lnTo>
                  <a:pt x="2676301" y="63103"/>
                </a:lnTo>
                <a:lnTo>
                  <a:pt x="2553475" y="63103"/>
                </a:lnTo>
                <a:lnTo>
                  <a:pt x="2532347" y="102543"/>
                </a:lnTo>
                <a:lnTo>
                  <a:pt x="2508684" y="61132"/>
                </a:lnTo>
                <a:close/>
                <a:moveTo>
                  <a:pt x="1871737" y="3944"/>
                </a:moveTo>
                <a:lnTo>
                  <a:pt x="1928924" y="35496"/>
                </a:lnTo>
                <a:lnTo>
                  <a:pt x="1885540" y="59160"/>
                </a:lnTo>
                <a:lnTo>
                  <a:pt x="1826381" y="25636"/>
                </a:lnTo>
                <a:close/>
                <a:moveTo>
                  <a:pt x="3252117" y="0"/>
                </a:moveTo>
                <a:lnTo>
                  <a:pt x="3263949" y="25636"/>
                </a:lnTo>
                <a:lnTo>
                  <a:pt x="3439455" y="25636"/>
                </a:lnTo>
                <a:lnTo>
                  <a:pt x="3439455" y="65075"/>
                </a:lnTo>
                <a:lnTo>
                  <a:pt x="3025341" y="65075"/>
                </a:lnTo>
                <a:lnTo>
                  <a:pt x="3025341" y="25636"/>
                </a:lnTo>
                <a:lnTo>
                  <a:pt x="3210706" y="25636"/>
                </a:lnTo>
                <a:lnTo>
                  <a:pt x="3202818" y="98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0" name="组合 1"/>
          <p:cNvGrpSpPr/>
          <p:nvPr/>
        </p:nvGrpSpPr>
        <p:grpSpPr>
          <a:xfrm>
            <a:off x="6689880" y="1254240"/>
            <a:ext cx="2903400" cy="5241960"/>
            <a:chOff x="6689880" y="1254240"/>
            <a:chExt cx="2903400" cy="5241960"/>
          </a:xfrm>
        </p:grpSpPr>
        <p:sp>
          <p:nvSpPr>
            <p:cNvPr id="411" name="椭圆 2062"/>
            <p:cNvSpPr/>
            <p:nvPr/>
          </p:nvSpPr>
          <p:spPr>
            <a:xfrm>
              <a:off x="6773760" y="5899320"/>
              <a:ext cx="2766960" cy="596880"/>
            </a:xfrm>
            <a:prstGeom prst="ellipse">
              <a:avLst/>
            </a:prstGeom>
            <a:solidFill>
              <a:srgbClr val="dcdddd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6968880" y="4174200"/>
              <a:ext cx="2376360" cy="2101680"/>
            </a:xfrm>
            <a:custGeom>
              <a:avLst/>
              <a:gdLst/>
              <a:ahLst/>
              <a:rect l="l" t="t" r="r" b="b"/>
              <a:pathLst>
                <a:path w="401" h="355">
                  <a:moveTo>
                    <a:pt x="372" y="336"/>
                  </a:moveTo>
                  <a:cubicBezTo>
                    <a:pt x="358" y="334"/>
                    <a:pt x="330" y="329"/>
                    <a:pt x="325" y="320"/>
                  </a:cubicBezTo>
                  <a:cubicBezTo>
                    <a:pt x="321" y="312"/>
                    <a:pt x="297" y="107"/>
                    <a:pt x="290" y="59"/>
                  </a:cubicBezTo>
                  <a:cubicBezTo>
                    <a:pt x="283" y="11"/>
                    <a:pt x="88" y="0"/>
                    <a:pt x="76" y="59"/>
                  </a:cubicBezTo>
                  <a:cubicBezTo>
                    <a:pt x="78" y="312"/>
                    <a:pt x="78" y="312"/>
                    <a:pt x="78" y="312"/>
                  </a:cubicBezTo>
                  <a:cubicBezTo>
                    <a:pt x="76" y="323"/>
                    <a:pt x="76" y="323"/>
                    <a:pt x="76" y="323"/>
                  </a:cubicBezTo>
                  <a:cubicBezTo>
                    <a:pt x="76" y="323"/>
                    <a:pt x="44" y="339"/>
                    <a:pt x="27" y="341"/>
                  </a:cubicBezTo>
                  <a:cubicBezTo>
                    <a:pt x="15" y="342"/>
                    <a:pt x="0" y="350"/>
                    <a:pt x="37" y="352"/>
                  </a:cubicBezTo>
                  <a:cubicBezTo>
                    <a:pt x="75" y="353"/>
                    <a:pt x="96" y="349"/>
                    <a:pt x="110" y="352"/>
                  </a:cubicBezTo>
                  <a:cubicBezTo>
                    <a:pt x="123" y="355"/>
                    <a:pt x="134" y="348"/>
                    <a:pt x="131" y="341"/>
                  </a:cubicBezTo>
                  <a:cubicBezTo>
                    <a:pt x="120" y="319"/>
                    <a:pt x="135" y="294"/>
                    <a:pt x="146" y="256"/>
                  </a:cubicBezTo>
                  <a:cubicBezTo>
                    <a:pt x="157" y="218"/>
                    <a:pt x="170" y="155"/>
                    <a:pt x="184" y="155"/>
                  </a:cubicBezTo>
                  <a:cubicBezTo>
                    <a:pt x="198" y="155"/>
                    <a:pt x="281" y="323"/>
                    <a:pt x="282" y="334"/>
                  </a:cubicBezTo>
                  <a:cubicBezTo>
                    <a:pt x="283" y="345"/>
                    <a:pt x="266" y="350"/>
                    <a:pt x="305" y="350"/>
                  </a:cubicBezTo>
                  <a:cubicBezTo>
                    <a:pt x="343" y="350"/>
                    <a:pt x="365" y="352"/>
                    <a:pt x="383" y="350"/>
                  </a:cubicBezTo>
                  <a:cubicBezTo>
                    <a:pt x="401" y="347"/>
                    <a:pt x="386" y="337"/>
                    <a:pt x="372" y="336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30"/>
            <p:cNvSpPr/>
            <p:nvPr/>
          </p:nvSpPr>
          <p:spPr>
            <a:xfrm>
              <a:off x="6689880" y="2918160"/>
              <a:ext cx="1214280" cy="882720"/>
            </a:xfrm>
            <a:custGeom>
              <a:avLst/>
              <a:gdLst/>
              <a:ahLst/>
              <a:rect l="l" t="t" r="r" b="b"/>
              <a:pathLst>
                <a:path w="205" h="149">
                  <a:moveTo>
                    <a:pt x="205" y="18"/>
                  </a:moveTo>
                  <a:cubicBezTo>
                    <a:pt x="195" y="4"/>
                    <a:pt x="158" y="0"/>
                    <a:pt x="128" y="7"/>
                  </a:cubicBezTo>
                  <a:cubicBezTo>
                    <a:pt x="98" y="14"/>
                    <a:pt x="0" y="38"/>
                    <a:pt x="2" y="101"/>
                  </a:cubicBezTo>
                  <a:cubicBezTo>
                    <a:pt x="4" y="149"/>
                    <a:pt x="132" y="148"/>
                    <a:pt x="205" y="18"/>
                  </a:cubicBezTo>
                  <a:close/>
                </a:path>
              </a:pathLst>
            </a:custGeom>
            <a:solidFill>
              <a:srgbClr val="286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31">
              <a:hlinkClick r:id="rId2"/>
            </p:cNvPr>
            <p:cNvSpPr/>
            <p:nvPr/>
          </p:nvSpPr>
          <p:spPr>
            <a:xfrm>
              <a:off x="7246080" y="1254240"/>
              <a:ext cx="1595160" cy="1710720"/>
            </a:xfrm>
            <a:custGeom>
              <a:avLst/>
              <a:gdLst/>
              <a:ahLst/>
              <a:rect l="l" t="t" r="r" b="b"/>
              <a:pathLst>
                <a:path w="269" h="289">
                  <a:moveTo>
                    <a:pt x="127" y="9"/>
                  </a:moveTo>
                  <a:cubicBezTo>
                    <a:pt x="24" y="16"/>
                    <a:pt x="23" y="33"/>
                    <a:pt x="12" y="99"/>
                  </a:cubicBezTo>
                  <a:cubicBezTo>
                    <a:pt x="0" y="164"/>
                    <a:pt x="1" y="214"/>
                    <a:pt x="24" y="246"/>
                  </a:cubicBezTo>
                  <a:cubicBezTo>
                    <a:pt x="47" y="278"/>
                    <a:pt x="59" y="288"/>
                    <a:pt x="59" y="288"/>
                  </a:cubicBezTo>
                  <a:cubicBezTo>
                    <a:pt x="185" y="289"/>
                    <a:pt x="185" y="289"/>
                    <a:pt x="185" y="289"/>
                  </a:cubicBezTo>
                  <a:cubicBezTo>
                    <a:pt x="185" y="289"/>
                    <a:pt x="224" y="243"/>
                    <a:pt x="228" y="180"/>
                  </a:cubicBezTo>
                  <a:cubicBezTo>
                    <a:pt x="232" y="117"/>
                    <a:pt x="269" y="0"/>
                    <a:pt x="12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32"/>
            <p:cNvSpPr/>
            <p:nvPr/>
          </p:nvSpPr>
          <p:spPr>
            <a:xfrm>
              <a:off x="8454960" y="1953360"/>
              <a:ext cx="331920" cy="27720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9" y="10"/>
                  </a:moveTo>
                  <a:cubicBezTo>
                    <a:pt x="9" y="10"/>
                    <a:pt x="21" y="7"/>
                    <a:pt x="34" y="4"/>
                  </a:cubicBezTo>
                  <a:cubicBezTo>
                    <a:pt x="54" y="0"/>
                    <a:pt x="56" y="17"/>
                    <a:pt x="41" y="32"/>
                  </a:cubicBezTo>
                  <a:cubicBezTo>
                    <a:pt x="31" y="44"/>
                    <a:pt x="8" y="47"/>
                    <a:pt x="8" y="47"/>
                  </a:cubicBezTo>
                  <a:cubicBezTo>
                    <a:pt x="8" y="47"/>
                    <a:pt x="0" y="21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33"/>
            <p:cNvSpPr/>
            <p:nvPr/>
          </p:nvSpPr>
          <p:spPr>
            <a:xfrm>
              <a:off x="6826320" y="1549080"/>
              <a:ext cx="1208520" cy="870840"/>
            </a:xfrm>
            <a:custGeom>
              <a:avLst/>
              <a:gdLst/>
              <a:ahLst/>
              <a:rect l="l" t="t" r="r" b="b"/>
              <a:pathLst>
                <a:path w="204" h="147">
                  <a:moveTo>
                    <a:pt x="122" y="5"/>
                  </a:moveTo>
                  <a:cubicBezTo>
                    <a:pt x="105" y="0"/>
                    <a:pt x="137" y="68"/>
                    <a:pt x="70" y="76"/>
                  </a:cubicBezTo>
                  <a:cubicBezTo>
                    <a:pt x="50" y="78"/>
                    <a:pt x="37" y="80"/>
                    <a:pt x="31" y="80"/>
                  </a:cubicBezTo>
                  <a:cubicBezTo>
                    <a:pt x="0" y="82"/>
                    <a:pt x="16" y="95"/>
                    <a:pt x="74" y="117"/>
                  </a:cubicBezTo>
                  <a:cubicBezTo>
                    <a:pt x="151" y="147"/>
                    <a:pt x="143" y="135"/>
                    <a:pt x="143" y="135"/>
                  </a:cubicBezTo>
                  <a:cubicBezTo>
                    <a:pt x="143" y="135"/>
                    <a:pt x="204" y="29"/>
                    <a:pt x="12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34"/>
            <p:cNvSpPr/>
            <p:nvPr/>
          </p:nvSpPr>
          <p:spPr>
            <a:xfrm>
              <a:off x="7566480" y="2509920"/>
              <a:ext cx="403920" cy="134640"/>
            </a:xfrm>
            <a:custGeom>
              <a:avLst/>
              <a:gdLst/>
              <a:ahLst/>
              <a:rect l="l" t="t" r="r" b="b"/>
              <a:pathLst>
                <a:path w="68" h="23">
                  <a:moveTo>
                    <a:pt x="0" y="23"/>
                  </a:moveTo>
                  <a:cubicBezTo>
                    <a:pt x="0" y="23"/>
                    <a:pt x="1" y="22"/>
                    <a:pt x="2" y="19"/>
                  </a:cubicBezTo>
                  <a:cubicBezTo>
                    <a:pt x="3" y="17"/>
                    <a:pt x="4" y="14"/>
                    <a:pt x="7" y="11"/>
                  </a:cubicBezTo>
                  <a:cubicBezTo>
                    <a:pt x="9" y="8"/>
                    <a:pt x="13" y="5"/>
                    <a:pt x="18" y="3"/>
                  </a:cubicBezTo>
                  <a:cubicBezTo>
                    <a:pt x="20" y="2"/>
                    <a:pt x="23" y="1"/>
                    <a:pt x="26" y="1"/>
                  </a:cubicBezTo>
                  <a:cubicBezTo>
                    <a:pt x="28" y="1"/>
                    <a:pt x="31" y="0"/>
                    <a:pt x="34" y="1"/>
                  </a:cubicBezTo>
                  <a:cubicBezTo>
                    <a:pt x="37" y="1"/>
                    <a:pt x="39" y="2"/>
                    <a:pt x="42" y="3"/>
                  </a:cubicBezTo>
                  <a:cubicBezTo>
                    <a:pt x="44" y="3"/>
                    <a:pt x="47" y="4"/>
                    <a:pt x="49" y="6"/>
                  </a:cubicBezTo>
                  <a:cubicBezTo>
                    <a:pt x="53" y="8"/>
                    <a:pt x="57" y="11"/>
                    <a:pt x="60" y="13"/>
                  </a:cubicBezTo>
                  <a:cubicBezTo>
                    <a:pt x="63" y="16"/>
                    <a:pt x="65" y="19"/>
                    <a:pt x="66" y="20"/>
                  </a:cubicBezTo>
                  <a:cubicBezTo>
                    <a:pt x="68" y="22"/>
                    <a:pt x="68" y="23"/>
                    <a:pt x="68" y="23"/>
                  </a:cubicBezTo>
                  <a:cubicBezTo>
                    <a:pt x="68" y="23"/>
                    <a:pt x="67" y="22"/>
                    <a:pt x="65" y="21"/>
                  </a:cubicBezTo>
                  <a:cubicBezTo>
                    <a:pt x="63" y="20"/>
                    <a:pt x="60" y="19"/>
                    <a:pt x="57" y="17"/>
                  </a:cubicBezTo>
                  <a:cubicBezTo>
                    <a:pt x="55" y="17"/>
                    <a:pt x="54" y="16"/>
                    <a:pt x="52" y="15"/>
                  </a:cubicBezTo>
                  <a:cubicBezTo>
                    <a:pt x="50" y="14"/>
                    <a:pt x="48" y="13"/>
                    <a:pt x="46" y="13"/>
                  </a:cubicBezTo>
                  <a:cubicBezTo>
                    <a:pt x="44" y="12"/>
                    <a:pt x="42" y="11"/>
                    <a:pt x="39" y="10"/>
                  </a:cubicBezTo>
                  <a:cubicBezTo>
                    <a:pt x="37" y="10"/>
                    <a:pt x="35" y="9"/>
                    <a:pt x="33" y="9"/>
                  </a:cubicBezTo>
                  <a:cubicBezTo>
                    <a:pt x="31" y="9"/>
                    <a:pt x="29" y="9"/>
                    <a:pt x="26" y="9"/>
                  </a:cubicBezTo>
                  <a:cubicBezTo>
                    <a:pt x="24" y="9"/>
                    <a:pt x="22" y="9"/>
                    <a:pt x="20" y="10"/>
                  </a:cubicBezTo>
                  <a:cubicBezTo>
                    <a:pt x="16" y="11"/>
                    <a:pt x="13" y="13"/>
                    <a:pt x="10" y="15"/>
                  </a:cubicBezTo>
                  <a:cubicBezTo>
                    <a:pt x="7" y="17"/>
                    <a:pt x="4" y="19"/>
                    <a:pt x="3" y="20"/>
                  </a:cubicBezTo>
                  <a:cubicBezTo>
                    <a:pt x="1" y="22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f0c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35">
              <a:hlinkClick r:id="rId3"/>
            </p:cNvPr>
            <p:cNvSpPr/>
            <p:nvPr/>
          </p:nvSpPr>
          <p:spPr>
            <a:xfrm>
              <a:off x="7388640" y="2793240"/>
              <a:ext cx="1339560" cy="1859400"/>
            </a:xfrm>
            <a:custGeom>
              <a:avLst/>
              <a:gdLst/>
              <a:ahLst/>
              <a:rect l="l" t="t" r="r" b="b"/>
              <a:pathLst>
                <a:path w="226" h="314">
                  <a:moveTo>
                    <a:pt x="33" y="25"/>
                  </a:moveTo>
                  <a:cubicBezTo>
                    <a:pt x="33" y="25"/>
                    <a:pt x="154" y="7"/>
                    <a:pt x="183" y="0"/>
                  </a:cubicBezTo>
                  <a:cubicBezTo>
                    <a:pt x="201" y="25"/>
                    <a:pt x="209" y="67"/>
                    <a:pt x="209" y="67"/>
                  </a:cubicBezTo>
                  <a:cubicBezTo>
                    <a:pt x="226" y="293"/>
                    <a:pt x="226" y="293"/>
                    <a:pt x="226" y="293"/>
                  </a:cubicBezTo>
                  <a:cubicBezTo>
                    <a:pt x="226" y="293"/>
                    <a:pt x="188" y="314"/>
                    <a:pt x="106" y="314"/>
                  </a:cubicBezTo>
                  <a:cubicBezTo>
                    <a:pt x="7" y="314"/>
                    <a:pt x="0" y="298"/>
                    <a:pt x="0" y="298"/>
                  </a:cubicBezTo>
                  <a:cubicBezTo>
                    <a:pt x="0" y="298"/>
                    <a:pt x="3" y="138"/>
                    <a:pt x="10" y="104"/>
                  </a:cubicBezTo>
                  <a:cubicBezTo>
                    <a:pt x="19" y="58"/>
                    <a:pt x="33" y="25"/>
                    <a:pt x="33" y="25"/>
                  </a:cubicBezTo>
                  <a:close/>
                </a:path>
              </a:pathLst>
            </a:custGeom>
            <a:solidFill>
              <a:srgbClr val="286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7644600" y="2840040"/>
              <a:ext cx="597240" cy="308520"/>
            </a:xfrm>
            <a:custGeom>
              <a:avLst/>
              <a:gdLst/>
              <a:ahLst/>
              <a:rect l="l" t="t" r="r" b="b"/>
              <a:pathLst>
                <a:path w="306" h="158">
                  <a:moveTo>
                    <a:pt x="76" y="158"/>
                  </a:moveTo>
                  <a:lnTo>
                    <a:pt x="218" y="158"/>
                  </a:lnTo>
                  <a:lnTo>
                    <a:pt x="306" y="0"/>
                  </a:lnTo>
                  <a:lnTo>
                    <a:pt x="0" y="49"/>
                  </a:lnTo>
                  <a:lnTo>
                    <a:pt x="76" y="158"/>
                  </a:lnTo>
                  <a:close/>
                </a:path>
              </a:pathLst>
            </a:custGeom>
            <a:solidFill>
              <a:srgbClr val="f0c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0" name="Picture 37" descr=""/>
            <p:cNvPicPr/>
            <p:nvPr/>
          </p:nvPicPr>
          <p:blipFill>
            <a:blip r:embed="rId4"/>
            <a:stretch/>
          </p:blipFill>
          <p:spPr>
            <a:xfrm>
              <a:off x="7677720" y="3166200"/>
              <a:ext cx="585720" cy="156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Freeform 38"/>
            <p:cNvSpPr/>
            <p:nvPr/>
          </p:nvSpPr>
          <p:spPr>
            <a:xfrm>
              <a:off x="7898400" y="2793240"/>
              <a:ext cx="576000" cy="314280"/>
            </a:xfrm>
            <a:custGeom>
              <a:avLst/>
              <a:gdLst/>
              <a:ahLst/>
              <a:rect l="l" t="t" r="r" b="b"/>
              <a:pathLst>
                <a:path w="97" h="53">
                  <a:moveTo>
                    <a:pt x="51" y="53"/>
                  </a:moveTo>
                  <a:cubicBezTo>
                    <a:pt x="97" y="0"/>
                    <a:pt x="97" y="0"/>
                    <a:pt x="97" y="0"/>
                  </a:cubicBezTo>
                  <a:cubicBezTo>
                    <a:pt x="83" y="4"/>
                    <a:pt x="40" y="11"/>
                    <a:pt x="0" y="17"/>
                  </a:cubicBezTo>
                  <a:lnTo>
                    <a:pt x="51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7584120" y="2894760"/>
              <a:ext cx="314280" cy="212760"/>
            </a:xfrm>
            <a:custGeom>
              <a:avLst/>
              <a:gdLst/>
              <a:ahLst/>
              <a:rect l="l" t="t" r="r" b="b"/>
              <a:pathLst>
                <a:path w="53" h="36">
                  <a:moveTo>
                    <a:pt x="14" y="36"/>
                  </a:moveTo>
                  <a:cubicBezTo>
                    <a:pt x="53" y="0"/>
                    <a:pt x="53" y="0"/>
                    <a:pt x="53" y="0"/>
                  </a:cubicBezTo>
                  <a:cubicBezTo>
                    <a:pt x="33" y="3"/>
                    <a:pt x="14" y="6"/>
                    <a:pt x="0" y="8"/>
                  </a:cubicBezTo>
                  <a:lnTo>
                    <a:pt x="1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8775360" y="3492360"/>
              <a:ext cx="349200" cy="562320"/>
            </a:xfrm>
            <a:custGeom>
              <a:avLst/>
              <a:gdLst/>
              <a:ahLst/>
              <a:rect l="l" t="t" r="r" b="b"/>
              <a:pathLst>
                <a:path w="59" h="95">
                  <a:moveTo>
                    <a:pt x="20" y="30"/>
                  </a:moveTo>
                  <a:cubicBezTo>
                    <a:pt x="20" y="30"/>
                    <a:pt x="3" y="60"/>
                    <a:pt x="1" y="77"/>
                  </a:cubicBezTo>
                  <a:cubicBezTo>
                    <a:pt x="0" y="94"/>
                    <a:pt x="6" y="92"/>
                    <a:pt x="11" y="90"/>
                  </a:cubicBezTo>
                  <a:cubicBezTo>
                    <a:pt x="16" y="88"/>
                    <a:pt x="15" y="90"/>
                    <a:pt x="20" y="93"/>
                  </a:cubicBezTo>
                  <a:cubicBezTo>
                    <a:pt x="25" y="95"/>
                    <a:pt x="33" y="93"/>
                    <a:pt x="36" y="91"/>
                  </a:cubicBezTo>
                  <a:cubicBezTo>
                    <a:pt x="40" y="90"/>
                    <a:pt x="45" y="89"/>
                    <a:pt x="45" y="90"/>
                  </a:cubicBezTo>
                  <a:cubicBezTo>
                    <a:pt x="46" y="91"/>
                    <a:pt x="59" y="87"/>
                    <a:pt x="57" y="82"/>
                  </a:cubicBezTo>
                  <a:cubicBezTo>
                    <a:pt x="55" y="77"/>
                    <a:pt x="50" y="79"/>
                    <a:pt x="50" y="79"/>
                  </a:cubicBezTo>
                  <a:cubicBezTo>
                    <a:pt x="50" y="79"/>
                    <a:pt x="58" y="74"/>
                    <a:pt x="53" y="54"/>
                  </a:cubicBezTo>
                  <a:cubicBezTo>
                    <a:pt x="49" y="35"/>
                    <a:pt x="40" y="0"/>
                    <a:pt x="20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8474400" y="2793240"/>
              <a:ext cx="1118880" cy="1001880"/>
            </a:xfrm>
            <a:custGeom>
              <a:avLst/>
              <a:gdLst/>
              <a:ahLst/>
              <a:rect l="l" t="t" r="r" b="b"/>
              <a:pathLst>
                <a:path w="189" h="169">
                  <a:moveTo>
                    <a:pt x="0" y="0"/>
                  </a:moveTo>
                  <a:cubicBezTo>
                    <a:pt x="0" y="0"/>
                    <a:pt x="125" y="4"/>
                    <a:pt x="149" y="39"/>
                  </a:cubicBezTo>
                  <a:cubicBezTo>
                    <a:pt x="189" y="98"/>
                    <a:pt x="108" y="169"/>
                    <a:pt x="108" y="169"/>
                  </a:cubicBezTo>
                  <a:cubicBezTo>
                    <a:pt x="108" y="169"/>
                    <a:pt x="79" y="167"/>
                    <a:pt x="75" y="138"/>
                  </a:cubicBezTo>
                  <a:cubicBezTo>
                    <a:pt x="75" y="138"/>
                    <a:pt x="110" y="107"/>
                    <a:pt x="103" y="88"/>
                  </a:cubicBezTo>
                  <a:cubicBezTo>
                    <a:pt x="95" y="68"/>
                    <a:pt x="21" y="82"/>
                    <a:pt x="21" y="82"/>
                  </a:cubicBezTo>
                  <a:cubicBezTo>
                    <a:pt x="21" y="82"/>
                    <a:pt x="1" y="59"/>
                    <a:pt x="0" y="0"/>
                  </a:cubicBezTo>
                  <a:close/>
                </a:path>
              </a:pathLst>
            </a:custGeom>
            <a:solidFill>
              <a:srgbClr val="286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7033320" y="3160440"/>
              <a:ext cx="451080" cy="32616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66" y="9"/>
                  </a:moveTo>
                  <a:cubicBezTo>
                    <a:pt x="58" y="0"/>
                    <a:pt x="42" y="3"/>
                    <a:pt x="21" y="9"/>
                  </a:cubicBezTo>
                  <a:cubicBezTo>
                    <a:pt x="0" y="14"/>
                    <a:pt x="23" y="55"/>
                    <a:pt x="30" y="52"/>
                  </a:cubicBezTo>
                  <a:cubicBezTo>
                    <a:pt x="35" y="51"/>
                    <a:pt x="33" y="40"/>
                    <a:pt x="32" y="32"/>
                  </a:cubicBezTo>
                  <a:cubicBezTo>
                    <a:pt x="34" y="40"/>
                    <a:pt x="38" y="52"/>
                    <a:pt x="43" y="51"/>
                  </a:cubicBezTo>
                  <a:cubicBezTo>
                    <a:pt x="48" y="50"/>
                    <a:pt x="45" y="34"/>
                    <a:pt x="44" y="28"/>
                  </a:cubicBezTo>
                  <a:cubicBezTo>
                    <a:pt x="46" y="34"/>
                    <a:pt x="50" y="52"/>
                    <a:pt x="56" y="51"/>
                  </a:cubicBezTo>
                  <a:cubicBezTo>
                    <a:pt x="62" y="50"/>
                    <a:pt x="59" y="34"/>
                    <a:pt x="56" y="26"/>
                  </a:cubicBezTo>
                  <a:cubicBezTo>
                    <a:pt x="59" y="33"/>
                    <a:pt x="63" y="46"/>
                    <a:pt x="69" y="49"/>
                  </a:cubicBezTo>
                  <a:cubicBezTo>
                    <a:pt x="76" y="52"/>
                    <a:pt x="75" y="18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6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87"/>
          <p:cNvSpPr/>
          <p:nvPr/>
        </p:nvSpPr>
        <p:spPr>
          <a:xfrm>
            <a:off x="9907560" y="6172200"/>
            <a:ext cx="1344600" cy="290520"/>
          </a:xfrm>
          <a:prstGeom prst="ellipse">
            <a:avLst/>
          </a:prstGeom>
          <a:solidFill>
            <a:srgbClr val="dc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115"/>
          <p:cNvGrpSpPr/>
          <p:nvPr/>
        </p:nvGrpSpPr>
        <p:grpSpPr>
          <a:xfrm>
            <a:off x="9683640" y="4653000"/>
            <a:ext cx="1661760" cy="1756800"/>
            <a:chOff x="9683640" y="4653000"/>
            <a:chExt cx="1661760" cy="1756800"/>
          </a:xfrm>
        </p:grpSpPr>
        <p:sp>
          <p:nvSpPr>
            <p:cNvPr id="429" name="Freeform 116"/>
            <p:cNvSpPr/>
            <p:nvPr/>
          </p:nvSpPr>
          <p:spPr>
            <a:xfrm>
              <a:off x="10761480" y="5035320"/>
              <a:ext cx="298440" cy="2944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4" y="24"/>
                  </a:moveTo>
                  <a:cubicBezTo>
                    <a:pt x="8" y="14"/>
                    <a:pt x="13" y="0"/>
                    <a:pt x="33" y="5"/>
                  </a:cubicBezTo>
                  <a:cubicBezTo>
                    <a:pt x="54" y="10"/>
                    <a:pt x="63" y="10"/>
                    <a:pt x="63" y="10"/>
                  </a:cubicBezTo>
                  <a:cubicBezTo>
                    <a:pt x="63" y="10"/>
                    <a:pt x="41" y="62"/>
                    <a:pt x="10" y="43"/>
                  </a:cubicBezTo>
                  <a:cubicBezTo>
                    <a:pt x="0" y="37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117"/>
            <p:cNvSpPr/>
            <p:nvPr/>
          </p:nvSpPr>
          <p:spPr>
            <a:xfrm>
              <a:off x="10803600" y="5140800"/>
              <a:ext cx="308520" cy="3067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2" y="12"/>
                  </a:moveTo>
                  <a:cubicBezTo>
                    <a:pt x="22" y="7"/>
                    <a:pt x="35" y="0"/>
                    <a:pt x="47" y="17"/>
                  </a:cubicBezTo>
                  <a:cubicBezTo>
                    <a:pt x="59" y="34"/>
                    <a:pt x="65" y="41"/>
                    <a:pt x="65" y="41"/>
                  </a:cubicBezTo>
                  <a:cubicBezTo>
                    <a:pt x="65" y="41"/>
                    <a:pt x="14" y="65"/>
                    <a:pt x="4" y="30"/>
                  </a:cubicBezTo>
                  <a:cubicBezTo>
                    <a:pt x="0" y="19"/>
                    <a:pt x="12" y="12"/>
                    <a:pt x="12" y="12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118"/>
            <p:cNvSpPr/>
            <p:nvPr/>
          </p:nvSpPr>
          <p:spPr>
            <a:xfrm>
              <a:off x="10927080" y="5461560"/>
              <a:ext cx="418320" cy="57996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6" y="109"/>
                  </a:moveTo>
                  <a:cubicBezTo>
                    <a:pt x="6" y="109"/>
                    <a:pt x="7" y="109"/>
                    <a:pt x="9" y="109"/>
                  </a:cubicBezTo>
                  <a:cubicBezTo>
                    <a:pt x="10" y="109"/>
                    <a:pt x="13" y="110"/>
                    <a:pt x="15" y="110"/>
                  </a:cubicBezTo>
                  <a:cubicBezTo>
                    <a:pt x="18" y="111"/>
                    <a:pt x="21" y="111"/>
                    <a:pt x="25" y="111"/>
                  </a:cubicBezTo>
                  <a:cubicBezTo>
                    <a:pt x="29" y="111"/>
                    <a:pt x="33" y="111"/>
                    <a:pt x="38" y="110"/>
                  </a:cubicBezTo>
                  <a:cubicBezTo>
                    <a:pt x="42" y="109"/>
                    <a:pt x="47" y="108"/>
                    <a:pt x="51" y="105"/>
                  </a:cubicBezTo>
                  <a:cubicBezTo>
                    <a:pt x="52" y="105"/>
                    <a:pt x="54" y="104"/>
                    <a:pt x="55" y="104"/>
                  </a:cubicBezTo>
                  <a:cubicBezTo>
                    <a:pt x="56" y="103"/>
                    <a:pt x="57" y="102"/>
                    <a:pt x="58" y="101"/>
                  </a:cubicBezTo>
                  <a:cubicBezTo>
                    <a:pt x="60" y="100"/>
                    <a:pt x="62" y="98"/>
                    <a:pt x="63" y="96"/>
                  </a:cubicBezTo>
                  <a:cubicBezTo>
                    <a:pt x="65" y="92"/>
                    <a:pt x="65" y="90"/>
                    <a:pt x="63" y="87"/>
                  </a:cubicBezTo>
                  <a:cubicBezTo>
                    <a:pt x="61" y="84"/>
                    <a:pt x="57" y="80"/>
                    <a:pt x="51" y="78"/>
                  </a:cubicBezTo>
                  <a:cubicBezTo>
                    <a:pt x="47" y="76"/>
                    <a:pt x="38" y="72"/>
                    <a:pt x="32" y="65"/>
                  </a:cubicBezTo>
                  <a:cubicBezTo>
                    <a:pt x="26" y="58"/>
                    <a:pt x="23" y="50"/>
                    <a:pt x="22" y="41"/>
                  </a:cubicBezTo>
                  <a:cubicBezTo>
                    <a:pt x="21" y="33"/>
                    <a:pt x="24" y="24"/>
                    <a:pt x="28" y="17"/>
                  </a:cubicBezTo>
                  <a:cubicBezTo>
                    <a:pt x="30" y="14"/>
                    <a:pt x="33" y="11"/>
                    <a:pt x="36" y="9"/>
                  </a:cubicBezTo>
                  <a:cubicBezTo>
                    <a:pt x="39" y="7"/>
                    <a:pt x="42" y="5"/>
                    <a:pt x="45" y="4"/>
                  </a:cubicBezTo>
                  <a:cubicBezTo>
                    <a:pt x="52" y="1"/>
                    <a:pt x="57" y="0"/>
                    <a:pt x="62" y="0"/>
                  </a:cubicBezTo>
                  <a:cubicBezTo>
                    <a:pt x="67" y="0"/>
                    <a:pt x="71" y="0"/>
                    <a:pt x="74" y="1"/>
                  </a:cubicBezTo>
                  <a:cubicBezTo>
                    <a:pt x="81" y="3"/>
                    <a:pt x="84" y="5"/>
                    <a:pt x="84" y="5"/>
                  </a:cubicBezTo>
                  <a:cubicBezTo>
                    <a:pt x="87" y="8"/>
                    <a:pt x="88" y="12"/>
                    <a:pt x="86" y="15"/>
                  </a:cubicBezTo>
                  <a:cubicBezTo>
                    <a:pt x="85" y="16"/>
                    <a:pt x="84" y="17"/>
                    <a:pt x="83" y="17"/>
                  </a:cubicBezTo>
                  <a:cubicBezTo>
                    <a:pt x="82" y="18"/>
                    <a:pt x="82" y="18"/>
                    <a:pt x="82" y="18"/>
                  </a:cubicBezTo>
                  <a:cubicBezTo>
                    <a:pt x="82" y="18"/>
                    <a:pt x="78" y="19"/>
                    <a:pt x="73" y="20"/>
                  </a:cubicBezTo>
                  <a:cubicBezTo>
                    <a:pt x="70" y="20"/>
                    <a:pt x="67" y="21"/>
                    <a:pt x="64" y="21"/>
                  </a:cubicBezTo>
                  <a:cubicBezTo>
                    <a:pt x="62" y="21"/>
                    <a:pt x="61" y="22"/>
                    <a:pt x="59" y="22"/>
                  </a:cubicBezTo>
                  <a:cubicBezTo>
                    <a:pt x="57" y="22"/>
                    <a:pt x="56" y="23"/>
                    <a:pt x="54" y="24"/>
                  </a:cubicBezTo>
                  <a:cubicBezTo>
                    <a:pt x="51" y="25"/>
                    <a:pt x="48" y="27"/>
                    <a:pt x="46" y="30"/>
                  </a:cubicBezTo>
                  <a:cubicBezTo>
                    <a:pt x="45" y="32"/>
                    <a:pt x="43" y="36"/>
                    <a:pt x="43" y="40"/>
                  </a:cubicBezTo>
                  <a:cubicBezTo>
                    <a:pt x="43" y="44"/>
                    <a:pt x="45" y="49"/>
                    <a:pt x="47" y="52"/>
                  </a:cubicBezTo>
                  <a:cubicBezTo>
                    <a:pt x="49" y="55"/>
                    <a:pt x="52" y="57"/>
                    <a:pt x="60" y="61"/>
                  </a:cubicBezTo>
                  <a:cubicBezTo>
                    <a:pt x="67" y="65"/>
                    <a:pt x="74" y="70"/>
                    <a:pt x="78" y="79"/>
                  </a:cubicBezTo>
                  <a:cubicBezTo>
                    <a:pt x="80" y="83"/>
                    <a:pt x="81" y="88"/>
                    <a:pt x="81" y="93"/>
                  </a:cubicBezTo>
                  <a:cubicBezTo>
                    <a:pt x="80" y="98"/>
                    <a:pt x="77" y="102"/>
                    <a:pt x="75" y="105"/>
                  </a:cubicBezTo>
                  <a:cubicBezTo>
                    <a:pt x="72" y="109"/>
                    <a:pt x="69" y="111"/>
                    <a:pt x="66" y="113"/>
                  </a:cubicBezTo>
                  <a:cubicBezTo>
                    <a:pt x="64" y="114"/>
                    <a:pt x="63" y="115"/>
                    <a:pt x="62" y="115"/>
                  </a:cubicBezTo>
                  <a:cubicBezTo>
                    <a:pt x="60" y="116"/>
                    <a:pt x="59" y="117"/>
                    <a:pt x="57" y="117"/>
                  </a:cubicBezTo>
                  <a:cubicBezTo>
                    <a:pt x="51" y="120"/>
                    <a:pt x="45" y="121"/>
                    <a:pt x="39" y="122"/>
                  </a:cubicBezTo>
                  <a:cubicBezTo>
                    <a:pt x="34" y="122"/>
                    <a:pt x="29" y="122"/>
                    <a:pt x="25" y="122"/>
                  </a:cubicBezTo>
                  <a:cubicBezTo>
                    <a:pt x="20" y="121"/>
                    <a:pt x="17" y="121"/>
                    <a:pt x="14" y="120"/>
                  </a:cubicBezTo>
                  <a:cubicBezTo>
                    <a:pt x="10" y="119"/>
                    <a:pt x="8" y="119"/>
                    <a:pt x="7" y="118"/>
                  </a:cubicBezTo>
                  <a:cubicBezTo>
                    <a:pt x="5" y="118"/>
                    <a:pt x="4" y="118"/>
                    <a:pt x="4" y="118"/>
                  </a:cubicBezTo>
                  <a:cubicBezTo>
                    <a:pt x="4" y="118"/>
                    <a:pt x="4" y="118"/>
                    <a:pt x="4" y="118"/>
                  </a:cubicBezTo>
                  <a:cubicBezTo>
                    <a:pt x="2" y="117"/>
                    <a:pt x="0" y="115"/>
                    <a:pt x="1" y="112"/>
                  </a:cubicBezTo>
                  <a:cubicBezTo>
                    <a:pt x="2" y="110"/>
                    <a:pt x="4" y="108"/>
                    <a:pt x="6" y="109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119"/>
            <p:cNvSpPr/>
            <p:nvPr/>
          </p:nvSpPr>
          <p:spPr>
            <a:xfrm>
              <a:off x="10215720" y="5846040"/>
              <a:ext cx="569520" cy="49824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76" y="1"/>
                  </a:moveTo>
                  <a:cubicBezTo>
                    <a:pt x="51" y="2"/>
                    <a:pt x="26" y="7"/>
                    <a:pt x="26" y="33"/>
                  </a:cubicBezTo>
                  <a:cubicBezTo>
                    <a:pt x="25" y="59"/>
                    <a:pt x="47" y="77"/>
                    <a:pt x="47" y="77"/>
                  </a:cubicBezTo>
                  <a:cubicBezTo>
                    <a:pt x="47" y="77"/>
                    <a:pt x="0" y="96"/>
                    <a:pt x="26" y="100"/>
                  </a:cubicBezTo>
                  <a:cubicBezTo>
                    <a:pt x="57" y="105"/>
                    <a:pt x="102" y="101"/>
                    <a:pt x="101" y="95"/>
                  </a:cubicBezTo>
                  <a:cubicBezTo>
                    <a:pt x="100" y="88"/>
                    <a:pt x="94" y="84"/>
                    <a:pt x="94" y="84"/>
                  </a:cubicBezTo>
                  <a:cubicBezTo>
                    <a:pt x="94" y="84"/>
                    <a:pt x="118" y="76"/>
                    <a:pt x="119" y="52"/>
                  </a:cubicBezTo>
                  <a:cubicBezTo>
                    <a:pt x="120" y="28"/>
                    <a:pt x="104" y="0"/>
                    <a:pt x="76" y="1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120"/>
            <p:cNvSpPr/>
            <p:nvPr/>
          </p:nvSpPr>
          <p:spPr>
            <a:xfrm>
              <a:off x="9683640" y="4766400"/>
              <a:ext cx="792720" cy="1099800"/>
            </a:xfrm>
            <a:custGeom>
              <a:avLst/>
              <a:gdLst/>
              <a:ahLst/>
              <a:rect l="l" t="t" r="r" b="b"/>
              <a:pathLst>
                <a:path w="167" h="232">
                  <a:moveTo>
                    <a:pt x="82" y="133"/>
                  </a:moveTo>
                  <a:cubicBezTo>
                    <a:pt x="39" y="115"/>
                    <a:pt x="44" y="72"/>
                    <a:pt x="51" y="60"/>
                  </a:cubicBezTo>
                  <a:cubicBezTo>
                    <a:pt x="57" y="48"/>
                    <a:pt x="64" y="41"/>
                    <a:pt x="41" y="21"/>
                  </a:cubicBezTo>
                  <a:cubicBezTo>
                    <a:pt x="18" y="0"/>
                    <a:pt x="0" y="23"/>
                    <a:pt x="6" y="34"/>
                  </a:cubicBezTo>
                  <a:cubicBezTo>
                    <a:pt x="12" y="45"/>
                    <a:pt x="28" y="48"/>
                    <a:pt x="28" y="48"/>
                  </a:cubicBezTo>
                  <a:cubicBezTo>
                    <a:pt x="28" y="48"/>
                    <a:pt x="16" y="66"/>
                    <a:pt x="18" y="117"/>
                  </a:cubicBezTo>
                  <a:cubicBezTo>
                    <a:pt x="21" y="168"/>
                    <a:pt x="84" y="232"/>
                    <a:pt x="126" y="217"/>
                  </a:cubicBezTo>
                  <a:cubicBezTo>
                    <a:pt x="167" y="201"/>
                    <a:pt x="125" y="152"/>
                    <a:pt x="82" y="133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21"/>
            <p:cNvSpPr/>
            <p:nvPr/>
          </p:nvSpPr>
          <p:spPr>
            <a:xfrm>
              <a:off x="10086120" y="5324040"/>
              <a:ext cx="960480" cy="896040"/>
            </a:xfrm>
            <a:custGeom>
              <a:avLst/>
              <a:gdLst/>
              <a:ahLst/>
              <a:rect l="l" t="t" r="r" b="b"/>
              <a:pathLst>
                <a:path w="202" h="189">
                  <a:moveTo>
                    <a:pt x="1" y="41"/>
                  </a:moveTo>
                  <a:cubicBezTo>
                    <a:pt x="2" y="69"/>
                    <a:pt x="28" y="96"/>
                    <a:pt x="38" y="115"/>
                  </a:cubicBezTo>
                  <a:cubicBezTo>
                    <a:pt x="48" y="134"/>
                    <a:pt x="40" y="157"/>
                    <a:pt x="52" y="173"/>
                  </a:cubicBezTo>
                  <a:cubicBezTo>
                    <a:pt x="63" y="189"/>
                    <a:pt x="81" y="188"/>
                    <a:pt x="120" y="188"/>
                  </a:cubicBezTo>
                  <a:cubicBezTo>
                    <a:pt x="159" y="188"/>
                    <a:pt x="202" y="173"/>
                    <a:pt x="187" y="135"/>
                  </a:cubicBezTo>
                  <a:cubicBezTo>
                    <a:pt x="173" y="98"/>
                    <a:pt x="138" y="105"/>
                    <a:pt x="127" y="68"/>
                  </a:cubicBezTo>
                  <a:cubicBezTo>
                    <a:pt x="117" y="32"/>
                    <a:pt x="98" y="6"/>
                    <a:pt x="52" y="16"/>
                  </a:cubicBezTo>
                  <a:cubicBezTo>
                    <a:pt x="5" y="25"/>
                    <a:pt x="0" y="0"/>
                    <a:pt x="1" y="41"/>
                  </a:cubicBez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22"/>
            <p:cNvSpPr/>
            <p:nvPr/>
          </p:nvSpPr>
          <p:spPr>
            <a:xfrm>
              <a:off x="10000080" y="4653000"/>
              <a:ext cx="333000" cy="5637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0" y="86"/>
                  </a:moveTo>
                  <a:cubicBezTo>
                    <a:pt x="0" y="86"/>
                    <a:pt x="11" y="24"/>
                    <a:pt x="38" y="0"/>
                  </a:cubicBezTo>
                  <a:cubicBezTo>
                    <a:pt x="38" y="0"/>
                    <a:pt x="54" y="54"/>
                    <a:pt x="62" y="63"/>
                  </a:cubicBezTo>
                  <a:cubicBezTo>
                    <a:pt x="70" y="72"/>
                    <a:pt x="21" y="119"/>
                    <a:pt x="0" y="86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123"/>
            <p:cNvSpPr/>
            <p:nvPr/>
          </p:nvSpPr>
          <p:spPr>
            <a:xfrm>
              <a:off x="10470600" y="4680720"/>
              <a:ext cx="322920" cy="491760"/>
            </a:xfrm>
            <a:custGeom>
              <a:avLst/>
              <a:gdLst/>
              <a:ahLst/>
              <a:rect l="l" t="t" r="r" b="b"/>
              <a:pathLst>
                <a:path w="68" h="104">
                  <a:moveTo>
                    <a:pt x="0" y="66"/>
                  </a:moveTo>
                  <a:cubicBezTo>
                    <a:pt x="0" y="66"/>
                    <a:pt x="26" y="13"/>
                    <a:pt x="59" y="0"/>
                  </a:cubicBezTo>
                  <a:cubicBezTo>
                    <a:pt x="59" y="0"/>
                    <a:pt x="59" y="75"/>
                    <a:pt x="64" y="86"/>
                  </a:cubicBezTo>
                  <a:cubicBezTo>
                    <a:pt x="68" y="98"/>
                    <a:pt x="8" y="104"/>
                    <a:pt x="0" y="66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Oval 124"/>
            <p:cNvSpPr/>
            <p:nvPr/>
          </p:nvSpPr>
          <p:spPr>
            <a:xfrm>
              <a:off x="9858960" y="4907520"/>
              <a:ext cx="996120" cy="790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125"/>
            <p:cNvSpPr/>
            <p:nvPr/>
          </p:nvSpPr>
          <p:spPr>
            <a:xfrm>
              <a:off x="9739440" y="5367960"/>
              <a:ext cx="195120" cy="378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8"/>
                  </a:moveTo>
                  <a:cubicBezTo>
                    <a:pt x="0" y="8"/>
                    <a:pt x="2" y="7"/>
                    <a:pt x="6" y="6"/>
                  </a:cubicBezTo>
                  <a:cubicBezTo>
                    <a:pt x="10" y="5"/>
                    <a:pt x="15" y="4"/>
                    <a:pt x="20" y="3"/>
                  </a:cubicBezTo>
                  <a:cubicBezTo>
                    <a:pt x="25" y="2"/>
                    <a:pt x="31" y="1"/>
                    <a:pt x="34" y="0"/>
                  </a:cubicBezTo>
                  <a:cubicBezTo>
                    <a:pt x="38" y="0"/>
                    <a:pt x="41" y="0"/>
                    <a:pt x="41" y="0"/>
                  </a:cubicBezTo>
                  <a:cubicBezTo>
                    <a:pt x="41" y="0"/>
                    <a:pt x="39" y="1"/>
                    <a:pt x="35" y="2"/>
                  </a:cubicBezTo>
                  <a:cubicBezTo>
                    <a:pt x="31" y="3"/>
                    <a:pt x="26" y="4"/>
                    <a:pt x="21" y="6"/>
                  </a:cubicBezTo>
                  <a:cubicBezTo>
                    <a:pt x="15" y="7"/>
                    <a:pt x="10" y="7"/>
                    <a:pt x="6" y="8"/>
                  </a:cubicBezTo>
                  <a:cubicBezTo>
                    <a:pt x="2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126"/>
            <p:cNvSpPr/>
            <p:nvPr/>
          </p:nvSpPr>
          <p:spPr>
            <a:xfrm>
              <a:off x="9797400" y="5415840"/>
              <a:ext cx="137160" cy="9324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20"/>
                  </a:moveTo>
                  <a:cubicBezTo>
                    <a:pt x="0" y="20"/>
                    <a:pt x="1" y="18"/>
                    <a:pt x="4" y="16"/>
                  </a:cubicBezTo>
                  <a:cubicBezTo>
                    <a:pt x="6" y="14"/>
                    <a:pt x="10" y="11"/>
                    <a:pt x="13" y="8"/>
                  </a:cubicBezTo>
                  <a:cubicBezTo>
                    <a:pt x="17" y="6"/>
                    <a:pt x="21" y="4"/>
                    <a:pt x="24" y="2"/>
                  </a:cubicBezTo>
                  <a:cubicBezTo>
                    <a:pt x="27" y="1"/>
                    <a:pt x="29" y="0"/>
                    <a:pt x="29" y="0"/>
                  </a:cubicBezTo>
                  <a:cubicBezTo>
                    <a:pt x="29" y="0"/>
                    <a:pt x="27" y="1"/>
                    <a:pt x="25" y="4"/>
                  </a:cubicBezTo>
                  <a:cubicBezTo>
                    <a:pt x="22" y="6"/>
                    <a:pt x="19" y="9"/>
                    <a:pt x="15" y="11"/>
                  </a:cubicBezTo>
                  <a:cubicBezTo>
                    <a:pt x="12" y="13"/>
                    <a:pt x="8" y="16"/>
                    <a:pt x="5" y="17"/>
                  </a:cubicBezTo>
                  <a:cubicBezTo>
                    <a:pt x="2" y="19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127"/>
            <p:cNvSpPr/>
            <p:nvPr/>
          </p:nvSpPr>
          <p:spPr>
            <a:xfrm>
              <a:off x="10707840" y="5481360"/>
              <a:ext cx="204840" cy="37800"/>
            </a:xfrm>
            <a:custGeom>
              <a:avLst/>
              <a:gdLst/>
              <a:ahLst/>
              <a:rect l="l" t="t" r="r" b="b"/>
              <a:pathLst>
                <a:path w="43" h="8">
                  <a:moveTo>
                    <a:pt x="0" y="0"/>
                  </a:moveTo>
                  <a:cubicBezTo>
                    <a:pt x="0" y="0"/>
                    <a:pt x="3" y="0"/>
                    <a:pt x="7" y="0"/>
                  </a:cubicBezTo>
                  <a:cubicBezTo>
                    <a:pt x="11" y="0"/>
                    <a:pt x="16" y="1"/>
                    <a:pt x="22" y="2"/>
                  </a:cubicBezTo>
                  <a:cubicBezTo>
                    <a:pt x="27" y="3"/>
                    <a:pt x="32" y="4"/>
                    <a:pt x="36" y="6"/>
                  </a:cubicBezTo>
                  <a:cubicBezTo>
                    <a:pt x="40" y="7"/>
                    <a:pt x="43" y="8"/>
                    <a:pt x="43" y="8"/>
                  </a:cubicBezTo>
                  <a:cubicBezTo>
                    <a:pt x="43" y="8"/>
                    <a:pt x="40" y="8"/>
                    <a:pt x="36" y="7"/>
                  </a:cubicBezTo>
                  <a:cubicBezTo>
                    <a:pt x="32" y="7"/>
                    <a:pt x="26" y="6"/>
                    <a:pt x="21" y="5"/>
                  </a:cubicBezTo>
                  <a:cubicBezTo>
                    <a:pt x="16" y="4"/>
                    <a:pt x="11" y="3"/>
                    <a:pt x="7" y="2"/>
                  </a:cubicBezTo>
                  <a:cubicBezTo>
                    <a:pt x="3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128"/>
            <p:cNvSpPr/>
            <p:nvPr/>
          </p:nvSpPr>
          <p:spPr>
            <a:xfrm>
              <a:off x="10689840" y="5539320"/>
              <a:ext cx="165240" cy="6984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0"/>
                  </a:moveTo>
                  <a:cubicBezTo>
                    <a:pt x="0" y="0"/>
                    <a:pt x="2" y="0"/>
                    <a:pt x="6" y="1"/>
                  </a:cubicBezTo>
                  <a:cubicBezTo>
                    <a:pt x="9" y="2"/>
                    <a:pt x="14" y="4"/>
                    <a:pt x="18" y="6"/>
                  </a:cubicBezTo>
                  <a:cubicBezTo>
                    <a:pt x="23" y="8"/>
                    <a:pt x="27" y="10"/>
                    <a:pt x="30" y="12"/>
                  </a:cubicBezTo>
                  <a:cubicBezTo>
                    <a:pt x="33" y="14"/>
                    <a:pt x="35" y="15"/>
                    <a:pt x="35" y="15"/>
                  </a:cubicBezTo>
                  <a:cubicBezTo>
                    <a:pt x="35" y="15"/>
                    <a:pt x="33" y="15"/>
                    <a:pt x="29" y="14"/>
                  </a:cubicBezTo>
                  <a:cubicBezTo>
                    <a:pt x="26" y="13"/>
                    <a:pt x="21" y="11"/>
                    <a:pt x="17" y="9"/>
                  </a:cubicBezTo>
                  <a:cubicBezTo>
                    <a:pt x="13" y="7"/>
                    <a:pt x="8" y="5"/>
                    <a:pt x="5" y="3"/>
                  </a:cubicBezTo>
                  <a:cubicBezTo>
                    <a:pt x="2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129"/>
            <p:cNvSpPr/>
            <p:nvPr/>
          </p:nvSpPr>
          <p:spPr>
            <a:xfrm>
              <a:off x="10484640" y="5870160"/>
              <a:ext cx="569520" cy="493920"/>
            </a:xfrm>
            <a:custGeom>
              <a:avLst/>
              <a:gdLst/>
              <a:ahLst/>
              <a:rect l="l" t="t" r="r" b="b"/>
              <a:pathLst>
                <a:path w="120" h="104">
                  <a:moveTo>
                    <a:pt x="76" y="1"/>
                  </a:moveTo>
                  <a:cubicBezTo>
                    <a:pt x="51" y="2"/>
                    <a:pt x="26" y="6"/>
                    <a:pt x="25" y="32"/>
                  </a:cubicBezTo>
                  <a:cubicBezTo>
                    <a:pt x="25" y="58"/>
                    <a:pt x="47" y="76"/>
                    <a:pt x="47" y="76"/>
                  </a:cubicBezTo>
                  <a:cubicBezTo>
                    <a:pt x="47" y="76"/>
                    <a:pt x="0" y="96"/>
                    <a:pt x="25" y="100"/>
                  </a:cubicBezTo>
                  <a:cubicBezTo>
                    <a:pt x="57" y="104"/>
                    <a:pt x="101" y="100"/>
                    <a:pt x="101" y="94"/>
                  </a:cubicBezTo>
                  <a:cubicBezTo>
                    <a:pt x="100" y="88"/>
                    <a:pt x="94" y="84"/>
                    <a:pt x="94" y="84"/>
                  </a:cubicBezTo>
                  <a:cubicBezTo>
                    <a:pt x="94" y="84"/>
                    <a:pt x="118" y="76"/>
                    <a:pt x="119" y="52"/>
                  </a:cubicBezTo>
                  <a:cubicBezTo>
                    <a:pt x="120" y="28"/>
                    <a:pt x="104" y="0"/>
                    <a:pt x="76" y="1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130"/>
            <p:cNvSpPr/>
            <p:nvPr/>
          </p:nvSpPr>
          <p:spPr>
            <a:xfrm>
              <a:off x="10362960" y="5619240"/>
              <a:ext cx="213120" cy="790560"/>
            </a:xfrm>
            <a:custGeom>
              <a:avLst/>
              <a:gdLst/>
              <a:ahLst/>
              <a:rect l="l" t="t" r="r" b="b"/>
              <a:pathLst>
                <a:path w="45" h="167">
                  <a:moveTo>
                    <a:pt x="44" y="151"/>
                  </a:moveTo>
                  <a:cubicBezTo>
                    <a:pt x="43" y="144"/>
                    <a:pt x="44" y="28"/>
                    <a:pt x="44" y="28"/>
                  </a:cubicBezTo>
                  <a:cubicBezTo>
                    <a:pt x="44" y="28"/>
                    <a:pt x="23" y="0"/>
                    <a:pt x="16" y="39"/>
                  </a:cubicBezTo>
                  <a:cubicBezTo>
                    <a:pt x="16" y="146"/>
                    <a:pt x="16" y="146"/>
                    <a:pt x="16" y="146"/>
                  </a:cubicBezTo>
                  <a:cubicBezTo>
                    <a:pt x="16" y="146"/>
                    <a:pt x="0" y="148"/>
                    <a:pt x="1" y="158"/>
                  </a:cubicBezTo>
                  <a:cubicBezTo>
                    <a:pt x="3" y="167"/>
                    <a:pt x="18" y="164"/>
                    <a:pt x="29" y="164"/>
                  </a:cubicBezTo>
                  <a:cubicBezTo>
                    <a:pt x="41" y="164"/>
                    <a:pt x="45" y="158"/>
                    <a:pt x="44" y="151"/>
                  </a:cubicBezTo>
                  <a:close/>
                </a:path>
              </a:pathLst>
            </a:custGeom>
            <a:solidFill>
              <a:srgbClr val="2f27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131"/>
            <p:cNvSpPr/>
            <p:nvPr/>
          </p:nvSpPr>
          <p:spPr>
            <a:xfrm>
              <a:off x="9862920" y="4969440"/>
              <a:ext cx="992160" cy="422280"/>
            </a:xfrm>
            <a:custGeom>
              <a:avLst/>
              <a:gdLst/>
              <a:ahLst/>
              <a:rect l="l" t="t" r="r" b="b"/>
              <a:pathLst>
                <a:path w="209" h="89">
                  <a:moveTo>
                    <a:pt x="34" y="9"/>
                  </a:moveTo>
                  <a:cubicBezTo>
                    <a:pt x="16" y="22"/>
                    <a:pt x="4" y="39"/>
                    <a:pt x="0" y="59"/>
                  </a:cubicBezTo>
                  <a:cubicBezTo>
                    <a:pt x="11" y="66"/>
                    <a:pt x="51" y="80"/>
                    <a:pt x="92" y="84"/>
                  </a:cubicBezTo>
                  <a:cubicBezTo>
                    <a:pt x="146" y="89"/>
                    <a:pt x="187" y="89"/>
                    <a:pt x="206" y="89"/>
                  </a:cubicBezTo>
                  <a:cubicBezTo>
                    <a:pt x="208" y="83"/>
                    <a:pt x="209" y="77"/>
                    <a:pt x="209" y="70"/>
                  </a:cubicBezTo>
                  <a:cubicBezTo>
                    <a:pt x="209" y="52"/>
                    <a:pt x="201" y="34"/>
                    <a:pt x="187" y="20"/>
                  </a:cubicBezTo>
                  <a:cubicBezTo>
                    <a:pt x="176" y="16"/>
                    <a:pt x="152" y="3"/>
                    <a:pt x="106" y="1"/>
                  </a:cubicBezTo>
                  <a:cubicBezTo>
                    <a:pt x="70" y="0"/>
                    <a:pt x="47" y="1"/>
                    <a:pt x="34" y="9"/>
                  </a:cubicBezTo>
                  <a:close/>
                </a:path>
              </a:pathLst>
            </a:custGeom>
            <a:solidFill>
              <a:srgbClr val="f0c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132"/>
            <p:cNvSpPr/>
            <p:nvPr/>
          </p:nvSpPr>
          <p:spPr>
            <a:xfrm>
              <a:off x="9948600" y="5035320"/>
              <a:ext cx="308520" cy="31824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24" y="0"/>
                  </a:moveTo>
                  <a:cubicBezTo>
                    <a:pt x="65" y="47"/>
                    <a:pt x="65" y="47"/>
                    <a:pt x="65" y="47"/>
                  </a:cubicBezTo>
                  <a:cubicBezTo>
                    <a:pt x="65" y="47"/>
                    <a:pt x="0" y="67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133"/>
            <p:cNvSpPr/>
            <p:nvPr/>
          </p:nvSpPr>
          <p:spPr>
            <a:xfrm>
              <a:off x="10367280" y="5106960"/>
              <a:ext cx="274680" cy="3369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52" y="0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35"/>
                    <a:pt x="58" y="71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134"/>
            <p:cNvSpPr/>
            <p:nvPr/>
          </p:nvSpPr>
          <p:spPr>
            <a:xfrm>
              <a:off x="10713600" y="5406120"/>
              <a:ext cx="195120" cy="1800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3"/>
                  </a:moveTo>
                  <a:cubicBezTo>
                    <a:pt x="0" y="3"/>
                    <a:pt x="3" y="3"/>
                    <a:pt x="6" y="2"/>
                  </a:cubicBezTo>
                  <a:cubicBezTo>
                    <a:pt x="10" y="1"/>
                    <a:pt x="15" y="1"/>
                    <a:pt x="21" y="1"/>
                  </a:cubicBezTo>
                  <a:cubicBezTo>
                    <a:pt x="26" y="0"/>
                    <a:pt x="31" y="0"/>
                    <a:pt x="35" y="1"/>
                  </a:cubicBezTo>
                  <a:cubicBezTo>
                    <a:pt x="39" y="1"/>
                    <a:pt x="41" y="1"/>
                    <a:pt x="41" y="1"/>
                  </a:cubicBezTo>
                  <a:cubicBezTo>
                    <a:pt x="41" y="1"/>
                    <a:pt x="39" y="2"/>
                    <a:pt x="35" y="2"/>
                  </a:cubicBezTo>
                  <a:cubicBezTo>
                    <a:pt x="31" y="3"/>
                    <a:pt x="26" y="3"/>
                    <a:pt x="21" y="4"/>
                  </a:cubicBezTo>
                  <a:cubicBezTo>
                    <a:pt x="16" y="4"/>
                    <a:pt x="10" y="4"/>
                    <a:pt x="7" y="4"/>
                  </a:cubicBezTo>
                  <a:cubicBezTo>
                    <a:pt x="3" y="3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135"/>
            <p:cNvSpPr/>
            <p:nvPr/>
          </p:nvSpPr>
          <p:spPr>
            <a:xfrm>
              <a:off x="9731520" y="5282280"/>
              <a:ext cx="213120" cy="3384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0" y="1"/>
                  </a:moveTo>
                  <a:cubicBezTo>
                    <a:pt x="0" y="1"/>
                    <a:pt x="3" y="0"/>
                    <a:pt x="7" y="1"/>
                  </a:cubicBezTo>
                  <a:cubicBezTo>
                    <a:pt x="11" y="1"/>
                    <a:pt x="17" y="1"/>
                    <a:pt x="23" y="2"/>
                  </a:cubicBezTo>
                  <a:cubicBezTo>
                    <a:pt x="28" y="3"/>
                    <a:pt x="34" y="4"/>
                    <a:pt x="38" y="5"/>
                  </a:cubicBezTo>
                  <a:cubicBezTo>
                    <a:pt x="42" y="6"/>
                    <a:pt x="45" y="7"/>
                    <a:pt x="45" y="7"/>
                  </a:cubicBezTo>
                  <a:cubicBezTo>
                    <a:pt x="45" y="7"/>
                    <a:pt x="42" y="7"/>
                    <a:pt x="38" y="7"/>
                  </a:cubicBezTo>
                  <a:cubicBezTo>
                    <a:pt x="33" y="6"/>
                    <a:pt x="28" y="6"/>
                    <a:pt x="22" y="5"/>
                  </a:cubicBezTo>
                  <a:cubicBezTo>
                    <a:pt x="17" y="4"/>
                    <a:pt x="11" y="3"/>
                    <a:pt x="7" y="2"/>
                  </a:cubicBezTo>
                  <a:cubicBezTo>
                    <a:pt x="3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1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43"/>
          <p:cNvSpPr/>
          <p:nvPr/>
        </p:nvSpPr>
        <p:spPr>
          <a:xfrm>
            <a:off x="8161200" y="1657440"/>
            <a:ext cx="162000" cy="261720"/>
          </a:xfrm>
          <a:custGeom>
            <a:avLst/>
            <a:gdLst/>
            <a:ahLst/>
            <a:rect l="l" t="t" r="r" b="b"/>
            <a:pathLst>
              <a:path w="39" h="63">
                <a:moveTo>
                  <a:pt x="39" y="42"/>
                </a:moveTo>
                <a:cubicBezTo>
                  <a:pt x="39" y="54"/>
                  <a:pt x="30" y="63"/>
                  <a:pt x="19" y="63"/>
                </a:cubicBezTo>
                <a:cubicBezTo>
                  <a:pt x="8" y="63"/>
                  <a:pt x="0" y="54"/>
                  <a:pt x="0" y="42"/>
                </a:cubicBezTo>
                <a:cubicBezTo>
                  <a:pt x="0" y="30"/>
                  <a:pt x="19" y="0"/>
                  <a:pt x="19" y="0"/>
                </a:cubicBezTo>
                <a:cubicBezTo>
                  <a:pt x="19" y="0"/>
                  <a:pt x="39" y="30"/>
                  <a:pt x="39" y="42"/>
                </a:cubicBezTo>
                <a:close/>
              </a:path>
            </a:pathLst>
          </a:custGeom>
          <a:solidFill>
            <a:srgbClr val="74bb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10137240" y="5526000"/>
            <a:ext cx="273240" cy="73080"/>
            <a:chOff x="10137240" y="5526000"/>
            <a:chExt cx="273240" cy="73080"/>
          </a:xfrm>
        </p:grpSpPr>
        <p:sp>
          <p:nvSpPr>
            <p:cNvPr id="455" name="Freeform 254"/>
            <p:cNvSpPr/>
            <p:nvPr/>
          </p:nvSpPr>
          <p:spPr>
            <a:xfrm rot="5400000">
              <a:off x="10237320" y="5425920"/>
              <a:ext cx="73080" cy="273240"/>
            </a:xfrm>
            <a:custGeom>
              <a:avLst/>
              <a:gdLst/>
              <a:ahLst/>
              <a:rect l="l" t="t" r="r" b="b"/>
              <a:pathLst>
                <a:path w="121" h="200">
                  <a:moveTo>
                    <a:pt x="77" y="7"/>
                  </a:moveTo>
                  <a:cubicBezTo>
                    <a:pt x="48" y="0"/>
                    <a:pt x="16" y="27"/>
                    <a:pt x="9" y="53"/>
                  </a:cubicBezTo>
                  <a:cubicBezTo>
                    <a:pt x="0" y="85"/>
                    <a:pt x="5" y="128"/>
                    <a:pt x="19" y="157"/>
                  </a:cubicBezTo>
                  <a:cubicBezTo>
                    <a:pt x="34" y="189"/>
                    <a:pt x="65" y="200"/>
                    <a:pt x="90" y="170"/>
                  </a:cubicBezTo>
                  <a:cubicBezTo>
                    <a:pt x="109" y="147"/>
                    <a:pt x="121" y="108"/>
                    <a:pt x="119" y="78"/>
                  </a:cubicBezTo>
                  <a:cubicBezTo>
                    <a:pt x="118" y="53"/>
                    <a:pt x="105" y="14"/>
                    <a:pt x="78" y="7"/>
                  </a:cubicBezTo>
                  <a:cubicBezTo>
                    <a:pt x="78" y="7"/>
                    <a:pt x="77" y="7"/>
                    <a:pt x="77" y="7"/>
                  </a:cubicBezTo>
                  <a:close/>
                </a:path>
              </a:pathLst>
            </a:custGeom>
            <a:solidFill>
              <a:srgbClr val="3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Freeform 255"/>
            <p:cNvSpPr/>
            <p:nvPr/>
          </p:nvSpPr>
          <p:spPr>
            <a:xfrm rot="5400000">
              <a:off x="10249560" y="5486400"/>
              <a:ext cx="33840" cy="191160"/>
            </a:xfrm>
            <a:custGeom>
              <a:avLst/>
              <a:gdLst/>
              <a:ahLst/>
              <a:rect l="l" t="t" r="r" b="b"/>
              <a:pathLst>
                <a:path w="56" h="140">
                  <a:moveTo>
                    <a:pt x="20" y="140"/>
                  </a:moveTo>
                  <a:cubicBezTo>
                    <a:pt x="22" y="139"/>
                    <a:pt x="23" y="137"/>
                    <a:pt x="25" y="135"/>
                  </a:cubicBezTo>
                  <a:cubicBezTo>
                    <a:pt x="44" y="112"/>
                    <a:pt x="56" y="73"/>
                    <a:pt x="54" y="43"/>
                  </a:cubicBezTo>
                  <a:cubicBezTo>
                    <a:pt x="54" y="30"/>
                    <a:pt x="50" y="14"/>
                    <a:pt x="43" y="0"/>
                  </a:cubicBezTo>
                  <a:cubicBezTo>
                    <a:pt x="8" y="37"/>
                    <a:pt x="0" y="94"/>
                    <a:pt x="20" y="140"/>
                  </a:cubicBezTo>
                  <a:close/>
                </a:path>
              </a:pathLst>
            </a:custGeom>
            <a:solidFill>
              <a:srgbClr val="4f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2"/>
          <p:cNvGrpSpPr/>
          <p:nvPr/>
        </p:nvGrpSpPr>
        <p:grpSpPr>
          <a:xfrm>
            <a:off x="1082520" y="2662200"/>
            <a:ext cx="3292560" cy="1447920"/>
            <a:chOff x="1082520" y="2662200"/>
            <a:chExt cx="3292560" cy="1447920"/>
          </a:xfrm>
        </p:grpSpPr>
        <p:sp>
          <p:nvSpPr>
            <p:cNvPr id="458" name="文本框 69"/>
            <p:cNvSpPr/>
            <p:nvPr/>
          </p:nvSpPr>
          <p:spPr>
            <a:xfrm>
              <a:off x="1149480" y="2700000"/>
              <a:ext cx="3225600" cy="1410120"/>
            </a:xfrm>
            <a:custGeom>
              <a:avLst/>
              <a:gdLst/>
              <a:ahLst/>
              <a:rect l="l" t="t" r="r" b="b"/>
              <a:pathLst>
                <a:path w="3224510" h="1410296">
                  <a:moveTo>
                    <a:pt x="451842" y="978992"/>
                  </a:moveTo>
                  <a:lnTo>
                    <a:pt x="622995" y="978992"/>
                  </a:lnTo>
                  <a:lnTo>
                    <a:pt x="622995" y="1266528"/>
                  </a:lnTo>
                  <a:lnTo>
                    <a:pt x="1074837" y="1266528"/>
                  </a:lnTo>
                  <a:lnTo>
                    <a:pt x="1074837" y="1410296"/>
                  </a:lnTo>
                  <a:lnTo>
                    <a:pt x="451842" y="1410296"/>
                  </a:lnTo>
                  <a:close/>
                  <a:moveTo>
                    <a:pt x="1376065" y="944761"/>
                  </a:moveTo>
                  <a:lnTo>
                    <a:pt x="1492448" y="1314450"/>
                  </a:lnTo>
                  <a:lnTo>
                    <a:pt x="1362373" y="1410296"/>
                  </a:lnTo>
                  <a:lnTo>
                    <a:pt x="1239143" y="1054299"/>
                  </a:lnTo>
                  <a:close/>
                  <a:moveTo>
                    <a:pt x="116384" y="944761"/>
                  </a:moveTo>
                  <a:lnTo>
                    <a:pt x="253305" y="1054299"/>
                  </a:lnTo>
                  <a:lnTo>
                    <a:pt x="130076" y="1410296"/>
                  </a:lnTo>
                  <a:lnTo>
                    <a:pt x="0" y="1314450"/>
                  </a:lnTo>
                  <a:close/>
                  <a:moveTo>
                    <a:pt x="965299" y="889993"/>
                  </a:moveTo>
                  <a:lnTo>
                    <a:pt x="1040606" y="1095375"/>
                  </a:lnTo>
                  <a:lnTo>
                    <a:pt x="924223" y="1225451"/>
                  </a:lnTo>
                  <a:lnTo>
                    <a:pt x="848916" y="1013222"/>
                  </a:lnTo>
                  <a:close/>
                  <a:moveTo>
                    <a:pt x="88999" y="527150"/>
                  </a:moveTo>
                  <a:lnTo>
                    <a:pt x="219075" y="602457"/>
                  </a:lnTo>
                  <a:lnTo>
                    <a:pt x="136922" y="924223"/>
                  </a:lnTo>
                  <a:lnTo>
                    <a:pt x="6846" y="848916"/>
                  </a:lnTo>
                  <a:close/>
                  <a:moveTo>
                    <a:pt x="1355527" y="27385"/>
                  </a:moveTo>
                  <a:lnTo>
                    <a:pt x="1485602" y="102692"/>
                  </a:lnTo>
                  <a:lnTo>
                    <a:pt x="1430834" y="520304"/>
                  </a:lnTo>
                  <a:lnTo>
                    <a:pt x="1293912" y="451843"/>
                  </a:lnTo>
                  <a:close/>
                  <a:moveTo>
                    <a:pt x="862608" y="27385"/>
                  </a:moveTo>
                  <a:lnTo>
                    <a:pt x="917376" y="451843"/>
                  </a:lnTo>
                  <a:lnTo>
                    <a:pt x="780455" y="527150"/>
                  </a:lnTo>
                  <a:lnTo>
                    <a:pt x="725686" y="109538"/>
                  </a:lnTo>
                  <a:close/>
                  <a:moveTo>
                    <a:pt x="1773138" y="6847"/>
                  </a:moveTo>
                  <a:lnTo>
                    <a:pt x="3210818" y="6847"/>
                  </a:lnTo>
                  <a:lnTo>
                    <a:pt x="3210818" y="150614"/>
                  </a:lnTo>
                  <a:lnTo>
                    <a:pt x="2827437" y="150614"/>
                  </a:lnTo>
                  <a:lnTo>
                    <a:pt x="2827437" y="698302"/>
                  </a:lnTo>
                  <a:lnTo>
                    <a:pt x="3176587" y="314921"/>
                  </a:lnTo>
                  <a:lnTo>
                    <a:pt x="3224510" y="472381"/>
                  </a:lnTo>
                  <a:lnTo>
                    <a:pt x="2827437" y="903685"/>
                  </a:lnTo>
                  <a:lnTo>
                    <a:pt x="2827437" y="1259682"/>
                  </a:lnTo>
                  <a:lnTo>
                    <a:pt x="3224510" y="1259682"/>
                  </a:lnTo>
                  <a:lnTo>
                    <a:pt x="3217664" y="1410296"/>
                  </a:lnTo>
                  <a:lnTo>
                    <a:pt x="2663130" y="1410296"/>
                  </a:lnTo>
                  <a:lnTo>
                    <a:pt x="2663130" y="150614"/>
                  </a:lnTo>
                  <a:lnTo>
                    <a:pt x="2224980" y="150614"/>
                  </a:lnTo>
                  <a:lnTo>
                    <a:pt x="2076518" y="376536"/>
                  </a:lnTo>
                  <a:lnTo>
                    <a:pt x="2423517" y="376536"/>
                  </a:lnTo>
                  <a:lnTo>
                    <a:pt x="2423517" y="800993"/>
                  </a:lnTo>
                  <a:lnTo>
                    <a:pt x="1896368" y="1410296"/>
                  </a:lnTo>
                  <a:lnTo>
                    <a:pt x="1738908" y="1376065"/>
                  </a:lnTo>
                  <a:lnTo>
                    <a:pt x="2005900" y="1056377"/>
                  </a:lnTo>
                  <a:lnTo>
                    <a:pt x="1738908" y="800993"/>
                  </a:lnTo>
                  <a:lnTo>
                    <a:pt x="1889522" y="739379"/>
                  </a:lnTo>
                  <a:lnTo>
                    <a:pt x="2101392" y="942037"/>
                  </a:lnTo>
                  <a:lnTo>
                    <a:pt x="2259211" y="753071"/>
                  </a:lnTo>
                  <a:lnTo>
                    <a:pt x="2259211" y="520304"/>
                  </a:lnTo>
                  <a:lnTo>
                    <a:pt x="1982042" y="520304"/>
                  </a:lnTo>
                  <a:lnTo>
                    <a:pt x="1910060" y="629841"/>
                  </a:lnTo>
                  <a:lnTo>
                    <a:pt x="1752600" y="595611"/>
                  </a:lnTo>
                  <a:lnTo>
                    <a:pt x="2046982" y="150614"/>
                  </a:lnTo>
                  <a:lnTo>
                    <a:pt x="1773138" y="150614"/>
                  </a:lnTo>
                  <a:close/>
                  <a:moveTo>
                    <a:pt x="616148" y="6847"/>
                  </a:moveTo>
                  <a:lnTo>
                    <a:pt x="650379" y="136922"/>
                  </a:lnTo>
                  <a:lnTo>
                    <a:pt x="492919" y="144332"/>
                  </a:lnTo>
                  <a:lnTo>
                    <a:pt x="492919" y="314921"/>
                  </a:lnTo>
                  <a:lnTo>
                    <a:pt x="650379" y="314921"/>
                  </a:lnTo>
                  <a:lnTo>
                    <a:pt x="650379" y="458689"/>
                  </a:lnTo>
                  <a:lnTo>
                    <a:pt x="492919" y="458689"/>
                  </a:lnTo>
                  <a:lnTo>
                    <a:pt x="492919" y="513457"/>
                  </a:lnTo>
                  <a:lnTo>
                    <a:pt x="664071" y="698302"/>
                  </a:lnTo>
                  <a:lnTo>
                    <a:pt x="622995" y="855762"/>
                  </a:lnTo>
                  <a:lnTo>
                    <a:pt x="492919" y="705148"/>
                  </a:lnTo>
                  <a:lnTo>
                    <a:pt x="492919" y="917377"/>
                  </a:lnTo>
                  <a:lnTo>
                    <a:pt x="328612" y="917377"/>
                  </a:lnTo>
                  <a:lnTo>
                    <a:pt x="328612" y="458689"/>
                  </a:lnTo>
                  <a:lnTo>
                    <a:pt x="20538" y="458689"/>
                  </a:lnTo>
                  <a:lnTo>
                    <a:pt x="20538" y="314921"/>
                  </a:lnTo>
                  <a:lnTo>
                    <a:pt x="328612" y="314921"/>
                  </a:lnTo>
                  <a:lnTo>
                    <a:pt x="328612" y="152064"/>
                  </a:lnTo>
                  <a:lnTo>
                    <a:pt x="68461" y="164307"/>
                  </a:lnTo>
                  <a:lnTo>
                    <a:pt x="34230" y="34231"/>
                  </a:lnTo>
                  <a:close/>
                  <a:moveTo>
                    <a:pt x="1020068" y="0"/>
                  </a:moveTo>
                  <a:lnTo>
                    <a:pt x="1191220" y="0"/>
                  </a:lnTo>
                  <a:lnTo>
                    <a:pt x="1191220" y="506611"/>
                  </a:lnTo>
                  <a:lnTo>
                    <a:pt x="1499295" y="821532"/>
                  </a:lnTo>
                  <a:lnTo>
                    <a:pt x="1369219" y="910531"/>
                  </a:lnTo>
                  <a:lnTo>
                    <a:pt x="1102221" y="636687"/>
                  </a:lnTo>
                  <a:lnTo>
                    <a:pt x="821531" y="910531"/>
                  </a:lnTo>
                  <a:lnTo>
                    <a:pt x="705148" y="821532"/>
                  </a:lnTo>
                  <a:lnTo>
                    <a:pt x="1020068" y="506611"/>
                  </a:lnTo>
                  <a:close/>
                </a:path>
              </a:pathLst>
            </a:custGeom>
            <a:solidFill>
              <a:srgbClr val="338f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文本框 73"/>
            <p:cNvSpPr/>
            <p:nvPr/>
          </p:nvSpPr>
          <p:spPr>
            <a:xfrm>
              <a:off x="1082520" y="2662200"/>
              <a:ext cx="3225600" cy="1410120"/>
            </a:xfrm>
            <a:custGeom>
              <a:avLst/>
              <a:gdLst/>
              <a:ahLst/>
              <a:rect l="l" t="t" r="r" b="b"/>
              <a:pathLst>
                <a:path w="3224510" h="1410296">
                  <a:moveTo>
                    <a:pt x="451842" y="978992"/>
                  </a:moveTo>
                  <a:lnTo>
                    <a:pt x="622995" y="978992"/>
                  </a:lnTo>
                  <a:lnTo>
                    <a:pt x="622995" y="1266528"/>
                  </a:lnTo>
                  <a:lnTo>
                    <a:pt x="1074837" y="1266528"/>
                  </a:lnTo>
                  <a:lnTo>
                    <a:pt x="1074837" y="1410296"/>
                  </a:lnTo>
                  <a:lnTo>
                    <a:pt x="451842" y="1410296"/>
                  </a:lnTo>
                  <a:close/>
                  <a:moveTo>
                    <a:pt x="1376065" y="944761"/>
                  </a:moveTo>
                  <a:lnTo>
                    <a:pt x="1492448" y="1314450"/>
                  </a:lnTo>
                  <a:lnTo>
                    <a:pt x="1362373" y="1410296"/>
                  </a:lnTo>
                  <a:lnTo>
                    <a:pt x="1239143" y="1054299"/>
                  </a:lnTo>
                  <a:close/>
                  <a:moveTo>
                    <a:pt x="116384" y="944761"/>
                  </a:moveTo>
                  <a:lnTo>
                    <a:pt x="253305" y="1054299"/>
                  </a:lnTo>
                  <a:lnTo>
                    <a:pt x="130076" y="1410296"/>
                  </a:lnTo>
                  <a:lnTo>
                    <a:pt x="0" y="1314450"/>
                  </a:lnTo>
                  <a:close/>
                  <a:moveTo>
                    <a:pt x="965299" y="889993"/>
                  </a:moveTo>
                  <a:lnTo>
                    <a:pt x="1040606" y="1095375"/>
                  </a:lnTo>
                  <a:lnTo>
                    <a:pt x="924223" y="1225451"/>
                  </a:lnTo>
                  <a:lnTo>
                    <a:pt x="848916" y="1013222"/>
                  </a:lnTo>
                  <a:close/>
                  <a:moveTo>
                    <a:pt x="88999" y="527150"/>
                  </a:moveTo>
                  <a:lnTo>
                    <a:pt x="219075" y="602457"/>
                  </a:lnTo>
                  <a:lnTo>
                    <a:pt x="136922" y="924223"/>
                  </a:lnTo>
                  <a:lnTo>
                    <a:pt x="6846" y="848916"/>
                  </a:lnTo>
                  <a:close/>
                  <a:moveTo>
                    <a:pt x="1355527" y="27385"/>
                  </a:moveTo>
                  <a:lnTo>
                    <a:pt x="1485602" y="102692"/>
                  </a:lnTo>
                  <a:lnTo>
                    <a:pt x="1430834" y="520304"/>
                  </a:lnTo>
                  <a:lnTo>
                    <a:pt x="1293912" y="451843"/>
                  </a:lnTo>
                  <a:close/>
                  <a:moveTo>
                    <a:pt x="862608" y="27385"/>
                  </a:moveTo>
                  <a:lnTo>
                    <a:pt x="917376" y="451843"/>
                  </a:lnTo>
                  <a:lnTo>
                    <a:pt x="780455" y="527150"/>
                  </a:lnTo>
                  <a:lnTo>
                    <a:pt x="725686" y="109538"/>
                  </a:lnTo>
                  <a:close/>
                  <a:moveTo>
                    <a:pt x="1773138" y="6847"/>
                  </a:moveTo>
                  <a:lnTo>
                    <a:pt x="3210818" y="6847"/>
                  </a:lnTo>
                  <a:lnTo>
                    <a:pt x="3210818" y="150614"/>
                  </a:lnTo>
                  <a:lnTo>
                    <a:pt x="2827437" y="150614"/>
                  </a:lnTo>
                  <a:lnTo>
                    <a:pt x="2827437" y="698302"/>
                  </a:lnTo>
                  <a:lnTo>
                    <a:pt x="3176587" y="314921"/>
                  </a:lnTo>
                  <a:lnTo>
                    <a:pt x="3224510" y="472381"/>
                  </a:lnTo>
                  <a:lnTo>
                    <a:pt x="2827437" y="903685"/>
                  </a:lnTo>
                  <a:lnTo>
                    <a:pt x="2827437" y="1259682"/>
                  </a:lnTo>
                  <a:lnTo>
                    <a:pt x="3224510" y="1259682"/>
                  </a:lnTo>
                  <a:lnTo>
                    <a:pt x="3217664" y="1410296"/>
                  </a:lnTo>
                  <a:lnTo>
                    <a:pt x="2663130" y="1410296"/>
                  </a:lnTo>
                  <a:lnTo>
                    <a:pt x="2663130" y="150614"/>
                  </a:lnTo>
                  <a:lnTo>
                    <a:pt x="2224980" y="150614"/>
                  </a:lnTo>
                  <a:lnTo>
                    <a:pt x="2076518" y="376536"/>
                  </a:lnTo>
                  <a:lnTo>
                    <a:pt x="2423517" y="376536"/>
                  </a:lnTo>
                  <a:lnTo>
                    <a:pt x="2423517" y="800993"/>
                  </a:lnTo>
                  <a:lnTo>
                    <a:pt x="1896368" y="1410296"/>
                  </a:lnTo>
                  <a:lnTo>
                    <a:pt x="1738908" y="1376065"/>
                  </a:lnTo>
                  <a:lnTo>
                    <a:pt x="2005900" y="1056377"/>
                  </a:lnTo>
                  <a:lnTo>
                    <a:pt x="1738908" y="800993"/>
                  </a:lnTo>
                  <a:lnTo>
                    <a:pt x="1889522" y="739379"/>
                  </a:lnTo>
                  <a:lnTo>
                    <a:pt x="2101392" y="942037"/>
                  </a:lnTo>
                  <a:lnTo>
                    <a:pt x="2259211" y="753071"/>
                  </a:lnTo>
                  <a:lnTo>
                    <a:pt x="2259211" y="520304"/>
                  </a:lnTo>
                  <a:lnTo>
                    <a:pt x="1982042" y="520304"/>
                  </a:lnTo>
                  <a:lnTo>
                    <a:pt x="1910060" y="629841"/>
                  </a:lnTo>
                  <a:lnTo>
                    <a:pt x="1752600" y="595611"/>
                  </a:lnTo>
                  <a:lnTo>
                    <a:pt x="2046982" y="150614"/>
                  </a:lnTo>
                  <a:lnTo>
                    <a:pt x="1773138" y="150614"/>
                  </a:lnTo>
                  <a:close/>
                  <a:moveTo>
                    <a:pt x="616148" y="6847"/>
                  </a:moveTo>
                  <a:lnTo>
                    <a:pt x="650379" y="136922"/>
                  </a:lnTo>
                  <a:lnTo>
                    <a:pt x="492919" y="144332"/>
                  </a:lnTo>
                  <a:lnTo>
                    <a:pt x="492919" y="314921"/>
                  </a:lnTo>
                  <a:lnTo>
                    <a:pt x="650379" y="314921"/>
                  </a:lnTo>
                  <a:lnTo>
                    <a:pt x="650379" y="458689"/>
                  </a:lnTo>
                  <a:lnTo>
                    <a:pt x="492919" y="458689"/>
                  </a:lnTo>
                  <a:lnTo>
                    <a:pt x="492919" y="513457"/>
                  </a:lnTo>
                  <a:lnTo>
                    <a:pt x="664071" y="698302"/>
                  </a:lnTo>
                  <a:lnTo>
                    <a:pt x="622995" y="855762"/>
                  </a:lnTo>
                  <a:lnTo>
                    <a:pt x="492919" y="705148"/>
                  </a:lnTo>
                  <a:lnTo>
                    <a:pt x="492919" y="917377"/>
                  </a:lnTo>
                  <a:lnTo>
                    <a:pt x="328612" y="917377"/>
                  </a:lnTo>
                  <a:lnTo>
                    <a:pt x="328612" y="458689"/>
                  </a:lnTo>
                  <a:lnTo>
                    <a:pt x="20538" y="458689"/>
                  </a:lnTo>
                  <a:lnTo>
                    <a:pt x="20538" y="314921"/>
                  </a:lnTo>
                  <a:lnTo>
                    <a:pt x="328612" y="314921"/>
                  </a:lnTo>
                  <a:lnTo>
                    <a:pt x="328612" y="152064"/>
                  </a:lnTo>
                  <a:lnTo>
                    <a:pt x="68461" y="164307"/>
                  </a:lnTo>
                  <a:lnTo>
                    <a:pt x="34230" y="34231"/>
                  </a:lnTo>
                  <a:close/>
                  <a:moveTo>
                    <a:pt x="1020068" y="0"/>
                  </a:moveTo>
                  <a:lnTo>
                    <a:pt x="1191220" y="0"/>
                  </a:lnTo>
                  <a:lnTo>
                    <a:pt x="1191220" y="506611"/>
                  </a:lnTo>
                  <a:lnTo>
                    <a:pt x="1499295" y="821532"/>
                  </a:lnTo>
                  <a:lnTo>
                    <a:pt x="1369219" y="910531"/>
                  </a:lnTo>
                  <a:lnTo>
                    <a:pt x="1102221" y="636687"/>
                  </a:lnTo>
                  <a:lnTo>
                    <a:pt x="821531" y="910531"/>
                  </a:lnTo>
                  <a:lnTo>
                    <a:pt x="705148" y="821532"/>
                  </a:lnTo>
                  <a:lnTo>
                    <a:pt x="1020068" y="5066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8199"/>
          <p:cNvSpPr/>
          <p:nvPr/>
        </p:nvSpPr>
        <p:spPr>
          <a:xfrm>
            <a:off x="3968640" y="227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18" dur="125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5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5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28" dur="125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5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5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38" dur="125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5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48" dur="125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5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42">
                                  <p:stCondLst>
                                    <p:cond delay="525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58" dur="125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53" presetSubtype="16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1.66667E-006 1.85185E-006 L -1.66667E-006 0.125 E">
                                      <p:cBhvr>
                                        <p:cTn id="268" dur="125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3" dur="750" fill="hold"/>
                                        <p:tgtEl>
                                          <p:spTgt spid="454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213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47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文本框 215"/>
          <p:cNvSpPr/>
          <p:nvPr/>
        </p:nvSpPr>
        <p:spPr>
          <a:xfrm>
            <a:off x="1125360" y="976320"/>
            <a:ext cx="1311480" cy="407880"/>
          </a:xfrm>
          <a:custGeom>
            <a:avLst/>
            <a:gdLst/>
            <a:ahLst/>
            <a:rect l="l" t="t" r="r" b="b"/>
            <a:pathLst>
              <a:path w="1311362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29369" y="17748"/>
                </a:moveTo>
                <a:lnTo>
                  <a:pt x="1086557" y="17748"/>
                </a:lnTo>
                <a:lnTo>
                  <a:pt x="1086557" y="220861"/>
                </a:lnTo>
                <a:lnTo>
                  <a:pt x="1258118" y="220861"/>
                </a:lnTo>
                <a:lnTo>
                  <a:pt x="1258118" y="17748"/>
                </a:lnTo>
                <a:lnTo>
                  <a:pt x="1311362" y="17748"/>
                </a:lnTo>
                <a:lnTo>
                  <a:pt x="1311362" y="384535"/>
                </a:lnTo>
                <a:lnTo>
                  <a:pt x="1258118" y="384535"/>
                </a:lnTo>
                <a:lnTo>
                  <a:pt x="1258118" y="270161"/>
                </a:lnTo>
                <a:lnTo>
                  <a:pt x="1029369" y="27016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文本框 216"/>
          <p:cNvSpPr/>
          <p:nvPr/>
        </p:nvSpPr>
        <p:spPr>
          <a:xfrm>
            <a:off x="1120680" y="1800360"/>
            <a:ext cx="3460680" cy="412560"/>
          </a:xfrm>
          <a:custGeom>
            <a:avLst/>
            <a:gdLst/>
            <a:ahLst/>
            <a:rect l="l" t="t" r="r" b="b"/>
            <a:pathLst>
              <a:path w="3461147" h="412143">
                <a:moveTo>
                  <a:pt x="2843919" y="333264"/>
                </a:moveTo>
                <a:lnTo>
                  <a:pt x="2950406" y="388479"/>
                </a:lnTo>
                <a:lnTo>
                  <a:pt x="2903078" y="412143"/>
                </a:lnTo>
                <a:lnTo>
                  <a:pt x="2796592" y="356927"/>
                </a:lnTo>
                <a:close/>
                <a:moveTo>
                  <a:pt x="2628974" y="333264"/>
                </a:moveTo>
                <a:lnTo>
                  <a:pt x="2676302" y="356927"/>
                </a:lnTo>
                <a:lnTo>
                  <a:pt x="2571787" y="412143"/>
                </a:lnTo>
                <a:lnTo>
                  <a:pt x="2524460" y="388479"/>
                </a:lnTo>
                <a:close/>
                <a:moveTo>
                  <a:pt x="806536" y="136066"/>
                </a:moveTo>
                <a:lnTo>
                  <a:pt x="946547" y="242553"/>
                </a:lnTo>
                <a:lnTo>
                  <a:pt x="911051" y="272133"/>
                </a:lnTo>
                <a:lnTo>
                  <a:pt x="769069" y="165646"/>
                </a:lnTo>
                <a:close/>
                <a:moveTo>
                  <a:pt x="3039144" y="118319"/>
                </a:moveTo>
                <a:lnTo>
                  <a:pt x="3078584" y="149870"/>
                </a:lnTo>
                <a:lnTo>
                  <a:pt x="3060836" y="412143"/>
                </a:lnTo>
                <a:lnTo>
                  <a:pt x="3023369" y="384535"/>
                </a:lnTo>
                <a:close/>
                <a:moveTo>
                  <a:pt x="1918506" y="110431"/>
                </a:moveTo>
                <a:lnTo>
                  <a:pt x="1918506" y="212973"/>
                </a:lnTo>
                <a:lnTo>
                  <a:pt x="2084151" y="212973"/>
                </a:lnTo>
                <a:lnTo>
                  <a:pt x="2084151" y="110431"/>
                </a:lnTo>
                <a:close/>
                <a:moveTo>
                  <a:pt x="1575606" y="110431"/>
                </a:moveTo>
                <a:lnTo>
                  <a:pt x="1575606" y="212973"/>
                </a:lnTo>
                <a:lnTo>
                  <a:pt x="1741252" y="212973"/>
                </a:lnTo>
                <a:lnTo>
                  <a:pt x="1741252" y="110431"/>
                </a:lnTo>
                <a:close/>
                <a:moveTo>
                  <a:pt x="3313249" y="102543"/>
                </a:moveTo>
                <a:lnTo>
                  <a:pt x="3350716" y="132122"/>
                </a:lnTo>
                <a:lnTo>
                  <a:pt x="3279725" y="412143"/>
                </a:lnTo>
                <a:lnTo>
                  <a:pt x="3244230" y="382563"/>
                </a:lnTo>
                <a:close/>
                <a:moveTo>
                  <a:pt x="2190415" y="65075"/>
                </a:moveTo>
                <a:lnTo>
                  <a:pt x="2464519" y="65075"/>
                </a:lnTo>
                <a:lnTo>
                  <a:pt x="2464519" y="108459"/>
                </a:lnTo>
                <a:lnTo>
                  <a:pt x="2352117" y="108459"/>
                </a:lnTo>
                <a:lnTo>
                  <a:pt x="2352117" y="382563"/>
                </a:lnTo>
                <a:lnTo>
                  <a:pt x="2302817" y="382563"/>
                </a:lnTo>
                <a:lnTo>
                  <a:pt x="2302817" y="108459"/>
                </a:lnTo>
                <a:lnTo>
                  <a:pt x="2190415" y="108459"/>
                </a:lnTo>
                <a:close/>
                <a:moveTo>
                  <a:pt x="1867235" y="65075"/>
                </a:moveTo>
                <a:lnTo>
                  <a:pt x="2135423" y="65075"/>
                </a:lnTo>
                <a:lnTo>
                  <a:pt x="2135423" y="258329"/>
                </a:lnTo>
                <a:lnTo>
                  <a:pt x="1918506" y="258329"/>
                </a:lnTo>
                <a:lnTo>
                  <a:pt x="1918506" y="382563"/>
                </a:lnTo>
                <a:lnTo>
                  <a:pt x="1867235" y="382563"/>
                </a:lnTo>
                <a:close/>
                <a:moveTo>
                  <a:pt x="1524335" y="65075"/>
                </a:moveTo>
                <a:lnTo>
                  <a:pt x="1792523" y="65075"/>
                </a:lnTo>
                <a:lnTo>
                  <a:pt x="1792523" y="258329"/>
                </a:lnTo>
                <a:lnTo>
                  <a:pt x="1575606" y="258329"/>
                </a:lnTo>
                <a:lnTo>
                  <a:pt x="1575606" y="382563"/>
                </a:lnTo>
                <a:lnTo>
                  <a:pt x="1524335" y="382563"/>
                </a:lnTo>
                <a:close/>
                <a:moveTo>
                  <a:pt x="1293614" y="15776"/>
                </a:moveTo>
                <a:lnTo>
                  <a:pt x="1340941" y="15776"/>
                </a:lnTo>
                <a:lnTo>
                  <a:pt x="1340941" y="319460"/>
                </a:lnTo>
                <a:lnTo>
                  <a:pt x="1293614" y="319460"/>
                </a:lnTo>
                <a:close/>
                <a:moveTo>
                  <a:pt x="1013594" y="13804"/>
                </a:moveTo>
                <a:lnTo>
                  <a:pt x="1248259" y="13804"/>
                </a:lnTo>
                <a:lnTo>
                  <a:pt x="1248259" y="57188"/>
                </a:lnTo>
                <a:lnTo>
                  <a:pt x="1110220" y="57188"/>
                </a:lnTo>
                <a:lnTo>
                  <a:pt x="1074725" y="140010"/>
                </a:lnTo>
                <a:lnTo>
                  <a:pt x="1191071" y="140010"/>
                </a:lnTo>
                <a:lnTo>
                  <a:pt x="1181211" y="106487"/>
                </a:lnTo>
                <a:lnTo>
                  <a:pt x="1218679" y="80851"/>
                </a:lnTo>
                <a:lnTo>
                  <a:pt x="1248259" y="179450"/>
                </a:lnTo>
                <a:lnTo>
                  <a:pt x="1157548" y="179450"/>
                </a:lnTo>
                <a:lnTo>
                  <a:pt x="1157548" y="246497"/>
                </a:lnTo>
                <a:lnTo>
                  <a:pt x="1246287" y="246497"/>
                </a:lnTo>
                <a:lnTo>
                  <a:pt x="1246287" y="287908"/>
                </a:lnTo>
                <a:lnTo>
                  <a:pt x="1157548" y="287908"/>
                </a:lnTo>
                <a:lnTo>
                  <a:pt x="1157548" y="356139"/>
                </a:lnTo>
                <a:lnTo>
                  <a:pt x="1240371" y="345096"/>
                </a:lnTo>
                <a:lnTo>
                  <a:pt x="1258118" y="382563"/>
                </a:lnTo>
                <a:lnTo>
                  <a:pt x="1019510" y="412143"/>
                </a:lnTo>
                <a:lnTo>
                  <a:pt x="1003734" y="376647"/>
                </a:lnTo>
                <a:lnTo>
                  <a:pt x="1108248" y="362712"/>
                </a:lnTo>
                <a:lnTo>
                  <a:pt x="1108248" y="287908"/>
                </a:lnTo>
                <a:lnTo>
                  <a:pt x="1019510" y="287908"/>
                </a:lnTo>
                <a:lnTo>
                  <a:pt x="1019510" y="246497"/>
                </a:lnTo>
                <a:lnTo>
                  <a:pt x="1108248" y="246497"/>
                </a:lnTo>
                <a:lnTo>
                  <a:pt x="1108248" y="179450"/>
                </a:lnTo>
                <a:lnTo>
                  <a:pt x="1011622" y="179450"/>
                </a:lnTo>
                <a:lnTo>
                  <a:pt x="1062893" y="57188"/>
                </a:lnTo>
                <a:lnTo>
                  <a:pt x="1013594" y="57188"/>
                </a:lnTo>
                <a:close/>
                <a:moveTo>
                  <a:pt x="516657" y="13804"/>
                </a:moveTo>
                <a:lnTo>
                  <a:pt x="938659" y="13804"/>
                </a:lnTo>
                <a:lnTo>
                  <a:pt x="938659" y="57188"/>
                </a:lnTo>
                <a:lnTo>
                  <a:pt x="794705" y="57188"/>
                </a:lnTo>
                <a:lnTo>
                  <a:pt x="749349" y="98519"/>
                </a:lnTo>
                <a:lnTo>
                  <a:pt x="749349" y="412143"/>
                </a:lnTo>
                <a:lnTo>
                  <a:pt x="700050" y="412143"/>
                </a:lnTo>
                <a:lnTo>
                  <a:pt x="700050" y="143445"/>
                </a:lnTo>
                <a:lnTo>
                  <a:pt x="550180" y="280020"/>
                </a:lnTo>
                <a:lnTo>
                  <a:pt x="512713" y="256357"/>
                </a:lnTo>
                <a:lnTo>
                  <a:pt x="731602" y="57188"/>
                </a:lnTo>
                <a:lnTo>
                  <a:pt x="516657" y="57188"/>
                </a:lnTo>
                <a:close/>
                <a:moveTo>
                  <a:pt x="299740" y="5916"/>
                </a:moveTo>
                <a:lnTo>
                  <a:pt x="309969" y="101173"/>
                </a:lnTo>
                <a:lnTo>
                  <a:pt x="431862" y="86767"/>
                </a:lnTo>
                <a:lnTo>
                  <a:pt x="443694" y="126207"/>
                </a:lnTo>
                <a:lnTo>
                  <a:pt x="314423" y="142659"/>
                </a:lnTo>
                <a:lnTo>
                  <a:pt x="324785" y="239147"/>
                </a:lnTo>
                <a:lnTo>
                  <a:pt x="398338" y="155786"/>
                </a:lnTo>
                <a:lnTo>
                  <a:pt x="439750" y="175506"/>
                </a:lnTo>
                <a:lnTo>
                  <a:pt x="331152" y="298446"/>
                </a:lnTo>
                <a:lnTo>
                  <a:pt x="331291" y="299740"/>
                </a:lnTo>
                <a:lnTo>
                  <a:pt x="443694" y="382563"/>
                </a:lnTo>
                <a:lnTo>
                  <a:pt x="410170" y="412143"/>
                </a:lnTo>
                <a:lnTo>
                  <a:pt x="299867" y="333863"/>
                </a:lnTo>
                <a:lnTo>
                  <a:pt x="230720" y="412143"/>
                </a:lnTo>
                <a:lnTo>
                  <a:pt x="191281" y="390451"/>
                </a:lnTo>
                <a:lnTo>
                  <a:pt x="283449" y="285994"/>
                </a:lnTo>
                <a:lnTo>
                  <a:pt x="267893" y="148581"/>
                </a:lnTo>
                <a:lnTo>
                  <a:pt x="226777" y="153814"/>
                </a:lnTo>
                <a:lnTo>
                  <a:pt x="214945" y="112403"/>
                </a:lnTo>
                <a:lnTo>
                  <a:pt x="263153" y="106705"/>
                </a:lnTo>
                <a:lnTo>
                  <a:pt x="252412" y="11832"/>
                </a:lnTo>
                <a:close/>
                <a:moveTo>
                  <a:pt x="65075" y="5916"/>
                </a:moveTo>
                <a:lnTo>
                  <a:pt x="112402" y="5916"/>
                </a:lnTo>
                <a:lnTo>
                  <a:pt x="112402" y="67047"/>
                </a:lnTo>
                <a:lnTo>
                  <a:pt x="197197" y="67047"/>
                </a:lnTo>
                <a:lnTo>
                  <a:pt x="197197" y="110431"/>
                </a:lnTo>
                <a:lnTo>
                  <a:pt x="112402" y="110431"/>
                </a:lnTo>
                <a:lnTo>
                  <a:pt x="112402" y="230050"/>
                </a:lnTo>
                <a:lnTo>
                  <a:pt x="191281" y="212973"/>
                </a:lnTo>
                <a:lnTo>
                  <a:pt x="209029" y="252413"/>
                </a:lnTo>
                <a:lnTo>
                  <a:pt x="112402" y="273332"/>
                </a:lnTo>
                <a:lnTo>
                  <a:pt x="112402" y="412143"/>
                </a:lnTo>
                <a:lnTo>
                  <a:pt x="3944" y="412143"/>
                </a:lnTo>
                <a:lnTo>
                  <a:pt x="3944" y="368759"/>
                </a:lnTo>
                <a:lnTo>
                  <a:pt x="65075" y="368759"/>
                </a:lnTo>
                <a:lnTo>
                  <a:pt x="65075" y="283578"/>
                </a:lnTo>
                <a:lnTo>
                  <a:pt x="17748" y="293824"/>
                </a:lnTo>
                <a:lnTo>
                  <a:pt x="0" y="254385"/>
                </a:lnTo>
                <a:lnTo>
                  <a:pt x="65075" y="240296"/>
                </a:lnTo>
                <a:lnTo>
                  <a:pt x="65075" y="110431"/>
                </a:lnTo>
                <a:lnTo>
                  <a:pt x="3944" y="110431"/>
                </a:lnTo>
                <a:lnTo>
                  <a:pt x="3944" y="67047"/>
                </a:lnTo>
                <a:lnTo>
                  <a:pt x="65075" y="67047"/>
                </a:lnTo>
                <a:close/>
                <a:moveTo>
                  <a:pt x="3392128" y="3944"/>
                </a:moveTo>
                <a:lnTo>
                  <a:pt x="3439455" y="3944"/>
                </a:lnTo>
                <a:lnTo>
                  <a:pt x="3439455" y="45356"/>
                </a:lnTo>
                <a:lnTo>
                  <a:pt x="3461147" y="45356"/>
                </a:lnTo>
                <a:lnTo>
                  <a:pt x="3461147" y="88739"/>
                </a:lnTo>
                <a:lnTo>
                  <a:pt x="3439455" y="88739"/>
                </a:lnTo>
                <a:lnTo>
                  <a:pt x="3439455" y="412143"/>
                </a:lnTo>
                <a:lnTo>
                  <a:pt x="3350716" y="412143"/>
                </a:lnTo>
                <a:lnTo>
                  <a:pt x="3350716" y="370731"/>
                </a:lnTo>
                <a:lnTo>
                  <a:pt x="3392128" y="370731"/>
                </a:lnTo>
                <a:lnTo>
                  <a:pt x="3392128" y="88739"/>
                </a:lnTo>
                <a:lnTo>
                  <a:pt x="3261977" y="88739"/>
                </a:lnTo>
                <a:lnTo>
                  <a:pt x="3261977" y="45356"/>
                </a:lnTo>
                <a:lnTo>
                  <a:pt x="3392128" y="45356"/>
                </a:lnTo>
                <a:close/>
                <a:moveTo>
                  <a:pt x="3131827" y="3944"/>
                </a:moveTo>
                <a:lnTo>
                  <a:pt x="3179155" y="3944"/>
                </a:lnTo>
                <a:lnTo>
                  <a:pt x="3179155" y="47328"/>
                </a:lnTo>
                <a:lnTo>
                  <a:pt x="3222538" y="47328"/>
                </a:lnTo>
                <a:lnTo>
                  <a:pt x="3222538" y="90711"/>
                </a:lnTo>
                <a:lnTo>
                  <a:pt x="3179155" y="90711"/>
                </a:lnTo>
                <a:lnTo>
                  <a:pt x="3179155" y="185366"/>
                </a:lnTo>
                <a:lnTo>
                  <a:pt x="3234370" y="226777"/>
                </a:lnTo>
                <a:lnTo>
                  <a:pt x="3224510" y="272133"/>
                </a:lnTo>
                <a:lnTo>
                  <a:pt x="3179155" y="238609"/>
                </a:lnTo>
                <a:lnTo>
                  <a:pt x="3179155" y="412143"/>
                </a:lnTo>
                <a:lnTo>
                  <a:pt x="3131827" y="412143"/>
                </a:lnTo>
                <a:lnTo>
                  <a:pt x="3131827" y="88739"/>
                </a:lnTo>
                <a:lnTo>
                  <a:pt x="3023369" y="88739"/>
                </a:lnTo>
                <a:lnTo>
                  <a:pt x="3023369" y="47328"/>
                </a:lnTo>
                <a:lnTo>
                  <a:pt x="3131827" y="47328"/>
                </a:lnTo>
                <a:close/>
                <a:moveTo>
                  <a:pt x="2713769" y="3944"/>
                </a:moveTo>
                <a:lnTo>
                  <a:pt x="2761096" y="3944"/>
                </a:lnTo>
                <a:lnTo>
                  <a:pt x="2761096" y="21692"/>
                </a:lnTo>
                <a:lnTo>
                  <a:pt x="2944490" y="21692"/>
                </a:lnTo>
                <a:lnTo>
                  <a:pt x="2944490" y="59159"/>
                </a:lnTo>
                <a:lnTo>
                  <a:pt x="2761096" y="59159"/>
                </a:lnTo>
                <a:lnTo>
                  <a:pt x="2761096" y="78879"/>
                </a:lnTo>
                <a:lnTo>
                  <a:pt x="2934630" y="78879"/>
                </a:lnTo>
                <a:lnTo>
                  <a:pt x="2934630" y="118319"/>
                </a:lnTo>
                <a:lnTo>
                  <a:pt x="2761096" y="118319"/>
                </a:lnTo>
                <a:lnTo>
                  <a:pt x="2761096" y="143954"/>
                </a:lnTo>
                <a:lnTo>
                  <a:pt x="2946462" y="143954"/>
                </a:lnTo>
                <a:lnTo>
                  <a:pt x="2946462" y="179450"/>
                </a:lnTo>
                <a:lnTo>
                  <a:pt x="2776872" y="179450"/>
                </a:lnTo>
                <a:lnTo>
                  <a:pt x="2735461" y="209029"/>
                </a:lnTo>
                <a:lnTo>
                  <a:pt x="2842127" y="209029"/>
                </a:lnTo>
                <a:lnTo>
                  <a:pt x="2901106" y="195226"/>
                </a:lnTo>
                <a:lnTo>
                  <a:pt x="2952378" y="214945"/>
                </a:lnTo>
                <a:lnTo>
                  <a:pt x="2699965" y="276076"/>
                </a:lnTo>
                <a:lnTo>
                  <a:pt x="2873499" y="276076"/>
                </a:lnTo>
                <a:lnTo>
                  <a:pt x="2865611" y="260301"/>
                </a:lnTo>
                <a:lnTo>
                  <a:pt x="2916882" y="252413"/>
                </a:lnTo>
                <a:lnTo>
                  <a:pt x="2946462" y="311572"/>
                </a:lnTo>
                <a:lnTo>
                  <a:pt x="2763068" y="311572"/>
                </a:lnTo>
                <a:lnTo>
                  <a:pt x="2763068" y="412143"/>
                </a:lnTo>
                <a:lnTo>
                  <a:pt x="2690105" y="412143"/>
                </a:lnTo>
                <a:lnTo>
                  <a:pt x="2690105" y="372703"/>
                </a:lnTo>
                <a:lnTo>
                  <a:pt x="2715741" y="372703"/>
                </a:lnTo>
                <a:lnTo>
                  <a:pt x="2715741" y="313544"/>
                </a:lnTo>
                <a:lnTo>
                  <a:pt x="2530376" y="313544"/>
                </a:lnTo>
                <a:lnTo>
                  <a:pt x="2530376" y="281992"/>
                </a:lnTo>
                <a:lnTo>
                  <a:pt x="2690464" y="244525"/>
                </a:lnTo>
                <a:lnTo>
                  <a:pt x="2536291" y="244525"/>
                </a:lnTo>
                <a:lnTo>
                  <a:pt x="2536291" y="207057"/>
                </a:lnTo>
                <a:lnTo>
                  <a:pt x="2668414" y="207057"/>
                </a:lnTo>
                <a:lnTo>
                  <a:pt x="2707853" y="179450"/>
                </a:lnTo>
                <a:lnTo>
                  <a:pt x="2528404" y="179450"/>
                </a:lnTo>
                <a:lnTo>
                  <a:pt x="2528404" y="143954"/>
                </a:lnTo>
                <a:lnTo>
                  <a:pt x="2713769" y="143954"/>
                </a:lnTo>
                <a:lnTo>
                  <a:pt x="2713769" y="118319"/>
                </a:lnTo>
                <a:lnTo>
                  <a:pt x="2540235" y="118319"/>
                </a:lnTo>
                <a:lnTo>
                  <a:pt x="2540235" y="78879"/>
                </a:lnTo>
                <a:lnTo>
                  <a:pt x="2713769" y="78879"/>
                </a:lnTo>
                <a:lnTo>
                  <a:pt x="2713769" y="59159"/>
                </a:lnTo>
                <a:lnTo>
                  <a:pt x="2530376" y="59159"/>
                </a:lnTo>
                <a:lnTo>
                  <a:pt x="2530376" y="21692"/>
                </a:lnTo>
                <a:lnTo>
                  <a:pt x="2713769" y="21692"/>
                </a:lnTo>
                <a:close/>
                <a:moveTo>
                  <a:pt x="1392213" y="3944"/>
                </a:moveTo>
                <a:lnTo>
                  <a:pt x="1441512" y="3944"/>
                </a:lnTo>
                <a:lnTo>
                  <a:pt x="1441512" y="412143"/>
                </a:lnTo>
                <a:lnTo>
                  <a:pt x="1303474" y="412143"/>
                </a:lnTo>
                <a:lnTo>
                  <a:pt x="1303474" y="368759"/>
                </a:lnTo>
                <a:lnTo>
                  <a:pt x="1392213" y="368759"/>
                </a:lnTo>
                <a:close/>
                <a:moveTo>
                  <a:pt x="392422" y="0"/>
                </a:moveTo>
                <a:lnTo>
                  <a:pt x="439750" y="45356"/>
                </a:lnTo>
                <a:lnTo>
                  <a:pt x="392422" y="61131"/>
                </a:lnTo>
                <a:lnTo>
                  <a:pt x="345095" y="157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4" name="组合 212"/>
          <p:cNvGrpSpPr/>
          <p:nvPr/>
        </p:nvGrpSpPr>
        <p:grpSpPr>
          <a:xfrm>
            <a:off x="5680080" y="539640"/>
            <a:ext cx="5738760" cy="5688000"/>
            <a:chOff x="5680080" y="539640"/>
            <a:chExt cx="5738760" cy="5688000"/>
          </a:xfrm>
        </p:grpSpPr>
        <p:grpSp>
          <p:nvGrpSpPr>
            <p:cNvPr id="465" name="组合 204"/>
            <p:cNvGrpSpPr/>
            <p:nvPr/>
          </p:nvGrpSpPr>
          <p:grpSpPr>
            <a:xfrm>
              <a:off x="6775920" y="701280"/>
              <a:ext cx="1338120" cy="1336680"/>
              <a:chOff x="6775920" y="701280"/>
              <a:chExt cx="1338120" cy="1336680"/>
            </a:xfrm>
          </p:grpSpPr>
          <p:sp>
            <p:nvSpPr>
              <p:cNvPr id="466" name="Oval 31"/>
              <p:cNvSpPr/>
              <p:nvPr/>
            </p:nvSpPr>
            <p:spPr>
              <a:xfrm>
                <a:off x="6801120" y="786960"/>
                <a:ext cx="1227240" cy="1229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38"/>
              <p:cNvSpPr/>
              <p:nvPr/>
            </p:nvSpPr>
            <p:spPr>
              <a:xfrm>
                <a:off x="6775920" y="764640"/>
                <a:ext cx="1273320" cy="1273320"/>
              </a:xfrm>
              <a:custGeom>
                <a:avLst/>
                <a:gdLst/>
                <a:ahLst/>
                <a:rect l="l" t="t" r="r" b="b"/>
                <a:pathLst>
                  <a:path w="682" h="682">
                    <a:moveTo>
                      <a:pt x="623" y="234"/>
                    </a:moveTo>
                    <a:cubicBezTo>
                      <a:pt x="682" y="390"/>
                      <a:pt x="604" y="564"/>
                      <a:pt x="448" y="623"/>
                    </a:cubicBezTo>
                    <a:cubicBezTo>
                      <a:pt x="292" y="682"/>
                      <a:pt x="118" y="604"/>
                      <a:pt x="59" y="448"/>
                    </a:cubicBezTo>
                    <a:cubicBezTo>
                      <a:pt x="0" y="292"/>
                      <a:pt x="78" y="118"/>
                      <a:pt x="234" y="59"/>
                    </a:cubicBezTo>
                    <a:cubicBezTo>
                      <a:pt x="390" y="0"/>
                      <a:pt x="564" y="78"/>
                      <a:pt x="623" y="234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39"/>
              <p:cNvSpPr/>
              <p:nvPr/>
            </p:nvSpPr>
            <p:spPr>
              <a:xfrm>
                <a:off x="6894720" y="891720"/>
                <a:ext cx="1042920" cy="1042920"/>
              </a:xfrm>
              <a:custGeom>
                <a:avLst/>
                <a:gdLst/>
                <a:ahLst/>
                <a:rect l="l" t="t" r="r" b="b"/>
                <a:pathLst>
                  <a:path w="559" h="559">
                    <a:moveTo>
                      <a:pt x="510" y="192"/>
                    </a:moveTo>
                    <a:cubicBezTo>
                      <a:pt x="559" y="319"/>
                      <a:pt x="494" y="462"/>
                      <a:pt x="367" y="510"/>
                    </a:cubicBezTo>
                    <a:cubicBezTo>
                      <a:pt x="239" y="559"/>
                      <a:pt x="97" y="495"/>
                      <a:pt x="49" y="367"/>
                    </a:cubicBezTo>
                    <a:cubicBezTo>
                      <a:pt x="0" y="239"/>
                      <a:pt x="64" y="97"/>
                      <a:pt x="192" y="49"/>
                    </a:cubicBezTo>
                    <a:cubicBezTo>
                      <a:pt x="319" y="0"/>
                      <a:pt x="462" y="64"/>
                      <a:pt x="510" y="19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40"/>
              <p:cNvSpPr/>
              <p:nvPr/>
            </p:nvSpPr>
            <p:spPr>
              <a:xfrm>
                <a:off x="7005960" y="996480"/>
                <a:ext cx="811080" cy="809640"/>
              </a:xfrm>
              <a:custGeom>
                <a:avLst/>
                <a:gdLst/>
                <a:ahLst/>
                <a:rect l="l" t="t" r="r" b="b"/>
                <a:pathLst>
                  <a:path w="434" h="434">
                    <a:moveTo>
                      <a:pt x="397" y="149"/>
                    </a:moveTo>
                    <a:cubicBezTo>
                      <a:pt x="434" y="248"/>
                      <a:pt x="384" y="359"/>
                      <a:pt x="285" y="397"/>
                    </a:cubicBezTo>
                    <a:cubicBezTo>
                      <a:pt x="186" y="434"/>
                      <a:pt x="75" y="384"/>
                      <a:pt x="37" y="285"/>
                    </a:cubicBezTo>
                    <a:cubicBezTo>
                      <a:pt x="0" y="186"/>
                      <a:pt x="50" y="75"/>
                      <a:pt x="149" y="37"/>
                    </a:cubicBezTo>
                    <a:cubicBezTo>
                      <a:pt x="248" y="0"/>
                      <a:pt x="359" y="50"/>
                      <a:pt x="397" y="149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41"/>
              <p:cNvSpPr/>
              <p:nvPr/>
            </p:nvSpPr>
            <p:spPr>
              <a:xfrm>
                <a:off x="7121880" y="1112400"/>
                <a:ext cx="579240" cy="577800"/>
              </a:xfrm>
              <a:custGeom>
                <a:avLst/>
                <a:gdLst/>
                <a:ahLst/>
                <a:rect l="l" t="t" r="r" b="b"/>
                <a:pathLst>
                  <a:path w="310" h="310">
                    <a:moveTo>
                      <a:pt x="283" y="106"/>
                    </a:moveTo>
                    <a:cubicBezTo>
                      <a:pt x="310" y="177"/>
                      <a:pt x="274" y="256"/>
                      <a:pt x="204" y="283"/>
                    </a:cubicBezTo>
                    <a:cubicBezTo>
                      <a:pt x="133" y="310"/>
                      <a:pt x="54" y="275"/>
                      <a:pt x="27" y="204"/>
                    </a:cubicBezTo>
                    <a:cubicBezTo>
                      <a:pt x="0" y="133"/>
                      <a:pt x="36" y="54"/>
                      <a:pt x="106" y="27"/>
                    </a:cubicBezTo>
                    <a:cubicBezTo>
                      <a:pt x="177" y="0"/>
                      <a:pt x="256" y="36"/>
                      <a:pt x="283" y="106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42"/>
              <p:cNvSpPr/>
              <p:nvPr/>
            </p:nvSpPr>
            <p:spPr>
              <a:xfrm>
                <a:off x="7237800" y="1228320"/>
                <a:ext cx="347400" cy="345960"/>
              </a:xfrm>
              <a:custGeom>
                <a:avLst/>
                <a:gdLst/>
                <a:ahLst/>
                <a:rect l="l" t="t" r="r" b="b"/>
                <a:pathLst>
                  <a:path w="186" h="186">
                    <a:moveTo>
                      <a:pt x="170" y="64"/>
                    </a:moveTo>
                    <a:cubicBezTo>
                      <a:pt x="186" y="106"/>
                      <a:pt x="165" y="154"/>
                      <a:pt x="122" y="170"/>
                    </a:cubicBezTo>
                    <a:cubicBezTo>
                      <a:pt x="80" y="186"/>
                      <a:pt x="32" y="165"/>
                      <a:pt x="16" y="122"/>
                    </a:cubicBezTo>
                    <a:cubicBezTo>
                      <a:pt x="0" y="80"/>
                      <a:pt x="21" y="32"/>
                      <a:pt x="64" y="16"/>
                    </a:cubicBezTo>
                    <a:cubicBezTo>
                      <a:pt x="106" y="0"/>
                      <a:pt x="154" y="21"/>
                      <a:pt x="170" y="64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43"/>
              <p:cNvSpPr/>
              <p:nvPr/>
            </p:nvSpPr>
            <p:spPr>
              <a:xfrm>
                <a:off x="7322040" y="1306080"/>
                <a:ext cx="174600" cy="17280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85" y="32"/>
                    </a:moveTo>
                    <a:cubicBezTo>
                      <a:pt x="93" y="53"/>
                      <a:pt x="82" y="77"/>
                      <a:pt x="61" y="85"/>
                    </a:cubicBezTo>
                    <a:cubicBezTo>
                      <a:pt x="40" y="93"/>
                      <a:pt x="16" y="83"/>
                      <a:pt x="8" y="61"/>
                    </a:cubicBezTo>
                    <a:cubicBezTo>
                      <a:pt x="0" y="40"/>
                      <a:pt x="11" y="16"/>
                      <a:pt x="32" y="8"/>
                    </a:cubicBezTo>
                    <a:cubicBezTo>
                      <a:pt x="53" y="0"/>
                      <a:pt x="77" y="11"/>
                      <a:pt x="85" y="3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44"/>
              <p:cNvSpPr/>
              <p:nvPr/>
            </p:nvSpPr>
            <p:spPr>
              <a:xfrm>
                <a:off x="7744320" y="1010880"/>
                <a:ext cx="188640" cy="218880"/>
              </a:xfrm>
              <a:custGeom>
                <a:avLst/>
                <a:gdLst/>
                <a:ahLst/>
                <a:rect l="l" t="t" r="r" b="b"/>
                <a:pathLst>
                  <a:path w="101" h="117">
                    <a:moveTo>
                      <a:pt x="51" y="117"/>
                    </a:moveTo>
                    <a:cubicBezTo>
                      <a:pt x="101" y="94"/>
                      <a:pt x="101" y="94"/>
                      <a:pt x="101" y="94"/>
                    </a:cubicBezTo>
                    <a:cubicBezTo>
                      <a:pt x="86" y="58"/>
                      <a:pt x="65" y="27"/>
                      <a:pt x="40" y="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21" y="63"/>
                      <a:pt x="39" y="89"/>
                      <a:pt x="51" y="117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45"/>
              <p:cNvSpPr/>
              <p:nvPr/>
            </p:nvSpPr>
            <p:spPr>
              <a:xfrm>
                <a:off x="7679160" y="1090080"/>
                <a:ext cx="160200" cy="183960"/>
              </a:xfrm>
              <a:custGeom>
                <a:avLst/>
                <a:gdLst/>
                <a:ahLst/>
                <a:rect l="l" t="t" r="r" b="b"/>
                <a:pathLst>
                  <a:path w="86" h="99">
                    <a:moveTo>
                      <a:pt x="35" y="0"/>
                    </a:moveTo>
                    <a:cubicBezTo>
                      <a:pt x="0" y="38"/>
                      <a:pt x="0" y="38"/>
                      <a:pt x="0" y="38"/>
                    </a:cubicBezTo>
                    <a:cubicBezTo>
                      <a:pt x="15" y="56"/>
                      <a:pt x="28" y="76"/>
                      <a:pt x="36" y="99"/>
                    </a:cubicBezTo>
                    <a:cubicBezTo>
                      <a:pt x="86" y="75"/>
                      <a:pt x="86" y="75"/>
                      <a:pt x="86" y="75"/>
                    </a:cubicBezTo>
                    <a:cubicBezTo>
                      <a:pt x="74" y="47"/>
                      <a:pt x="56" y="21"/>
                      <a:pt x="35" y="0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46"/>
              <p:cNvSpPr/>
              <p:nvPr/>
            </p:nvSpPr>
            <p:spPr>
              <a:xfrm>
                <a:off x="7607880" y="1159920"/>
                <a:ext cx="137880" cy="156960"/>
              </a:xfrm>
              <a:custGeom>
                <a:avLst/>
                <a:gdLst/>
                <a:ahLst/>
                <a:rect l="l" t="t" r="r" b="b"/>
                <a:pathLst>
                  <a:path w="74" h="84">
                    <a:moveTo>
                      <a:pt x="23" y="80"/>
                    </a:moveTo>
                    <a:cubicBezTo>
                      <a:pt x="24" y="82"/>
                      <a:pt x="24" y="83"/>
                      <a:pt x="25" y="84"/>
                    </a:cubicBezTo>
                    <a:cubicBezTo>
                      <a:pt x="74" y="61"/>
                      <a:pt x="74" y="61"/>
                      <a:pt x="74" y="61"/>
                    </a:cubicBezTo>
                    <a:cubicBezTo>
                      <a:pt x="66" y="38"/>
                      <a:pt x="53" y="18"/>
                      <a:pt x="38" y="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10" y="52"/>
                      <a:pt x="18" y="65"/>
                      <a:pt x="23" y="80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47"/>
              <p:cNvSpPr/>
              <p:nvPr/>
            </p:nvSpPr>
            <p:spPr>
              <a:xfrm>
                <a:off x="7536240" y="123768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63" h="67">
                    <a:moveTo>
                      <a:pt x="38" y="0"/>
                    </a:moveTo>
                    <a:cubicBezTo>
                      <a:pt x="0" y="40"/>
                      <a:pt x="0" y="40"/>
                      <a:pt x="0" y="40"/>
                    </a:cubicBezTo>
                    <a:cubicBezTo>
                      <a:pt x="4" y="46"/>
                      <a:pt x="7" y="52"/>
                      <a:pt x="10" y="59"/>
                    </a:cubicBezTo>
                    <a:cubicBezTo>
                      <a:pt x="11" y="61"/>
                      <a:pt x="12" y="64"/>
                      <a:pt x="12" y="67"/>
                    </a:cubicBezTo>
                    <a:cubicBezTo>
                      <a:pt x="63" y="43"/>
                      <a:pt x="63" y="43"/>
                      <a:pt x="63" y="43"/>
                    </a:cubicBezTo>
                    <a:cubicBezTo>
                      <a:pt x="62" y="42"/>
                      <a:pt x="62" y="41"/>
                      <a:pt x="61" y="39"/>
                    </a:cubicBezTo>
                    <a:cubicBezTo>
                      <a:pt x="56" y="24"/>
                      <a:pt x="48" y="11"/>
                      <a:pt x="38" y="0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48"/>
              <p:cNvSpPr/>
              <p:nvPr/>
            </p:nvSpPr>
            <p:spPr>
              <a:xfrm>
                <a:off x="7482240" y="1312560"/>
                <a:ext cx="75960" cy="824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" y="45"/>
                    </a:moveTo>
                    <a:cubicBezTo>
                      <a:pt x="41" y="27"/>
                      <a:pt x="41" y="27"/>
                      <a:pt x="41" y="27"/>
                    </a:cubicBezTo>
                    <a:cubicBezTo>
                      <a:pt x="41" y="24"/>
                      <a:pt x="40" y="21"/>
                      <a:pt x="39" y="19"/>
                    </a:cubicBezTo>
                    <a:cubicBezTo>
                      <a:pt x="36" y="12"/>
                      <a:pt x="33" y="6"/>
                      <a:pt x="29" y="0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6"/>
                      <a:pt x="2" y="41"/>
                      <a:pt x="2" y="45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49"/>
              <p:cNvSpPr/>
              <p:nvPr/>
            </p:nvSpPr>
            <p:spPr>
              <a:xfrm>
                <a:off x="7434720" y="136980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27"/>
                    </a:move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0"/>
                      <a:pt x="27" y="5"/>
                      <a:pt x="26" y="0"/>
                    </a:cubicBez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50"/>
              <p:cNvSpPr/>
              <p:nvPr/>
            </p:nvSpPr>
            <p:spPr>
              <a:xfrm>
                <a:off x="7660080" y="701280"/>
                <a:ext cx="253800" cy="433440"/>
              </a:xfrm>
              <a:custGeom>
                <a:avLst/>
                <a:gdLst/>
                <a:ahLst/>
                <a:rect l="l" t="t" r="r" b="b"/>
                <a:pathLst>
                  <a:path w="160" h="273">
                    <a:moveTo>
                      <a:pt x="11" y="273"/>
                    </a:moveTo>
                    <a:lnTo>
                      <a:pt x="0" y="147"/>
                    </a:lnTo>
                    <a:lnTo>
                      <a:pt x="151" y="0"/>
                    </a:lnTo>
                    <a:lnTo>
                      <a:pt x="160" y="126"/>
                    </a:lnTo>
                    <a:lnTo>
                      <a:pt x="11" y="273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51"/>
              <p:cNvSpPr/>
              <p:nvPr/>
            </p:nvSpPr>
            <p:spPr>
              <a:xfrm>
                <a:off x="7677720" y="901080"/>
                <a:ext cx="436320" cy="252360"/>
              </a:xfrm>
              <a:custGeom>
                <a:avLst/>
                <a:gdLst/>
                <a:ahLst/>
                <a:rect l="l" t="t" r="r" b="b"/>
                <a:pathLst>
                  <a:path w="275" h="159">
                    <a:moveTo>
                      <a:pt x="0" y="147"/>
                    </a:moveTo>
                    <a:lnTo>
                      <a:pt x="125" y="159"/>
                    </a:lnTo>
                    <a:lnTo>
                      <a:pt x="275" y="12"/>
                    </a:lnTo>
                    <a:lnTo>
                      <a:pt x="149" y="0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52"/>
              <p:cNvSpPr/>
              <p:nvPr/>
            </p:nvSpPr>
            <p:spPr>
              <a:xfrm>
                <a:off x="7376040" y="845640"/>
                <a:ext cx="601560" cy="581040"/>
              </a:xfrm>
              <a:custGeom>
                <a:avLst/>
                <a:gdLst/>
                <a:ahLst/>
                <a:rect l="l" t="t" r="r" b="b"/>
                <a:pathLst>
                  <a:path w="322" h="312">
                    <a:moveTo>
                      <a:pt x="314" y="8"/>
                    </a:moveTo>
                    <a:cubicBezTo>
                      <a:pt x="322" y="16"/>
                      <a:pt x="322" y="29"/>
                      <a:pt x="314" y="37"/>
                    </a:cubicBezTo>
                    <a:cubicBezTo>
                      <a:pt x="37" y="304"/>
                      <a:pt x="37" y="304"/>
                      <a:pt x="37" y="304"/>
                    </a:cubicBezTo>
                    <a:cubicBezTo>
                      <a:pt x="29" y="312"/>
                      <a:pt x="16" y="312"/>
                      <a:pt x="8" y="303"/>
                    </a:cubicBezTo>
                    <a:cubicBezTo>
                      <a:pt x="8" y="303"/>
                      <a:pt x="8" y="303"/>
                      <a:pt x="8" y="303"/>
                    </a:cubicBezTo>
                    <a:cubicBezTo>
                      <a:pt x="0" y="295"/>
                      <a:pt x="1" y="282"/>
                      <a:pt x="9" y="274"/>
                    </a:cubicBezTo>
                    <a:cubicBezTo>
                      <a:pt x="285" y="8"/>
                      <a:pt x="285" y="8"/>
                      <a:pt x="285" y="8"/>
                    </a:cubicBezTo>
                    <a:cubicBezTo>
                      <a:pt x="293" y="0"/>
                      <a:pt x="306" y="0"/>
                      <a:pt x="314" y="8"/>
                    </a:cubicBez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2" name="组合 205"/>
            <p:cNvGrpSpPr/>
            <p:nvPr/>
          </p:nvGrpSpPr>
          <p:grpSpPr>
            <a:xfrm>
              <a:off x="8518320" y="539640"/>
              <a:ext cx="1226880" cy="1228680"/>
              <a:chOff x="8518320" y="539640"/>
              <a:chExt cx="1226880" cy="1228680"/>
            </a:xfrm>
          </p:grpSpPr>
          <p:sp>
            <p:nvSpPr>
              <p:cNvPr id="483" name="Oval 37"/>
              <p:cNvSpPr/>
              <p:nvPr/>
            </p:nvSpPr>
            <p:spPr>
              <a:xfrm>
                <a:off x="8518320" y="539640"/>
                <a:ext cx="12268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Oval 53"/>
              <p:cNvSpPr/>
              <p:nvPr/>
            </p:nvSpPr>
            <p:spPr>
              <a:xfrm>
                <a:off x="8565840" y="590400"/>
                <a:ext cx="1127160" cy="1127160"/>
              </a:xfrm>
              <a:prstGeom prst="ellipse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54"/>
              <p:cNvSpPr/>
              <p:nvPr/>
            </p:nvSpPr>
            <p:spPr>
              <a:xfrm>
                <a:off x="8621280" y="776160"/>
                <a:ext cx="1071360" cy="941400"/>
              </a:xfrm>
              <a:custGeom>
                <a:avLst/>
                <a:gdLst/>
                <a:ahLst/>
                <a:rect l="l" t="t" r="r" b="b"/>
                <a:pathLst>
                  <a:path w="574" h="504">
                    <a:moveTo>
                      <a:pt x="496" y="0"/>
                    </a:moveTo>
                    <a:cubicBezTo>
                      <a:pt x="0" y="333"/>
                      <a:pt x="0" y="333"/>
                      <a:pt x="0" y="333"/>
                    </a:cubicBezTo>
                    <a:cubicBezTo>
                      <a:pt x="49" y="434"/>
                      <a:pt x="152" y="504"/>
                      <a:pt x="272" y="504"/>
                    </a:cubicBezTo>
                    <a:cubicBezTo>
                      <a:pt x="439" y="504"/>
                      <a:pt x="574" y="369"/>
                      <a:pt x="574" y="202"/>
                    </a:cubicBezTo>
                    <a:cubicBezTo>
                      <a:pt x="574" y="124"/>
                      <a:pt x="544" y="53"/>
                      <a:pt x="496" y="0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55"/>
              <p:cNvSpPr/>
              <p:nvPr/>
            </p:nvSpPr>
            <p:spPr>
              <a:xfrm>
                <a:off x="8714880" y="806400"/>
                <a:ext cx="977760" cy="911160"/>
              </a:xfrm>
              <a:custGeom>
                <a:avLst/>
                <a:gdLst/>
                <a:ahLst/>
                <a:rect l="l" t="t" r="r" b="b"/>
                <a:pathLst>
                  <a:path w="524" h="488">
                    <a:moveTo>
                      <a:pt x="460" y="0"/>
                    </a:moveTo>
                    <a:cubicBezTo>
                      <a:pt x="285" y="243"/>
                      <a:pt x="285" y="243"/>
                      <a:pt x="285" y="243"/>
                    </a:cubicBezTo>
                    <a:cubicBezTo>
                      <a:pt x="224" y="212"/>
                      <a:pt x="224" y="212"/>
                      <a:pt x="224" y="212"/>
                    </a:cubicBezTo>
                    <a:cubicBezTo>
                      <a:pt x="162" y="342"/>
                      <a:pt x="162" y="342"/>
                      <a:pt x="162" y="342"/>
                    </a:cubicBezTo>
                    <a:cubicBezTo>
                      <a:pt x="116" y="205"/>
                      <a:pt x="116" y="205"/>
                      <a:pt x="116" y="205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55" y="450"/>
                      <a:pt x="134" y="488"/>
                      <a:pt x="222" y="488"/>
                    </a:cubicBezTo>
                    <a:cubicBezTo>
                      <a:pt x="389" y="488"/>
                      <a:pt x="524" y="353"/>
                      <a:pt x="524" y="186"/>
                    </a:cubicBezTo>
                    <a:cubicBezTo>
                      <a:pt x="524" y="116"/>
                      <a:pt x="500" y="52"/>
                      <a:pt x="460" y="0"/>
                    </a:cubicBez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56"/>
              <p:cNvSpPr/>
              <p:nvPr/>
            </p:nvSpPr>
            <p:spPr>
              <a:xfrm>
                <a:off x="9550080" y="645840"/>
                <a:ext cx="122040" cy="160200"/>
              </a:xfrm>
              <a:custGeom>
                <a:avLst/>
                <a:gdLst/>
                <a:ahLst/>
                <a:rect l="l" t="t" r="r" b="b"/>
                <a:pathLst>
                  <a:path w="66" h="86">
                    <a:moveTo>
                      <a:pt x="66" y="12"/>
                    </a:moveTo>
                    <a:cubicBezTo>
                      <a:pt x="50" y="0"/>
                      <a:pt x="50" y="0"/>
                      <a:pt x="50" y="0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4" y="76"/>
                      <a:pt x="9" y="81"/>
                      <a:pt x="13" y="86"/>
                    </a:cubicBez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57"/>
              <p:cNvSpPr/>
              <p:nvPr/>
            </p:nvSpPr>
            <p:spPr>
              <a:xfrm>
                <a:off x="8687880" y="776160"/>
                <a:ext cx="885600" cy="758880"/>
              </a:xfrm>
              <a:custGeom>
                <a:avLst/>
                <a:gdLst/>
                <a:ahLst/>
                <a:rect l="l" t="t" r="r" b="b"/>
                <a:pathLst>
                  <a:path w="474" h="406">
                    <a:moveTo>
                      <a:pt x="176" y="358"/>
                    </a:moveTo>
                    <a:cubicBezTo>
                      <a:pt x="238" y="228"/>
                      <a:pt x="238" y="228"/>
                      <a:pt x="238" y="228"/>
                    </a:cubicBezTo>
                    <a:cubicBezTo>
                      <a:pt x="299" y="259"/>
                      <a:pt x="299" y="259"/>
                      <a:pt x="299" y="259"/>
                    </a:cubicBezTo>
                    <a:cubicBezTo>
                      <a:pt x="474" y="16"/>
                      <a:pt x="474" y="16"/>
                      <a:pt x="474" y="16"/>
                    </a:cubicBezTo>
                    <a:cubicBezTo>
                      <a:pt x="470" y="11"/>
                      <a:pt x="465" y="6"/>
                      <a:pt x="461" y="0"/>
                    </a:cubicBezTo>
                    <a:cubicBezTo>
                      <a:pt x="293" y="233"/>
                      <a:pt x="293" y="233"/>
                      <a:pt x="293" y="233"/>
                    </a:cubicBezTo>
                    <a:cubicBezTo>
                      <a:pt x="229" y="201"/>
                      <a:pt x="229" y="201"/>
                      <a:pt x="229" y="201"/>
                    </a:cubicBezTo>
                    <a:cubicBezTo>
                      <a:pt x="179" y="305"/>
                      <a:pt x="179" y="305"/>
                      <a:pt x="179" y="305"/>
                    </a:cubicBezTo>
                    <a:cubicBezTo>
                      <a:pt x="136" y="175"/>
                      <a:pt x="136" y="175"/>
                      <a:pt x="136" y="175"/>
                    </a:cubicBezTo>
                    <a:cubicBezTo>
                      <a:pt x="0" y="390"/>
                      <a:pt x="0" y="390"/>
                      <a:pt x="0" y="390"/>
                    </a:cubicBezTo>
                    <a:cubicBezTo>
                      <a:pt x="5" y="396"/>
                      <a:pt x="9" y="401"/>
                      <a:pt x="14" y="406"/>
                    </a:cubicBezTo>
                    <a:cubicBezTo>
                      <a:pt x="130" y="221"/>
                      <a:pt x="130" y="221"/>
                      <a:pt x="130" y="221"/>
                    </a:cubicBezTo>
                    <a:lnTo>
                      <a:pt x="176" y="358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Oval 58"/>
              <p:cNvSpPr/>
              <p:nvPr/>
            </p:nvSpPr>
            <p:spPr>
              <a:xfrm>
                <a:off x="8876880" y="1090440"/>
                <a:ext cx="107640" cy="10764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Oval 59"/>
              <p:cNvSpPr/>
              <p:nvPr/>
            </p:nvSpPr>
            <p:spPr>
              <a:xfrm>
                <a:off x="8959680" y="1334880"/>
                <a:ext cx="107640" cy="10764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Oval 60"/>
              <p:cNvSpPr/>
              <p:nvPr/>
            </p:nvSpPr>
            <p:spPr>
              <a:xfrm>
                <a:off x="9059400" y="1133280"/>
                <a:ext cx="106200" cy="10764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Oval 61"/>
              <p:cNvSpPr/>
              <p:nvPr/>
            </p:nvSpPr>
            <p:spPr>
              <a:xfrm>
                <a:off x="9191160" y="1176120"/>
                <a:ext cx="107640" cy="106200"/>
              </a:xfrm>
              <a:prstGeom prst="ellipse">
                <a:avLst/>
              </a:pr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62"/>
              <p:cNvSpPr/>
              <p:nvPr/>
            </p:nvSpPr>
            <p:spPr>
              <a:xfrm>
                <a:off x="9526320" y="563400"/>
                <a:ext cx="196560" cy="222120"/>
              </a:xfrm>
              <a:custGeom>
                <a:avLst/>
                <a:gdLst/>
                <a:ahLst/>
                <a:rect l="l" t="t" r="r" b="b"/>
                <a:pathLst>
                  <a:path w="124" h="140">
                    <a:moveTo>
                      <a:pt x="0" y="71"/>
                    </a:moveTo>
                    <a:lnTo>
                      <a:pt x="124" y="0"/>
                    </a:lnTo>
                    <a:lnTo>
                      <a:pt x="97" y="14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4" name="组合 209"/>
            <p:cNvGrpSpPr/>
            <p:nvPr/>
          </p:nvGrpSpPr>
          <p:grpSpPr>
            <a:xfrm>
              <a:off x="9220320" y="4606200"/>
              <a:ext cx="1228680" cy="1312560"/>
              <a:chOff x="9220320" y="4606200"/>
              <a:chExt cx="1228680" cy="1312560"/>
            </a:xfrm>
          </p:grpSpPr>
          <p:sp>
            <p:nvSpPr>
              <p:cNvPr id="495" name="Oval 63"/>
              <p:cNvSpPr/>
              <p:nvPr/>
            </p:nvSpPr>
            <p:spPr>
              <a:xfrm>
                <a:off x="9220320" y="469008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Oval 64"/>
              <p:cNvSpPr/>
              <p:nvPr/>
            </p:nvSpPr>
            <p:spPr>
              <a:xfrm>
                <a:off x="9267840" y="4737960"/>
                <a:ext cx="1125720" cy="1128600"/>
              </a:xfrm>
              <a:prstGeom prst="ellipse">
                <a:avLst/>
              </a:pr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65"/>
              <p:cNvSpPr/>
              <p:nvPr/>
            </p:nvSpPr>
            <p:spPr>
              <a:xfrm>
                <a:off x="9321840" y="5421960"/>
                <a:ext cx="711360" cy="444240"/>
              </a:xfrm>
              <a:custGeom>
                <a:avLst/>
                <a:gdLst/>
                <a:ahLst/>
                <a:rect l="l" t="t" r="r" b="b"/>
                <a:pathLst>
                  <a:path w="381" h="238">
                    <a:moveTo>
                      <a:pt x="272" y="238"/>
                    </a:moveTo>
                    <a:cubicBezTo>
                      <a:pt x="311" y="238"/>
                      <a:pt x="347" y="230"/>
                      <a:pt x="381" y="217"/>
                    </a:cubicBezTo>
                    <a:cubicBezTo>
                      <a:pt x="362" y="91"/>
                      <a:pt x="362" y="91"/>
                      <a:pt x="362" y="91"/>
                    </a:cubicBezTo>
                    <a:cubicBezTo>
                      <a:pt x="178" y="75"/>
                      <a:pt x="178" y="75"/>
                      <a:pt x="178" y="75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0" y="66"/>
                      <a:pt x="0" y="66"/>
                      <a:pt x="0" y="66"/>
                    </a:cubicBezTo>
                    <a:cubicBezTo>
                      <a:pt x="48" y="167"/>
                      <a:pt x="152" y="238"/>
                      <a:pt x="272" y="238"/>
                    </a:cubicBez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66"/>
              <p:cNvSpPr/>
              <p:nvPr/>
            </p:nvSpPr>
            <p:spPr>
              <a:xfrm>
                <a:off x="9558360" y="5496480"/>
                <a:ext cx="612720" cy="277560"/>
              </a:xfrm>
              <a:custGeom>
                <a:avLst/>
                <a:gdLst/>
                <a:ahLst/>
                <a:rect l="l" t="t" r="r" b="b"/>
                <a:pathLst>
                  <a:path w="328" h="149">
                    <a:moveTo>
                      <a:pt x="278" y="141"/>
                    </a:moveTo>
                    <a:cubicBezTo>
                      <a:pt x="256" y="149"/>
                      <a:pt x="223" y="132"/>
                      <a:pt x="223" y="132"/>
                    </a:cubicBezTo>
                    <a:cubicBezTo>
                      <a:pt x="132" y="88"/>
                      <a:pt x="132" y="88"/>
                      <a:pt x="132" y="88"/>
                    </a:cubicBezTo>
                    <a:cubicBezTo>
                      <a:pt x="64" y="109"/>
                      <a:pt x="64" y="109"/>
                      <a:pt x="64" y="109"/>
                    </a:cubicBezTo>
                    <a:cubicBezTo>
                      <a:pt x="23" y="95"/>
                      <a:pt x="23" y="95"/>
                      <a:pt x="23" y="95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4"/>
                      <a:pt x="8" y="57"/>
                      <a:pt x="21" y="64"/>
                    </a:cubicBezTo>
                    <a:cubicBezTo>
                      <a:pt x="35" y="70"/>
                      <a:pt x="39" y="74"/>
                      <a:pt x="39" y="74"/>
                    </a:cubicBezTo>
                    <a:cubicBezTo>
                      <a:pt x="62" y="75"/>
                      <a:pt x="62" y="75"/>
                      <a:pt x="62" y="75"/>
                    </a:cubicBezTo>
                    <a:cubicBezTo>
                      <a:pt x="99" y="55"/>
                      <a:pt x="99" y="55"/>
                      <a:pt x="99" y="55"/>
                    </a:cubicBezTo>
                    <a:cubicBezTo>
                      <a:pt x="209" y="0"/>
                      <a:pt x="209" y="0"/>
                      <a:pt x="209" y="0"/>
                    </a:cubicBezTo>
                    <a:cubicBezTo>
                      <a:pt x="328" y="90"/>
                      <a:pt x="328" y="90"/>
                      <a:pt x="328" y="90"/>
                    </a:cubicBezTo>
                    <a:cubicBezTo>
                      <a:pt x="328" y="90"/>
                      <a:pt x="296" y="134"/>
                      <a:pt x="278" y="141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67"/>
              <p:cNvSpPr/>
              <p:nvPr/>
            </p:nvSpPr>
            <p:spPr>
              <a:xfrm>
                <a:off x="9445680" y="5399640"/>
                <a:ext cx="720720" cy="328320"/>
              </a:xfrm>
              <a:custGeom>
                <a:avLst/>
                <a:gdLst/>
                <a:ahLst/>
                <a:rect l="l" t="t" r="r" b="b"/>
                <a:pathLst>
                  <a:path w="386" h="176">
                    <a:moveTo>
                      <a:pt x="347" y="176"/>
                    </a:moveTo>
                    <a:cubicBezTo>
                      <a:pt x="165" y="114"/>
                      <a:pt x="165" y="114"/>
                      <a:pt x="165" y="114"/>
                    </a:cubicBezTo>
                    <a:cubicBezTo>
                      <a:pt x="66" y="96"/>
                      <a:pt x="66" y="96"/>
                      <a:pt x="66" y="96"/>
                    </a:cubicBezTo>
                    <a:cubicBezTo>
                      <a:pt x="25" y="56"/>
                      <a:pt x="25" y="56"/>
                      <a:pt x="25" y="5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7" y="0"/>
                      <a:pt x="22" y="7"/>
                    </a:cubicBezTo>
                    <a:cubicBezTo>
                      <a:pt x="48" y="20"/>
                      <a:pt x="54" y="40"/>
                      <a:pt x="54" y="40"/>
                    </a:cubicBezTo>
                    <a:cubicBezTo>
                      <a:pt x="84" y="58"/>
                      <a:pt x="84" y="58"/>
                      <a:pt x="84" y="58"/>
                    </a:cubicBezTo>
                    <a:cubicBezTo>
                      <a:pt x="145" y="59"/>
                      <a:pt x="145" y="59"/>
                      <a:pt x="145" y="59"/>
                    </a:cubicBezTo>
                    <a:cubicBezTo>
                      <a:pt x="386" y="133"/>
                      <a:pt x="386" y="133"/>
                      <a:pt x="386" y="133"/>
                    </a:cubicBezTo>
                    <a:lnTo>
                      <a:pt x="347" y="176"/>
                    </a:lnTo>
                    <a:close/>
                  </a:path>
                </a:pathLst>
              </a:custGeom>
              <a:solidFill>
                <a:srgbClr val="ffc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68"/>
              <p:cNvSpPr/>
              <p:nvPr/>
            </p:nvSpPr>
            <p:spPr>
              <a:xfrm>
                <a:off x="9597960" y="5504760"/>
                <a:ext cx="123840" cy="14040"/>
              </a:xfrm>
              <a:custGeom>
                <a:avLst/>
                <a:gdLst/>
                <a:ahLst/>
                <a:rect l="l" t="t" r="r" b="b"/>
                <a:pathLst>
                  <a:path w="78" h="9">
                    <a:moveTo>
                      <a:pt x="8" y="8"/>
                    </a:moveTo>
                    <a:lnTo>
                      <a:pt x="78" y="9"/>
                    </a:lnTo>
                    <a:lnTo>
                      <a:pt x="71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69"/>
              <p:cNvSpPr/>
              <p:nvPr/>
            </p:nvSpPr>
            <p:spPr>
              <a:xfrm>
                <a:off x="9488520" y="5255280"/>
                <a:ext cx="269640" cy="287280"/>
              </a:xfrm>
              <a:custGeom>
                <a:avLst/>
                <a:gdLst/>
                <a:ahLst/>
                <a:rect l="l" t="t" r="r" b="b"/>
                <a:pathLst>
                  <a:path w="145" h="154">
                    <a:moveTo>
                      <a:pt x="135" y="154"/>
                    </a:moveTo>
                    <a:cubicBezTo>
                      <a:pt x="33" y="97"/>
                      <a:pt x="33" y="97"/>
                      <a:pt x="33" y="97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12" y="0"/>
                      <a:pt x="25" y="9"/>
                    </a:cubicBezTo>
                    <a:cubicBezTo>
                      <a:pt x="39" y="20"/>
                      <a:pt x="44" y="39"/>
                      <a:pt x="44" y="39"/>
                    </a:cubicBezTo>
                    <a:cubicBezTo>
                      <a:pt x="60" y="62"/>
                      <a:pt x="60" y="62"/>
                      <a:pt x="60" y="62"/>
                    </a:cubicBezTo>
                    <a:cubicBezTo>
                      <a:pt x="145" y="107"/>
                      <a:pt x="145" y="107"/>
                      <a:pt x="145" y="107"/>
                    </a:cubicBezTo>
                    <a:lnTo>
                      <a:pt x="135" y="154"/>
                    </a:lnTo>
                    <a:close/>
                  </a:path>
                </a:pathLst>
              </a:custGeom>
              <a:solidFill>
                <a:srgbClr val="ffc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70"/>
              <p:cNvSpPr/>
              <p:nvPr/>
            </p:nvSpPr>
            <p:spPr>
              <a:xfrm>
                <a:off x="9620280" y="5382360"/>
                <a:ext cx="106200" cy="8064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67" y="35"/>
                    </a:moveTo>
                    <a:lnTo>
                      <a:pt x="0" y="0"/>
                    </a:lnTo>
                    <a:lnTo>
                      <a:pt x="64" y="51"/>
                    </a:lnTo>
                    <a:lnTo>
                      <a:pt x="67" y="35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71"/>
              <p:cNvSpPr/>
              <p:nvPr/>
            </p:nvSpPr>
            <p:spPr>
              <a:xfrm>
                <a:off x="9653760" y="5171040"/>
                <a:ext cx="538200" cy="556920"/>
              </a:xfrm>
              <a:custGeom>
                <a:avLst/>
                <a:gdLst/>
                <a:ahLst/>
                <a:rect l="l" t="t" r="r" b="b"/>
                <a:pathLst>
                  <a:path w="288" h="298">
                    <a:moveTo>
                      <a:pt x="149" y="20"/>
                    </a:moveTo>
                    <a:cubicBezTo>
                      <a:pt x="137" y="50"/>
                      <a:pt x="154" y="86"/>
                      <a:pt x="154" y="86"/>
                    </a:cubicBezTo>
                    <a:cubicBezTo>
                      <a:pt x="154" y="86"/>
                      <a:pt x="158" y="97"/>
                      <a:pt x="155" y="103"/>
                    </a:cubicBezTo>
                    <a:cubicBezTo>
                      <a:pt x="151" y="112"/>
                      <a:pt x="145" y="122"/>
                      <a:pt x="120" y="123"/>
                    </a:cubicBezTo>
                    <a:cubicBezTo>
                      <a:pt x="87" y="125"/>
                      <a:pt x="66" y="102"/>
                      <a:pt x="66" y="102"/>
                    </a:cubicBezTo>
                    <a:cubicBezTo>
                      <a:pt x="39" y="58"/>
                      <a:pt x="39" y="58"/>
                      <a:pt x="39" y="58"/>
                    </a:cubicBezTo>
                    <a:cubicBezTo>
                      <a:pt x="41" y="40"/>
                      <a:pt x="41" y="40"/>
                      <a:pt x="41" y="40"/>
                    </a:cubicBezTo>
                    <a:cubicBezTo>
                      <a:pt x="41" y="40"/>
                      <a:pt x="47" y="27"/>
                      <a:pt x="46" y="15"/>
                    </a:cubicBezTo>
                    <a:cubicBezTo>
                      <a:pt x="46" y="3"/>
                      <a:pt x="39" y="2"/>
                      <a:pt x="39" y="2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5" y="168"/>
                      <a:pt x="45" y="168"/>
                      <a:pt x="45" y="168"/>
                    </a:cubicBezTo>
                    <a:cubicBezTo>
                      <a:pt x="36" y="218"/>
                      <a:pt x="36" y="218"/>
                      <a:pt x="36" y="218"/>
                    </a:cubicBezTo>
                    <a:cubicBezTo>
                      <a:pt x="101" y="237"/>
                      <a:pt x="101" y="237"/>
                      <a:pt x="101" y="237"/>
                    </a:cubicBezTo>
                    <a:cubicBezTo>
                      <a:pt x="109" y="215"/>
                      <a:pt x="109" y="215"/>
                      <a:pt x="109" y="215"/>
                    </a:cubicBezTo>
                    <a:cubicBezTo>
                      <a:pt x="145" y="226"/>
                      <a:pt x="145" y="226"/>
                      <a:pt x="145" y="226"/>
                    </a:cubicBezTo>
                    <a:cubicBezTo>
                      <a:pt x="236" y="298"/>
                      <a:pt x="236" y="298"/>
                      <a:pt x="236" y="298"/>
                    </a:cubicBezTo>
                    <a:cubicBezTo>
                      <a:pt x="236" y="298"/>
                      <a:pt x="282" y="290"/>
                      <a:pt x="286" y="260"/>
                    </a:cubicBezTo>
                    <a:cubicBezTo>
                      <a:pt x="288" y="241"/>
                      <a:pt x="264" y="193"/>
                      <a:pt x="259" y="186"/>
                    </a:cubicBezTo>
                    <a:cubicBezTo>
                      <a:pt x="255" y="178"/>
                      <a:pt x="227" y="110"/>
                      <a:pt x="227" y="110"/>
                    </a:cubicBezTo>
                    <a:cubicBezTo>
                      <a:pt x="180" y="45"/>
                      <a:pt x="180" y="45"/>
                      <a:pt x="180" y="45"/>
                    </a:cubicBezTo>
                    <a:cubicBezTo>
                      <a:pt x="167" y="0"/>
                      <a:pt x="167" y="0"/>
                      <a:pt x="167" y="0"/>
                    </a:cubicBezTo>
                    <a:cubicBezTo>
                      <a:pt x="167" y="0"/>
                      <a:pt x="153" y="11"/>
                      <a:pt x="149" y="20"/>
                    </a:cubicBezTo>
                    <a:close/>
                  </a:path>
                </a:pathLst>
              </a:custGeom>
              <a:solidFill>
                <a:srgbClr val="ffc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72"/>
              <p:cNvSpPr/>
              <p:nvPr/>
            </p:nvSpPr>
            <p:spPr>
              <a:xfrm>
                <a:off x="9763200" y="557136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3" y="1"/>
                    </a:moveTo>
                    <a:cubicBezTo>
                      <a:pt x="4" y="1"/>
                      <a:pt x="4" y="1"/>
                      <a:pt x="4" y="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7"/>
                      <a:pt x="1" y="18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7"/>
                      <a:pt x="0" y="1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73"/>
              <p:cNvSpPr/>
              <p:nvPr/>
            </p:nvSpPr>
            <p:spPr>
              <a:xfrm>
                <a:off x="9771120" y="55807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8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74"/>
              <p:cNvSpPr/>
              <p:nvPr/>
            </p:nvSpPr>
            <p:spPr>
              <a:xfrm>
                <a:off x="9780840" y="5496480"/>
                <a:ext cx="14040" cy="3168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6" y="0"/>
                    </a:moveTo>
                    <a:cubicBezTo>
                      <a:pt x="7" y="1"/>
                      <a:pt x="7" y="1"/>
                      <a:pt x="7" y="2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6"/>
                      <a:pt x="0" y="16"/>
                      <a:pt x="0" y="15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75"/>
              <p:cNvSpPr/>
              <p:nvPr/>
            </p:nvSpPr>
            <p:spPr>
              <a:xfrm>
                <a:off x="9448920" y="5425200"/>
                <a:ext cx="29880" cy="378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17"/>
                    </a:moveTo>
                    <a:cubicBezTo>
                      <a:pt x="16" y="17"/>
                      <a:pt x="13" y="5"/>
                      <a:pt x="6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11" y="20"/>
                      <a:pt x="11" y="20"/>
                      <a:pt x="11" y="20"/>
                    </a:cubicBez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76"/>
              <p:cNvSpPr/>
              <p:nvPr/>
            </p:nvSpPr>
            <p:spPr>
              <a:xfrm>
                <a:off x="9489960" y="5275800"/>
                <a:ext cx="26640" cy="3960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7"/>
                    </a:moveTo>
                    <a:cubicBezTo>
                      <a:pt x="15" y="17"/>
                      <a:pt x="11" y="5"/>
                      <a:pt x="5" y="1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8" y="21"/>
                      <a:pt x="8" y="21"/>
                      <a:pt x="8" y="21"/>
                    </a:cubicBezTo>
                    <a:lnTo>
                      <a:pt x="15" y="17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77"/>
              <p:cNvSpPr/>
              <p:nvPr/>
            </p:nvSpPr>
            <p:spPr>
              <a:xfrm>
                <a:off x="9694800" y="517752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3" y="18"/>
                    </a:moveTo>
                    <a:cubicBezTo>
                      <a:pt x="3" y="18"/>
                      <a:pt x="15" y="14"/>
                      <a:pt x="17" y="7"/>
                    </a:cubicBezTo>
                    <a:cubicBezTo>
                      <a:pt x="19" y="3"/>
                      <a:pt x="18" y="1"/>
                      <a:pt x="17" y="0"/>
                    </a:cubicBezTo>
                    <a:cubicBezTo>
                      <a:pt x="0" y="15"/>
                      <a:pt x="0" y="15"/>
                      <a:pt x="0" y="15"/>
                    </a:cubicBez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efad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78"/>
              <p:cNvSpPr/>
              <p:nvPr/>
            </p:nvSpPr>
            <p:spPr>
              <a:xfrm>
                <a:off x="9937800" y="5614200"/>
                <a:ext cx="261720" cy="241200"/>
              </a:xfrm>
              <a:custGeom>
                <a:avLst/>
                <a:gdLst/>
                <a:ahLst/>
                <a:rect l="l" t="t" r="r" b="b"/>
                <a:pathLst>
                  <a:path w="140" h="129">
                    <a:moveTo>
                      <a:pt x="140" y="61"/>
                    </a:moveTo>
                    <a:cubicBezTo>
                      <a:pt x="135" y="0"/>
                      <a:pt x="135" y="0"/>
                      <a:pt x="135" y="0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53" y="119"/>
                      <a:pt x="101" y="95"/>
                      <a:pt x="140" y="61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79"/>
              <p:cNvSpPr/>
              <p:nvPr/>
            </p:nvSpPr>
            <p:spPr>
              <a:xfrm>
                <a:off x="9599760" y="4606200"/>
                <a:ext cx="477720" cy="572760"/>
              </a:xfrm>
              <a:custGeom>
                <a:avLst/>
                <a:gdLst/>
                <a:ahLst/>
                <a:rect l="l" t="t" r="r" b="b"/>
                <a:pathLst>
                  <a:path w="256" h="307">
                    <a:moveTo>
                      <a:pt x="128" y="0"/>
                    </a:moveTo>
                    <a:cubicBezTo>
                      <a:pt x="58" y="0"/>
                      <a:pt x="0" y="55"/>
                      <a:pt x="0" y="122"/>
                    </a:cubicBezTo>
                    <a:cubicBezTo>
                      <a:pt x="0" y="130"/>
                      <a:pt x="2" y="141"/>
                      <a:pt x="5" y="150"/>
                    </a:cubicBezTo>
                    <a:cubicBezTo>
                      <a:pt x="7" y="160"/>
                      <a:pt x="12" y="177"/>
                      <a:pt x="17" y="184"/>
                    </a:cubicBezTo>
                    <a:cubicBezTo>
                      <a:pt x="40" y="215"/>
                      <a:pt x="94" y="261"/>
                      <a:pt x="80" y="307"/>
                    </a:cubicBezTo>
                    <a:cubicBezTo>
                      <a:pt x="120" y="307"/>
                      <a:pt x="120" y="307"/>
                      <a:pt x="120" y="307"/>
                    </a:cubicBezTo>
                    <a:cubicBezTo>
                      <a:pt x="123" y="307"/>
                      <a:pt x="123" y="307"/>
                      <a:pt x="123" y="307"/>
                    </a:cubicBezTo>
                    <a:cubicBezTo>
                      <a:pt x="171" y="307"/>
                      <a:pt x="171" y="307"/>
                      <a:pt x="171" y="307"/>
                    </a:cubicBezTo>
                    <a:cubicBezTo>
                      <a:pt x="164" y="284"/>
                      <a:pt x="175" y="262"/>
                      <a:pt x="189" y="241"/>
                    </a:cubicBezTo>
                    <a:cubicBezTo>
                      <a:pt x="194" y="234"/>
                      <a:pt x="217" y="211"/>
                      <a:pt x="222" y="206"/>
                    </a:cubicBezTo>
                    <a:cubicBezTo>
                      <a:pt x="243" y="184"/>
                      <a:pt x="256" y="155"/>
                      <a:pt x="256" y="122"/>
                    </a:cubicBezTo>
                    <a:cubicBezTo>
                      <a:pt x="256" y="55"/>
                      <a:pt x="199" y="0"/>
                      <a:pt x="128" y="0"/>
                    </a:cubicBez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80"/>
              <p:cNvSpPr/>
              <p:nvPr/>
            </p:nvSpPr>
            <p:spPr>
              <a:xfrm>
                <a:off x="9745560" y="5191920"/>
                <a:ext cx="188640" cy="87120"/>
              </a:xfrm>
              <a:custGeom>
                <a:avLst/>
                <a:gdLst/>
                <a:ahLst/>
                <a:rect l="l" t="t" r="r" b="b"/>
                <a:pathLst>
                  <a:path w="119" h="55">
                    <a:moveTo>
                      <a:pt x="60" y="0"/>
                    </a:moveTo>
                    <a:lnTo>
                      <a:pt x="59" y="0"/>
                    </a:lnTo>
                    <a:lnTo>
                      <a:pt x="0" y="0"/>
                    </a:lnTo>
                    <a:lnTo>
                      <a:pt x="12" y="55"/>
                    </a:lnTo>
                    <a:lnTo>
                      <a:pt x="59" y="55"/>
                    </a:lnTo>
                    <a:lnTo>
                      <a:pt x="60" y="55"/>
                    </a:lnTo>
                    <a:lnTo>
                      <a:pt x="107" y="55"/>
                    </a:lnTo>
                    <a:lnTo>
                      <a:pt x="119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81"/>
              <p:cNvSpPr/>
              <p:nvPr/>
            </p:nvSpPr>
            <p:spPr>
              <a:xfrm>
                <a:off x="9736200" y="5176080"/>
                <a:ext cx="204840" cy="12996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99" y="17"/>
                    </a:moveTo>
                    <a:cubicBezTo>
                      <a:pt x="105" y="17"/>
                      <a:pt x="110" y="13"/>
                      <a:pt x="110" y="8"/>
                    </a:cubicBezTo>
                    <a:cubicBezTo>
                      <a:pt x="110" y="4"/>
                      <a:pt x="105" y="0"/>
                      <a:pt x="99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8"/>
                    </a:cubicBezTo>
                    <a:cubicBezTo>
                      <a:pt x="0" y="13"/>
                      <a:pt x="5" y="16"/>
                      <a:pt x="10" y="17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23" y="26"/>
                      <a:pt x="23" y="26"/>
                      <a:pt x="23" y="2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5" y="26"/>
                      <a:pt x="0" y="30"/>
                      <a:pt x="0" y="35"/>
                    </a:cubicBezTo>
                    <a:cubicBezTo>
                      <a:pt x="0" y="40"/>
                      <a:pt x="5" y="43"/>
                      <a:pt x="11" y="43"/>
                    </a:cubicBezTo>
                    <a:cubicBezTo>
                      <a:pt x="19" y="43"/>
                      <a:pt x="19" y="43"/>
                      <a:pt x="19" y="43"/>
                    </a:cubicBezTo>
                    <a:cubicBezTo>
                      <a:pt x="32" y="52"/>
                      <a:pt x="32" y="52"/>
                      <a:pt x="32" y="52"/>
                    </a:cubicBezTo>
                    <a:cubicBezTo>
                      <a:pt x="19" y="52"/>
                      <a:pt x="19" y="52"/>
                      <a:pt x="19" y="52"/>
                    </a:cubicBezTo>
                    <a:cubicBezTo>
                      <a:pt x="14" y="52"/>
                      <a:pt x="10" y="56"/>
                      <a:pt x="10" y="61"/>
                    </a:cubicBezTo>
                    <a:cubicBezTo>
                      <a:pt x="10" y="66"/>
                      <a:pt x="14" y="70"/>
                      <a:pt x="19" y="70"/>
                    </a:cubicBezTo>
                    <a:cubicBezTo>
                      <a:pt x="92" y="70"/>
                      <a:pt x="92" y="70"/>
                      <a:pt x="92" y="70"/>
                    </a:cubicBezTo>
                    <a:cubicBezTo>
                      <a:pt x="97" y="70"/>
                      <a:pt x="101" y="66"/>
                      <a:pt x="101" y="61"/>
                    </a:cubicBezTo>
                    <a:cubicBezTo>
                      <a:pt x="101" y="56"/>
                      <a:pt x="97" y="52"/>
                      <a:pt x="92" y="52"/>
                    </a:cubicBezTo>
                    <a:cubicBezTo>
                      <a:pt x="55" y="52"/>
                      <a:pt x="55" y="52"/>
                      <a:pt x="55" y="52"/>
                    </a:cubicBezTo>
                    <a:cubicBezTo>
                      <a:pt x="46" y="43"/>
                      <a:pt x="46" y="43"/>
                      <a:pt x="46" y="43"/>
                    </a:cubicBezTo>
                    <a:cubicBezTo>
                      <a:pt x="99" y="43"/>
                      <a:pt x="99" y="43"/>
                      <a:pt x="99" y="43"/>
                    </a:cubicBezTo>
                    <a:cubicBezTo>
                      <a:pt x="105" y="43"/>
                      <a:pt x="110" y="40"/>
                      <a:pt x="110" y="35"/>
                    </a:cubicBezTo>
                    <a:cubicBezTo>
                      <a:pt x="110" y="30"/>
                      <a:pt x="105" y="26"/>
                      <a:pt x="99" y="26"/>
                    </a:cubicBezTo>
                    <a:cubicBezTo>
                      <a:pt x="46" y="26"/>
                      <a:pt x="46" y="26"/>
                      <a:pt x="46" y="26"/>
                    </a:cubicBezTo>
                    <a:cubicBezTo>
                      <a:pt x="37" y="17"/>
                      <a:pt x="37" y="17"/>
                      <a:pt x="37" y="17"/>
                    </a:cubicBez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82"/>
              <p:cNvSpPr/>
              <p:nvPr/>
            </p:nvSpPr>
            <p:spPr>
              <a:xfrm>
                <a:off x="9599760" y="4606200"/>
                <a:ext cx="477720" cy="572760"/>
              </a:xfrm>
              <a:custGeom>
                <a:avLst/>
                <a:gdLst/>
                <a:ahLst/>
                <a:rect l="l" t="t" r="r" b="b"/>
                <a:pathLst>
                  <a:path w="256" h="307">
                    <a:moveTo>
                      <a:pt x="128" y="0"/>
                    </a:moveTo>
                    <a:cubicBezTo>
                      <a:pt x="58" y="0"/>
                      <a:pt x="0" y="55"/>
                      <a:pt x="0" y="122"/>
                    </a:cubicBezTo>
                    <a:cubicBezTo>
                      <a:pt x="0" y="130"/>
                      <a:pt x="2" y="141"/>
                      <a:pt x="5" y="150"/>
                    </a:cubicBezTo>
                    <a:cubicBezTo>
                      <a:pt x="7" y="160"/>
                      <a:pt x="12" y="177"/>
                      <a:pt x="17" y="184"/>
                    </a:cubicBezTo>
                    <a:cubicBezTo>
                      <a:pt x="40" y="215"/>
                      <a:pt x="94" y="261"/>
                      <a:pt x="80" y="307"/>
                    </a:cubicBezTo>
                    <a:cubicBezTo>
                      <a:pt x="120" y="307"/>
                      <a:pt x="120" y="307"/>
                      <a:pt x="120" y="307"/>
                    </a:cubicBezTo>
                    <a:cubicBezTo>
                      <a:pt x="123" y="307"/>
                      <a:pt x="123" y="307"/>
                      <a:pt x="123" y="307"/>
                    </a:cubicBezTo>
                    <a:cubicBezTo>
                      <a:pt x="171" y="307"/>
                      <a:pt x="171" y="307"/>
                      <a:pt x="171" y="307"/>
                    </a:cubicBezTo>
                    <a:cubicBezTo>
                      <a:pt x="164" y="284"/>
                      <a:pt x="175" y="262"/>
                      <a:pt x="189" y="241"/>
                    </a:cubicBezTo>
                    <a:cubicBezTo>
                      <a:pt x="194" y="234"/>
                      <a:pt x="217" y="211"/>
                      <a:pt x="222" y="206"/>
                    </a:cubicBezTo>
                    <a:cubicBezTo>
                      <a:pt x="243" y="184"/>
                      <a:pt x="256" y="155"/>
                      <a:pt x="256" y="122"/>
                    </a:cubicBezTo>
                    <a:cubicBezTo>
                      <a:pt x="256" y="55"/>
                      <a:pt x="199" y="0"/>
                      <a:pt x="128" y="0"/>
                    </a:cubicBezTo>
                    <a:close/>
                    <a:moveTo>
                      <a:pt x="207" y="196"/>
                    </a:moveTo>
                    <a:cubicBezTo>
                      <a:pt x="203" y="200"/>
                      <a:pt x="179" y="224"/>
                      <a:pt x="173" y="232"/>
                    </a:cubicBezTo>
                    <a:cubicBezTo>
                      <a:pt x="161" y="250"/>
                      <a:pt x="152" y="269"/>
                      <a:pt x="151" y="289"/>
                    </a:cubicBezTo>
                    <a:cubicBezTo>
                      <a:pt x="130" y="289"/>
                      <a:pt x="130" y="289"/>
                      <a:pt x="130" y="289"/>
                    </a:cubicBezTo>
                    <a:cubicBezTo>
                      <a:pt x="130" y="289"/>
                      <a:pt x="130" y="289"/>
                      <a:pt x="130" y="289"/>
                    </a:cubicBezTo>
                    <a:cubicBezTo>
                      <a:pt x="117" y="289"/>
                      <a:pt x="117" y="289"/>
                      <a:pt x="117" y="289"/>
                    </a:cubicBezTo>
                    <a:cubicBezTo>
                      <a:pt x="117" y="289"/>
                      <a:pt x="117" y="289"/>
                      <a:pt x="117" y="289"/>
                    </a:cubicBezTo>
                    <a:cubicBezTo>
                      <a:pt x="101" y="289"/>
                      <a:pt x="101" y="289"/>
                      <a:pt x="101" y="289"/>
                    </a:cubicBezTo>
                    <a:cubicBezTo>
                      <a:pt x="99" y="254"/>
                      <a:pt x="73" y="223"/>
                      <a:pt x="50" y="197"/>
                    </a:cubicBezTo>
                    <a:cubicBezTo>
                      <a:pt x="33" y="181"/>
                      <a:pt x="27" y="162"/>
                      <a:pt x="27" y="162"/>
                    </a:cubicBezTo>
                    <a:cubicBezTo>
                      <a:pt x="21" y="150"/>
                      <a:pt x="19" y="136"/>
                      <a:pt x="19" y="122"/>
                    </a:cubicBezTo>
                    <a:cubicBezTo>
                      <a:pt x="19" y="64"/>
                      <a:pt x="68" y="17"/>
                      <a:pt x="128" y="17"/>
                    </a:cubicBezTo>
                    <a:cubicBezTo>
                      <a:pt x="189" y="17"/>
                      <a:pt x="238" y="64"/>
                      <a:pt x="238" y="122"/>
                    </a:cubicBezTo>
                    <a:cubicBezTo>
                      <a:pt x="238" y="150"/>
                      <a:pt x="227" y="176"/>
                      <a:pt x="207" y="196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83"/>
              <p:cNvSpPr/>
              <p:nvPr/>
            </p:nvSpPr>
            <p:spPr>
              <a:xfrm>
                <a:off x="9739440" y="4833000"/>
                <a:ext cx="174600" cy="312480"/>
              </a:xfrm>
              <a:custGeom>
                <a:avLst/>
                <a:gdLst/>
                <a:ahLst/>
                <a:rect l="l" t="t" r="r" b="b"/>
                <a:pathLst>
                  <a:path w="93" h="167">
                    <a:moveTo>
                      <a:pt x="82" y="52"/>
                    </a:moveTo>
                    <a:cubicBezTo>
                      <a:pt x="73" y="53"/>
                      <a:pt x="73" y="53"/>
                      <a:pt x="73" y="53"/>
                    </a:cubicBezTo>
                    <a:cubicBezTo>
                      <a:pt x="50" y="148"/>
                      <a:pt x="50" y="148"/>
                      <a:pt x="50" y="148"/>
                    </a:cubicBezTo>
                    <a:cubicBezTo>
                      <a:pt x="20" y="44"/>
                      <a:pt x="20" y="44"/>
                      <a:pt x="20" y="44"/>
                    </a:cubicBezTo>
                    <a:cubicBezTo>
                      <a:pt x="47" y="53"/>
                      <a:pt x="47" y="53"/>
                      <a:pt x="47" y="53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88" y="36"/>
                      <a:pt x="88" y="36"/>
                      <a:pt x="88" y="36"/>
                    </a:cubicBezTo>
                    <a:cubicBezTo>
                      <a:pt x="93" y="0"/>
                      <a:pt x="93" y="0"/>
                      <a:pt x="93" y="0"/>
                    </a:cubicBezTo>
                    <a:cubicBezTo>
                      <a:pt x="75" y="25"/>
                      <a:pt x="75" y="25"/>
                      <a:pt x="75" y="25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0"/>
                      <a:pt x="38" y="141"/>
                      <a:pt x="45" y="167"/>
                    </a:cubicBezTo>
                    <a:cubicBezTo>
                      <a:pt x="58" y="167"/>
                      <a:pt x="58" y="167"/>
                      <a:pt x="58" y="167"/>
                    </a:cubicBezTo>
                    <a:cubicBezTo>
                      <a:pt x="61" y="147"/>
                      <a:pt x="82" y="52"/>
                      <a:pt x="82" y="52"/>
                    </a:cubicBezTo>
                    <a:close/>
                  </a:path>
                </a:pathLst>
              </a:custGeom>
              <a:solidFill>
                <a:srgbClr val="ffe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6" name="组合 203"/>
            <p:cNvGrpSpPr/>
            <p:nvPr/>
          </p:nvGrpSpPr>
          <p:grpSpPr>
            <a:xfrm>
              <a:off x="5680080" y="2154240"/>
              <a:ext cx="1225440" cy="1326960"/>
              <a:chOff x="5680080" y="2154240"/>
              <a:chExt cx="1225440" cy="1326960"/>
            </a:xfrm>
          </p:grpSpPr>
          <p:sp>
            <p:nvSpPr>
              <p:cNvPr id="517" name="Oval 32"/>
              <p:cNvSpPr/>
              <p:nvPr/>
            </p:nvSpPr>
            <p:spPr>
              <a:xfrm>
                <a:off x="5680080" y="2255760"/>
                <a:ext cx="1225440" cy="122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Oval 84"/>
              <p:cNvSpPr/>
              <p:nvPr/>
            </p:nvSpPr>
            <p:spPr>
              <a:xfrm>
                <a:off x="5727600" y="2298600"/>
                <a:ext cx="1128600" cy="1127160"/>
              </a:xfrm>
              <a:prstGeom prst="ellipse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85"/>
              <p:cNvSpPr/>
              <p:nvPr/>
            </p:nvSpPr>
            <p:spPr>
              <a:xfrm>
                <a:off x="5829120" y="2913120"/>
                <a:ext cx="923760" cy="512640"/>
              </a:xfrm>
              <a:custGeom>
                <a:avLst/>
                <a:gdLst/>
                <a:ahLst/>
                <a:rect l="l" t="t" r="r" b="b"/>
                <a:pathLst>
                  <a:path w="495" h="275">
                    <a:moveTo>
                      <a:pt x="422" y="0"/>
                    </a:moveTo>
                    <a:cubicBezTo>
                      <a:pt x="368" y="10"/>
                      <a:pt x="368" y="10"/>
                      <a:pt x="368" y="10"/>
                    </a:cubicBezTo>
                    <a:cubicBezTo>
                      <a:pt x="163" y="192"/>
                      <a:pt x="163" y="192"/>
                      <a:pt x="163" y="192"/>
                    </a:cubicBezTo>
                    <a:cubicBezTo>
                      <a:pt x="127" y="10"/>
                      <a:pt x="127" y="10"/>
                      <a:pt x="127" y="10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0" y="145"/>
                      <a:pt x="0" y="145"/>
                      <a:pt x="0" y="145"/>
                    </a:cubicBezTo>
                    <a:cubicBezTo>
                      <a:pt x="55" y="223"/>
                      <a:pt x="146" y="275"/>
                      <a:pt x="248" y="275"/>
                    </a:cubicBezTo>
                    <a:cubicBezTo>
                      <a:pt x="350" y="275"/>
                      <a:pt x="440" y="224"/>
                      <a:pt x="495" y="146"/>
                    </a:cubicBez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86"/>
              <p:cNvSpPr/>
              <p:nvPr/>
            </p:nvSpPr>
            <p:spPr>
              <a:xfrm>
                <a:off x="6027480" y="2170080"/>
                <a:ext cx="379440" cy="38088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2" y="99"/>
                    </a:moveTo>
                    <a:cubicBezTo>
                      <a:pt x="204" y="154"/>
                      <a:pt x="160" y="201"/>
                      <a:pt x="105" y="202"/>
                    </a:cubicBezTo>
                    <a:cubicBezTo>
                      <a:pt x="50" y="204"/>
                      <a:pt x="3" y="161"/>
                      <a:pt x="2" y="106"/>
                    </a:cubicBezTo>
                    <a:cubicBezTo>
                      <a:pt x="0" y="50"/>
                      <a:pt x="43" y="4"/>
                      <a:pt x="98" y="2"/>
                    </a:cubicBezTo>
                    <a:cubicBezTo>
                      <a:pt x="154" y="0"/>
                      <a:pt x="200" y="44"/>
                      <a:pt x="202" y="99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87"/>
              <p:cNvSpPr/>
              <p:nvPr/>
            </p:nvSpPr>
            <p:spPr>
              <a:xfrm>
                <a:off x="6024600" y="2154240"/>
                <a:ext cx="380880" cy="380880"/>
              </a:xfrm>
              <a:custGeom>
                <a:avLst/>
                <a:gdLst/>
                <a:ahLst/>
                <a:rect l="l" t="t" r="r" b="b"/>
                <a:pathLst>
                  <a:path w="204" h="204">
                    <a:moveTo>
                      <a:pt x="203" y="99"/>
                    </a:moveTo>
                    <a:cubicBezTo>
                      <a:pt x="204" y="154"/>
                      <a:pt x="161" y="201"/>
                      <a:pt x="106" y="202"/>
                    </a:cubicBezTo>
                    <a:cubicBezTo>
                      <a:pt x="50" y="204"/>
                      <a:pt x="4" y="161"/>
                      <a:pt x="2" y="106"/>
                    </a:cubicBezTo>
                    <a:cubicBezTo>
                      <a:pt x="0" y="50"/>
                      <a:pt x="44" y="4"/>
                      <a:pt x="99" y="2"/>
                    </a:cubicBezTo>
                    <a:cubicBezTo>
                      <a:pt x="154" y="0"/>
                      <a:pt x="201" y="44"/>
                      <a:pt x="203" y="99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88"/>
              <p:cNvSpPr/>
              <p:nvPr/>
            </p:nvSpPr>
            <p:spPr>
              <a:xfrm>
                <a:off x="6067440" y="2197080"/>
                <a:ext cx="296640" cy="295200"/>
              </a:xfrm>
              <a:custGeom>
                <a:avLst/>
                <a:gdLst/>
                <a:ahLst/>
                <a:rect l="l" t="t" r="r" b="b"/>
                <a:pathLst>
                  <a:path w="159" h="158">
                    <a:moveTo>
                      <a:pt x="157" y="77"/>
                    </a:moveTo>
                    <a:cubicBezTo>
                      <a:pt x="159" y="120"/>
                      <a:pt x="125" y="156"/>
                      <a:pt x="82" y="157"/>
                    </a:cubicBezTo>
                    <a:cubicBezTo>
                      <a:pt x="39" y="158"/>
                      <a:pt x="3" y="125"/>
                      <a:pt x="2" y="82"/>
                    </a:cubicBezTo>
                    <a:cubicBezTo>
                      <a:pt x="0" y="39"/>
                      <a:pt x="34" y="3"/>
                      <a:pt x="77" y="1"/>
                    </a:cubicBezTo>
                    <a:cubicBezTo>
                      <a:pt x="120" y="0"/>
                      <a:pt x="156" y="34"/>
                      <a:pt x="157" y="77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89"/>
              <p:cNvSpPr/>
              <p:nvPr/>
            </p:nvSpPr>
            <p:spPr>
              <a:xfrm>
                <a:off x="6067440" y="2197080"/>
                <a:ext cx="293400" cy="16020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77" y="10"/>
                    </a:moveTo>
                    <a:cubicBezTo>
                      <a:pt x="119" y="9"/>
                      <a:pt x="153" y="40"/>
                      <a:pt x="157" y="81"/>
                    </a:cubicBezTo>
                    <a:cubicBezTo>
                      <a:pt x="157" y="80"/>
                      <a:pt x="157" y="78"/>
                      <a:pt x="157" y="77"/>
                    </a:cubicBezTo>
                    <a:cubicBezTo>
                      <a:pt x="156" y="34"/>
                      <a:pt x="120" y="0"/>
                      <a:pt x="77" y="1"/>
                    </a:cubicBezTo>
                    <a:cubicBezTo>
                      <a:pt x="34" y="3"/>
                      <a:pt x="0" y="39"/>
                      <a:pt x="2" y="82"/>
                    </a:cubicBezTo>
                    <a:cubicBezTo>
                      <a:pt x="2" y="83"/>
                      <a:pt x="2" y="85"/>
                      <a:pt x="2" y="86"/>
                    </a:cubicBezTo>
                    <a:cubicBezTo>
                      <a:pt x="3" y="45"/>
                      <a:pt x="36" y="12"/>
                      <a:pt x="77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90"/>
              <p:cNvSpPr/>
              <p:nvPr/>
            </p:nvSpPr>
            <p:spPr>
              <a:xfrm>
                <a:off x="6141960" y="2246040"/>
                <a:ext cx="147600" cy="222120"/>
              </a:xfrm>
              <a:custGeom>
                <a:avLst/>
                <a:gdLst/>
                <a:ahLst/>
                <a:rect l="l" t="t" r="r" b="b"/>
                <a:pathLst>
                  <a:path w="79" h="119">
                    <a:moveTo>
                      <a:pt x="77" y="69"/>
                    </a:moveTo>
                    <a:cubicBezTo>
                      <a:pt x="76" y="67"/>
                      <a:pt x="75" y="64"/>
                      <a:pt x="73" y="63"/>
                    </a:cubicBezTo>
                    <a:cubicBezTo>
                      <a:pt x="71" y="61"/>
                      <a:pt x="69" y="59"/>
                      <a:pt x="67" y="58"/>
                    </a:cubicBezTo>
                    <a:cubicBezTo>
                      <a:pt x="64" y="56"/>
                      <a:pt x="62" y="55"/>
                      <a:pt x="59" y="54"/>
                    </a:cubicBezTo>
                    <a:cubicBezTo>
                      <a:pt x="56" y="53"/>
                      <a:pt x="53" y="52"/>
                      <a:pt x="49" y="52"/>
                    </a:cubicBezTo>
                    <a:cubicBezTo>
                      <a:pt x="49" y="52"/>
                      <a:pt x="48" y="51"/>
                      <a:pt x="47" y="51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54" y="25"/>
                      <a:pt x="59" y="30"/>
                      <a:pt x="60" y="38"/>
                    </a:cubicBezTo>
                    <a:cubicBezTo>
                      <a:pt x="75" y="37"/>
                      <a:pt x="75" y="37"/>
                      <a:pt x="75" y="37"/>
                    </a:cubicBezTo>
                    <a:cubicBezTo>
                      <a:pt x="75" y="32"/>
                      <a:pt x="74" y="28"/>
                      <a:pt x="72" y="25"/>
                    </a:cubicBezTo>
                    <a:cubicBezTo>
                      <a:pt x="70" y="21"/>
                      <a:pt x="67" y="18"/>
                      <a:pt x="64" y="15"/>
                    </a:cubicBezTo>
                    <a:cubicBezTo>
                      <a:pt x="61" y="13"/>
                      <a:pt x="57" y="11"/>
                      <a:pt x="52" y="10"/>
                    </a:cubicBezTo>
                    <a:cubicBezTo>
                      <a:pt x="50" y="9"/>
                      <a:pt x="48" y="9"/>
                      <a:pt x="46" y="9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27" y="9"/>
                      <a:pt x="25" y="10"/>
                      <a:pt x="22" y="11"/>
                    </a:cubicBezTo>
                    <a:cubicBezTo>
                      <a:pt x="18" y="12"/>
                      <a:pt x="14" y="14"/>
                      <a:pt x="11" y="17"/>
                    </a:cubicBezTo>
                    <a:cubicBezTo>
                      <a:pt x="8" y="20"/>
                      <a:pt x="5" y="22"/>
                      <a:pt x="4" y="26"/>
                    </a:cubicBezTo>
                    <a:cubicBezTo>
                      <a:pt x="2" y="29"/>
                      <a:pt x="2" y="33"/>
                      <a:pt x="2" y="37"/>
                    </a:cubicBezTo>
                    <a:cubicBezTo>
                      <a:pt x="2" y="41"/>
                      <a:pt x="2" y="44"/>
                      <a:pt x="4" y="47"/>
                    </a:cubicBezTo>
                    <a:cubicBezTo>
                      <a:pt x="5" y="50"/>
                      <a:pt x="7" y="52"/>
                      <a:pt x="9" y="54"/>
                    </a:cubicBezTo>
                    <a:cubicBezTo>
                      <a:pt x="9" y="54"/>
                      <a:pt x="9" y="55"/>
                      <a:pt x="10" y="55"/>
                    </a:cubicBezTo>
                    <a:cubicBezTo>
                      <a:pt x="10" y="55"/>
                      <a:pt x="10" y="55"/>
                      <a:pt x="10" y="55"/>
                    </a:cubicBezTo>
                    <a:cubicBezTo>
                      <a:pt x="10" y="55"/>
                      <a:pt x="9" y="55"/>
                      <a:pt x="9" y="54"/>
                    </a:cubicBezTo>
                    <a:cubicBezTo>
                      <a:pt x="9" y="54"/>
                      <a:pt x="9" y="55"/>
                      <a:pt x="10" y="55"/>
                    </a:cubicBezTo>
                    <a:cubicBezTo>
                      <a:pt x="12" y="57"/>
                      <a:pt x="15" y="59"/>
                      <a:pt x="19" y="60"/>
                    </a:cubicBezTo>
                    <a:cubicBezTo>
                      <a:pt x="23" y="62"/>
                      <a:pt x="27" y="63"/>
                      <a:pt x="32" y="64"/>
                    </a:cubicBezTo>
                    <a:cubicBezTo>
                      <a:pt x="32" y="64"/>
                      <a:pt x="32" y="64"/>
                      <a:pt x="32" y="64"/>
                    </a:cubicBezTo>
                    <a:cubicBezTo>
                      <a:pt x="38" y="65"/>
                      <a:pt x="43" y="66"/>
                      <a:pt x="46" y="67"/>
                    </a:cubicBezTo>
                    <a:cubicBezTo>
                      <a:pt x="47" y="67"/>
                      <a:pt x="47" y="67"/>
                      <a:pt x="48" y="67"/>
                    </a:cubicBezTo>
                    <a:cubicBezTo>
                      <a:pt x="51" y="68"/>
                      <a:pt x="54" y="69"/>
                      <a:pt x="56" y="70"/>
                    </a:cubicBezTo>
                    <a:cubicBezTo>
                      <a:pt x="58" y="71"/>
                      <a:pt x="60" y="72"/>
                      <a:pt x="62" y="74"/>
                    </a:cubicBezTo>
                    <a:cubicBezTo>
                      <a:pt x="63" y="76"/>
                      <a:pt x="63" y="78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8"/>
                      <a:pt x="59" y="90"/>
                      <a:pt x="58" y="91"/>
                    </a:cubicBezTo>
                    <a:cubicBezTo>
                      <a:pt x="56" y="93"/>
                      <a:pt x="53" y="94"/>
                      <a:pt x="51" y="95"/>
                    </a:cubicBezTo>
                    <a:cubicBezTo>
                      <a:pt x="50" y="95"/>
                      <a:pt x="49" y="95"/>
                      <a:pt x="49" y="95"/>
                    </a:cubicBezTo>
                    <a:cubicBezTo>
                      <a:pt x="48" y="74"/>
                      <a:pt x="48" y="74"/>
                      <a:pt x="48" y="74"/>
                    </a:cubicBezTo>
                    <a:cubicBezTo>
                      <a:pt x="47" y="74"/>
                      <a:pt x="47" y="73"/>
                      <a:pt x="46" y="73"/>
                    </a:cubicBezTo>
                    <a:cubicBezTo>
                      <a:pt x="42" y="72"/>
                      <a:pt x="38" y="70"/>
                      <a:pt x="32" y="69"/>
                    </a:cubicBezTo>
                    <a:cubicBezTo>
                      <a:pt x="33" y="95"/>
                      <a:pt x="33" y="95"/>
                      <a:pt x="33" y="95"/>
                    </a:cubicBezTo>
                    <a:cubicBezTo>
                      <a:pt x="33" y="95"/>
                      <a:pt x="32" y="95"/>
                      <a:pt x="32" y="95"/>
                    </a:cubicBezTo>
                    <a:cubicBezTo>
                      <a:pt x="29" y="94"/>
                      <a:pt x="26" y="93"/>
                      <a:pt x="24" y="92"/>
                    </a:cubicBezTo>
                    <a:cubicBezTo>
                      <a:pt x="21" y="90"/>
                      <a:pt x="19" y="88"/>
                      <a:pt x="18" y="86"/>
                    </a:cubicBezTo>
                    <a:cubicBezTo>
                      <a:pt x="16" y="83"/>
                      <a:pt x="15" y="80"/>
                      <a:pt x="15" y="77"/>
                    </a:cubicBezTo>
                    <a:cubicBezTo>
                      <a:pt x="0" y="77"/>
                      <a:pt x="0" y="77"/>
                      <a:pt x="0" y="77"/>
                    </a:cubicBezTo>
                    <a:cubicBezTo>
                      <a:pt x="0" y="83"/>
                      <a:pt x="1" y="87"/>
                      <a:pt x="3" y="91"/>
                    </a:cubicBezTo>
                    <a:cubicBezTo>
                      <a:pt x="5" y="96"/>
                      <a:pt x="8" y="99"/>
                      <a:pt x="12" y="102"/>
                    </a:cubicBezTo>
                    <a:cubicBezTo>
                      <a:pt x="15" y="105"/>
                      <a:pt x="20" y="107"/>
                      <a:pt x="25" y="108"/>
                    </a:cubicBezTo>
                    <a:cubicBezTo>
                      <a:pt x="27" y="109"/>
                      <a:pt x="31" y="109"/>
                      <a:pt x="34" y="110"/>
                    </a:cubicBezTo>
                    <a:cubicBezTo>
                      <a:pt x="34" y="119"/>
                      <a:pt x="34" y="119"/>
                      <a:pt x="34" y="119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52" y="109"/>
                      <a:pt x="55" y="108"/>
                      <a:pt x="57" y="107"/>
                    </a:cubicBezTo>
                    <a:cubicBezTo>
                      <a:pt x="62" y="106"/>
                      <a:pt x="66" y="103"/>
                      <a:pt x="69" y="101"/>
                    </a:cubicBezTo>
                    <a:cubicBezTo>
                      <a:pt x="72" y="98"/>
                      <a:pt x="75" y="95"/>
                      <a:pt x="77" y="91"/>
                    </a:cubicBezTo>
                    <a:cubicBezTo>
                      <a:pt x="78" y="87"/>
                      <a:pt x="79" y="83"/>
                      <a:pt x="79" y="79"/>
                    </a:cubicBezTo>
                    <a:cubicBezTo>
                      <a:pt x="79" y="75"/>
                      <a:pt x="78" y="72"/>
                      <a:pt x="77" y="69"/>
                    </a:cubicBezTo>
                    <a:close/>
                    <a:moveTo>
                      <a:pt x="32" y="48"/>
                    </a:moveTo>
                    <a:cubicBezTo>
                      <a:pt x="31" y="48"/>
                      <a:pt x="30" y="47"/>
                      <a:pt x="29" y="47"/>
                    </a:cubicBezTo>
                    <a:cubicBezTo>
                      <a:pt x="26" y="46"/>
                      <a:pt x="24" y="45"/>
                      <a:pt x="22" y="44"/>
                    </a:cubicBezTo>
                    <a:cubicBezTo>
                      <a:pt x="21" y="43"/>
                      <a:pt x="19" y="42"/>
                      <a:pt x="18" y="41"/>
                    </a:cubicBezTo>
                    <a:cubicBezTo>
                      <a:pt x="18" y="39"/>
                      <a:pt x="17" y="38"/>
                      <a:pt x="17" y="36"/>
                    </a:cubicBezTo>
                    <a:cubicBezTo>
                      <a:pt x="17" y="34"/>
                      <a:pt x="18" y="33"/>
                      <a:pt x="18" y="31"/>
                    </a:cubicBezTo>
                    <a:cubicBezTo>
                      <a:pt x="19" y="29"/>
                      <a:pt x="21" y="28"/>
                      <a:pt x="22" y="27"/>
                    </a:cubicBezTo>
                    <a:cubicBezTo>
                      <a:pt x="24" y="25"/>
                      <a:pt x="26" y="24"/>
                      <a:pt x="29" y="23"/>
                    </a:cubicBezTo>
                    <a:cubicBezTo>
                      <a:pt x="29" y="23"/>
                      <a:pt x="30" y="23"/>
                      <a:pt x="31" y="23"/>
                    </a:cubicBezTo>
                    <a:lnTo>
                      <a:pt x="32" y="48"/>
                    </a:lnTo>
                    <a:close/>
                    <a:moveTo>
                      <a:pt x="63" y="80"/>
                    </a:move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80"/>
                      <a:pt x="63" y="80"/>
                      <a:pt x="63" y="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91"/>
              <p:cNvSpPr/>
              <p:nvPr/>
            </p:nvSpPr>
            <p:spPr>
              <a:xfrm>
                <a:off x="6242040" y="2404800"/>
                <a:ext cx="333360" cy="333360"/>
              </a:xfrm>
              <a:custGeom>
                <a:avLst/>
                <a:gdLst/>
                <a:ahLst/>
                <a:rect l="l" t="t" r="r" b="b"/>
                <a:pathLst>
                  <a:path w="179" h="179">
                    <a:moveTo>
                      <a:pt x="167" y="112"/>
                    </a:moveTo>
                    <a:cubicBezTo>
                      <a:pt x="155" y="154"/>
                      <a:pt x="111" y="179"/>
                      <a:pt x="68" y="167"/>
                    </a:cubicBezTo>
                    <a:cubicBezTo>
                      <a:pt x="25" y="155"/>
                      <a:pt x="0" y="111"/>
                      <a:pt x="12" y="68"/>
                    </a:cubicBezTo>
                    <a:cubicBezTo>
                      <a:pt x="24" y="25"/>
                      <a:pt x="68" y="0"/>
                      <a:pt x="111" y="12"/>
                    </a:cubicBezTo>
                    <a:cubicBezTo>
                      <a:pt x="154" y="24"/>
                      <a:pt x="179" y="69"/>
                      <a:pt x="167" y="112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92"/>
              <p:cNvSpPr/>
              <p:nvPr/>
            </p:nvSpPr>
            <p:spPr>
              <a:xfrm>
                <a:off x="6245280" y="2393640"/>
                <a:ext cx="334800" cy="333360"/>
              </a:xfrm>
              <a:custGeom>
                <a:avLst/>
                <a:gdLst/>
                <a:ahLst/>
                <a:rect l="l" t="t" r="r" b="b"/>
                <a:pathLst>
                  <a:path w="179" h="179">
                    <a:moveTo>
                      <a:pt x="167" y="111"/>
                    </a:moveTo>
                    <a:cubicBezTo>
                      <a:pt x="155" y="154"/>
                      <a:pt x="110" y="179"/>
                      <a:pt x="68" y="167"/>
                    </a:cubicBezTo>
                    <a:cubicBezTo>
                      <a:pt x="25" y="155"/>
                      <a:pt x="0" y="111"/>
                      <a:pt x="12" y="68"/>
                    </a:cubicBezTo>
                    <a:cubicBezTo>
                      <a:pt x="24" y="25"/>
                      <a:pt x="68" y="0"/>
                      <a:pt x="111" y="12"/>
                    </a:cubicBezTo>
                    <a:cubicBezTo>
                      <a:pt x="154" y="24"/>
                      <a:pt x="179" y="69"/>
                      <a:pt x="167" y="111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93"/>
              <p:cNvSpPr/>
              <p:nvPr/>
            </p:nvSpPr>
            <p:spPr>
              <a:xfrm>
                <a:off x="6283440" y="2430360"/>
                <a:ext cx="258480" cy="260280"/>
              </a:xfrm>
              <a:custGeom>
                <a:avLst/>
                <a:gdLst/>
                <a:ahLst/>
                <a:rect l="l" t="t" r="r" b="b"/>
                <a:pathLst>
                  <a:path w="139" h="139">
                    <a:moveTo>
                      <a:pt x="129" y="87"/>
                    </a:moveTo>
                    <a:cubicBezTo>
                      <a:pt x="120" y="120"/>
                      <a:pt x="86" y="139"/>
                      <a:pt x="52" y="130"/>
                    </a:cubicBezTo>
                    <a:cubicBezTo>
                      <a:pt x="19" y="121"/>
                      <a:pt x="0" y="86"/>
                      <a:pt x="9" y="53"/>
                    </a:cubicBezTo>
                    <a:cubicBezTo>
                      <a:pt x="18" y="20"/>
                      <a:pt x="53" y="0"/>
                      <a:pt x="86" y="10"/>
                    </a:cubicBezTo>
                    <a:cubicBezTo>
                      <a:pt x="119" y="19"/>
                      <a:pt x="139" y="53"/>
                      <a:pt x="129" y="87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94"/>
              <p:cNvSpPr/>
              <p:nvPr/>
            </p:nvSpPr>
            <p:spPr>
              <a:xfrm>
                <a:off x="6297480" y="2430360"/>
                <a:ext cx="244440" cy="168120"/>
              </a:xfrm>
              <a:custGeom>
                <a:avLst/>
                <a:gdLst/>
                <a:ahLst/>
                <a:rect l="l" t="t" r="r" b="b"/>
                <a:pathLst>
                  <a:path w="131" h="90">
                    <a:moveTo>
                      <a:pt x="76" y="16"/>
                    </a:moveTo>
                    <a:cubicBezTo>
                      <a:pt x="108" y="25"/>
                      <a:pt x="127" y="58"/>
                      <a:pt x="120" y="90"/>
                    </a:cubicBezTo>
                    <a:cubicBezTo>
                      <a:pt x="121" y="89"/>
                      <a:pt x="121" y="88"/>
                      <a:pt x="121" y="87"/>
                    </a:cubicBezTo>
                    <a:cubicBezTo>
                      <a:pt x="131" y="53"/>
                      <a:pt x="111" y="19"/>
                      <a:pt x="78" y="10"/>
                    </a:cubicBezTo>
                    <a:cubicBezTo>
                      <a:pt x="45" y="0"/>
                      <a:pt x="10" y="20"/>
                      <a:pt x="1" y="53"/>
                    </a:cubicBezTo>
                    <a:cubicBezTo>
                      <a:pt x="1" y="54"/>
                      <a:pt x="0" y="55"/>
                      <a:pt x="0" y="56"/>
                    </a:cubicBezTo>
                    <a:cubicBezTo>
                      <a:pt x="11" y="25"/>
                      <a:pt x="44" y="8"/>
                      <a:pt x="76" y="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95"/>
              <p:cNvSpPr/>
              <p:nvPr/>
            </p:nvSpPr>
            <p:spPr>
              <a:xfrm>
                <a:off x="6342120" y="2481120"/>
                <a:ext cx="131760" cy="177480"/>
              </a:xfrm>
              <a:custGeom>
                <a:avLst/>
                <a:gdLst/>
                <a:ahLst/>
                <a:rect l="l" t="t" r="r" b="b"/>
                <a:pathLst>
                  <a:path w="70" h="95">
                    <a:moveTo>
                      <a:pt x="62" y="64"/>
                    </a:moveTo>
                    <a:cubicBezTo>
                      <a:pt x="62" y="62"/>
                      <a:pt x="62" y="60"/>
                      <a:pt x="61" y="58"/>
                    </a:cubicBezTo>
                    <a:cubicBezTo>
                      <a:pt x="60" y="56"/>
                      <a:pt x="59" y="54"/>
                      <a:pt x="57" y="53"/>
                    </a:cubicBezTo>
                    <a:cubicBezTo>
                      <a:pt x="56" y="51"/>
                      <a:pt x="54" y="50"/>
                      <a:pt x="52" y="48"/>
                    </a:cubicBezTo>
                    <a:cubicBezTo>
                      <a:pt x="50" y="47"/>
                      <a:pt x="48" y="45"/>
                      <a:pt x="45" y="44"/>
                    </a:cubicBezTo>
                    <a:cubicBezTo>
                      <a:pt x="45" y="44"/>
                      <a:pt x="44" y="43"/>
                      <a:pt x="44" y="43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5" y="24"/>
                      <a:pt x="58" y="29"/>
                      <a:pt x="57" y="36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70" y="35"/>
                      <a:pt x="70" y="32"/>
                      <a:pt x="69" y="29"/>
                    </a:cubicBezTo>
                    <a:cubicBezTo>
                      <a:pt x="69" y="25"/>
                      <a:pt x="67" y="22"/>
                      <a:pt x="65" y="20"/>
                    </a:cubicBezTo>
                    <a:cubicBezTo>
                      <a:pt x="63" y="17"/>
                      <a:pt x="61" y="15"/>
                      <a:pt x="57" y="13"/>
                    </a:cubicBezTo>
                    <a:cubicBezTo>
                      <a:pt x="56" y="12"/>
                      <a:pt x="55" y="11"/>
                      <a:pt x="53" y="10"/>
                    </a:cubicBezTo>
                    <a:cubicBezTo>
                      <a:pt x="55" y="3"/>
                      <a:pt x="55" y="3"/>
                      <a:pt x="55" y="3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9" y="6"/>
                      <a:pt x="36" y="6"/>
                      <a:pt x="34" y="6"/>
                    </a:cubicBezTo>
                    <a:cubicBezTo>
                      <a:pt x="30" y="6"/>
                      <a:pt x="27" y="7"/>
                      <a:pt x="24" y="8"/>
                    </a:cubicBezTo>
                    <a:cubicBezTo>
                      <a:pt x="21" y="9"/>
                      <a:pt x="19" y="11"/>
                      <a:pt x="17" y="13"/>
                    </a:cubicBezTo>
                    <a:cubicBezTo>
                      <a:pt x="15" y="16"/>
                      <a:pt x="13" y="18"/>
                      <a:pt x="12" y="21"/>
                    </a:cubicBezTo>
                    <a:cubicBezTo>
                      <a:pt x="11" y="24"/>
                      <a:pt x="11" y="27"/>
                      <a:pt x="11" y="30"/>
                    </a:cubicBezTo>
                    <a:cubicBezTo>
                      <a:pt x="12" y="32"/>
                      <a:pt x="12" y="34"/>
                      <a:pt x="14" y="36"/>
                    </a:cubicBezTo>
                    <a:cubicBezTo>
                      <a:pt x="14" y="36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6"/>
                      <a:pt x="14" y="36"/>
                    </a:cubicBezTo>
                    <a:cubicBezTo>
                      <a:pt x="14" y="36"/>
                      <a:pt x="14" y="36"/>
                      <a:pt x="14" y="37"/>
                    </a:cubicBezTo>
                    <a:cubicBezTo>
                      <a:pt x="15" y="39"/>
                      <a:pt x="17" y="41"/>
                      <a:pt x="20" y="43"/>
                    </a:cubicBezTo>
                    <a:cubicBezTo>
                      <a:pt x="23" y="45"/>
                      <a:pt x="26" y="47"/>
                      <a:pt x="29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33" y="51"/>
                      <a:pt x="37" y="53"/>
                      <a:pt x="39" y="55"/>
                    </a:cubicBezTo>
                    <a:cubicBezTo>
                      <a:pt x="40" y="55"/>
                      <a:pt x="40" y="55"/>
                      <a:pt x="40" y="55"/>
                    </a:cubicBezTo>
                    <a:cubicBezTo>
                      <a:pt x="43" y="57"/>
                      <a:pt x="44" y="58"/>
                      <a:pt x="46" y="59"/>
                    </a:cubicBezTo>
                    <a:cubicBezTo>
                      <a:pt x="48" y="61"/>
                      <a:pt x="49" y="62"/>
                      <a:pt x="49" y="64"/>
                    </a:cubicBezTo>
                    <a:cubicBezTo>
                      <a:pt x="50" y="65"/>
                      <a:pt x="50" y="67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ubicBezTo>
                      <a:pt x="47" y="75"/>
                      <a:pt x="43" y="76"/>
                      <a:pt x="42" y="76"/>
                    </a:cubicBezTo>
                    <a:cubicBezTo>
                      <a:pt x="40" y="77"/>
                      <a:pt x="38" y="77"/>
                      <a:pt x="36" y="77"/>
                    </a:cubicBezTo>
                    <a:cubicBezTo>
                      <a:pt x="35" y="77"/>
                      <a:pt x="35" y="77"/>
                      <a:pt x="34" y="77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38" y="60"/>
                      <a:pt x="38" y="60"/>
                      <a:pt x="37" y="59"/>
                    </a:cubicBezTo>
                    <a:cubicBezTo>
                      <a:pt x="35" y="58"/>
                      <a:pt x="32" y="55"/>
                      <a:pt x="28" y="53"/>
                    </a:cubicBezTo>
                    <a:cubicBezTo>
                      <a:pt x="22" y="74"/>
                      <a:pt x="22" y="74"/>
                      <a:pt x="22" y="74"/>
                    </a:cubicBezTo>
                    <a:cubicBezTo>
                      <a:pt x="22" y="73"/>
                      <a:pt x="22" y="73"/>
                      <a:pt x="21" y="73"/>
                    </a:cubicBezTo>
                    <a:cubicBezTo>
                      <a:pt x="19" y="72"/>
                      <a:pt x="17" y="70"/>
                      <a:pt x="16" y="68"/>
                    </a:cubicBezTo>
                    <a:cubicBezTo>
                      <a:pt x="15" y="66"/>
                      <a:pt x="14" y="64"/>
                      <a:pt x="13" y="62"/>
                    </a:cubicBezTo>
                    <a:cubicBezTo>
                      <a:pt x="12" y="60"/>
                      <a:pt x="12" y="58"/>
                      <a:pt x="13" y="55"/>
                    </a:cubicBezTo>
                    <a:cubicBezTo>
                      <a:pt x="1" y="52"/>
                      <a:pt x="1" y="52"/>
                      <a:pt x="1" y="52"/>
                    </a:cubicBezTo>
                    <a:cubicBezTo>
                      <a:pt x="0" y="56"/>
                      <a:pt x="0" y="60"/>
                      <a:pt x="0" y="63"/>
                    </a:cubicBezTo>
                    <a:cubicBezTo>
                      <a:pt x="1" y="67"/>
                      <a:pt x="2" y="70"/>
                      <a:pt x="4" y="73"/>
                    </a:cubicBezTo>
                    <a:cubicBezTo>
                      <a:pt x="6" y="76"/>
                      <a:pt x="9" y="79"/>
                      <a:pt x="13" y="81"/>
                    </a:cubicBezTo>
                    <a:cubicBezTo>
                      <a:pt x="15" y="82"/>
                      <a:pt x="17" y="83"/>
                      <a:pt x="19" y="84"/>
                    </a:cubicBezTo>
                    <a:cubicBezTo>
                      <a:pt x="17" y="92"/>
                      <a:pt x="17" y="92"/>
                      <a:pt x="17" y="92"/>
                    </a:cubicBezTo>
                    <a:cubicBezTo>
                      <a:pt x="29" y="95"/>
                      <a:pt x="29" y="95"/>
                      <a:pt x="29" y="95"/>
                    </a:cubicBezTo>
                    <a:cubicBezTo>
                      <a:pt x="31" y="88"/>
                      <a:pt x="31" y="88"/>
                      <a:pt x="31" y="88"/>
                    </a:cubicBezTo>
                    <a:cubicBezTo>
                      <a:pt x="34" y="88"/>
                      <a:pt x="36" y="88"/>
                      <a:pt x="38" y="88"/>
                    </a:cubicBezTo>
                    <a:cubicBezTo>
                      <a:pt x="42" y="88"/>
                      <a:pt x="45" y="88"/>
                      <a:pt x="49" y="86"/>
                    </a:cubicBezTo>
                    <a:cubicBezTo>
                      <a:pt x="52" y="85"/>
                      <a:pt x="54" y="83"/>
                      <a:pt x="57" y="81"/>
                    </a:cubicBezTo>
                    <a:cubicBezTo>
                      <a:pt x="59" y="78"/>
                      <a:pt x="61" y="75"/>
                      <a:pt x="62" y="72"/>
                    </a:cubicBezTo>
                    <a:cubicBezTo>
                      <a:pt x="62" y="69"/>
                      <a:pt x="63" y="67"/>
                      <a:pt x="62" y="64"/>
                    </a:cubicBezTo>
                    <a:close/>
                    <a:moveTo>
                      <a:pt x="33" y="37"/>
                    </a:moveTo>
                    <a:cubicBezTo>
                      <a:pt x="32" y="36"/>
                      <a:pt x="31" y="36"/>
                      <a:pt x="31" y="35"/>
                    </a:cubicBezTo>
                    <a:cubicBezTo>
                      <a:pt x="29" y="34"/>
                      <a:pt x="27" y="33"/>
                      <a:pt x="26" y="32"/>
                    </a:cubicBezTo>
                    <a:cubicBezTo>
                      <a:pt x="25" y="30"/>
                      <a:pt x="25" y="29"/>
                      <a:pt x="24" y="28"/>
                    </a:cubicBezTo>
                    <a:cubicBezTo>
                      <a:pt x="24" y="27"/>
                      <a:pt x="24" y="26"/>
                      <a:pt x="24" y="24"/>
                    </a:cubicBezTo>
                    <a:cubicBezTo>
                      <a:pt x="25" y="23"/>
                      <a:pt x="26" y="22"/>
                      <a:pt x="27" y="21"/>
                    </a:cubicBezTo>
                    <a:cubicBezTo>
                      <a:pt x="28" y="20"/>
                      <a:pt x="29" y="19"/>
                      <a:pt x="31" y="18"/>
                    </a:cubicBezTo>
                    <a:cubicBezTo>
                      <a:pt x="32" y="18"/>
                      <a:pt x="34" y="17"/>
                      <a:pt x="36" y="17"/>
                    </a:cubicBezTo>
                    <a:cubicBezTo>
                      <a:pt x="37" y="17"/>
                      <a:pt x="37" y="17"/>
                      <a:pt x="38" y="17"/>
                    </a:cubicBezTo>
                    <a:lnTo>
                      <a:pt x="33" y="37"/>
                    </a:lnTo>
                    <a:close/>
                    <a:moveTo>
                      <a:pt x="49" y="69"/>
                    </a:moveTo>
                    <a:cubicBezTo>
                      <a:pt x="49" y="69"/>
                      <a:pt x="49" y="69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ubicBezTo>
                      <a:pt x="49" y="69"/>
                      <a:pt x="49" y="69"/>
                      <a:pt x="49" y="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96"/>
              <p:cNvSpPr/>
              <p:nvPr/>
            </p:nvSpPr>
            <p:spPr>
              <a:xfrm>
                <a:off x="5897520" y="2925720"/>
                <a:ext cx="790560" cy="500040"/>
              </a:xfrm>
              <a:custGeom>
                <a:avLst/>
                <a:gdLst/>
                <a:ahLst/>
                <a:rect l="l" t="t" r="r" b="b"/>
                <a:pathLst>
                  <a:path w="423" h="268">
                    <a:moveTo>
                      <a:pt x="373" y="0"/>
                    </a:moveTo>
                    <a:cubicBezTo>
                      <a:pt x="211" y="3"/>
                      <a:pt x="211" y="3"/>
                      <a:pt x="211" y="3"/>
                    </a:cubicBezTo>
                    <a:cubicBezTo>
                      <a:pt x="50" y="0"/>
                      <a:pt x="50" y="0"/>
                      <a:pt x="50" y="0"/>
                    </a:cubicBezTo>
                    <a:cubicBezTo>
                      <a:pt x="54" y="82"/>
                      <a:pt x="54" y="82"/>
                      <a:pt x="54" y="82"/>
                    </a:cubicBezTo>
                    <a:cubicBezTo>
                      <a:pt x="0" y="181"/>
                      <a:pt x="0" y="181"/>
                      <a:pt x="0" y="181"/>
                    </a:cubicBezTo>
                    <a:cubicBezTo>
                      <a:pt x="54" y="235"/>
                      <a:pt x="129" y="268"/>
                      <a:pt x="211" y="268"/>
                    </a:cubicBezTo>
                    <a:cubicBezTo>
                      <a:pt x="294" y="268"/>
                      <a:pt x="368" y="235"/>
                      <a:pt x="423" y="181"/>
                    </a:cubicBezTo>
                    <a:cubicBezTo>
                      <a:pt x="368" y="82"/>
                      <a:pt x="368" y="82"/>
                      <a:pt x="368" y="82"/>
                    </a:cubicBez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97"/>
              <p:cNvSpPr/>
              <p:nvPr/>
            </p:nvSpPr>
            <p:spPr>
              <a:xfrm>
                <a:off x="5959440" y="2886120"/>
                <a:ext cx="660240" cy="72720"/>
              </a:xfrm>
              <a:custGeom>
                <a:avLst/>
                <a:gdLst/>
                <a:ahLst/>
                <a:rect l="l" t="t" r="r" b="b"/>
                <a:pathLst>
                  <a:path w="354" h="39">
                    <a:moveTo>
                      <a:pt x="354" y="19"/>
                    </a:moveTo>
                    <a:cubicBezTo>
                      <a:pt x="354" y="30"/>
                      <a:pt x="346" y="39"/>
                      <a:pt x="336" y="39"/>
                    </a:cubicBezTo>
                    <a:cubicBezTo>
                      <a:pt x="18" y="39"/>
                      <a:pt x="18" y="39"/>
                      <a:pt x="18" y="39"/>
                    </a:cubicBezTo>
                    <a:cubicBezTo>
                      <a:pt x="8" y="39"/>
                      <a:pt x="0" y="30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9"/>
                      <a:pt x="8" y="0"/>
                      <a:pt x="18" y="0"/>
                    </a:cubicBezTo>
                    <a:cubicBezTo>
                      <a:pt x="336" y="0"/>
                      <a:pt x="336" y="0"/>
                      <a:pt x="336" y="0"/>
                    </a:cubicBezTo>
                    <a:cubicBezTo>
                      <a:pt x="346" y="0"/>
                      <a:pt x="354" y="9"/>
                      <a:pt x="354" y="19"/>
                    </a:cubicBez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Oval 98"/>
              <p:cNvSpPr/>
              <p:nvPr/>
            </p:nvSpPr>
            <p:spPr>
              <a:xfrm>
                <a:off x="6191280" y="2766960"/>
                <a:ext cx="75960" cy="8388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99"/>
              <p:cNvSpPr/>
              <p:nvPr/>
            </p:nvSpPr>
            <p:spPr>
              <a:xfrm>
                <a:off x="6216480" y="2811240"/>
                <a:ext cx="69840" cy="115560"/>
              </a:xfrm>
              <a:custGeom>
                <a:avLst/>
                <a:gdLst/>
                <a:ahLst/>
                <a:rect l="l" t="t" r="r" b="b"/>
                <a:pathLst>
                  <a:path w="44" h="73">
                    <a:moveTo>
                      <a:pt x="0" y="0"/>
                    </a:moveTo>
                    <a:lnTo>
                      <a:pt x="16" y="73"/>
                    </a:lnTo>
                    <a:lnTo>
                      <a:pt x="44" y="6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Oval 100"/>
              <p:cNvSpPr/>
              <p:nvPr/>
            </p:nvSpPr>
            <p:spPr>
              <a:xfrm>
                <a:off x="6294240" y="2766960"/>
                <a:ext cx="75960" cy="8388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101"/>
              <p:cNvSpPr/>
              <p:nvPr/>
            </p:nvSpPr>
            <p:spPr>
              <a:xfrm>
                <a:off x="6275160" y="2811240"/>
                <a:ext cx="68040" cy="115560"/>
              </a:xfrm>
              <a:custGeom>
                <a:avLst/>
                <a:gdLst/>
                <a:ahLst/>
                <a:rect l="l" t="t" r="r" b="b"/>
                <a:pathLst>
                  <a:path w="43" h="73">
                    <a:moveTo>
                      <a:pt x="43" y="0"/>
                    </a:moveTo>
                    <a:lnTo>
                      <a:pt x="29" y="73"/>
                    </a:lnTo>
                    <a:lnTo>
                      <a:pt x="0" y="68"/>
                    </a:lnTo>
                    <a:lnTo>
                      <a:pt x="3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36" name="组合 206"/>
            <p:cNvGrpSpPr/>
            <p:nvPr/>
          </p:nvGrpSpPr>
          <p:grpSpPr>
            <a:xfrm>
              <a:off x="9896040" y="1541520"/>
              <a:ext cx="1228680" cy="1225440"/>
              <a:chOff x="9896040" y="1541520"/>
              <a:chExt cx="1228680" cy="1225440"/>
            </a:xfrm>
          </p:grpSpPr>
          <p:sp>
            <p:nvSpPr>
              <p:cNvPr id="537" name="Oval 33"/>
              <p:cNvSpPr/>
              <p:nvPr/>
            </p:nvSpPr>
            <p:spPr>
              <a:xfrm>
                <a:off x="9896040" y="1541520"/>
                <a:ext cx="1228680" cy="1225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Oval 102"/>
              <p:cNvSpPr/>
              <p:nvPr/>
            </p:nvSpPr>
            <p:spPr>
              <a:xfrm>
                <a:off x="9948240" y="1584360"/>
                <a:ext cx="1127160" cy="1127160"/>
              </a:xfrm>
              <a:prstGeom prst="ellipse">
                <a:avLst/>
              </a:pr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103"/>
              <p:cNvSpPr/>
              <p:nvPr/>
            </p:nvSpPr>
            <p:spPr>
              <a:xfrm>
                <a:off x="10631160" y="1871640"/>
                <a:ext cx="433440" cy="371520"/>
              </a:xfrm>
              <a:custGeom>
                <a:avLst/>
                <a:gdLst/>
                <a:ahLst/>
                <a:rect l="l" t="t" r="r" b="b"/>
                <a:pathLst>
                  <a:path w="232" h="199">
                    <a:moveTo>
                      <a:pt x="0" y="199"/>
                    </a:moveTo>
                    <a:cubicBezTo>
                      <a:pt x="232" y="90"/>
                      <a:pt x="232" y="90"/>
                      <a:pt x="232" y="90"/>
                    </a:cubicBezTo>
                    <a:cubicBezTo>
                      <a:pt x="226" y="58"/>
                      <a:pt x="215" y="28"/>
                      <a:pt x="199" y="0"/>
                    </a:cubicBez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104"/>
              <p:cNvSpPr/>
              <p:nvPr/>
            </p:nvSpPr>
            <p:spPr>
              <a:xfrm>
                <a:off x="10724760" y="1608120"/>
                <a:ext cx="345960" cy="345960"/>
              </a:xfrm>
              <a:custGeom>
                <a:avLst/>
                <a:gdLst/>
                <a:ahLst/>
                <a:rect l="l" t="t" r="r" b="b"/>
                <a:pathLst>
                  <a:path w="185" h="185">
                    <a:moveTo>
                      <a:pt x="156" y="28"/>
                    </a:moveTo>
                    <a:cubicBezTo>
                      <a:pt x="184" y="56"/>
                      <a:pt x="185" y="101"/>
                      <a:pt x="157" y="129"/>
                    </a:cubicBezTo>
                    <a:cubicBezTo>
                      <a:pt x="129" y="157"/>
                      <a:pt x="129" y="157"/>
                      <a:pt x="129" y="157"/>
                    </a:cubicBezTo>
                    <a:cubicBezTo>
                      <a:pt x="101" y="185"/>
                      <a:pt x="56" y="185"/>
                      <a:pt x="28" y="157"/>
                    </a:cubicBezTo>
                    <a:cubicBezTo>
                      <a:pt x="28" y="157"/>
                      <a:pt x="28" y="157"/>
                      <a:pt x="28" y="157"/>
                    </a:cubicBezTo>
                    <a:cubicBezTo>
                      <a:pt x="0" y="129"/>
                      <a:pt x="0" y="84"/>
                      <a:pt x="28" y="56"/>
                    </a:cubicBezTo>
                    <a:cubicBezTo>
                      <a:pt x="55" y="28"/>
                      <a:pt x="55" y="28"/>
                      <a:pt x="55" y="28"/>
                    </a:cubicBezTo>
                    <a:cubicBezTo>
                      <a:pt x="83" y="0"/>
                      <a:pt x="128" y="0"/>
                      <a:pt x="156" y="28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105"/>
              <p:cNvSpPr/>
              <p:nvPr/>
            </p:nvSpPr>
            <p:spPr>
              <a:xfrm>
                <a:off x="10353240" y="1758960"/>
                <a:ext cx="56664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235" y="0"/>
                    </a:moveTo>
                    <a:lnTo>
                      <a:pt x="53" y="183"/>
                    </a:lnTo>
                    <a:lnTo>
                      <a:pt x="0" y="357"/>
                    </a:lnTo>
                    <a:lnTo>
                      <a:pt x="175" y="305"/>
                    </a:lnTo>
                    <a:lnTo>
                      <a:pt x="357" y="121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2a9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106"/>
              <p:cNvSpPr/>
              <p:nvPr/>
            </p:nvSpPr>
            <p:spPr>
              <a:xfrm>
                <a:off x="10566000" y="1876320"/>
                <a:ext cx="347400" cy="353880"/>
              </a:xfrm>
              <a:custGeom>
                <a:avLst/>
                <a:gdLst/>
                <a:ahLst/>
                <a:rect l="l" t="t" r="r" b="b"/>
                <a:pathLst>
                  <a:path w="219" h="223">
                    <a:moveTo>
                      <a:pt x="219" y="51"/>
                    </a:moveTo>
                    <a:lnTo>
                      <a:pt x="49" y="223"/>
                    </a:lnTo>
                    <a:lnTo>
                      <a:pt x="0" y="173"/>
                    </a:lnTo>
                    <a:lnTo>
                      <a:pt x="168" y="0"/>
                    </a:lnTo>
                    <a:lnTo>
                      <a:pt x="219" y="51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107"/>
              <p:cNvSpPr/>
              <p:nvPr/>
            </p:nvSpPr>
            <p:spPr>
              <a:xfrm>
                <a:off x="10450080" y="1763640"/>
                <a:ext cx="347400" cy="352440"/>
              </a:xfrm>
              <a:custGeom>
                <a:avLst/>
                <a:gdLst/>
                <a:ahLst/>
                <a:rect l="l" t="t" r="r" b="b"/>
                <a:pathLst>
                  <a:path w="219" h="222">
                    <a:moveTo>
                      <a:pt x="219" y="49"/>
                    </a:moveTo>
                    <a:lnTo>
                      <a:pt x="49" y="222"/>
                    </a:lnTo>
                    <a:lnTo>
                      <a:pt x="0" y="171"/>
                    </a:lnTo>
                    <a:lnTo>
                      <a:pt x="169" y="0"/>
                    </a:lnTo>
                    <a:lnTo>
                      <a:pt x="219" y="49"/>
                    </a:ln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108"/>
              <p:cNvSpPr/>
              <p:nvPr/>
            </p:nvSpPr>
            <p:spPr>
              <a:xfrm>
                <a:off x="10512000" y="1825560"/>
                <a:ext cx="347400" cy="352440"/>
              </a:xfrm>
              <a:custGeom>
                <a:avLst/>
                <a:gdLst/>
                <a:ahLst/>
                <a:rect l="l" t="t" r="r" b="b"/>
                <a:pathLst>
                  <a:path w="219" h="222">
                    <a:moveTo>
                      <a:pt x="219" y="49"/>
                    </a:moveTo>
                    <a:lnTo>
                      <a:pt x="50" y="222"/>
                    </a:lnTo>
                    <a:lnTo>
                      <a:pt x="0" y="172"/>
                    </a:lnTo>
                    <a:lnTo>
                      <a:pt x="169" y="0"/>
                    </a:lnTo>
                    <a:lnTo>
                      <a:pt x="219" y="49"/>
                    </a:ln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109"/>
              <p:cNvSpPr/>
              <p:nvPr/>
            </p:nvSpPr>
            <p:spPr>
              <a:xfrm>
                <a:off x="10353240" y="2219400"/>
                <a:ext cx="107640" cy="106200"/>
              </a:xfrm>
              <a:custGeom>
                <a:avLst/>
                <a:gdLst/>
                <a:ahLst/>
                <a:rect l="l" t="t" r="r" b="b"/>
                <a:pathLst>
                  <a:path w="68" h="67">
                    <a:moveTo>
                      <a:pt x="21" y="0"/>
                    </a:moveTo>
                    <a:lnTo>
                      <a:pt x="0" y="67"/>
                    </a:lnTo>
                    <a:lnTo>
                      <a:pt x="68" y="4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110"/>
              <p:cNvSpPr/>
              <p:nvPr/>
            </p:nvSpPr>
            <p:spPr>
              <a:xfrm>
                <a:off x="10701000" y="1654200"/>
                <a:ext cx="323640" cy="325440"/>
              </a:xfrm>
              <a:custGeom>
                <a:avLst/>
                <a:gdLst/>
                <a:ahLst/>
                <a:rect l="l" t="t" r="r" b="b"/>
                <a:pathLst>
                  <a:path w="204" h="205">
                    <a:moveTo>
                      <a:pt x="204" y="132"/>
                    </a:moveTo>
                    <a:lnTo>
                      <a:pt x="131" y="205"/>
                    </a:lnTo>
                    <a:lnTo>
                      <a:pt x="0" y="73"/>
                    </a:lnTo>
                    <a:lnTo>
                      <a:pt x="73" y="0"/>
                    </a:lnTo>
                    <a:lnTo>
                      <a:pt x="204" y="132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1"/>
              <p:cNvSpPr/>
              <p:nvPr/>
            </p:nvSpPr>
            <p:spPr>
              <a:xfrm>
                <a:off x="10686600" y="1743120"/>
                <a:ext cx="250560" cy="249120"/>
              </a:xfrm>
              <a:custGeom>
                <a:avLst/>
                <a:gdLst/>
                <a:ahLst/>
                <a:rect l="l" t="t" r="r" b="b"/>
                <a:pathLst>
                  <a:path w="158" h="157">
                    <a:moveTo>
                      <a:pt x="158" y="137"/>
                    </a:moveTo>
                    <a:lnTo>
                      <a:pt x="139" y="157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158" y="137"/>
                    </a:ln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2"/>
              <p:cNvSpPr/>
              <p:nvPr/>
            </p:nvSpPr>
            <p:spPr>
              <a:xfrm>
                <a:off x="10735920" y="1693800"/>
                <a:ext cx="250560" cy="249120"/>
              </a:xfrm>
              <a:custGeom>
                <a:avLst/>
                <a:gdLst/>
                <a:ahLst/>
                <a:rect l="l" t="t" r="r" b="b"/>
                <a:pathLst>
                  <a:path w="158" h="157">
                    <a:moveTo>
                      <a:pt x="158" y="138"/>
                    </a:moveTo>
                    <a:lnTo>
                      <a:pt x="139" y="157"/>
                    </a:lnTo>
                    <a:lnTo>
                      <a:pt x="0" y="19"/>
                    </a:lnTo>
                    <a:lnTo>
                      <a:pt x="20" y="0"/>
                    </a:lnTo>
                    <a:lnTo>
                      <a:pt x="158" y="138"/>
                    </a:ln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3"/>
              <p:cNvSpPr/>
              <p:nvPr/>
            </p:nvSpPr>
            <p:spPr>
              <a:xfrm>
                <a:off x="10786680" y="1643040"/>
                <a:ext cx="249120" cy="25056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139"/>
                    </a:moveTo>
                    <a:lnTo>
                      <a:pt x="137" y="158"/>
                    </a:lnTo>
                    <a:lnTo>
                      <a:pt x="0" y="20"/>
                    </a:lnTo>
                    <a:lnTo>
                      <a:pt x="19" y="0"/>
                    </a:lnTo>
                    <a:lnTo>
                      <a:pt x="157" y="139"/>
                    </a:ln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114"/>
              <p:cNvSpPr/>
              <p:nvPr/>
            </p:nvSpPr>
            <p:spPr>
              <a:xfrm>
                <a:off x="9984960" y="2347920"/>
                <a:ext cx="495360" cy="44280"/>
              </a:xfrm>
              <a:custGeom>
                <a:avLst/>
                <a:gdLst/>
                <a:ahLst/>
                <a:rect l="l" t="t" r="r" b="b"/>
                <a:pathLst>
                  <a:path w="265" h="24">
                    <a:moveTo>
                      <a:pt x="10" y="24"/>
                    </a:moveTo>
                    <a:cubicBezTo>
                      <a:pt x="265" y="24"/>
                      <a:pt x="265" y="24"/>
                      <a:pt x="265" y="24"/>
                    </a:cubicBezTo>
                    <a:cubicBezTo>
                      <a:pt x="265" y="0"/>
                      <a:pt x="265" y="0"/>
                      <a:pt x="26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8"/>
                      <a:pt x="6" y="16"/>
                      <a:pt x="10" y="24"/>
                    </a:cubicBez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115"/>
              <p:cNvSpPr/>
              <p:nvPr/>
            </p:nvSpPr>
            <p:spPr>
              <a:xfrm>
                <a:off x="10286640" y="2212920"/>
                <a:ext cx="44280" cy="468360"/>
              </a:xfrm>
              <a:custGeom>
                <a:avLst/>
                <a:gdLst/>
                <a:ahLst/>
                <a:rect l="l" t="t" r="r" b="b"/>
                <a:pathLst>
                  <a:path w="24" h="251">
                    <a:moveTo>
                      <a:pt x="0" y="241"/>
                    </a:moveTo>
                    <a:cubicBezTo>
                      <a:pt x="8" y="245"/>
                      <a:pt x="16" y="248"/>
                      <a:pt x="24" y="251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41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2" name="组合 202"/>
            <p:cNvGrpSpPr/>
            <p:nvPr/>
          </p:nvGrpSpPr>
          <p:grpSpPr>
            <a:xfrm>
              <a:off x="5973840" y="3992400"/>
              <a:ext cx="1228680" cy="1228680"/>
              <a:chOff x="5973840" y="3992400"/>
              <a:chExt cx="1228680" cy="1228680"/>
            </a:xfrm>
          </p:grpSpPr>
          <p:sp>
            <p:nvSpPr>
              <p:cNvPr id="553" name="Oval 35"/>
              <p:cNvSpPr/>
              <p:nvPr/>
            </p:nvSpPr>
            <p:spPr>
              <a:xfrm>
                <a:off x="5973840" y="399240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Oval 116"/>
              <p:cNvSpPr/>
              <p:nvPr/>
            </p:nvSpPr>
            <p:spPr>
              <a:xfrm>
                <a:off x="6030720" y="4039920"/>
                <a:ext cx="1127160" cy="112716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117"/>
              <p:cNvSpPr/>
              <p:nvPr/>
            </p:nvSpPr>
            <p:spPr>
              <a:xfrm>
                <a:off x="6130800" y="4125600"/>
                <a:ext cx="924120" cy="984240"/>
              </a:xfrm>
              <a:custGeom>
                <a:avLst/>
                <a:gdLst/>
                <a:ahLst/>
                <a:rect l="l" t="t" r="r" b="b"/>
                <a:pathLst>
                  <a:path w="495" h="527">
                    <a:moveTo>
                      <a:pt x="495" y="199"/>
                    </a:moveTo>
                    <a:cubicBezTo>
                      <a:pt x="495" y="192"/>
                      <a:pt x="491" y="186"/>
                      <a:pt x="486" y="183"/>
                    </a:cubicBezTo>
                    <a:cubicBezTo>
                      <a:pt x="259" y="6"/>
                      <a:pt x="259" y="6"/>
                      <a:pt x="259" y="6"/>
                    </a:cubicBezTo>
                    <a:cubicBezTo>
                      <a:pt x="252" y="0"/>
                      <a:pt x="240" y="0"/>
                      <a:pt x="233" y="6"/>
                    </a:cubicBezTo>
                    <a:cubicBezTo>
                      <a:pt x="10" y="183"/>
                      <a:pt x="10" y="183"/>
                      <a:pt x="10" y="183"/>
                    </a:cubicBezTo>
                    <a:cubicBezTo>
                      <a:pt x="5" y="186"/>
                      <a:pt x="0" y="192"/>
                      <a:pt x="0" y="199"/>
                    </a:cubicBezTo>
                    <a:cubicBezTo>
                      <a:pt x="0" y="429"/>
                      <a:pt x="0" y="429"/>
                      <a:pt x="0" y="429"/>
                    </a:cubicBezTo>
                    <a:cubicBezTo>
                      <a:pt x="30" y="471"/>
                      <a:pt x="69" y="504"/>
                      <a:pt x="115" y="527"/>
                    </a:cubicBezTo>
                    <a:cubicBezTo>
                      <a:pt x="381" y="527"/>
                      <a:pt x="381" y="527"/>
                      <a:pt x="381" y="527"/>
                    </a:cubicBezTo>
                    <a:cubicBezTo>
                      <a:pt x="427" y="504"/>
                      <a:pt x="466" y="471"/>
                      <a:pt x="495" y="429"/>
                    </a:cubicBezTo>
                    <a:lnTo>
                      <a:pt x="495" y="199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Rectangle 118"/>
              <p:cNvSpPr/>
              <p:nvPr/>
            </p:nvSpPr>
            <p:spPr>
              <a:xfrm>
                <a:off x="6203880" y="4032000"/>
                <a:ext cx="773280" cy="735120"/>
              </a:xfrm>
              <a:prstGeom prst="rect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119"/>
              <p:cNvSpPr/>
              <p:nvPr/>
            </p:nvSpPr>
            <p:spPr>
              <a:xfrm>
                <a:off x="6203880" y="4520880"/>
                <a:ext cx="773280" cy="379440"/>
              </a:xfrm>
              <a:custGeom>
                <a:avLst/>
                <a:gdLst/>
                <a:ahLst/>
                <a:rect l="l" t="t" r="r" b="b"/>
                <a:pathLst>
                  <a:path w="414" h="203">
                    <a:moveTo>
                      <a:pt x="223" y="107"/>
                    </a:moveTo>
                    <a:cubicBezTo>
                      <a:pt x="220" y="105"/>
                      <a:pt x="220" y="105"/>
                      <a:pt x="220" y="105"/>
                    </a:cubicBezTo>
                    <a:cubicBezTo>
                      <a:pt x="213" y="100"/>
                      <a:pt x="201" y="100"/>
                      <a:pt x="194" y="105"/>
                    </a:cubicBezTo>
                    <a:cubicBezTo>
                      <a:pt x="193" y="106"/>
                      <a:pt x="193" y="106"/>
                      <a:pt x="193" y="10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03"/>
                      <a:pt x="0" y="203"/>
                      <a:pt x="0" y="203"/>
                    </a:cubicBezTo>
                    <a:cubicBezTo>
                      <a:pt x="51" y="203"/>
                      <a:pt x="51" y="203"/>
                      <a:pt x="51" y="203"/>
                    </a:cubicBezTo>
                    <a:cubicBezTo>
                      <a:pt x="363" y="203"/>
                      <a:pt x="363" y="203"/>
                      <a:pt x="363" y="203"/>
                    </a:cubicBezTo>
                    <a:cubicBezTo>
                      <a:pt x="414" y="203"/>
                      <a:pt x="414" y="203"/>
                      <a:pt x="414" y="203"/>
                    </a:cubicBezTo>
                    <a:cubicBezTo>
                      <a:pt x="414" y="2"/>
                      <a:pt x="414" y="2"/>
                      <a:pt x="414" y="2"/>
                    </a:cubicBezTo>
                    <a:lnTo>
                      <a:pt x="223" y="107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Rectangle 120"/>
              <p:cNvSpPr/>
              <p:nvPr/>
            </p:nvSpPr>
            <p:spPr>
              <a:xfrm>
                <a:off x="6280200" y="4109760"/>
                <a:ext cx="627120" cy="316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Rectangle 121"/>
              <p:cNvSpPr/>
              <p:nvPr/>
            </p:nvSpPr>
            <p:spPr>
              <a:xfrm>
                <a:off x="6280200" y="4187520"/>
                <a:ext cx="627120" cy="316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Rectangle 122"/>
              <p:cNvSpPr/>
              <p:nvPr/>
            </p:nvSpPr>
            <p:spPr>
              <a:xfrm>
                <a:off x="6280200" y="4263840"/>
                <a:ext cx="627120" cy="316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Rectangle 123"/>
              <p:cNvSpPr/>
              <p:nvPr/>
            </p:nvSpPr>
            <p:spPr>
              <a:xfrm>
                <a:off x="6280200" y="4341600"/>
                <a:ext cx="288720" cy="29880"/>
              </a:xfrm>
              <a:prstGeom prst="rect">
                <a:avLst/>
              </a:pr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124"/>
              <p:cNvSpPr/>
              <p:nvPr/>
            </p:nvSpPr>
            <p:spPr>
              <a:xfrm>
                <a:off x="6653160" y="4392360"/>
                <a:ext cx="198360" cy="201600"/>
              </a:xfrm>
              <a:custGeom>
                <a:avLst/>
                <a:gdLst/>
                <a:ahLst/>
                <a:rect l="l" t="t" r="r" b="b"/>
                <a:pathLst>
                  <a:path w="106" h="108">
                    <a:moveTo>
                      <a:pt x="68" y="10"/>
                    </a:moveTo>
                    <a:cubicBezTo>
                      <a:pt x="74" y="16"/>
                      <a:pt x="83" y="8"/>
                      <a:pt x="88" y="14"/>
                    </a:cubicBezTo>
                    <a:cubicBezTo>
                      <a:pt x="91" y="17"/>
                      <a:pt x="91" y="21"/>
                      <a:pt x="93" y="29"/>
                    </a:cubicBezTo>
                    <a:cubicBezTo>
                      <a:pt x="94" y="38"/>
                      <a:pt x="106" y="38"/>
                      <a:pt x="106" y="46"/>
                    </a:cubicBezTo>
                    <a:cubicBezTo>
                      <a:pt x="106" y="49"/>
                      <a:pt x="104" y="52"/>
                      <a:pt x="99" y="60"/>
                    </a:cubicBezTo>
                    <a:cubicBezTo>
                      <a:pt x="95" y="68"/>
                      <a:pt x="104" y="75"/>
                      <a:pt x="99" y="81"/>
                    </a:cubicBezTo>
                    <a:cubicBezTo>
                      <a:pt x="97" y="84"/>
                      <a:pt x="94" y="85"/>
                      <a:pt x="85" y="88"/>
                    </a:cubicBezTo>
                    <a:cubicBezTo>
                      <a:pt x="77" y="91"/>
                      <a:pt x="79" y="103"/>
                      <a:pt x="71" y="104"/>
                    </a:cubicBezTo>
                    <a:cubicBezTo>
                      <a:pt x="68" y="105"/>
                      <a:pt x="65" y="103"/>
                      <a:pt x="56" y="100"/>
                    </a:cubicBezTo>
                    <a:cubicBezTo>
                      <a:pt x="48" y="97"/>
                      <a:pt x="42" y="108"/>
                      <a:pt x="35" y="104"/>
                    </a:cubicBezTo>
                    <a:cubicBezTo>
                      <a:pt x="32" y="102"/>
                      <a:pt x="31" y="99"/>
                      <a:pt x="26" y="91"/>
                    </a:cubicBezTo>
                    <a:cubicBezTo>
                      <a:pt x="22" y="84"/>
                      <a:pt x="11" y="87"/>
                      <a:pt x="8" y="80"/>
                    </a:cubicBezTo>
                    <a:cubicBezTo>
                      <a:pt x="7" y="77"/>
                      <a:pt x="8" y="73"/>
                      <a:pt x="9" y="64"/>
                    </a:cubicBezTo>
                    <a:cubicBezTo>
                      <a:pt x="10" y="56"/>
                      <a:pt x="0" y="52"/>
                      <a:pt x="2" y="44"/>
                    </a:cubicBezTo>
                    <a:cubicBezTo>
                      <a:pt x="3" y="41"/>
                      <a:pt x="6" y="39"/>
                      <a:pt x="13" y="33"/>
                    </a:cubicBezTo>
                    <a:cubicBezTo>
                      <a:pt x="19" y="28"/>
                      <a:pt x="14" y="17"/>
                      <a:pt x="21" y="13"/>
                    </a:cubicBezTo>
                    <a:cubicBezTo>
                      <a:pt x="23" y="12"/>
                      <a:pt x="27" y="12"/>
                      <a:pt x="37" y="12"/>
                    </a:cubicBezTo>
                    <a:cubicBezTo>
                      <a:pt x="45" y="12"/>
                      <a:pt x="47" y="0"/>
                      <a:pt x="55" y="1"/>
                    </a:cubicBezTo>
                    <a:cubicBezTo>
                      <a:pt x="58" y="2"/>
                      <a:pt x="61" y="5"/>
                      <a:pt x="68" y="10"/>
                    </a:cubicBezTo>
                    <a:close/>
                  </a:path>
                </a:pathLst>
              </a:cu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125"/>
              <p:cNvSpPr/>
              <p:nvPr/>
            </p:nvSpPr>
            <p:spPr>
              <a:xfrm>
                <a:off x="6693120" y="4431960"/>
                <a:ext cx="123840" cy="122040"/>
              </a:xfrm>
              <a:prstGeom prst="ellipse">
                <a:avLst/>
              </a:prstGeom>
              <a:solidFill>
                <a:srgbClr val="e9c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Oval 126"/>
              <p:cNvSpPr/>
              <p:nvPr/>
            </p:nvSpPr>
            <p:spPr>
              <a:xfrm>
                <a:off x="6707160" y="4447800"/>
                <a:ext cx="91800" cy="90360"/>
              </a:xfrm>
              <a:prstGeom prst="ellipse">
                <a:avLst/>
              </a:pr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127"/>
              <p:cNvSpPr/>
              <p:nvPr/>
            </p:nvSpPr>
            <p:spPr>
              <a:xfrm>
                <a:off x="6130800" y="4530600"/>
                <a:ext cx="924120" cy="579240"/>
              </a:xfrm>
              <a:custGeom>
                <a:avLst/>
                <a:gdLst/>
                <a:ahLst/>
                <a:rect l="l" t="t" r="r" b="b"/>
                <a:pathLst>
                  <a:path w="495" h="310">
                    <a:moveTo>
                      <a:pt x="495" y="1"/>
                    </a:moveTo>
                    <a:cubicBezTo>
                      <a:pt x="491" y="0"/>
                      <a:pt x="487" y="0"/>
                      <a:pt x="483" y="3"/>
                    </a:cubicBezTo>
                    <a:cubicBezTo>
                      <a:pt x="248" y="132"/>
                      <a:pt x="248" y="132"/>
                      <a:pt x="248" y="13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9" y="0"/>
                      <a:pt x="5" y="0"/>
                      <a:pt x="0" y="1"/>
                    </a:cubicBezTo>
                    <a:cubicBezTo>
                      <a:pt x="0" y="212"/>
                      <a:pt x="0" y="212"/>
                      <a:pt x="0" y="212"/>
                    </a:cubicBezTo>
                    <a:cubicBezTo>
                      <a:pt x="30" y="254"/>
                      <a:pt x="69" y="287"/>
                      <a:pt x="115" y="310"/>
                    </a:cubicBezTo>
                    <a:cubicBezTo>
                      <a:pt x="236" y="310"/>
                      <a:pt x="236" y="310"/>
                      <a:pt x="236" y="310"/>
                    </a:cubicBezTo>
                    <a:cubicBezTo>
                      <a:pt x="260" y="310"/>
                      <a:pt x="260" y="310"/>
                      <a:pt x="260" y="310"/>
                    </a:cubicBezTo>
                    <a:cubicBezTo>
                      <a:pt x="381" y="310"/>
                      <a:pt x="381" y="310"/>
                      <a:pt x="381" y="310"/>
                    </a:cubicBezTo>
                    <a:cubicBezTo>
                      <a:pt x="427" y="287"/>
                      <a:pt x="466" y="254"/>
                      <a:pt x="495" y="212"/>
                    </a:cubicBezTo>
                    <a:lnTo>
                      <a:pt x="495" y="1"/>
                    </a:ln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128"/>
              <p:cNvSpPr/>
              <p:nvPr/>
            </p:nvSpPr>
            <p:spPr>
              <a:xfrm>
                <a:off x="6186600" y="4743360"/>
                <a:ext cx="811080" cy="366480"/>
              </a:xfrm>
              <a:custGeom>
                <a:avLst/>
                <a:gdLst/>
                <a:ahLst/>
                <a:rect l="l" t="t" r="r" b="b"/>
                <a:pathLst>
                  <a:path w="434" h="196">
                    <a:moveTo>
                      <a:pt x="248" y="2"/>
                    </a:moveTo>
                    <a:cubicBezTo>
                      <a:pt x="218" y="18"/>
                      <a:pt x="218" y="18"/>
                      <a:pt x="218" y="18"/>
                    </a:cubicBezTo>
                    <a:cubicBezTo>
                      <a:pt x="185" y="0"/>
                      <a:pt x="185" y="0"/>
                      <a:pt x="185" y="0"/>
                    </a:cubicBezTo>
                    <a:cubicBezTo>
                      <a:pt x="0" y="134"/>
                      <a:pt x="0" y="134"/>
                      <a:pt x="0" y="134"/>
                    </a:cubicBezTo>
                    <a:cubicBezTo>
                      <a:pt x="24" y="159"/>
                      <a:pt x="53" y="180"/>
                      <a:pt x="85" y="196"/>
                    </a:cubicBezTo>
                    <a:cubicBezTo>
                      <a:pt x="206" y="196"/>
                      <a:pt x="206" y="196"/>
                      <a:pt x="206" y="196"/>
                    </a:cubicBezTo>
                    <a:cubicBezTo>
                      <a:pt x="230" y="196"/>
                      <a:pt x="230" y="196"/>
                      <a:pt x="230" y="196"/>
                    </a:cubicBezTo>
                    <a:cubicBezTo>
                      <a:pt x="351" y="196"/>
                      <a:pt x="351" y="196"/>
                      <a:pt x="351" y="196"/>
                    </a:cubicBezTo>
                    <a:cubicBezTo>
                      <a:pt x="382" y="181"/>
                      <a:pt x="410" y="160"/>
                      <a:pt x="434" y="136"/>
                    </a:cubicBezTo>
                    <a:lnTo>
                      <a:pt x="248" y="2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129"/>
              <p:cNvSpPr/>
              <p:nvPr/>
            </p:nvSpPr>
            <p:spPr>
              <a:xfrm>
                <a:off x="6211800" y="4749480"/>
                <a:ext cx="760320" cy="417600"/>
              </a:xfrm>
              <a:custGeom>
                <a:avLst/>
                <a:gdLst/>
                <a:ahLst/>
                <a:rect l="l" t="t" r="r" b="b"/>
                <a:pathLst>
                  <a:path w="408" h="224">
                    <a:moveTo>
                      <a:pt x="205" y="224"/>
                    </a:moveTo>
                    <a:cubicBezTo>
                      <a:pt x="283" y="224"/>
                      <a:pt x="355" y="194"/>
                      <a:pt x="408" y="145"/>
                    </a:cubicBezTo>
                    <a:cubicBezTo>
                      <a:pt x="216" y="5"/>
                      <a:pt x="216" y="5"/>
                      <a:pt x="216" y="5"/>
                    </a:cubicBezTo>
                    <a:cubicBezTo>
                      <a:pt x="209" y="0"/>
                      <a:pt x="197" y="0"/>
                      <a:pt x="190" y="5"/>
                    </a:cubicBezTo>
                    <a:cubicBezTo>
                      <a:pt x="0" y="144"/>
                      <a:pt x="0" y="144"/>
                      <a:pt x="0" y="144"/>
                    </a:cubicBezTo>
                    <a:cubicBezTo>
                      <a:pt x="54" y="193"/>
                      <a:pt x="126" y="224"/>
                      <a:pt x="205" y="224"/>
                    </a:cubicBezTo>
                    <a:close/>
                  </a:path>
                </a:pathLst>
              </a:cu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组合 208"/>
            <p:cNvGrpSpPr/>
            <p:nvPr/>
          </p:nvGrpSpPr>
          <p:grpSpPr>
            <a:xfrm>
              <a:off x="10190160" y="3288600"/>
              <a:ext cx="1228680" cy="1228680"/>
              <a:chOff x="10190160" y="3288600"/>
              <a:chExt cx="1228680" cy="1228680"/>
            </a:xfrm>
          </p:grpSpPr>
          <p:sp>
            <p:nvSpPr>
              <p:cNvPr id="569" name="Oval 34"/>
              <p:cNvSpPr/>
              <p:nvPr/>
            </p:nvSpPr>
            <p:spPr>
              <a:xfrm>
                <a:off x="10190160" y="328860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Oval 130"/>
              <p:cNvSpPr/>
              <p:nvPr/>
            </p:nvSpPr>
            <p:spPr>
              <a:xfrm>
                <a:off x="10240920" y="3336120"/>
                <a:ext cx="1125720" cy="1127160"/>
              </a:xfrm>
              <a:prstGeom prst="ellipse">
                <a:avLst/>
              </a:pr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>
                <a:off x="10679040" y="3955320"/>
                <a:ext cx="468360" cy="501480"/>
              </a:xfrm>
              <a:custGeom>
                <a:avLst/>
                <a:gdLst/>
                <a:ahLst/>
                <a:rect l="l" t="t" r="r" b="b"/>
                <a:pathLst>
                  <a:path w="251" h="269">
                    <a:moveTo>
                      <a:pt x="111" y="269"/>
                    </a:moveTo>
                    <a:cubicBezTo>
                      <a:pt x="163" y="261"/>
                      <a:pt x="211" y="240"/>
                      <a:pt x="251" y="20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11" y="269"/>
                    </a:lnTo>
                    <a:close/>
                  </a:path>
                </a:pathLst>
              </a:custGeom>
              <a:solidFill>
                <a:srgbClr val="87d6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Oval 132"/>
              <p:cNvSpPr/>
              <p:nvPr/>
            </p:nvSpPr>
            <p:spPr>
              <a:xfrm>
                <a:off x="10369440" y="3488400"/>
                <a:ext cx="565200" cy="563400"/>
              </a:xfrm>
              <a:prstGeom prst="ellipse">
                <a:avLst/>
              </a:prstGeom>
              <a:solidFill>
                <a:srgbClr val="f19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>
                <a:off x="10421640" y="355032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41" h="241">
                    <a:moveTo>
                      <a:pt x="120" y="0"/>
                    </a:moveTo>
                    <a:cubicBezTo>
                      <a:pt x="54" y="0"/>
                      <a:pt x="0" y="54"/>
                      <a:pt x="0" y="121"/>
                    </a:cubicBezTo>
                    <a:cubicBezTo>
                      <a:pt x="0" y="187"/>
                      <a:pt x="54" y="241"/>
                      <a:pt x="120" y="241"/>
                    </a:cubicBezTo>
                    <a:cubicBezTo>
                      <a:pt x="187" y="241"/>
                      <a:pt x="241" y="187"/>
                      <a:pt x="241" y="121"/>
                    </a:cubicBezTo>
                    <a:cubicBezTo>
                      <a:pt x="241" y="54"/>
                      <a:pt x="187" y="0"/>
                      <a:pt x="120" y="0"/>
                    </a:cubicBezTo>
                    <a:close/>
                    <a:moveTo>
                      <a:pt x="108" y="29"/>
                    </a:moveTo>
                    <a:cubicBezTo>
                      <a:pt x="108" y="22"/>
                      <a:pt x="113" y="17"/>
                      <a:pt x="120" y="17"/>
                    </a:cubicBezTo>
                    <a:cubicBezTo>
                      <a:pt x="127" y="17"/>
                      <a:pt x="132" y="22"/>
                      <a:pt x="132" y="29"/>
                    </a:cubicBezTo>
                    <a:cubicBezTo>
                      <a:pt x="132" y="102"/>
                      <a:pt x="132" y="102"/>
                      <a:pt x="132" y="102"/>
                    </a:cubicBezTo>
                    <a:cubicBezTo>
                      <a:pt x="132" y="108"/>
                      <a:pt x="127" y="114"/>
                      <a:pt x="120" y="114"/>
                    </a:cubicBezTo>
                    <a:cubicBezTo>
                      <a:pt x="113" y="114"/>
                      <a:pt x="108" y="108"/>
                      <a:pt x="108" y="102"/>
                    </a:cubicBezTo>
                    <a:lnTo>
                      <a:pt x="108" y="29"/>
                    </a:lnTo>
                    <a:close/>
                    <a:moveTo>
                      <a:pt x="120" y="211"/>
                    </a:moveTo>
                    <a:cubicBezTo>
                      <a:pt x="73" y="211"/>
                      <a:pt x="35" y="173"/>
                      <a:pt x="35" y="126"/>
                    </a:cubicBezTo>
                    <a:cubicBezTo>
                      <a:pt x="35" y="88"/>
                      <a:pt x="60" y="55"/>
                      <a:pt x="95" y="45"/>
                    </a:cubicBezTo>
                    <a:cubicBezTo>
                      <a:pt x="95" y="70"/>
                      <a:pt x="95" y="70"/>
                      <a:pt x="95" y="70"/>
                    </a:cubicBezTo>
                    <a:cubicBezTo>
                      <a:pt x="74" y="80"/>
                      <a:pt x="59" y="101"/>
                      <a:pt x="59" y="126"/>
                    </a:cubicBezTo>
                    <a:cubicBezTo>
                      <a:pt x="59" y="160"/>
                      <a:pt x="86" y="187"/>
                      <a:pt x="120" y="187"/>
                    </a:cubicBezTo>
                    <a:cubicBezTo>
                      <a:pt x="153" y="187"/>
                      <a:pt x="181" y="160"/>
                      <a:pt x="181" y="126"/>
                    </a:cubicBezTo>
                    <a:cubicBezTo>
                      <a:pt x="181" y="101"/>
                      <a:pt x="166" y="80"/>
                      <a:pt x="144" y="70"/>
                    </a:cubicBezTo>
                    <a:cubicBezTo>
                      <a:pt x="144" y="45"/>
                      <a:pt x="144" y="45"/>
                      <a:pt x="144" y="45"/>
                    </a:cubicBezTo>
                    <a:cubicBezTo>
                      <a:pt x="179" y="55"/>
                      <a:pt x="205" y="88"/>
                      <a:pt x="205" y="126"/>
                    </a:cubicBezTo>
                    <a:cubicBezTo>
                      <a:pt x="205" y="173"/>
                      <a:pt x="167" y="211"/>
                      <a:pt x="120" y="2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>
                <a:off x="10733040" y="4010760"/>
                <a:ext cx="339480" cy="253800"/>
              </a:xfrm>
              <a:custGeom>
                <a:avLst/>
                <a:gdLst/>
                <a:ahLst/>
                <a:rect l="l" t="t" r="r" b="b"/>
                <a:pathLst>
                  <a:path w="182" h="136">
                    <a:moveTo>
                      <a:pt x="158" y="133"/>
                    </a:moveTo>
                    <a:cubicBezTo>
                      <a:pt x="145" y="136"/>
                      <a:pt x="129" y="133"/>
                      <a:pt x="129" y="133"/>
                    </a:cubicBezTo>
                    <a:cubicBezTo>
                      <a:pt x="45" y="108"/>
                      <a:pt x="45" y="108"/>
                      <a:pt x="45" y="108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29" y="0"/>
                      <a:pt x="50" y="29"/>
                    </a:cubicBezTo>
                    <a:cubicBezTo>
                      <a:pt x="71" y="58"/>
                      <a:pt x="82" y="77"/>
                      <a:pt x="82" y="77"/>
                    </a:cubicBezTo>
                    <a:cubicBezTo>
                      <a:pt x="145" y="79"/>
                      <a:pt x="145" y="79"/>
                      <a:pt x="145" y="79"/>
                    </a:cubicBezTo>
                    <a:cubicBezTo>
                      <a:pt x="145" y="79"/>
                      <a:pt x="149" y="79"/>
                      <a:pt x="155" y="81"/>
                    </a:cubicBezTo>
                    <a:cubicBezTo>
                      <a:pt x="165" y="84"/>
                      <a:pt x="181" y="91"/>
                      <a:pt x="181" y="105"/>
                    </a:cubicBezTo>
                    <a:cubicBezTo>
                      <a:pt x="182" y="128"/>
                      <a:pt x="165" y="131"/>
                      <a:pt x="158" y="133"/>
                    </a:cubicBez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>
                <a:off x="10939320" y="3793320"/>
                <a:ext cx="264960" cy="298440"/>
              </a:xfrm>
              <a:custGeom>
                <a:avLst/>
                <a:gdLst/>
                <a:ahLst/>
                <a:rect l="l" t="t" r="r" b="b"/>
                <a:pathLst>
                  <a:path w="142" h="160">
                    <a:moveTo>
                      <a:pt x="133" y="119"/>
                    </a:moveTo>
                    <a:cubicBezTo>
                      <a:pt x="142" y="129"/>
                      <a:pt x="140" y="143"/>
                      <a:pt x="130" y="151"/>
                    </a:cubicBezTo>
                    <a:cubicBezTo>
                      <a:pt x="130" y="151"/>
                      <a:pt x="130" y="151"/>
                      <a:pt x="130" y="151"/>
                    </a:cubicBezTo>
                    <a:cubicBezTo>
                      <a:pt x="120" y="160"/>
                      <a:pt x="106" y="158"/>
                      <a:pt x="98" y="148"/>
                    </a:cubicBezTo>
                    <a:cubicBezTo>
                      <a:pt x="8" y="40"/>
                      <a:pt x="8" y="40"/>
                      <a:pt x="8" y="40"/>
                    </a:cubicBezTo>
                    <a:cubicBezTo>
                      <a:pt x="0" y="30"/>
                      <a:pt x="1" y="16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21" y="0"/>
                      <a:pt x="36" y="1"/>
                      <a:pt x="44" y="11"/>
                    </a:cubicBezTo>
                    <a:lnTo>
                      <a:pt x="133" y="119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>
                <a:off x="10942560" y="3831480"/>
                <a:ext cx="104760" cy="153720"/>
              </a:xfrm>
              <a:custGeom>
                <a:avLst/>
                <a:gdLst/>
                <a:ahLst/>
                <a:rect l="l" t="t" r="r" b="b"/>
                <a:pathLst>
                  <a:path w="56" h="82">
                    <a:moveTo>
                      <a:pt x="52" y="68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2" y="14"/>
                      <a:pt x="6" y="19"/>
                    </a:cubicBezTo>
                    <a:cubicBezTo>
                      <a:pt x="56" y="82"/>
                      <a:pt x="56" y="82"/>
                      <a:pt x="56" y="82"/>
                    </a:cubicBezTo>
                    <a:cubicBezTo>
                      <a:pt x="55" y="80"/>
                      <a:pt x="54" y="71"/>
                      <a:pt x="52" y="68"/>
                    </a:cubicBezTo>
                    <a:close/>
                  </a:path>
                </a:pathLst>
              </a:custGeom>
              <a:solidFill>
                <a:srgbClr val="eaa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>
                <a:off x="10848960" y="3909240"/>
                <a:ext cx="390600" cy="384120"/>
              </a:xfrm>
              <a:custGeom>
                <a:avLst/>
                <a:gdLst/>
                <a:ahLst/>
                <a:rect l="l" t="t" r="r" b="b"/>
                <a:pathLst>
                  <a:path w="209" h="206">
                    <a:moveTo>
                      <a:pt x="0" y="112"/>
                    </a:moveTo>
                    <a:cubicBezTo>
                      <a:pt x="43" y="164"/>
                      <a:pt x="43" y="164"/>
                      <a:pt x="43" y="164"/>
                    </a:cubicBezTo>
                    <a:cubicBezTo>
                      <a:pt x="74" y="201"/>
                      <a:pt x="129" y="206"/>
                      <a:pt x="166" y="176"/>
                    </a:cubicBezTo>
                    <a:cubicBezTo>
                      <a:pt x="203" y="145"/>
                      <a:pt x="209" y="90"/>
                      <a:pt x="178" y="53"/>
                    </a:cubicBezTo>
                    <a:cubicBezTo>
                      <a:pt x="135" y="0"/>
                      <a:pt x="135" y="0"/>
                      <a:pt x="135" y="0"/>
                    </a:cubicBez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138"/>
              <p:cNvSpPr/>
              <p:nvPr/>
            </p:nvSpPr>
            <p:spPr>
              <a:xfrm>
                <a:off x="10858320" y="3815640"/>
                <a:ext cx="263520" cy="298440"/>
              </a:xfrm>
              <a:custGeom>
                <a:avLst/>
                <a:gdLst/>
                <a:ahLst/>
                <a:rect l="l" t="t" r="r" b="b"/>
                <a:pathLst>
                  <a:path w="141" h="160">
                    <a:moveTo>
                      <a:pt x="133" y="120"/>
                    </a:moveTo>
                    <a:cubicBezTo>
                      <a:pt x="141" y="130"/>
                      <a:pt x="140" y="144"/>
                      <a:pt x="130" y="152"/>
                    </a:cubicBezTo>
                    <a:cubicBezTo>
                      <a:pt x="130" y="152"/>
                      <a:pt x="130" y="152"/>
                      <a:pt x="130" y="152"/>
                    </a:cubicBezTo>
                    <a:cubicBezTo>
                      <a:pt x="120" y="160"/>
                      <a:pt x="106" y="159"/>
                      <a:pt x="97" y="149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0" y="31"/>
                      <a:pt x="1" y="17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21" y="0"/>
                      <a:pt x="36" y="2"/>
                      <a:pt x="44" y="12"/>
                    </a:cubicBezTo>
                    <a:lnTo>
                      <a:pt x="133" y="120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139"/>
              <p:cNvSpPr/>
              <p:nvPr/>
            </p:nvSpPr>
            <p:spPr>
              <a:xfrm>
                <a:off x="10861560" y="3857040"/>
                <a:ext cx="102960" cy="152280"/>
              </a:xfrm>
              <a:custGeom>
                <a:avLst/>
                <a:gdLst/>
                <a:ahLst/>
                <a:rect l="l" t="t" r="r" b="b"/>
                <a:pathLst>
                  <a:path w="55" h="82">
                    <a:moveTo>
                      <a:pt x="52" y="74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1" y="14"/>
                      <a:pt x="6" y="19"/>
                    </a:cubicBezTo>
                    <a:cubicBezTo>
                      <a:pt x="55" y="82"/>
                      <a:pt x="55" y="82"/>
                      <a:pt x="55" y="82"/>
                    </a:cubicBezTo>
                    <a:cubicBezTo>
                      <a:pt x="55" y="79"/>
                      <a:pt x="53" y="77"/>
                      <a:pt x="52" y="74"/>
                    </a:cubicBezTo>
                    <a:close/>
                  </a:path>
                </a:pathLst>
              </a:custGeom>
              <a:solidFill>
                <a:srgbClr val="eaa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140"/>
              <p:cNvSpPr/>
              <p:nvPr/>
            </p:nvSpPr>
            <p:spPr>
              <a:xfrm>
                <a:off x="10774440" y="3839400"/>
                <a:ext cx="264960" cy="298440"/>
              </a:xfrm>
              <a:custGeom>
                <a:avLst/>
                <a:gdLst/>
                <a:ahLst/>
                <a:rect l="l" t="t" r="r" b="b"/>
                <a:pathLst>
                  <a:path w="142" h="160">
                    <a:moveTo>
                      <a:pt x="134" y="119"/>
                    </a:moveTo>
                    <a:cubicBezTo>
                      <a:pt x="142" y="129"/>
                      <a:pt x="141" y="143"/>
                      <a:pt x="131" y="152"/>
                    </a:cubicBezTo>
                    <a:cubicBezTo>
                      <a:pt x="131" y="152"/>
                      <a:pt x="131" y="152"/>
                      <a:pt x="131" y="152"/>
                    </a:cubicBezTo>
                    <a:cubicBezTo>
                      <a:pt x="121" y="160"/>
                      <a:pt x="106" y="158"/>
                      <a:pt x="98" y="149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0" y="31"/>
                      <a:pt x="2" y="16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22" y="0"/>
                      <a:pt x="36" y="1"/>
                      <a:pt x="44" y="11"/>
                    </a:cubicBezTo>
                    <a:lnTo>
                      <a:pt x="134" y="119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141"/>
              <p:cNvSpPr/>
              <p:nvPr/>
            </p:nvSpPr>
            <p:spPr>
              <a:xfrm>
                <a:off x="10777680" y="3879000"/>
                <a:ext cx="104760" cy="152280"/>
              </a:xfrm>
              <a:custGeom>
                <a:avLst/>
                <a:gdLst/>
                <a:ahLst/>
                <a:rect l="l" t="t" r="r" b="b"/>
                <a:pathLst>
                  <a:path w="56" h="82">
                    <a:moveTo>
                      <a:pt x="52" y="75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7"/>
                      <a:pt x="2" y="14"/>
                      <a:pt x="7" y="19"/>
                    </a:cubicBezTo>
                    <a:cubicBezTo>
                      <a:pt x="56" y="82"/>
                      <a:pt x="56" y="82"/>
                      <a:pt x="56" y="82"/>
                    </a:cubicBezTo>
                    <a:cubicBezTo>
                      <a:pt x="55" y="80"/>
                      <a:pt x="54" y="77"/>
                      <a:pt x="52" y="75"/>
                    </a:cubicBezTo>
                    <a:close/>
                  </a:path>
                </a:pathLst>
              </a:custGeom>
              <a:solidFill>
                <a:srgbClr val="eaa1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142"/>
              <p:cNvSpPr/>
              <p:nvPr/>
            </p:nvSpPr>
            <p:spPr>
              <a:xfrm>
                <a:off x="10612440" y="3774240"/>
                <a:ext cx="385560" cy="446040"/>
              </a:xfrm>
              <a:custGeom>
                <a:avLst/>
                <a:gdLst/>
                <a:ahLst/>
                <a:rect l="l" t="t" r="r" b="b"/>
                <a:pathLst>
                  <a:path w="207" h="239">
                    <a:moveTo>
                      <a:pt x="199" y="198"/>
                    </a:moveTo>
                    <a:cubicBezTo>
                      <a:pt x="207" y="208"/>
                      <a:pt x="206" y="223"/>
                      <a:pt x="196" y="231"/>
                    </a:cubicBezTo>
                    <a:cubicBezTo>
                      <a:pt x="196" y="231"/>
                      <a:pt x="196" y="231"/>
                      <a:pt x="196" y="231"/>
                    </a:cubicBezTo>
                    <a:cubicBezTo>
                      <a:pt x="186" y="239"/>
                      <a:pt x="172" y="238"/>
                      <a:pt x="163" y="228"/>
                    </a:cubicBezTo>
                    <a:cubicBezTo>
                      <a:pt x="9" y="41"/>
                      <a:pt x="9" y="41"/>
                      <a:pt x="9" y="41"/>
                    </a:cubicBezTo>
                    <a:cubicBezTo>
                      <a:pt x="0" y="31"/>
                      <a:pt x="2" y="16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22" y="0"/>
                      <a:pt x="36" y="1"/>
                      <a:pt x="44" y="11"/>
                    </a:cubicBezTo>
                    <a:lnTo>
                      <a:pt x="199" y="198"/>
                    </a:lnTo>
                    <a:close/>
                  </a:path>
                </a:pathLst>
              </a:custGeom>
              <a:solidFill>
                <a:srgbClr val="f9b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143"/>
              <p:cNvSpPr/>
              <p:nvPr/>
            </p:nvSpPr>
            <p:spPr>
              <a:xfrm>
                <a:off x="10629720" y="3788640"/>
                <a:ext cx="66600" cy="633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6"/>
                    </a:moveTo>
                    <a:cubicBezTo>
                      <a:pt x="27" y="7"/>
                      <a:pt x="27" y="7"/>
                      <a:pt x="27" y="7"/>
                    </a:cubicBezTo>
                    <a:cubicBezTo>
                      <a:pt x="22" y="1"/>
                      <a:pt x="13" y="0"/>
                      <a:pt x="7" y="5"/>
                    </a:cubicBezTo>
                    <a:cubicBezTo>
                      <a:pt x="0" y="10"/>
                      <a:pt x="0" y="19"/>
                      <a:pt x="5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2" y="34"/>
                      <a:pt x="17" y="34"/>
                      <a:pt x="24" y="28"/>
                    </a:cubicBezTo>
                    <a:cubicBezTo>
                      <a:pt x="34" y="20"/>
                      <a:pt x="33" y="19"/>
                      <a:pt x="35" y="16"/>
                    </a:cubicBezTo>
                    <a:close/>
                  </a:path>
                </a:pathLst>
              </a:custGeom>
              <a:solidFill>
                <a:srgbClr val="ffd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144"/>
              <p:cNvSpPr/>
              <p:nvPr/>
            </p:nvSpPr>
            <p:spPr>
              <a:xfrm>
                <a:off x="10763280" y="3952080"/>
                <a:ext cx="48960" cy="410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6" y="1"/>
                    </a:moveTo>
                    <a:cubicBezTo>
                      <a:pt x="26" y="2"/>
                      <a:pt x="26" y="3"/>
                      <a:pt x="26" y="3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2" y="22"/>
                      <a:pt x="1" y="22"/>
                      <a:pt x="1" y="22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0" y="21"/>
                      <a:pt x="0" y="20"/>
                      <a:pt x="1" y="19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4" y="0"/>
                      <a:pt x="25" y="0"/>
                      <a:pt x="26" y="1"/>
                    </a:cubicBezTo>
                    <a:close/>
                  </a:path>
                </a:pathLst>
              </a:custGeom>
              <a:solidFill>
                <a:srgbClr val="ffd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145"/>
              <p:cNvSpPr/>
              <p:nvPr/>
            </p:nvSpPr>
            <p:spPr>
              <a:xfrm>
                <a:off x="10783800" y="3972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4" y="1"/>
                    </a:moveTo>
                    <a:cubicBezTo>
                      <a:pt x="15" y="2"/>
                      <a:pt x="15" y="3"/>
                      <a:pt x="14" y="3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2" y="13"/>
                      <a:pt x="1" y="13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12"/>
                      <a:pt x="0" y="11"/>
                      <a:pt x="1" y="1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0"/>
                      <a:pt x="14" y="0"/>
                      <a:pt x="14" y="1"/>
                    </a:cubicBezTo>
                    <a:close/>
                  </a:path>
                </a:pathLst>
              </a:custGeom>
              <a:solidFill>
                <a:srgbClr val="ffd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146"/>
              <p:cNvSpPr/>
              <p:nvPr/>
            </p:nvSpPr>
            <p:spPr>
              <a:xfrm>
                <a:off x="10968120" y="4025160"/>
                <a:ext cx="353880" cy="366480"/>
              </a:xfrm>
              <a:custGeom>
                <a:avLst/>
                <a:gdLst/>
                <a:ahLst/>
                <a:rect l="l" t="t" r="r" b="b"/>
                <a:pathLst>
                  <a:path w="189" h="197">
                    <a:moveTo>
                      <a:pt x="189" y="52"/>
                    </a:moveTo>
                    <a:cubicBezTo>
                      <a:pt x="137" y="0"/>
                      <a:pt x="137" y="0"/>
                      <a:pt x="137" y="0"/>
                    </a:cubicBezTo>
                    <a:cubicBezTo>
                      <a:pt x="0" y="138"/>
                      <a:pt x="0" y="138"/>
                      <a:pt x="0" y="138"/>
                    </a:cubicBezTo>
                    <a:cubicBezTo>
                      <a:pt x="59" y="197"/>
                      <a:pt x="59" y="197"/>
                      <a:pt x="59" y="197"/>
                    </a:cubicBezTo>
                    <a:cubicBezTo>
                      <a:pt x="116" y="164"/>
                      <a:pt x="162" y="114"/>
                      <a:pt x="189" y="52"/>
                    </a:cubicBez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组合 200"/>
            <p:cNvGrpSpPr/>
            <p:nvPr/>
          </p:nvGrpSpPr>
          <p:grpSpPr>
            <a:xfrm>
              <a:off x="7479000" y="4998960"/>
              <a:ext cx="1228680" cy="1228680"/>
              <a:chOff x="7479000" y="4998960"/>
              <a:chExt cx="1228680" cy="1228680"/>
            </a:xfrm>
          </p:grpSpPr>
          <p:sp>
            <p:nvSpPr>
              <p:cNvPr id="588" name="Oval 36"/>
              <p:cNvSpPr/>
              <p:nvPr/>
            </p:nvSpPr>
            <p:spPr>
              <a:xfrm>
                <a:off x="7479000" y="4998960"/>
                <a:ext cx="1228680" cy="122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47"/>
              <p:cNvSpPr/>
              <p:nvPr/>
            </p:nvSpPr>
            <p:spPr>
              <a:xfrm>
                <a:off x="7532640" y="5043240"/>
                <a:ext cx="1125720" cy="1125720"/>
              </a:xfrm>
              <a:prstGeom prst="ellipse">
                <a:avLst/>
              </a:prstGeom>
              <a:solidFill>
                <a:srgbClr val="df62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148"/>
              <p:cNvSpPr/>
              <p:nvPr/>
            </p:nvSpPr>
            <p:spPr>
              <a:xfrm>
                <a:off x="8034480" y="5676840"/>
                <a:ext cx="428400" cy="484200"/>
              </a:xfrm>
              <a:custGeom>
                <a:avLst/>
                <a:gdLst/>
                <a:ahLst/>
                <a:rect l="l" t="t" r="r" b="b"/>
                <a:pathLst>
                  <a:path w="229" h="260">
                    <a:moveTo>
                      <a:pt x="81" y="260"/>
                    </a:moveTo>
                    <a:cubicBezTo>
                      <a:pt x="137" y="251"/>
                      <a:pt x="188" y="227"/>
                      <a:pt x="229" y="191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1" y="260"/>
                    </a:lnTo>
                    <a:close/>
                  </a:path>
                </a:pathLst>
              </a:custGeom>
              <a:solidFill>
                <a:srgbClr val="ce48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Oval 149"/>
              <p:cNvSpPr/>
              <p:nvPr/>
            </p:nvSpPr>
            <p:spPr>
              <a:xfrm>
                <a:off x="7699680" y="5240160"/>
                <a:ext cx="566640" cy="566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150"/>
              <p:cNvSpPr/>
              <p:nvPr/>
            </p:nvSpPr>
            <p:spPr>
              <a:xfrm>
                <a:off x="7937640" y="5529240"/>
                <a:ext cx="166680" cy="199800"/>
              </a:xfrm>
              <a:custGeom>
                <a:avLst/>
                <a:gdLst/>
                <a:ahLst/>
                <a:rect l="l" t="t" r="r" b="b"/>
                <a:pathLst>
                  <a:path w="89" h="107">
                    <a:moveTo>
                      <a:pt x="79" y="41"/>
                    </a:moveTo>
                    <a:cubicBezTo>
                      <a:pt x="76" y="41"/>
                      <a:pt x="74" y="34"/>
                      <a:pt x="73" y="29"/>
                    </a:cubicBezTo>
                    <a:cubicBezTo>
                      <a:pt x="72" y="24"/>
                      <a:pt x="69" y="18"/>
                      <a:pt x="64" y="16"/>
                    </a:cubicBezTo>
                    <a:cubicBezTo>
                      <a:pt x="59" y="14"/>
                      <a:pt x="56" y="16"/>
                      <a:pt x="51" y="13"/>
                    </a:cubicBezTo>
                    <a:cubicBezTo>
                      <a:pt x="47" y="11"/>
                      <a:pt x="40" y="6"/>
                      <a:pt x="36" y="5"/>
                    </a:cubicBezTo>
                    <a:cubicBezTo>
                      <a:pt x="31" y="3"/>
                      <a:pt x="25" y="4"/>
                      <a:pt x="21" y="2"/>
                    </a:cubicBezTo>
                    <a:cubicBezTo>
                      <a:pt x="16" y="0"/>
                      <a:pt x="9" y="5"/>
                      <a:pt x="9" y="5"/>
                    </a:cubicBezTo>
                    <a:cubicBezTo>
                      <a:pt x="9" y="5"/>
                      <a:pt x="4" y="15"/>
                      <a:pt x="2" y="17"/>
                    </a:cubicBezTo>
                    <a:cubicBezTo>
                      <a:pt x="0" y="20"/>
                      <a:pt x="0" y="31"/>
                      <a:pt x="1" y="35"/>
                    </a:cubicBezTo>
                    <a:cubicBezTo>
                      <a:pt x="1" y="38"/>
                      <a:pt x="10" y="47"/>
                      <a:pt x="10" y="47"/>
                    </a:cubicBezTo>
                    <a:cubicBezTo>
                      <a:pt x="10" y="47"/>
                      <a:pt x="14" y="54"/>
                      <a:pt x="17" y="54"/>
                    </a:cubicBezTo>
                    <a:cubicBezTo>
                      <a:pt x="20" y="54"/>
                      <a:pt x="26" y="49"/>
                      <a:pt x="31" y="49"/>
                    </a:cubicBezTo>
                    <a:cubicBezTo>
                      <a:pt x="36" y="49"/>
                      <a:pt x="38" y="53"/>
                      <a:pt x="40" y="55"/>
                    </a:cubicBezTo>
                    <a:cubicBezTo>
                      <a:pt x="41" y="57"/>
                      <a:pt x="42" y="67"/>
                      <a:pt x="41" y="71"/>
                    </a:cubicBezTo>
                    <a:cubicBezTo>
                      <a:pt x="41" y="74"/>
                      <a:pt x="41" y="94"/>
                      <a:pt x="42" y="95"/>
                    </a:cubicBezTo>
                    <a:cubicBezTo>
                      <a:pt x="44" y="97"/>
                      <a:pt x="53" y="107"/>
                      <a:pt x="57" y="107"/>
                    </a:cubicBezTo>
                    <a:cubicBezTo>
                      <a:pt x="60" y="107"/>
                      <a:pt x="65" y="101"/>
                      <a:pt x="68" y="98"/>
                    </a:cubicBezTo>
                    <a:cubicBezTo>
                      <a:pt x="71" y="95"/>
                      <a:pt x="75" y="84"/>
                      <a:pt x="75" y="81"/>
                    </a:cubicBezTo>
                    <a:cubicBezTo>
                      <a:pt x="75" y="65"/>
                      <a:pt x="75" y="65"/>
                      <a:pt x="75" y="65"/>
                    </a:cubicBezTo>
                    <a:cubicBezTo>
                      <a:pt x="75" y="63"/>
                      <a:pt x="80" y="59"/>
                      <a:pt x="83" y="56"/>
                    </a:cubicBezTo>
                    <a:cubicBezTo>
                      <a:pt x="86" y="53"/>
                      <a:pt x="89" y="47"/>
                      <a:pt x="88" y="43"/>
                    </a:cubicBezTo>
                    <a:cubicBezTo>
                      <a:pt x="87" y="40"/>
                      <a:pt x="82" y="42"/>
                      <a:pt x="79" y="41"/>
                    </a:cubicBez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151"/>
              <p:cNvSpPr/>
              <p:nvPr/>
            </p:nvSpPr>
            <p:spPr>
              <a:xfrm>
                <a:off x="7680600" y="5221080"/>
                <a:ext cx="604800" cy="604800"/>
              </a:xfrm>
              <a:custGeom>
                <a:avLst/>
                <a:gdLst/>
                <a:ahLst/>
                <a:rect l="l" t="t" r="r" b="b"/>
                <a:pathLst>
                  <a:path w="324" h="324">
                    <a:moveTo>
                      <a:pt x="322" y="165"/>
                    </a:moveTo>
                    <a:cubicBezTo>
                      <a:pt x="324" y="76"/>
                      <a:pt x="254" y="3"/>
                      <a:pt x="165" y="2"/>
                    </a:cubicBezTo>
                    <a:cubicBezTo>
                      <a:pt x="77" y="0"/>
                      <a:pt x="4" y="71"/>
                      <a:pt x="2" y="159"/>
                    </a:cubicBezTo>
                    <a:cubicBezTo>
                      <a:pt x="0" y="247"/>
                      <a:pt x="71" y="320"/>
                      <a:pt x="159" y="322"/>
                    </a:cubicBezTo>
                    <a:cubicBezTo>
                      <a:pt x="248" y="324"/>
                      <a:pt x="321" y="253"/>
                      <a:pt x="322" y="165"/>
                    </a:cubicBezTo>
                    <a:close/>
                    <a:moveTo>
                      <a:pt x="43" y="245"/>
                    </a:moveTo>
                    <a:cubicBezTo>
                      <a:pt x="35" y="234"/>
                      <a:pt x="29" y="222"/>
                      <a:pt x="24" y="209"/>
                    </a:cubicBezTo>
                    <a:cubicBezTo>
                      <a:pt x="28" y="210"/>
                      <a:pt x="32" y="210"/>
                      <a:pt x="35" y="211"/>
                    </a:cubicBezTo>
                    <a:cubicBezTo>
                      <a:pt x="41" y="212"/>
                      <a:pt x="46" y="221"/>
                      <a:pt x="48" y="222"/>
                    </a:cubicBezTo>
                    <a:cubicBezTo>
                      <a:pt x="50" y="222"/>
                      <a:pt x="45" y="242"/>
                      <a:pt x="43" y="245"/>
                    </a:cubicBezTo>
                    <a:close/>
                    <a:moveTo>
                      <a:pt x="159" y="306"/>
                    </a:moveTo>
                    <a:cubicBezTo>
                      <a:pt x="135" y="306"/>
                      <a:pt x="113" y="300"/>
                      <a:pt x="93" y="289"/>
                    </a:cubicBezTo>
                    <a:cubicBezTo>
                      <a:pt x="96" y="284"/>
                      <a:pt x="98" y="270"/>
                      <a:pt x="98" y="270"/>
                    </a:cubicBezTo>
                    <a:cubicBezTo>
                      <a:pt x="98" y="270"/>
                      <a:pt x="102" y="235"/>
                      <a:pt x="101" y="233"/>
                    </a:cubicBezTo>
                    <a:cubicBezTo>
                      <a:pt x="99" y="231"/>
                      <a:pt x="91" y="222"/>
                      <a:pt x="85" y="220"/>
                    </a:cubicBezTo>
                    <a:cubicBezTo>
                      <a:pt x="79" y="217"/>
                      <a:pt x="74" y="220"/>
                      <a:pt x="69" y="218"/>
                    </a:cubicBezTo>
                    <a:cubicBezTo>
                      <a:pt x="64" y="216"/>
                      <a:pt x="62" y="208"/>
                      <a:pt x="58" y="206"/>
                    </a:cubicBezTo>
                    <a:cubicBezTo>
                      <a:pt x="55" y="203"/>
                      <a:pt x="50" y="203"/>
                      <a:pt x="44" y="201"/>
                    </a:cubicBezTo>
                    <a:cubicBezTo>
                      <a:pt x="39" y="200"/>
                      <a:pt x="35" y="193"/>
                      <a:pt x="34" y="190"/>
                    </a:cubicBezTo>
                    <a:cubicBezTo>
                      <a:pt x="33" y="188"/>
                      <a:pt x="33" y="181"/>
                      <a:pt x="38" y="181"/>
                    </a:cubicBezTo>
                    <a:cubicBezTo>
                      <a:pt x="42" y="180"/>
                      <a:pt x="46" y="179"/>
                      <a:pt x="61" y="172"/>
                    </a:cubicBezTo>
                    <a:cubicBezTo>
                      <a:pt x="77" y="165"/>
                      <a:pt x="60" y="160"/>
                      <a:pt x="61" y="150"/>
                    </a:cubicBezTo>
                    <a:cubicBezTo>
                      <a:pt x="62" y="139"/>
                      <a:pt x="76" y="140"/>
                      <a:pt x="82" y="134"/>
                    </a:cubicBezTo>
                    <a:cubicBezTo>
                      <a:pt x="88" y="128"/>
                      <a:pt x="78" y="124"/>
                      <a:pt x="74" y="120"/>
                    </a:cubicBezTo>
                    <a:cubicBezTo>
                      <a:pt x="69" y="116"/>
                      <a:pt x="62" y="121"/>
                      <a:pt x="59" y="126"/>
                    </a:cubicBezTo>
                    <a:cubicBezTo>
                      <a:pt x="57" y="130"/>
                      <a:pt x="56" y="134"/>
                      <a:pt x="50" y="133"/>
                    </a:cubicBezTo>
                    <a:cubicBezTo>
                      <a:pt x="45" y="132"/>
                      <a:pt x="43" y="131"/>
                      <a:pt x="40" y="125"/>
                    </a:cubicBezTo>
                    <a:cubicBezTo>
                      <a:pt x="37" y="119"/>
                      <a:pt x="43" y="119"/>
                      <a:pt x="54" y="111"/>
                    </a:cubicBezTo>
                    <a:cubicBezTo>
                      <a:pt x="66" y="103"/>
                      <a:pt x="59" y="103"/>
                      <a:pt x="59" y="100"/>
                    </a:cubicBezTo>
                    <a:cubicBezTo>
                      <a:pt x="58" y="97"/>
                      <a:pt x="53" y="98"/>
                      <a:pt x="48" y="96"/>
                    </a:cubicBezTo>
                    <a:cubicBezTo>
                      <a:pt x="47" y="96"/>
                      <a:pt x="47" y="96"/>
                      <a:pt x="47" y="96"/>
                    </a:cubicBezTo>
                    <a:cubicBezTo>
                      <a:pt x="42" y="93"/>
                      <a:pt x="45" y="87"/>
                      <a:pt x="49" y="85"/>
                    </a:cubicBezTo>
                    <a:cubicBezTo>
                      <a:pt x="52" y="83"/>
                      <a:pt x="56" y="83"/>
                      <a:pt x="60" y="85"/>
                    </a:cubicBezTo>
                    <a:cubicBezTo>
                      <a:pt x="63" y="87"/>
                      <a:pt x="63" y="89"/>
                      <a:pt x="73" y="86"/>
                    </a:cubicBezTo>
                    <a:cubicBezTo>
                      <a:pt x="82" y="82"/>
                      <a:pt x="82" y="86"/>
                      <a:pt x="85" y="90"/>
                    </a:cubicBezTo>
                    <a:cubicBezTo>
                      <a:pt x="87" y="93"/>
                      <a:pt x="90" y="97"/>
                      <a:pt x="92" y="101"/>
                    </a:cubicBezTo>
                    <a:cubicBezTo>
                      <a:pt x="94" y="103"/>
                      <a:pt x="95" y="105"/>
                      <a:pt x="96" y="107"/>
                    </a:cubicBezTo>
                    <a:cubicBezTo>
                      <a:pt x="100" y="112"/>
                      <a:pt x="109" y="107"/>
                      <a:pt x="116" y="103"/>
                    </a:cubicBezTo>
                    <a:cubicBezTo>
                      <a:pt x="116" y="103"/>
                      <a:pt x="116" y="103"/>
                      <a:pt x="116" y="103"/>
                    </a:cubicBezTo>
                    <a:cubicBezTo>
                      <a:pt x="124" y="99"/>
                      <a:pt x="121" y="92"/>
                      <a:pt x="122" y="85"/>
                    </a:cubicBezTo>
                    <a:cubicBezTo>
                      <a:pt x="122" y="79"/>
                      <a:pt x="118" y="79"/>
                      <a:pt x="115" y="77"/>
                    </a:cubicBezTo>
                    <a:cubicBezTo>
                      <a:pt x="112" y="75"/>
                      <a:pt x="112" y="67"/>
                      <a:pt x="109" y="62"/>
                    </a:cubicBezTo>
                    <a:cubicBezTo>
                      <a:pt x="106" y="58"/>
                      <a:pt x="100" y="58"/>
                      <a:pt x="96" y="59"/>
                    </a:cubicBezTo>
                    <a:cubicBezTo>
                      <a:pt x="92" y="60"/>
                      <a:pt x="85" y="66"/>
                      <a:pt x="84" y="66"/>
                    </a:cubicBezTo>
                    <a:cubicBezTo>
                      <a:pt x="82" y="65"/>
                      <a:pt x="83" y="58"/>
                      <a:pt x="80" y="56"/>
                    </a:cubicBezTo>
                    <a:cubicBezTo>
                      <a:pt x="78" y="55"/>
                      <a:pt x="71" y="55"/>
                      <a:pt x="65" y="53"/>
                    </a:cubicBezTo>
                    <a:cubicBezTo>
                      <a:pt x="91" y="30"/>
                      <a:pt x="126" y="16"/>
                      <a:pt x="164" y="16"/>
                    </a:cubicBezTo>
                    <a:cubicBezTo>
                      <a:pt x="204" y="17"/>
                      <a:pt x="240" y="34"/>
                      <a:pt x="266" y="61"/>
                    </a:cubicBezTo>
                    <a:cubicBezTo>
                      <a:pt x="272" y="67"/>
                      <a:pt x="277" y="73"/>
                      <a:pt x="282" y="80"/>
                    </a:cubicBezTo>
                    <a:cubicBezTo>
                      <a:pt x="267" y="85"/>
                      <a:pt x="241" y="93"/>
                      <a:pt x="239" y="95"/>
                    </a:cubicBezTo>
                    <a:cubicBezTo>
                      <a:pt x="237" y="99"/>
                      <a:pt x="227" y="101"/>
                      <a:pt x="223" y="98"/>
                    </a:cubicBezTo>
                    <a:cubicBezTo>
                      <a:pt x="219" y="96"/>
                      <a:pt x="215" y="93"/>
                      <a:pt x="211" y="94"/>
                    </a:cubicBezTo>
                    <a:cubicBezTo>
                      <a:pt x="207" y="94"/>
                      <a:pt x="205" y="94"/>
                      <a:pt x="202" y="98"/>
                    </a:cubicBezTo>
                    <a:cubicBezTo>
                      <a:pt x="200" y="100"/>
                      <a:pt x="196" y="103"/>
                      <a:pt x="192" y="105"/>
                    </a:cubicBezTo>
                    <a:cubicBezTo>
                      <a:pt x="190" y="106"/>
                      <a:pt x="188" y="106"/>
                      <a:pt x="186" y="105"/>
                    </a:cubicBezTo>
                    <a:cubicBezTo>
                      <a:pt x="185" y="105"/>
                      <a:pt x="185" y="105"/>
                      <a:pt x="184" y="105"/>
                    </a:cubicBezTo>
                    <a:cubicBezTo>
                      <a:pt x="183" y="104"/>
                      <a:pt x="181" y="104"/>
                      <a:pt x="180" y="105"/>
                    </a:cubicBezTo>
                    <a:cubicBezTo>
                      <a:pt x="178" y="105"/>
                      <a:pt x="177" y="107"/>
                      <a:pt x="177" y="107"/>
                    </a:cubicBezTo>
                    <a:cubicBezTo>
                      <a:pt x="172" y="113"/>
                      <a:pt x="178" y="121"/>
                      <a:pt x="181" y="121"/>
                    </a:cubicBezTo>
                    <a:cubicBezTo>
                      <a:pt x="185" y="120"/>
                      <a:pt x="189" y="113"/>
                      <a:pt x="192" y="113"/>
                    </a:cubicBezTo>
                    <a:cubicBezTo>
                      <a:pt x="194" y="113"/>
                      <a:pt x="199" y="117"/>
                      <a:pt x="200" y="119"/>
                    </a:cubicBezTo>
                    <a:cubicBezTo>
                      <a:pt x="200" y="121"/>
                      <a:pt x="196" y="130"/>
                      <a:pt x="193" y="131"/>
                    </a:cubicBezTo>
                    <a:cubicBezTo>
                      <a:pt x="190" y="131"/>
                      <a:pt x="181" y="134"/>
                      <a:pt x="178" y="134"/>
                    </a:cubicBezTo>
                    <a:cubicBezTo>
                      <a:pt x="176" y="134"/>
                      <a:pt x="166" y="130"/>
                      <a:pt x="164" y="132"/>
                    </a:cubicBezTo>
                    <a:cubicBezTo>
                      <a:pt x="162" y="135"/>
                      <a:pt x="157" y="134"/>
                      <a:pt x="160" y="141"/>
                    </a:cubicBezTo>
                    <a:cubicBezTo>
                      <a:pt x="162" y="147"/>
                      <a:pt x="159" y="152"/>
                      <a:pt x="158" y="152"/>
                    </a:cubicBezTo>
                    <a:cubicBezTo>
                      <a:pt x="156" y="153"/>
                      <a:pt x="141" y="156"/>
                      <a:pt x="156" y="157"/>
                    </a:cubicBezTo>
                    <a:cubicBezTo>
                      <a:pt x="170" y="158"/>
                      <a:pt x="174" y="153"/>
                      <a:pt x="177" y="152"/>
                    </a:cubicBezTo>
                    <a:cubicBezTo>
                      <a:pt x="180" y="152"/>
                      <a:pt x="186" y="148"/>
                      <a:pt x="189" y="150"/>
                    </a:cubicBezTo>
                    <a:cubicBezTo>
                      <a:pt x="193" y="152"/>
                      <a:pt x="198" y="149"/>
                      <a:pt x="201" y="150"/>
                    </a:cubicBezTo>
                    <a:cubicBezTo>
                      <a:pt x="204" y="151"/>
                      <a:pt x="211" y="143"/>
                      <a:pt x="214" y="146"/>
                    </a:cubicBezTo>
                    <a:cubicBezTo>
                      <a:pt x="217" y="149"/>
                      <a:pt x="216" y="155"/>
                      <a:pt x="215" y="158"/>
                    </a:cubicBezTo>
                    <a:cubicBezTo>
                      <a:pt x="214" y="160"/>
                      <a:pt x="209" y="162"/>
                      <a:pt x="210" y="165"/>
                    </a:cubicBezTo>
                    <a:cubicBezTo>
                      <a:pt x="211" y="168"/>
                      <a:pt x="214" y="172"/>
                      <a:pt x="218" y="175"/>
                    </a:cubicBezTo>
                    <a:cubicBezTo>
                      <a:pt x="222" y="178"/>
                      <a:pt x="225" y="182"/>
                      <a:pt x="227" y="179"/>
                    </a:cubicBezTo>
                    <a:cubicBezTo>
                      <a:pt x="230" y="176"/>
                      <a:pt x="230" y="172"/>
                      <a:pt x="231" y="170"/>
                    </a:cubicBezTo>
                    <a:cubicBezTo>
                      <a:pt x="233" y="169"/>
                      <a:pt x="245" y="171"/>
                      <a:pt x="246" y="174"/>
                    </a:cubicBezTo>
                    <a:cubicBezTo>
                      <a:pt x="246" y="176"/>
                      <a:pt x="252" y="182"/>
                      <a:pt x="253" y="183"/>
                    </a:cubicBezTo>
                    <a:cubicBezTo>
                      <a:pt x="255" y="183"/>
                      <a:pt x="260" y="186"/>
                      <a:pt x="260" y="186"/>
                    </a:cubicBezTo>
                    <a:cubicBezTo>
                      <a:pt x="260" y="186"/>
                      <a:pt x="261" y="187"/>
                      <a:pt x="263" y="192"/>
                    </a:cubicBezTo>
                    <a:cubicBezTo>
                      <a:pt x="265" y="197"/>
                      <a:pt x="270" y="197"/>
                      <a:pt x="273" y="196"/>
                    </a:cubicBezTo>
                    <a:cubicBezTo>
                      <a:pt x="276" y="195"/>
                      <a:pt x="278" y="189"/>
                      <a:pt x="283" y="189"/>
                    </a:cubicBezTo>
                    <a:cubicBezTo>
                      <a:pt x="287" y="190"/>
                      <a:pt x="289" y="188"/>
                      <a:pt x="293" y="192"/>
                    </a:cubicBezTo>
                    <a:cubicBezTo>
                      <a:pt x="297" y="197"/>
                      <a:pt x="298" y="198"/>
                      <a:pt x="301" y="200"/>
                    </a:cubicBezTo>
                    <a:cubicBezTo>
                      <a:pt x="294" y="225"/>
                      <a:pt x="281" y="248"/>
                      <a:pt x="262" y="266"/>
                    </a:cubicBezTo>
                    <a:cubicBezTo>
                      <a:pt x="236" y="292"/>
                      <a:pt x="199" y="307"/>
                      <a:pt x="159" y="306"/>
                    </a:cubicBezTo>
                    <a:close/>
                  </a:path>
                </a:pathLst>
              </a:custGeom>
              <a:solidFill>
                <a:srgbClr val="606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152"/>
              <p:cNvSpPr/>
              <p:nvPr/>
            </p:nvSpPr>
            <p:spPr>
              <a:xfrm>
                <a:off x="8052120" y="5611680"/>
                <a:ext cx="557280" cy="452520"/>
              </a:xfrm>
              <a:custGeom>
                <a:avLst/>
                <a:gdLst/>
                <a:ahLst/>
                <a:rect l="l" t="t" r="r" b="b"/>
                <a:pathLst>
                  <a:path w="298" h="243">
                    <a:moveTo>
                      <a:pt x="298" y="123"/>
                    </a:moveTo>
                    <a:cubicBezTo>
                      <a:pt x="296" y="120"/>
                      <a:pt x="294" y="118"/>
                      <a:pt x="292" y="116"/>
                    </a:cubicBezTo>
                    <a:cubicBezTo>
                      <a:pt x="296" y="105"/>
                      <a:pt x="296" y="105"/>
                      <a:pt x="296" y="105"/>
                    </a:cubicBezTo>
                    <a:cubicBezTo>
                      <a:pt x="285" y="94"/>
                      <a:pt x="282" y="85"/>
                      <a:pt x="271" y="74"/>
                    </a:cubicBezTo>
                    <a:cubicBezTo>
                      <a:pt x="274" y="62"/>
                      <a:pt x="274" y="62"/>
                      <a:pt x="274" y="62"/>
                    </a:cubicBezTo>
                    <a:cubicBezTo>
                      <a:pt x="250" y="38"/>
                      <a:pt x="234" y="24"/>
                      <a:pt x="210" y="0"/>
                    </a:cubicBezTo>
                    <a:cubicBezTo>
                      <a:pt x="199" y="1"/>
                      <a:pt x="199" y="1"/>
                      <a:pt x="199" y="1"/>
                    </a:cubicBezTo>
                    <a:cubicBezTo>
                      <a:pt x="186" y="1"/>
                      <a:pt x="186" y="1"/>
                      <a:pt x="186" y="1"/>
                    </a:cubicBezTo>
                    <a:cubicBezTo>
                      <a:pt x="178" y="1"/>
                      <a:pt x="178" y="1"/>
                      <a:pt x="178" y="1"/>
                    </a:cubicBezTo>
                    <a:cubicBezTo>
                      <a:pt x="163" y="4"/>
                      <a:pt x="163" y="4"/>
                      <a:pt x="163" y="4"/>
                    </a:cubicBezTo>
                    <a:cubicBezTo>
                      <a:pt x="147" y="12"/>
                      <a:pt x="147" y="12"/>
                      <a:pt x="147" y="12"/>
                    </a:cubicBezTo>
                    <a:cubicBezTo>
                      <a:pt x="132" y="16"/>
                      <a:pt x="132" y="16"/>
                      <a:pt x="132" y="16"/>
                    </a:cubicBezTo>
                    <a:cubicBezTo>
                      <a:pt x="122" y="27"/>
                      <a:pt x="115" y="22"/>
                      <a:pt x="105" y="33"/>
                    </a:cubicBezTo>
                    <a:cubicBezTo>
                      <a:pt x="87" y="39"/>
                      <a:pt x="87" y="39"/>
                      <a:pt x="87" y="39"/>
                    </a:cubicBezTo>
                    <a:cubicBezTo>
                      <a:pt x="74" y="43"/>
                      <a:pt x="74" y="43"/>
                      <a:pt x="74" y="43"/>
                    </a:cubicBezTo>
                    <a:cubicBezTo>
                      <a:pt x="60" y="29"/>
                      <a:pt x="48" y="28"/>
                      <a:pt x="34" y="14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5" y="20"/>
                      <a:pt x="5" y="20"/>
                      <a:pt x="5" y="2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35" y="77"/>
                      <a:pt x="63" y="111"/>
                      <a:pt x="98" y="146"/>
                    </a:cubicBezTo>
                    <a:cubicBezTo>
                      <a:pt x="93" y="151"/>
                      <a:pt x="93" y="151"/>
                      <a:pt x="93" y="151"/>
                    </a:cubicBezTo>
                    <a:cubicBezTo>
                      <a:pt x="84" y="158"/>
                      <a:pt x="84" y="158"/>
                      <a:pt x="84" y="158"/>
                    </a:cubicBezTo>
                    <a:cubicBezTo>
                      <a:pt x="74" y="152"/>
                      <a:pt x="74" y="152"/>
                      <a:pt x="74" y="152"/>
                    </a:cubicBezTo>
                    <a:cubicBezTo>
                      <a:pt x="64" y="163"/>
                      <a:pt x="59" y="167"/>
                      <a:pt x="49" y="178"/>
                    </a:cubicBezTo>
                    <a:cubicBezTo>
                      <a:pt x="62" y="191"/>
                      <a:pt x="69" y="199"/>
                      <a:pt x="83" y="213"/>
                    </a:cubicBezTo>
                    <a:cubicBezTo>
                      <a:pt x="95" y="210"/>
                      <a:pt x="95" y="210"/>
                      <a:pt x="95" y="210"/>
                    </a:cubicBezTo>
                    <a:cubicBezTo>
                      <a:pt x="116" y="224"/>
                      <a:pt x="116" y="224"/>
                      <a:pt x="116" y="224"/>
                    </a:cubicBezTo>
                    <a:cubicBezTo>
                      <a:pt x="126" y="220"/>
                      <a:pt x="126" y="220"/>
                      <a:pt x="126" y="220"/>
                    </a:cubicBezTo>
                    <a:cubicBezTo>
                      <a:pt x="137" y="225"/>
                      <a:pt x="137" y="225"/>
                      <a:pt x="137" y="225"/>
                    </a:cubicBezTo>
                    <a:cubicBezTo>
                      <a:pt x="147" y="220"/>
                      <a:pt x="147" y="220"/>
                      <a:pt x="147" y="220"/>
                    </a:cubicBezTo>
                    <a:cubicBezTo>
                      <a:pt x="170" y="233"/>
                      <a:pt x="170" y="233"/>
                      <a:pt x="170" y="233"/>
                    </a:cubicBezTo>
                    <a:cubicBezTo>
                      <a:pt x="178" y="230"/>
                      <a:pt x="178" y="230"/>
                      <a:pt x="178" y="230"/>
                    </a:cubicBezTo>
                    <a:cubicBezTo>
                      <a:pt x="199" y="243"/>
                      <a:pt x="199" y="243"/>
                      <a:pt x="199" y="243"/>
                    </a:cubicBezTo>
                    <a:cubicBezTo>
                      <a:pt x="242" y="212"/>
                      <a:pt x="276" y="171"/>
                      <a:pt x="298" y="123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153"/>
              <p:cNvSpPr/>
              <p:nvPr/>
            </p:nvSpPr>
            <p:spPr>
              <a:xfrm>
                <a:off x="8249040" y="5613120"/>
                <a:ext cx="114120" cy="15552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24" y="61"/>
                    </a:moveTo>
                    <a:lnTo>
                      <a:pt x="36" y="74"/>
                    </a:lnTo>
                    <a:lnTo>
                      <a:pt x="49" y="86"/>
                    </a:lnTo>
                    <a:lnTo>
                      <a:pt x="61" y="98"/>
                    </a:lnTo>
                    <a:lnTo>
                      <a:pt x="72" y="86"/>
                    </a:lnTo>
                    <a:lnTo>
                      <a:pt x="61" y="74"/>
                    </a:lnTo>
                    <a:lnTo>
                      <a:pt x="49" y="61"/>
                    </a:lnTo>
                    <a:lnTo>
                      <a:pt x="36" y="49"/>
                    </a:lnTo>
                    <a:lnTo>
                      <a:pt x="24" y="37"/>
                    </a:lnTo>
                    <a:lnTo>
                      <a:pt x="36" y="24"/>
                    </a:lnTo>
                    <a:lnTo>
                      <a:pt x="49" y="13"/>
                    </a:lnTo>
                    <a:lnTo>
                      <a:pt x="36" y="0"/>
                    </a:lnTo>
                    <a:lnTo>
                      <a:pt x="24" y="13"/>
                    </a:lnTo>
                    <a:lnTo>
                      <a:pt x="11" y="24"/>
                    </a:lnTo>
                    <a:lnTo>
                      <a:pt x="0" y="37"/>
                    </a:lnTo>
                    <a:lnTo>
                      <a:pt x="11" y="49"/>
                    </a:lnTo>
                    <a:lnTo>
                      <a:pt x="24" y="61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154"/>
              <p:cNvSpPr/>
              <p:nvPr/>
            </p:nvSpPr>
            <p:spPr>
              <a:xfrm>
                <a:off x="8326800" y="5594400"/>
                <a:ext cx="96840" cy="115560"/>
              </a:xfrm>
              <a:custGeom>
                <a:avLst/>
                <a:gdLst/>
                <a:ahLst/>
                <a:rect l="l" t="t" r="r" b="b"/>
                <a:pathLst>
                  <a:path w="61" h="73">
                    <a:moveTo>
                      <a:pt x="23" y="49"/>
                    </a:moveTo>
                    <a:lnTo>
                      <a:pt x="36" y="61"/>
                    </a:lnTo>
                    <a:lnTo>
                      <a:pt x="48" y="73"/>
                    </a:lnTo>
                    <a:lnTo>
                      <a:pt x="61" y="61"/>
                    </a:lnTo>
                    <a:lnTo>
                      <a:pt x="48" y="49"/>
                    </a:lnTo>
                    <a:lnTo>
                      <a:pt x="36" y="36"/>
                    </a:lnTo>
                    <a:lnTo>
                      <a:pt x="23" y="25"/>
                    </a:lnTo>
                    <a:lnTo>
                      <a:pt x="36" y="12"/>
                    </a:lnTo>
                    <a:lnTo>
                      <a:pt x="23" y="0"/>
                    </a:lnTo>
                    <a:lnTo>
                      <a:pt x="12" y="12"/>
                    </a:lnTo>
                    <a:lnTo>
                      <a:pt x="0" y="25"/>
                    </a:lnTo>
                    <a:lnTo>
                      <a:pt x="12" y="36"/>
                    </a:lnTo>
                    <a:lnTo>
                      <a:pt x="23" y="49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155"/>
              <p:cNvSpPr/>
              <p:nvPr/>
            </p:nvSpPr>
            <p:spPr>
              <a:xfrm>
                <a:off x="8384040" y="55944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2"/>
                    </a:moveTo>
                    <a:lnTo>
                      <a:pt x="12" y="0"/>
                    </a:lnTo>
                    <a:lnTo>
                      <a:pt x="0" y="12"/>
                    </a:lnTo>
                    <a:lnTo>
                      <a:pt x="12" y="25"/>
                    </a:lnTo>
                    <a:lnTo>
                      <a:pt x="25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156"/>
              <p:cNvSpPr/>
              <p:nvPr/>
            </p:nvSpPr>
            <p:spPr>
              <a:xfrm>
                <a:off x="8423640" y="559440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0" y="12"/>
                    </a:moveTo>
                    <a:lnTo>
                      <a:pt x="12" y="25"/>
                    </a:lnTo>
                    <a:lnTo>
                      <a:pt x="24" y="36"/>
                    </a:lnTo>
                    <a:lnTo>
                      <a:pt x="37" y="49"/>
                    </a:lnTo>
                    <a:lnTo>
                      <a:pt x="48" y="61"/>
                    </a:lnTo>
                    <a:lnTo>
                      <a:pt x="61" y="73"/>
                    </a:lnTo>
                    <a:lnTo>
                      <a:pt x="73" y="86"/>
                    </a:lnTo>
                    <a:lnTo>
                      <a:pt x="85" y="98"/>
                    </a:lnTo>
                    <a:lnTo>
                      <a:pt x="98" y="86"/>
                    </a:lnTo>
                    <a:lnTo>
                      <a:pt x="85" y="73"/>
                    </a:lnTo>
                    <a:lnTo>
                      <a:pt x="73" y="61"/>
                    </a:lnTo>
                    <a:lnTo>
                      <a:pt x="61" y="49"/>
                    </a:lnTo>
                    <a:lnTo>
                      <a:pt x="48" y="36"/>
                    </a:lnTo>
                    <a:lnTo>
                      <a:pt x="37" y="25"/>
                    </a:lnTo>
                    <a:lnTo>
                      <a:pt x="24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159"/>
              <p:cNvSpPr/>
              <p:nvPr/>
            </p:nvSpPr>
            <p:spPr>
              <a:xfrm>
                <a:off x="8384040" y="602136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1" y="1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20" y="24"/>
                      <a:pt x="24" y="21"/>
                      <a:pt x="28" y="18"/>
                    </a:cubicBez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60"/>
              <p:cNvSpPr/>
              <p:nvPr/>
            </p:nvSpPr>
            <p:spPr>
              <a:xfrm>
                <a:off x="8326800" y="6002280"/>
                <a:ext cx="5688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12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3" y="37"/>
                    </a:lnTo>
                    <a:lnTo>
                      <a:pt x="36" y="24"/>
                    </a:lnTo>
                    <a:lnTo>
                      <a:pt x="23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161"/>
              <p:cNvSpPr/>
              <p:nvPr/>
            </p:nvSpPr>
            <p:spPr>
              <a:xfrm>
                <a:off x="8287200" y="6002280"/>
                <a:ext cx="39600" cy="378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12"/>
                    </a:moveTo>
                    <a:lnTo>
                      <a:pt x="12" y="24"/>
                    </a:lnTo>
                    <a:lnTo>
                      <a:pt x="25" y="12"/>
                    </a:lnTo>
                    <a:lnTo>
                      <a:pt x="12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62"/>
              <p:cNvSpPr/>
              <p:nvPr/>
            </p:nvSpPr>
            <p:spPr>
              <a:xfrm>
                <a:off x="8229960" y="598320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0"/>
                    </a:moveTo>
                    <a:lnTo>
                      <a:pt x="0" y="12"/>
                    </a:lnTo>
                    <a:lnTo>
                      <a:pt x="12" y="24"/>
                    </a:lnTo>
                    <a:lnTo>
                      <a:pt x="23" y="36"/>
                    </a:lnTo>
                    <a:lnTo>
                      <a:pt x="36" y="24"/>
                    </a:lnTo>
                    <a:lnTo>
                      <a:pt x="23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63"/>
              <p:cNvSpPr/>
              <p:nvPr/>
            </p:nvSpPr>
            <p:spPr>
              <a:xfrm>
                <a:off x="8133120" y="5884920"/>
                <a:ext cx="96840" cy="13644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36" y="50"/>
                    </a:moveTo>
                    <a:lnTo>
                      <a:pt x="23" y="37"/>
                    </a:lnTo>
                    <a:lnTo>
                      <a:pt x="36" y="25"/>
                    </a:lnTo>
                    <a:lnTo>
                      <a:pt x="48" y="13"/>
                    </a:lnTo>
                    <a:lnTo>
                      <a:pt x="36" y="0"/>
                    </a:lnTo>
                    <a:lnTo>
                      <a:pt x="23" y="13"/>
                    </a:lnTo>
                    <a:lnTo>
                      <a:pt x="11" y="25"/>
                    </a:lnTo>
                    <a:lnTo>
                      <a:pt x="0" y="37"/>
                    </a:lnTo>
                    <a:lnTo>
                      <a:pt x="11" y="50"/>
                    </a:lnTo>
                    <a:lnTo>
                      <a:pt x="23" y="62"/>
                    </a:lnTo>
                    <a:lnTo>
                      <a:pt x="36" y="74"/>
                    </a:lnTo>
                    <a:lnTo>
                      <a:pt x="48" y="86"/>
                    </a:lnTo>
                    <a:lnTo>
                      <a:pt x="61" y="74"/>
                    </a:lnTo>
                    <a:lnTo>
                      <a:pt x="48" y="62"/>
                    </a:lnTo>
                    <a:lnTo>
                      <a:pt x="36" y="50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64"/>
              <p:cNvSpPr/>
              <p:nvPr/>
            </p:nvSpPr>
            <p:spPr>
              <a:xfrm>
                <a:off x="8034480" y="5613120"/>
                <a:ext cx="291960" cy="350640"/>
              </a:xfrm>
              <a:custGeom>
                <a:avLst/>
                <a:gdLst/>
                <a:ahLst/>
                <a:rect l="l" t="t" r="r" b="b"/>
                <a:pathLst>
                  <a:path w="184" h="221">
                    <a:moveTo>
                      <a:pt x="135" y="184"/>
                    </a:moveTo>
                    <a:lnTo>
                      <a:pt x="146" y="196"/>
                    </a:lnTo>
                    <a:lnTo>
                      <a:pt x="159" y="208"/>
                    </a:lnTo>
                    <a:lnTo>
                      <a:pt x="171" y="221"/>
                    </a:lnTo>
                    <a:lnTo>
                      <a:pt x="184" y="208"/>
                    </a:lnTo>
                    <a:lnTo>
                      <a:pt x="171" y="196"/>
                    </a:lnTo>
                    <a:lnTo>
                      <a:pt x="159" y="184"/>
                    </a:lnTo>
                    <a:lnTo>
                      <a:pt x="146" y="171"/>
                    </a:lnTo>
                    <a:lnTo>
                      <a:pt x="135" y="160"/>
                    </a:lnTo>
                    <a:lnTo>
                      <a:pt x="123" y="147"/>
                    </a:lnTo>
                    <a:lnTo>
                      <a:pt x="110" y="135"/>
                    </a:lnTo>
                    <a:lnTo>
                      <a:pt x="98" y="123"/>
                    </a:lnTo>
                    <a:lnTo>
                      <a:pt x="85" y="110"/>
                    </a:lnTo>
                    <a:lnTo>
                      <a:pt x="73" y="98"/>
                    </a:lnTo>
                    <a:lnTo>
                      <a:pt x="62" y="86"/>
                    </a:lnTo>
                    <a:lnTo>
                      <a:pt x="49" y="74"/>
                    </a:lnTo>
                    <a:lnTo>
                      <a:pt x="37" y="61"/>
                    </a:lnTo>
                    <a:lnTo>
                      <a:pt x="24" y="49"/>
                    </a:lnTo>
                    <a:lnTo>
                      <a:pt x="12" y="37"/>
                    </a:lnTo>
                    <a:lnTo>
                      <a:pt x="25" y="26"/>
                    </a:lnTo>
                    <a:lnTo>
                      <a:pt x="37" y="13"/>
                    </a:lnTo>
                    <a:lnTo>
                      <a:pt x="49" y="24"/>
                    </a:lnTo>
                    <a:lnTo>
                      <a:pt x="62" y="37"/>
                    </a:lnTo>
                    <a:lnTo>
                      <a:pt x="73" y="49"/>
                    </a:lnTo>
                    <a:lnTo>
                      <a:pt x="85" y="61"/>
                    </a:lnTo>
                    <a:lnTo>
                      <a:pt x="98" y="74"/>
                    </a:lnTo>
                    <a:lnTo>
                      <a:pt x="110" y="86"/>
                    </a:lnTo>
                    <a:lnTo>
                      <a:pt x="123" y="98"/>
                    </a:lnTo>
                    <a:lnTo>
                      <a:pt x="135" y="110"/>
                    </a:lnTo>
                    <a:lnTo>
                      <a:pt x="146" y="123"/>
                    </a:lnTo>
                    <a:lnTo>
                      <a:pt x="159" y="135"/>
                    </a:lnTo>
                    <a:lnTo>
                      <a:pt x="171" y="123"/>
                    </a:lnTo>
                    <a:lnTo>
                      <a:pt x="159" y="110"/>
                    </a:lnTo>
                    <a:lnTo>
                      <a:pt x="146" y="98"/>
                    </a:lnTo>
                    <a:lnTo>
                      <a:pt x="135" y="86"/>
                    </a:lnTo>
                    <a:lnTo>
                      <a:pt x="123" y="74"/>
                    </a:lnTo>
                    <a:lnTo>
                      <a:pt x="110" y="61"/>
                    </a:lnTo>
                    <a:lnTo>
                      <a:pt x="123" y="49"/>
                    </a:lnTo>
                    <a:lnTo>
                      <a:pt x="135" y="37"/>
                    </a:lnTo>
                    <a:lnTo>
                      <a:pt x="123" y="24"/>
                    </a:lnTo>
                    <a:lnTo>
                      <a:pt x="110" y="37"/>
                    </a:lnTo>
                    <a:lnTo>
                      <a:pt x="98" y="49"/>
                    </a:lnTo>
                    <a:lnTo>
                      <a:pt x="85" y="37"/>
                    </a:lnTo>
                    <a:lnTo>
                      <a:pt x="73" y="24"/>
                    </a:lnTo>
                    <a:lnTo>
                      <a:pt x="62" y="13"/>
                    </a:lnTo>
                    <a:lnTo>
                      <a:pt x="49" y="0"/>
                    </a:lnTo>
                    <a:lnTo>
                      <a:pt x="37" y="13"/>
                    </a:lnTo>
                    <a:lnTo>
                      <a:pt x="25" y="1"/>
                    </a:lnTo>
                    <a:lnTo>
                      <a:pt x="12" y="13"/>
                    </a:lnTo>
                    <a:lnTo>
                      <a:pt x="0" y="26"/>
                    </a:lnTo>
                    <a:lnTo>
                      <a:pt x="12" y="37"/>
                    </a:lnTo>
                    <a:lnTo>
                      <a:pt x="0" y="49"/>
                    </a:lnTo>
                    <a:lnTo>
                      <a:pt x="12" y="61"/>
                    </a:lnTo>
                    <a:lnTo>
                      <a:pt x="24" y="74"/>
                    </a:lnTo>
                    <a:lnTo>
                      <a:pt x="37" y="86"/>
                    </a:lnTo>
                    <a:lnTo>
                      <a:pt x="49" y="98"/>
                    </a:lnTo>
                    <a:lnTo>
                      <a:pt x="62" y="110"/>
                    </a:lnTo>
                    <a:lnTo>
                      <a:pt x="73" y="123"/>
                    </a:lnTo>
                    <a:lnTo>
                      <a:pt x="85" y="135"/>
                    </a:lnTo>
                    <a:lnTo>
                      <a:pt x="98" y="147"/>
                    </a:lnTo>
                    <a:lnTo>
                      <a:pt x="110" y="160"/>
                    </a:lnTo>
                    <a:lnTo>
                      <a:pt x="123" y="171"/>
                    </a:lnTo>
                    <a:lnTo>
                      <a:pt x="110" y="184"/>
                    </a:lnTo>
                    <a:lnTo>
                      <a:pt x="123" y="196"/>
                    </a:lnTo>
                    <a:lnTo>
                      <a:pt x="135" y="184"/>
                    </a:lnTo>
                    <a:close/>
                  </a:path>
                </a:pathLst>
              </a:custGeom>
              <a:solidFill>
                <a:srgbClr val="364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5" name="组合 187"/>
          <p:cNvGrpSpPr/>
          <p:nvPr/>
        </p:nvGrpSpPr>
        <p:grpSpPr>
          <a:xfrm>
            <a:off x="8055000" y="2795760"/>
            <a:ext cx="1255680" cy="1255680"/>
            <a:chOff x="8055000" y="2795760"/>
            <a:chExt cx="1255680" cy="1255680"/>
          </a:xfrm>
        </p:grpSpPr>
        <p:sp>
          <p:nvSpPr>
            <p:cNvPr id="606" name="Oval 165"/>
            <p:cNvSpPr/>
            <p:nvPr/>
          </p:nvSpPr>
          <p:spPr>
            <a:xfrm>
              <a:off x="8094600" y="2835360"/>
              <a:ext cx="1176480" cy="1176480"/>
            </a:xfrm>
            <a:prstGeom prst="ellipse">
              <a:avLst/>
            </a:prstGeom>
            <a:solidFill>
              <a:srgbClr val="a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166"/>
            <p:cNvSpPr/>
            <p:nvPr/>
          </p:nvSpPr>
          <p:spPr>
            <a:xfrm>
              <a:off x="8588520" y="3432240"/>
              <a:ext cx="345960" cy="417600"/>
            </a:xfrm>
            <a:custGeom>
              <a:avLst/>
              <a:gdLst/>
              <a:ahLst/>
              <a:rect l="l" t="t" r="r" b="b"/>
              <a:pathLst>
                <a:path w="186" h="223">
                  <a:moveTo>
                    <a:pt x="166" y="87"/>
                  </a:moveTo>
                  <a:cubicBezTo>
                    <a:pt x="160" y="85"/>
                    <a:pt x="154" y="71"/>
                    <a:pt x="153" y="61"/>
                  </a:cubicBezTo>
                  <a:cubicBezTo>
                    <a:pt x="151" y="51"/>
                    <a:pt x="144" y="39"/>
                    <a:pt x="134" y="34"/>
                  </a:cubicBezTo>
                  <a:cubicBezTo>
                    <a:pt x="124" y="29"/>
                    <a:pt x="117" y="34"/>
                    <a:pt x="108" y="29"/>
                  </a:cubicBezTo>
                  <a:cubicBezTo>
                    <a:pt x="99" y="24"/>
                    <a:pt x="84" y="14"/>
                    <a:pt x="75" y="11"/>
                  </a:cubicBezTo>
                  <a:cubicBezTo>
                    <a:pt x="66" y="8"/>
                    <a:pt x="53" y="10"/>
                    <a:pt x="44" y="5"/>
                  </a:cubicBezTo>
                  <a:cubicBezTo>
                    <a:pt x="35" y="0"/>
                    <a:pt x="21" y="12"/>
                    <a:pt x="21" y="12"/>
                  </a:cubicBezTo>
                  <a:cubicBezTo>
                    <a:pt x="21" y="12"/>
                    <a:pt x="9" y="32"/>
                    <a:pt x="5" y="37"/>
                  </a:cubicBezTo>
                  <a:cubicBezTo>
                    <a:pt x="2" y="43"/>
                    <a:pt x="0" y="66"/>
                    <a:pt x="2" y="73"/>
                  </a:cubicBezTo>
                  <a:cubicBezTo>
                    <a:pt x="4" y="81"/>
                    <a:pt x="22" y="98"/>
                    <a:pt x="22" y="98"/>
                  </a:cubicBezTo>
                  <a:cubicBezTo>
                    <a:pt x="22" y="98"/>
                    <a:pt x="30" y="112"/>
                    <a:pt x="36" y="113"/>
                  </a:cubicBezTo>
                  <a:cubicBezTo>
                    <a:pt x="43" y="113"/>
                    <a:pt x="55" y="104"/>
                    <a:pt x="65" y="103"/>
                  </a:cubicBezTo>
                  <a:cubicBezTo>
                    <a:pt x="75" y="102"/>
                    <a:pt x="81" y="111"/>
                    <a:pt x="83" y="115"/>
                  </a:cubicBezTo>
                  <a:cubicBezTo>
                    <a:pt x="86" y="120"/>
                    <a:pt x="87" y="141"/>
                    <a:pt x="86" y="148"/>
                  </a:cubicBezTo>
                  <a:cubicBezTo>
                    <a:pt x="85" y="154"/>
                    <a:pt x="86" y="196"/>
                    <a:pt x="89" y="199"/>
                  </a:cubicBezTo>
                  <a:cubicBezTo>
                    <a:pt x="92" y="203"/>
                    <a:pt x="112" y="223"/>
                    <a:pt x="119" y="223"/>
                  </a:cubicBezTo>
                  <a:cubicBezTo>
                    <a:pt x="127" y="223"/>
                    <a:pt x="135" y="210"/>
                    <a:pt x="142" y="205"/>
                  </a:cubicBezTo>
                  <a:cubicBezTo>
                    <a:pt x="148" y="199"/>
                    <a:pt x="157" y="177"/>
                    <a:pt x="157" y="170"/>
                  </a:cubicBezTo>
                  <a:cubicBezTo>
                    <a:pt x="158" y="137"/>
                    <a:pt x="158" y="137"/>
                    <a:pt x="158" y="137"/>
                  </a:cubicBezTo>
                  <a:cubicBezTo>
                    <a:pt x="158" y="131"/>
                    <a:pt x="166" y="123"/>
                    <a:pt x="173" y="117"/>
                  </a:cubicBezTo>
                  <a:cubicBezTo>
                    <a:pt x="179" y="110"/>
                    <a:pt x="186" y="99"/>
                    <a:pt x="184" y="91"/>
                  </a:cubicBezTo>
                  <a:cubicBezTo>
                    <a:pt x="183" y="84"/>
                    <a:pt x="172" y="89"/>
                    <a:pt x="166" y="87"/>
                  </a:cubicBezTo>
                  <a:close/>
                </a:path>
              </a:pathLst>
            </a:custGeom>
            <a:solidFill>
              <a:srgbClr val="24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167"/>
            <p:cNvSpPr/>
            <p:nvPr/>
          </p:nvSpPr>
          <p:spPr>
            <a:xfrm>
              <a:off x="8055000" y="2795760"/>
              <a:ext cx="1255680" cy="1255680"/>
            </a:xfrm>
            <a:custGeom>
              <a:avLst/>
              <a:gdLst/>
              <a:ahLst/>
              <a:rect l="l" t="t" r="r" b="b"/>
              <a:pathLst>
                <a:path w="672" h="672">
                  <a:moveTo>
                    <a:pt x="669" y="342"/>
                  </a:moveTo>
                  <a:cubicBezTo>
                    <a:pt x="672" y="158"/>
                    <a:pt x="526" y="6"/>
                    <a:pt x="342" y="3"/>
                  </a:cubicBezTo>
                  <a:cubicBezTo>
                    <a:pt x="158" y="0"/>
                    <a:pt x="6" y="146"/>
                    <a:pt x="3" y="330"/>
                  </a:cubicBezTo>
                  <a:cubicBezTo>
                    <a:pt x="0" y="513"/>
                    <a:pt x="146" y="665"/>
                    <a:pt x="330" y="668"/>
                  </a:cubicBezTo>
                  <a:cubicBezTo>
                    <a:pt x="514" y="672"/>
                    <a:pt x="666" y="525"/>
                    <a:pt x="669" y="342"/>
                  </a:cubicBezTo>
                  <a:close/>
                  <a:moveTo>
                    <a:pt x="89" y="508"/>
                  </a:moveTo>
                  <a:cubicBezTo>
                    <a:pt x="72" y="485"/>
                    <a:pt x="59" y="460"/>
                    <a:pt x="50" y="433"/>
                  </a:cubicBezTo>
                  <a:cubicBezTo>
                    <a:pt x="57" y="435"/>
                    <a:pt x="66" y="435"/>
                    <a:pt x="72" y="437"/>
                  </a:cubicBezTo>
                  <a:cubicBezTo>
                    <a:pt x="83" y="440"/>
                    <a:pt x="94" y="458"/>
                    <a:pt x="99" y="460"/>
                  </a:cubicBezTo>
                  <a:cubicBezTo>
                    <a:pt x="103" y="461"/>
                    <a:pt x="94" y="502"/>
                    <a:pt x="89" y="508"/>
                  </a:cubicBezTo>
                  <a:close/>
                  <a:moveTo>
                    <a:pt x="329" y="636"/>
                  </a:moveTo>
                  <a:cubicBezTo>
                    <a:pt x="280" y="635"/>
                    <a:pt x="234" y="622"/>
                    <a:pt x="193" y="600"/>
                  </a:cubicBezTo>
                  <a:cubicBezTo>
                    <a:pt x="198" y="590"/>
                    <a:pt x="202" y="561"/>
                    <a:pt x="202" y="561"/>
                  </a:cubicBezTo>
                  <a:cubicBezTo>
                    <a:pt x="202" y="561"/>
                    <a:pt x="211" y="488"/>
                    <a:pt x="208" y="484"/>
                  </a:cubicBezTo>
                  <a:cubicBezTo>
                    <a:pt x="205" y="479"/>
                    <a:pt x="187" y="461"/>
                    <a:pt x="175" y="456"/>
                  </a:cubicBezTo>
                  <a:cubicBezTo>
                    <a:pt x="164" y="450"/>
                    <a:pt x="152" y="456"/>
                    <a:pt x="142" y="452"/>
                  </a:cubicBezTo>
                  <a:cubicBezTo>
                    <a:pt x="132" y="448"/>
                    <a:pt x="128" y="432"/>
                    <a:pt x="121" y="427"/>
                  </a:cubicBezTo>
                  <a:cubicBezTo>
                    <a:pt x="113" y="421"/>
                    <a:pt x="102" y="421"/>
                    <a:pt x="91" y="418"/>
                  </a:cubicBezTo>
                  <a:cubicBezTo>
                    <a:pt x="80" y="414"/>
                    <a:pt x="72" y="400"/>
                    <a:pt x="69" y="395"/>
                  </a:cubicBezTo>
                  <a:cubicBezTo>
                    <a:pt x="67" y="389"/>
                    <a:pt x="69" y="376"/>
                    <a:pt x="77" y="374"/>
                  </a:cubicBezTo>
                  <a:cubicBezTo>
                    <a:pt x="86" y="373"/>
                    <a:pt x="95" y="372"/>
                    <a:pt x="127" y="357"/>
                  </a:cubicBezTo>
                  <a:cubicBezTo>
                    <a:pt x="158" y="342"/>
                    <a:pt x="123" y="332"/>
                    <a:pt x="125" y="310"/>
                  </a:cubicBezTo>
                  <a:cubicBezTo>
                    <a:pt x="128" y="288"/>
                    <a:pt x="157" y="290"/>
                    <a:pt x="169" y="277"/>
                  </a:cubicBezTo>
                  <a:cubicBezTo>
                    <a:pt x="182" y="265"/>
                    <a:pt x="162" y="256"/>
                    <a:pt x="152" y="249"/>
                  </a:cubicBezTo>
                  <a:cubicBezTo>
                    <a:pt x="143" y="241"/>
                    <a:pt x="128" y="250"/>
                    <a:pt x="123" y="260"/>
                  </a:cubicBezTo>
                  <a:cubicBezTo>
                    <a:pt x="117" y="270"/>
                    <a:pt x="115" y="278"/>
                    <a:pt x="104" y="276"/>
                  </a:cubicBezTo>
                  <a:cubicBezTo>
                    <a:pt x="93" y="274"/>
                    <a:pt x="89" y="272"/>
                    <a:pt x="83" y="259"/>
                  </a:cubicBezTo>
                  <a:cubicBezTo>
                    <a:pt x="77" y="247"/>
                    <a:pt x="88" y="246"/>
                    <a:pt x="112" y="230"/>
                  </a:cubicBezTo>
                  <a:cubicBezTo>
                    <a:pt x="137" y="214"/>
                    <a:pt x="122" y="214"/>
                    <a:pt x="121" y="207"/>
                  </a:cubicBezTo>
                  <a:cubicBezTo>
                    <a:pt x="120" y="201"/>
                    <a:pt x="110" y="204"/>
                    <a:pt x="98" y="199"/>
                  </a:cubicBezTo>
                  <a:cubicBezTo>
                    <a:pt x="98" y="199"/>
                    <a:pt x="98" y="199"/>
                    <a:pt x="98" y="198"/>
                  </a:cubicBezTo>
                  <a:cubicBezTo>
                    <a:pt x="86" y="193"/>
                    <a:pt x="93" y="181"/>
                    <a:pt x="100" y="177"/>
                  </a:cubicBezTo>
                  <a:cubicBezTo>
                    <a:pt x="108" y="172"/>
                    <a:pt x="116" y="171"/>
                    <a:pt x="123" y="176"/>
                  </a:cubicBezTo>
                  <a:cubicBezTo>
                    <a:pt x="131" y="181"/>
                    <a:pt x="130" y="185"/>
                    <a:pt x="150" y="178"/>
                  </a:cubicBezTo>
                  <a:cubicBezTo>
                    <a:pt x="170" y="171"/>
                    <a:pt x="170" y="177"/>
                    <a:pt x="177" y="186"/>
                  </a:cubicBezTo>
                  <a:cubicBezTo>
                    <a:pt x="181" y="192"/>
                    <a:pt x="186" y="201"/>
                    <a:pt x="191" y="209"/>
                  </a:cubicBezTo>
                  <a:cubicBezTo>
                    <a:pt x="194" y="214"/>
                    <a:pt x="196" y="218"/>
                    <a:pt x="199" y="222"/>
                  </a:cubicBezTo>
                  <a:cubicBezTo>
                    <a:pt x="206" y="231"/>
                    <a:pt x="225" y="222"/>
                    <a:pt x="241" y="213"/>
                  </a:cubicBezTo>
                  <a:cubicBezTo>
                    <a:pt x="241" y="213"/>
                    <a:pt x="241" y="213"/>
                    <a:pt x="241" y="213"/>
                  </a:cubicBezTo>
                  <a:cubicBezTo>
                    <a:pt x="256" y="204"/>
                    <a:pt x="251" y="189"/>
                    <a:pt x="252" y="177"/>
                  </a:cubicBezTo>
                  <a:cubicBezTo>
                    <a:pt x="254" y="164"/>
                    <a:pt x="243" y="164"/>
                    <a:pt x="238" y="159"/>
                  </a:cubicBezTo>
                  <a:cubicBezTo>
                    <a:pt x="233" y="154"/>
                    <a:pt x="232" y="138"/>
                    <a:pt x="226" y="128"/>
                  </a:cubicBezTo>
                  <a:cubicBezTo>
                    <a:pt x="219" y="119"/>
                    <a:pt x="206" y="120"/>
                    <a:pt x="198" y="122"/>
                  </a:cubicBezTo>
                  <a:cubicBezTo>
                    <a:pt x="190" y="125"/>
                    <a:pt x="176" y="137"/>
                    <a:pt x="173" y="136"/>
                  </a:cubicBezTo>
                  <a:cubicBezTo>
                    <a:pt x="170" y="135"/>
                    <a:pt x="171" y="121"/>
                    <a:pt x="165" y="116"/>
                  </a:cubicBezTo>
                  <a:cubicBezTo>
                    <a:pt x="161" y="113"/>
                    <a:pt x="147" y="113"/>
                    <a:pt x="134" y="110"/>
                  </a:cubicBezTo>
                  <a:cubicBezTo>
                    <a:pt x="189" y="61"/>
                    <a:pt x="261" y="32"/>
                    <a:pt x="340" y="33"/>
                  </a:cubicBezTo>
                  <a:cubicBezTo>
                    <a:pt x="424" y="35"/>
                    <a:pt x="498" y="70"/>
                    <a:pt x="552" y="125"/>
                  </a:cubicBezTo>
                  <a:cubicBezTo>
                    <a:pt x="564" y="138"/>
                    <a:pt x="575" y="151"/>
                    <a:pt x="585" y="166"/>
                  </a:cubicBezTo>
                  <a:cubicBezTo>
                    <a:pt x="554" y="175"/>
                    <a:pt x="501" y="192"/>
                    <a:pt x="497" y="198"/>
                  </a:cubicBezTo>
                  <a:cubicBezTo>
                    <a:pt x="491" y="205"/>
                    <a:pt x="472" y="208"/>
                    <a:pt x="462" y="203"/>
                  </a:cubicBezTo>
                  <a:cubicBezTo>
                    <a:pt x="453" y="199"/>
                    <a:pt x="447" y="193"/>
                    <a:pt x="438" y="194"/>
                  </a:cubicBezTo>
                  <a:cubicBezTo>
                    <a:pt x="428" y="195"/>
                    <a:pt x="425" y="195"/>
                    <a:pt x="418" y="203"/>
                  </a:cubicBezTo>
                  <a:cubicBezTo>
                    <a:pt x="414" y="207"/>
                    <a:pt x="406" y="214"/>
                    <a:pt x="399" y="217"/>
                  </a:cubicBezTo>
                  <a:cubicBezTo>
                    <a:pt x="394" y="219"/>
                    <a:pt x="389" y="220"/>
                    <a:pt x="386" y="218"/>
                  </a:cubicBezTo>
                  <a:cubicBezTo>
                    <a:pt x="384" y="217"/>
                    <a:pt x="383" y="217"/>
                    <a:pt x="382" y="217"/>
                  </a:cubicBezTo>
                  <a:cubicBezTo>
                    <a:pt x="379" y="216"/>
                    <a:pt x="376" y="216"/>
                    <a:pt x="374" y="217"/>
                  </a:cubicBezTo>
                  <a:cubicBezTo>
                    <a:pt x="370" y="218"/>
                    <a:pt x="367" y="221"/>
                    <a:pt x="367" y="221"/>
                  </a:cubicBezTo>
                  <a:cubicBezTo>
                    <a:pt x="357" y="234"/>
                    <a:pt x="368" y="251"/>
                    <a:pt x="376" y="250"/>
                  </a:cubicBezTo>
                  <a:cubicBezTo>
                    <a:pt x="383" y="249"/>
                    <a:pt x="393" y="235"/>
                    <a:pt x="397" y="235"/>
                  </a:cubicBezTo>
                  <a:cubicBezTo>
                    <a:pt x="402" y="235"/>
                    <a:pt x="412" y="243"/>
                    <a:pt x="414" y="246"/>
                  </a:cubicBezTo>
                  <a:cubicBezTo>
                    <a:pt x="415" y="250"/>
                    <a:pt x="406" y="270"/>
                    <a:pt x="400" y="271"/>
                  </a:cubicBezTo>
                  <a:cubicBezTo>
                    <a:pt x="395" y="271"/>
                    <a:pt x="374" y="278"/>
                    <a:pt x="370" y="277"/>
                  </a:cubicBezTo>
                  <a:cubicBezTo>
                    <a:pt x="365" y="277"/>
                    <a:pt x="345" y="269"/>
                    <a:pt x="340" y="274"/>
                  </a:cubicBezTo>
                  <a:cubicBezTo>
                    <a:pt x="335" y="280"/>
                    <a:pt x="326" y="279"/>
                    <a:pt x="331" y="291"/>
                  </a:cubicBezTo>
                  <a:cubicBezTo>
                    <a:pt x="335" y="304"/>
                    <a:pt x="330" y="314"/>
                    <a:pt x="326" y="315"/>
                  </a:cubicBezTo>
                  <a:cubicBezTo>
                    <a:pt x="323" y="316"/>
                    <a:pt x="292" y="324"/>
                    <a:pt x="323" y="325"/>
                  </a:cubicBezTo>
                  <a:cubicBezTo>
                    <a:pt x="353" y="327"/>
                    <a:pt x="361" y="317"/>
                    <a:pt x="367" y="316"/>
                  </a:cubicBezTo>
                  <a:cubicBezTo>
                    <a:pt x="374" y="315"/>
                    <a:pt x="385" y="307"/>
                    <a:pt x="392" y="311"/>
                  </a:cubicBezTo>
                  <a:cubicBezTo>
                    <a:pt x="399" y="315"/>
                    <a:pt x="411" y="309"/>
                    <a:pt x="417" y="311"/>
                  </a:cubicBezTo>
                  <a:cubicBezTo>
                    <a:pt x="424" y="313"/>
                    <a:pt x="437" y="296"/>
                    <a:pt x="444" y="303"/>
                  </a:cubicBezTo>
                  <a:cubicBezTo>
                    <a:pt x="450" y="309"/>
                    <a:pt x="448" y="322"/>
                    <a:pt x="446" y="327"/>
                  </a:cubicBezTo>
                  <a:cubicBezTo>
                    <a:pt x="444" y="331"/>
                    <a:pt x="433" y="335"/>
                    <a:pt x="436" y="341"/>
                  </a:cubicBezTo>
                  <a:cubicBezTo>
                    <a:pt x="439" y="348"/>
                    <a:pt x="444" y="356"/>
                    <a:pt x="452" y="363"/>
                  </a:cubicBezTo>
                  <a:cubicBezTo>
                    <a:pt x="460" y="369"/>
                    <a:pt x="466" y="378"/>
                    <a:pt x="471" y="372"/>
                  </a:cubicBezTo>
                  <a:cubicBezTo>
                    <a:pt x="477" y="365"/>
                    <a:pt x="477" y="357"/>
                    <a:pt x="480" y="353"/>
                  </a:cubicBezTo>
                  <a:cubicBezTo>
                    <a:pt x="483" y="350"/>
                    <a:pt x="509" y="355"/>
                    <a:pt x="509" y="360"/>
                  </a:cubicBezTo>
                  <a:cubicBezTo>
                    <a:pt x="510" y="366"/>
                    <a:pt x="523" y="378"/>
                    <a:pt x="526" y="379"/>
                  </a:cubicBezTo>
                  <a:cubicBezTo>
                    <a:pt x="528" y="380"/>
                    <a:pt x="538" y="385"/>
                    <a:pt x="538" y="385"/>
                  </a:cubicBezTo>
                  <a:cubicBezTo>
                    <a:pt x="538" y="385"/>
                    <a:pt x="541" y="388"/>
                    <a:pt x="546" y="398"/>
                  </a:cubicBezTo>
                  <a:cubicBezTo>
                    <a:pt x="550" y="408"/>
                    <a:pt x="559" y="408"/>
                    <a:pt x="566" y="406"/>
                  </a:cubicBezTo>
                  <a:cubicBezTo>
                    <a:pt x="572" y="405"/>
                    <a:pt x="578" y="391"/>
                    <a:pt x="586" y="392"/>
                  </a:cubicBezTo>
                  <a:cubicBezTo>
                    <a:pt x="595" y="393"/>
                    <a:pt x="599" y="389"/>
                    <a:pt x="608" y="399"/>
                  </a:cubicBezTo>
                  <a:cubicBezTo>
                    <a:pt x="617" y="408"/>
                    <a:pt x="619" y="410"/>
                    <a:pt x="625" y="415"/>
                  </a:cubicBezTo>
                  <a:cubicBezTo>
                    <a:pt x="611" y="468"/>
                    <a:pt x="583" y="515"/>
                    <a:pt x="544" y="551"/>
                  </a:cubicBezTo>
                  <a:cubicBezTo>
                    <a:pt x="489" y="605"/>
                    <a:pt x="413" y="637"/>
                    <a:pt x="329" y="636"/>
                  </a:cubicBezTo>
                  <a:close/>
                </a:path>
              </a:pathLst>
            </a:custGeom>
            <a:solidFill>
              <a:srgbClr val="24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组合 199"/>
          <p:cNvGrpSpPr/>
          <p:nvPr/>
        </p:nvGrpSpPr>
        <p:grpSpPr>
          <a:xfrm>
            <a:off x="7188120" y="1998720"/>
            <a:ext cx="2849760" cy="2449440"/>
            <a:chOff x="7188120" y="1998720"/>
            <a:chExt cx="2849760" cy="2449440"/>
          </a:xfrm>
        </p:grpSpPr>
        <p:grpSp>
          <p:nvGrpSpPr>
            <p:cNvPr id="610" name="组合 190"/>
            <p:cNvGrpSpPr/>
            <p:nvPr/>
          </p:nvGrpSpPr>
          <p:grpSpPr>
            <a:xfrm>
              <a:off x="9342720" y="4164120"/>
              <a:ext cx="247680" cy="284040"/>
              <a:chOff x="9342720" y="4164120"/>
              <a:chExt cx="247680" cy="284040"/>
            </a:xfrm>
          </p:grpSpPr>
          <p:sp>
            <p:nvSpPr>
              <p:cNvPr id="611" name="Freeform 168"/>
              <p:cNvSpPr/>
              <p:nvPr/>
            </p:nvSpPr>
            <p:spPr>
              <a:xfrm>
                <a:off x="9342720" y="4164120"/>
                <a:ext cx="238320" cy="273240"/>
              </a:xfrm>
              <a:custGeom>
                <a:avLst/>
                <a:gdLst/>
                <a:ahLst/>
                <a:rect l="l" t="t" r="r" b="b"/>
                <a:pathLst>
                  <a:path w="128" h="146">
                    <a:moveTo>
                      <a:pt x="7" y="5"/>
                    </a:moveTo>
                    <a:cubicBezTo>
                      <a:pt x="7" y="5"/>
                      <a:pt x="7" y="4"/>
                      <a:pt x="7" y="4"/>
                    </a:cubicBezTo>
                    <a:cubicBezTo>
                      <a:pt x="13" y="0"/>
                      <a:pt x="19" y="0"/>
                      <a:pt x="21" y="3"/>
                    </a:cubicBezTo>
                    <a:cubicBezTo>
                      <a:pt x="36" y="25"/>
                      <a:pt x="51" y="46"/>
                      <a:pt x="69" y="67"/>
                    </a:cubicBezTo>
                    <a:cubicBezTo>
                      <a:pt x="87" y="88"/>
                      <a:pt x="106" y="108"/>
                      <a:pt x="125" y="127"/>
                    </a:cubicBezTo>
                    <a:cubicBezTo>
                      <a:pt x="128" y="130"/>
                      <a:pt x="127" y="136"/>
                      <a:pt x="122" y="140"/>
                    </a:cubicBezTo>
                    <a:cubicBezTo>
                      <a:pt x="117" y="145"/>
                      <a:pt x="110" y="146"/>
                      <a:pt x="107" y="143"/>
                    </a:cubicBezTo>
                    <a:cubicBezTo>
                      <a:pt x="88" y="125"/>
                      <a:pt x="68" y="104"/>
                      <a:pt x="50" y="82"/>
                    </a:cubicBezTo>
                    <a:cubicBezTo>
                      <a:pt x="32" y="61"/>
                      <a:pt x="17" y="40"/>
                      <a:pt x="2" y="18"/>
                    </a:cubicBezTo>
                    <a:cubicBezTo>
                      <a:pt x="0" y="15"/>
                      <a:pt x="2" y="9"/>
                      <a:pt x="7" y="5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9"/>
              <p:cNvSpPr/>
              <p:nvPr/>
            </p:nvSpPr>
            <p:spPr>
              <a:xfrm>
                <a:off x="9420480" y="4281480"/>
                <a:ext cx="169920" cy="166680"/>
              </a:xfrm>
              <a:custGeom>
                <a:avLst/>
                <a:gdLst/>
                <a:ahLst/>
                <a:rect l="l" t="t" r="r" b="b"/>
                <a:pathLst>
                  <a:path w="91" h="89">
                    <a:moveTo>
                      <a:pt x="71" y="2"/>
                    </a:moveTo>
                    <a:cubicBezTo>
                      <a:pt x="73" y="1"/>
                      <a:pt x="76" y="0"/>
                      <a:pt x="79" y="0"/>
                    </a:cubicBezTo>
                    <a:cubicBezTo>
                      <a:pt x="86" y="0"/>
                      <a:pt x="91" y="5"/>
                      <a:pt x="91" y="12"/>
                    </a:cubicBezTo>
                    <a:cubicBezTo>
                      <a:pt x="89" y="77"/>
                      <a:pt x="89" y="77"/>
                      <a:pt x="89" y="77"/>
                    </a:cubicBezTo>
                    <a:cubicBezTo>
                      <a:pt x="89" y="80"/>
                      <a:pt x="88" y="83"/>
                      <a:pt x="85" y="86"/>
                    </a:cubicBezTo>
                    <a:cubicBezTo>
                      <a:pt x="83" y="88"/>
                      <a:pt x="80" y="89"/>
                      <a:pt x="77" y="89"/>
                    </a:cubicBezTo>
                    <a:cubicBezTo>
                      <a:pt x="12" y="87"/>
                      <a:pt x="12" y="87"/>
                      <a:pt x="12" y="87"/>
                    </a:cubicBezTo>
                    <a:cubicBezTo>
                      <a:pt x="5" y="87"/>
                      <a:pt x="0" y="81"/>
                      <a:pt x="0" y="75"/>
                    </a:cubicBezTo>
                    <a:cubicBezTo>
                      <a:pt x="0" y="68"/>
                      <a:pt x="6" y="63"/>
                      <a:pt x="12" y="63"/>
                    </a:cubicBezTo>
                    <a:cubicBezTo>
                      <a:pt x="65" y="64"/>
                      <a:pt x="65" y="64"/>
                      <a:pt x="65" y="64"/>
                    </a:cubicBezTo>
                    <a:cubicBezTo>
                      <a:pt x="66" y="12"/>
                      <a:pt x="66" y="12"/>
                      <a:pt x="66" y="12"/>
                    </a:cubicBezTo>
                    <a:cubicBezTo>
                      <a:pt x="67" y="8"/>
                      <a:pt x="68" y="5"/>
                      <a:pt x="71" y="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3" name="组合 191"/>
            <p:cNvGrpSpPr/>
            <p:nvPr/>
          </p:nvGrpSpPr>
          <p:grpSpPr>
            <a:xfrm>
              <a:off x="9691920" y="3514680"/>
              <a:ext cx="345960" cy="222120"/>
              <a:chOff x="9691920" y="3514680"/>
              <a:chExt cx="345960" cy="222120"/>
            </a:xfrm>
          </p:grpSpPr>
          <p:sp>
            <p:nvSpPr>
              <p:cNvPr id="614" name="Freeform 170"/>
              <p:cNvSpPr/>
              <p:nvPr/>
            </p:nvSpPr>
            <p:spPr>
              <a:xfrm>
                <a:off x="9691920" y="3554280"/>
                <a:ext cx="330120" cy="100080"/>
              </a:xfrm>
              <a:custGeom>
                <a:avLst/>
                <a:gdLst/>
                <a:ahLst/>
                <a:rect l="l" t="t" r="r" b="b"/>
                <a:pathLst>
                  <a:path w="177" h="53">
                    <a:moveTo>
                      <a:pt x="1" y="12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2" y="4"/>
                      <a:pt x="7" y="0"/>
                      <a:pt x="11" y="1"/>
                    </a:cubicBezTo>
                    <a:cubicBezTo>
                      <a:pt x="36" y="8"/>
                      <a:pt x="61" y="14"/>
                      <a:pt x="88" y="19"/>
                    </a:cubicBezTo>
                    <a:cubicBezTo>
                      <a:pt x="116" y="24"/>
                      <a:pt x="143" y="27"/>
                      <a:pt x="170" y="29"/>
                    </a:cubicBezTo>
                    <a:cubicBezTo>
                      <a:pt x="174" y="29"/>
                      <a:pt x="177" y="35"/>
                      <a:pt x="176" y="41"/>
                    </a:cubicBezTo>
                    <a:cubicBezTo>
                      <a:pt x="176" y="48"/>
                      <a:pt x="171" y="53"/>
                      <a:pt x="167" y="53"/>
                    </a:cubicBezTo>
                    <a:cubicBezTo>
                      <a:pt x="140" y="51"/>
                      <a:pt x="112" y="48"/>
                      <a:pt x="84" y="43"/>
                    </a:cubicBezTo>
                    <a:cubicBezTo>
                      <a:pt x="56" y="38"/>
                      <a:pt x="31" y="32"/>
                      <a:pt x="6" y="25"/>
                    </a:cubicBezTo>
                    <a:cubicBezTo>
                      <a:pt x="2" y="24"/>
                      <a:pt x="0" y="18"/>
                      <a:pt x="1" y="1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1"/>
              <p:cNvSpPr/>
              <p:nvPr/>
            </p:nvSpPr>
            <p:spPr>
              <a:xfrm>
                <a:off x="9894960" y="3514680"/>
                <a:ext cx="142920" cy="222120"/>
              </a:xfrm>
              <a:custGeom>
                <a:avLst/>
                <a:gdLst/>
                <a:ahLst/>
                <a:rect l="l" t="t" r="r" b="b"/>
                <a:pathLst>
                  <a:path w="77" h="119">
                    <a:moveTo>
                      <a:pt x="12" y="12"/>
                    </a:moveTo>
                    <a:cubicBezTo>
                      <a:pt x="13" y="9"/>
                      <a:pt x="14" y="6"/>
                      <a:pt x="17" y="4"/>
                    </a:cubicBezTo>
                    <a:cubicBezTo>
                      <a:pt x="22" y="0"/>
                      <a:pt x="29" y="1"/>
                      <a:pt x="34" y="6"/>
                    </a:cubicBezTo>
                    <a:cubicBezTo>
                      <a:pt x="74" y="57"/>
                      <a:pt x="74" y="57"/>
                      <a:pt x="74" y="57"/>
                    </a:cubicBezTo>
                    <a:cubicBezTo>
                      <a:pt x="76" y="60"/>
                      <a:pt x="77" y="63"/>
                      <a:pt x="77" y="66"/>
                    </a:cubicBezTo>
                    <a:cubicBezTo>
                      <a:pt x="76" y="69"/>
                      <a:pt x="75" y="72"/>
                      <a:pt x="72" y="74"/>
                    </a:cubicBezTo>
                    <a:cubicBezTo>
                      <a:pt x="21" y="115"/>
                      <a:pt x="21" y="115"/>
                      <a:pt x="21" y="115"/>
                    </a:cubicBezTo>
                    <a:cubicBezTo>
                      <a:pt x="16" y="119"/>
                      <a:pt x="8" y="118"/>
                      <a:pt x="4" y="113"/>
                    </a:cubicBezTo>
                    <a:cubicBezTo>
                      <a:pt x="0" y="107"/>
                      <a:pt x="1" y="100"/>
                      <a:pt x="6" y="96"/>
                    </a:cubicBezTo>
                    <a:cubicBezTo>
                      <a:pt x="47" y="63"/>
                      <a:pt x="47" y="63"/>
                      <a:pt x="47" y="63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12" y="19"/>
                      <a:pt x="12" y="15"/>
                      <a:pt x="12" y="1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6" name="组合 192"/>
            <p:cNvGrpSpPr/>
            <p:nvPr/>
          </p:nvGrpSpPr>
          <p:grpSpPr>
            <a:xfrm>
              <a:off x="9622080" y="2676600"/>
              <a:ext cx="314280" cy="226800"/>
              <a:chOff x="9622080" y="2676600"/>
              <a:chExt cx="314280" cy="226800"/>
            </a:xfrm>
          </p:grpSpPr>
          <p:sp>
            <p:nvSpPr>
              <p:cNvPr id="617" name="Freeform 172"/>
              <p:cNvSpPr/>
              <p:nvPr/>
            </p:nvSpPr>
            <p:spPr>
              <a:xfrm>
                <a:off x="9622080" y="2705040"/>
                <a:ext cx="301680" cy="198360"/>
              </a:xfrm>
              <a:custGeom>
                <a:avLst/>
                <a:gdLst/>
                <a:ahLst/>
                <a:rect l="l" t="t" r="r" b="b"/>
                <a:pathLst>
                  <a:path w="161" h="106">
                    <a:moveTo>
                      <a:pt x="3" y="98"/>
                    </a:moveTo>
                    <a:cubicBezTo>
                      <a:pt x="3" y="98"/>
                      <a:pt x="3" y="97"/>
                      <a:pt x="3" y="97"/>
                    </a:cubicBezTo>
                    <a:cubicBezTo>
                      <a:pt x="0" y="91"/>
                      <a:pt x="0" y="85"/>
                      <a:pt x="4" y="83"/>
                    </a:cubicBezTo>
                    <a:cubicBezTo>
                      <a:pt x="28" y="73"/>
                      <a:pt x="51" y="61"/>
                      <a:pt x="75" y="48"/>
                    </a:cubicBezTo>
                    <a:cubicBezTo>
                      <a:pt x="99" y="33"/>
                      <a:pt x="122" y="18"/>
                      <a:pt x="144" y="2"/>
                    </a:cubicBezTo>
                    <a:cubicBezTo>
                      <a:pt x="147" y="0"/>
                      <a:pt x="153" y="2"/>
                      <a:pt x="157" y="8"/>
                    </a:cubicBezTo>
                    <a:cubicBezTo>
                      <a:pt x="160" y="13"/>
                      <a:pt x="161" y="20"/>
                      <a:pt x="157" y="23"/>
                    </a:cubicBezTo>
                    <a:cubicBezTo>
                      <a:pt x="135" y="39"/>
                      <a:pt x="112" y="54"/>
                      <a:pt x="87" y="69"/>
                    </a:cubicBezTo>
                    <a:cubicBezTo>
                      <a:pt x="63" y="82"/>
                      <a:pt x="40" y="94"/>
                      <a:pt x="16" y="105"/>
                    </a:cubicBezTo>
                    <a:cubicBezTo>
                      <a:pt x="12" y="106"/>
                      <a:pt x="6" y="103"/>
                      <a:pt x="3" y="98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9769680" y="2676600"/>
                <a:ext cx="166680" cy="193680"/>
              </a:xfrm>
              <a:custGeom>
                <a:avLst/>
                <a:gdLst/>
                <a:ahLst/>
                <a:rect l="l" t="t" r="r" b="b"/>
                <a:pathLst>
                  <a:path w="89" h="104">
                    <a:moveTo>
                      <a:pt x="2" y="20"/>
                    </a:moveTo>
                    <a:cubicBezTo>
                      <a:pt x="1" y="17"/>
                      <a:pt x="0" y="14"/>
                      <a:pt x="1" y="11"/>
                    </a:cubicBezTo>
                    <a:cubicBezTo>
                      <a:pt x="2" y="5"/>
                      <a:pt x="9" y="0"/>
                      <a:pt x="15" y="2"/>
                    </a:cubicBezTo>
                    <a:cubicBezTo>
                      <a:pt x="79" y="15"/>
                      <a:pt x="79" y="15"/>
                      <a:pt x="79" y="15"/>
                    </a:cubicBezTo>
                    <a:cubicBezTo>
                      <a:pt x="82" y="15"/>
                      <a:pt x="85" y="17"/>
                      <a:pt x="87" y="20"/>
                    </a:cubicBezTo>
                    <a:cubicBezTo>
                      <a:pt x="89" y="23"/>
                      <a:pt x="89" y="26"/>
                      <a:pt x="88" y="29"/>
                    </a:cubicBezTo>
                    <a:cubicBezTo>
                      <a:pt x="76" y="93"/>
                      <a:pt x="76" y="93"/>
                      <a:pt x="76" y="93"/>
                    </a:cubicBezTo>
                    <a:cubicBezTo>
                      <a:pt x="74" y="99"/>
                      <a:pt x="68" y="104"/>
                      <a:pt x="61" y="102"/>
                    </a:cubicBezTo>
                    <a:cubicBezTo>
                      <a:pt x="55" y="101"/>
                      <a:pt x="50" y="94"/>
                      <a:pt x="52" y="88"/>
                    </a:cubicBezTo>
                    <a:cubicBezTo>
                      <a:pt x="62" y="36"/>
                      <a:pt x="62" y="36"/>
                      <a:pt x="62" y="36"/>
                    </a:cubicBezTo>
                    <a:cubicBezTo>
                      <a:pt x="11" y="26"/>
                      <a:pt x="11" y="26"/>
                      <a:pt x="11" y="26"/>
                    </a:cubicBezTo>
                    <a:cubicBezTo>
                      <a:pt x="7" y="25"/>
                      <a:pt x="4" y="23"/>
                      <a:pt x="2" y="20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9" name="组合 197"/>
            <p:cNvGrpSpPr/>
            <p:nvPr/>
          </p:nvGrpSpPr>
          <p:grpSpPr>
            <a:xfrm>
              <a:off x="8998200" y="1998720"/>
              <a:ext cx="217440" cy="333360"/>
              <a:chOff x="8998200" y="1998720"/>
              <a:chExt cx="217440" cy="333360"/>
            </a:xfrm>
          </p:grpSpPr>
          <p:sp>
            <p:nvSpPr>
              <p:cNvPr id="620" name="Freeform 174"/>
              <p:cNvSpPr/>
              <p:nvPr/>
            </p:nvSpPr>
            <p:spPr>
              <a:xfrm>
                <a:off x="8998200" y="2011320"/>
                <a:ext cx="152280" cy="320760"/>
              </a:xfrm>
              <a:custGeom>
                <a:avLst/>
                <a:gdLst/>
                <a:ahLst/>
                <a:rect l="l" t="t" r="r" b="b"/>
                <a:pathLst>
                  <a:path w="81" h="172">
                    <a:moveTo>
                      <a:pt x="10" y="170"/>
                    </a:moveTo>
                    <a:cubicBezTo>
                      <a:pt x="10" y="170"/>
                      <a:pt x="10" y="170"/>
                      <a:pt x="10" y="170"/>
                    </a:cubicBezTo>
                    <a:cubicBezTo>
                      <a:pt x="3" y="167"/>
                      <a:pt x="0" y="162"/>
                      <a:pt x="2" y="158"/>
                    </a:cubicBezTo>
                    <a:cubicBezTo>
                      <a:pt x="13" y="135"/>
                      <a:pt x="24" y="111"/>
                      <a:pt x="33" y="85"/>
                    </a:cubicBezTo>
                    <a:cubicBezTo>
                      <a:pt x="43" y="59"/>
                      <a:pt x="51" y="32"/>
                      <a:pt x="57" y="6"/>
                    </a:cubicBezTo>
                    <a:cubicBezTo>
                      <a:pt x="58" y="2"/>
                      <a:pt x="64" y="0"/>
                      <a:pt x="70" y="2"/>
                    </a:cubicBezTo>
                    <a:cubicBezTo>
                      <a:pt x="77" y="4"/>
                      <a:pt x="81" y="9"/>
                      <a:pt x="80" y="13"/>
                    </a:cubicBezTo>
                    <a:cubicBezTo>
                      <a:pt x="74" y="40"/>
                      <a:pt x="66" y="67"/>
                      <a:pt x="56" y="94"/>
                    </a:cubicBezTo>
                    <a:cubicBezTo>
                      <a:pt x="46" y="120"/>
                      <a:pt x="36" y="144"/>
                      <a:pt x="24" y="167"/>
                    </a:cubicBezTo>
                    <a:cubicBezTo>
                      <a:pt x="22" y="171"/>
                      <a:pt x="16" y="172"/>
                      <a:pt x="10" y="170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5"/>
              <p:cNvSpPr/>
              <p:nvPr/>
            </p:nvSpPr>
            <p:spPr>
              <a:xfrm>
                <a:off x="8998200" y="1998720"/>
                <a:ext cx="217440" cy="154080"/>
              </a:xfrm>
              <a:custGeom>
                <a:avLst/>
                <a:gdLst/>
                <a:ahLst/>
                <a:rect l="l" t="t" r="r" b="b"/>
                <a:pathLst>
                  <a:path w="116" h="83">
                    <a:moveTo>
                      <a:pt x="10" y="54"/>
                    </a:moveTo>
                    <a:cubicBezTo>
                      <a:pt x="7" y="54"/>
                      <a:pt x="5" y="52"/>
                      <a:pt x="3" y="49"/>
                    </a:cubicBezTo>
                    <a:cubicBezTo>
                      <a:pt x="0" y="43"/>
                      <a:pt x="2" y="36"/>
                      <a:pt x="8" y="32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68" y="0"/>
                      <a:pt x="71" y="0"/>
                      <a:pt x="75" y="0"/>
                    </a:cubicBezTo>
                    <a:cubicBezTo>
                      <a:pt x="78" y="1"/>
                      <a:pt x="80" y="3"/>
                      <a:pt x="82" y="6"/>
                    </a:cubicBezTo>
                    <a:cubicBezTo>
                      <a:pt x="113" y="63"/>
                      <a:pt x="113" y="63"/>
                      <a:pt x="113" y="63"/>
                    </a:cubicBezTo>
                    <a:cubicBezTo>
                      <a:pt x="116" y="69"/>
                      <a:pt x="114" y="77"/>
                      <a:pt x="108" y="80"/>
                    </a:cubicBezTo>
                    <a:cubicBezTo>
                      <a:pt x="102" y="83"/>
                      <a:pt x="95" y="81"/>
                      <a:pt x="91" y="75"/>
                    </a:cubicBezTo>
                    <a:cubicBezTo>
                      <a:pt x="66" y="29"/>
                      <a:pt x="66" y="29"/>
                      <a:pt x="66" y="29"/>
                    </a:cubicBezTo>
                    <a:cubicBezTo>
                      <a:pt x="20" y="54"/>
                      <a:pt x="20" y="54"/>
                      <a:pt x="20" y="54"/>
                    </a:cubicBezTo>
                    <a:cubicBezTo>
                      <a:pt x="17" y="55"/>
                      <a:pt x="13" y="56"/>
                      <a:pt x="10" y="54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组合 193"/>
            <p:cNvGrpSpPr/>
            <p:nvPr/>
          </p:nvGrpSpPr>
          <p:grpSpPr>
            <a:xfrm>
              <a:off x="8064360" y="2000160"/>
              <a:ext cx="207720" cy="336240"/>
              <a:chOff x="8064360" y="2000160"/>
              <a:chExt cx="207720" cy="336240"/>
            </a:xfrm>
          </p:grpSpPr>
          <p:sp>
            <p:nvSpPr>
              <p:cNvPr id="623" name="Freeform 176"/>
              <p:cNvSpPr/>
              <p:nvPr/>
            </p:nvSpPr>
            <p:spPr>
              <a:xfrm>
                <a:off x="8111880" y="2014200"/>
                <a:ext cx="152280" cy="322200"/>
              </a:xfrm>
              <a:custGeom>
                <a:avLst/>
                <a:gdLst/>
                <a:ahLst/>
                <a:rect l="l" t="t" r="r" b="b"/>
                <a:pathLst>
                  <a:path w="82" h="172">
                    <a:moveTo>
                      <a:pt x="72" y="170"/>
                    </a:moveTo>
                    <a:cubicBezTo>
                      <a:pt x="71" y="170"/>
                      <a:pt x="71" y="170"/>
                      <a:pt x="71" y="170"/>
                    </a:cubicBezTo>
                    <a:cubicBezTo>
                      <a:pt x="64" y="172"/>
                      <a:pt x="58" y="170"/>
                      <a:pt x="57" y="166"/>
                    </a:cubicBezTo>
                    <a:cubicBezTo>
                      <a:pt x="51" y="141"/>
                      <a:pt x="44" y="116"/>
                      <a:pt x="34" y="91"/>
                    </a:cubicBezTo>
                    <a:cubicBezTo>
                      <a:pt x="25" y="64"/>
                      <a:pt x="14" y="39"/>
                      <a:pt x="2" y="15"/>
                    </a:cubicBezTo>
                    <a:cubicBezTo>
                      <a:pt x="0" y="11"/>
                      <a:pt x="3" y="5"/>
                      <a:pt x="10" y="3"/>
                    </a:cubicBezTo>
                    <a:cubicBezTo>
                      <a:pt x="16" y="0"/>
                      <a:pt x="22" y="1"/>
                      <a:pt x="24" y="5"/>
                    </a:cubicBezTo>
                    <a:cubicBezTo>
                      <a:pt x="36" y="29"/>
                      <a:pt x="48" y="55"/>
                      <a:pt x="57" y="82"/>
                    </a:cubicBezTo>
                    <a:cubicBezTo>
                      <a:pt x="67" y="108"/>
                      <a:pt x="74" y="133"/>
                      <a:pt x="81" y="159"/>
                    </a:cubicBezTo>
                    <a:cubicBezTo>
                      <a:pt x="82" y="163"/>
                      <a:pt x="78" y="168"/>
                      <a:pt x="72" y="170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7"/>
              <p:cNvSpPr/>
              <p:nvPr/>
            </p:nvSpPr>
            <p:spPr>
              <a:xfrm>
                <a:off x="8064360" y="2000160"/>
                <a:ext cx="207720" cy="158760"/>
              </a:xfrm>
              <a:custGeom>
                <a:avLst/>
                <a:gdLst/>
                <a:ahLst/>
                <a:rect l="l" t="t" r="r" b="b"/>
                <a:pathLst>
                  <a:path w="111" h="85">
                    <a:moveTo>
                      <a:pt x="18" y="84"/>
                    </a:moveTo>
                    <a:cubicBezTo>
                      <a:pt x="15" y="85"/>
                      <a:pt x="12" y="85"/>
                      <a:pt x="9" y="84"/>
                    </a:cubicBezTo>
                    <a:cubicBezTo>
                      <a:pt x="3" y="82"/>
                      <a:pt x="0" y="75"/>
                      <a:pt x="2" y="69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7" y="5"/>
                      <a:pt x="29" y="3"/>
                      <a:pt x="32" y="1"/>
                    </a:cubicBezTo>
                    <a:cubicBezTo>
                      <a:pt x="35" y="0"/>
                      <a:pt x="39" y="0"/>
                      <a:pt x="42" y="1"/>
                    </a:cubicBezTo>
                    <a:cubicBezTo>
                      <a:pt x="102" y="25"/>
                      <a:pt x="102" y="25"/>
                      <a:pt x="102" y="25"/>
                    </a:cubicBezTo>
                    <a:cubicBezTo>
                      <a:pt x="108" y="28"/>
                      <a:pt x="111" y="35"/>
                      <a:pt x="109" y="41"/>
                    </a:cubicBezTo>
                    <a:cubicBezTo>
                      <a:pt x="106" y="47"/>
                      <a:pt x="99" y="50"/>
                      <a:pt x="93" y="48"/>
                    </a:cubicBezTo>
                    <a:cubicBezTo>
                      <a:pt x="44" y="28"/>
                      <a:pt x="44" y="28"/>
                      <a:pt x="44" y="28"/>
                    </a:cubicBezTo>
                    <a:cubicBezTo>
                      <a:pt x="25" y="77"/>
                      <a:pt x="25" y="77"/>
                      <a:pt x="25" y="77"/>
                    </a:cubicBezTo>
                    <a:cubicBezTo>
                      <a:pt x="23" y="81"/>
                      <a:pt x="21" y="83"/>
                      <a:pt x="18" y="84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5" name="组合 198"/>
            <p:cNvGrpSpPr/>
            <p:nvPr/>
          </p:nvGrpSpPr>
          <p:grpSpPr>
            <a:xfrm>
              <a:off x="7370640" y="2427120"/>
              <a:ext cx="312480" cy="245880"/>
              <a:chOff x="7370640" y="2427120"/>
              <a:chExt cx="312480" cy="245880"/>
            </a:xfrm>
          </p:grpSpPr>
          <p:sp>
            <p:nvSpPr>
              <p:cNvPr id="626" name="Freeform 178"/>
              <p:cNvSpPr/>
              <p:nvPr/>
            </p:nvSpPr>
            <p:spPr>
              <a:xfrm>
                <a:off x="7383240" y="2474640"/>
                <a:ext cx="299880" cy="19836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158" y="98"/>
                    </a:moveTo>
                    <a:cubicBezTo>
                      <a:pt x="157" y="98"/>
                      <a:pt x="157" y="98"/>
                      <a:pt x="157" y="99"/>
                    </a:cubicBezTo>
                    <a:cubicBezTo>
                      <a:pt x="153" y="104"/>
                      <a:pt x="148" y="107"/>
                      <a:pt x="144" y="104"/>
                    </a:cubicBezTo>
                    <a:cubicBezTo>
                      <a:pt x="123" y="89"/>
                      <a:pt x="102" y="75"/>
                      <a:pt x="78" y="61"/>
                    </a:cubicBezTo>
                    <a:cubicBezTo>
                      <a:pt x="54" y="47"/>
                      <a:pt x="29" y="34"/>
                      <a:pt x="4" y="24"/>
                    </a:cubicBezTo>
                    <a:cubicBezTo>
                      <a:pt x="0" y="22"/>
                      <a:pt x="0" y="16"/>
                      <a:pt x="3" y="10"/>
                    </a:cubicBezTo>
                    <a:cubicBezTo>
                      <a:pt x="6" y="4"/>
                      <a:pt x="11" y="0"/>
                      <a:pt x="16" y="2"/>
                    </a:cubicBezTo>
                    <a:cubicBezTo>
                      <a:pt x="40" y="13"/>
                      <a:pt x="65" y="26"/>
                      <a:pt x="90" y="40"/>
                    </a:cubicBezTo>
                    <a:cubicBezTo>
                      <a:pt x="114" y="54"/>
                      <a:pt x="136" y="68"/>
                      <a:pt x="157" y="84"/>
                    </a:cubicBezTo>
                    <a:cubicBezTo>
                      <a:pt x="161" y="86"/>
                      <a:pt x="161" y="92"/>
                      <a:pt x="158" y="98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79"/>
              <p:cNvSpPr/>
              <p:nvPr/>
            </p:nvSpPr>
            <p:spPr>
              <a:xfrm>
                <a:off x="7370640" y="2427120"/>
                <a:ext cx="163440" cy="206280"/>
              </a:xfrm>
              <a:custGeom>
                <a:avLst/>
                <a:gdLst/>
                <a:ahLst/>
                <a:rect l="l" t="t" r="r" b="b"/>
                <a:pathLst>
                  <a:path w="88" h="110">
                    <a:moveTo>
                      <a:pt x="44" y="102"/>
                    </a:moveTo>
                    <a:cubicBezTo>
                      <a:pt x="42" y="105"/>
                      <a:pt x="40" y="107"/>
                      <a:pt x="37" y="107"/>
                    </a:cubicBezTo>
                    <a:cubicBezTo>
                      <a:pt x="31" y="110"/>
                      <a:pt x="24" y="106"/>
                      <a:pt x="22" y="100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5"/>
                      <a:pt x="0" y="32"/>
                      <a:pt x="2" y="29"/>
                    </a:cubicBezTo>
                    <a:cubicBezTo>
                      <a:pt x="3" y="26"/>
                      <a:pt x="6" y="24"/>
                      <a:pt x="9" y="23"/>
                    </a:cubicBezTo>
                    <a:cubicBezTo>
                      <a:pt x="71" y="2"/>
                      <a:pt x="71" y="2"/>
                      <a:pt x="71" y="2"/>
                    </a:cubicBezTo>
                    <a:cubicBezTo>
                      <a:pt x="77" y="0"/>
                      <a:pt x="84" y="4"/>
                      <a:pt x="86" y="10"/>
                    </a:cubicBezTo>
                    <a:cubicBezTo>
                      <a:pt x="88" y="16"/>
                      <a:pt x="85" y="23"/>
                      <a:pt x="78" y="25"/>
                    </a:cubicBezTo>
                    <a:cubicBezTo>
                      <a:pt x="28" y="42"/>
                      <a:pt x="28" y="42"/>
                      <a:pt x="28" y="42"/>
                    </a:cubicBezTo>
                    <a:cubicBezTo>
                      <a:pt x="45" y="92"/>
                      <a:pt x="45" y="92"/>
                      <a:pt x="45" y="92"/>
                    </a:cubicBezTo>
                    <a:cubicBezTo>
                      <a:pt x="46" y="96"/>
                      <a:pt x="46" y="99"/>
                      <a:pt x="44" y="102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8" name="组合 194"/>
            <p:cNvGrpSpPr/>
            <p:nvPr/>
          </p:nvGrpSpPr>
          <p:grpSpPr>
            <a:xfrm>
              <a:off x="7188120" y="3403800"/>
              <a:ext cx="349200" cy="218880"/>
              <a:chOff x="7188120" y="3403800"/>
              <a:chExt cx="349200" cy="218880"/>
            </a:xfrm>
          </p:grpSpPr>
          <p:sp>
            <p:nvSpPr>
              <p:cNvPr id="629" name="Freeform 180"/>
              <p:cNvSpPr/>
              <p:nvPr/>
            </p:nvSpPr>
            <p:spPr>
              <a:xfrm>
                <a:off x="7203960" y="3457800"/>
                <a:ext cx="333360" cy="100080"/>
              </a:xfrm>
              <a:custGeom>
                <a:avLst/>
                <a:gdLst/>
                <a:ahLst/>
                <a:rect l="l" t="t" r="r" b="b"/>
                <a:pathLst>
                  <a:path w="178" h="53">
                    <a:moveTo>
                      <a:pt x="177" y="11"/>
                    </a:moveTo>
                    <a:cubicBezTo>
                      <a:pt x="177" y="11"/>
                      <a:pt x="177" y="11"/>
                      <a:pt x="177" y="11"/>
                    </a:cubicBezTo>
                    <a:cubicBezTo>
                      <a:pt x="178" y="18"/>
                      <a:pt x="175" y="24"/>
                      <a:pt x="170" y="24"/>
                    </a:cubicBezTo>
                    <a:cubicBezTo>
                      <a:pt x="144" y="26"/>
                      <a:pt x="119" y="29"/>
                      <a:pt x="92" y="33"/>
                    </a:cubicBezTo>
                    <a:cubicBezTo>
                      <a:pt x="64" y="38"/>
                      <a:pt x="37" y="45"/>
                      <a:pt x="12" y="52"/>
                    </a:cubicBezTo>
                    <a:cubicBezTo>
                      <a:pt x="7" y="53"/>
                      <a:pt x="3" y="49"/>
                      <a:pt x="1" y="43"/>
                    </a:cubicBezTo>
                    <a:cubicBezTo>
                      <a:pt x="0" y="36"/>
                      <a:pt x="2" y="30"/>
                      <a:pt x="6" y="29"/>
                    </a:cubicBezTo>
                    <a:cubicBezTo>
                      <a:pt x="32" y="21"/>
                      <a:pt x="60" y="14"/>
                      <a:pt x="88" y="9"/>
                    </a:cubicBezTo>
                    <a:cubicBezTo>
                      <a:pt x="115" y="5"/>
                      <a:pt x="141" y="2"/>
                      <a:pt x="167" y="0"/>
                    </a:cubicBezTo>
                    <a:cubicBezTo>
                      <a:pt x="171" y="0"/>
                      <a:pt x="175" y="4"/>
                      <a:pt x="177" y="11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1"/>
              <p:cNvSpPr/>
              <p:nvPr/>
            </p:nvSpPr>
            <p:spPr>
              <a:xfrm>
                <a:off x="7188120" y="3403800"/>
                <a:ext cx="149040" cy="218880"/>
              </a:xfrm>
              <a:custGeom>
                <a:avLst/>
                <a:gdLst/>
                <a:ahLst/>
                <a:rect l="l" t="t" r="r" b="b"/>
                <a:pathLst>
                  <a:path w="80" h="117">
                    <a:moveTo>
                      <a:pt x="80" y="101"/>
                    </a:moveTo>
                    <a:cubicBezTo>
                      <a:pt x="80" y="104"/>
                      <a:pt x="80" y="107"/>
                      <a:pt x="78" y="110"/>
                    </a:cubicBezTo>
                    <a:cubicBezTo>
                      <a:pt x="75" y="115"/>
                      <a:pt x="67" y="117"/>
                      <a:pt x="61" y="114"/>
                    </a:cubicBezTo>
                    <a:cubicBezTo>
                      <a:pt x="6" y="80"/>
                      <a:pt x="6" y="80"/>
                      <a:pt x="6" y="80"/>
                    </a:cubicBezTo>
                    <a:cubicBezTo>
                      <a:pt x="3" y="78"/>
                      <a:pt x="1" y="75"/>
                      <a:pt x="1" y="72"/>
                    </a:cubicBezTo>
                    <a:cubicBezTo>
                      <a:pt x="0" y="69"/>
                      <a:pt x="0" y="66"/>
                      <a:pt x="2" y="63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40" y="2"/>
                      <a:pt x="47" y="0"/>
                      <a:pt x="53" y="4"/>
                    </a:cubicBezTo>
                    <a:cubicBezTo>
                      <a:pt x="59" y="7"/>
                      <a:pt x="60" y="15"/>
                      <a:pt x="57" y="20"/>
                    </a:cubicBezTo>
                    <a:cubicBezTo>
                      <a:pt x="29" y="65"/>
                      <a:pt x="29" y="65"/>
                      <a:pt x="29" y="65"/>
                    </a:cubicBezTo>
                    <a:cubicBezTo>
                      <a:pt x="74" y="93"/>
                      <a:pt x="74" y="93"/>
                      <a:pt x="74" y="93"/>
                    </a:cubicBezTo>
                    <a:cubicBezTo>
                      <a:pt x="77" y="95"/>
                      <a:pt x="79" y="98"/>
                      <a:pt x="80" y="101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1" name="组合 195"/>
            <p:cNvGrpSpPr/>
            <p:nvPr/>
          </p:nvGrpSpPr>
          <p:grpSpPr>
            <a:xfrm>
              <a:off x="7502400" y="4162680"/>
              <a:ext cx="268200" cy="282600"/>
              <a:chOff x="7502400" y="4162680"/>
              <a:chExt cx="268200" cy="282600"/>
            </a:xfrm>
          </p:grpSpPr>
          <p:sp>
            <p:nvSpPr>
              <p:cNvPr id="632" name="Freeform 182"/>
              <p:cNvSpPr/>
              <p:nvPr/>
            </p:nvSpPr>
            <p:spPr>
              <a:xfrm>
                <a:off x="7530840" y="4162680"/>
                <a:ext cx="239760" cy="274680"/>
              </a:xfrm>
              <a:custGeom>
                <a:avLst/>
                <a:gdLst/>
                <a:ahLst/>
                <a:rect l="l" t="t" r="r" b="b"/>
                <a:pathLst>
                  <a:path w="128" h="147">
                    <a:moveTo>
                      <a:pt x="121" y="5"/>
                    </a:moveTo>
                    <a:cubicBezTo>
                      <a:pt x="121" y="5"/>
                      <a:pt x="121" y="5"/>
                      <a:pt x="122" y="6"/>
                    </a:cubicBezTo>
                    <a:cubicBezTo>
                      <a:pt x="127" y="10"/>
                      <a:pt x="128" y="16"/>
                      <a:pt x="125" y="19"/>
                    </a:cubicBezTo>
                    <a:cubicBezTo>
                      <a:pt x="106" y="37"/>
                      <a:pt x="89" y="56"/>
                      <a:pt x="71" y="77"/>
                    </a:cubicBezTo>
                    <a:cubicBezTo>
                      <a:pt x="53" y="99"/>
                      <a:pt x="36" y="121"/>
                      <a:pt x="22" y="143"/>
                    </a:cubicBezTo>
                    <a:cubicBezTo>
                      <a:pt x="19" y="147"/>
                      <a:pt x="13" y="146"/>
                      <a:pt x="7" y="142"/>
                    </a:cubicBezTo>
                    <a:cubicBezTo>
                      <a:pt x="2" y="138"/>
                      <a:pt x="0" y="132"/>
                      <a:pt x="2" y="128"/>
                    </a:cubicBezTo>
                    <a:cubicBezTo>
                      <a:pt x="17" y="106"/>
                      <a:pt x="34" y="83"/>
                      <a:pt x="52" y="61"/>
                    </a:cubicBezTo>
                    <a:cubicBezTo>
                      <a:pt x="70" y="40"/>
                      <a:pt x="88" y="21"/>
                      <a:pt x="107" y="3"/>
                    </a:cubicBezTo>
                    <a:cubicBezTo>
                      <a:pt x="110" y="0"/>
                      <a:pt x="116" y="1"/>
                      <a:pt x="121" y="5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183"/>
              <p:cNvSpPr/>
              <p:nvPr/>
            </p:nvSpPr>
            <p:spPr>
              <a:xfrm>
                <a:off x="7502400" y="4278600"/>
                <a:ext cx="187200" cy="166680"/>
              </a:xfrm>
              <a:custGeom>
                <a:avLst/>
                <a:gdLst/>
                <a:ahLst/>
                <a:rect l="l" t="t" r="r" b="b"/>
                <a:pathLst>
                  <a:path w="100" h="90">
                    <a:moveTo>
                      <a:pt x="95" y="58"/>
                    </a:moveTo>
                    <a:cubicBezTo>
                      <a:pt x="97" y="60"/>
                      <a:pt x="98" y="63"/>
                      <a:pt x="99" y="66"/>
                    </a:cubicBezTo>
                    <a:cubicBezTo>
                      <a:pt x="100" y="72"/>
                      <a:pt x="95" y="79"/>
                      <a:pt x="89" y="80"/>
                    </a:cubicBezTo>
                    <a:cubicBezTo>
                      <a:pt x="24" y="89"/>
                      <a:pt x="24" y="89"/>
                      <a:pt x="24" y="89"/>
                    </a:cubicBezTo>
                    <a:cubicBezTo>
                      <a:pt x="21" y="90"/>
                      <a:pt x="18" y="89"/>
                      <a:pt x="15" y="87"/>
                    </a:cubicBezTo>
                    <a:cubicBezTo>
                      <a:pt x="13" y="85"/>
                      <a:pt x="11" y="82"/>
                      <a:pt x="11" y="79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8"/>
                      <a:pt x="5" y="2"/>
                      <a:pt x="11" y="1"/>
                    </a:cubicBezTo>
                    <a:cubicBezTo>
                      <a:pt x="18" y="0"/>
                      <a:pt x="24" y="5"/>
                      <a:pt x="25" y="11"/>
                    </a:cubicBezTo>
                    <a:cubicBezTo>
                      <a:pt x="33" y="63"/>
                      <a:pt x="33" y="63"/>
                      <a:pt x="33" y="63"/>
                    </a:cubicBezTo>
                    <a:cubicBezTo>
                      <a:pt x="85" y="56"/>
                      <a:pt x="85" y="56"/>
                      <a:pt x="85" y="56"/>
                    </a:cubicBezTo>
                    <a:cubicBezTo>
                      <a:pt x="89" y="55"/>
                      <a:pt x="92" y="56"/>
                      <a:pt x="95" y="58"/>
                    </a:cubicBezTo>
                    <a:close/>
                  </a:path>
                </a:pathLst>
              </a:custGeom>
              <a:solidFill>
                <a:srgbClr val="a0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4" name="组合 188"/>
          <p:cNvGrpSpPr/>
          <p:nvPr/>
        </p:nvGrpSpPr>
        <p:grpSpPr>
          <a:xfrm>
            <a:off x="7770960" y="2503440"/>
            <a:ext cx="2471760" cy="4383000"/>
            <a:chOff x="7770960" y="2503440"/>
            <a:chExt cx="2471760" cy="4383000"/>
          </a:xfrm>
        </p:grpSpPr>
        <p:sp>
          <p:nvSpPr>
            <p:cNvPr id="635" name="Freeform 5"/>
            <p:cNvSpPr/>
            <p:nvPr/>
          </p:nvSpPr>
          <p:spPr>
            <a:xfrm>
              <a:off x="8572680" y="4743360"/>
              <a:ext cx="1352520" cy="1976400"/>
            </a:xfrm>
            <a:custGeom>
              <a:avLst/>
              <a:gdLst/>
              <a:ahLst/>
              <a:rect l="l" t="t" r="r" b="b"/>
              <a:pathLst>
                <a:path w="852" h="1245">
                  <a:moveTo>
                    <a:pt x="88" y="869"/>
                  </a:moveTo>
                  <a:lnTo>
                    <a:pt x="191" y="1022"/>
                  </a:lnTo>
                  <a:lnTo>
                    <a:pt x="312" y="1245"/>
                  </a:lnTo>
                  <a:lnTo>
                    <a:pt x="852" y="1242"/>
                  </a:lnTo>
                  <a:lnTo>
                    <a:pt x="555" y="748"/>
                  </a:lnTo>
                  <a:lnTo>
                    <a:pt x="420" y="148"/>
                  </a:lnTo>
                  <a:lnTo>
                    <a:pt x="0" y="0"/>
                  </a:lnTo>
                  <a:lnTo>
                    <a:pt x="157" y="284"/>
                  </a:lnTo>
                  <a:lnTo>
                    <a:pt x="88" y="869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8524800" y="4284720"/>
              <a:ext cx="328320" cy="1855800"/>
            </a:xfrm>
            <a:custGeom>
              <a:avLst/>
              <a:gdLst/>
              <a:ahLst/>
              <a:rect l="l" t="t" r="r" b="b"/>
              <a:pathLst>
                <a:path w="176" h="994">
                  <a:moveTo>
                    <a:pt x="176" y="941"/>
                  </a:moveTo>
                  <a:cubicBezTo>
                    <a:pt x="176" y="970"/>
                    <a:pt x="136" y="994"/>
                    <a:pt x="88" y="994"/>
                  </a:cubicBezTo>
                  <a:cubicBezTo>
                    <a:pt x="88" y="994"/>
                    <a:pt x="88" y="994"/>
                    <a:pt x="88" y="994"/>
                  </a:cubicBezTo>
                  <a:cubicBezTo>
                    <a:pt x="39" y="994"/>
                    <a:pt x="0" y="970"/>
                    <a:pt x="0" y="941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0"/>
                    <a:pt x="39" y="4"/>
                    <a:pt x="88" y="4"/>
                  </a:cubicBezTo>
                  <a:cubicBezTo>
                    <a:pt x="88" y="4"/>
                    <a:pt x="88" y="4"/>
                    <a:pt x="88" y="4"/>
                  </a:cubicBezTo>
                  <a:cubicBezTo>
                    <a:pt x="136" y="4"/>
                    <a:pt x="176" y="0"/>
                    <a:pt x="176" y="29"/>
                  </a:cubicBezTo>
                  <a:lnTo>
                    <a:pt x="176" y="941"/>
                  </a:lnTo>
                  <a:close/>
                </a:path>
              </a:pathLst>
            </a:custGeom>
            <a:solidFill>
              <a:srgbClr val="606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8615520" y="4284720"/>
              <a:ext cx="237960" cy="1855800"/>
            </a:xfrm>
            <a:custGeom>
              <a:avLst/>
              <a:gdLst/>
              <a:ahLst/>
              <a:rect l="l" t="t" r="r" b="b"/>
              <a:pathLst>
                <a:path w="127" h="994">
                  <a:moveTo>
                    <a:pt x="0" y="4"/>
                  </a:moveTo>
                  <a:cubicBezTo>
                    <a:pt x="28" y="5"/>
                    <a:pt x="48" y="8"/>
                    <a:pt x="48" y="29"/>
                  </a:cubicBezTo>
                  <a:cubicBezTo>
                    <a:pt x="48" y="941"/>
                    <a:pt x="48" y="941"/>
                    <a:pt x="48" y="941"/>
                  </a:cubicBezTo>
                  <a:cubicBezTo>
                    <a:pt x="48" y="962"/>
                    <a:pt x="28" y="980"/>
                    <a:pt x="0" y="988"/>
                  </a:cubicBezTo>
                  <a:cubicBezTo>
                    <a:pt x="11" y="992"/>
                    <a:pt x="25" y="994"/>
                    <a:pt x="39" y="994"/>
                  </a:cubicBezTo>
                  <a:cubicBezTo>
                    <a:pt x="87" y="994"/>
                    <a:pt x="127" y="970"/>
                    <a:pt x="127" y="941"/>
                  </a:cubicBezTo>
                  <a:cubicBezTo>
                    <a:pt x="127" y="29"/>
                    <a:pt x="127" y="29"/>
                    <a:pt x="127" y="29"/>
                  </a:cubicBezTo>
                  <a:cubicBezTo>
                    <a:pt x="127" y="0"/>
                    <a:pt x="87" y="4"/>
                    <a:pt x="39" y="4"/>
                  </a:cubicBezTo>
                  <a:cubicBezTo>
                    <a:pt x="25" y="4"/>
                    <a:pt x="11" y="4"/>
                    <a:pt x="0" y="4"/>
                  </a:cubicBezTo>
                  <a:close/>
                </a:path>
              </a:pathLst>
            </a:custGeom>
            <a:solidFill>
              <a:srgbClr val="36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8288280" y="5613480"/>
              <a:ext cx="333360" cy="43164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0" y="0"/>
                  </a:moveTo>
                  <a:cubicBezTo>
                    <a:pt x="13" y="151"/>
                    <a:pt x="13" y="151"/>
                    <a:pt x="13" y="151"/>
                  </a:cubicBezTo>
                  <a:cubicBezTo>
                    <a:pt x="175" y="231"/>
                    <a:pt x="175" y="231"/>
                    <a:pt x="175" y="231"/>
                  </a:cubicBezTo>
                  <a:cubicBezTo>
                    <a:pt x="175" y="231"/>
                    <a:pt x="178" y="159"/>
                    <a:pt x="148" y="120"/>
                  </a:cubicBezTo>
                  <a:cubicBezTo>
                    <a:pt x="125" y="9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8288280" y="5613480"/>
              <a:ext cx="333360" cy="43164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148" y="120"/>
                  </a:moveTo>
                  <a:cubicBezTo>
                    <a:pt x="125" y="90"/>
                    <a:pt x="0" y="0"/>
                    <a:pt x="0" y="0"/>
                  </a:cubicBezTo>
                  <a:cubicBezTo>
                    <a:pt x="7" y="80"/>
                    <a:pt x="7" y="80"/>
                    <a:pt x="7" y="80"/>
                  </a:cubicBezTo>
                  <a:cubicBezTo>
                    <a:pt x="60" y="110"/>
                    <a:pt x="100" y="133"/>
                    <a:pt x="123" y="155"/>
                  </a:cubicBezTo>
                  <a:cubicBezTo>
                    <a:pt x="135" y="167"/>
                    <a:pt x="144" y="194"/>
                    <a:pt x="152" y="220"/>
                  </a:cubicBezTo>
                  <a:cubicBezTo>
                    <a:pt x="175" y="231"/>
                    <a:pt x="175" y="231"/>
                    <a:pt x="175" y="231"/>
                  </a:cubicBezTo>
                  <a:cubicBezTo>
                    <a:pt x="175" y="231"/>
                    <a:pt x="178" y="159"/>
                    <a:pt x="148" y="120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8487000" y="5908680"/>
              <a:ext cx="102960" cy="12348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55" y="66"/>
                  </a:moveTo>
                  <a:cubicBezTo>
                    <a:pt x="54" y="58"/>
                    <a:pt x="53" y="50"/>
                    <a:pt x="51" y="43"/>
                  </a:cubicBezTo>
                  <a:cubicBezTo>
                    <a:pt x="44" y="22"/>
                    <a:pt x="4" y="0"/>
                    <a:pt x="4" y="0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55" y="66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8248680" y="5254560"/>
              <a:ext cx="347400" cy="623880"/>
            </a:xfrm>
            <a:custGeom>
              <a:avLst/>
              <a:gdLst/>
              <a:ahLst/>
              <a:rect l="l" t="t" r="r" b="b"/>
              <a:pathLst>
                <a:path w="187" h="334">
                  <a:moveTo>
                    <a:pt x="43" y="0"/>
                  </a:moveTo>
                  <a:cubicBezTo>
                    <a:pt x="0" y="179"/>
                    <a:pt x="0" y="179"/>
                    <a:pt x="0" y="179"/>
                  </a:cubicBezTo>
                  <a:cubicBezTo>
                    <a:pt x="156" y="334"/>
                    <a:pt x="156" y="334"/>
                    <a:pt x="156" y="334"/>
                  </a:cubicBezTo>
                  <a:cubicBezTo>
                    <a:pt x="156" y="334"/>
                    <a:pt x="187" y="252"/>
                    <a:pt x="168" y="195"/>
                  </a:cubicBezTo>
                  <a:cubicBezTo>
                    <a:pt x="153" y="152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8285040" y="5254560"/>
              <a:ext cx="311040" cy="623880"/>
            </a:xfrm>
            <a:custGeom>
              <a:avLst/>
              <a:gdLst/>
              <a:ahLst/>
              <a:rect l="l" t="t" r="r" b="b"/>
              <a:pathLst>
                <a:path w="167" h="334">
                  <a:moveTo>
                    <a:pt x="148" y="195"/>
                  </a:moveTo>
                  <a:cubicBezTo>
                    <a:pt x="133" y="152"/>
                    <a:pt x="23" y="0"/>
                    <a:pt x="23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50" y="149"/>
                    <a:pt x="87" y="192"/>
                    <a:pt x="105" y="226"/>
                  </a:cubicBezTo>
                  <a:cubicBezTo>
                    <a:pt x="114" y="244"/>
                    <a:pt x="114" y="279"/>
                    <a:pt x="114" y="312"/>
                  </a:cubicBezTo>
                  <a:cubicBezTo>
                    <a:pt x="136" y="334"/>
                    <a:pt x="136" y="334"/>
                    <a:pt x="136" y="334"/>
                  </a:cubicBezTo>
                  <a:cubicBezTo>
                    <a:pt x="136" y="334"/>
                    <a:pt x="167" y="252"/>
                    <a:pt x="148" y="195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8413920" y="5673600"/>
              <a:ext cx="107640" cy="179280"/>
            </a:xfrm>
            <a:custGeom>
              <a:avLst/>
              <a:gdLst/>
              <a:ahLst/>
              <a:rect l="l" t="t" r="r" b="b"/>
              <a:pathLst>
                <a:path w="58" h="96">
                  <a:moveTo>
                    <a:pt x="53" y="96"/>
                  </a:moveTo>
                  <a:cubicBezTo>
                    <a:pt x="55" y="86"/>
                    <a:pt x="57" y="76"/>
                    <a:pt x="58" y="68"/>
                  </a:cubicBezTo>
                  <a:cubicBezTo>
                    <a:pt x="58" y="41"/>
                    <a:pt x="20" y="0"/>
                    <a:pt x="20" y="0"/>
                  </a:cubicBezTo>
                  <a:cubicBezTo>
                    <a:pt x="0" y="44"/>
                    <a:pt x="0" y="44"/>
                    <a:pt x="0" y="44"/>
                  </a:cubicBezTo>
                  <a:lnTo>
                    <a:pt x="53" y="96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4"/>
            <p:cNvSpPr/>
            <p:nvPr/>
          </p:nvSpPr>
          <p:spPr>
            <a:xfrm>
              <a:off x="8269200" y="4971960"/>
              <a:ext cx="336600" cy="636480"/>
            </a:xfrm>
            <a:custGeom>
              <a:avLst/>
              <a:gdLst/>
              <a:ahLst/>
              <a:rect l="l" t="t" r="r" b="b"/>
              <a:pathLst>
                <a:path w="181" h="341">
                  <a:moveTo>
                    <a:pt x="56" y="0"/>
                  </a:moveTo>
                  <a:cubicBezTo>
                    <a:pt x="0" y="175"/>
                    <a:pt x="0" y="175"/>
                    <a:pt x="0" y="175"/>
                  </a:cubicBezTo>
                  <a:cubicBezTo>
                    <a:pt x="144" y="341"/>
                    <a:pt x="144" y="341"/>
                    <a:pt x="144" y="341"/>
                  </a:cubicBezTo>
                  <a:cubicBezTo>
                    <a:pt x="144" y="341"/>
                    <a:pt x="181" y="261"/>
                    <a:pt x="166" y="203"/>
                  </a:cubicBezTo>
                  <a:cubicBezTo>
                    <a:pt x="155" y="159"/>
                    <a:pt x="56" y="0"/>
                    <a:pt x="56" y="0"/>
                  </a:cubicBez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15"/>
            <p:cNvSpPr/>
            <p:nvPr/>
          </p:nvSpPr>
          <p:spPr>
            <a:xfrm>
              <a:off x="8317080" y="4971960"/>
              <a:ext cx="288720" cy="636480"/>
            </a:xfrm>
            <a:custGeom>
              <a:avLst/>
              <a:gdLst/>
              <a:ahLst/>
              <a:rect l="l" t="t" r="r" b="b"/>
              <a:pathLst>
                <a:path w="155" h="341">
                  <a:moveTo>
                    <a:pt x="140" y="203"/>
                  </a:moveTo>
                  <a:cubicBezTo>
                    <a:pt x="129" y="159"/>
                    <a:pt x="30" y="0"/>
                    <a:pt x="30" y="0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46" y="150"/>
                    <a:pt x="80" y="196"/>
                    <a:pt x="95" y="231"/>
                  </a:cubicBezTo>
                  <a:cubicBezTo>
                    <a:pt x="103" y="249"/>
                    <a:pt x="101" y="284"/>
                    <a:pt x="98" y="318"/>
                  </a:cubicBezTo>
                  <a:cubicBezTo>
                    <a:pt x="118" y="341"/>
                    <a:pt x="118" y="341"/>
                    <a:pt x="118" y="341"/>
                  </a:cubicBezTo>
                  <a:cubicBezTo>
                    <a:pt x="118" y="341"/>
                    <a:pt x="155" y="261"/>
                    <a:pt x="140" y="203"/>
                  </a:cubicBez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16"/>
            <p:cNvSpPr/>
            <p:nvPr/>
          </p:nvSpPr>
          <p:spPr>
            <a:xfrm>
              <a:off x="8423280" y="5397480"/>
              <a:ext cx="107640" cy="182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49" y="98"/>
                  </a:moveTo>
                  <a:cubicBezTo>
                    <a:pt x="51" y="89"/>
                    <a:pt x="54" y="78"/>
                    <a:pt x="55" y="70"/>
                  </a:cubicBezTo>
                  <a:cubicBezTo>
                    <a:pt x="58" y="44"/>
                    <a:pt x="23" y="0"/>
                    <a:pt x="23" y="0"/>
                  </a:cubicBezTo>
                  <a:cubicBezTo>
                    <a:pt x="0" y="42"/>
                    <a:pt x="0" y="42"/>
                    <a:pt x="0" y="42"/>
                  </a:cubicBezTo>
                  <a:lnTo>
                    <a:pt x="49" y="98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7"/>
            <p:cNvSpPr/>
            <p:nvPr/>
          </p:nvSpPr>
          <p:spPr>
            <a:xfrm>
              <a:off x="8318520" y="4751280"/>
              <a:ext cx="263520" cy="512640"/>
            </a:xfrm>
            <a:custGeom>
              <a:avLst/>
              <a:gdLst/>
              <a:ahLst/>
              <a:rect l="l" t="t" r="r" b="b"/>
              <a:pathLst>
                <a:path w="141" h="275">
                  <a:moveTo>
                    <a:pt x="109" y="0"/>
                  </a:moveTo>
                  <a:cubicBezTo>
                    <a:pt x="0" y="127"/>
                    <a:pt x="0" y="127"/>
                    <a:pt x="0" y="127"/>
                  </a:cubicBezTo>
                  <a:cubicBezTo>
                    <a:pt x="93" y="275"/>
                    <a:pt x="93" y="275"/>
                    <a:pt x="93" y="275"/>
                  </a:cubicBezTo>
                  <a:cubicBezTo>
                    <a:pt x="93" y="275"/>
                    <a:pt x="141" y="243"/>
                    <a:pt x="131" y="183"/>
                  </a:cubicBezTo>
                  <a:cubicBezTo>
                    <a:pt x="124" y="137"/>
                    <a:pt x="110" y="119"/>
                    <a:pt x="110" y="119"/>
                  </a:cubicBezTo>
                  <a:lnTo>
                    <a:pt x="109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18"/>
            <p:cNvSpPr/>
            <p:nvPr/>
          </p:nvSpPr>
          <p:spPr>
            <a:xfrm>
              <a:off x="8407440" y="5060880"/>
              <a:ext cx="102960" cy="180720"/>
            </a:xfrm>
            <a:custGeom>
              <a:avLst/>
              <a:gdLst/>
              <a:ahLst/>
              <a:rect l="l" t="t" r="r" b="b"/>
              <a:pathLst>
                <a:path w="56" h="97">
                  <a:moveTo>
                    <a:pt x="0" y="36"/>
                  </a:moveTo>
                  <a:cubicBezTo>
                    <a:pt x="38" y="97"/>
                    <a:pt x="38" y="97"/>
                    <a:pt x="38" y="97"/>
                  </a:cubicBezTo>
                  <a:cubicBezTo>
                    <a:pt x="43" y="89"/>
                    <a:pt x="46" y="81"/>
                    <a:pt x="48" y="75"/>
                  </a:cubicBezTo>
                  <a:cubicBezTo>
                    <a:pt x="56" y="50"/>
                    <a:pt x="31" y="0"/>
                    <a:pt x="31" y="0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19"/>
            <p:cNvSpPr/>
            <p:nvPr/>
          </p:nvSpPr>
          <p:spPr>
            <a:xfrm>
              <a:off x="8399520" y="4751280"/>
              <a:ext cx="158760" cy="309240"/>
            </a:xfrm>
            <a:custGeom>
              <a:avLst/>
              <a:gdLst/>
              <a:ahLst/>
              <a:rect l="l" t="t" r="r" b="b"/>
              <a:pathLst>
                <a:path w="85" h="166">
                  <a:moveTo>
                    <a:pt x="66" y="0"/>
                  </a:moveTo>
                  <a:cubicBezTo>
                    <a:pt x="0" y="77"/>
                    <a:pt x="0" y="77"/>
                    <a:pt x="0" y="77"/>
                  </a:cubicBezTo>
                  <a:cubicBezTo>
                    <a:pt x="41" y="98"/>
                    <a:pt x="64" y="111"/>
                    <a:pt x="79" y="149"/>
                  </a:cubicBezTo>
                  <a:cubicBezTo>
                    <a:pt x="81" y="155"/>
                    <a:pt x="83" y="161"/>
                    <a:pt x="85" y="166"/>
                  </a:cubicBezTo>
                  <a:cubicBezTo>
                    <a:pt x="78" y="133"/>
                    <a:pt x="67" y="119"/>
                    <a:pt x="67" y="119"/>
                  </a:cubicBezTo>
                  <a:lnTo>
                    <a:pt x="66" y="0"/>
                  </a:lnTo>
                  <a:close/>
                </a:path>
              </a:pathLst>
            </a:custGeom>
            <a:solidFill>
              <a:srgbClr val="eaa1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0"/>
            <p:cNvSpPr/>
            <p:nvPr/>
          </p:nvSpPr>
          <p:spPr>
            <a:xfrm>
              <a:off x="8470800" y="4265640"/>
              <a:ext cx="438120" cy="190440"/>
            </a:xfrm>
            <a:custGeom>
              <a:avLst/>
              <a:gdLst/>
              <a:ahLst/>
              <a:rect l="l" t="t" r="r" b="b"/>
              <a:pathLst>
                <a:path w="235" h="102">
                  <a:moveTo>
                    <a:pt x="235" y="51"/>
                  </a:moveTo>
                  <a:cubicBezTo>
                    <a:pt x="235" y="79"/>
                    <a:pt x="212" y="102"/>
                    <a:pt x="184" y="102"/>
                  </a:cubicBezTo>
                  <a:cubicBezTo>
                    <a:pt x="51" y="102"/>
                    <a:pt x="51" y="102"/>
                    <a:pt x="51" y="102"/>
                  </a:cubicBezTo>
                  <a:cubicBezTo>
                    <a:pt x="22" y="102"/>
                    <a:pt x="0" y="79"/>
                    <a:pt x="0" y="5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22"/>
                    <a:pt x="22" y="0"/>
                    <a:pt x="51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212" y="0"/>
                    <a:pt x="235" y="22"/>
                    <a:pt x="235" y="51"/>
                  </a:cubicBezTo>
                  <a:close/>
                </a:path>
              </a:pathLst>
            </a:custGeom>
            <a:solidFill>
              <a:srgbClr val="606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21"/>
            <p:cNvSpPr/>
            <p:nvPr/>
          </p:nvSpPr>
          <p:spPr>
            <a:xfrm>
              <a:off x="7770960" y="2503440"/>
              <a:ext cx="1832040" cy="1832040"/>
            </a:xfrm>
            <a:custGeom>
              <a:avLst/>
              <a:gdLst/>
              <a:ahLst/>
              <a:rect l="l" t="t" r="r" b="b"/>
              <a:pathLst>
                <a:path w="982" h="981">
                  <a:moveTo>
                    <a:pt x="491" y="0"/>
                  </a:moveTo>
                  <a:cubicBezTo>
                    <a:pt x="220" y="0"/>
                    <a:pt x="0" y="219"/>
                    <a:pt x="0" y="490"/>
                  </a:cubicBezTo>
                  <a:cubicBezTo>
                    <a:pt x="0" y="762"/>
                    <a:pt x="220" y="981"/>
                    <a:pt x="491" y="981"/>
                  </a:cubicBezTo>
                  <a:cubicBezTo>
                    <a:pt x="762" y="981"/>
                    <a:pt x="982" y="762"/>
                    <a:pt x="982" y="490"/>
                  </a:cubicBezTo>
                  <a:cubicBezTo>
                    <a:pt x="982" y="219"/>
                    <a:pt x="762" y="0"/>
                    <a:pt x="491" y="0"/>
                  </a:cubicBezTo>
                  <a:close/>
                  <a:moveTo>
                    <a:pt x="491" y="913"/>
                  </a:moveTo>
                  <a:cubicBezTo>
                    <a:pt x="258" y="913"/>
                    <a:pt x="69" y="724"/>
                    <a:pt x="69" y="490"/>
                  </a:cubicBezTo>
                  <a:cubicBezTo>
                    <a:pt x="69" y="257"/>
                    <a:pt x="258" y="68"/>
                    <a:pt x="491" y="68"/>
                  </a:cubicBezTo>
                  <a:cubicBezTo>
                    <a:pt x="725" y="68"/>
                    <a:pt x="914" y="257"/>
                    <a:pt x="914" y="490"/>
                  </a:cubicBezTo>
                  <a:cubicBezTo>
                    <a:pt x="914" y="724"/>
                    <a:pt x="724" y="913"/>
                    <a:pt x="491" y="913"/>
                  </a:cubicBezTo>
                  <a:close/>
                </a:path>
              </a:pathLst>
            </a:custGeom>
            <a:solidFill>
              <a:srgbClr val="606c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2"/>
            <p:cNvSpPr/>
            <p:nvPr/>
          </p:nvSpPr>
          <p:spPr>
            <a:xfrm>
              <a:off x="8651880" y="2503440"/>
              <a:ext cx="950760" cy="1832040"/>
            </a:xfrm>
            <a:custGeom>
              <a:avLst/>
              <a:gdLst/>
              <a:ahLst/>
              <a:rect l="l" t="t" r="r" b="b"/>
              <a:pathLst>
                <a:path w="510" h="981">
                  <a:moveTo>
                    <a:pt x="472" y="490"/>
                  </a:moveTo>
                  <a:cubicBezTo>
                    <a:pt x="472" y="755"/>
                    <a:pt x="262" y="971"/>
                    <a:pt x="0" y="981"/>
                  </a:cubicBezTo>
                  <a:cubicBezTo>
                    <a:pt x="7" y="981"/>
                    <a:pt x="13" y="981"/>
                    <a:pt x="19" y="981"/>
                  </a:cubicBezTo>
                  <a:cubicBezTo>
                    <a:pt x="290" y="981"/>
                    <a:pt x="510" y="762"/>
                    <a:pt x="510" y="490"/>
                  </a:cubicBezTo>
                  <a:cubicBezTo>
                    <a:pt x="510" y="219"/>
                    <a:pt x="290" y="0"/>
                    <a:pt x="19" y="0"/>
                  </a:cubicBezTo>
                  <a:cubicBezTo>
                    <a:pt x="13" y="0"/>
                    <a:pt x="7" y="0"/>
                    <a:pt x="0" y="0"/>
                  </a:cubicBezTo>
                  <a:cubicBezTo>
                    <a:pt x="262" y="10"/>
                    <a:pt x="472" y="226"/>
                    <a:pt x="472" y="490"/>
                  </a:cubicBezTo>
                  <a:close/>
                </a:path>
              </a:pathLst>
            </a:custGeom>
            <a:solidFill>
              <a:srgbClr val="36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23"/>
            <p:cNvSpPr/>
            <p:nvPr/>
          </p:nvSpPr>
          <p:spPr>
            <a:xfrm>
              <a:off x="7827840" y="2630160"/>
              <a:ext cx="824040" cy="1577880"/>
            </a:xfrm>
            <a:custGeom>
              <a:avLst/>
              <a:gdLst/>
              <a:ahLst/>
              <a:rect l="l" t="t" r="r" b="b"/>
              <a:pathLst>
                <a:path w="441" h="845">
                  <a:moveTo>
                    <a:pt x="0" y="422"/>
                  </a:moveTo>
                  <a:cubicBezTo>
                    <a:pt x="0" y="656"/>
                    <a:pt x="189" y="845"/>
                    <a:pt x="422" y="845"/>
                  </a:cubicBezTo>
                  <a:cubicBezTo>
                    <a:pt x="429" y="845"/>
                    <a:pt x="435" y="844"/>
                    <a:pt x="441" y="844"/>
                  </a:cubicBezTo>
                  <a:cubicBezTo>
                    <a:pt x="217" y="834"/>
                    <a:pt x="38" y="649"/>
                    <a:pt x="38" y="422"/>
                  </a:cubicBezTo>
                  <a:cubicBezTo>
                    <a:pt x="38" y="196"/>
                    <a:pt x="217" y="11"/>
                    <a:pt x="441" y="1"/>
                  </a:cubicBezTo>
                  <a:cubicBezTo>
                    <a:pt x="435" y="0"/>
                    <a:pt x="429" y="0"/>
                    <a:pt x="422" y="0"/>
                  </a:cubicBezTo>
                  <a:cubicBezTo>
                    <a:pt x="189" y="0"/>
                    <a:pt x="0" y="189"/>
                    <a:pt x="0" y="422"/>
                  </a:cubicBezTo>
                  <a:close/>
                </a:path>
              </a:pathLst>
            </a:custGeom>
            <a:solidFill>
              <a:srgbClr val="364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24"/>
            <p:cNvSpPr/>
            <p:nvPr/>
          </p:nvSpPr>
          <p:spPr>
            <a:xfrm>
              <a:off x="8823600" y="5937120"/>
              <a:ext cx="1419120" cy="949320"/>
            </a:xfrm>
            <a:custGeom>
              <a:avLst/>
              <a:gdLst/>
              <a:ahLst/>
              <a:rect l="l" t="t" r="r" b="b"/>
              <a:pathLst>
                <a:path w="894" h="598">
                  <a:moveTo>
                    <a:pt x="0" y="278"/>
                  </a:moveTo>
                  <a:lnTo>
                    <a:pt x="162" y="598"/>
                  </a:lnTo>
                  <a:lnTo>
                    <a:pt x="894" y="598"/>
                  </a:lnTo>
                  <a:lnTo>
                    <a:pt x="422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ce48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25"/>
            <p:cNvSpPr/>
            <p:nvPr/>
          </p:nvSpPr>
          <p:spPr>
            <a:xfrm>
              <a:off x="8823600" y="6035760"/>
              <a:ext cx="1116000" cy="850680"/>
            </a:xfrm>
            <a:custGeom>
              <a:avLst/>
              <a:gdLst/>
              <a:ahLst/>
              <a:rect l="l" t="t" r="r" b="b"/>
              <a:pathLst>
                <a:path w="703" h="536">
                  <a:moveTo>
                    <a:pt x="107" y="536"/>
                  </a:moveTo>
                  <a:lnTo>
                    <a:pt x="703" y="536"/>
                  </a:lnTo>
                  <a:lnTo>
                    <a:pt x="328" y="0"/>
                  </a:lnTo>
                  <a:lnTo>
                    <a:pt x="0" y="216"/>
                  </a:lnTo>
                  <a:lnTo>
                    <a:pt x="107" y="536"/>
                  </a:lnTo>
                  <a:close/>
                </a:path>
              </a:pathLst>
            </a:custGeom>
            <a:solidFill>
              <a:srgbClr val="e67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26">
              <a:hlinkClick r:id="rId2"/>
            </p:cNvPr>
            <p:cNvSpPr/>
            <p:nvPr/>
          </p:nvSpPr>
          <p:spPr>
            <a:xfrm>
              <a:off x="8720280" y="4681440"/>
              <a:ext cx="720720" cy="1522440"/>
            </a:xfrm>
            <a:custGeom>
              <a:avLst/>
              <a:gdLst/>
              <a:ahLst/>
              <a:rect l="l" t="t" r="r" b="b"/>
              <a:pathLst>
                <a:path w="386" h="815">
                  <a:moveTo>
                    <a:pt x="10" y="0"/>
                  </a:moveTo>
                  <a:cubicBezTo>
                    <a:pt x="10" y="0"/>
                    <a:pt x="25" y="99"/>
                    <a:pt x="21" y="198"/>
                  </a:cubicBezTo>
                  <a:cubicBezTo>
                    <a:pt x="18" y="291"/>
                    <a:pt x="0" y="398"/>
                    <a:pt x="32" y="466"/>
                  </a:cubicBezTo>
                  <a:cubicBezTo>
                    <a:pt x="191" y="815"/>
                    <a:pt x="386" y="600"/>
                    <a:pt x="346" y="492"/>
                  </a:cubicBezTo>
                  <a:cubicBezTo>
                    <a:pt x="315" y="408"/>
                    <a:pt x="121" y="20"/>
                    <a:pt x="121" y="2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27"/>
            <p:cNvSpPr/>
            <p:nvPr/>
          </p:nvSpPr>
          <p:spPr>
            <a:xfrm>
              <a:off x="8601120" y="4287600"/>
              <a:ext cx="557280" cy="920520"/>
            </a:xfrm>
            <a:custGeom>
              <a:avLst/>
              <a:gdLst/>
              <a:ahLst/>
              <a:rect l="l" t="t" r="r" b="b"/>
              <a:pathLst>
                <a:path w="299" h="493">
                  <a:moveTo>
                    <a:pt x="286" y="458"/>
                  </a:moveTo>
                  <a:cubicBezTo>
                    <a:pt x="299" y="493"/>
                    <a:pt x="205" y="321"/>
                    <a:pt x="170" y="334"/>
                  </a:cubicBezTo>
                  <a:cubicBezTo>
                    <a:pt x="170" y="334"/>
                    <a:pt x="170" y="334"/>
                    <a:pt x="170" y="334"/>
                  </a:cubicBezTo>
                  <a:cubicBezTo>
                    <a:pt x="135" y="347"/>
                    <a:pt x="122" y="427"/>
                    <a:pt x="109" y="392"/>
                  </a:cubicBezTo>
                  <a:cubicBezTo>
                    <a:pt x="13" y="100"/>
                    <a:pt x="13" y="100"/>
                    <a:pt x="13" y="100"/>
                  </a:cubicBezTo>
                  <a:cubicBezTo>
                    <a:pt x="0" y="64"/>
                    <a:pt x="18" y="26"/>
                    <a:pt x="53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88" y="0"/>
                    <a:pt x="127" y="18"/>
                    <a:pt x="140" y="53"/>
                  </a:cubicBezTo>
                  <a:lnTo>
                    <a:pt x="286" y="458"/>
                  </a:lnTo>
                  <a:close/>
                </a:path>
              </a:pathLst>
            </a:custGeom>
            <a:solidFill>
              <a:srgbClr val="f9b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28"/>
            <p:cNvSpPr/>
            <p:nvPr/>
          </p:nvSpPr>
          <p:spPr>
            <a:xfrm>
              <a:off x="8659800" y="4356000"/>
              <a:ext cx="166680" cy="15552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0" y="29"/>
                  </a:moveTo>
                  <a:cubicBezTo>
                    <a:pt x="9" y="56"/>
                    <a:pt x="9" y="56"/>
                    <a:pt x="9" y="56"/>
                  </a:cubicBezTo>
                  <a:cubicBezTo>
                    <a:pt x="16" y="75"/>
                    <a:pt x="38" y="84"/>
                    <a:pt x="58" y="77"/>
                  </a:cubicBezTo>
                  <a:cubicBezTo>
                    <a:pt x="78" y="69"/>
                    <a:pt x="89" y="48"/>
                    <a:pt x="82" y="29"/>
                  </a:cubicBezTo>
                  <a:cubicBezTo>
                    <a:pt x="72" y="3"/>
                    <a:pt x="72" y="3"/>
                    <a:pt x="72" y="3"/>
                  </a:cubicBezTo>
                  <a:cubicBezTo>
                    <a:pt x="72" y="3"/>
                    <a:pt x="59" y="0"/>
                    <a:pt x="35" y="9"/>
                  </a:cubicBezTo>
                  <a:cubicBezTo>
                    <a:pt x="6" y="21"/>
                    <a:pt x="6" y="24"/>
                    <a:pt x="0" y="29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9"/>
            <p:cNvSpPr/>
            <p:nvPr/>
          </p:nvSpPr>
          <p:spPr>
            <a:xfrm>
              <a:off x="8753760" y="4647960"/>
              <a:ext cx="153720" cy="64800"/>
            </a:xfrm>
            <a:custGeom>
              <a:avLst/>
              <a:gdLst/>
              <a:ahLst/>
              <a:rect l="l" t="t" r="r" b="b"/>
              <a:pathLst>
                <a:path w="82" h="35">
                  <a:moveTo>
                    <a:pt x="1" y="32"/>
                  </a:moveTo>
                  <a:cubicBezTo>
                    <a:pt x="0" y="30"/>
                    <a:pt x="1" y="28"/>
                    <a:pt x="4" y="27"/>
                  </a:cubicBezTo>
                  <a:cubicBezTo>
                    <a:pt x="76" y="1"/>
                    <a:pt x="76" y="1"/>
                    <a:pt x="76" y="1"/>
                  </a:cubicBezTo>
                  <a:cubicBezTo>
                    <a:pt x="78" y="0"/>
                    <a:pt x="81" y="1"/>
                    <a:pt x="81" y="3"/>
                  </a:cubicBezTo>
                  <a:cubicBezTo>
                    <a:pt x="81" y="3"/>
                    <a:pt x="81" y="3"/>
                    <a:pt x="81" y="3"/>
                  </a:cubicBezTo>
                  <a:cubicBezTo>
                    <a:pt x="82" y="5"/>
                    <a:pt x="81" y="7"/>
                    <a:pt x="79" y="8"/>
                  </a:cubicBezTo>
                  <a:cubicBezTo>
                    <a:pt x="7" y="35"/>
                    <a:pt x="7" y="35"/>
                    <a:pt x="7" y="35"/>
                  </a:cubicBezTo>
                  <a:cubicBezTo>
                    <a:pt x="4" y="35"/>
                    <a:pt x="2" y="34"/>
                    <a:pt x="1" y="32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0"/>
            <p:cNvSpPr/>
            <p:nvPr/>
          </p:nvSpPr>
          <p:spPr>
            <a:xfrm>
              <a:off x="8775720" y="4626000"/>
              <a:ext cx="82440" cy="39600"/>
            </a:xfrm>
            <a:custGeom>
              <a:avLst/>
              <a:gdLst/>
              <a:ahLst/>
              <a:rect l="l" t="t" r="r" b="b"/>
              <a:pathLst>
                <a:path w="44" h="21">
                  <a:moveTo>
                    <a:pt x="1" y="18"/>
                  </a:moveTo>
                  <a:cubicBezTo>
                    <a:pt x="0" y="16"/>
                    <a:pt x="1" y="14"/>
                    <a:pt x="3" y="14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41" y="0"/>
                    <a:pt x="43" y="1"/>
                    <a:pt x="44" y="3"/>
                  </a:cubicBezTo>
                  <a:cubicBezTo>
                    <a:pt x="44" y="3"/>
                    <a:pt x="44" y="3"/>
                    <a:pt x="44" y="3"/>
                  </a:cubicBezTo>
                  <a:cubicBezTo>
                    <a:pt x="44" y="4"/>
                    <a:pt x="43" y="7"/>
                    <a:pt x="41" y="7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4" y="21"/>
                    <a:pt x="1" y="20"/>
                    <a:pt x="1" y="18"/>
                  </a:cubicBezTo>
                  <a:close/>
                </a:path>
              </a:pathLst>
            </a:custGeom>
            <a:solidFill>
              <a:srgbClr val="ff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1" name="组合 1"/>
          <p:cNvGrpSpPr/>
          <p:nvPr/>
        </p:nvGrpSpPr>
        <p:grpSpPr>
          <a:xfrm>
            <a:off x="1079640" y="2641680"/>
            <a:ext cx="3289320" cy="1468440"/>
            <a:chOff x="1079640" y="2641680"/>
            <a:chExt cx="3289320" cy="1468440"/>
          </a:xfrm>
        </p:grpSpPr>
        <p:sp>
          <p:nvSpPr>
            <p:cNvPr id="662" name="文本框 217"/>
            <p:cNvSpPr/>
            <p:nvPr/>
          </p:nvSpPr>
          <p:spPr>
            <a:xfrm>
              <a:off x="1137240" y="2679480"/>
              <a:ext cx="3231720" cy="1430640"/>
            </a:xfrm>
            <a:custGeom>
              <a:avLst/>
              <a:gdLst/>
              <a:ahLst/>
              <a:rect l="l" t="t" r="r" b="b"/>
              <a:pathLst>
                <a:path w="3231356" h="1430834">
                  <a:moveTo>
                    <a:pt x="458688" y="1033760"/>
                  </a:moveTo>
                  <a:lnTo>
                    <a:pt x="629841" y="1033760"/>
                  </a:lnTo>
                  <a:lnTo>
                    <a:pt x="629841" y="1280220"/>
                  </a:lnTo>
                  <a:lnTo>
                    <a:pt x="1081683" y="1280220"/>
                  </a:lnTo>
                  <a:lnTo>
                    <a:pt x="1081683" y="1430834"/>
                  </a:lnTo>
                  <a:lnTo>
                    <a:pt x="458688" y="1430834"/>
                  </a:lnTo>
                  <a:close/>
                  <a:moveTo>
                    <a:pt x="1376065" y="1006376"/>
                  </a:moveTo>
                  <a:lnTo>
                    <a:pt x="1492448" y="1341835"/>
                  </a:lnTo>
                  <a:lnTo>
                    <a:pt x="1362373" y="1430834"/>
                  </a:lnTo>
                  <a:lnTo>
                    <a:pt x="1239143" y="1102221"/>
                  </a:lnTo>
                  <a:close/>
                  <a:moveTo>
                    <a:pt x="123230" y="1006376"/>
                  </a:moveTo>
                  <a:lnTo>
                    <a:pt x="260151" y="1102221"/>
                  </a:lnTo>
                  <a:lnTo>
                    <a:pt x="136922" y="1430834"/>
                  </a:lnTo>
                  <a:lnTo>
                    <a:pt x="6846" y="1341835"/>
                  </a:lnTo>
                  <a:close/>
                  <a:moveTo>
                    <a:pt x="978991" y="978992"/>
                  </a:moveTo>
                  <a:lnTo>
                    <a:pt x="1047452" y="1136452"/>
                  </a:lnTo>
                  <a:lnTo>
                    <a:pt x="924222" y="1245989"/>
                  </a:lnTo>
                  <a:lnTo>
                    <a:pt x="855762" y="1088529"/>
                  </a:lnTo>
                  <a:close/>
                  <a:moveTo>
                    <a:pt x="201182" y="198537"/>
                  </a:moveTo>
                  <a:lnTo>
                    <a:pt x="150925" y="314920"/>
                  </a:lnTo>
                  <a:lnTo>
                    <a:pt x="1211759" y="314920"/>
                  </a:lnTo>
                  <a:lnTo>
                    <a:pt x="1239143" y="198537"/>
                  </a:lnTo>
                  <a:close/>
                  <a:moveTo>
                    <a:pt x="1779984" y="27385"/>
                  </a:moveTo>
                  <a:lnTo>
                    <a:pt x="3217664" y="27385"/>
                  </a:lnTo>
                  <a:lnTo>
                    <a:pt x="3217664" y="171152"/>
                  </a:lnTo>
                  <a:lnTo>
                    <a:pt x="2834283" y="171152"/>
                  </a:lnTo>
                  <a:lnTo>
                    <a:pt x="2834283" y="718840"/>
                  </a:lnTo>
                  <a:lnTo>
                    <a:pt x="3183433" y="335459"/>
                  </a:lnTo>
                  <a:lnTo>
                    <a:pt x="3231356" y="492919"/>
                  </a:lnTo>
                  <a:lnTo>
                    <a:pt x="2834283" y="924223"/>
                  </a:lnTo>
                  <a:lnTo>
                    <a:pt x="2834283" y="1280220"/>
                  </a:lnTo>
                  <a:lnTo>
                    <a:pt x="3231356" y="1280220"/>
                  </a:lnTo>
                  <a:lnTo>
                    <a:pt x="3224510" y="1430834"/>
                  </a:lnTo>
                  <a:lnTo>
                    <a:pt x="2669976" y="1430834"/>
                  </a:lnTo>
                  <a:lnTo>
                    <a:pt x="2669976" y="171152"/>
                  </a:lnTo>
                  <a:lnTo>
                    <a:pt x="2231826" y="171152"/>
                  </a:lnTo>
                  <a:lnTo>
                    <a:pt x="2083364" y="397074"/>
                  </a:lnTo>
                  <a:lnTo>
                    <a:pt x="2430363" y="397074"/>
                  </a:lnTo>
                  <a:lnTo>
                    <a:pt x="2430363" y="821531"/>
                  </a:lnTo>
                  <a:lnTo>
                    <a:pt x="1903214" y="1430834"/>
                  </a:lnTo>
                  <a:lnTo>
                    <a:pt x="1745754" y="1396603"/>
                  </a:lnTo>
                  <a:lnTo>
                    <a:pt x="2012746" y="1076915"/>
                  </a:lnTo>
                  <a:lnTo>
                    <a:pt x="1745754" y="821531"/>
                  </a:lnTo>
                  <a:lnTo>
                    <a:pt x="1896368" y="759917"/>
                  </a:lnTo>
                  <a:lnTo>
                    <a:pt x="2108238" y="962575"/>
                  </a:lnTo>
                  <a:lnTo>
                    <a:pt x="2266057" y="773609"/>
                  </a:lnTo>
                  <a:lnTo>
                    <a:pt x="2266057" y="540842"/>
                  </a:lnTo>
                  <a:lnTo>
                    <a:pt x="1988888" y="540842"/>
                  </a:lnTo>
                  <a:lnTo>
                    <a:pt x="1916906" y="650379"/>
                  </a:lnTo>
                  <a:lnTo>
                    <a:pt x="1759446" y="616149"/>
                  </a:lnTo>
                  <a:lnTo>
                    <a:pt x="2053828" y="171152"/>
                  </a:lnTo>
                  <a:lnTo>
                    <a:pt x="1779984" y="171152"/>
                  </a:lnTo>
                  <a:close/>
                  <a:moveTo>
                    <a:pt x="130076" y="0"/>
                  </a:moveTo>
                  <a:lnTo>
                    <a:pt x="184844" y="54769"/>
                  </a:lnTo>
                  <a:lnTo>
                    <a:pt x="1458218" y="54769"/>
                  </a:lnTo>
                  <a:lnTo>
                    <a:pt x="1389757" y="314920"/>
                  </a:lnTo>
                  <a:lnTo>
                    <a:pt x="1465064" y="314920"/>
                  </a:lnTo>
                  <a:lnTo>
                    <a:pt x="1465064" y="958453"/>
                  </a:lnTo>
                  <a:lnTo>
                    <a:pt x="68461" y="958453"/>
                  </a:lnTo>
                  <a:lnTo>
                    <a:pt x="68461" y="807839"/>
                  </a:lnTo>
                  <a:lnTo>
                    <a:pt x="1300758" y="807839"/>
                  </a:lnTo>
                  <a:lnTo>
                    <a:pt x="1300758" y="711994"/>
                  </a:lnTo>
                  <a:lnTo>
                    <a:pt x="88999" y="711994"/>
                  </a:lnTo>
                  <a:lnTo>
                    <a:pt x="88999" y="561380"/>
                  </a:lnTo>
                  <a:lnTo>
                    <a:pt x="1300758" y="561380"/>
                  </a:lnTo>
                  <a:lnTo>
                    <a:pt x="1300758" y="465535"/>
                  </a:lnTo>
                  <a:lnTo>
                    <a:pt x="68461" y="465535"/>
                  </a:lnTo>
                  <a:lnTo>
                    <a:pt x="68461" y="369689"/>
                  </a:lnTo>
                  <a:lnTo>
                    <a:pt x="0" y="301228"/>
                  </a:lnTo>
                  <a:close/>
                </a:path>
              </a:pathLst>
            </a:custGeom>
            <a:solidFill>
              <a:srgbClr val="bb5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文本框 219"/>
            <p:cNvSpPr/>
            <p:nvPr/>
          </p:nvSpPr>
          <p:spPr>
            <a:xfrm>
              <a:off x="1079640" y="2641680"/>
              <a:ext cx="3231720" cy="1430640"/>
            </a:xfrm>
            <a:custGeom>
              <a:avLst/>
              <a:gdLst/>
              <a:ahLst/>
              <a:rect l="l" t="t" r="r" b="b"/>
              <a:pathLst>
                <a:path w="3231356" h="1430834">
                  <a:moveTo>
                    <a:pt x="458688" y="1033760"/>
                  </a:moveTo>
                  <a:lnTo>
                    <a:pt x="629841" y="1033760"/>
                  </a:lnTo>
                  <a:lnTo>
                    <a:pt x="629841" y="1280220"/>
                  </a:lnTo>
                  <a:lnTo>
                    <a:pt x="1081683" y="1280220"/>
                  </a:lnTo>
                  <a:lnTo>
                    <a:pt x="1081683" y="1430834"/>
                  </a:lnTo>
                  <a:lnTo>
                    <a:pt x="458688" y="1430834"/>
                  </a:lnTo>
                  <a:close/>
                  <a:moveTo>
                    <a:pt x="1376065" y="1006376"/>
                  </a:moveTo>
                  <a:lnTo>
                    <a:pt x="1492448" y="1341835"/>
                  </a:lnTo>
                  <a:lnTo>
                    <a:pt x="1362373" y="1430834"/>
                  </a:lnTo>
                  <a:lnTo>
                    <a:pt x="1239143" y="1102221"/>
                  </a:lnTo>
                  <a:close/>
                  <a:moveTo>
                    <a:pt x="123230" y="1006376"/>
                  </a:moveTo>
                  <a:lnTo>
                    <a:pt x="260151" y="1102221"/>
                  </a:lnTo>
                  <a:lnTo>
                    <a:pt x="136922" y="1430834"/>
                  </a:lnTo>
                  <a:lnTo>
                    <a:pt x="6846" y="1341835"/>
                  </a:lnTo>
                  <a:close/>
                  <a:moveTo>
                    <a:pt x="978991" y="978992"/>
                  </a:moveTo>
                  <a:lnTo>
                    <a:pt x="1047452" y="1136452"/>
                  </a:lnTo>
                  <a:lnTo>
                    <a:pt x="924222" y="1245989"/>
                  </a:lnTo>
                  <a:lnTo>
                    <a:pt x="855762" y="1088529"/>
                  </a:lnTo>
                  <a:close/>
                  <a:moveTo>
                    <a:pt x="201182" y="198537"/>
                  </a:moveTo>
                  <a:lnTo>
                    <a:pt x="150925" y="314920"/>
                  </a:lnTo>
                  <a:lnTo>
                    <a:pt x="1211759" y="314920"/>
                  </a:lnTo>
                  <a:lnTo>
                    <a:pt x="1239143" y="198537"/>
                  </a:lnTo>
                  <a:close/>
                  <a:moveTo>
                    <a:pt x="1779984" y="27385"/>
                  </a:moveTo>
                  <a:lnTo>
                    <a:pt x="3217664" y="27385"/>
                  </a:lnTo>
                  <a:lnTo>
                    <a:pt x="3217664" y="171152"/>
                  </a:lnTo>
                  <a:lnTo>
                    <a:pt x="2834283" y="171152"/>
                  </a:lnTo>
                  <a:lnTo>
                    <a:pt x="2834283" y="718840"/>
                  </a:lnTo>
                  <a:lnTo>
                    <a:pt x="3183433" y="335459"/>
                  </a:lnTo>
                  <a:lnTo>
                    <a:pt x="3231356" y="492919"/>
                  </a:lnTo>
                  <a:lnTo>
                    <a:pt x="2834283" y="924223"/>
                  </a:lnTo>
                  <a:lnTo>
                    <a:pt x="2834283" y="1280220"/>
                  </a:lnTo>
                  <a:lnTo>
                    <a:pt x="3231356" y="1280220"/>
                  </a:lnTo>
                  <a:lnTo>
                    <a:pt x="3224510" y="1430834"/>
                  </a:lnTo>
                  <a:lnTo>
                    <a:pt x="2669976" y="1430834"/>
                  </a:lnTo>
                  <a:lnTo>
                    <a:pt x="2669976" y="171152"/>
                  </a:lnTo>
                  <a:lnTo>
                    <a:pt x="2231826" y="171152"/>
                  </a:lnTo>
                  <a:lnTo>
                    <a:pt x="2083364" y="397074"/>
                  </a:lnTo>
                  <a:lnTo>
                    <a:pt x="2430363" y="397074"/>
                  </a:lnTo>
                  <a:lnTo>
                    <a:pt x="2430363" y="821531"/>
                  </a:lnTo>
                  <a:lnTo>
                    <a:pt x="1903214" y="1430834"/>
                  </a:lnTo>
                  <a:lnTo>
                    <a:pt x="1745754" y="1396603"/>
                  </a:lnTo>
                  <a:lnTo>
                    <a:pt x="2012746" y="1076915"/>
                  </a:lnTo>
                  <a:lnTo>
                    <a:pt x="1745754" y="821531"/>
                  </a:lnTo>
                  <a:lnTo>
                    <a:pt x="1896368" y="759917"/>
                  </a:lnTo>
                  <a:lnTo>
                    <a:pt x="2108238" y="962575"/>
                  </a:lnTo>
                  <a:lnTo>
                    <a:pt x="2266057" y="773609"/>
                  </a:lnTo>
                  <a:lnTo>
                    <a:pt x="2266057" y="540842"/>
                  </a:lnTo>
                  <a:lnTo>
                    <a:pt x="1988888" y="540842"/>
                  </a:lnTo>
                  <a:lnTo>
                    <a:pt x="1916906" y="650379"/>
                  </a:lnTo>
                  <a:lnTo>
                    <a:pt x="1759446" y="616149"/>
                  </a:lnTo>
                  <a:lnTo>
                    <a:pt x="2053828" y="171152"/>
                  </a:lnTo>
                  <a:lnTo>
                    <a:pt x="1779984" y="171152"/>
                  </a:lnTo>
                  <a:close/>
                  <a:moveTo>
                    <a:pt x="130076" y="0"/>
                  </a:moveTo>
                  <a:lnTo>
                    <a:pt x="184844" y="54769"/>
                  </a:lnTo>
                  <a:lnTo>
                    <a:pt x="1458218" y="54769"/>
                  </a:lnTo>
                  <a:lnTo>
                    <a:pt x="1389757" y="314920"/>
                  </a:lnTo>
                  <a:lnTo>
                    <a:pt x="1465064" y="314920"/>
                  </a:lnTo>
                  <a:lnTo>
                    <a:pt x="1465064" y="958453"/>
                  </a:lnTo>
                  <a:lnTo>
                    <a:pt x="68461" y="958453"/>
                  </a:lnTo>
                  <a:lnTo>
                    <a:pt x="68461" y="807839"/>
                  </a:lnTo>
                  <a:lnTo>
                    <a:pt x="1300758" y="807839"/>
                  </a:lnTo>
                  <a:lnTo>
                    <a:pt x="1300758" y="711994"/>
                  </a:lnTo>
                  <a:lnTo>
                    <a:pt x="88999" y="711994"/>
                  </a:lnTo>
                  <a:lnTo>
                    <a:pt x="88999" y="561380"/>
                  </a:lnTo>
                  <a:lnTo>
                    <a:pt x="1300758" y="561380"/>
                  </a:lnTo>
                  <a:lnTo>
                    <a:pt x="1300758" y="465535"/>
                  </a:lnTo>
                  <a:lnTo>
                    <a:pt x="68461" y="465535"/>
                  </a:lnTo>
                  <a:lnTo>
                    <a:pt x="68461" y="369689"/>
                  </a:lnTo>
                  <a:lnTo>
                    <a:pt x="0" y="301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303" dur="12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1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2.59259E-006 C 0.003 2.59259E-006 0.0056 0.00416 0.0056 0.00995 C 0.0056 0.01528 0.003 0.0199 -3.33333E-006 0.0199 C -0.00325 0.0199 -0.0056 0.01528 -0.0056 0.00995 C -0.0056 0.00416 -0.00325 2.59259E-006 -3.33333E-006 2.59259E-006 Z">
                                      <p:cBhvr>
                                        <p:cTn id="305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矩形 66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6e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62"/>
          <p:cNvGrpSpPr/>
          <p:nvPr/>
        </p:nvGrpSpPr>
        <p:grpSpPr>
          <a:xfrm>
            <a:off x="6724800" y="1393920"/>
            <a:ext cx="5008320" cy="4589280"/>
            <a:chOff x="6724800" y="1393920"/>
            <a:chExt cx="5008320" cy="4589280"/>
          </a:xfrm>
        </p:grpSpPr>
        <p:sp>
          <p:nvSpPr>
            <p:cNvPr id="666" name="Freeform 5"/>
            <p:cNvSpPr/>
            <p:nvPr/>
          </p:nvSpPr>
          <p:spPr>
            <a:xfrm>
              <a:off x="9004320" y="3930840"/>
              <a:ext cx="574560" cy="214200"/>
            </a:xfrm>
            <a:custGeom>
              <a:avLst/>
              <a:gdLst/>
              <a:ahLst/>
              <a:rect l="l" t="t" r="r" b="b"/>
              <a:pathLst>
                <a:path w="153" h="57">
                  <a:moveTo>
                    <a:pt x="76" y="57"/>
                  </a:moveTo>
                  <a:cubicBezTo>
                    <a:pt x="52" y="57"/>
                    <a:pt x="30" y="46"/>
                    <a:pt x="15" y="28"/>
                  </a:cubicBezTo>
                  <a:cubicBezTo>
                    <a:pt x="10" y="22"/>
                    <a:pt x="6" y="15"/>
                    <a:pt x="4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50" y="8"/>
                    <a:pt x="150" y="8"/>
                    <a:pt x="150" y="8"/>
                  </a:cubicBezTo>
                  <a:cubicBezTo>
                    <a:pt x="139" y="37"/>
                    <a:pt x="109" y="57"/>
                    <a:pt x="76" y="57"/>
                  </a:cubicBezTo>
                  <a:moveTo>
                    <a:pt x="19" y="12"/>
                  </a:moveTo>
                  <a:cubicBezTo>
                    <a:pt x="20" y="15"/>
                    <a:pt x="22" y="18"/>
                    <a:pt x="24" y="20"/>
                  </a:cubicBezTo>
                  <a:cubicBezTo>
                    <a:pt x="37" y="36"/>
                    <a:pt x="56" y="45"/>
                    <a:pt x="76" y="45"/>
                  </a:cubicBezTo>
                  <a:cubicBezTo>
                    <a:pt x="101" y="45"/>
                    <a:pt x="123" y="32"/>
                    <a:pt x="134" y="12"/>
                  </a:cubicBezTo>
                  <a:cubicBezTo>
                    <a:pt x="19" y="12"/>
                    <a:pt x="19" y="12"/>
                    <a:pt x="19" y="12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6"/>
            <p:cNvSpPr/>
            <p:nvPr/>
          </p:nvSpPr>
          <p:spPr>
            <a:xfrm>
              <a:off x="900108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3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1" y="0"/>
                    <a:pt x="155" y="21"/>
                    <a:pt x="155" y="46"/>
                  </a:cubicBezTo>
                  <a:cubicBezTo>
                    <a:pt x="155" y="280"/>
                    <a:pt x="155" y="280"/>
                    <a:pt x="155" y="280"/>
                  </a:cubicBezTo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5" y="12"/>
                    <a:pt x="102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0" y="12"/>
                    <a:pt x="12" y="27"/>
                    <a:pt x="12" y="46"/>
                  </a:cubicBezTo>
                  <a:cubicBezTo>
                    <a:pt x="12" y="268"/>
                    <a:pt x="12" y="268"/>
                    <a:pt x="12" y="268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7"/>
            <p:cNvSpPr/>
            <p:nvPr/>
          </p:nvSpPr>
          <p:spPr>
            <a:xfrm>
              <a:off x="971856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3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1" y="0"/>
                    <a:pt x="155" y="21"/>
                    <a:pt x="155" y="46"/>
                  </a:cubicBezTo>
                  <a:cubicBezTo>
                    <a:pt x="155" y="280"/>
                    <a:pt x="155" y="280"/>
                    <a:pt x="155" y="280"/>
                  </a:cubicBezTo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4" y="12"/>
                    <a:pt x="102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0" y="12"/>
                    <a:pt x="12" y="27"/>
                    <a:pt x="12" y="46"/>
                  </a:cubicBezTo>
                  <a:cubicBezTo>
                    <a:pt x="12" y="268"/>
                    <a:pt x="12" y="268"/>
                    <a:pt x="12" y="268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8"/>
            <p:cNvSpPr/>
            <p:nvPr/>
          </p:nvSpPr>
          <p:spPr>
            <a:xfrm>
              <a:off x="1043316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4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2" y="0"/>
                    <a:pt x="155" y="21"/>
                    <a:pt x="155" y="46"/>
                  </a:cubicBezTo>
                  <a:lnTo>
                    <a:pt x="155" y="280"/>
                  </a:lnTo>
                  <a:close/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5" y="12"/>
                    <a:pt x="102" y="12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31" y="12"/>
                    <a:pt x="12" y="27"/>
                    <a:pt x="12" y="46"/>
                  </a:cubicBezTo>
                  <a:lnTo>
                    <a:pt x="12" y="268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9"/>
            <p:cNvSpPr/>
            <p:nvPr/>
          </p:nvSpPr>
          <p:spPr>
            <a:xfrm>
              <a:off x="11150640" y="2754360"/>
              <a:ext cx="582480" cy="1052280"/>
            </a:xfrm>
            <a:custGeom>
              <a:avLst/>
              <a:gdLst/>
              <a:ahLst/>
              <a:rect l="l" t="t" r="r" b="b"/>
              <a:pathLst>
                <a:path w="155" h="280">
                  <a:moveTo>
                    <a:pt x="155" y="280"/>
                  </a:moveTo>
                  <a:cubicBezTo>
                    <a:pt x="0" y="280"/>
                    <a:pt x="0" y="280"/>
                    <a:pt x="0" y="28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0" y="21"/>
                    <a:pt x="24" y="0"/>
                    <a:pt x="53" y="0"/>
                  </a:cubicBezTo>
                  <a:cubicBezTo>
                    <a:pt x="102" y="0"/>
                    <a:pt x="102" y="0"/>
                    <a:pt x="102" y="0"/>
                  </a:cubicBezTo>
                  <a:cubicBezTo>
                    <a:pt x="131" y="0"/>
                    <a:pt x="155" y="21"/>
                    <a:pt x="155" y="46"/>
                  </a:cubicBezTo>
                  <a:lnTo>
                    <a:pt x="155" y="280"/>
                  </a:lnTo>
                  <a:close/>
                  <a:moveTo>
                    <a:pt x="12" y="268"/>
                  </a:moveTo>
                  <a:cubicBezTo>
                    <a:pt x="143" y="268"/>
                    <a:pt x="143" y="268"/>
                    <a:pt x="143" y="268"/>
                  </a:cubicBezTo>
                  <a:cubicBezTo>
                    <a:pt x="143" y="46"/>
                    <a:pt x="143" y="46"/>
                    <a:pt x="143" y="46"/>
                  </a:cubicBezTo>
                  <a:cubicBezTo>
                    <a:pt x="143" y="27"/>
                    <a:pt x="125" y="12"/>
                    <a:pt x="102" y="1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31" y="12"/>
                    <a:pt x="12" y="27"/>
                    <a:pt x="12" y="46"/>
                  </a:cubicBezTo>
                  <a:lnTo>
                    <a:pt x="12" y="268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10"/>
            <p:cNvSpPr/>
            <p:nvPr/>
          </p:nvSpPr>
          <p:spPr>
            <a:xfrm>
              <a:off x="9721800" y="3930840"/>
              <a:ext cx="571320" cy="21420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76" y="57"/>
                  </a:moveTo>
                  <a:cubicBezTo>
                    <a:pt x="44" y="57"/>
                    <a:pt x="14" y="37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8"/>
                    <a:pt x="149" y="8"/>
                    <a:pt x="149" y="8"/>
                  </a:cubicBezTo>
                  <a:cubicBezTo>
                    <a:pt x="138" y="37"/>
                    <a:pt x="109" y="57"/>
                    <a:pt x="76" y="57"/>
                  </a:cubicBezTo>
                  <a:moveTo>
                    <a:pt x="18" y="12"/>
                  </a:moveTo>
                  <a:cubicBezTo>
                    <a:pt x="29" y="32"/>
                    <a:pt x="52" y="45"/>
                    <a:pt x="76" y="45"/>
                  </a:cubicBezTo>
                  <a:cubicBezTo>
                    <a:pt x="101" y="45"/>
                    <a:pt x="123" y="32"/>
                    <a:pt x="134" y="12"/>
                  </a:cubicBezTo>
                  <a:cubicBezTo>
                    <a:pt x="18" y="12"/>
                    <a:pt x="18" y="12"/>
                    <a:pt x="18" y="12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11"/>
            <p:cNvSpPr/>
            <p:nvPr/>
          </p:nvSpPr>
          <p:spPr>
            <a:xfrm>
              <a:off x="10439280" y="3930840"/>
              <a:ext cx="571320" cy="21420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76" y="57"/>
                  </a:moveTo>
                  <a:cubicBezTo>
                    <a:pt x="43" y="57"/>
                    <a:pt x="14" y="37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8"/>
                    <a:pt x="149" y="8"/>
                    <a:pt x="149" y="8"/>
                  </a:cubicBezTo>
                  <a:cubicBezTo>
                    <a:pt x="138" y="37"/>
                    <a:pt x="109" y="57"/>
                    <a:pt x="76" y="57"/>
                  </a:cubicBezTo>
                  <a:close/>
                  <a:moveTo>
                    <a:pt x="18" y="12"/>
                  </a:moveTo>
                  <a:cubicBezTo>
                    <a:pt x="29" y="32"/>
                    <a:pt x="51" y="45"/>
                    <a:pt x="76" y="45"/>
                  </a:cubicBezTo>
                  <a:cubicBezTo>
                    <a:pt x="101" y="45"/>
                    <a:pt x="123" y="32"/>
                    <a:pt x="134" y="12"/>
                  </a:cubicBezTo>
                  <a:lnTo>
                    <a:pt x="18" y="1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12"/>
            <p:cNvSpPr/>
            <p:nvPr/>
          </p:nvSpPr>
          <p:spPr>
            <a:xfrm>
              <a:off x="11157120" y="3930840"/>
              <a:ext cx="571320" cy="214200"/>
            </a:xfrm>
            <a:custGeom>
              <a:avLst/>
              <a:gdLst/>
              <a:ahLst/>
              <a:rect l="l" t="t" r="r" b="b"/>
              <a:pathLst>
                <a:path w="152" h="57">
                  <a:moveTo>
                    <a:pt x="76" y="57"/>
                  </a:moveTo>
                  <a:cubicBezTo>
                    <a:pt x="43" y="57"/>
                    <a:pt x="14" y="37"/>
                    <a:pt x="3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9" y="8"/>
                    <a:pt x="149" y="8"/>
                    <a:pt x="149" y="8"/>
                  </a:cubicBezTo>
                  <a:cubicBezTo>
                    <a:pt x="146" y="15"/>
                    <a:pt x="142" y="22"/>
                    <a:pt x="137" y="28"/>
                  </a:cubicBezTo>
                  <a:cubicBezTo>
                    <a:pt x="122" y="46"/>
                    <a:pt x="100" y="57"/>
                    <a:pt x="76" y="57"/>
                  </a:cubicBezTo>
                  <a:close/>
                  <a:moveTo>
                    <a:pt x="18" y="12"/>
                  </a:moveTo>
                  <a:cubicBezTo>
                    <a:pt x="29" y="32"/>
                    <a:pt x="51" y="45"/>
                    <a:pt x="76" y="45"/>
                  </a:cubicBezTo>
                  <a:cubicBezTo>
                    <a:pt x="96" y="45"/>
                    <a:pt x="115" y="36"/>
                    <a:pt x="128" y="20"/>
                  </a:cubicBezTo>
                  <a:cubicBezTo>
                    <a:pt x="130" y="18"/>
                    <a:pt x="132" y="15"/>
                    <a:pt x="134" y="12"/>
                  </a:cubicBezTo>
                  <a:lnTo>
                    <a:pt x="18" y="1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13"/>
            <p:cNvSpPr/>
            <p:nvPr/>
          </p:nvSpPr>
          <p:spPr>
            <a:xfrm>
              <a:off x="9001080" y="4098960"/>
              <a:ext cx="1641240" cy="1387440"/>
            </a:xfrm>
            <a:custGeom>
              <a:avLst/>
              <a:gdLst/>
              <a:ahLst/>
              <a:rect l="l" t="t" r="r" b="b"/>
              <a:pathLst>
                <a:path w="437" h="369">
                  <a:moveTo>
                    <a:pt x="437" y="369"/>
                  </a:moveTo>
                  <a:cubicBezTo>
                    <a:pt x="62" y="369"/>
                    <a:pt x="62" y="369"/>
                    <a:pt x="62" y="369"/>
                  </a:cubicBezTo>
                  <a:cubicBezTo>
                    <a:pt x="28" y="369"/>
                    <a:pt x="0" y="342"/>
                    <a:pt x="0" y="307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46"/>
                    <a:pt x="6" y="31"/>
                    <a:pt x="16" y="20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37" y="34"/>
                    <a:pt x="54" y="43"/>
                    <a:pt x="73" y="44"/>
                  </a:cubicBezTo>
                  <a:cubicBezTo>
                    <a:pt x="79" y="44"/>
                    <a:pt x="79" y="44"/>
                    <a:pt x="79" y="44"/>
                  </a:cubicBezTo>
                  <a:cubicBezTo>
                    <a:pt x="79" y="223"/>
                    <a:pt x="79" y="223"/>
                    <a:pt x="79" y="223"/>
                  </a:cubicBezTo>
                  <a:cubicBezTo>
                    <a:pt x="380" y="223"/>
                    <a:pt x="380" y="223"/>
                    <a:pt x="380" y="223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396" y="0"/>
                    <a:pt x="396" y="0"/>
                    <a:pt x="396" y="0"/>
                  </a:cubicBezTo>
                  <a:cubicBezTo>
                    <a:pt x="397" y="4"/>
                    <a:pt x="397" y="4"/>
                    <a:pt x="397" y="4"/>
                  </a:cubicBezTo>
                  <a:cubicBezTo>
                    <a:pt x="403" y="20"/>
                    <a:pt x="416" y="33"/>
                    <a:pt x="433" y="39"/>
                  </a:cubicBezTo>
                  <a:cubicBezTo>
                    <a:pt x="437" y="41"/>
                    <a:pt x="437" y="41"/>
                    <a:pt x="437" y="41"/>
                  </a:cubicBezTo>
                  <a:cubicBezTo>
                    <a:pt x="437" y="369"/>
                    <a:pt x="437" y="369"/>
                    <a:pt x="437" y="369"/>
                  </a:cubicBezTo>
                  <a:moveTo>
                    <a:pt x="21" y="33"/>
                  </a:moveTo>
                  <a:cubicBezTo>
                    <a:pt x="15" y="42"/>
                    <a:pt x="12" y="51"/>
                    <a:pt x="12" y="62"/>
                  </a:cubicBezTo>
                  <a:cubicBezTo>
                    <a:pt x="12" y="307"/>
                    <a:pt x="12" y="307"/>
                    <a:pt x="12" y="307"/>
                  </a:cubicBezTo>
                  <a:cubicBezTo>
                    <a:pt x="12" y="335"/>
                    <a:pt x="34" y="357"/>
                    <a:pt x="62" y="357"/>
                  </a:cubicBezTo>
                  <a:cubicBezTo>
                    <a:pt x="425" y="357"/>
                    <a:pt x="425" y="357"/>
                    <a:pt x="425" y="357"/>
                  </a:cubicBezTo>
                  <a:cubicBezTo>
                    <a:pt x="425" y="49"/>
                    <a:pt x="425" y="49"/>
                    <a:pt x="425" y="49"/>
                  </a:cubicBezTo>
                  <a:cubicBezTo>
                    <a:pt x="411" y="42"/>
                    <a:pt x="400" y="32"/>
                    <a:pt x="392" y="20"/>
                  </a:cubicBezTo>
                  <a:cubicBezTo>
                    <a:pt x="392" y="235"/>
                    <a:pt x="392" y="235"/>
                    <a:pt x="392" y="235"/>
                  </a:cubicBezTo>
                  <a:cubicBezTo>
                    <a:pt x="67" y="235"/>
                    <a:pt x="67" y="235"/>
                    <a:pt x="67" y="235"/>
                  </a:cubicBezTo>
                  <a:cubicBezTo>
                    <a:pt x="67" y="56"/>
                    <a:pt x="67" y="56"/>
                    <a:pt x="67" y="56"/>
                  </a:cubicBezTo>
                  <a:cubicBezTo>
                    <a:pt x="49" y="53"/>
                    <a:pt x="33" y="45"/>
                    <a:pt x="21" y="33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14"/>
            <p:cNvSpPr/>
            <p:nvPr/>
          </p:nvSpPr>
          <p:spPr>
            <a:xfrm>
              <a:off x="11436480" y="4156200"/>
              <a:ext cx="296640" cy="1330200"/>
            </a:xfrm>
            <a:custGeom>
              <a:avLst/>
              <a:gdLst/>
              <a:ahLst/>
              <a:rect l="l" t="t" r="r" b="b"/>
              <a:pathLst>
                <a:path w="79" h="354">
                  <a:moveTo>
                    <a:pt x="17" y="354"/>
                  </a:moveTo>
                  <a:cubicBezTo>
                    <a:pt x="0" y="354"/>
                    <a:pt x="0" y="354"/>
                    <a:pt x="0" y="354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5" y="28"/>
                    <a:pt x="42" y="19"/>
                    <a:pt x="54" y="5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63" y="5"/>
                    <a:pt x="63" y="5"/>
                    <a:pt x="63" y="5"/>
                  </a:cubicBezTo>
                  <a:cubicBezTo>
                    <a:pt x="73" y="16"/>
                    <a:pt x="79" y="31"/>
                    <a:pt x="79" y="47"/>
                  </a:cubicBezTo>
                  <a:cubicBezTo>
                    <a:pt x="79" y="292"/>
                    <a:pt x="79" y="292"/>
                    <a:pt x="79" y="292"/>
                  </a:cubicBezTo>
                  <a:cubicBezTo>
                    <a:pt x="79" y="327"/>
                    <a:pt x="51" y="354"/>
                    <a:pt x="17" y="354"/>
                  </a:cubicBezTo>
                  <a:close/>
                  <a:moveTo>
                    <a:pt x="12" y="342"/>
                  </a:moveTo>
                  <a:cubicBezTo>
                    <a:pt x="17" y="342"/>
                    <a:pt x="17" y="342"/>
                    <a:pt x="17" y="342"/>
                  </a:cubicBezTo>
                  <a:cubicBezTo>
                    <a:pt x="45" y="342"/>
                    <a:pt x="67" y="320"/>
                    <a:pt x="67" y="292"/>
                  </a:cubicBezTo>
                  <a:cubicBezTo>
                    <a:pt x="67" y="47"/>
                    <a:pt x="67" y="47"/>
                    <a:pt x="67" y="47"/>
                  </a:cubicBezTo>
                  <a:cubicBezTo>
                    <a:pt x="67" y="36"/>
                    <a:pt x="64" y="27"/>
                    <a:pt x="58" y="18"/>
                  </a:cubicBezTo>
                  <a:cubicBezTo>
                    <a:pt x="46" y="30"/>
                    <a:pt x="30" y="38"/>
                    <a:pt x="12" y="41"/>
                  </a:cubicBezTo>
                  <a:lnTo>
                    <a:pt x="12" y="34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15"/>
            <p:cNvSpPr/>
            <p:nvPr/>
          </p:nvSpPr>
          <p:spPr>
            <a:xfrm>
              <a:off x="10680840" y="4603680"/>
              <a:ext cx="379080" cy="209520"/>
            </a:xfrm>
            <a:custGeom>
              <a:avLst/>
              <a:gdLst/>
              <a:ahLst/>
              <a:rect l="l" t="t" r="r" b="b"/>
              <a:pathLst>
                <a:path w="101" h="56">
                  <a:moveTo>
                    <a:pt x="73" y="56"/>
                  </a:moveTo>
                  <a:cubicBezTo>
                    <a:pt x="28" y="56"/>
                    <a:pt x="28" y="56"/>
                    <a:pt x="28" y="56"/>
                  </a:cubicBezTo>
                  <a:cubicBezTo>
                    <a:pt x="13" y="56"/>
                    <a:pt x="0" y="44"/>
                    <a:pt x="0" y="28"/>
                  </a:cubicBezTo>
                  <a:cubicBezTo>
                    <a:pt x="0" y="12"/>
                    <a:pt x="13" y="0"/>
                    <a:pt x="28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89" y="0"/>
                    <a:pt x="101" y="12"/>
                    <a:pt x="101" y="28"/>
                  </a:cubicBezTo>
                  <a:cubicBezTo>
                    <a:pt x="101" y="44"/>
                    <a:pt x="89" y="56"/>
                    <a:pt x="73" y="56"/>
                  </a:cubicBezTo>
                  <a:close/>
                  <a:moveTo>
                    <a:pt x="28" y="12"/>
                  </a:moveTo>
                  <a:cubicBezTo>
                    <a:pt x="19" y="12"/>
                    <a:pt x="12" y="19"/>
                    <a:pt x="12" y="28"/>
                  </a:cubicBezTo>
                  <a:cubicBezTo>
                    <a:pt x="12" y="37"/>
                    <a:pt x="19" y="44"/>
                    <a:pt x="28" y="44"/>
                  </a:cubicBezTo>
                  <a:cubicBezTo>
                    <a:pt x="73" y="44"/>
                    <a:pt x="73" y="44"/>
                    <a:pt x="73" y="44"/>
                  </a:cubicBezTo>
                  <a:cubicBezTo>
                    <a:pt x="82" y="44"/>
                    <a:pt x="89" y="37"/>
                    <a:pt x="89" y="28"/>
                  </a:cubicBezTo>
                  <a:cubicBezTo>
                    <a:pt x="89" y="19"/>
                    <a:pt x="82" y="12"/>
                    <a:pt x="73" y="12"/>
                  </a:cubicBezTo>
                  <a:lnTo>
                    <a:pt x="28" y="12"/>
                  </a:ln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16"/>
            <p:cNvSpPr/>
            <p:nvPr/>
          </p:nvSpPr>
          <p:spPr>
            <a:xfrm>
              <a:off x="6724800" y="1708200"/>
              <a:ext cx="1074600" cy="977760"/>
            </a:xfrm>
            <a:custGeom>
              <a:avLst/>
              <a:gdLst/>
              <a:ahLst/>
              <a:rect l="l" t="t" r="r" b="b"/>
              <a:pathLst>
                <a:path w="286" h="260">
                  <a:moveTo>
                    <a:pt x="227" y="260"/>
                  </a:moveTo>
                  <a:cubicBezTo>
                    <a:pt x="59" y="260"/>
                    <a:pt x="59" y="260"/>
                    <a:pt x="59" y="260"/>
                  </a:cubicBezTo>
                  <a:cubicBezTo>
                    <a:pt x="26" y="260"/>
                    <a:pt x="0" y="233"/>
                    <a:pt x="0" y="201"/>
                  </a:cubicBezTo>
                  <a:cubicBezTo>
                    <a:pt x="13" y="59"/>
                    <a:pt x="13" y="59"/>
                    <a:pt x="13" y="59"/>
                  </a:cubicBezTo>
                  <a:cubicBezTo>
                    <a:pt x="13" y="45"/>
                    <a:pt x="18" y="31"/>
                    <a:pt x="28" y="20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6" y="42"/>
                    <a:pt x="41" y="61"/>
                    <a:pt x="47" y="78"/>
                  </a:cubicBezTo>
                  <a:cubicBezTo>
                    <a:pt x="53" y="92"/>
                    <a:pt x="65" y="101"/>
                    <a:pt x="79" y="101"/>
                  </a:cubicBezTo>
                  <a:cubicBezTo>
                    <a:pt x="82" y="101"/>
                    <a:pt x="85" y="101"/>
                    <a:pt x="88" y="100"/>
                  </a:cubicBezTo>
                  <a:cubicBezTo>
                    <a:pt x="97" y="97"/>
                    <a:pt x="105" y="91"/>
                    <a:pt x="110" y="82"/>
                  </a:cubicBezTo>
                  <a:cubicBezTo>
                    <a:pt x="114" y="74"/>
                    <a:pt x="114" y="65"/>
                    <a:pt x="111" y="57"/>
                  </a:cubicBezTo>
                  <a:cubicBezTo>
                    <a:pt x="109" y="52"/>
                    <a:pt x="108" y="47"/>
                    <a:pt x="106" y="42"/>
                  </a:cubicBezTo>
                  <a:cubicBezTo>
                    <a:pt x="103" y="31"/>
                    <a:pt x="101" y="21"/>
                    <a:pt x="101" y="11"/>
                  </a:cubicBezTo>
                  <a:cubicBezTo>
                    <a:pt x="101" y="9"/>
                    <a:pt x="101" y="7"/>
                    <a:pt x="101" y="4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84" y="4"/>
                    <a:pt x="184" y="4"/>
                    <a:pt x="184" y="4"/>
                  </a:cubicBezTo>
                  <a:cubicBezTo>
                    <a:pt x="184" y="9"/>
                    <a:pt x="184" y="14"/>
                    <a:pt x="184" y="17"/>
                  </a:cubicBezTo>
                  <a:cubicBezTo>
                    <a:pt x="182" y="25"/>
                    <a:pt x="180" y="35"/>
                    <a:pt x="176" y="46"/>
                  </a:cubicBezTo>
                  <a:cubicBezTo>
                    <a:pt x="176" y="47"/>
                    <a:pt x="175" y="49"/>
                    <a:pt x="174" y="51"/>
                  </a:cubicBezTo>
                  <a:cubicBezTo>
                    <a:pt x="173" y="55"/>
                    <a:pt x="173" y="55"/>
                    <a:pt x="173" y="55"/>
                  </a:cubicBezTo>
                  <a:cubicBezTo>
                    <a:pt x="169" y="65"/>
                    <a:pt x="170" y="76"/>
                    <a:pt x="176" y="85"/>
                  </a:cubicBezTo>
                  <a:cubicBezTo>
                    <a:pt x="183" y="95"/>
                    <a:pt x="194" y="102"/>
                    <a:pt x="205" y="102"/>
                  </a:cubicBezTo>
                  <a:cubicBezTo>
                    <a:pt x="218" y="102"/>
                    <a:pt x="228" y="95"/>
                    <a:pt x="233" y="83"/>
                  </a:cubicBezTo>
                  <a:cubicBezTo>
                    <a:pt x="242" y="63"/>
                    <a:pt x="248" y="42"/>
                    <a:pt x="251" y="22"/>
                  </a:cubicBezTo>
                  <a:cubicBezTo>
                    <a:pt x="252" y="14"/>
                    <a:pt x="252" y="14"/>
                    <a:pt x="252" y="14"/>
                  </a:cubicBezTo>
                  <a:cubicBezTo>
                    <a:pt x="257" y="20"/>
                    <a:pt x="257" y="20"/>
                    <a:pt x="257" y="20"/>
                  </a:cubicBezTo>
                  <a:cubicBezTo>
                    <a:pt x="267" y="31"/>
                    <a:pt x="272" y="45"/>
                    <a:pt x="272" y="59"/>
                  </a:cubicBezTo>
                  <a:cubicBezTo>
                    <a:pt x="286" y="201"/>
                    <a:pt x="286" y="201"/>
                    <a:pt x="286" y="201"/>
                  </a:cubicBezTo>
                  <a:cubicBezTo>
                    <a:pt x="286" y="233"/>
                    <a:pt x="259" y="260"/>
                    <a:pt x="227" y="260"/>
                  </a:cubicBezTo>
                  <a:moveTo>
                    <a:pt x="28" y="33"/>
                  </a:moveTo>
                  <a:cubicBezTo>
                    <a:pt x="23" y="41"/>
                    <a:pt x="21" y="50"/>
                    <a:pt x="21" y="59"/>
                  </a:cubicBezTo>
                  <a:cubicBezTo>
                    <a:pt x="7" y="201"/>
                    <a:pt x="7" y="201"/>
                    <a:pt x="7" y="201"/>
                  </a:cubicBezTo>
                  <a:cubicBezTo>
                    <a:pt x="7" y="229"/>
                    <a:pt x="30" y="252"/>
                    <a:pt x="59" y="252"/>
                  </a:cubicBezTo>
                  <a:cubicBezTo>
                    <a:pt x="227" y="252"/>
                    <a:pt x="227" y="252"/>
                    <a:pt x="227" y="252"/>
                  </a:cubicBezTo>
                  <a:cubicBezTo>
                    <a:pt x="255" y="252"/>
                    <a:pt x="278" y="229"/>
                    <a:pt x="278" y="201"/>
                  </a:cubicBezTo>
                  <a:cubicBezTo>
                    <a:pt x="265" y="60"/>
                    <a:pt x="265" y="60"/>
                    <a:pt x="265" y="60"/>
                  </a:cubicBezTo>
                  <a:cubicBezTo>
                    <a:pt x="265" y="50"/>
                    <a:pt x="262" y="40"/>
                    <a:pt x="257" y="32"/>
                  </a:cubicBezTo>
                  <a:cubicBezTo>
                    <a:pt x="254" y="50"/>
                    <a:pt x="248" y="68"/>
                    <a:pt x="240" y="86"/>
                  </a:cubicBezTo>
                  <a:cubicBezTo>
                    <a:pt x="234" y="100"/>
                    <a:pt x="221" y="109"/>
                    <a:pt x="205" y="109"/>
                  </a:cubicBezTo>
                  <a:cubicBezTo>
                    <a:pt x="191" y="109"/>
                    <a:pt x="177" y="101"/>
                    <a:pt x="170" y="89"/>
                  </a:cubicBezTo>
                  <a:cubicBezTo>
                    <a:pt x="162" y="78"/>
                    <a:pt x="161" y="64"/>
                    <a:pt x="166" y="52"/>
                  </a:cubicBezTo>
                  <a:cubicBezTo>
                    <a:pt x="167" y="48"/>
                    <a:pt x="167" y="48"/>
                    <a:pt x="167" y="48"/>
                  </a:cubicBezTo>
                  <a:cubicBezTo>
                    <a:pt x="168" y="46"/>
                    <a:pt x="168" y="45"/>
                    <a:pt x="169" y="43"/>
                  </a:cubicBezTo>
                  <a:cubicBezTo>
                    <a:pt x="172" y="33"/>
                    <a:pt x="175" y="24"/>
                    <a:pt x="176" y="15"/>
                  </a:cubicBezTo>
                  <a:cubicBezTo>
                    <a:pt x="176" y="14"/>
                    <a:pt x="177" y="11"/>
                    <a:pt x="177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8" y="9"/>
                    <a:pt x="109" y="10"/>
                    <a:pt x="109" y="11"/>
                  </a:cubicBezTo>
                  <a:cubicBezTo>
                    <a:pt x="109" y="20"/>
                    <a:pt x="111" y="29"/>
                    <a:pt x="114" y="40"/>
                  </a:cubicBezTo>
                  <a:cubicBezTo>
                    <a:pt x="115" y="45"/>
                    <a:pt x="116" y="50"/>
                    <a:pt x="118" y="54"/>
                  </a:cubicBezTo>
                  <a:cubicBezTo>
                    <a:pt x="122" y="64"/>
                    <a:pt x="122" y="75"/>
                    <a:pt x="117" y="85"/>
                  </a:cubicBezTo>
                  <a:cubicBezTo>
                    <a:pt x="111" y="96"/>
                    <a:pt x="101" y="104"/>
                    <a:pt x="90" y="107"/>
                  </a:cubicBezTo>
                  <a:cubicBezTo>
                    <a:pt x="87" y="108"/>
                    <a:pt x="83" y="109"/>
                    <a:pt x="79" y="109"/>
                  </a:cubicBezTo>
                  <a:cubicBezTo>
                    <a:pt x="62" y="109"/>
                    <a:pt x="47" y="98"/>
                    <a:pt x="40" y="81"/>
                  </a:cubicBezTo>
                  <a:cubicBezTo>
                    <a:pt x="34" y="66"/>
                    <a:pt x="30" y="50"/>
                    <a:pt x="28" y="33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17"/>
            <p:cNvSpPr/>
            <p:nvPr/>
          </p:nvSpPr>
          <p:spPr>
            <a:xfrm>
              <a:off x="6897600" y="1393920"/>
              <a:ext cx="765000" cy="645840"/>
            </a:xfrm>
            <a:custGeom>
              <a:avLst/>
              <a:gdLst/>
              <a:ahLst/>
              <a:rect l="l" t="t" r="r" b="b"/>
              <a:pathLst>
                <a:path w="204" h="172">
                  <a:moveTo>
                    <a:pt x="159" y="172"/>
                  </a:moveTo>
                  <a:cubicBezTo>
                    <a:pt x="152" y="172"/>
                    <a:pt x="145" y="168"/>
                    <a:pt x="141" y="162"/>
                  </a:cubicBezTo>
                  <a:cubicBezTo>
                    <a:pt x="138" y="156"/>
                    <a:pt x="137" y="150"/>
                    <a:pt x="139" y="143"/>
                  </a:cubicBezTo>
                  <a:cubicBezTo>
                    <a:pt x="140" y="142"/>
                    <a:pt x="140" y="142"/>
                    <a:pt x="140" y="142"/>
                  </a:cubicBezTo>
                  <a:cubicBezTo>
                    <a:pt x="140" y="142"/>
                    <a:pt x="140" y="141"/>
                    <a:pt x="140" y="141"/>
                  </a:cubicBezTo>
                  <a:cubicBezTo>
                    <a:pt x="140" y="140"/>
                    <a:pt x="140" y="140"/>
                    <a:pt x="140" y="140"/>
                  </a:cubicBezTo>
                  <a:cubicBezTo>
                    <a:pt x="141" y="138"/>
                    <a:pt x="142" y="136"/>
                    <a:pt x="143" y="134"/>
                  </a:cubicBezTo>
                  <a:cubicBezTo>
                    <a:pt x="147" y="123"/>
                    <a:pt x="149" y="112"/>
                    <a:pt x="151" y="103"/>
                  </a:cubicBezTo>
                  <a:cubicBezTo>
                    <a:pt x="152" y="96"/>
                    <a:pt x="152" y="82"/>
                    <a:pt x="151" y="73"/>
                  </a:cubicBezTo>
                  <a:cubicBezTo>
                    <a:pt x="150" y="74"/>
                    <a:pt x="150" y="74"/>
                    <a:pt x="150" y="74"/>
                  </a:cubicBezTo>
                  <a:cubicBezTo>
                    <a:pt x="148" y="65"/>
                    <a:pt x="148" y="65"/>
                    <a:pt x="148" y="65"/>
                  </a:cubicBezTo>
                  <a:cubicBezTo>
                    <a:pt x="148" y="64"/>
                    <a:pt x="148" y="64"/>
                    <a:pt x="148" y="64"/>
                  </a:cubicBezTo>
                  <a:cubicBezTo>
                    <a:pt x="147" y="64"/>
                    <a:pt x="147" y="64"/>
                    <a:pt x="147" y="64"/>
                  </a:cubicBezTo>
                  <a:cubicBezTo>
                    <a:pt x="146" y="61"/>
                    <a:pt x="145" y="59"/>
                    <a:pt x="144" y="58"/>
                  </a:cubicBezTo>
                  <a:cubicBezTo>
                    <a:pt x="142" y="55"/>
                    <a:pt x="142" y="55"/>
                    <a:pt x="142" y="55"/>
                  </a:cubicBezTo>
                  <a:cubicBezTo>
                    <a:pt x="140" y="54"/>
                    <a:pt x="139" y="53"/>
                    <a:pt x="138" y="52"/>
                  </a:cubicBezTo>
                  <a:cubicBezTo>
                    <a:pt x="138" y="52"/>
                    <a:pt x="135" y="50"/>
                    <a:pt x="132" y="48"/>
                  </a:cubicBezTo>
                  <a:cubicBezTo>
                    <a:pt x="123" y="44"/>
                    <a:pt x="110" y="41"/>
                    <a:pt x="96" y="41"/>
                  </a:cubicBezTo>
                  <a:cubicBezTo>
                    <a:pt x="90" y="41"/>
                    <a:pt x="85" y="42"/>
                    <a:pt x="79" y="43"/>
                  </a:cubicBezTo>
                  <a:cubicBezTo>
                    <a:pt x="52" y="48"/>
                    <a:pt x="40" y="64"/>
                    <a:pt x="42" y="96"/>
                  </a:cubicBezTo>
                  <a:cubicBezTo>
                    <a:pt x="42" y="107"/>
                    <a:pt x="44" y="118"/>
                    <a:pt x="48" y="130"/>
                  </a:cubicBezTo>
                  <a:cubicBezTo>
                    <a:pt x="49" y="135"/>
                    <a:pt x="51" y="140"/>
                    <a:pt x="53" y="146"/>
                  </a:cubicBezTo>
                  <a:cubicBezTo>
                    <a:pt x="54" y="150"/>
                    <a:pt x="54" y="155"/>
                    <a:pt x="52" y="160"/>
                  </a:cubicBezTo>
                  <a:cubicBezTo>
                    <a:pt x="49" y="165"/>
                    <a:pt x="44" y="170"/>
                    <a:pt x="39" y="171"/>
                  </a:cubicBezTo>
                  <a:cubicBezTo>
                    <a:pt x="37" y="172"/>
                    <a:pt x="35" y="172"/>
                    <a:pt x="33" y="172"/>
                  </a:cubicBezTo>
                  <a:cubicBezTo>
                    <a:pt x="25" y="172"/>
                    <a:pt x="18" y="166"/>
                    <a:pt x="14" y="157"/>
                  </a:cubicBezTo>
                  <a:cubicBezTo>
                    <a:pt x="6" y="139"/>
                    <a:pt x="2" y="117"/>
                    <a:pt x="1" y="96"/>
                  </a:cubicBezTo>
                  <a:cubicBezTo>
                    <a:pt x="0" y="65"/>
                    <a:pt x="11" y="26"/>
                    <a:pt x="45" y="11"/>
                  </a:cubicBezTo>
                  <a:cubicBezTo>
                    <a:pt x="61" y="4"/>
                    <a:pt x="80" y="0"/>
                    <a:pt x="98" y="0"/>
                  </a:cubicBezTo>
                  <a:cubicBezTo>
                    <a:pt x="127" y="0"/>
                    <a:pt x="151" y="9"/>
                    <a:pt x="168" y="24"/>
                  </a:cubicBezTo>
                  <a:cubicBezTo>
                    <a:pt x="204" y="58"/>
                    <a:pt x="195" y="117"/>
                    <a:pt x="175" y="161"/>
                  </a:cubicBezTo>
                  <a:cubicBezTo>
                    <a:pt x="172" y="168"/>
                    <a:pt x="166" y="172"/>
                    <a:pt x="159" y="172"/>
                  </a:cubicBezTo>
                  <a:close/>
                  <a:moveTo>
                    <a:pt x="147" y="145"/>
                  </a:moveTo>
                  <a:cubicBezTo>
                    <a:pt x="146" y="146"/>
                    <a:pt x="146" y="146"/>
                    <a:pt x="146" y="146"/>
                  </a:cubicBezTo>
                  <a:cubicBezTo>
                    <a:pt x="145" y="150"/>
                    <a:pt x="145" y="154"/>
                    <a:pt x="148" y="158"/>
                  </a:cubicBezTo>
                  <a:cubicBezTo>
                    <a:pt x="150" y="162"/>
                    <a:pt x="155" y="165"/>
                    <a:pt x="159" y="165"/>
                  </a:cubicBezTo>
                  <a:cubicBezTo>
                    <a:pt x="164" y="165"/>
                    <a:pt x="167" y="161"/>
                    <a:pt x="168" y="158"/>
                  </a:cubicBezTo>
                  <a:cubicBezTo>
                    <a:pt x="187" y="116"/>
                    <a:pt x="196" y="61"/>
                    <a:pt x="163" y="30"/>
                  </a:cubicBezTo>
                  <a:cubicBezTo>
                    <a:pt x="147" y="16"/>
                    <a:pt x="125" y="8"/>
                    <a:pt x="98" y="8"/>
                  </a:cubicBezTo>
                  <a:cubicBezTo>
                    <a:pt x="81" y="8"/>
                    <a:pt x="63" y="12"/>
                    <a:pt x="48" y="18"/>
                  </a:cubicBezTo>
                  <a:cubicBezTo>
                    <a:pt x="17" y="32"/>
                    <a:pt x="8" y="67"/>
                    <a:pt x="9" y="96"/>
                  </a:cubicBezTo>
                  <a:cubicBezTo>
                    <a:pt x="10" y="116"/>
                    <a:pt x="14" y="137"/>
                    <a:pt x="21" y="154"/>
                  </a:cubicBezTo>
                  <a:cubicBezTo>
                    <a:pt x="24" y="162"/>
                    <a:pt x="30" y="165"/>
                    <a:pt x="37" y="164"/>
                  </a:cubicBezTo>
                  <a:cubicBezTo>
                    <a:pt x="40" y="163"/>
                    <a:pt x="43" y="160"/>
                    <a:pt x="45" y="156"/>
                  </a:cubicBezTo>
                  <a:cubicBezTo>
                    <a:pt x="46" y="154"/>
                    <a:pt x="47" y="151"/>
                    <a:pt x="46" y="149"/>
                  </a:cubicBezTo>
                  <a:cubicBezTo>
                    <a:pt x="43" y="143"/>
                    <a:pt x="42" y="137"/>
                    <a:pt x="40" y="132"/>
                  </a:cubicBezTo>
                  <a:cubicBezTo>
                    <a:pt x="37" y="119"/>
                    <a:pt x="35" y="108"/>
                    <a:pt x="34" y="97"/>
                  </a:cubicBezTo>
                  <a:cubicBezTo>
                    <a:pt x="32" y="61"/>
                    <a:pt x="47" y="41"/>
                    <a:pt x="78" y="35"/>
                  </a:cubicBezTo>
                  <a:cubicBezTo>
                    <a:pt x="84" y="34"/>
                    <a:pt x="90" y="33"/>
                    <a:pt x="96" y="33"/>
                  </a:cubicBezTo>
                  <a:cubicBezTo>
                    <a:pt x="111" y="33"/>
                    <a:pt x="125" y="36"/>
                    <a:pt x="135" y="42"/>
                  </a:cubicBezTo>
                  <a:cubicBezTo>
                    <a:pt x="139" y="43"/>
                    <a:pt x="142" y="45"/>
                    <a:pt x="143" y="46"/>
                  </a:cubicBezTo>
                  <a:cubicBezTo>
                    <a:pt x="144" y="47"/>
                    <a:pt x="146" y="49"/>
                    <a:pt x="147" y="50"/>
                  </a:cubicBezTo>
                  <a:cubicBezTo>
                    <a:pt x="147" y="50"/>
                    <a:pt x="147" y="50"/>
                    <a:pt x="147" y="50"/>
                  </a:cubicBezTo>
                  <a:cubicBezTo>
                    <a:pt x="150" y="53"/>
                    <a:pt x="150" y="53"/>
                    <a:pt x="150" y="53"/>
                  </a:cubicBezTo>
                  <a:cubicBezTo>
                    <a:pt x="151" y="55"/>
                    <a:pt x="153" y="57"/>
                    <a:pt x="154" y="60"/>
                  </a:cubicBezTo>
                  <a:cubicBezTo>
                    <a:pt x="154" y="61"/>
                    <a:pt x="154" y="61"/>
                    <a:pt x="154" y="61"/>
                  </a:cubicBezTo>
                  <a:cubicBezTo>
                    <a:pt x="155" y="61"/>
                    <a:pt x="155" y="62"/>
                    <a:pt x="155" y="62"/>
                  </a:cubicBezTo>
                  <a:cubicBezTo>
                    <a:pt x="156" y="64"/>
                    <a:pt x="156" y="64"/>
                    <a:pt x="156" y="64"/>
                  </a:cubicBezTo>
                  <a:cubicBezTo>
                    <a:pt x="156" y="64"/>
                    <a:pt x="156" y="64"/>
                    <a:pt x="156" y="64"/>
                  </a:cubicBezTo>
                  <a:cubicBezTo>
                    <a:pt x="157" y="68"/>
                    <a:pt x="157" y="68"/>
                    <a:pt x="157" y="68"/>
                  </a:cubicBezTo>
                  <a:cubicBezTo>
                    <a:pt x="157" y="68"/>
                    <a:pt x="157" y="69"/>
                    <a:pt x="157" y="69"/>
                  </a:cubicBezTo>
                  <a:cubicBezTo>
                    <a:pt x="160" y="78"/>
                    <a:pt x="160" y="96"/>
                    <a:pt x="158" y="104"/>
                  </a:cubicBezTo>
                  <a:cubicBezTo>
                    <a:pt x="157" y="114"/>
                    <a:pt x="154" y="125"/>
                    <a:pt x="150" y="136"/>
                  </a:cubicBezTo>
                  <a:cubicBezTo>
                    <a:pt x="149" y="139"/>
                    <a:pt x="148" y="141"/>
                    <a:pt x="148" y="143"/>
                  </a:cubicBezTo>
                  <a:cubicBezTo>
                    <a:pt x="148" y="143"/>
                    <a:pt x="148" y="143"/>
                    <a:pt x="148" y="143"/>
                  </a:cubicBezTo>
                  <a:cubicBezTo>
                    <a:pt x="147" y="144"/>
                    <a:pt x="147" y="145"/>
                    <a:pt x="147" y="145"/>
                  </a:cubicBezTo>
                  <a:close/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18"/>
            <p:cNvSpPr/>
            <p:nvPr/>
          </p:nvSpPr>
          <p:spPr>
            <a:xfrm>
              <a:off x="7111800" y="4843440"/>
              <a:ext cx="1091880" cy="1090440"/>
            </a:xfrm>
            <a:custGeom>
              <a:avLst/>
              <a:gdLst/>
              <a:ahLst/>
              <a:rect l="l" t="t" r="r" b="b"/>
              <a:pathLst>
                <a:path w="291" h="290">
                  <a:moveTo>
                    <a:pt x="240" y="290"/>
                  </a:moveTo>
                  <a:cubicBezTo>
                    <a:pt x="51" y="290"/>
                    <a:pt x="51" y="290"/>
                    <a:pt x="51" y="290"/>
                  </a:cubicBezTo>
                  <a:cubicBezTo>
                    <a:pt x="23" y="290"/>
                    <a:pt x="0" y="267"/>
                    <a:pt x="0" y="24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22"/>
                    <a:pt x="23" y="0"/>
                    <a:pt x="51" y="0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268" y="0"/>
                    <a:pt x="291" y="22"/>
                    <a:pt x="291" y="50"/>
                  </a:cubicBezTo>
                  <a:cubicBezTo>
                    <a:pt x="291" y="240"/>
                    <a:pt x="291" y="240"/>
                    <a:pt x="291" y="240"/>
                  </a:cubicBezTo>
                  <a:cubicBezTo>
                    <a:pt x="291" y="267"/>
                    <a:pt x="268" y="290"/>
                    <a:pt x="240" y="290"/>
                  </a:cubicBezTo>
                  <a:moveTo>
                    <a:pt x="51" y="8"/>
                  </a:moveTo>
                  <a:cubicBezTo>
                    <a:pt x="27" y="8"/>
                    <a:pt x="8" y="27"/>
                    <a:pt x="8" y="50"/>
                  </a:cubicBezTo>
                  <a:cubicBezTo>
                    <a:pt x="8" y="240"/>
                    <a:pt x="8" y="240"/>
                    <a:pt x="8" y="240"/>
                  </a:cubicBezTo>
                  <a:cubicBezTo>
                    <a:pt x="8" y="263"/>
                    <a:pt x="27" y="282"/>
                    <a:pt x="51" y="282"/>
                  </a:cubicBezTo>
                  <a:cubicBezTo>
                    <a:pt x="240" y="282"/>
                    <a:pt x="240" y="282"/>
                    <a:pt x="240" y="282"/>
                  </a:cubicBezTo>
                  <a:cubicBezTo>
                    <a:pt x="264" y="282"/>
                    <a:pt x="283" y="263"/>
                    <a:pt x="283" y="240"/>
                  </a:cubicBezTo>
                  <a:cubicBezTo>
                    <a:pt x="283" y="50"/>
                    <a:pt x="283" y="50"/>
                    <a:pt x="283" y="50"/>
                  </a:cubicBezTo>
                  <a:cubicBezTo>
                    <a:pt x="283" y="27"/>
                    <a:pt x="264" y="8"/>
                    <a:pt x="240" y="8"/>
                  </a:cubicBezTo>
                  <a:cubicBezTo>
                    <a:pt x="51" y="8"/>
                    <a:pt x="51" y="8"/>
                    <a:pt x="51" y="8"/>
                  </a:cubicBezTo>
                  <a:moveTo>
                    <a:pt x="229" y="263"/>
                  </a:moveTo>
                  <a:cubicBezTo>
                    <a:pt x="221" y="263"/>
                    <a:pt x="214" y="256"/>
                    <a:pt x="214" y="248"/>
                  </a:cubicBezTo>
                  <a:cubicBezTo>
                    <a:pt x="214" y="239"/>
                    <a:pt x="221" y="233"/>
                    <a:pt x="229" y="233"/>
                  </a:cubicBezTo>
                  <a:cubicBezTo>
                    <a:pt x="238" y="233"/>
                    <a:pt x="244" y="239"/>
                    <a:pt x="244" y="248"/>
                  </a:cubicBezTo>
                  <a:cubicBezTo>
                    <a:pt x="244" y="256"/>
                    <a:pt x="238" y="263"/>
                    <a:pt x="229" y="263"/>
                  </a:cubicBezTo>
                  <a:moveTo>
                    <a:pt x="229" y="241"/>
                  </a:moveTo>
                  <a:cubicBezTo>
                    <a:pt x="225" y="241"/>
                    <a:pt x="222" y="244"/>
                    <a:pt x="222" y="248"/>
                  </a:cubicBezTo>
                  <a:cubicBezTo>
                    <a:pt x="222" y="252"/>
                    <a:pt x="225" y="255"/>
                    <a:pt x="229" y="255"/>
                  </a:cubicBezTo>
                  <a:cubicBezTo>
                    <a:pt x="233" y="255"/>
                    <a:pt x="236" y="252"/>
                    <a:pt x="236" y="248"/>
                  </a:cubicBezTo>
                  <a:cubicBezTo>
                    <a:pt x="236" y="244"/>
                    <a:pt x="233" y="241"/>
                    <a:pt x="229" y="241"/>
                  </a:cubicBezTo>
                  <a:moveTo>
                    <a:pt x="186" y="263"/>
                  </a:moveTo>
                  <a:cubicBezTo>
                    <a:pt x="184" y="263"/>
                    <a:pt x="182" y="262"/>
                    <a:pt x="180" y="260"/>
                  </a:cubicBezTo>
                  <a:cubicBezTo>
                    <a:pt x="174" y="254"/>
                    <a:pt x="174" y="254"/>
                    <a:pt x="174" y="254"/>
                  </a:cubicBezTo>
                  <a:cubicBezTo>
                    <a:pt x="171" y="251"/>
                    <a:pt x="171" y="245"/>
                    <a:pt x="174" y="242"/>
                  </a:cubicBezTo>
                  <a:cubicBezTo>
                    <a:pt x="218" y="198"/>
                    <a:pt x="218" y="198"/>
                    <a:pt x="218" y="198"/>
                  </a:cubicBezTo>
                  <a:cubicBezTo>
                    <a:pt x="221" y="195"/>
                    <a:pt x="227" y="195"/>
                    <a:pt x="230" y="198"/>
                  </a:cubicBezTo>
                  <a:cubicBezTo>
                    <a:pt x="236" y="205"/>
                    <a:pt x="236" y="205"/>
                    <a:pt x="236" y="205"/>
                  </a:cubicBezTo>
                  <a:cubicBezTo>
                    <a:pt x="239" y="208"/>
                    <a:pt x="239" y="213"/>
                    <a:pt x="236" y="217"/>
                  </a:cubicBezTo>
                  <a:cubicBezTo>
                    <a:pt x="192" y="260"/>
                    <a:pt x="192" y="260"/>
                    <a:pt x="192" y="260"/>
                  </a:cubicBezTo>
                  <a:cubicBezTo>
                    <a:pt x="191" y="262"/>
                    <a:pt x="189" y="263"/>
                    <a:pt x="186" y="263"/>
                  </a:cubicBezTo>
                  <a:moveTo>
                    <a:pt x="224" y="204"/>
                  </a:moveTo>
                  <a:cubicBezTo>
                    <a:pt x="224" y="204"/>
                    <a:pt x="224" y="204"/>
                    <a:pt x="224" y="204"/>
                  </a:cubicBezTo>
                  <a:cubicBezTo>
                    <a:pt x="180" y="248"/>
                    <a:pt x="180" y="248"/>
                    <a:pt x="180" y="248"/>
                  </a:cubicBezTo>
                  <a:cubicBezTo>
                    <a:pt x="180" y="248"/>
                    <a:pt x="180" y="248"/>
                    <a:pt x="180" y="248"/>
                  </a:cubicBezTo>
                  <a:cubicBezTo>
                    <a:pt x="186" y="255"/>
                    <a:pt x="186" y="255"/>
                    <a:pt x="186" y="255"/>
                  </a:cubicBezTo>
                  <a:cubicBezTo>
                    <a:pt x="187" y="255"/>
                    <a:pt x="187" y="255"/>
                    <a:pt x="187" y="255"/>
                  </a:cubicBezTo>
                  <a:cubicBezTo>
                    <a:pt x="230" y="211"/>
                    <a:pt x="230" y="211"/>
                    <a:pt x="230" y="211"/>
                  </a:cubicBezTo>
                  <a:cubicBezTo>
                    <a:pt x="230" y="210"/>
                    <a:pt x="230" y="210"/>
                    <a:pt x="230" y="210"/>
                  </a:cubicBezTo>
                  <a:cubicBezTo>
                    <a:pt x="224" y="204"/>
                    <a:pt x="224" y="204"/>
                    <a:pt x="224" y="204"/>
                  </a:cubicBezTo>
                  <a:moveTo>
                    <a:pt x="105" y="263"/>
                  </a:moveTo>
                  <a:cubicBezTo>
                    <a:pt x="102" y="263"/>
                    <a:pt x="100" y="262"/>
                    <a:pt x="99" y="260"/>
                  </a:cubicBezTo>
                  <a:cubicBezTo>
                    <a:pt x="86" y="248"/>
                    <a:pt x="86" y="248"/>
                    <a:pt x="86" y="248"/>
                  </a:cubicBezTo>
                  <a:cubicBezTo>
                    <a:pt x="73" y="260"/>
                    <a:pt x="73" y="260"/>
                    <a:pt x="73" y="260"/>
                  </a:cubicBezTo>
                  <a:cubicBezTo>
                    <a:pt x="70" y="263"/>
                    <a:pt x="65" y="263"/>
                    <a:pt x="61" y="260"/>
                  </a:cubicBezTo>
                  <a:cubicBezTo>
                    <a:pt x="55" y="254"/>
                    <a:pt x="55" y="254"/>
                    <a:pt x="55" y="254"/>
                  </a:cubicBezTo>
                  <a:cubicBezTo>
                    <a:pt x="52" y="251"/>
                    <a:pt x="52" y="245"/>
                    <a:pt x="55" y="242"/>
                  </a:cubicBezTo>
                  <a:cubicBezTo>
                    <a:pt x="68" y="229"/>
                    <a:pt x="68" y="229"/>
                    <a:pt x="68" y="229"/>
                  </a:cubicBezTo>
                  <a:cubicBezTo>
                    <a:pt x="55" y="217"/>
                    <a:pt x="55" y="217"/>
                    <a:pt x="55" y="217"/>
                  </a:cubicBezTo>
                  <a:cubicBezTo>
                    <a:pt x="52" y="213"/>
                    <a:pt x="52" y="208"/>
                    <a:pt x="55" y="205"/>
                  </a:cubicBezTo>
                  <a:cubicBezTo>
                    <a:pt x="61" y="198"/>
                    <a:pt x="61" y="198"/>
                    <a:pt x="61" y="198"/>
                  </a:cubicBezTo>
                  <a:cubicBezTo>
                    <a:pt x="65" y="195"/>
                    <a:pt x="70" y="195"/>
                    <a:pt x="73" y="198"/>
                  </a:cubicBezTo>
                  <a:cubicBezTo>
                    <a:pt x="86" y="211"/>
                    <a:pt x="86" y="211"/>
                    <a:pt x="86" y="211"/>
                  </a:cubicBezTo>
                  <a:cubicBezTo>
                    <a:pt x="99" y="198"/>
                    <a:pt x="99" y="198"/>
                    <a:pt x="99" y="198"/>
                  </a:cubicBezTo>
                  <a:cubicBezTo>
                    <a:pt x="102" y="195"/>
                    <a:pt x="107" y="195"/>
                    <a:pt x="111" y="198"/>
                  </a:cubicBezTo>
                  <a:cubicBezTo>
                    <a:pt x="117" y="205"/>
                    <a:pt x="117" y="205"/>
                    <a:pt x="117" y="205"/>
                  </a:cubicBezTo>
                  <a:cubicBezTo>
                    <a:pt x="120" y="208"/>
                    <a:pt x="120" y="213"/>
                    <a:pt x="117" y="217"/>
                  </a:cubicBezTo>
                  <a:cubicBezTo>
                    <a:pt x="104" y="229"/>
                    <a:pt x="104" y="229"/>
                    <a:pt x="104" y="229"/>
                  </a:cubicBezTo>
                  <a:cubicBezTo>
                    <a:pt x="117" y="242"/>
                    <a:pt x="117" y="242"/>
                    <a:pt x="117" y="242"/>
                  </a:cubicBezTo>
                  <a:cubicBezTo>
                    <a:pt x="120" y="245"/>
                    <a:pt x="120" y="251"/>
                    <a:pt x="117" y="254"/>
                  </a:cubicBezTo>
                  <a:cubicBezTo>
                    <a:pt x="111" y="260"/>
                    <a:pt x="111" y="260"/>
                    <a:pt x="111" y="260"/>
                  </a:cubicBezTo>
                  <a:cubicBezTo>
                    <a:pt x="109" y="262"/>
                    <a:pt x="107" y="263"/>
                    <a:pt x="105" y="263"/>
                  </a:cubicBezTo>
                  <a:moveTo>
                    <a:pt x="68" y="204"/>
                  </a:moveTo>
                  <a:cubicBezTo>
                    <a:pt x="67" y="204"/>
                    <a:pt x="67" y="204"/>
                    <a:pt x="67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1" y="211"/>
                    <a:pt x="61" y="211"/>
                    <a:pt x="61" y="211"/>
                  </a:cubicBezTo>
                  <a:cubicBezTo>
                    <a:pt x="79" y="229"/>
                    <a:pt x="79" y="229"/>
                    <a:pt x="79" y="229"/>
                  </a:cubicBezTo>
                  <a:cubicBezTo>
                    <a:pt x="61" y="248"/>
                    <a:pt x="61" y="248"/>
                    <a:pt x="61" y="248"/>
                  </a:cubicBezTo>
                  <a:cubicBezTo>
                    <a:pt x="61" y="248"/>
                    <a:pt x="61" y="248"/>
                    <a:pt x="61" y="248"/>
                  </a:cubicBezTo>
                  <a:cubicBezTo>
                    <a:pt x="67" y="255"/>
                    <a:pt x="67" y="255"/>
                    <a:pt x="67" y="255"/>
                  </a:cubicBezTo>
                  <a:cubicBezTo>
                    <a:pt x="68" y="255"/>
                    <a:pt x="68" y="255"/>
                    <a:pt x="68" y="255"/>
                  </a:cubicBezTo>
                  <a:cubicBezTo>
                    <a:pt x="86" y="236"/>
                    <a:pt x="86" y="236"/>
                    <a:pt x="86" y="236"/>
                  </a:cubicBezTo>
                  <a:cubicBezTo>
                    <a:pt x="104" y="255"/>
                    <a:pt x="104" y="255"/>
                    <a:pt x="104" y="255"/>
                  </a:cubicBezTo>
                  <a:cubicBezTo>
                    <a:pt x="105" y="255"/>
                    <a:pt x="105" y="255"/>
                    <a:pt x="105" y="255"/>
                  </a:cubicBezTo>
                  <a:cubicBezTo>
                    <a:pt x="111" y="248"/>
                    <a:pt x="111" y="248"/>
                    <a:pt x="111" y="248"/>
                  </a:cubicBezTo>
                  <a:cubicBezTo>
                    <a:pt x="111" y="248"/>
                    <a:pt x="111" y="248"/>
                    <a:pt x="111" y="248"/>
                  </a:cubicBezTo>
                  <a:cubicBezTo>
                    <a:pt x="93" y="229"/>
                    <a:pt x="93" y="229"/>
                    <a:pt x="93" y="229"/>
                  </a:cubicBezTo>
                  <a:cubicBezTo>
                    <a:pt x="111" y="211"/>
                    <a:pt x="111" y="211"/>
                    <a:pt x="111" y="211"/>
                  </a:cubicBezTo>
                  <a:cubicBezTo>
                    <a:pt x="111" y="210"/>
                    <a:pt x="111" y="210"/>
                    <a:pt x="111" y="210"/>
                  </a:cubicBezTo>
                  <a:cubicBezTo>
                    <a:pt x="105" y="204"/>
                    <a:pt x="105" y="204"/>
                    <a:pt x="105" y="204"/>
                  </a:cubicBezTo>
                  <a:cubicBezTo>
                    <a:pt x="104" y="204"/>
                    <a:pt x="104" y="204"/>
                    <a:pt x="104" y="204"/>
                  </a:cubicBezTo>
                  <a:cubicBezTo>
                    <a:pt x="86" y="223"/>
                    <a:pt x="86" y="223"/>
                    <a:pt x="86" y="223"/>
                  </a:cubicBezTo>
                  <a:cubicBezTo>
                    <a:pt x="68" y="204"/>
                    <a:pt x="68" y="204"/>
                    <a:pt x="68" y="204"/>
                  </a:cubicBezTo>
                  <a:moveTo>
                    <a:pt x="181" y="226"/>
                  </a:moveTo>
                  <a:cubicBezTo>
                    <a:pt x="173" y="226"/>
                    <a:pt x="166" y="219"/>
                    <a:pt x="166" y="211"/>
                  </a:cubicBezTo>
                  <a:cubicBezTo>
                    <a:pt x="166" y="203"/>
                    <a:pt x="173" y="196"/>
                    <a:pt x="181" y="196"/>
                  </a:cubicBezTo>
                  <a:cubicBezTo>
                    <a:pt x="189" y="196"/>
                    <a:pt x="196" y="203"/>
                    <a:pt x="196" y="211"/>
                  </a:cubicBezTo>
                  <a:cubicBezTo>
                    <a:pt x="196" y="219"/>
                    <a:pt x="189" y="226"/>
                    <a:pt x="181" y="226"/>
                  </a:cubicBezTo>
                  <a:moveTo>
                    <a:pt x="181" y="204"/>
                  </a:moveTo>
                  <a:cubicBezTo>
                    <a:pt x="177" y="204"/>
                    <a:pt x="174" y="207"/>
                    <a:pt x="174" y="211"/>
                  </a:cubicBezTo>
                  <a:cubicBezTo>
                    <a:pt x="174" y="215"/>
                    <a:pt x="177" y="218"/>
                    <a:pt x="181" y="218"/>
                  </a:cubicBezTo>
                  <a:cubicBezTo>
                    <a:pt x="185" y="218"/>
                    <a:pt x="188" y="215"/>
                    <a:pt x="188" y="211"/>
                  </a:cubicBezTo>
                  <a:cubicBezTo>
                    <a:pt x="188" y="207"/>
                    <a:pt x="185" y="204"/>
                    <a:pt x="181" y="204"/>
                  </a:cubicBezTo>
                  <a:moveTo>
                    <a:pt x="90" y="186"/>
                  </a:moveTo>
                  <a:cubicBezTo>
                    <a:pt x="82" y="186"/>
                    <a:pt x="82" y="186"/>
                    <a:pt x="82" y="186"/>
                  </a:cubicBezTo>
                  <a:cubicBezTo>
                    <a:pt x="77" y="186"/>
                    <a:pt x="73" y="183"/>
                    <a:pt x="73" y="178"/>
                  </a:cubicBezTo>
                  <a:cubicBezTo>
                    <a:pt x="73" y="160"/>
                    <a:pt x="73" y="160"/>
                    <a:pt x="73" y="160"/>
                  </a:cubicBezTo>
                  <a:cubicBezTo>
                    <a:pt x="55" y="160"/>
                    <a:pt x="55" y="160"/>
                    <a:pt x="55" y="160"/>
                  </a:cubicBezTo>
                  <a:cubicBezTo>
                    <a:pt x="51" y="160"/>
                    <a:pt x="47" y="156"/>
                    <a:pt x="47" y="152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38"/>
                    <a:pt x="51" y="134"/>
                    <a:pt x="55" y="134"/>
                  </a:cubicBezTo>
                  <a:cubicBezTo>
                    <a:pt x="73" y="134"/>
                    <a:pt x="73" y="134"/>
                    <a:pt x="73" y="134"/>
                  </a:cubicBezTo>
                  <a:cubicBezTo>
                    <a:pt x="73" y="116"/>
                    <a:pt x="73" y="116"/>
                    <a:pt x="73" y="116"/>
                  </a:cubicBezTo>
                  <a:cubicBezTo>
                    <a:pt x="73" y="112"/>
                    <a:pt x="77" y="108"/>
                    <a:pt x="82" y="108"/>
                  </a:cubicBezTo>
                  <a:cubicBezTo>
                    <a:pt x="90" y="108"/>
                    <a:pt x="90" y="108"/>
                    <a:pt x="90" y="108"/>
                  </a:cubicBezTo>
                  <a:cubicBezTo>
                    <a:pt x="95" y="108"/>
                    <a:pt x="99" y="112"/>
                    <a:pt x="99" y="116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117" y="134"/>
                    <a:pt x="117" y="134"/>
                    <a:pt x="117" y="134"/>
                  </a:cubicBezTo>
                  <a:cubicBezTo>
                    <a:pt x="122" y="134"/>
                    <a:pt x="125" y="138"/>
                    <a:pt x="125" y="143"/>
                  </a:cubicBezTo>
                  <a:cubicBezTo>
                    <a:pt x="125" y="152"/>
                    <a:pt x="125" y="152"/>
                    <a:pt x="125" y="152"/>
                  </a:cubicBezTo>
                  <a:cubicBezTo>
                    <a:pt x="125" y="156"/>
                    <a:pt x="122" y="160"/>
                    <a:pt x="117" y="160"/>
                  </a:cubicBezTo>
                  <a:cubicBezTo>
                    <a:pt x="99" y="160"/>
                    <a:pt x="99" y="160"/>
                    <a:pt x="99" y="160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9" y="183"/>
                    <a:pt x="95" y="186"/>
                    <a:pt x="90" y="186"/>
                  </a:cubicBezTo>
                  <a:moveTo>
                    <a:pt x="55" y="142"/>
                  </a:moveTo>
                  <a:cubicBezTo>
                    <a:pt x="55" y="143"/>
                    <a:pt x="55" y="143"/>
                    <a:pt x="55" y="143"/>
                  </a:cubicBezTo>
                  <a:cubicBezTo>
                    <a:pt x="55" y="152"/>
                    <a:pt x="55" y="152"/>
                    <a:pt x="55" y="152"/>
                  </a:cubicBezTo>
                  <a:cubicBezTo>
                    <a:pt x="55" y="152"/>
                    <a:pt x="55" y="152"/>
                    <a:pt x="55" y="152"/>
                  </a:cubicBezTo>
                  <a:cubicBezTo>
                    <a:pt x="81" y="152"/>
                    <a:pt x="81" y="152"/>
                    <a:pt x="81" y="152"/>
                  </a:cubicBezTo>
                  <a:cubicBezTo>
                    <a:pt x="81" y="178"/>
                    <a:pt x="81" y="178"/>
                    <a:pt x="81" y="178"/>
                  </a:cubicBezTo>
                  <a:cubicBezTo>
                    <a:pt x="82" y="178"/>
                    <a:pt x="82" y="178"/>
                    <a:pt x="82" y="178"/>
                  </a:cubicBezTo>
                  <a:cubicBezTo>
                    <a:pt x="90" y="178"/>
                    <a:pt x="90" y="178"/>
                    <a:pt x="90" y="178"/>
                  </a:cubicBezTo>
                  <a:cubicBezTo>
                    <a:pt x="91" y="178"/>
                    <a:pt x="91" y="178"/>
                    <a:pt x="91" y="178"/>
                  </a:cubicBezTo>
                  <a:cubicBezTo>
                    <a:pt x="91" y="152"/>
                    <a:pt x="91" y="152"/>
                    <a:pt x="91" y="152"/>
                  </a:cubicBezTo>
                  <a:cubicBezTo>
                    <a:pt x="117" y="152"/>
                    <a:pt x="117" y="152"/>
                    <a:pt x="117" y="152"/>
                  </a:cubicBezTo>
                  <a:cubicBezTo>
                    <a:pt x="117" y="152"/>
                    <a:pt x="117" y="152"/>
                    <a:pt x="117" y="152"/>
                  </a:cubicBezTo>
                  <a:cubicBezTo>
                    <a:pt x="117" y="143"/>
                    <a:pt x="117" y="143"/>
                    <a:pt x="117" y="143"/>
                  </a:cubicBezTo>
                  <a:cubicBezTo>
                    <a:pt x="117" y="142"/>
                    <a:pt x="117" y="142"/>
                    <a:pt x="117" y="142"/>
                  </a:cubicBezTo>
                  <a:cubicBezTo>
                    <a:pt x="91" y="142"/>
                    <a:pt x="91" y="142"/>
                    <a:pt x="91" y="142"/>
                  </a:cubicBezTo>
                  <a:cubicBezTo>
                    <a:pt x="91" y="116"/>
                    <a:pt x="91" y="116"/>
                    <a:pt x="91" y="116"/>
                  </a:cubicBezTo>
                  <a:cubicBezTo>
                    <a:pt x="90" y="116"/>
                    <a:pt x="90" y="116"/>
                    <a:pt x="90" y="116"/>
                  </a:cubicBezTo>
                  <a:cubicBezTo>
                    <a:pt x="82" y="116"/>
                    <a:pt x="82" y="116"/>
                    <a:pt x="82" y="116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1" y="142"/>
                    <a:pt x="81" y="142"/>
                    <a:pt x="81" y="142"/>
                  </a:cubicBezTo>
                  <a:cubicBezTo>
                    <a:pt x="55" y="142"/>
                    <a:pt x="55" y="142"/>
                    <a:pt x="55" y="142"/>
                  </a:cubicBezTo>
                  <a:moveTo>
                    <a:pt x="236" y="160"/>
                  </a:moveTo>
                  <a:cubicBezTo>
                    <a:pt x="174" y="160"/>
                    <a:pt x="174" y="160"/>
                    <a:pt x="174" y="160"/>
                  </a:cubicBezTo>
                  <a:cubicBezTo>
                    <a:pt x="170" y="160"/>
                    <a:pt x="166" y="156"/>
                    <a:pt x="166" y="152"/>
                  </a:cubicBezTo>
                  <a:cubicBezTo>
                    <a:pt x="166" y="143"/>
                    <a:pt x="166" y="143"/>
                    <a:pt x="166" y="143"/>
                  </a:cubicBezTo>
                  <a:cubicBezTo>
                    <a:pt x="166" y="138"/>
                    <a:pt x="170" y="134"/>
                    <a:pt x="174" y="134"/>
                  </a:cubicBezTo>
                  <a:cubicBezTo>
                    <a:pt x="236" y="134"/>
                    <a:pt x="236" y="134"/>
                    <a:pt x="236" y="134"/>
                  </a:cubicBezTo>
                  <a:cubicBezTo>
                    <a:pt x="241" y="134"/>
                    <a:pt x="244" y="138"/>
                    <a:pt x="244" y="143"/>
                  </a:cubicBezTo>
                  <a:cubicBezTo>
                    <a:pt x="244" y="152"/>
                    <a:pt x="244" y="152"/>
                    <a:pt x="244" y="152"/>
                  </a:cubicBezTo>
                  <a:cubicBezTo>
                    <a:pt x="244" y="156"/>
                    <a:pt x="241" y="160"/>
                    <a:pt x="236" y="160"/>
                  </a:cubicBezTo>
                  <a:moveTo>
                    <a:pt x="174" y="142"/>
                  </a:moveTo>
                  <a:cubicBezTo>
                    <a:pt x="174" y="143"/>
                    <a:pt x="174" y="143"/>
                    <a:pt x="174" y="143"/>
                  </a:cubicBezTo>
                  <a:cubicBezTo>
                    <a:pt x="174" y="152"/>
                    <a:pt x="174" y="152"/>
                    <a:pt x="174" y="152"/>
                  </a:cubicBezTo>
                  <a:cubicBezTo>
                    <a:pt x="174" y="152"/>
                    <a:pt x="174" y="152"/>
                    <a:pt x="174" y="152"/>
                  </a:cubicBezTo>
                  <a:cubicBezTo>
                    <a:pt x="236" y="152"/>
                    <a:pt x="236" y="152"/>
                    <a:pt x="236" y="152"/>
                  </a:cubicBezTo>
                  <a:cubicBezTo>
                    <a:pt x="236" y="152"/>
                    <a:pt x="236" y="152"/>
                    <a:pt x="236" y="152"/>
                  </a:cubicBezTo>
                  <a:cubicBezTo>
                    <a:pt x="236" y="143"/>
                    <a:pt x="236" y="143"/>
                    <a:pt x="236" y="143"/>
                  </a:cubicBezTo>
                  <a:cubicBezTo>
                    <a:pt x="236" y="142"/>
                    <a:pt x="236" y="142"/>
                    <a:pt x="236" y="142"/>
                  </a:cubicBezTo>
                  <a:cubicBezTo>
                    <a:pt x="174" y="142"/>
                    <a:pt x="174" y="142"/>
                    <a:pt x="174" y="142"/>
                  </a:cubicBezTo>
                  <a:moveTo>
                    <a:pt x="243" y="94"/>
                  </a:moveTo>
                  <a:cubicBezTo>
                    <a:pt x="49" y="94"/>
                    <a:pt x="49" y="94"/>
                    <a:pt x="49" y="94"/>
                  </a:cubicBezTo>
                  <a:cubicBezTo>
                    <a:pt x="41" y="94"/>
                    <a:pt x="36" y="88"/>
                    <a:pt x="36" y="81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6" y="39"/>
                    <a:pt x="41" y="33"/>
                    <a:pt x="49" y="33"/>
                  </a:cubicBezTo>
                  <a:cubicBezTo>
                    <a:pt x="243" y="33"/>
                    <a:pt x="243" y="33"/>
                    <a:pt x="243" y="33"/>
                  </a:cubicBezTo>
                  <a:cubicBezTo>
                    <a:pt x="250" y="33"/>
                    <a:pt x="255" y="39"/>
                    <a:pt x="255" y="46"/>
                  </a:cubicBezTo>
                  <a:cubicBezTo>
                    <a:pt x="255" y="81"/>
                    <a:pt x="255" y="81"/>
                    <a:pt x="255" y="81"/>
                  </a:cubicBezTo>
                  <a:cubicBezTo>
                    <a:pt x="255" y="88"/>
                    <a:pt x="250" y="94"/>
                    <a:pt x="243" y="94"/>
                  </a:cubicBezTo>
                  <a:moveTo>
                    <a:pt x="49" y="41"/>
                  </a:moveTo>
                  <a:cubicBezTo>
                    <a:pt x="46" y="41"/>
                    <a:pt x="44" y="43"/>
                    <a:pt x="44" y="46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4"/>
                    <a:pt x="46" y="86"/>
                    <a:pt x="49" y="86"/>
                  </a:cubicBezTo>
                  <a:cubicBezTo>
                    <a:pt x="243" y="86"/>
                    <a:pt x="243" y="86"/>
                    <a:pt x="243" y="86"/>
                  </a:cubicBezTo>
                  <a:cubicBezTo>
                    <a:pt x="245" y="86"/>
                    <a:pt x="247" y="84"/>
                    <a:pt x="247" y="81"/>
                  </a:cubicBezTo>
                  <a:cubicBezTo>
                    <a:pt x="247" y="46"/>
                    <a:pt x="247" y="46"/>
                    <a:pt x="247" y="46"/>
                  </a:cubicBezTo>
                  <a:cubicBezTo>
                    <a:pt x="247" y="43"/>
                    <a:pt x="245" y="41"/>
                    <a:pt x="243" y="41"/>
                  </a:cubicBezTo>
                  <a:cubicBezTo>
                    <a:pt x="49" y="41"/>
                    <a:pt x="49" y="41"/>
                    <a:pt x="49" y="41"/>
                  </a:cubicBezTo>
                </a:path>
              </a:pathLst>
            </a:custGeom>
            <a:solidFill>
              <a:srgbClr val="37c8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19">
              <a:hlinkClick r:id="rId2"/>
            </p:cNvPr>
            <p:cNvSpPr/>
            <p:nvPr/>
          </p:nvSpPr>
          <p:spPr>
            <a:xfrm>
              <a:off x="7288200" y="2160360"/>
              <a:ext cx="2990880" cy="2427120"/>
            </a:xfrm>
            <a:custGeom>
              <a:avLst/>
              <a:gdLst/>
              <a:ahLst/>
              <a:rect l="l" t="t" r="r" b="b"/>
              <a:pathLst>
                <a:path w="796" h="646">
                  <a:moveTo>
                    <a:pt x="752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603"/>
                    <a:pt x="0" y="603"/>
                    <a:pt x="0" y="603"/>
                  </a:cubicBezTo>
                  <a:cubicBezTo>
                    <a:pt x="0" y="627"/>
                    <a:pt x="19" y="646"/>
                    <a:pt x="43" y="646"/>
                  </a:cubicBezTo>
                  <a:cubicBezTo>
                    <a:pt x="99" y="646"/>
                    <a:pt x="99" y="646"/>
                    <a:pt x="99" y="646"/>
                  </a:cubicBezTo>
                  <a:cubicBezTo>
                    <a:pt x="696" y="646"/>
                    <a:pt x="696" y="646"/>
                    <a:pt x="696" y="646"/>
                  </a:cubicBezTo>
                  <a:cubicBezTo>
                    <a:pt x="752" y="646"/>
                    <a:pt x="752" y="646"/>
                    <a:pt x="752" y="646"/>
                  </a:cubicBezTo>
                  <a:cubicBezTo>
                    <a:pt x="776" y="646"/>
                    <a:pt x="796" y="627"/>
                    <a:pt x="796" y="603"/>
                  </a:cubicBezTo>
                  <a:cubicBezTo>
                    <a:pt x="796" y="43"/>
                    <a:pt x="796" y="43"/>
                    <a:pt x="796" y="43"/>
                  </a:cubicBezTo>
                  <a:cubicBezTo>
                    <a:pt x="796" y="19"/>
                    <a:pt x="776" y="0"/>
                    <a:pt x="752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20"/>
            <p:cNvSpPr/>
            <p:nvPr/>
          </p:nvSpPr>
          <p:spPr>
            <a:xfrm>
              <a:off x="7829640" y="4587840"/>
              <a:ext cx="1968480" cy="604800"/>
            </a:xfrm>
            <a:custGeom>
              <a:avLst/>
              <a:gdLst/>
              <a:ahLst/>
              <a:rect l="l" t="t" r="r" b="b"/>
              <a:pathLst>
                <a:path w="524" h="161">
                  <a:moveTo>
                    <a:pt x="52" y="109"/>
                  </a:moveTo>
                  <a:cubicBezTo>
                    <a:pt x="7" y="109"/>
                    <a:pt x="7" y="109"/>
                    <a:pt x="7" y="109"/>
                  </a:cubicBezTo>
                  <a:cubicBezTo>
                    <a:pt x="16" y="129"/>
                    <a:pt x="31" y="145"/>
                    <a:pt x="51" y="154"/>
                  </a:cubicBezTo>
                  <a:cubicBezTo>
                    <a:pt x="52" y="154"/>
                    <a:pt x="52" y="154"/>
                    <a:pt x="52" y="154"/>
                  </a:cubicBezTo>
                  <a:cubicBezTo>
                    <a:pt x="54" y="154"/>
                    <a:pt x="56" y="152"/>
                    <a:pt x="56" y="149"/>
                  </a:cubicBezTo>
                  <a:cubicBezTo>
                    <a:pt x="56" y="114"/>
                    <a:pt x="56" y="114"/>
                    <a:pt x="56" y="114"/>
                  </a:cubicBezTo>
                  <a:cubicBezTo>
                    <a:pt x="56" y="111"/>
                    <a:pt x="54" y="109"/>
                    <a:pt x="52" y="109"/>
                  </a:cubicBezTo>
                  <a:moveTo>
                    <a:pt x="49" y="76"/>
                  </a:moveTo>
                  <a:cubicBezTo>
                    <a:pt x="0" y="76"/>
                    <a:pt x="0" y="76"/>
                    <a:pt x="0" y="76"/>
                  </a:cubicBezTo>
                  <a:cubicBezTo>
                    <a:pt x="0" y="84"/>
                    <a:pt x="2" y="93"/>
                    <a:pt x="4" y="101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59" y="101"/>
                    <a:pt x="64" y="107"/>
                    <a:pt x="64" y="114"/>
                  </a:cubicBezTo>
                  <a:cubicBezTo>
                    <a:pt x="64" y="149"/>
                    <a:pt x="64" y="149"/>
                    <a:pt x="64" y="149"/>
                  </a:cubicBezTo>
                  <a:cubicBezTo>
                    <a:pt x="64" y="152"/>
                    <a:pt x="63" y="155"/>
                    <a:pt x="61" y="158"/>
                  </a:cubicBezTo>
                  <a:cubicBezTo>
                    <a:pt x="69" y="160"/>
                    <a:pt x="78" y="161"/>
                    <a:pt x="86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92" y="118"/>
                    <a:pt x="92" y="118"/>
                    <a:pt x="92" y="118"/>
                  </a:cubicBezTo>
                  <a:cubicBezTo>
                    <a:pt x="92" y="95"/>
                    <a:pt x="73" y="76"/>
                    <a:pt x="49" y="76"/>
                  </a:cubicBezTo>
                  <a:moveTo>
                    <a:pt x="3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9" y="68"/>
                    <a:pt x="49" y="68"/>
                    <a:pt x="49" y="68"/>
                  </a:cubicBezTo>
                  <a:cubicBezTo>
                    <a:pt x="77" y="68"/>
                    <a:pt x="100" y="90"/>
                    <a:pt x="100" y="118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312" y="161"/>
                    <a:pt x="312" y="161"/>
                    <a:pt x="312" y="161"/>
                  </a:cubicBezTo>
                  <a:cubicBezTo>
                    <a:pt x="312" y="0"/>
                    <a:pt x="312" y="0"/>
                    <a:pt x="312" y="0"/>
                  </a:cubicBezTo>
                  <a:moveTo>
                    <a:pt x="379" y="0"/>
                  </a:moveTo>
                  <a:cubicBezTo>
                    <a:pt x="324" y="0"/>
                    <a:pt x="324" y="0"/>
                    <a:pt x="324" y="0"/>
                  </a:cubicBezTo>
                  <a:cubicBezTo>
                    <a:pt x="324" y="161"/>
                    <a:pt x="324" y="161"/>
                    <a:pt x="324" y="161"/>
                  </a:cubicBezTo>
                  <a:cubicBezTo>
                    <a:pt x="438" y="161"/>
                    <a:pt x="438" y="161"/>
                    <a:pt x="438" y="161"/>
                  </a:cubicBezTo>
                  <a:cubicBezTo>
                    <a:pt x="475" y="161"/>
                    <a:pt x="507" y="138"/>
                    <a:pt x="519" y="105"/>
                  </a:cubicBezTo>
                  <a:cubicBezTo>
                    <a:pt x="379" y="105"/>
                    <a:pt x="379" y="105"/>
                    <a:pt x="379" y="105"/>
                  </a:cubicBezTo>
                  <a:cubicBezTo>
                    <a:pt x="379" y="0"/>
                    <a:pt x="379" y="0"/>
                    <a:pt x="379" y="0"/>
                  </a:cubicBezTo>
                  <a:moveTo>
                    <a:pt x="524" y="0"/>
                  </a:moveTo>
                  <a:cubicBezTo>
                    <a:pt x="391" y="0"/>
                    <a:pt x="391" y="0"/>
                    <a:pt x="391" y="0"/>
                  </a:cubicBezTo>
                  <a:cubicBezTo>
                    <a:pt x="391" y="93"/>
                    <a:pt x="391" y="93"/>
                    <a:pt x="391" y="93"/>
                  </a:cubicBezTo>
                  <a:cubicBezTo>
                    <a:pt x="522" y="93"/>
                    <a:pt x="522" y="93"/>
                    <a:pt x="522" y="93"/>
                  </a:cubicBezTo>
                  <a:cubicBezTo>
                    <a:pt x="524" y="87"/>
                    <a:pt x="524" y="82"/>
                    <a:pt x="524" y="75"/>
                  </a:cubicBezTo>
                  <a:cubicBezTo>
                    <a:pt x="524" y="0"/>
                    <a:pt x="524" y="0"/>
                    <a:pt x="524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21"/>
            <p:cNvSpPr/>
            <p:nvPr/>
          </p:nvSpPr>
          <p:spPr>
            <a:xfrm>
              <a:off x="9001080" y="4587840"/>
              <a:ext cx="788760" cy="604800"/>
            </a:xfrm>
            <a:custGeom>
              <a:avLst/>
              <a:gdLst/>
              <a:ahLst/>
              <a:rect l="l" t="t" r="r" b="b"/>
              <a:pathLst>
                <a:path w="210" h="161">
                  <a:moveTo>
                    <a:pt x="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2" y="161"/>
                    <a:pt x="12" y="161"/>
                    <a:pt x="12" y="161"/>
                  </a:cubicBezTo>
                  <a:cubicBezTo>
                    <a:pt x="12" y="0"/>
                    <a:pt x="12" y="0"/>
                    <a:pt x="12" y="0"/>
                  </a:cubicBezTo>
                  <a:moveTo>
                    <a:pt x="79" y="0"/>
                  </a:moveTo>
                  <a:cubicBezTo>
                    <a:pt x="67" y="0"/>
                    <a:pt x="67" y="0"/>
                    <a:pt x="67" y="0"/>
                  </a:cubicBezTo>
                  <a:cubicBezTo>
                    <a:pt x="67" y="105"/>
                    <a:pt x="67" y="105"/>
                    <a:pt x="67" y="105"/>
                  </a:cubicBezTo>
                  <a:cubicBezTo>
                    <a:pt x="207" y="105"/>
                    <a:pt x="207" y="105"/>
                    <a:pt x="207" y="105"/>
                  </a:cubicBezTo>
                  <a:cubicBezTo>
                    <a:pt x="208" y="101"/>
                    <a:pt x="210" y="97"/>
                    <a:pt x="210" y="93"/>
                  </a:cubicBezTo>
                  <a:cubicBezTo>
                    <a:pt x="79" y="93"/>
                    <a:pt x="79" y="93"/>
                    <a:pt x="79" y="93"/>
                  </a:cubicBezTo>
                  <a:cubicBezTo>
                    <a:pt x="79" y="0"/>
                    <a:pt x="79" y="0"/>
                    <a:pt x="79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7829640" y="4843440"/>
              <a:ext cx="374400" cy="349200"/>
            </a:xfrm>
            <a:custGeom>
              <a:avLst/>
              <a:gdLst/>
              <a:ahLst/>
              <a:rect l="l" t="t" r="r" b="b"/>
              <a:pathLst>
                <a:path w="100" h="93">
                  <a:moveTo>
                    <a:pt x="52" y="33"/>
                  </a:moveTo>
                  <a:cubicBezTo>
                    <a:pt x="4" y="33"/>
                    <a:pt x="4" y="33"/>
                    <a:pt x="4" y="33"/>
                  </a:cubicBezTo>
                  <a:cubicBezTo>
                    <a:pt x="5" y="36"/>
                    <a:pt x="6" y="38"/>
                    <a:pt x="7" y="41"/>
                  </a:cubicBezTo>
                  <a:cubicBezTo>
                    <a:pt x="52" y="41"/>
                    <a:pt x="52" y="41"/>
                    <a:pt x="52" y="41"/>
                  </a:cubicBezTo>
                  <a:cubicBezTo>
                    <a:pt x="54" y="41"/>
                    <a:pt x="56" y="43"/>
                    <a:pt x="56" y="46"/>
                  </a:cubicBezTo>
                  <a:cubicBezTo>
                    <a:pt x="56" y="81"/>
                    <a:pt x="56" y="81"/>
                    <a:pt x="56" y="81"/>
                  </a:cubicBezTo>
                  <a:cubicBezTo>
                    <a:pt x="56" y="84"/>
                    <a:pt x="54" y="86"/>
                    <a:pt x="52" y="86"/>
                  </a:cubicBezTo>
                  <a:cubicBezTo>
                    <a:pt x="51" y="86"/>
                    <a:pt x="51" y="86"/>
                    <a:pt x="51" y="86"/>
                  </a:cubicBezTo>
                  <a:cubicBezTo>
                    <a:pt x="54" y="87"/>
                    <a:pt x="58" y="89"/>
                    <a:pt x="61" y="90"/>
                  </a:cubicBezTo>
                  <a:cubicBezTo>
                    <a:pt x="63" y="87"/>
                    <a:pt x="64" y="84"/>
                    <a:pt x="64" y="81"/>
                  </a:cubicBezTo>
                  <a:cubicBezTo>
                    <a:pt x="64" y="46"/>
                    <a:pt x="64" y="46"/>
                    <a:pt x="64" y="46"/>
                  </a:cubicBezTo>
                  <a:cubicBezTo>
                    <a:pt x="64" y="39"/>
                    <a:pt x="59" y="33"/>
                    <a:pt x="52" y="33"/>
                  </a:cubicBezTo>
                  <a:moveTo>
                    <a:pt x="4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73" y="8"/>
                    <a:pt x="92" y="27"/>
                    <a:pt x="92" y="50"/>
                  </a:cubicBezTo>
                  <a:cubicBezTo>
                    <a:pt x="92" y="93"/>
                    <a:pt x="92" y="93"/>
                    <a:pt x="92" y="93"/>
                  </a:cubicBezTo>
                  <a:cubicBezTo>
                    <a:pt x="100" y="93"/>
                    <a:pt x="100" y="93"/>
                    <a:pt x="100" y="93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00" y="22"/>
                    <a:pt x="77" y="0"/>
                    <a:pt x="49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23"/>
            <p:cNvSpPr/>
            <p:nvPr/>
          </p:nvSpPr>
          <p:spPr>
            <a:xfrm>
              <a:off x="7829640" y="3840120"/>
              <a:ext cx="1968480" cy="747720"/>
            </a:xfrm>
            <a:custGeom>
              <a:avLst/>
              <a:gdLst/>
              <a:ahLst/>
              <a:rect l="l" t="t" r="r" b="b"/>
              <a:pathLst>
                <a:path w="524" h="199">
                  <a:moveTo>
                    <a:pt x="440" y="0"/>
                  </a:moveTo>
                  <a:cubicBezTo>
                    <a:pt x="85" y="0"/>
                    <a:pt x="85" y="0"/>
                    <a:pt x="85" y="0"/>
                  </a:cubicBezTo>
                  <a:cubicBezTo>
                    <a:pt x="44" y="0"/>
                    <a:pt x="10" y="28"/>
                    <a:pt x="1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312" y="199"/>
                    <a:pt x="312" y="199"/>
                    <a:pt x="312" y="199"/>
                  </a:cubicBezTo>
                  <a:cubicBezTo>
                    <a:pt x="324" y="199"/>
                    <a:pt x="324" y="199"/>
                    <a:pt x="324" y="199"/>
                  </a:cubicBezTo>
                  <a:cubicBezTo>
                    <a:pt x="379" y="199"/>
                    <a:pt x="379" y="199"/>
                    <a:pt x="379" y="199"/>
                  </a:cubicBezTo>
                  <a:cubicBezTo>
                    <a:pt x="391" y="199"/>
                    <a:pt x="391" y="199"/>
                    <a:pt x="391" y="199"/>
                  </a:cubicBezTo>
                  <a:cubicBezTo>
                    <a:pt x="524" y="199"/>
                    <a:pt x="524" y="199"/>
                    <a:pt x="524" y="199"/>
                  </a:cubicBezTo>
                  <a:cubicBezTo>
                    <a:pt x="524" y="131"/>
                    <a:pt x="524" y="131"/>
                    <a:pt x="524" y="131"/>
                  </a:cubicBezTo>
                  <a:cubicBezTo>
                    <a:pt x="524" y="128"/>
                    <a:pt x="524" y="128"/>
                    <a:pt x="524" y="128"/>
                  </a:cubicBezTo>
                  <a:cubicBezTo>
                    <a:pt x="524" y="66"/>
                    <a:pt x="524" y="66"/>
                    <a:pt x="524" y="66"/>
                  </a:cubicBezTo>
                  <a:cubicBezTo>
                    <a:pt x="524" y="66"/>
                    <a:pt x="524" y="66"/>
                    <a:pt x="524" y="66"/>
                  </a:cubicBezTo>
                  <a:cubicBezTo>
                    <a:pt x="524" y="66"/>
                    <a:pt x="524" y="66"/>
                    <a:pt x="524" y="66"/>
                  </a:cubicBezTo>
                  <a:cubicBezTo>
                    <a:pt x="524" y="65"/>
                    <a:pt x="524" y="65"/>
                    <a:pt x="524" y="65"/>
                  </a:cubicBezTo>
                  <a:cubicBezTo>
                    <a:pt x="524" y="65"/>
                    <a:pt x="524" y="65"/>
                    <a:pt x="524" y="65"/>
                  </a:cubicBezTo>
                  <a:cubicBezTo>
                    <a:pt x="515" y="28"/>
                    <a:pt x="481" y="0"/>
                    <a:pt x="440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24"/>
            <p:cNvSpPr/>
            <p:nvPr/>
          </p:nvSpPr>
          <p:spPr>
            <a:xfrm>
              <a:off x="9941040" y="2190600"/>
              <a:ext cx="374400" cy="2449440"/>
            </a:xfrm>
            <a:custGeom>
              <a:avLst/>
              <a:gdLst/>
              <a:ahLst/>
              <a:rect l="l" t="t" r="r" b="b"/>
              <a:pathLst>
                <a:path w="100" h="652">
                  <a:moveTo>
                    <a:pt x="71" y="0"/>
                  </a:moveTo>
                  <a:cubicBezTo>
                    <a:pt x="83" y="7"/>
                    <a:pt x="90" y="20"/>
                    <a:pt x="90" y="35"/>
                  </a:cubicBezTo>
                  <a:cubicBezTo>
                    <a:pt x="90" y="175"/>
                    <a:pt x="90" y="175"/>
                    <a:pt x="90" y="175"/>
                  </a:cubicBezTo>
                  <a:cubicBezTo>
                    <a:pt x="94" y="181"/>
                    <a:pt x="96" y="188"/>
                    <a:pt x="96" y="196"/>
                  </a:cubicBezTo>
                  <a:cubicBezTo>
                    <a:pt x="96" y="430"/>
                    <a:pt x="96" y="430"/>
                    <a:pt x="96" y="430"/>
                  </a:cubicBezTo>
                  <a:cubicBezTo>
                    <a:pt x="90" y="430"/>
                    <a:pt x="90" y="430"/>
                    <a:pt x="90" y="430"/>
                  </a:cubicBezTo>
                  <a:cubicBezTo>
                    <a:pt x="90" y="463"/>
                    <a:pt x="90" y="463"/>
                    <a:pt x="90" y="463"/>
                  </a:cubicBezTo>
                  <a:cubicBezTo>
                    <a:pt x="94" y="463"/>
                    <a:pt x="94" y="463"/>
                    <a:pt x="94" y="463"/>
                  </a:cubicBezTo>
                  <a:cubicBezTo>
                    <a:pt x="91" y="471"/>
                    <a:pt x="91" y="471"/>
                    <a:pt x="91" y="471"/>
                  </a:cubicBezTo>
                  <a:cubicBezTo>
                    <a:pt x="91" y="472"/>
                    <a:pt x="90" y="474"/>
                    <a:pt x="90" y="475"/>
                  </a:cubicBezTo>
                  <a:cubicBezTo>
                    <a:pt x="90" y="595"/>
                    <a:pt x="90" y="595"/>
                    <a:pt x="90" y="595"/>
                  </a:cubicBezTo>
                  <a:cubicBezTo>
                    <a:pt x="90" y="595"/>
                    <a:pt x="90" y="595"/>
                    <a:pt x="90" y="595"/>
                  </a:cubicBezTo>
                  <a:cubicBezTo>
                    <a:pt x="90" y="619"/>
                    <a:pt x="70" y="638"/>
                    <a:pt x="46" y="638"/>
                  </a:cubicBezTo>
                  <a:cubicBezTo>
                    <a:pt x="0" y="638"/>
                    <a:pt x="0" y="638"/>
                    <a:pt x="0" y="638"/>
                  </a:cubicBezTo>
                  <a:cubicBezTo>
                    <a:pt x="0" y="652"/>
                    <a:pt x="0" y="652"/>
                    <a:pt x="0" y="652"/>
                  </a:cubicBezTo>
                  <a:cubicBezTo>
                    <a:pt x="56" y="652"/>
                    <a:pt x="56" y="652"/>
                    <a:pt x="56" y="652"/>
                  </a:cubicBezTo>
                  <a:cubicBezTo>
                    <a:pt x="81" y="652"/>
                    <a:pt x="100" y="633"/>
                    <a:pt x="100" y="608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22"/>
                    <a:pt x="88" y="6"/>
                    <a:pt x="71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25"/>
            <p:cNvSpPr/>
            <p:nvPr/>
          </p:nvSpPr>
          <p:spPr>
            <a:xfrm>
              <a:off x="10279080" y="2847960"/>
              <a:ext cx="21960" cy="958680"/>
            </a:xfrm>
            <a:custGeom>
              <a:avLst/>
              <a:gdLst/>
              <a:ahLst/>
              <a:rect l="l" t="t" r="r" b="b"/>
              <a:pathLst>
                <a:path w="6" h="255">
                  <a:moveTo>
                    <a:pt x="0" y="0"/>
                  </a:moveTo>
                  <a:cubicBezTo>
                    <a:pt x="0" y="255"/>
                    <a:pt x="0" y="255"/>
                    <a:pt x="0" y="255"/>
                  </a:cubicBezTo>
                  <a:cubicBezTo>
                    <a:pt x="6" y="255"/>
                    <a:pt x="6" y="255"/>
                    <a:pt x="6" y="255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13"/>
                    <a:pt x="4" y="6"/>
                    <a:pt x="0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26"/>
            <p:cNvSpPr/>
            <p:nvPr/>
          </p:nvSpPr>
          <p:spPr>
            <a:xfrm>
              <a:off x="10279080" y="3930840"/>
              <a:ext cx="14040" cy="442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1"/>
                    <a:pt x="1" y="9"/>
                    <a:pt x="1" y="8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27"/>
            <p:cNvSpPr/>
            <p:nvPr/>
          </p:nvSpPr>
          <p:spPr>
            <a:xfrm>
              <a:off x="7288200" y="4425840"/>
              <a:ext cx="379080" cy="21420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0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38"/>
                    <a:pt x="19" y="57"/>
                    <a:pt x="44" y="57"/>
                  </a:cubicBezTo>
                  <a:cubicBezTo>
                    <a:pt x="101" y="57"/>
                    <a:pt x="101" y="57"/>
                    <a:pt x="101" y="57"/>
                  </a:cubicBezTo>
                  <a:cubicBezTo>
                    <a:pt x="101" y="43"/>
                    <a:pt x="101" y="43"/>
                    <a:pt x="101" y="43"/>
                  </a:cubicBezTo>
                  <a:cubicBezTo>
                    <a:pt x="99" y="43"/>
                    <a:pt x="99" y="43"/>
                    <a:pt x="99" y="43"/>
                  </a:cubicBezTo>
                  <a:cubicBezTo>
                    <a:pt x="43" y="43"/>
                    <a:pt x="43" y="43"/>
                    <a:pt x="43" y="43"/>
                  </a:cubicBezTo>
                  <a:cubicBezTo>
                    <a:pt x="19" y="43"/>
                    <a:pt x="0" y="24"/>
                    <a:pt x="0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28"/>
            <p:cNvSpPr/>
            <p:nvPr/>
          </p:nvSpPr>
          <p:spPr>
            <a:xfrm>
              <a:off x="7288200" y="2276280"/>
              <a:ext cx="2801880" cy="2311200"/>
            </a:xfrm>
            <a:custGeom>
              <a:avLst/>
              <a:gdLst/>
              <a:ahLst/>
              <a:rect l="l" t="t" r="r" b="b"/>
              <a:pathLst>
                <a:path w="746" h="615">
                  <a:moveTo>
                    <a:pt x="0" y="504"/>
                  </a:moveTo>
                  <a:cubicBezTo>
                    <a:pt x="0" y="504"/>
                    <a:pt x="0" y="504"/>
                    <a:pt x="0" y="504"/>
                  </a:cubicBezTo>
                  <a:cubicBezTo>
                    <a:pt x="0" y="572"/>
                    <a:pt x="0" y="572"/>
                    <a:pt x="0" y="572"/>
                  </a:cubicBezTo>
                  <a:cubicBezTo>
                    <a:pt x="0" y="596"/>
                    <a:pt x="19" y="615"/>
                    <a:pt x="43" y="615"/>
                  </a:cubicBezTo>
                  <a:cubicBezTo>
                    <a:pt x="99" y="615"/>
                    <a:pt x="99" y="615"/>
                    <a:pt x="99" y="615"/>
                  </a:cubicBezTo>
                  <a:cubicBezTo>
                    <a:pt x="101" y="615"/>
                    <a:pt x="101" y="615"/>
                    <a:pt x="101" y="615"/>
                  </a:cubicBezTo>
                  <a:cubicBezTo>
                    <a:pt x="101" y="579"/>
                    <a:pt x="101" y="579"/>
                    <a:pt x="101" y="579"/>
                  </a:cubicBezTo>
                  <a:cubicBezTo>
                    <a:pt x="99" y="579"/>
                    <a:pt x="99" y="579"/>
                    <a:pt x="99" y="579"/>
                  </a:cubicBezTo>
                  <a:cubicBezTo>
                    <a:pt x="99" y="615"/>
                    <a:pt x="99" y="615"/>
                    <a:pt x="99" y="615"/>
                  </a:cubicBezTo>
                  <a:cubicBezTo>
                    <a:pt x="43" y="615"/>
                    <a:pt x="43" y="615"/>
                    <a:pt x="43" y="615"/>
                  </a:cubicBezTo>
                  <a:cubicBezTo>
                    <a:pt x="19" y="615"/>
                    <a:pt x="0" y="596"/>
                    <a:pt x="0" y="572"/>
                  </a:cubicBezTo>
                  <a:cubicBezTo>
                    <a:pt x="0" y="504"/>
                    <a:pt x="0" y="504"/>
                    <a:pt x="0" y="504"/>
                  </a:cubicBezTo>
                  <a:moveTo>
                    <a:pt x="746" y="68"/>
                  </a:moveTo>
                  <a:cubicBezTo>
                    <a:pt x="49" y="68"/>
                    <a:pt x="49" y="68"/>
                    <a:pt x="49" y="68"/>
                  </a:cubicBezTo>
                  <a:cubicBezTo>
                    <a:pt x="49" y="566"/>
                    <a:pt x="49" y="566"/>
                    <a:pt x="49" y="566"/>
                  </a:cubicBezTo>
                  <a:cubicBezTo>
                    <a:pt x="50" y="566"/>
                    <a:pt x="50" y="566"/>
                    <a:pt x="50" y="566"/>
                  </a:cubicBezTo>
                  <a:cubicBezTo>
                    <a:pt x="50" y="75"/>
                    <a:pt x="50" y="75"/>
                    <a:pt x="50" y="75"/>
                  </a:cubicBezTo>
                  <a:cubicBezTo>
                    <a:pt x="746" y="75"/>
                    <a:pt x="746" y="75"/>
                    <a:pt x="746" y="75"/>
                  </a:cubicBezTo>
                  <a:cubicBezTo>
                    <a:pt x="746" y="68"/>
                    <a:pt x="746" y="68"/>
                    <a:pt x="746" y="68"/>
                  </a:cubicBezTo>
                  <a:moveTo>
                    <a:pt x="89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5"/>
                    <a:pt x="50" y="5"/>
                    <a:pt x="50" y="5"/>
                  </a:cubicBezTo>
                  <a:cubicBezTo>
                    <a:pt x="89" y="5"/>
                    <a:pt x="89" y="5"/>
                    <a:pt x="89" y="5"/>
                  </a:cubicBezTo>
                  <a:cubicBezTo>
                    <a:pt x="89" y="0"/>
                    <a:pt x="89" y="0"/>
                    <a:pt x="89" y="0"/>
                  </a:cubicBezTo>
                  <a:moveTo>
                    <a:pt x="746" y="0"/>
                  </a:moveTo>
                  <a:cubicBezTo>
                    <a:pt x="547" y="0"/>
                    <a:pt x="547" y="0"/>
                    <a:pt x="547" y="0"/>
                  </a:cubicBezTo>
                  <a:cubicBezTo>
                    <a:pt x="547" y="37"/>
                    <a:pt x="547" y="37"/>
                    <a:pt x="547" y="37"/>
                  </a:cubicBezTo>
                  <a:cubicBezTo>
                    <a:pt x="554" y="37"/>
                    <a:pt x="554" y="37"/>
                    <a:pt x="554" y="37"/>
                  </a:cubicBezTo>
                  <a:cubicBezTo>
                    <a:pt x="554" y="5"/>
                    <a:pt x="554" y="5"/>
                    <a:pt x="554" y="5"/>
                  </a:cubicBezTo>
                  <a:cubicBezTo>
                    <a:pt x="746" y="5"/>
                    <a:pt x="746" y="5"/>
                    <a:pt x="746" y="5"/>
                  </a:cubicBezTo>
                  <a:cubicBezTo>
                    <a:pt x="746" y="0"/>
                    <a:pt x="746" y="0"/>
                    <a:pt x="746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30"/>
            <p:cNvSpPr/>
            <p:nvPr/>
          </p:nvSpPr>
          <p:spPr>
            <a:xfrm>
              <a:off x="7829640" y="3840120"/>
              <a:ext cx="1904760" cy="241200"/>
            </a:xfrm>
            <a:custGeom>
              <a:avLst/>
              <a:gdLst/>
              <a:ahLst/>
              <a:rect l="l" t="t" r="r" b="b"/>
              <a:pathLst>
                <a:path w="507" h="64">
                  <a:moveTo>
                    <a:pt x="426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42" y="0"/>
                    <a:pt x="9" y="27"/>
                    <a:pt x="0" y="64"/>
                  </a:cubicBezTo>
                  <a:cubicBezTo>
                    <a:pt x="507" y="64"/>
                    <a:pt x="507" y="64"/>
                    <a:pt x="507" y="64"/>
                  </a:cubicBezTo>
                  <a:cubicBezTo>
                    <a:pt x="498" y="27"/>
                    <a:pt x="465" y="0"/>
                    <a:pt x="426" y="0"/>
                  </a:cubicBezTo>
                  <a:close/>
                </a:path>
              </a:pathLst>
            </a:custGeom>
            <a:solidFill>
              <a:srgbClr val="1b7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31">
              <a:hlinkClick r:id="rId3"/>
            </p:cNvPr>
            <p:cNvSpPr/>
            <p:nvPr/>
          </p:nvSpPr>
          <p:spPr>
            <a:xfrm>
              <a:off x="7829640" y="4318200"/>
              <a:ext cx="1904760" cy="833400"/>
            </a:xfrm>
            <a:custGeom>
              <a:avLst/>
              <a:gdLst/>
              <a:ahLst/>
              <a:rect l="l" t="t" r="r" b="b"/>
              <a:pathLst>
                <a:path w="507" h="222">
                  <a:moveTo>
                    <a:pt x="0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0" y="184"/>
                    <a:pt x="38" y="222"/>
                    <a:pt x="84" y="222"/>
                  </a:cubicBezTo>
                  <a:cubicBezTo>
                    <a:pt x="424" y="222"/>
                    <a:pt x="424" y="222"/>
                    <a:pt x="424" y="222"/>
                  </a:cubicBezTo>
                  <a:cubicBezTo>
                    <a:pt x="470" y="222"/>
                    <a:pt x="507" y="184"/>
                    <a:pt x="507" y="138"/>
                  </a:cubicBezTo>
                  <a:cubicBezTo>
                    <a:pt x="507" y="0"/>
                    <a:pt x="507" y="0"/>
                    <a:pt x="50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b7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32"/>
            <p:cNvSpPr/>
            <p:nvPr/>
          </p:nvSpPr>
          <p:spPr>
            <a:xfrm>
              <a:off x="8069400" y="4794120"/>
              <a:ext cx="357120" cy="117360"/>
            </a:xfrm>
            <a:custGeom>
              <a:avLst/>
              <a:gdLst/>
              <a:ahLst/>
              <a:rect l="l" t="t" r="r" b="b"/>
              <a:pathLst>
                <a:path w="95" h="31">
                  <a:moveTo>
                    <a:pt x="79" y="31"/>
                  </a:moveTo>
                  <a:cubicBezTo>
                    <a:pt x="16" y="31"/>
                    <a:pt x="16" y="31"/>
                    <a:pt x="16" y="31"/>
                  </a:cubicBezTo>
                  <a:cubicBezTo>
                    <a:pt x="7" y="31"/>
                    <a:pt x="0" y="24"/>
                    <a:pt x="0" y="15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79" y="0"/>
                    <a:pt x="79" y="0"/>
                    <a:pt x="79" y="0"/>
                  </a:cubicBezTo>
                  <a:cubicBezTo>
                    <a:pt x="88" y="0"/>
                    <a:pt x="95" y="7"/>
                    <a:pt x="95" y="15"/>
                  </a:cubicBezTo>
                  <a:cubicBezTo>
                    <a:pt x="95" y="24"/>
                    <a:pt x="88" y="31"/>
                    <a:pt x="7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33"/>
            <p:cNvSpPr/>
            <p:nvPr/>
          </p:nvSpPr>
          <p:spPr>
            <a:xfrm>
              <a:off x="8069400" y="4554720"/>
              <a:ext cx="830160" cy="120600"/>
            </a:xfrm>
            <a:custGeom>
              <a:avLst/>
              <a:gdLst/>
              <a:ahLst/>
              <a:rect l="l" t="t" r="r" b="b"/>
              <a:pathLst>
                <a:path w="221" h="32">
                  <a:moveTo>
                    <a:pt x="206" y="32"/>
                  </a:moveTo>
                  <a:cubicBezTo>
                    <a:pt x="16" y="32"/>
                    <a:pt x="16" y="32"/>
                    <a:pt x="16" y="32"/>
                  </a:cubicBezTo>
                  <a:cubicBezTo>
                    <a:pt x="7" y="32"/>
                    <a:pt x="0" y="25"/>
                    <a:pt x="0" y="16"/>
                  </a:cubicBezTo>
                  <a:cubicBezTo>
                    <a:pt x="0" y="7"/>
                    <a:pt x="7" y="0"/>
                    <a:pt x="16" y="0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14" y="0"/>
                    <a:pt x="221" y="7"/>
                    <a:pt x="221" y="16"/>
                  </a:cubicBezTo>
                  <a:cubicBezTo>
                    <a:pt x="221" y="25"/>
                    <a:pt x="214" y="32"/>
                    <a:pt x="206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34"/>
            <p:cNvSpPr/>
            <p:nvPr/>
          </p:nvSpPr>
          <p:spPr>
            <a:xfrm>
              <a:off x="7829640" y="4076640"/>
              <a:ext cx="1904760" cy="236520"/>
            </a:xfrm>
            <a:prstGeom prst="rect">
              <a:avLst/>
            </a:prstGeom>
            <a:solidFill>
              <a:srgbClr val="154b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35">
              <a:hlinkClick r:id="rId4"/>
            </p:cNvPr>
            <p:cNvSpPr/>
            <p:nvPr/>
          </p:nvSpPr>
          <p:spPr>
            <a:xfrm>
              <a:off x="7288200" y="2160360"/>
              <a:ext cx="2990880" cy="2427120"/>
            </a:xfrm>
            <a:custGeom>
              <a:avLst/>
              <a:gdLst/>
              <a:ahLst/>
              <a:rect l="l" t="t" r="r" b="b"/>
              <a:pathLst>
                <a:path w="796" h="646">
                  <a:moveTo>
                    <a:pt x="752" y="0"/>
                  </a:move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ubicBezTo>
                    <a:pt x="0" y="603"/>
                    <a:pt x="0" y="603"/>
                    <a:pt x="0" y="603"/>
                  </a:cubicBezTo>
                  <a:cubicBezTo>
                    <a:pt x="0" y="627"/>
                    <a:pt x="19" y="646"/>
                    <a:pt x="43" y="646"/>
                  </a:cubicBezTo>
                  <a:cubicBezTo>
                    <a:pt x="99" y="646"/>
                    <a:pt x="99" y="646"/>
                    <a:pt x="99" y="646"/>
                  </a:cubicBezTo>
                  <a:cubicBezTo>
                    <a:pt x="99" y="597"/>
                    <a:pt x="99" y="597"/>
                    <a:pt x="99" y="597"/>
                  </a:cubicBezTo>
                  <a:cubicBezTo>
                    <a:pt x="49" y="597"/>
                    <a:pt x="49" y="597"/>
                    <a:pt x="49" y="597"/>
                  </a:cubicBezTo>
                  <a:cubicBezTo>
                    <a:pt x="49" y="99"/>
                    <a:pt x="49" y="99"/>
                    <a:pt x="49" y="99"/>
                  </a:cubicBezTo>
                  <a:cubicBezTo>
                    <a:pt x="746" y="99"/>
                    <a:pt x="746" y="99"/>
                    <a:pt x="746" y="99"/>
                  </a:cubicBezTo>
                  <a:cubicBezTo>
                    <a:pt x="746" y="597"/>
                    <a:pt x="746" y="597"/>
                    <a:pt x="746" y="597"/>
                  </a:cubicBezTo>
                  <a:cubicBezTo>
                    <a:pt x="696" y="597"/>
                    <a:pt x="696" y="597"/>
                    <a:pt x="696" y="597"/>
                  </a:cubicBezTo>
                  <a:cubicBezTo>
                    <a:pt x="696" y="646"/>
                    <a:pt x="696" y="646"/>
                    <a:pt x="696" y="646"/>
                  </a:cubicBezTo>
                  <a:cubicBezTo>
                    <a:pt x="752" y="646"/>
                    <a:pt x="752" y="646"/>
                    <a:pt x="752" y="646"/>
                  </a:cubicBezTo>
                  <a:cubicBezTo>
                    <a:pt x="776" y="646"/>
                    <a:pt x="796" y="627"/>
                    <a:pt x="796" y="603"/>
                  </a:cubicBezTo>
                  <a:cubicBezTo>
                    <a:pt x="796" y="43"/>
                    <a:pt x="796" y="43"/>
                    <a:pt x="796" y="43"/>
                  </a:cubicBezTo>
                  <a:cubicBezTo>
                    <a:pt x="796" y="19"/>
                    <a:pt x="776" y="0"/>
                    <a:pt x="752" y="0"/>
                  </a:cubicBezTo>
                  <a:moveTo>
                    <a:pt x="89" y="68"/>
                  </a:moveTo>
                  <a:cubicBezTo>
                    <a:pt x="49" y="68"/>
                    <a:pt x="49" y="68"/>
                    <a:pt x="49" y="68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89" y="31"/>
                    <a:pt x="89" y="31"/>
                    <a:pt x="89" y="31"/>
                  </a:cubicBezTo>
                  <a:cubicBezTo>
                    <a:pt x="89" y="68"/>
                    <a:pt x="89" y="68"/>
                    <a:pt x="89" y="68"/>
                  </a:cubicBezTo>
                  <a:moveTo>
                    <a:pt x="746" y="68"/>
                  </a:moveTo>
                  <a:cubicBezTo>
                    <a:pt x="547" y="68"/>
                    <a:pt x="547" y="68"/>
                    <a:pt x="547" y="68"/>
                  </a:cubicBezTo>
                  <a:cubicBezTo>
                    <a:pt x="547" y="31"/>
                    <a:pt x="547" y="31"/>
                    <a:pt x="547" y="31"/>
                  </a:cubicBezTo>
                  <a:cubicBezTo>
                    <a:pt x="746" y="31"/>
                    <a:pt x="746" y="31"/>
                    <a:pt x="746" y="31"/>
                  </a:cubicBezTo>
                  <a:cubicBezTo>
                    <a:pt x="746" y="68"/>
                    <a:pt x="746" y="68"/>
                    <a:pt x="746" y="68"/>
                  </a:cubicBezTo>
                </a:path>
              </a:pathLst>
            </a:custGeom>
            <a:solidFill>
              <a:srgbClr val="c6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Rectangle 37"/>
            <p:cNvSpPr/>
            <p:nvPr/>
          </p:nvSpPr>
          <p:spPr>
            <a:xfrm>
              <a:off x="7829640" y="2784600"/>
              <a:ext cx="841320" cy="195120"/>
            </a:xfrm>
            <a:prstGeom prst="rect">
              <a:avLst/>
            </a:prstGeom>
            <a:solidFill>
              <a:srgbClr val="f76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38"/>
            <p:cNvSpPr/>
            <p:nvPr/>
          </p:nvSpPr>
          <p:spPr>
            <a:xfrm>
              <a:off x="7829640" y="3205080"/>
              <a:ext cx="841320" cy="195120"/>
            </a:xfrm>
            <a:prstGeom prst="rect">
              <a:avLst/>
            </a:prstGeom>
            <a:solidFill>
              <a:srgbClr val="97d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50"/>
            <p:cNvSpPr/>
            <p:nvPr/>
          </p:nvSpPr>
          <p:spPr>
            <a:xfrm>
              <a:off x="9966240" y="4818240"/>
              <a:ext cx="1341360" cy="747720"/>
            </a:xfrm>
            <a:custGeom>
              <a:avLst/>
              <a:gdLst/>
              <a:ahLst/>
              <a:rect l="l" t="t" r="r" b="b"/>
              <a:pathLst>
                <a:path w="357" h="199">
                  <a:moveTo>
                    <a:pt x="116" y="44"/>
                  </a:moveTo>
                  <a:cubicBezTo>
                    <a:pt x="2" y="44"/>
                    <a:pt x="2" y="44"/>
                    <a:pt x="2" y="44"/>
                  </a:cubicBezTo>
                  <a:cubicBezTo>
                    <a:pt x="6" y="57"/>
                    <a:pt x="19" y="67"/>
                    <a:pt x="33" y="67"/>
                  </a:cubicBezTo>
                  <a:cubicBezTo>
                    <a:pt x="53" y="67"/>
                    <a:pt x="53" y="67"/>
                    <a:pt x="53" y="67"/>
                  </a:cubicBezTo>
                  <a:cubicBezTo>
                    <a:pt x="80" y="166"/>
                    <a:pt x="80" y="166"/>
                    <a:pt x="80" y="166"/>
                  </a:cubicBezTo>
                  <a:cubicBezTo>
                    <a:pt x="168" y="166"/>
                    <a:pt x="168" y="166"/>
                    <a:pt x="168" y="166"/>
                  </a:cubicBezTo>
                  <a:cubicBezTo>
                    <a:pt x="168" y="133"/>
                    <a:pt x="168" y="133"/>
                    <a:pt x="168" y="133"/>
                  </a:cubicBezTo>
                  <a:cubicBezTo>
                    <a:pt x="140" y="133"/>
                    <a:pt x="140" y="133"/>
                    <a:pt x="140" y="133"/>
                  </a:cubicBezTo>
                  <a:cubicBezTo>
                    <a:pt x="116" y="44"/>
                    <a:pt x="116" y="44"/>
                    <a:pt x="116" y="44"/>
                  </a:cubicBezTo>
                  <a:moveTo>
                    <a:pt x="320" y="22"/>
                  </a:moveTo>
                  <a:cubicBezTo>
                    <a:pt x="306" y="22"/>
                    <a:pt x="292" y="32"/>
                    <a:pt x="288" y="47"/>
                  </a:cubicBezTo>
                  <a:cubicBezTo>
                    <a:pt x="255" y="133"/>
                    <a:pt x="255" y="133"/>
                    <a:pt x="255" y="133"/>
                  </a:cubicBezTo>
                  <a:cubicBezTo>
                    <a:pt x="180" y="133"/>
                    <a:pt x="180" y="133"/>
                    <a:pt x="180" y="133"/>
                  </a:cubicBezTo>
                  <a:cubicBezTo>
                    <a:pt x="180" y="178"/>
                    <a:pt x="180" y="178"/>
                    <a:pt x="180" y="178"/>
                  </a:cubicBezTo>
                  <a:cubicBezTo>
                    <a:pt x="83" y="178"/>
                    <a:pt x="83" y="178"/>
                    <a:pt x="83" y="178"/>
                  </a:cubicBezTo>
                  <a:cubicBezTo>
                    <a:pt x="85" y="182"/>
                    <a:pt x="87" y="185"/>
                    <a:pt x="89" y="187"/>
                  </a:cubicBezTo>
                  <a:cubicBezTo>
                    <a:pt x="89" y="187"/>
                    <a:pt x="89" y="187"/>
                    <a:pt x="89" y="187"/>
                  </a:cubicBezTo>
                  <a:cubicBezTo>
                    <a:pt x="90" y="188"/>
                    <a:pt x="90" y="188"/>
                    <a:pt x="90" y="188"/>
                  </a:cubicBezTo>
                  <a:cubicBezTo>
                    <a:pt x="96" y="195"/>
                    <a:pt x="105" y="199"/>
                    <a:pt x="115" y="199"/>
                  </a:cubicBezTo>
                  <a:cubicBezTo>
                    <a:pt x="276" y="199"/>
                    <a:pt x="276" y="199"/>
                    <a:pt x="276" y="199"/>
                  </a:cubicBezTo>
                  <a:cubicBezTo>
                    <a:pt x="284" y="199"/>
                    <a:pt x="290" y="197"/>
                    <a:pt x="296" y="193"/>
                  </a:cubicBezTo>
                  <a:cubicBezTo>
                    <a:pt x="303" y="189"/>
                    <a:pt x="308" y="182"/>
                    <a:pt x="312" y="172"/>
                  </a:cubicBezTo>
                  <a:cubicBezTo>
                    <a:pt x="353" y="64"/>
                    <a:pt x="353" y="64"/>
                    <a:pt x="353" y="64"/>
                  </a:cubicBezTo>
                  <a:cubicBezTo>
                    <a:pt x="357" y="46"/>
                    <a:pt x="347" y="28"/>
                    <a:pt x="329" y="24"/>
                  </a:cubicBezTo>
                  <a:cubicBezTo>
                    <a:pt x="326" y="23"/>
                    <a:pt x="323" y="22"/>
                    <a:pt x="320" y="22"/>
                  </a:cubicBezTo>
                  <a:moveTo>
                    <a:pt x="77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15" y="0"/>
                    <a:pt x="1" y="14"/>
                    <a:pt x="0" y="32"/>
                  </a:cubicBezTo>
                  <a:cubicBezTo>
                    <a:pt x="112" y="32"/>
                    <a:pt x="112" y="32"/>
                    <a:pt x="112" y="32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1" y="25"/>
                    <a:pt x="109" y="21"/>
                    <a:pt x="107" y="18"/>
                  </a:cubicBezTo>
                  <a:cubicBezTo>
                    <a:pt x="101" y="8"/>
                    <a:pt x="90" y="0"/>
                    <a:pt x="77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51"/>
            <p:cNvSpPr/>
            <p:nvPr/>
          </p:nvSpPr>
          <p:spPr>
            <a:xfrm>
              <a:off x="9966240" y="4937040"/>
              <a:ext cx="676080" cy="549000"/>
            </a:xfrm>
            <a:custGeom>
              <a:avLst/>
              <a:gdLst/>
              <a:ahLst/>
              <a:rect l="l" t="t" r="r" b="b"/>
              <a:pathLst>
                <a:path w="180" h="146">
                  <a:moveTo>
                    <a:pt x="180" y="101"/>
                  </a:moveTo>
                  <a:cubicBezTo>
                    <a:pt x="168" y="101"/>
                    <a:pt x="168" y="101"/>
                    <a:pt x="168" y="101"/>
                  </a:cubicBezTo>
                  <a:cubicBezTo>
                    <a:pt x="168" y="134"/>
                    <a:pt x="168" y="134"/>
                    <a:pt x="168" y="134"/>
                  </a:cubicBezTo>
                  <a:cubicBezTo>
                    <a:pt x="80" y="134"/>
                    <a:pt x="80" y="134"/>
                    <a:pt x="80" y="134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3"/>
                    <a:pt x="83" y="145"/>
                    <a:pt x="83" y="146"/>
                  </a:cubicBezTo>
                  <a:cubicBezTo>
                    <a:pt x="180" y="146"/>
                    <a:pt x="180" y="146"/>
                    <a:pt x="180" y="146"/>
                  </a:cubicBezTo>
                  <a:cubicBezTo>
                    <a:pt x="180" y="101"/>
                    <a:pt x="180" y="101"/>
                    <a:pt x="180" y="101"/>
                  </a:cubicBezTo>
                  <a:moveTo>
                    <a:pt x="11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5"/>
                    <a:pt x="1" y="9"/>
                    <a:pt x="2" y="12"/>
                  </a:cubicBezTo>
                  <a:cubicBezTo>
                    <a:pt x="116" y="12"/>
                    <a:pt x="116" y="12"/>
                    <a:pt x="116" y="12"/>
                  </a:cubicBezTo>
                  <a:cubicBezTo>
                    <a:pt x="112" y="0"/>
                    <a:pt x="112" y="0"/>
                    <a:pt x="112" y="0"/>
                  </a:cubicBezTo>
                </a:path>
              </a:pathLst>
            </a:custGeom>
            <a:solidFill>
              <a:srgbClr val="0a8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Oval 52"/>
            <p:cNvSpPr/>
            <p:nvPr/>
          </p:nvSpPr>
          <p:spPr>
            <a:xfrm>
              <a:off x="10298160" y="5648400"/>
              <a:ext cx="333360" cy="334800"/>
            </a:xfrm>
            <a:prstGeom prst="ellipse">
              <a:avLst/>
            </a:pr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Oval 53"/>
            <p:cNvSpPr/>
            <p:nvPr/>
          </p:nvSpPr>
          <p:spPr>
            <a:xfrm>
              <a:off x="10796760" y="5648400"/>
              <a:ext cx="331560" cy="334800"/>
            </a:xfrm>
            <a:prstGeom prst="ellipse">
              <a:avLst/>
            </a:pr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9966240" y="4818240"/>
              <a:ext cx="1280880" cy="714240"/>
            </a:xfrm>
            <a:custGeom>
              <a:avLst/>
              <a:gdLst/>
              <a:ahLst/>
              <a:rect l="l" t="t" r="r" b="b"/>
              <a:pathLst>
                <a:path w="341" h="190">
                  <a:moveTo>
                    <a:pt x="314" y="22"/>
                  </a:moveTo>
                  <a:cubicBezTo>
                    <a:pt x="297" y="18"/>
                    <a:pt x="280" y="28"/>
                    <a:pt x="275" y="45"/>
                  </a:cubicBezTo>
                  <a:cubicBezTo>
                    <a:pt x="243" y="127"/>
                    <a:pt x="243" y="127"/>
                    <a:pt x="243" y="127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5" y="24"/>
                    <a:pt x="104" y="20"/>
                    <a:pt x="102" y="18"/>
                  </a:cubicBezTo>
                  <a:cubicBezTo>
                    <a:pt x="97" y="7"/>
                    <a:pt x="86" y="0"/>
                    <a:pt x="74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14" y="0"/>
                    <a:pt x="0" y="14"/>
                    <a:pt x="0" y="32"/>
                  </a:cubicBezTo>
                  <a:cubicBezTo>
                    <a:pt x="0" y="49"/>
                    <a:pt x="14" y="64"/>
                    <a:pt x="32" y="64"/>
                  </a:cubicBezTo>
                  <a:cubicBezTo>
                    <a:pt x="51" y="64"/>
                    <a:pt x="51" y="64"/>
                    <a:pt x="51" y="64"/>
                  </a:cubicBezTo>
                  <a:cubicBezTo>
                    <a:pt x="78" y="166"/>
                    <a:pt x="78" y="166"/>
                    <a:pt x="78" y="166"/>
                  </a:cubicBezTo>
                  <a:cubicBezTo>
                    <a:pt x="79" y="171"/>
                    <a:pt x="82" y="175"/>
                    <a:pt x="85" y="179"/>
                  </a:cubicBezTo>
                  <a:cubicBezTo>
                    <a:pt x="85" y="179"/>
                    <a:pt x="85" y="179"/>
                    <a:pt x="85" y="179"/>
                  </a:cubicBezTo>
                  <a:cubicBezTo>
                    <a:pt x="86" y="180"/>
                    <a:pt x="86" y="180"/>
                    <a:pt x="86" y="180"/>
                  </a:cubicBezTo>
                  <a:cubicBezTo>
                    <a:pt x="92" y="186"/>
                    <a:pt x="100" y="190"/>
                    <a:pt x="109" y="190"/>
                  </a:cubicBezTo>
                  <a:cubicBezTo>
                    <a:pt x="264" y="190"/>
                    <a:pt x="264" y="190"/>
                    <a:pt x="264" y="190"/>
                  </a:cubicBezTo>
                  <a:cubicBezTo>
                    <a:pt x="271" y="190"/>
                    <a:pt x="277" y="188"/>
                    <a:pt x="282" y="184"/>
                  </a:cubicBezTo>
                  <a:cubicBezTo>
                    <a:pt x="290" y="180"/>
                    <a:pt x="294" y="173"/>
                    <a:pt x="298" y="165"/>
                  </a:cubicBezTo>
                  <a:cubicBezTo>
                    <a:pt x="336" y="61"/>
                    <a:pt x="336" y="61"/>
                    <a:pt x="336" y="61"/>
                  </a:cubicBezTo>
                  <a:cubicBezTo>
                    <a:pt x="341" y="44"/>
                    <a:pt x="331" y="27"/>
                    <a:pt x="314" y="22"/>
                  </a:cubicBezTo>
                  <a:close/>
                </a:path>
              </a:pathLst>
            </a:cu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Oval 55"/>
            <p:cNvSpPr/>
            <p:nvPr/>
          </p:nvSpPr>
          <p:spPr>
            <a:xfrm>
              <a:off x="10282320" y="5610240"/>
              <a:ext cx="318960" cy="320400"/>
            </a:xfrm>
            <a:prstGeom prst="ellips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56"/>
            <p:cNvSpPr/>
            <p:nvPr/>
          </p:nvSpPr>
          <p:spPr>
            <a:xfrm>
              <a:off x="10760040" y="5610240"/>
              <a:ext cx="314280" cy="320400"/>
            </a:xfrm>
            <a:prstGeom prst="ellipse">
              <a:avLst/>
            </a:prstGeom>
            <a:solidFill>
              <a:srgbClr val="fd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5" name="文本框 74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17538" y="17748"/>
                </a:moveTo>
                <a:lnTo>
                  <a:pt x="1319249" y="17748"/>
                </a:lnTo>
                <a:lnTo>
                  <a:pt x="1319249" y="61131"/>
                </a:lnTo>
                <a:lnTo>
                  <a:pt x="1070781" y="61131"/>
                </a:lnTo>
                <a:lnTo>
                  <a:pt x="1070781" y="177478"/>
                </a:lnTo>
                <a:lnTo>
                  <a:pt x="1319249" y="177478"/>
                </a:lnTo>
                <a:lnTo>
                  <a:pt x="1319249" y="384535"/>
                </a:lnTo>
                <a:lnTo>
                  <a:pt x="1017538" y="384535"/>
                </a:lnTo>
                <a:lnTo>
                  <a:pt x="1017538" y="341152"/>
                </a:lnTo>
                <a:lnTo>
                  <a:pt x="1267978" y="341152"/>
                </a:lnTo>
                <a:lnTo>
                  <a:pt x="1267978" y="220861"/>
                </a:lnTo>
                <a:lnTo>
                  <a:pt x="1017538" y="22086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6" name="组合 1"/>
          <p:cNvGrpSpPr/>
          <p:nvPr/>
        </p:nvGrpSpPr>
        <p:grpSpPr>
          <a:xfrm>
            <a:off x="8977320" y="2786040"/>
            <a:ext cx="949320" cy="944640"/>
            <a:chOff x="8977320" y="2786040"/>
            <a:chExt cx="949320" cy="944640"/>
          </a:xfrm>
        </p:grpSpPr>
        <p:sp>
          <p:nvSpPr>
            <p:cNvPr id="707" name="Freeform 29"/>
            <p:cNvSpPr/>
            <p:nvPr/>
          </p:nvSpPr>
          <p:spPr>
            <a:xfrm>
              <a:off x="8991360" y="2794680"/>
              <a:ext cx="935280" cy="93600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41" y="211"/>
                    <a:pt x="41" y="211"/>
                    <a:pt x="41" y="211"/>
                  </a:cubicBezTo>
                  <a:cubicBezTo>
                    <a:pt x="41" y="220"/>
                    <a:pt x="49" y="226"/>
                    <a:pt x="57" y="226"/>
                  </a:cubicBezTo>
                  <a:cubicBezTo>
                    <a:pt x="61" y="226"/>
                    <a:pt x="65" y="225"/>
                    <a:pt x="68" y="222"/>
                  </a:cubicBezTo>
                  <a:cubicBezTo>
                    <a:pt x="111" y="179"/>
                    <a:pt x="111" y="179"/>
                    <a:pt x="111" y="179"/>
                  </a:cubicBezTo>
                  <a:cubicBezTo>
                    <a:pt x="181" y="249"/>
                    <a:pt x="181" y="249"/>
                    <a:pt x="181" y="249"/>
                  </a:cubicBezTo>
                  <a:cubicBezTo>
                    <a:pt x="249" y="181"/>
                    <a:pt x="249" y="181"/>
                    <a:pt x="249" y="181"/>
                  </a:cubicBezTo>
                  <a:cubicBezTo>
                    <a:pt x="179" y="111"/>
                    <a:pt x="179" y="111"/>
                    <a:pt x="179" y="111"/>
                  </a:cubicBezTo>
                  <a:cubicBezTo>
                    <a:pt x="222" y="68"/>
                    <a:pt x="222" y="68"/>
                    <a:pt x="222" y="68"/>
                  </a:cubicBezTo>
                  <a:cubicBezTo>
                    <a:pt x="231" y="58"/>
                    <a:pt x="224" y="42"/>
                    <a:pt x="211" y="42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2db0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8977320" y="2786040"/>
              <a:ext cx="924120" cy="928080"/>
            </a:xfrm>
            <a:custGeom>
              <a:avLst/>
              <a:gdLst/>
              <a:ahLst/>
              <a:rect l="l" t="t" r="r" b="b"/>
              <a:pathLst>
                <a:path w="246" h="247">
                  <a:moveTo>
                    <a:pt x="208" y="41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41" y="208"/>
                    <a:pt x="41" y="208"/>
                    <a:pt x="41" y="208"/>
                  </a:cubicBezTo>
                  <a:cubicBezTo>
                    <a:pt x="41" y="222"/>
                    <a:pt x="58" y="229"/>
                    <a:pt x="67" y="219"/>
                  </a:cubicBezTo>
                  <a:cubicBezTo>
                    <a:pt x="110" y="177"/>
                    <a:pt x="110" y="177"/>
                    <a:pt x="110" y="177"/>
                  </a:cubicBezTo>
                  <a:cubicBezTo>
                    <a:pt x="179" y="247"/>
                    <a:pt x="179" y="247"/>
                    <a:pt x="179" y="247"/>
                  </a:cubicBezTo>
                  <a:cubicBezTo>
                    <a:pt x="246" y="179"/>
                    <a:pt x="246" y="179"/>
                    <a:pt x="246" y="179"/>
                  </a:cubicBezTo>
                  <a:cubicBezTo>
                    <a:pt x="177" y="110"/>
                    <a:pt x="177" y="110"/>
                    <a:pt x="177" y="110"/>
                  </a:cubicBezTo>
                  <a:cubicBezTo>
                    <a:pt x="219" y="68"/>
                    <a:pt x="219" y="68"/>
                    <a:pt x="219" y="68"/>
                  </a:cubicBezTo>
                  <a:cubicBezTo>
                    <a:pt x="229" y="58"/>
                    <a:pt x="222" y="41"/>
                    <a:pt x="208" y="41"/>
                  </a:cubicBezTo>
                  <a:close/>
                </a:path>
              </a:pathLst>
            </a:custGeom>
            <a:solidFill>
              <a:srgbClr val="bfc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Freeform 39"/>
          <p:cNvSpPr/>
          <p:nvPr/>
        </p:nvSpPr>
        <p:spPr>
          <a:xfrm>
            <a:off x="9582120" y="1760400"/>
            <a:ext cx="1017720" cy="898560"/>
          </a:xfrm>
          <a:custGeom>
            <a:avLst/>
            <a:gdLst/>
            <a:ahLst/>
            <a:rect l="l" t="t" r="r" b="b"/>
            <a:pathLst>
              <a:path w="271" h="239">
                <a:moveTo>
                  <a:pt x="122" y="134"/>
                </a:moveTo>
                <a:cubicBezTo>
                  <a:pt x="103" y="134"/>
                  <a:pt x="88" y="128"/>
                  <a:pt x="80" y="112"/>
                </a:cubicBezTo>
                <a:cubicBezTo>
                  <a:pt x="73" y="94"/>
                  <a:pt x="80" y="75"/>
                  <a:pt x="99" y="61"/>
                </a:cubicBezTo>
                <a:cubicBezTo>
                  <a:pt x="99" y="60"/>
                  <a:pt x="99" y="60"/>
                  <a:pt x="99" y="60"/>
                </a:cubicBezTo>
                <a:cubicBezTo>
                  <a:pt x="99" y="59"/>
                  <a:pt x="98" y="59"/>
                  <a:pt x="98" y="59"/>
                </a:cubicBezTo>
                <a:cubicBezTo>
                  <a:pt x="97" y="55"/>
                  <a:pt x="97" y="55"/>
                  <a:pt x="97" y="55"/>
                </a:cubicBezTo>
                <a:cubicBezTo>
                  <a:pt x="94" y="49"/>
                  <a:pt x="97" y="43"/>
                  <a:pt x="102" y="41"/>
                </a:cubicBezTo>
                <a:cubicBezTo>
                  <a:pt x="104" y="40"/>
                  <a:pt x="105" y="40"/>
                  <a:pt x="106" y="40"/>
                </a:cubicBezTo>
                <a:cubicBezTo>
                  <a:pt x="111" y="40"/>
                  <a:pt x="115" y="42"/>
                  <a:pt x="116" y="47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9" y="52"/>
                  <a:pt x="119" y="52"/>
                  <a:pt x="119" y="52"/>
                </a:cubicBezTo>
                <a:cubicBezTo>
                  <a:pt x="131" y="47"/>
                  <a:pt x="140" y="46"/>
                  <a:pt x="148" y="46"/>
                </a:cubicBezTo>
                <a:cubicBezTo>
                  <a:pt x="149" y="46"/>
                  <a:pt x="150" y="46"/>
                  <a:pt x="151" y="46"/>
                </a:cubicBezTo>
                <a:cubicBezTo>
                  <a:pt x="154" y="71"/>
                  <a:pt x="154" y="71"/>
                  <a:pt x="154" y="71"/>
                </a:cubicBezTo>
                <a:cubicBezTo>
                  <a:pt x="153" y="71"/>
                  <a:pt x="151" y="71"/>
                  <a:pt x="149" y="71"/>
                </a:cubicBezTo>
                <a:cubicBezTo>
                  <a:pt x="142" y="71"/>
                  <a:pt x="133" y="72"/>
                  <a:pt x="122" y="77"/>
                </a:cubicBezTo>
                <a:cubicBezTo>
                  <a:pt x="109" y="82"/>
                  <a:pt x="108" y="90"/>
                  <a:pt x="110" y="95"/>
                </a:cubicBezTo>
                <a:cubicBezTo>
                  <a:pt x="112" y="101"/>
                  <a:pt x="118" y="102"/>
                  <a:pt x="131" y="102"/>
                </a:cubicBezTo>
                <a:cubicBezTo>
                  <a:pt x="134" y="102"/>
                  <a:pt x="138" y="102"/>
                  <a:pt x="141" y="102"/>
                </a:cubicBezTo>
                <a:cubicBezTo>
                  <a:pt x="144" y="102"/>
                  <a:pt x="146" y="102"/>
                  <a:pt x="149" y="102"/>
                </a:cubicBezTo>
                <a:cubicBezTo>
                  <a:pt x="172" y="102"/>
                  <a:pt x="184" y="109"/>
                  <a:pt x="191" y="126"/>
                </a:cubicBezTo>
                <a:cubicBezTo>
                  <a:pt x="198" y="144"/>
                  <a:pt x="192" y="165"/>
                  <a:pt x="171" y="178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3" y="185"/>
                  <a:pt x="173" y="185"/>
                  <a:pt x="173" y="185"/>
                </a:cubicBezTo>
                <a:cubicBezTo>
                  <a:pt x="176" y="190"/>
                  <a:pt x="173" y="197"/>
                  <a:pt x="168" y="199"/>
                </a:cubicBezTo>
                <a:cubicBezTo>
                  <a:pt x="166" y="199"/>
                  <a:pt x="165" y="200"/>
                  <a:pt x="164" y="200"/>
                </a:cubicBezTo>
                <a:cubicBezTo>
                  <a:pt x="159" y="200"/>
                  <a:pt x="155" y="197"/>
                  <a:pt x="154" y="193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1" y="188"/>
                  <a:pt x="151" y="188"/>
                  <a:pt x="151" y="188"/>
                </a:cubicBezTo>
                <a:cubicBezTo>
                  <a:pt x="140" y="192"/>
                  <a:pt x="128" y="194"/>
                  <a:pt x="119" y="194"/>
                </a:cubicBezTo>
                <a:cubicBezTo>
                  <a:pt x="117" y="194"/>
                  <a:pt x="115" y="194"/>
                  <a:pt x="114" y="194"/>
                </a:cubicBezTo>
                <a:cubicBezTo>
                  <a:pt x="110" y="168"/>
                  <a:pt x="110" y="168"/>
                  <a:pt x="110" y="168"/>
                </a:cubicBezTo>
                <a:cubicBezTo>
                  <a:pt x="112" y="168"/>
                  <a:pt x="115" y="168"/>
                  <a:pt x="118" y="168"/>
                </a:cubicBezTo>
                <a:cubicBezTo>
                  <a:pt x="127" y="168"/>
                  <a:pt x="137" y="167"/>
                  <a:pt x="147" y="163"/>
                </a:cubicBezTo>
                <a:cubicBezTo>
                  <a:pt x="159" y="158"/>
                  <a:pt x="165" y="150"/>
                  <a:pt x="161" y="142"/>
                </a:cubicBezTo>
                <a:cubicBezTo>
                  <a:pt x="159" y="136"/>
                  <a:pt x="152" y="133"/>
                  <a:pt x="141" y="133"/>
                </a:cubicBezTo>
                <a:cubicBezTo>
                  <a:pt x="138" y="133"/>
                  <a:pt x="135" y="133"/>
                  <a:pt x="132" y="133"/>
                </a:cubicBezTo>
                <a:cubicBezTo>
                  <a:pt x="129" y="134"/>
                  <a:pt x="125" y="134"/>
                  <a:pt x="122" y="134"/>
                </a:cubicBezTo>
                <a:moveTo>
                  <a:pt x="135" y="0"/>
                </a:moveTo>
                <a:cubicBezTo>
                  <a:pt x="120" y="0"/>
                  <a:pt x="105" y="3"/>
                  <a:pt x="90" y="10"/>
                </a:cubicBezTo>
                <a:cubicBezTo>
                  <a:pt x="29" y="35"/>
                  <a:pt x="0" y="105"/>
                  <a:pt x="25" y="165"/>
                </a:cubicBezTo>
                <a:cubicBezTo>
                  <a:pt x="44" y="211"/>
                  <a:pt x="89" y="239"/>
                  <a:pt x="135" y="239"/>
                </a:cubicBezTo>
                <a:cubicBezTo>
                  <a:pt x="151" y="239"/>
                  <a:pt x="166" y="236"/>
                  <a:pt x="181" y="230"/>
                </a:cubicBezTo>
                <a:cubicBezTo>
                  <a:pt x="242" y="204"/>
                  <a:pt x="271" y="135"/>
                  <a:pt x="245" y="74"/>
                </a:cubicBezTo>
                <a:cubicBezTo>
                  <a:pt x="226" y="28"/>
                  <a:pt x="182" y="0"/>
                  <a:pt x="135" y="0"/>
                </a:cubicBezTo>
              </a:path>
            </a:pathLst>
          </a:custGeom>
          <a:solidFill>
            <a:srgbClr val="2db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63"/>
          <p:cNvGrpSpPr/>
          <p:nvPr/>
        </p:nvGrpSpPr>
        <p:grpSpPr>
          <a:xfrm>
            <a:off x="9578880" y="1703520"/>
            <a:ext cx="973080" cy="974520"/>
            <a:chOff x="9578880" y="1703520"/>
            <a:chExt cx="973080" cy="974520"/>
          </a:xfrm>
        </p:grpSpPr>
        <p:sp>
          <p:nvSpPr>
            <p:cNvPr id="711" name="Freeform 40"/>
            <p:cNvSpPr/>
            <p:nvPr/>
          </p:nvSpPr>
          <p:spPr>
            <a:xfrm>
              <a:off x="9578880" y="1703520"/>
              <a:ext cx="973080" cy="974520"/>
            </a:xfrm>
            <a:custGeom>
              <a:avLst/>
              <a:gdLst/>
              <a:ahLst/>
              <a:rect l="l" t="t" r="r" b="b"/>
              <a:pathLst>
                <a:path w="259" h="259">
                  <a:moveTo>
                    <a:pt x="235" y="86"/>
                  </a:moveTo>
                  <a:cubicBezTo>
                    <a:pt x="259" y="144"/>
                    <a:pt x="231" y="211"/>
                    <a:pt x="173" y="235"/>
                  </a:cubicBezTo>
                  <a:cubicBezTo>
                    <a:pt x="115" y="259"/>
                    <a:pt x="49" y="232"/>
                    <a:pt x="24" y="174"/>
                  </a:cubicBezTo>
                  <a:cubicBezTo>
                    <a:pt x="0" y="115"/>
                    <a:pt x="28" y="49"/>
                    <a:pt x="86" y="25"/>
                  </a:cubicBezTo>
                  <a:cubicBezTo>
                    <a:pt x="144" y="0"/>
                    <a:pt x="210" y="28"/>
                    <a:pt x="235" y="86"/>
                  </a:cubicBezTo>
                  <a:close/>
                </a:path>
              </a:pathLst>
            </a:custGeom>
            <a:solidFill>
              <a:srgbClr val="fe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1"/>
            <p:cNvSpPr/>
            <p:nvPr/>
          </p:nvSpPr>
          <p:spPr>
            <a:xfrm>
              <a:off x="9840600" y="1900080"/>
              <a:ext cx="450720" cy="58572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12" y="84"/>
                  </a:moveTo>
                  <a:cubicBezTo>
                    <a:pt x="105" y="66"/>
                    <a:pt x="92" y="60"/>
                    <a:pt x="65" y="61"/>
                  </a:cubicBezTo>
                  <a:cubicBezTo>
                    <a:pt x="46" y="62"/>
                    <a:pt x="38" y="61"/>
                    <a:pt x="35" y="54"/>
                  </a:cubicBezTo>
                  <a:cubicBezTo>
                    <a:pt x="33" y="49"/>
                    <a:pt x="35" y="42"/>
                    <a:pt x="47" y="37"/>
                  </a:cubicBezTo>
                  <a:cubicBezTo>
                    <a:pt x="61" y="31"/>
                    <a:pt x="72" y="31"/>
                    <a:pt x="78" y="32"/>
                  </a:cubicBezTo>
                  <a:cubicBezTo>
                    <a:pt x="74" y="7"/>
                    <a:pt x="74" y="7"/>
                    <a:pt x="74" y="7"/>
                  </a:cubicBezTo>
                  <a:cubicBezTo>
                    <a:pt x="66" y="7"/>
                    <a:pt x="56" y="8"/>
                    <a:pt x="43" y="1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9" y="3"/>
                    <a:pt x="33" y="0"/>
                    <a:pt x="28" y="2"/>
                  </a:cubicBezTo>
                  <a:cubicBezTo>
                    <a:pt x="23" y="5"/>
                    <a:pt x="20" y="11"/>
                    <a:pt x="22" y="16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20"/>
                    <a:pt x="24" y="20"/>
                    <a:pt x="24" y="21"/>
                  </a:cubicBezTo>
                  <a:cubicBezTo>
                    <a:pt x="25" y="22"/>
                    <a:pt x="25" y="22"/>
                    <a:pt x="25" y="22"/>
                  </a:cubicBezTo>
                  <a:cubicBezTo>
                    <a:pt x="6" y="35"/>
                    <a:pt x="0" y="53"/>
                    <a:pt x="7" y="70"/>
                  </a:cubicBezTo>
                  <a:cubicBezTo>
                    <a:pt x="15" y="89"/>
                    <a:pt x="33" y="93"/>
                    <a:pt x="56" y="91"/>
                  </a:cubicBezTo>
                  <a:cubicBezTo>
                    <a:pt x="73" y="90"/>
                    <a:pt x="81" y="92"/>
                    <a:pt x="84" y="99"/>
                  </a:cubicBezTo>
                  <a:cubicBezTo>
                    <a:pt x="87" y="107"/>
                    <a:pt x="82" y="114"/>
                    <a:pt x="70" y="119"/>
                  </a:cubicBezTo>
                  <a:cubicBezTo>
                    <a:pt x="58" y="124"/>
                    <a:pt x="45" y="125"/>
                    <a:pt x="35" y="124"/>
                  </a:cubicBezTo>
                  <a:cubicBezTo>
                    <a:pt x="39" y="149"/>
                    <a:pt x="39" y="149"/>
                    <a:pt x="39" y="149"/>
                  </a:cubicBezTo>
                  <a:cubicBezTo>
                    <a:pt x="48" y="150"/>
                    <a:pt x="62" y="148"/>
                    <a:pt x="75" y="143"/>
                  </a:cubicBezTo>
                  <a:cubicBezTo>
                    <a:pt x="76" y="146"/>
                    <a:pt x="76" y="146"/>
                    <a:pt x="76" y="146"/>
                  </a:cubicBezTo>
                  <a:cubicBezTo>
                    <a:pt x="76" y="146"/>
                    <a:pt x="76" y="146"/>
                    <a:pt x="76" y="146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9" y="153"/>
                    <a:pt x="85" y="156"/>
                    <a:pt x="90" y="154"/>
                  </a:cubicBezTo>
                  <a:cubicBezTo>
                    <a:pt x="95" y="151"/>
                    <a:pt x="98" y="145"/>
                    <a:pt x="96" y="140"/>
                  </a:cubicBezTo>
                  <a:cubicBezTo>
                    <a:pt x="95" y="138"/>
                    <a:pt x="95" y="138"/>
                    <a:pt x="95" y="138"/>
                  </a:cubicBezTo>
                  <a:cubicBezTo>
                    <a:pt x="95" y="138"/>
                    <a:pt x="95" y="138"/>
                    <a:pt x="95" y="138"/>
                  </a:cubicBezTo>
                  <a:cubicBezTo>
                    <a:pt x="93" y="134"/>
                    <a:pt x="93" y="134"/>
                    <a:pt x="93" y="134"/>
                  </a:cubicBezTo>
                  <a:cubicBezTo>
                    <a:pt x="114" y="121"/>
                    <a:pt x="120" y="101"/>
                    <a:pt x="112" y="84"/>
                  </a:cubicBezTo>
                  <a:close/>
                </a:path>
              </a:pathLst>
            </a:custGeom>
            <a:solidFill>
              <a:srgbClr val="f09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Freeform 42"/>
          <p:cNvSpPr/>
          <p:nvPr/>
        </p:nvSpPr>
        <p:spPr>
          <a:xfrm>
            <a:off x="6691320" y="3382920"/>
            <a:ext cx="789120" cy="898560"/>
          </a:xfrm>
          <a:custGeom>
            <a:avLst/>
            <a:gdLst/>
            <a:ahLst/>
            <a:rect l="l" t="t" r="r" b="b"/>
            <a:pathLst>
              <a:path w="210" h="239">
                <a:moveTo>
                  <a:pt x="123" y="134"/>
                </a:moveTo>
                <a:cubicBezTo>
                  <a:pt x="103" y="134"/>
                  <a:pt x="88" y="129"/>
                  <a:pt x="81" y="112"/>
                </a:cubicBezTo>
                <a:cubicBezTo>
                  <a:pt x="73" y="94"/>
                  <a:pt x="80" y="75"/>
                  <a:pt x="100" y="62"/>
                </a:cubicBezTo>
                <a:cubicBezTo>
                  <a:pt x="99" y="60"/>
                  <a:pt x="99" y="60"/>
                  <a:pt x="99" y="60"/>
                </a:cubicBezTo>
                <a:cubicBezTo>
                  <a:pt x="99" y="60"/>
                  <a:pt x="99" y="59"/>
                  <a:pt x="99" y="59"/>
                </a:cubicBezTo>
                <a:cubicBezTo>
                  <a:pt x="97" y="55"/>
                  <a:pt x="97" y="55"/>
                  <a:pt x="97" y="55"/>
                </a:cubicBezTo>
                <a:cubicBezTo>
                  <a:pt x="95" y="49"/>
                  <a:pt x="97" y="43"/>
                  <a:pt x="103" y="41"/>
                </a:cubicBezTo>
                <a:cubicBezTo>
                  <a:pt x="104" y="40"/>
                  <a:pt x="105" y="40"/>
                  <a:pt x="107" y="40"/>
                </a:cubicBezTo>
                <a:cubicBezTo>
                  <a:pt x="111" y="40"/>
                  <a:pt x="115" y="42"/>
                  <a:pt x="117" y="47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7" y="48"/>
                  <a:pt x="117" y="48"/>
                  <a:pt x="117" y="48"/>
                </a:cubicBezTo>
                <a:cubicBezTo>
                  <a:pt x="119" y="52"/>
                  <a:pt x="119" y="52"/>
                  <a:pt x="119" y="52"/>
                </a:cubicBezTo>
                <a:cubicBezTo>
                  <a:pt x="131" y="47"/>
                  <a:pt x="141" y="46"/>
                  <a:pt x="148" y="46"/>
                </a:cubicBezTo>
                <a:cubicBezTo>
                  <a:pt x="149" y="46"/>
                  <a:pt x="150" y="46"/>
                  <a:pt x="151" y="46"/>
                </a:cubicBezTo>
                <a:cubicBezTo>
                  <a:pt x="155" y="71"/>
                  <a:pt x="155" y="71"/>
                  <a:pt x="155" y="71"/>
                </a:cubicBezTo>
                <a:cubicBezTo>
                  <a:pt x="153" y="71"/>
                  <a:pt x="151" y="71"/>
                  <a:pt x="149" y="71"/>
                </a:cubicBezTo>
                <a:cubicBezTo>
                  <a:pt x="143" y="71"/>
                  <a:pt x="134" y="72"/>
                  <a:pt x="123" y="77"/>
                </a:cubicBezTo>
                <a:cubicBezTo>
                  <a:pt x="110" y="82"/>
                  <a:pt x="108" y="90"/>
                  <a:pt x="110" y="95"/>
                </a:cubicBezTo>
                <a:cubicBezTo>
                  <a:pt x="112" y="101"/>
                  <a:pt x="119" y="103"/>
                  <a:pt x="132" y="103"/>
                </a:cubicBezTo>
                <a:cubicBezTo>
                  <a:pt x="135" y="103"/>
                  <a:pt x="138" y="102"/>
                  <a:pt x="142" y="102"/>
                </a:cubicBezTo>
                <a:cubicBezTo>
                  <a:pt x="144" y="102"/>
                  <a:pt x="147" y="102"/>
                  <a:pt x="149" y="102"/>
                </a:cubicBezTo>
                <a:cubicBezTo>
                  <a:pt x="172" y="102"/>
                  <a:pt x="184" y="109"/>
                  <a:pt x="191" y="126"/>
                </a:cubicBezTo>
                <a:cubicBezTo>
                  <a:pt x="199" y="144"/>
                  <a:pt x="193" y="165"/>
                  <a:pt x="171" y="178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3" y="183"/>
                  <a:pt x="173" y="183"/>
                  <a:pt x="173" y="183"/>
                </a:cubicBezTo>
                <a:cubicBezTo>
                  <a:pt x="174" y="185"/>
                  <a:pt x="174" y="185"/>
                  <a:pt x="174" y="185"/>
                </a:cubicBezTo>
                <a:cubicBezTo>
                  <a:pt x="176" y="190"/>
                  <a:pt x="173" y="197"/>
                  <a:pt x="168" y="199"/>
                </a:cubicBezTo>
                <a:cubicBezTo>
                  <a:pt x="167" y="200"/>
                  <a:pt x="165" y="200"/>
                  <a:pt x="164" y="200"/>
                </a:cubicBezTo>
                <a:cubicBezTo>
                  <a:pt x="160" y="200"/>
                  <a:pt x="156" y="197"/>
                  <a:pt x="154" y="193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3" y="191"/>
                  <a:pt x="153" y="191"/>
                  <a:pt x="153" y="191"/>
                </a:cubicBezTo>
                <a:cubicBezTo>
                  <a:pt x="152" y="188"/>
                  <a:pt x="152" y="188"/>
                  <a:pt x="152" y="188"/>
                </a:cubicBezTo>
                <a:cubicBezTo>
                  <a:pt x="141" y="192"/>
                  <a:pt x="129" y="194"/>
                  <a:pt x="120" y="194"/>
                </a:cubicBezTo>
                <a:cubicBezTo>
                  <a:pt x="118" y="194"/>
                  <a:pt x="116" y="194"/>
                  <a:pt x="114" y="194"/>
                </a:cubicBezTo>
                <a:cubicBezTo>
                  <a:pt x="110" y="168"/>
                  <a:pt x="110" y="168"/>
                  <a:pt x="110" y="168"/>
                </a:cubicBezTo>
                <a:cubicBezTo>
                  <a:pt x="113" y="168"/>
                  <a:pt x="115" y="168"/>
                  <a:pt x="118" y="168"/>
                </a:cubicBezTo>
                <a:cubicBezTo>
                  <a:pt x="127" y="168"/>
                  <a:pt x="137" y="167"/>
                  <a:pt x="147" y="163"/>
                </a:cubicBezTo>
                <a:cubicBezTo>
                  <a:pt x="159" y="158"/>
                  <a:pt x="165" y="150"/>
                  <a:pt x="162" y="142"/>
                </a:cubicBezTo>
                <a:cubicBezTo>
                  <a:pt x="159" y="136"/>
                  <a:pt x="153" y="133"/>
                  <a:pt x="141" y="133"/>
                </a:cubicBezTo>
                <a:cubicBezTo>
                  <a:pt x="139" y="133"/>
                  <a:pt x="136" y="133"/>
                  <a:pt x="133" y="133"/>
                </a:cubicBezTo>
                <a:cubicBezTo>
                  <a:pt x="129" y="134"/>
                  <a:pt x="126" y="134"/>
                  <a:pt x="123" y="134"/>
                </a:cubicBezTo>
                <a:moveTo>
                  <a:pt x="136" y="0"/>
                </a:moveTo>
                <a:cubicBezTo>
                  <a:pt x="120" y="0"/>
                  <a:pt x="105" y="3"/>
                  <a:pt x="90" y="10"/>
                </a:cubicBezTo>
                <a:cubicBezTo>
                  <a:pt x="29" y="35"/>
                  <a:pt x="0" y="105"/>
                  <a:pt x="26" y="166"/>
                </a:cubicBezTo>
                <a:cubicBezTo>
                  <a:pt x="45" y="211"/>
                  <a:pt x="89" y="239"/>
                  <a:pt x="136" y="239"/>
                </a:cubicBezTo>
                <a:cubicBezTo>
                  <a:pt x="151" y="239"/>
                  <a:pt x="167" y="236"/>
                  <a:pt x="182" y="230"/>
                </a:cubicBezTo>
                <a:cubicBezTo>
                  <a:pt x="192" y="225"/>
                  <a:pt x="201" y="220"/>
                  <a:pt x="210" y="213"/>
                </a:cubicBezTo>
                <a:cubicBezTo>
                  <a:pt x="210" y="26"/>
                  <a:pt x="210" y="26"/>
                  <a:pt x="210" y="26"/>
                </a:cubicBezTo>
                <a:cubicBezTo>
                  <a:pt x="189" y="10"/>
                  <a:pt x="163" y="0"/>
                  <a:pt x="136" y="0"/>
                </a:cubicBezTo>
              </a:path>
            </a:pathLst>
          </a:custGeom>
          <a:solidFill>
            <a:srgbClr val="2db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reeform 43"/>
          <p:cNvSpPr/>
          <p:nvPr/>
        </p:nvSpPr>
        <p:spPr>
          <a:xfrm>
            <a:off x="7480440" y="3481560"/>
            <a:ext cx="214200" cy="701640"/>
          </a:xfrm>
          <a:custGeom>
            <a:avLst/>
            <a:gdLst/>
            <a:ahLst/>
            <a:rect l="l" t="t" r="r" b="b"/>
            <a:pathLst>
              <a:path w="57" h="187">
                <a:moveTo>
                  <a:pt x="0" y="0"/>
                </a:moveTo>
                <a:cubicBezTo>
                  <a:pt x="0" y="187"/>
                  <a:pt x="0" y="187"/>
                  <a:pt x="0" y="187"/>
                </a:cubicBezTo>
                <a:cubicBezTo>
                  <a:pt x="41" y="155"/>
                  <a:pt x="57" y="98"/>
                  <a:pt x="36" y="48"/>
                </a:cubicBezTo>
                <a:cubicBezTo>
                  <a:pt x="28" y="28"/>
                  <a:pt x="15" y="12"/>
                  <a:pt x="0" y="0"/>
                </a:cubicBezTo>
              </a:path>
            </a:pathLst>
          </a:custGeom>
          <a:solidFill>
            <a:srgbClr val="23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65"/>
          <p:cNvGrpSpPr/>
          <p:nvPr/>
        </p:nvGrpSpPr>
        <p:grpSpPr>
          <a:xfrm>
            <a:off x="6691320" y="3330720"/>
            <a:ext cx="968400" cy="969840"/>
            <a:chOff x="6691320" y="3330720"/>
            <a:chExt cx="968400" cy="969840"/>
          </a:xfrm>
        </p:grpSpPr>
        <p:sp>
          <p:nvSpPr>
            <p:cNvPr id="716" name="Freeform 44"/>
            <p:cNvSpPr/>
            <p:nvPr/>
          </p:nvSpPr>
          <p:spPr>
            <a:xfrm>
              <a:off x="6691320" y="3330720"/>
              <a:ext cx="968400" cy="96984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234" y="85"/>
                  </a:moveTo>
                  <a:cubicBezTo>
                    <a:pt x="258" y="143"/>
                    <a:pt x="231" y="210"/>
                    <a:pt x="173" y="234"/>
                  </a:cubicBezTo>
                  <a:cubicBezTo>
                    <a:pt x="115" y="258"/>
                    <a:pt x="48" y="231"/>
                    <a:pt x="24" y="173"/>
                  </a:cubicBezTo>
                  <a:cubicBezTo>
                    <a:pt x="0" y="115"/>
                    <a:pt x="27" y="48"/>
                    <a:pt x="85" y="24"/>
                  </a:cubicBezTo>
                  <a:cubicBezTo>
                    <a:pt x="143" y="0"/>
                    <a:pt x="210" y="27"/>
                    <a:pt x="234" y="85"/>
                  </a:cubicBezTo>
                  <a:close/>
                </a:path>
              </a:pathLst>
            </a:custGeom>
            <a:solidFill>
              <a:srgbClr val="fe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6950160" y="3522600"/>
              <a:ext cx="450720" cy="58572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113" y="84"/>
                  </a:moveTo>
                  <a:cubicBezTo>
                    <a:pt x="106" y="66"/>
                    <a:pt x="92" y="60"/>
                    <a:pt x="66" y="61"/>
                  </a:cubicBezTo>
                  <a:cubicBezTo>
                    <a:pt x="47" y="62"/>
                    <a:pt x="38" y="61"/>
                    <a:pt x="36" y="55"/>
                  </a:cubicBezTo>
                  <a:cubicBezTo>
                    <a:pt x="33" y="49"/>
                    <a:pt x="35" y="42"/>
                    <a:pt x="47" y="37"/>
                  </a:cubicBezTo>
                  <a:cubicBezTo>
                    <a:pt x="61" y="31"/>
                    <a:pt x="72" y="31"/>
                    <a:pt x="78" y="32"/>
                  </a:cubicBezTo>
                  <a:cubicBezTo>
                    <a:pt x="75" y="8"/>
                    <a:pt x="75" y="8"/>
                    <a:pt x="75" y="8"/>
                  </a:cubicBezTo>
                  <a:cubicBezTo>
                    <a:pt x="67" y="7"/>
                    <a:pt x="57" y="8"/>
                    <a:pt x="44" y="13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9"/>
                    <a:pt x="42" y="9"/>
                    <a:pt x="42" y="9"/>
                  </a:cubicBezTo>
                  <a:cubicBezTo>
                    <a:pt x="42" y="8"/>
                    <a:pt x="42" y="8"/>
                    <a:pt x="42" y="8"/>
                  </a:cubicBezTo>
                  <a:cubicBezTo>
                    <a:pt x="39" y="3"/>
                    <a:pt x="33" y="0"/>
                    <a:pt x="28" y="2"/>
                  </a:cubicBezTo>
                  <a:cubicBezTo>
                    <a:pt x="23" y="5"/>
                    <a:pt x="21" y="11"/>
                    <a:pt x="23" y="16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20"/>
                    <a:pt x="25" y="20"/>
                    <a:pt x="25" y="21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7" y="35"/>
                    <a:pt x="0" y="53"/>
                    <a:pt x="7" y="70"/>
                  </a:cubicBezTo>
                  <a:cubicBezTo>
                    <a:pt x="15" y="89"/>
                    <a:pt x="33" y="93"/>
                    <a:pt x="57" y="91"/>
                  </a:cubicBezTo>
                  <a:cubicBezTo>
                    <a:pt x="73" y="90"/>
                    <a:pt x="81" y="92"/>
                    <a:pt x="85" y="99"/>
                  </a:cubicBezTo>
                  <a:cubicBezTo>
                    <a:pt x="88" y="107"/>
                    <a:pt x="82" y="114"/>
                    <a:pt x="71" y="119"/>
                  </a:cubicBezTo>
                  <a:cubicBezTo>
                    <a:pt x="58" y="124"/>
                    <a:pt x="45" y="125"/>
                    <a:pt x="35" y="124"/>
                  </a:cubicBezTo>
                  <a:cubicBezTo>
                    <a:pt x="39" y="149"/>
                    <a:pt x="39" y="149"/>
                    <a:pt x="39" y="149"/>
                  </a:cubicBezTo>
                  <a:cubicBezTo>
                    <a:pt x="48" y="150"/>
                    <a:pt x="62" y="148"/>
                    <a:pt x="75" y="143"/>
                  </a:cubicBezTo>
                  <a:cubicBezTo>
                    <a:pt x="77" y="146"/>
                    <a:pt x="77" y="146"/>
                    <a:pt x="77" y="146"/>
                  </a:cubicBezTo>
                  <a:cubicBezTo>
                    <a:pt x="77" y="146"/>
                    <a:pt x="77" y="146"/>
                    <a:pt x="77" y="146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9" y="153"/>
                    <a:pt x="85" y="156"/>
                    <a:pt x="91" y="154"/>
                  </a:cubicBezTo>
                  <a:cubicBezTo>
                    <a:pt x="96" y="151"/>
                    <a:pt x="98" y="145"/>
                    <a:pt x="96" y="140"/>
                  </a:cubicBezTo>
                  <a:cubicBezTo>
                    <a:pt x="95" y="138"/>
                    <a:pt x="95" y="138"/>
                    <a:pt x="95" y="138"/>
                  </a:cubicBezTo>
                  <a:cubicBezTo>
                    <a:pt x="96" y="138"/>
                    <a:pt x="96" y="138"/>
                    <a:pt x="96" y="138"/>
                  </a:cubicBezTo>
                  <a:cubicBezTo>
                    <a:pt x="94" y="134"/>
                    <a:pt x="94" y="134"/>
                    <a:pt x="94" y="134"/>
                  </a:cubicBezTo>
                  <a:cubicBezTo>
                    <a:pt x="114" y="121"/>
                    <a:pt x="120" y="101"/>
                    <a:pt x="113" y="84"/>
                  </a:cubicBezTo>
                  <a:close/>
                </a:path>
              </a:pathLst>
            </a:custGeom>
            <a:solidFill>
              <a:srgbClr val="f09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8" name="Freeform 46"/>
          <p:cNvSpPr/>
          <p:nvPr/>
        </p:nvSpPr>
        <p:spPr>
          <a:xfrm>
            <a:off x="7443720" y="1522440"/>
            <a:ext cx="1303560" cy="981000"/>
          </a:xfrm>
          <a:custGeom>
            <a:avLst/>
            <a:gdLst/>
            <a:ahLst/>
            <a:rect l="l" t="t" r="r" b="b"/>
            <a:pathLst>
              <a:path w="347" h="261">
                <a:moveTo>
                  <a:pt x="178" y="0"/>
                </a:moveTo>
                <a:cubicBezTo>
                  <a:pt x="158" y="0"/>
                  <a:pt x="138" y="4"/>
                  <a:pt x="118" y="12"/>
                </a:cubicBezTo>
                <a:cubicBezTo>
                  <a:pt x="38" y="46"/>
                  <a:pt x="0" y="138"/>
                  <a:pt x="33" y="218"/>
                </a:cubicBezTo>
                <a:cubicBezTo>
                  <a:pt x="40" y="234"/>
                  <a:pt x="49" y="248"/>
                  <a:pt x="59" y="261"/>
                </a:cubicBezTo>
                <a:cubicBezTo>
                  <a:pt x="207" y="261"/>
                  <a:pt x="207" y="261"/>
                  <a:pt x="207" y="261"/>
                </a:cubicBezTo>
                <a:cubicBezTo>
                  <a:pt x="205" y="259"/>
                  <a:pt x="203" y="257"/>
                  <a:pt x="202" y="255"/>
                </a:cubicBezTo>
                <a:cubicBezTo>
                  <a:pt x="201" y="252"/>
                  <a:pt x="201" y="252"/>
                  <a:pt x="201" y="252"/>
                </a:cubicBezTo>
                <a:cubicBezTo>
                  <a:pt x="201" y="252"/>
                  <a:pt x="201" y="252"/>
                  <a:pt x="201" y="252"/>
                </a:cubicBezTo>
                <a:cubicBezTo>
                  <a:pt x="200" y="248"/>
                  <a:pt x="200" y="248"/>
                  <a:pt x="200" y="248"/>
                </a:cubicBezTo>
                <a:cubicBezTo>
                  <a:pt x="185" y="253"/>
                  <a:pt x="169" y="256"/>
                  <a:pt x="157" y="256"/>
                </a:cubicBezTo>
                <a:cubicBezTo>
                  <a:pt x="154" y="256"/>
                  <a:pt x="152" y="256"/>
                  <a:pt x="150" y="255"/>
                </a:cubicBezTo>
                <a:cubicBezTo>
                  <a:pt x="144" y="221"/>
                  <a:pt x="144" y="221"/>
                  <a:pt x="144" y="221"/>
                </a:cubicBezTo>
                <a:cubicBezTo>
                  <a:pt x="148" y="221"/>
                  <a:pt x="151" y="222"/>
                  <a:pt x="155" y="222"/>
                </a:cubicBezTo>
                <a:cubicBezTo>
                  <a:pt x="167" y="222"/>
                  <a:pt x="180" y="220"/>
                  <a:pt x="194" y="214"/>
                </a:cubicBezTo>
                <a:cubicBezTo>
                  <a:pt x="209" y="208"/>
                  <a:pt x="217" y="197"/>
                  <a:pt x="213" y="187"/>
                </a:cubicBezTo>
                <a:cubicBezTo>
                  <a:pt x="209" y="179"/>
                  <a:pt x="201" y="175"/>
                  <a:pt x="185" y="175"/>
                </a:cubicBezTo>
                <a:cubicBezTo>
                  <a:pt x="182" y="175"/>
                  <a:pt x="178" y="175"/>
                  <a:pt x="174" y="176"/>
                </a:cubicBezTo>
                <a:cubicBezTo>
                  <a:pt x="170" y="176"/>
                  <a:pt x="165" y="176"/>
                  <a:pt x="161" y="176"/>
                </a:cubicBezTo>
                <a:cubicBezTo>
                  <a:pt x="135" y="176"/>
                  <a:pt x="115" y="169"/>
                  <a:pt x="106" y="147"/>
                </a:cubicBezTo>
                <a:cubicBezTo>
                  <a:pt x="96" y="123"/>
                  <a:pt x="105" y="98"/>
                  <a:pt x="131" y="81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0" y="78"/>
                  <a:pt x="129" y="78"/>
                  <a:pt x="129" y="77"/>
                </a:cubicBezTo>
                <a:cubicBezTo>
                  <a:pt x="127" y="72"/>
                  <a:pt x="127" y="72"/>
                  <a:pt x="127" y="72"/>
                </a:cubicBezTo>
                <a:cubicBezTo>
                  <a:pt x="124" y="65"/>
                  <a:pt x="128" y="56"/>
                  <a:pt x="135" y="53"/>
                </a:cubicBezTo>
                <a:cubicBezTo>
                  <a:pt x="137" y="53"/>
                  <a:pt x="138" y="52"/>
                  <a:pt x="140" y="52"/>
                </a:cubicBezTo>
                <a:cubicBezTo>
                  <a:pt x="146" y="52"/>
                  <a:pt x="151" y="56"/>
                  <a:pt x="153" y="61"/>
                </a:cubicBezTo>
                <a:cubicBezTo>
                  <a:pt x="154" y="63"/>
                  <a:pt x="154" y="63"/>
                  <a:pt x="154" y="63"/>
                </a:cubicBezTo>
                <a:cubicBezTo>
                  <a:pt x="154" y="63"/>
                  <a:pt x="154" y="63"/>
                  <a:pt x="154" y="63"/>
                </a:cubicBezTo>
                <a:cubicBezTo>
                  <a:pt x="156" y="68"/>
                  <a:pt x="156" y="68"/>
                  <a:pt x="156" y="68"/>
                </a:cubicBezTo>
                <a:cubicBezTo>
                  <a:pt x="172" y="62"/>
                  <a:pt x="185" y="60"/>
                  <a:pt x="195" y="60"/>
                </a:cubicBezTo>
                <a:cubicBezTo>
                  <a:pt x="196" y="60"/>
                  <a:pt x="198" y="60"/>
                  <a:pt x="199" y="60"/>
                </a:cubicBezTo>
                <a:cubicBezTo>
                  <a:pt x="203" y="94"/>
                  <a:pt x="203" y="94"/>
                  <a:pt x="203" y="94"/>
                </a:cubicBezTo>
                <a:cubicBezTo>
                  <a:pt x="201" y="94"/>
                  <a:pt x="199" y="94"/>
                  <a:pt x="196" y="94"/>
                </a:cubicBezTo>
                <a:cubicBezTo>
                  <a:pt x="187" y="94"/>
                  <a:pt x="175" y="95"/>
                  <a:pt x="161" y="101"/>
                </a:cubicBezTo>
                <a:cubicBezTo>
                  <a:pt x="144" y="108"/>
                  <a:pt x="142" y="118"/>
                  <a:pt x="145" y="125"/>
                </a:cubicBezTo>
                <a:cubicBezTo>
                  <a:pt x="148" y="132"/>
                  <a:pt x="156" y="135"/>
                  <a:pt x="173" y="135"/>
                </a:cubicBezTo>
                <a:cubicBezTo>
                  <a:pt x="177" y="135"/>
                  <a:pt x="182" y="135"/>
                  <a:pt x="186" y="135"/>
                </a:cubicBezTo>
                <a:cubicBezTo>
                  <a:pt x="190" y="134"/>
                  <a:pt x="193" y="134"/>
                  <a:pt x="196" y="134"/>
                </a:cubicBezTo>
                <a:cubicBezTo>
                  <a:pt x="226" y="134"/>
                  <a:pt x="242" y="144"/>
                  <a:pt x="252" y="166"/>
                </a:cubicBezTo>
                <a:cubicBezTo>
                  <a:pt x="262" y="190"/>
                  <a:pt x="254" y="217"/>
                  <a:pt x="225" y="235"/>
                </a:cubicBezTo>
                <a:cubicBezTo>
                  <a:pt x="228" y="241"/>
                  <a:pt x="228" y="241"/>
                  <a:pt x="228" y="241"/>
                </a:cubicBezTo>
                <a:cubicBezTo>
                  <a:pt x="228" y="241"/>
                  <a:pt x="228" y="241"/>
                  <a:pt x="228" y="241"/>
                </a:cubicBezTo>
                <a:cubicBezTo>
                  <a:pt x="229" y="244"/>
                  <a:pt x="229" y="244"/>
                  <a:pt x="229" y="244"/>
                </a:cubicBezTo>
                <a:cubicBezTo>
                  <a:pt x="231" y="250"/>
                  <a:pt x="229" y="257"/>
                  <a:pt x="224" y="261"/>
                </a:cubicBezTo>
                <a:cubicBezTo>
                  <a:pt x="297" y="261"/>
                  <a:pt x="297" y="261"/>
                  <a:pt x="297" y="261"/>
                </a:cubicBezTo>
                <a:cubicBezTo>
                  <a:pt x="335" y="217"/>
                  <a:pt x="347" y="154"/>
                  <a:pt x="324" y="97"/>
                </a:cubicBezTo>
                <a:cubicBezTo>
                  <a:pt x="298" y="37"/>
                  <a:pt x="240" y="0"/>
                  <a:pt x="178" y="0"/>
                </a:cubicBezTo>
              </a:path>
            </a:pathLst>
          </a:custGeom>
          <a:solidFill>
            <a:srgbClr val="2db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47"/>
          <p:cNvSpPr/>
          <p:nvPr/>
        </p:nvSpPr>
        <p:spPr>
          <a:xfrm>
            <a:off x="7666200" y="2503440"/>
            <a:ext cx="893520" cy="201600"/>
          </a:xfrm>
          <a:custGeom>
            <a:avLst/>
            <a:gdLst/>
            <a:ahLst/>
            <a:rect l="l" t="t" r="r" b="b"/>
            <a:pathLst>
              <a:path w="238" h="54">
                <a:moveTo>
                  <a:pt x="238" y="0"/>
                </a:moveTo>
                <a:cubicBezTo>
                  <a:pt x="165" y="0"/>
                  <a:pt x="165" y="0"/>
                  <a:pt x="165" y="0"/>
                </a:cubicBezTo>
                <a:cubicBezTo>
                  <a:pt x="164" y="0"/>
                  <a:pt x="163" y="1"/>
                  <a:pt x="162" y="1"/>
                </a:cubicBezTo>
                <a:cubicBezTo>
                  <a:pt x="160" y="2"/>
                  <a:pt x="158" y="2"/>
                  <a:pt x="157" y="2"/>
                </a:cubicBezTo>
                <a:cubicBezTo>
                  <a:pt x="153" y="2"/>
                  <a:pt x="151" y="1"/>
                  <a:pt x="148" y="0"/>
                </a:cubicBezTo>
                <a:cubicBezTo>
                  <a:pt x="0" y="0"/>
                  <a:pt x="0" y="0"/>
                  <a:pt x="0" y="0"/>
                </a:cubicBezTo>
                <a:cubicBezTo>
                  <a:pt x="30" y="34"/>
                  <a:pt x="74" y="54"/>
                  <a:pt x="120" y="54"/>
                </a:cubicBezTo>
                <a:cubicBezTo>
                  <a:pt x="140" y="54"/>
                  <a:pt x="160" y="50"/>
                  <a:pt x="180" y="42"/>
                </a:cubicBezTo>
                <a:cubicBezTo>
                  <a:pt x="203" y="32"/>
                  <a:pt x="223" y="17"/>
                  <a:pt x="238" y="0"/>
                </a:cubicBezTo>
              </a:path>
            </a:pathLst>
          </a:custGeom>
          <a:solidFill>
            <a:srgbClr val="23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组合 64"/>
          <p:cNvGrpSpPr/>
          <p:nvPr/>
        </p:nvGrpSpPr>
        <p:grpSpPr>
          <a:xfrm>
            <a:off x="7440480" y="1446120"/>
            <a:ext cx="1281240" cy="1285920"/>
            <a:chOff x="7440480" y="1446120"/>
            <a:chExt cx="1281240" cy="1285920"/>
          </a:xfrm>
        </p:grpSpPr>
        <p:sp>
          <p:nvSpPr>
            <p:cNvPr id="721" name="Freeform 48"/>
            <p:cNvSpPr/>
            <p:nvPr/>
          </p:nvSpPr>
          <p:spPr>
            <a:xfrm>
              <a:off x="7440480" y="1446120"/>
              <a:ext cx="1281240" cy="1285920"/>
            </a:xfrm>
            <a:custGeom>
              <a:avLst/>
              <a:gdLst/>
              <a:ahLst/>
              <a:rect l="l" t="t" r="r" b="b"/>
              <a:pathLst>
                <a:path w="341" h="342">
                  <a:moveTo>
                    <a:pt x="309" y="113"/>
                  </a:moveTo>
                  <a:cubicBezTo>
                    <a:pt x="341" y="190"/>
                    <a:pt x="305" y="278"/>
                    <a:pt x="228" y="310"/>
                  </a:cubicBezTo>
                  <a:cubicBezTo>
                    <a:pt x="151" y="342"/>
                    <a:pt x="63" y="306"/>
                    <a:pt x="32" y="229"/>
                  </a:cubicBezTo>
                  <a:cubicBezTo>
                    <a:pt x="0" y="152"/>
                    <a:pt x="36" y="64"/>
                    <a:pt x="113" y="32"/>
                  </a:cubicBezTo>
                  <a:cubicBezTo>
                    <a:pt x="189" y="0"/>
                    <a:pt x="277" y="37"/>
                    <a:pt x="309" y="113"/>
                  </a:cubicBezTo>
                  <a:close/>
                </a:path>
              </a:pathLst>
            </a:custGeom>
            <a:solidFill>
              <a:srgbClr val="fe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49"/>
            <p:cNvSpPr/>
            <p:nvPr/>
          </p:nvSpPr>
          <p:spPr>
            <a:xfrm>
              <a:off x="7785000" y="1706400"/>
              <a:ext cx="593640" cy="77004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148" y="110"/>
                  </a:moveTo>
                  <a:cubicBezTo>
                    <a:pt x="139" y="87"/>
                    <a:pt x="121" y="78"/>
                    <a:pt x="86" y="80"/>
                  </a:cubicBezTo>
                  <a:cubicBezTo>
                    <a:pt x="61" y="81"/>
                    <a:pt x="50" y="80"/>
                    <a:pt x="46" y="71"/>
                  </a:cubicBezTo>
                  <a:cubicBezTo>
                    <a:pt x="43" y="64"/>
                    <a:pt x="45" y="55"/>
                    <a:pt x="62" y="48"/>
                  </a:cubicBezTo>
                  <a:cubicBezTo>
                    <a:pt x="80" y="40"/>
                    <a:pt x="95" y="41"/>
                    <a:pt x="102" y="41"/>
                  </a:cubicBezTo>
                  <a:cubicBezTo>
                    <a:pt x="98" y="9"/>
                    <a:pt x="98" y="9"/>
                    <a:pt x="98" y="9"/>
                  </a:cubicBezTo>
                  <a:cubicBezTo>
                    <a:pt x="87" y="9"/>
                    <a:pt x="74" y="10"/>
                    <a:pt x="57" y="17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5" y="12"/>
                    <a:pt x="55" y="12"/>
                    <a:pt x="55" y="12"/>
                  </a:cubicBezTo>
                  <a:cubicBezTo>
                    <a:pt x="54" y="10"/>
                    <a:pt x="54" y="10"/>
                    <a:pt x="54" y="10"/>
                  </a:cubicBezTo>
                  <a:cubicBezTo>
                    <a:pt x="51" y="3"/>
                    <a:pt x="43" y="0"/>
                    <a:pt x="37" y="3"/>
                  </a:cubicBezTo>
                  <a:cubicBezTo>
                    <a:pt x="30" y="6"/>
                    <a:pt x="26" y="13"/>
                    <a:pt x="29" y="20"/>
                  </a:cubicBezTo>
                  <a:cubicBezTo>
                    <a:pt x="31" y="25"/>
                    <a:pt x="31" y="25"/>
                    <a:pt x="31" y="25"/>
                  </a:cubicBezTo>
                  <a:cubicBezTo>
                    <a:pt x="32" y="26"/>
                    <a:pt x="32" y="26"/>
                    <a:pt x="32" y="27"/>
                  </a:cubicBezTo>
                  <a:cubicBezTo>
                    <a:pt x="33" y="29"/>
                    <a:pt x="33" y="29"/>
                    <a:pt x="33" y="29"/>
                  </a:cubicBezTo>
                  <a:cubicBezTo>
                    <a:pt x="8" y="45"/>
                    <a:pt x="0" y="69"/>
                    <a:pt x="9" y="92"/>
                  </a:cubicBezTo>
                  <a:cubicBezTo>
                    <a:pt x="19" y="117"/>
                    <a:pt x="43" y="122"/>
                    <a:pt x="74" y="119"/>
                  </a:cubicBezTo>
                  <a:cubicBezTo>
                    <a:pt x="96" y="118"/>
                    <a:pt x="107" y="120"/>
                    <a:pt x="111" y="130"/>
                  </a:cubicBezTo>
                  <a:cubicBezTo>
                    <a:pt x="115" y="140"/>
                    <a:pt x="107" y="150"/>
                    <a:pt x="93" y="156"/>
                  </a:cubicBezTo>
                  <a:cubicBezTo>
                    <a:pt x="76" y="163"/>
                    <a:pt x="59" y="164"/>
                    <a:pt x="46" y="163"/>
                  </a:cubicBezTo>
                  <a:cubicBezTo>
                    <a:pt x="51" y="196"/>
                    <a:pt x="51" y="196"/>
                    <a:pt x="51" y="196"/>
                  </a:cubicBezTo>
                  <a:cubicBezTo>
                    <a:pt x="63" y="197"/>
                    <a:pt x="81" y="195"/>
                    <a:pt x="99" y="189"/>
                  </a:cubicBezTo>
                  <a:cubicBezTo>
                    <a:pt x="100" y="192"/>
                    <a:pt x="100" y="192"/>
                    <a:pt x="100" y="192"/>
                  </a:cubicBezTo>
                  <a:cubicBezTo>
                    <a:pt x="100" y="192"/>
                    <a:pt x="100" y="192"/>
                    <a:pt x="100" y="192"/>
                  </a:cubicBezTo>
                  <a:cubicBezTo>
                    <a:pt x="101" y="195"/>
                    <a:pt x="101" y="195"/>
                    <a:pt x="101" y="195"/>
                  </a:cubicBezTo>
                  <a:cubicBezTo>
                    <a:pt x="104" y="202"/>
                    <a:pt x="112" y="205"/>
                    <a:pt x="119" y="202"/>
                  </a:cubicBezTo>
                  <a:cubicBezTo>
                    <a:pt x="126" y="199"/>
                    <a:pt x="129" y="191"/>
                    <a:pt x="126" y="184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5" y="182"/>
                    <a:pt x="125" y="182"/>
                    <a:pt x="125" y="182"/>
                  </a:cubicBezTo>
                  <a:cubicBezTo>
                    <a:pt x="123" y="176"/>
                    <a:pt x="123" y="176"/>
                    <a:pt x="123" y="176"/>
                  </a:cubicBezTo>
                  <a:cubicBezTo>
                    <a:pt x="150" y="159"/>
                    <a:pt x="158" y="133"/>
                    <a:pt x="148" y="110"/>
                  </a:cubicBezTo>
                  <a:close/>
                </a:path>
              </a:pathLst>
            </a:custGeom>
            <a:solidFill>
              <a:srgbClr val="f09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3" name="组合 2"/>
          <p:cNvGrpSpPr/>
          <p:nvPr/>
        </p:nvGrpSpPr>
        <p:grpSpPr>
          <a:xfrm>
            <a:off x="928800" y="2319480"/>
            <a:ext cx="4143240" cy="2196720"/>
            <a:chOff x="928800" y="2319480"/>
            <a:chExt cx="4143240" cy="2196720"/>
          </a:xfrm>
        </p:grpSpPr>
        <p:sp>
          <p:nvSpPr>
            <p:cNvPr id="724" name="文本框 53"/>
            <p:cNvSpPr/>
            <p:nvPr/>
          </p:nvSpPr>
          <p:spPr>
            <a:xfrm>
              <a:off x="928800" y="2319480"/>
              <a:ext cx="414324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800" spc="-1" strike="noStrike">
                  <a:solidFill>
                    <a:srgbClr val="0a77a2"/>
                  </a:solidFill>
                  <a:latin typeface="张海山锐谐体"/>
                  <a:ea typeface="张海山锐谐体"/>
                </a:rPr>
                <a:t>馋死</a:t>
              </a:r>
              <a:endParaRPr b="0" lang="en-US" sz="1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78"/>
            <p:cNvSpPr/>
            <p:nvPr/>
          </p:nvSpPr>
          <p:spPr>
            <a:xfrm>
              <a:off x="1076040" y="2627640"/>
              <a:ext cx="3238200" cy="1444680"/>
            </a:xfrm>
            <a:custGeom>
              <a:avLst/>
              <a:gdLst/>
              <a:ahLst/>
              <a:rect l="l" t="t" r="r" b="b"/>
              <a:pathLst>
                <a:path w="3238202" h="1444526">
                  <a:moveTo>
                    <a:pt x="527149" y="1204913"/>
                  </a:moveTo>
                  <a:lnTo>
                    <a:pt x="1512987" y="1321296"/>
                  </a:lnTo>
                  <a:lnTo>
                    <a:pt x="1437680" y="1444526"/>
                  </a:lnTo>
                  <a:lnTo>
                    <a:pt x="451842" y="1334988"/>
                  </a:lnTo>
                  <a:close/>
                  <a:moveTo>
                    <a:pt x="862607" y="972145"/>
                  </a:moveTo>
                  <a:lnTo>
                    <a:pt x="1506140" y="1074837"/>
                  </a:lnTo>
                  <a:lnTo>
                    <a:pt x="1423987" y="1198066"/>
                  </a:lnTo>
                  <a:lnTo>
                    <a:pt x="780454" y="1095375"/>
                  </a:lnTo>
                  <a:close/>
                  <a:moveTo>
                    <a:pt x="1081683" y="444996"/>
                  </a:moveTo>
                  <a:lnTo>
                    <a:pt x="1081683" y="554534"/>
                  </a:lnTo>
                  <a:lnTo>
                    <a:pt x="1314450" y="554534"/>
                  </a:lnTo>
                  <a:lnTo>
                    <a:pt x="1314450" y="444996"/>
                  </a:lnTo>
                  <a:close/>
                  <a:moveTo>
                    <a:pt x="711994" y="444996"/>
                  </a:moveTo>
                  <a:lnTo>
                    <a:pt x="711994" y="554534"/>
                  </a:lnTo>
                  <a:lnTo>
                    <a:pt x="910530" y="554534"/>
                  </a:lnTo>
                  <a:lnTo>
                    <a:pt x="910530" y="444996"/>
                  </a:lnTo>
                  <a:close/>
                  <a:moveTo>
                    <a:pt x="686130" y="205383"/>
                  </a:moveTo>
                  <a:lnTo>
                    <a:pt x="648857" y="301228"/>
                  </a:lnTo>
                  <a:lnTo>
                    <a:pt x="1239143" y="301228"/>
                  </a:lnTo>
                  <a:lnTo>
                    <a:pt x="1280219" y="205383"/>
                  </a:lnTo>
                  <a:close/>
                  <a:moveTo>
                    <a:pt x="1786830" y="41077"/>
                  </a:moveTo>
                  <a:lnTo>
                    <a:pt x="3224510" y="41077"/>
                  </a:lnTo>
                  <a:lnTo>
                    <a:pt x="3224510" y="184844"/>
                  </a:lnTo>
                  <a:lnTo>
                    <a:pt x="2841129" y="184844"/>
                  </a:lnTo>
                  <a:lnTo>
                    <a:pt x="2841129" y="732532"/>
                  </a:lnTo>
                  <a:lnTo>
                    <a:pt x="3190279" y="349151"/>
                  </a:lnTo>
                  <a:lnTo>
                    <a:pt x="3238202" y="506611"/>
                  </a:lnTo>
                  <a:lnTo>
                    <a:pt x="2841129" y="937915"/>
                  </a:lnTo>
                  <a:lnTo>
                    <a:pt x="2841129" y="1293912"/>
                  </a:lnTo>
                  <a:lnTo>
                    <a:pt x="3238202" y="1293912"/>
                  </a:lnTo>
                  <a:lnTo>
                    <a:pt x="3231356" y="1444526"/>
                  </a:lnTo>
                  <a:lnTo>
                    <a:pt x="2676822" y="1444526"/>
                  </a:lnTo>
                  <a:lnTo>
                    <a:pt x="2676822" y="184844"/>
                  </a:lnTo>
                  <a:lnTo>
                    <a:pt x="2238672" y="184844"/>
                  </a:lnTo>
                  <a:lnTo>
                    <a:pt x="2090210" y="410766"/>
                  </a:lnTo>
                  <a:lnTo>
                    <a:pt x="2437209" y="410766"/>
                  </a:lnTo>
                  <a:lnTo>
                    <a:pt x="2437209" y="835223"/>
                  </a:lnTo>
                  <a:lnTo>
                    <a:pt x="1910060" y="1444526"/>
                  </a:lnTo>
                  <a:lnTo>
                    <a:pt x="1752600" y="1410295"/>
                  </a:lnTo>
                  <a:lnTo>
                    <a:pt x="2019592" y="1090607"/>
                  </a:lnTo>
                  <a:lnTo>
                    <a:pt x="1752600" y="835223"/>
                  </a:lnTo>
                  <a:lnTo>
                    <a:pt x="1903214" y="773609"/>
                  </a:lnTo>
                  <a:lnTo>
                    <a:pt x="2115084" y="976267"/>
                  </a:lnTo>
                  <a:lnTo>
                    <a:pt x="2272903" y="787301"/>
                  </a:lnTo>
                  <a:lnTo>
                    <a:pt x="2272903" y="554534"/>
                  </a:lnTo>
                  <a:lnTo>
                    <a:pt x="1995734" y="554534"/>
                  </a:lnTo>
                  <a:lnTo>
                    <a:pt x="1923752" y="664071"/>
                  </a:lnTo>
                  <a:lnTo>
                    <a:pt x="1766292" y="629841"/>
                  </a:lnTo>
                  <a:lnTo>
                    <a:pt x="2060674" y="184844"/>
                  </a:lnTo>
                  <a:lnTo>
                    <a:pt x="1786830" y="184844"/>
                  </a:lnTo>
                  <a:close/>
                  <a:moveTo>
                    <a:pt x="82153" y="20538"/>
                  </a:moveTo>
                  <a:lnTo>
                    <a:pt x="225921" y="75307"/>
                  </a:lnTo>
                  <a:lnTo>
                    <a:pt x="213084" y="177998"/>
                  </a:lnTo>
                  <a:lnTo>
                    <a:pt x="472380" y="177998"/>
                  </a:lnTo>
                  <a:lnTo>
                    <a:pt x="362843" y="622995"/>
                  </a:lnTo>
                  <a:lnTo>
                    <a:pt x="260151" y="513457"/>
                  </a:lnTo>
                  <a:lnTo>
                    <a:pt x="182479" y="422840"/>
                  </a:lnTo>
                  <a:lnTo>
                    <a:pt x="147191" y="705148"/>
                  </a:lnTo>
                  <a:lnTo>
                    <a:pt x="246459" y="705148"/>
                  </a:lnTo>
                  <a:lnTo>
                    <a:pt x="246459" y="1152032"/>
                  </a:lnTo>
                  <a:lnTo>
                    <a:pt x="403919" y="1054298"/>
                  </a:lnTo>
                  <a:lnTo>
                    <a:pt x="438150" y="1204913"/>
                  </a:lnTo>
                  <a:lnTo>
                    <a:pt x="47922" y="1444526"/>
                  </a:lnTo>
                  <a:lnTo>
                    <a:pt x="6846" y="1300758"/>
                  </a:lnTo>
                  <a:lnTo>
                    <a:pt x="75307" y="1258265"/>
                  </a:lnTo>
                  <a:lnTo>
                    <a:pt x="75307" y="706452"/>
                  </a:lnTo>
                  <a:lnTo>
                    <a:pt x="0" y="677763"/>
                  </a:lnTo>
                  <a:close/>
                  <a:moveTo>
                    <a:pt x="602456" y="0"/>
                  </a:moveTo>
                  <a:lnTo>
                    <a:pt x="739378" y="68461"/>
                  </a:lnTo>
                  <a:lnTo>
                    <a:pt x="1478756" y="68461"/>
                  </a:lnTo>
                  <a:lnTo>
                    <a:pt x="1403449" y="301228"/>
                  </a:lnTo>
                  <a:lnTo>
                    <a:pt x="1478756" y="301228"/>
                  </a:lnTo>
                  <a:lnTo>
                    <a:pt x="1478756" y="691455"/>
                  </a:lnTo>
                  <a:lnTo>
                    <a:pt x="1225451" y="691455"/>
                  </a:lnTo>
                  <a:lnTo>
                    <a:pt x="1225451" y="794147"/>
                  </a:lnTo>
                  <a:lnTo>
                    <a:pt x="1478756" y="794147"/>
                  </a:lnTo>
                  <a:lnTo>
                    <a:pt x="1478756" y="937915"/>
                  </a:lnTo>
                  <a:lnTo>
                    <a:pt x="1047452" y="937915"/>
                  </a:lnTo>
                  <a:lnTo>
                    <a:pt x="1047452" y="691455"/>
                  </a:lnTo>
                  <a:lnTo>
                    <a:pt x="965299" y="691455"/>
                  </a:lnTo>
                  <a:lnTo>
                    <a:pt x="657225" y="1026914"/>
                  </a:lnTo>
                  <a:lnTo>
                    <a:pt x="492918" y="999530"/>
                  </a:lnTo>
                  <a:lnTo>
                    <a:pt x="773608" y="691455"/>
                  </a:lnTo>
                  <a:lnTo>
                    <a:pt x="540841" y="691455"/>
                  </a:lnTo>
                  <a:lnTo>
                    <a:pt x="540841" y="410766"/>
                  </a:lnTo>
                  <a:lnTo>
                    <a:pt x="458688" y="3696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68"/>
          <p:cNvSpPr/>
          <p:nvPr/>
        </p:nvSpPr>
        <p:spPr>
          <a:xfrm>
            <a:off x="1120680" y="1798560"/>
            <a:ext cx="3975120" cy="416160"/>
          </a:xfrm>
          <a:custGeom>
            <a:avLst/>
            <a:gdLst/>
            <a:ahLst/>
            <a:rect l="l" t="t" r="r" b="b"/>
            <a:pathLst>
              <a:path w="3975497" h="416087">
                <a:moveTo>
                  <a:pt x="1843794" y="335236"/>
                </a:moveTo>
                <a:lnTo>
                  <a:pt x="1950281" y="390451"/>
                </a:lnTo>
                <a:lnTo>
                  <a:pt x="1902953" y="414115"/>
                </a:lnTo>
                <a:lnTo>
                  <a:pt x="1796467" y="358899"/>
                </a:lnTo>
                <a:close/>
                <a:moveTo>
                  <a:pt x="1628849" y="335236"/>
                </a:moveTo>
                <a:lnTo>
                  <a:pt x="1676177" y="358899"/>
                </a:lnTo>
                <a:lnTo>
                  <a:pt x="1571662" y="414115"/>
                </a:lnTo>
                <a:lnTo>
                  <a:pt x="1524335" y="390451"/>
                </a:lnTo>
                <a:close/>
                <a:moveTo>
                  <a:pt x="2597088" y="329320"/>
                </a:moveTo>
                <a:lnTo>
                  <a:pt x="2597088" y="370731"/>
                </a:lnTo>
                <a:lnTo>
                  <a:pt x="2713434" y="370731"/>
                </a:lnTo>
                <a:lnTo>
                  <a:pt x="2713434" y="329320"/>
                </a:lnTo>
                <a:close/>
                <a:moveTo>
                  <a:pt x="3128206" y="285936"/>
                </a:moveTo>
                <a:lnTo>
                  <a:pt x="3117442" y="305312"/>
                </a:lnTo>
                <a:lnTo>
                  <a:pt x="3253022" y="336652"/>
                </a:lnTo>
                <a:lnTo>
                  <a:pt x="3391793" y="303684"/>
                </a:lnTo>
                <a:lnTo>
                  <a:pt x="3391793" y="285936"/>
                </a:lnTo>
                <a:close/>
                <a:moveTo>
                  <a:pt x="2597088" y="246497"/>
                </a:moveTo>
                <a:lnTo>
                  <a:pt x="2597088" y="287908"/>
                </a:lnTo>
                <a:lnTo>
                  <a:pt x="2713434" y="287908"/>
                </a:lnTo>
                <a:lnTo>
                  <a:pt x="2713434" y="246497"/>
                </a:lnTo>
                <a:close/>
                <a:moveTo>
                  <a:pt x="1070781" y="232693"/>
                </a:moveTo>
                <a:lnTo>
                  <a:pt x="1070781" y="370731"/>
                </a:lnTo>
                <a:lnTo>
                  <a:pt x="1165436" y="370731"/>
                </a:lnTo>
                <a:lnTo>
                  <a:pt x="1165436" y="232693"/>
                </a:lnTo>
                <a:close/>
                <a:moveTo>
                  <a:pt x="3105857" y="228749"/>
                </a:moveTo>
                <a:lnTo>
                  <a:pt x="3151212" y="244525"/>
                </a:lnTo>
                <a:lnTo>
                  <a:pt x="3464756" y="244525"/>
                </a:lnTo>
                <a:lnTo>
                  <a:pt x="3464756" y="285936"/>
                </a:lnTo>
                <a:lnTo>
                  <a:pt x="3439120" y="285936"/>
                </a:lnTo>
                <a:lnTo>
                  <a:pt x="3439120" y="329320"/>
                </a:lnTo>
                <a:lnTo>
                  <a:pt x="3329635" y="354362"/>
                </a:lnTo>
                <a:lnTo>
                  <a:pt x="3468700" y="386507"/>
                </a:lnTo>
                <a:lnTo>
                  <a:pt x="3433204" y="414115"/>
                </a:lnTo>
                <a:lnTo>
                  <a:pt x="3250499" y="372462"/>
                </a:lnTo>
                <a:lnTo>
                  <a:pt x="3068389" y="414115"/>
                </a:lnTo>
                <a:lnTo>
                  <a:pt x="3034866" y="388479"/>
                </a:lnTo>
                <a:lnTo>
                  <a:pt x="3174867" y="355219"/>
                </a:lnTo>
                <a:lnTo>
                  <a:pt x="3052613" y="327348"/>
                </a:lnTo>
                <a:lnTo>
                  <a:pt x="3074975" y="285936"/>
                </a:lnTo>
                <a:lnTo>
                  <a:pt x="3042754" y="285936"/>
                </a:lnTo>
                <a:lnTo>
                  <a:pt x="3042754" y="244525"/>
                </a:lnTo>
                <a:lnTo>
                  <a:pt x="3097338" y="244525"/>
                </a:lnTo>
                <a:close/>
                <a:moveTo>
                  <a:pt x="1309390" y="153814"/>
                </a:moveTo>
                <a:lnTo>
                  <a:pt x="1352773" y="254385"/>
                </a:lnTo>
                <a:lnTo>
                  <a:pt x="1317278" y="287908"/>
                </a:lnTo>
                <a:lnTo>
                  <a:pt x="1273894" y="187338"/>
                </a:lnTo>
                <a:close/>
                <a:moveTo>
                  <a:pt x="3340521" y="132123"/>
                </a:moveTo>
                <a:lnTo>
                  <a:pt x="3340521" y="169590"/>
                </a:lnTo>
                <a:lnTo>
                  <a:pt x="3409540" y="169590"/>
                </a:lnTo>
                <a:lnTo>
                  <a:pt x="3409540" y="132123"/>
                </a:lnTo>
                <a:close/>
                <a:moveTo>
                  <a:pt x="3216287" y="132123"/>
                </a:moveTo>
                <a:lnTo>
                  <a:pt x="3216287" y="169590"/>
                </a:lnTo>
                <a:lnTo>
                  <a:pt x="3291222" y="169590"/>
                </a:lnTo>
                <a:lnTo>
                  <a:pt x="3291222" y="132123"/>
                </a:lnTo>
                <a:close/>
                <a:moveTo>
                  <a:pt x="3095997" y="132123"/>
                </a:moveTo>
                <a:lnTo>
                  <a:pt x="3095997" y="169590"/>
                </a:lnTo>
                <a:lnTo>
                  <a:pt x="3166988" y="169590"/>
                </a:lnTo>
                <a:lnTo>
                  <a:pt x="3166988" y="132123"/>
                </a:lnTo>
                <a:close/>
                <a:moveTo>
                  <a:pt x="2039019" y="120291"/>
                </a:moveTo>
                <a:lnTo>
                  <a:pt x="2078459" y="151842"/>
                </a:lnTo>
                <a:lnTo>
                  <a:pt x="2060711" y="414115"/>
                </a:lnTo>
                <a:lnTo>
                  <a:pt x="2023244" y="386507"/>
                </a:lnTo>
                <a:close/>
                <a:moveTo>
                  <a:pt x="2313124" y="104515"/>
                </a:moveTo>
                <a:lnTo>
                  <a:pt x="2350591" y="134094"/>
                </a:lnTo>
                <a:lnTo>
                  <a:pt x="2279600" y="414115"/>
                </a:lnTo>
                <a:lnTo>
                  <a:pt x="2244105" y="384535"/>
                </a:lnTo>
                <a:close/>
                <a:moveTo>
                  <a:pt x="1070781" y="72963"/>
                </a:moveTo>
                <a:lnTo>
                  <a:pt x="1070781" y="189310"/>
                </a:lnTo>
                <a:lnTo>
                  <a:pt x="1165436" y="189310"/>
                </a:lnTo>
                <a:lnTo>
                  <a:pt x="1165436" y="72963"/>
                </a:lnTo>
                <a:close/>
                <a:moveTo>
                  <a:pt x="3216287" y="53244"/>
                </a:moveTo>
                <a:lnTo>
                  <a:pt x="3216287" y="90711"/>
                </a:lnTo>
                <a:lnTo>
                  <a:pt x="3291222" y="90711"/>
                </a:lnTo>
                <a:lnTo>
                  <a:pt x="3291222" y="53244"/>
                </a:lnTo>
                <a:close/>
                <a:moveTo>
                  <a:pt x="2806117" y="17748"/>
                </a:moveTo>
                <a:lnTo>
                  <a:pt x="2963875" y="17748"/>
                </a:lnTo>
                <a:lnTo>
                  <a:pt x="2925135" y="189310"/>
                </a:lnTo>
                <a:lnTo>
                  <a:pt x="2954015" y="189310"/>
                </a:lnTo>
                <a:lnTo>
                  <a:pt x="2954015" y="394395"/>
                </a:lnTo>
                <a:lnTo>
                  <a:pt x="2886968" y="394395"/>
                </a:lnTo>
                <a:lnTo>
                  <a:pt x="2886968" y="351012"/>
                </a:lnTo>
                <a:lnTo>
                  <a:pt x="2906687" y="351012"/>
                </a:lnTo>
                <a:lnTo>
                  <a:pt x="2906687" y="190348"/>
                </a:lnTo>
                <a:lnTo>
                  <a:pt x="2884996" y="175506"/>
                </a:lnTo>
                <a:lnTo>
                  <a:pt x="2912603" y="61131"/>
                </a:lnTo>
                <a:lnTo>
                  <a:pt x="2853444" y="61131"/>
                </a:lnTo>
                <a:lnTo>
                  <a:pt x="2853444" y="414115"/>
                </a:lnTo>
                <a:lnTo>
                  <a:pt x="2806117" y="414115"/>
                </a:lnTo>
                <a:close/>
                <a:moveTo>
                  <a:pt x="788789" y="17748"/>
                </a:moveTo>
                <a:lnTo>
                  <a:pt x="836116" y="17748"/>
                </a:lnTo>
                <a:lnTo>
                  <a:pt x="836116" y="321432"/>
                </a:lnTo>
                <a:lnTo>
                  <a:pt x="788789" y="321432"/>
                </a:lnTo>
                <a:close/>
                <a:moveTo>
                  <a:pt x="508769" y="15776"/>
                </a:moveTo>
                <a:lnTo>
                  <a:pt x="743433" y="15776"/>
                </a:lnTo>
                <a:lnTo>
                  <a:pt x="743433" y="59160"/>
                </a:lnTo>
                <a:lnTo>
                  <a:pt x="605395" y="59160"/>
                </a:lnTo>
                <a:lnTo>
                  <a:pt x="569900" y="141982"/>
                </a:lnTo>
                <a:lnTo>
                  <a:pt x="686246" y="141982"/>
                </a:lnTo>
                <a:lnTo>
                  <a:pt x="676386" y="108459"/>
                </a:lnTo>
                <a:lnTo>
                  <a:pt x="713854" y="82823"/>
                </a:lnTo>
                <a:lnTo>
                  <a:pt x="743433" y="181422"/>
                </a:lnTo>
                <a:lnTo>
                  <a:pt x="652723" y="181422"/>
                </a:lnTo>
                <a:lnTo>
                  <a:pt x="652723" y="248469"/>
                </a:lnTo>
                <a:lnTo>
                  <a:pt x="741461" y="248469"/>
                </a:lnTo>
                <a:lnTo>
                  <a:pt x="741461" y="289880"/>
                </a:lnTo>
                <a:lnTo>
                  <a:pt x="652723" y="289880"/>
                </a:lnTo>
                <a:lnTo>
                  <a:pt x="652723" y="358111"/>
                </a:lnTo>
                <a:lnTo>
                  <a:pt x="735546" y="347068"/>
                </a:lnTo>
                <a:lnTo>
                  <a:pt x="753293" y="384535"/>
                </a:lnTo>
                <a:lnTo>
                  <a:pt x="514685" y="414115"/>
                </a:lnTo>
                <a:lnTo>
                  <a:pt x="498909" y="378619"/>
                </a:lnTo>
                <a:lnTo>
                  <a:pt x="603423" y="364684"/>
                </a:lnTo>
                <a:lnTo>
                  <a:pt x="603423" y="289880"/>
                </a:lnTo>
                <a:lnTo>
                  <a:pt x="514685" y="289880"/>
                </a:lnTo>
                <a:lnTo>
                  <a:pt x="514685" y="248469"/>
                </a:lnTo>
                <a:lnTo>
                  <a:pt x="603423" y="248469"/>
                </a:lnTo>
                <a:lnTo>
                  <a:pt x="603423" y="181422"/>
                </a:lnTo>
                <a:lnTo>
                  <a:pt x="506797" y="181422"/>
                </a:lnTo>
                <a:lnTo>
                  <a:pt x="558068" y="59160"/>
                </a:lnTo>
                <a:lnTo>
                  <a:pt x="508769" y="59160"/>
                </a:lnTo>
                <a:close/>
                <a:moveTo>
                  <a:pt x="3040782" y="11832"/>
                </a:moveTo>
                <a:lnTo>
                  <a:pt x="3464756" y="11832"/>
                </a:lnTo>
                <a:lnTo>
                  <a:pt x="3464756" y="53244"/>
                </a:lnTo>
                <a:lnTo>
                  <a:pt x="3340521" y="53244"/>
                </a:lnTo>
                <a:lnTo>
                  <a:pt x="3340521" y="90711"/>
                </a:lnTo>
                <a:lnTo>
                  <a:pt x="3456868" y="90711"/>
                </a:lnTo>
                <a:lnTo>
                  <a:pt x="3456868" y="209029"/>
                </a:lnTo>
                <a:lnTo>
                  <a:pt x="3046698" y="209029"/>
                </a:lnTo>
                <a:lnTo>
                  <a:pt x="3046698" y="90711"/>
                </a:lnTo>
                <a:lnTo>
                  <a:pt x="3166988" y="90711"/>
                </a:lnTo>
                <a:lnTo>
                  <a:pt x="3166988" y="53244"/>
                </a:lnTo>
                <a:lnTo>
                  <a:pt x="3040782" y="53244"/>
                </a:lnTo>
                <a:close/>
                <a:moveTo>
                  <a:pt x="2603004" y="11832"/>
                </a:moveTo>
                <a:lnTo>
                  <a:pt x="2652303" y="11832"/>
                </a:lnTo>
                <a:lnTo>
                  <a:pt x="2652303" y="31552"/>
                </a:lnTo>
                <a:lnTo>
                  <a:pt x="2703574" y="31552"/>
                </a:lnTo>
                <a:lnTo>
                  <a:pt x="2703574" y="72963"/>
                </a:lnTo>
                <a:lnTo>
                  <a:pt x="2652303" y="72963"/>
                </a:lnTo>
                <a:lnTo>
                  <a:pt x="2652303" y="118319"/>
                </a:lnTo>
                <a:lnTo>
                  <a:pt x="2689770" y="118319"/>
                </a:lnTo>
                <a:lnTo>
                  <a:pt x="2739070" y="11832"/>
                </a:lnTo>
                <a:lnTo>
                  <a:pt x="2772593" y="37468"/>
                </a:lnTo>
                <a:lnTo>
                  <a:pt x="2737098" y="118319"/>
                </a:lnTo>
                <a:lnTo>
                  <a:pt x="2764705" y="118319"/>
                </a:lnTo>
                <a:lnTo>
                  <a:pt x="2764705" y="161702"/>
                </a:lnTo>
                <a:lnTo>
                  <a:pt x="2620751" y="161702"/>
                </a:lnTo>
                <a:lnTo>
                  <a:pt x="2599060" y="203114"/>
                </a:lnTo>
                <a:lnTo>
                  <a:pt x="2760761" y="203114"/>
                </a:lnTo>
                <a:lnTo>
                  <a:pt x="2760761" y="414115"/>
                </a:lnTo>
                <a:lnTo>
                  <a:pt x="2547788" y="414115"/>
                </a:lnTo>
                <a:lnTo>
                  <a:pt x="2547788" y="248469"/>
                </a:lnTo>
                <a:lnTo>
                  <a:pt x="2530041" y="236637"/>
                </a:lnTo>
                <a:lnTo>
                  <a:pt x="2571452" y="161702"/>
                </a:lnTo>
                <a:lnTo>
                  <a:pt x="2539901" y="161702"/>
                </a:lnTo>
                <a:lnTo>
                  <a:pt x="2539901" y="118319"/>
                </a:lnTo>
                <a:lnTo>
                  <a:pt x="2603004" y="118319"/>
                </a:lnTo>
                <a:lnTo>
                  <a:pt x="2603004" y="72963"/>
                </a:lnTo>
                <a:lnTo>
                  <a:pt x="2549760" y="72963"/>
                </a:lnTo>
                <a:lnTo>
                  <a:pt x="2549760" y="31552"/>
                </a:lnTo>
                <a:lnTo>
                  <a:pt x="2603004" y="31552"/>
                </a:lnTo>
                <a:close/>
                <a:moveTo>
                  <a:pt x="3941973" y="9860"/>
                </a:moveTo>
                <a:lnTo>
                  <a:pt x="3973525" y="72963"/>
                </a:lnTo>
                <a:lnTo>
                  <a:pt x="3943945" y="108459"/>
                </a:lnTo>
                <a:lnTo>
                  <a:pt x="3912394" y="45356"/>
                </a:lnTo>
                <a:close/>
                <a:moveTo>
                  <a:pt x="3835487" y="9860"/>
                </a:moveTo>
                <a:lnTo>
                  <a:pt x="3836464" y="38791"/>
                </a:lnTo>
                <a:lnTo>
                  <a:pt x="3884786" y="35496"/>
                </a:lnTo>
                <a:lnTo>
                  <a:pt x="3894646" y="72963"/>
                </a:lnTo>
                <a:lnTo>
                  <a:pt x="3837771" y="77487"/>
                </a:lnTo>
                <a:lnTo>
                  <a:pt x="3840296" y="152233"/>
                </a:lnTo>
                <a:lnTo>
                  <a:pt x="3949861" y="130151"/>
                </a:lnTo>
                <a:lnTo>
                  <a:pt x="3969581" y="165646"/>
                </a:lnTo>
                <a:lnTo>
                  <a:pt x="3841621" y="191436"/>
                </a:lnTo>
                <a:lnTo>
                  <a:pt x="3844827" y="286341"/>
                </a:lnTo>
                <a:lnTo>
                  <a:pt x="3940001" y="220861"/>
                </a:lnTo>
                <a:lnTo>
                  <a:pt x="3975497" y="246497"/>
                </a:lnTo>
                <a:lnTo>
                  <a:pt x="3870831" y="319088"/>
                </a:lnTo>
                <a:lnTo>
                  <a:pt x="3975497" y="390451"/>
                </a:lnTo>
                <a:lnTo>
                  <a:pt x="3940001" y="414115"/>
                </a:lnTo>
                <a:lnTo>
                  <a:pt x="3833399" y="345049"/>
                </a:lnTo>
                <a:lnTo>
                  <a:pt x="3730972" y="416087"/>
                </a:lnTo>
                <a:lnTo>
                  <a:pt x="3693505" y="390451"/>
                </a:lnTo>
                <a:lnTo>
                  <a:pt x="3799797" y="317322"/>
                </a:lnTo>
                <a:lnTo>
                  <a:pt x="3796081" y="200615"/>
                </a:lnTo>
                <a:lnTo>
                  <a:pt x="3715196" y="216917"/>
                </a:lnTo>
                <a:lnTo>
                  <a:pt x="3695477" y="181422"/>
                </a:lnTo>
                <a:lnTo>
                  <a:pt x="3794832" y="161397"/>
                </a:lnTo>
                <a:lnTo>
                  <a:pt x="3792275" y="81106"/>
                </a:lnTo>
                <a:lnTo>
                  <a:pt x="3721112" y="86767"/>
                </a:lnTo>
                <a:lnTo>
                  <a:pt x="3711252" y="47328"/>
                </a:lnTo>
                <a:lnTo>
                  <a:pt x="3791026" y="41889"/>
                </a:lnTo>
                <a:lnTo>
                  <a:pt x="3790131" y="13804"/>
                </a:lnTo>
                <a:close/>
                <a:moveTo>
                  <a:pt x="299740" y="7888"/>
                </a:moveTo>
                <a:lnTo>
                  <a:pt x="309968" y="103145"/>
                </a:lnTo>
                <a:lnTo>
                  <a:pt x="431862" y="88739"/>
                </a:lnTo>
                <a:lnTo>
                  <a:pt x="443694" y="128179"/>
                </a:lnTo>
                <a:lnTo>
                  <a:pt x="314423" y="144631"/>
                </a:lnTo>
                <a:lnTo>
                  <a:pt x="324785" y="241119"/>
                </a:lnTo>
                <a:lnTo>
                  <a:pt x="398338" y="157758"/>
                </a:lnTo>
                <a:lnTo>
                  <a:pt x="439750" y="177478"/>
                </a:lnTo>
                <a:lnTo>
                  <a:pt x="331152" y="300418"/>
                </a:lnTo>
                <a:lnTo>
                  <a:pt x="331291" y="301712"/>
                </a:lnTo>
                <a:lnTo>
                  <a:pt x="443694" y="384535"/>
                </a:lnTo>
                <a:lnTo>
                  <a:pt x="410170" y="414115"/>
                </a:lnTo>
                <a:lnTo>
                  <a:pt x="299867" y="335835"/>
                </a:lnTo>
                <a:lnTo>
                  <a:pt x="230721" y="414115"/>
                </a:lnTo>
                <a:lnTo>
                  <a:pt x="191281" y="392423"/>
                </a:lnTo>
                <a:lnTo>
                  <a:pt x="283449" y="287966"/>
                </a:lnTo>
                <a:lnTo>
                  <a:pt x="267893" y="150553"/>
                </a:lnTo>
                <a:lnTo>
                  <a:pt x="226777" y="155786"/>
                </a:lnTo>
                <a:lnTo>
                  <a:pt x="214945" y="114375"/>
                </a:lnTo>
                <a:lnTo>
                  <a:pt x="263153" y="108677"/>
                </a:lnTo>
                <a:lnTo>
                  <a:pt x="252412" y="13804"/>
                </a:lnTo>
                <a:close/>
                <a:moveTo>
                  <a:pt x="65075" y="7888"/>
                </a:moveTo>
                <a:lnTo>
                  <a:pt x="112402" y="7888"/>
                </a:lnTo>
                <a:lnTo>
                  <a:pt x="112402" y="69019"/>
                </a:lnTo>
                <a:lnTo>
                  <a:pt x="197197" y="69019"/>
                </a:lnTo>
                <a:lnTo>
                  <a:pt x="197197" y="112403"/>
                </a:lnTo>
                <a:lnTo>
                  <a:pt x="112402" y="112403"/>
                </a:lnTo>
                <a:lnTo>
                  <a:pt x="112402" y="232022"/>
                </a:lnTo>
                <a:lnTo>
                  <a:pt x="191281" y="214945"/>
                </a:lnTo>
                <a:lnTo>
                  <a:pt x="209029" y="254385"/>
                </a:lnTo>
                <a:lnTo>
                  <a:pt x="112402" y="275304"/>
                </a:lnTo>
                <a:lnTo>
                  <a:pt x="112402" y="414115"/>
                </a:lnTo>
                <a:lnTo>
                  <a:pt x="3944" y="414115"/>
                </a:lnTo>
                <a:lnTo>
                  <a:pt x="3944" y="370731"/>
                </a:lnTo>
                <a:lnTo>
                  <a:pt x="65075" y="370731"/>
                </a:lnTo>
                <a:lnTo>
                  <a:pt x="65075" y="285550"/>
                </a:lnTo>
                <a:lnTo>
                  <a:pt x="17748" y="295796"/>
                </a:lnTo>
                <a:lnTo>
                  <a:pt x="0" y="256357"/>
                </a:lnTo>
                <a:lnTo>
                  <a:pt x="65075" y="242268"/>
                </a:lnTo>
                <a:lnTo>
                  <a:pt x="65075" y="112403"/>
                </a:lnTo>
                <a:lnTo>
                  <a:pt x="3944" y="112403"/>
                </a:lnTo>
                <a:lnTo>
                  <a:pt x="3944" y="69019"/>
                </a:lnTo>
                <a:lnTo>
                  <a:pt x="65075" y="69019"/>
                </a:lnTo>
                <a:close/>
                <a:moveTo>
                  <a:pt x="2392003" y="5916"/>
                </a:moveTo>
                <a:lnTo>
                  <a:pt x="2439330" y="5916"/>
                </a:lnTo>
                <a:lnTo>
                  <a:pt x="2439330" y="47328"/>
                </a:lnTo>
                <a:lnTo>
                  <a:pt x="2461022" y="47328"/>
                </a:lnTo>
                <a:lnTo>
                  <a:pt x="2461022" y="90711"/>
                </a:lnTo>
                <a:lnTo>
                  <a:pt x="2439330" y="90711"/>
                </a:lnTo>
                <a:lnTo>
                  <a:pt x="2439330" y="414115"/>
                </a:lnTo>
                <a:lnTo>
                  <a:pt x="2350591" y="414115"/>
                </a:lnTo>
                <a:lnTo>
                  <a:pt x="2350591" y="372703"/>
                </a:lnTo>
                <a:lnTo>
                  <a:pt x="2392003" y="372703"/>
                </a:lnTo>
                <a:lnTo>
                  <a:pt x="2392003" y="90711"/>
                </a:lnTo>
                <a:lnTo>
                  <a:pt x="2261852" y="90711"/>
                </a:lnTo>
                <a:lnTo>
                  <a:pt x="2261852" y="47328"/>
                </a:lnTo>
                <a:lnTo>
                  <a:pt x="2392003" y="47328"/>
                </a:lnTo>
                <a:close/>
                <a:moveTo>
                  <a:pt x="2131702" y="5916"/>
                </a:moveTo>
                <a:lnTo>
                  <a:pt x="2179030" y="5916"/>
                </a:lnTo>
                <a:lnTo>
                  <a:pt x="2179030" y="49300"/>
                </a:lnTo>
                <a:lnTo>
                  <a:pt x="2222413" y="49300"/>
                </a:lnTo>
                <a:lnTo>
                  <a:pt x="2222413" y="92683"/>
                </a:lnTo>
                <a:lnTo>
                  <a:pt x="2179030" y="92683"/>
                </a:lnTo>
                <a:lnTo>
                  <a:pt x="2179030" y="187338"/>
                </a:lnTo>
                <a:lnTo>
                  <a:pt x="2234245" y="228749"/>
                </a:lnTo>
                <a:lnTo>
                  <a:pt x="2224385" y="274105"/>
                </a:lnTo>
                <a:lnTo>
                  <a:pt x="2179030" y="240581"/>
                </a:lnTo>
                <a:lnTo>
                  <a:pt x="2179030" y="414115"/>
                </a:lnTo>
                <a:lnTo>
                  <a:pt x="2131702" y="414115"/>
                </a:lnTo>
                <a:lnTo>
                  <a:pt x="2131702" y="90711"/>
                </a:lnTo>
                <a:lnTo>
                  <a:pt x="2023244" y="90711"/>
                </a:lnTo>
                <a:lnTo>
                  <a:pt x="2023244" y="49300"/>
                </a:lnTo>
                <a:lnTo>
                  <a:pt x="2131702" y="49300"/>
                </a:lnTo>
                <a:close/>
                <a:moveTo>
                  <a:pt x="1713644" y="5916"/>
                </a:moveTo>
                <a:lnTo>
                  <a:pt x="1760971" y="5916"/>
                </a:lnTo>
                <a:lnTo>
                  <a:pt x="1760971" y="23664"/>
                </a:lnTo>
                <a:lnTo>
                  <a:pt x="1944365" y="23664"/>
                </a:lnTo>
                <a:lnTo>
                  <a:pt x="1944365" y="61131"/>
                </a:lnTo>
                <a:lnTo>
                  <a:pt x="1760971" y="61131"/>
                </a:lnTo>
                <a:lnTo>
                  <a:pt x="1760971" y="80851"/>
                </a:lnTo>
                <a:lnTo>
                  <a:pt x="1934505" y="80851"/>
                </a:lnTo>
                <a:lnTo>
                  <a:pt x="1934505" y="120291"/>
                </a:lnTo>
                <a:lnTo>
                  <a:pt x="1760971" y="120291"/>
                </a:lnTo>
                <a:lnTo>
                  <a:pt x="1760971" y="145926"/>
                </a:lnTo>
                <a:lnTo>
                  <a:pt x="1946337" y="145926"/>
                </a:lnTo>
                <a:lnTo>
                  <a:pt x="1946337" y="181422"/>
                </a:lnTo>
                <a:lnTo>
                  <a:pt x="1776747" y="181422"/>
                </a:lnTo>
                <a:lnTo>
                  <a:pt x="1735336" y="211001"/>
                </a:lnTo>
                <a:lnTo>
                  <a:pt x="1842002" y="211001"/>
                </a:lnTo>
                <a:lnTo>
                  <a:pt x="1900981" y="197198"/>
                </a:lnTo>
                <a:lnTo>
                  <a:pt x="1952253" y="216917"/>
                </a:lnTo>
                <a:lnTo>
                  <a:pt x="1699840" y="278048"/>
                </a:lnTo>
                <a:lnTo>
                  <a:pt x="1873374" y="278048"/>
                </a:lnTo>
                <a:lnTo>
                  <a:pt x="1865486" y="262273"/>
                </a:lnTo>
                <a:lnTo>
                  <a:pt x="1916757" y="254385"/>
                </a:lnTo>
                <a:lnTo>
                  <a:pt x="1946337" y="313544"/>
                </a:lnTo>
                <a:lnTo>
                  <a:pt x="1762943" y="313544"/>
                </a:lnTo>
                <a:lnTo>
                  <a:pt x="1762943" y="414115"/>
                </a:lnTo>
                <a:lnTo>
                  <a:pt x="1689980" y="414115"/>
                </a:lnTo>
                <a:lnTo>
                  <a:pt x="1689980" y="374675"/>
                </a:lnTo>
                <a:lnTo>
                  <a:pt x="1715616" y="374675"/>
                </a:lnTo>
                <a:lnTo>
                  <a:pt x="1715616" y="315516"/>
                </a:lnTo>
                <a:lnTo>
                  <a:pt x="1530251" y="315516"/>
                </a:lnTo>
                <a:lnTo>
                  <a:pt x="1530251" y="283964"/>
                </a:lnTo>
                <a:lnTo>
                  <a:pt x="1690339" y="246497"/>
                </a:lnTo>
                <a:lnTo>
                  <a:pt x="1536167" y="246497"/>
                </a:lnTo>
                <a:lnTo>
                  <a:pt x="1536167" y="209029"/>
                </a:lnTo>
                <a:lnTo>
                  <a:pt x="1668289" y="209029"/>
                </a:lnTo>
                <a:lnTo>
                  <a:pt x="1707728" y="181422"/>
                </a:lnTo>
                <a:lnTo>
                  <a:pt x="1528279" y="181422"/>
                </a:lnTo>
                <a:lnTo>
                  <a:pt x="1528279" y="145926"/>
                </a:lnTo>
                <a:lnTo>
                  <a:pt x="1713644" y="145926"/>
                </a:lnTo>
                <a:lnTo>
                  <a:pt x="1713644" y="120291"/>
                </a:lnTo>
                <a:lnTo>
                  <a:pt x="1540110" y="120291"/>
                </a:lnTo>
                <a:lnTo>
                  <a:pt x="1540110" y="80851"/>
                </a:lnTo>
                <a:lnTo>
                  <a:pt x="1713644" y="80851"/>
                </a:lnTo>
                <a:lnTo>
                  <a:pt x="1713644" y="61131"/>
                </a:lnTo>
                <a:lnTo>
                  <a:pt x="1530251" y="61131"/>
                </a:lnTo>
                <a:lnTo>
                  <a:pt x="1530251" y="23664"/>
                </a:lnTo>
                <a:lnTo>
                  <a:pt x="1713644" y="23664"/>
                </a:lnTo>
                <a:close/>
                <a:moveTo>
                  <a:pt x="887387" y="5916"/>
                </a:moveTo>
                <a:lnTo>
                  <a:pt x="936687" y="5916"/>
                </a:lnTo>
                <a:lnTo>
                  <a:pt x="936687" y="414115"/>
                </a:lnTo>
                <a:lnTo>
                  <a:pt x="798649" y="414115"/>
                </a:lnTo>
                <a:lnTo>
                  <a:pt x="798649" y="370731"/>
                </a:lnTo>
                <a:lnTo>
                  <a:pt x="887387" y="370731"/>
                </a:lnTo>
                <a:close/>
                <a:moveTo>
                  <a:pt x="1273894" y="3944"/>
                </a:moveTo>
                <a:lnTo>
                  <a:pt x="1300247" y="17748"/>
                </a:lnTo>
                <a:lnTo>
                  <a:pt x="1445456" y="17748"/>
                </a:lnTo>
                <a:lnTo>
                  <a:pt x="1441512" y="414115"/>
                </a:lnTo>
                <a:lnTo>
                  <a:pt x="1315306" y="414115"/>
                </a:lnTo>
                <a:lnTo>
                  <a:pt x="1315306" y="370731"/>
                </a:lnTo>
                <a:lnTo>
                  <a:pt x="1392213" y="370731"/>
                </a:lnTo>
                <a:lnTo>
                  <a:pt x="1396156" y="61131"/>
                </a:lnTo>
                <a:lnTo>
                  <a:pt x="1306854" y="61131"/>
                </a:lnTo>
                <a:lnTo>
                  <a:pt x="1285726" y="149870"/>
                </a:lnTo>
                <a:lnTo>
                  <a:pt x="1244315" y="128179"/>
                </a:lnTo>
                <a:close/>
                <a:moveTo>
                  <a:pt x="392422" y="1972"/>
                </a:moveTo>
                <a:lnTo>
                  <a:pt x="439750" y="47328"/>
                </a:lnTo>
                <a:lnTo>
                  <a:pt x="392422" y="63103"/>
                </a:lnTo>
                <a:lnTo>
                  <a:pt x="345095" y="17748"/>
                </a:lnTo>
                <a:close/>
                <a:moveTo>
                  <a:pt x="3567298" y="0"/>
                </a:moveTo>
                <a:lnTo>
                  <a:pt x="3606738" y="25636"/>
                </a:lnTo>
                <a:lnTo>
                  <a:pt x="3599649" y="53244"/>
                </a:lnTo>
                <a:lnTo>
                  <a:pt x="3681673" y="53244"/>
                </a:lnTo>
                <a:lnTo>
                  <a:pt x="3681673" y="94655"/>
                </a:lnTo>
                <a:lnTo>
                  <a:pt x="3589017" y="94655"/>
                </a:lnTo>
                <a:lnTo>
                  <a:pt x="3579903" y="130151"/>
                </a:lnTo>
                <a:lnTo>
                  <a:pt x="3667869" y="130151"/>
                </a:lnTo>
                <a:lnTo>
                  <a:pt x="3667869" y="171562"/>
                </a:lnTo>
                <a:lnTo>
                  <a:pt x="3618570" y="171562"/>
                </a:lnTo>
                <a:lnTo>
                  <a:pt x="3618570" y="211001"/>
                </a:lnTo>
                <a:lnTo>
                  <a:pt x="3683645" y="211001"/>
                </a:lnTo>
                <a:lnTo>
                  <a:pt x="3683645" y="254385"/>
                </a:lnTo>
                <a:lnTo>
                  <a:pt x="3618570" y="254385"/>
                </a:lnTo>
                <a:lnTo>
                  <a:pt x="3618570" y="332231"/>
                </a:lnTo>
                <a:lnTo>
                  <a:pt x="3661953" y="311572"/>
                </a:lnTo>
                <a:lnTo>
                  <a:pt x="3671813" y="352984"/>
                </a:lnTo>
                <a:lnTo>
                  <a:pt x="3549551" y="412143"/>
                </a:lnTo>
                <a:lnTo>
                  <a:pt x="3537719" y="370731"/>
                </a:lnTo>
                <a:lnTo>
                  <a:pt x="3569270" y="355707"/>
                </a:lnTo>
                <a:lnTo>
                  <a:pt x="3569270" y="254385"/>
                </a:lnTo>
                <a:lnTo>
                  <a:pt x="3537719" y="254385"/>
                </a:lnTo>
                <a:lnTo>
                  <a:pt x="3537719" y="211001"/>
                </a:lnTo>
                <a:lnTo>
                  <a:pt x="3569270" y="211001"/>
                </a:lnTo>
                <a:lnTo>
                  <a:pt x="3569270" y="171562"/>
                </a:lnTo>
                <a:lnTo>
                  <a:pt x="3531803" y="145926"/>
                </a:lnTo>
                <a:close/>
                <a:moveTo>
                  <a:pt x="1090501" y="0"/>
                </a:moveTo>
                <a:lnTo>
                  <a:pt x="1141772" y="7888"/>
                </a:lnTo>
                <a:lnTo>
                  <a:pt x="1135856" y="29580"/>
                </a:lnTo>
                <a:lnTo>
                  <a:pt x="1212763" y="29580"/>
                </a:lnTo>
                <a:lnTo>
                  <a:pt x="1212763" y="414115"/>
                </a:lnTo>
                <a:lnTo>
                  <a:pt x="1021482" y="414115"/>
                </a:lnTo>
                <a:lnTo>
                  <a:pt x="1021482" y="29580"/>
                </a:lnTo>
                <a:lnTo>
                  <a:pt x="1080641" y="295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3.7037E-007 C 0.00443 3.7037E-007 0.0082 0.00347 0.0082 0.0081 C 0.0082 0.0125 0.00443 0.0162 -2.08333E-007 0.0162 C -0.00456 0.0162 -0.00807 0.0125 -0.00807 0.0081 C -0.00807 0.00347 -0.00456 3.7037E-007 -2.08333E-007 3.7037E-007 Z">
                                      <p:cBhvr>
                                        <p:cTn id="327" dur="175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29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autoRev="1" nodeType="withEffect" fill="hold" presetClass="emph" presetID="8" repeatCount="indefinite">
                                  <p:stCondLst>
                                    <p:cond delay="250"/>
                                  </p:stCondLst>
                                  <p:childTnLst>
                                    <p:animRot by="1200000">
                                      <p:cBhvr>
                                        <p:cTn id="33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3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矩形 318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190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070781" y="214945"/>
                </a:moveTo>
                <a:lnTo>
                  <a:pt x="1070781" y="341152"/>
                </a:lnTo>
                <a:lnTo>
                  <a:pt x="1267978" y="341152"/>
                </a:lnTo>
                <a:lnTo>
                  <a:pt x="1267978" y="214945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17538" y="17748"/>
                </a:moveTo>
                <a:lnTo>
                  <a:pt x="1319249" y="17748"/>
                </a:lnTo>
                <a:lnTo>
                  <a:pt x="1319249" y="61131"/>
                </a:lnTo>
                <a:lnTo>
                  <a:pt x="1070781" y="61131"/>
                </a:lnTo>
                <a:lnTo>
                  <a:pt x="1070781" y="171562"/>
                </a:lnTo>
                <a:lnTo>
                  <a:pt x="1319249" y="171562"/>
                </a:lnTo>
                <a:lnTo>
                  <a:pt x="1319249" y="384535"/>
                </a:lnTo>
                <a:lnTo>
                  <a:pt x="1017538" y="384535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191"/>
          <p:cNvSpPr/>
          <p:nvPr/>
        </p:nvSpPr>
        <p:spPr>
          <a:xfrm>
            <a:off x="1130400" y="1798560"/>
            <a:ext cx="2436840" cy="414360"/>
          </a:xfrm>
          <a:custGeom>
            <a:avLst/>
            <a:gdLst/>
            <a:ahLst/>
            <a:rect l="l" t="t" r="r" b="b"/>
            <a:pathLst>
              <a:path w="2435721" h="414115">
                <a:moveTo>
                  <a:pt x="1682427" y="345096"/>
                </a:moveTo>
                <a:lnTo>
                  <a:pt x="1723839" y="400311"/>
                </a:lnTo>
                <a:lnTo>
                  <a:pt x="1678483" y="414115"/>
                </a:lnTo>
                <a:lnTo>
                  <a:pt x="1637072" y="358899"/>
                </a:lnTo>
                <a:close/>
                <a:moveTo>
                  <a:pt x="2137953" y="299740"/>
                </a:moveTo>
                <a:lnTo>
                  <a:pt x="2187252" y="299740"/>
                </a:lnTo>
                <a:lnTo>
                  <a:pt x="2187252" y="370731"/>
                </a:lnTo>
                <a:lnTo>
                  <a:pt x="2317402" y="370731"/>
                </a:lnTo>
                <a:lnTo>
                  <a:pt x="2317402" y="414115"/>
                </a:lnTo>
                <a:lnTo>
                  <a:pt x="2137953" y="414115"/>
                </a:lnTo>
                <a:close/>
                <a:moveTo>
                  <a:pt x="2402197" y="291852"/>
                </a:moveTo>
                <a:lnTo>
                  <a:pt x="2435721" y="388479"/>
                </a:lnTo>
                <a:lnTo>
                  <a:pt x="2398253" y="414115"/>
                </a:lnTo>
                <a:lnTo>
                  <a:pt x="2362758" y="319460"/>
                </a:lnTo>
                <a:close/>
                <a:moveTo>
                  <a:pt x="2041326" y="291852"/>
                </a:moveTo>
                <a:lnTo>
                  <a:pt x="2080766" y="319460"/>
                </a:lnTo>
                <a:lnTo>
                  <a:pt x="2045270" y="414115"/>
                </a:lnTo>
                <a:lnTo>
                  <a:pt x="2007803" y="388479"/>
                </a:lnTo>
                <a:close/>
                <a:moveTo>
                  <a:pt x="1089521" y="285936"/>
                </a:moveTo>
                <a:lnTo>
                  <a:pt x="1078757" y="305312"/>
                </a:lnTo>
                <a:lnTo>
                  <a:pt x="1214337" y="336652"/>
                </a:lnTo>
                <a:lnTo>
                  <a:pt x="1353108" y="303684"/>
                </a:lnTo>
                <a:lnTo>
                  <a:pt x="1353108" y="285936"/>
                </a:lnTo>
                <a:close/>
                <a:moveTo>
                  <a:pt x="2287823" y="283964"/>
                </a:moveTo>
                <a:lnTo>
                  <a:pt x="2307543" y="329320"/>
                </a:lnTo>
                <a:lnTo>
                  <a:pt x="2272047" y="360871"/>
                </a:lnTo>
                <a:lnTo>
                  <a:pt x="2252327" y="315516"/>
                </a:lnTo>
                <a:close/>
                <a:moveTo>
                  <a:pt x="1067172" y="228749"/>
                </a:moveTo>
                <a:lnTo>
                  <a:pt x="1112527" y="244525"/>
                </a:lnTo>
                <a:lnTo>
                  <a:pt x="1426071" y="244525"/>
                </a:lnTo>
                <a:lnTo>
                  <a:pt x="1426071" y="285936"/>
                </a:lnTo>
                <a:lnTo>
                  <a:pt x="1400435" y="285936"/>
                </a:lnTo>
                <a:lnTo>
                  <a:pt x="1400435" y="329320"/>
                </a:lnTo>
                <a:lnTo>
                  <a:pt x="1290950" y="354362"/>
                </a:lnTo>
                <a:lnTo>
                  <a:pt x="1430015" y="386507"/>
                </a:lnTo>
                <a:lnTo>
                  <a:pt x="1394519" y="414115"/>
                </a:lnTo>
                <a:lnTo>
                  <a:pt x="1211815" y="372462"/>
                </a:lnTo>
                <a:lnTo>
                  <a:pt x="1029704" y="414115"/>
                </a:lnTo>
                <a:lnTo>
                  <a:pt x="996181" y="388479"/>
                </a:lnTo>
                <a:lnTo>
                  <a:pt x="1136182" y="355219"/>
                </a:lnTo>
                <a:lnTo>
                  <a:pt x="1013929" y="327348"/>
                </a:lnTo>
                <a:lnTo>
                  <a:pt x="1036291" y="285936"/>
                </a:lnTo>
                <a:lnTo>
                  <a:pt x="1004069" y="285936"/>
                </a:lnTo>
                <a:lnTo>
                  <a:pt x="1004069" y="244525"/>
                </a:lnTo>
                <a:lnTo>
                  <a:pt x="1058653" y="244525"/>
                </a:lnTo>
                <a:close/>
                <a:moveTo>
                  <a:pt x="1629184" y="214945"/>
                </a:moveTo>
                <a:lnTo>
                  <a:pt x="1924980" y="214945"/>
                </a:lnTo>
                <a:lnTo>
                  <a:pt x="1924980" y="256357"/>
                </a:lnTo>
                <a:lnTo>
                  <a:pt x="1905260" y="256357"/>
                </a:lnTo>
                <a:lnTo>
                  <a:pt x="1905260" y="283964"/>
                </a:lnTo>
                <a:lnTo>
                  <a:pt x="1936812" y="283964"/>
                </a:lnTo>
                <a:lnTo>
                  <a:pt x="1936812" y="325376"/>
                </a:lnTo>
                <a:lnTo>
                  <a:pt x="1905260" y="325376"/>
                </a:lnTo>
                <a:lnTo>
                  <a:pt x="1905260" y="414115"/>
                </a:lnTo>
                <a:lnTo>
                  <a:pt x="1782998" y="414115"/>
                </a:lnTo>
                <a:lnTo>
                  <a:pt x="1782998" y="370731"/>
                </a:lnTo>
                <a:lnTo>
                  <a:pt x="1855961" y="370731"/>
                </a:lnTo>
                <a:lnTo>
                  <a:pt x="1855961" y="325376"/>
                </a:lnTo>
                <a:lnTo>
                  <a:pt x="1619324" y="325376"/>
                </a:lnTo>
                <a:lnTo>
                  <a:pt x="1619324" y="283964"/>
                </a:lnTo>
                <a:lnTo>
                  <a:pt x="1855961" y="283964"/>
                </a:lnTo>
                <a:lnTo>
                  <a:pt x="1855961" y="256357"/>
                </a:lnTo>
                <a:lnTo>
                  <a:pt x="1629184" y="256357"/>
                </a:lnTo>
                <a:close/>
                <a:moveTo>
                  <a:pt x="1560165" y="141982"/>
                </a:moveTo>
                <a:lnTo>
                  <a:pt x="1587773" y="177478"/>
                </a:lnTo>
                <a:lnTo>
                  <a:pt x="1541833" y="250441"/>
                </a:lnTo>
                <a:lnTo>
                  <a:pt x="1568053" y="250441"/>
                </a:lnTo>
                <a:lnTo>
                  <a:pt x="1568053" y="414115"/>
                </a:lnTo>
                <a:lnTo>
                  <a:pt x="1520725" y="414115"/>
                </a:lnTo>
                <a:lnTo>
                  <a:pt x="1520725" y="283964"/>
                </a:lnTo>
                <a:lnTo>
                  <a:pt x="1491146" y="250441"/>
                </a:lnTo>
                <a:close/>
                <a:moveTo>
                  <a:pt x="1301837" y="132123"/>
                </a:moveTo>
                <a:lnTo>
                  <a:pt x="1301837" y="169590"/>
                </a:lnTo>
                <a:lnTo>
                  <a:pt x="1370856" y="169590"/>
                </a:lnTo>
                <a:lnTo>
                  <a:pt x="1370856" y="132123"/>
                </a:lnTo>
                <a:close/>
                <a:moveTo>
                  <a:pt x="1177602" y="132123"/>
                </a:moveTo>
                <a:lnTo>
                  <a:pt x="1177602" y="169590"/>
                </a:lnTo>
                <a:lnTo>
                  <a:pt x="1252537" y="169590"/>
                </a:lnTo>
                <a:lnTo>
                  <a:pt x="1252537" y="132123"/>
                </a:lnTo>
                <a:close/>
                <a:moveTo>
                  <a:pt x="1057312" y="132123"/>
                </a:moveTo>
                <a:lnTo>
                  <a:pt x="1057312" y="169590"/>
                </a:lnTo>
                <a:lnTo>
                  <a:pt x="1128303" y="169590"/>
                </a:lnTo>
                <a:lnTo>
                  <a:pt x="1128303" y="132123"/>
                </a:lnTo>
                <a:close/>
                <a:moveTo>
                  <a:pt x="1682427" y="116347"/>
                </a:moveTo>
                <a:lnTo>
                  <a:pt x="1682427" y="145926"/>
                </a:lnTo>
                <a:lnTo>
                  <a:pt x="1877653" y="145926"/>
                </a:lnTo>
                <a:lnTo>
                  <a:pt x="1877653" y="116347"/>
                </a:lnTo>
                <a:close/>
                <a:moveTo>
                  <a:pt x="394171" y="112403"/>
                </a:moveTo>
                <a:lnTo>
                  <a:pt x="394171" y="214945"/>
                </a:lnTo>
                <a:lnTo>
                  <a:pt x="559817" y="214945"/>
                </a:lnTo>
                <a:lnTo>
                  <a:pt x="559817" y="112403"/>
                </a:lnTo>
                <a:close/>
                <a:moveTo>
                  <a:pt x="51271" y="112403"/>
                </a:moveTo>
                <a:lnTo>
                  <a:pt x="51271" y="214945"/>
                </a:lnTo>
                <a:lnTo>
                  <a:pt x="216917" y="214945"/>
                </a:lnTo>
                <a:lnTo>
                  <a:pt x="216917" y="112403"/>
                </a:lnTo>
                <a:close/>
                <a:moveTo>
                  <a:pt x="666080" y="67047"/>
                </a:moveTo>
                <a:lnTo>
                  <a:pt x="940184" y="67047"/>
                </a:lnTo>
                <a:lnTo>
                  <a:pt x="940184" y="110431"/>
                </a:lnTo>
                <a:lnTo>
                  <a:pt x="827782" y="110431"/>
                </a:lnTo>
                <a:lnTo>
                  <a:pt x="827782" y="384535"/>
                </a:lnTo>
                <a:lnTo>
                  <a:pt x="778482" y="384535"/>
                </a:lnTo>
                <a:lnTo>
                  <a:pt x="778482" y="110431"/>
                </a:lnTo>
                <a:lnTo>
                  <a:pt x="666080" y="110431"/>
                </a:lnTo>
                <a:close/>
                <a:moveTo>
                  <a:pt x="342900" y="67047"/>
                </a:moveTo>
                <a:lnTo>
                  <a:pt x="611088" y="67047"/>
                </a:lnTo>
                <a:lnTo>
                  <a:pt x="611088" y="260301"/>
                </a:lnTo>
                <a:lnTo>
                  <a:pt x="394171" y="260301"/>
                </a:lnTo>
                <a:lnTo>
                  <a:pt x="394171" y="384535"/>
                </a:lnTo>
                <a:lnTo>
                  <a:pt x="342900" y="384535"/>
                </a:lnTo>
                <a:close/>
                <a:moveTo>
                  <a:pt x="0" y="67047"/>
                </a:moveTo>
                <a:lnTo>
                  <a:pt x="268188" y="67047"/>
                </a:lnTo>
                <a:lnTo>
                  <a:pt x="268188" y="260301"/>
                </a:lnTo>
                <a:lnTo>
                  <a:pt x="51271" y="260301"/>
                </a:lnTo>
                <a:lnTo>
                  <a:pt x="51271" y="384535"/>
                </a:lnTo>
                <a:lnTo>
                  <a:pt x="0" y="384535"/>
                </a:lnTo>
                <a:close/>
                <a:moveTo>
                  <a:pt x="2063780" y="59160"/>
                </a:moveTo>
                <a:lnTo>
                  <a:pt x="2049304" y="92683"/>
                </a:lnTo>
                <a:lnTo>
                  <a:pt x="2354870" y="92683"/>
                </a:lnTo>
                <a:lnTo>
                  <a:pt x="2362758" y="59160"/>
                </a:lnTo>
                <a:close/>
                <a:moveTo>
                  <a:pt x="1177602" y="53244"/>
                </a:moveTo>
                <a:lnTo>
                  <a:pt x="1177602" y="90711"/>
                </a:lnTo>
                <a:lnTo>
                  <a:pt x="1252537" y="90711"/>
                </a:lnTo>
                <a:lnTo>
                  <a:pt x="1252537" y="53244"/>
                </a:lnTo>
                <a:close/>
                <a:moveTo>
                  <a:pt x="1682427" y="49300"/>
                </a:moveTo>
                <a:lnTo>
                  <a:pt x="1682427" y="76907"/>
                </a:lnTo>
                <a:lnTo>
                  <a:pt x="1877653" y="76907"/>
                </a:lnTo>
                <a:lnTo>
                  <a:pt x="1877653" y="49300"/>
                </a:lnTo>
                <a:close/>
                <a:moveTo>
                  <a:pt x="1002097" y="11832"/>
                </a:moveTo>
                <a:lnTo>
                  <a:pt x="1426071" y="11832"/>
                </a:lnTo>
                <a:lnTo>
                  <a:pt x="1426071" y="53244"/>
                </a:lnTo>
                <a:lnTo>
                  <a:pt x="1301837" y="53244"/>
                </a:lnTo>
                <a:lnTo>
                  <a:pt x="1301837" y="90711"/>
                </a:lnTo>
                <a:lnTo>
                  <a:pt x="1418183" y="90711"/>
                </a:lnTo>
                <a:lnTo>
                  <a:pt x="1418183" y="209029"/>
                </a:lnTo>
                <a:lnTo>
                  <a:pt x="1008013" y="209029"/>
                </a:lnTo>
                <a:lnTo>
                  <a:pt x="1008013" y="90711"/>
                </a:lnTo>
                <a:lnTo>
                  <a:pt x="1128303" y="90711"/>
                </a:lnTo>
                <a:lnTo>
                  <a:pt x="1128303" y="53244"/>
                </a:lnTo>
                <a:lnTo>
                  <a:pt x="1002097" y="53244"/>
                </a:lnTo>
                <a:close/>
                <a:moveTo>
                  <a:pt x="1631156" y="9860"/>
                </a:moveTo>
                <a:lnTo>
                  <a:pt x="1926952" y="9860"/>
                </a:lnTo>
                <a:lnTo>
                  <a:pt x="1926952" y="185366"/>
                </a:lnTo>
                <a:lnTo>
                  <a:pt x="1631156" y="185366"/>
                </a:lnTo>
                <a:close/>
                <a:moveTo>
                  <a:pt x="2043298" y="1972"/>
                </a:moveTo>
                <a:lnTo>
                  <a:pt x="2059074" y="17748"/>
                </a:lnTo>
                <a:lnTo>
                  <a:pt x="2425861" y="17748"/>
                </a:lnTo>
                <a:lnTo>
                  <a:pt x="2406141" y="92683"/>
                </a:lnTo>
                <a:lnTo>
                  <a:pt x="2427833" y="92683"/>
                </a:lnTo>
                <a:lnTo>
                  <a:pt x="2427833" y="278048"/>
                </a:lnTo>
                <a:lnTo>
                  <a:pt x="2025550" y="278048"/>
                </a:lnTo>
                <a:lnTo>
                  <a:pt x="2025550" y="234665"/>
                </a:lnTo>
                <a:lnTo>
                  <a:pt x="2380505" y="234665"/>
                </a:lnTo>
                <a:lnTo>
                  <a:pt x="2380505" y="207057"/>
                </a:lnTo>
                <a:lnTo>
                  <a:pt x="2031466" y="207057"/>
                </a:lnTo>
                <a:lnTo>
                  <a:pt x="2031466" y="163674"/>
                </a:lnTo>
                <a:lnTo>
                  <a:pt x="2380505" y="163674"/>
                </a:lnTo>
                <a:lnTo>
                  <a:pt x="2380505" y="136066"/>
                </a:lnTo>
                <a:lnTo>
                  <a:pt x="2025550" y="136066"/>
                </a:lnTo>
                <a:lnTo>
                  <a:pt x="2025550" y="108459"/>
                </a:lnTo>
                <a:lnTo>
                  <a:pt x="2005831" y="88739"/>
                </a:lnTo>
                <a:close/>
                <a:moveTo>
                  <a:pt x="1560165" y="0"/>
                </a:moveTo>
                <a:lnTo>
                  <a:pt x="1587773" y="35496"/>
                </a:lnTo>
                <a:lnTo>
                  <a:pt x="1524669" y="138038"/>
                </a:lnTo>
                <a:lnTo>
                  <a:pt x="1495090" y="104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5"/>
          <p:cNvSpPr/>
          <p:nvPr/>
        </p:nvSpPr>
        <p:spPr>
          <a:xfrm>
            <a:off x="10402920" y="6229440"/>
            <a:ext cx="155520" cy="218880"/>
          </a:xfrm>
          <a:custGeom>
            <a:avLst/>
            <a:gdLst/>
            <a:ahLst/>
            <a:rect l="l" t="t" r="r" b="b"/>
            <a:pathLst>
              <a:path w="89" h="126">
                <a:moveTo>
                  <a:pt x="39" y="126"/>
                </a:moveTo>
                <a:cubicBezTo>
                  <a:pt x="39" y="126"/>
                  <a:pt x="66" y="65"/>
                  <a:pt x="33" y="46"/>
                </a:cubicBezTo>
                <a:cubicBezTo>
                  <a:pt x="0" y="26"/>
                  <a:pt x="53" y="0"/>
                  <a:pt x="71" y="25"/>
                </a:cubicBezTo>
                <a:cubicBezTo>
                  <a:pt x="89" y="49"/>
                  <a:pt x="84" y="82"/>
                  <a:pt x="84" y="82"/>
                </a:cubicBezTo>
                <a:lnTo>
                  <a:pt x="39" y="126"/>
                </a:ln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6"/>
          <p:cNvSpPr/>
          <p:nvPr/>
        </p:nvSpPr>
        <p:spPr>
          <a:xfrm>
            <a:off x="10172880" y="6445080"/>
            <a:ext cx="198360" cy="179640"/>
          </a:xfrm>
          <a:custGeom>
            <a:avLst/>
            <a:gdLst/>
            <a:ahLst/>
            <a:rect l="l" t="t" r="r" b="b"/>
            <a:pathLst>
              <a:path w="114" h="103">
                <a:moveTo>
                  <a:pt x="114" y="0"/>
                </a:moveTo>
                <a:cubicBezTo>
                  <a:pt x="114" y="0"/>
                  <a:pt x="106" y="103"/>
                  <a:pt x="0" y="83"/>
                </a:cubicBezTo>
                <a:cubicBezTo>
                  <a:pt x="0" y="83"/>
                  <a:pt x="22" y="3"/>
                  <a:pt x="114" y="0"/>
                </a:cubicBezTo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7"/>
          <p:cNvSpPr/>
          <p:nvPr/>
        </p:nvSpPr>
        <p:spPr>
          <a:xfrm>
            <a:off x="8277120" y="5613480"/>
            <a:ext cx="3373560" cy="1146240"/>
          </a:xfrm>
          <a:custGeom>
            <a:avLst/>
            <a:gdLst/>
            <a:ahLst/>
            <a:rect l="l" t="t" r="r" b="b"/>
            <a:pathLst>
              <a:path w="1938" h="658">
                <a:moveTo>
                  <a:pt x="946" y="461"/>
                </a:moveTo>
                <a:cubicBezTo>
                  <a:pt x="958" y="477"/>
                  <a:pt x="973" y="498"/>
                  <a:pt x="1020" y="534"/>
                </a:cubicBezTo>
                <a:cubicBezTo>
                  <a:pt x="1020" y="534"/>
                  <a:pt x="1075" y="575"/>
                  <a:pt x="1125" y="599"/>
                </a:cubicBezTo>
                <a:cubicBezTo>
                  <a:pt x="1190" y="630"/>
                  <a:pt x="1284" y="658"/>
                  <a:pt x="1324" y="658"/>
                </a:cubicBezTo>
                <a:cubicBezTo>
                  <a:pt x="1333" y="658"/>
                  <a:pt x="1339" y="657"/>
                  <a:pt x="1341" y="653"/>
                </a:cubicBezTo>
                <a:cubicBezTo>
                  <a:pt x="1359" y="623"/>
                  <a:pt x="1233" y="560"/>
                  <a:pt x="1195" y="534"/>
                </a:cubicBezTo>
                <a:cubicBezTo>
                  <a:pt x="1193" y="532"/>
                  <a:pt x="1190" y="530"/>
                  <a:pt x="1186" y="527"/>
                </a:cubicBezTo>
                <a:cubicBezTo>
                  <a:pt x="1174" y="546"/>
                  <a:pt x="1152" y="564"/>
                  <a:pt x="1115" y="564"/>
                </a:cubicBezTo>
                <a:cubicBezTo>
                  <a:pt x="1107" y="564"/>
                  <a:pt x="1098" y="563"/>
                  <a:pt x="1089" y="561"/>
                </a:cubicBezTo>
                <a:cubicBezTo>
                  <a:pt x="1089" y="561"/>
                  <a:pt x="1093" y="547"/>
                  <a:pt x="1104" y="531"/>
                </a:cubicBezTo>
                <a:cubicBezTo>
                  <a:pt x="1096" y="540"/>
                  <a:pt x="1091" y="550"/>
                  <a:pt x="1089" y="561"/>
                </a:cubicBezTo>
                <a:cubicBezTo>
                  <a:pt x="1089" y="561"/>
                  <a:pt x="1033" y="539"/>
                  <a:pt x="946" y="461"/>
                </a:cubicBezTo>
                <a:moveTo>
                  <a:pt x="965" y="141"/>
                </a:moveTo>
                <a:cubicBezTo>
                  <a:pt x="950" y="146"/>
                  <a:pt x="933" y="151"/>
                  <a:pt x="916" y="156"/>
                </a:cubicBezTo>
                <a:cubicBezTo>
                  <a:pt x="920" y="163"/>
                  <a:pt x="923" y="170"/>
                  <a:pt x="927" y="178"/>
                </a:cubicBezTo>
                <a:cubicBezTo>
                  <a:pt x="939" y="170"/>
                  <a:pt x="955" y="161"/>
                  <a:pt x="975" y="151"/>
                </a:cubicBezTo>
                <a:cubicBezTo>
                  <a:pt x="972" y="148"/>
                  <a:pt x="969" y="145"/>
                  <a:pt x="966" y="142"/>
                </a:cubicBezTo>
                <a:cubicBezTo>
                  <a:pt x="965" y="141"/>
                  <a:pt x="965" y="141"/>
                  <a:pt x="965" y="141"/>
                </a:cubicBezTo>
                <a:moveTo>
                  <a:pt x="35" y="118"/>
                </a:moveTo>
                <a:cubicBezTo>
                  <a:pt x="0" y="119"/>
                  <a:pt x="0" y="119"/>
                  <a:pt x="0" y="119"/>
                </a:cubicBezTo>
                <a:cubicBezTo>
                  <a:pt x="0" y="119"/>
                  <a:pt x="116" y="255"/>
                  <a:pt x="578" y="293"/>
                </a:cubicBezTo>
                <a:cubicBezTo>
                  <a:pt x="578" y="293"/>
                  <a:pt x="722" y="299"/>
                  <a:pt x="904" y="421"/>
                </a:cubicBezTo>
                <a:cubicBezTo>
                  <a:pt x="844" y="361"/>
                  <a:pt x="774" y="278"/>
                  <a:pt x="698" y="162"/>
                </a:cubicBezTo>
                <a:cubicBezTo>
                  <a:pt x="689" y="160"/>
                  <a:pt x="679" y="157"/>
                  <a:pt x="669" y="154"/>
                </a:cubicBezTo>
                <a:cubicBezTo>
                  <a:pt x="609" y="172"/>
                  <a:pt x="435" y="219"/>
                  <a:pt x="293" y="219"/>
                </a:cubicBezTo>
                <a:cubicBezTo>
                  <a:pt x="237" y="219"/>
                  <a:pt x="186" y="211"/>
                  <a:pt x="149" y="192"/>
                </a:cubicBezTo>
                <a:cubicBezTo>
                  <a:pt x="111" y="172"/>
                  <a:pt x="73" y="147"/>
                  <a:pt x="41" y="118"/>
                </a:cubicBezTo>
                <a:cubicBezTo>
                  <a:pt x="39" y="118"/>
                  <a:pt x="37" y="118"/>
                  <a:pt x="35" y="118"/>
                </a:cubicBezTo>
                <a:moveTo>
                  <a:pt x="1125" y="0"/>
                </a:moveTo>
                <a:cubicBezTo>
                  <a:pt x="1136" y="22"/>
                  <a:pt x="1141" y="38"/>
                  <a:pt x="1141" y="38"/>
                </a:cubicBezTo>
                <a:cubicBezTo>
                  <a:pt x="1141" y="38"/>
                  <a:pt x="1085" y="90"/>
                  <a:pt x="993" y="129"/>
                </a:cubicBezTo>
                <a:cubicBezTo>
                  <a:pt x="994" y="130"/>
                  <a:pt x="994" y="130"/>
                  <a:pt x="994" y="130"/>
                </a:cubicBezTo>
                <a:cubicBezTo>
                  <a:pt x="1009" y="136"/>
                  <a:pt x="1009" y="136"/>
                  <a:pt x="1009" y="136"/>
                </a:cubicBezTo>
                <a:cubicBezTo>
                  <a:pt x="1052" y="119"/>
                  <a:pt x="1106" y="104"/>
                  <a:pt x="1163" y="104"/>
                </a:cubicBezTo>
                <a:cubicBezTo>
                  <a:pt x="1182" y="104"/>
                  <a:pt x="1202" y="106"/>
                  <a:pt x="1222" y="110"/>
                </a:cubicBezTo>
                <a:cubicBezTo>
                  <a:pt x="1374" y="139"/>
                  <a:pt x="1531" y="227"/>
                  <a:pt x="1572" y="227"/>
                </a:cubicBezTo>
                <a:cubicBezTo>
                  <a:pt x="1574" y="227"/>
                  <a:pt x="1576" y="227"/>
                  <a:pt x="1578" y="226"/>
                </a:cubicBezTo>
                <a:cubicBezTo>
                  <a:pt x="1579" y="225"/>
                  <a:pt x="1582" y="225"/>
                  <a:pt x="1585" y="225"/>
                </a:cubicBezTo>
                <a:cubicBezTo>
                  <a:pt x="1610" y="225"/>
                  <a:pt x="1678" y="243"/>
                  <a:pt x="1747" y="260"/>
                </a:cubicBezTo>
                <a:cubicBezTo>
                  <a:pt x="1816" y="278"/>
                  <a:pt x="1885" y="296"/>
                  <a:pt x="1911" y="296"/>
                </a:cubicBezTo>
                <a:cubicBezTo>
                  <a:pt x="1917" y="296"/>
                  <a:pt x="1921" y="295"/>
                  <a:pt x="1922" y="293"/>
                </a:cubicBezTo>
                <a:cubicBezTo>
                  <a:pt x="1938" y="274"/>
                  <a:pt x="1753" y="220"/>
                  <a:pt x="1603" y="158"/>
                </a:cubicBezTo>
                <a:cubicBezTo>
                  <a:pt x="1485" y="109"/>
                  <a:pt x="1230" y="31"/>
                  <a:pt x="1125" y="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8"/>
          <p:cNvSpPr/>
          <p:nvPr/>
        </p:nvSpPr>
        <p:spPr>
          <a:xfrm>
            <a:off x="10172880" y="6475320"/>
            <a:ext cx="168120" cy="119160"/>
          </a:xfrm>
          <a:custGeom>
            <a:avLst/>
            <a:gdLst/>
            <a:ahLst/>
            <a:rect l="l" t="t" r="r" b="b"/>
            <a:pathLst>
              <a:path w="97" h="69">
                <a:moveTo>
                  <a:pt x="66" y="0"/>
                </a:moveTo>
                <a:cubicBezTo>
                  <a:pt x="48" y="9"/>
                  <a:pt x="28" y="21"/>
                  <a:pt x="15" y="36"/>
                </a:cubicBezTo>
                <a:cubicBezTo>
                  <a:pt x="4" y="52"/>
                  <a:pt x="0" y="66"/>
                  <a:pt x="0" y="66"/>
                </a:cubicBezTo>
                <a:cubicBezTo>
                  <a:pt x="9" y="68"/>
                  <a:pt x="18" y="69"/>
                  <a:pt x="26" y="69"/>
                </a:cubicBezTo>
                <a:cubicBezTo>
                  <a:pt x="63" y="69"/>
                  <a:pt x="85" y="51"/>
                  <a:pt x="97" y="32"/>
                </a:cubicBezTo>
                <a:cubicBezTo>
                  <a:pt x="90" y="25"/>
                  <a:pt x="79" y="14"/>
                  <a:pt x="66" y="0"/>
                </a:cubicBezTo>
              </a:path>
            </a:pathLst>
          </a:custGeom>
          <a:solidFill>
            <a:srgbClr val="3e3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2"/>
          <p:cNvSpPr/>
          <p:nvPr/>
        </p:nvSpPr>
        <p:spPr>
          <a:xfrm>
            <a:off x="10188720" y="6316560"/>
            <a:ext cx="687240" cy="460440"/>
          </a:xfrm>
          <a:custGeom>
            <a:avLst/>
            <a:gdLst/>
            <a:ahLst/>
            <a:rect l="l" t="t" r="r" b="b"/>
            <a:pathLst>
              <a:path w="395" h="264">
                <a:moveTo>
                  <a:pt x="68" y="87"/>
                </a:moveTo>
                <a:cubicBezTo>
                  <a:pt x="68" y="87"/>
                  <a:pt x="93" y="110"/>
                  <a:pt x="148" y="122"/>
                </a:cubicBezTo>
                <a:cubicBezTo>
                  <a:pt x="148" y="122"/>
                  <a:pt x="160" y="17"/>
                  <a:pt x="268" y="0"/>
                </a:cubicBezTo>
                <a:cubicBezTo>
                  <a:pt x="268" y="0"/>
                  <a:pt x="354" y="22"/>
                  <a:pt x="375" y="20"/>
                </a:cubicBezTo>
                <a:cubicBezTo>
                  <a:pt x="375" y="20"/>
                  <a:pt x="387" y="48"/>
                  <a:pt x="364" y="61"/>
                </a:cubicBezTo>
                <a:cubicBezTo>
                  <a:pt x="341" y="75"/>
                  <a:pt x="271" y="53"/>
                  <a:pt x="271" y="53"/>
                </a:cubicBezTo>
                <a:cubicBezTo>
                  <a:pt x="261" y="61"/>
                  <a:pt x="261" y="61"/>
                  <a:pt x="261" y="61"/>
                </a:cubicBezTo>
                <a:cubicBezTo>
                  <a:pt x="261" y="61"/>
                  <a:pt x="332" y="105"/>
                  <a:pt x="378" y="107"/>
                </a:cubicBezTo>
                <a:cubicBezTo>
                  <a:pt x="378" y="107"/>
                  <a:pt x="395" y="121"/>
                  <a:pt x="388" y="143"/>
                </a:cubicBezTo>
                <a:cubicBezTo>
                  <a:pt x="380" y="165"/>
                  <a:pt x="361" y="153"/>
                  <a:pt x="356" y="153"/>
                </a:cubicBezTo>
                <a:cubicBezTo>
                  <a:pt x="351" y="153"/>
                  <a:pt x="243" y="115"/>
                  <a:pt x="243" y="115"/>
                </a:cubicBezTo>
                <a:cubicBezTo>
                  <a:pt x="243" y="115"/>
                  <a:pt x="230" y="117"/>
                  <a:pt x="243" y="129"/>
                </a:cubicBezTo>
                <a:cubicBezTo>
                  <a:pt x="257" y="141"/>
                  <a:pt x="351" y="182"/>
                  <a:pt x="351" y="182"/>
                </a:cubicBezTo>
                <a:cubicBezTo>
                  <a:pt x="351" y="182"/>
                  <a:pt x="361" y="196"/>
                  <a:pt x="351" y="217"/>
                </a:cubicBezTo>
                <a:cubicBezTo>
                  <a:pt x="341" y="239"/>
                  <a:pt x="304" y="217"/>
                  <a:pt x="304" y="217"/>
                </a:cubicBezTo>
                <a:cubicBezTo>
                  <a:pt x="304" y="217"/>
                  <a:pt x="232" y="171"/>
                  <a:pt x="229" y="180"/>
                </a:cubicBezTo>
                <a:cubicBezTo>
                  <a:pt x="229" y="180"/>
                  <a:pt x="253" y="217"/>
                  <a:pt x="283" y="238"/>
                </a:cubicBezTo>
                <a:cubicBezTo>
                  <a:pt x="283" y="238"/>
                  <a:pt x="287" y="250"/>
                  <a:pt x="280" y="257"/>
                </a:cubicBezTo>
                <a:cubicBezTo>
                  <a:pt x="273" y="264"/>
                  <a:pt x="242" y="256"/>
                  <a:pt x="212" y="223"/>
                </a:cubicBezTo>
                <a:cubicBezTo>
                  <a:pt x="181" y="191"/>
                  <a:pt x="164" y="192"/>
                  <a:pt x="164" y="192"/>
                </a:cubicBezTo>
                <a:cubicBezTo>
                  <a:pt x="0" y="135"/>
                  <a:pt x="0" y="135"/>
                  <a:pt x="0" y="135"/>
                </a:cubicBezTo>
                <a:cubicBezTo>
                  <a:pt x="0" y="135"/>
                  <a:pt x="16" y="102"/>
                  <a:pt x="68" y="87"/>
                </a:cubicBezTo>
                <a:close/>
              </a:path>
            </a:pathLst>
          </a:custGeom>
          <a:solidFill>
            <a:srgbClr val="ffb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13"/>
          <p:cNvSpPr/>
          <p:nvPr/>
        </p:nvSpPr>
        <p:spPr>
          <a:xfrm>
            <a:off x="8970840" y="5210280"/>
            <a:ext cx="1292400" cy="801720"/>
          </a:xfrm>
          <a:custGeom>
            <a:avLst/>
            <a:gdLst/>
            <a:ahLst/>
            <a:rect l="l" t="t" r="r" b="b"/>
            <a:pathLst>
              <a:path w="742" h="461">
                <a:moveTo>
                  <a:pt x="742" y="270"/>
                </a:moveTo>
                <a:cubicBezTo>
                  <a:pt x="742" y="270"/>
                  <a:pt x="539" y="461"/>
                  <a:pt x="270" y="386"/>
                </a:cubicBezTo>
                <a:cubicBezTo>
                  <a:pt x="0" y="312"/>
                  <a:pt x="432" y="0"/>
                  <a:pt x="563" y="59"/>
                </a:cubicBezTo>
                <a:cubicBezTo>
                  <a:pt x="693" y="118"/>
                  <a:pt x="742" y="270"/>
                  <a:pt x="742" y="270"/>
                </a:cubicBez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6"/>
          <p:cNvSpPr/>
          <p:nvPr/>
        </p:nvSpPr>
        <p:spPr>
          <a:xfrm>
            <a:off x="8029440" y="5029200"/>
            <a:ext cx="2341800" cy="1562040"/>
          </a:xfrm>
          <a:custGeom>
            <a:avLst/>
            <a:gdLst/>
            <a:ahLst/>
            <a:rect l="l" t="t" r="r" b="b"/>
            <a:pathLst>
              <a:path w="1345" h="897">
                <a:moveTo>
                  <a:pt x="1015" y="345"/>
                </a:moveTo>
                <a:cubicBezTo>
                  <a:pt x="1015" y="345"/>
                  <a:pt x="1011" y="563"/>
                  <a:pt x="1345" y="814"/>
                </a:cubicBezTo>
                <a:cubicBezTo>
                  <a:pt x="1345" y="814"/>
                  <a:pt x="1241" y="839"/>
                  <a:pt x="1231" y="897"/>
                </a:cubicBezTo>
                <a:cubicBezTo>
                  <a:pt x="1231" y="897"/>
                  <a:pt x="1051" y="828"/>
                  <a:pt x="832" y="484"/>
                </a:cubicBezTo>
                <a:cubicBezTo>
                  <a:pt x="832" y="484"/>
                  <a:pt x="443" y="607"/>
                  <a:pt x="291" y="528"/>
                </a:cubicBezTo>
                <a:cubicBezTo>
                  <a:pt x="139" y="449"/>
                  <a:pt x="0" y="284"/>
                  <a:pt x="179" y="142"/>
                </a:cubicBezTo>
                <a:cubicBezTo>
                  <a:pt x="358" y="0"/>
                  <a:pt x="1104" y="163"/>
                  <a:pt x="1104" y="163"/>
                </a:cubicBezTo>
                <a:cubicBezTo>
                  <a:pt x="1015" y="345"/>
                  <a:pt x="1015" y="345"/>
                  <a:pt x="1015" y="3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26"/>
          <p:cNvSpPr/>
          <p:nvPr/>
        </p:nvSpPr>
        <p:spPr>
          <a:xfrm>
            <a:off x="8348760" y="5548320"/>
            <a:ext cx="1885680" cy="1042920"/>
          </a:xfrm>
          <a:custGeom>
            <a:avLst/>
            <a:gdLst/>
            <a:ahLst/>
            <a:rect l="l" t="t" r="r" b="b"/>
            <a:pathLst>
              <a:path w="1084" h="599">
                <a:moveTo>
                  <a:pt x="1084" y="550"/>
                </a:moveTo>
                <a:cubicBezTo>
                  <a:pt x="1084" y="550"/>
                  <a:pt x="713" y="314"/>
                  <a:pt x="710" y="157"/>
                </a:cubicBezTo>
                <a:cubicBezTo>
                  <a:pt x="707" y="0"/>
                  <a:pt x="644" y="86"/>
                  <a:pt x="633" y="99"/>
                </a:cubicBezTo>
                <a:cubicBezTo>
                  <a:pt x="621" y="112"/>
                  <a:pt x="503" y="198"/>
                  <a:pt x="352" y="210"/>
                </a:cubicBezTo>
                <a:cubicBezTo>
                  <a:pt x="201" y="221"/>
                  <a:pt x="57" y="195"/>
                  <a:pt x="0" y="156"/>
                </a:cubicBezTo>
                <a:cubicBezTo>
                  <a:pt x="32" y="185"/>
                  <a:pt x="70" y="210"/>
                  <a:pt x="108" y="230"/>
                </a:cubicBezTo>
                <a:cubicBezTo>
                  <a:pt x="260" y="309"/>
                  <a:pt x="649" y="186"/>
                  <a:pt x="649" y="186"/>
                </a:cubicBezTo>
                <a:cubicBezTo>
                  <a:pt x="868" y="530"/>
                  <a:pt x="1048" y="599"/>
                  <a:pt x="1048" y="599"/>
                </a:cubicBezTo>
                <a:cubicBezTo>
                  <a:pt x="1051" y="579"/>
                  <a:pt x="1066" y="563"/>
                  <a:pt x="1084" y="550"/>
                </a:cubicBez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28"/>
          <p:cNvSpPr/>
          <p:nvPr/>
        </p:nvSpPr>
        <p:spPr>
          <a:xfrm>
            <a:off x="10539360" y="6581880"/>
            <a:ext cx="85680" cy="83880"/>
          </a:xfrm>
          <a:custGeom>
            <a:avLst/>
            <a:gdLst/>
            <a:ahLst/>
            <a:rect l="l" t="t" r="r" b="b"/>
            <a:pathLst>
              <a:path w="49" h="48">
                <a:moveTo>
                  <a:pt x="18" y="18"/>
                </a:moveTo>
                <a:cubicBezTo>
                  <a:pt x="0" y="36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32" y="36"/>
                  <a:pt x="26" y="28"/>
                  <a:pt x="26" y="28"/>
                </a:cubicBezTo>
                <a:cubicBezTo>
                  <a:pt x="27" y="25"/>
                  <a:pt x="37" y="29"/>
                  <a:pt x="49" y="35"/>
                </a:cubicBezTo>
                <a:cubicBezTo>
                  <a:pt x="49" y="35"/>
                  <a:pt x="36" y="0"/>
                  <a:pt x="18" y="18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29"/>
          <p:cNvSpPr/>
          <p:nvPr/>
        </p:nvSpPr>
        <p:spPr>
          <a:xfrm>
            <a:off x="10563120" y="6475320"/>
            <a:ext cx="122400" cy="68400"/>
          </a:xfrm>
          <a:custGeom>
            <a:avLst/>
            <a:gdLst/>
            <a:ahLst/>
            <a:rect l="l" t="t" r="r" b="b"/>
            <a:pathLst>
              <a:path w="71" h="39">
                <a:moveTo>
                  <a:pt x="9" y="10"/>
                </a:moveTo>
                <a:cubicBezTo>
                  <a:pt x="0" y="14"/>
                  <a:pt x="10" y="24"/>
                  <a:pt x="24" y="34"/>
                </a:cubicBezTo>
                <a:cubicBezTo>
                  <a:pt x="18" y="26"/>
                  <a:pt x="28" y="24"/>
                  <a:pt x="28" y="24"/>
                </a:cubicBezTo>
                <a:cubicBezTo>
                  <a:pt x="28" y="24"/>
                  <a:pt x="48" y="31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29" y="0"/>
                  <a:pt x="9" y="10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30"/>
          <p:cNvSpPr/>
          <p:nvPr/>
        </p:nvSpPr>
        <p:spPr>
          <a:xfrm>
            <a:off x="10188720" y="6469200"/>
            <a:ext cx="134640" cy="98280"/>
          </a:xfrm>
          <a:custGeom>
            <a:avLst/>
            <a:gdLst/>
            <a:ahLst/>
            <a:rect l="l" t="t" r="r" b="b"/>
            <a:pathLst>
              <a:path w="78" h="57">
                <a:moveTo>
                  <a:pt x="78" y="7"/>
                </a:moveTo>
                <a:cubicBezTo>
                  <a:pt x="71" y="3"/>
                  <a:pt x="68" y="0"/>
                  <a:pt x="68" y="0"/>
                </a:cubicBezTo>
                <a:cubicBezTo>
                  <a:pt x="16" y="15"/>
                  <a:pt x="0" y="48"/>
                  <a:pt x="0" y="48"/>
                </a:cubicBezTo>
                <a:cubicBezTo>
                  <a:pt x="26" y="57"/>
                  <a:pt x="26" y="57"/>
                  <a:pt x="26" y="57"/>
                </a:cubicBezTo>
                <a:cubicBezTo>
                  <a:pt x="38" y="28"/>
                  <a:pt x="62" y="14"/>
                  <a:pt x="78" y="7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31"/>
          <p:cNvSpPr/>
          <p:nvPr/>
        </p:nvSpPr>
        <p:spPr>
          <a:xfrm>
            <a:off x="10607760" y="6381720"/>
            <a:ext cx="177840" cy="49320"/>
          </a:xfrm>
          <a:custGeom>
            <a:avLst/>
            <a:gdLst/>
            <a:ahLst/>
            <a:rect l="l" t="t" r="r" b="b"/>
            <a:pathLst>
              <a:path w="102" h="29">
                <a:moveTo>
                  <a:pt x="102" y="29"/>
                </a:moveTo>
                <a:cubicBezTo>
                  <a:pt x="102" y="29"/>
                  <a:pt x="102" y="29"/>
                  <a:pt x="102" y="29"/>
                </a:cubicBezTo>
                <a:cubicBezTo>
                  <a:pt x="102" y="29"/>
                  <a:pt x="56" y="7"/>
                  <a:pt x="37" y="4"/>
                </a:cubicBezTo>
                <a:cubicBezTo>
                  <a:pt x="17" y="0"/>
                  <a:pt x="0" y="13"/>
                  <a:pt x="20" y="24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72" y="29"/>
                  <a:pt x="102" y="29"/>
                </a:cubicBezTo>
                <a:close/>
              </a:path>
            </a:pathLst>
          </a:custGeom>
          <a:solidFill>
            <a:srgbClr val="ea9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32">
            <a:hlinkClick r:id="rId2"/>
          </p:cNvPr>
          <p:cNvSpPr/>
          <p:nvPr/>
        </p:nvSpPr>
        <p:spPr>
          <a:xfrm>
            <a:off x="6141960" y="1200240"/>
            <a:ext cx="4557960" cy="4556160"/>
          </a:xfrm>
          <a:prstGeom prst="ellipse">
            <a:avLst/>
          </a:prstGeom>
          <a:solidFill>
            <a:srgbClr val="dd3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73"/>
          <p:cNvSpPr/>
          <p:nvPr/>
        </p:nvSpPr>
        <p:spPr>
          <a:xfrm>
            <a:off x="6235560" y="1265400"/>
            <a:ext cx="4407120" cy="4408200"/>
          </a:xfrm>
          <a:custGeom>
            <a:avLst/>
            <a:gdLst/>
            <a:ahLst/>
            <a:rect l="l" t="t" r="r" b="b"/>
            <a:pathLst>
              <a:path w="2533" h="2532">
                <a:moveTo>
                  <a:pt x="1266" y="2517"/>
                </a:moveTo>
                <a:cubicBezTo>
                  <a:pt x="1097" y="2517"/>
                  <a:pt x="933" y="2484"/>
                  <a:pt x="779" y="2419"/>
                </a:cubicBezTo>
                <a:cubicBezTo>
                  <a:pt x="630" y="2356"/>
                  <a:pt x="496" y="2266"/>
                  <a:pt x="381" y="2151"/>
                </a:cubicBezTo>
                <a:cubicBezTo>
                  <a:pt x="266" y="2036"/>
                  <a:pt x="176" y="1902"/>
                  <a:pt x="113" y="1753"/>
                </a:cubicBezTo>
                <a:cubicBezTo>
                  <a:pt x="48" y="1599"/>
                  <a:pt x="15" y="1435"/>
                  <a:pt x="15" y="1266"/>
                </a:cubicBezTo>
                <a:cubicBezTo>
                  <a:pt x="15" y="1097"/>
                  <a:pt x="48" y="933"/>
                  <a:pt x="113" y="779"/>
                </a:cubicBezTo>
                <a:cubicBezTo>
                  <a:pt x="176" y="630"/>
                  <a:pt x="266" y="496"/>
                  <a:pt x="381" y="381"/>
                </a:cubicBezTo>
                <a:cubicBezTo>
                  <a:pt x="496" y="266"/>
                  <a:pt x="630" y="176"/>
                  <a:pt x="779" y="113"/>
                </a:cubicBezTo>
                <a:cubicBezTo>
                  <a:pt x="933" y="48"/>
                  <a:pt x="1097" y="15"/>
                  <a:pt x="1266" y="15"/>
                </a:cubicBezTo>
                <a:cubicBezTo>
                  <a:pt x="1435" y="15"/>
                  <a:pt x="1599" y="48"/>
                  <a:pt x="1753" y="113"/>
                </a:cubicBezTo>
                <a:cubicBezTo>
                  <a:pt x="1902" y="176"/>
                  <a:pt x="2036" y="266"/>
                  <a:pt x="2151" y="381"/>
                </a:cubicBezTo>
                <a:cubicBezTo>
                  <a:pt x="2266" y="496"/>
                  <a:pt x="2356" y="630"/>
                  <a:pt x="2419" y="779"/>
                </a:cubicBezTo>
                <a:cubicBezTo>
                  <a:pt x="2485" y="933"/>
                  <a:pt x="2518" y="1097"/>
                  <a:pt x="2518" y="1266"/>
                </a:cubicBezTo>
                <a:cubicBezTo>
                  <a:pt x="2518" y="1435"/>
                  <a:pt x="2485" y="1599"/>
                  <a:pt x="2419" y="1753"/>
                </a:cubicBezTo>
                <a:cubicBezTo>
                  <a:pt x="2356" y="1902"/>
                  <a:pt x="2266" y="2036"/>
                  <a:pt x="2151" y="2151"/>
                </a:cubicBezTo>
                <a:cubicBezTo>
                  <a:pt x="2036" y="2266"/>
                  <a:pt x="1902" y="2356"/>
                  <a:pt x="1753" y="2419"/>
                </a:cubicBezTo>
                <a:cubicBezTo>
                  <a:pt x="1599" y="2484"/>
                  <a:pt x="1435" y="2517"/>
                  <a:pt x="1266" y="2517"/>
                </a:cubicBezTo>
                <a:moveTo>
                  <a:pt x="1266" y="0"/>
                </a:moveTo>
                <a:cubicBezTo>
                  <a:pt x="1095" y="0"/>
                  <a:pt x="929" y="33"/>
                  <a:pt x="773" y="99"/>
                </a:cubicBezTo>
                <a:cubicBezTo>
                  <a:pt x="623" y="163"/>
                  <a:pt x="487" y="254"/>
                  <a:pt x="371" y="371"/>
                </a:cubicBezTo>
                <a:cubicBezTo>
                  <a:pt x="254" y="487"/>
                  <a:pt x="163" y="622"/>
                  <a:pt x="99" y="773"/>
                </a:cubicBezTo>
                <a:cubicBezTo>
                  <a:pt x="33" y="929"/>
                  <a:pt x="0" y="1095"/>
                  <a:pt x="0" y="1266"/>
                </a:cubicBezTo>
                <a:cubicBezTo>
                  <a:pt x="0" y="1437"/>
                  <a:pt x="33" y="1603"/>
                  <a:pt x="99" y="1759"/>
                </a:cubicBezTo>
                <a:cubicBezTo>
                  <a:pt x="163" y="1910"/>
                  <a:pt x="254" y="2045"/>
                  <a:pt x="371" y="2161"/>
                </a:cubicBezTo>
                <a:cubicBezTo>
                  <a:pt x="487" y="2278"/>
                  <a:pt x="623" y="2369"/>
                  <a:pt x="773" y="2433"/>
                </a:cubicBezTo>
                <a:cubicBezTo>
                  <a:pt x="929" y="2499"/>
                  <a:pt x="1095" y="2532"/>
                  <a:pt x="1266" y="2532"/>
                </a:cubicBezTo>
                <a:cubicBezTo>
                  <a:pt x="1437" y="2532"/>
                  <a:pt x="1603" y="2499"/>
                  <a:pt x="1759" y="2433"/>
                </a:cubicBezTo>
                <a:cubicBezTo>
                  <a:pt x="1910" y="2369"/>
                  <a:pt x="2045" y="2278"/>
                  <a:pt x="2162" y="2161"/>
                </a:cubicBezTo>
                <a:cubicBezTo>
                  <a:pt x="2278" y="2045"/>
                  <a:pt x="2369" y="1910"/>
                  <a:pt x="2433" y="1759"/>
                </a:cubicBezTo>
                <a:cubicBezTo>
                  <a:pt x="2499" y="1603"/>
                  <a:pt x="2533" y="1437"/>
                  <a:pt x="2533" y="1266"/>
                </a:cubicBezTo>
                <a:cubicBezTo>
                  <a:pt x="2533" y="1095"/>
                  <a:pt x="2499" y="929"/>
                  <a:pt x="2433" y="773"/>
                </a:cubicBezTo>
                <a:cubicBezTo>
                  <a:pt x="2369" y="622"/>
                  <a:pt x="2278" y="487"/>
                  <a:pt x="2162" y="371"/>
                </a:cubicBezTo>
                <a:cubicBezTo>
                  <a:pt x="2045" y="254"/>
                  <a:pt x="1910" y="163"/>
                  <a:pt x="1759" y="99"/>
                </a:cubicBezTo>
                <a:cubicBezTo>
                  <a:pt x="1603" y="33"/>
                  <a:pt x="1437" y="0"/>
                  <a:pt x="1266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reeform 74"/>
          <p:cNvSpPr/>
          <p:nvPr/>
        </p:nvSpPr>
        <p:spPr>
          <a:xfrm>
            <a:off x="6087960" y="1117440"/>
            <a:ext cx="4702320" cy="4703760"/>
          </a:xfrm>
          <a:custGeom>
            <a:avLst/>
            <a:gdLst/>
            <a:ahLst/>
            <a:rect l="l" t="t" r="r" b="b"/>
            <a:pathLst>
              <a:path w="2702" h="2702">
                <a:moveTo>
                  <a:pt x="1351" y="85"/>
                </a:moveTo>
                <a:cubicBezTo>
                  <a:pt x="1522" y="85"/>
                  <a:pt x="1688" y="118"/>
                  <a:pt x="1844" y="184"/>
                </a:cubicBezTo>
                <a:cubicBezTo>
                  <a:pt x="1995" y="248"/>
                  <a:pt x="2130" y="339"/>
                  <a:pt x="2247" y="456"/>
                </a:cubicBezTo>
                <a:cubicBezTo>
                  <a:pt x="2363" y="572"/>
                  <a:pt x="2454" y="707"/>
                  <a:pt x="2518" y="858"/>
                </a:cubicBezTo>
                <a:cubicBezTo>
                  <a:pt x="2584" y="1014"/>
                  <a:pt x="2618" y="1180"/>
                  <a:pt x="2618" y="1351"/>
                </a:cubicBezTo>
                <a:cubicBezTo>
                  <a:pt x="2618" y="1522"/>
                  <a:pt x="2584" y="1688"/>
                  <a:pt x="2518" y="1844"/>
                </a:cubicBezTo>
                <a:cubicBezTo>
                  <a:pt x="2454" y="1995"/>
                  <a:pt x="2363" y="2130"/>
                  <a:pt x="2247" y="2246"/>
                </a:cubicBezTo>
                <a:cubicBezTo>
                  <a:pt x="2130" y="2363"/>
                  <a:pt x="1995" y="2454"/>
                  <a:pt x="1844" y="2518"/>
                </a:cubicBezTo>
                <a:cubicBezTo>
                  <a:pt x="1688" y="2584"/>
                  <a:pt x="1522" y="2617"/>
                  <a:pt x="1351" y="2617"/>
                </a:cubicBezTo>
                <a:cubicBezTo>
                  <a:pt x="1180" y="2617"/>
                  <a:pt x="1014" y="2584"/>
                  <a:pt x="858" y="2518"/>
                </a:cubicBezTo>
                <a:cubicBezTo>
                  <a:pt x="708" y="2454"/>
                  <a:pt x="572" y="2363"/>
                  <a:pt x="456" y="2246"/>
                </a:cubicBezTo>
                <a:cubicBezTo>
                  <a:pt x="339" y="2130"/>
                  <a:pt x="248" y="1995"/>
                  <a:pt x="184" y="1844"/>
                </a:cubicBezTo>
                <a:cubicBezTo>
                  <a:pt x="118" y="1688"/>
                  <a:pt x="85" y="1522"/>
                  <a:pt x="85" y="1351"/>
                </a:cubicBezTo>
                <a:cubicBezTo>
                  <a:pt x="85" y="1180"/>
                  <a:pt x="118" y="1014"/>
                  <a:pt x="184" y="858"/>
                </a:cubicBezTo>
                <a:cubicBezTo>
                  <a:pt x="248" y="707"/>
                  <a:pt x="339" y="572"/>
                  <a:pt x="456" y="456"/>
                </a:cubicBezTo>
                <a:cubicBezTo>
                  <a:pt x="572" y="339"/>
                  <a:pt x="708" y="248"/>
                  <a:pt x="858" y="184"/>
                </a:cubicBezTo>
                <a:cubicBezTo>
                  <a:pt x="1014" y="118"/>
                  <a:pt x="1180" y="85"/>
                  <a:pt x="1351" y="85"/>
                </a:cubicBezTo>
                <a:moveTo>
                  <a:pt x="1351" y="0"/>
                </a:moveTo>
                <a:cubicBezTo>
                  <a:pt x="605" y="0"/>
                  <a:pt x="0" y="605"/>
                  <a:pt x="0" y="1351"/>
                </a:cubicBezTo>
                <a:cubicBezTo>
                  <a:pt x="0" y="2097"/>
                  <a:pt x="605" y="2702"/>
                  <a:pt x="1351" y="2702"/>
                </a:cubicBezTo>
                <a:cubicBezTo>
                  <a:pt x="2097" y="2702"/>
                  <a:pt x="2702" y="2097"/>
                  <a:pt x="2702" y="1351"/>
                </a:cubicBezTo>
                <a:cubicBezTo>
                  <a:pt x="2702" y="605"/>
                  <a:pt x="2097" y="0"/>
                  <a:pt x="1351" y="0"/>
                </a:cubicBezTo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reeform 75"/>
          <p:cNvSpPr/>
          <p:nvPr/>
        </p:nvSpPr>
        <p:spPr>
          <a:xfrm>
            <a:off x="8394840" y="1355760"/>
            <a:ext cx="56880" cy="222120"/>
          </a:xfrm>
          <a:custGeom>
            <a:avLst/>
            <a:gdLst/>
            <a:ahLst/>
            <a:rect l="l" t="t" r="r" b="b"/>
            <a:pathLst>
              <a:path w="32" h="128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25" y="128"/>
                  <a:pt x="32" y="121"/>
                  <a:pt x="32" y="112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reeform 76"/>
          <p:cNvSpPr/>
          <p:nvPr/>
        </p:nvSpPr>
        <p:spPr>
          <a:xfrm>
            <a:off x="8394840" y="1349280"/>
            <a:ext cx="56880" cy="222480"/>
          </a:xfrm>
          <a:custGeom>
            <a:avLst/>
            <a:gdLst/>
            <a:ahLst/>
            <a:rect l="l" t="t" r="r" b="b"/>
            <a:pathLst>
              <a:path w="32" h="128">
                <a:moveTo>
                  <a:pt x="32" y="112"/>
                </a:moveTo>
                <a:cubicBezTo>
                  <a:pt x="32" y="121"/>
                  <a:pt x="25" y="128"/>
                  <a:pt x="16" y="128"/>
                </a:cubicBezTo>
                <a:cubicBezTo>
                  <a:pt x="7" y="128"/>
                  <a:pt x="0" y="121"/>
                  <a:pt x="0" y="11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lnTo>
                  <a:pt x="32" y="112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reeform 77"/>
          <p:cNvSpPr/>
          <p:nvPr/>
        </p:nvSpPr>
        <p:spPr>
          <a:xfrm>
            <a:off x="10317240" y="3438360"/>
            <a:ext cx="222120" cy="54000"/>
          </a:xfrm>
          <a:custGeom>
            <a:avLst/>
            <a:gdLst/>
            <a:ahLst/>
            <a:rect l="l" t="t" r="r" b="b"/>
            <a:pathLst>
              <a:path w="128" h="32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5"/>
                  <a:pt x="7" y="32"/>
                  <a:pt x="16" y="32"/>
                </a:cubicBezTo>
                <a:cubicBezTo>
                  <a:pt x="112" y="32"/>
                  <a:pt x="112" y="32"/>
                  <a:pt x="112" y="32"/>
                </a:cubicBezTo>
                <a:cubicBezTo>
                  <a:pt x="121" y="32"/>
                  <a:pt x="128" y="25"/>
                  <a:pt x="128" y="16"/>
                </a:cubicBezTo>
                <a:cubicBezTo>
                  <a:pt x="128" y="7"/>
                  <a:pt x="121" y="0"/>
                  <a:pt x="11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reeform 78"/>
          <p:cNvSpPr/>
          <p:nvPr/>
        </p:nvSpPr>
        <p:spPr>
          <a:xfrm>
            <a:off x="10329840" y="3438360"/>
            <a:ext cx="216000" cy="54000"/>
          </a:xfrm>
          <a:custGeom>
            <a:avLst/>
            <a:gdLst/>
            <a:ahLst/>
            <a:rect l="l" t="t" r="r" b="b"/>
            <a:pathLst>
              <a:path w="124" h="32">
                <a:moveTo>
                  <a:pt x="124" y="14"/>
                </a:moveTo>
                <a:cubicBezTo>
                  <a:pt x="124" y="23"/>
                  <a:pt x="119" y="32"/>
                  <a:pt x="110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7" y="32"/>
                  <a:pt x="0" y="23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4"/>
                  <a:pt x="7" y="0"/>
                  <a:pt x="16" y="0"/>
                </a:cubicBezTo>
                <a:cubicBezTo>
                  <a:pt x="110" y="0"/>
                  <a:pt x="110" y="0"/>
                  <a:pt x="110" y="0"/>
                </a:cubicBezTo>
                <a:cubicBezTo>
                  <a:pt x="119" y="0"/>
                  <a:pt x="124" y="4"/>
                  <a:pt x="124" y="13"/>
                </a:cubicBezTo>
                <a:lnTo>
                  <a:pt x="124" y="14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79"/>
          <p:cNvSpPr/>
          <p:nvPr/>
        </p:nvSpPr>
        <p:spPr>
          <a:xfrm>
            <a:off x="8402760" y="5353200"/>
            <a:ext cx="54000" cy="222120"/>
          </a:xfrm>
          <a:custGeom>
            <a:avLst/>
            <a:gdLst/>
            <a:ahLst/>
            <a:rect l="l" t="t" r="r" b="b"/>
            <a:pathLst>
              <a:path w="32" h="128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0" y="112"/>
                  <a:pt x="0" y="112"/>
                  <a:pt x="0" y="112"/>
                </a:cubicBezTo>
                <a:cubicBezTo>
                  <a:pt x="0" y="121"/>
                  <a:pt x="7" y="128"/>
                  <a:pt x="16" y="128"/>
                </a:cubicBezTo>
                <a:cubicBezTo>
                  <a:pt x="25" y="128"/>
                  <a:pt x="32" y="121"/>
                  <a:pt x="32" y="112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80"/>
          <p:cNvSpPr/>
          <p:nvPr/>
        </p:nvSpPr>
        <p:spPr>
          <a:xfrm>
            <a:off x="8402760" y="5365800"/>
            <a:ext cx="54000" cy="223920"/>
          </a:xfrm>
          <a:custGeom>
            <a:avLst/>
            <a:gdLst/>
            <a:ahLst/>
            <a:rect l="l" t="t" r="r" b="b"/>
            <a:pathLst>
              <a:path w="32" h="128">
                <a:moveTo>
                  <a:pt x="32" y="112"/>
                </a:moveTo>
                <a:cubicBezTo>
                  <a:pt x="32" y="121"/>
                  <a:pt x="25" y="128"/>
                  <a:pt x="16" y="128"/>
                </a:cubicBezTo>
                <a:cubicBezTo>
                  <a:pt x="7" y="128"/>
                  <a:pt x="0" y="121"/>
                  <a:pt x="0" y="11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lnTo>
                  <a:pt x="32" y="112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81"/>
          <p:cNvSpPr/>
          <p:nvPr/>
        </p:nvSpPr>
        <p:spPr>
          <a:xfrm>
            <a:off x="6319800" y="3443400"/>
            <a:ext cx="223920" cy="56880"/>
          </a:xfrm>
          <a:custGeom>
            <a:avLst/>
            <a:gdLst/>
            <a:ahLst/>
            <a:rect l="l" t="t" r="r" b="b"/>
            <a:pathLst>
              <a:path w="128" h="32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5"/>
                  <a:pt x="7" y="32"/>
                  <a:pt x="16" y="32"/>
                </a:cubicBezTo>
                <a:cubicBezTo>
                  <a:pt x="112" y="32"/>
                  <a:pt x="112" y="32"/>
                  <a:pt x="112" y="32"/>
                </a:cubicBezTo>
                <a:cubicBezTo>
                  <a:pt x="121" y="32"/>
                  <a:pt x="128" y="25"/>
                  <a:pt x="128" y="16"/>
                </a:cubicBezTo>
                <a:cubicBezTo>
                  <a:pt x="128" y="7"/>
                  <a:pt x="121" y="0"/>
                  <a:pt x="11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82"/>
          <p:cNvSpPr/>
          <p:nvPr/>
        </p:nvSpPr>
        <p:spPr>
          <a:xfrm>
            <a:off x="6313320" y="3443400"/>
            <a:ext cx="222480" cy="56880"/>
          </a:xfrm>
          <a:custGeom>
            <a:avLst/>
            <a:gdLst/>
            <a:ahLst/>
            <a:rect l="l" t="t" r="r" b="b"/>
            <a:pathLst>
              <a:path w="128" h="32">
                <a:moveTo>
                  <a:pt x="128" y="16"/>
                </a:moveTo>
                <a:cubicBezTo>
                  <a:pt x="128" y="25"/>
                  <a:pt x="121" y="32"/>
                  <a:pt x="112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7" y="32"/>
                  <a:pt x="0" y="25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21" y="0"/>
                  <a:pt x="128" y="7"/>
                  <a:pt x="128" y="16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83"/>
          <p:cNvSpPr/>
          <p:nvPr/>
        </p:nvSpPr>
        <p:spPr>
          <a:xfrm>
            <a:off x="6664320" y="2281320"/>
            <a:ext cx="204840" cy="149040"/>
          </a:xfrm>
          <a:custGeom>
            <a:avLst/>
            <a:gdLst/>
            <a:ahLst/>
            <a:rect l="l" t="t" r="r" b="b"/>
            <a:pathLst>
              <a:path w="117" h="86">
                <a:moveTo>
                  <a:pt x="19" y="0"/>
                </a:moveTo>
                <a:cubicBezTo>
                  <a:pt x="14" y="0"/>
                  <a:pt x="8" y="3"/>
                  <a:pt x="5" y="7"/>
                </a:cubicBezTo>
                <a:cubicBezTo>
                  <a:pt x="0" y="15"/>
                  <a:pt x="2" y="25"/>
                  <a:pt x="10" y="30"/>
                </a:cubicBezTo>
                <a:cubicBezTo>
                  <a:pt x="89" y="84"/>
                  <a:pt x="89" y="84"/>
                  <a:pt x="89" y="84"/>
                </a:cubicBezTo>
                <a:cubicBezTo>
                  <a:pt x="92" y="86"/>
                  <a:pt x="95" y="86"/>
                  <a:pt x="98" y="86"/>
                </a:cubicBezTo>
                <a:cubicBezTo>
                  <a:pt x="104" y="86"/>
                  <a:pt x="109" y="84"/>
                  <a:pt x="112" y="79"/>
                </a:cubicBezTo>
                <a:cubicBezTo>
                  <a:pt x="117" y="72"/>
                  <a:pt x="115" y="61"/>
                  <a:pt x="108" y="56"/>
                </a:cubicBezTo>
                <a:cubicBezTo>
                  <a:pt x="28" y="3"/>
                  <a:pt x="28" y="3"/>
                  <a:pt x="28" y="3"/>
                </a:cubicBezTo>
                <a:cubicBezTo>
                  <a:pt x="25" y="1"/>
                  <a:pt x="22" y="0"/>
                  <a:pt x="19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84"/>
          <p:cNvSpPr/>
          <p:nvPr/>
        </p:nvSpPr>
        <p:spPr>
          <a:xfrm>
            <a:off x="6659640" y="2273400"/>
            <a:ext cx="203040" cy="158760"/>
          </a:xfrm>
          <a:custGeom>
            <a:avLst/>
            <a:gdLst/>
            <a:ahLst/>
            <a:rect l="l" t="t" r="r" b="b"/>
            <a:pathLst>
              <a:path w="117" h="91">
                <a:moveTo>
                  <a:pt x="107" y="58"/>
                </a:moveTo>
                <a:cubicBezTo>
                  <a:pt x="115" y="63"/>
                  <a:pt x="117" y="73"/>
                  <a:pt x="112" y="81"/>
                </a:cubicBezTo>
                <a:cubicBezTo>
                  <a:pt x="107" y="89"/>
                  <a:pt x="97" y="91"/>
                  <a:pt x="89" y="86"/>
                </a:cubicBezTo>
                <a:cubicBezTo>
                  <a:pt x="10" y="32"/>
                  <a:pt x="10" y="32"/>
                  <a:pt x="10" y="32"/>
                </a:cubicBezTo>
                <a:cubicBezTo>
                  <a:pt x="2" y="27"/>
                  <a:pt x="0" y="17"/>
                  <a:pt x="5" y="9"/>
                </a:cubicBezTo>
                <a:cubicBezTo>
                  <a:pt x="10" y="2"/>
                  <a:pt x="21" y="0"/>
                  <a:pt x="28" y="5"/>
                </a:cubicBezTo>
                <a:lnTo>
                  <a:pt x="107" y="58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85"/>
          <p:cNvSpPr/>
          <p:nvPr/>
        </p:nvSpPr>
        <p:spPr>
          <a:xfrm>
            <a:off x="9461520" y="1709640"/>
            <a:ext cx="158760" cy="196920"/>
          </a:xfrm>
          <a:custGeom>
            <a:avLst/>
            <a:gdLst/>
            <a:ahLst/>
            <a:rect l="l" t="t" r="r" b="b"/>
            <a:pathLst>
              <a:path w="91" h="113">
                <a:moveTo>
                  <a:pt x="72" y="0"/>
                </a:moveTo>
                <a:cubicBezTo>
                  <a:pt x="67" y="0"/>
                  <a:pt x="61" y="3"/>
                  <a:pt x="58" y="8"/>
                </a:cubicBezTo>
                <a:cubicBezTo>
                  <a:pt x="5" y="87"/>
                  <a:pt x="5" y="87"/>
                  <a:pt x="5" y="87"/>
                </a:cubicBezTo>
                <a:cubicBezTo>
                  <a:pt x="0" y="94"/>
                  <a:pt x="2" y="105"/>
                  <a:pt x="9" y="110"/>
                </a:cubicBezTo>
                <a:cubicBezTo>
                  <a:pt x="12" y="112"/>
                  <a:pt x="15" y="113"/>
                  <a:pt x="19" y="113"/>
                </a:cubicBezTo>
                <a:cubicBezTo>
                  <a:pt x="24" y="113"/>
                  <a:pt x="29" y="110"/>
                  <a:pt x="32" y="105"/>
                </a:cubicBezTo>
                <a:cubicBezTo>
                  <a:pt x="86" y="26"/>
                  <a:pt x="86" y="26"/>
                  <a:pt x="86" y="26"/>
                </a:cubicBezTo>
                <a:cubicBezTo>
                  <a:pt x="91" y="18"/>
                  <a:pt x="89" y="8"/>
                  <a:pt x="81" y="3"/>
                </a:cubicBezTo>
                <a:cubicBezTo>
                  <a:pt x="78" y="1"/>
                  <a:pt x="75" y="0"/>
                  <a:pt x="7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86"/>
          <p:cNvSpPr/>
          <p:nvPr/>
        </p:nvSpPr>
        <p:spPr>
          <a:xfrm>
            <a:off x="9469440" y="1698480"/>
            <a:ext cx="157320" cy="198720"/>
          </a:xfrm>
          <a:custGeom>
            <a:avLst/>
            <a:gdLst/>
            <a:ahLst/>
            <a:rect l="l" t="t" r="r" b="b"/>
            <a:pathLst>
              <a:path w="90" h="114">
                <a:moveTo>
                  <a:pt x="78" y="5"/>
                </a:moveTo>
                <a:cubicBezTo>
                  <a:pt x="86" y="10"/>
                  <a:pt x="90" y="20"/>
                  <a:pt x="85" y="28"/>
                </a:cubicBezTo>
                <a:cubicBezTo>
                  <a:pt x="32" y="105"/>
                  <a:pt x="32" y="105"/>
                  <a:pt x="32" y="105"/>
                </a:cubicBezTo>
                <a:cubicBezTo>
                  <a:pt x="27" y="113"/>
                  <a:pt x="16" y="114"/>
                  <a:pt x="8" y="109"/>
                </a:cubicBezTo>
                <a:cubicBezTo>
                  <a:pt x="8" y="109"/>
                  <a:pt x="8" y="109"/>
                  <a:pt x="8" y="109"/>
                </a:cubicBezTo>
                <a:cubicBezTo>
                  <a:pt x="1" y="104"/>
                  <a:pt x="0" y="95"/>
                  <a:pt x="5" y="87"/>
                </a:cubicBezTo>
                <a:cubicBezTo>
                  <a:pt x="57" y="9"/>
                  <a:pt x="57" y="9"/>
                  <a:pt x="57" y="9"/>
                </a:cubicBezTo>
                <a:cubicBezTo>
                  <a:pt x="62" y="2"/>
                  <a:pt x="70" y="0"/>
                  <a:pt x="78" y="5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89"/>
          <p:cNvSpPr/>
          <p:nvPr/>
        </p:nvSpPr>
        <p:spPr>
          <a:xfrm>
            <a:off x="7236000" y="5032440"/>
            <a:ext cx="158400" cy="195120"/>
          </a:xfrm>
          <a:custGeom>
            <a:avLst/>
            <a:gdLst/>
            <a:ahLst/>
            <a:rect l="l" t="t" r="r" b="b"/>
            <a:pathLst>
              <a:path w="91" h="112">
                <a:moveTo>
                  <a:pt x="72" y="0"/>
                </a:moveTo>
                <a:cubicBezTo>
                  <a:pt x="67" y="0"/>
                  <a:pt x="62" y="2"/>
                  <a:pt x="58" y="7"/>
                </a:cubicBezTo>
                <a:cubicBezTo>
                  <a:pt x="5" y="86"/>
                  <a:pt x="5" y="86"/>
                  <a:pt x="5" y="86"/>
                </a:cubicBezTo>
                <a:cubicBezTo>
                  <a:pt x="0" y="94"/>
                  <a:pt x="2" y="104"/>
                  <a:pt x="9" y="109"/>
                </a:cubicBezTo>
                <a:cubicBezTo>
                  <a:pt x="12" y="111"/>
                  <a:pt x="16" y="112"/>
                  <a:pt x="19" y="112"/>
                </a:cubicBezTo>
                <a:cubicBezTo>
                  <a:pt x="24" y="112"/>
                  <a:pt x="29" y="109"/>
                  <a:pt x="32" y="105"/>
                </a:cubicBezTo>
                <a:cubicBezTo>
                  <a:pt x="86" y="25"/>
                  <a:pt x="86" y="25"/>
                  <a:pt x="86" y="25"/>
                </a:cubicBezTo>
                <a:cubicBezTo>
                  <a:pt x="91" y="18"/>
                  <a:pt x="89" y="7"/>
                  <a:pt x="81" y="2"/>
                </a:cubicBezTo>
                <a:cubicBezTo>
                  <a:pt x="78" y="0"/>
                  <a:pt x="75" y="0"/>
                  <a:pt x="72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90"/>
          <p:cNvSpPr/>
          <p:nvPr/>
        </p:nvSpPr>
        <p:spPr>
          <a:xfrm>
            <a:off x="7232760" y="5032440"/>
            <a:ext cx="158760" cy="204840"/>
          </a:xfrm>
          <a:custGeom>
            <a:avLst/>
            <a:gdLst/>
            <a:ahLst/>
            <a:rect l="l" t="t" r="r" b="b"/>
            <a:pathLst>
              <a:path w="91" h="117">
                <a:moveTo>
                  <a:pt x="81" y="5"/>
                </a:moveTo>
                <a:cubicBezTo>
                  <a:pt x="89" y="11"/>
                  <a:pt x="91" y="21"/>
                  <a:pt x="86" y="28"/>
                </a:cubicBezTo>
                <a:cubicBezTo>
                  <a:pt x="32" y="108"/>
                  <a:pt x="32" y="108"/>
                  <a:pt x="32" y="108"/>
                </a:cubicBezTo>
                <a:cubicBezTo>
                  <a:pt x="27" y="115"/>
                  <a:pt x="17" y="117"/>
                  <a:pt x="9" y="112"/>
                </a:cubicBezTo>
                <a:cubicBezTo>
                  <a:pt x="2" y="107"/>
                  <a:pt x="0" y="97"/>
                  <a:pt x="5" y="89"/>
                </a:cubicBezTo>
                <a:cubicBezTo>
                  <a:pt x="58" y="10"/>
                  <a:pt x="58" y="10"/>
                  <a:pt x="58" y="10"/>
                </a:cubicBezTo>
                <a:cubicBezTo>
                  <a:pt x="63" y="2"/>
                  <a:pt x="74" y="0"/>
                  <a:pt x="81" y="5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Freeform 91"/>
          <p:cNvSpPr/>
          <p:nvPr/>
        </p:nvSpPr>
        <p:spPr>
          <a:xfrm>
            <a:off x="7408800" y="1604880"/>
            <a:ext cx="144360" cy="203400"/>
          </a:xfrm>
          <a:custGeom>
            <a:avLst/>
            <a:gdLst/>
            <a:ahLst/>
            <a:rect l="l" t="t" r="r" b="b"/>
            <a:pathLst>
              <a:path w="83" h="117">
                <a:moveTo>
                  <a:pt x="19" y="0"/>
                </a:moveTo>
                <a:cubicBezTo>
                  <a:pt x="16" y="0"/>
                  <a:pt x="13" y="0"/>
                  <a:pt x="11" y="2"/>
                </a:cubicBezTo>
                <a:cubicBezTo>
                  <a:pt x="3" y="6"/>
                  <a:pt x="0" y="16"/>
                  <a:pt x="4" y="24"/>
                </a:cubicBezTo>
                <a:cubicBezTo>
                  <a:pt x="49" y="108"/>
                  <a:pt x="49" y="108"/>
                  <a:pt x="49" y="108"/>
                </a:cubicBezTo>
                <a:cubicBezTo>
                  <a:pt x="52" y="114"/>
                  <a:pt x="58" y="117"/>
                  <a:pt x="64" y="117"/>
                </a:cubicBezTo>
                <a:cubicBezTo>
                  <a:pt x="67" y="117"/>
                  <a:pt x="69" y="116"/>
                  <a:pt x="72" y="115"/>
                </a:cubicBezTo>
                <a:cubicBezTo>
                  <a:pt x="80" y="111"/>
                  <a:pt x="83" y="101"/>
                  <a:pt x="79" y="93"/>
                </a:cubicBezTo>
                <a:cubicBezTo>
                  <a:pt x="33" y="9"/>
                  <a:pt x="33" y="9"/>
                  <a:pt x="33" y="9"/>
                </a:cubicBezTo>
                <a:cubicBezTo>
                  <a:pt x="30" y="3"/>
                  <a:pt x="25" y="0"/>
                  <a:pt x="19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reeform 92"/>
          <p:cNvSpPr/>
          <p:nvPr/>
        </p:nvSpPr>
        <p:spPr>
          <a:xfrm>
            <a:off x="7404120" y="1595520"/>
            <a:ext cx="144360" cy="21096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9" y="96"/>
                </a:moveTo>
                <a:cubicBezTo>
                  <a:pt x="83" y="104"/>
                  <a:pt x="80" y="114"/>
                  <a:pt x="72" y="118"/>
                </a:cubicBezTo>
                <a:cubicBezTo>
                  <a:pt x="64" y="122"/>
                  <a:pt x="54" y="119"/>
                  <a:pt x="50" y="111"/>
                </a:cubicBezTo>
                <a:cubicBezTo>
                  <a:pt x="4" y="27"/>
                  <a:pt x="4" y="27"/>
                  <a:pt x="4" y="27"/>
                </a:cubicBezTo>
                <a:cubicBezTo>
                  <a:pt x="0" y="19"/>
                  <a:pt x="3" y="9"/>
                  <a:pt x="11" y="5"/>
                </a:cubicBezTo>
                <a:cubicBezTo>
                  <a:pt x="19" y="0"/>
                  <a:pt x="29" y="3"/>
                  <a:pt x="34" y="11"/>
                </a:cubicBezTo>
                <a:lnTo>
                  <a:pt x="79" y="96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reeform 93"/>
          <p:cNvSpPr/>
          <p:nvPr/>
        </p:nvSpPr>
        <p:spPr>
          <a:xfrm>
            <a:off x="10080720" y="2451240"/>
            <a:ext cx="214200" cy="136440"/>
          </a:xfrm>
          <a:custGeom>
            <a:avLst/>
            <a:gdLst/>
            <a:ahLst/>
            <a:rect l="l" t="t" r="r" b="b"/>
            <a:pathLst>
              <a:path w="122" h="79">
                <a:moveTo>
                  <a:pt x="103" y="0"/>
                </a:moveTo>
                <a:cubicBezTo>
                  <a:pt x="101" y="0"/>
                  <a:pt x="98" y="1"/>
                  <a:pt x="95" y="2"/>
                </a:cubicBezTo>
                <a:cubicBezTo>
                  <a:pt x="11" y="48"/>
                  <a:pt x="11" y="48"/>
                  <a:pt x="11" y="48"/>
                </a:cubicBezTo>
                <a:cubicBezTo>
                  <a:pt x="3" y="52"/>
                  <a:pt x="0" y="62"/>
                  <a:pt x="4" y="70"/>
                </a:cubicBezTo>
                <a:cubicBezTo>
                  <a:pt x="7" y="75"/>
                  <a:pt x="13" y="79"/>
                  <a:pt x="19" y="79"/>
                </a:cubicBezTo>
                <a:cubicBezTo>
                  <a:pt x="22" y="79"/>
                  <a:pt x="24" y="78"/>
                  <a:pt x="27" y="77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9" y="27"/>
                  <a:pt x="122" y="17"/>
                  <a:pt x="118" y="9"/>
                </a:cubicBezTo>
                <a:cubicBezTo>
                  <a:pt x="115" y="4"/>
                  <a:pt x="109" y="0"/>
                  <a:pt x="103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reeform 94"/>
          <p:cNvSpPr/>
          <p:nvPr/>
        </p:nvSpPr>
        <p:spPr>
          <a:xfrm>
            <a:off x="10091880" y="2443320"/>
            <a:ext cx="206280" cy="142560"/>
          </a:xfrm>
          <a:custGeom>
            <a:avLst/>
            <a:gdLst/>
            <a:ahLst/>
            <a:rect l="l" t="t" r="r" b="b"/>
            <a:pathLst>
              <a:path w="119" h="82">
                <a:moveTo>
                  <a:pt x="114" y="10"/>
                </a:moveTo>
                <a:cubicBezTo>
                  <a:pt x="119" y="18"/>
                  <a:pt x="118" y="29"/>
                  <a:pt x="110" y="33"/>
                </a:cubicBezTo>
                <a:cubicBezTo>
                  <a:pt x="27" y="77"/>
                  <a:pt x="27" y="77"/>
                  <a:pt x="27" y="77"/>
                </a:cubicBezTo>
                <a:cubicBezTo>
                  <a:pt x="19" y="82"/>
                  <a:pt x="9" y="77"/>
                  <a:pt x="4" y="69"/>
                </a:cubicBezTo>
                <a:cubicBezTo>
                  <a:pt x="4" y="69"/>
                  <a:pt x="4" y="69"/>
                  <a:pt x="4" y="69"/>
                </a:cubicBezTo>
                <a:cubicBezTo>
                  <a:pt x="0" y="61"/>
                  <a:pt x="3" y="52"/>
                  <a:pt x="12" y="48"/>
                </a:cubicBezTo>
                <a:cubicBezTo>
                  <a:pt x="94" y="4"/>
                  <a:pt x="94" y="4"/>
                  <a:pt x="94" y="4"/>
                </a:cubicBezTo>
                <a:cubicBezTo>
                  <a:pt x="102" y="0"/>
                  <a:pt x="110" y="2"/>
                  <a:pt x="114" y="10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Freeform 95"/>
          <p:cNvSpPr/>
          <p:nvPr/>
        </p:nvSpPr>
        <p:spPr>
          <a:xfrm>
            <a:off x="9304200" y="5126040"/>
            <a:ext cx="144720" cy="204840"/>
          </a:xfrm>
          <a:custGeom>
            <a:avLst/>
            <a:gdLst/>
            <a:ahLst/>
            <a:rect l="l" t="t" r="r" b="b"/>
            <a:pathLst>
              <a:path w="83" h="117">
                <a:moveTo>
                  <a:pt x="19" y="0"/>
                </a:moveTo>
                <a:cubicBezTo>
                  <a:pt x="16" y="0"/>
                  <a:pt x="13" y="0"/>
                  <a:pt x="11" y="2"/>
                </a:cubicBezTo>
                <a:cubicBezTo>
                  <a:pt x="3" y="6"/>
                  <a:pt x="0" y="16"/>
                  <a:pt x="4" y="24"/>
                </a:cubicBezTo>
                <a:cubicBezTo>
                  <a:pt x="49" y="108"/>
                  <a:pt x="49" y="108"/>
                  <a:pt x="49" y="108"/>
                </a:cubicBezTo>
                <a:cubicBezTo>
                  <a:pt x="52" y="114"/>
                  <a:pt x="58" y="117"/>
                  <a:pt x="64" y="117"/>
                </a:cubicBezTo>
                <a:cubicBezTo>
                  <a:pt x="66" y="117"/>
                  <a:pt x="69" y="116"/>
                  <a:pt x="71" y="115"/>
                </a:cubicBezTo>
                <a:cubicBezTo>
                  <a:pt x="80" y="111"/>
                  <a:pt x="83" y="101"/>
                  <a:pt x="78" y="93"/>
                </a:cubicBezTo>
                <a:cubicBezTo>
                  <a:pt x="33" y="8"/>
                  <a:pt x="33" y="8"/>
                  <a:pt x="33" y="8"/>
                </a:cubicBezTo>
                <a:cubicBezTo>
                  <a:pt x="30" y="3"/>
                  <a:pt x="24" y="0"/>
                  <a:pt x="19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96"/>
          <p:cNvSpPr/>
          <p:nvPr/>
        </p:nvSpPr>
        <p:spPr>
          <a:xfrm>
            <a:off x="9309240" y="5133960"/>
            <a:ext cx="144360" cy="211320"/>
          </a:xfrm>
          <a:custGeom>
            <a:avLst/>
            <a:gdLst/>
            <a:ahLst/>
            <a:rect l="l" t="t" r="r" b="b"/>
            <a:pathLst>
              <a:path w="83" h="122">
                <a:moveTo>
                  <a:pt x="79" y="95"/>
                </a:moveTo>
                <a:cubicBezTo>
                  <a:pt x="83" y="103"/>
                  <a:pt x="80" y="113"/>
                  <a:pt x="72" y="117"/>
                </a:cubicBezTo>
                <a:cubicBezTo>
                  <a:pt x="64" y="122"/>
                  <a:pt x="54" y="119"/>
                  <a:pt x="50" y="111"/>
                </a:cubicBezTo>
                <a:cubicBezTo>
                  <a:pt x="4" y="26"/>
                  <a:pt x="4" y="26"/>
                  <a:pt x="4" y="26"/>
                </a:cubicBezTo>
                <a:cubicBezTo>
                  <a:pt x="0" y="18"/>
                  <a:pt x="3" y="8"/>
                  <a:pt x="11" y="4"/>
                </a:cubicBezTo>
                <a:cubicBezTo>
                  <a:pt x="19" y="0"/>
                  <a:pt x="29" y="3"/>
                  <a:pt x="34" y="11"/>
                </a:cubicBezTo>
                <a:lnTo>
                  <a:pt x="79" y="95"/>
                </a:ln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97"/>
          <p:cNvSpPr/>
          <p:nvPr/>
        </p:nvSpPr>
        <p:spPr>
          <a:xfrm>
            <a:off x="6559560" y="4346640"/>
            <a:ext cx="214200" cy="13500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03" y="0"/>
                </a:moveTo>
                <a:cubicBezTo>
                  <a:pt x="101" y="0"/>
                  <a:pt x="98" y="1"/>
                  <a:pt x="96" y="2"/>
                </a:cubicBezTo>
                <a:cubicBezTo>
                  <a:pt x="11" y="47"/>
                  <a:pt x="11" y="47"/>
                  <a:pt x="11" y="47"/>
                </a:cubicBezTo>
                <a:cubicBezTo>
                  <a:pt x="3" y="52"/>
                  <a:pt x="0" y="62"/>
                  <a:pt x="5" y="70"/>
                </a:cubicBezTo>
                <a:cubicBezTo>
                  <a:pt x="8" y="75"/>
                  <a:pt x="13" y="78"/>
                  <a:pt x="19" y="78"/>
                </a:cubicBezTo>
                <a:cubicBezTo>
                  <a:pt x="22" y="78"/>
                  <a:pt x="25" y="78"/>
                  <a:pt x="27" y="76"/>
                </a:cubicBezTo>
                <a:cubicBezTo>
                  <a:pt x="111" y="31"/>
                  <a:pt x="111" y="31"/>
                  <a:pt x="111" y="31"/>
                </a:cubicBezTo>
                <a:cubicBezTo>
                  <a:pt x="119" y="27"/>
                  <a:pt x="122" y="17"/>
                  <a:pt x="118" y="9"/>
                </a:cubicBezTo>
                <a:cubicBezTo>
                  <a:pt x="115" y="3"/>
                  <a:pt x="109" y="0"/>
                  <a:pt x="103" y="0"/>
                </a:cubicBezTo>
              </a:path>
            </a:pathLst>
          </a:custGeom>
          <a:solidFill>
            <a:srgbClr val="e77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reeform 98"/>
          <p:cNvSpPr/>
          <p:nvPr/>
        </p:nvSpPr>
        <p:spPr>
          <a:xfrm>
            <a:off x="6556320" y="4344840"/>
            <a:ext cx="211320" cy="144720"/>
          </a:xfrm>
          <a:custGeom>
            <a:avLst/>
            <a:gdLst/>
            <a:ahLst/>
            <a:rect l="l" t="t" r="r" b="b"/>
            <a:pathLst>
              <a:path w="122" h="83">
                <a:moveTo>
                  <a:pt x="118" y="12"/>
                </a:moveTo>
                <a:cubicBezTo>
                  <a:pt x="122" y="20"/>
                  <a:pt x="119" y="30"/>
                  <a:pt x="111" y="34"/>
                </a:cubicBezTo>
                <a:cubicBezTo>
                  <a:pt x="27" y="79"/>
                  <a:pt x="27" y="79"/>
                  <a:pt x="27" y="79"/>
                </a:cubicBezTo>
                <a:cubicBezTo>
                  <a:pt x="19" y="83"/>
                  <a:pt x="9" y="80"/>
                  <a:pt x="4" y="72"/>
                </a:cubicBezTo>
                <a:cubicBezTo>
                  <a:pt x="0" y="64"/>
                  <a:pt x="3" y="54"/>
                  <a:pt x="11" y="50"/>
                </a:cubicBezTo>
                <a:cubicBezTo>
                  <a:pt x="95" y="5"/>
                  <a:pt x="95" y="5"/>
                  <a:pt x="95" y="5"/>
                </a:cubicBezTo>
                <a:cubicBezTo>
                  <a:pt x="103" y="0"/>
                  <a:pt x="113" y="4"/>
                  <a:pt x="118" y="12"/>
                </a:cubicBezTo>
                <a:close/>
              </a:path>
            </a:pathLst>
          </a:custGeom>
          <a:solidFill>
            <a:srgbClr val="42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209"/>
          <p:cNvGrpSpPr/>
          <p:nvPr/>
        </p:nvGrpSpPr>
        <p:grpSpPr>
          <a:xfrm>
            <a:off x="7061400" y="1973520"/>
            <a:ext cx="3229200" cy="3048840"/>
            <a:chOff x="7061400" y="1973520"/>
            <a:chExt cx="3229200" cy="3048840"/>
          </a:xfrm>
        </p:grpSpPr>
        <p:grpSp>
          <p:nvGrpSpPr>
            <p:cNvPr id="768" name="组合 2"/>
            <p:cNvGrpSpPr/>
            <p:nvPr/>
          </p:nvGrpSpPr>
          <p:grpSpPr>
            <a:xfrm>
              <a:off x="8040960" y="1973520"/>
              <a:ext cx="2249640" cy="1803240"/>
              <a:chOff x="8040960" y="1973520"/>
              <a:chExt cx="2249640" cy="1803240"/>
            </a:xfrm>
          </p:grpSpPr>
          <p:sp>
            <p:nvSpPr>
              <p:cNvPr id="769" name="Freeform 33"/>
              <p:cNvSpPr/>
              <p:nvPr/>
            </p:nvSpPr>
            <p:spPr>
              <a:xfrm rot="20074200">
                <a:off x="8443080" y="2587680"/>
                <a:ext cx="1765800" cy="777960"/>
              </a:xfrm>
              <a:custGeom>
                <a:avLst/>
                <a:gdLst/>
                <a:ahLst/>
                <a:rect l="l" t="t" r="r" b="b"/>
                <a:pathLst>
                  <a:path w="1015" h="447">
                    <a:moveTo>
                      <a:pt x="1006" y="0"/>
                    </a:moveTo>
                    <a:cubicBezTo>
                      <a:pt x="997" y="23"/>
                      <a:pt x="979" y="42"/>
                      <a:pt x="955" y="51"/>
                    </a:cubicBezTo>
                    <a:cubicBezTo>
                      <a:pt x="76" y="376"/>
                      <a:pt x="76" y="376"/>
                      <a:pt x="76" y="376"/>
                    </a:cubicBezTo>
                    <a:cubicBezTo>
                      <a:pt x="165" y="349"/>
                      <a:pt x="165" y="349"/>
                      <a:pt x="165" y="349"/>
                    </a:cubicBezTo>
                    <a:cubicBezTo>
                      <a:pt x="167" y="350"/>
                      <a:pt x="167" y="350"/>
                      <a:pt x="167" y="350"/>
                    </a:cubicBezTo>
                    <a:cubicBezTo>
                      <a:pt x="83" y="377"/>
                      <a:pt x="83" y="377"/>
                      <a:pt x="83" y="377"/>
                    </a:cubicBezTo>
                    <a:cubicBezTo>
                      <a:pt x="84" y="378"/>
                      <a:pt x="84" y="378"/>
                      <a:pt x="84" y="378"/>
                    </a:cubicBezTo>
                    <a:cubicBezTo>
                      <a:pt x="0" y="405"/>
                      <a:pt x="0" y="405"/>
                      <a:pt x="0" y="405"/>
                    </a:cubicBezTo>
                    <a:cubicBezTo>
                      <a:pt x="62" y="447"/>
                      <a:pt x="62" y="447"/>
                      <a:pt x="62" y="447"/>
                    </a:cubicBezTo>
                    <a:cubicBezTo>
                      <a:pt x="85" y="379"/>
                      <a:pt x="85" y="379"/>
                      <a:pt x="85" y="379"/>
                    </a:cubicBezTo>
                    <a:cubicBezTo>
                      <a:pt x="144" y="419"/>
                      <a:pt x="144" y="419"/>
                      <a:pt x="144" y="419"/>
                    </a:cubicBezTo>
                    <a:cubicBezTo>
                      <a:pt x="167" y="350"/>
                      <a:pt x="167" y="350"/>
                      <a:pt x="167" y="350"/>
                    </a:cubicBezTo>
                    <a:cubicBezTo>
                      <a:pt x="227" y="391"/>
                      <a:pt x="227" y="391"/>
                      <a:pt x="227" y="391"/>
                    </a:cubicBezTo>
                    <a:cubicBezTo>
                      <a:pt x="250" y="324"/>
                      <a:pt x="250" y="324"/>
                      <a:pt x="250" y="324"/>
                    </a:cubicBezTo>
                    <a:cubicBezTo>
                      <a:pt x="251" y="323"/>
                      <a:pt x="251" y="323"/>
                      <a:pt x="251" y="323"/>
                    </a:cubicBezTo>
                    <a:cubicBezTo>
                      <a:pt x="310" y="363"/>
                      <a:pt x="310" y="363"/>
                      <a:pt x="310" y="363"/>
                    </a:cubicBezTo>
                    <a:cubicBezTo>
                      <a:pt x="331" y="299"/>
                      <a:pt x="331" y="299"/>
                      <a:pt x="331" y="299"/>
                    </a:cubicBezTo>
                    <a:cubicBezTo>
                      <a:pt x="337" y="297"/>
                      <a:pt x="337" y="297"/>
                      <a:pt x="337" y="297"/>
                    </a:cubicBezTo>
                    <a:cubicBezTo>
                      <a:pt x="392" y="335"/>
                      <a:pt x="392" y="335"/>
                      <a:pt x="392" y="335"/>
                    </a:cubicBezTo>
                    <a:cubicBezTo>
                      <a:pt x="413" y="274"/>
                      <a:pt x="413" y="274"/>
                      <a:pt x="413" y="274"/>
                    </a:cubicBezTo>
                    <a:cubicBezTo>
                      <a:pt x="422" y="271"/>
                      <a:pt x="422" y="271"/>
                      <a:pt x="422" y="271"/>
                    </a:cubicBezTo>
                    <a:cubicBezTo>
                      <a:pt x="475" y="307"/>
                      <a:pt x="475" y="307"/>
                      <a:pt x="475" y="307"/>
                    </a:cubicBezTo>
                    <a:cubicBezTo>
                      <a:pt x="494" y="249"/>
                      <a:pt x="494" y="249"/>
                      <a:pt x="494" y="249"/>
                    </a:cubicBezTo>
                    <a:cubicBezTo>
                      <a:pt x="508" y="245"/>
                      <a:pt x="508" y="245"/>
                      <a:pt x="508" y="245"/>
                    </a:cubicBezTo>
                    <a:cubicBezTo>
                      <a:pt x="557" y="279"/>
                      <a:pt x="557" y="279"/>
                      <a:pt x="557" y="279"/>
                    </a:cubicBezTo>
                    <a:cubicBezTo>
                      <a:pt x="576" y="225"/>
                      <a:pt x="576" y="225"/>
                      <a:pt x="576" y="225"/>
                    </a:cubicBezTo>
                    <a:cubicBezTo>
                      <a:pt x="594" y="219"/>
                      <a:pt x="594" y="219"/>
                      <a:pt x="594" y="219"/>
                    </a:cubicBezTo>
                    <a:cubicBezTo>
                      <a:pt x="640" y="251"/>
                      <a:pt x="640" y="251"/>
                      <a:pt x="640" y="251"/>
                    </a:cubicBezTo>
                    <a:cubicBezTo>
                      <a:pt x="657" y="200"/>
                      <a:pt x="657" y="200"/>
                      <a:pt x="657" y="200"/>
                    </a:cubicBezTo>
                    <a:cubicBezTo>
                      <a:pt x="679" y="193"/>
                      <a:pt x="679" y="193"/>
                      <a:pt x="679" y="193"/>
                    </a:cubicBezTo>
                    <a:cubicBezTo>
                      <a:pt x="723" y="223"/>
                      <a:pt x="723" y="223"/>
                      <a:pt x="723" y="223"/>
                    </a:cubicBezTo>
                    <a:cubicBezTo>
                      <a:pt x="739" y="175"/>
                      <a:pt x="739" y="175"/>
                      <a:pt x="739" y="175"/>
                    </a:cubicBezTo>
                    <a:cubicBezTo>
                      <a:pt x="765" y="167"/>
                      <a:pt x="765" y="167"/>
                      <a:pt x="765" y="167"/>
                    </a:cubicBezTo>
                    <a:cubicBezTo>
                      <a:pt x="805" y="195"/>
                      <a:pt x="805" y="195"/>
                      <a:pt x="805" y="195"/>
                    </a:cubicBezTo>
                    <a:cubicBezTo>
                      <a:pt x="820" y="151"/>
                      <a:pt x="820" y="151"/>
                      <a:pt x="820" y="151"/>
                    </a:cubicBezTo>
                    <a:cubicBezTo>
                      <a:pt x="851" y="141"/>
                      <a:pt x="851" y="141"/>
                      <a:pt x="851" y="141"/>
                    </a:cubicBezTo>
                    <a:cubicBezTo>
                      <a:pt x="888" y="166"/>
                      <a:pt x="888" y="166"/>
                      <a:pt x="888" y="166"/>
                    </a:cubicBezTo>
                    <a:cubicBezTo>
                      <a:pt x="902" y="126"/>
                      <a:pt x="902" y="126"/>
                      <a:pt x="902" y="126"/>
                    </a:cubicBezTo>
                    <a:cubicBezTo>
                      <a:pt x="936" y="115"/>
                      <a:pt x="936" y="115"/>
                      <a:pt x="936" y="115"/>
                    </a:cubicBezTo>
                    <a:cubicBezTo>
                      <a:pt x="971" y="138"/>
                      <a:pt x="971" y="138"/>
                      <a:pt x="971" y="138"/>
                    </a:cubicBezTo>
                    <a:cubicBezTo>
                      <a:pt x="990" y="81"/>
                      <a:pt x="990" y="81"/>
                      <a:pt x="990" y="81"/>
                    </a:cubicBezTo>
                    <a:cubicBezTo>
                      <a:pt x="1004" y="63"/>
                      <a:pt x="1015" y="37"/>
                      <a:pt x="1006" y="0"/>
                    </a:cubicBezTo>
                  </a:path>
                </a:pathLst>
              </a:custGeom>
              <a:solidFill>
                <a:srgbClr val="b12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34"/>
              <p:cNvSpPr/>
              <p:nvPr/>
            </p:nvSpPr>
            <p:spPr>
              <a:xfrm rot="20074200">
                <a:off x="8653320" y="355860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5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35"/>
              <p:cNvSpPr/>
              <p:nvPr/>
            </p:nvSpPr>
            <p:spPr>
              <a:xfrm rot="20074200">
                <a:off x="8757360" y="3549240"/>
                <a:ext cx="28080" cy="95400"/>
              </a:xfrm>
              <a:custGeom>
                <a:avLst/>
                <a:gdLst/>
                <a:ahLst/>
                <a:rect l="l" t="t" r="r" b="b"/>
                <a:pathLst>
                  <a:path w="19" h="64">
                    <a:moveTo>
                      <a:pt x="0" y="64"/>
                    </a:moveTo>
                    <a:lnTo>
                      <a:pt x="0" y="6"/>
                    </a:lnTo>
                    <a:lnTo>
                      <a:pt x="19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36"/>
              <p:cNvSpPr/>
              <p:nvPr/>
            </p:nvSpPr>
            <p:spPr>
              <a:xfrm rot="20074200">
                <a:off x="8759160" y="344736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5"/>
                    </a:moveTo>
                    <a:lnTo>
                      <a:pt x="73" y="82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37"/>
              <p:cNvSpPr/>
              <p:nvPr/>
            </p:nvSpPr>
            <p:spPr>
              <a:xfrm rot="20074200">
                <a:off x="8858880" y="3440880"/>
                <a:ext cx="29520" cy="95400"/>
              </a:xfrm>
              <a:custGeom>
                <a:avLst/>
                <a:gdLst/>
                <a:ahLst/>
                <a:rect l="l" t="t" r="r" b="b"/>
                <a:pathLst>
                  <a:path w="20" h="64">
                    <a:moveTo>
                      <a:pt x="0" y="64"/>
                    </a:moveTo>
                    <a:lnTo>
                      <a:pt x="0" y="5"/>
                    </a:lnTo>
                    <a:lnTo>
                      <a:pt x="2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38"/>
              <p:cNvSpPr/>
              <p:nvPr/>
            </p:nvSpPr>
            <p:spPr>
              <a:xfrm rot="20074200">
                <a:off x="8865720" y="3337920"/>
                <a:ext cx="142920" cy="12204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0" y="35"/>
                    </a:moveTo>
                    <a:lnTo>
                      <a:pt x="73" y="82"/>
                    </a:lnTo>
                    <a:lnTo>
                      <a:pt x="96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39"/>
              <p:cNvSpPr/>
              <p:nvPr/>
            </p:nvSpPr>
            <p:spPr>
              <a:xfrm rot="20074200">
                <a:off x="8960760" y="333000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7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40"/>
              <p:cNvSpPr/>
              <p:nvPr/>
            </p:nvSpPr>
            <p:spPr>
              <a:xfrm rot="20074200">
                <a:off x="8968680" y="322884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4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41"/>
              <p:cNvSpPr/>
              <p:nvPr/>
            </p:nvSpPr>
            <p:spPr>
              <a:xfrm rot="20074200">
                <a:off x="9069120" y="321876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7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42"/>
              <p:cNvSpPr/>
              <p:nvPr/>
            </p:nvSpPr>
            <p:spPr>
              <a:xfrm rot="20074200">
                <a:off x="9074520" y="311724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6"/>
                    </a:moveTo>
                    <a:lnTo>
                      <a:pt x="73" y="81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43"/>
              <p:cNvSpPr/>
              <p:nvPr/>
            </p:nvSpPr>
            <p:spPr>
              <a:xfrm rot="20074200">
                <a:off x="9172800" y="311004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44"/>
              <p:cNvSpPr/>
              <p:nvPr/>
            </p:nvSpPr>
            <p:spPr>
              <a:xfrm rot="20074200">
                <a:off x="9177840" y="300744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7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45"/>
              <p:cNvSpPr/>
              <p:nvPr/>
            </p:nvSpPr>
            <p:spPr>
              <a:xfrm rot="20074200">
                <a:off x="9275040" y="300240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5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46"/>
              <p:cNvSpPr/>
              <p:nvPr/>
            </p:nvSpPr>
            <p:spPr>
              <a:xfrm rot="20074200">
                <a:off x="9284040" y="289728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6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47"/>
              <p:cNvSpPr/>
              <p:nvPr/>
            </p:nvSpPr>
            <p:spPr>
              <a:xfrm rot="20074200">
                <a:off x="9383760" y="288972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48"/>
              <p:cNvSpPr/>
              <p:nvPr/>
            </p:nvSpPr>
            <p:spPr>
              <a:xfrm rot="20074200">
                <a:off x="9388800" y="278820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6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49"/>
              <p:cNvSpPr/>
              <p:nvPr/>
            </p:nvSpPr>
            <p:spPr>
              <a:xfrm rot="20074200">
                <a:off x="9485640" y="278136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50"/>
              <p:cNvSpPr/>
              <p:nvPr/>
            </p:nvSpPr>
            <p:spPr>
              <a:xfrm rot="20074200">
                <a:off x="9493560" y="2678760"/>
                <a:ext cx="145800" cy="12204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0" y="36"/>
                    </a:moveTo>
                    <a:lnTo>
                      <a:pt x="74" y="82"/>
                    </a:lnTo>
                    <a:lnTo>
                      <a:pt x="98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51"/>
              <p:cNvSpPr/>
              <p:nvPr/>
            </p:nvSpPr>
            <p:spPr>
              <a:xfrm rot="20074200">
                <a:off x="9594360" y="267012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52"/>
              <p:cNvSpPr/>
              <p:nvPr/>
            </p:nvSpPr>
            <p:spPr>
              <a:xfrm rot="20074200">
                <a:off x="9598320" y="256932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5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53"/>
              <p:cNvSpPr/>
              <p:nvPr/>
            </p:nvSpPr>
            <p:spPr>
              <a:xfrm rot="20074200">
                <a:off x="9698040" y="256140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54"/>
              <p:cNvSpPr/>
              <p:nvPr/>
            </p:nvSpPr>
            <p:spPr>
              <a:xfrm rot="20074200">
                <a:off x="9704520" y="2459520"/>
                <a:ext cx="145800" cy="12060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35"/>
                    </a:moveTo>
                    <a:lnTo>
                      <a:pt x="73" y="81"/>
                    </a:lnTo>
                    <a:lnTo>
                      <a:pt x="9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55"/>
              <p:cNvSpPr/>
              <p:nvPr/>
            </p:nvSpPr>
            <p:spPr>
              <a:xfrm rot="20074200">
                <a:off x="9800280" y="2453400"/>
                <a:ext cx="29520" cy="9684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56"/>
              <p:cNvSpPr/>
              <p:nvPr/>
            </p:nvSpPr>
            <p:spPr>
              <a:xfrm rot="20074200">
                <a:off x="9809280" y="2349360"/>
                <a:ext cx="144360" cy="122040"/>
              </a:xfrm>
              <a:custGeom>
                <a:avLst/>
                <a:gdLst/>
                <a:ahLst/>
                <a:rect l="l" t="t" r="r" b="b"/>
                <a:pathLst>
                  <a:path w="97" h="82">
                    <a:moveTo>
                      <a:pt x="0" y="35"/>
                    </a:moveTo>
                    <a:lnTo>
                      <a:pt x="74" y="82"/>
                    </a:lnTo>
                    <a:lnTo>
                      <a:pt x="97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57"/>
              <p:cNvSpPr/>
              <p:nvPr/>
            </p:nvSpPr>
            <p:spPr>
              <a:xfrm rot="20074200">
                <a:off x="9909000" y="2341080"/>
                <a:ext cx="29520" cy="982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66"/>
                    </a:moveTo>
                    <a:lnTo>
                      <a:pt x="0" y="6"/>
                    </a:lnTo>
                    <a:lnTo>
                      <a:pt x="20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58"/>
              <p:cNvSpPr/>
              <p:nvPr/>
            </p:nvSpPr>
            <p:spPr>
              <a:xfrm rot="20074200">
                <a:off x="8151480" y="2417040"/>
                <a:ext cx="2025000" cy="972000"/>
              </a:xfrm>
              <a:custGeom>
                <a:avLst/>
                <a:gdLst/>
                <a:ahLst/>
                <a:rect l="l" t="t" r="r" b="b"/>
                <a:pathLst>
                  <a:path w="1163" h="559">
                    <a:moveTo>
                      <a:pt x="130" y="542"/>
                    </a:moveTo>
                    <a:cubicBezTo>
                      <a:pt x="85" y="559"/>
                      <a:pt x="35" y="536"/>
                      <a:pt x="19" y="491"/>
                    </a:cubicBezTo>
                    <a:cubicBezTo>
                      <a:pt x="16" y="484"/>
                      <a:pt x="16" y="484"/>
                      <a:pt x="16" y="484"/>
                    </a:cubicBezTo>
                    <a:cubicBezTo>
                      <a:pt x="0" y="439"/>
                      <a:pt x="23" y="390"/>
                      <a:pt x="68" y="373"/>
                    </a:cubicBezTo>
                    <a:cubicBezTo>
                      <a:pt x="1032" y="16"/>
                      <a:pt x="1032" y="16"/>
                      <a:pt x="1032" y="16"/>
                    </a:cubicBezTo>
                    <a:cubicBezTo>
                      <a:pt x="1077" y="0"/>
                      <a:pt x="1127" y="23"/>
                      <a:pt x="1144" y="68"/>
                    </a:cubicBezTo>
                    <a:cubicBezTo>
                      <a:pt x="1146" y="74"/>
                      <a:pt x="1146" y="74"/>
                      <a:pt x="1146" y="74"/>
                    </a:cubicBezTo>
                    <a:cubicBezTo>
                      <a:pt x="1163" y="119"/>
                      <a:pt x="1140" y="169"/>
                      <a:pt x="1095" y="185"/>
                    </a:cubicBezTo>
                    <a:cubicBezTo>
                      <a:pt x="130" y="542"/>
                      <a:pt x="130" y="542"/>
                      <a:pt x="130" y="542"/>
                    </a:cubicBezTo>
                  </a:path>
                </a:pathLst>
              </a:custGeom>
              <a:solidFill>
                <a:srgbClr val="ff3c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59"/>
              <p:cNvSpPr/>
              <p:nvPr/>
            </p:nvSpPr>
            <p:spPr>
              <a:xfrm rot="20074200">
                <a:off x="8189640" y="2354040"/>
                <a:ext cx="1981800" cy="928800"/>
              </a:xfrm>
              <a:custGeom>
                <a:avLst/>
                <a:gdLst/>
                <a:ahLst/>
                <a:rect l="l" t="t" r="r" b="b"/>
                <a:pathLst>
                  <a:path w="1138" h="534">
                    <a:moveTo>
                      <a:pt x="15" y="469"/>
                    </a:moveTo>
                    <a:cubicBezTo>
                      <a:pt x="0" y="429"/>
                      <a:pt x="20" y="386"/>
                      <a:pt x="59" y="371"/>
                    </a:cubicBezTo>
                    <a:cubicBezTo>
                      <a:pt x="1024" y="15"/>
                      <a:pt x="1024" y="15"/>
                      <a:pt x="1024" y="15"/>
                    </a:cubicBezTo>
                    <a:cubicBezTo>
                      <a:pt x="1063" y="0"/>
                      <a:pt x="1107" y="20"/>
                      <a:pt x="1121" y="59"/>
                    </a:cubicBezTo>
                    <a:cubicBezTo>
                      <a:pt x="1124" y="66"/>
                      <a:pt x="1124" y="66"/>
                      <a:pt x="1124" y="66"/>
                    </a:cubicBezTo>
                    <a:cubicBezTo>
                      <a:pt x="1138" y="105"/>
                      <a:pt x="1118" y="149"/>
                      <a:pt x="1079" y="163"/>
                    </a:cubicBezTo>
                    <a:cubicBezTo>
                      <a:pt x="114" y="520"/>
                      <a:pt x="114" y="520"/>
                      <a:pt x="114" y="520"/>
                    </a:cubicBezTo>
                    <a:cubicBezTo>
                      <a:pt x="75" y="534"/>
                      <a:pt x="32" y="514"/>
                      <a:pt x="17" y="475"/>
                    </a:cubicBezTo>
                    <a:cubicBezTo>
                      <a:pt x="15" y="469"/>
                      <a:pt x="15" y="469"/>
                      <a:pt x="15" y="469"/>
                    </a:cubicBezTo>
                  </a:path>
                </a:pathLst>
              </a:custGeom>
              <a:solidFill>
                <a:srgbClr val="422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62"/>
              <p:cNvSpPr/>
              <p:nvPr/>
            </p:nvSpPr>
            <p:spPr>
              <a:xfrm rot="20074200">
                <a:off x="8409960" y="3512160"/>
                <a:ext cx="175680" cy="211680"/>
              </a:xfrm>
              <a:custGeom>
                <a:avLst/>
                <a:gdLst/>
                <a:ahLst/>
                <a:rect l="l" t="t" r="r" b="b"/>
                <a:pathLst>
                  <a:path w="101" h="122">
                    <a:moveTo>
                      <a:pt x="7" y="0"/>
                    </a:moveTo>
                    <a:cubicBezTo>
                      <a:pt x="0" y="19"/>
                      <a:pt x="0" y="39"/>
                      <a:pt x="7" y="59"/>
                    </a:cubicBezTo>
                    <a:cubicBezTo>
                      <a:pt x="10" y="66"/>
                      <a:pt x="10" y="66"/>
                      <a:pt x="10" y="66"/>
                    </a:cubicBezTo>
                    <a:cubicBezTo>
                      <a:pt x="23" y="101"/>
                      <a:pt x="56" y="122"/>
                      <a:pt x="91" y="122"/>
                    </a:cubicBezTo>
                    <a:cubicBezTo>
                      <a:pt x="94" y="122"/>
                      <a:pt x="97" y="122"/>
                      <a:pt x="101" y="122"/>
                    </a:cubicBezTo>
                    <a:cubicBezTo>
                      <a:pt x="93" y="111"/>
                      <a:pt x="93" y="111"/>
                      <a:pt x="93" y="111"/>
                    </a:cubicBezTo>
                    <a:cubicBezTo>
                      <a:pt x="92" y="111"/>
                      <a:pt x="92" y="111"/>
                      <a:pt x="91" y="111"/>
                    </a:cubicBezTo>
                    <a:cubicBezTo>
                      <a:pt x="60" y="111"/>
                      <a:pt x="31" y="92"/>
                      <a:pt x="20" y="62"/>
                    </a:cubicBezTo>
                    <a:cubicBezTo>
                      <a:pt x="18" y="56"/>
                      <a:pt x="18" y="56"/>
                      <a:pt x="18" y="56"/>
                    </a:cubicBezTo>
                    <a:cubicBezTo>
                      <a:pt x="12" y="41"/>
                      <a:pt x="12" y="25"/>
                      <a:pt x="15" y="11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cc30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63"/>
              <p:cNvSpPr/>
              <p:nvPr/>
            </p:nvSpPr>
            <p:spPr>
              <a:xfrm rot="20074200">
                <a:off x="8430120" y="3528720"/>
                <a:ext cx="140040" cy="174240"/>
              </a:xfrm>
              <a:custGeom>
                <a:avLst/>
                <a:gdLst/>
                <a:ahLst/>
                <a:rect l="l" t="t" r="r" b="b"/>
                <a:pathLst>
                  <a:path w="81" h="100">
                    <a:moveTo>
                      <a:pt x="3" y="0"/>
                    </a:moveTo>
                    <a:cubicBezTo>
                      <a:pt x="0" y="14"/>
                      <a:pt x="0" y="30"/>
                      <a:pt x="6" y="45"/>
                    </a:cubicBezTo>
                    <a:cubicBezTo>
                      <a:pt x="8" y="51"/>
                      <a:pt x="8" y="51"/>
                      <a:pt x="8" y="51"/>
                    </a:cubicBezTo>
                    <a:cubicBezTo>
                      <a:pt x="19" y="81"/>
                      <a:pt x="48" y="100"/>
                      <a:pt x="79" y="100"/>
                    </a:cubicBezTo>
                    <a:cubicBezTo>
                      <a:pt x="80" y="100"/>
                      <a:pt x="80" y="100"/>
                      <a:pt x="81" y="10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351a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Oval 69"/>
              <p:cNvSpPr/>
              <p:nvPr/>
            </p:nvSpPr>
            <p:spPr>
              <a:xfrm rot="20074200">
                <a:off x="8440920" y="3431160"/>
                <a:ext cx="211680" cy="211680"/>
              </a:xfrm>
              <a:prstGeom prst="ellipse">
                <a:avLst/>
              </a:prstGeom>
              <a:solidFill>
                <a:srgbClr val="4221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Oval 70"/>
              <p:cNvSpPr/>
              <p:nvPr/>
            </p:nvSpPr>
            <p:spPr>
              <a:xfrm rot="20074200">
                <a:off x="8449200" y="3438360"/>
                <a:ext cx="193680" cy="193680"/>
              </a:xfrm>
              <a:prstGeom prst="ellipse">
                <a:avLst/>
              </a:prstGeom>
              <a:solidFill>
                <a:srgbClr val="dd3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Oval 71"/>
              <p:cNvSpPr/>
              <p:nvPr/>
            </p:nvSpPr>
            <p:spPr>
              <a:xfrm rot="20074200">
                <a:off x="8455320" y="3446280"/>
                <a:ext cx="180360" cy="178560"/>
              </a:xfrm>
              <a:prstGeom prst="ellipse">
                <a:avLst/>
              </a:prstGeom>
              <a:solidFill>
                <a:srgbClr val="2612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72"/>
              <p:cNvSpPr/>
              <p:nvPr/>
            </p:nvSpPr>
            <p:spPr>
              <a:xfrm rot="20074200">
                <a:off x="8459280" y="3483000"/>
                <a:ext cx="77400" cy="75960"/>
              </a:xfrm>
              <a:custGeom>
                <a:avLst/>
                <a:gdLst/>
                <a:ahLst/>
                <a:rect l="l" t="t" r="r" b="b"/>
                <a:pathLst>
                  <a:path w="45" h="44">
                    <a:moveTo>
                      <a:pt x="40" y="0"/>
                    </a:moveTo>
                    <a:cubicBezTo>
                      <a:pt x="45" y="43"/>
                      <a:pt x="45" y="43"/>
                      <a:pt x="45" y="43"/>
                    </a:cubicBezTo>
                    <a:cubicBezTo>
                      <a:pt x="3" y="44"/>
                      <a:pt x="3" y="44"/>
                      <a:pt x="3" y="44"/>
                    </a:cubicBezTo>
                    <a:cubicBezTo>
                      <a:pt x="3" y="44"/>
                      <a:pt x="0" y="11"/>
                      <a:pt x="40" y="0"/>
                    </a:cubicBezTo>
                    <a:close/>
                  </a:path>
                </a:pathLst>
              </a:custGeom>
              <a:solidFill>
                <a:srgbClr val="70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2" name="矩形 208"/>
            <p:cNvSpPr/>
            <p:nvPr/>
          </p:nvSpPr>
          <p:spPr>
            <a:xfrm rot="18892800">
              <a:off x="6909480" y="3963240"/>
              <a:ext cx="2010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3" name="组合 252"/>
          <p:cNvGrpSpPr/>
          <p:nvPr/>
        </p:nvGrpSpPr>
        <p:grpSpPr>
          <a:xfrm>
            <a:off x="7724880" y="2489040"/>
            <a:ext cx="969840" cy="1251000"/>
            <a:chOff x="7724880" y="2489040"/>
            <a:chExt cx="969840" cy="1251000"/>
          </a:xfrm>
        </p:grpSpPr>
        <p:sp>
          <p:nvSpPr>
            <p:cNvPr id="804" name="Freeform 34"/>
            <p:cNvSpPr/>
            <p:nvPr/>
          </p:nvSpPr>
          <p:spPr>
            <a:xfrm>
              <a:off x="8548920" y="3619440"/>
              <a:ext cx="145800" cy="120600"/>
            </a:xfrm>
            <a:custGeom>
              <a:avLst/>
              <a:gdLst/>
              <a:ahLst/>
              <a:rect l="l" t="t" r="r" b="b"/>
              <a:pathLst>
                <a:path w="98" h="81">
                  <a:moveTo>
                    <a:pt x="0" y="35"/>
                  </a:moveTo>
                  <a:lnTo>
                    <a:pt x="75" y="81"/>
                  </a:lnTo>
                  <a:lnTo>
                    <a:pt x="98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3c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60"/>
            <p:cNvSpPr/>
            <p:nvPr/>
          </p:nvSpPr>
          <p:spPr>
            <a:xfrm>
              <a:off x="8030160" y="2489040"/>
              <a:ext cx="627120" cy="912600"/>
            </a:xfrm>
            <a:custGeom>
              <a:avLst/>
              <a:gdLst/>
              <a:ahLst/>
              <a:rect l="l" t="t" r="r" b="b"/>
              <a:pathLst>
                <a:path w="360" h="524">
                  <a:moveTo>
                    <a:pt x="0" y="43"/>
                  </a:moveTo>
                  <a:cubicBezTo>
                    <a:pt x="129" y="0"/>
                    <a:pt x="129" y="0"/>
                    <a:pt x="129" y="0"/>
                  </a:cubicBezTo>
                  <a:cubicBezTo>
                    <a:pt x="129" y="0"/>
                    <a:pt x="331" y="206"/>
                    <a:pt x="360" y="345"/>
                  </a:cubicBezTo>
                  <a:cubicBezTo>
                    <a:pt x="360" y="345"/>
                    <a:pt x="258" y="339"/>
                    <a:pt x="281" y="401"/>
                  </a:cubicBezTo>
                  <a:cubicBezTo>
                    <a:pt x="305" y="462"/>
                    <a:pt x="332" y="513"/>
                    <a:pt x="307" y="519"/>
                  </a:cubicBezTo>
                  <a:cubicBezTo>
                    <a:pt x="283" y="524"/>
                    <a:pt x="0" y="43"/>
                    <a:pt x="0" y="43"/>
                  </a:cubicBezTo>
                  <a:close/>
                </a:path>
              </a:pathLst>
            </a:custGeom>
            <a:solidFill>
              <a:srgbClr val="ff3c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61"/>
            <p:cNvSpPr/>
            <p:nvPr/>
          </p:nvSpPr>
          <p:spPr>
            <a:xfrm>
              <a:off x="7724880" y="2763360"/>
              <a:ext cx="780840" cy="934920"/>
            </a:xfrm>
            <a:custGeom>
              <a:avLst/>
              <a:gdLst/>
              <a:ahLst/>
              <a:rect l="l" t="t" r="r" b="b"/>
              <a:pathLst>
                <a:path w="449" h="537">
                  <a:moveTo>
                    <a:pt x="39" y="0"/>
                  </a:moveTo>
                  <a:cubicBezTo>
                    <a:pt x="39" y="0"/>
                    <a:pt x="0" y="29"/>
                    <a:pt x="82" y="147"/>
                  </a:cubicBezTo>
                  <a:cubicBezTo>
                    <a:pt x="165" y="264"/>
                    <a:pt x="366" y="510"/>
                    <a:pt x="366" y="510"/>
                  </a:cubicBezTo>
                  <a:cubicBezTo>
                    <a:pt x="366" y="510"/>
                    <a:pt x="397" y="537"/>
                    <a:pt x="428" y="537"/>
                  </a:cubicBezTo>
                  <a:cubicBezTo>
                    <a:pt x="435" y="537"/>
                    <a:pt x="442" y="535"/>
                    <a:pt x="449" y="532"/>
                  </a:cubicBezTo>
                  <a:cubicBezTo>
                    <a:pt x="448" y="530"/>
                    <a:pt x="448" y="530"/>
                    <a:pt x="448" y="530"/>
                  </a:cubicBezTo>
                  <a:cubicBezTo>
                    <a:pt x="444" y="530"/>
                    <a:pt x="441" y="530"/>
                    <a:pt x="438" y="530"/>
                  </a:cubicBezTo>
                  <a:cubicBezTo>
                    <a:pt x="403" y="530"/>
                    <a:pt x="370" y="509"/>
                    <a:pt x="357" y="474"/>
                  </a:cubicBezTo>
                  <a:cubicBezTo>
                    <a:pt x="354" y="467"/>
                    <a:pt x="354" y="467"/>
                    <a:pt x="354" y="467"/>
                  </a:cubicBezTo>
                  <a:cubicBezTo>
                    <a:pt x="347" y="447"/>
                    <a:pt x="347" y="427"/>
                    <a:pt x="354" y="408"/>
                  </a:cubicBezTo>
                  <a:cubicBezTo>
                    <a:pt x="39" y="0"/>
                    <a:pt x="39" y="0"/>
                    <a:pt x="39" y="0"/>
                  </a:cubicBezTo>
                </a:path>
              </a:pathLst>
            </a:custGeom>
            <a:solidFill>
              <a:srgbClr val="b1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62"/>
            <p:cNvSpPr/>
            <p:nvPr/>
          </p:nvSpPr>
          <p:spPr>
            <a:xfrm>
              <a:off x="8328240" y="3474720"/>
              <a:ext cx="175680" cy="21168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7" y="0"/>
                  </a:moveTo>
                  <a:cubicBezTo>
                    <a:pt x="0" y="19"/>
                    <a:pt x="0" y="39"/>
                    <a:pt x="7" y="59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23" y="101"/>
                    <a:pt x="56" y="122"/>
                    <a:pt x="91" y="122"/>
                  </a:cubicBezTo>
                  <a:cubicBezTo>
                    <a:pt x="94" y="122"/>
                    <a:pt x="97" y="122"/>
                    <a:pt x="101" y="122"/>
                  </a:cubicBezTo>
                  <a:cubicBezTo>
                    <a:pt x="93" y="111"/>
                    <a:pt x="93" y="111"/>
                    <a:pt x="93" y="111"/>
                  </a:cubicBezTo>
                  <a:cubicBezTo>
                    <a:pt x="92" y="111"/>
                    <a:pt x="92" y="111"/>
                    <a:pt x="91" y="111"/>
                  </a:cubicBezTo>
                  <a:cubicBezTo>
                    <a:pt x="60" y="111"/>
                    <a:pt x="31" y="92"/>
                    <a:pt x="20" y="62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2" y="41"/>
                    <a:pt x="12" y="25"/>
                    <a:pt x="15" y="11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cc3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63"/>
            <p:cNvSpPr/>
            <p:nvPr/>
          </p:nvSpPr>
          <p:spPr>
            <a:xfrm>
              <a:off x="8349120" y="3492720"/>
              <a:ext cx="140040" cy="174240"/>
            </a:xfrm>
            <a:custGeom>
              <a:avLst/>
              <a:gdLst/>
              <a:ahLst/>
              <a:rect l="l" t="t" r="r" b="b"/>
              <a:pathLst>
                <a:path w="81" h="100">
                  <a:moveTo>
                    <a:pt x="3" y="0"/>
                  </a:moveTo>
                  <a:cubicBezTo>
                    <a:pt x="0" y="14"/>
                    <a:pt x="0" y="30"/>
                    <a:pt x="6" y="45"/>
                  </a:cubicBezTo>
                  <a:cubicBezTo>
                    <a:pt x="8" y="51"/>
                    <a:pt x="8" y="51"/>
                    <a:pt x="8" y="51"/>
                  </a:cubicBezTo>
                  <a:cubicBezTo>
                    <a:pt x="19" y="81"/>
                    <a:pt x="48" y="100"/>
                    <a:pt x="79" y="100"/>
                  </a:cubicBezTo>
                  <a:cubicBezTo>
                    <a:pt x="80" y="100"/>
                    <a:pt x="80" y="100"/>
                    <a:pt x="81" y="10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351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4"/>
            <p:cNvSpPr/>
            <p:nvPr/>
          </p:nvSpPr>
          <p:spPr>
            <a:xfrm>
              <a:off x="7747200" y="2500920"/>
              <a:ext cx="920880" cy="1202040"/>
            </a:xfrm>
            <a:custGeom>
              <a:avLst/>
              <a:gdLst/>
              <a:ahLst/>
              <a:rect l="l" t="t" r="r" b="b"/>
              <a:pathLst>
                <a:path w="529" h="690">
                  <a:moveTo>
                    <a:pt x="502" y="540"/>
                  </a:moveTo>
                  <a:cubicBezTo>
                    <a:pt x="529" y="579"/>
                    <a:pt x="518" y="633"/>
                    <a:pt x="478" y="660"/>
                  </a:cubicBezTo>
                  <a:cubicBezTo>
                    <a:pt x="472" y="664"/>
                    <a:pt x="472" y="664"/>
                    <a:pt x="472" y="664"/>
                  </a:cubicBezTo>
                  <a:cubicBezTo>
                    <a:pt x="433" y="690"/>
                    <a:pt x="379" y="679"/>
                    <a:pt x="352" y="640"/>
                  </a:cubicBezTo>
                  <a:cubicBezTo>
                    <a:pt x="26" y="151"/>
                    <a:pt x="26" y="151"/>
                    <a:pt x="26" y="151"/>
                  </a:cubicBezTo>
                  <a:cubicBezTo>
                    <a:pt x="0" y="111"/>
                    <a:pt x="10" y="57"/>
                    <a:pt x="50" y="31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96" y="0"/>
                    <a:pt x="149" y="11"/>
                    <a:pt x="176" y="51"/>
                  </a:cubicBezTo>
                  <a:lnTo>
                    <a:pt x="502" y="540"/>
                  </a:lnTo>
                  <a:close/>
                </a:path>
              </a:pathLst>
            </a:custGeom>
            <a:solidFill>
              <a:srgbClr val="ff3c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65"/>
            <p:cNvSpPr/>
            <p:nvPr/>
          </p:nvSpPr>
          <p:spPr>
            <a:xfrm>
              <a:off x="7768080" y="2533680"/>
              <a:ext cx="876240" cy="1137960"/>
            </a:xfrm>
            <a:custGeom>
              <a:avLst/>
              <a:gdLst/>
              <a:ahLst/>
              <a:rect l="l" t="t" r="r" b="b"/>
              <a:pathLst>
                <a:path w="504" h="653">
                  <a:moveTo>
                    <a:pt x="369" y="635"/>
                  </a:moveTo>
                  <a:cubicBezTo>
                    <a:pt x="361" y="629"/>
                    <a:pt x="355" y="622"/>
                    <a:pt x="350" y="614"/>
                  </a:cubicBezTo>
                  <a:cubicBezTo>
                    <a:pt x="23" y="126"/>
                    <a:pt x="23" y="126"/>
                    <a:pt x="23" y="126"/>
                  </a:cubicBezTo>
                  <a:cubicBezTo>
                    <a:pt x="0" y="91"/>
                    <a:pt x="10" y="44"/>
                    <a:pt x="44" y="21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76" y="0"/>
                    <a:pt x="109" y="0"/>
                    <a:pt x="135" y="18"/>
                  </a:cubicBezTo>
                  <a:cubicBezTo>
                    <a:pt x="143" y="23"/>
                    <a:pt x="149" y="30"/>
                    <a:pt x="155" y="38"/>
                  </a:cubicBezTo>
                  <a:cubicBezTo>
                    <a:pt x="481" y="527"/>
                    <a:pt x="481" y="527"/>
                    <a:pt x="481" y="527"/>
                  </a:cubicBezTo>
                  <a:cubicBezTo>
                    <a:pt x="504" y="561"/>
                    <a:pt x="495" y="608"/>
                    <a:pt x="460" y="631"/>
                  </a:cubicBezTo>
                  <a:cubicBezTo>
                    <a:pt x="454" y="635"/>
                    <a:pt x="454" y="635"/>
                    <a:pt x="454" y="635"/>
                  </a:cubicBezTo>
                  <a:cubicBezTo>
                    <a:pt x="428" y="653"/>
                    <a:pt x="395" y="652"/>
                    <a:pt x="369" y="635"/>
                  </a:cubicBezTo>
                  <a:close/>
                </a:path>
              </a:pathLst>
            </a:custGeom>
            <a:solidFill>
              <a:srgbClr val="422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66"/>
            <p:cNvSpPr/>
            <p:nvPr/>
          </p:nvSpPr>
          <p:spPr>
            <a:xfrm>
              <a:off x="8134560" y="2521800"/>
              <a:ext cx="399240" cy="556200"/>
            </a:xfrm>
            <a:custGeom>
              <a:avLst/>
              <a:gdLst/>
              <a:ahLst/>
              <a:rect l="l" t="t" r="r" b="b"/>
              <a:pathLst>
                <a:path w="229" h="319">
                  <a:moveTo>
                    <a:pt x="3" y="11"/>
                  </a:moveTo>
                  <a:cubicBezTo>
                    <a:pt x="3" y="11"/>
                    <a:pt x="144" y="169"/>
                    <a:pt x="208" y="319"/>
                  </a:cubicBezTo>
                  <a:cubicBezTo>
                    <a:pt x="208" y="319"/>
                    <a:pt x="229" y="278"/>
                    <a:pt x="208" y="264"/>
                  </a:cubicBezTo>
                  <a:cubicBezTo>
                    <a:pt x="187" y="250"/>
                    <a:pt x="178" y="246"/>
                    <a:pt x="191" y="221"/>
                  </a:cubicBezTo>
                  <a:cubicBezTo>
                    <a:pt x="204" y="196"/>
                    <a:pt x="168" y="181"/>
                    <a:pt x="148" y="178"/>
                  </a:cubicBezTo>
                  <a:cubicBezTo>
                    <a:pt x="127" y="174"/>
                    <a:pt x="164" y="147"/>
                    <a:pt x="134" y="125"/>
                  </a:cubicBezTo>
                  <a:cubicBezTo>
                    <a:pt x="105" y="103"/>
                    <a:pt x="89" y="127"/>
                    <a:pt x="95" y="103"/>
                  </a:cubicBezTo>
                  <a:cubicBezTo>
                    <a:pt x="101" y="79"/>
                    <a:pt x="94" y="39"/>
                    <a:pt x="76" y="45"/>
                  </a:cubicBezTo>
                  <a:cubicBezTo>
                    <a:pt x="57" y="52"/>
                    <a:pt x="67" y="35"/>
                    <a:pt x="57" y="21"/>
                  </a:cubicBezTo>
                  <a:cubicBezTo>
                    <a:pt x="47" y="8"/>
                    <a:pt x="23" y="27"/>
                    <a:pt x="22" y="18"/>
                  </a:cubicBezTo>
                  <a:cubicBezTo>
                    <a:pt x="20" y="9"/>
                    <a:pt x="0" y="0"/>
                    <a:pt x="3" y="11"/>
                  </a:cubicBezTo>
                  <a:close/>
                </a:path>
              </a:pathLst>
            </a:custGeom>
            <a:solidFill>
              <a:srgbClr val="d32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67"/>
            <p:cNvSpPr/>
            <p:nvPr/>
          </p:nvSpPr>
          <p:spPr>
            <a:xfrm>
              <a:off x="8228520" y="2489040"/>
              <a:ext cx="429120" cy="600840"/>
            </a:xfrm>
            <a:custGeom>
              <a:avLst/>
              <a:gdLst/>
              <a:ahLst/>
              <a:rect l="l" t="t" r="r" b="b"/>
              <a:pathLst>
                <a:path w="246" h="345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180" y="187"/>
                    <a:pt x="246" y="345"/>
                  </a:cubicBezTo>
                  <a:cubicBezTo>
                    <a:pt x="217" y="206"/>
                    <a:pt x="15" y="0"/>
                    <a:pt x="15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68"/>
            <p:cNvSpPr/>
            <p:nvPr/>
          </p:nvSpPr>
          <p:spPr>
            <a:xfrm>
              <a:off x="8140320" y="2541240"/>
              <a:ext cx="356040" cy="536760"/>
            </a:xfrm>
            <a:custGeom>
              <a:avLst/>
              <a:gdLst/>
              <a:ahLst/>
              <a:rect l="l" t="t" r="r" b="b"/>
              <a:pathLst>
                <a:path w="205" h="308">
                  <a:moveTo>
                    <a:pt x="0" y="0"/>
                  </a:moveTo>
                  <a:cubicBezTo>
                    <a:pt x="0" y="0"/>
                    <a:pt x="131" y="142"/>
                    <a:pt x="205" y="308"/>
                  </a:cubicBezTo>
                  <a:cubicBezTo>
                    <a:pt x="205" y="308"/>
                    <a:pt x="151" y="201"/>
                    <a:pt x="0" y="0"/>
                  </a:cubicBezTo>
                  <a:close/>
                </a:path>
              </a:pathLst>
            </a:custGeom>
            <a:solidFill>
              <a:srgbClr val="9b1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Oval 69"/>
            <p:cNvSpPr/>
            <p:nvPr/>
          </p:nvSpPr>
          <p:spPr>
            <a:xfrm>
              <a:off x="8389440" y="3422520"/>
              <a:ext cx="211320" cy="211680"/>
            </a:xfrm>
            <a:prstGeom prst="ellipse">
              <a:avLst/>
            </a:prstGeom>
            <a:solidFill>
              <a:srgbClr val="422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Oval 70"/>
            <p:cNvSpPr/>
            <p:nvPr/>
          </p:nvSpPr>
          <p:spPr>
            <a:xfrm>
              <a:off x="8398440" y="3430080"/>
              <a:ext cx="193680" cy="193680"/>
            </a:xfrm>
            <a:prstGeom prst="ellipse">
              <a:avLst/>
            </a:prstGeom>
            <a:solidFill>
              <a:srgbClr val="dd3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Oval 71"/>
            <p:cNvSpPr/>
            <p:nvPr/>
          </p:nvSpPr>
          <p:spPr>
            <a:xfrm>
              <a:off x="8404200" y="3437280"/>
              <a:ext cx="180000" cy="178920"/>
            </a:xfrm>
            <a:prstGeom prst="ellipse">
              <a:avLst/>
            </a:prstGeom>
            <a:solidFill>
              <a:srgbClr val="2612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72"/>
            <p:cNvSpPr/>
            <p:nvPr/>
          </p:nvSpPr>
          <p:spPr>
            <a:xfrm>
              <a:off x="8419320" y="3455280"/>
              <a:ext cx="77400" cy="7596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40" y="0"/>
                  </a:moveTo>
                  <a:cubicBezTo>
                    <a:pt x="45" y="43"/>
                    <a:pt x="45" y="43"/>
                    <a:pt x="45" y="43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4"/>
                    <a:pt x="0" y="11"/>
                    <a:pt x="40" y="0"/>
                  </a:cubicBezTo>
                  <a:close/>
                </a:path>
              </a:pathLst>
            </a:custGeom>
            <a:solidFill>
              <a:srgbClr val="704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99"/>
            <p:cNvSpPr/>
            <p:nvPr/>
          </p:nvSpPr>
          <p:spPr>
            <a:xfrm>
              <a:off x="8046720" y="2578320"/>
              <a:ext cx="503640" cy="726120"/>
            </a:xfrm>
            <a:custGeom>
              <a:avLst/>
              <a:gdLst/>
              <a:ahLst/>
              <a:rect l="l" t="t" r="r" b="b"/>
              <a:pathLst>
                <a:path w="338" h="487">
                  <a:moveTo>
                    <a:pt x="338" y="487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338" y="487"/>
                  </a:lnTo>
                  <a:close/>
                </a:path>
              </a:pathLst>
            </a:custGeom>
            <a:solidFill>
              <a:srgbClr val="d32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组合 256"/>
          <p:cNvGrpSpPr/>
          <p:nvPr/>
        </p:nvGrpSpPr>
        <p:grpSpPr>
          <a:xfrm>
            <a:off x="9574200" y="3867120"/>
            <a:ext cx="2189160" cy="2362320"/>
            <a:chOff x="9574200" y="3867120"/>
            <a:chExt cx="2189160" cy="2362320"/>
          </a:xfrm>
        </p:grpSpPr>
        <p:sp>
          <p:nvSpPr>
            <p:cNvPr id="820" name="Freeform 9"/>
            <p:cNvSpPr/>
            <p:nvPr/>
          </p:nvSpPr>
          <p:spPr>
            <a:xfrm>
              <a:off x="10953720" y="5792760"/>
              <a:ext cx="250560" cy="227880"/>
            </a:xfrm>
            <a:custGeom>
              <a:avLst/>
              <a:gdLst/>
              <a:ahLst/>
              <a:rect l="l" t="t" r="r" b="b"/>
              <a:pathLst>
                <a:path w="144" h="131">
                  <a:moveTo>
                    <a:pt x="138" y="0"/>
                  </a:moveTo>
                  <a:cubicBezTo>
                    <a:pt x="138" y="0"/>
                    <a:pt x="144" y="125"/>
                    <a:pt x="20" y="131"/>
                  </a:cubicBezTo>
                  <a:cubicBezTo>
                    <a:pt x="20" y="131"/>
                    <a:pt x="0" y="2"/>
                    <a:pt x="138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0"/>
            <p:cNvSpPr/>
            <p:nvPr/>
          </p:nvSpPr>
          <p:spPr>
            <a:xfrm>
              <a:off x="10953720" y="5583600"/>
              <a:ext cx="809640" cy="457560"/>
            </a:xfrm>
            <a:custGeom>
              <a:avLst/>
              <a:gdLst/>
              <a:ahLst/>
              <a:rect l="l" t="t" r="r" b="b"/>
              <a:pathLst>
                <a:path w="465" h="263">
                  <a:moveTo>
                    <a:pt x="60" y="125"/>
                  </a:moveTo>
                  <a:cubicBezTo>
                    <a:pt x="60" y="125"/>
                    <a:pt x="157" y="165"/>
                    <a:pt x="201" y="153"/>
                  </a:cubicBezTo>
                  <a:cubicBezTo>
                    <a:pt x="201" y="153"/>
                    <a:pt x="198" y="102"/>
                    <a:pt x="247" y="93"/>
                  </a:cubicBezTo>
                  <a:cubicBezTo>
                    <a:pt x="295" y="83"/>
                    <a:pt x="256" y="27"/>
                    <a:pt x="256" y="27"/>
                  </a:cubicBezTo>
                  <a:cubicBezTo>
                    <a:pt x="256" y="27"/>
                    <a:pt x="272" y="0"/>
                    <a:pt x="287" y="15"/>
                  </a:cubicBezTo>
                  <a:cubicBezTo>
                    <a:pt x="302" y="30"/>
                    <a:pt x="312" y="58"/>
                    <a:pt x="308" y="76"/>
                  </a:cubicBezTo>
                  <a:cubicBezTo>
                    <a:pt x="308" y="76"/>
                    <a:pt x="350" y="78"/>
                    <a:pt x="362" y="52"/>
                  </a:cubicBezTo>
                  <a:cubicBezTo>
                    <a:pt x="374" y="27"/>
                    <a:pt x="394" y="13"/>
                    <a:pt x="413" y="34"/>
                  </a:cubicBezTo>
                  <a:cubicBezTo>
                    <a:pt x="432" y="54"/>
                    <a:pt x="385" y="86"/>
                    <a:pt x="353" y="98"/>
                  </a:cubicBezTo>
                  <a:cubicBezTo>
                    <a:pt x="353" y="98"/>
                    <a:pt x="337" y="118"/>
                    <a:pt x="369" y="107"/>
                  </a:cubicBezTo>
                  <a:cubicBezTo>
                    <a:pt x="401" y="97"/>
                    <a:pt x="420" y="77"/>
                    <a:pt x="436" y="83"/>
                  </a:cubicBezTo>
                  <a:cubicBezTo>
                    <a:pt x="452" y="89"/>
                    <a:pt x="465" y="120"/>
                    <a:pt x="443" y="125"/>
                  </a:cubicBezTo>
                  <a:cubicBezTo>
                    <a:pt x="420" y="129"/>
                    <a:pt x="369" y="127"/>
                    <a:pt x="357" y="141"/>
                  </a:cubicBezTo>
                  <a:cubicBezTo>
                    <a:pt x="345" y="154"/>
                    <a:pt x="357" y="155"/>
                    <a:pt x="357" y="155"/>
                  </a:cubicBezTo>
                  <a:cubicBezTo>
                    <a:pt x="357" y="155"/>
                    <a:pt x="436" y="154"/>
                    <a:pt x="436" y="164"/>
                  </a:cubicBezTo>
                  <a:cubicBezTo>
                    <a:pt x="436" y="173"/>
                    <a:pt x="440" y="185"/>
                    <a:pt x="425" y="187"/>
                  </a:cubicBezTo>
                  <a:cubicBezTo>
                    <a:pt x="410" y="188"/>
                    <a:pt x="355" y="172"/>
                    <a:pt x="354" y="176"/>
                  </a:cubicBezTo>
                  <a:cubicBezTo>
                    <a:pt x="353" y="180"/>
                    <a:pt x="388" y="208"/>
                    <a:pt x="396" y="221"/>
                  </a:cubicBezTo>
                  <a:cubicBezTo>
                    <a:pt x="404" y="233"/>
                    <a:pt x="386" y="258"/>
                    <a:pt x="359" y="231"/>
                  </a:cubicBezTo>
                  <a:cubicBezTo>
                    <a:pt x="332" y="204"/>
                    <a:pt x="323" y="196"/>
                    <a:pt x="323" y="196"/>
                  </a:cubicBezTo>
                  <a:cubicBezTo>
                    <a:pt x="323" y="196"/>
                    <a:pt x="267" y="263"/>
                    <a:pt x="206" y="214"/>
                  </a:cubicBezTo>
                  <a:cubicBezTo>
                    <a:pt x="206" y="214"/>
                    <a:pt x="55" y="251"/>
                    <a:pt x="0" y="214"/>
                  </a:cubicBezTo>
                  <a:cubicBezTo>
                    <a:pt x="0" y="214"/>
                    <a:pt x="9" y="149"/>
                    <a:pt x="60" y="125"/>
                  </a:cubicBez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1"/>
            <p:cNvSpPr/>
            <p:nvPr/>
          </p:nvSpPr>
          <p:spPr>
            <a:xfrm>
              <a:off x="10953720" y="5801400"/>
              <a:ext cx="178920" cy="17424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60" y="0"/>
                  </a:moveTo>
                  <a:cubicBezTo>
                    <a:pt x="9" y="24"/>
                    <a:pt x="0" y="89"/>
                    <a:pt x="0" y="89"/>
                  </a:cubicBezTo>
                  <a:cubicBezTo>
                    <a:pt x="7" y="94"/>
                    <a:pt x="16" y="98"/>
                    <a:pt x="26" y="100"/>
                  </a:cubicBezTo>
                  <a:cubicBezTo>
                    <a:pt x="44" y="38"/>
                    <a:pt x="102" y="15"/>
                    <a:pt x="103" y="15"/>
                  </a:cubicBezTo>
                  <a:cubicBezTo>
                    <a:pt x="78" y="7"/>
                    <a:pt x="60" y="0"/>
                    <a:pt x="6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4"/>
            <p:cNvSpPr/>
            <p:nvPr/>
          </p:nvSpPr>
          <p:spPr>
            <a:xfrm>
              <a:off x="9821520" y="5646240"/>
              <a:ext cx="286200" cy="146160"/>
            </a:xfrm>
            <a:custGeom>
              <a:avLst/>
              <a:gdLst/>
              <a:ahLst/>
              <a:rect l="l" t="t" r="r" b="b"/>
              <a:pathLst>
                <a:path w="192" h="98">
                  <a:moveTo>
                    <a:pt x="89" y="41"/>
                  </a:moveTo>
                  <a:lnTo>
                    <a:pt x="96" y="60"/>
                  </a:lnTo>
                  <a:lnTo>
                    <a:pt x="155" y="65"/>
                  </a:lnTo>
                  <a:lnTo>
                    <a:pt x="181" y="98"/>
                  </a:lnTo>
                  <a:lnTo>
                    <a:pt x="192" y="57"/>
                  </a:lnTo>
                  <a:lnTo>
                    <a:pt x="177" y="55"/>
                  </a:lnTo>
                  <a:lnTo>
                    <a:pt x="174" y="76"/>
                  </a:lnTo>
                  <a:lnTo>
                    <a:pt x="152" y="51"/>
                  </a:lnTo>
                  <a:lnTo>
                    <a:pt x="89" y="41"/>
                  </a:lnTo>
                  <a:close/>
                  <a:moveTo>
                    <a:pt x="0" y="0"/>
                  </a:moveTo>
                  <a:lnTo>
                    <a:pt x="19" y="98"/>
                  </a:lnTo>
                  <a:lnTo>
                    <a:pt x="69" y="57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25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5"/>
            <p:cNvSpPr/>
            <p:nvPr/>
          </p:nvSpPr>
          <p:spPr>
            <a:xfrm>
              <a:off x="9821520" y="5646240"/>
              <a:ext cx="286200" cy="146160"/>
            </a:xfrm>
            <a:custGeom>
              <a:avLst/>
              <a:gdLst/>
              <a:ahLst/>
              <a:rect l="l" t="t" r="r" b="b"/>
              <a:pathLst>
                <a:path w="192" h="98">
                  <a:moveTo>
                    <a:pt x="89" y="41"/>
                  </a:moveTo>
                  <a:lnTo>
                    <a:pt x="96" y="60"/>
                  </a:lnTo>
                  <a:lnTo>
                    <a:pt x="155" y="65"/>
                  </a:lnTo>
                  <a:lnTo>
                    <a:pt x="181" y="98"/>
                  </a:lnTo>
                  <a:lnTo>
                    <a:pt x="192" y="57"/>
                  </a:lnTo>
                  <a:lnTo>
                    <a:pt x="177" y="55"/>
                  </a:lnTo>
                  <a:lnTo>
                    <a:pt x="174" y="76"/>
                  </a:lnTo>
                  <a:lnTo>
                    <a:pt x="152" y="51"/>
                  </a:lnTo>
                  <a:lnTo>
                    <a:pt x="89" y="41"/>
                  </a:lnTo>
                  <a:moveTo>
                    <a:pt x="0" y="0"/>
                  </a:moveTo>
                  <a:lnTo>
                    <a:pt x="19" y="98"/>
                  </a:lnTo>
                  <a:lnTo>
                    <a:pt x="69" y="57"/>
                  </a:lnTo>
                  <a:lnTo>
                    <a:pt x="64" y="37"/>
                  </a:lnTo>
                  <a:lnTo>
                    <a:pt x="62" y="37"/>
                  </a:lnTo>
                  <a:lnTo>
                    <a:pt x="25" y="7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10131840" y="5357160"/>
              <a:ext cx="1061640" cy="663480"/>
            </a:xfrm>
            <a:custGeom>
              <a:avLst/>
              <a:gdLst/>
              <a:ahLst/>
              <a:rect l="l" t="t" r="r" b="b"/>
              <a:pathLst>
                <a:path w="610" h="381">
                  <a:moveTo>
                    <a:pt x="204" y="61"/>
                  </a:moveTo>
                  <a:cubicBezTo>
                    <a:pt x="204" y="61"/>
                    <a:pt x="505" y="216"/>
                    <a:pt x="610" y="250"/>
                  </a:cubicBezTo>
                  <a:cubicBezTo>
                    <a:pt x="610" y="250"/>
                    <a:pt x="482" y="247"/>
                    <a:pt x="492" y="381"/>
                  </a:cubicBezTo>
                  <a:cubicBezTo>
                    <a:pt x="492" y="381"/>
                    <a:pt x="185" y="207"/>
                    <a:pt x="92" y="191"/>
                  </a:cubicBezTo>
                  <a:cubicBezTo>
                    <a:pt x="0" y="174"/>
                    <a:pt x="83" y="0"/>
                    <a:pt x="20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8"/>
            <p:cNvSpPr/>
            <p:nvPr/>
          </p:nvSpPr>
          <p:spPr>
            <a:xfrm>
              <a:off x="10131840" y="5357160"/>
              <a:ext cx="866520" cy="663480"/>
            </a:xfrm>
            <a:custGeom>
              <a:avLst/>
              <a:gdLst/>
              <a:ahLst/>
              <a:rect l="l" t="t" r="r" b="b"/>
              <a:pathLst>
                <a:path w="498" h="381">
                  <a:moveTo>
                    <a:pt x="92" y="191"/>
                  </a:moveTo>
                  <a:cubicBezTo>
                    <a:pt x="0" y="174"/>
                    <a:pt x="83" y="0"/>
                    <a:pt x="204" y="61"/>
                  </a:cubicBezTo>
                  <a:cubicBezTo>
                    <a:pt x="204" y="61"/>
                    <a:pt x="209" y="64"/>
                    <a:pt x="219" y="68"/>
                  </a:cubicBezTo>
                  <a:cubicBezTo>
                    <a:pt x="198" y="92"/>
                    <a:pt x="137" y="166"/>
                    <a:pt x="186" y="171"/>
                  </a:cubicBezTo>
                  <a:cubicBezTo>
                    <a:pt x="244" y="177"/>
                    <a:pt x="360" y="245"/>
                    <a:pt x="498" y="323"/>
                  </a:cubicBezTo>
                  <a:cubicBezTo>
                    <a:pt x="493" y="339"/>
                    <a:pt x="490" y="358"/>
                    <a:pt x="492" y="381"/>
                  </a:cubicBezTo>
                  <a:cubicBezTo>
                    <a:pt x="492" y="381"/>
                    <a:pt x="185" y="207"/>
                    <a:pt x="92" y="191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19"/>
            <p:cNvSpPr/>
            <p:nvPr/>
          </p:nvSpPr>
          <p:spPr>
            <a:xfrm>
              <a:off x="9973800" y="5850720"/>
              <a:ext cx="809640" cy="378720"/>
            </a:xfrm>
            <a:custGeom>
              <a:avLst/>
              <a:gdLst/>
              <a:ahLst/>
              <a:rect l="l" t="t" r="r" b="b"/>
              <a:pathLst>
                <a:path w="465" h="218">
                  <a:moveTo>
                    <a:pt x="34" y="0"/>
                  </a:moveTo>
                  <a:cubicBezTo>
                    <a:pt x="22" y="5"/>
                    <a:pt x="10" y="10"/>
                    <a:pt x="0" y="15"/>
                  </a:cubicBezTo>
                  <a:cubicBezTo>
                    <a:pt x="152" y="167"/>
                    <a:pt x="328" y="218"/>
                    <a:pt x="328" y="218"/>
                  </a:cubicBezTo>
                  <a:cubicBezTo>
                    <a:pt x="465" y="169"/>
                    <a:pt x="465" y="169"/>
                    <a:pt x="465" y="169"/>
                  </a:cubicBezTo>
                  <a:cubicBezTo>
                    <a:pt x="443" y="157"/>
                    <a:pt x="443" y="157"/>
                    <a:pt x="443" y="157"/>
                  </a:cubicBezTo>
                  <a:cubicBezTo>
                    <a:pt x="34" y="0"/>
                    <a:pt x="34" y="0"/>
                    <a:pt x="34" y="0"/>
                  </a:cubicBez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20"/>
            <p:cNvSpPr/>
            <p:nvPr/>
          </p:nvSpPr>
          <p:spPr>
            <a:xfrm>
              <a:off x="9955800" y="5837400"/>
              <a:ext cx="77400" cy="385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28" y="0"/>
                  </a:moveTo>
                  <a:cubicBezTo>
                    <a:pt x="19" y="4"/>
                    <a:pt x="10" y="8"/>
                    <a:pt x="0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4" y="16"/>
                    <a:pt x="7" y="19"/>
                    <a:pt x="10" y="22"/>
                  </a:cubicBezTo>
                  <a:cubicBezTo>
                    <a:pt x="20" y="17"/>
                    <a:pt x="32" y="12"/>
                    <a:pt x="44" y="7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21"/>
            <p:cNvSpPr/>
            <p:nvPr/>
          </p:nvSpPr>
          <p:spPr>
            <a:xfrm>
              <a:off x="9914040" y="5694120"/>
              <a:ext cx="90720" cy="163800"/>
            </a:xfrm>
            <a:custGeom>
              <a:avLst/>
              <a:gdLst/>
              <a:ahLst/>
              <a:rect l="l" t="t" r="r" b="b"/>
              <a:pathLst>
                <a:path w="52" h="95">
                  <a:moveTo>
                    <a:pt x="6" y="22"/>
                  </a:moveTo>
                  <a:cubicBezTo>
                    <a:pt x="6" y="22"/>
                    <a:pt x="6" y="22"/>
                    <a:pt x="6" y="22"/>
                  </a:cubicBezTo>
                  <a:cubicBezTo>
                    <a:pt x="24" y="95"/>
                    <a:pt x="24" y="95"/>
                    <a:pt x="24" y="95"/>
                  </a:cubicBezTo>
                  <a:cubicBezTo>
                    <a:pt x="34" y="91"/>
                    <a:pt x="43" y="87"/>
                    <a:pt x="52" y="83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6" y="22"/>
                    <a:pt x="6" y="22"/>
                    <a:pt x="6" y="22"/>
                  </a:cubicBezTo>
                  <a:moveTo>
                    <a:pt x="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19" y="0"/>
                    <a:pt x="19" y="0"/>
                    <a:pt x="19" y="0"/>
                  </a:cubicBezTo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22"/>
            <p:cNvSpPr/>
            <p:nvPr/>
          </p:nvSpPr>
          <p:spPr>
            <a:xfrm>
              <a:off x="9916920" y="5701680"/>
              <a:ext cx="47520" cy="342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0"/>
                  </a:moveTo>
                  <a:lnTo>
                    <a:pt x="5" y="20"/>
                  </a:lnTo>
                  <a:lnTo>
                    <a:pt x="5" y="20"/>
                  </a:lnTo>
                  <a:lnTo>
                    <a:pt x="32" y="23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23"/>
            <p:cNvSpPr/>
            <p:nvPr/>
          </p:nvSpPr>
          <p:spPr>
            <a:xfrm>
              <a:off x="9916920" y="5701680"/>
              <a:ext cx="47520" cy="3420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0"/>
                  </a:moveTo>
                  <a:lnTo>
                    <a:pt x="5" y="20"/>
                  </a:lnTo>
                  <a:lnTo>
                    <a:pt x="5" y="20"/>
                  </a:lnTo>
                  <a:lnTo>
                    <a:pt x="32" y="23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24"/>
            <p:cNvSpPr/>
            <p:nvPr/>
          </p:nvSpPr>
          <p:spPr>
            <a:xfrm>
              <a:off x="9914040" y="5688000"/>
              <a:ext cx="884160" cy="523440"/>
            </a:xfrm>
            <a:custGeom>
              <a:avLst/>
              <a:gdLst/>
              <a:ahLst/>
              <a:rect l="l" t="t" r="r" b="b"/>
              <a:pathLst>
                <a:path w="508" h="301">
                  <a:moveTo>
                    <a:pt x="82" y="22"/>
                  </a:moveTo>
                  <a:cubicBezTo>
                    <a:pt x="63" y="76"/>
                    <a:pt x="63" y="76"/>
                    <a:pt x="63" y="76"/>
                  </a:cubicBezTo>
                  <a:cubicBezTo>
                    <a:pt x="63" y="76"/>
                    <a:pt x="302" y="193"/>
                    <a:pt x="439" y="150"/>
                  </a:cubicBezTo>
                  <a:cubicBezTo>
                    <a:pt x="508" y="242"/>
                    <a:pt x="508" y="242"/>
                    <a:pt x="508" y="242"/>
                  </a:cubicBezTo>
                  <a:cubicBezTo>
                    <a:pt x="366" y="301"/>
                    <a:pt x="366" y="301"/>
                    <a:pt x="366" y="301"/>
                  </a:cubicBezTo>
                  <a:cubicBezTo>
                    <a:pt x="366" y="301"/>
                    <a:pt x="175" y="245"/>
                    <a:pt x="35" y="93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2" y="22"/>
                  </a:lnTo>
                  <a:close/>
                </a:path>
              </a:pathLst>
            </a:custGeom>
            <a:solidFill>
              <a:srgbClr val="401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25"/>
            <p:cNvSpPr/>
            <p:nvPr/>
          </p:nvSpPr>
          <p:spPr>
            <a:xfrm>
              <a:off x="10306440" y="5971680"/>
              <a:ext cx="478440" cy="232560"/>
            </a:xfrm>
            <a:custGeom>
              <a:avLst/>
              <a:gdLst/>
              <a:ahLst/>
              <a:rect l="l" t="t" r="r" b="b"/>
              <a:pathLst>
                <a:path w="275" h="133">
                  <a:moveTo>
                    <a:pt x="214" y="0"/>
                  </a:moveTo>
                  <a:cubicBezTo>
                    <a:pt x="214" y="0"/>
                    <a:pt x="111" y="84"/>
                    <a:pt x="0" y="66"/>
                  </a:cubicBezTo>
                  <a:cubicBezTo>
                    <a:pt x="0" y="66"/>
                    <a:pt x="132" y="131"/>
                    <a:pt x="139" y="132"/>
                  </a:cubicBezTo>
                  <a:cubicBezTo>
                    <a:pt x="145" y="133"/>
                    <a:pt x="275" y="77"/>
                    <a:pt x="275" y="77"/>
                  </a:cubicBezTo>
                  <a:lnTo>
                    <a:pt x="214" y="0"/>
                  </a:lnTo>
                  <a:close/>
                </a:path>
              </a:pathLst>
            </a:custGeom>
            <a:solidFill>
              <a:srgbClr val="5121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27"/>
            <p:cNvSpPr/>
            <p:nvPr/>
          </p:nvSpPr>
          <p:spPr>
            <a:xfrm>
              <a:off x="11422080" y="5716440"/>
              <a:ext cx="95400" cy="13860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39" y="0"/>
                  </a:moveTo>
                  <a:cubicBezTo>
                    <a:pt x="39" y="0"/>
                    <a:pt x="35" y="46"/>
                    <a:pt x="6" y="60"/>
                  </a:cubicBezTo>
                  <a:cubicBezTo>
                    <a:pt x="6" y="60"/>
                    <a:pt x="0" y="80"/>
                    <a:pt x="18" y="72"/>
                  </a:cubicBezTo>
                  <a:cubicBezTo>
                    <a:pt x="37" y="65"/>
                    <a:pt x="55" y="19"/>
                    <a:pt x="39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87"/>
            <p:cNvSpPr/>
            <p:nvPr/>
          </p:nvSpPr>
          <p:spPr>
            <a:xfrm>
              <a:off x="9985680" y="4505400"/>
              <a:ext cx="204120" cy="150480"/>
            </a:xfrm>
            <a:custGeom>
              <a:avLst/>
              <a:gdLst/>
              <a:ahLst/>
              <a:rect l="l" t="t" r="r" b="b"/>
              <a:pathLst>
                <a:path w="117" h="86">
                  <a:moveTo>
                    <a:pt x="19" y="0"/>
                  </a:moveTo>
                  <a:cubicBezTo>
                    <a:pt x="14" y="0"/>
                    <a:pt x="9" y="2"/>
                    <a:pt x="6" y="7"/>
                  </a:cubicBezTo>
                  <a:cubicBezTo>
                    <a:pt x="0" y="15"/>
                    <a:pt x="2" y="25"/>
                    <a:pt x="10" y="30"/>
                  </a:cubicBezTo>
                  <a:cubicBezTo>
                    <a:pt x="89" y="83"/>
                    <a:pt x="89" y="83"/>
                    <a:pt x="89" y="83"/>
                  </a:cubicBezTo>
                  <a:cubicBezTo>
                    <a:pt x="92" y="85"/>
                    <a:pt x="95" y="86"/>
                    <a:pt x="99" y="86"/>
                  </a:cubicBezTo>
                  <a:cubicBezTo>
                    <a:pt x="104" y="86"/>
                    <a:pt x="109" y="84"/>
                    <a:pt x="112" y="79"/>
                  </a:cubicBezTo>
                  <a:cubicBezTo>
                    <a:pt x="117" y="71"/>
                    <a:pt x="115" y="61"/>
                    <a:pt x="108" y="56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26" y="1"/>
                    <a:pt x="22" y="0"/>
                    <a:pt x="19" y="0"/>
                  </a:cubicBezTo>
                </a:path>
              </a:pathLst>
            </a:custGeom>
            <a:solidFill>
              <a:srgbClr val="e77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88"/>
            <p:cNvSpPr/>
            <p:nvPr/>
          </p:nvSpPr>
          <p:spPr>
            <a:xfrm>
              <a:off x="9997560" y="4509720"/>
              <a:ext cx="204120" cy="15804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107" y="58"/>
                  </a:moveTo>
                  <a:cubicBezTo>
                    <a:pt x="114" y="63"/>
                    <a:pt x="117" y="73"/>
                    <a:pt x="111" y="81"/>
                  </a:cubicBezTo>
                  <a:cubicBezTo>
                    <a:pt x="106" y="89"/>
                    <a:pt x="96" y="91"/>
                    <a:pt x="88" y="86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2" y="27"/>
                    <a:pt x="0" y="17"/>
                    <a:pt x="5" y="9"/>
                  </a:cubicBezTo>
                  <a:cubicBezTo>
                    <a:pt x="10" y="2"/>
                    <a:pt x="20" y="0"/>
                    <a:pt x="28" y="5"/>
                  </a:cubicBezTo>
                  <a:lnTo>
                    <a:pt x="107" y="58"/>
                  </a:lnTo>
                  <a:close/>
                </a:path>
              </a:pathLst>
            </a:custGeom>
            <a:solidFill>
              <a:srgbClr val="4221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00"/>
            <p:cNvSpPr/>
            <p:nvPr/>
          </p:nvSpPr>
          <p:spPr>
            <a:xfrm>
              <a:off x="9602280" y="4594680"/>
              <a:ext cx="277200" cy="402480"/>
            </a:xfrm>
            <a:custGeom>
              <a:avLst/>
              <a:gdLst/>
              <a:ahLst/>
              <a:rect l="l" t="t" r="r" b="b"/>
              <a:pathLst>
                <a:path w="159" h="231">
                  <a:moveTo>
                    <a:pt x="159" y="0"/>
                  </a:moveTo>
                  <a:cubicBezTo>
                    <a:pt x="159" y="0"/>
                    <a:pt x="35" y="84"/>
                    <a:pt x="0" y="145"/>
                  </a:cubicBezTo>
                  <a:cubicBezTo>
                    <a:pt x="64" y="231"/>
                    <a:pt x="64" y="231"/>
                    <a:pt x="64" y="231"/>
                  </a:cubicBezTo>
                  <a:lnTo>
                    <a:pt x="159" y="0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1"/>
            <p:cNvSpPr/>
            <p:nvPr/>
          </p:nvSpPr>
          <p:spPr>
            <a:xfrm>
              <a:off x="9615960" y="4330800"/>
              <a:ext cx="1204920" cy="1474920"/>
            </a:xfrm>
            <a:custGeom>
              <a:avLst/>
              <a:gdLst/>
              <a:ahLst/>
              <a:rect l="l" t="t" r="r" b="b"/>
              <a:pathLst>
                <a:path w="693" h="848">
                  <a:moveTo>
                    <a:pt x="511" y="596"/>
                  </a:moveTo>
                  <a:cubicBezTo>
                    <a:pt x="457" y="747"/>
                    <a:pt x="386" y="848"/>
                    <a:pt x="192" y="786"/>
                  </a:cubicBezTo>
                  <a:cubicBezTo>
                    <a:pt x="2" y="727"/>
                    <a:pt x="0" y="597"/>
                    <a:pt x="43" y="435"/>
                  </a:cubicBezTo>
                  <a:cubicBezTo>
                    <a:pt x="51" y="404"/>
                    <a:pt x="61" y="372"/>
                    <a:pt x="71" y="339"/>
                  </a:cubicBezTo>
                  <a:cubicBezTo>
                    <a:pt x="168" y="32"/>
                    <a:pt x="295" y="0"/>
                    <a:pt x="426" y="41"/>
                  </a:cubicBezTo>
                  <a:cubicBezTo>
                    <a:pt x="537" y="76"/>
                    <a:pt x="619" y="140"/>
                    <a:pt x="581" y="352"/>
                  </a:cubicBezTo>
                  <a:cubicBezTo>
                    <a:pt x="581" y="352"/>
                    <a:pt x="664" y="330"/>
                    <a:pt x="679" y="424"/>
                  </a:cubicBezTo>
                  <a:cubicBezTo>
                    <a:pt x="693" y="518"/>
                    <a:pt x="582" y="583"/>
                    <a:pt x="516" y="581"/>
                  </a:cubicBezTo>
                  <a:lnTo>
                    <a:pt x="511" y="596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102"/>
            <p:cNvSpPr/>
            <p:nvPr/>
          </p:nvSpPr>
          <p:spPr>
            <a:xfrm>
              <a:off x="9642600" y="5304960"/>
              <a:ext cx="809640" cy="483120"/>
            </a:xfrm>
            <a:custGeom>
              <a:avLst/>
              <a:gdLst/>
              <a:ahLst/>
              <a:rect l="l" t="t" r="r" b="b"/>
              <a:pathLst>
                <a:path w="465" h="277">
                  <a:moveTo>
                    <a:pt x="182" y="199"/>
                  </a:moveTo>
                  <a:cubicBezTo>
                    <a:pt x="332" y="246"/>
                    <a:pt x="411" y="201"/>
                    <a:pt x="465" y="110"/>
                  </a:cubicBezTo>
                  <a:cubicBezTo>
                    <a:pt x="412" y="217"/>
                    <a:pt x="336" y="277"/>
                    <a:pt x="176" y="226"/>
                  </a:cubicBezTo>
                  <a:cubicBezTo>
                    <a:pt x="38" y="183"/>
                    <a:pt x="0" y="103"/>
                    <a:pt x="5" y="0"/>
                  </a:cubicBezTo>
                  <a:cubicBezTo>
                    <a:pt x="10" y="89"/>
                    <a:pt x="56" y="159"/>
                    <a:pt x="182" y="199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3"/>
            <p:cNvSpPr/>
            <p:nvPr/>
          </p:nvSpPr>
          <p:spPr>
            <a:xfrm>
              <a:off x="10525680" y="5166000"/>
              <a:ext cx="259200" cy="175680"/>
            </a:xfrm>
            <a:custGeom>
              <a:avLst/>
              <a:gdLst/>
              <a:ahLst/>
              <a:rect l="l" t="t" r="r" b="b"/>
              <a:pathLst>
                <a:path w="149" h="101">
                  <a:moveTo>
                    <a:pt x="7" y="82"/>
                  </a:moveTo>
                  <a:cubicBezTo>
                    <a:pt x="11" y="66"/>
                    <a:pt x="11" y="66"/>
                    <a:pt x="11" y="66"/>
                  </a:cubicBezTo>
                  <a:cubicBezTo>
                    <a:pt x="53" y="67"/>
                    <a:pt x="113" y="42"/>
                    <a:pt x="149" y="0"/>
                  </a:cubicBezTo>
                  <a:cubicBezTo>
                    <a:pt x="125" y="60"/>
                    <a:pt x="51" y="99"/>
                    <a:pt x="0" y="101"/>
                  </a:cubicBezTo>
                  <a:cubicBezTo>
                    <a:pt x="2" y="94"/>
                    <a:pt x="4" y="88"/>
                    <a:pt x="7" y="82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4"/>
            <p:cNvSpPr/>
            <p:nvPr/>
          </p:nvSpPr>
          <p:spPr>
            <a:xfrm>
              <a:off x="10449360" y="4830480"/>
              <a:ext cx="380160" cy="410040"/>
            </a:xfrm>
            <a:custGeom>
              <a:avLst/>
              <a:gdLst/>
              <a:ahLst/>
              <a:rect l="l" t="t" r="r" b="b"/>
              <a:pathLst>
                <a:path w="219" h="236">
                  <a:moveTo>
                    <a:pt x="0" y="222"/>
                  </a:moveTo>
                  <a:cubicBezTo>
                    <a:pt x="5" y="230"/>
                    <a:pt x="5" y="230"/>
                    <a:pt x="5" y="230"/>
                  </a:cubicBezTo>
                  <a:cubicBezTo>
                    <a:pt x="5" y="230"/>
                    <a:pt x="70" y="82"/>
                    <a:pt x="134" y="101"/>
                  </a:cubicBezTo>
                  <a:cubicBezTo>
                    <a:pt x="197" y="120"/>
                    <a:pt x="173" y="200"/>
                    <a:pt x="148" y="236"/>
                  </a:cubicBezTo>
                  <a:cubicBezTo>
                    <a:pt x="148" y="236"/>
                    <a:pt x="219" y="175"/>
                    <a:pt x="192" y="119"/>
                  </a:cubicBezTo>
                  <a:cubicBezTo>
                    <a:pt x="164" y="63"/>
                    <a:pt x="88" y="0"/>
                    <a:pt x="0" y="222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5"/>
            <p:cNvSpPr/>
            <p:nvPr/>
          </p:nvSpPr>
          <p:spPr>
            <a:xfrm>
              <a:off x="9711360" y="4377240"/>
              <a:ext cx="1051200" cy="1275120"/>
            </a:xfrm>
            <a:custGeom>
              <a:avLst/>
              <a:gdLst/>
              <a:ahLst/>
              <a:rect l="l" t="t" r="r" b="b"/>
              <a:pathLst>
                <a:path w="604" h="732">
                  <a:moveTo>
                    <a:pt x="162" y="98"/>
                  </a:moveTo>
                  <a:cubicBezTo>
                    <a:pt x="121" y="152"/>
                    <a:pt x="121" y="152"/>
                    <a:pt x="121" y="152"/>
                  </a:cubicBezTo>
                  <a:cubicBezTo>
                    <a:pt x="0" y="255"/>
                    <a:pt x="0" y="255"/>
                    <a:pt x="0" y="255"/>
                  </a:cubicBezTo>
                  <a:cubicBezTo>
                    <a:pt x="87" y="313"/>
                    <a:pt x="87" y="313"/>
                    <a:pt x="87" y="313"/>
                  </a:cubicBezTo>
                  <a:cubicBezTo>
                    <a:pt x="29" y="439"/>
                    <a:pt x="29" y="439"/>
                    <a:pt x="29" y="439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2" y="489"/>
                    <a:pt x="21" y="659"/>
                    <a:pt x="179" y="695"/>
                  </a:cubicBezTo>
                  <a:cubicBezTo>
                    <a:pt x="337" y="732"/>
                    <a:pt x="462" y="532"/>
                    <a:pt x="462" y="532"/>
                  </a:cubicBezTo>
                  <a:cubicBezTo>
                    <a:pt x="485" y="519"/>
                    <a:pt x="485" y="519"/>
                    <a:pt x="485" y="519"/>
                  </a:cubicBezTo>
                  <a:cubicBezTo>
                    <a:pt x="485" y="519"/>
                    <a:pt x="604" y="474"/>
                    <a:pt x="581" y="417"/>
                  </a:cubicBezTo>
                  <a:cubicBezTo>
                    <a:pt x="558" y="361"/>
                    <a:pt x="481" y="363"/>
                    <a:pt x="449" y="404"/>
                  </a:cubicBezTo>
                  <a:cubicBezTo>
                    <a:pt x="476" y="191"/>
                    <a:pt x="476" y="191"/>
                    <a:pt x="476" y="191"/>
                  </a:cubicBezTo>
                  <a:cubicBezTo>
                    <a:pt x="506" y="121"/>
                    <a:pt x="506" y="121"/>
                    <a:pt x="506" y="121"/>
                  </a:cubicBezTo>
                  <a:cubicBezTo>
                    <a:pt x="322" y="0"/>
                    <a:pt x="322" y="0"/>
                    <a:pt x="322" y="0"/>
                  </a:cubicBezTo>
                  <a:cubicBezTo>
                    <a:pt x="322" y="0"/>
                    <a:pt x="141" y="43"/>
                    <a:pt x="162" y="98"/>
                  </a:cubicBezTo>
                  <a:close/>
                </a:path>
              </a:pathLst>
            </a:custGeom>
            <a:solidFill>
              <a:srgbClr val="f7a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6"/>
            <p:cNvSpPr/>
            <p:nvPr/>
          </p:nvSpPr>
          <p:spPr>
            <a:xfrm>
              <a:off x="9602280" y="4847040"/>
              <a:ext cx="167040" cy="150480"/>
            </a:xfrm>
            <a:custGeom>
              <a:avLst/>
              <a:gdLst/>
              <a:ahLst/>
              <a:rect l="l" t="t" r="r" b="b"/>
              <a:pathLst>
                <a:path w="112" h="101">
                  <a:moveTo>
                    <a:pt x="0" y="0"/>
                  </a:moveTo>
                  <a:lnTo>
                    <a:pt x="112" y="66"/>
                  </a:lnTo>
                  <a:lnTo>
                    <a:pt x="75" y="1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7"/>
            <p:cNvSpPr/>
            <p:nvPr/>
          </p:nvSpPr>
          <p:spPr>
            <a:xfrm>
              <a:off x="9705240" y="3867120"/>
              <a:ext cx="1603080" cy="1636200"/>
            </a:xfrm>
            <a:custGeom>
              <a:avLst/>
              <a:gdLst/>
              <a:ahLst/>
              <a:rect l="l" t="t" r="r" b="b"/>
              <a:pathLst>
                <a:path w="921" h="940">
                  <a:moveTo>
                    <a:pt x="425" y="779"/>
                  </a:moveTo>
                  <a:cubicBezTo>
                    <a:pt x="425" y="779"/>
                    <a:pt x="504" y="578"/>
                    <a:pt x="587" y="649"/>
                  </a:cubicBezTo>
                  <a:cubicBezTo>
                    <a:pt x="670" y="719"/>
                    <a:pt x="535" y="861"/>
                    <a:pt x="468" y="839"/>
                  </a:cubicBezTo>
                  <a:cubicBezTo>
                    <a:pt x="468" y="839"/>
                    <a:pt x="432" y="903"/>
                    <a:pt x="459" y="940"/>
                  </a:cubicBezTo>
                  <a:cubicBezTo>
                    <a:pt x="459" y="940"/>
                    <a:pt x="548" y="880"/>
                    <a:pt x="583" y="846"/>
                  </a:cubicBezTo>
                  <a:cubicBezTo>
                    <a:pt x="634" y="798"/>
                    <a:pt x="921" y="530"/>
                    <a:pt x="672" y="295"/>
                  </a:cubicBezTo>
                  <a:cubicBezTo>
                    <a:pt x="423" y="61"/>
                    <a:pt x="134" y="190"/>
                    <a:pt x="210" y="0"/>
                  </a:cubicBezTo>
                  <a:cubicBezTo>
                    <a:pt x="210" y="0"/>
                    <a:pt x="0" y="267"/>
                    <a:pt x="244" y="298"/>
                  </a:cubicBezTo>
                  <a:cubicBezTo>
                    <a:pt x="244" y="298"/>
                    <a:pt x="455" y="294"/>
                    <a:pt x="495" y="411"/>
                  </a:cubicBezTo>
                  <a:cubicBezTo>
                    <a:pt x="495" y="411"/>
                    <a:pt x="503" y="477"/>
                    <a:pt x="449" y="494"/>
                  </a:cubicBezTo>
                  <a:cubicBezTo>
                    <a:pt x="449" y="494"/>
                    <a:pt x="480" y="661"/>
                    <a:pt x="425" y="779"/>
                  </a:cubicBezTo>
                  <a:close/>
                </a:path>
              </a:pathLst>
            </a:custGeom>
            <a:solidFill>
              <a:srgbClr val="6b24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08"/>
            <p:cNvSpPr/>
            <p:nvPr/>
          </p:nvSpPr>
          <p:spPr>
            <a:xfrm>
              <a:off x="10455480" y="4767840"/>
              <a:ext cx="557640" cy="735120"/>
            </a:xfrm>
            <a:custGeom>
              <a:avLst/>
              <a:gdLst/>
              <a:ahLst/>
              <a:rect l="l" t="t" r="r" b="b"/>
              <a:pathLst>
                <a:path w="320" h="423">
                  <a:moveTo>
                    <a:pt x="300" y="144"/>
                  </a:moveTo>
                  <a:cubicBezTo>
                    <a:pt x="320" y="64"/>
                    <a:pt x="286" y="6"/>
                    <a:pt x="199" y="3"/>
                  </a:cubicBezTo>
                  <a:cubicBezTo>
                    <a:pt x="104" y="0"/>
                    <a:pt x="45" y="117"/>
                    <a:pt x="16" y="193"/>
                  </a:cubicBezTo>
                  <a:cubicBezTo>
                    <a:pt x="13" y="212"/>
                    <a:pt x="7" y="230"/>
                    <a:pt x="0" y="248"/>
                  </a:cubicBezTo>
                  <a:cubicBezTo>
                    <a:pt x="20" y="203"/>
                    <a:pt x="86" y="73"/>
                    <a:pt x="156" y="132"/>
                  </a:cubicBezTo>
                  <a:cubicBezTo>
                    <a:pt x="239" y="202"/>
                    <a:pt x="104" y="344"/>
                    <a:pt x="37" y="322"/>
                  </a:cubicBezTo>
                  <a:cubicBezTo>
                    <a:pt x="37" y="322"/>
                    <a:pt x="1" y="386"/>
                    <a:pt x="28" y="423"/>
                  </a:cubicBezTo>
                  <a:cubicBezTo>
                    <a:pt x="28" y="423"/>
                    <a:pt x="182" y="346"/>
                    <a:pt x="300" y="144"/>
                  </a:cubicBezTo>
                </a:path>
              </a:pathLst>
            </a:custGeom>
            <a:solidFill>
              <a:srgbClr val="561a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09"/>
            <p:cNvSpPr/>
            <p:nvPr/>
          </p:nvSpPr>
          <p:spPr>
            <a:xfrm>
              <a:off x="10449360" y="5198760"/>
              <a:ext cx="5760" cy="162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1" y="8"/>
                  </a:moveTo>
                  <a:cubicBezTo>
                    <a:pt x="2" y="6"/>
                    <a:pt x="3" y="3"/>
                    <a:pt x="4" y="0"/>
                  </a:cubicBezTo>
                  <a:cubicBezTo>
                    <a:pt x="3" y="3"/>
                    <a:pt x="2" y="6"/>
                    <a:pt x="0" y="9"/>
                  </a:cubicBezTo>
                  <a:lnTo>
                    <a:pt x="1" y="8"/>
                  </a:lnTo>
                  <a:close/>
                </a:path>
              </a:pathLst>
            </a:custGeom>
            <a:solidFill>
              <a:srgbClr val="1e0c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0"/>
            <p:cNvSpPr/>
            <p:nvPr/>
          </p:nvSpPr>
          <p:spPr>
            <a:xfrm>
              <a:off x="10445040" y="5198760"/>
              <a:ext cx="10440" cy="237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cubicBezTo>
                    <a:pt x="4" y="5"/>
                    <a:pt x="2" y="10"/>
                    <a:pt x="0" y="14"/>
                  </a:cubicBezTo>
                  <a:cubicBezTo>
                    <a:pt x="0" y="14"/>
                    <a:pt x="2" y="9"/>
                    <a:pt x="6" y="0"/>
                  </a:cubicBezTo>
                  <a:close/>
                </a:path>
              </a:pathLst>
            </a:custGeom>
            <a:solidFill>
              <a:srgbClr val="3a1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1"/>
            <p:cNvSpPr/>
            <p:nvPr/>
          </p:nvSpPr>
          <p:spPr>
            <a:xfrm>
              <a:off x="9705240" y="3867120"/>
              <a:ext cx="885600" cy="778320"/>
            </a:xfrm>
            <a:custGeom>
              <a:avLst/>
              <a:gdLst/>
              <a:ahLst/>
              <a:rect l="l" t="t" r="r" b="b"/>
              <a:pathLst>
                <a:path w="509" h="447">
                  <a:moveTo>
                    <a:pt x="210" y="0"/>
                  </a:moveTo>
                  <a:cubicBezTo>
                    <a:pt x="208" y="6"/>
                    <a:pt x="206" y="12"/>
                    <a:pt x="204" y="17"/>
                  </a:cubicBezTo>
                  <a:cubicBezTo>
                    <a:pt x="153" y="94"/>
                    <a:pt x="87" y="235"/>
                    <a:pt x="261" y="266"/>
                  </a:cubicBezTo>
                  <a:cubicBezTo>
                    <a:pt x="261" y="266"/>
                    <a:pt x="472" y="271"/>
                    <a:pt x="507" y="390"/>
                  </a:cubicBezTo>
                  <a:cubicBezTo>
                    <a:pt x="507" y="390"/>
                    <a:pt x="509" y="423"/>
                    <a:pt x="492" y="447"/>
                  </a:cubicBezTo>
                  <a:cubicBezTo>
                    <a:pt x="497" y="428"/>
                    <a:pt x="495" y="411"/>
                    <a:pt x="495" y="411"/>
                  </a:cubicBezTo>
                  <a:cubicBezTo>
                    <a:pt x="455" y="294"/>
                    <a:pt x="244" y="298"/>
                    <a:pt x="244" y="298"/>
                  </a:cubicBezTo>
                  <a:cubicBezTo>
                    <a:pt x="0" y="267"/>
                    <a:pt x="210" y="0"/>
                    <a:pt x="210" y="0"/>
                  </a:cubicBezTo>
                  <a:close/>
                </a:path>
              </a:pathLst>
            </a:custGeom>
            <a:solidFill>
              <a:srgbClr val="5b1b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2"/>
            <p:cNvSpPr/>
            <p:nvPr/>
          </p:nvSpPr>
          <p:spPr>
            <a:xfrm>
              <a:off x="10543320" y="5121360"/>
              <a:ext cx="135720" cy="14292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78" y="1"/>
                  </a:moveTo>
                  <a:cubicBezTo>
                    <a:pt x="78" y="1"/>
                    <a:pt x="12" y="0"/>
                    <a:pt x="6" y="41"/>
                  </a:cubicBezTo>
                  <a:cubicBezTo>
                    <a:pt x="0" y="83"/>
                    <a:pt x="47" y="70"/>
                    <a:pt x="78" y="1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3"/>
            <p:cNvSpPr/>
            <p:nvPr/>
          </p:nvSpPr>
          <p:spPr>
            <a:xfrm>
              <a:off x="9932040" y="3867120"/>
              <a:ext cx="1267560" cy="1361520"/>
            </a:xfrm>
            <a:custGeom>
              <a:avLst/>
              <a:gdLst/>
              <a:ahLst/>
              <a:rect l="l" t="t" r="r" b="b"/>
              <a:pathLst>
                <a:path w="728" h="782">
                  <a:moveTo>
                    <a:pt x="526" y="313"/>
                  </a:moveTo>
                  <a:cubicBezTo>
                    <a:pt x="282" y="83"/>
                    <a:pt x="0" y="201"/>
                    <a:pt x="59" y="29"/>
                  </a:cubicBezTo>
                  <a:cubicBezTo>
                    <a:pt x="71" y="11"/>
                    <a:pt x="80" y="0"/>
                    <a:pt x="80" y="0"/>
                  </a:cubicBezTo>
                  <a:cubicBezTo>
                    <a:pt x="4" y="190"/>
                    <a:pt x="293" y="61"/>
                    <a:pt x="542" y="295"/>
                  </a:cubicBezTo>
                  <a:cubicBezTo>
                    <a:pt x="728" y="470"/>
                    <a:pt x="613" y="682"/>
                    <a:pt x="513" y="782"/>
                  </a:cubicBezTo>
                  <a:cubicBezTo>
                    <a:pt x="608" y="676"/>
                    <a:pt x="702" y="478"/>
                    <a:pt x="526" y="313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4"/>
            <p:cNvSpPr/>
            <p:nvPr/>
          </p:nvSpPr>
          <p:spPr>
            <a:xfrm>
              <a:off x="9966240" y="4590360"/>
              <a:ext cx="281880" cy="360720"/>
            </a:xfrm>
            <a:custGeom>
              <a:avLst/>
              <a:gdLst/>
              <a:ahLst/>
              <a:rect l="l" t="t" r="r" b="b"/>
              <a:pathLst>
                <a:path w="162" h="208">
                  <a:moveTo>
                    <a:pt x="19" y="81"/>
                  </a:moveTo>
                  <a:cubicBezTo>
                    <a:pt x="0" y="131"/>
                    <a:pt x="12" y="183"/>
                    <a:pt x="46" y="196"/>
                  </a:cubicBezTo>
                  <a:cubicBezTo>
                    <a:pt x="81" y="208"/>
                    <a:pt x="124" y="178"/>
                    <a:pt x="143" y="127"/>
                  </a:cubicBezTo>
                  <a:cubicBezTo>
                    <a:pt x="162" y="77"/>
                    <a:pt x="149" y="26"/>
                    <a:pt x="115" y="13"/>
                  </a:cubicBezTo>
                  <a:cubicBezTo>
                    <a:pt x="81" y="0"/>
                    <a:pt x="38" y="30"/>
                    <a:pt x="19" y="81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5"/>
            <p:cNvSpPr/>
            <p:nvPr/>
          </p:nvSpPr>
          <p:spPr>
            <a:xfrm>
              <a:off x="10014120" y="4648680"/>
              <a:ext cx="187920" cy="24444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12" y="54"/>
                  </a:moveTo>
                  <a:cubicBezTo>
                    <a:pt x="0" y="88"/>
                    <a:pt x="8" y="123"/>
                    <a:pt x="31" y="131"/>
                  </a:cubicBezTo>
                  <a:cubicBezTo>
                    <a:pt x="54" y="140"/>
                    <a:pt x="83" y="120"/>
                    <a:pt x="95" y="86"/>
                  </a:cubicBezTo>
                  <a:cubicBezTo>
                    <a:pt x="108" y="52"/>
                    <a:pt x="100" y="17"/>
                    <a:pt x="77" y="9"/>
                  </a:cubicBezTo>
                  <a:cubicBezTo>
                    <a:pt x="54" y="0"/>
                    <a:pt x="25" y="21"/>
                    <a:pt x="12" y="54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6"/>
            <p:cNvSpPr/>
            <p:nvPr/>
          </p:nvSpPr>
          <p:spPr>
            <a:xfrm>
              <a:off x="9976680" y="4472640"/>
              <a:ext cx="375840" cy="240120"/>
            </a:xfrm>
            <a:custGeom>
              <a:avLst/>
              <a:gdLst/>
              <a:ahLst/>
              <a:rect l="l" t="t" r="r" b="b"/>
              <a:pathLst>
                <a:path w="216" h="138">
                  <a:moveTo>
                    <a:pt x="9" y="43"/>
                  </a:moveTo>
                  <a:cubicBezTo>
                    <a:pt x="9" y="43"/>
                    <a:pt x="0" y="0"/>
                    <a:pt x="34" y="15"/>
                  </a:cubicBezTo>
                  <a:cubicBezTo>
                    <a:pt x="67" y="29"/>
                    <a:pt x="133" y="99"/>
                    <a:pt x="185" y="57"/>
                  </a:cubicBezTo>
                  <a:cubicBezTo>
                    <a:pt x="216" y="95"/>
                    <a:pt x="216" y="95"/>
                    <a:pt x="216" y="95"/>
                  </a:cubicBezTo>
                  <a:cubicBezTo>
                    <a:pt x="216" y="95"/>
                    <a:pt x="58" y="138"/>
                    <a:pt x="9" y="43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17"/>
            <p:cNvSpPr/>
            <p:nvPr/>
          </p:nvSpPr>
          <p:spPr>
            <a:xfrm>
              <a:off x="9879840" y="4493520"/>
              <a:ext cx="125280" cy="9396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55" y="0"/>
                  </a:moveTo>
                  <a:cubicBezTo>
                    <a:pt x="55" y="0"/>
                    <a:pt x="29" y="49"/>
                    <a:pt x="72" y="54"/>
                  </a:cubicBezTo>
                  <a:cubicBezTo>
                    <a:pt x="72" y="54"/>
                    <a:pt x="0" y="49"/>
                    <a:pt x="55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8"/>
            <p:cNvSpPr/>
            <p:nvPr/>
          </p:nvSpPr>
          <p:spPr>
            <a:xfrm>
              <a:off x="9671040" y="4982760"/>
              <a:ext cx="247320" cy="423360"/>
            </a:xfrm>
            <a:custGeom>
              <a:avLst/>
              <a:gdLst/>
              <a:ahLst/>
              <a:rect l="l" t="t" r="r" b="b"/>
              <a:pathLst>
                <a:path w="142" h="243">
                  <a:moveTo>
                    <a:pt x="0" y="174"/>
                  </a:moveTo>
                  <a:cubicBezTo>
                    <a:pt x="0" y="174"/>
                    <a:pt x="10" y="243"/>
                    <a:pt x="76" y="239"/>
                  </a:cubicBezTo>
                  <a:cubicBezTo>
                    <a:pt x="142" y="236"/>
                    <a:pt x="122" y="0"/>
                    <a:pt x="87" y="2"/>
                  </a:cubicBezTo>
                  <a:cubicBezTo>
                    <a:pt x="51" y="4"/>
                    <a:pt x="23" y="45"/>
                    <a:pt x="23" y="63"/>
                  </a:cubicBezTo>
                  <a:cubicBezTo>
                    <a:pt x="23" y="82"/>
                    <a:pt x="35" y="163"/>
                    <a:pt x="0" y="174"/>
                  </a:cubicBezTo>
                  <a:close/>
                </a:path>
              </a:pathLst>
            </a:custGeom>
            <a:solidFill>
              <a:srgbClr val="f7a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19"/>
            <p:cNvSpPr/>
            <p:nvPr/>
          </p:nvSpPr>
          <p:spPr>
            <a:xfrm>
              <a:off x="9638280" y="5048280"/>
              <a:ext cx="234000" cy="293760"/>
            </a:xfrm>
            <a:custGeom>
              <a:avLst/>
              <a:gdLst/>
              <a:ahLst/>
              <a:rect l="l" t="t" r="r" b="b"/>
              <a:pathLst>
                <a:path w="135" h="169">
                  <a:moveTo>
                    <a:pt x="42" y="45"/>
                  </a:moveTo>
                  <a:cubicBezTo>
                    <a:pt x="42" y="45"/>
                    <a:pt x="29" y="8"/>
                    <a:pt x="79" y="4"/>
                  </a:cubicBezTo>
                  <a:cubicBezTo>
                    <a:pt x="130" y="0"/>
                    <a:pt x="135" y="112"/>
                    <a:pt x="122" y="140"/>
                  </a:cubicBezTo>
                  <a:cubicBezTo>
                    <a:pt x="109" y="169"/>
                    <a:pt x="0" y="147"/>
                    <a:pt x="22" y="126"/>
                  </a:cubicBezTo>
                  <a:cubicBezTo>
                    <a:pt x="44" y="104"/>
                    <a:pt x="54" y="67"/>
                    <a:pt x="42" y="45"/>
                  </a:cubicBezTo>
                  <a:close/>
                </a:path>
              </a:pathLst>
            </a:custGeom>
            <a:solidFill>
              <a:srgbClr val="2813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20"/>
            <p:cNvSpPr/>
            <p:nvPr/>
          </p:nvSpPr>
          <p:spPr>
            <a:xfrm>
              <a:off x="9574200" y="5133240"/>
              <a:ext cx="295200" cy="199800"/>
            </a:xfrm>
            <a:custGeom>
              <a:avLst/>
              <a:gdLst/>
              <a:ahLst/>
              <a:rect l="l" t="t" r="r" b="b"/>
              <a:pathLst>
                <a:path w="170" h="115">
                  <a:moveTo>
                    <a:pt x="165" y="52"/>
                  </a:moveTo>
                  <a:cubicBezTo>
                    <a:pt x="165" y="52"/>
                    <a:pt x="89" y="0"/>
                    <a:pt x="45" y="35"/>
                  </a:cubicBezTo>
                  <a:cubicBezTo>
                    <a:pt x="0" y="69"/>
                    <a:pt x="77" y="73"/>
                    <a:pt x="79" y="86"/>
                  </a:cubicBezTo>
                  <a:cubicBezTo>
                    <a:pt x="81" y="100"/>
                    <a:pt x="89" y="102"/>
                    <a:pt x="89" y="102"/>
                  </a:cubicBezTo>
                  <a:cubicBezTo>
                    <a:pt x="89" y="102"/>
                    <a:pt x="144" y="115"/>
                    <a:pt x="159" y="91"/>
                  </a:cubicBezTo>
                  <a:cubicBezTo>
                    <a:pt x="159" y="91"/>
                    <a:pt x="170" y="70"/>
                    <a:pt x="165" y="52"/>
                  </a:cubicBezTo>
                  <a:close/>
                </a:path>
              </a:pathLst>
            </a:custGeom>
            <a:solidFill>
              <a:srgbClr val="f7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21"/>
            <p:cNvSpPr/>
            <p:nvPr/>
          </p:nvSpPr>
          <p:spPr>
            <a:xfrm>
              <a:off x="9711360" y="5051160"/>
              <a:ext cx="137160" cy="7452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37" y="2"/>
                  </a:moveTo>
                  <a:cubicBezTo>
                    <a:pt x="13" y="4"/>
                    <a:pt x="3" y="14"/>
                    <a:pt x="0" y="23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68" y="16"/>
                    <a:pt x="79" y="43"/>
                  </a:cubicBezTo>
                  <a:cubicBezTo>
                    <a:pt x="71" y="18"/>
                    <a:pt x="58" y="0"/>
                    <a:pt x="37" y="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22"/>
            <p:cNvSpPr/>
            <p:nvPr/>
          </p:nvSpPr>
          <p:spPr>
            <a:xfrm>
              <a:off x="9627840" y="5227200"/>
              <a:ext cx="220680" cy="96840"/>
            </a:xfrm>
            <a:custGeom>
              <a:avLst/>
              <a:gdLst/>
              <a:ahLst/>
              <a:rect l="l" t="t" r="r" b="b"/>
              <a:pathLst>
                <a:path w="127" h="56">
                  <a:moveTo>
                    <a:pt x="127" y="39"/>
                  </a:moveTo>
                  <a:cubicBezTo>
                    <a:pt x="122" y="22"/>
                    <a:pt x="82" y="5"/>
                    <a:pt x="48" y="10"/>
                  </a:cubicBezTo>
                  <a:cubicBezTo>
                    <a:pt x="15" y="15"/>
                    <a:pt x="0" y="1"/>
                    <a:pt x="0" y="0"/>
                  </a:cubicBezTo>
                  <a:cubicBezTo>
                    <a:pt x="1" y="18"/>
                    <a:pt x="46" y="22"/>
                    <a:pt x="48" y="32"/>
                  </a:cubicBezTo>
                  <a:cubicBezTo>
                    <a:pt x="50" y="46"/>
                    <a:pt x="58" y="48"/>
                    <a:pt x="58" y="48"/>
                  </a:cubicBezTo>
                  <a:cubicBezTo>
                    <a:pt x="58" y="48"/>
                    <a:pt x="91" y="56"/>
                    <a:pt x="113" y="48"/>
                  </a:cubicBezTo>
                  <a:lnTo>
                    <a:pt x="127" y="39"/>
                  </a:lnTo>
                  <a:close/>
                </a:path>
              </a:pathLst>
            </a:custGeom>
            <a:solidFill>
              <a:srgbClr val="d3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23"/>
            <p:cNvSpPr/>
            <p:nvPr/>
          </p:nvSpPr>
          <p:spPr>
            <a:xfrm>
              <a:off x="9685800" y="5330160"/>
              <a:ext cx="149040" cy="1087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0" y="0"/>
                  </a:moveTo>
                  <a:cubicBezTo>
                    <a:pt x="0" y="0"/>
                    <a:pt x="36" y="40"/>
                    <a:pt x="78" y="17"/>
                  </a:cubicBezTo>
                  <a:cubicBezTo>
                    <a:pt x="85" y="31"/>
                    <a:pt x="85" y="31"/>
                    <a:pt x="85" y="31"/>
                  </a:cubicBezTo>
                  <a:cubicBezTo>
                    <a:pt x="85" y="31"/>
                    <a:pt x="26" y="63"/>
                    <a:pt x="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24"/>
            <p:cNvSpPr/>
            <p:nvPr/>
          </p:nvSpPr>
          <p:spPr>
            <a:xfrm>
              <a:off x="9896040" y="5043960"/>
              <a:ext cx="77400" cy="195120"/>
            </a:xfrm>
            <a:custGeom>
              <a:avLst/>
              <a:gdLst/>
              <a:ahLst/>
              <a:rect l="l" t="t" r="r" b="b"/>
              <a:pathLst>
                <a:path w="45" h="112">
                  <a:moveTo>
                    <a:pt x="0" y="0"/>
                  </a:moveTo>
                  <a:cubicBezTo>
                    <a:pt x="0" y="0"/>
                    <a:pt x="27" y="41"/>
                    <a:pt x="17" y="112"/>
                  </a:cubicBezTo>
                  <a:cubicBezTo>
                    <a:pt x="17" y="112"/>
                    <a:pt x="45" y="43"/>
                    <a:pt x="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25"/>
            <p:cNvSpPr/>
            <p:nvPr/>
          </p:nvSpPr>
          <p:spPr>
            <a:xfrm>
              <a:off x="9653040" y="5271840"/>
              <a:ext cx="151920" cy="80280"/>
            </a:xfrm>
            <a:custGeom>
              <a:avLst/>
              <a:gdLst/>
              <a:ahLst/>
              <a:rect l="l" t="t" r="r" b="b"/>
              <a:pathLst>
                <a:path w="87" h="46">
                  <a:moveTo>
                    <a:pt x="0" y="0"/>
                  </a:moveTo>
                  <a:cubicBezTo>
                    <a:pt x="0" y="0"/>
                    <a:pt x="40" y="39"/>
                    <a:pt x="85" y="33"/>
                  </a:cubicBezTo>
                  <a:cubicBezTo>
                    <a:pt x="85" y="33"/>
                    <a:pt x="87" y="42"/>
                    <a:pt x="85" y="44"/>
                  </a:cubicBezTo>
                  <a:cubicBezTo>
                    <a:pt x="84" y="45"/>
                    <a:pt x="1" y="46"/>
                    <a:pt x="0" y="0"/>
                  </a:cubicBezTo>
                  <a:close/>
                </a:path>
              </a:pathLst>
            </a:custGeom>
            <a:solidFill>
              <a:srgbClr val="ea90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3" name="Freeform 126"/>
          <p:cNvSpPr/>
          <p:nvPr/>
        </p:nvSpPr>
        <p:spPr>
          <a:xfrm>
            <a:off x="10105920" y="489888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26"/>
          <p:cNvSpPr/>
          <p:nvPr/>
        </p:nvSpPr>
        <p:spPr>
          <a:xfrm>
            <a:off x="10202760" y="483696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126"/>
          <p:cNvSpPr/>
          <p:nvPr/>
        </p:nvSpPr>
        <p:spPr>
          <a:xfrm>
            <a:off x="10347480" y="4797360"/>
            <a:ext cx="15048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26"/>
          <p:cNvSpPr/>
          <p:nvPr/>
        </p:nvSpPr>
        <p:spPr>
          <a:xfrm>
            <a:off x="10244160" y="49784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26"/>
          <p:cNvSpPr/>
          <p:nvPr/>
        </p:nvSpPr>
        <p:spPr>
          <a:xfrm>
            <a:off x="10105920" y="4903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26"/>
          <p:cNvSpPr/>
          <p:nvPr/>
        </p:nvSpPr>
        <p:spPr>
          <a:xfrm>
            <a:off x="10202760" y="48434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6"/>
          <p:cNvSpPr/>
          <p:nvPr/>
        </p:nvSpPr>
        <p:spPr>
          <a:xfrm>
            <a:off x="10347480" y="4802040"/>
            <a:ext cx="15048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126"/>
          <p:cNvSpPr/>
          <p:nvPr/>
        </p:nvSpPr>
        <p:spPr>
          <a:xfrm>
            <a:off x="10244160" y="49831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26"/>
          <p:cNvSpPr/>
          <p:nvPr/>
        </p:nvSpPr>
        <p:spPr>
          <a:xfrm>
            <a:off x="10121760" y="486108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126"/>
          <p:cNvSpPr/>
          <p:nvPr/>
        </p:nvSpPr>
        <p:spPr>
          <a:xfrm>
            <a:off x="10220400" y="478008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126"/>
          <p:cNvSpPr/>
          <p:nvPr/>
        </p:nvSpPr>
        <p:spPr>
          <a:xfrm>
            <a:off x="10299600" y="469728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126"/>
          <p:cNvSpPr/>
          <p:nvPr/>
        </p:nvSpPr>
        <p:spPr>
          <a:xfrm>
            <a:off x="10263240" y="494496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5" name="组合 1"/>
          <p:cNvGrpSpPr/>
          <p:nvPr/>
        </p:nvGrpSpPr>
        <p:grpSpPr>
          <a:xfrm>
            <a:off x="1050840" y="2654280"/>
            <a:ext cx="3324240" cy="1455840"/>
            <a:chOff x="1050840" y="2654280"/>
            <a:chExt cx="3324240" cy="1455840"/>
          </a:xfrm>
        </p:grpSpPr>
        <p:sp>
          <p:nvSpPr>
            <p:cNvPr id="876" name="文本框 192"/>
            <p:cNvSpPr/>
            <p:nvPr/>
          </p:nvSpPr>
          <p:spPr>
            <a:xfrm>
              <a:off x="1128600" y="2692080"/>
              <a:ext cx="324648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636686" y="1150144"/>
                  </a:moveTo>
                  <a:lnTo>
                    <a:pt x="636686" y="1273374"/>
                  </a:lnTo>
                  <a:lnTo>
                    <a:pt x="972145" y="1273374"/>
                  </a:lnTo>
                  <a:lnTo>
                    <a:pt x="972145" y="1150144"/>
                  </a:lnTo>
                  <a:close/>
                  <a:moveTo>
                    <a:pt x="636686" y="876300"/>
                  </a:moveTo>
                  <a:lnTo>
                    <a:pt x="636686" y="999530"/>
                  </a:lnTo>
                  <a:lnTo>
                    <a:pt x="972145" y="999530"/>
                  </a:lnTo>
                  <a:lnTo>
                    <a:pt x="972145" y="876300"/>
                  </a:lnTo>
                  <a:close/>
                  <a:moveTo>
                    <a:pt x="636686" y="609303"/>
                  </a:moveTo>
                  <a:lnTo>
                    <a:pt x="636686" y="732532"/>
                  </a:lnTo>
                  <a:lnTo>
                    <a:pt x="972145" y="732532"/>
                  </a:lnTo>
                  <a:lnTo>
                    <a:pt x="972145" y="609303"/>
                  </a:lnTo>
                  <a:close/>
                  <a:moveTo>
                    <a:pt x="1150143" y="376536"/>
                  </a:moveTo>
                  <a:lnTo>
                    <a:pt x="1177528" y="465535"/>
                  </a:lnTo>
                  <a:lnTo>
                    <a:pt x="1499294" y="465535"/>
                  </a:lnTo>
                  <a:lnTo>
                    <a:pt x="1499294" y="609303"/>
                  </a:lnTo>
                  <a:lnTo>
                    <a:pt x="1143297" y="609303"/>
                  </a:lnTo>
                  <a:lnTo>
                    <a:pt x="1143297" y="732532"/>
                  </a:lnTo>
                  <a:lnTo>
                    <a:pt x="1471910" y="732532"/>
                  </a:lnTo>
                  <a:lnTo>
                    <a:pt x="1471910" y="876300"/>
                  </a:lnTo>
                  <a:lnTo>
                    <a:pt x="1143297" y="876300"/>
                  </a:lnTo>
                  <a:lnTo>
                    <a:pt x="1143297" y="999530"/>
                  </a:lnTo>
                  <a:lnTo>
                    <a:pt x="1471910" y="999530"/>
                  </a:lnTo>
                  <a:lnTo>
                    <a:pt x="1471910" y="1150144"/>
                  </a:lnTo>
                  <a:lnTo>
                    <a:pt x="1143297" y="1150144"/>
                  </a:lnTo>
                  <a:lnTo>
                    <a:pt x="1143297" y="1273374"/>
                  </a:lnTo>
                  <a:lnTo>
                    <a:pt x="1499294" y="1273374"/>
                  </a:lnTo>
                  <a:lnTo>
                    <a:pt x="1499294" y="1417142"/>
                  </a:lnTo>
                  <a:lnTo>
                    <a:pt x="465534" y="1417142"/>
                  </a:lnTo>
                  <a:lnTo>
                    <a:pt x="465534" y="814686"/>
                  </a:lnTo>
                  <a:lnTo>
                    <a:pt x="355997" y="759917"/>
                  </a:lnTo>
                  <a:lnTo>
                    <a:pt x="513457" y="390228"/>
                  </a:lnTo>
                  <a:lnTo>
                    <a:pt x="664071" y="465535"/>
                  </a:lnTo>
                  <a:lnTo>
                    <a:pt x="985837" y="465535"/>
                  </a:lnTo>
                  <a:lnTo>
                    <a:pt x="972145" y="403920"/>
                  </a:lnTo>
                  <a:close/>
                  <a:moveTo>
                    <a:pt x="903684" y="20539"/>
                  </a:moveTo>
                  <a:lnTo>
                    <a:pt x="1067990" y="20539"/>
                  </a:lnTo>
                  <a:lnTo>
                    <a:pt x="1067990" y="171153"/>
                  </a:lnTo>
                  <a:lnTo>
                    <a:pt x="1334988" y="171153"/>
                  </a:lnTo>
                  <a:lnTo>
                    <a:pt x="1334988" y="41077"/>
                  </a:lnTo>
                  <a:lnTo>
                    <a:pt x="1499294" y="41077"/>
                  </a:lnTo>
                  <a:lnTo>
                    <a:pt x="1499294" y="314921"/>
                  </a:lnTo>
                  <a:lnTo>
                    <a:pt x="451842" y="314921"/>
                  </a:lnTo>
                  <a:lnTo>
                    <a:pt x="451842" y="41077"/>
                  </a:lnTo>
                  <a:lnTo>
                    <a:pt x="616148" y="41077"/>
                  </a:lnTo>
                  <a:lnTo>
                    <a:pt x="616148" y="171153"/>
                  </a:lnTo>
                  <a:lnTo>
                    <a:pt x="903684" y="171153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198536" y="0"/>
                  </a:moveTo>
                  <a:lnTo>
                    <a:pt x="328612" y="95846"/>
                  </a:lnTo>
                  <a:lnTo>
                    <a:pt x="154074" y="643533"/>
                  </a:lnTo>
                  <a:lnTo>
                    <a:pt x="253305" y="643533"/>
                  </a:lnTo>
                  <a:lnTo>
                    <a:pt x="253305" y="1417142"/>
                  </a:lnTo>
                  <a:lnTo>
                    <a:pt x="82153" y="1417142"/>
                  </a:lnTo>
                  <a:lnTo>
                    <a:pt x="82153" y="683529"/>
                  </a:lnTo>
                  <a:lnTo>
                    <a:pt x="0" y="622995"/>
                  </a:lnTo>
                  <a:close/>
                </a:path>
              </a:pathLst>
            </a:custGeom>
            <a:solidFill>
              <a:srgbClr val="9e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文本框 194"/>
            <p:cNvSpPr/>
            <p:nvPr/>
          </p:nvSpPr>
          <p:spPr>
            <a:xfrm>
              <a:off x="1050840" y="2654280"/>
              <a:ext cx="3246480" cy="1418040"/>
            </a:xfrm>
            <a:custGeom>
              <a:avLst/>
              <a:gdLst/>
              <a:ahLst/>
              <a:rect l="l" t="t" r="r" b="b"/>
              <a:pathLst>
                <a:path w="3245048" h="1417142">
                  <a:moveTo>
                    <a:pt x="636686" y="1150144"/>
                  </a:moveTo>
                  <a:lnTo>
                    <a:pt x="636686" y="1273374"/>
                  </a:lnTo>
                  <a:lnTo>
                    <a:pt x="972145" y="1273374"/>
                  </a:lnTo>
                  <a:lnTo>
                    <a:pt x="972145" y="1150144"/>
                  </a:lnTo>
                  <a:close/>
                  <a:moveTo>
                    <a:pt x="636686" y="876300"/>
                  </a:moveTo>
                  <a:lnTo>
                    <a:pt x="636686" y="999530"/>
                  </a:lnTo>
                  <a:lnTo>
                    <a:pt x="972145" y="999530"/>
                  </a:lnTo>
                  <a:lnTo>
                    <a:pt x="972145" y="876300"/>
                  </a:lnTo>
                  <a:close/>
                  <a:moveTo>
                    <a:pt x="636686" y="609303"/>
                  </a:moveTo>
                  <a:lnTo>
                    <a:pt x="636686" y="732532"/>
                  </a:lnTo>
                  <a:lnTo>
                    <a:pt x="972145" y="732532"/>
                  </a:lnTo>
                  <a:lnTo>
                    <a:pt x="972145" y="609303"/>
                  </a:lnTo>
                  <a:close/>
                  <a:moveTo>
                    <a:pt x="1150143" y="376536"/>
                  </a:moveTo>
                  <a:lnTo>
                    <a:pt x="1177528" y="465535"/>
                  </a:lnTo>
                  <a:lnTo>
                    <a:pt x="1499294" y="465535"/>
                  </a:lnTo>
                  <a:lnTo>
                    <a:pt x="1499294" y="609303"/>
                  </a:lnTo>
                  <a:lnTo>
                    <a:pt x="1143297" y="609303"/>
                  </a:lnTo>
                  <a:lnTo>
                    <a:pt x="1143297" y="732532"/>
                  </a:lnTo>
                  <a:lnTo>
                    <a:pt x="1471910" y="732532"/>
                  </a:lnTo>
                  <a:lnTo>
                    <a:pt x="1471910" y="876300"/>
                  </a:lnTo>
                  <a:lnTo>
                    <a:pt x="1143297" y="876300"/>
                  </a:lnTo>
                  <a:lnTo>
                    <a:pt x="1143297" y="999530"/>
                  </a:lnTo>
                  <a:lnTo>
                    <a:pt x="1471910" y="999530"/>
                  </a:lnTo>
                  <a:lnTo>
                    <a:pt x="1471910" y="1150144"/>
                  </a:lnTo>
                  <a:lnTo>
                    <a:pt x="1143297" y="1150144"/>
                  </a:lnTo>
                  <a:lnTo>
                    <a:pt x="1143297" y="1273374"/>
                  </a:lnTo>
                  <a:lnTo>
                    <a:pt x="1499294" y="1273374"/>
                  </a:lnTo>
                  <a:lnTo>
                    <a:pt x="1499294" y="1417142"/>
                  </a:lnTo>
                  <a:lnTo>
                    <a:pt x="465534" y="1417142"/>
                  </a:lnTo>
                  <a:lnTo>
                    <a:pt x="465534" y="814686"/>
                  </a:lnTo>
                  <a:lnTo>
                    <a:pt x="355997" y="759917"/>
                  </a:lnTo>
                  <a:lnTo>
                    <a:pt x="513457" y="390228"/>
                  </a:lnTo>
                  <a:lnTo>
                    <a:pt x="664071" y="465535"/>
                  </a:lnTo>
                  <a:lnTo>
                    <a:pt x="985837" y="465535"/>
                  </a:lnTo>
                  <a:lnTo>
                    <a:pt x="972145" y="403920"/>
                  </a:lnTo>
                  <a:close/>
                  <a:moveTo>
                    <a:pt x="903684" y="20539"/>
                  </a:moveTo>
                  <a:lnTo>
                    <a:pt x="1067990" y="20539"/>
                  </a:lnTo>
                  <a:lnTo>
                    <a:pt x="1067990" y="171153"/>
                  </a:lnTo>
                  <a:lnTo>
                    <a:pt x="1334988" y="171153"/>
                  </a:lnTo>
                  <a:lnTo>
                    <a:pt x="1334988" y="41077"/>
                  </a:lnTo>
                  <a:lnTo>
                    <a:pt x="1499294" y="41077"/>
                  </a:lnTo>
                  <a:lnTo>
                    <a:pt x="1499294" y="314921"/>
                  </a:lnTo>
                  <a:lnTo>
                    <a:pt x="451842" y="314921"/>
                  </a:lnTo>
                  <a:lnTo>
                    <a:pt x="451842" y="41077"/>
                  </a:lnTo>
                  <a:lnTo>
                    <a:pt x="616148" y="41077"/>
                  </a:lnTo>
                  <a:lnTo>
                    <a:pt x="616148" y="171153"/>
                  </a:lnTo>
                  <a:lnTo>
                    <a:pt x="903684" y="171153"/>
                  </a:lnTo>
                  <a:close/>
                  <a:moveTo>
                    <a:pt x="1793676" y="13693"/>
                  </a:moveTo>
                  <a:lnTo>
                    <a:pt x="3231356" y="13693"/>
                  </a:lnTo>
                  <a:lnTo>
                    <a:pt x="3231356" y="157460"/>
                  </a:lnTo>
                  <a:lnTo>
                    <a:pt x="2847975" y="157460"/>
                  </a:lnTo>
                  <a:lnTo>
                    <a:pt x="2847975" y="705148"/>
                  </a:lnTo>
                  <a:lnTo>
                    <a:pt x="3197125" y="321767"/>
                  </a:lnTo>
                  <a:lnTo>
                    <a:pt x="3245048" y="479227"/>
                  </a:lnTo>
                  <a:lnTo>
                    <a:pt x="2847975" y="910531"/>
                  </a:lnTo>
                  <a:lnTo>
                    <a:pt x="2847975" y="1266528"/>
                  </a:lnTo>
                  <a:lnTo>
                    <a:pt x="3245048" y="1266528"/>
                  </a:lnTo>
                  <a:lnTo>
                    <a:pt x="3238202" y="1417142"/>
                  </a:lnTo>
                  <a:lnTo>
                    <a:pt x="2683668" y="1417142"/>
                  </a:lnTo>
                  <a:lnTo>
                    <a:pt x="2683668" y="157460"/>
                  </a:lnTo>
                  <a:lnTo>
                    <a:pt x="2245518" y="157460"/>
                  </a:lnTo>
                  <a:lnTo>
                    <a:pt x="2097056" y="383382"/>
                  </a:lnTo>
                  <a:lnTo>
                    <a:pt x="2444055" y="383382"/>
                  </a:lnTo>
                  <a:lnTo>
                    <a:pt x="2444055" y="807839"/>
                  </a:lnTo>
                  <a:lnTo>
                    <a:pt x="1916906" y="1417142"/>
                  </a:lnTo>
                  <a:lnTo>
                    <a:pt x="1759446" y="1382911"/>
                  </a:lnTo>
                  <a:lnTo>
                    <a:pt x="2026438" y="1063223"/>
                  </a:lnTo>
                  <a:lnTo>
                    <a:pt x="1759446" y="807839"/>
                  </a:lnTo>
                  <a:lnTo>
                    <a:pt x="1910060" y="746225"/>
                  </a:lnTo>
                  <a:lnTo>
                    <a:pt x="2121930" y="948883"/>
                  </a:lnTo>
                  <a:lnTo>
                    <a:pt x="2279749" y="759917"/>
                  </a:lnTo>
                  <a:lnTo>
                    <a:pt x="2279749" y="527150"/>
                  </a:lnTo>
                  <a:lnTo>
                    <a:pt x="2002580" y="527150"/>
                  </a:lnTo>
                  <a:lnTo>
                    <a:pt x="1930598" y="636687"/>
                  </a:lnTo>
                  <a:lnTo>
                    <a:pt x="1773138" y="602457"/>
                  </a:lnTo>
                  <a:lnTo>
                    <a:pt x="2067520" y="157460"/>
                  </a:lnTo>
                  <a:lnTo>
                    <a:pt x="1793676" y="157460"/>
                  </a:lnTo>
                  <a:close/>
                  <a:moveTo>
                    <a:pt x="198536" y="0"/>
                  </a:moveTo>
                  <a:lnTo>
                    <a:pt x="328612" y="95846"/>
                  </a:lnTo>
                  <a:lnTo>
                    <a:pt x="154074" y="643533"/>
                  </a:lnTo>
                  <a:lnTo>
                    <a:pt x="253305" y="643533"/>
                  </a:lnTo>
                  <a:lnTo>
                    <a:pt x="253305" y="1417142"/>
                  </a:lnTo>
                  <a:lnTo>
                    <a:pt x="82153" y="1417142"/>
                  </a:lnTo>
                  <a:lnTo>
                    <a:pt x="82153" y="683529"/>
                  </a:lnTo>
                  <a:lnTo>
                    <a:pt x="0" y="6229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8" name="Freeform 126"/>
          <p:cNvSpPr/>
          <p:nvPr/>
        </p:nvSpPr>
        <p:spPr>
          <a:xfrm>
            <a:off x="10105920" y="490680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Freeform 126"/>
          <p:cNvSpPr/>
          <p:nvPr/>
        </p:nvSpPr>
        <p:spPr>
          <a:xfrm>
            <a:off x="10202760" y="484488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126"/>
          <p:cNvSpPr/>
          <p:nvPr/>
        </p:nvSpPr>
        <p:spPr>
          <a:xfrm>
            <a:off x="10347480" y="4805280"/>
            <a:ext cx="15048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126"/>
          <p:cNvSpPr/>
          <p:nvPr/>
        </p:nvSpPr>
        <p:spPr>
          <a:xfrm>
            <a:off x="10244160" y="4984920"/>
            <a:ext cx="1490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126"/>
          <p:cNvSpPr/>
          <p:nvPr/>
        </p:nvSpPr>
        <p:spPr>
          <a:xfrm>
            <a:off x="10105920" y="49118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Freeform 126"/>
          <p:cNvSpPr/>
          <p:nvPr/>
        </p:nvSpPr>
        <p:spPr>
          <a:xfrm>
            <a:off x="10202760" y="4849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126"/>
          <p:cNvSpPr/>
          <p:nvPr/>
        </p:nvSpPr>
        <p:spPr>
          <a:xfrm>
            <a:off x="10347480" y="4809960"/>
            <a:ext cx="15048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126"/>
          <p:cNvSpPr/>
          <p:nvPr/>
        </p:nvSpPr>
        <p:spPr>
          <a:xfrm>
            <a:off x="10244160" y="4991040"/>
            <a:ext cx="1490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126"/>
          <p:cNvSpPr/>
          <p:nvPr/>
        </p:nvSpPr>
        <p:spPr>
          <a:xfrm>
            <a:off x="10120320" y="486900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Freeform 126"/>
          <p:cNvSpPr/>
          <p:nvPr/>
        </p:nvSpPr>
        <p:spPr>
          <a:xfrm>
            <a:off x="10220400" y="478620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126"/>
          <p:cNvSpPr/>
          <p:nvPr/>
        </p:nvSpPr>
        <p:spPr>
          <a:xfrm>
            <a:off x="10299600" y="470520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126"/>
          <p:cNvSpPr/>
          <p:nvPr/>
        </p:nvSpPr>
        <p:spPr>
          <a:xfrm>
            <a:off x="10263240" y="495144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126"/>
          <p:cNvSpPr/>
          <p:nvPr/>
        </p:nvSpPr>
        <p:spPr>
          <a:xfrm>
            <a:off x="10102680" y="4876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126"/>
          <p:cNvSpPr/>
          <p:nvPr/>
        </p:nvSpPr>
        <p:spPr>
          <a:xfrm>
            <a:off x="10199520" y="48164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6"/>
          <p:cNvSpPr/>
          <p:nvPr/>
        </p:nvSpPr>
        <p:spPr>
          <a:xfrm>
            <a:off x="10344240" y="477504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126"/>
          <p:cNvSpPr/>
          <p:nvPr/>
        </p:nvSpPr>
        <p:spPr>
          <a:xfrm>
            <a:off x="10239480" y="495612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126"/>
          <p:cNvSpPr/>
          <p:nvPr/>
        </p:nvSpPr>
        <p:spPr>
          <a:xfrm>
            <a:off x="10102680" y="488160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26"/>
          <p:cNvSpPr/>
          <p:nvPr/>
        </p:nvSpPr>
        <p:spPr>
          <a:xfrm>
            <a:off x="10199520" y="482112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26"/>
          <p:cNvSpPr/>
          <p:nvPr/>
        </p:nvSpPr>
        <p:spPr>
          <a:xfrm>
            <a:off x="10344240" y="47815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26"/>
          <p:cNvSpPr/>
          <p:nvPr/>
        </p:nvSpPr>
        <p:spPr>
          <a:xfrm>
            <a:off x="10239480" y="496080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26"/>
          <p:cNvSpPr/>
          <p:nvPr/>
        </p:nvSpPr>
        <p:spPr>
          <a:xfrm>
            <a:off x="10117080" y="484020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Freeform 126"/>
          <p:cNvSpPr/>
          <p:nvPr/>
        </p:nvSpPr>
        <p:spPr>
          <a:xfrm>
            <a:off x="10217160" y="475776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126"/>
          <p:cNvSpPr/>
          <p:nvPr/>
        </p:nvSpPr>
        <p:spPr>
          <a:xfrm>
            <a:off x="10296360" y="46753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reeform 126"/>
          <p:cNvSpPr/>
          <p:nvPr/>
        </p:nvSpPr>
        <p:spPr>
          <a:xfrm>
            <a:off x="10260000" y="492300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Freeform 126"/>
          <p:cNvSpPr/>
          <p:nvPr/>
        </p:nvSpPr>
        <p:spPr>
          <a:xfrm>
            <a:off x="10101240" y="488484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reeform 126"/>
          <p:cNvSpPr/>
          <p:nvPr/>
        </p:nvSpPr>
        <p:spPr>
          <a:xfrm>
            <a:off x="10198080" y="482292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Freeform 126"/>
          <p:cNvSpPr/>
          <p:nvPr/>
        </p:nvSpPr>
        <p:spPr>
          <a:xfrm>
            <a:off x="10342440" y="478296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6"/>
          <p:cNvSpPr/>
          <p:nvPr/>
        </p:nvSpPr>
        <p:spPr>
          <a:xfrm>
            <a:off x="10239480" y="496404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6"/>
          <p:cNvSpPr/>
          <p:nvPr/>
        </p:nvSpPr>
        <p:spPr>
          <a:xfrm>
            <a:off x="10101240" y="48895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126"/>
          <p:cNvSpPr/>
          <p:nvPr/>
        </p:nvSpPr>
        <p:spPr>
          <a:xfrm>
            <a:off x="10198080" y="482904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126"/>
          <p:cNvSpPr/>
          <p:nvPr/>
        </p:nvSpPr>
        <p:spPr>
          <a:xfrm>
            <a:off x="10342440" y="4788000"/>
            <a:ext cx="150840" cy="18864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126"/>
          <p:cNvSpPr/>
          <p:nvPr/>
        </p:nvSpPr>
        <p:spPr>
          <a:xfrm>
            <a:off x="10239480" y="4968720"/>
            <a:ext cx="150840" cy="18756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126"/>
          <p:cNvSpPr/>
          <p:nvPr/>
        </p:nvSpPr>
        <p:spPr>
          <a:xfrm>
            <a:off x="10117080" y="4846680"/>
            <a:ext cx="150840" cy="1890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Freeform 126"/>
          <p:cNvSpPr/>
          <p:nvPr/>
        </p:nvSpPr>
        <p:spPr>
          <a:xfrm>
            <a:off x="10215720" y="4765680"/>
            <a:ext cx="15048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126"/>
          <p:cNvSpPr/>
          <p:nvPr/>
        </p:nvSpPr>
        <p:spPr>
          <a:xfrm>
            <a:off x="10296360" y="4683240"/>
            <a:ext cx="14940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126"/>
          <p:cNvSpPr/>
          <p:nvPr/>
        </p:nvSpPr>
        <p:spPr>
          <a:xfrm>
            <a:off x="10258560" y="4930920"/>
            <a:ext cx="150840" cy="187200"/>
          </a:xfrm>
          <a:custGeom>
            <a:avLst/>
            <a:gdLst/>
            <a:ahLst/>
            <a:rect l="l" t="t" r="r" b="b"/>
            <a:pathLst>
              <a:path w="86" h="108">
                <a:moveTo>
                  <a:pt x="66" y="0"/>
                </a:moveTo>
                <a:cubicBezTo>
                  <a:pt x="66" y="0"/>
                  <a:pt x="0" y="78"/>
                  <a:pt x="43" y="93"/>
                </a:cubicBezTo>
                <a:cubicBezTo>
                  <a:pt x="86" y="108"/>
                  <a:pt x="73" y="45"/>
                  <a:pt x="6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6000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355" dur="3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95833E-006 7.40741E-007 L 3.95833E-006 0.05046 E">
                                      <p:cBhvr>
                                        <p:cTn id="360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4.44444E-006 L 2.29167E-006 0.05047 E">
                                      <p:cBhvr>
                                        <p:cTn id="368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2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25E-006 -1.48148E-006 L 1.25E-006 0.05046 E">
                                      <p:cBhvr>
                                        <p:cTn id="376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2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16667E-006 -3.33333E-006 L -4.16667E-006 0.05047 E">
                                      <p:cBhvr>
                                        <p:cTn id="384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95833E-006 -3.7037E-006 L 3.95833E-006 0.05047 E">
                                      <p:cBhvr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2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29167E-006 1.11111E-006 L 2.29167E-006 0.05046 E">
                                      <p:cBhvr>
                                        <p:cTn id="400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25E-006 2.59259E-006 L 1.25E-006 0.05046 E">
                                      <p:cBhvr>
                                        <p:cTn id="408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16667E-006 2.22222E-006 L -4.16667E-006 0.05046 E">
                                      <p:cBhvr>
                                        <p:cTn id="416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875E-006 -3.7037E-006 L 1.875E-006 0.05047 E">
                                      <p:cBhvr>
                                        <p:cTn id="424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45833E-006 -1.11111E-006 L -1.45833E-006 0.05046 E">
                                      <p:cBhvr>
                                        <p:cTn id="432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2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1.04167E-006 1.85185E-006 L -1.04167E-006 0.05046 E">
                                      <p:cBhvr>
                                        <p:cTn id="440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33333E-006 -2.22222E-006 L 3.33333E-006 0.05047 E">
                                      <p:cBhvr>
                                        <p:cTn id="448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3.95833E-006 3.33333E-006 L 3.95833E-006 0.05046 E">
                                      <p:cBhvr>
                                        <p:cTn id="456" dur="5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2.29167E-006 -1.85185E-006 L 2.29167E-006 0.05046 E">
                                      <p:cBhvr>
                                        <p:cTn id="464" dur="500" fill="hold"/>
                                        <p:tgtEl>
                                          <p:spTgt spid="8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2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1.25E-006 1.11111E-006 L 1.25E-006 0.05046 E">
                                      <p:cBhvr>
                                        <p:cTn id="472" dur="5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16667E-006 7.40741E-007 L -4.16667E-006 0.05046 E">
                                      <p:cBhvr>
                                        <p:cTn id="480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3.95833E-006 -1.11111E-006 L 3.95833E-006 0.05046 E">
                                      <p:cBhvr>
                                        <p:cTn id="488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2.29167E-006 3.7037E-006 L 2.29167E-006 0.05046 E">
                                      <p:cBhvr>
                                        <p:cTn id="496" dur="5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42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1.25E-006 -3.33333E-006 L 1.25E-006 0.05047 E">
                                      <p:cBhvr>
                                        <p:cTn id="504" dur="5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16667E-006 4.81481E-006 L -4.16667E-006 0.05046 E">
                                      <p:cBhvr>
                                        <p:cTn id="512" dur="5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2.08333E-006 -1.11111E-006 L 2.08333E-006 0.05046 E">
                                      <p:cBhvr>
                                        <p:cTn id="520" dur="5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-1.45833E-006 1.48148E-006 L -1.45833E-006 0.05046 E">
                                      <p:cBhvr>
                                        <p:cTn id="528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2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1.04167E-006 -4.07407E-006 L -1.04167E-006 0.05047 E">
                                      <p:cBhvr>
                                        <p:cTn id="536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2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33333E-006 1.85185E-006 L 3.33333E-006 0.05046 E">
                                      <p:cBhvr>
                                        <p:cTn id="544" dur="5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42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4.375E-006 1.48148E-006 L 4.375E-006 0.05046 E">
                                      <p:cBhvr>
                                        <p:cTn id="552" dur="500" fill="hold"/>
                                        <p:tgtEl>
                                          <p:spTgt spid="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path" presetID="42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2.70833E-006 -3.7037E-006 L 2.70833E-006 0.05047 E">
                                      <p:cBhvr>
                                        <p:cTn id="560" dur="500" fill="hold"/>
                                        <p:tgtEl>
                                          <p:spTgt spid="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1.66667E-006 -2.22222E-006 L 1.66667E-006 0.05047 E">
                                      <p:cBhvr>
                                        <p:cTn id="568" dur="5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path" presetID="42">
                                  <p:stCondLst>
                                    <p:cond delay="6400"/>
                                  </p:stCondLst>
                                  <p:childTnLst>
                                    <p:animMotion origin="layout" path="M -3.54167E-006 -2.59259E-006 L -3.54167E-006 0.05047 E">
                                      <p:cBhvr>
                                        <p:cTn id="576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4.375E-006 -2.96296E-006 L 4.375E-006 0.05047 E">
                                      <p:cBhvr>
                                        <p:cTn id="584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70833E-006 3.7037E-007 L 2.70833E-006 0.05046 E">
                                      <p:cBhvr>
                                        <p:cTn id="592" dur="5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1.66667E-006 3.33333E-006 L 1.66667E-006 0.05046 E">
                                      <p:cBhvr>
                                        <p:cTn id="600" dur="500" fill="hold"/>
                                        <p:tgtEl>
                                          <p:spTgt spid="8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2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42">
                                  <p:stCondLst>
                                    <p:cond delay="7400"/>
                                  </p:stCondLst>
                                  <p:childTnLst>
                                    <p:animMotion origin="layout" path="M -3.54167E-006 2.96296E-006 L -3.54167E-006 0.05046 E">
                                      <p:cBhvr>
                                        <p:cTn id="608" dur="5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2.5E-006 -4.44444E-006 L 2.5E-006 0.05047 E">
                                      <p:cBhvr>
                                        <p:cTn id="616" dur="5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1.04167E-006 -3.7037E-007 L -1.04167E-006 0.05046 E">
                                      <p:cBhvr>
                                        <p:cTn id="624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1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path" presetID="42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6.25E-007 2.59259E-006 L -6.25E-007 0.05046 E">
                                      <p:cBhvr>
                                        <p:cTn id="63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2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path" presetID="42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3.75E-006 -1.48148E-006 L 3.75E-006 0.05046 E">
                                      <p:cBhvr>
                                        <p:cTn id="640" dur="5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2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4.58333E-006 4.07407E-006 L 4.58333E-006 0.05046 E">
                                      <p:cBhvr>
                                        <p:cTn id="648" dur="5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91667E-006 -1.11111E-006 L 2.91667E-006 0.05046 E">
                                      <p:cBhvr>
                                        <p:cTn id="656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42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1.875E-006 1.85185E-006 L 1.875E-006 0.05046 E">
                                      <p:cBhvr>
                                        <p:cTn id="664" dur="500" fill="hold"/>
                                        <p:tgtEl>
                                          <p:spTgt spid="9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xit" presetID="10">
                                  <p:stCondLst>
                                    <p:cond delay="9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0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42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3.54167E-006 0 L -3.54167E-006 0.05046 E">
                                      <p:cBhvr>
                                        <p:cTn id="672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2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42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4.58333E-006 -3.7037E-007 L 4.58333E-006 0.05046 E">
                                      <p:cBhvr>
                                        <p:cTn id="680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42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2.91667E-006 4.44444E-006 L 2.91667E-006 0.05046 E">
                                      <p:cBhvr>
                                        <p:cTn id="688" dur="500" fill="hold"/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2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path" presetID="42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1.875E-006 -4.07407E-006 L 1.875E-006 0.05047 E">
                                      <p:cBhvr>
                                        <p:cTn id="696" dur="500" fill="hold"/>
                                        <p:tgtEl>
                                          <p:spTgt spid="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xit" presetID="10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8" dur="2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10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path" presetID="42">
                                  <p:stCondLst>
                                    <p:cond delay="10300"/>
                                  </p:stCondLst>
                                  <p:childTnLst>
                                    <p:animMotion origin="layout" path="M -3.54167E-006 -4.44444E-006 L -3.54167E-006 0.05047 E">
                                      <p:cBhvr>
                                        <p:cTn id="70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xit" presetID="10">
                                  <p:stCondLst>
                                    <p:cond delay="1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path" presetID="42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2.5E-006 -3.7037E-007 L 2.5E-006 0.05046 E">
                                      <p:cBhvr>
                                        <p:cTn id="712" dur="500" fill="hold"/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10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42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1.04167E-006 2.22222E-006 L -1.04167E-006 0.05046 E">
                                      <p:cBhvr>
                                        <p:cTn id="720" dur="5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path" presetID="42">
                                  <p:stCondLst>
                                    <p:cond delay="11000"/>
                                  </p:stCondLst>
                                  <p:childTnLst>
                                    <p:animMotion origin="layout" path="M -4.16667E-007 -4.81481E-006 L -4.16667E-007 0.05047 E">
                                      <p:cBhvr>
                                        <p:cTn id="72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xit" presetID="10">
                                  <p:stCondLst>
                                    <p:cond delay="1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2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path" presetID="42">
                                  <p:stCondLst>
                                    <p:cond delay="11300"/>
                                  </p:stCondLst>
                                  <p:childTnLst>
                                    <p:animMotion origin="layout" path="M 3.95833E-006 1.11111E-006 L 3.95833E-006 0.05046 E">
                                      <p:cBhvr>
                                        <p:cTn id="736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10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8" dur="2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457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a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64"/>
          <p:cNvSpPr/>
          <p:nvPr/>
        </p:nvSpPr>
        <p:spPr>
          <a:xfrm>
            <a:off x="1125360" y="976320"/>
            <a:ext cx="1319400" cy="407880"/>
          </a:xfrm>
          <a:custGeom>
            <a:avLst/>
            <a:gdLst/>
            <a:ahLst/>
            <a:rect l="l" t="t" r="r" b="b"/>
            <a:pathLst>
              <a:path w="1319249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01762" y="17748"/>
                </a:moveTo>
                <a:lnTo>
                  <a:pt x="1319249" y="17748"/>
                </a:lnTo>
                <a:cubicBezTo>
                  <a:pt x="1289013" y="79536"/>
                  <a:pt x="1260090" y="140668"/>
                  <a:pt x="1232483" y="201141"/>
                </a:cubicBezTo>
                <a:cubicBezTo>
                  <a:pt x="1204875" y="261615"/>
                  <a:pt x="1175953" y="322746"/>
                  <a:pt x="1145716" y="384535"/>
                </a:cubicBezTo>
                <a:lnTo>
                  <a:pt x="1090501" y="384535"/>
                </a:lnTo>
                <a:lnTo>
                  <a:pt x="1242343" y="61131"/>
                </a:lnTo>
                <a:lnTo>
                  <a:pt x="1001762" y="61131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63"/>
          <p:cNvSpPr/>
          <p:nvPr/>
        </p:nvSpPr>
        <p:spPr>
          <a:xfrm>
            <a:off x="1130400" y="1797120"/>
            <a:ext cx="2944800" cy="415800"/>
          </a:xfrm>
          <a:custGeom>
            <a:avLst/>
            <a:gdLst/>
            <a:ahLst/>
            <a:rect l="l" t="t" r="r" b="b"/>
            <a:pathLst>
              <a:path w="2944490" h="416087">
                <a:moveTo>
                  <a:pt x="2203028" y="295796"/>
                </a:moveTo>
                <a:lnTo>
                  <a:pt x="2254299" y="386507"/>
                </a:lnTo>
                <a:lnTo>
                  <a:pt x="2216832" y="416087"/>
                </a:lnTo>
                <a:lnTo>
                  <a:pt x="2165560" y="325376"/>
                </a:lnTo>
                <a:close/>
                <a:moveTo>
                  <a:pt x="2674329" y="222833"/>
                </a:moveTo>
                <a:lnTo>
                  <a:pt x="2658554" y="370731"/>
                </a:lnTo>
                <a:lnTo>
                  <a:pt x="2863639" y="370731"/>
                </a:lnTo>
                <a:lnTo>
                  <a:pt x="2871527" y="222833"/>
                </a:lnTo>
                <a:close/>
                <a:moveTo>
                  <a:pt x="1031676" y="159730"/>
                </a:moveTo>
                <a:lnTo>
                  <a:pt x="1171686" y="211001"/>
                </a:lnTo>
                <a:lnTo>
                  <a:pt x="1142107" y="240581"/>
                </a:lnTo>
                <a:lnTo>
                  <a:pt x="1002097" y="191282"/>
                </a:lnTo>
                <a:close/>
                <a:moveTo>
                  <a:pt x="1258453" y="118319"/>
                </a:moveTo>
                <a:lnTo>
                  <a:pt x="1307752" y="118319"/>
                </a:lnTo>
                <a:lnTo>
                  <a:pt x="1307752" y="260301"/>
                </a:lnTo>
                <a:lnTo>
                  <a:pt x="1418183" y="260301"/>
                </a:lnTo>
                <a:lnTo>
                  <a:pt x="1418183" y="303684"/>
                </a:lnTo>
                <a:lnTo>
                  <a:pt x="1305780" y="303684"/>
                </a:lnTo>
                <a:lnTo>
                  <a:pt x="1305780" y="325376"/>
                </a:lnTo>
                <a:lnTo>
                  <a:pt x="1426071" y="382563"/>
                </a:lnTo>
                <a:lnTo>
                  <a:pt x="1398463" y="416087"/>
                </a:lnTo>
                <a:lnTo>
                  <a:pt x="1276201" y="362843"/>
                </a:lnTo>
                <a:lnTo>
                  <a:pt x="1019844" y="416087"/>
                </a:lnTo>
                <a:lnTo>
                  <a:pt x="1002097" y="378619"/>
                </a:lnTo>
                <a:lnTo>
                  <a:pt x="1256481" y="323404"/>
                </a:lnTo>
                <a:lnTo>
                  <a:pt x="1256481" y="303684"/>
                </a:lnTo>
                <a:lnTo>
                  <a:pt x="1006041" y="303684"/>
                </a:lnTo>
                <a:lnTo>
                  <a:pt x="1006041" y="260301"/>
                </a:lnTo>
                <a:lnTo>
                  <a:pt x="1258453" y="260301"/>
                </a:lnTo>
                <a:close/>
                <a:moveTo>
                  <a:pt x="394171" y="114375"/>
                </a:moveTo>
                <a:lnTo>
                  <a:pt x="394171" y="216917"/>
                </a:lnTo>
                <a:lnTo>
                  <a:pt x="559817" y="216917"/>
                </a:lnTo>
                <a:lnTo>
                  <a:pt x="559817" y="114375"/>
                </a:lnTo>
                <a:close/>
                <a:moveTo>
                  <a:pt x="51271" y="114375"/>
                </a:moveTo>
                <a:lnTo>
                  <a:pt x="51271" y="216917"/>
                </a:lnTo>
                <a:lnTo>
                  <a:pt x="216917" y="216917"/>
                </a:lnTo>
                <a:lnTo>
                  <a:pt x="216917" y="114375"/>
                </a:lnTo>
                <a:close/>
                <a:moveTo>
                  <a:pt x="1747502" y="112403"/>
                </a:moveTo>
                <a:lnTo>
                  <a:pt x="1796802" y="112403"/>
                </a:lnTo>
                <a:lnTo>
                  <a:pt x="1796802" y="199170"/>
                </a:lnTo>
                <a:lnTo>
                  <a:pt x="1924980" y="199170"/>
                </a:lnTo>
                <a:lnTo>
                  <a:pt x="1924980" y="242553"/>
                </a:lnTo>
                <a:lnTo>
                  <a:pt x="1796802" y="242553"/>
                </a:lnTo>
                <a:lnTo>
                  <a:pt x="1796802" y="372703"/>
                </a:lnTo>
                <a:lnTo>
                  <a:pt x="1932868" y="372703"/>
                </a:lnTo>
                <a:lnTo>
                  <a:pt x="1932868" y="416087"/>
                </a:lnTo>
                <a:lnTo>
                  <a:pt x="1607492" y="416087"/>
                </a:lnTo>
                <a:lnTo>
                  <a:pt x="1607492" y="372703"/>
                </a:lnTo>
                <a:lnTo>
                  <a:pt x="1747502" y="372703"/>
                </a:lnTo>
                <a:lnTo>
                  <a:pt x="1747502" y="242553"/>
                </a:lnTo>
                <a:lnTo>
                  <a:pt x="1621296" y="242553"/>
                </a:lnTo>
                <a:lnTo>
                  <a:pt x="1621296" y="199170"/>
                </a:lnTo>
                <a:lnTo>
                  <a:pt x="1747502" y="199170"/>
                </a:lnTo>
                <a:close/>
                <a:moveTo>
                  <a:pt x="1106611" y="100571"/>
                </a:moveTo>
                <a:lnTo>
                  <a:pt x="1246621" y="153814"/>
                </a:lnTo>
                <a:lnTo>
                  <a:pt x="1219014" y="185366"/>
                </a:lnTo>
                <a:lnTo>
                  <a:pt x="1079004" y="130151"/>
                </a:lnTo>
                <a:close/>
                <a:moveTo>
                  <a:pt x="666080" y="69019"/>
                </a:moveTo>
                <a:lnTo>
                  <a:pt x="940184" y="69019"/>
                </a:lnTo>
                <a:lnTo>
                  <a:pt x="940184" y="112403"/>
                </a:lnTo>
                <a:lnTo>
                  <a:pt x="827782" y="112403"/>
                </a:lnTo>
                <a:lnTo>
                  <a:pt x="827782" y="386507"/>
                </a:lnTo>
                <a:lnTo>
                  <a:pt x="778482" y="386507"/>
                </a:lnTo>
                <a:lnTo>
                  <a:pt x="778482" y="112403"/>
                </a:lnTo>
                <a:lnTo>
                  <a:pt x="666080" y="112403"/>
                </a:lnTo>
                <a:close/>
                <a:moveTo>
                  <a:pt x="342900" y="69019"/>
                </a:moveTo>
                <a:lnTo>
                  <a:pt x="611088" y="69019"/>
                </a:lnTo>
                <a:lnTo>
                  <a:pt x="611088" y="262273"/>
                </a:lnTo>
                <a:lnTo>
                  <a:pt x="394171" y="262273"/>
                </a:lnTo>
                <a:lnTo>
                  <a:pt x="394171" y="386507"/>
                </a:lnTo>
                <a:lnTo>
                  <a:pt x="342900" y="386507"/>
                </a:lnTo>
                <a:close/>
                <a:moveTo>
                  <a:pt x="0" y="69019"/>
                </a:moveTo>
                <a:lnTo>
                  <a:pt x="268188" y="69019"/>
                </a:lnTo>
                <a:lnTo>
                  <a:pt x="268188" y="262273"/>
                </a:lnTo>
                <a:lnTo>
                  <a:pt x="51271" y="262273"/>
                </a:lnTo>
                <a:lnTo>
                  <a:pt x="51271" y="386507"/>
                </a:lnTo>
                <a:lnTo>
                  <a:pt x="0" y="386507"/>
                </a:lnTo>
                <a:close/>
                <a:moveTo>
                  <a:pt x="2692077" y="55216"/>
                </a:moveTo>
                <a:lnTo>
                  <a:pt x="2680245" y="179450"/>
                </a:lnTo>
                <a:lnTo>
                  <a:pt x="2873499" y="179450"/>
                </a:lnTo>
                <a:lnTo>
                  <a:pt x="2881387" y="55216"/>
                </a:lnTo>
                <a:close/>
                <a:moveTo>
                  <a:pt x="2532347" y="13804"/>
                </a:moveTo>
                <a:lnTo>
                  <a:pt x="2934630" y="13804"/>
                </a:lnTo>
                <a:lnTo>
                  <a:pt x="2914910" y="370731"/>
                </a:lnTo>
                <a:lnTo>
                  <a:pt x="2944490" y="370731"/>
                </a:lnTo>
                <a:lnTo>
                  <a:pt x="2944490" y="416087"/>
                </a:lnTo>
                <a:lnTo>
                  <a:pt x="2512628" y="416087"/>
                </a:lnTo>
                <a:lnTo>
                  <a:pt x="2512628" y="370731"/>
                </a:lnTo>
                <a:lnTo>
                  <a:pt x="2607282" y="370731"/>
                </a:lnTo>
                <a:lnTo>
                  <a:pt x="2623058" y="222833"/>
                </a:lnTo>
                <a:lnTo>
                  <a:pt x="2536291" y="222833"/>
                </a:lnTo>
                <a:lnTo>
                  <a:pt x="2536291" y="179450"/>
                </a:lnTo>
                <a:lnTo>
                  <a:pt x="2628974" y="179450"/>
                </a:lnTo>
                <a:lnTo>
                  <a:pt x="2640806" y="55216"/>
                </a:lnTo>
                <a:lnTo>
                  <a:pt x="2532347" y="55216"/>
                </a:lnTo>
                <a:close/>
                <a:moveTo>
                  <a:pt x="2195140" y="7888"/>
                </a:moveTo>
                <a:lnTo>
                  <a:pt x="2246411" y="7888"/>
                </a:lnTo>
                <a:lnTo>
                  <a:pt x="2246411" y="88739"/>
                </a:lnTo>
                <a:lnTo>
                  <a:pt x="2429805" y="88739"/>
                </a:lnTo>
                <a:lnTo>
                  <a:pt x="2429805" y="134095"/>
                </a:lnTo>
                <a:lnTo>
                  <a:pt x="2246411" y="134095"/>
                </a:lnTo>
                <a:lnTo>
                  <a:pt x="2246411" y="195226"/>
                </a:lnTo>
                <a:lnTo>
                  <a:pt x="2435721" y="384535"/>
                </a:lnTo>
                <a:lnTo>
                  <a:pt x="2398253" y="416087"/>
                </a:lnTo>
                <a:lnTo>
                  <a:pt x="2220776" y="238609"/>
                </a:lnTo>
                <a:lnTo>
                  <a:pt x="2045270" y="416087"/>
                </a:lnTo>
                <a:lnTo>
                  <a:pt x="2009775" y="386507"/>
                </a:lnTo>
                <a:lnTo>
                  <a:pt x="2195140" y="195226"/>
                </a:lnTo>
                <a:lnTo>
                  <a:pt x="2195140" y="134095"/>
                </a:lnTo>
                <a:lnTo>
                  <a:pt x="2015691" y="134095"/>
                </a:lnTo>
                <a:lnTo>
                  <a:pt x="2015691" y="88739"/>
                </a:lnTo>
                <a:lnTo>
                  <a:pt x="2195140" y="88739"/>
                </a:lnTo>
                <a:close/>
                <a:moveTo>
                  <a:pt x="1639044" y="0"/>
                </a:moveTo>
                <a:lnTo>
                  <a:pt x="1686371" y="13804"/>
                </a:lnTo>
                <a:lnTo>
                  <a:pt x="1673593" y="31552"/>
                </a:lnTo>
                <a:lnTo>
                  <a:pt x="1932868" y="31552"/>
                </a:lnTo>
                <a:lnTo>
                  <a:pt x="1932868" y="74935"/>
                </a:lnTo>
                <a:lnTo>
                  <a:pt x="1642357" y="74935"/>
                </a:lnTo>
                <a:lnTo>
                  <a:pt x="1570025" y="175396"/>
                </a:lnTo>
                <a:lnTo>
                  <a:pt x="1570025" y="416087"/>
                </a:lnTo>
                <a:lnTo>
                  <a:pt x="1520725" y="416087"/>
                </a:lnTo>
                <a:lnTo>
                  <a:pt x="1520725" y="202771"/>
                </a:lnTo>
                <a:lnTo>
                  <a:pt x="1499034" y="195226"/>
                </a:lnTo>
                <a:lnTo>
                  <a:pt x="1585303" y="74935"/>
                </a:lnTo>
                <a:lnTo>
                  <a:pt x="1510866" y="74935"/>
                </a:lnTo>
                <a:lnTo>
                  <a:pt x="1510866" y="31552"/>
                </a:lnTo>
                <a:lnTo>
                  <a:pt x="1616416" y="31552"/>
                </a:lnTo>
                <a:close/>
                <a:moveTo>
                  <a:pt x="1242677" y="0"/>
                </a:moveTo>
                <a:lnTo>
                  <a:pt x="1250565" y="23664"/>
                </a:lnTo>
                <a:lnTo>
                  <a:pt x="1422127" y="23664"/>
                </a:lnTo>
                <a:lnTo>
                  <a:pt x="1422127" y="118319"/>
                </a:lnTo>
                <a:lnTo>
                  <a:pt x="1372828" y="118319"/>
                </a:lnTo>
                <a:lnTo>
                  <a:pt x="1372828" y="67047"/>
                </a:lnTo>
                <a:lnTo>
                  <a:pt x="1051396" y="67047"/>
                </a:lnTo>
                <a:lnTo>
                  <a:pt x="1051396" y="118319"/>
                </a:lnTo>
                <a:lnTo>
                  <a:pt x="1004069" y="118319"/>
                </a:lnTo>
                <a:lnTo>
                  <a:pt x="1004069" y="23664"/>
                </a:lnTo>
                <a:lnTo>
                  <a:pt x="1197322" y="23664"/>
                </a:lnTo>
                <a:lnTo>
                  <a:pt x="1189434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组合 177"/>
          <p:cNvGrpSpPr/>
          <p:nvPr/>
        </p:nvGrpSpPr>
        <p:grpSpPr>
          <a:xfrm>
            <a:off x="1100160" y="2627280"/>
            <a:ext cx="3268800" cy="1482840"/>
            <a:chOff x="1100160" y="2627280"/>
            <a:chExt cx="3268800" cy="1482840"/>
          </a:xfrm>
        </p:grpSpPr>
        <p:sp>
          <p:nvSpPr>
            <p:cNvPr id="918" name="文本框 462"/>
            <p:cNvSpPr/>
            <p:nvPr/>
          </p:nvSpPr>
          <p:spPr>
            <a:xfrm>
              <a:off x="1158840" y="2665080"/>
              <a:ext cx="3210120" cy="1445040"/>
            </a:xfrm>
            <a:custGeom>
              <a:avLst/>
              <a:gdLst/>
              <a:ahLst/>
              <a:rect l="l" t="t" r="r" b="b"/>
              <a:pathLst>
                <a:path w="3210818" h="1444526">
                  <a:moveTo>
                    <a:pt x="687428" y="1204913"/>
                  </a:moveTo>
                  <a:lnTo>
                    <a:pt x="658635" y="1293912"/>
                  </a:lnTo>
                  <a:lnTo>
                    <a:pt x="1198067" y="1293912"/>
                  </a:lnTo>
                  <a:lnTo>
                    <a:pt x="1210781" y="1204913"/>
                  </a:lnTo>
                  <a:close/>
                  <a:moveTo>
                    <a:pt x="767165" y="958453"/>
                  </a:moveTo>
                  <a:lnTo>
                    <a:pt x="733942" y="1061145"/>
                  </a:lnTo>
                  <a:lnTo>
                    <a:pt x="1231319" y="1061145"/>
                  </a:lnTo>
                  <a:lnTo>
                    <a:pt x="1245989" y="958453"/>
                  </a:lnTo>
                  <a:close/>
                  <a:moveTo>
                    <a:pt x="1759446" y="41077"/>
                  </a:moveTo>
                  <a:lnTo>
                    <a:pt x="3197126" y="41077"/>
                  </a:lnTo>
                  <a:lnTo>
                    <a:pt x="3197126" y="184844"/>
                  </a:lnTo>
                  <a:lnTo>
                    <a:pt x="2813745" y="184844"/>
                  </a:lnTo>
                  <a:lnTo>
                    <a:pt x="2813745" y="732532"/>
                  </a:lnTo>
                  <a:lnTo>
                    <a:pt x="3162895" y="349151"/>
                  </a:lnTo>
                  <a:lnTo>
                    <a:pt x="3210818" y="506611"/>
                  </a:lnTo>
                  <a:lnTo>
                    <a:pt x="2813745" y="937915"/>
                  </a:lnTo>
                  <a:lnTo>
                    <a:pt x="2813745" y="1293912"/>
                  </a:lnTo>
                  <a:lnTo>
                    <a:pt x="3210818" y="1293912"/>
                  </a:lnTo>
                  <a:lnTo>
                    <a:pt x="3203972" y="1444526"/>
                  </a:lnTo>
                  <a:lnTo>
                    <a:pt x="2649438" y="1444526"/>
                  </a:lnTo>
                  <a:lnTo>
                    <a:pt x="2649438" y="184844"/>
                  </a:lnTo>
                  <a:lnTo>
                    <a:pt x="2211288" y="184844"/>
                  </a:lnTo>
                  <a:lnTo>
                    <a:pt x="2062826" y="410766"/>
                  </a:lnTo>
                  <a:lnTo>
                    <a:pt x="2409825" y="410766"/>
                  </a:lnTo>
                  <a:lnTo>
                    <a:pt x="2409825" y="835223"/>
                  </a:lnTo>
                  <a:lnTo>
                    <a:pt x="1882676" y="1444526"/>
                  </a:lnTo>
                  <a:lnTo>
                    <a:pt x="1725216" y="1410295"/>
                  </a:lnTo>
                  <a:lnTo>
                    <a:pt x="1992208" y="1090607"/>
                  </a:lnTo>
                  <a:lnTo>
                    <a:pt x="1725216" y="835223"/>
                  </a:lnTo>
                  <a:lnTo>
                    <a:pt x="1875830" y="773609"/>
                  </a:lnTo>
                  <a:lnTo>
                    <a:pt x="2087700" y="976267"/>
                  </a:lnTo>
                  <a:lnTo>
                    <a:pt x="2245519" y="787301"/>
                  </a:lnTo>
                  <a:lnTo>
                    <a:pt x="2245519" y="554534"/>
                  </a:lnTo>
                  <a:lnTo>
                    <a:pt x="1968350" y="554534"/>
                  </a:lnTo>
                  <a:lnTo>
                    <a:pt x="1896368" y="664071"/>
                  </a:lnTo>
                  <a:lnTo>
                    <a:pt x="1738908" y="629841"/>
                  </a:lnTo>
                  <a:lnTo>
                    <a:pt x="2033290" y="184844"/>
                  </a:lnTo>
                  <a:lnTo>
                    <a:pt x="1759446" y="184844"/>
                  </a:lnTo>
                  <a:close/>
                  <a:moveTo>
                    <a:pt x="472381" y="0"/>
                  </a:moveTo>
                  <a:lnTo>
                    <a:pt x="513457" y="95845"/>
                  </a:lnTo>
                  <a:lnTo>
                    <a:pt x="965299" y="95845"/>
                  </a:lnTo>
                  <a:lnTo>
                    <a:pt x="1013222" y="0"/>
                  </a:lnTo>
                  <a:lnTo>
                    <a:pt x="1184374" y="34230"/>
                  </a:lnTo>
                  <a:lnTo>
                    <a:pt x="1156990" y="95845"/>
                  </a:lnTo>
                  <a:lnTo>
                    <a:pt x="1458218" y="95845"/>
                  </a:lnTo>
                  <a:lnTo>
                    <a:pt x="1458218" y="239613"/>
                  </a:lnTo>
                  <a:lnTo>
                    <a:pt x="644552" y="239613"/>
                  </a:lnTo>
                  <a:lnTo>
                    <a:pt x="596581" y="328612"/>
                  </a:lnTo>
                  <a:lnTo>
                    <a:pt x="1410296" y="328612"/>
                  </a:lnTo>
                  <a:lnTo>
                    <a:pt x="1410296" y="479227"/>
                  </a:lnTo>
                  <a:lnTo>
                    <a:pt x="515399" y="479227"/>
                  </a:lnTo>
                  <a:lnTo>
                    <a:pt x="467428" y="568226"/>
                  </a:lnTo>
                  <a:lnTo>
                    <a:pt x="1458218" y="568226"/>
                  </a:lnTo>
                  <a:lnTo>
                    <a:pt x="1458218" y="718840"/>
                  </a:lnTo>
                  <a:lnTo>
                    <a:pt x="386246" y="718840"/>
                  </a:lnTo>
                  <a:lnTo>
                    <a:pt x="334585" y="814685"/>
                  </a:lnTo>
                  <a:lnTo>
                    <a:pt x="1437680" y="814685"/>
                  </a:lnTo>
                  <a:lnTo>
                    <a:pt x="1376065" y="1293912"/>
                  </a:lnTo>
                  <a:lnTo>
                    <a:pt x="1458218" y="1293912"/>
                  </a:lnTo>
                  <a:lnTo>
                    <a:pt x="1458218" y="1444526"/>
                  </a:lnTo>
                  <a:lnTo>
                    <a:pt x="13692" y="1444526"/>
                  </a:lnTo>
                  <a:lnTo>
                    <a:pt x="13692" y="1293912"/>
                  </a:lnTo>
                  <a:lnTo>
                    <a:pt x="481945" y="1293912"/>
                  </a:lnTo>
                  <a:lnTo>
                    <a:pt x="512048" y="1204913"/>
                  </a:lnTo>
                  <a:lnTo>
                    <a:pt x="266998" y="1204913"/>
                  </a:lnTo>
                  <a:lnTo>
                    <a:pt x="266998" y="1061145"/>
                  </a:lnTo>
                  <a:lnTo>
                    <a:pt x="560675" y="1061145"/>
                  </a:lnTo>
                  <a:lnTo>
                    <a:pt x="595409" y="958453"/>
                  </a:lnTo>
                  <a:lnTo>
                    <a:pt x="257093" y="958453"/>
                  </a:lnTo>
                  <a:lnTo>
                    <a:pt x="157460" y="1143298"/>
                  </a:lnTo>
                  <a:lnTo>
                    <a:pt x="0" y="1102221"/>
                  </a:lnTo>
                  <a:lnTo>
                    <a:pt x="206213" y="718840"/>
                  </a:lnTo>
                  <a:lnTo>
                    <a:pt x="20538" y="718840"/>
                  </a:lnTo>
                  <a:lnTo>
                    <a:pt x="20538" y="568226"/>
                  </a:lnTo>
                  <a:lnTo>
                    <a:pt x="287225" y="568226"/>
                  </a:lnTo>
                  <a:lnTo>
                    <a:pt x="335096" y="479227"/>
                  </a:lnTo>
                  <a:lnTo>
                    <a:pt x="54769" y="479227"/>
                  </a:lnTo>
                  <a:lnTo>
                    <a:pt x="54769" y="328612"/>
                  </a:lnTo>
                  <a:lnTo>
                    <a:pt x="416108" y="328612"/>
                  </a:lnTo>
                  <a:lnTo>
                    <a:pt x="463979" y="239613"/>
                  </a:lnTo>
                  <a:lnTo>
                    <a:pt x="20538" y="239613"/>
                  </a:lnTo>
                  <a:lnTo>
                    <a:pt x="20538" y="95845"/>
                  </a:lnTo>
                  <a:lnTo>
                    <a:pt x="321767" y="95845"/>
                  </a:lnTo>
                  <a:lnTo>
                    <a:pt x="301228" y="34230"/>
                  </a:lnTo>
                  <a:close/>
                </a:path>
              </a:pathLst>
            </a:custGeom>
            <a:solidFill>
              <a:srgbClr val="007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文本框 466"/>
            <p:cNvSpPr/>
            <p:nvPr/>
          </p:nvSpPr>
          <p:spPr>
            <a:xfrm>
              <a:off x="1100160" y="2627280"/>
              <a:ext cx="3210120" cy="1445040"/>
            </a:xfrm>
            <a:custGeom>
              <a:avLst/>
              <a:gdLst/>
              <a:ahLst/>
              <a:rect l="l" t="t" r="r" b="b"/>
              <a:pathLst>
                <a:path w="3210818" h="1444526">
                  <a:moveTo>
                    <a:pt x="687428" y="1204913"/>
                  </a:moveTo>
                  <a:lnTo>
                    <a:pt x="658635" y="1293912"/>
                  </a:lnTo>
                  <a:lnTo>
                    <a:pt x="1198067" y="1293912"/>
                  </a:lnTo>
                  <a:lnTo>
                    <a:pt x="1210781" y="1204913"/>
                  </a:lnTo>
                  <a:close/>
                  <a:moveTo>
                    <a:pt x="767165" y="958453"/>
                  </a:moveTo>
                  <a:lnTo>
                    <a:pt x="733942" y="1061145"/>
                  </a:lnTo>
                  <a:lnTo>
                    <a:pt x="1231319" y="1061145"/>
                  </a:lnTo>
                  <a:lnTo>
                    <a:pt x="1245989" y="958453"/>
                  </a:lnTo>
                  <a:close/>
                  <a:moveTo>
                    <a:pt x="1759446" y="41077"/>
                  </a:moveTo>
                  <a:lnTo>
                    <a:pt x="3197126" y="41077"/>
                  </a:lnTo>
                  <a:lnTo>
                    <a:pt x="3197126" y="184844"/>
                  </a:lnTo>
                  <a:lnTo>
                    <a:pt x="2813745" y="184844"/>
                  </a:lnTo>
                  <a:lnTo>
                    <a:pt x="2813745" y="732532"/>
                  </a:lnTo>
                  <a:lnTo>
                    <a:pt x="3162895" y="349151"/>
                  </a:lnTo>
                  <a:lnTo>
                    <a:pt x="3210818" y="506611"/>
                  </a:lnTo>
                  <a:lnTo>
                    <a:pt x="2813745" y="937915"/>
                  </a:lnTo>
                  <a:lnTo>
                    <a:pt x="2813745" y="1293912"/>
                  </a:lnTo>
                  <a:lnTo>
                    <a:pt x="3210818" y="1293912"/>
                  </a:lnTo>
                  <a:lnTo>
                    <a:pt x="3203972" y="1444526"/>
                  </a:lnTo>
                  <a:lnTo>
                    <a:pt x="2649438" y="1444526"/>
                  </a:lnTo>
                  <a:lnTo>
                    <a:pt x="2649438" y="184844"/>
                  </a:lnTo>
                  <a:lnTo>
                    <a:pt x="2211288" y="184844"/>
                  </a:lnTo>
                  <a:lnTo>
                    <a:pt x="2062826" y="410766"/>
                  </a:lnTo>
                  <a:lnTo>
                    <a:pt x="2409825" y="410766"/>
                  </a:lnTo>
                  <a:lnTo>
                    <a:pt x="2409825" y="835223"/>
                  </a:lnTo>
                  <a:lnTo>
                    <a:pt x="1882676" y="1444526"/>
                  </a:lnTo>
                  <a:lnTo>
                    <a:pt x="1725216" y="1410295"/>
                  </a:lnTo>
                  <a:lnTo>
                    <a:pt x="1992208" y="1090607"/>
                  </a:lnTo>
                  <a:lnTo>
                    <a:pt x="1725216" y="835223"/>
                  </a:lnTo>
                  <a:lnTo>
                    <a:pt x="1875830" y="773609"/>
                  </a:lnTo>
                  <a:lnTo>
                    <a:pt x="2087700" y="976267"/>
                  </a:lnTo>
                  <a:lnTo>
                    <a:pt x="2245519" y="787301"/>
                  </a:lnTo>
                  <a:lnTo>
                    <a:pt x="2245519" y="554534"/>
                  </a:lnTo>
                  <a:lnTo>
                    <a:pt x="1968350" y="554534"/>
                  </a:lnTo>
                  <a:lnTo>
                    <a:pt x="1896368" y="664071"/>
                  </a:lnTo>
                  <a:lnTo>
                    <a:pt x="1738908" y="629841"/>
                  </a:lnTo>
                  <a:lnTo>
                    <a:pt x="2033290" y="184844"/>
                  </a:lnTo>
                  <a:lnTo>
                    <a:pt x="1759446" y="184844"/>
                  </a:lnTo>
                  <a:close/>
                  <a:moveTo>
                    <a:pt x="472381" y="0"/>
                  </a:moveTo>
                  <a:lnTo>
                    <a:pt x="513457" y="95845"/>
                  </a:lnTo>
                  <a:lnTo>
                    <a:pt x="965299" y="95845"/>
                  </a:lnTo>
                  <a:lnTo>
                    <a:pt x="1013222" y="0"/>
                  </a:lnTo>
                  <a:lnTo>
                    <a:pt x="1184374" y="34230"/>
                  </a:lnTo>
                  <a:lnTo>
                    <a:pt x="1156990" y="95845"/>
                  </a:lnTo>
                  <a:lnTo>
                    <a:pt x="1458218" y="95845"/>
                  </a:lnTo>
                  <a:lnTo>
                    <a:pt x="1458218" y="239613"/>
                  </a:lnTo>
                  <a:lnTo>
                    <a:pt x="644552" y="239613"/>
                  </a:lnTo>
                  <a:lnTo>
                    <a:pt x="596581" y="328612"/>
                  </a:lnTo>
                  <a:lnTo>
                    <a:pt x="1410296" y="328612"/>
                  </a:lnTo>
                  <a:lnTo>
                    <a:pt x="1410296" y="479227"/>
                  </a:lnTo>
                  <a:lnTo>
                    <a:pt x="515399" y="479227"/>
                  </a:lnTo>
                  <a:lnTo>
                    <a:pt x="467428" y="568226"/>
                  </a:lnTo>
                  <a:lnTo>
                    <a:pt x="1458218" y="568226"/>
                  </a:lnTo>
                  <a:lnTo>
                    <a:pt x="1458218" y="718840"/>
                  </a:lnTo>
                  <a:lnTo>
                    <a:pt x="386246" y="718840"/>
                  </a:lnTo>
                  <a:lnTo>
                    <a:pt x="334585" y="814685"/>
                  </a:lnTo>
                  <a:lnTo>
                    <a:pt x="1437680" y="814685"/>
                  </a:lnTo>
                  <a:lnTo>
                    <a:pt x="1376065" y="1293912"/>
                  </a:lnTo>
                  <a:lnTo>
                    <a:pt x="1458218" y="1293912"/>
                  </a:lnTo>
                  <a:lnTo>
                    <a:pt x="1458218" y="1444526"/>
                  </a:lnTo>
                  <a:lnTo>
                    <a:pt x="13692" y="1444526"/>
                  </a:lnTo>
                  <a:lnTo>
                    <a:pt x="13692" y="1293912"/>
                  </a:lnTo>
                  <a:lnTo>
                    <a:pt x="481945" y="1293912"/>
                  </a:lnTo>
                  <a:lnTo>
                    <a:pt x="512048" y="1204913"/>
                  </a:lnTo>
                  <a:lnTo>
                    <a:pt x="266998" y="1204913"/>
                  </a:lnTo>
                  <a:lnTo>
                    <a:pt x="266998" y="1061145"/>
                  </a:lnTo>
                  <a:lnTo>
                    <a:pt x="560675" y="1061145"/>
                  </a:lnTo>
                  <a:lnTo>
                    <a:pt x="595409" y="958453"/>
                  </a:lnTo>
                  <a:lnTo>
                    <a:pt x="257093" y="958453"/>
                  </a:lnTo>
                  <a:lnTo>
                    <a:pt x="157460" y="1143298"/>
                  </a:lnTo>
                  <a:lnTo>
                    <a:pt x="0" y="1102221"/>
                  </a:lnTo>
                  <a:lnTo>
                    <a:pt x="206213" y="718840"/>
                  </a:lnTo>
                  <a:lnTo>
                    <a:pt x="20538" y="718840"/>
                  </a:lnTo>
                  <a:lnTo>
                    <a:pt x="20538" y="568226"/>
                  </a:lnTo>
                  <a:lnTo>
                    <a:pt x="287225" y="568226"/>
                  </a:lnTo>
                  <a:lnTo>
                    <a:pt x="335096" y="479227"/>
                  </a:lnTo>
                  <a:lnTo>
                    <a:pt x="54769" y="479227"/>
                  </a:lnTo>
                  <a:lnTo>
                    <a:pt x="54769" y="328612"/>
                  </a:lnTo>
                  <a:lnTo>
                    <a:pt x="416108" y="328612"/>
                  </a:lnTo>
                  <a:lnTo>
                    <a:pt x="463979" y="239613"/>
                  </a:lnTo>
                  <a:lnTo>
                    <a:pt x="20538" y="239613"/>
                  </a:lnTo>
                  <a:lnTo>
                    <a:pt x="20538" y="95845"/>
                  </a:lnTo>
                  <a:lnTo>
                    <a:pt x="321767" y="95845"/>
                  </a:lnTo>
                  <a:lnTo>
                    <a:pt x="301228" y="34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0" name="图片 91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88360" y="1573200"/>
            <a:ext cx="2419560" cy="7585200"/>
          </a:xfrm>
          <a:prstGeom prst="rect">
            <a:avLst/>
          </a:prstGeom>
          <a:ln w="0">
            <a:noFill/>
          </a:ln>
        </p:spPr>
      </p:pic>
      <p:pic>
        <p:nvPicPr>
          <p:cNvPr id="921" name="图片 920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95840" y="1576440"/>
            <a:ext cx="2212920" cy="69800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922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4200" y="1973160"/>
            <a:ext cx="2616120" cy="8589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7" dur="600" fill="hold"/>
                                        <p:tgtEl>
                                          <p:spTgt spid="921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778" dur="indefinite" autoRev="1" nodeType="withEffect" fill="hold" presetClass="emph" presetID="6" repeatCount="indefinite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79" dur="600" fill="hold"/>
                                        <p:tgtEl>
                                          <p:spTgt spid="922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  <p:par>
                                <p:cTn id="780" dur="indefinite" autoRev="1" nodeType="withEffect" fill="hold" presetClass="emph" presetID="6" repeatCount="indefinite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781" dur="600" fill="hold"/>
                                        <p:tgtEl>
                                          <p:spTgt spid="920"/>
                                        </p:tgtEl>
                                      </p:cBhvr>
                                      <p:to x="102000" y="102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矩形 85">
            <a:hlinkClick r:id="rId1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66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87"/>
          <p:cNvSpPr/>
          <p:nvPr/>
        </p:nvSpPr>
        <p:spPr>
          <a:xfrm>
            <a:off x="1125360" y="976320"/>
            <a:ext cx="1320840" cy="407880"/>
          </a:xfrm>
          <a:custGeom>
            <a:avLst/>
            <a:gdLst/>
            <a:ahLst/>
            <a:rect l="l" t="t" r="r" b="b"/>
            <a:pathLst>
              <a:path w="1321221" h="408199">
                <a:moveTo>
                  <a:pt x="552152" y="244525"/>
                </a:moveTo>
                <a:lnTo>
                  <a:pt x="599479" y="256357"/>
                </a:lnTo>
                <a:lnTo>
                  <a:pt x="550180" y="408199"/>
                </a:lnTo>
                <a:lnTo>
                  <a:pt x="502853" y="398339"/>
                </a:lnTo>
                <a:close/>
                <a:moveTo>
                  <a:pt x="1066837" y="220861"/>
                </a:moveTo>
                <a:lnTo>
                  <a:pt x="1066837" y="343124"/>
                </a:lnTo>
                <a:lnTo>
                  <a:pt x="1269950" y="343124"/>
                </a:lnTo>
                <a:lnTo>
                  <a:pt x="1269950" y="220861"/>
                </a:lnTo>
                <a:close/>
                <a:moveTo>
                  <a:pt x="522572" y="120291"/>
                </a:moveTo>
                <a:lnTo>
                  <a:pt x="595535" y="171562"/>
                </a:lnTo>
                <a:lnTo>
                  <a:pt x="577788" y="216917"/>
                </a:lnTo>
                <a:lnTo>
                  <a:pt x="504825" y="163674"/>
                </a:lnTo>
                <a:close/>
                <a:moveTo>
                  <a:pt x="1066837" y="61131"/>
                </a:moveTo>
                <a:lnTo>
                  <a:pt x="1066837" y="175506"/>
                </a:lnTo>
                <a:lnTo>
                  <a:pt x="1269950" y="175506"/>
                </a:lnTo>
                <a:lnTo>
                  <a:pt x="1269950" y="61131"/>
                </a:lnTo>
                <a:close/>
                <a:moveTo>
                  <a:pt x="1013594" y="17748"/>
                </a:moveTo>
                <a:lnTo>
                  <a:pt x="1321221" y="17748"/>
                </a:lnTo>
                <a:lnTo>
                  <a:pt x="1321221" y="384535"/>
                </a:lnTo>
                <a:lnTo>
                  <a:pt x="1013594" y="384535"/>
                </a:lnTo>
                <a:close/>
                <a:moveTo>
                  <a:pt x="9859" y="3944"/>
                </a:moveTo>
                <a:lnTo>
                  <a:pt x="423974" y="3944"/>
                </a:lnTo>
                <a:lnTo>
                  <a:pt x="423974" y="45356"/>
                </a:lnTo>
                <a:lnTo>
                  <a:pt x="313543" y="45356"/>
                </a:lnTo>
                <a:lnTo>
                  <a:pt x="313543" y="203113"/>
                </a:lnTo>
                <a:lnTo>
                  <a:pt x="414114" y="92683"/>
                </a:lnTo>
                <a:lnTo>
                  <a:pt x="427918" y="138038"/>
                </a:lnTo>
                <a:lnTo>
                  <a:pt x="313543" y="262273"/>
                </a:lnTo>
                <a:lnTo>
                  <a:pt x="313543" y="364815"/>
                </a:lnTo>
                <a:lnTo>
                  <a:pt x="427918" y="364815"/>
                </a:lnTo>
                <a:lnTo>
                  <a:pt x="425946" y="408199"/>
                </a:lnTo>
                <a:lnTo>
                  <a:pt x="266216" y="408199"/>
                </a:lnTo>
                <a:lnTo>
                  <a:pt x="266216" y="45356"/>
                </a:lnTo>
                <a:lnTo>
                  <a:pt x="140010" y="45356"/>
                </a:lnTo>
                <a:lnTo>
                  <a:pt x="97246" y="110431"/>
                </a:lnTo>
                <a:lnTo>
                  <a:pt x="197197" y="110431"/>
                </a:lnTo>
                <a:lnTo>
                  <a:pt x="197197" y="232693"/>
                </a:lnTo>
                <a:lnTo>
                  <a:pt x="45355" y="408199"/>
                </a:lnTo>
                <a:lnTo>
                  <a:pt x="0" y="398339"/>
                </a:lnTo>
                <a:lnTo>
                  <a:pt x="76905" y="306255"/>
                </a:lnTo>
                <a:lnTo>
                  <a:pt x="0" y="232693"/>
                </a:lnTo>
                <a:lnTo>
                  <a:pt x="43383" y="214945"/>
                </a:lnTo>
                <a:lnTo>
                  <a:pt x="104411" y="273320"/>
                </a:lnTo>
                <a:lnTo>
                  <a:pt x="149870" y="218889"/>
                </a:lnTo>
                <a:lnTo>
                  <a:pt x="149870" y="151842"/>
                </a:lnTo>
                <a:lnTo>
                  <a:pt x="70033" y="151842"/>
                </a:lnTo>
                <a:lnTo>
                  <a:pt x="49299" y="183394"/>
                </a:lnTo>
                <a:lnTo>
                  <a:pt x="3944" y="173534"/>
                </a:lnTo>
                <a:lnTo>
                  <a:pt x="88738" y="45356"/>
                </a:lnTo>
                <a:lnTo>
                  <a:pt x="9859" y="45356"/>
                </a:lnTo>
                <a:close/>
                <a:moveTo>
                  <a:pt x="759209" y="1972"/>
                </a:moveTo>
                <a:lnTo>
                  <a:pt x="808508" y="1972"/>
                </a:lnTo>
                <a:lnTo>
                  <a:pt x="808508" y="31552"/>
                </a:lnTo>
                <a:lnTo>
                  <a:pt x="932743" y="31552"/>
                </a:lnTo>
                <a:lnTo>
                  <a:pt x="932743" y="72963"/>
                </a:lnTo>
                <a:lnTo>
                  <a:pt x="808508" y="72963"/>
                </a:lnTo>
                <a:lnTo>
                  <a:pt x="808508" y="183394"/>
                </a:lnTo>
                <a:lnTo>
                  <a:pt x="942603" y="183394"/>
                </a:lnTo>
                <a:lnTo>
                  <a:pt x="942603" y="226777"/>
                </a:lnTo>
                <a:lnTo>
                  <a:pt x="788789" y="226777"/>
                </a:lnTo>
                <a:lnTo>
                  <a:pt x="709910" y="364815"/>
                </a:lnTo>
                <a:lnTo>
                  <a:pt x="879499" y="364815"/>
                </a:lnTo>
                <a:lnTo>
                  <a:pt x="857808" y="297768"/>
                </a:lnTo>
                <a:lnTo>
                  <a:pt x="895275" y="266217"/>
                </a:lnTo>
                <a:lnTo>
                  <a:pt x="936687" y="408199"/>
                </a:lnTo>
                <a:lnTo>
                  <a:pt x="636947" y="408199"/>
                </a:lnTo>
                <a:lnTo>
                  <a:pt x="739489" y="226777"/>
                </a:lnTo>
                <a:lnTo>
                  <a:pt x="640891" y="226777"/>
                </a:lnTo>
                <a:lnTo>
                  <a:pt x="640891" y="183394"/>
                </a:lnTo>
                <a:lnTo>
                  <a:pt x="759209" y="183394"/>
                </a:lnTo>
                <a:lnTo>
                  <a:pt x="759209" y="72963"/>
                </a:lnTo>
                <a:lnTo>
                  <a:pt x="646807" y="72963"/>
                </a:lnTo>
                <a:lnTo>
                  <a:pt x="646807" y="31552"/>
                </a:lnTo>
                <a:lnTo>
                  <a:pt x="759209" y="31552"/>
                </a:lnTo>
                <a:close/>
                <a:moveTo>
                  <a:pt x="530460" y="0"/>
                </a:moveTo>
                <a:lnTo>
                  <a:pt x="603423" y="51272"/>
                </a:lnTo>
                <a:lnTo>
                  <a:pt x="585675" y="94655"/>
                </a:lnTo>
                <a:lnTo>
                  <a:pt x="514684" y="45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88"/>
          <p:cNvSpPr/>
          <p:nvPr/>
        </p:nvSpPr>
        <p:spPr>
          <a:xfrm>
            <a:off x="1122480" y="1795320"/>
            <a:ext cx="2950920" cy="417600"/>
          </a:xfrm>
          <a:custGeom>
            <a:avLst/>
            <a:gdLst/>
            <a:ahLst/>
            <a:rect l="l" t="t" r="r" b="b"/>
            <a:pathLst>
              <a:path w="2950406" h="418059">
                <a:moveTo>
                  <a:pt x="2650666" y="329320"/>
                </a:moveTo>
                <a:lnTo>
                  <a:pt x="2699965" y="329320"/>
                </a:lnTo>
                <a:lnTo>
                  <a:pt x="2699965" y="382563"/>
                </a:lnTo>
                <a:lnTo>
                  <a:pt x="2830115" y="382563"/>
                </a:lnTo>
                <a:lnTo>
                  <a:pt x="2830115" y="418059"/>
                </a:lnTo>
                <a:lnTo>
                  <a:pt x="2650666" y="418059"/>
                </a:lnTo>
                <a:close/>
                <a:moveTo>
                  <a:pt x="2912938" y="321432"/>
                </a:moveTo>
                <a:lnTo>
                  <a:pt x="2946462" y="390451"/>
                </a:lnTo>
                <a:lnTo>
                  <a:pt x="2910966" y="418059"/>
                </a:lnTo>
                <a:lnTo>
                  <a:pt x="2875471" y="349040"/>
                </a:lnTo>
                <a:close/>
                <a:moveTo>
                  <a:pt x="2554039" y="321432"/>
                </a:moveTo>
                <a:lnTo>
                  <a:pt x="2591507" y="349040"/>
                </a:lnTo>
                <a:lnTo>
                  <a:pt x="2556011" y="418059"/>
                </a:lnTo>
                <a:lnTo>
                  <a:pt x="2520516" y="390451"/>
                </a:lnTo>
                <a:close/>
                <a:moveTo>
                  <a:pt x="2804480" y="315516"/>
                </a:moveTo>
                <a:lnTo>
                  <a:pt x="2828143" y="351012"/>
                </a:lnTo>
                <a:lnTo>
                  <a:pt x="2784760" y="366787"/>
                </a:lnTo>
                <a:lnTo>
                  <a:pt x="2761096" y="331292"/>
                </a:lnTo>
                <a:close/>
                <a:moveTo>
                  <a:pt x="1554249" y="254385"/>
                </a:moveTo>
                <a:lnTo>
                  <a:pt x="1601576" y="266217"/>
                </a:lnTo>
                <a:lnTo>
                  <a:pt x="1552277" y="418059"/>
                </a:lnTo>
                <a:lnTo>
                  <a:pt x="1504950" y="408199"/>
                </a:lnTo>
                <a:close/>
                <a:moveTo>
                  <a:pt x="2583619" y="246497"/>
                </a:moveTo>
                <a:lnTo>
                  <a:pt x="2583619" y="270161"/>
                </a:lnTo>
                <a:lnTo>
                  <a:pt x="2885331" y="270161"/>
                </a:lnTo>
                <a:lnTo>
                  <a:pt x="2885331" y="246497"/>
                </a:lnTo>
                <a:close/>
                <a:moveTo>
                  <a:pt x="165645" y="222833"/>
                </a:moveTo>
                <a:lnTo>
                  <a:pt x="165645" y="374675"/>
                </a:lnTo>
                <a:lnTo>
                  <a:pt x="220861" y="374675"/>
                </a:lnTo>
                <a:lnTo>
                  <a:pt x="220861" y="222833"/>
                </a:lnTo>
                <a:close/>
                <a:moveTo>
                  <a:pt x="2583619" y="185366"/>
                </a:moveTo>
                <a:lnTo>
                  <a:pt x="2583619" y="211001"/>
                </a:lnTo>
                <a:lnTo>
                  <a:pt x="2885331" y="211001"/>
                </a:lnTo>
                <a:lnTo>
                  <a:pt x="2885331" y="185366"/>
                </a:lnTo>
                <a:close/>
                <a:moveTo>
                  <a:pt x="1656792" y="169590"/>
                </a:moveTo>
                <a:lnTo>
                  <a:pt x="1932868" y="169590"/>
                </a:lnTo>
                <a:lnTo>
                  <a:pt x="1932868" y="246497"/>
                </a:lnTo>
                <a:lnTo>
                  <a:pt x="1828640" y="316249"/>
                </a:lnTo>
                <a:lnTo>
                  <a:pt x="1944700" y="390451"/>
                </a:lnTo>
                <a:lnTo>
                  <a:pt x="1907232" y="418059"/>
                </a:lnTo>
                <a:lnTo>
                  <a:pt x="1788766" y="342934"/>
                </a:lnTo>
                <a:lnTo>
                  <a:pt x="1676511" y="418059"/>
                </a:lnTo>
                <a:lnTo>
                  <a:pt x="1639044" y="392423"/>
                </a:lnTo>
                <a:lnTo>
                  <a:pt x="1749389" y="317963"/>
                </a:lnTo>
                <a:lnTo>
                  <a:pt x="1664680" y="264245"/>
                </a:lnTo>
                <a:lnTo>
                  <a:pt x="1704119" y="236637"/>
                </a:lnTo>
                <a:lnTo>
                  <a:pt x="1789249" y="291065"/>
                </a:lnTo>
                <a:lnTo>
                  <a:pt x="1881597" y="228749"/>
                </a:lnTo>
                <a:lnTo>
                  <a:pt x="1881597" y="211001"/>
                </a:lnTo>
                <a:lnTo>
                  <a:pt x="1656792" y="211001"/>
                </a:lnTo>
                <a:close/>
                <a:moveTo>
                  <a:pt x="2538263" y="149870"/>
                </a:moveTo>
                <a:lnTo>
                  <a:pt x="2932658" y="149870"/>
                </a:lnTo>
                <a:lnTo>
                  <a:pt x="2932658" y="305656"/>
                </a:lnTo>
                <a:lnTo>
                  <a:pt x="2538263" y="305656"/>
                </a:lnTo>
                <a:close/>
                <a:moveTo>
                  <a:pt x="2023579" y="138038"/>
                </a:moveTo>
                <a:lnTo>
                  <a:pt x="2236552" y="138038"/>
                </a:lnTo>
                <a:lnTo>
                  <a:pt x="2226692" y="295796"/>
                </a:lnTo>
                <a:lnTo>
                  <a:pt x="2130065" y="295796"/>
                </a:lnTo>
                <a:lnTo>
                  <a:pt x="2130065" y="254385"/>
                </a:lnTo>
                <a:lnTo>
                  <a:pt x="2181336" y="254385"/>
                </a:lnTo>
                <a:lnTo>
                  <a:pt x="2185280" y="179450"/>
                </a:lnTo>
                <a:lnTo>
                  <a:pt x="2070906" y="179450"/>
                </a:lnTo>
                <a:lnTo>
                  <a:pt x="2070906" y="374675"/>
                </a:lnTo>
                <a:lnTo>
                  <a:pt x="2238524" y="374675"/>
                </a:lnTo>
                <a:lnTo>
                  <a:pt x="2238524" y="418059"/>
                </a:lnTo>
                <a:lnTo>
                  <a:pt x="2023579" y="418059"/>
                </a:lnTo>
                <a:close/>
                <a:moveTo>
                  <a:pt x="1524670" y="130151"/>
                </a:moveTo>
                <a:lnTo>
                  <a:pt x="1597633" y="181422"/>
                </a:lnTo>
                <a:lnTo>
                  <a:pt x="1579885" y="226777"/>
                </a:lnTo>
                <a:lnTo>
                  <a:pt x="1506922" y="173534"/>
                </a:lnTo>
                <a:close/>
                <a:moveTo>
                  <a:pt x="906884" y="116347"/>
                </a:moveTo>
                <a:lnTo>
                  <a:pt x="906884" y="218889"/>
                </a:lnTo>
                <a:lnTo>
                  <a:pt x="1072530" y="218889"/>
                </a:lnTo>
                <a:lnTo>
                  <a:pt x="1072530" y="116347"/>
                </a:lnTo>
                <a:close/>
                <a:moveTo>
                  <a:pt x="563984" y="116347"/>
                </a:moveTo>
                <a:lnTo>
                  <a:pt x="563984" y="218889"/>
                </a:lnTo>
                <a:lnTo>
                  <a:pt x="729630" y="218889"/>
                </a:lnTo>
                <a:lnTo>
                  <a:pt x="729630" y="116347"/>
                </a:lnTo>
                <a:close/>
                <a:moveTo>
                  <a:pt x="1178793" y="70991"/>
                </a:moveTo>
                <a:lnTo>
                  <a:pt x="1452897" y="70991"/>
                </a:lnTo>
                <a:lnTo>
                  <a:pt x="1452897" y="114375"/>
                </a:lnTo>
                <a:lnTo>
                  <a:pt x="1340495" y="114375"/>
                </a:lnTo>
                <a:lnTo>
                  <a:pt x="1340495" y="388479"/>
                </a:lnTo>
                <a:lnTo>
                  <a:pt x="1291195" y="388479"/>
                </a:lnTo>
                <a:lnTo>
                  <a:pt x="1291195" y="114375"/>
                </a:lnTo>
                <a:lnTo>
                  <a:pt x="1178793" y="114375"/>
                </a:lnTo>
                <a:close/>
                <a:moveTo>
                  <a:pt x="855613" y="70991"/>
                </a:moveTo>
                <a:lnTo>
                  <a:pt x="1123801" y="70991"/>
                </a:lnTo>
                <a:lnTo>
                  <a:pt x="1123801" y="264245"/>
                </a:lnTo>
                <a:lnTo>
                  <a:pt x="906884" y="264245"/>
                </a:lnTo>
                <a:lnTo>
                  <a:pt x="906884" y="388479"/>
                </a:lnTo>
                <a:lnTo>
                  <a:pt x="855613" y="388479"/>
                </a:lnTo>
                <a:close/>
                <a:moveTo>
                  <a:pt x="512713" y="70991"/>
                </a:moveTo>
                <a:lnTo>
                  <a:pt x="780901" y="70991"/>
                </a:lnTo>
                <a:lnTo>
                  <a:pt x="780901" y="264245"/>
                </a:lnTo>
                <a:lnTo>
                  <a:pt x="563984" y="264245"/>
                </a:lnTo>
                <a:lnTo>
                  <a:pt x="563984" y="388479"/>
                </a:lnTo>
                <a:lnTo>
                  <a:pt x="512713" y="388479"/>
                </a:lnTo>
                <a:close/>
                <a:moveTo>
                  <a:pt x="2646722" y="67047"/>
                </a:moveTo>
                <a:lnTo>
                  <a:pt x="2674330" y="92683"/>
                </a:lnTo>
                <a:lnTo>
                  <a:pt x="2798564" y="92683"/>
                </a:lnTo>
                <a:lnTo>
                  <a:pt x="2826171" y="67047"/>
                </a:lnTo>
                <a:lnTo>
                  <a:pt x="2879415" y="74935"/>
                </a:lnTo>
                <a:lnTo>
                  <a:pt x="2857723" y="92683"/>
                </a:lnTo>
                <a:lnTo>
                  <a:pt x="2950406" y="92683"/>
                </a:lnTo>
                <a:lnTo>
                  <a:pt x="2950406" y="128179"/>
                </a:lnTo>
                <a:lnTo>
                  <a:pt x="2522488" y="128179"/>
                </a:lnTo>
                <a:lnTo>
                  <a:pt x="2522488" y="92683"/>
                </a:lnTo>
                <a:lnTo>
                  <a:pt x="2615170" y="92683"/>
                </a:lnTo>
                <a:lnTo>
                  <a:pt x="2593479" y="74935"/>
                </a:lnTo>
                <a:close/>
                <a:moveTo>
                  <a:pt x="2289795" y="21692"/>
                </a:moveTo>
                <a:lnTo>
                  <a:pt x="2337122" y="21692"/>
                </a:lnTo>
                <a:lnTo>
                  <a:pt x="2337122" y="315516"/>
                </a:lnTo>
                <a:lnTo>
                  <a:pt x="2289795" y="315516"/>
                </a:lnTo>
                <a:close/>
                <a:moveTo>
                  <a:pt x="1670596" y="17748"/>
                </a:moveTo>
                <a:lnTo>
                  <a:pt x="1921036" y="17748"/>
                </a:lnTo>
                <a:lnTo>
                  <a:pt x="1938784" y="120291"/>
                </a:lnTo>
                <a:lnTo>
                  <a:pt x="1891456" y="128179"/>
                </a:lnTo>
                <a:lnTo>
                  <a:pt x="1879625" y="61132"/>
                </a:lnTo>
                <a:lnTo>
                  <a:pt x="1712007" y="61132"/>
                </a:lnTo>
                <a:lnTo>
                  <a:pt x="1700175" y="128179"/>
                </a:lnTo>
                <a:lnTo>
                  <a:pt x="1650876" y="122263"/>
                </a:lnTo>
                <a:close/>
                <a:moveTo>
                  <a:pt x="2392337" y="11832"/>
                </a:moveTo>
                <a:lnTo>
                  <a:pt x="2439665" y="11832"/>
                </a:lnTo>
                <a:lnTo>
                  <a:pt x="2439665" y="418059"/>
                </a:lnTo>
                <a:lnTo>
                  <a:pt x="2291767" y="418059"/>
                </a:lnTo>
                <a:lnTo>
                  <a:pt x="2291767" y="374675"/>
                </a:lnTo>
                <a:lnTo>
                  <a:pt x="2392337" y="374675"/>
                </a:lnTo>
                <a:close/>
                <a:moveTo>
                  <a:pt x="1532557" y="9860"/>
                </a:moveTo>
                <a:lnTo>
                  <a:pt x="1605520" y="61132"/>
                </a:lnTo>
                <a:lnTo>
                  <a:pt x="1587773" y="104515"/>
                </a:lnTo>
                <a:lnTo>
                  <a:pt x="1516782" y="55216"/>
                </a:lnTo>
                <a:close/>
                <a:moveTo>
                  <a:pt x="167617" y="9860"/>
                </a:moveTo>
                <a:lnTo>
                  <a:pt x="216917" y="9860"/>
                </a:lnTo>
                <a:lnTo>
                  <a:pt x="216917" y="59160"/>
                </a:lnTo>
                <a:lnTo>
                  <a:pt x="276076" y="59160"/>
                </a:lnTo>
                <a:lnTo>
                  <a:pt x="276076" y="100571"/>
                </a:lnTo>
                <a:lnTo>
                  <a:pt x="216917" y="100571"/>
                </a:lnTo>
                <a:lnTo>
                  <a:pt x="216917" y="179450"/>
                </a:lnTo>
                <a:lnTo>
                  <a:pt x="270160" y="179450"/>
                </a:lnTo>
                <a:lnTo>
                  <a:pt x="270160" y="418059"/>
                </a:lnTo>
                <a:lnTo>
                  <a:pt x="116346" y="418059"/>
                </a:lnTo>
                <a:lnTo>
                  <a:pt x="116346" y="179450"/>
                </a:lnTo>
                <a:lnTo>
                  <a:pt x="167617" y="179450"/>
                </a:lnTo>
                <a:lnTo>
                  <a:pt x="167617" y="100571"/>
                </a:lnTo>
                <a:lnTo>
                  <a:pt x="106486" y="100571"/>
                </a:lnTo>
                <a:lnTo>
                  <a:pt x="106486" y="59160"/>
                </a:lnTo>
                <a:lnTo>
                  <a:pt x="167617" y="59160"/>
                </a:lnTo>
                <a:close/>
                <a:moveTo>
                  <a:pt x="49299" y="9860"/>
                </a:moveTo>
                <a:lnTo>
                  <a:pt x="86766" y="37468"/>
                </a:lnTo>
                <a:lnTo>
                  <a:pt x="43426" y="195226"/>
                </a:lnTo>
                <a:lnTo>
                  <a:pt x="72963" y="195226"/>
                </a:lnTo>
                <a:lnTo>
                  <a:pt x="72963" y="418059"/>
                </a:lnTo>
                <a:lnTo>
                  <a:pt x="23663" y="418059"/>
                </a:lnTo>
                <a:lnTo>
                  <a:pt x="23663" y="206746"/>
                </a:lnTo>
                <a:lnTo>
                  <a:pt x="0" y="189310"/>
                </a:lnTo>
                <a:close/>
                <a:moveTo>
                  <a:pt x="299740" y="5916"/>
                </a:moveTo>
                <a:lnTo>
                  <a:pt x="326989" y="21692"/>
                </a:lnTo>
                <a:lnTo>
                  <a:pt x="439750" y="21692"/>
                </a:lnTo>
                <a:lnTo>
                  <a:pt x="439750" y="65075"/>
                </a:lnTo>
                <a:lnTo>
                  <a:pt x="427918" y="65075"/>
                </a:lnTo>
                <a:lnTo>
                  <a:pt x="427918" y="163674"/>
                </a:lnTo>
                <a:lnTo>
                  <a:pt x="380460" y="277046"/>
                </a:lnTo>
                <a:lnTo>
                  <a:pt x="433834" y="380591"/>
                </a:lnTo>
                <a:lnTo>
                  <a:pt x="410170" y="418059"/>
                </a:lnTo>
                <a:lnTo>
                  <a:pt x="360766" y="324093"/>
                </a:lnTo>
                <a:lnTo>
                  <a:pt x="321431" y="418059"/>
                </a:lnTo>
                <a:lnTo>
                  <a:pt x="293824" y="380591"/>
                </a:lnTo>
                <a:lnTo>
                  <a:pt x="336553" y="278041"/>
                </a:lnTo>
                <a:lnTo>
                  <a:pt x="309599" y="226777"/>
                </a:lnTo>
                <a:lnTo>
                  <a:pt x="335235" y="189310"/>
                </a:lnTo>
                <a:lnTo>
                  <a:pt x="356409" y="230387"/>
                </a:lnTo>
                <a:lnTo>
                  <a:pt x="382562" y="167618"/>
                </a:lnTo>
                <a:lnTo>
                  <a:pt x="382562" y="65075"/>
                </a:lnTo>
                <a:lnTo>
                  <a:pt x="334432" y="65075"/>
                </a:lnTo>
                <a:lnTo>
                  <a:pt x="325375" y="187338"/>
                </a:lnTo>
                <a:lnTo>
                  <a:pt x="287908" y="165646"/>
                </a:lnTo>
                <a:close/>
                <a:moveTo>
                  <a:pt x="2132037" y="3944"/>
                </a:moveTo>
                <a:lnTo>
                  <a:pt x="2250355" y="72963"/>
                </a:lnTo>
                <a:lnTo>
                  <a:pt x="2214860" y="102543"/>
                </a:lnTo>
                <a:lnTo>
                  <a:pt x="2132037" y="53244"/>
                </a:lnTo>
                <a:lnTo>
                  <a:pt x="2045270" y="102543"/>
                </a:lnTo>
                <a:lnTo>
                  <a:pt x="2009775" y="74935"/>
                </a:lnTo>
                <a:close/>
                <a:moveTo>
                  <a:pt x="2761096" y="0"/>
                </a:moveTo>
                <a:lnTo>
                  <a:pt x="2767012" y="23664"/>
                </a:lnTo>
                <a:lnTo>
                  <a:pt x="2940546" y="23664"/>
                </a:lnTo>
                <a:lnTo>
                  <a:pt x="2940546" y="59160"/>
                </a:lnTo>
                <a:lnTo>
                  <a:pt x="2532347" y="59160"/>
                </a:lnTo>
                <a:lnTo>
                  <a:pt x="2532347" y="23664"/>
                </a:lnTo>
                <a:lnTo>
                  <a:pt x="2713769" y="23664"/>
                </a:lnTo>
                <a:lnTo>
                  <a:pt x="2709825" y="7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Rectangle 6"/>
          <p:cNvSpPr/>
          <p:nvPr/>
        </p:nvSpPr>
        <p:spPr>
          <a:xfrm>
            <a:off x="5567400" y="415800"/>
            <a:ext cx="6310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14">
            <a:hlinkClick r:id="rId2"/>
          </p:cNvPr>
          <p:cNvSpPr/>
          <p:nvPr/>
        </p:nvSpPr>
        <p:spPr>
          <a:xfrm>
            <a:off x="5095800" y="3575160"/>
            <a:ext cx="7299360" cy="3284280"/>
          </a:xfrm>
          <a:custGeom>
            <a:avLst/>
            <a:gdLst/>
            <a:ahLst/>
            <a:rect l="l" t="t" r="r" b="b"/>
            <a:pathLst>
              <a:path w="4627" h="2082">
                <a:moveTo>
                  <a:pt x="4505" y="121"/>
                </a:moveTo>
                <a:cubicBezTo>
                  <a:pt x="4476" y="122"/>
                  <a:pt x="4451" y="133"/>
                  <a:pt x="4431" y="151"/>
                </a:cubicBezTo>
                <a:cubicBezTo>
                  <a:pt x="4406" y="135"/>
                  <a:pt x="4376" y="126"/>
                  <a:pt x="4343" y="127"/>
                </a:cubicBezTo>
                <a:cubicBezTo>
                  <a:pt x="4329" y="127"/>
                  <a:pt x="4315" y="130"/>
                  <a:pt x="4301" y="134"/>
                </a:cubicBezTo>
                <a:cubicBezTo>
                  <a:pt x="4286" y="131"/>
                  <a:pt x="4270" y="129"/>
                  <a:pt x="4253" y="130"/>
                </a:cubicBezTo>
                <a:cubicBezTo>
                  <a:pt x="4234" y="131"/>
                  <a:pt x="4216" y="134"/>
                  <a:pt x="4199" y="140"/>
                </a:cubicBezTo>
                <a:cubicBezTo>
                  <a:pt x="4160" y="80"/>
                  <a:pt x="4091" y="41"/>
                  <a:pt x="4014" y="44"/>
                </a:cubicBezTo>
                <a:cubicBezTo>
                  <a:pt x="3940" y="46"/>
                  <a:pt x="3876" y="86"/>
                  <a:pt x="3841" y="145"/>
                </a:cubicBezTo>
                <a:cubicBezTo>
                  <a:pt x="3836" y="145"/>
                  <a:pt x="3832" y="144"/>
                  <a:pt x="3827" y="145"/>
                </a:cubicBezTo>
                <a:cubicBezTo>
                  <a:pt x="3813" y="145"/>
                  <a:pt x="3799" y="148"/>
                  <a:pt x="3786" y="152"/>
                </a:cubicBezTo>
                <a:cubicBezTo>
                  <a:pt x="3774" y="149"/>
                  <a:pt x="3762" y="147"/>
                  <a:pt x="3750" y="147"/>
                </a:cubicBezTo>
                <a:cubicBezTo>
                  <a:pt x="3714" y="114"/>
                  <a:pt x="3665" y="94"/>
                  <a:pt x="3612" y="96"/>
                </a:cubicBezTo>
                <a:cubicBezTo>
                  <a:pt x="3570" y="97"/>
                  <a:pt x="3532" y="111"/>
                  <a:pt x="3502" y="135"/>
                </a:cubicBezTo>
                <a:cubicBezTo>
                  <a:pt x="3466" y="91"/>
                  <a:pt x="3411" y="64"/>
                  <a:pt x="3350" y="67"/>
                </a:cubicBezTo>
                <a:cubicBezTo>
                  <a:pt x="3291" y="69"/>
                  <a:pt x="3239" y="98"/>
                  <a:pt x="3206" y="142"/>
                </a:cubicBezTo>
                <a:cubicBezTo>
                  <a:pt x="3180" y="123"/>
                  <a:pt x="3147" y="112"/>
                  <a:pt x="3112" y="113"/>
                </a:cubicBezTo>
                <a:cubicBezTo>
                  <a:pt x="3088" y="114"/>
                  <a:pt x="3066" y="120"/>
                  <a:pt x="3046" y="131"/>
                </a:cubicBezTo>
                <a:cubicBezTo>
                  <a:pt x="3012" y="99"/>
                  <a:pt x="2965" y="80"/>
                  <a:pt x="2915" y="82"/>
                </a:cubicBezTo>
                <a:cubicBezTo>
                  <a:pt x="2867" y="83"/>
                  <a:pt x="2825" y="103"/>
                  <a:pt x="2793" y="133"/>
                </a:cubicBezTo>
                <a:cubicBezTo>
                  <a:pt x="2774" y="128"/>
                  <a:pt x="2753" y="125"/>
                  <a:pt x="2732" y="126"/>
                </a:cubicBezTo>
                <a:cubicBezTo>
                  <a:pt x="2705" y="127"/>
                  <a:pt x="2679" y="133"/>
                  <a:pt x="2656" y="144"/>
                </a:cubicBezTo>
                <a:cubicBezTo>
                  <a:pt x="2635" y="73"/>
                  <a:pt x="2568" y="22"/>
                  <a:pt x="2491" y="25"/>
                </a:cubicBezTo>
                <a:cubicBezTo>
                  <a:pt x="2444" y="27"/>
                  <a:pt x="2402" y="48"/>
                  <a:pt x="2373" y="81"/>
                </a:cubicBezTo>
                <a:cubicBezTo>
                  <a:pt x="2350" y="39"/>
                  <a:pt x="2305" y="11"/>
                  <a:pt x="2254" y="12"/>
                </a:cubicBezTo>
                <a:cubicBezTo>
                  <a:pt x="2192" y="15"/>
                  <a:pt x="2141" y="60"/>
                  <a:pt x="2130" y="119"/>
                </a:cubicBezTo>
                <a:cubicBezTo>
                  <a:pt x="2130" y="119"/>
                  <a:pt x="2130" y="119"/>
                  <a:pt x="2129" y="119"/>
                </a:cubicBezTo>
                <a:cubicBezTo>
                  <a:pt x="2129" y="119"/>
                  <a:pt x="2128" y="119"/>
                  <a:pt x="2128" y="119"/>
                </a:cubicBezTo>
                <a:cubicBezTo>
                  <a:pt x="2109" y="120"/>
                  <a:pt x="2090" y="124"/>
                  <a:pt x="2073" y="129"/>
                </a:cubicBezTo>
                <a:cubicBezTo>
                  <a:pt x="2034" y="69"/>
                  <a:pt x="1965" y="30"/>
                  <a:pt x="1888" y="33"/>
                </a:cubicBezTo>
                <a:cubicBezTo>
                  <a:pt x="1815" y="36"/>
                  <a:pt x="1751" y="76"/>
                  <a:pt x="1715" y="134"/>
                </a:cubicBezTo>
                <a:cubicBezTo>
                  <a:pt x="1711" y="134"/>
                  <a:pt x="1706" y="134"/>
                  <a:pt x="1702" y="134"/>
                </a:cubicBezTo>
                <a:cubicBezTo>
                  <a:pt x="1687" y="135"/>
                  <a:pt x="1673" y="137"/>
                  <a:pt x="1660" y="142"/>
                </a:cubicBezTo>
                <a:cubicBezTo>
                  <a:pt x="1649" y="139"/>
                  <a:pt x="1637" y="137"/>
                  <a:pt x="1624" y="137"/>
                </a:cubicBezTo>
                <a:cubicBezTo>
                  <a:pt x="1588" y="103"/>
                  <a:pt x="1539" y="83"/>
                  <a:pt x="1486" y="85"/>
                </a:cubicBezTo>
                <a:cubicBezTo>
                  <a:pt x="1445" y="87"/>
                  <a:pt x="1407" y="101"/>
                  <a:pt x="1376" y="124"/>
                </a:cubicBezTo>
                <a:cubicBezTo>
                  <a:pt x="1340" y="81"/>
                  <a:pt x="1285" y="54"/>
                  <a:pt x="1225" y="56"/>
                </a:cubicBezTo>
                <a:cubicBezTo>
                  <a:pt x="1165" y="58"/>
                  <a:pt x="1113" y="88"/>
                  <a:pt x="1080" y="132"/>
                </a:cubicBezTo>
                <a:cubicBezTo>
                  <a:pt x="1054" y="112"/>
                  <a:pt x="1021" y="101"/>
                  <a:pt x="986" y="102"/>
                </a:cubicBezTo>
                <a:cubicBezTo>
                  <a:pt x="962" y="103"/>
                  <a:pt x="940" y="110"/>
                  <a:pt x="921" y="120"/>
                </a:cubicBezTo>
                <a:cubicBezTo>
                  <a:pt x="886" y="88"/>
                  <a:pt x="840" y="70"/>
                  <a:pt x="789" y="71"/>
                </a:cubicBezTo>
                <a:cubicBezTo>
                  <a:pt x="742" y="73"/>
                  <a:pt x="699" y="92"/>
                  <a:pt x="668" y="123"/>
                </a:cubicBezTo>
                <a:cubicBezTo>
                  <a:pt x="648" y="117"/>
                  <a:pt x="628" y="115"/>
                  <a:pt x="606" y="116"/>
                </a:cubicBezTo>
                <a:cubicBezTo>
                  <a:pt x="579" y="117"/>
                  <a:pt x="553" y="123"/>
                  <a:pt x="530" y="134"/>
                </a:cubicBezTo>
                <a:cubicBezTo>
                  <a:pt x="509" y="63"/>
                  <a:pt x="442" y="12"/>
                  <a:pt x="365" y="15"/>
                </a:cubicBezTo>
                <a:cubicBezTo>
                  <a:pt x="318" y="16"/>
                  <a:pt x="276" y="38"/>
                  <a:pt x="247" y="70"/>
                </a:cubicBezTo>
                <a:cubicBezTo>
                  <a:pt x="224" y="28"/>
                  <a:pt x="179" y="0"/>
                  <a:pt x="128" y="2"/>
                </a:cubicBezTo>
                <a:cubicBezTo>
                  <a:pt x="57" y="5"/>
                  <a:pt x="0" y="65"/>
                  <a:pt x="3" y="137"/>
                </a:cubicBezTo>
                <a:cubicBezTo>
                  <a:pt x="5" y="204"/>
                  <a:pt x="59" y="258"/>
                  <a:pt x="126" y="262"/>
                </a:cubicBezTo>
                <a:cubicBezTo>
                  <a:pt x="167" y="2082"/>
                  <a:pt x="167" y="2082"/>
                  <a:pt x="167" y="2082"/>
                </a:cubicBezTo>
                <a:cubicBezTo>
                  <a:pt x="4511" y="2082"/>
                  <a:pt x="4511" y="2082"/>
                  <a:pt x="4511" y="2082"/>
                </a:cubicBezTo>
                <a:cubicBezTo>
                  <a:pt x="4513" y="353"/>
                  <a:pt x="4513" y="353"/>
                  <a:pt x="4513" y="353"/>
                </a:cubicBezTo>
                <a:cubicBezTo>
                  <a:pt x="4577" y="351"/>
                  <a:pt x="4627" y="297"/>
                  <a:pt x="4625" y="233"/>
                </a:cubicBezTo>
                <a:cubicBezTo>
                  <a:pt x="4623" y="169"/>
                  <a:pt x="4569" y="119"/>
                  <a:pt x="4505" y="121"/>
                </a:cubicBezTo>
              </a:path>
            </a:pathLst>
          </a:custGeom>
          <a:solidFill>
            <a:srgbClr val="039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15">
            <a:hlinkClick r:id="rId3"/>
          </p:cNvPr>
          <p:cNvSpPr/>
          <p:nvPr/>
        </p:nvSpPr>
        <p:spPr>
          <a:xfrm>
            <a:off x="7505640" y="3352680"/>
            <a:ext cx="2419560" cy="3024360"/>
          </a:xfrm>
          <a:custGeom>
            <a:avLst/>
            <a:gdLst/>
            <a:ahLst/>
            <a:rect l="l" t="t" r="r" b="b"/>
            <a:pathLst>
              <a:path w="1533" h="1917">
                <a:moveTo>
                  <a:pt x="437" y="545"/>
                </a:moveTo>
                <a:cubicBezTo>
                  <a:pt x="253" y="646"/>
                  <a:pt x="118" y="810"/>
                  <a:pt x="75" y="1021"/>
                </a:cubicBezTo>
                <a:cubicBezTo>
                  <a:pt x="0" y="1394"/>
                  <a:pt x="253" y="1762"/>
                  <a:pt x="639" y="1839"/>
                </a:cubicBezTo>
                <a:cubicBezTo>
                  <a:pt x="1026" y="1917"/>
                  <a:pt x="1394" y="1677"/>
                  <a:pt x="1469" y="1304"/>
                </a:cubicBezTo>
                <a:cubicBezTo>
                  <a:pt x="1533" y="985"/>
                  <a:pt x="1334" y="667"/>
                  <a:pt x="1058" y="538"/>
                </a:cubicBezTo>
                <a:cubicBezTo>
                  <a:pt x="1058" y="538"/>
                  <a:pt x="1058" y="538"/>
                  <a:pt x="1058" y="538"/>
                </a:cubicBezTo>
                <a:cubicBezTo>
                  <a:pt x="1043" y="122"/>
                  <a:pt x="1043" y="122"/>
                  <a:pt x="1043" y="122"/>
                </a:cubicBezTo>
                <a:cubicBezTo>
                  <a:pt x="976" y="2"/>
                  <a:pt x="976" y="2"/>
                  <a:pt x="976" y="2"/>
                </a:cubicBezTo>
                <a:cubicBezTo>
                  <a:pt x="476" y="0"/>
                  <a:pt x="476" y="0"/>
                  <a:pt x="476" y="0"/>
                </a:cubicBezTo>
                <a:cubicBezTo>
                  <a:pt x="430" y="163"/>
                  <a:pt x="430" y="163"/>
                  <a:pt x="430" y="163"/>
                </a:cubicBezTo>
                <a:cubicBezTo>
                  <a:pt x="436" y="545"/>
                  <a:pt x="436" y="545"/>
                  <a:pt x="436" y="545"/>
                </a:cubicBezTo>
                <a:cubicBezTo>
                  <a:pt x="437" y="545"/>
                  <a:pt x="437" y="545"/>
                  <a:pt x="437" y="545"/>
                </a:cubicBez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16"/>
          <p:cNvSpPr/>
          <p:nvPr/>
        </p:nvSpPr>
        <p:spPr>
          <a:xfrm>
            <a:off x="8142120" y="3624120"/>
            <a:ext cx="1197000" cy="1857600"/>
          </a:xfrm>
          <a:custGeom>
            <a:avLst/>
            <a:gdLst/>
            <a:ahLst/>
            <a:rect l="l" t="t" r="r" b="b"/>
            <a:pathLst>
              <a:path w="759" h="1178">
                <a:moveTo>
                  <a:pt x="107" y="306"/>
                </a:moveTo>
                <a:cubicBezTo>
                  <a:pt x="606" y="302"/>
                  <a:pt x="606" y="302"/>
                  <a:pt x="606" y="302"/>
                </a:cubicBezTo>
                <a:cubicBezTo>
                  <a:pt x="599" y="240"/>
                  <a:pt x="599" y="240"/>
                  <a:pt x="599" y="240"/>
                </a:cubicBezTo>
                <a:cubicBezTo>
                  <a:pt x="96" y="252"/>
                  <a:pt x="96" y="252"/>
                  <a:pt x="96" y="252"/>
                </a:cubicBezTo>
                <a:cubicBezTo>
                  <a:pt x="107" y="306"/>
                  <a:pt x="107" y="306"/>
                  <a:pt x="107" y="306"/>
                </a:cubicBezTo>
                <a:moveTo>
                  <a:pt x="107" y="104"/>
                </a:moveTo>
                <a:cubicBezTo>
                  <a:pt x="100" y="165"/>
                  <a:pt x="100" y="165"/>
                  <a:pt x="100" y="165"/>
                </a:cubicBezTo>
                <a:cubicBezTo>
                  <a:pt x="598" y="178"/>
                  <a:pt x="598" y="178"/>
                  <a:pt x="598" y="178"/>
                </a:cubicBezTo>
                <a:cubicBezTo>
                  <a:pt x="610" y="123"/>
                  <a:pt x="610" y="123"/>
                  <a:pt x="610" y="123"/>
                </a:cubicBezTo>
                <a:cubicBezTo>
                  <a:pt x="107" y="104"/>
                  <a:pt x="107" y="104"/>
                  <a:pt x="107" y="104"/>
                </a:cubicBezTo>
                <a:moveTo>
                  <a:pt x="591" y="67"/>
                </a:moveTo>
                <a:cubicBezTo>
                  <a:pt x="587" y="5"/>
                  <a:pt x="587" y="5"/>
                  <a:pt x="587" y="5"/>
                </a:cubicBezTo>
                <a:cubicBezTo>
                  <a:pt x="83" y="0"/>
                  <a:pt x="83" y="0"/>
                  <a:pt x="83" y="0"/>
                </a:cubicBezTo>
                <a:cubicBezTo>
                  <a:pt x="92" y="54"/>
                  <a:pt x="92" y="54"/>
                  <a:pt x="92" y="54"/>
                </a:cubicBezTo>
                <a:cubicBezTo>
                  <a:pt x="591" y="67"/>
                  <a:pt x="591" y="67"/>
                  <a:pt x="591" y="67"/>
                </a:cubicBezTo>
                <a:moveTo>
                  <a:pt x="753" y="1073"/>
                </a:moveTo>
                <a:cubicBezTo>
                  <a:pt x="739" y="1037"/>
                  <a:pt x="679" y="1012"/>
                  <a:pt x="616" y="1004"/>
                </a:cubicBezTo>
                <a:cubicBezTo>
                  <a:pt x="558" y="849"/>
                  <a:pt x="508" y="586"/>
                  <a:pt x="489" y="464"/>
                </a:cubicBezTo>
                <a:cubicBezTo>
                  <a:pt x="488" y="459"/>
                  <a:pt x="484" y="455"/>
                  <a:pt x="479" y="455"/>
                </a:cubicBezTo>
                <a:cubicBezTo>
                  <a:pt x="478" y="454"/>
                  <a:pt x="476" y="454"/>
                  <a:pt x="475" y="454"/>
                </a:cubicBezTo>
                <a:cubicBezTo>
                  <a:pt x="469" y="455"/>
                  <a:pt x="464" y="461"/>
                  <a:pt x="465" y="468"/>
                </a:cubicBezTo>
                <a:cubicBezTo>
                  <a:pt x="472" y="514"/>
                  <a:pt x="521" y="816"/>
                  <a:pt x="590" y="1001"/>
                </a:cubicBezTo>
                <a:cubicBezTo>
                  <a:pt x="575" y="1000"/>
                  <a:pt x="559" y="1001"/>
                  <a:pt x="545" y="1002"/>
                </a:cubicBezTo>
                <a:cubicBezTo>
                  <a:pt x="502" y="1006"/>
                  <a:pt x="470" y="1020"/>
                  <a:pt x="453" y="1042"/>
                </a:cubicBezTo>
                <a:cubicBezTo>
                  <a:pt x="387" y="1022"/>
                  <a:pt x="298" y="1018"/>
                  <a:pt x="250" y="1034"/>
                </a:cubicBezTo>
                <a:cubicBezTo>
                  <a:pt x="249" y="1035"/>
                  <a:pt x="248" y="1035"/>
                  <a:pt x="247" y="1035"/>
                </a:cubicBezTo>
                <a:cubicBezTo>
                  <a:pt x="235" y="1029"/>
                  <a:pt x="223" y="1025"/>
                  <a:pt x="215" y="1022"/>
                </a:cubicBezTo>
                <a:cubicBezTo>
                  <a:pt x="190" y="1013"/>
                  <a:pt x="163" y="1005"/>
                  <a:pt x="138" y="1000"/>
                </a:cubicBezTo>
                <a:cubicBezTo>
                  <a:pt x="167" y="832"/>
                  <a:pt x="225" y="479"/>
                  <a:pt x="228" y="460"/>
                </a:cubicBezTo>
                <a:cubicBezTo>
                  <a:pt x="229" y="454"/>
                  <a:pt x="225" y="447"/>
                  <a:pt x="218" y="447"/>
                </a:cubicBezTo>
                <a:cubicBezTo>
                  <a:pt x="212" y="445"/>
                  <a:pt x="206" y="450"/>
                  <a:pt x="205" y="456"/>
                </a:cubicBezTo>
                <a:cubicBezTo>
                  <a:pt x="184" y="581"/>
                  <a:pt x="139" y="857"/>
                  <a:pt x="114" y="997"/>
                </a:cubicBezTo>
                <a:cubicBezTo>
                  <a:pt x="75" y="993"/>
                  <a:pt x="40" y="996"/>
                  <a:pt x="20" y="1013"/>
                </a:cubicBezTo>
                <a:cubicBezTo>
                  <a:pt x="11" y="1021"/>
                  <a:pt x="0" y="1036"/>
                  <a:pt x="5" y="1061"/>
                </a:cubicBezTo>
                <a:cubicBezTo>
                  <a:pt x="16" y="1120"/>
                  <a:pt x="40" y="1134"/>
                  <a:pt x="59" y="1135"/>
                </a:cubicBezTo>
                <a:cubicBezTo>
                  <a:pt x="88" y="1137"/>
                  <a:pt x="115" y="1109"/>
                  <a:pt x="121" y="1087"/>
                </a:cubicBezTo>
                <a:cubicBezTo>
                  <a:pt x="123" y="1082"/>
                  <a:pt x="127" y="1058"/>
                  <a:pt x="133" y="1024"/>
                </a:cubicBezTo>
                <a:cubicBezTo>
                  <a:pt x="156" y="1028"/>
                  <a:pt x="181" y="1035"/>
                  <a:pt x="206" y="1044"/>
                </a:cubicBezTo>
                <a:cubicBezTo>
                  <a:pt x="212" y="1046"/>
                  <a:pt x="217" y="1048"/>
                  <a:pt x="221" y="1050"/>
                </a:cubicBezTo>
                <a:cubicBezTo>
                  <a:pt x="206" y="1064"/>
                  <a:pt x="206" y="1080"/>
                  <a:pt x="209" y="1090"/>
                </a:cubicBezTo>
                <a:cubicBezTo>
                  <a:pt x="221" y="1143"/>
                  <a:pt x="262" y="1169"/>
                  <a:pt x="292" y="1163"/>
                </a:cubicBezTo>
                <a:cubicBezTo>
                  <a:pt x="310" y="1159"/>
                  <a:pt x="330" y="1141"/>
                  <a:pt x="323" y="1103"/>
                </a:cubicBezTo>
                <a:cubicBezTo>
                  <a:pt x="320" y="1083"/>
                  <a:pt x="300" y="1066"/>
                  <a:pt x="278" y="1052"/>
                </a:cubicBezTo>
                <a:cubicBezTo>
                  <a:pt x="323" y="1043"/>
                  <a:pt x="391" y="1049"/>
                  <a:pt x="442" y="1063"/>
                </a:cubicBezTo>
                <a:cubicBezTo>
                  <a:pt x="441" y="1067"/>
                  <a:pt x="440" y="1070"/>
                  <a:pt x="439" y="1074"/>
                </a:cubicBezTo>
                <a:cubicBezTo>
                  <a:pt x="428" y="1139"/>
                  <a:pt x="454" y="1162"/>
                  <a:pt x="466" y="1168"/>
                </a:cubicBezTo>
                <a:cubicBezTo>
                  <a:pt x="484" y="1178"/>
                  <a:pt x="507" y="1175"/>
                  <a:pt x="523" y="1161"/>
                </a:cubicBezTo>
                <a:cubicBezTo>
                  <a:pt x="540" y="1145"/>
                  <a:pt x="544" y="1120"/>
                  <a:pt x="533" y="1095"/>
                </a:cubicBezTo>
                <a:cubicBezTo>
                  <a:pt x="525" y="1077"/>
                  <a:pt x="504" y="1062"/>
                  <a:pt x="477" y="1051"/>
                </a:cubicBezTo>
                <a:cubicBezTo>
                  <a:pt x="496" y="1034"/>
                  <a:pt x="527" y="1028"/>
                  <a:pt x="547" y="1026"/>
                </a:cubicBezTo>
                <a:cubicBezTo>
                  <a:pt x="564" y="1024"/>
                  <a:pt x="582" y="1024"/>
                  <a:pt x="600" y="1026"/>
                </a:cubicBezTo>
                <a:cubicBezTo>
                  <a:pt x="625" y="1087"/>
                  <a:pt x="652" y="1131"/>
                  <a:pt x="680" y="1143"/>
                </a:cubicBezTo>
                <a:cubicBezTo>
                  <a:pt x="696" y="1149"/>
                  <a:pt x="712" y="1147"/>
                  <a:pt x="726" y="1136"/>
                </a:cubicBezTo>
                <a:cubicBezTo>
                  <a:pt x="759" y="1112"/>
                  <a:pt x="759" y="1088"/>
                  <a:pt x="753" y="1073"/>
                </a:cubicBezTo>
                <a:moveTo>
                  <a:pt x="98" y="1080"/>
                </a:moveTo>
                <a:cubicBezTo>
                  <a:pt x="94" y="1093"/>
                  <a:pt x="76" y="1113"/>
                  <a:pt x="60" y="1112"/>
                </a:cubicBezTo>
                <a:cubicBezTo>
                  <a:pt x="59" y="1112"/>
                  <a:pt x="59" y="1112"/>
                  <a:pt x="58" y="1112"/>
                </a:cubicBezTo>
                <a:cubicBezTo>
                  <a:pt x="45" y="1109"/>
                  <a:pt x="34" y="1089"/>
                  <a:pt x="28" y="1057"/>
                </a:cubicBezTo>
                <a:cubicBezTo>
                  <a:pt x="25" y="1042"/>
                  <a:pt x="31" y="1035"/>
                  <a:pt x="35" y="1031"/>
                </a:cubicBezTo>
                <a:cubicBezTo>
                  <a:pt x="48" y="1020"/>
                  <a:pt x="76" y="1017"/>
                  <a:pt x="110" y="1021"/>
                </a:cubicBezTo>
                <a:cubicBezTo>
                  <a:pt x="104" y="1054"/>
                  <a:pt x="100" y="1075"/>
                  <a:pt x="98" y="1080"/>
                </a:cubicBezTo>
                <a:moveTo>
                  <a:pt x="300" y="1107"/>
                </a:moveTo>
                <a:cubicBezTo>
                  <a:pt x="301" y="1116"/>
                  <a:pt x="303" y="1137"/>
                  <a:pt x="287" y="1140"/>
                </a:cubicBezTo>
                <a:cubicBezTo>
                  <a:pt x="284" y="1140"/>
                  <a:pt x="281" y="1140"/>
                  <a:pt x="277" y="1140"/>
                </a:cubicBezTo>
                <a:cubicBezTo>
                  <a:pt x="261" y="1136"/>
                  <a:pt x="240" y="1118"/>
                  <a:pt x="232" y="1084"/>
                </a:cubicBezTo>
                <a:cubicBezTo>
                  <a:pt x="231" y="1081"/>
                  <a:pt x="228" y="1070"/>
                  <a:pt x="247" y="1061"/>
                </a:cubicBezTo>
                <a:cubicBezTo>
                  <a:pt x="281" y="1079"/>
                  <a:pt x="298" y="1096"/>
                  <a:pt x="300" y="1107"/>
                </a:cubicBezTo>
                <a:moveTo>
                  <a:pt x="511" y="1105"/>
                </a:moveTo>
                <a:cubicBezTo>
                  <a:pt x="518" y="1120"/>
                  <a:pt x="516" y="1134"/>
                  <a:pt x="507" y="1143"/>
                </a:cubicBezTo>
                <a:cubicBezTo>
                  <a:pt x="500" y="1149"/>
                  <a:pt x="492" y="1151"/>
                  <a:pt x="484" y="1150"/>
                </a:cubicBezTo>
                <a:cubicBezTo>
                  <a:pt x="482" y="1149"/>
                  <a:pt x="480" y="1149"/>
                  <a:pt x="478" y="1148"/>
                </a:cubicBezTo>
                <a:cubicBezTo>
                  <a:pt x="462" y="1139"/>
                  <a:pt x="456" y="1113"/>
                  <a:pt x="462" y="1078"/>
                </a:cubicBezTo>
                <a:cubicBezTo>
                  <a:pt x="463" y="1076"/>
                  <a:pt x="463" y="1073"/>
                  <a:pt x="464" y="1071"/>
                </a:cubicBezTo>
                <a:cubicBezTo>
                  <a:pt x="488" y="1080"/>
                  <a:pt x="505" y="1092"/>
                  <a:pt x="511" y="1105"/>
                </a:cubicBezTo>
                <a:moveTo>
                  <a:pt x="712" y="1117"/>
                </a:moveTo>
                <a:cubicBezTo>
                  <a:pt x="705" y="1122"/>
                  <a:pt x="700" y="1124"/>
                  <a:pt x="694" y="1122"/>
                </a:cubicBezTo>
                <a:cubicBezTo>
                  <a:pt x="692" y="1122"/>
                  <a:pt x="691" y="1122"/>
                  <a:pt x="689" y="1121"/>
                </a:cubicBezTo>
                <a:cubicBezTo>
                  <a:pt x="668" y="1112"/>
                  <a:pt x="647" y="1078"/>
                  <a:pt x="626" y="1029"/>
                </a:cubicBezTo>
                <a:cubicBezTo>
                  <a:pt x="677" y="1038"/>
                  <a:pt x="722" y="1058"/>
                  <a:pt x="731" y="1081"/>
                </a:cubicBezTo>
                <a:cubicBezTo>
                  <a:pt x="735" y="1092"/>
                  <a:pt x="729" y="1105"/>
                  <a:pt x="712" y="1117"/>
                </a:cubicBezTo>
              </a:path>
            </a:pathLst>
          </a:custGeom>
          <a:solidFill>
            <a:srgbClr val="fbb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18"/>
          <p:cNvSpPr/>
          <p:nvPr/>
        </p:nvSpPr>
        <p:spPr>
          <a:xfrm>
            <a:off x="7824960" y="3676680"/>
            <a:ext cx="1581120" cy="398520"/>
          </a:xfrm>
          <a:custGeom>
            <a:avLst/>
            <a:gdLst/>
            <a:ahLst/>
            <a:rect l="l" t="t" r="r" b="b"/>
            <a:pathLst>
              <a:path w="1002" h="252">
                <a:moveTo>
                  <a:pt x="844" y="4"/>
                </a:moveTo>
                <a:cubicBezTo>
                  <a:pt x="849" y="128"/>
                  <a:pt x="849" y="128"/>
                  <a:pt x="849" y="128"/>
                </a:cubicBezTo>
                <a:cubicBezTo>
                  <a:pt x="871" y="134"/>
                  <a:pt x="895" y="152"/>
                  <a:pt x="919" y="190"/>
                </a:cubicBezTo>
                <a:cubicBezTo>
                  <a:pt x="919" y="190"/>
                  <a:pt x="922" y="105"/>
                  <a:pt x="1002" y="97"/>
                </a:cubicBezTo>
                <a:cubicBezTo>
                  <a:pt x="931" y="93"/>
                  <a:pt x="931" y="93"/>
                  <a:pt x="931" y="93"/>
                </a:cubicBezTo>
                <a:cubicBezTo>
                  <a:pt x="931" y="93"/>
                  <a:pt x="889" y="35"/>
                  <a:pt x="856" y="12"/>
                </a:cubicBezTo>
                <a:cubicBezTo>
                  <a:pt x="852" y="9"/>
                  <a:pt x="848" y="7"/>
                  <a:pt x="844" y="4"/>
                </a:cubicBezTo>
                <a:moveTo>
                  <a:pt x="191" y="0"/>
                </a:moveTo>
                <a:cubicBezTo>
                  <a:pt x="121" y="0"/>
                  <a:pt x="25" y="20"/>
                  <a:pt x="0" y="84"/>
                </a:cubicBezTo>
                <a:cubicBezTo>
                  <a:pt x="0" y="84"/>
                  <a:pt x="27" y="64"/>
                  <a:pt x="65" y="64"/>
                </a:cubicBezTo>
                <a:cubicBezTo>
                  <a:pt x="115" y="64"/>
                  <a:pt x="182" y="98"/>
                  <a:pt x="233" y="252"/>
                </a:cubicBezTo>
                <a:cubicBezTo>
                  <a:pt x="229" y="2"/>
                  <a:pt x="229" y="2"/>
                  <a:pt x="229" y="2"/>
                </a:cubicBezTo>
                <a:cubicBezTo>
                  <a:pt x="218" y="1"/>
                  <a:pt x="205" y="0"/>
                  <a:pt x="191" y="0"/>
                </a:cubicBezTo>
              </a:path>
            </a:pathLst>
          </a:custGeom>
          <a:solidFill>
            <a:srgbClr val="0393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Freeform 19"/>
          <p:cNvSpPr/>
          <p:nvPr/>
        </p:nvSpPr>
        <p:spPr>
          <a:xfrm>
            <a:off x="8186760" y="3643200"/>
            <a:ext cx="977760" cy="432000"/>
          </a:xfrm>
          <a:custGeom>
            <a:avLst/>
            <a:gdLst/>
            <a:ahLst/>
            <a:rect l="l" t="t" r="r" b="b"/>
            <a:pathLst>
              <a:path w="620" h="273">
                <a:moveTo>
                  <a:pt x="458" y="162"/>
                </a:moveTo>
                <a:cubicBezTo>
                  <a:pt x="474" y="175"/>
                  <a:pt x="491" y="191"/>
                  <a:pt x="508" y="211"/>
                </a:cubicBezTo>
                <a:cubicBezTo>
                  <a:pt x="508" y="211"/>
                  <a:pt x="525" y="184"/>
                  <a:pt x="551" y="164"/>
                </a:cubicBezTo>
                <a:cubicBezTo>
                  <a:pt x="458" y="162"/>
                  <a:pt x="458" y="162"/>
                  <a:pt x="458" y="162"/>
                </a:cubicBezTo>
                <a:moveTo>
                  <a:pt x="201" y="156"/>
                </a:moveTo>
                <a:cubicBezTo>
                  <a:pt x="217" y="161"/>
                  <a:pt x="233" y="168"/>
                  <a:pt x="251" y="179"/>
                </a:cubicBezTo>
                <a:cubicBezTo>
                  <a:pt x="251" y="179"/>
                  <a:pt x="255" y="169"/>
                  <a:pt x="264" y="157"/>
                </a:cubicBezTo>
                <a:cubicBezTo>
                  <a:pt x="201" y="156"/>
                  <a:pt x="201" y="156"/>
                  <a:pt x="201" y="156"/>
                </a:cubicBezTo>
                <a:moveTo>
                  <a:pt x="0" y="23"/>
                </a:moveTo>
                <a:cubicBezTo>
                  <a:pt x="4" y="273"/>
                  <a:pt x="4" y="273"/>
                  <a:pt x="4" y="273"/>
                </a:cubicBezTo>
                <a:cubicBezTo>
                  <a:pt x="4" y="273"/>
                  <a:pt x="4" y="273"/>
                  <a:pt x="4" y="273"/>
                </a:cubicBezTo>
                <a:cubicBezTo>
                  <a:pt x="4" y="273"/>
                  <a:pt x="30" y="180"/>
                  <a:pt x="104" y="153"/>
                </a:cubicBezTo>
                <a:cubicBezTo>
                  <a:pt x="72" y="152"/>
                  <a:pt x="72" y="152"/>
                  <a:pt x="72" y="152"/>
                </a:cubicBezTo>
                <a:cubicBezTo>
                  <a:pt x="79" y="91"/>
                  <a:pt x="79" y="91"/>
                  <a:pt x="79" y="91"/>
                </a:cubicBezTo>
                <a:cubicBezTo>
                  <a:pt x="103" y="92"/>
                  <a:pt x="103" y="92"/>
                  <a:pt x="103" y="92"/>
                </a:cubicBezTo>
                <a:cubicBezTo>
                  <a:pt x="85" y="75"/>
                  <a:pt x="53" y="47"/>
                  <a:pt x="32" y="33"/>
                </a:cubicBezTo>
                <a:cubicBezTo>
                  <a:pt x="27" y="29"/>
                  <a:pt x="15" y="25"/>
                  <a:pt x="0" y="23"/>
                </a:cubicBezTo>
                <a:moveTo>
                  <a:pt x="559" y="0"/>
                </a:moveTo>
                <a:cubicBezTo>
                  <a:pt x="563" y="54"/>
                  <a:pt x="563" y="54"/>
                  <a:pt x="563" y="54"/>
                </a:cubicBezTo>
                <a:cubicBezTo>
                  <a:pt x="420" y="50"/>
                  <a:pt x="420" y="50"/>
                  <a:pt x="420" y="50"/>
                </a:cubicBezTo>
                <a:cubicBezTo>
                  <a:pt x="415" y="54"/>
                  <a:pt x="415" y="54"/>
                  <a:pt x="415" y="54"/>
                </a:cubicBezTo>
                <a:cubicBezTo>
                  <a:pt x="415" y="54"/>
                  <a:pt x="414" y="53"/>
                  <a:pt x="413" y="50"/>
                </a:cubicBezTo>
                <a:cubicBezTo>
                  <a:pt x="186" y="45"/>
                  <a:pt x="186" y="45"/>
                  <a:pt x="186" y="45"/>
                </a:cubicBezTo>
                <a:cubicBezTo>
                  <a:pt x="178" y="57"/>
                  <a:pt x="174" y="90"/>
                  <a:pt x="168" y="94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582" y="110"/>
                  <a:pt x="582" y="110"/>
                  <a:pt x="582" y="110"/>
                </a:cubicBezTo>
                <a:cubicBezTo>
                  <a:pt x="573" y="152"/>
                  <a:pt x="573" y="152"/>
                  <a:pt x="573" y="152"/>
                </a:cubicBezTo>
                <a:cubicBezTo>
                  <a:pt x="582" y="148"/>
                  <a:pt x="591" y="146"/>
                  <a:pt x="601" y="146"/>
                </a:cubicBezTo>
                <a:cubicBezTo>
                  <a:pt x="607" y="146"/>
                  <a:pt x="613" y="147"/>
                  <a:pt x="620" y="149"/>
                </a:cubicBezTo>
                <a:cubicBezTo>
                  <a:pt x="615" y="25"/>
                  <a:pt x="615" y="25"/>
                  <a:pt x="615" y="25"/>
                </a:cubicBezTo>
                <a:cubicBezTo>
                  <a:pt x="596" y="14"/>
                  <a:pt x="574" y="5"/>
                  <a:pt x="559" y="0"/>
                </a:cubicBezTo>
              </a:path>
            </a:pathLst>
          </a:custGeom>
          <a:solidFill>
            <a:srgbClr val="81c9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Freeform 20"/>
          <p:cNvSpPr/>
          <p:nvPr/>
        </p:nvSpPr>
        <p:spPr>
          <a:xfrm>
            <a:off x="8299440" y="3633840"/>
            <a:ext cx="804960" cy="268200"/>
          </a:xfrm>
          <a:custGeom>
            <a:avLst/>
            <a:gdLst/>
            <a:ahLst/>
            <a:rect l="l" t="t" r="r" b="b"/>
            <a:pathLst>
              <a:path w="510" h="171">
                <a:moveTo>
                  <a:pt x="7" y="98"/>
                </a:moveTo>
                <a:cubicBezTo>
                  <a:pt x="0" y="159"/>
                  <a:pt x="0" y="159"/>
                  <a:pt x="0" y="159"/>
                </a:cubicBezTo>
                <a:cubicBezTo>
                  <a:pt x="32" y="160"/>
                  <a:pt x="32" y="160"/>
                  <a:pt x="32" y="160"/>
                </a:cubicBezTo>
                <a:cubicBezTo>
                  <a:pt x="45" y="155"/>
                  <a:pt x="59" y="153"/>
                  <a:pt x="75" y="153"/>
                </a:cubicBezTo>
                <a:cubicBezTo>
                  <a:pt x="91" y="153"/>
                  <a:pt x="109" y="156"/>
                  <a:pt x="129" y="163"/>
                </a:cubicBezTo>
                <a:cubicBezTo>
                  <a:pt x="192" y="164"/>
                  <a:pt x="192" y="164"/>
                  <a:pt x="192" y="164"/>
                </a:cubicBezTo>
                <a:cubicBezTo>
                  <a:pt x="207" y="144"/>
                  <a:pt x="234" y="118"/>
                  <a:pt x="276" y="118"/>
                </a:cubicBezTo>
                <a:cubicBezTo>
                  <a:pt x="305" y="118"/>
                  <a:pt x="342" y="131"/>
                  <a:pt x="386" y="169"/>
                </a:cubicBezTo>
                <a:cubicBezTo>
                  <a:pt x="479" y="171"/>
                  <a:pt x="479" y="171"/>
                  <a:pt x="479" y="171"/>
                </a:cubicBezTo>
                <a:cubicBezTo>
                  <a:pt x="486" y="166"/>
                  <a:pt x="493" y="162"/>
                  <a:pt x="501" y="159"/>
                </a:cubicBezTo>
                <a:cubicBezTo>
                  <a:pt x="510" y="117"/>
                  <a:pt x="510" y="117"/>
                  <a:pt x="510" y="11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89" y="106"/>
                  <a:pt x="46" y="112"/>
                  <a:pt x="46" y="112"/>
                </a:cubicBezTo>
                <a:cubicBezTo>
                  <a:pt x="46" y="112"/>
                  <a:pt x="40" y="106"/>
                  <a:pt x="31" y="99"/>
                </a:cubicBezTo>
                <a:cubicBezTo>
                  <a:pt x="7" y="98"/>
                  <a:pt x="7" y="98"/>
                  <a:pt x="7" y="98"/>
                </a:cubicBezTo>
                <a:moveTo>
                  <a:pt x="470" y="1"/>
                </a:moveTo>
                <a:cubicBezTo>
                  <a:pt x="371" y="40"/>
                  <a:pt x="371" y="40"/>
                  <a:pt x="371" y="40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491" y="61"/>
                  <a:pt x="491" y="61"/>
                  <a:pt x="491" y="61"/>
                </a:cubicBezTo>
                <a:cubicBezTo>
                  <a:pt x="487" y="7"/>
                  <a:pt x="487" y="7"/>
                  <a:pt x="487" y="7"/>
                </a:cubicBezTo>
                <a:cubicBezTo>
                  <a:pt x="477" y="3"/>
                  <a:pt x="470" y="1"/>
                  <a:pt x="470" y="1"/>
                </a:cubicBezTo>
                <a:moveTo>
                  <a:pt x="235" y="0"/>
                </a:moveTo>
                <a:cubicBezTo>
                  <a:pt x="206" y="0"/>
                  <a:pt x="179" y="1"/>
                  <a:pt x="179" y="1"/>
                </a:cubicBezTo>
                <a:cubicBezTo>
                  <a:pt x="179" y="1"/>
                  <a:pt x="127" y="39"/>
                  <a:pt x="117" y="48"/>
                </a:cubicBezTo>
                <a:cubicBezTo>
                  <a:pt x="116" y="49"/>
                  <a:pt x="115" y="50"/>
                  <a:pt x="114" y="52"/>
                </a:cubicBezTo>
                <a:cubicBezTo>
                  <a:pt x="341" y="57"/>
                  <a:pt x="341" y="57"/>
                  <a:pt x="341" y="57"/>
                </a:cubicBezTo>
                <a:cubicBezTo>
                  <a:pt x="333" y="44"/>
                  <a:pt x="304" y="3"/>
                  <a:pt x="275" y="1"/>
                </a:cubicBezTo>
                <a:cubicBezTo>
                  <a:pt x="264" y="0"/>
                  <a:pt x="249" y="0"/>
                  <a:pt x="235" y="0"/>
                </a:cubicBezTo>
              </a:path>
            </a:pathLst>
          </a:custGeom>
          <a:solidFill>
            <a:srgbClr val="7fa1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reeform 21"/>
          <p:cNvSpPr/>
          <p:nvPr/>
        </p:nvSpPr>
        <p:spPr>
          <a:xfrm>
            <a:off x="7824960" y="3527280"/>
            <a:ext cx="1581120" cy="338400"/>
          </a:xfrm>
          <a:custGeom>
            <a:avLst/>
            <a:gdLst/>
            <a:ahLst/>
            <a:rect l="l" t="t" r="r" b="b"/>
            <a:pathLst>
              <a:path w="1002" h="214">
                <a:moveTo>
                  <a:pt x="333" y="213"/>
                </a:moveTo>
                <a:cubicBezTo>
                  <a:pt x="411" y="205"/>
                  <a:pt x="411" y="205"/>
                  <a:pt x="411" y="205"/>
                </a:cubicBezTo>
                <a:cubicBezTo>
                  <a:pt x="411" y="205"/>
                  <a:pt x="484" y="0"/>
                  <a:pt x="634" y="164"/>
                </a:cubicBezTo>
                <a:cubicBezTo>
                  <a:pt x="657" y="164"/>
                  <a:pt x="657" y="164"/>
                  <a:pt x="657" y="164"/>
                </a:cubicBezTo>
                <a:cubicBezTo>
                  <a:pt x="657" y="164"/>
                  <a:pt x="770" y="34"/>
                  <a:pt x="900" y="161"/>
                </a:cubicBezTo>
                <a:cubicBezTo>
                  <a:pt x="920" y="180"/>
                  <a:pt x="937" y="198"/>
                  <a:pt x="951" y="214"/>
                </a:cubicBezTo>
                <a:cubicBezTo>
                  <a:pt x="963" y="203"/>
                  <a:pt x="980" y="195"/>
                  <a:pt x="1002" y="192"/>
                </a:cubicBezTo>
                <a:cubicBezTo>
                  <a:pt x="931" y="189"/>
                  <a:pt x="931" y="189"/>
                  <a:pt x="931" y="189"/>
                </a:cubicBezTo>
                <a:cubicBezTo>
                  <a:pt x="931" y="189"/>
                  <a:pt x="889" y="130"/>
                  <a:pt x="856" y="107"/>
                </a:cubicBezTo>
                <a:cubicBezTo>
                  <a:pt x="822" y="84"/>
                  <a:pt x="771" y="68"/>
                  <a:pt x="771" y="68"/>
                </a:cubicBezTo>
                <a:cubicBezTo>
                  <a:pt x="672" y="107"/>
                  <a:pt x="672" y="107"/>
                  <a:pt x="672" y="107"/>
                </a:cubicBezTo>
                <a:cubicBezTo>
                  <a:pt x="644" y="128"/>
                  <a:pt x="644" y="128"/>
                  <a:pt x="644" y="128"/>
                </a:cubicBezTo>
                <a:cubicBezTo>
                  <a:pt x="644" y="128"/>
                  <a:pt x="611" y="70"/>
                  <a:pt x="576" y="68"/>
                </a:cubicBezTo>
                <a:cubicBezTo>
                  <a:pt x="542" y="66"/>
                  <a:pt x="480" y="68"/>
                  <a:pt x="480" y="68"/>
                </a:cubicBezTo>
                <a:cubicBezTo>
                  <a:pt x="480" y="68"/>
                  <a:pt x="428" y="106"/>
                  <a:pt x="418" y="115"/>
                </a:cubicBezTo>
                <a:cubicBezTo>
                  <a:pt x="408" y="124"/>
                  <a:pt x="403" y="164"/>
                  <a:pt x="397" y="168"/>
                </a:cubicBezTo>
                <a:cubicBezTo>
                  <a:pt x="390" y="173"/>
                  <a:pt x="347" y="179"/>
                  <a:pt x="347" y="179"/>
                </a:cubicBezTo>
                <a:cubicBezTo>
                  <a:pt x="347" y="179"/>
                  <a:pt x="291" y="128"/>
                  <a:pt x="261" y="107"/>
                </a:cubicBezTo>
                <a:cubicBezTo>
                  <a:pt x="232" y="86"/>
                  <a:pt x="37" y="84"/>
                  <a:pt x="0" y="179"/>
                </a:cubicBezTo>
                <a:cubicBezTo>
                  <a:pt x="0" y="179"/>
                  <a:pt x="13" y="170"/>
                  <a:pt x="33" y="164"/>
                </a:cubicBezTo>
                <a:cubicBezTo>
                  <a:pt x="100" y="121"/>
                  <a:pt x="224" y="74"/>
                  <a:pt x="333" y="213"/>
                </a:cubicBezTo>
                <a:close/>
              </a:path>
            </a:pathLst>
          </a:custGeom>
          <a:solidFill>
            <a:srgbClr val="017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22"/>
          <p:cNvSpPr/>
          <p:nvPr/>
        </p:nvSpPr>
        <p:spPr>
          <a:xfrm>
            <a:off x="5095800" y="3575160"/>
            <a:ext cx="7296120" cy="401400"/>
          </a:xfrm>
          <a:custGeom>
            <a:avLst/>
            <a:gdLst/>
            <a:ahLst/>
            <a:rect l="l" t="t" r="r" b="b"/>
            <a:pathLst>
              <a:path w="4625" h="255">
                <a:moveTo>
                  <a:pt x="4" y="150"/>
                </a:moveTo>
                <a:cubicBezTo>
                  <a:pt x="13" y="89"/>
                  <a:pt x="64" y="40"/>
                  <a:pt x="128" y="38"/>
                </a:cubicBezTo>
                <a:cubicBezTo>
                  <a:pt x="179" y="36"/>
                  <a:pt x="224" y="64"/>
                  <a:pt x="247" y="106"/>
                </a:cubicBezTo>
                <a:cubicBezTo>
                  <a:pt x="276" y="74"/>
                  <a:pt x="318" y="52"/>
                  <a:pt x="365" y="51"/>
                </a:cubicBezTo>
                <a:cubicBezTo>
                  <a:pt x="442" y="48"/>
                  <a:pt x="509" y="99"/>
                  <a:pt x="530" y="170"/>
                </a:cubicBezTo>
                <a:cubicBezTo>
                  <a:pt x="553" y="159"/>
                  <a:pt x="579" y="153"/>
                  <a:pt x="606" y="152"/>
                </a:cubicBezTo>
                <a:cubicBezTo>
                  <a:pt x="628" y="151"/>
                  <a:pt x="648" y="153"/>
                  <a:pt x="668" y="159"/>
                </a:cubicBezTo>
                <a:cubicBezTo>
                  <a:pt x="699" y="128"/>
                  <a:pt x="742" y="109"/>
                  <a:pt x="789" y="107"/>
                </a:cubicBezTo>
                <a:cubicBezTo>
                  <a:pt x="840" y="106"/>
                  <a:pt x="886" y="124"/>
                  <a:pt x="921" y="156"/>
                </a:cubicBezTo>
                <a:cubicBezTo>
                  <a:pt x="940" y="146"/>
                  <a:pt x="962" y="139"/>
                  <a:pt x="986" y="138"/>
                </a:cubicBezTo>
                <a:cubicBezTo>
                  <a:pt x="1021" y="137"/>
                  <a:pt x="1054" y="148"/>
                  <a:pt x="1080" y="168"/>
                </a:cubicBezTo>
                <a:cubicBezTo>
                  <a:pt x="1113" y="124"/>
                  <a:pt x="1165" y="94"/>
                  <a:pt x="1225" y="92"/>
                </a:cubicBezTo>
                <a:cubicBezTo>
                  <a:pt x="1285" y="90"/>
                  <a:pt x="1340" y="117"/>
                  <a:pt x="1376" y="160"/>
                </a:cubicBezTo>
                <a:cubicBezTo>
                  <a:pt x="1407" y="137"/>
                  <a:pt x="1445" y="123"/>
                  <a:pt x="1486" y="121"/>
                </a:cubicBezTo>
                <a:cubicBezTo>
                  <a:pt x="1539" y="119"/>
                  <a:pt x="1588" y="139"/>
                  <a:pt x="1624" y="173"/>
                </a:cubicBezTo>
                <a:cubicBezTo>
                  <a:pt x="1637" y="173"/>
                  <a:pt x="1649" y="175"/>
                  <a:pt x="1660" y="178"/>
                </a:cubicBezTo>
                <a:cubicBezTo>
                  <a:pt x="1673" y="173"/>
                  <a:pt x="1687" y="171"/>
                  <a:pt x="1702" y="170"/>
                </a:cubicBezTo>
                <a:cubicBezTo>
                  <a:pt x="1706" y="170"/>
                  <a:pt x="1711" y="170"/>
                  <a:pt x="1715" y="170"/>
                </a:cubicBezTo>
                <a:cubicBezTo>
                  <a:pt x="1751" y="112"/>
                  <a:pt x="1815" y="72"/>
                  <a:pt x="1888" y="69"/>
                </a:cubicBezTo>
                <a:cubicBezTo>
                  <a:pt x="1965" y="66"/>
                  <a:pt x="2034" y="105"/>
                  <a:pt x="2073" y="165"/>
                </a:cubicBezTo>
                <a:cubicBezTo>
                  <a:pt x="2090" y="160"/>
                  <a:pt x="2109" y="156"/>
                  <a:pt x="2128" y="155"/>
                </a:cubicBezTo>
                <a:cubicBezTo>
                  <a:pt x="2129" y="155"/>
                  <a:pt x="2129" y="155"/>
                  <a:pt x="2130" y="155"/>
                </a:cubicBezTo>
                <a:cubicBezTo>
                  <a:pt x="2141" y="96"/>
                  <a:pt x="2192" y="51"/>
                  <a:pt x="2254" y="48"/>
                </a:cubicBezTo>
                <a:cubicBezTo>
                  <a:pt x="2305" y="47"/>
                  <a:pt x="2350" y="75"/>
                  <a:pt x="2373" y="117"/>
                </a:cubicBezTo>
                <a:cubicBezTo>
                  <a:pt x="2402" y="84"/>
                  <a:pt x="2444" y="63"/>
                  <a:pt x="2491" y="61"/>
                </a:cubicBezTo>
                <a:cubicBezTo>
                  <a:pt x="2568" y="58"/>
                  <a:pt x="2635" y="109"/>
                  <a:pt x="2656" y="180"/>
                </a:cubicBezTo>
                <a:cubicBezTo>
                  <a:pt x="2679" y="169"/>
                  <a:pt x="2705" y="163"/>
                  <a:pt x="2732" y="162"/>
                </a:cubicBezTo>
                <a:cubicBezTo>
                  <a:pt x="2753" y="161"/>
                  <a:pt x="2774" y="164"/>
                  <a:pt x="2793" y="169"/>
                </a:cubicBezTo>
                <a:cubicBezTo>
                  <a:pt x="2825" y="139"/>
                  <a:pt x="2867" y="119"/>
                  <a:pt x="2915" y="118"/>
                </a:cubicBezTo>
                <a:cubicBezTo>
                  <a:pt x="2965" y="116"/>
                  <a:pt x="3012" y="135"/>
                  <a:pt x="3046" y="167"/>
                </a:cubicBezTo>
                <a:cubicBezTo>
                  <a:pt x="3066" y="156"/>
                  <a:pt x="3088" y="150"/>
                  <a:pt x="3112" y="149"/>
                </a:cubicBezTo>
                <a:cubicBezTo>
                  <a:pt x="3147" y="148"/>
                  <a:pt x="3180" y="159"/>
                  <a:pt x="3206" y="178"/>
                </a:cubicBezTo>
                <a:cubicBezTo>
                  <a:pt x="3239" y="134"/>
                  <a:pt x="3291" y="105"/>
                  <a:pt x="3350" y="103"/>
                </a:cubicBezTo>
                <a:cubicBezTo>
                  <a:pt x="3411" y="100"/>
                  <a:pt x="3466" y="127"/>
                  <a:pt x="3502" y="171"/>
                </a:cubicBezTo>
                <a:cubicBezTo>
                  <a:pt x="3532" y="147"/>
                  <a:pt x="3570" y="133"/>
                  <a:pt x="3612" y="132"/>
                </a:cubicBezTo>
                <a:cubicBezTo>
                  <a:pt x="3665" y="130"/>
                  <a:pt x="3714" y="150"/>
                  <a:pt x="3750" y="183"/>
                </a:cubicBezTo>
                <a:cubicBezTo>
                  <a:pt x="3762" y="183"/>
                  <a:pt x="3774" y="185"/>
                  <a:pt x="3786" y="188"/>
                </a:cubicBezTo>
                <a:cubicBezTo>
                  <a:pt x="3799" y="184"/>
                  <a:pt x="3813" y="181"/>
                  <a:pt x="3827" y="181"/>
                </a:cubicBezTo>
                <a:cubicBezTo>
                  <a:pt x="3832" y="180"/>
                  <a:pt x="3836" y="181"/>
                  <a:pt x="3841" y="181"/>
                </a:cubicBezTo>
                <a:cubicBezTo>
                  <a:pt x="3876" y="122"/>
                  <a:pt x="3940" y="82"/>
                  <a:pt x="4014" y="80"/>
                </a:cubicBezTo>
                <a:cubicBezTo>
                  <a:pt x="4091" y="77"/>
                  <a:pt x="4160" y="116"/>
                  <a:pt x="4199" y="176"/>
                </a:cubicBezTo>
                <a:cubicBezTo>
                  <a:pt x="4216" y="170"/>
                  <a:pt x="4234" y="167"/>
                  <a:pt x="4253" y="166"/>
                </a:cubicBezTo>
                <a:cubicBezTo>
                  <a:pt x="4270" y="165"/>
                  <a:pt x="4286" y="167"/>
                  <a:pt x="4301" y="170"/>
                </a:cubicBezTo>
                <a:cubicBezTo>
                  <a:pt x="4315" y="166"/>
                  <a:pt x="4329" y="163"/>
                  <a:pt x="4343" y="163"/>
                </a:cubicBezTo>
                <a:cubicBezTo>
                  <a:pt x="4376" y="162"/>
                  <a:pt x="4406" y="171"/>
                  <a:pt x="4431" y="187"/>
                </a:cubicBezTo>
                <a:cubicBezTo>
                  <a:pt x="4451" y="169"/>
                  <a:pt x="4476" y="158"/>
                  <a:pt x="4505" y="157"/>
                </a:cubicBezTo>
                <a:cubicBezTo>
                  <a:pt x="4564" y="155"/>
                  <a:pt x="4615" y="198"/>
                  <a:pt x="4624" y="255"/>
                </a:cubicBezTo>
                <a:cubicBezTo>
                  <a:pt x="4625" y="248"/>
                  <a:pt x="4625" y="241"/>
                  <a:pt x="4625" y="233"/>
                </a:cubicBezTo>
                <a:cubicBezTo>
                  <a:pt x="4623" y="169"/>
                  <a:pt x="4569" y="119"/>
                  <a:pt x="4505" y="121"/>
                </a:cubicBezTo>
                <a:cubicBezTo>
                  <a:pt x="4476" y="122"/>
                  <a:pt x="4451" y="133"/>
                  <a:pt x="4431" y="151"/>
                </a:cubicBezTo>
                <a:cubicBezTo>
                  <a:pt x="4406" y="135"/>
                  <a:pt x="4376" y="126"/>
                  <a:pt x="4343" y="127"/>
                </a:cubicBezTo>
                <a:cubicBezTo>
                  <a:pt x="4329" y="127"/>
                  <a:pt x="4315" y="130"/>
                  <a:pt x="4301" y="134"/>
                </a:cubicBezTo>
                <a:cubicBezTo>
                  <a:pt x="4286" y="131"/>
                  <a:pt x="4270" y="129"/>
                  <a:pt x="4253" y="130"/>
                </a:cubicBezTo>
                <a:cubicBezTo>
                  <a:pt x="4234" y="131"/>
                  <a:pt x="4216" y="134"/>
                  <a:pt x="4199" y="140"/>
                </a:cubicBezTo>
                <a:cubicBezTo>
                  <a:pt x="4160" y="80"/>
                  <a:pt x="4091" y="41"/>
                  <a:pt x="4014" y="44"/>
                </a:cubicBezTo>
                <a:cubicBezTo>
                  <a:pt x="3940" y="46"/>
                  <a:pt x="3876" y="86"/>
                  <a:pt x="3841" y="145"/>
                </a:cubicBezTo>
                <a:cubicBezTo>
                  <a:pt x="3836" y="145"/>
                  <a:pt x="3832" y="144"/>
                  <a:pt x="3827" y="145"/>
                </a:cubicBezTo>
                <a:cubicBezTo>
                  <a:pt x="3813" y="145"/>
                  <a:pt x="3799" y="148"/>
                  <a:pt x="3786" y="152"/>
                </a:cubicBezTo>
                <a:cubicBezTo>
                  <a:pt x="3774" y="149"/>
                  <a:pt x="3762" y="147"/>
                  <a:pt x="3750" y="147"/>
                </a:cubicBezTo>
                <a:cubicBezTo>
                  <a:pt x="3714" y="114"/>
                  <a:pt x="3665" y="94"/>
                  <a:pt x="3612" y="96"/>
                </a:cubicBezTo>
                <a:cubicBezTo>
                  <a:pt x="3570" y="97"/>
                  <a:pt x="3532" y="111"/>
                  <a:pt x="3502" y="135"/>
                </a:cubicBezTo>
                <a:cubicBezTo>
                  <a:pt x="3466" y="91"/>
                  <a:pt x="3411" y="64"/>
                  <a:pt x="3350" y="67"/>
                </a:cubicBezTo>
                <a:cubicBezTo>
                  <a:pt x="3291" y="69"/>
                  <a:pt x="3239" y="98"/>
                  <a:pt x="3206" y="142"/>
                </a:cubicBezTo>
                <a:cubicBezTo>
                  <a:pt x="3180" y="123"/>
                  <a:pt x="3147" y="112"/>
                  <a:pt x="3112" y="113"/>
                </a:cubicBezTo>
                <a:cubicBezTo>
                  <a:pt x="3088" y="114"/>
                  <a:pt x="3066" y="120"/>
                  <a:pt x="3046" y="131"/>
                </a:cubicBezTo>
                <a:cubicBezTo>
                  <a:pt x="3012" y="99"/>
                  <a:pt x="2965" y="80"/>
                  <a:pt x="2915" y="82"/>
                </a:cubicBezTo>
                <a:cubicBezTo>
                  <a:pt x="2867" y="83"/>
                  <a:pt x="2825" y="103"/>
                  <a:pt x="2793" y="133"/>
                </a:cubicBezTo>
                <a:cubicBezTo>
                  <a:pt x="2774" y="128"/>
                  <a:pt x="2753" y="125"/>
                  <a:pt x="2732" y="126"/>
                </a:cubicBezTo>
                <a:cubicBezTo>
                  <a:pt x="2705" y="127"/>
                  <a:pt x="2679" y="133"/>
                  <a:pt x="2656" y="144"/>
                </a:cubicBezTo>
                <a:cubicBezTo>
                  <a:pt x="2635" y="73"/>
                  <a:pt x="2568" y="22"/>
                  <a:pt x="2491" y="25"/>
                </a:cubicBezTo>
                <a:cubicBezTo>
                  <a:pt x="2444" y="27"/>
                  <a:pt x="2402" y="48"/>
                  <a:pt x="2373" y="81"/>
                </a:cubicBezTo>
                <a:cubicBezTo>
                  <a:pt x="2350" y="39"/>
                  <a:pt x="2305" y="11"/>
                  <a:pt x="2254" y="12"/>
                </a:cubicBezTo>
                <a:cubicBezTo>
                  <a:pt x="2192" y="15"/>
                  <a:pt x="2141" y="60"/>
                  <a:pt x="2130" y="119"/>
                </a:cubicBezTo>
                <a:cubicBezTo>
                  <a:pt x="2129" y="119"/>
                  <a:pt x="2129" y="119"/>
                  <a:pt x="2128" y="119"/>
                </a:cubicBezTo>
                <a:cubicBezTo>
                  <a:pt x="2109" y="120"/>
                  <a:pt x="2090" y="124"/>
                  <a:pt x="2073" y="129"/>
                </a:cubicBezTo>
                <a:cubicBezTo>
                  <a:pt x="2034" y="69"/>
                  <a:pt x="1965" y="30"/>
                  <a:pt x="1888" y="33"/>
                </a:cubicBezTo>
                <a:cubicBezTo>
                  <a:pt x="1815" y="36"/>
                  <a:pt x="1751" y="76"/>
                  <a:pt x="1715" y="134"/>
                </a:cubicBezTo>
                <a:cubicBezTo>
                  <a:pt x="1711" y="134"/>
                  <a:pt x="1706" y="134"/>
                  <a:pt x="1702" y="134"/>
                </a:cubicBezTo>
                <a:cubicBezTo>
                  <a:pt x="1687" y="135"/>
                  <a:pt x="1673" y="137"/>
                  <a:pt x="1660" y="142"/>
                </a:cubicBezTo>
                <a:cubicBezTo>
                  <a:pt x="1649" y="139"/>
                  <a:pt x="1637" y="137"/>
                  <a:pt x="1624" y="137"/>
                </a:cubicBezTo>
                <a:cubicBezTo>
                  <a:pt x="1588" y="103"/>
                  <a:pt x="1539" y="83"/>
                  <a:pt x="1486" y="85"/>
                </a:cubicBezTo>
                <a:cubicBezTo>
                  <a:pt x="1445" y="87"/>
                  <a:pt x="1407" y="101"/>
                  <a:pt x="1376" y="124"/>
                </a:cubicBezTo>
                <a:cubicBezTo>
                  <a:pt x="1340" y="81"/>
                  <a:pt x="1285" y="54"/>
                  <a:pt x="1225" y="56"/>
                </a:cubicBezTo>
                <a:cubicBezTo>
                  <a:pt x="1165" y="58"/>
                  <a:pt x="1113" y="88"/>
                  <a:pt x="1080" y="132"/>
                </a:cubicBezTo>
                <a:cubicBezTo>
                  <a:pt x="1054" y="112"/>
                  <a:pt x="1021" y="101"/>
                  <a:pt x="986" y="102"/>
                </a:cubicBezTo>
                <a:cubicBezTo>
                  <a:pt x="962" y="103"/>
                  <a:pt x="940" y="110"/>
                  <a:pt x="921" y="120"/>
                </a:cubicBezTo>
                <a:cubicBezTo>
                  <a:pt x="886" y="88"/>
                  <a:pt x="840" y="70"/>
                  <a:pt x="789" y="71"/>
                </a:cubicBezTo>
                <a:cubicBezTo>
                  <a:pt x="742" y="73"/>
                  <a:pt x="699" y="92"/>
                  <a:pt x="668" y="123"/>
                </a:cubicBezTo>
                <a:cubicBezTo>
                  <a:pt x="648" y="117"/>
                  <a:pt x="628" y="115"/>
                  <a:pt x="606" y="116"/>
                </a:cubicBezTo>
                <a:cubicBezTo>
                  <a:pt x="579" y="117"/>
                  <a:pt x="553" y="123"/>
                  <a:pt x="530" y="134"/>
                </a:cubicBezTo>
                <a:cubicBezTo>
                  <a:pt x="509" y="63"/>
                  <a:pt x="442" y="12"/>
                  <a:pt x="365" y="15"/>
                </a:cubicBezTo>
                <a:cubicBezTo>
                  <a:pt x="318" y="16"/>
                  <a:pt x="276" y="38"/>
                  <a:pt x="247" y="70"/>
                </a:cubicBezTo>
                <a:cubicBezTo>
                  <a:pt x="224" y="28"/>
                  <a:pt x="179" y="0"/>
                  <a:pt x="128" y="2"/>
                </a:cubicBezTo>
                <a:cubicBezTo>
                  <a:pt x="57" y="5"/>
                  <a:pt x="0" y="65"/>
                  <a:pt x="3" y="137"/>
                </a:cubicBezTo>
                <a:cubicBezTo>
                  <a:pt x="3" y="141"/>
                  <a:pt x="3" y="146"/>
                  <a:pt x="4" y="150"/>
                </a:cubicBezTo>
                <a:close/>
              </a:path>
            </a:pathLst>
          </a:custGeom>
          <a:solidFill>
            <a:srgbClr val="05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5" name="组合 668"/>
          <p:cNvGrpSpPr/>
          <p:nvPr/>
        </p:nvGrpSpPr>
        <p:grpSpPr>
          <a:xfrm>
            <a:off x="8271000" y="2013120"/>
            <a:ext cx="766800" cy="1684080"/>
            <a:chOff x="8271000" y="2013120"/>
            <a:chExt cx="766800" cy="1684080"/>
          </a:xfrm>
        </p:grpSpPr>
        <p:sp>
          <p:nvSpPr>
            <p:cNvPr id="936" name="Freeform 37"/>
            <p:cNvSpPr/>
            <p:nvPr/>
          </p:nvSpPr>
          <p:spPr>
            <a:xfrm>
              <a:off x="8347680" y="2013120"/>
              <a:ext cx="565200" cy="326880"/>
            </a:xfrm>
            <a:custGeom>
              <a:avLst/>
              <a:gdLst/>
              <a:ahLst/>
              <a:rect l="l" t="t" r="r" b="b"/>
              <a:pathLst>
                <a:path w="358" h="207">
                  <a:moveTo>
                    <a:pt x="325" y="15"/>
                  </a:moveTo>
                  <a:cubicBezTo>
                    <a:pt x="325" y="15"/>
                    <a:pt x="319" y="66"/>
                    <a:pt x="193" y="53"/>
                  </a:cubicBezTo>
                  <a:cubicBezTo>
                    <a:pt x="83" y="42"/>
                    <a:pt x="7" y="95"/>
                    <a:pt x="4" y="207"/>
                  </a:cubicBezTo>
                  <a:cubicBezTo>
                    <a:pt x="0" y="85"/>
                    <a:pt x="78" y="26"/>
                    <a:pt x="193" y="37"/>
                  </a:cubicBezTo>
                  <a:cubicBezTo>
                    <a:pt x="318" y="50"/>
                    <a:pt x="325" y="0"/>
                    <a:pt x="325" y="0"/>
                  </a:cubicBezTo>
                  <a:cubicBezTo>
                    <a:pt x="352" y="55"/>
                    <a:pt x="358" y="119"/>
                    <a:pt x="358" y="160"/>
                  </a:cubicBezTo>
                  <a:cubicBezTo>
                    <a:pt x="357" y="119"/>
                    <a:pt x="349" y="64"/>
                    <a:pt x="325" y="15"/>
                  </a:cubicBezTo>
                  <a:close/>
                </a:path>
              </a:pathLst>
            </a:custGeom>
            <a:solidFill>
              <a:srgbClr val="bc62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7" name="组合 663"/>
            <p:cNvGrpSpPr/>
            <p:nvPr/>
          </p:nvGrpSpPr>
          <p:grpSpPr>
            <a:xfrm>
              <a:off x="8271000" y="2013840"/>
              <a:ext cx="766800" cy="1683360"/>
              <a:chOff x="8271000" y="2013840"/>
              <a:chExt cx="766800" cy="1683360"/>
            </a:xfrm>
          </p:grpSpPr>
          <p:sp>
            <p:nvSpPr>
              <p:cNvPr id="938" name="Freeform 17"/>
              <p:cNvSpPr/>
              <p:nvPr/>
            </p:nvSpPr>
            <p:spPr>
              <a:xfrm>
                <a:off x="8350200" y="3348000"/>
                <a:ext cx="687600" cy="298440"/>
              </a:xfrm>
              <a:custGeom>
                <a:avLst/>
                <a:gdLst/>
                <a:ahLst/>
                <a:rect l="l" t="t" r="r" b="b"/>
                <a:pathLst>
                  <a:path w="436" h="190">
                    <a:moveTo>
                      <a:pt x="0" y="0"/>
                    </a:moveTo>
                    <a:cubicBezTo>
                      <a:pt x="0" y="0"/>
                      <a:pt x="74" y="126"/>
                      <a:pt x="78" y="145"/>
                    </a:cubicBezTo>
                    <a:cubicBezTo>
                      <a:pt x="83" y="163"/>
                      <a:pt x="126" y="174"/>
                      <a:pt x="126" y="174"/>
                    </a:cubicBezTo>
                    <a:cubicBezTo>
                      <a:pt x="127" y="54"/>
                      <a:pt x="127" y="54"/>
                      <a:pt x="127" y="54"/>
                    </a:cubicBezTo>
                    <a:cubicBezTo>
                      <a:pt x="127" y="54"/>
                      <a:pt x="169" y="70"/>
                      <a:pt x="236" y="66"/>
                    </a:cubicBezTo>
                    <a:cubicBezTo>
                      <a:pt x="303" y="61"/>
                      <a:pt x="301" y="87"/>
                      <a:pt x="301" y="87"/>
                    </a:cubicBezTo>
                    <a:cubicBezTo>
                      <a:pt x="273" y="179"/>
                      <a:pt x="273" y="179"/>
                      <a:pt x="273" y="179"/>
                    </a:cubicBezTo>
                    <a:cubicBezTo>
                      <a:pt x="325" y="190"/>
                      <a:pt x="325" y="190"/>
                      <a:pt x="325" y="190"/>
                    </a:cubicBezTo>
                    <a:cubicBezTo>
                      <a:pt x="353" y="187"/>
                      <a:pt x="353" y="187"/>
                      <a:pt x="353" y="187"/>
                    </a:cubicBezTo>
                    <a:cubicBezTo>
                      <a:pt x="353" y="187"/>
                      <a:pt x="329" y="111"/>
                      <a:pt x="370" y="80"/>
                    </a:cubicBezTo>
                    <a:cubicBezTo>
                      <a:pt x="411" y="49"/>
                      <a:pt x="436" y="0"/>
                      <a:pt x="436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b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23"/>
              <p:cNvSpPr/>
              <p:nvPr/>
            </p:nvSpPr>
            <p:spPr>
              <a:xfrm>
                <a:off x="8352000" y="3570480"/>
                <a:ext cx="190440" cy="126720"/>
              </a:xfrm>
              <a:custGeom>
                <a:avLst/>
                <a:gdLst/>
                <a:ahLst/>
                <a:rect l="l" t="t" r="r" b="b"/>
                <a:pathLst>
                  <a:path w="121" h="81">
                    <a:moveTo>
                      <a:pt x="64" y="10"/>
                    </a:moveTo>
                    <a:cubicBezTo>
                      <a:pt x="64" y="10"/>
                      <a:pt x="53" y="32"/>
                      <a:pt x="21" y="34"/>
                    </a:cubicBezTo>
                    <a:cubicBezTo>
                      <a:pt x="21" y="34"/>
                      <a:pt x="0" y="40"/>
                      <a:pt x="8" y="61"/>
                    </a:cubicBezTo>
                    <a:cubicBezTo>
                      <a:pt x="16" y="81"/>
                      <a:pt x="68" y="71"/>
                      <a:pt x="74" y="66"/>
                    </a:cubicBezTo>
                    <a:cubicBezTo>
                      <a:pt x="81" y="61"/>
                      <a:pt x="103" y="39"/>
                      <a:pt x="103" y="39"/>
                    </a:cubicBezTo>
                    <a:cubicBezTo>
                      <a:pt x="103" y="42"/>
                      <a:pt x="103" y="42"/>
                      <a:pt x="103" y="42"/>
                    </a:cubicBezTo>
                    <a:cubicBezTo>
                      <a:pt x="119" y="42"/>
                      <a:pt x="119" y="42"/>
                      <a:pt x="119" y="42"/>
                    </a:cubicBezTo>
                    <a:cubicBezTo>
                      <a:pt x="119" y="42"/>
                      <a:pt x="121" y="20"/>
                      <a:pt x="113" y="10"/>
                    </a:cubicBezTo>
                    <a:cubicBezTo>
                      <a:pt x="106" y="0"/>
                      <a:pt x="66" y="1"/>
                      <a:pt x="64" y="10"/>
                    </a:cubicBezTo>
                    <a:close/>
                  </a:path>
                </a:pathLst>
              </a:custGeom>
              <a:solidFill>
                <a:srgbClr val="11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24"/>
              <p:cNvSpPr/>
              <p:nvPr/>
            </p:nvSpPr>
            <p:spPr>
              <a:xfrm>
                <a:off x="8372520" y="3633840"/>
                <a:ext cx="98280" cy="4284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0" y="8"/>
                    </a:moveTo>
                    <a:cubicBezTo>
                      <a:pt x="0" y="8"/>
                      <a:pt x="30" y="28"/>
                      <a:pt x="62" y="8"/>
                    </a:cubicBezTo>
                    <a:cubicBezTo>
                      <a:pt x="62" y="6"/>
                      <a:pt x="62" y="6"/>
                      <a:pt x="62" y="6"/>
                    </a:cubicBezTo>
                    <a:cubicBezTo>
                      <a:pt x="62" y="6"/>
                      <a:pt x="21" y="21"/>
                      <a:pt x="7" y="0"/>
                    </a:cubicBezTo>
                    <a:cubicBezTo>
                      <a:pt x="7" y="0"/>
                      <a:pt x="1" y="1"/>
                      <a:pt x="0" y="8"/>
                    </a:cubicBez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25"/>
              <p:cNvSpPr/>
              <p:nvPr/>
            </p:nvSpPr>
            <p:spPr>
              <a:xfrm>
                <a:off x="8763120" y="3570480"/>
                <a:ext cx="190440" cy="126720"/>
              </a:xfrm>
              <a:custGeom>
                <a:avLst/>
                <a:gdLst/>
                <a:ahLst/>
                <a:rect l="l" t="t" r="r" b="b"/>
                <a:pathLst>
                  <a:path w="120" h="81">
                    <a:moveTo>
                      <a:pt x="56" y="10"/>
                    </a:moveTo>
                    <a:cubicBezTo>
                      <a:pt x="56" y="10"/>
                      <a:pt x="67" y="32"/>
                      <a:pt x="100" y="34"/>
                    </a:cubicBezTo>
                    <a:cubicBezTo>
                      <a:pt x="100" y="34"/>
                      <a:pt x="120" y="40"/>
                      <a:pt x="112" y="61"/>
                    </a:cubicBezTo>
                    <a:cubicBezTo>
                      <a:pt x="105" y="81"/>
                      <a:pt x="53" y="71"/>
                      <a:pt x="46" y="66"/>
                    </a:cubicBezTo>
                    <a:cubicBezTo>
                      <a:pt x="40" y="61"/>
                      <a:pt x="18" y="39"/>
                      <a:pt x="18" y="39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0" y="20"/>
                      <a:pt x="7" y="10"/>
                    </a:cubicBezTo>
                    <a:cubicBezTo>
                      <a:pt x="15" y="0"/>
                      <a:pt x="55" y="1"/>
                      <a:pt x="56" y="10"/>
                    </a:cubicBezTo>
                    <a:close/>
                  </a:path>
                </a:pathLst>
              </a:custGeom>
              <a:solidFill>
                <a:srgbClr val="11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26"/>
              <p:cNvSpPr/>
              <p:nvPr/>
            </p:nvSpPr>
            <p:spPr>
              <a:xfrm>
                <a:off x="8836200" y="3633840"/>
                <a:ext cx="98280" cy="4284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62" y="8"/>
                    </a:moveTo>
                    <a:cubicBezTo>
                      <a:pt x="62" y="8"/>
                      <a:pt x="32" y="28"/>
                      <a:pt x="0" y="8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41" y="21"/>
                      <a:pt x="55" y="0"/>
                    </a:cubicBezTo>
                    <a:cubicBezTo>
                      <a:pt x="55" y="0"/>
                      <a:pt x="61" y="1"/>
                      <a:pt x="62" y="8"/>
                    </a:cubicBez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27"/>
              <p:cNvSpPr/>
              <p:nvPr/>
            </p:nvSpPr>
            <p:spPr>
              <a:xfrm>
                <a:off x="8271000" y="3162240"/>
                <a:ext cx="762120" cy="424080"/>
              </a:xfrm>
              <a:custGeom>
                <a:avLst/>
                <a:gdLst/>
                <a:ahLst/>
                <a:rect l="l" t="t" r="r" b="b"/>
                <a:pathLst>
                  <a:path w="483" h="268">
                    <a:moveTo>
                      <a:pt x="456" y="28"/>
                    </a:moveTo>
                    <a:cubicBezTo>
                      <a:pt x="429" y="0"/>
                      <a:pt x="389" y="35"/>
                      <a:pt x="389" y="35"/>
                    </a:cubicBezTo>
                    <a:cubicBezTo>
                      <a:pt x="240" y="64"/>
                      <a:pt x="240" y="64"/>
                      <a:pt x="240" y="64"/>
                    </a:cubicBezTo>
                    <a:cubicBezTo>
                      <a:pt x="93" y="35"/>
                      <a:pt x="93" y="35"/>
                      <a:pt x="93" y="35"/>
                    </a:cubicBezTo>
                    <a:cubicBezTo>
                      <a:pt x="93" y="35"/>
                      <a:pt x="54" y="0"/>
                      <a:pt x="27" y="28"/>
                    </a:cubicBezTo>
                    <a:cubicBezTo>
                      <a:pt x="0" y="55"/>
                      <a:pt x="113" y="212"/>
                      <a:pt x="115" y="268"/>
                    </a:cubicBezTo>
                    <a:cubicBezTo>
                      <a:pt x="168" y="268"/>
                      <a:pt x="168" y="268"/>
                      <a:pt x="168" y="268"/>
                    </a:cubicBezTo>
                    <a:cubicBezTo>
                      <a:pt x="139" y="126"/>
                      <a:pt x="139" y="126"/>
                      <a:pt x="139" y="126"/>
                    </a:cubicBezTo>
                    <a:cubicBezTo>
                      <a:pt x="139" y="126"/>
                      <a:pt x="220" y="152"/>
                      <a:pt x="240" y="144"/>
                    </a:cubicBezTo>
                    <a:cubicBezTo>
                      <a:pt x="263" y="152"/>
                      <a:pt x="343" y="126"/>
                      <a:pt x="343" y="126"/>
                    </a:cubicBezTo>
                    <a:cubicBezTo>
                      <a:pt x="316" y="268"/>
                      <a:pt x="316" y="268"/>
                      <a:pt x="316" y="268"/>
                    </a:cubicBezTo>
                    <a:cubicBezTo>
                      <a:pt x="369" y="268"/>
                      <a:pt x="369" y="268"/>
                      <a:pt x="369" y="268"/>
                    </a:cubicBezTo>
                    <a:cubicBezTo>
                      <a:pt x="371" y="212"/>
                      <a:pt x="483" y="55"/>
                      <a:pt x="456" y="28"/>
                    </a:cubicBezTo>
                    <a:close/>
                  </a:path>
                </a:pathLst>
              </a:custGeom>
              <a:solidFill>
                <a:srgbClr val="35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28"/>
              <p:cNvSpPr/>
              <p:nvPr/>
            </p:nvSpPr>
            <p:spPr>
              <a:xfrm>
                <a:off x="8397720" y="3232080"/>
                <a:ext cx="498600" cy="353880"/>
              </a:xfrm>
              <a:custGeom>
                <a:avLst/>
                <a:gdLst/>
                <a:ahLst/>
                <a:rect l="l" t="t" r="r" b="b"/>
                <a:pathLst>
                  <a:path w="316" h="224">
                    <a:moveTo>
                      <a:pt x="59" y="82"/>
                    </a:moveTo>
                    <a:cubicBezTo>
                      <a:pt x="59" y="82"/>
                      <a:pt x="140" y="108"/>
                      <a:pt x="160" y="100"/>
                    </a:cubicBezTo>
                    <a:cubicBezTo>
                      <a:pt x="183" y="108"/>
                      <a:pt x="263" y="82"/>
                      <a:pt x="263" y="82"/>
                    </a:cubicBezTo>
                    <a:cubicBezTo>
                      <a:pt x="236" y="224"/>
                      <a:pt x="236" y="224"/>
                      <a:pt x="236" y="224"/>
                    </a:cubicBezTo>
                    <a:cubicBezTo>
                      <a:pt x="248" y="224"/>
                      <a:pt x="248" y="224"/>
                      <a:pt x="248" y="224"/>
                    </a:cubicBezTo>
                    <a:cubicBezTo>
                      <a:pt x="248" y="223"/>
                      <a:pt x="249" y="222"/>
                      <a:pt x="249" y="221"/>
                    </a:cubicBezTo>
                    <a:cubicBezTo>
                      <a:pt x="256" y="200"/>
                      <a:pt x="275" y="156"/>
                      <a:pt x="294" y="110"/>
                    </a:cubicBezTo>
                    <a:cubicBezTo>
                      <a:pt x="313" y="64"/>
                      <a:pt x="316" y="38"/>
                      <a:pt x="302" y="32"/>
                    </a:cubicBezTo>
                    <a:cubicBezTo>
                      <a:pt x="288" y="27"/>
                      <a:pt x="256" y="55"/>
                      <a:pt x="195" y="73"/>
                    </a:cubicBezTo>
                    <a:cubicBezTo>
                      <a:pt x="135" y="92"/>
                      <a:pt x="82" y="62"/>
                      <a:pt x="67" y="42"/>
                    </a:cubicBezTo>
                    <a:cubicBezTo>
                      <a:pt x="51" y="21"/>
                      <a:pt x="0" y="0"/>
                      <a:pt x="26" y="34"/>
                    </a:cubicBezTo>
                    <a:cubicBezTo>
                      <a:pt x="51" y="68"/>
                      <a:pt x="81" y="224"/>
                      <a:pt x="81" y="224"/>
                    </a:cubicBezTo>
                    <a:cubicBezTo>
                      <a:pt x="88" y="224"/>
                      <a:pt x="88" y="224"/>
                      <a:pt x="88" y="224"/>
                    </a:cubicBezTo>
                    <a:lnTo>
                      <a:pt x="59" y="82"/>
                    </a:lnTo>
                    <a:close/>
                  </a:path>
                </a:pathLst>
              </a:custGeom>
              <a:solidFill>
                <a:srgbClr val="110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29"/>
              <p:cNvSpPr/>
              <p:nvPr/>
            </p:nvSpPr>
            <p:spPr>
              <a:xfrm>
                <a:off x="8280360" y="2727000"/>
                <a:ext cx="708120" cy="627120"/>
              </a:xfrm>
              <a:custGeom>
                <a:avLst/>
                <a:gdLst/>
                <a:ahLst/>
                <a:rect l="l" t="t" r="r" b="b"/>
                <a:pathLst>
                  <a:path w="448" h="397">
                    <a:moveTo>
                      <a:pt x="126" y="10"/>
                    </a:moveTo>
                    <a:cubicBezTo>
                      <a:pt x="126" y="10"/>
                      <a:pt x="0" y="224"/>
                      <a:pt x="37" y="275"/>
                    </a:cubicBezTo>
                    <a:cubicBezTo>
                      <a:pt x="73" y="326"/>
                      <a:pt x="428" y="397"/>
                      <a:pt x="438" y="268"/>
                    </a:cubicBezTo>
                    <a:cubicBezTo>
                      <a:pt x="448" y="141"/>
                      <a:pt x="317" y="0"/>
                      <a:pt x="317" y="0"/>
                    </a:cubicBez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30"/>
              <p:cNvSpPr/>
              <p:nvPr/>
            </p:nvSpPr>
            <p:spPr>
              <a:xfrm>
                <a:off x="8369280" y="2205720"/>
                <a:ext cx="541440" cy="684360"/>
              </a:xfrm>
              <a:custGeom>
                <a:avLst/>
                <a:gdLst/>
                <a:ahLst/>
                <a:rect l="l" t="t" r="r" b="b"/>
                <a:pathLst>
                  <a:path w="343" h="434">
                    <a:moveTo>
                      <a:pt x="22" y="217"/>
                    </a:moveTo>
                    <a:cubicBezTo>
                      <a:pt x="22" y="337"/>
                      <a:pt x="61" y="434"/>
                      <a:pt x="168" y="434"/>
                    </a:cubicBezTo>
                    <a:cubicBezTo>
                      <a:pt x="288" y="434"/>
                      <a:pt x="315" y="337"/>
                      <a:pt x="315" y="217"/>
                    </a:cubicBezTo>
                    <a:cubicBezTo>
                      <a:pt x="315" y="97"/>
                      <a:pt x="343" y="0"/>
                      <a:pt x="168" y="0"/>
                    </a:cubicBezTo>
                    <a:cubicBezTo>
                      <a:pt x="0" y="0"/>
                      <a:pt x="22" y="97"/>
                      <a:pt x="22" y="217"/>
                    </a:cubicBez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Freeform 31"/>
              <p:cNvSpPr/>
              <p:nvPr/>
            </p:nvSpPr>
            <p:spPr>
              <a:xfrm>
                <a:off x="8402760" y="2405880"/>
                <a:ext cx="466920" cy="484200"/>
              </a:xfrm>
              <a:custGeom>
                <a:avLst/>
                <a:gdLst/>
                <a:ahLst/>
                <a:rect l="l" t="t" r="r" b="b"/>
                <a:pathLst>
                  <a:path w="296" h="307">
                    <a:moveTo>
                      <a:pt x="1" y="74"/>
                    </a:moveTo>
                    <a:cubicBezTo>
                      <a:pt x="1" y="194"/>
                      <a:pt x="40" y="292"/>
                      <a:pt x="147" y="292"/>
                    </a:cubicBezTo>
                    <a:cubicBezTo>
                      <a:pt x="267" y="292"/>
                      <a:pt x="294" y="194"/>
                      <a:pt x="294" y="74"/>
                    </a:cubicBezTo>
                    <a:cubicBezTo>
                      <a:pt x="294" y="48"/>
                      <a:pt x="295" y="23"/>
                      <a:pt x="295" y="0"/>
                    </a:cubicBezTo>
                    <a:cubicBezTo>
                      <a:pt x="296" y="27"/>
                      <a:pt x="294" y="58"/>
                      <a:pt x="294" y="90"/>
                    </a:cubicBezTo>
                    <a:cubicBezTo>
                      <a:pt x="294" y="210"/>
                      <a:pt x="267" y="307"/>
                      <a:pt x="147" y="307"/>
                    </a:cubicBezTo>
                    <a:cubicBezTo>
                      <a:pt x="40" y="307"/>
                      <a:pt x="1" y="210"/>
                      <a:pt x="1" y="90"/>
                    </a:cubicBezTo>
                    <a:cubicBezTo>
                      <a:pt x="1" y="62"/>
                      <a:pt x="0" y="35"/>
                      <a:pt x="0" y="11"/>
                    </a:cubicBezTo>
                    <a:cubicBezTo>
                      <a:pt x="0" y="31"/>
                      <a:pt x="1" y="52"/>
                      <a:pt x="1" y="74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32"/>
              <p:cNvSpPr/>
              <p:nvPr/>
            </p:nvSpPr>
            <p:spPr>
              <a:xfrm>
                <a:off x="8321760" y="2415600"/>
                <a:ext cx="85680" cy="196920"/>
              </a:xfrm>
              <a:custGeom>
                <a:avLst/>
                <a:gdLst/>
                <a:ahLst/>
                <a:rect l="l" t="t" r="r" b="b"/>
                <a:pathLst>
                  <a:path w="54" h="125">
                    <a:moveTo>
                      <a:pt x="51" y="13"/>
                    </a:moveTo>
                    <a:cubicBezTo>
                      <a:pt x="51" y="13"/>
                      <a:pt x="6" y="0"/>
                      <a:pt x="3" y="36"/>
                    </a:cubicBezTo>
                    <a:cubicBezTo>
                      <a:pt x="0" y="72"/>
                      <a:pt x="18" y="115"/>
                      <a:pt x="54" y="125"/>
                    </a:cubicBezTo>
                    <a:cubicBezTo>
                      <a:pt x="52" y="45"/>
                      <a:pt x="52" y="45"/>
                      <a:pt x="52" y="45"/>
                    </a:cubicBezTo>
                    <a:lnTo>
                      <a:pt x="51" y="13"/>
                    </a:ln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33"/>
              <p:cNvSpPr/>
              <p:nvPr/>
            </p:nvSpPr>
            <p:spPr>
              <a:xfrm>
                <a:off x="8364600" y="2467800"/>
                <a:ext cx="4104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0" y="13"/>
                    </a:moveTo>
                    <a:cubicBezTo>
                      <a:pt x="1" y="33"/>
                      <a:pt x="26" y="56"/>
                      <a:pt x="26" y="56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0" y="0"/>
                      <a:pt x="0" y="13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34"/>
              <p:cNvSpPr/>
              <p:nvPr/>
            </p:nvSpPr>
            <p:spPr>
              <a:xfrm>
                <a:off x="8861760" y="2415600"/>
                <a:ext cx="83880" cy="196920"/>
              </a:xfrm>
              <a:custGeom>
                <a:avLst/>
                <a:gdLst/>
                <a:ahLst/>
                <a:rect l="l" t="t" r="r" b="b"/>
                <a:pathLst>
                  <a:path w="53" h="125">
                    <a:moveTo>
                      <a:pt x="2" y="13"/>
                    </a:moveTo>
                    <a:cubicBezTo>
                      <a:pt x="2" y="13"/>
                      <a:pt x="48" y="0"/>
                      <a:pt x="51" y="36"/>
                    </a:cubicBezTo>
                    <a:cubicBezTo>
                      <a:pt x="53" y="72"/>
                      <a:pt x="35" y="115"/>
                      <a:pt x="0" y="125"/>
                    </a:cubicBezTo>
                    <a:cubicBezTo>
                      <a:pt x="2" y="45"/>
                      <a:pt x="2" y="45"/>
                      <a:pt x="2" y="45"/>
                    </a:cubicBez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35"/>
              <p:cNvSpPr/>
              <p:nvPr/>
            </p:nvSpPr>
            <p:spPr>
              <a:xfrm>
                <a:off x="8863200" y="2467800"/>
                <a:ext cx="41040" cy="88920"/>
              </a:xfrm>
              <a:custGeom>
                <a:avLst/>
                <a:gdLst/>
                <a:ahLst/>
                <a:rect l="l" t="t" r="r" b="b"/>
                <a:pathLst>
                  <a:path w="26" h="56">
                    <a:moveTo>
                      <a:pt x="26" y="13"/>
                    </a:moveTo>
                    <a:cubicBezTo>
                      <a:pt x="25" y="33"/>
                      <a:pt x="0" y="56"/>
                      <a:pt x="0" y="56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26" y="0"/>
                      <a:pt x="26" y="13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36"/>
              <p:cNvSpPr/>
              <p:nvPr/>
            </p:nvSpPr>
            <p:spPr>
              <a:xfrm>
                <a:off x="8312040" y="2013840"/>
                <a:ext cx="623880" cy="559080"/>
              </a:xfrm>
              <a:custGeom>
                <a:avLst/>
                <a:gdLst/>
                <a:ahLst/>
                <a:rect l="l" t="t" r="r" b="b"/>
                <a:pathLst>
                  <a:path w="395" h="354">
                    <a:moveTo>
                      <a:pt x="220" y="33"/>
                    </a:moveTo>
                    <a:cubicBezTo>
                      <a:pt x="346" y="46"/>
                      <a:pt x="350" y="0"/>
                      <a:pt x="350" y="0"/>
                    </a:cubicBezTo>
                    <a:cubicBezTo>
                      <a:pt x="395" y="91"/>
                      <a:pt x="379" y="208"/>
                      <a:pt x="379" y="208"/>
                    </a:cubicBezTo>
                    <a:cubicBezTo>
                      <a:pt x="379" y="208"/>
                      <a:pt x="379" y="208"/>
                      <a:pt x="379" y="208"/>
                    </a:cubicBezTo>
                    <a:cubicBezTo>
                      <a:pt x="379" y="224"/>
                      <a:pt x="378" y="246"/>
                      <a:pt x="375" y="271"/>
                    </a:cubicBezTo>
                    <a:cubicBezTo>
                      <a:pt x="375" y="271"/>
                      <a:pt x="356" y="285"/>
                      <a:pt x="349" y="354"/>
                    </a:cubicBezTo>
                    <a:cubicBezTo>
                      <a:pt x="349" y="354"/>
                      <a:pt x="349" y="312"/>
                      <a:pt x="344" y="273"/>
                    </a:cubicBezTo>
                    <a:cubicBezTo>
                      <a:pt x="341" y="250"/>
                      <a:pt x="341" y="224"/>
                      <a:pt x="324" y="217"/>
                    </a:cubicBezTo>
                    <a:cubicBezTo>
                      <a:pt x="324" y="217"/>
                      <a:pt x="349" y="166"/>
                      <a:pt x="309" y="160"/>
                    </a:cubicBezTo>
                    <a:cubicBezTo>
                      <a:pt x="274" y="155"/>
                      <a:pt x="233" y="166"/>
                      <a:pt x="210" y="169"/>
                    </a:cubicBezTo>
                    <a:cubicBezTo>
                      <a:pt x="205" y="169"/>
                      <a:pt x="199" y="169"/>
                      <a:pt x="199" y="169"/>
                    </a:cubicBezTo>
                    <a:cubicBezTo>
                      <a:pt x="176" y="166"/>
                      <a:pt x="134" y="155"/>
                      <a:pt x="99" y="160"/>
                    </a:cubicBezTo>
                    <a:cubicBezTo>
                      <a:pt x="59" y="165"/>
                      <a:pt x="84" y="217"/>
                      <a:pt x="84" y="217"/>
                    </a:cubicBezTo>
                    <a:cubicBezTo>
                      <a:pt x="64" y="225"/>
                      <a:pt x="65" y="257"/>
                      <a:pt x="63" y="285"/>
                    </a:cubicBezTo>
                    <a:cubicBezTo>
                      <a:pt x="61" y="320"/>
                      <a:pt x="59" y="352"/>
                      <a:pt x="59" y="352"/>
                    </a:cubicBezTo>
                    <a:cubicBezTo>
                      <a:pt x="52" y="283"/>
                      <a:pt x="38" y="266"/>
                      <a:pt x="38" y="266"/>
                    </a:cubicBezTo>
                    <a:cubicBezTo>
                      <a:pt x="37" y="258"/>
                      <a:pt x="40" y="249"/>
                      <a:pt x="40" y="242"/>
                    </a:cubicBezTo>
                    <a:cubicBezTo>
                      <a:pt x="40" y="242"/>
                      <a:pt x="40" y="242"/>
                      <a:pt x="40" y="242"/>
                    </a:cubicBezTo>
                    <a:cubicBezTo>
                      <a:pt x="0" y="93"/>
                      <a:pt x="94" y="21"/>
                      <a:pt x="220" y="33"/>
                    </a:cubicBezTo>
                    <a:close/>
                  </a:path>
                </a:pathLst>
              </a:custGeom>
              <a:solidFill>
                <a:srgbClr val="6b24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38"/>
              <p:cNvSpPr/>
              <p:nvPr/>
            </p:nvSpPr>
            <p:spPr>
              <a:xfrm>
                <a:off x="8375760" y="2093040"/>
                <a:ext cx="511200" cy="476280"/>
              </a:xfrm>
              <a:custGeom>
                <a:avLst/>
                <a:gdLst/>
                <a:ahLst/>
                <a:rect l="l" t="t" r="r" b="b"/>
                <a:pathLst>
                  <a:path w="324" h="301">
                    <a:moveTo>
                      <a:pt x="25" y="160"/>
                    </a:moveTo>
                    <a:cubicBezTo>
                      <a:pt x="19" y="149"/>
                      <a:pt x="14" y="139"/>
                      <a:pt x="13" y="131"/>
                    </a:cubicBezTo>
                    <a:cubicBezTo>
                      <a:pt x="0" y="88"/>
                      <a:pt x="64" y="49"/>
                      <a:pt x="157" y="48"/>
                    </a:cubicBezTo>
                    <a:cubicBezTo>
                      <a:pt x="249" y="48"/>
                      <a:pt x="295" y="0"/>
                      <a:pt x="295" y="0"/>
                    </a:cubicBezTo>
                    <a:cubicBezTo>
                      <a:pt x="323" y="24"/>
                      <a:pt x="313" y="118"/>
                      <a:pt x="312" y="127"/>
                    </a:cubicBezTo>
                    <a:cubicBezTo>
                      <a:pt x="310" y="146"/>
                      <a:pt x="302" y="162"/>
                      <a:pt x="302" y="162"/>
                    </a:cubicBezTo>
                    <a:cubicBezTo>
                      <a:pt x="324" y="173"/>
                      <a:pt x="321" y="226"/>
                      <a:pt x="316" y="262"/>
                    </a:cubicBezTo>
                    <a:cubicBezTo>
                      <a:pt x="314" y="271"/>
                      <a:pt x="312" y="282"/>
                      <a:pt x="312" y="295"/>
                    </a:cubicBezTo>
                    <a:cubicBezTo>
                      <a:pt x="312" y="295"/>
                      <a:pt x="312" y="295"/>
                      <a:pt x="312" y="295"/>
                    </a:cubicBezTo>
                    <a:cubicBezTo>
                      <a:pt x="311" y="295"/>
                      <a:pt x="311" y="295"/>
                      <a:pt x="311" y="295"/>
                    </a:cubicBezTo>
                    <a:cubicBezTo>
                      <a:pt x="311" y="296"/>
                      <a:pt x="310" y="297"/>
                      <a:pt x="310" y="298"/>
                    </a:cubicBezTo>
                    <a:cubicBezTo>
                      <a:pt x="310" y="299"/>
                      <a:pt x="310" y="300"/>
                      <a:pt x="309" y="300"/>
                    </a:cubicBezTo>
                    <a:cubicBezTo>
                      <a:pt x="309" y="294"/>
                      <a:pt x="309" y="257"/>
                      <a:pt x="304" y="221"/>
                    </a:cubicBezTo>
                    <a:cubicBezTo>
                      <a:pt x="301" y="197"/>
                      <a:pt x="301" y="172"/>
                      <a:pt x="284" y="166"/>
                    </a:cubicBezTo>
                    <a:cubicBezTo>
                      <a:pt x="284" y="166"/>
                      <a:pt x="309" y="114"/>
                      <a:pt x="269" y="109"/>
                    </a:cubicBezTo>
                    <a:cubicBezTo>
                      <a:pt x="261" y="108"/>
                      <a:pt x="253" y="107"/>
                      <a:pt x="245" y="107"/>
                    </a:cubicBezTo>
                    <a:cubicBezTo>
                      <a:pt x="221" y="109"/>
                      <a:pt x="221" y="109"/>
                      <a:pt x="221" y="109"/>
                    </a:cubicBezTo>
                    <a:cubicBezTo>
                      <a:pt x="201" y="112"/>
                      <a:pt x="183" y="116"/>
                      <a:pt x="170" y="118"/>
                    </a:cubicBezTo>
                    <a:cubicBezTo>
                      <a:pt x="165" y="118"/>
                      <a:pt x="159" y="118"/>
                      <a:pt x="159" y="118"/>
                    </a:cubicBezTo>
                    <a:cubicBezTo>
                      <a:pt x="136" y="115"/>
                      <a:pt x="94" y="104"/>
                      <a:pt x="59" y="109"/>
                    </a:cubicBezTo>
                    <a:cubicBezTo>
                      <a:pt x="19" y="114"/>
                      <a:pt x="44" y="166"/>
                      <a:pt x="44" y="166"/>
                    </a:cubicBezTo>
                    <a:cubicBezTo>
                      <a:pt x="24" y="174"/>
                      <a:pt x="23" y="206"/>
                      <a:pt x="22" y="234"/>
                    </a:cubicBezTo>
                    <a:cubicBezTo>
                      <a:pt x="19" y="269"/>
                      <a:pt x="16" y="301"/>
                      <a:pt x="16" y="301"/>
                    </a:cubicBezTo>
                    <a:cubicBezTo>
                      <a:pt x="16" y="301"/>
                      <a:pt x="16" y="301"/>
                      <a:pt x="16" y="301"/>
                    </a:cubicBezTo>
                    <a:cubicBezTo>
                      <a:pt x="16" y="298"/>
                      <a:pt x="11" y="245"/>
                      <a:pt x="12" y="215"/>
                    </a:cubicBezTo>
                    <a:cubicBezTo>
                      <a:pt x="12" y="183"/>
                      <a:pt x="25" y="160"/>
                      <a:pt x="25" y="160"/>
                    </a:cubicBezTo>
                    <a:close/>
                  </a:path>
                </a:pathLst>
              </a:custGeom>
              <a:solidFill>
                <a:srgbClr val="5b1b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39"/>
              <p:cNvSpPr/>
              <p:nvPr/>
            </p:nvSpPr>
            <p:spPr>
              <a:xfrm>
                <a:off x="8610840" y="2509200"/>
                <a:ext cx="108000" cy="189000"/>
              </a:xfrm>
              <a:custGeom>
                <a:avLst/>
                <a:gdLst/>
                <a:ahLst/>
                <a:rect l="l" t="t" r="r" b="b"/>
                <a:pathLst>
                  <a:path w="68" h="120">
                    <a:moveTo>
                      <a:pt x="36" y="0"/>
                    </a:moveTo>
                    <a:cubicBezTo>
                      <a:pt x="36" y="0"/>
                      <a:pt x="61" y="78"/>
                      <a:pt x="50" y="98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36" y="120"/>
                      <a:pt x="36" y="120"/>
                      <a:pt x="36" y="120"/>
                    </a:cubicBezTo>
                    <a:cubicBezTo>
                      <a:pt x="63" y="107"/>
                      <a:pt x="63" y="107"/>
                      <a:pt x="63" y="107"/>
                    </a:cubicBezTo>
                    <a:cubicBezTo>
                      <a:pt x="63" y="107"/>
                      <a:pt x="68" y="38"/>
                      <a:pt x="36" y="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40"/>
              <p:cNvSpPr/>
              <p:nvPr/>
            </p:nvSpPr>
            <p:spPr>
              <a:xfrm>
                <a:off x="8541000" y="2674440"/>
                <a:ext cx="4428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8" y="20"/>
                    </a:moveTo>
                    <a:cubicBezTo>
                      <a:pt x="28" y="20"/>
                      <a:pt x="11" y="9"/>
                      <a:pt x="7" y="35"/>
                    </a:cubicBezTo>
                    <a:cubicBezTo>
                      <a:pt x="7" y="35"/>
                      <a:pt x="0" y="0"/>
                      <a:pt x="28" y="2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41"/>
              <p:cNvSpPr/>
              <p:nvPr/>
            </p:nvSpPr>
            <p:spPr>
              <a:xfrm>
                <a:off x="8502840" y="2404440"/>
                <a:ext cx="99720" cy="149040"/>
              </a:xfrm>
              <a:prstGeom prst="ellipse">
                <a:avLst/>
              </a:pr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42"/>
              <p:cNvSpPr/>
              <p:nvPr/>
            </p:nvSpPr>
            <p:spPr>
              <a:xfrm>
                <a:off x="8518680" y="2428200"/>
                <a:ext cx="68040" cy="101520"/>
              </a:xfrm>
              <a:prstGeom prst="ellipse">
                <a:avLst/>
              </a:pr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43"/>
              <p:cNvSpPr/>
              <p:nvPr/>
            </p:nvSpPr>
            <p:spPr>
              <a:xfrm>
                <a:off x="8699760" y="2404440"/>
                <a:ext cx="99720" cy="149040"/>
              </a:xfrm>
              <a:prstGeom prst="ellipse">
                <a:avLst/>
              </a:pr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Oval 44"/>
              <p:cNvSpPr/>
              <p:nvPr/>
            </p:nvSpPr>
            <p:spPr>
              <a:xfrm>
                <a:off x="8715600" y="2428200"/>
                <a:ext cx="66600" cy="101520"/>
              </a:xfrm>
              <a:prstGeom prst="ellipse">
                <a:avLst/>
              </a:pr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45"/>
              <p:cNvSpPr/>
              <p:nvPr/>
            </p:nvSpPr>
            <p:spPr>
              <a:xfrm>
                <a:off x="8677440" y="23234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91" y="48"/>
                    </a:moveTo>
                    <a:cubicBezTo>
                      <a:pt x="91" y="48"/>
                      <a:pt x="40" y="44"/>
                      <a:pt x="19" y="4"/>
                    </a:cubicBezTo>
                    <a:cubicBezTo>
                      <a:pt x="19" y="4"/>
                      <a:pt x="2" y="0"/>
                      <a:pt x="0" y="16"/>
                    </a:cubicBezTo>
                    <a:cubicBezTo>
                      <a:pt x="0" y="16"/>
                      <a:pt x="39" y="66"/>
                      <a:pt x="89" y="62"/>
                    </a:cubicBezTo>
                    <a:lnTo>
                      <a:pt x="91" y="48"/>
                    </a:lnTo>
                    <a:close/>
                  </a:path>
                </a:pathLst>
              </a:cu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46"/>
              <p:cNvSpPr/>
              <p:nvPr/>
            </p:nvSpPr>
            <p:spPr>
              <a:xfrm>
                <a:off x="8451720" y="23234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0" y="48"/>
                    </a:moveTo>
                    <a:cubicBezTo>
                      <a:pt x="0" y="48"/>
                      <a:pt x="51" y="44"/>
                      <a:pt x="72" y="4"/>
                    </a:cubicBezTo>
                    <a:cubicBezTo>
                      <a:pt x="72" y="4"/>
                      <a:pt x="88" y="0"/>
                      <a:pt x="91" y="16"/>
                    </a:cubicBezTo>
                    <a:cubicBezTo>
                      <a:pt x="91" y="16"/>
                      <a:pt x="52" y="66"/>
                      <a:pt x="1" y="62"/>
                    </a:cubicBez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2813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47"/>
              <p:cNvSpPr/>
              <p:nvPr/>
            </p:nvSpPr>
            <p:spPr>
              <a:xfrm>
                <a:off x="8599680" y="230760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7" y="0"/>
                    </a:moveTo>
                    <a:cubicBezTo>
                      <a:pt x="7" y="0"/>
                      <a:pt x="21" y="36"/>
                      <a:pt x="0" y="41"/>
                    </a:cubicBezTo>
                    <a:cubicBezTo>
                      <a:pt x="0" y="41"/>
                      <a:pt x="13" y="32"/>
                      <a:pt x="7" y="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48"/>
              <p:cNvSpPr/>
              <p:nvPr/>
            </p:nvSpPr>
            <p:spPr>
              <a:xfrm>
                <a:off x="8642520" y="230760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1">
                    <a:moveTo>
                      <a:pt x="14" y="0"/>
                    </a:moveTo>
                    <a:cubicBezTo>
                      <a:pt x="14" y="0"/>
                      <a:pt x="0" y="36"/>
                      <a:pt x="21" y="41"/>
                    </a:cubicBezTo>
                    <a:cubicBezTo>
                      <a:pt x="21" y="41"/>
                      <a:pt x="8" y="32"/>
                      <a:pt x="14" y="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49"/>
              <p:cNvSpPr/>
              <p:nvPr/>
            </p:nvSpPr>
            <p:spPr>
              <a:xfrm>
                <a:off x="8564760" y="2706120"/>
                <a:ext cx="155520" cy="11088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44" y="70"/>
                    </a:moveTo>
                    <a:cubicBezTo>
                      <a:pt x="68" y="53"/>
                      <a:pt x="48" y="35"/>
                      <a:pt x="48" y="35"/>
                    </a:cubicBezTo>
                    <a:cubicBezTo>
                      <a:pt x="0" y="52"/>
                      <a:pt x="4" y="0"/>
                      <a:pt x="31" y="18"/>
                    </a:cubicBezTo>
                    <a:cubicBezTo>
                      <a:pt x="59" y="36"/>
                      <a:pt x="79" y="26"/>
                      <a:pt x="85" y="18"/>
                    </a:cubicBezTo>
                    <a:cubicBezTo>
                      <a:pt x="91" y="10"/>
                      <a:pt x="75" y="4"/>
                      <a:pt x="75" y="4"/>
                    </a:cubicBezTo>
                    <a:cubicBezTo>
                      <a:pt x="75" y="4"/>
                      <a:pt x="93" y="2"/>
                      <a:pt x="95" y="18"/>
                    </a:cubicBezTo>
                    <a:cubicBezTo>
                      <a:pt x="98" y="34"/>
                      <a:pt x="63" y="45"/>
                      <a:pt x="34" y="24"/>
                    </a:cubicBezTo>
                    <a:cubicBezTo>
                      <a:pt x="34" y="24"/>
                      <a:pt x="15" y="14"/>
                      <a:pt x="19" y="30"/>
                    </a:cubicBezTo>
                    <a:cubicBezTo>
                      <a:pt x="19" y="30"/>
                      <a:pt x="21" y="41"/>
                      <a:pt x="47" y="33"/>
                    </a:cubicBezTo>
                    <a:cubicBezTo>
                      <a:pt x="47" y="33"/>
                      <a:pt x="59" y="33"/>
                      <a:pt x="62" y="48"/>
                    </a:cubicBezTo>
                    <a:cubicBezTo>
                      <a:pt x="65" y="63"/>
                      <a:pt x="44" y="70"/>
                      <a:pt x="44" y="7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50"/>
              <p:cNvSpPr/>
              <p:nvPr/>
            </p:nvSpPr>
            <p:spPr>
              <a:xfrm>
                <a:off x="8589960" y="2727000"/>
                <a:ext cx="125280" cy="55440"/>
              </a:xfrm>
              <a:custGeom>
                <a:avLst/>
                <a:gdLst/>
                <a:ahLst/>
                <a:rect l="l" t="t" r="r" b="b"/>
                <a:pathLst>
                  <a:path w="79" h="35">
                    <a:moveTo>
                      <a:pt x="3" y="10"/>
                    </a:moveTo>
                    <a:cubicBezTo>
                      <a:pt x="10" y="0"/>
                      <a:pt x="27" y="17"/>
                      <a:pt x="27" y="17"/>
                    </a:cubicBezTo>
                    <a:cubicBezTo>
                      <a:pt x="63" y="30"/>
                      <a:pt x="79" y="11"/>
                      <a:pt x="79" y="11"/>
                    </a:cubicBezTo>
                    <a:cubicBezTo>
                      <a:pt x="58" y="35"/>
                      <a:pt x="36" y="21"/>
                      <a:pt x="34" y="20"/>
                    </a:cubicBezTo>
                    <a:cubicBezTo>
                      <a:pt x="34" y="20"/>
                      <a:pt x="32" y="19"/>
                      <a:pt x="31" y="20"/>
                    </a:cubicBezTo>
                    <a:cubicBezTo>
                      <a:pt x="29" y="20"/>
                      <a:pt x="8" y="28"/>
                      <a:pt x="3" y="18"/>
                    </a:cubicBezTo>
                    <a:cubicBezTo>
                      <a:pt x="3" y="18"/>
                      <a:pt x="0" y="15"/>
                      <a:pt x="3" y="10"/>
                    </a:cubicBezTo>
                    <a:close/>
                  </a:path>
                </a:pathLst>
              </a:custGeom>
              <a:solidFill>
                <a:srgbClr val="af69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51"/>
              <p:cNvSpPr/>
              <p:nvPr/>
            </p:nvSpPr>
            <p:spPr>
              <a:xfrm>
                <a:off x="8280360" y="3078000"/>
                <a:ext cx="177840" cy="15084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34" y="96"/>
                    </a:moveTo>
                    <a:cubicBezTo>
                      <a:pt x="34" y="96"/>
                      <a:pt x="0" y="29"/>
                      <a:pt x="55" y="15"/>
                    </a:cubicBezTo>
                    <a:cubicBezTo>
                      <a:pt x="110" y="0"/>
                      <a:pt x="112" y="27"/>
                      <a:pt x="112" y="27"/>
                    </a:cubicBezTo>
                    <a:lnTo>
                      <a:pt x="34" y="9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52"/>
              <p:cNvSpPr/>
              <p:nvPr/>
            </p:nvSpPr>
            <p:spPr>
              <a:xfrm>
                <a:off x="8310600" y="310968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99" h="125">
                    <a:moveTo>
                      <a:pt x="91" y="0"/>
                    </a:moveTo>
                    <a:cubicBezTo>
                      <a:pt x="91" y="0"/>
                      <a:pt x="25" y="8"/>
                      <a:pt x="12" y="43"/>
                    </a:cubicBezTo>
                    <a:cubicBezTo>
                      <a:pt x="0" y="78"/>
                      <a:pt x="44" y="125"/>
                      <a:pt x="71" y="88"/>
                    </a:cubicBezTo>
                    <a:cubicBezTo>
                      <a:pt x="99" y="50"/>
                      <a:pt x="91" y="0"/>
                      <a:pt x="91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53"/>
              <p:cNvSpPr/>
              <p:nvPr/>
            </p:nvSpPr>
            <p:spPr>
              <a:xfrm>
                <a:off x="8437680" y="2898360"/>
                <a:ext cx="55440" cy="214200"/>
              </a:xfrm>
              <a:custGeom>
                <a:avLst/>
                <a:gdLst/>
                <a:ahLst/>
                <a:rect l="l" t="t" r="r" b="b"/>
                <a:pathLst>
                  <a:path w="35" h="135">
                    <a:moveTo>
                      <a:pt x="11" y="0"/>
                    </a:moveTo>
                    <a:cubicBezTo>
                      <a:pt x="11" y="0"/>
                      <a:pt x="28" y="46"/>
                      <a:pt x="0" y="129"/>
                    </a:cubicBezTo>
                    <a:cubicBezTo>
                      <a:pt x="16" y="135"/>
                      <a:pt x="16" y="135"/>
                      <a:pt x="16" y="135"/>
                    </a:cubicBezTo>
                    <a:cubicBezTo>
                      <a:pt x="16" y="135"/>
                      <a:pt x="35" y="43"/>
                      <a:pt x="11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54"/>
              <p:cNvSpPr/>
              <p:nvPr/>
            </p:nvSpPr>
            <p:spPr>
              <a:xfrm>
                <a:off x="8298000" y="2518920"/>
                <a:ext cx="285840" cy="751320"/>
              </a:xfrm>
              <a:custGeom>
                <a:avLst/>
                <a:gdLst/>
                <a:ahLst/>
                <a:rect l="l" t="t" r="r" b="b"/>
                <a:pathLst>
                  <a:path w="181" h="476">
                    <a:moveTo>
                      <a:pt x="51" y="438"/>
                    </a:moveTo>
                    <a:cubicBezTo>
                      <a:pt x="51" y="438"/>
                      <a:pt x="66" y="405"/>
                      <a:pt x="84" y="366"/>
                    </a:cubicBezTo>
                    <a:cubicBezTo>
                      <a:pt x="110" y="309"/>
                      <a:pt x="141" y="239"/>
                      <a:pt x="138" y="229"/>
                    </a:cubicBezTo>
                    <a:cubicBezTo>
                      <a:pt x="138" y="229"/>
                      <a:pt x="20" y="197"/>
                      <a:pt x="10" y="170"/>
                    </a:cubicBezTo>
                    <a:cubicBezTo>
                      <a:pt x="0" y="143"/>
                      <a:pt x="40" y="0"/>
                      <a:pt x="86" y="39"/>
                    </a:cubicBezTo>
                    <a:cubicBezTo>
                      <a:pt x="133" y="79"/>
                      <a:pt x="144" y="86"/>
                      <a:pt x="130" y="112"/>
                    </a:cubicBezTo>
                    <a:cubicBezTo>
                      <a:pt x="116" y="138"/>
                      <a:pt x="89" y="122"/>
                      <a:pt x="109" y="100"/>
                    </a:cubicBezTo>
                    <a:cubicBezTo>
                      <a:pt x="109" y="100"/>
                      <a:pt x="97" y="121"/>
                      <a:pt x="91" y="134"/>
                    </a:cubicBezTo>
                    <a:cubicBezTo>
                      <a:pt x="85" y="147"/>
                      <a:pt x="125" y="184"/>
                      <a:pt x="139" y="187"/>
                    </a:cubicBezTo>
                    <a:cubicBezTo>
                      <a:pt x="152" y="190"/>
                      <a:pt x="181" y="200"/>
                      <a:pt x="164" y="259"/>
                    </a:cubicBezTo>
                    <a:cubicBezTo>
                      <a:pt x="146" y="318"/>
                      <a:pt x="124" y="470"/>
                      <a:pt x="88" y="473"/>
                    </a:cubicBezTo>
                    <a:cubicBezTo>
                      <a:pt x="53" y="476"/>
                      <a:pt x="40" y="461"/>
                      <a:pt x="51" y="438"/>
                    </a:cubicBez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55"/>
              <p:cNvSpPr/>
              <p:nvPr/>
            </p:nvSpPr>
            <p:spPr>
              <a:xfrm>
                <a:off x="8296200" y="2563200"/>
                <a:ext cx="287280" cy="709920"/>
              </a:xfrm>
              <a:custGeom>
                <a:avLst/>
                <a:gdLst/>
                <a:ahLst/>
                <a:rect l="l" t="t" r="r" b="b"/>
                <a:pathLst>
                  <a:path w="182" h="450">
                    <a:moveTo>
                      <a:pt x="71" y="4"/>
                    </a:moveTo>
                    <a:cubicBezTo>
                      <a:pt x="76" y="4"/>
                      <a:pt x="82" y="6"/>
                      <a:pt x="87" y="11"/>
                    </a:cubicBezTo>
                    <a:cubicBezTo>
                      <a:pt x="134" y="51"/>
                      <a:pt x="145" y="58"/>
                      <a:pt x="131" y="84"/>
                    </a:cubicBezTo>
                    <a:cubicBezTo>
                      <a:pt x="126" y="94"/>
                      <a:pt x="119" y="97"/>
                      <a:pt x="113" y="97"/>
                    </a:cubicBezTo>
                    <a:cubicBezTo>
                      <a:pt x="106" y="97"/>
                      <a:pt x="101" y="92"/>
                      <a:pt x="104" y="83"/>
                    </a:cubicBezTo>
                    <a:cubicBezTo>
                      <a:pt x="107" y="77"/>
                      <a:pt x="110" y="72"/>
                      <a:pt x="110" y="72"/>
                    </a:cubicBezTo>
                    <a:cubicBezTo>
                      <a:pt x="107" y="76"/>
                      <a:pt x="104" y="80"/>
                      <a:pt x="104" y="83"/>
                    </a:cubicBezTo>
                    <a:cubicBezTo>
                      <a:pt x="100" y="90"/>
                      <a:pt x="95" y="99"/>
                      <a:pt x="92" y="106"/>
                    </a:cubicBezTo>
                    <a:cubicBezTo>
                      <a:pt x="86" y="119"/>
                      <a:pt x="126" y="156"/>
                      <a:pt x="140" y="159"/>
                    </a:cubicBezTo>
                    <a:cubicBezTo>
                      <a:pt x="153" y="162"/>
                      <a:pt x="182" y="172"/>
                      <a:pt x="165" y="231"/>
                    </a:cubicBezTo>
                    <a:cubicBezTo>
                      <a:pt x="147" y="290"/>
                      <a:pt x="125" y="442"/>
                      <a:pt x="89" y="445"/>
                    </a:cubicBezTo>
                    <a:cubicBezTo>
                      <a:pt x="87" y="446"/>
                      <a:pt x="84" y="446"/>
                      <a:pt x="81" y="446"/>
                    </a:cubicBezTo>
                    <a:cubicBezTo>
                      <a:pt x="52" y="446"/>
                      <a:pt x="42" y="431"/>
                      <a:pt x="52" y="410"/>
                    </a:cubicBezTo>
                    <a:cubicBezTo>
                      <a:pt x="52" y="410"/>
                      <a:pt x="67" y="377"/>
                      <a:pt x="85" y="338"/>
                    </a:cubicBezTo>
                    <a:cubicBezTo>
                      <a:pt x="111" y="281"/>
                      <a:pt x="142" y="211"/>
                      <a:pt x="139" y="201"/>
                    </a:cubicBezTo>
                    <a:cubicBezTo>
                      <a:pt x="139" y="201"/>
                      <a:pt x="21" y="169"/>
                      <a:pt x="11" y="142"/>
                    </a:cubicBezTo>
                    <a:cubicBezTo>
                      <a:pt x="2" y="118"/>
                      <a:pt x="32" y="4"/>
                      <a:pt x="71" y="4"/>
                    </a:cubicBezTo>
                    <a:moveTo>
                      <a:pt x="71" y="0"/>
                    </a:moveTo>
                    <a:cubicBezTo>
                      <a:pt x="60" y="0"/>
                      <a:pt x="49" y="8"/>
                      <a:pt x="39" y="22"/>
                    </a:cubicBezTo>
                    <a:cubicBezTo>
                      <a:pt x="15" y="56"/>
                      <a:pt x="0" y="123"/>
                      <a:pt x="7" y="143"/>
                    </a:cubicBezTo>
                    <a:cubicBezTo>
                      <a:pt x="17" y="170"/>
                      <a:pt x="114" y="198"/>
                      <a:pt x="135" y="204"/>
                    </a:cubicBezTo>
                    <a:cubicBezTo>
                      <a:pt x="134" y="211"/>
                      <a:pt x="127" y="237"/>
                      <a:pt x="82" y="336"/>
                    </a:cubicBezTo>
                    <a:cubicBezTo>
                      <a:pt x="64" y="375"/>
                      <a:pt x="48" y="408"/>
                      <a:pt x="48" y="409"/>
                    </a:cubicBezTo>
                    <a:cubicBezTo>
                      <a:pt x="42" y="422"/>
                      <a:pt x="44" y="431"/>
                      <a:pt x="48" y="436"/>
                    </a:cubicBezTo>
                    <a:cubicBezTo>
                      <a:pt x="51" y="442"/>
                      <a:pt x="60" y="450"/>
                      <a:pt x="81" y="450"/>
                    </a:cubicBezTo>
                    <a:cubicBezTo>
                      <a:pt x="84" y="450"/>
                      <a:pt x="87" y="450"/>
                      <a:pt x="90" y="449"/>
                    </a:cubicBezTo>
                    <a:cubicBezTo>
                      <a:pt x="117" y="447"/>
                      <a:pt x="134" y="380"/>
                      <a:pt x="154" y="292"/>
                    </a:cubicBezTo>
                    <a:cubicBezTo>
                      <a:pt x="159" y="269"/>
                      <a:pt x="164" y="247"/>
                      <a:pt x="169" y="232"/>
                    </a:cubicBezTo>
                    <a:cubicBezTo>
                      <a:pt x="176" y="207"/>
                      <a:pt x="176" y="187"/>
                      <a:pt x="168" y="174"/>
                    </a:cubicBezTo>
                    <a:cubicBezTo>
                      <a:pt x="161" y="161"/>
                      <a:pt x="149" y="157"/>
                      <a:pt x="140" y="155"/>
                    </a:cubicBezTo>
                    <a:cubicBezTo>
                      <a:pt x="131" y="153"/>
                      <a:pt x="105" y="131"/>
                      <a:pt x="97" y="115"/>
                    </a:cubicBezTo>
                    <a:cubicBezTo>
                      <a:pt x="95" y="111"/>
                      <a:pt x="95" y="109"/>
                      <a:pt x="95" y="107"/>
                    </a:cubicBezTo>
                    <a:cubicBezTo>
                      <a:pt x="97" y="104"/>
                      <a:pt x="99" y="99"/>
                      <a:pt x="101" y="95"/>
                    </a:cubicBezTo>
                    <a:cubicBezTo>
                      <a:pt x="102" y="96"/>
                      <a:pt x="102" y="96"/>
                      <a:pt x="102" y="96"/>
                    </a:cubicBezTo>
                    <a:cubicBezTo>
                      <a:pt x="105" y="100"/>
                      <a:pt x="109" y="101"/>
                      <a:pt x="113" y="101"/>
                    </a:cubicBezTo>
                    <a:cubicBezTo>
                      <a:pt x="121" y="101"/>
                      <a:pt x="129" y="96"/>
                      <a:pt x="134" y="86"/>
                    </a:cubicBezTo>
                    <a:cubicBezTo>
                      <a:pt x="150" y="58"/>
                      <a:pt x="138" y="48"/>
                      <a:pt x="94" y="12"/>
                    </a:cubicBezTo>
                    <a:cubicBezTo>
                      <a:pt x="90" y="8"/>
                      <a:pt x="90" y="8"/>
                      <a:pt x="90" y="8"/>
                    </a:cubicBezTo>
                    <a:cubicBezTo>
                      <a:pt x="84" y="3"/>
                      <a:pt x="77" y="0"/>
                      <a:pt x="71" y="0"/>
                    </a:cubicBezTo>
                    <a:close/>
                  </a:path>
                </a:pathLst>
              </a:custGeom>
              <a:solidFill>
                <a:srgbClr val="f9a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56"/>
              <p:cNvSpPr/>
              <p:nvPr/>
            </p:nvSpPr>
            <p:spPr>
              <a:xfrm>
                <a:off x="8423280" y="2648880"/>
                <a:ext cx="160200" cy="299880"/>
              </a:xfrm>
              <a:custGeom>
                <a:avLst/>
                <a:gdLst/>
                <a:ahLst/>
                <a:rect l="l" t="t" r="r" b="b"/>
                <a:pathLst>
                  <a:path w="102" h="190">
                    <a:moveTo>
                      <a:pt x="81" y="190"/>
                    </a:moveTo>
                    <a:cubicBezTo>
                      <a:pt x="81" y="190"/>
                      <a:pt x="81" y="190"/>
                      <a:pt x="81" y="190"/>
                    </a:cubicBezTo>
                    <a:cubicBezTo>
                      <a:pt x="82" y="185"/>
                      <a:pt x="83" y="180"/>
                      <a:pt x="85" y="176"/>
                    </a:cubicBezTo>
                    <a:cubicBezTo>
                      <a:pt x="102" y="117"/>
                      <a:pt x="73" y="107"/>
                      <a:pt x="60" y="104"/>
                    </a:cubicBezTo>
                    <a:cubicBezTo>
                      <a:pt x="46" y="101"/>
                      <a:pt x="6" y="64"/>
                      <a:pt x="12" y="51"/>
                    </a:cubicBezTo>
                    <a:cubicBezTo>
                      <a:pt x="15" y="44"/>
                      <a:pt x="20" y="35"/>
                      <a:pt x="24" y="28"/>
                    </a:cubicBezTo>
                    <a:cubicBezTo>
                      <a:pt x="20" y="43"/>
                      <a:pt x="39" y="50"/>
                      <a:pt x="51" y="29"/>
                    </a:cubicBezTo>
                    <a:cubicBezTo>
                      <a:pt x="57" y="18"/>
                      <a:pt x="58" y="10"/>
                      <a:pt x="54" y="2"/>
                    </a:cubicBezTo>
                    <a:cubicBezTo>
                      <a:pt x="51" y="15"/>
                      <a:pt x="44" y="40"/>
                      <a:pt x="42" y="25"/>
                    </a:cubicBezTo>
                    <a:cubicBezTo>
                      <a:pt x="39" y="6"/>
                      <a:pt x="38" y="0"/>
                      <a:pt x="28" y="8"/>
                    </a:cubicBezTo>
                    <a:cubicBezTo>
                      <a:pt x="18" y="17"/>
                      <a:pt x="3" y="48"/>
                      <a:pt x="2" y="55"/>
                    </a:cubicBezTo>
                    <a:cubicBezTo>
                      <a:pt x="0" y="62"/>
                      <a:pt x="5" y="85"/>
                      <a:pt x="35" y="101"/>
                    </a:cubicBezTo>
                    <a:cubicBezTo>
                      <a:pt x="66" y="117"/>
                      <a:pt x="101" y="106"/>
                      <a:pt x="81" y="19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57"/>
              <p:cNvSpPr/>
              <p:nvPr/>
            </p:nvSpPr>
            <p:spPr>
              <a:xfrm>
                <a:off x="8809200" y="3078000"/>
                <a:ext cx="179280" cy="150840"/>
              </a:xfrm>
              <a:custGeom>
                <a:avLst/>
                <a:gdLst/>
                <a:ahLst/>
                <a:rect l="l" t="t" r="r" b="b"/>
                <a:pathLst>
                  <a:path w="113" h="96">
                    <a:moveTo>
                      <a:pt x="79" y="96"/>
                    </a:moveTo>
                    <a:cubicBezTo>
                      <a:pt x="79" y="96"/>
                      <a:pt x="113" y="29"/>
                      <a:pt x="58" y="15"/>
                    </a:cubicBezTo>
                    <a:cubicBezTo>
                      <a:pt x="2" y="0"/>
                      <a:pt x="0" y="27"/>
                      <a:pt x="0" y="27"/>
                    </a:cubicBezTo>
                    <a:lnTo>
                      <a:pt x="79" y="96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58"/>
              <p:cNvSpPr/>
              <p:nvPr/>
            </p:nvSpPr>
            <p:spPr>
              <a:xfrm>
                <a:off x="8801280" y="3109680"/>
                <a:ext cx="156960" cy="196920"/>
              </a:xfrm>
              <a:custGeom>
                <a:avLst/>
                <a:gdLst/>
                <a:ahLst/>
                <a:rect l="l" t="t" r="r" b="b"/>
                <a:pathLst>
                  <a:path w="99" h="125">
                    <a:moveTo>
                      <a:pt x="7" y="0"/>
                    </a:moveTo>
                    <a:cubicBezTo>
                      <a:pt x="7" y="0"/>
                      <a:pt x="74" y="8"/>
                      <a:pt x="86" y="43"/>
                    </a:cubicBezTo>
                    <a:cubicBezTo>
                      <a:pt x="99" y="78"/>
                      <a:pt x="54" y="125"/>
                      <a:pt x="27" y="88"/>
                    </a:cubicBezTo>
                    <a:cubicBezTo>
                      <a:pt x="0" y="50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59"/>
              <p:cNvSpPr/>
              <p:nvPr/>
            </p:nvSpPr>
            <p:spPr>
              <a:xfrm>
                <a:off x="8774280" y="2898360"/>
                <a:ext cx="56880" cy="214200"/>
              </a:xfrm>
              <a:custGeom>
                <a:avLst/>
                <a:gdLst/>
                <a:ahLst/>
                <a:rect l="l" t="t" r="r" b="b"/>
                <a:pathLst>
                  <a:path w="36" h="135">
                    <a:moveTo>
                      <a:pt x="24" y="0"/>
                    </a:moveTo>
                    <a:cubicBezTo>
                      <a:pt x="24" y="0"/>
                      <a:pt x="7" y="46"/>
                      <a:pt x="36" y="129"/>
                    </a:cubicBezTo>
                    <a:cubicBezTo>
                      <a:pt x="19" y="135"/>
                      <a:pt x="19" y="135"/>
                      <a:pt x="19" y="135"/>
                    </a:cubicBezTo>
                    <a:cubicBezTo>
                      <a:pt x="19" y="135"/>
                      <a:pt x="0" y="43"/>
                      <a:pt x="24" y="0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60"/>
              <p:cNvSpPr/>
              <p:nvPr/>
            </p:nvSpPr>
            <p:spPr>
              <a:xfrm>
                <a:off x="8683920" y="2518920"/>
                <a:ext cx="287280" cy="751320"/>
              </a:xfrm>
              <a:custGeom>
                <a:avLst/>
                <a:gdLst/>
                <a:ahLst/>
                <a:rect l="l" t="t" r="r" b="b"/>
                <a:pathLst>
                  <a:path w="182" h="476">
                    <a:moveTo>
                      <a:pt x="131" y="438"/>
                    </a:moveTo>
                    <a:cubicBezTo>
                      <a:pt x="131" y="438"/>
                      <a:pt x="115" y="405"/>
                      <a:pt x="97" y="366"/>
                    </a:cubicBezTo>
                    <a:cubicBezTo>
                      <a:pt x="71" y="309"/>
                      <a:pt x="41" y="239"/>
                      <a:pt x="43" y="229"/>
                    </a:cubicBezTo>
                    <a:cubicBezTo>
                      <a:pt x="43" y="229"/>
                      <a:pt x="162" y="197"/>
                      <a:pt x="172" y="170"/>
                    </a:cubicBezTo>
                    <a:cubicBezTo>
                      <a:pt x="182" y="143"/>
                      <a:pt x="142" y="0"/>
                      <a:pt x="95" y="39"/>
                    </a:cubicBezTo>
                    <a:cubicBezTo>
                      <a:pt x="48" y="79"/>
                      <a:pt x="37" y="86"/>
                      <a:pt x="52" y="112"/>
                    </a:cubicBezTo>
                    <a:cubicBezTo>
                      <a:pt x="66" y="138"/>
                      <a:pt x="92" y="122"/>
                      <a:pt x="72" y="100"/>
                    </a:cubicBezTo>
                    <a:cubicBezTo>
                      <a:pt x="72" y="100"/>
                      <a:pt x="85" y="121"/>
                      <a:pt x="91" y="134"/>
                    </a:cubicBezTo>
                    <a:cubicBezTo>
                      <a:pt x="97" y="147"/>
                      <a:pt x="57" y="184"/>
                      <a:pt x="43" y="187"/>
                    </a:cubicBezTo>
                    <a:cubicBezTo>
                      <a:pt x="29" y="190"/>
                      <a:pt x="0" y="200"/>
                      <a:pt x="18" y="259"/>
                    </a:cubicBezTo>
                    <a:cubicBezTo>
                      <a:pt x="35" y="318"/>
                      <a:pt x="58" y="470"/>
                      <a:pt x="93" y="473"/>
                    </a:cubicBezTo>
                    <a:cubicBezTo>
                      <a:pt x="128" y="476"/>
                      <a:pt x="141" y="461"/>
                      <a:pt x="131" y="438"/>
                    </a:cubicBez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61"/>
              <p:cNvSpPr/>
              <p:nvPr/>
            </p:nvSpPr>
            <p:spPr>
              <a:xfrm>
                <a:off x="8683920" y="2563200"/>
                <a:ext cx="288720" cy="70992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111" y="4"/>
                    </a:moveTo>
                    <a:cubicBezTo>
                      <a:pt x="151" y="4"/>
                      <a:pt x="180" y="118"/>
                      <a:pt x="172" y="142"/>
                    </a:cubicBezTo>
                    <a:cubicBezTo>
                      <a:pt x="162" y="169"/>
                      <a:pt x="43" y="201"/>
                      <a:pt x="43" y="201"/>
                    </a:cubicBezTo>
                    <a:cubicBezTo>
                      <a:pt x="41" y="211"/>
                      <a:pt x="71" y="281"/>
                      <a:pt x="97" y="338"/>
                    </a:cubicBezTo>
                    <a:cubicBezTo>
                      <a:pt x="115" y="377"/>
                      <a:pt x="131" y="410"/>
                      <a:pt x="131" y="410"/>
                    </a:cubicBezTo>
                    <a:cubicBezTo>
                      <a:pt x="140" y="431"/>
                      <a:pt x="130" y="446"/>
                      <a:pt x="101" y="446"/>
                    </a:cubicBezTo>
                    <a:cubicBezTo>
                      <a:pt x="99" y="446"/>
                      <a:pt x="96" y="446"/>
                      <a:pt x="93" y="445"/>
                    </a:cubicBezTo>
                    <a:cubicBezTo>
                      <a:pt x="58" y="442"/>
                      <a:pt x="35" y="290"/>
                      <a:pt x="18" y="231"/>
                    </a:cubicBezTo>
                    <a:cubicBezTo>
                      <a:pt x="0" y="172"/>
                      <a:pt x="29" y="162"/>
                      <a:pt x="43" y="159"/>
                    </a:cubicBezTo>
                    <a:cubicBezTo>
                      <a:pt x="57" y="156"/>
                      <a:pt x="97" y="119"/>
                      <a:pt x="91" y="106"/>
                    </a:cubicBezTo>
                    <a:cubicBezTo>
                      <a:pt x="88" y="99"/>
                      <a:pt x="83" y="90"/>
                      <a:pt x="79" y="83"/>
                    </a:cubicBezTo>
                    <a:cubicBezTo>
                      <a:pt x="78" y="80"/>
                      <a:pt x="76" y="76"/>
                      <a:pt x="72" y="72"/>
                    </a:cubicBezTo>
                    <a:cubicBezTo>
                      <a:pt x="72" y="72"/>
                      <a:pt x="75" y="77"/>
                      <a:pt x="79" y="83"/>
                    </a:cubicBezTo>
                    <a:cubicBezTo>
                      <a:pt x="81" y="92"/>
                      <a:pt x="76" y="97"/>
                      <a:pt x="69" y="97"/>
                    </a:cubicBezTo>
                    <a:cubicBezTo>
                      <a:pt x="64" y="97"/>
                      <a:pt x="57" y="94"/>
                      <a:pt x="52" y="84"/>
                    </a:cubicBezTo>
                    <a:cubicBezTo>
                      <a:pt x="37" y="58"/>
                      <a:pt x="48" y="51"/>
                      <a:pt x="95" y="11"/>
                    </a:cubicBezTo>
                    <a:cubicBezTo>
                      <a:pt x="101" y="6"/>
                      <a:pt x="106" y="4"/>
                      <a:pt x="111" y="4"/>
                    </a:cubicBezTo>
                    <a:moveTo>
                      <a:pt x="111" y="0"/>
                    </a:moveTo>
                    <a:cubicBezTo>
                      <a:pt x="111" y="0"/>
                      <a:pt x="111" y="0"/>
                      <a:pt x="111" y="0"/>
                    </a:cubicBezTo>
                    <a:cubicBezTo>
                      <a:pt x="105" y="0"/>
                      <a:pt x="99" y="3"/>
                      <a:pt x="92" y="8"/>
                    </a:cubicBezTo>
                    <a:cubicBezTo>
                      <a:pt x="88" y="12"/>
                      <a:pt x="88" y="12"/>
                      <a:pt x="88" y="12"/>
                    </a:cubicBezTo>
                    <a:cubicBezTo>
                      <a:pt x="44" y="48"/>
                      <a:pt x="33" y="58"/>
                      <a:pt x="48" y="86"/>
                    </a:cubicBezTo>
                    <a:cubicBezTo>
                      <a:pt x="53" y="96"/>
                      <a:pt x="61" y="101"/>
                      <a:pt x="69" y="101"/>
                    </a:cubicBezTo>
                    <a:cubicBezTo>
                      <a:pt x="74" y="101"/>
                      <a:pt x="78" y="100"/>
                      <a:pt x="80" y="96"/>
                    </a:cubicBezTo>
                    <a:cubicBezTo>
                      <a:pt x="81" y="95"/>
                      <a:pt x="81" y="95"/>
                      <a:pt x="81" y="95"/>
                    </a:cubicBezTo>
                    <a:cubicBezTo>
                      <a:pt x="83" y="99"/>
                      <a:pt x="85" y="104"/>
                      <a:pt x="87" y="107"/>
                    </a:cubicBezTo>
                    <a:cubicBezTo>
                      <a:pt x="88" y="109"/>
                      <a:pt x="87" y="111"/>
                      <a:pt x="85" y="115"/>
                    </a:cubicBezTo>
                    <a:cubicBezTo>
                      <a:pt x="78" y="131"/>
                      <a:pt x="51" y="153"/>
                      <a:pt x="42" y="155"/>
                    </a:cubicBezTo>
                    <a:cubicBezTo>
                      <a:pt x="33" y="157"/>
                      <a:pt x="21" y="161"/>
                      <a:pt x="14" y="174"/>
                    </a:cubicBezTo>
                    <a:cubicBezTo>
                      <a:pt x="6" y="187"/>
                      <a:pt x="6" y="207"/>
                      <a:pt x="14" y="232"/>
                    </a:cubicBezTo>
                    <a:cubicBezTo>
                      <a:pt x="18" y="247"/>
                      <a:pt x="23" y="269"/>
                      <a:pt x="28" y="292"/>
                    </a:cubicBezTo>
                    <a:cubicBezTo>
                      <a:pt x="48" y="380"/>
                      <a:pt x="66" y="447"/>
                      <a:pt x="93" y="449"/>
                    </a:cubicBezTo>
                    <a:cubicBezTo>
                      <a:pt x="96" y="450"/>
                      <a:pt x="99" y="450"/>
                      <a:pt x="101" y="450"/>
                    </a:cubicBezTo>
                    <a:cubicBezTo>
                      <a:pt x="122" y="450"/>
                      <a:pt x="131" y="442"/>
                      <a:pt x="135" y="436"/>
                    </a:cubicBezTo>
                    <a:cubicBezTo>
                      <a:pt x="138" y="431"/>
                      <a:pt x="141" y="422"/>
                      <a:pt x="134" y="409"/>
                    </a:cubicBezTo>
                    <a:cubicBezTo>
                      <a:pt x="134" y="408"/>
                      <a:pt x="118" y="375"/>
                      <a:pt x="101" y="336"/>
                    </a:cubicBezTo>
                    <a:cubicBezTo>
                      <a:pt x="56" y="237"/>
                      <a:pt x="48" y="211"/>
                      <a:pt x="47" y="204"/>
                    </a:cubicBezTo>
                    <a:cubicBezTo>
                      <a:pt x="68" y="198"/>
                      <a:pt x="166" y="170"/>
                      <a:pt x="175" y="143"/>
                    </a:cubicBezTo>
                    <a:cubicBezTo>
                      <a:pt x="183" y="123"/>
                      <a:pt x="167" y="56"/>
                      <a:pt x="144" y="22"/>
                    </a:cubicBezTo>
                    <a:cubicBezTo>
                      <a:pt x="133" y="8"/>
                      <a:pt x="123" y="0"/>
                      <a:pt x="111" y="0"/>
                    </a:cubicBezTo>
                    <a:close/>
                  </a:path>
                </a:pathLst>
              </a:custGeom>
              <a:solidFill>
                <a:srgbClr val="f9aa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62"/>
              <p:cNvSpPr/>
              <p:nvPr/>
            </p:nvSpPr>
            <p:spPr>
              <a:xfrm>
                <a:off x="8683920" y="2648880"/>
                <a:ext cx="162000" cy="299880"/>
              </a:xfrm>
              <a:custGeom>
                <a:avLst/>
                <a:gdLst/>
                <a:ahLst/>
                <a:rect l="l" t="t" r="r" b="b"/>
                <a:pathLst>
                  <a:path w="103" h="190">
                    <a:moveTo>
                      <a:pt x="21" y="190"/>
                    </a:moveTo>
                    <a:cubicBezTo>
                      <a:pt x="21" y="190"/>
                      <a:pt x="21" y="190"/>
                      <a:pt x="21" y="190"/>
                    </a:cubicBezTo>
                    <a:cubicBezTo>
                      <a:pt x="20" y="185"/>
                      <a:pt x="19" y="180"/>
                      <a:pt x="18" y="176"/>
                    </a:cubicBezTo>
                    <a:cubicBezTo>
                      <a:pt x="0" y="117"/>
                      <a:pt x="29" y="107"/>
                      <a:pt x="43" y="104"/>
                    </a:cubicBezTo>
                    <a:cubicBezTo>
                      <a:pt x="57" y="101"/>
                      <a:pt x="97" y="64"/>
                      <a:pt x="91" y="51"/>
                    </a:cubicBezTo>
                    <a:cubicBezTo>
                      <a:pt x="88" y="44"/>
                      <a:pt x="83" y="35"/>
                      <a:pt x="79" y="28"/>
                    </a:cubicBezTo>
                    <a:cubicBezTo>
                      <a:pt x="83" y="43"/>
                      <a:pt x="63" y="50"/>
                      <a:pt x="52" y="29"/>
                    </a:cubicBezTo>
                    <a:cubicBezTo>
                      <a:pt x="45" y="18"/>
                      <a:pt x="44" y="10"/>
                      <a:pt x="48" y="2"/>
                    </a:cubicBezTo>
                    <a:cubicBezTo>
                      <a:pt x="51" y="15"/>
                      <a:pt x="58" y="40"/>
                      <a:pt x="60" y="25"/>
                    </a:cubicBezTo>
                    <a:cubicBezTo>
                      <a:pt x="63" y="6"/>
                      <a:pt x="64" y="0"/>
                      <a:pt x="74" y="8"/>
                    </a:cubicBezTo>
                    <a:cubicBezTo>
                      <a:pt x="84" y="17"/>
                      <a:pt x="99" y="48"/>
                      <a:pt x="101" y="55"/>
                    </a:cubicBezTo>
                    <a:cubicBezTo>
                      <a:pt x="103" y="62"/>
                      <a:pt x="98" y="85"/>
                      <a:pt x="67" y="101"/>
                    </a:cubicBezTo>
                    <a:cubicBezTo>
                      <a:pt x="36" y="117"/>
                      <a:pt x="2" y="106"/>
                      <a:pt x="21" y="190"/>
                    </a:cubicBezTo>
                    <a:close/>
                  </a:path>
                </a:pathLst>
              </a:custGeom>
              <a:solidFill>
                <a:srgbClr val="ea9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63"/>
              <p:cNvSpPr/>
              <p:nvPr/>
            </p:nvSpPr>
            <p:spPr>
              <a:xfrm>
                <a:off x="8616960" y="288900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1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17" y="24"/>
                      <a:pt x="12" y="22"/>
                    </a:cubicBezTo>
                    <a:cubicBezTo>
                      <a:pt x="7" y="2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c6e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64"/>
              <p:cNvSpPr/>
              <p:nvPr/>
            </p:nvSpPr>
            <p:spPr>
              <a:xfrm>
                <a:off x="8599680" y="2923920"/>
                <a:ext cx="72720" cy="412920"/>
              </a:xfrm>
              <a:custGeom>
                <a:avLst/>
                <a:gdLst/>
                <a:ahLst/>
                <a:rect l="l" t="t" r="r" b="b"/>
                <a:pathLst>
                  <a:path w="46" h="260">
                    <a:moveTo>
                      <a:pt x="23" y="0"/>
                    </a:moveTo>
                    <a:lnTo>
                      <a:pt x="0" y="234"/>
                    </a:lnTo>
                    <a:lnTo>
                      <a:pt x="23" y="260"/>
                    </a:lnTo>
                    <a:lnTo>
                      <a:pt x="46" y="24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c6e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80" name="Freeform 65"/>
          <p:cNvSpPr/>
          <p:nvPr/>
        </p:nvSpPr>
        <p:spPr>
          <a:xfrm>
            <a:off x="7593120" y="3444840"/>
            <a:ext cx="326880" cy="336600"/>
          </a:xfrm>
          <a:custGeom>
            <a:avLst/>
            <a:gdLst/>
            <a:ahLst/>
            <a:rect l="l" t="t" r="r" b="b"/>
            <a:pathLst>
              <a:path w="163" h="167">
                <a:moveTo>
                  <a:pt x="70" y="135"/>
                </a:moveTo>
                <a:cubicBezTo>
                  <a:pt x="88" y="141"/>
                  <a:pt x="108" y="140"/>
                  <a:pt x="124" y="129"/>
                </a:cubicBezTo>
                <a:cubicBezTo>
                  <a:pt x="154" y="111"/>
                  <a:pt x="163" y="71"/>
                  <a:pt x="144" y="40"/>
                </a:cubicBezTo>
                <a:cubicBezTo>
                  <a:pt x="125" y="9"/>
                  <a:pt x="85" y="0"/>
                  <a:pt x="56" y="18"/>
                </a:cubicBezTo>
                <a:cubicBezTo>
                  <a:pt x="30" y="34"/>
                  <a:pt x="22" y="67"/>
                  <a:pt x="30" y="94"/>
                </a:cubicBezTo>
                <a:cubicBezTo>
                  <a:pt x="30" y="94"/>
                  <a:pt x="30" y="94"/>
                  <a:pt x="30" y="94"/>
                </a:cubicBezTo>
                <a:cubicBezTo>
                  <a:pt x="3" y="121"/>
                  <a:pt x="3" y="121"/>
                  <a:pt x="3" y="121"/>
                </a:cubicBezTo>
                <a:cubicBezTo>
                  <a:pt x="0" y="133"/>
                  <a:pt x="0" y="133"/>
                  <a:pt x="0" y="133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45" y="160"/>
                  <a:pt x="45" y="160"/>
                  <a:pt x="45" y="160"/>
                </a:cubicBezTo>
                <a:cubicBezTo>
                  <a:pt x="70" y="135"/>
                  <a:pt x="70" y="135"/>
                  <a:pt x="70" y="135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reeform 66"/>
          <p:cNvSpPr/>
          <p:nvPr/>
        </p:nvSpPr>
        <p:spPr>
          <a:xfrm>
            <a:off x="7620120" y="3519360"/>
            <a:ext cx="222120" cy="231840"/>
          </a:xfrm>
          <a:custGeom>
            <a:avLst/>
            <a:gdLst/>
            <a:ahLst/>
            <a:rect l="l" t="t" r="r" b="b"/>
            <a:pathLst>
              <a:path w="111" h="115">
                <a:moveTo>
                  <a:pt x="7" y="72"/>
                </a:moveTo>
                <a:cubicBezTo>
                  <a:pt x="37" y="107"/>
                  <a:pt x="37" y="107"/>
                  <a:pt x="37" y="107"/>
                </a:cubicBezTo>
                <a:cubicBezTo>
                  <a:pt x="42" y="104"/>
                  <a:pt x="42" y="104"/>
                  <a:pt x="42" y="104"/>
                </a:cubicBezTo>
                <a:cubicBezTo>
                  <a:pt x="11" y="70"/>
                  <a:pt x="11" y="70"/>
                  <a:pt x="11" y="70"/>
                </a:cubicBezTo>
                <a:lnTo>
                  <a:pt x="7" y="72"/>
                </a:lnTo>
                <a:close/>
                <a:moveTo>
                  <a:pt x="0" y="81"/>
                </a:moveTo>
                <a:cubicBezTo>
                  <a:pt x="32" y="115"/>
                  <a:pt x="32" y="115"/>
                  <a:pt x="32" y="115"/>
                </a:cubicBezTo>
                <a:cubicBezTo>
                  <a:pt x="35" y="111"/>
                  <a:pt x="35" y="111"/>
                  <a:pt x="35" y="111"/>
                </a:cubicBezTo>
                <a:cubicBezTo>
                  <a:pt x="4" y="77"/>
                  <a:pt x="4" y="77"/>
                  <a:pt x="4" y="77"/>
                </a:cubicBezTo>
                <a:lnTo>
                  <a:pt x="0" y="81"/>
                </a:lnTo>
                <a:close/>
                <a:moveTo>
                  <a:pt x="109" y="46"/>
                </a:moveTo>
                <a:cubicBezTo>
                  <a:pt x="108" y="44"/>
                  <a:pt x="104" y="44"/>
                  <a:pt x="102" y="44"/>
                </a:cubicBezTo>
                <a:cubicBezTo>
                  <a:pt x="102" y="45"/>
                  <a:pt x="100" y="46"/>
                  <a:pt x="97" y="48"/>
                </a:cubicBezTo>
                <a:cubicBezTo>
                  <a:pt x="96" y="46"/>
                  <a:pt x="95" y="44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5" y="40"/>
                  <a:pt x="96" y="39"/>
                  <a:pt x="97" y="38"/>
                </a:cubicBezTo>
                <a:cubicBezTo>
                  <a:pt x="100" y="34"/>
                  <a:pt x="99" y="30"/>
                  <a:pt x="96" y="28"/>
                </a:cubicBezTo>
                <a:cubicBezTo>
                  <a:pt x="95" y="27"/>
                  <a:pt x="93" y="27"/>
                  <a:pt x="90" y="30"/>
                </a:cubicBezTo>
                <a:cubicBezTo>
                  <a:pt x="89" y="31"/>
                  <a:pt x="89" y="34"/>
                  <a:pt x="90" y="36"/>
                </a:cubicBezTo>
                <a:cubicBezTo>
                  <a:pt x="86" y="34"/>
                  <a:pt x="83" y="29"/>
                  <a:pt x="80" y="24"/>
                </a:cubicBezTo>
                <a:cubicBezTo>
                  <a:pt x="81" y="24"/>
                  <a:pt x="81" y="24"/>
                  <a:pt x="81" y="24"/>
                </a:cubicBezTo>
                <a:cubicBezTo>
                  <a:pt x="86" y="21"/>
                  <a:pt x="86" y="17"/>
                  <a:pt x="86" y="16"/>
                </a:cubicBezTo>
                <a:cubicBezTo>
                  <a:pt x="85" y="14"/>
                  <a:pt x="84" y="13"/>
                  <a:pt x="82" y="13"/>
                </a:cubicBezTo>
                <a:cubicBezTo>
                  <a:pt x="80" y="13"/>
                  <a:pt x="78" y="14"/>
                  <a:pt x="77" y="16"/>
                </a:cubicBezTo>
                <a:cubicBezTo>
                  <a:pt x="76" y="18"/>
                  <a:pt x="76" y="20"/>
                  <a:pt x="77" y="23"/>
                </a:cubicBezTo>
                <a:cubicBezTo>
                  <a:pt x="75" y="23"/>
                  <a:pt x="73" y="21"/>
                  <a:pt x="71" y="20"/>
                </a:cubicBezTo>
                <a:cubicBezTo>
                  <a:pt x="70" y="19"/>
                  <a:pt x="69" y="18"/>
                  <a:pt x="68" y="16"/>
                </a:cubicBezTo>
                <a:cubicBezTo>
                  <a:pt x="70" y="11"/>
                  <a:pt x="72" y="6"/>
                  <a:pt x="71" y="4"/>
                </a:cubicBezTo>
                <a:cubicBezTo>
                  <a:pt x="70" y="2"/>
                  <a:pt x="69" y="1"/>
                  <a:pt x="67" y="1"/>
                </a:cubicBezTo>
                <a:cubicBezTo>
                  <a:pt x="64" y="0"/>
                  <a:pt x="62" y="2"/>
                  <a:pt x="61" y="3"/>
                </a:cubicBezTo>
                <a:cubicBezTo>
                  <a:pt x="60" y="6"/>
                  <a:pt x="62" y="12"/>
                  <a:pt x="65" y="17"/>
                </a:cubicBezTo>
                <a:cubicBezTo>
                  <a:pt x="59" y="30"/>
                  <a:pt x="44" y="50"/>
                  <a:pt x="37" y="59"/>
                </a:cubicBezTo>
                <a:cubicBezTo>
                  <a:pt x="37" y="59"/>
                  <a:pt x="37" y="60"/>
                  <a:pt x="37" y="60"/>
                </a:cubicBezTo>
                <a:cubicBezTo>
                  <a:pt x="38" y="61"/>
                  <a:pt x="38" y="61"/>
                  <a:pt x="38" y="61"/>
                </a:cubicBezTo>
                <a:cubicBezTo>
                  <a:pt x="38" y="61"/>
                  <a:pt x="39" y="61"/>
                  <a:pt x="39" y="60"/>
                </a:cubicBezTo>
                <a:cubicBezTo>
                  <a:pt x="42" y="57"/>
                  <a:pt x="59" y="35"/>
                  <a:pt x="67" y="18"/>
                </a:cubicBezTo>
                <a:cubicBezTo>
                  <a:pt x="68" y="20"/>
                  <a:pt x="69" y="21"/>
                  <a:pt x="70" y="21"/>
                </a:cubicBezTo>
                <a:cubicBezTo>
                  <a:pt x="73" y="24"/>
                  <a:pt x="76" y="25"/>
                  <a:pt x="78" y="25"/>
                </a:cubicBezTo>
                <a:cubicBezTo>
                  <a:pt x="81" y="31"/>
                  <a:pt x="86" y="37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40"/>
                  <a:pt x="92" y="42"/>
                  <a:pt x="92" y="42"/>
                </a:cubicBezTo>
                <a:cubicBezTo>
                  <a:pt x="93" y="45"/>
                  <a:pt x="94" y="47"/>
                  <a:pt x="95" y="49"/>
                </a:cubicBezTo>
                <a:cubicBezTo>
                  <a:pt x="82" y="57"/>
                  <a:pt x="55" y="76"/>
                  <a:pt x="53" y="77"/>
                </a:cubicBezTo>
                <a:cubicBezTo>
                  <a:pt x="53" y="77"/>
                  <a:pt x="53" y="78"/>
                  <a:pt x="53" y="78"/>
                </a:cubicBezTo>
                <a:cubicBezTo>
                  <a:pt x="53" y="79"/>
                  <a:pt x="54" y="79"/>
                  <a:pt x="55" y="78"/>
                </a:cubicBezTo>
                <a:cubicBezTo>
                  <a:pt x="64" y="72"/>
                  <a:pt x="86" y="58"/>
                  <a:pt x="97" y="51"/>
                </a:cubicBezTo>
                <a:cubicBezTo>
                  <a:pt x="99" y="53"/>
                  <a:pt x="101" y="56"/>
                  <a:pt x="103" y="56"/>
                </a:cubicBezTo>
                <a:cubicBezTo>
                  <a:pt x="105" y="56"/>
                  <a:pt x="106" y="56"/>
                  <a:pt x="108" y="54"/>
                </a:cubicBezTo>
                <a:cubicBezTo>
                  <a:pt x="111" y="49"/>
                  <a:pt x="110" y="47"/>
                  <a:pt x="109" y="46"/>
                </a:cubicBezTo>
                <a:close/>
                <a:moveTo>
                  <a:pt x="66" y="14"/>
                </a:moveTo>
                <a:cubicBezTo>
                  <a:pt x="64" y="10"/>
                  <a:pt x="62" y="6"/>
                  <a:pt x="63" y="4"/>
                </a:cubicBezTo>
                <a:cubicBezTo>
                  <a:pt x="64" y="3"/>
                  <a:pt x="65" y="3"/>
                  <a:pt x="67" y="3"/>
                </a:cubicBezTo>
                <a:cubicBezTo>
                  <a:pt x="68" y="3"/>
                  <a:pt x="68" y="3"/>
                  <a:pt x="68" y="4"/>
                </a:cubicBezTo>
                <a:cubicBezTo>
                  <a:pt x="69" y="4"/>
                  <a:pt x="69" y="4"/>
                  <a:pt x="69" y="4"/>
                </a:cubicBezTo>
                <a:cubicBezTo>
                  <a:pt x="69" y="6"/>
                  <a:pt x="68" y="10"/>
                  <a:pt x="66" y="14"/>
                </a:cubicBezTo>
                <a:close/>
                <a:moveTo>
                  <a:pt x="79" y="23"/>
                </a:moveTo>
                <a:cubicBezTo>
                  <a:pt x="79" y="20"/>
                  <a:pt x="78" y="18"/>
                  <a:pt x="79" y="17"/>
                </a:cubicBezTo>
                <a:cubicBezTo>
                  <a:pt x="79" y="16"/>
                  <a:pt x="80" y="15"/>
                  <a:pt x="82" y="15"/>
                </a:cubicBezTo>
                <a:cubicBezTo>
                  <a:pt x="82" y="15"/>
                  <a:pt x="83" y="16"/>
                  <a:pt x="83" y="16"/>
                </a:cubicBezTo>
                <a:cubicBezTo>
                  <a:pt x="84" y="17"/>
                  <a:pt x="84" y="17"/>
                  <a:pt x="84" y="17"/>
                </a:cubicBezTo>
                <a:cubicBezTo>
                  <a:pt x="84" y="18"/>
                  <a:pt x="83" y="20"/>
                  <a:pt x="80" y="22"/>
                </a:cubicBezTo>
                <a:lnTo>
                  <a:pt x="79" y="23"/>
                </a:lnTo>
                <a:close/>
                <a:moveTo>
                  <a:pt x="92" y="31"/>
                </a:moveTo>
                <a:cubicBezTo>
                  <a:pt x="93" y="31"/>
                  <a:pt x="94" y="29"/>
                  <a:pt x="95" y="30"/>
                </a:cubicBezTo>
                <a:cubicBezTo>
                  <a:pt x="96" y="31"/>
                  <a:pt x="96" y="31"/>
                  <a:pt x="96" y="31"/>
                </a:cubicBezTo>
                <a:cubicBezTo>
                  <a:pt x="97" y="32"/>
                  <a:pt x="97" y="35"/>
                  <a:pt x="95" y="37"/>
                </a:cubicBezTo>
                <a:cubicBezTo>
                  <a:pt x="95" y="38"/>
                  <a:pt x="94" y="38"/>
                  <a:pt x="92" y="38"/>
                </a:cubicBezTo>
                <a:cubicBezTo>
                  <a:pt x="92" y="34"/>
                  <a:pt x="92" y="32"/>
                  <a:pt x="92" y="31"/>
                </a:cubicBezTo>
                <a:close/>
                <a:moveTo>
                  <a:pt x="106" y="53"/>
                </a:moveTo>
                <a:cubicBezTo>
                  <a:pt x="105" y="54"/>
                  <a:pt x="104" y="54"/>
                  <a:pt x="104" y="54"/>
                </a:cubicBezTo>
                <a:cubicBezTo>
                  <a:pt x="102" y="53"/>
                  <a:pt x="100" y="52"/>
                  <a:pt x="98" y="49"/>
                </a:cubicBezTo>
                <a:cubicBezTo>
                  <a:pt x="101" y="48"/>
                  <a:pt x="103" y="47"/>
                  <a:pt x="103" y="46"/>
                </a:cubicBezTo>
                <a:cubicBezTo>
                  <a:pt x="104" y="46"/>
                  <a:pt x="107" y="46"/>
                  <a:pt x="108" y="4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8" y="48"/>
                  <a:pt x="108" y="50"/>
                  <a:pt x="106" y="53"/>
                </a:cubicBezTo>
                <a:close/>
                <a:moveTo>
                  <a:pt x="15" y="66"/>
                </a:moveTo>
                <a:cubicBezTo>
                  <a:pt x="48" y="99"/>
                  <a:pt x="48" y="99"/>
                  <a:pt x="48" y="99"/>
                </a:cubicBezTo>
                <a:cubicBezTo>
                  <a:pt x="51" y="94"/>
                  <a:pt x="51" y="94"/>
                  <a:pt x="51" y="94"/>
                </a:cubicBezTo>
                <a:cubicBezTo>
                  <a:pt x="19" y="61"/>
                  <a:pt x="19" y="61"/>
                  <a:pt x="19" y="61"/>
                </a:cubicBezTo>
                <a:lnTo>
                  <a:pt x="15" y="66"/>
                </a:ln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Freeform 67"/>
          <p:cNvSpPr/>
          <p:nvPr/>
        </p:nvSpPr>
        <p:spPr>
          <a:xfrm>
            <a:off x="9231480" y="3513240"/>
            <a:ext cx="228600" cy="2746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20" y="67"/>
                </a:moveTo>
                <a:cubicBezTo>
                  <a:pt x="9" y="83"/>
                  <a:pt x="5" y="102"/>
                  <a:pt x="10" y="121"/>
                </a:cubicBezTo>
                <a:cubicBezTo>
                  <a:pt x="20" y="155"/>
                  <a:pt x="56" y="174"/>
                  <a:pt x="91" y="164"/>
                </a:cubicBezTo>
                <a:cubicBezTo>
                  <a:pt x="126" y="154"/>
                  <a:pt x="145" y="119"/>
                  <a:pt x="136" y="86"/>
                </a:cubicBezTo>
                <a:cubicBezTo>
                  <a:pt x="128" y="57"/>
                  <a:pt x="98" y="39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51" y="7"/>
                  <a:pt x="51" y="7"/>
                  <a:pt x="51" y="7"/>
                </a:cubicBezTo>
                <a:cubicBezTo>
                  <a:pt x="41" y="0"/>
                  <a:pt x="41" y="0"/>
                  <a:pt x="41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3" y="36"/>
                  <a:pt x="3" y="36"/>
                  <a:pt x="3" y="36"/>
                </a:cubicBezTo>
                <a:cubicBezTo>
                  <a:pt x="20" y="67"/>
                  <a:pt x="20" y="67"/>
                  <a:pt x="20" y="67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Freeform 68"/>
          <p:cNvSpPr/>
          <p:nvPr/>
        </p:nvSpPr>
        <p:spPr>
          <a:xfrm>
            <a:off x="9244080" y="3535200"/>
            <a:ext cx="160200" cy="181080"/>
          </a:xfrm>
          <a:custGeom>
            <a:avLst/>
            <a:gdLst/>
            <a:ahLst/>
            <a:rect l="l" t="t" r="r" b="b"/>
            <a:pathLst>
              <a:path w="102" h="115">
                <a:moveTo>
                  <a:pt x="48" y="8"/>
                </a:moveTo>
                <a:cubicBezTo>
                  <a:pt x="7" y="28"/>
                  <a:pt x="7" y="28"/>
                  <a:pt x="7" y="28"/>
                </a:cubicBezTo>
                <a:cubicBezTo>
                  <a:pt x="9" y="33"/>
                  <a:pt x="9" y="33"/>
                  <a:pt x="9" y="33"/>
                </a:cubicBezTo>
                <a:cubicBezTo>
                  <a:pt x="50" y="13"/>
                  <a:pt x="50" y="13"/>
                  <a:pt x="50" y="13"/>
                </a:cubicBezTo>
                <a:lnTo>
                  <a:pt x="48" y="8"/>
                </a:lnTo>
                <a:close/>
                <a:moveTo>
                  <a:pt x="42" y="0"/>
                </a:moveTo>
                <a:cubicBezTo>
                  <a:pt x="0" y="20"/>
                  <a:pt x="0" y="20"/>
                  <a:pt x="0" y="20"/>
                </a:cubicBezTo>
                <a:cubicBezTo>
                  <a:pt x="3" y="24"/>
                  <a:pt x="3" y="24"/>
                  <a:pt x="3" y="24"/>
                </a:cubicBezTo>
                <a:cubicBezTo>
                  <a:pt x="45" y="5"/>
                  <a:pt x="45" y="5"/>
                  <a:pt x="45" y="5"/>
                </a:cubicBezTo>
                <a:lnTo>
                  <a:pt x="42" y="0"/>
                </a:lnTo>
                <a:close/>
                <a:moveTo>
                  <a:pt x="100" y="80"/>
                </a:moveTo>
                <a:cubicBezTo>
                  <a:pt x="97" y="78"/>
                  <a:pt x="91" y="78"/>
                  <a:pt x="86" y="80"/>
                </a:cubicBezTo>
                <a:cubicBezTo>
                  <a:pt x="75" y="70"/>
                  <a:pt x="59" y="50"/>
                  <a:pt x="53" y="41"/>
                </a:cubicBezTo>
                <a:cubicBezTo>
                  <a:pt x="53" y="41"/>
                  <a:pt x="52" y="41"/>
                  <a:pt x="52" y="41"/>
                </a:cubicBezTo>
                <a:cubicBezTo>
                  <a:pt x="51" y="41"/>
                  <a:pt x="51" y="41"/>
                  <a:pt x="51" y="41"/>
                </a:cubicBezTo>
                <a:cubicBezTo>
                  <a:pt x="51" y="41"/>
                  <a:pt x="51" y="42"/>
                  <a:pt x="51" y="43"/>
                </a:cubicBezTo>
                <a:cubicBezTo>
                  <a:pt x="54" y="46"/>
                  <a:pt x="70" y="69"/>
                  <a:pt x="84" y="81"/>
                </a:cubicBezTo>
                <a:cubicBezTo>
                  <a:pt x="82" y="81"/>
                  <a:pt x="81" y="82"/>
                  <a:pt x="80" y="83"/>
                </a:cubicBezTo>
                <a:cubicBezTo>
                  <a:pt x="77" y="85"/>
                  <a:pt x="75" y="87"/>
                  <a:pt x="74" y="90"/>
                </a:cubicBezTo>
                <a:cubicBezTo>
                  <a:pt x="68" y="91"/>
                  <a:pt x="61" y="95"/>
                  <a:pt x="57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8"/>
                  <a:pt x="54" y="98"/>
                </a:cubicBezTo>
                <a:cubicBezTo>
                  <a:pt x="51" y="99"/>
                  <a:pt x="49" y="99"/>
                  <a:pt x="47" y="100"/>
                </a:cubicBezTo>
                <a:cubicBezTo>
                  <a:pt x="42" y="85"/>
                  <a:pt x="32" y="54"/>
                  <a:pt x="31" y="52"/>
                </a:cubicBezTo>
                <a:cubicBezTo>
                  <a:pt x="31" y="51"/>
                  <a:pt x="31" y="51"/>
                  <a:pt x="30" y="51"/>
                </a:cubicBezTo>
                <a:cubicBezTo>
                  <a:pt x="29" y="51"/>
                  <a:pt x="29" y="52"/>
                  <a:pt x="29" y="53"/>
                </a:cubicBezTo>
                <a:cubicBezTo>
                  <a:pt x="33" y="64"/>
                  <a:pt x="41" y="88"/>
                  <a:pt x="45" y="101"/>
                </a:cubicBezTo>
                <a:cubicBezTo>
                  <a:pt x="41" y="102"/>
                  <a:pt x="39" y="104"/>
                  <a:pt x="38" y="106"/>
                </a:cubicBezTo>
                <a:cubicBezTo>
                  <a:pt x="37" y="107"/>
                  <a:pt x="37" y="108"/>
                  <a:pt x="38" y="110"/>
                </a:cubicBezTo>
                <a:cubicBezTo>
                  <a:pt x="42" y="115"/>
                  <a:pt x="44" y="115"/>
                  <a:pt x="46" y="114"/>
                </a:cubicBezTo>
                <a:cubicBezTo>
                  <a:pt x="48" y="113"/>
                  <a:pt x="49" y="110"/>
                  <a:pt x="49" y="108"/>
                </a:cubicBezTo>
                <a:cubicBezTo>
                  <a:pt x="49" y="107"/>
                  <a:pt x="48" y="105"/>
                  <a:pt x="47" y="102"/>
                </a:cubicBezTo>
                <a:cubicBezTo>
                  <a:pt x="49" y="101"/>
                  <a:pt x="52" y="101"/>
                  <a:pt x="54" y="100"/>
                </a:cubicBezTo>
                <a:cubicBezTo>
                  <a:pt x="55" y="100"/>
                  <a:pt x="55" y="100"/>
                  <a:pt x="56" y="100"/>
                </a:cubicBezTo>
                <a:cubicBezTo>
                  <a:pt x="55" y="102"/>
                  <a:pt x="56" y="103"/>
                  <a:pt x="56" y="104"/>
                </a:cubicBezTo>
                <a:cubicBezTo>
                  <a:pt x="59" y="108"/>
                  <a:pt x="64" y="108"/>
                  <a:pt x="66" y="107"/>
                </a:cubicBezTo>
                <a:cubicBezTo>
                  <a:pt x="67" y="106"/>
                  <a:pt x="68" y="103"/>
                  <a:pt x="66" y="100"/>
                </a:cubicBezTo>
                <a:cubicBezTo>
                  <a:pt x="65" y="99"/>
                  <a:pt x="63" y="98"/>
                  <a:pt x="60" y="98"/>
                </a:cubicBezTo>
                <a:cubicBezTo>
                  <a:pt x="64" y="96"/>
                  <a:pt x="69" y="93"/>
                  <a:pt x="74" y="92"/>
                </a:cubicBezTo>
                <a:cubicBezTo>
                  <a:pt x="74" y="93"/>
                  <a:pt x="74" y="93"/>
                  <a:pt x="74" y="93"/>
                </a:cubicBezTo>
                <a:cubicBezTo>
                  <a:pt x="76" y="99"/>
                  <a:pt x="79" y="100"/>
                  <a:pt x="81" y="100"/>
                </a:cubicBezTo>
                <a:cubicBezTo>
                  <a:pt x="82" y="100"/>
                  <a:pt x="84" y="99"/>
                  <a:pt x="85" y="97"/>
                </a:cubicBezTo>
                <a:cubicBezTo>
                  <a:pt x="86" y="95"/>
                  <a:pt x="85" y="93"/>
                  <a:pt x="83" y="91"/>
                </a:cubicBezTo>
                <a:cubicBezTo>
                  <a:pt x="82" y="90"/>
                  <a:pt x="79" y="89"/>
                  <a:pt x="77" y="90"/>
                </a:cubicBezTo>
                <a:cubicBezTo>
                  <a:pt x="77" y="87"/>
                  <a:pt x="80" y="86"/>
                  <a:pt x="81" y="85"/>
                </a:cubicBezTo>
                <a:cubicBezTo>
                  <a:pt x="82" y="84"/>
                  <a:pt x="84" y="83"/>
                  <a:pt x="85" y="82"/>
                </a:cubicBezTo>
                <a:cubicBezTo>
                  <a:pt x="90" y="86"/>
                  <a:pt x="94" y="89"/>
                  <a:pt x="97" y="89"/>
                </a:cubicBezTo>
                <a:cubicBezTo>
                  <a:pt x="98" y="89"/>
                  <a:pt x="100" y="88"/>
                  <a:pt x="100" y="86"/>
                </a:cubicBezTo>
                <a:cubicBezTo>
                  <a:pt x="102" y="83"/>
                  <a:pt x="101" y="81"/>
                  <a:pt x="100" y="80"/>
                </a:cubicBezTo>
                <a:close/>
                <a:moveTo>
                  <a:pt x="45" y="112"/>
                </a:moveTo>
                <a:cubicBezTo>
                  <a:pt x="45" y="112"/>
                  <a:pt x="45" y="112"/>
                  <a:pt x="45" y="112"/>
                </a:cubicBezTo>
                <a:cubicBezTo>
                  <a:pt x="44" y="113"/>
                  <a:pt x="42" y="111"/>
                  <a:pt x="40" y="109"/>
                </a:cubicBezTo>
                <a:cubicBezTo>
                  <a:pt x="39" y="108"/>
                  <a:pt x="39" y="107"/>
                  <a:pt x="40" y="107"/>
                </a:cubicBezTo>
                <a:cubicBezTo>
                  <a:pt x="40" y="105"/>
                  <a:pt x="42" y="104"/>
                  <a:pt x="45" y="103"/>
                </a:cubicBezTo>
                <a:cubicBezTo>
                  <a:pt x="46" y="106"/>
                  <a:pt x="47" y="108"/>
                  <a:pt x="47" y="108"/>
                </a:cubicBezTo>
                <a:cubicBezTo>
                  <a:pt x="47" y="109"/>
                  <a:pt x="46" y="112"/>
                  <a:pt x="45" y="112"/>
                </a:cubicBezTo>
                <a:close/>
                <a:moveTo>
                  <a:pt x="64" y="102"/>
                </a:moveTo>
                <a:cubicBezTo>
                  <a:pt x="65" y="102"/>
                  <a:pt x="66" y="104"/>
                  <a:pt x="65" y="105"/>
                </a:cubicBezTo>
                <a:cubicBezTo>
                  <a:pt x="64" y="105"/>
                  <a:pt x="64" y="105"/>
                  <a:pt x="64" y="105"/>
                </a:cubicBezTo>
                <a:cubicBezTo>
                  <a:pt x="62" y="106"/>
                  <a:pt x="60" y="105"/>
                  <a:pt x="58" y="103"/>
                </a:cubicBezTo>
                <a:cubicBezTo>
                  <a:pt x="58" y="102"/>
                  <a:pt x="57" y="102"/>
                  <a:pt x="58" y="100"/>
                </a:cubicBezTo>
                <a:cubicBezTo>
                  <a:pt x="62" y="100"/>
                  <a:pt x="64" y="101"/>
                  <a:pt x="64" y="102"/>
                </a:cubicBezTo>
                <a:close/>
                <a:moveTo>
                  <a:pt x="82" y="93"/>
                </a:moveTo>
                <a:cubicBezTo>
                  <a:pt x="83" y="94"/>
                  <a:pt x="83" y="95"/>
                  <a:pt x="83" y="96"/>
                </a:cubicBezTo>
                <a:cubicBezTo>
                  <a:pt x="83" y="97"/>
                  <a:pt x="82" y="97"/>
                  <a:pt x="81" y="97"/>
                </a:cubicBezTo>
                <a:cubicBezTo>
                  <a:pt x="81" y="98"/>
                  <a:pt x="81" y="98"/>
                  <a:pt x="81" y="98"/>
                </a:cubicBezTo>
                <a:cubicBezTo>
                  <a:pt x="79" y="98"/>
                  <a:pt x="77" y="96"/>
                  <a:pt x="76" y="93"/>
                </a:cubicBezTo>
                <a:cubicBezTo>
                  <a:pt x="76" y="92"/>
                  <a:pt x="76" y="92"/>
                  <a:pt x="76" y="92"/>
                </a:cubicBezTo>
                <a:cubicBezTo>
                  <a:pt x="79" y="92"/>
                  <a:pt x="81" y="92"/>
                  <a:pt x="82" y="93"/>
                </a:cubicBezTo>
                <a:close/>
                <a:moveTo>
                  <a:pt x="98" y="85"/>
                </a:moveTo>
                <a:cubicBezTo>
                  <a:pt x="98" y="86"/>
                  <a:pt x="98" y="86"/>
                  <a:pt x="97" y="86"/>
                </a:cubicBezTo>
                <a:cubicBezTo>
                  <a:pt x="97" y="87"/>
                  <a:pt x="97" y="87"/>
                  <a:pt x="97" y="87"/>
                </a:cubicBezTo>
                <a:cubicBezTo>
                  <a:pt x="95" y="87"/>
                  <a:pt x="92" y="85"/>
                  <a:pt x="88" y="82"/>
                </a:cubicBezTo>
                <a:cubicBezTo>
                  <a:pt x="92" y="80"/>
                  <a:pt x="97" y="80"/>
                  <a:pt x="98" y="82"/>
                </a:cubicBezTo>
                <a:cubicBezTo>
                  <a:pt x="99" y="82"/>
                  <a:pt x="99" y="84"/>
                  <a:pt x="98" y="85"/>
                </a:cubicBezTo>
                <a:close/>
                <a:moveTo>
                  <a:pt x="52" y="18"/>
                </a:moveTo>
                <a:cubicBezTo>
                  <a:pt x="12" y="40"/>
                  <a:pt x="12" y="40"/>
                  <a:pt x="12" y="40"/>
                </a:cubicBezTo>
                <a:cubicBezTo>
                  <a:pt x="15" y="44"/>
                  <a:pt x="15" y="44"/>
                  <a:pt x="15" y="44"/>
                </a:cubicBezTo>
                <a:cubicBezTo>
                  <a:pt x="56" y="23"/>
                  <a:pt x="56" y="23"/>
                  <a:pt x="56" y="23"/>
                </a:cubicBezTo>
                <a:lnTo>
                  <a:pt x="52" y="18"/>
                </a:ln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69"/>
          <p:cNvSpPr/>
          <p:nvPr/>
        </p:nvSpPr>
        <p:spPr>
          <a:xfrm>
            <a:off x="9804240" y="3519360"/>
            <a:ext cx="317520" cy="2556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109" y="18"/>
                </a:moveTo>
                <a:cubicBezTo>
                  <a:pt x="94" y="6"/>
                  <a:pt x="75" y="0"/>
                  <a:pt x="56" y="4"/>
                </a:cubicBezTo>
                <a:cubicBezTo>
                  <a:pt x="22" y="11"/>
                  <a:pt x="0" y="46"/>
                  <a:pt x="7" y="81"/>
                </a:cubicBezTo>
                <a:cubicBezTo>
                  <a:pt x="14" y="117"/>
                  <a:pt x="48" y="140"/>
                  <a:pt x="82" y="133"/>
                </a:cubicBezTo>
                <a:cubicBezTo>
                  <a:pt x="111" y="127"/>
                  <a:pt x="131" y="99"/>
                  <a:pt x="132" y="71"/>
                </a:cubicBezTo>
                <a:cubicBezTo>
                  <a:pt x="132" y="71"/>
                  <a:pt x="132" y="71"/>
                  <a:pt x="132" y="71"/>
                </a:cubicBezTo>
                <a:cubicBezTo>
                  <a:pt x="167" y="54"/>
                  <a:pt x="167" y="54"/>
                  <a:pt x="167" y="5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57" y="2"/>
                  <a:pt x="157" y="2"/>
                  <a:pt x="157" y="2"/>
                </a:cubicBezTo>
                <a:cubicBezTo>
                  <a:pt x="141" y="4"/>
                  <a:pt x="141" y="4"/>
                  <a:pt x="141" y="4"/>
                </a:cubicBezTo>
                <a:cubicBezTo>
                  <a:pt x="109" y="18"/>
                  <a:pt x="109" y="18"/>
                  <a:pt x="109" y="1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70"/>
          <p:cNvSpPr/>
          <p:nvPr/>
        </p:nvSpPr>
        <p:spPr>
          <a:xfrm>
            <a:off x="9875880" y="3544920"/>
            <a:ext cx="209520" cy="176040"/>
          </a:xfrm>
          <a:custGeom>
            <a:avLst/>
            <a:gdLst/>
            <a:ahLst/>
            <a:rect l="l" t="t" r="r" b="b"/>
            <a:pathLst>
              <a:path w="115" h="97">
                <a:moveTo>
                  <a:pt x="72" y="49"/>
                </a:moveTo>
                <a:cubicBezTo>
                  <a:pt x="68" y="51"/>
                  <a:pt x="44" y="66"/>
                  <a:pt x="31" y="78"/>
                </a:cubicBezTo>
                <a:cubicBezTo>
                  <a:pt x="31" y="77"/>
                  <a:pt x="30" y="76"/>
                  <a:pt x="29" y="75"/>
                </a:cubicBezTo>
                <a:cubicBezTo>
                  <a:pt x="27" y="71"/>
                  <a:pt x="25" y="69"/>
                  <a:pt x="23" y="68"/>
                </a:cubicBezTo>
                <a:cubicBezTo>
                  <a:pt x="22" y="62"/>
                  <a:pt x="19" y="54"/>
                  <a:pt x="16" y="51"/>
                </a:cubicBezTo>
                <a:cubicBezTo>
                  <a:pt x="16" y="51"/>
                  <a:pt x="16" y="51"/>
                  <a:pt x="16" y="51"/>
                </a:cubicBezTo>
                <a:cubicBezTo>
                  <a:pt x="16" y="49"/>
                  <a:pt x="16" y="48"/>
                  <a:pt x="16" y="47"/>
                </a:cubicBezTo>
                <a:cubicBezTo>
                  <a:pt x="16" y="45"/>
                  <a:pt x="15" y="42"/>
                  <a:pt x="15" y="40"/>
                </a:cubicBezTo>
                <a:cubicBezTo>
                  <a:pt x="30" y="37"/>
                  <a:pt x="62" y="29"/>
                  <a:pt x="64" y="28"/>
                </a:cubicBezTo>
                <a:cubicBezTo>
                  <a:pt x="64" y="28"/>
                  <a:pt x="65" y="28"/>
                  <a:pt x="65" y="27"/>
                </a:cubicBezTo>
                <a:cubicBezTo>
                  <a:pt x="64" y="27"/>
                  <a:pt x="64" y="26"/>
                  <a:pt x="63" y="26"/>
                </a:cubicBezTo>
                <a:cubicBezTo>
                  <a:pt x="52" y="29"/>
                  <a:pt x="27" y="35"/>
                  <a:pt x="14" y="38"/>
                </a:cubicBezTo>
                <a:cubicBezTo>
                  <a:pt x="13" y="35"/>
                  <a:pt x="12" y="32"/>
                  <a:pt x="10" y="31"/>
                </a:cubicBezTo>
                <a:cubicBezTo>
                  <a:pt x="9" y="30"/>
                  <a:pt x="7" y="30"/>
                  <a:pt x="5" y="31"/>
                </a:cubicBezTo>
                <a:cubicBezTo>
                  <a:pt x="0" y="34"/>
                  <a:pt x="0" y="37"/>
                  <a:pt x="1" y="38"/>
                </a:cubicBezTo>
                <a:cubicBezTo>
                  <a:pt x="2" y="41"/>
                  <a:pt x="5" y="42"/>
                  <a:pt x="7" y="42"/>
                </a:cubicBezTo>
                <a:cubicBezTo>
                  <a:pt x="8" y="42"/>
                  <a:pt x="10" y="41"/>
                  <a:pt x="13" y="41"/>
                </a:cubicBezTo>
                <a:cubicBezTo>
                  <a:pt x="13" y="43"/>
                  <a:pt x="14" y="45"/>
                  <a:pt x="14" y="47"/>
                </a:cubicBezTo>
                <a:cubicBezTo>
                  <a:pt x="14" y="48"/>
                  <a:pt x="14" y="48"/>
                  <a:pt x="14" y="49"/>
                </a:cubicBezTo>
                <a:cubicBezTo>
                  <a:pt x="12" y="48"/>
                  <a:pt x="11" y="49"/>
                  <a:pt x="10" y="49"/>
                </a:cubicBezTo>
                <a:cubicBezTo>
                  <a:pt x="6" y="52"/>
                  <a:pt x="5" y="57"/>
                  <a:pt x="7" y="59"/>
                </a:cubicBezTo>
                <a:cubicBezTo>
                  <a:pt x="8" y="60"/>
                  <a:pt x="10" y="61"/>
                  <a:pt x="13" y="59"/>
                </a:cubicBezTo>
                <a:cubicBezTo>
                  <a:pt x="14" y="58"/>
                  <a:pt x="15" y="56"/>
                  <a:pt x="16" y="54"/>
                </a:cubicBezTo>
                <a:cubicBezTo>
                  <a:pt x="18" y="57"/>
                  <a:pt x="20" y="63"/>
                  <a:pt x="20" y="68"/>
                </a:cubicBezTo>
                <a:cubicBezTo>
                  <a:pt x="19" y="68"/>
                  <a:pt x="19" y="68"/>
                  <a:pt x="19" y="68"/>
                </a:cubicBezTo>
                <a:cubicBezTo>
                  <a:pt x="14" y="70"/>
                  <a:pt x="13" y="73"/>
                  <a:pt x="12" y="74"/>
                </a:cubicBezTo>
                <a:cubicBezTo>
                  <a:pt x="12" y="76"/>
                  <a:pt x="13" y="78"/>
                  <a:pt x="15" y="78"/>
                </a:cubicBezTo>
                <a:cubicBezTo>
                  <a:pt x="17" y="79"/>
                  <a:pt x="19" y="79"/>
                  <a:pt x="21" y="77"/>
                </a:cubicBezTo>
                <a:cubicBezTo>
                  <a:pt x="22" y="76"/>
                  <a:pt x="23" y="73"/>
                  <a:pt x="23" y="71"/>
                </a:cubicBezTo>
                <a:cubicBezTo>
                  <a:pt x="25" y="72"/>
                  <a:pt x="27" y="74"/>
                  <a:pt x="27" y="76"/>
                </a:cubicBezTo>
                <a:cubicBezTo>
                  <a:pt x="28" y="77"/>
                  <a:pt x="29" y="78"/>
                  <a:pt x="29" y="80"/>
                </a:cubicBezTo>
                <a:cubicBezTo>
                  <a:pt x="25" y="84"/>
                  <a:pt x="22" y="88"/>
                  <a:pt x="22" y="91"/>
                </a:cubicBezTo>
                <a:cubicBezTo>
                  <a:pt x="22" y="93"/>
                  <a:pt x="23" y="94"/>
                  <a:pt x="24" y="95"/>
                </a:cubicBezTo>
                <a:cubicBezTo>
                  <a:pt x="28" y="97"/>
                  <a:pt x="30" y="96"/>
                  <a:pt x="31" y="95"/>
                </a:cubicBezTo>
                <a:cubicBezTo>
                  <a:pt x="33" y="92"/>
                  <a:pt x="33" y="86"/>
                  <a:pt x="32" y="81"/>
                </a:cubicBezTo>
                <a:cubicBezTo>
                  <a:pt x="43" y="70"/>
                  <a:pt x="63" y="57"/>
                  <a:pt x="73" y="51"/>
                </a:cubicBezTo>
                <a:cubicBezTo>
                  <a:pt x="73" y="50"/>
                  <a:pt x="73" y="50"/>
                  <a:pt x="73" y="49"/>
                </a:cubicBezTo>
                <a:cubicBezTo>
                  <a:pt x="73" y="49"/>
                  <a:pt x="73" y="49"/>
                  <a:pt x="73" y="49"/>
                </a:cubicBezTo>
                <a:cubicBezTo>
                  <a:pt x="73" y="49"/>
                  <a:pt x="72" y="48"/>
                  <a:pt x="72" y="49"/>
                </a:cubicBezTo>
                <a:close/>
                <a:moveTo>
                  <a:pt x="7" y="40"/>
                </a:moveTo>
                <a:cubicBezTo>
                  <a:pt x="5" y="40"/>
                  <a:pt x="3" y="39"/>
                  <a:pt x="3" y="38"/>
                </a:cubicBezTo>
                <a:cubicBezTo>
                  <a:pt x="3" y="37"/>
                  <a:pt x="3" y="37"/>
                  <a:pt x="3" y="37"/>
                </a:cubicBezTo>
                <a:cubicBezTo>
                  <a:pt x="2" y="36"/>
                  <a:pt x="4" y="34"/>
                  <a:pt x="6" y="33"/>
                </a:cubicBezTo>
                <a:cubicBezTo>
                  <a:pt x="7" y="32"/>
                  <a:pt x="8" y="32"/>
                  <a:pt x="9" y="33"/>
                </a:cubicBezTo>
                <a:cubicBezTo>
                  <a:pt x="10" y="33"/>
                  <a:pt x="11" y="35"/>
                  <a:pt x="12" y="38"/>
                </a:cubicBezTo>
                <a:cubicBezTo>
                  <a:pt x="9" y="39"/>
                  <a:pt x="7" y="40"/>
                  <a:pt x="7" y="40"/>
                </a:cubicBezTo>
                <a:close/>
                <a:moveTo>
                  <a:pt x="12" y="58"/>
                </a:moveTo>
                <a:cubicBezTo>
                  <a:pt x="11" y="58"/>
                  <a:pt x="9" y="59"/>
                  <a:pt x="8" y="58"/>
                </a:cubicBezTo>
                <a:cubicBezTo>
                  <a:pt x="8" y="57"/>
                  <a:pt x="8" y="57"/>
                  <a:pt x="8" y="57"/>
                </a:cubicBezTo>
                <a:cubicBezTo>
                  <a:pt x="8" y="55"/>
                  <a:pt x="9" y="53"/>
                  <a:pt x="11" y="51"/>
                </a:cubicBezTo>
                <a:cubicBezTo>
                  <a:pt x="11" y="51"/>
                  <a:pt x="12" y="50"/>
                  <a:pt x="14" y="51"/>
                </a:cubicBezTo>
                <a:cubicBezTo>
                  <a:pt x="13" y="55"/>
                  <a:pt x="13" y="57"/>
                  <a:pt x="12" y="58"/>
                </a:cubicBezTo>
                <a:close/>
                <a:moveTo>
                  <a:pt x="19" y="75"/>
                </a:moveTo>
                <a:cubicBezTo>
                  <a:pt x="18" y="77"/>
                  <a:pt x="17" y="77"/>
                  <a:pt x="16" y="76"/>
                </a:cubicBezTo>
                <a:cubicBezTo>
                  <a:pt x="15" y="76"/>
                  <a:pt x="15" y="75"/>
                  <a:pt x="15" y="75"/>
                </a:cubicBezTo>
                <a:cubicBezTo>
                  <a:pt x="15" y="74"/>
                  <a:pt x="15" y="74"/>
                  <a:pt x="15" y="74"/>
                </a:cubicBezTo>
                <a:cubicBezTo>
                  <a:pt x="15" y="72"/>
                  <a:pt x="17" y="71"/>
                  <a:pt x="20" y="70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73"/>
                  <a:pt x="20" y="74"/>
                  <a:pt x="19" y="75"/>
                </a:cubicBezTo>
                <a:close/>
                <a:moveTo>
                  <a:pt x="29" y="93"/>
                </a:moveTo>
                <a:cubicBezTo>
                  <a:pt x="28" y="94"/>
                  <a:pt x="27" y="94"/>
                  <a:pt x="26" y="93"/>
                </a:cubicBezTo>
                <a:cubicBezTo>
                  <a:pt x="25" y="92"/>
                  <a:pt x="25" y="92"/>
                  <a:pt x="24" y="91"/>
                </a:cubicBezTo>
                <a:cubicBezTo>
                  <a:pt x="24" y="91"/>
                  <a:pt x="24" y="91"/>
                  <a:pt x="24" y="91"/>
                </a:cubicBezTo>
                <a:cubicBezTo>
                  <a:pt x="24" y="89"/>
                  <a:pt x="27" y="86"/>
                  <a:pt x="30" y="82"/>
                </a:cubicBezTo>
                <a:cubicBezTo>
                  <a:pt x="31" y="87"/>
                  <a:pt x="31" y="92"/>
                  <a:pt x="29" y="93"/>
                </a:cubicBezTo>
                <a:close/>
                <a:moveTo>
                  <a:pt x="98" y="0"/>
                </a:moveTo>
                <a:cubicBezTo>
                  <a:pt x="93" y="2"/>
                  <a:pt x="93" y="2"/>
                  <a:pt x="93" y="2"/>
                </a:cubicBezTo>
                <a:cubicBezTo>
                  <a:pt x="110" y="45"/>
                  <a:pt x="110" y="45"/>
                  <a:pt x="110" y="45"/>
                </a:cubicBezTo>
                <a:cubicBezTo>
                  <a:pt x="115" y="43"/>
                  <a:pt x="115" y="43"/>
                  <a:pt x="115" y="43"/>
                </a:cubicBezTo>
                <a:lnTo>
                  <a:pt x="98" y="0"/>
                </a:lnTo>
                <a:close/>
                <a:moveTo>
                  <a:pt x="84" y="7"/>
                </a:moveTo>
                <a:cubicBezTo>
                  <a:pt x="101" y="50"/>
                  <a:pt x="101" y="50"/>
                  <a:pt x="101" y="50"/>
                </a:cubicBezTo>
                <a:cubicBezTo>
                  <a:pt x="106" y="49"/>
                  <a:pt x="106" y="49"/>
                  <a:pt x="106" y="49"/>
                </a:cubicBezTo>
                <a:cubicBezTo>
                  <a:pt x="90" y="6"/>
                  <a:pt x="90" y="6"/>
                  <a:pt x="90" y="6"/>
                </a:cubicBezTo>
                <a:lnTo>
                  <a:pt x="84" y="7"/>
                </a:lnTo>
                <a:close/>
                <a:moveTo>
                  <a:pt x="73" y="13"/>
                </a:moveTo>
                <a:cubicBezTo>
                  <a:pt x="91" y="55"/>
                  <a:pt x="91" y="55"/>
                  <a:pt x="91" y="55"/>
                </a:cubicBezTo>
                <a:cubicBezTo>
                  <a:pt x="96" y="52"/>
                  <a:pt x="96" y="52"/>
                  <a:pt x="96" y="52"/>
                </a:cubicBezTo>
                <a:cubicBezTo>
                  <a:pt x="77" y="10"/>
                  <a:pt x="77" y="10"/>
                  <a:pt x="77" y="10"/>
                </a:cubicBezTo>
                <a:lnTo>
                  <a:pt x="73" y="13"/>
                </a:ln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Freeform 71"/>
          <p:cNvSpPr/>
          <p:nvPr/>
        </p:nvSpPr>
        <p:spPr>
          <a:xfrm>
            <a:off x="7959600" y="3394080"/>
            <a:ext cx="270000" cy="245880"/>
          </a:xfrm>
          <a:custGeom>
            <a:avLst/>
            <a:gdLst/>
            <a:ahLst/>
            <a:rect l="l" t="t" r="r" b="b"/>
            <a:pathLst>
              <a:path w="171" h="155">
                <a:moveTo>
                  <a:pt x="102" y="24"/>
                </a:moveTo>
                <a:cubicBezTo>
                  <a:pt x="85" y="15"/>
                  <a:pt x="66" y="13"/>
                  <a:pt x="48" y="21"/>
                </a:cubicBezTo>
                <a:cubicBezTo>
                  <a:pt x="15" y="34"/>
                  <a:pt x="0" y="72"/>
                  <a:pt x="14" y="105"/>
                </a:cubicBezTo>
                <a:cubicBezTo>
                  <a:pt x="27" y="139"/>
                  <a:pt x="64" y="155"/>
                  <a:pt x="97" y="142"/>
                </a:cubicBezTo>
                <a:cubicBezTo>
                  <a:pt x="124" y="131"/>
                  <a:pt x="139" y="100"/>
                  <a:pt x="134" y="72"/>
                </a:cubicBezTo>
                <a:cubicBezTo>
                  <a:pt x="134" y="72"/>
                  <a:pt x="134" y="72"/>
                  <a:pt x="134" y="72"/>
                </a:cubicBezTo>
                <a:cubicBezTo>
                  <a:pt x="166" y="49"/>
                  <a:pt x="166" y="49"/>
                  <a:pt x="166" y="49"/>
                </a:cubicBezTo>
                <a:cubicBezTo>
                  <a:pt x="171" y="38"/>
                  <a:pt x="171" y="38"/>
                  <a:pt x="171" y="38"/>
                </a:cubicBezTo>
                <a:cubicBezTo>
                  <a:pt x="146" y="0"/>
                  <a:pt x="146" y="0"/>
                  <a:pt x="146" y="0"/>
                </a:cubicBezTo>
                <a:cubicBezTo>
                  <a:pt x="131" y="5"/>
                  <a:pt x="131" y="5"/>
                  <a:pt x="131" y="5"/>
                </a:cubicBezTo>
                <a:cubicBezTo>
                  <a:pt x="102" y="24"/>
                  <a:pt x="102" y="24"/>
                  <a:pt x="102" y="24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Freeform 72"/>
          <p:cNvSpPr/>
          <p:nvPr/>
        </p:nvSpPr>
        <p:spPr>
          <a:xfrm>
            <a:off x="8028000" y="3408480"/>
            <a:ext cx="182520" cy="171360"/>
          </a:xfrm>
          <a:custGeom>
            <a:avLst/>
            <a:gdLst/>
            <a:ahLst/>
            <a:rect l="l" t="t" r="r" b="b"/>
            <a:pathLst>
              <a:path w="115" h="108">
                <a:moveTo>
                  <a:pt x="90" y="0"/>
                </a:moveTo>
                <a:cubicBezTo>
                  <a:pt x="86" y="4"/>
                  <a:pt x="86" y="4"/>
                  <a:pt x="86" y="4"/>
                </a:cubicBezTo>
                <a:cubicBezTo>
                  <a:pt x="110" y="42"/>
                  <a:pt x="110" y="42"/>
                  <a:pt x="110" y="42"/>
                </a:cubicBezTo>
                <a:cubicBezTo>
                  <a:pt x="115" y="39"/>
                  <a:pt x="115" y="39"/>
                  <a:pt x="115" y="39"/>
                </a:cubicBezTo>
                <a:lnTo>
                  <a:pt x="90" y="0"/>
                </a:lnTo>
                <a:close/>
                <a:moveTo>
                  <a:pt x="78" y="10"/>
                </a:moveTo>
                <a:cubicBezTo>
                  <a:pt x="102" y="49"/>
                  <a:pt x="102" y="49"/>
                  <a:pt x="102" y="49"/>
                </a:cubicBezTo>
                <a:cubicBezTo>
                  <a:pt x="107" y="47"/>
                  <a:pt x="107" y="47"/>
                  <a:pt x="107" y="47"/>
                </a:cubicBezTo>
                <a:cubicBezTo>
                  <a:pt x="83" y="7"/>
                  <a:pt x="83" y="7"/>
                  <a:pt x="83" y="7"/>
                </a:cubicBezTo>
                <a:lnTo>
                  <a:pt x="78" y="10"/>
                </a:lnTo>
                <a:close/>
                <a:moveTo>
                  <a:pt x="67" y="18"/>
                </a:moveTo>
                <a:cubicBezTo>
                  <a:pt x="93" y="56"/>
                  <a:pt x="93" y="56"/>
                  <a:pt x="93" y="56"/>
                </a:cubicBezTo>
                <a:cubicBezTo>
                  <a:pt x="97" y="52"/>
                  <a:pt x="97" y="52"/>
                  <a:pt x="97" y="52"/>
                </a:cubicBezTo>
                <a:cubicBezTo>
                  <a:pt x="71" y="14"/>
                  <a:pt x="71" y="14"/>
                  <a:pt x="71" y="14"/>
                </a:cubicBezTo>
                <a:lnTo>
                  <a:pt x="67" y="18"/>
                </a:lnTo>
                <a:close/>
                <a:moveTo>
                  <a:pt x="75" y="53"/>
                </a:moveTo>
                <a:cubicBezTo>
                  <a:pt x="74" y="53"/>
                  <a:pt x="74" y="53"/>
                  <a:pt x="73" y="53"/>
                </a:cubicBezTo>
                <a:cubicBezTo>
                  <a:pt x="70" y="56"/>
                  <a:pt x="49" y="75"/>
                  <a:pt x="39" y="90"/>
                </a:cubicBezTo>
                <a:cubicBezTo>
                  <a:pt x="38" y="88"/>
                  <a:pt x="37" y="87"/>
                  <a:pt x="36" y="86"/>
                </a:cubicBezTo>
                <a:cubicBezTo>
                  <a:pt x="34" y="83"/>
                  <a:pt x="31" y="82"/>
                  <a:pt x="29" y="81"/>
                </a:cubicBezTo>
                <a:cubicBezTo>
                  <a:pt x="27" y="75"/>
                  <a:pt x="23" y="68"/>
                  <a:pt x="19" y="65"/>
                </a:cubicBezTo>
                <a:cubicBezTo>
                  <a:pt x="19" y="65"/>
                  <a:pt x="19" y="65"/>
                  <a:pt x="19" y="65"/>
                </a:cubicBezTo>
                <a:cubicBezTo>
                  <a:pt x="18" y="64"/>
                  <a:pt x="18" y="63"/>
                  <a:pt x="18" y="62"/>
                </a:cubicBezTo>
                <a:cubicBezTo>
                  <a:pt x="17" y="60"/>
                  <a:pt x="17" y="57"/>
                  <a:pt x="16" y="55"/>
                </a:cubicBezTo>
                <a:cubicBezTo>
                  <a:pt x="30" y="49"/>
                  <a:pt x="60" y="35"/>
                  <a:pt x="62" y="35"/>
                </a:cubicBezTo>
                <a:cubicBezTo>
                  <a:pt x="62" y="34"/>
                  <a:pt x="62" y="34"/>
                  <a:pt x="62" y="33"/>
                </a:cubicBezTo>
                <a:cubicBezTo>
                  <a:pt x="62" y="33"/>
                  <a:pt x="61" y="32"/>
                  <a:pt x="61" y="33"/>
                </a:cubicBezTo>
                <a:cubicBezTo>
                  <a:pt x="50" y="37"/>
                  <a:pt x="27" y="48"/>
                  <a:pt x="15" y="53"/>
                </a:cubicBezTo>
                <a:cubicBezTo>
                  <a:pt x="13" y="50"/>
                  <a:pt x="11" y="47"/>
                  <a:pt x="9" y="47"/>
                </a:cubicBezTo>
                <a:cubicBezTo>
                  <a:pt x="8" y="46"/>
                  <a:pt x="6" y="46"/>
                  <a:pt x="4" y="48"/>
                </a:cubicBezTo>
                <a:cubicBezTo>
                  <a:pt x="0" y="52"/>
                  <a:pt x="1" y="54"/>
                  <a:pt x="1" y="56"/>
                </a:cubicBezTo>
                <a:cubicBezTo>
                  <a:pt x="3" y="58"/>
                  <a:pt x="6" y="59"/>
                  <a:pt x="8" y="58"/>
                </a:cubicBezTo>
                <a:cubicBezTo>
                  <a:pt x="9" y="58"/>
                  <a:pt x="11" y="57"/>
                  <a:pt x="14" y="56"/>
                </a:cubicBezTo>
                <a:cubicBezTo>
                  <a:pt x="15" y="58"/>
                  <a:pt x="15" y="60"/>
                  <a:pt x="16" y="63"/>
                </a:cubicBezTo>
                <a:cubicBezTo>
                  <a:pt x="16" y="63"/>
                  <a:pt x="16" y="64"/>
                  <a:pt x="16" y="64"/>
                </a:cubicBezTo>
                <a:cubicBezTo>
                  <a:pt x="14" y="63"/>
                  <a:pt x="13" y="64"/>
                  <a:pt x="12" y="65"/>
                </a:cubicBezTo>
                <a:cubicBezTo>
                  <a:pt x="9" y="69"/>
                  <a:pt x="9" y="73"/>
                  <a:pt x="11" y="75"/>
                </a:cubicBezTo>
                <a:cubicBezTo>
                  <a:pt x="12" y="76"/>
                  <a:pt x="15" y="77"/>
                  <a:pt x="17" y="74"/>
                </a:cubicBezTo>
                <a:cubicBezTo>
                  <a:pt x="19" y="73"/>
                  <a:pt x="19" y="71"/>
                  <a:pt x="19" y="68"/>
                </a:cubicBezTo>
                <a:cubicBezTo>
                  <a:pt x="22" y="71"/>
                  <a:pt x="25" y="77"/>
                  <a:pt x="26" y="82"/>
                </a:cubicBezTo>
                <a:cubicBezTo>
                  <a:pt x="25" y="82"/>
                  <a:pt x="25" y="82"/>
                  <a:pt x="25" y="82"/>
                </a:cubicBezTo>
                <a:cubicBezTo>
                  <a:pt x="20" y="84"/>
                  <a:pt x="19" y="87"/>
                  <a:pt x="20" y="89"/>
                </a:cubicBezTo>
                <a:cubicBezTo>
                  <a:pt x="20" y="91"/>
                  <a:pt x="21" y="92"/>
                  <a:pt x="23" y="93"/>
                </a:cubicBezTo>
                <a:cubicBezTo>
                  <a:pt x="25" y="93"/>
                  <a:pt x="27" y="92"/>
                  <a:pt x="29" y="90"/>
                </a:cubicBezTo>
                <a:cubicBezTo>
                  <a:pt x="29" y="89"/>
                  <a:pt x="30" y="86"/>
                  <a:pt x="29" y="84"/>
                </a:cubicBezTo>
                <a:cubicBezTo>
                  <a:pt x="31" y="84"/>
                  <a:pt x="33" y="86"/>
                  <a:pt x="35" y="88"/>
                </a:cubicBezTo>
                <a:cubicBezTo>
                  <a:pt x="36" y="89"/>
                  <a:pt x="36" y="90"/>
                  <a:pt x="37" y="92"/>
                </a:cubicBezTo>
                <a:cubicBezTo>
                  <a:pt x="34" y="97"/>
                  <a:pt x="32" y="101"/>
                  <a:pt x="32" y="104"/>
                </a:cubicBezTo>
                <a:cubicBezTo>
                  <a:pt x="33" y="105"/>
                  <a:pt x="34" y="106"/>
                  <a:pt x="35" y="107"/>
                </a:cubicBezTo>
                <a:cubicBezTo>
                  <a:pt x="39" y="108"/>
                  <a:pt x="41" y="107"/>
                  <a:pt x="41" y="106"/>
                </a:cubicBezTo>
                <a:cubicBezTo>
                  <a:pt x="43" y="103"/>
                  <a:pt x="42" y="97"/>
                  <a:pt x="40" y="92"/>
                </a:cubicBezTo>
                <a:cubicBezTo>
                  <a:pt x="49" y="80"/>
                  <a:pt x="66" y="62"/>
                  <a:pt x="75" y="55"/>
                </a:cubicBezTo>
                <a:cubicBezTo>
                  <a:pt x="75" y="54"/>
                  <a:pt x="75" y="54"/>
                  <a:pt x="75" y="54"/>
                </a:cubicBezTo>
                <a:lnTo>
                  <a:pt x="75" y="53"/>
                </a:lnTo>
                <a:close/>
                <a:moveTo>
                  <a:pt x="8" y="56"/>
                </a:moveTo>
                <a:cubicBezTo>
                  <a:pt x="6" y="56"/>
                  <a:pt x="4" y="56"/>
                  <a:pt x="3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3" y="53"/>
                  <a:pt x="4" y="52"/>
                  <a:pt x="6" y="50"/>
                </a:cubicBezTo>
                <a:cubicBezTo>
                  <a:pt x="7" y="49"/>
                  <a:pt x="8" y="49"/>
                  <a:pt x="8" y="49"/>
                </a:cubicBezTo>
                <a:cubicBezTo>
                  <a:pt x="10" y="49"/>
                  <a:pt x="11" y="51"/>
                  <a:pt x="13" y="54"/>
                </a:cubicBezTo>
                <a:cubicBezTo>
                  <a:pt x="10" y="55"/>
                  <a:pt x="8" y="56"/>
                  <a:pt x="8" y="56"/>
                </a:cubicBezTo>
                <a:close/>
                <a:moveTo>
                  <a:pt x="16" y="73"/>
                </a:moveTo>
                <a:cubicBezTo>
                  <a:pt x="15" y="73"/>
                  <a:pt x="14" y="75"/>
                  <a:pt x="13" y="74"/>
                </a:cubicBezTo>
                <a:cubicBezTo>
                  <a:pt x="12" y="73"/>
                  <a:pt x="12" y="73"/>
                  <a:pt x="12" y="73"/>
                </a:cubicBezTo>
                <a:cubicBezTo>
                  <a:pt x="12" y="71"/>
                  <a:pt x="12" y="69"/>
                  <a:pt x="14" y="67"/>
                </a:cubicBezTo>
                <a:cubicBezTo>
                  <a:pt x="14" y="66"/>
                  <a:pt x="15" y="66"/>
                  <a:pt x="17" y="66"/>
                </a:cubicBezTo>
                <a:cubicBezTo>
                  <a:pt x="17" y="70"/>
                  <a:pt x="17" y="72"/>
                  <a:pt x="16" y="73"/>
                </a:cubicBezTo>
                <a:close/>
                <a:moveTo>
                  <a:pt x="27" y="89"/>
                </a:moveTo>
                <a:cubicBezTo>
                  <a:pt x="26" y="90"/>
                  <a:pt x="25" y="91"/>
                  <a:pt x="23" y="91"/>
                </a:cubicBezTo>
                <a:cubicBezTo>
                  <a:pt x="23" y="90"/>
                  <a:pt x="22" y="90"/>
                  <a:pt x="22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7"/>
                  <a:pt x="23" y="85"/>
                  <a:pt x="26" y="84"/>
                </a:cubicBezTo>
                <a:cubicBezTo>
                  <a:pt x="27" y="84"/>
                  <a:pt x="27" y="84"/>
                  <a:pt x="27" y="84"/>
                </a:cubicBezTo>
                <a:cubicBezTo>
                  <a:pt x="27" y="86"/>
                  <a:pt x="27" y="88"/>
                  <a:pt x="27" y="89"/>
                </a:cubicBezTo>
                <a:close/>
                <a:moveTo>
                  <a:pt x="40" y="105"/>
                </a:moveTo>
                <a:cubicBezTo>
                  <a:pt x="39" y="105"/>
                  <a:pt x="38" y="106"/>
                  <a:pt x="36" y="105"/>
                </a:cubicBezTo>
                <a:cubicBezTo>
                  <a:pt x="35" y="105"/>
                  <a:pt x="35" y="104"/>
                  <a:pt x="35" y="104"/>
                </a:cubicBezTo>
                <a:cubicBezTo>
                  <a:pt x="34" y="103"/>
                  <a:pt x="34" y="103"/>
                  <a:pt x="34" y="103"/>
                </a:cubicBezTo>
                <a:cubicBezTo>
                  <a:pt x="34" y="101"/>
                  <a:pt x="36" y="98"/>
                  <a:pt x="38" y="94"/>
                </a:cubicBezTo>
                <a:cubicBezTo>
                  <a:pt x="40" y="98"/>
                  <a:pt x="41" y="103"/>
                  <a:pt x="40" y="105"/>
                </a:cubicBezTo>
                <a:close/>
              </a:path>
            </a:pathLst>
          </a:custGeom>
          <a:solidFill>
            <a:srgbClr val="c6e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8" name="组合 658"/>
          <p:cNvGrpSpPr/>
          <p:nvPr/>
        </p:nvGrpSpPr>
        <p:grpSpPr>
          <a:xfrm>
            <a:off x="6002280" y="1006560"/>
            <a:ext cx="2174760" cy="1579320"/>
            <a:chOff x="6002280" y="1006560"/>
            <a:chExt cx="2174760" cy="1579320"/>
          </a:xfrm>
        </p:grpSpPr>
        <p:sp>
          <p:nvSpPr>
            <p:cNvPr id="989" name="Freeform 13"/>
            <p:cNvSpPr/>
            <p:nvPr/>
          </p:nvSpPr>
          <p:spPr>
            <a:xfrm>
              <a:off x="6002280" y="1006560"/>
              <a:ext cx="1679400" cy="936360"/>
            </a:xfrm>
            <a:custGeom>
              <a:avLst/>
              <a:gdLst/>
              <a:ahLst/>
              <a:rect l="l" t="t" r="r" b="b"/>
              <a:pathLst>
                <a:path w="1064" h="594">
                  <a:moveTo>
                    <a:pt x="293" y="316"/>
                  </a:moveTo>
                  <a:cubicBezTo>
                    <a:pt x="307" y="316"/>
                    <a:pt x="322" y="317"/>
                    <a:pt x="336" y="319"/>
                  </a:cubicBezTo>
                  <a:cubicBezTo>
                    <a:pt x="372" y="153"/>
                    <a:pt x="519" y="29"/>
                    <a:pt x="696" y="29"/>
                  </a:cubicBezTo>
                  <a:cubicBezTo>
                    <a:pt x="894" y="29"/>
                    <a:pt x="1056" y="186"/>
                    <a:pt x="1064" y="383"/>
                  </a:cubicBezTo>
                  <a:cubicBezTo>
                    <a:pt x="1064" y="378"/>
                    <a:pt x="1064" y="373"/>
                    <a:pt x="1064" y="369"/>
                  </a:cubicBezTo>
                  <a:cubicBezTo>
                    <a:pt x="1064" y="165"/>
                    <a:pt x="899" y="0"/>
                    <a:pt x="696" y="0"/>
                  </a:cubicBezTo>
                  <a:cubicBezTo>
                    <a:pt x="519" y="0"/>
                    <a:pt x="372" y="124"/>
                    <a:pt x="336" y="290"/>
                  </a:cubicBezTo>
                  <a:cubicBezTo>
                    <a:pt x="322" y="288"/>
                    <a:pt x="307" y="287"/>
                    <a:pt x="293" y="287"/>
                  </a:cubicBezTo>
                  <a:cubicBezTo>
                    <a:pt x="131" y="287"/>
                    <a:pt x="0" y="418"/>
                    <a:pt x="0" y="579"/>
                  </a:cubicBezTo>
                  <a:cubicBezTo>
                    <a:pt x="0" y="584"/>
                    <a:pt x="0" y="589"/>
                    <a:pt x="0" y="594"/>
                  </a:cubicBezTo>
                  <a:cubicBezTo>
                    <a:pt x="8" y="439"/>
                    <a:pt x="136" y="316"/>
                    <a:pt x="293" y="316"/>
                  </a:cubicBezTo>
                  <a:close/>
                </a:path>
              </a:pathLst>
            </a:custGeom>
            <a:solidFill>
              <a:srgbClr val="05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0" name="组合 655"/>
            <p:cNvGrpSpPr/>
            <p:nvPr/>
          </p:nvGrpSpPr>
          <p:grpSpPr>
            <a:xfrm>
              <a:off x="6002280" y="1006560"/>
              <a:ext cx="2174760" cy="1579320"/>
              <a:chOff x="6002280" y="1006560"/>
              <a:chExt cx="2174760" cy="1579320"/>
            </a:xfrm>
          </p:grpSpPr>
          <p:sp>
            <p:nvSpPr>
              <p:cNvPr id="991" name="Freeform 12">
                <a:hlinkClick r:id="rId4"/>
              </p:cNvPr>
              <p:cNvSpPr/>
              <p:nvPr/>
            </p:nvSpPr>
            <p:spPr>
              <a:xfrm>
                <a:off x="6002280" y="1006560"/>
                <a:ext cx="2174760" cy="1579320"/>
              </a:xfrm>
              <a:custGeom>
                <a:avLst/>
                <a:gdLst/>
                <a:ahLst/>
                <a:rect l="l" t="t" r="r" b="b"/>
                <a:pathLst>
                  <a:path w="1378" h="1002">
                    <a:moveTo>
                      <a:pt x="1139" y="469"/>
                    </a:moveTo>
                    <a:cubicBezTo>
                      <a:pt x="1133" y="469"/>
                      <a:pt x="1128" y="469"/>
                      <a:pt x="1122" y="470"/>
                    </a:cubicBezTo>
                    <a:cubicBezTo>
                      <a:pt x="1108" y="440"/>
                      <a:pt x="1088" y="414"/>
                      <a:pt x="1063" y="393"/>
                    </a:cubicBezTo>
                    <a:cubicBezTo>
                      <a:pt x="1064" y="385"/>
                      <a:pt x="1064" y="377"/>
                      <a:pt x="1064" y="369"/>
                    </a:cubicBezTo>
                    <a:cubicBezTo>
                      <a:pt x="1064" y="165"/>
                      <a:pt x="899" y="0"/>
                      <a:pt x="696" y="0"/>
                    </a:cubicBezTo>
                    <a:cubicBezTo>
                      <a:pt x="519" y="0"/>
                      <a:pt x="372" y="124"/>
                      <a:pt x="336" y="290"/>
                    </a:cubicBezTo>
                    <a:cubicBezTo>
                      <a:pt x="322" y="288"/>
                      <a:pt x="307" y="287"/>
                      <a:pt x="293" y="287"/>
                    </a:cubicBezTo>
                    <a:cubicBezTo>
                      <a:pt x="131" y="287"/>
                      <a:pt x="0" y="418"/>
                      <a:pt x="0" y="579"/>
                    </a:cubicBezTo>
                    <a:cubicBezTo>
                      <a:pt x="0" y="741"/>
                      <a:pt x="131" y="872"/>
                      <a:pt x="293" y="872"/>
                    </a:cubicBezTo>
                    <a:cubicBezTo>
                      <a:pt x="318" y="872"/>
                      <a:pt x="342" y="869"/>
                      <a:pt x="365" y="863"/>
                    </a:cubicBezTo>
                    <a:cubicBezTo>
                      <a:pt x="413" y="946"/>
                      <a:pt x="503" y="1002"/>
                      <a:pt x="605" y="1002"/>
                    </a:cubicBezTo>
                    <a:cubicBezTo>
                      <a:pt x="718" y="1002"/>
                      <a:pt x="815" y="935"/>
                      <a:pt x="858" y="839"/>
                    </a:cubicBezTo>
                    <a:cubicBezTo>
                      <a:pt x="870" y="841"/>
                      <a:pt x="882" y="842"/>
                      <a:pt x="893" y="842"/>
                    </a:cubicBezTo>
                    <a:cubicBezTo>
                      <a:pt x="909" y="842"/>
                      <a:pt x="924" y="840"/>
                      <a:pt x="939" y="838"/>
                    </a:cubicBezTo>
                    <a:cubicBezTo>
                      <a:pt x="981" y="903"/>
                      <a:pt x="1055" y="946"/>
                      <a:pt x="1139" y="946"/>
                    </a:cubicBezTo>
                    <a:cubicBezTo>
                      <a:pt x="1271" y="946"/>
                      <a:pt x="1378" y="839"/>
                      <a:pt x="1378" y="708"/>
                    </a:cubicBezTo>
                    <a:cubicBezTo>
                      <a:pt x="1378" y="576"/>
                      <a:pt x="1271" y="469"/>
                      <a:pt x="1139" y="469"/>
                    </a:cubicBezTo>
                    <a:close/>
                  </a:path>
                </a:pathLst>
              </a:custGeom>
              <a:solidFill>
                <a:srgbClr val="039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73"/>
              <p:cNvSpPr/>
              <p:nvPr/>
            </p:nvSpPr>
            <p:spPr>
              <a:xfrm>
                <a:off x="6561360" y="1519200"/>
                <a:ext cx="1121400" cy="699840"/>
              </a:xfrm>
              <a:custGeom>
                <a:avLst/>
                <a:gdLst/>
                <a:ahLst/>
                <a:rect l="l" t="t" r="r" b="b"/>
                <a:pathLst>
                  <a:path w="711" h="444">
                    <a:moveTo>
                      <a:pt x="321" y="43"/>
                    </a:moveTo>
                    <a:cubicBezTo>
                      <a:pt x="294" y="56"/>
                      <a:pt x="262" y="80"/>
                      <a:pt x="267" y="114"/>
                    </a:cubicBezTo>
                    <a:cubicBezTo>
                      <a:pt x="272" y="142"/>
                      <a:pt x="296" y="161"/>
                      <a:pt x="322" y="168"/>
                    </a:cubicBezTo>
                    <a:cubicBezTo>
                      <a:pt x="353" y="177"/>
                      <a:pt x="388" y="166"/>
                      <a:pt x="411" y="145"/>
                    </a:cubicBezTo>
                    <a:cubicBezTo>
                      <a:pt x="427" y="131"/>
                      <a:pt x="429" y="112"/>
                      <a:pt x="416" y="96"/>
                    </a:cubicBezTo>
                    <a:cubicBezTo>
                      <a:pt x="400" y="76"/>
                      <a:pt x="369" y="68"/>
                      <a:pt x="345" y="64"/>
                    </a:cubicBezTo>
                    <a:cubicBezTo>
                      <a:pt x="317" y="59"/>
                      <a:pt x="286" y="61"/>
                      <a:pt x="260" y="73"/>
                    </a:cubicBezTo>
                    <a:cubicBezTo>
                      <a:pt x="240" y="83"/>
                      <a:pt x="221" y="104"/>
                      <a:pt x="220" y="127"/>
                    </a:cubicBezTo>
                    <a:cubicBezTo>
                      <a:pt x="218" y="148"/>
                      <a:pt x="236" y="165"/>
                      <a:pt x="252" y="176"/>
                    </a:cubicBezTo>
                    <a:cubicBezTo>
                      <a:pt x="290" y="202"/>
                      <a:pt x="354" y="218"/>
                      <a:pt x="399" y="202"/>
                    </a:cubicBezTo>
                    <a:cubicBezTo>
                      <a:pt x="413" y="197"/>
                      <a:pt x="425" y="185"/>
                      <a:pt x="423" y="170"/>
                    </a:cubicBezTo>
                    <a:cubicBezTo>
                      <a:pt x="422" y="153"/>
                      <a:pt x="406" y="142"/>
                      <a:pt x="393" y="134"/>
                    </a:cubicBezTo>
                    <a:cubicBezTo>
                      <a:pt x="347" y="106"/>
                      <a:pt x="287" y="98"/>
                      <a:pt x="234" y="100"/>
                    </a:cubicBezTo>
                    <a:cubicBezTo>
                      <a:pt x="186" y="103"/>
                      <a:pt x="130" y="120"/>
                      <a:pt x="117" y="173"/>
                    </a:cubicBezTo>
                    <a:cubicBezTo>
                      <a:pt x="116" y="176"/>
                      <a:pt x="117" y="178"/>
                      <a:pt x="120" y="180"/>
                    </a:cubicBezTo>
                    <a:cubicBezTo>
                      <a:pt x="144" y="199"/>
                      <a:pt x="178" y="207"/>
                      <a:pt x="208" y="213"/>
                    </a:cubicBezTo>
                    <a:cubicBezTo>
                      <a:pt x="241" y="220"/>
                      <a:pt x="277" y="222"/>
                      <a:pt x="309" y="211"/>
                    </a:cubicBezTo>
                    <a:cubicBezTo>
                      <a:pt x="331" y="203"/>
                      <a:pt x="356" y="177"/>
                      <a:pt x="352" y="152"/>
                    </a:cubicBezTo>
                    <a:cubicBezTo>
                      <a:pt x="347" y="126"/>
                      <a:pt x="315" y="124"/>
                      <a:pt x="294" y="125"/>
                    </a:cubicBezTo>
                    <a:cubicBezTo>
                      <a:pt x="258" y="128"/>
                      <a:pt x="183" y="162"/>
                      <a:pt x="191" y="209"/>
                    </a:cubicBezTo>
                    <a:cubicBezTo>
                      <a:pt x="197" y="244"/>
                      <a:pt x="244" y="252"/>
                      <a:pt x="273" y="245"/>
                    </a:cubicBezTo>
                    <a:cubicBezTo>
                      <a:pt x="318" y="233"/>
                      <a:pt x="331" y="184"/>
                      <a:pt x="326" y="143"/>
                    </a:cubicBezTo>
                    <a:cubicBezTo>
                      <a:pt x="326" y="138"/>
                      <a:pt x="322" y="135"/>
                      <a:pt x="317" y="138"/>
                    </a:cubicBezTo>
                    <a:cubicBezTo>
                      <a:pt x="287" y="155"/>
                      <a:pt x="275" y="192"/>
                      <a:pt x="298" y="221"/>
                    </a:cubicBezTo>
                    <a:cubicBezTo>
                      <a:pt x="325" y="252"/>
                      <a:pt x="355" y="214"/>
                      <a:pt x="361" y="188"/>
                    </a:cubicBezTo>
                    <a:cubicBezTo>
                      <a:pt x="368" y="159"/>
                      <a:pt x="343" y="148"/>
                      <a:pt x="320" y="159"/>
                    </a:cubicBezTo>
                    <a:cubicBezTo>
                      <a:pt x="287" y="174"/>
                      <a:pt x="264" y="209"/>
                      <a:pt x="267" y="246"/>
                    </a:cubicBezTo>
                    <a:cubicBezTo>
                      <a:pt x="267" y="248"/>
                      <a:pt x="269" y="251"/>
                      <a:pt x="271" y="251"/>
                    </a:cubicBezTo>
                    <a:cubicBezTo>
                      <a:pt x="295" y="258"/>
                      <a:pt x="320" y="258"/>
                      <a:pt x="344" y="256"/>
                    </a:cubicBezTo>
                    <a:cubicBezTo>
                      <a:pt x="367" y="254"/>
                      <a:pt x="394" y="250"/>
                      <a:pt x="409" y="230"/>
                    </a:cubicBezTo>
                    <a:cubicBezTo>
                      <a:pt x="422" y="212"/>
                      <a:pt x="409" y="185"/>
                      <a:pt x="393" y="174"/>
                    </a:cubicBezTo>
                    <a:cubicBezTo>
                      <a:pt x="373" y="159"/>
                      <a:pt x="343" y="170"/>
                      <a:pt x="323" y="179"/>
                    </a:cubicBezTo>
                    <a:cubicBezTo>
                      <a:pt x="284" y="198"/>
                      <a:pt x="211" y="255"/>
                      <a:pt x="236" y="305"/>
                    </a:cubicBezTo>
                    <a:cubicBezTo>
                      <a:pt x="259" y="355"/>
                      <a:pt x="358" y="351"/>
                      <a:pt x="383" y="307"/>
                    </a:cubicBezTo>
                    <a:cubicBezTo>
                      <a:pt x="397" y="284"/>
                      <a:pt x="390" y="250"/>
                      <a:pt x="364" y="241"/>
                    </a:cubicBezTo>
                    <a:cubicBezTo>
                      <a:pt x="337" y="233"/>
                      <a:pt x="304" y="253"/>
                      <a:pt x="289" y="274"/>
                    </a:cubicBezTo>
                    <a:cubicBezTo>
                      <a:pt x="273" y="296"/>
                      <a:pt x="264" y="331"/>
                      <a:pt x="288" y="351"/>
                    </a:cubicBezTo>
                    <a:cubicBezTo>
                      <a:pt x="311" y="370"/>
                      <a:pt x="349" y="358"/>
                      <a:pt x="366" y="338"/>
                    </a:cubicBezTo>
                    <a:cubicBezTo>
                      <a:pt x="380" y="323"/>
                      <a:pt x="396" y="291"/>
                      <a:pt x="377" y="273"/>
                    </a:cubicBezTo>
                    <a:cubicBezTo>
                      <a:pt x="358" y="256"/>
                      <a:pt x="327" y="274"/>
                      <a:pt x="314" y="290"/>
                    </a:cubicBezTo>
                    <a:cubicBezTo>
                      <a:pt x="299" y="310"/>
                      <a:pt x="297" y="341"/>
                      <a:pt x="308" y="364"/>
                    </a:cubicBezTo>
                    <a:cubicBezTo>
                      <a:pt x="321" y="393"/>
                      <a:pt x="349" y="405"/>
                      <a:pt x="380" y="401"/>
                    </a:cubicBezTo>
                    <a:cubicBezTo>
                      <a:pt x="397" y="399"/>
                      <a:pt x="412" y="389"/>
                      <a:pt x="416" y="371"/>
                    </a:cubicBezTo>
                    <a:cubicBezTo>
                      <a:pt x="420" y="349"/>
                      <a:pt x="403" y="329"/>
                      <a:pt x="388" y="316"/>
                    </a:cubicBezTo>
                    <a:cubicBezTo>
                      <a:pt x="385" y="314"/>
                      <a:pt x="380" y="314"/>
                      <a:pt x="378" y="318"/>
                    </a:cubicBezTo>
                    <a:cubicBezTo>
                      <a:pt x="372" y="329"/>
                      <a:pt x="363" y="347"/>
                      <a:pt x="374" y="359"/>
                    </a:cubicBezTo>
                    <a:cubicBezTo>
                      <a:pt x="382" y="369"/>
                      <a:pt x="396" y="368"/>
                      <a:pt x="407" y="364"/>
                    </a:cubicBezTo>
                    <a:cubicBezTo>
                      <a:pt x="419" y="360"/>
                      <a:pt x="430" y="351"/>
                      <a:pt x="432" y="338"/>
                    </a:cubicBezTo>
                    <a:cubicBezTo>
                      <a:pt x="434" y="319"/>
                      <a:pt x="417" y="305"/>
                      <a:pt x="402" y="296"/>
                    </a:cubicBezTo>
                    <a:cubicBezTo>
                      <a:pt x="399" y="294"/>
                      <a:pt x="395" y="296"/>
                      <a:pt x="394" y="299"/>
                    </a:cubicBezTo>
                    <a:cubicBezTo>
                      <a:pt x="387" y="321"/>
                      <a:pt x="394" y="340"/>
                      <a:pt x="414" y="350"/>
                    </a:cubicBezTo>
                    <a:cubicBezTo>
                      <a:pt x="429" y="358"/>
                      <a:pt x="452" y="361"/>
                      <a:pt x="466" y="350"/>
                    </a:cubicBezTo>
                    <a:cubicBezTo>
                      <a:pt x="484" y="335"/>
                      <a:pt x="469" y="313"/>
                      <a:pt x="458" y="299"/>
                    </a:cubicBezTo>
                    <a:cubicBezTo>
                      <a:pt x="447" y="287"/>
                      <a:pt x="430" y="285"/>
                      <a:pt x="427" y="305"/>
                    </a:cubicBezTo>
                    <a:cubicBezTo>
                      <a:pt x="422" y="334"/>
                      <a:pt x="464" y="346"/>
                      <a:pt x="485" y="350"/>
                    </a:cubicBezTo>
                    <a:cubicBezTo>
                      <a:pt x="509" y="355"/>
                      <a:pt x="539" y="351"/>
                      <a:pt x="562" y="346"/>
                    </a:cubicBezTo>
                    <a:cubicBezTo>
                      <a:pt x="585" y="342"/>
                      <a:pt x="615" y="332"/>
                      <a:pt x="624" y="308"/>
                    </a:cubicBezTo>
                    <a:cubicBezTo>
                      <a:pt x="634" y="281"/>
                      <a:pt x="618" y="256"/>
                      <a:pt x="592" y="247"/>
                    </a:cubicBezTo>
                    <a:cubicBezTo>
                      <a:pt x="567" y="239"/>
                      <a:pt x="536" y="249"/>
                      <a:pt x="529" y="275"/>
                    </a:cubicBezTo>
                    <a:cubicBezTo>
                      <a:pt x="521" y="303"/>
                      <a:pt x="551" y="321"/>
                      <a:pt x="572" y="329"/>
                    </a:cubicBezTo>
                    <a:cubicBezTo>
                      <a:pt x="614" y="346"/>
                      <a:pt x="697" y="349"/>
                      <a:pt x="705" y="288"/>
                    </a:cubicBezTo>
                    <a:cubicBezTo>
                      <a:pt x="711" y="240"/>
                      <a:pt x="658" y="203"/>
                      <a:pt x="619" y="189"/>
                    </a:cubicBezTo>
                    <a:cubicBezTo>
                      <a:pt x="563" y="167"/>
                      <a:pt x="503" y="185"/>
                      <a:pt x="473" y="239"/>
                    </a:cubicBezTo>
                    <a:cubicBezTo>
                      <a:pt x="472" y="242"/>
                      <a:pt x="473" y="245"/>
                      <a:pt x="475" y="247"/>
                    </a:cubicBezTo>
                    <a:cubicBezTo>
                      <a:pt x="507" y="271"/>
                      <a:pt x="532" y="243"/>
                      <a:pt x="535" y="210"/>
                    </a:cubicBezTo>
                    <a:cubicBezTo>
                      <a:pt x="539" y="177"/>
                      <a:pt x="528" y="134"/>
                      <a:pt x="490" y="129"/>
                    </a:cubicBezTo>
                    <a:cubicBezTo>
                      <a:pt x="465" y="126"/>
                      <a:pt x="440" y="145"/>
                      <a:pt x="422" y="160"/>
                    </a:cubicBezTo>
                    <a:cubicBezTo>
                      <a:pt x="401" y="177"/>
                      <a:pt x="380" y="201"/>
                      <a:pt x="376" y="229"/>
                    </a:cubicBezTo>
                    <a:cubicBezTo>
                      <a:pt x="370" y="273"/>
                      <a:pt x="426" y="287"/>
                      <a:pt x="459" y="284"/>
                    </a:cubicBezTo>
                    <a:cubicBezTo>
                      <a:pt x="501" y="281"/>
                      <a:pt x="537" y="251"/>
                      <a:pt x="532" y="206"/>
                    </a:cubicBezTo>
                    <a:cubicBezTo>
                      <a:pt x="532" y="203"/>
                      <a:pt x="530" y="201"/>
                      <a:pt x="527" y="200"/>
                    </a:cubicBezTo>
                    <a:cubicBezTo>
                      <a:pt x="445" y="181"/>
                      <a:pt x="376" y="274"/>
                      <a:pt x="366" y="347"/>
                    </a:cubicBezTo>
                    <a:cubicBezTo>
                      <a:pt x="365" y="350"/>
                      <a:pt x="367" y="353"/>
                      <a:pt x="370" y="354"/>
                    </a:cubicBezTo>
                    <a:cubicBezTo>
                      <a:pt x="459" y="385"/>
                      <a:pt x="557" y="330"/>
                      <a:pt x="567" y="234"/>
                    </a:cubicBezTo>
                    <a:cubicBezTo>
                      <a:pt x="568" y="229"/>
                      <a:pt x="562" y="226"/>
                      <a:pt x="558" y="228"/>
                    </a:cubicBezTo>
                    <a:cubicBezTo>
                      <a:pt x="532" y="243"/>
                      <a:pt x="515" y="284"/>
                      <a:pt x="502" y="310"/>
                    </a:cubicBezTo>
                    <a:cubicBezTo>
                      <a:pt x="489" y="336"/>
                      <a:pt x="468" y="381"/>
                      <a:pt x="485" y="410"/>
                    </a:cubicBezTo>
                    <a:cubicBezTo>
                      <a:pt x="501" y="438"/>
                      <a:pt x="532" y="423"/>
                      <a:pt x="541" y="400"/>
                    </a:cubicBezTo>
                    <a:cubicBezTo>
                      <a:pt x="553" y="371"/>
                      <a:pt x="556" y="334"/>
                      <a:pt x="551" y="303"/>
                    </a:cubicBezTo>
                    <a:cubicBezTo>
                      <a:pt x="550" y="296"/>
                      <a:pt x="540" y="298"/>
                      <a:pt x="540" y="305"/>
                    </a:cubicBezTo>
                    <a:cubicBezTo>
                      <a:pt x="540" y="320"/>
                      <a:pt x="539" y="335"/>
                      <a:pt x="536" y="351"/>
                    </a:cubicBezTo>
                    <a:cubicBezTo>
                      <a:pt x="540" y="352"/>
                      <a:pt x="544" y="353"/>
                      <a:pt x="547" y="354"/>
                    </a:cubicBezTo>
                    <a:cubicBezTo>
                      <a:pt x="552" y="326"/>
                      <a:pt x="547" y="297"/>
                      <a:pt x="542" y="270"/>
                    </a:cubicBezTo>
                    <a:cubicBezTo>
                      <a:pt x="535" y="236"/>
                      <a:pt x="525" y="201"/>
                      <a:pt x="505" y="171"/>
                    </a:cubicBezTo>
                    <a:cubicBezTo>
                      <a:pt x="493" y="153"/>
                      <a:pt x="472" y="135"/>
                      <a:pt x="449" y="143"/>
                    </a:cubicBezTo>
                    <a:cubicBezTo>
                      <a:pt x="424" y="151"/>
                      <a:pt x="408" y="180"/>
                      <a:pt x="397" y="202"/>
                    </a:cubicBezTo>
                    <a:cubicBezTo>
                      <a:pt x="376" y="246"/>
                      <a:pt x="353" y="334"/>
                      <a:pt x="411" y="359"/>
                    </a:cubicBezTo>
                    <a:cubicBezTo>
                      <a:pt x="474" y="387"/>
                      <a:pt x="529" y="315"/>
                      <a:pt x="546" y="264"/>
                    </a:cubicBezTo>
                    <a:cubicBezTo>
                      <a:pt x="555" y="236"/>
                      <a:pt x="556" y="204"/>
                      <a:pt x="539" y="179"/>
                    </a:cubicBezTo>
                    <a:cubicBezTo>
                      <a:pt x="526" y="161"/>
                      <a:pt x="505" y="155"/>
                      <a:pt x="484" y="153"/>
                    </a:cubicBezTo>
                    <a:cubicBezTo>
                      <a:pt x="423" y="149"/>
                      <a:pt x="356" y="183"/>
                      <a:pt x="306" y="215"/>
                    </a:cubicBezTo>
                    <a:cubicBezTo>
                      <a:pt x="269" y="239"/>
                      <a:pt x="212" y="280"/>
                      <a:pt x="220" y="331"/>
                    </a:cubicBezTo>
                    <a:cubicBezTo>
                      <a:pt x="232" y="406"/>
                      <a:pt x="321" y="351"/>
                      <a:pt x="351" y="322"/>
                    </a:cubicBezTo>
                    <a:cubicBezTo>
                      <a:pt x="377" y="297"/>
                      <a:pt x="389" y="268"/>
                      <a:pt x="394" y="232"/>
                    </a:cubicBezTo>
                    <a:cubicBezTo>
                      <a:pt x="397" y="208"/>
                      <a:pt x="398" y="171"/>
                      <a:pt x="371" y="159"/>
                    </a:cubicBezTo>
                    <a:cubicBezTo>
                      <a:pt x="345" y="147"/>
                      <a:pt x="315" y="170"/>
                      <a:pt x="297" y="186"/>
                    </a:cubicBezTo>
                    <a:cubicBezTo>
                      <a:pt x="278" y="204"/>
                      <a:pt x="263" y="223"/>
                      <a:pt x="251" y="246"/>
                    </a:cubicBezTo>
                    <a:cubicBezTo>
                      <a:pt x="236" y="270"/>
                      <a:pt x="224" y="295"/>
                      <a:pt x="213" y="322"/>
                    </a:cubicBezTo>
                    <a:cubicBezTo>
                      <a:pt x="205" y="341"/>
                      <a:pt x="194" y="365"/>
                      <a:pt x="197" y="386"/>
                    </a:cubicBezTo>
                    <a:cubicBezTo>
                      <a:pt x="200" y="404"/>
                      <a:pt x="220" y="403"/>
                      <a:pt x="232" y="397"/>
                    </a:cubicBezTo>
                    <a:cubicBezTo>
                      <a:pt x="254" y="387"/>
                      <a:pt x="263" y="363"/>
                      <a:pt x="266" y="340"/>
                    </a:cubicBezTo>
                    <a:cubicBezTo>
                      <a:pt x="270" y="299"/>
                      <a:pt x="263" y="258"/>
                      <a:pt x="252" y="219"/>
                    </a:cubicBezTo>
                    <a:cubicBezTo>
                      <a:pt x="243" y="190"/>
                      <a:pt x="233" y="152"/>
                      <a:pt x="210" y="131"/>
                    </a:cubicBezTo>
                    <a:cubicBezTo>
                      <a:pt x="208" y="128"/>
                      <a:pt x="204" y="128"/>
                      <a:pt x="201" y="131"/>
                    </a:cubicBezTo>
                    <a:cubicBezTo>
                      <a:pt x="167" y="166"/>
                      <a:pt x="147" y="217"/>
                      <a:pt x="136" y="264"/>
                    </a:cubicBezTo>
                    <a:cubicBezTo>
                      <a:pt x="125" y="305"/>
                      <a:pt x="117" y="365"/>
                      <a:pt x="154" y="396"/>
                    </a:cubicBezTo>
                    <a:cubicBezTo>
                      <a:pt x="158" y="399"/>
                      <a:pt x="162" y="398"/>
                      <a:pt x="164" y="393"/>
                    </a:cubicBezTo>
                    <a:cubicBezTo>
                      <a:pt x="183" y="340"/>
                      <a:pt x="148" y="273"/>
                      <a:pt x="114" y="232"/>
                    </a:cubicBezTo>
                    <a:cubicBezTo>
                      <a:pt x="101" y="216"/>
                      <a:pt x="81" y="196"/>
                      <a:pt x="58" y="194"/>
                    </a:cubicBezTo>
                    <a:cubicBezTo>
                      <a:pt x="36" y="192"/>
                      <a:pt x="24" y="210"/>
                      <a:pt x="17" y="229"/>
                    </a:cubicBezTo>
                    <a:cubicBezTo>
                      <a:pt x="0" y="277"/>
                      <a:pt x="31" y="314"/>
                      <a:pt x="75" y="331"/>
                    </a:cubicBezTo>
                    <a:cubicBezTo>
                      <a:pt x="124" y="349"/>
                      <a:pt x="184" y="346"/>
                      <a:pt x="232" y="325"/>
                    </a:cubicBezTo>
                    <a:cubicBezTo>
                      <a:pt x="279" y="305"/>
                      <a:pt x="304" y="260"/>
                      <a:pt x="284" y="211"/>
                    </a:cubicBezTo>
                    <a:cubicBezTo>
                      <a:pt x="262" y="157"/>
                      <a:pt x="198" y="180"/>
                      <a:pt x="162" y="204"/>
                    </a:cubicBezTo>
                    <a:cubicBezTo>
                      <a:pt x="128" y="228"/>
                      <a:pt x="72" y="289"/>
                      <a:pt x="98" y="336"/>
                    </a:cubicBezTo>
                    <a:cubicBezTo>
                      <a:pt x="112" y="361"/>
                      <a:pt x="147" y="368"/>
                      <a:pt x="173" y="373"/>
                    </a:cubicBezTo>
                    <a:cubicBezTo>
                      <a:pt x="205" y="378"/>
                      <a:pt x="241" y="379"/>
                      <a:pt x="272" y="370"/>
                    </a:cubicBezTo>
                    <a:cubicBezTo>
                      <a:pt x="340" y="350"/>
                      <a:pt x="372" y="256"/>
                      <a:pt x="345" y="195"/>
                    </a:cubicBezTo>
                    <a:cubicBezTo>
                      <a:pt x="323" y="144"/>
                      <a:pt x="273" y="126"/>
                      <a:pt x="222" y="143"/>
                    </a:cubicBezTo>
                    <a:cubicBezTo>
                      <a:pt x="172" y="160"/>
                      <a:pt x="129" y="204"/>
                      <a:pt x="116" y="256"/>
                    </a:cubicBezTo>
                    <a:cubicBezTo>
                      <a:pt x="101" y="316"/>
                      <a:pt x="140" y="371"/>
                      <a:pt x="192" y="398"/>
                    </a:cubicBezTo>
                    <a:cubicBezTo>
                      <a:pt x="255" y="429"/>
                      <a:pt x="343" y="444"/>
                      <a:pt x="410" y="420"/>
                    </a:cubicBezTo>
                    <a:cubicBezTo>
                      <a:pt x="485" y="394"/>
                      <a:pt x="476" y="304"/>
                      <a:pt x="456" y="243"/>
                    </a:cubicBezTo>
                    <a:cubicBezTo>
                      <a:pt x="431" y="170"/>
                      <a:pt x="386" y="102"/>
                      <a:pt x="322" y="58"/>
                    </a:cubicBezTo>
                    <a:cubicBezTo>
                      <a:pt x="290" y="36"/>
                      <a:pt x="250" y="19"/>
                      <a:pt x="211" y="27"/>
                    </a:cubicBezTo>
                    <a:cubicBezTo>
                      <a:pt x="172" y="35"/>
                      <a:pt x="143" y="75"/>
                      <a:pt x="136" y="112"/>
                    </a:cubicBezTo>
                    <a:cubicBezTo>
                      <a:pt x="129" y="151"/>
                      <a:pt x="149" y="192"/>
                      <a:pt x="180" y="215"/>
                    </a:cubicBezTo>
                    <a:cubicBezTo>
                      <a:pt x="212" y="239"/>
                      <a:pt x="250" y="246"/>
                      <a:pt x="289" y="235"/>
                    </a:cubicBezTo>
                    <a:cubicBezTo>
                      <a:pt x="360" y="214"/>
                      <a:pt x="409" y="131"/>
                      <a:pt x="365" y="65"/>
                    </a:cubicBezTo>
                    <a:cubicBezTo>
                      <a:pt x="363" y="61"/>
                      <a:pt x="359" y="61"/>
                      <a:pt x="356" y="63"/>
                    </a:cubicBezTo>
                    <a:cubicBezTo>
                      <a:pt x="310" y="106"/>
                      <a:pt x="290" y="185"/>
                      <a:pt x="341" y="232"/>
                    </a:cubicBezTo>
                    <a:cubicBezTo>
                      <a:pt x="392" y="278"/>
                      <a:pt x="472" y="254"/>
                      <a:pt x="505" y="200"/>
                    </a:cubicBezTo>
                    <a:cubicBezTo>
                      <a:pt x="538" y="144"/>
                      <a:pt x="524" y="69"/>
                      <a:pt x="470" y="33"/>
                    </a:cubicBezTo>
                    <a:cubicBezTo>
                      <a:pt x="419" y="0"/>
                      <a:pt x="341" y="34"/>
                      <a:pt x="297" y="64"/>
                    </a:cubicBezTo>
                    <a:cubicBezTo>
                      <a:pt x="265" y="85"/>
                      <a:pt x="225" y="126"/>
                      <a:pt x="245" y="168"/>
                    </a:cubicBezTo>
                    <a:cubicBezTo>
                      <a:pt x="262" y="203"/>
                      <a:pt x="310" y="207"/>
                      <a:pt x="345" y="208"/>
                    </a:cubicBezTo>
                    <a:cubicBezTo>
                      <a:pt x="395" y="208"/>
                      <a:pt x="448" y="197"/>
                      <a:pt x="493" y="174"/>
                    </a:cubicBezTo>
                    <a:cubicBezTo>
                      <a:pt x="526" y="157"/>
                      <a:pt x="558" y="127"/>
                      <a:pt x="551" y="86"/>
                    </a:cubicBezTo>
                    <a:cubicBezTo>
                      <a:pt x="551" y="83"/>
                      <a:pt x="548" y="82"/>
                      <a:pt x="546" y="81"/>
                    </a:cubicBezTo>
                    <a:cubicBezTo>
                      <a:pt x="498" y="79"/>
                      <a:pt x="467" y="125"/>
                      <a:pt x="450" y="163"/>
                    </a:cubicBezTo>
                    <a:cubicBezTo>
                      <a:pt x="453" y="164"/>
                      <a:pt x="457" y="165"/>
                      <a:pt x="461" y="166"/>
                    </a:cubicBezTo>
                    <a:cubicBezTo>
                      <a:pt x="461" y="145"/>
                      <a:pt x="466" y="123"/>
                      <a:pt x="467" y="101"/>
                    </a:cubicBezTo>
                    <a:cubicBezTo>
                      <a:pt x="468" y="87"/>
                      <a:pt x="471" y="60"/>
                      <a:pt x="458" y="51"/>
                    </a:cubicBezTo>
                    <a:cubicBezTo>
                      <a:pt x="415" y="21"/>
                      <a:pt x="366" y="79"/>
                      <a:pt x="347" y="112"/>
                    </a:cubicBezTo>
                    <a:cubicBezTo>
                      <a:pt x="350" y="113"/>
                      <a:pt x="354" y="113"/>
                      <a:pt x="358" y="113"/>
                    </a:cubicBezTo>
                    <a:cubicBezTo>
                      <a:pt x="355" y="102"/>
                      <a:pt x="354" y="91"/>
                      <a:pt x="354" y="79"/>
                    </a:cubicBezTo>
                    <a:cubicBezTo>
                      <a:pt x="354" y="72"/>
                      <a:pt x="342" y="72"/>
                      <a:pt x="342" y="79"/>
                    </a:cubicBezTo>
                    <a:cubicBezTo>
                      <a:pt x="342" y="92"/>
                      <a:pt x="343" y="104"/>
                      <a:pt x="346" y="117"/>
                    </a:cubicBezTo>
                    <a:cubicBezTo>
                      <a:pt x="348" y="122"/>
                      <a:pt x="354" y="123"/>
                      <a:pt x="357" y="118"/>
                    </a:cubicBezTo>
                    <a:cubicBezTo>
                      <a:pt x="367" y="101"/>
                      <a:pt x="381" y="85"/>
                      <a:pt x="396" y="72"/>
                    </a:cubicBezTo>
                    <a:cubicBezTo>
                      <a:pt x="409" y="61"/>
                      <a:pt x="447" y="41"/>
                      <a:pt x="454" y="68"/>
                    </a:cubicBezTo>
                    <a:cubicBezTo>
                      <a:pt x="463" y="99"/>
                      <a:pt x="450" y="135"/>
                      <a:pt x="449" y="166"/>
                    </a:cubicBezTo>
                    <a:cubicBezTo>
                      <a:pt x="449" y="172"/>
                      <a:pt x="457" y="175"/>
                      <a:pt x="460" y="170"/>
                    </a:cubicBezTo>
                    <a:cubicBezTo>
                      <a:pt x="476" y="135"/>
                      <a:pt x="502" y="91"/>
                      <a:pt x="546" y="93"/>
                    </a:cubicBezTo>
                    <a:cubicBezTo>
                      <a:pt x="544" y="92"/>
                      <a:pt x="542" y="90"/>
                      <a:pt x="540" y="89"/>
                    </a:cubicBezTo>
                    <a:cubicBezTo>
                      <a:pt x="550" y="150"/>
                      <a:pt x="460" y="178"/>
                      <a:pt x="416" y="188"/>
                    </a:cubicBezTo>
                    <a:cubicBezTo>
                      <a:pt x="385" y="195"/>
                      <a:pt x="352" y="197"/>
                      <a:pt x="320" y="194"/>
                    </a:cubicBezTo>
                    <a:cubicBezTo>
                      <a:pt x="297" y="192"/>
                      <a:pt x="269" y="186"/>
                      <a:pt x="257" y="164"/>
                    </a:cubicBezTo>
                    <a:cubicBezTo>
                      <a:pt x="240" y="135"/>
                      <a:pt x="267" y="104"/>
                      <a:pt x="288" y="85"/>
                    </a:cubicBezTo>
                    <a:cubicBezTo>
                      <a:pt x="316" y="61"/>
                      <a:pt x="352" y="46"/>
                      <a:pt x="387" y="37"/>
                    </a:cubicBezTo>
                    <a:cubicBezTo>
                      <a:pt x="422" y="29"/>
                      <a:pt x="453" y="31"/>
                      <a:pt x="479" y="56"/>
                    </a:cubicBezTo>
                    <a:cubicBezTo>
                      <a:pt x="507" y="82"/>
                      <a:pt x="515" y="122"/>
                      <a:pt x="508" y="158"/>
                    </a:cubicBezTo>
                    <a:cubicBezTo>
                      <a:pt x="495" y="224"/>
                      <a:pt x="427" y="263"/>
                      <a:pt x="365" y="233"/>
                    </a:cubicBezTo>
                    <a:cubicBezTo>
                      <a:pt x="298" y="201"/>
                      <a:pt x="320" y="112"/>
                      <a:pt x="364" y="72"/>
                    </a:cubicBezTo>
                    <a:cubicBezTo>
                      <a:pt x="361" y="71"/>
                      <a:pt x="358" y="71"/>
                      <a:pt x="355" y="71"/>
                    </a:cubicBezTo>
                    <a:cubicBezTo>
                      <a:pt x="408" y="151"/>
                      <a:pt x="314" y="243"/>
                      <a:pt x="230" y="226"/>
                    </a:cubicBezTo>
                    <a:cubicBezTo>
                      <a:pt x="181" y="216"/>
                      <a:pt x="144" y="169"/>
                      <a:pt x="147" y="119"/>
                    </a:cubicBezTo>
                    <a:cubicBezTo>
                      <a:pt x="149" y="92"/>
                      <a:pt x="168" y="66"/>
                      <a:pt x="189" y="50"/>
                    </a:cubicBezTo>
                    <a:cubicBezTo>
                      <a:pt x="209" y="35"/>
                      <a:pt x="236" y="35"/>
                      <a:pt x="259" y="41"/>
                    </a:cubicBezTo>
                    <a:cubicBezTo>
                      <a:pt x="344" y="63"/>
                      <a:pt x="400" y="144"/>
                      <a:pt x="433" y="219"/>
                    </a:cubicBezTo>
                    <a:cubicBezTo>
                      <a:pt x="451" y="258"/>
                      <a:pt x="465" y="304"/>
                      <a:pt x="457" y="348"/>
                    </a:cubicBezTo>
                    <a:cubicBezTo>
                      <a:pt x="449" y="390"/>
                      <a:pt x="417" y="409"/>
                      <a:pt x="378" y="416"/>
                    </a:cubicBezTo>
                    <a:cubicBezTo>
                      <a:pt x="336" y="423"/>
                      <a:pt x="291" y="417"/>
                      <a:pt x="251" y="406"/>
                    </a:cubicBezTo>
                    <a:cubicBezTo>
                      <a:pt x="214" y="397"/>
                      <a:pt x="181" y="382"/>
                      <a:pt x="154" y="354"/>
                    </a:cubicBezTo>
                    <a:cubicBezTo>
                      <a:pt x="107" y="304"/>
                      <a:pt x="123" y="235"/>
                      <a:pt x="169" y="190"/>
                    </a:cubicBezTo>
                    <a:cubicBezTo>
                      <a:pt x="207" y="153"/>
                      <a:pt x="275" y="128"/>
                      <a:pt x="317" y="172"/>
                    </a:cubicBezTo>
                    <a:cubicBezTo>
                      <a:pt x="374" y="232"/>
                      <a:pt x="332" y="349"/>
                      <a:pt x="252" y="362"/>
                    </a:cubicBezTo>
                    <a:cubicBezTo>
                      <a:pt x="215" y="369"/>
                      <a:pt x="173" y="364"/>
                      <a:pt x="138" y="352"/>
                    </a:cubicBezTo>
                    <a:cubicBezTo>
                      <a:pt x="124" y="346"/>
                      <a:pt x="110" y="338"/>
                      <a:pt x="106" y="323"/>
                    </a:cubicBezTo>
                    <a:cubicBezTo>
                      <a:pt x="102" y="309"/>
                      <a:pt x="106" y="293"/>
                      <a:pt x="112" y="280"/>
                    </a:cubicBezTo>
                    <a:cubicBezTo>
                      <a:pt x="125" y="252"/>
                      <a:pt x="149" y="228"/>
                      <a:pt x="175" y="211"/>
                    </a:cubicBezTo>
                    <a:cubicBezTo>
                      <a:pt x="196" y="196"/>
                      <a:pt x="227" y="182"/>
                      <a:pt x="253" y="193"/>
                    </a:cubicBezTo>
                    <a:cubicBezTo>
                      <a:pt x="279" y="204"/>
                      <a:pt x="284" y="243"/>
                      <a:pt x="276" y="267"/>
                    </a:cubicBezTo>
                    <a:cubicBezTo>
                      <a:pt x="268" y="292"/>
                      <a:pt x="244" y="308"/>
                      <a:pt x="221" y="317"/>
                    </a:cubicBezTo>
                    <a:cubicBezTo>
                      <a:pt x="172" y="337"/>
                      <a:pt x="106" y="336"/>
                      <a:pt x="58" y="310"/>
                    </a:cubicBezTo>
                    <a:cubicBezTo>
                      <a:pt x="36" y="297"/>
                      <a:pt x="22" y="276"/>
                      <a:pt x="24" y="250"/>
                    </a:cubicBezTo>
                    <a:cubicBezTo>
                      <a:pt x="27" y="220"/>
                      <a:pt x="46" y="195"/>
                      <a:pt x="76" y="213"/>
                    </a:cubicBezTo>
                    <a:cubicBezTo>
                      <a:pt x="104" y="230"/>
                      <a:pt x="124" y="263"/>
                      <a:pt x="138" y="292"/>
                    </a:cubicBezTo>
                    <a:cubicBezTo>
                      <a:pt x="152" y="321"/>
                      <a:pt x="164" y="358"/>
                      <a:pt x="152" y="390"/>
                    </a:cubicBezTo>
                    <a:cubicBezTo>
                      <a:pt x="156" y="389"/>
                      <a:pt x="159" y="388"/>
                      <a:pt x="162" y="388"/>
                    </a:cubicBezTo>
                    <a:cubicBezTo>
                      <a:pt x="128" y="358"/>
                      <a:pt x="139" y="300"/>
                      <a:pt x="148" y="262"/>
                    </a:cubicBezTo>
                    <a:cubicBezTo>
                      <a:pt x="159" y="219"/>
                      <a:pt x="178" y="170"/>
                      <a:pt x="210" y="138"/>
                    </a:cubicBezTo>
                    <a:cubicBezTo>
                      <a:pt x="207" y="138"/>
                      <a:pt x="204" y="138"/>
                      <a:pt x="201" y="138"/>
                    </a:cubicBezTo>
                    <a:cubicBezTo>
                      <a:pt x="221" y="158"/>
                      <a:pt x="230" y="188"/>
                      <a:pt x="238" y="213"/>
                    </a:cubicBezTo>
                    <a:cubicBezTo>
                      <a:pt x="248" y="248"/>
                      <a:pt x="255" y="285"/>
                      <a:pt x="255" y="321"/>
                    </a:cubicBezTo>
                    <a:cubicBezTo>
                      <a:pt x="255" y="348"/>
                      <a:pt x="249" y="382"/>
                      <a:pt x="218" y="389"/>
                    </a:cubicBezTo>
                    <a:cubicBezTo>
                      <a:pt x="198" y="394"/>
                      <a:pt x="217" y="345"/>
                      <a:pt x="219" y="338"/>
                    </a:cubicBezTo>
                    <a:cubicBezTo>
                      <a:pt x="238" y="286"/>
                      <a:pt x="265" y="233"/>
                      <a:pt x="306" y="195"/>
                    </a:cubicBezTo>
                    <a:cubicBezTo>
                      <a:pt x="329" y="173"/>
                      <a:pt x="373" y="150"/>
                      <a:pt x="382" y="196"/>
                    </a:cubicBezTo>
                    <a:cubicBezTo>
                      <a:pt x="390" y="237"/>
                      <a:pt x="373" y="281"/>
                      <a:pt x="346" y="311"/>
                    </a:cubicBezTo>
                    <a:cubicBezTo>
                      <a:pt x="325" y="333"/>
                      <a:pt x="288" y="363"/>
                      <a:pt x="255" y="356"/>
                    </a:cubicBezTo>
                    <a:cubicBezTo>
                      <a:pt x="222" y="351"/>
                      <a:pt x="230" y="308"/>
                      <a:pt x="242" y="289"/>
                    </a:cubicBezTo>
                    <a:cubicBezTo>
                      <a:pt x="277" y="234"/>
                      <a:pt x="349" y="198"/>
                      <a:pt x="408" y="178"/>
                    </a:cubicBezTo>
                    <a:cubicBezTo>
                      <a:pt x="461" y="160"/>
                      <a:pt x="543" y="151"/>
                      <a:pt x="540" y="230"/>
                    </a:cubicBezTo>
                    <a:cubicBezTo>
                      <a:pt x="539" y="268"/>
                      <a:pt x="518" y="305"/>
                      <a:pt x="491" y="329"/>
                    </a:cubicBezTo>
                    <a:cubicBezTo>
                      <a:pt x="467" y="352"/>
                      <a:pt x="419" y="366"/>
                      <a:pt x="396" y="333"/>
                    </a:cubicBezTo>
                    <a:cubicBezTo>
                      <a:pt x="377" y="304"/>
                      <a:pt x="389" y="256"/>
                      <a:pt x="400" y="226"/>
                    </a:cubicBezTo>
                    <a:cubicBezTo>
                      <a:pt x="408" y="203"/>
                      <a:pt x="432" y="147"/>
                      <a:pt x="464" y="153"/>
                    </a:cubicBezTo>
                    <a:cubicBezTo>
                      <a:pt x="499" y="159"/>
                      <a:pt x="515" y="214"/>
                      <a:pt x="523" y="242"/>
                    </a:cubicBezTo>
                    <a:cubicBezTo>
                      <a:pt x="533" y="276"/>
                      <a:pt x="542" y="316"/>
                      <a:pt x="536" y="351"/>
                    </a:cubicBezTo>
                    <a:cubicBezTo>
                      <a:pt x="535" y="358"/>
                      <a:pt x="546" y="362"/>
                      <a:pt x="547" y="354"/>
                    </a:cubicBezTo>
                    <a:cubicBezTo>
                      <a:pt x="551" y="338"/>
                      <a:pt x="552" y="321"/>
                      <a:pt x="552" y="305"/>
                    </a:cubicBezTo>
                    <a:cubicBezTo>
                      <a:pt x="548" y="305"/>
                      <a:pt x="544" y="306"/>
                      <a:pt x="540" y="306"/>
                    </a:cubicBezTo>
                    <a:cubicBezTo>
                      <a:pt x="543" y="330"/>
                      <a:pt x="540" y="357"/>
                      <a:pt x="535" y="380"/>
                    </a:cubicBezTo>
                    <a:cubicBezTo>
                      <a:pt x="532" y="391"/>
                      <a:pt x="529" y="405"/>
                      <a:pt x="519" y="412"/>
                    </a:cubicBezTo>
                    <a:cubicBezTo>
                      <a:pt x="506" y="420"/>
                      <a:pt x="493" y="403"/>
                      <a:pt x="491" y="392"/>
                    </a:cubicBezTo>
                    <a:cubicBezTo>
                      <a:pt x="488" y="363"/>
                      <a:pt x="506" y="329"/>
                      <a:pt x="518" y="304"/>
                    </a:cubicBezTo>
                    <a:cubicBezTo>
                      <a:pt x="529" y="284"/>
                      <a:pt x="544" y="251"/>
                      <a:pt x="564" y="239"/>
                    </a:cubicBezTo>
                    <a:cubicBezTo>
                      <a:pt x="561" y="237"/>
                      <a:pt x="558" y="235"/>
                      <a:pt x="555" y="234"/>
                    </a:cubicBezTo>
                    <a:cubicBezTo>
                      <a:pt x="546" y="322"/>
                      <a:pt x="455" y="370"/>
                      <a:pt x="373" y="343"/>
                    </a:cubicBezTo>
                    <a:cubicBezTo>
                      <a:pt x="375" y="345"/>
                      <a:pt x="376" y="347"/>
                      <a:pt x="377" y="350"/>
                    </a:cubicBezTo>
                    <a:cubicBezTo>
                      <a:pt x="386" y="284"/>
                      <a:pt x="448" y="194"/>
                      <a:pt x="524" y="212"/>
                    </a:cubicBezTo>
                    <a:cubicBezTo>
                      <a:pt x="523" y="210"/>
                      <a:pt x="521" y="208"/>
                      <a:pt x="520" y="206"/>
                    </a:cubicBezTo>
                    <a:cubicBezTo>
                      <a:pt x="526" y="257"/>
                      <a:pt x="475" y="278"/>
                      <a:pt x="431" y="271"/>
                    </a:cubicBezTo>
                    <a:cubicBezTo>
                      <a:pt x="413" y="269"/>
                      <a:pt x="394" y="260"/>
                      <a:pt x="389" y="241"/>
                    </a:cubicBezTo>
                    <a:cubicBezTo>
                      <a:pt x="381" y="215"/>
                      <a:pt x="410" y="187"/>
                      <a:pt x="427" y="171"/>
                    </a:cubicBezTo>
                    <a:cubicBezTo>
                      <a:pt x="445" y="156"/>
                      <a:pt x="471" y="135"/>
                      <a:pt x="497" y="143"/>
                    </a:cubicBezTo>
                    <a:cubicBezTo>
                      <a:pt x="513" y="148"/>
                      <a:pt x="520" y="167"/>
                      <a:pt x="523" y="182"/>
                    </a:cubicBezTo>
                    <a:cubicBezTo>
                      <a:pt x="528" y="208"/>
                      <a:pt x="517" y="264"/>
                      <a:pt x="481" y="236"/>
                    </a:cubicBezTo>
                    <a:cubicBezTo>
                      <a:pt x="482" y="239"/>
                      <a:pt x="483" y="242"/>
                      <a:pt x="484" y="245"/>
                    </a:cubicBezTo>
                    <a:cubicBezTo>
                      <a:pt x="519" y="181"/>
                      <a:pt x="592" y="181"/>
                      <a:pt x="648" y="217"/>
                    </a:cubicBezTo>
                    <a:cubicBezTo>
                      <a:pt x="669" y="230"/>
                      <a:pt x="691" y="252"/>
                      <a:pt x="693" y="278"/>
                    </a:cubicBezTo>
                    <a:cubicBezTo>
                      <a:pt x="696" y="309"/>
                      <a:pt x="664" y="326"/>
                      <a:pt x="637" y="328"/>
                    </a:cubicBezTo>
                    <a:cubicBezTo>
                      <a:pt x="609" y="330"/>
                      <a:pt x="551" y="322"/>
                      <a:pt x="540" y="289"/>
                    </a:cubicBezTo>
                    <a:cubicBezTo>
                      <a:pt x="528" y="249"/>
                      <a:pt x="624" y="242"/>
                      <a:pt x="614" y="299"/>
                    </a:cubicBezTo>
                    <a:cubicBezTo>
                      <a:pt x="609" y="330"/>
                      <a:pt x="559" y="336"/>
                      <a:pt x="535" y="338"/>
                    </a:cubicBezTo>
                    <a:cubicBezTo>
                      <a:pt x="506" y="341"/>
                      <a:pt x="459" y="343"/>
                      <a:pt x="441" y="316"/>
                    </a:cubicBezTo>
                    <a:cubicBezTo>
                      <a:pt x="438" y="312"/>
                      <a:pt x="438" y="307"/>
                      <a:pt x="440" y="303"/>
                    </a:cubicBezTo>
                    <a:cubicBezTo>
                      <a:pt x="443" y="297"/>
                      <a:pt x="450" y="309"/>
                      <a:pt x="452" y="311"/>
                    </a:cubicBezTo>
                    <a:cubicBezTo>
                      <a:pt x="460" y="321"/>
                      <a:pt x="469" y="337"/>
                      <a:pt x="453" y="343"/>
                    </a:cubicBezTo>
                    <a:cubicBezTo>
                      <a:pt x="426" y="353"/>
                      <a:pt x="396" y="331"/>
                      <a:pt x="405" y="302"/>
                    </a:cubicBezTo>
                    <a:cubicBezTo>
                      <a:pt x="402" y="304"/>
                      <a:pt x="399" y="305"/>
                      <a:pt x="396" y="306"/>
                    </a:cubicBezTo>
                    <a:cubicBezTo>
                      <a:pt x="414" y="317"/>
                      <a:pt x="432" y="338"/>
                      <a:pt x="406" y="352"/>
                    </a:cubicBezTo>
                    <a:cubicBezTo>
                      <a:pt x="400" y="355"/>
                      <a:pt x="391" y="357"/>
                      <a:pt x="385" y="353"/>
                    </a:cubicBezTo>
                    <a:cubicBezTo>
                      <a:pt x="375" y="348"/>
                      <a:pt x="386" y="329"/>
                      <a:pt x="389" y="324"/>
                    </a:cubicBezTo>
                    <a:cubicBezTo>
                      <a:pt x="386" y="324"/>
                      <a:pt x="382" y="324"/>
                      <a:pt x="379" y="325"/>
                    </a:cubicBezTo>
                    <a:cubicBezTo>
                      <a:pt x="395" y="339"/>
                      <a:pt x="418" y="367"/>
                      <a:pt x="393" y="385"/>
                    </a:cubicBezTo>
                    <a:cubicBezTo>
                      <a:pt x="375" y="397"/>
                      <a:pt x="345" y="390"/>
                      <a:pt x="330" y="376"/>
                    </a:cubicBezTo>
                    <a:cubicBezTo>
                      <a:pt x="306" y="355"/>
                      <a:pt x="309" y="312"/>
                      <a:pt x="330" y="290"/>
                    </a:cubicBezTo>
                    <a:cubicBezTo>
                      <a:pt x="340" y="280"/>
                      <a:pt x="371" y="270"/>
                      <a:pt x="373" y="292"/>
                    </a:cubicBezTo>
                    <a:cubicBezTo>
                      <a:pt x="375" y="309"/>
                      <a:pt x="362" y="327"/>
                      <a:pt x="350" y="337"/>
                    </a:cubicBezTo>
                    <a:cubicBezTo>
                      <a:pt x="336" y="351"/>
                      <a:pt x="306" y="352"/>
                      <a:pt x="292" y="338"/>
                    </a:cubicBezTo>
                    <a:cubicBezTo>
                      <a:pt x="276" y="321"/>
                      <a:pt x="290" y="292"/>
                      <a:pt x="301" y="277"/>
                    </a:cubicBezTo>
                    <a:cubicBezTo>
                      <a:pt x="313" y="263"/>
                      <a:pt x="331" y="253"/>
                      <a:pt x="349" y="252"/>
                    </a:cubicBezTo>
                    <a:cubicBezTo>
                      <a:pt x="375" y="249"/>
                      <a:pt x="380" y="273"/>
                      <a:pt x="375" y="294"/>
                    </a:cubicBezTo>
                    <a:cubicBezTo>
                      <a:pt x="367" y="332"/>
                      <a:pt x="308" y="332"/>
                      <a:pt x="279" y="323"/>
                    </a:cubicBezTo>
                    <a:cubicBezTo>
                      <a:pt x="186" y="297"/>
                      <a:pt x="297" y="203"/>
                      <a:pt x="338" y="186"/>
                    </a:cubicBezTo>
                    <a:cubicBezTo>
                      <a:pt x="355" y="179"/>
                      <a:pt x="378" y="174"/>
                      <a:pt x="392" y="188"/>
                    </a:cubicBezTo>
                    <a:cubicBezTo>
                      <a:pt x="409" y="205"/>
                      <a:pt x="403" y="226"/>
                      <a:pt x="384" y="235"/>
                    </a:cubicBezTo>
                    <a:cubicBezTo>
                      <a:pt x="354" y="250"/>
                      <a:pt x="306" y="248"/>
                      <a:pt x="274" y="240"/>
                    </a:cubicBezTo>
                    <a:cubicBezTo>
                      <a:pt x="276" y="242"/>
                      <a:pt x="277" y="244"/>
                      <a:pt x="279" y="246"/>
                    </a:cubicBezTo>
                    <a:cubicBezTo>
                      <a:pt x="277" y="220"/>
                      <a:pt x="288" y="198"/>
                      <a:pt x="307" y="181"/>
                    </a:cubicBezTo>
                    <a:cubicBezTo>
                      <a:pt x="316" y="173"/>
                      <a:pt x="348" y="154"/>
                      <a:pt x="350" y="177"/>
                    </a:cubicBezTo>
                    <a:cubicBezTo>
                      <a:pt x="352" y="199"/>
                      <a:pt x="329" y="235"/>
                      <a:pt x="307" y="212"/>
                    </a:cubicBezTo>
                    <a:cubicBezTo>
                      <a:pt x="286" y="191"/>
                      <a:pt x="302" y="160"/>
                      <a:pt x="323" y="148"/>
                    </a:cubicBezTo>
                    <a:cubicBezTo>
                      <a:pt x="320" y="146"/>
                      <a:pt x="317" y="144"/>
                      <a:pt x="314" y="143"/>
                    </a:cubicBezTo>
                    <a:cubicBezTo>
                      <a:pt x="319" y="189"/>
                      <a:pt x="300" y="238"/>
                      <a:pt x="246" y="235"/>
                    </a:cubicBezTo>
                    <a:cubicBezTo>
                      <a:pt x="231" y="235"/>
                      <a:pt x="214" y="228"/>
                      <a:pt x="206" y="216"/>
                    </a:cubicBezTo>
                    <a:cubicBezTo>
                      <a:pt x="195" y="199"/>
                      <a:pt x="211" y="180"/>
                      <a:pt x="223" y="169"/>
                    </a:cubicBezTo>
                    <a:cubicBezTo>
                      <a:pt x="246" y="149"/>
                      <a:pt x="275" y="137"/>
                      <a:pt x="305" y="137"/>
                    </a:cubicBezTo>
                    <a:cubicBezTo>
                      <a:pt x="317" y="137"/>
                      <a:pt x="336" y="139"/>
                      <a:pt x="340" y="152"/>
                    </a:cubicBezTo>
                    <a:cubicBezTo>
                      <a:pt x="345" y="168"/>
                      <a:pt x="326" y="188"/>
                      <a:pt x="314" y="195"/>
                    </a:cubicBezTo>
                    <a:cubicBezTo>
                      <a:pt x="285" y="213"/>
                      <a:pt x="243" y="207"/>
                      <a:pt x="211" y="202"/>
                    </a:cubicBezTo>
                    <a:cubicBezTo>
                      <a:pt x="182" y="196"/>
                      <a:pt x="150" y="187"/>
                      <a:pt x="126" y="169"/>
                    </a:cubicBezTo>
                    <a:cubicBezTo>
                      <a:pt x="127" y="171"/>
                      <a:pt x="128" y="174"/>
                      <a:pt x="128" y="176"/>
                    </a:cubicBezTo>
                    <a:cubicBezTo>
                      <a:pt x="143" y="116"/>
                      <a:pt x="220" y="110"/>
                      <a:pt x="271" y="113"/>
                    </a:cubicBezTo>
                    <a:cubicBezTo>
                      <a:pt x="301" y="115"/>
                      <a:pt x="331" y="121"/>
                      <a:pt x="359" y="131"/>
                    </a:cubicBezTo>
                    <a:cubicBezTo>
                      <a:pt x="376" y="137"/>
                      <a:pt x="403" y="148"/>
                      <a:pt x="410" y="167"/>
                    </a:cubicBezTo>
                    <a:cubicBezTo>
                      <a:pt x="419" y="188"/>
                      <a:pt x="385" y="194"/>
                      <a:pt x="371" y="195"/>
                    </a:cubicBezTo>
                    <a:cubicBezTo>
                      <a:pt x="342" y="197"/>
                      <a:pt x="312" y="191"/>
                      <a:pt x="286" y="180"/>
                    </a:cubicBezTo>
                    <a:cubicBezTo>
                      <a:pt x="264" y="172"/>
                      <a:pt x="233" y="156"/>
                      <a:pt x="232" y="130"/>
                    </a:cubicBezTo>
                    <a:cubicBezTo>
                      <a:pt x="230" y="99"/>
                      <a:pt x="267" y="80"/>
                      <a:pt x="292" y="76"/>
                    </a:cubicBezTo>
                    <a:cubicBezTo>
                      <a:pt x="321" y="70"/>
                      <a:pt x="355" y="75"/>
                      <a:pt x="382" y="87"/>
                    </a:cubicBezTo>
                    <a:cubicBezTo>
                      <a:pt x="406" y="97"/>
                      <a:pt x="424" y="117"/>
                      <a:pt x="400" y="139"/>
                    </a:cubicBezTo>
                    <a:cubicBezTo>
                      <a:pt x="371" y="165"/>
                      <a:pt x="324" y="167"/>
                      <a:pt x="294" y="140"/>
                    </a:cubicBezTo>
                    <a:cubicBezTo>
                      <a:pt x="257" y="107"/>
                      <a:pt x="295" y="69"/>
                      <a:pt x="327" y="53"/>
                    </a:cubicBezTo>
                    <a:cubicBezTo>
                      <a:pt x="334" y="50"/>
                      <a:pt x="328" y="39"/>
                      <a:pt x="321" y="43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3" name="组合 661"/>
          <p:cNvGrpSpPr/>
          <p:nvPr/>
        </p:nvGrpSpPr>
        <p:grpSpPr>
          <a:xfrm>
            <a:off x="8013600" y="525600"/>
            <a:ext cx="1424160" cy="1035000"/>
            <a:chOff x="8013600" y="525600"/>
            <a:chExt cx="1424160" cy="1035000"/>
          </a:xfrm>
        </p:grpSpPr>
        <p:sp>
          <p:nvSpPr>
            <p:cNvPr id="994" name="Freeform 10"/>
            <p:cNvSpPr/>
            <p:nvPr/>
          </p:nvSpPr>
          <p:spPr>
            <a:xfrm>
              <a:off x="8013600" y="930240"/>
              <a:ext cx="325440" cy="349200"/>
            </a:xfrm>
            <a:custGeom>
              <a:avLst/>
              <a:gdLst/>
              <a:ahLst/>
              <a:rect l="l" t="t" r="r" b="b"/>
              <a:pathLst>
                <a:path w="206" h="221">
                  <a:moveTo>
                    <a:pt x="157" y="79"/>
                  </a:moveTo>
                  <a:cubicBezTo>
                    <a:pt x="160" y="79"/>
                    <a:pt x="164" y="79"/>
                    <a:pt x="167" y="79"/>
                  </a:cubicBezTo>
                  <a:cubicBezTo>
                    <a:pt x="177" y="60"/>
                    <a:pt x="190" y="43"/>
                    <a:pt x="206" y="29"/>
                  </a:cubicBezTo>
                  <a:cubicBezTo>
                    <a:pt x="206" y="24"/>
                    <a:pt x="206" y="19"/>
                    <a:pt x="206" y="13"/>
                  </a:cubicBezTo>
                  <a:cubicBezTo>
                    <a:pt x="206" y="9"/>
                    <a:pt x="206" y="5"/>
                    <a:pt x="206" y="0"/>
                  </a:cubicBezTo>
                  <a:cubicBezTo>
                    <a:pt x="190" y="14"/>
                    <a:pt x="177" y="31"/>
                    <a:pt x="167" y="50"/>
                  </a:cubicBezTo>
                  <a:cubicBezTo>
                    <a:pt x="164" y="50"/>
                    <a:pt x="160" y="50"/>
                    <a:pt x="157" y="50"/>
                  </a:cubicBezTo>
                  <a:cubicBezTo>
                    <a:pt x="70" y="50"/>
                    <a:pt x="0" y="120"/>
                    <a:pt x="0" y="206"/>
                  </a:cubicBezTo>
                  <a:cubicBezTo>
                    <a:pt x="0" y="211"/>
                    <a:pt x="1" y="216"/>
                    <a:pt x="1" y="221"/>
                  </a:cubicBezTo>
                  <a:cubicBezTo>
                    <a:pt x="8" y="141"/>
                    <a:pt x="75" y="79"/>
                    <a:pt x="157" y="79"/>
                  </a:cubicBezTo>
                  <a:close/>
                </a:path>
              </a:pathLst>
            </a:custGeom>
            <a:solidFill>
              <a:srgbClr val="05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5" name="组合 659"/>
            <p:cNvGrpSpPr/>
            <p:nvPr/>
          </p:nvGrpSpPr>
          <p:grpSpPr>
            <a:xfrm>
              <a:off x="8013600" y="525600"/>
              <a:ext cx="1424160" cy="1035000"/>
              <a:chOff x="8013600" y="525600"/>
              <a:chExt cx="1424160" cy="1035000"/>
            </a:xfrm>
          </p:grpSpPr>
          <p:sp>
            <p:nvSpPr>
              <p:cNvPr id="996" name="Freeform 11"/>
              <p:cNvSpPr/>
              <p:nvPr/>
            </p:nvSpPr>
            <p:spPr>
              <a:xfrm>
                <a:off x="8339040" y="525600"/>
                <a:ext cx="1098720" cy="620640"/>
              </a:xfrm>
              <a:custGeom>
                <a:avLst/>
                <a:gdLst/>
                <a:ahLst/>
                <a:rect l="l" t="t" r="r" b="b"/>
                <a:pathLst>
                  <a:path w="696" h="394">
                    <a:moveTo>
                      <a:pt x="504" y="188"/>
                    </a:moveTo>
                    <a:cubicBezTo>
                      <a:pt x="495" y="188"/>
                      <a:pt x="485" y="188"/>
                      <a:pt x="476" y="190"/>
                    </a:cubicBezTo>
                    <a:cubicBezTo>
                      <a:pt x="452" y="81"/>
                      <a:pt x="356" y="0"/>
                      <a:pt x="241" y="0"/>
                    </a:cubicBezTo>
                    <a:cubicBezTo>
                      <a:pt x="107" y="0"/>
                      <a:pt x="0" y="108"/>
                      <a:pt x="0" y="241"/>
                    </a:cubicBezTo>
                    <a:cubicBezTo>
                      <a:pt x="0" y="246"/>
                      <a:pt x="0" y="251"/>
                      <a:pt x="0" y="256"/>
                    </a:cubicBezTo>
                    <a:cubicBezTo>
                      <a:pt x="8" y="129"/>
                      <a:pt x="112" y="29"/>
                      <a:pt x="241" y="29"/>
                    </a:cubicBezTo>
                    <a:cubicBezTo>
                      <a:pt x="356" y="29"/>
                      <a:pt x="452" y="110"/>
                      <a:pt x="476" y="219"/>
                    </a:cubicBezTo>
                    <a:cubicBezTo>
                      <a:pt x="485" y="217"/>
                      <a:pt x="495" y="217"/>
                      <a:pt x="504" y="217"/>
                    </a:cubicBezTo>
                    <a:cubicBezTo>
                      <a:pt x="605" y="217"/>
                      <a:pt x="688" y="295"/>
                      <a:pt x="695" y="394"/>
                    </a:cubicBezTo>
                    <a:cubicBezTo>
                      <a:pt x="696" y="389"/>
                      <a:pt x="696" y="384"/>
                      <a:pt x="696" y="379"/>
                    </a:cubicBezTo>
                    <a:cubicBezTo>
                      <a:pt x="696" y="274"/>
                      <a:pt x="610" y="188"/>
                      <a:pt x="504" y="188"/>
                    </a:cubicBezTo>
                    <a:close/>
                  </a:path>
                </a:pathLst>
              </a:custGeom>
              <a:solidFill>
                <a:srgbClr val="05d1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7" name="组合 656"/>
              <p:cNvGrpSpPr/>
              <p:nvPr/>
            </p:nvGrpSpPr>
            <p:grpSpPr>
              <a:xfrm>
                <a:off x="8013600" y="525600"/>
                <a:ext cx="1424160" cy="1035000"/>
                <a:chOff x="8013600" y="525600"/>
                <a:chExt cx="1424160" cy="1035000"/>
              </a:xfrm>
            </p:grpSpPr>
            <p:sp>
              <p:nvSpPr>
                <p:cNvPr id="998" name="Freeform 9"/>
                <p:cNvSpPr/>
                <p:nvPr/>
              </p:nvSpPr>
              <p:spPr>
                <a:xfrm>
                  <a:off x="8013600" y="525600"/>
                  <a:ext cx="1424160" cy="1035000"/>
                </a:xfrm>
                <a:custGeom>
                  <a:avLst/>
                  <a:gdLst/>
                  <a:ahLst/>
                  <a:rect l="l" t="t" r="r" b="b"/>
                  <a:pathLst>
                    <a:path w="902" h="656">
                      <a:moveTo>
                        <a:pt x="710" y="188"/>
                      </a:moveTo>
                      <a:cubicBezTo>
                        <a:pt x="701" y="188"/>
                        <a:pt x="691" y="188"/>
                        <a:pt x="682" y="190"/>
                      </a:cubicBezTo>
                      <a:cubicBezTo>
                        <a:pt x="658" y="81"/>
                        <a:pt x="562" y="0"/>
                        <a:pt x="447" y="0"/>
                      </a:cubicBezTo>
                      <a:cubicBezTo>
                        <a:pt x="313" y="0"/>
                        <a:pt x="206" y="108"/>
                        <a:pt x="206" y="241"/>
                      </a:cubicBezTo>
                      <a:cubicBezTo>
                        <a:pt x="206" y="247"/>
                        <a:pt x="206" y="252"/>
                        <a:pt x="206" y="257"/>
                      </a:cubicBezTo>
                      <a:cubicBezTo>
                        <a:pt x="190" y="271"/>
                        <a:pt x="177" y="288"/>
                        <a:pt x="167" y="307"/>
                      </a:cubicBezTo>
                      <a:cubicBezTo>
                        <a:pt x="164" y="307"/>
                        <a:pt x="160" y="307"/>
                        <a:pt x="157" y="307"/>
                      </a:cubicBezTo>
                      <a:cubicBezTo>
                        <a:pt x="70" y="307"/>
                        <a:pt x="0" y="377"/>
                        <a:pt x="0" y="463"/>
                      </a:cubicBezTo>
                      <a:cubicBezTo>
                        <a:pt x="0" y="549"/>
                        <a:pt x="70" y="619"/>
                        <a:pt x="157" y="619"/>
                      </a:cubicBezTo>
                      <a:cubicBezTo>
                        <a:pt x="211" y="619"/>
                        <a:pt x="260" y="591"/>
                        <a:pt x="287" y="548"/>
                      </a:cubicBezTo>
                      <a:cubicBezTo>
                        <a:pt x="297" y="550"/>
                        <a:pt x="307" y="551"/>
                        <a:pt x="317" y="551"/>
                      </a:cubicBezTo>
                      <a:cubicBezTo>
                        <a:pt x="325" y="551"/>
                        <a:pt x="333" y="550"/>
                        <a:pt x="340" y="549"/>
                      </a:cubicBezTo>
                      <a:cubicBezTo>
                        <a:pt x="369" y="612"/>
                        <a:pt x="432" y="656"/>
                        <a:pt x="506" y="656"/>
                      </a:cubicBezTo>
                      <a:cubicBezTo>
                        <a:pt x="573" y="656"/>
                        <a:pt x="632" y="619"/>
                        <a:pt x="663" y="565"/>
                      </a:cubicBezTo>
                      <a:cubicBezTo>
                        <a:pt x="678" y="569"/>
                        <a:pt x="694" y="571"/>
                        <a:pt x="710" y="571"/>
                      </a:cubicBezTo>
                      <a:cubicBezTo>
                        <a:pt x="816" y="571"/>
                        <a:pt x="902" y="485"/>
                        <a:pt x="902" y="379"/>
                      </a:cubicBezTo>
                      <a:cubicBezTo>
                        <a:pt x="902" y="274"/>
                        <a:pt x="816" y="188"/>
                        <a:pt x="710" y="188"/>
                      </a:cubicBezTo>
                      <a:close/>
                    </a:path>
                  </a:pathLst>
                </a:custGeom>
                <a:solidFill>
                  <a:srgbClr val="0393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99" name="Freeform 74"/>
                <p:cNvSpPr/>
                <p:nvPr/>
              </p:nvSpPr>
              <p:spPr>
                <a:xfrm>
                  <a:off x="8332560" y="773280"/>
                  <a:ext cx="874800" cy="590400"/>
                </a:xfrm>
                <a:custGeom>
                  <a:avLst/>
                  <a:gdLst/>
                  <a:ahLst/>
                  <a:rect l="l" t="t" r="r" b="b"/>
                  <a:pathLst>
                    <a:path w="554" h="375">
                      <a:moveTo>
                        <a:pt x="218" y="6"/>
                      </a:moveTo>
                      <a:cubicBezTo>
                        <a:pt x="177" y="38"/>
                        <a:pt x="138" y="148"/>
                        <a:pt x="217" y="160"/>
                      </a:cubicBezTo>
                      <a:cubicBezTo>
                        <a:pt x="246" y="164"/>
                        <a:pt x="273" y="138"/>
                        <a:pt x="290" y="118"/>
                      </a:cubicBezTo>
                      <a:cubicBezTo>
                        <a:pt x="310" y="93"/>
                        <a:pt x="329" y="64"/>
                        <a:pt x="337" y="33"/>
                      </a:cubicBezTo>
                      <a:cubicBezTo>
                        <a:pt x="338" y="30"/>
                        <a:pt x="337" y="28"/>
                        <a:pt x="335" y="26"/>
                      </a:cubicBezTo>
                      <a:cubicBezTo>
                        <a:pt x="300" y="0"/>
                        <a:pt x="255" y="30"/>
                        <a:pt x="228" y="53"/>
                      </a:cubicBezTo>
                      <a:cubicBezTo>
                        <a:pt x="197" y="80"/>
                        <a:pt x="161" y="123"/>
                        <a:pt x="162" y="166"/>
                      </a:cubicBezTo>
                      <a:cubicBezTo>
                        <a:pt x="162" y="182"/>
                        <a:pt x="172" y="199"/>
                        <a:pt x="187" y="205"/>
                      </a:cubicBezTo>
                      <a:cubicBezTo>
                        <a:pt x="203" y="212"/>
                        <a:pt x="219" y="202"/>
                        <a:pt x="231" y="192"/>
                      </a:cubicBezTo>
                      <a:cubicBezTo>
                        <a:pt x="259" y="167"/>
                        <a:pt x="288" y="116"/>
                        <a:pt x="282" y="77"/>
                      </a:cubicBezTo>
                      <a:cubicBezTo>
                        <a:pt x="282" y="74"/>
                        <a:pt x="278" y="73"/>
                        <a:pt x="275" y="73"/>
                      </a:cubicBezTo>
                      <a:cubicBezTo>
                        <a:pt x="228" y="80"/>
                        <a:pt x="165" y="195"/>
                        <a:pt x="235" y="207"/>
                      </a:cubicBezTo>
                      <a:cubicBezTo>
                        <a:pt x="309" y="220"/>
                        <a:pt x="302" y="103"/>
                        <a:pt x="269" y="67"/>
                      </a:cubicBezTo>
                      <a:cubicBezTo>
                        <a:pt x="266" y="64"/>
                        <a:pt x="263" y="65"/>
                        <a:pt x="260" y="67"/>
                      </a:cubicBezTo>
                      <a:cubicBezTo>
                        <a:pt x="226" y="95"/>
                        <a:pt x="210" y="189"/>
                        <a:pt x="252" y="217"/>
                      </a:cubicBezTo>
                      <a:cubicBezTo>
                        <a:pt x="273" y="231"/>
                        <a:pt x="308" y="225"/>
                        <a:pt x="317" y="199"/>
                      </a:cubicBezTo>
                      <a:cubicBezTo>
                        <a:pt x="327" y="170"/>
                        <a:pt x="316" y="131"/>
                        <a:pt x="287" y="117"/>
                      </a:cubicBezTo>
                      <a:cubicBezTo>
                        <a:pt x="285" y="116"/>
                        <a:pt x="282" y="116"/>
                        <a:pt x="280" y="118"/>
                      </a:cubicBezTo>
                      <a:cubicBezTo>
                        <a:pt x="243" y="156"/>
                        <a:pt x="272" y="205"/>
                        <a:pt x="319" y="214"/>
                      </a:cubicBezTo>
                      <a:cubicBezTo>
                        <a:pt x="371" y="225"/>
                        <a:pt x="391" y="160"/>
                        <a:pt x="359" y="125"/>
                      </a:cubicBezTo>
                      <a:cubicBezTo>
                        <a:pt x="331" y="95"/>
                        <a:pt x="271" y="127"/>
                        <a:pt x="259" y="159"/>
                      </a:cubicBezTo>
                      <a:cubicBezTo>
                        <a:pt x="252" y="179"/>
                        <a:pt x="271" y="191"/>
                        <a:pt x="287" y="195"/>
                      </a:cubicBezTo>
                      <a:cubicBezTo>
                        <a:pt x="306" y="199"/>
                        <a:pt x="328" y="195"/>
                        <a:pt x="341" y="179"/>
                      </a:cubicBezTo>
                      <a:cubicBezTo>
                        <a:pt x="364" y="151"/>
                        <a:pt x="355" y="100"/>
                        <a:pt x="329" y="77"/>
                      </a:cubicBezTo>
                      <a:cubicBezTo>
                        <a:pt x="281" y="37"/>
                        <a:pt x="236" y="123"/>
                        <a:pt x="222" y="155"/>
                      </a:cubicBezTo>
                      <a:cubicBezTo>
                        <a:pt x="215" y="171"/>
                        <a:pt x="204" y="198"/>
                        <a:pt x="220" y="212"/>
                      </a:cubicBezTo>
                      <a:cubicBezTo>
                        <a:pt x="233" y="224"/>
                        <a:pt x="257" y="215"/>
                        <a:pt x="271" y="209"/>
                      </a:cubicBezTo>
                      <a:cubicBezTo>
                        <a:pt x="322" y="187"/>
                        <a:pt x="376" y="136"/>
                        <a:pt x="388" y="80"/>
                      </a:cubicBezTo>
                      <a:cubicBezTo>
                        <a:pt x="388" y="79"/>
                        <a:pt x="389" y="78"/>
                        <a:pt x="389" y="76"/>
                      </a:cubicBezTo>
                      <a:cubicBezTo>
                        <a:pt x="390" y="71"/>
                        <a:pt x="383" y="66"/>
                        <a:pt x="379" y="71"/>
                      </a:cubicBezTo>
                      <a:cubicBezTo>
                        <a:pt x="357" y="91"/>
                        <a:pt x="350" y="128"/>
                        <a:pt x="346" y="156"/>
                      </a:cubicBezTo>
                      <a:cubicBezTo>
                        <a:pt x="342" y="184"/>
                        <a:pt x="340" y="221"/>
                        <a:pt x="359" y="245"/>
                      </a:cubicBezTo>
                      <a:cubicBezTo>
                        <a:pt x="361" y="247"/>
                        <a:pt x="364" y="247"/>
                        <a:pt x="366" y="246"/>
                      </a:cubicBezTo>
                      <a:cubicBezTo>
                        <a:pt x="403" y="223"/>
                        <a:pt x="413" y="162"/>
                        <a:pt x="383" y="130"/>
                      </a:cubicBezTo>
                      <a:cubicBezTo>
                        <a:pt x="381" y="127"/>
                        <a:pt x="376" y="128"/>
                        <a:pt x="374" y="131"/>
                      </a:cubicBezTo>
                      <a:cubicBezTo>
                        <a:pt x="346" y="168"/>
                        <a:pt x="370" y="198"/>
                        <a:pt x="411" y="202"/>
                      </a:cubicBezTo>
                      <a:cubicBezTo>
                        <a:pt x="455" y="207"/>
                        <a:pt x="499" y="180"/>
                        <a:pt x="500" y="134"/>
                      </a:cubicBezTo>
                      <a:cubicBezTo>
                        <a:pt x="500" y="132"/>
                        <a:pt x="499" y="130"/>
                        <a:pt x="497" y="129"/>
                      </a:cubicBezTo>
                      <a:cubicBezTo>
                        <a:pt x="439" y="103"/>
                        <a:pt x="386" y="173"/>
                        <a:pt x="399" y="227"/>
                      </a:cubicBezTo>
                      <a:cubicBezTo>
                        <a:pt x="413" y="287"/>
                        <a:pt x="508" y="278"/>
                        <a:pt x="539" y="238"/>
                      </a:cubicBezTo>
                      <a:cubicBezTo>
                        <a:pt x="554" y="218"/>
                        <a:pt x="546" y="190"/>
                        <a:pt x="523" y="178"/>
                      </a:cubicBezTo>
                      <a:cubicBezTo>
                        <a:pt x="501" y="167"/>
                        <a:pt x="473" y="181"/>
                        <a:pt x="455" y="194"/>
                      </a:cubicBezTo>
                      <a:cubicBezTo>
                        <a:pt x="419" y="219"/>
                        <a:pt x="361" y="286"/>
                        <a:pt x="405" y="327"/>
                      </a:cubicBezTo>
                      <a:cubicBezTo>
                        <a:pt x="456" y="375"/>
                        <a:pt x="475" y="215"/>
                        <a:pt x="468" y="188"/>
                      </a:cubicBezTo>
                      <a:cubicBezTo>
                        <a:pt x="467" y="183"/>
                        <a:pt x="459" y="182"/>
                        <a:pt x="457" y="186"/>
                      </a:cubicBezTo>
                      <a:cubicBezTo>
                        <a:pt x="434" y="226"/>
                        <a:pt x="428" y="271"/>
                        <a:pt x="432" y="316"/>
                      </a:cubicBezTo>
                      <a:cubicBezTo>
                        <a:pt x="433" y="324"/>
                        <a:pt x="443" y="324"/>
                        <a:pt x="444" y="316"/>
                      </a:cubicBezTo>
                      <a:cubicBezTo>
                        <a:pt x="449" y="281"/>
                        <a:pt x="440" y="238"/>
                        <a:pt x="404" y="224"/>
                      </a:cubicBezTo>
                      <a:cubicBezTo>
                        <a:pt x="372" y="211"/>
                        <a:pt x="344" y="230"/>
                        <a:pt x="332" y="260"/>
                      </a:cubicBezTo>
                      <a:cubicBezTo>
                        <a:pt x="326" y="274"/>
                        <a:pt x="316" y="340"/>
                        <a:pt x="350" y="322"/>
                      </a:cubicBezTo>
                      <a:cubicBezTo>
                        <a:pt x="379" y="307"/>
                        <a:pt x="397" y="256"/>
                        <a:pt x="393" y="225"/>
                      </a:cubicBezTo>
                      <a:cubicBezTo>
                        <a:pt x="393" y="222"/>
                        <a:pt x="391" y="220"/>
                        <a:pt x="389" y="219"/>
                      </a:cubicBezTo>
                      <a:cubicBezTo>
                        <a:pt x="344" y="203"/>
                        <a:pt x="301" y="229"/>
                        <a:pt x="275" y="266"/>
                      </a:cubicBezTo>
                      <a:cubicBezTo>
                        <a:pt x="279" y="267"/>
                        <a:pt x="283" y="268"/>
                        <a:pt x="286" y="269"/>
                      </a:cubicBezTo>
                      <a:cubicBezTo>
                        <a:pt x="291" y="230"/>
                        <a:pt x="279" y="187"/>
                        <a:pt x="233" y="187"/>
                      </a:cubicBezTo>
                      <a:cubicBezTo>
                        <a:pt x="192" y="187"/>
                        <a:pt x="153" y="221"/>
                        <a:pt x="137" y="258"/>
                      </a:cubicBezTo>
                      <a:cubicBezTo>
                        <a:pt x="135" y="261"/>
                        <a:pt x="136" y="265"/>
                        <a:pt x="140" y="266"/>
                      </a:cubicBezTo>
                      <a:cubicBezTo>
                        <a:pt x="177" y="281"/>
                        <a:pt x="206" y="255"/>
                        <a:pt x="203" y="217"/>
                      </a:cubicBezTo>
                      <a:cubicBezTo>
                        <a:pt x="203" y="214"/>
                        <a:pt x="201" y="212"/>
                        <a:pt x="197" y="211"/>
                      </a:cubicBezTo>
                      <a:cubicBezTo>
                        <a:pt x="142" y="205"/>
                        <a:pt x="88" y="249"/>
                        <a:pt x="77" y="303"/>
                      </a:cubicBezTo>
                      <a:cubicBezTo>
                        <a:pt x="76" y="305"/>
                        <a:pt x="77" y="308"/>
                        <a:pt x="80" y="309"/>
                      </a:cubicBezTo>
                      <a:cubicBezTo>
                        <a:pt x="144" y="343"/>
                        <a:pt x="183" y="254"/>
                        <a:pt x="177" y="202"/>
                      </a:cubicBezTo>
                      <a:cubicBezTo>
                        <a:pt x="174" y="172"/>
                        <a:pt x="154" y="146"/>
                        <a:pt x="123" y="147"/>
                      </a:cubicBezTo>
                      <a:cubicBezTo>
                        <a:pt x="86" y="149"/>
                        <a:pt x="52" y="182"/>
                        <a:pt x="31" y="209"/>
                      </a:cubicBezTo>
                      <a:cubicBezTo>
                        <a:pt x="15" y="229"/>
                        <a:pt x="0" y="264"/>
                        <a:pt x="8" y="290"/>
                      </a:cubicBezTo>
                      <a:cubicBezTo>
                        <a:pt x="16" y="317"/>
                        <a:pt x="57" y="308"/>
                        <a:pt x="74" y="297"/>
                      </a:cubicBezTo>
                      <a:cubicBezTo>
                        <a:pt x="99" y="281"/>
                        <a:pt x="108" y="244"/>
                        <a:pt x="112" y="217"/>
                      </a:cubicBezTo>
                      <a:cubicBezTo>
                        <a:pt x="117" y="191"/>
                        <a:pt x="120" y="156"/>
                        <a:pt x="105" y="133"/>
                      </a:cubicBezTo>
                      <a:cubicBezTo>
                        <a:pt x="104" y="132"/>
                        <a:pt x="103" y="131"/>
                        <a:pt x="103" y="130"/>
                      </a:cubicBezTo>
                      <a:cubicBezTo>
                        <a:pt x="101" y="127"/>
                        <a:pt x="96" y="128"/>
                        <a:pt x="94" y="130"/>
                      </a:cubicBezTo>
                      <a:cubicBezTo>
                        <a:pt x="72" y="154"/>
                        <a:pt x="41" y="252"/>
                        <a:pt x="106" y="240"/>
                      </a:cubicBezTo>
                      <a:cubicBezTo>
                        <a:pt x="127" y="236"/>
                        <a:pt x="133" y="204"/>
                        <a:pt x="136" y="186"/>
                      </a:cubicBezTo>
                      <a:cubicBezTo>
                        <a:pt x="140" y="161"/>
                        <a:pt x="140" y="136"/>
                        <a:pt x="140" y="110"/>
                      </a:cubicBezTo>
                      <a:cubicBezTo>
                        <a:pt x="140" y="102"/>
                        <a:pt x="129" y="103"/>
                        <a:pt x="128" y="110"/>
                      </a:cubicBezTo>
                      <a:cubicBezTo>
                        <a:pt x="124" y="140"/>
                        <a:pt x="125" y="175"/>
                        <a:pt x="155" y="191"/>
                      </a:cubicBezTo>
                      <a:cubicBezTo>
                        <a:pt x="158" y="193"/>
                        <a:pt x="162" y="191"/>
                        <a:pt x="164" y="187"/>
                      </a:cubicBezTo>
                      <a:cubicBezTo>
                        <a:pt x="174" y="158"/>
                        <a:pt x="172" y="129"/>
                        <a:pt x="172" y="99"/>
                      </a:cubicBezTo>
                      <a:cubicBezTo>
                        <a:pt x="170" y="101"/>
                        <a:pt x="168" y="103"/>
                        <a:pt x="166" y="105"/>
                      </a:cubicBezTo>
                      <a:cubicBezTo>
                        <a:pt x="196" y="106"/>
                        <a:pt x="223" y="123"/>
                        <a:pt x="251" y="132"/>
                      </a:cubicBezTo>
                      <a:cubicBezTo>
                        <a:pt x="250" y="129"/>
                        <a:pt x="249" y="126"/>
                        <a:pt x="247" y="123"/>
                      </a:cubicBezTo>
                      <a:cubicBezTo>
                        <a:pt x="244" y="130"/>
                        <a:pt x="241" y="136"/>
                        <a:pt x="236" y="142"/>
                      </a:cubicBezTo>
                      <a:cubicBezTo>
                        <a:pt x="232" y="148"/>
                        <a:pt x="240" y="156"/>
                        <a:pt x="245" y="150"/>
                      </a:cubicBezTo>
                      <a:cubicBezTo>
                        <a:pt x="250" y="144"/>
                        <a:pt x="254" y="137"/>
                        <a:pt x="258" y="129"/>
                      </a:cubicBezTo>
                      <a:cubicBezTo>
                        <a:pt x="260" y="126"/>
                        <a:pt x="258" y="122"/>
                        <a:pt x="254" y="120"/>
                      </a:cubicBezTo>
                      <a:cubicBezTo>
                        <a:pt x="225" y="111"/>
                        <a:pt x="197" y="94"/>
                        <a:pt x="166" y="93"/>
                      </a:cubicBezTo>
                      <a:cubicBezTo>
                        <a:pt x="162" y="92"/>
                        <a:pt x="160" y="95"/>
                        <a:pt x="160" y="99"/>
                      </a:cubicBezTo>
                      <a:cubicBezTo>
                        <a:pt x="160" y="128"/>
                        <a:pt x="163" y="156"/>
                        <a:pt x="152" y="184"/>
                      </a:cubicBezTo>
                      <a:cubicBezTo>
                        <a:pt x="155" y="183"/>
                        <a:pt x="158" y="181"/>
                        <a:pt x="161" y="180"/>
                      </a:cubicBezTo>
                      <a:cubicBezTo>
                        <a:pt x="135" y="167"/>
                        <a:pt x="137" y="134"/>
                        <a:pt x="140" y="110"/>
                      </a:cubicBezTo>
                      <a:cubicBezTo>
                        <a:pt x="136" y="110"/>
                        <a:pt x="132" y="110"/>
                        <a:pt x="128" y="110"/>
                      </a:cubicBezTo>
                      <a:cubicBezTo>
                        <a:pt x="128" y="146"/>
                        <a:pt x="131" y="186"/>
                        <a:pt x="114" y="218"/>
                      </a:cubicBezTo>
                      <a:cubicBezTo>
                        <a:pt x="109" y="226"/>
                        <a:pt x="102" y="230"/>
                        <a:pt x="92" y="227"/>
                      </a:cubicBezTo>
                      <a:cubicBezTo>
                        <a:pt x="78" y="223"/>
                        <a:pt x="77" y="211"/>
                        <a:pt x="78" y="198"/>
                      </a:cubicBezTo>
                      <a:cubicBezTo>
                        <a:pt x="79" y="178"/>
                        <a:pt x="89" y="154"/>
                        <a:pt x="103" y="138"/>
                      </a:cubicBezTo>
                      <a:cubicBezTo>
                        <a:pt x="100" y="138"/>
                        <a:pt x="97" y="138"/>
                        <a:pt x="94" y="138"/>
                      </a:cubicBezTo>
                      <a:cubicBezTo>
                        <a:pt x="106" y="154"/>
                        <a:pt x="104" y="179"/>
                        <a:pt x="103" y="198"/>
                      </a:cubicBezTo>
                      <a:cubicBezTo>
                        <a:pt x="101" y="223"/>
                        <a:pt x="94" y="250"/>
                        <a:pt x="81" y="272"/>
                      </a:cubicBezTo>
                      <a:cubicBezTo>
                        <a:pt x="72" y="287"/>
                        <a:pt x="30" y="312"/>
                        <a:pt x="19" y="287"/>
                      </a:cubicBezTo>
                      <a:cubicBezTo>
                        <a:pt x="11" y="267"/>
                        <a:pt x="27" y="236"/>
                        <a:pt x="38" y="220"/>
                      </a:cubicBezTo>
                      <a:cubicBezTo>
                        <a:pt x="55" y="195"/>
                        <a:pt x="80" y="173"/>
                        <a:pt x="108" y="163"/>
                      </a:cubicBezTo>
                      <a:cubicBezTo>
                        <a:pt x="140" y="151"/>
                        <a:pt x="163" y="175"/>
                        <a:pt x="166" y="206"/>
                      </a:cubicBezTo>
                      <a:cubicBezTo>
                        <a:pt x="170" y="247"/>
                        <a:pt x="139" y="327"/>
                        <a:pt x="86" y="299"/>
                      </a:cubicBezTo>
                      <a:cubicBezTo>
                        <a:pt x="87" y="301"/>
                        <a:pt x="87" y="303"/>
                        <a:pt x="88" y="306"/>
                      </a:cubicBezTo>
                      <a:cubicBezTo>
                        <a:pt x="98" y="257"/>
                        <a:pt x="147" y="217"/>
                        <a:pt x="197" y="223"/>
                      </a:cubicBezTo>
                      <a:cubicBezTo>
                        <a:pt x="195" y="221"/>
                        <a:pt x="193" y="219"/>
                        <a:pt x="191" y="217"/>
                      </a:cubicBezTo>
                      <a:cubicBezTo>
                        <a:pt x="194" y="247"/>
                        <a:pt x="173" y="266"/>
                        <a:pt x="144" y="255"/>
                      </a:cubicBezTo>
                      <a:cubicBezTo>
                        <a:pt x="145" y="258"/>
                        <a:pt x="146" y="261"/>
                        <a:pt x="147" y="264"/>
                      </a:cubicBezTo>
                      <a:cubicBezTo>
                        <a:pt x="161" y="232"/>
                        <a:pt x="189" y="208"/>
                        <a:pt x="223" y="200"/>
                      </a:cubicBezTo>
                      <a:cubicBezTo>
                        <a:pt x="267" y="191"/>
                        <a:pt x="279" y="233"/>
                        <a:pt x="274" y="269"/>
                      </a:cubicBezTo>
                      <a:cubicBezTo>
                        <a:pt x="273" y="275"/>
                        <a:pt x="282" y="276"/>
                        <a:pt x="285" y="272"/>
                      </a:cubicBezTo>
                      <a:cubicBezTo>
                        <a:pt x="308" y="239"/>
                        <a:pt x="346" y="217"/>
                        <a:pt x="385" y="231"/>
                      </a:cubicBezTo>
                      <a:cubicBezTo>
                        <a:pt x="384" y="229"/>
                        <a:pt x="382" y="227"/>
                        <a:pt x="381" y="225"/>
                      </a:cubicBezTo>
                      <a:cubicBezTo>
                        <a:pt x="384" y="252"/>
                        <a:pt x="372" y="281"/>
                        <a:pt x="355" y="301"/>
                      </a:cubicBezTo>
                      <a:cubicBezTo>
                        <a:pt x="348" y="311"/>
                        <a:pt x="338" y="319"/>
                        <a:pt x="337" y="302"/>
                      </a:cubicBezTo>
                      <a:cubicBezTo>
                        <a:pt x="336" y="286"/>
                        <a:pt x="340" y="268"/>
                        <a:pt x="347" y="254"/>
                      </a:cubicBezTo>
                      <a:cubicBezTo>
                        <a:pt x="359" y="232"/>
                        <a:pt x="384" y="227"/>
                        <a:pt x="405" y="238"/>
                      </a:cubicBezTo>
                      <a:cubicBezTo>
                        <a:pt x="432" y="253"/>
                        <a:pt x="436" y="290"/>
                        <a:pt x="432" y="318"/>
                      </a:cubicBezTo>
                      <a:cubicBezTo>
                        <a:pt x="436" y="318"/>
                        <a:pt x="440" y="318"/>
                        <a:pt x="444" y="318"/>
                      </a:cubicBezTo>
                      <a:cubicBezTo>
                        <a:pt x="441" y="274"/>
                        <a:pt x="446" y="231"/>
                        <a:pt x="467" y="194"/>
                      </a:cubicBezTo>
                      <a:cubicBezTo>
                        <a:pt x="464" y="193"/>
                        <a:pt x="460" y="192"/>
                        <a:pt x="456" y="192"/>
                      </a:cubicBezTo>
                      <a:cubicBezTo>
                        <a:pt x="462" y="216"/>
                        <a:pt x="456" y="246"/>
                        <a:pt x="451" y="270"/>
                      </a:cubicBezTo>
                      <a:cubicBezTo>
                        <a:pt x="448" y="285"/>
                        <a:pt x="436" y="340"/>
                        <a:pt x="412" y="317"/>
                      </a:cubicBezTo>
                      <a:cubicBezTo>
                        <a:pt x="386" y="293"/>
                        <a:pt x="412" y="254"/>
                        <a:pt x="430" y="233"/>
                      </a:cubicBezTo>
                      <a:cubicBezTo>
                        <a:pt x="448" y="212"/>
                        <a:pt x="480" y="182"/>
                        <a:pt x="511" y="187"/>
                      </a:cubicBezTo>
                      <a:cubicBezTo>
                        <a:pt x="527" y="189"/>
                        <a:pt x="538" y="208"/>
                        <a:pt x="534" y="223"/>
                      </a:cubicBezTo>
                      <a:cubicBezTo>
                        <a:pt x="529" y="240"/>
                        <a:pt x="506" y="249"/>
                        <a:pt x="491" y="254"/>
                      </a:cubicBezTo>
                      <a:cubicBezTo>
                        <a:pt x="455" y="264"/>
                        <a:pt x="411" y="254"/>
                        <a:pt x="409" y="211"/>
                      </a:cubicBezTo>
                      <a:cubicBezTo>
                        <a:pt x="407" y="177"/>
                        <a:pt x="436" y="136"/>
                        <a:pt x="472" y="135"/>
                      </a:cubicBezTo>
                      <a:cubicBezTo>
                        <a:pt x="483" y="134"/>
                        <a:pt x="489" y="136"/>
                        <a:pt x="487" y="146"/>
                      </a:cubicBezTo>
                      <a:cubicBezTo>
                        <a:pt x="485" y="153"/>
                        <a:pt x="482" y="159"/>
                        <a:pt x="478" y="165"/>
                      </a:cubicBezTo>
                      <a:cubicBezTo>
                        <a:pt x="470" y="177"/>
                        <a:pt x="456" y="184"/>
                        <a:pt x="442" y="188"/>
                      </a:cubicBezTo>
                      <a:cubicBezTo>
                        <a:pt x="424" y="193"/>
                        <a:pt x="403" y="192"/>
                        <a:pt x="386" y="183"/>
                      </a:cubicBezTo>
                      <a:cubicBezTo>
                        <a:pt x="366" y="172"/>
                        <a:pt x="373" y="152"/>
                        <a:pt x="384" y="137"/>
                      </a:cubicBezTo>
                      <a:cubicBezTo>
                        <a:pt x="381" y="138"/>
                        <a:pt x="378" y="138"/>
                        <a:pt x="375" y="138"/>
                      </a:cubicBezTo>
                      <a:cubicBezTo>
                        <a:pt x="399" y="165"/>
                        <a:pt x="390" y="217"/>
                        <a:pt x="360" y="236"/>
                      </a:cubicBezTo>
                      <a:cubicBezTo>
                        <a:pt x="363" y="236"/>
                        <a:pt x="365" y="236"/>
                        <a:pt x="368" y="237"/>
                      </a:cubicBezTo>
                      <a:cubicBezTo>
                        <a:pt x="351" y="215"/>
                        <a:pt x="355" y="179"/>
                        <a:pt x="359" y="154"/>
                      </a:cubicBezTo>
                      <a:cubicBezTo>
                        <a:pt x="362" y="130"/>
                        <a:pt x="368" y="97"/>
                        <a:pt x="387" y="79"/>
                      </a:cubicBezTo>
                      <a:cubicBezTo>
                        <a:pt x="384" y="77"/>
                        <a:pt x="381" y="75"/>
                        <a:pt x="377" y="73"/>
                      </a:cubicBezTo>
                      <a:cubicBezTo>
                        <a:pt x="367" y="131"/>
                        <a:pt x="305" y="188"/>
                        <a:pt x="250" y="204"/>
                      </a:cubicBezTo>
                      <a:cubicBezTo>
                        <a:pt x="217" y="213"/>
                        <a:pt x="223" y="182"/>
                        <a:pt x="232" y="161"/>
                      </a:cubicBezTo>
                      <a:cubicBezTo>
                        <a:pt x="244" y="133"/>
                        <a:pt x="265" y="89"/>
                        <a:pt x="298" y="81"/>
                      </a:cubicBezTo>
                      <a:cubicBezTo>
                        <a:pt x="341" y="69"/>
                        <a:pt x="351" y="148"/>
                        <a:pt x="332" y="172"/>
                      </a:cubicBezTo>
                      <a:cubicBezTo>
                        <a:pt x="320" y="186"/>
                        <a:pt x="277" y="193"/>
                        <a:pt x="270" y="170"/>
                      </a:cubicBezTo>
                      <a:cubicBezTo>
                        <a:pt x="264" y="150"/>
                        <a:pt x="302" y="132"/>
                        <a:pt x="316" y="128"/>
                      </a:cubicBezTo>
                      <a:cubicBezTo>
                        <a:pt x="337" y="122"/>
                        <a:pt x="354" y="130"/>
                        <a:pt x="360" y="152"/>
                      </a:cubicBezTo>
                      <a:cubicBezTo>
                        <a:pt x="366" y="173"/>
                        <a:pt x="361" y="198"/>
                        <a:pt x="337" y="203"/>
                      </a:cubicBezTo>
                      <a:cubicBezTo>
                        <a:pt x="319" y="207"/>
                        <a:pt x="299" y="196"/>
                        <a:pt x="286" y="184"/>
                      </a:cubicBezTo>
                      <a:cubicBezTo>
                        <a:pt x="268" y="166"/>
                        <a:pt x="272" y="144"/>
                        <a:pt x="288" y="127"/>
                      </a:cubicBezTo>
                      <a:cubicBezTo>
                        <a:pt x="286" y="127"/>
                        <a:pt x="284" y="127"/>
                        <a:pt x="281" y="127"/>
                      </a:cubicBezTo>
                      <a:cubicBezTo>
                        <a:pt x="305" y="140"/>
                        <a:pt x="315" y="173"/>
                        <a:pt x="304" y="197"/>
                      </a:cubicBezTo>
                      <a:cubicBezTo>
                        <a:pt x="293" y="223"/>
                        <a:pt x="258" y="213"/>
                        <a:pt x="248" y="193"/>
                      </a:cubicBezTo>
                      <a:cubicBezTo>
                        <a:pt x="231" y="161"/>
                        <a:pt x="241" y="98"/>
                        <a:pt x="269" y="74"/>
                      </a:cubicBezTo>
                      <a:cubicBezTo>
                        <a:pt x="266" y="74"/>
                        <a:pt x="263" y="74"/>
                        <a:pt x="260" y="74"/>
                      </a:cubicBezTo>
                      <a:cubicBezTo>
                        <a:pt x="286" y="102"/>
                        <a:pt x="298" y="200"/>
                        <a:pt x="241" y="195"/>
                      </a:cubicBezTo>
                      <a:cubicBezTo>
                        <a:pt x="183" y="190"/>
                        <a:pt x="241" y="89"/>
                        <a:pt x="278" y="84"/>
                      </a:cubicBezTo>
                      <a:cubicBezTo>
                        <a:pt x="275" y="83"/>
                        <a:pt x="273" y="82"/>
                        <a:pt x="271" y="80"/>
                      </a:cubicBezTo>
                      <a:cubicBezTo>
                        <a:pt x="276" y="112"/>
                        <a:pt x="250" y="153"/>
                        <a:pt x="230" y="175"/>
                      </a:cubicBezTo>
                      <a:cubicBezTo>
                        <a:pt x="220" y="187"/>
                        <a:pt x="204" y="201"/>
                        <a:pt x="188" y="192"/>
                      </a:cubicBezTo>
                      <a:cubicBezTo>
                        <a:pt x="173" y="184"/>
                        <a:pt x="172" y="165"/>
                        <a:pt x="175" y="151"/>
                      </a:cubicBezTo>
                      <a:cubicBezTo>
                        <a:pt x="183" y="116"/>
                        <a:pt x="210" y="84"/>
                        <a:pt x="236" y="61"/>
                      </a:cubicBezTo>
                      <a:cubicBezTo>
                        <a:pt x="259" y="41"/>
                        <a:pt x="299" y="15"/>
                        <a:pt x="329" y="37"/>
                      </a:cubicBezTo>
                      <a:cubicBezTo>
                        <a:pt x="328" y="34"/>
                        <a:pt x="327" y="32"/>
                        <a:pt x="326" y="30"/>
                      </a:cubicBezTo>
                      <a:cubicBezTo>
                        <a:pt x="314" y="72"/>
                        <a:pt x="279" y="128"/>
                        <a:pt x="237" y="145"/>
                      </a:cubicBezTo>
                      <a:cubicBezTo>
                        <a:pt x="205" y="158"/>
                        <a:pt x="182" y="128"/>
                        <a:pt x="183" y="99"/>
                      </a:cubicBezTo>
                      <a:cubicBezTo>
                        <a:pt x="184" y="70"/>
                        <a:pt x="201" y="34"/>
                        <a:pt x="224" y="17"/>
                      </a:cubicBezTo>
                      <a:cubicBezTo>
                        <a:pt x="230" y="12"/>
                        <a:pt x="224" y="2"/>
                        <a:pt x="218" y="6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000" name="组合 660"/>
          <p:cNvGrpSpPr/>
          <p:nvPr/>
        </p:nvGrpSpPr>
        <p:grpSpPr>
          <a:xfrm>
            <a:off x="9489960" y="1270080"/>
            <a:ext cx="1420920" cy="1035000"/>
            <a:chOff x="9489960" y="1270080"/>
            <a:chExt cx="1420920" cy="1035000"/>
          </a:xfrm>
        </p:grpSpPr>
        <p:sp>
          <p:nvSpPr>
            <p:cNvPr id="1001" name="Freeform 8"/>
            <p:cNvSpPr/>
            <p:nvPr/>
          </p:nvSpPr>
          <p:spPr>
            <a:xfrm>
              <a:off x="9812160" y="1270080"/>
              <a:ext cx="1098720" cy="620640"/>
            </a:xfrm>
            <a:custGeom>
              <a:avLst/>
              <a:gdLst/>
              <a:ahLst/>
              <a:rect l="l" t="t" r="r" b="b"/>
              <a:pathLst>
                <a:path w="696" h="394">
                  <a:moveTo>
                    <a:pt x="241" y="29"/>
                  </a:moveTo>
                  <a:cubicBezTo>
                    <a:pt x="356" y="29"/>
                    <a:pt x="453" y="111"/>
                    <a:pt x="477" y="219"/>
                  </a:cubicBezTo>
                  <a:cubicBezTo>
                    <a:pt x="486" y="218"/>
                    <a:pt x="495" y="217"/>
                    <a:pt x="505" y="217"/>
                  </a:cubicBezTo>
                  <a:cubicBezTo>
                    <a:pt x="606" y="217"/>
                    <a:pt x="688" y="295"/>
                    <a:pt x="696" y="394"/>
                  </a:cubicBezTo>
                  <a:cubicBezTo>
                    <a:pt x="696" y="389"/>
                    <a:pt x="696" y="384"/>
                    <a:pt x="696" y="379"/>
                  </a:cubicBezTo>
                  <a:cubicBezTo>
                    <a:pt x="696" y="274"/>
                    <a:pt x="611" y="188"/>
                    <a:pt x="505" y="188"/>
                  </a:cubicBezTo>
                  <a:cubicBezTo>
                    <a:pt x="495" y="188"/>
                    <a:pt x="486" y="189"/>
                    <a:pt x="477" y="190"/>
                  </a:cubicBezTo>
                  <a:cubicBezTo>
                    <a:pt x="453" y="82"/>
                    <a:pt x="356" y="0"/>
                    <a:pt x="241" y="0"/>
                  </a:cubicBezTo>
                  <a:cubicBezTo>
                    <a:pt x="108" y="0"/>
                    <a:pt x="0" y="108"/>
                    <a:pt x="0" y="242"/>
                  </a:cubicBezTo>
                  <a:cubicBezTo>
                    <a:pt x="0" y="246"/>
                    <a:pt x="0" y="251"/>
                    <a:pt x="0" y="256"/>
                  </a:cubicBezTo>
                  <a:cubicBezTo>
                    <a:pt x="8" y="130"/>
                    <a:pt x="113" y="29"/>
                    <a:pt x="241" y="29"/>
                  </a:cubicBezTo>
                  <a:close/>
                </a:path>
              </a:pathLst>
            </a:custGeom>
            <a:solidFill>
              <a:srgbClr val="05d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2" name="组合 657"/>
            <p:cNvGrpSpPr/>
            <p:nvPr/>
          </p:nvGrpSpPr>
          <p:grpSpPr>
            <a:xfrm>
              <a:off x="9489960" y="1270080"/>
              <a:ext cx="1420920" cy="1035000"/>
              <a:chOff x="9489960" y="1270080"/>
              <a:chExt cx="1420920" cy="1035000"/>
            </a:xfrm>
          </p:grpSpPr>
          <p:sp>
            <p:nvSpPr>
              <p:cNvPr id="1003" name="Freeform 7">
                <a:hlinkClick r:id="rId5"/>
              </p:cNvPr>
              <p:cNvSpPr/>
              <p:nvPr/>
            </p:nvSpPr>
            <p:spPr>
              <a:xfrm>
                <a:off x="9489960" y="1270080"/>
                <a:ext cx="1420920" cy="1035000"/>
              </a:xfrm>
              <a:custGeom>
                <a:avLst/>
                <a:gdLst/>
                <a:ahLst/>
                <a:rect l="l" t="t" r="r" b="b"/>
                <a:pathLst>
                  <a:path w="901" h="656">
                    <a:moveTo>
                      <a:pt x="710" y="188"/>
                    </a:moveTo>
                    <a:cubicBezTo>
                      <a:pt x="700" y="188"/>
                      <a:pt x="691" y="189"/>
                      <a:pt x="682" y="190"/>
                    </a:cubicBezTo>
                    <a:cubicBezTo>
                      <a:pt x="658" y="82"/>
                      <a:pt x="561" y="0"/>
                      <a:pt x="446" y="0"/>
                    </a:cubicBezTo>
                    <a:cubicBezTo>
                      <a:pt x="313" y="0"/>
                      <a:pt x="205" y="108"/>
                      <a:pt x="205" y="242"/>
                    </a:cubicBezTo>
                    <a:cubicBezTo>
                      <a:pt x="205" y="247"/>
                      <a:pt x="205" y="252"/>
                      <a:pt x="206" y="257"/>
                    </a:cubicBezTo>
                    <a:cubicBezTo>
                      <a:pt x="190" y="271"/>
                      <a:pt x="176" y="288"/>
                      <a:pt x="167" y="307"/>
                    </a:cubicBezTo>
                    <a:cubicBezTo>
                      <a:pt x="163" y="307"/>
                      <a:pt x="160" y="307"/>
                      <a:pt x="156" y="307"/>
                    </a:cubicBezTo>
                    <a:cubicBezTo>
                      <a:pt x="70" y="307"/>
                      <a:pt x="0" y="377"/>
                      <a:pt x="0" y="463"/>
                    </a:cubicBezTo>
                    <a:cubicBezTo>
                      <a:pt x="0" y="550"/>
                      <a:pt x="70" y="620"/>
                      <a:pt x="156" y="620"/>
                    </a:cubicBezTo>
                    <a:cubicBezTo>
                      <a:pt x="211" y="620"/>
                      <a:pt x="259" y="591"/>
                      <a:pt x="287" y="548"/>
                    </a:cubicBezTo>
                    <a:cubicBezTo>
                      <a:pt x="297" y="550"/>
                      <a:pt x="307" y="551"/>
                      <a:pt x="317" y="551"/>
                    </a:cubicBezTo>
                    <a:cubicBezTo>
                      <a:pt x="324" y="551"/>
                      <a:pt x="332" y="551"/>
                      <a:pt x="340" y="550"/>
                    </a:cubicBezTo>
                    <a:cubicBezTo>
                      <a:pt x="368" y="612"/>
                      <a:pt x="432" y="656"/>
                      <a:pt x="505" y="656"/>
                    </a:cubicBezTo>
                    <a:cubicBezTo>
                      <a:pt x="572" y="656"/>
                      <a:pt x="631" y="620"/>
                      <a:pt x="663" y="565"/>
                    </a:cubicBezTo>
                    <a:cubicBezTo>
                      <a:pt x="678" y="569"/>
                      <a:pt x="694" y="571"/>
                      <a:pt x="710" y="571"/>
                    </a:cubicBezTo>
                    <a:cubicBezTo>
                      <a:pt x="816" y="571"/>
                      <a:pt x="901" y="485"/>
                      <a:pt x="901" y="379"/>
                    </a:cubicBezTo>
                    <a:cubicBezTo>
                      <a:pt x="901" y="274"/>
                      <a:pt x="816" y="188"/>
                      <a:pt x="710" y="188"/>
                    </a:cubicBezTo>
                    <a:close/>
                  </a:path>
                </a:pathLst>
              </a:custGeom>
              <a:solidFill>
                <a:srgbClr val="0393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75"/>
              <p:cNvSpPr/>
              <p:nvPr/>
            </p:nvSpPr>
            <p:spPr>
              <a:xfrm>
                <a:off x="9867600" y="1558800"/>
                <a:ext cx="827280" cy="511200"/>
              </a:xfrm>
              <a:custGeom>
                <a:avLst/>
                <a:gdLst/>
                <a:ahLst/>
                <a:rect l="l" t="t" r="r" b="b"/>
                <a:pathLst>
                  <a:path w="524" h="324">
                    <a:moveTo>
                      <a:pt x="76" y="31"/>
                    </a:moveTo>
                    <a:cubicBezTo>
                      <a:pt x="57" y="58"/>
                      <a:pt x="39" y="85"/>
                      <a:pt x="24" y="115"/>
                    </a:cubicBezTo>
                    <a:cubicBezTo>
                      <a:pt x="11" y="139"/>
                      <a:pt x="0" y="168"/>
                      <a:pt x="7" y="195"/>
                    </a:cubicBezTo>
                    <a:cubicBezTo>
                      <a:pt x="15" y="221"/>
                      <a:pt x="47" y="235"/>
                      <a:pt x="72" y="234"/>
                    </a:cubicBezTo>
                    <a:cubicBezTo>
                      <a:pt x="95" y="233"/>
                      <a:pt x="119" y="217"/>
                      <a:pt x="137" y="205"/>
                    </a:cubicBezTo>
                    <a:cubicBezTo>
                      <a:pt x="165" y="187"/>
                      <a:pt x="190" y="165"/>
                      <a:pt x="212" y="140"/>
                    </a:cubicBezTo>
                    <a:cubicBezTo>
                      <a:pt x="230" y="122"/>
                      <a:pt x="248" y="99"/>
                      <a:pt x="253" y="74"/>
                    </a:cubicBezTo>
                    <a:cubicBezTo>
                      <a:pt x="257" y="55"/>
                      <a:pt x="249" y="37"/>
                      <a:pt x="231" y="31"/>
                    </a:cubicBezTo>
                    <a:cubicBezTo>
                      <a:pt x="206" y="23"/>
                      <a:pt x="184" y="40"/>
                      <a:pt x="169" y="58"/>
                    </a:cubicBezTo>
                    <a:cubicBezTo>
                      <a:pt x="129" y="105"/>
                      <a:pt x="107" y="216"/>
                      <a:pt x="198" y="219"/>
                    </a:cubicBezTo>
                    <a:cubicBezTo>
                      <a:pt x="230" y="220"/>
                      <a:pt x="249" y="187"/>
                      <a:pt x="257" y="160"/>
                    </a:cubicBezTo>
                    <a:cubicBezTo>
                      <a:pt x="267" y="129"/>
                      <a:pt x="268" y="89"/>
                      <a:pt x="253" y="59"/>
                    </a:cubicBezTo>
                    <a:cubicBezTo>
                      <a:pt x="251" y="55"/>
                      <a:pt x="246" y="55"/>
                      <a:pt x="243" y="58"/>
                    </a:cubicBezTo>
                    <a:cubicBezTo>
                      <a:pt x="219" y="80"/>
                      <a:pt x="211" y="120"/>
                      <a:pt x="209" y="151"/>
                    </a:cubicBezTo>
                    <a:cubicBezTo>
                      <a:pt x="207" y="167"/>
                      <a:pt x="209" y="183"/>
                      <a:pt x="215" y="197"/>
                    </a:cubicBezTo>
                    <a:cubicBezTo>
                      <a:pt x="221" y="210"/>
                      <a:pt x="237" y="228"/>
                      <a:pt x="252" y="229"/>
                    </a:cubicBezTo>
                    <a:cubicBezTo>
                      <a:pt x="301" y="232"/>
                      <a:pt x="293" y="131"/>
                      <a:pt x="256" y="116"/>
                    </a:cubicBezTo>
                    <a:cubicBezTo>
                      <a:pt x="222" y="102"/>
                      <a:pt x="185" y="150"/>
                      <a:pt x="170" y="173"/>
                    </a:cubicBezTo>
                    <a:cubicBezTo>
                      <a:pt x="157" y="193"/>
                      <a:pt x="130" y="245"/>
                      <a:pt x="165" y="260"/>
                    </a:cubicBezTo>
                    <a:cubicBezTo>
                      <a:pt x="183" y="267"/>
                      <a:pt x="208" y="261"/>
                      <a:pt x="220" y="245"/>
                    </a:cubicBezTo>
                    <a:cubicBezTo>
                      <a:pt x="239" y="220"/>
                      <a:pt x="243" y="183"/>
                      <a:pt x="234" y="154"/>
                    </a:cubicBezTo>
                    <a:cubicBezTo>
                      <a:pt x="225" y="124"/>
                      <a:pt x="190" y="112"/>
                      <a:pt x="162" y="117"/>
                    </a:cubicBezTo>
                    <a:cubicBezTo>
                      <a:pt x="128" y="123"/>
                      <a:pt x="101" y="153"/>
                      <a:pt x="93" y="185"/>
                    </a:cubicBezTo>
                    <a:cubicBezTo>
                      <a:pt x="86" y="216"/>
                      <a:pt x="102" y="294"/>
                      <a:pt x="148" y="260"/>
                    </a:cubicBezTo>
                    <a:cubicBezTo>
                      <a:pt x="177" y="238"/>
                      <a:pt x="195" y="189"/>
                      <a:pt x="170" y="158"/>
                    </a:cubicBezTo>
                    <a:cubicBezTo>
                      <a:pt x="159" y="145"/>
                      <a:pt x="141" y="141"/>
                      <a:pt x="125" y="139"/>
                    </a:cubicBezTo>
                    <a:cubicBezTo>
                      <a:pt x="122" y="139"/>
                      <a:pt x="120" y="141"/>
                      <a:pt x="119" y="143"/>
                    </a:cubicBezTo>
                    <a:cubicBezTo>
                      <a:pt x="102" y="191"/>
                      <a:pt x="159" y="187"/>
                      <a:pt x="187" y="175"/>
                    </a:cubicBezTo>
                    <a:cubicBezTo>
                      <a:pt x="206" y="166"/>
                      <a:pt x="223" y="151"/>
                      <a:pt x="231" y="131"/>
                    </a:cubicBezTo>
                    <a:cubicBezTo>
                      <a:pt x="240" y="108"/>
                      <a:pt x="227" y="85"/>
                      <a:pt x="211" y="69"/>
                    </a:cubicBezTo>
                    <a:cubicBezTo>
                      <a:pt x="185" y="43"/>
                      <a:pt x="155" y="39"/>
                      <a:pt x="122" y="56"/>
                    </a:cubicBezTo>
                    <a:cubicBezTo>
                      <a:pt x="92" y="73"/>
                      <a:pt x="71" y="105"/>
                      <a:pt x="72" y="140"/>
                    </a:cubicBezTo>
                    <a:cubicBezTo>
                      <a:pt x="73" y="168"/>
                      <a:pt x="98" y="192"/>
                      <a:pt x="119" y="208"/>
                    </a:cubicBezTo>
                    <a:cubicBezTo>
                      <a:pt x="146" y="230"/>
                      <a:pt x="179" y="247"/>
                      <a:pt x="213" y="257"/>
                    </a:cubicBezTo>
                    <a:cubicBezTo>
                      <a:pt x="238" y="265"/>
                      <a:pt x="266" y="269"/>
                      <a:pt x="289" y="255"/>
                    </a:cubicBezTo>
                    <a:cubicBezTo>
                      <a:pt x="308" y="243"/>
                      <a:pt x="322" y="227"/>
                      <a:pt x="325" y="205"/>
                    </a:cubicBezTo>
                    <a:cubicBezTo>
                      <a:pt x="330" y="163"/>
                      <a:pt x="283" y="131"/>
                      <a:pt x="249" y="118"/>
                    </a:cubicBezTo>
                    <a:cubicBezTo>
                      <a:pt x="211" y="103"/>
                      <a:pt x="160" y="104"/>
                      <a:pt x="138" y="144"/>
                    </a:cubicBezTo>
                    <a:cubicBezTo>
                      <a:pt x="112" y="189"/>
                      <a:pt x="131" y="247"/>
                      <a:pt x="170" y="276"/>
                    </a:cubicBezTo>
                    <a:cubicBezTo>
                      <a:pt x="211" y="307"/>
                      <a:pt x="273" y="312"/>
                      <a:pt x="319" y="291"/>
                    </a:cubicBezTo>
                    <a:cubicBezTo>
                      <a:pt x="375" y="266"/>
                      <a:pt x="363" y="207"/>
                      <a:pt x="332" y="166"/>
                    </a:cubicBezTo>
                    <a:cubicBezTo>
                      <a:pt x="329" y="161"/>
                      <a:pt x="320" y="162"/>
                      <a:pt x="321" y="169"/>
                    </a:cubicBezTo>
                    <a:cubicBezTo>
                      <a:pt x="322" y="179"/>
                      <a:pt x="325" y="184"/>
                      <a:pt x="329" y="194"/>
                    </a:cubicBezTo>
                    <a:cubicBezTo>
                      <a:pt x="331" y="198"/>
                      <a:pt x="335" y="200"/>
                      <a:pt x="339" y="197"/>
                    </a:cubicBezTo>
                    <a:cubicBezTo>
                      <a:pt x="393" y="143"/>
                      <a:pt x="280" y="80"/>
                      <a:pt x="254" y="150"/>
                    </a:cubicBezTo>
                    <a:cubicBezTo>
                      <a:pt x="245" y="176"/>
                      <a:pt x="268" y="187"/>
                      <a:pt x="291" y="185"/>
                    </a:cubicBezTo>
                    <a:cubicBezTo>
                      <a:pt x="321" y="181"/>
                      <a:pt x="352" y="161"/>
                      <a:pt x="360" y="131"/>
                    </a:cubicBezTo>
                    <a:cubicBezTo>
                      <a:pt x="361" y="127"/>
                      <a:pt x="358" y="123"/>
                      <a:pt x="354" y="123"/>
                    </a:cubicBezTo>
                    <a:cubicBezTo>
                      <a:pt x="320" y="125"/>
                      <a:pt x="294" y="155"/>
                      <a:pt x="301" y="190"/>
                    </a:cubicBezTo>
                    <a:cubicBezTo>
                      <a:pt x="302" y="192"/>
                      <a:pt x="304" y="194"/>
                      <a:pt x="307" y="194"/>
                    </a:cubicBezTo>
                    <a:cubicBezTo>
                      <a:pt x="359" y="191"/>
                      <a:pt x="382" y="108"/>
                      <a:pt x="331" y="86"/>
                    </a:cubicBezTo>
                    <a:cubicBezTo>
                      <a:pt x="287" y="66"/>
                      <a:pt x="224" y="107"/>
                      <a:pt x="218" y="153"/>
                    </a:cubicBezTo>
                    <a:cubicBezTo>
                      <a:pt x="218" y="156"/>
                      <a:pt x="220" y="158"/>
                      <a:pt x="222" y="159"/>
                    </a:cubicBezTo>
                    <a:cubicBezTo>
                      <a:pt x="282" y="180"/>
                      <a:pt x="368" y="136"/>
                      <a:pt x="370" y="69"/>
                    </a:cubicBezTo>
                    <a:cubicBezTo>
                      <a:pt x="371" y="40"/>
                      <a:pt x="353" y="15"/>
                      <a:pt x="326" y="8"/>
                    </a:cubicBezTo>
                    <a:cubicBezTo>
                      <a:pt x="298" y="0"/>
                      <a:pt x="267" y="12"/>
                      <a:pt x="243" y="27"/>
                    </a:cubicBezTo>
                    <a:cubicBezTo>
                      <a:pt x="198" y="53"/>
                      <a:pt x="157" y="114"/>
                      <a:pt x="195" y="163"/>
                    </a:cubicBezTo>
                    <a:cubicBezTo>
                      <a:pt x="230" y="206"/>
                      <a:pt x="300" y="229"/>
                      <a:pt x="353" y="231"/>
                    </a:cubicBezTo>
                    <a:cubicBezTo>
                      <a:pt x="375" y="232"/>
                      <a:pt x="402" y="229"/>
                      <a:pt x="415" y="209"/>
                    </a:cubicBezTo>
                    <a:cubicBezTo>
                      <a:pt x="427" y="193"/>
                      <a:pt x="429" y="160"/>
                      <a:pt x="410" y="148"/>
                    </a:cubicBezTo>
                    <a:cubicBezTo>
                      <a:pt x="389" y="135"/>
                      <a:pt x="358" y="161"/>
                      <a:pt x="343" y="173"/>
                    </a:cubicBezTo>
                    <a:cubicBezTo>
                      <a:pt x="321" y="191"/>
                      <a:pt x="296" y="218"/>
                      <a:pt x="289" y="246"/>
                    </a:cubicBezTo>
                    <a:cubicBezTo>
                      <a:pt x="288" y="253"/>
                      <a:pt x="296" y="256"/>
                      <a:pt x="300" y="251"/>
                    </a:cubicBezTo>
                    <a:cubicBezTo>
                      <a:pt x="314" y="232"/>
                      <a:pt x="317" y="214"/>
                      <a:pt x="313" y="191"/>
                    </a:cubicBezTo>
                    <a:cubicBezTo>
                      <a:pt x="312" y="189"/>
                      <a:pt x="310" y="187"/>
                      <a:pt x="309" y="187"/>
                    </a:cubicBezTo>
                    <a:cubicBezTo>
                      <a:pt x="253" y="171"/>
                      <a:pt x="192" y="227"/>
                      <a:pt x="198" y="283"/>
                    </a:cubicBezTo>
                    <a:cubicBezTo>
                      <a:pt x="199" y="289"/>
                      <a:pt x="206" y="292"/>
                      <a:pt x="209" y="286"/>
                    </a:cubicBezTo>
                    <a:cubicBezTo>
                      <a:pt x="231" y="245"/>
                      <a:pt x="199" y="225"/>
                      <a:pt x="160" y="226"/>
                    </a:cubicBezTo>
                    <a:cubicBezTo>
                      <a:pt x="119" y="227"/>
                      <a:pt x="66" y="248"/>
                      <a:pt x="52" y="290"/>
                    </a:cubicBezTo>
                    <a:cubicBezTo>
                      <a:pt x="51" y="292"/>
                      <a:pt x="53" y="295"/>
                      <a:pt x="55" y="296"/>
                    </a:cubicBezTo>
                    <a:cubicBezTo>
                      <a:pt x="108" y="324"/>
                      <a:pt x="149" y="269"/>
                      <a:pt x="159" y="222"/>
                    </a:cubicBezTo>
                    <a:cubicBezTo>
                      <a:pt x="160" y="214"/>
                      <a:pt x="149" y="211"/>
                      <a:pt x="147" y="218"/>
                    </a:cubicBezTo>
                    <a:cubicBezTo>
                      <a:pt x="140" y="248"/>
                      <a:pt x="147" y="283"/>
                      <a:pt x="181" y="289"/>
                    </a:cubicBezTo>
                    <a:cubicBezTo>
                      <a:pt x="216" y="296"/>
                      <a:pt x="239" y="263"/>
                      <a:pt x="246" y="233"/>
                    </a:cubicBezTo>
                    <a:cubicBezTo>
                      <a:pt x="242" y="234"/>
                      <a:pt x="239" y="235"/>
                      <a:pt x="236" y="236"/>
                    </a:cubicBezTo>
                    <a:cubicBezTo>
                      <a:pt x="256" y="260"/>
                      <a:pt x="285" y="269"/>
                      <a:pt x="300" y="235"/>
                    </a:cubicBezTo>
                    <a:cubicBezTo>
                      <a:pt x="298" y="236"/>
                      <a:pt x="296" y="237"/>
                      <a:pt x="294" y="238"/>
                    </a:cubicBezTo>
                    <a:cubicBezTo>
                      <a:pt x="309" y="242"/>
                      <a:pt x="323" y="240"/>
                      <a:pt x="337" y="232"/>
                    </a:cubicBezTo>
                    <a:cubicBezTo>
                      <a:pt x="359" y="219"/>
                      <a:pt x="372" y="213"/>
                      <a:pt x="394" y="232"/>
                    </a:cubicBezTo>
                    <a:cubicBezTo>
                      <a:pt x="397" y="235"/>
                      <a:pt x="401" y="234"/>
                      <a:pt x="403" y="231"/>
                    </a:cubicBezTo>
                    <a:cubicBezTo>
                      <a:pt x="416" y="209"/>
                      <a:pt x="431" y="191"/>
                      <a:pt x="458" y="203"/>
                    </a:cubicBezTo>
                    <a:cubicBezTo>
                      <a:pt x="476" y="212"/>
                      <a:pt x="492" y="224"/>
                      <a:pt x="510" y="233"/>
                    </a:cubicBezTo>
                    <a:cubicBezTo>
                      <a:pt x="512" y="234"/>
                      <a:pt x="516" y="234"/>
                      <a:pt x="518" y="231"/>
                    </a:cubicBezTo>
                    <a:cubicBezTo>
                      <a:pt x="524" y="218"/>
                      <a:pt x="520" y="210"/>
                      <a:pt x="519" y="196"/>
                    </a:cubicBezTo>
                    <a:cubicBezTo>
                      <a:pt x="518" y="189"/>
                      <a:pt x="506" y="189"/>
                      <a:pt x="507" y="196"/>
                    </a:cubicBezTo>
                    <a:cubicBezTo>
                      <a:pt x="507" y="205"/>
                      <a:pt x="511" y="217"/>
                      <a:pt x="507" y="225"/>
                    </a:cubicBezTo>
                    <a:cubicBezTo>
                      <a:pt x="510" y="224"/>
                      <a:pt x="513" y="223"/>
                      <a:pt x="516" y="223"/>
                    </a:cubicBezTo>
                    <a:cubicBezTo>
                      <a:pt x="493" y="212"/>
                      <a:pt x="471" y="191"/>
                      <a:pt x="446" y="187"/>
                    </a:cubicBezTo>
                    <a:cubicBezTo>
                      <a:pt x="421" y="182"/>
                      <a:pt x="404" y="206"/>
                      <a:pt x="393" y="225"/>
                    </a:cubicBezTo>
                    <a:cubicBezTo>
                      <a:pt x="396" y="224"/>
                      <a:pt x="399" y="224"/>
                      <a:pt x="402" y="224"/>
                    </a:cubicBezTo>
                    <a:cubicBezTo>
                      <a:pt x="388" y="211"/>
                      <a:pt x="372" y="202"/>
                      <a:pt x="352" y="209"/>
                    </a:cubicBezTo>
                    <a:cubicBezTo>
                      <a:pt x="332" y="217"/>
                      <a:pt x="320" y="233"/>
                      <a:pt x="297" y="226"/>
                    </a:cubicBezTo>
                    <a:cubicBezTo>
                      <a:pt x="294" y="225"/>
                      <a:pt x="291" y="226"/>
                      <a:pt x="290" y="229"/>
                    </a:cubicBezTo>
                    <a:cubicBezTo>
                      <a:pt x="278" y="256"/>
                      <a:pt x="259" y="245"/>
                      <a:pt x="244" y="228"/>
                    </a:cubicBezTo>
                    <a:cubicBezTo>
                      <a:pt x="241" y="224"/>
                      <a:pt x="235" y="226"/>
                      <a:pt x="234" y="230"/>
                    </a:cubicBezTo>
                    <a:cubicBezTo>
                      <a:pt x="229" y="254"/>
                      <a:pt x="214" y="279"/>
                      <a:pt x="186" y="278"/>
                    </a:cubicBezTo>
                    <a:cubicBezTo>
                      <a:pt x="157" y="277"/>
                      <a:pt x="154" y="243"/>
                      <a:pt x="159" y="222"/>
                    </a:cubicBezTo>
                    <a:cubicBezTo>
                      <a:pt x="155" y="220"/>
                      <a:pt x="151" y="219"/>
                      <a:pt x="147" y="218"/>
                    </a:cubicBezTo>
                    <a:cubicBezTo>
                      <a:pt x="139" y="257"/>
                      <a:pt x="107" y="310"/>
                      <a:pt x="61" y="286"/>
                    </a:cubicBezTo>
                    <a:cubicBezTo>
                      <a:pt x="62" y="288"/>
                      <a:pt x="63" y="290"/>
                      <a:pt x="64" y="293"/>
                    </a:cubicBezTo>
                    <a:cubicBezTo>
                      <a:pt x="75" y="259"/>
                      <a:pt x="116" y="244"/>
                      <a:pt x="148" y="239"/>
                    </a:cubicBezTo>
                    <a:cubicBezTo>
                      <a:pt x="178" y="234"/>
                      <a:pt x="219" y="242"/>
                      <a:pt x="199" y="280"/>
                    </a:cubicBezTo>
                    <a:cubicBezTo>
                      <a:pt x="203" y="281"/>
                      <a:pt x="206" y="282"/>
                      <a:pt x="210" y="283"/>
                    </a:cubicBezTo>
                    <a:cubicBezTo>
                      <a:pt x="207" y="252"/>
                      <a:pt x="225" y="225"/>
                      <a:pt x="250" y="208"/>
                    </a:cubicBezTo>
                    <a:cubicBezTo>
                      <a:pt x="263" y="200"/>
                      <a:pt x="278" y="195"/>
                      <a:pt x="293" y="196"/>
                    </a:cubicBezTo>
                    <a:cubicBezTo>
                      <a:pt x="316" y="196"/>
                      <a:pt x="297" y="235"/>
                      <a:pt x="290" y="245"/>
                    </a:cubicBezTo>
                    <a:cubicBezTo>
                      <a:pt x="294" y="246"/>
                      <a:pt x="297" y="248"/>
                      <a:pt x="301" y="249"/>
                    </a:cubicBezTo>
                    <a:cubicBezTo>
                      <a:pt x="307" y="220"/>
                      <a:pt x="336" y="193"/>
                      <a:pt x="359" y="176"/>
                    </a:cubicBezTo>
                    <a:cubicBezTo>
                      <a:pt x="370" y="167"/>
                      <a:pt x="383" y="159"/>
                      <a:pt x="396" y="157"/>
                    </a:cubicBezTo>
                    <a:cubicBezTo>
                      <a:pt x="413" y="156"/>
                      <a:pt x="413" y="179"/>
                      <a:pt x="411" y="191"/>
                    </a:cubicBezTo>
                    <a:cubicBezTo>
                      <a:pt x="405" y="219"/>
                      <a:pt x="369" y="220"/>
                      <a:pt x="346" y="219"/>
                    </a:cubicBezTo>
                    <a:cubicBezTo>
                      <a:pt x="313" y="217"/>
                      <a:pt x="280" y="205"/>
                      <a:pt x="251" y="189"/>
                    </a:cubicBezTo>
                    <a:cubicBezTo>
                      <a:pt x="229" y="178"/>
                      <a:pt x="200" y="161"/>
                      <a:pt x="194" y="135"/>
                    </a:cubicBezTo>
                    <a:cubicBezTo>
                      <a:pt x="186" y="98"/>
                      <a:pt x="210" y="66"/>
                      <a:pt x="239" y="44"/>
                    </a:cubicBezTo>
                    <a:cubicBezTo>
                      <a:pt x="264" y="25"/>
                      <a:pt x="302" y="8"/>
                      <a:pt x="333" y="23"/>
                    </a:cubicBezTo>
                    <a:cubicBezTo>
                      <a:pt x="376" y="43"/>
                      <a:pt x="357" y="100"/>
                      <a:pt x="330" y="123"/>
                    </a:cubicBezTo>
                    <a:cubicBezTo>
                      <a:pt x="303" y="147"/>
                      <a:pt x="260" y="160"/>
                      <a:pt x="226" y="147"/>
                    </a:cubicBezTo>
                    <a:cubicBezTo>
                      <a:pt x="227" y="149"/>
                      <a:pt x="229" y="151"/>
                      <a:pt x="230" y="153"/>
                    </a:cubicBezTo>
                    <a:cubicBezTo>
                      <a:pt x="235" y="116"/>
                      <a:pt x="279" y="92"/>
                      <a:pt x="313" y="94"/>
                    </a:cubicBezTo>
                    <a:cubicBezTo>
                      <a:pt x="365" y="95"/>
                      <a:pt x="354" y="180"/>
                      <a:pt x="307" y="182"/>
                    </a:cubicBezTo>
                    <a:cubicBezTo>
                      <a:pt x="309" y="184"/>
                      <a:pt x="311" y="185"/>
                      <a:pt x="313" y="187"/>
                    </a:cubicBezTo>
                    <a:cubicBezTo>
                      <a:pt x="307" y="160"/>
                      <a:pt x="328" y="137"/>
                      <a:pt x="354" y="135"/>
                    </a:cubicBezTo>
                    <a:cubicBezTo>
                      <a:pt x="353" y="133"/>
                      <a:pt x="351" y="130"/>
                      <a:pt x="349" y="127"/>
                    </a:cubicBezTo>
                    <a:cubicBezTo>
                      <a:pt x="343" y="148"/>
                      <a:pt x="326" y="162"/>
                      <a:pt x="306" y="169"/>
                    </a:cubicBezTo>
                    <a:cubicBezTo>
                      <a:pt x="296" y="172"/>
                      <a:pt x="265" y="180"/>
                      <a:pt x="264" y="163"/>
                    </a:cubicBezTo>
                    <a:cubicBezTo>
                      <a:pt x="262" y="137"/>
                      <a:pt x="293" y="127"/>
                      <a:pt x="313" y="133"/>
                    </a:cubicBezTo>
                    <a:cubicBezTo>
                      <a:pt x="339" y="140"/>
                      <a:pt x="351" y="168"/>
                      <a:pt x="330" y="188"/>
                    </a:cubicBezTo>
                    <a:cubicBezTo>
                      <a:pt x="334" y="189"/>
                      <a:pt x="337" y="190"/>
                      <a:pt x="340" y="191"/>
                    </a:cubicBezTo>
                    <a:cubicBezTo>
                      <a:pt x="338" y="184"/>
                      <a:pt x="333" y="176"/>
                      <a:pt x="333" y="169"/>
                    </a:cubicBezTo>
                    <a:cubicBezTo>
                      <a:pt x="329" y="170"/>
                      <a:pt x="325" y="171"/>
                      <a:pt x="322" y="172"/>
                    </a:cubicBezTo>
                    <a:cubicBezTo>
                      <a:pt x="338" y="193"/>
                      <a:pt x="354" y="220"/>
                      <a:pt x="346" y="248"/>
                    </a:cubicBezTo>
                    <a:cubicBezTo>
                      <a:pt x="339" y="269"/>
                      <a:pt x="316" y="281"/>
                      <a:pt x="297" y="287"/>
                    </a:cubicBezTo>
                    <a:cubicBezTo>
                      <a:pt x="249" y="300"/>
                      <a:pt x="186" y="287"/>
                      <a:pt x="155" y="246"/>
                    </a:cubicBezTo>
                    <a:cubicBezTo>
                      <a:pt x="124" y="204"/>
                      <a:pt x="135" y="128"/>
                      <a:pt x="194" y="121"/>
                    </a:cubicBezTo>
                    <a:cubicBezTo>
                      <a:pt x="236" y="117"/>
                      <a:pt x="294" y="143"/>
                      <a:pt x="310" y="185"/>
                    </a:cubicBezTo>
                    <a:cubicBezTo>
                      <a:pt x="318" y="205"/>
                      <a:pt x="308" y="224"/>
                      <a:pt x="293" y="237"/>
                    </a:cubicBezTo>
                    <a:cubicBezTo>
                      <a:pt x="269" y="258"/>
                      <a:pt x="240" y="253"/>
                      <a:pt x="212" y="245"/>
                    </a:cubicBezTo>
                    <a:cubicBezTo>
                      <a:pt x="159" y="228"/>
                      <a:pt x="58" y="174"/>
                      <a:pt x="91" y="106"/>
                    </a:cubicBezTo>
                    <a:cubicBezTo>
                      <a:pt x="99" y="88"/>
                      <a:pt x="115" y="74"/>
                      <a:pt x="133" y="65"/>
                    </a:cubicBezTo>
                    <a:cubicBezTo>
                      <a:pt x="155" y="52"/>
                      <a:pt x="176" y="56"/>
                      <a:pt x="196" y="72"/>
                    </a:cubicBezTo>
                    <a:cubicBezTo>
                      <a:pt x="216" y="89"/>
                      <a:pt x="231" y="113"/>
                      <a:pt x="215" y="138"/>
                    </a:cubicBezTo>
                    <a:cubicBezTo>
                      <a:pt x="203" y="156"/>
                      <a:pt x="180" y="167"/>
                      <a:pt x="160" y="171"/>
                    </a:cubicBezTo>
                    <a:cubicBezTo>
                      <a:pt x="140" y="175"/>
                      <a:pt x="122" y="169"/>
                      <a:pt x="131" y="146"/>
                    </a:cubicBezTo>
                    <a:cubicBezTo>
                      <a:pt x="129" y="148"/>
                      <a:pt x="127" y="149"/>
                      <a:pt x="125" y="151"/>
                    </a:cubicBezTo>
                    <a:cubicBezTo>
                      <a:pt x="153" y="154"/>
                      <a:pt x="172" y="169"/>
                      <a:pt x="169" y="198"/>
                    </a:cubicBezTo>
                    <a:cubicBezTo>
                      <a:pt x="168" y="218"/>
                      <a:pt x="155" y="241"/>
                      <a:pt x="138" y="252"/>
                    </a:cubicBezTo>
                    <a:cubicBezTo>
                      <a:pt x="114" y="269"/>
                      <a:pt x="106" y="232"/>
                      <a:pt x="104" y="214"/>
                    </a:cubicBezTo>
                    <a:cubicBezTo>
                      <a:pt x="100" y="169"/>
                      <a:pt x="133" y="126"/>
                      <a:pt x="180" y="128"/>
                    </a:cubicBezTo>
                    <a:cubicBezTo>
                      <a:pt x="231" y="129"/>
                      <a:pt x="233" y="191"/>
                      <a:pt x="218" y="226"/>
                    </a:cubicBezTo>
                    <a:cubicBezTo>
                      <a:pt x="211" y="242"/>
                      <a:pt x="199" y="250"/>
                      <a:pt x="182" y="251"/>
                    </a:cubicBezTo>
                    <a:cubicBezTo>
                      <a:pt x="174" y="251"/>
                      <a:pt x="166" y="249"/>
                      <a:pt x="162" y="241"/>
                    </a:cubicBezTo>
                    <a:cubicBezTo>
                      <a:pt x="154" y="227"/>
                      <a:pt x="167" y="203"/>
                      <a:pt x="174" y="190"/>
                    </a:cubicBezTo>
                    <a:cubicBezTo>
                      <a:pt x="184" y="171"/>
                      <a:pt x="198" y="153"/>
                      <a:pt x="216" y="139"/>
                    </a:cubicBezTo>
                    <a:cubicBezTo>
                      <a:pt x="226" y="131"/>
                      <a:pt x="240" y="123"/>
                      <a:pt x="253" y="127"/>
                    </a:cubicBezTo>
                    <a:cubicBezTo>
                      <a:pt x="270" y="133"/>
                      <a:pt x="272" y="162"/>
                      <a:pt x="273" y="176"/>
                    </a:cubicBezTo>
                    <a:cubicBezTo>
                      <a:pt x="274" y="187"/>
                      <a:pt x="272" y="199"/>
                      <a:pt x="267" y="209"/>
                    </a:cubicBezTo>
                    <a:cubicBezTo>
                      <a:pt x="260" y="223"/>
                      <a:pt x="246" y="215"/>
                      <a:pt x="237" y="207"/>
                    </a:cubicBezTo>
                    <a:cubicBezTo>
                      <a:pt x="223" y="193"/>
                      <a:pt x="220" y="175"/>
                      <a:pt x="220" y="156"/>
                    </a:cubicBezTo>
                    <a:cubicBezTo>
                      <a:pt x="221" y="128"/>
                      <a:pt x="230" y="86"/>
                      <a:pt x="252" y="66"/>
                    </a:cubicBezTo>
                    <a:cubicBezTo>
                      <a:pt x="249" y="66"/>
                      <a:pt x="246" y="65"/>
                      <a:pt x="243" y="65"/>
                    </a:cubicBezTo>
                    <a:cubicBezTo>
                      <a:pt x="265" y="109"/>
                      <a:pt x="248" y="232"/>
                      <a:pt x="176" y="202"/>
                    </a:cubicBezTo>
                    <a:cubicBezTo>
                      <a:pt x="139" y="186"/>
                      <a:pt x="142" y="145"/>
                      <a:pt x="152" y="113"/>
                    </a:cubicBezTo>
                    <a:cubicBezTo>
                      <a:pt x="161" y="86"/>
                      <a:pt x="183" y="44"/>
                      <a:pt x="216" y="41"/>
                    </a:cubicBezTo>
                    <a:cubicBezTo>
                      <a:pt x="249" y="37"/>
                      <a:pt x="243" y="74"/>
                      <a:pt x="233" y="93"/>
                    </a:cubicBezTo>
                    <a:cubicBezTo>
                      <a:pt x="218" y="121"/>
                      <a:pt x="193" y="145"/>
                      <a:pt x="168" y="166"/>
                    </a:cubicBezTo>
                    <a:cubicBezTo>
                      <a:pt x="145" y="186"/>
                      <a:pt x="118" y="206"/>
                      <a:pt x="88" y="218"/>
                    </a:cubicBezTo>
                    <a:cubicBezTo>
                      <a:pt x="60" y="228"/>
                      <a:pt x="20" y="215"/>
                      <a:pt x="17" y="182"/>
                    </a:cubicBezTo>
                    <a:cubicBezTo>
                      <a:pt x="15" y="155"/>
                      <a:pt x="30" y="128"/>
                      <a:pt x="42" y="106"/>
                    </a:cubicBezTo>
                    <a:cubicBezTo>
                      <a:pt x="55" y="82"/>
                      <a:pt x="71" y="59"/>
                      <a:pt x="87" y="37"/>
                    </a:cubicBezTo>
                    <a:cubicBezTo>
                      <a:pt x="91" y="31"/>
                      <a:pt x="81" y="25"/>
                      <a:pt x="76" y="31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5" name="组合 1"/>
          <p:cNvGrpSpPr/>
          <p:nvPr/>
        </p:nvGrpSpPr>
        <p:grpSpPr>
          <a:xfrm>
            <a:off x="1101600" y="2649600"/>
            <a:ext cx="3273480" cy="1460520"/>
            <a:chOff x="1101600" y="2649600"/>
            <a:chExt cx="3273480" cy="1460520"/>
          </a:xfrm>
        </p:grpSpPr>
        <p:sp>
          <p:nvSpPr>
            <p:cNvPr id="1006" name="文本框 89"/>
            <p:cNvSpPr/>
            <p:nvPr/>
          </p:nvSpPr>
          <p:spPr>
            <a:xfrm>
              <a:off x="1163520" y="2692800"/>
              <a:ext cx="3211560" cy="1417320"/>
            </a:xfrm>
            <a:custGeom>
              <a:avLst/>
              <a:gdLst/>
              <a:ahLst/>
              <a:rect l="l" t="t" r="r" b="b"/>
              <a:pathLst>
                <a:path w="3210818" h="1417142">
                  <a:moveTo>
                    <a:pt x="438150" y="1095375"/>
                  </a:moveTo>
                  <a:lnTo>
                    <a:pt x="609303" y="1095375"/>
                  </a:lnTo>
                  <a:lnTo>
                    <a:pt x="609303" y="1280220"/>
                  </a:lnTo>
                  <a:lnTo>
                    <a:pt x="1061145" y="1280220"/>
                  </a:lnTo>
                  <a:lnTo>
                    <a:pt x="1061145" y="1417142"/>
                  </a:lnTo>
                  <a:lnTo>
                    <a:pt x="438150" y="1417142"/>
                  </a:lnTo>
                  <a:close/>
                  <a:moveTo>
                    <a:pt x="1376065" y="1040607"/>
                  </a:moveTo>
                  <a:lnTo>
                    <a:pt x="1471910" y="1321296"/>
                  </a:lnTo>
                  <a:lnTo>
                    <a:pt x="1341835" y="1417142"/>
                  </a:lnTo>
                  <a:lnTo>
                    <a:pt x="1239143" y="1136452"/>
                  </a:lnTo>
                  <a:close/>
                  <a:moveTo>
                    <a:pt x="95845" y="1040607"/>
                  </a:moveTo>
                  <a:lnTo>
                    <a:pt x="232767" y="1136452"/>
                  </a:lnTo>
                  <a:lnTo>
                    <a:pt x="130076" y="1417142"/>
                  </a:lnTo>
                  <a:lnTo>
                    <a:pt x="0" y="1321296"/>
                  </a:lnTo>
                  <a:close/>
                  <a:moveTo>
                    <a:pt x="958453" y="1020068"/>
                  </a:moveTo>
                  <a:lnTo>
                    <a:pt x="1040606" y="1177529"/>
                  </a:lnTo>
                  <a:lnTo>
                    <a:pt x="889992" y="1211759"/>
                  </a:lnTo>
                  <a:lnTo>
                    <a:pt x="807839" y="1054299"/>
                  </a:lnTo>
                  <a:close/>
                  <a:moveTo>
                    <a:pt x="568226" y="492919"/>
                  </a:moveTo>
                  <a:lnTo>
                    <a:pt x="616149" y="732532"/>
                  </a:lnTo>
                  <a:lnTo>
                    <a:pt x="554534" y="842070"/>
                  </a:lnTo>
                  <a:lnTo>
                    <a:pt x="506611" y="602457"/>
                  </a:lnTo>
                  <a:close/>
                  <a:moveTo>
                    <a:pt x="239613" y="492919"/>
                  </a:moveTo>
                  <a:lnTo>
                    <a:pt x="301228" y="602457"/>
                  </a:lnTo>
                  <a:lnTo>
                    <a:pt x="246459" y="848916"/>
                  </a:lnTo>
                  <a:lnTo>
                    <a:pt x="184845" y="739379"/>
                  </a:lnTo>
                  <a:close/>
                  <a:moveTo>
                    <a:pt x="321767" y="27385"/>
                  </a:moveTo>
                  <a:lnTo>
                    <a:pt x="486073" y="27385"/>
                  </a:lnTo>
                  <a:lnTo>
                    <a:pt x="486073" y="301228"/>
                  </a:lnTo>
                  <a:lnTo>
                    <a:pt x="800993" y="301228"/>
                  </a:lnTo>
                  <a:lnTo>
                    <a:pt x="800993" y="985838"/>
                  </a:lnTo>
                  <a:lnTo>
                    <a:pt x="595610" y="985838"/>
                  </a:lnTo>
                  <a:lnTo>
                    <a:pt x="595610" y="835224"/>
                  </a:lnTo>
                  <a:lnTo>
                    <a:pt x="650379" y="835224"/>
                  </a:lnTo>
                  <a:lnTo>
                    <a:pt x="650379" y="444996"/>
                  </a:lnTo>
                  <a:lnTo>
                    <a:pt x="486073" y="444996"/>
                  </a:lnTo>
                  <a:lnTo>
                    <a:pt x="486073" y="972146"/>
                  </a:lnTo>
                  <a:lnTo>
                    <a:pt x="321767" y="972146"/>
                  </a:lnTo>
                  <a:lnTo>
                    <a:pt x="321767" y="444996"/>
                  </a:lnTo>
                  <a:lnTo>
                    <a:pt x="157460" y="444996"/>
                  </a:lnTo>
                  <a:lnTo>
                    <a:pt x="157460" y="985838"/>
                  </a:lnTo>
                  <a:lnTo>
                    <a:pt x="6846" y="985838"/>
                  </a:lnTo>
                  <a:lnTo>
                    <a:pt x="6846" y="301228"/>
                  </a:lnTo>
                  <a:lnTo>
                    <a:pt x="321767" y="301228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657225" y="6846"/>
                  </a:moveTo>
                  <a:lnTo>
                    <a:pt x="800993" y="61615"/>
                  </a:lnTo>
                  <a:lnTo>
                    <a:pt x="670917" y="253306"/>
                  </a:lnTo>
                  <a:lnTo>
                    <a:pt x="527149" y="205383"/>
                  </a:lnTo>
                  <a:close/>
                  <a:moveTo>
                    <a:pt x="150614" y="6846"/>
                  </a:moveTo>
                  <a:lnTo>
                    <a:pt x="280690" y="205383"/>
                  </a:lnTo>
                  <a:lnTo>
                    <a:pt x="136922" y="253306"/>
                  </a:lnTo>
                  <a:lnTo>
                    <a:pt x="6846" y="61615"/>
                  </a:lnTo>
                  <a:close/>
                  <a:moveTo>
                    <a:pt x="917377" y="0"/>
                  </a:moveTo>
                  <a:lnTo>
                    <a:pt x="972146" y="41077"/>
                  </a:lnTo>
                  <a:lnTo>
                    <a:pt x="1458218" y="41077"/>
                  </a:lnTo>
                  <a:lnTo>
                    <a:pt x="1458218" y="191691"/>
                  </a:lnTo>
                  <a:lnTo>
                    <a:pt x="1417142" y="191691"/>
                  </a:lnTo>
                  <a:lnTo>
                    <a:pt x="1417142" y="451843"/>
                  </a:lnTo>
                  <a:lnTo>
                    <a:pt x="1255241" y="632246"/>
                  </a:lnTo>
                  <a:lnTo>
                    <a:pt x="1478756" y="855762"/>
                  </a:lnTo>
                  <a:lnTo>
                    <a:pt x="1417142" y="999530"/>
                  </a:lnTo>
                  <a:lnTo>
                    <a:pt x="1156231" y="742572"/>
                  </a:lnTo>
                  <a:lnTo>
                    <a:pt x="937915" y="985838"/>
                  </a:lnTo>
                  <a:lnTo>
                    <a:pt x="862608" y="862608"/>
                  </a:lnTo>
                  <a:lnTo>
                    <a:pt x="1055159" y="643032"/>
                  </a:lnTo>
                  <a:lnTo>
                    <a:pt x="965299" y="554534"/>
                  </a:lnTo>
                  <a:lnTo>
                    <a:pt x="1033760" y="410766"/>
                  </a:lnTo>
                  <a:lnTo>
                    <a:pt x="1153679" y="530685"/>
                  </a:lnTo>
                  <a:lnTo>
                    <a:pt x="1252835" y="417612"/>
                  </a:lnTo>
                  <a:lnTo>
                    <a:pt x="1252835" y="191691"/>
                  </a:lnTo>
                  <a:lnTo>
                    <a:pt x="1042937" y="191691"/>
                  </a:lnTo>
                  <a:lnTo>
                    <a:pt x="1013222" y="424458"/>
                  </a:lnTo>
                  <a:lnTo>
                    <a:pt x="883146" y="321767"/>
                  </a:lnTo>
                  <a:close/>
                </a:path>
              </a:pathLst>
            </a:custGeom>
            <a:solidFill>
              <a:srgbClr val="00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文本框 91"/>
            <p:cNvSpPr/>
            <p:nvPr/>
          </p:nvSpPr>
          <p:spPr>
            <a:xfrm>
              <a:off x="1101600" y="2649600"/>
              <a:ext cx="3211560" cy="1417320"/>
            </a:xfrm>
            <a:custGeom>
              <a:avLst/>
              <a:gdLst/>
              <a:ahLst/>
              <a:rect l="l" t="t" r="r" b="b"/>
              <a:pathLst>
                <a:path w="3210818" h="1417142">
                  <a:moveTo>
                    <a:pt x="438150" y="1095375"/>
                  </a:moveTo>
                  <a:lnTo>
                    <a:pt x="609302" y="1095375"/>
                  </a:lnTo>
                  <a:lnTo>
                    <a:pt x="609302" y="1280220"/>
                  </a:lnTo>
                  <a:lnTo>
                    <a:pt x="1061145" y="1280220"/>
                  </a:lnTo>
                  <a:lnTo>
                    <a:pt x="1061145" y="1417142"/>
                  </a:lnTo>
                  <a:lnTo>
                    <a:pt x="438150" y="1417142"/>
                  </a:lnTo>
                  <a:close/>
                  <a:moveTo>
                    <a:pt x="1376065" y="1040607"/>
                  </a:moveTo>
                  <a:lnTo>
                    <a:pt x="1471910" y="1321296"/>
                  </a:lnTo>
                  <a:lnTo>
                    <a:pt x="1341835" y="1417142"/>
                  </a:lnTo>
                  <a:lnTo>
                    <a:pt x="1239143" y="1136452"/>
                  </a:lnTo>
                  <a:close/>
                  <a:moveTo>
                    <a:pt x="95845" y="1040607"/>
                  </a:moveTo>
                  <a:lnTo>
                    <a:pt x="232767" y="1136452"/>
                  </a:lnTo>
                  <a:lnTo>
                    <a:pt x="130076" y="1417142"/>
                  </a:lnTo>
                  <a:lnTo>
                    <a:pt x="0" y="1321296"/>
                  </a:lnTo>
                  <a:close/>
                  <a:moveTo>
                    <a:pt x="958453" y="1020068"/>
                  </a:moveTo>
                  <a:lnTo>
                    <a:pt x="1040606" y="1177529"/>
                  </a:lnTo>
                  <a:lnTo>
                    <a:pt x="889992" y="1211759"/>
                  </a:lnTo>
                  <a:lnTo>
                    <a:pt x="807839" y="1054299"/>
                  </a:lnTo>
                  <a:close/>
                  <a:moveTo>
                    <a:pt x="568226" y="492919"/>
                  </a:moveTo>
                  <a:lnTo>
                    <a:pt x="616149" y="732532"/>
                  </a:lnTo>
                  <a:lnTo>
                    <a:pt x="554534" y="842070"/>
                  </a:lnTo>
                  <a:lnTo>
                    <a:pt x="506611" y="602457"/>
                  </a:lnTo>
                  <a:close/>
                  <a:moveTo>
                    <a:pt x="239613" y="492919"/>
                  </a:moveTo>
                  <a:lnTo>
                    <a:pt x="301228" y="602457"/>
                  </a:lnTo>
                  <a:lnTo>
                    <a:pt x="246460" y="848916"/>
                  </a:lnTo>
                  <a:lnTo>
                    <a:pt x="184845" y="739379"/>
                  </a:lnTo>
                  <a:close/>
                  <a:moveTo>
                    <a:pt x="321767" y="27385"/>
                  </a:moveTo>
                  <a:lnTo>
                    <a:pt x="486073" y="27385"/>
                  </a:lnTo>
                  <a:lnTo>
                    <a:pt x="486073" y="301228"/>
                  </a:lnTo>
                  <a:lnTo>
                    <a:pt x="800993" y="301228"/>
                  </a:lnTo>
                  <a:lnTo>
                    <a:pt x="800993" y="985838"/>
                  </a:lnTo>
                  <a:lnTo>
                    <a:pt x="595610" y="985838"/>
                  </a:lnTo>
                  <a:lnTo>
                    <a:pt x="595610" y="835224"/>
                  </a:lnTo>
                  <a:lnTo>
                    <a:pt x="650379" y="835224"/>
                  </a:lnTo>
                  <a:lnTo>
                    <a:pt x="650379" y="444996"/>
                  </a:lnTo>
                  <a:lnTo>
                    <a:pt x="486073" y="444996"/>
                  </a:lnTo>
                  <a:lnTo>
                    <a:pt x="486073" y="972146"/>
                  </a:lnTo>
                  <a:lnTo>
                    <a:pt x="321767" y="972146"/>
                  </a:lnTo>
                  <a:lnTo>
                    <a:pt x="321767" y="444996"/>
                  </a:lnTo>
                  <a:lnTo>
                    <a:pt x="157460" y="444996"/>
                  </a:lnTo>
                  <a:lnTo>
                    <a:pt x="157460" y="985838"/>
                  </a:lnTo>
                  <a:lnTo>
                    <a:pt x="6846" y="985838"/>
                  </a:lnTo>
                  <a:lnTo>
                    <a:pt x="6846" y="301228"/>
                  </a:lnTo>
                  <a:lnTo>
                    <a:pt x="321767" y="301228"/>
                  </a:lnTo>
                  <a:close/>
                  <a:moveTo>
                    <a:pt x="1759446" y="13693"/>
                  </a:moveTo>
                  <a:lnTo>
                    <a:pt x="3197126" y="13693"/>
                  </a:lnTo>
                  <a:lnTo>
                    <a:pt x="3197126" y="157460"/>
                  </a:lnTo>
                  <a:lnTo>
                    <a:pt x="2813745" y="157460"/>
                  </a:lnTo>
                  <a:lnTo>
                    <a:pt x="2813745" y="705148"/>
                  </a:lnTo>
                  <a:lnTo>
                    <a:pt x="3162895" y="321767"/>
                  </a:lnTo>
                  <a:lnTo>
                    <a:pt x="3210818" y="479227"/>
                  </a:lnTo>
                  <a:lnTo>
                    <a:pt x="2813745" y="910531"/>
                  </a:lnTo>
                  <a:lnTo>
                    <a:pt x="2813745" y="1266528"/>
                  </a:lnTo>
                  <a:lnTo>
                    <a:pt x="3210818" y="1266528"/>
                  </a:lnTo>
                  <a:lnTo>
                    <a:pt x="3203972" y="1417142"/>
                  </a:lnTo>
                  <a:lnTo>
                    <a:pt x="2649438" y="1417142"/>
                  </a:lnTo>
                  <a:lnTo>
                    <a:pt x="2649438" y="157460"/>
                  </a:lnTo>
                  <a:lnTo>
                    <a:pt x="2211288" y="157460"/>
                  </a:lnTo>
                  <a:lnTo>
                    <a:pt x="2062826" y="383382"/>
                  </a:lnTo>
                  <a:lnTo>
                    <a:pt x="2409825" y="383382"/>
                  </a:lnTo>
                  <a:lnTo>
                    <a:pt x="2409825" y="807839"/>
                  </a:lnTo>
                  <a:lnTo>
                    <a:pt x="1882676" y="1417142"/>
                  </a:lnTo>
                  <a:lnTo>
                    <a:pt x="1725216" y="1382911"/>
                  </a:lnTo>
                  <a:lnTo>
                    <a:pt x="1992208" y="1063223"/>
                  </a:lnTo>
                  <a:lnTo>
                    <a:pt x="1725216" y="807839"/>
                  </a:lnTo>
                  <a:lnTo>
                    <a:pt x="1875830" y="746225"/>
                  </a:lnTo>
                  <a:lnTo>
                    <a:pt x="2087700" y="948884"/>
                  </a:lnTo>
                  <a:lnTo>
                    <a:pt x="2245519" y="759917"/>
                  </a:lnTo>
                  <a:lnTo>
                    <a:pt x="2245519" y="527150"/>
                  </a:lnTo>
                  <a:lnTo>
                    <a:pt x="1968350" y="527150"/>
                  </a:lnTo>
                  <a:lnTo>
                    <a:pt x="1896368" y="636687"/>
                  </a:lnTo>
                  <a:lnTo>
                    <a:pt x="1738908" y="602457"/>
                  </a:lnTo>
                  <a:lnTo>
                    <a:pt x="2033290" y="157460"/>
                  </a:lnTo>
                  <a:lnTo>
                    <a:pt x="1759446" y="157460"/>
                  </a:lnTo>
                  <a:close/>
                  <a:moveTo>
                    <a:pt x="657225" y="6846"/>
                  </a:moveTo>
                  <a:lnTo>
                    <a:pt x="800993" y="61615"/>
                  </a:lnTo>
                  <a:lnTo>
                    <a:pt x="670917" y="253306"/>
                  </a:lnTo>
                  <a:lnTo>
                    <a:pt x="527149" y="205383"/>
                  </a:lnTo>
                  <a:close/>
                  <a:moveTo>
                    <a:pt x="150614" y="6846"/>
                  </a:moveTo>
                  <a:lnTo>
                    <a:pt x="280690" y="205383"/>
                  </a:lnTo>
                  <a:lnTo>
                    <a:pt x="136922" y="253306"/>
                  </a:lnTo>
                  <a:lnTo>
                    <a:pt x="6846" y="61615"/>
                  </a:lnTo>
                  <a:close/>
                  <a:moveTo>
                    <a:pt x="917377" y="0"/>
                  </a:moveTo>
                  <a:lnTo>
                    <a:pt x="972146" y="41077"/>
                  </a:lnTo>
                  <a:lnTo>
                    <a:pt x="1458218" y="41077"/>
                  </a:lnTo>
                  <a:lnTo>
                    <a:pt x="1458218" y="191691"/>
                  </a:lnTo>
                  <a:lnTo>
                    <a:pt x="1417142" y="191691"/>
                  </a:lnTo>
                  <a:lnTo>
                    <a:pt x="1417142" y="451843"/>
                  </a:lnTo>
                  <a:lnTo>
                    <a:pt x="1255241" y="632246"/>
                  </a:lnTo>
                  <a:lnTo>
                    <a:pt x="1478756" y="855762"/>
                  </a:lnTo>
                  <a:lnTo>
                    <a:pt x="1417142" y="999530"/>
                  </a:lnTo>
                  <a:lnTo>
                    <a:pt x="1156231" y="742572"/>
                  </a:lnTo>
                  <a:lnTo>
                    <a:pt x="937915" y="985838"/>
                  </a:lnTo>
                  <a:lnTo>
                    <a:pt x="862608" y="862608"/>
                  </a:lnTo>
                  <a:lnTo>
                    <a:pt x="1055159" y="643032"/>
                  </a:lnTo>
                  <a:lnTo>
                    <a:pt x="965299" y="554534"/>
                  </a:lnTo>
                  <a:lnTo>
                    <a:pt x="1033760" y="410766"/>
                  </a:lnTo>
                  <a:lnTo>
                    <a:pt x="1153679" y="530685"/>
                  </a:lnTo>
                  <a:lnTo>
                    <a:pt x="1252835" y="417612"/>
                  </a:lnTo>
                  <a:lnTo>
                    <a:pt x="1252835" y="191691"/>
                  </a:lnTo>
                  <a:lnTo>
                    <a:pt x="1042937" y="191691"/>
                  </a:lnTo>
                  <a:lnTo>
                    <a:pt x="1013222" y="424458"/>
                  </a:lnTo>
                  <a:lnTo>
                    <a:pt x="883146" y="3217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 advTm="6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4.44444E-006 L 0.0151 4.44444E-006 E">
                                      <p:cBhvr>
                                        <p:cTn id="787" dur="2250" fill="hold"/>
                                        <p:tgtEl>
                                          <p:spTgt spid="9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8" dur="indefinite" autoRev="1" nodeType="withEffect" fill="hold" presetClass="path" presetID="63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5E-006 -3.33333E-006 L 0.0112 -3.33333E-006 E">
                                      <p:cBhvr>
                                        <p:cTn id="789" dur="225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dur="indefinite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1.85185E-006 L 0.01224 1.85185E-006 E">
                                      <p:cBhvr>
                                        <p:cTn id="791" dur="2250" fill="hold"/>
                                        <p:tgtEl>
                                          <p:spTgt spid="10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500" autoRev="1" fill="hold"/>
                                        <p:tgtEl>
                                          <p:spTgt spid="9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500" autoRev="1" fill="hold"/>
                                        <p:tgtEl>
                                          <p:spTgt spid="9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mph" presetID="26" repeatCount="indefinite">
                                  <p:stCondLst>
                                    <p:cond delay="4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0" dur="500" autoRev="1" fill="hold"/>
                                        <p:tgtEl>
                                          <p:spTgt spid="9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mph" presetID="26" repeatCount="indefinite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500" autoRev="1" fill="hold"/>
                                        <p:tgtEl>
                                          <p:spTgt spid="9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7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3" presetSubtype="28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6:5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1:34Z</dcterms:modified>
  <cp:revision>27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