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649-2198-433E-AB93-D58F50CB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0BE-4C30-4942-8F58-71AFC87D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D64-92BF-4A97-9613-0E97589D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966-9946-4314-8E4A-24E3530F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1F02-FF23-400E-AF22-DDB1EAA7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6D89-F3EE-4BA0-9F36-C05E7A0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088B-8A97-4EF9-9F3E-B9086D44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30B7-95F2-49AD-97BB-FC5C028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EA6D-45F2-42AA-8751-DD9842E3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90A-D86B-4312-A207-BB5E1EC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02DC-E9CF-4483-AAF9-F7B69CE2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BD9-6D0A-42C0-83BC-69900EE6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D65-5379-46E2-B56B-3E26702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8201-BEC1-4CC3-9D35-2A4236D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D54-3B85-4BAE-8164-E9E86B3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403D-C7F6-4919-A0A9-8B309C4B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C16-461C-4202-A1F2-45F7DE0C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C7B-7E69-4608-95B4-7FA4878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3CF-D037-42EB-98A6-ADBACEE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A9D-24F3-4617-AE03-C0A06066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43E-6C84-424D-876D-E5365B85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C873-4A0C-41E0-B9BD-C8D72600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9C8-E832-4FAC-BCB0-2D712712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0E7-BBD2-46EB-8269-50BA17E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299" strike="noStrike" cap="all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" name="Picture 7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2801160"/>
            <a:ext cx="9143640" cy="9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1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1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675120" y="636408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GB" sz="12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7DB738-2921-4CA5-9A8C-B4BBA579AE16}" type="slidenum">
              <a:rPr b="1" lang="en-GB" sz="12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723D85-6F82-4DEF-B2BA-CBA2FBE5BB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6400440" cy="129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299" strike="noStrike" cap="all">
                <a:solidFill>
                  <a:srgbClr val="000000"/>
                </a:solidFill>
                <a:latin typeface="汉仪大宋简"/>
                <a:ea typeface="汉仪大宋简"/>
              </a:rPr>
              <a:t>欧美花边幻灯片背景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0" y="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uture">
  <a:themeElements>
    <a:clrScheme name="Couture">
      <a:dk1>
        <a:srgbClr val="000000"/>
      </a:dk1>
      <a:lt1>
        <a:srgbClr val="ffffff"/>
      </a:lt1>
      <a:dk2>
        <a:srgbClr val="37302a"/>
      </a:dk2>
      <a:lt2>
        <a:srgbClr val="d0ccb9"/>
      </a:lt2>
      <a:accent1>
        <a:srgbClr val="9e8e5c"/>
      </a:accent1>
      <a:accent2>
        <a:srgbClr val="a09781"/>
      </a:accent2>
      <a:accent3>
        <a:srgbClr val="85776d"/>
      </a:accent3>
      <a:accent4>
        <a:srgbClr val="aeafa9"/>
      </a:accent4>
      <a:accent5>
        <a:srgbClr val="8d878b"/>
      </a:accent5>
      <a:accent6>
        <a:srgbClr val="6b6149"/>
      </a:accent6>
      <a:hlink>
        <a:srgbClr val="b6a272"/>
      </a:hlink>
      <a:folHlink>
        <a:srgbClr val="8a784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uture</Template>
  <TotalTime>333</TotalTime>
  <Application>LibreOffice/7.4.7.2$Linux_X86_64 LibreOffice_project/40$Build-2</Application>
  <AppVersion>15.0000</AppVersion>
  <Words>104</Words>
  <Paragraphs>12</Paragraphs>
  <Company>Jewish Community Secondary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2Z</dcterms:created>
  <dc:creator>Harley Benson</dc:creator>
  <dc:description/>
  <dc:language>en-US</dc:language>
  <cp:lastModifiedBy>a</cp:lastModifiedBy>
  <dcterms:modified xsi:type="dcterms:W3CDTF">2015-03-18T06:01:26Z</dcterms:modified>
  <cp:revision>75</cp:revision>
  <dc:subject/>
  <dc:title>The royal wed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