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1C3-90EC-438D-9C9E-E78663A2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460-1AE6-485B-9E45-51E6D5A0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2DC-A7C8-41D5-8B0F-8621EDDA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876-CC02-4A84-91B7-9EE3CEF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C52-D971-45BA-BBD0-D2DBD4A6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13F2-298B-49C3-AA44-07BA8E63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014F-1A8E-4B43-BBD1-3FD9D88B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E9B-BD97-4E15-8486-5810AA82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C7D-15AD-4E3B-87DF-75074AC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D42-24DF-4050-B51F-07054720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28E-4649-4B2E-B4C8-58D8634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72D-D95C-4BC2-BE2B-4D72767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083-B680-4470-97E4-7789235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4C86-3696-470B-87D9-8CB6AEB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A21-CE95-47FC-925E-41C9206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DE8-4D90-49C8-A257-C9193ABD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5EE-5A85-45CF-A800-58CB84D3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A2D-D25C-4345-A907-575C9489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4AA-040E-4438-ACF4-FF87FE5E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887-A4D0-4ED3-96F1-02EB68B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E39-0D5A-414E-92F3-98998952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EFE-9DE1-4077-B302-A4E04B7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A91-3126-4EDA-86EA-8AB418C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B96-1E03-4BBA-9A52-A05E555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3A9-1162-4580-88E4-B0F9CB8ABF3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79B-5821-4FD6-B37A-10427D70FD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0CC-EE7B-4B9D-A1C1-ECD109B721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华文隶书"/>
                <a:ea typeface="华文隶书"/>
              </a:rPr>
              <a:t>精美插画幻灯片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Mariajose</dc:creator>
  <dc:description/>
  <cp:keywords/>
  <dc:language>en-US</dc:language>
  <cp:lastModifiedBy>a</cp:lastModifiedBy>
  <dcterms:modified xsi:type="dcterms:W3CDTF">2015-03-18T06:01:37Z</dcterms:modified>
  <cp:revision>63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