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0AB-62A9-48AA-BFC3-8E679592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B53-DA36-43DE-8FE6-5A360DFA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DE1B-B5BB-4D06-ABDB-6D93A9C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1F4DF-9909-4366-8065-95518EEE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F4AFE-FF39-4442-82B5-6287C5E5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65189-5FC4-4ADE-A78B-3EB0957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FF3BD-6B14-468A-8CE9-04FC46F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41A1F-18DF-4947-B04D-AE9A4A9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B2B68-8708-415A-B5BB-CD20DF8C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93EBB-D19C-47B5-AF50-DDCD4E02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7F8F8-A600-4DA9-944E-4FD9D21E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38F3E-68ED-4E69-B3C3-3DC302B6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D8D-C75D-419A-A00C-0E66E098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461A-8389-443E-820F-F79473FC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42F76-B494-4CA4-BAAA-44358A5D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8CA6-8F0C-444B-A389-B65F1D2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1D916-730C-4B09-B6FE-306A0D4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80D17-919F-4988-A56B-BF76A6F2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2C46C-4F23-4977-8A9E-27233A93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7B07E-342A-4D2A-867B-CA0B3C08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60A19-A2BC-43AA-A357-1400CC1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DE550-CF38-4523-93BB-F31BE762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04E19-2811-4990-ACD5-7B3E46EE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418-74B7-4A75-B95E-F234BB6A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E6171-113D-4461-AE52-0AF74517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E4DB3-2F21-4EF5-A1D3-4C1F411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308C9-9493-4C3F-B5F8-385313F0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8D4A9-951D-4F6E-907D-67AE78E9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89101-9DB7-41E2-9194-FB2ED777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D33D8-44FD-4F2D-8E15-0290807A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07FE0-06DC-4407-AACF-9D5F662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9AE64-1ACE-4D1A-918D-54FC368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CA7BF-DEF8-4546-ABC4-01FFDE6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E4163-563E-41D7-A388-6C36FFD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B4CA-487A-4062-8D40-75FD80E1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49520-6815-430B-B32B-BCB1D15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A9FAC-305F-438F-925C-CD155F19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0C37D-C10F-44EF-8073-252ED027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1A279-40ED-40C9-88DA-83D33BC8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B63E5-7AD5-4B76-A553-1706FD8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B56A0-749E-4F1C-971E-138EA5FD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443B4-DF55-4440-9BD6-B609908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570E5-0E80-4E0E-BD75-F968E3FD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0A7C2-B3B4-490F-AF87-E5D2E24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9FFA2-D376-4FCE-84AB-D31848D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CE64-3EFB-4A5D-A786-585C06F6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D70ED-679F-4ECF-B205-BDD40419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ACB59-4FFD-4777-B28D-68B3921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5B614-9279-439A-96D0-BF507DD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7A3CE-39ED-4F61-9A17-69067071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7DD8C-E6B6-4720-A8B1-6DE12F12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F7127-34A2-4A03-8925-03BDB730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F2561-C632-426E-B276-518D618C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5BEDE-5762-4006-8C21-18C96099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695F4-1284-4086-A31A-A75CB4F4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006E6-BBDF-41C0-A6F6-702BF35E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728D-3E61-4826-A7CC-7CC5F5D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B258A-CCAC-44F3-A6C4-E4E561EB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1FCCF-9F6A-4A29-BF02-5B1E0E8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48F4E-CEAC-4046-81A8-60D6452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9ADAE-A715-4888-8AE3-E3ACD383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FAF58-F044-4BAF-8F7A-76EEA7F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339E3-30BF-4347-81FF-3A350B61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BB5F4-6F94-4B34-AA19-CACA9857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0F0F-8E8D-4C25-BD73-2C259C0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D0B2-3758-4B13-B5C7-2A90A25B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038D-84FD-4DE0-9260-EBA50661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44E8-784F-40AF-A72B-B666C3A7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57F-9260-4E15-B533-75061490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ED0C-AF22-41F5-A1F3-1F44968D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6009-B867-4B26-9D49-9EC2D62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78D2-EB6E-4F4A-80B4-EA1DA108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C567-341D-4B56-A393-AE14F54F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7169-0071-47E5-818A-69F89983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548D-CEED-4E6A-9BF0-D21EBBA4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86AD-6EAB-48C4-A095-5504AF8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F44A-F345-4C4C-A6A8-8232155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6B6E-0006-4AE4-83FC-D0052297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7091-4EA4-4001-B458-6677E2F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420-7B93-4457-AAA0-DA81E1BD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59F7-8AF6-4F94-A8E4-D49A6952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E0E1-221A-4BA8-848E-F4B21A45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88D7-BAAD-4D68-AE6C-50D5B87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F7E3-9819-4E54-9822-4742D566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4F03-ED31-475F-946F-4A273563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63C9-403E-4421-9C84-73B19C63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80E5-1A89-4790-90DA-8F21353B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B715-8533-4167-A29E-19493D30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0BB7-3D89-43EE-9A81-87D3079F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68AF-E2AD-475D-8A19-2749997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D4E-EBC0-47A2-BA28-608BCC1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40C0-5597-45DF-806F-9AE2BAEA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AD25-89A7-4C2D-BA6F-669E533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FEC7-338A-4F93-BFAB-EFDDD4D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3361-D6D5-4A16-82B3-0F317D3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28C3-7852-4961-B98B-4F7DC7A1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0A5E-6E3A-4B92-BB09-4F52FB2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E001-322A-48FA-94CD-CA4479C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3E5CA-5A2E-4549-805F-30E70B46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479E-6218-4945-8432-930987D4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5529-6CED-4934-A5F6-C9842BB6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2A7-6AC0-463A-B7AC-3DDAECD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4F56-C508-4BCC-9862-0DB50A3D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E8E3-DA68-46B0-8654-027179F8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13DC7-8405-4889-9E12-8C8DEF33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22A7-1775-40A8-A792-147EBA3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15D7-F046-49AC-B09F-3C79EAF9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0CBA-E2B5-4EAF-8E90-B0F3769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1C22-26CB-40B2-8656-FA31793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3BD2-19BF-4271-BC4C-DD3E8B1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8180-A074-4B81-9B21-1F0FE98B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3479-8393-4B88-B31C-7C617D7D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A73-29EC-4720-8144-740FF36B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4F3BD-3A9A-4DF0-8372-1E748ED3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796B6-C988-4D3E-AB7E-3F491A5B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F559D-9726-4BED-BB15-54FE0CE7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71103-CD48-4465-B3EC-A55B008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B960A-D88E-478F-98F0-D154650E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A68C-DDDC-49A4-9C1C-DDF347E1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E6E5-BBB4-4CCF-8231-E0CBEDE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03FF-8C55-4A0D-A2E0-FF3D4CF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DCFC3-92CB-414E-847A-4307359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387C-770E-47C5-9698-339952A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DAD-4F18-4D05-8201-3E891D4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E2E7-F9B0-4306-A052-B0B64590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1999-9D9E-4F5D-A300-B998A6E1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F8A88-BA88-4377-BFA0-6F048DE6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39D6B-4772-4EF0-8CF9-04C5314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3A13-76AB-4E66-8AD0-DA0D5088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44E3-687B-458D-BC13-409CCE0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DDE3D-225B-417F-BCBC-2648B54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C01F1-E31C-4DAA-849F-0C600EE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1D7B1-B4D6-4632-92F2-D60E8B20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48272-F59D-4157-B527-E332A0A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7D1-C3D7-41BA-AFCD-AC250D6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57E9-84AC-4B23-BAE0-B872F8B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72CF3-E017-48EB-8117-3CDBCF02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B906-C1A1-4B4F-AC1C-3DC8D11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C542-B83E-4BDA-8D13-F0C2D2CE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3BFB-2181-464F-8833-2CC7FE32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118C-5893-4D39-A34F-03BCD5A0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BDE2F-F837-4C71-9F0A-FE0DD23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B21C-4D6D-4B20-B6C0-29667404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79262-C7FC-4B09-B550-5D51CCF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2030-86F1-49C9-A673-7FEB2B5F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BD0-038B-4185-BDB1-8808EECF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8F48-440D-4A63-9DD8-AD8B5570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75D7-76E1-4258-96F7-3AD4B8A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C0433-04EC-41CC-85AC-0B08A13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4CEA-A3F2-487F-A5B0-01C8A67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A6B41-6A23-4D82-9673-4F328909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0C867-DE7E-4298-8255-1D7762DA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EBB4-2874-4B9A-A7FC-D6488E66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1FD07-0662-4A70-A340-DA193DC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75C6C-D191-4B09-8CDD-650480F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80332-E07C-4DBA-8159-A06030F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D8A-E047-4F0E-B3CC-77BBD52493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31FC-09C4-4F2A-9449-7487325C70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4A12-024A-4DCB-A3A3-362CCBA84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75D6-C927-4F8F-A8D5-35AE8F6AD1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03F1-6DE2-45A3-9988-29A2E2287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F31D-0BE2-4167-81C9-71EC97A4EB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4EBD-50B7-4665-8D9E-4AC6A9A5C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898F-8BFB-4939-8676-FE6018A74F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B846-7245-44C2-8567-1DAFEE1365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7F1-4A5C-4864-A05C-63353269E4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F88-FE43-43B5-9D1F-788BDFA77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6146-4564-494B-AFA0-DEFC45A9A1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3793-FC3B-4884-ABC9-3E110C96CF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1711-5F11-47EE-9FA6-77B4D46F15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AC2-E98E-4DB6-BA6F-AA69BA1EF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1C7D-1C90-4293-AEC0-655F5FE238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8B8-94FC-48A0-966B-A3E69E87A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1C9-1BCF-43D1-960E-5978A08CC1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4F3E-79BA-4405-9CC2-83A8DDBE67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BD0B-467B-45E3-AED8-818E005F39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F49-CFB0-4EE4-88C3-AEEB005DF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393-6F10-4012-ACFD-6ADE61CA2E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4CF2-1D07-4895-93D9-80175DA1D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B17-79D7-4DBD-9F16-56F2E9F98A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F06C-48D8-4DF7-8836-2749F0CCD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5643720" y="4786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550080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5357880" y="42861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45709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"/>
          <p:cNvSpPr/>
          <p:nvPr/>
        </p:nvSpPr>
        <p:spPr>
          <a:xfrm>
            <a:off x="45691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5926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"/>
          <p:cNvSpPr/>
          <p:nvPr/>
        </p:nvSpPr>
        <p:spPr>
          <a:xfrm>
            <a:off x="44265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"/>
          <p:cNvSpPr/>
          <p:nvPr/>
        </p:nvSpPr>
        <p:spPr>
          <a:xfrm>
            <a:off x="421200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09T02:29:34Z</dcterms:modified>
  <cp:revision>120</cp:revision>
  <dc:subject/>
  <dc:title>幻灯片 1</dc:title>
</cp:coreProperties>
</file>