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91AB-2180-463C-9E95-FED53C18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F60D-4C52-423A-8DB3-7BC4F1BC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5C1B3-3664-4320-AF7C-800F739C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2D745-678B-4ACF-A1B8-C2C3EE32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F594B-C206-4AE1-B64E-0BB99FC6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4DE04-2886-4DAD-9AA4-2E696757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FFC7D-F6DC-40EC-9E8C-FC476B8B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3950A-1B0A-4999-B814-E0B3A59D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DC0B0-0A13-4310-A285-69939EDD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CFCA5-03DB-43A0-9CC3-30805D1B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159EC-09F7-41B7-8037-5EF6178D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1137B-CBA7-449A-B20A-710024F3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D45E-1549-483E-A63B-59EF4C83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7A70C-4428-4047-ADE0-BB22FD21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DF3CA-0FCE-46AE-B66F-ACEAC98F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BA9BC-E99C-44FC-AA45-1BDC4830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B506D-5D76-416A-9F39-15310D7F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E83BB-BCB8-4832-A057-986E1986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80DD6-3313-4EE8-9F9F-79220D59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78D81-ED0D-4896-86D4-5984D0FB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26771-7D78-4988-B9A4-0C3F8227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63601-70D6-4DBB-A2AE-6FFBD2E8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B89F6-E95B-4F4A-98D5-F9EA2A46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5977-0F45-40F0-9249-4151616B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E5A34-1F01-4FE0-BBFA-F6D35AEE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CB1FA-F39C-4BE8-964E-FCDEEDB9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7DD36-0E08-4F28-8DFA-0B2AB9EA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B6F9C-B93D-405E-8C7E-4C1C66F9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3F1E2-F2B7-4E21-AD28-58E22F41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F95B2-255F-499F-B6C8-5E21A1BB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66D9B-E176-413F-9A34-0D1860CF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D6CFA-4FEA-48AF-8C39-26F548E5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1C3BF-22BD-499E-BC25-5417973A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88EC0-158E-4E6E-A5A4-9A39BE70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52F2-AD60-4527-AA3C-C754D501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6C0B5-95A6-4180-8406-A2ABD850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21B51-AE82-4975-9C94-78C6037E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4F5FA-8D2E-4282-8B20-E7F0B064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DBA01-1D4E-489B-9FC4-5D933C28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5615B-0264-402B-BCE5-FF8FFA9A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64181-628E-40E7-8422-6D6B0392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12202-5FE2-4DAD-B472-697F52D4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95FF8-4187-4815-AB06-6DA3554C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0E33F-B515-4EF6-8001-173DAF9A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F96AD-4ED6-4EBE-94E1-D1DAB201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6D8B-E40F-4EB1-B83B-12E839F2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4F5B2-E45A-4A12-B613-251D016D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87AC5-DB15-4E94-BA40-714106D9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F81183-A91C-420E-B6FD-CE286ECE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12D56-C009-4717-ADA0-C1B632D1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5E3FA-4562-4EFE-88E3-31974624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806783-86F2-462D-A46F-2312E329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CCE0F1-2FBA-432E-900E-E88C864E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C1A340-38D6-499F-8A5F-9C61A65F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2F68EE-821F-495D-A362-9C08BAFA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459174-F1F7-4346-8145-978C38DA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8AA8-A66E-4060-8B82-A542B0D8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485A31-DE1A-4CC7-86C2-6B48AD66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7B9D86-D283-45E1-BE3E-717FBFE3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F31705-BE2C-4A39-9867-160E7A43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EEFDEE-DA34-43D3-8E66-DEB2F341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2B73D4-334D-431F-94CB-F0BD5C51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8B9FD3-D76E-4DA6-AD9D-A88AB9C5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909397-3228-4B9B-8793-E72CDF4E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B727-3071-4512-9894-A5BB16E2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E99F-4C6D-4006-971D-0B8C034F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C760-4516-4B96-99FD-5495DA4C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B680-ED1D-4D6D-8861-8B7A2ACA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0ABA-ECE8-4EE7-923D-6DFB5F21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1D21-1673-4125-B205-8716C59C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7F41-15F6-422A-9702-ECC4F339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373C-986E-4099-A207-1D21D9E3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00CC-A513-4256-9F8B-6273F677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7750-69B3-4146-A6D7-95D4AE0D3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18F76-9BBD-4F2B-B262-DD9B6E71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A1811-AD49-4A15-9A3E-8A98A8B6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8D996-1D7D-4746-B385-426EABFA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4C75D-79D2-47B0-9B52-33D9620D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5CB82-0157-40F0-AF8A-E8BB8791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42D5-2564-4455-A99F-E5686DE4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45EE0-F444-4FC1-95DC-83EDB870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DF42D-269A-4AA3-B5F1-F3872348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0C279-BD33-4976-BBA4-D569314B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47250-829D-4794-8E77-8289AE62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C5043-B3E8-4B70-B366-AA4A00AC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E8AAB-59DA-40ED-B756-167821C6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45FAD-1F44-4CF0-995F-C5D92104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1A2D1-34AF-44C9-AD30-2EBD6865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F95D4-A973-4181-95C4-3D9545D9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638EA-8395-4491-858B-0A8EEC48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BD4F-03D9-48E6-B198-BF56F82E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514D1-B570-46ED-9C35-D8DB779C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42D8B-B01A-4B97-BE4B-3FF0D2CA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CC4F0-21C5-481F-9F35-370BEA72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B73E7-7B8E-4159-9577-3732878B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63269-1CFD-48B9-AE1B-9E3902CB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79718-AACF-4548-9A88-BE772AC6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9EDDC-96D8-4C8D-8F31-F866114D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1B9AF-514E-46D4-9934-D5CA53E3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00A1D-60BB-453B-91CB-4BD9C6BE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23B02-78E2-4A59-B311-208F71B5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F955-F51C-4EA2-ABB4-EB7408A0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66F26-30D1-4976-A03F-B9D79ACF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013E0-1389-411D-B4D5-CD520354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60BC5-3B6A-4D02-B5A4-0FF06F18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954D7-C44C-4155-998D-25293467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44A57-478B-49CB-B711-D9B66F9D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F32F4-2BAF-4843-AFB9-38F80A6E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4809F-C379-4644-B18E-A8806EA9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B055B-C88E-44D9-BD8F-3E058901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F5BEB-4D1A-4FE9-B7C0-C40B5C15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DBA4A-9B8B-44AA-A1AE-3CF6FB8B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3188-DD21-46D6-86FB-B1B2344D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C0F58-EE49-4B06-B23A-E4BC8A9E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036A3-0492-4358-9A64-C072ECB1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41419-B299-4F1E-907B-B8FA5D24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24AED-8225-4A0F-9871-DED9F02D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C00AA-EDA4-4DD6-A773-2D6B8836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5F59F-B0F2-49DE-A9D4-370DB985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368CD-3D70-4613-9ECA-25E1B601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FF86F-8C3C-45A5-BED0-799D83B3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0CA23-4B51-49B4-8F95-8CE474E7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D7BDD-3995-4296-B4CA-D7DDE0AF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565-EB36-4D44-843A-F9D9C305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B6B59-418A-4970-8857-F7D513B8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F40BA-54BB-4F52-AEFB-0B84FCC8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05B64-F79C-4570-BF87-AD0A2435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8EEE4-0CCB-4673-86E8-E558D5BB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5211A-F24D-4AF1-B005-39A21D8C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E76B4-6E8F-4147-989D-BF344BF4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FA3C4-A93C-4F09-B13A-684E9850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55E9D-19B3-48EF-8605-5AD27435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F89F3-501A-4DD6-9E8D-69E86BC4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76F6E-7778-45AA-BC28-C2FCC26A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C49-C2F8-4CEC-83C6-1BC1794E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374E8-B12B-411E-9306-EE89610E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BA17E-96DA-46F9-9089-5E942CC1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58C48-5FF5-4CBD-A3CF-6D9B2C0E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68B44-942C-419F-8DE4-22709A70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B6EDB-FCCB-4B0C-9C1C-A75DAF643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934F4-5EDA-4850-8E9F-11D8ECFD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3C1D8-AF5A-44E9-808C-14E97ABB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21E73-9A6E-41DF-876C-310F37B2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8B795-8FEF-4080-B84E-25EABF80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4FB17-C3D4-4E03-BC46-2291A643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418B-3557-4C6A-A2C8-BE826CE5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0002D-7832-44E5-A8EA-FB6588C9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FBF8E-22A7-4156-BBF7-131FCEB1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32D04-1FE1-45B4-9D1B-4355B0B5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5334A-7F8E-4311-B3EE-1BFCF270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5FC4C-1C3C-4CCF-8F81-BFA454B4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D3E48-74E9-4E96-AC2E-89C6DB37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204B8-3DAC-404F-B5B1-1C5072E3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C75F0-670B-4D94-893C-F5A5ADDF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B27D6-AD06-4661-8EA4-07DA55E7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171B6-3390-4DF8-953C-DBAED89B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80FB-B105-48F3-BC1F-BE49B6206D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CB87-0FE7-4540-8708-AB84CFFAF23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FC65-C8C7-4C23-85C0-4C7E72267C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92CD-1E75-4C89-ACBA-35057D74D4A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0289-5F2D-42A8-8E56-2638F40B90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1793-B5AE-414A-834B-570FC2C3643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0A0E-DBD0-4BD4-B557-B39EC8A7C1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FE3C-7627-4664-A863-13CE6A79694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200B-38C6-4BE1-8CE1-D0055A5E55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AAB2-DDF6-4148-A8B2-45A4E6EE83C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B981-2D60-4BBE-9DE4-48D3BB61EE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93BF-B6B9-4A62-832B-0A342953F45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9379-79F1-4C28-9796-D9E097A3A8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67DE-7604-46A6-8C8E-A885511D123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2BDC-A699-4CD0-A4B5-3CFE328036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738A-DAC8-4F7A-A330-8CE88230A0C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3272-3E53-405D-9AB2-929458AA86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51B3-C237-42D0-BE45-C047FBB1034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482C-2928-4710-924A-D6246ABD91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8051-EE04-4E3D-9D6C-87011A19D19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9B7F-EEDE-4A28-9F20-74449D1B5E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90B8-E963-4A3E-B92B-9FE6C259056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4795-1F28-4212-8130-DD41857802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79C4-AB5A-4516-BCD2-C3EAA0085D1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165A-3E13-47EC-9B28-25863D0546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1071720" y="1857240"/>
            <a:ext cx="4857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2"/>
          <p:cNvSpPr/>
          <p:nvPr/>
        </p:nvSpPr>
        <p:spPr>
          <a:xfrm>
            <a:off x="0" y="6500880"/>
            <a:ext cx="735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直接连接符 6"/>
          <p:cNvSpPr/>
          <p:nvPr/>
        </p:nvSpPr>
        <p:spPr>
          <a:xfrm>
            <a:off x="1143000" y="2357280"/>
            <a:ext cx="300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图片 16" descr="2.png"/>
          <p:cNvPicPr/>
          <p:nvPr/>
        </p:nvPicPr>
        <p:blipFill>
          <a:blip r:embed="rId2"/>
          <a:stretch/>
        </p:blipFill>
        <p:spPr>
          <a:xfrm>
            <a:off x="3097080" y="1571760"/>
            <a:ext cx="3975120" cy="4127400"/>
          </a:xfrm>
          <a:prstGeom prst="rect">
            <a:avLst/>
          </a:prstGeom>
          <a:ln w="0">
            <a:noFill/>
          </a:ln>
        </p:spPr>
      </p:pic>
      <p:pic>
        <p:nvPicPr>
          <p:cNvPr id="642" name="图片 15" descr="1.png"/>
          <p:cNvPicPr/>
          <p:nvPr/>
        </p:nvPicPr>
        <p:blipFill>
          <a:blip r:embed="rId3"/>
          <a:stretch/>
        </p:blipFill>
        <p:spPr>
          <a:xfrm>
            <a:off x="2752560" y="1143000"/>
            <a:ext cx="2487600" cy="2705040"/>
          </a:xfrm>
          <a:prstGeom prst="rect">
            <a:avLst/>
          </a:prstGeom>
          <a:ln w="0">
            <a:noFill/>
          </a:ln>
        </p:spPr>
      </p:pic>
      <p:sp>
        <p:nvSpPr>
          <p:cNvPr id="64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矩形 6"/>
          <p:cNvSpPr/>
          <p:nvPr/>
        </p:nvSpPr>
        <p:spPr>
          <a:xfrm>
            <a:off x="578880" y="357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13"/>
          <p:cNvSpPr/>
          <p:nvPr/>
        </p:nvSpPr>
        <p:spPr>
          <a:xfrm>
            <a:off x="54979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矩形 14"/>
          <p:cNvSpPr/>
          <p:nvPr/>
        </p:nvSpPr>
        <p:spPr>
          <a:xfrm>
            <a:off x="34977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5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16" descr="2.png"/>
          <p:cNvPicPr/>
          <p:nvPr/>
        </p:nvPicPr>
        <p:blipFill>
          <a:blip r:embed="rId2"/>
          <a:stretch/>
        </p:blipFill>
        <p:spPr>
          <a:xfrm>
            <a:off x="2963880" y="2500200"/>
            <a:ext cx="1395360" cy="1873440"/>
          </a:xfrm>
          <a:prstGeom prst="rect">
            <a:avLst/>
          </a:prstGeom>
          <a:ln w="0">
            <a:noFill/>
          </a:ln>
        </p:spPr>
      </p:pic>
      <p:sp>
        <p:nvSpPr>
          <p:cNvPr id="53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20"/>
          <p:cNvSpPr/>
          <p:nvPr/>
        </p:nvSpPr>
        <p:spPr>
          <a:xfrm>
            <a:off x="48549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21"/>
          <p:cNvSpPr/>
          <p:nvPr/>
        </p:nvSpPr>
        <p:spPr>
          <a:xfrm>
            <a:off x="47851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22"/>
          <p:cNvSpPr/>
          <p:nvPr/>
        </p:nvSpPr>
        <p:spPr>
          <a:xfrm>
            <a:off x="485676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图片 19" descr="图片12.png"/>
          <p:cNvPicPr/>
          <p:nvPr/>
        </p:nvPicPr>
        <p:blipFill>
          <a:blip r:embed="rId3"/>
          <a:stretch/>
        </p:blipFill>
        <p:spPr>
          <a:xfrm>
            <a:off x="2928960" y="857160"/>
            <a:ext cx="1490760" cy="186840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20" descr="图片12.png"/>
          <p:cNvPicPr/>
          <p:nvPr/>
        </p:nvPicPr>
        <p:blipFill>
          <a:blip r:embed="rId4"/>
          <a:stretch/>
        </p:blipFill>
        <p:spPr>
          <a:xfrm>
            <a:off x="2928960" y="4143240"/>
            <a:ext cx="1490760" cy="18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图片 17" descr="3.png"/>
          <p:cNvPicPr/>
          <p:nvPr/>
        </p:nvPicPr>
        <p:blipFill>
          <a:blip r:embed="rId2"/>
          <a:stretch/>
        </p:blipFill>
        <p:spPr>
          <a:xfrm>
            <a:off x="1135080" y="3403440"/>
            <a:ext cx="7418520" cy="49392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15" descr="1.png"/>
          <p:cNvPicPr/>
          <p:nvPr/>
        </p:nvPicPr>
        <p:blipFill>
          <a:blip r:embed="rId3"/>
          <a:stretch/>
        </p:blipFill>
        <p:spPr>
          <a:xfrm>
            <a:off x="1563840" y="3484440"/>
            <a:ext cx="347400" cy="34776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16" descr="2.png"/>
          <p:cNvPicPr/>
          <p:nvPr/>
        </p:nvPicPr>
        <p:blipFill>
          <a:blip r:embed="rId4"/>
          <a:stretch/>
        </p:blipFill>
        <p:spPr>
          <a:xfrm>
            <a:off x="928800" y="1735200"/>
            <a:ext cx="1778040" cy="173988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18" descr="1.png"/>
          <p:cNvPicPr/>
          <p:nvPr/>
        </p:nvPicPr>
        <p:blipFill>
          <a:blip r:embed="rId5"/>
          <a:stretch/>
        </p:blipFill>
        <p:spPr>
          <a:xfrm>
            <a:off x="2992320" y="3475080"/>
            <a:ext cx="347760" cy="34776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19" descr="1.png"/>
          <p:cNvPicPr/>
          <p:nvPr/>
        </p:nvPicPr>
        <p:blipFill>
          <a:blip r:embed="rId6"/>
          <a:stretch/>
        </p:blipFill>
        <p:spPr>
          <a:xfrm>
            <a:off x="4430880" y="3475080"/>
            <a:ext cx="347400" cy="34776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20" descr="1.png"/>
          <p:cNvPicPr/>
          <p:nvPr/>
        </p:nvPicPr>
        <p:blipFill>
          <a:blip r:embed="rId7"/>
          <a:stretch/>
        </p:blipFill>
        <p:spPr>
          <a:xfrm>
            <a:off x="5931000" y="3475080"/>
            <a:ext cx="347400" cy="34776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21" descr="1.png"/>
          <p:cNvPicPr/>
          <p:nvPr/>
        </p:nvPicPr>
        <p:blipFill>
          <a:blip r:embed="rId8"/>
          <a:stretch/>
        </p:blipFill>
        <p:spPr>
          <a:xfrm>
            <a:off x="7350120" y="3475080"/>
            <a:ext cx="347760" cy="347760"/>
          </a:xfrm>
          <a:prstGeom prst="rect">
            <a:avLst/>
          </a:prstGeom>
          <a:ln w="0">
            <a:noFill/>
          </a:ln>
        </p:spPr>
      </p:pic>
      <p:pic>
        <p:nvPicPr>
          <p:cNvPr id="554" name="图片 22" descr="2.png"/>
          <p:cNvPicPr/>
          <p:nvPr/>
        </p:nvPicPr>
        <p:blipFill>
          <a:blip r:embed="rId9"/>
          <a:stretch/>
        </p:blipFill>
        <p:spPr>
          <a:xfrm>
            <a:off x="2278080" y="3832200"/>
            <a:ext cx="1778040" cy="1739880"/>
          </a:xfrm>
          <a:prstGeom prst="rect">
            <a:avLst/>
          </a:prstGeom>
          <a:ln w="0">
            <a:noFill/>
          </a:ln>
        </p:spPr>
      </p:pic>
      <p:pic>
        <p:nvPicPr>
          <p:cNvPr id="555" name="图片 23" descr="2.png"/>
          <p:cNvPicPr/>
          <p:nvPr/>
        </p:nvPicPr>
        <p:blipFill>
          <a:blip r:embed="rId10"/>
          <a:stretch/>
        </p:blipFill>
        <p:spPr>
          <a:xfrm>
            <a:off x="3706920" y="1760400"/>
            <a:ext cx="1778040" cy="173988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24" descr="2.png"/>
          <p:cNvPicPr/>
          <p:nvPr/>
        </p:nvPicPr>
        <p:blipFill>
          <a:blip r:embed="rId11"/>
          <a:stretch/>
        </p:blipFill>
        <p:spPr>
          <a:xfrm>
            <a:off x="6635880" y="1735200"/>
            <a:ext cx="1778040" cy="173988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25" descr="2.png"/>
          <p:cNvPicPr/>
          <p:nvPr/>
        </p:nvPicPr>
        <p:blipFill>
          <a:blip r:embed="rId12"/>
          <a:stretch/>
        </p:blipFill>
        <p:spPr>
          <a:xfrm>
            <a:off x="5207040" y="3832200"/>
            <a:ext cx="1778040" cy="1739880"/>
          </a:xfrm>
          <a:prstGeom prst="rect">
            <a:avLst/>
          </a:prstGeom>
          <a:ln w="0">
            <a:noFill/>
          </a:ln>
        </p:spPr>
      </p:pic>
      <p:sp>
        <p:nvSpPr>
          <p:cNvPr id="55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12"/>
          <p:cNvSpPr/>
          <p:nvPr/>
        </p:nvSpPr>
        <p:spPr>
          <a:xfrm>
            <a:off x="56408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13"/>
          <p:cNvSpPr/>
          <p:nvPr/>
        </p:nvSpPr>
        <p:spPr>
          <a:xfrm>
            <a:off x="12117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14"/>
          <p:cNvSpPr/>
          <p:nvPr/>
        </p:nvSpPr>
        <p:spPr>
          <a:xfrm>
            <a:off x="27118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15"/>
          <p:cNvSpPr/>
          <p:nvPr/>
        </p:nvSpPr>
        <p:spPr>
          <a:xfrm>
            <a:off x="69267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27"/>
          <p:cNvSpPr/>
          <p:nvPr/>
        </p:nvSpPr>
        <p:spPr>
          <a:xfrm>
            <a:off x="406908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图片 11" descr="1.png"/>
          <p:cNvPicPr/>
          <p:nvPr/>
        </p:nvPicPr>
        <p:blipFill>
          <a:blip r:embed="rId2"/>
          <a:stretch/>
        </p:blipFill>
        <p:spPr>
          <a:xfrm>
            <a:off x="2521080" y="1863720"/>
            <a:ext cx="1917720" cy="1989000"/>
          </a:xfrm>
          <a:prstGeom prst="rect">
            <a:avLst/>
          </a:prstGeom>
          <a:ln w="0">
            <a:noFill/>
          </a:ln>
        </p:spPr>
      </p:pic>
      <p:pic>
        <p:nvPicPr>
          <p:cNvPr id="569" name="图片 12" descr="2.png"/>
          <p:cNvPicPr/>
          <p:nvPr/>
        </p:nvPicPr>
        <p:blipFill>
          <a:blip r:embed="rId3"/>
          <a:stretch/>
        </p:blipFill>
        <p:spPr>
          <a:xfrm>
            <a:off x="4152960" y="1138320"/>
            <a:ext cx="2028600" cy="2004840"/>
          </a:xfrm>
          <a:prstGeom prst="rect">
            <a:avLst/>
          </a:prstGeom>
          <a:ln w="0">
            <a:noFill/>
          </a:ln>
        </p:spPr>
      </p:pic>
      <p:pic>
        <p:nvPicPr>
          <p:cNvPr id="570" name="图片 13" descr="1.png"/>
          <p:cNvPicPr/>
          <p:nvPr/>
        </p:nvPicPr>
        <p:blipFill>
          <a:blip r:embed="rId4"/>
          <a:stretch/>
        </p:blipFill>
        <p:spPr>
          <a:xfrm>
            <a:off x="5081760" y="2995560"/>
            <a:ext cx="1919160" cy="1989360"/>
          </a:xfrm>
          <a:prstGeom prst="rect">
            <a:avLst/>
          </a:prstGeom>
          <a:ln w="0">
            <a:noFill/>
          </a:ln>
        </p:spPr>
      </p:pic>
      <p:pic>
        <p:nvPicPr>
          <p:cNvPr id="571" name="图片 14" descr="2.png"/>
          <p:cNvPicPr/>
          <p:nvPr/>
        </p:nvPicPr>
        <p:blipFill>
          <a:blip r:embed="rId5"/>
          <a:stretch/>
        </p:blipFill>
        <p:spPr>
          <a:xfrm>
            <a:off x="3367080" y="3710160"/>
            <a:ext cx="2028960" cy="2004840"/>
          </a:xfrm>
          <a:prstGeom prst="rect">
            <a:avLst/>
          </a:prstGeom>
          <a:ln w="0">
            <a:noFill/>
          </a:ln>
        </p:spPr>
      </p:pic>
      <p:sp>
        <p:nvSpPr>
          <p:cNvPr id="57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10"/>
          <p:cNvSpPr/>
          <p:nvPr/>
        </p:nvSpPr>
        <p:spPr>
          <a:xfrm>
            <a:off x="22831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11"/>
          <p:cNvSpPr/>
          <p:nvPr/>
        </p:nvSpPr>
        <p:spPr>
          <a:xfrm>
            <a:off x="57837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15"/>
          <p:cNvSpPr/>
          <p:nvPr/>
        </p:nvSpPr>
        <p:spPr>
          <a:xfrm>
            <a:off x="39978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16"/>
          <p:cNvSpPr/>
          <p:nvPr/>
        </p:nvSpPr>
        <p:spPr>
          <a:xfrm>
            <a:off x="45691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图片 19" descr="2.png"/>
          <p:cNvPicPr/>
          <p:nvPr/>
        </p:nvPicPr>
        <p:blipFill>
          <a:blip r:embed="rId2"/>
          <a:stretch/>
        </p:blipFill>
        <p:spPr>
          <a:xfrm>
            <a:off x="824040" y="1928880"/>
            <a:ext cx="2819160" cy="297180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18" descr="1.png"/>
          <p:cNvPicPr/>
          <p:nvPr/>
        </p:nvPicPr>
        <p:blipFill>
          <a:blip r:embed="rId3"/>
          <a:stretch/>
        </p:blipFill>
        <p:spPr>
          <a:xfrm>
            <a:off x="2786040" y="1428840"/>
            <a:ext cx="3683160" cy="3720960"/>
          </a:xfrm>
          <a:prstGeom prst="rect">
            <a:avLst/>
          </a:prstGeom>
          <a:ln w="0">
            <a:noFill/>
          </a:ln>
        </p:spPr>
      </p:pic>
      <p:pic>
        <p:nvPicPr>
          <p:cNvPr id="583" name="图片 20" descr="2.png"/>
          <p:cNvPicPr/>
          <p:nvPr/>
        </p:nvPicPr>
        <p:blipFill>
          <a:blip r:embed="rId4"/>
          <a:stretch/>
        </p:blipFill>
        <p:spPr>
          <a:xfrm>
            <a:off x="5753160" y="1932120"/>
            <a:ext cx="2819520" cy="2971800"/>
          </a:xfrm>
          <a:prstGeom prst="rect">
            <a:avLst/>
          </a:prstGeom>
          <a:ln w="0">
            <a:noFill/>
          </a:ln>
        </p:spPr>
      </p:pic>
      <p:sp>
        <p:nvSpPr>
          <p:cNvPr id="58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15"/>
          <p:cNvSpPr/>
          <p:nvPr/>
        </p:nvSpPr>
        <p:spPr>
          <a:xfrm>
            <a:off x="69980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17"/>
          <p:cNvSpPr/>
          <p:nvPr/>
        </p:nvSpPr>
        <p:spPr>
          <a:xfrm>
            <a:off x="15688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18"/>
          <p:cNvSpPr/>
          <p:nvPr/>
        </p:nvSpPr>
        <p:spPr>
          <a:xfrm>
            <a:off x="42120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图片 13" descr="1.png"/>
          <p:cNvPicPr/>
          <p:nvPr/>
        </p:nvPicPr>
        <p:blipFill>
          <a:blip r:embed="rId2"/>
          <a:stretch/>
        </p:blipFill>
        <p:spPr>
          <a:xfrm>
            <a:off x="2786040" y="1492200"/>
            <a:ext cx="2006640" cy="2158920"/>
          </a:xfrm>
          <a:prstGeom prst="rect">
            <a:avLst/>
          </a:prstGeom>
          <a:ln w="0">
            <a:noFill/>
          </a:ln>
        </p:spPr>
      </p:pic>
      <p:pic>
        <p:nvPicPr>
          <p:cNvPr id="593" name="图片 14" descr="2.png"/>
          <p:cNvPicPr/>
          <p:nvPr/>
        </p:nvPicPr>
        <p:blipFill>
          <a:blip r:embed="rId3"/>
          <a:stretch/>
        </p:blipFill>
        <p:spPr>
          <a:xfrm>
            <a:off x="4834080" y="1428840"/>
            <a:ext cx="1955520" cy="2006640"/>
          </a:xfrm>
          <a:prstGeom prst="rect">
            <a:avLst/>
          </a:prstGeom>
          <a:ln w="0">
            <a:noFill/>
          </a:ln>
        </p:spPr>
      </p:pic>
      <p:pic>
        <p:nvPicPr>
          <p:cNvPr id="594" name="图片 15" descr="1.png"/>
          <p:cNvPicPr/>
          <p:nvPr/>
        </p:nvPicPr>
        <p:blipFill>
          <a:blip r:embed="rId4"/>
          <a:stretch/>
        </p:blipFill>
        <p:spPr>
          <a:xfrm>
            <a:off x="4861080" y="3413160"/>
            <a:ext cx="2006280" cy="215892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16" descr="2.png"/>
          <p:cNvPicPr/>
          <p:nvPr/>
        </p:nvPicPr>
        <p:blipFill>
          <a:blip r:embed="rId5"/>
          <a:stretch/>
        </p:blipFill>
        <p:spPr>
          <a:xfrm>
            <a:off x="2860560" y="3637080"/>
            <a:ext cx="1955880" cy="2006640"/>
          </a:xfrm>
          <a:prstGeom prst="rect">
            <a:avLst/>
          </a:prstGeom>
          <a:ln w="0">
            <a:noFill/>
          </a:ln>
        </p:spPr>
      </p:pic>
      <p:sp>
        <p:nvSpPr>
          <p:cNvPr id="59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6"/>
          <p:cNvSpPr/>
          <p:nvPr/>
        </p:nvSpPr>
        <p:spPr>
          <a:xfrm>
            <a:off x="59112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11"/>
          <p:cNvSpPr/>
          <p:nvPr/>
        </p:nvSpPr>
        <p:spPr>
          <a:xfrm>
            <a:off x="2711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12"/>
          <p:cNvSpPr/>
          <p:nvPr/>
        </p:nvSpPr>
        <p:spPr>
          <a:xfrm>
            <a:off x="3069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13"/>
          <p:cNvSpPr/>
          <p:nvPr/>
        </p:nvSpPr>
        <p:spPr>
          <a:xfrm>
            <a:off x="5569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14"/>
          <p:cNvSpPr/>
          <p:nvPr/>
        </p:nvSpPr>
        <p:spPr>
          <a:xfrm>
            <a:off x="53550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图片 15" descr="3.png"/>
          <p:cNvPicPr/>
          <p:nvPr/>
        </p:nvPicPr>
        <p:blipFill>
          <a:blip r:embed="rId2"/>
          <a:stretch/>
        </p:blipFill>
        <p:spPr>
          <a:xfrm>
            <a:off x="5226120" y="1285920"/>
            <a:ext cx="2489040" cy="264168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16" descr="1.png"/>
          <p:cNvPicPr/>
          <p:nvPr/>
        </p:nvPicPr>
        <p:blipFill>
          <a:blip r:embed="rId3"/>
          <a:stretch/>
        </p:blipFill>
        <p:spPr>
          <a:xfrm>
            <a:off x="4226040" y="2498760"/>
            <a:ext cx="2643120" cy="243216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14" descr="2.png"/>
          <p:cNvPicPr/>
          <p:nvPr/>
        </p:nvPicPr>
        <p:blipFill>
          <a:blip r:embed="rId4"/>
          <a:stretch/>
        </p:blipFill>
        <p:spPr>
          <a:xfrm>
            <a:off x="3225960" y="1427040"/>
            <a:ext cx="2501640" cy="2514600"/>
          </a:xfrm>
          <a:prstGeom prst="rect">
            <a:avLst/>
          </a:prstGeom>
          <a:ln w="0">
            <a:noFill/>
          </a:ln>
        </p:spPr>
      </p:pic>
      <p:pic>
        <p:nvPicPr>
          <p:cNvPr id="608" name="图片 13" descr="1.png"/>
          <p:cNvPicPr/>
          <p:nvPr/>
        </p:nvPicPr>
        <p:blipFill>
          <a:blip r:embed="rId5"/>
          <a:stretch/>
        </p:blipFill>
        <p:spPr>
          <a:xfrm>
            <a:off x="2082960" y="2498760"/>
            <a:ext cx="2705040" cy="2489040"/>
          </a:xfrm>
          <a:prstGeom prst="rect">
            <a:avLst/>
          </a:prstGeom>
          <a:ln w="0">
            <a:noFill/>
          </a:ln>
        </p:spPr>
      </p:pic>
      <p:sp>
        <p:nvSpPr>
          <p:cNvPr id="60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11"/>
          <p:cNvSpPr/>
          <p:nvPr/>
        </p:nvSpPr>
        <p:spPr>
          <a:xfrm>
            <a:off x="22118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12"/>
          <p:cNvSpPr/>
          <p:nvPr/>
        </p:nvSpPr>
        <p:spPr>
          <a:xfrm>
            <a:off x="39265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13"/>
          <p:cNvSpPr/>
          <p:nvPr/>
        </p:nvSpPr>
        <p:spPr>
          <a:xfrm>
            <a:off x="47836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17"/>
          <p:cNvSpPr/>
          <p:nvPr/>
        </p:nvSpPr>
        <p:spPr>
          <a:xfrm>
            <a:off x="614088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图片 13" descr="1.png"/>
          <p:cNvPicPr/>
          <p:nvPr/>
        </p:nvPicPr>
        <p:blipFill>
          <a:blip r:embed="rId2"/>
          <a:stretch/>
        </p:blipFill>
        <p:spPr>
          <a:xfrm>
            <a:off x="1932120" y="642960"/>
            <a:ext cx="5854680" cy="5892840"/>
          </a:xfrm>
          <a:prstGeom prst="rect">
            <a:avLst/>
          </a:prstGeom>
          <a:ln w="0">
            <a:noFill/>
          </a:ln>
        </p:spPr>
      </p:pic>
      <p:sp>
        <p:nvSpPr>
          <p:cNvPr id="61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10"/>
          <p:cNvSpPr/>
          <p:nvPr/>
        </p:nvSpPr>
        <p:spPr>
          <a:xfrm>
            <a:off x="21405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11"/>
          <p:cNvSpPr/>
          <p:nvPr/>
        </p:nvSpPr>
        <p:spPr>
          <a:xfrm>
            <a:off x="521208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12"/>
          <p:cNvSpPr/>
          <p:nvPr/>
        </p:nvSpPr>
        <p:spPr>
          <a:xfrm>
            <a:off x="21405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13"/>
          <p:cNvSpPr/>
          <p:nvPr/>
        </p:nvSpPr>
        <p:spPr>
          <a:xfrm>
            <a:off x="7140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图片 14" descr="2.png"/>
          <p:cNvPicPr/>
          <p:nvPr/>
        </p:nvPicPr>
        <p:blipFill>
          <a:blip r:embed="rId3"/>
          <a:stretch/>
        </p:blipFill>
        <p:spPr>
          <a:xfrm>
            <a:off x="1932120" y="642960"/>
            <a:ext cx="5854680" cy="5892840"/>
          </a:xfrm>
          <a:prstGeom prst="rect">
            <a:avLst/>
          </a:prstGeom>
          <a:ln w="0">
            <a:noFill/>
          </a:ln>
        </p:spPr>
      </p:pic>
      <p:sp>
        <p:nvSpPr>
          <p:cNvPr id="629" name="矩形 15"/>
          <p:cNvSpPr/>
          <p:nvPr/>
        </p:nvSpPr>
        <p:spPr>
          <a:xfrm>
            <a:off x="5426640" y="114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图片 15" descr="1.png"/>
          <p:cNvPicPr/>
          <p:nvPr/>
        </p:nvPicPr>
        <p:blipFill>
          <a:blip r:embed="rId2"/>
          <a:stretch/>
        </p:blipFill>
        <p:spPr>
          <a:xfrm>
            <a:off x="1928880" y="531720"/>
            <a:ext cx="5854680" cy="5969160"/>
          </a:xfrm>
          <a:prstGeom prst="rect">
            <a:avLst/>
          </a:prstGeom>
          <a:ln w="0">
            <a:noFill/>
          </a:ln>
        </p:spPr>
      </p:pic>
      <p:pic>
        <p:nvPicPr>
          <p:cNvPr id="631" name="图片 16" descr="2.png"/>
          <p:cNvPicPr/>
          <p:nvPr/>
        </p:nvPicPr>
        <p:blipFill>
          <a:blip r:embed="rId3"/>
          <a:stretch/>
        </p:blipFill>
        <p:spPr>
          <a:xfrm>
            <a:off x="3713040" y="2230560"/>
            <a:ext cx="2476800" cy="2450880"/>
          </a:xfrm>
          <a:prstGeom prst="rect">
            <a:avLst/>
          </a:prstGeom>
          <a:ln w="0">
            <a:noFill/>
          </a:ln>
        </p:spPr>
      </p:pic>
      <p:sp>
        <p:nvSpPr>
          <p:cNvPr id="63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6"/>
          <p:cNvSpPr/>
          <p:nvPr/>
        </p:nvSpPr>
        <p:spPr>
          <a:xfrm>
            <a:off x="650520" y="357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13"/>
          <p:cNvSpPr/>
          <p:nvPr/>
        </p:nvSpPr>
        <p:spPr>
          <a:xfrm>
            <a:off x="435492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14"/>
          <p:cNvSpPr/>
          <p:nvPr/>
        </p:nvSpPr>
        <p:spPr>
          <a:xfrm>
            <a:off x="64267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15"/>
          <p:cNvSpPr/>
          <p:nvPr/>
        </p:nvSpPr>
        <p:spPr>
          <a:xfrm>
            <a:off x="4426560" y="5572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16"/>
          <p:cNvSpPr/>
          <p:nvPr/>
        </p:nvSpPr>
        <p:spPr>
          <a:xfrm>
            <a:off x="18547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2-10T02:39:43Z</dcterms:modified>
  <cp:revision>286</cp:revision>
  <dc:subject/>
  <dc:title>幻灯片 1</dc:title>
</cp:coreProperties>
</file>