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1A26-CE42-4637-8104-45364AB87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F77C-C89E-4CD4-8FAB-D3C3FC989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E7FF-A02C-41E9-9028-D4A2F8C9B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D06A-7775-4B41-9F79-2F1A4BF82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1042-98AD-41C4-A13B-4D1134F96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54C8-60D6-42BD-8B41-0C2329108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1706-B697-4C03-87AF-AE9EDA7E9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0999-98CE-4EEB-8F3D-720CE6287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BE9D-BFAE-495D-BDFF-D08390A57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8E54-91C2-4CC7-92D7-AB24E2758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97B3-F069-4084-8996-A43AAC178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78D5-22D6-4FAC-B17E-B6DD818A0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3BE-FAA2-4493-AAAD-DF5BFBAE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50F-856C-406C-89DB-6BEBAF40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E9224-44F0-4326-9C63-D4F11EF8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78938-826C-42A5-914D-DD3D9F0B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6152D-DCD9-4003-8A5F-A9363693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7ACA0-7C5A-4FAE-9399-33CE6B62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E2031-6ECB-4229-AFC1-F4B1BE01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D56DB-617F-4372-9C9E-D03ADAE3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1E5EF-FBDA-46A1-A738-F5675830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EA4EC-F9BC-4D22-8598-86E52C67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1B94F-3907-4740-ADCC-CD49F6EB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22B36-D447-4210-8927-75E053DE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D3F-68E8-4226-9B7E-69FF9D8E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3F0EA-7981-4280-9CD8-EAC6359C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CC99E-86FF-427F-A11D-9E1536F3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E0453-7B36-494E-BAC9-6841A5A6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77EC6-C20C-495D-86F2-BDB945B6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5E13E-F251-46D4-9880-657AB0A1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8785A-5DBF-434F-84AC-00CEC159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662BC-E95E-474F-8EFB-C3976453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6BDD0-959E-488C-8E31-3F9E0C29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43426-A92A-4866-A780-5F89D92D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44D74-6092-4368-B066-F7624D9A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E8B-D88F-4D97-A7FD-19EC77D6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2B05C-57A4-477E-BB0C-9EC81C58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8DF43-38C1-47FB-A0A8-6BC54CCF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F1FF9-BEE9-4143-953B-BDEE6429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043F1-9BE5-40D8-9636-089143DB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A5001-EAC8-44D8-91D6-0548F41B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3D24C-0EE9-44C7-8F6D-08476872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D4FD3-59FE-41FF-8D0A-3E9A0AFB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3BEA7-6D24-4C2F-B60B-85B95C7C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7FEDA-1283-4E87-997F-B28224DE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FE289-C723-445A-AA6E-8BFA95D5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74C8-48A7-486D-A0A8-69278BF6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8FB64-EE27-4404-A829-4F5A7420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F3B37-2BAF-474C-A5EF-3F20BC6B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F4A49-526C-480E-AA8A-552A04E2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202CE-2274-4541-9566-A0843B5B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DF0BC-EE5A-4410-B76D-DB31AFD0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B5B09-2688-4B7B-BA7D-8E262CBF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591F8-F753-44F6-AE70-7E6175A1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241D7-0B5E-4D06-B64D-4E633A07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A8582-D10F-44EC-8C41-2CE2F66F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8C9AF-CDCD-4942-970D-57DA6AB3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EC33-2D9E-4EE3-9F0C-FA18C224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31A8E-BA46-4A15-BD16-84FD6838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FF295-4478-49FB-A4B3-551C915B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4F971-FD3C-421B-AC7E-F8963345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148A6-F080-4D22-8B8C-EDCED031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29646-EA94-488A-84D0-BA0246F6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61976-7EE6-4BEF-ACC1-6EB3C008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B650F-474B-49E2-9793-F03708FB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5735C-C4A3-40C2-BD27-50FB1C88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3B3E8-8B4E-43A2-A3A6-ACDAE8AD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68B50-5FCD-455A-AD0F-CE6F7BD8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7EDF-1C10-4883-A572-EB22BDC5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8C752-48F1-49F6-926E-EBBDFF48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19E4F-33BB-413D-8020-E9DFBC7D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897F2-7415-4A17-8E74-95523B9C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458A9-632D-4F70-BB93-A77CBEED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8CCC2-91E6-4EA2-B88F-A6DA5C24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D7263-D6CA-429A-9042-FBB52530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41C11-1673-428D-8A04-366F712C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1799-B254-467D-B2E6-C22E3661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177A-D100-4FE2-B009-E76B5544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9265-7200-4C33-A4A8-B1DAB774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A7E3-32C0-4BD7-A591-4D601874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829-E625-4E7F-AB1F-59460836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9BEE-AACB-4796-AC29-CC230C98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4165-6A7A-4B37-9A4E-B4F52481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91E0-7E21-411D-9B81-DED25123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77CD-198C-4893-A714-A0498AF2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3470-4C44-4C18-9951-615C0783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0DF5-99AA-4494-8185-644F67A2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6D828-5CBB-4EFD-9D5B-BF963931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3C77E-5992-44B1-B40A-B23DB8A7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E50B-0D39-441B-8B30-9EF8071A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FC45-AB11-4B7C-8EC9-BE76EFA1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15B-97F3-40D1-B9A4-AC8608DD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9E1E-2D8A-4927-8550-63C16669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689A-4216-40EF-84A1-CBE6B419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BB5AE-4AB8-4CFE-895B-E01FABC5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6F28-921A-4B7D-BD3B-7162BBA9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F7995-6795-4573-919C-0B8F6EF6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B26FA-F609-4FFA-BD54-95B0081A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83F32-EE3F-42D8-9869-EAC138C2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B1315-3ACB-4C3E-9537-334073DD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0EA8-CE5E-48A3-A8B6-FAF756E4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34731-8BBD-447A-A40D-CFDB4F14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A89-DC68-4949-BDE8-54F18EE7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260A0-F8A2-45BE-8900-2544EA66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5736E-3A10-41F6-AE74-C4182524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95EE8-CD60-4BF4-BD6A-E616BC9C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05D3F-010D-43EE-8348-E82142E8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9429C-5ED8-40C7-B0D1-502D37F7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A5D56-1D33-4085-826B-745B1ACB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05EF7-834C-499E-9293-A1C7DF36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95D3-25F5-4349-8389-95F08898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BC491-0F8C-4F05-95F0-BF4E64CA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B3506-9F01-4B2D-8E18-A7DCF7C1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EF2-B9F4-4132-AB45-179FBEC6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B9AD2-040C-4C24-913C-78CDC516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24A40-3FAA-4283-81A6-8472F3A7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FFCEF-77C2-4980-9CB4-88212177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2CF3C-A95D-47F9-AD63-64845429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F2BD-6147-4F3D-B032-2CE296F1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D0C55-8E08-4859-83E3-06A06353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F622D-C689-487A-9D61-F914E1D6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96083-32D6-486B-8CBC-AC133C8D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9479B-5E8F-43C2-B2D1-A2087A7C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BFA9C-A2A5-473C-97E7-4D703A9C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219-6AAF-4242-A89F-2435A562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61328-DC93-4658-8E78-26E0954F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FF1E6-A007-4FED-8786-7D621EC7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44D5B-1711-44D4-802A-1B213B90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9A9BF-5779-45B8-A5C6-7401F4AB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A647F-05E4-4FE2-939E-B0037D4F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15024-922D-4A07-AC99-3F4BD26C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7AE08-6D0E-42E6-8632-493815E8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C30CC-C8B6-4A9F-9B55-5961B766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D381C-2C08-4F09-AD14-C6897F42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7DE87-4501-485B-8B7F-D84778CA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F25-8949-480D-82C8-16AE5798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54617-7E82-4996-9C2B-78870DF0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6C5B5-39DC-4D6E-87B8-67AE7269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48F7C-F655-431D-9DA8-40309AD8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26066-7260-4CE4-A293-CA1B18C4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5DCF2-309A-4250-A511-D7E4F05F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D5431-1EAC-49F0-93C4-68E8742B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37F77-B818-49AB-9692-A6DB0BFA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FB090-1E43-45C6-9032-FD7C1477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9BD34-C6E7-4C45-BF4A-6D82A444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844CF-405A-4208-92F8-987EF563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D20-C334-4A1E-932F-B947C50B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D724B-9B0B-460F-9CCB-A477F5E3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BAC16-9EC7-4A13-8A4D-BD1916E4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16C20-A876-4F53-9E3C-F7819D70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D4247-475D-4EB2-9F88-728EF546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B5ACB-88F1-4A52-BE61-D28D39E9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4B799-6A05-4E33-8E5C-E89A70BB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B1C24-BF1F-46CE-A14E-5F1BD44A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14614-4E68-4185-8BAC-FF13EF7E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1CCF6-024E-43B7-9864-5AFDA9E1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C442E-CBEB-429A-ACBE-8180109C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2B1-0ACA-41A4-83F1-9187624D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E6516-C0C4-48A5-9AA9-FEC7ACB8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61DBE-793E-4402-BC80-83CC7B22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FFE2D-6091-4809-A09F-A58FF23D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09A95-7125-4E21-BAC7-0D6F72FE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7976C-2FA1-4273-A57C-F0A780FB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A6B9D-77E1-431F-9239-DF4C69F9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AD0AB-3206-4EE4-9AA2-BC489B7E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42539-1BFB-4AC2-9357-6CA0BBDC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6E7E2-E9D0-47C1-9A1C-0E14D722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FB82F-50C2-46E0-9F5E-0223FC1C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39E9-25A5-413E-AA14-9CFDD9261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A914-F006-4BED-918F-B8521B985A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EA5E-CF5F-4F7A-B3B8-386109F0D8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0B9E-76DB-4D3B-A765-D9DD06FA61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FC4A-DA58-4510-BE24-7F9362E302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0888-C83F-44EB-BD0C-B410CCD4F61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F840-9067-4D2C-AEAB-9E3887947F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9658-7D65-4080-BB9A-D77BFDD187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D01E-A129-48A0-8CF5-D4BF168122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E672-9CED-4F4C-ABE7-E938074723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5674-F3FF-4BFD-BB14-15F7EF92C6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BC50-E358-4F83-A8D9-457FE93974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4CD9-327C-44EA-818C-C2EFC66C70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4368-D053-45B2-A47E-F25F462CDF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B84E-4B23-411E-A004-E158FBE04A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D055-6DBD-4DDB-9BC8-E99F74465B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5340-BC5F-44F5-BF36-077B75A41C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8C32-38DB-45C8-B6A0-505CE4ADA8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E88C-F3F6-4198-9C57-5C2B6D339F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C8A0-D51C-4D85-AEF4-17EEFE96AB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3F68-4F9D-4808-8701-CDC66387C6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42BA-21FD-424A-A0C9-3D272AF5DB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50CF-F9DE-43DD-9393-09EB65CDD1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2DEE-2663-4E9E-AE5C-10568252613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90C7-DA6A-4320-B515-FAC707FA58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8.gif"/><Relationship Id="rId25" Type="http://schemas.openxmlformats.org/officeDocument/2006/relationships/image" Target="../media/image8.gif"/><Relationship Id="rId26" Type="http://schemas.openxmlformats.org/officeDocument/2006/relationships/image" Target="../media/image8.gif"/><Relationship Id="rId27" Type="http://schemas.openxmlformats.org/officeDocument/2006/relationships/image" Target="../media/image8.gif"/><Relationship Id="rId28" Type="http://schemas.openxmlformats.org/officeDocument/2006/relationships/image" Target="../media/image8.gif"/><Relationship Id="rId29" Type="http://schemas.openxmlformats.org/officeDocument/2006/relationships/image" Target="../media/image8.gif"/><Relationship Id="rId30" Type="http://schemas.openxmlformats.org/officeDocument/2006/relationships/image" Target="../media/image8.gif"/><Relationship Id="rId31" Type="http://schemas.openxmlformats.org/officeDocument/2006/relationships/image" Target="../media/image8.gif"/><Relationship Id="rId32" Type="http://schemas.openxmlformats.org/officeDocument/2006/relationships/image" Target="../media/image8.gif"/><Relationship Id="rId33" Type="http://schemas.openxmlformats.org/officeDocument/2006/relationships/image" Target="../media/image8.gif"/><Relationship Id="rId34" Type="http://schemas.openxmlformats.org/officeDocument/2006/relationships/image" Target="../media/image8.gif"/><Relationship Id="rId35" Type="http://schemas.openxmlformats.org/officeDocument/2006/relationships/image" Target="../media/image8.gif"/><Relationship Id="rId36" Type="http://schemas.openxmlformats.org/officeDocument/2006/relationships/image" Target="../media/image8.gif"/><Relationship Id="rId37" Type="http://schemas.openxmlformats.org/officeDocument/2006/relationships/image" Target="../media/image8.gif"/><Relationship Id="rId38" Type="http://schemas.openxmlformats.org/officeDocument/2006/relationships/image" Target="../media/image8.gif"/><Relationship Id="rId39" Type="http://schemas.openxmlformats.org/officeDocument/2006/relationships/image" Target="../media/image8.gif"/><Relationship Id="rId40" Type="http://schemas.openxmlformats.org/officeDocument/2006/relationships/image" Target="../media/image8.gif"/><Relationship Id="rId41" Type="http://schemas.openxmlformats.org/officeDocument/2006/relationships/image" Target="../media/image8.gif"/><Relationship Id="rId42" Type="http://schemas.openxmlformats.org/officeDocument/2006/relationships/image" Target="../media/image8.gif"/><Relationship Id="rId43" Type="http://schemas.openxmlformats.org/officeDocument/2006/relationships/image" Target="../media/image8.gif"/><Relationship Id="rId44" Type="http://schemas.openxmlformats.org/officeDocument/2006/relationships/image" Target="../media/image8.gif"/><Relationship Id="rId45" Type="http://schemas.openxmlformats.org/officeDocument/2006/relationships/image" Target="../media/image8.gif"/><Relationship Id="rId46" Type="http://schemas.openxmlformats.org/officeDocument/2006/relationships/image" Target="../media/image8.gif"/><Relationship Id="rId47" Type="http://schemas.openxmlformats.org/officeDocument/2006/relationships/image" Target="../media/image8.gif"/><Relationship Id="rId48" Type="http://schemas.openxmlformats.org/officeDocument/2006/relationships/image" Target="../media/image8.gif"/><Relationship Id="rId49" Type="http://schemas.openxmlformats.org/officeDocument/2006/relationships/image" Target="../media/image13.gif"/><Relationship Id="rId50" Type="http://schemas.openxmlformats.org/officeDocument/2006/relationships/image" Target="../media/image14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大熊星座"/>
          <p:cNvPicPr/>
          <p:nvPr/>
        </p:nvPicPr>
        <p:blipFill>
          <a:blip r:embed="rId1"/>
          <a:stretch/>
        </p:blipFill>
        <p:spPr>
          <a:xfrm>
            <a:off x="-914400" y="0"/>
            <a:ext cx="4800600" cy="6172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大熊星座1"/>
          <p:cNvPicPr/>
          <p:nvPr/>
        </p:nvPicPr>
        <p:blipFill>
          <a:blip r:embed="rId2"/>
          <a:stretch/>
        </p:blipFill>
        <p:spPr>
          <a:xfrm>
            <a:off x="362268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2"/>
          <p:cNvSpPr/>
          <p:nvPr/>
        </p:nvSpPr>
        <p:spPr>
          <a:xfrm>
            <a:off x="457200" y="380880"/>
            <a:ext cx="4572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3" descr="daisy"/>
          <p:cNvPicPr/>
          <p:nvPr/>
        </p:nvPicPr>
        <p:blipFill>
          <a:blip r:embed="rId1"/>
          <a:stretch/>
        </p:blipFill>
        <p:spPr>
          <a:xfrm>
            <a:off x="7467480" y="228600"/>
            <a:ext cx="1676520" cy="1503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4" descr="star3"/>
          <p:cNvPicPr/>
          <p:nvPr/>
        </p:nvPicPr>
        <p:blipFill>
          <a:blip r:embed="rId2"/>
          <a:stretch/>
        </p:blipFill>
        <p:spPr>
          <a:xfrm>
            <a:off x="2895480" y="1219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star3"/>
          <p:cNvPicPr/>
          <p:nvPr/>
        </p:nvPicPr>
        <p:blipFill>
          <a:blip r:embed="rId3"/>
          <a:stretch/>
        </p:blipFill>
        <p:spPr>
          <a:xfrm>
            <a:off x="1752480" y="914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6" descr="star3"/>
          <p:cNvPicPr/>
          <p:nvPr/>
        </p:nvPicPr>
        <p:blipFill>
          <a:blip r:embed="rId4"/>
          <a:stretch/>
        </p:blipFill>
        <p:spPr>
          <a:xfrm>
            <a:off x="6553080" y="9144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star3"/>
          <p:cNvPicPr/>
          <p:nvPr/>
        </p:nvPicPr>
        <p:blipFill>
          <a:blip r:embed="rId5"/>
          <a:stretch/>
        </p:blipFill>
        <p:spPr>
          <a:xfrm>
            <a:off x="44197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8" descr="star3"/>
          <p:cNvPicPr/>
          <p:nvPr/>
        </p:nvPicPr>
        <p:blipFill>
          <a:blip r:embed="rId6"/>
          <a:stretch/>
        </p:blipFill>
        <p:spPr>
          <a:xfrm>
            <a:off x="388620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star3"/>
          <p:cNvPicPr/>
          <p:nvPr/>
        </p:nvPicPr>
        <p:blipFill>
          <a:blip r:embed="rId7"/>
          <a:stretch/>
        </p:blipFill>
        <p:spPr>
          <a:xfrm>
            <a:off x="914400" y="12952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0" descr="star3"/>
          <p:cNvPicPr/>
          <p:nvPr/>
        </p:nvPicPr>
        <p:blipFill>
          <a:blip r:embed="rId8"/>
          <a:stretch/>
        </p:blipFill>
        <p:spPr>
          <a:xfrm>
            <a:off x="1066680" y="457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1" descr="star3"/>
          <p:cNvPicPr/>
          <p:nvPr/>
        </p:nvPicPr>
        <p:blipFill>
          <a:blip r:embed="rId9"/>
          <a:stretch/>
        </p:blipFill>
        <p:spPr>
          <a:xfrm>
            <a:off x="2057400" y="304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2" descr="star3"/>
          <p:cNvPicPr/>
          <p:nvPr/>
        </p:nvPicPr>
        <p:blipFill>
          <a:blip r:embed="rId10"/>
          <a:stretch/>
        </p:blipFill>
        <p:spPr>
          <a:xfrm>
            <a:off x="2895480" y="609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star3"/>
          <p:cNvPicPr/>
          <p:nvPr/>
        </p:nvPicPr>
        <p:blipFill>
          <a:blip r:embed="rId11"/>
          <a:stretch/>
        </p:blipFill>
        <p:spPr>
          <a:xfrm>
            <a:off x="5257800" y="1295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4" descr="star3"/>
          <p:cNvPicPr/>
          <p:nvPr/>
        </p:nvPicPr>
        <p:blipFill>
          <a:blip r:embed="rId12"/>
          <a:stretch/>
        </p:blipFill>
        <p:spPr>
          <a:xfrm>
            <a:off x="42670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5" descr="star3"/>
          <p:cNvPicPr/>
          <p:nvPr/>
        </p:nvPicPr>
        <p:blipFill>
          <a:blip r:embed="rId13"/>
          <a:stretch/>
        </p:blipFill>
        <p:spPr>
          <a:xfrm>
            <a:off x="5334120" y="457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6" descr="star3"/>
          <p:cNvPicPr/>
          <p:nvPr/>
        </p:nvPicPr>
        <p:blipFill>
          <a:blip r:embed="rId14"/>
          <a:stretch/>
        </p:blipFill>
        <p:spPr>
          <a:xfrm>
            <a:off x="662940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7" descr="star3"/>
          <p:cNvPicPr/>
          <p:nvPr/>
        </p:nvPicPr>
        <p:blipFill>
          <a:blip r:embed="rId15"/>
          <a:stretch/>
        </p:blipFill>
        <p:spPr>
          <a:xfrm>
            <a:off x="6095880" y="1523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8" descr="star3"/>
          <p:cNvPicPr/>
          <p:nvPr/>
        </p:nvPicPr>
        <p:blipFill>
          <a:blip r:embed="rId16"/>
          <a:stretch/>
        </p:blipFill>
        <p:spPr>
          <a:xfrm>
            <a:off x="3657600" y="914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9" descr="star3"/>
          <p:cNvPicPr/>
          <p:nvPr/>
        </p:nvPicPr>
        <p:blipFill>
          <a:blip r:embed="rId17"/>
          <a:stretch/>
        </p:blipFill>
        <p:spPr>
          <a:xfrm>
            <a:off x="213372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0" descr="star3"/>
          <p:cNvPicPr/>
          <p:nvPr/>
        </p:nvPicPr>
        <p:blipFill>
          <a:blip r:embed="rId18"/>
          <a:stretch/>
        </p:blipFill>
        <p:spPr>
          <a:xfrm>
            <a:off x="5486400" y="1828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1" descr="star3"/>
          <p:cNvPicPr/>
          <p:nvPr/>
        </p:nvPicPr>
        <p:blipFill>
          <a:blip r:embed="rId19"/>
          <a:stretch/>
        </p:blipFill>
        <p:spPr>
          <a:xfrm>
            <a:off x="7010280" y="1447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2" descr="star3"/>
          <p:cNvPicPr/>
          <p:nvPr/>
        </p:nvPicPr>
        <p:blipFill>
          <a:blip r:embed="rId20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3" descr="star3"/>
          <p:cNvPicPr/>
          <p:nvPr/>
        </p:nvPicPr>
        <p:blipFill>
          <a:blip r:embed="rId21"/>
          <a:stretch/>
        </p:blipFill>
        <p:spPr>
          <a:xfrm>
            <a:off x="304920" y="1676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4" descr="star3"/>
          <p:cNvPicPr/>
          <p:nvPr/>
        </p:nvPicPr>
        <p:blipFill>
          <a:blip r:embed="rId22"/>
          <a:stretch/>
        </p:blipFill>
        <p:spPr>
          <a:xfrm>
            <a:off x="4419720" y="533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5" descr="star3"/>
          <p:cNvPicPr/>
          <p:nvPr/>
        </p:nvPicPr>
        <p:blipFill>
          <a:blip r:embed="rId23"/>
          <a:stretch/>
        </p:blipFill>
        <p:spPr>
          <a:xfrm>
            <a:off x="5486400" y="2286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6" descr="star3"/>
          <p:cNvPicPr/>
          <p:nvPr/>
        </p:nvPicPr>
        <p:blipFill>
          <a:blip r:embed="rId24"/>
          <a:stretch/>
        </p:blipFill>
        <p:spPr>
          <a:xfrm>
            <a:off x="7238880" y="25146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7" descr="star3"/>
          <p:cNvPicPr/>
          <p:nvPr/>
        </p:nvPicPr>
        <p:blipFill>
          <a:blip r:embed="rId25"/>
          <a:stretch/>
        </p:blipFill>
        <p:spPr>
          <a:xfrm>
            <a:off x="3505320" y="152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8" descr="star3"/>
          <p:cNvPicPr/>
          <p:nvPr/>
        </p:nvPicPr>
        <p:blipFill>
          <a:blip r:embed="rId26"/>
          <a:stretch/>
        </p:blipFill>
        <p:spPr>
          <a:xfrm>
            <a:off x="4800600" y="2057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9" descr="star3"/>
          <p:cNvPicPr/>
          <p:nvPr/>
        </p:nvPicPr>
        <p:blipFill>
          <a:blip r:embed="rId27"/>
          <a:stretch/>
        </p:blipFill>
        <p:spPr>
          <a:xfrm>
            <a:off x="2895480" y="2133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0" descr="star3"/>
          <p:cNvPicPr/>
          <p:nvPr/>
        </p:nvPicPr>
        <p:blipFill>
          <a:blip r:embed="rId28"/>
          <a:stretch/>
        </p:blipFill>
        <p:spPr>
          <a:xfrm>
            <a:off x="16002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1" descr="star3"/>
          <p:cNvPicPr/>
          <p:nvPr/>
        </p:nvPicPr>
        <p:blipFill>
          <a:blip r:embed="rId29"/>
          <a:stretch/>
        </p:blipFill>
        <p:spPr>
          <a:xfrm>
            <a:off x="3200400" y="457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2" descr="star3"/>
          <p:cNvPicPr/>
          <p:nvPr/>
        </p:nvPicPr>
        <p:blipFill>
          <a:blip r:embed="rId30"/>
          <a:stretch/>
        </p:blipFill>
        <p:spPr>
          <a:xfrm>
            <a:off x="22860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star3"/>
          <p:cNvPicPr/>
          <p:nvPr/>
        </p:nvPicPr>
        <p:blipFill>
          <a:blip r:embed="rId31"/>
          <a:stretch/>
        </p:blipFill>
        <p:spPr>
          <a:xfrm>
            <a:off x="4648320" y="3657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4" descr="star3"/>
          <p:cNvPicPr/>
          <p:nvPr/>
        </p:nvPicPr>
        <p:blipFill>
          <a:blip r:embed="rId32"/>
          <a:stretch/>
        </p:blipFill>
        <p:spPr>
          <a:xfrm>
            <a:off x="624852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5" descr="star3"/>
          <p:cNvPicPr/>
          <p:nvPr/>
        </p:nvPicPr>
        <p:blipFill>
          <a:blip r:embed="rId33"/>
          <a:stretch/>
        </p:blipFill>
        <p:spPr>
          <a:xfrm>
            <a:off x="7848720" y="3809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6" descr="star3"/>
          <p:cNvPicPr/>
          <p:nvPr/>
        </p:nvPicPr>
        <p:blipFill>
          <a:blip r:embed="rId34"/>
          <a:stretch/>
        </p:blipFill>
        <p:spPr>
          <a:xfrm>
            <a:off x="9907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7" descr="star3"/>
          <p:cNvPicPr/>
          <p:nvPr/>
        </p:nvPicPr>
        <p:blipFill>
          <a:blip r:embed="rId35"/>
          <a:stretch/>
        </p:blipFill>
        <p:spPr>
          <a:xfrm>
            <a:off x="1143000" y="3886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8" descr="star3"/>
          <p:cNvPicPr/>
          <p:nvPr/>
        </p:nvPicPr>
        <p:blipFill>
          <a:blip r:embed="rId36"/>
          <a:stretch/>
        </p:blipFill>
        <p:spPr>
          <a:xfrm>
            <a:off x="266688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9" descr="star3"/>
          <p:cNvPicPr/>
          <p:nvPr/>
        </p:nvPicPr>
        <p:blipFill>
          <a:blip r:embed="rId37"/>
          <a:stretch/>
        </p:blipFill>
        <p:spPr>
          <a:xfrm>
            <a:off x="281952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0" descr="star3"/>
          <p:cNvPicPr/>
          <p:nvPr/>
        </p:nvPicPr>
        <p:blipFill>
          <a:blip r:embed="rId38"/>
          <a:stretch/>
        </p:blipFill>
        <p:spPr>
          <a:xfrm>
            <a:off x="29718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1" descr="star3"/>
          <p:cNvPicPr/>
          <p:nvPr/>
        </p:nvPicPr>
        <p:blipFill>
          <a:blip r:embed="rId39"/>
          <a:stretch/>
        </p:blipFill>
        <p:spPr>
          <a:xfrm>
            <a:off x="71629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2" descr="star3"/>
          <p:cNvPicPr/>
          <p:nvPr/>
        </p:nvPicPr>
        <p:blipFill>
          <a:blip r:embed="rId40"/>
          <a:stretch/>
        </p:blipFill>
        <p:spPr>
          <a:xfrm>
            <a:off x="39625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3" descr="star3"/>
          <p:cNvPicPr/>
          <p:nvPr/>
        </p:nvPicPr>
        <p:blipFill>
          <a:blip r:embed="rId41"/>
          <a:stretch/>
        </p:blipFill>
        <p:spPr>
          <a:xfrm>
            <a:off x="26668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4" descr="star3"/>
          <p:cNvPicPr/>
          <p:nvPr/>
        </p:nvPicPr>
        <p:blipFill>
          <a:blip r:embed="rId42"/>
          <a:stretch/>
        </p:blipFill>
        <p:spPr>
          <a:xfrm>
            <a:off x="1600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5" descr="star3"/>
          <p:cNvPicPr/>
          <p:nvPr/>
        </p:nvPicPr>
        <p:blipFill>
          <a:blip r:embed="rId43"/>
          <a:stretch/>
        </p:blipFill>
        <p:spPr>
          <a:xfrm>
            <a:off x="65530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6" descr="star3"/>
          <p:cNvPicPr/>
          <p:nvPr/>
        </p:nvPicPr>
        <p:blipFill>
          <a:blip r:embed="rId44"/>
          <a:stretch/>
        </p:blipFill>
        <p:spPr>
          <a:xfrm>
            <a:off x="6781680" y="533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7" descr="star3"/>
          <p:cNvPicPr/>
          <p:nvPr/>
        </p:nvPicPr>
        <p:blipFill>
          <a:blip r:embed="rId45"/>
          <a:stretch/>
        </p:blipFill>
        <p:spPr>
          <a:xfrm>
            <a:off x="83059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8" descr="star3"/>
          <p:cNvPicPr/>
          <p:nvPr/>
        </p:nvPicPr>
        <p:blipFill>
          <a:blip r:embed="rId46"/>
          <a:stretch/>
        </p:blipFill>
        <p:spPr>
          <a:xfrm>
            <a:off x="7391520" y="152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9" descr="star3"/>
          <p:cNvPicPr/>
          <p:nvPr/>
        </p:nvPicPr>
        <p:blipFill>
          <a:blip r:embed="rId47"/>
          <a:stretch/>
        </p:blipFill>
        <p:spPr>
          <a:xfrm>
            <a:off x="8229600" y="990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50" descr="star3"/>
          <p:cNvPicPr/>
          <p:nvPr/>
        </p:nvPicPr>
        <p:blipFill>
          <a:blip r:embed="rId48"/>
          <a:stretch/>
        </p:blipFill>
        <p:spPr>
          <a:xfrm>
            <a:off x="8534520" y="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4419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幼圆"/>
              </a:rPr>
              <a:t>爱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幼圆"/>
              </a:rPr>
              <a:t>的</a:t>
            </a:r>
            <a:r>
              <a:rPr b="1" i="1" lang="zh-CN" sz="5400" spc="-1" strike="noStrike">
                <a:solidFill>
                  <a:srgbClr val="3399ff"/>
                </a:solidFill>
                <a:latin typeface="Times New Roman"/>
                <a:ea typeface="幼圆"/>
              </a:rPr>
              <a:t>奉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306080" y="1371240"/>
            <a:ext cx="5170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这是</a:t>
            </a:r>
            <a:r>
              <a:rPr b="1" i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心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的呼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这是</a:t>
            </a:r>
            <a:r>
              <a:rPr b="1" i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爱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的奉献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这是人间的春风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幸福之花处处开遍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这是生命的源泉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在没有心的沙漠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在没有</a:t>
            </a:r>
            <a:r>
              <a:rPr b="1" i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爱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的荒原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死神也望而却步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幸福之花处处开遍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~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</a:t>
            </a:r>
            <a:r>
              <a:rPr b="1" i="1" lang="zh-CN" sz="2000" spc="-1" strike="noStrike">
                <a:solidFill>
                  <a:srgbClr val="3399ff"/>
                </a:solidFill>
                <a:latin typeface="Times New Roman"/>
                <a:ea typeface="幼圆"/>
              </a:rPr>
              <a:t>只要人人都献出一点</a:t>
            </a:r>
            <a:r>
              <a:rPr b="1" i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爱</a:t>
            </a:r>
            <a:br>
              <a:rPr sz="2000"/>
            </a:br>
            <a:r>
              <a:rPr b="1" i="1" lang="zh-CN" sz="2000" spc="-1" strike="noStrike">
                <a:solidFill>
                  <a:srgbClr val="3399ff"/>
                </a:solidFill>
                <a:latin typeface="Times New Roman"/>
                <a:ea typeface="幼圆"/>
              </a:rPr>
              <a:t>                     世界将变成美好的人间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~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~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53" descr="023"/>
          <p:cNvPicPr/>
          <p:nvPr/>
        </p:nvPicPr>
        <p:blipFill>
          <a:blip r:embed="rId49"/>
          <a:stretch/>
        </p:blipFill>
        <p:spPr>
          <a:xfrm>
            <a:off x="7451640" y="1052640"/>
            <a:ext cx="505080" cy="503280"/>
          </a:xfrm>
          <a:prstGeom prst="rect">
            <a:avLst/>
          </a:prstGeom>
          <a:ln w="0">
            <a:noFill/>
          </a:ln>
        </p:spPr>
      </p:pic>
      <p:pic>
        <p:nvPicPr>
          <p:cNvPr id="645" name="埃的奉献.mp3" descr=""/>
          <p:cNvPicPr/>
          <p:nvPr/>
        </p:nvPicPr>
        <p:blipFill>
          <a:blip r:embed="rId50"/>
          <a:stretch/>
        </p:blipFill>
        <p:spPr>
          <a:xfrm>
            <a:off x="304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船上看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3"/>
          <p:cNvSpPr/>
          <p:nvPr/>
        </p:nvSpPr>
        <p:spPr>
          <a:xfrm>
            <a:off x="457200" y="30492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写一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495360" y="1447920"/>
            <a:ext cx="842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由于七颗钻石里涌出的水，地球上的旱灾解除了，那么小姑娘和她的母亲后来怎样了呢？人们知道了这件事后又是怎样的态度呢？以后是否又发生了什么故事呢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………………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带着这一连串的问题，请同学们发挥自己的想象，为这篇童话故事补写一段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2232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旱灾1"/>
          <p:cNvPicPr/>
          <p:nvPr/>
        </p:nvPicPr>
        <p:blipFill>
          <a:blip r:embed="rId2"/>
          <a:stretch/>
        </p:blipFill>
        <p:spPr>
          <a:xfrm>
            <a:off x="1066680" y="612720"/>
            <a:ext cx="708660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旱灾4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星星的思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star3"/>
          <p:cNvPicPr/>
          <p:nvPr/>
        </p:nvPicPr>
        <p:blipFill>
          <a:blip r:embed="rId2"/>
          <a:stretch/>
        </p:blipFill>
        <p:spPr>
          <a:xfrm>
            <a:off x="6705720" y="1600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star3"/>
          <p:cNvPicPr/>
          <p:nvPr/>
        </p:nvPicPr>
        <p:blipFill>
          <a:blip r:embed="rId3"/>
          <a:stretch/>
        </p:blipFill>
        <p:spPr>
          <a:xfrm>
            <a:off x="2743200" y="685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star3"/>
          <p:cNvPicPr/>
          <p:nvPr/>
        </p:nvPicPr>
        <p:blipFill>
          <a:blip r:embed="rId4"/>
          <a:stretch/>
        </p:blipFill>
        <p:spPr>
          <a:xfrm>
            <a:off x="4876920" y="533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star3"/>
          <p:cNvPicPr/>
          <p:nvPr/>
        </p:nvPicPr>
        <p:blipFill>
          <a:blip r:embed="rId5"/>
          <a:stretch/>
        </p:blipFill>
        <p:spPr>
          <a:xfrm>
            <a:off x="30481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star3"/>
          <p:cNvPicPr/>
          <p:nvPr/>
        </p:nvPicPr>
        <p:blipFill>
          <a:blip r:embed="rId6"/>
          <a:stretch/>
        </p:blipFill>
        <p:spPr>
          <a:xfrm>
            <a:off x="5257800" y="2743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star3"/>
          <p:cNvPicPr/>
          <p:nvPr/>
        </p:nvPicPr>
        <p:blipFill>
          <a:blip r:embed="rId7"/>
          <a:stretch/>
        </p:blipFill>
        <p:spPr>
          <a:xfrm>
            <a:off x="6172200" y="609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9" descr="star3"/>
          <p:cNvPicPr/>
          <p:nvPr/>
        </p:nvPicPr>
        <p:blipFill>
          <a:blip r:embed="rId8"/>
          <a:stretch/>
        </p:blipFill>
        <p:spPr>
          <a:xfrm>
            <a:off x="41911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0" descr="star3"/>
          <p:cNvPicPr/>
          <p:nvPr/>
        </p:nvPicPr>
        <p:blipFill>
          <a:blip r:embed="rId9"/>
          <a:stretch/>
        </p:blipFill>
        <p:spPr>
          <a:xfrm>
            <a:off x="6858000" y="685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1" descr="star3"/>
          <p:cNvPicPr/>
          <p:nvPr/>
        </p:nvPicPr>
        <p:blipFill>
          <a:blip r:embed="rId10"/>
          <a:stretch/>
        </p:blipFill>
        <p:spPr>
          <a:xfrm>
            <a:off x="6477120" y="2666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2" descr="star3"/>
          <p:cNvPicPr/>
          <p:nvPr/>
        </p:nvPicPr>
        <p:blipFill>
          <a:blip r:embed="rId11"/>
          <a:stretch/>
        </p:blipFill>
        <p:spPr>
          <a:xfrm>
            <a:off x="6324480" y="1523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3" descr="star3"/>
          <p:cNvPicPr/>
          <p:nvPr/>
        </p:nvPicPr>
        <p:blipFill>
          <a:blip r:embed="rId12"/>
          <a:stretch/>
        </p:blipFill>
        <p:spPr>
          <a:xfrm>
            <a:off x="617220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4" descr="star3"/>
          <p:cNvPicPr/>
          <p:nvPr/>
        </p:nvPicPr>
        <p:blipFill>
          <a:blip r:embed="rId13"/>
          <a:stretch/>
        </p:blipFill>
        <p:spPr>
          <a:xfrm>
            <a:off x="5791320" y="1523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5" descr="star3"/>
          <p:cNvPicPr/>
          <p:nvPr/>
        </p:nvPicPr>
        <p:blipFill>
          <a:blip r:embed="rId14"/>
          <a:stretch/>
        </p:blipFill>
        <p:spPr>
          <a:xfrm>
            <a:off x="701028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6" descr="star3"/>
          <p:cNvPicPr/>
          <p:nvPr/>
        </p:nvPicPr>
        <p:blipFill>
          <a:blip r:embed="rId15"/>
          <a:stretch/>
        </p:blipFill>
        <p:spPr>
          <a:xfrm>
            <a:off x="563868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7" descr="star3"/>
          <p:cNvPicPr/>
          <p:nvPr/>
        </p:nvPicPr>
        <p:blipFill>
          <a:blip r:embed="rId16"/>
          <a:stretch/>
        </p:blipFill>
        <p:spPr>
          <a:xfrm>
            <a:off x="5029200" y="1600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8" descr="star3"/>
          <p:cNvPicPr/>
          <p:nvPr/>
        </p:nvPicPr>
        <p:blipFill>
          <a:blip r:embed="rId17"/>
          <a:stretch/>
        </p:blipFill>
        <p:spPr>
          <a:xfrm>
            <a:off x="2590920" y="23623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9" descr="star3"/>
          <p:cNvPicPr/>
          <p:nvPr/>
        </p:nvPicPr>
        <p:blipFill>
          <a:blip r:embed="rId18"/>
          <a:stretch/>
        </p:blipFill>
        <p:spPr>
          <a:xfrm>
            <a:off x="3429000" y="2743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0" descr="star3"/>
          <p:cNvPicPr/>
          <p:nvPr/>
        </p:nvPicPr>
        <p:blipFill>
          <a:blip r:embed="rId19"/>
          <a:stretch/>
        </p:blipFill>
        <p:spPr>
          <a:xfrm>
            <a:off x="4267080" y="22096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65" name="WordArt 21"/>
          <p:cNvSpPr txBox="1"/>
          <p:nvPr/>
        </p:nvSpPr>
        <p:spPr>
          <a:xfrm>
            <a:off x="971640" y="2492280"/>
            <a:ext cx="6705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宋体"/>
              </a:rPr>
              <a:t>七颗钻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繁星8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3"/>
          <p:cNvSpPr/>
          <p:nvPr/>
        </p:nvSpPr>
        <p:spPr>
          <a:xfrm>
            <a:off x="457200" y="457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读一读，讲一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114480" y="1708200"/>
            <a:ext cx="8915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用自己喜欢的方式阅读全文，复述故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要求：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尽量用简洁的语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五次变化的过程叙述清楚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219320" y="1616040"/>
            <a:ext cx="152388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为生病的母亲找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3"/>
          <p:cNvSpPr/>
          <p:nvPr/>
        </p:nvSpPr>
        <p:spPr>
          <a:xfrm>
            <a:off x="1752480" y="259092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219320" y="4197240"/>
            <a:ext cx="152388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将水省给母亲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886200" y="4191120"/>
            <a:ext cx="152388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倒水给小狗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6"/>
          <p:cNvSpPr/>
          <p:nvPr/>
        </p:nvSpPr>
        <p:spPr>
          <a:xfrm>
            <a:off x="289548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6553080" y="4197240"/>
            <a:ext cx="182880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母亲让水给小姑娘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095880" y="1600200"/>
            <a:ext cx="228600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小姑娘把水让给过路人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WordArt 9"/>
          <p:cNvSpPr txBox="1"/>
          <p:nvPr/>
        </p:nvSpPr>
        <p:spPr>
          <a:xfrm>
            <a:off x="609480" y="609480"/>
            <a:ext cx="3733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五次爱心行动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2520" y="18288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出了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237960" y="3611520"/>
            <a:ext cx="5493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-57960" y="3657600"/>
            <a:ext cx="91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得端端正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505320" y="5486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木的变成银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14"/>
          <p:cNvSpPr/>
          <p:nvPr/>
        </p:nvSpPr>
        <p:spPr>
          <a:xfrm>
            <a:off x="54864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64008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银的变成金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16"/>
          <p:cNvSpPr/>
          <p:nvPr/>
        </p:nvSpPr>
        <p:spPr>
          <a:xfrm>
            <a:off x="6934320" y="2743200"/>
            <a:ext cx="457200" cy="1219320"/>
          </a:xfrm>
          <a:prstGeom prst="upArrow">
            <a:avLst>
              <a:gd name="adj1" fmla="val 50000"/>
              <a:gd name="adj2" fmla="val 66673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7638480" y="2590920"/>
            <a:ext cx="91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成了星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繁星8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关于这个童话故事，你有什么疑问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0" y="167652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于这些问题，你能解答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0" y="243828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小姑娘的水罐为什么会发生这么多的变化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她的水罐为什么会越变越好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最后作者为什么让水罐变成星座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1295280" y="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想一想，议一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5" descr="船上看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6"/>
          <p:cNvSpPr/>
          <p:nvPr/>
        </p:nvSpPr>
        <p:spPr>
          <a:xfrm>
            <a:off x="228600" y="4572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请根据文章内容将下列排比句补充完整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152280" y="243828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爱心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；爱心是珍爱身边的动物，尽我们的所能爱护它们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爱心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；爱心是毫不犹豫地向需要帮助的陌生人伸出援助之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6:40:10Z</dcterms:created>
  <dc:creator>初三办公室</dc:creator>
  <dc:description/>
  <dc:language>en-US</dc:language>
  <cp:lastModifiedBy>a</cp:lastModifiedBy>
  <dcterms:modified xsi:type="dcterms:W3CDTF">2015-02-10T03:04:30Z</dcterms:modified>
  <cp:revision>28</cp:revision>
  <dc:subject/>
  <dc:title>PowerPoint 演示文稿</dc:title>
</cp:coreProperties>
</file>