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853-8649-4E4B-BC57-C04E37F6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77F-F409-4820-B16E-6B786B3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BDC60-F064-461A-9D87-01446E6F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5E07B-A410-4061-8DFA-13EB0748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3BD65-F716-40CA-B69E-9D517DAC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67C9D-DC3C-4A8A-9342-4D45642C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08A28-7A96-4718-9E10-B38B92D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339F3-CE53-41AE-9433-8EA82D0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E6231-4B42-4BE1-9BCF-5318C2C6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E87D0-E464-4128-BDBC-7E92688E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A0224-E713-463B-BD70-B65D2206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F7975-A472-47BD-A845-E7FA8720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9B1-D880-4F02-87BE-762D0522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0196F-99DB-4D60-B12B-1BC800AF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F4C47-6BE9-406C-9433-6A38DBAF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0A994-F3EB-4DF9-B14B-70266C0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ED2B4-3E9F-49F2-A223-837B254C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48F95-BD37-4335-9D11-20CBC247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D33B1-640B-46C3-B7F8-7BC607C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B2B13-8242-42FF-9092-24234D2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5F81B-7223-4CE8-9862-F19F9AC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3CBD5-A717-41DD-B42B-E5D19520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D2EC2-9344-4541-8280-8C42CE1F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41F-B879-4E26-93F7-474ED739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6FDE3-4E95-43CB-8875-636B46BB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B794-B297-41D3-8926-BFA641E7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2325F-6160-4826-A37F-42E97E42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5B0C0-3AE4-410B-B631-149AA4B9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F2588-3372-4387-A5E8-719D631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0DACE-1893-450D-9558-9CBEF0F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4E98E-F5F6-45E4-8A3D-625B805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226B8-FC7A-438D-8BBC-1BC99E75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56850-9BE1-4FAB-B617-16BABE52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5311-956D-4CCD-9981-099E62C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7221-2D59-4A40-AA7F-C38594BE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4E4F-A399-4DED-809C-5C6DD244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9E263-91D7-408D-80EE-D558CDAC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65AED-0FEC-4487-99AB-F8AFF9B5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489F-FE8F-43B1-9C39-D32F8AF8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62376-A106-4A08-A6D1-F356717B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1248-E2AB-4328-A25C-6397E06F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C4D4C-E71A-4E51-8C1F-8E77AF4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1093-08C4-4BA0-AD32-CE2AF68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38238-DA0E-4E25-9932-15FF29A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7265-EF94-447E-B689-2BE3314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54F-6E24-4529-A6C3-DB354A71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DE29D-3B2C-41E1-A193-97E7979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23D0C-6EA7-4802-8024-E8AC561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BE339-4BED-4454-96FF-2D43229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629DB-0A2F-44DB-B27A-ECDC0185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24176-9C92-4A7F-8F0C-78D797C5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A8469-4C65-4E0C-9887-A5C8F376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FB9B4-4A6A-43A8-9995-27D8B79C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39C89-8D49-4221-87DA-1F3AD63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9E489-5FC7-4798-8D40-E46D67F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FE6AF-B93E-4447-91C0-93520CE0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E767-332E-43D8-851B-0B09992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78617-6FFC-4355-A221-59F6FF24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1E980-F2B3-4CE8-8456-2335D95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555CD-5AE6-4AA5-8781-5E814492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B187-88A3-417A-8090-D8EF42F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6AD2A-AA5E-47E3-A70C-D6D64E8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BFD71-1016-45B7-B35F-DB1A8129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484D3-6307-4A86-BF7B-2FF4D9FB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40D72-F5FB-4464-BF14-F24C1750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B7F67-5EAF-4060-9179-F720F66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5C201-4E5E-41BD-A586-4E5037AC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0EA-A011-4725-9712-062B4F79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69407-65F7-4D03-BCAC-882D418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62AE3-EC4D-4847-8540-611BDBB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C049A-A9F0-46DA-803D-701D33E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45EB6-47FB-4E41-B31F-C04BC06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F170C-607E-4C80-9D72-6962B31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606A1-7B99-4E98-AAA8-4A18D50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DC73F-3ADD-4382-8C1F-11AF85C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37FA4-3FD3-4881-A40D-2EE5191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47FEB-F790-4182-9A4B-58455454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D73A5-96CF-455F-A66A-80AEDF8D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CEE-1617-4B63-8F72-9A7F6B9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0932E-84B3-4629-90A5-41716FE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E5A89-DA0C-4B27-B58F-CE5FD85D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2D4E9-F12C-4CD4-9F7F-8613A274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A23F5-33AC-466B-A35B-75E68861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3F9C6-B96C-45F8-A780-C54081C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FCD27-D9E5-4249-97EC-BBFC9CE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496F6-05E1-4E44-B1AD-DBDF23F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DDF83-9EF7-41F0-93A3-20E6F9F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F60F1-67A1-49A3-B30B-C443D01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21A67-6D77-43C5-B4DA-9928146E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0154-54CD-4C3E-B493-0CF60F7F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13B89-FB2A-4CAE-8580-5639E5B9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6FC6-5555-4582-A516-820642F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FD4-9BD6-4CE7-A565-0EAA1D93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DAB1-6C1D-4C55-9A9D-7522C54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A250-5F0F-4685-8689-BE2A8DA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0EEF-0A61-45F3-9B82-2934781A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ABE9-FFC2-4B2B-B6B9-01C6F9A9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E7BD-58A3-432E-90FA-43580DD2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7B7D-FEC1-4381-9806-E087CC68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500C-C82F-4901-983A-9B071ABB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BEEC-2E90-4E72-A58E-00634E80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9900-8ABC-4FC6-AD6D-4E551214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2FC1-EED0-4686-B341-DCEFCBA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1AE-D379-403B-B92B-37F522F7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169E-EFD1-4795-A8A1-338C57B3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41E5-A21C-4EBC-9FAA-8A1695D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D727-475A-49CC-8864-3749530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7BA2-FC68-4731-997B-ED9B629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32DA-75AE-46FF-A380-A1E878E2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8FC9-08DF-4C2C-9C4D-3E8AF79D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0D22-F65A-45F5-A3EE-BF0D0870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82B4-98A4-4ED8-A4F7-75AC8768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1E19-C94B-4B59-80D8-E2F611E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BE49-57F2-464A-96A8-70D68ED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8A5-79B9-4558-9DF7-E5B17CEC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A3E1-170A-4E4B-87D2-350DB105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C1E5-D6E4-4115-B863-0879D68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C331-2186-445B-9E8D-580BF89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7B5F-06B0-4FA3-B069-599DCAB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2077-CB8A-4FED-B3E6-B400990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AAAD-86B9-4F03-8618-E407658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4000-B716-4E25-AC3E-333F062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849B-489A-4FB9-A3A9-03E2C9EA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8554-00C0-4428-BCC2-F357E0F4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13C9-6C64-4174-91D0-3E761C7F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B2A-7006-4588-BA44-0290E5D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5483-069E-4501-B937-DEED0ED6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CB08F-D5F8-4A07-982E-F483D7AA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40E2-983A-45A9-9E89-31240DA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4039-89BE-400D-A190-A25198F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28A1-1CBF-4A91-B62E-3C50AC5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9F34-663B-43F6-86FB-C596FDD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18D8-E60B-4B8D-8F72-C706EE1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1955-FD45-4951-86BA-F38D775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F09C5-44E5-4C11-B8B5-FF7E24F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F046-3FAA-475D-9DD4-E4D1220D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75C-2E06-4E9D-9B8B-5A2C6EA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883F-C1C7-4B1E-B563-D752DECD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424F-39E9-4268-87A4-A9AC6AC8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7F5D-30D5-4228-81BF-862D4A8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84C7-971A-4311-9634-FCCE9128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D997-E510-4E70-B821-F7FD6953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B552-B2F3-4785-9CE3-ED371ECF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07F2-BD48-45FA-9954-B1D297D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D3A75-EED5-41F0-8DC4-41C3068D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B9CE-BF35-4D30-BF65-98DA417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E97B1-B4DE-4159-A928-47C24AC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F7C-278E-4FB7-8492-8528193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143A-E7B9-46E7-99F7-B7EF8F9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CB09-D2F4-4FD9-8BA3-4CF1DF23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7123-DF72-4548-B4D2-9008F5D0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B9AEB-C3F7-41B8-BD01-8D810460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7AFD-BC89-4AC8-B0F0-441D1C9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DEF5-4873-45E0-B357-FAAE60B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D04A-DE96-4C77-9263-F63FCD4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65FF-4C84-4B48-A965-AC18270F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E1C21-4A6B-4138-984E-C30480C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D63A-D021-48DF-BC80-2BFBD1E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785-E241-4070-8B5E-11746DB7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2CCA5-B3FD-42C8-BE7A-1FF155D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86B9-BADF-401E-AD3F-1E559CA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81EA-78BB-4BF6-AD8C-119CF00A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D9C9-B77E-4D28-9A62-F92F8CE1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8726-BD93-44F7-8F16-A5E2A58B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7D38C-FCBB-4497-BF45-CC608A33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A0C4-DDA8-4D62-A70A-DDBCCCC9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A822-6A96-4644-9A59-531B4F8B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6912-82E1-49A7-BD44-9E63FAB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86FEB-EAFC-493C-A274-E657B89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A25-C408-48B2-9428-28BD5AD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16E38-CD5C-44DD-B290-FDF330A8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B568-B16B-4B3B-82AD-EE7FE2D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2E83-B9DB-4D15-93F4-0E5D7C71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70453-B707-46C0-8464-D296CD3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320FB-66D7-4F5F-B2E2-D8E6D633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B7AE9-A7FE-489E-B651-932A1BD3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BA0DA-AA40-491F-B4A4-4ACE80DE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8926-8352-47BD-9796-2942CC6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20C4E-9DAC-462D-9AF8-281CB75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9109-37F9-425A-9D90-8876391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4AD4-D786-47EB-9BA6-4422B383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22D1-58E3-41D6-A228-2D79FB119D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067-7DDF-41F3-B9BC-5C190E8E6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5C50-253E-48DA-BFB8-E5839D08FE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B40-E711-4639-8F28-94A5008F6D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1CF7-32D8-4C7B-8B18-C6D7C9626D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4565-9F61-46C9-A0C1-7653A17AD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259-F590-46EE-AD28-7C7146761D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986-943A-4110-96A4-CBBDDCEE16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DE06-C5AF-412F-A578-BDC7B0AF9F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B652-7BF7-44B4-AC75-930233A05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9D39-08A5-4908-964C-ECF580753F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830-B52B-4FD0-8C83-8ED83D567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61EB-D19C-43F4-BE8B-AC204BD4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597-D86F-46C2-9420-19427F86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310-46E5-4110-9537-018297F501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08E-1117-4A93-B8D3-36897CFCC6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068-E435-428A-85D5-CCC6550637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263-BC56-42E0-97EA-EE58F286B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416-6EC3-4BDD-B7DA-7233174938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C20-C565-4A3E-9D26-F005919FD3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E069-3057-44A9-89B9-A916919616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70AE-185B-4E1E-A84F-4BBC102BB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0198-B3A1-4698-9056-9ECD1F6300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BC4-BFA7-4998-A9ED-63BAE50785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4077-96DD-4FA0-86C5-426415C24C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BB8-4CB2-4F35-9346-2C354C0CE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qq_xiao.exe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file:///qq_kwzs.exe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file:///qq_pyxx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4099320" y="60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牛郎织女"/>
          <p:cNvPicPr/>
          <p:nvPr/>
        </p:nvPicPr>
        <p:blipFill>
          <a:blip r:embed="rId3"/>
          <a:stretch/>
        </p:blipFill>
        <p:spPr>
          <a:xfrm>
            <a:off x="1905120" y="15238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1523880" y="16765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声朗读课文，想一想古代人是怎样过乞巧节的。结合拼音认读生字，同学间可互相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2743200" y="1371600"/>
            <a:ext cx="380988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　巧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 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 夕 今 宵 看 碧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楷体_GB2312"/>
                <a:hlinkClick r:id="rId3"/>
              </a:rPr>
              <a:t>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 牛 织 女渡 河 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 家乞巧 望 秋 月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 尽 红 丝 几 万 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4038480" y="2666880"/>
            <a:ext cx="2133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小学语文(古诗词)02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sn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657440"/>
            <a:ext cx="6019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小学语文(古诗词)03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1752480" y="1447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朗诵，体会诗歌的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snap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038320"/>
            <a:ext cx="5715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1371600" y="2241720"/>
            <a:ext cx="7086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乞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阅读牛郎织女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371600" y="3187800"/>
            <a:ext cx="693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搜集一些民间故事，开个故事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3"/>
          <p:cNvSpPr/>
          <p:nvPr/>
        </p:nvSpPr>
        <p:spPr>
          <a:xfrm>
            <a:off x="402300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4" descr="牛郎织女"/>
          <p:cNvPicPr/>
          <p:nvPr/>
        </p:nvPicPr>
        <p:blipFill>
          <a:blip r:embed="rId3"/>
          <a:stretch/>
        </p:blipFill>
        <p:spPr>
          <a:xfrm>
            <a:off x="1143000" y="1589040"/>
            <a:ext cx="6972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1143000" y="1752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七月七鹊桥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夕乞巧女儿节。“乞巧节”，源于我国四大民间爱情传说之一的牛郎织女的故事。相传在七月初七，也就是七夕这天，牛郎和织女要在银河鹊桥相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1219320" y="1523880"/>
            <a:ext cx="7315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汉代时，民间便开始向织女乞巧了，不但祈求心灵手巧，还祈求得到财富、早日有美满甜蜜的婚姻和早得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七夕节最普遍的习俗，就是妇女们在七月初七的夜晚进行的各种乞巧活动。乞巧的方式大多是姑娘们穿针引线验巧，做些小物品赛巧，摆上些瓜果乞巧，各个地区的乞巧的方式不尽相同，各有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28"/>
          <p:cNvSpPr/>
          <p:nvPr/>
        </p:nvSpPr>
        <p:spPr>
          <a:xfrm>
            <a:off x="241128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背景0084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276360" y="1143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   巧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437920" y="2514240"/>
            <a:ext cx="5040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夕 今宵 看碧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牛 织女 渡河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 乞巧 望秋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尽 红丝 几万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 flipH="1">
            <a:off x="3505320" y="259092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6"/>
          <p:cNvSpPr/>
          <p:nvPr/>
        </p:nvSpPr>
        <p:spPr>
          <a:xfrm flipH="1">
            <a:off x="4800240" y="259092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7"/>
          <p:cNvSpPr/>
          <p:nvPr/>
        </p:nvSpPr>
        <p:spPr>
          <a:xfrm flipH="1">
            <a:off x="3505320" y="3352680"/>
            <a:ext cx="30456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"/>
          <p:cNvSpPr/>
          <p:nvPr/>
        </p:nvSpPr>
        <p:spPr>
          <a:xfrm flipH="1">
            <a:off x="4723920" y="3352680"/>
            <a:ext cx="30492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 flipH="1">
            <a:off x="3505320" y="41148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4800240" y="41148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3505320" y="48006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3" descr="花边01"/>
          <p:cNvPicPr/>
          <p:nvPr/>
        </p:nvPicPr>
        <p:blipFill>
          <a:blip r:embed="rId2"/>
          <a:stretch/>
        </p:blipFill>
        <p:spPr>
          <a:xfrm>
            <a:off x="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4" descr="花边01"/>
          <p:cNvPicPr/>
          <p:nvPr/>
        </p:nvPicPr>
        <p:blipFill>
          <a:blip r:embed="rId3"/>
          <a:stretch/>
        </p:blipFill>
        <p:spPr>
          <a:xfrm>
            <a:off x="434340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15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416268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16" descr=""/>
          <p:cNvPicPr/>
          <p:nvPr/>
        </p:nvPicPr>
        <p:blipFill>
          <a:blip r:embed="rId5"/>
          <a:stretch/>
        </p:blipFill>
        <p:spPr>
          <a:xfrm>
            <a:off x="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637" name="Object 17" descr=""/>
          <p:cNvPicPr/>
          <p:nvPr/>
        </p:nvPicPr>
        <p:blipFill>
          <a:blip r:embed="rId6"/>
          <a:stretch/>
        </p:blipFill>
        <p:spPr>
          <a:xfrm>
            <a:off x="8839080" y="380880"/>
            <a:ext cx="304920" cy="3705480"/>
          </a:xfrm>
          <a:prstGeom prst="rect">
            <a:avLst/>
          </a:prstGeom>
          <a:ln w="0">
            <a:noFill/>
          </a:ln>
        </p:spPr>
      </p:pic>
      <p:pic>
        <p:nvPicPr>
          <p:cNvPr id="638" name="Object 18" descr=""/>
          <p:cNvPicPr/>
          <p:nvPr/>
        </p:nvPicPr>
        <p:blipFill>
          <a:blip r:embed="rId7"/>
          <a:stretch/>
        </p:blipFill>
        <p:spPr>
          <a:xfrm>
            <a:off x="883908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花边01"/>
          <p:cNvPicPr/>
          <p:nvPr/>
        </p:nvPicPr>
        <p:blipFill>
          <a:blip r:embed="rId8"/>
          <a:stretch/>
        </p:blipFill>
        <p:spPr>
          <a:xfrm>
            <a:off x="476712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花边01"/>
          <p:cNvPicPr/>
          <p:nvPr/>
        </p:nvPicPr>
        <p:blipFill>
          <a:blip r:embed="rId9"/>
          <a:stretch/>
        </p:blipFill>
        <p:spPr>
          <a:xfrm>
            <a:off x="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花边01"/>
          <p:cNvPicPr/>
          <p:nvPr/>
        </p:nvPicPr>
        <p:blipFill>
          <a:blip r:embed="rId10"/>
          <a:stretch/>
        </p:blipFill>
        <p:spPr>
          <a:xfrm>
            <a:off x="426708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花边01"/>
          <p:cNvPicPr/>
          <p:nvPr/>
        </p:nvPicPr>
        <p:blipFill>
          <a:blip r:embed="rId11"/>
          <a:stretch/>
        </p:blipFill>
        <p:spPr>
          <a:xfrm>
            <a:off x="4767120" y="6477120"/>
            <a:ext cx="4376880" cy="3808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5"/>
          <p:cNvSpPr/>
          <p:nvPr/>
        </p:nvSpPr>
        <p:spPr>
          <a:xfrm>
            <a:off x="594360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4"/>
          <p:cNvSpPr/>
          <p:nvPr/>
        </p:nvSpPr>
        <p:spPr>
          <a:xfrm>
            <a:off x="41911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2133720" y="32004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" descr="乞巧"/>
          <p:cNvPicPr/>
          <p:nvPr/>
        </p:nvPicPr>
        <p:blipFill>
          <a:blip r:embed="rId3"/>
          <a:stretch/>
        </p:blipFill>
        <p:spPr>
          <a:xfrm>
            <a:off x="2948040" y="1219320"/>
            <a:ext cx="4672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399348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 巧 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4" descr="乞巧节"/>
          <p:cNvPicPr/>
          <p:nvPr/>
        </p:nvPicPr>
        <p:blipFill>
          <a:blip r:embed="rId3"/>
          <a:stretch/>
        </p:blipFill>
        <p:spPr>
          <a:xfrm>
            <a:off x="1600200" y="1600200"/>
            <a:ext cx="6095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3"/>
          <p:cNvSpPr/>
          <p:nvPr/>
        </p:nvSpPr>
        <p:spPr>
          <a:xfrm>
            <a:off x="4099320" y="588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巧供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乞巧供桌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3902760" y="5904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乞 巧 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乞巧馍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3956400" y="588168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巧　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巧芽"/>
          <p:cNvPicPr/>
          <p:nvPr/>
        </p:nvPicPr>
        <p:blipFill>
          <a:blip r:embed="rId3"/>
          <a:stretch/>
        </p:blipFill>
        <p:spPr>
          <a:xfrm>
            <a:off x="1447920" y="1523880"/>
            <a:ext cx="60451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54:51Z</dcterms:modified>
  <cp:revision>5</cp:revision>
  <dc:subject>第一PPT模板网-WWW.1PPT.COM</dc:subject>
  <dc:title>第一PPT模板网-WWW.1PPT.COM</dc:title>
</cp:coreProperties>
</file>