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60F2-6FC5-4425-98DC-E47BF8A345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F6CD-7B83-4688-B09C-155CF2E73D7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DD9F-9448-4827-9C5B-6662BA1A14D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E185-64EB-423B-A646-A55639C2A3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4D79-5A14-458D-9C95-774591A4F1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D169B-676E-494F-B302-A8009B7A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0A7E0-09A1-4C27-9535-C83EB705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F7354-1FE6-409F-85C0-D29E5B6D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C3CD0-DA59-45BC-9725-61181830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D94AE-77B4-47C7-B18B-885C8475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3FEDD-E483-4F8A-81C1-690FE7A5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248E4-3EA7-4016-990A-42B0CCFF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EBA8B-81DA-45DC-B3F1-E726B66C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2F6D5-047D-4287-9800-E7F524DB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51260-77E8-48FB-90EB-B70A8A6B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4E2D5-7E8F-45F1-8388-7066FB4F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FCB3C-6E1A-4B9E-8BE4-E455A802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F1C58-9533-4C6F-BC17-45F6EDDC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737F0-AE78-45DE-B311-609EA916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407FC-DBD1-4C3D-BED4-002745CE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5B31C-4F7C-4A3D-BAC2-48B4C85B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D86A5-AD6D-4DBB-943F-6C0D15FD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85EDD-4014-4C61-8CBF-B86468B8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01F33-8D9A-46C7-8BA3-C4279658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3C950-C4AF-40F8-AC2C-C8F9A960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789D7-DE1C-4EBC-A381-FCF546AB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1F383-FD02-475F-8D82-42AC4E0A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DE46D-E55C-4427-AF7C-5F058F10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A8CEF-E24B-4508-8E18-D51585A1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D54EA-93F6-4AB4-8C8F-FC740C53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27CAD-6511-4F40-AEEB-2A2203AC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BACBE-E1AF-4C01-AF41-7994A8E8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BACA1-2808-4403-8D43-0991310D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3B3A5-4AED-424D-8CC5-4E59CD23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5CC69-1403-4EB3-A837-992C0B5E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79C-6F94-4420-9FB5-FAFBA958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1DBB0-6E56-47B8-AC61-2A57D262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2ACAC-0546-4E35-8DB4-7FED93B3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99C30-4049-4E68-935A-082824DD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F1738-7266-4A29-B395-9FE570E0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1F553-08B9-4099-B655-9BE3EDA0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76C21-7EBF-44AB-85E5-73D721E8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CE6B5-8C96-4640-85B4-572B557A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B5FE4-5CD8-4A21-8BD3-CFB89F11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B4EC6-02AC-498A-B974-7010E281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963AB-8F3E-4594-B67E-B72E09F7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773E-7EDF-4270-9162-10039464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2A00E-EA4C-485E-8146-ED17F888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D7D61-4957-4FD2-A13F-4F8FE12A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F08A4-CCCF-41D5-A12C-295B28A1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9F818-B307-4AAB-9D5B-61447566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AF904-8D30-432B-8009-5E2251AE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34EA9-23FB-4D38-BA0C-811DD371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3EB3C-584B-445A-8566-121D0FF1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74B39-6AB8-41E8-A30E-26A9F79C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E69A4-7D87-4336-9D40-E36536EC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95A6A-B056-46D3-848E-FD19019E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8330-FED8-44FC-BEE6-11DA4971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8FCBF-5E09-4771-B3EF-BDEC633C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81795-0A54-4E27-837B-98455BDF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5A391-A3A3-4BDE-91EC-5BE54907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AC1CA-BF02-4F1C-9DC7-80797C8E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5DB1E-3D7E-47A4-BF95-83175D6A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161E2-1103-4ED5-B0BF-44EAC964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96825-817D-4FD1-ACF3-D2603344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36894-D73B-4BE4-965A-5BF8E3D7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FCDDC-FE66-4063-AACE-779B72B1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5FDC9-8430-4CF9-98E0-DD99CB5D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E81-0685-428A-8339-48E2B959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93012-C572-4D3D-9E2F-D4C09FA1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01635-BA92-4D9C-89EF-1DCB5341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838B7-96FC-40E0-AF5A-66F556B7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6B8D0-F805-4224-87BB-6ABCFDA3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494F2-EDA1-45B4-997E-93737FE6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6661C-0479-44F9-B15A-5FCB0E7B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9101F-EA4B-473B-88F4-F20D4F43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2EC83-A21D-4EEE-9F3F-F443CCDB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BED13-4E95-4E6B-BFE2-D47436EA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064-2921-4567-8492-F8CC2A0A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E90-D066-41B1-9C77-688EC168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139F-EFE3-4BA8-B1D7-58D3ECD4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25F-7B3E-4223-A695-6D7365CE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60B5-2305-4FB2-8F9A-BBF9D373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6C2-E0E6-4845-97A3-A9E2A489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E4CB-3C32-4F01-BEA9-0C14D0DE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350-9320-4346-9401-ECCEF23F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ED4C-4D03-4724-BECD-24D22D54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C8E4-CF47-4B4F-AFCE-B4B0B203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37DF-7C5D-48EA-A975-62F7DF23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38B1-1482-4B49-BB32-F37A3D56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D765-8215-4885-9697-942E41AE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BE69-B489-49DC-8493-F095F6C5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B8F0-6B60-482C-98B3-77E5467C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A795-C5D5-4A1E-BF70-BA65BA7C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E6A4-2548-42EB-B8DA-FA3C94CC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88F8-07EA-4330-9BB7-6F81F36E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FD26-6287-4803-88BE-DE37B83F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72E3-B978-45F1-AE21-70035048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16805-F79B-466D-B3AE-A73567D4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9F3CF-7747-4E87-9A5A-B77B89E6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0E9E6-42C2-4EF8-A537-DC8EA878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F0DD5-9D3D-46E3-BA44-7F136AA8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7833-52F2-498A-B7CC-856ED374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C805D-3D1F-4958-8214-CE59F2C9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CFD2-B1A8-47A7-924A-59CE769D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35D23-9F88-4657-961F-381EC445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1448D-E702-4A4A-A8BD-421EABD9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C53B1-8A7D-4A17-9CB5-0C9991E3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7A702-95AB-4795-81AF-716AB1DC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915F8-E8E2-4BB8-85E2-0AE0C421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F3C6D-B965-4FF2-A833-7F57EBA8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6B0A4-7C33-4432-ABE7-AEEB01E6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A7B29-2ABD-4CA8-8DD1-6E96E639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B8ECD-3E32-459D-87F5-12038952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8A853-C022-4385-9DD3-3A1658C6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8E7B6-E211-468A-AFB0-7D514970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5F056-BD0B-4C5E-A220-824AFBF1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8BAB0-30DE-4E71-971F-103CE26A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3DE3B-0A78-4718-A431-15A31DC9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69183-39D8-48FB-BB8B-2F271FAE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8701B-FA1B-4885-8421-C8A82158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3964A-A605-446E-BFB8-705B981C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C42CD-089F-49AE-9F80-5B035DA9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D1DF4-E8E8-488F-9F2A-5EA1C7E0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26DBD-3485-4FB9-B1B0-B2AFE06D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E43C2-F0AF-4B35-8FDF-2CB87A7D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20EB8-8BE7-4730-8B42-7DFBA368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307E9-0190-4FD2-B8B4-CD541A54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B355B-D273-4A21-B615-C6CFFEC5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E55DE-F5C8-4F6E-A152-18E3C111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F515A-7135-4A55-B5CD-AB773BC6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D7983-196F-49E5-94F2-02434AE1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D41A0-B575-4CC0-8745-3CEACF1F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2E63F-A925-4C54-828D-8EAD144B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C61F4-C10F-418D-96DE-C304C571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2ED7B-2062-4AF1-948A-9CB9EF8C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67B9B-F4AA-4791-BFF2-2C74A176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082D4-F39A-4A13-95A6-B7AD80C1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A0C8A-C4D2-4BC8-A0AD-A576BED1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CECF2-326D-4AA2-A0B2-32FA5542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B998A-A3F5-4A7D-8AB0-36E364FC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6C0E5-2094-47E9-B2A9-43A67EEB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744E8-6E10-4B0E-B7EF-6A50ABFB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592DF-D4B3-4BA9-A5C0-81814C9B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4A224-5DB5-4DAD-B6D8-6A22C530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72F04-2FA1-4A57-AE24-F6AB2E13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65A67-2B97-43D4-9272-F2C45D63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970F6-2068-41A3-9B2E-46CFAD0B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F3D85-7BDF-4892-A9AE-2C77ADDC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4683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0B99-C926-4186-9894-399296947B9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E808-FE2E-4118-9C5E-313015B1AF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AA3C-E674-4AFD-AFCF-95858E78706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C5F1-A537-4C27-A64A-5631AA206D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7C33-0C1C-443F-929A-5FB78D52AF8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D39C-62BF-4A05-AFCA-6178F90DEE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204F-0A07-424B-A5E2-9E4037F9E32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4D45-0DF0-4A0C-96F8-E78E7B3064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6EBF-17EE-473F-A194-84284D1DAD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46B3-0DA8-4A5E-BA30-A18417937E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5846-56AE-43D8-BA8A-049D842E98E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AFA4-9B47-4ADD-904B-C9EF51BC26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4CEF-BE36-4FE2-B949-740E5E70625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1AA2-9E0E-4EDF-864B-A43207DF56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1B44-797B-4C4A-9A29-3E10CBAE33F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8B54-EA15-411B-AAE2-ECD65BAE86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B115-ADD1-4E4B-B243-A5457FB1A5F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D6A7-E5FD-47F3-A3B4-95FA9303C3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C97F-B0AD-41FC-B7DD-D2D660CBB17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CEE7-8ECB-4033-9314-3379B410FB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8758-806B-4D21-A61C-ABA527F4CB2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A761-6EBC-4E0A-B958-DCA6B2CBDF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F83F-6CA6-48EC-ABA8-6A0625905A8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6C96-FC24-4E99-A5A5-AEFAA5DB01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468360" y="17733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468360" y="243684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2"/>
          <p:cNvSpPr/>
          <p:nvPr/>
        </p:nvSpPr>
        <p:spPr>
          <a:xfrm>
            <a:off x="0" y="2349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Administrator</dc:creator>
  <dc:description/>
  <dc:language>en-US</dc:language>
  <cp:lastModifiedBy>a</cp:lastModifiedBy>
  <dcterms:modified xsi:type="dcterms:W3CDTF">2015-02-10T11:32:16Z</dcterms:modified>
  <cp:revision>66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  <property fmtid="{D5CDD505-2E9C-101B-9397-08002B2CF9AE}" pid="3" name="NXTAG2">
    <vt:lpwstr>0008008c02000000000001024140</vt:lpwstr>
  </property>
</Properties>
</file>