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A5C-6786-479E-89A5-099B5F44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7F5-20A4-465C-9C72-1A4CE0C4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8203E-38C2-4E1D-94A3-808A996C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1D5EF-F67E-428B-A499-DA504FAE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70293-819A-433E-8371-8C37722B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32B68-2870-4126-8E01-B7A8290F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FA8F1-8A51-4EF8-9AAF-40A3212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583F2-8FA1-480F-B9B5-9BB5614B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58BE0-558F-4EC4-9F3C-14E0B480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145E3-B99B-4EC4-8DE1-DBA4DE4F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76729-31A7-45B6-8A84-7E0C6233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D4303-2459-483E-A0ED-162AAEC8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B62-E4ED-42BC-99A0-6DAF1E22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A96E4-561F-4071-967F-A8DBC67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A6F7F-80AB-4728-AE2A-18E84A0E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111F9-5C1D-4977-B387-52467A8D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80FB3-6CB6-46D5-B771-5B3165E2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B1A2D-0AC9-496A-A46E-04296161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9D351-E285-4FDC-B506-5AC77FEC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F61DB-BEBB-4226-A194-76FA80C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58D1A-CAF0-4272-8644-C9C16DAA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8A18D-234A-4994-A996-596D7C92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C02F0-F3CB-40A1-B350-5C378176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2A7-6A8B-49A7-999F-851D3075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4AD5-4553-4E6D-BE77-A503FC04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EA32D-9601-4D44-8EB3-BDA4A62D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B4A45-F217-40B4-AAD0-AF8511C7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6B4CA-8EB0-433E-B974-6D30F4C4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B0AE5-DFEB-41AD-9758-D71C28BD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2F010-8CCD-4064-9CD8-9C0892CE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DA4D4-2F47-450E-8731-715C001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3A764-D7E2-44FF-92A6-BF790BD0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68EA3-4DF4-4936-AF02-17DC4AF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59172-743A-4D93-9BCF-6A09A00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D0A2-45C6-47EA-AFCC-252186AD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5F30F-9F7B-4122-B196-9500D3C2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D2548-960E-4953-B0DB-BE14BB72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C63E5-9CB1-4C6C-B230-6C83D006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85E76-5422-423D-B34E-2798E769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F4AF9-3727-4833-AC08-5555C196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431E5-88B1-4D2A-97A0-6D6275BE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A4026-F6DD-4FA7-9C91-559FA945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5B089-E78C-41C8-BD05-7558EAE9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F5A7C-443B-4775-BB6F-F0A4BD6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7BA68-6AFD-451F-910B-089AB9D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0D87-45D9-4F2B-98BE-6B4379F1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DDB92-6DE8-4386-8F44-56467E4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4DE69-D945-43AD-BBE7-4F246A0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01661-B98D-4A90-A019-F8CD5D8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CB3CF-AA67-4685-93E7-AE5ABBAC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CE2E1-7E64-425B-A318-1BB931B3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763FF-197A-4BD9-ACCF-B5A2614D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AA69C-1D01-497D-A3B3-FC63D55B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E6F26-6147-4BD6-89E6-0A7B6958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FD490-E071-4064-8458-8243D5DF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8AB3A-2F75-478C-9387-5361745A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7866-9C06-49D1-A2EB-EFAD2B5D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23424-76D4-4EEE-93E8-F60F3084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9B2C5-1AC5-4638-AE39-D6FD8DF8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896C7-1C3E-4B74-8B70-B0D6DBC6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B7A3E-D862-42E4-B44A-8F07BDC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F6F55-61F7-4C59-A82C-A05D2634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88F19-5DDC-44E5-AA3A-9A981306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B073A-E251-4DFB-941F-670165D1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2A8BE-237B-4B72-AFF7-A12661CD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8B990-7CC8-4DB1-8E1C-6AD8BFDA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13E92-F3AE-4589-A918-FF99772B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87AA-C91F-47AD-963F-41374341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828C1-8530-40C1-A1AA-FDFD2402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69793-AFBF-4132-A701-E5CF0550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C3A14-E818-4A7A-90DC-AF62BA33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DD542-409E-4E15-8EFE-9871127B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05A8E-C877-4F68-9D85-C2F1895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E143B-3192-4D92-AD97-FCDFFF4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66DC8-28D6-4CCF-A1B9-3F55CC2C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3A54E-A608-412F-A0D0-2C72A6C7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260C6C-2DC9-4CCE-A125-E1740C78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502F-F878-46A0-8CDE-E1CF3593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DE3A-915C-4F17-9A3A-FBFC5321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43B9-9722-43A2-94A4-11D77802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8CA-3389-4DEC-8310-8EBBFAD7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89BE-333F-482F-9199-F7B090A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5744-4804-45F5-B5D6-36EE6167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3B28-E621-4766-B1F7-90A517F4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8B83-7083-4C30-A4F5-936AC50B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532D-98A7-4F4E-834C-5802ADB6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8C43-9B47-4BF6-8FF7-A8D83475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F207-7C0A-4033-8887-CC0D5714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9359F-48B7-4B56-A333-C1E0B235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1167-D66D-4177-AA69-9B737612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5FFF-7FBD-4C78-93BC-57FFEAFD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9D9-17A9-4304-A40C-0AE4F52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F1E9-C3F7-4A09-9832-DDCDC71A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417D-028E-4561-8AF9-2C23D2F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091F-5DAC-42AE-BFAC-691C2C25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B597-18B0-4C67-B50F-CE5D7651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AF97-662A-4982-87AE-2BDC0256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BDF5-F796-45B0-8BFC-0B1075F7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84A8-7F5F-4E5A-8D2F-492C96BD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2F7F-21E5-4D63-86EA-AD557B11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E2F8E-7918-4A1C-B69E-F29B9A1D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129D2-6C2C-42B4-8C54-806B3322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BE5-83FA-40EC-95A0-990813FC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20E03-A13D-469F-A746-A36BEBF1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6891-C4BB-44A1-A1FB-645A39B2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1348-DEA5-4AAF-924B-2537372E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FDC0-BE59-4F59-A6AC-46570F9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F1B5-AB88-4D6C-98F6-FB77D4E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E716F-1C3C-48F1-B6B1-FDBC6AD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BDBAD-B1C4-45F5-A7D7-E4473F74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055D-7A56-4EA4-A5B0-E76D6AA4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FEEF-60E1-4E97-90DA-BA7F7237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4D3EF-7CE2-4C31-90D8-63264756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67A-B7D7-4971-9649-AF73C883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DFE5-0218-4CB9-AABF-DCC716BA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496A-ACF8-4D89-AE80-5DF1333F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537A-66F4-4BAF-98A7-489895C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3218-4366-42A3-B7F2-9CF27C23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CD30-86EB-4309-B280-8B9E0F65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D726-A66D-40DD-8011-B9E72BA3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3597-F06B-477E-911F-6ACE95FE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01B1-79BA-4406-8E56-0D3271EF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5192D-A856-4A3C-B127-20DB230D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8BAC6-22A3-498A-AC76-FA29C2F7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FB5-9AAD-45B4-95F9-9C250113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5FE7-1D92-4C2E-BEA0-EAAF8ECF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62E20-F800-4ED0-8882-17D55783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2C7AE-9744-412F-AD6E-2AF70840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E6D18-9329-41B9-A79A-4ED8096E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545A-7C49-43CC-AA8E-F477B087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C212-844D-4EA0-87C3-02A7B712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DFD46-E938-4625-B7FF-3879EE5A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395E-F00F-42E2-9627-7B81BE0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2CE9-A125-43E6-A2E8-B1AB362C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2803-4976-4E61-86D1-29D877B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B01-9A17-40DA-B207-76F1D923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046B-E070-4220-A4CC-52913AF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FB29F-E6D9-4BA2-B419-51B9B572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EAAC-3715-4CC6-8FE7-043F68FC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96E81-E8F3-4FA3-BC5B-F45B15D3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1B494-50AC-4B1C-86D9-1FB3CD02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55465-246D-41CB-AA62-C0280F30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A37C-F491-423A-AD49-4B42622F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8BBED-D7E8-4368-B07D-24130E2F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DEBDF-890F-4488-AC5A-C4728531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02B1E-74E4-4AE2-B98B-52FEF8ED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9BD-8ABA-45C4-AC7A-CA6DCB4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B5D23-5F48-4070-9396-846663C7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BCD6A-0390-4DC0-97E5-15D1CA0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8BC4F-E98E-4AEC-97EA-2034ABB3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07C7F-8725-4B0B-A9AB-F858137C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C64A8-67E6-4551-83AC-54993DFB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6C46F-0E10-4D7B-A3CF-B63B52AF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5D2D1-2FBC-4B24-BE18-B3EFAAEB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70316-1A1E-411C-814C-D7BA50BB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C9D00-EDA9-4A68-A2B3-32D5E77F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90578-8890-4443-AF43-BB0CA583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6DC-2E4B-496B-9ED9-7F93878E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4B3F7-D7E2-4411-AF5C-7EA7057D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9D683-6234-46FC-B5A8-BA6F193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4884-AF83-40B9-99D1-46C55483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1F3FB-693A-4002-BD45-1A58BBF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7E0B9-99A9-42B5-9AF9-084AAC54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8911-375D-4AEF-9E75-EDF43983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236F-D979-4743-8560-70C8B646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0D585-C41F-4C71-A907-B6A432C8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CB9E4-093C-40A2-B755-0B3758C6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847F4-989A-4664-97D3-71AEFE5C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66CE-B667-4283-A6C7-A48CC9285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A39C-D80A-4013-B3C9-FBEABC0C45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D14C-456C-47AD-ABFA-F4E0EC87AE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8E9F-0F8D-4722-896C-4CC59E9747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F258-EEE1-45BD-9263-3128D5F09A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0F71-00ED-4172-AB5E-5C169055EA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24FC-9CA2-4859-BC2D-DFC23570FD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E47-3314-4ADA-B1A0-7043375DE9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35CB-D2F7-4F3A-B921-F3F39AB49A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ADBA-8B09-429D-BB82-115707EBF2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5C1C-05C9-4558-BE3C-34091F456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DA26-87A5-4915-B949-BAEACDF5B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A8FD-EBF4-49C3-962A-0A98288DA0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F1E-F3F5-4180-BC6A-EAD5D2362D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C357-A73C-4E77-AB24-48A597C36E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0C12-6FBB-4EE6-B9DC-36AC9A2AE2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B810-7ECA-414E-85E2-8D33CAC953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AA99-FB76-4FA9-8F6D-103438B68B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E9A1-1174-4749-B8CC-BF01AD7CB5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2A35-341A-45A4-ACF4-02F82F21CD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D352-A99C-4D21-BF11-F11025F272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3E96-F49A-4102-B2D5-9057ACBDCE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DF54-4C40-408F-AFF9-CF8809518D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B751-EF46-48AA-ADC6-BA1F958F52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BF1-7865-4859-839F-68ACA52266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5401-FE3E-4C64-B064-77DA16CBBA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79280" y="3429000"/>
            <a:ext cx="568800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凤辣子”初见林黛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WordArt 3"/>
          <p:cNvSpPr txBox="1"/>
          <p:nvPr/>
        </p:nvSpPr>
        <p:spPr>
          <a:xfrm>
            <a:off x="324000" y="1197000"/>
            <a:ext cx="532764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新魏"/>
              </a:rPr>
              <a:t>人物描写一组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"/>
          <p:cNvSpPr/>
          <p:nvPr/>
        </p:nvSpPr>
        <p:spPr>
          <a:xfrm>
            <a:off x="160020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2209680" y="12193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84360" y="1628640"/>
            <a:ext cx="7772400" cy="2288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貌虽小，举止不俗，身体面庞虽怯懦不胜却有一段自然的风流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众人眼中的黛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弯似蹙非蹙罥烟眉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一双似喜非喜含情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态生两靥之态，  娇袭一身之病．泪光点点， 娇喘微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闲静时如姣花照水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行动处似弱柳扶风．心较比干多一窍，病如西子胜三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宝玉眼中的黛玉</a:t>
            </a: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1476360" y="0"/>
            <a:ext cx="62485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阅读下列两段文字，回答问题</a:t>
            </a:r>
            <a:r>
              <a:rPr b="0" lang="en-US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826920" y="4724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上是属于什么描写？说明黛玉的什么 样的性格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140328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仿宋"/>
              </a:rPr>
              <a:t>肖像描写；（美貌）多情、（体弱）多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539640" y="260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林黛玉形象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83240" y="1916280"/>
            <a:ext cx="1094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      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4"/>
          <p:cNvSpPr/>
          <p:nvPr/>
        </p:nvSpPr>
        <p:spPr>
          <a:xfrm>
            <a:off x="1403280" y="1413000"/>
            <a:ext cx="152640" cy="4267080"/>
          </a:xfrm>
          <a:custGeom>
            <a:avLst/>
            <a:gdLst>
              <a:gd name="textAreaLeft" fmla="*/ 97560 w 152640"/>
              <a:gd name="textAreaRight" fmla="*/ 153000 w 1526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476360" y="1413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美貌）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1476360" y="31417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体弱）多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403280" y="47973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言行）多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8" descr="xsgs487"/>
          <p:cNvPicPr/>
          <p:nvPr/>
        </p:nvPicPr>
        <p:blipFill>
          <a:blip r:embed="rId2"/>
          <a:stretch/>
        </p:blipFill>
        <p:spPr>
          <a:xfrm>
            <a:off x="179280" y="692280"/>
            <a:ext cx="704880" cy="99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2"/>
          <p:cNvSpPr txBox="1"/>
          <p:nvPr/>
        </p:nvSpPr>
        <p:spPr>
          <a:xfrm rot="5400000">
            <a:off x="5990760" y="1504800"/>
            <a:ext cx="2808360" cy="161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4" name="Picture 3" descr="xsgs1-026"/>
          <p:cNvPicPr/>
          <p:nvPr/>
        </p:nvPicPr>
        <p:blipFill>
          <a:blip r:embed="rId2"/>
          <a:stretch/>
        </p:blipFill>
        <p:spPr>
          <a:xfrm>
            <a:off x="8286840" y="2924280"/>
            <a:ext cx="857160" cy="2857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6"/>
          <p:cNvSpPr/>
          <p:nvPr/>
        </p:nvSpPr>
        <p:spPr>
          <a:xfrm>
            <a:off x="1187280" y="90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3"/>
          <p:cNvSpPr/>
          <p:nvPr/>
        </p:nvSpPr>
        <p:spPr>
          <a:xfrm>
            <a:off x="3132000" y="0"/>
            <a:ext cx="6012000" cy="27853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红楼梦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，又名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石头记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，是一部具有高度思想性和艺术性的伟大作品，在我国文学史和世界文学史上都占有重要的地位。本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节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自第三回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林黛玉进荣国 府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作者曹雪芹，名霑，字梦阮，号雪芹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全书以林黛玉和贾宝玉的爱情故事为中心，揭露了封建统治阶级的罪恶和腐朽本质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揭示了封建社会必然崩溃的历史发展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395280" y="1989000"/>
            <a:ext cx="676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凡鸟偏从末世来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1187280" y="4221000"/>
            <a:ext cx="53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哭向金陵事更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3767760" y="2708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都知爱慕此生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3233880" y="3860640"/>
            <a:ext cx="108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一从二令三人木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2700360" y="40464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判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2286000" y="573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方正粗圆简体"/>
              </a:rPr>
              <a:t>王熙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4500720" y="54936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猜一猜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79520" y="610236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5950080"/>
            <a:ext cx="35049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肖像描写的浓墨重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3755880" y="610236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5356080" y="5950080"/>
            <a:ext cx="35053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貌似可喜，实则可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468360" y="260280"/>
            <a:ext cx="8459640" cy="187344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容貌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双丹凤三角眼，两弯柳叶吊梢眉，身量苗条，体格风骚，粉面含春威不露，丹唇未启笑先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2195640" y="4076640"/>
            <a:ext cx="4824360" cy="642600"/>
          </a:xfrm>
          <a:prstGeom prst="rect">
            <a:avLst/>
          </a:prstGeom>
          <a:solidFill>
            <a:srgbClr val="0000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美丽俊俏，狡猾刁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8" descr="20040525122356(1)_200405251223561"/>
          <p:cNvPicPr/>
          <p:nvPr/>
        </p:nvPicPr>
        <p:blipFill>
          <a:blip r:embed="rId5"/>
          <a:stretch/>
        </p:blipFill>
        <p:spPr>
          <a:xfrm>
            <a:off x="3132000" y="6095880"/>
            <a:ext cx="95256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"/>
          <p:cNvSpPr/>
          <p:nvPr/>
        </p:nvSpPr>
        <p:spPr>
          <a:xfrm>
            <a:off x="250920" y="5734080"/>
            <a:ext cx="3886200" cy="581400"/>
          </a:xfrm>
          <a:prstGeom prst="rect">
            <a:avLst/>
          </a:prstGeom>
          <a:solidFill>
            <a:srgbClr val="ff00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老祖宗戏为“凤辣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"/>
          <p:cNvSpPr/>
          <p:nvPr/>
        </p:nvSpPr>
        <p:spPr>
          <a:xfrm>
            <a:off x="4356000" y="5877000"/>
            <a:ext cx="1752840" cy="304560"/>
          </a:xfrm>
          <a:prstGeom prst="rightArrow">
            <a:avLst>
              <a:gd name="adj1" fmla="val 50000"/>
              <a:gd name="adj2" fmla="val 143883"/>
            </a:avLst>
          </a:prstGeom>
          <a:solidFill>
            <a:srgbClr val="00cc9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516720" y="5734080"/>
            <a:ext cx="2158920" cy="6426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深受喜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5"/>
          <p:cNvSpPr txBox="1"/>
          <p:nvPr/>
        </p:nvSpPr>
        <p:spPr>
          <a:xfrm>
            <a:off x="7308720" y="1557360"/>
            <a:ext cx="1224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受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宠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179280" y="4365720"/>
            <a:ext cx="8748720" cy="13842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先恭维，再拭泪，后转悲为喜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视贾母态度而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3"/>
          <p:cNvGrpSpPr/>
          <p:nvPr/>
        </p:nvGrpSpPr>
        <p:grpSpPr>
          <a:xfrm>
            <a:off x="539640" y="1484280"/>
            <a:ext cx="8604360" cy="855720"/>
            <a:chOff x="539640" y="1484280"/>
            <a:chExt cx="8604360" cy="855720"/>
          </a:xfrm>
        </p:grpSpPr>
        <p:sp>
          <p:nvSpPr>
            <p:cNvPr id="604" name="Text Box 4"/>
            <p:cNvSpPr/>
            <p:nvPr/>
          </p:nvSpPr>
          <p:spPr>
            <a:xfrm>
              <a:off x="539640" y="1484280"/>
              <a:ext cx="261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察颜观色，</a:t>
              </a:r>
              <a:br>
                <a:rPr sz="1800"/>
              </a:b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"/>
            <p:cNvSpPr/>
            <p:nvPr/>
          </p:nvSpPr>
          <p:spPr>
            <a:xfrm>
              <a:off x="6804000" y="1484280"/>
              <a:ext cx="23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随机应变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7688880" y="189000"/>
            <a:ext cx="1155240" cy="5410080"/>
          </a:xfrm>
          <a:prstGeom prst="rect">
            <a:avLst/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天下真有这样标致的人物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3"/>
          <p:cNvSpPr txBox="1"/>
          <p:nvPr/>
        </p:nvSpPr>
        <p:spPr>
          <a:xfrm>
            <a:off x="1476360" y="306864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邀宠取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-364680" y="115920"/>
            <a:ext cx="1277640" cy="6553080"/>
          </a:xfrm>
          <a:prstGeom prst="rect">
            <a:avLst/>
          </a:prstGeom>
          <a:solidFill>
            <a:srgbClr val="ffff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只可怜我这妹妹这么命苦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3124080" y="6248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1763640" y="5805360"/>
            <a:ext cx="2448000" cy="6426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悦贾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219640" y="5805360"/>
            <a:ext cx="2448000" cy="6426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悦贾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2340000" y="162864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肖像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5292720" y="162864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语言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2340000" y="350028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行动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6"/>
          <p:cNvSpPr/>
          <p:nvPr/>
        </p:nvSpPr>
        <p:spPr>
          <a:xfrm>
            <a:off x="5292720" y="351936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3995640" y="4941720"/>
            <a:ext cx="2362320" cy="70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侧面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1095120" y="1341360"/>
            <a:ext cx="546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826920" y="26028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采   用   的   方   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050920" y="692280"/>
            <a:ext cx="47466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读课文，思考下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00000" y="1484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从王熙凤的服饰中，你能看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900000" y="2637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贾母怎样戏谑王熙凤，说明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900000" y="357336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王熙凤对林黛玉说了什么，这又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900000" y="51577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王熙凤为林黛玉流眼泪，该如何看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2:46:18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18:25Z</dcterms:modified>
  <cp:revision>18</cp:revision>
  <dc:subject>第一PPT模板网-WWW.1PPT.COM</dc:subject>
  <dc:title>第一PPT模板网-WWW.1PPT.COM</dc:title>
</cp:coreProperties>
</file>