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A66-A031-43B7-B609-F4191DC7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9D9B-0740-424D-8E86-8416900C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DF4-68F4-4EAE-A140-DC955B77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6CD-3099-4CAF-8989-8A4198A6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551D-5130-4FBC-81A9-2E88C388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374F-D926-4828-9175-C6BA0DE2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40D4-FB71-40B4-B5D4-4B812DBA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6CEC-7EA5-46B1-B9D5-AC8F991C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0952-095A-452A-88E3-76E344C6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5DB4-5799-4B64-A573-CF4A0F9F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3468-AA50-430D-BC34-BDF2980D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0FE-ED1B-462B-88CA-7B9744EB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9D91-F24C-4BAE-8059-30B0FE1F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044C-47D5-4DA2-8125-98DECEE0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AC4C-4F8B-467E-991F-812B7A00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4B1C-8A08-49EA-AFF9-AEB694B0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C7CD-9D2A-4EE8-B9C2-3B2EBBE3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401-E760-4304-A2D6-1BDF7FD0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004-1372-4C4F-BADF-43DEB69B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9CC-A067-468A-8932-7943B1DC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CFA-5DB6-47E6-8C43-51EDE860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9EE6-F92B-4903-BF54-E94D29A6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41A-ADF9-42FB-B745-58E01C8D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7CF-C91E-4C86-841B-6D24FC51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5E1D-703F-4C99-A98C-20A400FE2E9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914400"/>
            <a:ext cx="9009000" cy="1052640"/>
            <a:chOff x="0" y="91440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022400"/>
              <a:ext cx="711360" cy="474840"/>
              <a:chOff x="290520" y="102240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02240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0224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444680"/>
              <a:ext cx="737640" cy="474840"/>
              <a:chOff x="414360" y="144468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44468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4446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3716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91440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736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5B42-66EB-4A34-90EC-DBC3BC99E10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第十章   设备管理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920" y="2133360"/>
            <a:ext cx="670536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一、设备及设备管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二、设备的选购、安装与调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三、设备的合理使用和维护保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四、设备的更新与改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  <a:ea typeface="隶书"/>
              </a:rPr>
              <a:t>（二）设备的磨损理论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设备的有形磨损：机器设备在使用过程中因震荡、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擦、腐蚀、疲劳或在自然力作用下造成的设备实体的损耗。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称物质磨损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第Ⅰ种有形磨损：在使用过程中，由于摩擦、应力及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化学反应等原因造成的有形磨损，又称使用磨损。表现为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　　　  ①零部件尺寸变化，形状变化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   ②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公差配合性质改变，性能精度降低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   ③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零部件损害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第Ⅱ种有形磨损：不是由于使用而产生的，而是源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自然力的作用所发生的有形磨损，又称自然磨损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68580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第十章   设备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有形磨损曲线（规律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设备有形磨损的发展过程具有一定的规律性，一般分为三个阶段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第Ⅰ阶段：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初期磨损阶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磨损速度快，时间跨度短。对设备没危害，必经阶段，叫“磨合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或“跑合”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第Ⅱ阶段：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正常磨损阶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最佳运行状态，磨损速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缓慢，磨损量小，曲线呈平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状态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第Ⅲ阶段：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急剧磨损阶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磨损速度非常快，丧失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度和强度，事故概率急升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68580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第十章   设备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56386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24280" y="3352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4114800"/>
            <a:ext cx="3886200" cy="1523880"/>
          </a:xfrm>
          <a:custGeom>
            <a:avLst/>
            <a:gdLst/>
            <a:ahLst/>
            <a:rect l="l" t="t" r="r" b="b"/>
            <a:pathLst>
              <a:path w="2448" h="960">
                <a:moveTo>
                  <a:pt x="0" y="960"/>
                </a:moveTo>
                <a:cubicBezTo>
                  <a:pt x="44" y="912"/>
                  <a:pt x="88" y="864"/>
                  <a:pt x="144" y="816"/>
                </a:cubicBezTo>
                <a:cubicBezTo>
                  <a:pt x="200" y="768"/>
                  <a:pt x="256" y="712"/>
                  <a:pt x="336" y="672"/>
                </a:cubicBezTo>
                <a:cubicBezTo>
                  <a:pt x="416" y="632"/>
                  <a:pt x="512" y="600"/>
                  <a:pt x="624" y="576"/>
                </a:cubicBezTo>
                <a:cubicBezTo>
                  <a:pt x="736" y="552"/>
                  <a:pt x="840" y="544"/>
                  <a:pt x="1008" y="528"/>
                </a:cubicBezTo>
                <a:cubicBezTo>
                  <a:pt x="1176" y="512"/>
                  <a:pt x="1488" y="488"/>
                  <a:pt x="1632" y="480"/>
                </a:cubicBezTo>
                <a:cubicBezTo>
                  <a:pt x="1776" y="472"/>
                  <a:pt x="1784" y="488"/>
                  <a:pt x="1872" y="480"/>
                </a:cubicBezTo>
                <a:cubicBezTo>
                  <a:pt x="1960" y="472"/>
                  <a:pt x="2080" y="472"/>
                  <a:pt x="2160" y="432"/>
                </a:cubicBezTo>
                <a:cubicBezTo>
                  <a:pt x="2240" y="392"/>
                  <a:pt x="2304" y="312"/>
                  <a:pt x="2352" y="240"/>
                </a:cubicBezTo>
                <a:cubicBezTo>
                  <a:pt x="2400" y="168"/>
                  <a:pt x="2432" y="40"/>
                  <a:pt x="2448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5105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9246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51814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Ⅰ               Ⅱ                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327672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磨损程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53280" y="56386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时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隶书"/>
              </a:rPr>
              <a:t>零件磨损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58016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设备的无形磨损：不表现为实体的变化，却表现为设备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始价值的贬值，又叫精神磨损。有两种情况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1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）第Ⅰ类无形磨损：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由于设备制造工艺的不断改进，劳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生产率不断提高，致使生产同种设备所需要的社会平均劳动减少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成本降低，从而使原已购买的设备贬值。不影响设备功能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2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）第Ⅱ类无形磨损：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由于社会技术的进步，出现性能更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善和效率更高的新型设备，致使原有设备陈旧落后，丧失部分或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全部使用价值。又叫技术性无形磨损。其后果是生产率大大低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社会平均水平，因而生产成本大大高于社会平均水平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68580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第十章   设备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9036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  <a:ea typeface="隶书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  <a:ea typeface="隶书"/>
              </a:rPr>
              <a:t>（三）设备故障曲线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设备故障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设备在其寿命周期内，由于磨损或操作使用等方面的原因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使设备暂时丧失其规定功能的状况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突发故障：突然发生的故障。发生时间随机，较难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料，设备使用功能丧失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劣化故障：由于设备性能的逐渐劣化所引起的故障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发生速度慢，有规律可循，局部功能丧失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设备故障率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单位时间内故障发生的比率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66680" y="677520"/>
            <a:ext cx="77932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第十章   设备管理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设备故障曲线（规律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实践证明，可维修设备的故障率随时间的推移呈图示曲线形状，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就是著名的“浴盆曲线”。设备维修期内的设备故障状态分三个时期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1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）初始故障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故障率由高而低。材料缺陷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设计制造质量差、装配失误、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作不熟练等原因造成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2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）偶发故障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故障率低且稳定，由于维护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好或操作失误造成。最佳工作期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3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）耗损故障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故障率急剧升高，磨损严重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有效寿命结束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68580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第十章   设备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54100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648320" y="3352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4267080"/>
            <a:ext cx="3733560" cy="736560"/>
          </a:xfrm>
          <a:custGeom>
            <a:avLst/>
            <a:gdLst/>
            <a:ahLst/>
            <a:rect l="l" t="t" r="r" b="b"/>
            <a:pathLst>
              <a:path w="2352" h="464">
                <a:moveTo>
                  <a:pt x="0" y="0"/>
                </a:moveTo>
                <a:cubicBezTo>
                  <a:pt x="4" y="44"/>
                  <a:pt x="8" y="88"/>
                  <a:pt x="48" y="144"/>
                </a:cubicBezTo>
                <a:cubicBezTo>
                  <a:pt x="88" y="200"/>
                  <a:pt x="152" y="288"/>
                  <a:pt x="240" y="336"/>
                </a:cubicBezTo>
                <a:cubicBezTo>
                  <a:pt x="328" y="384"/>
                  <a:pt x="296" y="416"/>
                  <a:pt x="576" y="432"/>
                </a:cubicBezTo>
                <a:cubicBezTo>
                  <a:pt x="856" y="448"/>
                  <a:pt x="1640" y="464"/>
                  <a:pt x="1920" y="432"/>
                </a:cubicBezTo>
                <a:cubicBezTo>
                  <a:pt x="2200" y="400"/>
                  <a:pt x="2184" y="312"/>
                  <a:pt x="2256" y="240"/>
                </a:cubicBezTo>
                <a:cubicBezTo>
                  <a:pt x="2328" y="168"/>
                  <a:pt x="2336" y="40"/>
                  <a:pt x="2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3962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48720" y="3962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77320" y="5410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时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327672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故障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初始故障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3809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偶发故障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246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耗损故障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5486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ahoma"/>
                <a:ea typeface="隶书"/>
              </a:rPr>
              <a:t>故障率曲线（浴盆曲线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（四）设备维修的基本内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  <a:ea typeface="隶书"/>
              </a:rPr>
              <a:t>1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  <a:ea typeface="隶书"/>
              </a:rPr>
              <a:t>、设备的维护保养和检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维护保养：是指人们为保持设备正常工作以及消除隐患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而进行的一系列日常保护工作。按工作量大小和维护广度、深度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①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日常保养：重点对设备进行清洗、润滑、紧固、检查状况。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操作人员进行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②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一级保养：普遍地进行清洗、润滑、紧固、检查，局部调整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操作人员在专业维修人员指导下进行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③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二级保养：对设备局部解体和检查，进行内部清洗、润滑。恢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复和更换易损件。由专业维修人员在操作人员协助下进行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④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三级保养：对设备主体进行彻底检查和调整，对主要零部件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磨损检查鉴定。由专业维修人员在操作人员配合下定期进行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68580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第十章   设备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设备的检查： 对设备的运行状况、工作性能、零件的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损程度进行检查和校验，以求及时地发现问题，消除隐患，并能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对发现问题，提出维护措施，做好修理前的各种准备，以提高设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修理工作的质量，缩短修理时间。     日常检查    定期检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  <a:ea typeface="隶书"/>
              </a:rPr>
              <a:t>2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  <a:ea typeface="隶书"/>
              </a:rPr>
              <a:t>、设备修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设备修理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是对设备的磨损或损坏所进行的补偿或修复。其实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是补偿设备的物质磨损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设备修理的类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①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小修：对设备进行的局部修理。拆卸部分零部件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②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中修：对设备部分解体，工作量较大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③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大修：全面的修理，对设备全部拆卸分解，彻底修理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68580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第十章   设备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第十章   设备管理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设备的修理定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1800" spc="-1" strike="noStrike">
                <a:solidFill>
                  <a:srgbClr val="cc0099"/>
                </a:solidFill>
                <a:latin typeface="隶书"/>
                <a:ea typeface="隶书"/>
              </a:rPr>
              <a:t>①</a:t>
            </a:r>
            <a:r>
              <a:rPr b="0" lang="zh-CN" sz="1800" spc="-1" strike="noStrike">
                <a:solidFill>
                  <a:srgbClr val="cc0099"/>
                </a:solidFill>
                <a:latin typeface="隶书"/>
                <a:ea typeface="隶书"/>
              </a:rPr>
              <a:t>修理复杂系数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 是表示设备修理复杂程度的基本单位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机械修理复杂系数（</a:t>
            </a:r>
            <a:r>
              <a:rPr b="0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C620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车床）、电气修理复杂系数（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0.6</a:t>
            </a:r>
            <a:r>
              <a:rPr b="0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kw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防护式异步鼠笼电动机）、专用设备修理复杂系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1800" spc="-1" strike="noStrike">
                <a:solidFill>
                  <a:srgbClr val="cc0099"/>
                </a:solidFill>
                <a:latin typeface="隶书"/>
                <a:ea typeface="隶书"/>
              </a:rPr>
              <a:t>②</a:t>
            </a:r>
            <a:r>
              <a:rPr b="0" lang="zh-CN" sz="1800" spc="-1" strike="noStrike">
                <a:solidFill>
                  <a:srgbClr val="cc0099"/>
                </a:solidFill>
                <a:latin typeface="隶书"/>
                <a:ea typeface="隶书"/>
              </a:rPr>
              <a:t>修理劳动量定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是指企业为完成机器设备的各种修理工作所需要的劳动量标准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1800" spc="-1" strike="noStrike">
                <a:solidFill>
                  <a:srgbClr val="cc0099"/>
                </a:solidFill>
                <a:latin typeface="隶书"/>
                <a:ea typeface="隶书"/>
              </a:rPr>
              <a:t>③</a:t>
            </a:r>
            <a:r>
              <a:rPr b="0" lang="zh-CN" sz="1800" spc="-1" strike="noStrike">
                <a:solidFill>
                  <a:srgbClr val="cc0099"/>
                </a:solidFill>
                <a:latin typeface="隶书"/>
                <a:ea typeface="隶书"/>
              </a:rPr>
              <a:t>设备修理停歇时间定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是指设备交付修理开始至修理完工验收为止所经过的时间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1800" spc="-1" strike="noStrike">
                <a:solidFill>
                  <a:srgbClr val="cc0099"/>
                </a:solidFill>
                <a:latin typeface="隶书"/>
                <a:ea typeface="隶书"/>
              </a:rPr>
              <a:t>④</a:t>
            </a:r>
            <a:r>
              <a:rPr b="0" lang="zh-CN" sz="1800" spc="-1" strike="noStrike">
                <a:solidFill>
                  <a:srgbClr val="cc0099"/>
                </a:solidFill>
                <a:latin typeface="隶书"/>
                <a:ea typeface="隶书"/>
              </a:rPr>
              <a:t>修理周期 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是指新设备由开始使用至第一次大修的间隔时间；或指相邻两次大修的间隔时间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99"/>
                </a:solidFill>
                <a:latin typeface="隶书"/>
                <a:ea typeface="隶书"/>
              </a:rPr>
              <a:t>  ⑤</a:t>
            </a:r>
            <a:r>
              <a:rPr b="0" lang="zh-CN" sz="1800" spc="-1" strike="noStrike">
                <a:solidFill>
                  <a:srgbClr val="cc0099"/>
                </a:solidFill>
                <a:latin typeface="隶书"/>
                <a:ea typeface="隶书"/>
              </a:rPr>
              <a:t>修理周期结构 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是指在一个修理周期内所安排的各种检修的次数和次序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1800" spc="-1" strike="noStrike">
                <a:solidFill>
                  <a:srgbClr val="cc0099"/>
                </a:solidFill>
                <a:latin typeface="隶书"/>
                <a:ea typeface="隶书"/>
              </a:rPr>
              <a:t>⑥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1800" spc="-1" strike="noStrike">
                <a:solidFill>
                  <a:srgbClr val="cc0099"/>
                </a:solidFill>
                <a:latin typeface="隶书"/>
                <a:ea typeface="隶书"/>
              </a:rPr>
              <a:t>修理间隔期 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是指相邻两次检修的间隔时间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010880" y="1753920"/>
            <a:ext cx="7620120" cy="47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、设备维修制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）计划预修制：按照预防为主的原则，根据设备磨损理论，有计划地对设备进行日常维护保养、检查、校正和修理，以保证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备正常运行。主要内容：日常维护、定期检查、计划修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）计划保修制：有计划地对设备进行三级保养和修理。有：三级保养加大修；三级保养、小修加大修；三级保养、小修、中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加大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68580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第十章   设备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）全面生产维修制度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隶书"/>
              </a:rPr>
              <a:t>Total productive maintenance,TP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全员参加的、以设备综合效率为目标的、以设备一生为对象的生产维修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隶书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隶书"/>
              </a:rPr>
              <a:t>[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基本思想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   </a:t>
            </a:r>
            <a:r>
              <a:rPr b="0" lang="zh-CN" sz="2800" spc="-1" strike="noStrike">
                <a:solidFill>
                  <a:srgbClr val="cc0099"/>
                </a:solidFill>
                <a:latin typeface="Tahoma"/>
                <a:ea typeface="隶书"/>
              </a:rPr>
              <a:t>全效益、全系统、全员参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一、设备及设备管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一）设备：企业中长期使用，在使用过程中，基本保持其实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状态，价值在一定限额以上的劳动资料和其它物质资料的总称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二）设备管理：依据企业的生产经营目标，通过一系列的技术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经济和组织的措施，对设备寿命周期内的所有设备</a:t>
            </a:r>
            <a:r>
              <a:rPr b="0" lang="zh-CN" sz="2000" spc="-1" strike="noStrike">
                <a:solidFill>
                  <a:srgbClr val="ff3300"/>
                </a:solidFill>
                <a:latin typeface="Tahoma"/>
                <a:ea typeface="隶书"/>
              </a:rPr>
              <a:t>物质运动状态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ahoma"/>
                <a:ea typeface="隶书"/>
              </a:rPr>
              <a:t>价值运动状态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进行的综合管理工作。设备管理水平的高低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直接影响企业活动的均衡性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直接关系到企业产品的产量和质量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直接影响着产品制造成本的高低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关系到安全生产和环境保护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影响着企业生产资金的合理使用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68580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第十章   设备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四、设备的更新与改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  <a:ea typeface="隶书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  <a:ea typeface="隶书"/>
              </a:rPr>
              <a:t>（一）设备寿命与设备更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设备寿命：指设备可运行的年限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物理寿命：无法运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技术寿命：无形磨损导致丧失使用价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经济寿命：年平均费用最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折旧寿命：提完折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设备更新：用新型设备更换原有的技术落后或经济上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合理的旧设备。有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原型更新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和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技术更新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两种方式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68580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第十章   设备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  <a:ea typeface="隶书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  <a:ea typeface="隶书"/>
              </a:rPr>
              <a:t>（二）设备的技术改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概念：设备的现代化改装，广义的设备更新方式。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针对设备的无形磨损而采取的局部补偿的设备更新方式。贯穿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于设备使用的整个过程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内容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大型设备进行现代化改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将普通设备改造成专用设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对设备的重点部件进行改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特点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相关性强             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针对性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适应性广             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经济性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68580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第十章   设备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ahoma"/>
                <a:ea typeface="隶书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  <a:ea typeface="隶书"/>
              </a:rPr>
              <a:t>（三）设备管理的主要内容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、依据企业经营目标及生产需要制定设备规划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、选择、购置、安装、调试、验收所需设备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、合理使用和维修保养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、适时改造、调拨和更新报废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、合理的经济管理：合理筹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使用资金、计提折旧、费用核算等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、制度管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932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第十章   设备管理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  <a:ea typeface="隶书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  <a:ea typeface="隶书"/>
              </a:rPr>
              <a:t>（四）设备维修发展概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事后维修：设备发生故障后再进行维修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预防维修：以预防为主，加强日常和定期检查和维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保养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生产维修：根据设备重要性选择不同的维修方法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维修预防：在设备的设计和制造阶段就考虑维修问题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提高设备的可靠性和易修性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设备综合管理：在设备维修预防的基础上，从行为科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学、系统理论的观点出发，对设备进行全面管理的一种重要方式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68580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第十章   设备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二、设备的选购、安装与调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  <a:ea typeface="隶书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  <a:ea typeface="隶书"/>
              </a:rPr>
              <a:t>（一）设备的选择与评价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选择原则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总的原则：技术上先进、经济上合理，生产上可行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具体来讲，需考虑以下因素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生产效率：应与企业的长短期生产任务相适应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配套性：性能、能力方面的配套性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可靠性：精度保持性、零件耐用性、操作安全性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适应性：与原有设备及所产产品相适应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节能性：能源利用的性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维修性：可维修、易维修、售后服务好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环保性：噪音、有害物质排放符合标准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68580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第十章   设备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520" y="1734840"/>
            <a:ext cx="8458200" cy="48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经济评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1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）投资回收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（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2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  <a:ea typeface="隶书"/>
              </a:rPr>
              <a:t>）设备的最小年平均寿命周期费用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式中：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隶书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设备的年平均寿命周期费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I —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设备购置费用（基本投资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隶书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设备在第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年的使用费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隶书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设备的经济寿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68580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第十章   设备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258920" y="2376360"/>
            <a:ext cx="7481880" cy="738720"/>
            <a:chOff x="1258920" y="2376360"/>
            <a:chExt cx="7481880" cy="738720"/>
          </a:xfrm>
        </p:grpSpPr>
        <p:sp>
          <p:nvSpPr>
            <p:cNvPr id="112" name=""/>
            <p:cNvSpPr/>
            <p:nvPr/>
          </p:nvSpPr>
          <p:spPr>
            <a:xfrm>
              <a:off x="1258920" y="2565360"/>
              <a:ext cx="2438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设备投资回收期（年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73520" y="2565360"/>
              <a:ext cx="228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41960" y="2376360"/>
              <a:ext cx="198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设备投资费（元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40200" y="2809800"/>
              <a:ext cx="4800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采用新设备后取得的年费用节约额（元</a:t>
              </a: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/</a:t>
              </a: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年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30720" y="271764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614760" y="4343400"/>
            <a:ext cx="380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隶书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27320" y="436248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4038480"/>
            <a:ext cx="990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I+ 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隶书"/>
              </a:rPr>
              <a:t>∑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隶书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  <a:ea typeface="隶书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05240" y="4495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14880" y="3811680"/>
            <a:ext cx="30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隶书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  <a:ea typeface="隶书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4267080"/>
            <a:ext cx="457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隶书"/>
              </a:rPr>
              <a:t>i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4648320"/>
            <a:ext cx="3808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隶书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  <a:ea typeface="隶书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01360" y="1900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第十章   设备管理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9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99"/>
                </a:solidFill>
                <a:latin typeface="隶书"/>
                <a:ea typeface="隶书"/>
              </a:rPr>
              <a:t>（</a:t>
            </a:r>
            <a:r>
              <a:rPr b="0" lang="zh-CN" sz="2000" spc="-1" strike="noStrike">
                <a:solidFill>
                  <a:srgbClr val="cc0099"/>
                </a:solidFill>
                <a:latin typeface="隶书"/>
                <a:ea typeface="隶书"/>
              </a:rPr>
              <a:t>3</a:t>
            </a:r>
            <a:r>
              <a:rPr b="0" lang="zh-CN" sz="2000" spc="-1" strike="noStrike">
                <a:solidFill>
                  <a:srgbClr val="cc0099"/>
                </a:solidFill>
                <a:latin typeface="隶书"/>
                <a:ea typeface="隶书"/>
              </a:rPr>
              <a:t>）设备最大综合效益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99"/>
                </a:solidFill>
                <a:latin typeface="隶书"/>
                <a:ea typeface="隶书"/>
              </a:rPr>
              <a:t>（</a:t>
            </a:r>
            <a:r>
              <a:rPr b="0" lang="zh-CN" sz="2000" spc="-1" strike="noStrike">
                <a:solidFill>
                  <a:srgbClr val="cc0099"/>
                </a:solidFill>
                <a:latin typeface="隶书"/>
                <a:ea typeface="隶书"/>
              </a:rPr>
              <a:t>4</a:t>
            </a:r>
            <a:r>
              <a:rPr b="0" lang="zh-CN" sz="2000" spc="-1" strike="noStrike">
                <a:solidFill>
                  <a:srgbClr val="cc0099"/>
                </a:solidFill>
                <a:latin typeface="隶书"/>
                <a:ea typeface="隶书"/>
              </a:rPr>
              <a:t>）费用效益法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99"/>
                </a:solidFill>
                <a:latin typeface="隶书"/>
                <a:ea typeface="隶书"/>
              </a:rPr>
              <a:t>（</a:t>
            </a:r>
            <a:r>
              <a:rPr b="0" lang="zh-CN" sz="2000" spc="-1" strike="noStrike">
                <a:solidFill>
                  <a:srgbClr val="cc0099"/>
                </a:solidFill>
                <a:latin typeface="隶书"/>
                <a:ea typeface="隶书"/>
              </a:rPr>
              <a:t>5</a:t>
            </a:r>
            <a:r>
              <a:rPr b="0" lang="zh-CN" sz="2000" spc="-1" strike="noStrike">
                <a:solidFill>
                  <a:srgbClr val="cc0099"/>
                </a:solidFill>
                <a:latin typeface="隶书"/>
                <a:ea typeface="隶书"/>
              </a:rPr>
              <a:t>）年费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式中：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x—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使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年的年平均费用（元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隶书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某年维持费（元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隶书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设备原值（元）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隶书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—t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年的设备残值（元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隶书"/>
              </a:rPr>
              <a:t>t —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某一年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940200" y="2809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271520" y="2019240"/>
            <a:ext cx="5708520" cy="768960"/>
            <a:chOff x="1271520" y="2019240"/>
            <a:chExt cx="5708520" cy="768960"/>
          </a:xfrm>
        </p:grpSpPr>
        <p:sp>
          <p:nvSpPr>
            <p:cNvPr id="128" name=""/>
            <p:cNvSpPr/>
            <p:nvPr/>
          </p:nvSpPr>
          <p:spPr>
            <a:xfrm>
              <a:off x="1271520" y="2228760"/>
              <a:ext cx="2438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设备的综合经济效益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86120" y="2228760"/>
              <a:ext cx="228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0200" y="2019240"/>
              <a:ext cx="237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设备寿命周期输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43320" y="2381040"/>
              <a:ext cx="27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84600" y="2482920"/>
              <a:ext cx="237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设备寿命周期费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397160" y="3125880"/>
            <a:ext cx="5106960" cy="832320"/>
            <a:chOff x="1397160" y="3125880"/>
            <a:chExt cx="5106960" cy="832320"/>
          </a:xfrm>
        </p:grpSpPr>
        <p:sp>
          <p:nvSpPr>
            <p:cNvPr id="134" name=""/>
            <p:cNvSpPr/>
            <p:nvPr/>
          </p:nvSpPr>
          <p:spPr>
            <a:xfrm>
              <a:off x="1397160" y="3357360"/>
              <a:ext cx="190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设备的费用效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10200" y="3398760"/>
              <a:ext cx="228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13400" y="3125880"/>
              <a:ext cx="1121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系统效益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67400" y="3551040"/>
              <a:ext cx="27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08680" y="3652920"/>
              <a:ext cx="237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设备寿命周期费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224080" y="4243320"/>
            <a:ext cx="2437920" cy="1010160"/>
            <a:chOff x="2224080" y="4243320"/>
            <a:chExt cx="2437920" cy="1010160"/>
          </a:xfrm>
        </p:grpSpPr>
        <p:sp>
          <p:nvSpPr>
            <p:cNvPr id="140" name=""/>
            <p:cNvSpPr/>
            <p:nvPr/>
          </p:nvSpPr>
          <p:spPr>
            <a:xfrm>
              <a:off x="3062160" y="4491000"/>
              <a:ext cx="14472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∑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  <a:ea typeface="隶书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+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（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  <a:ea typeface="隶书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－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  <a:ea typeface="隶书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24080" y="4719600"/>
              <a:ext cx="304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26960" y="47419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68200" y="4662720"/>
              <a:ext cx="456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i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44520" y="4243320"/>
              <a:ext cx="22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80920" y="487224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19360" y="4948200"/>
              <a:ext cx="22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71400" y="4694400"/>
              <a:ext cx="22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19400" y="5219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第十章   设备管理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隶书"/>
                <a:ea typeface="隶书"/>
              </a:rPr>
              <a:t>（</a:t>
            </a:r>
            <a:r>
              <a:rPr b="0" lang="zh-CN" sz="2400" spc="-1" strike="noStrike">
                <a:solidFill>
                  <a:srgbClr val="cc0099"/>
                </a:solidFill>
                <a:latin typeface="隶书"/>
                <a:ea typeface="隶书"/>
              </a:rPr>
              <a:t>6</a:t>
            </a:r>
            <a:r>
              <a:rPr b="0" lang="zh-CN" sz="2400" spc="-1" strike="noStrike">
                <a:solidFill>
                  <a:srgbClr val="cc0099"/>
                </a:solidFill>
                <a:latin typeface="隶书"/>
                <a:ea typeface="隶书"/>
              </a:rPr>
              <a:t>）现值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ahoma"/>
                <a:ea typeface="隶书"/>
              </a:rPr>
              <a:t>（二）设备的安装、调试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安装：在基础上，找平、灌浆、稳固，使设备精度达到安装规范的要求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调试：清洗、检查、调整、试运转、验收、移交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应由设备的使用部门、管理部门、工艺技术部门协同调试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680" y="18288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三、设备的合理使用和维护保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  <a:ea typeface="隶书"/>
              </a:rPr>
              <a:t>（一）设备的合理使用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设备的使用是设备寿命周期中所占时间最长的环节。合理的使用设备可以减少设备的磨损，提高设备利用率，发挥设备效益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合理的使用设备应注意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提高设备利用率，实现设备满负荷运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严格操作程序，保证设备精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为设备创造良好的工作环境和条件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合理配备操作工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建立健全设备使用工作制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68580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第十章   设备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设备 管理</cp:keywords>
  <dc:language>en-US</dc:language>
  <cp:lastModifiedBy/>
  <cp:revision>0</cp:revision>
  <dc:subject/>
  <dc:title/>
</cp:coreProperties>
</file>