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578-028B-4531-825C-65E04562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F79-CF94-4A0D-A005-958810EB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CEE-7824-4CE7-83AE-631B7DAA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66B-D013-4382-B201-E96C492E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1814-58FF-4612-A3EE-6159AA8D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310C-329C-4C02-B816-15C0B81D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4B16-D223-41D0-8AB8-8A09A91D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7BBD-FC10-4F90-B16B-7B600A1A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5BE4-1127-4257-956A-B5BC5093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3805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2B9B-96ED-49FD-8405-12EF0954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8E54-B0B2-4CD6-826D-35198054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AFD-DF45-4A24-89B5-FD221896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302B-99BF-4B7A-9111-F1C9300C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BABF-2B64-4C4C-92F1-C946D5DA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520A-D9C0-4A64-9059-F3EDC808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BBC3-1363-4AEE-9028-A106DA44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04A4-2471-494D-B05E-3D6A791A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893-F1AC-4F9B-A765-F07BCBFF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AB4-40BC-4C2B-96DD-E282C035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779-58C1-4D4A-A9FC-C8B5AB8D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3805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642-E0FE-451C-84A8-499EBBCD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3F9-BB1D-4026-9504-ACC67CAF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ACD-3B46-4874-9E08-60ED0030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858-DB75-41D8-B536-7AD74235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0823-6770-4520-A21E-3024B2EA1C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73D3-DA89-4AD3-B378-AACE382DD3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Times New Roman"/>
                <a:ea typeface="標楷體"/>
              </a:rPr>
              <a:t>市場調查與業務行銷之簡介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D976-148B-44EF-98BB-DD4F301B0DB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6412C46-BF72-4920-99B4-EE0A84F80B21}" type="datetime1">
              <a:rPr lang="en-US"/>
              <a:t>07/29/26</a:t>
            </a:fld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建立人脈的目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尋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zh-CN" sz="8000" spc="-1" strike="noStrike">
                <a:solidFill>
                  <a:srgbClr val="000000"/>
                </a:solidFill>
                <a:latin typeface="Tahoma"/>
              </a:rPr>
              <a:t>貴　　人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3E0C-459F-4A04-AE75-E149C767186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6AD9D-18DD-4379-8CB3-FAF232BF1AE1}" type="datetime1">
              <a:rPr lang="en-US"/>
              <a:t>07/29/26</a:t>
            </a:fld>
          </a:p>
        </p:txBody>
      </p:sp>
    </p:spTree>
  </p:cSld>
  <p:transition>
    <p:pull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標楷體"/>
                <a:ea typeface="標楷體"/>
              </a:rPr>
              <a:t>拓展人脈的兩大法寶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培養自信與溝通能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習適時讚美他人的能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C59-FF8E-46AE-8FE4-8271B73DED4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67583-9686-4DEA-9CB6-69A472ACF3E6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91548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( XX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壽總裁營業處處經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市場研究顧問公司研究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市調主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傳播公司祕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貿易公司祕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大學統計系助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2B0-C981-4126-89AF-9F76D5CC835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70D20-A838-43C7-9624-3FEED880BB92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91548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活用『市場調查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就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轉換職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行創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投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新市場的開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婚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DD1-C849-4C55-A8D1-532BC82692F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BDBAA-2770-41DC-AE4B-5B8C00786761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572760"/>
            <a:ext cx="77929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  <a:ea typeface="標楷體"/>
              </a:rPr>
              <a:t>Market Rearch VS Marketing R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rket R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–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析市場的實情況，如商品的銷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額及進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rketing Rearch –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市場採取行銷的方法，及採行之後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結果之衡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A25-7CC1-4092-B6CB-392399EA59B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EAB2E-1C27-4E3E-8515-BD0553C1B40D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Times New Roman"/>
                <a:ea typeface="標楷體"/>
              </a:rPr>
              <a:t>何謂成功 </a:t>
            </a:r>
            <a:r>
              <a:rPr b="0" lang="en-US" sz="6600" spc="-1" strike="noStrike">
                <a:solidFill>
                  <a:srgbClr val="333399"/>
                </a:solidFill>
                <a:latin typeface="Times New Roman"/>
                <a:ea typeface="標楷體"/>
              </a:rPr>
              <a:t>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成功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達成夢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成功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健康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+</a:t>
            </a: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家庭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+</a:t>
            </a: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財富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+</a:t>
            </a: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聲望＋知識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成功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扮演好自己的角色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01D-8F38-4E3F-893C-4CE96BDF85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6FF9D-73CE-4958-926A-75478DB92A34}" type="datetime1">
              <a:rPr lang="en-US"/>
              <a:t>07/29/26</a:t>
            </a:fld>
          </a:p>
        </p:txBody>
      </p:sp>
    </p:spTree>
  </p:cSld>
  <p:transition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工作職場的成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66"/>
                </a:solidFill>
                <a:latin typeface="標楷體"/>
                <a:ea typeface="標楷體"/>
              </a:rPr>
              <a:t>成功 </a:t>
            </a:r>
            <a:r>
              <a:rPr b="0" lang="en-US" sz="4000" spc="-1" strike="noStrike">
                <a:solidFill>
                  <a:srgbClr val="993366"/>
                </a:solidFill>
                <a:latin typeface="標楷體"/>
                <a:ea typeface="標楷體"/>
              </a:rPr>
              <a:t>= </a:t>
            </a:r>
            <a:r>
              <a:rPr b="0" lang="zh-CN" sz="4000" spc="-1" strike="noStrike">
                <a:solidFill>
                  <a:srgbClr val="993366"/>
                </a:solidFill>
                <a:latin typeface="標楷體"/>
                <a:ea typeface="標楷體"/>
              </a:rPr>
              <a:t>會做人 </a:t>
            </a:r>
            <a:r>
              <a:rPr b="0" lang="en-US" sz="4000" spc="-1" strike="noStrike">
                <a:solidFill>
                  <a:srgbClr val="993366"/>
                </a:solidFill>
                <a:latin typeface="標楷體"/>
                <a:ea typeface="標楷體"/>
              </a:rPr>
              <a:t>+ </a:t>
            </a:r>
            <a:r>
              <a:rPr b="0" lang="zh-CN" sz="4000" spc="-1" strike="noStrike">
                <a:solidFill>
                  <a:srgbClr val="993366"/>
                </a:solidFill>
                <a:latin typeface="標楷體"/>
                <a:ea typeface="標楷體"/>
              </a:rPr>
              <a:t>會做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標楷體"/>
                <a:ea typeface="標楷體"/>
              </a:rPr>
              <a:t>  </a:t>
            </a:r>
            <a:r>
              <a:rPr b="0" lang="zh-CN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文天祥 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標楷體"/>
              </a:rPr>
              <a:t>VS.</a:t>
            </a:r>
            <a:r>
              <a:rPr b="0" lang="en-US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 </a:t>
            </a:r>
            <a:r>
              <a:rPr b="0" lang="zh-CN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岳飛 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標楷體"/>
              </a:rPr>
              <a:t>VS </a:t>
            </a:r>
            <a:r>
              <a:rPr b="0" lang="zh-CN" sz="3200" spc="-1" strike="noStrike">
                <a:solidFill>
                  <a:srgbClr val="1c1c1c"/>
                </a:solidFill>
                <a:latin typeface="標楷體"/>
                <a:ea typeface="標楷體"/>
              </a:rPr>
              <a:t>郭子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295-9EE4-4A4B-B510-A931118D0C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58A67-8DEC-4FFF-8019-84F5B7775739}" type="datetime1">
              <a:rPr lang="en-US"/>
              <a:t>07/29/26</a:t>
            </a:fld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Times New Roman"/>
                <a:ea typeface="標楷體"/>
              </a:rPr>
              <a:t>如何成功 </a:t>
            </a:r>
            <a:r>
              <a:rPr b="0" lang="en-US" sz="6600" spc="-1" strike="noStrike">
                <a:solidFill>
                  <a:srgbClr val="333399"/>
                </a:solidFill>
                <a:latin typeface="Times New Roman"/>
                <a:ea typeface="標楷體"/>
              </a:rPr>
              <a:t>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D417-0E09-4D4A-AF2D-47E2B7FFB55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351A05E-28F1-426A-8944-87BBD3200AD4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《胡雪巖》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: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「花花轎兒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,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人抬人」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《曾禹旖》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: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「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20-30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歲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,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靠專業、體力賺錢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30-40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歲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,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靠朋友、關係賺錢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40-50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歲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,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靠 錢 賺 錢」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《黑幼龍》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:</a:t>
            </a:r>
            <a:r>
              <a:rPr b="0" lang="zh-CN" sz="26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「人脈</a:t>
            </a:r>
            <a:r>
              <a:rPr b="0" lang="en-US" sz="2600" spc="-1" strike="noStrike">
                <a:solidFill>
                  <a:srgbClr val="333399"/>
                </a:solidFill>
                <a:latin typeface="Times New Roman"/>
                <a:ea typeface="標楷體"/>
              </a:rPr>
              <a:t>, </a:t>
            </a:r>
            <a:r>
              <a:rPr b="0" lang="zh-CN" sz="2600" spc="-1" strike="noStrike">
                <a:solidFill>
                  <a:srgbClr val="333399"/>
                </a:solidFill>
                <a:latin typeface="Times New Roman"/>
                <a:ea typeface="標楷體"/>
              </a:rPr>
              <a:t>是一個人通往財富、成功的門票」</a:t>
            </a:r>
            <a:br>
              <a:rPr sz="2400"/>
            </a:b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《好來塢》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: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「一個人能否成功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,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不在於你知道什麼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標楷體"/>
              </a:rPr>
              <a:t>                        ，而是在於你認識誰」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DA7-5C7E-4A20-8FA4-226BDC317C3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BB765-24F3-4B27-839D-48350E719F0B}" type="datetime1">
              <a:rPr lang="en-US"/>
              <a:t>07/29/26</a:t>
            </a:fld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「人脈競爭力」自我評量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專業上，大家對你的評價是肯定的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是否在任何陌生場合都可以感到自在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參加各種聚會時，你是否樂於與陌生人攀談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是否會把握每個可以認識新朋友的機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並善加利用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與他人談話時，你聆聴時間比說話的長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常常適切的讚美周遭的人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422-F185-48F2-81D1-90A325A6CEC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6CE9D-E8A8-43F3-86BF-AC13FE39B470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「人脈競爭力」自我評量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別人眼中，你是一個說到做到的人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能否對待所有人都一視同仁，不以貌取人，不以人廢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願意付出自己的的時間，去幫助別人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願意投入更多時間去幫助別人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對周遭人、事、物有源源不絕的好奇心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能否常常設身處地為他人著想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447-BCCA-4D16-AC12-DFD9D1613EF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00CA8-409B-4E57-8EF4-EEB409AF766F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「人脈競爭力」自我評量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3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願意與別人分享資訊、機會或財富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4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除了目前的工作以外， 你是否參加其他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團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5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下班以後，你是否願意花時間與心思在社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活動上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6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能否做到真心不虛偽的關心他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F2D-A551-4D22-92D6-32FF14FB44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AAFE3-579A-4DBA-B4B0-112747CAD8B0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標楷體"/>
              </a:rPr>
              <a:t>「人脈競爭力」自我評量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7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於往來的人士，你能夠記住別人的名字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並妥善管理名片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8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可以想出認新朋友的創意點子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9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與人互動時，時常細心考量到對方感受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需要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是否細心觀察他人的需要，並給予適當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鼓勵與肯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D786-4153-4C79-8D3C-AC3262AA41B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A2450-0DFD-4827-AF13-D22EC7C499DB}" type="datetime1">
              <a:rPr lang="en-US"/>
              <a:t>07/29/26</a:t>
            </a:fld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调查 业务营销</cp:keywords>
  <dc:language>en-US</dc:language>
  <cp:lastModifiedBy/>
  <cp:revision>0</cp:revision>
  <dc:subject/>
  <dc:title/>
</cp:coreProperties>
</file>