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5A9-FDB1-47E2-8F3D-7481F364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85A-03B8-46ED-82ED-2CCE9E49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0FE-BF17-4E79-893A-BF8DF52B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059-08D8-4DB9-9F8B-C06D68DF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9EC-CC02-4FFC-978C-0911BF67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E58C-7EF3-4850-A795-7BE7B973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191-8913-4A10-AE44-C682B92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37F6-83A7-4BC3-B9CD-B83BE46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B2B-8C9D-42C1-9EB9-7C48E63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D53C-B9B6-405C-8CE9-DD4183D7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469-8B78-4B5E-A655-87FB439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CB6-9A1E-4CAE-9CD0-B44194E6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24BB-25A1-49A3-9C31-CE0C070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4F16-C720-461B-8C04-D9BE80A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4FBA-AF2D-4A7E-A076-97E5BCE2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9F4-2D11-42F3-8037-FEB23D0A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B36-2D75-4808-A103-11013E44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FD2-457E-446E-A904-C88487A7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BA1-C19A-44B3-908E-DB2A0F34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368-9B1B-48CD-AED2-CA2862F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0DC-F135-43FD-B5EC-9F309B5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06A-CA1D-48FE-8751-98D640E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0A9-52AC-41A9-BFD0-063F113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595-EED6-4925-91E7-F0571F1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B3-3671-45A4-A713-DC3426B4F386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619D-E4EA-4D49-9A2C-14693364E23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目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基本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主要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、变革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总体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五、建设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一、基本状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、市场形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批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集贸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经销门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连锁超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期货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电子商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、营销主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个体运销商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经纪人队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营销合作组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农业产业化经营组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呈现“小规模、大群体”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、政府宏观调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实物储备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风险基金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进出口调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、政府公共营销服务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建立信息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资助博览展销和公益宣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鼓励协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推动农业产业化经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二、主要问题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批发市场定位不清，缺乏统一规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设施落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分级分类标准化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交易方式、结算方式比较原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市场主体组织化程度低，经营不稳定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三、变革原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国农业生产力发展水平、生产组织方式变革和居民消费水平变化相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坚持尊重客观规律，循序渐进，重点推进的原则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4408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四、总体目标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在政府的宏观调控与支持下，逐步建立健全起比较完善的以配送连锁、电子交易、期货交易等现代市场流通业态为先导，以批发市场为中心，以集贸市场、零售经营门店和超市为基础，统一、开放、竞争、有序的农产品市场营销体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581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五、建设重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建立市场法规制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改造大型批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完善信息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培育市场主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推进现代营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政府资助营销活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经济</cp:keywords>
  <dc:language>en-US</dc:language>
  <cp:lastModifiedBy/>
  <cp:revision>0</cp:revision>
  <dc:subject/>
  <dc:title/>
</cp:coreProperties>
</file>